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C04A-8BCF-4DF5-8F5C-F0D265BE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7088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6BB-E324-4896-9CFF-DA8268D8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304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D63-9941-4244-997D-373CA6A5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316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316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E146-1D59-4ED8-8A3C-22732044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CEC-766B-495F-A618-F187EDE2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07B-8379-41C7-9B90-59FA7ED7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79E-B2F1-48D0-B957-A3971264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7E01-4185-4D5A-8B92-54ED4C55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7596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8305-A77C-4BC6-88D8-C303235B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AA6-6B2C-40BD-B7D2-16DB6793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304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0C8-2676-40A1-9945-07CE0550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DE40-F26D-4C13-8F07-6C231457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9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b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b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b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171b4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71b41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520" y="624816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0060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171b4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599A-08C8-4127-A1FF-74EC8F72A0CE}" type="slidenum">
              <a:rPr b="0" lang="en-US" sz="900" spc="-1" strike="noStrike">
                <a:solidFill>
                  <a:srgbClr val="171b41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1866600"/>
            <a:ext cx="4238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ahoma"/>
              </a:rPr>
              <a:t>Σεμινάριο Ανάλυσης Έργων Καθαρής Ενέργειας</a:t>
            </a:r>
            <a:endParaRPr b="1" lang="en-US" sz="1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685800"/>
            <a:ext cx="731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Arial Black"/>
              </a:rPr>
              <a:t>Περίληψη Εισαγωγικής Λειτουργικής Μονάδα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50880" y="1752480"/>
            <a:ext cx="7593120" cy="136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0" t="0" r="0" b="22503"/>
          <a:stretch/>
        </p:blipFill>
        <p:spPr>
          <a:xfrm>
            <a:off x="27000" y="2362320"/>
            <a:ext cx="563400" cy="1771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305920" y="6651720"/>
            <a:ext cx="712800" cy="185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25280" y="6651720"/>
            <a:ext cx="2465640" cy="193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1752480"/>
            <a:ext cx="9144000" cy="169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28600" y="609480"/>
            <a:ext cx="1523880" cy="1500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6200" y="5288040"/>
            <a:ext cx="212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ffffff"/>
                </a:solidFill>
                <a:latin typeface="Times New Roman"/>
              </a:rPr>
              <a:t>Αναφορά Φωτογραφίας</a:t>
            </a:r>
            <a:r>
              <a:rPr b="0" sz="900" spc="-1" strike="noStrike">
                <a:solidFill>
                  <a:srgbClr val="ffffff"/>
                </a:solidFill>
                <a:latin typeface="Tahoma"/>
              </a:rPr>
              <a:t> : Nordex Gmbh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736560" y="2340000"/>
            <a:ext cx="4191120" cy="2967120"/>
          </a:xfrm>
          <a:prstGeom prst="rect">
            <a:avLst/>
          </a:prstGeom>
          <a:ln w="12600">
            <a:solidFill>
              <a:srgbClr val="ffb9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105520" y="2324160"/>
            <a:ext cx="3886200" cy="3697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Συμπεράσματα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75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Οι τεχνολογίες καθαρής ενέργειας έχουν ωριμάσει, υφίστανται πολλές οικονομικά αποδοτικές εφαρμογές και οι αγορές αναπτύσσονται ραγδαία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75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Το αρχικό στάδιο σχεδιασμού είναι αυτό στο οποίο πρέπει να ληφθούν υπόψη οι τεχνολογίες καθαρής ενέργειας από τους υπεύθυνους σχεδιασμού, λήψης αποφάσεων και τη βιομηχανία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Το RETScreen</a:t>
            </a:r>
            <a:r>
              <a:rPr b="0" sz="1800" spc="-1" strike="noStrike" baseline="50000">
                <a:solidFill>
                  <a:srgbClr val="ffffff"/>
                </a:solidFill>
                <a:latin typeface="Tahoma"/>
                <a:ea typeface="Arial"/>
              </a:rPr>
              <a:t>®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 απλοποιεί τις προκαταρκτικές αξιολογήσει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ts val="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40000"/>
              </a:lnSpc>
              <a:spcBef>
                <a:spcPts val="876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Απαιτεί σχετικά λίγα δεδομένα εισαγωγή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Υπολογίζει αυτόματα τεχνικούς και οικονομικούς δείκτες-κλειδιά βιωσιμότητα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Κοστίζει 1/10 του ποσού άλλων μεθόδων αξιολόγησης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Τυποποιημένες διαδικασίες επιτρέπουν αντικειμενικές συγκρίσει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Αυξάνει τις δυνατότητες για επιτυχή εφαρμογή έργων καθαρής ενέργεια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858000" y="3505320"/>
            <a:ext cx="2209680" cy="130788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έκταση της βάσης χρηστών του  λογισμικού RETScre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03200" y="1846440"/>
            <a:ext cx="8639280" cy="424944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ργαλείο Υποστήριξης Αποφάσεων &amp; Ανάπτυξης Ικανοτήτ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rcRect l="0" t="1412" r="685" b="1412"/>
          <a:stretch/>
        </p:blipFill>
        <p:spPr>
          <a:xfrm>
            <a:off x="401760" y="1847880"/>
            <a:ext cx="8658000" cy="413712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Κοινή Πλατφόρμα για Αξιολόγηση &amp; Ανάπτυξη Έργ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340000" y="1515960"/>
            <a:ext cx="5297400" cy="529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657600" y="5486400"/>
            <a:ext cx="2590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ffffff"/>
                </a:solidFill>
                <a:latin typeface="Tahoma"/>
                <a:ea typeface="Tahoma"/>
              </a:rPr>
              <a:t>Σύμβουλοι   &amp;               Προμηθευτές Προϊόντων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2276640"/>
            <a:ext cx="1769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ffffff"/>
                </a:solidFill>
                <a:latin typeface="Tahoma"/>
                <a:ea typeface="Tahoma"/>
              </a:rPr>
              <a:t>Χρηματοδότες &amp; Δανειστές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3581280"/>
            <a:ext cx="129528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ffffff"/>
                </a:solidFill>
                <a:latin typeface="Tahoma"/>
                <a:ea typeface="Tahoma"/>
              </a:rPr>
              <a:t>Ρυθμιστικές Αρχές &amp; Σχεδιαστές πολιτικής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784680"/>
            <a:ext cx="1447560" cy="7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ffffff"/>
                </a:solidFill>
                <a:latin typeface="Tahoma"/>
                <a:ea typeface="Tahoma"/>
              </a:rPr>
              <a:t>Σχεδιαστές  Κατασκευαστές, &amp; Ιδιοκτήτες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02000" y="3822840"/>
            <a:ext cx="143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RETScr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ρωτήσεις ;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60958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sz="2800" spc="-1" strike="noStrike">
                <a:solidFill>
                  <a:srgbClr val="ffffff"/>
                </a:solidFill>
                <a:latin typeface="Tahoma"/>
              </a:rPr>
              <a:t>www.retscreen.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rcRect l="0" t="0" r="0" b="11810"/>
          <a:stretch/>
        </p:blipFill>
        <p:spPr>
          <a:xfrm>
            <a:off x="1187280" y="1700280"/>
            <a:ext cx="6751800" cy="430056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4:38:34Z</dcterms:created>
  <dc:creator>RETScreen International</dc:creator>
  <dc:description/>
  <dc:language>en-US</dc:language>
  <cp:lastModifiedBy>Kevin Bourque</cp:lastModifiedBy>
  <cp:lastPrinted>2002-05-08T22:09:59Z</cp:lastPrinted>
  <dcterms:modified xsi:type="dcterms:W3CDTF">2005-05-27T14:37:14Z</dcterms:modified>
  <cp:revision>213</cp:revision>
  <dc:subject/>
  <dc:title>Summary of Module 1</dc:title>
</cp:coreProperties>
</file>