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18.wmf" ContentType="image/x-wmf"/>
  <Override PartName="/ppt/media/image36.jpeg" ContentType="image/jpe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41.jpeg" ContentType="image/jpeg"/>
  <Override PartName="/ppt/media/image39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30.png" ContentType="image/png"/>
  <Override PartName="/ppt/media/image5.png" ContentType="image/png"/>
  <Override PartName="/ppt/media/image7.png" ContentType="image/png"/>
  <Override PartName="/ppt/media/image42.wmf" ContentType="image/x-wmf"/>
  <Override PartName="/ppt/media/image22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35.wmf" ContentType="image/x-wmf"/>
  <Override PartName="/ppt/media/image40.jpeg" ContentType="image/jpeg"/>
  <Override PartName="/ppt/media/image28.png" ContentType="image/png"/>
  <Override PartName="/ppt/media/image38.jpeg" ContentType="image/jpeg"/>
  <Override PartName="/ppt/media/image43.wmf" ContentType="image/x-wmf"/>
  <Override PartName="/ppt/media/image44.wmf" ContentType="image/x-wmf"/>
  <Override PartName="/ppt/media/image45.png" ContentType="image/png"/>
  <Override PartName="/ppt/media/image10.png" ContentType="image/png"/>
  <Override PartName="/ppt/media/image27.jpeg" ContentType="image/jpeg"/>
  <Override PartName="/ppt/media/image19.jpeg" ContentType="image/jpeg"/>
  <Override PartName="/ppt/media/image6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272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81240" y="0"/>
            <a:ext cx="3044520" cy="46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fr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5480" y="698040"/>
            <a:ext cx="4654440" cy="34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900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6720" y="4424040"/>
            <a:ext cx="5153040" cy="4189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4556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fr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81240" y="8845560"/>
            <a:ext cx="3044520" cy="46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fr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4CD853B-4B73-47DA-BE68-83364FE2E003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981240" y="8845560"/>
            <a:ext cx="3044520" cy="46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7F73D93-90B5-4903-B43A-5F77AF4D3305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0" y="884556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0" y="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981240" y="0"/>
            <a:ext cx="3044520" cy="46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92320" y="69372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36720" y="4424040"/>
            <a:ext cx="5153040" cy="419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04B0-2314-48E0-B991-A3ABD954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4070880"/>
            <a:ext cx="861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0DEF-E0B0-417B-86D7-378F1C8A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304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407088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3040" y="407088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82FE-A154-4797-8BBA-6279D6D9B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523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3160" y="1523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4070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4070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3160" y="4070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F38D-C6BF-4929-818A-68FE98DC3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F55E-D44C-4876-BE5A-AE24F4BA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8520-698C-4045-9E5D-B7A9DA37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201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3040" y="1523520"/>
            <a:ext cx="4201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13CA-8CE5-4084-A48D-8F080D7B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CD99-97E6-437C-B981-933E7B4C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7596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FACA-6AD7-4A1C-9F4C-A3FA98F4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3040" y="1523520"/>
            <a:ext cx="4201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407088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55CC-532B-4F72-8A31-8832DFDF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201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304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3040" y="407088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EE1D-E053-45BA-9AF1-21E3A2BE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304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4070880"/>
            <a:ext cx="861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AD25-4F15-48E7-9335-0A6F4698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9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5235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b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b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b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662904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171b4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71b41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520" y="6248160"/>
            <a:ext cx="8610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80060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171b4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BBA1-4023-48D6-B28D-89B82380DA91}" type="slidenum">
              <a:rPr b="0" lang="en-US" sz="900" spc="-1" strike="noStrike">
                <a:solidFill>
                  <a:srgbClr val="171b41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10.png"/><Relationship Id="rId4" Type="http://schemas.openxmlformats.org/officeDocument/2006/relationships/image" Target="../media/image3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5.wmf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image" Target="../media/image8.png"/><Relationship Id="rId7" Type="http://schemas.openxmlformats.org/officeDocument/2006/relationships/image" Target="../media/image45.png"/><Relationship Id="rId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8000" y="1905120"/>
            <a:ext cx="42386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Tahoma"/>
              </a:rPr>
              <a:t>Σεμινάριο Ανάλυσης Έργων Καθαρής Ενέργειας</a:t>
            </a:r>
            <a:endParaRPr b="1" lang="en-US" sz="1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66024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b900"/>
                </a:solidFill>
                <a:latin typeface="Arial Black"/>
              </a:rPr>
              <a:t>Ανάλυση Έργων Καθαρής Ενέργειας με το λογισμικό RETScreen</a:t>
            </a:r>
            <a:r>
              <a:rPr b="1" sz="2800" spc="-1" strike="noStrike" baseline="36000">
                <a:solidFill>
                  <a:srgbClr val="ffb900"/>
                </a:solidFill>
                <a:latin typeface="Arial Black"/>
              </a:rPr>
              <a:t>®</a:t>
            </a:r>
            <a:r>
              <a:rPr b="1" sz="2800" spc="-1" strike="noStrike">
                <a:solidFill>
                  <a:srgbClr val="ffb9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550880" y="1752480"/>
            <a:ext cx="7593120" cy="136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rcRect l="0" t="0" r="0" b="22503"/>
          <a:stretch/>
        </p:blipFill>
        <p:spPr>
          <a:xfrm>
            <a:off x="27000" y="2362320"/>
            <a:ext cx="563400" cy="1771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6651720"/>
            <a:ext cx="712800" cy="185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125280" y="6651720"/>
            <a:ext cx="2465640" cy="193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0" y="1752480"/>
            <a:ext cx="9144000" cy="169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711120" y="647712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228600" y="6094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rcRect l="638" t="5300" r="638" b="31815"/>
          <a:stretch/>
        </p:blipFill>
        <p:spPr>
          <a:xfrm>
            <a:off x="762120" y="2666880"/>
            <a:ext cx="8280360" cy="316872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838080" y="2781360"/>
            <a:ext cx="2971800" cy="53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171b41"/>
                </a:solidFill>
                <a:latin typeface="Arial"/>
              </a:rPr>
              <a:t>Πέντε βήματα</a:t>
            </a:r>
            <a:r>
              <a:rPr b="0" sz="1400" spc="-1" strike="noStrike">
                <a:solidFill>
                  <a:srgbClr val="171b41"/>
                </a:solidFill>
                <a:latin typeface="Arial"/>
              </a:rPr>
              <a:t> Πρότυπης Ανάλυση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3270240"/>
            <a:ext cx="83808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171b41"/>
                </a:solidFill>
                <a:latin typeface="Arial"/>
              </a:rPr>
              <a:t>Ενεργειακό Μοντέλο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59000" y="3270240"/>
            <a:ext cx="76212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171b41"/>
                </a:solidFill>
                <a:latin typeface="Arial"/>
              </a:rPr>
              <a:t>Ανάλυση Κόστου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3276720"/>
            <a:ext cx="76212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171b41"/>
                </a:solidFill>
                <a:latin typeface="Arial"/>
              </a:rPr>
              <a:t>Ανάλυση ΑΤ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75520" y="3086280"/>
            <a:ext cx="76176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171b41"/>
                </a:solidFill>
                <a:latin typeface="Arial"/>
              </a:rPr>
              <a:t>Χρηματο-οικονομική Περίληψη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13800" y="3092400"/>
            <a:ext cx="9144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171b41"/>
                </a:solidFill>
                <a:latin typeface="Arial"/>
              </a:rPr>
              <a:t>Ανάλυση Ευαισθησίας &amp; Κινδύνο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30440" y="5111640"/>
            <a:ext cx="137160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171b41"/>
                </a:solidFill>
                <a:latin typeface="Arial"/>
              </a:rPr>
              <a:t>Υπο-Φυλλο(α) Εργασίας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75040" y="4629240"/>
            <a:ext cx="175248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cc99ff"/>
                </a:solidFill>
                <a:latin typeface="Arial"/>
              </a:rPr>
              <a:t>Πατήστε στους μπλε συνδέσμους ή την εικόνα για πρόσβαση στα δεδομένα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4764240"/>
            <a:ext cx="99036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171b41"/>
                </a:solidFill>
                <a:latin typeface="Arial"/>
              </a:rPr>
              <a:t>Χρηματορροή Έργου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5549760"/>
            <a:ext cx="24386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171b41"/>
                </a:solidFill>
                <a:latin typeface="Arial"/>
              </a:rPr>
              <a:t>Έτοιμος για</a:t>
            </a:r>
            <a:r>
              <a:rPr b="1" sz="1400" spc="-1" strike="noStrike">
                <a:solidFill>
                  <a:srgbClr val="171b41"/>
                </a:solidFill>
                <a:latin typeface="Arial"/>
              </a:rPr>
              <a:t> μια απόφαση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4211280" y="3814920"/>
            <a:ext cx="326160" cy="68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8000" tIns="10800" bIns="10800" anchor="t" vert="eaVer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 baseline="-25000">
                <a:solidFill>
                  <a:srgbClr val="99ccff"/>
                </a:solidFill>
                <a:latin typeface="Tahoma"/>
                <a:ea typeface="Tahoma"/>
              </a:rPr>
              <a:t>προαιρετικό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0800000">
            <a:off x="7314840" y="3799080"/>
            <a:ext cx="326160" cy="68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8000" tIns="10800" bIns="10800" anchor="t" vert="eaVer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 baseline="-25000">
                <a:solidFill>
                  <a:srgbClr val="99ccff"/>
                </a:solidFill>
                <a:latin typeface="Tahoma"/>
                <a:ea typeface="Tahoma"/>
              </a:rPr>
              <a:t>προαιρετικό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Διαπίστευση RETScreen</a:t>
            </a:r>
            <a:r>
              <a:rPr b="1" sz="2800" spc="-1" strike="noStrike" baseline="50000">
                <a:solidFill>
                  <a:srgbClr val="ffb900"/>
                </a:solidFill>
                <a:latin typeface="Arial Black"/>
              </a:rPr>
              <a:t>® </a:t>
            </a:r>
            <a:r>
              <a:rPr b="1" sz="3200" spc="-1" strike="noStrike">
                <a:solidFill>
                  <a:srgbClr val="ffb900"/>
                </a:solidFill>
                <a:latin typeface="Tahoma"/>
              </a:rPr>
              <a:t>- Παραδείγματα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01760" y="1752120"/>
            <a:ext cx="3636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Όλα τα μοντέλα διαπιστεύονται μετά από σύγκριση των δεδομένων παρακολούθησης με αυτά του κατασκευαστή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164120" y="1573200"/>
            <a:ext cx="4759200" cy="296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35680" y="1824120"/>
            <a:ext cx="362556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35680" y="3452760"/>
            <a:ext cx="362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35680" y="3046320"/>
            <a:ext cx="362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35680" y="2638440"/>
            <a:ext cx="362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35680" y="2232000"/>
            <a:ext cx="362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35680" y="1824120"/>
            <a:ext cx="362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35680" y="1824120"/>
            <a:ext cx="3625560" cy="2036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35680" y="1824120"/>
            <a:ext cx="1440" cy="2036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78440" y="3860640"/>
            <a:ext cx="57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78440" y="3452760"/>
            <a:ext cx="57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78440" y="3046320"/>
            <a:ext cx="57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78440" y="2638440"/>
            <a:ext cx="57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78440" y="2232000"/>
            <a:ext cx="57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78440" y="1824120"/>
            <a:ext cx="57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35680" y="3860640"/>
            <a:ext cx="362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035680" y="386064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762520" y="386064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489720" y="386064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207200" y="386064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7934400" y="386064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8661240" y="386064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35680" y="3860640"/>
            <a:ext cx="183960" cy="1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219640" y="3618000"/>
            <a:ext cx="174600" cy="242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394240" y="3317760"/>
            <a:ext cx="184320" cy="300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578560" y="3055680"/>
            <a:ext cx="183960" cy="261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762520" y="2833560"/>
            <a:ext cx="184320" cy="2224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946840" y="2638440"/>
            <a:ext cx="174600" cy="1951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121440" y="2475000"/>
            <a:ext cx="183960" cy="1634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305400" y="2338200"/>
            <a:ext cx="184320" cy="1364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489720" y="2222640"/>
            <a:ext cx="174600" cy="115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664320" y="2134800"/>
            <a:ext cx="184320" cy="874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848640" y="2066760"/>
            <a:ext cx="183960" cy="68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7032600" y="2028600"/>
            <a:ext cx="174600" cy="37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207200" y="1988640"/>
            <a:ext cx="184320" cy="399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391520" y="1979640"/>
            <a:ext cx="183960" cy="93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7575480" y="1969560"/>
            <a:ext cx="184320" cy="9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59800" y="1969920"/>
            <a:ext cx="174600" cy="1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934400" y="1969920"/>
            <a:ext cx="183960" cy="1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118360" y="1969920"/>
            <a:ext cx="184320" cy="190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02680" y="1989000"/>
            <a:ext cx="174600" cy="190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477280" y="2008080"/>
            <a:ext cx="183960" cy="30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664320" y="2154240"/>
            <a:ext cx="184320" cy="3816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6848640" y="2134800"/>
            <a:ext cx="183960" cy="1908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7032600" y="2095560"/>
            <a:ext cx="174600" cy="3960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7207200" y="2066760"/>
            <a:ext cx="184320" cy="2880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7391520" y="2037960"/>
            <a:ext cx="183960" cy="2844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7575480" y="2028960"/>
            <a:ext cx="184320" cy="936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759800" y="2008080"/>
            <a:ext cx="174600" cy="2088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934400" y="1988640"/>
            <a:ext cx="183960" cy="1908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8118360" y="1969560"/>
            <a:ext cx="184320" cy="1908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2680" y="1969920"/>
            <a:ext cx="174600" cy="180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477280" y="1969920"/>
            <a:ext cx="183960" cy="180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35880" y="2163600"/>
            <a:ext cx="47520" cy="493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19840" y="2125800"/>
            <a:ext cx="47520" cy="475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04160" y="2104920"/>
            <a:ext cx="48960" cy="493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178760" y="2066760"/>
            <a:ext cx="47520" cy="493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62720" y="2038320"/>
            <a:ext cx="47880" cy="475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7040" y="2008080"/>
            <a:ext cx="49320" cy="493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731000" y="1998720"/>
            <a:ext cx="49320" cy="493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05600" y="1979640"/>
            <a:ext cx="47880" cy="493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089920" y="1960560"/>
            <a:ext cx="49320" cy="475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73880" y="1941480"/>
            <a:ext cx="49320" cy="475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448840" y="1941480"/>
            <a:ext cx="47520" cy="475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632800" y="1941480"/>
            <a:ext cx="49320" cy="475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08360" y="3754440"/>
            <a:ext cx="276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01800" y="334656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01800" y="294012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01800" y="253224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01800" y="212580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95600" y="1717560"/>
            <a:ext cx="489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00680" y="4025880"/>
            <a:ext cx="276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568480" y="402588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95680" y="402588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13160" y="402588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740360" y="402588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419680" y="4025880"/>
            <a:ext cx="489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47480" y="4248000"/>
            <a:ext cx="2262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500" spc="-1" strike="noStrike">
                <a:solidFill>
                  <a:srgbClr val="000000"/>
                </a:solidFill>
                <a:latin typeface="Arial"/>
              </a:rPr>
              <a:t>Ποσοστό παροχής ροής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6200000">
            <a:off x="3711240" y="2741760"/>
            <a:ext cx="1229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500" spc="-1" strike="noStrike">
                <a:solidFill>
                  <a:srgbClr val="000000"/>
                </a:solidFill>
                <a:latin typeface="Arial"/>
              </a:rPr>
              <a:t>Απόδοση (%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64120" y="1573200"/>
            <a:ext cx="4759200" cy="29653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16000" y="3216240"/>
            <a:ext cx="299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Καμπύλες </a:t>
            </a:r>
            <a:r>
              <a:rPr b="0" sz="1400" spc="-1" strike="noStrike">
                <a:solidFill>
                  <a:srgbClr val="171b41"/>
                </a:solidFill>
                <a:latin typeface="Arial"/>
              </a:rPr>
              <a:t>Απόδοσης Υδροστροβίλων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24520" y="3483000"/>
            <a:ext cx="264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RETScreen έναντι Κατασκευαστή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00560" y="2309760"/>
            <a:ext cx="10954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38360" y="2328840"/>
            <a:ext cx="98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Arial"/>
              </a:rPr>
              <a:t>RETScree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294680" y="2076480"/>
            <a:ext cx="1154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308360" y="2133720"/>
            <a:ext cx="1323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Arial"/>
              </a:rPr>
              <a:t>Κατασκευαστής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5960" y="3733920"/>
            <a:ext cx="3886200" cy="26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6394320"/>
            <a:ext cx="3894120" cy="1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171b41"/>
                </a:solidFill>
                <a:latin typeface="Tahoma"/>
              </a:rPr>
              <a:t>Σύγκριση Παραγωγής ΦΒ Ενέργειας υπολογιζόμενη με RETScreen και HOM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15960" y="3733920"/>
          <a:ext cx="3886200" cy="26492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5960" y="3733920"/>
                    <a:ext cx="3886200" cy="2649240"/>
                  </a:xfrm>
                  <a:prstGeom prst="rect">
                    <a:avLst/>
                  </a:prstGeom>
                  <a:ln w="9360">
                    <a:solidFill>
                      <a:srgbClr val="ffb9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4572000" y="5181480"/>
            <a:ext cx="3809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sz="2400" spc="-1" strike="noStrike">
                <a:solidFill>
                  <a:srgbClr val="ffffff"/>
                </a:solidFill>
                <a:latin typeface="Tahoma"/>
              </a:rPr>
              <a:t>και/ή μετά από σύγκριση με ωριαία εργαλεία προσομοίωση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6095880"/>
            <a:ext cx="342900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800" spc="-1" strike="noStrike">
                <a:solidFill>
                  <a:srgbClr val="000000"/>
                </a:solidFill>
                <a:latin typeface="Arial"/>
              </a:rPr>
              <a:t>Ιαν    Φεβ   Μαρτ   Απρ   Μαι    Ιουν  Ιουλ    Αυγ   Σεπτ   Οκτ    Νοε    Δεκ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438280" y="6240600"/>
            <a:ext cx="533520" cy="9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" spc="-1" strike="noStrike">
                <a:solidFill>
                  <a:srgbClr val="000000"/>
                </a:solidFill>
                <a:latin typeface="Arial"/>
              </a:rPr>
              <a:t>Μήνας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418680" y="4835880"/>
            <a:ext cx="761760" cy="23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" spc="-1" strike="noStrike">
                <a:solidFill>
                  <a:srgbClr val="000000"/>
                </a:solidFill>
                <a:latin typeface="Arial"/>
              </a:rPr>
              <a:t>Ισχύς ΦΒ (kWh)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6440" y="152280"/>
            <a:ext cx="8508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b900"/>
                </a:solidFill>
                <a:latin typeface="Tahoma"/>
              </a:rPr>
              <a:t>Επίδειξη λογισμικού RETScreen</a:t>
            </a:r>
            <a:r>
              <a:rPr b="1" sz="2800" spc="-1" strike="noStrike" baseline="50000">
                <a:solidFill>
                  <a:srgbClr val="ffb900"/>
                </a:solidFill>
                <a:latin typeface="Arial Black"/>
              </a:rPr>
              <a:t>®</a:t>
            </a:r>
            <a:r>
              <a:rPr b="1" sz="2800" spc="-1" strike="noStrike">
                <a:solidFill>
                  <a:srgbClr val="ffb900"/>
                </a:solidFill>
                <a:latin typeface="Tahoma"/>
              </a:rPr>
              <a:t> </a:t>
            </a:r>
            <a:br>
              <a:rPr sz="2800"/>
            </a:br>
            <a:r>
              <a:rPr b="1" sz="2800" spc="-1" strike="noStrike">
                <a:solidFill>
                  <a:srgbClr val="ffb900"/>
                </a:solidFill>
                <a:latin typeface="Tahoma"/>
              </a:rPr>
              <a:t>(Παράδειγμα έργου Αιολικής Ενέργειας)</a:t>
            </a:r>
            <a:endParaRPr b="1" lang="en-US" sz="28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45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4724280" y="1981080"/>
            <a:ext cx="40388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45943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937040" y="1662120"/>
            <a:ext cx="306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rcRect l="638" t="0" r="638" b="0"/>
          <a:stretch/>
        </p:blipFill>
        <p:spPr>
          <a:xfrm>
            <a:off x="371520" y="1504800"/>
            <a:ext cx="8670960" cy="527400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  <p:sp>
        <p:nvSpPr>
          <p:cNvPr id="248" name=""/>
          <p:cNvSpPr/>
          <p:nvPr/>
        </p:nvSpPr>
        <p:spPr>
          <a:xfrm>
            <a:off x="457200" y="1905120"/>
            <a:ext cx="304812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500" spc="-1" strike="noStrike">
                <a:solidFill>
                  <a:srgbClr val="171b41"/>
                </a:solidFill>
                <a:latin typeface="Arial"/>
              </a:rPr>
              <a:t>Πέντε βήματα</a:t>
            </a:r>
            <a:r>
              <a:rPr b="0" sz="1500" spc="-1" strike="noStrike">
                <a:solidFill>
                  <a:srgbClr val="171b41"/>
                </a:solidFill>
                <a:latin typeface="Arial"/>
              </a:rPr>
              <a:t> Πρότυπης Ανάλυσης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58920" y="2432160"/>
            <a:ext cx="83808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171b41"/>
                </a:solidFill>
                <a:latin typeface="Arial"/>
              </a:rPr>
              <a:t>Ενεργειακό Μοντέλο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78200" y="2438280"/>
            <a:ext cx="76176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171b41"/>
                </a:solidFill>
                <a:latin typeface="Arial"/>
              </a:rPr>
              <a:t>Ανάλυση Κόστου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95680" y="2438280"/>
            <a:ext cx="76212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171b41"/>
                </a:solidFill>
                <a:latin typeface="Arial"/>
              </a:rPr>
              <a:t>Ανάλυση ΑΤ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35840" y="2244600"/>
            <a:ext cx="76176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171b41"/>
                </a:solidFill>
                <a:latin typeface="Arial"/>
              </a:rPr>
              <a:t>Χρηματο-οικονομική Περίληψη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759800" y="2244600"/>
            <a:ext cx="9144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171b41"/>
                </a:solidFill>
                <a:latin typeface="Arial"/>
              </a:rPr>
              <a:t>Ανάλυση Ευαισθησίας &amp; Κινδύνο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24120" y="3809880"/>
            <a:ext cx="175284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cc99ff"/>
                </a:solidFill>
                <a:latin typeface="Arial"/>
              </a:rPr>
              <a:t>Πατήστε στους μπλε συνδέσμους ή την εικόνα για πρόσβαση στα δεδομένα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95280" y="4343400"/>
            <a:ext cx="137160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171b41"/>
                </a:solidFill>
                <a:latin typeface="Arial"/>
              </a:rPr>
              <a:t>Υπο-Φυλλο(α) Εργασίας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400800" y="4800600"/>
            <a:ext cx="259092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171b41"/>
                </a:solidFill>
                <a:latin typeface="Arial"/>
              </a:rPr>
              <a:t>Έτοιμος για</a:t>
            </a:r>
            <a:r>
              <a:rPr b="1" sz="1400" spc="-1" strike="noStrike">
                <a:solidFill>
                  <a:srgbClr val="171b41"/>
                </a:solidFill>
                <a:latin typeface="Arial"/>
              </a:rPr>
              <a:t> μια απόφαση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72200" y="3971880"/>
            <a:ext cx="99072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171b41"/>
                </a:solidFill>
                <a:latin typeface="Arial"/>
              </a:rPr>
              <a:t>Χρηματορροή Έργου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5278320"/>
            <a:ext cx="3048120" cy="228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Arial"/>
              </a:rPr>
              <a:t>Ολοκληρωμένα  Χαρακτηριστικά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5602320"/>
            <a:ext cx="838440" cy="428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800" spc="-1" strike="noStrike">
                <a:solidFill>
                  <a:srgbClr val="171b41"/>
                </a:solidFill>
                <a:latin typeface="Arial"/>
              </a:rPr>
              <a:t>Μετεωρολογικά Δεδομένα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66880" y="5602320"/>
            <a:ext cx="838440" cy="428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800" spc="-1" strike="noStrike">
                <a:solidFill>
                  <a:srgbClr val="171b41"/>
                </a:solidFill>
                <a:latin typeface="Arial"/>
              </a:rPr>
              <a:t>Δεδομένα Παραγωγής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48320" y="5602320"/>
            <a:ext cx="761760" cy="428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800" spc="-1" strike="noStrike">
                <a:solidFill>
                  <a:srgbClr val="171b41"/>
                </a:solidFill>
                <a:latin typeface="Arial"/>
              </a:rPr>
              <a:t>Online Εγχειρίδιο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0" y="5486400"/>
            <a:ext cx="1752480" cy="971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buClr>
                <a:srgbClr val="171b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900" spc="-1" strike="noStrike">
                <a:solidFill>
                  <a:srgbClr val="171b41"/>
                </a:solidFill>
                <a:latin typeface="Arial"/>
              </a:rPr>
              <a:t> </a:t>
            </a:r>
            <a:r>
              <a:rPr b="1" sz="900" spc="-1" strike="noStrike">
                <a:solidFill>
                  <a:srgbClr val="171b41"/>
                </a:solidFill>
                <a:latin typeface="Arial"/>
              </a:rPr>
              <a:t>Εκπαιδευτικό Σεμινάριο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171b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900" spc="-1" strike="noStrike">
                <a:solidFill>
                  <a:srgbClr val="171b41"/>
                </a:solidFill>
                <a:latin typeface="Arial"/>
              </a:rPr>
              <a:t> </a:t>
            </a:r>
            <a:r>
              <a:rPr b="1" sz="900" spc="-1" strike="noStrike">
                <a:solidFill>
                  <a:srgbClr val="171b41"/>
                </a:solidFill>
                <a:latin typeface="Arial"/>
              </a:rPr>
              <a:t>Μηχανολογικό  Εγχειρίδιο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171b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900" spc="-1" strike="noStrike">
                <a:solidFill>
                  <a:srgbClr val="171b41"/>
                </a:solidFill>
                <a:latin typeface="Arial"/>
              </a:rPr>
              <a:t> </a:t>
            </a:r>
            <a:r>
              <a:rPr b="1" sz="900" spc="-1" strike="noStrike">
                <a:solidFill>
                  <a:srgbClr val="171b41"/>
                </a:solidFill>
                <a:latin typeface="Arial"/>
              </a:rPr>
              <a:t>Περιπτώσεις εφαρμογής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171b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900" spc="-1" strike="noStrike">
                <a:solidFill>
                  <a:srgbClr val="171b41"/>
                </a:solidFill>
                <a:latin typeface="Arial"/>
              </a:rPr>
              <a:t> </a:t>
            </a:r>
            <a:r>
              <a:rPr b="1" sz="900" spc="-1" strike="noStrike">
                <a:solidFill>
                  <a:srgbClr val="171b41"/>
                </a:solidFill>
                <a:latin typeface="Arial"/>
              </a:rPr>
              <a:t>Online Αγορά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171b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900" spc="-1" strike="noStrike">
                <a:solidFill>
                  <a:srgbClr val="171b41"/>
                </a:solidFill>
                <a:latin typeface="Arial"/>
              </a:rPr>
              <a:t> </a:t>
            </a:r>
            <a:r>
              <a:rPr b="1" sz="900" spc="-1" strike="noStrike">
                <a:solidFill>
                  <a:srgbClr val="171b41"/>
                </a:solidFill>
                <a:latin typeface="Arial"/>
              </a:rPr>
              <a:t>Διαδυκτιακά Forums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0800000">
            <a:off x="3995640" y="2981520"/>
            <a:ext cx="326160" cy="68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8000" tIns="10800" bIns="10800" anchor="t" vert="eaVer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 baseline="-25000">
                <a:solidFill>
                  <a:srgbClr val="99ccff"/>
                </a:solidFill>
                <a:latin typeface="Tahoma"/>
                <a:ea typeface="Tahoma"/>
              </a:rPr>
              <a:t>προαιρετικό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0800000">
            <a:off x="7235640" y="2975040"/>
            <a:ext cx="326160" cy="68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8000" tIns="10800" bIns="10800" anchor="t" vert="eaVer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 baseline="-25000">
                <a:solidFill>
                  <a:srgbClr val="99ccff"/>
                </a:solidFill>
                <a:latin typeface="Tahoma"/>
                <a:ea typeface="Tahoma"/>
              </a:rPr>
              <a:t>προαιρετικό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724280" y="1981080"/>
            <a:ext cx="40388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-9360" y="-6480"/>
            <a:ext cx="9180360" cy="68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6440" y="152280"/>
            <a:ext cx="7213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Κωδικοποίηση Χρώματος κελιών 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495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1981080"/>
            <a:ext cx="40388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66680" y="4724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2104920" y="1600200"/>
            <a:ext cx="4753080" cy="2941560"/>
          </a:xfrm>
          <a:prstGeom prst="rect">
            <a:avLst/>
          </a:prstGeom>
          <a:ln w="12600">
            <a:solidFill>
              <a:srgbClr val="ffb900"/>
            </a:solidFill>
            <a:miter/>
          </a:ln>
        </p:spPr>
      </p:pic>
      <p:sp>
        <p:nvSpPr>
          <p:cNvPr id="275" name=""/>
          <p:cNvSpPr/>
          <p:nvPr/>
        </p:nvSpPr>
        <p:spPr>
          <a:xfrm>
            <a:off x="2295360" y="1968480"/>
            <a:ext cx="89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baseline="-25000">
                <a:solidFill>
                  <a:srgbClr val="171b41"/>
                </a:solidFill>
                <a:latin typeface="Times New Roman"/>
              </a:rPr>
              <a:t>wh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08320" y="2639880"/>
            <a:ext cx="88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baseline="-25000">
                <a:solidFill>
                  <a:srgbClr val="171b41"/>
                </a:solidFill>
                <a:latin typeface="Times New Roman"/>
              </a:rPr>
              <a:t>yel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81320" y="32958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baseline="-25000">
                <a:solidFill>
                  <a:srgbClr val="171b41"/>
                </a:solidFill>
                <a:latin typeface="Times New Roman"/>
              </a:rPr>
              <a:t>bl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06520" y="391176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baseline="-25000">
                <a:solidFill>
                  <a:srgbClr val="171b41"/>
                </a:solidFill>
                <a:latin typeface="Times New Roman"/>
              </a:rPr>
              <a:t>gr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5"/>
          <a:stretch/>
        </p:blipFill>
        <p:spPr>
          <a:xfrm>
            <a:off x="611280" y="4648320"/>
            <a:ext cx="7921440" cy="190800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  <p:sp>
        <p:nvSpPr>
          <p:cNvPr id="280" name=""/>
          <p:cNvSpPr/>
          <p:nvPr/>
        </p:nvSpPr>
        <p:spPr>
          <a:xfrm>
            <a:off x="3429000" y="1676520"/>
            <a:ext cx="228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 u="sng">
                <a:solidFill>
                  <a:srgbClr val="171b41"/>
                </a:solidFill>
                <a:uFillTx/>
                <a:latin typeface="Arial"/>
              </a:rPr>
              <a:t>Κελιά Εισόδου και Εξόδο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0" y="2114640"/>
            <a:ext cx="9144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171b41"/>
                </a:solidFill>
                <a:latin typeface="Times New Roman"/>
              </a:rPr>
              <a:t>Λευκό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0" y="2798640"/>
            <a:ext cx="91440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171b41"/>
                </a:solidFill>
                <a:latin typeface="Times New Roman"/>
              </a:rPr>
              <a:t>Κίτρινο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3446640"/>
            <a:ext cx="914400" cy="198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171b41"/>
                </a:solidFill>
                <a:latin typeface="Times New Roman"/>
              </a:rPr>
              <a:t>Γαλάζιο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92480" y="4094280"/>
            <a:ext cx="91440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171b41"/>
                </a:solidFill>
                <a:latin typeface="Times New Roman"/>
              </a:rPr>
              <a:t>Γκρι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05320" y="2057400"/>
            <a:ext cx="3200400" cy="25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171b41"/>
                </a:solidFill>
                <a:latin typeface="Arial"/>
              </a:rPr>
              <a:t>Έξοδος Μοντέλου – υπολογίζονται από το μοντέλο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171b41"/>
                </a:solidFill>
                <a:latin typeface="Arial"/>
              </a:rPr>
              <a:t>Είσοδος από Χρήστη – Απαιτείται για το τρέξιμο του μοντέλου</a:t>
            </a:r>
            <a:r>
              <a:rPr b="0" sz="1200" spc="-1" strike="noStrike">
                <a:solidFill>
                  <a:srgbClr val="171b41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171b41"/>
                </a:solidFill>
                <a:latin typeface="Arial"/>
              </a:rPr>
              <a:t>Είσοδος από Χρήστη – Απαιτείται για το τρέξιμο του μοντέλου  Διαθέσιμη Online βάση δεδομένων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171b41"/>
                </a:solidFill>
                <a:latin typeface="Arial"/>
              </a:rPr>
              <a:t>Είσοδος από Χρήστη – Μόνο για λόγους αναφοράς Δεν απαιτείται για να τρέξει το μοντέλο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45943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705720" y="4594320"/>
            <a:ext cx="2209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724280" y="1981080"/>
            <a:ext cx="40388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45943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4400" y="0"/>
            <a:ext cx="9180360" cy="68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45943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4400" y="11160"/>
            <a:ext cx="9180360" cy="68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445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4724280" y="1981080"/>
            <a:ext cx="40388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45943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4594320"/>
            <a:ext cx="2209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-9360" y="-6480"/>
            <a:ext cx="9177120" cy="688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445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4724280" y="1981080"/>
            <a:ext cx="40388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45943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05720" y="4594320"/>
            <a:ext cx="2209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rcRect l="2840" t="2388" r="3787" b="2388"/>
          <a:stretch/>
        </p:blipFill>
        <p:spPr>
          <a:xfrm>
            <a:off x="42840" y="608040"/>
            <a:ext cx="8872560" cy="59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Στόχοι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5923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2401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ahoma"/>
              </a:rPr>
              <a:t>Επεξήγηση ρόλου προκαταρκτικών μελετών σκοπιμότητα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ts val="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90000"/>
              </a:lnSpc>
              <a:spcBef>
                <a:spcPts val="2001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ahoma"/>
              </a:rPr>
              <a:t>Περιγραφή λειτουργίας του λογισμικού RETScreen</a:t>
            </a:r>
            <a:r>
              <a:rPr b="0" sz="2000" spc="-1" strike="noStrike" baseline="50000">
                <a:solidFill>
                  <a:srgbClr val="ffffff"/>
                </a:solidFill>
                <a:latin typeface="Tahoma"/>
              </a:rPr>
              <a:t>®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ts val="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90000"/>
              </a:lnSpc>
              <a:spcBef>
                <a:spcPts val="2401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ahoma"/>
              </a:rPr>
              <a:t>Επίδειξη του τρόπου με τον οποίο το  RETScreen</a:t>
            </a:r>
            <a:r>
              <a:rPr b="0" sz="2000" spc="-1" strike="noStrike" baseline="50000">
                <a:solidFill>
                  <a:srgbClr val="ffffff"/>
                </a:solidFill>
                <a:latin typeface="Tahoma"/>
              </a:rPr>
              <a:t>®</a:t>
            </a:r>
            <a:r>
              <a:rPr b="0" sz="2400" spc="-1" strike="noStrike">
                <a:solidFill>
                  <a:srgbClr val="ffffff"/>
                </a:solidFill>
                <a:latin typeface="Tahoma"/>
              </a:rPr>
              <a:t> διευκολύνει τον εντοπισμό και την αξιολόγηση πιθανών έργω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6400800" y="2104920"/>
            <a:ext cx="2416320" cy="3048120"/>
          </a:xfrm>
          <a:prstGeom prst="rect">
            <a:avLst/>
          </a:prstGeom>
          <a:ln w="12600">
            <a:solidFill>
              <a:srgbClr val="ffb900"/>
            </a:solidFill>
            <a:miter/>
          </a:ln>
        </p:spPr>
      </p:pic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1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1640" cy="687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4041720" y="2352600"/>
            <a:ext cx="4721400" cy="3495600"/>
          </a:xfrm>
          <a:prstGeom prst="rect">
            <a:avLst/>
          </a:prstGeom>
          <a:ln w="12600">
            <a:solidFill>
              <a:srgbClr val="ffb900"/>
            </a:solidFill>
            <a:miter/>
          </a:ln>
        </p:spPr>
      </p:pic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3560760" cy="50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Σύγκριση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Βασική Περίπτωση έναντι Προτεινόμενης περίπτωση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Συμβατικό σύστημα έναντι Συστήματος καθαρής ενέργεια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Παράδειγμα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Τυπικό κέλυφος κτιρίου με siding και θέρμανση αέρα με φ.αέριο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25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έναντ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ffffff"/>
                </a:solidFill>
                <a:latin typeface="Tahoma"/>
              </a:rPr>
              <a:t>Solarwall 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 με ηλιακή θέρμανση αέρα συν την συμβατική θέρμανση αέρα με φ. αερίου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406440" y="228600"/>
            <a:ext cx="7365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Λογισμικό RETScreen</a:t>
            </a:r>
            <a:r>
              <a:rPr b="1" sz="2800" spc="-1" strike="noStrike" baseline="50000">
                <a:solidFill>
                  <a:srgbClr val="ffb900"/>
                </a:solidFill>
                <a:latin typeface="Arial Black"/>
              </a:rPr>
              <a:t>®</a:t>
            </a:r>
            <a:r>
              <a:rPr b="1" sz="3200" spc="-1" strike="noStrike">
                <a:solidFill>
                  <a:srgbClr val="ffb900"/>
                </a:solidFill>
                <a:latin typeface="Tahoma"/>
              </a:rPr>
              <a:t> </a:t>
            </a:r>
            <a:br>
              <a:rPr sz="3200"/>
            </a:br>
            <a:r>
              <a:rPr b="1" sz="3200" spc="-1" strike="noStrike">
                <a:solidFill>
                  <a:srgbClr val="ffb900"/>
                </a:solidFill>
                <a:latin typeface="Tahoma"/>
              </a:rPr>
              <a:t>Μέθοδος Οικονομικής Ανάλυση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34120" y="5670720"/>
            <a:ext cx="342900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171b41"/>
                </a:solidFill>
                <a:latin typeface="Tahoma"/>
              </a:rPr>
              <a:t>Yellowknife School Solarwall Υπό Κατασκευή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324480" y="5816520"/>
            <a:ext cx="2679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ffffff"/>
                </a:solidFill>
                <a:latin typeface="Tahoma"/>
              </a:rPr>
              <a:t>Αναφορά Φωτογραφίας: Arctic Energy Allian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0" y="1278000"/>
            <a:ext cx="4797360" cy="1699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5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Επίδειξη Λογισμικού</a:t>
            </a:r>
            <a:r>
              <a:rPr b="1" sz="2800" spc="-1" strike="noStrike">
                <a:solidFill>
                  <a:srgbClr val="ffb900"/>
                </a:solidFill>
                <a:latin typeface="Tahoma"/>
              </a:rPr>
              <a:t> </a:t>
            </a:r>
            <a:br>
              <a:rPr sz="2800"/>
            </a:br>
            <a:r>
              <a:rPr b="1" sz="2400" spc="-1" strike="noStrike">
                <a:solidFill>
                  <a:srgbClr val="ffb900"/>
                </a:solidFill>
                <a:latin typeface="Tahoma"/>
              </a:rPr>
              <a:t>Έργο 20 MW Αιολικής Ενέργειας</a:t>
            </a:r>
            <a:endParaRPr b="1" lang="en-US" sz="24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3353040" cy="4876920"/>
          </a:xfrm>
          <a:prstGeom prst="rect">
            <a:avLst/>
          </a:prstGeom>
          <a:noFill/>
          <a:ln w="9360">
            <a:solidFill>
              <a:srgbClr val="ffb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9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 u="sng">
                <a:solidFill>
                  <a:srgbClr val="ffffff"/>
                </a:solidFill>
                <a:uFillTx/>
                <a:latin typeface="Tahoma"/>
              </a:rPr>
              <a:t>Είσοδος/Έξοδο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(RETScreen</a:t>
            </a:r>
            <a:r>
              <a:rPr b="0" sz="1800" spc="-1" strike="noStrike" baseline="50000">
                <a:solidFill>
                  <a:srgbClr val="ffffff"/>
                </a:solidFill>
                <a:latin typeface="Tahoma"/>
              </a:rPr>
              <a:t>®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13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Τοποθεσία Έργου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Ταχύτητα Ανέμου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Μείωση εκπομπών ΑΤΘ.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Κόστος Ανεμμογεννήτριας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Πίστωση παραγωγής ΑΠΕ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Πιστώσεις ΑΤΘ (σταθμός άνθρακα)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Περίοδος χρέους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b900"/>
                </a:solidFill>
                <a:latin typeface="Tahoma"/>
              </a:rPr>
              <a:t>Θετική Χρηματοροή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b900"/>
                </a:solidFill>
                <a:latin typeface="Tahoma"/>
              </a:rPr>
              <a:t>Επιστροφή Επένδυσης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"/>
          <p:cNvSpPr/>
          <p:nvPr/>
        </p:nvSpPr>
        <p:spPr>
          <a:xfrm>
            <a:off x="6324480" y="1600200"/>
            <a:ext cx="2819520" cy="4876920"/>
          </a:xfrm>
          <a:prstGeom prst="rect">
            <a:avLst/>
          </a:prstGeom>
          <a:noFill/>
          <a:ln w="9360">
            <a:solidFill>
              <a:srgbClr val="ff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 u="sng">
                <a:solidFill>
                  <a:srgbClr val="ffffff"/>
                </a:solidFill>
                <a:uFillTx/>
                <a:latin typeface="Tahoma"/>
              </a:rPr>
              <a:t>Σενάριο #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(Πράσινος Σταθμός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Pincher Creek, A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Lethbridge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0 m/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486 tCO</a:t>
            </a:r>
            <a:r>
              <a:rPr b="0" sz="1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/έτ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000/k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025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/kW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/τον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15 έτη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b900"/>
                </a:solidFill>
                <a:latin typeface="Tahoma"/>
              </a:rPr>
              <a:t>5</a:t>
            </a:r>
            <a:r>
              <a:rPr b="1" lang="en-US" sz="1600" spc="-1" strike="noStrike">
                <a:solidFill>
                  <a:srgbClr val="ffb900"/>
                </a:solidFill>
                <a:latin typeface="Tahoma"/>
              </a:rPr>
              <a:t>,</a:t>
            </a:r>
            <a:r>
              <a:rPr b="1" sz="1600" spc="-1" strike="noStrike">
                <a:solidFill>
                  <a:srgbClr val="ffb900"/>
                </a:solidFill>
                <a:latin typeface="Tahoma"/>
              </a:rPr>
              <a:t>2 έτη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b900"/>
                </a:solidFill>
                <a:latin typeface="Tahoma"/>
              </a:rPr>
              <a:t>22</a:t>
            </a:r>
            <a:r>
              <a:rPr b="1" lang="en-US" sz="1600" spc="-1" strike="noStrike">
                <a:solidFill>
                  <a:srgbClr val="ffb900"/>
                </a:solidFill>
                <a:latin typeface="Tahoma"/>
              </a:rPr>
              <a:t>,</a:t>
            </a:r>
            <a:r>
              <a:rPr b="1" sz="1600" spc="-1" strike="noStrike">
                <a:solidFill>
                  <a:srgbClr val="ffb900"/>
                </a:solidFill>
                <a:latin typeface="Tahoma"/>
              </a:rPr>
              <a:t>8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9880" y="1600200"/>
            <a:ext cx="2438640" cy="4876920"/>
          </a:xfrm>
          <a:prstGeom prst="rect">
            <a:avLst/>
          </a:prstGeom>
          <a:noFill/>
          <a:ln w="9360">
            <a:solidFill>
              <a:srgbClr val="ff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 u="sng">
                <a:solidFill>
                  <a:srgbClr val="ffffff"/>
                </a:solidFill>
                <a:uFillTx/>
                <a:latin typeface="Tahoma"/>
              </a:rPr>
              <a:t>Σενάριο #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(Εμπορικός Σταθμός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Kalgary, A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4 μ/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25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123 tCO</a:t>
            </a:r>
            <a:r>
              <a:rPr b="0" sz="1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/έτ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200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/k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/kW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/τον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10 έτη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b900"/>
                </a:solidFill>
                <a:latin typeface="Tahoma"/>
              </a:rPr>
              <a:t>42</a:t>
            </a:r>
            <a:r>
              <a:rPr b="1" lang="en-US" sz="1600" spc="-1" strike="noStrike">
                <a:solidFill>
                  <a:srgbClr val="ffb900"/>
                </a:solidFill>
                <a:latin typeface="Tahoma"/>
              </a:rPr>
              <a:t>,</a:t>
            </a:r>
            <a:r>
              <a:rPr b="1" sz="1600" spc="-1" strike="noStrike">
                <a:solidFill>
                  <a:srgbClr val="ffb900"/>
                </a:solidFill>
                <a:latin typeface="Tahoma"/>
              </a:rPr>
              <a:t>7 έτη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b900"/>
                </a:solidFill>
                <a:latin typeface="Tahoma"/>
              </a:rPr>
              <a:t>- 7</a:t>
            </a:r>
            <a:r>
              <a:rPr b="1" lang="en-US" sz="1600" spc="-1" strike="noStrike">
                <a:solidFill>
                  <a:srgbClr val="ffb900"/>
                </a:solidFill>
                <a:latin typeface="Tahoma"/>
              </a:rPr>
              <a:t>,</a:t>
            </a:r>
            <a:r>
              <a:rPr b="1" sz="1600" spc="-1" strike="noStrike">
                <a:solidFill>
                  <a:srgbClr val="ffb900"/>
                </a:solidFill>
                <a:latin typeface="Tahoma"/>
              </a:rPr>
              <a:t>1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683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Επίδειξη Λογισμικού</a:t>
            </a:r>
            <a:r>
              <a:rPr b="1" sz="2800" spc="-1" strike="noStrike">
                <a:solidFill>
                  <a:srgbClr val="ffb900"/>
                </a:solidFill>
                <a:latin typeface="Tahoma"/>
              </a:rPr>
              <a:t> </a:t>
            </a:r>
            <a:br>
              <a:rPr sz="2800"/>
            </a:br>
            <a:r>
              <a:rPr b="1" sz="2400" spc="-1" strike="noStrike">
                <a:solidFill>
                  <a:srgbClr val="ffb900"/>
                </a:solidFill>
                <a:latin typeface="Tahoma"/>
              </a:rPr>
              <a:t>Σενάριο 1</a:t>
            </a:r>
            <a:endParaRPr b="1" lang="en-US" sz="24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6248520" y="1828800"/>
            <a:ext cx="2743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962520" y="1828800"/>
            <a:ext cx="2514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3480" y="1752480"/>
            <a:ext cx="8597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 u="sng">
                <a:solidFill>
                  <a:srgbClr val="ffffff"/>
                </a:solidFill>
                <a:uFillTx/>
                <a:latin typeface="Tahoma"/>
              </a:rPr>
              <a:t>Σενάριο #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(Εμπορικός Σταθμός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Calgary, A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4 μ/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20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/k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25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123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 έτ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/kW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/το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10 έτ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b900"/>
                </a:solidFill>
                <a:latin typeface="Tahoma"/>
              </a:rPr>
              <a:t>42</a:t>
            </a:r>
            <a:r>
              <a:rPr b="1" lang="en-US" sz="1800" spc="-1" strike="noStrike">
                <a:solidFill>
                  <a:srgbClr val="ffb900"/>
                </a:solidFill>
                <a:latin typeface="Tahoma"/>
              </a:rPr>
              <a:t>,</a:t>
            </a:r>
            <a:r>
              <a:rPr b="1" sz="1800" spc="-1" strike="noStrike">
                <a:solidFill>
                  <a:srgbClr val="ffb900"/>
                </a:solidFill>
                <a:latin typeface="Tahoma"/>
              </a:rPr>
              <a:t>7 έτ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b900"/>
                </a:solidFill>
                <a:latin typeface="Tahoma"/>
              </a:rPr>
              <a:t>- 7</a:t>
            </a:r>
            <a:r>
              <a:rPr b="1" lang="en-US" sz="1800" spc="-1" strike="noStrike">
                <a:solidFill>
                  <a:srgbClr val="ffb900"/>
                </a:solidFill>
                <a:latin typeface="Tahoma"/>
              </a:rPr>
              <a:t>,</a:t>
            </a:r>
            <a:r>
              <a:rPr b="1" sz="1800" spc="-1" strike="noStrike">
                <a:solidFill>
                  <a:srgbClr val="ffb900"/>
                </a:solidFill>
                <a:latin typeface="Tahoma"/>
              </a:rPr>
              <a:t>1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3195720" y="3424320"/>
          <a:ext cx="2752560" cy="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95720" y="3424320"/>
                    <a:ext cx="27525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2" name="" descr=""/>
          <p:cNvPicPr/>
          <p:nvPr/>
        </p:nvPicPr>
        <p:blipFill>
          <a:blip r:embed="rId4"/>
          <a:stretch/>
        </p:blipFill>
        <p:spPr>
          <a:xfrm>
            <a:off x="0" y="129528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5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6"/>
          <a:stretch/>
        </p:blipFill>
        <p:spPr>
          <a:xfrm>
            <a:off x="2741760" y="1521000"/>
            <a:ext cx="6154560" cy="508140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8676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Επίδειξη Λογισμικού</a:t>
            </a:r>
            <a:r>
              <a:rPr b="1" sz="2800" spc="-1" strike="noStrike">
                <a:solidFill>
                  <a:srgbClr val="ffb900"/>
                </a:solidFill>
                <a:latin typeface="Tahoma"/>
              </a:rPr>
              <a:t> </a:t>
            </a:r>
            <a:br>
              <a:rPr sz="2800"/>
            </a:br>
            <a:r>
              <a:rPr b="1" sz="2400" spc="-1" strike="noStrike">
                <a:solidFill>
                  <a:srgbClr val="ffb900"/>
                </a:solidFill>
                <a:latin typeface="Tahoma"/>
              </a:rPr>
              <a:t>Ταχύτητα Ανέμου &amp; Μείωση εκπομπών ΑΤΘ</a:t>
            </a:r>
            <a:endParaRPr b="1" lang="en-US" sz="24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>
            <a:off x="6248520" y="1828800"/>
            <a:ext cx="2743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62520" y="1828800"/>
            <a:ext cx="2514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93480" y="1752120"/>
            <a:ext cx="25016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 u="sng">
                <a:solidFill>
                  <a:srgbClr val="ffffff"/>
                </a:solidFill>
                <a:uFillTx/>
                <a:latin typeface="Tahoma"/>
              </a:rPr>
              <a:t>Σενάριο # 1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(Πράσινος Σταθμός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Pincher Creek, A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Lethbridge </a:t>
            </a:r>
            <a:r>
              <a:rPr b="0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 7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0 μ/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sz="1800" spc="-1" strike="noStrike">
                <a:solidFill>
                  <a:srgbClr val="ffffff"/>
                </a:solidFill>
                <a:latin typeface="Tahoma"/>
              </a:rPr>
              <a:t>486 t</a:t>
            </a:r>
            <a:r>
              <a:rPr b="1" sz="1800" spc="-1" strike="noStrike" baseline="-25000">
                <a:solidFill>
                  <a:srgbClr val="ffffff"/>
                </a:solidFill>
                <a:latin typeface="Tahoma"/>
              </a:rPr>
              <a:t>CO</a:t>
            </a:r>
            <a:r>
              <a:rPr b="1" sz="1800" spc="-1" strike="noStrike" baseline="-50000">
                <a:solidFill>
                  <a:srgbClr val="ffffff"/>
                </a:solidFill>
                <a:latin typeface="Tahoma"/>
              </a:rPr>
              <a:t>2</a:t>
            </a:r>
            <a:r>
              <a:rPr b="1" sz="1800" spc="-1" strike="noStrike">
                <a:solidFill>
                  <a:srgbClr val="ffffff"/>
                </a:solidFill>
                <a:latin typeface="Tahoma"/>
              </a:rPr>
              <a:t>/έτ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b900"/>
                </a:solidFill>
                <a:latin typeface="Tahoma"/>
              </a:rPr>
              <a:t>18</a:t>
            </a:r>
            <a:r>
              <a:rPr b="1" lang="en-US" sz="1800" spc="-1" strike="noStrike">
                <a:solidFill>
                  <a:srgbClr val="ffb900"/>
                </a:solidFill>
                <a:latin typeface="Tahoma"/>
              </a:rPr>
              <a:t>,</a:t>
            </a:r>
            <a:r>
              <a:rPr b="1" sz="1800" spc="-1" strike="noStrike">
                <a:solidFill>
                  <a:srgbClr val="ffb900"/>
                </a:solidFill>
                <a:latin typeface="Tahoma"/>
              </a:rPr>
              <a:t>2 έτ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b900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ffb900"/>
                </a:solidFill>
                <a:latin typeface="Tahoma"/>
              </a:rPr>
              <a:t>,</a:t>
            </a:r>
            <a:r>
              <a:rPr b="1" sz="1800" spc="-1" strike="noStrike">
                <a:solidFill>
                  <a:srgbClr val="ffb900"/>
                </a:solidFill>
                <a:latin typeface="Tahoma"/>
              </a:rPr>
              <a:t>8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2741760" y="1521000"/>
            <a:ext cx="6154560" cy="509580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683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Επίδειξη Λογισμικού</a:t>
            </a:r>
            <a:r>
              <a:rPr b="1" sz="2800" spc="-1" strike="noStrike">
                <a:solidFill>
                  <a:srgbClr val="ffb900"/>
                </a:solidFill>
                <a:latin typeface="Tahoma"/>
              </a:rPr>
              <a:t> </a:t>
            </a:r>
            <a:br>
              <a:rPr sz="3400"/>
            </a:br>
            <a:r>
              <a:rPr b="1" sz="2400" spc="-1" strike="noStrike">
                <a:solidFill>
                  <a:srgbClr val="ffb900"/>
                </a:solidFill>
                <a:latin typeface="Tahoma"/>
              </a:rPr>
              <a:t>Κόστος Ανεμογεννήτριας</a:t>
            </a:r>
            <a:endParaRPr b="1" lang="en-US" sz="24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>
            <a:off x="6248520" y="1828800"/>
            <a:ext cx="2743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1828800"/>
            <a:ext cx="2514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4386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 u="sng">
                <a:solidFill>
                  <a:srgbClr val="ffffff"/>
                </a:solidFill>
                <a:uFillTx/>
                <a:latin typeface="Tahoma"/>
              </a:rPr>
              <a:t>Σενάριο # 1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00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/k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b900"/>
                </a:solidFill>
                <a:latin typeface="Tahoma"/>
              </a:rPr>
              <a:t>16</a:t>
            </a:r>
            <a:r>
              <a:rPr b="1" lang="en-US" sz="1800" spc="-1" strike="noStrike">
                <a:solidFill>
                  <a:srgbClr val="ffb900"/>
                </a:solidFill>
                <a:latin typeface="Tahoma"/>
              </a:rPr>
              <a:t>,</a:t>
            </a:r>
            <a:r>
              <a:rPr b="1" sz="1800" spc="-1" strike="noStrike">
                <a:solidFill>
                  <a:srgbClr val="ffb900"/>
                </a:solidFill>
                <a:latin typeface="Tahoma"/>
              </a:rPr>
              <a:t>5 έτ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b900"/>
                </a:solidFill>
                <a:latin typeface="Tahoma"/>
              </a:rPr>
              <a:t>6</a:t>
            </a:r>
            <a:r>
              <a:rPr b="1" lang="en-US" sz="1800" spc="-1" strike="noStrike">
                <a:solidFill>
                  <a:srgbClr val="ffb900"/>
                </a:solidFill>
                <a:latin typeface="Tahoma"/>
              </a:rPr>
              <a:t>,</a:t>
            </a:r>
            <a:r>
              <a:rPr b="1" sz="1800" spc="-1" strike="noStrike">
                <a:solidFill>
                  <a:srgbClr val="ffb900"/>
                </a:solidFill>
                <a:latin typeface="Tahoma"/>
              </a:rPr>
              <a:t>5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2741760" y="1521000"/>
            <a:ext cx="6154560" cy="510840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</p:spTree>
  </p:cSld>
  <p:transition spd="slow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68328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Επίδειξη Λογισμικού</a:t>
            </a:r>
            <a:r>
              <a:rPr b="1" sz="2800" spc="-1" strike="noStrike">
                <a:solidFill>
                  <a:srgbClr val="ffb900"/>
                </a:solidFill>
                <a:latin typeface="Tahoma"/>
              </a:rPr>
              <a:t> </a:t>
            </a:r>
            <a:br>
              <a:rPr sz="2800"/>
            </a:br>
            <a:r>
              <a:rPr b="1" sz="2800" spc="-1" strike="noStrike">
                <a:solidFill>
                  <a:srgbClr val="ffb900"/>
                </a:solidFill>
                <a:latin typeface="Tahoma"/>
              </a:rPr>
              <a:t>Πίστωση παραγωγής ΑΠΕ</a:t>
            </a:r>
            <a:endParaRPr b="1" lang="en-US" sz="28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6248520" y="1828800"/>
            <a:ext cx="2743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62520" y="1828800"/>
            <a:ext cx="2514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4386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 u="sng">
                <a:solidFill>
                  <a:srgbClr val="ffffff"/>
                </a:solidFill>
                <a:uFillTx/>
                <a:latin typeface="Tahoma"/>
              </a:rPr>
              <a:t>Σενάριο # 1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025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/kW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b900"/>
                </a:solidFill>
                <a:latin typeface="Tahoma"/>
              </a:rPr>
              <a:t>10</a:t>
            </a:r>
            <a:r>
              <a:rPr b="1" lang="en-US" sz="1800" spc="-1" strike="noStrike">
                <a:solidFill>
                  <a:srgbClr val="ffb900"/>
                </a:solidFill>
                <a:latin typeface="Tahoma"/>
              </a:rPr>
              <a:t>,</a:t>
            </a:r>
            <a:r>
              <a:rPr b="1" sz="1800" spc="-1" strike="noStrike">
                <a:solidFill>
                  <a:srgbClr val="ffb900"/>
                </a:solidFill>
                <a:latin typeface="Tahoma"/>
              </a:rPr>
              <a:t>1 έτ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b900"/>
                </a:solidFill>
                <a:latin typeface="Tahoma"/>
              </a:rPr>
              <a:t>17</a:t>
            </a:r>
            <a:r>
              <a:rPr b="1" lang="en-US" sz="1800" spc="-1" strike="noStrike">
                <a:solidFill>
                  <a:srgbClr val="ffb900"/>
                </a:solidFill>
                <a:latin typeface="Tahoma"/>
              </a:rPr>
              <a:t>,</a:t>
            </a:r>
            <a:r>
              <a:rPr b="1" sz="1800" spc="-1" strike="noStrike">
                <a:solidFill>
                  <a:srgbClr val="ffb900"/>
                </a:solidFill>
                <a:latin typeface="Tahoma"/>
              </a:rPr>
              <a:t>7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4"/>
          <a:stretch/>
        </p:blipFill>
        <p:spPr>
          <a:xfrm>
            <a:off x="2741760" y="1521000"/>
            <a:ext cx="6154560" cy="508284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97000" y="179280"/>
            <a:ext cx="84531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17880" y="152280"/>
            <a:ext cx="4520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1600" y="1251000"/>
            <a:ext cx="8567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7960" y="2144880"/>
            <a:ext cx="2243160" cy="109980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657cc4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Arial"/>
              </a:rPr>
              <a:t>Προκαταρκτική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Arial"/>
              </a:rPr>
              <a:t>Ανάλυση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Arial"/>
              </a:rPr>
              <a:t>Σκοπιμότητα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68360" y="3284640"/>
            <a:ext cx="2243160" cy="110016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657cc4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Arial"/>
              </a:rPr>
              <a:t>Ανάλυση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Arial"/>
              </a:rPr>
              <a:t>Σκοπιμότητα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80000" y="4267080"/>
            <a:ext cx="2849400" cy="112572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657cc4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Arial"/>
              </a:rPr>
              <a:t>Ανάπτυξη &amp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Arial"/>
              </a:rPr>
              <a:t>Μελέτη Σχεδιασμο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5181480"/>
            <a:ext cx="2362320" cy="118296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657cc4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Arial"/>
              </a:rPr>
              <a:t>Κατασκευή &amp;</a:t>
            </a:r>
            <a:br>
              <a:rPr sz="2400"/>
            </a:br>
            <a:r>
              <a:rPr b="1" sz="2400" spc="-1" strike="noStrike">
                <a:solidFill>
                  <a:srgbClr val="ffb900"/>
                </a:solidFill>
                <a:latin typeface="Arial"/>
              </a:rPr>
              <a:t> θέση σ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Arial"/>
              </a:rPr>
              <a:t>λειτουργί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4735440"/>
            <a:ext cx="48769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ffff"/>
                </a:solidFill>
                <a:uFillTx/>
                <a:latin typeface="Tahoma"/>
              </a:rPr>
              <a:t>Σημαντικά εμπόδια</a:t>
            </a:r>
            <a:r>
              <a:rPr b="1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ahoma"/>
              </a:rPr>
              <a:t>Έργα καθαρής ενέργειας που δεν συνηθίζεται να λαμβάνονται υπόψη εκ των προτέρων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97040" y="3440160"/>
            <a:ext cx="209520" cy="1219320"/>
          </a:xfrm>
          <a:prstGeom prst="upArrow">
            <a:avLst>
              <a:gd name="adj1" fmla="val 50000"/>
              <a:gd name="adj2" fmla="val 145490"/>
            </a:avLst>
          </a:prstGeom>
          <a:solidFill>
            <a:srgbClr val="ffb900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4310400">
            <a:off x="1476360" y="3744720"/>
            <a:ext cx="193680" cy="1450800"/>
          </a:xfrm>
          <a:prstGeom prst="upArrow">
            <a:avLst>
              <a:gd name="adj1" fmla="val 50000"/>
              <a:gd name="adj2" fmla="val 187268"/>
            </a:avLst>
          </a:prstGeom>
          <a:solidFill>
            <a:srgbClr val="ffb900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0"/>
            <a:ext cx="683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Διαδικασία Εφαρμογής Ενεργειακού Έργο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324480" y="2049480"/>
            <a:ext cx="2438640" cy="2293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683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Επίδειξη Λογισμικού</a:t>
            </a:r>
            <a:r>
              <a:rPr b="1" sz="2800" spc="-1" strike="noStrike">
                <a:solidFill>
                  <a:srgbClr val="ffb900"/>
                </a:solidFill>
                <a:latin typeface="Tahoma"/>
              </a:rPr>
              <a:t> </a:t>
            </a:r>
            <a:br>
              <a:rPr sz="2800"/>
            </a:br>
            <a:r>
              <a:rPr b="1" sz="2400" spc="-1" strike="noStrike">
                <a:solidFill>
                  <a:srgbClr val="ffb900"/>
                </a:solidFill>
                <a:latin typeface="Tahoma"/>
              </a:rPr>
              <a:t>Πιστώσεις εκπομπών ΑΤΘ</a:t>
            </a:r>
            <a:endParaRPr b="1" lang="en-US" sz="24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361" name=""/>
          <p:cNvSpPr/>
          <p:nvPr/>
        </p:nvSpPr>
        <p:spPr>
          <a:xfrm>
            <a:off x="6248520" y="1828800"/>
            <a:ext cx="2743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62520" y="1828800"/>
            <a:ext cx="2514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438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 u="sng">
                <a:solidFill>
                  <a:srgbClr val="ffffff"/>
                </a:solidFill>
                <a:uFillTx/>
                <a:latin typeface="Tahoma"/>
              </a:rPr>
              <a:t>Σενάριο # 1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/το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b900"/>
                </a:solidFill>
                <a:latin typeface="Tahoma"/>
              </a:rPr>
              <a:t>7</a:t>
            </a:r>
            <a:r>
              <a:rPr b="1" lang="en-US" sz="1800" spc="-1" strike="noStrike">
                <a:solidFill>
                  <a:srgbClr val="ffb900"/>
                </a:solidFill>
                <a:latin typeface="Tahoma"/>
              </a:rPr>
              <a:t>,</a:t>
            </a:r>
            <a:r>
              <a:rPr b="1" sz="1800" spc="-1" strike="noStrike">
                <a:solidFill>
                  <a:srgbClr val="ffb900"/>
                </a:solidFill>
                <a:latin typeface="Tahoma"/>
              </a:rPr>
              <a:t>5 έτ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b900"/>
                </a:solidFill>
                <a:latin typeface="Tahoma"/>
              </a:rPr>
              <a:t>20</a:t>
            </a:r>
            <a:r>
              <a:rPr b="1" lang="en-US" sz="1800" spc="-1" strike="noStrike">
                <a:solidFill>
                  <a:srgbClr val="ffb900"/>
                </a:solidFill>
                <a:latin typeface="Tahoma"/>
              </a:rPr>
              <a:t>,</a:t>
            </a:r>
            <a:r>
              <a:rPr b="1" sz="1800" spc="-1" strike="noStrike">
                <a:solidFill>
                  <a:srgbClr val="ffb900"/>
                </a:solidFill>
                <a:latin typeface="Tahoma"/>
              </a:rPr>
              <a:t>1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2741760" y="1521000"/>
            <a:ext cx="6154560" cy="510192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80880" y="177840"/>
            <a:ext cx="683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Επίδειξη Λογισμικού</a:t>
            </a:r>
            <a:r>
              <a:rPr b="1" sz="2800" spc="-1" strike="noStrike">
                <a:solidFill>
                  <a:srgbClr val="ffb900"/>
                </a:solidFill>
                <a:latin typeface="Tahoma"/>
              </a:rPr>
              <a:t> </a:t>
            </a:r>
            <a:br>
              <a:rPr sz="2800"/>
            </a:br>
            <a:r>
              <a:rPr b="1" sz="2400" spc="-1" strike="noStrike">
                <a:solidFill>
                  <a:srgbClr val="ffb900"/>
                </a:solidFill>
                <a:latin typeface="Tahoma"/>
              </a:rPr>
              <a:t>Περίοδος χρέους</a:t>
            </a:r>
            <a:endParaRPr b="1" lang="en-US" sz="24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369" name=""/>
          <p:cNvSpPr/>
          <p:nvPr/>
        </p:nvSpPr>
        <p:spPr>
          <a:xfrm>
            <a:off x="6248520" y="1828800"/>
            <a:ext cx="2743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62520" y="1828800"/>
            <a:ext cx="2514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2514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 u="sng">
                <a:solidFill>
                  <a:srgbClr val="ffffff"/>
                </a:solidFill>
                <a:uFillTx/>
                <a:latin typeface="Tahoma"/>
              </a:rPr>
              <a:t>Σενάριο #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15 έτ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b9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ffb900"/>
                </a:solidFill>
                <a:latin typeface="Tahoma"/>
              </a:rPr>
              <a:t>,</a:t>
            </a:r>
            <a:r>
              <a:rPr b="1" sz="1800" spc="-1" strike="noStrike">
                <a:solidFill>
                  <a:srgbClr val="ffb900"/>
                </a:solidFill>
                <a:latin typeface="Tahoma"/>
              </a:rPr>
              <a:t>2 έτ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b900"/>
                </a:solidFill>
                <a:latin typeface="Tahoma"/>
              </a:rPr>
              <a:t>22</a:t>
            </a:r>
            <a:r>
              <a:rPr b="1" lang="en-US" sz="1800" spc="-1" strike="noStrike">
                <a:solidFill>
                  <a:srgbClr val="ffb900"/>
                </a:solidFill>
                <a:latin typeface="Tahoma"/>
              </a:rPr>
              <a:t>,</a:t>
            </a:r>
            <a:r>
              <a:rPr b="1" sz="1800" spc="-1" strike="noStrike">
                <a:solidFill>
                  <a:srgbClr val="ffb900"/>
                </a:solidFill>
                <a:latin typeface="Tahoma"/>
              </a:rPr>
              <a:t>8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4"/>
          <a:stretch/>
        </p:blipFill>
        <p:spPr>
          <a:xfrm>
            <a:off x="2741760" y="1521000"/>
            <a:ext cx="6154560" cy="510048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</p:spTree>
  </p:cSld>
  <p:transition spd="slow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520" y="11412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Ερωτήσεις?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2717640" y="3886200"/>
            <a:ext cx="1828800" cy="171756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4"/>
          <a:stretch/>
        </p:blipFill>
        <p:spPr>
          <a:xfrm>
            <a:off x="4699080" y="3886200"/>
            <a:ext cx="1828800" cy="17874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5"/>
          <a:stretch/>
        </p:blipFill>
        <p:spPr>
          <a:xfrm>
            <a:off x="4699080" y="2057400"/>
            <a:ext cx="1904760" cy="17906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6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7"/>
          <a:stretch/>
        </p:blipFill>
        <p:spPr>
          <a:xfrm>
            <a:off x="2643120" y="1974960"/>
            <a:ext cx="406260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Ερωτήσεις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728520" y="2514240"/>
            <a:ext cx="526572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ahoma"/>
              </a:rPr>
              <a:t>Ποιο είναι το αποδεκτό επίπεδο ακρίβειας για την εκτίμηση του κόστους ενός έργου 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4191120"/>
            <a:ext cx="5338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ahoma"/>
              </a:rPr>
              <a:t>Πόσο κοστίζουν συνήθως αυτές οι μελέτες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57200" y="2058840"/>
            <a:ext cx="3019320" cy="3275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2286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8080"/>
                </a:solidFill>
                <a:latin typeface="Tahoma"/>
              </a:rPr>
              <a:t>Δίλημμα για την Ακρίβεια έναντι του Κόστους Επένδυσ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803" t="7963" r="1205" b="613"/>
          <a:stretch/>
        </p:blipFill>
        <p:spPr>
          <a:xfrm>
            <a:off x="93600" y="1123920"/>
            <a:ext cx="8799480" cy="554508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4427640" y="5373720"/>
            <a:ext cx="4218840" cy="762840"/>
            <a:chOff x="4427640" y="5373720"/>
            <a:chExt cx="4218840" cy="762840"/>
          </a:xfrm>
        </p:grpSpPr>
        <p:sp>
          <p:nvSpPr>
            <p:cNvPr id="102" name=""/>
            <p:cNvSpPr/>
            <p:nvPr/>
          </p:nvSpPr>
          <p:spPr>
            <a:xfrm>
              <a:off x="5267880" y="5676840"/>
              <a:ext cx="337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400" spc="-1" strike="noStrike">
                  <a:solidFill>
                    <a:srgbClr val="ff3300"/>
                  </a:solidFill>
                  <a:latin typeface="Arial"/>
                </a:rPr>
                <a:t>100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 $</a:t>
              </a:r>
              <a:r>
                <a:rPr b="1" sz="2400" spc="-1" strike="noStrike">
                  <a:solidFill>
                    <a:srgbClr val="ff3300"/>
                  </a:solidFill>
                  <a:latin typeface="Arial"/>
                </a:rPr>
                <a:t> έως 1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.</a:t>
              </a:r>
              <a:r>
                <a:rPr b="1" sz="2400" spc="-1" strike="noStrike">
                  <a:solidFill>
                    <a:srgbClr val="ff3300"/>
                  </a:solidFill>
                  <a:latin typeface="Arial"/>
                </a:rPr>
                <a:t>000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.</a:t>
              </a:r>
              <a:r>
                <a:rPr b="1" sz="2400" spc="-1" strike="noStrike">
                  <a:solidFill>
                    <a:srgbClr val="ff3300"/>
                  </a:solidFill>
                  <a:latin typeface="Arial"/>
                </a:rPr>
                <a:t>000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 $</a:t>
              </a:r>
              <a:r>
                <a:rPr b="1" sz="2400" spc="-1" strike="noStrike">
                  <a:solidFill>
                    <a:srgbClr val="ff33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4427640" y="5907240"/>
              <a:ext cx="76176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4884840" y="5373720"/>
              <a:ext cx="380880" cy="3808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505680" y="6400800"/>
            <a:ext cx="81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171b41"/>
                </a:solidFill>
                <a:latin typeface="Arial"/>
              </a:rPr>
              <a:t>Χρόνο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86200" y="4876920"/>
            <a:ext cx="213372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171b41"/>
                </a:solidFill>
                <a:latin typeface="Arial"/>
              </a:rPr>
              <a:t>Μελέτη σκοπιμότητας,                   ακρίβεια +/- 15% έως 25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5715000"/>
            <a:ext cx="213372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171b41"/>
                </a:solidFill>
                <a:latin typeface="Arial"/>
              </a:rPr>
              <a:t>Προ-μελέτη σκοπιμότητας,                   ακρίβεια +/- 40% έως 50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97000" y="179280"/>
            <a:ext cx="84531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17880" y="152280"/>
            <a:ext cx="4520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1600" y="1251000"/>
            <a:ext cx="8567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1760" y="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Πότε πρέπει να αξιολογούνται τεχνολογίες καθαρής ενέργειας ;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601560" y="2144880"/>
            <a:ext cx="2243160" cy="109980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657cc4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Arial"/>
              </a:rPr>
              <a:t>Προκαταρκτική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Arial"/>
              </a:rPr>
              <a:t>Ανάλυση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Arial"/>
              </a:rPr>
              <a:t>Σκοπιμότητα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49480" y="3135240"/>
            <a:ext cx="2243160" cy="110016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657cc4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Arial"/>
              </a:rPr>
              <a:t>Ανάλυση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Arial"/>
              </a:rPr>
              <a:t>Σκοπιμότητα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1560" y="4964040"/>
            <a:ext cx="32482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ahoma"/>
              </a:rPr>
              <a:t>Προκαταρκτικές Μελέτες Σκοπιμότητα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1560" y="3516480"/>
            <a:ext cx="209520" cy="1218960"/>
          </a:xfrm>
          <a:prstGeom prst="upArrow">
            <a:avLst>
              <a:gd name="adj1" fmla="val 50000"/>
              <a:gd name="adj2" fmla="val 145447"/>
            </a:avLst>
          </a:prstGeom>
          <a:solidFill>
            <a:srgbClr val="ffb900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4310400">
            <a:off x="1280520" y="3820680"/>
            <a:ext cx="193680" cy="1451160"/>
          </a:xfrm>
          <a:prstGeom prst="upArrow">
            <a:avLst>
              <a:gd name="adj1" fmla="val 50000"/>
              <a:gd name="adj2" fmla="val 187314"/>
            </a:avLst>
          </a:prstGeom>
          <a:solidFill>
            <a:srgbClr val="ffb900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1828800"/>
            <a:ext cx="4038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7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Απαίτηση για ενεργειακό σύστημ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7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7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Νέα κατασκευή ή προγραμματιζόμενη ανακαίνισ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7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7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Υψηλά συμβατικά ενεργειακά κόστη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7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7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Ενδιαφέρον από επενδυτέ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7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7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Πιθανές εγκρίσει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7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7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Διαθέσιμο Κεφάλαιο &amp; χρηματοδότησ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7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7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Καλές τοπικές πηγές καθαρής ενέργειας, κλπ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781680" y="1816200"/>
            <a:ext cx="2070360" cy="4356000"/>
          </a:xfrm>
          <a:prstGeom prst="rect">
            <a:avLst/>
          </a:prstGeom>
          <a:ln w="12600">
            <a:solidFill>
              <a:srgbClr val="ffcc00"/>
            </a:solidFill>
            <a:miter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Tahoma"/>
              </a:rPr>
              <a:t>Βιωσιμότητα Έργου </a:t>
            </a:r>
            <a:br>
              <a:rPr sz="2400"/>
            </a:br>
            <a:r>
              <a:rPr b="1" sz="2400" spc="-1" strike="noStrike">
                <a:solidFill>
                  <a:srgbClr val="ffb900"/>
                </a:solidFill>
                <a:latin typeface="Tahoma"/>
              </a:rPr>
              <a:t>(Πάρκο Αιολικής Ενέργειας)</a:t>
            </a:r>
            <a:br>
              <a:rPr sz="2400"/>
            </a:br>
            <a:r>
              <a:rPr b="1" sz="2400" spc="-1" strike="noStrike">
                <a:solidFill>
                  <a:srgbClr val="ffb900"/>
                </a:solidFill>
                <a:latin typeface="Tahoma"/>
              </a:rPr>
              <a:t>Βασίζεται σε διάφορους παράγοντες</a:t>
            </a:r>
            <a:endParaRPr b="1" lang="en-US" sz="24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6781680" y="1729440"/>
            <a:ext cx="205740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536996"/>
                </a:solidFill>
                <a:latin typeface="Tahoma"/>
              </a:rPr>
              <a:t>Ανεμογεννήτρια &amp; Πυλώνα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5943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65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Tahoma"/>
              </a:rPr>
              <a:t>Πηγή ενέργειας διαθέσιμη στο χώρο του έργου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(π.χ. Ταχύτητα ανέμου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5000"/>
              </a:lnSpc>
              <a:spcBef>
                <a:spcPts val="165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Tahoma"/>
              </a:rPr>
              <a:t>Επίδοση Εξοπλισμού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(π.χ. Καμπύλη ισχύος ανεμογεννήτριας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5000"/>
              </a:lnSpc>
              <a:spcBef>
                <a:spcPts val="15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Tahoma"/>
              </a:rPr>
              <a:t>Αρχικά κόστη έργου</a:t>
            </a:r>
            <a:r>
              <a:rPr b="1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sz="2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(π.χ. ανεμογεννήτριες, πυλώνες, μελέτη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5000"/>
              </a:lnSpc>
              <a:spcBef>
                <a:spcPts val="15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Tahoma"/>
              </a:rPr>
              <a:t>Πιστώσεις “βασικής περίπτωσης” </a:t>
            </a:r>
            <a:r>
              <a:rPr b="1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sz="20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(π.χ. Γεννήτριες ντίζελ για απομονωμένες περιοχές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5000"/>
              </a:lnSpc>
              <a:spcBef>
                <a:spcPts val="195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Tahoma"/>
              </a:rPr>
              <a:t>Συνεχή και περιοδικά κόστη έργου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(π.χ. Καθαρισμός πτερύγων ανεμογεννητριών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01400" y="1752480"/>
            <a:ext cx="8762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65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Tahoma"/>
              </a:rPr>
              <a:t>Αποφυγή κόστους ενέργειας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(π.χ. γενική τιμή ηλεκτρισμού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165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Tahoma"/>
              </a:rPr>
              <a:t>Χρηματοδότηση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(π.χ. χρέους  λόγος &amp; διάρκεια, επιτόκιο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165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Tahoma"/>
              </a:rPr>
              <a:t>Φόροι  σε εξοπλισμό &amp; εισόδημα (ή εξοικονόμηση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788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Tahoma"/>
              </a:rPr>
              <a:t>Περιβαλλοντικά χαρακτηριστικά υποκαθιστούμενης ενέργειας</a:t>
            </a:r>
            <a:br>
              <a:rPr sz="2200"/>
            </a:br>
            <a:r>
              <a:rPr b="0" sz="1800" spc="-1" strike="noStrike">
                <a:solidFill>
                  <a:srgbClr val="ffffff"/>
                </a:solidFill>
                <a:latin typeface="Tahoma"/>
              </a:rPr>
              <a:t>(π.χ. άνθρακας, φ.αέριο, πετρέλαιο, Μ.Υδρο/κα, πυρηνική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Tahoma"/>
              </a:rPr>
              <a:t>Περιβαλλοντικές πιστώσεις  και/ή επιδοτήσεις</a:t>
            </a:r>
            <a:r>
              <a:rPr b="1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π.χ. Πράσινες τιμές, ποσοστώσεις ΑΘ, επιχορηγήσεις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Tahoma"/>
              </a:rPr>
              <a:t>Προσδιορισμός του «οικονομικά αποδεκτού»</a:t>
            </a:r>
            <a:r>
              <a:rPr b="1" sz="2000" spc="-1" strike="noStrike">
                <a:solidFill>
                  <a:srgbClr val="ffffff"/>
                </a:solidFill>
                <a:latin typeface="Tahoma"/>
              </a:rPr>
              <a:t> από τον υπεύθυνο λήψης αποφάσεω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(π.χ.  Περίοδος αποπληρωμής, IRR, NPV, κόστος παραγωγής ενέργειας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06080" y="228600"/>
            <a:ext cx="755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Tahoma"/>
              </a:rPr>
              <a:t>Βιωσιμότητα Έργου </a:t>
            </a:r>
            <a:br>
              <a:rPr sz="2400"/>
            </a:br>
            <a:r>
              <a:rPr b="1" sz="2400" spc="-1" strike="noStrike">
                <a:solidFill>
                  <a:srgbClr val="ffb900"/>
                </a:solidFill>
                <a:latin typeface="Tahoma"/>
              </a:rPr>
              <a:t>(Πάρκο Αιολικής Ενέργειας)</a:t>
            </a:r>
            <a:br>
              <a:rPr sz="2400"/>
            </a:br>
            <a:r>
              <a:rPr b="1" sz="2400" spc="-1" strike="noStrike">
                <a:solidFill>
                  <a:srgbClr val="ffb900"/>
                </a:solidFill>
                <a:latin typeface="Tahoma"/>
              </a:rPr>
              <a:t>Βασίζεται σε διάφορους παράγοντες -συνέχεια</a:t>
            </a:r>
            <a:endParaRPr b="1" lang="en-US" sz="2400" spc="-1" strike="noStrike">
              <a:solidFill>
                <a:srgbClr val="ffb9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758640" y="666756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rcRect l="2707" t="3020" r="8128" b="6022"/>
          <a:stretch/>
        </p:blipFill>
        <p:spPr>
          <a:xfrm>
            <a:off x="5076720" y="1486080"/>
            <a:ext cx="3994200" cy="1831680"/>
          </a:xfrm>
          <a:prstGeom prst="rect">
            <a:avLst/>
          </a:prstGeom>
          <a:ln w="12600">
            <a:solidFill>
              <a:srgbClr val="ffb900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5105520" y="3292560"/>
            <a:ext cx="4064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ffffff"/>
                </a:solidFill>
                <a:latin typeface="Tahoma"/>
              </a:rPr>
              <a:t>Αναφορά Φωτογραφίας: Middelgrunden Wind Turbine Co-operativ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908840" y="1486080"/>
            <a:ext cx="115272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171b41"/>
                </a:solidFill>
                <a:latin typeface="Tahoma"/>
              </a:rPr>
              <a:t>Αιολική Ενέργει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Προς τι η χρήση του RETScreen</a:t>
            </a:r>
            <a:r>
              <a:rPr b="1" sz="2800" spc="-1" strike="noStrike" baseline="50000">
                <a:solidFill>
                  <a:srgbClr val="ffb900"/>
                </a:solidFill>
                <a:latin typeface="Arial Black"/>
              </a:rPr>
              <a:t>®</a:t>
            </a:r>
            <a:r>
              <a:rPr b="1" sz="3200" spc="-1" strike="noStrike">
                <a:solidFill>
                  <a:srgbClr val="ffb900"/>
                </a:solidFill>
                <a:latin typeface="Tahoma"/>
              </a:rPr>
              <a:t> ;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01400" y="1752480"/>
            <a:ext cx="752292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ahoma"/>
              </a:rPr>
              <a:t>Απλοποιούνται οι προκαταρκτικές αξιολογήσει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901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Απαιτούνται σχετικά λίγα δεδομένα από τον χρήστ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901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Υπολογίζει αυτόματα βασικούς τεχνικούς                                και οικονομικούς δείκτε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ahoma"/>
              </a:rPr>
              <a:t>Το κόστος ανέρχεται στο 1/10 του ποσού               άλλων μεθόδων αξιολόγηση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ahoma"/>
              </a:rPr>
              <a:t>Τυποποιημένες διαδικασίες επιτρέπουν αντικειμενικές συγκρίσεις </a:t>
            </a:r>
            <a:br>
              <a:rPr sz="2400"/>
            </a:br>
            <a:r>
              <a:rPr b="0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ahoma"/>
              </a:rPr>
              <a:t>Αυξάνεται το δυναμικό για επιτυχή εφαρμογή έργων καθαρής ενέργεια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6716880" y="2438280"/>
            <a:ext cx="1055520" cy="3013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14:38:34Z</dcterms:created>
  <dc:creator>RETScreen International</dc:creator>
  <dc:description/>
  <dc:language>en-US</dc:language>
  <cp:lastModifiedBy>Kevin Bourque</cp:lastModifiedBy>
  <cp:lastPrinted>2002-05-08T22:09:59Z</cp:lastPrinted>
  <dcterms:modified xsi:type="dcterms:W3CDTF">2005-05-27T14:23:51Z</dcterms:modified>
  <cp:revision>374</cp:revision>
  <dc:subject/>
  <dc:title>Renewable Energy Project Analysis with RETScreen Software</dc:title>
</cp:coreProperties>
</file>