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wmf" ContentType="image/x-wmf"/>
  <Override PartName="/ppt/media/image36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41.jpeg" ContentType="image/jpe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7.png" ContentType="image/png"/>
  <Override PartName="/ppt/media/image42.wmf" ContentType="image/x-wmf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5.wmf" ContentType="image/x-wmf"/>
  <Override PartName="/ppt/media/image40.jpeg" ContentType="image/jpeg"/>
  <Override PartName="/ppt/media/image28.png" ContentType="image/png"/>
  <Override PartName="/ppt/media/image38.jpeg" ContentType="image/jpeg"/>
  <Override PartName="/ppt/media/image43.wmf" ContentType="image/x-wmf"/>
  <Override PartName="/ppt/media/image44.wmf" ContentType="image/x-wmf"/>
  <Override PartName="/ppt/media/image45.png" ContentType="image/png"/>
  <Override PartName="/ppt/media/image10.png" ContentType="image/png"/>
  <Override PartName="/ppt/media/image27.jpeg" ContentType="image/jpeg"/>
  <Override PartName="/ppt/media/image19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81240" y="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6720" y="4424040"/>
            <a:ext cx="5153040" cy="4189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556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81240" y="884556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5C05043-D102-4E0B-821E-75429CAC679D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81240" y="884556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98B15E7-9CD8-4CC0-99E9-793F25C74355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884556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81240" y="0"/>
            <a:ext cx="304452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69372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6720" y="4424040"/>
            <a:ext cx="5153040" cy="41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24A-50C4-4C7C-9B37-4FBDD09E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D58-963B-4809-BF94-8AE3FB58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796-8646-4179-96E9-2F11C8B2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3160" y="1523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3160" y="4070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A15-5471-4A1B-B1BE-E63A5FA2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3B8-6E77-4433-B6D8-0886DB95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8DD-4960-4246-A29E-E7273E2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043-B2B1-44CD-A838-477DD45E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DBB-26E9-4BFE-8F88-3B4BF8FA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018-68EA-48CD-B601-43991361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123-9D59-47E4-ACB6-3952F08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3040" y="407088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913-5EB7-4264-9BFC-59AA355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3040" y="1523520"/>
            <a:ext cx="4201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70880"/>
            <a:ext cx="8610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788-4552-412E-A157-3A70E3F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9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b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b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b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1b41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520" y="62481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60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171b4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FC7B-ED13-404A-A924-B4912A5CC2B8}" type="slidenum">
              <a:rPr b="0" lang="en-US" sz="900" spc="-1" strike="noStrike">
                <a:solidFill>
                  <a:srgbClr val="171b41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10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8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905120"/>
            <a:ext cx="42386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Tahoma"/>
              </a:rPr>
              <a:t>Σεμινάριο Ανάλυσης Έργων Καθαρής Ενέργειας</a:t>
            </a:r>
            <a:endParaRPr b="1" lang="en-US" sz="1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6024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Arial Black"/>
              </a:rPr>
              <a:t>Ανάλυση Έργων Καθαρής Ενέργειας με το λογισμικό RETScreen</a:t>
            </a:r>
            <a:r>
              <a:rPr b="1" sz="2800" spc="-1" strike="noStrike" baseline="36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2800" spc="-1" strike="noStrike">
                <a:solidFill>
                  <a:srgbClr val="ffb9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50880" y="1752480"/>
            <a:ext cx="7593120" cy="136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0" t="0" r="0" b="22503"/>
          <a:stretch/>
        </p:blipFill>
        <p:spPr>
          <a:xfrm>
            <a:off x="27000" y="2362320"/>
            <a:ext cx="56340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6651720"/>
            <a:ext cx="712800" cy="185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25280" y="6651720"/>
            <a:ext cx="2465640" cy="19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1752480"/>
            <a:ext cx="9144000" cy="169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11120" y="647712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28600" y="6094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rcRect l="638" t="5300" r="638" b="31815"/>
          <a:stretch/>
        </p:blipFill>
        <p:spPr>
          <a:xfrm>
            <a:off x="762120" y="2666880"/>
            <a:ext cx="8280360" cy="31687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838080" y="2781360"/>
            <a:ext cx="2971800" cy="53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71b41"/>
                </a:solidFill>
                <a:latin typeface="Arial"/>
              </a:rPr>
              <a:t>Πέντε βήματα</a:t>
            </a:r>
            <a:r>
              <a:rPr b="0" sz="1400" spc="-1" strike="noStrike">
                <a:solidFill>
                  <a:srgbClr val="171b41"/>
                </a:solidFill>
                <a:latin typeface="Arial"/>
              </a:rPr>
              <a:t> Πρότυπης Ανάλυση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270240"/>
            <a:ext cx="8380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Ενεργειακό Μοντέλ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59000" y="3270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Κόστου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327672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ΑΤ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75520" y="3086280"/>
            <a:ext cx="76176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Χρηματο-οικονομική Περίληψ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13800" y="3092400"/>
            <a:ext cx="9144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Ευαισθησίας &amp; Κινδύνο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30440" y="5111640"/>
            <a:ext cx="13716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Υπο-Φυλλο(α) Εργασίας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75040" y="4629240"/>
            <a:ext cx="17524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cc99ff"/>
                </a:solidFill>
                <a:latin typeface="Arial"/>
              </a:rPr>
              <a:t>Πατήστε στους μπλε συνδέσμους ή την εικόνα για πρόσβαση στα δεδομένα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4764240"/>
            <a:ext cx="99036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Χρηματορροή Έργου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5549760"/>
            <a:ext cx="2438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171b41"/>
                </a:solidFill>
                <a:latin typeface="Arial"/>
              </a:rPr>
              <a:t>Έτοιμος για</a:t>
            </a:r>
            <a:r>
              <a:rPr b="1" sz="1400" spc="-1" strike="noStrike">
                <a:solidFill>
                  <a:srgbClr val="171b41"/>
                </a:solidFill>
                <a:latin typeface="Arial"/>
              </a:rPr>
              <a:t> μια απόφαση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4211280" y="381492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7314840" y="379908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Διαπίστευση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 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- Παραδείγματα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1760" y="1752120"/>
            <a:ext cx="3636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Όλα τα μοντέλα διαπιστεύονται μετά από σύγκριση των δεδομένων παρακολούθησης με αυτά του κατασκευαστή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164120" y="1573200"/>
            <a:ext cx="4759200" cy="29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35680" y="1824120"/>
            <a:ext cx="36255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5680" y="3452760"/>
            <a:ext cx="36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35680" y="3046320"/>
            <a:ext cx="36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35680" y="2638440"/>
            <a:ext cx="36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35680" y="2232000"/>
            <a:ext cx="36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35680" y="1824120"/>
            <a:ext cx="36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1824120"/>
            <a:ext cx="3625560" cy="2036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35680" y="1824120"/>
            <a:ext cx="1440" cy="203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78440" y="386064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78440" y="345276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78440" y="304632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78440" y="263844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78440" y="223200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78440" y="182412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35680" y="3860640"/>
            <a:ext cx="36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35680" y="38606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62520" y="38606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89720" y="38606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207200" y="38606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934400" y="386064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8661240" y="386064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5680" y="3860640"/>
            <a:ext cx="18396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219640" y="3618000"/>
            <a:ext cx="174600" cy="242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394240" y="3317760"/>
            <a:ext cx="184320" cy="300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578560" y="3055680"/>
            <a:ext cx="183960" cy="261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62520" y="2833560"/>
            <a:ext cx="184320" cy="222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946840" y="2638440"/>
            <a:ext cx="174600" cy="195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121440" y="2475000"/>
            <a:ext cx="183960" cy="163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305400" y="2338200"/>
            <a:ext cx="184320" cy="136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89720" y="2222640"/>
            <a:ext cx="174600" cy="115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664320" y="2134800"/>
            <a:ext cx="184320" cy="87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8640" y="2066760"/>
            <a:ext cx="183960" cy="684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032600" y="2028600"/>
            <a:ext cx="174600" cy="37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207200" y="1988640"/>
            <a:ext cx="184320" cy="39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91520" y="1979640"/>
            <a:ext cx="183960" cy="9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575480" y="1969560"/>
            <a:ext cx="18432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9800" y="1969920"/>
            <a:ext cx="17460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34400" y="1969920"/>
            <a:ext cx="18396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18360" y="1969920"/>
            <a:ext cx="184320" cy="19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2680" y="1989000"/>
            <a:ext cx="174600" cy="19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77280" y="2008080"/>
            <a:ext cx="183960" cy="30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64320" y="2154240"/>
            <a:ext cx="184320" cy="381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848640" y="2134800"/>
            <a:ext cx="183960" cy="19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032600" y="2095560"/>
            <a:ext cx="174600" cy="396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07200" y="2066760"/>
            <a:ext cx="184320" cy="28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391520" y="2037960"/>
            <a:ext cx="183960" cy="28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75480" y="2028960"/>
            <a:ext cx="184320" cy="936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759800" y="2008080"/>
            <a:ext cx="174600" cy="208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934400" y="1988640"/>
            <a:ext cx="183960" cy="19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118360" y="1969560"/>
            <a:ext cx="184320" cy="190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2680" y="1969920"/>
            <a:ext cx="174600" cy="1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477280" y="1969920"/>
            <a:ext cx="183960" cy="1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35880" y="2163600"/>
            <a:ext cx="475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19840" y="2125800"/>
            <a:ext cx="475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04160" y="2104920"/>
            <a:ext cx="4896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78760" y="2066760"/>
            <a:ext cx="475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62720" y="2038320"/>
            <a:ext cx="4788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2008080"/>
            <a:ext cx="493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31000" y="1998720"/>
            <a:ext cx="4932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5600" y="1979640"/>
            <a:ext cx="47880" cy="49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89920" y="1960560"/>
            <a:ext cx="493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73880" y="1941480"/>
            <a:ext cx="493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48840" y="1941480"/>
            <a:ext cx="475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32800" y="1941480"/>
            <a:ext cx="49320" cy="47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08360" y="375444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01800" y="334656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1800" y="294012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1800" y="253224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01800" y="212580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95600" y="171756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00680" y="4025880"/>
            <a:ext cx="276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848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9568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316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40360" y="4025880"/>
            <a:ext cx="383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19680" y="402588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47480" y="4248000"/>
            <a:ext cx="226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Ποσοστό παροχής ροής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3711240" y="2741760"/>
            <a:ext cx="122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"/>
              </a:rPr>
              <a:t>Απόδοση (%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64120" y="1573200"/>
            <a:ext cx="4759200" cy="2965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16000" y="3216240"/>
            <a:ext cx="299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Καμπύλες </a:t>
            </a:r>
            <a:r>
              <a:rPr b="0" sz="1400" spc="-1" strike="noStrike">
                <a:solidFill>
                  <a:srgbClr val="171b41"/>
                </a:solidFill>
                <a:latin typeface="Arial"/>
              </a:rPr>
              <a:t>Απόδοσης Υδροστροβίλω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24520" y="3483000"/>
            <a:ext cx="264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RETScreen έναντι Κατασκευαστή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00560" y="2309760"/>
            <a:ext cx="1095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38360" y="2328840"/>
            <a:ext cx="98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RETScree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94680" y="2076480"/>
            <a:ext cx="1154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08360" y="2133720"/>
            <a:ext cx="1323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Arial"/>
              </a:rPr>
              <a:t>Κατασκευαστής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5960" y="3733920"/>
            <a:ext cx="3886200" cy="26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6394320"/>
            <a:ext cx="3894120" cy="1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Tahoma"/>
              </a:rPr>
              <a:t>Σύγκριση Παραγωγής ΦΒ Ενέργειας υπολογιζόμενη με RETScreen και HOM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5960" y="3733920"/>
          <a:ext cx="3886200" cy="2649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960" y="3733920"/>
                    <a:ext cx="3886200" cy="2649240"/>
                  </a:xfrm>
                  <a:prstGeom prst="rect">
                    <a:avLst/>
                  </a:prstGeom>
                  <a:ln w="9360">
                    <a:solidFill>
                      <a:srgbClr val="ffb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572000" y="5181480"/>
            <a:ext cx="380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και/ή μετά από σύγκριση με ωριαία εργαλεία προσομοίωση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6095880"/>
            <a:ext cx="34290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Ιαν    Φεβ   Μαρτ   Απρ   Μαι    Ιουν  Ιουλ    Αυγ   Σεπτ   Οκτ    Νοε    Δεκ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6240600"/>
            <a:ext cx="53352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" spc="-1" strike="noStrike">
                <a:solidFill>
                  <a:srgbClr val="000000"/>
                </a:solidFill>
                <a:latin typeface="Arial"/>
              </a:rPr>
              <a:t>Μήνας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418680" y="4835880"/>
            <a:ext cx="761760" cy="23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" spc="-1" strike="noStrike">
                <a:solidFill>
                  <a:srgbClr val="000000"/>
                </a:solidFill>
                <a:latin typeface="Arial"/>
              </a:rPr>
              <a:t>Ισχύς ΦΒ (kWh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8508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b900"/>
                </a:solidFill>
                <a:latin typeface="Tahoma"/>
              </a:rPr>
              <a:t>Επίδειξη λογισμικού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800" spc="-1" strike="noStrike">
                <a:solidFill>
                  <a:srgbClr val="ffb900"/>
                </a:solidFill>
                <a:latin typeface="Tahoma"/>
              </a:rPr>
              <a:t>(Παράδειγμα έργου Αιολικής Ενέργειας)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45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37040" y="1662120"/>
            <a:ext cx="306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638" t="0" r="638" b="0"/>
          <a:stretch/>
        </p:blipFill>
        <p:spPr>
          <a:xfrm>
            <a:off x="371520" y="1504800"/>
            <a:ext cx="8670960" cy="52740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457200" y="1905120"/>
            <a:ext cx="30481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171b41"/>
                </a:solidFill>
                <a:latin typeface="Arial"/>
              </a:rPr>
              <a:t>Πέντε βήματα</a:t>
            </a:r>
            <a:r>
              <a:rPr b="0" sz="1500" spc="-1" strike="noStrike">
                <a:solidFill>
                  <a:srgbClr val="171b41"/>
                </a:solidFill>
                <a:latin typeface="Arial"/>
              </a:rPr>
              <a:t> Πρότυπης Ανάλυσης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2432160"/>
            <a:ext cx="83808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Ενεργειακό Μοντέλο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78200" y="2438280"/>
            <a:ext cx="76176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Κόστου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43828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ΑΤ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5840" y="2244600"/>
            <a:ext cx="76176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Χρηματο-οικονομική Περίληψ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59800" y="2244600"/>
            <a:ext cx="9144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Arial"/>
              </a:rPr>
              <a:t>Ανάλυση Ευαισθησίας &amp; Κινδύνο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24120" y="3809880"/>
            <a:ext cx="175284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cc99ff"/>
                </a:solidFill>
                <a:latin typeface="Arial"/>
              </a:rPr>
              <a:t>Πατήστε στους μπλε συνδέσμους ή την εικόνα για πρόσβαση στα δεδομένα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4343400"/>
            <a:ext cx="137160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Υπο-Φυλλο(α) Εργασίας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4800600"/>
            <a:ext cx="25909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171b41"/>
                </a:solidFill>
                <a:latin typeface="Arial"/>
              </a:rPr>
              <a:t>Έτοιμος για</a:t>
            </a:r>
            <a:r>
              <a:rPr b="1" sz="1400" spc="-1" strike="noStrike">
                <a:solidFill>
                  <a:srgbClr val="171b41"/>
                </a:solidFill>
                <a:latin typeface="Arial"/>
              </a:rPr>
              <a:t> μια απόφαση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3971880"/>
            <a:ext cx="990720" cy="12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171b41"/>
                </a:solidFill>
                <a:latin typeface="Arial"/>
              </a:rPr>
              <a:t>Χρηματορροή Έργου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278320"/>
            <a:ext cx="304812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ffffff"/>
                </a:solidFill>
                <a:latin typeface="Arial"/>
              </a:rPr>
              <a:t>Ολοκληρωμένα  Χαρακτηριστικά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5602320"/>
            <a:ext cx="83844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171b41"/>
                </a:solidFill>
                <a:latin typeface="Arial"/>
              </a:rPr>
              <a:t>Μετεωρολογικά Δεδομένα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602320"/>
            <a:ext cx="83844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171b41"/>
                </a:solidFill>
                <a:latin typeface="Arial"/>
              </a:rPr>
              <a:t>Δεδομένα Παραγωγής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5602320"/>
            <a:ext cx="761760" cy="42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800" spc="-1" strike="noStrike">
                <a:solidFill>
                  <a:srgbClr val="171b41"/>
                </a:solidFill>
                <a:latin typeface="Arial"/>
              </a:rPr>
              <a:t>Online Εγχειρίδιο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5486400"/>
            <a:ext cx="1752480" cy="971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Εκπαιδευτικό Σεμινάριο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Μηχανολογικό  Εγχειρίδιο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Περιπτώσεις εφαρμογής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Online Αγορά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171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900" spc="-1" strike="noStrike">
                <a:solidFill>
                  <a:srgbClr val="171b41"/>
                </a:solidFill>
                <a:latin typeface="Arial"/>
              </a:rPr>
              <a:t> </a:t>
            </a:r>
            <a:r>
              <a:rPr b="1" sz="900" spc="-1" strike="noStrike">
                <a:solidFill>
                  <a:srgbClr val="171b41"/>
                </a:solidFill>
                <a:latin typeface="Arial"/>
              </a:rPr>
              <a:t>Διαδυκτιακά Forums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995640" y="298152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7235640" y="2975040"/>
            <a:ext cx="326160" cy="68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8000" tIns="10800" bIns="10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 baseline="-25000">
                <a:solidFill>
                  <a:srgbClr val="99ccff"/>
                </a:solidFill>
                <a:latin typeface="Tahoma"/>
                <a:ea typeface="Tahoma"/>
              </a:rPr>
              <a:t>προαιρετικό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-9360" y="-648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152280"/>
            <a:ext cx="7213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Κωδικοποίηση Χρώματος κελιών 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47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2104920" y="1600200"/>
            <a:ext cx="4753080" cy="294156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95360" y="1968480"/>
            <a:ext cx="8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08320" y="2639880"/>
            <a:ext cx="88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1320" y="3295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6520" y="391176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baseline="-25000">
                <a:solidFill>
                  <a:srgbClr val="171b41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11280" y="4648320"/>
            <a:ext cx="7921440" cy="19080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  <p:sp>
        <p:nvSpPr>
          <p:cNvPr id="280" name=""/>
          <p:cNvSpPr/>
          <p:nvPr/>
        </p:nvSpPr>
        <p:spPr>
          <a:xfrm>
            <a:off x="3429000" y="1676520"/>
            <a:ext cx="228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 u="sng">
                <a:solidFill>
                  <a:srgbClr val="171b41"/>
                </a:solidFill>
                <a:uFillTx/>
                <a:latin typeface="Arial"/>
              </a:rPr>
              <a:t>Κελιά Εισόδου και Εξόδο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2114640"/>
            <a:ext cx="9144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Λευκό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2798640"/>
            <a:ext cx="91440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Κίτρινο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3446640"/>
            <a:ext cx="914400" cy="19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Γαλάζιο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92480" y="4094280"/>
            <a:ext cx="914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300" spc="-1" strike="noStrike">
                <a:solidFill>
                  <a:srgbClr val="171b41"/>
                </a:solidFill>
                <a:latin typeface="Times New Roman"/>
              </a:rPr>
              <a:t>Γκρι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05320" y="2057400"/>
            <a:ext cx="3200400" cy="25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Έξοδος Μοντέλου – υπολογίζονται από το μοντέλ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Είσοδος από Χρήστη – Απαιτείται για το τρέξιμο του μοντέλου</a:t>
            </a:r>
            <a:r>
              <a:rPr b="0" sz="1200" spc="-1" strike="noStrike">
                <a:solidFill>
                  <a:srgbClr val="171b4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Είσοδος από Χρήστη – Απαιτείται για το τρέξιμο του μοντέλου  Διαθέσιμη Online βάση δεδομένων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Είσοδος από Χρήστη – Μόνο για λόγους αναφοράς Δεν απαιτείται για να τρέξει το μοντέλ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459432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440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4400" y="1116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45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459432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-9360" y="-6480"/>
            <a:ext cx="917712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45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594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4594320"/>
            <a:ext cx="2209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rcRect l="2840" t="2388" r="3787" b="2388"/>
          <a:stretch/>
        </p:blipFill>
        <p:spPr>
          <a:xfrm>
            <a:off x="42840" y="608040"/>
            <a:ext cx="8872560" cy="59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Στόχοι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5923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24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Επεξήγηση ρόλου προκαταρκτικών μελετών σκοπιμότητ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ts val="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20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εριγραφή λειτουργίας του λογισμικού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ts val="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24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Επίδειξη του τρόπου με τον οποίο το  RETScreen</a:t>
            </a:r>
            <a:r>
              <a:rPr b="0" sz="20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2400" spc="-1" strike="noStrike">
                <a:solidFill>
                  <a:srgbClr val="ffffff"/>
                </a:solidFill>
                <a:latin typeface="Tahoma"/>
              </a:rPr>
              <a:t> διευκολύνει τον εντοπισμό και την αξιολόγηση πιθανών έργ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2104920"/>
            <a:ext cx="2416320" cy="304812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041720" y="2352600"/>
            <a:ext cx="4721400" cy="349560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356076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Σύγκριση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Βασική Περίπτωση έναντι Προτεινόμενης περίπτωση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Συμβατικό σύστημα έναντι Συστήματος καθαρής ενέργεια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αράδειγμ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Τυπικό κέλυφος κτιρίου με siding και θέρμανση αέρα με φ.αέριο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25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έναντ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ffffff"/>
                </a:solidFill>
                <a:latin typeface="Tahoma"/>
              </a:rPr>
              <a:t>Solarwall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με ηλιακή θέρμανση αέρα συν την συμβατική θέρμανση αέρα με φ. αερίου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406440" y="228600"/>
            <a:ext cx="7365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Λογισμικό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3200"/>
            </a:br>
            <a:r>
              <a:rPr b="1" sz="3200" spc="-1" strike="noStrike">
                <a:solidFill>
                  <a:srgbClr val="ffb900"/>
                </a:solidFill>
                <a:latin typeface="Tahoma"/>
              </a:rPr>
              <a:t>Μέθοδος Οικονομικής Ανάλυση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5670720"/>
            <a:ext cx="342900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Tahoma"/>
              </a:rPr>
              <a:t>Yellowknife School Solarwall Υπό Κατασκευή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24480" y="5816520"/>
            <a:ext cx="267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ahoma"/>
              </a:rPr>
              <a:t>Αναφορά Φωτογραφίας: Arctic Energy Allianc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0" y="1278000"/>
            <a:ext cx="4797360" cy="169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Έργο 20 MW Αιολικής Ενέργεια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3353040" cy="4876920"/>
          </a:xfrm>
          <a:prstGeom prst="rect">
            <a:avLst/>
          </a:prstGeom>
          <a:noFill/>
          <a:ln w="9360">
            <a:solidFill>
              <a:srgbClr val="ffb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Είσοδος/Έξοδο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RETScreen</a:t>
            </a:r>
            <a:r>
              <a:rPr b="0" sz="1800" spc="-1" strike="noStrike" baseline="50000">
                <a:solidFill>
                  <a:srgbClr val="ffffff"/>
                </a:solidFill>
                <a:latin typeface="Tahoma"/>
              </a:rPr>
              <a:t>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3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Τοποθεσία Έργου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Ταχύτητα Ανέμου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Μείωση εκπομπών ΑΤΘ.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Κόστος Ανεμμογεννήτρια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ίστωση παραγωγής ΑΠ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ιστώσεις ΑΤΘ (σταθμός άνθρακα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Περίοδος χρέου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Θετική Χρηματοροή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99960" indent="-39996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Επιστροφή Επένδυση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1600200"/>
            <a:ext cx="2819520" cy="4876920"/>
          </a:xfrm>
          <a:prstGeom prst="rect">
            <a:avLst/>
          </a:prstGeom>
          <a:noFill/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Σενάριο #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ράσινος Σταθμό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Pincher Creek, 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Lethbridge </a:t>
            </a: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 m/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486 tCO</a:t>
            </a:r>
            <a:r>
              <a:rPr b="0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έ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00/k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02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15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2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22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1600200"/>
            <a:ext cx="2438640" cy="4876920"/>
          </a:xfrm>
          <a:prstGeom prst="rect">
            <a:avLst/>
          </a:prstGeom>
          <a:noFill/>
          <a:ln w="9360">
            <a:solidFill>
              <a:srgbClr val="ff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 u="sng">
                <a:solidFill>
                  <a:srgbClr val="ffffff"/>
                </a:solidFill>
                <a:uFillTx/>
                <a:latin typeface="Tahoma"/>
              </a:rPr>
              <a:t>Σενάριο #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Εμπορικός Σταθμός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Kalgary, 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4 μ/δ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123 tCO</a:t>
            </a:r>
            <a:r>
              <a:rPr b="0" sz="1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έ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k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6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ffffff"/>
                </a:solidFill>
                <a:latin typeface="Tahoma"/>
              </a:rPr>
              <a:t>10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42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7 έτ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b900"/>
                </a:solidFill>
                <a:latin typeface="Tahoma"/>
              </a:rPr>
              <a:t>- 7</a:t>
            </a:r>
            <a:r>
              <a:rPr b="1" lang="en-US" sz="16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600" spc="-1" strike="noStrike">
                <a:solidFill>
                  <a:srgbClr val="ffb900"/>
                </a:solidFill>
                <a:latin typeface="Tahom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683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Σενάριο 1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3480" y="1752480"/>
            <a:ext cx="8597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Εμπορικός Σταθμό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Calgary, 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4 μ/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12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έ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0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42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7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- 7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195720" y="3424320"/>
          <a:ext cx="2752560" cy="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95720" y="3424320"/>
                    <a:ext cx="275256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6"/>
          <a:stretch/>
        </p:blipFill>
        <p:spPr>
          <a:xfrm>
            <a:off x="2741760" y="1521000"/>
            <a:ext cx="6154560" cy="50814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2867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Ταχύτητα Ανέμου &amp; Μείωση εκπομπών ΑΤΘ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3480" y="1752120"/>
            <a:ext cx="2501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ράσινος Σταθμό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Pincher Creek, 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Lethbridge </a:t>
            </a:r>
            <a:r>
              <a:rPr b="0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 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0 μ/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sz="1800" spc="-1" strike="noStrike">
                <a:solidFill>
                  <a:srgbClr val="ffffff"/>
                </a:solidFill>
                <a:latin typeface="Tahoma"/>
              </a:rPr>
              <a:t>486 t</a:t>
            </a:r>
            <a:r>
              <a:rPr b="1" sz="1800" spc="-1" strike="noStrike" baseline="-25000">
                <a:solidFill>
                  <a:srgbClr val="ffffff"/>
                </a:solidFill>
                <a:latin typeface="Tahoma"/>
              </a:rPr>
              <a:t>CO</a:t>
            </a:r>
            <a:r>
              <a:rPr b="1" sz="1800" spc="-1" strike="noStrike" baseline="-50000">
                <a:solidFill>
                  <a:srgbClr val="ffffff"/>
                </a:solidFill>
                <a:latin typeface="Tahoma"/>
              </a:rPr>
              <a:t>2</a:t>
            </a:r>
            <a:r>
              <a:rPr b="1" sz="1800" spc="-1" strike="noStrike">
                <a:solidFill>
                  <a:srgbClr val="ffffff"/>
                </a:solidFill>
                <a:latin typeface="Tahoma"/>
              </a:rPr>
              <a:t>/έ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8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2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0958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3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3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Κόστος Ανεμογεννήτρια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438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0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6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5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10840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328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800" spc="-1" strike="noStrike">
                <a:solidFill>
                  <a:srgbClr val="ffb900"/>
                </a:solidFill>
                <a:latin typeface="Tahoma"/>
              </a:rPr>
              <a:t>Πίστωση παραγωγής ΑΠΕ</a:t>
            </a:r>
            <a:endParaRPr b="1" lang="en-US" sz="28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438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02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kW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1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17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7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08284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97000" y="179280"/>
            <a:ext cx="8453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17880" y="152280"/>
            <a:ext cx="4520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1600" y="1251000"/>
            <a:ext cx="85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960" y="2144880"/>
            <a:ext cx="2243160" cy="10998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Προκαταρκτικ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3284640"/>
            <a:ext cx="2243160" cy="11001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267080"/>
            <a:ext cx="2849400" cy="11257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πτυξη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Μελέτη Σχεδιασμο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5181480"/>
            <a:ext cx="2362320" cy="11829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Κατασκευή &amp;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Arial"/>
              </a:rPr>
              <a:t> θέση σ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λειτουργ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735440"/>
            <a:ext cx="48769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ffff"/>
                </a:solidFill>
                <a:uFillTx/>
                <a:latin typeface="Tahoma"/>
              </a:rPr>
              <a:t>Σημαντικά εμπόδια</a:t>
            </a:r>
            <a:r>
              <a:rPr b="1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Έργα καθαρής ενέργειας που δεν συνηθίζεται να λαμβάνονται υπόψη εκ των προτέρων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97040" y="3440160"/>
            <a:ext cx="209520" cy="1219320"/>
          </a:xfrm>
          <a:prstGeom prst="upArrow">
            <a:avLst>
              <a:gd name="adj1" fmla="val 50000"/>
              <a:gd name="adj2" fmla="val 145490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310400">
            <a:off x="1476360" y="3744720"/>
            <a:ext cx="193680" cy="1450800"/>
          </a:xfrm>
          <a:prstGeom prst="upArrow">
            <a:avLst>
              <a:gd name="adj1" fmla="val 50000"/>
              <a:gd name="adj2" fmla="val 187268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0"/>
            <a:ext cx="683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Διαδικασία Εφαρμογής Ενεργειακού Έργο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324480" y="2049480"/>
            <a:ext cx="243864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83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ιστώσεις εκπομπών ΑΤΘ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438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1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$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/το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5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20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10192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177840"/>
            <a:ext cx="683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πίδειξη Λογισμικού</a:t>
            </a:r>
            <a:r>
              <a:rPr b="1" sz="2800" spc="-1" strike="noStrike">
                <a:solidFill>
                  <a:srgbClr val="ffb900"/>
                </a:solidFill>
                <a:latin typeface="Tahoma"/>
              </a:rPr>
              <a:t> </a:t>
            </a:r>
            <a:br>
              <a:rPr sz="28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Περίοδος χρέου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1828800"/>
            <a:ext cx="2743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1828800"/>
            <a:ext cx="2514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 u="sng">
                <a:solidFill>
                  <a:srgbClr val="ffffff"/>
                </a:solidFill>
                <a:uFillTx/>
                <a:latin typeface="Tahoma"/>
              </a:rPr>
              <a:t>Σενάριο #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15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2 έ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9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b900"/>
                </a:solidFill>
                <a:latin typeface="Tahoma"/>
              </a:rPr>
              <a:t>22</a:t>
            </a:r>
            <a:r>
              <a:rPr b="1" lang="en-US" sz="1800" spc="-1" strike="noStrike">
                <a:solidFill>
                  <a:srgbClr val="ffb900"/>
                </a:solidFill>
                <a:latin typeface="Tahoma"/>
              </a:rPr>
              <a:t>,</a:t>
            </a:r>
            <a:r>
              <a:rPr b="1" sz="1800" spc="-1" strike="noStrike">
                <a:solidFill>
                  <a:srgbClr val="ffb900"/>
                </a:solidFill>
                <a:latin typeface="Tahoma"/>
              </a:rPr>
              <a:t>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2741760" y="1521000"/>
            <a:ext cx="6154560" cy="5100480"/>
          </a:xfrm>
          <a:prstGeom prst="rect">
            <a:avLst/>
          </a:prstGeom>
          <a:ln w="9360">
            <a:solidFill>
              <a:srgbClr val="ffb900"/>
            </a:solidFill>
            <a:miter/>
          </a:ln>
        </p:spPr>
      </p:pic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11412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?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717640" y="38862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4699080" y="3886200"/>
            <a:ext cx="1828800" cy="1787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4699080" y="2057400"/>
            <a:ext cx="1904760" cy="17906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6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2643120" y="1974960"/>
            <a:ext cx="40626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Ερωτήσεις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28520" y="2514240"/>
            <a:ext cx="52657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οιο είναι το αποδεκτό επίπεδο ακρίβειας για την εκτίμηση του κόστους ενός έργου 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191120"/>
            <a:ext cx="53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Πόσο κοστίζουν συνήθως αυτές οι μελέτες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57200" y="2058840"/>
            <a:ext cx="3019320" cy="327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8080"/>
                </a:solidFill>
                <a:latin typeface="Tahoma"/>
              </a:rPr>
              <a:t>Δίλημμα για την Ακρίβεια έναντι του Κόστους Επένδυσ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803" t="7963" r="1205" b="613"/>
          <a:stretch/>
        </p:blipFill>
        <p:spPr>
          <a:xfrm>
            <a:off x="93600" y="1123920"/>
            <a:ext cx="8799480" cy="55450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4427640" y="5373720"/>
            <a:ext cx="4218840" cy="762840"/>
            <a:chOff x="4427640" y="5373720"/>
            <a:chExt cx="4218840" cy="762840"/>
          </a:xfrm>
        </p:grpSpPr>
        <p:sp>
          <p:nvSpPr>
            <p:cNvPr id="102" name=""/>
            <p:cNvSpPr/>
            <p:nvPr/>
          </p:nvSpPr>
          <p:spPr>
            <a:xfrm>
              <a:off x="5267880" y="5676840"/>
              <a:ext cx="337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100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$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 έως 1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000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.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000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 $</a:t>
              </a:r>
              <a:r>
                <a:rPr b="1" sz="2400" spc="-1" strike="noStrike">
                  <a:solidFill>
                    <a:srgbClr val="ff3300"/>
                  </a:solidFill>
                  <a:latin typeface="Arial"/>
                </a:rPr>
                <a:t>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427640" y="5907240"/>
              <a:ext cx="76176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884840" y="5373720"/>
              <a:ext cx="380880" cy="380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505680" y="640080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171b41"/>
                </a:solidFill>
                <a:latin typeface="Arial"/>
              </a:rPr>
              <a:t>Χρόνο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876920"/>
            <a:ext cx="2133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Μελέτη σκοπιμότητας,                   ακρίβεια +/- 15% έως 25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715000"/>
            <a:ext cx="2133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171b41"/>
                </a:solidFill>
                <a:latin typeface="Arial"/>
              </a:rPr>
              <a:t>Προ-μελέτη σκοπιμότητας,                   ακρίβεια +/- 40% έως 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97000" y="179280"/>
            <a:ext cx="84531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17880" y="152280"/>
            <a:ext cx="4520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1600" y="1251000"/>
            <a:ext cx="85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760" y="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Πότε πρέπει να αξιολογούνται τεχνολογίες καθαρής ενέργειας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1560" y="2144880"/>
            <a:ext cx="2243160" cy="10998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Προκαταρκτικ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49480" y="3135240"/>
            <a:ext cx="2243160" cy="11001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Ανάλυσ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Arial"/>
              </a:rPr>
              <a:t>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560" y="4964040"/>
            <a:ext cx="3248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Tahoma"/>
              </a:rPr>
              <a:t>Προκαταρκτικές Μελέτες Σκοπιμ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560" y="3516480"/>
            <a:ext cx="209520" cy="1218960"/>
          </a:xfrm>
          <a:prstGeom prst="upArrow">
            <a:avLst>
              <a:gd name="adj1" fmla="val 50000"/>
              <a:gd name="adj2" fmla="val 145447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4310400">
            <a:off x="1280520" y="3820680"/>
            <a:ext cx="193680" cy="1451160"/>
          </a:xfrm>
          <a:prstGeom prst="upArrow">
            <a:avLst>
              <a:gd name="adj1" fmla="val 50000"/>
              <a:gd name="adj2" fmla="val 187314"/>
            </a:avLst>
          </a:prstGeom>
          <a:solidFill>
            <a:srgbClr val="ffb900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8288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Απαίτηση για ενεργειακό σύστη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Νέα κατασκευή ή προγραμματιζόμενη ανακαίνι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Υψηλά συμβατικά ενεργειακά κόστ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Ενδιαφέρον από επενδυτέ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Πιθανές εγκρίσει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Διαθέσιμο Κεφάλαιο &amp; χρηματοδότη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70000"/>
              </a:lnSpc>
              <a:spcBef>
                <a:spcPts val="499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Tahoma"/>
              </a:rPr>
              <a:t>Καλές τοπικές πηγές καθαρής ενέργειας, κλ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81680" y="1816200"/>
            <a:ext cx="2070360" cy="435600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ιωσιμότητα Έργου 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(Πάρκο Αιολικής Ενέργειας)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ασίζεται σε διάφορους παράγοντες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1729440"/>
            <a:ext cx="20574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536996"/>
                </a:solidFill>
                <a:latin typeface="Tahoma"/>
              </a:rPr>
              <a:t>Ανεμογεννήτρια &amp; Πυλώνα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594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ηγή ενέργειας διαθέσιμη στο χώρο του έργο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Ταχύτητα ανέμο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Επίδοση Εξοπλισμού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Καμπύλη ισχύος ανεμογεννήτρια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5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Αρχικά κόστη έργου</a:t>
            </a:r>
            <a:r>
              <a:rPr b="1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ανεμογεννήτριες, πυλώνες, μελέτη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50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ιστώσεις “βασικής περίπτωσης” </a:t>
            </a:r>
            <a:r>
              <a:rPr b="1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Γεννήτριες ντίζελ για απομονωμένες περιοχέ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5000"/>
              </a:lnSpc>
              <a:spcBef>
                <a:spcPts val="19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Συνεχή και περιοδικά κόστη έργου</a:t>
            </a:r>
            <a:r>
              <a:rPr b="0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Καθαρισμός πτερύγων ανεμογεννητριώ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01400" y="17524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Αποφυγή κόστους ενέργειας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γενική τιμή ηλεκτρισμού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Χρηματοδότηση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χρέους  λόγος &amp; διάρκεια, επιτόκιο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Φόροι  σε εξοπλισμό &amp; εισόδημα (ή εξοικονόμηση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88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εριβαλλοντικά χαρακτηριστικά υποκαθιστούμενης ενέργειας</a:t>
            </a:r>
            <a:br>
              <a:rPr sz="2200"/>
            </a:b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άνθρακας, φ.αέριο, πετρέλαιο, Μ.Υδρο/κα, πυρηνική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εριβαλλοντικές πιστώσεις  και/ή επιδοτήσεις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π.χ. Πράσινες τιμές, ποσοστώσεις ΑΘ, επιχορηγήσει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876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ffffff"/>
                </a:solidFill>
                <a:latin typeface="Tahoma"/>
              </a:rPr>
              <a:t>Προσδιορισμός του «οικονομικά αποδεκτού»</a:t>
            </a:r>
            <a:r>
              <a:rPr b="1" sz="2000" spc="-1" strike="noStrike">
                <a:solidFill>
                  <a:srgbClr val="ffffff"/>
                </a:solidFill>
                <a:latin typeface="Tahoma"/>
              </a:rPr>
              <a:t> από τον υπεύθυνο λήψης αποφάσεω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sz="1800" spc="-1" strike="noStrike">
                <a:solidFill>
                  <a:srgbClr val="ffffff"/>
                </a:solidFill>
                <a:latin typeface="Tahoma"/>
              </a:rPr>
              <a:t>(π.χ.  Περίοδος αποπληρωμής, IRR, NPV, κόστος παραγωγής ενέργεια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06080" y="228600"/>
            <a:ext cx="755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ιωσιμότητα Έργου 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(Πάρκο Αιολικής Ενέργειας)</a:t>
            </a:r>
            <a:br>
              <a:rPr sz="2400"/>
            </a:br>
            <a:r>
              <a:rPr b="1" sz="2400" spc="-1" strike="noStrike">
                <a:solidFill>
                  <a:srgbClr val="ffb900"/>
                </a:solidFill>
                <a:latin typeface="Tahoma"/>
              </a:rPr>
              <a:t>Βασίζεται σε διάφορους παράγοντες -συνέχεια</a:t>
            </a:r>
            <a:endParaRPr b="1" lang="en-US" sz="2400" spc="-1" strike="noStrike">
              <a:solidFill>
                <a:srgbClr val="ffb9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58640" y="666756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2707" t="3020" r="8128" b="6022"/>
          <a:stretch/>
        </p:blipFill>
        <p:spPr>
          <a:xfrm>
            <a:off x="5076720" y="1486080"/>
            <a:ext cx="3994200" cy="1831680"/>
          </a:xfrm>
          <a:prstGeom prst="rect">
            <a:avLst/>
          </a:prstGeom>
          <a:ln w="12600">
            <a:solidFill>
              <a:srgbClr val="ffb9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5105520" y="3292560"/>
            <a:ext cx="4064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ffffff"/>
                </a:solidFill>
                <a:latin typeface="Tahoma"/>
              </a:rPr>
              <a:t>Αναφορά Φωτογραφίας: Middelgrunden Wind Turbine Co-operativ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08840" y="1486080"/>
            <a:ext cx="11527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171b41"/>
                </a:solidFill>
                <a:latin typeface="Tahoma"/>
              </a:rPr>
              <a:t>Αιολική Ενέργει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b900"/>
                </a:solidFill>
                <a:latin typeface="Tahoma"/>
              </a:rPr>
              <a:t>Προς τι η χρήση του RETScreen</a:t>
            </a:r>
            <a:r>
              <a:rPr b="1" sz="2800" spc="-1" strike="noStrike" baseline="50000">
                <a:solidFill>
                  <a:srgbClr val="ffb900"/>
                </a:solidFill>
                <a:latin typeface="Arial Black"/>
              </a:rPr>
              <a:t>®</a:t>
            </a:r>
            <a:r>
              <a:rPr b="1" sz="3200" spc="-1" strike="noStrike">
                <a:solidFill>
                  <a:srgbClr val="ffb900"/>
                </a:solidFill>
                <a:latin typeface="Tahoma"/>
              </a:rPr>
              <a:t> ;</a:t>
            </a:r>
            <a:endParaRPr b="1" lang="en-US" sz="3200" spc="-1" strike="noStrike">
              <a:solidFill>
                <a:srgbClr val="ffb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01400" y="1752480"/>
            <a:ext cx="752292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Απλοποιούνται οι προκαταρκτικές αξιολογήσει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Απαιτούνται σχετικά λίγα δεδομένα από τον χρήστ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ffb9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Tahoma"/>
              </a:rPr>
              <a:t>Υπολογίζει αυτόματα βασικούς τεχνικούς                                και οικονομικούς δείκτε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ο κόστος ανέρχεται στο 1/10 του ποσού               άλλων μεθόδων αξιολόγηση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Τυποποιημένες διαδικασίες επιτρέπουν αντικειμενικές συγκρίσεις </a:t>
            </a:r>
            <a:br>
              <a:rPr sz="2400"/>
            </a:br>
            <a:r>
              <a:rPr b="0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b900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ahoma"/>
              </a:rPr>
              <a:t>Αυξάνεται το δυναμικό για επιτυχή εφαρμογή έργων καθαρής ενέργει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16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682680" y="6629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ffffff"/>
                </a:solidFill>
                <a:latin typeface="Times New Roman"/>
              </a:rPr>
              <a:t>© Υπουργός Φυσικών Πόρων Καναδά 2001 – 2005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84872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716880" y="2438280"/>
            <a:ext cx="1055520" cy="301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4:38:34Z</dcterms:created>
  <dc:creator>RETScreen International</dc:creator>
  <dc:description/>
  <dc:language>en-US</dc:language>
  <cp:lastModifiedBy>Kevin Bourque</cp:lastModifiedBy>
  <cp:lastPrinted>2002-05-08T22:09:59Z</cp:lastPrinted>
  <dcterms:modified xsi:type="dcterms:W3CDTF">2005-05-27T14:23:51Z</dcterms:modified>
  <cp:revision>374</cp:revision>
  <dc:subject/>
  <dc:title>Renewable Energy Project Analysis with RETScreen Software</dc:title>
</cp:coreProperties>
</file>