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9C8-E69F-42A5-90DA-F36AADB2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F6E-E82D-4779-84B1-D3091020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F86-C6F4-4E5B-983A-13FC5D75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316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316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ADB-DC83-494C-9ABF-3013DDA3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71C-53A5-47CB-8CC8-73719440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243-F616-411C-B01D-C641BDB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202-516A-41C6-A09C-89E560C5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1C8-6163-4454-8762-6672CBC2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729-913D-42FE-B608-208614D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292-A972-45FD-99A7-E6EF98B7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311-0F4D-4A3E-8235-DF4DA78B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C19-AB1C-41F9-919A-CAAD13A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b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b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b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1b41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520" y="62481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60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7249-EFCA-4DC5-BEED-E2349663C6FE}" type="slidenum">
              <a:rPr b="0" lang="en-US" sz="900" spc="-1" strike="noStrike">
                <a:solidFill>
                  <a:srgbClr val="171b41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1866600"/>
            <a:ext cx="42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Σεμινάριο Ανάλυσης Έργων Καθαρής Ενέργειας</a:t>
            </a:r>
            <a:endParaRPr b="1" lang="en-US" sz="1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6858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Arial Black"/>
              </a:rPr>
              <a:t>Περίληψη Εισαγωγικής Λειτουργικής Μονάδ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50880" y="1752480"/>
            <a:ext cx="7593120" cy="136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0" r="0" b="22503"/>
          <a:stretch/>
        </p:blipFill>
        <p:spPr>
          <a:xfrm>
            <a:off x="27000" y="2362320"/>
            <a:ext cx="563400" cy="1771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305920" y="6651720"/>
            <a:ext cx="712800" cy="185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25280" y="6651720"/>
            <a:ext cx="2465640" cy="193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9144000" cy="169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523880" cy="1500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6200" y="5288040"/>
            <a:ext cx="212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imes New Roman"/>
              </a:rPr>
              <a:t>Αναφορά Φωτογραφίας</a:t>
            </a:r>
            <a:r>
              <a:rPr b="0" sz="900" spc="-1" strike="noStrike">
                <a:solidFill>
                  <a:srgbClr val="ffffff"/>
                </a:solidFill>
                <a:latin typeface="Tahoma"/>
              </a:rPr>
              <a:t> : Nordex Gmbh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36560" y="2340000"/>
            <a:ext cx="4191120" cy="296712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105520" y="2324160"/>
            <a:ext cx="3886200" cy="369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υμπεράσματα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Οι τεχνολογίες καθαρής ενέργειας έχουν ωριμάσει, υφίστανται πολλές οικονομικά αποδοτικές εφαρμογές και οι αγορές αναπτύσσονται ραγδαί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Το αρχικό στάδιο σχεδιασμού είναι αυτό στο οποίο πρέπει να ληφθούν υπόψη οι τεχνολογίες καθαρής ενέργειας από τους υπεύθυνους σχεδιασμού, λήψης αποφάσεων και τη βιομηχανί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1800" spc="-1" strike="noStrike" baseline="50000">
                <a:solidFill>
                  <a:srgbClr val="ffffff"/>
                </a:solidFill>
                <a:latin typeface="Tahoma"/>
                <a:ea typeface="Arial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απλοποιεί τις προκαταρκτικές αξιολογήσει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ts val="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876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παιτεί σχετικά λίγα δεδομένα εισαγωγή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Υπολογίζει αυτόματα τεχνικούς και οικονομικούς δείκτες-κλειδιά βιωσιμότητα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Κοστίζει 1/10 του ποσού άλλων μεθόδων αξιολόγησης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Τυποποιημένες διαδικασίες επιτρέπουν αντικειμενικές συγκρίσει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υξάνει τις δυνατότητες για επιτυχή εφαρμογή έργων καθαρής ενέργεια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858000" y="3505320"/>
            <a:ext cx="2209680" cy="130788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έκταση της βάσης χρηστών του  λογισμικού RETScre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03200" y="1846440"/>
            <a:ext cx="8639280" cy="42494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γαλείο Υποστήριξης Αποφάσεων &amp; Ανάπτυξης Ικανοτήτ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rcRect l="0" t="1412" r="685" b="1412"/>
          <a:stretch/>
        </p:blipFill>
        <p:spPr>
          <a:xfrm>
            <a:off x="401760" y="1847880"/>
            <a:ext cx="8658000" cy="41371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Κοινή Πλατφόρμα για Αξιολόγηση &amp; Ανάπτυξη Έργ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340000" y="1515960"/>
            <a:ext cx="5297400" cy="529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57600" y="5486400"/>
            <a:ext cx="2590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Σύμβουλοι   &amp;               Προμηθευτές Προϊόντων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276640"/>
            <a:ext cx="1769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Χρηματοδότες &amp; Δανειστές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3581280"/>
            <a:ext cx="12952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Ρυθμιστικές Αρχές &amp; Σχεδιαστές πολιτική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784680"/>
            <a:ext cx="144756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Σχεδιαστές  Κατασκευαστές, &amp; Ιδιοκτήτε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000" y="3822840"/>
            <a:ext cx="143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RET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60958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sz="2800" spc="-1" strike="noStrike">
                <a:solidFill>
                  <a:srgbClr val="ffffff"/>
                </a:solidFill>
                <a:latin typeface="Tahoma"/>
              </a:rPr>
              <a:t>www.retscreen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rcRect l="0" t="0" r="0" b="11810"/>
          <a:stretch/>
        </p:blipFill>
        <p:spPr>
          <a:xfrm>
            <a:off x="1187280" y="1700280"/>
            <a:ext cx="6751800" cy="430056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38:34Z</dcterms:created>
  <dc:creator>RETScreen International</dc:creator>
  <dc:description/>
  <dc:language>en-US</dc:language>
  <cp:lastModifiedBy>Kevin Bourque</cp:lastModifiedBy>
  <cp:lastPrinted>2002-05-08T22:09:59Z</cp:lastPrinted>
  <dcterms:modified xsi:type="dcterms:W3CDTF">2005-05-27T14:37:14Z</dcterms:modified>
  <cp:revision>213</cp:revision>
  <dc:subject/>
  <dc:title>Summary of Module 1</dc:title>
</cp:coreProperties>
</file>