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7.png" ContentType="image/png"/>
  <Override PartName="/ppt/media/image42.wmf" ContentType="image/x-wmf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5.wmf" ContentType="image/x-wmf"/>
  <Override PartName="/ppt/media/image40.jpeg" ContentType="image/jpeg"/>
  <Override PartName="/ppt/media/image28.png" ContentType="image/png"/>
  <Override PartName="/ppt/media/image38.jpeg" ContentType="image/jpeg"/>
  <Override PartName="/ppt/media/image43.wmf" ContentType="image/x-wmf"/>
  <Override PartName="/ppt/media/image44.wmf" ContentType="image/x-wmf"/>
  <Override PartName="/ppt/media/image45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8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79CF5D-ACEB-4877-B8C9-E89A279F6D4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B1052DC-3FB5-4CCB-80BC-A85ECE5EC260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146-C5F2-475C-906A-C495D8F1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4E4-0F5F-46E6-BDE6-9B8EA8C3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035-7ECC-4E49-B6A5-BF3E23A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0F3-E507-4052-ADCC-D3EA1F44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94C-8681-45AC-B5E2-4F39729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6F7-B390-41BC-9F40-04B2F27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4D1-8B69-4751-837F-4B515353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8E0-FD77-4BA9-99F7-FB98408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103-C0A6-4C36-ACE7-8312F9B2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9C5-124D-47E0-B0D8-D5025160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255-C9D8-4681-BDFE-92AC796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5A7-D588-4184-9803-138DE7C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5B7F-AA77-4B68-B50C-5A3DB1D2B467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8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602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Ανάλυση Έργων Καθαρής Ενέργειας με το λογισμικό RETScreen</a:t>
            </a:r>
            <a:r>
              <a:rPr b="1" sz="2800" spc="-1" strike="noStrike" baseline="36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rcRect l="638" t="5300" r="638" b="31815"/>
          <a:stretch/>
        </p:blipFill>
        <p:spPr>
          <a:xfrm>
            <a:off x="762120" y="2666880"/>
            <a:ext cx="8280360" cy="31687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38080" y="2781360"/>
            <a:ext cx="2971800" cy="53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27024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9000" y="3270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327672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75520" y="308628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3800" y="30924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30440" y="511164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75040" y="4629240"/>
            <a:ext cx="17524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764240"/>
            <a:ext cx="9903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549760"/>
            <a:ext cx="2438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211280" y="38149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7314840" y="379908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πίστευση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 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- Παραδείγ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1760" y="1752120"/>
            <a:ext cx="363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Όλα τα μοντέλα διαπιστεύονται μετά από σύγκριση των δεδομένων παρακολούθησης με αυτά του κατασκευαστή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5680" y="345276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35680" y="304632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5680" y="263844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35680" y="223200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35680" y="182412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5680" y="1824120"/>
            <a:ext cx="1440" cy="203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78440" y="38606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78440" y="34527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8440" y="30463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78440" y="26384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8440" y="22320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8440" y="18241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5680" y="386064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3568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6252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8972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0720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93440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66124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5680" y="386064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19640" y="3618000"/>
            <a:ext cx="174600" cy="242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94240" y="3317760"/>
            <a:ext cx="184320" cy="30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78560" y="3055680"/>
            <a:ext cx="183960" cy="261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62520" y="2833560"/>
            <a:ext cx="184320" cy="22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946840" y="2638440"/>
            <a:ext cx="174600" cy="195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21440" y="2475000"/>
            <a:ext cx="183960" cy="163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05400" y="2338200"/>
            <a:ext cx="184320" cy="136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89720" y="2222640"/>
            <a:ext cx="174600" cy="11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64320" y="2134800"/>
            <a:ext cx="184320" cy="87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8640" y="2066760"/>
            <a:ext cx="183960" cy="68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032600" y="2028600"/>
            <a:ext cx="174600" cy="37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07200" y="1988640"/>
            <a:ext cx="184320" cy="39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1979640"/>
            <a:ext cx="1839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575480" y="1969560"/>
            <a:ext cx="18432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9800" y="1969920"/>
            <a:ext cx="17460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34400" y="196992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360" y="1969920"/>
            <a:ext cx="18432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2680" y="1989000"/>
            <a:ext cx="17460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77280" y="2008080"/>
            <a:ext cx="183960" cy="3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64320" y="2154240"/>
            <a:ext cx="184320" cy="381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848640" y="213480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032600" y="2095560"/>
            <a:ext cx="174600" cy="396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07200" y="2066760"/>
            <a:ext cx="184320" cy="28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391520" y="2037960"/>
            <a:ext cx="183960" cy="28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75480" y="2028960"/>
            <a:ext cx="184320" cy="9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59800" y="2008080"/>
            <a:ext cx="174600" cy="208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34400" y="198864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18360" y="1969560"/>
            <a:ext cx="18432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2680" y="1969920"/>
            <a:ext cx="17460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77280" y="1969920"/>
            <a:ext cx="18396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35880" y="216360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19840" y="212580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04160" y="2104920"/>
            <a:ext cx="4896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206676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62720" y="2038320"/>
            <a:ext cx="4788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200808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31000" y="199872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5600" y="1979640"/>
            <a:ext cx="4788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89920" y="196056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7388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8840" y="194148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3280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08360" y="37544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01800" y="3346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1800" y="29401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1800" y="25322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1800" y="212580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95600" y="17175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0680" y="402588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84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956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31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403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19680" y="40258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47480" y="4248000"/>
            <a:ext cx="226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Ποσοστό παροχής ροής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711240" y="274176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Απόδοση (%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16000" y="3216240"/>
            <a:ext cx="299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Καμπύλες 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Απόδοσης Υδροστροβίλω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4520" y="3483000"/>
            <a:ext cx="26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TScreen έναντι Κατασκευαστ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00560" y="2309760"/>
            <a:ext cx="1095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38360" y="2328840"/>
            <a:ext cx="98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RETScre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94680" y="2076480"/>
            <a:ext cx="1154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8360" y="2133720"/>
            <a:ext cx="132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Κατασκευαστή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" y="3733920"/>
            <a:ext cx="38862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6394320"/>
            <a:ext cx="389412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Tahoma"/>
              </a:rPr>
              <a:t>Σύγκριση Παραγωγής ΦΒ Ενέργειας υπολογιζόμενη με RETScreen και HOM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5960" y="3733920"/>
          <a:ext cx="3886200" cy="264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3733920"/>
                    <a:ext cx="3886200" cy="2649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572000" y="51814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και/ή μετά από σύγκριση με ωριαία εργαλεία προσομοίωση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095880"/>
            <a:ext cx="34290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Ιαν    Φεβ   Μαρτ   Απρ   Μαι    Ιουν  Ιουλ    Αυγ   Σεπτ   Οκτ    Νοε    Δεκ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6240600"/>
            <a:ext cx="53352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Μήνας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8680" y="4835880"/>
            <a:ext cx="761760" cy="2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Ισχύς ΦΒ (kWh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50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Επίδειξη λογισμικού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(Παράδειγμα έργου Αιολικής Ενέργειας)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37040" y="1662120"/>
            <a:ext cx="306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638" t="0" r="638" b="0"/>
          <a:stretch/>
        </p:blipFill>
        <p:spPr>
          <a:xfrm>
            <a:off x="371520" y="1504800"/>
            <a:ext cx="8670960" cy="5274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457200" y="1905120"/>
            <a:ext cx="30481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5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243216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78200" y="2438280"/>
            <a:ext cx="7617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43828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5840" y="224460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59800" y="22446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24120" y="3809880"/>
            <a:ext cx="175284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434340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800600"/>
            <a:ext cx="259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971880"/>
            <a:ext cx="99072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278320"/>
            <a:ext cx="3048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Arial"/>
              </a:rPr>
              <a:t>Ολοκληρωμένα  Χαρακτηριστικά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Μετεωρολογικά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Δεδομένα Παραγωγή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602320"/>
            <a:ext cx="76176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Online Εγχειρίδιο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5486400"/>
            <a:ext cx="1752480" cy="97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Εκπαιδευτικό Σεμινάριο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Μηχανολογικό  Εγχειρίδι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Περιπτώσεις εφαρμογή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Online Αγορά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Διαδυκτιακά Forums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995640" y="29815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235640" y="297504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21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ωδικοποίηση Χρώματος κελιών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47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2104920" y="1600200"/>
            <a:ext cx="4753080" cy="294156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95360" y="19684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8320" y="2639880"/>
            <a:ext cx="88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1320" y="3295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520" y="391176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4648320"/>
            <a:ext cx="7921440" cy="1908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3429000" y="167652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 u="sng">
                <a:solidFill>
                  <a:srgbClr val="171b41"/>
                </a:solidFill>
                <a:uFillTx/>
                <a:latin typeface="Arial"/>
              </a:rPr>
              <a:t>Κελιά Εισόδου και Εξόδ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2114640"/>
            <a:ext cx="914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Λευκ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798640"/>
            <a:ext cx="91440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Κίτριν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3446640"/>
            <a:ext cx="914400" cy="19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αλάζι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92480" y="4094280"/>
            <a:ext cx="914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κρ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057400"/>
            <a:ext cx="320040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Έξοδος Μοντέλου – υπολογίζονται από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</a:t>
            </a:r>
            <a:r>
              <a:rPr b="0" sz="1200" spc="-1" strike="noStrike">
                <a:solidFill>
                  <a:srgbClr val="171b4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  Διαθέσιμη Online βάση δεδομένω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Μόνο για λόγους αναφοράς Δεν απαιτείται για να τρέξει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4400" y="1116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7712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2840" t="2388" r="3787" b="2388"/>
          <a:stretch/>
        </p:blipFill>
        <p:spPr>
          <a:xfrm>
            <a:off x="42840" y="608040"/>
            <a:ext cx="887256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592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εξήγηση ρόλου προκαταρκτικών μελετών σκοπιμότητ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0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εριγραφή λειτουργίας του λογισμικού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ίδειξη του τρόπου με τον οποίο το 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διευκολύνει τον εντοπισμό και την αξιολόγηση πιθανών έργ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2104920"/>
            <a:ext cx="2416320" cy="3048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041720" y="2352600"/>
            <a:ext cx="4721400" cy="34956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56076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Σύγκρισ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Βασική Περίπτωση έναντι Προτεινόμενης περίπτωση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υμβατικό σύστημα έναντι Συστήματος καθαρής ενέργεια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υπικό κέλυφος κτιρίου με siding και θέρμανση αέρα με φ.αέριο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αντ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ffff"/>
                </a:solidFill>
                <a:latin typeface="Tahoma"/>
              </a:rPr>
              <a:t>Solarwall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με ηλιακή θέρμανση αέρα συν την συμβατική θέρμανση αέρα με φ. αερίο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06440" y="22860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Λογισμικό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Μέθοδος Οικονομικής Ανάλ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5670720"/>
            <a:ext cx="342900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Yellowknife School Solarwall Υπό Κατασκευή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5816520"/>
            <a:ext cx="267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Arctic Energy Allian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0" y="1278000"/>
            <a:ext cx="4797360" cy="169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Έργο 20 MW Αιολικής Ενέργε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ίσοδος/Έξοδο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3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οποθεσία Έργ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αχύτητα Ανέμ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Μείωση εκπομπών ΑΤΘ.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Ανεμμογεννήτρια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ίστωση παραγωγής ΑΠ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ιστώσεις ΑΤΘ (σταθμός άνθρακα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ερίοδος χρέου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Θετική Χρηματοροή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Επιστροφή Επένδυση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1600200"/>
            <a:ext cx="281952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 m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86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600200"/>
            <a:ext cx="24386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Kalgary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23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683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Σενάριο 1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3480" y="1752480"/>
            <a:ext cx="8597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Calgary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12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195720" y="3424320"/>
          <a:ext cx="2752560" cy="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5720" y="3424320"/>
                    <a:ext cx="27525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741760" y="1521000"/>
            <a:ext cx="6154560" cy="5081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867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Ταχύτητα Ανέμου &amp; Μείωση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3480" y="1752120"/>
            <a:ext cx="2501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486 t</a:t>
            </a:r>
            <a:r>
              <a:rPr b="1" sz="1800" spc="-1" strike="noStrike" baseline="-25000">
                <a:solidFill>
                  <a:srgbClr val="ffffff"/>
                </a:solidFill>
                <a:latin typeface="Tahoma"/>
              </a:rPr>
              <a:t>CO</a:t>
            </a:r>
            <a:r>
              <a:rPr b="1" sz="1800" spc="-1" strike="noStrike" baseline="-50000">
                <a:solidFill>
                  <a:srgbClr val="ffffff"/>
                </a:solidFill>
                <a:latin typeface="Tahoma"/>
              </a:rPr>
              <a:t>2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8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95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ς Ανεμογεννήτρ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8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Πίστωση παραγωγής ΑΠΕ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8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2846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267080"/>
            <a:ext cx="2849400" cy="11257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πτυξη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Μελέτη Σχεδια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81480"/>
            <a:ext cx="2362320" cy="11829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Κατασκευή &amp;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Arial"/>
              </a:rPr>
              <a:t> θέση σ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λειτουργ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735440"/>
            <a:ext cx="48769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ffff"/>
                </a:solidFill>
                <a:uFillTx/>
                <a:latin typeface="Tahoma"/>
              </a:rPr>
              <a:t>Σημαντικά εμπόδια</a:t>
            </a:r>
            <a:r>
              <a:rPr b="1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Έργα καθαρής ενέργειας που δεν συνηθίζεται να λαμβάνονται υπόψη εκ των προτέρων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7040" y="3440160"/>
            <a:ext cx="209520" cy="1219320"/>
          </a:xfrm>
          <a:prstGeom prst="upArrow">
            <a:avLst>
              <a:gd name="adj1" fmla="val 50000"/>
              <a:gd name="adj2" fmla="val 145490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10400">
            <a:off x="1476360" y="3744720"/>
            <a:ext cx="193680" cy="1450800"/>
          </a:xfrm>
          <a:prstGeom prst="upArrow">
            <a:avLst>
              <a:gd name="adj1" fmla="val 50000"/>
              <a:gd name="adj2" fmla="val 187268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0"/>
            <a:ext cx="683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δικασία Εφαρμογής Ενεργειακού Έργ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24480" y="2049480"/>
            <a:ext cx="2438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ιστώσεις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19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7784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ερίοδος χρέου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04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11412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?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717640" y="38862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4699080" y="3886200"/>
            <a:ext cx="1828800" cy="1787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4699080" y="2057400"/>
            <a:ext cx="1904760" cy="1790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2643120" y="1974960"/>
            <a:ext cx="4062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28520" y="2514240"/>
            <a:ext cx="52657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οιο είναι το αποδεκτό επίπεδο ακρίβειας για την εκτίμηση του κόστους ενός έργου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191120"/>
            <a:ext cx="53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όσο κοστίζουν συνήθως αυτές οι μελέτες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" y="2058840"/>
            <a:ext cx="3019320" cy="32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8080"/>
                </a:solidFill>
                <a:latin typeface="Tahoma"/>
              </a:rPr>
              <a:t>Δίλημμα για την Ακρίβεια έναντι του Κόστους Επένδυ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803" t="7963" r="1205" b="613"/>
          <a:stretch/>
        </p:blipFill>
        <p:spPr>
          <a:xfrm>
            <a:off x="93600" y="1123920"/>
            <a:ext cx="87994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4427640" y="5373720"/>
            <a:ext cx="4218840" cy="762840"/>
            <a:chOff x="4427640" y="5373720"/>
            <a:chExt cx="4218840" cy="762840"/>
          </a:xfrm>
        </p:grpSpPr>
        <p:sp>
          <p:nvSpPr>
            <p:cNvPr id="102" name=""/>
            <p:cNvSpPr/>
            <p:nvPr/>
          </p:nvSpPr>
          <p:spPr>
            <a:xfrm>
              <a:off x="5267880" y="5676840"/>
              <a:ext cx="33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 έως 1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427640" y="590724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884840" y="5373720"/>
              <a:ext cx="380880" cy="380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680" y="64008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Χρόνο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87692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Μελέτη σκοπιμότητας,                   ακρίβεια +/- 15% έως 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71500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Προ-μελέτη σκοπιμότητας,                   ακρίβεια +/- 40% έως 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760" y="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ότε πρέπει να αξιολογούνται τεχνολογίες καθαρής ενέργεια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15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9480" y="31352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4964040"/>
            <a:ext cx="3248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ahoma"/>
              </a:rPr>
              <a:t>Προκαταρκτικές Μελέτες 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560" y="3516480"/>
            <a:ext cx="209520" cy="1218960"/>
          </a:xfrm>
          <a:prstGeom prst="upArrow">
            <a:avLst>
              <a:gd name="adj1" fmla="val 50000"/>
              <a:gd name="adj2" fmla="val 145447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4310400">
            <a:off x="1280520" y="3820680"/>
            <a:ext cx="193680" cy="1451160"/>
          </a:xfrm>
          <a:prstGeom prst="upArrow">
            <a:avLst>
              <a:gd name="adj1" fmla="val 50000"/>
              <a:gd name="adj2" fmla="val 187314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8288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αίτηση για ενεργειακό 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έα κατασκευή ή προγραμματιζόμενη ανακαίνι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Υψηλά συμβατικά ενεργειακά κόστ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νδιαφέρον από επενδυτ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ιθανές εγκρί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ιαθέσιμο Κεφάλαιο &amp; χρηματοδό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λές τοπικές πηγές καθαρής ενέργειας, κ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81680" y="1816200"/>
            <a:ext cx="2070360" cy="43560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1729440"/>
            <a:ext cx="20574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36996"/>
                </a:solidFill>
                <a:latin typeface="Tahoma"/>
              </a:rPr>
              <a:t>Ανεμογεννήτρια &amp; Πυλώνα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ηγή ενέργειας διαθέσιμη στο χώρο του έργο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Ταχύτητα ανέμο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Επίδοση Εξοπλισμού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μπύλη ισχύος ανεμογεννήτρ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ρχικά κόστη έργου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ανεμογεννήτριες, πυλώνες, μελέτ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ιστώσεις “βασικής περίπτωσης” 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νήτριες ντίζελ για απομονωμένες περιοχέ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9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Συνεχή και περιοδικά κόστη έργου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θαρισμός πτερύγων ανεμογεννητριώ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1400" y="17524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ποφυγή κόστους ενέργεια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ική τιμή ηλεκτρισμού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Χρηματοδότηση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χρέους  λόγος &amp; διάρκεια, επιτόκιο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Φόροι  σε εξοπλισμό &amp; εισόδημα (ή εξοικονόμηση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ά χαρακτηριστικά υποκαθιστούμενης ενέργειας</a:t>
            </a:r>
            <a:br>
              <a:rPr sz="2200"/>
            </a:b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άνθρακας, φ.αέριο, πετρέλαιο, Μ.Υδρο/κα, πυρηνική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ές πιστώσεις  και/ή επιδοτήσεις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π.χ. Πράσινες τιμές, ποσοστώσεις ΑΘ, επιχορηγήσει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ροσδιορισμός του «οικονομικά αποδεκτού»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από τον υπεύθυνο λήψης αποφάσε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 Περίοδος αποπληρωμής, IRR, NPV, κόστος παραγωγής ενέργε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755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 -συνέχεια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58640" y="666756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2707" t="3020" r="8128" b="6022"/>
          <a:stretch/>
        </p:blipFill>
        <p:spPr>
          <a:xfrm>
            <a:off x="5076720" y="1486080"/>
            <a:ext cx="3994200" cy="183168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105520" y="3292560"/>
            <a:ext cx="406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Middelgrunden Wind Turbine Co-opera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08840" y="1486080"/>
            <a:ext cx="11527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Αιολική Ενέργει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ς τι η χρήση του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752480"/>
            <a:ext cx="7522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πλοποιούνται οι προκαταρκτικές αξιολογή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αιτούνται σχετικά λίγα δεδομένα από τον χρή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ολογίζει αυτόματα βασικούς τεχνικούς                                και οικονομικούς δείκτ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κόστος ανέρχεται στο 1/10 του ποσού               άλλων μεθόδων αξιολόγη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 </a:t>
            </a:r>
            <a:br>
              <a:rPr sz="2400"/>
            </a:b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υξάνεται το δυναμικό για επιτυχή εφαρμογή έργων καθαρής ενέργει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16880" y="2438280"/>
            <a:ext cx="105552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23:51Z</dcterms:modified>
  <cp:revision>374</cp:revision>
  <dc:subject/>
  <dc:title>Renewable Energy Project Analysis with RETScreen Software</dc:title>
</cp:coreProperties>
</file>