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CD12-6E5B-4BDD-B879-B54D1211DC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B842-6BE2-441F-BBD6-AC7B7B2F134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9BFA9BB-6F0A-4996-96FC-BDA3CEE7129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2B33-1361-4881-ABF0-BCE214DC616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52B8B36-E757-4186-B3DD-276B9D147990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7147-2DF5-4E16-AEEA-9D3DDCA811F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60683A4-7E3E-4EBE-BFC1-F42EFE491B4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804-01A3-4CBE-A927-EF81F9B7EDB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6B75037-5372-4994-B9AD-EB36C597F55C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6EC6-7C14-46AA-84AE-88CADB0DDFA3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7238166-7DC0-4B1A-8A7F-1B08ABE909A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33C3-0600-4080-8BF1-770B8A631B0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74E832D-59E8-4140-8B22-CE5845DEB65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9549-927E-4214-B369-0E30B46E7193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3C94087-AE11-408B-8655-33BE0FC3361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4241-B743-430D-940D-5E35D0FDD46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132F19C-4845-4DC3-9415-94071FF4862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BEB4-6896-4EE1-8673-1B80148FE20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1457DBC-4BDB-466B-9A52-C25B8AF8955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5F63-23D4-4B82-9526-2503563883C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31CC93F-4C25-4E13-A440-469058D4879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60AB-EBAB-43CB-9117-DCD5DE95308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F6B4B4A-679D-4BDA-B900-C8E5879E22C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EF6-DAC5-4CD8-85C5-939D67A5A2F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9F466B1-BEB2-4043-8F4A-B0576930E1E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FA0F-E61E-4D99-A241-9B79B9DA49E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9A47CF5-B167-4724-874F-F2D52D83A1D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2E75-8916-41F9-A6BF-E4431EB8A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0724-16B0-41EF-8846-AB12D161E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5A7E-92AB-4EA4-958A-0B1AA86CB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C472-8C6D-48AC-89AA-F809F961B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D9B94-91BF-47EB-A6AE-4C332B0324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A7CAF-F0FF-445E-83BF-C746CC4989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6080-31DA-424F-B220-1DF730CC7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449AF-6393-4C5C-9064-EB6AF333D9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16133-0640-45C6-8C3B-DAB99964C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3893A-2BE3-4907-A86D-F8D82B0A5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B3F9E-AD84-49BE-8327-25DDA6A56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20FD-BDC2-48AB-8B1F-2C9B7C6CA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B8277-C9BF-4E9C-9AC4-BDFD8DB831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D3130-E60B-4666-BCAF-99FDA7AC01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55933-DC17-4745-9678-C765C25CF7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C3510-713E-40F1-B620-20E282C8FD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11E5-31C9-4AC5-B152-0E61CF491F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B250-ECC9-45FD-833E-0D32D94967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1805-B336-43AB-9159-D46FBD9A7B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742D-826D-4A44-A212-8BD4424DE4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7A0F-2741-4A84-A924-48BCFE02A5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4EF3-8751-4B96-8970-FC9F55589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F82F-8130-4B50-B7E9-51ABA3ABF4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A362-AC4F-414B-A10F-EF658467B7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65E2-3BF2-4547-9EDF-1754F66607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0FBA-4E3D-4DF2-833C-3BCFB18D3D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511B-6C4B-4C7E-B1E0-89D349A28C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E6E8-44D3-4839-A7CC-BF92F93D85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2E6F-90F0-4C3E-AE11-8190A66915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7F71-6D3E-4E1B-B68E-F08B4D8E08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7AD39-19EC-4DBD-8213-32B4A79035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772F8-2193-474D-98CF-41B379E517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0F475-708A-4DD4-B72C-05F2A83F3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F98C-20D2-4AFF-A149-E1EA8797EE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9458C-E9B8-4AAD-83B0-9B03EB2912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02409-0F83-4260-9EBC-3AF82BDF9C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91810-84F3-4299-834A-392488549D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59818-1D00-4604-9EE7-2325C98364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FA67E-B513-4EE1-A941-B1994C6A07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887C2-6818-4579-926B-3771E07641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F2ACA-CC3C-4016-9240-5645928B22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03A98-DB69-41D0-B358-32D74F0CA8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C47B3-6BF8-4015-AAB8-608CBD9D932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95EA8-142B-4BF5-9158-918542596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B09D-3FBA-4EC1-994D-4AFB7242F9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13723-6D21-4956-A6B2-B098E3E42A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00E14-6E8E-4F0E-A937-5B805235F5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2EE0F-D1CC-4ECE-A928-FB5B7BA072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5E954-3E31-4D02-9DD6-B646CE097F8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29047-3213-409B-8485-67A8D45EE7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3C083-8964-48E6-829F-6D2E4FB910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478BE-6B5E-4679-B5E6-C441A08216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C2C38-49EB-47B9-B619-3E8B79EF9C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87448-27BD-40F6-A400-ECD54458D0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39417-29AB-42B2-96DE-096A0065B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BE86-93F9-4FCC-8174-F2F6D8B5852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2AD99-9CA9-4C13-BA7C-0A6846D73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622F-D553-4121-865E-E4092A969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70B8-EB6A-43FD-AC47-351AC1FF6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1DAC-4EE3-43A2-8A42-7832DC957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D4A7-D4FE-4FB4-8A12-0DCA414DB3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2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A6CE-D976-4297-A4FE-C21D326B22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B443-6D9B-45AC-855D-86F31E2589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2D3E-86FA-48A3-A6DD-7CFDAC7E5E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3C28-FAA9-4B3F-9150-A7A31C8C66CB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7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Η φύση της ποι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664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Η ενδιάμεση θέση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Hammersley, 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κριτήριο της ‘εγκυρότητας’ πρέπει να αναδιατυπωθεί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εμπειρική αποτίμηση πρέπει να είναι βάσιμ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Ωστόσο, ο ερευνητής δε μπορεί να έχει άμεση πρόσβαση στην εξωτερική κοινωνική πραγματικότητ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ξιολόγηση της βασιμότητας των ‘αξιώσεων αλήθειας’ του ερευνητ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άρκεια των αποδείξεων, αν αποτελούν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ιστή απεικόνισ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κριτήριο της ‘συνάφειας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συνεισφορά της μελέτης στο επιστημονικό πεδί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73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ι βασικοί προβληματισμοί των ερευνητών στην ποιοτική έρευνα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κόσμος μέσα από τα μάτια των ερευνώμε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αλαμβάνοντας τον ρόλο των άλλ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τανοώντας το νόημα που δίνουν τα άτομα στο περιβάλλον του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η αναμενόμενα ευρήματ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εριγραφή και ανάδειξη του κοινωνικού πλαισί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αλυτική καταγραφή του κοινωνικού πλαισίο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δρές περιγραφέ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υ τι συμβαίνε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ι βασικοί προβληματισμοί των ερευνητών στην ποιοτική έρευνα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μφαση στις κοινωνικές διαδικασ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τρόπος με τον οποίο εκτυλίσσονται διάφορες αλληλουχίες γεγονό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κοινωνικά περιβάλλοντα χαρακτηρίζονται από αλλαγή και ρο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υελιξία και περιορισμένη δομ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ωρίς την ‘εκ των προτέρων μόλυνση’ από τα αυστηρά πλαίσ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αισθητοποιητικές έννοι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νοιες και θεωρίες θεμελιωμένες στα δεδομ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κριτική της ποιοτ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Είναι πολύ υποκειμενική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 ερευνητής αποφασίζει σε τι θα επικεντρώσε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Δύσκολα μπορεί να επαναληφθε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η δομημένη μορφ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Προβλήματα γενίκευσ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α δείγματα δεν είναι «αντιπροσωπευτικά» όλων των μονάδων ανάλυση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Έλλειψη διαφάνει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Συχνά δεν είναι ξεκάθαρο τι ακριβώς έκανε ο ερευνητή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1640" y="232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Έτσι είναι πάντα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να μέρος της κοινωνικής έρευνας βασίζεται στις εξής συμβάσει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Επικεντρώνεται σε ένα συγκεκριμένο ερευνητικό πρόβλημα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ε αντίθεση με τις ευαισθητοποιημένες έννοιες/ τη θεμελιωμένη θεωρία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Πιο δομημένη συλλογή δεδομένων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ωδικοποιημένη ανάλυση συνομιλίας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Πιο δομημένη ανάλυση δεδομένων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λογισμικό ανάλυσης ποιοτικών δεδομένων-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QD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Μεγαλύτερη διαφάνει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0360" y="5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ffffff"/>
                </a:solidFill>
                <a:latin typeface="Arial"/>
              </a:rPr>
              <a:t>Αντιπαράθεση ποιοτικής και ποσοτικής έρευνα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Εικόνα 1" descr=""/>
          <p:cNvPicPr/>
          <p:nvPr/>
        </p:nvPicPr>
        <p:blipFill>
          <a:blip r:embed="rId1"/>
          <a:stretch/>
        </p:blipFill>
        <p:spPr>
          <a:xfrm>
            <a:off x="630360" y="1728720"/>
            <a:ext cx="78562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736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μοιότητες μεταξύ ποιοτικής και ποσ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ιδιώκουν τη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είωση του όγκου των δεδο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σπαθούν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να απαντήσουν σε ερευνητικά ερωτή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σπαθούν να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υνδέσουν την ανάλυση των δεδομένων με την ερευνητική βιβλιογραφ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διαφέρονται  για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διακυμάν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ούν τη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συχνότητα ως αφετηρία για ανάλυ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ιχειρούν να διασφαλίσουν ότι δεν θα υπάρξε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εκούσια αλλοίω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νίζουν τη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ημασία της διαφάνει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μετωπίζουν το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ζήτημα του σφάλ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μετωπίζουν το ζήτημα τη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αλληλότητας των μεθόδων για τα ερευνητικά ερωτή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640" y="3679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φεμινιστική κριτική της ποι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314000"/>
            <a:ext cx="77742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Καταπνίγει τη φωνή των γυναικ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Μετατρέπει τις γυναίκες σε ερευνητικά αντικείμε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Ο έλεγχος των μεταβλητών θεωρείται ότι αντιπροσωπεύει μια ανδρική προσέγγ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Η χρήση προκαθορισμένων κατηγοριών οδηγεί τα ερευνητικά αποτελέσματα στο … ‘να καταπνίγει τη φωνή των γυναικώ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’ (Maynard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γυναίκες μελετώνται με έναν αξιολογικά ουδέτερο τρόπ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9240" y="324000"/>
            <a:ext cx="891216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φεμινιστική προτίμηση για την ποιοτική έρευ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01640" y="1493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κούγεται η φωνή των γυναικ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Περιορίζεται η εκμετάλλευση με την παροχή ανταλλάγματος για ό,τι προσφέρουν στο πεδίο της έρευν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γυναίκε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δε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αντιμετωπίζονται ως αντικείμενα στην εφαρμογή των τεχνικών διαδικασιών του ερευν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Οι χειραφετητικοί στόχοι του φεμινισμού μπορούν να επιτευχθού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6280" y="345600"/>
            <a:ext cx="302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Ωστόσο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75920" y="149364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Πολλές από τις πλέον ακραίες διακρίσεις εις βάρος των γυναικών δεν θα είχαν αναδειχθεί δίχως τη συλλογή και ανάλυση στατιστικών στοιχείων περί διακρίσεω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Maynard 1994; Oakley 199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ίναι δύσκολο να καταλάβει κανείς γιατί η φεμινιστική έρευνα που συνδυάζει την ποσοτική και ποιοτική στρατηγική είναι ασύμβατη με τους σκοπούς του φεμινισμού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Jayaratne and Stewart, 1991 &amp; Maynard, 1994, 199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Η ποιοτική έρευνα δεν έχει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pso fact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εμινιστικό προσανατολισμό και κάποιοι συγγραφείς προτιμούν να γράφουν περί φεμινιστικών ερευνητικών πρακτικών και όχι περί φεμινιστικών μεθόδω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aynard 199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Χαρακτηριστικά της ποι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αγωγική θεώρηση της σχέσης μεταξύ θεωρίας και έρευνα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θεωρίες και οι έννοιες προκύπτουν από τα δεδομέν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ρμηνειοκρατική επιστημολογ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ονστρουκτιβιστική οντολογ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Έμφαση στις λέξεις/κείμενο, παρά στους αριθμού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ικιλία προσεγγίσε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241280" y="277920"/>
            <a:ext cx="76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Εμπειρικά θεμελιωμένη θεωρί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755640" y="15573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εν είναι μια θεωρία καθαυτ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λλά μια προσέγγιση της διαμόρφωσης θεωριών μέσα από τα δεδομέν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συλλογή και η ανάλυση δεδομένων γίνονται ταυτόχρονα, με συνεχή επαλήθευση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χρήσιμη στη διαμόρφωση εννοιώ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16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ρευνητικές μέθοδοι στην ποιοτική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θνογραφία/συμμετοχική παρατήρη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ατεταμένη εγκατάσταση στο πεδί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ιοτικές συνεντεύξ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ε βάθος, ημι-δομημένες ή μη δομημέν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μάδες εστίασ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νάλυση λόγου/συνομιλ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νάλυση κει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α βασικά στάδια της ποιοτ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Εικόνα 1" descr=""/>
          <p:cNvPicPr/>
          <p:nvPr/>
        </p:nvPicPr>
        <p:blipFill>
          <a:blip r:embed="rId1"/>
          <a:stretch/>
        </p:blipFill>
        <p:spPr>
          <a:xfrm>
            <a:off x="297000" y="1587600"/>
            <a:ext cx="86407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ι έννοιες στην ποιοτική έρευ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umer (1954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αντιώθηκε στη χρήση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οριστικών εννοιών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ποιοτική έρευν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τί οι δείκτες «προσδιορίζουν» την έννο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τί τα κοινά σημεία των φαινομένων είναι πιο σημαντικά από την ποικιλία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τάχθηκε υπέρ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των ευαισθητοποιητικών εννοιών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ίνουν μια γενικότερη αίσθηση αναφοράς και καθοδήγ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τρέπουν την αποκάλυψη της ποικιλίας των μορφών των φαιν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ικανές να περιορίζονται σταδια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89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σεγγίσεις για την αξιοπιστία και την εγκυρ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640" y="1429920"/>
            <a:ext cx="77853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ροσαρμογή εννοιών από την ποσοτική έρευ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κρή αλλαγή στο νό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ιότητα, ακρίβεια και ευρύτερες δυνατ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ωτερική αξιοπιστί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ναληψιμότη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σωτερική αξιοπιστί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φωνία μεταξύ των διαφόρων παρατηρητώ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σωτερική εγκυρότη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δεδομένα και οι θεωρίες ταιριάζουν αρκετά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ωτερική εγκυρότητ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ενίκευ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73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Εναλλακτικά κριτήρια</a:t>
            </a:r>
            <a:br>
              <a:rPr sz="32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Guba &amp; Lincoln,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01640" y="14108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ερεγγυ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ιστικότητα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στοιχεί στην εσωτερική εγκυρότη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ασιμότητα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στοιχεί στην αξιοπιστί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ενικευσιμότητα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στοιχεί στην εξωτερική εγκυρότη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αληθευσιμότητα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στοιχεί στην αντικειμενικότη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υθεντικ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ντολογική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λύτερη κατανόηση του κοινωνικού περιβάλλον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δακτική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λύτερη εκτίμηση της οπτικής των άλλ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λυτική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λύτης της αλλαγή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κτική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ίσχυση μελώ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έρευνα παρουσιάζει αμερόληπτα διαφορετικές απόψει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164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Τι είναι η έρευνα δράση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46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ίναι μια αυθεντική ερευνητική μέθοδος που ασχολείται με πραγματικά προβλήματα ενός οργανισμο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ίναι σχεδιασμένη για να βοηθά στην επίλυσή τ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Περιλαμβάνει μια επαναλαμβανόμενη διαδικασία εντοπισμού προβλημάτων, σχεδιασμού, δράσης και αξιολόγ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Ο ερευνητής παίζει ενεργό ρόλο σε όλη τη διάρκε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Συναντάται περισσότερο στην έρευνα για τις επιχειρήσεις και τη διοίκησή τους αλλά και στην εκπαίδευσ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26T20:58:45Z</dcterms:modified>
  <cp:revision>249</cp:revision>
  <dc:subject/>
  <dc:title>No Slide Title</dc:title>
</cp:coreProperties>
</file>