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8F66-6FED-4E26-8863-10F235CDC7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CD01-7FF2-4F3B-992D-B267B6FF5AD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CF22194-3A6E-4F31-B8C1-6041D46FE39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A4DE-18ED-4CE0-8ACD-08908E4C287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DC66C28-6D32-4736-97F4-B18CB8BB8ED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AE2E-E4EA-4BA2-9EC1-ABD52AE3489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A89D869-B0C6-47E1-87DD-C30217079DB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3EC2-83F7-44FB-8BD3-E40DDFD5637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3222452-7E74-4C20-94EB-CE7AD3D6E09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099C-0E02-4A08-968F-A5714430ACB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68AAC63-AA9D-4978-9B72-638E98725FCE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C566-CFE5-4105-A24D-9FBB9A9049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699AAC0-F5AF-4CE1-BC2A-0DC3B9E75D2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8CCB-450B-4864-8BEC-08FA69A9138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6C864DA-282E-4450-9855-208BA558539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48CE-8F56-4F3E-BFAF-4CDBF125B09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6F6555B-D729-4A67-BB8C-A8CAAD747CE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736D-1688-4A44-A54E-B86F1AA45650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6D7176C-C270-43AC-B8BE-856F75982CD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6794-F9B7-431A-9655-AFDB234FA70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25317E1-628B-4994-A54A-9311425A5A1C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8BF2-7F13-4869-AF07-738F19E93AD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ECB42D7-AB33-450D-BFF6-2576FFDA08D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50D-F66C-4C1D-99E3-F2A4DA95DF0B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93E201D-32C3-4B74-B03F-3969593DCBF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1017-A0AB-455B-8789-5A8A9ECA762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01B3FE3-65C6-41C1-90C8-DA82B9DE9FF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F24F-97C0-45D3-8626-94BDC9872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33D5-DD53-465F-947E-75ABA3690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4DD2-EF7C-4A58-9471-A40272B4A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57B5-6B5A-481F-BEEE-C62A424EE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B96C2-1AAF-4E3B-B9B4-9FD319B05E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6CB76-35A1-4158-B8AD-5ED1F74F60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B44AB-875E-4B84-9334-5B86B51BD4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BD03F-F92A-4D9E-9698-4B462E1293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000D2-FA6C-45F1-B75D-36D50C1ADE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47A88-241C-48D2-81B1-223D044B27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F825C-75EA-420A-B3C5-DAD0D4BCE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1AA9-7EFD-4AD8-85B8-2D70EC2F9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75D5F-7075-48AF-ADAC-300804E90A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519CC-A187-4FD7-A140-AEF89067B5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DADFB-E014-4543-9F45-A1F19E1FFD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22EB4-CBA7-4EB3-B592-C4530183C8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096EE-EF52-4E0F-AB60-AD0C581678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8E2C-858A-4D40-A1C4-5943B64C01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3FAE-1DB2-481E-9F14-9606633A15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828A-D40B-4007-9C9F-72A50B4B7B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A40A-B68D-4F68-8371-DB069DF79E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AC79-9C65-4311-BEC9-B17DD9829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B311-64D0-479A-BD83-6755F8C6A0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46AB-2C0E-4D65-A5DD-67E448D989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C47C-F6E8-4699-8FEB-73BE335A64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8152-B4A7-406C-85F2-7AC4D394C5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02F8-0B8A-499A-846B-1649C9B8F4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085C-4C13-451B-BD9D-BC8209FD4C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6912-5DD8-4779-B013-984A547CAE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844D-8D9F-4796-9537-754FC78B45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C0A8A-1F4E-48BA-BFBF-B9C7CC7888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4072D-EF09-4194-9AD8-57F47BBD01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9B261-B0DF-4B6D-84BF-E5CA2F959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87DB-859C-4E3D-BBB4-0470C8CC9A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2BAE5-0047-4098-B1FF-E50793CC8C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45FBD-DAB5-4D9C-912B-FD8998362F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17D7F-AB4D-49DC-B1B7-378C07DA8E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83F41-F3AF-4E7C-BFF8-91B3C84A9D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78ED5-5C1E-427B-8D9C-AC2B6C39DE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D7FD3-70C0-4917-A329-043F5F7D5A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21890-B66C-4224-BDFC-9241E2B410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EF0D0-8378-407C-9F97-CFF589128D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9E9C1-4B7C-4377-93C0-41883B32C9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85C65-7FA6-4403-B9A0-EB96EC785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C55C-3F09-450F-9069-DEFCA7DD40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11FA23-5E74-49BD-8999-4A1D44B0B71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DE1CD-F8E1-492F-9B44-A27897799A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AA581D-3AB8-435D-ADE5-1A87FEC43A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F5387-C756-42E0-9C9B-05F5F35D13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76F80-B8BF-4016-9460-4C75273575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1908AD-B913-4C03-85FD-1118F22975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5981D-1980-40D8-A11A-0E471D9C4F8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2AA69-9AD9-447B-AE43-24207F8485C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70497-8908-480F-AEA5-FE0B577868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BBB09-185D-473E-B0CD-612EEF29F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0EF0-03CD-45D0-A88D-FAC75545BD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70870-F7EB-4D55-9F2B-F11CA3B1A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A83F-5326-4AFC-BBC0-02B9F1261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0362-02A3-4870-BC66-4B85BB895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3C32-EDDE-445C-BEB3-EDB602E61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616-6DCD-45C1-B7A8-40D6EFC67F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06280" y="6534000"/>
            <a:ext cx="380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2506-5AB5-44C5-9135-77367FC45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C75D-44E5-4013-B4E4-AD14F52F83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7D9-356C-4445-BAF7-EA503DFFD6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E002-DAC7-4F31-9601-48D5FC4AB6BF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24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Ανάλυση ποιοτικών δεδομέν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7360" y="27900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κριτική εναντίον της εμπειρικά θεμελιωμένης θεωρί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7360" y="14569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Ο ερευνητής δε μπορεί να θέσει κατά μέρος ό,τι γνωρίζει για τις θεωρίες ή έννοιες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(Bulmer, 197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Οι προτάσεις χρηματοδότησης απαιτούν σαφή δήλωση σκοπών, θεωριών και ερευνητικών ερωτημάτω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Είναι χρονοβόρ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Δεν καταλήγει πάντοτε σε θεωρί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συνήθως δίνει ειδικούς ορισμούς γενικών ζητημάτω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Συγχέει τη χρήση των όρων «έννοια» και «κατηγορία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Κατακερματίζει τα δεδομέν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απώλεια πλαισίου και αφηγηματικής ροής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Coffey &amp; Atkinson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Ανταγωνιστικές περιγραφέ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1640" y="414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Προβληματισμοί για την ανάπτυξη κωδίκ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7360" y="1618920"/>
            <a:ext cx="8076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οιας γενικής κατηγορίας περίπτωση αποτελεί αυτό το στοιχείο δεδομένω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ι αντιπροσωπεύει αυτό το στοιχείο των δεδομένω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ε τι αναφέρεται αυτό το στοιχείο των δεδομένω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ε ποιο θέμα εντάσσεται αυτό το στοιχείο των δεδομένω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οιο ερώτημα σχετικά με κάποιο θέμα υποδηλώνει αυτό το στοιχείο των δεδομένω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ι είδους απάντηση σε ερώτημα σχετικά με κάποιο θέμα υποδηλώνει αυτό το στοιχείο των δεδομένω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ι συμβαίνει εδ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ι κάνουν αυτοί οι άνθρωπο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ι λένε ότι κάνουν αυτοί οι άνθρωπο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ι είδους γεγονός συντελείται εδ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6120" y="414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Στάδια και ζητήματα κωδικοποί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280" y="1515960"/>
            <a:ext cx="689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Κωδικοποιήστε όσο το δυνατόν συντομότερ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ιαβάστε τις αρχικές απομαγνητοφων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παναλάβετ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πισκοπήστε τους κωδικούς 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ιαμορφώστε γενικότερες θεωρητικές ιδέες αναφορικά με τους κωδικούς και τα δεδομέν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Κάθε στοιχείο ή μέρος δεδομένων μπορεί και συχνά θα πρέπει να κωδικοποιείται με περισσότερους του ενός τρόπου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ην ανησυχήσετε αν δημιουργείτε πολλούς κωδικού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είτε την κωδικοποίηση όπως πρέπει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εν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ίναι ανάλυ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τακερματισμός δεδομέν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313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κοπή και επικόλληση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ωδικοποίηση και ανάλυ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εν είναι μια μηχανική διαδικασία διαχείρισης δεδομένων, η κωδικοποίηση βοηθά στη γέννηση ιδεών και την κατασκευή θεωριώ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οβλήματα με την κωδικοποί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ώλεια του πλαισίου των όσων έχουν λεχθεί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σπώντας τμήματα δεδομένων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ατακερματισμός των δεδομένων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ώλεια αφηγηματικής ροής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(Coffey &amp; Atkinson, 1996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Η αφηγηματική ανάλυση προβάλλεται ως λύση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(Riessman, 1993)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ίνδυνος περιγραφικής αποτύπωσης των δεδομένων, παρά θεωρητικοποίηση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Θεματική ανάλ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ια από τις συνηθέστερες προσεγγίσεις της ανάλυσης ποιοτικών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αποτελεί προσέγγιση ανάλυσης που έχει προσδιορισμένη κληρονομιά ή έχει περιγραφεί με όρους ξεχωριστών τεχνικώ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λαίσι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θνικό Κέντρο Κοινωνικής Έρευνας, Ηνωμένο Βασίλει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έθοδος που βασίζεται σε μια ‘μήτρα’  για την διάταξη και σύνθεση δεδομένω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Ritchie et al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79440" y="27936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χρήση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amework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τη μελέτη της Ντίσνεϊ από τον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y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744480" y="1268280"/>
            <a:ext cx="7921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τάδια γενικής ποιοτικής ανάλυ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βάστε τουλάχιστον ένα δείγμα από το υλικό που θα αναλυθε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χίστε να κωδικοποιείτε το υλικ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εξεργαστείτε πολλούς κωδικούς και μετατρέψτε τους σε θεματικά μοτίβ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ξιολογήστε τους κωδικούς ανώτερης τάξης ή τα θεματικά μοτίβ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ώστε ονόματα στα θεματικά μοτίβα και στα επιμέρους μοτίβα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ξετάστε αν υπάρχει σύνδεση μεταξύ των εννοιών – και αναλογιστείτε κατά πόσο διαφέρουν μεταξύ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γγράψτε το τελικό κείμενο με τις διαπιστώσεις που προσφέρονται από τα προηγούμενα στάδια, ώστε να προσφέρεται ένα πειστικό αφήγημα σχετικά με τα δεδομένα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ξασφαλίστε την αιτιολόγηση των θεματικών σας μοτίβ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164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φηγηματική ανάλυ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χετίζεται με το πώς οι άνθρωποι αντιλαμβάνονται τη χρονική αλληλουχία και δίνει έμφαση στη φύση του ανθρώπου, να αφηγείται τη ζωή του και γεγονό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κμαιευμένες προσωπικές αφηγήσει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ishler, 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τορία ζωής/βιογραφική προσέγγι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υτερεύοντα στοιχε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ευνά αφηγήσεις από συνεντεύξεις και άλλες μορφές δεδομένων (π.χ. τεκμήρι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 Αφηγηματική ανάλυση εκτεταμένου υλικού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iessman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κούσια χρήση συγκεκριμένων ερωτήσεων που οδηγούν στην εκμαίευση μιας αφήγηση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0920" y="232920"/>
            <a:ext cx="825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Δευτερογενής ανάλυση ποιοτικών δεδομένω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 δευτερογενής ανάλυ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 εκ νέου ανάλυση υφιστάμενων δεδομέν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αρέχει μεγάλες ευκαιρίες γιατί η τάση των ερευνητών που εφαρμόζουν ποιοτική στρατηγική είναι να δημιουργούν μεγάλα σύνολα δεδομένων και αυτό σημαίνει ότι μεγάλο μέρος αυτού του υλικού τυγχάνει ελλιπούς εκμετάλλευ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στόσο, μπορεί να είναι δύσκολη η κατανόηση του αρχικού πλαισίου και μπορεί να υπάρχουν ζητήματα δεοντολογίας σε σχέση με τις άδειες των συμμετεχόντ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ο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alida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ίναι ένα αρχειακό ερευνητικό κέντρ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ου ιδρύθηκε το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994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και μπορεί να είναι ένα χρήσιμο σημείο αναφοράς για την περαιτέρω εξερεύνηση τέτοιων δεδομένων/θεμά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νάλυση ποιοτικών δεδο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27000" y="1627200"/>
            <a:ext cx="7245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Γενικές στρατηγικές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ναλυτική επαγωγ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μπειρικά θεμελιωμένη θεωρ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ωδικοποίηση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Βήματα, ζητήματα, προβλή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Θεματική ανάλυ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υτερογενής ανάλυση ποιοτικών δεδ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ύνθεση ποιοτικών μελε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ύνθεση ποιοτικών μελετώ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κοπό έχει να δώσει μια ενδελεχή επισκόπηση όσων είναι γνωστά σχετικά με ένα συγκεκριμένο πεδίο ενδιαφέροντο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λλές διαφορετικές προσεγγί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εθνογραφ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Ερμηνευτική σύνθεση ποιοτικών ερευνών και άλλων πηγών που συνολικά είναι προσανατολισμένες στη διερεύνηση ενός συγκεκριμένου φαινομένο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μετάφραση συγκρίσιμων ή αμοιβαίων εννοιών είναι θεμελιώδ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υτό το επίπεδο ερμηνείας είναι πολύ χρονοβόρ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εματική σύνθε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Εφαρμογή θεματικής ανάλυσης σε υπάρχουσες μελέτες που μας ενδιαφέρουν προκειμένου να γίνει σύνθεση των ευρημάτω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α σαφή ερευνητικά ερωτήματα και κριτήρια συμπερίληψης είναι θεμελιώδ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δημιουργία νέων κατηγοριών πολλές φορές εξαρτάται από τ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εφευρετικότητα του ερευνητή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ναλυτική επαγωγ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ίναι μια διεξοδική αναζήτηση της καθολικής επεξήγησης των φαινομένων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ρόχειρος ορισμός ερευνητικού ερωτήματ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Υποθετική εξήγη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λλογή δεδομένων (εξέταση περιπτώσεω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 εντοπιστούν παρεκκλίνουσες περιπτώσει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αναπροσδιορίζεται ή αναδιατυπώνεται η υπόθε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νέχεια μέχρι όλες οι περιπτώσεις να ταιριάζουν με την υπόθε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488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Η διαδικασία της αναλυτικής επαγωγή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338640" y="165744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996840" y="1484280"/>
            <a:ext cx="6616800" cy="4735440"/>
          </a:xfrm>
          <a:prstGeom prst="rect">
            <a:avLst/>
          </a:prstGeom>
          <a:ln w="0">
            <a:noFill/>
          </a:ln>
        </p:spPr>
      </p:pic>
      <p:sp>
        <p:nvSpPr>
          <p:cNvPr id="228" name="Πλαίσιο κειμένου 2"/>
          <p:cNvSpPr/>
          <p:nvPr/>
        </p:nvSpPr>
        <p:spPr>
          <a:xfrm>
            <a:off x="2862360" y="1584360"/>
            <a:ext cx="3284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Πρόχειρος ορισμός του ερευνητικού ερωτήματος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Πλαίσιο κειμένου 2"/>
          <p:cNvSpPr/>
          <p:nvPr/>
        </p:nvSpPr>
        <p:spPr>
          <a:xfrm>
            <a:off x="3338640" y="2259000"/>
            <a:ext cx="2358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Υποθετική εξήγηση του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ερευνητικού ερωτήματο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Πλαίσιο κειμένου 2"/>
          <p:cNvSpPr/>
          <p:nvPr/>
        </p:nvSpPr>
        <p:spPr>
          <a:xfrm>
            <a:off x="3537000" y="3193920"/>
            <a:ext cx="1979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Εξέταση περιπτώσεων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Πλαίσιο κειμένου 2"/>
          <p:cNvSpPr/>
          <p:nvPr/>
        </p:nvSpPr>
        <p:spPr>
          <a:xfrm>
            <a:off x="1601640" y="3743280"/>
            <a:ext cx="27910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ffffff"/>
                </a:solidFill>
                <a:latin typeface="Times New Roman"/>
                <a:ea typeface="Calibri"/>
              </a:rPr>
              <a:t>Παρεκκλίνουσα περίπτωση που δεν επιβεβαιώνει την υποθετική εξήγηση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Πλαίσιο κειμένου 2"/>
          <p:cNvSpPr/>
          <p:nvPr/>
        </p:nvSpPr>
        <p:spPr>
          <a:xfrm>
            <a:off x="4976640" y="3743280"/>
            <a:ext cx="2386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Απουσία παρεκκλίνουσας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περίπτωσης. Επιβεβαίωση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της υπόθεσης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Πλαίσιο κειμένου 2"/>
          <p:cNvSpPr/>
          <p:nvPr/>
        </p:nvSpPr>
        <p:spPr>
          <a:xfrm>
            <a:off x="1241280" y="4643280"/>
            <a:ext cx="13957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Αναδιατύπωση υπόθεση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Πλαίσιο κειμένου 2"/>
          <p:cNvSpPr/>
          <p:nvPr/>
        </p:nvSpPr>
        <p:spPr>
          <a:xfrm>
            <a:off x="3338640" y="4643280"/>
            <a:ext cx="2447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Εκ νέου ορισμός της υποθετικής εξήγησης για τον αποκλεισμό της παρεκκλίνουσας περίπτωσης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Πλαίσιο κειμένου 2"/>
          <p:cNvSpPr/>
          <p:nvPr/>
        </p:nvSpPr>
        <p:spPr>
          <a:xfrm>
            <a:off x="3851280" y="5589720"/>
            <a:ext cx="26114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Τέλος της εξέτασης περιπτώσεων. Σταματά η συλλογή δεδομένων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μπειρικά θεμελιωμένη θεωρ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1640" y="1538280"/>
            <a:ext cx="70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θεωρία προκύπτει από τα δεδομένα, τα οποία συλλέγονται και αναλύονται συστηματικ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συνεχ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αναλαμβανόμενη διάδραση μεταξύ συλλογής δεδομένων και ανάλυσης/οικοδόμησης της θεωρία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ξελίξεις της εμπειρικά θεμελιωμένης θεωρ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μοντέλο του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us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πιο κανονιστικ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όρος χρησιμοποιείται λιγότερο από τους ερευνητές σήμερ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άκριση μεταξύ εργαλείων και αποτελεσμά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ργαλεία της εμπειρικά θεμελιωμένης θεωρ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31640" y="1628280"/>
            <a:ext cx="68799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εωρητική δειγματοληψί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Οι περιπτώσεις επιλέγονται σκόπιμα ανάλογα με τα δεδομέν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ωδικοποίησ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Ξεκινά κατά τα αρχικά στάδια της έρευν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ημαντικό πρώτο βήμα στη δημιουργία θεωρ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ροοδευτ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εωρητικός κορεσμό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εν ανακύπτουν άλλοι κωδικο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εν συλλέγονται νέα δεδομέν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ιαρκής σύγκρισ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εταξύ εννοιώ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εταξύ δεδομένω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7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α αποτελέσματα της εμπειρικά θεμελιωμένης θεωρί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06640" y="1599840"/>
            <a:ext cx="6912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μν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νοιε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ούνται μέσω της ανοικτής κωδικοποίησ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ηγορίε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ψηλότερο επίπεδο αφαίρεσ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Βασικές κατηγορίε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διότητε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ρίσματα μιας κατηγορί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θέσει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χικές διαισθήσει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εωρ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ξήγηση της σχέσης μεταξύ των εννοιώ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ενική ή ειδική θεωρί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"/>
          <p:cNvSpPr/>
          <p:nvPr/>
        </p:nvSpPr>
        <p:spPr>
          <a:xfrm>
            <a:off x="297000" y="23328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ιαδικασίες και αποτελέσματα της εμπειρικά θεμελιωμένης θεωρία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566640" y="1257480"/>
            <a:ext cx="8577360" cy="55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7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Υπομνή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ημειώσεις των ερευνητών για τον εαυτό τ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οηθούν στη δημιουργία εννοιών και κατηγορ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υμίζουν το νόημα των όρ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νισχύουν το στοχασμό για αναδυόμενες ιδέ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κρυσταλλώνουν ιδέες και κρατούν τον ερευνητή προσανατολισμέν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η μελέτη της βιομηχανίας λεωφορείω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yman et al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Κωδικός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: ‘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ληρονομικότητ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ων χαρακτηριστικών και παραδόσεων της εταιρείας από την περίοδο πριν την απορρύθμιση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aidinis</cp:lastModifiedBy>
  <cp:lastPrinted>2001-09-10T07:46:38Z</cp:lastPrinted>
  <dcterms:modified xsi:type="dcterms:W3CDTF">2018-11-28T11:01:17Z</dcterms:modified>
  <cp:revision>266</cp:revision>
  <dc:subject/>
  <dc:title>No Slide Title</dc:title>
</cp:coreProperties>
</file>