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</p:sldIdLst>
  <p:sldSz cx="9144000" cy="6858000"/>
  <p:notesSz cx="6983413" cy="101203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0" y="0"/>
            <a:ext cx="6984000" cy="101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27240" cy="5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dt" idx="11"/>
          </p:nvPr>
        </p:nvSpPr>
        <p:spPr>
          <a:xfrm>
            <a:off x="3955680" y="-360"/>
            <a:ext cx="3027240" cy="5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Img"/>
          </p:nvPr>
        </p:nvSpPr>
        <p:spPr>
          <a:xfrm>
            <a:off x="961920" y="758520"/>
            <a:ext cx="5060880" cy="379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body"/>
          </p:nvPr>
        </p:nvSpPr>
        <p:spPr>
          <a:xfrm>
            <a:off x="698040" y="4806720"/>
            <a:ext cx="558828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ftr" idx="12"/>
          </p:nvPr>
        </p:nvSpPr>
        <p:spPr>
          <a:xfrm>
            <a:off x="-360" y="9612000"/>
            <a:ext cx="3027240" cy="5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 type="sldNum" idx="13"/>
          </p:nvPr>
        </p:nvSpPr>
        <p:spPr>
          <a:xfrm>
            <a:off x="3955680" y="9612000"/>
            <a:ext cx="3027240" cy="5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2CB40-4E8D-487F-A69D-645C05A71B0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961920" y="758880"/>
            <a:ext cx="5060880" cy="379548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98040" y="4806720"/>
            <a:ext cx="558828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Slide Number Placeholder 3"/>
          <p:cNvSpPr/>
          <p:nvPr/>
        </p:nvSpPr>
        <p:spPr>
          <a:xfrm>
            <a:off x="3956040" y="9612360"/>
            <a:ext cx="302724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fld id="{9FE66338-AC72-4B40-A729-061299A21244}" type="slidenum">
              <a:rPr b="0" lang="en-GB" sz="13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961920" y="758880"/>
            <a:ext cx="5060880" cy="379548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98040" y="4806720"/>
            <a:ext cx="558828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3956040" y="9612360"/>
            <a:ext cx="302724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fld id="{23D38600-3C93-4C65-9B37-BDE4A8169D18}" type="slidenum">
              <a:rPr b="0" lang="en-GB" sz="13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961920" y="758880"/>
            <a:ext cx="5060880" cy="379548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98040" y="4806720"/>
            <a:ext cx="558828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3956040" y="9612360"/>
            <a:ext cx="302724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fld id="{33177792-6CF0-4AA2-A967-983877689CE7}" type="slidenum">
              <a:rPr b="0" lang="en-GB" sz="13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961920" y="758880"/>
            <a:ext cx="5060880" cy="379548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98040" y="4806720"/>
            <a:ext cx="558828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Slide Number Placeholder 3"/>
          <p:cNvSpPr/>
          <p:nvPr/>
        </p:nvSpPr>
        <p:spPr>
          <a:xfrm>
            <a:off x="3956040" y="9612360"/>
            <a:ext cx="302724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fld id="{4675FFC0-E345-4ECC-AE72-00CDBBE16B9D}" type="slidenum">
              <a:rPr b="0" lang="en-GB" sz="13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961920" y="758880"/>
            <a:ext cx="5060880" cy="379548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98040" y="4806720"/>
            <a:ext cx="558828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Slide Number Placeholder 3"/>
          <p:cNvSpPr/>
          <p:nvPr/>
        </p:nvSpPr>
        <p:spPr>
          <a:xfrm>
            <a:off x="3956040" y="9612360"/>
            <a:ext cx="302724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fld id="{AB13A483-D75C-4412-A3CF-471A973F6634}" type="slidenum">
              <a:rPr b="0" lang="en-GB" sz="13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CE4951-693D-400B-A342-E6EA605BEE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836053-321E-45D7-A775-46A335082B5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BCA9EC-F7AA-4B59-86C8-33A69027EA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78F136-9B4B-432E-9931-B769526F692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79EE8A-BCFA-4B94-9470-91AFA3F8FD8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2B6D82-0FEF-42DA-91FE-1351C653634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2E9D5C-906B-47D2-84F6-8A821D75C8E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B825A5-CE73-4E05-B062-8524CA49B4E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FB8C62-8C51-4D95-BE55-86893E29C8D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3073E3-AD15-42BF-99DA-FF7DD0EAC23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F557D7-CB2D-4902-A171-ACF740F8095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48FF0B-4471-4433-898B-5D6B1CFD869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953892-50D7-447B-9C29-7C01D4FD598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ACBABC-190C-4A60-A9D3-0074B58DD10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74C5AD-3862-4FF5-93D8-F5A82464603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7F883C-E081-4443-986F-7851082A68D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428044-1E31-49BA-8A11-11C299537232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A363A-1863-4373-887F-FB053BC1980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F8129-F0B2-4B2A-8064-BDBA7E5A0DE5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EC3C7-4AE2-46B3-B9FC-19AE968FCFA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275CD-EAF4-4E7F-AC76-132DE2B3EC7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9F44C-DBB9-4372-8933-3A27A279522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0F5DDA-1245-4F72-8584-5F4885190CD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33FBB-AD87-47E6-AB93-95CB7A0BB42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D59AE-F279-415E-BC40-7845216E0C1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12B80-1F22-411A-9D5F-696BE0799D8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0E7FF-9C40-4D74-BC80-B0798158C80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EC6F9-A969-439B-81B4-8E44550C23E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1D183-6044-454B-85A1-2F6045E9303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A6B1C-8BEE-4080-A581-6C73056FE152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B49F69D-82B8-40DB-B5D3-F306389A78D3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D941758-39EB-40D6-9D24-AFE6FB8A521D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B701C62-A17F-4FE3-9334-3CE5C920A18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EE40DC-9CE6-42DC-A381-DA1FB47EAE53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BDDB81C-D1BE-4B52-B79A-4FFC4D0ABDA0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9B5A7B6-479E-4D25-A30E-21E9A3380863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5C66BA5-011A-43C3-A9D9-5D69DBB68215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66E2C4D-D29B-476A-9E7C-703D8EA37ADB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68B31C9-05E7-4D07-954F-C12A5A59A765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8DA3D14-5A44-4F4B-83AF-F0FB181A621A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825698D-747F-44E0-98E6-AB7BFD04999A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FE6B108-9A18-4059-AC14-CC802010A863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F75E4E0-9B7A-44AE-AF5C-880E0DBD4426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2A7DD9E-9963-4896-9FCC-8DE92E607D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65AC12-AC07-4274-A6E1-265FB7132F91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80CF73C-B0E3-498B-8FC5-A91378107F55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28D1C8C-ABBA-472D-815C-EDB4D0571446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0E59C7F-9D13-4FAF-8E6A-19F9B16B7801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8E7BF87-C6F6-4B19-8E21-EAF2BD18B182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52E030A-BE63-482F-8435-E097F18ACE95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D46C309-D23B-4A9F-88E0-B6C56AE4F70F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C406BDB-F224-49D2-9A7C-2C806B58F6F7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246C568-3843-4496-8664-A9695ABCEBBC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DD9E3A6-B1EB-4806-A98F-4E70159B5602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1F0BF69-A52E-4825-B868-6DE21A58991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EA65B4-E111-45A9-9FA6-65E72DA0B634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E774830-5423-4EA2-B03D-B1A3696716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D9A544-4FDB-4E7A-9CE8-4B3D7C3A5A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8AE040-1614-4D8D-BE9C-2D619FFCBFB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077273-1EF6-4A46-B739-633DA241AC8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38172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3080" y="6381720"/>
            <a:ext cx="19051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7C802-E931-401B-ADE7-CEBA160D1F7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ectangle 3"/>
          <p:cNvSpPr/>
          <p:nvPr/>
        </p:nvSpPr>
        <p:spPr>
          <a:xfrm>
            <a:off x="293760" y="1989000"/>
            <a:ext cx="8567640" cy="4394160"/>
          </a:xfrm>
          <a:prstGeom prst="rect">
            <a:avLst/>
          </a:prstGeom>
          <a:solidFill>
            <a:srgbClr val="0021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" name="Line 13"/>
          <p:cNvSpPr/>
          <p:nvPr/>
        </p:nvSpPr>
        <p:spPr>
          <a:xfrm>
            <a:off x="0" y="6489720"/>
            <a:ext cx="9144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40" name="Picture 1" descr=""/>
          <p:cNvPicPr/>
          <p:nvPr/>
        </p:nvPicPr>
        <p:blipFill>
          <a:blip r:embed="rId2"/>
          <a:stretch/>
        </p:blipFill>
        <p:spPr>
          <a:xfrm>
            <a:off x="12600" y="0"/>
            <a:ext cx="9131400" cy="1990800"/>
          </a:xfrm>
          <a:prstGeom prst="rect">
            <a:avLst/>
          </a:prstGeom>
          <a:ln w="0">
            <a:noFill/>
          </a:ln>
        </p:spPr>
      </p:pic>
      <p:sp>
        <p:nvSpPr>
          <p:cNvPr id="41" name="Rectangle 2"/>
          <p:cNvSpPr/>
          <p:nvPr/>
        </p:nvSpPr>
        <p:spPr>
          <a:xfrm>
            <a:off x="306000" y="1224000"/>
            <a:ext cx="14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42960"/>
                </a:solidFill>
                <a:latin typeface="Arial"/>
              </a:rPr>
              <a:t>Alan Bryman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2" name="Rectangle 5"/>
          <p:cNvSpPr/>
          <p:nvPr/>
        </p:nvSpPr>
        <p:spPr>
          <a:xfrm>
            <a:off x="241200" y="6534000"/>
            <a:ext cx="319572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© Alan Bryman, 2016. All rights reserved.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ftr" idx="3"/>
          </p:nvPr>
        </p:nvSpPr>
        <p:spPr>
          <a:xfrm>
            <a:off x="3124080" y="638172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ldNum" idx="4"/>
          </p:nvPr>
        </p:nvSpPr>
        <p:spPr>
          <a:xfrm>
            <a:off x="6553080" y="6381720"/>
            <a:ext cx="19051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A655C-2689-46D2-A453-3768F00A168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3"/>
          <p:cNvSpPr/>
          <p:nvPr/>
        </p:nvSpPr>
        <p:spPr>
          <a:xfrm>
            <a:off x="-6480" y="0"/>
            <a:ext cx="9144000" cy="1230480"/>
          </a:xfrm>
          <a:prstGeom prst="rect">
            <a:avLst/>
          </a:prstGeom>
          <a:solidFill>
            <a:srgbClr val="0429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2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83" name="Picture 1" descr=""/>
          <p:cNvPicPr/>
          <p:nvPr/>
        </p:nvPicPr>
        <p:blipFill>
          <a:blip r:embed="rId2"/>
          <a:stretch/>
        </p:blipFill>
        <p:spPr>
          <a:xfrm>
            <a:off x="7613640" y="6184800"/>
            <a:ext cx="1219320" cy="45720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3"/>
          <p:cNvSpPr/>
          <p:nvPr/>
        </p:nvSpPr>
        <p:spPr>
          <a:xfrm>
            <a:off x="0" y="914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5" name="TextBox 7"/>
          <p:cNvSpPr/>
          <p:nvPr/>
        </p:nvSpPr>
        <p:spPr>
          <a:xfrm>
            <a:off x="71280" y="6488280"/>
            <a:ext cx="535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a6a6a6"/>
                </a:solidFill>
                <a:latin typeface="Arial"/>
              </a:rPr>
              <a:t>Bryman: </a:t>
            </a:r>
            <a:r>
              <a:rPr b="0" i="1" lang="en-GB" sz="1400" spc="-1" strike="noStrike">
                <a:solidFill>
                  <a:srgbClr val="a6a6a6"/>
                </a:solidFill>
                <a:latin typeface="Arial"/>
              </a:rPr>
              <a:t>Social Research Methods, 5</a:t>
            </a:r>
            <a:r>
              <a:rPr b="0" i="1" lang="en-GB" sz="1400" spc="-1" strike="noStrike" baseline="30000">
                <a:solidFill>
                  <a:srgbClr val="a6a6a6"/>
                </a:solidFill>
                <a:latin typeface="Arial"/>
              </a:rPr>
              <a:t>th</a:t>
            </a:r>
            <a:r>
              <a:rPr b="0" i="1" lang="en-GB" sz="1400" spc="-1" strike="noStrike">
                <a:solidFill>
                  <a:srgbClr val="a6a6a6"/>
                </a:solidFill>
                <a:latin typeface="Arial"/>
              </a:rPr>
              <a:t> edition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ftr" idx="5"/>
          </p:nvPr>
        </p:nvSpPr>
        <p:spPr>
          <a:xfrm>
            <a:off x="3124080" y="638172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ldNum" idx="6"/>
          </p:nvPr>
        </p:nvSpPr>
        <p:spPr>
          <a:xfrm>
            <a:off x="6553080" y="6381720"/>
            <a:ext cx="19051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34084-C95B-4FD8-A40A-3091C26490D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3"/>
          <p:cNvSpPr/>
          <p:nvPr/>
        </p:nvSpPr>
        <p:spPr>
          <a:xfrm>
            <a:off x="-6480" y="0"/>
            <a:ext cx="9144000" cy="1230480"/>
          </a:xfrm>
          <a:prstGeom prst="rect">
            <a:avLst/>
          </a:prstGeom>
          <a:solidFill>
            <a:srgbClr val="0429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5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26" name="Picture 1" descr=""/>
          <p:cNvPicPr/>
          <p:nvPr/>
        </p:nvPicPr>
        <p:blipFill>
          <a:blip r:embed="rId2"/>
          <a:stretch/>
        </p:blipFill>
        <p:spPr>
          <a:xfrm>
            <a:off x="7613640" y="6184800"/>
            <a:ext cx="1219320" cy="457200"/>
          </a:xfrm>
          <a:prstGeom prst="rect">
            <a:avLst/>
          </a:prstGeom>
          <a:ln w="0">
            <a:noFill/>
          </a:ln>
        </p:spPr>
      </p:pic>
      <p:sp>
        <p:nvSpPr>
          <p:cNvPr id="127" name="Rectangle 3"/>
          <p:cNvSpPr/>
          <p:nvPr/>
        </p:nvSpPr>
        <p:spPr>
          <a:xfrm>
            <a:off x="0" y="914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8" name="TextBox 7"/>
          <p:cNvSpPr/>
          <p:nvPr/>
        </p:nvSpPr>
        <p:spPr>
          <a:xfrm>
            <a:off x="71280" y="6488280"/>
            <a:ext cx="535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a6a6a6"/>
                </a:solidFill>
                <a:latin typeface="Arial"/>
              </a:rPr>
              <a:t>Bryman: </a:t>
            </a:r>
            <a:r>
              <a:rPr b="0" i="1" lang="en-GB" sz="1400" spc="-1" strike="noStrike">
                <a:solidFill>
                  <a:srgbClr val="a6a6a6"/>
                </a:solidFill>
                <a:latin typeface="Arial"/>
              </a:rPr>
              <a:t>Social Research Methods, 5</a:t>
            </a:r>
            <a:r>
              <a:rPr b="0" i="1" lang="en-GB" sz="1400" spc="-1" strike="noStrike" baseline="30000">
                <a:solidFill>
                  <a:srgbClr val="a6a6a6"/>
                </a:solidFill>
                <a:latin typeface="Arial"/>
              </a:rPr>
              <a:t>th</a:t>
            </a:r>
            <a:r>
              <a:rPr b="0" i="1" lang="en-GB" sz="1400" spc="-1" strike="noStrike">
                <a:solidFill>
                  <a:srgbClr val="a6a6a6"/>
                </a:solidFill>
                <a:latin typeface="Arial"/>
              </a:rPr>
              <a:t> edition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ftr" idx="7"/>
          </p:nvPr>
        </p:nvSpPr>
        <p:spPr>
          <a:xfrm>
            <a:off x="3124080" y="638172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ldNum" idx="8"/>
          </p:nvPr>
        </p:nvSpPr>
        <p:spPr>
          <a:xfrm>
            <a:off x="6553080" y="6381720"/>
            <a:ext cx="19051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AAB8F-8D7F-45FA-A2E2-2333B4016C9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3"/>
          <p:cNvSpPr/>
          <p:nvPr/>
        </p:nvSpPr>
        <p:spPr>
          <a:xfrm>
            <a:off x="-6480" y="0"/>
            <a:ext cx="9144000" cy="1230480"/>
          </a:xfrm>
          <a:prstGeom prst="rect">
            <a:avLst/>
          </a:prstGeom>
          <a:solidFill>
            <a:srgbClr val="0429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8" name="TextBox 4"/>
          <p:cNvSpPr/>
          <p:nvPr/>
        </p:nvSpPr>
        <p:spPr>
          <a:xfrm>
            <a:off x="71280" y="6488280"/>
            <a:ext cx="535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a6a6a6"/>
                </a:solidFill>
                <a:latin typeface="Arial"/>
              </a:rPr>
              <a:t>Bryman: </a:t>
            </a:r>
            <a:r>
              <a:rPr b="0" i="1" lang="en-GB" sz="1400" spc="-1" strike="noStrike">
                <a:solidFill>
                  <a:srgbClr val="a6a6a6"/>
                </a:solidFill>
                <a:latin typeface="Arial"/>
              </a:rPr>
              <a:t>Social Research Methods, 5</a:t>
            </a:r>
            <a:r>
              <a:rPr b="0" i="1" lang="en-GB" sz="1400" spc="-1" strike="noStrike" baseline="30000">
                <a:solidFill>
                  <a:srgbClr val="a6a6a6"/>
                </a:solidFill>
                <a:latin typeface="Arial"/>
              </a:rPr>
              <a:t>th</a:t>
            </a:r>
            <a:r>
              <a:rPr b="0" i="1" lang="en-GB" sz="1400" spc="-1" strike="noStrike">
                <a:solidFill>
                  <a:srgbClr val="a6a6a6"/>
                </a:solidFill>
                <a:latin typeface="Arial"/>
              </a:rPr>
              <a:t> edition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69" name="Picture 1" descr=""/>
          <p:cNvPicPr/>
          <p:nvPr/>
        </p:nvPicPr>
        <p:blipFill>
          <a:blip r:embed="rId2"/>
          <a:stretch/>
        </p:blipFill>
        <p:spPr>
          <a:xfrm>
            <a:off x="7613640" y="6184800"/>
            <a:ext cx="1219320" cy="45720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ftr" idx="9"/>
          </p:nvPr>
        </p:nvSpPr>
        <p:spPr>
          <a:xfrm>
            <a:off x="3124080" y="638172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ldNum" idx="10"/>
          </p:nvPr>
        </p:nvSpPr>
        <p:spPr>
          <a:xfrm>
            <a:off x="6553080" y="6381720"/>
            <a:ext cx="19051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DECA1-548A-4D66-AE13-C96626CAC115}" type="slidenum">
              <a:rPr b="0" lang="en-GB" sz="14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33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33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31400" cy="1990800"/>
          </a:xfrm>
          <a:prstGeom prst="rect">
            <a:avLst/>
          </a:prstGeom>
          <a:ln w="0">
            <a:noFill/>
          </a:ln>
        </p:spPr>
      </p:pic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11280" y="2573280"/>
            <a:ext cx="7772400" cy="7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ffffff"/>
                </a:solidFill>
                <a:latin typeface="Arial"/>
              </a:rPr>
              <a:t>Μέθοδοι κοινωνικής έρευν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4128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3200" spc="-1" strike="noStrike">
                <a:solidFill>
                  <a:srgbClr val="ffffff"/>
                </a:solidFill>
                <a:latin typeface="Arial"/>
              </a:rPr>
              <a:t>Κεφάλαιο</a:t>
            </a:r>
            <a:r>
              <a:rPr b="0" i="1" lang="en-GB" sz="3200" spc="-1" strike="noStrike">
                <a:solidFill>
                  <a:srgbClr val="ffffff"/>
                </a:solidFill>
                <a:latin typeface="Arial"/>
              </a:rPr>
              <a:t>4: </a:t>
            </a:r>
            <a:r>
              <a:rPr b="0" i="1" lang="el-GR" sz="3200" spc="-1" strike="noStrike">
                <a:solidFill>
                  <a:srgbClr val="ffffff"/>
                </a:solidFill>
                <a:latin typeface="Arial"/>
              </a:rPr>
              <a:t>Ο προγραμματισμός του ερευνητικού εγχειρήματος και η διατύπωση ερωτημάτων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2"/>
          <p:cNvSpPr/>
          <p:nvPr/>
        </p:nvSpPr>
        <p:spPr>
          <a:xfrm>
            <a:off x="306000" y="1224000"/>
            <a:ext cx="14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42960"/>
                </a:solidFill>
                <a:latin typeface="Arial"/>
              </a:rPr>
              <a:t>Alan Bryman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28560" y="27936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ffffff"/>
                </a:solidFill>
                <a:latin typeface="Arial"/>
              </a:rPr>
              <a:t>Τι απαιτήσεις υπάρχουν από εσάς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Οι περισσότερες σχολές κοινωνικών επιστημών απαιτούν διπλωματική εργασία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Ενημερωθείτε για τις απαιτήσεις του δικού σας εκπαιδευτικού ιδρύματο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Arial"/>
              </a:rPr>
              <a:t>Όριο λέξεων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Arial"/>
              </a:rPr>
              <a:t>Μορφή/παρουσίαση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Arial"/>
              </a:rPr>
              <a:t>Περίληψη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Arial"/>
              </a:rPr>
              <a:t>Βιβλιογραφικές αναφορέ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Arial"/>
              </a:rPr>
              <a:t>Προθεσμία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TextBox 1"/>
          <p:cNvSpPr/>
          <p:nvPr/>
        </p:nvSpPr>
        <p:spPr>
          <a:xfrm>
            <a:off x="1376280" y="279360"/>
            <a:ext cx="643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Arial"/>
              </a:rPr>
              <a:t>Χρησιμοποιώντας τον επιβλέποντά σα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4" name="TextBox 2"/>
          <p:cNvSpPr/>
          <p:nvPr/>
        </p:nvSpPr>
        <p:spPr>
          <a:xfrm>
            <a:off x="826920" y="1700280"/>
            <a:ext cx="7417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Ο επιβλέποντάς σας σάς έχει ανατεθεί ή έχει επιλεγεί από εσάς λόγω του πεδίου των ερευνητικών του ενδιαφερόντων, και έτσι μπορεί να σας βοηθήσει να εντοπίσετε χρήσιμα πεδία έρευνας.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Σχεδόν σίγουρα θα είναι γνώστης της ερευνητικής διαδικασίας και θα μπορεί να σας βοηθήσει σε όλα τα στάδια.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Ακολουθήστε τις υποδείξεις του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σας δίνονται με τις καλύτερες των προθέσεων για το δικό σας όφελος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9040" y="36828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ffffff"/>
                </a:solidFill>
                <a:latin typeface="Arial"/>
              </a:rPr>
              <a:t>Διαχείριση χρόνου και πόρω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Καταστρώστε ένα χρονοδιάγραμμα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με ημερομηνίες έναρξης και ολοκλήρωσης για κάθε στάδιο της έρευνα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Ενημερωθείτε για τους διαθέσιμους πόρους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αν υπάρχουν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για δαπάνες ταξιδιών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γραφική ύλη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φωτοτυπίες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δαπάνες ταχυδρομείου, εξοπλισμό ηχογράφησης και απομαγνητοφώνηση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Υπάρχει διαθέσιμο λογισμικό, όπως το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PSS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ή το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vo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701640" y="36828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Arial"/>
              </a:rPr>
              <a:t>Διατύπωση ερευνητικών ερωτημάτω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Αρχίστε να σκέφτεστε την έρευνά σας νωρίς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Ο πολύ ανοικτός χαρακτήρας της έρευνας είναι επισφαλή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Τα ερευνητικά ερωτήματα βοηθούν να εστιάσετε τις βιβλιογραφικές σας αναζητήσεις, τη συλλογή δεδομένων, την ανάλυση και τη συγγραφ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Σιγουρευτείτε ότι τα ερευνητικά σας ερωτήματα έχουν μια ξεκάθαρη κοινωνική-επιστημονική οπτική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57360" y="189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Arial"/>
              </a:rPr>
              <a:t>Πηγές ερευνητικών ερωτημάτων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(Marx 1997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100" spc="-1" strike="noStrike">
                <a:solidFill>
                  <a:srgbClr val="000000"/>
                </a:solidFill>
                <a:latin typeface="Arial"/>
              </a:rPr>
              <a:t>Γρίφοι και αντιφάσεις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100" spc="-1" strike="noStrike">
                <a:solidFill>
                  <a:srgbClr val="000000"/>
                </a:solidFill>
                <a:latin typeface="Arial"/>
              </a:rPr>
              <a:t>Υφιστάμενη βιβλιογραφία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100" spc="-1" strike="noStrike">
                <a:solidFill>
                  <a:srgbClr val="000000"/>
                </a:solidFill>
                <a:latin typeface="Arial"/>
              </a:rPr>
              <a:t>Επανάληψη προηγούμενης έρευνας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100" spc="-1" strike="noStrike">
                <a:solidFill>
                  <a:srgbClr val="000000"/>
                </a:solidFill>
                <a:latin typeface="Arial"/>
              </a:rPr>
              <a:t>Δομές και λειτουργίες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100" spc="-1" strike="noStrike">
                <a:solidFill>
                  <a:srgbClr val="000000"/>
                </a:solidFill>
                <a:latin typeface="Arial"/>
              </a:rPr>
              <a:t>Αντίθεση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100" spc="-1" strike="noStrike">
                <a:solidFill>
                  <a:srgbClr val="000000"/>
                </a:solidFill>
                <a:latin typeface="Arial"/>
              </a:rPr>
              <a:t>Κοινωνικά προβλήματα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100" spc="-1" strike="noStrike">
                <a:solidFill>
                  <a:srgbClr val="000000"/>
                </a:solidFill>
                <a:latin typeface="Arial"/>
              </a:rPr>
              <a:t>Προσωπικές εμπειρίες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100" spc="-1" strike="noStrike">
                <a:solidFill>
                  <a:srgbClr val="000000"/>
                </a:solidFill>
                <a:latin typeface="Arial"/>
              </a:rPr>
              <a:t>Αποκλίσεις μεταξύ επίσημων περιγραφών της πραγματικότητας και των ίδιων των γεγονότων στην πραγματική ζωή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100" spc="-1" strike="noStrike">
                <a:solidFill>
                  <a:srgbClr val="000000"/>
                </a:solidFill>
                <a:latin typeface="Arial"/>
              </a:rPr>
              <a:t>Το παράδοξο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100" spc="-1" strike="noStrike">
                <a:solidFill>
                  <a:srgbClr val="000000"/>
                </a:solidFill>
                <a:latin typeface="Arial"/>
              </a:rPr>
              <a:t>Αποκλίνουσες περιπτώσεις και ασυνήθιστα γεγονότα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100" spc="-1" strike="noStrike">
                <a:solidFill>
                  <a:srgbClr val="000000"/>
                </a:solidFill>
                <a:latin typeface="Arial"/>
              </a:rPr>
              <a:t>Νέες μέθοδοι</a:t>
            </a: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l-GR" sz="2100" spc="-1" strike="noStrike">
                <a:solidFill>
                  <a:srgbClr val="000000"/>
                </a:solidFill>
                <a:latin typeface="Arial"/>
              </a:rPr>
              <a:t>θεωρίες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100" spc="-1" strike="noStrike">
                <a:solidFill>
                  <a:srgbClr val="000000"/>
                </a:solidFill>
                <a:latin typeface="Arial"/>
              </a:rPr>
              <a:t>Νέες κοινωνικές τάσεις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100" spc="-1" strike="noStrike">
                <a:solidFill>
                  <a:srgbClr val="000000"/>
                </a:solidFill>
                <a:latin typeface="Arial"/>
              </a:rPr>
              <a:t>Χορηγοί και διδάσκοντες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TextBox 2"/>
          <p:cNvSpPr/>
          <p:nvPr/>
        </p:nvSpPr>
        <p:spPr>
          <a:xfrm>
            <a:off x="301680" y="1440"/>
            <a:ext cx="8685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ffffff"/>
                </a:solidFill>
                <a:latin typeface="Arial"/>
              </a:rPr>
              <a:t>Βήματα της διαδικασίας επιλογής ερευνητικών ερωτημάτων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233" name="Εικόνα 1" descr=""/>
          <p:cNvPicPr/>
          <p:nvPr/>
        </p:nvPicPr>
        <p:blipFill>
          <a:blip r:embed="rId1"/>
          <a:stretch/>
        </p:blipFill>
        <p:spPr>
          <a:xfrm>
            <a:off x="-1440" y="1314360"/>
            <a:ext cx="9136080" cy="48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Box 1"/>
          <p:cNvSpPr/>
          <p:nvPr/>
        </p:nvSpPr>
        <p:spPr>
          <a:xfrm>
            <a:off x="250920" y="4680"/>
            <a:ext cx="873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ffffff"/>
                </a:solidFill>
                <a:latin typeface="Arial"/>
              </a:rPr>
              <a:t>Λίστα ελέγχου για την ερευνητική σας πρόταση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5" name="TextBox 2"/>
          <p:cNvSpPr/>
          <p:nvPr/>
        </p:nvSpPr>
        <p:spPr>
          <a:xfrm>
            <a:off x="1332000" y="1557360"/>
            <a:ext cx="61927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4296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42960"/>
                </a:solidFill>
                <a:latin typeface="Arial"/>
              </a:rPr>
              <a:t>Ποιο είναι το θέμα; Ποιοι είναι οι στόχοι της έρευνάς σας;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  <a:p>
            <a:pPr marL="285840" indent="-285840">
              <a:buClr>
                <a:srgbClr val="04296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42960"/>
                </a:solidFill>
                <a:latin typeface="Arial"/>
              </a:rPr>
              <a:t>Γιατί το θέμα είναι σημαντικό;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  <a:p>
            <a:pPr marL="285840" indent="-285840">
              <a:buClr>
                <a:srgbClr val="04296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42960"/>
                </a:solidFill>
                <a:latin typeface="Arial"/>
              </a:rPr>
              <a:t>Ποια είναι τα ερευνητικά σας ερωτήματα;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  <a:p>
            <a:pPr marL="285840" indent="-285840">
              <a:buClr>
                <a:srgbClr val="04296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42960"/>
                </a:solidFill>
                <a:latin typeface="Arial"/>
              </a:rPr>
              <a:t>Τι αναφέρει η βιβλιογραφία;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  <a:p>
            <a:pPr marL="285840" indent="-285840">
              <a:buClr>
                <a:srgbClr val="04296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42960"/>
                </a:solidFill>
                <a:latin typeface="Arial"/>
              </a:rPr>
              <a:t>Πώς θα συλλέξετε τα δεδομένα;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  <a:p>
            <a:pPr marL="285840" indent="-285840">
              <a:buClr>
                <a:srgbClr val="04296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42960"/>
                </a:solidFill>
                <a:latin typeface="Arial"/>
              </a:rPr>
              <a:t>Γιατί αυτές οι μέθοδοι είναι κατάλληλες;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  <a:p>
            <a:pPr marL="285840" indent="-285840">
              <a:buClr>
                <a:srgbClr val="04296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42960"/>
                </a:solidFill>
                <a:latin typeface="Arial"/>
              </a:rPr>
              <a:t>Ποιοι θα είναι οι συμμετέχοντες στην έρευνά σας  και πώς θα επιλεγούν;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  <a:p>
            <a:pPr marL="285840" indent="-285840">
              <a:buClr>
                <a:srgbClr val="04296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42960"/>
                </a:solidFill>
                <a:latin typeface="Arial"/>
              </a:rPr>
              <a:t>Απαιτείται η διασφάλιση της πρόσβασης σε οργανισμούς;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  <a:p>
            <a:pPr marL="285840" indent="-285840">
              <a:buClr>
                <a:srgbClr val="04296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42960"/>
                </a:solidFill>
                <a:latin typeface="Arial"/>
              </a:rPr>
              <a:t>Τι μέσα θα χρειαστείτε;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  <a:p>
            <a:pPr marL="285840" indent="-285840">
              <a:buClr>
                <a:srgbClr val="04296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42960"/>
                </a:solidFill>
                <a:latin typeface="Arial"/>
              </a:rPr>
              <a:t>Ποιο είναι το χρονοδιάγραμμα;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  <a:p>
            <a:pPr marL="285840" indent="-285840">
              <a:buClr>
                <a:srgbClr val="04296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42960"/>
                </a:solidFill>
                <a:latin typeface="Arial"/>
              </a:rPr>
              <a:t>Ποια προβλήματα προβλέπετε;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  <a:p>
            <a:pPr marL="285840" indent="-285840">
              <a:buClr>
                <a:srgbClr val="04296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42960"/>
                </a:solidFill>
                <a:latin typeface="Arial"/>
              </a:rPr>
              <a:t>Υπάρχουν δεοντολογικά προβλήματα;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  <a:p>
            <a:pPr marL="285840" indent="-285840">
              <a:buClr>
                <a:srgbClr val="04296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42960"/>
                </a:solidFill>
                <a:latin typeface="Arial"/>
              </a:rPr>
              <a:t>Πώς θα αναλύσετε τα δεδομένα;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701640" y="36828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ffffff"/>
                </a:solidFill>
                <a:latin typeface="Arial"/>
              </a:rPr>
              <a:t>Χρήσιμες πρακτικές συμβουλέ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714240" y="1642680"/>
            <a:ext cx="7772400" cy="40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Arial"/>
              </a:rPr>
              <a:t>Να έχετε υπόψη σας ζητήματα ασφάλεια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Arial"/>
              </a:rPr>
              <a:t>Κρατήστε ένα ημερολόγιο έρευνας ή ένα βιβλίο συμβάντων όπου θα καταγράφετε τι κάνατε και πότε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Arial"/>
              </a:rPr>
              <a:t>Κρατήστε αρχείο για την ένταξη ατόμων στο δείγμα/το ποσοστό απαντήσεων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Arial"/>
              </a:rPr>
              <a:t>Προϋπολογίστε αρκετό χρόνο για την απομαγνητοφώνηση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Arial"/>
              </a:rPr>
              <a:t>Εξοικειωθείτε με τον τεχνικό εξοπλισμό και τα πακέτα λογισμικού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Arial"/>
              </a:rPr>
              <a:t>Ξεκινήστε την κωδικοποίηση μόλις έχετε μερικά δεδομένα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24T13:26:03Z</dcterms:created>
  <dc:creator>Kate Hilton</dc:creator>
  <dc:description/>
  <dc:language>en-US</dc:language>
  <cp:lastModifiedBy>Χρήστης των Windows</cp:lastModifiedBy>
  <cp:lastPrinted>2001-09-10T07:46:38Z</cp:lastPrinted>
  <dcterms:modified xsi:type="dcterms:W3CDTF">2018-10-26T21:23:40Z</dcterms:modified>
  <cp:revision>185</cp:revision>
  <dc:subject/>
  <dc:title>No Slide Title</dc:title>
</cp:coreProperties>
</file>