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983413" cy="10120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984000" cy="101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11"/>
          </p:nvPr>
        </p:nvSpPr>
        <p:spPr>
          <a:xfrm>
            <a:off x="3955680" y="-36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961920" y="758520"/>
            <a:ext cx="5060880" cy="379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2"/>
          </p:nvPr>
        </p:nvSpPr>
        <p:spPr>
          <a:xfrm>
            <a:off x="-360" y="961200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13"/>
          </p:nvPr>
        </p:nvSpPr>
        <p:spPr>
          <a:xfrm>
            <a:off x="3955680" y="961200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98E9-33BF-46DD-8C7A-6DCD2E0205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4EEF-6B27-4488-8423-39BAE7BDACC5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9D8AAEC0-B031-4CF2-A807-7FC2456AAE6A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66D6-CA11-4232-BC58-11963DBE31D4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9DF9681F-4F55-4FED-82F5-AFC17F039B9C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84A7-DB5C-441A-83F2-FBB87DC2D467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5DC2B3A6-0594-47A9-A35F-390AE32E7700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033F-46F2-42BC-B8D6-346D12AD12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1D308010-9144-45C4-AB48-4DB5A6EF8A5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293E-E07B-45FE-AA5B-8061765874A1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8CDB9956-8656-4782-B113-D626DED5D7E6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B22F-2865-469B-80F3-402433F442F8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A291308C-F6D9-4B82-9E05-2BE10855258A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1725-F767-42B1-987F-35F408A1870F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E67D081E-0179-4008-A590-0CDCADB6A8EA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A5A5-0F0F-41E0-90A9-B9FA2C38FD7C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B4E525C3-CDCC-4492-9587-EAF6EB4B01D7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5DA6-CF3A-475D-BED7-080D0AB8C245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CEC3F81B-3FC2-4D11-BB77-03F91801293A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4E54-1767-44AD-BE05-972A870E7E78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9777CF24-275C-4E10-9B93-CFAC5D039221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6CBA-0EF3-4097-AB01-D38FD1D5B058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BC37B67F-3C82-43C9-87E6-539BEEA80F2E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BFE7-CD5F-43DB-B813-2726C351D92D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4970A378-AA88-447B-BAD4-5FE4ECC21E41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1644-BA9E-479C-A8BA-80DD78AE9E82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42EC5C59-B3CC-4B7E-A25B-A25514A68797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E7079-DE4D-4779-8047-2C1EB9BBFD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06699-8820-425F-B0EC-25D9D4F653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A5650-F193-4A73-BB6B-671D5CF4CA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B6AF4-E34C-4CF4-83B9-33582CA1CE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137AB-20CA-4B7A-9172-E459C4C5DD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60317-457E-4014-8277-E3DFE6F757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EB68A-D39E-462A-90FC-51C285A34C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786EC-4196-40BD-9C85-5C299201D7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7B0E8-1090-4A6A-896A-5D852C4F98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6AA2B-90A5-40C5-9719-EA1C8B3179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C17FA-0257-47BD-A437-71C519309F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00AEF-86CD-4DBF-86DC-74C16563C1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5ABE4-B97A-425C-AC1D-47904ED7FB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1BC80-5992-4100-BE85-008CC8BF67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925D8-FFCE-4944-BA01-E34BA85D7C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491B6-25CF-4B53-BDCC-B29E0E8F1A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DB509-213E-4F42-BD40-F0BFCA474D9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C7F4-819B-48A7-9931-5DEBB6D0BA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4AE1-593C-4197-8B8A-C354A355055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1F42-DBCB-4F12-B661-21B4A5B067B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9DCB-0134-4FB8-B6E9-22394261CB9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1A0D-917A-47BD-9EEB-199C4391BF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B4FA4-9903-4145-B1DB-F8F36780FE5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E0E0-45FC-46E7-B100-D6F9A4D840A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B4E4-B24C-4199-B246-E949BE4AA54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CB66-A880-4200-B1B5-E12A57FA74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C32F-F6CF-427A-AA36-3B00F867BC9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1E91-37E5-4932-B9B5-1D2DBFC6E44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9324-C816-4925-98FA-92804B147A7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5971-6FB9-4F74-9C70-516FB9892B0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3E9CDB-7AFD-435F-AED5-091205785DD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D56DD4-6C8C-4613-B75A-41ABDD68790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B885EC-47CB-42E2-BD8A-D726BE99B3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B3F48-4E21-45D2-9FA6-41C47EBD93D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A5150E-36B3-4EFC-BDC5-A7C70E9446A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668274-C034-4295-AE82-26DC16F5E0C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D77043-B5C6-4D10-80C4-75B9576D841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F229FA-3A82-4135-B5BF-A23501996F7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C5DE5C-376D-4EDF-8B12-E6576F2845C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137D2C-B2EF-4AF5-8406-577C3E1D62A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96A99D-874C-4B0E-AC7F-2B65D6A8B36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EDDE1B-61F7-4153-BB1F-C6862372371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61AF07-7E1F-44EA-84B0-98214C18191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2B04D0-AD0D-4661-85D8-0AF8EBE8CE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7362E-DA18-42BA-A79F-70641CDF0B8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8A93FA-52E9-4D7B-B47D-DDB2DA99AB6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63D320-1C35-4910-99ED-119AB1AA4AD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57EFF0-9FED-43DA-A040-3C813BE409F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5BB097-CE02-42AF-A39E-CAB72946B46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712052-6EC0-4DFD-92E3-B1977BEA1A9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5480AF-B33F-4DD9-9987-74EDE3B07D3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E69DBB-9D34-4944-97D2-FD1D2BBB50E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9A0E41-045D-4716-9721-D7C26DE3B3B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CF95E8-E376-4792-BAD8-ED56DEF4B29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F4D58D-679D-4B9E-8AB4-87C25692E0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7F2FF-F14A-4847-833E-72039127A86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FB1DAE-7DBA-461E-81F4-9747723909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63BF9-7102-401A-A17F-3C0E3F9322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20503-40FC-4878-9C4D-AB82D5DB36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DED66-ED19-4269-8744-DC7170EE01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62D3-F3C0-4F3E-8C4B-E97FFC004C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3"/>
          <p:cNvSpPr/>
          <p:nvPr/>
        </p:nvSpPr>
        <p:spPr>
          <a:xfrm>
            <a:off x="293760" y="1989000"/>
            <a:ext cx="8567640" cy="4394160"/>
          </a:xfrm>
          <a:prstGeom prst="rect">
            <a:avLst/>
          </a:prstGeom>
          <a:solidFill>
            <a:srgbClr val="0021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Line 13"/>
          <p:cNvSpPr/>
          <p:nvPr/>
        </p:nvSpPr>
        <p:spPr>
          <a:xfrm>
            <a:off x="0" y="64897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0" name="Picture 1" descr=""/>
          <p:cNvPicPr/>
          <p:nvPr/>
        </p:nvPicPr>
        <p:blipFill>
          <a:blip r:embed="rId2"/>
          <a:stretch/>
        </p:blipFill>
        <p:spPr>
          <a:xfrm>
            <a:off x="12600" y="0"/>
            <a:ext cx="9131400" cy="199080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2"/>
          <p:cNvSpPr/>
          <p:nvPr/>
        </p:nvSpPr>
        <p:spPr>
          <a:xfrm>
            <a:off x="306720" y="122400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42960"/>
                </a:solidFill>
                <a:latin typeface="Arial"/>
              </a:rPr>
              <a:t>Type author names here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06280" y="6534000"/>
            <a:ext cx="3807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© Alan Bryman, 2016. All rights reserved.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ftr" idx="3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4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95FE-A813-46D1-B0E2-647832C006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ftr" idx="5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Num" idx="6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CB03-B2BD-461C-87BC-638B3F9905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6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ftr" idx="7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ldNum" idx="8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E626-4622-46A2-AEDD-FCEDA0EBA8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ftr" idx="9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ldNum" idx="10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75AD-B2C0-4196-A481-AE33F00E08D0}" type="slidenum"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19908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25732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ff"/>
                </a:solidFill>
                <a:latin typeface="Arial"/>
              </a:rPr>
              <a:t>Μέθοδοι κοινωνικής έρευν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41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Arial"/>
              </a:rPr>
              <a:t>Κεφάλαιο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21: </a:t>
            </a:r>
            <a:r>
              <a:rPr b="0" i="1" lang="el-GR" sz="3200" spc="-1" strike="noStrike">
                <a:solidFill>
                  <a:srgbClr val="ffffff"/>
                </a:solidFill>
                <a:latin typeface="Arial"/>
              </a:rPr>
              <a:t>Ομάδες εστίαση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306000" y="122400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42960"/>
                </a:solidFill>
                <a:latin typeface="Arial"/>
              </a:rPr>
              <a:t>Alan Bryman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1" name="TextBox 1"/>
          <p:cNvSpPr/>
          <p:nvPr/>
        </p:nvSpPr>
        <p:spPr>
          <a:xfrm>
            <a:off x="2592360" y="5184720"/>
            <a:ext cx="37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4d99"/>
                </a:solidFill>
                <a:latin typeface="Arial"/>
              </a:rPr>
              <a:t>Διαφάνειες από τον </a:t>
            </a:r>
            <a:r>
              <a:rPr b="0" lang="en-GB" sz="2000" spc="-1" strike="noStrike">
                <a:solidFill>
                  <a:srgbClr val="004d99"/>
                </a:solidFill>
                <a:latin typeface="Arial"/>
              </a:rPr>
              <a:t>Tom Owen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7360" y="324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Η διατύπωση των ερωτήσε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ερικές γενικές ερωτήσεις για να προκληθεί συζήτη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Ή μια δομημένη λίστα συγκεκριμένων ζητημάτων για να συζητηθούν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ανοικτή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ροσέγγισ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νισχύει τη συζήτηση μεταξύ των συμμετεχόντ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πιτρέπει να ακουστούν διαφορετικές απόψει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Ή μια πιο δομημένη προσέγγιση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Όταν ο ερευνητής ήδη γνωρίζει πολλά για το θέμ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Όταν υπάρχει χαμηλό ενδιαφέρον των συμμετεχόντ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01640" y="324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Έναρξη και ολοκλήρωσ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01280" y="148608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ισαγωγ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υχαριστίες στους ανθρώπους που ήρθα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αρουσίαση του εαυτού σας και της έρευν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εριγραφή της μορφής και της διαδικασί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εοντολογικά ζητήματ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υλλογή δημογραφικών πληροφοριώ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ρτέλες με ονόματ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14560" y="149976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χόλια για το κλείσιμ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υχαριστίες για τη συμμετοχ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πεξήγηση σχετικά με το τι θα συμβεί με τα δεδομέν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ιευθέτηση πιθανών μελλοντικών συναντήσε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84280" y="97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Η αλληλεπίδραση της ομάδας στις συνεδρίες των ομάδων εστίασης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71680" y="157140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ημαντική επικέντρωση στη μέθοδο, αλλά συχνά παραβλέπεται στην βιβλιογραφία που την αξιοποιεί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itzinger (1994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Συμπληρωματικές αλληλεπιδράσει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Η συναίνεση αναδύετα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Συμφωνία μεταξύ οπτικώ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Ο κάθε συμμετέχων προσθέτει πάνω στο προηγούμενο σχόλιο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Αλληλεπίδραση επιχειρηματολογία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Οι συμμετέχοντες αμφισβητούν ο ένας τον άλλ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Οι απόψεις αναθεωρούνται και τροποποιούντα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Κάνει τους ανθρώπους να εκφράσουν τους λόγους για τους οποίος υιοθετούν συγκεκριμένες απόψει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1280" y="32364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Διαδικτυακές ομάδες εστίαση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71680" y="15714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500" spc="-1" strike="noStrike">
                <a:solidFill>
                  <a:srgbClr val="000000"/>
                </a:solidFill>
                <a:latin typeface="Arial"/>
              </a:rPr>
              <a:t>Σύγχρονες/ασύγχρονε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mail, forums/</a:t>
            </a:r>
            <a:r>
              <a:rPr b="0" lang="el-GR" sz="1500" spc="-1" strike="noStrike">
                <a:solidFill>
                  <a:srgbClr val="000000"/>
                </a:solidFill>
                <a:latin typeface="Arial"/>
              </a:rPr>
              <a:t>ομάδες συζήτησης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boards, </a:t>
            </a:r>
            <a:r>
              <a:rPr b="0" lang="el-GR" sz="1500" spc="-1" strike="noStrike">
                <a:solidFill>
                  <a:srgbClr val="000000"/>
                </a:solidFill>
                <a:latin typeface="Arial"/>
              </a:rPr>
              <a:t>λογισμικό διάσκεψη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500" spc="-1" strike="noStrike">
                <a:solidFill>
                  <a:srgbClr val="000000"/>
                </a:solidFill>
                <a:latin typeface="Arial"/>
              </a:rPr>
              <a:t>Πλεονεκτήματα έναντι της διά ζώσης συζήτηση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500" spc="-1" strike="noStrike">
                <a:solidFill>
                  <a:srgbClr val="000000"/>
                </a:solidFill>
                <a:latin typeface="Arial"/>
              </a:rPr>
              <a:t>Εξοικονομεί δαπάνες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1500" spc="-1" strike="noStrike">
                <a:solidFill>
                  <a:srgbClr val="000000"/>
                </a:solidFill>
                <a:latin typeface="Arial"/>
              </a:rPr>
              <a:t>χρόνου, χρημάτων, απόστασης, καταγραφής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500" spc="-1" strike="noStrike">
                <a:solidFill>
                  <a:srgbClr val="000000"/>
                </a:solidFill>
                <a:latin typeface="Arial"/>
              </a:rPr>
              <a:t>Χρήση προδιαμορφωμένων ‘δεσμευμένων πληθυσμών’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500" spc="-1" strike="noStrike">
                <a:solidFill>
                  <a:srgbClr val="000000"/>
                </a:solidFill>
                <a:latin typeface="Arial"/>
              </a:rPr>
              <a:t>Η γεωγραφική απόσταση διευκολύνει τη διαπολισμική συζήτηση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500" spc="-1" strike="noStrike">
                <a:solidFill>
                  <a:srgbClr val="000000"/>
                </a:solidFill>
                <a:latin typeface="Arial"/>
              </a:rPr>
              <a:t>Οι κειμενικές μορφές μπορούν να επιτρέψουν πιο υπεύθυνη συζήτηση μέσα στην ομάδα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Μειονεκτήματ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500" spc="-1" strike="noStrike">
                <a:solidFill>
                  <a:srgbClr val="000000"/>
                </a:solidFill>
                <a:latin typeface="Arial"/>
              </a:rPr>
              <a:t>Ζητήματα συμβατότητας λογισμικού και ικανότητας των ατόμων (π.χ. δακτυλογράφηση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500" spc="-1" strike="noStrike">
                <a:solidFill>
                  <a:srgbClr val="000000"/>
                </a:solidFill>
                <a:latin typeface="Arial"/>
              </a:rPr>
              <a:t>Σύμφωνα με τα στοιχεία, τα δεδομένα μπορεί να είναι πιο ισχυρά σε μια διά ζώσης συζήτηση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500" spc="-1" strike="noStrike">
                <a:solidFill>
                  <a:srgbClr val="000000"/>
                </a:solidFill>
                <a:latin typeface="Arial"/>
              </a:rPr>
              <a:t>Επιλογή και διαχείριση συμμετεχόντων και/ή της συζήτηση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500" spc="-1" strike="noStrike">
                <a:solidFill>
                  <a:srgbClr val="000000"/>
                </a:solidFill>
                <a:latin typeface="Arial"/>
              </a:rPr>
              <a:t>Το πόρισμα μπορεί να αποτελέσει πρόβλημα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500" spc="-1" strike="noStrike">
                <a:solidFill>
                  <a:srgbClr val="000000"/>
                </a:solidFill>
                <a:latin typeface="Arial"/>
              </a:rPr>
              <a:t>Ποσοστά απόκριση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Οι περιορισμοί των ομάδων εστίαση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57360" y="1493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 ερευνητής έχει μικρότερο έλεγχο των διαδικασι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α δεδομένα είναι δύσκολο να αναλυθού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αράγεται ένας μεγάλος όγκος δεδομέν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νάγκη για ανάλυση των θεμάτων για το τι λένε τα άτομα και των μορφών αλληλεπίδραση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υσκολία οργάνωσης/ κίνδυνος απουσι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ολύ χρονοβόρα απομαγνητοφώνησ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άση για περισσότερη συμφωνία παρά διαφωνία στις συζητήσει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ιθανότητα ο συμμετέχων να νιώσει άβολ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65280" y="368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Τι είναι μια ομάδα εστίασης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ίναι μια μορφή ομαδικής συνέντευξη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εριλαμβάνει πολλούς συμμετέχοντες και έναν συντονισ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Άτομα μιας ομάδας/ ενός κοινωνικού πλαισίο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υζήτηση ενός συγκεκριμένου θέματο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ελετά την αλληλεπίδραση μεταξύ των μελών των ομάδ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ώς εκφράζονται και τροποποιούνται οι απόψεις μέσα από τις ομαδικές συζητήσει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ΕΝ είναι μέσο για να λαμβάνονται με πιο αποδοτικό τρόπο συνεντεύξεις από τα άτομ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57360" y="368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Χρήσεις των ομάδων εστίαση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14240" y="1642680"/>
            <a:ext cx="77724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ια τη διερεύνηση του τρόπου με τον οποίο οι άνθρωποι (συλλογικά) κατασκευάζουν και οργανώνουν τη γνώσ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ια την κατανόηση του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γιατί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οι άνθρωποι έχουν και διατηρούν ορισμένες πεποιθήσει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ι συμμετέχοντες διαφωνούν και αμφισβητούν ο ένας τον άλλο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ια την εκμαίευση ενός μεγάλου εύρους απόψε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ίναι δημοφιλής στις πολιτισμικές μελέτες και στις μελέτες για τα μέσα ενημέρωσης ώστε να κατανοηθεί η ‘αποδοχή από το κοινό’ και οι ερμηνείες του για τα κείμενα των μέσων ενημέρωση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Χρήσιμες στη φεμινιστική έρευνα λόγω της συμβατότητας με τη δεοντολογία και την πολιτικές διεκδικήσεις του φεμινισμού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22000" y="32400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Η ομάδα εστίασης ως φεμινιστική μέθοδος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Wilkinson, 19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Λιγότερο τεχνητή από άλλε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Αντανακλά τη ‘φυσιολογική’ αλληλεπίδραση στην κοινωνική ζωή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αν και η κατάσταση της ομάδας εστίασης διαστρεβλώνεται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Δίνεται έμφαση σε καθημερινές εμπειρίε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ποφεύγει την απόσπαση των ατόμων από το πλαίσιό του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Γιατί τα άτομα είναι μέλη μιας ομάδα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ίναι λιγότερο εκμεταλλευτικ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Οι συμμετέχοντες ενδυναμώνονται καθώς συμμετέχουν στον συντονισμό μιας συζήτηση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7360" y="279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Ηχογράφηση και απομαγνητοφών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ρατήστε μαγνητοφωνημένο/ψηφιακό αρχείο αντί για σημειώσει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χογραφήστε πώς συζητήθηκε το θέμ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ιαδικασίες συλλογικής νοηματοδότη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Υπόγεια νοήματα της γλώσσ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γκη να μελετηθεί όχι μόνο τι λένε οι άνθρωποι, αλλά και ποιος λέει τ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πορεί να είναι δύσκολη η διάκριση των φωνών μεταξύ του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Χρησιμοποιήστε μικρόφωνο υψηλής ποιότητ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01640" y="279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Πόσες ομάδες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άνω από μία αλλά όχι πάρα πολλέ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υνεχίστε μέχρι να φτάσετε στο σημείο του θεωρητικού κορεσμο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οινωνικο-δημογραφικά χαρακτηριστικ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Χρησιμοποιήστε κριτήρια διαστρωμάτωσης (ηλικία, φύλο κτ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Χρειάζονται μεγαλύτεροι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ριθμοί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ομάδων ώστε να εκπροσωπηθεί μια μεγάλη ποικιλία απόψεω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ύπαρξη πολλών ομάδων αυξάνει τον όγκο των δεδομένων και την πολυπλοκότητα των αναλύσεων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01640" y="324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Το μέγεθος των ομάδων εστίαση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τά μέσο όρο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-10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έλη ανά ομάδ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ντάξτε περισσότερους για να αντισταθμίσετε τη ‘μη εμφάνιση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Χρησιμοποιήστε ομάδες μικρότερου μεγέθους όταν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α θέματα είναι ευαίσθητα ή αμφιλεγόμεν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ο κάθε άτομο έχει να πει πολλ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έλετε να σταχυολογήσετε προσωπικές αφηγήσει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Χρησιμοποιήστε ομάδες μεγαλύτερου μεγέθους όταν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έλετε να ακούσετε περισσότερες σύντομες απόψει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01640" y="368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Ο βαθμός ανάμιξης του συντονιστ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42960" y="157140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ροσπαθήστε να μην είστε παρεμβατικοί και να μην κατευθύνετ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ιατυπώστε μερικές γενικές ερωτήσεις για να ενισχύσετε τη συζήτηση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πιτρέψτε στους συμμετέχοντες να επεκταθούν σε ένα ευρύ φάσμα ζητημάτ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ντοπίστε τι θεωρούν σημαντικ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αρεμβείτε αν η συζήτηση παρεκκλίνει ή παρατηρείται μακροχρόνια σιωπή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παντήστε σε πιθανώς ενδιαφέροντα ζητήματα που δεν αναδεικνύονται από τους συμμετέχοντε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7360" y="368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Η επιλογή των συμμετεχόντ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4582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υνήθως στη βάση κοινών χαρακτηριστικών ή εμπειρι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οινωνικο-δημογραφικά στοιχεία, κριτήρια διαστρωμάτωσ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αζητήστε συστηματική ποικιλία μεταξύ των ομάδ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Άγνωστοι έναντι ‘φυσικών ομάδων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οιος διευκολύνει τη συζήτηση ενός θέματο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ι φυσικές ομάδες θεωρούν ορισμένες απόψεις δεδομένε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3:26:03Z</dcterms:created>
  <dc:creator>Kate Hilton</dc:creator>
  <dc:description/>
  <dc:language>en-US</dc:language>
  <cp:lastModifiedBy>Χρήστης των Windows</cp:lastModifiedBy>
  <cp:lastPrinted>2001-09-10T07:46:38Z</cp:lastPrinted>
  <dcterms:modified xsi:type="dcterms:W3CDTF">2018-11-27T23:00:46Z</dcterms:modified>
  <cp:revision>244</cp:revision>
  <dc:subject/>
  <dc:title>No Slide Title</dc:title>
</cp:coreProperties>
</file>