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5AC-B4D6-4E6F-A42B-E0964523E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073-BC42-4595-9076-6F5E74EBA66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994F9A8-4591-4702-B716-471C0A862FC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0E8-6EA9-4D35-AB95-7EC355DF589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A18ABF7-E626-4BEB-A86A-8F7728A2E30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2620-7DE2-4B92-B161-07CFF5CE87D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C8B2C7B-E3E2-4528-82D0-F2253B4CF3C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1670-07B6-4B7B-870C-3BE6D8275DFD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D3D7B07-B7AD-4403-A623-277FD0646AC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52E8-D682-4083-B665-958E57414183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478B87C-980D-410F-B5CE-A3620AFC5F6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668C-8A16-4323-934F-9C002644747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7095938-45E8-4521-BF53-C7C521A138A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DAA-32C8-496C-8ECD-DC03CCC94B3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2CAA14D-777F-4ACA-A66B-6E89AB70B60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921-609D-49AD-A1C5-84AD6F0DE2D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4C7C211-9F69-4954-9448-3BBEC00F244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9C6-8A9F-431D-8E37-896949942EC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EC62E8C-1367-46BA-A1A1-93E446471E5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3CC7-1468-46CA-9866-59CA776E38B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6701221-9D65-4E22-AD97-C102428C99D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303F-1D0C-4367-B4A2-63FA8952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CF81-9F45-4525-B402-94CD4B935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ADA3-9110-4086-B350-0D6E93F10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B61D-C6C4-4618-A0D8-B22271B5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21C-06B7-4668-AED1-DDAB33BEDF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A29-75B0-42A7-9453-D3F3E50684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DBD-9624-4B50-879D-07A67EB23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D88-58E6-43CA-9760-12A8CD96D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C75-F28C-4A0E-9BC8-C82429491B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819-D9DE-420B-8394-AB815CC91C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39E-AC9D-4A17-9D72-1CCEFCE15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B518-ECA9-4D07-AD90-13C374E33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070-6629-4D96-9AF9-2235EB42D6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903-9328-4CE9-B49B-3D8C81E01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9BB-74F2-4C9D-A888-393AB805D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E97-3619-417B-A607-F4FB2E7C56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077-4AB3-4098-BD32-B1D0945DCD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280E0-CA21-495D-80D5-195969A1E1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071FC-233B-42A5-8F0D-3CEF34DAC6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E0F5-1046-41B2-9094-4661076A9A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BCF9-CC6F-4C3A-BAD9-901F029912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0E767-200E-4CDA-B18D-C18BFDE94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F388-FC69-4EDD-BE4C-EC3C689E75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1999-561B-48A0-9D59-63EF56446B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6BC81-6736-4C56-8A63-7AB1D17A6B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9E5D-9682-421E-B331-DFD62113D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83E5-0FD9-4307-8843-27607AE7A7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BD47B-E350-4AB7-9F85-BA1198F6F1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2B35D-943D-4160-BD8A-427CAF6286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8E31C-1312-442B-A627-8408701905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90DEB-1CE8-4EF3-994E-B542859ABC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F1552-2F05-4EAB-B5A8-861A54FD48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45C2C-F705-4223-B020-9895E5172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7D23-6E4C-411D-B948-D8BA155831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D37E9-79FF-4AAB-B215-C264355C05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F54C6-B7A4-463E-9527-8A7B6C7BDB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22ED4-EFEB-4CD5-AFAC-889012BE37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F2CAA-4994-4966-9CDC-738565EA17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B18C7-4058-4DFF-9E4B-E831707790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18579-8C75-497A-AB15-0671DFF81B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F8083-5DF5-41EB-B466-C02789BAC3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FC77B-DA9E-48AF-A427-D64798AA29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9EAF6-ABF1-495B-8BC9-AED8101F26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F796-24C9-4D30-877F-F2B871969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A26C-B409-47B4-B515-702E98DA81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26B3-5068-4F2A-8345-F5C3C7AB20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BA28-7EA0-4EF4-9BD9-A5344025D6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AD05-656D-4F22-BDA8-48F4FFDF1A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072C-7A86-491B-99BC-B956C8AC51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2515-5A59-4379-AFB1-F7785B6205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46F9-0BB4-4438-87B6-5684E10F2C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2793-4659-49EC-A11E-58F6D317AB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A16B-500B-42FE-A78A-26F4CFB627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6039-DAC6-451A-9C23-9EC850D1A0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93ED-2E81-413A-991D-F451117C6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7CB3-FE87-4651-81B4-9C5CA48208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46AB-C4AA-47E5-9CC8-89AF118B3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FAE8-6875-4572-B956-11E3E6964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F841-7250-4F00-8795-A2C7CC00F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A5E6-02E6-43BD-84C2-54BB09B5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2F71-03B3-45AF-89BC-B387B3053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41120" y="648972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3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0A4-BF48-42BA-882B-52FA68DDF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5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FE4-2FA2-4E93-B9B4-ACAEFBFEF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ftr" idx="6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7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B3F-50D4-44B8-BC23-670E60417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Num" idx="9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0173-0824-46EF-8FCE-A2D16DC1B42E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11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διατύπωση ερωτ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9440" y="568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ιλοτική έρευνα και δοκιμαστική εφαρμογή των ερωτ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λέγξτε ότι το ερευνητικό εργαλείο λειτουργε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παιδευτείτε χρησιμοποιώντας το διάγραμμα συνέντευξ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ομαλό το πέρασμα από τη μια ερώτηση στην άλλ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τοπίστε ασαφείς ερωτήσεις ή ερωτήσεις που δημιουργούν σύγχυ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μακρύνετε ερωτήσεις στις οποίες όλοι απαντούν με τον ίδιο τρόπ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ανοικτές ερωτήσεις μπορεί να οδηγήσουν σε απαντήσεις προκαθορισμένης επιλογής για κλειστές ερωτήσεις στην κύρια έρευν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έξτε οι άνθρωποι που θα βοηθήσουν στην πιλοτική σας μελέτη να μην περιλαμβάνονται στο τελικό δείγμ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Χρήση υφισταμένων ερωτ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7000" y="1577520"/>
            <a:ext cx="754380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Κοινή πρακτική στην έρευνα επισκόπηση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Τα ερωτήματα έχουν ήδη δοκιμαστε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Είναι γνωστές οι παράμετροι αξιοπιστίας και εγκυρότητάς του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Επιτρέπει τις συγκρίσεις με άλλες έρευνε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Τράπεζες ερωτήσεω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ύνολα ερωτήσεων που χρησιμοποιήθηκαν σε προηγούμενες έρευν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νοικτές ερωτήσει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5360" y="155700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ρωτώμενοι μπορούν να απαντήσουν με δικούς τους όρ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ς επιτρέπουν να έχουμε νέες, ασυνήθιστες απαντή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ιμες για την εξερεύνηση νέων πεδίων και για τη διαμόρφωση απαντήσεων προκαθορισμένης επιλογ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επάγονται δαπάνη χρόνου για συνεντευκτές και  συνεντευξιαζόμεν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ύσκολη η κωδικοποίησή τ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αιτούν από τους ερωτώμενους μεγαλύτερη προσπάθε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εί να παρατηρηθούν διαφορές μεταξύ των συνεντευκτών κατά την καταγραφή των απαντ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1640" y="414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λειστές ερωτήσει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εονεκ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μπληρώνονται πιο γρήγορα και πιο εύκολ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λύτερα ποσοστά απόκρισης, ενώ λείπουν λιγότερα δεδομέν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 πιο εύκολο να επεξεργαστεί κανείς τα δεδομέν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ωδικοποιημένα εκ των προτέρω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γαλύτερη συγκρισιμότητα των απαντήσεω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ξιοπιστία μεταξύ των ατόμων που κωδικοποιού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ορισμένη ποικιλία απαντήσεων: έλλειψη αυθορμητισμ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ύσκολο να διαμορφώσει κανείς αμοιβαία αποκλειόμενες προκαθορισμένες απαντή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ρωτώμενοι μπορεί να ερμηνεύσουν τις ερωτήσεις διαφορετ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1640" y="458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ερωτ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σωπικές ερωτήσεις πληροφοριακού χαρακτή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ηροφοριακές ερωτήσεις που αφορούν άλ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ωτήσεις πληροφοριακού χαρακτήρα που αφορούν τον πληροφορητ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ωτήσεις που αφορούν στ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ωτήσεις που αφορούν πεποιθ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ωτήσεις που αφορούν καθιερωμένα πρότυπα και αξ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ωτήσεις που αφορούν γνώ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1640" y="458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χεδιασμός ερωτήσεων: Γενικοί Κανόν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θυμάστε τα ερευνητικά σας ερωτή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φασίστε τι ακριβώς είναι αυτό που θέλετε να μάθετ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ανταστείτε ότι είστε ο ερωτώμε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θα απαντούσατε εσείς τις ερωτήσει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τοπίστε ασαφείς ή παραπλανητικές ερωτ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7360" y="503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ι να αποφύγετε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6120" y="1405080"/>
            <a:ext cx="80629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Ασαφείς όρους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χν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κτικ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ύ συχν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Μακροσκελείς ερω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Διττές ερωτήσεις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υπάρχουν διαφορετικές ερωτήσεις για το κάθε τους μέρ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Πολύ γενικές ερωτήσεις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τί στερούνται πλαισίου αναφορά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Καθοδηγητικές ερωτήσεις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καθοδηγούν τον ερωτώμενο σε μια ορισμένη κατεύθυνσ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Ερωτήσεις που στην πραγματικότητα είναι διπλ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Ερωτήσεις που περιέχουν άρνησ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τ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ιδικά με διπλή άρν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Τεχνικούς όρου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ειδικευμένη φρασεολογία και ακρωνύμι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ράγματα που πρέπει να εξασφαλίσετε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57160" y="164268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Έχουν οι ερωτώμενοι την απαιτούμενη γνώση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ν θέλετε μια απάντηση ναι ή όχι, έχετε δώσει περισσότερες προσφερόμενες απαντήσεις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Έχετε δώσει ισάριθμες θετικές και αρνητικές απαντήσεις σε κάποια ερώτηση για να μη δημιουργηθεί μεροληψία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ασίζεστε υπερβολικά στη μνήμη των ερωτωμένων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Έχετε σκεφτεί αν θα έπρεπε να συμπεριλάβετε την εναλλακτική απάντηση ‘δε γνωρίζω’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1640" y="122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υνήθη σφάλματα κατά τη διατύπωση ερωτ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6652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ερβολική χρήση ανοικτών ερωτ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ερβολική χρήση διχοτομικών ερωτήσεων (Ναι/όχ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δίνονται σαφείς οδηγίες για τη συμπλήρωση των απαντήσεω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πληρώστε το κουτ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υκλώστ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γράψτ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ηλοεπικάλυψη κατηγ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ταιριάζουν περισσότερες από μία απαν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απαντήσεις δεν αντιστοιχούν στην ερώτ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1640" y="233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ωτήσεις-βινιέ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5920" y="16315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ουσιάστε στους ερωτώμενους μια ιστορ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Ρωτήστε τους πώς θα αντιδρούσαν ή τι θεωρούν ότι θα έπρεπε να κάνουν οι χαρακτήρε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ι ερωτήσεις-βινιέτες συνδέουν τις επιλογές και τις απόψεις με ένα συγκεκριμένο πλαίσιο (μπορεί να είναι ευκολότερο να απαντηθούν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ίναι χρήσιμες για ευαίσθητα θέ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κρότερο αίσθημα απειλή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φανταστικοί χαρακτήρες δημιουργούν κοινωνική απόστ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15T21:10:21Z</dcterms:modified>
  <cp:revision>213</cp:revision>
  <dc:subject/>
  <dc:title>No Slide Title</dc:title>
</cp:coreProperties>
</file>