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983413" cy="10120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0"/>
            <a:ext cx="6984000" cy="101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3"/>
          </p:nvPr>
        </p:nvSpPr>
        <p:spPr>
          <a:xfrm>
            <a:off x="3955680" y="-36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Img"/>
          </p:nvPr>
        </p:nvSpPr>
        <p:spPr>
          <a:xfrm>
            <a:off x="961920" y="758520"/>
            <a:ext cx="5060880" cy="379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ftr" idx="14"/>
          </p:nvPr>
        </p:nvSpPr>
        <p:spPr>
          <a:xfrm>
            <a:off x="-360" y="961200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 type="sldNum" idx="15"/>
          </p:nvPr>
        </p:nvSpPr>
        <p:spPr>
          <a:xfrm>
            <a:off x="3955680" y="961200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E05D-8AF9-47FA-8383-79DD7FCF56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D202-8456-4E02-830B-77538EBEF1B0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22522F53-E461-4E19-8C4A-5C7997C3831D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30EF-C96E-4A4A-B7F2-2A1C7C217871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CEB41A2F-B316-4E6A-9B51-7C5252552EFD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12F2-720C-41AE-9BC1-C55450F10355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38118D30-E961-4893-B39F-0925434F4119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0780-4288-4591-98EF-4B3B4AFEB215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983B249A-9C12-4615-9741-EE39295009B1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19C6-4F61-4111-AC90-8B10C424BCC4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DC389A75-5F37-4D13-A8E3-655F0D8B3541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389E-22C9-47D2-9423-75FE0AFB0D26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4FFBBA3D-A579-42DC-9B3B-3320BD74A345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6403-867A-49DC-B58E-8794F95791C7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AC2C6B7D-2577-4FC9-A993-EAC4BBD13FFF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31AC-BB77-4069-95E3-C3C955D6EE6F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355B6AB3-5187-4D93-8CC4-925A28769070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C7E9-320E-4BEC-82DE-C0569AD5A4CF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6936A973-0156-4FD5-8F3F-520BFD9E22CB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30710-4DFF-4BA7-8F17-744B5B07CD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1E8A5-901B-4423-A82C-19CEA24A51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43CB4-0C03-4FE6-BC4F-603072AC13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6E189-55E9-4097-893A-2B4244CA88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A8D32C-DDCE-44C3-8908-85494D6BB3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BFD31D-E44C-4092-B502-48A14EFB81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30A25-57AA-4B61-9021-7359DDAD72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0BC16-DD36-4A3B-B480-0ACE8447CF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1BB25D-377E-4E4C-B420-C1EBA5F630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B27285-2C81-44D7-82EA-4A03A32585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5F90CB-6BC7-461F-8C98-7462864D0F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9363A-35CE-4E64-9EB3-4EBFF62DB1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07506-FDAE-4C68-96D9-07B65BA02B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37D078-03A3-4EBA-801C-DCC18FC345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DBD51D-3942-4089-9F33-1B578D72AB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D70DB2-1FB9-45AF-A410-371ECDD1FF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0014A-2B1E-4109-A864-9A466E28EF4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F8C7-A339-4789-AFB4-CBD29DB8350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9B6B-13EB-46A9-9DE5-06DE3B528CB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A1EF-3551-4CB3-9B5E-96DA00DDF2F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807F-F42F-4C95-9948-11FB847DD59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BDB5-D9F5-4186-88F8-4A3826DD8B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5967A-6090-4FA3-8859-1BB32A84665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09A2-EFA6-4689-8642-475872ABDE3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98AB-69A2-4001-968D-9F029E27862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1E37-3FD7-457C-BD0B-2409004D33E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4957-2047-4F06-8A60-67909941EBB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3819-6A81-46EF-B7C3-21069323E9C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CC0B-7C19-4E20-A672-6942D462F8B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F714-F9C6-4111-9452-1550B95E4CE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57E40A-ADE0-46A6-8A8E-4EA249D7156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B118EA-13F0-44CC-B4C9-56FEBE66326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550FA2-BEE0-4FAB-B488-209E2FFF2E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2AD5B-61A6-41D3-BE9F-7274FBD0097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8C80BD-C53B-457F-A20B-2F4113776C5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EBFB2B-DC6D-4F66-BC15-3A04F18CFF2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98FD33-53AC-4911-97DB-AA9203C374C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0633D2-734A-4A0F-8A48-BCF99781305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D2B077-EBDE-43D7-823C-A1EC91C5C51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837CF6-7F4B-40D6-90B5-980376E386D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70B2F8-DD05-4DC7-97D5-CEC0A5083F6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6E40A8-6A6E-498C-A9B3-7C39181466A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955612-E1A5-42B5-AF0D-184B9B1A70B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CA948F-4661-467A-B166-08671A3FC3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5E4AD-1893-4CB8-8827-B602907003B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52CA4C-78F9-41B1-94AF-FFD0F62A1F7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27B506-DD9B-4BC8-B679-325646EE02D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A76692-5F07-492B-A6AE-D05708C6F34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1C89CB-7CE6-4B78-956E-5EF6D0CCE52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5C9B93-1A88-4288-A90D-2F809DE05B3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9205E4-AFFE-4269-8C68-DB09C1C5EF2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88483D-0A73-436B-AC10-6BEE1E8CE7A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0AC031-9CD7-4EE7-B43C-584E3FEDCAF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6CE123-0F2A-4008-B2B2-5EDA2EF6E79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675E04-1DD1-46B1-AC9C-4B05BA06A1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5A571-DFDC-4B8D-A401-C84A1FBCA7A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2411A2-4952-48AB-8175-F02493B8CC6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8BDF8-7F00-4E98-A702-0DFC0188894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C8F5D-3638-4AA5-AED7-CD71D2E53C8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E83DF-3237-4229-8663-45F9D1C5BFF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30091-C20F-4DF1-BDA4-1F05E77C4C4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82C42-BEA8-41AB-B958-A93E2A1FBDE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467AC-1851-44EB-8002-7006AC89B24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DC80C-8736-4645-AB39-581D26ABC6C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2F8C9-0D0F-4803-BC18-AF8980CCDAB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F4D4B-3425-4ED7-A60E-5A3C9259E6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A3629-E9A6-4D90-A6D3-77554B25096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DB744-FAA3-4B16-8484-67D384450BB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19DC8-5D9D-4CD4-A244-704D5131A67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D389D-05C6-4956-AA17-608B5178DC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68063-5D71-4227-8726-BC22D40694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A85C0-F11E-494B-8DBA-49C4BBCD62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3C24-C47F-4A51-AA8D-B62B3D690A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3"/>
          <p:cNvSpPr/>
          <p:nvPr/>
        </p:nvSpPr>
        <p:spPr>
          <a:xfrm>
            <a:off x="293760" y="1989000"/>
            <a:ext cx="8567640" cy="4394160"/>
          </a:xfrm>
          <a:prstGeom prst="rect">
            <a:avLst/>
          </a:prstGeom>
          <a:solidFill>
            <a:srgbClr val="0021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Line 13"/>
          <p:cNvSpPr/>
          <p:nvPr/>
        </p:nvSpPr>
        <p:spPr>
          <a:xfrm>
            <a:off x="0" y="648972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0" name="Picture 1" descr=""/>
          <p:cNvPicPr/>
          <p:nvPr/>
        </p:nvPicPr>
        <p:blipFill>
          <a:blip r:embed="rId2"/>
          <a:stretch/>
        </p:blipFill>
        <p:spPr>
          <a:xfrm>
            <a:off x="12600" y="0"/>
            <a:ext cx="9131400" cy="199080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2"/>
          <p:cNvSpPr/>
          <p:nvPr/>
        </p:nvSpPr>
        <p:spPr>
          <a:xfrm>
            <a:off x="306720" y="122400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42960"/>
                </a:solidFill>
                <a:latin typeface="Arial"/>
              </a:rPr>
              <a:t>Type author names here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206280" y="6534000"/>
            <a:ext cx="38070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© Alan Bryman, 2016. All rights reserved.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ftr" idx="3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4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5E59-95EC-420B-B4C9-BFE4A0D205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-6480" y="0"/>
            <a:ext cx="9144000" cy="1230480"/>
          </a:xfrm>
          <a:prstGeom prst="rect">
            <a:avLst/>
          </a:prstGeom>
          <a:solidFill>
            <a:srgbClr val="04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7613640" y="618480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71280" y="648828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Bryman: 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Social Research Methods, 5</a:t>
            </a:r>
            <a:r>
              <a:rPr b="0" i="1" lang="en-GB" sz="1400" spc="-1" strike="noStrike" baseline="30000">
                <a:solidFill>
                  <a:srgbClr val="a6a6a6"/>
                </a:solidFill>
                <a:latin typeface="Arial"/>
              </a:rPr>
              <a:t>th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ftr" idx="5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Num" idx="6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E302-A9D1-4D8F-A99E-34BC75CDEB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-6480" y="0"/>
            <a:ext cx="9144000" cy="1230480"/>
          </a:xfrm>
          <a:prstGeom prst="rect">
            <a:avLst/>
          </a:prstGeom>
          <a:solidFill>
            <a:srgbClr val="04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6" name="Picture 1" descr=""/>
          <p:cNvPicPr/>
          <p:nvPr/>
        </p:nvPicPr>
        <p:blipFill>
          <a:blip r:embed="rId2"/>
          <a:stretch/>
        </p:blipFill>
        <p:spPr>
          <a:xfrm>
            <a:off x="7613640" y="618480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71280" y="648828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Bryman: 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Social Research Methods, 5</a:t>
            </a:r>
            <a:r>
              <a:rPr b="0" i="1" lang="en-GB" sz="1400" spc="-1" strike="noStrike" baseline="30000">
                <a:solidFill>
                  <a:srgbClr val="a6a6a6"/>
                </a:solidFill>
                <a:latin typeface="Arial"/>
              </a:rPr>
              <a:t>th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ftr" idx="7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ldNum" idx="8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9D61-C505-4FA5-B1AC-7623C0B0BC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-6480" y="0"/>
            <a:ext cx="9144000" cy="1230480"/>
          </a:xfrm>
          <a:prstGeom prst="rect">
            <a:avLst/>
          </a:prstGeom>
          <a:solidFill>
            <a:srgbClr val="04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8" name="Picture 1" descr=""/>
          <p:cNvPicPr/>
          <p:nvPr/>
        </p:nvPicPr>
        <p:blipFill>
          <a:blip r:embed="rId2"/>
          <a:stretch/>
        </p:blipFill>
        <p:spPr>
          <a:xfrm>
            <a:off x="7613640" y="618480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TextBox 5"/>
          <p:cNvSpPr/>
          <p:nvPr/>
        </p:nvSpPr>
        <p:spPr>
          <a:xfrm>
            <a:off x="71280" y="648828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Bryman: 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Social Research Methods, 5</a:t>
            </a:r>
            <a:r>
              <a:rPr b="0" i="1" lang="en-GB" sz="1400" spc="-1" strike="noStrike" baseline="30000">
                <a:solidFill>
                  <a:srgbClr val="a6a6a6"/>
                </a:solidFill>
                <a:latin typeface="Arial"/>
              </a:rPr>
              <a:t>th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ftr" idx="9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ldNum" idx="10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3BFA-A283-4348-9E81-AA87FD8BAC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3"/>
          <p:cNvSpPr/>
          <p:nvPr/>
        </p:nvSpPr>
        <p:spPr>
          <a:xfrm>
            <a:off x="-6480" y="0"/>
            <a:ext cx="9144000" cy="1230480"/>
          </a:xfrm>
          <a:prstGeom prst="rect">
            <a:avLst/>
          </a:prstGeom>
          <a:solidFill>
            <a:srgbClr val="04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11" name="Picture 1" descr=""/>
          <p:cNvPicPr/>
          <p:nvPr/>
        </p:nvPicPr>
        <p:blipFill>
          <a:blip r:embed="rId2"/>
          <a:stretch/>
        </p:blipFill>
        <p:spPr>
          <a:xfrm>
            <a:off x="7613640" y="618480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212" name="TextBox 5"/>
          <p:cNvSpPr/>
          <p:nvPr/>
        </p:nvSpPr>
        <p:spPr>
          <a:xfrm>
            <a:off x="71280" y="648828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Bryman: 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Social Research Methods, 5</a:t>
            </a:r>
            <a:r>
              <a:rPr b="0" i="1" lang="en-GB" sz="1400" spc="-1" strike="noStrike" baseline="30000">
                <a:solidFill>
                  <a:srgbClr val="a6a6a6"/>
                </a:solidFill>
                <a:latin typeface="Arial"/>
              </a:rPr>
              <a:t>th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ftr" idx="11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ldNum" idx="12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C07F-A8CD-4D0B-85C1-2E0C1A636C25}" type="slidenum"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19908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11280" y="25732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ff"/>
                </a:solidFill>
                <a:latin typeface="Arial"/>
              </a:rPr>
              <a:t>Μέθοδοι κοινωνικής έρευνα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241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ff"/>
                </a:solidFill>
                <a:latin typeface="Arial"/>
              </a:rPr>
              <a:t>Κεφάλαιο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 3: </a:t>
            </a:r>
            <a:r>
              <a:rPr b="0" i="1" lang="el-GR" sz="3200" spc="-1" strike="noStrike">
                <a:solidFill>
                  <a:srgbClr val="ffffff"/>
                </a:solidFill>
                <a:latin typeface="Arial"/>
              </a:rPr>
              <a:t>Το ερευνητικό σχέδι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"/>
          <p:cNvSpPr/>
          <p:nvPr/>
        </p:nvSpPr>
        <p:spPr>
          <a:xfrm>
            <a:off x="306000" y="122400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42960"/>
                </a:solidFill>
                <a:latin typeface="Arial"/>
              </a:rPr>
              <a:t>Alan Bryman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Κίνδυνοι για την εσωτερική εγκυρότητ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Άλλα γεγονότα,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άσχετα με το πείραμ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θα μπορούσαν να έχουν προκαλέσει τις αλλαγές που παρατηρήθηκαν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‘</a:t>
            </a:r>
            <a:r>
              <a:rPr b="1" i="1" lang="el-GR" sz="2000" spc="-1" strike="noStrike">
                <a:solidFill>
                  <a:srgbClr val="000000"/>
                </a:solidFill>
                <a:latin typeface="Arial"/>
              </a:rPr>
              <a:t>ιστορικό υπόβαθρο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ι ερευνώμενοι μπορεί να αποκτήσουν πείρα στη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i="1" lang="el-GR" sz="2000" spc="-1" strike="noStrike">
                <a:solidFill>
                  <a:srgbClr val="000000"/>
                </a:solidFill>
                <a:latin typeface="Arial"/>
              </a:rPr>
              <a:t>δοκιμασί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ι άνθρωπο αλλάζουν με το χρόνο, όσον αφορά σε κάθε γεγονό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‘</a:t>
            </a:r>
            <a:r>
              <a:rPr b="1" i="1" lang="el-GR" sz="2000" spc="-1" strike="noStrike">
                <a:solidFill>
                  <a:srgbClr val="000000"/>
                </a:solidFill>
                <a:latin typeface="Arial"/>
              </a:rPr>
              <a:t>ωρίμανση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ια μη τυχαί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‘</a:t>
            </a:r>
            <a:r>
              <a:rPr b="1" i="1" lang="el-GR" sz="2000" spc="-1" strike="noStrike">
                <a:solidFill>
                  <a:srgbClr val="000000"/>
                </a:solidFill>
                <a:latin typeface="Arial"/>
              </a:rPr>
              <a:t>επιλογή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θα μπορούσε να δικαιολογεί διαφορέ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i="1" lang="el-GR" sz="2000" spc="-1" strike="noStrike">
                <a:solidFill>
                  <a:srgbClr val="000000"/>
                </a:solidFill>
                <a:latin typeface="Arial"/>
              </a:rPr>
              <a:t>Απροσδιόριστη κατεύθυνση της αιτιώδους εξάρτηση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πειδή ορισμένες φορές η χρονική αλληλουχία δεν είναι ξεκάθαρ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Κίνδυνοι για την εξωτερική εγκυρότητ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έντε κίνδυνοι για την εξωτερική εγκυρότητα/γενικευσιμότητ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λληλεπίδραση μεταξύ επιλογής και πειραματικού χειρισμο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λληλεπίδραση μεταξύ πλαισίου και πειραματικού χειρισμο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λληλεπίδραση μεταξύ ιστορικού πλαισίου και πειραματικού χειρισμο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πιπτώσεις από την αλληλεπίδραση με την προκαταρκτική δοκιμασί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πιπτώσεις απόκρισης στην προετοιμασία του πειράματο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(Campbell, 1975,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και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ampbell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και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ok, 197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Συγχρονικό σχέδι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684360" y="1700280"/>
            <a:ext cx="777528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l-GR" sz="2200" spc="-1" strike="noStrike">
                <a:solidFill>
                  <a:srgbClr val="000000"/>
                </a:solidFill>
                <a:latin typeface="Arial"/>
              </a:rPr>
              <a:t>Το συγχρονικό σχέδιο περιλαμβάνει συλλογή δεδομένων για περισσότερες από μία (συνήθως πολύ περισσότερες από μία) μονάδες ανάλυσης σε ορισμένο χρονικό σημείο, προκειμένου να συλλεχθούν ποσοτικά ή ποσοτικοποιήσιμα δεδομένα για δύο ή περισσότερες μεταβλητές (συνήθως πολύ περισσότερες από δύο), τα οποία κατόπιν εξετάζονται ώστε να εντοπιστούν συγκεκριμένοι συνδυασμοί συσχετίσεων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.” </a:t>
            </a:r>
            <a:endParaRPr b="0" lang="en-US" sz="2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ε ένα δείγμα μονάδων ανάλυση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ε ορισμένο χρονικό σημείο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Ποσοτικά ή ποσοτικοποιήσιμα δεδομένα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Συνδυασμοί συσχετίσεων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"/>
          <p:cNvSpPr/>
          <p:nvPr/>
        </p:nvSpPr>
        <p:spPr>
          <a:xfrm>
            <a:off x="826920" y="1700280"/>
            <a:ext cx="7632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Η έρευνα επισκόπησης περιλαμβάνει συγχρονικό σχέδιο βάσει του οποίου συλλέγονται δεδομένα, πρωτίστως μέσω ερωτηματολογίων ή δομημένων συνεντεύξεων για περισσότερες από μία περιπτώσεις (συνήθως πολύ περισσότερες από μία) σε ορισμένο χρονικό σημείο, προκειμένου να συλλεχθούν ποσοτικά ή ποσοτικοποιήσιμα δεδομένα για διάφορες μεταβλητές (συνήθως πολύ περισσότερες από δύο), τα οποία κατόπιν εξετάζονται ώστε να εντοπιστούν συγκεκριμένοι συνδυασμοί συσχετίσεων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Ένα δείγμα περιπτώσεων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Σε ορισμένο χρονικό σημείο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Χρησιμοποιώντας δεδομένα που συλλέχθηκαν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μέσω ερωτηματολογίων ή δομημένων συνεντεύξεων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Συνδυασμοί συσχετίσεων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8" name="TextBox 2"/>
          <p:cNvSpPr/>
          <p:nvPr/>
        </p:nvSpPr>
        <p:spPr>
          <a:xfrm>
            <a:off x="1052640" y="368280"/>
            <a:ext cx="66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..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και έρευνα επισκόπησης;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Συγχρονικό σχέδι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Εικόνα 1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1974600" cy="3279960"/>
          </a:xfrm>
          <a:prstGeom prst="rect">
            <a:avLst/>
          </a:prstGeom>
          <a:ln w="0">
            <a:noFill/>
          </a:ln>
        </p:spPr>
      </p:pic>
      <p:pic>
        <p:nvPicPr>
          <p:cNvPr id="291" name="Εικόνα 2" descr=""/>
          <p:cNvPicPr/>
          <p:nvPr/>
        </p:nvPicPr>
        <p:blipFill>
          <a:blip r:embed="rId2"/>
          <a:stretch/>
        </p:blipFill>
        <p:spPr>
          <a:xfrm>
            <a:off x="3146400" y="2081160"/>
            <a:ext cx="565632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Box 1"/>
          <p:cNvSpPr/>
          <p:nvPr/>
        </p:nvSpPr>
        <p:spPr>
          <a:xfrm>
            <a:off x="900000" y="59364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Αξιολόγηση της συγχρονικής έρευνα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3" name="TextBox 2"/>
          <p:cNvSpPr/>
          <p:nvPr/>
        </p:nvSpPr>
        <p:spPr>
          <a:xfrm>
            <a:off x="684360" y="1595520"/>
            <a:ext cx="7991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Η </a:t>
            </a:r>
            <a:r>
              <a:rPr b="1" i="1" lang="el-GR" sz="2000" spc="-1" strike="noStrike">
                <a:solidFill>
                  <a:srgbClr val="000000"/>
                </a:solidFill>
                <a:latin typeface="Arial"/>
              </a:rPr>
              <a:t>Αξιοπιστία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αι η </a:t>
            </a:r>
            <a:r>
              <a:rPr b="1" i="1" lang="el-GR" sz="2000" spc="-1" strike="noStrike">
                <a:solidFill>
                  <a:srgbClr val="000000"/>
                </a:solidFill>
                <a:latin typeface="Arial"/>
              </a:rPr>
              <a:t>Εγκυρότητα μέτρησης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εν συνδέονται με το σχέδιο καθαυτό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1" i="1" lang="el-GR" sz="2000" spc="-1" strike="noStrike">
                <a:solidFill>
                  <a:srgbClr val="000000"/>
                </a:solidFill>
                <a:latin typeface="Arial"/>
              </a:rPr>
              <a:t> Επαναληψιμότητα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θα είναι υψηλή εφόσον ο ερευνητής διατυπώνει ξεκάθαρα όλες τις διαδικασίε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Η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Εσωτερική εγκυρότητα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είναι ασθενής, γιατί είναι πολύ πιο πιθανό να βρεθούν συσχετίσεις, παρά αιτιώδεις εξαρτήσεις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Η </a:t>
            </a:r>
            <a:r>
              <a:rPr b="1" i="1" lang="el-GR" sz="2000" spc="-1" strike="noStrike">
                <a:solidFill>
                  <a:srgbClr val="000000"/>
                </a:solidFill>
                <a:latin typeface="Arial"/>
              </a:rPr>
              <a:t>Εξωτερική εγκυρότητα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θα είναι ισχυρή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εφόσον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το δείγμα είναι πράγματι τυχαίο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Η </a:t>
            </a:r>
            <a:r>
              <a:rPr b="1" i="1" lang="el-GR" sz="2000" spc="-1" strike="noStrike">
                <a:solidFill>
                  <a:srgbClr val="000000"/>
                </a:solidFill>
                <a:latin typeface="Arial"/>
              </a:rPr>
              <a:t>Οικολογική εγκυρότητα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πορεί να απειληθεί από τα εργαλεία που θα χρησιμοποιηθούν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Διαχρονικό σχέδι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62012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Τουλάχιστον δύο επισκοπήσεις του ίδιου δείγματος, που επαναλαμβάνεται σε διαφορετικές χρονικές περιόδου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Τυπικά χρησιμοποιείται για να αποτυπώσει αλλαγές στην κοινωνική έρευν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Σε μια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μελέτη σταθερού δείγματος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π.χ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Έρευνα για την κατανόηση της κοινωνίας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βλ. Στιγμιότυπο έρευνας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3.10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Ή σε μια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l-GR" sz="1600" spc="-1" strike="noStrike">
                <a:solidFill>
                  <a:srgbClr val="000000"/>
                </a:solidFill>
                <a:latin typeface="Arial"/>
              </a:rPr>
              <a:t>μελέτη κοόρτης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π.χ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NCDS –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Εθνική Έρευνα για την Ανάπτυξη του Παιδιού – βλ. Στιγμιότυπο έρευνας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3.11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δείγμα παιδιών που γεννήθηκαν το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95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Έρευνες όπως η Έρευνα για την Εγκληματικότητα στην Αγγλία και την Ουαλία και  η Έρευνα για τις Κοινωνικές Στάσεις στη Βρετανία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δεν αποτελούν διαχρονικές έρευνες διότι δεν περιλαμβάνουν συνεντεύξεις με τους ίδιους ανθρώπους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θα μπορούσαμε καλύτερα να θεωρήσουμε ότι περιλαμβάνουν ένα επαναλαμβανόμενο συγχρονικό σχέδι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Το διαχρονικό σχέδι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Εικόνα 1" descr=""/>
          <p:cNvPicPr/>
          <p:nvPr/>
        </p:nvPicPr>
        <p:blipFill>
          <a:blip r:embed="rId1"/>
          <a:stretch/>
        </p:blipFill>
        <p:spPr>
          <a:xfrm>
            <a:off x="2276640" y="1716120"/>
            <a:ext cx="402084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Box 1"/>
          <p:cNvSpPr/>
          <p:nvPr/>
        </p:nvSpPr>
        <p:spPr>
          <a:xfrm>
            <a:off x="1547640" y="41436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Αξιολόγηση του διαχρονικού σχεδίου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9" name="TextBox 2"/>
          <p:cNvSpPr/>
          <p:nvPr/>
        </p:nvSpPr>
        <p:spPr>
          <a:xfrm>
            <a:off x="755640" y="1557360"/>
            <a:ext cx="770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Arial"/>
              </a:rPr>
              <a:t>Φθορά του δείγματο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λόγω θανάτων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ετακομίσεων ή αποχώρησης από την έρευνα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Γνώση του </a:t>
            </a:r>
            <a:r>
              <a:rPr b="1" i="1" lang="el-GR" sz="2000" spc="-1" strike="noStrike">
                <a:solidFill>
                  <a:srgbClr val="000000"/>
                </a:solidFill>
                <a:latin typeface="Arial"/>
              </a:rPr>
              <a:t>πότε είναι η βέλτιστη χρονική περίοδος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για τις μετέπειτα φάσεις συλλογής δεδομένων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Η </a:t>
            </a:r>
            <a:r>
              <a:rPr b="1" i="1" lang="el-GR" sz="2000" spc="-1" strike="noStrike">
                <a:solidFill>
                  <a:srgbClr val="000000"/>
                </a:solidFill>
                <a:latin typeface="Arial"/>
              </a:rPr>
              <a:t>ελλιπής προετοιμασία της πρώτης φάσης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ή η πρώτη φάση δεν είχε αρχικά σχεδιαστεί για διαχρονική έρευνα, κάτι που αποσυντονίζει τις μετέπειτα φάσει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Μπορεί να επέλθει</a:t>
            </a:r>
            <a:r>
              <a:rPr b="1" i="1" lang="el-GR" sz="2000" spc="-1" strike="noStrike">
                <a:solidFill>
                  <a:srgbClr val="000000"/>
                </a:solidFill>
                <a:latin typeface="Arial"/>
              </a:rPr>
              <a:t> επηρεασμός του σταθερού δείγματος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Σχέδιο μελέτης περίπτωση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Λεπτομερής και ενδελεχής ανάλυση μιας μεμονωμένης περίπτω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.χ. μιας μεμονωμένης κοινότητας, ενός μεμονωμένου σχολείου, μιας μεμονωμένης οικογένειας, ενός συγκεκριμένου προσώπου, ενός μεμονωμένου γεγονότος ή οργανισμο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υχνά περιλαμβάνει ποιοτική έρευνα, αλλά όχι απαραίτητ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Η προσέγγιση είναι συνήθως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ιδιογραφική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ύποι περιπτώσεων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η κρίσιμη, η μοναδική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η αντιπροσωπευτική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η αποκαλυπτική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η διαχρονικ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.χ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Holdaway (1982, 1983):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θνογραφία της επαγγελματικής κουλτούρας σε ένα συγκεκριμένο σώμα αστυνομικών  δυνάμε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22000" y="252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Ερευνητικά σχέδια  και ερευνητικές μέθοδο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632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307080" indent="-307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Το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Ερευνητικό Σχέδιο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προσφέρει το πλαίσιο για τη συλλογή και  ανάλυση δεδομένων. Στην επιλογή ερευνητικού σχεδίου αποτυπώνονται αποφάσεις αναφορικά με την προτεραιότητα που δίνεται σε πτυχές της ερευνητικής διαδικασία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7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836640" y="3878280"/>
            <a:ext cx="7848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Η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Ερευνητική Μέθοδος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αποτελεί απλώς την τεχνική συλλογής δεδομένων. Στην επιλογή ερευνητικής μεθόδου αποτυπώνονται οι αποφάσεις αναφορικά με τον τύπο των εργαλείων ή τεχνικών που θα χρησιμοποιηθούν.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85920" indent="-3859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Box 1"/>
          <p:cNvSpPr/>
          <p:nvPr/>
        </p:nvSpPr>
        <p:spPr>
          <a:xfrm>
            <a:off x="309600" y="98280"/>
            <a:ext cx="85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Αξιολόγηση του ερευνητικού σχεδίου μελέτης περίπτωση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3" name="TextBox 2"/>
          <p:cNvSpPr/>
          <p:nvPr/>
        </p:nvSpPr>
        <p:spPr>
          <a:xfrm>
            <a:off x="971640" y="1700280"/>
            <a:ext cx="7272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ο σημαντικότερο ζήτημα αφορά στην εξωτερική εγκυρότητα, γιατί είναι αδύνατη η γενίκευση των ευρημάτων.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ολλοί συγγραφείς υποστηρίζουν ωστόσο ότι στόχος της έρευνας είναι η μελέτη μεμονωμένων περιπτώσεων, παρά η προσπάθεια για γενίκευση. Αντίθετα, η ποιότητα της θεωρητικής ανάλυσης αποκτά προτεραιότητ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ι περιπτώσεις μπορεί να επεκταθούν είτε με τη μορφή διαχρονικού σχεδίου είτε με τη μορφή συγκριτικού σχεδίου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Συγκριτικό σχέδι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Χρήση των ίδιων μεθόδων για τη σύγκριση δύο ή περισσότερων βάσιμα αντίθετων περιπτώσεω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πορεί να είναι ποσοτική ή ποιοτική έρευν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υχνά γίνονται διαπολιτισμικές συγκρίσει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Η έρευνα του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allie(1978)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για τις επιπτώσεις της αυτοματοποίησης στους βιομηχανικούς εργάτες στην Αγγλία και στη Γαλλί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ρόβλημα στη μετάφραση των ερευνητικών εργαλείων και στην εξεύρεση συγκρίσιμων δειγμάτ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εριλαμβάνει πολλαπλές μελέτες περίπτω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Συγκριτικό σχέδι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Εικόνα 2" descr=""/>
          <p:cNvPicPr/>
          <p:nvPr/>
        </p:nvPicPr>
        <p:blipFill>
          <a:blip r:embed="rId1"/>
          <a:stretch/>
        </p:blipFill>
        <p:spPr>
          <a:xfrm>
            <a:off x="4245120" y="1547640"/>
            <a:ext cx="1271520" cy="4994280"/>
          </a:xfrm>
          <a:prstGeom prst="rect">
            <a:avLst/>
          </a:prstGeom>
          <a:ln w="0">
            <a:noFill/>
          </a:ln>
        </p:spPr>
      </p:pic>
      <p:sp>
        <p:nvSpPr>
          <p:cNvPr id="308" name="TextBox 3"/>
          <p:cNvSpPr/>
          <p:nvPr/>
        </p:nvSpPr>
        <p:spPr>
          <a:xfrm>
            <a:off x="2535120" y="2575080"/>
            <a:ext cx="15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ερίπτωση 1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9" name="TextBox 7"/>
          <p:cNvSpPr/>
          <p:nvPr/>
        </p:nvSpPr>
        <p:spPr>
          <a:xfrm>
            <a:off x="2522520" y="4915080"/>
            <a:ext cx="181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ερίπτωση ν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Box 1"/>
          <p:cNvSpPr/>
          <p:nvPr/>
        </p:nvSpPr>
        <p:spPr>
          <a:xfrm>
            <a:off x="1330200" y="41436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Αξιολόγηση του συγκριτικού σχεδίου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1" name="TextBox 2"/>
          <p:cNvSpPr/>
          <p:nvPr/>
        </p:nvSpPr>
        <p:spPr>
          <a:xfrm>
            <a:off x="1042920" y="1844640"/>
            <a:ext cx="691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ο συγκριτικό σχέδιο ουσιαστικά είναι δύο ή περισσότερες συγχρονικές μελέτες που διεξάγονται το ίδιο χρονικό διάστημα, κατά συνέπεια τα προβλήματα είναι παρόμοια.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ροκύπτουν λοιπόν τα συνηθισμένα ζητήματα αξιοπιστίας, εγκυρότητας και επαναληψιμότητας.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ι διαφορές που παρατηρούνται μεταξύ των περιπτώσεων  χρίζουν προσεκτικού χειρισμού - και περαιτέρω έρευνας - καθώς μπορεί να είναι αδύνατον να αποδοθούν στα διακριτικά χαρακτηριστικά της περίπτωσης. Η αιτιότητα δεν μπορεί να υποτεθεί.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Ωστόσο, η σύγκριση μεταξύ δύο ή περισσότερων περιπτώσεων μπορεί να αναδείξει τις συνθήκες κατά τις οποίες μια συγκεκριμένη θεωρία μπορεί να ή να μην ευσταθεί.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01640" y="189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Σύνδεση της ερευνητικής στρατηγικής με το ερευνητικό σχέδι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3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αι η ποσοτική και η ποιοτική στρατηγική μπορούν να εφαρμοστούν μέσω οποιουδήποτε ερευνητικού σχεδίου από αυτά που αναφέρθηκαν σε αυτό το κεφάλαιο - αν και το πειραματικό σχέδιο σπανίως χρησιμοποιείται στην ποιοτική έρευν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έρευνα επισκόπησης είναι η πιο συνηθισμένη μορφή ποσοτικής στρατηγική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ι εθνογραφικές έρευνες είναι η πιο συνηθισμένη μορφή ποιοτικής στρατηγική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36160"/>
            <a:ext cx="82296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Κριτήρια στην κοινωνική έρευν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Αξιοπιστία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είναι οι μετρήσεις συνεπεί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Επανάληψη/επαναληψιμότητα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είναι επαναλήψιμη η μελέτ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Εγκυρότητα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είναι βάσιμα τα συμπεράσματα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361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Τύποι εγκυρότητα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Εγκυρότητα μέτρησης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ή εννοιολογικής κατασκευής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ι μετρήσεις απεικονίζουν τις έννοιε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Εσωτερική εγκυρότητα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ίναι πραγματικές οι αιτιώδεις σχέσεις μεταξύ των μεταβλητών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Εξωτερική εγκυρότητα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πορούν τα αποτελέσματα να γενικευθούν πέρα από το πλαίσιο της έρευνα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Οικολογική εγκυρότητα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πορούν τα ευρήματα να εφαρμοστούν στην καθημερινή ζωή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18680" y="93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Εναλλακτικά κριτήρια στην ποιοτική έρευν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762120" y="16002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Φερεγγυότητα </a:t>
            </a:r>
            <a:r>
              <a:rPr b="0" lang="en-GB" sz="1400" spc="-1" strike="noStrike">
                <a:solidFill>
                  <a:srgbClr val="0033cc"/>
                </a:solidFill>
                <a:latin typeface="Arial"/>
                <a:ea typeface="Times New Roman"/>
              </a:rPr>
              <a:t>(Lincoln </a:t>
            </a:r>
            <a:r>
              <a:rPr b="0" lang="el-GR" sz="1400" spc="-1" strike="noStrike">
                <a:solidFill>
                  <a:srgbClr val="0033cc"/>
                </a:solidFill>
                <a:latin typeface="Arial"/>
                <a:ea typeface="Times New Roman"/>
              </a:rPr>
              <a:t>και </a:t>
            </a:r>
            <a:r>
              <a:rPr b="0" lang="en-GB" sz="1400" spc="-1" strike="noStrike">
                <a:solidFill>
                  <a:srgbClr val="0033cc"/>
                </a:solidFill>
                <a:latin typeface="Arial"/>
                <a:ea typeface="Times New Roman"/>
              </a:rPr>
              <a:t>Guba (1985)</a:t>
            </a:r>
            <a:r>
              <a:rPr b="0" lang="en-GB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 :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89917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Πειστικότητ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το αντίστοιχο της εσωτερικής εγκυρότητας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Πόσο πιστευτά είναι τα ευρήματα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Γενικευσιμότητα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το αντίστοιχο της εξωτερικής εγκυρότητας: εφαρμόζονται τα ευρήματα σε άλλες περιστάσει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Βασιμότητ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το αντίστοιχο της αξιοπιστίας: μπορούν τα ευρήματα να εφαρμοστούν σε άλλες χρονικές περιόδους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Επαληθευσιμότητ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το αντίστοιχο της αντικειμενικότητας: επιτρέπει ο ερευνητής να παρεισφρήσουν σε σημαντικό βαθμό οι αξίες του στην έρευνα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01640" y="232920"/>
            <a:ext cx="777240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Τι είναι ο νατουραλισμός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85880" y="149976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Υπάρχουν </a:t>
            </a:r>
            <a:r>
              <a:rPr b="0" lang="el-GR" sz="2100" spc="-1" strike="noStrike" u="sng">
                <a:solidFill>
                  <a:srgbClr val="000000"/>
                </a:solidFill>
                <a:uFillTx/>
                <a:latin typeface="Arial"/>
              </a:rPr>
              <a:t>τρεις διαφορετικές σημασίες</a:t>
            </a: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, που μπορεί να έρχονται σε αντίθεση μεταξύ τους!</a:t>
            </a:r>
            <a:r>
              <a:rPr b="0" lang="el-GR" sz="2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Η θεώρηση όλων των αντικειμένων μελέτης –φυσικών ή κοινωνικών- ως μελών του ίδιου επιπέδου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Να είσαι πιστός απέναντι στη φύση του ερευνώμενου φαινομένου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Η επιδίωξη της ελαχιστοποίησης της παρείσφρησης τεχνητών μεθόδων συλλογής δεδομένων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Οι σημασίες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και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είναι συμβατές μεταξύ τους, αλλά όχι με την 1, λόγω της συμβατότητάς της με τον θετικισμ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01640" y="36828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Τύποι ερευνητικών σχεδί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ειραματικό σχέδι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υγχρονικό σχέδι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ιαχρονικό σχέδι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χέδιο μελέτης περίπτωση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υγκριτικό σχέδι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01640" y="324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Στοιχεία πειραματικού σχεδίο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57360" y="1584360"/>
            <a:ext cx="7772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Arial"/>
              </a:rPr>
              <a:t>Τυχαίος καταμερισμός υποκειμένων σε πειραματικές ομάδες και ομάδες ελέγχου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Arial"/>
              </a:rPr>
              <a:t>Προκαταρκτική δοκιμασία (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etest)</a:t>
            </a:r>
            <a:r>
              <a:rPr b="0" lang="el-GR" sz="2700" spc="-1" strike="noStrike">
                <a:solidFill>
                  <a:srgbClr val="000000"/>
                </a:solidFill>
                <a:latin typeface="Arial"/>
              </a:rPr>
              <a:t> και των δύο ομάδ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Arial"/>
              </a:rPr>
              <a:t>Η ανεξάρτητη μεταβλητή υπόκειται σε πειραματικό χειρισμό. Όλες οι άλλες μεταβλητές διατηρούνται σταθερές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Arial"/>
              </a:rPr>
              <a:t>Επαναληπτική δοκιμασία (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sttest) </a:t>
            </a:r>
            <a:r>
              <a:rPr b="0" lang="el-GR" sz="2700" spc="-1" strike="noStrike">
                <a:solidFill>
                  <a:srgbClr val="000000"/>
                </a:solidFill>
                <a:latin typeface="Arial"/>
              </a:rPr>
              <a:t>και των δύο ομάδ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Arial"/>
              </a:rPr>
              <a:t>Υπολογισμός και ανάλυση των διαφορών μεταξύ των ομάδ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Box 1"/>
          <p:cNvSpPr/>
          <p:nvPr/>
        </p:nvSpPr>
        <p:spPr>
          <a:xfrm>
            <a:off x="1333440" y="324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Κλασικό πειραματικό σχέδιο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9" name="TextBox 3"/>
          <p:cNvSpPr/>
          <p:nvPr/>
        </p:nvSpPr>
        <p:spPr>
          <a:xfrm>
            <a:off x="363600" y="4959360"/>
            <a:ext cx="828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cc"/>
                </a:solidFill>
                <a:latin typeface="Arial"/>
              </a:rPr>
              <a:t>Υπόμνημα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0033cc"/>
                </a:solidFill>
                <a:uFillTx/>
                <a:latin typeface="Arial"/>
              </a:rPr>
              <a:t>Παρ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 = </a:t>
            </a:r>
            <a:r>
              <a:rPr b="0" i="1" lang="el-GR" sz="2000" spc="-1" strike="noStrike">
                <a:solidFill>
                  <a:srgbClr val="0033cc"/>
                </a:solidFill>
                <a:latin typeface="Arial"/>
              </a:rPr>
              <a:t>παρατήρηση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0033cc"/>
                </a:solidFill>
                <a:uFillTx/>
                <a:latin typeface="Arial"/>
              </a:rPr>
              <a:t>Πειρ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 = </a:t>
            </a:r>
            <a:r>
              <a:rPr b="0" i="1" lang="el-GR" sz="2000" spc="-1" strike="noStrike">
                <a:solidFill>
                  <a:srgbClr val="0033cc"/>
                </a:solidFill>
                <a:latin typeface="Arial"/>
              </a:rPr>
              <a:t>πειραματικός χειρισμός 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el-GR" sz="2000" spc="-1" strike="noStrike">
                <a:solidFill>
                  <a:srgbClr val="0033cc"/>
                </a:solidFill>
                <a:latin typeface="Arial"/>
              </a:rPr>
              <a:t>χειρισμός της ανεξάρτητης μεταβλητής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0033cc"/>
                </a:solidFill>
                <a:uFillTx/>
                <a:latin typeface="Arial"/>
              </a:rPr>
              <a:t>Χ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     = </a:t>
            </a:r>
            <a:r>
              <a:rPr b="0" i="1" lang="el-GR" sz="2000" spc="-1" strike="noStrike">
                <a:solidFill>
                  <a:srgbClr val="0033cc"/>
                </a:solidFill>
                <a:latin typeface="Arial"/>
              </a:rPr>
              <a:t>χρόνο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80" name="Εικόνα 2" descr=""/>
          <p:cNvPicPr/>
          <p:nvPr/>
        </p:nvPicPr>
        <p:blipFill>
          <a:blip r:embed="rId1"/>
          <a:stretch/>
        </p:blipFill>
        <p:spPr>
          <a:xfrm>
            <a:off x="701640" y="1357200"/>
            <a:ext cx="760572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3:26:03Z</dcterms:created>
  <dc:creator>Kate Hilton</dc:creator>
  <dc:description/>
  <dc:language>en-US</dc:language>
  <cp:lastModifiedBy>Χρήστης των Windows</cp:lastModifiedBy>
  <cp:lastPrinted>2001-09-10T07:46:38Z</cp:lastPrinted>
  <dcterms:modified xsi:type="dcterms:W3CDTF">2018-10-26T20:37:21Z</dcterms:modified>
  <cp:revision>220</cp:revision>
  <dc:subject/>
  <dc:title>No Slide Title</dc:title>
</cp:coreProperties>
</file>