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4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5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2527-123D-415B-AB72-695994AAE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9C1-347D-4D85-8565-A15FD362489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9DC-92A6-454A-9BD9-2CAB00444619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E9FB-3D09-4D18-882E-A675FED8C05E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65D-62C5-4A67-867B-719F246888D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E95D-405A-4CC9-A417-7387BF59091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5F99-7952-4875-A0F3-B0B783CADC06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3E21-F7E0-4712-970A-BC039E2ADC9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F77-A36B-49D1-BD85-821AFEA78CD0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B449-1F45-405B-B722-4D8A99E5801C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1F8B-E130-4EF5-B0FB-47E29A387ED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1BD-70B8-48C9-A1C3-0C63C255E9DA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EB8-796C-49B3-971B-098E61B7BD2C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E79-1ED0-4741-B588-FBD11852B21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540-09DF-4E75-89A4-2C3CE08F9527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251-6120-4BB4-B777-02358D9BA7F5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EB5-A95E-4D3C-A0BE-BA31B3C4C4D3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9D24-09A6-440E-BF02-1E4BD35A0474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C4C-03E2-4C2A-8BFA-BD6E453830A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DB25-616B-404E-893C-8DCC9DA62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5B6F-740C-46B4-953B-6D920FDF5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8E6B-E4FA-40C1-856D-9C6BDC62A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C760-B49F-4FF3-8D00-5837DE84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7E2E9-4382-4896-89FA-0C60702CC1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FD786-F099-4826-A4BB-8BA49150B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D8021-DB3A-4FF8-9F68-4172C434A5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87D74-4BF9-459A-84A7-02AD6E6185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1A87A-CAED-4E5F-81FA-E2B6F81D4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8614-BECB-43DD-9216-06F6312D30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5A2A1-2528-4C77-A6FA-6F08B7197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761F-6F36-4846-8EAF-7AFE65B97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3DC83-3EBB-4792-B5BB-CE05CCC06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1E958-3F92-4553-9177-B7A10BAA2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54A2E-11B7-4ADA-87E7-D66B276FFA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264C-55A7-4E29-AAB6-D14992EC2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D134C-21F8-4D3B-B43E-D5B87C2E53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E248-C930-4B43-8067-C88F11AAEC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A419-8BAC-4BE8-B39F-670081236B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C596-5D6D-439C-B132-5C0C3500FE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09B-7639-4341-8601-80DBF6F2AC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253F-135F-4299-AD2F-D1A930FED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2616-CB27-4643-BDDF-1F12314E2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7E52-1B92-484E-90F0-14F4DBF54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40DF-5C21-4C5F-8F32-29A04D53B2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B63-CBCA-4F52-9ABC-B5D7DBD10D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0BEF-4CC7-4D0F-B489-9845635CD6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75D9-873C-4A4D-A2E4-70CF5A252F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CADB-9856-4970-8A9C-8376CADCD8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5170-C144-40D2-A04D-BEC9769586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6C5FF-584F-49F6-80AE-FB04A6F0D4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EDCC4-0E42-4DE8-A164-36DFEF16D3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4C86B-5A63-4079-BF0C-65878381D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0CF4-6040-4A21-847C-C149D43B82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7504B-B087-44D3-8ACF-5BDC2872B0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5670E-2171-4A22-9937-3B725463D3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8B1C8-F975-4533-911C-0E85DAB009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58093-2C06-490A-9EE5-46E5CFB410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EF936-676C-4312-9C02-4D9324FF81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2C052-F469-4170-BDAD-689F69EB1C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A02FB-24CF-4229-9B5E-E5D92C3662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A8970-415A-4801-A8A2-89F6F98B4D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D345A-BCD3-4FE2-A57A-289207CFC5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2641A-5D2E-4AE1-9E72-6A88500D2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0E5C-CB1A-4B2B-A552-6EC2D317F17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F29A0-4ADD-4894-AB82-2E6FA3AE14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B93D5-B12F-414F-9F57-389984FB05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6DE9E-4055-46B6-A149-1258E0D75E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39497-F412-49CD-91DF-E0E612EEF7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9088D-2ECF-4D14-9519-413C3BB331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FB09E-86B7-4118-AE9D-BCE9FD5BC4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0B03A-FA85-4CCD-9DE0-709E171D4A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950F5-9F38-40B8-BBE1-EEB40D105A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19414-5EDA-41B2-A44F-DF015CA02E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890E4-7120-4AF9-AC6B-AEB0DA768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28A3-8F7E-4275-86D7-A03A63A729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41320-9FAE-4685-A59E-E17E89575A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D1B3-188C-4C50-8733-E3811D66D4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A5C2-6620-4364-9375-08163F8F0C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F38C-8D95-4F1D-855F-43376E5755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BCAE-FA9E-4D08-A7DB-0E3C4EC4B4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B67A-639F-431E-8F92-8411E2A241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BB56-78E0-48D3-BA4D-A3B13D869C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39B2-5FC0-42AF-B32D-3F4A1F5B5B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63F6-958E-4422-B043-94F35B37B5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57F3-138C-495D-B524-36B2BEFD2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C4A1-2892-4374-8A95-79392AF97A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6A23-2344-4C17-8CCC-869269270F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6641-CD61-4B5B-A2D5-F2FD9ED9E8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3B68-77FC-4EC5-B1BD-03C36784E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42F2-B7F2-4EC4-9049-FED290432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ABE8-82E1-48EE-A103-F1E0EEB15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7624-320D-4AF6-9AE3-00379858D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CFA-40D2-4A8C-BC6B-71B3A76462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E56-6A84-4DC8-9387-BC5FBC067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72A-737A-4E88-ACC6-A18266DD1E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8D0E-DBFA-47A3-B6D7-D32F169F8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ftr" idx="1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1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BAFC-3A64-4AD7-B4BF-EF95F4C53022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6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χρήση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IBM SPSS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στα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Windows (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μέρος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l-GR" sz="3200" spc="-1" strike="noStrike" baseline="30000">
                <a:solidFill>
                  <a:srgbClr val="ffffff"/>
                </a:solidFill>
                <a:latin typeface="Arial"/>
              </a:rPr>
              <a:t>ο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8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985080" cy="3959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alibri"/>
              </a:rPr>
              <a:t>Πατήστε το παράθυρο </a:t>
            </a:r>
            <a:r>
              <a:rPr b="1" i="1" lang="en-GB" sz="3600" spc="-1" strike="noStrike">
                <a:solidFill>
                  <a:srgbClr val="ffffff"/>
                </a:solidFill>
                <a:latin typeface="Calibri"/>
              </a:rPr>
              <a:t>variable view </a:t>
            </a:r>
            <a:r>
              <a:rPr b="0" lang="el-GR" sz="3600" spc="-1" strike="noStrike">
                <a:solidFill>
                  <a:srgbClr val="ffffff"/>
                </a:solidFill>
                <a:latin typeface="Calibri"/>
              </a:rPr>
              <a:t>και κωδικοποιήστε τις μεταβλη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348000" y="4437000"/>
            <a:ext cx="350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Πληκτρολογήστε τα </a:t>
            </a:r>
            <a:r>
              <a:rPr b="1" i="1" lang="el-GR" sz="1600" spc="-1" strike="noStrike">
                <a:solidFill>
                  <a:srgbClr val="d60093"/>
                </a:solidFill>
                <a:latin typeface="Verdana"/>
              </a:rPr>
              <a:t>ονόματα των μεταβλητών</a:t>
            </a:r>
            <a:r>
              <a:rPr b="1" i="1" lang="en-GB" sz="1600" spc="-1" strike="noStrike">
                <a:solidFill>
                  <a:srgbClr val="0033cc"/>
                </a:solidFill>
                <a:latin typeface="Verdana"/>
              </a:rPr>
              <a:t>: </a:t>
            </a: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αλλάξτε την </a:t>
            </a:r>
            <a:r>
              <a:rPr b="1" i="1" lang="en-GB" sz="1600" spc="-1" strike="noStrike">
                <a:solidFill>
                  <a:srgbClr val="0033cc"/>
                </a:solidFill>
                <a:latin typeface="Verdana"/>
              </a:rPr>
              <a:t>var00001 </a:t>
            </a: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με τη λέξη </a:t>
            </a:r>
            <a:r>
              <a:rPr b="1" i="1" lang="el-GR" sz="1600" spc="-1" strike="noStrike">
                <a:solidFill>
                  <a:srgbClr val="d60093"/>
                </a:solidFill>
                <a:latin typeface="Verdana"/>
              </a:rPr>
              <a:t>φύλο, </a:t>
            </a: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την</a:t>
            </a:r>
            <a:r>
              <a:rPr b="1" i="1" lang="en-GB" sz="16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1" i="1" lang="en-GB" sz="1600" spc="-1" strike="noStrike">
                <a:solidFill>
                  <a:srgbClr val="0033cc"/>
                </a:solidFill>
                <a:latin typeface="Verdana"/>
              </a:rPr>
              <a:t>var00002 </a:t>
            </a: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με τη λέξη </a:t>
            </a:r>
            <a:r>
              <a:rPr b="1" i="1" lang="el-GR" sz="1600" spc="-1" strike="noStrike">
                <a:solidFill>
                  <a:srgbClr val="d60093"/>
                </a:solidFill>
                <a:latin typeface="Verdana"/>
              </a:rPr>
              <a:t>ηλικία</a:t>
            </a:r>
            <a:r>
              <a:rPr b="1" i="1" lang="en-GB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l-GR" sz="1600" spc="-1" strike="noStrike">
                <a:solidFill>
                  <a:srgbClr val="0033cc"/>
                </a:solidFill>
                <a:latin typeface="Verdana"/>
              </a:rPr>
              <a:t>κ.ο.κ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 flipH="1" flipV="1">
            <a:off x="1547640" y="2997000"/>
            <a:ext cx="1872000" cy="1439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2637000" y="1403280"/>
            <a:ext cx="337500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Για να δημιουργήσετε τιμές που λείπουν για τη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r003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άντε κλικ εδώ. Θα εμφανιστεί ένα μικρό κουμπί με 3 τελείε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34800"/>
            <a:ext cx="853416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ωδικοποίηση μεταβλητών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Αν είναι η δική σας έρευνα, ξεκινήστε από εδώ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 την ακρίβεια, ξεκινήστε να το σκέφτεστε, πριν τελειώσετε το ερωτηματολόγι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όνομα μπορεί να έχει μόνο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8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χαρακτήρε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χωρίς κενά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ετικέτα της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μεταβλητής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πορεί να ονομαστεί όπως θα θέλατ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θα εμφανίζεται σε κάθε πίνακα ή γραφική παράσταση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κάθε μεταβλητή μπορεί να έχει πολλές τιμέ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ι καθεμία από αυτές τη δική της ετικέτα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ερωτήσεις μπορεί να μην απαντηθούν για διάφορους λόγους, γι’ αυτό θα πρέπει να προβλέψετε μια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Arial"/>
              </a:rPr>
              <a:t>ειδική τιμή για απαντήσεις που λείπου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βλ. διαφάνεια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5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όπου το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0’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χρησιμοποιείται για τη μη-απόκρισ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ώστε να εξασφαλίσετε ότι το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PSS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ς λαμβάνει υπόψη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ωδικοποίηση ερώτησης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: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«Λόγο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Εικόνα 1" descr=""/>
          <p:cNvPicPr/>
          <p:nvPr/>
        </p:nvPicPr>
        <p:blipFill>
          <a:blip r:embed="rId1"/>
          <a:stretch/>
        </p:blipFill>
        <p:spPr>
          <a:xfrm>
            <a:off x="297000" y="1822320"/>
            <a:ext cx="7459560" cy="4421160"/>
          </a:xfrm>
          <a:prstGeom prst="rect">
            <a:avLst/>
          </a:prstGeom>
          <a:ln w="0">
            <a:noFill/>
          </a:ln>
        </p:spPr>
      </p:pic>
      <p:pic>
        <p:nvPicPr>
          <p:cNvPr id="298" name="Εικόνα 3" descr=""/>
          <p:cNvPicPr/>
          <p:nvPr/>
        </p:nvPicPr>
        <p:blipFill>
          <a:blip r:embed="rId2"/>
          <a:stretch/>
        </p:blipFill>
        <p:spPr>
          <a:xfrm>
            <a:off x="4784760" y="1508040"/>
            <a:ext cx="2676600" cy="1994040"/>
          </a:xfrm>
          <a:prstGeom prst="rect">
            <a:avLst/>
          </a:prstGeom>
          <a:ln w="0">
            <a:noFill/>
          </a:ln>
        </p:spPr>
      </p:pic>
      <p:pic>
        <p:nvPicPr>
          <p:cNvPr id="299" name="Εικόνα 4" descr=""/>
          <p:cNvPicPr/>
          <p:nvPr/>
        </p:nvPicPr>
        <p:blipFill>
          <a:blip r:embed="rId3"/>
          <a:stretch/>
        </p:blipFill>
        <p:spPr>
          <a:xfrm>
            <a:off x="3051000" y="1752480"/>
            <a:ext cx="2213280" cy="1233720"/>
          </a:xfrm>
          <a:prstGeom prst="rect">
            <a:avLst/>
          </a:prstGeom>
          <a:ln w="0">
            <a:noFill/>
          </a:ln>
        </p:spPr>
      </p:pic>
      <p:pic>
        <p:nvPicPr>
          <p:cNvPr id="300" name="Εικόνα 8" descr=""/>
          <p:cNvPicPr/>
          <p:nvPr/>
        </p:nvPicPr>
        <p:blipFill>
          <a:blip r:embed="rId4"/>
          <a:stretch/>
        </p:blipFill>
        <p:spPr>
          <a:xfrm>
            <a:off x="3360600" y="2678040"/>
            <a:ext cx="1828800" cy="725400"/>
          </a:xfrm>
          <a:prstGeom prst="rect">
            <a:avLst/>
          </a:prstGeom>
          <a:ln w="0">
            <a:noFill/>
          </a:ln>
        </p:spPr>
      </p:pic>
      <p:pic>
        <p:nvPicPr>
          <p:cNvPr id="301" name="Εικόνα 9" descr=""/>
          <p:cNvPicPr/>
          <p:nvPr/>
        </p:nvPicPr>
        <p:blipFill>
          <a:blip r:embed="rId5"/>
          <a:stretch/>
        </p:blipFill>
        <p:spPr>
          <a:xfrm>
            <a:off x="2755800" y="3367080"/>
            <a:ext cx="2335320" cy="5428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1"/>
          <p:cNvSpPr/>
          <p:nvPr/>
        </p:nvSpPr>
        <p:spPr>
          <a:xfrm>
            <a:off x="5246640" y="1563840"/>
            <a:ext cx="221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Γράψτε 1 κτλ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Μετά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laxation </a:t>
            </a: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κτλ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cc"/>
                </a:solidFill>
                <a:latin typeface="Arial"/>
              </a:rPr>
              <a:t>Μετά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‘Add’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ωδικοποίηση απαντήσεων που λείπουν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519360" y="1263600"/>
            <a:ext cx="373392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672000" y="13222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Μπορείτε να δώσετε κωδικούς π.χ.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για την απροθυμία απόκρισης και την ακαταλληλότητα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6" name="Εικόνα 1" descr=""/>
          <p:cNvPicPr/>
          <p:nvPr/>
        </p:nvPicPr>
        <p:blipFill>
          <a:blip r:embed="rId1"/>
          <a:stretch/>
        </p:blipFill>
        <p:spPr>
          <a:xfrm>
            <a:off x="836640" y="2205000"/>
            <a:ext cx="7470720" cy="4014720"/>
          </a:xfrm>
          <a:prstGeom prst="rect">
            <a:avLst/>
          </a:prstGeom>
          <a:ln w="0">
            <a:noFill/>
          </a:ln>
        </p:spPr>
      </p:pic>
      <p:pic>
        <p:nvPicPr>
          <p:cNvPr id="307" name="Εικόνα 2" descr=""/>
          <p:cNvPicPr/>
          <p:nvPr/>
        </p:nvPicPr>
        <p:blipFill>
          <a:blip r:embed="rId2"/>
          <a:stretch/>
        </p:blipFill>
        <p:spPr>
          <a:xfrm>
            <a:off x="5218200" y="2305080"/>
            <a:ext cx="488880" cy="1231920"/>
          </a:xfrm>
          <a:prstGeom prst="rect">
            <a:avLst/>
          </a:prstGeom>
          <a:ln w="0">
            <a:noFill/>
          </a:ln>
        </p:spPr>
      </p:pic>
      <p:pic>
        <p:nvPicPr>
          <p:cNvPr id="308" name="Εικόνα 3" descr=""/>
          <p:cNvPicPr/>
          <p:nvPr/>
        </p:nvPicPr>
        <p:blipFill>
          <a:blip r:embed="rId3"/>
          <a:stretch/>
        </p:blipFill>
        <p:spPr>
          <a:xfrm>
            <a:off x="4586400" y="2287440"/>
            <a:ext cx="61596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0360" y="122400"/>
            <a:ext cx="842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Η ανακωδικοποίηση των μεταβλητών διατηρεί τα αρχικά δεδομένα αναλλοίωτα, ενώ αναδιοργανώνει τα δεδομένα σε νέα μορφ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Εικόνα 1" descr=""/>
          <p:cNvPicPr/>
          <p:nvPr/>
        </p:nvPicPr>
        <p:blipFill>
          <a:blip r:embed="rId1"/>
          <a:stretch/>
        </p:blipFill>
        <p:spPr>
          <a:xfrm>
            <a:off x="360360" y="1276200"/>
            <a:ext cx="86216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0" descr=""/>
          <p:cNvPicPr/>
          <p:nvPr/>
        </p:nvPicPr>
        <p:blipFill>
          <a:blip r:embed="rId1"/>
          <a:stretch/>
        </p:blipFill>
        <p:spPr>
          <a:xfrm>
            <a:off x="2095560" y="1781280"/>
            <a:ext cx="6292800" cy="3808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628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νακωδικοποίηση δεδομένων ηλικία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ταβλητή διάταξη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ως ομάδες ηλικιώ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ταβλητή διαστήματος/αναλογί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116000" y="3213000"/>
            <a:ext cx="26668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258920" y="328464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cc"/>
                </a:solidFill>
                <a:latin typeface="Calibri"/>
              </a:rPr>
              <a:t>Φροντίστε να αποφύγετε τις επικαλύψει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3780000" y="3573360"/>
            <a:ext cx="1828800" cy="0"/>
          </a:xfrm>
          <a:prstGeom prst="line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062760" cy="46832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951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νακωδικοποίηση μεταβλητών για τον υπολογισμό νέων μεταβλητ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592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788000" y="1268280"/>
            <a:ext cx="4105080" cy="10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427640" y="131112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Μια νέα μεταβλητή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 η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 ‘totalmins’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ts val="11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υπολογίζεται με την πρόσθεση των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ts val="11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 ‘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cardmins’, ‘weimins’ 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και 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‘othmins’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Line 7"/>
          <p:cNvSpPr/>
          <p:nvPr/>
        </p:nvSpPr>
        <p:spPr>
          <a:xfrm flipH="1">
            <a:off x="1835280" y="1484280"/>
            <a:ext cx="3386160" cy="649440"/>
          </a:xfrm>
          <a:prstGeom prst="line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Line 8"/>
          <p:cNvSpPr/>
          <p:nvPr/>
        </p:nvSpPr>
        <p:spPr>
          <a:xfrm flipH="1">
            <a:off x="3708000" y="1989000"/>
            <a:ext cx="1584360" cy="503280"/>
          </a:xfrm>
          <a:prstGeom prst="line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81007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Ξεκινώντας την ανάλυσή 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ονοπαραγοντική Ανάλυση για τη μεταβλητή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95640" y="1274760"/>
            <a:ext cx="55623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122560" y="1274760"/>
            <a:ext cx="563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Πατήστε 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‘analyse’ 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στη γραμμή εργαλείων, μετά 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‘descriptive statistics’ </a:t>
            </a: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στο κάθετο μενού για τις πιθανές επιλογές, συμπεριλαμβανομένων των συχνοτήτων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625320" y="590724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625320" y="60278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cc"/>
                </a:solidFill>
                <a:latin typeface="Calibri"/>
              </a:rPr>
              <a:t>Πατήστε </a:t>
            </a:r>
            <a:r>
              <a:rPr b="1" lang="en-GB" sz="1800" spc="-1" strike="noStrike">
                <a:solidFill>
                  <a:srgbClr val="0033cc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Εικόνα 1" descr=""/>
          <p:cNvPicPr/>
          <p:nvPr/>
        </p:nvPicPr>
        <p:blipFill>
          <a:blip r:embed="rId1"/>
          <a:stretch/>
        </p:blipFill>
        <p:spPr>
          <a:xfrm>
            <a:off x="476280" y="2112840"/>
            <a:ext cx="8042400" cy="3791160"/>
          </a:xfrm>
          <a:prstGeom prst="rect">
            <a:avLst/>
          </a:prstGeom>
          <a:ln w="0">
            <a:noFill/>
          </a:ln>
        </p:spPr>
      </p:pic>
      <p:pic>
        <p:nvPicPr>
          <p:cNvPr id="329" name="Εικόνα 2" descr=""/>
          <p:cNvPicPr/>
          <p:nvPr/>
        </p:nvPicPr>
        <p:blipFill>
          <a:blip r:embed="rId2"/>
          <a:stretch/>
        </p:blipFill>
        <p:spPr>
          <a:xfrm>
            <a:off x="1962000" y="5589720"/>
            <a:ext cx="8287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αποτέλεσμα θα είναι κάπως έτσι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Εικόνα 1" descr=""/>
          <p:cNvPicPr/>
          <p:nvPr/>
        </p:nvPicPr>
        <p:blipFill>
          <a:blip r:embed="rId1"/>
          <a:stretch/>
        </p:blipFill>
        <p:spPr>
          <a:xfrm>
            <a:off x="114480" y="1314360"/>
            <a:ext cx="8921520" cy="4364280"/>
          </a:xfrm>
          <a:prstGeom prst="rect">
            <a:avLst/>
          </a:prstGeom>
          <a:ln w="0">
            <a:noFill/>
          </a:ln>
        </p:spPr>
      </p:pic>
      <p:pic>
        <p:nvPicPr>
          <p:cNvPr id="332" name="Εικόνα 2" descr=""/>
          <p:cNvPicPr/>
          <p:nvPr/>
        </p:nvPicPr>
        <p:blipFill>
          <a:blip r:embed="rId2"/>
          <a:stretch/>
        </p:blipFill>
        <p:spPr>
          <a:xfrm>
            <a:off x="5391000" y="2263680"/>
            <a:ext cx="3517920" cy="927360"/>
          </a:xfrm>
          <a:prstGeom prst="rect">
            <a:avLst/>
          </a:prstGeom>
          <a:ln w="0">
            <a:noFill/>
          </a:ln>
        </p:spPr>
      </p:pic>
      <p:pic>
        <p:nvPicPr>
          <p:cNvPr id="333" name="Εικόνα 3" descr=""/>
          <p:cNvPicPr/>
          <p:nvPr/>
        </p:nvPicPr>
        <p:blipFill>
          <a:blip r:embed="rId3"/>
          <a:stretch/>
        </p:blipFill>
        <p:spPr>
          <a:xfrm>
            <a:off x="5381640" y="2263680"/>
            <a:ext cx="3537000" cy="701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4"/>
          <p:cNvSpPr/>
          <p:nvPr/>
        </p:nvSpPr>
        <p:spPr>
          <a:xfrm>
            <a:off x="114480" y="5724360"/>
            <a:ext cx="2296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ιθμός περιπτώσεων ανά κατηγορία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2457360" y="5678640"/>
            <a:ext cx="1889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σοστά περιπτώσεων ανά κατηγορία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4572000" y="5678640"/>
            <a:ext cx="31957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οσοστά περιπτώσεων ανά κατηγορία λαμβανομένων υπόψη των τιμών των δεδομένων που λείπουν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13"/>
          <p:cNvPicPr/>
          <p:nvPr/>
        </p:nvPicPr>
        <p:blipFill>
          <a:blip r:embed="rId1"/>
          <a:srcRect l="28943" t="51642" r="29477" b="3498"/>
          <a:stretch/>
        </p:blipFill>
        <p:spPr>
          <a:xfrm>
            <a:off x="1763640" y="1268280"/>
            <a:ext cx="5545080" cy="48974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1368360" y="333360"/>
            <a:ext cx="6553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ημιουργία διαγράμμα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Ραβδόγραμμ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Ακολουθήστε την ακολουθί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971640" y="2924280"/>
            <a:ext cx="863640" cy="1081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 flipV="1">
            <a:off x="900000" y="4508280"/>
            <a:ext cx="1079640" cy="64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 rot="10800000">
            <a:off x="7370280" y="3212640"/>
            <a:ext cx="1584360" cy="158436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7370640" y="3213000"/>
            <a:ext cx="1665360" cy="1608480"/>
          </a:xfrm>
          <a:prstGeom prst="rect">
            <a:avLst/>
          </a:prstGeom>
          <a:solidFill>
            <a:srgbClr val="c5078f"/>
          </a:solidFill>
          <a:ln w="9360">
            <a:solidFill>
              <a:srgbClr val="477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Σύρετε το είδος γραφήματος που θέλετ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3563640" y="3924360"/>
            <a:ext cx="3816360" cy="7286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 flipV="1">
            <a:off x="3492360" y="2781000"/>
            <a:ext cx="1943280" cy="16556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7380360" y="1557360"/>
            <a:ext cx="1655640" cy="1366920"/>
          </a:xfrm>
          <a:prstGeom prst="rect">
            <a:avLst/>
          </a:prstGeom>
          <a:solidFill>
            <a:srgbClr val="c5078f"/>
          </a:solidFill>
          <a:ln w="9360">
            <a:solidFill>
              <a:srgbClr val="00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7451640" y="1557360"/>
            <a:ext cx="151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4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Σύρετε τη μεταβλητή σα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Line 19"/>
          <p:cNvSpPr/>
          <p:nvPr/>
        </p:nvSpPr>
        <p:spPr>
          <a:xfrm flipH="1">
            <a:off x="3203640" y="2060640"/>
            <a:ext cx="4176720" cy="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3203640" y="2133720"/>
            <a:ext cx="1584360" cy="15825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Oval 21"/>
          <p:cNvSpPr/>
          <p:nvPr/>
        </p:nvSpPr>
        <p:spPr>
          <a:xfrm>
            <a:off x="2987640" y="4292640"/>
            <a:ext cx="792360" cy="649080"/>
          </a:xfrm>
          <a:prstGeom prst="ellipse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139680" y="5157720"/>
            <a:ext cx="1263600" cy="1106640"/>
          </a:xfrm>
          <a:prstGeom prst="rect">
            <a:avLst/>
          </a:prstGeom>
          <a:solidFill>
            <a:srgbClr val="c5078f"/>
          </a:solidFill>
          <a:ln w="9360">
            <a:solidFill>
              <a:srgbClr val="0033cc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98360" y="1814400"/>
            <a:ext cx="1189080" cy="1254240"/>
          </a:xfrm>
          <a:prstGeom prst="rect">
            <a:avLst/>
          </a:prstGeom>
          <a:solidFill>
            <a:srgbClr val="c5078f"/>
          </a:solidFill>
          <a:ln w="9360">
            <a:solidFill>
              <a:srgbClr val="0033cc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144360" y="1914480"/>
            <a:ext cx="12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Πατήστε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allery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44360" y="530064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Πατήστε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ar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Τι είναι το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SP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6280" y="17636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ακρωνύμιο τ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tistic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kage for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i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ences”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ακέτο στατιστικής για τις κοινωνικές επιστήμε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λογισμικό για προσωπικούς υπολογισ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έξυπνη βάση δεδομένων με ενσωματωμένους τύπους για τον υπολογισμό συσχετίσεων και δεικτών στατιστικής σημαντικότητ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έχει τη δυνατότητα οργάνωσης στοιχείων για τη δημιουργία γραφικών παραστάσεων, διαγραμμάτων και πινάκ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Γιατί να ασχοληθούμε με το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496960" y="23223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1280" y="1989000"/>
            <a:ext cx="7669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ότ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χρησιμοποιούν οι περισσότεροι επαγγελματίες ερευνητέ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θαίνει κανείς μια πολύτιμη μεταβιβάσιμη δεξιότητ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φορετικά, θα χρειαζόταν κανείς να γνωρίζει τον μαθηματικό τύπο κάθε τεχνικής ανάλυση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1042920" y="2349360"/>
            <a:ext cx="7345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χετε επιλέξει τυχαία δείγματ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ησιμοποιήσατε δομημένο ερωτηματολόγι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χετε περί τι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ή περισσότερες περιπτώσει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έπει να δοκιμάσετε σύνθετες συσχετίσεις μεταξύ των μεταβλητ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763640" y="234936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16000" y="1700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Ότ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746280" y="324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Θα έπρεπε να χρησιμοποιείτε το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SS..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108000" y="189000"/>
            <a:ext cx="93153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ι θα μπορούσατε να χρησιμοποιήσετε αντί για το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920" y="1493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epa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ι αριθμομηχαν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έχετε μικρό αριθμό περιπτώ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 κάποιο παρόμοιο πρόγραμμα υπολογιστικού φύλλου, αν έχετε μόνο μερικές μεταβλητές να εξετάσετ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απλούς στατιστικούς υπολογισμού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 ένα παρόμοιο πρόγραμμα βάσης δεδομέν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θέλετε να μπορείτε να τοποθετείτε δεδομένα με πολλούς διαφορετικούς τρόπους ανεξάρτητα από την αριθμητική σημαντικ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άλλο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όγραμμα στατιστικής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πως το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 το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έχετε μεγάλο δείγμα και δεν έχετε πρόσβαση στ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31640" y="142704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Καταχώρηση δεδομέν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Κωδικοποίηση μεταβλητώ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νομασία και απόδοση τιμώ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τικέτες στις μεταβλητές και στις τιμές το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ακωδικοποίηση μεταβλητώ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δοση νέας μορφής στα δεδομένα, υπολογισμός νέων μεταβλητών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άλυ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ονοδιάστατ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σδιάστατ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ολυδιάστατ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5. Δημιουργία γραφικών παραστάσε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901800" y="233280"/>
            <a:ext cx="73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α βασικά στοιχεία του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SS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87280" y="-144360"/>
            <a:ext cx="827100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Τα αναγκαία βήματα για να επωφεληθείτε όσο περισσότερο γίνεται από αυτή την παρουσίαση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ατεβάστε το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PSS (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αν δεν το έχετε κάνει ποτέ, πατήστ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αι στη συνέχεια την έκδοση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SS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που θέλετε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2.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Επισκεφτείτε τους διαδικτυακούς πόρους για το εγχειρίδι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Περιηγηθείτε στα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“datasets”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αι κατεβάστε το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set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του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SS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set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θα φορτωθεί αυτόματα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ώστε άμεσα το αρχείο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τα πολυμέσα σας για παράδειγμα σε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lash-drive,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ε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stick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τλ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124000" y="2276640"/>
            <a:ext cx="100800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abic Transparent"/>
              </a:rPr>
              <a:t>Έναρξη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059280" y="234936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33cc"/>
                </a:solidFill>
                <a:latin typeface="Tahoma"/>
              </a:rPr>
              <a:t>Όλα τα προγράμματα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4422600" y="230184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932360" y="23493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Univers"/>
              </a:rPr>
              <a:t>SPSS Inc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2124000" y="2276640"/>
            <a:ext cx="4464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124000" y="2708280"/>
            <a:ext cx="4464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124000" y="2276640"/>
            <a:ext cx="0" cy="431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6588000" y="2276640"/>
            <a:ext cx="0" cy="431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395280" y="404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Η πρώτη οθόνη που θα δείτε είναι ο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Editor,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στο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iew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5" name="Εικόνα 1" descr=""/>
          <p:cNvPicPr/>
          <p:nvPr/>
        </p:nvPicPr>
        <p:blipFill>
          <a:blip r:embed="rId1"/>
          <a:stretch/>
        </p:blipFill>
        <p:spPr>
          <a:xfrm>
            <a:off x="836640" y="2085840"/>
            <a:ext cx="7875720" cy="41338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"/>
          <p:cNvSpPr/>
          <p:nvPr/>
        </p:nvSpPr>
        <p:spPr>
          <a:xfrm>
            <a:off x="382680" y="1347840"/>
            <a:ext cx="1803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άθε γραμμή αντιπροσωπεύει μία περίπτωση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2367000" y="1365120"/>
            <a:ext cx="18003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Κάθε στήλη αντιπροσωπεύει μια μεταβλητή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582480" y="266760"/>
            <a:ext cx="81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τεβάστε το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ym.sav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ή ανοίξτε το αρχεί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9" name="Εικόνα 1" descr=""/>
          <p:cNvPicPr/>
          <p:nvPr/>
        </p:nvPicPr>
        <p:blipFill>
          <a:blip r:embed="rId1"/>
          <a:stretch/>
        </p:blipFill>
        <p:spPr>
          <a:xfrm>
            <a:off x="341280" y="1268280"/>
            <a:ext cx="8596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18T21:48:19Z</dcterms:modified>
  <cp:revision>244</cp:revision>
  <dc:subject/>
  <dc:title>No Slide Title</dc:title>
</cp:coreProperties>
</file>