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B5A7-DC81-4B8D-A4C4-17F99C225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4FF1-BACC-4DDE-8DE2-15B80E9AB8F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F39FA6E-03B2-47BB-8C74-3C2998CDE0F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8B4D-AFE5-4380-A212-90CBFF338B4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E647A17-CAD9-4D89-ADB3-2D7063A51F7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B7E7-B9BD-409E-B70F-E750CEA3752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1E26ED6-56F8-4E4D-B58A-8AE4D869647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374-51D6-45E3-A36E-14909C29CF0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3B45B03-D04B-4F90-9891-E067143C37E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0B7E-61AD-4423-9A79-79C585F1277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0AC016B-4C99-42DE-A3F7-3C1D5AFB4AE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877B-ED3C-45D0-BF47-AF80AD5CC6E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7A26F92-1112-4945-B88D-FCBD4CA37B6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FB6-B8C0-4D09-A6E1-FDA680CB412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CC06282-E963-4E35-A365-C316583B587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D853-7085-42CF-9111-0AD7036039C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55CF684-3E9A-4244-8C83-758D452B3A6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441-8831-445C-82C7-42FA666AA31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3951DB4-F5E1-4AE0-87B3-A5BFCA76972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987-9897-425A-A409-421DB56D027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44235E3-7E79-4E22-B2C5-8B966A0178E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B308-0FC0-4BA2-9BC9-C588C92AF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9EA8-633B-4ECB-851A-53A26B304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F98A-F1FB-4D51-9FD2-6F28576B0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A7A2-5406-4643-93BB-E9210A91C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08509-B255-479F-BDFA-E0622405D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660B-6DE4-4D92-B60B-310F2CE374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88CE8-CB87-4EF6-9EF7-4D71A304F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9C90-0E3B-4B0D-A551-3DC0A4E63C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C6FF9-B5BB-4BEC-AC8C-FA7262EC3C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3594-32A2-4D16-8EF4-86263B920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06466-8C18-46AC-AB23-F97C374A6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C02E-F20E-4641-A99D-B726DCCB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190C-E0B4-421C-968A-F5FD782E5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5C435-2BB6-47A1-886D-D12637A42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8079-E84E-411A-BCD1-A811D0DB4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9428-40A2-4514-B30A-2A7F7C3B6F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9BE9-1194-4EC4-A90C-7456BE916E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424-80C7-4325-BD46-748E2F52A8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D06-5888-4ED7-8798-D3EBD32363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1A31-1E04-446D-9B31-2F097D05A1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F411-263A-4746-9B95-132302146D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7619-CCC6-40FE-9A5D-8FC56F189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54D8-A0E9-436A-BAEA-9BEC6A2E2B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B4E1-1BD6-4102-A15F-E92FEDBAF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E6E4-2E07-4F71-B11B-64A07286A0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3646-BBCB-4C86-BB55-7DACF4F5D3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16A-DD26-4483-95A1-936837921D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961-D0FC-454A-9E00-54E0D821F2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F10-489F-49D8-88E5-036FCB3FAF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3D0-7C5F-4990-A54B-739741B7BA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A238-AD63-4D5B-A634-B033AACCA2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A7C93-3DBC-49D0-8A29-425E316EDB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349B8-A750-406D-AE15-4FC869712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E81F-C63F-4725-B22C-54F0123285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6D81E-00AD-47B2-B5BD-6D32ACF82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3FA68-1173-4731-9483-1729E4C568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DC23A-ED36-45E0-B4EF-FFBC4F140B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359EE-9B70-4A8A-9C48-D9F32B8918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DA88-3376-42F5-BAB2-B90A648FA3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F210F-3DFC-4592-9DFE-BEE21B4D9F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1272-F50B-4ED0-AA42-82BACDB9F1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09120-9327-4741-95C6-ADAEFCBF54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C73F4-B633-416E-B4BD-1F731552C8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C9916-FA70-4DA5-96E2-A147DA776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1E7C-23A4-486A-90A2-EA59A81653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18756-601E-43BB-9C38-43870B2FFC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AB93A-B749-43E4-B496-A8FA9274CF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49663-630C-4CD5-A404-2A6D10664C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795AC-EE7E-4E78-BEB0-5868812F04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5EDBB-725A-4DFA-9D27-94A3641580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56354-B975-48C4-AC26-698855FA38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E9AC4-CD15-4C6E-B7EA-202586FACAB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43619-4BA5-4371-AFD3-E9CB5B5A29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5C59E-8798-4DA7-926D-CC97BA6147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9FABC-E29D-4B81-9AEB-E9C5BBD0F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0218-E564-4702-8126-7777542339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26798-03D9-4ECB-896A-45EE03C33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3B75-E7F5-4372-A0FC-AD57717B1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1DC2-4F99-4379-BA8F-DD9127DE7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CD7A-CBEB-4C8F-BF3A-AAAAC7B4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6EF-6DC2-46C0-82F0-0885C1864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1260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EA8-7F92-4B2B-A791-C8A5DF7E4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D6F-9CC3-4760-A5BC-3E5BB4D086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909-5908-4CB2-8039-6FE23E8BF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B6C3-C476-4875-9D71-DFF8A2107FAB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8640"/>
            <a:ext cx="68407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27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έρευνα μεικτών μεθόδων: Ο συνδυασμός ποσοτικής και ποι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592360" y="518472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4d99"/>
                </a:solidFill>
                <a:latin typeface="Arial"/>
              </a:rPr>
              <a:t>Διαφάνειες από τον </a:t>
            </a:r>
            <a:r>
              <a:rPr b="0" lang="en-GB" sz="2000" spc="-1" strike="noStrike">
                <a:solidFill>
                  <a:srgbClr val="004d99"/>
                </a:solidFill>
                <a:latin typeface="Arial"/>
              </a:rPr>
              <a:t>Tom Owe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2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ριγω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5960" y="139356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α αποτελέσματα μιας μεθόδου/ερευνητικής στρατηγικής  μπορούν αντιπαραβάλλονται προς αυτά μιας άλλη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ilva and Wright (2008)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ολιτισμικό κεφάλαιο και κοινωνικός αποκλεισμό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ιοτικές συνεντεύξεις με σκοπό τον «έλεγχο και τη διόρθωση» των ποσοτικών δεδομέν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όπιν σχεδίου ή χωρίς σχέδι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 συμβαίνει αν τα αποτελέσματα είναι ασύμβατα μεταξύ του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λέξτε ένα μόνο σύνολο ευρημάτων ως εκείνο που προσφέρει την ακριβέστερη εικό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στόσο, ελέγξτε ξανά τα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ντιστάθμιση και Πληρ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1600" y="1538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ν περίπτωση που καμία ερευνητική στρατηγική δε μπορεί να δώσει απαντή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Συγκεκριμένες μέθοδοι δεν δίνουν πρόσβαση στις απαιτούμενες πληροφορίες ή σε ομάδες ανθρώπ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οιοτικές και ποσοτικές μέθοδοι αντισταθμίζουν η μία τις αδυναμίες της άλλ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Στην περίπτωση που οι εθνογράφοι χρησιμοποιούν τη μη δομημένη συνέντευξη ή τα ερωτηματολόγια ατομικής συμπλήρωσης επειδή δεν μπορούν να αποκομίσουν από τη συμμετοχική παρατήρηση όλα όσα χρειάζεται να μάθου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960" y="1501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οσοτική έρευνα μπορεί να αναδεικνύει κανονικ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οιοτική έρευνα αναδεικνύει κοινωνικές διαδικα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Η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sworth (2006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ησιμοποίησε μι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έρευνα με ερωτηματολόγιο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έσω διαδικτύου για να δώσει μια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υρεί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ικόνα των διαφορών μεταξύ των φοιτητών που ζούσαν στο σπίτι τους και εκείνων που ζούσαν μακριά από το σπίτι τους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ποιοτικές συνεντεύξεις και ομάδες εστίασης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για την διερεύνηση των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διαδικασιών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ου βρίσκονται πίσω από αυτές τις διαφορ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736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φορετικά ερευνητικά ερωτή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153828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ποσοτική έρευνα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πιο κατάλληλη για την μελέτη των ‘μακροσκοπικών’ φαινομένων (όπως η κοινωνική κινητικότητα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ποιοτική έρευνα είναι πιο κατάλληλη για  ΄μικροσκοπικά’  φαινόμενα, (όπως η αλληλεπίδραση μιας μικρής ομάδας)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διαφορετικές φάσεις μιας ερευνητικής μελέτης μπορεί να ταιριάζει κάποια στρατηγική περισσότερο από κάποια άλλη, λόγω των διαφορετικών πτυχών που μελετών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Διαφορετικά είδη ερευνητικών ερωτημάτων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αντώνται καλύτερα με μια στρατηγική, παρά με μία άλλ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Οδηγούν σε επιλογή μεθόδ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πώς θα εμπλέκονται μεταξύ του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έρευνα μικτών μεθόδ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187280" y="404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ξήγησ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476360" y="162864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ερευνητές του χώρου της ποσοτικής έρευνας συνεχώς αντιμετωπίζουν το πρόβλημα της εξήγησης των συσχετίσεων μεταξύ μεταβλητ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οιοτική έρευνα μπορεί να αποκαλύψει την παρουσία και το ρόλο των παρεμβαλλόμενων μεταβλητώ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προσδόκητα αποτελέσ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5098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α ερευνητικά αποτελέσματα μπορεί να είναι απροσδόκητα, να δώσουν δεδομένα ασύνδετα μεταξύ τους και να προκαλέσουν εκπλήξει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ρικές φορές τα προσδοκώμενα αποτελέσματα δεν επέρχοντ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όπως για παράδειγμα τα ευρήματα που είναι άσχετα με την ερευνητική υπόθε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ομένως, η χρήση μιας δεύτερης μεθόδου μπορεί να βοηθήσει στην εξήγηση δεδομένω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η σχεδιασμένη τριγωνοποίησ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Ή μπορεί να οδηγήσουν σε μια ‘χοντροκομμένη’ εναλλακτική λύση, δηλαδή στην αναδιατύπωση της υπόθεσης ή απλά την αρχειοθέτησή του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μόρφωση Εργαλ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80920" y="1719000"/>
            <a:ext cx="77724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Βοηθώντας τη μέτρη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ομάδες εστίασης και οι ημιδομημένες συνεντεύξεις μπορούν να δώσουν μετρήσεις εννοιών που εξετάζονται στην ποσοτική έρευνα, οδηγώντας σε έναν πολύ πιο κατάλληλο σχεδιασμό των ερωτήσε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παράδειγμα, τα αποτελέσματα της ποιοτικής έρευνας μπορεί να χρησιμοποιηθούν ως πληροφορίες για το σχέδιο των ερωτήσεων στην έρευνα επισκόπησ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11600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ειγματοληψί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042920" y="198900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οσοτική έρευνα βοηθά στη διαμόρφωση της βάσης για την αντιπροσωπευτική δειγματοληψία στην ποιοτική έρευνα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παράδειγμα, δείγματα ατόμων ή εταιρειών, με συγκεκριμένα χαρακτηριστικά, παρέχουν τη βάση για συνεντεύξεις σε βάθος ή μελέτες περίπτωση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3274920" y="2811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ξιοπιστί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826920" y="170028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ποια ποσοτικοποίηση των ευρημάτων της ποιοτικής έρευνας μπορεί να βοηθήσει τη μελέτη να φαίνεται πιο πιστευτή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έρευνα μικτών μεθόδων πολλές φορές πραγματοποιείται λόγω της ελκυστικότητας που ασκεί σε χρηματοδότες και χορηγού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917640" y="2793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λαίσιο και ενδεικτικά παραδείγματ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826920" y="1700280"/>
            <a:ext cx="7561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οσοτική έρευνα συχνά χρησιμοποιείται για τον εντοπισμό πλαισίω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ότε, μπορεί να αξιοποιηθεί η ποιοτική έρευνα για να βοηθήσει στην τοποθέτηση των ευρημάτων αυτών εντός πλαισίω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ε άλλες περιπτώσεις, τα ποιοτικά δεδομένα μπορούν να παρέχουν χρήσιμα παραδείγματα των ποσοτικών ευρημάτω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Η επιχειρηματολογία εναντίον της έρευνας μικτών μεθόδ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69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ο επιχείρημα περί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 θεμελιωμένων μεθόδω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ι ερευνητικές μέθοδοι  έχουν αναπόφευκτα τις ρίζες τους σε επιστημολογικές και οντολογικές δεσμεύ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πομένως, η έρευνα μέσω πολλών στρατηγικών δεν είναι ούτε εφικτή, ούτε επιθυμητ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ο επιχείρημα περί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παραδείγμα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ποσοτική και ποιοτική έρευνα είναι ασύμμετρα παραδείγ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Κατά συνέπεια, ακόμα και όταν συνδυάζονται, είναι ασύμβ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274920" y="2811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Χρησιμότητ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826920" y="1700280"/>
            <a:ext cx="756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ποιοι ερευνητές πιστεύουν ακράδαντα στη χρησιμότητα της έρευνας για την διαμόρφωση πολιτικής και την πράξη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ε τέτοιες περιπτώσεις χρησιμοποιούνται μεικτές μέθοδοι με την πεποίθηση ότι θα βοηθήσουν στην προώθηση της χρησιμότητας των ερευνητικών ευρημάτω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1241280" y="281160"/>
            <a:ext cx="68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πιβεβαίωση και ανακάλυψ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826920" y="1700280"/>
            <a:ext cx="756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οιοτικές εκδοχές ταιριάζουν πολύ με την επαγωγή λόγω των πλούσιων λεπτομερειών που μπορούν να παράσχουν- αλλά είναι και χρονοβόρε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ομένως, ένα από τα σκεπτικά της έρευνας μεικτών μεθόδων είναι να πάρει τα συμπεράσματα μιας ποιοτικής μελέτης και να τα δοκιμάσει στην ποσοτική έρευνα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22360" y="1628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ποσοτικές μέθοδοι εξετάζουν τις θεωρίες του ερευνητ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ποιοτικές μέθοδοι θέτουν το νόημα των συμμετεχόντων στο επίκεντρο της προσοχή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ρισμένες ερευνητικές μελέτες απαιτούν και τις δύο προοπτικέ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176364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οικιλία απόψεω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522360" y="162864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Η τριγωνοποίηση παρέχει την ευκαιρία σύγκρισης και αντιπαράθεσης ερευνητικών ευρημάτων που κερδίζονται από διαφορετικές μορφές έρευνα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Αλλά οι μεικτές μέθοδοι δεν χρειάζονται μόνο τριγωνοποιημένα αποτελέσματα, αλλά μπορούν να χρησιμοποιηθούν και για την επεξεργασία – και ενίσχυση- αποτελεσμάτων που να επιβεβαιώνουν τα συμπεράσματα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176364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νίσχυσ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0" y="14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Ζητήματα ποιότητας της έρευνας μεικτών μεθόδω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92240" y="1763640"/>
            <a:ext cx="881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Έχουν σχεδιαστεί και διεξαχθεί σωστά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ίναι οι μέθοδοι κατάλληλες για τα ερευνητικά ερωτήματα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Υπάρχει εμφανής εξήγηση για τη μίξη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υνδέονται τα διαφορετικά συστατικά στοιχεία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Υπάρχει λεπτομερής αποτίμηση ολόκληρης της ερευνητικής διαδικασίας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πόροι κατανέμονται με φειδώ ή ανισομερώς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ίναι οι ερευνητές πιο ικανοί στη μία μέθοδο παρά στην άλλη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2000" y="3682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κέψεις γύρω από την έρευνα μεικτών μεθόδ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5600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ο και πιο συχνές στην κοινωνική έρευ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ρευνητικές μέθοδοι θεωρούνται αυτόνομ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λείανση των φεμινιστικών στάσεων ως προς την ποσοτικοποί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ίναι εγγενώς υπέρτερες της έρευνας μίας μεθόδου ή μίας στρατηγικ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ι δύο εκδοχές της αντιπαράθε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πιστημολογική εκδοχ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σύμβατες μεταξύ τους οι επιστημολογικές παραδοχές της ποιοτικής και ποσοτικής έρευν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.χ.  Το επιχείρημα περί θεμελιωμένων μεθόδων και περί παραδείγματ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τεχνική εκδοχ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στρατηγικές ποιοτικής και ποσοτικής μεθόδου μπορούν να συνδυαστού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ίνει έμφαση στα πλεονεκτήματα της κάθε μίας για τη συλλογή/ανάλυση δεδομέ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971640" y="368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ταξινόμηση του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gan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1998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92000" y="1628640"/>
            <a:ext cx="75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Η απόφαση περί προτεραιότητα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ε τι βαθμό η ποσοτική και ποιοτική μέθοδος θα είναι ισοβαρείς ή κάποια από αυτές θα αποτελέσει το βασικό εργαλείο συλλογής δεδομένων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Η απόφαση περί διαδοχή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οια μέθοδος προηγείται; Με άλλα λόγια προηγείται η ποιοτική μέθοδος της ποσοτικής ή αντιστρόφως ή μήπως η συλλογή δεδομένων που συνδέεται με τη μία μέθοδο τελείται παράλληλα με εκείνη που συνδέεται με την άλλη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97000" y="142920"/>
            <a:ext cx="863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ταξινόμηση της έρευνας μικτών μεθόδων βάσει της προτεραιότητας και της διαδοχή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9" name="Εικόνα 21" descr=""/>
          <p:cNvPicPr/>
          <p:nvPr/>
        </p:nvPicPr>
        <p:blipFill>
          <a:blip r:embed="rId1"/>
          <a:stretch/>
        </p:blipFill>
        <p:spPr>
          <a:xfrm>
            <a:off x="122400" y="1449360"/>
            <a:ext cx="8775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877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έσσερις βασικοί τύποι σχεδίων μικτών μεθόδ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χεδιασμός παράλληλης σύγκλι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υνητικός διαδοχικός σχεδι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ξηγηματικός διαδοχικός σχεδι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νσωματωμένος σχεδι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έσσερα βασικά σχέδια μικτών μεθόδ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117360" y="1314360"/>
            <a:ext cx="8404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Εικόνα 3" descr=""/>
          <p:cNvPicPr/>
          <p:nvPr/>
        </p:nvPicPr>
        <p:blipFill>
          <a:blip r:embed="rId1"/>
          <a:stretch/>
        </p:blipFill>
        <p:spPr>
          <a:xfrm>
            <a:off x="611280" y="233280"/>
            <a:ext cx="7791480" cy="92088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4" descr=""/>
          <p:cNvPicPr/>
          <p:nvPr/>
        </p:nvPicPr>
        <p:blipFill>
          <a:blip r:embed="rId2"/>
          <a:stretch/>
        </p:blipFill>
        <p:spPr>
          <a:xfrm>
            <a:off x="123840" y="1208160"/>
            <a:ext cx="892476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684360" y="98280"/>
            <a:ext cx="78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Η ταξινόμηση τ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yma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για τις προσεγγίσεις στην έρευνα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μεικτών μεθόδ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062000" y="1839960"/>
            <a:ext cx="3888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. Τριγωνοποίησ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στάθμισ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3. Πληρότη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. Διαδικασία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5. Διαφορετικά ερευνητικά ερωτήμα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6. Εξήγησ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7. Απροσδόκητα αποτελέσμα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8. Διαμόρφωση εργαλείω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4797360" y="1839960"/>
            <a:ext cx="388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9. Δειγματοληψί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0. Αξιοπιστί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1. Πλαίσιο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2. Ενδεικτικά παραδείγμα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3. Χρησιμότη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4. Επιβεβαίωση και ανακάλυψ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5. Ποικιλία απόψεων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6.  Ενίσχυσ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9T22:20:00Z</dcterms:modified>
  <cp:revision>283</cp:revision>
  <dc:subject/>
  <dc:title>No Slide Title</dc:title>
</cp:coreProperties>
</file>