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E815-07B9-4800-9606-18945C16E7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A4D1-C58C-4CFF-B183-3DCFFB6DE59E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D604C5E-D4C2-47D1-B4C3-4D652EAC3549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6679-6F07-4D19-AFDF-ED74ED35B93B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5E17317-3308-487B-B12A-C434626F47F8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E206-3188-4D6D-9DAE-AF78EC2610E9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6840E97D-6249-45A2-9C8D-CF018526B1EA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FA7F-431A-45E9-8338-9A69CB3674E0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024F20B-253C-47DB-9698-626F24AF2CBF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F247-466D-48A5-AB63-B319B8E2CBDB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382762C-10F8-402B-A1EB-52C9B8C50704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FA3C-0D4B-44F4-98D8-113EF572A8E7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2E869FB-CA0F-4A5A-8760-58C402160691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B9F0-2383-4120-B297-F43DEA421F20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62AD444-4B45-4832-8A5C-1D0C4ADFC6DF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2355-3D59-4EE0-83DD-F5F9529F4CF4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F2C6354-05F0-4730-9521-8EF3F815B8A8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2E96-0A8D-476C-BC8D-0E13ADAB97E3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EDEDF58-E3E6-4235-BC34-F8E1C2837CA3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9B83-6D38-4C1C-AC66-F4115ADD4383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2FC0918-B915-45A3-B0DA-303E4DB020E1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F164-77D8-4EE2-8BE5-1E0DF073513B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60E1055-D5C4-4610-AC7E-739FA9915F48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9817-51C4-4D07-A16E-68627A1B4AEA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DA1A332-048A-4779-9A89-C238589B3C5E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86D7-B796-4915-AF58-35F626FB935C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CB49D7D-7BC3-4691-BEEA-9665231E7BB1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B993-CA97-4F3F-B000-2E52E4B3A68A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54C111AF-63C3-4313-9253-FDB30AC681D0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5309-04AC-4763-BEF7-905971DC44FD}" type="slidenum">
              <a:rPr b="0" lang="en-GB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647F820-BE47-4FED-A0DB-941D100584A9}" type="slidenum">
              <a:rPr b="0" lang="en-GB" sz="1300" spc="-1" strike="noStrike">
                <a:solidFill>
                  <a:srgbClr val="0033cc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FE18-A8CE-4CF1-9496-1267AFB33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69BE-4D66-4A3E-8601-D6531238A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1661-A029-4142-965D-FA4E829DF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816C-683D-4D3E-BE3E-2CEB88B48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88753-FA4A-4B20-B1D7-6F224ADDDA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68B96-B448-404D-BCAD-7E84B74183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FA42E-824C-458F-9829-B032EF1113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74A0E-9EA4-4F16-B361-B77972F94E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DB060-0627-401E-A463-F2E2A4EB70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DEA44-2FD4-4671-A997-6F1B0E6FD2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3DC6F-D3A1-4104-A640-C090D49458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89A5-C1C2-4ECB-9911-B7D2B4BD9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31DF0-6210-4C50-844A-A2BE563050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CEAF9-736B-4100-B5A3-7AFC0C2520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B544B-C709-4878-8D67-89215F5B9D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CDFB6-4D84-45B0-B4D2-2629F98452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360B1-D5B9-4A85-8152-9A2B308D6A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ADC7-BD6E-4334-B301-69714E523C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C5B9-11B5-4481-B5A0-88485D010A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E2F5-98ED-47BD-9A64-727A0479B8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EBF0-2B71-45CE-ABCF-FF1ADA691B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2EAC-F762-4F49-822F-92B84CF469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0A86-49CF-435C-961F-B1A8AAED90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073D-A00B-4D1F-82D9-E414FEAAD3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5DFA-1DA5-423D-8E4B-AC60E04E8A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2710-1C38-471A-8A3D-8BFC228A43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B750-2F21-4208-9B2D-F00D6F2551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E6E7-E036-411B-9CFE-FBEBA4AC87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869F-A06D-4414-8211-06D11AAA93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8049-D2E2-4DE3-98E1-CC5480A0F3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5FE43-22B8-4288-B395-DA48F5E79A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4C4A0-A9F9-42FA-B769-D41EC28F36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68327-D28B-43FB-B0AA-F513EF263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DDB3-D2AD-4699-AE38-54B586C2EE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2CDBE-1999-4630-8249-8AADD94307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8669A-E2AE-4AA2-941E-DAAB11BEDA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B18DD-2F95-4B4F-9E0F-A21B19ABC2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80672-3199-49D9-951A-0E80959059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CC447-906D-4071-B8F4-05FAEE8C7B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05BF5-C53A-46DE-8B20-41E98605D9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E1BFF-CF06-4062-9765-B62E6E22B0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F3729-780E-45DE-BB61-5DBA925631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9F17C-8748-4724-9039-CAFB86F154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5DCF0-27C3-4873-BF62-CF02D7A9E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A6AB-6FC1-4A73-911B-53525B6C9CD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89A91-A91A-4193-90AB-0378809C97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588E4-111E-4080-9359-3732F100CF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28AAB6-0A4D-4CD2-A881-9173DEF2F7B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B1756A-E73A-4CD0-B34F-419399F90D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45B5B-2AF5-4F1F-B43C-026E8222F6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2A503-914C-483B-A15F-780A884876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641D6-B94E-44D5-B5DB-5BAB5477518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456C82-8596-4AAE-B3B9-4735B2A6F5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5FFBD3-6745-46B7-B76A-5E91A013AD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DBECDB-6393-4963-A955-9AB535702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D278-E46F-41FD-88E4-4BBBE592ED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FD9F2-B43C-4304-8616-A8CEB72C4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B63C-9DAA-49C8-A6E1-1F38FC6F8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5B3B-242A-4D9F-806F-48ED8FD66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3123-6538-4F9A-92EC-E9B381373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B413-FB52-4BFA-8BB8-F7F693D4B0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41200" y="6534000"/>
            <a:ext cx="3195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02BB-C4C7-439E-9815-3967902C6A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47E8-E0FC-4A19-A37D-DCC536DF24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AF2F-02A9-410D-A94B-63E7CC3C4F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EA44-5E7C-4D50-A0DB-A5B9713667B0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15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Ανάλυση ποσοτικών δεδομέν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1640" y="414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Δείκτες διασπορά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Η Διασπορά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βαθμός διακύμανσης ενός δείγ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Οι δείκτες διασπορά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γκρίνουν τα επίπεδα διακύμανσης σε διαφορετικά δείγματα για να φανεί αν υπάρχει μεγαλύτερη διακύμανση στη μεταβλητή ενός δείγματος σε σχέση με ένα άλλ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Το εύρο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η διαφορά μεταξύ της  μέγιστης και της ελάχιστης τιμής  μιας κατανομής τιμ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Η τυπική απόκλιση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η μέση διακύμανση γύρω από το μέσο όρο που μειώνει τον αντίκτυπο ακραίων τιμώ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Διμεταβλητή ανάλυση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νάλυση δύο μεταβλητών κάθε φορά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161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ερευνά τις σχέσεις μεταξύ μεταβλητ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αζητά τη σύμπτωση της διακύμανσης μιας μεταβλητής με αυτή μιας άλλης και τη συσχέτι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 μπορεί να θεμελιώσει αιτιώδη σύνδε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εί κάποιες φορές να καταλήξει μέσω συμπερασμών  στην κατεύθυνση μιας αιτιώδους επίδρ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 μια μεταβλητή είναι καταφανώς ανεξάρτητη από την άλλ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ίνακες συνάφει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νδέει τις συχνότητες δύο μεταβλητ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οηθά στον εντοπισμό οποιωνδήποτε μορφών διασύνδε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Ο δείκτης συνάφειας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arson’s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η σχέση μεταξύ δύο μεταβλητών διαστήματος/αναλογ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8280" y="15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συντελεστής δείχνει την ισχύ και την κατεύθυνση της  σχέσ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ρίσκεται μεταξύ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1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έλεια αρνητική συσχέτισ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+1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έλεια θετική συσχέτισ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κειμένου να αποδώσει η μέθοδος, οι συσχετίσεις πρέπει να είναι γραμμικές, επομένως,  χρειάζεται να γίνει πρώτα ένα διάγραμμα διασπορά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τελεστής προσδιορισμ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ολογίζεται αν υψώσουμε την τιμή του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στο τετράγων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κφράζει το μέρος της διακύμανσης της μίας μεταβλητής που οφείλεται στην άλλ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7360" y="9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νάλυση των σχέσεων μεταξύ άλλων μεταβλητών ή μεταβλητών μικτού τύπ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δείκτη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arman’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h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φορά στη σχέση μεταξύ δύο μεταβλητών διάταξης ή μίας μεταβλητής διάταξης και μίας μεταβλητής διαστήματος/αναλογίας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μές από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χρ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συντελεστής φ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φορά στη σχέση μεταξύ δύο διχοτομικών μεταβλητών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μές από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χρι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δείκτη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amer’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φορά στη σχέση μεταξύ δύο ονομαστικών μεταβλητών ή μιας ονομαστικής μεταβλητής και μιας μεταβλητής διάταξης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(τιμές μεταξύ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ύγκριση των μέσων όρω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ταν μια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ονομαστική μεταβλητή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ρίζεται ως ανεξάρτητη μεταβλητ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μέσοι όροι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της μεταβλητής διαστήματος/αναλογίας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γκρίνονται για κάθε υποομάδα της ονομαστικής μεταβλητ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Ο δείκτης ήτ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φορά στο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επίπεδο της σύνδεσης μεταξύ δύο μεταβλητώ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κόμα κι όταν δεν υπάρχει γραμμική σχέση μεταξύ του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7360" y="9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ολυμεταβλητή ανάλυση</a:t>
            </a:r>
            <a:br>
              <a:rPr sz="36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ρεις ή περισσότερες μεταβλητέ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σχέση μεταξύ δύο μεταβλητών μπορεί να είναι ψευδ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άθε μεταβλητή μπορεί να συνδέεται με μια ξεχωριστή, τρίτη μεταβλ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πορεί να υπάρχει μια παρεμβαλλόμενη μεταβλητ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ια τρίτη μεταβλητή θα μπορούσε να διαφοροποιήσει τη σχέ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χ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συσχέτιση μεταξύ ηλικίας και άσκησης μπορεί να διαφοροποιείται ανάλογα με το φύλ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αράδειγμα ψευδούς σχέ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Εικόνα 1" descr=""/>
          <p:cNvPicPr/>
          <p:nvPr/>
        </p:nvPicPr>
        <p:blipFill>
          <a:blip r:embed="rId1"/>
          <a:stretch/>
        </p:blipFill>
        <p:spPr>
          <a:xfrm>
            <a:off x="38160" y="1989000"/>
            <a:ext cx="88009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736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Στατιστική σημαντικότη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2960" y="1643040"/>
            <a:ext cx="77724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όσο σίγουροι μπορεί να είμαστε ότι τα ευρήματα από το δείγμα μπορούν να γενικευτούν στον πληθυσμό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όσο επικίνδυνο είναι να βγάλουμε ένα τέτοιο συμπέρασμα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φορά μόνο στην πιθανοτική δειγματοληψ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5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αδικασία ελέγχου στατιστικής σημαν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7360" y="1387440"/>
            <a:ext cx="7650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ιατυπώστε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ια μηδενική υπόθεσ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υ ορίζει ότι οι δύο υπό εξέταση μεταβλητές δεν έχουν καμία σχέση μεταξύ τους στον πληθυσμό  από όπου επιλέχθηκε το δείγμ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Καθορίστε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αποδεκτό για εσάς επίπεδο στατιστικής σημαντικότητ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Χρησιμοποιήστε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ια στατιστική δοκιμασ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ν επιτευχθεί ένα αποδεκτό επίπεδο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πορρίψτε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η μηδενική υπόθε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ν δεν επιτευχθεί αποδεκτό επίπεδ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ποδεχτείτε τη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αλλά μπορεί και λανθασμένα να αποδεχτούμε ή να απορρίψουμε τη μηδενική υπόθεσ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213280" y="585936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42960"/>
                </a:solidFill>
                <a:latin typeface="Arial"/>
              </a:rPr>
              <a:t>Σφάλματα Τύπου Ι και Τύπου ΙΙ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6" name="Εικόνα 1" descr=""/>
          <p:cNvPicPr/>
          <p:nvPr/>
        </p:nvPicPr>
        <p:blipFill>
          <a:blip r:embed="rId1"/>
          <a:stretch/>
        </p:blipFill>
        <p:spPr>
          <a:xfrm>
            <a:off x="1015920" y="1357200"/>
            <a:ext cx="66168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164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Έλεγχοι στατιστικής σημαν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έλεγχος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ας επιτρέπει να καθορίσουμε το βαθμό εμπιστοσύνης μας στην ύπαρξη μιας σχέσης μεταξύ δύο μεταβλητών στον πληθυσμ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σχέτιση και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τατιστική σημαντικ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αρέχει πληροφορίες για την πιθανότητα που υπάρχει να βρεθεί ο συντελεστής στον πληθυσμό από όπου προέρχεται το δείγμ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σύγκριση των μέσων όρων και η στατιστική σημαντικότητ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στατιστικός δείκτης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κφράζει το επίπεδο της επεξηγούμενης διακύμανσης σε σχέση με το επίπεδο της διακύμανσης σφάλματο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6640" y="414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ισαγωγ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01640" y="1672920"/>
            <a:ext cx="8010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κεφτείτε το θέμα της ανάλυσης δεδομένων στα πρώτα στάδια της ερευνητι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ι αποφάσεις για τις μεθόδους και το μέγεθος του δείγματος επηρεάζουν το είδος της ανάλυσης που μπορείτε να κάνετ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Ο έλεγχος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x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01280" y="1695600"/>
            <a:ext cx="7775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έλεγχος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φαρμόζεται σε πίνακες συνάφεια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ας επιτρέπει να καθορίσουμε το βαθμό εμπιστοσύνης μας στην ύπαρξη μιας σχέσης μεταξύ δύο μεταβλητών στον πληθυσμό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εριλαμβάνει τον υπολογισμό μια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ναμενόμενης συχνότητα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ή τιμής για κάθε κελί του πίνακ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ηλαδή μιας συχνότητας που να οφείλεται καθαρά στην τύχ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 τιμή του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²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ροσδιορίζεται με τον υπολογισμό της διαφοράς μεταξύ της πραγματικής και της αναμενόμενης τιμής για κάθε κελί και μετά το άθροισμα αυτών των διαφορώ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ο αν θα επιτευχθεί στατιστική σημαντικότητα από μια τιμή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²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αρτάται όχι μόνο από το μέγεθός της, αλλά και από τον αριθμό των κατηγοριών των δύο αναλυόμενων μεταβλητών. Αυτό το τελευταίο καθορίζεται από τους λεγόμενους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αθμούς ελευθερίας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ου συνδέονται με τον πίνακ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υσχέτιση και στατιστική σημαντικ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82280"/>
            <a:ext cx="77724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όσο σίγουροι μπορεί να είμαστε για τη σχέση μεταξύ δύο μεταβλητώ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στατιστική σημαντικότητα του συντελεστή συσχέτισης εξαρτάται από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ν τιμή του συντελεστή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σο μεγαλύτερη, τόσο το καλύτερ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μέγεθος του δείγματο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σο μεγαλύτερο, τόσο το καλύτερ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 ο συντελεστής είνα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62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το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&lt;0.05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ούμε να απορρίψουμε τη μηδενική υπόθεσ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Η σύγκριση των μέσων ό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01640" y="162864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στατιστική σημαντικότητα της σχέσης μεταξύ δύο μεταβλητών σημαίνε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ολική διακύμανση της εξαρτημένης μεταβλητή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ακύμανση σφάλματο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ακύμανση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εντό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ων υποομάδων της ανεξάρτητης μεταβλητή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εξηγούμενη διακύμανση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ακύμανση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μεταξύ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ων υποομάδων της ανεξάρτητης μεταβλητή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Ο στατιστικός δείκτης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κφράζει το επίπεδο της επεξηγούμενης διακύμανσης σε σχέση με το επίπεδο της διακύμανσης σφάλματο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1640" y="27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ύποι μεταβλητώ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ταβλητές διαστήματος/αναλογ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αποστάσεις των κατηγοριών τους διατηρούνται σταθερές σε ολόκληρο το φάσμα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ταβλητές διάταξ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κατηγορίες μπορούν να διαβαθμιστούν, όμως οι αποστάσεις μεταξύ των κατηγοριών δεν διατηρούνται σταθερές σε ολόκληρο το φάσμα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νομαστικές μεταβλητ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ιοτικά διαφορετικές κατηγορίε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 μπορούν να διαβαθμιστού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χοτομικές μεταβλητ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όνο δύο κατηγορίε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φύλ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0520" y="36828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σδιορισμός της κατηγοριοποίησης μιας μεταβλητή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Εικόνα 1" descr=""/>
          <p:cNvPicPr/>
          <p:nvPr/>
        </p:nvPicPr>
        <p:blipFill>
          <a:blip r:embed="rId1"/>
          <a:stretch/>
        </p:blipFill>
        <p:spPr>
          <a:xfrm>
            <a:off x="650880" y="1244520"/>
            <a:ext cx="7926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164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Μονομεταβλητή ανάλυση</a:t>
            </a:r>
            <a:br>
              <a:rPr sz="36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νάλυση μίας μεταβλητής κάθε φορά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01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ίνακες συχνοτή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ριθμός ανθρώπων ή περιπτώσεων σε κάθε κατηγορ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χνά εκφράζεται και ως ποσοστό του δείγ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δεδομένα των μεταβλητών διαστήματος/αναλογίας χρειάζεται να ομαδοποιηθού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γράμ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εί να είναι ραβδογράμματα ή κυκλικά διαγράμματ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αβλητές διάταξης και ονομαστικές μεταβλητέ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στογράμματ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αβλητές διαστήματος/αναλογία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150920" y="9828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να Ραβδόγραμμα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ελέτη για το γυμναστήριο)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0" name="Εικόνα 2" descr=""/>
          <p:cNvPicPr/>
          <p:nvPr/>
        </p:nvPicPr>
        <p:blipFill>
          <a:blip r:embed="rId1"/>
          <a:stretch/>
        </p:blipFill>
        <p:spPr>
          <a:xfrm>
            <a:off x="701640" y="1359000"/>
            <a:ext cx="801072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285920" y="409680"/>
            <a:ext cx="66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Ένα Κυκλικό διάγραμμα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1962000" y="5494320"/>
            <a:ext cx="49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42960"/>
                </a:solidFill>
                <a:latin typeface="Arial"/>
              </a:rPr>
              <a:t>Βασικοί λόγοι επίσκεψης στο γυμναστήριο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3" name="Εικόνα 2" descr=""/>
          <p:cNvPicPr/>
          <p:nvPr/>
        </p:nvPicPr>
        <p:blipFill>
          <a:blip r:embed="rId1"/>
          <a:stretch/>
        </p:blipFill>
        <p:spPr>
          <a:xfrm>
            <a:off x="611280" y="1270080"/>
            <a:ext cx="75168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3041640" y="406440"/>
            <a:ext cx="27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Ιστόγραμμα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5" name="Εικόνα 2" descr=""/>
          <p:cNvPicPr/>
          <p:nvPr/>
        </p:nvPicPr>
        <p:blipFill>
          <a:blip r:embed="rId1"/>
          <a:stretch/>
        </p:blipFill>
        <p:spPr>
          <a:xfrm>
            <a:off x="746280" y="1314360"/>
            <a:ext cx="787536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Δείκτες κεντρικής τά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01640" y="1584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ριθμητικός μέσος όρ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θροίζονται όλες οι τιμές μιας κατανομή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πειτα διαιρούνται με τον αριθμό του συνόλου των τιμ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ιάμεσ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κεντρικό σημείο μιας κατανομής τιμ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επηρεάζεται από τις ακραίες τιμ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πικρατούσα τιμ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τιμή με τη μεγαλύτερη συχνότητα εμφάνι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17T23:20:01Z</dcterms:modified>
  <cp:revision>236</cp:revision>
  <dc:subject/>
  <dc:title>No Slide Title</dc:title>
</cp:coreProperties>
</file>