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983413" cy="10120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984000" cy="101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1"/>
          </p:nvPr>
        </p:nvSpPr>
        <p:spPr>
          <a:xfrm>
            <a:off x="395568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961920" y="758520"/>
            <a:ext cx="5060880" cy="37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-36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3"/>
          </p:nvPr>
        </p:nvSpPr>
        <p:spPr>
          <a:xfrm>
            <a:off x="395568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B09A-C650-4E3B-998E-DF9D2FA8C7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11D1-92DD-4B43-8AA2-A576DD66FD76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CAF8D735-6127-4783-B605-7B9BEC4BF87A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9D82-28DE-458A-8561-FCED9F6DAB6E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A396E862-05DE-49A7-8E04-F022C54F93DD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AE5A-8F15-4347-BE6B-15A3CEE12FA8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A9190CEE-9030-4155-B8C6-22A8BB1C5081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1B86-AEB8-4984-A2D3-2A09A40D3DA8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9344558B-2A3A-4B1A-82D5-1B6F85D5F130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F793-4E53-450D-A85A-1DE27F891EC7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5EFF0C49-9185-452F-9B05-DAF09F3654F3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79C2-446C-47B4-966A-940708ED2D66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C8D23F5C-CF2A-4390-8FE2-FC8E1C815B0E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9C28-6F74-4452-B079-F190FC0BB4F5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FD84D99C-325B-4629-B8AA-B41E906F246D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364C-C59B-4234-97A0-7E0FDC360490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2A12440F-4FEB-4DA6-AD75-79F3A9A634E6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0067-47A5-4B5E-877B-E9E09AEA8072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8C577F3-4345-4F5A-860A-553C1CEECAB6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851D-4198-438B-BB3A-778787801148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CC8B9035-E8CA-40E8-8149-9F4181DA324A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B937-9B55-4F19-9D6D-440BB15F9898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6625CDD-D054-4160-AD68-54072F70AA78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7A7E2-6236-481D-8C89-706F9F929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13C1B-350B-40B0-84BF-E5BC9BFD9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43105-E26A-4913-B766-D890E575B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B9D7E-1F05-464E-B7C3-9DCC355BD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04843-CCBD-4759-B065-92866153D9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C2309-4C19-4541-85F4-766FA2B910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B6D5F-6B58-49F0-9481-6FDC29FA54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60B20-CAA6-4D79-A97D-B70FF0ED25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EAB51-E522-41D9-83E0-DB31BE51A1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22515-32C4-4F64-85FB-97A313B89B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B9117-471E-414E-BB77-7BD1CA990B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4B5A2-54CF-4E30-B2BD-8DDEF0688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CF30F-2C21-46E2-986D-1A3729BB89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9F891-C734-4EC4-AE82-B10BCF6DEE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77DBD-670B-4159-8FD3-38D5E9E0A3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DB886-43EE-4D9A-899E-9330C555E2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3F54A-A9A3-433F-A299-5BAE3FD7D7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003A-0B62-4AD8-AA5B-601A930C04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93D0-BA0D-4CEF-9461-9D315205B5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46CD-E392-4A48-83E1-73F5B48760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1D0D-3837-44F3-9ED4-168E3D33AA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FD78-84CC-4703-B3BC-B7FE02DDA7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C564B-DB39-41D0-9FC5-A46741ECBB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7DDF-56C8-4E1F-AD90-570FA8BDA5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941E-1F5E-4216-B15E-25AA11BF8C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DA14-CC56-4C19-B7F7-51F8C8E78C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36D9-D48F-4766-B702-D42F3F1407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CE43-CDAE-4115-9E72-5BE06CDCDB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5376-584C-48B7-9DD7-CFA24B184A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EAEB-0506-4AF7-9618-212C2A157C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BA1E4-EE37-47AB-AC51-F6A70BBEE86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993018-6DA1-4525-AF46-973D7F396B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89211D-C612-45AC-98DB-771166DE8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66FD-9F01-4AAF-AAF5-847994FF364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2D279-D402-4594-B7BD-58FD882EB3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51D0B-FF10-4804-A529-BA13EBE0605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36BFC-877E-491F-87A8-325038577F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D41CB-13C4-4697-B85B-9C7D8E4014E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46908F-120D-4542-B65F-D641C8F14B3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85D15-E6AC-4537-B3C0-5957FEEBA7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409D8F-1E1B-4573-A2D3-766964DCE2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C2016-AF53-4540-B7B8-1997E256F2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FD465-7BC4-4259-9E83-7C2CAABDFFA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BACA7B-F45C-41E2-B8EE-D2A1A4D91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E9508-4071-4A83-BFD4-2031596A7BE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68B0D7-17EA-4520-A561-EDB035552E3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2743A1-9173-46F7-8E4E-5569478DAB5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1E4248-6F85-46D4-A7DC-E23BB6693E5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95D6E3-0F8B-4DDB-A995-C84C91E2B23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6FA706-B6A6-4930-9C97-6864C18080B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050704-B3CC-4C67-84B2-C4D26A2579A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68D291-C602-41B1-8CB3-E887EFC7A58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CAF10B-953B-4F2D-A069-6028FA4B2F5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164807-D5F8-4551-8256-6AC262F8500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87B7B9-35D2-4AAD-927B-32E6ECF0E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7415D-B609-45EA-82F8-F2FD817B6D5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D8FFF0-8B30-43DE-802C-FFF1CF3EF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ECB90-5FA4-4370-B72F-803E3E71B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A45E2-CA48-4AFE-A4A8-C5123F123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2F108-DE6F-48B2-9304-B0B18D2E0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6DE1-17C7-4C22-9E0F-3AC4A94253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293760" y="1989000"/>
            <a:ext cx="8567640" cy="4394160"/>
          </a:xfrm>
          <a:prstGeom prst="rect">
            <a:avLst/>
          </a:prstGeom>
          <a:solidFill>
            <a:srgbClr val="002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Line 13"/>
          <p:cNvSpPr/>
          <p:nvPr/>
        </p:nvSpPr>
        <p:spPr>
          <a:xfrm>
            <a:off x="0" y="6489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2"/>
          <p:cNvSpPr/>
          <p:nvPr/>
        </p:nvSpPr>
        <p:spPr>
          <a:xfrm>
            <a:off x="306720" y="12240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Type author names her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06280" y="6534000"/>
            <a:ext cx="3807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© Alan Bryman, 2016. All rights reserved.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ftr" idx="3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033A-2AB9-4D11-90E5-6F53C09386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ftr" idx="5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6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2311-A960-4E90-9E4A-2956AB6779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ftr" idx="7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Num" idx="8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1057-96F8-496B-8E5A-B61330040C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1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ftr" idx="9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ldNum" idx="10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5617-43C6-4852-8044-EE7F332F0CEE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2573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Arial"/>
              </a:rPr>
              <a:t>Μέθοδοι κοινωνικής έρευν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41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Κεφάλαιο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13: </a:t>
            </a: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Ανάλυση περιεχομένο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306000" y="1224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Alan Bryman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9040" y="1270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αράδειγμα διαγράμματος κωδικοποίησ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Εικόνα 1" descr=""/>
          <p:cNvPicPr/>
          <p:nvPr/>
        </p:nvPicPr>
        <p:blipFill>
          <a:blip r:embed="rId1"/>
          <a:stretch/>
        </p:blipFill>
        <p:spPr>
          <a:xfrm>
            <a:off x="281160" y="2484360"/>
            <a:ext cx="858168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ο εγχειρίδιο κωδικοποίησ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α σύνολο οδηγιών προς τους κωδικοποιητέ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εριλαμβάνει όλες τις πιθανές κατηγορίες κάθε κωδικοποιημένης διάστα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ίχνει ποιοι κωδικοί/αριθμοί αντιστοιχούν σε κάθε κατηγορία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οσφέρει καθοδήγηση ως προς το πώς να αποφασίσουμε για την απόδοση ενός κωδικο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ξηγεί τι πρέπει να κάνουμε αν ταιριάζουν πάνω από ένας κωδικό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πορεί να χρησιμοποιηθεί ως αφετηρία ένα υφιστάμενο λεξικό ανάλυσης περιεχομέν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2"/>
          <p:cNvSpPr/>
          <p:nvPr/>
        </p:nvSpPr>
        <p:spPr>
          <a:xfrm>
            <a:off x="1042920" y="414360"/>
            <a:ext cx="68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ποσπάσματα ενός εγχειριδίου κωδικοποίηση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2" name="Εικόνα 1" descr=""/>
          <p:cNvPicPr/>
          <p:nvPr/>
        </p:nvPicPr>
        <p:blipFill>
          <a:blip r:embed="rId1"/>
          <a:stretch/>
        </p:blipFill>
        <p:spPr>
          <a:xfrm>
            <a:off x="476280" y="1684440"/>
            <a:ext cx="3916440" cy="4282920"/>
          </a:xfrm>
          <a:prstGeom prst="rect">
            <a:avLst/>
          </a:prstGeom>
          <a:ln w="0">
            <a:noFill/>
          </a:ln>
        </p:spPr>
      </p:pic>
      <p:pic>
        <p:nvPicPr>
          <p:cNvPr id="243" name="Εικόνα 3" descr=""/>
          <p:cNvPicPr/>
          <p:nvPr/>
        </p:nvPicPr>
        <p:blipFill>
          <a:blip r:embed="rId2"/>
          <a:stretch/>
        </p:blipFill>
        <p:spPr>
          <a:xfrm>
            <a:off x="4371840" y="1684440"/>
            <a:ext cx="2900520" cy="1693800"/>
          </a:xfrm>
          <a:prstGeom prst="rect">
            <a:avLst/>
          </a:prstGeom>
          <a:ln w="0">
            <a:noFill/>
          </a:ln>
        </p:spPr>
      </p:pic>
      <p:pic>
        <p:nvPicPr>
          <p:cNvPr id="244" name="Εικόνα 4" descr=""/>
          <p:cNvPicPr/>
          <p:nvPr/>
        </p:nvPicPr>
        <p:blipFill>
          <a:blip r:embed="rId3"/>
          <a:stretch/>
        </p:blipFill>
        <p:spPr>
          <a:xfrm>
            <a:off x="4751280" y="3693960"/>
            <a:ext cx="339588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Αποφυγή πιθανών παγίδ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490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έπει να διασφαλιστεί ότι το διάγραμμα κωδικοποίησης έχε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ιακριτές διαστάσει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μοιβαία αποκλειόμενες κατηγορί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ξαντλητικές κατηγορί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αφείς οδηγίες προς τους κωδικοποιητέ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ια σαφώς προσδιορισμένη μονάδα ανάλυση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ιάκριση μεταξύ των μέσων και των αναφερομένων γεγονότω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Υποβάλετε τη μελέτη σε πιλοτική έρευνα προκειμένου να έχετε τη δυνατότητα να βελτιώσετε  τη σταθερότητα μεταξύ των κωδικοποιητών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ξιοπιστία μεταξύ των κωδικοποιητώ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ι τη διαχρονική σταθερότητα για κάθε μεμονωμένο κωδικοποιητή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ξιοπιστία του μεμονωμένου κωδικοποιητ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1557000"/>
            <a:ext cx="7490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ανάλυση περιεχομένου μπορεί να είναι κατάλληλη γι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Ιστοσελίδ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έσα κοινωνικής δικτύωσ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tro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λλά υπάρχουν ζητήματα επιλογής/ δειγματοληψία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τιπροσωπευτικότητα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αθερότητας αλλά και μικροδιαφορές που παρέχονται από το κοινό, που δεν είναι κατ’ ανάγκη παρούσες στα υλικά αντικείμενα όπως οι εφημερίδε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Το διαδίκτυο ως αντικείμενο ανάλυσης περιεχομένο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Πλεονεκτήματα της ανάλυσης περιεχομένο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Διαφάνε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Ευκολία για διαχρονική ανάλ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Διακριτικότητ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Ευελιξ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Ευκολία πρόσβασ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Μειονεκτήματα της ανάλυσης περιεχομένο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Ζητήματα αυθεντικότητα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αξιοπιστίας και αντιπροσωπευτικότητας των τεκμηρίω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Ερμηνεία από τους κωδικοποιητέ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Ακυρότητα λόγω της απόδοσης του λανθάνοντος και όχι του προδήλου περιεχομέν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υσκολίες στην απάντηση σε ερωτήσεις που αφορούν λόγους/αιτίες των φαινομέν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Προσέγγιση που στερείται θεωρητικού υποβάθρ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ροσέγγιση ανάλυσης τεκμηρίων και κειμέν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οσοτικοποιεί το περιεχόμενο βάσει εκ των προτέρων διαμορφωμένων κατηγορι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ίναι συστηματική και αξιόπιστ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ποτελεί συνήθως μια στρατηγική ποσοτικής έρευνα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ιαφέρει από τη σημειωτική και την εθνογραφική ανάλυση περιεχομέν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657360" y="414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ι είναι η ανάλυση περιεχομένο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Ορισμοί της ανάλυσης περιεχομέν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ντικειμενική, συστηματική και ποσοτική περιγραφή του πρόδηλου περιεχομένου της επικοινωνίας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Berelson, 195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πικεντρώνει στην επικοινωνία στα ΜΜ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ντικειμενικός και συστηματικός εντοπισμός καθορισμένων χαρακτηριστικών των μηνυμάτων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Holsti, 196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εριλαμβάνει λανθάνον περιεχόμεν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01640" y="36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Ερευνητικά ερωτήματ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έπει να καθοριστούν με σαφήνεια πριν την ανάλυ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Να αποφασιστεί ποιες διαστάσεις των κειμένων θα ποσοτικοποιηθού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.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ειδησεογραφική κάλυψη ενός θέματ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ιος, τι, πόσο, πού και γιατί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όσες διαφορετικές απόψεις αποτυπώνοντα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ι επιλέγεται να συμπεριληφθεί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αραλείψεις: Τι είναι αυτό που δεν αναφέρετα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πορεί το ποσοστό κάλυψης να αλλάξει με την πάροδο του χρόνο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1979640" y="32400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Η επιλογή δείγματο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1332000" y="1916280"/>
            <a:ext cx="62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την περίπτωση εφαρμογής στα ΜΜΕ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πιο πιθανό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ίναι πιθανές δύο διαστάσεις για την τυχαία επιλογή δείγματο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α ΜΜΕ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ημερομηνίες δημοσίευση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Δειγματοληψία μέσων επικοινωνί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0040" y="150012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αδιακός περιορισμό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οιοι τύποι κειμένων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Έντυπα ή ψηφιακά δεδομένα; Τεκμήρια; Μέσα μαζικής ενημέρωση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ν αφορά στα ΜΜΕ, τότε ποια από αυτά; -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ηλεόραση, ραδιόφωνο, εφημερίδες, περιοδικά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ερισσότεροι από έναν τύπο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Για κάθε τύπο κειμένου, τι παραδείγματα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.χ.ταμπλόιντ ή και εφημερίδες ευρείας κυκλοφορία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Η δειγματοληψία χρονικών σημεί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ημερομηνίες έναρξης μπορεί να προκαθορίζονται από ένα ιστορικό γεγονό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πως η τρομοκρατική επίθεση στο Παγκόσμιο Κέντρο Εμπορίου την 11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Σεπτεμβρίου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ε περίπτωση ερωτημάτων που αφορούν γενικότερα, εν εξελίξει φαινόμεν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πιο ανοικτέ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ημερομηνίες λήξης μπορεί να είναι θέμα κρί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ι’ αυτό, καλύτερα να ακολουθούνται οι αρχές της πιθανής δειγματοληψία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πως δίνονται στο κεφάλαιο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ι θα καταμετρηθεί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Πρόσωπα ιδιαίτερης σημασία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ρωταγωνιστές και εναλλακτικές απόψει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Λέξει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υχνότητα εμφάνισης λέξεων και φράσεων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‘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χούλγικαν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η καπνιστή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’)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 Μπορεί να χρησιμοποιηθεί λογισμικό Η/Υ για την ανάλυσ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Θέματα και θεματικά μοτίβ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Προδιαθέσει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ξίες, μεροληψία και ιδεολογί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ο διάγραμμα κωδικοποίησ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ια φόρμα σε μορφή πίνακα στην οποία θα καταχωριστούν όλα τα δεδομέν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άθε μία από τις στήλες αποτελεί και μια κωδικοποιημένη διάσταση των δεδομένων υπό ανάλυση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 κάθε σειρά αποτυπώνει μια μονάδα ανάλυσης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ντικείμενο του κειμένου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ι κωδικοί εισάγονται στα κενά κελιά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3:26:03Z</dcterms:created>
  <dc:creator>Kate Hilton</dc:creator>
  <dc:description/>
  <dc:language>en-US</dc:language>
  <cp:lastModifiedBy>Χρήστης των Windows</cp:lastModifiedBy>
  <cp:lastPrinted>2001-09-10T07:46:38Z</cp:lastPrinted>
  <dcterms:modified xsi:type="dcterms:W3CDTF">2018-11-16T22:04:05Z</dcterms:modified>
  <cp:revision>215</cp:revision>
  <dc:subject/>
  <dc:title>No Slide Title</dc:title>
</cp:coreProperties>
</file>