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983413" cy="10120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984000" cy="101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1"/>
          </p:nvPr>
        </p:nvSpPr>
        <p:spPr>
          <a:xfrm>
            <a:off x="395568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961920" y="758520"/>
            <a:ext cx="5060880" cy="37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-36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3"/>
          </p:nvPr>
        </p:nvSpPr>
        <p:spPr>
          <a:xfrm>
            <a:off x="395568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0416-82E3-477E-9713-EAC762586F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ADF0-5706-45A6-9B12-8D3C69A97749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8FB9B1F9-DB6D-4BA3-831A-5C7EA028C36B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EF7B-4A65-47DD-BE58-9D76A92F0455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BEDF3308-D023-4A6E-BFF0-194733087A61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E486-BA26-4ECD-A602-522C11F98C5E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1872B504-0E06-49E3-BDEB-91035B40FEF1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15C6-3403-4DE6-8560-4CB31DDF3D22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AEA50D91-E09F-498A-AFB8-98EDAD93B525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474F-7185-40C5-B3F1-883AA2A9EB60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055344E-C6C8-4B1F-8563-0BEA7604F0CB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57CA-F0F5-4977-AA56-68732C5C20D5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FA399287-2127-4D3C-907C-45D4E8958E1B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44BF-0EB2-4F84-97B3-AEB4796050F7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97524D95-76DA-4973-8405-8ACB8B7273AC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26A5-34EA-4EF7-95B1-91AF04C62617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E9136C46-07F5-4951-872B-A6F1E214B675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AA10-76B7-405C-B66A-1C8C825296D2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36509620-5E5F-4BCA-B756-6C715E366AFD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00F2-3395-48BC-BBD0-44DBF928AED6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DA0E8810-6449-4F01-8410-BE04F093069E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E5A92-26F1-41B2-A561-46A939D9A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A5B04-37A9-4164-95B3-AEE478BF3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696F4-E10E-433F-A908-84F958E16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E11BE-B989-4274-B448-0FDFD3F00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672DB-409E-4CEA-A691-BE95BE1BDF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B71D6-2232-44B1-A685-03B102C40F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29EB3-EE7C-4424-A11F-76EF5DC4EE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CBA3D-B002-475D-8E8A-2E12F21069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9CF86-B8E2-4597-ADDC-0554D3F6D6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E0E2B-BE93-4E89-9572-59A7599F60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CBAA0-F084-42F8-B38C-9CBA8520AF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7721E-0A15-4215-B344-3DF6B4864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50A8A-778E-4F41-AC7E-4D4BA42F76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0E130-7FD0-40D4-9EDB-CF701075F1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CB4D3-73A4-420F-9831-48216CBA6A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08E0E-622B-4C74-AF60-61C37DCE5B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9003B-5845-47E5-997C-BDADF68478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544D-6193-4A01-A630-DC9DC1A44E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CF2A-3F11-4DB8-AE09-2B75BA6542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70C9-245E-43D4-956C-9373B60D43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43FA-F855-4C70-9D07-E34BD5370F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B986-2368-4BA8-BA44-8652F0235D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E384B-646E-4E5F-9AF3-0765087EE5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3914-643B-494B-B9A7-89D1D9E8D7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10BF-E7D3-4D9C-8578-502F3B98E8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52D1-659C-4A7E-AEA4-65FA876BC3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1D6A-75ED-4F12-AC82-4BD17CCFC3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7D28-C4E0-4BD2-9AB9-C1582C3550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5BB5-0DBD-4CA3-AFF2-B334FC0DCE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2A54-BB39-4C6B-8D88-3DB3126B22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6DF74-812F-4129-9E84-3B6D3F481B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48AB4-D871-47C9-99E4-12DAE92F7C6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5F028-F43B-449D-BFAC-E32B9B8E9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71FED-D822-43D9-BF00-0E17B99464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5601C7-D9B4-43DB-BBE3-AB9511D09C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A1EDA-F6F8-41E0-8267-4ED815F3AE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17D4B-253E-474A-901E-7911388E4E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D2EFE-E935-42B8-B1A9-7B9E147F690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84551-9F85-4C55-83D4-3C6F59CD68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76B83-96F3-4156-B083-EEA9D914D7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BA914-D64B-49CE-A158-675733C751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0A595-6368-4F7F-9C8C-6B281F4248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AF50B-32D2-4902-B438-FECB14773D2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CE4BCF-AC34-493E-BA80-641A6B2E1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FABAF-285B-4B2C-98D3-3F851A79477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59052C-B767-435C-8FDA-2D7798C5E5C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A1CF7C-F60B-4433-A778-28C597940BE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0907E3-41E0-462B-9D3D-9804AD356F1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DFD28A-DDA5-419A-AADF-49D21EC57D5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8D8BC-20B4-40C5-951F-72FA8422B04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0DBDF5-F912-4C89-AE51-5F0C1A4AB4A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A3179E-2551-4731-A413-EA359641D86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6A7AE0-D998-47A7-9EBA-676731A6F47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ED7D81-2DDE-4B08-AD81-6FCD9C94081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56ADD5-1E13-4178-9C52-ED0F7B409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487A-4015-4D36-AF19-49288B96E1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2F4C22-19A7-41C8-B030-D23F7F424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62FAC-8C8A-46DB-A9D4-6403339D4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920B-1BFB-4461-96AA-BD7069E0A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DC569-DA17-4D36-A175-BAC2BF51E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A27A-BB2A-4759-9EC3-93C9CF4E13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293760" y="1989000"/>
            <a:ext cx="8567640" cy="4394160"/>
          </a:xfrm>
          <a:prstGeom prst="rect">
            <a:avLst/>
          </a:prstGeom>
          <a:solidFill>
            <a:srgbClr val="002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Line 13"/>
          <p:cNvSpPr/>
          <p:nvPr/>
        </p:nvSpPr>
        <p:spPr>
          <a:xfrm>
            <a:off x="0" y="6489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2"/>
          <p:cNvSpPr/>
          <p:nvPr/>
        </p:nvSpPr>
        <p:spPr>
          <a:xfrm>
            <a:off x="306000" y="1224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Alan Bryman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41200" y="6534000"/>
            <a:ext cx="3195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© Alan Bryman, 2016. All rights reserved.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ftr" idx="3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90BB-8873-4068-9068-A6AB945E2C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ftr" idx="5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6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6E68-0A63-492D-9134-226FEF0DB6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ftr" idx="7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8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028B-A9E6-40F2-80AE-24743A7B06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ftr" idx="9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Num" idx="10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71B1-8325-4B6D-946C-79BFC4DD3241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573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Arial"/>
              </a:rPr>
              <a:t>Μέθοδοι κοινωνικής έρευν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41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Κεφάλαιο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6: 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Ζητήματα δεοντολογίας και πολιτικής στην κοινωνική έρευ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306000" y="1224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Alan Bryman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77756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πορείτε να προσπαθήσετε για το καλύτερο δυνατό, εξοικειωνόμενοι με ορισμένες κατευθυντήριες γραμμές που τέθηκαν από θεσμούς με κύρο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4775ff"/>
                </a:solidFill>
                <a:latin typeface="Arial"/>
              </a:rPr>
              <a:t>Η Βρετανική Ένωση Κοινωνιολογία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“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α μέλη έχουν ευθύνη τόσο για την προστασία των συμφερόντων των ίδιων των εμπλεκομένων στην ή όσων επηρεάζονται από την εργασία τους, όσο και για την αναφορά των ευρημάτων τους με έγκυρο και αληθή τρόπο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2699"/>
                </a:solidFill>
                <a:latin typeface="Arial"/>
              </a:rPr>
              <a:t>Η Ένωση Κοινωνικής Έρευνα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εριλαμβάνει ορισμένες κατευθυντήριες γραμμές στις οποίες αναφέρεται: «Οι κοινωνικοί ερευνητές πρέπει να επιδιώκουν την προστασία των υποκειμένων από την πρόκληση βλάβης, ως συνέπεια της συμμετοχής τους στην έρευνα. Αυτό απαιτεί η συμμετοχή των υποκειμένων να είναι εκούσια και αυτά να είναι όσο το δυνατόν πιο ενημερωμένα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70164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Κάνοντας το καλύτερο δυνατό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971640" y="37476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Τι απαιτεί το εκπαιδευτικό σας ίδρυμα;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684360" y="1403280"/>
            <a:ext cx="777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περισσότερες σχολές και τα περισσότερα πανεπιστήμια έχουν αναπτύξει το δικό τους κώδικα για τη δεοντολογική έρευνα. Μερικά από τα ερωτήματα που μπορεί να θέσουν είναι τα εξής: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971640" y="2440080"/>
            <a:ext cx="7740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Είναι η μελέτη χρηματοδοτούμενη;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Δεσμεύεται η έρευνα από την πηγή χρηματοδότησής της;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Υπάρχει ενδεχόμενη σύγκρουση συμφερόντων στις οικονομικές ή οργανωτικές συνεννοήσεις;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Θα διατηρηθεί κατάλληλα η εμπιστευτικότητα σε όλα τα στάδια της έρευνας;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Τα ανθρώπινα δικαιώματα και η ανθρώπινη αξιοπρέπεια θα τύχουν σεβασμού;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Θα γίνουν γνωστές αυστηρά προσωπικές ή άλλες εμπιστευτικές ή ιδιωτικές πληροφορίες;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Θα προκληθεί ζημιά, δυσφορία, σωματικός ή ψυχολογικός κίνδυνος;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Θα εμπλακούν συμμετέχοντες των οποίων η ικανότητα να δίνουν την εν επιγνώσει συγκατάθεσή τους μπορεί να είναι περιορισμένη;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Εμπεριέχεται η μελέτη ή επεξεργασία προσωπικών δεδομένων ατόμων εν ζωή;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Νομικοί προβληματισμο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3828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Σύμφωνα με την Πράξη περί Προστασίας Δεδομένων του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98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α προσωπικά δεδομένα πρέπε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Να αποκτώνται μόνο για έναν ή περισσότερους προσδιορισμένους και νόμιμους σκοπούς και να μην τυγχάνουν περαιτέρω επεξεργασίας με κανένα τρόπο ο οποίος δεν είναι συμβατός με αυτόν/αυτούς το σκοπό/τους σκοπού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Να είναι κατάλληλα, σχετικά και όχι υπερβολικά σε με το σκοπό ή τους σκοπούς για τους οποίους τυγχάνουν επεξεργασία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Να μη διατηρούνται για περισσότερο χρόνο από τον αναγκαί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755640" y="42386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33cc"/>
                </a:solidFill>
                <a:uFillTx/>
                <a:latin typeface="Arial"/>
              </a:rPr>
              <a:t>Το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Copyright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είναι ένα δικαίωμα πνευματικής ιδιοκτησίας, το οποίο επεκτείνεται και στις συνεντεύξεις, στις οποίες ο συνεντευξιάζων κρατά τα πνευματικά δικαιώματα των λεχθέντων. Χρειάζεται η συγκατάθεση του συνεντευξιαζομένου, προκειμένου αυτά τα δεδομένα να κοινοποιηθούν σε άλλους.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Δυσκολίες κατά τη λήψη δεοντολογικών αποφάσεων: σύνοψ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6640" y="1628280"/>
            <a:ext cx="77724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όρια μεταξύ δεοντολογικών και αντιδεοντολογικών πρακτικών είναι θολ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πιθανότητα παραπλάνησης/ έλλειψης εν επιγνώσει συγκατάθεσης υφίσταται στις περισσότερες έρευνες των κοινωνικών επιστημώ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ν υπάρχει επαρκής καθοδήγηση όσον αφορά σε περιθωριακά πεδία έρευνας (αλλά να είστε εξοικειωμένοι με τους υπάρχοντες κανονισμού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έρευνα που βασίζεται στο διαδίκτυο φέρνει στην επιφάνεια νέα ηθικά διλλήματα, για τα οποία ακόμα αναζητούνται λύσει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Νέα μέσα επικοινωνίας και δεοντολογικά ζητήμα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01640" y="1628280"/>
            <a:ext cx="77724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πορούμε να βρούμε πληροφορίες σε πολλά σημεία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ogs, listsevrs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, ομάδες συζήτηση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λεκτρονικό ταχυδρομεί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chatrooms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έσα κοινωνικής δικτύωση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newsgroups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Όσο πιο αναγνωρισμένο είναι το σάιτ ως δημόσιο, τόσο μικρότερη υποχρέωση υπάρχει για την προστασία της ανωνυμίας και την αναζήτηση εν επιγνώσει συγκατάθεση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διάκριση μεταξύ δημοσίου και ιδιωτικού είναι θολ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εικόνες αναδεικνύουν επίσης δεοντολογικά διλλήματα γύρω από τη συναίνεσ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αξίες επηρεάζουν όλα τα στάδια της ερευνητικής διαδικασί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κοινωνική έρευνα δεν διεξάγεται σε ένα «δεοντολογικό κενό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αδύνατο να γίνει αντικειμενική, αξιολογικά ουδέτερη έρευν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πορεί να είναι επιθυμητό να φανεί η δέσμευση προς τους συμμετέχοντε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νειδητή μεροληψία στην έρευνα των φεμινιστριών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ies,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κοινωνικοί ερευνητές συχνά καλούνται να «διαλέξουν πλευρά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70164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ολιτική στην κοινωνική έρευν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0164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ολιτική και χρηματοδότησ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7360" y="1627200"/>
            <a:ext cx="77724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κυβέρνηση, οι οργανισμοί και άλλοι φορείς χρηματοδότησης έχουν ίδια συμφέροντ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ια ερευνητικά προγράμματα θα χρηματοδοτηθού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ρόσκληση εκδήλωσης ενδιαφέροντος για χρηματοδότηση ενθαρρύνει προτάσεις έρευνας σε συγκεκριμένα πεδί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gan (2000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τείνει την προτίμηση στην ποσοτική έρευνα που είναι προσανατολισμένη στις πολιτικέ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χρηματοδότες συχνά  επιβλέπουν τις γραπτές εκθέσεις και τη διάδοσή τ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0164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εξασφάλιση πρόσβασης αποτελεί μια πολιτική διαδικασ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7360" y="1673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κείνοι που ελέγχουν την πρόσβαση, μεσολαβούν για την πρόσβαση σε ερευνητικά πλαίσι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πορούν να επηρεάσουν τον τρόπο διεξαγωγής της έρευνας:  τι θα ρωτηθεί και από ποιον, ακόμα και να ερμηνεύσουν τα ευρήματ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νδιαφέρονται για το πώς θα παρουσιαστούν οι οργανισμοί του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736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Άλλα πολιτικά ζητήματ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έρευνα που διεξάγεται από ομάδα ερευνητών μπορεί να δημιουργήσει αντικρουόμενες αξίε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πορεί να υπάρξουν προσπάθειες αποτροπής της δημοσίευσης και της διάδοσης αντιφατικών ευρημάτων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α ερευνητικά ευρήματα μπορεί να χρησιμοποιηθούν για να πυροδοτήσουν πολιτικές συζητήσει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επιλογή πλευράς στην κοινωνική έρευ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5960" y="1449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ecker (1967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αξίες διαμορφώνουν την κοινωνική έρευν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μεροληψία είναι αναπόφευκτ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υθύνη για ευνοϊκή στάση προς τους αδικημένους στις ιεραρχικές σχέ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Οι κατηγορίες για μεροληψία είναι πιο συχνές όταν υιοθετείται η προοπτική μιας παρεκκλίνουσας ή αδύναμης ομάδας, παρά μιας κυρίαρχης.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ouldner (1968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πορούμε να λάβουμε υπόψη μας διαφορετικές οπτικές χωρίς να  «επιλέγουμε πλευρά» ή να δεσμευόμαστε με μια  έρευνα με υπερβολικό αξιολογικό φορτί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160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Ζητήματα δεοντολογί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1365120" y="1628640"/>
            <a:ext cx="6266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ώς θα πρέπει να χειριστούμε τους ανθρώπους τους οποίους ερευνούμε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Υπάρχουν καταστάσεις στις οποίες πρέπει ή δεν πρέπει να εμπλακούμε στις σχέσεις με αυτούς τους ανθρώπους;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2"/>
          <p:cNvSpPr/>
          <p:nvPr/>
        </p:nvSpPr>
        <p:spPr>
          <a:xfrm>
            <a:off x="927000" y="1459080"/>
            <a:ext cx="734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βάση του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ne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dall (1978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α μπορούσαμε να πούμε ότι δεοντολογική συμπεριφορά σημαίνει;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η πρόκληση βλάβης στους συμμετέχοντε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γκατάθεση για τη συμμετοχή και γνώση του περιεχομένου της έρευνα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η παραβίαση της ιδιωτικότητάς του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η παραπλάνηση και εξαπάτηση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1467000" y="3682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Τι είναι η «δεοντολογική» έρευνα;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5960" y="97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ώς μπορείτε να προκαλέσετε βλάβη στους συμμετέχοντε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5920" y="1942920"/>
            <a:ext cx="7065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ροκαλώντας φυσική βλάβ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ροκαλώντας ζημιά στην εξέλιξη ή την αυτοπεποίθησή του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ροκαλώντας άγχ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ροκαλώντας βλάβη στις προοπτικές καριέρας τους και στις επαγγελματικές τους ευκαιρίε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ιαρρηγνύοντας την εμπιστευτικότη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ποκαλύπτοντας την ταυτότητά τ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97920"/>
            <a:ext cx="87138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Οι συμμετέχοντες στην έρευνα πρέπει να έχουν επίγνωση της  συμμετοχής τους και της διαδικασίας της έρευνα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36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Αλλά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η αρχή αυτή «εφαρμόζεται πιο εύκολα στα λόγια, παρά στην πράξη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(Homan, 1991:7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Είναι εξαιρετικά δύσκολο να δοθούν στους υποψηφίους συμμετέχοντες όλες απολύτως οι απαιτούμενες πληροφορίες   που θα τους επέτρεπαν να λάβουν μια τεκμηριωμένη απόφαση σχετικά με την ενδεχόμενη ανάμειξή του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Στην εθνογραφική έρευνα, ο ερευνητής έρχεται  σε επαφή με διάφορους ανθρώπους, και δεν είναι πρακτικό να διασφαλιστεί για όλους ανεξαιρέτως η δυνατότητα εν επιγνώσει συγκατάθεση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διότι προκαλεί μεγάλες δυσχέρειες στις εκάστοτε συνθήκες καθημερινής συναναστροφή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Η ιδιωτικότητα συνδέεται στενά με την έννοια της εν επιγνώσει συγκατάθε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Ο συμμετέχων στην έρευνα δεν απεμπολεί το δικαίωμα στην ιδιωτική ζωή παρέχοντας την εν επιγνώσει συγκατάθεσή του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Οι συγκαλυμμένες μέθοδοι θεωρείται ότι παραβιάζουν την αρχή της ιδιωτικότητα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Το θέμα της ιδιωτικότητας συνδέεται στενά με ζητήματα ανωνυμίας και εμπιστευτικότητας στην ερευνητική διαδικασί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αραβίαση της ιδιωτικότη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0164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Ψέματα, καταραμένα ψέματα και έρευ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31640" y="144936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αραπλάνηση συνήθως σημαίνει να παρουσιάζουμε την έρευνά μας ως κάτι διαφορετικό απ’ ό,τι είναι στην πραγματικότητα, ώστε οι συμμετέχοντες να ανταποκριθούν πιο φυσ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υτό σημαίνει πως είναι μια ιδιαίτερα διαδεδομένη πρακτικ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πομένως, παραπλάνηση σημαίνει μισή αλήθεια, αν όχι ψέμ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ρέπει να φροντίζουμε να κρατάμε την παραπλάνηση σε χαμηλά επίπεδ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και, όταν είναι αναγκαία για την έρευνα, να μειώνουμε το βαθμό και τον αντίκτυπό της όσο είναι δυνατό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έρα από ηθικές ενστάσεις σχετικά με την παραπλάνηση, οι συμμετέχοντες στην έρευνα και οι χρηματοδότες μπορεί να γίνουν επιφυλακτικοί στο να παράσχουν δεδομένα πιστεύοντας ότι θα παραπλανηθούν ή θα εξαπατηθού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1239840" y="368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Λοιπόν, πού βρίσκεται το πρόβλημα;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755640" y="1484280"/>
            <a:ext cx="7632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υστυχώς, πολλοί συγγραφείς για την επιχειρηματική δεοντολογία διαφωνούν για το τι είναι και τι δεν είναι δεοντολογικά αποδεκτό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ίδια ζητήματα φαίνεται να επανέρχονται συνέχεια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ν φαίνεται να επιλύονται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γκεκριμένες ερευνητικές μέθοδοι έχουν κακή φήμη γιατί ταυτίζονται με ορισμένες ακραίες περιπτώσεις.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Όμως, το πραγματικό πρόβλημα είναι ότι η πιθανότητα αντιδεοντολογικής συμπεριφοράς στην έρευνα είναι συνεχής και δεν εξαρτάται μόνο από συγκεκριμένες περιπτώσεις ή μεθόδους.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9228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Μπορούν να κρατηθούν διάφορες δεοντολογικές στάσει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υνιβερσαλισμό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πόλυτοι κανόνες που αφορούν στις αποδεκτές/μη αποδεκτές συμπεριφορέ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οντολογία κατά περίστασ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ιαφορετική αξιολόγηση κατά περίπτωσ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 σκοπός αγιάζει τα μέσα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 καταστρατήγηση της δεοντολογίας αποτελεί καθολικό φαινόμεν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εωρητικά, όλες οι έρευνες περιλαμβάνουν δεοντολογικά αμφίβολες πρακτικέ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3:26:03Z</dcterms:created>
  <dc:creator>Kate Hilton</dc:creator>
  <dc:description/>
  <dc:language>en-US</dc:language>
  <cp:lastModifiedBy>Χρήστης των Windows</cp:lastModifiedBy>
  <cp:lastPrinted>2001-09-10T07:46:38Z</cp:lastPrinted>
  <dcterms:modified xsi:type="dcterms:W3CDTF">2018-10-27T11:39:25Z</dcterms:modified>
  <cp:revision>213</cp:revision>
  <dc:subject/>
  <dc:title>No Slide Title</dc:title>
</cp:coreProperties>
</file>