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3BB5-2005-481C-AD57-41341F94E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38AE-C9AF-430D-8FAB-E6A056F8128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63D2-CC9D-430A-B58B-62C7B4E84B47}" type="slidenum">
              <a:rPr b="0" lang="en-GB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4522-5B8F-474F-88F3-25A2F58F4C7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F306-80A3-492B-98A5-94495138D547}" type="slidenum">
              <a:rPr b="0" lang="en-GB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39E3-9CB2-4D73-809D-C607C96C881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904B-E0DF-4166-A8E5-6AFA9AEE36E2}" type="slidenum">
              <a:rPr b="0" lang="en-GB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ABB8-3903-46AA-8E55-D38A3687431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5F95-D16C-49D3-A90D-97FA7252D225}" type="slidenum">
              <a:rPr b="0" lang="en-GB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6809-186E-4C46-9A54-2A7DD505B22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2AD5-0DBC-4EFA-BE7C-DCC3FC3169E4}" type="slidenum">
              <a:rPr b="0" lang="en-GB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51ED-EBC4-4A8F-965F-F9AD6AF38AA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6386-02BB-4AB8-A9F0-C3E6DE83C83C}" type="slidenum">
              <a:rPr b="0" lang="en-GB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BECD-44C7-4F0A-9978-40D204CCE97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3E53-7210-4879-A5A1-759A4210C9DA}" type="slidenum">
              <a:rPr b="0" lang="en-GB" sz="13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0904-B1D8-4A32-BA95-4206C6C98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A4A5-C50A-455E-9DAD-B9E0DC5E1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7FFF-4980-4A93-BA3A-51EBA8A07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D8DB-9A3E-4A1C-B9D9-80A790835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C0DAE-0CF6-4D3D-9262-2D6DC9CED7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5F357-2273-4386-ADA3-3293B6EC66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0FDDF-0EB8-47A2-B91E-2EDA62B908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57474-A10D-4BDA-A3FF-6A3A3AAA54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D8283-86C2-4207-847F-21EC84C5D6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C6779-9FD9-439C-BA93-B15BFAC86A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5941E-C63C-4581-9F02-3FE08E754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AE07-1650-4295-BA6C-75A17F95F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BC74C-77EF-4F9F-B46C-B49E21DA5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22B8F-7E64-4BF9-8544-DADCCD7445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81C6B-3727-4C42-A07A-DC2C3D17B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8F1A0-789D-46A1-9FDB-8EDB533D4D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F0886-9518-4155-A9C1-96C0B318AD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71FC-F72F-42D6-A383-314DADBAD1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7D0A-5B27-4774-B3DC-83BF5EB5C0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EFF9-BC04-492E-A2AC-6137405153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177A-2E87-45EF-A733-258F309C9E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307D-1633-437F-9FAC-8F5B6B25A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FC67-9309-4044-A8E2-5B63E711E1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CD39-E02C-470B-B035-E65C4207B4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6FA7-50D9-4FC6-8DFC-6341F2D6E4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E554-3853-43B8-978B-622B419477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D459-6562-4301-BA62-D6C17A41A5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8AD4-FDE6-4513-AB79-3C0BAA7684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8621-FBE4-43D0-A60A-1A80DC5A1F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D0D1-3BD6-46F7-9063-B2F4A3C159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5697D-085C-452B-97D6-86BC20AC3B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0E020-E6A7-4B90-8E21-4714D5313E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AFB3D-0FB8-47B9-8C30-EF47A94E9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3B81-AB1B-416E-B7AD-95D6220408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479F6-A8B3-48C2-8BB0-6BE2CE9370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34DA3-1B78-4D31-AB00-A4A6141AE1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CE761-2FC1-4248-B013-86E860926D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3B535-0EE8-4474-8C44-0ABFABB55D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1BE53-8D70-45D0-8089-8A52AA62F6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D3F2C-84DD-4232-BC69-2C57C17E77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33F9D-CE21-49CB-9B9C-9378CDA418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F74EA-4913-4ABD-984F-DD2333E318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8DF5F-588A-466D-B5E7-838402D41B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B8FE5-1D81-43A2-988F-C614744DF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B041-EB8A-4E9D-B719-333746C380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D03B8-8402-49AF-BD8E-BAFB37ADC43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509AD-7660-4057-8308-23BDDCFA74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FA00A-B17B-4BEB-998D-7820F093E1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71DAB-D150-495C-B1AB-0F9AA3BFED1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1AE85-AE52-4B90-B7EC-633D7D1B7B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29533-6705-407B-B1C6-F9144FDD9C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5A6FC-FD59-471F-B53E-D605699A7B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23857-D405-4D90-968C-B4690700CB5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1FECB-0628-4A4F-A14A-F1B7877DB0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5D5EB-E934-4DDE-821B-7F3501676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A7AE-E79C-4292-A6E9-05AA30315F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C043A-C974-477E-8A47-86D06C3A2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5EC4-4AC3-4A39-BB7D-5C249DCCC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EC26-46B0-4B3B-917A-E807E6286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2E08-B56C-4CB9-9ABC-540587F40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5C90-D46C-47EA-93CB-965005271E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200" y="653400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FC50-7849-4DBE-91E7-739D72F3B2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146E-5CB3-4E52-9AD1-978EF7FF90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4848-A96E-4AA0-9C7E-248B915AC5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272D-55D6-4AD3-B3CE-D5BF5FFF37B3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7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Η φύση της ποσ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πανάληψ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7360" y="153828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λαχιστοποίηση της επιζήμιας επίδρασης των προκαταλήψεων και αξιών του ερευνητ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αφής περιγραφή των διαδικασ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λεγχος των συνθηκών της μελέτ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υνατότητα επανάληψης σε διαφορετικά πλαίσ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ounded Rectangle 5"/>
          <p:cNvSpPr/>
          <p:nvPr/>
        </p:nvSpPr>
        <p:spPr>
          <a:xfrm>
            <a:off x="7182000" y="5653080"/>
            <a:ext cx="1633320" cy="3081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7182000" y="5648400"/>
            <a:ext cx="16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42960"/>
                </a:solidFill>
                <a:latin typeface="Arial"/>
              </a:rPr>
              <a:t>Σελ.</a:t>
            </a:r>
            <a:r>
              <a:rPr b="0" lang="hu-HU" sz="1400" spc="-1" strike="noStrike">
                <a:solidFill>
                  <a:srgbClr val="04296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42960"/>
                </a:solidFill>
                <a:latin typeface="Arial"/>
              </a:rPr>
              <a:t>164 </a:t>
            </a:r>
            <a:r>
              <a:rPr b="0" lang="el-GR" sz="1400" spc="-1" strike="noStrike">
                <a:solidFill>
                  <a:srgbClr val="04296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42960"/>
                </a:solidFill>
                <a:latin typeface="Arial"/>
              </a:rPr>
              <a:t>166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επανάληψη μιας μελέτης για τα φιλοδωρήμα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7360" y="153828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ws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ynn (2014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εύνησαν τη φυλετική διάκριση των καταναλωτών στα φιλοδωρή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ανέλαβαν προηγούμενη μελέτη του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yn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υ έδειχνε ότι οι μαύροι σερβιτόροι  εστιατορίων έπαιρναν μικρότερο φιλοδώρ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ιορισμοί της προγενέστερης μελέτη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τρηση της ποιότητας της εξυπηρέτ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νέα μελέτ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οιότητα της εξυπηρέτησης δε χρησιμοποιείται ως ενδιάμεση μεταβλητ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φυλετική καταγωγή του σερβιτόρου δεν ήταν σημαντική για τα φιλοδωρή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ευρήματα ήταν παρόμο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164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διαδικασία της ποσ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Elbow Connector 14"/>
          <p:cNvCxnSpPr/>
          <p:nvPr/>
        </p:nvCxnSpPr>
        <p:spPr>
          <a:xfrm flipH="1" flipV="1" rot="5400000">
            <a:off x="-828720" y="3860640"/>
            <a:ext cx="388836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round/>
            <a:tailEnd len="med" type="arrow" w="med"/>
          </a:ln>
        </p:spPr>
      </p:cxnSp>
      <p:cxnSp>
        <p:nvCxnSpPr>
          <p:cNvPr id="245" name="Straight Arrow Connector 16"/>
          <p:cNvCxnSpPr/>
          <p:nvPr/>
        </p:nvCxnSpPr>
        <p:spPr>
          <a:xfrm>
            <a:off x="1116000" y="1916280"/>
            <a:ext cx="1008720" cy="2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46" name="Straight Arrow Connector 17"/>
          <p:cNvCxnSpPr/>
          <p:nvPr/>
        </p:nvCxnSpPr>
        <p:spPr>
          <a:xfrm>
            <a:off x="6730560" y="5497200"/>
            <a:ext cx="2520" cy="3085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47" name="Straight Arrow Connector 19"/>
          <p:cNvCxnSpPr/>
          <p:nvPr/>
        </p:nvCxnSpPr>
        <p:spPr>
          <a:xfrm flipH="1">
            <a:off x="1115640" y="5805000"/>
            <a:ext cx="561744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pic>
        <p:nvPicPr>
          <p:cNvPr id="248" name="Εικόνα 1" descr=""/>
          <p:cNvPicPr/>
          <p:nvPr/>
        </p:nvPicPr>
        <p:blipFill>
          <a:blip r:embed="rId1"/>
          <a:stretch/>
        </p:blipFill>
        <p:spPr>
          <a:xfrm>
            <a:off x="2141640" y="1781280"/>
            <a:ext cx="1574640" cy="387360"/>
          </a:xfrm>
          <a:prstGeom prst="rect">
            <a:avLst/>
          </a:prstGeom>
          <a:ln w="0">
            <a:noFill/>
          </a:ln>
        </p:spPr>
      </p:pic>
      <p:pic>
        <p:nvPicPr>
          <p:cNvPr id="249" name="Εικόνα 2" descr=""/>
          <p:cNvPicPr/>
          <p:nvPr/>
        </p:nvPicPr>
        <p:blipFill>
          <a:blip r:embed="rId2"/>
          <a:stretch/>
        </p:blipFill>
        <p:spPr>
          <a:xfrm>
            <a:off x="1601640" y="2158920"/>
            <a:ext cx="2721240" cy="3338640"/>
          </a:xfrm>
          <a:prstGeom prst="rect">
            <a:avLst/>
          </a:prstGeom>
          <a:ln w="0">
            <a:noFill/>
          </a:ln>
        </p:spPr>
      </p:pic>
      <p:pic>
        <p:nvPicPr>
          <p:cNvPr id="250" name="Εικόνα 3" descr=""/>
          <p:cNvPicPr/>
          <p:nvPr/>
        </p:nvPicPr>
        <p:blipFill>
          <a:blip r:embed="rId3"/>
          <a:stretch/>
        </p:blipFill>
        <p:spPr>
          <a:xfrm>
            <a:off x="4935600" y="2562120"/>
            <a:ext cx="359100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ριτική της ποσοτ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Αδυναμία διάκρισης μεταξύ των αντικειμένων στο φυσικό κόσμο και των κοινωνικών φαινομένω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Ψευδής και απατηλή αντίληψη περί ακρίβειας και ορθότητ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Έλλειψη οικολογικής εγκυρότητ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ξάρτηση από εργαλεία και μετρήσει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ατική εικόνα της κοινωνικής ζωή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73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Έτσι είναι πάντα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39800" y="151236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σχεδιασμός της ποσοτικής έρευνας συνοψίζει μια ιδεοτυπική προσέγγι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ιμος ως οδηγός ορθής πρακτικ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Ωστόσο υπάρχει χάσμα μεταξύ ιδεότυπου και πράξης της κοινωνικής έρευνα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ύπαρξη πρακτικών ζητημάτων σημαίνει ότι οι ερευνητές μπορεί να μην προσκολληθούν αυστηρά σε αυτές τις αρχ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648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Ένας λόγος για την ύπαρξη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χάσματος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μεταξύ ιδεωδών και τυπικών προσεγγίσεω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01640" y="158400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ποσοτική έρευνα είναι συνήθως παραγωγική (λειτουργικός ορισμός των εννοιώ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Ωστόσο, οι μετρήσεις μπορούν ορισμένες φορές να οδηγήσουν σε 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</a:rPr>
              <a:t>επαγωγική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θεώρησ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υτό σημαίνει ότι οι παράγοντες διαμορφώνουν έννοιες, αντί να τις καθιστούν λειτουργικέ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ryman (1988:28)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ονομάζει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i="1" lang="el-GR" sz="2600" spc="-1" strike="noStrike">
                <a:solidFill>
                  <a:srgbClr val="000000"/>
                </a:solidFill>
                <a:latin typeface="Arial"/>
              </a:rPr>
              <a:t>αντίστροφο οπερασιοναλισμό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και ένας άλλος λόγ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1280" y="15379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δημοσιευμένες αναφορές ποσοτικής έρευνας σπανίως αναφέρουν τεκμήρια εγκυρότητας και αξιοπιστίας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Podsakoff &amp; Dalton, 1987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ερευνητές ενδιαφέρονται κυρίως για το ουσιαστικό περιεχόμενο και τα ευρήματα της έρευνάς του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διενέργεια ελέγχων εγκυρότητας και αξιοπιστίας μπορεί να μοιάζει μια όχι και πολύ ελκυστική εναλλακτική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λλά οι ερευνητές παραμένουν αφιερωμένοι στις αρχές της ορθής πρακτική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Τι είναι οι έννοιε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7240" y="1425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Οι έννοιες είν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α δομικά στοιχεία των θεω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Ετικέτες που αποδίδουμε σε στοιχεία του κοινωνικού κόσμ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Κατηγορίες για την οργάνωση των ιδεών και των παρατηρήσε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ulm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198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Οι έννοιες είναι χρήσιμες γι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ην παροχή εξηγήσεων για μια συγκεκριμένη πτυχή του κοινωνικού κόσμ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ην αποτύπωση στοιχείων που θέλουμε να εξηγήσουμ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ην  απόδοση μιας βάσης για τη διακύμανση των μετρήσ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Γιατί μετράμ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εντοπίσουμε λεπτομερέστερες διαφορές μεταξύ των ανθρώπων, των οργανώσεων ή οποιασδήποτε άλλης μονάδας ανάλυση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τί μας παρέχει έναν σταθερό μηχανισμό για να κάνουμε τέτοιες διακρίσε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γίνονται ακριβέστεροι υπολογισμοί του βαθμού σύνδεσης μεταξύ εννοι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νδείκτ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οέρχονται από το λειτουργικό προσδιορισμό μιας έννοι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ποσοτικοποιούνται τόσο άμεσα όπως οι μετρ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ρούν στην κατανόηση (σε επίπεδο κοινής λογικής) των μορφών που μπορεί να λάβει μια έννοι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τρηση πολλαπλών ενδεικ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έννοια μπορεί να έχει διαφορετικές διαστά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Γιατί να χρησιμοποιήσουμε πολλαπλούς ενδείκτε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εφαρμογή ενός μόνο ενδείκτη μπορεί να οδηγήσει σε εσφαλμένη ταξινόμηση των ατόμ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εφαρμογή ενός μόνο ενδείκτη μπορεί να αποτυπώνει μόνο ένα μέρος της έννοιας προς εξέταση ή να είναι υπερβολικά γενικ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πολλαπλοί ενδείκτες μπορούν να οδηγήσουν  σε ακριβέστερες διακρίσεις μεταξύ ατόμ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πολλαπλοί ενδείκτες μπορούν να αποτυπώσουν διαφορετικές διαστάσεις μιας έννο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σημαίνει </a:t>
            </a:r>
            <a:r>
              <a:rPr b="1" i="1" lang="el-GR" sz="3600" spc="-1" strike="noStrike" u="sng">
                <a:solidFill>
                  <a:srgbClr val="ffffff"/>
                </a:solidFill>
                <a:uFillTx/>
                <a:latin typeface="Arial"/>
              </a:rPr>
              <a:t>αξιοπιστία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640" y="1449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Σταθερ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Παραμένει η μέτρηση σταθερή στο χρόν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μέθοδος επαναληπτικής δοκιμασ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Εσωτερική αξιοπιστ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Υπάρχει συμφωνία μεταξύ των ενδεικτώ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Μέθοδος των ημιμορί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Εναρμονισμός μεταξύ διαφόρων βαθμολογη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Συμφωνούν οι μετρήσεις διαφορετικών βαθμολογητώ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Τι σημαίνει </a:t>
            </a:r>
            <a:r>
              <a:rPr b="1" i="1" lang="el-GR" sz="3600" spc="-1" strike="noStrike" u="sng">
                <a:solidFill>
                  <a:srgbClr val="ffffff"/>
                </a:solidFill>
                <a:uFillTx/>
                <a:latin typeface="Arial"/>
              </a:rPr>
              <a:t>εγκυρότητα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01640" y="1538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ενδείκτης μετρά την έννοι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τό γίνεται αν υπάρχε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νομαστική εγκυρότητα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κατάλληλος για την έννοια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υτόχρονη εγκυρότητα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υποστηριχθεί από ένα σχετικό κριτήριο στο παρόν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γνωστική εγκυρότητα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υποστηριχθεί από ένα σχετικό κριτήριο στο μέλλον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γκυρότητα εννοιολογικής κατασκευής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άγονται χρήσιμες υποθέσεις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γκλίνουσα εγκυρότητα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οστηρίζεται από τα αποτελέσματα άλλων μεθόδων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ιτιότη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1600" y="1449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ξήγηση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Γιατί τα πράγματα είναι έτσι όπως είν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Κατεύθυνση της αιτιακής επίδρα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Σχέση μεταξύ ανεξάρτητων και εξαρτημένων μεταβλητ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μπιστοσύ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Στα αιτιολογικά συμπεράσματα του ερευν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1640" y="324000"/>
            <a:ext cx="822960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Γενίκευ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7000" y="1538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Μπορούν τα ευρήματα να γενικευτούν πέρα από το συγκεκριμένο πλαίσι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Μπορούν τα ευρήματα να γενικευτούν  από το δείγμα στον πληθυσμ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Πόσο αντιπροσωπευτικά είναι τα δείγματ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1-07T08:48:10Z</dcterms:modified>
  <cp:revision>208</cp:revision>
  <dc:subject/>
  <dc:title>No Slide Title</dc:title>
</cp:coreProperties>
</file>