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983413" cy="10120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984000" cy="101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11"/>
          </p:nvPr>
        </p:nvSpPr>
        <p:spPr>
          <a:xfrm>
            <a:off x="3955680" y="-36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961920" y="758520"/>
            <a:ext cx="5060880" cy="379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2"/>
          </p:nvPr>
        </p:nvSpPr>
        <p:spPr>
          <a:xfrm>
            <a:off x="-360" y="961200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13"/>
          </p:nvPr>
        </p:nvSpPr>
        <p:spPr>
          <a:xfrm>
            <a:off x="3955680" y="961200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175F-C046-4355-A501-C9A42293CF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B11C-9135-4263-9886-1DACE89441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A650-9399-4621-A050-A7D85CB3ED9D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16D7-BD74-4E62-8A46-608F63807C6C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88DC-7C30-48DC-A136-C17BCDE2852C}" type="slidenum">
              <a:rPr b="0" lang="en-GB" sz="1300" spc="-1" strike="noStrike">
                <a:solidFill>
                  <a:srgbClr val="0033cc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3EAE-F7BC-4C84-8DA4-20314A63737F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C765-8A40-4907-9373-22493B8377F9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5A2E-A674-4382-A398-5979B39C4A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F148-44BC-475B-8464-FEE02CC3107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769E-9427-4F73-A0F1-0C68BE0ADD52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8F47-6487-4A20-91DA-DE4629D14CF7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7020-06D0-4B88-9ECF-AC1D472F2204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8A2F-C2FE-4BEB-814F-DB785EE9460D}" type="slidenum">
              <a:rPr b="0" lang="en-GB" sz="1300" spc="-1" strike="noStrike">
                <a:solidFill>
                  <a:srgbClr val="0033cc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2670-0D47-4615-871A-340DE8CA3F1F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F2E4-84E8-418C-A8E3-C0ADF8A61525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A7D6-9C82-48E1-8C36-7B2D3F2BCA95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3357-600B-48FD-94AF-8946E8A2D355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EF88-3B85-40EF-BA24-BFA3DB2E3CA0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EFFC-B627-4137-810B-85F5D2CD167C}" type="slidenum">
              <a:rPr b="0" lang="en-GB" sz="1300" spc="-1" strike="noStrike">
                <a:solidFill>
                  <a:srgbClr val="0033cc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CB4B-209E-49AB-8948-F4B873B13BB2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F834-7EC1-47B8-93C6-C7BFD5277E31}" type="slidenum">
              <a:rPr b="0" lang="en-GB" sz="1300" spc="-1" strike="noStrike">
                <a:solidFill>
                  <a:srgbClr val="0033cc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9A835-C94F-465E-BEF0-9A14A8AD0D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A9110-4038-462D-A3D7-242BE5618E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41223-BAF0-4807-B38D-440265EE6D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E494A-E2F3-4651-9C6A-9DD6B30EDC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27931-5BF0-4212-9623-6699E0BB2D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06A7E-C4A8-448F-9D1E-62B40A968D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77D9F-7BCF-4135-AB12-63E8A60641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113C8-FA61-461F-8C0A-FE7DAB4BA1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CEE08-5E61-433A-A403-F8C1EA7268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3E2ED-5E65-4CCC-A25A-717875C372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84791-B623-4E29-883A-25D1B34D15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C42B8-E36D-421C-86DF-64E637399F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3FE3F-76C6-48BC-B83B-507AA9C7D9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B0974-AB61-4B58-B656-B06308BF26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3FA12-002C-48A3-BB01-D7BDD8C7C3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D9D4F-029E-4555-967A-7156AD3E0E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0726D-574E-4BBE-AAAC-8F49ED18AE5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EB38-9AF9-4164-B6AB-FBAB50EAB2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4686-5104-49AF-9E3A-D8610EF6D33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16D3-E3F5-43D1-8D2C-C5CB34473A9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D48E-6E92-4504-89B5-C15CC2C3106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EE99-B63B-4685-A5E2-0ED30FF9F3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AB86F-D462-4165-9B8D-09EFEDA6CA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33FC-F00D-415D-81CA-12AD5F52D8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32BD-DADF-45E0-B2A7-E107418583B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D3A2-BC9F-40B3-ACB6-573F04E1632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0AAF-6016-4627-BA8E-EFDA8838729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E5C0-1A6C-4E63-94C6-235A24DFEC6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FF52-B1F4-45A3-9F59-0EB7D94EA82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FF67-7C49-43E2-BC49-5E229DDEBC1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31EC3A-E0F7-4EEC-B7EA-4702C366E76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7BD800-9D71-4C6A-A292-D4DA2090035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97C833-3DC3-4BD8-B275-26D5286C09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2630F-41B9-4C32-8CA5-FC6F5877F2C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08591C-C063-4AA1-B52C-79D9EC525B0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B5C5B1-7CAC-45E5-AC2D-CFC80B47DAE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E4ADEB-A4D3-45B3-9ABB-C90546B37E2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DC7642-E31D-4DE6-81D2-50BD9E6D167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99C15B-30D7-43E2-AAEC-0C1D80FA3D3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18485A-D6BC-4E39-881C-582C9F69426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59A144-8294-4925-9006-424EE313B8B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16BBE2-6BD7-43B0-87F2-40DA72A0B86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B62A9B-5929-4276-ACF7-815CDAB7178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876A5F-69F4-40DF-8B64-43E4AE2640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891DF-6F2E-411A-A28D-125865FBC76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793FD7-6EA5-4D73-9CC2-77F32EF7270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E126C4-8F8A-4532-B2B2-665DEFB5F70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3DC70D-B8E6-4AE7-9545-B524F6CC4B2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5B30EB-E143-4789-A508-31E85CDEE52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838CFA-E2F3-4A30-B7EA-0AD2BD8392A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17B2B7-48A7-4A09-9F2E-CEEF68B0C66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57E6A8-F4B1-480D-90B7-A5294373E7D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62370E-5AFA-4DEE-8C28-81A09508BE7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6B8ABE-A227-4FC4-AD54-EB4836EB8F6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C67C2B-8758-407A-8C9E-A9986A3999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A2477-7D5F-4522-B2D2-C40F39967DC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0CD5E0-6481-4C83-9625-BB004D8665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83089-AA66-4A15-A695-F1BAD0E222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4C5F3-4067-4B09-94FA-69DCC4A810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6BFCF-AB33-4658-8645-EF7847FB7D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8421-A844-4FB6-873B-DD4635E0CC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3"/>
          <p:cNvSpPr/>
          <p:nvPr/>
        </p:nvSpPr>
        <p:spPr>
          <a:xfrm>
            <a:off x="293760" y="1989000"/>
            <a:ext cx="8567640" cy="4394160"/>
          </a:xfrm>
          <a:prstGeom prst="rect">
            <a:avLst/>
          </a:prstGeom>
          <a:solidFill>
            <a:srgbClr val="0021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Line 13"/>
          <p:cNvSpPr/>
          <p:nvPr/>
        </p:nvSpPr>
        <p:spPr>
          <a:xfrm>
            <a:off x="0" y="64897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0" name="Picture 1" descr=""/>
          <p:cNvPicPr/>
          <p:nvPr/>
        </p:nvPicPr>
        <p:blipFill>
          <a:blip r:embed="rId2"/>
          <a:stretch/>
        </p:blipFill>
        <p:spPr>
          <a:xfrm>
            <a:off x="12600" y="0"/>
            <a:ext cx="9131400" cy="199080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2"/>
          <p:cNvSpPr/>
          <p:nvPr/>
        </p:nvSpPr>
        <p:spPr>
          <a:xfrm>
            <a:off x="306720" y="122400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42960"/>
                </a:solidFill>
                <a:latin typeface="Arial"/>
              </a:rPr>
              <a:t>Type author names here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06280" y="6534000"/>
            <a:ext cx="3807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© Alan Bryman, 2016. All rights reserved.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ftr" idx="3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4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EA28-2A2F-4DBB-99D2-C9FC251AA8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ftr" idx="5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Num" idx="6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75F2-F181-464B-B0DB-F7D6CADAD0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6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ftr" idx="7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ldNum" idx="8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6BFB-39C2-4CC6-ACEA-966C56825C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ftr" idx="9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ldNum" idx="10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FA48-15E4-45C6-B87C-3A98692D6DAD}" type="slidenum"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19908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25732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ff"/>
                </a:solidFill>
                <a:latin typeface="Arial"/>
              </a:rPr>
              <a:t>Μέθοδοι κοινωνικής έρευν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41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Arial"/>
              </a:rPr>
              <a:t>Κεφάλαιο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18: </a:t>
            </a:r>
            <a:r>
              <a:rPr b="0" i="1" lang="el-GR" sz="3200" spc="-1" strike="noStrike">
                <a:solidFill>
                  <a:srgbClr val="ffffff"/>
                </a:solidFill>
                <a:latin typeface="Arial"/>
              </a:rPr>
              <a:t>Η δειγματοληψία στην ποιοτική έρευν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306000" y="122400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42960"/>
                </a:solidFill>
                <a:latin typeface="Arial"/>
              </a:rPr>
              <a:t>Alan Bryman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1280" y="279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Ζητήματα γενίκευση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42960" y="15714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υνήθως δεν είναι εφικτή η πιθανοτική γενίκευση μόνο με ποιοτικά δεδομένα, ωστόσο μπορούν να υπάρξουν άλλες μορφές γενικότερων συμπερασμάτ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α αποτελέσματα της αναλυτικής γενίκευσης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βλ. κεφάλαια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ι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7)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υμβάλλουν σε μια γενικότερη θεωρία η οποία, ωστόσο, έχει μεγαλύτερη δυνατότητα εφαρμογή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εταφορά από περίπτωση σε περίπτωση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α αποτελέσματα μιας συγκεκριμένης περίπτωσης μεταφέρονται σε μια άλλη, σε γενικές γραμμές παρόμοια, περίπτωσ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Ήπιες γενικεύσεις: η διαδικασία μέσα από την οποία τα αποτελέσματα μπορεί να φανεί ότι προσδιορίζουν παρόμοιες περιπτώσεις, χωρίς αυτό να είναι εξαντλητικό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7360" y="368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Η δειγματοληψία δεν αφορά μόνο σε ανθρώπου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42960" y="15714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 τεκμήρια μπορούν να συλλεγούν ανάλογα με τη συνάφεια με τα ερευνητικά ερωτήμα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πορεί να γίνει δειγματοληψία χρονικών περιόδων αν γίνονται παρατηρήσεις σε διαφορετικές χρονικές στιγμές της ημέρας ή σε διαφορετικές ημέρες της εβδομάδ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δειγματοληψία των πλαισίων πρέπει να γίνεται αν γίνονται παρατηρήσεις σε διαφορετικούς χώρους 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(Hammersley &amp; Atkinson, 1995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Τι είναι η σκόπιμη δειγματοληψία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 συνήθης τρόπος δειγματοληψίας στην ποιοτική έρευν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τρατηγικής φύση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ι συμμετέχοντες/οι περιπτώσεις επιλέγονται στη βάση της σχέσης τους με τα τιθέμενα ερευνητικά ερωτήμα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ε μπορούν να γίνουν γενικεύσεις ως προς τον πληθυσμ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ίναι σημαντικό να υπάρχουν σαφή και συγκεκριμένα κριτήρια συμπερίληψης/αποκλεισμού μονάδων ανάλυ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Επίπεδα δειγματοληψί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Θα πρέπει να εφαρμοστούν τόσο στην περίπτωση, όσο και στις μονάδες της περίπτωση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Δειγματοληψία πλαισίου δράσης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Κατάταξη της κατηγορίας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σε τι βαθμό αυτά τα άτομα/μέρη/αντικείμενα/γεγονότα μπορούν να αποκαλύψουν αυτό που θέλετε να μάθετ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Δειγματοληψία ακραίας/αποκλίνουσας περίπτωσης, δειγματοληψία τυπικής περίπτωσης, δειγματοληψία  καίριας περίπτωση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Δειγματοληψία συμμετεχόντων σε αυτό το πλαίσιο δράσης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Παραδειγματοποίηση του πληθυσμού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σε τι βαθμό αυτά τα άτομα/μέρη/αντικείμενα/γεγονότα τυποποιούν (ή όχι) το πλαίσιο/τα πλαίσια που έχετε επιλέξε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Δειγματοληψία  μέγιστης διακύμανσης, δειγματοληψία  κριτηρίου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θεωρητική δειγματοληψία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δειγματοληψία  χιονοστιβάδας, δειγματοληψία ευκαιρίας, διαστρωματωμένη σκόπιμη δειγματοληψία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1280" y="54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Τύποι σκόπιμης δειγματοληψίας</a:t>
            </a:r>
            <a:br>
              <a:rPr sz="3600"/>
            </a:b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1. Θεωρητική δειγματοληψί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laser &amp; Strauss (196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πιθανοτική δειγματοληψία δεν είναι κατάλληλη για την ποιοτική έρευν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τόχος είναι να ανακαλυφθούν διάφορες κατηγορίες και οι ιδιότητές του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ξελισσόμενη διαδικασί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υλλογή, κωδικοποίηση και ανάλυση δεδομένων, με απόφαση για το τι δεδομένα θα συλλεγούν στη συνέχεια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κόπιμη δειγματοληψί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ι  ανάπτυξη εμπειρικά θεμελιωμένης θεωρί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Το σημείο θεωρητικού κορεσμού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πιτυγχάνεται όταν οι κατηγορίες και οι έννοιες είναι αρκετά πυκνές και δεν χρειάζεται περαιτέρω συλλογή δεδομένω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Η διαδικασία της θεωρητικής δειγματοληψ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Εικόνα 1" descr=""/>
          <p:cNvPicPr/>
          <p:nvPr/>
        </p:nvPicPr>
        <p:blipFill>
          <a:blip r:embed="rId1"/>
          <a:stretch/>
        </p:blipFill>
        <p:spPr>
          <a:xfrm>
            <a:off x="927000" y="1623960"/>
            <a:ext cx="756756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01640" y="97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Τύποι σκόπιμης δειγματοληψίας  </a:t>
            </a:r>
            <a:br>
              <a:rPr sz="3600"/>
            </a:b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2.Γενική σκόπιμη δειγματοληψί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 κριτήρια επιλογής ατόμων/περιπτώσεων προσδιορίζονται από τα ερευνητικά ερωτήμα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 κριτήρια αυτά συνήθως προσδιορίζονται εκ των προτέρων και παραμένουν σταθερά κατά τη διάρκεια της διαδικασί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ντοπίζονται κατάλληλα άτομα/περιπτώσει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τη συνέχεια επιλέγεται ένα δείγμα από αυτ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τις μικτές ερευνητικές μεθόδους, τα ευρήματα των επισκοπήσεων μπορούν να χρησιμοποιηθούν σαν βάση για σκόπιμη δειγματοληψί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7360" y="97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Τύποι σκόπιμης δειγματοληψίας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Δειγματοληψία χιονοστιβάδ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7360" y="15840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ια τεχνική δειγματοληψίας που μπορεί να αποβεί χρήσιμη όταν δεν υπάρχει δειγματοληπτικό πλαίσιο, με αποτέλεσμα η πιθανοτική δειγματοληψία να είναι αδύνατ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ρχικά επιλέγεται μια μικρή ομάδα ατόμων, στη βάση της ερευνητικής συνάφεια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τη συνέχεια, αυτοί οι ερευνώμενοι προτείνουν άλλους, με παρόμοια χαρακτηριστικά ή εμπειρίε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πορεί να αποβεί χρήσιμη όταν στο επίκεντρο της έρευνας βρίσκοντα τα δίκτυα ατόμ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1640" y="324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Η δειγματοληψία στην εθνογραφί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2960" y="15714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οτελεί συχνά συνδυασμό δειγματοληψίας ευκολίας και δειγματοληψίας χιονοστιβάδα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πορεί να περιλαμβάνει σκόπιμη δειγματοληψί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 ερευνητής πρέπει να σταχυολογήσει πληροφορίες από όποιον είναι έτοιμος να τις προσφέρε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πορεί να είναι εφικτή η δειγματοληψία διαστρωμάτω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279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Μέγεθος δείγματο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42960" y="157176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ίναι δύσκολο να καθοριστεί εκ των προτέρων  σε πόσους ανθρώπους πρέπει να γίνουν συνεντεύξει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ίναι δύσκολο να καθοριστεί εκ των προτέρων  πότε θα επέλθει θεωρητικός κορεσμό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Χρειάζονται μεγαλύτερα δείγματα όταν η ποιοτική μελέτη έχει ευρύ πεδίο και απαιτούνται από την έρευνα συγκρίσεις μεταξύ ομάδων εντός του δείγματο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arren (2002)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υνιστά έναν ελάχιστο αριθμό είκοσι με τριάντα συνεντεύξεων, αλλά μεγαλύτερα ή μικρότερα δείγματα μπορεί να δικαιολογούνται αν είναι κατάλληλα για τους στόχους της έρευνα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Χρειάζεται μεγάλη προσοχή όταν συνάγονται συμπεράσματα από ένα δείγμα που προέρχεται από δειγματοληψία σκοπιμότητα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3:26:03Z</dcterms:created>
  <dc:creator>Kate Hilton</dc:creator>
  <dc:description/>
  <dc:language>en-US</dc:language>
  <cp:lastModifiedBy>Χρήστης των Windows</cp:lastModifiedBy>
  <cp:lastPrinted>2001-09-10T07:46:38Z</cp:lastPrinted>
  <dcterms:modified xsi:type="dcterms:W3CDTF">2018-11-26T21:53:28Z</dcterms:modified>
  <cp:revision>232</cp:revision>
  <dc:subject/>
  <dc:title>No Slide Title</dc:title>
</cp:coreProperties>
</file>