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0F6C-EE11-4ABA-93D8-45C27AC786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2676-1F86-4767-82EC-B21F8CDED76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16074BD-EB3D-4CE0-A540-CD8A82DF3EA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26D5-8C85-4D77-A813-4173C93C1B2A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BDF413F-E95D-473E-96A8-318C6EAE5FA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678C-3D92-4214-83FD-D28175C16B5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BD3A943-DBE2-4A53-A69F-4A137E3A77D0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4128-0C33-422A-B439-6B2889867751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A442F9E-D11F-4024-96B4-1449747FAEE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F91D-3F90-40D8-AD8A-8FAC9A48338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F9DA413-F496-4214-B5C6-EEE87535DCDB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C640-3E6C-442C-A490-12FDADF36CF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156FC64-F398-44B6-A432-8A81F265C7F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F02-58BD-4B45-9CC0-8F9B15AF4D1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E4829C5-5E83-49D3-B3E1-3A88B2267B7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E80-41C0-41CF-83BE-3BFAFB0C447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D30B0AC-ADC1-4BEE-98FF-AD74CE776DD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4756-E8BA-4BB5-B02D-42859842F84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682A070-55A9-4E5D-8A12-B96519237E19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C74-BE2A-4D51-B2D3-6D93D7B1833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3816BB9-C91D-474B-88D6-E19881627F3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A1FE-2EEE-4861-B9AD-93965D38660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329E66A-31C2-4200-BBEE-71E7A5219EC0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C89A-F7A5-4654-9559-68E47977758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3E0F233-F565-421C-ABDD-CA20174E471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162A-B615-45C0-9C52-FB1435B8596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2736F63-E4DF-4C1B-AB52-EF7055DBE91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6115-A95F-4B9D-B47F-70E1C5C84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DB06-54B6-40B7-94AA-1816742C7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EC84-7742-4B9C-AF3C-B376B508E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D641-3F4B-42D1-AA91-06899A4EF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CCE0C-9B67-432C-B558-32F98FA229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7D913-7DBB-45F3-B715-7E83EC1687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85F9E-B7DF-4758-A493-1655C5CBFA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BF9E1-3D0C-4EE4-918F-217C0D8DA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DC93F-80E5-4DAC-BD88-C2BFAC6765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70366-24B0-43DF-9B41-409155DA77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3D91A-351B-4D7F-9993-87D0AFECC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14C3-96BA-4D4F-B803-224893401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829DE-454F-4EFA-8C83-3D05746179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62124-23D2-493C-8635-0CF181C785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91426-700A-48BD-9E46-E47E431906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3C22F-05B8-43B3-9941-DF91F7AFB5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40843-7FC7-4620-92A8-DA13E1DAFD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C2A6-32EC-43D1-9778-2E24AFC8D2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6791-B998-4D40-BB14-BED246A6A1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440D-2779-4F7F-9496-B9F79DFEAA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43F1-667A-4AF0-869B-41D71E0460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41F3-0766-4824-9B71-473CC3BEE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45DC-1DED-47B8-842B-37EA888B2A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8657-44F1-4FF2-A0FF-14F126574C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DC28-7D3B-4CDF-9D85-E2156202E5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991C-C561-47F4-ACC6-4AD1D30219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3D96-DB5D-4F46-9DD4-8261BA16E9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CB39-6267-4C76-96AD-83AF357FDE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F7B8-0870-4856-88F1-FFE7A02289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5BF4-8A84-45FC-B950-35B3236FD1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796D8-E55E-4B9B-8B48-37618FC537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28694-5EDC-403F-A675-6FFC11E798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B66E9-31E8-4FBB-8230-6B77339BB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8B93-3234-4317-9C6A-4A4209662F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5C31D-80A5-4337-8EC4-03188B3676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24369-F32C-45B5-8ACB-7810166FE8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1625E-38AB-4FAE-AEC4-FEF919D5F7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EE45D-436E-46DC-A6D7-BC3F6C8A80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695CA-AD2D-42F1-9A68-BED5AD7F04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B0442-4425-46AE-B8F4-0616E0F53F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068F7-99BB-4C33-A013-BB899548EB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68D78-2F28-44D9-ADF5-E3637D18FC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195A1-1484-4631-93A2-3FDEB007C5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B6E36-AD96-441A-B4C2-8097744DF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DA61-A7FF-4278-BE13-F1D9CFF03E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7D15D-A774-4CC1-B926-34CE1B0D4D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53036-5C44-4FA2-8DF4-CEB6544819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150EC-7EFF-425A-96F8-30B8720206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9D955-30CB-4384-BB92-BB390BB120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E168C-2AC6-4273-8706-6050C6E319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F033D-D9DE-468D-9A5B-126EAF8BB5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CAB05-0E3E-40B0-A5F6-7B3203164D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EB9FF-4DC3-4A47-A797-BF1D822699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0C084-8236-4CE4-B922-C81B5A7BC1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838FD-F32E-48C1-B102-2F05D51C2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2550-609F-42D6-90FE-AE4CB64B27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C8925-4E44-4B88-B0C4-832ED0AE8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F212-4EE1-41AE-ABB7-8EE86CFCA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994B-DF3B-459D-A9CE-69210A986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29BE-3E91-4F93-970A-2D067FFD7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F105-7D46-426E-A70B-C3A3931FA2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672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0FB5-3841-4F5F-A105-6E023B132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4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7AD5-CD2F-492F-BEE8-15F63921E7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D74B-FA8B-4A70-91D5-1D90E65227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52FA-9375-4E6A-BFF7-C8B2BDDCF07B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9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Δομημένη Συνέντευ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ενέργεια δομημένης συνέντευξης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537920"/>
            <a:ext cx="762012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αφείς οδηγ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ρισμένες ερωτήσεις δεν αφορούν όλους τους ερωτώμεν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ερωτήσεις ελέγχου βοηθούν το συνεντευκτή να εξελίξει τη διαδικασία βάσει του σχεδιαγράμ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σειρά των ερωτή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άθε ερωτώμενος πρέπει να δεχτεί τις ερωτήσεις με την ίδια σειρ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γενικές ερωτήσεις προηγούνται των ειδικότερων ερωτή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ερωτήσεις που προηγούνται μπορεί να έχουν επιπτώσεις στις ερωτήσεις που έποντ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αρχικές ερωτήσεις θα πρέπει να συνδέονται άμεσα με το θέ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ερωτήσεις που ενδέχεται να προκαλέσουν ενόχληση ή οι ευαίσθητες ερωτήσεις θα πρέπει να κρατηθούν για το τέλο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72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ενέργεια δομημένης συνέντευξης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7240" y="1476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ιευκρινιστικές ερωτήσε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ις περιπτώσεις κατά τις οποίες ο ερωτώμενος δε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αβαίνει την ερώτηση ή δεν δίνει ικανοποιητικές απαντήσ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υποποιημένες διευκρινιστικές ερωτήσει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μμμ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μπορούσατε να μου πείτε περισσότερα πράγματα γι’ αυτό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ανάληψη εναλλακτικών προκαθορισμένων απαντήσ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όδειξ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συνεντευκτής προτείνει πιθανές απαντ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ήση καρτών απεικόνι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72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ενέργεια δομημένης συνέντευξης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5960" y="1553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χώρηση από τη συνέντευ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χαριστούμε τους ερωτώμεν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ενημέρωση μετά τη συνέντευξη πρέπει να είναι η συντομότερη δυνα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κπαίδευση και επίβλεψ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αναγκαία στην περίπτωση που ο ερευνητής προσλαμβάνει συνεντευκτή/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να εξασφαλιστεί ότι οι συνεντευκτές γνωρίζουν το διάγραμμα και ακολουθούν τυποποιημένες διαδικασί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ξιολόγη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λεγχος συμπληρωμένων εντύπ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χογράφηση δειγμάτων συνεντεύξε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ανάκληση μερικών ερωτώμεν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10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βλήματα της δομημένης συνέντευξη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χαρακτηριστικά των συνεντευκ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Φύλο, ηλικία, εθνικότητα, κοινωνικοοικονομική θέση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προκαλέσουν κοινωνικά επιθυμητές απαντ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μοιόμορφη απόκρι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ρισμένοι μπορεί να απαντήσουν με συγκλίνοντες αλλά άσχετους τρόπους, με  τη συναίνεση (συμφωνώντας ή διαφωνώντας με όλες τις ερωτήσεις) ή με την κοινωνική ευαρέσκει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ερωτώμενοι αναστοχάζονται το πώς θα γίνουν αντιληπτές οι απαντήσεις του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βλήματα της δομημένης συνέντευξης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πρόβλημα του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νο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Ερμηνειοκρατική κριτικ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 συνεντευκτής και ο ερωτώμενος μπορεί να μην αποδίδουν την ίδια σημασία στο νόημα των εννοιώ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ο νόημα των ερωτήσεων δεν είναι δοσμένο εκ των προτέρων, αλλά δομείται στη συνέντευξη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ο πρόβλημα αυτό παραβλέπεται στην έρευνα δομημένης συνέντευξη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Προβλήματα της δομημένης συνέντευξης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3880" y="14986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Η φεμινιστική κριτική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akley, 198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Οι δομημένες συνεντεύξεις αντικατοπτρίζουν την ασύμμετρη σχέση μεταξύ ερευνητή και ερευνώμενου υποκειμένο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Οι ερευνητές αποσπούν πληροφορίες από παθητικούς  «ερωτώμενους»  και δεν δίνουν τίποτα ως αντάλλαγμ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Εναλλακτική της «μη-ιεραρχικής σχέσης», που βασίζεται στην αμοιβαιότητα και την ενσυναίσθηση (μη δομημένες συνεντεύξεις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Οι αξίες και η προσωπική εμπλοκή του ερευνητή είναι ένα δυνατό, όχι ένα αδύνατο σημείο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Τείνει να πριμοδοτεί εν γένει την ποιοτική έρευν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72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είναι η δομημένη συνέντευξη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ήσιμο εργαλείο της ποσοτικής έρευν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είται συχνά στις επισκοπήσεις στην κοινωνική έρευ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υποποιημένο διάγραμμα συνέντευ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ερωτώμενος λαμβάνει τις ίδιες ερωτήσει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ν ίδιο τρόπο και με την ίδια σειρ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λειστές ερωτήσεις, εκ των προτέρων κωδικοποιημένες ή προκαθορισμένων απαντήσεων ερωτή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λαχιστοποιεί τις αποκλίσεις μεταξύ συνεντεύξ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431640" y="98280"/>
            <a:ext cx="846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υνήθεις πηγές σφάλματος στην έρευνα επισκόπηση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84360" y="1584360"/>
            <a:ext cx="77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Κακή διατύπωση της ερώτηση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Ο τρόπος διατύπωσης της ερώτησης από το συνεντευκτή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Παρανόηση από την πλευρά του συνεντευξιαζόμενο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Προβλήματα μνήμης από την πλευρά του συνεντευξιαζόμενο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Ο τρόπος καταγραφής της πληροφορίας από το συνεντευκτή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Ο τρόπος επεξεργασίας της πληροφορίας, είτε κατά την κωδικοποίηση των απαντήσεων, είτε κατά την εισαγωγή δεδομένων στον Η/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1640" y="54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λεονεκτήματα της δομημένης συνέντευξης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ιώνει το λάθος λόγω της απόκλισης του συνεντευκτή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διαφορές στις απαντήσεις οφείλονται στην «αληθινή απόκλιση», όχι σε λάθη στη διενέργεια της συνέντευξ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πιθανές αιτίες λάθους μειώνονται μέσω της τυποποίησης (διατύπωση ερωτήσεων, μνήμη, παρανόησ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ιώνει την απόκλιση του μεμονωμένου συνεντευκτή και των περισσότερων του ενός συνεντευκτών μεταξύ του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γαλύτερη εγκυρότητα δεδομένω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724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λεονεκτήματα της δομημένης συνέντευξης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κρίβεια και ευκολία επεξεργασίας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ρωτήσεις κλειστές, εκ των προτέρων κωδικοποιημένες ή προκαθορισμένων απαντήσεων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κρός αριθμός πιθανών απαντήσεω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 συνεντευκτής δεν ερμηνεύει τις απαντήσεις πριν τις καταγράψε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 τυποποιημένο πλαίσιο κωδικοποίησης μειώνει τη μεταβλητότητα στη διαδικασία κωδικοποίηση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ειώνει τη μεταβλητότητα ενός μεμονωμένου κωδικοποιητή ή περισσότερων κωδικοποιητών μεταξύ του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73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λαίσια συνέντευξ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1640" y="15256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ερισσότεροι του ενός συνεντευξιαζόμενο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μαδικές συνεντεύξεις, ομάδες εστί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ερισσότεροι του ενός συνεντευκ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τά πρόσωπο ή από το τηλέφωνο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λεκτρονικά υποβοηθούμενη προσωπική συνέντευξη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CAPI)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ι τηλεφωνική συνέντευξη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CA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ιο αποδοτικό φιλτράρισμα των ερωτήσε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Άμεση καταχώρηση δεδομέ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2440" y="27936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ερικά σημεία για την τηλεφωνική συνέντευ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76964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οστίζει πολύ λιγότερο σε χρόνο και χρήμ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απαιτείται ταξίδ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κολότερη επίβλεψη/αξιολόγ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ιώνει την επιρροή του συνεντευκτή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υπάρχουν άρρητες επιρροέ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στόσο, υπάρχουν ορισμένα προβλήμα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ρισμένοι άνθρωποι δεν διαθέτουν τηλεφωνική σύδεση, βρίσκονται εκτός καταλόγου ή δεν υπάρχει δυνατότητα επικοινωνίας μαζί του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ιορισμένος χρόνος και απόκρισ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ν υπάρχει αντίδραση σε άρρητες εκφράσεις που δείχνουν ότι ο συνεντευξιαζόμενος βρίσκεται σε σύγχυ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ιγότερο ικανοποιητική εμπειρία για τον συνεντευξιαζόμεν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736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ιενέργεια δομημένης συνέντευξης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577880"/>
            <a:ext cx="7951680" cy="43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έχετε εξοικειωθεί απόλυτα με το διάγραμ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ουσίαση του θέματος της έρευν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φορική ή γραπτή λογική εξήγηση για την αξία της συμμετοχής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ουσιάστε τον εαυτό σας, τον εργοδότη σας, τους σκοπούς της έρευνας και της διαδικασίας της συνέντευξ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οντολογικά ζητήμα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ωνυμί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μπιστευτικότη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καίωμα υπαναχώρ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καιρία στον ερωτώμενο να κάνει ερωτ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ενέργεια δομημένης συνέντευξης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1640" y="1494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δραίωση αλληλοκατανό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είναι δύσκολο αν υπάρχει λίγος χρόνος και λίγες ευκαιρίες για συζήτη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λειστές ερωτήσει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ιατύπωση των ερωτήσε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ακολουθείτε πιστά το διάγραμμ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κόμα και οι μικρές αποκλίσεις στη διατύπωση μπορούν να επηρεάσουν τις απαντ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ταγραφή των απαντήσε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γράψτε τις ακριβείς λέξεις που χρησιμοποίησε ο ερωτώμενος, ή χρησιμοποιήστε ερωτήσεις προκαθορισμένων επιλογ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08T20:49:13Z</dcterms:modified>
  <cp:revision>207</cp:revision>
  <dc:subject/>
  <dc:title>No Slide Title</dc:title>
</cp:coreProperties>
</file>