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983413" cy="10120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984000" cy="101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1"/>
          </p:nvPr>
        </p:nvSpPr>
        <p:spPr>
          <a:xfrm>
            <a:off x="395568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961920" y="758520"/>
            <a:ext cx="5060880" cy="379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2"/>
          </p:nvPr>
        </p:nvSpPr>
        <p:spPr>
          <a:xfrm>
            <a:off x="-36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13"/>
          </p:nvPr>
        </p:nvSpPr>
        <p:spPr>
          <a:xfrm>
            <a:off x="395568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A0B6-B4E5-4434-8CD2-3CE660C2DF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8692-9B65-432E-ABEE-6874B835712A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AF550972-9B88-484A-B5A9-C04BCDD6FA31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1063-C2D4-478C-8D68-146D1DA1E99C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D6A96D4F-B51E-4473-B550-5BC974A50366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8031-D3AE-42DE-8CE1-2B53F87EC93F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2FFDEADE-E4F4-4690-B900-3F888A1213F2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5079-3D9B-45A0-B5DB-19EEDB2C87F2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D33928DC-6288-4F8D-8941-37B35CF939B8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4CFB-A71B-478C-954D-B9B89B2835CC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BBD5947A-5525-471F-82C7-DE102FC00D85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70ED-FEA9-4FE4-A2EF-22F6B5461A93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19DFFB68-C106-491E-9625-F2BEBA7CDB4D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919E-95B0-459F-8E71-D772FA0E36A1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63AF1091-FADA-44B1-9F75-A7E45D7A40D7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1E6C-99F7-4FA3-8DEF-25FA9DFB6274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671E4D96-BB24-4CAB-98DB-B68B099EBD83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F272-0F79-4C1E-8DA2-54D72C12FD6D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32CF2953-2170-4217-8BD8-7A63B141E088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5B33-3EC9-4AC9-8472-2417F66031AA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44A7EC42-F8CF-4F2D-9A15-E55B8225C3C9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060C-A0C2-4D99-AF84-B092952570B4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15A61A7D-E889-407D-89F6-26BD462BA4F8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0A8B-71FD-4350-BB99-8A4D96375A80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7820A12A-C2C5-4F31-B0DE-3877D602AC3F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BD6EE-9093-4E20-B338-EF3AF095E3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10714-26D6-4112-B465-B85660B892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87E71-6532-4CAC-9EF9-1E0711029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74398-7CC8-4BA8-B46F-F1A3223C9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F7ED3-BA92-48F0-8048-AC2368E35A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11710-A032-48EF-A3D3-2B09952254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924C1-96EA-4CDD-A80D-11CD5071F2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4DE71-BE5F-4D9F-8D3A-C388F8E30B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F6F94-24F9-4A7F-98E0-5332A63B9E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A32C1-1C57-4328-8C8C-657C95FB52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0BE44-2BF9-4A3A-9AE3-2B86B86D44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7677F-70F5-4813-85E1-23B26834F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A98FA-E06D-4EB7-83D6-61099AFCDF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1C004-6E78-4CE8-A20E-031B30DA19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769E9-B60E-4A8D-9C5E-5269CABFF7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6CF9C-1BF1-43E3-AAF6-CCB009B775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FCAB5-DB60-41CB-A452-47E61DBA17F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06D0-0467-4C23-981F-3572BFDCA1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F74C-9CA0-4812-A6DC-757CC655E1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49C4-D1E2-4C61-BFD0-45C2BB08EE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A8EB-E9C4-46CC-B711-95F4086CD1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0B72-4595-41A9-B898-EADEA16928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CF1DB-0563-4033-803B-8BC9C74A44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6B51-FAB3-4958-BDDA-69E38EF86B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F9F9-6599-4152-A800-2F38CF6852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49CD-E424-4978-BBB8-2F508F1278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4122-87F1-43A2-B6A0-E447BA7A4C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6E8F-72CB-44AC-A31C-7B36ED5C23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F927-4276-4B82-BADB-F36F34D348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1EB4-9E3B-41C0-9CF8-3B804CCD435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59BE76-E527-4F6D-A206-C226C4F8407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6CCCA-E594-49FE-9AAA-5FFEA392C8C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3D9A51-C113-4F24-A475-559708AA01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96EDC-6C9B-42B0-8963-23D2EA10A46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169F3-4F71-4725-8482-70696B971C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1E9ECE-AA72-4DA2-A3AB-6553685CAD6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20DC70-71E3-4F42-9190-A988B76C3F1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51B0CF-0881-4D56-BC18-3E598268A65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874C3C-93BF-4FB1-B0FC-D94E12AADD3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766418-33D4-4D02-90F7-8AE9DAAA4AB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5B2CE-BACE-4926-A174-ABF168215F8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E298BD-609E-4B33-B40F-A9E7365A5F7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EF4229-3628-4AFD-B751-19E22E90721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928FAB-5C40-47C8-80F5-CB373C0E1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577D8-74A0-455E-8650-73DB70D9BDF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959A40-92B1-40FD-8D80-2032F3B3DE7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B6975B-3574-4B5F-A1E0-199ECAA07BE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A4B4A7-E64B-42BB-B60D-00BBFF4AA2D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FD54D0-52E4-47B6-B3F9-2932AC40C4A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1F833F-7438-4B3A-AC4E-7F86A7734CD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D5A814-3541-4C20-B139-CEF05A8174D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5AF0A4-B566-4DFB-A9E3-004E83844BB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4F9197-3E46-4763-AC0F-B8ED95501E5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BA1337-5DC2-4BC6-B06E-2F36534D10B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9991EF-D1B7-4451-A9D0-BB4B6BFDE5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69BF8-7C02-45E6-AE92-BBD0110DE14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9ED48C-D52C-4787-9063-DACD86962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6F562-E724-45F2-A6AF-D65D66BA2E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9503A-182A-44F8-8CAA-2CF8460B1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4145F-6B18-4035-8515-2F2BD2BF5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CC30-3C54-4234-BB73-12CCCE347B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>
            <a:off x="293760" y="1989000"/>
            <a:ext cx="8567640" cy="4394160"/>
          </a:xfrm>
          <a:prstGeom prst="rect">
            <a:avLst/>
          </a:prstGeom>
          <a:solidFill>
            <a:srgbClr val="0021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Line 13"/>
          <p:cNvSpPr/>
          <p:nvPr/>
        </p:nvSpPr>
        <p:spPr>
          <a:xfrm>
            <a:off x="0" y="64897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2"/>
          <p:cNvSpPr/>
          <p:nvPr/>
        </p:nvSpPr>
        <p:spPr>
          <a:xfrm>
            <a:off x="306720" y="122400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Type author names here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28600" y="6534000"/>
            <a:ext cx="3195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© Alan Bryman, 2016. All rights reserved.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ftr" idx="3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4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F08E-0B8F-4D48-A800-0706BDFB76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ftr" idx="5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6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8010-E8D1-4305-A14F-C016DA373B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ftr" idx="7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ldNum" idx="8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73CC-5123-454B-B7F3-EA9ECFC72B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ftr" idx="9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ldNum" idx="10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F8BF-329B-47D9-BE2A-50FAD45EA71E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25732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Arial"/>
              </a:rPr>
              <a:t>Μέθοδοι Κοινωνικής Έρευν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41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Κεφάλαιο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12: </a:t>
            </a: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Δομημένη Παρατήρ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306000" y="12240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Alan Bryman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736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Ζητήματα αξιοπιστίας και εγκυρ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680" y="157140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Αξιοπιστία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Σταθερότητα μεταξύ διαφορετικών παρατηρητών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υπολογίζεται με το κάππα του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h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Σταθερότητα του μεμονωμένου παρατηρητή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χρονικά διαστήματα προσοχής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Εγκυρότητα μέτρηση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Η μέτρηση αντικατοπτρίζει την έννοι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φαρμογή διαγράμματος παρατήρηση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αρουσία του παρατηρητή- φαινόμενο αντίδραση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Τι είναι το φαινόμενο αντίδρασης στη μέτρησ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0920" y="1494000"/>
            <a:ext cx="8280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ι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bb et al. (1966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έγραψαν για το 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«φαινόμενο της αντίδρασης στη μέτρηση»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όπου το ερευνώμενο υποκείμενο γνωρίζει ότι συμμετέχει σε κάποια έρευνα,  και αυτό καθιστά τα στοιχεία άκυρα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Το φαινόμενο του πειραματόζωου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πίγνωση της συμμετοχής σε δοκιμασί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Επιλογή ρόλων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ι συμμετέχοντες υιοθετούν ένα συγκεκριμένο ρόλο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Η μέτρηση ως παράγοντας αλλαγής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 γεγονός ότι ο ερευνητής είναι παρών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Ομοιόμορφη απόκριση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(αφορά πρωτίστως την έρευνα που βασίζεται σε συνεντεύξεις και ερωγηματολόγια όπου ο ερωτώμενος απαντά σε μια σειρά ερωτήσεων με σταθερό αλλά καταφανώς μη ενδεδειγμένο τρόπο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Το φαινόμενο της αντίδρασης στη μέτρηση μπορεί να συμβεί σε κάθε έρευνα όπου οι συμμετέχοντες γνωρίζουν ότι  αποτελούν αντικείμενο διερεύνηση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αρεμβολές πεδίο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067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ancik (1979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χρησιμοποίησε τον όρο «παρεμβολή πεδίου» για να περιγράψει μια μορφή έρευνας βάσει παρατήρησης όπου ο ερευνητής  παρεμβαίνει άμεσα και παρατηρεί τα αποτελέσματα  (μια μορφή συγκαλυμμένης, διακριτικής παρατήρηση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επιθυμητός στόχος είναι η ποσοτικοποίηση των αποτελεσμάτ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566640" y="98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Ένα παράδειγμα παρεμβολής πεδίου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Η μελέτη του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niel (1968)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για τις φυλετικές διακρίσεις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684360" y="1557360"/>
            <a:ext cx="7775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ξήντα αγγελίες για ενοικίαση κατοικίας από διάφορες περιοχέ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κάθε ιδιοκτήτης προσεγγίστηκε από τους εξής: έναν λευκό από τις Δυτικές Ινδίες, έναν  λευκό Ούγγρο και έναν λευκό Άγγλο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υποψήφιοι είχαν ακριβώς τα ίδια χαρακτηριστικά, αλλά διέφεραν από την άποψη της εθνοτικής καταγωγή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6720" y="9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και η ποσοτικοποίηση των αποτελεσμάτ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Εικόνα 1" descr=""/>
          <p:cNvPicPr/>
          <p:nvPr/>
        </p:nvPicPr>
        <p:blipFill>
          <a:blip r:embed="rId1"/>
          <a:stretch/>
        </p:blipFill>
        <p:spPr>
          <a:xfrm>
            <a:off x="96840" y="1628640"/>
            <a:ext cx="8682120" cy="405000"/>
          </a:xfrm>
          <a:prstGeom prst="rect">
            <a:avLst/>
          </a:prstGeom>
          <a:ln w="0">
            <a:noFill/>
          </a:ln>
        </p:spPr>
      </p:pic>
      <p:pic>
        <p:nvPicPr>
          <p:cNvPr id="252" name="Εικόνα 2" descr=""/>
          <p:cNvPicPr/>
          <p:nvPr/>
        </p:nvPicPr>
        <p:blipFill>
          <a:blip r:embed="rId2"/>
          <a:stretch/>
        </p:blipFill>
        <p:spPr>
          <a:xfrm>
            <a:off x="50760" y="2416320"/>
            <a:ext cx="893124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Κριτική της δομημένης παρατήρησ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πιβάλλει ένα ακατάλληλο πλαίσιο στο παρατηρούμενο περιβάλλο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γνοεί το νόημα και τις προθέσεις πίσω από τη συμπεριφορά (τα κίνητρα συνάγονται αλλά δεν ερευνώνται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γνοεί το κοινωνικό πλαίσιο της έρευν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ποφέρει αποσπασματικά δεδομένα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υσκολία να δούμε τη συνολική εικόν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Από την άλλη πλεύρά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6640" y="1719000"/>
            <a:ext cx="777240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ίναι ακριβέστερη από ερωτηματολόγια και συνεντεύξει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Παρατηρείται τι ακριβώς κάνουν οι άνθρωποι, όχι τι λένε ότι κάνου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ίναι χρήσιμη ως συνοδευτική άλλων μεθόδ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Μελέτη συμπεριφοράς, στάσεων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και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 κοινωνικού πλαισί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Τι είναι η δομημένη παρατήρηση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96400" y="155700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μέθοδος συστηματικής παρατήρησης  της συμπεριφοράς των ατόμ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μαδοποιεί συμπεριφορές δημιουργώντας κατηγορί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άμεση παρατήρησ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χωρίς αναφορές και συμπεράσματα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ην καθιστούν εναλλακτική στην έρευνα επισκόπη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υγκεντρώνει και συγκρίνει τη συμπεριφορά όλων των συμμετεχόντων του δείγμα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Χρησιμοποιεί ένα συγχρονικό σχέδιο έρευν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57360" y="279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ροβλήματα με την έρευνα επισκόπησ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82280"/>
            <a:ext cx="77724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Οι ερωτώμενοι μπορεί να ερμηνεύσουν διαφορετικά το νόημα μιας ερώτη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Παράλειψη βασικών όρων κατά την ανάγνωση των ερωτήσε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Βασίζεται στις αναμνήσεις των ανθρώπων για τη συμπεριφορά του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Μεροληψία κοινωνικής ευαρέσκει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Απειλητικές ερωτήσεις- άκυρες απαντήσει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Μεροληψία του συνεντευκ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Χάσμα μεταξύ περιγραφόμενης και πραγματικής συμπεριφορά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Ικανότητα απάντησης των ερωτήσε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unded Rectangle 5"/>
          <p:cNvSpPr/>
          <p:nvPr/>
        </p:nvSpPr>
        <p:spPr>
          <a:xfrm>
            <a:off x="7203960" y="5600880"/>
            <a:ext cx="1282680" cy="522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7196040" y="5600880"/>
            <a:ext cx="12906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100" spc="-1" strike="noStrike">
                <a:solidFill>
                  <a:srgbClr val="042960"/>
                </a:solidFill>
                <a:latin typeface="Arial"/>
              </a:rPr>
              <a:t>Χρήσιμες συμβουλές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100" spc="-1" strike="noStrike">
                <a:solidFill>
                  <a:srgbClr val="042960"/>
                </a:solidFill>
                <a:latin typeface="Arial"/>
              </a:rPr>
              <a:t>Σελ. </a:t>
            </a:r>
            <a:r>
              <a:rPr b="0" lang="en-GB" sz="1100" spc="-1" strike="noStrike">
                <a:solidFill>
                  <a:srgbClr val="04296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736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Τύποι έρευνας βάσει παρατήρησ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ομημένη/συστηματική παρατήρησ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υμμετοχική παρατήρηση (ποιοτικ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η συμμετοχική παρατήρησ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η δομημένη παρατήρηση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παγωγικ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πλή/συγκαλυμμένη παρατήρηση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ορφή παρατήρησης όπου η κατάσταση μένει ανεπηρέαστη ή αλλάζει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Webb et al.196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Το διάγραμμα παρατήρησ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5438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Χρειάζεται ξεκάθαρη εστίαση και να είναι εύκολο στη χρή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κατηγορίες θα πρέπει να είναι περιεκτικέ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να καλύπτουν όλα τα σημεί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ι αμοιβαία αποκλειόμεν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έπει να είναι εύχρηστ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οσδιορίζει κατηγορίες συμπεριφοράς προς παρατήρηση και τον τρόπο κατηγοριοποίησης των συμπεριφορ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Χρειάζονται ξεκάθαρες κατευθύνσεις ώστε οι παρατηρητές  να διακρίνουν μεταξύ τους τις κατηγορίες της συμπεριφορά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ια πιλοτική μελέτη είναι χρήσιμη  για την αποφυγή προβλημάτ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landers (1970) Interaction Analysis Categories (FI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Εικόνα 1" descr=""/>
          <p:cNvPicPr/>
          <p:nvPr/>
        </p:nvPicPr>
        <p:blipFill>
          <a:blip r:embed="rId1"/>
          <a:stretch/>
        </p:blipFill>
        <p:spPr>
          <a:xfrm>
            <a:off x="395280" y="1538280"/>
            <a:ext cx="8196120" cy="43657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4"/>
          <p:cNvSpPr/>
          <p:nvPr/>
        </p:nvSpPr>
        <p:spPr>
          <a:xfrm>
            <a:off x="5202360" y="3608280"/>
            <a:ext cx="197964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7f7f7f"/>
                </a:solidFill>
                <a:latin typeface="Arial"/>
              </a:rPr>
              <a:t>μορφή εξουσίας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Στρατηγικές παρατήρησης συμπεριφορά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7360" y="1672920"/>
            <a:ext cx="77724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ταγράφουμε περιστατικά, γεγονότα και παρεμβάσει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αρατηρούμε σε σύντομες χρονικές περιόδους, επαναλαμβανόμεν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αρατηρούμε για μεγάλες χρονικές περιόδους, συνεχώ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.χ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Jenkins et al (1975): ‘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Ώρα παρατήρηση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ειγματοληψία χρόν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ταγραφή όσων συμβαίνουν κάθε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επτ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χ.  Ερευνητικό πρόγραμμα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ACLE (Galton et al, 19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1280" y="414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Δειγματοληψία στη δομημένη παρατήρησ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66720" y="153936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ιγματοληψία ανθρώπ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υχαίο δείγμα ατόμων προς παρατήρη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ιγματοληψία βάσει χρονικών περιόδ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αρατήρηση του/των ίδιου/ων ατόμου/ω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ε διαφορετικές, τυχαία επιλεγμένες στιγμέ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η-πιθανοτική δειγματοληψί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 μπορεί να χρησιμοποιηθεί ένα πιθανοτικό δείγμα αν δεν υπάρχει πλαίσιο δειγματοληψίας, κατά συνέπεια περιορίζεται η εξωτερική εγκυρότητ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ε κάθε περίπτωση, περιορισμένη εξωτερική εγκυρότη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66640" y="324000"/>
            <a:ext cx="77724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Μορφές δειγματοληψ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7360" y="1584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d libitu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ταγραφή όσων συμβαίνουν σε μια δεδομένη στιγμ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στιασμένη δειγματοληψία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0" i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η πιο κοινή μορφή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αρατήρηση ενός συγκεκριμένου ατόμου για μια καθορισμένη χρονική περίοδ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ιγματοληψία σάρω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ταγραφή της συμπεριφοράς μιας ολόκληρης ομάδας ατόμων σε τακτά χρονικά διαστήμα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ιγματοληψία συμπεριφορά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αρατήρηση μιας ολόκληρης ομάδας για να καταγραφεί ποιος εμφανίζει μια συγκεκριμένη συμπεριφορ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1285920" y="5856120"/>
            <a:ext cx="39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Martin 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και 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Bateson, 2007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1285920" y="5899320"/>
            <a:ext cx="3016080" cy="360360"/>
          </a:xfrm>
          <a:prstGeom prst="rect">
            <a:avLst/>
          </a:prstGeom>
          <a:noFill/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3:26:03Z</dcterms:created>
  <dc:creator>Kate Hilton</dc:creator>
  <dc:description/>
  <dc:language>en-US</dc:language>
  <cp:lastModifiedBy>Χρήστης των Windows</cp:lastModifiedBy>
  <cp:lastPrinted>2001-09-10T07:46:38Z</cp:lastPrinted>
  <dcterms:modified xsi:type="dcterms:W3CDTF">2018-11-15T22:50:30Z</dcterms:modified>
  <cp:revision>219</cp:revision>
  <dc:subject/>
  <dc:title>No Slide Title</dc:title>
</cp:coreProperties>
</file>