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983413" cy="10120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984000" cy="101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1"/>
          </p:nvPr>
        </p:nvSpPr>
        <p:spPr>
          <a:xfrm>
            <a:off x="395568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961920" y="758520"/>
            <a:ext cx="5060880" cy="379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2"/>
          </p:nvPr>
        </p:nvSpPr>
        <p:spPr>
          <a:xfrm>
            <a:off x="-36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13"/>
          </p:nvPr>
        </p:nvSpPr>
        <p:spPr>
          <a:xfrm>
            <a:off x="395568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3074-5775-446C-A096-EB6F054F54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09F3-BF54-4937-8657-3F81F19B8AA7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CEA85658-FFA0-4488-86B3-BC0046C49F94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1EAB-72C0-418F-98FA-9E13FED076E9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9D4CE066-50FA-40AC-8AED-1796C2CECAAF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FF97-1A87-446E-A0D2-AAAF144C6B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8639359E-EEC2-42FB-9C77-D4131BCAFD8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7AEB-503B-4654-9181-2342D795202E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72E4B97A-9460-4F5C-804F-73D2A06B56C3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BCC8-B666-4352-A4CE-B35607FA49E2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567A0C00-5FC8-40DC-8DF8-969A483FD378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0AB4-5255-429D-9190-101FA8FF0F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D8B5A0B1-C900-4F08-B83A-2F53BEFEC59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DF62-1A53-452C-BC6E-795ED54BB8D4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D0182C29-CC71-418F-BAED-77F8DD8F76C9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C21E-815B-4D9C-BD64-8C50F9F2FD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FF05A2BC-561C-40BF-8EC5-DC9165EB937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35FF-2388-4AF1-835E-825CAF8DD9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FA8F2942-9C42-4BB4-8E24-9DAF2C339E7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A672-2701-41B7-9845-8CFB12D9C7E7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07D54686-6990-4B8E-BE14-B91CFCD17BAF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B119-890C-4E31-9300-C926F4B7C5F6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48B6B174-4B2C-4159-87F0-A93F7552083C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DCC9-300E-4CD5-878A-7C2E025D3AAD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4F6E1436-4DDE-4533-BB7C-68A21A500A15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62D5-4889-4481-A507-462B7AE1F74A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65A5B545-7380-47F8-AB57-64C529412278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1AFF-58E3-4E90-9128-92CE9FEDD6CA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92F61774-8A08-49CB-A276-FE6910786DA1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E586-F7B4-49CC-94A1-BD3C7734E211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E24AF4C3-2680-41E0-8BDF-C52DABEC29DE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F35FD-1128-48F5-87E2-20A68A111D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3FC77-6516-4378-B60A-7F124AC99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63F52-380D-42C0-AA33-0DDCAE7A09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51365-4194-4D50-B12A-AAE8CE6C0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38689-1B92-4AE0-9F39-54DE5F8D52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C624B-B5BA-4B04-BA4F-585C92011F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424E6-070C-44FE-9832-ED71E0FA75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BAA19-DE57-4F15-B018-224E5B415C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D2CD7-AA75-4ADC-891F-A2CF88DAB4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8815F-58EA-4218-A3A2-425D367112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0576B-8EEA-47C4-ABDF-577BD83006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4F42D-3D19-4EF3-B07F-3A2A04556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A25D5-F11F-4C5B-B684-13E920FAC2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A6FBE-ADBA-4653-99E0-A26A5CD558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CB184-8848-446D-B207-D18B842150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C44D8-6722-499D-97B7-9FDA8BC006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F21EA-948E-43BA-8BD6-4DD971ABE8B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BE7D-8E50-4177-8DCB-7BC226AFEA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6549-CA2E-41E5-BCBD-3C681F6595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8877-E99F-4014-BFD2-C23658087B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DC2D-597F-43BA-B189-593C14CBB2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A422-18AE-427C-9E49-0C9E06F9DE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B748C-FCF3-45C4-BC09-33CA5160BF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C9F3-D6F0-440B-ABC6-418AB250D4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A1A7-7FA1-4732-B217-68F43CCC9C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7E0D-418E-4D01-B89E-AF967CA0B4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C3D9-6624-4190-AB81-1704631378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8E34-510B-4503-9EE8-C932586A80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A3D7-06CB-4D03-A891-AE2E859F49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F447-4162-44E2-95B9-21D755A7B0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D1464-CA1D-4ABC-8760-6679C8CE37C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BFE31-F9AF-4160-AE9D-80387BB1956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81B5C0-3C5F-4B19-8912-126FE0538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4F3AE-15A9-4834-82CF-FCE9C30247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FDB22-8FE6-43A5-994F-7E28EB10E6A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2E5C0A-E7CA-4F4F-B312-4049F489753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9A4B6-0052-42FE-BDD9-D305C190035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A3D82-F64F-4CC0-837D-225169150C0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1BE14-23A1-4109-9FA7-C9F704F2912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433B32-0CD5-4A07-9DED-20049F8903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66FD5E-C460-4FA1-8A1B-B769D11329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25F0F-9221-462B-8D59-502C1B9BE6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5AE25-FD30-4059-B006-AD3DD705309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837F13-0D01-4350-B0F5-646E85596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AFC14-873B-4009-9E6E-FF21162A122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D36B71-E25B-4B70-9489-7AA01A56CA7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4F947F-424E-4BFA-AB74-FF21513333A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FE3B48-402A-4FAE-A5BC-F04BC54A701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41E114-61A3-4649-B3BE-304ABB758F1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E00EC2-4F32-4729-8F19-364FDA29F57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3D00A6-1532-47A1-BF24-837F967462D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9B127D-F95B-487C-A270-71F6E758387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54C96E-BB03-46DF-8FA3-261F657EFDC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07E09E-E0CF-40B7-BF82-9469207A13E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34477A-5B64-4B03-886C-CCCAE4536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EE177-7B97-47A5-8E4C-B55F5FE218A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6F300D-81B6-44EE-938B-CC49DF928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EAEB6-22FF-4661-8614-3E2D253D4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AEB0A-1128-4E33-9D29-441AA353D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0F149-11B8-4623-AA8C-9D7E21B51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A006-5500-4B5E-BB00-8D73DAEAFB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>
            <a:off x="293760" y="1989000"/>
            <a:ext cx="8567640" cy="4394160"/>
          </a:xfrm>
          <a:prstGeom prst="rect">
            <a:avLst/>
          </a:prstGeom>
          <a:solidFill>
            <a:srgbClr val="0021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Line 13"/>
          <p:cNvSpPr/>
          <p:nvPr/>
        </p:nvSpPr>
        <p:spPr>
          <a:xfrm>
            <a:off x="0" y="64897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2"/>
          <p:cNvSpPr/>
          <p:nvPr/>
        </p:nvSpPr>
        <p:spPr>
          <a:xfrm>
            <a:off x="306720" y="122400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Type author names here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06280" y="6534000"/>
            <a:ext cx="3807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© Alan Bryman, 2016. All rights reserved.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ftr" idx="3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4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E3F9-D677-4CE5-854C-026D55916F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ftr" idx="5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6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66EB-F341-4AA3-811E-4C68DC0E6A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ftr" idx="7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ldNum" idx="8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7C37-42B2-415F-A217-C4B855D2AE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ftr" idx="9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ldNum" idx="10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8ED0-909E-4C97-8B21-CF67D562E555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25732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Arial"/>
              </a:rPr>
              <a:t>Μέθοδοι κοινωνικής έρευν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41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Κεφάλαιο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19: </a:t>
            </a: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Εθνογραφία και συμμετοχική παρατήρ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306000" y="12240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Alan Bryman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01640" y="368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Οι βασικοί πληροφοριοδότε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ρωγοί ή ρυθμιστές που βοηθούν τον ερευνητή να συλλέξει δεδομέν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τιλαμβάνονται την έρευνα και κατευθύνουν τον εθνογράφο σε καταστάσε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ίνουν συμβουλές στο πώς θα παίξει κανείς το ρόλο του μέλου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περιγραφές μπορεί να δοθούν αν ζητηθούν (με ερωτήσεις) ή χωρίς να ζητηθούν /αυθόρμητα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Hammersley &amp; Atkinson, 199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Έξι ρόλοι εθνογράφ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062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υγκαλυμμένο πλήρες μέλο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arson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ι οι οπαδοί ποδοσφαίρ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Φανερό πλήρες μέλο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akova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ι  το μάρκετινγκ νέων τεχνολογι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υμμέτοχος παρατηρητή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erson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ε ένα μπαρ του Σικάγ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ν μέρει συμμέτοχος παρατηρητή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idne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τα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cDonald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λάχιστα συμμέτοχος παρατηρητή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e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ι οι μάγειροι εστιατορί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μέτοχος παρατηρητή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mbetta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mill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ι οι οδηγοί ταξ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Ενεργητική ή παθητική συμμετοχή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062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 όρος</a:t>
            </a:r>
            <a:r>
              <a:rPr b="0" lang="en-GB" sz="2200" spc="-1" strike="noStrike">
                <a:solidFill>
                  <a:srgbClr val="101161"/>
                </a:solidFill>
                <a:latin typeface="Arial"/>
              </a:rPr>
              <a:t>‘Going nativ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αναφέρεται σε μια κατάσταση στην οποία ο εθνογράφος χάνει την αίσθηση ότι είναι ερευνητής και αντ’ αυτού εγκλωβίζεται στην κοσμοαντίληψη των ανθρώπων που μελετά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ρισμένοι ρόλοι ερευνητών απαιτούν αναγκαία ενεργή συμμετοχή, ενώ άλλοι είναι πολύ πιο παθητικοί. Αλλά τα όρια είναι διαπερατά, και στις δύο κατευθύνσει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ι ρόλοι του παθητικού ερευνητή μπορεί ορισμένες φορές να απαιτούν ενεργή εμπολοκή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ι ρόλοι του ενεργητικού ερευνητή μπορεί ορισμένες φορές να απαιτούν πιο παθητική εμπλοκή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92360" y="324000"/>
            <a:ext cx="547344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Σημειώσεις πεδίο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520640"/>
            <a:ext cx="86104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Κρατήστε σημειώσεις όσο πιο γρήγορα μπορείτ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Γράψτε τις πλήρεις σημειώσεις πεδίου το αργότερο μέχρι το τέλος της ημέρ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Χρησιμοποιήστε συσκευή ψηφιακής εγγραφής, αν το προτιμάτ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Οι σημειώσεις πρέπει να είναι γλαφυρές και σαφείς. Δεν θα πρέπει να αναρωτιέστε αργότερα «τι εννοούσα εδώ;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Θα χρειαστεί να κρατήσετε άφθονες σημειώσεις. Αν έχετε οποιαδήποτε αμφιβολία, καταγράψτε τ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Τύποι σημειώσεων πεδίο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Νοερές σημειώσεις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ιδιαίτερα χρήσιμες όταν δεν είναι σωστό να σας βλέπουν να κρατάτε σημειώσει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Πρόχειρες σημειώσεις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λέγονται και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Σκαριφήματ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–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πολύ σύντομες σημειώσεις γραμμένες σε χαρτί ή σε μικρά σημειωματάρια ως υπομνήσεις γεγονότων που θα πρέπει να καταγραφούν αργότερ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Πλήρεις σημειώσεις πεδίου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λεπτομερείς σημειώσεις που γράφονται όσο το δυνατόν συντομότερα και πρόκειται να αποτελέσουν την κύρια πηγή δεδομένων σα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εθοδολογικές σημειώσεις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σημειώσεις σε σχέση με μεθοδολογικές αποφάσεις, που βοηθούν στην τεκμηρίωση της ερευνητικής διαδικασία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Η ολοκλήρωση της εθνογραφικής έρευν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680" y="15714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πρόβλημα του να μην ξέρει κανείς πού να σταματήσε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ημείο θεωρητικού κορεσμο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ρακτικοί προβληματισμο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έλος εκπαιδευτικής άδεια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έλος χρηματοδότηση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ροσωπικές/οικογενειακές δεσμεύσει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ροθεσμίε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υναισθηματική πίεση στη διαχείριση ενός «μετώπο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66280" y="324000"/>
            <a:ext cx="81169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Μπορεί να υπάρξει φεμινιστική εθνογραφία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14240" y="1571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πορεί, σύμφωνα με την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Reinharz (1992),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γιατ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Καταγράφει τη ζωή των γυναικώ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Υιοθετεί την οπτική των γυναικώ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Κατανοεί τις γυναίκες στο πλαίσιό του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Ναι, λέει και η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keggs (2001),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ιότ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Συντάσσεται με τους στόχους του φεμινισμο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άλλον όχι, αναφέρει η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Stacey (1988),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λόγω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ης μη αυθεντικής θέσης της φεμινίστριας εθνογράφο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ης παρέμβασης, προδοσίας και επιβεβλημένης εξουσίας της ακαδημαϊκής φωνή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Η εμφάνιση της διαδικτυακής εθνογραφί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1680" y="1571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υμμετοχική παρατήρηση ψηφιακών κοινοτήτων ή δικτυογραφί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Ο εικονικός κόσμος καθίσταται ο «χώρος» της εθνογραφικής έρευνας- όπως και η αλληλεπίδραση μεταξύ του κόσμου «σε σύνδεση» και του κόσμου «εκτός σύνδεση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ums,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εδία σχολιασμο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ιστοσελίδες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εριβάλλοντα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am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Ελλοχεύουσα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η μη συμμετοχική πρακτική της απόσπασης δεδομένων από τέτοιους χώρους χωρίς να το γνωρίζουν τα μέλη των κοινοτήτων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αραβλέπει μια κρίσιμη πλευρά, της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δικτυωμένης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δράσης της κοινότητας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η συμμετοχ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ροβληματισμό προκαλούν δεοντολογικά ζητήματα σε σχέση με την συναίνεση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ύποι δικτυογραφίας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Μη συμμετοχική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λλοχεύουσα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ν μέρει συμμετοχή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υγκαλυμμένη/φανερ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υμμετοχική παρατήρηση με συνεντεύξεις σε σύνδεση/εκτός σύνδεσης,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υμμετοχική παρατήρηση με άλλες ερευνητικές μεθόδου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Η εμφάνιση της οπτικής εθνογραφί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71680" y="1571400"/>
            <a:ext cx="77724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Σωζόμενο οπτικό υλικ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Προϋπάρχον, π.χ. προσωπικές φωτογραφίε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νέο  οπτικό υλικό που δημιουργείται για τους σκοπούς της έρευνας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φωτογραφική εκμαίευση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- Δημιουργείται κατ’ αίτηση του ερευνητ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Π.χ.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φωτογραφίες ως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aide memoire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πηγές δεδομένων ή αφορμές για συζήτηση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ink (2001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100" spc="-1" strike="noStrike">
                <a:solidFill>
                  <a:srgbClr val="000000"/>
                </a:solidFill>
                <a:latin typeface="Arial"/>
              </a:rPr>
              <a:t>Ρεαλιστική προσέγγιση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οι εικόνες αποτυπώνουν ξεκάθαρα μια κατάσταση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100" spc="-1" strike="noStrike">
                <a:solidFill>
                  <a:srgbClr val="000000"/>
                </a:solidFill>
                <a:latin typeface="Arial"/>
              </a:rPr>
              <a:t>Αναστοχαστική προσέγγιση: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επιρροή του ερευνητή στο τι αποτυπώνεται και πώς  ερμηνεύετα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0164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Η συγγραφή του εθνογραφικού κειμένο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528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3333cc"/>
                </a:solidFill>
                <a:latin typeface="Arial"/>
                <a:ea typeface="Arial"/>
              </a:rPr>
              <a:t>Τα κείμενα πείθουν τους αναγνώστες για την πραγματικότητ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Τα κείμενα δημιουργούνται με στόχο να πείσουν τους αναγνώστες για την πραγματικότητα των περιγραφόμενων γεγονότω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3333cc"/>
                </a:solidFill>
                <a:latin typeface="Arial"/>
                <a:ea typeface="Arial"/>
              </a:rPr>
              <a:t>Έγκυρη αποτίμηση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Το κείμενο δεν πρέπει να παρουσιάσει μόνο ένα σύνολο ευρημάτων, αλλά μια έγκυρη αποτίμηση της ερευνώμενης ομάδας ή κουλτούρα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3333cc"/>
                </a:solidFill>
                <a:latin typeface="Arial"/>
                <a:ea typeface="Arial"/>
              </a:rPr>
              <a:t>Μεταμοντέρνα περίοδος της εθνογραφικής γραφή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ύξηση του ενδιαφέροντος όχι μόνο για το πώς εκπονείται η εθνογραφία στο πεδίο της έρευνας, αλλά και για τις ρητορικές συμβάσεις  που εφαρμόζονται κατά την παραγωγή εθνογραφικών κειμένω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7360" y="368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Ορολογί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01640" y="1449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Ιστορικά, η εθνογραφία προκύπτει από την κοινωνική ανθρωπολογία. Συχνά χρησιμοποιείται για την αναφορά τόσο στη μέθοδο έρευνας και στο αποτέλεσμά της (π.χ. ένα βιβλίο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Η συμμετοχική παρατήρηση χρησιμοποιείται συνήθως αποκλειστικά σε σχέση με τη μέθοδο έρευνα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Η μικροεθνογραφία είναι μια μορφή εθνογραφίας λιγότερο έντονη, κατάλληλη για μια πτυχιακή εργασία ή μια διπλωματική ενός μεταπτυχιακού. Χρησιμοποιεί την συμμετοχική παρατήρηση ως ερευνητική μέθοδο, αλλά  είναι πολύ πιο επικεντρωμένη τόσο σε επίπεδο στόχου όσο και εύρους, και πολύ πιο σύντομη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Οι μορφές συγγραφής εθνογραφικού κειμένου που προτείνει ο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n Maanen’s (198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70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Ρεαλιστικές ιστορίε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κατά τα φαινόμενα οριστικές, σταθερές και αποστασιοποιημένες αποτιμήσεις σε τρίτο πρόσωπο. Αποτελεί την κυρίαρχη μορφή εθνογραφικού κειμέν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Εξομολογητικές ιστορίε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ροσωπικές αποτιμήσεις όπου ο εθνογράφος εμπλέκεται εξ ολοκλήρου στην συλλογή δεδομένων και στη συγγραφή. Εκθέτουν εξ ολοκλήρου τις δοκιμασίες και τις δυσκολίες της εθνογραφί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Ιμπρεσιονιστικές ιστορίε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ιστορήσεις με ιδιαίτερη σημασία σε ιστορίες δραματικών γεγονότ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01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Η αναθεώρηση του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n Maanen’s (2011)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ροσθέτει τρεις ακόμα μορφέ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46280" y="1673280"/>
            <a:ext cx="7704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Δομικές ιστορίε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υνδέουν την εθνογραφία με ευρύτερα ζητήματα της κοινωνί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Μεταστρουκτουραλιστικές ιστορίε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ποτιμήσεις που υποδηλώνουν ότι η πραγματικότητα είναι επιδεκτική πολλών μορφών ερμηνεί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Στρατευμένες ιστορίε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ποτιμήσεις εμπνευσμένες από την αίσθηση ότι κάτι δεν πάει καλά και ο εθνογράφος πρέπει να πληροφορήσει τους πάντες γι’ αυτ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01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Η κατηγοριοποίηση των ειδών των εθνογραφικών κειμένων των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ler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και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04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cc"/>
                </a:solidFill>
                <a:latin typeface="Arial"/>
              </a:rPr>
              <a:t>Κλασική εθνογραφί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εαλιστικές ιστορίες που στόχο έχουν να προσφέρουν μια πειστική αποτίμηση ενός χώρο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cc"/>
                </a:solidFill>
                <a:latin typeface="Arial"/>
              </a:rPr>
              <a:t>Συμβατική εθνογραφί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ιστορίες απευθυνόμενες σε ευρύτερο κοινό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υνήθως διατυπώνουν με σαφήνεια τα ερευνητικά ερωτήματα, και η μέθοδος χρησιμοποιείται ως εργαλείο έρευνα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cc"/>
                </a:solidFill>
                <a:latin typeface="Arial"/>
              </a:rPr>
              <a:t>Μεταμοντέρνα εθνογραφί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ε βαθύτατα αναστοχαστικό τόνο, ο εθνογράφος είναι το υποκείμενο της εθνογραφίας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υτοεθνογραφία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ή πλήρως ενταγμένος στο πλαίσιο της έρευνας και στο τελικό κείμεν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cc"/>
                </a:solidFill>
                <a:latin typeface="Arial"/>
              </a:rPr>
              <a:t>Δημόσια εθνογραφί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υνήθως απευθύνεται σε ευρύ κοινό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ρκετά κατανοητή, δεν κάνει εκτενή αναφορά στην προγενέστερη βιβλιογραφία και η παρουσίαση ερευνητικών μεθόδων είναι συχνά επιφανειακή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Ο μεταβαλλόμενος χαρακτήρας της εθνογραφί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1280" y="1537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πό τα τέλη του 20ού αι. και μετά, η κατάσταση της εθνογραφίας είναι πολύ ρευστή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ναδυόμενο ενδιαφέρον για οπτική και διαδικτυακή εθνογραφί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ολύς πειραματισμός στην εθνογραφική συγγραφ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υπρόσδεκτη είναι η ανάπτυξη στην εθνογραφία «πολλών χώρω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Ωστόσο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ρακτικοί περιορισμοί χρόνου και ζητήματα «δεοντολογικού ελέγχου» περιορίζουν τις πιο παραδοσιακές μορφές εθνογραφία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αλαρές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λανθασμένες;) εφαρμογές του όρου διαβρώνουν τα επιστημονικά οφέλη και το κύρος της μεθόδο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57360" y="368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Τι είναι η εθνογραφία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01640" y="1449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ερευνητής εντάσσεται σε κάποιον κοινωνικό χώρο για μεγάλο χρονικό διάστημα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αρατηρεί τους ερευνώμενους, συχνά με συνεντεύξεις και συλλογή τεκμηρίω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τιλαμβάνεται την κουλτούρα, τους κανόνες και τις αξίες της ομάδα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οτελεί τόσο μια ερευνητική μέθοδο, όσο και το γραπτό αποτέλεσμα της έρευνα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1469880" y="298440"/>
            <a:ext cx="63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Τέσσερις μορφές εθνογραφία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26" name="Εικόνα 2" descr=""/>
          <p:cNvPicPr/>
          <p:nvPr/>
        </p:nvPicPr>
        <p:blipFill>
          <a:blip r:embed="rId1"/>
          <a:stretch/>
        </p:blipFill>
        <p:spPr>
          <a:xfrm>
            <a:off x="206280" y="1300320"/>
            <a:ext cx="877572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46280" y="9828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Φανερή έναντι συγκαλυμμένης εθνογραφ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46280" y="158436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Κλειστοί/μη δημόσιοι και ανοικτοί/δημόσιοι χώρο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νοικτός ρόλ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ι ερευνώμενοι γνωρίζουν τις προθέσεις του ερευνητ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υγκαλυμμένος ρόλ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Η ταυτότητα του ερευνητή δεν αποκαλύπτετα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Οι ερευνητές μπορεί να παίζουν διαφορετικούς ρόλους σε διαφορετικά στάδι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Ή να εναλλάσσονται σε ρόλου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0164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Ο συγκαλυμμένος ρόλος στην εθνογραφί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λεονεκτήματ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αρακάμπτει το πρόβλημα της εξασφάλισης πρόσβαση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εν υπάρχει το πρόβλημα της αντίδρασης στη μέτρησ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ειονεκτήματ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ρακτικές δυσκολίες στο καταγραφή σημειώσε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Αδυναμία εφαρμογής άλλων μεθόδ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Άγχος αποκάλυψη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εοντολογικά προβλήματα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αραπλάνηση, εν επιγνώσει συγκατάθεση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ρόσβαση σε κλειστούς χώρου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«Η απόκτηση πρόσβασης απαιτεί στρατηγικό σχεδιασμό, σκληρή δουλειά και καθαρή τύχη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Van Maanen &amp; Kolb, 198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Χρησιμοποιήστε φίλους, γνωστούς, επαφές για να σας βοηθήσου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οσπαθήστε να πετύχετε την αρωγή κάποιου προσώπου που θα λειτουργήσει ως υποστηρικτής σα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άρτε την έγκριση από «ρυθμιστές» ανώτερου επιπέδου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οσφέρετε κάτι ως αντάλλαγμα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.χ. ένα πόρισμ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Να είστε ξεκάθαροι και ειλικρινείς για τους σκοπούς σας και τις ερευνητικές σας μεθόδου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Να είστε έτοιμοι να διαπραγματευτείτ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7724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ρόσβαση σε ανοικτούς χώρου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εριφορά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’, ‘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αζήτηση ρυθμιστ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’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ι συμμετοχή σε γενικές συζητήσεις είναι μερικές από τις τεχνικές που χρησιμοποιούν οι ερευνητές για να αντιληφθούν τους κανόνες και τις αξίες των ομάδ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Όλες χρειάζονται άδεια εκ των προτέρων για την παρουσία του ερευνητ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χρήσιμο να έχει κανείς έναν αρωγ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01640" y="368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Συνεχής πρόσβασ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Όχι απλώς επαφή με την ομάδα, αλλά πρόσβαση και στους ανθρώπου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Χρειάζεται χρόνος για να κερδίσετε την εμπιστοσύνη των καχύποπτων μελ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ώστε έμφαση στις γνώσεις σας και την αντίληψή σας για τον οργανισμ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ημιουργήστε και παίξτε ένα ρόλο στην ομάδ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ιαμορφώστε ένα «μέτωπο» συμμαχίας με τους καχύποπτου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εράστε τις δοκιμασίες ικανοτήτων ή φερεγγυότητα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3:26:03Z</dcterms:created>
  <dc:creator>Kate Hilton</dc:creator>
  <dc:description/>
  <dc:language>en-US</dc:language>
  <cp:lastModifiedBy>Χρήστης των Windows</cp:lastModifiedBy>
  <cp:lastPrinted>2001-09-10T07:46:38Z</cp:lastPrinted>
  <dcterms:modified xsi:type="dcterms:W3CDTF">2018-11-26T23:36:03Z</dcterms:modified>
  <cp:revision>256</cp:revision>
  <dc:subject/>
  <dc:title>No Slide Title</dc:title>
</cp:coreProperties>
</file>