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983413" cy="10120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984000" cy="101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0"/>
          </p:nvPr>
        </p:nvSpPr>
        <p:spPr>
          <a:xfrm>
            <a:off x="395568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961920" y="758520"/>
            <a:ext cx="5060880" cy="379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1"/>
          </p:nvPr>
        </p:nvSpPr>
        <p:spPr>
          <a:xfrm>
            <a:off x="-36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2"/>
          </p:nvPr>
        </p:nvSpPr>
        <p:spPr>
          <a:xfrm>
            <a:off x="3955680" y="961200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D91B-0F63-4627-B27C-F3571BCD7D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5267-1763-4378-8A57-FB415951595F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FE5B29D3-8D51-4E01-8161-8CB623ADC47B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A940-E3E6-48E6-9036-8455EBC567C3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FDB70B1B-C280-4055-8C9B-41411BD9E652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ADFF-2CF9-408F-810E-EBEE6B432F8B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94F39BA1-74D3-41AA-95BE-9FE85EE06211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7CE7-37BB-45CE-B110-FE970EFB9335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7DEA9B9C-F254-40BE-9157-4DADA6BCA143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C21B-16AC-45C2-8A08-0C6261E2F70A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FDEF8FC6-8CAC-4712-BCF1-E1FB2215456C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038E-B6C7-4BA3-8E13-2F7D899B8C8C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9AA47039-EF6C-4F43-9DA8-50ACF972A615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C468-2949-4A62-BF2D-30FEDD3818F0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BAE491A8-961A-4A35-89C3-907426759998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D52E-A54B-4767-BBC2-99235B824B5C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1B2469BE-4C7E-4D80-B8C0-7C74DA8F4F4D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EAFF-6863-4DD5-A7AB-709A045F58E5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A3EA2800-F030-4DC7-BB18-972D951A449E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415A-1919-439F-A34E-8C156FFBF76A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4508B8BD-40DB-40B5-8B0E-DD0520583197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F3DD-FE1F-4F75-8DD7-FCD32F7C0CF6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381FCA95-696A-4390-A002-3CFD3CED07F6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22F1-C73F-4449-A7C9-A609C4978F6E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AFC28C1E-36C1-4EB5-936D-86221B0314DA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3C0A-1249-4612-9D72-E50BE3D3B7E8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1BB0377A-BB52-42B3-A480-49B2E3830456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6622-C0AB-4E8F-8E6E-5414ED3FD32E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29544FF0-A23C-4F0F-ACD5-DC566C98456B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51CF-521A-4967-BC45-7591B5683A7F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E02C6D2F-F297-4E48-8FCE-0084F906598F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7102-C6E2-49EE-96D5-E26E05C610C9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8EADB21C-7C6D-4435-9BE9-FEF697F78CFD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C894-6E68-4A1E-82B0-FF3F47387521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E2A93B69-7424-4C71-8260-821000646872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096B-4AD9-48DB-845A-F99BF1A8BB66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70A22B9B-DEA5-4A82-9889-26D59FE18C6A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1101-B938-405C-AD88-D58A50744485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893F97CB-9BCD-4F0B-B2DD-813094A969AD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A135-45E4-4FD9-A472-0771121A9D69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A106B252-9821-415E-9F78-8E994B9A4E29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AF55-E8AC-492A-BA42-5DE5CF611A30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76C0E10E-09AA-40F3-B212-E25ABAA42F78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6273-6ADC-4335-8517-9FF30D729C4E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03F0B081-C09D-449D-8CEE-15D61D86B347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EE2A-DBD0-4AE3-B9F8-4E58051D5F1B}" type="slidenum">
              <a:rPr b="0" lang="en-GB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98040" y="4806720"/>
            <a:ext cx="55882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56040" y="961236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6A4FFD67-1B69-4AEB-A222-CBBE53369B4D}" type="slidenum">
              <a:rPr b="0" lang="en-GB" sz="13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8F7DA-0856-4F90-9DFE-4C3D5E7C94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47B5E-08EC-4998-B83B-42D131A01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03D2F-F40E-4B48-9C58-F284B91B0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74C0C-0D93-4ACE-AECF-0099735E28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2C09-EDD6-4803-A84B-1C8D921CE2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4A44-3F27-4477-8C15-D039F93190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C84E-54D1-49AA-AF7B-401285BABD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DBDD-A6A9-4D6A-B288-52B4E5B4CC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A298-88DC-45DC-80CF-47C03BF9CC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33E6-0BF9-4AC7-B596-0D767577B4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9BBE-6339-481F-A420-8B5A242BAC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A8FE6-4D67-49EA-AEE1-23B35BA896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F262-B8EE-45C1-8829-0FD5EC73E1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DE47-2C4D-4A08-BC63-8F26F6155E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0E86-9B5F-4B6B-A2E9-5073C11F69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5FE7-87FF-4CFA-80C7-E68F58E9D5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030E-0AA9-4B28-9910-BA0C704269D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3E1F1-8D61-463D-BE5E-0AF6CB613B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C21A2-7E91-4F7A-B019-83C2B6546A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C39D8-16E3-42CD-9FD5-7E9D7C5BDE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7B4FB-3369-441C-A562-70219C8F50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A424E-5898-4010-916A-B5FBCD0973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7B77B-84A5-4492-82F6-E3E5DBA5D4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4529A-971D-483D-911B-6AAAB4BF0A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4810E-AFC4-46DC-9A74-C23C0A8BB8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56FF7-17AF-4280-A68C-80164C8713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B55BD-8407-458B-96CD-14654FA4AE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A71F6-DC18-450D-B51A-8D2DE4CE5F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0DA21-6CB3-4628-81A4-BD82C1937C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3941F-81BB-4591-BC3F-B0C882CCAA6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724C42-060C-41D0-94C5-2684F5742D9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0B98E6-17BF-4A7F-A04B-0BCF57A90A9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B898F7-C733-4505-8914-5C7FA5D02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F27D5-1B17-4315-89F1-3F456E00A0E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BD20BA-B3F9-4947-9CBF-658BC510427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7CDFFE-8C20-4421-9EBB-D8CA00CDCE1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6B7AD1-56DF-4032-93D0-FA1D05C308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DCE607-C165-4A2F-8D64-AB8803E5BF4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17CBCD-E229-4B1B-AEED-82B58F5CA79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E98677-CD75-4173-B3C1-1C176AFADFF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3DD60C-23D9-4413-B7BE-8457F018908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41B433-136E-4077-9E1C-08DE2FBF6B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0A9C97-17BD-4DF4-BB21-A39C38C4A37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3CE4B-B845-4B93-ACF5-0077DF6D7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23AC4-F843-4F8B-8F08-A7EE0EABE49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DB6C2-25C4-4E11-96A2-93FE37E304B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6B36F-A69F-4DA6-B6BE-2AF8BC2BDEE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C441F-796E-4C42-8769-AC93D22B25F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3A7FC-9724-43E4-A2A5-9792B46A187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79E46-1769-4BE6-A0B6-0941F85025B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232E8-B7D8-443C-9AF0-77451F9AF1F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B94CD-48C7-4D89-A1C0-62DBEEE1424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F8A57-F96C-4487-95E0-9337625CE85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7240F-5AD0-4A19-A685-55D5815498B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4442B-69BB-4BFD-B806-E44940191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848F1-1748-4666-8923-7EBBBA3384B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745A1-5B59-40EE-83E6-F808BB470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7D757-3E0C-425D-9E62-659E0360D6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70E77-DEB9-4723-AC8C-E9E16833A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E57AF-3297-4BAC-B5DB-E609B7DB8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1653-5EF0-439A-B4A6-732B31B196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>
            <a:off x="293760" y="1989000"/>
            <a:ext cx="8567640" cy="4394160"/>
          </a:xfrm>
          <a:prstGeom prst="rect">
            <a:avLst/>
          </a:prstGeom>
          <a:solidFill>
            <a:srgbClr val="0021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Line 13"/>
          <p:cNvSpPr/>
          <p:nvPr/>
        </p:nvSpPr>
        <p:spPr>
          <a:xfrm>
            <a:off x="0" y="64897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1260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2"/>
          <p:cNvSpPr/>
          <p:nvPr/>
        </p:nvSpPr>
        <p:spPr>
          <a:xfrm>
            <a:off x="306000" y="12240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Alan Bryman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41200" y="6534000"/>
            <a:ext cx="3195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© Alan Bryman, 2016. All rights reserved.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3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0A9E-75A3-48CF-9949-98ADD2D969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</a:t>
            </a: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, 5</a:t>
            </a:r>
            <a:r>
              <a:rPr b="0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ftr" idx="4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Num" idx="5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9050-C594-43E7-B47F-32C0F4B521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</a:t>
            </a: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, 5</a:t>
            </a:r>
            <a:r>
              <a:rPr b="0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ftr" idx="6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ldNum" idx="7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14F6-CEAD-4DD1-995E-2E48E30E14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-6480" y="0"/>
            <a:ext cx="9144000" cy="1230480"/>
          </a:xfrm>
          <a:prstGeom prst="rect">
            <a:avLst/>
          </a:prstGeom>
          <a:solidFill>
            <a:srgbClr val="042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71280" y="648828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Bryman: </a:t>
            </a:r>
            <a:r>
              <a:rPr b="0" i="1" lang="en-GB" sz="1400" spc="-1" strike="noStrike">
                <a:solidFill>
                  <a:srgbClr val="a6a6a6"/>
                </a:solidFill>
                <a:latin typeface="Arial"/>
              </a:rPr>
              <a:t>Social Research Methods</a:t>
            </a: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, 5</a:t>
            </a:r>
            <a:r>
              <a:rPr b="0" lang="en-GB" sz="1400" spc="-1" strike="noStrike" baseline="30000">
                <a:solidFill>
                  <a:srgbClr val="a6a6a6"/>
                </a:solidFill>
                <a:latin typeface="Arial"/>
              </a:rPr>
              <a:t>th</a:t>
            </a:r>
            <a:r>
              <a:rPr b="0" lang="en-GB" sz="1400" spc="-1" strike="noStrike">
                <a:solidFill>
                  <a:srgbClr val="a6a6a6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8" name="Picture 1" descr=""/>
          <p:cNvPicPr/>
          <p:nvPr/>
        </p:nvPicPr>
        <p:blipFill>
          <a:blip r:embed="rId2"/>
          <a:stretch/>
        </p:blipFill>
        <p:spPr>
          <a:xfrm>
            <a:off x="7613640" y="618480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ftr" idx="8"/>
          </p:nvPr>
        </p:nvSpPr>
        <p:spPr>
          <a:xfrm>
            <a:off x="3124080" y="638172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ldNum" idx="9"/>
          </p:nvPr>
        </p:nvSpPr>
        <p:spPr>
          <a:xfrm>
            <a:off x="6553080" y="638172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05F9-4E5A-40FF-A095-E29406418298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19908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11280" y="25732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ff"/>
                </a:solidFill>
                <a:latin typeface="Arial"/>
              </a:rPr>
              <a:t>Μέθοδοι Κοινωνικής Έρευν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241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Arial"/>
              </a:rPr>
              <a:t>Κεφάλαιο 2:  Στρατηγικές κοινωνικής έρευνας: Ποσοτική έρευνα και ποιοτική έρευν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06000" y="12240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42960"/>
                </a:solidFill>
                <a:latin typeface="Arial"/>
              </a:rPr>
              <a:t>Alan Bryman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Επιστημολογικά ζητήματ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848720" cy="36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ι θεωρείται (ή θα έπρεπε να θεωρείται) αποδεκτή γνώσ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πορεί ο κοινωνικός κόσμος να ερευνηθεί «επιστημονικά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σωστό να εφαρμόζουμε μεθόδους των φυσικών επιστημών στην έρευνα των κοινωνικών επιστημών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ts val="7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ετικισμός και ερμηνειοκρατί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Θετικισμό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776160" y="1585800"/>
            <a:ext cx="77155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φαρμογή των μεθόδων των φυσικών επιστημών στη μελέτη της κοινωνικής πραγματικότητα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Φαινομενισμό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νώση μέσω των αισθήσεων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Παραγωγισμό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ξιολόγηση των θεωριών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Επαγωγισμό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όμηση θεωριών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Αντικειμενικός, αξιολογικά ελεύθερος ερευνητή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ιάκριση μεταξύ επιστημονικών και κανονιστικών αποφάνσεων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9544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Ρεαλισμό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928800" y="1643040"/>
            <a:ext cx="74293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OUP Argo Light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οινά στοιχεία με το θετικισμ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Οι μέθοδοι των φυσικών επιστημών είναι κατάλληλε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Η εξωτερική πραγματικότητα υπάρχει ανεξάρτητα από τις περιγραφές που δίνουμε γι’ αυτήν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μπειρικός (αφελής;) ρεαλισμό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Στενή αντιστοιχία ανάμεσα στην πραγματικότητα και τους όρους που χρησιμοποιούνται για την περιγραφή της </a:t>
            </a: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άμεση γνώση της κοινωνικής πραγματικότητα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ριτικός ρεαλισμό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Οι θεωρητικοί όροι διαμεσολαβούν ώστε να διαμορφωθεί η γνώση μας σχετικά με την πραγματικότητα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Γενεσιουργοί μηχανισμοί που δημιουργούν γεγονότα που μπορούν να παρατηρηθούν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360" y="232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Ερμηνειοκρατί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57160" y="165276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 αντικείμενο των κοινωνικών επιστημών (οι άνθρωποι) απαιτεί τη χρήση μη θετικιστικών μεθόδ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ετικισμός εναντίον ερμηνευτική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on Wright 197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αφέρεται στη θεωρία και στη μέθοδο ερμηνείας της ανθρώπινης δράση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ρμηνευτική-φαινομενολογική παράδο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steh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ρμηνευτική κατανόηση της κοινωνικής δράση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eber 194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πόπειρα να δει κανείς τον κόσμο από τη σκοπιά του δρώντος υποκειμένο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υποκειμενική πραγματικότητα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ogdan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aylor 197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πηρεασμένη από τη συμβολική αλληλεπίδρα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0164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Οντολογικά ζητήματ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οινωνική οντολογί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φύση των κοινωνικών οντοτήτ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ι πράγματα υπάρχουν στην κοινωνική πραγματικότητ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άρχουν οι κοινωνικές οντότητες ανεξάρτητα από την αντίληψή μας για αυτέ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κοινωνική πραγματικότητα είναι κάτι έξω από τα κοινωνικά δρώντα υποκείμενα ή κατασκευάζεται από αυτά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Αντικειμενισμό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6280" y="162828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κοινωνικά φαινόμενα με τα οποία ερχόμαστε αντιμέτωποι αποτελούν εξωτερικά γεγονότ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άτομα γεννιούνται σε μια κοινωνική πραγματικότητα που προϋπήρχ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κοινωνικές δυνάμεις και οι κανόνες ασκούν πίεση στα άτομα για να συμμορφωθούν προς τις απαιτήσεις του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Για παράδειγμα, η κουλτούρα υπάρχει ανεξάρτητα  από τα κοινωνικά υποκείμενα, που κοινωνικοποιούνται στις αξίες τ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Κονστρουκτιβισμό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47360" y="164304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κοινωνικά φαινόμενα και οι σημασίες τους είναι επίτευγμα των δρώντων υποκειμέν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ιαρκής επανέλεγχ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εξηγήσεις του κοινωνικού κόσμου που προσφέρονται από τους ερευνητές είναι και αυτές κατασκευές- πολλές εναλλακτικές ερμηνείε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.χ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rauss et al (1973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συναποφασιζόμενη τάξη» σε μια ψυχιατρική κλινικ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γλώσσα και οι αναπαραστάσεις διαμορφώνουν την αντίληψή μας για την πραγματικότη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Στρατηγική έρευνας: Ποσοτική και ποιοτική έρευν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01640" y="1719360"/>
            <a:ext cx="77724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Χρήσιμο μέσο ταξινόμησης μεθόδων κοινωνικής έρευνα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ύο διακριτές ομάδες στρατηγικών έρευνα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l-GR" sz="2200" spc="-1" strike="noStrike">
                <a:solidFill>
                  <a:srgbClr val="000000"/>
                </a:solidFill>
                <a:latin typeface="Arial"/>
              </a:rPr>
              <a:t>Ποιοτική και ποσοτικ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Αυτές οι στρατηγικές διαφοροποιούνται ως προ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Τον γενικό προσανατολισμό στη διεξαγωγή της  κοινωνικής έρευνα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Τα επιστημολογικά τους θεμέλι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Την οντολογική τους βάσ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57360" y="232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οσοτική έρευν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571400"/>
            <a:ext cx="7772400" cy="44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έτρηση κοινωνικών μεταβλητ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υνήθη ερευνητικά σχέδι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επισκοπήσεις και πειράμα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ριθμητικά και στατιστικά δεδομέν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αραγωγικός έλεγχος της θεωρί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πιστημολογικός προσανατολισμός: Θετικισμό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τικειμενική θεώρηση της πραγματικότητας ως εξωτερικής ως προς τα κοινωνικά υποκείμενα (Οντολογικός προσανατολισμός: Αντικειμενισμός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22160" y="279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οσοτική έρευν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Εικόνα 1" descr=""/>
          <p:cNvPicPr/>
          <p:nvPr/>
        </p:nvPicPr>
        <p:blipFill>
          <a:blip r:embed="rId1"/>
          <a:stretch/>
        </p:blipFill>
        <p:spPr>
          <a:xfrm>
            <a:off x="885960" y="2214720"/>
            <a:ext cx="7630920" cy="449280"/>
          </a:xfrm>
          <a:prstGeom prst="rect">
            <a:avLst/>
          </a:prstGeom>
          <a:ln w="0">
            <a:noFill/>
          </a:ln>
        </p:spPr>
      </p:pic>
      <p:pic>
        <p:nvPicPr>
          <p:cNvPr id="256" name="Εικόνα 2" descr=""/>
          <p:cNvPicPr/>
          <p:nvPr/>
        </p:nvPicPr>
        <p:blipFill>
          <a:blip r:embed="rId2"/>
          <a:stretch/>
        </p:blipFill>
        <p:spPr>
          <a:xfrm>
            <a:off x="109440" y="2664000"/>
            <a:ext cx="892188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Θεωρία και έρευν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42960" y="1499760"/>
            <a:ext cx="778680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ι είδος θεωρία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εξήγηση για κάποια παρατηρούμενη κανονικότητα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ton (19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Μεγάλες θεωρίε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Πιο αφηρημένο επίπεδο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tler and Robinson (2001) –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Η έννοια του κοινωνικού κεφαλαίου του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ourdieu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ανάπλαση περιοχών του Λονδίνο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Θεωρίες μέσης κλίμακα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Χρήσιμες για την εμπειρική διερεύνηση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περιορισμένο πεδίο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19280" y="233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οιοτική έρευν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01640" y="1719360"/>
            <a:ext cx="739152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Κατανόηση των υποκειμενικών νοημάτων που έχουν διαμορφώσει τα κοινωνικά υποκείμενα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πιστημολογικός προσανατολισμός: Ερμηνειοκρατί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Συνήθεις μέθοδο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συνεντεύξεις, εθνογραφί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Τα δεδομένα είναι λέξεις, κείμενα και ιστορίε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παγωγική προσέγγισ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η θεωρία προκύπτει από τα δεδομέν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ντολογικός προσανατολισμός: Κοινωνικός κονστρουκτιβισμό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00200" y="279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Έρευνα μικτών μεθόδ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714240" y="1817640"/>
            <a:ext cx="74296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οσοτική και ποιοτική έρευν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ortinga et al (2004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φθώδης πυρετό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μπιστοσύνη του κοινού προς την κυβέρνηση και αντίληψη των σχετικών κινδύνων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ck (1992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ννοια της  «κοινωνίας της διακινδύνευσης»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TextBox 11"/>
          <p:cNvSpPr/>
          <p:nvPr/>
        </p:nvSpPr>
        <p:spPr>
          <a:xfrm>
            <a:off x="7840800" y="5735520"/>
            <a:ext cx="96840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d99"/>
                </a:solidFill>
                <a:latin typeface="Arial"/>
              </a:rPr>
              <a:t>Σελίδα </a:t>
            </a:r>
            <a:r>
              <a:rPr b="0" lang="en-GB" sz="1400" spc="-1" strike="noStrike">
                <a:solidFill>
                  <a:srgbClr val="004d99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97920"/>
            <a:ext cx="8821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Επιδράσεις στη διεξαγωγή της κοινωνικής έρευν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ξί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Προσωπικές πεποιθήσεις ή αισθήματα του ερευνητή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Όλες «οι προσχηματισμένες ιδέες πρέπει να εκριζωθούν»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Durkheim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1938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Επίδραση σε οποιοδήποτε στάδιο της έρευνα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Κάποιοι υποστηρίζουν την έρευνα που επηρεάζεται από αξίες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ecker (1967)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συμπάθεια προς τις ομάδες που βρίσκονται σε μειονεκτική θέση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Η έρευνα των φεμινιστριών ενθαρρύνει την αμοιβαιότητα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Oakley 1981)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και  τη «συνειδητή μεροληψία»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Mies 1993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11280" y="97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Επιδράσεις στη διεξαγωγή της κοινωνικής έρευν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Εικόνα 1" descr=""/>
          <p:cNvPicPr/>
          <p:nvPr/>
        </p:nvPicPr>
        <p:blipFill>
          <a:blip r:embed="rId1"/>
          <a:stretch/>
        </p:blipFill>
        <p:spPr>
          <a:xfrm>
            <a:off x="181080" y="1673280"/>
            <a:ext cx="86659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57360" y="97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Επιδράσεις στη διεξαγωγή της κοινωνικής έρευν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52600" y="16048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ρακτικά ζητήματ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Χρόνο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Κόστος/διαθέσιμη χρηματοδότησ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όση βιβλιογραφία υπάρχε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έλεγχος ή κατασκευή θεωριών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Θέμα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για ευαίσθητα ζητήματα/αποκλίνουσες συμπεριφορές μπορεί να είναι πιο κατάλληλη η ποιοτική έρευν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Η κοινωνική έρευνα είναι ένας συμβιβασμός ανάμεσα στο ιδανικό και το εφικτ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Θεωρία και έρευν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214200" y="1643040"/>
            <a:ext cx="807264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Θεωρίες μέσης κλίμακα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σε αντίθεση με τις μεγάλες θεωρίες, καλύπτουν ένα περιορισμένο πεδίο. Είτε πρόκειται για την παραβατικότητα των ανηλίκων, τις φυλετικές προκαταλήψεις, τις επιδόσεις στην εκπαίδευση είτε τις εθνοτικές σχέσει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Θεωρία της σύγκρουσης και θεωρία της επαφή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Οι θεωρίες αυτές αφορούν στις επιπτώσεις της εθνοτικής διαφορετικότητας στην ποιότητα των σχέσεων μεταξύ διαφορετικών εθνοτικών ομάδων.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οδηγούν σε αντίθετες θεωρίε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β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ughes et al. 2011; Sturgis et al. 2014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he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20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έρευνα με ταχυδρομικό ερωτηματολόγιο για τις σχέσεις των κομμωτών με τους πελάτες τους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360" y="232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Εμπειρισμό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684360" y="1557360"/>
            <a:ext cx="793728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OUP Argo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OUP Argo Light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OUP Argo Light"/>
              </a:rPr>
              <a:t>Φιλοσοφική προσέγγιση στη διατύπωση θεωριών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ποδεκτή είναι μόνο η γνώση που προέρχεται από τις αισθήσει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νδελεχής επιστημονική δοκιμασία των θεωριών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Θετικιστική επιστημολογί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υσσώρευση «γεγονότων» ως δεδομένα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φελής εμπειρισμός;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6664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Εμπειρισμό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85880" y="1889280"/>
            <a:ext cx="7643880" cy="39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Keganey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nard (1996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έρευνα για τις πόρνες και τους πελάτες τους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ffman (1963) -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έννοια του «στίγματος»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chschild (1983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έννοια της «συναισθηματικής εργασίας»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5560" y="23328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αραγωγική και επαγωγική θεωρί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360" y="1643040"/>
            <a:ext cx="739116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αραγωγική θεωρί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Θεωρί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εδομέν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Ρητή υπόθεση προς αποδοχή ή απόρριψ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οσοτική έρευν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παγωγική θεωρί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εδομέν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θεωρί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Γενικεύσιμα συμπεράσματα από την παρατήρησ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οιοτική έρευνα/εμπειρικά θεμελιωμένη θεωρί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7360" y="233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αραγωγική και επαγωγική θεωρί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Εικόνα 1" descr=""/>
          <p:cNvPicPr/>
          <p:nvPr/>
        </p:nvPicPr>
        <p:blipFill>
          <a:blip r:embed="rId1"/>
          <a:stretch/>
        </p:blipFill>
        <p:spPr>
          <a:xfrm>
            <a:off x="2585880" y="1494000"/>
            <a:ext cx="391500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01640" y="18864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αραγωγική και επαγωγική θεωρί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Εικόνα 1" descr=""/>
          <p:cNvPicPr/>
          <p:nvPr/>
        </p:nvPicPr>
        <p:blipFill>
          <a:blip r:embed="rId1"/>
          <a:stretch/>
        </p:blipFill>
        <p:spPr>
          <a:xfrm>
            <a:off x="2112840" y="1538280"/>
            <a:ext cx="495000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7360" y="189000"/>
            <a:ext cx="77724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αραγωγική και επαγωγική θεωρί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928800" y="1785960"/>
            <a:ext cx="781992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OUP Argo Light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αραγωγική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der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hlau (2014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ι μετανάστες φεύγουν από μία χώρα με ανίσχυρες στάσεις εξισωτισμού προς χώρες όπου τέτοιες στάσεις είναι  εδραιωμένε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παγωγική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’Reilly et al. (2012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ελέτη των διαπροσωπικών επαφών μεταξύ των πελατών και των υπαλλήλων πρώτης γραμμή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3:26:03Z</dcterms:created>
  <dc:creator>Kate Hilton</dc:creator>
  <dc:description/>
  <dc:language>en-US</dc:language>
  <cp:lastModifiedBy>Χρήστης των Windows</cp:lastModifiedBy>
  <cp:lastPrinted>2001-09-10T07:46:38Z</cp:lastPrinted>
  <dcterms:modified xsi:type="dcterms:W3CDTF">2018-10-20T17:33:01Z</dcterms:modified>
  <cp:revision>223</cp:revision>
  <dc:subject/>
  <dc:title>No Slide Title</dc:title>
</cp:coreProperties>
</file>