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54A0-B6BC-43BA-A7B5-233C7D3D1F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E1F-7C3E-45FC-98CE-65F6FD17F8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98F14E6-62D0-46A5-9630-C76A4DDEB20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CF74-79A3-438F-A378-23B2981ED79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3ECC971-DC52-4CF5-AEC2-93AC1706938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83CE-92F9-46D7-8700-356D87AA629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66EB5A5-EE90-48FB-96D8-BAE7A4F354B0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4CF1-3435-491D-8941-4B4198A4B92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7DB121C-945B-4DB1-AD8A-7BD7D0955EA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B8C1-2E44-42E4-8CA6-63335EFA1CB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8F9BAE5-0598-4623-A9C7-8C9942A2D81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889D-DD50-4933-B7F9-6668A4813DF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A83A05A-58FE-4999-9A95-6A50E6AEEAF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4885-EDDE-46D0-ACB0-1F2E1790BA4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8538BB8-C955-4D03-A93F-280F67D0AE3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6CB7-9A0E-4A51-990D-19461F7E3FA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69A4E9F-F990-4DF2-B9A5-66A159C8484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194-7FC2-4B1D-9484-7443482D9D4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DF7310B-0EC4-4472-A7F8-DC3B4D21AA6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5A5F-350D-420C-B852-EBAE79828D8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75D6-2CAE-43BF-B314-94E9C251A4D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E6375C2-B9E3-4F68-BD2B-26BB161F92A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F265-BD26-43A9-B05B-D8B029B97F7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31A5-BC86-4FB0-BE76-13FAF606D31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D69-1F06-44BC-8C4C-050EE5487F6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8C7EBB3-6BCD-44B8-B322-89BB9F9F690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E370-2AAC-4F19-B486-9C36DFF21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9F4B-7B00-4FA8-A5C2-7D394B0C1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C3C1-2C21-4CDF-8B18-796C29B16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8B10-F51F-43E6-9F8B-8CBDA0F7C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789B6-FA5F-46C6-B4A7-2B61E00900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EA801-1D35-40EB-9E69-89A50EF47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321F3-57BB-4CC5-9E5D-78B411C6E6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1D7E9-37E3-4D73-874B-4EF2AD5EE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7CD37-F40D-4A08-AA3E-EFB5D7C5B3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32C8F-D35A-4F28-8959-DA6F997C6A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2E9D4-81E9-43B3-951C-A3F8A4306A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BAB4-3FD8-4B00-A4F8-AB3F434A2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15C73-32C7-4A2A-8EF4-51281BE26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45E5-AAF2-47EA-8881-4CE6415024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3D514-4AD8-4614-A192-FDD2FF1074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18C77-8948-4AB0-A361-E58D71B018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40F25-B9D0-4017-B148-8ADB150E3F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BD3B-9548-414D-B711-0A28A3ABF1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BCC2-4442-4153-9278-60F4ABC6A6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98A8-F0AF-4F16-8645-3294A01411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F2C7-844A-4D52-B89D-8C387D7768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CC62-B480-4F61-B6A3-CC05ACDDF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55F2-0B51-483A-97F8-9EB7AE1F53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1583-DDF8-4C90-93E2-4A13742A8C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2370-887C-4B49-A3B6-32F5E4E8AE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9FC7-8ACB-4EC2-BCF5-1DA0F27AA4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DAA-B59A-46B4-879C-79A6916B30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C03A-5106-4831-8E82-DD0F2EC670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D2B8-06BC-49C0-B4A1-ACD5409F89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D06E-A1E3-4C3B-A360-2247A12F12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A5CA4-4BA2-4107-94BB-24954B385A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A99BD-C968-4E50-AFEF-4B07DAFC63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541D1-CD38-4A95-88E4-6D358708A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726B-B183-4B96-8A2A-7EFB8DB003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28E3B-5988-4228-A2B2-8F1259E27E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349EB-7DE3-466C-8CDE-65E0777F33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5362B-E755-4C65-9607-33F48B0538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3A1BE-DF76-42E1-AE2F-C35F14B472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2754C-024B-4B5B-99C2-14E1AF13D6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D43F8-0D29-458B-9296-54A888E672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F7508-57A2-4589-A0E7-37E065775D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35FF5-8906-4A0B-80CA-BEA0ACBD18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D957C-D676-4098-9F42-8CBDA71D2C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E9A28-11C3-4625-8FC9-F132A588B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AA2A-947A-4FFE-80D0-112A7FB884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56783-88F2-4697-803F-DD49834283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22A29-982B-45B2-B60C-1EC10F8C424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1CDE8-7A69-4900-9399-219DC44880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7A29A-F591-4741-8FFD-CA3CDD0CD8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40C0F-394A-47AD-9AF3-9B23A470E2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1B9EF-F324-4B2E-A6F3-2369DE6486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75712-FF46-4F0E-B730-7799F2F0E5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FA3C9-207B-4A1B-81D1-DE83210B0F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E0965-B51C-4E9F-A65D-A53F949E76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EAEA4-89AC-402A-8A38-52E8738D8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733C-1544-4EC5-9987-64D8BFB712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85D3A-1192-4935-AB8C-25BD9B55F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463A-5011-48E8-A3F5-C9849B9D9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4C0B-54A1-4E84-B031-3684D04A6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2B38-4CEE-432E-8190-70B7837E3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143E-6722-4A20-B40E-FFB0ED9BD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059C-7F4E-4B0D-8EF1-BBA5CA25D3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F20E-D6B2-4B06-AD11-99FC16DCE1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6DC4-6CB8-4D85-AD82-5240E363C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697F-46DD-4922-B3AE-8E1FB49313A1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20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Η συνέντευξη στην ποιοτική έρευ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ρεθίσ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4240" y="16426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συνεντευκτές δεν χρειάζεται να επαφίενται μόνο στον οδηγό συνέντευξης. Μπορούν να χρησιμοποιηθούν και άλλα υλικά για να ωθήσουν σε μια συζήτησ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Βινιέτ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εκμήρι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Φωτογραφί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Υλικά αντικείμεν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 φυσικός κόσμος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‘συνέντευξη περπατώντας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Αυτά τα ερεθίσματα μπορεί να προταθούν από τον ερευνητή ή τον ερωτώμεν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χογράφηση και απομαγνητοφών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χογράφηση και απομαγνητοφώνη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ερευνητής δεν αποσπάται από το κράτημα σημειώ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ορεί να επικεντρωθεί στο να ακούει και να ερμηνεύ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ορθώνει σφάλματα της μνήμης και εκφραστικά άλματα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eritage, 198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ιτρέπει πιο ενδελεχή εξέταση του λόγου των συνεντευξιαζόμε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σφέρει δημοσίως τα δεδομένα προς εξέτα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ήμερα διατίθενται ευρύτερα συσκευές ψηφιακής εγγραφής καλής ποιότη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ακτυλογράφος ή λογισμικό απομαγνητοφώνηση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επιλεκτική απομαγνητοφώνηση εξοικονομεί χρόν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ηλεφωνική συνέντευξ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5998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πλεονεκτήματα της διενέργειας συνέντευξης μέσω τηλεφώνου είναι πολλά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κόστος – κοστίζουν πολύ λιγότερο, μειώνεται ο χρόνος για ταξίδια κτ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ιμη για δείγματα που είναι πολύ απομακρυσμένα μεταξύ τ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ύμφωνα με κάποια ευρήματα, δεν υπάρχουν διαφορές στις απαντήσεις σε σύγκριση με τις συνεντεύξεις διά ζώση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π.χ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turg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rahan, 200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στόσο, υπάρχουν και κάποια μειονεκτήματ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ρισμένες ομάδες μπορεί να έχουν περιορισμένη πρόσβαση σε τηλεφωνική γραμμ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τηλεφωνικές συζητήσεις είναι πολύ πιο ευάλωτες στη διακοπή/λήξ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πολύ δύσκολο να παρατηρηθούν η γλώσσα του σώματος και χαρακτηριστικά του χώρ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Ζητήματα τεχνολογ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ιδικοί τύποι ποι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4240" y="16426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ιογραφικές συνεντεύξ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α υποκείμενα ανασκοπούν ολόκληρη τη ζωή του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Αναδεικνύει πώς ερμηνεύουν, κατανοούν και ορίζουν τον κοινωνικό κόσμο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Faraday &amp; Plummer, 1979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Δείχνει πώς εκτυλίχθηκαν τα γεγονότα της ζωής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Νατουραλιστικές, ερευνώμενες ή αναστοχαστικές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Plummer, 2001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έντευξη εξιστόρησης προσωπικών γεγονό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ο υποκείμενο στοχάζεται πάνω σε συγκεκριμένα γεγονότα του παρελθόντο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φεμινιστική προσέγγιση στη συνέντευ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ενδελεχής, πρόσωπο με πρόσωπο, συνέντευξη έχει καταστεί υπόδειγμα φεμινιστικής μεθόδου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Kelly et al, 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η δομημένες ή ημιδομημένες συνεντεύξεις αντί για δομημένες συνεντεύξεις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Oakley, 1981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ύμβατο για τις γυναίκες να ‘χρησιμοποιήσουν’ άλλες γυναίκ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υπάρχει ιεραρχική σχέση στην έρευ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όκριση και αμοιβαι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ιθανή ένταση μεταξύ της ερμηνείας του ερευνητή και της προοπτικής των γυναικώ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ιαδικτυακή συνέντευξ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δικτυακές προσωπικές συνεντεύξεις στην ποιοτική έρευ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χουν κειμενική φύ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αλλαγή ηλεκτρονικών μηνυμάτ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μεση ανταλλαγή μηνυμάτ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foru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ύγχρονη/σύγχρο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ερωτήσεις/απαντήσεις γίνονται μία μία, σε μικρές ομάδες, όλες μαζί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μέλει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ητήματα αξιοπιστί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mming’ 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ητήματα εγκυρότητ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ύμφωνα με τα ευρήματα, είναι μικρές οι διαφορές σε σύγκριση με τις διά ζώσης συνεντεύξει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e.g. Curasi, 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Χρήση του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ια μορφή σύγχρονης συνέντευξης με κάμερα Η/Υ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blet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artphones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οιάζει με την τηλεφωνική, αλλά γίνεται με ζωντανή κλήση βίντεο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ιατηρεί το στοιχείο της οπτικής επαφής της διά ζώσης συνέντευξ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ίναι ευέλικτ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ίναι χρήσιμη για δείγματα με μεγάλη διασπορ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ξοικονομεί χρόνο και χρήματ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νθαρρύνει τους συμμετέχοντε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Λιγότεροι προβληματισμοί για την ασφάλεια της έρευν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ν υπάρχουν πολλά στοιχεία ότι δημιουργεί πρόβλημα με το πόρισμα κτ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Ωστόσο, υπάρχουν και ορισμένοι προβληματισμοί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οιότητα σύνδε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πομαγνητοφώνηση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ν μοιάζει με την προσωπική διαδικτυακή συνέντευξη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ι ερωτώμενοι μπορεί να επηρεαστούν από τα ορατά χαρακτηριστικά του συνεντευκτ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ύμφωνα με τα ευρήματα, είναι πιθανότερο οι ερευνώμενοι να μην παρουσιάζονται σε σχέση με την πρόσωπο με πρόσωπο συνέντευξ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840" y="22320"/>
            <a:ext cx="8864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λεονεκτήματα της συμμετοχικής παρατήρησης έναντι της ποιοτικής συνέντευξ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45812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δει κανείς μέσα από τα μάτια του άλλ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αθαίνεται η ντόπια γλώσσ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εωρούνται δεδομένες ιδέες που είναι πιο πιθανό να αποκαλυφθού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όσβαση σε αποκλίνουσες ή κρυφές δραστηρι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αισθησία στο πλαίσιο δρά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ελιξία στην αντιμετώπιση του απροσδόκητ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τουραλιστική έμφ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σώματος χαρακτήρας της εμπειρ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λεονεκτήματα της ποιοτικής έρευνας έναντι της συμμετοχικής παρατήρ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0560" y="1673280"/>
            <a:ext cx="6838920" cy="36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αθαίνει κανείς για ζητήματα που είναι δύσκολο να παρατηρηθού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συνεντευξιαζόμενοι στοχάζονται πάνω σε γεγονότα του παρελθόντος/τη ζωή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δεοντολογικά πιο υποστηρίξιμ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κρότερη αντίδραση στη μέτρ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ιγότερο αδιάκριτ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χρονική έρευν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δοχικές συνεντεύξει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γαλύτερο εύρος κάλυψ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γκεκριμένη εστί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164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αφορές μεταξύ δομημένης και ποιοτικής συνέντευξ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οιοτική συνέντευξ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πολύ λιγότερο δομημένη/τυποποιημέν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ίχνει μεγαλύτερο ενδιαφέρον για την οπτική των συνεντευξιαζόμεν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θαρρύνει συνήθως τη φλυαρία ή την αλλαγή θέματ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πιο ευέλικτ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ζητά πλούσιες, λεπτομερείς απαντήσε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ύριος στόχος είναι η κατανόηση, όχι η γενίκε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η δομημένη ή ημιδομημέν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η δομημένη συνέντευ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γα, ασαφώς προσδιορισμένα θέματ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οικτού τύπου ερωτήσεις που επιτρέπουν την ελεύθερη απάντη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Έχει τα χαρακτηριστικά μιας συνομιλί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μιδομημένη συνέντευ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τάλογος συγκεκριμένων θεμάτων προς κάλυψη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δηγός συνέντευξη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υελιξία στη σειρά των ερωτήσεων και τη διατύπωσή του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οετοιμασία του οδηγού συνέντευξ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4240" y="1571760"/>
            <a:ext cx="777240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Φροντίστε να υπάρχει μια ευέλικτη, αλλά λογική σειρά θεμάτ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ερευνητικά ερωτήματα επικεντρωθείτε στο ερώτημα που θέτετε στον εαυτό σας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‘Τι ακριβώς με προβληματίζει σχετικά με αυτό;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ησιμοποιήστε κατανοητή και κατάλληλη γλώσσ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φύγετε τις καθοδηγητικές ερω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ταγράψτε πληροφορίες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οφιλ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όνομ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λικί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φύλο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θέση κτλ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619280" y="3841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ετοιμασία για τη συνέντευξ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755640" y="1719360"/>
            <a:ext cx="76327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ξοικειωθείτε με τον κόσμο του συνεντευξιαζόμενου, ώστε να μπορείτε να καταλαβαίνετε τα λεγόμενά του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ροντίστε να έχετε πειστικές απαντήσεις σε ερωτήματα που θα μπορούσε να θέσει ο συνεντευξιαζόμενος σχετικά με τους λόγους της εμπλοκής του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φοδιαστείτε με μια καλή συσκευή ηχογράφησης και ένα μικρόφωνο και δοκιμάστε τα πριν τη συνέντευξη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σπαθήστε να εξασφαλίσετε ένα ήσυχο περιβάλλον για τη συνέντευξη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άθετε πώς να είστε ένας ‘επιτυχημένος συνεντευκτής’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Kvale, 1996)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5280" y="5373720"/>
            <a:ext cx="5689440" cy="71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232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Τα κριτήρια του επιτυχημένου συνεντευκτή σύμφωνα με τον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Kv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4360" y="1557360"/>
            <a:ext cx="7083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1. Είναι γνώστης:  είναι βαθύτατα εξοικειωμένος με το ερευνητικό επίκεντρο της συνέντευξη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2. Είναι συστηματικός: εξηγεί το σκοπό της συνέντευξης, την ολοκληρώνει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Είναι σαφής: θέτει απλές, εύκολες, σύντομες ερωτήσεις, χωρίς καθόλου τεχνική ορολογία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Είναι ευγενής: αφήνει τους ανθρώπους να ολοκληρώσουν, τους δίνει χρόνο να σκεφτούν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Είναι ευαίσθητος:  ακούει προσεκτικά ό,τι του λένε και πώς του το λένε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Είναι ανοικτός: ανταποκρίνεται σε ό,τι είναι σημαντικό για τον συνεντευξιαζόμενο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. 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Έχει συγκεκριμένη στόχευση:  γνωρίζει τι θέλει να μάθει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Είναι κριτικός:  είναι έτοιμος να ελέγξει ό,τι λέγεται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. 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Έχει καλή μνήμη:  συνδέει ό,τι λέγεται με ό,τι έχει ειπωθεί προηγουμένως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Ερμηνεύει:  αποσαφηνίζει και αναπτύσσει το νόημα των προτάσεων των συνεντευξιαζόμενων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395280" y="5373720"/>
            <a:ext cx="5761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42960"/>
                </a:solidFill>
                <a:latin typeface="Arial"/>
              </a:rPr>
              <a:t>Σημείωση</a:t>
            </a:r>
            <a:r>
              <a:rPr b="0" lang="en-GB" sz="2000" spc="-1" strike="noStrike">
                <a:solidFill>
                  <a:srgbClr val="04296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42960"/>
                </a:solidFill>
                <a:latin typeface="Arial"/>
              </a:rPr>
              <a:t>Η ισορροπία και η ευαισθησία σε ζητήματα δεοντολογίας είναι στοιχεία που προστέθηκαν από τον </a:t>
            </a:r>
            <a:r>
              <a:rPr b="0" lang="en-GB" sz="2000" spc="-1" strike="noStrike">
                <a:solidFill>
                  <a:srgbClr val="042960"/>
                </a:solidFill>
                <a:latin typeface="Arial"/>
              </a:rPr>
              <a:t>Bryma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59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Κρατήστε σημειώσεις μετά τη συνέντευ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000" y="131400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Πώς πήγε η συνέντευξη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ήταν ο συνεντευξιαζόμενος ομιλητικός, συνεργάσιμος, αγχωμένος, καλοντυμένος/ατημέλητο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Πού πραγματοποιήθηκε η συνέντευξ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ιάνοιξε η συνέντευξη νέους δρόμους ενδιαφέροντο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Πώς ήταν ο χώρο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θορυβώδης/ήσυχος, με πολλούς/λίγους ανθρώπους τριγύρω, σε νέο/παλιό κτίριο, με υπολογιστέ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727280" y="982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ατύπωση ερωτήσεων για τον οδηγό συνέντευξη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6" name="Εικόνα 2" descr=""/>
          <p:cNvPicPr/>
          <p:nvPr/>
        </p:nvPicPr>
        <p:blipFill>
          <a:blip r:embed="rId1"/>
          <a:stretch/>
        </p:blipFill>
        <p:spPr>
          <a:xfrm>
            <a:off x="297000" y="1403280"/>
            <a:ext cx="83246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ίδη ερωτήσεων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(Kvale 199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3039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Εισαγωγικέ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είτε μου παρακαλώ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Συμπληρωματικές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ι εννοείτε με αυτό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Διευκρινιστικέ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α μπορούσατε να μου πείτε περισσότερα γι’ αυτό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Προδιοριστικέ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ι συνέβη μετά;’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Άμεσε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εωρείτε ότι…;’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Έμμεσε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ι πιστεύουν οι περισσότεροι άνθρωποι για…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Μεταβατικέ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α ήθελα τώρα να περάσουμε σε ένα άλλο θέμα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Σιωπ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Ερμηνευτικέ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ννοείτε ότι…’’;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27T22:05:13Z</dcterms:modified>
  <cp:revision>254</cp:revision>
  <dc:subject/>
  <dc:title>No Slide Title</dc:title>
</cp:coreProperties>
</file>