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D21B-1D3A-4BE2-A0F6-A5919A9119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E83A-58A1-46C6-9232-B8F25522B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1369-32CA-4DE2-B36A-96DF36F6D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3ABC-0C54-4057-BF3B-8A5AE30A3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2F1F-4BB3-441A-BFA8-5A24EBBFB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2853-7325-480B-A152-D3F7B1CCC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FC97-674F-4BBA-BF1F-EA6B0D1B11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A941-D988-421A-B2EE-232770D5C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0D1A-8564-49A0-85EB-40AEF6ACE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56B-4EF2-45FB-A9B6-9412085D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86B-1F63-4C3E-898C-425823F3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A13-F23E-4412-85F8-ED76EB8B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741-FAEA-436E-8841-8AFD85CF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AA49-21DA-4C7A-80E6-574DBF2C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B034-AF85-4D38-85F8-2454EEF8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5ABB-9247-4B2C-9F98-5B51BD5A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2D9C-9BD8-48CC-874C-2954FF8A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7950-B6A6-4671-BB2A-08DD2C68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09BB-8E44-492B-B367-E3FC36C2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6519-142D-404F-80B4-72373B4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64E-AB66-4597-B0FC-7DE67914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BC8D-2E13-479C-9968-2848DE06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E767-5DD1-401C-B844-82057803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7B80-5017-49C7-ABB7-D56872C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852D-1159-486C-8BC6-7DADD173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A992-3E64-44B1-B7A3-751F0216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B6E-FAE5-4AFF-A4AA-C4EA63B7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B67-F9CC-47DC-9A2D-393E78F9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F8D-5A5B-422D-BC27-40CF7DB0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8C0-3E5A-41A5-A9FB-36CDD33A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473-66A2-4027-999B-831074D5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0F9-0DA7-40B9-9A94-F72E67A8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C76-0EF8-4C3E-B3D7-CE47CA3E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EAE4-5EAD-4E31-B1FB-3E555FCE6B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1033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B732-2D24-4134-AA6D-104758A1FA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h02/02/header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h02/07/contact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h02/08/lists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h02/08/ordered_links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h02/09/list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h02/03/links.html" TargetMode="External"/><Relationship Id="rId2" Type="http://schemas.openxmlformats.org/officeDocument/2006/relationships/hyperlink" Target="file:///ch02/03/links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h02/05/picture.html" TargetMode="External"/><Relationship Id="rId2" Type="http://schemas.openxmlformats.org/officeDocument/2006/relationships/hyperlink" Target="file:///ch02/05/picture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hyperlink" Target="file:///ch03/02/table.html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TR/html5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w3schools.com/html/html5_canvas.asp" TargetMode="External"/><Relationship Id="rId2" Type="http://schemas.openxmlformats.org/officeDocument/2006/relationships/hyperlink" Target="http://www.w3schools.com/html/html5_draganddrop.asp" TargetMode="External"/><Relationship Id="rId3" Type="http://schemas.openxmlformats.org/officeDocument/2006/relationships/hyperlink" Target="http://www.w3schools.com/html/html5_geolocation.asp" TargetMode="External"/><Relationship Id="rId4" Type="http://schemas.openxmlformats.org/officeDocument/2006/relationships/hyperlink" Target="http://www.w3schools.com/html/html5_audio.asp" TargetMode="External"/><Relationship Id="rId5" Type="http://schemas.openxmlformats.org/officeDocument/2006/relationships/hyperlink" Target="http://www.w3schools.com/html/html5_video.asp" TargetMode="External"/><Relationship Id="rId6" Type="http://schemas.openxmlformats.org/officeDocument/2006/relationships/hyperlink" Target="http://www.html5gamedevelopment.com/html5-engines/2013-01-quintus-engine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ch04/01/inline.html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ch04/05/imported.html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w3schools.com/cssref/tryit.asp?filename=trycss_background-attachment" TargetMode="External"/><Relationship Id="rId2" Type="http://schemas.openxmlformats.org/officeDocument/2006/relationships/hyperlink" Target="file:///mycss/1.html" TargetMode="External"/><Relationship Id="rId3" Type="http://schemas.openxmlformats.org/officeDocument/2006/relationships/hyperlink" Target="file:///mycss/2.html" TargetMode="External"/><Relationship Id="rId4" Type="http://schemas.openxmlformats.org/officeDocument/2006/relationships/hyperlink" Target="file:///mycss/3.html" TargetMode="Externa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ch04/03/advanced.html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h02/01/mai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h02/01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3schools.com/tags/tag_body.asp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3087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εχνολογίες Διαδικτύο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υναμικές σελίδες 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22040"/>
            <a:ext cx="782172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358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- TextBox"/>
          <p:cNvSpPr/>
          <p:nvPr/>
        </p:nvSpPr>
        <p:spPr>
          <a:xfrm>
            <a:off x="539640" y="5877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ex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φές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disc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υμός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squar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οκολάτα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circl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ράσινο τσάι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l-GR" sz="2500" spc="-1" strike="noStrike">
                <a:solidFill>
                  <a:srgbClr val="000000"/>
                </a:solidFill>
                <a:latin typeface="Arial"/>
              </a:rPr>
              <a:t>Ελληνικά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1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a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I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Ask.com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ΕΡΓΑΣΤΗΡΙΟ 3</a:t>
            </a:r>
            <a:r>
              <a:rPr b="1" lang="el-GR" sz="4000" spc="-1" strike="noStrike" baseline="30000">
                <a:solidFill>
                  <a:srgbClr val="330066"/>
                </a:solidFill>
                <a:latin typeface="Arial"/>
              </a:rPr>
              <a:t>Ο</a:t>
            </a: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../03/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2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uTube Vide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Πολύ εύκολα μπορούμε να προσθέσουμε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ένα 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YouTube </a:t>
            </a: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(ή από άλλη υπηρεσία)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 video </a:t>
            </a: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στη σελίδας μα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4896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ΕΡΓΑΣΤΗΡΙΟ 2</a:t>
            </a:r>
            <a:r>
              <a:rPr b="1" lang="el-GR" sz="4000" spc="-1" strike="noStrike" baseline="30000">
                <a:solidFill>
                  <a:srgbClr val="330066"/>
                </a:solidFill>
                <a:latin typeface="Arial"/>
              </a:rPr>
              <a:t>Ο</a:t>
            </a: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ΕΡΓΑΣΤΗΡΙΟ 4</a:t>
            </a:r>
            <a:r>
              <a:rPr b="1" lang="el-GR" sz="4000" spc="-1" strike="noStrike" baseline="30000">
                <a:solidFill>
                  <a:srgbClr val="330066"/>
                </a:solidFill>
                <a:latin typeface="Arial"/>
              </a:rPr>
              <a:t>Ο</a:t>
            </a: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358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782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881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 – align   &amp;   valig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, middle, bottom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090960" y="1579680"/>
            <a:ext cx="2743200" cy="2614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2.bp.blogspot.com/-PTWVzJDWcO8/UKr4eqHjA9I/AAAAAAAAEWU/d0bDz28YmtM/s1600/How+is+9gag+shoved+to+our+faces+EXCEPT+by+the+_4031da61775587b1470b5dbde3637e7e.png"/>
          <p:cNvPicPr/>
          <p:nvPr/>
        </p:nvPicPr>
        <p:blipFill>
          <a:blip r:embed="rId2"/>
          <a:stretch/>
        </p:blipFill>
        <p:spPr>
          <a:xfrm>
            <a:off x="468360" y="5157720"/>
            <a:ext cx="1150920" cy="1084320"/>
          </a:xfrm>
          <a:prstGeom prst="rect">
            <a:avLst/>
          </a:prstGeom>
          <a:ln w="0">
            <a:noFill/>
          </a:ln>
        </p:spPr>
      </p:pic>
      <p:sp>
        <p:nvSpPr>
          <p:cNvPr id="212" name="6 - Επεξήγηση με στρογγυλεμένο παραλληλόγραμμο"/>
          <p:cNvSpPr/>
          <p:nvPr/>
        </p:nvSpPr>
        <p:spPr>
          <a:xfrm>
            <a:off x="5508720" y="3429000"/>
            <a:ext cx="2232000" cy="1079640"/>
          </a:xfrm>
          <a:prstGeom prst="wedgeRoundRectCallout">
            <a:avLst>
              <a:gd name="adj1" fmla="val -3055"/>
              <a:gd name="adj2" fmla="val 111217"/>
              <a:gd name="adj3" fmla="val 16667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άλε εισαγωγικά στη λέξη γλώσσα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7 - Επεξήγηση με σύννεφο"/>
          <p:cNvSpPr/>
          <p:nvPr/>
        </p:nvSpPr>
        <p:spPr>
          <a:xfrm>
            <a:off x="1476360" y="3573360"/>
            <a:ext cx="3311640" cy="1368360"/>
          </a:xfrm>
          <a:prstGeom prst="cloudCallout">
            <a:avLst>
              <a:gd name="adj1" fmla="val -41925"/>
              <a:gd name="adj2" fmla="val 90240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ιλάς με γρίφους γέροντα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http://1.bp.blogspot.com/-JV6QjciUEcI/USuZzwsa79I/AAAAAAAAH60/76KMz4sTAN0/s400/bat-1.png"/>
          <p:cNvPicPr/>
          <p:nvPr/>
        </p:nvPicPr>
        <p:blipFill>
          <a:blip r:embed="rId3"/>
          <a:stretch/>
        </p:blipFill>
        <p:spPr>
          <a:xfrm>
            <a:off x="6732720" y="5100480"/>
            <a:ext cx="24112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719000"/>
            <a:ext cx="82296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3 - Εικόνα" descr="11.jpg"/>
          <p:cNvPicPr/>
          <p:nvPr/>
        </p:nvPicPr>
        <p:blipFill>
          <a:blip r:embed="rId1"/>
          <a:stretch/>
        </p:blipFill>
        <p:spPr>
          <a:xfrm>
            <a:off x="5797440" y="2766960"/>
            <a:ext cx="33465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νέο, υπό συζήτηση πρότυπο για την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πική αποθήκευσ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476360" y="1468440"/>
            <a:ext cx="635004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3053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ρέχουσα επίσημη έκδοση 4.01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4 Decemb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Νέα έκδο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3C Recommendati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Octobe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w3.org/TR/html5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7020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ML5 can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ML5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.html5gamedevelopment.com/html5-engines/2013-01-quintus-eng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essmilk.com/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ΕΡΓΑΣΤΗΡΙΟ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5</a:t>
            </a:r>
            <a:r>
              <a:rPr b="1" lang="el-GR" sz="4000" spc="-1" strike="noStrike" baseline="30000">
                <a:solidFill>
                  <a:srgbClr val="330066"/>
                </a:solidFill>
                <a:latin typeface="Arial"/>
              </a:rPr>
              <a:t>Ο</a:t>
            </a: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πανάληψ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είτε την 5</a:t>
            </a:r>
            <a:r>
              <a:rPr b="0" lang="el-GR" sz="3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άσκηση σ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ΕΡΓΑΣΤΗΡΙΟ 6</a:t>
            </a:r>
            <a:r>
              <a:rPr b="1" lang="el-GR" sz="4000" spc="-1" strike="noStrike" baseline="30000">
                <a:solidFill>
                  <a:srgbClr val="330066"/>
                </a:solidFill>
                <a:latin typeface="Arial"/>
              </a:rPr>
              <a:t>Ο</a:t>
            </a: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scading Style Shee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358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θορίζουν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τη δομή και τη θέση των στοιχείων μέσα στο αρχεί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άνουν εφικτό το διαχωρισμό της εμφάνισης των δεδομένων και των ίδιων των δεδομέν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ρόπος για μορφοποίηση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or {property: value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perty2: value2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or : html tag – {body, p, h1,…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erty 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το χαρακτηριστικό που θέλουμε να αλλάξουμ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, font-family, text-al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ρόποι εισαγωγή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yle shee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line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ε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για συγκεκριμ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ήση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 “style”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έσα σ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 να καθορίσει πολλά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styles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ρίζεται μέσα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 &lt;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ηρεάζει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 οποία αναφέρ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rnal style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ημιουργία ξεχωριστού αρχεί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με το οποίο συνδέετα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Ιδανικό όταν το ίδι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shee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φαρμόζεται σε περισσότερα από ένα αντικείμε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line sty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358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This text does not have any style applied to i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style applied to it, making it 20p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color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#0000ff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 and &lt;em&gt;color&lt;/em&gt; styles applied to it, making it 20pt. and blue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ονάδα μέτρη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(point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ούται με το 1/72 της ίντ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358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background-color: #8000ff; color: white }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h1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{ font-family: arial, sans-serif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font-size: 14pt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pecial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{ color: blue 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class attribute : &lt;p class=“special”&gt;…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358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h1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CSS Text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ext properties allow you to control the appearance of text.  ...  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&lt;h1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SS Fonts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p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The Font properties allow you to change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&lt;em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 family, boldness, size, and the style&lt;/em&gt; of a tex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WYSIWYG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s Conso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Expression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b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Dreamweav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000000"/>
                </a:solidFill>
                <a:latin typeface="Arial"/>
              </a:rPr>
              <a:t>Και η λίστα δεν τελειώνει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000000"/>
                </a:solidFill>
                <a:latin typeface="Arial"/>
              </a:rPr>
              <a:t>Γιατί να μάθω «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hard way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000000"/>
                </a:solidFill>
                <a:latin typeface="Arial"/>
              </a:rPr>
              <a:t>Αξιοπιστία και καλύτερο έλεγχ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000000"/>
                </a:solidFill>
                <a:latin typeface="Arial"/>
              </a:rPr>
              <a:t>Μικρότερο μέγεθος σελίδων -&gt; ταχύτερη εμφάνι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000000"/>
                </a:solidFill>
                <a:latin typeface="Arial"/>
              </a:rPr>
              <a:t>Κατανοούμε το τι φτιάχνουμε -&gt; Ευκολότερη επίλυση προβλημάτων (π.χ. ασυμβατότητα με κάποιους brows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000000"/>
                </a:solidFill>
                <a:latin typeface="Arial"/>
              </a:rPr>
              <a:t>Ενσωμάτωση κώδικα (π.χ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H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styl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358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title&gt;External Style Sheets&lt;/titl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3000" spc="-1" strike="noStrike">
                <a:solidFill>
                  <a:srgbClr val="cc00ff"/>
                </a:solidFill>
                <a:latin typeface="Arial"/>
              </a:rPr>
              <a:t>link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rel = "stylesheet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href = "styles.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ΕΡΓΑΣΤΗΡΙΟ 7</a:t>
            </a:r>
            <a:r>
              <a:rPr b="1" lang="el-GR" sz="4000" spc="-1" strike="noStrike" baseline="30000">
                <a:solidFill>
                  <a:srgbClr val="330066"/>
                </a:solidFill>
                <a:latin typeface="Arial"/>
              </a:rPr>
              <a:t>Ο</a:t>
            </a: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00080" y="1928880"/>
            <a:ext cx="702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και εικόν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body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background: #D4FFD4 url("img_tree.png") no-repeat right top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margin-right: 200px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w3schools.com/cssref/tryit.asp?filename=trycss_background-attachment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Προσοχή στο τι εικόνες επιλέγουμ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Παράδειγμα 1</a:t>
            </a: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el-GR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Παράδειγμα 2</a:t>
            </a: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el-GR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Παράδειγμα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Κείμεν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358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a  { text-decoration: none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a:hov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lor: red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ackground-color: #ccffcc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i 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color: r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-weight: bold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{ margin-left: 7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ul 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rgin-left: 1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x (pixel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σχετικό για κάθε σύστ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Κείμεν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ext-align: center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ext-align: righ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ext-align: justif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ext-decoration: overlin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ext-decoration: line-through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ext-decoration: underlin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ext-indent: 50px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Παράδειγμ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-style-type: circl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-style-type: squar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-style-type: upper-roma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-style-type: lower-alph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-style-image: url('sqpurple.gif'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ράδειγμα 1, Παράδειγμα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able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{ border-collapse: collapse;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able, td, th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{ border: 1px solid black;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h { background-color: green; color: white;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able { width: 100%;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h { height: 50px;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ράδειγ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ΕΡΓΑΣΤΗΡΙΟ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8</a:t>
            </a:r>
            <a:r>
              <a:rPr b="1" lang="el-GR" sz="4000" spc="-1" strike="noStrike" baseline="30000">
                <a:solidFill>
                  <a:srgbClr val="330066"/>
                </a:solidFill>
                <a:latin typeface="Arial"/>
              </a:rPr>
              <a:t>Ο</a:t>
            </a: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r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Εφαρμόζονται σε πολλά 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html ta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border-style: soli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border-style: dotte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border-color: #98bf21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border-radius: 25px; (CSS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Τι είναι αυτό το 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&lt;div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Arial"/>
              </a:rPr>
              <a:t>Παράδειγμ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!DOCTYPE HTML PUBLIC "-//W3C//DTD HTML 4.01//EN"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Box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42880" y="2014560"/>
            <a:ext cx="80582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Flo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θορίζει την τοποθέτηση ενός στοιχείου σε σχέση με ένα άλλ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oat: righ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oat: lef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ράδειγμα 1, Παράδειγμα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s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και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o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ε την ετικέτ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div&gt;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δημιουργούμε απλά μια περιοχή μέσα σ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κομμάτι το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μπορεί να περιέχει οποιοδήποτ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t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ε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η μορφοποιούμ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css-tricks.com/all-about-floats/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ράδειγμα 1, Παράδειγμα 2, Παράδειγμα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ΕΡΓΑΣΤΗΡΙΟ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1" lang="el-GR" sz="4000" spc="-1" strike="noStrike" baseline="30000">
                <a:solidFill>
                  <a:srgbClr val="330066"/>
                </a:solidFill>
                <a:latin typeface="Arial"/>
              </a:rPr>
              <a:t>Ο</a:t>
            </a:r>
            <a:r>
              <a:rPr b="1" lang="el-GR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Visi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πορούμε να κρύψουμε ή να «εξαφανίσουμε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όποι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στοιχείο θέλουμ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lay: non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lay: hidde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lay: inlin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ράδειγμα 1, Παράδειγμα 2, Παράδειγμα 3, Παράδειγμα 4, Παράδειγμα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vaScrip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457200" y="1719360"/>
            <a:ext cx="8458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μί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ipting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«Ελαφριά» γλώσσα προγραμματισμο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οιάζει αρκετά με τ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πορεί να προστεθεί σε έν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«Εκτελείται» από το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εν σχετίζεται με τ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αλλά έχει ομοιότητες με αυτ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άρα πολλές δυνατότητες, θα δούμε απλά παραδείγ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η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vaScrip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ικρά κομμάτια κώδικα σε έν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. εμφάνιση σειράς αριθμών (1, 2, …, 1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μφάνιση «δυναμικού» περιεχο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ντιλαμβάνεται και αντιδρά σε γεγονότ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λληλεπίδραση με τον χρήστ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. ο χρήστης επιλέγει 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λλάζει τα περιεχόμενα σ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3808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σαγωγή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ipting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457200" y="1600200"/>
            <a:ext cx="83059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3900" spc="-1" strike="noStrike">
                <a:solidFill>
                  <a:srgbClr val="000000"/>
                </a:solidFill>
                <a:latin typeface="Arial"/>
              </a:rPr>
              <a:t>έσα στο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l-GR" sz="3900" spc="-1" strike="noStrike">
                <a:solidFill>
                  <a:srgbClr val="000000"/>
                </a:solidFill>
                <a:latin typeface="Arial"/>
              </a:rPr>
              <a:t> ή στο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body </a:t>
            </a:r>
            <a:r>
              <a:rPr b="0" lang="el-GR" sz="3900" spc="-1" strike="noStrike">
                <a:solidFill>
                  <a:srgbClr val="000000"/>
                </a:solidFill>
                <a:latin typeface="Arial"/>
              </a:rPr>
              <a:t>βάζω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&lt;scrip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330066"/>
                </a:solidFill>
                <a:latin typeface="Arial"/>
              </a:rPr>
              <a:t>Εντολές 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JavaScrip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&lt;/script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λλαγή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&amp;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800440" cy="39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819000" y="2421000"/>
            <a:ext cx="8001000" cy="3152880"/>
          </a:xfrm>
          <a:prstGeom prst="rect">
            <a:avLst/>
          </a:prstGeom>
          <a:ln w="0">
            <a:noFill/>
          </a:ln>
        </p:spPr>
      </p:pic>
      <p:sp>
        <p:nvSpPr>
          <p:cNvPr id="284" name="5 - Δεξιό βέλος"/>
          <p:cNvSpPr/>
          <p:nvPr/>
        </p:nvSpPr>
        <p:spPr>
          <a:xfrm>
            <a:off x="179280" y="5038560"/>
            <a:ext cx="647640" cy="289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ουμπί και εμφάνισ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υναμική αλλαγή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λληλεπίδραση με το ποντίκ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υναμική απόκρυψη στοιχεί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λλαγή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κώδικ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λλαγή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ribute 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E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ορισμός του τίτλου της σελίδα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καθορισμός τη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ipting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λώσσ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καθορισμ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yl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ορισμός της βάσης αρχής για τον καθορισμό των σχετικών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καθορισμός ζεύγους πληροφοριών (όνομα/τιμή)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εισαγωγή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ορισμός σχέσεων με άλλα κείμεν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3087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tefanis@teimes.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358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link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nk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ο χρώμα των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ης εικόνας που θα εμφανίζεται στο φόντο της σελίδ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blue text=orang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61960" y="1638360"/>
            <a:ext cx="8020080" cy="3581280"/>
          </a:xfrm>
          <a:prstGeom prst="rect">
            <a:avLst/>
          </a:prstGeom>
          <a:ln w="0">
            <a:noFill/>
          </a:ln>
        </p:spPr>
      </p:pic>
      <p:sp>
        <p:nvSpPr>
          <p:cNvPr id="171" name="3 - TextBox"/>
          <p:cNvSpPr/>
          <p:nvPr/>
        </p:nvSpPr>
        <p:spPr>
          <a:xfrm>
            <a:off x="684360" y="5445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w3schools.com/tags/tag_body.asp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ά χρήσιμ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μ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και παραδείγματα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379520"/>
          <a:ext cx="4038480" cy="4857840"/>
        </p:xfrm>
        <a:graphic>
          <a:graphicData uri="http://schemas.openxmlformats.org/drawingml/2006/table">
            <a:tbl>
              <a:tblPr/>
              <a:tblGrid>
                <a:gridCol w="674640"/>
                <a:gridCol w="671400"/>
                <a:gridCol w="675000"/>
                <a:gridCol w="672840"/>
                <a:gridCol w="687600"/>
                <a:gridCol w="657000"/>
              </a:tblGrid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648320" y="1379520"/>
          <a:ext cx="4038480" cy="4857840"/>
        </p:xfrm>
        <a:graphic>
          <a:graphicData uri="http://schemas.openxmlformats.org/drawingml/2006/table">
            <a:tbl>
              <a:tblPr/>
              <a:tblGrid>
                <a:gridCol w="674640"/>
                <a:gridCol w="671400"/>
                <a:gridCol w="674640"/>
                <a:gridCol w="673200"/>
                <a:gridCol w="687240"/>
                <a:gridCol w="657360"/>
              </a:tblGrid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312"/>
          <p:cNvSpPr/>
          <p:nvPr/>
        </p:nvSpPr>
        <p:spPr>
          <a:xfrm>
            <a:off x="0" y="630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ΣΤΕΦΑΝΗΣ ΒΑΣΙΛΕΙΟΣ</cp:lastModifiedBy>
  <dcterms:modified xsi:type="dcterms:W3CDTF">2019-12-18T08:19:48Z</dcterms:modified>
  <cp:revision>431</cp:revision>
  <dc:subject/>
  <dc:title>Τεχνολογίες Διαδικτύου</dc:title>
</cp:coreProperties>
</file>