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EBD-0ADC-4A78-AE1B-2A3249AE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DB9-FFE7-4990-A0F3-20671CFD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3CF-453F-4260-8E23-9DCEDD42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F1D-9D83-4FFC-A724-CCBE7F26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4CA5-22A8-4760-AF27-004E2AB7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90DF-1E8C-4B59-A3CF-E52B5D60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1617-83BB-4751-A092-49927BC6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A25C-F71C-48FD-9213-031BB72B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6352-4A51-42E2-94A2-490DB027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7CF0-17C3-42E2-BCE2-353D8134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E6C9-FEBC-4480-ADA5-8113FE6D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589-EA17-48CE-AEBD-D6340051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C617-59BA-42B2-A6AF-7291F923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02B9-4922-48DC-B384-100D474C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9ADA-06D2-4A02-A7C0-63C98999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8E34-EAE3-4363-A1E6-41599711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6AFA-C14E-4963-8547-693A235C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6B0-955E-438F-998D-E1C827BC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804-452D-4F18-9700-1385389E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5AF-71A1-4131-A93F-D343E669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EEA-78CB-4492-8744-6EE219F7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6C7-EC13-4EE3-B1FC-50587788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335-99B3-4E42-9487-2BE5A3BA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8C0-2E40-459B-80F1-9C382AAD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8105-7A46-4A01-8C72-C41679E1FE94}" type="datetime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097184D-82CF-4517-92BD-5B9E4E113A4E}" type="datetime10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D1FC-5E26-4A7F-A9E0-5DB32848CFC0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6FCE-2849-42DA-A34B-8DE3A11C8E3B}" type="datetime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6F2A53D-F283-4D53-8983-E890235E6F97}" type="datetime10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25E3-8F57-4908-A7BC-FA9CAEAEFEB3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6666"/>
                </a:solidFill>
                <a:latin typeface="Arial"/>
              </a:rPr>
              <a:t>Εισαγωγή στο Γραμμικό Προγραμματισμ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Χειμερινό Εξάμηνο 2017-201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C0A1-7F32-457F-A3A2-F050363059B4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166C40F5-4C22-443C-A1FE-CD9EFD0298B8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44D1-9ED9-4CE8-A63B-9C367AB6E534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Verdana"/>
              </a:rPr>
              <a:t>Σκιώδης τιμ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Η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βελτίωσ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ου προκύπτει στην αντικειμενική συνάρτηση, όταν το δεξιό μέλος του περιορισμού αυξηθεί κατά μία μονάδ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ε ένα πρόβλημα μεγιστοποίησης η σκιώδης τιμή ενός περιορισμού (του αντίστοιχου πόρου) συμπίπτει με τη δυϊκή τιμ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4ECF-E1D4-41C5-9C86-74F65E5BAA7B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D4C58D14-5D67-4CBF-91DA-E9C570052988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EE14-7876-4F1E-A255-FAA549491236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Όλα αυτά ισχύουν αν οι μεταβολές του δεξιού μέλους ενός πόρο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εριορίζονται μέσα στο εύρος εφικτότητα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Αν το βέλτιστο σημείο ξεφύγει από την αρχική εφικτή περιοχή ο ρυθμός μεταβολής παύει να είναι ίσος με αυτόν που βρέθηκε πρι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Verdana"/>
              </a:rPr>
              <a:t>Ελεύθερο αγαθ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Ένας πόρος για τον οποίο η σκιώδης τιμή γίνεται ίση με 0, με αποτέλεσμα να μην υπάρχει καμία συνεισφορά στο κέρδος από επιπλέον μονάδες του συγκεκριμένου πόρο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4675-F0BF-45EC-8D6C-752342B902BD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3E5951E0-D62B-40EF-8881-CAC82A8DD529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CC5B-DE5B-44E4-AF88-5349383BB803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Έστω ότι ο 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ός γίνετα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+ 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≤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Επιχ_Έρευνα_26"/>
          <p:cNvPicPr/>
          <p:nvPr/>
        </p:nvPicPr>
        <p:blipFill>
          <a:blip r:embed="rId1"/>
          <a:stretch/>
        </p:blipFill>
        <p:spPr>
          <a:xfrm>
            <a:off x="838080" y="2819520"/>
            <a:ext cx="7486920" cy="33271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1066680" y="2819520"/>
            <a:ext cx="4572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96080" y="2743200"/>
            <a:ext cx="4572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219320" y="2819520"/>
            <a:ext cx="7162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8CED-3B7F-4D64-A7BE-1FEACEADD691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C56889B5-968E-410C-B981-AEB63B381E88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2F24-627A-426B-8B7C-30FC5B3800DD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 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ός δεν είναι πια δεσμευτικό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ι δεσμευτικοί περιορισμοί είναι τώρα ο 2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και ο 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Για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650 έχουμε το σημείο 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4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,0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z=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1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2E72-F01F-4E1E-A413-98E73AF0CEBB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A4C18E42-B43F-4CD1-9451-7F29B0C430E1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0CEE-707F-451E-A1E7-AE8FF76D00C7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Αναλυτικός προσδιορισμός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εύρους εφικτότητας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α όρια για το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βρίσκονται από τα σημεία για τα οποία διατηρείται η ίδια βάσ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+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=b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19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 σημείο: </a:t>
            </a:r>
            <a:r>
              <a:rPr b="1" lang="el-GR" sz="1900" spc="-1" strike="noStrike">
                <a:solidFill>
                  <a:srgbClr val="000000"/>
                </a:solidFill>
                <a:latin typeface="Verdana"/>
              </a:rPr>
              <a:t>Ε(0,1000/3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0+1000/3=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=1000/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19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 σημείο: </a:t>
            </a:r>
            <a:r>
              <a:rPr b="1" lang="el-GR" sz="1900" spc="-1" strike="noStrike">
                <a:solidFill>
                  <a:srgbClr val="000000"/>
                </a:solidFill>
                <a:latin typeface="Verdana"/>
              </a:rPr>
              <a:t>Ζ(400,200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00+200=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=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Verdana"/>
              </a:rPr>
              <a:t>Άρ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000/3 ≤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≤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6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813C-F51C-4C09-8BC7-76F708207632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C14717F8-FE82-4F49-9DB9-BE832D82B48F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8598-EC15-417D-A897-2CEF119742C6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Επιχ_Έρευνα_25"/>
          <p:cNvPicPr/>
          <p:nvPr/>
        </p:nvPicPr>
        <p:blipFill>
          <a:blip r:embed="rId1"/>
          <a:stretch/>
        </p:blipFill>
        <p:spPr>
          <a:xfrm>
            <a:off x="1523880" y="1655640"/>
            <a:ext cx="6324840" cy="47451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1219320" y="1600200"/>
            <a:ext cx="1676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9449-B345-48F1-9C5E-0DE5342FB1E7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7F7430A0-FE8F-4907-B2B7-50BBA00F034C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EA99-2744-4743-A1E5-E215213E7D09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Η πιθανή μεταβολή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ισούται μ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000/3 ≤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+ D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≤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600 </a:t>
            </a:r>
            <a:r>
              <a:rPr b="0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000/3 ≤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50 + D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≤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600 </a:t>
            </a:r>
            <a:r>
              <a:rPr b="0" lang="el-GR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650</a:t>
            </a:r>
            <a:r>
              <a:rPr b="1" lang="el-GR" sz="2100" spc="-1" strike="noStrike">
                <a:solidFill>
                  <a:srgbClr val="000000"/>
                </a:solidFill>
                <a:latin typeface="Verdana"/>
              </a:rPr>
              <a:t>/3 ≤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1" lang="el-GR" sz="2100" spc="-1" strike="noStrike">
                <a:solidFill>
                  <a:srgbClr val="000000"/>
                </a:solidFill>
                <a:latin typeface="Verdana"/>
              </a:rPr>
              <a:t>≤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5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Για αυξομειώσεις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μέσα στα παραπάνω πλαίσια το σημείο τομής του 1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του 2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ού παραμένει η βέλτιστη λύσ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2963-ABB2-4727-80DF-2DAA50B7D9A4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AB8F1C03-D218-46B5-9CFC-7CA9E60E66B5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6D81-F494-4F7C-BA7B-EE87381FE9D3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ε ένα πρόβλημα μεγιστοποίησης, όσο η τιμή του δεξιού μέλους ενός περιορισμού κινείται μέσα στο διάστημα εφικτότητας, η σκιώδης τιμή παραμένει σταθερ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Νέα τιμή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= προηγούμενη τιμή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 +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σκιώδης τιμή ∙ (νέα τιμή δεξιού μέλους – προηγούμενη τιμή δεξιού μέλου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89AD-6EDC-4C90-8642-634E58565845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15E6CB6F-7D2D-4144-BA72-EA0CC1F3588E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1399-A9D3-4CAE-A8A0-B9DA5D30D015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Μη 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Έστω ο 4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ός του προβλήματος (που είναι μη δεσμευτικό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Τα όρια εφικτότητας του δεξιού μέλους του 4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ού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είνα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325 ≤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&lt;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Επιχ_Έρευνα_27"/>
          <p:cNvPicPr/>
          <p:nvPr/>
        </p:nvPicPr>
        <p:blipFill>
          <a:blip r:embed="rId1"/>
          <a:stretch/>
        </p:blipFill>
        <p:spPr>
          <a:xfrm>
            <a:off x="0" y="3809880"/>
            <a:ext cx="4608360" cy="2414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Επιχ_Έρευνα_28"/>
          <p:cNvPicPr/>
          <p:nvPr/>
        </p:nvPicPr>
        <p:blipFill>
          <a:blip r:embed="rId2"/>
          <a:stretch/>
        </p:blipFill>
        <p:spPr>
          <a:xfrm>
            <a:off x="4462560" y="3809880"/>
            <a:ext cx="4681440" cy="2487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0" y="3505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Δ(325,22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1447920" y="380988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E373-4149-4171-934B-5677FBDAF71F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52CCDFA0-0E07-4C6C-87E2-E0F15B916D06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5FA1-8B4F-46F2-BF6E-478F3C0550AB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Μη 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Όταν ένας περιορισμός είναι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δεσμευτικός 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ντίστοιχη τιμή της χαλαρής μεταβλητής είναι μηδενική (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Verdana"/>
              </a:rPr>
              <a:t>μη βασική μεταβλητή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) και η σκιώδης τιμή του περιορισμού (η οριακή αξία του πόρου) είναι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Verdana"/>
              </a:rPr>
              <a:t>μη μηδενικ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Όταν ένας περιορισμός είναι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μη δεσμευτικός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η αντίστοιχη τιμή της χαλαρής μεταβλητής είναι μη μηδενική (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Verdana"/>
              </a:rPr>
              <a:t>βασική μεταβλητή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) και η σκιώδης τιμή του περιορισμού (η οριακή αξία του πόρου) είναι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Verdana"/>
              </a:rPr>
              <a:t>μηδενικ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F7E6-8692-4106-B1C1-D7C006A41C1D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C9746296-B306-49F0-AB17-901B075AA7D7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6F40-05B1-44D0-A894-AD7C553B6993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Πρόβλημα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Βιομηχανική επιχείρηση γαλακτοκομικών προϊόντω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Συνολικό μοντέλ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Maximize z = 150x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+ 200x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l-GR" sz="1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(αντικειμενική συνάρτηση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με περιορισμούς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+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≤ 550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(γάλα σε λίτρα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+ 3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≤ 1000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(λεπτά εργασία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+ 5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≤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(λεπτά παστερίωσης και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ψύξη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≤ 400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(ζήτηση Προϊόντος 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≥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0 (μη αρνητικές τιμέ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BAE9-34D7-457D-A388-671F77647326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29FD4088-836C-4C85-86AA-2D6296C0916C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11E8-1E96-405D-970A-0AF6BF5B682A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Συνολικό μοντέλο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nimize z = 1,5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2,5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με περιορισμού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,3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+ 0,2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≥ 15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 (γυναίκες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,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+ 0,2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≥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9 (άντρες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≥ </a:t>
            </a: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 (βραδινές προβολές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≥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6FFF-7ED9-478B-B1CF-40B51D9FD95F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DB6E4321-D912-4835-97F1-E27A5B0800B1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8ED4-9D39-40B3-A5A9-CC6F9F2EB14E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Τυποποιημένη μορφή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nimize z = 1,5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2,5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+ 0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0e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+ 0e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με περιορισμού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,3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+ 0,2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= 15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 (γυναίκες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,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05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+ 0,2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9 (άντρες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33 (βραδινές προβολές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≥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9CE5-B3AA-43AB-BD96-2C6D21416993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5204D669-2BA4-49AC-BA4C-88EC3C5B33DA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AAEF-C0F8-41C5-BCA5-F96A3BB42ED9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4" descr="Επιχ_Έρευνα_29"/>
          <p:cNvPicPr/>
          <p:nvPr/>
        </p:nvPicPr>
        <p:blipFill>
          <a:blip r:embed="rId1"/>
          <a:stretch/>
        </p:blipFill>
        <p:spPr>
          <a:xfrm>
            <a:off x="1447920" y="1981080"/>
            <a:ext cx="6995880" cy="38484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5"/>
          <p:cNvSpPr/>
          <p:nvPr/>
        </p:nvSpPr>
        <p:spPr>
          <a:xfrm>
            <a:off x="1143000" y="1676520"/>
            <a:ext cx="5486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3581280" y="2558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el-GR" sz="1800" spc="-1" strike="noStrike" baseline="30000">
                <a:solidFill>
                  <a:srgbClr val="ff0000"/>
                </a:solidFill>
                <a:latin typeface="Verdana"/>
              </a:rPr>
              <a:t>ος</a:t>
            </a: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 περιορισμό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6234120" y="3352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el-GR" sz="1800" spc="-1" strike="noStrike" baseline="30000">
                <a:solidFill>
                  <a:srgbClr val="ff0000"/>
                </a:solidFill>
                <a:latin typeface="Verdana"/>
              </a:rPr>
              <a:t>ος</a:t>
            </a: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 περιορισμό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4" name="Ευθύγραμμο βέλος σύνδεσης 3"/>
          <p:cNvCxnSpPr/>
          <p:nvPr/>
        </p:nvCxnSpPr>
        <p:spPr>
          <a:xfrm flipH="1">
            <a:off x="3428640" y="2927160"/>
            <a:ext cx="457920" cy="425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5" name="Ευθύγραμμο βέλος σύνδεσης 12"/>
          <p:cNvCxnSpPr/>
          <p:nvPr/>
        </p:nvCxnSpPr>
        <p:spPr>
          <a:xfrm flipH="1">
            <a:off x="6005160" y="3692520"/>
            <a:ext cx="457920" cy="426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1A5A-CBDE-4238-A28D-D9ACBAEDD137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2961C44B-0CD3-44E4-8B5E-5F58FE5D6583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19F1-9AF4-4EDD-BBB8-FD754F01138E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39680" y="1803240"/>
          <a:ext cx="7875720" cy="4064040"/>
        </p:xfrm>
        <a:graphic>
          <a:graphicData uri="http://schemas.openxmlformats.org/drawingml/2006/table">
            <a:tbl>
              <a:tblPr/>
              <a:tblGrid>
                <a:gridCol w="1228680"/>
                <a:gridCol w="669960"/>
                <a:gridCol w="644760"/>
                <a:gridCol w="716040"/>
                <a:gridCol w="877680"/>
                <a:gridCol w="766800"/>
                <a:gridCol w="29718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Ακραίο σημεί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Βασική λύ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Σχόλι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Εφικτή, βέλτιστ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,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η 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0,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η 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η 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η 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η 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η εφικτ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F7EE-BDE3-4B62-8014-C145EB6F81E5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3D71F345-C964-4167-BFF3-2E387715E76D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5EF9-2E67-426D-A209-778EB04EB780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αντικειμενικών συντελεστώ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Η αντικειμενική συνάρτηση έχει την εξής μορφή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 =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+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(-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/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+(1/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z </a:t>
            </a:r>
            <a:r>
              <a:rPr b="0" lang="el-GR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(-1,5/2,5)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+(1/2,5)z </a:t>
            </a:r>
            <a:r>
              <a:rPr b="0" lang="el-GR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(-3/5)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+(1/2,5)z </a:t>
            </a:r>
            <a:r>
              <a:rPr b="0" lang="el-GR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κλίση της είναι λ=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-3/5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4DDE-447D-4461-9B74-59110A1D5027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A7BA3A12-297A-4F34-BCE9-0D99E3743723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87A5-B37B-42BD-BAB7-2F626D5A1F34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ντικειμενική συνάρτηση μπορεί να περιστραφεί χωρίς να αλλάξει το σημείο της βέλτιστης λύσης προς τα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Verdana"/>
              </a:rPr>
              <a:t>δεξιά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μέχρι την ευθεία του 1</a:t>
            </a:r>
            <a:r>
              <a:rPr b="0" lang="el-GR" sz="25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περιορισμού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0,3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+ 0,2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1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ντικειμενική συνάρτηση μπορεί να περιστραφεί χωρίς να αλλάξει το σημείο της βέλτιστης λύσης προς τα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Verdana"/>
              </a:rPr>
              <a:t>αριστερά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μέχρι την ευθεία του 3</a:t>
            </a:r>
            <a:r>
              <a:rPr b="0" lang="el-GR" sz="25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περιορισμού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AB8B-76EE-4E58-834B-E6116AD97CAA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A99258CF-11DD-4893-9F17-300796B99DE0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37B3-BB83-4D4B-9929-880EC69A5FF7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9320" y="182736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Άρα το σημείο Α(28,33) παραμένει βέλτιστο για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-(3/2) ≤ -(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) ≤ 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Για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1,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-(3/2) ≤ -(1,5/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) ≤ 0 </a:t>
            </a:r>
            <a:r>
              <a:rPr b="0" lang="el-GR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1 ≤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l-GR" sz="25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≤ ∞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Για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=2,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-(3/2) ≤ -(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/2,5) ≤ 0 </a:t>
            </a:r>
            <a:r>
              <a:rPr b="0" lang="el-GR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0 ≤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l-GR" sz="25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≤ 3,7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9C1D-6DEF-47E5-A17E-D8D8D0D7D018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4BD8FE3F-B64B-4B95-913C-3E67F2FB1F90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0862-657D-4769-AFC4-37B38AB70145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82736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Τι θα συμβεί αν το κόστος προβολής στη βραδινή ζώνη γίνει μικρότερο από 100.000€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Το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= 0 και το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ξεκινάει από 75 και τείνει στο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∞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Επειδή το κόστος των βραδινών είναι αρκετά χαμηλότερο από το κόστος των πρωινών προβολών η λύση αποτελείται μόνο από βραδινές προβολέ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Γιατί δεν αλλάζει το άριστο διαφημιστικό σχέδιο, όταν το κόστος προβολής στη βραδινή ζώνη τείνει στο άπειρο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Επειδή το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έχει παγιωθεί στο 33 λόγω του 3</a:t>
            </a:r>
            <a:r>
              <a:rPr b="0" lang="el-GR" sz="21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 περιορισμο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Δε συμφέρει να έχουμε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100" spc="-1" strike="noStrike">
                <a:solidFill>
                  <a:srgbClr val="000000"/>
                </a:solidFill>
                <a:latin typeface="Verdana"/>
              </a:rPr>
              <a:t> μεγαλύτερο του 33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60B6-7CF0-42F8-88C2-5F28ABD01E54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7CDC78C4-E02E-4514-982D-AAD0E4137FEA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CAE6-7C92-447C-8062-0FC2FC861FE6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η δεσμευτικό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Επιχ_Έρευνα_29"/>
          <p:cNvPicPr/>
          <p:nvPr/>
        </p:nvPicPr>
        <p:blipFill>
          <a:blip r:embed="rId1"/>
          <a:stretch/>
        </p:blipFill>
        <p:spPr>
          <a:xfrm>
            <a:off x="1905120" y="2925720"/>
            <a:ext cx="6386400" cy="35132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1828800" y="2895480"/>
            <a:ext cx="4572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4876920" y="43131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el-GR" sz="1800" spc="-1" strike="noStrike" baseline="30000">
                <a:solidFill>
                  <a:srgbClr val="ff0000"/>
                </a:solidFill>
                <a:latin typeface="Verdana"/>
              </a:rPr>
              <a:t>ος</a:t>
            </a:r>
            <a:r>
              <a:rPr b="1" lang="el-GR" sz="1800" spc="-1" strike="noStrike">
                <a:solidFill>
                  <a:srgbClr val="ff0000"/>
                </a:solidFill>
                <a:latin typeface="Verdana"/>
              </a:rPr>
              <a:t> περιορισμό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9" name="Ευθύγραμμο βέλος σύνδεσης 9"/>
          <p:cNvCxnSpPr/>
          <p:nvPr/>
        </p:nvCxnSpPr>
        <p:spPr>
          <a:xfrm flipH="1">
            <a:off x="4723920" y="4681440"/>
            <a:ext cx="457920" cy="426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4897-ED54-489C-91F8-AB9E54AA10AF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DA13B23-DB2E-4791-AF36-DB8AB5AF84A9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8CB6-F60C-4248-90B5-16274E922A89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9528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η δεσμευτικό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μείωση του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δεν αλλάζει το βέλτιστο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ύξηση του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μόλις περάσει το σημείο Α(28,33) κάνει τον περιορισμό δεσμευτικό και αλλάζει την εφικτή περιοχ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4A97-5CE7-4FF1-BBD5-171BFF11C6DA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15CFA832-A6FB-4881-BF10-DD7527E52B27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3020-FFFE-4219-88B8-15EF523FD42C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88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ι δεσμευτικοί περιορισμοί σε αυτό το πρόβλημα είναι ο 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και ο 2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Θα διερευνήσουμε τι γίνεται εάν αρχίσει να μεταβάλλεται το δεξιό μέλος του 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ού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4329-7658-4E8E-A964-84119FEA1D24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B9B227E1-F86B-468A-AF34-5D3860A352F1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F355-18AC-40B7-8896-5A99BA709869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528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η δεσμευτικός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Άρα αντικαθιστώντας στο 2</a:t>
            </a:r>
            <a:r>
              <a:rPr b="0" lang="el-GR" sz="25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περιορισμό τις συντεταγμένες του σημείου Α έχουμ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0,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05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8+0,2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5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3=9,6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∞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l-GR" sz="25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≤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9,6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Για τις παραπάνω τιμές η δυϊκή τιμή και επομένως και η σκιώδης τιμή του δεύτερου περιορισμού είναι μηδέ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B0D4-98A5-46C1-B993-8C1F0B67FC88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ADF34801-BF03-4318-8838-1F6E9A21BFFD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040D-A33D-4494-902C-7C9E2A8B688E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 (δεσμευτικός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7" descr="Επιχ_Έρευνα_29"/>
          <p:cNvPicPr/>
          <p:nvPr/>
        </p:nvPicPr>
        <p:blipFill>
          <a:blip r:embed="rId1"/>
          <a:stretch/>
        </p:blipFill>
        <p:spPr>
          <a:xfrm>
            <a:off x="1905120" y="2925720"/>
            <a:ext cx="6386400" cy="35132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1676520" y="2895480"/>
            <a:ext cx="4952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B516-2519-4517-8F5C-4D5F6E2E0FB8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BCAD1A22-362B-464F-B578-267CBC305452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B067-9E3C-4666-94FE-7C8FA36BE4E1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 (δεσμευτικός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ύξηση του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αλλάζει το βέλτιστο και το μεταφέρει διαδοχικά πάνω στην ευθεία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=33 προς τα δεξιά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Δεν αλλάζει η βάση γιατί η τομή των δεσμευτικών περιορισμών συνεχίζει να βρίσκεται εντός της εφικτής περιοχής και να αποτελεί τη βέλτιστη λύση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A749-F46D-4D39-8D7F-0697DD55147B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D63534A-6C3B-4675-A5BC-AD1A55ECB122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A536-9352-420E-AF84-7B1D1265794E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Επιχ_Έρευνα_29"/>
          <p:cNvPicPr/>
          <p:nvPr/>
        </p:nvPicPr>
        <p:blipFill>
          <a:blip r:embed="rId1"/>
          <a:stretch/>
        </p:blipFill>
        <p:spPr>
          <a:xfrm>
            <a:off x="1676520" y="2514600"/>
            <a:ext cx="6386400" cy="3513240"/>
          </a:xfrm>
          <a:prstGeom prst="rect">
            <a:avLst/>
          </a:prstGeom>
          <a:ln w="0">
            <a:noFill/>
          </a:ln>
        </p:spPr>
      </p:pic>
      <p:sp>
        <p:nvSpPr>
          <p:cNvPr id="278" name="7 - Ορθογώνιο"/>
          <p:cNvSpPr/>
          <p:nvPr/>
        </p:nvSpPr>
        <p:spPr>
          <a:xfrm>
            <a:off x="1523880" y="2362320"/>
            <a:ext cx="5029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889F-FABC-4D67-9C68-217156CC8155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B3287121-EA30-40C7-98CF-920ED74CD1D8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FF26-050D-451D-A4DD-1F8851AEBBE3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ός (δεσμευτικός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Η μείωση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ώστε να τέμνει την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=33 αριστερότερα από το σημείο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15,33)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άνει τον περιορισμό μη δεσμευτικό και επομένως η εφικτή περιοχή καθορίζεται από το 2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τον 3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1982-ACBF-4CE8-9256-8E7D2F39B7D6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4A0CF89F-3799-4935-85C2-EB528605F7B9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BE94-CD1E-4EC0-97D9-1AD1B7116A9D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Άρα αντικαθιστώντας στον 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ό τις συντεταγμένες του σημείου 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Η(15,33)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έχουμ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0,3∙15+0,2∙33=11,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11,1 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 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πομένως η πιθανή μεταβολή του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ίνα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11,1 ≤ 15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≤ 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 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 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3A0C-93C0-428E-8BE3-28204DA31775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569234DA-E15F-4A24-8010-57D99776C4EC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BA34-69D3-4FE7-A791-8C698C466102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94920" y="1522080"/>
            <a:ext cx="77742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7160" indent="-4971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97160" indent="-49716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ελέτη της επίδρασης της μεταβολής του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99880" indent="-3769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,3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+ 0,2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99880" indent="-3769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284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Επιλύουμε ως προς το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99880" indent="-3769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=28+(1/0,3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2840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Αντικαθιστούμε στην αντικειμενική συνάρτηση και έχουμ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99880" indent="-3769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z = 1,5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+ 2,5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998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z = 124,5 + 5∙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7FFE-6233-4610-956A-E859196B7B67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0B6D28C7-F961-4C82-992B-7FA08A050F64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39C9-98C8-42B8-97D6-F6F41A7E0C42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ελέτη της επίδρασης της μεταβολής του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ύξηση κατά μια μονάδα του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αυξάνει το κόστος κατά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660F-8F63-4C25-9C8E-11FD9BE4E8CA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AF5FC59-E9B3-4453-B3BF-ACD662B6601D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0BC2-E6BE-4CBE-BB0E-9C39410BA040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Σε ένα πρόβλημα ελαχιστοποίησης η σκιώδης τιμή ενός περιορισμού (του αντίστοιχου πόρου) είναι αντίθετη στο πρόσημο από τη δυϊκή τιμ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Νέα τιμή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= προηγούμενη τιμή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σκιώδης τιμή ∙ (νέα τιμή δεξιού μέλους – προηγούμενη τιμή δεξιού μέλου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9525-FCE1-436D-8CB6-B2B5E42B877D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9214C07E-5073-4BEE-BDBE-007A4C0DE716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7AEB-BD78-4D80-8C6B-9486F26D7D3F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4" descr="Επιχ_Έρευνα_29"/>
          <p:cNvPicPr/>
          <p:nvPr/>
        </p:nvPicPr>
        <p:blipFill>
          <a:blip r:embed="rId1"/>
          <a:stretch/>
        </p:blipFill>
        <p:spPr>
          <a:xfrm>
            <a:off x="1905120" y="2925720"/>
            <a:ext cx="6386400" cy="351324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1676520" y="2895480"/>
            <a:ext cx="4724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B1B4-B071-436A-9424-F3380F8F9154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0C53F41C-E128-434E-9510-310F897248CB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478C-F19E-414F-B601-DF0AF608F1CD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Η βασική εφικτή λύση (για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550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) είναι το σημείο 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(325,225,0,0,225,7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z=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937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Για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5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έχουμε το σημείο Δ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(3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7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0,0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z=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975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Για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5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έχουμε το σημείο Δ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28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0,0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z=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9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Για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έχουμε το σημείο Δ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22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0,0,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z=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85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6448-ECBC-4BE4-86DD-4451E91EE3EA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F07C2DDB-F0AA-482B-A4E9-34E01D8B6A32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B608-3841-4F89-8D6E-B34BA2AD2DFD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l-GR" sz="29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περιορισμό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521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ύξηση του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5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αλλάζει το βέλτιστο και το μεταφέρει διαδοχικά πάνω στην ευθεία του 1</a:t>
            </a:r>
            <a:r>
              <a:rPr b="0" lang="el-GR" sz="25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περιορισμού προς τα πάνω μέχρι το σημείο </a:t>
            </a:r>
            <a:r>
              <a:rPr b="1" lang="el-GR" sz="2500" spc="-1" strike="noStrike">
                <a:solidFill>
                  <a:srgbClr val="000000"/>
                </a:solidFill>
                <a:latin typeface="Verdana"/>
              </a:rPr>
              <a:t>Β(0,75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521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Δεν αλλάζει η βάση γιατί η τομή των δεσμευτικών περιορισμών συνεχίζει να βρίσκεται εντός της εφικτής περιοχής και αποτελεί τη βέλτιστη λύση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812D-75C3-4B5F-9776-88DD4993B334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6651A3C4-442E-4192-A2DB-1D49DA47EE07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227A-F254-4D7B-9C4A-9C905659F6B8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ς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ός (δεσμευτικός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Η μείωση το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ώστε να τέμνει την ευθεία του 1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ού κάτω από το σημείο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3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έχει ως αποτέλεσμα η βέλτιστη λύση να προκύπτει από την τομή του 2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του 3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ού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EEDC-33E6-41CD-A38B-49195394F433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62081DC1-7AD7-440A-A358-A334CA4CA46B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A948-15EC-4200-893D-1619957485FF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94920" y="1827360"/>
            <a:ext cx="7774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Άρα αντικαθιστώντας στον 3</a:t>
            </a:r>
            <a:r>
              <a:rPr b="0" lang="el-GR" sz="2800" spc="-1" strike="noStrike" baseline="30000">
                <a:solidFill>
                  <a:srgbClr val="000000"/>
                </a:solidFill>
                <a:latin typeface="Verdana"/>
              </a:rPr>
              <a:t>ο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περιορισμό τις συντεταγμένες του σημείου 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Θ(30,30)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έχουμ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30 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Verdana"/>
              </a:rPr>
              <a:t>3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≤ 7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πομένως η πιθανή μεταβολή του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Verdana"/>
              </a:rPr>
              <a:t>3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ίνα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30 ≤ 33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≤ 7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 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l-GR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≤ 4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09DE-D678-41C8-A2BE-C6CD26A09ED8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C3C23900-7D82-4921-94AA-7FFBFF0C5A7E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2B79-16E3-4B68-B3EF-7B59F5C3773E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0160" y="15238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80600" indent="-480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80600" indent="-480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ελέτη της επίδρασης της μεταβολής του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l-GR" sz="2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59920" indent="-3643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,3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+ 0,2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1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59920" indent="-3643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33 +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11800" indent="-4143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Επιλύουμε ως προς το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59920" indent="-3643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=28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/3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11800" indent="-4143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Αντικαθιστούμε στην αντικειμενική συνάρτηση και έχουμ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59920" indent="-36432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z = 1,5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+ 2,5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599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z = 124,5 + 1,5∙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80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3A1E-58A9-4438-8A7B-C15B0E45420B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0B91FC17-CC96-45B8-946D-24A250F496D6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18E5-116E-4020-9E64-45167D75F585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Verdana"/>
              </a:rPr>
              <a:t>Ανάλυση σταθερών δεξιού μέλου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Μελέτη της επίδρασης της μεταβολής του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αύξηση κατά μια μονάδα του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 αυξάνει το κόστος κατά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,5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Η σκιώδης τιμή ισούται με 1,5, δηλαδή αν αυξηθεί κατά μία μονάδα το πλήθος των βραδινών προβολών θα αυξηθεί το κόστος κατά 1,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7A40-241F-4547-9F99-C79DAE8DF1C1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6B72D4E8-773A-4A77-A949-A33BB86089CA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EE67-D00C-44D6-B721-9B08220C04DD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Ερωτήσει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Γιατί ενώ μια βραδινή προβολή κοστίζει 2,5 η μείωση της απαίτησης κατά μία μονάδα (δηλαδή από 33 σε 32) βελτιώνει το συνολικό κόστος σύμφωνα με τη σκιώδη τιμή (1,5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Γιατί ενώ μια βραδινή προβολή κοστίζει 2,5 η αύξηση της απαίτησης κατά μία μονάδα (δηλαδή από 33 σε 34) αυξάνει  το συνολικό κόστος σύμφωνα με τη σκιώδη τιμή (1,5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905E-95A1-4651-99A0-02F04B49068D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DE69BFD6-1B46-4F45-B17E-3AF6341B6223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BD6E-6FAB-42F7-B723-06A8546BB87E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66"/>
                </a:solidFill>
                <a:latin typeface="Arial"/>
              </a:rPr>
              <a:t>Ανάλυση ευαισθησίας σε πρόβλημα ελαχιστοποίηση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Αυτό το φαινομενικά περίεργο γεγονός οφείλεται στο ότι η μείωση (ή αύξηση) της απαίτησης των βραδινών προβολών αλλάζει ταυτόχρονα και την τιμή της άλλης μεταβλητής απόφασης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9977-D911-4423-B244-3BDBC2392067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1891DB32-E8FB-425B-8403-BB2F0EFF482C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8255-D483-4D5E-8237-61CFCF126EF8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Επιχ_Έρευνα_25"/>
          <p:cNvPicPr/>
          <p:nvPr/>
        </p:nvPicPr>
        <p:blipFill>
          <a:blip r:embed="rId1"/>
          <a:stretch/>
        </p:blipFill>
        <p:spPr>
          <a:xfrm>
            <a:off x="1523880" y="1655640"/>
            <a:ext cx="6324840" cy="4745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219320" y="1600200"/>
            <a:ext cx="1676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6CAA-AA30-44EF-BB5A-DE9800AE0ED5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13608D91-295B-4302-99E3-3AEE777EC62D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2E1D-6899-4863-9085-B92F27ECF6CD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Παρατηρούμε τα εξή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Όσο το σημείο τομής των δύο δεσμευτικών περιορισμών παραμένει στην εφικτή περιοχή, η βέλτιστη λύση είναι το σημείο αυτ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Αν το σημείο τομής των δύο δεσμευτικών περιορισμών σταματήσει να ανήκει στην εφικτή περιοχή, το σημείο τομής του 1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του 2</a:t>
            </a:r>
            <a:r>
              <a:rPr b="0" lang="el-GR" sz="24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περιορισμού θα είναι μη εφικτή λύσ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D9FF-23FF-42F0-95DC-4B7748E286EC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BCF4346-A89A-46DE-842B-317472B76BAC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4273-3B01-4E88-B4BD-8A3E72E93E3C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αρατηρούμε τα εξή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Οι αυξομειώσεις του δεξιού μέλους του 1</a:t>
            </a:r>
            <a:r>
              <a:rPr b="0" lang="el-GR" sz="2000" spc="-1" strike="noStrike" baseline="30000">
                <a:solidFill>
                  <a:srgbClr val="000000"/>
                </a:solidFill>
                <a:latin typeface="Verdana"/>
              </a:rPr>
              <a:t>ου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περιορισμού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αλλάζουν την τιμή της αντικειμενικής συνάρτηση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παράλληλα αλλάζουν και τις τιμές των μεταβλητών απόφασης που αποτελούν τη βέλτιστη λύση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αλλάζουν και τις τιμές των βοηθητικών μεταβλητώ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ι παραμένει αμετάβλητο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ότι οι βασικές μεταβλητές (αυτές που είναι </a:t>
            </a:r>
            <a:r>
              <a:rPr b="0" lang="el-G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0</a:t>
            </a: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) παραμένουν οι ίδιες, έστω και με διαφορετικές τιμές, δηλαδή η </a:t>
            </a:r>
            <a:r>
              <a:rPr b="1" lang="el-GR" sz="1900" spc="-1" strike="noStrike">
                <a:solidFill>
                  <a:srgbClr val="000000"/>
                </a:solidFill>
                <a:latin typeface="Verdana"/>
              </a:rPr>
              <a:t>βάση</a:t>
            </a:r>
            <a:r>
              <a:rPr b="0" lang="el-GR" sz="1900" spc="-1" strike="noStrike">
                <a:solidFill>
                  <a:srgbClr val="000000"/>
                </a:solidFill>
                <a:latin typeface="Verdana"/>
              </a:rPr>
              <a:t> παραμένει ίδια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4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21BC-83CF-47FA-88B7-4C7B0D5F5D25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2735B1C-5B70-4D94-9C07-1D20BD4BBD1B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5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6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E38C-F62A-4B3C-AE08-22CFA4481434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731664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Ας διερευνήσουμε το ρυθμό μεταβολής της αντικειμενικής συνάρτησης σε σχέση με τη διαθέσιμη πρώτη ύλη «γάλα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581280"/>
          <a:ext cx="8534160" cy="2468520"/>
        </p:xfrm>
        <a:graphic>
          <a:graphicData uri="http://schemas.openxmlformats.org/drawingml/2006/table">
            <a:tbl>
              <a:tblPr/>
              <a:tblGrid>
                <a:gridCol w="684000"/>
                <a:gridCol w="1040040"/>
                <a:gridCol w="1482480"/>
                <a:gridCol w="1003320"/>
                <a:gridCol w="1444680"/>
                <a:gridCol w="1434960"/>
                <a:gridCol w="1444680"/>
              </a:tblGrid>
              <a:tr h="67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Σημεί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εταβολή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εταβολή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Ρυθμός μεταβολή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</a:t>
                      </a:r>
                      <a:r>
                        <a:rPr b="0" lang="el-GR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20,2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8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</a:t>
                      </a:r>
                      <a:r>
                        <a:rPr b="0" lang="el-GR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80,2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25,2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Δ</a:t>
                      </a:r>
                      <a:r>
                        <a:rPr b="0" lang="el-GR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70,2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3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85,2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- Θέση ημερομηνίας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FD11-51F3-4D02-8817-78B0FB487E85}" type="datetime">
              <a:rPr b="0" lang="el-GR" sz="1200" spc="-1" strike="noStrike">
                <a:solidFill>
                  <a:srgbClr val="000000"/>
                </a:solidFill>
                <a:latin typeface="Verdana"/>
              </a:rPr>
              <a:t>29/07/26</a:t>
            </a:fld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5A4B72BD-4C04-45D8-BC68-24D51F397CD7}" type="datetime10">
              <a:rPr b="0" lang="el-GR" sz="1200" spc="-1" strike="noStrike">
                <a:solidFill>
                  <a:srgbClr val="000000"/>
                </a:solidFill>
                <a:latin typeface="Verdana"/>
              </a:rPr>
              <a:t>09:05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4 - Θέση υποσέλιδου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Verdana"/>
              </a:rPr>
              <a:t>Εισαγωγή στο Γραμμικό Προγραμματισμ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5 - Θέση αριθμού διαφάνειας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AD94-0FB5-460F-90AA-3E2E8691B6CB}" type="slidenum">
              <a:rPr b="0" lang="el-G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Δεσμευτικοί περιορισμο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αρατηρούμε τα εξή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Η αύξηση της διαθέσιμης ποσότητας γάλακτος κατά μία μονάδα (λίτρο) αυξάνει (βελτιώνει) την τιμή της αντικειμενικής συνάρτησης κατά 125 λεπτά σε όλες τις περιπτώσεις, δηλαδή ο ρυθμός μεταβολής παραμένει σταθερό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Ο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ρυθμός μεταβολής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ονομάζεται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δυϊκή τιμή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του πόρο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Σε ένα πρόβλημα μεγιστοποίησης η δυϊκή τιμή εκφράζει την οριακή αξία μιας επιπλέον μονάδας του πόρου και υποδεικνύει τη βελτίωση που θα προκύψει στο κέρδος λόγω αύξησης της ποσότητας του πόρου κατά μία μονάδ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Tass</cp:lastModifiedBy>
  <dcterms:modified xsi:type="dcterms:W3CDTF">2017-10-20T07:59:00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