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72D-F0DB-4567-A91B-1E2F55FB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057-BB14-4A20-8E7A-67A4F57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909-3DB8-433B-A9C9-2652F18D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7BC-C170-48C3-A91C-EA5627D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49FC-D322-4089-9170-2BE012F2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C6D-10C7-4A12-83F2-3491269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7AD6-A00E-4000-AB1C-AC665B4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26C-8713-4660-9B6D-48C95F46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3960-19D6-46F0-80C7-7B0FECE3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6D77-844A-4155-A50D-76C24335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0EB-C3A2-47F8-91A3-7CD71CE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ECD-909D-4B21-9F6B-0DCB3745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45D-1DFF-4DA6-8442-6354392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F3F9-5665-4818-9B34-6D113B8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5FF-8D5D-459C-B6C8-A45BD556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5EF1-9E24-4C24-9D20-3D2056E9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A3A-ED4E-40E2-9295-E23E53F6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539-71D3-44F4-ADB5-A566407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E9C-8F2E-4649-AC39-47D500B4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3F6-4F33-4F10-BEE0-92874423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767-1DC7-4607-AB45-FBA7A6EC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298-70E1-4713-BA4C-9C744355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68D-D8EC-4658-A213-AFCF21B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EF9-C0F4-4F1C-92D4-2123176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038-FAA8-4593-8459-F87B2E5B321C}" type="datetime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8515FD3-EAE8-4AFF-A7E2-F9BE2F993E52}" type="datetime10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78EC-6274-4ECF-81C1-C1D05F0814E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7D3B-334C-4909-804E-9F114D40241F}" type="datetime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3084D15-C95C-48B0-ADB0-8A35187CF36A}" type="datetime10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085-6F34-4446-AF58-2B9D7EA21DF1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6666"/>
                </a:solidFill>
                <a:latin typeface="Arial"/>
              </a:rPr>
              <a:t>Εισαγωγή στο Γραμμικό Προγραμματισμ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Χειμερινό Εξάμηνο 2017-201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8ED2-6FFD-466E-AD11-45F8039F0A3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5B4EACE-961A-4CB7-B166-C787186EA859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8CE-BD48-4B27-83D0-11DA9D8058F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Σκιώδης τιμ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βελτίω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ου προκύπτει στην αντικειμενική συνάρτηση, όταν το δεξιό μέλος του περιορισμού αυξηθεί κατά μία μονάδ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ε ένα πρόβλημα μεγιστοποίησης η σκιώδης τιμή ενός περιορισμού (του αντίστοιχου πόρου) συμπίπτει με τη δυϊκή τιμ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545B-24DB-4987-BAD0-694C52ABEC49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1D3109A-9BFD-42DD-B2B4-5890B834890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7653-F4E1-4B12-A0F6-9334237370D3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Όλα αυτά ισχύουν αν οι μεταβολές του δεξιού μέλους ενός πόρο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εριορίζονται μέσα στο εύρος εφικτότητα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ν το βέλτιστο σημείο ξεφύγει από την αρχική εφικτή περιοχή ο ρυθμός μεταβολής παύει να είναι ίσος με αυτόν που βρέθηκε πρι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Verdana"/>
              </a:rPr>
              <a:t>Ελεύθερο αγαθ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Ένας πόρος για τον οποίο η σκιώδης τιμή γίνεται ίση με 0, με αποτέλεσμα να μην υπάρχει καμία συνεισφορά στο κέρδος από επιπλέον μονάδες του συγκεκριμένου πόρ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ED76-A96D-4F52-A105-22FDD4682600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5AC62CB-C7CD-4D7B-92AB-7009F70E1637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B676-32B2-4F87-AE88-CEE1FB59CBA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Έστω ότι ο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γίνετ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+ 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≤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Επιχ_Έρευνα_26"/>
          <p:cNvPicPr/>
          <p:nvPr/>
        </p:nvPicPr>
        <p:blipFill>
          <a:blip r:embed="rId1"/>
          <a:stretch/>
        </p:blipFill>
        <p:spPr>
          <a:xfrm>
            <a:off x="838080" y="2819520"/>
            <a:ext cx="7486920" cy="3327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1066680" y="2819520"/>
            <a:ext cx="4572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96080" y="2743200"/>
            <a:ext cx="4572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219320" y="2819520"/>
            <a:ext cx="7162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5B75-D963-42A3-A724-02C48BD1B30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7EF5831-97C8-4AC5-9C45-0D3ABE0E7D6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23E-9CD5-4312-94C0-8951D9ECA03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δεν είναι πια δεσμευτικ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ι δεσμευτικοί περιορισμοί είναι τώρα ο 2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και ο 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650 έχουμε το σημείο 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4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E2E3-6605-49C5-B9D6-29589E0A9EB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A8401AC-7977-4B8A-B7EE-30B89F0DEE51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A771-6321-4AF1-92E7-FB73B177796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ναλυτικός προσδιορισμός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εύρους εφικτότητας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α όρια για το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βρίσκονται από τα σημεία για τα οποία διατηρείται η ίδια βά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+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b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19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 σημείο: 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Ε(0,1000/3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0+1000/3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1000/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19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 σημείο: 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Ζ(400,200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0+200=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Verdana"/>
              </a:rPr>
              <a:t>Άρ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000/3 ≤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6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098-567E-424A-8F3E-D5841281D44E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1B39488-F62F-4565-A850-A33A8C6B717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3C1A-8B80-4C5E-980B-76B4C67967AC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Επιχ_Έρευνα_25"/>
          <p:cNvPicPr/>
          <p:nvPr/>
        </p:nvPicPr>
        <p:blipFill>
          <a:blip r:embed="rId1"/>
          <a:stretch/>
        </p:blipFill>
        <p:spPr>
          <a:xfrm>
            <a:off x="1523880" y="1655640"/>
            <a:ext cx="6324840" cy="4745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1219320" y="1600200"/>
            <a:ext cx="1676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718-120D-4A4B-882A-37450636DC51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9158726-9A49-46BD-A04D-617A0FFEC2F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9EC-677F-4780-91A0-067505EFD07B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πιθανή μεταβολή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ισούται μ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000/3 ≤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+ D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600 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000/3 ≤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50 + D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600 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650</a:t>
            </a:r>
            <a:r>
              <a:rPr b="1" lang="el-GR" sz="2100" spc="-1" strike="noStrike">
                <a:solidFill>
                  <a:srgbClr val="000000"/>
                </a:solidFill>
                <a:latin typeface="Verdana"/>
              </a:rPr>
              <a:t>/3 ≤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5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αυξομειώσεις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μέσα στα παραπάνω πλαίσια το σημείο τομής του 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υ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παραμένει η βέλτιστη λύσ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6907-5C1F-4C03-B0E3-CB712048CB5E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61333C9-E380-4512-B01F-8B6B3CBF7687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AFCE-F1A5-47E0-916C-AB33A86A836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ε ένα πρόβλημα μεγιστοποίησης, όσο η τιμή του δεξιού μέλους ενός περιορισμού κινείται μέσα στο διάστημα εφικτότητας, η σκιώδης τιμή παραμένει σταθερ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Νέα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= προηγούμενη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κιώδης τιμή ∙ (νέα τιμή δεξιού μέλους – προηγούμενη τιμή δεξιού μέλου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638-7E8D-4135-A620-E51DD59FDB4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EC1D5EF-9F25-450F-9D98-C05027FC3A7F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BA62-4FB8-4A56-BD64-538606014FE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Μη 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Έστω ο 4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ός του προβλήματος (που είναι μη δεσμευτικό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Τα όρια εφικτότητας του δεξιού μέλους του 4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ίνα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325 ≤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Επιχ_Έρευνα_27"/>
          <p:cNvPicPr/>
          <p:nvPr/>
        </p:nvPicPr>
        <p:blipFill>
          <a:blip r:embed="rId1"/>
          <a:stretch/>
        </p:blipFill>
        <p:spPr>
          <a:xfrm>
            <a:off x="0" y="3809880"/>
            <a:ext cx="4608360" cy="2414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Επιχ_Έρευνα_28"/>
          <p:cNvPicPr/>
          <p:nvPr/>
        </p:nvPicPr>
        <p:blipFill>
          <a:blip r:embed="rId2"/>
          <a:stretch/>
        </p:blipFill>
        <p:spPr>
          <a:xfrm>
            <a:off x="4462560" y="3809880"/>
            <a:ext cx="4681440" cy="2487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Δ(325,22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447920" y="380988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5591-BBBE-4FAA-BE9A-3EAA84939141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D02E744F-54D8-49D4-8382-E68F2E8F26D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638C-EF3F-484C-9627-F63042410DBF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Μη 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Όταν ένας περιορισμός είναι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δεσμευτικός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ντίστοιχη τιμή της χαλαρής μεταβλητής είναι μηδενική (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μη βασική μεταβλητή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και η σκιώδης τιμή του περιορισμού (η οριακή αξία του πόρου) είναι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μη μηδενικ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Όταν ένας περιορισμός είναι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η αντίστοιχη τιμή της χαλαρής μεταβλητής είναι μη μηδενική (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βασική μεταβλητή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και η σκιώδης τιμή του περιορισμού (η οριακή αξία του πόρου) είναι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μηδενικ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247-BAB0-4F79-AC64-E20B7C04A59E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95ECE5A-7E5C-4E78-92B4-BAA18B1FAA6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4E68-1E56-4479-901C-B34827DB2451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Πρόβλημα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Βιομηχανική επιχείρηση γαλακτοκομικών προϊόντω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Συνολικό μοντέλ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aximize z = 150x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+ 200x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(αντικειμενική συνάρτηση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με περιορισμούς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≤ 55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γάλα σε λίτρα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+ 3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≤ 100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λεπτά εργασία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+ 5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≤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λεπτά παστερίωσης και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ψύξη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≤ 40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ζήτηση Προϊόντος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0 (μη αρνητικές τιμέ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1AC5-5C92-4E8D-BF5F-FC2742EC6A66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25F6B43-37AB-4D93-A013-32C87894C87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BE5F-9D22-40E7-8883-9202B63A256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Συνολικό μοντέλο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e z = 1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με περιορισμού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15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(γυναίκ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9 (άντρ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(βραδινές προβολέ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64AD-F979-4B09-9874-6FE0E815B19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EFF9EDD-1790-4AE5-9F45-1638573D138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DAB4-E48E-40AB-AA57-E7E4326C3F4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Τυποποιημένη μορφή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e z = 1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+ 0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0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0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με περιορισμού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(γυναίκ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9 (άντρ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33 (βραδινές προβολέ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C139-491A-4C71-96D7-024F48194AB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EADC39E-F4E8-4D75-AB25-3A3AF37B753B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ED55-B0F5-4265-A4C6-39470262F00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4" descr="Επιχ_Έρευνα_29"/>
          <p:cNvPicPr/>
          <p:nvPr/>
        </p:nvPicPr>
        <p:blipFill>
          <a:blip r:embed="rId1"/>
          <a:stretch/>
        </p:blipFill>
        <p:spPr>
          <a:xfrm>
            <a:off x="1447920" y="1981080"/>
            <a:ext cx="6995880" cy="38484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1143000" y="1676520"/>
            <a:ext cx="548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581280" y="2558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el-GR" sz="1800" spc="-1" strike="noStrike" baseline="30000">
                <a:solidFill>
                  <a:srgbClr val="ff0000"/>
                </a:solidFill>
                <a:latin typeface="Verdana"/>
              </a:rPr>
              <a:t>ος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 περιορισμό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623412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l-GR" sz="1800" spc="-1" strike="noStrike" baseline="30000">
                <a:solidFill>
                  <a:srgbClr val="ff0000"/>
                </a:solidFill>
                <a:latin typeface="Verdana"/>
              </a:rPr>
              <a:t>ος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 περιορισμό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4" name="Ευθύγραμμο βέλος σύνδεσης 3"/>
          <p:cNvCxnSpPr/>
          <p:nvPr/>
        </p:nvCxnSpPr>
        <p:spPr>
          <a:xfrm flipH="1">
            <a:off x="3428640" y="2927160"/>
            <a:ext cx="457920" cy="425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5" name="Ευθύγραμμο βέλος σύνδεσης 12"/>
          <p:cNvCxnSpPr/>
          <p:nvPr/>
        </p:nvCxnSpPr>
        <p:spPr>
          <a:xfrm flipH="1">
            <a:off x="6005160" y="3692520"/>
            <a:ext cx="457920" cy="426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8DD-3C17-40B6-941A-15C5E8B34BDE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73A5BFE-62D2-4CE0-A26B-CA9916D78E3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138C-69C1-432E-8BD2-BD50F9DBA69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39680" y="1803240"/>
          <a:ext cx="7875720" cy="4064040"/>
        </p:xfrm>
        <a:graphic>
          <a:graphicData uri="http://schemas.openxmlformats.org/drawingml/2006/table">
            <a:tbl>
              <a:tblPr/>
              <a:tblGrid>
                <a:gridCol w="1228680"/>
                <a:gridCol w="669960"/>
                <a:gridCol w="644760"/>
                <a:gridCol w="716040"/>
                <a:gridCol w="877680"/>
                <a:gridCol w="766800"/>
                <a:gridCol w="29718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κραίο σημεί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Βασική λ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Σχόλι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φικτή, βέλτιστ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2A5-0D02-413E-A8C1-66B0B959F81F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B490318-3ADF-48CA-9FC3-A3DCD25D23D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24EF-8430-4FFF-99B2-6AAD6546FDA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αντικειμενικών συντελεστώ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Η αντικειμενική συνάρτηση έχει την εξής μορφή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(-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/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(1/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z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(-1,5/2,5)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(1/2,5)z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(-3/5)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(1/2,5)z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κλίση της είναι λ=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-3/5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6B60-F815-42B4-8D4F-0680A57F51D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876F151E-E3E7-424D-AF32-5D9F239AE91F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A265-3B78-485A-95EE-0223CA73C495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ντικειμενική συνάρτηση μπορεί να περιστραφεί χωρίς να αλλάξει το σημείο της βέλτιστης λύσης προς τα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δεξιά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μέχρι την ευθεία του 1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ού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1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ντικειμενική συνάρτηση μπορεί να περιστραφεί χωρίς να αλλάξει το σημείο της βέλτιστης λύσης προς τα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αριστερά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μέχρι την ευθεία του 3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ού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4720-2253-44FC-AE71-B71A4416CB4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D505A8E-701F-4DB7-A4C5-5493011BB7B0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BA5A-5BB6-4888-B711-FD28E3C0671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182736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Άρα το σημείο Α(28,33) παραμένει βέλτιστο για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-(3/2) ≤ -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≤ 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1,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-(3/2) ≤ -(1,5/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≤ 0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1 ≤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l-GR" sz="25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≤ ∞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=2,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-(3/2) ≤ -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/2,5) ≤ 0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0 ≤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l-GR" sz="25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≤ 3,7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7B0-9698-4220-8B9D-3D341E4DE62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8DF8624-B40C-42BB-8E91-4644506DEE9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10FF-21E5-425B-813A-72C9CD67BEA4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Τι θα συμβεί αν το κόστος προβολής στη βραδινή ζώνη γίνει μικρότερο από 100.000€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= 0 και 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ξεκινάει από 75 και τείνει σ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Επειδή το κόστος των βραδινών είναι αρκετά χαμηλότερο από το κόστος των πρωινών προβολών η λύση αποτελείται μόνο από βραδινές προβολέ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τί δεν αλλάζει το άριστο διαφημιστικό σχέδιο, όταν το κόστος προβολής στη βραδινή ζώνη τείνει στο άπειρο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Επειδή 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έχει παγιωθεί στο 33 λόγω του 3</a:t>
            </a:r>
            <a:r>
              <a:rPr b="0" lang="el-GR" sz="21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 περιορισμο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Δε συμφέρει να έχουμ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 μεγαλύτερο του 33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1BE5-2C2A-4AF8-B0F2-4218140DA18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CB6D6286-CB30-4C9F-B77D-F5C0EC23FA0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1C36-CD07-4E6E-86B1-2CF516127D77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Επιχ_Έρευνα_29"/>
          <p:cNvPicPr/>
          <p:nvPr/>
        </p:nvPicPr>
        <p:blipFill>
          <a:blip r:embed="rId1"/>
          <a:stretch/>
        </p:blipFill>
        <p:spPr>
          <a:xfrm>
            <a:off x="1905120" y="292572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1828800" y="2895480"/>
            <a:ext cx="4572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4876920" y="43131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el-GR" sz="1800" spc="-1" strike="noStrike" baseline="30000">
                <a:solidFill>
                  <a:srgbClr val="ff0000"/>
                </a:solidFill>
                <a:latin typeface="Verdana"/>
              </a:rPr>
              <a:t>ος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 περιορισμό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9" name="Ευθύγραμμο βέλος σύνδεσης 9"/>
          <p:cNvCxnSpPr/>
          <p:nvPr/>
        </p:nvCxnSpPr>
        <p:spPr>
          <a:xfrm flipH="1">
            <a:off x="4723920" y="4681440"/>
            <a:ext cx="457920" cy="426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0D32-FB60-405A-93B3-F2D4ACD6F5EF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DF032063-D438-43A9-89A4-C11D7E01B0B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E91-522A-4B91-8473-3885FFBBE817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9528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μείω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δεν αλλάζει το βέλτιστο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μόλις περάσει το σημείο Α(28,33) κάνει τον περιορισμό δεσμευτικό και αλλάζει την εφικτή περιοχ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88FC-BB80-4072-A16F-538B7C931D2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86289B29-2CB3-4DAC-95BD-32725BC26A1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6EA8-D78F-4D64-AF7C-2B141A1996AB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ι δεσμευτικοί περιορισμοί σε αυτό το πρόβλημα είναι ο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και ο 2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α διερευνήσουμε τι γίνεται εάν αρχίσει να μεταβάλλεται το δεξιό μέλος του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ο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CECF-4702-4F7A-9E2E-09283DA142D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D6702CA-F27E-44D4-8175-1A3419F3636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53F3-0B87-4BC1-8709-AD099E829413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528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Άρα αντικαθιστώντας στο 2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ό τις συντεταγμένες του σημείου Α έχουμ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5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8+0,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5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3=9,6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∞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25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≤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9,6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 τις παραπάνω τιμές η δυϊκή τιμή και επομένως και η σκιώδης τιμή του δεύτερου περιορισμού είναι μηδέ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337B-83EF-453C-B8A2-084AD6E4A4D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4521AF3-6931-4F5A-B291-5C8739E6C545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6CCA-1B73-4F16-A156-822C0B5AF9F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7" descr="Επιχ_Έρευνα_29"/>
          <p:cNvPicPr/>
          <p:nvPr/>
        </p:nvPicPr>
        <p:blipFill>
          <a:blip r:embed="rId1"/>
          <a:stretch/>
        </p:blipFill>
        <p:spPr>
          <a:xfrm>
            <a:off x="1905120" y="292572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676520" y="2895480"/>
            <a:ext cx="4952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834-38DE-420A-936F-12868FE3B2D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64A4365-A72F-4D05-B5EE-A872CD70BD4F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C59-EB33-4FE3-A3DE-6712591370DC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λλάζει το βέλτιστο και το μεταφέρει διαδοχικά πάνω στην ευθεία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=33 προς τα δεξιά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Δεν αλλάζει η βάση γιατί η τομή των δεσμευτικών περιορισμών συνεχίζει να βρίσκεται εντός της εφικτής περιοχής και να αποτελεί τη βέλτιστη λύσ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B66-296A-49A6-9295-6943AE23C3AF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CB13A0A-2FE4-4E57-8326-A763DEFFD08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745-FF33-47E3-99D3-0F055C3C853C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Επιχ_Έρευνα_29"/>
          <p:cNvPicPr/>
          <p:nvPr/>
        </p:nvPicPr>
        <p:blipFill>
          <a:blip r:embed="rId1"/>
          <a:stretch/>
        </p:blipFill>
        <p:spPr>
          <a:xfrm>
            <a:off x="1676520" y="251460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278" name="7 - Ορθογώνιο"/>
          <p:cNvSpPr/>
          <p:nvPr/>
        </p:nvSpPr>
        <p:spPr>
          <a:xfrm>
            <a:off x="1523880" y="2362320"/>
            <a:ext cx="5029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8ED9-3CA6-4364-ACD6-FA177F07DC70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94ED5ABE-0F7E-4731-BE4F-DF9C96C0F90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E38-5178-4B72-B708-3258FEB663B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μείωση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ώστε να τέμνει την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=33 αριστερότερα από το σημείο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15,33)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άνει τον περιορισμό μη δεσμευτικό και επομένως η εφικτή περιοχή καθορίζεται από το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ν 3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FF69-9516-482C-BB32-8645049B3A6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87F104F8-5783-4781-B79E-41165CA27E30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82C7-B5C3-4D90-8923-F3D04C7724A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Άρα αντικαθιστώντας στον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 τις συντεταγμένες του σημείου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Η(15,33)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έχουμ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0,3∙15+0,2∙33=11,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11,1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ομένως η πιθανή μεταβολή το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ίν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11,1 ≤ 15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≤ 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F944-C1B0-4B2D-936C-BBB02AEB42E9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36DD7074-20E0-4301-B026-9326E28637B4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55B-F95F-4EB3-A8F6-B25073EEC14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1522080"/>
            <a:ext cx="7774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7160" indent="-4971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97160" indent="-4971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284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Επιλύουμε ως προς το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28+(1/0,3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284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ντικαθιστούμε στην αντικειμενική συνάρτηση και έχουμ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24,5 + 5∙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26CB-ECB4-4531-B33B-EF64B56585F0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28F6E35-322A-4AA3-898B-800B47E860D6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D8B-4747-47D9-934E-3DC4C1B65344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κατά μια μονάδα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αυξάνει το κόστος κατά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DC3F-95D9-4B7E-8EF6-82C9C720367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8377B53D-7543-45F7-93AD-3ED4B33C9269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F93A-C882-45FB-ACEC-A31206DD7246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ε ένα πρόβλημα ελαχιστοποίησης η σκιώδης τιμή ενός περιορισμού (του αντίστοιχου πόρου) είναι αντίθετη στο πρόσημο από τη δυϊκή τιμ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Νέα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= προηγούμενη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κιώδης τιμή ∙ (νέα τιμή δεξιού μέλους – προηγούμενη τιμή δεξιού μέλου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006E-6213-4297-836E-1A4FED0A654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635581E-70E4-42D1-8DFF-B628C5623FE3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89E3-9234-4C7A-BCE7-317D31A0FBA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4" descr="Επιχ_Έρευνα_29"/>
          <p:cNvPicPr/>
          <p:nvPr/>
        </p:nvPicPr>
        <p:blipFill>
          <a:blip r:embed="rId1"/>
          <a:stretch/>
        </p:blipFill>
        <p:spPr>
          <a:xfrm>
            <a:off x="1905120" y="292572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1676520" y="2895480"/>
            <a:ext cx="4724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8705-B6EE-4656-8D45-E9B69AAF4229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91FB396A-C99C-4C5D-8197-C04EDDAE84D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251-A1B2-4CB7-A1E5-AB2EF7BEE3E8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βασική εφικτή λύση (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55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) είναι το σημείο 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325,225,0,0,225,7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93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5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ουμε το σημείο Δ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3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97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5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ουμε το σημείο Δ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28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9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ουμε το σημείο Δ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2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85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AAA-A043-4D58-95D3-CF95E60E28C6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6401E9A-8907-43CA-B69A-238F57FCC82F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F94-54AC-4191-AF2D-C5158FAD3D7A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521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λλάζει το βέλτιστο και το μεταφέρει διαδοχικά πάνω στην ευθεία του 1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ού προς τα πάνω μέχρι το σημείο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Β(0,75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521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Δεν αλλάζει η βάση γιατί η τομή των δεσμευτικών περιορισμών συνεχίζει να βρίσκεται εντός της εφικτής περιοχής και αποτελεί τη βέλτιστη λύσ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825-0BB0-4B83-80E4-40B10A985653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DA94322-0DC1-440B-A336-B22DC40482A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1D0C-25A6-4A63-8490-A7631D4BBBAF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μείωση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ώστε να τέμνει την ευθεία του 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κάτω από το σημείο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3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ει ως αποτέλεσμα η βέλτιστη λύση να προκύπτει από την τομή του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υ 3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DC4-5B7A-421A-A5B2-E8378B043410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29402E1-1553-437D-842A-F3D8D07B234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01D7-28CF-4E8B-B51F-B8BFCB5520B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Άρα αντικαθιστώντας στον 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 τις συντεταγμένες του σημείου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Θ(30,30)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έχουμ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30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3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≤ 7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ομένως η πιθανή μεταβολή το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Verdana"/>
              </a:rPr>
              <a:t>3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ίν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30 ≤ 33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≤ 7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≤ 4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6A5-900C-4EF2-B7FA-8E8FAF6BBA0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6A7CE6F-7755-4129-AC87-E0C7F883A413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D1FD-37EB-475E-A02C-78C98ACE452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80600" indent="-480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80600" indent="-480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33 +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1800" indent="-4143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Επιλύουμε ως προς το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28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/3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1800" indent="-4143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ντικαθιστούμε στην αντικειμενική συνάρτηση και έχουμ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24,5 + 1,5∙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80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A865-3049-4BFD-9721-6CF38B7F54F2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0EBC03E-DEFF-466A-9972-FB2D1F53EEC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81BB-5C92-4763-B128-50132F625BD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κατά μια μονάδα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αυξάνει το κόστος κατά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,5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σκιώδης τιμή ισούται με 1,5, δηλαδή αν αυξηθεί κατά μία μονάδα το πλήθος των βραδινών προβολών θα αυξηθεί το κόστος κατά 1,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1BA5-03C3-4570-824D-BC361EC44DD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62617B0-9E6F-4D00-9A08-136C82484A14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C77E-4259-4C41-870C-C93EC1BB69C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Ερωτήσει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τί ενώ μια βραδινή προβολή κοστίζει 2,5 η μείωση της απαίτησης κατά μία μονάδα (δηλαδή από 33 σε 32) βελτιώνει το συνολικό κόστος σύμφωνα με τη σκιώδη τιμή (1,5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τί ενώ μια βραδινή προβολή κοστίζει 2,5 η αύξηση της απαίτησης κατά μία μονάδα (δηλαδή από 33 σε 34) αυξάνει  το συνολικό κόστος σύμφωνα με τη σκιώδη τιμή (1,5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6101-6F14-43EE-B09C-E66F1C137E2C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708A7959-C9C3-470D-8F0E-1C022FAEFB05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4729-8C93-408E-8B5F-136845C87236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Αυτό το φαινομενικά περίεργο γεγονός οφείλεται στο ότι η μείωση (ή αύξηση) της απαίτησης των βραδινών προβολών αλλάζει ταυτόχρονα και την τιμή της άλλης μεταβλητής απόφασης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CF92-8B35-4BD5-A61C-8023618E7F11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499892B-1FDF-4977-87E8-A20F09F0418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0F8-DB20-4E9F-869A-8D43DBDDD57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Επιχ_Έρευνα_25"/>
          <p:cNvPicPr/>
          <p:nvPr/>
        </p:nvPicPr>
        <p:blipFill>
          <a:blip r:embed="rId1"/>
          <a:stretch/>
        </p:blipFill>
        <p:spPr>
          <a:xfrm>
            <a:off x="1523880" y="1655640"/>
            <a:ext cx="6324840" cy="4745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219320" y="1600200"/>
            <a:ext cx="1676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CD83-2D3D-4D77-B232-3AE5AB4945E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38BF9B94-21E2-4690-A217-140E44AA31A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F2B3-94D5-4012-A9DE-00E8ADDA60EF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αρατηρούμε τα εξή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Όσο το σημείο τομής των δύο δεσμευτικών περιορισμών παραμένει στην εφικτή περιοχή, η βέλτιστη λύση είναι το σημείο αυτ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ν το σημείο τομής των δύο δεσμευτικών περιορισμών σταματήσει να ανήκει στην εφικτή περιοχή, το σημείο τομής του 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υ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θα είναι μη εφικτή λύσ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6802-4611-425D-9EA2-8145F5D24333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85E6E56F-37F0-4CFA-9315-C4378A953BD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128-ADA7-4EDD-8079-1A0D55D906D7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αρατηρούμε τα εξή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Οι αυξομειώσεις του δεξιού μέλους του 1</a:t>
            </a:r>
            <a:r>
              <a:rPr b="0" lang="el-GR" sz="20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περιορισμού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αλλάζουν την τιμή της αντικειμενικής συνάρτηση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παράλληλα αλλάζουν και τις τιμές των μεταβλητών απόφασης που αποτελούν τη βέλτιστη λύση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αλλάζουν και τις τιμές των βοηθητικών μεταβλητώ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ι παραμένει αμετάβλητο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ότι οι βασικές μεταβλητές (αυτές που είναι </a:t>
            </a:r>
            <a:r>
              <a:rPr b="0" lang="el-G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0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) παραμένουν οι ίδιες, έστω και με διαφορετικές τιμές, δηλαδή η 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βάση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 παραμένει ίδι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4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F255-85C8-4F65-BA1C-596F9866B34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CBA450C-C28E-4D0D-835D-D2AABE0E71B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6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A524-33C7-4522-BBA3-3364FD412D1C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ς διερευνήσουμε το ρυθμό μεταβολής της αντικειμενικής συνάρτησης σε σχέση με τη διαθέσιμη πρώτη ύλη «γάλα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581280"/>
          <a:ext cx="8534160" cy="2468520"/>
        </p:xfrm>
        <a:graphic>
          <a:graphicData uri="http://schemas.openxmlformats.org/drawingml/2006/table">
            <a:tbl>
              <a:tblPr/>
              <a:tblGrid>
                <a:gridCol w="684000"/>
                <a:gridCol w="1040040"/>
                <a:gridCol w="1482480"/>
                <a:gridCol w="1003320"/>
                <a:gridCol w="1444680"/>
                <a:gridCol w="1434960"/>
                <a:gridCol w="1444680"/>
              </a:tblGrid>
              <a:tr h="6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Σημεί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εταβολή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εταβολή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Ρυθμός μεταβολ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20,2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80,2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25,2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70,2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85,2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C7C-DACE-4C04-B20C-5268E5DC0FB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31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5B61739-22DC-4935-923D-29EB11EDB1F1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5:22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7A4B-8258-4F27-8C44-94C4770DA22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αρατηρούμε τα εξή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Η αύξηση της διαθέσιμης ποσότητας γάλακτος κατά μία μονάδα (λίτρο) αυξάνει (βελτιώνει) την τιμή της αντικειμενικής συνάρτησης κατά 125 λεπτά σε όλες τις περιπτώσεις, δηλαδή ο ρυθμός μεταβολής παραμένει σταθερό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Ο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ρυθμός μεταβολής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ονομάζεται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δυϊκή τιμή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του πόρ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Σε ένα πρόβλημα μεγιστοποίησης η δυϊκή τιμή εκφράζει την οριακή αξία μιας επιπλέον μονάδας του πόρου και υποδεικνύει τη βελτίωση που θα προκύψει στο κέρδος λόγω αύξησης της ποσότητας του πόρου κατά μία μονάδ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Tass</cp:lastModifiedBy>
  <dcterms:modified xsi:type="dcterms:W3CDTF">2017-10-20T07:59:00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