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30.wmf" ContentType="image/x-wmf"/>
  <Override PartName="/ppt/media/image45.png" ContentType="image/png"/>
  <Override PartName="/ppt/media/image34.wmf" ContentType="image/x-wmf"/>
  <Override PartName="/ppt/media/image14.png" ContentType="image/png"/>
  <Override PartName="/ppt/media/image12.png" ContentType="image/png"/>
  <Override PartName="/ppt/media/image32.wmf" ContentType="image/x-wmf"/>
  <Override PartName="/ppt/media/image35.wmf" ContentType="image/x-wmf"/>
  <Override PartName="/ppt/media/image36.wmf" ContentType="image/x-wmf"/>
  <Override PartName="/ppt/media/image40.wmf" ContentType="image/x-wmf"/>
  <Override PartName="/ppt/media/image42.png" ContentType="image/png"/>
  <Override PartName="/ppt/media/image31.wmf" ContentType="image/x-wmf"/>
  <Override PartName="/ppt/media/image46.png" ContentType="image/png"/>
  <Override PartName="/ppt/media/image11.png" ContentType="image/png"/>
  <Override PartName="/ppt/media/image29.wmf" ContentType="image/x-wmf"/>
  <Override PartName="/ppt/media/image43.wmf" ContentType="image/x-wmf"/>
  <Override PartName="/ppt/media/image44.png" ContentType="image/png"/>
  <Override PartName="/ppt/media/image7.wmf" ContentType="image/x-wmf"/>
  <Override PartName="/ppt/media/image37.wmf" ContentType="image/x-wmf"/>
  <Override PartName="/ppt/media/image9.wmf" ContentType="image/x-wmf"/>
  <Override PartName="/ppt/media/image41.png" ContentType="image/png"/>
  <Override PartName="/ppt/media/image39.wmf" ContentType="image/x-wmf"/>
  <Override PartName="/ppt/media/image38.wmf" ContentType="image/x-wmf"/>
  <Override PartName="/ppt/media/image8.wmf" ContentType="image/x-wmf"/>
  <Override PartName="/ppt/media/image13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4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</p:sldIdLst>
  <p:sldSz cx="9144000" cy="5145088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4984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2680" y="739800"/>
            <a:ext cx="657216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ef5fa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6F6D-39F2-4F3C-B194-8024F4573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0678-921D-4419-B45C-057CC52510A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Θέση αριθμού διαφάνειας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CF84-25A4-45B0-882E-652A033A8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3AA2-74C2-4F00-9535-DD8B4B1CE02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3235-9C01-4712-BFEE-7CADD3A8170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D507-D66A-49FE-A0FC-C56E6ADC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542D-09BA-407E-AAC5-1D7C6B7D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E7D-DC74-410D-AC10-86123061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22E5-B12F-4873-A3C3-F68A1507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46CF5-2CFB-4134-8415-EA107DFA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4EBF5-83A9-4EC8-8D3E-1F9A041B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FBA22-D9B5-40DA-9A39-E25B0697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F5DAD-3547-4518-BD8B-568F25E3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06515-233E-45AB-8425-264DEE9E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C78C3-4006-4188-8161-CC8F6F3C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0F030-0E29-48FA-B049-7DDCC1F0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04D8-F43F-48C5-A38D-82993FE9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913F9-6424-417D-AF53-D9C79C9A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2630B-A710-4280-907B-59EE7293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7CF45-ADFD-4AC3-8D52-D97CADA5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9BA4F-16F8-4411-8B26-97D07257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44EB2-86B6-491E-A553-7F068A9E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B6578-98C8-48E8-9B97-2665591E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34385-C015-4F5F-9E10-B66AF493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92C21-93C4-4AE6-8D6D-C8B7DE64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C1072-2836-4FE6-A1B4-49C9444C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37593-F7CD-46B2-8FF0-F70B0B3A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BA2A-C85C-44F8-ACA5-1C3A83BB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38C5A-2367-4C17-9D50-8961D4AF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82C2E-A67B-443A-B9A9-6AC5D141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E76C8-5D52-49B9-9120-2C44132B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3D803-22AE-4EF4-B861-46FA5BBD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E7FC4-FEFA-4182-A642-F5DC3F11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3B764-0B7F-47E4-A7BF-6FDBD1CF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4192B-AA25-4ABF-8FF4-C992F929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8B3F7C-1AB2-42E3-910D-B0598155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9F6018-2785-4B98-8C70-F2EEC0C6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60474E-8708-41AB-9612-800BBD02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5CDA-9B16-4A78-8A57-5424FC60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230E03-61AA-49DF-8D21-6E6BDC9A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4A5AA1-B32E-440E-A45B-FAC04C07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21A5A7-4F2D-497E-9B2F-E0348AB6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1BE009-3A08-4337-946D-30C37A74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6B9649-AFF4-45CE-AFE1-EC9D09AF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6A2164-288B-48BE-A463-01A566F4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7A53BA-F59B-4901-AD62-D82B23E3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8A2577-66D0-4899-8496-E3A2DFD4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2E71FB-F4F2-4EE1-AE77-13094BA4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586B79-EEA8-46AE-A0F7-F9B0E3F7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9CFA-3470-4028-BF0E-64330480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F07795-63CE-470C-A0FB-DB152B61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2D7758-5196-4ED5-9C68-5E67D39D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E3B83B-6FD2-4573-B61C-E7770DEB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8E599-830E-41D4-A306-29CDE58E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82258-5222-46BB-AFF5-D32C89A5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834991-1AA7-4471-ACB0-E67A7B3C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4FFEA6-670F-41A9-85C2-6F400AB8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9E8CB8-1281-4E4B-B48A-02A02E24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5C21B8-8750-46EF-A8C0-CAF87E3F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36D05A-22D0-4A33-96D1-B0ACF48B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DB93-868B-4E03-8910-2AE382B6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0E8003-3658-4F57-845D-31AF57EE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46AC63-BCF2-4727-8F4A-23F03A38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503948-C5E3-4100-9808-492CF8E9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8E6C78-F8C7-4885-BD9A-5CE42174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FD6643-4B97-4388-97D4-4FE3D19B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DCA50C-D4EE-4881-973F-A5E65A30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C9637B-A5EE-40AC-8F9E-FF7D8795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CE52D0-8D25-41DF-8D25-34AB105A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C90E3D-E0FC-4F78-97E0-076CE416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EC214E-3D10-45FF-BAC5-F35E0471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7FFD-2CFA-4F42-995A-543A0F46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7B1828-4281-49AE-9DAF-BF791C76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30DDED-0A94-486A-8212-F6D384B6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DAE6F5-CC38-480B-98F6-06A78937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07B6A5-557C-45AC-A31F-7E521E43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ED11A4-1B1F-4B11-87CF-0C151D05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20EB75-5005-41F2-92DB-1E160C5A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9C02B3-67F6-4D6D-8513-D963EB29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DFBC31-356F-4E1B-A4A1-A4412464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8FADD7-88CA-4025-B5EC-6F3BA581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DFFB6E-30D0-499C-9154-B25C18E4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AD9-08EB-414B-AFA8-08DFA6B7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E01BF5-85E0-4809-8CAB-5630EA4E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8F6351-5CA9-40D4-8870-BF0126AB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AF0C7F-3B59-4708-AB66-AA68ABFF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E39BA9-99C9-44F3-BAF9-70744DE3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59126D-0294-47CE-941A-7020F517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9F4E-76E6-44CA-8CC7-2BDA8E42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2895-F23E-4528-B987-BC117D067E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© Μανώλης Μαραγκουδάκη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640B-4268-45A9-A1EE-D6A1FB123464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550080" indent="-23436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786240" indent="-19656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1179360" indent="-19656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1572480" indent="-19656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1572480" indent="-196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1572480" indent="-196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48520" y="4686480"/>
            <a:ext cx="26668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7651-9828-403C-8AAC-131CF7E1B10F}" type="datetime">
              <a:rPr b="0" lang="en-US" sz="1400" spc="-1" strike="noStrike">
                <a:solidFill>
                  <a:srgbClr val="def5fa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0" y="3499920"/>
            <a:ext cx="1447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DD56-167E-4C45-8C0A-1C89EBE0BD7A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1600200" y="4686480"/>
            <a:ext cx="45720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def5fa"/>
                </a:solidFill>
                <a:latin typeface="Times New Roman"/>
              </a:rPr>
              <a:t>© Μανώλης Μαραγκουδάκη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9"/>
          <p:cNvSpPr/>
          <p:nvPr/>
        </p:nvSpPr>
        <p:spPr>
          <a:xfrm>
            <a:off x="0" y="4478400"/>
            <a:ext cx="9144000" cy="6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-9360" y="4540320"/>
            <a:ext cx="2249280" cy="5349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359080" y="4533840"/>
            <a:ext cx="6784920" cy="5335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550080" indent="-23436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786240" indent="-19656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1179360" indent="-19656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1572480" indent="-19656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1572480" indent="-196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1572480" indent="-196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75960" y="4551480"/>
            <a:ext cx="205740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6393-EBFA-4A49-A9C9-99493BD327FB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085480" y="177840"/>
            <a:ext cx="5867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def5fa"/>
                </a:solidFill>
                <a:latin typeface="Times New Roman"/>
              </a:rPr>
              <a:t>© Μανώλης Μαραγκουδάκη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001000" y="171360"/>
            <a:ext cx="8380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192B-8B95-4357-A347-7305FE245B93}" type="slidenum">
              <a:rPr b="1" lang="en-US" sz="1400" spc="-1" strike="noStrike">
                <a:solidFill>
                  <a:srgbClr val="def5f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0" y="1143000"/>
            <a:ext cx="9144000" cy="8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0" y="1200240"/>
            <a:ext cx="1295280" cy="74304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1371600" y="1200240"/>
            <a:ext cx="7772400" cy="7430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50080" indent="-23436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786240" indent="-19656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656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572480" indent="-19656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FC94-FF87-4928-98DF-79F7A9C96C11}" type="datetime">
              <a:rPr b="0" lang="en-US" sz="1400" spc="-1" strike="noStrike">
                <a:solidFill>
                  <a:srgbClr val="464646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1"/>
          </p:nvPr>
        </p:nvSpPr>
        <p:spPr>
          <a:xfrm>
            <a:off x="0" y="1314360"/>
            <a:ext cx="129528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075C-5E5B-4357-9807-6FE32FBFB84E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2"/>
          </p:nvPr>
        </p:nvSpPr>
        <p:spPr>
          <a:xfrm>
            <a:off x="609480" y="4686480"/>
            <a:ext cx="54216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64646"/>
                </a:solidFill>
                <a:latin typeface="Times New Roman"/>
              </a:rPr>
              <a:t>© Μανώλης Μαραγκουδάκη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0" y="1095480"/>
            <a:ext cx="9144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1128600"/>
            <a:ext cx="533520" cy="1717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90400" y="1128600"/>
            <a:ext cx="8553600" cy="1717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50080" indent="-23436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786240" indent="-19656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656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572480" indent="-19656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43F9-E3B3-4238-8723-5A891C935A0E}" type="datetime">
              <a:rPr b="0" lang="en-US" sz="1400" spc="-1" strike="noStrike">
                <a:solidFill>
                  <a:srgbClr val="464646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4"/>
          </p:nvPr>
        </p:nvSpPr>
        <p:spPr>
          <a:xfrm>
            <a:off x="0" y="1123560"/>
            <a:ext cx="5335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06C2-5925-4F8C-A8F3-89E2AA5723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5"/>
          </p:nvPr>
        </p:nvSpPr>
        <p:spPr>
          <a:xfrm>
            <a:off x="609480" y="4686480"/>
            <a:ext cx="54216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64646"/>
                </a:solidFill>
                <a:latin typeface="Times New Roman"/>
              </a:rPr>
              <a:t>©</a:t>
            </a:r>
            <a:r>
              <a:rPr b="0" lang="en-US" sz="1400" spc="-1" strike="noStrike">
                <a:solidFill>
                  <a:srgbClr val="464646"/>
                </a:solidFill>
                <a:latin typeface="Times New Roman"/>
              </a:rPr>
              <a:t> </a:t>
            </a:r>
            <a:r>
              <a:rPr b="0" lang="el-GR" sz="1400" spc="-1" strike="noStrike">
                <a:solidFill>
                  <a:srgbClr val="464646"/>
                </a:solidFill>
                <a:latin typeface="Times New Roman"/>
              </a:rPr>
              <a:t>Μανώλης Μαραγκουδάκη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0" y="1095480"/>
            <a:ext cx="9144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0" y="1128600"/>
            <a:ext cx="533520" cy="1717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590400" y="1128600"/>
            <a:ext cx="8553600" cy="1717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50080" indent="-23436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786240" indent="-19656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656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572480" indent="-19656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ACD2-58E3-4928-B65D-D0F600853A10}" type="datetime">
              <a:rPr b="0" lang="en-US" sz="1400" spc="-1" strike="noStrike">
                <a:solidFill>
                  <a:srgbClr val="464646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7"/>
          </p:nvPr>
        </p:nvSpPr>
        <p:spPr>
          <a:xfrm>
            <a:off x="0" y="1123560"/>
            <a:ext cx="5335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919F-F02E-42D4-B39E-E425755E22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8"/>
          </p:nvPr>
        </p:nvSpPr>
        <p:spPr>
          <a:xfrm>
            <a:off x="609480" y="4686480"/>
            <a:ext cx="54216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64646"/>
                </a:solidFill>
                <a:latin typeface="Times New Roman"/>
              </a:rPr>
              <a:t>© Μανώλης Μαραγκουδάκη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-9360" y="3429000"/>
            <a:ext cx="9144000" cy="6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-9360" y="3497400"/>
            <a:ext cx="1463400" cy="5349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1544760" y="3490920"/>
            <a:ext cx="7589880" cy="5349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1447920" y="0"/>
            <a:ext cx="99720" cy="514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550080" indent="-23436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786240" indent="-19656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1179360" indent="-19656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1572480" indent="-19656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1572480" indent="-196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1572480" indent="-196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6248520" y="4686480"/>
            <a:ext cx="26668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7B7E-60B2-4554-B288-D6770CD96604}" type="datetime">
              <a:rPr b="0" lang="en-US" sz="1400" spc="-1" strike="noStrike">
                <a:solidFill>
                  <a:srgbClr val="def5fa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20"/>
          </p:nvPr>
        </p:nvSpPr>
        <p:spPr>
          <a:xfrm>
            <a:off x="0" y="3499920"/>
            <a:ext cx="1447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3C92-AFBE-433D-AADE-DE7F9131C39C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1"/>
          </p:nvPr>
        </p:nvSpPr>
        <p:spPr>
          <a:xfrm>
            <a:off x="1600200" y="4686480"/>
            <a:ext cx="45720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def5fa"/>
                </a:solidFill>
                <a:latin typeface="Times New Roman"/>
              </a:rPr>
              <a:t>© Μανώλης Μαραγκουδάκη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2361960" y="4536720"/>
            <a:ext cx="651492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Σ.Σιούτα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2361960" y="1500120"/>
            <a:ext cx="6476760" cy="28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>
                <a:solidFill>
                  <a:srgbClr val="def5fa"/>
                </a:solidFill>
                <a:latin typeface="Arial"/>
              </a:rPr>
              <a:t>ΠΟΛΥΔΙΑΣΤΑΤΗ ΑΝΑΠΑΡΑΣΤΑΣΗ ΔΕΔΟΜΕΝΩΝ</a:t>
            </a:r>
            <a:endParaRPr b="0" lang="en-US" sz="6000" spc="-1" strike="noStrike">
              <a:solidFill>
                <a:srgbClr val="def5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Πίνακας δεδομένων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13840" y="1352160"/>
            <a:ext cx="4281480" cy="37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Όταν τα δεδομένα έχουν ένα κοινό κλειστό σύνολο αριθμητικών ιδιοτήτων, μπορούν να θεωρηθούν ως σημεία σε ένα πολύ-διάστατο χώρο, όπου κάθε διάσταση αναπαριστά μια συγκεκριμένη μεταβλ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Τέτοια δεδομένα αναπαρίστανται ως ένας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 x n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 πίνακας, όπου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 η κάθε σειρά (αντικείμενο) και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 η κάθε στήλη (ιδιότητ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rcRect l="1289" t="5019" r="20542" b="8603"/>
          <a:stretch/>
        </p:blipFill>
        <p:spPr>
          <a:xfrm>
            <a:off x="5429160" y="500040"/>
            <a:ext cx="342900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Δεδομένα Εγγράφων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28400" y="1352160"/>
            <a:ext cx="406692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Κάθε έγγραφο μετατρέπεται σε ένα διάνυσμα όρ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άθε όρος είναι ένα συστατικό (ιδιότητα) του διανύσ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τιμή κάθε συστατικού είναι ο αριθμός εμφανίσεων του όρου στο έγγραφ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"/>
          <p:cNvSpPr/>
          <p:nvPr/>
        </p:nvSpPr>
        <p:spPr>
          <a:xfrm>
            <a:off x="5286240" y="1124640"/>
            <a:ext cx="3143520" cy="1432440"/>
          </a:xfrm>
          <a:prstGeom prst="rect">
            <a:avLst/>
          </a:prstGeom>
          <a:solidFill>
            <a:srgbClr val="eb641b"/>
          </a:solidFill>
          <a:ln w="19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Franklin Gothic Book"/>
                <a:ea typeface="Perpetua"/>
              </a:rPr>
              <a:t>ΠΑΡΑΔΕΙΓΜ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Franklin Gothic Book"/>
                <a:ea typeface="Perpetua"/>
              </a:rPr>
              <a:t>D1: “Shipment of gold damaged in a fi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Franklin Gothic Book"/>
                <a:ea typeface="Perpetua"/>
              </a:rPr>
              <a:t>D2: “Delivery of silver arrived in a silver truck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Franklin Gothic Book"/>
                <a:ea typeface="Perpetua"/>
              </a:rPr>
              <a:t>D3: “Shipment of gold arrived in a truck</a:t>
            </a:r>
            <a:r>
              <a:rPr b="1" lang="el-GR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Table 6" descr=""/>
          <p:cNvPicPr/>
          <p:nvPr/>
        </p:nvPicPr>
        <p:blipFill>
          <a:blip r:embed="rId1"/>
          <a:stretch/>
        </p:blipFill>
        <p:spPr>
          <a:xfrm>
            <a:off x="4559400" y="2494080"/>
            <a:ext cx="432252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Δεδομένα συναλλαγών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09120" y="1352520"/>
            <a:ext cx="38862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Μια ειδική περίπτωση εγγραφών όπο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Κάθε εγγραφή (ή συναλλαγή) έχει ένα σύνολο αντικειμέν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Για παράδειγμα, θεωρήστε ένα σούπερ μάρκετ. Το σύνολο των προϊόντων αγοράς από ένα πελάτη αποτελούν δεδομένα συναλλαγώ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5353200" y="2266920"/>
          <a:ext cx="2868480" cy="144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53200" y="2266920"/>
                    <a:ext cx="286848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Γράφοι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13840" y="1352520"/>
            <a:ext cx="400068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Παραδείγματ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Γενικευμένοι γράφοι (κυκλοφορίας, φορτίου σε δίκτυο, κτλ) όπως επίσης και έγγραφα σε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ML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 ή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XML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 ή άλλης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rkup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 μορφή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2"/>
          <p:cNvGraphicFramePr/>
          <p:nvPr/>
        </p:nvGraphicFramePr>
        <p:xfrm>
          <a:off x="6586560" y="1000080"/>
          <a:ext cx="2232000" cy="17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6560" y="1000080"/>
                    <a:ext cx="223200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3"/>
          <p:cNvGraphicFramePr/>
          <p:nvPr/>
        </p:nvGraphicFramePr>
        <p:xfrm>
          <a:off x="4000680" y="2357280"/>
          <a:ext cx="4997160" cy="25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0680" y="2357280"/>
                    <a:ext cx="499716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5"/>
          <p:cNvGraphicFramePr/>
          <p:nvPr/>
        </p:nvGraphicFramePr>
        <p:xfrm>
          <a:off x="4359240" y="120600"/>
          <a:ext cx="1785960" cy="166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9240" y="120600"/>
                    <a:ext cx="178596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TextBox 8"/>
          <p:cNvSpPr/>
          <p:nvPr/>
        </p:nvSpPr>
        <p:spPr>
          <a:xfrm>
            <a:off x="2550960" y="214200"/>
            <a:ext cx="2256120" cy="405720"/>
          </a:xfrm>
          <a:prstGeom prst="rect">
            <a:avLst/>
          </a:prstGeom>
          <a:solidFill>
            <a:srgbClr val="eb641b"/>
          </a:solidFill>
          <a:ln w="19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Μόριο βενζίνης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Ταξινομημένα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2560" y="1352160"/>
            <a:ext cx="4352760" cy="57636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λληλουχίες συμβάντ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1"/>
          <a:srcRect l="7255" t="16126" r="10531" b="32280"/>
          <a:stretch/>
        </p:blipFill>
        <p:spPr>
          <a:xfrm>
            <a:off x="500040" y="2928960"/>
            <a:ext cx="2428920" cy="11430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7"/>
          <p:cNvSpPr/>
          <p:nvPr/>
        </p:nvSpPr>
        <p:spPr>
          <a:xfrm>
            <a:off x="285840" y="452916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Arial"/>
              </a:rPr>
              <a:t>Ένα συμβάν της ακολουθί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8"/>
          <p:cNvSpPr/>
          <p:nvPr/>
        </p:nvSpPr>
        <p:spPr>
          <a:xfrm rot="16200000">
            <a:off x="733320" y="4019040"/>
            <a:ext cx="533160" cy="714240"/>
          </a:xfrm>
          <a:custGeom>
            <a:avLst/>
            <a:gdLst>
              <a:gd name="textAreaLeft" fmla="*/ 340560 w 533160"/>
              <a:gd name="textAreaRight" fmla="*/ 533520 w 533160"/>
              <a:gd name="textAreaTop" fmla="*/ 35640 h 714240"/>
              <a:gd name="textAreaBottom" fmla="*/ 678600 h 71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28"/>
                  <a:pt x="10800" y="3456"/>
                </a:cubicBezTo>
                <a:lnTo>
                  <a:pt x="10800" y="7344"/>
                </a:lnTo>
                <a:cubicBezTo>
                  <a:pt x="10800" y="9072"/>
                  <a:pt x="5400" y="10800"/>
                  <a:pt x="0" y="10800"/>
                </a:cubicBezTo>
                <a:cubicBezTo>
                  <a:pt x="5400" y="10800"/>
                  <a:pt x="10800" y="12528"/>
                  <a:pt x="10800" y="14256"/>
                </a:cubicBezTo>
                <a:lnTo>
                  <a:pt x="10800" y="18144"/>
                </a:lnTo>
                <a:cubicBezTo>
                  <a:pt x="10800" y="1987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357120" y="207180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Arial"/>
              </a:rPr>
              <a:t>Αντικείμενα/Συμβάν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0"/>
          <p:cNvSpPr/>
          <p:nvPr/>
        </p:nvSpPr>
        <p:spPr>
          <a:xfrm>
            <a:off x="857160" y="2500200"/>
            <a:ext cx="0" cy="357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1"/>
          <p:cNvSpPr/>
          <p:nvPr/>
        </p:nvSpPr>
        <p:spPr>
          <a:xfrm>
            <a:off x="1143000" y="2500200"/>
            <a:ext cx="0" cy="357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699080" y="1352160"/>
            <a:ext cx="4302000" cy="57636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Arial"/>
              </a:rPr>
              <a:t>Χώρο-χρονικά δεδομέν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9" descr="sst_land_temp_82_best"/>
          <p:cNvPicPr/>
          <p:nvPr/>
        </p:nvPicPr>
        <p:blipFill>
          <a:blip r:embed="rId2"/>
          <a:stretch/>
        </p:blipFill>
        <p:spPr>
          <a:xfrm>
            <a:off x="4871880" y="2143080"/>
            <a:ext cx="4057920" cy="290196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2"/>
          <p:cNvSpPr/>
          <p:nvPr/>
        </p:nvSpPr>
        <p:spPr>
          <a:xfrm>
            <a:off x="3429000" y="2357280"/>
            <a:ext cx="1928880" cy="1191240"/>
          </a:xfrm>
          <a:prstGeom prst="rect">
            <a:avLst/>
          </a:prstGeom>
          <a:solidFill>
            <a:srgbClr val="2da2bf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έσες μηνιαίες θερμοκρασίες στην ξηρά και τον ωκεαν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Ποιότητα δεδομένων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13840" y="1352160"/>
            <a:ext cx="42814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Τι είδους προβλήματα ποιότητας υπάρχουν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Πώς ανιχνεύουμε προβλήματα στα δεδομένα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Πως αντιμετωπίζουμε τα προβλήματα αυτά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844520" y="1352520"/>
            <a:ext cx="38862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Παραδείγματα προβλημάτων ποιότητας δεδομένω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Θόρυβος και εξαιρέ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Ανύπαρκτες τιμέ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Διπλότυπ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Θόρυβος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2920" y="1352520"/>
            <a:ext cx="3643200" cy="36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Ο θόρυβος αναφέρεται σε αλλοιώσεις των αρχικών τιμών μιας ιδιότητ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61720">
              <a:lnSpc>
                <a:spcPct val="10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Παράδειγμα: παραμόρφωση στο σήμα ομιλίας λόγω κακής ποιότητας ενός μικροφώνου, χιόνια σε σήμα τηλεόρασης λόγω κακής λήψης, κτ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1"/>
          <a:srcRect l="6250" t="0" r="0" b="0"/>
          <a:stretch/>
        </p:blipFill>
        <p:spPr>
          <a:xfrm>
            <a:off x="5715000" y="285840"/>
            <a:ext cx="3367080" cy="2143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"/>
          <p:cNvPicPr/>
          <p:nvPr/>
        </p:nvPicPr>
        <p:blipFill>
          <a:blip r:embed="rId2"/>
          <a:srcRect l="8394" t="0" r="6250" b="0"/>
          <a:stretch/>
        </p:blipFill>
        <p:spPr>
          <a:xfrm>
            <a:off x="5767560" y="2500200"/>
            <a:ext cx="3079440" cy="2428920"/>
          </a:xfrm>
          <a:prstGeom prst="rect">
            <a:avLst/>
          </a:prstGeom>
          <a:ln w="0">
            <a:noFill/>
          </a:ln>
        </p:spPr>
      </p:pic>
      <p:sp>
        <p:nvSpPr>
          <p:cNvPr id="378" name="TextBox 7"/>
          <p:cNvSpPr/>
          <p:nvPr/>
        </p:nvSpPr>
        <p:spPr>
          <a:xfrm>
            <a:off x="3849840" y="1500120"/>
            <a:ext cx="1541520" cy="642600"/>
          </a:xfrm>
          <a:prstGeom prst="rect">
            <a:avLst/>
          </a:prstGeom>
          <a:solidFill>
            <a:srgbClr val="39639d"/>
          </a:solidFill>
          <a:ln w="19080">
            <a:solidFill>
              <a:srgbClr val="274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2 ημιτονοειδ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σήμα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"/>
          <p:cNvSpPr/>
          <p:nvPr/>
        </p:nvSpPr>
        <p:spPr>
          <a:xfrm>
            <a:off x="3857760" y="3714840"/>
            <a:ext cx="1857240" cy="916920"/>
          </a:xfrm>
          <a:prstGeom prst="rect">
            <a:avLst/>
          </a:prstGeom>
          <a:solidFill>
            <a:srgbClr val="da1f28"/>
          </a:solidFill>
          <a:ln w="19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2 ημιτονοειδ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σήματα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ε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θόρυβ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Εξαιρέσεις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85840" y="1352160"/>
            <a:ext cx="4209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Οι εξαιρέσεις (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outliers)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είναι δεδομένα με χαρακτηριστικά που διαφέρουν σημαντικά από τα περισσότερα δεδομένα του συνόλο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4"/>
          <p:cNvGrpSpPr/>
          <p:nvPr/>
        </p:nvGrpSpPr>
        <p:grpSpPr>
          <a:xfrm>
            <a:off x="4643280" y="1495440"/>
            <a:ext cx="4267080" cy="3504960"/>
            <a:chOff x="4643280" y="1495440"/>
            <a:chExt cx="4267080" cy="3504960"/>
          </a:xfrm>
        </p:grpSpPr>
        <p:pic>
          <p:nvPicPr>
            <p:cNvPr id="383" name="Picture 5" descr=""/>
            <p:cNvPicPr/>
            <p:nvPr/>
          </p:nvPicPr>
          <p:blipFill>
            <a:blip r:embed="rId1"/>
            <a:stretch/>
          </p:blipFill>
          <p:spPr>
            <a:xfrm>
              <a:off x="4643280" y="1495440"/>
              <a:ext cx="426708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Oval 6"/>
            <p:cNvSpPr/>
            <p:nvPr/>
          </p:nvSpPr>
          <p:spPr>
            <a:xfrm>
              <a:off x="4881240" y="2455920"/>
              <a:ext cx="173520" cy="15732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7"/>
            <p:cNvSpPr/>
            <p:nvPr/>
          </p:nvSpPr>
          <p:spPr>
            <a:xfrm>
              <a:off x="5166360" y="2948400"/>
              <a:ext cx="173520" cy="15696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8"/>
            <p:cNvSpPr/>
            <p:nvPr/>
          </p:nvSpPr>
          <p:spPr>
            <a:xfrm>
              <a:off x="8611200" y="4159800"/>
              <a:ext cx="173880" cy="15912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9"/>
            <p:cNvSpPr/>
            <p:nvPr/>
          </p:nvSpPr>
          <p:spPr>
            <a:xfrm>
              <a:off x="5999040" y="4283280"/>
              <a:ext cx="173520" cy="15696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0"/>
            <p:cNvSpPr/>
            <p:nvPr/>
          </p:nvSpPr>
          <p:spPr>
            <a:xfrm>
              <a:off x="7261920" y="2664000"/>
              <a:ext cx="387360" cy="44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1"/>
            <p:cNvSpPr/>
            <p:nvPr/>
          </p:nvSpPr>
          <p:spPr>
            <a:xfrm>
              <a:off x="5127840" y="2753280"/>
              <a:ext cx="388080" cy="44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Ανύπαρκτες τιμές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57120" y="1352160"/>
            <a:ext cx="413856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Λόγοι ανύπαρκτων τιμώ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εν συλλέγεται η πληροφορία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.χ. ορισμένοι αρνούνται να αποκαλύψουν την ηλικία ή το βάρος του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ι ιδιότητες δεν χαρακτηρίζουν όλα τα δεδομέν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.χ. το εισόδημα δεν εφαρμόζεται στα παιδι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844520" y="1352520"/>
            <a:ext cx="388620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Πως χειριζόμαστε τις ανύπαρκτες τιμέ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Αφαίρεση δεδομένων που τις περιέχου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Εκτίμηση των τιμ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Να τις αγνοήσουμ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Αντικατάσταση με όλες τις πιθανές τιμές (με στάθμιση των πιθανοτήτων του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Διπλότυπα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09480" y="1352520"/>
            <a:ext cx="767736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Το σύνολο δεδομένων μπορεί να περιλαμβάνει δεδομένα με διπλές εγγραφές ή σχεδόν διπλότυπ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εγάλο ζήτημα όταν συνενώνονται δεδομένα από ετερογενείς πηγέ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Παραδείγματα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Ένα άτομο με πολλές διευθύνσεις ηλ. ταχυδρομείο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Καθαρισμός δεδομένω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Η διαδικασία εξομάλυνσης του προβλήματος των διπλότυπ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00200" y="35434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Arial"/>
              </a:rPr>
              <a:t>Ενότητα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l-GR" sz="2500" spc="-1" strike="noStrike">
                <a:solidFill>
                  <a:srgbClr val="ffffff"/>
                </a:solidFill>
                <a:latin typeface="Arial"/>
              </a:rPr>
              <a:t>: Δεδομένα</a:t>
            </a:r>
            <a:endParaRPr b="0" lang="en-US" sz="2500" spc="-1" strike="noStrike">
              <a:solidFill>
                <a:srgbClr val="def5fa"/>
              </a:solidFill>
              <a:latin typeface="Arial"/>
            </a:endParaRPr>
          </a:p>
        </p:txBody>
      </p:sp>
      <p:pic>
        <p:nvPicPr>
          <p:cNvPr id="313" name="Picture 10" descr="edgecrop.png"/>
          <p:cNvPicPr/>
          <p:nvPr/>
        </p:nvPicPr>
        <p:blipFill>
          <a:blip r:embed="rId1"/>
          <a:srcRect l="0" t="0" r="0" b="39588"/>
          <a:stretch/>
        </p:blipFill>
        <p:spPr>
          <a:xfrm>
            <a:off x="1571760" y="0"/>
            <a:ext cx="7572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Προ-επεξεργασία δεδομένων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09480" y="1352160"/>
            <a:ext cx="810576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Συνάθροιση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Δειγματοληψία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Μείωση Διαστατικότητα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Επιλογή υποσυνόλου ιδιοτήτω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Δημιουργία ιδιοτήτω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Διακριτοποίηση και Δυαδοποίηση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Μετασχηματισμός Ιδιοτήτω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Συνάθροιση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13840" y="1352160"/>
            <a:ext cx="42814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Ο συνδυασμός 2 ή περισσοτέρων ιδιοτήτων (ή αντικειμένων) σε μια μοναδική ιδιότητα (ή αντικείμενο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844520" y="1352520"/>
            <a:ext cx="38862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Σκοπό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ίωση δεδομέν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ίωση του αριθμού των ιδιοτήτων ή αντικειμέν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λλαγή κλίμακ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ι πόλεις συναθροίζονται σε νομούς, περιφέρειες, χώρες, κτ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ιο «σταθερά» δεδομέν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α συναθροισμένα δεδομένα τείνουν να έχουν λιγότερη μεταβλητότη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Συνάθροιση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401" name="Picture 8" descr=""/>
          <p:cNvPicPr/>
          <p:nvPr/>
        </p:nvPicPr>
        <p:blipFill>
          <a:blip r:embed="rId1"/>
          <a:srcRect l="2974" t="0" r="18165" b="0"/>
          <a:stretch/>
        </p:blipFill>
        <p:spPr>
          <a:xfrm>
            <a:off x="428760" y="1442880"/>
            <a:ext cx="3205080" cy="3048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9" descr=""/>
          <p:cNvPicPr/>
          <p:nvPr/>
        </p:nvPicPr>
        <p:blipFill>
          <a:blip r:embed="rId2"/>
          <a:srcRect l="7862" t="0" r="5853" b="0"/>
          <a:stretch/>
        </p:blipFill>
        <p:spPr>
          <a:xfrm>
            <a:off x="4892760" y="1442880"/>
            <a:ext cx="3566880" cy="3048120"/>
          </a:xfrm>
          <a:prstGeom prst="rect">
            <a:avLst/>
          </a:prstGeom>
          <a:ln w="0">
            <a:noFill/>
          </a:ln>
        </p:spPr>
      </p:pic>
      <p:sp>
        <p:nvSpPr>
          <p:cNvPr id="403" name="TextBox 6"/>
          <p:cNvSpPr/>
          <p:nvPr/>
        </p:nvSpPr>
        <p:spPr>
          <a:xfrm>
            <a:off x="2076840" y="1285920"/>
            <a:ext cx="48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Μεταβολή ατμοσφαιρικής πίεσης στην Αυστραλί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7"/>
          <p:cNvSpPr/>
          <p:nvPr/>
        </p:nvSpPr>
        <p:spPr>
          <a:xfrm>
            <a:off x="1873800" y="4572000"/>
            <a:ext cx="977760" cy="368280"/>
          </a:xfrm>
          <a:prstGeom prst="rect">
            <a:avLst/>
          </a:prstGeom>
          <a:solidFill>
            <a:srgbClr val="eb641b"/>
          </a:solidFill>
          <a:ln w="19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Μηνιαί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8"/>
          <p:cNvSpPr/>
          <p:nvPr/>
        </p:nvSpPr>
        <p:spPr>
          <a:xfrm>
            <a:off x="6132240" y="4500720"/>
            <a:ext cx="874080" cy="368280"/>
          </a:xfrm>
          <a:prstGeom prst="rect">
            <a:avLst/>
          </a:prstGeom>
          <a:solidFill>
            <a:srgbClr val="39639d"/>
          </a:solidFill>
          <a:ln w="19080">
            <a:solidFill>
              <a:srgbClr val="274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Ετήσι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Δειγματοληψία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214200" y="1352520"/>
            <a:ext cx="457200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ίναι η κύρια τεχνική για επιλογή δεδομέν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Χρησιμοποιείται τόσο σε προκαταρκτικές έρευνες όσο και στην τελική ανάλυση δεδομέν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ι στατιστικολόγοι κάνουν δειγματοληψία επειδή η απόκτηση όλων των δεδομένων είναι ακριβή ή χρονοβόρ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844520" y="1352520"/>
            <a:ext cx="38862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ρχή αποτελεσματικής δειγματοληψία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 το δείγμα είναι αντιπροσωπευτικό, θα δουλέψει το ίδιο καλά με το συνολικό σώμα δεδομέν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να δείγμα είναι αντιπροσωπευτικό εάν έχει προσεγγιστικά την ίδια ιδιότητα με το αρχικό σύνολο δεδομένων (π.χ. κατανομή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Τύποι δειγματοληψίας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14200" y="1352520"/>
            <a:ext cx="8358480" cy="36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πλή τυχαία δειγματοληψί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Υπάρχει ίδια πιθανότητα επιλογής ενός αντικειμέν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ειγματοληψία χωρίς αντικατάστασ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Όταν επιλέγεται ένα αντικείμενο, αφαιρείται από τον πληθυσμ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πιλέγεται μόνο μια φορ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ειγματοληψία με αντικατάστασ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ίδιο αντικείμενο μπορεί να επιλεχθεί περισσότερο από μια φορ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ιαστρωματική δειγματοληψί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ιαχωρισμός των δεδομένων σε τομείς, και επιλογή τυχαίων αντικειμένων από κάθε τομέ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Η κατάρα της διαστατικότητας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13840" y="1352160"/>
            <a:ext cx="42814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Όταν αυξάνουν οι διαστάσεις (ιδιότητες), τα δεδομένα γίνονται ολοένα και πιο αραιά στον πολυδιάστατο χώρο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Η απόσταση και η πυκνότητα μεταξύ των σημείων που είναι κρίσιμες για την ομαδοποίηση ή την ανίχνευση εξαιρέσεων χάνουν τη σημασία του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1" descr=""/>
          <p:cNvPicPr/>
          <p:nvPr/>
        </p:nvPicPr>
        <p:blipFill>
          <a:blip r:embed="rId1"/>
          <a:stretch/>
        </p:blipFill>
        <p:spPr>
          <a:xfrm>
            <a:off x="5143680" y="1071720"/>
            <a:ext cx="3786120" cy="284004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13"/>
          <p:cNvSpPr/>
          <p:nvPr/>
        </p:nvSpPr>
        <p:spPr>
          <a:xfrm>
            <a:off x="5072040" y="4000680"/>
            <a:ext cx="3929040" cy="1057680"/>
          </a:xfrm>
          <a:prstGeom prst="rect">
            <a:avLst/>
          </a:prstGeom>
          <a:solidFill>
            <a:srgbClr val="eb641b"/>
          </a:solidFill>
          <a:ln w="19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Arial"/>
              </a:rPr>
              <a:t>Τυχαία δημιουργία 500 σημείω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Arial"/>
              </a:rPr>
              <a:t>Υπολογισμός της διαφοράς μεταξύ μέγιστης και ελάχιστης απόστασης μεταξύ όλων των ζευγών σημείω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Μείωση διαστατικότητας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09120" y="1352520"/>
            <a:ext cx="38862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κοπό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ποφυγή της «κατάρας» της διαστατικότητ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ίωση χρόνου και χώρου για τους αλγόριθμους εξόρυξης δεδομέν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πιτρέπει την οπτικοποίηση των δεδομέν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οηθάει στην αφαίρεση άσχετων ιδιοτήτων  ή στη μείωση του θορύβο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844520" y="1352520"/>
            <a:ext cx="38862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Τεχνικέ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inciple Component Analysis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C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ngular Value Decomposition (SV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Άλλες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: 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τεχνικές επίβλεψης και μη-γραμμικές τεχνικέ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Μείωση διαστατικότητας:</a:t>
            </a:r>
            <a:r>
              <a:rPr b="0" lang="en-US" sz="4200" spc="-1" strike="noStrike">
                <a:solidFill>
                  <a:srgbClr val="464646"/>
                </a:solidFill>
                <a:latin typeface="Tw Cen MT"/>
              </a:rPr>
              <a:t> PCA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09120" y="1352520"/>
            <a:ext cx="38862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Ο στόχος είναι η εύρεση μιας προβολής που αιχμαλωτίζει τη μεγαλύτερη ποσότητα διασποράς των δεδομένω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30"/>
          <p:cNvGrpSpPr/>
          <p:nvPr/>
        </p:nvGrpSpPr>
        <p:grpSpPr>
          <a:xfrm>
            <a:off x="5009040" y="1473840"/>
            <a:ext cx="3529800" cy="3253320"/>
            <a:chOff x="5009040" y="1473840"/>
            <a:chExt cx="3529800" cy="3253320"/>
          </a:xfrm>
        </p:grpSpPr>
        <p:sp>
          <p:nvSpPr>
            <p:cNvPr id="421" name="Line 34"/>
            <p:cNvSpPr/>
            <p:nvPr/>
          </p:nvSpPr>
          <p:spPr>
            <a:xfrm flipV="1">
              <a:off x="5511960" y="1550520"/>
              <a:ext cx="0" cy="262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35"/>
            <p:cNvSpPr/>
            <p:nvPr/>
          </p:nvSpPr>
          <p:spPr>
            <a:xfrm>
              <a:off x="5511960" y="4179960"/>
              <a:ext cx="27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36"/>
            <p:cNvSpPr/>
            <p:nvPr/>
          </p:nvSpPr>
          <p:spPr>
            <a:xfrm flipV="1">
              <a:off x="5524560" y="2764800"/>
              <a:ext cx="2590920" cy="1400040"/>
            </a:xfrm>
            <a:prstGeom prst="line">
              <a:avLst/>
            </a:prstGeom>
            <a:ln w="28440">
              <a:solidFill>
                <a:srgbClr val="46464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37"/>
            <p:cNvSpPr/>
            <p:nvPr/>
          </p:nvSpPr>
          <p:spPr>
            <a:xfrm>
              <a:off x="6058080" y="3586320"/>
              <a:ext cx="74520" cy="77760"/>
            </a:xfrm>
            <a:prstGeom prst="ellipse">
              <a:avLst/>
            </a:prstGeom>
            <a:solidFill>
              <a:srgbClr val="2da2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38"/>
            <p:cNvSpPr/>
            <p:nvPr/>
          </p:nvSpPr>
          <p:spPr>
            <a:xfrm>
              <a:off x="6337440" y="3362400"/>
              <a:ext cx="74520" cy="77760"/>
            </a:xfrm>
            <a:prstGeom prst="ellipse">
              <a:avLst/>
            </a:prstGeom>
            <a:solidFill>
              <a:srgbClr val="2da2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39"/>
            <p:cNvSpPr/>
            <p:nvPr/>
          </p:nvSpPr>
          <p:spPr>
            <a:xfrm>
              <a:off x="5867280" y="3876840"/>
              <a:ext cx="74520" cy="77760"/>
            </a:xfrm>
            <a:prstGeom prst="ellipse">
              <a:avLst/>
            </a:prstGeom>
            <a:solidFill>
              <a:srgbClr val="2da2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40"/>
            <p:cNvSpPr/>
            <p:nvPr/>
          </p:nvSpPr>
          <p:spPr>
            <a:xfrm>
              <a:off x="6477120" y="3468600"/>
              <a:ext cx="74520" cy="75960"/>
            </a:xfrm>
            <a:prstGeom prst="ellipse">
              <a:avLst/>
            </a:prstGeom>
            <a:solidFill>
              <a:srgbClr val="2da2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41"/>
            <p:cNvSpPr/>
            <p:nvPr/>
          </p:nvSpPr>
          <p:spPr>
            <a:xfrm>
              <a:off x="6324480" y="3573360"/>
              <a:ext cx="74520" cy="77760"/>
            </a:xfrm>
            <a:prstGeom prst="ellipse">
              <a:avLst/>
            </a:prstGeom>
            <a:solidFill>
              <a:srgbClr val="2da2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42"/>
            <p:cNvSpPr/>
            <p:nvPr/>
          </p:nvSpPr>
          <p:spPr>
            <a:xfrm>
              <a:off x="6896160" y="3560760"/>
              <a:ext cx="74520" cy="77760"/>
            </a:xfrm>
            <a:prstGeom prst="ellipse">
              <a:avLst/>
            </a:prstGeom>
            <a:solidFill>
              <a:srgbClr val="2da2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43"/>
            <p:cNvSpPr/>
            <p:nvPr/>
          </p:nvSpPr>
          <p:spPr>
            <a:xfrm>
              <a:off x="6769080" y="3890880"/>
              <a:ext cx="74520" cy="77760"/>
            </a:xfrm>
            <a:prstGeom prst="ellipse">
              <a:avLst/>
            </a:prstGeom>
            <a:solidFill>
              <a:srgbClr val="2da2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44"/>
            <p:cNvSpPr/>
            <p:nvPr/>
          </p:nvSpPr>
          <p:spPr>
            <a:xfrm>
              <a:off x="6540480" y="3784680"/>
              <a:ext cx="74520" cy="77760"/>
            </a:xfrm>
            <a:prstGeom prst="ellipse">
              <a:avLst/>
            </a:prstGeom>
            <a:solidFill>
              <a:srgbClr val="2da2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45"/>
            <p:cNvSpPr/>
            <p:nvPr/>
          </p:nvSpPr>
          <p:spPr>
            <a:xfrm>
              <a:off x="6730920" y="3243240"/>
              <a:ext cx="74520" cy="77760"/>
            </a:xfrm>
            <a:prstGeom prst="ellipse">
              <a:avLst/>
            </a:prstGeom>
            <a:solidFill>
              <a:srgbClr val="2da2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46"/>
            <p:cNvSpPr/>
            <p:nvPr/>
          </p:nvSpPr>
          <p:spPr>
            <a:xfrm>
              <a:off x="7328160" y="3362400"/>
              <a:ext cx="74520" cy="77760"/>
            </a:xfrm>
            <a:prstGeom prst="ellipse">
              <a:avLst/>
            </a:prstGeom>
            <a:solidFill>
              <a:srgbClr val="2da2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47"/>
            <p:cNvSpPr/>
            <p:nvPr/>
          </p:nvSpPr>
          <p:spPr>
            <a:xfrm>
              <a:off x="7709040" y="2846160"/>
              <a:ext cx="74520" cy="77760"/>
            </a:xfrm>
            <a:prstGeom prst="ellipse">
              <a:avLst/>
            </a:prstGeom>
            <a:solidFill>
              <a:srgbClr val="2da2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48"/>
            <p:cNvSpPr/>
            <p:nvPr/>
          </p:nvSpPr>
          <p:spPr>
            <a:xfrm>
              <a:off x="6172200" y="3916440"/>
              <a:ext cx="74520" cy="77760"/>
            </a:xfrm>
            <a:prstGeom prst="ellipse">
              <a:avLst/>
            </a:prstGeom>
            <a:solidFill>
              <a:srgbClr val="2da2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49"/>
            <p:cNvSpPr/>
            <p:nvPr/>
          </p:nvSpPr>
          <p:spPr>
            <a:xfrm>
              <a:off x="6997680" y="3216240"/>
              <a:ext cx="74520" cy="77760"/>
            </a:xfrm>
            <a:prstGeom prst="ellipse">
              <a:avLst/>
            </a:prstGeom>
            <a:solidFill>
              <a:srgbClr val="2da2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50"/>
            <p:cNvSpPr/>
            <p:nvPr/>
          </p:nvSpPr>
          <p:spPr>
            <a:xfrm>
              <a:off x="7277040" y="2925720"/>
              <a:ext cx="74520" cy="77760"/>
            </a:xfrm>
            <a:prstGeom prst="ellipse">
              <a:avLst/>
            </a:prstGeom>
            <a:solidFill>
              <a:srgbClr val="2da2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51"/>
            <p:cNvSpPr/>
            <p:nvPr/>
          </p:nvSpPr>
          <p:spPr>
            <a:xfrm>
              <a:off x="6515280" y="3255840"/>
              <a:ext cx="74520" cy="77760"/>
            </a:xfrm>
            <a:prstGeom prst="ellipse">
              <a:avLst/>
            </a:prstGeom>
            <a:solidFill>
              <a:srgbClr val="2da2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52"/>
            <p:cNvSpPr/>
            <p:nvPr/>
          </p:nvSpPr>
          <p:spPr>
            <a:xfrm>
              <a:off x="7124760" y="3058920"/>
              <a:ext cx="74520" cy="75960"/>
            </a:xfrm>
            <a:prstGeom prst="ellipse">
              <a:avLst/>
            </a:prstGeom>
            <a:solidFill>
              <a:srgbClr val="2da2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53"/>
            <p:cNvSpPr/>
            <p:nvPr/>
          </p:nvSpPr>
          <p:spPr>
            <a:xfrm>
              <a:off x="7239240" y="3600360"/>
              <a:ext cx="74520" cy="77760"/>
            </a:xfrm>
            <a:prstGeom prst="ellipse">
              <a:avLst/>
            </a:prstGeom>
            <a:solidFill>
              <a:srgbClr val="2da2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4"/>
            <p:cNvSpPr/>
            <p:nvPr/>
          </p:nvSpPr>
          <p:spPr>
            <a:xfrm>
              <a:off x="5683320" y="2733480"/>
              <a:ext cx="2313000" cy="1596960"/>
            </a:xfrm>
            <a:custGeom>
              <a:avLst/>
              <a:gdLst>
                <a:gd name="textAreaLeft" fmla="*/ 0 w 2313000"/>
                <a:gd name="textAreaRight" fmla="*/ 2313360 w 2313000"/>
                <a:gd name="textAreaTop" fmla="*/ 0 h 1596960"/>
                <a:gd name="textAreaBottom" fmla="*/ 1597320 h 1596960"/>
              </a:gdLst>
              <a:ahLst/>
              <a:rect l="textAreaLeft" t="textAreaTop" r="textAreaRight" b="textAreaBottom"/>
              <a:pathLst>
                <a:path w="1457" h="968">
                  <a:moveTo>
                    <a:pt x="4" y="796"/>
                  </a:moveTo>
                  <a:cubicBezTo>
                    <a:pt x="8" y="703"/>
                    <a:pt x="93" y="499"/>
                    <a:pt x="212" y="388"/>
                  </a:cubicBezTo>
                  <a:cubicBezTo>
                    <a:pt x="331" y="277"/>
                    <a:pt x="525" y="193"/>
                    <a:pt x="716" y="132"/>
                  </a:cubicBezTo>
                  <a:cubicBezTo>
                    <a:pt x="907" y="71"/>
                    <a:pt x="1255" y="0"/>
                    <a:pt x="1356" y="20"/>
                  </a:cubicBezTo>
                  <a:cubicBezTo>
                    <a:pt x="1457" y="40"/>
                    <a:pt x="1393" y="139"/>
                    <a:pt x="1324" y="252"/>
                  </a:cubicBezTo>
                  <a:cubicBezTo>
                    <a:pt x="1255" y="365"/>
                    <a:pt x="1129" y="584"/>
                    <a:pt x="940" y="700"/>
                  </a:cubicBezTo>
                  <a:cubicBezTo>
                    <a:pt x="751" y="816"/>
                    <a:pt x="344" y="928"/>
                    <a:pt x="188" y="948"/>
                  </a:cubicBezTo>
                  <a:cubicBezTo>
                    <a:pt x="32" y="968"/>
                    <a:pt x="0" y="889"/>
                    <a:pt x="4" y="796"/>
                  </a:cubicBezTo>
                  <a:close/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55"/>
            <p:cNvSpPr/>
            <p:nvPr/>
          </p:nvSpPr>
          <p:spPr>
            <a:xfrm>
              <a:off x="5994360" y="4102200"/>
              <a:ext cx="74520" cy="77760"/>
            </a:xfrm>
            <a:prstGeom prst="ellipse">
              <a:avLst/>
            </a:prstGeom>
            <a:solidFill>
              <a:srgbClr val="2da2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56"/>
            <p:cNvSpPr/>
            <p:nvPr/>
          </p:nvSpPr>
          <p:spPr>
            <a:xfrm>
              <a:off x="5009040" y="147384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57"/>
            <p:cNvSpPr/>
            <p:nvPr/>
          </p:nvSpPr>
          <p:spPr>
            <a:xfrm>
              <a:off x="8117280" y="421704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58"/>
            <p:cNvSpPr/>
            <p:nvPr/>
          </p:nvSpPr>
          <p:spPr>
            <a:xfrm>
              <a:off x="8186400" y="2413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Επιλογή υποσυνόλου ιδιοτήτων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214200" y="1352520"/>
            <a:ext cx="8390160" cy="36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Εναλλακτικός τρόπος μείωσης της διαστατικότητα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Πλεονάζοντα χαρακτηριστικ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εριγράφουν πολύ πληροφορία που ήδη υπάρχει σε άλλες ιδιότητε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αράδειγμα: η τιμή ενός προϊόντος και η τιμή του φόρου που του αναλογε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Μη σχετικά χαρακτηριστικ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εν περιέχουν πληροφορία που μπορεί να αξιοποιηθεί για την εφαρμογή που ενδιαφέρε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αράδειγμα: το ΑΦΜ ενός πολίτη είναι άσχετο για την εφαρμογή πρόβλεψης της πιστοληπτικής ικανότητας τ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lnSpc>
                <a:spcPct val="80000"/>
              </a:lnSpc>
              <a:spcBef>
                <a:spcPts val="4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Δημιουργία ιδιοτήτων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09120" y="1352520"/>
            <a:ext cx="38862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Δημιουργία νέων ιδιοτήτων που μπορούν να αιχμαλωτίζουν σημαντική πληροφορία ενός συνόλου δεδομένων πιο αποτελεσματικά από τις αρχικές ιδιότητε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844520" y="1352520"/>
            <a:ext cx="38862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3 κύριες προσεγγίσει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ξαγωγή Ιδιοτήτων από ειδήμονε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.χ. στην ιατρικ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ντιστοίχιση δεδομένων σε νέο χώρ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Συνδυασμός ιδιοτήτ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ραμμικός, με χρήση πιθανοτήτων, κτ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Τι ονομάζουμε δεδομένα;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71320" y="1352520"/>
            <a:ext cx="3886200" cy="36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υλλογή </a:t>
            </a:r>
            <a:r>
              <a:rPr b="0" lang="el-GR" sz="1800" spc="-1" strike="noStrike">
                <a:solidFill>
                  <a:srgbClr val="ff0000"/>
                </a:solidFill>
                <a:latin typeface="Calibri"/>
              </a:rPr>
              <a:t>αντικειμένων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και των </a:t>
            </a:r>
            <a:r>
              <a:rPr b="0" lang="el-GR" sz="1800" spc="-1" strike="noStrike">
                <a:solidFill>
                  <a:srgbClr val="ff0000"/>
                </a:solidFill>
                <a:latin typeface="Calibri"/>
              </a:rPr>
              <a:t>ιδιοτήτων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του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ια </a:t>
            </a:r>
            <a:r>
              <a:rPr b="0" lang="el-GR" sz="1800" spc="-1" strike="noStrike">
                <a:solidFill>
                  <a:srgbClr val="ff0000"/>
                </a:solidFill>
                <a:latin typeface="Calibri"/>
              </a:rPr>
              <a:t>ιδιότητα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είναι ένα χαρακτηριστικό ενός αντικειμένο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lnSpc>
                <a:spcPct val="10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Calibri"/>
              </a:rPr>
              <a:t>Παραδείγματα: χρώμα ματιών, θερμοκρασία, εισόδημα, φύλο, κτ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lnSpc>
                <a:spcPct val="10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Calibri"/>
              </a:rPr>
              <a:t>Συνώνυμα: μεταβλητή, πεδίο, χαρακτηριστικό, γνώρισμα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ια συλλογή ιδιοτήτων περιγράφει ένα </a:t>
            </a:r>
            <a:r>
              <a:rPr b="0" lang="el-GR" sz="1800" spc="-1" strike="noStrike">
                <a:solidFill>
                  <a:srgbClr val="ff0000"/>
                </a:solidFill>
                <a:latin typeface="Calibri"/>
              </a:rPr>
              <a:t>αντικείμεν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lnSpc>
                <a:spcPct val="10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Calibri"/>
              </a:rPr>
              <a:t>Συνώνυμα: εγγραφή, σημείο, περίπτωση, δείγμα, οντότητα ή στιγμιότυπ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16"/>
          <p:cNvGrpSpPr/>
          <p:nvPr/>
        </p:nvGrpSpPr>
        <p:grpSpPr>
          <a:xfrm>
            <a:off x="5664240" y="890640"/>
            <a:ext cx="3468600" cy="4149720"/>
            <a:chOff x="5664240" y="890640"/>
            <a:chExt cx="3468600" cy="4149720"/>
          </a:xfrm>
        </p:grpSpPr>
        <p:graphicFrame>
          <p:nvGraphicFramePr>
            <p:cNvPr id="317" name="Object 5"/>
            <p:cNvGraphicFramePr/>
            <p:nvPr/>
          </p:nvGraphicFramePr>
          <p:xfrm>
            <a:off x="5664240" y="1327320"/>
            <a:ext cx="3468600" cy="37130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1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64240" y="1327320"/>
                      <a:ext cx="3468600" cy="371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AutoShape 12"/>
            <p:cNvSpPr/>
            <p:nvPr/>
          </p:nvSpPr>
          <p:spPr>
            <a:xfrm rot="5400000">
              <a:off x="7149600" y="-480960"/>
              <a:ext cx="381240" cy="3124440"/>
            </a:xfrm>
            <a:custGeom>
              <a:avLst/>
              <a:gdLst>
                <a:gd name="textAreaLeft" fmla="*/ 243720 w 381240"/>
                <a:gd name="textAreaRight" fmla="*/ 381600 w 381240"/>
                <a:gd name="textAreaTop" fmla="*/ 81360 h 3124440"/>
                <a:gd name="textAreaBottom" fmla="*/ 304308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14"/>
          <p:cNvSpPr/>
          <p:nvPr/>
        </p:nvSpPr>
        <p:spPr>
          <a:xfrm>
            <a:off x="6500880" y="3571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Calibri"/>
                <a:ea typeface="Arial"/>
              </a:rPr>
              <a:t>Ιδιότητ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5"/>
          <p:cNvSpPr/>
          <p:nvPr/>
        </p:nvSpPr>
        <p:spPr>
          <a:xfrm>
            <a:off x="5281560" y="1805040"/>
            <a:ext cx="380880" cy="3124080"/>
          </a:xfrm>
          <a:custGeom>
            <a:avLst/>
            <a:gdLst>
              <a:gd name="textAreaLeft" fmla="*/ 243360 w 380880"/>
              <a:gd name="textAreaRight" fmla="*/ 381240 w 38088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7"/>
          <p:cNvSpPr/>
          <p:nvPr/>
        </p:nvSpPr>
        <p:spPr>
          <a:xfrm>
            <a:off x="4214880" y="31766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0000"/>
                </a:solidFill>
                <a:latin typeface="Calibri"/>
                <a:ea typeface="Arial"/>
              </a:rPr>
              <a:t>Αντικείμεν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Αντιστοίχηση σε νέο χώρο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09120" y="1285920"/>
            <a:ext cx="388620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ετασχηματισμό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vel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6" descr=""/>
          <p:cNvPicPr/>
          <p:nvPr/>
        </p:nvPicPr>
        <p:blipFill>
          <a:blip r:embed="rId1"/>
          <a:srcRect l="0" t="0" r="8295" b="0"/>
          <a:stretch/>
        </p:blipFill>
        <p:spPr>
          <a:xfrm>
            <a:off x="5791320" y="2071800"/>
            <a:ext cx="3352680" cy="27414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7" descr=""/>
          <p:cNvPicPr/>
          <p:nvPr/>
        </p:nvPicPr>
        <p:blipFill>
          <a:blip r:embed="rId2"/>
          <a:srcRect l="6257" t="0" r="0" b="0"/>
          <a:stretch/>
        </p:blipFill>
        <p:spPr>
          <a:xfrm>
            <a:off x="0" y="2071800"/>
            <a:ext cx="3427560" cy="2741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"/>
          <p:cNvPicPr/>
          <p:nvPr/>
        </p:nvPicPr>
        <p:blipFill>
          <a:blip r:embed="rId3"/>
          <a:srcRect l="8337" t="0" r="6207" b="0"/>
          <a:stretch/>
        </p:blipFill>
        <p:spPr>
          <a:xfrm>
            <a:off x="3048120" y="2071800"/>
            <a:ext cx="3124080" cy="274140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9"/>
          <p:cNvSpPr/>
          <p:nvPr/>
        </p:nvSpPr>
        <p:spPr>
          <a:xfrm>
            <a:off x="357120" y="48387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Δυο ημιτονοειδή κύμα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3143160" y="4838760"/>
            <a:ext cx="31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Δυο ημιτονοειδή με θόρυβ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6353280" y="48387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Συχνότη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Διακριτοποίηση με τιμές κλάσης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09120" y="1352520"/>
            <a:ext cx="467676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Με βάση την εντροπία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6" descr=""/>
          <p:cNvPicPr/>
          <p:nvPr/>
        </p:nvPicPr>
        <p:blipFill>
          <a:blip r:embed="rId1"/>
          <a:stretch/>
        </p:blipFill>
        <p:spPr>
          <a:xfrm>
            <a:off x="714240" y="1785960"/>
            <a:ext cx="3786480" cy="28400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9" descr=""/>
          <p:cNvPicPr/>
          <p:nvPr/>
        </p:nvPicPr>
        <p:blipFill>
          <a:blip r:embed="rId2"/>
          <a:srcRect l="4598" t="0" r="0" b="0"/>
          <a:stretch/>
        </p:blipFill>
        <p:spPr>
          <a:xfrm>
            <a:off x="5000760" y="1763640"/>
            <a:ext cx="3571920" cy="280836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5"/>
          <p:cNvSpPr/>
          <p:nvPr/>
        </p:nvSpPr>
        <p:spPr>
          <a:xfrm>
            <a:off x="1247760" y="46432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Arial"/>
              </a:rPr>
              <a:t>3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κατηγορίες ανά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Arial"/>
              </a:rPr>
              <a:t>x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και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8"/>
          <p:cNvSpPr/>
          <p:nvPr/>
        </p:nvSpPr>
        <p:spPr>
          <a:xfrm>
            <a:off x="5410080" y="4643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Arial"/>
              </a:rPr>
              <a:t>5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κατηγορίες ανά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Arial"/>
              </a:rPr>
              <a:t>x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και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Διακριτοποίηση χωρίς τιμές κλάσης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466" name="Picture 4" descr=""/>
          <p:cNvPicPr/>
          <p:nvPr/>
        </p:nvPicPr>
        <p:blipFill>
          <a:blip r:embed="rId1"/>
          <a:stretch/>
        </p:blipFill>
        <p:spPr>
          <a:xfrm>
            <a:off x="1071720" y="1368360"/>
            <a:ext cx="3043080" cy="15224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5" descr=""/>
          <p:cNvPicPr/>
          <p:nvPr/>
        </p:nvPicPr>
        <p:blipFill>
          <a:blip r:embed="rId2"/>
          <a:stretch/>
        </p:blipFill>
        <p:spPr>
          <a:xfrm>
            <a:off x="4754520" y="1368360"/>
            <a:ext cx="3170160" cy="1522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"/>
          <p:cNvPicPr/>
          <p:nvPr/>
        </p:nvPicPr>
        <p:blipFill>
          <a:blip r:embed="rId3"/>
          <a:stretch/>
        </p:blipFill>
        <p:spPr>
          <a:xfrm>
            <a:off x="1084320" y="3214800"/>
            <a:ext cx="3106800" cy="16221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2" descr=""/>
          <p:cNvPicPr/>
          <p:nvPr/>
        </p:nvPicPr>
        <p:blipFill>
          <a:blip r:embed="rId4"/>
          <a:stretch/>
        </p:blipFill>
        <p:spPr>
          <a:xfrm>
            <a:off x="4703760" y="3270240"/>
            <a:ext cx="3297240" cy="152388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8"/>
          <p:cNvSpPr/>
          <p:nvPr/>
        </p:nvSpPr>
        <p:spPr>
          <a:xfrm>
            <a:off x="1447920" y="271476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Δεδομέν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4876920" y="2714760"/>
            <a:ext cx="24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Με ίσα διαστήμα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1295280" y="4714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Ίσες συχνότητ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1"/>
          <p:cNvSpPr/>
          <p:nvPr/>
        </p:nvSpPr>
        <p:spPr>
          <a:xfrm>
            <a:off x="5000760" y="4714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Arial"/>
              </a:rPr>
              <a:t>K-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Μετασχηματισμός ιδιοτήτων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609120" y="1352160"/>
            <a:ext cx="7605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Μια συνάρτηση που αντιστοιχίζει το σύνολο των τιμών μιας ιδιότητας σε ένα νέο σύνολο τιμών, τέτοιων ώστε κάθε παλαιά τιμή να ταυτοποιείται από μια νέα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Απλές συναρτή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x</a:t>
            </a:r>
            <a:r>
              <a:rPr b="0" lang="en-US" sz="2300" spc="-1" strike="noStrike" baseline="30000">
                <a:solidFill>
                  <a:srgbClr val="000000"/>
                </a:solidFill>
                <a:latin typeface="Tw Cen MT"/>
              </a:rPr>
              <a:t>k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, log(x), e</a:t>
            </a:r>
            <a:r>
              <a:rPr b="0" lang="en-US" sz="2300" spc="-1" strike="noStrike" baseline="30000">
                <a:solidFill>
                  <a:srgbClr val="000000"/>
                </a:solidFill>
                <a:latin typeface="Tw Cen MT"/>
              </a:rPr>
              <a:t>x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, |x|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Συναρτήσεις κανονικοποίησ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Ομοιότητες και ανομοιότητες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09120" y="1352520"/>
            <a:ext cx="38862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Ομοιότη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ριθμητική μέτρηση του πόσο μοιάζουν δυο αντικείμε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γαλώνει όταν τα αντικείμενα μοιάζου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χνά εμπίπτει στο όριο [0,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844520" y="1352520"/>
            <a:ext cx="38862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νομοιότητ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ριθμητική μέτρηση του πόσο διαφορετικά είναι δυο αντικείμεν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ιώνεται όταν τα αντικείμενα μοιάζου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ελάχιστη ανομοιότητα είναι συχνά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ανώτατο όριο διαφέρει από περίπτωση σε περίπτω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2357280" y="4425840"/>
            <a:ext cx="4572000" cy="642600"/>
          </a:xfrm>
          <a:prstGeom prst="rect">
            <a:avLst/>
          </a:prstGeom>
          <a:solidFill>
            <a:srgbClr val="7d3c4a"/>
          </a:solidFill>
          <a:ln w="19080">
            <a:solidFill>
              <a:srgbClr val="5a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Η εγγύτητα αναφέρεται στην ομοιότητα ή την ανομοιότη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800" spc="-1" strike="noStrike">
                <a:solidFill>
                  <a:srgbClr val="464646"/>
                </a:solidFill>
                <a:latin typeface="Arial"/>
              </a:rPr>
              <a:t>Ομοιότητες και μη για απλές ιδιότητες</a:t>
            </a:r>
            <a:endParaRPr b="0" lang="en-US" sz="3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609120" y="1214280"/>
            <a:ext cx="824868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Έστω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,q</a:t>
            </a: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 δυο ιδιότητες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785880" y="1785960"/>
          <a:ext cx="8072280" cy="3300480"/>
        </p:xfrm>
        <a:graphic>
          <a:graphicData uri="http://schemas.openxmlformats.org/drawingml/2006/table">
            <a:tbl>
              <a:tblPr/>
              <a:tblGrid>
                <a:gridCol w="1714320"/>
                <a:gridCol w="3191040"/>
                <a:gridCol w="3166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Τύπος ιδιότητ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Ανομοιότητα 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Ομοιότητα 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76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m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25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Ord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Οι τιμές κυμαίνονται από 0 έως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-1, 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όπου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 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ο αριθμός των τιμώ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nterval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ή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3" name="Object 2"/>
          <p:cNvGraphicFramePr/>
          <p:nvPr/>
        </p:nvGraphicFramePr>
        <p:xfrm>
          <a:off x="3287880" y="2428920"/>
          <a:ext cx="13572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7880" y="2428920"/>
                    <a:ext cx="13572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3"/>
          <p:cNvGraphicFramePr/>
          <p:nvPr/>
        </p:nvGraphicFramePr>
        <p:xfrm>
          <a:off x="6143760" y="2471760"/>
          <a:ext cx="125064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3760" y="2471760"/>
                    <a:ext cx="1250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Object 4"/>
          <p:cNvGraphicFramePr/>
          <p:nvPr/>
        </p:nvGraphicFramePr>
        <p:xfrm>
          <a:off x="3859200" y="3643200"/>
          <a:ext cx="1052640" cy="64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9200" y="3643200"/>
                    <a:ext cx="105264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Object 5"/>
          <p:cNvGraphicFramePr/>
          <p:nvPr/>
        </p:nvGraphicFramePr>
        <p:xfrm>
          <a:off x="6215040" y="3571920"/>
          <a:ext cx="1143000" cy="57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15040" y="3571920"/>
                    <a:ext cx="1143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6"/>
          <p:cNvGraphicFramePr/>
          <p:nvPr/>
        </p:nvGraphicFramePr>
        <p:xfrm>
          <a:off x="3643200" y="4572000"/>
          <a:ext cx="1114560" cy="428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43200" y="4572000"/>
                    <a:ext cx="11145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Object 7"/>
          <p:cNvGraphicFramePr/>
          <p:nvPr/>
        </p:nvGraphicFramePr>
        <p:xfrm>
          <a:off x="5929200" y="4500720"/>
          <a:ext cx="2963880" cy="500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29200" y="4500720"/>
                    <a:ext cx="29638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Ευκλείδεια απόσταση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13840" y="1352160"/>
            <a:ext cx="428652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Τύπος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Όπου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 ο αριθμός των διαστάσεων (ιδιότητες) και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-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οστή ιδιότητα των αντικειμένων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,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Η κανονικοποίηση επιβάλλεται εάν διαφέρουν οι κλίμακε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Object 2"/>
          <p:cNvGraphicFramePr/>
          <p:nvPr/>
        </p:nvGraphicFramePr>
        <p:xfrm>
          <a:off x="1328760" y="1830240"/>
          <a:ext cx="172404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830240"/>
                    <a:ext cx="172404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Object 3"/>
          <p:cNvGraphicFramePr/>
          <p:nvPr/>
        </p:nvGraphicFramePr>
        <p:xfrm>
          <a:off x="4143240" y="1357200"/>
          <a:ext cx="2733840" cy="20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3240" y="1357200"/>
                    <a:ext cx="273384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Object 4"/>
          <p:cNvGraphicFramePr/>
          <p:nvPr/>
        </p:nvGraphicFramePr>
        <p:xfrm>
          <a:off x="6858000" y="1428840"/>
          <a:ext cx="2232000" cy="1285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0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1428840"/>
                    <a:ext cx="22320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Object 5"/>
          <p:cNvGraphicFramePr/>
          <p:nvPr/>
        </p:nvGraphicFramePr>
        <p:xfrm>
          <a:off x="4786200" y="3571920"/>
          <a:ext cx="4213440" cy="1365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0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6200" y="3571920"/>
                    <a:ext cx="421344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Απόσταση </a:t>
            </a:r>
            <a:r>
              <a:rPr b="0" lang="en-US" sz="4200" spc="-1" strike="noStrike">
                <a:solidFill>
                  <a:srgbClr val="464646"/>
                </a:solidFill>
                <a:latin typeface="Tw Cen MT"/>
              </a:rPr>
              <a:t>Minkowski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09120" y="1352520"/>
            <a:ext cx="38862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Τύπο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Όπου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 μια παράμετρος,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 ο αριθμός των διαστάσεων, και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-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οστή ιδιότητα των αντικειμένων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,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Object 2"/>
          <p:cNvGraphicFramePr/>
          <p:nvPr/>
        </p:nvGraphicFramePr>
        <p:xfrm>
          <a:off x="1284120" y="1889280"/>
          <a:ext cx="1716120" cy="61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4120" y="1889280"/>
                    <a:ext cx="171612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Content Placeholder 2"/>
          <p:cNvSpPr/>
          <p:nvPr/>
        </p:nvSpPr>
        <p:spPr>
          <a:xfrm>
            <a:off x="4643280" y="1357200"/>
            <a:ext cx="4357800" cy="3786480"/>
          </a:xfrm>
          <a:prstGeom prst="rect">
            <a:avLst/>
          </a:prstGeom>
          <a:solidFill>
            <a:srgbClr val="39639d"/>
          </a:solidFill>
          <a:ln w="10080">
            <a:solidFill>
              <a:srgbClr val="39639d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1.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απόσταση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ity block (Manhattan, taxicab, L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norm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‘</a:t>
            </a:r>
            <a:r>
              <a:rPr b="0" lang="el-GR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Ένα κοινό παράδειγμα είναι η απόσταση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Hamming </a:t>
            </a:r>
            <a:r>
              <a:rPr b="0" lang="el-GR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που είναι απλά ο αριθμός των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bits </a:t>
            </a:r>
            <a:r>
              <a:rPr b="0" lang="el-GR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που διαφέρουν μεταξύ δυο δυαδικών διανυσμάτω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7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2.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Ευκλείδεια απόστα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7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 “supremum” (L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max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rm, L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rm)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απόστασ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Η μέγιστη διαφορά μεταξύ οποιασδήποτε διάστασης των διανυσμάτω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7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Μη συγχέετε το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με το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Όλες οι παραπάνω αποστάσει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ορίζονται για όλες τις διαστάσει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Απόσταση </a:t>
            </a:r>
            <a:r>
              <a:rPr b="0" lang="en-US" sz="4200" spc="-1" strike="noStrike">
                <a:solidFill>
                  <a:srgbClr val="464646"/>
                </a:solidFill>
                <a:latin typeface="Tw Cen MT"/>
              </a:rPr>
              <a:t>Minkowski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511" name="Object 2"/>
          <p:cNvGraphicFramePr/>
          <p:nvPr/>
        </p:nvGraphicFramePr>
        <p:xfrm>
          <a:off x="928800" y="3571920"/>
          <a:ext cx="3079800" cy="141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3571920"/>
                    <a:ext cx="307980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Object 3"/>
          <p:cNvGraphicFramePr/>
          <p:nvPr/>
        </p:nvGraphicFramePr>
        <p:xfrm>
          <a:off x="4857840" y="1425600"/>
          <a:ext cx="3879720" cy="1074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7840" y="1425600"/>
                    <a:ext cx="387972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4"/>
          <p:cNvGraphicFramePr/>
          <p:nvPr/>
        </p:nvGraphicFramePr>
        <p:xfrm>
          <a:off x="4857840" y="2639880"/>
          <a:ext cx="3879720" cy="1074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1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7840" y="2639880"/>
                    <a:ext cx="3879720" cy="10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5"/>
          <p:cNvGraphicFramePr/>
          <p:nvPr/>
        </p:nvGraphicFramePr>
        <p:xfrm>
          <a:off x="4846680" y="3929040"/>
          <a:ext cx="3835440" cy="10825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1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46680" y="3929040"/>
                    <a:ext cx="383544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Object 6"/>
          <p:cNvGraphicFramePr/>
          <p:nvPr/>
        </p:nvGraphicFramePr>
        <p:xfrm>
          <a:off x="797040" y="1338120"/>
          <a:ext cx="3417840" cy="259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97040" y="1338120"/>
                    <a:ext cx="34178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Απόσταση </a:t>
            </a:r>
            <a:r>
              <a:rPr b="0" lang="en-US" sz="4200" spc="-1" strike="noStrike">
                <a:solidFill>
                  <a:srgbClr val="464646"/>
                </a:solidFill>
                <a:latin typeface="Tw Cen MT"/>
              </a:rPr>
              <a:t>Mahalanobis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2"/>
              <p:cNvSpPr txBox="1"/>
              <p:nvPr/>
            </p:nvSpPr>
            <p:spPr>
              <a:xfrm>
                <a:off x="915840" y="1490760"/>
                <a:ext cx="376560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halanobis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)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</m:e>
                    </m:nary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q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523" name="Picture 3" descr=""/>
          <p:cNvPicPr/>
          <p:nvPr/>
        </p:nvPicPr>
        <p:blipFill>
          <a:blip r:embed="rId1"/>
          <a:srcRect l="5223" t="3235" r="7318" b="0"/>
          <a:stretch/>
        </p:blipFill>
        <p:spPr>
          <a:xfrm>
            <a:off x="142920" y="1932120"/>
            <a:ext cx="4548240" cy="3211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4" name="Object 3"/>
              <p:cNvSpPr txBox="1"/>
              <p:nvPr/>
            </p:nvSpPr>
            <p:spPr>
              <a:xfrm>
                <a:off x="4559400" y="2428920"/>
                <a:ext cx="41558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25" name="Text Box 6"/>
          <p:cNvSpPr/>
          <p:nvPr/>
        </p:nvSpPr>
        <p:spPr>
          <a:xfrm>
            <a:off x="5572080" y="142884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Arial"/>
              </a:rPr>
              <a:t>Όπου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Arial"/>
              </a:rPr>
              <a:t> ο πίνακας συν-διασποράς των δεδομένων Χ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4714920" y="3429000"/>
            <a:ext cx="4143240" cy="916920"/>
          </a:xfrm>
          <a:prstGeom prst="rect">
            <a:avLst/>
          </a:prstGeom>
          <a:solidFill>
            <a:srgbClr val="2da2bf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Για τα κόκκινα σημεία, η Ευκλείδεια απόσταση είναι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7,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η απόσταση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halanobis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είναι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Τιμές ιδιοτήτων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09480" y="1352520"/>
            <a:ext cx="8320320" cy="36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Οι τιμές είναι αριθμοί ή σύμβολα που ανατίθενται σε μια ιδιότη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Διαφορά τιμών από ιδιότη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ια ιδιότητα μπορεί να έχει διαφορετικές τιμέ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Το ύψος μπορεί να εκφραστεί σε μέτρα ή πόδια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ιαφορετικές ιδιότητες μπορεί να έχουν κοινές τιμέ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Η ηλικία και το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 είναι ακέραιο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lnSpc>
                <a:spcPct val="80000"/>
              </a:lnSpc>
              <a:spcBef>
                <a:spcPts val="4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Έχουν όμως άλλα γνωρίσματα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lnSpc>
                <a:spcPct val="80000"/>
              </a:lnSpc>
              <a:spcBef>
                <a:spcPts val="4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 δεν έχει όριο ενώ η ηλικία έχει μέγιστο και ελάχιστο όριο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Απόσταση </a:t>
            </a:r>
            <a:r>
              <a:rPr b="0" lang="en-US" sz="4200" spc="-1" strike="noStrike">
                <a:solidFill>
                  <a:srgbClr val="464646"/>
                </a:solidFill>
                <a:latin typeface="Tw Cen MT"/>
              </a:rPr>
              <a:t>Mahalanobis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528" name="Group 14"/>
          <p:cNvGrpSpPr/>
          <p:nvPr/>
        </p:nvGrpSpPr>
        <p:grpSpPr>
          <a:xfrm>
            <a:off x="214200" y="1352520"/>
            <a:ext cx="8501040" cy="3602160"/>
            <a:chOff x="214200" y="1352520"/>
            <a:chExt cx="8501040" cy="3602160"/>
          </a:xfrm>
        </p:grpSpPr>
        <p:grpSp>
          <p:nvGrpSpPr>
            <p:cNvPr id="529" name="Group 3"/>
            <p:cNvGrpSpPr/>
            <p:nvPr/>
          </p:nvGrpSpPr>
          <p:grpSpPr>
            <a:xfrm>
              <a:off x="214200" y="1352520"/>
              <a:ext cx="5808240" cy="3434040"/>
              <a:chOff x="214200" y="1352520"/>
              <a:chExt cx="5808240" cy="3434040"/>
            </a:xfrm>
          </p:grpSpPr>
          <p:pic>
            <p:nvPicPr>
              <p:cNvPr id="530" name="Picture 4" descr=""/>
              <p:cNvPicPr/>
              <p:nvPr/>
            </p:nvPicPr>
            <p:blipFill>
              <a:blip r:embed="rId1"/>
              <a:srcRect l="7691" t="4397" r="6594" b="4735"/>
              <a:stretch/>
            </p:blipFill>
            <p:spPr>
              <a:xfrm>
                <a:off x="214200" y="1352520"/>
                <a:ext cx="5808240" cy="343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1" name="Line 5"/>
              <p:cNvSpPr/>
              <p:nvPr/>
            </p:nvSpPr>
            <p:spPr>
              <a:xfrm flipV="1">
                <a:off x="2332440" y="2591280"/>
                <a:ext cx="1707840" cy="80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6"/>
              <p:cNvSpPr/>
              <p:nvPr/>
            </p:nvSpPr>
            <p:spPr>
              <a:xfrm flipH="1" flipV="1">
                <a:off x="1580400" y="3021840"/>
                <a:ext cx="751680" cy="37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Text Box 7"/>
            <p:cNvSpPr/>
            <p:nvPr/>
          </p:nvSpPr>
          <p:spPr>
            <a:xfrm>
              <a:off x="5954760" y="1406160"/>
              <a:ext cx="276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Πίνακας συν-διασποράς</a:t>
              </a: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4" name="Object 2"/>
                <p:cNvSpPr txBox="1"/>
                <p:nvPr/>
              </p:nvSpPr>
              <p:spPr>
                <a:xfrm>
                  <a:off x="6215040" y="1785960"/>
                  <a:ext cx="1845000" cy="70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35" name="Text Box 9"/>
            <p:cNvSpPr/>
            <p:nvPr/>
          </p:nvSpPr>
          <p:spPr>
            <a:xfrm>
              <a:off x="1307880" y="2860560"/>
              <a:ext cx="3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10"/>
            <p:cNvSpPr/>
            <p:nvPr/>
          </p:nvSpPr>
          <p:spPr>
            <a:xfrm>
              <a:off x="2195280" y="3355920"/>
              <a:ext cx="3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11"/>
            <p:cNvSpPr/>
            <p:nvPr/>
          </p:nvSpPr>
          <p:spPr>
            <a:xfrm>
              <a:off x="3903480" y="232236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6227640" y="2500200"/>
              <a:ext cx="1776240" cy="24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A: (0.5, 0.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B: (0, 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C: (1.5, 1.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Mahal(A,B) =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Mahal(A,C) = 4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Ιδιότητες της απόστασης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13840" y="1352160"/>
            <a:ext cx="42814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αποστάσεις, όπως η Ευκλείδεια, έχουν ορισμένες γνωστές ιδιότητ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(p, q)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ια όλα τα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(p, q) =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όνο αν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(p, q) = d(q, 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ια όλα τα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μμετρί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, r)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(p, q) + d(q, 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ια όλα τα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ριγωνική ανισότητ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844520" y="1352520"/>
            <a:ext cx="38862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26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Όποια απόσταση ικανοποιεί τις ιδιότητες αυτές ονομάζεται </a:t>
            </a:r>
            <a:r>
              <a:rPr b="0" lang="el-GR" sz="2900" spc="-1" strike="noStrike">
                <a:solidFill>
                  <a:srgbClr val="ff0000"/>
                </a:solidFill>
                <a:latin typeface="Calibri"/>
              </a:rPr>
              <a:t>μετρική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800" spc="-1" strike="noStrike">
                <a:solidFill>
                  <a:srgbClr val="464646"/>
                </a:solidFill>
                <a:latin typeface="Arial"/>
              </a:rPr>
              <a:t>Ομοιότητα μεταξύ δυαδικών διανυσμάτων</a:t>
            </a:r>
            <a:endParaRPr b="0" lang="en-US" sz="3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213840" y="1352520"/>
            <a:ext cx="4281480" cy="36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Μια κοινή περίπτωση είναι αυτή όπου δυο αντικείμενα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, q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 έχουν μόνο δυαδικές ιδιότητε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Υπολογίστε τις ιδιότητες με βάση τα παρακάτω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MMI10"/>
              </a:rPr>
              <a:t>M</a:t>
            </a:r>
            <a:r>
              <a:rPr b="0" lang="en-US" sz="1300" spc="-1" strike="noStrike" baseline="-25000">
                <a:solidFill>
                  <a:srgbClr val="000000"/>
                </a:solidFill>
                <a:latin typeface="CMR7"/>
              </a:rPr>
              <a:t>01</a:t>
            </a:r>
            <a:r>
              <a:rPr b="0" lang="en-US" sz="1300" spc="-1" strike="noStrike">
                <a:solidFill>
                  <a:srgbClr val="000000"/>
                </a:solidFill>
                <a:latin typeface="CMR7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mr10"/>
              </a:rPr>
              <a:t>= </a:t>
            </a:r>
            <a:r>
              <a:rPr b="0" lang="el-GR" sz="1300" spc="-1" strike="noStrike">
                <a:solidFill>
                  <a:srgbClr val="000000"/>
                </a:solidFill>
                <a:latin typeface="cmr10"/>
              </a:rPr>
              <a:t># ιδιοτήτων όπου το </a:t>
            </a:r>
            <a:r>
              <a:rPr b="0" lang="en-US" sz="1300" spc="-1" strike="noStrike">
                <a:solidFill>
                  <a:srgbClr val="000000"/>
                </a:solidFill>
                <a:latin typeface="cmr10"/>
              </a:rPr>
              <a:t>p </a:t>
            </a:r>
            <a:r>
              <a:rPr b="0" lang="el-GR" sz="1300" spc="-1" strike="noStrike">
                <a:solidFill>
                  <a:srgbClr val="000000"/>
                </a:solidFill>
                <a:latin typeface="cmr10"/>
              </a:rPr>
              <a:t>ήταν 0 και το </a:t>
            </a:r>
            <a:r>
              <a:rPr b="0" lang="en-US" sz="1300" spc="-1" strike="noStrike">
                <a:solidFill>
                  <a:srgbClr val="000000"/>
                </a:solidFill>
                <a:latin typeface="cmr10"/>
              </a:rPr>
              <a:t>q</a:t>
            </a:r>
            <a:r>
              <a:rPr b="0" lang="el-GR" sz="1300" spc="-1" strike="noStrike">
                <a:solidFill>
                  <a:srgbClr val="000000"/>
                </a:solidFill>
                <a:latin typeface="cmr10"/>
              </a:rPr>
              <a:t>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MMI10"/>
              </a:rPr>
              <a:t>M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CMR7"/>
              </a:rPr>
              <a:t>10 </a:t>
            </a:r>
            <a:r>
              <a:rPr b="0" lang="en-US" sz="1500" spc="-1" strike="noStrike">
                <a:solidFill>
                  <a:srgbClr val="000000"/>
                </a:solidFill>
                <a:latin typeface="cmr10"/>
              </a:rPr>
              <a:t>= </a:t>
            </a:r>
            <a:r>
              <a:rPr b="0" lang="el-GR" sz="1500" spc="-1" strike="noStrike">
                <a:solidFill>
                  <a:srgbClr val="000000"/>
                </a:solidFill>
                <a:latin typeface="cmr10"/>
              </a:rPr>
              <a:t># ιδιοτήτων όπου το </a:t>
            </a:r>
            <a:r>
              <a:rPr b="0" lang="en-US" sz="1500" spc="-1" strike="noStrike">
                <a:solidFill>
                  <a:srgbClr val="000000"/>
                </a:solidFill>
                <a:latin typeface="cmr10"/>
              </a:rPr>
              <a:t>p </a:t>
            </a:r>
            <a:r>
              <a:rPr b="0" lang="el-GR" sz="1500" spc="-1" strike="noStrike">
                <a:solidFill>
                  <a:srgbClr val="000000"/>
                </a:solidFill>
                <a:latin typeface="cmr10"/>
              </a:rPr>
              <a:t>ήταν 1 και το </a:t>
            </a:r>
            <a:r>
              <a:rPr b="0" lang="en-US" sz="1500" spc="-1" strike="noStrike">
                <a:solidFill>
                  <a:srgbClr val="000000"/>
                </a:solidFill>
                <a:latin typeface="cmr10"/>
              </a:rPr>
              <a:t>q</a:t>
            </a:r>
            <a:r>
              <a:rPr b="0" lang="el-GR" sz="1500" spc="-1" strike="noStrike">
                <a:solidFill>
                  <a:srgbClr val="000000"/>
                </a:solidFill>
                <a:latin typeface="cmr10"/>
              </a:rPr>
              <a:t> 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MMI10"/>
              </a:rPr>
              <a:t>M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CMR7"/>
              </a:rPr>
              <a:t>00</a:t>
            </a:r>
            <a:r>
              <a:rPr b="0" lang="en-US" sz="1500" spc="-1" strike="noStrike">
                <a:solidFill>
                  <a:srgbClr val="000000"/>
                </a:solidFill>
                <a:latin typeface="CMR7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mr10"/>
              </a:rPr>
              <a:t>= </a:t>
            </a:r>
            <a:r>
              <a:rPr b="0" lang="el-GR" sz="1500" spc="-1" strike="noStrike">
                <a:solidFill>
                  <a:srgbClr val="000000"/>
                </a:solidFill>
                <a:latin typeface="cmr10"/>
              </a:rPr>
              <a:t># ιδιοτήτων όπου το </a:t>
            </a:r>
            <a:r>
              <a:rPr b="0" lang="en-US" sz="1500" spc="-1" strike="noStrike">
                <a:solidFill>
                  <a:srgbClr val="000000"/>
                </a:solidFill>
                <a:latin typeface="cmr10"/>
              </a:rPr>
              <a:t>p </a:t>
            </a:r>
            <a:r>
              <a:rPr b="0" lang="el-GR" sz="1500" spc="-1" strike="noStrike">
                <a:solidFill>
                  <a:srgbClr val="000000"/>
                </a:solidFill>
                <a:latin typeface="cmr10"/>
              </a:rPr>
              <a:t>ήταν 0 και το </a:t>
            </a:r>
            <a:r>
              <a:rPr b="0" lang="en-US" sz="1500" spc="-1" strike="noStrike">
                <a:solidFill>
                  <a:srgbClr val="000000"/>
                </a:solidFill>
                <a:latin typeface="cmr10"/>
              </a:rPr>
              <a:t>q</a:t>
            </a:r>
            <a:r>
              <a:rPr b="0" lang="el-GR" sz="1500" spc="-1" strike="noStrike">
                <a:solidFill>
                  <a:srgbClr val="000000"/>
                </a:solidFill>
                <a:latin typeface="cmr10"/>
              </a:rPr>
              <a:t> 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MMI10"/>
              </a:rPr>
              <a:t>M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CMR7"/>
              </a:rPr>
              <a:t>11</a:t>
            </a:r>
            <a:r>
              <a:rPr b="0" lang="en-US" sz="1500" spc="-1" strike="noStrike">
                <a:solidFill>
                  <a:srgbClr val="000000"/>
                </a:solidFill>
                <a:latin typeface="CMR7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mr10"/>
              </a:rPr>
              <a:t>= </a:t>
            </a:r>
            <a:r>
              <a:rPr b="0" lang="el-GR" sz="1500" spc="-1" strike="noStrike">
                <a:solidFill>
                  <a:srgbClr val="000000"/>
                </a:solidFill>
                <a:latin typeface="cmr10"/>
              </a:rPr>
              <a:t># ιδιοτήτων όπου το </a:t>
            </a:r>
            <a:r>
              <a:rPr b="0" lang="en-US" sz="1500" spc="-1" strike="noStrike">
                <a:solidFill>
                  <a:srgbClr val="000000"/>
                </a:solidFill>
                <a:latin typeface="cmr10"/>
              </a:rPr>
              <a:t>p </a:t>
            </a:r>
            <a:r>
              <a:rPr b="0" lang="el-GR" sz="1500" spc="-1" strike="noStrike">
                <a:solidFill>
                  <a:srgbClr val="000000"/>
                </a:solidFill>
                <a:latin typeface="cmr10"/>
              </a:rPr>
              <a:t>ήταν 1 και το </a:t>
            </a:r>
            <a:r>
              <a:rPr b="0" lang="en-US" sz="1500" spc="-1" strike="noStrike">
                <a:solidFill>
                  <a:srgbClr val="000000"/>
                </a:solidFill>
                <a:latin typeface="cmr10"/>
              </a:rPr>
              <a:t>q</a:t>
            </a:r>
            <a:r>
              <a:rPr b="0" lang="el-GR" sz="1500" spc="-1" strike="noStrike">
                <a:solidFill>
                  <a:srgbClr val="000000"/>
                </a:solidFill>
                <a:latin typeface="cmr10"/>
              </a:rPr>
              <a:t>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844520" y="1352520"/>
            <a:ext cx="3886200" cy="36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λό ταίριασμ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mpl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)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ι συντελεστέ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c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M =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αριθμών συμφωνιώ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/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αριθμός ιδιοτήτω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 (M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M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(M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M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M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M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ccard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αριθμός των  ταιριασμάτων με άσσου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/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αριθμός όλων των μη μηδενικών τιμ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(M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/ (M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M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M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Παράδειγμα </a:t>
            </a:r>
            <a:r>
              <a:rPr b="0" lang="en-US" sz="4200" spc="-1" strike="noStrike">
                <a:solidFill>
                  <a:srgbClr val="464646"/>
                </a:solidFill>
                <a:latin typeface="Tw Cen MT"/>
              </a:rPr>
              <a:t>SM </a:t>
            </a: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και </a:t>
            </a:r>
            <a:r>
              <a:rPr b="0" lang="en-US" sz="4200" spc="-1" strike="noStrike">
                <a:solidFill>
                  <a:srgbClr val="464646"/>
                </a:solidFill>
                <a:latin typeface="Tw Cen MT"/>
              </a:rPr>
              <a:t>Jaccard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571680" y="1357200"/>
            <a:ext cx="7289640" cy="3571920"/>
          </a:xfrm>
          <a:prstGeom prst="rect">
            <a:avLst/>
          </a:prstGeom>
          <a:solidFill>
            <a:srgbClr val="eb641b"/>
          </a:solidFill>
          <a:ln w="19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 1 0 0 0 0 0 0 0 0 0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 0 0 0 0 0 0 1 0 0 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MMI10"/>
              </a:rPr>
              <a:t>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MR7"/>
              </a:rPr>
              <a:t>01</a:t>
            </a:r>
            <a:r>
              <a:rPr b="0" lang="en-US" sz="1600" spc="-1" strike="noStrike">
                <a:solidFill>
                  <a:srgbClr val="000000"/>
                </a:solidFill>
                <a:latin typeface="CMR7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mr10"/>
              </a:rPr>
              <a:t>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MMI10"/>
              </a:rPr>
              <a:t>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MR7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CMR7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mr10"/>
              </a:rPr>
              <a:t>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MMI10"/>
              </a:rPr>
              <a:t>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MR7"/>
              </a:rPr>
              <a:t>00</a:t>
            </a:r>
            <a:r>
              <a:rPr b="0" lang="en-US" sz="1600" spc="-1" strike="noStrike">
                <a:solidFill>
                  <a:srgbClr val="000000"/>
                </a:solidFill>
                <a:latin typeface="CMR7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mr10"/>
              </a:rPr>
              <a:t>=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MMI10"/>
              </a:rPr>
              <a:t>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MR7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CMR7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mr10"/>
              </a:rPr>
              <a:t>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M = (M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M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/(M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M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M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M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= (0+7) / (2+1+0+7) = 0.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 = (M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/ (M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M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M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= 0 / (2 + 1 + 0) =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Ομοιότητα συνημίτονου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639720" y="1285920"/>
            <a:ext cx="80010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Αν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d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w Cen MT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και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d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w Cen MT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είναι δυο διανύσματα εγγράφων τότ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cos(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d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w Cen MT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, d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w Cen MT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 ) =  (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d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w Cen MT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d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w Cen MT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) / ||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d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w Cen MT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|| ||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d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w Cen MT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||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Times New Roman"/>
              </a:rPr>
              <a:t>  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όπου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Times New Roman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σημαίνει εσωτερικό γινόμενο και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Times New Roman"/>
              </a:rPr>
              <a:t>|| 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  <a:ea typeface="Times New Roman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Times New Roman"/>
              </a:rPr>
              <a:t>||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το μήκος του διανύσματος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Times New Roman"/>
              </a:rPr>
              <a:t>d.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Παράδειγμα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d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w Cen MT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=  3 2 0 5 0 0 0 2 0 0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d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w Cen MT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 =  1 0 0 0 0 0 0 1 0 2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w Cen MT"/>
                <a:ea typeface="Times New Roman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  <a:ea typeface="Times New Roman"/>
              </a:rPr>
              <a:t>d</a:t>
            </a:r>
            <a:r>
              <a:rPr b="0" i="1" lang="en-US" sz="1600" spc="-1" strike="noStrike" baseline="-30000">
                <a:solidFill>
                  <a:srgbClr val="000000"/>
                </a:solidFill>
                <a:latin typeface="Tw Cen MT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  <a:ea typeface="Times New Roman"/>
              </a:rPr>
              <a:t>d</a:t>
            </a:r>
            <a:r>
              <a:rPr b="0" i="1" lang="en-US" sz="1600" spc="-1" strike="noStrike" baseline="-30000">
                <a:solidFill>
                  <a:srgbClr val="000000"/>
                </a:solidFill>
                <a:latin typeface="Tw Cen MT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Times New Roman"/>
              </a:rPr>
              <a:t>=  3*1 + 2*0 + 0*0 + 5*0 + 0*0 + 0*0 + 0*0 + 2*1 + 0*0 + 0*2 =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Times New Roman"/>
              </a:rPr>
              <a:t>||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  <a:ea typeface="Times New Roman"/>
              </a:rPr>
              <a:t>d</a:t>
            </a:r>
            <a:r>
              <a:rPr b="0" i="1" lang="en-US" sz="1600" spc="-1" strike="noStrike" baseline="-30000">
                <a:solidFill>
                  <a:srgbClr val="000000"/>
                </a:solidFill>
                <a:latin typeface="Tw Cen MT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Times New Roman"/>
              </a:rPr>
              <a:t>|| = (3*3+2*2+0*0+5*5+0*0+0*0+0*0+2*2+0*0+0*0)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w Cen MT"/>
                <a:ea typeface="Times New Roman"/>
              </a:rPr>
              <a:t>0.5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Times New Roman"/>
              </a:rPr>
              <a:t> =  (42)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w Cen MT"/>
                <a:ea typeface="Times New Roman"/>
              </a:rPr>
              <a:t>0.5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Times New Roman"/>
              </a:rPr>
              <a:t> = 6.4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Times New Roman"/>
              </a:rPr>
              <a:t>||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  <a:ea typeface="Times New Roman"/>
              </a:rPr>
              <a:t>d</a:t>
            </a:r>
            <a:r>
              <a:rPr b="0" i="1" lang="en-US" sz="1600" spc="-1" strike="noStrike" baseline="-30000">
                <a:solidFill>
                  <a:srgbClr val="000000"/>
                </a:solidFill>
                <a:latin typeface="Tw Cen MT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Times New Roman"/>
              </a:rPr>
              <a:t>|| = (1*1+0*0+0*0+0*0+0*0+0*0+0*0+1*1+0*0+2*2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w Cen MT"/>
                <a:ea typeface="Times New Roman"/>
              </a:rPr>
              <a:t>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w Cen MT"/>
                <a:ea typeface="Times New Roman"/>
              </a:rPr>
              <a:t>0.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w Cen MT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Times New Roman"/>
              </a:rPr>
              <a:t>= (6)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w Cen MT"/>
                <a:ea typeface="Times New Roman"/>
              </a:rPr>
              <a:t>0.5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Times New Roman"/>
              </a:rPr>
              <a:t> = 2.2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cos( </a:t>
            </a:r>
            <a:r>
              <a:rPr b="0" i="1" lang="en-U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d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w Cen MT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, d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w Cen MT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 ) = .3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Συσχέτιση (</a:t>
            </a:r>
            <a:r>
              <a:rPr b="0" lang="en-US" sz="4200" spc="-1" strike="noStrike">
                <a:solidFill>
                  <a:srgbClr val="464646"/>
                </a:solidFill>
                <a:latin typeface="Tw Cen MT"/>
              </a:rPr>
              <a:t>Correlation)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213840" y="1517400"/>
            <a:ext cx="38862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Η συσχέτιση μετρά τη γραμμική σχέση μεταξύ αντικειμέν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Για τον υπολογισμό της, κανονικοποιούμε τα δεδομένα και παίρνουμε το εσωτερικό τους γινόμενο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Object 2"/>
          <p:cNvGraphicFramePr/>
          <p:nvPr/>
        </p:nvGraphicFramePr>
        <p:xfrm>
          <a:off x="4357800" y="1892160"/>
          <a:ext cx="4654440" cy="5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7800" y="1892160"/>
                    <a:ext cx="465444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3" name="Object 3"/>
              <p:cNvSpPr txBox="1"/>
              <p:nvPr/>
            </p:nvSpPr>
            <p:spPr>
              <a:xfrm>
                <a:off x="4394160" y="2806560"/>
                <a:ext cx="44388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ean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td</m:t>
                        </m:r>
                      </m:den>
                    </m:f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4"/>
              <p:cNvSpPr txBox="1"/>
              <p:nvPr/>
            </p:nvSpPr>
            <p:spPr>
              <a:xfrm>
                <a:off x="4276800" y="3782880"/>
                <a:ext cx="3921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rrelation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800" spc="-1" strike="noStrike">
                <a:solidFill>
                  <a:srgbClr val="464646"/>
                </a:solidFill>
                <a:latin typeface="Arial"/>
              </a:rPr>
              <a:t>Αξιολογώντας τη συσχέτιση με εικόνες</a:t>
            </a:r>
            <a:endParaRPr b="0" lang="en-US" sz="38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556" name="Object 2"/>
          <p:cNvGraphicFramePr/>
          <p:nvPr/>
        </p:nvGraphicFramePr>
        <p:xfrm>
          <a:off x="142920" y="1428840"/>
          <a:ext cx="6215040" cy="36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428840"/>
                    <a:ext cx="621504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Text Box 4"/>
          <p:cNvSpPr/>
          <p:nvPr/>
        </p:nvSpPr>
        <p:spPr>
          <a:xfrm>
            <a:off x="6643800" y="2568600"/>
            <a:ext cx="2286000" cy="1465560"/>
          </a:xfrm>
          <a:prstGeom prst="rect">
            <a:avLst/>
          </a:prstGeom>
          <a:solidFill>
            <a:srgbClr val="eb641b"/>
          </a:solidFill>
          <a:ln w="19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Διαγράμματα διασπορά που δείχνουν τη συσχέτιση από το -1 έως το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Πυκνότητα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609480" y="1352520"/>
            <a:ext cx="810576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Ευκλείδεια πυκνότητα, βασισμένη σε κελι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Διαιρούμε την περιοχή σε κελιά και κατασκευάζουμε ένα πίνακα με τον αριθμό των αντικειμένων κάθε περιοχή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1"/>
          <a:srcRect l="0" t="2131" r="0" b="14316"/>
          <a:stretch/>
        </p:blipFill>
        <p:spPr>
          <a:xfrm>
            <a:off x="642960" y="2714760"/>
            <a:ext cx="784872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Πυκνότητα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563" name="Content Placeholder 4" descr=""/>
          <p:cNvPicPr/>
          <p:nvPr/>
        </p:nvPicPr>
        <p:blipFill>
          <a:blip r:embed="rId1"/>
          <a:srcRect l="0" t="0" r="0" b="23312"/>
          <a:stretch/>
        </p:blipFill>
        <p:spPr>
          <a:xfrm>
            <a:off x="1571760" y="2643120"/>
            <a:ext cx="5067000" cy="235764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 txBox="1"/>
          <p:nvPr/>
        </p:nvSpPr>
        <p:spPr>
          <a:xfrm>
            <a:off x="609480" y="1352520"/>
            <a:ext cx="810576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Ευκλείδεια πυκνότητα, βασισμένη στο κέντρο σημεί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Διαγράφουμε ένα κύκλο με συγκεκριμένη ακτίνα γύρω από ένα σημείο και επιστρέφουμε τον αριθμό των δεδομένων που περικλείε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400" spc="-1" strike="noStrike">
                <a:solidFill>
                  <a:srgbClr val="000000"/>
                </a:solidFill>
                <a:latin typeface="Calibri"/>
              </a:rPr>
              <a:t>ΤΕΛΟ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Τύποι ιδιοτήτων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09480" y="1352160"/>
            <a:ext cx="80344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Υπάρχουν διαφορετικοί τύποι ιδιοτή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νομαστικές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ΑΔΤ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ταχ. κώδικες, χρώμα ματιών, κτ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κτικές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Κλίμακες (π.χ. θετική γνώμη για ένα πολιτικό σε κλίμακα 1-10), βαθμοί, ύψος (ψηλός, κανονικός, κοντός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ιαστήματα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Ημερομηνίες, θερμοκρασίες κελσίου ή Φαρενάιτ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αλογικές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Θερμοκρασίες Κέλβιν, μήκος, ώρα, μετρήσεις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Χαρακτηριστικά των τιμών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560" y="1352160"/>
            <a:ext cx="4352760" cy="32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Ο τύπος μιας ιδιότητας εξαρτάται στα χαρακτηριστικά τα οποία τη διέπου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τομικότη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άξ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 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όσθεσ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λλαπλασιαστικότη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844520" y="1352520"/>
            <a:ext cx="4084920" cy="33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minal: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Ατομικότητα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rdinal: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Ατομικότητα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τάξη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terval: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Ατομικότητα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τάξη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πρόσθεση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atio :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και τα 4 χαρακτηριστικά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Διακριτές και συνεχείς ιδιότητες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2560" y="1352520"/>
            <a:ext cx="4352760" cy="36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Διακριτές ιδιότητε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Έχει ένα πεπερασμένο σύνολο τιμώ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αραδείγματα: λέξεις, ταχυδρομικοί κωδικοί, χώρες, ονόματα, κτ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Συχνά αναπαρίστανται ως ακέραιο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ημείωση: οι δυαδικές ιδιότητες αποτελούν ειδική περίπτωση διακριτών ιδιοτήτ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844520" y="1352520"/>
            <a:ext cx="4084920" cy="33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Συνεχείς Ιδιότητε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Έχουν πραγματικούς αριθμούς ως τιμέ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αραδείγματα: θερμοκρασία, ύψος, χρόνος, κτλ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Πρακτικά, οι πραγματικοί αριθμοί αναπαρίστανται από πεπερασμένο αριθμό ψηφίων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Οι συνεχείς ιδιότητες αναπαρίστανται ως μεταβλητές κινητής υποδιαστολής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Σώματα δεδομένων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56760" y="1352520"/>
            <a:ext cx="4643640" cy="36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Εγγραφέ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alibri"/>
              </a:rPr>
              <a:t>Πίνακας δεδομένω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alibri"/>
              </a:rPr>
              <a:t>Έγγραφ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alibri"/>
              </a:rPr>
              <a:t>Δεδομένα συναλλαγώ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Γράφο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World Wide 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alibri"/>
              </a:rPr>
              <a:t>Μοριακές δομέ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Ταξινομημέν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alibri"/>
              </a:rPr>
              <a:t>Χωρικά δεδομέν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alibri"/>
              </a:rPr>
              <a:t>Χρονικά δεδομέν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alibri"/>
              </a:rPr>
              <a:t>Σειριακά δεδομέν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alibri"/>
              </a:rPr>
              <a:t>Γενετικές σειρέ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844880" y="1352160"/>
            <a:ext cx="429912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5000"/>
              </a:lnSpc>
              <a:spcBef>
                <a:spcPts val="799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Χαρακτηριστικ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5000"/>
              </a:lnSpc>
              <a:spcBef>
                <a:spcPts val="499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Διαστατικότη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95000"/>
              </a:lnSpc>
              <a:spcBef>
                <a:spcPts val="4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Η κατάρα της διαστατικότητα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5000"/>
              </a:lnSpc>
              <a:spcBef>
                <a:spcPts val="499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Αραιότη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95000"/>
              </a:lnSpc>
              <a:spcBef>
                <a:spcPts val="4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Μετράει μόνο η παρουσί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5000"/>
              </a:lnSpc>
              <a:spcBef>
                <a:spcPts val="499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Ανάλυ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95000"/>
              </a:lnSpc>
              <a:spcBef>
                <a:spcPts val="4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Τα πρότυπα εξαρτώνται από την κλίμακ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464646"/>
                </a:solidFill>
                <a:latin typeface="Calibri"/>
              </a:rPr>
              <a:t>Εγγραφές</a:t>
            </a:r>
            <a:endParaRPr b="0" lang="en-US" sz="4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13840" y="1357200"/>
            <a:ext cx="38862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Δεδομένα που αποτελούνται από συλλογές αντικειμένων που περιέχουν ένα κλειστό σύνολο ιδιοτήτω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rcRect l="0" t="4846" r="9586" b="8445"/>
          <a:stretch/>
        </p:blipFill>
        <p:spPr>
          <a:xfrm>
            <a:off x="3571920" y="857160"/>
            <a:ext cx="5572080" cy="45720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7"/>
          <p:cNvSpPr/>
          <p:nvPr/>
        </p:nvSpPr>
        <p:spPr>
          <a:xfrm>
            <a:off x="4983840" y="571680"/>
            <a:ext cx="3786480" cy="368280"/>
          </a:xfrm>
          <a:prstGeom prst="rect">
            <a:avLst/>
          </a:prstGeom>
          <a:solidFill>
            <a:srgbClr val="eb641b"/>
          </a:solidFill>
          <a:ln w="19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ηγή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KA, University of Waik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20:12:06Z</dcterms:created>
  <dc:creator/>
  <dc:description/>
  <dc:language>en-US</dc:language>
  <cp:lastModifiedBy/>
  <dcterms:modified xsi:type="dcterms:W3CDTF">2020-10-21T20:48:12Z</dcterms:modified>
  <cp:revision>42</cp:revision>
  <dc:subject/>
  <dc:title>ΑΠΟΘΗΚΕΣ ΔΕΔΟΜΕΝΩΝ ΚΑΙ ΕΞΟΡΥΞΗ ΓΝΩΣΗ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33</vt:r8>
  </property>
  <property fmtid="{D5CDD505-2E9C-101B-9397-08002B2CF9AE}" pid="3" name="_Version">
    <vt:lpwstr>12.0.4518</vt:lpwstr>
  </property>
</Properties>
</file>