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F95-D4D7-4500-8C9E-91206369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A87-33F6-423B-AC15-B3D45AE3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3D6-C210-4B9E-B4A9-8696359C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B0A-5385-42B4-A7C8-2A6AB031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FFA-3646-4571-9A3A-8EAA7BBD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6445-D38E-489D-B0CA-3487502D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5E69-4F77-4BB4-8627-A6266B84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49D0-DE14-4612-887A-5F3D9DBC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182-5F48-44B9-BC72-AC5B8F1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4403-7FD8-4D3F-9531-53A69E8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CC3E-0AAC-4681-B684-FF79BB1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8FF-DD2F-4831-BDC7-B0C123B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34D7-A743-4290-9D86-021A998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E100-36E5-4251-8E65-BE131E5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73A7-2D96-4B6D-BB99-8B3CD8F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12B-9FE1-4E1D-97FB-D6184476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C90-D4E8-4E2C-A9C2-D597B7BA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B2D-568D-4AEA-A258-D4EFEC7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579-9B73-47E6-9FBD-31487F0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29F-363F-4F47-9A2D-D81228D6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29D-ADD9-461B-AE39-8D52098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4EF-1BF9-4B37-BF53-A654F41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357-966C-48F8-AB87-AC4BF64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B92-EA04-4B1F-B2D0-69C1ADD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00EE-9F7E-4DE1-9041-256B5031E90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567-3152-4355-846E-844E2C41875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ολυδιαστατες Δομ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O-ORIENTE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VAL-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ORITY-SEARCH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GMENT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Βασικές πολυπλοκότητες του </a:t>
            </a:r>
            <a:br>
              <a:rPr sz="3200"/>
            </a:b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Δ. Δ.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1936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α σύνολα P και C εύκολα υπολογίζοντα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P αποτελείται από τους κόμβου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ου συνθέτουν τα 2 μονοπάτια προς x και y αντίστοιχα και το C είναι το σύνολ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ων κόμβων μεταξύ αυτών των μονοπατιώ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 ο χρόνος που απαιτείται για τον υπολογισμό της απάντησης A είναι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O(|P| + |C| + |A|)=O(h+ |C| + |A|), αφού |P| ≤ 2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ερίπτωση Α: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ο U περιέχει μόνο τα αριστερά όρια των διαστημάτων του S. (δ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ημαίνει ότι |U| = |S| , γιατί έχουμε multise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όλα τα φύλλα του C ανήκουν στο A. Άρα |C| = O(|A|) οπότε ο συνολικός χρόνος γίνεται O(h + |A|). (Δεν έχει σημασία αν όλα τα διαστήματα είναι αποθηκευμένα στα NL(v) του P και C είναι άδειο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ερίπτωση Β: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ο U περιέχει περισσότερα στοιχεί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θα πρέπει να επισκεφθούμε μόνο εκείνους τους κόμβους v στο C με NL(v) ≠ 0. Υπάρχουν το πολύ |A| τέτοιο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ν έναν τον βρίσκουμε σε χρόνο O(h) με τη βοήθεια των bits και τους υπόλοιπους με τη διπλολίστα σε χρόνο Ο(|A|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 συνολικά απαιτείται και πάλι χρόνος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O(h + |A|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719360"/>
            <a:ext cx="411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ερώτηση περιοχής στη οποία απαντά το Δ.Π. είναι η παρακάτω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ίνεται μία μισο-απεριόριστη περιοχή-λωρίδα Λ στους άξονες Χ, Υ όπως φαίνεται στο παρακάτω σχήμα ( Σχήμα 51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«Βρείτε όλα τα σημεία (x, y) που βρίσκονται μέσα στη περιοχή αυτή δηλαδή όλα τα σημεία που πληρούν τις σχέσεις : x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ΤΟ ΔΕΝΤΡΟ ΠΡΟΤΕΡΑΙΟΤΗΤΑΣ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5580000" y="2084400"/>
            <a:ext cx="24210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ΑΝΑΛΥΣΗ ΤΟΥ ΔΕΝΤΡΟΥ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ρχήν δίνουμε τον ορισμό του Δέντρου Προτεραιότητ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Ορισμός 5.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S = {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; 1 ≤ i ≤ n} ένα σύνολο n στοιχείων (x, 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{x; (x, y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}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⊆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U, το σύνολο των x-συντεταγμένων του S, όπου U είναι τ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ύμπα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Σύμπαν είναι όλο το σύνολο των τιμών από το οποίο μπορεί να πάρει τιμές 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ώτη συντεταγμένη των στοιχείων του συνόλου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Δ.Π. για το S αποτελείται από ένα φυλλοπροσανατολισμένο Δέντρο Εύρεσης για το U, όπου κάθε κόμβος v περιέχει την ενδιάμεση τιμή val(v) και επιπλέον ένα Πεδίο Προτεραιότητας (Π.Π.) με τις εξής ιδιότητες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. Το Πεδίο Προτεραιότητας περιέχει ένα (ή κανένα) στοιχείο prio(v) από το S, για το οποίο ισχύει: κάθε στοιχείο του S είναι αποθηκευμένο στο Π.Π. ακριβώς ενός κόμβου w και κείται πάνω στο μονοπάτι προς το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ηλαδή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If prio(v) = (x, y) then x ∈ xrange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. Τα Π.Π. χτίζουν μία ουρά προτεραιότητας (Heap) για τις y-Συνιστώσες των στοιχείων του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ηλαδή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If prio(v) = (x, y) then priofather(v) = (x’, y’) είναι ορισμένο και ισχύει y’≤y (δηλαδή το μικρότερο y τείνει προς τη ρίζ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ΑΝΑΛΥΣΗ ΤΟΥ ΔΕΝΤΡΟΥ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50920" y="1125360"/>
            <a:ext cx="4825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κάτω δίνεται ένα παράδειγμα κατασκευής ενός Δέντρου Προτεραιότητας με είσοδο ένα σύνολο στοιχείων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άδειγμα 5.2 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ένα σύνολο στοιχείων S = {(1,4), (2,1), (3,7), (4,2), (5,1), (6,3)} ενώ το σύμπαν είναι το U = {i ∈ N; 1 ≤ i ≤ 7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Δέντρο Προτεραιότητας για το παραπάνω σύνολο στοιχείων S δίνεται στο παρακάτω σχήμα (Σχήμα 53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σχήμα αυτό φαίνονται οι ενδιάμεσες τιμές val(v) καθώς και το Π.Π. για κάθε κόμβο του δέντρο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ΑΡΑΤΗΡΗ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. Το Δ.Π. παντρεύει το ισοζυγισμένο δέντρο με το Heap σε μία Δομή Δεδομέν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. Εάν περισσότερα ζεύγη έχουν την ίδια x-συντεταγμένη τότε θα αποθηκεύονται διατεταγμένα στο ίδιο φύλλ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5010120" y="1916280"/>
            <a:ext cx="4133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ΑΝΑΛΥΣΗ ΤΟΥ ΔΕΝΤΡΟΥ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480" y="1123560"/>
            <a:ext cx="49622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α βασικά βήματα για την κατασκευή του Δ.Π. είναι τα παρακάτω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i) Το ζεύγος με την ελάχιστη y-συντεταγμένη στέκεται στη ρίζ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ii) Μοίρασε το Σύμπαν και εφάρμοσε το i) για κάθε ήμισυ αναδρομικ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, (σύμφωνα με την υπόθεση που κάναμε στην αρχή) μετά από logN βήματα φτάνουμε σε μία λωρίδα που περιέχει μόνο ένα ζεύγο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Άρα για την αποθήκευση των ζευγών αρκεί βάθος logN. 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953160" cy="4464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050920" y="3911760"/>
            <a:ext cx="2016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75438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11744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Χρόνος κατασκευής του Δ.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παρουσιάσουμε και θα αποδείξουμε τον χρόνο κατασκευής του Δ.Π. μέσω του παρακάτω Λήμματο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ήμμα 5.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ίνεται το σύνολο S διατεταγμένο ως προς x-συνιστώσες των στοιχείων το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ένα Δ.Π. για το S με βάθος Ο(logN) μπορεί να κατασκευασθεί σε χρόνο Ο(n+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στατικό δέντρο εύρεσης για το U (ένα πλήρες δυικό δέντρο με Ν φύλλα), όπως αποδεικνύεται μέσω της θεωρίας των Δομών Δεδομένων, χτίζεται σε χρόνο O(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ασική παράμετρος της ανάλυσης μας είναι να ορίσουμε τα Πεδία Προτεραιότητ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τηρούμε αυτή τη διαδικασία σαν ένα ‘’Νοκαουτ Τουρνουά’’ πάνω στα στοιχεία του 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ώτα τοποθετούμε τα ζεύγη του S στα φύλλα του Δ.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3640" y="1267920"/>
            <a:ext cx="4895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v ένας κόμβος όπου οι γιοι του έχουν ορισμένα Πεδία-Προτεραιότητας (Σχήμ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prio(v) ορίζεται ως το ζεύγος με τη μικρότερη y-συνιστώσα μεταξύ των prio(ls) και prio(rs), όπου ls και rs είναι ο αριστερός και δεξιός γιος αντίστοιχ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 το prio(v) ενός γιου θα αδειάσει και θα ορισθεί με τον ίδιο τρόπο από τους γιους το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Όταν προς στιγμήν αδειάσει το prio(v), v φύλλο, τότε επανατοποθετείται ως prio(v) το ζεύγος που αποθηκεύεται στο φύλλ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 μπορούμε να ορίσουμε όλο το δέντρο προτεραιότητ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Άρα, τα συνολικά έξοδα που παράγονται σε κάθε κόμβο v είναι ίσα με O(ύψος(v)), γιατί για να οριστεί το πεδίο προτεραιότητας, του πατέρα(v), πιθανόν να χρειαστεί να διατρέξουμε όλο το μονοπάτι από τον v και προς τα φύλλ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610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ίσης, το βάθος στο ύψος h είναι logN-h, και επιπλέον το πλήθος των κόμβων στο ύψος h είναι N/2</a:t>
            </a:r>
            <a:r>
              <a:rPr b="0" lang="el-GR" sz="16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ομένως, ο συνολικός χρόνος για τον ορισμό των πεδίων προτεραιότητας είνα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(∑((Ν/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O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το δέντρο μπορεί να κατασκευασθεί σε O(n+N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ολυπλοκότητες χρόνου των πράξεων του Δ.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ρχήν θα ορίσουμε τις πράξεις του Δ.Π. και μερικές βασικές παραμέτρους (P, C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C max ) ενώ στη συνέχεια θα δώσουμε τις πολυπλοκότητες χρόνου για κάθε μία πράξ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χωριστ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ράξεις του Δ.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α Δ.Π. υποστηρίζουν αντίστοιχα τις ακόλουθες πράξει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. MinXinRectang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=min {x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∃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y;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y ≤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(x, y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. MaxXinRectang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=max {x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∃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y;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y ≤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(x, y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3. MinYinXr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=min {y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∃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;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(x, y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EnumerateRectangle(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) = {(x, y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S: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και y ≤ 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α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δεν ανήκουν οπωσδήποτε στο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ιν προχωρήσουμε παρακάτω θα ορίσουμε μερικές βασικές παραμέτρου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ότι [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] είναι ένα διάστημ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ρίζουμε, όπως και πρι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= {v; xrange(v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0 και xrange(v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⊈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]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= {v; xrange(v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⊆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] } κα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= {v;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 και father (v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∉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ολυπλοκότητες Χρόν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ην παράγραφο αυτή αποδεικνύουμε μέσω Λημμάτων τις πολυπλοκότητες χρόνου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κάθε μία από τις πράξεις του Δ.Π. που ορίσαμε παραπάν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ήμμα 5.3 : (MinYinX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Τ ένα Δ.Π. για το σύνολο S (σε σχέση με το Σύμπαν U) ύψους 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η πράξη MinYinXrange χρειάζεται χρόνο O(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ασική ιδέα της ανάλυσης μας είναι ο ορισμός του P ∪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ρχήν, σε χρόνο O(h) διαπιστώνουμε εάν το MinYinXrange 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δεν είναι ορισμέν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άν C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∅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ότε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δεν είναι x-συνιστώσες και το ψάξιμο τελειώνει σε ένα φύλλο ή γειτονικά φύλλ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άν το C δεν περιέχει κανένα ζεύγος του S, τότε αυτό εντοπίζεται στα μονοπάτια που το περιορίζου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8920" y="1125360"/>
            <a:ext cx="842508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προχωρήσουμε την ανάλυση μας με την παρακάτω βασική υπόθεσ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ότι υπάρχει ένα στοιχείο (x*, y*) του συνόλου S με y*= MinYinXrange 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w το φύλλο με περιεχόμενο x* .Τότε ισχύει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C), διότι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* ≤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ερίπτωση 1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: 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υπάρχει ένας κόμβος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P έτσι ώστε : prio(v) = (x* , y*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ερίπτωση 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: 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∉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P δηλ. 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παρατήρησε το 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όπου z ο πρόγονος του 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ειδή y * είναι η μικρότερ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y-τιμή όλων των ζευγών που ανήκουν στο [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], τότε υπάρχει ένας πρόγονος v του 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ώστε prio(v) = (x*, y* ) και το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στις δύο περιπτώσεις πρέπει να υπάρχει κόμβος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με prio(v) = (x* ,y*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ομένως, η πράξη MinYinXrange μπορεί να απαντηθεί μετά από επιθεώρηση όλω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ων κόμβων του 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Ισχύε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) |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| ≤ 4h, διότι από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→ father (v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B) Κάθε κόμβος του P κείται στα μονοπάτια προς το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ή το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παραπάνω επιθεώρηση χρειάζεται χρόνο O(h) που είναι και ο χρόνος που απαιτείτα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την πράξη MinYinXrange 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554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ρισμός: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Ορθογώνια ή ίσο-προσανατολισμένα στοιχεία είναι εκείνα τα στοιχεία των  οποίων οι πλευρές είναι παράλληλες στους άξονε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'Ενα Φυλλοπροσανατολισμένο δυαδικό δέντρο εύρεσης για το σύνολο S έχει όλα τα στοιχεία αποθηκευμένα στα φύλλα του και οι κόμβοι περιέχουν ενδιάμεσες τιμές va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ε κάθε κόμβο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ρίζουμε το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range(v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xrange(root)=(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+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α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range(v)=xrange(w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al(v)]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ριστερός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γιος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)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ή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range(v)=xrange(w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val(w), +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ξιός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γιος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ρισμός: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Δίνεται διάστημα-ερώτηση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= [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ρίζουμε τα σύνολα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, C,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ε σχέση με το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={v; xrange(v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 ≠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range(v)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={v; xrange(v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x={v; v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ther(v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7020000" y="1484280"/>
            <a:ext cx="77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1324080"/>
            <a:ext cx="30178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66"/>
                </a:solidFill>
                <a:latin typeface="Arial"/>
              </a:rPr>
              <a:t>Ορθογώνια Στοιχεία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996240" y="981000"/>
            <a:ext cx="696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5724360" y="2427120"/>
          <a:ext cx="3322800" cy="22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427120"/>
                    <a:ext cx="332280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6"/>
          <p:cNvSpPr/>
          <p:nvPr/>
        </p:nvSpPr>
        <p:spPr>
          <a:xfrm>
            <a:off x="6083280" y="4829760"/>
            <a:ext cx="238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Αναπαράσταση πληροφοριών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στους κόμβου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342120" y="2183040"/>
            <a:ext cx="187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Παράδειγμ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708360" y="5661000"/>
                <a:ext cx="14292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267920"/>
            <a:ext cx="850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Λήμμα 5.4 :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umerateRectang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Δ.Π. για το σύνολ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ε σχέση με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)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ύψου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η πράξ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umerateRectangl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χρειάζεται χρό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h+|A|)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όπου |Α| είναι το μέγεθος της απάντησ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στω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= {(x, y);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y ≤ 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ο ορθογώνιο της ερώτησ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Όλα τα ζεύγη του συνόλο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βρίσκονται αποθηκευμένα στα Π.Π. των κόμβω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ο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∪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ΑΡΑΤΗΡΗΣ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∈ C -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 ∧ (prio(v) ∈ R) → prio (father(v)) ∈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πόδειξη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(v) = (x,y) ∈ R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(father(v)) = (x’, y’)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’ ≤ y ≤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≤ x ≤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ιότ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 (v) ∈ C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α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’ , y’ ) ∈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παραπάνω παρατήρηση οδηγεί στον εξής αλγόριθμ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.(Κόστο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(h)):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Σε όλους τους κόμβους στο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∪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πιθεώρησε τα Π.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Κόστος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|A|)):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Για κάθ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∈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διάτρεξε από πάνω ως κάτω το υπόδεντρο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w = απόγονος του v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prio(v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ψάξε και στους δύο γιου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μην ψάχνεις τους γιου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παρατήρηση εγγυάται την ορθότητα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τσι, στηριζόμενοι στην προηγούμενη παρατήρηση, προχωρούμε στην ανάλυση της πολυπλοκότητας της πράξ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κάθε 2 κόμβους στο P ∪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επισκεπτόμαστε ακόμη 2 για να δούμε αν θα σταματήσουμε. Το κόστος αυτό είναι 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O(2|P ∪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|) = O(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ίσης, για κάθε κόμβο που ανήκει στην απάντηση μας ψάχνουμε ακόμη 2 με κόστος Ο(3|Α|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ομένως, ο συνολικός χρόνος της EnumerateRectangle είναι O(h+|A|). 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ήμμα 5.5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: (MinXinRectangle, MaxXinRectang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Τ ένα Δ.Π., για το σύνολο S, ύψους 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οι πράξεις MinXinRectangle και MaxXinRectangle χρειάζονται η κάθε μία χρόνο O(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ι δύο πράξεις είναι συμμετρικέ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κεί επομένως να μελετήσουμε τη μία από αυτέ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ελετούμε την MinXinRectangle 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ρχήν ψάχνουμε το σημείο (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που είναι η καλύτερη λύση μεταξύ των prio(v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όπου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R = {(x, y);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 ≤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y ≤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} το ορθογώνιο της ερώτηση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ορίζουμε (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) ώστε prio(v) = (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για ένα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 και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 για κάθε (x, y) με (x, y) = prio(z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) και 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ισχύει: αν (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είναι ορισμένο → (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0 (βλ. Λήμμα 5.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ίσης μπορούμε σε χρόνο O(h) να βρούμε εάν (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) =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είναι είτε C = 0 είτε 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0 και όλοι οι κόμβοι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 έχουν prio(v) = (x,y) με είτε y ≥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είτε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οχωρούμε την ανάλυση με την υπόθεση ότι MinXinRectangle είναι ορισμέν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το στοιχείο (x * ,y * )∈S είναι η απάντηση δηλαδή (x * ,y * ) = MinXinRectangle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ξετάζουμε τις παρακάτω δύο περιπτώσει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1680"/>
            <a:ext cx="754380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ερίπτωση 1 :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 * =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ρίσκουμε το x * αν εξετάσουμε όλους τους κόμβους στο 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βρούμε ότι οι y-συνιστώσες των γιων τους είναι μεγαλύτερες από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Πρέπει να είναι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] και διαλέγουμε το πιο μικρ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ερίπτωση 2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: x 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δηλ. x 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το ζεύγος (x * , y * ) είναι αποθηκευμένο στον κόμβο w, με 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C -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). Έστω v ∈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ώστε v είναι πρόγονος του w. Έστω prio(v) =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. Τότε ισχύει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.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y * ≤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.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διότι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αν συμπέρασμα από 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2 έχουμε ότι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α, σύμφωνα με τον ορισμό του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έχουμε ότι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κτός τούτου, εφόσον το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range(v) (σύμφωνα με τον ορισμό του), ισχύει ότι x * 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≤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συνεπώς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range(v) και το v μπορεί να οριστεί μονοσήμαντ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ομένως έχουμε είτε (x, y) = (x * , y * ) είτε (x * , y * ) = prio(w) όπου w είναι ένα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πόγονος του μοναδικού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με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range(v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κάτω, δίνουμε τον αλγόριθμο για την πράξη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MinXinRectang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. Βρες το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. Βρες τον μοναδικό κόμβο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 max ώστ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’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range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3. Βρες στο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ον κόμβο w ως εξή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άν οι y-συνιστώσες και των δύο γιων είναι μικρότερες από το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ότ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κολούθησε τον αριστερό γι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αμάτα εφόσον οι y-συνιστώσες και των δύο γιω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ίναι μεγαλύτερες από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έπει να τονίσουμε ότι για κάθε κόμβο z στο μονοπάτι από το v στο w ισχύε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prio(v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ολικά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έπει πρώτα να επισκεφθούμε όλους τους κόμβους στο 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μετά έν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οναδικό μονοπάτι σε ένα μοναδικό υπόδεντρο του οποίου η ρίζα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ομένως ο συνολικός χρόνος που απαιτείται για την πράξη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MinXinRectang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καθώς και την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MaxXinRectangl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είναι O(h). 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ΣΤΑΘΕΡΟ ΣΥΜΠΑΝ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SEMIDYNAMIC CASE)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Λήμμα 5.6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νθεση / Απόσβεσ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Τ ένα Δ.Π. για το σύνολο S (με σταθερό Σύμπαν U) και έστω h το ύψος του 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Έστω (x, y) ∉ S, με x ∈ U και δεν υπάρχει κανένα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 με x = 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πορούμε να ενθέσουμε το (x, y) στο S σε χρόνο O(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Έστω (x, y) ∈ S. Μπορούμε να σβήσουμε το (x, y) από το S σε χρόνο O(|h|)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Σημείωση: h = O(log|U|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κάθε μία από τις περιπτώσεις του Λήμματος 5.6 έχουμ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 Ακολουθούμε το μονοπάτι για το x. Έστω v ο πρώτος κόμβος στον οποίο ισχύε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prio(v) = (x’’, y’’) και y &lt; y’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, ενθέτουμε το (x, y) στη θέση του prio(v) και επαναλαμβάνουμε το ίδιο για τ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x’’, y’’) μέχρι τα φύλλα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υτό απαιτεί χρόνο O(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 Με κανονικό ψάξιμο βρίσκουμε έναν κόμβο v με prio(v) = (x, 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βήνουμε το prio(v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ετά ορίζουμε το prio(v) με το Π.Π. του γιου με τ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ικρότερη y-συντεταγμένη. Επαναλαμβάνουμε το ίδιο μέχρι τα φύλλ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υτό απαιτεί χρόνο O(h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Η ΔΟΜ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1840" y="1376280"/>
            <a:ext cx="75438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Έστω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υθύγραμμα τμήματα στον άξονα πραγματικών αριθμών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= {[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] , [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] … [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Σημείο ερώτησης 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Ψάχνουμε δομή για αποδοτική αναφορά ευθυγράμμων τμημάτων (Stabbing Queries) που να περιέχουν το 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x  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Γίνεται διαμελισμός χώρου παραμέτρων για να διασφαλιστεί το παραπάνω, συνεπώς ο εντοπισμός της περιοχής που περιλαμβάνει την ερώτηση συνεπάγεται της απάντησης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Google Shape;222;p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Google Shape;223;p22"/>
          <p:cNvSpPr/>
          <p:nvPr/>
        </p:nvSpPr>
        <p:spPr>
          <a:xfrm>
            <a:off x="6072120" y="3714840"/>
            <a:ext cx="2000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Η ΔΟΜ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7" name="Google Shape;229;p23" descr=""/>
          <p:cNvPicPr/>
          <p:nvPr/>
        </p:nvPicPr>
        <p:blipFill>
          <a:blip r:embed="rId1"/>
          <a:stretch/>
        </p:blipFill>
        <p:spPr>
          <a:xfrm>
            <a:off x="414360" y="1231920"/>
            <a:ext cx="7108920" cy="5224320"/>
          </a:xfrm>
          <a:prstGeom prst="rect">
            <a:avLst/>
          </a:prstGeom>
          <a:ln w="0">
            <a:noFill/>
          </a:ln>
        </p:spPr>
      </p:pic>
      <p:sp>
        <p:nvSpPr>
          <p:cNvPr id="248" name="Google Shape;230;p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oogle Shape;231;p23"/>
          <p:cNvSpPr/>
          <p:nvPr/>
        </p:nvSpPr>
        <p:spPr>
          <a:xfrm>
            <a:off x="6072120" y="3714840"/>
            <a:ext cx="2000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Η ΔΟΜ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47400"/>
            <a:ext cx="7439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Χωρικά, όταν το μονοπάτι εύρεσης του q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x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καταλήγει σε κάποιον απο τους κόμβους, αναφέρουμε ευθύγραμμο τμήμα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ο μονοπάτι εύρεσης καταλήγει σε φύλλο 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1 , … ,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μόνο αν περάσει απο τον κόμβο v, άρα αποθηκεύουμε το διάστημα s στο v αντι για τα φύλλα 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1 , … , 4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Επιλέγουμε να αποθηκεύσουμε το ευθ. τμήμα s στους κόμβους ετσι ωστε αυτοι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01680">
              <a:spcBef>
                <a:spcPts val="326"/>
              </a:spcBef>
              <a:buClr>
                <a:srgbClr val="330066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να καλύπτουν όλο το ευθύγραμμο τμήμ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01680">
              <a:spcBef>
                <a:spcPts val="326"/>
              </a:spcBef>
              <a:buClr>
                <a:srgbClr val="330066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να είναι όσο το δυνατό ψηλότερα στο δέντρ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3300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Η δομή δεδομένων που στηρίζεται στην παραπάνω αρχή , καλείται Δ.Ε.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Google Shape;238;p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oogle Shape;239;p24"/>
          <p:cNvSpPr/>
          <p:nvPr/>
        </p:nvSpPr>
        <p:spPr>
          <a:xfrm>
            <a:off x="6072120" y="3714840"/>
            <a:ext cx="20001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Google Shape;240;p24" descr=""/>
          <p:cNvPicPr/>
          <p:nvPr/>
        </p:nvPicPr>
        <p:blipFill>
          <a:blip r:embed="rId1"/>
          <a:stretch/>
        </p:blipFill>
        <p:spPr>
          <a:xfrm>
            <a:off x="1943280" y="4037040"/>
            <a:ext cx="5257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6" name="Google Shape;246;p25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7553160" cy="5113440"/>
          </a:xfrm>
          <a:prstGeom prst="rect">
            <a:avLst/>
          </a:prstGeom>
          <a:ln w="0">
            <a:noFill/>
          </a:ln>
        </p:spPr>
      </p:pic>
      <p:sp>
        <p:nvSpPr>
          <p:cNvPr id="257" name="Google Shape;247;p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0840" y="1417320"/>
            <a:ext cx="6424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Λήμμα: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'Εστω T ένα δυικό δέντρο εύρεσης με ύψος h και έστω [x0,y0] ένα διάστημα ερώτησης. Τότε ισχύει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≤ 2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max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≤ 2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≤ 2 (αριθμός φύλλων v με xrange(v)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I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Απόδειξη :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Αν v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father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P,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διότι xrange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xrange(father(v)). 'Αρα το P είναι  το σύνολο των μονοπατιών (ο συνεχής δρόμος από τη ρίζα μέχρι τα φύλλα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Ɐ v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P ισχύει xrange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] ≠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(1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αλλά xrange(v)     [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Από τις (1), (2) συνεπάγεται ότι ή το 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xrange(v) ή το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xrange(v), διότι xrange(v) και [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] είναι διαστήματ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'Αρα το P αποτελείται από κόμβους που είτε κείνται σε μονοπάτι προς το 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είτε σε μονοπάτι προς το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ή και στα δύο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Επομένως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≤ 2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'Εστω v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τότε ισχύει ότι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Αν v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 και father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xrange(father(v))    [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] και xrange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xrange(father(v)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 [x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] ≠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'Αρα εάν v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father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P αλλά ο αδερφός του v δεν ανήκει στο P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3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≤ 2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'Εστω v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C, τότε και οι δύο γιοι ανήκουν στο C. 'Αρα C είναι ένα δάσος από υποδέντρα του T. Σε κάθε δυαδικό δέντρο το σύνολο των κόμβων είναι: αριθμός(φύλλων) - 1.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'Αρα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≤  2 (αριθμός φύλλων v με xrange(v) </a:t>
            </a:r>
            <a:r>
              <a:rPr b="0" lang="el-GR" sz="13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7020000" y="1484280"/>
            <a:ext cx="77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324080"/>
            <a:ext cx="30178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66"/>
                </a:solidFill>
                <a:latin typeface="Arial"/>
              </a:rPr>
              <a:t>Ορθογώνια Στοιχεία (συν)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6996240" y="981000"/>
            <a:ext cx="696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657840" y="4815360"/>
            <a:ext cx="238932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Σχηματική αναπαράσταση των παραμέτρων P, C και C</a:t>
            </a:r>
            <a:r>
              <a:rPr b="0" lang="el-GR" sz="11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ma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791400" y="1623960"/>
            <a:ext cx="380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6842160" y="3041640"/>
          <a:ext cx="212256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2160" y="3041640"/>
                    <a:ext cx="212256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Object 16"/>
              <p:cNvSpPr txBox="1"/>
              <p:nvPr/>
            </p:nvSpPr>
            <p:spPr>
              <a:xfrm>
                <a:off x="1692360" y="3514680"/>
                <a:ext cx="14292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7"/>
              <p:cNvSpPr txBox="1"/>
              <p:nvPr/>
            </p:nvSpPr>
            <p:spPr>
              <a:xfrm>
                <a:off x="3995640" y="5105520"/>
                <a:ext cx="14472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Google Shape;253;p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Google Shape;254;p26"/>
          <p:cNvSpPr/>
          <p:nvPr/>
        </p:nvSpPr>
        <p:spPr>
          <a:xfrm>
            <a:off x="3271680" y="5886360"/>
            <a:ext cx="260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χήμα 6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oogle Shape;255;p26" descr=""/>
          <p:cNvPicPr/>
          <p:nvPr/>
        </p:nvPicPr>
        <p:blipFill>
          <a:blip r:embed="rId1"/>
          <a:stretch/>
        </p:blipFill>
        <p:spPr>
          <a:xfrm>
            <a:off x="1800360" y="2062080"/>
            <a:ext cx="5543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0400" y="1405080"/>
            <a:ext cx="736596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Παράδειγμα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buClr>
                <a:srgbClr val="33006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Έστω το σύνολο ευθ. τμημάτων στην ευθεία των πραγματικών αριθμών S = {[1,5] , [2,3] , [1,2] , [3,4] , [3,5]} όπου σύμπαν U = {1,2,3,4,5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Google Shape;262;p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oogle Shape;263;p27"/>
          <p:cNvSpPr/>
          <p:nvPr/>
        </p:nvSpPr>
        <p:spPr>
          <a:xfrm>
            <a:off x="449280" y="6111720"/>
            <a:ext cx="8245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marL="457200" indent="-317520">
              <a:buClr>
                <a:srgbClr val="000000"/>
              </a:buClr>
              <a:buSzPct val="77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Ένα διάστημα μπορεί να εμφανιστεί σε περισσότερες απο μία κομβολίσ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buClr>
                <a:srgbClr val="000000"/>
              </a:buClr>
              <a:buSzPct val="77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Όσο πιο πλατύ είναι το διάστημα, τόσο ψηλότερα αποθηκεύε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Google Shape;264;p27" descr=""/>
          <p:cNvPicPr/>
          <p:nvPr/>
        </p:nvPicPr>
        <p:blipFill>
          <a:blip r:embed="rId1"/>
          <a:stretch/>
        </p:blipFill>
        <p:spPr>
          <a:xfrm>
            <a:off x="2608200" y="2421000"/>
            <a:ext cx="39276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8" name="Google Shape;270;p28" descr=""/>
          <p:cNvPicPr/>
          <p:nvPr/>
        </p:nvPicPr>
        <p:blipFill>
          <a:blip r:embed="rId1"/>
          <a:stretch/>
        </p:blipFill>
        <p:spPr>
          <a:xfrm>
            <a:off x="208080" y="1311120"/>
            <a:ext cx="7203960" cy="4303800"/>
          </a:xfrm>
          <a:prstGeom prst="rect">
            <a:avLst/>
          </a:prstGeom>
          <a:ln w="0">
            <a:noFill/>
          </a:ln>
        </p:spPr>
      </p:pic>
      <p:sp>
        <p:nvSpPr>
          <p:cNvPr id="269" name="Google Shape;271;p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37960" y="1309680"/>
            <a:ext cx="717408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Λήμματ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Ισχύει ότι : Ι </a:t>
            </a:r>
            <a:r>
              <a:rPr b="0" lang="en-US" sz="19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(v) ⇔ v </a:t>
            </a:r>
            <a:r>
              <a:rPr b="0" lang="en-US" sz="19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ηλαδή το ευθύγραμμο τμήμα Ι ανήκει στο NL(v) αν και μόνο αν ο κόμβος v ανήκει στο σύνολο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 Αυτό ισχύει λόγω των ορισμών του NL(v) και του 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Όμως ισχυει οτι : |C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=&lt; 2h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Και επομένως το I θα ανηκει το πολυ σε 2h κομβολίστες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Google Shape;278;p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37960" y="1309680"/>
            <a:ext cx="7437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Λήμματ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Google Shape;285;p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Google Shape;286;p30" descr=""/>
          <p:cNvPicPr/>
          <p:nvPr/>
        </p:nvPicPr>
        <p:blipFill>
          <a:blip r:embed="rId1"/>
          <a:stretch/>
        </p:blipFill>
        <p:spPr>
          <a:xfrm>
            <a:off x="628560" y="1779480"/>
            <a:ext cx="7266240" cy="3908520"/>
          </a:xfrm>
          <a:prstGeom prst="rect">
            <a:avLst/>
          </a:prstGeom>
          <a:ln w="0">
            <a:noFill/>
          </a:ln>
        </p:spPr>
      </p:pic>
      <p:pic>
        <p:nvPicPr>
          <p:cNvPr id="277" name="Google Shape;287;p30" descr=""/>
          <p:cNvPicPr/>
          <p:nvPr/>
        </p:nvPicPr>
        <p:blipFill>
          <a:blip r:embed="rId2"/>
          <a:stretch/>
        </p:blipFill>
        <p:spPr>
          <a:xfrm>
            <a:off x="73080" y="3865680"/>
            <a:ext cx="914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Google Shape;293;p31" descr=""/>
          <p:cNvPicPr/>
          <p:nvPr/>
        </p:nvPicPr>
        <p:blipFill>
          <a:blip r:embed="rId1"/>
          <a:stretch/>
        </p:blipFill>
        <p:spPr>
          <a:xfrm>
            <a:off x="208080" y="871560"/>
            <a:ext cx="7686720" cy="5364000"/>
          </a:xfrm>
          <a:prstGeom prst="rect">
            <a:avLst/>
          </a:prstGeom>
          <a:ln w="0">
            <a:noFill/>
          </a:ln>
        </p:spPr>
      </p:pic>
      <p:sp>
        <p:nvSpPr>
          <p:cNvPr id="280" name="Google Shape;294;p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5438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ΑΝΑΛΥΣΗ ΤΟΥ Δ.Ε.Τ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Google Shape;300;p32" descr=""/>
          <p:cNvPicPr/>
          <p:nvPr/>
        </p:nvPicPr>
        <p:blipFill>
          <a:blip r:embed="rId1"/>
          <a:stretch/>
        </p:blipFill>
        <p:spPr>
          <a:xfrm>
            <a:off x="255600" y="1073160"/>
            <a:ext cx="7211880" cy="1494000"/>
          </a:xfrm>
          <a:prstGeom prst="rect">
            <a:avLst/>
          </a:prstGeom>
          <a:ln w="0">
            <a:noFill/>
          </a:ln>
        </p:spPr>
      </p:pic>
      <p:sp>
        <p:nvSpPr>
          <p:cNvPr id="283" name="Google Shape;301;p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Google Shape;302;p32"/>
          <p:cNvSpPr/>
          <p:nvPr/>
        </p:nvSpPr>
        <p:spPr>
          <a:xfrm>
            <a:off x="357120" y="1852560"/>
            <a:ext cx="6570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Έστω g(m) ο χρόνος για να αποσβεστεί ενα διάστημα απο την κομβολίστα μήκους m. Τότε ένα διάστημα θα αποσβεστεί απο ένα Δ.Ε.Τ. σε χρόνοO(g(n)log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Google Shape;303;p32" descr=""/>
          <p:cNvPicPr/>
          <p:nvPr/>
        </p:nvPicPr>
        <p:blipFill>
          <a:blip r:embed="rId2"/>
          <a:stretch/>
        </p:blipFill>
        <p:spPr>
          <a:xfrm>
            <a:off x="285840" y="2779560"/>
            <a:ext cx="8480160" cy="1713240"/>
          </a:xfrm>
          <a:prstGeom prst="rect">
            <a:avLst/>
          </a:prstGeom>
          <a:ln w="0">
            <a:noFill/>
          </a:ln>
        </p:spPr>
      </p:pic>
      <p:pic>
        <p:nvPicPr>
          <p:cNvPr id="286" name="TextBox 2" descr=""/>
          <p:cNvPicPr/>
          <p:nvPr/>
        </p:nvPicPr>
        <p:blipFill>
          <a:blip r:embed="rId3"/>
          <a:stretch/>
        </p:blipFill>
        <p:spPr>
          <a:xfrm>
            <a:off x="285840" y="4456080"/>
            <a:ext cx="8682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ρχήν θα δώσουμε τον τυπικό ορισμό του Δέντρου Διαστημάτω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ρισμός 4.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στω ότι το πεπερασμένο σύνολο U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⊆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R είναι το Σύμπαν, κα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S = {[x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] ; x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U, y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R, 1 ≤ i ≤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ίναι ένα σύνολο από n κλειστά διαστήματα στον πραγματικό άξον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τηρήστε ότι με τον παραπάνω ορισμό, μόνο τα αριστερά άκρα των διαστημάτων ανήκουν στο σύμπαν U=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 (w-bit key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δέντρο διαστημάτων T για το σύνολο S (ως προς το σύμπαν U) είναι ένα φύλλοπροσανατολισμένο δυϊκό δέντρο εύρεσης για το U, όπου κάθε κόμβος περιέχει τις εξής τρεις επιπρόσθετες πληροφορίε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5438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ΑΝΑΛΥΣΗ ΤΟΥ ΔΕΝΤΡΟΥ ΔΙΑΣΤΗΜΑΤΩ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ΑΝΑΛΥΣΗ ΤΟΥ ΔΕΝΤΡΟΥ ΔΙΑΣΤΗΜΑΤΩΝ 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213920"/>
            <a:ext cx="7472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Η κομβολίστα NL(v) ενός κόμβου v είναι το σύνολο των διαστημάτων στο S που περιέχουν την τιμή διαχωρισμού (split value) του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val(v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αλλά κανενός προγόνου του v, δηλαδή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NL(v) = {[x, y]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S; val(v)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[x,y]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⊆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xrange(v)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κομβολίστα παριστάνεται με δύο διατεταγμένες σειρές, μια για τα αριστερά όρια και μια για τα δεξιά όρια των διαστημάτω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ι οι δύο σειρές είναι αποθηκευμένες σε ισοζυγισμένο δέντρο (balanced-tre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ιπλέον, δυο δείκτες δείχνουν στα μέγιστα (ελάχιστα) στοιχεία των σειρ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να ψηφίο-δείκτης (mark bit) που δείχνει αν η κομβολίστα του v ή ενός απογόνου του είναι μη-άδεια (αυτό σημαίνει ότι το v είναι σπουδαίο, περιέχει πληροφορί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Για κάθε κόμβο v με NL(v) ≠ ∅ , ένα δείκτη που δείχνει στον «επόμενο» κόμβο w με NL(w) ≠ ∅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«επόμενο» είναι ορισμένο ως προς τη συμμετρική διάταξη του δέντρο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5438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ΑΝΑΛΥΣΗ ΤΟΥ ΔΕΝΤΡΟΥ ΔΙΑΣΤΗΜΑΤΩΝ (Συν.)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3280" y="1628640"/>
            <a:ext cx="4321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000000"/>
                </a:solidFill>
                <a:uFillTx/>
                <a:latin typeface="Arial"/>
              </a:rPr>
              <a:t>Παράδειγμα 4.1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αρακάτω δίνεται το δέντρο διαστημάτων για το σύνολ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S = {[1,8], [2,5], [3,7], [4,5], [6,8], [1,3], [2,3], [1,2]} ως προς το σύμπα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U = {1,2,3,4,5,6,7}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ι τιμές ή τα πεδία διαχωρισμού (split fields) φαίνονται μέσα στους κόμβους και τα φύλλα και οι κομβολίστες στις πλευρές των κόμβω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α ψηφία-δείκτες (mark bits) αναπαρίστανται με αστερίσκο στην κορυφή κάθε κόμβο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έλος, οι διακεκομμένες γραμμές συμβολίζουν τη διπλή διασυνδεδεμένη λίστα των κόμβων v με NL (v) ≠ ∅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000000"/>
                </a:solidFill>
                <a:uFillTx/>
                <a:latin typeface="Arial"/>
              </a:rPr>
              <a:t>ΠΑΡΑΤΗΡΗΣΕΙ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άθε διάστημα αποθηκεύεται μόνο σε μία κομβολίστ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σο πλατύτερο είναι το I τόσο ψηλότερα αποθηκεύετα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Ισοδύναμα ένα διάστημα αποθηκεύεται στην κομβολίστα του κόμβου που είναι ο ελάχιστος κοινός πρόγονος των δύο άκρων του διαστήματο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179280" y="1628640"/>
          <a:ext cx="45799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5799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Βασικές πολυπλοκότητες του Δ. Δ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3840" y="1142640"/>
            <a:ext cx="7215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α λήμματα που ακολουθούν αποδεικνύουν ότι τα δέντρα διαστημάτω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χρησιμοποιούν γραμμικό χώρο, κατασκευάζονται γρήγορα και υποστηρίζουν επίση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ποδοτικά ενθέσεις και αποσβέσεις διαστημάτων (με το αριστερό άκρο 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ήμμα 4.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στω U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⊆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R ένα πεπερασμένο σύνολο, |U|=Ν, και S ένα σύνολο διαστημάτων μ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ιστερά άκρα από το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Ένα δέντρο διαστημάτων για το σύνολο S απαιτεί χώρο O(n +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Ένα δέντρο διαστημάτων για το σύνολο S με βάθος O(log N) μπορεί ν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ατασκευαστεί σε χρόνο O(N + n log (Nn)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Διαστήματα (με αριστερό άκρο στο U) μπορούν να εντεθούν σε ένα δέντρ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ιαστημάτων βάθους O(log N) σε χρόνο O(log n + log N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ίδιο ισχύει για τη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πόσβεση ενός διαστήματο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Βασικές πολυπλοκότητες του </a:t>
            </a:r>
            <a:br>
              <a:rPr sz="3200"/>
            </a:b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Δ. Δ.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539640" y="1916280"/>
            <a:ext cx="820908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Λήμμα 4.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στω S το σύνολο των διαστημάτων και έστω I=[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] το διάστημα ερώτησης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στω A={[x,y] </a:t>
            </a: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S; [x,y] ∩ [x</a:t>
            </a:r>
            <a:r>
              <a:rPr b="1" lang="el-G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1" lang="el-G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∅ } το σύνολο των διαστημάτων του S που τέμνουν το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ότε, χρησιμοποιώντας ένα δέντρο διαστήματος ύψους h για το S, μπορούμε να υπολογίσουμε το A σε χρόνο O(h + |A|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Απόδειξη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στω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{v; v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νας κόμβος του Τ κα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range(v)</a:t>
            </a: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 ∩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∅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range(v) ⊈ I}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= {v; v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ένας κόμβος του Τ κα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range(v) </a:t>
            </a:r>
            <a:r>
              <a:rPr b="1" lang="en-US" sz="1600" spc="-1" strike="noStrike">
                <a:solidFill>
                  <a:srgbClr val="222222"/>
                </a:solidFill>
                <a:latin typeface="Arial"/>
              </a:rPr>
              <a:t>⊆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ότε ισχύε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τους κόμβους v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C είναι προφανές ότι NL(v)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⊆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εωρούμε στη συνέχεια έν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όμβο v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∈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ενθυμίζουμε ότι οργανώσαμε την κομβολίστα NL(v) σαν δύ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ιατεταγμένες λίστες, τη λίστα των αριστερών άκρων και τη λίστα των δεξιών άκρ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53625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Βασικές πολυπλοκότητες του </a:t>
            </a:r>
            <a:br>
              <a:rPr sz="3200"/>
            </a:b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Δ. Δ.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(συν.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00" y="386064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91160" indent="-19116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ΠΑΡΑΤΗΡΗ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Εδώ είναι σημαντικό να βρίσκουμε σε χρόνο Ο(1) αν υπάρχει τουλάχιστον έ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έτοιο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φυσικά το τελευταίο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άν ναι τότε ακολουθούμε τα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,… διαδοχικ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δέντρο (όσο είμαστε μέσα στην απάντηση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τα τελευταία πρέπει ν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δέσουμε τα φύλλα του ισοζυγισμένου δέντρου σαν λίστα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Άρα NL(v) ∩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ολογίζεται σε χρόνο |NL(v) ∩ A|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468360" y="1770120"/>
            <a:ext cx="7416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58:56Z</dcterms:created>
  <dc:creator>HoobaMatschuba</dc:creator>
  <dc:description/>
  <dc:language>en-US</dc:language>
  <cp:lastModifiedBy>Spyros Sioutas</cp:lastModifiedBy>
  <dcterms:modified xsi:type="dcterms:W3CDTF">2022-11-29T19:37:11Z</dcterms:modified>
  <cp:revision>282</cp:revision>
  <dc:subject/>
  <dc:title>Chord: A distributed  look-up protocol for  peer-to-peer applications</dc:title>
</cp:coreProperties>
</file>