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95400" y="767880"/>
            <a:ext cx="51163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45720" y="4861080"/>
            <a:ext cx="5210280" cy="460512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8000" cy="5108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4024440" y="9723240"/>
            <a:ext cx="3078000" cy="5108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fld id="{DAEB1151-91A9-4F65-AC4F-3509FC1CF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4024440" y="9723600"/>
            <a:ext cx="307800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400" bIns="504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fld id="{5015B128-EB62-4351-9F6B-B87B35B66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6320" cy="3837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45720" y="4861080"/>
            <a:ext cx="52102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EAF68-405B-43F5-BDFA-CF5C3F1D1D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7661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3704400"/>
            <a:ext cx="7661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86D21-4A28-4647-BCAF-98C5376584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39840" y="114300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370440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39840" y="370440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C178F-1E9E-44EF-AB64-AEC4BFFD41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04600" y="114300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4800" y="114300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370440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04600" y="370440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4800" y="370440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05D53-C708-4D33-B573-1BA97ED83E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6014-D0FB-4C84-B753-DC6A386867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040" y="1143000"/>
            <a:ext cx="766116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7306-7D2D-4AF7-A237-BE43D0F3FF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766116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5F11-3A0C-46B7-BF76-1E7D3826FF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39840" y="114300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E4C3-41B8-457A-8C3C-EF10C90AAF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4B48-0043-4B4A-A5B3-B3B97B8C81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7C00-3AA0-424A-8AEC-C72682E06A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9840" y="114300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040" y="370440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E01A-BF75-4266-B8F5-4ACD1D75DA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1143000"/>
            <a:ext cx="766116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D6E86-4077-4F17-88EF-3D54FBEFB7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39840" y="114300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39840" y="370440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AE00-174A-421E-8CF6-6D1C2228AF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9840" y="114300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3704400"/>
            <a:ext cx="7661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4408-FCC0-41C0-A522-387BB49ACD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7661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040" y="3704400"/>
            <a:ext cx="7661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462A-C0A3-4E22-A408-CC98F88D94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9840" y="114300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370440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39840" y="370440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34EE-622B-4F92-BB46-CD90C1A1B0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4600" y="114300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4800" y="114300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040" y="370440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04600" y="370440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94800" y="370440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CAAC-FBEC-4DD6-A2FC-C871E492D8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766116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A8793-0903-4D46-BE5E-E3F282CC00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39840" y="114300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DB96D-81B1-44E0-98EE-E13DE5814B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A90D3-08F9-473C-8D57-B33DFFF46F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02131-AEA4-4CB1-8FC0-8973BD4240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9840" y="114300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370440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6997A-7298-42CF-BB51-A34A947EA2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9840" y="114300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9840" y="370440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7771A-8257-447E-AC54-B654F15BD7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9840" y="114300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3704400"/>
            <a:ext cx="7661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95FB1-99F6-4E1F-9261-EA16AA81A0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db-book.com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14040" y="1143000"/>
            <a:ext cx="766116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14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1400"/>
              </a:spcBef>
              <a:buClr>
                <a:srgbClr val="ff99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1400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3B5D-CFBA-4A7B-9A9B-C22FFAD41388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6764760" y="661356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4220280" y="6613560"/>
            <a:ext cx="9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10.</a:t>
            </a:r>
            <a:fld id="{AB8CA148-22F8-4E63-BCE1-E1AA11EF8C56}" type="slidenum">
              <a:rPr b="1" lang="en-US" sz="10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8280" y="6613560"/>
            <a:ext cx="343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Database System Concepts - 5</a:t>
            </a:r>
            <a:r>
              <a:rPr b="1" lang="en-US" sz="10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 Edition, Aug 22, 2005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8916840" y="5445000"/>
            <a:ext cx="227160" cy="47880"/>
          </a:xfrm>
          <a:custGeom>
            <a:avLst/>
            <a:gdLst/>
            <a:ahLst/>
            <a:rect l="l" t="t" r="r" b="b"/>
            <a:pathLst>
              <a:path w="285" h="61">
                <a:moveTo>
                  <a:pt x="2" y="61"/>
                </a:moveTo>
                <a:lnTo>
                  <a:pt x="0" y="59"/>
                </a:lnTo>
                <a:lnTo>
                  <a:pt x="0" y="55"/>
                </a:lnTo>
                <a:lnTo>
                  <a:pt x="2" y="48"/>
                </a:lnTo>
                <a:lnTo>
                  <a:pt x="5" y="40"/>
                </a:lnTo>
                <a:lnTo>
                  <a:pt x="9" y="34"/>
                </a:lnTo>
                <a:lnTo>
                  <a:pt x="13" y="31"/>
                </a:lnTo>
                <a:lnTo>
                  <a:pt x="17" y="25"/>
                </a:lnTo>
                <a:lnTo>
                  <a:pt x="24" y="21"/>
                </a:lnTo>
                <a:lnTo>
                  <a:pt x="30" y="17"/>
                </a:lnTo>
                <a:lnTo>
                  <a:pt x="40" y="13"/>
                </a:lnTo>
                <a:lnTo>
                  <a:pt x="45" y="10"/>
                </a:lnTo>
                <a:lnTo>
                  <a:pt x="51" y="8"/>
                </a:lnTo>
                <a:lnTo>
                  <a:pt x="57" y="6"/>
                </a:lnTo>
                <a:lnTo>
                  <a:pt x="64" y="6"/>
                </a:lnTo>
                <a:lnTo>
                  <a:pt x="70" y="2"/>
                </a:lnTo>
                <a:lnTo>
                  <a:pt x="78" y="2"/>
                </a:lnTo>
                <a:lnTo>
                  <a:pt x="85" y="0"/>
                </a:lnTo>
                <a:lnTo>
                  <a:pt x="93" y="0"/>
                </a:lnTo>
                <a:lnTo>
                  <a:pt x="100" y="0"/>
                </a:lnTo>
                <a:lnTo>
                  <a:pt x="110" y="0"/>
                </a:lnTo>
                <a:lnTo>
                  <a:pt x="118" y="0"/>
                </a:lnTo>
                <a:lnTo>
                  <a:pt x="129" y="0"/>
                </a:lnTo>
                <a:lnTo>
                  <a:pt x="137" y="0"/>
                </a:lnTo>
                <a:lnTo>
                  <a:pt x="146" y="2"/>
                </a:lnTo>
                <a:lnTo>
                  <a:pt x="154" y="2"/>
                </a:lnTo>
                <a:lnTo>
                  <a:pt x="163" y="4"/>
                </a:lnTo>
                <a:lnTo>
                  <a:pt x="173" y="6"/>
                </a:lnTo>
                <a:lnTo>
                  <a:pt x="182" y="8"/>
                </a:lnTo>
                <a:lnTo>
                  <a:pt x="192" y="8"/>
                </a:lnTo>
                <a:lnTo>
                  <a:pt x="201" y="12"/>
                </a:lnTo>
                <a:lnTo>
                  <a:pt x="209" y="12"/>
                </a:lnTo>
                <a:lnTo>
                  <a:pt x="216" y="13"/>
                </a:lnTo>
                <a:lnTo>
                  <a:pt x="224" y="15"/>
                </a:lnTo>
                <a:lnTo>
                  <a:pt x="234" y="17"/>
                </a:lnTo>
                <a:lnTo>
                  <a:pt x="239" y="19"/>
                </a:lnTo>
                <a:lnTo>
                  <a:pt x="247" y="21"/>
                </a:lnTo>
                <a:lnTo>
                  <a:pt x="254" y="23"/>
                </a:lnTo>
                <a:lnTo>
                  <a:pt x="260" y="25"/>
                </a:lnTo>
                <a:lnTo>
                  <a:pt x="266" y="25"/>
                </a:lnTo>
                <a:lnTo>
                  <a:pt x="270" y="27"/>
                </a:lnTo>
                <a:lnTo>
                  <a:pt x="273" y="27"/>
                </a:lnTo>
                <a:lnTo>
                  <a:pt x="279" y="29"/>
                </a:lnTo>
                <a:lnTo>
                  <a:pt x="283" y="31"/>
                </a:lnTo>
                <a:lnTo>
                  <a:pt x="285" y="32"/>
                </a:lnTo>
                <a:lnTo>
                  <a:pt x="279" y="44"/>
                </a:lnTo>
                <a:lnTo>
                  <a:pt x="277" y="44"/>
                </a:lnTo>
                <a:lnTo>
                  <a:pt x="273" y="42"/>
                </a:lnTo>
                <a:lnTo>
                  <a:pt x="268" y="42"/>
                </a:lnTo>
                <a:lnTo>
                  <a:pt x="260" y="40"/>
                </a:lnTo>
                <a:lnTo>
                  <a:pt x="251" y="38"/>
                </a:lnTo>
                <a:lnTo>
                  <a:pt x="241" y="36"/>
                </a:lnTo>
                <a:lnTo>
                  <a:pt x="235" y="34"/>
                </a:lnTo>
                <a:lnTo>
                  <a:pt x="230" y="34"/>
                </a:lnTo>
                <a:lnTo>
                  <a:pt x="224" y="32"/>
                </a:lnTo>
                <a:lnTo>
                  <a:pt x="218" y="32"/>
                </a:lnTo>
                <a:lnTo>
                  <a:pt x="213" y="31"/>
                </a:lnTo>
                <a:lnTo>
                  <a:pt x="207" y="31"/>
                </a:lnTo>
                <a:lnTo>
                  <a:pt x="201" y="29"/>
                </a:lnTo>
                <a:lnTo>
                  <a:pt x="196" y="29"/>
                </a:lnTo>
                <a:lnTo>
                  <a:pt x="190" y="27"/>
                </a:lnTo>
                <a:lnTo>
                  <a:pt x="182" y="27"/>
                </a:lnTo>
                <a:lnTo>
                  <a:pt x="178" y="25"/>
                </a:lnTo>
                <a:lnTo>
                  <a:pt x="173" y="25"/>
                </a:lnTo>
                <a:lnTo>
                  <a:pt x="167" y="23"/>
                </a:lnTo>
                <a:lnTo>
                  <a:pt x="163" y="23"/>
                </a:lnTo>
                <a:lnTo>
                  <a:pt x="158" y="21"/>
                </a:lnTo>
                <a:lnTo>
                  <a:pt x="154" y="21"/>
                </a:lnTo>
                <a:lnTo>
                  <a:pt x="148" y="19"/>
                </a:lnTo>
                <a:lnTo>
                  <a:pt x="142" y="19"/>
                </a:lnTo>
                <a:lnTo>
                  <a:pt x="144" y="48"/>
                </a:lnTo>
                <a:lnTo>
                  <a:pt x="110" y="15"/>
                </a:lnTo>
                <a:lnTo>
                  <a:pt x="118" y="48"/>
                </a:lnTo>
                <a:lnTo>
                  <a:pt x="83" y="21"/>
                </a:lnTo>
                <a:lnTo>
                  <a:pt x="91" y="48"/>
                </a:lnTo>
                <a:lnTo>
                  <a:pt x="59" y="29"/>
                </a:lnTo>
                <a:lnTo>
                  <a:pt x="57" y="29"/>
                </a:lnTo>
                <a:lnTo>
                  <a:pt x="53" y="31"/>
                </a:lnTo>
                <a:lnTo>
                  <a:pt x="49" y="31"/>
                </a:lnTo>
                <a:lnTo>
                  <a:pt x="43" y="34"/>
                </a:lnTo>
                <a:lnTo>
                  <a:pt x="38" y="36"/>
                </a:lnTo>
                <a:lnTo>
                  <a:pt x="32" y="38"/>
                </a:lnTo>
                <a:lnTo>
                  <a:pt x="26" y="42"/>
                </a:lnTo>
                <a:lnTo>
                  <a:pt x="23" y="44"/>
                </a:lnTo>
                <a:lnTo>
                  <a:pt x="15" y="50"/>
                </a:lnTo>
                <a:lnTo>
                  <a:pt x="7" y="55"/>
                </a:lnTo>
                <a:lnTo>
                  <a:pt x="4" y="59"/>
                </a:lnTo>
                <a:lnTo>
                  <a:pt x="2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Icon11"/>
          <p:cNvPicPr/>
          <p:nvPr/>
        </p:nvPicPr>
        <p:blipFill>
          <a:blip r:embed="rId2"/>
          <a:stretch/>
        </p:blipFill>
        <p:spPr>
          <a:xfrm>
            <a:off x="0" y="0"/>
            <a:ext cx="660240" cy="87804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0" descr="PH01266J"/>
          <p:cNvPicPr/>
          <p:nvPr/>
        </p:nvPicPr>
        <p:blipFill>
          <a:blip r:embed="rId3"/>
          <a:srcRect l="0" t="0" r="0" b="26159"/>
          <a:stretch/>
        </p:blipFill>
        <p:spPr>
          <a:xfrm>
            <a:off x="8528040" y="6053040"/>
            <a:ext cx="615960" cy="614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7"/>
          <p:cNvSpPr/>
          <p:nvPr/>
        </p:nvSpPr>
        <p:spPr>
          <a:xfrm>
            <a:off x="2729520" y="5726160"/>
            <a:ext cx="358344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Database System Conce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br>
              <a:rPr sz="1200"/>
            </a:b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ee </a:t>
            </a:r>
            <a:r>
              <a:rPr b="0" lang="en-US" sz="1200" spc="-1" strike="noStrike" u="sng">
                <a:solidFill>
                  <a:srgbClr val="ff9900"/>
                </a:solidFill>
                <a:uFillTx/>
                <a:latin typeface="Arial"/>
                <a:hlinkClick r:id="rId2"/>
              </a:rPr>
              <a:t>www.db-book.com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for conditions on re-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Icon11"/>
          <p:cNvPicPr/>
          <p:nvPr/>
        </p:nvPicPr>
        <p:blipFill>
          <a:blip r:embed="rId3"/>
          <a:stretch/>
        </p:blipFill>
        <p:spPr>
          <a:xfrm>
            <a:off x="0" y="0"/>
            <a:ext cx="558720" cy="743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PH01266J"/>
          <p:cNvPicPr/>
          <p:nvPr/>
        </p:nvPicPr>
        <p:blipFill>
          <a:blip r:embed="rId4"/>
          <a:srcRect l="0" t="0" r="0" b="26159"/>
          <a:stretch/>
        </p:blipFill>
        <p:spPr>
          <a:xfrm>
            <a:off x="8528040" y="6053040"/>
            <a:ext cx="615960" cy="614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914040" y="1143000"/>
            <a:ext cx="766116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14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1400"/>
              </a:spcBef>
              <a:buClr>
                <a:srgbClr val="ff99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1400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2"/>
          </p:nvPr>
        </p:nvSpPr>
        <p:spPr>
          <a:xfrm>
            <a:off x="2862360" y="5780160"/>
            <a:ext cx="344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3"/>
          </p:nvPr>
        </p:nvSpPr>
        <p:spPr>
          <a:xfrm>
            <a:off x="6595920" y="6218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F6CF-10E7-4BE5-8695-D98C59AD2F41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685440"/>
            <a:ext cx="7620120" cy="167652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cc3300"/>
                </a:solidFill>
                <a:latin typeface="Arial"/>
              </a:rPr>
              <a:t>ΕΙΣΑΓΩΓΗ - ΔΟΜΗ ΜΑΘΗΜΑΤΟΣ</a:t>
            </a:r>
            <a:br>
              <a:rPr sz="2800"/>
            </a:b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“Multi-dimensional Data Structures”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124080" y="4191120"/>
            <a:ext cx="5105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870360" y="4098960"/>
            <a:ext cx="3597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600200" y="3449520"/>
            <a:ext cx="495288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993300"/>
                </a:solidFill>
                <a:latin typeface="Arial"/>
              </a:rPr>
              <a:t>ΤΜΗΜΑ ΜΗΧΑΝΙΚΩΝ Η/Υ &amp;&amp; ΠΛΗΡΟΦΟΡΙΚΗ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993300"/>
                </a:solidFill>
                <a:latin typeface="Arial"/>
              </a:rPr>
              <a:t>Ακαδημαϊκό Έτος: 20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23</a:t>
            </a:r>
            <a:r>
              <a:rPr b="1" lang="el-GR" sz="1600" spc="-1" strike="noStrike">
                <a:solidFill>
                  <a:srgbClr val="993300"/>
                </a:solidFill>
                <a:latin typeface="Arial"/>
              </a:rPr>
              <a:t>-20</a:t>
            </a:r>
            <a:r>
              <a:rPr b="1" lang="en-GB" sz="1600" spc="-1" strike="noStrike">
                <a:solidFill>
                  <a:srgbClr val="993300"/>
                </a:solidFill>
                <a:latin typeface="Arial"/>
              </a:rPr>
              <a:t>24</a:t>
            </a:r>
            <a:r>
              <a:rPr b="1" lang="el-GR" sz="1600" spc="-1" strike="noStrike">
                <a:solidFill>
                  <a:srgbClr val="9933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993300"/>
                </a:solidFill>
                <a:latin typeface="Arial"/>
              </a:rPr>
              <a:t>Σ. Σιούτας, Καθηγητής ΤΜΗΥ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993300"/>
                </a:solidFill>
                <a:latin typeface="Arial"/>
              </a:rPr>
              <a:t>Κ. Τσίχλας, Αναπλ. Καθηγητής ΤΜΗΥ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41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cc3300"/>
                </a:solidFill>
                <a:latin typeface="Arial"/>
              </a:rPr>
              <a:t>ΕΙΣΑΓΩΓΗ – ΔΟΜΗ ΜΑΘΗΜΑΤΟΣ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609480"/>
            <a:ext cx="76611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cture 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Επανάληψη σε βασικές τεχνικές δόμησης δεδομένων όπως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sh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ynamic Hash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BST, B-trees, B+ trees, Bitmap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cture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oom Filters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, Πολυδιάστατα Δεδομένα και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SH (Locality Sensitive Hashing), similarity metrics, similarity qu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cture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Range Trees, KD-trees, Quad-trees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arest-Neighbor searching (NN), k-NN, R-trees, M-trees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cture 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Range Trees, KD-trees, Quad-trees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arest-Neighbor searching (NN), k-NN, R-trees, M-trees (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ΣΥΝ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cture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Range Trees, KD-trees, Quad-trees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arest-Neighbor searching (NN), k-NN, R-trees, M-trees (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ΣΥΝ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cture 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Interval Trees, Segment Trees, Priority Search Trees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ctur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Interval Trees, Segment Trees, Priority Search Trees (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ΣΥΝ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cture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Sweep L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Τεχνικές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Segment Intersection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, Αναπαράσταση Τροχιών κινούμενων αντικειμένων, Ερωτήματα σε τροχιές με εφαρμογές σε Χωρικές και Χώρο-Χρονικές Β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cture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Convex Hull – Skyline Queries - Triangulation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 Lectures: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 Lectures: Sca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cc3300"/>
                </a:solidFill>
                <a:latin typeface="Arial"/>
              </a:rPr>
              <a:t>ΤΡΟΠΟΣ ΕΞΕΤΑΣΗΣ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14040" y="762120"/>
            <a:ext cx="766116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ΥΛΟΠΟΙΗΣΗ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, C++, Java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yth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a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ολυδιάστατων δομών δεδομένων κα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αρουσίασ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25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Η Ανάθεση θα γίνει μετά από συνεννόηση της ομάδας με τον διδάσκοντ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25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Ομάδες των 4 ατόμων (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αυστηρά 4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25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κοπός: Η δημιουργία σχετικών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libraries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25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Ισχύει το ίδιο και για τους παλιούς φοιτητέ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cc3300"/>
                </a:solidFill>
                <a:latin typeface="Arial"/>
              </a:rPr>
              <a:t>ΕΙΣΑΓΩΓΗ – ΔΟΜΗ ΜΑΘΗΜΑΤΟΣ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1760" y="2437920"/>
            <a:ext cx="766116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600" spc="-1" strike="noStrike">
                <a:solidFill>
                  <a:srgbClr val="000000"/>
                </a:solidFill>
                <a:latin typeface="Arial"/>
              </a:rPr>
              <a:t>ΤΕΛΟ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7T19:26:30Z</dcterms:created>
  <dc:creator>Marilyn Turnamian</dc:creator>
  <dc:description/>
  <dc:language>en-US</dc:language>
  <cp:lastModifiedBy>Spyros Sioutas</cp:lastModifiedBy>
  <cp:lastPrinted>1999-06-28T19:27:31Z</cp:lastPrinted>
  <dcterms:modified xsi:type="dcterms:W3CDTF">2023-09-28T08:04:43Z</dcterms:modified>
  <cp:revision>294</cp:revision>
  <dc:subject/>
  <dc:title>Module 1:   Introduction</dc:title>
</cp:coreProperties>
</file>