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32A-E780-4E9D-8F1B-FF1619554C3B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083-02F7-426E-8FC7-A1B413CF06C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E0A5-C076-4802-A0B6-50411FC1ECE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168F-779E-4338-9954-87172D3A5F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B5C3-5ACA-4112-B837-DBB89738968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F949-7C6C-41AA-8593-914C99450A8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1A8-96D6-4DEB-A613-A81E0FF5D31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0588-BBBA-4EF2-B27F-05107D5F77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6C0C-DB4C-46B4-A5B1-70408B25F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CC28-2A7B-42B0-8136-181CDCD4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5D84-0385-43E9-B57D-75C58B0B4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C53B-4EAB-4817-A911-FBE40D7F5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4C0-6327-478A-9EF0-16C1A728C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73B-1D3E-4680-8AA1-B1A363B4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BF8-4E28-486D-9303-9D998584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05A-3039-4ABC-BC8D-BE683FB3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74C-90AC-4C1F-BD01-D9164CAF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D18-BA44-4935-9E08-5B7BD3E0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0EA-AE6A-4DBE-ACF5-5DBB408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D3D4-8763-458C-9073-36770DC3E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C49-4AC7-44D2-9453-6E49AB14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A0B-DB74-4E2A-98EE-35D8BD3A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E0A-9137-4738-8D59-37563856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BFD-BD90-495C-8675-0D8D3BE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870-8442-4A5D-BDE8-1B1B178FF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11B3-07B7-40B3-AEDB-C6097A824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3FF5-9C00-46F2-959F-1907804BC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F426-839F-40E3-88C3-27CD74BDC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F69D-7875-4A74-8B8B-C67C81EA9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B465-E940-4809-B34F-5278254EE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2E6C-86BD-4657-9390-B9293C02F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1089-A682-4807-B3E0-36C9CC2E7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7308720" y="6453360"/>
            <a:ext cx="1835280" cy="215640"/>
          </a:xfrm>
          <a:prstGeom prst="rect">
            <a:avLst/>
          </a:prstGeom>
          <a:solidFill>
            <a:srgbClr val="0051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51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156360" y="6381360"/>
            <a:ext cx="27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0F3-2E53-4A29-A9C2-3B56B80355D0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414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51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414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0"/>
          <p:cNvGrpSpPr/>
          <p:nvPr/>
        </p:nvGrpSpPr>
        <p:grpSpPr>
          <a:xfrm>
            <a:off x="3348000" y="4148280"/>
            <a:ext cx="5795640" cy="360360"/>
            <a:chOff x="3348000" y="4148280"/>
            <a:chExt cx="5795640" cy="360360"/>
          </a:xfrm>
        </p:grpSpPr>
        <p:sp>
          <p:nvSpPr>
            <p:cNvPr id="45" name="Rectangle 11"/>
            <p:cNvSpPr/>
            <p:nvPr/>
          </p:nvSpPr>
          <p:spPr>
            <a:xfrm>
              <a:off x="3434400" y="4219920"/>
              <a:ext cx="5708880" cy="288720"/>
            </a:xfrm>
            <a:prstGeom prst="rect">
              <a:avLst/>
            </a:prstGeom>
            <a:solidFill>
              <a:srgbClr val="00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3348000" y="4148280"/>
              <a:ext cx="5795640" cy="289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0C54-32C2-404D-92C5-112B29D3B840}" type="datetime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52720" y="630828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BE3-7D9C-4523-9C41-B3334B2E54B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844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 Narrow"/>
              </a:rPr>
              <a:t>Indexing Mobile Objects on the plane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25600" y="-54000"/>
            <a:ext cx="26654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Computer Engineering and Informatics Department, Polytechnic School, University of Pa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900000" y="4869000"/>
            <a:ext cx="1727280" cy="1152360"/>
            <a:chOff x="900000" y="4869000"/>
            <a:chExt cx="1727280" cy="1152360"/>
          </a:xfrm>
        </p:grpSpPr>
        <p:sp>
          <p:nvSpPr>
            <p:cNvPr id="97" name="Gear"/>
            <p:cNvSpPr/>
            <p:nvPr/>
          </p:nvSpPr>
          <p:spPr>
            <a:xfrm>
              <a:off x="1857600" y="4869000"/>
              <a:ext cx="769680" cy="528120"/>
            </a:xfrm>
            <a:custGeom>
              <a:avLst/>
              <a:gdLst>
                <a:gd name="textAreaLeft" fmla="*/ 155880 w 769680"/>
                <a:gd name="textAreaRight" fmla="*/ 635760 w 769680"/>
                <a:gd name="textAreaTop" fmla="*/ 96480 h 528120"/>
                <a:gd name="textAreaBottom" fmla="*/ 431640 h 52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3"/>
            <p:cNvSpPr/>
            <p:nvPr/>
          </p:nvSpPr>
          <p:spPr>
            <a:xfrm>
              <a:off x="900000" y="5086800"/>
              <a:ext cx="920160" cy="631800"/>
            </a:xfrm>
            <a:custGeom>
              <a:avLst/>
              <a:gdLst>
                <a:gd name="textAreaLeft" fmla="*/ 186120 w 920160"/>
                <a:gd name="textAreaRight" fmla="*/ 759960 w 920160"/>
                <a:gd name="textAreaTop" fmla="*/ 115920 h 631800"/>
                <a:gd name="textAreaBottom" fmla="*/ 51588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1496880" y="5319720"/>
              <a:ext cx="1022760" cy="701640"/>
            </a:xfrm>
            <a:custGeom>
              <a:avLst/>
              <a:gdLst>
                <a:gd name="textAreaLeft" fmla="*/ 207360 w 1022760"/>
                <a:gd name="textAreaRight" fmla="*/ 845280 w 1022760"/>
                <a:gd name="textAreaTop" fmla="*/ 128520 h 701640"/>
                <a:gd name="textAreaBottom" fmla="*/ 57276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0" descr=""/>
          <p:cNvPicPr/>
          <p:nvPr/>
        </p:nvPicPr>
        <p:blipFill>
          <a:blip r:embed="rId1"/>
          <a:stretch/>
        </p:blipFill>
        <p:spPr>
          <a:xfrm>
            <a:off x="0" y="1764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395280" y="6165720"/>
            <a:ext cx="338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ID@Upa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C5B2-0801-4552-807F-3F96D47A933F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55640" y="6453360"/>
            <a:ext cx="7993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4446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00000" y="1197000"/>
            <a:ext cx="75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1600" indent="-38160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600" indent="-38160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600" indent="-381600" algn="ctr">
              <a:lnSpc>
                <a:spcPct val="80000"/>
              </a:lnSpc>
              <a:spcBef>
                <a:spcPts val="2401"/>
              </a:spcBef>
              <a:spcAft>
                <a:spcPts val="4799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 Narrow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81600" indent="-381600" algn="just">
              <a:lnSpc>
                <a:spcPct val="8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81600" indent="-381600" algn="just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l-GR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1600" indent="-381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39640" y="0"/>
            <a:ext cx="8136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dexing Mobile Objects on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E0E4-B1DF-4A06-87C3-9A41517E17FA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ition of Problem -Literature Surve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3068640"/>
            <a:ext cx="655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iterature Survey -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eometric Duality Transformation and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rees / Partition Trees/ R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9280" y="907920"/>
            <a:ext cx="87854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Report the mobile objects located inside the rectangle [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]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[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] at the time instants between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and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(where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now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) given the current motion information of all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3F1-D60D-46E5-99F5-FD58C9EB777B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roblem Descrip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675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52960" indent="-55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l-GR" sz="2000" spc="-1" strike="noStrike">
                <a:solidFill>
                  <a:srgbClr val="000000"/>
                </a:solidFill>
                <a:latin typeface="Arial Narrow"/>
              </a:rPr>
              <a:t>elocities are bounded by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[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]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960" indent="-55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Arial Narrow"/>
              </a:rPr>
              <a:t>bjects update their motion information, when their speed or direction changes. The system is dynamic, i.e. objects may be deleted or new objects may b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960" indent="-55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t   P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=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]  be the initial position at time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 Then, the object starts moving and at time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its position will be P(t)=[x(t), y(t)]=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+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t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+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t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]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960" indent="-55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=[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] is its velocity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960" indent="-55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lines in figure below depict the objects’ trajectories on the (t,y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ne</a:t>
            </a:r>
            <a:r>
              <a:rPr b="0" lang="el-G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trajectories"/>
          <p:cNvPicPr/>
          <p:nvPr/>
        </p:nvPicPr>
        <p:blipFill>
          <a:blip r:embed="rId6"/>
          <a:stretch/>
        </p:blipFill>
        <p:spPr>
          <a:xfrm>
            <a:off x="1187280" y="2905200"/>
            <a:ext cx="6697800" cy="3584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5E69-8EA3-435A-97A5-CFF520F5ED76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dexing Mobile Objects in one dimens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Hough – X dual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227640" y="227664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24000" y="4365720"/>
            <a:ext cx="8208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 maps the line with equation y(t)=ut+a to the dual point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u,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oint in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ccordingly, the 1-d query [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, [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] becomes 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lyg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n the dual space (see figure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us the initial query  [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, [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] in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t,y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lane can be transformed to the following one query in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u.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la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6"/>
          <p:cNvGraphicFramePr/>
          <p:nvPr/>
        </p:nvGraphicFramePr>
        <p:xfrm>
          <a:off x="324000" y="907920"/>
          <a:ext cx="5184720" cy="355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518472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8"/>
              <p:cNvSpPr txBox="1"/>
              <p:nvPr/>
            </p:nvSpPr>
            <p:spPr>
              <a:xfrm>
                <a:off x="2700360" y="5950080"/>
                <a:ext cx="4535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q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509-968E-4A1B-924F-864B12879817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dexing Mobile Objects in one dimens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Hough – Y dual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4000" y="1268280"/>
          <a:ext cx="562896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56289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1"/>
          <p:cNvSpPr/>
          <p:nvPr/>
        </p:nvSpPr>
        <p:spPr>
          <a:xfrm>
            <a:off x="324000" y="4365720"/>
            <a:ext cx="82087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rewriting the equation y=ut+a as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point in the dual plane has coordinates (b,n) where               and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us the initial query  [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, [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] in (t,y) plane can be transformed to the following one query in (b,n) pla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3851280" y="4221000"/>
                <a:ext cx="115236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6"/>
              <p:cNvSpPr txBox="1"/>
              <p:nvPr/>
            </p:nvSpPr>
            <p:spPr>
              <a:xfrm>
                <a:off x="5364000" y="4724280"/>
                <a:ext cx="648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6443640" y="4653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2556000" y="5661000"/>
                <a:ext cx="3744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DC2F-55E5-49F4-9442-F44C55C41B95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RITER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Hough  Dual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24000" y="1413000"/>
            <a:ext cx="85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tions with small velocities in the Hough-Y approach are mapped into dual points (b,n) having large n coordinates (n=1/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storing the Hough-Y dual points in an index structure such as an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tree, MBR's with large extents are introduced, and the performance is severely aff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using a Hough-X for the small velocities' partition, this effect is eli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query area in Hough-X plane is enlarged by th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=E1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E2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d in Hough-Y plane by 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=E1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E2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actual area of the simplex query in Hough-X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Hough-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actual area of the simplex query in Hough-Y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us, the overall solution  proposes the choice of that transformation which minimizes the following criter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916360" y="5157720"/>
                <a:ext cx="3095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ough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ough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ough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ough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182F-01DD-4210-B04C-78D28AB4251F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procedure for building the index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ompose the 2-d motion into two 1-d motions on the (t,x) and (t,y) p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each projection, build the corresponding index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rtition the objects according to their velo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jects with small velocity are stored using the Hough-X dual transform, while the rest are stored using the Hough-Y dual trans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tion information about the other projection is also inclu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0270-A9D2-4F9D-9309-D02A2305E56F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lgorithm for answering the exact 2-d quer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Decompose the query into two 1-d queries, for the (t,x) and (t,y) proj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(2) For each projection get the dual - simplex qu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(3) For each projection calculate the criterion c and choose the one (say p) that minimizes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(4) Search in projection p the Hough-X or Hough-Y part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(5) Perform a refinement or filtering step ``on the fly", by using the whole motion information. Thus, the result set contains only the objects that satisfy the qu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156360" y="6381720"/>
            <a:ext cx="27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FA1-31C7-4977-A527-C82AF0904036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x - Solutio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Hough-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computed by querying R-trees (or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-d partition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Hough-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computed by querying R-trees or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tre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at indexes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arameters (REMEMBER that in this case the problem has been reduced from 2D to 1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9:32:58Z</dcterms:created>
  <dc:creator>Tzimas Giannis</dc:creator>
  <dc:description/>
  <dc:language>en-US</dc:language>
  <cp:lastModifiedBy>Spyros Sioutas</cp:lastModifiedBy>
  <dcterms:modified xsi:type="dcterms:W3CDTF">2022-11-22T21:13:53Z</dcterms:modified>
  <cp:revision>295</cp:revision>
  <dc:subject/>
  <dc:title>Thesis Presentation</dc:title>
</cp:coreProperties>
</file>