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399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079640" y="685440"/>
            <a:ext cx="46987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2695-E185-4F3D-9BC4-C1A692041B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0996-68ED-41E0-B7F4-183D36FA60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f clo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hr&gt; stands for "horizontal rule"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t's a self-closing element used to create a horizontal line on a web page.g html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Θέση αριθμού διαφάνειας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465A-6793-483F-9EF4-2F66215C51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και το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World Wide Web (WWW)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δεν είναι το ίδιο πράγμα, αν και πολλοί τα συγχέουν. Ας δούμε τις διαφορές του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1. Intern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ο Internet είναι ένα τεράστιο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δίκτυο δικτύων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, το οποίο συνδέει εκατομμύρια υπολογιστές, διακομιστές και άλλες συσκευές παγκοσμίω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Περιλαμβάνει διάφορες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υπηρεσίες και πρωτόκολλα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, όπω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Ηλεκτρονικό ταχυδρομείο (Email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Πρωτόκολλο μεταφοράς αρχείων (FTP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Πρωτόκολλα τηλεφωνίας (VoIP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Ανταλλαγή αρχείων peer-to-p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ο Internet υπάρχει από τη δεκαετία του 1960 και περιλαμβάνει όλες τις διαδικτυακές υποδομέ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2. World Wide Web (WWW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ο WWW είναι μία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υπηρεσία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που λειτουργεί πάνω στο Internet. Ουσιαστικά, είναι ένας από τους τρόπους με τους οποίους οι χρήστες μπορούν να χρησιμοποιήσουν το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Αναπτύχθηκε από τον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Tim Berners-Lee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το 1989 και βασίζεται σε υπερκείμενο (hypertext) και συνδέσμους (links), επιτρέποντας στους χρήστες να περιηγούνται σε ιστοσελίδες που είναι αποθηκευμένες σε διακομιστέ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Οι ιστοσελίδες προσπελαύνονται μέσω προγραμμάτων περιήγησης (browsers), και χρησιμοποιούν κυρίως το πρωτόκολλο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Σύνοψ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είναι η υποδομή, το φυσικό δίκτυο που συνδέει τους υπολογιστές. Το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World Wide Web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είναι μία υπηρεσία που βασίζεται σε αυτή την υποδομή και επιτρέπει την προβολή ιστοσελίδων μέσω των brow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Άρα, το WWW είναι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ένα κομμάτι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του Internet, όχι το ίδιο το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are some popular options for writing HTML, along with their advan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. Sublim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Lightweight, fast, and customizable with packages. Supports HTML, CSS, JavaScript, and a wide range of other languages. Sublime Text's features like multi-cursor editing and powerful search make it great for front-end develo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st f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Developers who want a fast, minimalistic editor with the ability to extend functionality through plugins and pack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. Visual Studio Code (VS C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Widely regarded as one of the best editors for web development. VS Code offers built-in support for HTML, CSS, and JavaScript, along with extensive plugins, an integrated terminal, and Git support. Features lik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m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for writing fast HTML/CSS) are built-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st f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Developers who want a powerful, feature-rich environment with integrated debugging, version control, and task run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3.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Like Sublime Text, Atom is also highly customizable, open-source, and integrates well with Git and GitHub. It has a user-friendly interface and offers a lot of themes and exten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st f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Developers who prefer an open-source alternative with a modern 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. Notepad+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Lightweight, supports basic syntax highlighting, and is great for writing HTML on low-resource systems. It's free and easy to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st f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Beginners or those who want a simple, no-frills editor that runs smoothly even on old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5. Web-Based Editors (like CodePen or JSFid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Great for quick prototyping and sharing code online. These platforms allow you to write and instantly preview HTML, CSS, and JavaScript in the brow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st f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Beginners or developers who want to experiment with HTML and CSS snippets quickly and share them easily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Θέση αριθμού διαφάνειας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A77D-8519-4764-B9E1-EC1A46010B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xyoyn ta rowspan colspan kai 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Θέση αριθμού διαφάνειας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8D1E-10C8-4267-85A3-9FD4AF7A1C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D41C-6D47-431C-ABF8-BA03B680C3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B4B1-7929-41EF-9FB0-7AAD131B79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2187-E2A0-4FAB-8593-4C2BDCCC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8830-3843-41DA-AF11-A8D933C3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5AA9-0B88-48A5-BDF3-57D5C6E7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292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894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44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292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1894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24ED-9F7C-4233-92D4-84207253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E01C-269E-4A88-BA19-EE2C4994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BB2E-510C-4D04-9AC3-6B30234D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53F8-EBAC-47B0-9822-3C33778B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B283-C535-4799-A50E-0E0B4283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63B6-FCC2-4A45-B365-75B00679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69440" y="122400"/>
            <a:ext cx="7753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F60A-528F-424A-9EF6-955C3817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856E-1D5B-4954-BA19-BEB2DEDC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CF70-A139-4611-A459-3E25B1EC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6467-5F80-41A1-953F-9A318F4B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2E2D-FB78-4BDC-8624-24116F09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34D0-74BF-47E7-B65C-104286B6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2921-FF96-4B06-A390-88752E77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292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894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944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292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894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1BEB-DC7B-4285-89E7-D3D02E81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BB76-3E42-424C-8372-4E23E92A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3BBB-E995-44DC-94B5-68E269E9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480E-5A4A-4910-B3EA-8FBA0E46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9440" y="122400"/>
            <a:ext cx="7753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9D31-E4C2-42CB-96A8-E14041E3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039C-4FCC-4BBD-AA9C-C885BF0F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C6B9-C93B-487B-9BC6-42907782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BDF1-7626-465E-B402-D488D19C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1835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98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11560" y="624852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356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7945-907F-4156-AAB4-2527CF541E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380440" y="152280"/>
            <a:ext cx="813960" cy="1295280"/>
            <a:chOff x="8380440" y="152280"/>
            <a:chExt cx="813960" cy="1295280"/>
          </a:xfrm>
        </p:grpSpPr>
        <p:sp>
          <p:nvSpPr>
            <p:cNvPr id="7" name="Oval 9"/>
            <p:cNvSpPr/>
            <p:nvPr/>
          </p:nvSpPr>
          <p:spPr>
            <a:xfrm>
              <a:off x="8380440" y="152280"/>
              <a:ext cx="1231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552880" y="152280"/>
              <a:ext cx="1216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72568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380440" y="320040"/>
              <a:ext cx="12312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552880" y="320040"/>
              <a:ext cx="1216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72568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8984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440" y="488160"/>
              <a:ext cx="12312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552880" y="488160"/>
              <a:ext cx="1216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725680" y="488160"/>
              <a:ext cx="1155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898480" y="488160"/>
              <a:ext cx="11232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9071280" y="488160"/>
              <a:ext cx="12312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380440" y="655920"/>
              <a:ext cx="1231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552880" y="655920"/>
              <a:ext cx="121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72568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8984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380440" y="824040"/>
              <a:ext cx="1231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552880" y="824040"/>
              <a:ext cx="121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7256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8984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9071280" y="824040"/>
              <a:ext cx="1231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380440" y="992160"/>
              <a:ext cx="12312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552880" y="992160"/>
              <a:ext cx="1216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72568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8984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380440" y="1159920"/>
              <a:ext cx="12312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552880" y="1159920"/>
              <a:ext cx="1216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725680" y="1159920"/>
              <a:ext cx="1155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8984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552880" y="1328040"/>
              <a:ext cx="1216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8984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1026"/>
          <p:cNvSpPr/>
          <p:nvPr/>
        </p:nvSpPr>
        <p:spPr>
          <a:xfrm>
            <a:off x="751824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032"/>
          <p:cNvGrpSpPr/>
          <p:nvPr/>
        </p:nvGrpSpPr>
        <p:grpSpPr>
          <a:xfrm>
            <a:off x="7701120" y="2992320"/>
            <a:ext cx="1375920" cy="2189160"/>
            <a:chOff x="7701120" y="2992320"/>
            <a:chExt cx="1375920" cy="2189160"/>
          </a:xfrm>
        </p:grpSpPr>
        <p:sp>
          <p:nvSpPr>
            <p:cNvPr id="76" name="Oval 1033"/>
            <p:cNvSpPr/>
            <p:nvPr/>
          </p:nvSpPr>
          <p:spPr>
            <a:xfrm>
              <a:off x="770112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34"/>
            <p:cNvSpPr/>
            <p:nvPr/>
          </p:nvSpPr>
          <p:spPr>
            <a:xfrm>
              <a:off x="799344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035"/>
            <p:cNvSpPr/>
            <p:nvPr/>
          </p:nvSpPr>
          <p:spPr>
            <a:xfrm>
              <a:off x="828540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036"/>
            <p:cNvSpPr/>
            <p:nvPr/>
          </p:nvSpPr>
          <p:spPr>
            <a:xfrm>
              <a:off x="770112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037"/>
            <p:cNvSpPr/>
            <p:nvPr/>
          </p:nvSpPr>
          <p:spPr>
            <a:xfrm>
              <a:off x="799344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038"/>
            <p:cNvSpPr/>
            <p:nvPr/>
          </p:nvSpPr>
          <p:spPr>
            <a:xfrm>
              <a:off x="828540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039"/>
            <p:cNvSpPr/>
            <p:nvPr/>
          </p:nvSpPr>
          <p:spPr>
            <a:xfrm>
              <a:off x="8577360" y="327672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040"/>
            <p:cNvSpPr/>
            <p:nvPr/>
          </p:nvSpPr>
          <p:spPr>
            <a:xfrm>
              <a:off x="7701120" y="356076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041"/>
            <p:cNvSpPr/>
            <p:nvPr/>
          </p:nvSpPr>
          <p:spPr>
            <a:xfrm>
              <a:off x="7993440" y="356076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042"/>
            <p:cNvSpPr/>
            <p:nvPr/>
          </p:nvSpPr>
          <p:spPr>
            <a:xfrm>
              <a:off x="8285400" y="356076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043"/>
            <p:cNvSpPr/>
            <p:nvPr/>
          </p:nvSpPr>
          <p:spPr>
            <a:xfrm>
              <a:off x="8577360" y="356076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044"/>
            <p:cNvSpPr/>
            <p:nvPr/>
          </p:nvSpPr>
          <p:spPr>
            <a:xfrm>
              <a:off x="8870040" y="356076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045"/>
            <p:cNvSpPr/>
            <p:nvPr/>
          </p:nvSpPr>
          <p:spPr>
            <a:xfrm>
              <a:off x="7701120" y="3843360"/>
              <a:ext cx="2070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046"/>
            <p:cNvSpPr/>
            <p:nvPr/>
          </p:nvSpPr>
          <p:spPr>
            <a:xfrm>
              <a:off x="7993440" y="3843360"/>
              <a:ext cx="2070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047"/>
            <p:cNvSpPr/>
            <p:nvPr/>
          </p:nvSpPr>
          <p:spPr>
            <a:xfrm>
              <a:off x="8285400" y="3843360"/>
              <a:ext cx="2070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048"/>
            <p:cNvSpPr/>
            <p:nvPr/>
          </p:nvSpPr>
          <p:spPr>
            <a:xfrm>
              <a:off x="8577360" y="3843360"/>
              <a:ext cx="2070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049"/>
            <p:cNvSpPr/>
            <p:nvPr/>
          </p:nvSpPr>
          <p:spPr>
            <a:xfrm>
              <a:off x="7701120" y="4127400"/>
              <a:ext cx="20700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050"/>
            <p:cNvSpPr/>
            <p:nvPr/>
          </p:nvSpPr>
          <p:spPr>
            <a:xfrm>
              <a:off x="7993440" y="4127400"/>
              <a:ext cx="20700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051"/>
            <p:cNvSpPr/>
            <p:nvPr/>
          </p:nvSpPr>
          <p:spPr>
            <a:xfrm>
              <a:off x="8285400" y="4127400"/>
              <a:ext cx="20700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052"/>
            <p:cNvSpPr/>
            <p:nvPr/>
          </p:nvSpPr>
          <p:spPr>
            <a:xfrm>
              <a:off x="8577360" y="4127400"/>
              <a:ext cx="20700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53"/>
            <p:cNvSpPr/>
            <p:nvPr/>
          </p:nvSpPr>
          <p:spPr>
            <a:xfrm>
              <a:off x="8870040" y="4127400"/>
              <a:ext cx="20700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054"/>
            <p:cNvSpPr/>
            <p:nvPr/>
          </p:nvSpPr>
          <p:spPr>
            <a:xfrm>
              <a:off x="7701120" y="441180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55"/>
            <p:cNvSpPr/>
            <p:nvPr/>
          </p:nvSpPr>
          <p:spPr>
            <a:xfrm>
              <a:off x="7993440" y="441180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56"/>
            <p:cNvSpPr/>
            <p:nvPr/>
          </p:nvSpPr>
          <p:spPr>
            <a:xfrm>
              <a:off x="8285400" y="441180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57"/>
            <p:cNvSpPr/>
            <p:nvPr/>
          </p:nvSpPr>
          <p:spPr>
            <a:xfrm>
              <a:off x="8577360" y="441180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58"/>
            <p:cNvSpPr/>
            <p:nvPr/>
          </p:nvSpPr>
          <p:spPr>
            <a:xfrm>
              <a:off x="7701120" y="469584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59"/>
            <p:cNvSpPr/>
            <p:nvPr/>
          </p:nvSpPr>
          <p:spPr>
            <a:xfrm>
              <a:off x="7993440" y="469584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60"/>
            <p:cNvSpPr/>
            <p:nvPr/>
          </p:nvSpPr>
          <p:spPr>
            <a:xfrm>
              <a:off x="8285400" y="469584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1"/>
            <p:cNvSpPr/>
            <p:nvPr/>
          </p:nvSpPr>
          <p:spPr>
            <a:xfrm>
              <a:off x="8577360" y="469584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62"/>
            <p:cNvSpPr/>
            <p:nvPr/>
          </p:nvSpPr>
          <p:spPr>
            <a:xfrm>
              <a:off x="7993440" y="497988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63"/>
            <p:cNvSpPr/>
            <p:nvPr/>
          </p:nvSpPr>
          <p:spPr>
            <a:xfrm>
              <a:off x="8577360" y="497988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1064"/>
          <p:cNvSpPr/>
          <p:nvPr/>
        </p:nvSpPr>
        <p:spPr>
          <a:xfrm>
            <a:off x="312840" y="2819520"/>
            <a:ext cx="845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698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211560" y="624852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7356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334B-FE19-4529-901C-C5D4F1DF5A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header.html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ontact.html" TargetMode="External"/><Relationship Id="rId2" Type="http://schemas.openxmlformats.org/officeDocument/2006/relationships/hyperlink" Target="https://www.w3schools.com/html/html_symbols.as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lists.html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ordered_links.htm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list.html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links.html" TargetMode="External"/><Relationship Id="rId2" Type="http://schemas.openxmlformats.org/officeDocument/2006/relationships/hyperlink" Target="file:///links.html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picture.html" TargetMode="External"/><Relationship Id="rId2" Type="http://schemas.openxmlformats.org/officeDocument/2006/relationships/hyperlink" Target="file:///picture.html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mai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main_fonto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466200"/>
            <a:ext cx="751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Προγραμματισμός &amp; Συστήματα στον Παγκόσμιο Ιστό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73000" y="3049560"/>
            <a:ext cx="6421680" cy="28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«γλώσσα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Βασίλης Στεφανή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fanis@c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πικεφαλίδες –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1, …, h6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9800" y="1557360"/>
            <a:ext cx="86709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h1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1 Header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/h1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2 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align=cen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2 header&lt;/h2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3&gt;Level 3 header&lt;/h3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4 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align=righ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4 header&lt;/h4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5&gt;Level 5 header&lt;/h5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6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align=lef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6 header&lt;/h6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3 - TextBox"/>
          <p:cNvSpPr/>
          <p:nvPr/>
        </p:nvSpPr>
        <p:spPr>
          <a:xfrm>
            <a:off x="554040" y="587700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 desig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peech Bubble: Rectangle 4"/>
          <p:cNvSpPr/>
          <p:nvPr/>
        </p:nvSpPr>
        <p:spPr>
          <a:xfrm>
            <a:off x="554040" y="5373720"/>
            <a:ext cx="1913040" cy="900000"/>
          </a:xfrm>
          <a:prstGeom prst="wedgeRectCallout">
            <a:avLst>
              <a:gd name="adj1" fmla="val 46393"/>
              <a:gd name="adj2" fmla="val -74009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ν βάλω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αράγραφοι – </a:t>
            </a:r>
            <a:br>
              <a:rPr sz="3900"/>
            </a:b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ορφοποίηση κειμένο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00"/>
                </a:solidFill>
                <a:latin typeface="Arial"/>
              </a:rPr>
              <a:t>&lt;hr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&lt;!-- Inserts a horizontal rule --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ll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i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i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rom this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entation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&lt;strong&gt;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copy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/strong&gt;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u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ill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u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amp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l.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p&gt;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del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ou know that 2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su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/su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024 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/del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lt;br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t you 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su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times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/su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make mistakes.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p&gt;Did you know how to write this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strong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frac14;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strong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??? 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00"/>
                </a:solidFill>
                <a:latin typeface="Arial"/>
              </a:rPr>
              <a:t>&lt;hr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&lt;!-- Inserts a horizontal rule --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peech Bubble: Rectangle 3"/>
          <p:cNvSpPr/>
          <p:nvPr/>
        </p:nvSpPr>
        <p:spPr>
          <a:xfrm>
            <a:off x="7147080" y="4851360"/>
            <a:ext cx="1912680" cy="898560"/>
          </a:xfrm>
          <a:prstGeom prst="wedgeRectCallout">
            <a:avLst>
              <a:gd name="adj1" fmla="val -55912"/>
              <a:gd name="adj2" fmla="val -77060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peech Bubble: Rectangle 4"/>
          <p:cNvSpPr/>
          <p:nvPr/>
        </p:nvSpPr>
        <p:spPr>
          <a:xfrm>
            <a:off x="5923080" y="1108080"/>
            <a:ext cx="1942920" cy="914400"/>
          </a:xfrm>
          <a:prstGeom prst="wedgeRectCallout">
            <a:avLst>
              <a:gd name="adj1" fmla="val -99953"/>
              <a:gd name="adj2" fmla="val 60745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r&gt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και το 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&gt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πως «κλείνουν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peech Bubble: Rectangle 4"/>
          <p:cNvSpPr/>
          <p:nvPr/>
        </p:nvSpPr>
        <p:spPr>
          <a:xfrm>
            <a:off x="7419960" y="2023920"/>
            <a:ext cx="1943280" cy="914400"/>
          </a:xfrm>
          <a:prstGeom prst="wedgeRectCallout">
            <a:avLst>
              <a:gd name="adj1" fmla="val -77041"/>
              <a:gd name="adj2" fmla="val -23462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f closing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η διατεταγ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u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ng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idu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ckDuckGo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u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peech Bubble: Rectangle 3"/>
          <p:cNvSpPr/>
          <p:nvPr/>
        </p:nvSpPr>
        <p:spPr>
          <a:xfrm>
            <a:off x="6302520" y="2708280"/>
            <a:ext cx="2838240" cy="865080"/>
          </a:xfrm>
          <a:prstGeom prst="wedgeRectCallout">
            <a:avLst>
              <a:gd name="adj1" fmla="val -50435"/>
              <a:gd name="adj2" fmla="val 96490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 κάθε ανανέωση σελίδας αλλάζει η σειρά εμφάνιση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Διατεταγ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o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Bing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idu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DuckDuckGo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o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1640" y="-360"/>
            <a:ext cx="80391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μφωλευ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8520" y="692280"/>
            <a:ext cx="8670960" cy="58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&lt;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669999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You have access to new media as it becomes public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330066"/>
                </a:solidFill>
                <a:latin typeface="Arial"/>
              </a:rPr>
              <a:t>&lt;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New game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w applic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7e9ce8"/>
                </a:solidFill>
                <a:latin typeface="Arial"/>
              </a:rPr>
              <a:t>&lt;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ul&gt;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r business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For pleasure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/ul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Around the clock new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ul&gt;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Java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330066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669999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Keeping in touch with old friend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peech Bubble: Rectangle 3"/>
          <p:cNvSpPr/>
          <p:nvPr/>
        </p:nvSpPr>
        <p:spPr>
          <a:xfrm>
            <a:off x="6643800" y="4851360"/>
            <a:ext cx="2415960" cy="898560"/>
          </a:xfrm>
          <a:prstGeom prst="wedgeRectCallout">
            <a:avLst>
              <a:gd name="adj1" fmla="val -55912"/>
              <a:gd name="adj2" fmla="val -77060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εμφώλευση βασικό χαρακτηριστικό τη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href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en-US" sz="2500" spc="-1" strike="noStrike">
                <a:solidFill>
                  <a:srgbClr val="330066"/>
                </a:solidFill>
                <a:latin typeface="Arial"/>
              </a:rPr>
              <a:t>http://www.gmail.co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Google Mail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cccc00"/>
                </a:solidFill>
                <a:latin typeface="Arial"/>
              </a:rPr>
              <a:t>links2.htm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Another page on the same folder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669999"/>
                </a:solidFill>
                <a:latin typeface="Arial"/>
              </a:rPr>
              <a:t>mailto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efanis@ceid.upatras.gr"&gt;email me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“tel:+302610451517”&gt;Hungry?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7e9ce8"/>
                </a:solidFill>
                <a:latin typeface="Arial"/>
              </a:rPr>
              <a:t>#botto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Go to the bottom of this page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</a:t>
            </a:r>
            <a:r>
              <a:rPr b="0" lang="en-US" sz="2500" spc="-1" strike="noStrike">
                <a:solidFill>
                  <a:srgbClr val="7e9ce8"/>
                </a:solidFill>
                <a:latin typeface="Arial"/>
              </a:rPr>
              <a:t>name="bottom"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gt;&lt;h2&gt;Here is the bottom&lt;/h2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ικόνε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9800" y="1557360"/>
            <a:ext cx="86709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m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src = "stoneage2.jpg"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alt = "New email"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 hre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links.htm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</a:rPr>
              <a:t>&lt;img src = "stoneage.jpg" alt = "New email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img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border = “0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rc = "stoneage2.jpg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peech Bubble: Rectangle 3"/>
          <p:cNvSpPr/>
          <p:nvPr/>
        </p:nvSpPr>
        <p:spPr>
          <a:xfrm>
            <a:off x="4627440" y="517680"/>
            <a:ext cx="2416320" cy="900000"/>
          </a:xfrm>
          <a:prstGeom prst="wedgeRectCallout">
            <a:avLst>
              <a:gd name="adj1" fmla="val 52300"/>
              <a:gd name="adj2" fmla="val 80402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ι χρειάζεται 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ίνακ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797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border = "1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width = "40%" 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align = "center"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&lt;caption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 is a small sample table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&lt;/capti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&lt;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&lt;th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head.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&lt;/th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&lt;/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&lt;td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body.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&lt;/t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/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peech Bubble: Rectangle 3"/>
          <p:cNvSpPr/>
          <p:nvPr/>
        </p:nvSpPr>
        <p:spPr>
          <a:xfrm>
            <a:off x="4627440" y="517680"/>
            <a:ext cx="2416320" cy="900000"/>
          </a:xfrm>
          <a:prstGeom prst="wedgeRectCallout">
            <a:avLst>
              <a:gd name="adj1" fmla="val 52300"/>
              <a:gd name="adj2" fmla="val 80402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ίνακε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 «εχθρός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bi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Λύσεις μ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"/>
          <p:cNvSpPr/>
          <p:nvPr/>
        </p:nvSpPr>
        <p:spPr>
          <a:xfrm>
            <a:off x="8443800" y="2997360"/>
            <a:ext cx="647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49432"/>
                </a:solidFill>
                <a:latin typeface="Arial"/>
              </a:rPr>
              <a:t>th : tabl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tr : table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00"/>
                </a:solidFill>
                <a:latin typeface="Arial"/>
              </a:rPr>
              <a:t>td: tabl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8443800" y="1676520"/>
            <a:ext cx="935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tion : text element brief description or tit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able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g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ft, right, center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ην οριζόντια τοποθέτηση του πίνακ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dth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45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50%}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πλάτος του πίνακ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rder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{0,1,…}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πλάτος του περιγράμματο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cellspacing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{0,1,…} :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το κενό μεταξύ γειτονικών κελιών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cellpadding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: το κενό μεταξύ κελιού και περιεχομέν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caption align = {top, bottom}&gt;…&lt;/capti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peech Bubble: Rectangle 3"/>
          <p:cNvSpPr/>
          <p:nvPr/>
        </p:nvSpPr>
        <p:spPr>
          <a:xfrm>
            <a:off x="5994360" y="5589720"/>
            <a:ext cx="2417760" cy="900000"/>
          </a:xfrm>
          <a:prstGeom prst="wedgeRectCallout">
            <a:avLst>
              <a:gd name="adj1" fmla="val -71046"/>
              <a:gd name="adj2" fmla="val -63851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Ναι, οι ιδιότητες δηλώνονται μ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πλέον </a:t>
            </a:r>
            <a:r>
              <a:rPr b="0" lang="el-G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12480" y="1066320"/>
            <a:ext cx="8778600" cy="54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&lt;table border = "1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owspan = "2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img src = "camel.gif"&gt;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 </a:t>
            </a:r>
            <a:r>
              <a:rPr b="0" lang="en-US" sz="2400" spc="-1" strike="noStrike">
                <a:solidFill>
                  <a:srgbClr val="cccc00"/>
                </a:solidFill>
                <a:latin typeface="Arial"/>
              </a:rPr>
              <a:t>colspan = "4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ign = "top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1&gt;Camelid comparison&lt;/h1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r </a:t>
            </a: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valign = "bottom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# of Humps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Indigenous region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Spits?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Produces Wool?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r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84320" y="304560"/>
            <a:ext cx="8038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Ένας πολύπλοκος πίνακα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yper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ext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arkup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angu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ML 4.01 (24/12/1999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ML 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ML Living Standard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st Updated: 11 October 2022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Hypertext Application Technology Working Group (WHATW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ple, Google, Mozilla, Microsof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να HTML αρχείο είναι ένα αρχείο κειμένου που περιέχει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markup tags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ένε στο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Browse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ώς να παρουσιάσει το περιεχόμενο της σελίδ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HTML αρχεία έχουν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htm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ή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καταλήξει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να HTML αρχείο μπορεί να δημιουργηθεί χρησιμοποιώντας έναν απλό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text editor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(π.χ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Arial"/>
              </a:rPr>
              <a:t>Προτείνεται η χρήση κάποιου εξειδικευμένου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ditor (Notepad++, Sublime Tex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peech Bubble: Rectangle 1"/>
          <p:cNvSpPr/>
          <p:nvPr/>
        </p:nvSpPr>
        <p:spPr>
          <a:xfrm>
            <a:off x="5059440" y="476280"/>
            <a:ext cx="1942920" cy="915840"/>
          </a:xfrm>
          <a:prstGeom prst="wedgeRectCallout">
            <a:avLst>
              <a:gd name="adj1" fmla="val -41750"/>
              <a:gd name="adj2" fmla="val 79166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≠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 Berners-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 / th / td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9440" y="1719000"/>
            <a:ext cx="892836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wrap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παγορεύει την αναδίπλωση κειμέν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owsp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{int} :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τις γραμμές που καταλαμβάνονται από το κελ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colspan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: τις στήλες που καταλαμβάνοντα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dth / height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ο πλάτο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ύψος του κελιο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gn / valign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ιζόντια / κάθετη ευθυγράμμιση των περιεχομένω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Φόρμ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method = "pos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action = “sendmail</a:t>
            </a:r>
            <a:r>
              <a:rPr b="0" lang="el-GR" sz="2600" spc="-1" strike="noStrike">
                <a:solidFill>
                  <a:srgbClr val="669999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php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hidden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name = "subjec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value = "Feedback Form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name = "name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tex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ize = "25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submi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lue = "Submit Your Entries"&gt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rese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lue = "Clear Your Entries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/form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peech Bubble: Rectangle 3"/>
          <p:cNvSpPr/>
          <p:nvPr/>
        </p:nvSpPr>
        <p:spPr>
          <a:xfrm>
            <a:off x="1027080" y="5516640"/>
            <a:ext cx="3024360" cy="1081080"/>
          </a:xfrm>
          <a:prstGeom prst="wedgeRectCallout">
            <a:avLst>
              <a:gd name="adj1" fmla="val 47379"/>
              <a:gd name="adj2" fmla="val -87217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 να αποκτήσει λειτουργικότητα η φόρμα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-side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a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ίζει τ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ου θα χρησιμοποιηθεί από τον εξυπηρετητή για να επεξεργαστεί τα δεδομένα της φόρμ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method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t, pos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ίζει τη μέθοδο αποστολής των περιεχομένων της φόρμ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έλνει τα περιεχόμενα σαν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ry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α στέλνει στο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ώμα τ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ηνύματ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peech Bubble: Rectangle 3"/>
          <p:cNvSpPr/>
          <p:nvPr/>
        </p:nvSpPr>
        <p:spPr>
          <a:xfrm>
            <a:off x="1530360" y="5437080"/>
            <a:ext cx="2417760" cy="900360"/>
          </a:xfrm>
          <a:prstGeom prst="wedgeRectCallout">
            <a:avLst>
              <a:gd name="adj1" fmla="val 75759"/>
              <a:gd name="adj2" fmla="val -56740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α τα δούμε αναλυτικά στη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ία πολύπλοκη φόρ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84320" y="6021360"/>
            <a:ext cx="9083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1998720" y="1417680"/>
            <a:ext cx="54007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4320" y="274320"/>
            <a:ext cx="8038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Άλλη μία φόρ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84320" y="5950080"/>
            <a:ext cx="908352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1393920" y="1285920"/>
            <a:ext cx="6610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inp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αίρνει διάφορες παραμέτρου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παγορεύεται να υπάρχει ετικέτα τέλου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Κλείνει όπως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br /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textarea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 πεδία κειμένου πολλαπλών γραμμώ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ws / colum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textarea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selec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μονής ή πολλαπλής επιλογής μενο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select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2480" y="122400"/>
            <a:ext cx="76755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5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put – </a:t>
            </a:r>
            <a:br>
              <a:rPr sz="3500"/>
            </a:br>
            <a:r>
              <a:rPr b="1" lang="el-GR" sz="3500" spc="-1" strike="noStrike">
                <a:solidFill>
                  <a:srgbClr val="330066"/>
                </a:solidFill>
                <a:latin typeface="Arial"/>
              </a:rPr>
              <a:t>παράμετρος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yp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θορίζει τον τύπο του πεδίου εισόδ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λήρης λίστ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είμενο μίας γραμμής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,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sswo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μοιο με τον τύπ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, αλλά απεικονίζει τον χαρακτήρ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ν υπάρχει κρυπτογράφηση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eck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ημιουργεί ζεύγος ονόματος/τιμής, υποστηρίζονται πολλαπλές τιμές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di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έχεται μόνο μία τιμή, μία ομάδα επιλογών έχει το ίδιο όνομ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ποστολή δεδομέν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«καθαρίζει» τα περιεχόμεν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Γιατί τα εισαγωγικά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0" name="Picture 2" descr="A person sitting at a table with a sign in front of hi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522360" y="1887480"/>
            <a:ext cx="5079960" cy="3801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6138720" y="3284640"/>
            <a:ext cx="2914920" cy="1234800"/>
          </a:xfrm>
          <a:prstGeom prst="rect">
            <a:avLst/>
          </a:prstGeom>
          <a:ln w="0">
            <a:noFill/>
          </a:ln>
        </p:spPr>
      </p:pic>
      <p:sp>
        <p:nvSpPr>
          <p:cNvPr id="242" name="Oval 5"/>
          <p:cNvSpPr/>
          <p:nvPr/>
        </p:nvSpPr>
        <p:spPr>
          <a:xfrm>
            <a:off x="5923080" y="2852640"/>
            <a:ext cx="3386160" cy="1666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Η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HTML</a:t>
            </a: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 δεν είναι γλώσσα προγραμματισμου!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69440" y="1719000"/>
            <a:ext cx="8458200" cy="25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ίναι απλά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up.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τί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ν έχει δομές ελέγχου και επανάληψ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δηλώνεις μεταβλητέ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γράφεις συναρτή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κάνεις λογικ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&amp; μαθηματικούς υπολογισμ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3 - Εικόνα" descr="11.jpg"/>
          <p:cNvPicPr/>
          <p:nvPr/>
        </p:nvPicPr>
        <p:blipFill>
          <a:blip r:embed="rId1"/>
          <a:stretch/>
        </p:blipFill>
        <p:spPr>
          <a:xfrm>
            <a:off x="5956200" y="2766960"/>
            <a:ext cx="34434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5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νέ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ρότυπο για τη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Νέ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–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ειώνει την ανάγκη για εξωτερικά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gins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/3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ραφικ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νεξαρτησία από συσκευές - πλατφόρμ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λύτερη διαχείριση σφαλμάτ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Ένα απλ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αρχείο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9440" y="1628280"/>
            <a:ext cx="84582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00"/>
                </a:solidFill>
                <a:latin typeface="Arial"/>
              </a:rPr>
              <a:t>&lt;!– Our first Web page (This is a comment) 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itle&gt;Welcome to Our Web Site!&lt;/tit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4c8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&gt;Welcome to Our Web Site!&lt;/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4c8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Εικόνα 2" descr=""/>
          <p:cNvPicPr/>
          <p:nvPr/>
        </p:nvPicPr>
        <p:blipFill>
          <a:blip r:embed="rId2"/>
          <a:stretch/>
        </p:blipFill>
        <p:spPr>
          <a:xfrm>
            <a:off x="5423040" y="2349360"/>
            <a:ext cx="35049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517760" y="1468440"/>
            <a:ext cx="652608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2035080" y="1413000"/>
            <a:ext cx="545148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ttribut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select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1220760" y="2492280"/>
            <a:ext cx="7215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ερικά παραδείγμα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5 SV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5 drag and dr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5 geo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5 vide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alid 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3C Valid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ttp://validator.w3.org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ηλαδή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Όλα τα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 πρέπει να «κλείνουν» και με τη σωστή σειρά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Υποχρεωτικά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wercase tag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Οι ιδιότητες στα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 ανάμεσα σ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quo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Και πολλά άλλα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Μια χαρά εμφανίζετα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Γιατί είναι σημαντικό να γράφουμ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id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Μέγιστη συμβατότητα με όλους τους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rows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υμβατότητα με μελλοντικές εκδόσει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Χρόνος φόρτωση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Ανάγνωση από μηχανές αναζήτηση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Προσβασιμότητα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0" y="466200"/>
            <a:ext cx="751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330066"/>
                </a:solidFill>
                <a:latin typeface="Arial"/>
              </a:rPr>
              <a:t>Τέλος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873000" y="3049560"/>
            <a:ext cx="642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ρωτήσει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p&gt;Welcome to Our Web Site!!!!&lt;/p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522360" y="1719360"/>
            <a:ext cx="1584360" cy="916920"/>
          </a:xfrm>
          <a:prstGeom prst="rect">
            <a:avLst/>
          </a:prstGeom>
          <a:solidFill>
            <a:srgbClr val="ff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opening 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7002360" y="1719360"/>
            <a:ext cx="1925640" cy="916920"/>
          </a:xfrm>
          <a:prstGeom prst="rect">
            <a:avLst/>
          </a:prstGeom>
          <a:solidFill>
            <a:srgbClr val="ff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clo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469800" y="1557360"/>
            <a:ext cx="8458200" cy="2014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men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ή στοιχείο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2106720" y="1719360"/>
            <a:ext cx="4895640" cy="1191240"/>
          </a:xfrm>
          <a:prstGeom prst="rect">
            <a:avLst/>
          </a:prstGeom>
          <a:solidFill>
            <a:srgbClr val="00b0f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ent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δώ απλό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Στοιχεί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 vs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τικέτες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τικέτες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(tags)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χρησιμοποιούνται για να οριοθετήσουν την αρχή και το τέλος ενός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τοιχεί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α στοιχεία (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lements)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΄μπορούν να έχουν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ttributes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α οποία έχουν τιμέ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Πηγή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s://www.tutorialrepublic.com/html-tutorial/html-elements.ph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Εικόνα 3" descr=""/>
          <p:cNvPicPr/>
          <p:nvPr/>
        </p:nvPicPr>
        <p:blipFill>
          <a:blip r:embed="rId1"/>
          <a:stretch/>
        </p:blipFill>
        <p:spPr>
          <a:xfrm>
            <a:off x="2038320" y="4189320"/>
            <a:ext cx="5753160" cy="1543320"/>
          </a:xfrm>
          <a:prstGeom prst="rect">
            <a:avLst/>
          </a:prstGeom>
          <a:ln w="0">
            <a:noFill/>
          </a:ln>
        </p:spPr>
      </p:pic>
      <p:sp>
        <p:nvSpPr>
          <p:cNvPr id="173" name="Ευθεία γραμμή σύνδεσης 3"/>
          <p:cNvSpPr/>
          <p:nvPr/>
        </p:nvSpPr>
        <p:spPr>
          <a:xfrm>
            <a:off x="2467080" y="6237360"/>
            <a:ext cx="4608360" cy="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Ευθύγραμμο βέλος σύνδεσης 5"/>
          <p:cNvCxnSpPr/>
          <p:nvPr/>
        </p:nvCxnSpPr>
        <p:spPr>
          <a:xfrm flipV="1">
            <a:off x="2466720" y="5732280"/>
            <a:ext cx="1080" cy="505440"/>
          </a:xfrm>
          <a:prstGeom prst="straightConnector1">
            <a:avLst/>
          </a:prstGeom>
          <a:ln w="381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175" name="Ευθύγραμμο βέλος σύνδεσης 8"/>
          <p:cNvCxnSpPr/>
          <p:nvPr/>
        </p:nvCxnSpPr>
        <p:spPr>
          <a:xfrm flipV="1">
            <a:off x="7075080" y="5732280"/>
            <a:ext cx="1080" cy="505440"/>
          </a:xfrm>
          <a:prstGeom prst="straightConnector1">
            <a:avLst/>
          </a:prstGeom>
          <a:ln w="381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176" name="TextBox 7"/>
          <p:cNvSpPr/>
          <p:nvPr/>
        </p:nvSpPr>
        <p:spPr>
          <a:xfrm>
            <a:off x="3403440" y="5732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ml elemen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/ στοιχείο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Y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gcol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το χρώμα του φόντου της σελίδ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το χρώμα των χαρακτήρων του κειμένο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0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χρώματα με βάση το όνομα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lt;body</a:t>
            </a:r>
            <a:r>
              <a:rPr b="0" lang="el-GR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gcolor=“tomato” text=“PaleGreen”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lue = #0000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peech Bubble: Rectangle 4"/>
          <p:cNvSpPr/>
          <p:nvPr/>
        </p:nvSpPr>
        <p:spPr>
          <a:xfrm>
            <a:off x="1170000" y="5300640"/>
            <a:ext cx="1944720" cy="915840"/>
          </a:xfrm>
          <a:prstGeom prst="wedgeRectCallout">
            <a:avLst>
              <a:gd name="adj1" fmla="val 51374"/>
              <a:gd name="adj2" fmla="val -85736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πλά ω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,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μορφοποίηση μ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Τα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ttributes</a:t>
            </a: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 είναι ξεπερασμένα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554040" y="1989000"/>
            <a:ext cx="82440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b Colors - </a:t>
            </a:r>
            <a:r>
              <a:rPr b="0" lang="en-US" sz="46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4600" spc="-1" strike="noStrike">
                <a:solidFill>
                  <a:srgbClr val="00cc00"/>
                </a:solidFill>
                <a:latin typeface="Arial"/>
              </a:rPr>
              <a:t>G</a:t>
            </a:r>
            <a:r>
              <a:rPr b="0" lang="en-US" sz="4600" spc="-1" strike="noStrike">
                <a:solidFill>
                  <a:srgbClr val="0000ff"/>
                </a:solidFill>
                <a:latin typeface="Arial"/>
              </a:rPr>
              <a:t>B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9440" y="1574280"/>
            <a:ext cx="84582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9800" y="1379520"/>
          <a:ext cx="4151520" cy="4857840"/>
        </p:xfrm>
        <a:graphic>
          <a:graphicData uri="http://schemas.openxmlformats.org/drawingml/2006/table">
            <a:tbl>
              <a:tblPr/>
              <a:tblGrid>
                <a:gridCol w="693720"/>
                <a:gridCol w="690840"/>
                <a:gridCol w="693720"/>
                <a:gridCol w="690480"/>
                <a:gridCol w="706320"/>
                <a:gridCol w="676440"/>
              </a:tblGrid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4776840" y="1379520"/>
          <a:ext cx="4151160" cy="4857840"/>
        </p:xfrm>
        <a:graphic>
          <a:graphicData uri="http://schemas.openxmlformats.org/drawingml/2006/table">
            <a:tbl>
              <a:tblPr/>
              <a:tblGrid>
                <a:gridCol w="693720"/>
                <a:gridCol w="690480"/>
                <a:gridCol w="693720"/>
                <a:gridCol w="690480"/>
                <a:gridCol w="706680"/>
                <a:gridCol w="676080"/>
              </a:tblGrid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3049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ff"/>
                    </a:solidFill>
                  </a:tcPr>
                </a:tc>
              </a:tr>
              <a:tr h="30456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49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0456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6" name="Text Box 312"/>
          <p:cNvSpPr/>
          <p:nvPr/>
        </p:nvSpPr>
        <p:spPr>
          <a:xfrm>
            <a:off x="0" y="6308640"/>
            <a:ext cx="93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 X 256 X 256 = 16.777.2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4320" y="122040"/>
            <a:ext cx="8038800" cy="114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0960" y="1412640"/>
            <a:ext cx="8670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ορισμού περιοχή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πικεφαλίδε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&lt;h1&gt;&lt;/h1&gt;, …, &lt;h6&gt;&lt;/h6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αράγραφοι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p&gt;&lt;/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Λίστ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ul&gt;, &lt;ol&gt; &lt;dl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Φόρμες - &l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&gt;&lt;/form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ίνακ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table&gt;&lt;/tabl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ριζόντιες γραμμέ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h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ορισμού κειμέν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nt style elements - &lt;b&gt;&lt;/b&gt;, &lt;i&gt;&lt;/i&gt;, &lt;u&gt;&lt;/u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s - &lt;a&gt;&lt;/a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ικόν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img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ιακοπές κειμένο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&lt;b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5:19:43Z</dcterms:created>
  <dc:creator>mitsos</dc:creator>
  <dc:description/>
  <dc:language>en-US</dc:language>
  <cp:lastModifiedBy>Βογιατζάκη Ελένη</cp:lastModifiedBy>
  <dcterms:modified xsi:type="dcterms:W3CDTF">2024-10-09T11:16:09Z</dcterms:modified>
  <cp:revision>682</cp:revision>
  <dc:subject/>
  <dc:title>Τεχνολογίες Διαδικτύου</dc:title>
</cp:coreProperties>
</file>