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2CE8-A0DD-4C53-8B1F-40B02697AC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AEA8-64D8-4611-99B5-7B3FFC9B7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C2B8-2415-4241-B674-B3C7F055B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AA8A-49C8-402B-8705-C9EC02896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B0ED-EA21-4B5B-8587-2CCD2544FD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763-63EC-4BCC-8D7A-481D7F385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3 - Θέση αριθμού διαφάνειας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9097-5CF2-4D5B-8039-6842031820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E0A-7CBB-4DC1-A9F1-9331975D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F14-9EF6-4E93-9126-76C139B7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3A8-A5AC-4D92-B776-BFFA32AE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16B-4DDB-4A62-9DBD-F6F5B738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52E9-B4CF-4E75-A0F1-67A818F1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19F5-0F0C-4F7F-B3C9-456D9439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0D60-0F9A-4B2C-B8A7-80D4F827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AD59-22B3-413C-B386-59AF17E7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5DC7-AC30-482B-8763-3EF9D525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07FF-F9A1-4E5E-9CD3-80EF2C90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BD9E-50E2-481B-85BF-94823139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158-E7E8-4012-A635-C644C35B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2AD6-812B-4B2D-A28C-08AC1026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46F9-95DF-4322-8E79-312BED2A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2214-C301-4FDE-9363-13DC5FA6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9D75-F508-4749-AA4E-3E425955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C6DD-ABBF-43E9-924C-E42028C7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A44-6454-4DB8-9A9C-212D5902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00C-6515-4214-8294-A2951186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BE6-533C-44D7-B7F2-C3428D1E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DFF-AFD1-4321-BB17-640A40E1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B55-925A-428E-B112-9F040B64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59C-0025-4298-948D-70C3D268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2FC-201E-4012-861A-3AA96005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2508-178B-4FB6-B61C-8D4B9C7FF1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39F0-D43D-4B10-963B-A509E38B2F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h04/03/advanced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w3schools.com/css/tryit.asp?filename=trycss_pseudo-class_links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h04/05/imported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w3.org/Style/Examples/007/units.en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w3schools.com/css/tryit.asp?filename=trycss_boxmode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3schools.com/css/tryit.asp?filename=trycss_position_fixed" TargetMode="External"/><Relationship Id="rId2" Type="http://schemas.openxmlformats.org/officeDocument/2006/relationships/hyperlink" Target="http://www.w3schools.com/css/tryit.asp?filename=trycss_position_absolute" TargetMode="External"/><Relationship Id="rId3" Type="http://schemas.openxmlformats.org/officeDocument/2006/relationships/hyperlink" Target="http://www.w3schools.com/css/tryit.asp?filename=trycss_position_relative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ch04/06/positioning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h04/07/positioning2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w3schools.com/cssref/css_selectors.as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h04/01/inline.html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a6a6a6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a6a6a6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90360" y="2421000"/>
            <a:ext cx="9307800" cy="4137120"/>
          </a:xfrm>
          <a:prstGeom prst="rect">
            <a:avLst/>
          </a:prstGeom>
          <a:ln w="0">
            <a:noFill/>
          </a:ln>
        </p:spPr>
      </p:pic>
      <p:cxnSp>
        <p:nvCxnSpPr>
          <p:cNvPr id="185" name="Straight Arrow Connector 7"/>
          <p:cNvCxnSpPr/>
          <p:nvPr/>
        </p:nvCxnSpPr>
        <p:spPr>
          <a:xfrm flipH="1">
            <a:off x="810360" y="2119320"/>
            <a:ext cx="864360" cy="13104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86" name="Straight Arrow Connector 10"/>
          <p:cNvCxnSpPr/>
          <p:nvPr/>
        </p:nvCxnSpPr>
        <p:spPr>
          <a:xfrm flipH="1">
            <a:off x="810360" y="4143240"/>
            <a:ext cx="1872360" cy="11138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87" name="Straight Arrow Connector 6"/>
          <p:cNvCxnSpPr/>
          <p:nvPr/>
        </p:nvCxnSpPr>
        <p:spPr>
          <a:xfrm flipH="1" flipV="1">
            <a:off x="810360" y="5888880"/>
            <a:ext cx="1080360" cy="5994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2336760"/>
            <a:ext cx="9307440" cy="414324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7"/>
          <p:cNvCxnSpPr/>
          <p:nvPr/>
        </p:nvCxnSpPr>
        <p:spPr>
          <a:xfrm flipH="1">
            <a:off x="469440" y="2205000"/>
            <a:ext cx="1061280" cy="11534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ing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35080" y="2386080"/>
            <a:ext cx="9163080" cy="4414680"/>
          </a:xfrm>
          <a:prstGeom prst="rect">
            <a:avLst/>
          </a:prstGeom>
          <a:ln w="0">
            <a:noFill/>
          </a:ln>
        </p:spPr>
      </p:pic>
      <p:cxnSp>
        <p:nvCxnSpPr>
          <p:cNvPr id="195" name="Straight Arrow Connector 7"/>
          <p:cNvCxnSpPr/>
          <p:nvPr/>
        </p:nvCxnSpPr>
        <p:spPr>
          <a:xfrm flipH="1">
            <a:off x="882000" y="2205000"/>
            <a:ext cx="648360" cy="12247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a  { text-decoration: none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a:hov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lor: red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ackground-color: #ccffcc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i 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color: re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-weight: bold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{ margin-left: 7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ul 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rgin-left: 1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x (pixel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σχετικό για κάθε σύστη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seudo-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06360" y="1417680"/>
            <a:ext cx="8209080" cy="53690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 flipV="1" rot="10800000">
            <a:off x="4627440" y="6272640"/>
            <a:ext cx="46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s://www.w3schools.com/css/tryit.asp?filename=trycss_pseudo-class_link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rnal style she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title&gt;External Style Sheets&lt;/titl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3000" spc="-1" strike="noStrike">
                <a:solidFill>
                  <a:srgbClr val="cc00ff"/>
                </a:solidFill>
                <a:latin typeface="Arial"/>
              </a:rPr>
              <a:t>link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rel = "stylesheet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ff"/>
                </a:solidFill>
                <a:latin typeface="Arial"/>
              </a:rPr>
              <a:t>href = "styles.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SS Specificit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μεγαλύτερο «σκορ» κερδίζε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SS Specificity Magnitudes"/>
          <p:cNvPicPr/>
          <p:nvPr/>
        </p:nvPicPr>
        <p:blipFill>
          <a:blip r:embed="rId1"/>
          <a:stretch/>
        </p:blipFill>
        <p:spPr>
          <a:xfrm>
            <a:off x="1746360" y="2781360"/>
            <a:ext cx="541008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150840" y="1628640"/>
            <a:ext cx="92361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4"/>
          <p:cNvCxnSpPr/>
          <p:nvPr/>
        </p:nvCxnSpPr>
        <p:spPr>
          <a:xfrm flipV="1">
            <a:off x="2682360" y="3428280"/>
            <a:ext cx="499320" cy="4323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19" name="Straight Arrow Connector 15"/>
          <p:cNvCxnSpPr/>
          <p:nvPr/>
        </p:nvCxnSpPr>
        <p:spPr>
          <a:xfrm flipV="1">
            <a:off x="2682360" y="1996200"/>
            <a:ext cx="3537720" cy="18644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30" name="Straight Arrow Connector 15"/>
          <p:cNvCxnSpPr/>
          <p:nvPr/>
        </p:nvCxnSpPr>
        <p:spPr>
          <a:xfrm flipV="1">
            <a:off x="3762360" y="2276280"/>
            <a:ext cx="2232720" cy="18007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31" name="Left Bracket 20"/>
          <p:cNvSpPr/>
          <p:nvPr/>
        </p:nvSpPr>
        <p:spPr>
          <a:xfrm>
            <a:off x="874800" y="2205000"/>
            <a:ext cx="287280" cy="187164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1871640"/>
              <a:gd name="textAreaBottom" fmla="*/ 185976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9"/>
                  <a:pt x="0" y="277"/>
                </a:cubicBezTo>
                <a:lnTo>
                  <a:pt x="0" y="21323"/>
                </a:lnTo>
                <a:cubicBezTo>
                  <a:pt x="0" y="21462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875880" y="576432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=“b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scading Style Shee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αρχική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προοριζόταν για τη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ορφοποίηση των περιεχόμενων μιας ιστοσελίδ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εριγραφή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up)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ων περιεχόμεν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ετικέτες και ιδιότητες μορφοποίησης (π.χ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font&gt;)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μφανίστηκαν στην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 3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ε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ος πονοκέφαλος για τους διαχειριστές μεγάλων ιστοτόπων με πολλές ιστοσελίδε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λύση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θορίζουν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, τη δομή και τη θέση των στοιχείων μέσα στο αρχεί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άνουν εφικτό το διαχωρισμό της εμφάνισης των δεδομένων και των ίδιων των δεδ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id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ρόπος για μορφοποίηση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15"/>
          <p:cNvCxnSpPr/>
          <p:nvPr/>
        </p:nvCxnSpPr>
        <p:spPr>
          <a:xfrm flipV="1">
            <a:off x="4043160" y="2781000"/>
            <a:ext cx="1951560" cy="14198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44" name="Left Bracket 20"/>
          <p:cNvSpPr/>
          <p:nvPr/>
        </p:nvSpPr>
        <p:spPr>
          <a:xfrm>
            <a:off x="874800" y="2708280"/>
            <a:ext cx="287280" cy="152892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1528920"/>
              <a:gd name="textAreaBottom" fmla="*/ 15170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0"/>
                  <a:pt x="0" y="339"/>
                </a:cubicBezTo>
                <a:lnTo>
                  <a:pt x="0" y="21261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84960" y="576432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=“bc” id=“myi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56" name="Straight Arrow Connector 15"/>
          <p:cNvCxnSpPr/>
          <p:nvPr/>
        </p:nvCxnSpPr>
        <p:spPr>
          <a:xfrm flipV="1">
            <a:off x="4699080" y="3299760"/>
            <a:ext cx="1296000" cy="10659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57" name="TextBox 13"/>
          <p:cNvSpPr/>
          <p:nvPr/>
        </p:nvSpPr>
        <p:spPr>
          <a:xfrm>
            <a:off x="116280" y="581040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=“..” class=“bc” id=“my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3C CSS units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092240" y="1728720"/>
            <a:ext cx="7213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0600" y="260280"/>
            <a:ext cx="77533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Box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66720" y="1989000"/>
            <a:ext cx="8105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α θεωρούνται ω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Ιεραρχία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μεταξύ τω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ων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Demonstrating the box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954000" y="4132440"/>
            <a:ext cx="75819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ποθέτηση στοιχείων (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ition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πάντα με βάση την κανονική ροή της σελίδας. Η προκαθορισμένη τοποθέτηση για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Fix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αράθυρο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Absolu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ρώ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elemen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υ έχει τοποθέτηση διαφορετική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λλιώς σε σχέση 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Rel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ην κανονική θέση του στοιχεί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φού δοθεί τιμή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ing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οιχεία τοποθετούνται με τις ιδιότητε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, bottom, left,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πόλυτη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6960" y="1676160"/>
            <a:ext cx="92408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i.gif"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absolut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op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eft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1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alt = "First 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 style = "position: absolute;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top: 50px; left: 5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3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font-size: 20pt;"&gt;Positioned Text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circle.gif" style = "position: absolu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op: 25px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ft: 100px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2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t = "Second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χετική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.sup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relativ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top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.sub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bottom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hiftlef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left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.shiftright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right: -1e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: the 'font-size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he 'x-height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4954680" y="5157720"/>
            <a:ext cx="35938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στάσεις αντικειμέν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style type = "text/cs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v { background-color: #ffccff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margin-bottom: .3c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di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width: 80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xt-align: 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some CENTERED text that goes in a box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is set to stretch across eighty percent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dth of the screen.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&lt;/div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8000" y="122400"/>
            <a:ext cx="7845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rder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width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χ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n (λεπτό)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style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groove(αυλάκι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otted, solid,…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border-{top, left, right, bottom}-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ponsive Web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ακτική της δημιουργία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τάλληλο για οποιαδήποτε συσκευή, ανεξάρτητα από το μέγεθος της οθόνη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vs Mobile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 2</a:t>
            </a:r>
            <a:r>
              <a:rPr b="0" lang="el-GR" sz="30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όρος αναφέρεται στη δημιουργί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λλης έκδοσης το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κινητές συσκευές. Σ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design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χουμε έν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η εμφάνισή του προσαρμόζεται στα χαρακτηριστικά της συσκευή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ρόποι εισαγωγή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tyle shee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9800" y="1219320"/>
            <a:ext cx="8670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line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θορίζε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για συγκεκριμέν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ρήση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 “style”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έσα σ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πορεί να καθορίσει πολλά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styles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ρίζεται μέσα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 &lt;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ηρεάζει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α οποία αναφέρ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rnal style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ημιουργία ξεχωριστού αρχεί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με το οποίο συνδέετα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ρχεί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Ιδανικό όταν το ίδι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 shee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φαρμόζεται σε περισσότερα από ένα αντικείμε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εχνικέ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actice of building the layout of a website with a flexible grid, capable of dynamically resizing to any width. Flexible grids are built using relative length units, most commonly percentages or em un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queries provide the ability to specify different styles for individual browser and device circumstances, the width of the viewport or device orientation for exa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s, videos, and other media types need to be scalable, changing their size as the size of the viewport 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Layo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0" name="3 - Εικόνα" descr=""/>
          <p:cNvPicPr/>
          <p:nvPr/>
        </p:nvPicPr>
        <p:blipFill>
          <a:blip r:embed="rId1"/>
          <a:stretch/>
        </p:blipFill>
        <p:spPr>
          <a:xfrm>
            <a:off x="925560" y="1989000"/>
            <a:ext cx="71373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a Que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media: all, screen, print, tv, 3d-glasses (html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ραδείγμα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43080" y="2997360"/>
            <a:ext cx="8712000" cy="666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343080" y="3701880"/>
            <a:ext cx="8712000" cy="590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3"/>
          <a:stretch/>
        </p:blipFill>
        <p:spPr>
          <a:xfrm>
            <a:off x="352440" y="4365720"/>
            <a:ext cx="8693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776160" y="1773360"/>
            <a:ext cx="3035520" cy="1000080"/>
          </a:xfrm>
          <a:prstGeom prst="rect">
            <a:avLst/>
          </a:prstGeom>
          <a:ln w="0">
            <a:noFill/>
          </a:ln>
        </p:spPr>
      </p:pic>
      <p:pic>
        <p:nvPicPr>
          <p:cNvPr id="288" name="4 - Εικόνα" descr=""/>
          <p:cNvPicPr/>
          <p:nvPr/>
        </p:nvPicPr>
        <p:blipFill>
          <a:blip r:embed="rId2"/>
          <a:stretch/>
        </p:blipFill>
        <p:spPr>
          <a:xfrm>
            <a:off x="3957480" y="1484280"/>
            <a:ext cx="4591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: http://learn.shayhowe.com/advanced-html-css/responsive-web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rcRect l="4909" t="9914" r="7555" b="12230"/>
          <a:stretch/>
        </p:blipFill>
        <p:spPr>
          <a:xfrm>
            <a:off x="554040" y="1557360"/>
            <a:ext cx="81406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n-responsive websi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dequeuniversity.com/library/responsive/1-non-respon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o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Εικόνα 4" descr=""/>
          <p:cNvPicPr/>
          <p:nvPr/>
        </p:nvPicPr>
        <p:blipFill>
          <a:blip r:embed="rId1"/>
          <a:stretch/>
        </p:blipFill>
        <p:spPr>
          <a:xfrm>
            <a:off x="5130720" y="2492280"/>
            <a:ext cx="23194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σβασιμ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χεδίασ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s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ώστε να μπορούν να χρησιμοποιηθούν από άτομα με αναπηρίε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3 Web Accessibility Initiative (WA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Content Accessibility Guidelines (WCA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Ν.4591/2019: ενσωμάτωση οδηγίας της Ε.Ε. για την προσβασιμότητα ιστότοπων κα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bile apps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ων δημόσιων φορέ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bility checkers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AIM WA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rcRect l="6565" t="1899" r="5494" b="1899"/>
          <a:stretch/>
        </p:blipFill>
        <p:spPr>
          <a:xfrm>
            <a:off x="0" y="0"/>
            <a:ext cx="939816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ffffff"/>
                </a:solidFill>
                <a:latin typeface="Arial"/>
              </a:rPr>
              <a:t>Δι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ά</a:t>
            </a:r>
            <a:r>
              <a:rPr b="1" lang="el-GR" sz="3900" spc="-1" strike="noStrike">
                <a:solidFill>
                  <a:srgbClr val="ffffff"/>
                </a:solidFill>
                <a:latin typeface="Arial"/>
              </a:rPr>
              <a:t>ταξη περιεχόμε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άταξη περιεχόμε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0" name="Content Placeholder 5" descr=""/>
          <p:cNvPicPr/>
          <p:nvPr/>
        </p:nvPicPr>
        <p:blipFill>
          <a:blip r:embed="rId1"/>
          <a:stretch/>
        </p:blipFill>
        <p:spPr>
          <a:xfrm>
            <a:off x="774720" y="1773360"/>
            <a:ext cx="78487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itter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557000"/>
            <a:ext cx="8458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α δημοφιλέστερ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 tool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ήθηκε από 2 υπαλλήλους 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όγο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ήρχε η ανάγκη για ένα π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υπο στη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γαλειοθήκη που θα ακολουθούσαν όλοι στην εταιρ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row: Left 70"/>
          <p:cNvSpPr/>
          <p:nvPr/>
        </p:nvSpPr>
        <p:spPr>
          <a:xfrm>
            <a:off x="5635800" y="5950080"/>
            <a:ext cx="34272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c8a8a"/>
          </a:solidFill>
          <a:ln w="25560">
            <a:solidFill>
              <a:srgbClr val="41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2863800" y="3878280"/>
            <a:ext cx="36702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or {property1: value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y2: value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sel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html tag – {body, p, h1,…}, class name, 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χαρακτηριστικό που θέλουμε να αλλάξουμ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, font-family, text-al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A green rectangular with white text&#10;&#10;Description automatically generated"/>
          <p:cNvPicPr/>
          <p:nvPr/>
        </p:nvPicPr>
        <p:blipFill>
          <a:blip r:embed="rId2"/>
          <a:stretch/>
        </p:blipFill>
        <p:spPr>
          <a:xfrm>
            <a:off x="831960" y="4173480"/>
            <a:ext cx="77342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 layout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371600" y="1844640"/>
            <a:ext cx="66549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ι περιλαμβάνε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08" name="Group 64"/>
          <p:cNvGrpSpPr/>
          <p:nvPr/>
        </p:nvGrpSpPr>
        <p:grpSpPr>
          <a:xfrm>
            <a:off x="595440" y="1484280"/>
            <a:ext cx="4751280" cy="4969080"/>
            <a:chOff x="595440" y="1484280"/>
            <a:chExt cx="4751280" cy="4969080"/>
          </a:xfrm>
        </p:grpSpPr>
        <p:sp>
          <p:nvSpPr>
            <p:cNvPr id="309" name="Rectangle 68"/>
            <p:cNvSpPr/>
            <p:nvPr/>
          </p:nvSpPr>
          <p:spPr>
            <a:xfrm>
              <a:off x="595440" y="1484280"/>
              <a:ext cx="4751280" cy="49690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95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tstrap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2"/>
            <p:cNvGrpSpPr/>
            <p:nvPr/>
          </p:nvGrpSpPr>
          <p:grpSpPr>
            <a:xfrm>
              <a:off x="735840" y="2165760"/>
              <a:ext cx="2569320" cy="381960"/>
              <a:chOff x="735840" y="2165760"/>
              <a:chExt cx="2569320" cy="381960"/>
            </a:xfrm>
          </p:grpSpPr>
          <p:sp>
            <p:nvSpPr>
              <p:cNvPr id="311" name="Straight Connector 8"/>
              <p:cNvSpPr/>
              <p:nvPr/>
            </p:nvSpPr>
            <p:spPr>
              <a:xfrm>
                <a:off x="735840" y="2298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9"/>
              <p:cNvSpPr/>
              <p:nvPr/>
            </p:nvSpPr>
            <p:spPr>
              <a:xfrm>
                <a:off x="975600" y="2300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Straight Connector 10"/>
              <p:cNvSpPr/>
              <p:nvPr/>
            </p:nvSpPr>
            <p:spPr>
              <a:xfrm flipH="1" flipV="1">
                <a:off x="984960" y="2419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Box 11"/>
              <p:cNvSpPr/>
              <p:nvPr/>
            </p:nvSpPr>
            <p:spPr>
              <a:xfrm>
                <a:off x="1246320" y="216576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3"/>
            <p:cNvGrpSpPr/>
            <p:nvPr/>
          </p:nvGrpSpPr>
          <p:grpSpPr>
            <a:xfrm>
              <a:off x="732600" y="2478240"/>
              <a:ext cx="2569320" cy="381960"/>
              <a:chOff x="732600" y="2478240"/>
              <a:chExt cx="2569320" cy="381960"/>
            </a:xfrm>
          </p:grpSpPr>
          <p:sp>
            <p:nvSpPr>
              <p:cNvPr id="316" name="Straight Connector 14"/>
              <p:cNvSpPr/>
              <p:nvPr/>
            </p:nvSpPr>
            <p:spPr>
              <a:xfrm>
                <a:off x="732600" y="261108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15"/>
              <p:cNvSpPr/>
              <p:nvPr/>
            </p:nvSpPr>
            <p:spPr>
              <a:xfrm>
                <a:off x="981720" y="26125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16"/>
              <p:cNvSpPr/>
              <p:nvPr/>
            </p:nvSpPr>
            <p:spPr>
              <a:xfrm flipH="1" flipV="1">
                <a:off x="992880" y="273168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17"/>
              <p:cNvSpPr/>
              <p:nvPr/>
            </p:nvSpPr>
            <p:spPr>
              <a:xfrm>
                <a:off x="1243080" y="247824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43"/>
            <p:cNvGrpSpPr/>
            <p:nvPr/>
          </p:nvGrpSpPr>
          <p:grpSpPr>
            <a:xfrm>
              <a:off x="732600" y="1837080"/>
              <a:ext cx="823680" cy="402480"/>
              <a:chOff x="732600" y="1837080"/>
              <a:chExt cx="823680" cy="402480"/>
            </a:xfrm>
          </p:grpSpPr>
          <p:sp>
            <p:nvSpPr>
              <p:cNvPr id="321" name="Straight Connector 5"/>
              <p:cNvSpPr/>
              <p:nvPr/>
            </p:nvSpPr>
            <p:spPr>
              <a:xfrm>
                <a:off x="732600" y="19918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Straight Connector 6"/>
              <p:cNvSpPr/>
              <p:nvPr/>
            </p:nvSpPr>
            <p:spPr>
              <a:xfrm flipH="1" flipV="1">
                <a:off x="743040" y="2126880"/>
                <a:ext cx="24156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Box 120"/>
              <p:cNvSpPr/>
              <p:nvPr/>
            </p:nvSpPr>
            <p:spPr>
              <a:xfrm>
                <a:off x="968760" y="183708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s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9"/>
            <p:cNvGrpSpPr/>
            <p:nvPr/>
          </p:nvGrpSpPr>
          <p:grpSpPr>
            <a:xfrm>
              <a:off x="732600" y="2772360"/>
              <a:ext cx="2856600" cy="368280"/>
              <a:chOff x="732600" y="2772360"/>
              <a:chExt cx="2856600" cy="368280"/>
            </a:xfrm>
          </p:grpSpPr>
          <p:sp>
            <p:nvSpPr>
              <p:cNvPr id="325" name="Straight Connector 114"/>
              <p:cNvSpPr/>
              <p:nvPr/>
            </p:nvSpPr>
            <p:spPr>
              <a:xfrm>
                <a:off x="732600" y="28872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Straight Connector 115"/>
              <p:cNvSpPr/>
              <p:nvPr/>
            </p:nvSpPr>
            <p:spPr>
              <a:xfrm>
                <a:off x="978480" y="288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Straight Connector 116"/>
              <p:cNvSpPr/>
              <p:nvPr/>
            </p:nvSpPr>
            <p:spPr>
              <a:xfrm flipH="1" flipV="1">
                <a:off x="981720" y="299376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117"/>
              <p:cNvSpPr/>
              <p:nvPr/>
            </p:nvSpPr>
            <p:spPr>
              <a:xfrm>
                <a:off x="1229400" y="2772360"/>
                <a:ext cx="235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4"/>
            <p:cNvGrpSpPr/>
            <p:nvPr/>
          </p:nvGrpSpPr>
          <p:grpSpPr>
            <a:xfrm>
              <a:off x="732600" y="3043440"/>
              <a:ext cx="3308400" cy="368280"/>
              <a:chOff x="732600" y="3043440"/>
              <a:chExt cx="3308400" cy="368280"/>
            </a:xfrm>
          </p:grpSpPr>
          <p:sp>
            <p:nvSpPr>
              <p:cNvPr id="330" name="Straight Connector 110"/>
              <p:cNvSpPr/>
              <p:nvPr/>
            </p:nvSpPr>
            <p:spPr>
              <a:xfrm>
                <a:off x="732600" y="31586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111"/>
              <p:cNvSpPr/>
              <p:nvPr/>
            </p:nvSpPr>
            <p:spPr>
              <a:xfrm>
                <a:off x="975240" y="31604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112"/>
              <p:cNvSpPr/>
              <p:nvPr/>
            </p:nvSpPr>
            <p:spPr>
              <a:xfrm flipH="1" flipV="1">
                <a:off x="969120" y="326520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113"/>
              <p:cNvSpPr/>
              <p:nvPr/>
            </p:nvSpPr>
            <p:spPr>
              <a:xfrm>
                <a:off x="1243440" y="3043440"/>
                <a:ext cx="279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42"/>
            <p:cNvGrpSpPr/>
            <p:nvPr/>
          </p:nvGrpSpPr>
          <p:grpSpPr>
            <a:xfrm>
              <a:off x="736920" y="3496680"/>
              <a:ext cx="745920" cy="403560"/>
              <a:chOff x="736920" y="3496680"/>
              <a:chExt cx="745920" cy="403560"/>
            </a:xfrm>
          </p:grpSpPr>
          <p:sp>
            <p:nvSpPr>
              <p:cNvPr id="335" name="Straight Connector 107"/>
              <p:cNvSpPr/>
              <p:nvPr/>
            </p:nvSpPr>
            <p:spPr>
              <a:xfrm>
                <a:off x="736920" y="3652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108"/>
              <p:cNvSpPr/>
              <p:nvPr/>
            </p:nvSpPr>
            <p:spPr>
              <a:xfrm flipH="1" flipV="1">
                <a:off x="738360" y="3787560"/>
                <a:ext cx="2412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109"/>
              <p:cNvSpPr/>
              <p:nvPr/>
            </p:nvSpPr>
            <p:spPr>
              <a:xfrm>
                <a:off x="959760" y="3496680"/>
                <a:ext cx="52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32"/>
            <p:cNvGrpSpPr/>
            <p:nvPr/>
          </p:nvGrpSpPr>
          <p:grpSpPr>
            <a:xfrm>
              <a:off x="732600" y="3858120"/>
              <a:ext cx="2569320" cy="381960"/>
              <a:chOff x="732600" y="3858120"/>
              <a:chExt cx="2569320" cy="381960"/>
            </a:xfrm>
          </p:grpSpPr>
          <p:sp>
            <p:nvSpPr>
              <p:cNvPr id="339" name="Straight Connector 103"/>
              <p:cNvSpPr/>
              <p:nvPr/>
            </p:nvSpPr>
            <p:spPr>
              <a:xfrm>
                <a:off x="732600" y="399096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Straight Connector 104"/>
              <p:cNvSpPr/>
              <p:nvPr/>
            </p:nvSpPr>
            <p:spPr>
              <a:xfrm>
                <a:off x="972360" y="39924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Straight Connector 105"/>
              <p:cNvSpPr/>
              <p:nvPr/>
            </p:nvSpPr>
            <p:spPr>
              <a:xfrm flipH="1" flipV="1">
                <a:off x="981720" y="41115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106"/>
              <p:cNvSpPr/>
              <p:nvPr/>
            </p:nvSpPr>
            <p:spPr>
              <a:xfrm>
                <a:off x="1243080" y="385812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7"/>
            <p:cNvGrpSpPr/>
            <p:nvPr/>
          </p:nvGrpSpPr>
          <p:grpSpPr>
            <a:xfrm>
              <a:off x="719280" y="4181040"/>
              <a:ext cx="2569320" cy="382680"/>
              <a:chOff x="719280" y="4181040"/>
              <a:chExt cx="2569320" cy="382680"/>
            </a:xfrm>
          </p:grpSpPr>
          <p:sp>
            <p:nvSpPr>
              <p:cNvPr id="344" name="Straight Connector 99"/>
              <p:cNvSpPr/>
              <p:nvPr/>
            </p:nvSpPr>
            <p:spPr>
              <a:xfrm>
                <a:off x="719280" y="4314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Straight Connector 100"/>
              <p:cNvSpPr/>
              <p:nvPr/>
            </p:nvSpPr>
            <p:spPr>
              <a:xfrm>
                <a:off x="968400" y="4316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Straight Connector 101"/>
              <p:cNvSpPr/>
              <p:nvPr/>
            </p:nvSpPr>
            <p:spPr>
              <a:xfrm flipH="1" flipV="1">
                <a:off x="979560" y="4435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Box 102"/>
              <p:cNvSpPr/>
              <p:nvPr/>
            </p:nvSpPr>
            <p:spPr>
              <a:xfrm>
                <a:off x="1230480" y="4181040"/>
                <a:ext cx="205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4"/>
            <p:cNvGrpSpPr/>
            <p:nvPr/>
          </p:nvGrpSpPr>
          <p:grpSpPr>
            <a:xfrm>
              <a:off x="719280" y="4538520"/>
              <a:ext cx="1319040" cy="368280"/>
              <a:chOff x="719280" y="4538520"/>
              <a:chExt cx="1319040" cy="368280"/>
            </a:xfrm>
          </p:grpSpPr>
          <p:sp>
            <p:nvSpPr>
              <p:cNvPr id="349" name="Straight Connector 96"/>
              <p:cNvSpPr/>
              <p:nvPr/>
            </p:nvSpPr>
            <p:spPr>
              <a:xfrm>
                <a:off x="722160" y="4662360"/>
                <a:ext cx="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Straight Connector 97"/>
              <p:cNvSpPr/>
              <p:nvPr/>
            </p:nvSpPr>
            <p:spPr>
              <a:xfrm flipH="1">
                <a:off x="719280" y="4808520"/>
                <a:ext cx="46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Box 98"/>
              <p:cNvSpPr/>
              <p:nvPr/>
            </p:nvSpPr>
            <p:spPr>
              <a:xfrm>
                <a:off x="1115280" y="4538520"/>
                <a:ext cx="9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nt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51"/>
            <p:cNvGrpSpPr/>
            <p:nvPr/>
          </p:nvGrpSpPr>
          <p:grpSpPr>
            <a:xfrm>
              <a:off x="1178640" y="4833720"/>
              <a:ext cx="4060080" cy="382680"/>
              <a:chOff x="1178640" y="4833720"/>
              <a:chExt cx="4060080" cy="382680"/>
            </a:xfrm>
          </p:grpSpPr>
          <p:sp>
            <p:nvSpPr>
              <p:cNvPr id="353" name="Straight Connector 93"/>
              <p:cNvSpPr/>
              <p:nvPr/>
            </p:nvSpPr>
            <p:spPr>
              <a:xfrm>
                <a:off x="1178640" y="49687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Straight Connector 94"/>
              <p:cNvSpPr/>
              <p:nvPr/>
            </p:nvSpPr>
            <p:spPr>
              <a:xfrm flipH="1" flipV="1">
                <a:off x="1188000" y="508788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95"/>
              <p:cNvSpPr/>
              <p:nvPr/>
            </p:nvSpPr>
            <p:spPr>
              <a:xfrm>
                <a:off x="1440720" y="4833720"/>
                <a:ext cx="379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e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56"/>
            <p:cNvGrpSpPr/>
            <p:nvPr/>
          </p:nvGrpSpPr>
          <p:grpSpPr>
            <a:xfrm>
              <a:off x="1174680" y="5147640"/>
              <a:ext cx="4060080" cy="381600"/>
              <a:chOff x="1174680" y="5147640"/>
              <a:chExt cx="4060080" cy="381600"/>
            </a:xfrm>
          </p:grpSpPr>
          <p:sp>
            <p:nvSpPr>
              <p:cNvPr id="357" name="Straight Connector 90"/>
              <p:cNvSpPr/>
              <p:nvPr/>
            </p:nvSpPr>
            <p:spPr>
              <a:xfrm>
                <a:off x="1174680" y="5281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Straight Connector 91"/>
              <p:cNvSpPr/>
              <p:nvPr/>
            </p:nvSpPr>
            <p:spPr>
              <a:xfrm flipH="1" flipV="1">
                <a:off x="1184040" y="54021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92"/>
              <p:cNvSpPr/>
              <p:nvPr/>
            </p:nvSpPr>
            <p:spPr>
              <a:xfrm>
                <a:off x="1436400" y="514764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sv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60"/>
            <p:cNvGrpSpPr/>
            <p:nvPr/>
          </p:nvGrpSpPr>
          <p:grpSpPr>
            <a:xfrm>
              <a:off x="1179000" y="5461920"/>
              <a:ext cx="4060080" cy="381600"/>
              <a:chOff x="1179000" y="5461920"/>
              <a:chExt cx="4060080" cy="381600"/>
            </a:xfrm>
          </p:grpSpPr>
          <p:sp>
            <p:nvSpPr>
              <p:cNvPr id="361" name="Straight Connector 87"/>
              <p:cNvSpPr/>
              <p:nvPr/>
            </p:nvSpPr>
            <p:spPr>
              <a:xfrm>
                <a:off x="1179000" y="55958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Straight Connector 88"/>
              <p:cNvSpPr/>
              <p:nvPr/>
            </p:nvSpPr>
            <p:spPr>
              <a:xfrm flipH="1" flipV="1">
                <a:off x="1188360" y="57150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Box 89"/>
              <p:cNvSpPr/>
              <p:nvPr/>
            </p:nvSpPr>
            <p:spPr>
              <a:xfrm>
                <a:off x="1440000" y="5461920"/>
                <a:ext cx="37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tt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64"/>
            <p:cNvGrpSpPr/>
            <p:nvPr/>
          </p:nvGrpSpPr>
          <p:grpSpPr>
            <a:xfrm>
              <a:off x="1174680" y="5799600"/>
              <a:ext cx="4060080" cy="382320"/>
              <a:chOff x="1174680" y="5799600"/>
              <a:chExt cx="4060080" cy="382320"/>
            </a:xfrm>
          </p:grpSpPr>
          <p:sp>
            <p:nvSpPr>
              <p:cNvPr id="365" name="Straight Connector 84"/>
              <p:cNvSpPr/>
              <p:nvPr/>
            </p:nvSpPr>
            <p:spPr>
              <a:xfrm>
                <a:off x="1174680" y="593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Straight Connector 85"/>
              <p:cNvSpPr/>
              <p:nvPr/>
            </p:nvSpPr>
            <p:spPr>
              <a:xfrm flipH="1" flipV="1">
                <a:off x="1184040" y="60534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Box 86"/>
              <p:cNvSpPr/>
              <p:nvPr/>
            </p:nvSpPr>
            <p:spPr>
              <a:xfrm>
                <a:off x="1436400" y="579960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wof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419800" y="4005360"/>
            <a:ext cx="376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first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ύνολα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και συνδυασμούς τ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άφορα θέματ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emplat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νσωματωμένος μηχανισμός για την τοποθέτη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ων σε πλέγ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ρέχει τη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ιταχύνει την διαδικασία δημιουργία σελίδ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fir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διαδικασία κατά την οποία χτίζουμε κάτι με βασικό κριτήριο να εμφανίζεται και να παίζει καλά πρώτα σε μικρές οθόνε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σο μεγαλώνει η οθόνη, πρόσθετοι κανόνες δημιουργούνται για να υποστηρίξουν και τα μεγαλύτερα μεγέθ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όσθετοι κανόνες με χρήση των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9440" y="1719360"/>
            <a:ext cx="8458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άσεις για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τα παρακάτ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e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ότε αξίζει η 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πιέζει ο χρόν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ο σχεδιασμός απαιτεί την χρήσ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(πλέγμ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είναι απαραίτητο να υποστηρίζει όλα τα μεγέθη οθον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δεν απαιτείται να είναι συμβατό μ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6 (internet explorer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22360" y="1773000"/>
            <a:ext cx="810576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ήση στην σελίδα/εφαρμογή μα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1674720" y="5300640"/>
            <a:ext cx="53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βάζουμε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σα σ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ιχεί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162000" y="2492280"/>
            <a:ext cx="90741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45840" y="1825560"/>
            <a:ext cx="794052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Υπάρχουν 2 τρόποι που μπορεί να γίνει 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1386000" y="4221000"/>
            <a:ext cx="2665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συγκεκριμένων στοιχείων (όπως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5130720" y="4221000"/>
            <a:ext cx="2881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όλων των δυνατοτήτων που παρέχε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8"/>
          <p:cNvCxnSpPr/>
          <p:nvPr/>
        </p:nvCxnSpPr>
        <p:spPr>
          <a:xfrm flipH="1">
            <a:off x="2898000" y="2924280"/>
            <a:ext cx="1632600" cy="12484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388" name="Straight Arrow Connector 10"/>
          <p:cNvCxnSpPr/>
          <p:nvPr/>
        </p:nvCxnSpPr>
        <p:spPr>
          <a:xfrm>
            <a:off x="4483080" y="2924280"/>
            <a:ext cx="1621440" cy="12322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389" name="TextBox 12"/>
          <p:cNvSpPr/>
          <p:nvPr/>
        </p:nvSpPr>
        <p:spPr>
          <a:xfrm>
            <a:off x="1459080" y="5445000"/>
            <a:ext cx="63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ενικά ξεκινάμε με τα πολύ βασικά και χτίζουμε και βελτιώνουμε  όσο υλοποιούμ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 Grid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4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i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12 στηλώ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" descr=""/>
          <p:cNvPicPr/>
          <p:nvPr/>
        </p:nvPicPr>
        <p:blipFill>
          <a:blip r:embed="rId1"/>
          <a:stretch/>
        </p:blipFill>
        <p:spPr>
          <a:xfrm>
            <a:off x="812880" y="3068640"/>
            <a:ext cx="77724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line sty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This text does not have any style applied to i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style applied to it, making it 20p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color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#0000ff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 and &lt;em&gt;color&lt;/em&gt; styles applied to it, making it 20pt. and blue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ονάδα μέτρησ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 (point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σούται με το 1/72 της ίντσ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0360" y="1699920"/>
            <a:ext cx="410364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Υπάρχουν 6 συστήματα πλέγματος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tstrap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όνο στοιχείο διαφοροποίησης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λάτος οθόνης που καθορίζει πως συμπεριφέρεται έν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δηλ. πότε αποφασίζεται να αλλάξει το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you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" descr=""/>
          <p:cNvPicPr/>
          <p:nvPr/>
        </p:nvPicPr>
        <p:blipFill>
          <a:blip r:embed="rId1"/>
          <a:stretch/>
        </p:blipFill>
        <p:spPr>
          <a:xfrm>
            <a:off x="4843440" y="1708200"/>
            <a:ext cx="44928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3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95440" y="1557000"/>
            <a:ext cx="8105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λάσεις γραμμώ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δημιουργεί οριζόντια σετ στηλώ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λάσεις Στηλώ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l-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900" spc="-1" strike="noStrike">
                <a:solidFill>
                  <a:srgbClr val="a6a6a6"/>
                </a:solidFill>
                <a:latin typeface="Arial"/>
              </a:rPr>
              <a:t>SIZE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900" spc="-1" strike="noStrike">
                <a:solidFill>
                  <a:srgbClr val="a6a6a6"/>
                </a:solidFill>
                <a:latin typeface="Arial"/>
              </a:rPr>
              <a:t>SPAN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-xs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l-sm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l-md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l-lg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point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ο οποίο αλλάζει η συμπεριφορ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n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όσες στήλες δεσμεύει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 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άθροισμα πρέπει να είναι 12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στήλες 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πρέπει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να είναι το πρώτο παιδί μιας γραμμή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2035080" y="3860640"/>
            <a:ext cx="523260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00" name="Content Placeholder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5746680" cy="4411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rcRect l="0" t="0" r="0" b="45462"/>
          <a:stretch/>
        </p:blipFill>
        <p:spPr>
          <a:xfrm>
            <a:off x="5275440" y="1763640"/>
            <a:ext cx="3970080" cy="12956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5"/>
          <p:cNvSpPr/>
          <p:nvPr/>
        </p:nvSpPr>
        <p:spPr>
          <a:xfrm>
            <a:off x="6786720" y="436572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κανόνας δέσμευσης ισχύει όταν το πλάτος γίνει 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sm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5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595440" y="4581360"/>
            <a:ext cx="1871640" cy="216000"/>
          </a:xfrm>
          <a:prstGeom prst="ellipse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8"/>
          <p:cNvCxnSpPr>
            <a:endCxn id="402" idx="1"/>
          </p:cNvCxnSpPr>
          <p:nvPr/>
        </p:nvCxnSpPr>
        <p:spPr>
          <a:xfrm>
            <a:off x="2466720" y="4652640"/>
            <a:ext cx="4320360" cy="313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405" name="Oval 9"/>
          <p:cNvSpPr/>
          <p:nvPr/>
        </p:nvSpPr>
        <p:spPr>
          <a:xfrm>
            <a:off x="601560" y="3836880"/>
            <a:ext cx="1873440" cy="216000"/>
          </a:xfrm>
          <a:prstGeom prst="ellipse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595440" y="3105000"/>
            <a:ext cx="1871640" cy="216000"/>
          </a:xfrm>
          <a:prstGeom prst="ellipse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Straight Arrow Connector 11"/>
          <p:cNvCxnSpPr>
            <a:stCxn id="405" idx="6"/>
            <a:endCxn id="402" idx="1"/>
          </p:cNvCxnSpPr>
          <p:nvPr/>
        </p:nvCxnSpPr>
        <p:spPr>
          <a:xfrm>
            <a:off x="2474640" y="3944880"/>
            <a:ext cx="4312440" cy="10216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408" name="Straight Arrow Connector 14"/>
          <p:cNvCxnSpPr>
            <a:stCxn id="406" idx="6"/>
            <a:endCxn id="402" idx="1"/>
          </p:cNvCxnSpPr>
          <p:nvPr/>
        </p:nvCxnSpPr>
        <p:spPr>
          <a:xfrm>
            <a:off x="2466720" y="3212640"/>
            <a:ext cx="4320360" cy="1753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ά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10" name="Content Placeholder 3" descr=""/>
          <p:cNvPicPr/>
          <p:nvPr/>
        </p:nvPicPr>
        <p:blipFill>
          <a:blip r:embed="rId1"/>
          <a:stretch/>
        </p:blipFill>
        <p:spPr>
          <a:xfrm>
            <a:off x="469800" y="2031840"/>
            <a:ext cx="4729320" cy="2117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62640" y="2031840"/>
            <a:ext cx="3492360" cy="25606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5"/>
          <p:cNvSpPr/>
          <p:nvPr/>
        </p:nvSpPr>
        <p:spPr>
          <a:xfrm>
            <a:off x="324000" y="5083200"/>
            <a:ext cx="20412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=1024px (&gt;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έ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εται τον κανόνα (δέσμευση 4 στηλών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7361280" y="4808520"/>
            <a:ext cx="1593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=575p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Δεν υπ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ρχει κανόνας δέσμευσης. Τα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vs 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απλά πάνε το ένα πάνω στο άλλο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3"/>
          <a:srcRect l="0" t="0" r="0" b="45462"/>
          <a:stretch/>
        </p:blipFill>
        <p:spPr>
          <a:xfrm>
            <a:off x="2529000" y="4929120"/>
            <a:ext cx="3970080" cy="1295640"/>
          </a:xfrm>
          <a:prstGeom prst="rect">
            <a:avLst/>
          </a:prstGeom>
          <a:ln w="0">
            <a:noFill/>
          </a:ln>
        </p:spPr>
      </p:pic>
      <p:cxnSp>
        <p:nvCxnSpPr>
          <p:cNvPr id="415" name="Straight Arrow Connector 9"/>
          <p:cNvCxnSpPr>
            <a:stCxn id="412" idx="0"/>
            <a:endCxn id="410" idx="2"/>
          </p:cNvCxnSpPr>
          <p:nvPr/>
        </p:nvCxnSpPr>
        <p:spPr>
          <a:xfrm flipV="1">
            <a:off x="1344240" y="4149000"/>
            <a:ext cx="1491480" cy="9342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416" name="Straight Arrow Connector 10"/>
          <p:cNvCxnSpPr>
            <a:stCxn id="412" idx="0"/>
          </p:cNvCxnSpPr>
          <p:nvPr/>
        </p:nvCxnSpPr>
        <p:spPr>
          <a:xfrm>
            <a:off x="1344240" y="5083200"/>
            <a:ext cx="2778840" cy="6501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417" name="Straight Arrow Connector 13"/>
          <p:cNvCxnSpPr>
            <a:stCxn id="413" idx="0"/>
            <a:endCxn id="411" idx="2"/>
          </p:cNvCxnSpPr>
          <p:nvPr/>
        </p:nvCxnSpPr>
        <p:spPr>
          <a:xfrm flipH="1" flipV="1">
            <a:off x="7208280" y="4592160"/>
            <a:ext cx="950040" cy="2167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418" name="TextBox 12"/>
          <p:cNvSpPr/>
          <p:nvPr/>
        </p:nvSpPr>
        <p:spPr>
          <a:xfrm>
            <a:off x="324000" y="4530600"/>
            <a:ext cx="30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d"/>
                </a:solidFill>
                <a:latin typeface="Consolas"/>
              </a:rPr>
              <a:t>&lt;</a:t>
            </a:r>
            <a:r>
              <a:rPr b="0" lang="en-GB" sz="1800" spc="-1" strike="noStrike">
                <a:solidFill>
                  <a:srgbClr val="a52a2a"/>
                </a:solidFill>
                <a:latin typeface="Consolas"/>
              </a:rPr>
              <a:t>div</a:t>
            </a:r>
            <a:r>
              <a:rPr b="0" lang="en-GB" sz="1800" spc="-1" strike="noStrike">
                <a:solidFill>
                  <a:srgbClr val="ff0000"/>
                </a:solidFill>
                <a:latin typeface="Consolas"/>
              </a:rPr>
              <a:t> class</a:t>
            </a:r>
            <a:r>
              <a:rPr b="0" lang="en-GB" sz="1800" spc="-1" strike="noStrike">
                <a:solidFill>
                  <a:srgbClr val="0000cd"/>
                </a:solidFill>
                <a:latin typeface="Consolas"/>
              </a:rPr>
              <a:t>="col-sm-4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46200" y="1825200"/>
            <a:ext cx="810576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πορεί να γίνει συνδυασμός κλάσεων για υποστήριξη περισσοτέρων οθονώ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098720" y="3068640"/>
            <a:ext cx="75438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95440" y="1700280"/>
            <a:ext cx="81057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πίνακες πρέπει να έχουν την κλάση 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αναγνωριστούν από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6138720" y="278136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λάσεις μορφοποίηση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νάκω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stri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b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h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</a:t>
            </a:r>
            <a:r>
              <a:rPr b="0" lang="el-GR" sz="1800" spc="-1" strike="noStrike">
                <a:solidFill>
                  <a:srgbClr val="000000"/>
                </a:solidFill>
                <a:latin typeface="Arial Unicode MS"/>
              </a:rPr>
              <a:t>conden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7"/>
          <p:cNvSpPr/>
          <p:nvPr/>
        </p:nvSpPr>
        <p:spPr>
          <a:xfrm>
            <a:off x="1170000" y="5445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ατροπή σ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respo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ως χρησιμοποιώ την παραπάνω κλάσ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1170000" y="2781360"/>
            <a:ext cx="4949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46200" y="1825560"/>
            <a:ext cx="81057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δη φόρμας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954000" y="3068640"/>
            <a:ext cx="7550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469800" y="1209600"/>
            <a:ext cx="4248360" cy="1555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469800" y="3246480"/>
            <a:ext cx="4445280" cy="736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3"/>
          <a:stretch/>
        </p:blipFill>
        <p:spPr>
          <a:xfrm>
            <a:off x="344520" y="4645080"/>
            <a:ext cx="4570560" cy="1457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"/>
          <p:cNvPicPr/>
          <p:nvPr/>
        </p:nvPicPr>
        <p:blipFill>
          <a:blip r:embed="rId4"/>
          <a:stretch/>
        </p:blipFill>
        <p:spPr>
          <a:xfrm>
            <a:off x="6354720" y="4626000"/>
            <a:ext cx="2617920" cy="16207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7"/>
          <p:cNvSpPr/>
          <p:nvPr/>
        </p:nvSpPr>
        <p:spPr>
          <a:xfrm>
            <a:off x="2027880" y="6286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ες οθόν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6756120" y="631980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ικρές οθόν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5"/>
          <a:stretch/>
        </p:blipFill>
        <p:spPr>
          <a:xfrm>
            <a:off x="6323040" y="2995560"/>
            <a:ext cx="2649600" cy="15573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"/>
          <p:cNvPicPr/>
          <p:nvPr/>
        </p:nvPicPr>
        <p:blipFill>
          <a:blip r:embed="rId6"/>
          <a:stretch/>
        </p:blipFill>
        <p:spPr>
          <a:xfrm>
            <a:off x="6354720" y="1392120"/>
            <a:ext cx="2621160" cy="1554120"/>
          </a:xfrm>
          <a:prstGeom prst="rect">
            <a:avLst/>
          </a:prstGeom>
          <a:ln w="0">
            <a:noFill/>
          </a:ln>
        </p:spPr>
      </p:pic>
      <p:sp>
        <p:nvSpPr>
          <p:cNvPr id="438" name="Left-right Arrow 11"/>
          <p:cNvSpPr/>
          <p:nvPr/>
        </p:nvSpPr>
        <p:spPr>
          <a:xfrm>
            <a:off x="4915080" y="1916280"/>
            <a:ext cx="1296720" cy="43308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eft-right Arrow 12"/>
          <p:cNvSpPr/>
          <p:nvPr/>
        </p:nvSpPr>
        <p:spPr>
          <a:xfrm>
            <a:off x="4915080" y="3619440"/>
            <a:ext cx="1296720" cy="43344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eft-right Arrow 13"/>
          <p:cNvSpPr/>
          <p:nvPr/>
        </p:nvSpPr>
        <p:spPr>
          <a:xfrm>
            <a:off x="4944960" y="5157720"/>
            <a:ext cx="1295640" cy="43200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t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66720" y="1699920"/>
            <a:ext cx="8105760" cy="20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κουμπιά μπορεί να είνα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: &lt;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: &lt;inpu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882720" y="4005360"/>
            <a:ext cx="7361280" cy="23778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μεν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95440" y="1700280"/>
            <a:ext cx="810576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στοιχεία που μπορούν να χρησιμοποιηθούν ως μενού/υπομενού και γενικότε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"/>
          <p:cNvPicPr/>
          <p:nvPr/>
        </p:nvPicPr>
        <p:blipFill>
          <a:blip r:embed="rId1"/>
          <a:stretch/>
        </p:blipFill>
        <p:spPr>
          <a:xfrm>
            <a:off x="738360" y="5013360"/>
            <a:ext cx="7867440" cy="561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47" name="Picture 9" descr=""/>
          <p:cNvPicPr/>
          <p:nvPr/>
        </p:nvPicPr>
        <p:blipFill>
          <a:blip r:embed="rId2"/>
          <a:stretch/>
        </p:blipFill>
        <p:spPr>
          <a:xfrm>
            <a:off x="5130720" y="5732640"/>
            <a:ext cx="2828880" cy="552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48" name="Picture 10" descr=""/>
          <p:cNvPicPr/>
          <p:nvPr/>
        </p:nvPicPr>
        <p:blipFill>
          <a:blip r:embed="rId3"/>
          <a:stretch/>
        </p:blipFill>
        <p:spPr>
          <a:xfrm>
            <a:off x="1243080" y="5732640"/>
            <a:ext cx="2847960" cy="5806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background-color: #8000ff; color: white }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h1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{ font-family: arial, sans-serif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font-size: 14pt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Εικονίδια γραμματοσειράς (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ont icons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46200" y="1825200"/>
            <a:ext cx="810576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εριέχει τ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phicon font ic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1459080" y="4869000"/>
            <a:ext cx="6172200" cy="14065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1098720" y="2637000"/>
            <a:ext cx="7086600" cy="10569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 μ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 μ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g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id=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 μ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attribute class=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λλαπλ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ην ίδια μορφοποί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6" descr=""/>
          <p:cNvPicPr/>
          <p:nvPr/>
        </p:nvPicPr>
        <p:blipFill>
          <a:blip r:embed="rId1"/>
          <a:stretch/>
        </p:blipFill>
        <p:spPr>
          <a:xfrm>
            <a:off x="12600" y="2649600"/>
            <a:ext cx="9385560" cy="4019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traight Arrow Connector 6"/>
          <p:cNvCxnSpPr/>
          <p:nvPr/>
        </p:nvCxnSpPr>
        <p:spPr>
          <a:xfrm flipH="1">
            <a:off x="457920" y="2197080"/>
            <a:ext cx="1793160" cy="14486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75" name="Straight Arrow Connector 11"/>
          <p:cNvCxnSpPr/>
          <p:nvPr/>
        </p:nvCxnSpPr>
        <p:spPr>
          <a:xfrm flipH="1">
            <a:off x="2112480" y="4574880"/>
            <a:ext cx="1013760" cy="10818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76" name="Straight Arrow Connector 13"/>
          <p:cNvCxnSpPr/>
          <p:nvPr/>
        </p:nvCxnSpPr>
        <p:spPr>
          <a:xfrm flipH="1">
            <a:off x="458280" y="4575240"/>
            <a:ext cx="2656800" cy="9295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0680" y="2637000"/>
            <a:ext cx="9177480" cy="3384360"/>
          </a:xfrm>
          <a:prstGeom prst="rect">
            <a:avLst/>
          </a:prstGeom>
          <a:ln w="0">
            <a:noFill/>
          </a:ln>
        </p:spPr>
      </p:pic>
      <p:cxnSp>
        <p:nvCxnSpPr>
          <p:cNvPr id="180" name="Straight Arrow Connector 7"/>
          <p:cNvCxnSpPr/>
          <p:nvPr/>
        </p:nvCxnSpPr>
        <p:spPr>
          <a:xfrm flipH="1">
            <a:off x="953280" y="2204640"/>
            <a:ext cx="1369080" cy="13608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81" name="Straight Arrow Connector 10"/>
          <p:cNvCxnSpPr/>
          <p:nvPr/>
        </p:nvCxnSpPr>
        <p:spPr>
          <a:xfrm flipH="1">
            <a:off x="1098000" y="4051440"/>
            <a:ext cx="1872360" cy="11116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Ανδρέας Κομνηνός</cp:lastModifiedBy>
  <cp:lastPrinted>2022-10-20T08:04:00Z</cp:lastPrinted>
  <dcterms:modified xsi:type="dcterms:W3CDTF">2023-10-18T09:35:06Z</dcterms:modified>
  <cp:revision>652</cp:revision>
  <dc:subject/>
  <dc:title>Τεχνολογίες Διαδικτύου</dc:title>
</cp:coreProperties>
</file>