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399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079640" y="685440"/>
            <a:ext cx="46987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634A-545C-4530-BBA3-4FF2BB9058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3EC1-CB3A-4B07-B377-38056A8089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8E5C-12E6-4565-9122-266B459517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27BA-BCD4-44D9-830F-F8B72C52E1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FE49-140B-4794-BDDE-D44D8A83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7B4D-3452-435B-AE88-9EDFCEEC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2E5A-EEDF-4AD3-886B-966D88496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292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1894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944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3292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1894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1A5E-13BC-4CE3-A25C-E32C1FCD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2096-469D-46CA-A44A-9C4475856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BDC4-945D-4699-8C8E-126752D3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C622-461A-422D-B8CC-A02C7280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FABA-673E-4DB0-B9F9-BDD4E64A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FD82-F267-4C9A-BFAD-759A1105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69440" y="122400"/>
            <a:ext cx="77533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556A-5A9B-41F2-BE79-01A73BB9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15E4-2EEF-4448-81B1-E546E4FB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2650-1F6E-45F6-A515-3256C2EF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13CC-A465-4458-A4D7-50C0145C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FE48-D920-44AE-9173-878CDBCA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7984-D0AD-4416-AACB-F9E0C182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9FEE-4BB9-4279-A650-F9354BBDD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3292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894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944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3292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894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2AE8-E91A-4CFC-B49F-66FFA42F2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CF3C-511D-4DDC-849D-EB92CA8F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D4C1-2FE2-4FA5-8ADC-877DD4A2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9BCC-35C8-4FE9-9CBD-D78DB29F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69440" y="122400"/>
            <a:ext cx="77533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C55E-E27A-4833-B391-B1377565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BB1C-5027-4E5E-A89E-DB54F419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7B53-E955-44F9-A412-52277B2D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5FF8-3EDF-4ED3-BCA6-33457C36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81835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98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11560" y="624852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356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7A1E-8C49-466A-931E-B70494C9A6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380440" y="152280"/>
            <a:ext cx="813960" cy="1295280"/>
            <a:chOff x="8380440" y="152280"/>
            <a:chExt cx="813960" cy="1295280"/>
          </a:xfrm>
        </p:grpSpPr>
        <p:sp>
          <p:nvSpPr>
            <p:cNvPr id="7" name="Oval 9"/>
            <p:cNvSpPr/>
            <p:nvPr/>
          </p:nvSpPr>
          <p:spPr>
            <a:xfrm>
              <a:off x="8380440" y="152280"/>
              <a:ext cx="12312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552880" y="152280"/>
              <a:ext cx="1216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72568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380440" y="320040"/>
              <a:ext cx="12312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552880" y="320040"/>
              <a:ext cx="1216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72568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8984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380440" y="488160"/>
              <a:ext cx="12312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552880" y="488160"/>
              <a:ext cx="1216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725680" y="488160"/>
              <a:ext cx="1155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898480" y="488160"/>
              <a:ext cx="11232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9071280" y="488160"/>
              <a:ext cx="12312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380440" y="655920"/>
              <a:ext cx="12312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552880" y="655920"/>
              <a:ext cx="1216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72568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8984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380440" y="824040"/>
              <a:ext cx="1231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552880" y="824040"/>
              <a:ext cx="1216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7256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8984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9071280" y="824040"/>
              <a:ext cx="1231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380440" y="992160"/>
              <a:ext cx="12312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552880" y="992160"/>
              <a:ext cx="1216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72568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8984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380440" y="1159920"/>
              <a:ext cx="12312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552880" y="1159920"/>
              <a:ext cx="1216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725680" y="1159920"/>
              <a:ext cx="1155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8984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552880" y="1328040"/>
              <a:ext cx="1216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8984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1026"/>
          <p:cNvSpPr/>
          <p:nvPr/>
        </p:nvSpPr>
        <p:spPr>
          <a:xfrm>
            <a:off x="751824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032"/>
          <p:cNvGrpSpPr/>
          <p:nvPr/>
        </p:nvGrpSpPr>
        <p:grpSpPr>
          <a:xfrm>
            <a:off x="7701120" y="2992320"/>
            <a:ext cx="1375920" cy="2189160"/>
            <a:chOff x="7701120" y="2992320"/>
            <a:chExt cx="1375920" cy="2189160"/>
          </a:xfrm>
        </p:grpSpPr>
        <p:sp>
          <p:nvSpPr>
            <p:cNvPr id="76" name="Oval 1033"/>
            <p:cNvSpPr/>
            <p:nvPr/>
          </p:nvSpPr>
          <p:spPr>
            <a:xfrm>
              <a:off x="7701120" y="29923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34"/>
            <p:cNvSpPr/>
            <p:nvPr/>
          </p:nvSpPr>
          <p:spPr>
            <a:xfrm>
              <a:off x="7993440" y="29923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035"/>
            <p:cNvSpPr/>
            <p:nvPr/>
          </p:nvSpPr>
          <p:spPr>
            <a:xfrm>
              <a:off x="8285400" y="29923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036"/>
            <p:cNvSpPr/>
            <p:nvPr/>
          </p:nvSpPr>
          <p:spPr>
            <a:xfrm>
              <a:off x="7701120" y="32767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037"/>
            <p:cNvSpPr/>
            <p:nvPr/>
          </p:nvSpPr>
          <p:spPr>
            <a:xfrm>
              <a:off x="7993440" y="32767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038"/>
            <p:cNvSpPr/>
            <p:nvPr/>
          </p:nvSpPr>
          <p:spPr>
            <a:xfrm>
              <a:off x="8285400" y="32767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039"/>
            <p:cNvSpPr/>
            <p:nvPr/>
          </p:nvSpPr>
          <p:spPr>
            <a:xfrm>
              <a:off x="8577360" y="327672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040"/>
            <p:cNvSpPr/>
            <p:nvPr/>
          </p:nvSpPr>
          <p:spPr>
            <a:xfrm>
              <a:off x="7701120" y="356076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041"/>
            <p:cNvSpPr/>
            <p:nvPr/>
          </p:nvSpPr>
          <p:spPr>
            <a:xfrm>
              <a:off x="7993440" y="356076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042"/>
            <p:cNvSpPr/>
            <p:nvPr/>
          </p:nvSpPr>
          <p:spPr>
            <a:xfrm>
              <a:off x="8285400" y="356076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043"/>
            <p:cNvSpPr/>
            <p:nvPr/>
          </p:nvSpPr>
          <p:spPr>
            <a:xfrm>
              <a:off x="8577360" y="356076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044"/>
            <p:cNvSpPr/>
            <p:nvPr/>
          </p:nvSpPr>
          <p:spPr>
            <a:xfrm>
              <a:off x="8870040" y="356076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045"/>
            <p:cNvSpPr/>
            <p:nvPr/>
          </p:nvSpPr>
          <p:spPr>
            <a:xfrm>
              <a:off x="7701120" y="3843360"/>
              <a:ext cx="20700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046"/>
            <p:cNvSpPr/>
            <p:nvPr/>
          </p:nvSpPr>
          <p:spPr>
            <a:xfrm>
              <a:off x="7993440" y="3843360"/>
              <a:ext cx="2070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047"/>
            <p:cNvSpPr/>
            <p:nvPr/>
          </p:nvSpPr>
          <p:spPr>
            <a:xfrm>
              <a:off x="8285400" y="3843360"/>
              <a:ext cx="2070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048"/>
            <p:cNvSpPr/>
            <p:nvPr/>
          </p:nvSpPr>
          <p:spPr>
            <a:xfrm>
              <a:off x="8577360" y="3843360"/>
              <a:ext cx="2070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049"/>
            <p:cNvSpPr/>
            <p:nvPr/>
          </p:nvSpPr>
          <p:spPr>
            <a:xfrm>
              <a:off x="7701120" y="4127400"/>
              <a:ext cx="20700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1050"/>
            <p:cNvSpPr/>
            <p:nvPr/>
          </p:nvSpPr>
          <p:spPr>
            <a:xfrm>
              <a:off x="7993440" y="4127400"/>
              <a:ext cx="20700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1051"/>
            <p:cNvSpPr/>
            <p:nvPr/>
          </p:nvSpPr>
          <p:spPr>
            <a:xfrm>
              <a:off x="8285400" y="4127400"/>
              <a:ext cx="20700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052"/>
            <p:cNvSpPr/>
            <p:nvPr/>
          </p:nvSpPr>
          <p:spPr>
            <a:xfrm>
              <a:off x="8577360" y="4127400"/>
              <a:ext cx="20700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053"/>
            <p:cNvSpPr/>
            <p:nvPr/>
          </p:nvSpPr>
          <p:spPr>
            <a:xfrm>
              <a:off x="8870040" y="4127400"/>
              <a:ext cx="20700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1054"/>
            <p:cNvSpPr/>
            <p:nvPr/>
          </p:nvSpPr>
          <p:spPr>
            <a:xfrm>
              <a:off x="7701120" y="441180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55"/>
            <p:cNvSpPr/>
            <p:nvPr/>
          </p:nvSpPr>
          <p:spPr>
            <a:xfrm>
              <a:off x="7993440" y="441180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56"/>
            <p:cNvSpPr/>
            <p:nvPr/>
          </p:nvSpPr>
          <p:spPr>
            <a:xfrm>
              <a:off x="8285400" y="441180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57"/>
            <p:cNvSpPr/>
            <p:nvPr/>
          </p:nvSpPr>
          <p:spPr>
            <a:xfrm>
              <a:off x="8577360" y="441180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58"/>
            <p:cNvSpPr/>
            <p:nvPr/>
          </p:nvSpPr>
          <p:spPr>
            <a:xfrm>
              <a:off x="7701120" y="469584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59"/>
            <p:cNvSpPr/>
            <p:nvPr/>
          </p:nvSpPr>
          <p:spPr>
            <a:xfrm>
              <a:off x="7993440" y="469584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60"/>
            <p:cNvSpPr/>
            <p:nvPr/>
          </p:nvSpPr>
          <p:spPr>
            <a:xfrm>
              <a:off x="8285400" y="469584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1"/>
            <p:cNvSpPr/>
            <p:nvPr/>
          </p:nvSpPr>
          <p:spPr>
            <a:xfrm>
              <a:off x="8577360" y="469584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62"/>
            <p:cNvSpPr/>
            <p:nvPr/>
          </p:nvSpPr>
          <p:spPr>
            <a:xfrm>
              <a:off x="7993440" y="497988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63"/>
            <p:cNvSpPr/>
            <p:nvPr/>
          </p:nvSpPr>
          <p:spPr>
            <a:xfrm>
              <a:off x="8577360" y="497988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1064"/>
          <p:cNvSpPr/>
          <p:nvPr/>
        </p:nvSpPr>
        <p:spPr>
          <a:xfrm>
            <a:off x="312840" y="2819520"/>
            <a:ext cx="845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698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211560" y="624852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7356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2947-2038-4612-B5FB-DC535C5462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contact.html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mai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main_fonto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header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466200"/>
            <a:ext cx="75121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0066"/>
                </a:solidFill>
                <a:latin typeface="Arial"/>
              </a:rPr>
              <a:t>Προγραμματισμός &amp; Συστήματα στον Παγκόσμιο Ιστό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73000" y="3049560"/>
            <a:ext cx="6421680" cy="28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«γλώσσα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Βασίλης Στεφανή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fanis@c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αράγραφοι – </a:t>
            </a:r>
            <a:br>
              <a:rPr sz="3900"/>
            </a:b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ορφοποίηση κειμένου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body&gt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cc00"/>
                </a:solidFill>
                <a:latin typeface="Arial"/>
              </a:rPr>
              <a:t>&lt;hr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&lt;!-- Inserts a horizontal rule --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p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ll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i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formation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/i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rom this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b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sentation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/b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 &lt;strong&gt;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&amp;copy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/strong&gt;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u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ill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/u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&amp;amp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l.</a:t>
            </a: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/p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p&gt;</a:t>
            </a: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del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You know that 2</a:t>
            </a: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sup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/sup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1024 </a:t>
            </a: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/del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&lt;br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t you </a:t>
            </a: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sub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metimes</a:t>
            </a: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/sub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make mistakes.&lt;/p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p&gt;Did you know how to write this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strong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&amp;frac14;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/strong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??? &lt;/p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cc00"/>
                </a:solidFill>
                <a:latin typeface="Arial"/>
              </a:rPr>
              <a:t>&lt;hr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&lt;!-- Inserts a horizontal rule --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peech Bubble: Rectangle 3"/>
          <p:cNvSpPr/>
          <p:nvPr/>
        </p:nvSpPr>
        <p:spPr>
          <a:xfrm>
            <a:off x="7147080" y="4851360"/>
            <a:ext cx="1912680" cy="898560"/>
          </a:xfrm>
          <a:prstGeom prst="wedgeRectCallout">
            <a:avLst>
              <a:gd name="adj1" fmla="val -55912"/>
              <a:gd name="adj2" fmla="val -77060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peech Bubble: Rectangle 4"/>
          <p:cNvSpPr/>
          <p:nvPr/>
        </p:nvSpPr>
        <p:spPr>
          <a:xfrm>
            <a:off x="5851440" y="1384200"/>
            <a:ext cx="1943280" cy="914400"/>
          </a:xfrm>
          <a:prstGeom prst="wedgeRectCallout">
            <a:avLst>
              <a:gd name="adj1" fmla="val -41750"/>
              <a:gd name="adj2" fmla="val 79166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r&gt;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και το 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&gt;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πως «κλείνουν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η διατεταγμένες λίστ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u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gle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ng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idu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uckDuckGo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/u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peech Bubble: Rectangle 3"/>
          <p:cNvSpPr/>
          <p:nvPr/>
        </p:nvSpPr>
        <p:spPr>
          <a:xfrm>
            <a:off x="6302520" y="2708280"/>
            <a:ext cx="2838240" cy="865080"/>
          </a:xfrm>
          <a:prstGeom prst="wedgeRectCallout">
            <a:avLst>
              <a:gd name="adj1" fmla="val -50435"/>
              <a:gd name="adj2" fmla="val 96490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ε κάθε ανανέωση σελίδας αλλάζει η σειρά εμφάνιση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Διατεταγμένες λίστ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o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gle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&gt;Bing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idu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&gt;DuckDuckGo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/o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μφωλευμένες λίστ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9800" y="980640"/>
            <a:ext cx="86709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&lt;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669999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You have access to new media as it becomes public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330066"/>
                </a:solidFill>
                <a:latin typeface="Arial"/>
              </a:rPr>
              <a:t>&lt;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New games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cc00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ew applic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7e9ce8"/>
                </a:solidFill>
                <a:latin typeface="Arial"/>
              </a:rPr>
              <a:t>&lt;ul&gt;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r business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&lt;/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For pleasure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900" spc="-1" strike="noStrike">
                <a:solidFill>
                  <a:srgbClr val="7e9ce8"/>
                </a:solidFill>
                <a:latin typeface="Arial"/>
              </a:rPr>
              <a:t>&lt;/ul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cc00"/>
                </a:solidFill>
                <a:latin typeface="Arial"/>
              </a:rPr>
              <a:t>&lt;/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Around the clock news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cc00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900" spc="-1" strike="noStrike">
                <a:solidFill>
                  <a:srgbClr val="7e9ce8"/>
                </a:solidFill>
                <a:latin typeface="Arial"/>
              </a:rPr>
              <a:t>&lt;ul&gt;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&lt;/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Java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7e9ce8"/>
                </a:solidFill>
                <a:latin typeface="Arial"/>
              </a:rPr>
              <a:t>&lt;/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cc00"/>
                </a:solidFill>
                <a:latin typeface="Arial"/>
              </a:rPr>
              <a:t>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900" spc="-1" strike="noStrike">
                <a:solidFill>
                  <a:srgbClr val="330066"/>
                </a:solidFill>
                <a:latin typeface="Arial"/>
              </a:rPr>
              <a:t>&lt;/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900" spc="-1" strike="noStrike">
                <a:solidFill>
                  <a:srgbClr val="669999"/>
                </a:solidFill>
                <a:latin typeface="Arial"/>
              </a:rPr>
              <a:t>&lt;/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Keeping in touch with old friends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&lt;/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peech Bubble: Rectangle 3"/>
          <p:cNvSpPr/>
          <p:nvPr/>
        </p:nvSpPr>
        <p:spPr>
          <a:xfrm>
            <a:off x="6643800" y="4851360"/>
            <a:ext cx="2415960" cy="898560"/>
          </a:xfrm>
          <a:prstGeom prst="wedgeRectCallout">
            <a:avLst>
              <a:gd name="adj1" fmla="val -55912"/>
              <a:gd name="adj2" fmla="val -77060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Η εμφώλευση βασικό χαρακτηριστικό τη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k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href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 "</a:t>
            </a:r>
            <a:r>
              <a:rPr b="0" lang="en-US" sz="2500" spc="-1" strike="noStrike">
                <a:solidFill>
                  <a:srgbClr val="330066"/>
                </a:solidFill>
                <a:latin typeface="Arial"/>
              </a:rPr>
              <a:t>http://www.gmail.com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"&gt;Google Mail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href = "</a:t>
            </a:r>
            <a:r>
              <a:rPr b="0" lang="en-US" sz="2500" spc="-1" strike="noStrike">
                <a:solidFill>
                  <a:srgbClr val="cccc00"/>
                </a:solidFill>
                <a:latin typeface="Arial"/>
              </a:rPr>
              <a:t>links2.html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"&gt;Another page on the same folder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href = "</a:t>
            </a:r>
            <a:r>
              <a:rPr b="0" lang="en-US" sz="2500" spc="-1" strike="noStrike">
                <a:solidFill>
                  <a:srgbClr val="669999"/>
                </a:solidFill>
                <a:latin typeface="Arial"/>
              </a:rPr>
              <a:t>mailto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efanis@ceid.upatras.gr"&gt;email me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href = “tel:+302610451517”&gt;Hungry?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href = "</a:t>
            </a:r>
            <a:r>
              <a:rPr b="0" lang="en-US" sz="2500" spc="-1" strike="noStrike">
                <a:solidFill>
                  <a:srgbClr val="7e9ce8"/>
                </a:solidFill>
                <a:latin typeface="Arial"/>
              </a:rPr>
              <a:t>#bottom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"&gt;Go to the bottom of this page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</a:t>
            </a:r>
            <a:r>
              <a:rPr b="0" lang="en-US" sz="2500" spc="-1" strike="noStrike">
                <a:solidFill>
                  <a:srgbClr val="7e9ce8"/>
                </a:solidFill>
                <a:latin typeface="Arial"/>
              </a:rPr>
              <a:t>name="bottom"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gt;&lt;h2&gt;Here is the bottom&lt;/h2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peech Bubble: Rectangle 3"/>
          <p:cNvSpPr/>
          <p:nvPr/>
        </p:nvSpPr>
        <p:spPr>
          <a:xfrm>
            <a:off x="3619440" y="76320"/>
            <a:ext cx="4176720" cy="1218960"/>
          </a:xfrm>
          <a:prstGeom prst="wedgeRectCallout">
            <a:avLst>
              <a:gd name="adj1" fmla="val -44435"/>
              <a:gd name="adj2" fmla="val 80402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ιατί δε λειτουργεί το τηλέφωνο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kip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 p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lto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, η χαρά το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ικόνες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im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src = "stoneage2.jpg"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669999"/>
                </a:solidFill>
                <a:latin typeface="Arial"/>
              </a:rPr>
              <a:t>alt = "New email"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 href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“</a:t>
            </a:r>
            <a:r>
              <a:rPr b="0" lang="en-US" sz="3000" spc="-1" strike="noStrike">
                <a:solidFill>
                  <a:srgbClr val="cccc00"/>
                </a:solidFill>
                <a:latin typeface="Arial"/>
              </a:rPr>
              <a:t>links.htm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7e9ce8"/>
                </a:solidFill>
                <a:latin typeface="Arial"/>
              </a:rPr>
              <a:t>&lt;img src = "stoneage.jpg" alt = "New email"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img </a:t>
            </a: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border = “0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rc = "stoneage2.jpg"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peech Bubble: Rectangle 3"/>
          <p:cNvSpPr/>
          <p:nvPr/>
        </p:nvSpPr>
        <p:spPr>
          <a:xfrm>
            <a:off x="4627440" y="517680"/>
            <a:ext cx="2416320" cy="900000"/>
          </a:xfrm>
          <a:prstGeom prst="wedgeRectCallout">
            <a:avLst>
              <a:gd name="adj1" fmla="val 52300"/>
              <a:gd name="adj2" fmla="val 80402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ι χρειάζεται τ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ίνακ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ab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border = "1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width = "40%" </a:t>
            </a:r>
            <a:r>
              <a:rPr b="0" lang="en-US" sz="2600" spc="-1" strike="noStrike">
                <a:solidFill>
                  <a:srgbClr val="cc00ff"/>
                </a:solidFill>
                <a:latin typeface="Arial"/>
              </a:rPr>
              <a:t>align = "center"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&lt;caption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re is a small sample table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&lt;/caption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&lt;t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&lt;th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the head.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&lt;/th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&lt;/t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&lt;td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the body.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&lt;/td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/tab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peech Bubble: Rectangle 3"/>
          <p:cNvSpPr/>
          <p:nvPr/>
        </p:nvSpPr>
        <p:spPr>
          <a:xfrm>
            <a:off x="4627440" y="517680"/>
            <a:ext cx="2416320" cy="900000"/>
          </a:xfrm>
          <a:prstGeom prst="wedgeRectCallout">
            <a:avLst>
              <a:gd name="adj1" fmla="val 52300"/>
              <a:gd name="adj2" fmla="val 80402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ίνακε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 «εχθρός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ο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bi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Λύσεις μ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able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- παράμετρο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ign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= {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ft, right, center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ην οριζόντια τοποθέτηση του πίνακ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dth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45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50%}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 πλάτος του πίνακ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rder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{0,1,…}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 πλάτος του περιγράμματο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cellspacing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{0,1,…} :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το κενό μεταξύ γειτονικών κελιών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cellpadding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: το κενό μεταξύ κελιού και περιεχομέν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caption align = {top, bottom}&gt;…&lt;/caption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peech Bubble: Rectangle 3"/>
          <p:cNvSpPr/>
          <p:nvPr/>
        </p:nvSpPr>
        <p:spPr>
          <a:xfrm>
            <a:off x="5994360" y="5589720"/>
            <a:ext cx="2417760" cy="900000"/>
          </a:xfrm>
          <a:prstGeom prst="wedgeRectCallout">
            <a:avLst>
              <a:gd name="adj1" fmla="val -71046"/>
              <a:gd name="adj2" fmla="val -63851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Ναι, οι ιδιότητες δηλώνονται μ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S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πλέον </a:t>
            </a:r>
            <a:r>
              <a:rPr b="0" lang="el-G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4320" y="304560"/>
            <a:ext cx="8038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Ένας πολύπλοκος πίνακα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12840" y="1066680"/>
            <a:ext cx="88279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&lt;table border = "1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owspan = "2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lt;img src = "camel.gif"&gt;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 </a:t>
            </a:r>
            <a:r>
              <a:rPr b="0" lang="en-US" sz="2400" spc="-1" strike="noStrike">
                <a:solidFill>
                  <a:srgbClr val="cccc00"/>
                </a:solidFill>
                <a:latin typeface="Arial"/>
              </a:rPr>
              <a:t>colspan = "4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ign = "top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1&gt;Camelid comparison&lt;/h1&gt;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r </a:t>
            </a:r>
            <a:r>
              <a:rPr b="0" lang="en-US" sz="2400" spc="-1" strike="noStrike">
                <a:solidFill>
                  <a:srgbClr val="669999"/>
                </a:solidFill>
                <a:latin typeface="Arial"/>
              </a:rPr>
              <a:t>valign = "bottom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&gt;# of Humps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&gt;Indigenous region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&gt;Spits?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&gt;Produces Wool?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tr&gt;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 / th / td 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- παράμετρο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9440" y="1719000"/>
            <a:ext cx="892836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wrap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απαγορεύει την αναδίπλωση κειμένο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rowspa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{int} :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τις γραμμές που καταλαμβάνονται από το κελ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colspan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: τις στήλες που καταλαμβάνοντα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dth / height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το πλάτο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ύψος του κελιο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ign / valign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ριζόντια / κάθετη ευθυγράμμιση των περιεχομένων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yper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ext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arkup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angu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TML 4.01 (24/12/1999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TML 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ML Living Standard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st Updated: 11 October 2022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Hypertext Application Technology Working Group (WHATW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pple, Google, Mozilla, Microsof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Ένα HTML αρχείο είναι ένα αρχείο κειμένου που περιέχει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markup tags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α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λένε στο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Browser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ώς να παρουσιάσει το περιεχόμενο της σελίδ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α HTML αρχεία έχουν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htm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ή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καταλήξει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Ένα HTML αρχείο μπορεί να δημιουργηθεί χρησιμοποιώντας έναν απλό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text editor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(π.χ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Arial"/>
              </a:rPr>
              <a:t>Προτείνεται η χρήση κάποιου εξειδικευμένου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ditor (Notepad++, Sublime Tex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peech Bubble: Rectangle 1"/>
          <p:cNvSpPr/>
          <p:nvPr/>
        </p:nvSpPr>
        <p:spPr>
          <a:xfrm>
            <a:off x="5059440" y="476280"/>
            <a:ext cx="1942920" cy="915840"/>
          </a:xfrm>
          <a:prstGeom prst="wedgeRectCallout">
            <a:avLst>
              <a:gd name="adj1" fmla="val -41750"/>
              <a:gd name="adj2" fmla="val 79166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 ≠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 Berners-L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Φόρμ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r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method = "pos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action = “sendmail</a:t>
            </a:r>
            <a:r>
              <a:rPr b="0" lang="el-GR" sz="2600" spc="-1" strike="noStrike">
                <a:solidFill>
                  <a:srgbClr val="669999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php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cc00ff"/>
                </a:solidFill>
                <a:latin typeface="Arial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type = "hidden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name = "subjec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value = "Feedback Form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input 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name = "name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type = "tex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ize = "25"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input 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type = "submi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value = "Submit Your Entries"&gt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input 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type = "rese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value = "Clear Your Entries"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&lt;/form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peech Bubble: Rectangle 3"/>
          <p:cNvSpPr/>
          <p:nvPr/>
        </p:nvSpPr>
        <p:spPr>
          <a:xfrm>
            <a:off x="1027080" y="5516640"/>
            <a:ext cx="3024360" cy="1081080"/>
          </a:xfrm>
          <a:prstGeom prst="wedgeRectCallout">
            <a:avLst>
              <a:gd name="adj1" fmla="val 47379"/>
              <a:gd name="adj2" fmla="val -87217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ια να αποκτήσει λειτουργικότητα η φόρμα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-side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- παράμετρο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a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ρίζει το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rl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ου θα χρησιμοποιηθεί από τον εξυπηρετητή για να επεξεργαστεί τα δεδομένα της φόρμα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cc00"/>
                </a:solidFill>
                <a:latin typeface="Arial"/>
              </a:rPr>
              <a:t>method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t, post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ρίζει τη μέθοδο αποστολής των περιεχομένων της φόρμα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έλνει τα περιεχόμενα σαν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ery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t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α στέλνει στο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ώμα του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ηνύματο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peech Bubble: Rectangle 3"/>
          <p:cNvSpPr/>
          <p:nvPr/>
        </p:nvSpPr>
        <p:spPr>
          <a:xfrm>
            <a:off x="1530360" y="5437080"/>
            <a:ext cx="2417760" cy="900360"/>
          </a:xfrm>
          <a:prstGeom prst="wedgeRectCallout">
            <a:avLst>
              <a:gd name="adj1" fmla="val 75759"/>
              <a:gd name="adj2" fmla="val -56740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α τα δούμε αναλυτικά στη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ία πολύπλοκη φόρμ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84320" y="6021360"/>
            <a:ext cx="9083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1998720" y="1417680"/>
            <a:ext cx="54007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4320" y="274320"/>
            <a:ext cx="80388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Άλλη μία φόρμ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84320" y="5950080"/>
            <a:ext cx="908352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1393920" y="1285920"/>
            <a:ext cx="66103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inpu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αίρνει διάφορες παραμέτρου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παγορεύεται να υπάρχει ετικέτα τέλου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Κλείνει όπως 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br /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cc00"/>
                </a:solidFill>
                <a:latin typeface="Arial"/>
              </a:rPr>
              <a:t>textarea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για πεδία κειμένου πολλαπλών γραμμών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ws / colum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textarea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99"/>
                </a:solidFill>
                <a:latin typeface="Arial"/>
              </a:rPr>
              <a:t>select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μονής ή πολλαπλής επιλογής μενο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tion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select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12480" y="122400"/>
            <a:ext cx="767556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5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nput – </a:t>
            </a:r>
            <a:br>
              <a:rPr sz="3500"/>
            </a:br>
            <a:r>
              <a:rPr b="1" lang="el-GR" sz="3500" spc="-1" strike="noStrike">
                <a:solidFill>
                  <a:srgbClr val="330066"/>
                </a:solidFill>
                <a:latin typeface="Arial"/>
              </a:rPr>
              <a:t>παράμετρος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yp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αθορίζει τον τύπο του πεδίου εισόδ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λήρης λίστ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ex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είμενο μίας γραμμής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,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sswo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μοιο με τον τύπ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, αλλά απεικονίζει τον χαρακτήρ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εν υπάρχει κρυπτογράφηση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heckbo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ημιουργεί ζεύγος ονόματος/τιμής, υποστηρίζονται πολλαπλές τιμές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di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έχεται μόνο μία τιμή, μία ομάδα επιλογών έχει το ίδιο όνομ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ποστολή δεδομέν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«καθαρίζει» τα περιεχόμεν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Γιατί τα εισαγωγικά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8" name="Picture 2" descr="A person sitting at a table with a sign in front of him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522360" y="1887480"/>
            <a:ext cx="5079960" cy="3801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"/>
          <p:cNvPicPr/>
          <p:nvPr/>
        </p:nvPicPr>
        <p:blipFill>
          <a:blip r:embed="rId2"/>
          <a:stretch/>
        </p:blipFill>
        <p:spPr>
          <a:xfrm>
            <a:off x="6138720" y="3284640"/>
            <a:ext cx="2914920" cy="1234800"/>
          </a:xfrm>
          <a:prstGeom prst="rect">
            <a:avLst/>
          </a:prstGeom>
          <a:ln w="0">
            <a:noFill/>
          </a:ln>
        </p:spPr>
      </p:pic>
      <p:sp>
        <p:nvSpPr>
          <p:cNvPr id="230" name="Oval 5"/>
          <p:cNvSpPr/>
          <p:nvPr/>
        </p:nvSpPr>
        <p:spPr>
          <a:xfrm>
            <a:off x="5923080" y="2852640"/>
            <a:ext cx="3386160" cy="1666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Η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HTML</a:t>
            </a: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 δεν είναι γλώσσα προγραμματισμου!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69440" y="1719000"/>
            <a:ext cx="8458200" cy="25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Είναι απλά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up.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Γιατί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ν έχει δομές ελέγχου και επανάληψη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 δηλώνεις μεταβλητέ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 γράφεις συναρτήσει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 κάνεις λογικού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&amp; μαθηματικούς υπολογισμού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3 - Εικόνα" descr="11.jpg"/>
          <p:cNvPicPr/>
          <p:nvPr/>
        </p:nvPicPr>
        <p:blipFill>
          <a:blip r:embed="rId1"/>
          <a:stretch/>
        </p:blipFill>
        <p:spPr>
          <a:xfrm>
            <a:off x="5956200" y="2766960"/>
            <a:ext cx="344340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5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ο νέ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ρότυπο για την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Νέ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s –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ειώνει την ανάγκη για εξωτερικά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gins 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.χ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s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/3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ραφικ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νεξαρτησία από συσκευές - πλατφόρμ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αλύτερη διαχείριση σφαλμάτ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Νέ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e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1517760" y="1468440"/>
            <a:ext cx="652608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Ένα απλό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 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αρχείο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9440" y="1628280"/>
            <a:ext cx="84582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00"/>
                </a:solidFill>
                <a:latin typeface="Arial"/>
              </a:rPr>
              <a:t>&lt;!-- Our first Web page 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Arial"/>
              </a:rPr>
              <a:t>&lt;hea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title&gt;Welcome to Our Web Site!&lt;/tit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Arial"/>
              </a:rPr>
              <a:t>&lt;/hea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4c8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&gt;Welcome to Our Web Site!&lt;/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4c8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Εικόνα 2" descr=""/>
          <p:cNvPicPr/>
          <p:nvPr/>
        </p:nvPicPr>
        <p:blipFill>
          <a:blip r:embed="rId2"/>
          <a:stretch/>
        </p:blipFill>
        <p:spPr>
          <a:xfrm>
            <a:off x="5423040" y="2349360"/>
            <a:ext cx="35049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Νέ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e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1"/>
          <a:stretch/>
        </p:blipFill>
        <p:spPr>
          <a:xfrm>
            <a:off x="2035080" y="1413000"/>
            <a:ext cx="545148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Νέ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ttribut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.χ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select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1220760" y="2492280"/>
            <a:ext cx="7215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ερικά παραδείγματ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5 SV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5 drag and dr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5 geolo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5 vide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alid HTM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3C Valid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ttp://validator.w3.org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Δηλαδή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Όλα τα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ags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 πρέπει να «κλείνουν» και με τη σωστή σειρά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Υποχρεωτικά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wercase tag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Οι ιδιότητες στα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ags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 ανάμεσα σ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quo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Και πολλά άλλα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Μια χαρά εμφανίζετα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Γιατί είναι σημαντικό να γράφουμ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id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Μέγιστη συμβατότητα με όλους τους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rows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Συμβατότητα με μελλοντικές εκδόσει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Χρόνος φόρτωση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Ανάγνωση από μηχανές αναζήτηση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Προσβασιμότητα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466200"/>
            <a:ext cx="75121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330066"/>
                </a:solidFill>
                <a:latin typeface="Arial"/>
              </a:rPr>
              <a:t>Τέλος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73000" y="3049560"/>
            <a:ext cx="6421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ρωτήσει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Στοιχεί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 vs 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τικέτες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ι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ετικέτες χρησιμοποιούνται για να οριοθετήσουν την αρχή και το τέλος ενός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στοιχείο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Πηγή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s://www.tutorialrepublic.com/html-tutorial/html-elements.ph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Εικόνα 3" descr=""/>
          <p:cNvPicPr/>
          <p:nvPr/>
        </p:nvPicPr>
        <p:blipFill>
          <a:blip r:embed="rId1"/>
          <a:stretch/>
        </p:blipFill>
        <p:spPr>
          <a:xfrm>
            <a:off x="1962000" y="3757680"/>
            <a:ext cx="575316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Y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- παράμετρο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gcol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το χρώμα του φόντου της σελίδ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: το χρώμα των χαρακτήρων του κειμένο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0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χρώματα με βάση το όνομα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&lt;body</a:t>
            </a:r>
            <a:r>
              <a:rPr b="0" lang="el-GR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gcolor=“tomato” text=“PaleGreen”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lue = #0000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peech Bubble: Rectangle 4"/>
          <p:cNvSpPr/>
          <p:nvPr/>
        </p:nvSpPr>
        <p:spPr>
          <a:xfrm>
            <a:off x="1170000" y="5300640"/>
            <a:ext cx="1944720" cy="915840"/>
          </a:xfrm>
          <a:prstGeom prst="wedgeRectCallout">
            <a:avLst>
              <a:gd name="adj1" fmla="val 51374"/>
              <a:gd name="adj2" fmla="val -85736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πλά ω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,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μορφοποίηση μ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0066"/>
                </a:solidFill>
                <a:latin typeface="Arial"/>
              </a:rPr>
              <a:t>Τα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attributes</a:t>
            </a:r>
            <a:r>
              <a:rPr b="1" lang="el-GR" sz="3600" spc="-1" strike="noStrike">
                <a:solidFill>
                  <a:srgbClr val="330066"/>
                </a:solidFill>
                <a:latin typeface="Arial"/>
              </a:rPr>
              <a:t> είναι ξεπερασμένα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554040" y="1989000"/>
            <a:ext cx="82440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eb Colors - </a:t>
            </a:r>
            <a:r>
              <a:rPr b="0" lang="en-US" sz="46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4600" spc="-1" strike="noStrike">
                <a:solidFill>
                  <a:srgbClr val="00cc00"/>
                </a:solidFill>
                <a:latin typeface="Arial"/>
              </a:rPr>
              <a:t>G</a:t>
            </a:r>
            <a:r>
              <a:rPr b="0" lang="en-US" sz="4600" spc="-1" strike="noStrike">
                <a:solidFill>
                  <a:srgbClr val="0000ff"/>
                </a:solidFill>
                <a:latin typeface="Arial"/>
              </a:rPr>
              <a:t>B</a:t>
            </a:r>
            <a:endParaRPr b="1" lang="en-US" sz="4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9440" y="1574280"/>
            <a:ext cx="84582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69800" y="1379520"/>
          <a:ext cx="4151520" cy="4857840"/>
        </p:xfrm>
        <a:graphic>
          <a:graphicData uri="http://schemas.openxmlformats.org/drawingml/2006/table">
            <a:tbl>
              <a:tblPr/>
              <a:tblGrid>
                <a:gridCol w="693720"/>
                <a:gridCol w="690840"/>
                <a:gridCol w="693720"/>
                <a:gridCol w="690480"/>
                <a:gridCol w="706320"/>
                <a:gridCol w="676440"/>
              </a:tblGrid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776840" y="1379520"/>
          <a:ext cx="4151160" cy="4857840"/>
        </p:xfrm>
        <a:graphic>
          <a:graphicData uri="http://schemas.openxmlformats.org/drawingml/2006/table">
            <a:tbl>
              <a:tblPr/>
              <a:tblGrid>
                <a:gridCol w="693720"/>
                <a:gridCol w="690480"/>
                <a:gridCol w="693720"/>
                <a:gridCol w="690480"/>
                <a:gridCol w="706680"/>
                <a:gridCol w="676080"/>
              </a:tblGrid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</a:tr>
              <a:tr h="3049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ff"/>
                    </a:solidFill>
                  </a:tcPr>
                </a:tc>
              </a:tr>
              <a:tr h="30348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ff"/>
                    </a:solidFill>
                  </a:tcPr>
                </a:tc>
              </a:tr>
              <a:tr h="30456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ff"/>
                    </a:solidFill>
                  </a:tcPr>
                </a:tc>
              </a:tr>
              <a:tr h="30348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49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ff"/>
                    </a:solidFill>
                  </a:tcPr>
                </a:tc>
              </a:tr>
              <a:tr h="30348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30456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30348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6" name="Text Box 312"/>
          <p:cNvSpPr/>
          <p:nvPr/>
        </p:nvSpPr>
        <p:spPr>
          <a:xfrm>
            <a:off x="0" y="6308640"/>
            <a:ext cx="93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6 X 256 X 256 = 16.777.2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4320" y="122040"/>
            <a:ext cx="8038800" cy="114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80960" y="1412640"/>
            <a:ext cx="8670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ορισμού περιοχή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Επικεφαλίδε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&lt;h1&gt;&lt;/h1&gt;, …, &lt;h6&gt;&lt;/h6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αράγραφοι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p&gt;&lt;/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Λίστες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ul&gt;, &lt;ol&gt; &lt;dl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Φόρμες - &l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&gt;&lt;/form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ίνακες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table&gt;&lt;/table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Οριζόντιες γραμμές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hr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ορισμού κειμένο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nt style elements - &lt;b&gt;&lt;/b&gt;, &lt;i&gt;&lt;/i&gt;, &lt;u&gt;&lt;/u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s - &lt;a&gt;&lt;/a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Εικόνες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img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Διακοπές κειμένου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&lt;br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πικεφαλίδες –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1, …, h6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9800" y="1557360"/>
            <a:ext cx="86709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&lt;h1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l 1 Header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&lt;/h1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2 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align=cent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Level 2 header&lt;/h2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3&gt;Level 3 header&lt;/h3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4  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align=righ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Level 4 header&lt;/h4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5&gt;Level 5 header&lt;/h5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6 </a:t>
            </a: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align=lef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Level 6 header&lt;/h6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3 - TextBox"/>
          <p:cNvSpPr/>
          <p:nvPr/>
        </p:nvSpPr>
        <p:spPr>
          <a:xfrm>
            <a:off x="554040" y="587700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quid desig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peech Bubble: Rectangle 4"/>
          <p:cNvSpPr/>
          <p:nvPr/>
        </p:nvSpPr>
        <p:spPr>
          <a:xfrm>
            <a:off x="554040" y="5373720"/>
            <a:ext cx="1913040" cy="900000"/>
          </a:xfrm>
          <a:prstGeom prst="wedgeRectCallout">
            <a:avLst>
              <a:gd name="adj1" fmla="val 46393"/>
              <a:gd name="adj2" fmla="val -74009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ν βάλω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7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15:19:43Z</dcterms:created>
  <dc:creator>mitsos</dc:creator>
  <dc:description/>
  <dc:language>en-US</dc:language>
  <cp:lastModifiedBy>STEFANIS VASILEIOS</cp:lastModifiedBy>
  <dcterms:modified xsi:type="dcterms:W3CDTF">2022-10-12T11:00:43Z</dcterms:modified>
  <cp:revision>661</cp:revision>
  <dc:subject/>
  <dc:title>Τεχνολογίες Διαδικτύου</dc:title>
</cp:coreProperties>
</file>