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1851-2C92-4DF9-A9DD-9603E7B94F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FCF8-8C1C-4A52-A45E-786219EDB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3A7-21BE-44F6-A4F0-C6E397A84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8293-4213-4AF2-82EF-A89BAA6A8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6BA-F2E8-4EFC-B1CC-352DF260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623-DF9A-4C17-B62C-87C8E1BF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59D-C514-438A-8BA9-CF99A65B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2E0-9725-4D89-A570-F39095B6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105F-BADF-4D57-9D2B-525AEC78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51C-4B0B-4717-9029-CEC55B60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5674-2618-464C-8075-6BD2AFF8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BA3C-99C3-4DA3-8960-60A1B670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9B97-21A0-4C88-9B2D-7CAA5A83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F6C7-3DE5-497B-AB81-762B7C10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0FBA-0A7E-4AA9-88B8-A2231242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222-BD80-4B9C-96EC-52AE21E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0577-27C7-4350-9CA8-70D300E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87D8-6699-4219-9DAF-5F9B1B3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2ABB-C044-48F3-A57D-E3A04A35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83FD-9910-45E6-8E4C-C682C451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8AF9-E112-4D9D-A066-549B5BE9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2D1-0F37-4DD0-9F77-8901F825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BB4-5ADF-408B-AFA7-63ECB623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D3B-1B1D-43F9-9EF0-919F7214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00A-0F14-417C-8A5D-D4BF94A5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C6E-89FC-429F-B668-605111A9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01A-B39D-4831-BF8D-79EA5BA4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C9F-EB7B-402C-9427-EA3F305A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607-267F-4945-9025-5C0FFD37F4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290B-6E12-4067-AD56-6FA1F84B68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ntact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i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header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ασίλης Στεφαν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fanis@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peech Bubble: Rectangle 3"/>
          <p:cNvSpPr/>
          <p:nvPr/>
        </p:nvSpPr>
        <p:spPr>
          <a:xfrm>
            <a:off x="7147080" y="4851360"/>
            <a:ext cx="191268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peech Bubble: Rectangle 4"/>
          <p:cNvSpPr/>
          <p:nvPr/>
        </p:nvSpPr>
        <p:spPr>
          <a:xfrm>
            <a:off x="5851440" y="1384200"/>
            <a:ext cx="1943280" cy="91440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το 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ως «κλείνου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ckDuckG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peech Bubble: Rectangle 3"/>
          <p:cNvSpPr/>
          <p:nvPr/>
        </p:nvSpPr>
        <p:spPr>
          <a:xfrm>
            <a:off x="6302520" y="2708280"/>
            <a:ext cx="2838240" cy="865080"/>
          </a:xfrm>
          <a:prstGeom prst="wedgeRectCallout">
            <a:avLst>
              <a:gd name="adj1" fmla="val -50435"/>
              <a:gd name="adj2" fmla="val 9649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κάθε ανανέωση σελίδας αλλάζει η σειρά εμφάνι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DuckDuckGo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9800" y="980640"/>
            <a:ext cx="8670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peech Bubble: Rectangle 3"/>
          <p:cNvSpPr/>
          <p:nvPr/>
        </p:nvSpPr>
        <p:spPr>
          <a:xfrm>
            <a:off x="6643800" y="4851360"/>
            <a:ext cx="241596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μφώλευση βασικό χαρακτηριστικό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“tel:+302610451517”&gt;Hungry?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peech Bubble: Rectangle 3"/>
          <p:cNvSpPr/>
          <p:nvPr/>
        </p:nvSpPr>
        <p:spPr>
          <a:xfrm>
            <a:off x="3619440" y="76320"/>
            <a:ext cx="4176720" cy="1218960"/>
          </a:xfrm>
          <a:prstGeom prst="wedgeRectCallout">
            <a:avLst>
              <a:gd name="adj1" fmla="val -44435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δε λειτουργεί το τηλέφων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to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η χαρά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ε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«εχθρό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bi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ύσεις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peech Bubble: Rectangle 3"/>
          <p:cNvSpPr/>
          <p:nvPr/>
        </p:nvSpPr>
        <p:spPr>
          <a:xfrm>
            <a:off x="5994360" y="5589720"/>
            <a:ext cx="2417760" cy="900000"/>
          </a:xfrm>
          <a:prstGeom prst="wedgeRectCallout">
            <a:avLst>
              <a:gd name="adj1" fmla="val -71046"/>
              <a:gd name="adj2" fmla="val -63851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ι, οι ιδιότητες δηλώνονται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λέον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2840" y="1066680"/>
            <a:ext cx="8827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4.01 (24/12/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 Living Standard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 Updated: 11 October 202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Hypertext Application Technology Working Group (WHAT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e, Google, Mozilla, Microso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Προτείνεται η χρήση κάποιου εξειδικευμένου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or (Notepad++, Sublime Tex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peech Bubble: Rectangle 1"/>
          <p:cNvSpPr/>
          <p:nvPr/>
        </p:nvSpPr>
        <p:spPr>
          <a:xfrm>
            <a:off x="5059440" y="476280"/>
            <a:ext cx="1942920" cy="91584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≠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“send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h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peech Bubble: Rectangle 3"/>
          <p:cNvSpPr/>
          <p:nvPr/>
        </p:nvSpPr>
        <p:spPr>
          <a:xfrm>
            <a:off x="1027080" y="5516640"/>
            <a:ext cx="3024360" cy="1081080"/>
          </a:xfrm>
          <a:prstGeom prst="wedgeRectCallout">
            <a:avLst>
              <a:gd name="adj1" fmla="val 47379"/>
              <a:gd name="adj2" fmla="val -87217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να αποκτήσει λειτουργικότητα η φόρμα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peech Bubble: Rectangle 3"/>
          <p:cNvSpPr/>
          <p:nvPr/>
        </p:nvSpPr>
        <p:spPr>
          <a:xfrm>
            <a:off x="1530360" y="5437080"/>
            <a:ext cx="2417760" cy="900360"/>
          </a:xfrm>
          <a:prstGeom prst="wedgeRectCallout">
            <a:avLst>
              <a:gd name="adj1" fmla="val 75759"/>
              <a:gd name="adj2" fmla="val -5674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τα δούμε αναλυτικά στη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4320" y="6021360"/>
            <a:ext cx="9083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998720" y="1417680"/>
            <a:ext cx="5400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4320" y="5950080"/>
            <a:ext cx="908352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393920" y="1285920"/>
            <a:ext cx="661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λείνει όπω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λήρης λίσ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υπάρχει κρυπτογράφησ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8" name="Picture 2" descr="A person sitting at a table with a sign in front of hi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522360" y="1887480"/>
            <a:ext cx="5079960" cy="3801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6138720" y="3284640"/>
            <a:ext cx="2914920" cy="1234800"/>
          </a:xfrm>
          <a:prstGeom prst="rect">
            <a:avLst/>
          </a:prstGeom>
          <a:ln w="0">
            <a:noFill/>
          </a:ln>
        </p:spPr>
      </p:pic>
      <p:sp>
        <p:nvSpPr>
          <p:cNvPr id="230" name="Oval 5"/>
          <p:cNvSpPr/>
          <p:nvPr/>
        </p:nvSpPr>
        <p:spPr>
          <a:xfrm>
            <a:off x="5923080" y="2852640"/>
            <a:ext cx="3386160" cy="166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SV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validator.w3.or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α χαρά εμφανίζετα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τί είναι σημαντικό να γράφουμ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έγιστη συμβατότητα με όλους του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βατότητα με μελλοντικές εκδό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όνος φόρτω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νάγνωση από μηχανές αναζήτη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οσβασιμότη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vs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τικέτε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τικέτες χρησιμοποιούνται για να οριοθετήσουν την αρχή και το τέλο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tutorialrepublic.com/html-tutorial/html-elements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Εικόνα 3" descr=""/>
          <p:cNvPicPr/>
          <p:nvPr/>
        </p:nvPicPr>
        <p:blipFill>
          <a:blip r:embed="rId1"/>
          <a:stretch/>
        </p:blipFill>
        <p:spPr>
          <a:xfrm>
            <a:off x="1962000" y="3757680"/>
            <a:ext cx="57531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ώματα με βάση το όνομ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“tomato” text=“PaleGreen”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peech Bubble: Rectangle 4"/>
          <p:cNvSpPr/>
          <p:nvPr/>
        </p:nvSpPr>
        <p:spPr>
          <a:xfrm>
            <a:off x="1170000" y="5300640"/>
            <a:ext cx="1944720" cy="915840"/>
          </a:xfrm>
          <a:prstGeom prst="wedgeRectCallout">
            <a:avLst>
              <a:gd name="adj1" fmla="val 51374"/>
              <a:gd name="adj2" fmla="val -8573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λά 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ορφοποίηση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peech Bubble: Rectangle 4"/>
          <p:cNvSpPr/>
          <p:nvPr/>
        </p:nvSpPr>
        <p:spPr>
          <a:xfrm>
            <a:off x="554040" y="5373720"/>
            <a:ext cx="1913040" cy="900000"/>
          </a:xfrm>
          <a:prstGeom prst="wedgeRectCallout">
            <a:avLst>
              <a:gd name="adj1" fmla="val 46393"/>
              <a:gd name="adj2" fmla="val -74009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βάλ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STEFANIS VASILEIOS</cp:lastModifiedBy>
  <dcterms:modified xsi:type="dcterms:W3CDTF">2022-10-12T11:00:43Z</dcterms:modified>
  <cp:revision>661</cp:revision>
  <dc:subject/>
  <dc:title>Τεχνολογίες Διαδικτύου</dc:title>
</cp:coreProperties>
</file>