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</p:sldIdLst>
  <p:sldSz cx="9399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079640" y="685440"/>
            <a:ext cx="46987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91FA8-51FA-41B7-8E63-B78AC1D82D5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69872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FCFBF-44A9-422F-BBC3-C17F64C530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69872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3 - Θέση αριθμού διαφάνειας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ED15F-84BB-4E40-A068-EBD6F3393B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0189E-7534-4867-BD11-8305E6C45B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69872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FE545-2776-4F66-B787-2E3AB87E53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69872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E1A7E-3925-43B7-B5B0-1EB728CA7D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69872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1AEB-D69A-429E-B528-A6C3A4E2B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84582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9440" y="4023720"/>
            <a:ext cx="84582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F47E-3530-49E2-AE51-FF2D0700D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44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80348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BDDF-F4DA-4F06-9D36-3700D9074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329280" y="171936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189480" y="171936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9440" y="402372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329280" y="402372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189480" y="402372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273A-2FD3-4CEA-86B3-417761703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9B325-7D78-41AE-BA13-5839CD461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A1137-7990-4D23-BF44-55C1ACD4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3EFF4-3750-4E3F-BD8B-84B27A2E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0AC72-D0B4-4C00-AF17-0EFE863FB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18F87-49AE-4F61-8AF1-92544CFD4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69440" y="122400"/>
            <a:ext cx="775332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A2670-3321-4B79-AF31-77EEA665B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944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5FF03-163D-42BF-A0B6-9BB63EB1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185B-BA0B-452F-AE2B-F2F3B3394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80348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25E36-958F-42EA-A2E7-D779F3C8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9440" y="4023720"/>
            <a:ext cx="84582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8BF15-1C0B-4C99-963A-B7945593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84582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9440" y="4023720"/>
            <a:ext cx="84582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24E74-6863-4A8D-BB2D-EB4F20E2C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944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80348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F100A-B739-46C0-A8A9-9FD33FD3B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329280" y="171936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89480" y="171936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9440" y="402372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329280" y="402372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89480" y="402372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76AEB-F820-4245-8125-E6E6DE45D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2D2A-58DC-4BF1-95FB-6D7912726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0488-5135-4003-9E1C-EE455FB07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8E58-68AC-4A35-AA45-8DF04F947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69440" y="122400"/>
            <a:ext cx="775332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3227-0CDB-49EE-B960-706976D06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6944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290F-B859-4B85-9EF6-39BFD19E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80348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9AEC-C1AE-44B6-B9B7-BB64C8BE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9440" y="4023720"/>
            <a:ext cx="84582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90B7-22DC-42DE-BA03-41386F2D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81835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9800" y="6248520"/>
            <a:ext cx="219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11560" y="624852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35600" y="6248520"/>
            <a:ext cx="219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76279-0703-4EAA-8954-0EDF818AD99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380440" y="152280"/>
            <a:ext cx="813960" cy="1295280"/>
            <a:chOff x="8380440" y="152280"/>
            <a:chExt cx="813960" cy="1295280"/>
          </a:xfrm>
        </p:grpSpPr>
        <p:sp>
          <p:nvSpPr>
            <p:cNvPr id="7" name="Oval 9"/>
            <p:cNvSpPr/>
            <p:nvPr/>
          </p:nvSpPr>
          <p:spPr>
            <a:xfrm>
              <a:off x="8380440" y="152280"/>
              <a:ext cx="12312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552880" y="152280"/>
              <a:ext cx="1216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725680" y="152280"/>
              <a:ext cx="1155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380440" y="320040"/>
              <a:ext cx="12312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552880" y="320040"/>
              <a:ext cx="1216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725680" y="320040"/>
              <a:ext cx="1155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8984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380440" y="488160"/>
              <a:ext cx="12312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552880" y="488160"/>
              <a:ext cx="1216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725680" y="488160"/>
              <a:ext cx="1155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898480" y="488160"/>
              <a:ext cx="11232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9071280" y="488160"/>
              <a:ext cx="12312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380440" y="655920"/>
              <a:ext cx="12312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552880" y="655920"/>
              <a:ext cx="1216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725680" y="655920"/>
              <a:ext cx="1155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8984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380440" y="824040"/>
              <a:ext cx="12312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552880" y="824040"/>
              <a:ext cx="1216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72568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8984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9071280" y="824040"/>
              <a:ext cx="12312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380440" y="992160"/>
              <a:ext cx="12312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552880" y="992160"/>
              <a:ext cx="1216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725680" y="992160"/>
              <a:ext cx="1155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8984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380440" y="1159920"/>
              <a:ext cx="12312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552880" y="1159920"/>
              <a:ext cx="1216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725680" y="1159920"/>
              <a:ext cx="1155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8984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552880" y="1328040"/>
              <a:ext cx="1216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8984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1026"/>
          <p:cNvSpPr/>
          <p:nvPr/>
        </p:nvSpPr>
        <p:spPr>
          <a:xfrm>
            <a:off x="751824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1032"/>
          <p:cNvGrpSpPr/>
          <p:nvPr/>
        </p:nvGrpSpPr>
        <p:grpSpPr>
          <a:xfrm>
            <a:off x="7701120" y="2992320"/>
            <a:ext cx="1375920" cy="2189160"/>
            <a:chOff x="7701120" y="2992320"/>
            <a:chExt cx="1375920" cy="2189160"/>
          </a:xfrm>
        </p:grpSpPr>
        <p:sp>
          <p:nvSpPr>
            <p:cNvPr id="76" name="Oval 1033"/>
            <p:cNvSpPr/>
            <p:nvPr/>
          </p:nvSpPr>
          <p:spPr>
            <a:xfrm>
              <a:off x="7701120" y="299232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34"/>
            <p:cNvSpPr/>
            <p:nvPr/>
          </p:nvSpPr>
          <p:spPr>
            <a:xfrm>
              <a:off x="7993440" y="299232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035"/>
            <p:cNvSpPr/>
            <p:nvPr/>
          </p:nvSpPr>
          <p:spPr>
            <a:xfrm>
              <a:off x="8285400" y="299232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036"/>
            <p:cNvSpPr/>
            <p:nvPr/>
          </p:nvSpPr>
          <p:spPr>
            <a:xfrm>
              <a:off x="7701120" y="327672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037"/>
            <p:cNvSpPr/>
            <p:nvPr/>
          </p:nvSpPr>
          <p:spPr>
            <a:xfrm>
              <a:off x="7993440" y="327672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038"/>
            <p:cNvSpPr/>
            <p:nvPr/>
          </p:nvSpPr>
          <p:spPr>
            <a:xfrm>
              <a:off x="8285400" y="327672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039"/>
            <p:cNvSpPr/>
            <p:nvPr/>
          </p:nvSpPr>
          <p:spPr>
            <a:xfrm>
              <a:off x="8577360" y="3276720"/>
              <a:ext cx="2070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040"/>
            <p:cNvSpPr/>
            <p:nvPr/>
          </p:nvSpPr>
          <p:spPr>
            <a:xfrm>
              <a:off x="7701120" y="356076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041"/>
            <p:cNvSpPr/>
            <p:nvPr/>
          </p:nvSpPr>
          <p:spPr>
            <a:xfrm>
              <a:off x="7993440" y="356076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042"/>
            <p:cNvSpPr/>
            <p:nvPr/>
          </p:nvSpPr>
          <p:spPr>
            <a:xfrm>
              <a:off x="8285400" y="3560760"/>
              <a:ext cx="2070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043"/>
            <p:cNvSpPr/>
            <p:nvPr/>
          </p:nvSpPr>
          <p:spPr>
            <a:xfrm>
              <a:off x="8577360" y="3560760"/>
              <a:ext cx="2070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1044"/>
            <p:cNvSpPr/>
            <p:nvPr/>
          </p:nvSpPr>
          <p:spPr>
            <a:xfrm>
              <a:off x="8870040" y="3560760"/>
              <a:ext cx="2070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1045"/>
            <p:cNvSpPr/>
            <p:nvPr/>
          </p:nvSpPr>
          <p:spPr>
            <a:xfrm>
              <a:off x="7701120" y="3843360"/>
              <a:ext cx="20700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1046"/>
            <p:cNvSpPr/>
            <p:nvPr/>
          </p:nvSpPr>
          <p:spPr>
            <a:xfrm>
              <a:off x="7993440" y="3843360"/>
              <a:ext cx="2070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1047"/>
            <p:cNvSpPr/>
            <p:nvPr/>
          </p:nvSpPr>
          <p:spPr>
            <a:xfrm>
              <a:off x="8285400" y="3843360"/>
              <a:ext cx="2070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1048"/>
            <p:cNvSpPr/>
            <p:nvPr/>
          </p:nvSpPr>
          <p:spPr>
            <a:xfrm>
              <a:off x="8577360" y="3843360"/>
              <a:ext cx="2070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1049"/>
            <p:cNvSpPr/>
            <p:nvPr/>
          </p:nvSpPr>
          <p:spPr>
            <a:xfrm>
              <a:off x="7701120" y="4127400"/>
              <a:ext cx="20700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1050"/>
            <p:cNvSpPr/>
            <p:nvPr/>
          </p:nvSpPr>
          <p:spPr>
            <a:xfrm>
              <a:off x="7993440" y="4127400"/>
              <a:ext cx="20700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1051"/>
            <p:cNvSpPr/>
            <p:nvPr/>
          </p:nvSpPr>
          <p:spPr>
            <a:xfrm>
              <a:off x="8285400" y="4127400"/>
              <a:ext cx="20700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1052"/>
            <p:cNvSpPr/>
            <p:nvPr/>
          </p:nvSpPr>
          <p:spPr>
            <a:xfrm>
              <a:off x="8577360" y="4127400"/>
              <a:ext cx="20700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053"/>
            <p:cNvSpPr/>
            <p:nvPr/>
          </p:nvSpPr>
          <p:spPr>
            <a:xfrm>
              <a:off x="8870040" y="4127400"/>
              <a:ext cx="20700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1054"/>
            <p:cNvSpPr/>
            <p:nvPr/>
          </p:nvSpPr>
          <p:spPr>
            <a:xfrm>
              <a:off x="7701120" y="4411800"/>
              <a:ext cx="2070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1055"/>
            <p:cNvSpPr/>
            <p:nvPr/>
          </p:nvSpPr>
          <p:spPr>
            <a:xfrm>
              <a:off x="7993440" y="4411800"/>
              <a:ext cx="2070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056"/>
            <p:cNvSpPr/>
            <p:nvPr/>
          </p:nvSpPr>
          <p:spPr>
            <a:xfrm>
              <a:off x="8285400" y="4411800"/>
              <a:ext cx="2070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057"/>
            <p:cNvSpPr/>
            <p:nvPr/>
          </p:nvSpPr>
          <p:spPr>
            <a:xfrm>
              <a:off x="8577360" y="4411800"/>
              <a:ext cx="2070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058"/>
            <p:cNvSpPr/>
            <p:nvPr/>
          </p:nvSpPr>
          <p:spPr>
            <a:xfrm>
              <a:off x="7701120" y="4695840"/>
              <a:ext cx="2070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059"/>
            <p:cNvSpPr/>
            <p:nvPr/>
          </p:nvSpPr>
          <p:spPr>
            <a:xfrm>
              <a:off x="7993440" y="4695840"/>
              <a:ext cx="2070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060"/>
            <p:cNvSpPr/>
            <p:nvPr/>
          </p:nvSpPr>
          <p:spPr>
            <a:xfrm>
              <a:off x="8285400" y="4695840"/>
              <a:ext cx="2070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061"/>
            <p:cNvSpPr/>
            <p:nvPr/>
          </p:nvSpPr>
          <p:spPr>
            <a:xfrm>
              <a:off x="8577360" y="4695840"/>
              <a:ext cx="2070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062"/>
            <p:cNvSpPr/>
            <p:nvPr/>
          </p:nvSpPr>
          <p:spPr>
            <a:xfrm>
              <a:off x="7993440" y="4979880"/>
              <a:ext cx="2070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1063"/>
            <p:cNvSpPr/>
            <p:nvPr/>
          </p:nvSpPr>
          <p:spPr>
            <a:xfrm>
              <a:off x="8577360" y="4979880"/>
              <a:ext cx="2070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1064"/>
          <p:cNvSpPr/>
          <p:nvPr/>
        </p:nvSpPr>
        <p:spPr>
          <a:xfrm>
            <a:off x="312840" y="2819520"/>
            <a:ext cx="845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69800" y="6248520"/>
            <a:ext cx="219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211560" y="624852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735600" y="6248520"/>
            <a:ext cx="219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CC475-4F1E-4CC9-89DA-CE0D6D492C6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ch02/02/header.html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ch02/07/contact.html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ch02/08/lists.html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ch02/08/ordered_links.html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ch02/08/orismou_links.html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ch02/09/list.html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ch02/03/links.html" TargetMode="External"/><Relationship Id="rId2" Type="http://schemas.openxmlformats.org/officeDocument/2006/relationships/hyperlink" Target="file:///ch02/03/links.html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ch02/05/picture.html" TargetMode="External"/><Relationship Id="rId2" Type="http://schemas.openxmlformats.org/officeDocument/2006/relationships/hyperlink" Target="file:///ch02/05/picture.html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ch03/01/table.html" TargetMode="Externa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ch03/01/table.html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ch03/02/table.html" TargetMode="Externa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ch03/02/table.html" TargetMode="External"/><Relationship Id="rId2" Type="http://schemas.openxmlformats.org/officeDocument/2006/relationships/hyperlink" Target="file:///ch03/02/table.html" TargetMode="Externa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ch03/03/form.html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ch03/04/form.html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ch03/05/form.html" TargetMode="Externa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s://www.w3schools.com/tags/tag_input.asp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s://www.w3.org/TR/html5-diff/" TargetMode="External"/><Relationship Id="rId2" Type="http://schemas.openxmlformats.org/officeDocument/2006/relationships/hyperlink" Target="https://www.w3.org/TR/html5-diff/" TargetMode="External"/><Relationship Id="rId3" Type="http://schemas.openxmlformats.org/officeDocument/2006/relationships/hyperlink" Target="https://www.w3.org/TR/html5-diff/" TargetMode="External"/><Relationship Id="rId4" Type="http://schemas.openxmlformats.org/officeDocument/2006/relationships/hyperlink" Target="https://www.w3.org/TR/html5-diff/" TargetMode="External"/><Relationship Id="rId5" Type="http://schemas.openxmlformats.org/officeDocument/2006/relationships/hyperlink" Target="https://www.w3.org/TR/html5-diff/" TargetMode="External"/><Relationship Id="rId6" Type="http://schemas.openxmlformats.org/officeDocument/2006/relationships/hyperlink" Target="https://www.w3.org/TR/html5-diff/" TargetMode="External"/><Relationship Id="rId7" Type="http://schemas.openxmlformats.org/officeDocument/2006/relationships/hyperlink" Target="https://www.w3.org/TR/html5-diff/" TargetMode="External"/><Relationship Id="rId8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w3schools.com/html/html5_canvas.asp" TargetMode="External"/><Relationship Id="rId2" Type="http://schemas.openxmlformats.org/officeDocument/2006/relationships/hyperlink" Target="http://www.w3schools.com/html/html5_draganddrop.asp" TargetMode="External"/><Relationship Id="rId3" Type="http://schemas.openxmlformats.org/officeDocument/2006/relationships/hyperlink" Target="http://www.w3schools.com/html/html5_geolocation.asp" TargetMode="External"/><Relationship Id="rId4" Type="http://schemas.openxmlformats.org/officeDocument/2006/relationships/hyperlink" Target="http://www.w3schools.com/html/html5_audio.asp" TargetMode="External"/><Relationship Id="rId5" Type="http://schemas.openxmlformats.org/officeDocument/2006/relationships/hyperlink" Target="http://www.w3schools.com/html/html5_video.asp" TargetMode="External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validator.w3.org/" TargetMode="External"/><Relationship Id="rId2" Type="http://schemas.openxmlformats.org/officeDocument/2006/relationships/hyperlink" Target="file:///ch03/05/bad_html.html" TargetMode="External"/><Relationship Id="rId3" Type="http://schemas.openxmlformats.org/officeDocument/2006/relationships/hyperlink" Target="https://www.w3.org/wiki/Validating_your_HTML?TB_iframe=true#Different_browsers_interpret_invalid_HTML_differently" TargetMode="External"/><Relationship Id="rId4" Type="http://schemas.openxmlformats.org/officeDocument/2006/relationships/hyperlink" Target="https://www.w3.org/wiki/Validating_your_HTML?TB_iframe=true#Different_browsers_interpret_invalid_HTML_differently" TargetMode="External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s://www.w3schools.com/cssref/css_selectors.asp" TargetMode="Externa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file:///ch04/01/inline.html" TargetMode="Externa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file:///ch04/02/declared.html" TargetMode="Externa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file:///ch04/02/declared.html" TargetMode="External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file:///ch04/03/advanced.html" TargetMode="External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file:///ch04/05/imported.html" TargetMode="External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s://www.w3.org/Style/Examples/007/units.en.html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s://www.w3schools.com/css/tryit.asp?filename=trycss_boxmodel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www.w3schools.com/css/tryit.asp?filename=trycss_position_fixed" TargetMode="External"/><Relationship Id="rId2" Type="http://schemas.openxmlformats.org/officeDocument/2006/relationships/hyperlink" Target="http://www.w3schools.com/css/tryit.asp?filename=trycss_position_absolute" TargetMode="External"/><Relationship Id="rId3" Type="http://schemas.openxmlformats.org/officeDocument/2006/relationships/hyperlink" Target="http://www.w3schools.com/css/tryit.asp?filename=trycss_position_relative" TargetMode="External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file:///ch04/06/positioning.html" TargetMode="External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ch02/01/main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www.w3schools.com/tags/tag_title.asp" TargetMode="External"/><Relationship Id="rId2" Type="http://schemas.openxmlformats.org/officeDocument/2006/relationships/hyperlink" Target="https://www.w3schools.com/tags/tag_script.asp" TargetMode="External"/><Relationship Id="rId3" Type="http://schemas.openxmlformats.org/officeDocument/2006/relationships/hyperlink" Target="https://www.w3schools.com/tags/tag_style.asp" TargetMode="External"/><Relationship Id="rId4" Type="http://schemas.openxmlformats.org/officeDocument/2006/relationships/hyperlink" Target="https://www.w3schools.com/tags/tag_base.asp" TargetMode="External"/><Relationship Id="rId5" Type="http://schemas.openxmlformats.org/officeDocument/2006/relationships/hyperlink" Target="https://www.w3schools.com/tags/tag_meta.asp" TargetMode="External"/><Relationship Id="rId6" Type="http://schemas.openxmlformats.org/officeDocument/2006/relationships/hyperlink" Target="https://www.w3schools.com/tags/tag_link.asp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ch02/01/main_fonto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466200"/>
            <a:ext cx="75121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30066"/>
                </a:solidFill>
                <a:latin typeface="Arial"/>
              </a:rPr>
              <a:t>Προγραμματισμός &amp; Συστήματα στον Παγκόσμιο Ιστό 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73000" y="3049560"/>
            <a:ext cx="64216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Η «γλώσσα»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amp; C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eb Colors - </a:t>
            </a:r>
            <a:r>
              <a:rPr b="0" lang="en-US" sz="46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0" lang="en-US" sz="4600" spc="-1" strike="noStrike">
                <a:solidFill>
                  <a:srgbClr val="00cc00"/>
                </a:solidFill>
                <a:latin typeface="Arial"/>
              </a:rPr>
              <a:t>G</a:t>
            </a:r>
            <a:r>
              <a:rPr b="0" lang="en-US" sz="4600" spc="-1" strike="noStrike">
                <a:solidFill>
                  <a:srgbClr val="0000ff"/>
                </a:solidFill>
                <a:latin typeface="Arial"/>
              </a:rPr>
              <a:t>B</a:t>
            </a:r>
            <a:endParaRPr b="1" lang="en-US" sz="4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9440" y="1574280"/>
            <a:ext cx="84582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69800" y="1379520"/>
          <a:ext cx="4151520" cy="4857840"/>
        </p:xfrm>
        <a:graphic>
          <a:graphicData uri="http://schemas.openxmlformats.org/drawingml/2006/table">
            <a:tbl>
              <a:tblPr/>
              <a:tblGrid>
                <a:gridCol w="693720"/>
                <a:gridCol w="690840"/>
                <a:gridCol w="693720"/>
                <a:gridCol w="690480"/>
                <a:gridCol w="706320"/>
                <a:gridCol w="676440"/>
              </a:tblGrid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0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00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00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00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00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00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00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24264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33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33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33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33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33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33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33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33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66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66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66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66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66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66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66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99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99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0099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99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0099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9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99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99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24264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CC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CC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CC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CC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CC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CC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FF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FF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ff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FF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ff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FF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ff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FF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FF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0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00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00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00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00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00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00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00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00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00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00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00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33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33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33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33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33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33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33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33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33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33ff"/>
                    </a:solidFill>
                  </a:tcPr>
                </a:tc>
              </a:tr>
              <a:tr h="24264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66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66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66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66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66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66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66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66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66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99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3399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99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99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9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3399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99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3399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99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CC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CC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CC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CC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CC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CC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ff"/>
                    </a:solidFill>
                  </a:tcPr>
                </a:tc>
              </a:tr>
              <a:tr h="24264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FF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ff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FF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ff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FF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ff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FF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ff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FF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ff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FF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ff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0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00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00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00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00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00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00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00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00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00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00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33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33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33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33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33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33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33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33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33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33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33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33ff"/>
                    </a:solidFill>
                  </a:tcPr>
                </a:tc>
              </a:tr>
              <a:tr h="24264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66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66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66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66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66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66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66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99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99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6699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99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6699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9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6699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99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6699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99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6699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CC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CC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CC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CC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CC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CC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</a:tr>
              <a:tr h="24264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FF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ff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FF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FF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FF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FF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FF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0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00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00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00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00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00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00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00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00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00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00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33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33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33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33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33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33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776840" y="1379520"/>
          <a:ext cx="4151160" cy="4857840"/>
        </p:xfrm>
        <a:graphic>
          <a:graphicData uri="http://schemas.openxmlformats.org/drawingml/2006/table">
            <a:tbl>
              <a:tblPr/>
              <a:tblGrid>
                <a:gridCol w="693720"/>
                <a:gridCol w="690480"/>
                <a:gridCol w="693720"/>
                <a:gridCol w="690480"/>
                <a:gridCol w="706680"/>
                <a:gridCol w="676080"/>
              </a:tblGrid>
              <a:tr h="3031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66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66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66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66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66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66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ff"/>
                    </a:solidFill>
                  </a:tcPr>
                </a:tc>
              </a:tr>
              <a:tr h="3049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99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99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99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9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99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99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3031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CC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CC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CC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CC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CC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CC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031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FF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ff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FF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FF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FF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FF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FF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ffff"/>
                    </a:solidFill>
                  </a:tcPr>
                </a:tc>
              </a:tr>
              <a:tr h="30348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0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00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00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00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00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00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00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00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00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00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00ff"/>
                    </a:solidFill>
                  </a:tcPr>
                </a:tc>
              </a:tr>
              <a:tr h="30456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33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33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33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33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33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33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33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33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33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33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33ff"/>
                    </a:solidFill>
                  </a:tcPr>
                </a:tc>
              </a:tr>
              <a:tr h="30348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66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66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66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66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66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66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66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66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66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66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66ff"/>
                    </a:solidFill>
                  </a:tcPr>
                </a:tc>
              </a:tr>
              <a:tr h="3031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99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99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99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9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99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99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031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CC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CC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CC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CC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CC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CC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049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FF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ff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FF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FF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FF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FF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FF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031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0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00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00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00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00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00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00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00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00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00ff"/>
                    </a:solidFill>
                  </a:tcPr>
                </a:tc>
              </a:tr>
              <a:tr h="3031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33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33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33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33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33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33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33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33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33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33ff"/>
                    </a:solidFill>
                  </a:tcPr>
                </a:tc>
              </a:tr>
              <a:tr h="30348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66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66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66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66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66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66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66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66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66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66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30456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99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99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99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9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99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99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30348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CC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CC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CC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CC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CC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CC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031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FF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FF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FF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FF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FF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FF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2" name="Text Box 312"/>
          <p:cNvSpPr/>
          <p:nvPr/>
        </p:nvSpPr>
        <p:spPr>
          <a:xfrm>
            <a:off x="0" y="6308640"/>
            <a:ext cx="93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6 X 256 X 256 = 16.777.2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84320" y="122040"/>
            <a:ext cx="8038800" cy="114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Το στοιχείο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D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80960" y="1412640"/>
            <a:ext cx="8670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τοιχεία ορισμού περιοχή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Επικεφαλίδες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&lt;h1&gt;&lt;/h1&gt;, …, &lt;h6&gt;&lt;/h6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Παράγραφοι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p&gt;&lt;/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Λίστες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ul&gt;, &lt;ol&gt; &lt;dl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Φόρμες - &l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&gt;&lt;/form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Πίνακες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table&gt;&lt;/table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Οριζόντιες γραμμές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hr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τοιχεία ορισμού κειμένο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nt style elements - &lt;b&gt;&lt;/b&gt;, &lt;i&gt;&lt;/i&gt;, &lt;u&gt;&lt;/u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nks - &lt;a&gt;&lt;/a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Εικόνες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img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Διακοπές κειμένου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- &lt;br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Επικεφαλίδες –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1, …, h6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9800" y="1557360"/>
            <a:ext cx="86709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&lt;h1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vel 1 Header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&lt;/h1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h2 </a:t>
            </a:r>
            <a:r>
              <a:rPr b="0" lang="en-US" sz="2600" spc="-1" strike="noStrike">
                <a:solidFill>
                  <a:srgbClr val="330066"/>
                </a:solidFill>
                <a:latin typeface="Arial"/>
              </a:rPr>
              <a:t>align=cent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Level 2 header&lt;/h2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h3&gt;Level 3 header&lt;/h3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h4  </a:t>
            </a:r>
            <a:r>
              <a:rPr b="0" lang="en-US" sz="2600" spc="-1" strike="noStrike">
                <a:solidFill>
                  <a:srgbClr val="cccc00"/>
                </a:solidFill>
                <a:latin typeface="Arial"/>
              </a:rPr>
              <a:t>align=righ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Level 4 header&lt;/h4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h5&gt;Level 5 header&lt;/h5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h6 </a:t>
            </a:r>
            <a:r>
              <a:rPr b="0" lang="en-US" sz="2600" spc="-1" strike="noStrike">
                <a:solidFill>
                  <a:srgbClr val="669999"/>
                </a:solidFill>
                <a:latin typeface="Arial"/>
              </a:rPr>
              <a:t>align=lef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Level 6 header&lt;/h6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3 - TextBox"/>
          <p:cNvSpPr/>
          <p:nvPr/>
        </p:nvSpPr>
        <p:spPr>
          <a:xfrm>
            <a:off x="554040" y="5877000"/>
            <a:ext cx="82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quid desig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Παράγραφοι – </a:t>
            </a:r>
            <a:br>
              <a:rPr sz="3900"/>
            </a:b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μορφοποίηση κειμένου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9800" y="1557000"/>
            <a:ext cx="86709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&lt;body&gt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cc00"/>
                </a:solidFill>
                <a:latin typeface="Arial"/>
              </a:rPr>
              <a:t>&lt;hr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&lt;!-- Inserts a horizontal rule --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9999"/>
                </a:solidFill>
                <a:latin typeface="Arial"/>
              </a:rPr>
              <a:t>&lt;p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ll 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i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formation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/i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from this 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b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esentation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/b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s &lt;strong&gt;</a:t>
            </a: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&amp;copy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&lt;/strong&gt; 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u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ex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/u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&amp;amp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l.</a:t>
            </a:r>
            <a:r>
              <a:rPr b="0" lang="en-US" sz="2100" spc="-1" strike="noStrike">
                <a:solidFill>
                  <a:srgbClr val="669999"/>
                </a:solidFill>
                <a:latin typeface="Arial"/>
              </a:rPr>
              <a:t>&lt;/p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&lt;p&gt;</a:t>
            </a:r>
            <a:r>
              <a:rPr b="0" lang="en-US" sz="2100" spc="-1" strike="noStrike">
                <a:solidFill>
                  <a:srgbClr val="669999"/>
                </a:solidFill>
                <a:latin typeface="Arial"/>
              </a:rPr>
              <a:t>&lt;del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You know that 2</a:t>
            </a:r>
            <a:r>
              <a:rPr b="0" lang="en-US" sz="2100" spc="-1" strike="noStrike">
                <a:solidFill>
                  <a:srgbClr val="330066"/>
                </a:solidFill>
                <a:latin typeface="Arial"/>
              </a:rPr>
              <a:t>&lt;sup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100" spc="-1" strike="noStrike">
                <a:solidFill>
                  <a:srgbClr val="330066"/>
                </a:solidFill>
                <a:latin typeface="Arial"/>
              </a:rPr>
              <a:t>&lt;/sup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1024 </a:t>
            </a:r>
            <a:r>
              <a:rPr b="0" lang="en-US" sz="2100" spc="-1" strike="noStrike">
                <a:solidFill>
                  <a:srgbClr val="669999"/>
                </a:solidFill>
                <a:latin typeface="Arial"/>
              </a:rPr>
              <a:t>&lt;/del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&lt;br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ut you </a:t>
            </a:r>
            <a:r>
              <a:rPr b="0" lang="en-US" sz="2100" spc="-1" strike="noStrike">
                <a:solidFill>
                  <a:srgbClr val="330066"/>
                </a:solidFill>
                <a:latin typeface="Arial"/>
              </a:rPr>
              <a:t>&lt;sub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ometimes</a:t>
            </a:r>
            <a:r>
              <a:rPr b="0" lang="en-US" sz="2100" spc="-1" strike="noStrike">
                <a:solidFill>
                  <a:srgbClr val="330066"/>
                </a:solidFill>
                <a:latin typeface="Arial"/>
              </a:rPr>
              <a:t>&lt;/sub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make mistakes.&lt;/p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&lt;p&gt;Did you know how to write this 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strong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&amp;frac14;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/strong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??? &lt;/p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cc00"/>
                </a:solidFill>
                <a:latin typeface="Arial"/>
              </a:rPr>
              <a:t>&lt;hr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&lt;!-- Inserts a horizontal rule --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Μη διατεταγμένες λίστε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9800" y="1557000"/>
            <a:ext cx="86709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0000"/>
                </a:solidFill>
                <a:latin typeface="Arial"/>
              </a:rPr>
              <a:t>&lt;ul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cccc00"/>
                </a:solidFill>
                <a:latin typeface="Arial"/>
              </a:rPr>
              <a:t>&lt;li&gt;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ogle</a:t>
            </a:r>
            <a:r>
              <a:rPr b="0" lang="it-IT" sz="3000" spc="-1" strike="noStrike">
                <a:solidFill>
                  <a:srgbClr val="cccc00"/>
                </a:solidFill>
                <a:latin typeface="Arial"/>
              </a:rPr>
              <a:t>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li </a:t>
            </a:r>
            <a:r>
              <a:rPr b="0" lang="it-IT" sz="3000" spc="-1" strike="noStrike">
                <a:solidFill>
                  <a:srgbClr val="330066"/>
                </a:solidFill>
                <a:latin typeface="Arial"/>
              </a:rPr>
              <a:t>type=disc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ng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li type=</a:t>
            </a:r>
            <a:r>
              <a:rPr b="0" lang="it-IT" sz="3000" spc="-1" strike="noStrike">
                <a:solidFill>
                  <a:srgbClr val="7e9ce8"/>
                </a:solidFill>
                <a:latin typeface="Arial"/>
              </a:rPr>
              <a:t>square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ahoo!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li type=</a:t>
            </a:r>
            <a:r>
              <a:rPr b="0" lang="it-IT" sz="3000" spc="-1" strike="noStrike">
                <a:solidFill>
                  <a:srgbClr val="669999"/>
                </a:solidFill>
                <a:latin typeface="Arial"/>
              </a:rPr>
              <a:t>circle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gt;Ask.com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0000"/>
                </a:solidFill>
                <a:latin typeface="Arial"/>
              </a:rPr>
              <a:t>&lt;/ul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Διατεταγμένες λίστε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9800" y="1557000"/>
            <a:ext cx="86709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0000"/>
                </a:solidFill>
                <a:latin typeface="Arial"/>
              </a:rPr>
              <a:t>&lt;ol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cccc00"/>
                </a:solidFill>
                <a:latin typeface="Arial"/>
              </a:rPr>
              <a:t>&lt;li&gt;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ogle</a:t>
            </a:r>
            <a:r>
              <a:rPr b="0" lang="it-IT" sz="3000" spc="-1" strike="noStrike">
                <a:solidFill>
                  <a:srgbClr val="cccc00"/>
                </a:solidFill>
                <a:latin typeface="Arial"/>
              </a:rPr>
              <a:t>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li </a:t>
            </a:r>
            <a:r>
              <a:rPr b="0" lang="it-IT" sz="3000" spc="-1" strike="noStrike">
                <a:solidFill>
                  <a:srgbClr val="330066"/>
                </a:solidFill>
                <a:latin typeface="Arial"/>
              </a:rPr>
              <a:t>type=1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gt;Bing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li type=</a:t>
            </a:r>
            <a:r>
              <a:rPr b="0" lang="it-IT" sz="3000" spc="-1" strike="noStrike">
                <a:solidFill>
                  <a:srgbClr val="7e9ce8"/>
                </a:solidFill>
                <a:latin typeface="Arial"/>
              </a:rPr>
              <a:t>a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ahoo!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li type=</a:t>
            </a:r>
            <a:r>
              <a:rPr b="0" lang="it-IT" sz="3000" spc="-1" strike="noStrike">
                <a:solidFill>
                  <a:srgbClr val="669999"/>
                </a:solidFill>
                <a:latin typeface="Arial"/>
              </a:rPr>
              <a:t>I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gt;Ask.com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0000"/>
                </a:solidFill>
                <a:latin typeface="Arial"/>
              </a:rPr>
              <a:t>&lt;/ol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Λίστες περιγραφής (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scription lists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9800" y="1557000"/>
            <a:ext cx="86709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&lt;dl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     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&lt;dt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oogle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&lt;/dt&gt;&lt;dd&gt;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i&gt;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ο καλύτερο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/i&gt;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&lt;/dd&gt;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&lt;dt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ahoo!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&lt;/dt&gt;&lt;dd&gt;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i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παλιός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/i&gt;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&lt;/dd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&lt;dt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ing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&lt;/dt&gt;&lt;dd&gt;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i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cro$oft :p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/i&gt;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&lt;/dd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&lt;dt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k.com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&lt;/dt&gt;&lt;dd&gt;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i&gt;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Πολύ καλή η ιδέα των ερωτήσεων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/i&gt;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&lt;/dd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&lt;/dl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. Meta tag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UTF-8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ISO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78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Εμφωλευμένες λίστε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9800" y="980640"/>
            <a:ext cx="867096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Arial"/>
              </a:rPr>
              <a:t>&lt;ul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669999"/>
                </a:solidFill>
                <a:latin typeface="Arial"/>
              </a:rPr>
              <a:t>&lt;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You have access to new media as it becomes public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330066"/>
                </a:solidFill>
                <a:latin typeface="Arial"/>
              </a:rPr>
              <a:t>&lt;ul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li&gt;New games&lt;/li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cc00"/>
                </a:solidFill>
                <a:latin typeface="Arial"/>
              </a:rPr>
              <a:t>&lt;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ew applicatio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7e9ce8"/>
                </a:solidFill>
                <a:latin typeface="Arial"/>
              </a:rPr>
              <a:t>&lt;ul&gt;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00ff"/>
                </a:solidFill>
                <a:latin typeface="Arial"/>
              </a:rPr>
              <a:t>&lt;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r business</a:t>
            </a:r>
            <a:r>
              <a:rPr b="0" lang="en-US" sz="1900" spc="-1" strike="noStrike">
                <a:solidFill>
                  <a:srgbClr val="cc00ff"/>
                </a:solidFill>
                <a:latin typeface="Arial"/>
              </a:rPr>
              <a:t>&lt;/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li&gt;For pleasure&lt;/li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900" spc="-1" strike="noStrike">
                <a:solidFill>
                  <a:srgbClr val="7e9ce8"/>
                </a:solidFill>
                <a:latin typeface="Arial"/>
              </a:rPr>
              <a:t>&lt;/ul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cc00"/>
                </a:solidFill>
                <a:latin typeface="Arial"/>
              </a:rPr>
              <a:t>&lt;/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li&gt;Around the clock news&lt;/li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cccc00"/>
                </a:solidFill>
                <a:latin typeface="Arial"/>
              </a:rPr>
              <a:t>	</a:t>
            </a:r>
            <a:r>
              <a:rPr b="0" lang="el-GR" sz="1900" spc="-1" strike="noStrike">
                <a:solidFill>
                  <a:srgbClr val="cccc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cc00"/>
                </a:solidFill>
                <a:latin typeface="Arial"/>
              </a:rPr>
              <a:t>&lt;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ogramm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900" spc="-1" strike="noStrike">
                <a:solidFill>
                  <a:srgbClr val="7e9ce8"/>
                </a:solidFill>
                <a:latin typeface="Arial"/>
              </a:rPr>
              <a:t>&lt;ul&gt;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c00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00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00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00ff"/>
                </a:solidFill>
                <a:latin typeface="Arial"/>
              </a:rPr>
              <a:t>&lt;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en-US" sz="1900" spc="-1" strike="noStrike">
                <a:solidFill>
                  <a:srgbClr val="cc00ff"/>
                </a:solidFill>
                <a:latin typeface="Arial"/>
              </a:rPr>
              <a:t>&lt;/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li&gt;Java&lt;/li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7e9ce8"/>
                </a:solidFill>
                <a:latin typeface="Arial"/>
              </a:rPr>
              <a:t>&lt;/ul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cccc00"/>
                </a:solidFill>
                <a:latin typeface="Arial"/>
              </a:rPr>
              <a:t>	</a:t>
            </a:r>
            <a:r>
              <a:rPr b="0" lang="el-GR" sz="1900" spc="-1" strike="noStrike">
                <a:solidFill>
                  <a:srgbClr val="cccc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cc00"/>
                </a:solidFill>
                <a:latin typeface="Arial"/>
              </a:rPr>
              <a:t>&lt;/li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900" spc="-1" strike="noStrike">
                <a:solidFill>
                  <a:srgbClr val="330066"/>
                </a:solidFill>
                <a:latin typeface="Arial"/>
              </a:rPr>
              <a:t>&lt;/ul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900" spc="-1" strike="noStrike">
                <a:solidFill>
                  <a:srgbClr val="669999"/>
                </a:solidFill>
                <a:latin typeface="Arial"/>
              </a:rPr>
              <a:t>&lt;/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li&gt;Keeping in touch with old friends&lt;/li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Arial"/>
              </a:rPr>
              <a:t>&lt;/ul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ink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9800" y="1557000"/>
            <a:ext cx="86709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500" spc="-1" strike="noStrike">
                <a:solidFill>
                  <a:srgbClr val="ff9900"/>
                </a:solidFill>
                <a:latin typeface="Arial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href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= "</a:t>
            </a:r>
            <a:r>
              <a:rPr b="0" lang="en-US" sz="2500" spc="-1" strike="noStrike">
                <a:solidFill>
                  <a:srgbClr val="330066"/>
                </a:solidFill>
                <a:latin typeface="Arial"/>
              </a:rPr>
              <a:t>http://www.gmail.com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"&gt;Google Mail</a:t>
            </a:r>
            <a:r>
              <a:rPr b="0" lang="en-US" sz="2500" spc="-1" strike="noStrike">
                <a:solidFill>
                  <a:srgbClr val="ff9900"/>
                </a:solidFill>
                <a:latin typeface="Arial"/>
              </a:rPr>
              <a:t>&lt;/a&gt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&lt;a href = "</a:t>
            </a:r>
            <a:r>
              <a:rPr b="0" lang="en-US" sz="2500" spc="-1" strike="noStrike">
                <a:solidFill>
                  <a:srgbClr val="cccc00"/>
                </a:solidFill>
                <a:latin typeface="Arial"/>
              </a:rPr>
              <a:t>links2.html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"&gt;Another page on the same folder&lt;/a&gt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&lt;a href = "</a:t>
            </a:r>
            <a:r>
              <a:rPr b="0" lang="en-US" sz="2500" spc="-1" strike="noStrike">
                <a:solidFill>
                  <a:srgbClr val="669999"/>
                </a:solidFill>
                <a:latin typeface="Arial"/>
              </a:rPr>
              <a:t>mailto: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tefanis@ceid.upatras.gr"&gt;email me&lt;/a&gt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&lt;a href = "</a:t>
            </a:r>
            <a:r>
              <a:rPr b="0" lang="en-US" sz="2500" spc="-1" strike="noStrike">
                <a:solidFill>
                  <a:srgbClr val="7e9ce8"/>
                </a:solidFill>
                <a:latin typeface="Arial"/>
              </a:rPr>
              <a:t>#bottom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"&gt;Go to the bottom of this page&lt;/a&gt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&lt;a </a:t>
            </a:r>
            <a:r>
              <a:rPr b="0" lang="en-US" sz="2500" spc="-1" strike="noStrike">
                <a:solidFill>
                  <a:srgbClr val="7e9ce8"/>
                </a:solidFill>
                <a:latin typeface="Arial"/>
              </a:rPr>
              <a:t>name="bottom"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&gt;&lt;h2&gt;Here is the bottom&lt;/h2&gt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Εικόνες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9800" y="1557000"/>
            <a:ext cx="86709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im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src = "stoneage2.jpg"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669999"/>
                </a:solidFill>
                <a:latin typeface="Arial"/>
              </a:rPr>
              <a:t>alt = "New email"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a href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“</a:t>
            </a:r>
            <a:r>
              <a:rPr b="0" lang="en-US" sz="3000" spc="-1" strike="noStrike">
                <a:solidFill>
                  <a:srgbClr val="cccc00"/>
                </a:solidFill>
                <a:latin typeface="Arial"/>
              </a:rPr>
              <a:t>../03/links.htm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7e9ce8"/>
                </a:solidFill>
                <a:latin typeface="Arial"/>
              </a:rPr>
              <a:t>&lt;img src = "stoneage2.jpg" alt = "New email"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img </a:t>
            </a:r>
            <a:r>
              <a:rPr b="0" lang="en-US" sz="3000" spc="-1" strike="noStrike">
                <a:solidFill>
                  <a:srgbClr val="ff9900"/>
                </a:solidFill>
                <a:latin typeface="Arial"/>
              </a:rPr>
              <a:t>border = “0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rc = "stoneage2.jpg"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TM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yper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ext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arkup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angu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11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ML 4.01 (199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11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ML 5.2 (20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Ένα HTML αρχείο είναι ένα αρχείο κειμένου που περιέχει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markup tags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α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gs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λένε στο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Browser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ώς να παρουσιάσει το περιεχόμενο της σελίδα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α HTML αρχεία έχουν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htm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ή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καταλήξει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Ένα HTML αρχείο μπορεί να δημιουργηθεί χρησιμοποιώντας έναν απλό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text editor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(π.χ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pad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Πίνακε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9800" y="1557000"/>
            <a:ext cx="86709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tab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669999"/>
                </a:solidFill>
                <a:latin typeface="Arial"/>
              </a:rPr>
              <a:t>border = "1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Arial"/>
              </a:rPr>
              <a:t>width = "40%" </a:t>
            </a:r>
            <a:r>
              <a:rPr b="0" lang="en-US" sz="2600" spc="-1" strike="noStrike">
                <a:solidFill>
                  <a:srgbClr val="cc00ff"/>
                </a:solidFill>
                <a:latin typeface="Arial"/>
              </a:rPr>
              <a:t>align = "center"</a:t>
            </a:r>
            <a:r>
              <a:rPr b="0" lang="en-US" sz="26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7e9ce8"/>
                </a:solidFill>
                <a:latin typeface="Arial"/>
              </a:rPr>
              <a:t>&lt;caption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re is a small sample table</a:t>
            </a:r>
            <a:r>
              <a:rPr b="0" lang="en-US" sz="2600" spc="-1" strike="noStrike">
                <a:solidFill>
                  <a:srgbClr val="7e9ce8"/>
                </a:solidFill>
                <a:latin typeface="Arial"/>
              </a:rPr>
              <a:t>&lt;/caption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0066"/>
                </a:solidFill>
                <a:latin typeface="Arial"/>
              </a:rPr>
              <a:t>&lt;tr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cccc00"/>
                </a:solidFill>
                <a:latin typeface="Arial"/>
              </a:rPr>
              <a:t>&lt;th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is the head.</a:t>
            </a:r>
            <a:r>
              <a:rPr b="0" lang="en-US" sz="2600" spc="-1" strike="noStrike">
                <a:solidFill>
                  <a:srgbClr val="cccc00"/>
                </a:solidFill>
                <a:latin typeface="Arial"/>
              </a:rPr>
              <a:t>&lt;/th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0066"/>
                </a:solidFill>
                <a:latin typeface="Arial"/>
              </a:rPr>
              <a:t>&lt;/tr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9900"/>
                </a:solidFill>
                <a:latin typeface="Arial"/>
              </a:rPr>
              <a:t>&lt;td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is the body.</a:t>
            </a:r>
            <a:r>
              <a:rPr b="0" lang="en-US" sz="2600" spc="-1" strike="noStrike">
                <a:solidFill>
                  <a:srgbClr val="ff9900"/>
                </a:solidFill>
                <a:latin typeface="Arial"/>
              </a:rPr>
              <a:t>&lt;/td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/tab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Το στοιχείο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able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 - παράμετρο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9800" y="1719000"/>
            <a:ext cx="867096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ign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= {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ft, right, center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ην οριζόντια τοποθέτηση του πίνακ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dth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45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50%} 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ο πλάτος του πίνακ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rder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 {0,1,…} 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ο πλάτος του περιγράμματο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00"/>
                </a:solidFill>
                <a:latin typeface="Arial"/>
              </a:rPr>
              <a:t>cellspacing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 {0,1,…} :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το κενό μεταξύ γειτονικών κελιών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9999"/>
                </a:solidFill>
                <a:latin typeface="Arial"/>
              </a:rPr>
              <a:t>cellpadding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: το κενό μεταξύ κελιού και περιεχομένω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caption align = {top, bottom}&gt;…&lt;/caption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84320" y="304560"/>
            <a:ext cx="8038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Ένας πολύπλοκος πίνακα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12840" y="1066680"/>
            <a:ext cx="88279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&lt;table border = "1"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h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owspan = "2"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lt;img src = "camel.gif"&gt;&lt;/t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h </a:t>
            </a:r>
            <a:r>
              <a:rPr b="0" lang="en-US" sz="2400" spc="-1" strike="noStrike">
                <a:solidFill>
                  <a:srgbClr val="cccc00"/>
                </a:solidFill>
                <a:latin typeface="Arial"/>
              </a:rPr>
              <a:t>colspan = "4"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lign = "top"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1&gt;Camelid comparison&lt;/h1&gt;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t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r </a:t>
            </a:r>
            <a:r>
              <a:rPr b="0" lang="en-US" sz="2400" spc="-1" strike="noStrike">
                <a:solidFill>
                  <a:srgbClr val="669999"/>
                </a:solidFill>
                <a:latin typeface="Arial"/>
              </a:rPr>
              <a:t>valign = "bottom"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h&gt;# of Humps&lt;/t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h&gt;Indigenous region&lt;/t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h&gt;Spits?&lt;/t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h&gt;Produces Wool?&lt;/t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tr&gt;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 / th / td 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- παράμετρο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9440" y="1719000"/>
            <a:ext cx="892836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wrap 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απαγορεύει την αναδίπλωση κειμένο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rowspa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{int} :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τις γραμμές που καταλαμβάνονται από το κελ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colspan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: τις στήλες που καταλαμβάνοντα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dth / height 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το πλάτος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ύψος του κελιο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ign / valign 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οριζόντια / κάθετη ευθυγράμμιση των περιεχομένων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gcol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Φόρμε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9800" y="1557000"/>
            <a:ext cx="86709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or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cccc00"/>
                </a:solidFill>
                <a:latin typeface="Arial"/>
              </a:rPr>
              <a:t>method = "post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669999"/>
                </a:solidFill>
                <a:latin typeface="Arial"/>
              </a:rPr>
              <a:t>action = "formmail</a:t>
            </a:r>
            <a:r>
              <a:rPr b="0" lang="el-GR" sz="2600" spc="-1" strike="noStrike">
                <a:solidFill>
                  <a:srgbClr val="669999"/>
                </a:solidFill>
                <a:latin typeface="Arial"/>
              </a:rPr>
              <a:t>.</a:t>
            </a:r>
            <a:r>
              <a:rPr b="0" lang="en-US" sz="2600" spc="-1" strike="noStrike">
                <a:solidFill>
                  <a:srgbClr val="669999"/>
                </a:solidFill>
                <a:latin typeface="Arial"/>
              </a:rPr>
              <a:t>asp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600" spc="-1" strike="noStrike">
                <a:solidFill>
                  <a:srgbClr val="cc00ff"/>
                </a:solidFill>
                <a:latin typeface="Arial"/>
              </a:rPr>
              <a:t>inpu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7e9ce8"/>
                </a:solidFill>
                <a:latin typeface="Arial"/>
              </a:rPr>
              <a:t>type = "hidden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9900"/>
                </a:solidFill>
                <a:latin typeface="Arial"/>
              </a:rPr>
              <a:t>name = "subject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value = "Feedback Form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m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input </a:t>
            </a:r>
            <a:r>
              <a:rPr b="0" lang="en-US" sz="2600" spc="-1" strike="noStrike">
                <a:solidFill>
                  <a:srgbClr val="ff9900"/>
                </a:solidFill>
                <a:latin typeface="Arial"/>
              </a:rPr>
              <a:t>name = "name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7e9ce8"/>
                </a:solidFill>
                <a:latin typeface="Arial"/>
              </a:rPr>
              <a:t>type = "text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ize = "25"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input </a:t>
            </a:r>
            <a:r>
              <a:rPr b="0" lang="en-US" sz="2600" spc="-1" strike="noStrike">
                <a:solidFill>
                  <a:srgbClr val="7e9ce8"/>
                </a:solidFill>
                <a:latin typeface="Arial"/>
              </a:rPr>
              <a:t>type = "submit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value = "Submit Your Entries"&gt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input </a:t>
            </a:r>
            <a:r>
              <a:rPr b="0" lang="en-US" sz="2600" spc="-1" strike="noStrike">
                <a:solidFill>
                  <a:srgbClr val="7e9ce8"/>
                </a:solidFill>
                <a:latin typeface="Arial"/>
              </a:rPr>
              <a:t>type = "reset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value = "Clear Your Entries"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&lt;/form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Το στοιχείο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orm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 - παράμετρο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9800" y="1719000"/>
            <a:ext cx="867096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ac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ορίζει το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rl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που θα χρησιμοποιηθεί από τον εξυπηρετητή για να επεξεργαστεί τα δεδομένα της φόρμα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cc00"/>
                </a:solidFill>
                <a:latin typeface="Arial"/>
              </a:rPr>
              <a:t>method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= {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t, post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ορίζει τη μέθοδο αποστολής των περιεχομένων της φόρμα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 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τέλνει τα περιεχόμενα σαν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ery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το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r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st 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α στέλνει στο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ώμα του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μηνύματο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9999"/>
                </a:solidFill>
                <a:latin typeface="Arial"/>
              </a:rPr>
              <a:t>enctype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καθορίζει τον τύπο αποκωδικοποίησης των περιεχομένω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Μία πολύπλοκη φόρμα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7320" y="1557000"/>
            <a:ext cx="90835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form method = "post" action = " formmail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p"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ents: &lt;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extare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7e9ce8"/>
                </a:solidFill>
                <a:latin typeface="Arial"/>
              </a:rPr>
              <a:t>name = "comments"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cccc00"/>
                </a:solidFill>
                <a:latin typeface="Arial"/>
              </a:rPr>
              <a:t>rows = "4"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669999"/>
                </a:solidFill>
                <a:latin typeface="Arial"/>
              </a:rPr>
              <a:t>cols = "36"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lo to our lesson!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&lt;/textarea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il Addres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np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name = "email" </a:t>
            </a:r>
            <a:r>
              <a:rPr b="0" lang="en-US" sz="2200" spc="-1" strike="noStrike">
                <a:solidFill>
                  <a:srgbClr val="ff9900"/>
                </a:solidFill>
                <a:latin typeface="Arial"/>
              </a:rPr>
              <a:t>type = "password"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size = "25"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te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np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30066"/>
                </a:solidFill>
                <a:latin typeface="Arial"/>
              </a:rPr>
              <a:t>name = "thingsliked"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9900"/>
                </a:solidFill>
                <a:latin typeface="Arial"/>
              </a:rPr>
              <a:t>type = "checkbox"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value = "Design"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n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input </a:t>
            </a:r>
            <a:r>
              <a:rPr b="0" lang="en-US" sz="2200" spc="-1" strike="noStrike">
                <a:solidFill>
                  <a:srgbClr val="330066"/>
                </a:solidFill>
                <a:latin typeface="Arial"/>
              </a:rPr>
              <a:t>name = "thingsliked"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9900"/>
                </a:solidFill>
                <a:latin typeface="Arial"/>
              </a:rPr>
              <a:t>type = "checkbox"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value = "Links"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se of us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input </a:t>
            </a:r>
            <a:r>
              <a:rPr b="0" lang="en-US" sz="2200" spc="-1" strike="noStrike">
                <a:solidFill>
                  <a:srgbClr val="330066"/>
                </a:solidFill>
                <a:latin typeface="Arial"/>
              </a:rPr>
              <a:t>name = "thingsliked"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ype = "checkbox"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value = "Ease"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84320" y="274320"/>
            <a:ext cx="8038800" cy="71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Άλλη μία φόρμα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7320" y="1066680"/>
            <a:ext cx="9083520" cy="56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form method = "post" action = "formmail.asp"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arch engine &lt;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np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30066"/>
                </a:solidFill>
                <a:latin typeface="Arial"/>
              </a:rPr>
              <a:t>name = "how_get_to_site"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cccc00"/>
                </a:solidFill>
                <a:latin typeface="Arial"/>
              </a:rPr>
              <a:t>type = "radio"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669999"/>
                </a:solidFill>
                <a:latin typeface="Arial"/>
              </a:rPr>
              <a:t>value = "search engine"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cc00ff"/>
                </a:solidFill>
                <a:latin typeface="Arial"/>
              </a:rPr>
              <a:t>checke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nks from another site &lt;input </a:t>
            </a:r>
            <a:r>
              <a:rPr b="0" lang="en-US" sz="2200" spc="-1" strike="noStrike">
                <a:solidFill>
                  <a:srgbClr val="330066"/>
                </a:solidFill>
                <a:latin typeface="Arial"/>
              </a:rPr>
              <a:t>name = " how_get_to_site "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cccc00"/>
                </a:solidFill>
                <a:latin typeface="Arial"/>
              </a:rPr>
              <a:t>type = "radio"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669999"/>
                </a:solidFill>
                <a:latin typeface="Arial"/>
              </a:rPr>
              <a:t>value = "link"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ogle.com Web site &lt;input </a:t>
            </a:r>
            <a:r>
              <a:rPr b="0" lang="en-US" sz="2200" spc="-1" strike="noStrike">
                <a:solidFill>
                  <a:srgbClr val="330066"/>
                </a:solidFill>
                <a:latin typeface="Arial"/>
              </a:rPr>
              <a:t>name = " how_get_to_site "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cccc00"/>
                </a:solidFill>
                <a:latin typeface="Arial"/>
              </a:rPr>
              <a:t>type = "radio"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value = “google.com"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te our site: &lt;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le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30066"/>
                </a:solidFill>
                <a:latin typeface="Arial"/>
              </a:rPr>
              <a:t>name = "rating"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option </a:t>
            </a:r>
            <a:r>
              <a:rPr b="0" lang="en-US" sz="2200" spc="-1" strike="noStrike">
                <a:solidFill>
                  <a:srgbClr val="cc00ff"/>
                </a:solidFill>
                <a:latin typeface="Arial"/>
              </a:rPr>
              <a:t>selecte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Amazing:-)&lt;/option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&lt;option&gt;10&lt;/option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option&gt;5&lt;/option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option&gt;1&lt;/option&gt;&lt;option&gt;The Pits:-(&lt;/option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&lt;/select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Το στοιχείο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or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9800" y="1719000"/>
            <a:ext cx="867096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inpu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παίρνει διάφορες παραμέτρου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Απαγορεύεται να υπάρχει ετικέτα τέλους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/input&gt;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cc00"/>
                </a:solidFill>
                <a:latin typeface="Arial"/>
              </a:rPr>
              <a:t>textarea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για πεδία κειμένου πολλαπλών γραμμών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ws / colum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/textarea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9999"/>
                </a:solidFill>
                <a:latin typeface="Arial"/>
              </a:rPr>
              <a:t>select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μονής ή πολλαπλής επιλογής μενο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tion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/select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4"/>
          <p:cNvSpPr/>
          <p:nvPr/>
        </p:nvSpPr>
        <p:spPr>
          <a:xfrm>
            <a:off x="7518240" y="2514600"/>
            <a:ext cx="1252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12480" y="122400"/>
            <a:ext cx="767556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500" spc="-1" strike="noStrike">
                <a:solidFill>
                  <a:srgbClr val="330066"/>
                </a:solidFill>
                <a:latin typeface="Arial"/>
              </a:rPr>
              <a:t>Το στοιχείο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Input – </a:t>
            </a:r>
            <a:br>
              <a:rPr sz="3500"/>
            </a:br>
            <a:r>
              <a:rPr b="1" lang="el-GR" sz="3500" spc="-1" strike="noStrike">
                <a:solidFill>
                  <a:srgbClr val="330066"/>
                </a:solidFill>
                <a:latin typeface="Arial"/>
              </a:rPr>
              <a:t>παράμετρος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typ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9800" y="1719000"/>
            <a:ext cx="867096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Καθορίζει τον τύπο του πεδίου εισόδο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l-GR" sz="28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Πλήρης λίστ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ex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κείμενο μίας γραμμής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,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asswo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όμοιο με τον τύπο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, αλλά απεικονίζει τον χαρακτήρα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heckbo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δημιουργεί ζεύγος ονόματος/τιμής, υποστηρίζονται πολλαπλές τιμές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adi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δέχεται μόνο μία τιμή, μία ομάδα επιλογών έχει το ίδιο όνομ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αποστολή δεδομένω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s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: «καθαρίζει» τα περιεχόμεν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Χρονοδιάγραμμα Ανάπτυξης του Προτύπου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69440" y="1719360"/>
            <a:ext cx="8458200" cy="50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Πηγή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s://slideplayer.com/slide/14830329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Εικόνα 3" descr=""/>
          <p:cNvPicPr/>
          <p:nvPr/>
        </p:nvPicPr>
        <p:blipFill>
          <a:blip r:embed="rId1"/>
          <a:stretch/>
        </p:blipFill>
        <p:spPr>
          <a:xfrm>
            <a:off x="1521000" y="1792440"/>
            <a:ext cx="635616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Γιατί τα εισαγωγικά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3187800" y="1579680"/>
            <a:ext cx="2798640" cy="26143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"/>
          <p:cNvPicPr/>
          <p:nvPr/>
        </p:nvPicPr>
        <p:blipFill>
          <a:blip r:embed="rId2"/>
          <a:stretch/>
        </p:blipFill>
        <p:spPr>
          <a:xfrm>
            <a:off x="480960" y="5157720"/>
            <a:ext cx="1182600" cy="1084320"/>
          </a:xfrm>
          <a:prstGeom prst="rect">
            <a:avLst/>
          </a:prstGeom>
          <a:ln w="0">
            <a:noFill/>
          </a:ln>
        </p:spPr>
      </p:pic>
      <p:sp>
        <p:nvSpPr>
          <p:cNvPr id="226" name="6 - Επεξήγηση με στρογγυλεμένο παραλληλόγραμμο"/>
          <p:cNvSpPr/>
          <p:nvPr/>
        </p:nvSpPr>
        <p:spPr>
          <a:xfrm>
            <a:off x="5661000" y="3429000"/>
            <a:ext cx="2293920" cy="1079640"/>
          </a:xfrm>
          <a:prstGeom prst="wedgeRoundRectCallout">
            <a:avLst>
              <a:gd name="adj1" fmla="val -3055"/>
              <a:gd name="adj2" fmla="val 111217"/>
              <a:gd name="adj3" fmla="val 16667"/>
            </a:avLst>
          </a:prstGeom>
          <a:solidFill>
            <a:srgbClr val="bfbfb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Βάλε εισαγωγικά στη λέξη γλώσσα!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7 - Επεξήγηση με σύννεφο"/>
          <p:cNvSpPr/>
          <p:nvPr/>
        </p:nvSpPr>
        <p:spPr>
          <a:xfrm>
            <a:off x="1517760" y="3573360"/>
            <a:ext cx="3403440" cy="1368360"/>
          </a:xfrm>
          <a:prstGeom prst="cloudCallout">
            <a:avLst>
              <a:gd name="adj1" fmla="val -41925"/>
              <a:gd name="adj2" fmla="val 90240"/>
            </a:avLst>
          </a:prstGeom>
          <a:solidFill>
            <a:srgbClr val="bfbfb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ιλάς με γρίφους γέροντα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7" descr=""/>
          <p:cNvPicPr/>
          <p:nvPr/>
        </p:nvPicPr>
        <p:blipFill>
          <a:blip r:embed="rId3"/>
          <a:stretch/>
        </p:blipFill>
        <p:spPr>
          <a:xfrm>
            <a:off x="6919920" y="5100480"/>
            <a:ext cx="2478240" cy="17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0066"/>
                </a:solidFill>
                <a:latin typeface="Arial"/>
              </a:rPr>
              <a:t>Η 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HTML</a:t>
            </a:r>
            <a:r>
              <a:rPr b="1" lang="el-GR" sz="3200" spc="-1" strike="noStrike">
                <a:solidFill>
                  <a:srgbClr val="330066"/>
                </a:solidFill>
                <a:latin typeface="Arial"/>
              </a:rPr>
              <a:t> δεν είναι γλώσσα προγραμματισμου!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9440" y="1719000"/>
            <a:ext cx="8458200" cy="25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Είναι απλά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rkup.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Γιατί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81400" indent="-2919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Δεν έχει δομές ελέγχου και επανάληψη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1400" indent="-2919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Δε δηλώνεις μεταβλητέ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1400" indent="-2919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Δε γράφεις συναρτήσει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1400" indent="-2919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Δε κάνεις λογικού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1400" indent="-291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&amp; μαθηματικούς υπολογισμού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3 - Εικόνα" descr="11.jpg"/>
          <p:cNvPicPr/>
          <p:nvPr/>
        </p:nvPicPr>
        <p:blipFill>
          <a:blip r:embed="rId1"/>
          <a:stretch/>
        </p:blipFill>
        <p:spPr>
          <a:xfrm>
            <a:off x="5956200" y="2766960"/>
            <a:ext cx="344340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TML5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W3C </a:t>
            </a:r>
            <a:r>
              <a:rPr b="0" lang="en-US" sz="2800" spc="-1" strike="noStrike" u="sng">
                <a:solidFill>
                  <a:srgbClr val="7e9ce8"/>
                </a:solidFill>
                <a:uFillTx/>
                <a:latin typeface="Wingdings"/>
                <a:ea typeface="Wingdings"/>
                <a:hlinkClick r:id="rId2"/>
              </a:rPr>
              <a:t></a:t>
            </a:r>
            <a:r>
              <a:rPr b="0" lang="en-US" sz="2800" spc="-1" strike="noStrike" u="sng">
                <a:solidFill>
                  <a:srgbClr val="7e9ce8"/>
                </a:solidFill>
                <a:uFillTx/>
                <a:latin typeface="Wingdings"/>
                <a:ea typeface="Wingdings"/>
                <a:hlinkClick r:id="rId3"/>
              </a:rPr>
              <a:t> </a:t>
            </a:r>
            <a:r>
              <a:rPr b="0" lang="el-GR" sz="2800" spc="-1" strike="noStrike" u="sng">
                <a:solidFill>
                  <a:srgbClr val="7e9ce8"/>
                </a:solidFill>
                <a:uFillTx/>
                <a:latin typeface="Wingdings"/>
                <a:ea typeface="Wingdings"/>
                <a:hlinkClick r:id="rId4"/>
              </a:rPr>
              <a:t>Διαφορές ανάμεσα σε </a:t>
            </a:r>
            <a:r>
              <a:rPr b="0" lang="en-US" sz="2800" spc="-1" strike="noStrike" u="sng">
                <a:solidFill>
                  <a:srgbClr val="7e9ce8"/>
                </a:solidFill>
                <a:uFillTx/>
                <a:latin typeface="Wingdings"/>
                <a:ea typeface="Wingdings"/>
                <a:hlinkClick r:id="rId5"/>
              </a:rPr>
              <a:t>HTML4 </a:t>
            </a:r>
            <a:r>
              <a:rPr b="0" lang="el-GR" sz="2800" spc="-1" strike="noStrike" u="sng">
                <a:solidFill>
                  <a:srgbClr val="7e9ce8"/>
                </a:solidFill>
                <a:uFillTx/>
                <a:latin typeface="Wingdings"/>
                <a:ea typeface="Wingdings"/>
                <a:hlinkClick r:id="rId6"/>
              </a:rPr>
              <a:t>και </a:t>
            </a:r>
            <a:r>
              <a:rPr b="0" lang="en-US" sz="2800" spc="-1" strike="noStrike" u="sng">
                <a:solidFill>
                  <a:srgbClr val="7e9ce8"/>
                </a:solidFill>
                <a:uFillTx/>
                <a:latin typeface="Wingdings"/>
                <a:ea typeface="Wingdings"/>
                <a:hlinkClick r:id="rId7"/>
              </a:rPr>
              <a:t>HTML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Το νέ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ρότυπο για την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Νέα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s – Attrib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ειώνει την ανάγκη για εξωτερικά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ugins (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.χ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s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/3D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γραφικ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Ανεξαρτησία από συσκευές - πλατφόρμε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Καλύτερη διαχείριση σφαλμάτω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Νέα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leme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1517760" y="1468440"/>
            <a:ext cx="652608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Νέα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leme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37" name="Picture 3" descr=""/>
          <p:cNvPicPr/>
          <p:nvPr/>
        </p:nvPicPr>
        <p:blipFill>
          <a:blip r:embed="rId1"/>
          <a:stretch/>
        </p:blipFill>
        <p:spPr>
          <a:xfrm>
            <a:off x="2035080" y="1413000"/>
            <a:ext cx="545148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Νέα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ttribut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Π.χ.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select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1220760" y="2492280"/>
            <a:ext cx="72151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Μερικά παραδείγματα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ML5 canv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HTML5 drag and dr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3"/>
              </a:rPr>
              <a:t>HTML5 geolo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4"/>
              </a:rPr>
              <a:t>HTML5 aud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5"/>
              </a:rPr>
              <a:t>HTML5 vide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alid HTM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3C Valid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validator.w3.or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Δηλαδή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Όλα τα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gs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πρέπει να «κλείνουν» και με τη σωστή σειρ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Υποχρεωτικά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case ta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Οι ιδιότητες στα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gs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ανάμεσα σ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Και πολλά άλλα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Μια χαρά εμφανίζετα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 u="sng">
                <a:solidFill>
                  <a:srgbClr val="7e9ce8"/>
                </a:solidFill>
                <a:uFillTx/>
                <a:latin typeface="Arial"/>
                <a:hlinkClick r:id="rId3"/>
              </a:rPr>
              <a:t>Γιατί είναι σημαντικό να γράφουμε </a:t>
            </a:r>
            <a:r>
              <a:rPr b="0" lang="en-US" sz="2800" spc="-1" strike="noStrike" u="sng">
                <a:solidFill>
                  <a:srgbClr val="7e9ce8"/>
                </a:solidFill>
                <a:uFillTx/>
                <a:latin typeface="Arial"/>
                <a:hlinkClick r:id="rId4"/>
              </a:rPr>
              <a:t>valid 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12480" y="122400"/>
            <a:ext cx="767556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ascading Style Sheet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9800" y="1719000"/>
            <a:ext cx="867096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Καθορίζουν το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yle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, τη δομή και τη θέση των στοιχείων μέσα στο αρχεί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Κάνουν εφικτό το διαχωρισμό της εμφάνισης των δεδομένων και των ίδιων των δεδομένω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Ο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id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τρόπος για μορφοποίηση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Σύνταξ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or {property: valu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perty2: value2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sele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html tag – {body, p, h1,…}, class name, id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: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ο χαρακτηριστικό που θέλουμε να αλλάξουμ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4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, font-family, text-al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12480" y="122400"/>
            <a:ext cx="76755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500" spc="-1" strike="noStrike">
                <a:solidFill>
                  <a:srgbClr val="330066"/>
                </a:solidFill>
                <a:latin typeface="Arial"/>
              </a:rPr>
              <a:t>Τρόποι εισαγωγής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tyle sheet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69800" y="1219320"/>
            <a:ext cx="86709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line sty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Καθορίζει το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yle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για συγκεκριμένα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Χρήση του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tribute “style”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μέσα σε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Μπορεί να καθορίσει πολλά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rnal styles she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Ορίζεται μέσα στο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head&gt;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με το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g &lt;style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Επηρεάζει τα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ements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τα οποία αναφέρετα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ternal style she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Δημιουργία ξεχωριστού αρχείου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ss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με το οποίο συνδέεται το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ml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αρχεί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Ιδανικό όταν το ίδιο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yle sheet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εφαρμόζεται σε περισσότερα από ένα αντικείμεν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Στοιχεία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TM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ML elements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α μεμονωμένα συστατικά στοιχεία ενό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ML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γγράφο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Προσδίδουν σημασιολογία ή νόημα στο περιεχόμενο (π.χ. το στοιχείο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Γενική μορφή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&lt;ετικέτα ιδιότητα1="τιμή1" ιδιότητα2="τιμή2"&gt;περιεχόμενο&lt;/ετικέτα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.χ. </a:t>
            </a:r>
            <a:r>
              <a:rPr b="0" lang="en-US" sz="2000" spc="-1" strike="noStrike">
                <a:solidFill>
                  <a:srgbClr val="ad5cff"/>
                </a:solidFill>
                <a:latin typeface="Arial"/>
              </a:rPr>
              <a:t>&lt;p</a:t>
            </a:r>
            <a:r>
              <a:rPr b="0" lang="el-GR" sz="2000" spc="-1" strike="noStrike">
                <a:solidFill>
                  <a:srgbClr val="ad5c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ad5cff"/>
                </a:solidFill>
                <a:latin typeface="Arial"/>
              </a:rPr>
              <a:t>align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l-GR" sz="2000" spc="-1" strike="noStrike">
                <a:solidFill>
                  <a:srgbClr val="ad5cff"/>
                </a:solidFill>
                <a:latin typeface="Arial"/>
              </a:rPr>
              <a:t>="</a:t>
            </a:r>
            <a:r>
              <a:rPr b="0" i="1" lang="en-US" sz="2000" spc="-1" strike="noStrike">
                <a:solidFill>
                  <a:srgbClr val="ad5cff"/>
                </a:solidFill>
                <a:latin typeface="Arial"/>
              </a:rPr>
              <a:t>center</a:t>
            </a:r>
            <a:r>
              <a:rPr b="0" i="1" lang="el-GR" sz="2000" spc="-1" strike="noStrike">
                <a:solidFill>
                  <a:srgbClr val="ad5cff"/>
                </a:solidFill>
                <a:latin typeface="Arial"/>
              </a:rPr>
              <a:t>" </a:t>
            </a:r>
            <a:r>
              <a:rPr b="0" lang="en-US" sz="2000" spc="-1" strike="noStrike">
                <a:solidFill>
                  <a:srgbClr val="ad5cff"/>
                </a:solidFill>
                <a:latin typeface="Arial"/>
              </a:rPr>
              <a:t>&gt;Welcome to Our Web Site!&lt;/p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Άδεια στοιχεία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&lt;ετικέτα ιδιότητα1="τιμή1" ιδιότητα2="τιμή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.χ. </a:t>
            </a:r>
            <a:r>
              <a:rPr b="0" lang="en-US" sz="2000" spc="-1" strike="noStrike">
                <a:solidFill>
                  <a:srgbClr val="7e9ce8"/>
                </a:solidFill>
                <a:latin typeface="Arial"/>
              </a:rPr>
              <a:t>&lt;img src = "stoneage2.jpg" alt = "New emai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line styl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69800" y="1676160"/>
            <a:ext cx="867096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p&gt;This text does not have any style applied to it.&lt;/p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style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= "</a:t>
            </a:r>
            <a:r>
              <a:rPr b="0" lang="it-IT" sz="2600" spc="-1" strike="noStrike">
                <a:solidFill>
                  <a:srgbClr val="cc00ff"/>
                </a:solidFill>
                <a:latin typeface="Arial"/>
              </a:rPr>
              <a:t>font-size: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0000ff"/>
                </a:solidFill>
                <a:latin typeface="Arial"/>
              </a:rPr>
              <a:t>20pt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"&gt;This text has the &lt;em&gt;font-size&lt;/em&gt;style applied to it, making it 20pt.&lt;/p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style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= "</a:t>
            </a:r>
            <a:r>
              <a:rPr b="0" lang="it-IT" sz="2600" spc="-1" strike="noStrike">
                <a:solidFill>
                  <a:srgbClr val="cc00ff"/>
                </a:solidFill>
                <a:latin typeface="Arial"/>
              </a:rPr>
              <a:t>font-size: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0000ff"/>
                </a:solidFill>
                <a:latin typeface="Arial"/>
              </a:rPr>
              <a:t>20pt</a:t>
            </a:r>
            <a:r>
              <a:rPr b="1" lang="it-IT" sz="2600" spc="-1" strike="noStrike">
                <a:solidFill>
                  <a:srgbClr val="ff0000"/>
                </a:solidFill>
                <a:latin typeface="Arial"/>
              </a:rPr>
              <a:t>;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cc00ff"/>
                </a:solidFill>
                <a:latin typeface="Arial"/>
              </a:rPr>
              <a:t>color: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0000ff"/>
                </a:solidFill>
                <a:latin typeface="Arial"/>
              </a:rPr>
              <a:t>#0000ff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"&gt;This text has the &lt;em&gt;font-size&lt;/em&gt; and &lt;em&gt;color&lt;/em&gt; styles applied to it, making it 20pt. and blue.&lt;/p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ονάδα μέτρηση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t (point):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Ισούται με το 1/72 της ίντσα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ternal style sheet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1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69800" y="1676160"/>
            <a:ext cx="867096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7e9ce8"/>
                </a:solidFill>
                <a:latin typeface="Arial"/>
              </a:rPr>
              <a:t>&lt;head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style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669999"/>
                </a:solidFill>
                <a:latin typeface="Arial"/>
              </a:rPr>
              <a:t>type = "text/css"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em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{ background-color: #8000ff; color: white }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h1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{ font-family: arial, sans-serif 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{ font-size: 14pt 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cc00ff"/>
                </a:solidFill>
                <a:latin typeface="Arial"/>
              </a:rPr>
              <a:t>.special</a:t>
            </a:r>
            <a:r>
              <a:rPr b="0" lang="it-IT" sz="2600" spc="-1" strike="noStrike">
                <a:solidFill>
                  <a:srgbClr val="cc00ff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cc00ff"/>
                </a:solidFill>
                <a:latin typeface="Arial"/>
              </a:rPr>
              <a:t>{ color: blue }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&lt;/style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7e9ce8"/>
                </a:solidFill>
                <a:latin typeface="Arial"/>
              </a:rPr>
              <a:t>&lt;/head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class attribute : &lt;p class=“special”&gt;…&lt;/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ternal style sheet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69800" y="1676160"/>
            <a:ext cx="867096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h1 class = "special"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gt;CSS Text&lt;/h1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669999"/>
                </a:solidFill>
                <a:latin typeface="Arial"/>
              </a:rPr>
              <a:t>&lt;p&gt;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Text properties allow you to control the appearance of text.  ...  &lt;/p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cc00ff"/>
                </a:solidFill>
                <a:latin typeface="Arial"/>
              </a:rPr>
              <a:t>&lt;h1&gt;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CSS Fonts&lt;/h1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p class = "special"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gt;The Font properties allow you to change t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2600" spc="-1" strike="noStrike">
                <a:solidFill>
                  <a:srgbClr val="0000ff"/>
                </a:solidFill>
                <a:latin typeface="Arial"/>
              </a:rPr>
              <a:t>&lt;em&gt;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font family, boldness, size, and the style&lt;/em&gt; of a text.&lt;/p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Μερικά παραδείγματα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69800" y="1676160"/>
            <a:ext cx="867096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0000"/>
                </a:solidFill>
                <a:latin typeface="Arial"/>
              </a:rPr>
              <a:t>&lt;</a:t>
            </a: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style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669999"/>
                </a:solidFill>
                <a:latin typeface="Arial"/>
              </a:rPr>
              <a:t>type = "text/css"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cc00ff"/>
                </a:solidFill>
                <a:latin typeface="Arial"/>
              </a:rPr>
              <a:t>a  { text-decoration: none 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a:hover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{ text-decoration: underline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color: red;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background-color: #ccffcc 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669999"/>
                </a:solidFill>
                <a:latin typeface="Arial"/>
              </a:rPr>
              <a:t>li em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{ color: red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font-weight: bold 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2600" spc="-1" strike="noStrike">
                <a:solidFill>
                  <a:srgbClr val="ff9900"/>
                </a:solidFill>
                <a:latin typeface="Arial"/>
              </a:rPr>
              <a:t>ul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   { margin-left: 75px 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2600" spc="-1" strike="noStrike">
                <a:solidFill>
                  <a:srgbClr val="0000ff"/>
                </a:solidFill>
                <a:latin typeface="Arial"/>
              </a:rPr>
              <a:t>ul ul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{ text-decoration: underline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margin-left: 15px 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&lt;/style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x (pixel):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ίναι σχετικό για κάθε σύστημ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ternal style shee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9800" y="1676160"/>
            <a:ext cx="867096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0000"/>
                </a:solidFill>
                <a:latin typeface="Arial"/>
              </a:rPr>
              <a:t>&lt;head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title&gt;External Style Sheets&lt;/title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it-IT" sz="3000" spc="-1" strike="noStrike">
                <a:solidFill>
                  <a:srgbClr val="cc00ff"/>
                </a:solidFill>
                <a:latin typeface="Arial"/>
              </a:rPr>
              <a:t>link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000" spc="-1" strike="noStrike">
                <a:solidFill>
                  <a:srgbClr val="cccc00"/>
                </a:solidFill>
                <a:latin typeface="Arial"/>
              </a:rPr>
              <a:t>rel = "stylesheet"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000" spc="-1" strike="noStrike">
                <a:solidFill>
                  <a:srgbClr val="669999"/>
                </a:solidFill>
                <a:latin typeface="Arial"/>
              </a:rPr>
              <a:t>type = "text/css"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0000ff"/>
                </a:solidFill>
                <a:latin typeface="Arial"/>
              </a:rPr>
              <a:t>href = "styles.css"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0000"/>
                </a:solidFill>
                <a:latin typeface="Arial"/>
              </a:rPr>
              <a:t>&lt;/head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SS Uni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W3C CSS units examp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2"/>
          <a:stretch/>
        </p:blipFill>
        <p:spPr>
          <a:xfrm>
            <a:off x="1092240" y="1728720"/>
            <a:ext cx="72136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80600" y="260280"/>
            <a:ext cx="775332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SS Box Mod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66720" y="1989000"/>
            <a:ext cx="810576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191880" indent="-1918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Όλα τα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στοιχεία θεωρούνται ως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x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Ιεραρχία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μεταξύ τω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στοιχείων στο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Demonstrating the box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4" descr=""/>
          <p:cNvPicPr/>
          <p:nvPr/>
        </p:nvPicPr>
        <p:blipFill>
          <a:blip r:embed="rId2"/>
          <a:stretch/>
        </p:blipFill>
        <p:spPr>
          <a:xfrm>
            <a:off x="954000" y="4132440"/>
            <a:ext cx="7581960" cy="23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Τοποθέτηση στοιχείων (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ositioning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οποθέτηση πάντα με βάση την κανονική ροή της σελίδας. Η προκαθορισμένη τοποθέτηση για τα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ml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τοιχεία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Fixe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οποθέτηση σε σχέση με το παράθυρο του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ows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Absolut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οποθέτηση σε σχέση με το πρώτο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ent element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που έχει τοποθέτηση διαφορετική από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,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αλλιώς σε σχέση με το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7e9ce8"/>
                </a:solidFill>
                <a:uFillTx/>
                <a:latin typeface="Arial"/>
                <a:hlinkClick r:id="rId3"/>
              </a:rPr>
              <a:t>Relativ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οποθέτηση σε σχέση με την κανονική θέση του στοιχείο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Αφού δοθεί τιμή στο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sitioning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α στοιχεία τοποθετούνται με τις ιδιότητες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p, bottom, left, r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Απόλυτη τοποθέτηση στοιχείων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56960" y="1676160"/>
            <a:ext cx="924084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p&gt;&lt;img src = “images/i.gif" 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style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= "</a:t>
            </a: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position: absolute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669999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669999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669999"/>
                </a:solidFill>
                <a:latin typeface="Arial"/>
              </a:rPr>
              <a:t>top: 0px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it-IT" sz="2600" spc="-1" strike="noStrike">
                <a:solidFill>
                  <a:srgbClr val="669999"/>
                </a:solidFill>
                <a:latin typeface="Arial"/>
              </a:rPr>
              <a:t>left: 0px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it-IT" sz="2600" spc="-1" strike="noStrike">
                <a:solidFill>
                  <a:srgbClr val="ff9900"/>
                </a:solidFill>
                <a:latin typeface="Arial"/>
              </a:rPr>
              <a:t>z-index: 1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" alt = "First image"&gt;&lt;/p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p style = "position: absolute; </a:t>
            </a:r>
            <a:r>
              <a:rPr b="0" lang="it-IT" sz="2600" spc="-1" strike="noStrike">
                <a:solidFill>
                  <a:srgbClr val="cc00ff"/>
                </a:solidFill>
                <a:latin typeface="Arial"/>
              </a:rPr>
              <a:t>top: 50px; left: 50px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2600" spc="-1" strike="noStrike">
                <a:solidFill>
                  <a:srgbClr val="ff9900"/>
                </a:solidFill>
                <a:latin typeface="Arial"/>
              </a:rPr>
              <a:t>z-index: 3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; font-size: 20pt;"&gt;Positioned Text&lt;/p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p&gt;&lt;img src = “images/circle.gif" style = "position: absolute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top: 25px;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left: 100px; </a:t>
            </a:r>
            <a:r>
              <a:rPr b="0" lang="it-IT" sz="2600" spc="-1" strike="noStrike">
                <a:solidFill>
                  <a:srgbClr val="ff9900"/>
                </a:solidFill>
                <a:latin typeface="Arial"/>
              </a:rPr>
              <a:t>z-index: 2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"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alt = "Second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image"&gt;&lt;/p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Σχετική τοποθέτηση στοιχείων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92040" y="1676160"/>
            <a:ext cx="877104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.super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{ </a:t>
            </a: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position: relative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top: -1ex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669999"/>
                </a:solidFill>
                <a:latin typeface="Arial"/>
              </a:rPr>
              <a:t>.sub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{ position: relative;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669999"/>
                </a:solidFill>
                <a:latin typeface="Arial"/>
              </a:rPr>
              <a:t>bottom: -1ex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cc00ff"/>
                </a:solidFill>
                <a:latin typeface="Arial"/>
              </a:rPr>
              <a:t>.shiftleft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{ position: relative;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cc00ff"/>
                </a:solidFill>
                <a:latin typeface="Arial"/>
              </a:rPr>
              <a:t>left: -1ex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7e9ce8"/>
                </a:solidFill>
                <a:latin typeface="Arial"/>
              </a:rPr>
              <a:t>.shiftright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{ position: relative;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7e9ce8"/>
                </a:solidFill>
                <a:latin typeface="Arial"/>
              </a:rPr>
              <a:t>right: -1ex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: the 'font-size' of the relevant f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: the 'x-height' of the relevant f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5" descr=""/>
          <p:cNvPicPr/>
          <p:nvPr/>
        </p:nvPicPr>
        <p:blipFill>
          <a:blip r:embed="rId1"/>
          <a:stretch/>
        </p:blipFill>
        <p:spPr>
          <a:xfrm>
            <a:off x="4954680" y="5157720"/>
            <a:ext cx="359388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Στοιχεία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TML vs 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Ετικέτες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TM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Οι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ML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ετικέτες χρησιμοποιούνται για να οριοθετήσουν την αρχή και το τέλος ενός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ML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στοιχείο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Πηγή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s://www.tutorialrepublic.com/html-tutorial/html-elements.ph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Εικόνα 3" descr=""/>
          <p:cNvPicPr/>
          <p:nvPr/>
        </p:nvPicPr>
        <p:blipFill>
          <a:blip r:embed="rId1"/>
          <a:stretch/>
        </p:blipFill>
        <p:spPr>
          <a:xfrm>
            <a:off x="1962000" y="3757680"/>
            <a:ext cx="575316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Διαστάσεις αντικειμένων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92040" y="1676160"/>
            <a:ext cx="877104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style type = "text/css"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div { background-color: #ffccff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margin-bottom: .3cm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/style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600" spc="-1" strike="noStrike">
                <a:solidFill>
                  <a:srgbClr val="cc00ff"/>
                </a:solidFill>
                <a:latin typeface="Arial"/>
              </a:rPr>
              <a:t>div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ty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"</a:t>
            </a:r>
            <a:r>
              <a:rPr b="0" lang="en-US" sz="2600" spc="-1" strike="noStrike">
                <a:solidFill>
                  <a:srgbClr val="ff9900"/>
                </a:solidFill>
                <a:latin typeface="Arial"/>
              </a:rPr>
              <a:t>width: 80%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text-align: cent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re is some CENTERED text that goes in a box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ich is set to stretch across eighty percent of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width of the screen.</a:t>
            </a:r>
            <a:r>
              <a:rPr b="0" lang="en-US" sz="2600" spc="-1" strike="noStrike">
                <a:solidFill>
                  <a:srgbClr val="cc00ff"/>
                </a:solidFill>
                <a:latin typeface="Arial"/>
              </a:rPr>
              <a:t>&lt;/div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78000" y="122400"/>
            <a:ext cx="78451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rder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92040" y="1676160"/>
            <a:ext cx="877104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border-width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thick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παχύ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thin (λεπτό) }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border-style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groove(αυλάκι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dotted, solid,…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border-col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*border-{top, left, right, bottom}-wid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w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sponsive Web Desig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Η πρακτική της δημιουργίας ενός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bsite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κατάλληλο για οποιαδήποτε συσκευή, ανεξάρτητα από το μέγεθος της οθόνη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ponsive vs Mobile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ο 2</a:t>
            </a:r>
            <a:r>
              <a:rPr b="0" lang="el-GR" sz="3000" spc="-1" strike="noStrike" baseline="30000">
                <a:solidFill>
                  <a:srgbClr val="000000"/>
                </a:solidFill>
                <a:latin typeface="Arial"/>
              </a:rPr>
              <a:t>ος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όρος αναφέρεται στη δημιουργί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άλλης έκδοσης του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bsite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για κινητές συσκευές. Στο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ponsive design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έχουμε ένα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bsite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που η εμφάνισή του προσαρμόζεται στα χαρακτηριστικά της συσκευή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Τεχνικέ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lexible layo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actice of building the layout of a website with a flexible grid, capable of dynamically resizing to any width. Flexible grids are built using relative length units, most commonly percentages or em uni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dia Que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dia queries provide the ability to specify different styles for individual browser and device circumstances, the width of the viewport or device orientation for examp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lexible Med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ages, videos, and other media types need to be scalable, changing their size as the size of the viewport chang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lexible Layou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81" name="3 - Εικόνα" descr=""/>
          <p:cNvPicPr/>
          <p:nvPr/>
        </p:nvPicPr>
        <p:blipFill>
          <a:blip r:embed="rId1"/>
          <a:stretch/>
        </p:blipFill>
        <p:spPr>
          <a:xfrm>
            <a:off x="925560" y="1989000"/>
            <a:ext cx="7137360" cy="33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dia Queri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@media: all, screen, print, tv, 3d-glasses (html5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Παραδείγματ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2" descr=""/>
          <p:cNvPicPr/>
          <p:nvPr/>
        </p:nvPicPr>
        <p:blipFill>
          <a:blip r:embed="rId1"/>
          <a:stretch/>
        </p:blipFill>
        <p:spPr>
          <a:xfrm>
            <a:off x="343080" y="2997360"/>
            <a:ext cx="8712000" cy="6667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3" descr=""/>
          <p:cNvPicPr/>
          <p:nvPr/>
        </p:nvPicPr>
        <p:blipFill>
          <a:blip r:embed="rId2"/>
          <a:stretch/>
        </p:blipFill>
        <p:spPr>
          <a:xfrm>
            <a:off x="343080" y="3701880"/>
            <a:ext cx="8712000" cy="5907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5" descr=""/>
          <p:cNvPicPr/>
          <p:nvPr/>
        </p:nvPicPr>
        <p:blipFill>
          <a:blip r:embed="rId3"/>
          <a:stretch/>
        </p:blipFill>
        <p:spPr>
          <a:xfrm>
            <a:off x="352440" y="4365720"/>
            <a:ext cx="869328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lexible Medi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88" name="Picture 2" descr=""/>
          <p:cNvPicPr/>
          <p:nvPr/>
        </p:nvPicPr>
        <p:blipFill>
          <a:blip r:embed="rId1"/>
          <a:stretch/>
        </p:blipFill>
        <p:spPr>
          <a:xfrm>
            <a:off x="776160" y="1773360"/>
            <a:ext cx="3035520" cy="1000080"/>
          </a:xfrm>
          <a:prstGeom prst="rect">
            <a:avLst/>
          </a:prstGeom>
          <a:ln w="0">
            <a:noFill/>
          </a:ln>
        </p:spPr>
      </p:pic>
      <p:pic>
        <p:nvPicPr>
          <p:cNvPr id="289" name="4 - Εικόνα" descr=""/>
          <p:cNvPicPr/>
          <p:nvPr/>
        </p:nvPicPr>
        <p:blipFill>
          <a:blip r:embed="rId2"/>
          <a:stretch/>
        </p:blipFill>
        <p:spPr>
          <a:xfrm>
            <a:off x="3957480" y="1484280"/>
            <a:ext cx="459108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Παράδειγμα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torial: http://learn.shayhowe.com/advanced-html-css/responsive-web-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2" descr=""/>
          <p:cNvPicPr/>
          <p:nvPr/>
        </p:nvPicPr>
        <p:blipFill>
          <a:blip r:embed="rId1"/>
          <a:srcRect l="4909" t="9914" r="7555" b="12230"/>
          <a:stretch/>
        </p:blipFill>
        <p:spPr>
          <a:xfrm>
            <a:off x="554040" y="1557360"/>
            <a:ext cx="814068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Παράδειγμα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on-responsive websit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tps://dequeuniversity.com/library/responsive/1-non-respons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Οριζόντιο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rol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Εικόνα 4" descr=""/>
          <p:cNvPicPr/>
          <p:nvPr/>
        </p:nvPicPr>
        <p:blipFill>
          <a:blip r:embed="rId1"/>
          <a:stretch/>
        </p:blipFill>
        <p:spPr>
          <a:xfrm>
            <a:off x="5130720" y="2492280"/>
            <a:ext cx="231948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Προσβασιμότητα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Σχεδίαση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bsites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ώστε να μπορούν να χρησιμοποιηθούν από άτομα με αναπηρίε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3 Web Accessibility Initiative (WAI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b Content Accessibility Guidelines (WCAG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Ν.4591/2019: ενσωμάτωση οδηγίας της Ε.Ε. για την προσβασιμότητα ιστότοπων και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bile apps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των δημόσιων φορέω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bility checkers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π.χ.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bAIM WAV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Ένα απλό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TML 4 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αρχείο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9440" y="1628280"/>
            <a:ext cx="84582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&lt;!DOCTYPE HTML PUBLIC "-//W3C//DTD HTML 4.01//E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Arial"/>
              </a:rPr>
              <a:t>&lt;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00"/>
                </a:solidFill>
                <a:latin typeface="Arial"/>
              </a:rPr>
              <a:t>&lt;!-- Our first Web page 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99"/>
                </a:solidFill>
                <a:latin typeface="Arial"/>
              </a:rPr>
              <a:t>&lt;hea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title&gt;Welcome to Our Web Site!&lt;/tit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99"/>
                </a:solidFill>
                <a:latin typeface="Arial"/>
              </a:rPr>
              <a:t>&lt;/hea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4c8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p&gt;Welcome to Our Web Site!&lt;/p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4c8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Εικόνα 2" descr=""/>
          <p:cNvPicPr/>
          <p:nvPr/>
        </p:nvPicPr>
        <p:blipFill>
          <a:blip r:embed="rId2"/>
          <a:stretch/>
        </p:blipFill>
        <p:spPr>
          <a:xfrm>
            <a:off x="5423040" y="2349360"/>
            <a:ext cx="3504960" cy="2517840"/>
          </a:xfrm>
          <a:prstGeom prst="rect">
            <a:avLst/>
          </a:prstGeom>
          <a:ln w="0">
            <a:noFill/>
          </a:ln>
        </p:spPr>
      </p:pic>
      <p:sp>
        <p:nvSpPr>
          <p:cNvPr id="171" name="TextBox 3"/>
          <p:cNvSpPr/>
          <p:nvPr/>
        </p:nvSpPr>
        <p:spPr>
          <a:xfrm>
            <a:off x="5423040" y="4869000"/>
            <a:ext cx="33080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Πηγή εικόνας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s://notesformsc.org/programming/html-tutorial/html-document-struct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9440" y="122040"/>
            <a:ext cx="7753320" cy="114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witter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otstrap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69440" y="1557000"/>
            <a:ext cx="84582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πό τα δημοφιλέστερα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Δημιουργήθηκε από 2 υπαλλήλους στη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itter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ο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Λόγο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Υπήρχε η ανάγκη για ένα στάνταρτ στην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ntend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ργαλειοθήκη που θα ακολουθούσαν όλοι στην εταιρί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12" descr=""/>
          <p:cNvPicPr/>
          <p:nvPr/>
        </p:nvPicPr>
        <p:blipFill>
          <a:blip r:embed="rId1"/>
          <a:srcRect l="3957" t="5819" r="4582" b="8425"/>
          <a:stretch/>
        </p:blipFill>
        <p:spPr>
          <a:xfrm>
            <a:off x="1674720" y="3716280"/>
            <a:ext cx="6139080" cy="2898720"/>
          </a:xfrm>
          <a:prstGeom prst="rect">
            <a:avLst/>
          </a:prstGeom>
          <a:ln w="0">
            <a:noFill/>
          </a:ln>
        </p:spPr>
      </p:pic>
      <p:sp>
        <p:nvSpPr>
          <p:cNvPr id="301" name="Arrow: Left 70"/>
          <p:cNvSpPr/>
          <p:nvPr/>
        </p:nvSpPr>
        <p:spPr>
          <a:xfrm>
            <a:off x="5635800" y="5950080"/>
            <a:ext cx="342720" cy="214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5c8a8a"/>
          </a:solidFill>
          <a:ln w="25560">
            <a:solidFill>
              <a:srgbClr val="41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Τι περιλαμβάνει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303" name="Group 64"/>
          <p:cNvGrpSpPr/>
          <p:nvPr/>
        </p:nvGrpSpPr>
        <p:grpSpPr>
          <a:xfrm>
            <a:off x="595440" y="1484280"/>
            <a:ext cx="4751280" cy="4969080"/>
            <a:chOff x="595440" y="1484280"/>
            <a:chExt cx="4751280" cy="4969080"/>
          </a:xfrm>
        </p:grpSpPr>
        <p:sp>
          <p:nvSpPr>
            <p:cNvPr id="304" name="Rectangle 68"/>
            <p:cNvSpPr/>
            <p:nvPr/>
          </p:nvSpPr>
          <p:spPr>
            <a:xfrm>
              <a:off x="595440" y="1484280"/>
              <a:ext cx="4751280" cy="4969080"/>
            </a:xfrm>
            <a:prstGeom prst="rect">
              <a:avLst/>
            </a:prstGeom>
            <a:solidFill>
              <a:srgbClr val="808080"/>
            </a:solidFill>
            <a:ln w="25560">
              <a:solidFill>
                <a:srgbClr val="959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ootstrap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Group 12"/>
            <p:cNvGrpSpPr/>
            <p:nvPr/>
          </p:nvGrpSpPr>
          <p:grpSpPr>
            <a:xfrm>
              <a:off x="735840" y="2165760"/>
              <a:ext cx="2569320" cy="381960"/>
              <a:chOff x="735840" y="2165760"/>
              <a:chExt cx="2569320" cy="381960"/>
            </a:xfrm>
          </p:grpSpPr>
          <p:sp>
            <p:nvSpPr>
              <p:cNvPr id="306" name="Straight Connector 8"/>
              <p:cNvSpPr/>
              <p:nvPr/>
            </p:nvSpPr>
            <p:spPr>
              <a:xfrm>
                <a:off x="735840" y="2298600"/>
                <a:ext cx="0" cy="245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Straight Connector 9"/>
              <p:cNvSpPr/>
              <p:nvPr/>
            </p:nvSpPr>
            <p:spPr>
              <a:xfrm>
                <a:off x="975600" y="230004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Straight Connector 10"/>
              <p:cNvSpPr/>
              <p:nvPr/>
            </p:nvSpPr>
            <p:spPr>
              <a:xfrm flipH="1" flipV="1">
                <a:off x="984960" y="2419200"/>
                <a:ext cx="2412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TextBox 11"/>
              <p:cNvSpPr/>
              <p:nvPr/>
            </p:nvSpPr>
            <p:spPr>
              <a:xfrm>
                <a:off x="1246320" y="2165760"/>
                <a:ext cx="2058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ootstrap.cs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Group 13"/>
            <p:cNvGrpSpPr/>
            <p:nvPr/>
          </p:nvGrpSpPr>
          <p:grpSpPr>
            <a:xfrm>
              <a:off x="732600" y="2478240"/>
              <a:ext cx="2569320" cy="381960"/>
              <a:chOff x="732600" y="2478240"/>
              <a:chExt cx="2569320" cy="381960"/>
            </a:xfrm>
          </p:grpSpPr>
          <p:sp>
            <p:nvSpPr>
              <p:cNvPr id="311" name="Straight Connector 14"/>
              <p:cNvSpPr/>
              <p:nvPr/>
            </p:nvSpPr>
            <p:spPr>
              <a:xfrm>
                <a:off x="732600" y="2611080"/>
                <a:ext cx="0" cy="245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Straight Connector 15"/>
              <p:cNvSpPr/>
              <p:nvPr/>
            </p:nvSpPr>
            <p:spPr>
              <a:xfrm>
                <a:off x="981720" y="261252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Straight Connector 16"/>
              <p:cNvSpPr/>
              <p:nvPr/>
            </p:nvSpPr>
            <p:spPr>
              <a:xfrm flipH="1" flipV="1">
                <a:off x="992880" y="2731680"/>
                <a:ext cx="23976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Box 17"/>
              <p:cNvSpPr/>
              <p:nvPr/>
            </p:nvSpPr>
            <p:spPr>
              <a:xfrm>
                <a:off x="1243080" y="2478240"/>
                <a:ext cx="2058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ootstrap.min.cs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Group 43"/>
            <p:cNvGrpSpPr/>
            <p:nvPr/>
          </p:nvGrpSpPr>
          <p:grpSpPr>
            <a:xfrm>
              <a:off x="732600" y="1837080"/>
              <a:ext cx="823680" cy="402480"/>
              <a:chOff x="732600" y="1837080"/>
              <a:chExt cx="823680" cy="402480"/>
            </a:xfrm>
          </p:grpSpPr>
          <p:sp>
            <p:nvSpPr>
              <p:cNvPr id="316" name="Straight Connector 5"/>
              <p:cNvSpPr/>
              <p:nvPr/>
            </p:nvSpPr>
            <p:spPr>
              <a:xfrm>
                <a:off x="732600" y="199188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Straight Connector 6"/>
              <p:cNvSpPr/>
              <p:nvPr/>
            </p:nvSpPr>
            <p:spPr>
              <a:xfrm flipH="1" flipV="1">
                <a:off x="743040" y="2126880"/>
                <a:ext cx="241560" cy="2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TextBox 120"/>
              <p:cNvSpPr/>
              <p:nvPr/>
            </p:nvSpPr>
            <p:spPr>
              <a:xfrm>
                <a:off x="968760" y="1837080"/>
                <a:ext cx="587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ss/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Group 19"/>
            <p:cNvGrpSpPr/>
            <p:nvPr/>
          </p:nvGrpSpPr>
          <p:grpSpPr>
            <a:xfrm>
              <a:off x="732600" y="2772360"/>
              <a:ext cx="2856600" cy="368280"/>
              <a:chOff x="732600" y="2772360"/>
              <a:chExt cx="2856600" cy="368280"/>
            </a:xfrm>
          </p:grpSpPr>
          <p:sp>
            <p:nvSpPr>
              <p:cNvPr id="320" name="Straight Connector 114"/>
              <p:cNvSpPr/>
              <p:nvPr/>
            </p:nvSpPr>
            <p:spPr>
              <a:xfrm>
                <a:off x="732600" y="2887200"/>
                <a:ext cx="0" cy="21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Straight Connector 115"/>
              <p:cNvSpPr/>
              <p:nvPr/>
            </p:nvSpPr>
            <p:spPr>
              <a:xfrm>
                <a:off x="978480" y="2889000"/>
                <a:ext cx="0" cy="21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Straight Connector 116"/>
              <p:cNvSpPr/>
              <p:nvPr/>
            </p:nvSpPr>
            <p:spPr>
              <a:xfrm flipH="1" flipV="1">
                <a:off x="981720" y="2993760"/>
                <a:ext cx="23976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Box 117"/>
              <p:cNvSpPr/>
              <p:nvPr/>
            </p:nvSpPr>
            <p:spPr>
              <a:xfrm>
                <a:off x="1229400" y="2772360"/>
                <a:ext cx="2359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ootstrap.theme.cs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Group 24"/>
            <p:cNvGrpSpPr/>
            <p:nvPr/>
          </p:nvGrpSpPr>
          <p:grpSpPr>
            <a:xfrm>
              <a:off x="732600" y="3043440"/>
              <a:ext cx="3308400" cy="368280"/>
              <a:chOff x="732600" y="3043440"/>
              <a:chExt cx="3308400" cy="368280"/>
            </a:xfrm>
          </p:grpSpPr>
          <p:sp>
            <p:nvSpPr>
              <p:cNvPr id="325" name="Straight Connector 110"/>
              <p:cNvSpPr/>
              <p:nvPr/>
            </p:nvSpPr>
            <p:spPr>
              <a:xfrm>
                <a:off x="732600" y="3158640"/>
                <a:ext cx="0" cy="21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Straight Connector 111"/>
              <p:cNvSpPr/>
              <p:nvPr/>
            </p:nvSpPr>
            <p:spPr>
              <a:xfrm>
                <a:off x="975240" y="3160440"/>
                <a:ext cx="0" cy="21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Straight Connector 112"/>
              <p:cNvSpPr/>
              <p:nvPr/>
            </p:nvSpPr>
            <p:spPr>
              <a:xfrm flipH="1" flipV="1">
                <a:off x="969120" y="3265200"/>
                <a:ext cx="23976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TextBox 113"/>
              <p:cNvSpPr/>
              <p:nvPr/>
            </p:nvSpPr>
            <p:spPr>
              <a:xfrm>
                <a:off x="1243440" y="3043440"/>
                <a:ext cx="2797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ootstrap.theme.min.cs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42"/>
            <p:cNvGrpSpPr/>
            <p:nvPr/>
          </p:nvGrpSpPr>
          <p:grpSpPr>
            <a:xfrm>
              <a:off x="736920" y="3496680"/>
              <a:ext cx="745920" cy="403560"/>
              <a:chOff x="736920" y="3496680"/>
              <a:chExt cx="745920" cy="403560"/>
            </a:xfrm>
          </p:grpSpPr>
          <p:sp>
            <p:nvSpPr>
              <p:cNvPr id="330" name="Straight Connector 107"/>
              <p:cNvSpPr/>
              <p:nvPr/>
            </p:nvSpPr>
            <p:spPr>
              <a:xfrm>
                <a:off x="736920" y="365256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Straight Connector 108"/>
              <p:cNvSpPr/>
              <p:nvPr/>
            </p:nvSpPr>
            <p:spPr>
              <a:xfrm flipH="1" flipV="1">
                <a:off x="738360" y="3787560"/>
                <a:ext cx="241200" cy="2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TextBox 109"/>
              <p:cNvSpPr/>
              <p:nvPr/>
            </p:nvSpPr>
            <p:spPr>
              <a:xfrm>
                <a:off x="959760" y="3496680"/>
                <a:ext cx="523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s/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32"/>
            <p:cNvGrpSpPr/>
            <p:nvPr/>
          </p:nvGrpSpPr>
          <p:grpSpPr>
            <a:xfrm>
              <a:off x="732600" y="3858120"/>
              <a:ext cx="2569320" cy="381960"/>
              <a:chOff x="732600" y="3858120"/>
              <a:chExt cx="2569320" cy="381960"/>
            </a:xfrm>
          </p:grpSpPr>
          <p:sp>
            <p:nvSpPr>
              <p:cNvPr id="334" name="Straight Connector 103"/>
              <p:cNvSpPr/>
              <p:nvPr/>
            </p:nvSpPr>
            <p:spPr>
              <a:xfrm>
                <a:off x="732600" y="3990960"/>
                <a:ext cx="0" cy="245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Straight Connector 104"/>
              <p:cNvSpPr/>
              <p:nvPr/>
            </p:nvSpPr>
            <p:spPr>
              <a:xfrm>
                <a:off x="972360" y="399240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Straight Connector 105"/>
              <p:cNvSpPr/>
              <p:nvPr/>
            </p:nvSpPr>
            <p:spPr>
              <a:xfrm flipH="1" flipV="1">
                <a:off x="981720" y="4111560"/>
                <a:ext cx="2412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TextBox 106"/>
              <p:cNvSpPr/>
              <p:nvPr/>
            </p:nvSpPr>
            <p:spPr>
              <a:xfrm>
                <a:off x="1243080" y="3858120"/>
                <a:ext cx="2058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ootstrap.j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37"/>
            <p:cNvGrpSpPr/>
            <p:nvPr/>
          </p:nvGrpSpPr>
          <p:grpSpPr>
            <a:xfrm>
              <a:off x="719280" y="4181040"/>
              <a:ext cx="2569320" cy="382680"/>
              <a:chOff x="719280" y="4181040"/>
              <a:chExt cx="2569320" cy="382680"/>
            </a:xfrm>
          </p:grpSpPr>
          <p:sp>
            <p:nvSpPr>
              <p:cNvPr id="339" name="Straight Connector 99"/>
              <p:cNvSpPr/>
              <p:nvPr/>
            </p:nvSpPr>
            <p:spPr>
              <a:xfrm>
                <a:off x="719280" y="4314600"/>
                <a:ext cx="0" cy="245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Straight Connector 100"/>
              <p:cNvSpPr/>
              <p:nvPr/>
            </p:nvSpPr>
            <p:spPr>
              <a:xfrm>
                <a:off x="968400" y="431604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Straight Connector 101"/>
              <p:cNvSpPr/>
              <p:nvPr/>
            </p:nvSpPr>
            <p:spPr>
              <a:xfrm flipH="1" flipV="1">
                <a:off x="979560" y="4435200"/>
                <a:ext cx="2412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TextBox 102"/>
              <p:cNvSpPr/>
              <p:nvPr/>
            </p:nvSpPr>
            <p:spPr>
              <a:xfrm>
                <a:off x="1230480" y="4181040"/>
                <a:ext cx="2058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ootstrap.min.j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3" name="Group 44"/>
            <p:cNvGrpSpPr/>
            <p:nvPr/>
          </p:nvGrpSpPr>
          <p:grpSpPr>
            <a:xfrm>
              <a:off x="719280" y="4538520"/>
              <a:ext cx="1319040" cy="368280"/>
              <a:chOff x="719280" y="4538520"/>
              <a:chExt cx="1319040" cy="368280"/>
            </a:xfrm>
          </p:grpSpPr>
          <p:sp>
            <p:nvSpPr>
              <p:cNvPr id="344" name="Straight Connector 96"/>
              <p:cNvSpPr/>
              <p:nvPr/>
            </p:nvSpPr>
            <p:spPr>
              <a:xfrm>
                <a:off x="722160" y="4662360"/>
                <a:ext cx="0" cy="147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Straight Connector 97"/>
              <p:cNvSpPr/>
              <p:nvPr/>
            </p:nvSpPr>
            <p:spPr>
              <a:xfrm flipH="1">
                <a:off x="719280" y="4808520"/>
                <a:ext cx="465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TextBox 98"/>
              <p:cNvSpPr/>
              <p:nvPr/>
            </p:nvSpPr>
            <p:spPr>
              <a:xfrm>
                <a:off x="1115280" y="4538520"/>
                <a:ext cx="923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onts/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7" name="Group 51"/>
            <p:cNvGrpSpPr/>
            <p:nvPr/>
          </p:nvGrpSpPr>
          <p:grpSpPr>
            <a:xfrm>
              <a:off x="1178640" y="4833720"/>
              <a:ext cx="4060080" cy="382680"/>
              <a:chOff x="1178640" y="4833720"/>
              <a:chExt cx="4060080" cy="382680"/>
            </a:xfrm>
          </p:grpSpPr>
          <p:sp>
            <p:nvSpPr>
              <p:cNvPr id="348" name="Straight Connector 93"/>
              <p:cNvSpPr/>
              <p:nvPr/>
            </p:nvSpPr>
            <p:spPr>
              <a:xfrm>
                <a:off x="1178640" y="496872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Straight Connector 94"/>
              <p:cNvSpPr/>
              <p:nvPr/>
            </p:nvSpPr>
            <p:spPr>
              <a:xfrm flipH="1" flipV="1">
                <a:off x="1188000" y="5087880"/>
                <a:ext cx="2412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TextBox 95"/>
              <p:cNvSpPr/>
              <p:nvPr/>
            </p:nvSpPr>
            <p:spPr>
              <a:xfrm>
                <a:off x="1440720" y="4833720"/>
                <a:ext cx="3798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lyphicons.halphings-regular.eo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Group 56"/>
            <p:cNvGrpSpPr/>
            <p:nvPr/>
          </p:nvGrpSpPr>
          <p:grpSpPr>
            <a:xfrm>
              <a:off x="1174680" y="5147640"/>
              <a:ext cx="4060080" cy="381600"/>
              <a:chOff x="1174680" y="5147640"/>
              <a:chExt cx="4060080" cy="381600"/>
            </a:xfrm>
          </p:grpSpPr>
          <p:sp>
            <p:nvSpPr>
              <p:cNvPr id="352" name="Straight Connector 90"/>
              <p:cNvSpPr/>
              <p:nvPr/>
            </p:nvSpPr>
            <p:spPr>
              <a:xfrm>
                <a:off x="1174680" y="528156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Straight Connector 91"/>
              <p:cNvSpPr/>
              <p:nvPr/>
            </p:nvSpPr>
            <p:spPr>
              <a:xfrm flipH="1" flipV="1">
                <a:off x="1184040" y="5402160"/>
                <a:ext cx="2412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TextBox 92"/>
              <p:cNvSpPr/>
              <p:nvPr/>
            </p:nvSpPr>
            <p:spPr>
              <a:xfrm>
                <a:off x="1436400" y="5147640"/>
                <a:ext cx="379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lyphicons.halphings-regular.sv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" name="Group 60"/>
            <p:cNvGrpSpPr/>
            <p:nvPr/>
          </p:nvGrpSpPr>
          <p:grpSpPr>
            <a:xfrm>
              <a:off x="1179000" y="5461920"/>
              <a:ext cx="4060080" cy="381600"/>
              <a:chOff x="1179000" y="5461920"/>
              <a:chExt cx="4060080" cy="381600"/>
            </a:xfrm>
          </p:grpSpPr>
          <p:sp>
            <p:nvSpPr>
              <p:cNvPr id="356" name="Straight Connector 87"/>
              <p:cNvSpPr/>
              <p:nvPr/>
            </p:nvSpPr>
            <p:spPr>
              <a:xfrm>
                <a:off x="1179000" y="559584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Straight Connector 88"/>
              <p:cNvSpPr/>
              <p:nvPr/>
            </p:nvSpPr>
            <p:spPr>
              <a:xfrm flipH="1" flipV="1">
                <a:off x="1188360" y="5715000"/>
                <a:ext cx="2412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TextBox 89"/>
              <p:cNvSpPr/>
              <p:nvPr/>
            </p:nvSpPr>
            <p:spPr>
              <a:xfrm>
                <a:off x="1440000" y="5461920"/>
                <a:ext cx="379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lyphicons.halphings-regular.tt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9" name="Group 64"/>
            <p:cNvGrpSpPr/>
            <p:nvPr/>
          </p:nvGrpSpPr>
          <p:grpSpPr>
            <a:xfrm>
              <a:off x="1174680" y="5799600"/>
              <a:ext cx="4060080" cy="382320"/>
              <a:chOff x="1174680" y="5799600"/>
              <a:chExt cx="4060080" cy="382320"/>
            </a:xfrm>
          </p:grpSpPr>
          <p:sp>
            <p:nvSpPr>
              <p:cNvPr id="360" name="Straight Connector 84"/>
              <p:cNvSpPr/>
              <p:nvPr/>
            </p:nvSpPr>
            <p:spPr>
              <a:xfrm>
                <a:off x="1174680" y="593424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Straight Connector 85"/>
              <p:cNvSpPr/>
              <p:nvPr/>
            </p:nvSpPr>
            <p:spPr>
              <a:xfrm flipH="1" flipV="1">
                <a:off x="1184040" y="6053400"/>
                <a:ext cx="2412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TextBox 86"/>
              <p:cNvSpPr/>
              <p:nvPr/>
            </p:nvSpPr>
            <p:spPr>
              <a:xfrm>
                <a:off x="1436400" y="5799600"/>
                <a:ext cx="379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lyphicons.halphings-regular.wof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5419800" y="4005360"/>
            <a:ext cx="37638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Χαρακτηριστικά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(1/3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ponsiv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bile first*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ύνολα από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ML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τοιχεία και συνδυασμούς του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Διάφορα θέματ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templat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Ενσωματωμένος μηχανισμός για την τοποθέτηση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ML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τοιχείων σε πλέγμ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Παρέχει την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scrip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Επιταχύνει την διαδικασία δημιουργία σελίδα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obile firs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Η διαδικασία κατά την οποία χτίζουμε κάτι με βασικό κριτήριο να εμφανίζεται και να παίζει καλά πρώτα σε μικρές οθόνε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Όσο μεγαλώνει η οθόνη, πρόσθετοι κανόνες δημιουργούνται για να υποστηρίξουν και τα μεγαλύτερα μεγέθ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Πρόσθετοι κανόνες με χρήση των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edia que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Χαρακτηριστικά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(2/3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69440" y="1719360"/>
            <a:ext cx="8458200" cy="45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αρέχε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SS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κλάσεις για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4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qu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t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Χαρακτηριστικά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(3/3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αρέχει τα παρακάτω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n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pdow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v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ou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ess b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ve em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Πότε αξίζει η χρήση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otstrap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Όταν πιέζει ο χρόνο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Όταν ο σχεδιασμός απαιτεί την χρήση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id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(πλέγμα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Όταν είναι απαραίτητο να υποστηρίζει όλα τα μεγέθη οθονώ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Όταν δεν απαιτείται να είναι συμβατό μ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6 (internet explorer 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Χρήση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otstrap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 (1/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522360" y="1773000"/>
            <a:ext cx="810576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Χρήση στην σελίδα/εφαρμογή μο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5"/>
          <p:cNvSpPr/>
          <p:nvPr/>
        </p:nvSpPr>
        <p:spPr>
          <a:xfrm>
            <a:off x="1674720" y="5300640"/>
            <a:ext cx="537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Γιατί βάζουμε το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S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έσα στο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EAD&gt;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τοιχείο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162000" y="2492280"/>
            <a:ext cx="90741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Χρήση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otstrap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 (1/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45840" y="1825560"/>
            <a:ext cx="7940520" cy="6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Υπάρχουν 2 τρόποι που μπορεί να γίνει χρήση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6"/>
          <p:cNvSpPr/>
          <p:nvPr/>
        </p:nvSpPr>
        <p:spPr>
          <a:xfrm>
            <a:off x="1386000" y="4221000"/>
            <a:ext cx="2665440" cy="91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Χρήση συγκεκριμένων στοιχείων (όπως το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7"/>
          <p:cNvSpPr/>
          <p:nvPr/>
        </p:nvSpPr>
        <p:spPr>
          <a:xfrm>
            <a:off x="5130720" y="4221000"/>
            <a:ext cx="288144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Χρήση όλων των δυνατοτήτων που παρέχε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2" name="Straight Arrow Connector 8"/>
          <p:cNvCxnSpPr/>
          <p:nvPr/>
        </p:nvCxnSpPr>
        <p:spPr>
          <a:xfrm flipH="1">
            <a:off x="2898000" y="2924280"/>
            <a:ext cx="1632600" cy="124848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cxnSp>
        <p:nvCxnSpPr>
          <p:cNvPr id="383" name="Straight Arrow Connector 10"/>
          <p:cNvCxnSpPr/>
          <p:nvPr/>
        </p:nvCxnSpPr>
        <p:spPr>
          <a:xfrm>
            <a:off x="4483080" y="2924280"/>
            <a:ext cx="1621440" cy="123228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sp>
        <p:nvSpPr>
          <p:cNvPr id="384" name="TextBox 12"/>
          <p:cNvSpPr/>
          <p:nvPr/>
        </p:nvSpPr>
        <p:spPr>
          <a:xfrm>
            <a:off x="1459080" y="5445000"/>
            <a:ext cx="637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Γενικά ξεκινάμε με τα πολύ βασικά και χτίζουμε και βελτιώνουμε  όσο υλοποιούμ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otstrap Grid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 (1/4)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Σύστημ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Grid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12 στηλώ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4" descr=""/>
          <p:cNvPicPr/>
          <p:nvPr/>
        </p:nvPicPr>
        <p:blipFill>
          <a:blip r:embed="rId1"/>
          <a:stretch/>
        </p:blipFill>
        <p:spPr>
          <a:xfrm>
            <a:off x="1027080" y="2492280"/>
            <a:ext cx="7272360" cy="3732480"/>
          </a:xfrm>
          <a:prstGeom prst="rect">
            <a:avLst/>
          </a:prstGeom>
          <a:ln w="9360">
            <a:solidFill>
              <a:srgbClr val="62979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Το στοιχείο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EA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Title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: ορισμός του τίτλου της σελίδα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Script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: καθορισμός της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ipting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γλώσσα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e9ce8"/>
                </a:solidFill>
                <a:uFillTx/>
                <a:latin typeface="Arial"/>
                <a:hlinkClick r:id="rId3"/>
              </a:rPr>
              <a:t>Style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: καθορισμός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yle she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e9ce8"/>
                </a:solidFill>
                <a:uFillTx/>
                <a:latin typeface="Arial"/>
                <a:hlinkClick r:id="rId4"/>
              </a:rPr>
              <a:t>Base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: ορισμός της βάσης αρχής για τον καθορισμό των σχετικών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e9ce8"/>
                </a:solidFill>
                <a:uFillTx/>
                <a:latin typeface="Arial"/>
                <a:hlinkClick r:id="rId5"/>
              </a:rPr>
              <a:t>Meta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: καθορισμός ζεύγους πληροφοριών (όνομα/τιμή)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.χ. εισαγωγή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e9ce8"/>
                </a:solidFill>
                <a:uFillTx/>
                <a:latin typeface="Arial"/>
                <a:hlinkClick r:id="rId6"/>
              </a:rPr>
              <a:t>Link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: ορισμός σχέσεων με άλλα κείμεν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00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Χρήση του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rid (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2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/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4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95440" y="1557000"/>
            <a:ext cx="810576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Κλάσεις Στηλών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ol-SIZE-SPA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-xs-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col-sm-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col-md-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col-lg-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Κλάσεις γραμμών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w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(δημιουργεί οριζόντια σετ στηλώ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Οι στήλες </a:t>
            </a:r>
            <a:r>
              <a:rPr b="1" lang="el-GR" sz="2300" spc="-1" strike="noStrike">
                <a:solidFill>
                  <a:srgbClr val="000000"/>
                </a:solidFill>
                <a:latin typeface="Arial"/>
              </a:rPr>
              <a:t>πρέπει 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να είναι το πρώτο παιδί μιας γραμμής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2035080" y="3860640"/>
            <a:ext cx="5232600" cy="27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69440" y="122040"/>
            <a:ext cx="7753320" cy="10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Χρήση του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rid (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3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/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4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0360" y="1699920"/>
            <a:ext cx="84582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Υπάρχουν 4 συστήματα πλέγματος στο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,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όνο στοιχείο διαφοροποίησης το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port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ra small devices ~ 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Τηλέφωνα (&lt;768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mall devices ~ Tablets (&gt;=768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dium devices ~ Desktops (&gt;=99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rge devices ~ Desktops (&gt;=120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Κλάσεις του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για τα παραπάνω όρια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l-SIZE-SPA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Μέγεθος οθόνης – εύρος /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N: 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Αριθμός στηλών που θα δεσμευτούν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τιμές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 – 1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5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-xs-*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-sm-*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-md-*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ol-lg-*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Χρήση του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rid (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4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/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4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46200" y="1825200"/>
            <a:ext cx="810576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πορεί να γίνει συνδυασμός κλάσεων για υποστήριξη περισσοτέρων οθονώ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2" descr=""/>
          <p:cNvPicPr/>
          <p:nvPr/>
        </p:nvPicPr>
        <p:blipFill>
          <a:blip r:embed="rId1"/>
          <a:stretch/>
        </p:blipFill>
        <p:spPr>
          <a:xfrm>
            <a:off x="1098720" y="3068640"/>
            <a:ext cx="754380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Πίνακε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95440" y="1700280"/>
            <a:ext cx="8105760" cy="83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Οι πίνακες πρέπει να έχουν την κλάση 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για να αναγνωριστούν από το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5"/>
          <p:cNvSpPr/>
          <p:nvPr/>
        </p:nvSpPr>
        <p:spPr>
          <a:xfrm>
            <a:off x="6138720" y="2781360"/>
            <a:ext cx="273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Κλάσεις μορφοποίηση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ινάκων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-stri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-bord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-h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-</a:t>
            </a:r>
            <a:r>
              <a:rPr b="0" lang="el-GR" sz="1800" spc="-1" strike="noStrike">
                <a:solidFill>
                  <a:srgbClr val="000000"/>
                </a:solidFill>
                <a:latin typeface="Arial Unicode MS"/>
              </a:rPr>
              <a:t>conden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7"/>
          <p:cNvSpPr/>
          <p:nvPr/>
        </p:nvSpPr>
        <p:spPr>
          <a:xfrm>
            <a:off x="1170000" y="544500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ετατροπή σ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iv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ίνακα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-respon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ως χρησιμοποιώ την παραπάνω κλάση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2" descr=""/>
          <p:cNvPicPr/>
          <p:nvPr/>
        </p:nvPicPr>
        <p:blipFill>
          <a:blip r:embed="rId1"/>
          <a:stretch/>
        </p:blipFill>
        <p:spPr>
          <a:xfrm>
            <a:off x="1170000" y="2781360"/>
            <a:ext cx="4949640" cy="25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orm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46200" y="1825560"/>
            <a:ext cx="8105760" cy="5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Υπάρχουν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είδη φόρμας 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,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line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κα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5" descr=""/>
          <p:cNvPicPr/>
          <p:nvPr/>
        </p:nvPicPr>
        <p:blipFill>
          <a:blip r:embed="rId1"/>
          <a:stretch/>
        </p:blipFill>
        <p:spPr>
          <a:xfrm>
            <a:off x="954000" y="3068640"/>
            <a:ext cx="755028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utt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66720" y="1699920"/>
            <a:ext cx="8105760" cy="203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Τα κουμπιά μπορεί να είναι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τοιχεία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ton 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ton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τοιχεία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nk : &lt;a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τοιχεία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put: &lt;input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3" descr=""/>
          <p:cNvPicPr/>
          <p:nvPr/>
        </p:nvPicPr>
        <p:blipFill>
          <a:blip r:embed="rId1"/>
          <a:stretch/>
        </p:blipFill>
        <p:spPr>
          <a:xfrm>
            <a:off x="882720" y="4005360"/>
            <a:ext cx="7361280" cy="2377800"/>
          </a:xfrm>
          <a:prstGeom prst="rect">
            <a:avLst/>
          </a:prstGeom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Στοιχεία μενού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95440" y="1700280"/>
            <a:ext cx="8105760" cy="25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just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Το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αρέχει στοιχεία που μπορούν να χρησιμοποιηθούν ως μενού/υπομενού και γενικότερα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vig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815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pdow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815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815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815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vb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8" descr=""/>
          <p:cNvPicPr/>
          <p:nvPr/>
        </p:nvPicPr>
        <p:blipFill>
          <a:blip r:embed="rId1"/>
          <a:stretch/>
        </p:blipFill>
        <p:spPr>
          <a:xfrm>
            <a:off x="738360" y="5013360"/>
            <a:ext cx="7867440" cy="56196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410" name="Picture 9" descr=""/>
          <p:cNvPicPr/>
          <p:nvPr/>
        </p:nvPicPr>
        <p:blipFill>
          <a:blip r:embed="rId2"/>
          <a:stretch/>
        </p:blipFill>
        <p:spPr>
          <a:xfrm>
            <a:off x="5130720" y="5732640"/>
            <a:ext cx="2828880" cy="55224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411" name="Picture 10" descr=""/>
          <p:cNvPicPr/>
          <p:nvPr/>
        </p:nvPicPr>
        <p:blipFill>
          <a:blip r:embed="rId3"/>
          <a:stretch/>
        </p:blipFill>
        <p:spPr>
          <a:xfrm>
            <a:off x="1243080" y="5732640"/>
            <a:ext cx="2847960" cy="58068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30066"/>
                </a:solidFill>
                <a:latin typeface="Arial"/>
              </a:rPr>
              <a:t>Εικονίδια γραμματοσειράς (</a:t>
            </a: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font icons)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646200" y="1825200"/>
            <a:ext cx="8105760" cy="15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-1886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Περιέχει τα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lyphicon font ic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Χρήση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4" descr=""/>
          <p:cNvPicPr/>
          <p:nvPr/>
        </p:nvPicPr>
        <p:blipFill>
          <a:blip r:embed="rId1"/>
          <a:stretch/>
        </p:blipFill>
        <p:spPr>
          <a:xfrm>
            <a:off x="1459080" y="4869000"/>
            <a:ext cx="6172200" cy="1406520"/>
          </a:xfrm>
          <a:prstGeom prst="rect">
            <a:avLst/>
          </a:prstGeom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  <p:pic>
        <p:nvPicPr>
          <p:cNvPr id="415" name="Picture 6" descr=""/>
          <p:cNvPicPr/>
          <p:nvPr/>
        </p:nvPicPr>
        <p:blipFill>
          <a:blip r:embed="rId2"/>
          <a:stretch/>
        </p:blipFill>
        <p:spPr>
          <a:xfrm>
            <a:off x="1098720" y="2637000"/>
            <a:ext cx="7086600" cy="1056960"/>
          </a:xfrm>
          <a:prstGeom prst="rect">
            <a:avLst/>
          </a:prstGeom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-360" y="466200"/>
            <a:ext cx="75121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800" spc="-1" strike="noStrike">
                <a:solidFill>
                  <a:srgbClr val="330066"/>
                </a:solidFill>
                <a:latin typeface="Arial"/>
              </a:rPr>
              <a:t>Τέλος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873000" y="3049560"/>
            <a:ext cx="64216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Ερωτήσει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Το στοιχείο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DY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 - παράμετρο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9800" y="1719000"/>
            <a:ext cx="867096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gcol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: το χρώμα του φόντου της σελίδα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: το χρώμα των χαρακτήρων του κειμένο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link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ink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: το χρώμα των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: το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L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της εικόνας που θα εμφανίζεται στο φόντο της σελίδα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&lt;body</a:t>
            </a:r>
            <a:r>
              <a:rPr b="0" lang="el-GR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gcolor=blue text=orange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lue = #0000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30066"/>
                </a:solidFill>
                <a:latin typeface="Arial"/>
              </a:rPr>
              <a:t>Τα </a:t>
            </a: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attributes</a:t>
            </a:r>
            <a:r>
              <a:rPr b="1" lang="el-GR" sz="3600" spc="-1" strike="noStrike">
                <a:solidFill>
                  <a:srgbClr val="330066"/>
                </a:solidFill>
                <a:latin typeface="Arial"/>
              </a:rPr>
              <a:t> είναι ξεπερασμένα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554040" y="1989000"/>
            <a:ext cx="82440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4T15:19:43Z</dcterms:created>
  <dc:creator>mitsos</dc:creator>
  <dc:description/>
  <dc:language>en-US</dc:language>
  <cp:lastModifiedBy>Πλέσσας Αθανάσιος</cp:lastModifiedBy>
  <dcterms:modified xsi:type="dcterms:W3CDTF">2021-11-04T12:08:53Z</dcterms:modified>
  <cp:revision>635</cp:revision>
  <dc:subject/>
  <dc:title>Τεχνολογίες Διαδικτύου</dc:title>
</cp:coreProperties>
</file>