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</p:sldIdLst>
  <p:sldSz cx="9399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079640" y="685440"/>
            <a:ext cx="46987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4FFE-7672-4D0C-8C58-740D5F41C4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82A9-0F6B-4200-8162-4BE11E2423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3 - Θέση αριθμού διαφάνειας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D929-EDF1-4A74-BA12-1E8B9D4085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7314-EF8B-4E76-AFD5-EEF985CA04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84C5-B9F2-493D-A323-1398C7CF06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A060-83B8-4808-BE2A-AC55FBAD66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69872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E83-30E7-4CFC-A7F8-9F30A824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AF71-CDDB-4C94-BF91-297465B6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4C4-E437-4262-988B-142B8754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BDD2-775B-4419-A2C6-F4006D16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0AAC-7989-462F-89C8-E1163F01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30A9-18CE-4151-8F33-BA3F0549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BE14-C038-4EB3-8022-A13EA4E9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05F8-792F-4665-A298-4CE0CA55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C1BF-4E87-4A65-A1A2-E8DBFC5A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D608-F58E-44B6-9C42-3616B0C9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C5D9-DA6A-45BF-B8E9-CD863721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9834-7E79-4D3B-BFD2-175B6275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D999-8DDD-47FC-9C1C-501B2846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7949-7367-4CE9-A13E-FB434608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D71B-E4B7-43C0-8237-7B04A3AD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2833-491D-4079-B48C-BC37569C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292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89480" y="171936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944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292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89480" y="4023720"/>
            <a:ext cx="2723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F902-8D74-4F30-8AAF-149FD6E4E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553-B9A1-48F0-A461-F97EF3B8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3B2F-7B4C-4134-82E6-74B322AD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C492-B737-49D6-97ED-7E59CAEE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9440" y="122400"/>
            <a:ext cx="775332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AB0-CA77-4615-96B8-24918AA0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88E-E7F9-409E-B278-2EBBE256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803480" y="402372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DBA1-2B37-402A-8C78-9D64A259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3480" y="1719360"/>
            <a:ext cx="4127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9440" y="4023720"/>
            <a:ext cx="84582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F4AD-D881-4FAA-9B48-A8F07566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1835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C805-F3CD-4DC8-922E-17702BA5A6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380440" y="152280"/>
            <a:ext cx="813960" cy="1295280"/>
            <a:chOff x="8380440" y="152280"/>
            <a:chExt cx="813960" cy="1295280"/>
          </a:xfrm>
        </p:grpSpPr>
        <p:sp>
          <p:nvSpPr>
            <p:cNvPr id="7" name="Oval 9"/>
            <p:cNvSpPr/>
            <p:nvPr/>
          </p:nvSpPr>
          <p:spPr>
            <a:xfrm>
              <a:off x="8380440" y="15228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552880" y="152280"/>
              <a:ext cx="1216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72568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380440" y="320040"/>
              <a:ext cx="12312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552880" y="320040"/>
              <a:ext cx="1216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72568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8984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380440" y="488160"/>
              <a:ext cx="12312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552880" y="488160"/>
              <a:ext cx="1216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725680" y="488160"/>
              <a:ext cx="1155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898480" y="488160"/>
              <a:ext cx="11232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071280" y="488160"/>
              <a:ext cx="12312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380440" y="655920"/>
              <a:ext cx="12312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552880" y="65592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72568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8984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380440" y="824040"/>
              <a:ext cx="12312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552880" y="824040"/>
              <a:ext cx="1216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7256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8984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071280" y="824040"/>
              <a:ext cx="12312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380440" y="992160"/>
              <a:ext cx="12312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552880" y="992160"/>
              <a:ext cx="1216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72568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8984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380440" y="1159920"/>
              <a:ext cx="12312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552880" y="1159920"/>
              <a:ext cx="1216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725680" y="1159920"/>
              <a:ext cx="1155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8984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552880" y="1328040"/>
              <a:ext cx="1216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8984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1026"/>
          <p:cNvSpPr/>
          <p:nvPr/>
        </p:nvSpPr>
        <p:spPr>
          <a:xfrm>
            <a:off x="751824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32"/>
          <p:cNvGrpSpPr/>
          <p:nvPr/>
        </p:nvGrpSpPr>
        <p:grpSpPr>
          <a:xfrm>
            <a:off x="7701120" y="2992320"/>
            <a:ext cx="1375920" cy="2189160"/>
            <a:chOff x="7701120" y="2992320"/>
            <a:chExt cx="1375920" cy="2189160"/>
          </a:xfrm>
        </p:grpSpPr>
        <p:sp>
          <p:nvSpPr>
            <p:cNvPr id="76" name="Oval 1033"/>
            <p:cNvSpPr/>
            <p:nvPr/>
          </p:nvSpPr>
          <p:spPr>
            <a:xfrm>
              <a:off x="770112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34"/>
            <p:cNvSpPr/>
            <p:nvPr/>
          </p:nvSpPr>
          <p:spPr>
            <a:xfrm>
              <a:off x="799344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035"/>
            <p:cNvSpPr/>
            <p:nvPr/>
          </p:nvSpPr>
          <p:spPr>
            <a:xfrm>
              <a:off x="8285400" y="29923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036"/>
            <p:cNvSpPr/>
            <p:nvPr/>
          </p:nvSpPr>
          <p:spPr>
            <a:xfrm>
              <a:off x="770112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037"/>
            <p:cNvSpPr/>
            <p:nvPr/>
          </p:nvSpPr>
          <p:spPr>
            <a:xfrm>
              <a:off x="799344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038"/>
            <p:cNvSpPr/>
            <p:nvPr/>
          </p:nvSpPr>
          <p:spPr>
            <a:xfrm>
              <a:off x="8285400" y="327672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039"/>
            <p:cNvSpPr/>
            <p:nvPr/>
          </p:nvSpPr>
          <p:spPr>
            <a:xfrm>
              <a:off x="8577360" y="327672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40"/>
            <p:cNvSpPr/>
            <p:nvPr/>
          </p:nvSpPr>
          <p:spPr>
            <a:xfrm>
              <a:off x="770112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041"/>
            <p:cNvSpPr/>
            <p:nvPr/>
          </p:nvSpPr>
          <p:spPr>
            <a:xfrm>
              <a:off x="7993440" y="3560760"/>
              <a:ext cx="20700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042"/>
            <p:cNvSpPr/>
            <p:nvPr/>
          </p:nvSpPr>
          <p:spPr>
            <a:xfrm>
              <a:off x="828540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043"/>
            <p:cNvSpPr/>
            <p:nvPr/>
          </p:nvSpPr>
          <p:spPr>
            <a:xfrm>
              <a:off x="8577360" y="356076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044"/>
            <p:cNvSpPr/>
            <p:nvPr/>
          </p:nvSpPr>
          <p:spPr>
            <a:xfrm>
              <a:off x="8870040" y="356076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045"/>
            <p:cNvSpPr/>
            <p:nvPr/>
          </p:nvSpPr>
          <p:spPr>
            <a:xfrm>
              <a:off x="7701120" y="3843360"/>
              <a:ext cx="20700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046"/>
            <p:cNvSpPr/>
            <p:nvPr/>
          </p:nvSpPr>
          <p:spPr>
            <a:xfrm>
              <a:off x="799344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047"/>
            <p:cNvSpPr/>
            <p:nvPr/>
          </p:nvSpPr>
          <p:spPr>
            <a:xfrm>
              <a:off x="8285400" y="3843360"/>
              <a:ext cx="2070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1048"/>
            <p:cNvSpPr/>
            <p:nvPr/>
          </p:nvSpPr>
          <p:spPr>
            <a:xfrm>
              <a:off x="8577360" y="3843360"/>
              <a:ext cx="2070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1049"/>
            <p:cNvSpPr/>
            <p:nvPr/>
          </p:nvSpPr>
          <p:spPr>
            <a:xfrm>
              <a:off x="770112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1050"/>
            <p:cNvSpPr/>
            <p:nvPr/>
          </p:nvSpPr>
          <p:spPr>
            <a:xfrm>
              <a:off x="7993440" y="4127400"/>
              <a:ext cx="20700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051"/>
            <p:cNvSpPr/>
            <p:nvPr/>
          </p:nvSpPr>
          <p:spPr>
            <a:xfrm>
              <a:off x="828540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052"/>
            <p:cNvSpPr/>
            <p:nvPr/>
          </p:nvSpPr>
          <p:spPr>
            <a:xfrm>
              <a:off x="8577360" y="4127400"/>
              <a:ext cx="20700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053"/>
            <p:cNvSpPr/>
            <p:nvPr/>
          </p:nvSpPr>
          <p:spPr>
            <a:xfrm>
              <a:off x="8870040" y="4127400"/>
              <a:ext cx="20700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054"/>
            <p:cNvSpPr/>
            <p:nvPr/>
          </p:nvSpPr>
          <p:spPr>
            <a:xfrm>
              <a:off x="7701120" y="4411800"/>
              <a:ext cx="2070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55"/>
            <p:cNvSpPr/>
            <p:nvPr/>
          </p:nvSpPr>
          <p:spPr>
            <a:xfrm>
              <a:off x="799344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56"/>
            <p:cNvSpPr/>
            <p:nvPr/>
          </p:nvSpPr>
          <p:spPr>
            <a:xfrm>
              <a:off x="8285400" y="441180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57"/>
            <p:cNvSpPr/>
            <p:nvPr/>
          </p:nvSpPr>
          <p:spPr>
            <a:xfrm>
              <a:off x="8577360" y="441180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58"/>
            <p:cNvSpPr/>
            <p:nvPr/>
          </p:nvSpPr>
          <p:spPr>
            <a:xfrm>
              <a:off x="770112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59"/>
            <p:cNvSpPr/>
            <p:nvPr/>
          </p:nvSpPr>
          <p:spPr>
            <a:xfrm>
              <a:off x="7993440" y="4695840"/>
              <a:ext cx="2070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60"/>
            <p:cNvSpPr/>
            <p:nvPr/>
          </p:nvSpPr>
          <p:spPr>
            <a:xfrm>
              <a:off x="828540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1"/>
            <p:cNvSpPr/>
            <p:nvPr/>
          </p:nvSpPr>
          <p:spPr>
            <a:xfrm>
              <a:off x="8577360" y="469584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62"/>
            <p:cNvSpPr/>
            <p:nvPr/>
          </p:nvSpPr>
          <p:spPr>
            <a:xfrm>
              <a:off x="799344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63"/>
            <p:cNvSpPr/>
            <p:nvPr/>
          </p:nvSpPr>
          <p:spPr>
            <a:xfrm>
              <a:off x="8577360" y="4979880"/>
              <a:ext cx="2070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1064"/>
          <p:cNvSpPr/>
          <p:nvPr/>
        </p:nvSpPr>
        <p:spPr>
          <a:xfrm>
            <a:off x="312840" y="2819520"/>
            <a:ext cx="84582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698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211560" y="624852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735600" y="6248520"/>
            <a:ext cx="219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E17A-A034-487F-8B23-8F90C57917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h02/02/header.html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ch02/07/contact.html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ch02/08/lists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ch02/08/ordered_links.html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ch02/08/orismou_links.html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ch02/09/list.html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h02/03/links.html" TargetMode="External"/><Relationship Id="rId2" Type="http://schemas.openxmlformats.org/officeDocument/2006/relationships/hyperlink" Target="file:///ch02/03/links.html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ch02/05/picture.html" TargetMode="External"/><Relationship Id="rId2" Type="http://schemas.openxmlformats.org/officeDocument/2006/relationships/hyperlink" Target="file:///ch02/05/picture.html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ch03/01/table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ch03/01/table.html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ch03/02/table.html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ch03/02/table.html" TargetMode="External"/><Relationship Id="rId2" Type="http://schemas.openxmlformats.org/officeDocument/2006/relationships/hyperlink" Target="file:///ch03/02/table.html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ch03/03/form.html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ch03/04/form.html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ch03/05/form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w3schools.com/html/html5_canvas.asp" TargetMode="External"/><Relationship Id="rId2" Type="http://schemas.openxmlformats.org/officeDocument/2006/relationships/hyperlink" Target="http://www.w3schools.com/html/html5_draganddrop.asp" TargetMode="External"/><Relationship Id="rId3" Type="http://schemas.openxmlformats.org/officeDocument/2006/relationships/hyperlink" Target="http://www.w3schools.com/html/html5_geolocation.asp" TargetMode="External"/><Relationship Id="rId4" Type="http://schemas.openxmlformats.org/officeDocument/2006/relationships/hyperlink" Target="http://www.w3schools.com/html/html5_audio.asp" TargetMode="External"/><Relationship Id="rId5" Type="http://schemas.openxmlformats.org/officeDocument/2006/relationships/hyperlink" Target="http://www.w3schools.com/html/html5_video.asp" TargetMode="External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validator.w3.org/" TargetMode="External"/><Relationship Id="rId2" Type="http://schemas.openxmlformats.org/officeDocument/2006/relationships/hyperlink" Target="file:///ch03/05/bad_html.html" TargetMode="External"/><Relationship Id="rId3" Type="http://schemas.openxmlformats.org/officeDocument/2006/relationships/hyperlink" Target="https://www.w3.org/wiki/Validating_your_HTML?TB_iframe=true#Different_browsers_interpret_invalid_HTML_differently" TargetMode="External"/><Relationship Id="rId4" Type="http://schemas.openxmlformats.org/officeDocument/2006/relationships/hyperlink" Target="https://www.w3.org/wiki/Validating_your_HTML?TB_iframe=true#Different_browsers_interpret_invalid_HTML_differently" TargetMode="External"/><Relationship Id="rId5" Type="http://schemas.openxmlformats.org/officeDocument/2006/relationships/hyperlink" Target="https://www.w3.org/wiki/Validating_your_HTML?TB_iframe=true#Different_browsers_interpret_invalid_HTML_differently" TargetMode="External"/><Relationship Id="rId6" Type="http://schemas.openxmlformats.org/officeDocument/2006/relationships/hyperlink" Target="https://www.w3.org/wiki/Validating_your_HTML?TB_iframe=true#Different_browsers_interpret_invalid_HTML_differently" TargetMode="External"/><Relationship Id="rId7" Type="http://schemas.openxmlformats.org/officeDocument/2006/relationships/hyperlink" Target="https://www.w3.org/wiki/Validating_your_HTML?TB_iframe=true#Different_browsers_interpret_invalid_HTML_differently" TargetMode="External"/><Relationship Id="rId8" Type="http://schemas.openxmlformats.org/officeDocument/2006/relationships/hyperlink" Target="https://www.w3.org/wiki/Validating_your_HTML?TB_iframe=true#Different_browsers_interpret_invalid_HTML_differently" TargetMode="External"/><Relationship Id="rId9" Type="http://schemas.openxmlformats.org/officeDocument/2006/relationships/hyperlink" Target="https://www.w3.org/wiki/Validating_your_HTML?TB_iframe=true#Different_browsers_interpret_invalid_HTML_differently" TargetMode="External"/><Relationship Id="rId10" Type="http://schemas.openxmlformats.org/officeDocument/2006/relationships/hyperlink" Target="https://www.w3.org/wiki/Validating_your_HTML?TB_iframe=true#Different_browsers_interpret_invalid_HTML_differently" TargetMode="External"/><Relationship Id="rId11" Type="http://schemas.openxmlformats.org/officeDocument/2006/relationships/hyperlink" Target="https://www.w3.org/wiki/Validating_your_HTML?TB_iframe=true#Different_browsers_interpret_invalid_HTML_differently" TargetMode="External"/><Relationship Id="rId12" Type="http://schemas.openxmlformats.org/officeDocument/2006/relationships/hyperlink" Target="https://www.w3.org/wiki/Validating_your_HTML?TB_iframe=true#Different_browsers_interpret_invalid_HTML_differently" TargetMode="External"/><Relationship Id="rId13" Type="http://schemas.openxmlformats.org/officeDocument/2006/relationships/hyperlink" Target="https://www.w3.org/wiki/Validating_your_HTML?TB_iframe=true#Different_browsers_interpret_invalid_HTML_differently" TargetMode="External"/><Relationship Id="rId14" Type="http://schemas.openxmlformats.org/officeDocument/2006/relationships/hyperlink" Target="https://www.w3.org/wiki/Validating_your_HTML?TB_iframe=true#Different_browsers_interpret_invalid_HTML_differently" TargetMode="External"/><Relationship Id="rId15" Type="http://schemas.openxmlformats.org/officeDocument/2006/relationships/hyperlink" Target="https://www.w3.org/wiki/Validating_your_HTML?TB_iframe=true#Different_browsers_interpret_invalid_HTML_differently" TargetMode="External"/><Relationship Id="rId16" Type="http://schemas.openxmlformats.org/officeDocument/2006/relationships/hyperlink" Target="https://www.w3.org/wiki/Validating_your_HTML?TB_iframe=true#Different_browsers_interpret_invalid_HTML_differently" TargetMode="External"/><Relationship Id="rId1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ch04/01/inline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ch04/02/declared.html" TargetMode="Externa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ch04/02/declared.html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ch04/03/advanced.html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ch04/05/imported.html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h02/01/main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h02/01/main_fonto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Προγραμματισμός &amp; Συστήματα στον Παγκόσμιο Ιστό 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«γλώσσα»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 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4320" y="122040"/>
            <a:ext cx="803880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80960" y="1412640"/>
            <a:ext cx="8670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περιοχή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πικεφαλίδες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&lt;h1&gt;&lt;/h1&gt;, …, &lt;h6&gt;&lt;/h6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αράγραφοι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p&gt;&lt;/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Λίστ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ul&gt;, &lt;ol&gt; &lt;dl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Φόρμες - &l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&gt;&lt;/for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Πίνακ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table&gt;&lt;/table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Οριζόντιες γραμμέ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h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ορισμού κειμέν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nt style elements - &lt;b&gt;&lt;/b&gt;, &lt;i&gt;&lt;/i&gt;, &lt;u&gt;&lt;/u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s - &lt;a&gt;&lt;/a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Εικόνες -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mg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Διακοπές κειμένο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&lt;br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πικεφαλίδες –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1, …, h6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9800" y="1557360"/>
            <a:ext cx="86709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h1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1 Header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2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align=cen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2 header&lt;/h2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3&gt;Level 3 header&lt;/h3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4 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align=ri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4 header&lt;/h4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5&gt;Level 5 header&lt;/h5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6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lign=lef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Level 6 header&lt;/h6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3 - TextBox"/>
          <p:cNvSpPr/>
          <p:nvPr/>
        </p:nvSpPr>
        <p:spPr>
          <a:xfrm>
            <a:off x="554040" y="5877000"/>
            <a:ext cx="82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 desig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γραφοι – </a:t>
            </a:r>
            <a:br>
              <a:rPr sz="3900"/>
            </a:b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ορφοποίηση κειμέν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l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i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rom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entation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&lt;strong&gt;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copy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strong&gt;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ex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u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amp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l.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 know that 2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p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024 </a:t>
            </a:r>
            <a:r>
              <a:rPr b="0" lang="en-US" sz="2100" spc="-1" strike="noStrike">
                <a:solidFill>
                  <a:srgbClr val="669999"/>
                </a:solidFill>
                <a:latin typeface="Arial"/>
              </a:rPr>
              <a:t>&lt;/del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lt;br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t you 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times</a:t>
            </a:r>
            <a:r>
              <a:rPr b="0" lang="en-US" sz="2100" spc="-1" strike="noStrike">
                <a:solidFill>
                  <a:srgbClr val="330066"/>
                </a:solidFill>
                <a:latin typeface="Arial"/>
              </a:rPr>
              <a:t>&lt;/sub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make mistakes.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p&gt;Did you know how to write this 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strong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&amp;frac14;</a:t>
            </a:r>
            <a:r>
              <a:rPr b="0" lang="en-US" sz="2100" spc="-1" strike="noStrike">
                <a:solidFill>
                  <a:srgbClr val="7e9ce8"/>
                </a:solidFill>
                <a:latin typeface="Arial"/>
              </a:rPr>
              <a:t>&lt;/strong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??? &lt;/p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cc00"/>
                </a:solidFill>
                <a:latin typeface="Arial"/>
              </a:rPr>
              <a:t>&lt;hr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&lt;!-- Inserts a horizontal rule --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η 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</a:t>
            </a:r>
            <a:r>
              <a:rPr b="0" lang="it-IT" sz="3000" spc="-1" strike="noStrike">
                <a:solidFill>
                  <a:srgbClr val="330066"/>
                </a:solidFill>
                <a:latin typeface="Arial"/>
              </a:rPr>
              <a:t>type=disc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ng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type=</a:t>
            </a:r>
            <a:r>
              <a:rPr b="0" lang="it-IT" sz="3000" spc="-1" strike="noStrike">
                <a:solidFill>
                  <a:srgbClr val="7e9ce8"/>
                </a:solidFill>
                <a:latin typeface="Arial"/>
              </a:rPr>
              <a:t>square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hoo!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type=</a:t>
            </a:r>
            <a:r>
              <a:rPr b="0" lang="it-IT" sz="3000" spc="-1" strike="noStrike">
                <a:solidFill>
                  <a:srgbClr val="669999"/>
                </a:solidFill>
                <a:latin typeface="Arial"/>
              </a:rPr>
              <a:t>circle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Ask.com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ατεταγ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</a:t>
            </a:r>
            <a:r>
              <a:rPr b="0" lang="it-IT" sz="3000" spc="-1" strike="noStrike">
                <a:solidFill>
                  <a:srgbClr val="330066"/>
                </a:solidFill>
                <a:latin typeface="Arial"/>
              </a:rPr>
              <a:t>type=1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Bing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type=</a:t>
            </a:r>
            <a:r>
              <a:rPr b="0" lang="it-IT" sz="3000" spc="-1" strike="noStrike">
                <a:solidFill>
                  <a:srgbClr val="7e9ce8"/>
                </a:solidFill>
                <a:latin typeface="Arial"/>
              </a:rPr>
              <a:t>a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ahoo!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li type=</a:t>
            </a:r>
            <a:r>
              <a:rPr b="0" lang="it-IT" sz="3000" spc="-1" strike="noStrike">
                <a:solidFill>
                  <a:srgbClr val="669999"/>
                </a:solidFill>
                <a:latin typeface="Arial"/>
              </a:rPr>
              <a:t>I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Ask.com&lt;/li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ol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Λίστες ορισμού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dl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dt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t&gt;&lt;dd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i&gt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καλύτερο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i&gt;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d&gt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dt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ahoo!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t&gt;&lt;dd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i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αλιός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i&gt;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dt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g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t&gt;&lt;dd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i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$oft :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i&gt;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dt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k.com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t&gt;&lt;dd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i&gt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ολύ καλή η ιδέα των ερωτήσεων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i&gt;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&lt;/d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/dl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. Meta tag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UTF-8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SO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μφωλευμένες λίστ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9800" y="980640"/>
            <a:ext cx="86709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ou have access to new media as it becomes public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New game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w applicat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business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For pleasure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Around the clock new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ul&gt;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en-US" sz="1900" spc="-1" strike="noStrike">
                <a:solidFill>
                  <a:srgbClr val="cc00ff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Java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7e9ce8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l-GR" sz="19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cccc00"/>
                </a:solidFill>
                <a:latin typeface="Arial"/>
              </a:rPr>
              <a:t>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330066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669999"/>
                </a:solidFill>
                <a:latin typeface="Arial"/>
              </a:rPr>
              <a:t>&lt;/li&gt;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&lt;li&gt;Keeping in touch with old friends&lt;/li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Arial"/>
              </a:rPr>
              <a:t>&lt;/ul&gt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nk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href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en-US" sz="2500" spc="-1" strike="noStrike">
                <a:solidFill>
                  <a:srgbClr val="330066"/>
                </a:solidFill>
                <a:latin typeface="Arial"/>
              </a:rPr>
              <a:t>http://www.gmail.c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ogle Mail</a:t>
            </a:r>
            <a:r>
              <a:rPr b="0" lang="en-US" sz="2500" spc="-1" strike="noStrike">
                <a:solidFill>
                  <a:srgbClr val="ff9900"/>
                </a:solidFill>
                <a:latin typeface="Arial"/>
              </a:rPr>
              <a:t>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cccc00"/>
                </a:solidFill>
                <a:latin typeface="Arial"/>
              </a:rPr>
              <a:t>links2.html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Another page on the same folder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669999"/>
                </a:solidFill>
                <a:latin typeface="Arial"/>
              </a:rPr>
              <a:t>mailto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efanis@ceid.upatras.gr"&gt;email m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href = "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#bottom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"&gt;Go to the bottom of this page&lt;/a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lt;a </a:t>
            </a:r>
            <a:r>
              <a:rPr b="0" lang="en-US" sz="2500" spc="-1" strike="noStrike">
                <a:solidFill>
                  <a:srgbClr val="7e9ce8"/>
                </a:solidFill>
                <a:latin typeface="Arial"/>
              </a:rPr>
              <a:t>name="bottom"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&gt;&lt;h2&gt;Here is the bottom&lt;/h2&gt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ικόνες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im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src = "stoneage2.jpg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alt = "New email"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 hre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“</a:t>
            </a: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../03/links.htm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</a:rPr>
              <a:t>&lt;img src = "stoneage2.jpg" alt = "New email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img </a:t>
            </a:r>
            <a:r>
              <a:rPr b="0" lang="en-US" sz="3000" spc="-1" strike="noStrike">
                <a:solidFill>
                  <a:srgbClr val="ff9900"/>
                </a:solidFill>
                <a:latin typeface="Arial"/>
              </a:rPr>
              <a:t>border = “0”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rc = "stoneage2.jpg"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ίνακ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border = "1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width = "40%" 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align = "center"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caption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a small sample table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th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head.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&lt;/th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0066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td&g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body.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&lt;/t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/ta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yper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ex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arkup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angu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4.01 (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11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5.2 (20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HTML αρχείο είναι ένα αρχείο κειμένου που περιέχει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markup tag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ένε στο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Browse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πώς να παρουσιάσει το περιεχόμενο της σελίδα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α HTML αρχεία έχουν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htm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ή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καταλήξει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Ένα HTML αρχείο μπορεί να δημιουργηθεί χρησιμοποιώντας έναν απλό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text editor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(π.χ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pad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able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ig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= {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ft, right, cent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ην οριζόντια τοποθέτηση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45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50%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ίνακ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rder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 πλάτος του περιγράμματο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cellspac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{0,1,…} :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το κενό μεταξύ γειτονικών κελιών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cellpadding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: το κενό μεταξύ κελιού και περιεχομέ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caption align = {top, bottom}&gt;…&lt;/capti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4320" y="304560"/>
            <a:ext cx="8038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ς πολύπλοκος πίνακα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12840" y="1066680"/>
            <a:ext cx="8827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table border = "1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owspan = "2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lt;img src = "camel.gif"&gt;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 </a:t>
            </a:r>
            <a:r>
              <a:rPr b="0" lang="en-US" sz="2400" spc="-1" strike="noStrike">
                <a:solidFill>
                  <a:srgbClr val="cccc00"/>
                </a:solidFill>
                <a:latin typeface="Arial"/>
              </a:rPr>
              <a:t>colspan = "4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ign = "top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1&gt;Camelid comparison&lt;/h1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r 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valign = "bottom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# of Humps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Indigenous region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Spits?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th&gt;Produces Wool?&lt;/t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r&gt;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 / th / td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9440" y="1719000"/>
            <a:ext cx="892836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rap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παγορεύει την αναδίπλωση κειμέ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owspa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{int} :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τις γραμμές που καταλαμβάνονται από το κελ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colspan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: τις στήλες που καταλαμβάνοντα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dth / height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ο πλάτο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ύψος του κελι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ign / valign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ιζόντια / κάθετη ευθυγράμμιση των περιεχομένω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g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Φόρμ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9800" y="1557000"/>
            <a:ext cx="86709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method = "pos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ction = "formmail</a:t>
            </a:r>
            <a:r>
              <a:rPr b="0" lang="el-GR" sz="2600" spc="-1" strike="noStrike">
                <a:solidFill>
                  <a:srgbClr val="669999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669999"/>
                </a:solidFill>
                <a:latin typeface="Arial"/>
              </a:rPr>
              <a:t>asp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inpu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hidden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subjec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value = "Feedback Form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name = "name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tex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ize = "25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submi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Submit Your Entries"&gt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type = "reset"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value = "Clear Your Entries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&lt;/form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a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θα χρησιμοποιηθεί από τον εξυπηρετητή για να επεξεργαστεί τα δεδομένα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method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, pos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ρίζει τη μέθοδο αποστολής των περιεχομένων της φόρμα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έλνει τα περιεχόμενα σα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α στέλνει στ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ώμα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ηνύ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enctype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αθορίζει τον τύπο αποκωδικοποίησης των περιεχομέν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ία πολύπλοκη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7320" y="1557000"/>
            <a:ext cx="90835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form method = "post" action = " formmail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p"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ents: &lt;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extare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7e9ce8"/>
                </a:solidFill>
                <a:latin typeface="Arial"/>
              </a:rPr>
              <a:t>name = "comments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rows = "4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669999"/>
                </a:solidFill>
                <a:latin typeface="Arial"/>
              </a:rPr>
              <a:t>cols = "36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lo to our lesson!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&lt;/textarea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il Addres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ame = "email" </a:t>
            </a: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type = "password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ize = "25"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t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thingsliked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type = "checkbox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alue = "Design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thingsliked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9900"/>
                </a:solidFill>
                <a:latin typeface="Arial"/>
              </a:rPr>
              <a:t>type = "checkbox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alue = "Links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e of u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input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thingsliked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ype = "checkbox"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alue = "Ease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4320" y="274320"/>
            <a:ext cx="80388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Άλλη μία φόρ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7320" y="1066680"/>
            <a:ext cx="908352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form method = "post" action = "formmail.asp"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arch engine &lt;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p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how_get_to_site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type = "radio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669999"/>
                </a:solidFill>
                <a:latin typeface="Arial"/>
              </a:rPr>
              <a:t>value = "search engine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00ff"/>
                </a:solidFill>
                <a:latin typeface="Arial"/>
              </a:rPr>
              <a:t>check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s from another site &lt;input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 how_get_to_site 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type = "radio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669999"/>
                </a:solidFill>
                <a:latin typeface="Arial"/>
              </a:rPr>
              <a:t>value = "link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gle.com Web site &lt;input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 how_get_to_site 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cccc00"/>
                </a:solidFill>
                <a:latin typeface="Arial"/>
              </a:rPr>
              <a:t>type = "radio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alue = “google.com"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te our site: &lt;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le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30066"/>
                </a:solidFill>
                <a:latin typeface="Arial"/>
              </a:rPr>
              <a:t>name = "rating"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option </a:t>
            </a:r>
            <a:r>
              <a:rPr b="0" lang="en-US" sz="2200" spc="-1" strike="noStrike">
                <a:solidFill>
                  <a:srgbClr val="cc00ff"/>
                </a:solidFill>
                <a:latin typeface="Arial"/>
              </a:rPr>
              <a:t>select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gt;Amazing:-)&lt;/option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&lt;option&gt;10&lt;/option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option&gt;5&lt;/option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option&gt;1&lt;/option&gt;&lt;option&gt;The Pits:-(&lt;/option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&lt;/select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inp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ίρνει διάφορες παραμέτρου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παγορεύεται να υπάρχει ετικέτα τέλους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input&gt;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cc00"/>
                </a:solidFill>
                <a:latin typeface="Arial"/>
              </a:rPr>
              <a:t>textarea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 πεδία κειμένου πολλαπλών γραμμών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ws / colum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textarea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9999"/>
                </a:solidFill>
                <a:latin typeface="Arial"/>
              </a:rPr>
              <a:t>selec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μονής ή πολλαπλής επιλογής μενο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/selec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7518240" y="2514600"/>
            <a:ext cx="125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nput – </a:t>
            </a:r>
            <a:br>
              <a:rPr sz="3500"/>
            </a:b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παράμετρος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ype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αθορίζει τον τύπο του πεδίου εισόδ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ex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είμενο μίας γραμμής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ze,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xleng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passwor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όμοιο με τον τύπ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, αλλά απεικονίζει τον χαρακτήρα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heckbo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δημιουργεί ζεύγος ονόματος/τιμής, υποστηρίζονται πολλαπλές τιμές –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adi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δέχεται μόνο μία τιμή, μία ομάδα επιλογών έχει το ίδιο όνομ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ubmi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αποστολή δεδομέν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es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: «καθαρίζει» τα περιεχόμεν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Γιατί τα εισαγωγικά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187800" y="1579680"/>
            <a:ext cx="2798640" cy="2614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"/>
          <p:cNvPicPr/>
          <p:nvPr/>
        </p:nvPicPr>
        <p:blipFill>
          <a:blip r:embed="rId2"/>
          <a:stretch/>
        </p:blipFill>
        <p:spPr>
          <a:xfrm>
            <a:off x="480960" y="5157720"/>
            <a:ext cx="1182600" cy="1084320"/>
          </a:xfrm>
          <a:prstGeom prst="rect">
            <a:avLst/>
          </a:prstGeom>
          <a:ln w="0">
            <a:noFill/>
          </a:ln>
        </p:spPr>
      </p:pic>
      <p:sp>
        <p:nvSpPr>
          <p:cNvPr id="223" name="6 - Επεξήγηση με στρογγυλεμένο παραλληλόγραμμο"/>
          <p:cNvSpPr/>
          <p:nvPr/>
        </p:nvSpPr>
        <p:spPr>
          <a:xfrm>
            <a:off x="5661000" y="3429000"/>
            <a:ext cx="2293920" cy="1079640"/>
          </a:xfrm>
          <a:prstGeom prst="wedgeRoundRectCallout">
            <a:avLst>
              <a:gd name="adj1" fmla="val -3055"/>
              <a:gd name="adj2" fmla="val 111217"/>
              <a:gd name="adj3" fmla="val 16667"/>
            </a:avLst>
          </a:prstGeom>
          <a:solidFill>
            <a:srgbClr val="bfbfb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Βάλε εισαγωγικά στη λέξη γλώσσα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7 - Επεξήγηση με σύννεφο"/>
          <p:cNvSpPr/>
          <p:nvPr/>
        </p:nvSpPr>
        <p:spPr>
          <a:xfrm>
            <a:off x="1517760" y="3573360"/>
            <a:ext cx="3403440" cy="1368360"/>
          </a:xfrm>
          <a:prstGeom prst="cloudCallout">
            <a:avLst>
              <a:gd name="adj1" fmla="val -41925"/>
              <a:gd name="adj2" fmla="val 90240"/>
            </a:avLst>
          </a:prstGeom>
          <a:solidFill>
            <a:srgbClr val="bfbfb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ιλάς με γρίφους γέροντα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3"/>
          <a:stretch/>
        </p:blipFill>
        <p:spPr>
          <a:xfrm>
            <a:off x="6919920" y="5100480"/>
            <a:ext cx="247824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ονοδιάγραμμα Ανάπτυξης του Προτύπου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9440" y="1719360"/>
            <a:ext cx="8458200" cy="50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Πηγή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s://slideplayer.com/slide/14830329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Εικόνα 3" descr=""/>
          <p:cNvPicPr/>
          <p:nvPr/>
        </p:nvPicPr>
        <p:blipFill>
          <a:blip r:embed="rId1"/>
          <a:stretch/>
        </p:blipFill>
        <p:spPr>
          <a:xfrm>
            <a:off x="1521000" y="1792440"/>
            <a:ext cx="635616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Η </a:t>
            </a: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HTML</a:t>
            </a:r>
            <a:r>
              <a:rPr b="1" lang="el-GR" sz="3200" spc="-1" strike="noStrike">
                <a:solidFill>
                  <a:srgbClr val="330066"/>
                </a:solidFill>
                <a:latin typeface="Arial"/>
              </a:rPr>
              <a:t> δεν είναι γλώσσα προγραμματισμου!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9440" y="1719000"/>
            <a:ext cx="8458200" cy="25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Είναι απλά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up.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τ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ν έχει δομές ελέγχου και επανάληψ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δηλώνεις μεταβλητέ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γράφεις συναρτή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ε κάνεις λογικ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1400" indent="-291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&amp; μαθηματικούς υπολογισμ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3 - Εικόνα" descr="11.jpg"/>
          <p:cNvPicPr/>
          <p:nvPr/>
        </p:nvPicPr>
        <p:blipFill>
          <a:blip r:embed="rId1"/>
          <a:stretch/>
        </p:blipFill>
        <p:spPr>
          <a:xfrm>
            <a:off x="5956200" y="2766960"/>
            <a:ext cx="34434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5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νέ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ρότυπο για τη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Νέ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 –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ιώνει την ανάγκη για εξωτερικά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gins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D/3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ραφικ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Ανεξαρτησία από συσκευές - πλατφόρμ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λύτερη διαχείριση σφαλμάτ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517760" y="1468440"/>
            <a:ext cx="652608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2035080" y="1413000"/>
            <a:ext cx="545148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Νέ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ttribu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&lt;select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220760" y="2492280"/>
            <a:ext cx="7215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ερικά παραδείγμα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ML5 canv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HTML5 drag and dr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HTML5 geo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HTML5 au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HTML5 vid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alid 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3C Valid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validator.w3.or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Δηλαδή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Όλα 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πρέπει να «κλείνουν» και με τη σωστή σειρ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Υποχρεωτικά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case t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Οι ιδιότητες στ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s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ανάμεσα σ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Και πολλά άλλα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Μια χαρά εμφανίζετα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3"/>
              </a:rPr>
              <a:t>Γιατί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4"/>
              </a:rPr>
              <a:t> 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5"/>
              </a:rPr>
              <a:t>είναι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6"/>
              </a:rPr>
              <a:t> 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7"/>
              </a:rPr>
              <a:t>σημαντικό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8"/>
              </a:rPr>
              <a:t> 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9"/>
              </a:rPr>
              <a:t>να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10"/>
              </a:rPr>
              <a:t> 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11"/>
              </a:rPr>
              <a:t>γράφουμε</a:t>
            </a:r>
            <a:r>
              <a:rPr b="0" lang="el-GR" sz="2800" spc="-1" strike="noStrike" u="sng">
                <a:solidFill>
                  <a:srgbClr val="7e9ce8"/>
                </a:solidFill>
                <a:uFillTx/>
                <a:latin typeface="Arial"/>
                <a:hlinkClick r:id="rId12"/>
              </a:rPr>
              <a:t>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3"/>
              </a:rPr>
              <a:t>valid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4"/>
              </a:rPr>
              <a:t> 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5"/>
              </a:rPr>
              <a:t>htm</a:t>
            </a:r>
            <a:r>
              <a:rPr b="0" lang="en-US" sz="2800" spc="-1" strike="noStrike" u="sng">
                <a:solidFill>
                  <a:srgbClr val="7e9ce8"/>
                </a:solidFill>
                <a:uFillTx/>
                <a:latin typeface="Arial"/>
                <a:hlinkClick r:id="rId16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ascading Style Shee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θορίζουν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, τη δομή και τη θέση των στοιχείων μέσα στο αρχεί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άνουν εφικτό το διαχωρισμό της εμφάνισης των δεδομένων και των ίδιων των δεδομέν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τρόπος για μορφοποίηση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ύνταξ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or {property: valu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erty2: value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or : html tag – {body, p, h1,…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το χαρακτηριστικό που θέλουμε να αλλάξουμ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, font-family, text-al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12480" y="122400"/>
            <a:ext cx="76755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500" spc="-1" strike="noStrike">
                <a:solidFill>
                  <a:srgbClr val="330066"/>
                </a:solidFill>
                <a:latin typeface="Arial"/>
              </a:rPr>
              <a:t>Τρόποι εισαγωγής 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style sheet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9800" y="1219320"/>
            <a:ext cx="8670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line sty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Καθορίζει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για συγκεκριμέν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Χρήση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ribute “style”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έσα σ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πορεί να καθορίσει πολλά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styles 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Ορίζεται μέσα 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ead&gt;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με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g &lt;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πηρεάζει τ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s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α οποία αναφέρε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rnal style 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ημιουργία ξεχωριστού αρχεί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s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με το οποίο συνδέεται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ρχεί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Ιδανικό όταν το ίδι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 sheet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φαρμόζεται σε περισσότερα από ένα αντικείμεν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line sty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&gt;This text does not have any style applied to it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= "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font-size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20p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&gt;This text has the &lt;em&gt;font-size&lt;/em&gt;style applied to it, making it 20pt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font-size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20pt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color: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#0000ff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&gt;This text has the &lt;em&gt;font-size&lt;/em&gt; and &lt;em&gt;color&lt;/em&gt; styles applied to it, making it 20pt. and blue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Μονάδα μέτρηση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 (point)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Ισούται με το 1/72 της ίντσ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τοιχεία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Γενική μορφή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&lt;ετικέτα ιδιότητα1="τιμή1" ιδιότητα2="τιμή2"&gt;περιεχόμενο&lt;/ετικέτα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2000" spc="-1" strike="noStrike">
                <a:solidFill>
                  <a:srgbClr val="ad5cff"/>
                </a:solidFill>
                <a:latin typeface="Arial"/>
              </a:rPr>
              <a:t>&lt;p</a:t>
            </a:r>
            <a:r>
              <a:rPr b="0" lang="el-GR" sz="2000" spc="-1" strike="noStrike">
                <a:solidFill>
                  <a:srgbClr val="ad5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d5cff"/>
                </a:solidFill>
                <a:latin typeface="Arial"/>
              </a:rPr>
              <a:t>align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ad5cff"/>
                </a:solidFill>
                <a:latin typeface="Arial"/>
              </a:rPr>
              <a:t>="</a:t>
            </a:r>
            <a:r>
              <a:rPr b="0" i="1" lang="en-US" sz="2000" spc="-1" strike="noStrike">
                <a:solidFill>
                  <a:srgbClr val="ad5cff"/>
                </a:solidFill>
                <a:latin typeface="Arial"/>
              </a:rPr>
              <a:t>center</a:t>
            </a:r>
            <a:r>
              <a:rPr b="0" i="1" lang="el-GR" sz="2000" spc="-1" strike="noStrike">
                <a:solidFill>
                  <a:srgbClr val="ad5cff"/>
                </a:solidFill>
                <a:latin typeface="Arial"/>
              </a:rPr>
              <a:t>" </a:t>
            </a:r>
            <a:r>
              <a:rPr b="0" lang="en-US" sz="2000" spc="-1" strike="noStrike">
                <a:solidFill>
                  <a:srgbClr val="ad5cff"/>
                </a:solidFill>
                <a:latin typeface="Arial"/>
              </a:rPr>
              <a:t>&gt;Welcome to Our Web Site!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Άδεια στοιχεί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&lt;ετικέτα ιδιότητα1="τιμή1" ιδιότητα2="τιμή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π.χ. </a:t>
            </a:r>
            <a:r>
              <a:rPr b="0" lang="en-US" sz="2000" spc="-1" strike="noStrike">
                <a:solidFill>
                  <a:srgbClr val="7e9ce8"/>
                </a:solidFill>
                <a:latin typeface="Arial"/>
              </a:rPr>
              <a:t>&lt;img src = "stoneage2.jpg" alt = "New emai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nal style sheet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e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background-color: #8000ff; color: white }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h1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{ font-family: arial, sans-serif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font-size: 14pt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.special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{ color: blue }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&lt;/head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class attribute : &lt;p class=“special”&gt;…&lt;/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rnal style sheet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h1 class = "special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CSS Text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&lt;p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Text properties allow you to control the appearance of text.  ...  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&lt;h1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SS Fonts&lt;/h1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p class = "special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The Font properties allow you to change t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&lt;em&gt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font family, boldness, size, and the style&lt;/em&gt; of a text.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Μερικά παραδείγματ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a  { text-decoration: none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a:hover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{ text-decoration: underli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color: red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background-color: #ccffcc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li e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{ color: red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font-weight: bold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ul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{ margin-left: 75px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ff"/>
                </a:solidFill>
                <a:latin typeface="Arial"/>
              </a:rPr>
              <a:t>ul ul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{ text-decoration: underli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argin-left: 15px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x (pixel)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ίναι σχετικό για κάθε σύστημ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ternal style shee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69800" y="1676160"/>
            <a:ext cx="8670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head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title&gt;External Style Sheets&lt;/titl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it-IT" sz="3000" spc="-1" strike="noStrike">
                <a:solidFill>
                  <a:srgbClr val="cc00ff"/>
                </a:solidFill>
                <a:latin typeface="Arial"/>
              </a:rPr>
              <a:t>link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cccc00"/>
                </a:solidFill>
                <a:latin typeface="Arial"/>
              </a:rPr>
              <a:t>rel = "stylesheet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000" spc="-1" strike="noStrike">
                <a:solidFill>
                  <a:srgbClr val="669999"/>
                </a:solidFill>
                <a:latin typeface="Arial"/>
              </a:rPr>
              <a:t>type = "text/css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000" spc="-1" strike="noStrike">
                <a:solidFill>
                  <a:srgbClr val="0000ff"/>
                </a:solidFill>
                <a:latin typeface="Arial"/>
              </a:rPr>
              <a:t>href = "styles.css"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0000"/>
                </a:solidFill>
                <a:latin typeface="Arial"/>
              </a:rPr>
              <a:t>&lt;/head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Uni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028880" y="1928880"/>
            <a:ext cx="7213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80600" y="260280"/>
            <a:ext cx="775332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SS Box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66720" y="1989000"/>
            <a:ext cx="81057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λα τ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οιχεία θεωρούνται ω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Ιεραρχία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μεταξύ τω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τοιχείων σ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ng the box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954000" y="4132440"/>
            <a:ext cx="758196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ποθέτηση στοιχείων (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ositioning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πάντα με βάση την κανονική ροή της σελίδας. Η προκαθορισμένη τοποθέτηση για τ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xed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σε σχέση με το παράθυρο του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ows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olute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σε σχέση με το πρώ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ent element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ου έχει τοποθέτηση διαφορετική απ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λλιώς σε σχέση με 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ative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οποθέτηση σε σχέση με την κανονική θέση του στοιχείο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Αφού δοθεί τιμή στο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oning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τα στοιχεία τοποθετούνται με τις ιδιότητες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p, bottom, left, r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Απόλυτη τοποθέτηση στοιχείω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6960" y="1676160"/>
            <a:ext cx="92408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&gt;&lt;img src = “images/i.gif"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sty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osition: absolut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top: 0p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left: 0p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z-index: 1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 alt = "First image"&gt;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 style = "position: absolute; 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top: 50px; left: 50p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z-index: 3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 font-size: 20pt;"&gt;Positioned Text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p&gt;&lt;img src = “images/circle.gif" style = "position: absolute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top: 25px;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eft: 100px; </a:t>
            </a:r>
            <a:r>
              <a:rPr b="0" lang="it-IT" sz="2600" spc="-1" strike="noStrike">
                <a:solidFill>
                  <a:srgbClr val="ff9900"/>
                </a:solidFill>
                <a:latin typeface="Arial"/>
              </a:rPr>
              <a:t>z-index: 2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lt = "Second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mage"&gt;&lt;/p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χετική τοποθέτηση στοιχείω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2040" y="1676160"/>
            <a:ext cx="8771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.super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position: relativ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top: -1ex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.sub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position: relative;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669999"/>
                </a:solidFill>
                <a:latin typeface="Arial"/>
              </a:rPr>
              <a:t>bottom: -1ex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.shiftlef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position: relative;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cc00ff"/>
                </a:solidFill>
                <a:latin typeface="Arial"/>
              </a:rPr>
              <a:t>left: -1ex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.shiftright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{ position: relative;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600" spc="-1" strike="noStrike">
                <a:solidFill>
                  <a:srgbClr val="7e9ce8"/>
                </a:solidFill>
                <a:latin typeface="Arial"/>
              </a:rPr>
              <a:t>right: -1ex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: the 'font-size' of the relevant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the 'x-height' of the relevant f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1"/>
          <a:stretch/>
        </p:blipFill>
        <p:spPr>
          <a:xfrm>
            <a:off x="4954680" y="5157720"/>
            <a:ext cx="359388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Διαστάσεις αντικειμένω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92040" y="1676160"/>
            <a:ext cx="8771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style type = "text/css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div { background-color: #ffccff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it-IT" sz="2600" spc="-1" strike="noStrike">
                <a:solidFill>
                  <a:srgbClr val="cccc00"/>
                </a:solidFill>
                <a:latin typeface="Arial"/>
              </a:rPr>
              <a:t>margin-bottom: .3cm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&lt;/style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div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ty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"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width: 80%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ext-align: cen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some CENTERED text that goes in a box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is set to stretch across eighty percent 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dth of the screen.</a:t>
            </a:r>
            <a:r>
              <a:rPr b="0" lang="en-US" sz="2600" spc="-1" strike="noStrike">
                <a:solidFill>
                  <a:srgbClr val="cc00ff"/>
                </a:solidFill>
                <a:latin typeface="Arial"/>
              </a:rPr>
              <a:t>&lt;/div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Ένα απλό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TML 4 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αρχείο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9440" y="1628280"/>
            <a:ext cx="84582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&lt;!DOCTYPE HTML PUBLIC "-//W3C//DTD HTML 4.01//E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Arial"/>
              </a:rPr>
              <a:t>&lt;!-- Our first Web page 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title&gt;Welcome to Our Web Site!&lt;/tit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99"/>
                </a:solidFill>
                <a:latin typeface="Arial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p&gt;Welcome to Our Web Site!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4c8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66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Εικόνα 2" descr=""/>
          <p:cNvPicPr/>
          <p:nvPr/>
        </p:nvPicPr>
        <p:blipFill>
          <a:blip r:embed="rId2"/>
          <a:stretch/>
        </p:blipFill>
        <p:spPr>
          <a:xfrm>
            <a:off x="5423040" y="2349360"/>
            <a:ext cx="3504960" cy="25178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"/>
          <p:cNvSpPr/>
          <p:nvPr/>
        </p:nvSpPr>
        <p:spPr>
          <a:xfrm>
            <a:off x="5423040" y="4869000"/>
            <a:ext cx="33080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Arial"/>
              </a:rPr>
              <a:t>Πηγή εικόνας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s://notesformsc.org/programming/html-tutorial/html-document-stru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78000" y="122400"/>
            <a:ext cx="78451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rders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2040" y="1676160"/>
            <a:ext cx="87710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border-width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thic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αχ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thin (λεπτό) 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border-style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groove(αυλάκι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dotted, solid,…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border-col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*border-{top, left, right, bottom}-wid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sponsive Web Desig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Η πρακτική της δημιουργίας ενός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κατάλληλο για οποιαδήποτε συσκευή, ανεξάρτητα από το μέγεθος της οθόνη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ive vs Mobile: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ο 2</a:t>
            </a:r>
            <a:r>
              <a:rPr b="0" lang="el-GR" sz="3000" spc="-1" strike="noStrike" baseline="30000">
                <a:solidFill>
                  <a:srgbClr val="000000"/>
                </a:solidFill>
                <a:latin typeface="Arial"/>
              </a:rPr>
              <a:t>ος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 όρος αναφέρεται στη δημιουργί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άλλης έκδοσης του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για κινητές συσκευές. Στο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ive design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έχουμε ένα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ου η εμφάνισή του προσαρμόζεται στα χαρακτηριστικά της συσκευή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εχνικέ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exible lay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actice of building the layout of a website with a flexible grid, capable of dynamically resizing to any width. Flexible grids are built using relative length units, most commonly percentages or em un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a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a queries provide the ability to specify different styles for individual browser and device circumstances, the width of the viewport or device orientation for exam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exible Med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ages, videos, and other media types need to be scalable, changing their size as the size of the viewport chang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lexible Layou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7" name="3 - Εικόνα" descr=""/>
          <p:cNvPicPr/>
          <p:nvPr/>
        </p:nvPicPr>
        <p:blipFill>
          <a:blip r:embed="rId1"/>
          <a:stretch/>
        </p:blipFill>
        <p:spPr>
          <a:xfrm>
            <a:off x="925560" y="1989000"/>
            <a:ext cx="713736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dia Quer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@media: all, screen, print, tv, 3d-glasses (html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343080" y="2997360"/>
            <a:ext cx="8712000" cy="666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"/>
          <p:cNvPicPr/>
          <p:nvPr/>
        </p:nvPicPr>
        <p:blipFill>
          <a:blip r:embed="rId2"/>
          <a:stretch/>
        </p:blipFill>
        <p:spPr>
          <a:xfrm>
            <a:off x="343080" y="3701880"/>
            <a:ext cx="8712000" cy="5907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"/>
          <p:cNvPicPr/>
          <p:nvPr/>
        </p:nvPicPr>
        <p:blipFill>
          <a:blip r:embed="rId3"/>
          <a:stretch/>
        </p:blipFill>
        <p:spPr>
          <a:xfrm>
            <a:off x="352440" y="4365720"/>
            <a:ext cx="86932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lexible Med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776160" y="1773360"/>
            <a:ext cx="3035520" cy="1000080"/>
          </a:xfrm>
          <a:prstGeom prst="rect">
            <a:avLst/>
          </a:prstGeom>
          <a:ln w="0">
            <a:noFill/>
          </a:ln>
        </p:spPr>
      </p:pic>
      <p:pic>
        <p:nvPicPr>
          <p:cNvPr id="285" name="4 - Εικόνα" descr=""/>
          <p:cNvPicPr/>
          <p:nvPr/>
        </p:nvPicPr>
        <p:blipFill>
          <a:blip r:embed="rId2"/>
          <a:stretch/>
        </p:blipFill>
        <p:spPr>
          <a:xfrm>
            <a:off x="3957480" y="1484280"/>
            <a:ext cx="459108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αράδειγμα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torial: http://learn.shayhowe.com/advanced-html-css/responsive-web-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rcRect l="4909" t="9914" r="7555" b="12230"/>
          <a:stretch/>
        </p:blipFill>
        <p:spPr>
          <a:xfrm>
            <a:off x="554040" y="1557360"/>
            <a:ext cx="814068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9440" y="122040"/>
            <a:ext cx="7753320" cy="114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witter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69440" y="1557000"/>
            <a:ext cx="84582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πό τα δημοφιλέστερ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Δημιουργήθηκε από 2 υπαλλήλους στη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itter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το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Λόγο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Υπήρχε η ανάγκη για ένα στάνταρτ στη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end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ργαλειοθήκη που θα ακολουθούσαν όλοι στην εταιρί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2" descr=""/>
          <p:cNvPicPr/>
          <p:nvPr/>
        </p:nvPicPr>
        <p:blipFill>
          <a:blip r:embed="rId1"/>
          <a:srcRect l="3957" t="5819" r="4582" b="8425"/>
          <a:stretch/>
        </p:blipFill>
        <p:spPr>
          <a:xfrm>
            <a:off x="1674720" y="3716280"/>
            <a:ext cx="6139080" cy="2898720"/>
          </a:xfrm>
          <a:prstGeom prst="rect">
            <a:avLst/>
          </a:prstGeom>
          <a:ln w="0">
            <a:noFill/>
          </a:ln>
        </p:spPr>
      </p:pic>
      <p:sp>
        <p:nvSpPr>
          <p:cNvPr id="292" name="Arrow: Left 70"/>
          <p:cNvSpPr/>
          <p:nvPr/>
        </p:nvSpPr>
        <p:spPr>
          <a:xfrm>
            <a:off x="5635800" y="5950080"/>
            <a:ext cx="342720" cy="2142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5c8a8a"/>
          </a:solidFill>
          <a:ln w="25560">
            <a:solidFill>
              <a:srgbClr val="41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ι περιλαμβάνει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94" name="Group 64"/>
          <p:cNvGrpSpPr/>
          <p:nvPr/>
        </p:nvGrpSpPr>
        <p:grpSpPr>
          <a:xfrm>
            <a:off x="595440" y="1484280"/>
            <a:ext cx="4751280" cy="4969080"/>
            <a:chOff x="595440" y="1484280"/>
            <a:chExt cx="4751280" cy="4969080"/>
          </a:xfrm>
        </p:grpSpPr>
        <p:sp>
          <p:nvSpPr>
            <p:cNvPr id="295" name="Rectangle 68"/>
            <p:cNvSpPr/>
            <p:nvPr/>
          </p:nvSpPr>
          <p:spPr>
            <a:xfrm>
              <a:off x="595440" y="1484280"/>
              <a:ext cx="4751280" cy="496908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959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ootstrap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12"/>
            <p:cNvGrpSpPr/>
            <p:nvPr/>
          </p:nvGrpSpPr>
          <p:grpSpPr>
            <a:xfrm>
              <a:off x="735840" y="2165760"/>
              <a:ext cx="2569320" cy="381960"/>
              <a:chOff x="735840" y="2165760"/>
              <a:chExt cx="2569320" cy="381960"/>
            </a:xfrm>
          </p:grpSpPr>
          <p:sp>
            <p:nvSpPr>
              <p:cNvPr id="297" name="Straight Connector 8"/>
              <p:cNvSpPr/>
              <p:nvPr/>
            </p:nvSpPr>
            <p:spPr>
              <a:xfrm>
                <a:off x="735840" y="229860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Straight Connector 9"/>
              <p:cNvSpPr/>
              <p:nvPr/>
            </p:nvSpPr>
            <p:spPr>
              <a:xfrm>
                <a:off x="975600" y="23000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Straight Connector 10"/>
              <p:cNvSpPr/>
              <p:nvPr/>
            </p:nvSpPr>
            <p:spPr>
              <a:xfrm flipH="1" flipV="1">
                <a:off x="984960" y="24192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Box 11"/>
              <p:cNvSpPr/>
              <p:nvPr/>
            </p:nvSpPr>
            <p:spPr>
              <a:xfrm>
                <a:off x="1246320" y="2165760"/>
                <a:ext cx="20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13"/>
            <p:cNvGrpSpPr/>
            <p:nvPr/>
          </p:nvGrpSpPr>
          <p:grpSpPr>
            <a:xfrm>
              <a:off x="732600" y="2478240"/>
              <a:ext cx="2569320" cy="381960"/>
              <a:chOff x="732600" y="2478240"/>
              <a:chExt cx="2569320" cy="381960"/>
            </a:xfrm>
          </p:grpSpPr>
          <p:sp>
            <p:nvSpPr>
              <p:cNvPr id="302" name="Straight Connector 14"/>
              <p:cNvSpPr/>
              <p:nvPr/>
            </p:nvSpPr>
            <p:spPr>
              <a:xfrm>
                <a:off x="732600" y="261108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Straight Connector 15"/>
              <p:cNvSpPr/>
              <p:nvPr/>
            </p:nvSpPr>
            <p:spPr>
              <a:xfrm>
                <a:off x="981720" y="261252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Straight Connector 16"/>
              <p:cNvSpPr/>
              <p:nvPr/>
            </p:nvSpPr>
            <p:spPr>
              <a:xfrm flipH="1" flipV="1">
                <a:off x="992880" y="2731680"/>
                <a:ext cx="239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Box 17"/>
              <p:cNvSpPr/>
              <p:nvPr/>
            </p:nvSpPr>
            <p:spPr>
              <a:xfrm>
                <a:off x="1243080" y="2478240"/>
                <a:ext cx="20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min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43"/>
            <p:cNvGrpSpPr/>
            <p:nvPr/>
          </p:nvGrpSpPr>
          <p:grpSpPr>
            <a:xfrm>
              <a:off x="732600" y="1837080"/>
              <a:ext cx="823680" cy="402480"/>
              <a:chOff x="732600" y="1837080"/>
              <a:chExt cx="823680" cy="402480"/>
            </a:xfrm>
          </p:grpSpPr>
          <p:sp>
            <p:nvSpPr>
              <p:cNvPr id="307" name="Straight Connector 5"/>
              <p:cNvSpPr/>
              <p:nvPr/>
            </p:nvSpPr>
            <p:spPr>
              <a:xfrm>
                <a:off x="732600" y="19918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Straight Connector 6"/>
              <p:cNvSpPr/>
              <p:nvPr/>
            </p:nvSpPr>
            <p:spPr>
              <a:xfrm flipH="1" flipV="1">
                <a:off x="743040" y="2126880"/>
                <a:ext cx="24156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Box 120"/>
              <p:cNvSpPr/>
              <p:nvPr/>
            </p:nvSpPr>
            <p:spPr>
              <a:xfrm>
                <a:off x="968760" y="1837080"/>
                <a:ext cx="58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s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19"/>
            <p:cNvGrpSpPr/>
            <p:nvPr/>
          </p:nvGrpSpPr>
          <p:grpSpPr>
            <a:xfrm>
              <a:off x="732600" y="2772360"/>
              <a:ext cx="2856600" cy="368280"/>
              <a:chOff x="732600" y="2772360"/>
              <a:chExt cx="2856600" cy="368280"/>
            </a:xfrm>
          </p:grpSpPr>
          <p:sp>
            <p:nvSpPr>
              <p:cNvPr id="311" name="Straight Connector 114"/>
              <p:cNvSpPr/>
              <p:nvPr/>
            </p:nvSpPr>
            <p:spPr>
              <a:xfrm>
                <a:off x="732600" y="288720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Straight Connector 115"/>
              <p:cNvSpPr/>
              <p:nvPr/>
            </p:nvSpPr>
            <p:spPr>
              <a:xfrm>
                <a:off x="978480" y="288900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Straight Connector 116"/>
              <p:cNvSpPr/>
              <p:nvPr/>
            </p:nvSpPr>
            <p:spPr>
              <a:xfrm flipH="1" flipV="1">
                <a:off x="981720" y="2993760"/>
                <a:ext cx="239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Box 117"/>
              <p:cNvSpPr/>
              <p:nvPr/>
            </p:nvSpPr>
            <p:spPr>
              <a:xfrm>
                <a:off x="1229400" y="2772360"/>
                <a:ext cx="235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theme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24"/>
            <p:cNvGrpSpPr/>
            <p:nvPr/>
          </p:nvGrpSpPr>
          <p:grpSpPr>
            <a:xfrm>
              <a:off x="732600" y="3043440"/>
              <a:ext cx="3308400" cy="368280"/>
              <a:chOff x="732600" y="3043440"/>
              <a:chExt cx="3308400" cy="368280"/>
            </a:xfrm>
          </p:grpSpPr>
          <p:sp>
            <p:nvSpPr>
              <p:cNvPr id="316" name="Straight Connector 110"/>
              <p:cNvSpPr/>
              <p:nvPr/>
            </p:nvSpPr>
            <p:spPr>
              <a:xfrm>
                <a:off x="732600" y="315864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Straight Connector 111"/>
              <p:cNvSpPr/>
              <p:nvPr/>
            </p:nvSpPr>
            <p:spPr>
              <a:xfrm>
                <a:off x="975240" y="3160440"/>
                <a:ext cx="0" cy="2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Straight Connector 112"/>
              <p:cNvSpPr/>
              <p:nvPr/>
            </p:nvSpPr>
            <p:spPr>
              <a:xfrm flipH="1" flipV="1">
                <a:off x="969120" y="3265200"/>
                <a:ext cx="23976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Box 113"/>
              <p:cNvSpPr/>
              <p:nvPr/>
            </p:nvSpPr>
            <p:spPr>
              <a:xfrm>
                <a:off x="1243440" y="3043440"/>
                <a:ext cx="279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theme.min.c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42"/>
            <p:cNvGrpSpPr/>
            <p:nvPr/>
          </p:nvGrpSpPr>
          <p:grpSpPr>
            <a:xfrm>
              <a:off x="736920" y="3496680"/>
              <a:ext cx="745920" cy="403560"/>
              <a:chOff x="736920" y="3496680"/>
              <a:chExt cx="745920" cy="403560"/>
            </a:xfrm>
          </p:grpSpPr>
          <p:sp>
            <p:nvSpPr>
              <p:cNvPr id="321" name="Straight Connector 107"/>
              <p:cNvSpPr/>
              <p:nvPr/>
            </p:nvSpPr>
            <p:spPr>
              <a:xfrm>
                <a:off x="736920" y="365256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Straight Connector 108"/>
              <p:cNvSpPr/>
              <p:nvPr/>
            </p:nvSpPr>
            <p:spPr>
              <a:xfrm flipH="1" flipV="1">
                <a:off x="738360" y="3787560"/>
                <a:ext cx="2412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Box 109"/>
              <p:cNvSpPr/>
              <p:nvPr/>
            </p:nvSpPr>
            <p:spPr>
              <a:xfrm>
                <a:off x="959760" y="3496680"/>
                <a:ext cx="52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32"/>
            <p:cNvGrpSpPr/>
            <p:nvPr/>
          </p:nvGrpSpPr>
          <p:grpSpPr>
            <a:xfrm>
              <a:off x="732600" y="3858120"/>
              <a:ext cx="2569320" cy="381960"/>
              <a:chOff x="732600" y="3858120"/>
              <a:chExt cx="2569320" cy="381960"/>
            </a:xfrm>
          </p:grpSpPr>
          <p:sp>
            <p:nvSpPr>
              <p:cNvPr id="325" name="Straight Connector 103"/>
              <p:cNvSpPr/>
              <p:nvPr/>
            </p:nvSpPr>
            <p:spPr>
              <a:xfrm>
                <a:off x="732600" y="399096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Straight Connector 104"/>
              <p:cNvSpPr/>
              <p:nvPr/>
            </p:nvSpPr>
            <p:spPr>
              <a:xfrm>
                <a:off x="972360" y="399240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Straight Connector 105"/>
              <p:cNvSpPr/>
              <p:nvPr/>
            </p:nvSpPr>
            <p:spPr>
              <a:xfrm flipH="1" flipV="1">
                <a:off x="981720" y="411156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Box 106"/>
              <p:cNvSpPr/>
              <p:nvPr/>
            </p:nvSpPr>
            <p:spPr>
              <a:xfrm>
                <a:off x="1243080" y="3858120"/>
                <a:ext cx="2058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j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37"/>
            <p:cNvGrpSpPr/>
            <p:nvPr/>
          </p:nvGrpSpPr>
          <p:grpSpPr>
            <a:xfrm>
              <a:off x="719280" y="4181040"/>
              <a:ext cx="2569320" cy="382680"/>
              <a:chOff x="719280" y="4181040"/>
              <a:chExt cx="2569320" cy="382680"/>
            </a:xfrm>
          </p:grpSpPr>
          <p:sp>
            <p:nvSpPr>
              <p:cNvPr id="330" name="Straight Connector 99"/>
              <p:cNvSpPr/>
              <p:nvPr/>
            </p:nvSpPr>
            <p:spPr>
              <a:xfrm>
                <a:off x="719280" y="4314600"/>
                <a:ext cx="0" cy="24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Straight Connector 100"/>
              <p:cNvSpPr/>
              <p:nvPr/>
            </p:nvSpPr>
            <p:spPr>
              <a:xfrm>
                <a:off x="968400" y="43160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Straight Connector 101"/>
              <p:cNvSpPr/>
              <p:nvPr/>
            </p:nvSpPr>
            <p:spPr>
              <a:xfrm flipH="1" flipV="1">
                <a:off x="979560" y="44352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TextBox 102"/>
              <p:cNvSpPr/>
              <p:nvPr/>
            </p:nvSpPr>
            <p:spPr>
              <a:xfrm>
                <a:off x="1230480" y="4181040"/>
                <a:ext cx="2058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ootstrap.min.j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44"/>
            <p:cNvGrpSpPr/>
            <p:nvPr/>
          </p:nvGrpSpPr>
          <p:grpSpPr>
            <a:xfrm>
              <a:off x="719280" y="4538520"/>
              <a:ext cx="1319040" cy="368280"/>
              <a:chOff x="719280" y="4538520"/>
              <a:chExt cx="1319040" cy="368280"/>
            </a:xfrm>
          </p:grpSpPr>
          <p:sp>
            <p:nvSpPr>
              <p:cNvPr id="335" name="Straight Connector 96"/>
              <p:cNvSpPr/>
              <p:nvPr/>
            </p:nvSpPr>
            <p:spPr>
              <a:xfrm>
                <a:off x="722160" y="4662360"/>
                <a:ext cx="0" cy="14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Straight Connector 97"/>
              <p:cNvSpPr/>
              <p:nvPr/>
            </p:nvSpPr>
            <p:spPr>
              <a:xfrm flipH="1">
                <a:off x="719280" y="4808520"/>
                <a:ext cx="465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Box 98"/>
              <p:cNvSpPr/>
              <p:nvPr/>
            </p:nvSpPr>
            <p:spPr>
              <a:xfrm>
                <a:off x="1115280" y="4538520"/>
                <a:ext cx="92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onts/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51"/>
            <p:cNvGrpSpPr/>
            <p:nvPr/>
          </p:nvGrpSpPr>
          <p:grpSpPr>
            <a:xfrm>
              <a:off x="1178640" y="4833720"/>
              <a:ext cx="4060080" cy="382680"/>
              <a:chOff x="1178640" y="4833720"/>
              <a:chExt cx="4060080" cy="382680"/>
            </a:xfrm>
          </p:grpSpPr>
          <p:sp>
            <p:nvSpPr>
              <p:cNvPr id="339" name="Straight Connector 93"/>
              <p:cNvSpPr/>
              <p:nvPr/>
            </p:nvSpPr>
            <p:spPr>
              <a:xfrm>
                <a:off x="1178640" y="496872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Straight Connector 94"/>
              <p:cNvSpPr/>
              <p:nvPr/>
            </p:nvSpPr>
            <p:spPr>
              <a:xfrm flipH="1" flipV="1">
                <a:off x="1188000" y="508788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Box 95"/>
              <p:cNvSpPr/>
              <p:nvPr/>
            </p:nvSpPr>
            <p:spPr>
              <a:xfrm>
                <a:off x="1440720" y="4833720"/>
                <a:ext cx="379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e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Group 56"/>
            <p:cNvGrpSpPr/>
            <p:nvPr/>
          </p:nvGrpSpPr>
          <p:grpSpPr>
            <a:xfrm>
              <a:off x="1174680" y="5147640"/>
              <a:ext cx="4060080" cy="381600"/>
              <a:chOff x="1174680" y="5147640"/>
              <a:chExt cx="4060080" cy="381600"/>
            </a:xfrm>
          </p:grpSpPr>
          <p:sp>
            <p:nvSpPr>
              <p:cNvPr id="343" name="Straight Connector 90"/>
              <p:cNvSpPr/>
              <p:nvPr/>
            </p:nvSpPr>
            <p:spPr>
              <a:xfrm>
                <a:off x="1174680" y="528156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Straight Connector 91"/>
              <p:cNvSpPr/>
              <p:nvPr/>
            </p:nvSpPr>
            <p:spPr>
              <a:xfrm flipH="1" flipV="1">
                <a:off x="1184040" y="540216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Box 92"/>
              <p:cNvSpPr/>
              <p:nvPr/>
            </p:nvSpPr>
            <p:spPr>
              <a:xfrm>
                <a:off x="1436400" y="5147640"/>
                <a:ext cx="379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sv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6" name="Group 60"/>
            <p:cNvGrpSpPr/>
            <p:nvPr/>
          </p:nvGrpSpPr>
          <p:grpSpPr>
            <a:xfrm>
              <a:off x="1179000" y="5461920"/>
              <a:ext cx="4060080" cy="381600"/>
              <a:chOff x="1179000" y="5461920"/>
              <a:chExt cx="4060080" cy="381600"/>
            </a:xfrm>
          </p:grpSpPr>
          <p:sp>
            <p:nvSpPr>
              <p:cNvPr id="347" name="Straight Connector 87"/>
              <p:cNvSpPr/>
              <p:nvPr/>
            </p:nvSpPr>
            <p:spPr>
              <a:xfrm>
                <a:off x="1179000" y="55958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Straight Connector 88"/>
              <p:cNvSpPr/>
              <p:nvPr/>
            </p:nvSpPr>
            <p:spPr>
              <a:xfrm flipH="1" flipV="1">
                <a:off x="1188360" y="57150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Box 89"/>
              <p:cNvSpPr/>
              <p:nvPr/>
            </p:nvSpPr>
            <p:spPr>
              <a:xfrm>
                <a:off x="1440000" y="5461920"/>
                <a:ext cx="37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tt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64"/>
            <p:cNvGrpSpPr/>
            <p:nvPr/>
          </p:nvGrpSpPr>
          <p:grpSpPr>
            <a:xfrm>
              <a:off x="1174680" y="5799600"/>
              <a:ext cx="4060080" cy="382320"/>
              <a:chOff x="1174680" y="5799600"/>
              <a:chExt cx="4060080" cy="382320"/>
            </a:xfrm>
          </p:grpSpPr>
          <p:sp>
            <p:nvSpPr>
              <p:cNvPr id="351" name="Straight Connector 84"/>
              <p:cNvSpPr/>
              <p:nvPr/>
            </p:nvSpPr>
            <p:spPr>
              <a:xfrm>
                <a:off x="1174680" y="59342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Straight Connector 85"/>
              <p:cNvSpPr/>
              <p:nvPr/>
            </p:nvSpPr>
            <p:spPr>
              <a:xfrm flipH="1" flipV="1">
                <a:off x="1184040" y="6053400"/>
                <a:ext cx="24120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Box 86"/>
              <p:cNvSpPr/>
              <p:nvPr/>
            </p:nvSpPr>
            <p:spPr>
              <a:xfrm>
                <a:off x="1436400" y="5799600"/>
                <a:ext cx="379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lyphicons.halphings-regular.wof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419800" y="4005360"/>
            <a:ext cx="3763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αρακτηριστικά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(1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ponsiv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bile first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ύνολα από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και συνδυασμούς του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Διάφορα θέματ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templat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νσωματωμένος μηχανισμός για την τοποθέτηση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ML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ων σε πλέγμ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αρέχει την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scrip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Επιταχύνει την διαδικασία δημιουργία σελίδ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E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ορισμός του τίτλου της σελίδα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ip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καθορισμός τη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ipting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λώσσ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yl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καθορισμό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yle she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ορισμός της βάσης αρχής για τον καθορισμό των σχετικώ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a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καθορισμός ζεύγους πληροφοριών (όνομα/τιμή)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.χ. εισαγωγή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ορισμός σχέσεων με άλλα κείμε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bile fir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Η διαδικασία κατά την οποία χτίζουμε κάτι με βασικό κριτήριο να εμφανίζεται και να παίζει καλά πρώτα σε μικρές οθόνε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σο μεγαλώνει η οθόνη, πρόσθετοι κανόνες δημιουργούνται για να υποστηρίξουν και τα μεγαλύτερα μεγέθ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Πρόσθετοι κανόνες με χρήση των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dia que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αρακτηριστικά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(2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9440" y="1719360"/>
            <a:ext cx="845820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έχε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S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λάσεις για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4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qu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αρακτηριστικά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(3/3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έχει τα παρακάτω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d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ou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ess 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ve em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ότε αξίζει η χρήση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πιέζει ο χρόν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ο σχεδιασμός απαιτεί την χρήση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id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(πλέγμα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είναι απαραίτητο να υποστηρίζει όλα τα μεγέθη οθον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Όταν δεν απαιτείται να είναι συμβατό μ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6 (internet explorer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22360" y="1773000"/>
            <a:ext cx="810576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Χρήση στην σελίδα/εφαρμογή μο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5"/>
          <p:cNvSpPr/>
          <p:nvPr/>
        </p:nvSpPr>
        <p:spPr>
          <a:xfrm>
            <a:off x="1674720" y="5300640"/>
            <a:ext cx="537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ιατί βάζουμε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έσα σ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ιχεί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162000" y="2492280"/>
            <a:ext cx="90741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(1/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45840" y="1825560"/>
            <a:ext cx="7940520" cy="6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Υπάρχουν 2 τρόποι που μπορεί να γίνει χρήση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6"/>
          <p:cNvSpPr/>
          <p:nvPr/>
        </p:nvSpPr>
        <p:spPr>
          <a:xfrm>
            <a:off x="1386000" y="4221000"/>
            <a:ext cx="266544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ήση συγκεκριμένων στοιχείων (όπως τ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7"/>
          <p:cNvSpPr/>
          <p:nvPr/>
        </p:nvSpPr>
        <p:spPr>
          <a:xfrm>
            <a:off x="5130720" y="4221000"/>
            <a:ext cx="28814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Χρήση όλων των δυνατοτήτων που παρέχε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Straight Arrow Connector 8"/>
          <p:cNvCxnSpPr/>
          <p:nvPr/>
        </p:nvCxnSpPr>
        <p:spPr>
          <a:xfrm flipH="1">
            <a:off x="2898000" y="2924280"/>
            <a:ext cx="1632600" cy="12484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374" name="Straight Arrow Connector 10"/>
          <p:cNvCxnSpPr/>
          <p:nvPr/>
        </p:nvCxnSpPr>
        <p:spPr>
          <a:xfrm>
            <a:off x="4483080" y="2924280"/>
            <a:ext cx="1621440" cy="12322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375" name="TextBox 12"/>
          <p:cNvSpPr/>
          <p:nvPr/>
        </p:nvSpPr>
        <p:spPr>
          <a:xfrm>
            <a:off x="1459080" y="5445000"/>
            <a:ext cx="637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Γενικά ξεκινάμε με τα πολύ βασικά και χτίζουμε και βελτιώνουμε  όσο υλοποιούμ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otstrap Grid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(1/4)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694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Σύστημα 12 στηλώ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1027080" y="2492280"/>
            <a:ext cx="7272360" cy="3732480"/>
          </a:xfrm>
          <a:prstGeom prst="rect">
            <a:avLst/>
          </a:prstGeom>
          <a:ln w="9360">
            <a:solidFill>
              <a:srgbClr val="62979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του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id (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2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/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95440" y="1557000"/>
            <a:ext cx="81057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λάσεις Στηλών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l-SIZE-SP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-xs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l-sm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l-md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l-lg-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Κλάσεις γραμμών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w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(δημιουργεί οριζόντια σετ στηλώ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Οι στήλες </a:t>
            </a:r>
            <a:r>
              <a:rPr b="1" lang="el-GR" sz="2300" spc="-1" strike="noStrike">
                <a:solidFill>
                  <a:srgbClr val="000000"/>
                </a:solidFill>
                <a:latin typeface="Arial"/>
              </a:rPr>
              <a:t>πρέπει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</a:rPr>
              <a:t>να είναι το πρώτο παιδί μιας γραμμή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2035080" y="3860640"/>
            <a:ext cx="5232600" cy="27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9440" y="122040"/>
            <a:ext cx="775332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του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id (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3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/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0360" y="1699920"/>
            <a:ext cx="84582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άρχουν 4 συστήματα πλέγματος σ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,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όνο στοιχείο διαφοροποίησης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por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tra small devices ~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ηλέφωνα (&lt;76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mall devices ~ Tablets (&gt;=76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um devices ~ Desktops (&gt;=99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devices ~ Desktops (&gt;=120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λάσεις το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τα παραπάνω όρια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l-SIZE-SPA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Μέγεθος οθόνης – εύρος /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N: 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Αριθμός στηλών που θα δεσμευτούν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l-GR" sz="2200" spc="-1" strike="noStrike">
                <a:solidFill>
                  <a:srgbClr val="000000"/>
                </a:solidFill>
                <a:latin typeface="Arial"/>
              </a:rPr>
              <a:t>τιμές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– 1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5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-xs-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-sm-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-md-*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l-lg-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Χρήση του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id (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/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4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46200" y="1825200"/>
            <a:ext cx="810576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Μπορεί να γίνει συνδυασμός κλάσεων για υποστήριξη περισσοτέρων οθονώ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098720" y="3068640"/>
            <a:ext cx="754380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4320" y="122400"/>
            <a:ext cx="8038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Το στοιχείο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Y</a:t>
            </a: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 - παράμετρο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9800" y="1719000"/>
            <a:ext cx="867096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gcol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: το χρώμα του φόντου της σελίδ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το χρώμα των χαρακτήρων του κειμένο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ink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nk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το χρώμα τω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: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L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ης εικόνας που θα εμφανίζεται στο φόντο της σελίδ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&lt;body</a:t>
            </a:r>
            <a:r>
              <a:rPr b="0" lang="el-GR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gcolor=blue text=orange&g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lue = #0000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View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Πίνακε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95440" y="1700280"/>
            <a:ext cx="810576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Οι πίνακες πρέπει να έχουν την κλάση 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για να αναγνωριστούν από 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"/>
          <p:cNvSpPr/>
          <p:nvPr/>
        </p:nvSpPr>
        <p:spPr>
          <a:xfrm>
            <a:off x="6138720" y="2781360"/>
            <a:ext cx="27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λάσεις μορφοποίηση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ινάκων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stri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bord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h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</a:t>
            </a:r>
            <a:r>
              <a:rPr b="0" lang="el-GR" sz="1800" spc="-1" strike="noStrike">
                <a:solidFill>
                  <a:srgbClr val="000000"/>
                </a:solidFill>
                <a:latin typeface="Arial Unicode MS"/>
              </a:rPr>
              <a:t>conden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7"/>
          <p:cNvSpPr/>
          <p:nvPr/>
        </p:nvSpPr>
        <p:spPr>
          <a:xfrm>
            <a:off x="1170000" y="5445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ετατροπή σ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iv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ίνακα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-respon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ως χρησιμοποιώ την παραπάνω κλάση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2" descr=""/>
          <p:cNvPicPr/>
          <p:nvPr/>
        </p:nvPicPr>
        <p:blipFill>
          <a:blip r:embed="rId1"/>
          <a:stretch/>
        </p:blipFill>
        <p:spPr>
          <a:xfrm>
            <a:off x="1170000" y="2781360"/>
            <a:ext cx="494964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46200" y="1825560"/>
            <a:ext cx="810576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Υπάρχουν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είδη φόρμας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,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ine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κα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5" descr=""/>
          <p:cNvPicPr/>
          <p:nvPr/>
        </p:nvPicPr>
        <p:blipFill>
          <a:blip r:embed="rId1"/>
          <a:stretch/>
        </p:blipFill>
        <p:spPr>
          <a:xfrm>
            <a:off x="954000" y="3068640"/>
            <a:ext cx="75502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tt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666720" y="1699920"/>
            <a:ext cx="8105760" cy="20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Τα κουμπιά μπορεί να είναι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ton :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ton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k : &lt;a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τοιχεία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put: &lt;input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882720" y="4005360"/>
            <a:ext cx="7361280" cy="237780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Στοιχεία μενού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595440" y="1700280"/>
            <a:ext cx="8105760" cy="25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Το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παρέχει στοιχεία που μπορούν να χρησιμοποιηθούν ως μενού/υπομενού και γενικότερα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vig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d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520" indent="-2815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"/>
          <p:cNvPicPr/>
          <p:nvPr/>
        </p:nvPicPr>
        <p:blipFill>
          <a:blip r:embed="rId1"/>
          <a:stretch/>
        </p:blipFill>
        <p:spPr>
          <a:xfrm>
            <a:off x="738360" y="5013360"/>
            <a:ext cx="7867440" cy="56196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01" name="Picture 9" descr=""/>
          <p:cNvPicPr/>
          <p:nvPr/>
        </p:nvPicPr>
        <p:blipFill>
          <a:blip r:embed="rId2"/>
          <a:stretch/>
        </p:blipFill>
        <p:spPr>
          <a:xfrm>
            <a:off x="5130720" y="5732640"/>
            <a:ext cx="2828880" cy="5522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402" name="Picture 10" descr=""/>
          <p:cNvPicPr/>
          <p:nvPr/>
        </p:nvPicPr>
        <p:blipFill>
          <a:blip r:embed="rId3"/>
          <a:stretch/>
        </p:blipFill>
        <p:spPr>
          <a:xfrm>
            <a:off x="1243080" y="5732640"/>
            <a:ext cx="2847960" cy="58068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Εικονίδια γραμματοσειράς (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ont icons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46200" y="1825200"/>
            <a:ext cx="8105760" cy="15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Περιέχει τα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yphicon font ic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0000"/>
                </a:solidFill>
                <a:latin typeface="Arial"/>
              </a:rPr>
              <a:t>Χρήση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1459080" y="4869000"/>
            <a:ext cx="6172200" cy="140652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406" name="Picture 6" descr=""/>
          <p:cNvPicPr/>
          <p:nvPr/>
        </p:nvPicPr>
        <p:blipFill>
          <a:blip r:embed="rId2"/>
          <a:stretch/>
        </p:blipFill>
        <p:spPr>
          <a:xfrm>
            <a:off x="1098720" y="2637000"/>
            <a:ext cx="7086600" cy="105696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00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900" spc="-1" strike="noStrike">
                <a:solidFill>
                  <a:srgbClr val="330066"/>
                </a:solidFill>
                <a:latin typeface="Arial"/>
              </a:rPr>
              <a:t>Εργασία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28560" y="1557360"/>
            <a:ext cx="8105760" cy="44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Σχεδιάστε μια σελίδα με την ακόλουθη δομή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3"/>
          <p:cNvGrpSpPr/>
          <p:nvPr/>
        </p:nvGrpSpPr>
        <p:grpSpPr>
          <a:xfrm>
            <a:off x="1603440" y="2276640"/>
            <a:ext cx="6067440" cy="4135320"/>
            <a:chOff x="1603440" y="2276640"/>
            <a:chExt cx="6067440" cy="4135320"/>
          </a:xfrm>
        </p:grpSpPr>
        <p:sp>
          <p:nvSpPr>
            <p:cNvPr id="410" name="Rectangle: Rounded Corners 8"/>
            <p:cNvSpPr/>
            <p:nvPr/>
          </p:nvSpPr>
          <p:spPr>
            <a:xfrm>
              <a:off x="1603440" y="5650200"/>
              <a:ext cx="6067440" cy="761760"/>
            </a:xfrm>
            <a:prstGeom prst="roundRect">
              <a:avLst>
                <a:gd name="adj" fmla="val 5556"/>
              </a:avLst>
            </a:prstGeom>
            <a:solidFill>
              <a:srgbClr val="66999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12"/>
            <p:cNvGrpSpPr/>
            <p:nvPr/>
          </p:nvGrpSpPr>
          <p:grpSpPr>
            <a:xfrm>
              <a:off x="1603440" y="2276640"/>
              <a:ext cx="6067440" cy="3250080"/>
              <a:chOff x="1603440" y="2276640"/>
              <a:chExt cx="6067440" cy="3250080"/>
            </a:xfrm>
          </p:grpSpPr>
          <p:sp>
            <p:nvSpPr>
              <p:cNvPr id="412" name="Rectangle: Rounded Corners 3"/>
              <p:cNvSpPr/>
              <p:nvPr/>
            </p:nvSpPr>
            <p:spPr>
              <a:xfrm>
                <a:off x="1603440" y="2276640"/>
                <a:ext cx="6067440" cy="307800"/>
              </a:xfrm>
              <a:prstGeom prst="roundRect">
                <a:avLst>
                  <a:gd name="adj" fmla="val 5556"/>
                </a:avLst>
              </a:prstGeom>
              <a:solidFill>
                <a:srgbClr val="669999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Navigation Ba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: Rounded Corners 4"/>
              <p:cNvSpPr/>
              <p:nvPr/>
            </p:nvSpPr>
            <p:spPr>
              <a:xfrm>
                <a:off x="1603440" y="2671920"/>
                <a:ext cx="6067440" cy="1457640"/>
              </a:xfrm>
              <a:prstGeom prst="roundRect">
                <a:avLst>
                  <a:gd name="adj" fmla="val 1556"/>
                </a:avLst>
              </a:prstGeom>
              <a:solidFill>
                <a:srgbClr val="669999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arouse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: Rounded Corners 5"/>
              <p:cNvSpPr/>
              <p:nvPr/>
            </p:nvSpPr>
            <p:spPr>
              <a:xfrm>
                <a:off x="1603440" y="4202640"/>
                <a:ext cx="1901880" cy="307800"/>
              </a:xfrm>
              <a:prstGeom prst="roundRect">
                <a:avLst>
                  <a:gd name="adj" fmla="val 5556"/>
                </a:avLst>
              </a:prstGeom>
              <a:solidFill>
                <a:srgbClr val="669999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Feature/Icon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: Rounded Corners 6"/>
              <p:cNvSpPr/>
              <p:nvPr/>
            </p:nvSpPr>
            <p:spPr>
              <a:xfrm>
                <a:off x="3686040" y="4202640"/>
                <a:ext cx="1901880" cy="307800"/>
              </a:xfrm>
              <a:prstGeom prst="roundRect">
                <a:avLst>
                  <a:gd name="adj" fmla="val 5556"/>
                </a:avLst>
              </a:prstGeom>
              <a:solidFill>
                <a:srgbClr val="669999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Feature/Icon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: Rounded Corners 7"/>
              <p:cNvSpPr/>
              <p:nvPr/>
            </p:nvSpPr>
            <p:spPr>
              <a:xfrm>
                <a:off x="5769000" y="4202640"/>
                <a:ext cx="1901880" cy="307800"/>
              </a:xfrm>
              <a:prstGeom prst="roundRect">
                <a:avLst>
                  <a:gd name="adj" fmla="val 5556"/>
                </a:avLst>
              </a:prstGeom>
              <a:solidFill>
                <a:srgbClr val="669999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Feature/Icon 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: Rounded Corners 9"/>
              <p:cNvSpPr/>
              <p:nvPr/>
            </p:nvSpPr>
            <p:spPr>
              <a:xfrm>
                <a:off x="1603440" y="4618440"/>
                <a:ext cx="6067440" cy="908280"/>
              </a:xfrm>
              <a:prstGeom prst="roundRect">
                <a:avLst>
                  <a:gd name="adj" fmla="val 5556"/>
                </a:avLst>
              </a:prstGeom>
              <a:solidFill>
                <a:srgbClr val="669999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Our Tea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-360" y="466200"/>
            <a:ext cx="75121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800" spc="-1" strike="noStrike">
                <a:solidFill>
                  <a:srgbClr val="330066"/>
                </a:solidFill>
                <a:latin typeface="Arial"/>
              </a:rPr>
              <a:t>Τέλο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873000" y="3049560"/>
            <a:ext cx="6421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Ερωτήσει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Τα </a:t>
            </a: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attributes</a:t>
            </a:r>
            <a:r>
              <a:rPr b="1" lang="el-GR" sz="3600" spc="-1" strike="noStrike">
                <a:solidFill>
                  <a:srgbClr val="330066"/>
                </a:solidFill>
                <a:latin typeface="Arial"/>
              </a:rPr>
              <a:t> είναι ξεπερασμένα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54040" y="1989000"/>
            <a:ext cx="82440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9440" y="122400"/>
            <a:ext cx="77533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eb Colors - </a:t>
            </a:r>
            <a:r>
              <a:rPr b="0" lang="en-US" sz="46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4600" spc="-1" strike="noStrike">
                <a:solidFill>
                  <a:srgbClr val="00cc00"/>
                </a:solidFill>
                <a:latin typeface="Arial"/>
              </a:rPr>
              <a:t>G</a:t>
            </a:r>
            <a:r>
              <a:rPr b="0" lang="en-US" sz="4600" spc="-1" strike="noStrike">
                <a:solidFill>
                  <a:srgbClr val="0000ff"/>
                </a:solidFill>
                <a:latin typeface="Arial"/>
              </a:rPr>
              <a:t>B</a:t>
            </a:r>
            <a:endParaRPr b="1" lang="en-US" sz="4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9440" y="1574280"/>
            <a:ext cx="84582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69800" y="1379520"/>
          <a:ext cx="415152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840"/>
                <a:gridCol w="693720"/>
                <a:gridCol w="690480"/>
                <a:gridCol w="706320"/>
                <a:gridCol w="676440"/>
              </a:tblGrid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33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00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0099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33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33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33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33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66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>
                      <a:noFill/>
                    </a:lnB>
                    <a:solidFill>
                      <a:srgbClr val="6699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/>
                    </a:solidFill>
                  </a:tcPr>
                </a:tc>
              </a:tr>
              <a:tr h="24264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6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00ff"/>
                    </a:solidFill>
                  </a:tcPr>
                </a:tc>
              </a:tr>
              <a:tr h="243000"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776840" y="1379520"/>
          <a:ext cx="4151160" cy="4857840"/>
        </p:xfrm>
        <a:graphic>
          <a:graphicData uri="http://schemas.openxmlformats.org/drawingml/2006/table">
            <a:tbl>
              <a:tblPr/>
              <a:tblGrid>
                <a:gridCol w="693720"/>
                <a:gridCol w="690480"/>
                <a:gridCol w="693720"/>
                <a:gridCol w="690480"/>
                <a:gridCol w="706680"/>
                <a:gridCol w="676080"/>
              </a:tblGrid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99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99ff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00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C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66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49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C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00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33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33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720">
                      <a:solidFill>
                        <a:srgbClr val="80808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F66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72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720">
                      <a:solidFill>
                        <a:srgbClr val="80808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30456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99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30348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CC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03120"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C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3960" rIns="9396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FFF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960" marR="9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9" name="Text Box 312"/>
          <p:cNvSpPr/>
          <p:nvPr/>
        </p:nvSpPr>
        <p:spPr>
          <a:xfrm>
            <a:off x="0" y="6308640"/>
            <a:ext cx="93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 X 256 X 256 = 16.777.2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15:19:43Z</dcterms:created>
  <dc:creator>mitsos</dc:creator>
  <dc:description/>
  <dc:language>en-US</dc:language>
  <cp:lastModifiedBy>Πλέσσας Αθανάσιος</cp:lastModifiedBy>
  <dcterms:modified xsi:type="dcterms:W3CDTF">2019-10-16T19:52:01Z</dcterms:modified>
  <cp:revision>604</cp:revision>
  <dc:subject/>
  <dc:title>Τεχνολογίες Διαδικτύου</dc:title>
</cp:coreProperties>
</file>