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FE7-AC37-4330-B544-B6C8C4BC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43F-4CF4-412E-BF8F-A9944E7A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7DB-49BF-4A2F-9F89-868A6F9A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821-0ABB-4764-9C49-B0BCD7BA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C0B-85C2-437B-9857-8F6B4325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E8B-4ECA-4D27-9C81-CC69BC98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1AE-B403-4B96-9AA5-0589846F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686-2E57-4D02-895E-AF803D09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C80-04DB-45FC-A4B7-129F65B8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6F9-3A67-4201-9935-2280D47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08E-0F7E-4469-A2A3-80D25DFC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587-CB78-4A88-8D3E-963DA0B9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ΕΑΠ - Χ. Πιερρακέα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ΕΑ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884E-9592-4788-9DE4-340415AC125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680760"/>
            <a:ext cx="7991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Πανεπιστήμιο Πάτρας</a:t>
            </a:r>
            <a:br>
              <a:rPr sz="4000"/>
            </a:b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Τμήμα Διοίκησης Επιχειρήσεω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68360" y="0"/>
            <a:ext cx="13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457200" y="2873160"/>
            <a:ext cx="8218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ΙΣΑΓΩΓΗ ΣΤΟΥΣ Η/Υ: ΟΡΓΑΝΩΣΗ ΚΑΙ ΠΡΟΓΡΑΜΜΑΤΙΣΜΟ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καδημαϊκό έτος 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– 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Διδάσκων: Γιάννης Σταματί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ail: stamatiu@upatras.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92000" y="907920"/>
            <a:ext cx="694872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28600" y="3733920"/>
            <a:ext cx="73915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 marL="1203480" indent="-52092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3ης γενιάς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52092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52092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ης γενιάς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4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52092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52092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ης γενιάς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5G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520920"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600200"/>
            <a:ext cx="861048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915840">
              <a:tabLst>
                <a:tab algn="l" pos="0"/>
                <a:tab algn="l" pos="955800"/>
                <a:tab algn="l" pos="1092240"/>
                <a:tab algn="l" pos="1228680"/>
                <a:tab algn="l" pos="1365120"/>
                <a:tab algn="l" pos="1501920"/>
                <a:tab algn="l" pos="1638360"/>
                <a:tab algn="l" pos="1774800"/>
                <a:tab algn="l" pos="1911240"/>
                <a:tab algn="l" pos="2048040"/>
                <a:tab algn="l" pos="2184480"/>
                <a:tab algn="l" pos="2320920"/>
                <a:tab algn="l" pos="2457360"/>
                <a:tab algn="l" pos="2593800"/>
                <a:tab algn="l" pos="2730600"/>
                <a:tab algn="l" pos="2867040"/>
                <a:tab algn="l" pos="3003480"/>
                <a:tab algn="l" pos="3139920"/>
                <a:tab algn="l" pos="3276720"/>
                <a:tab algn="l" pos="3413160"/>
                <a:tab algn="l" pos="35496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Οι γλώσσες υψηλού επιπέδου είναι πιο δυναμικές και πιο κατανοητές από τον άνθρωπο αφού χρησιμοποιούν περισσότερες λέξεις και προτάσεις της Αγγλικής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5840">
              <a:buClr>
                <a:srgbClr val="3333cc"/>
              </a:buClr>
              <a:buFont typeface="Times New Roman"/>
              <a:buChar char="•"/>
              <a:tabLst>
                <a:tab algn="l" pos="955800"/>
                <a:tab algn="l" pos="1092240"/>
                <a:tab algn="l" pos="1228680"/>
                <a:tab algn="l" pos="1365120"/>
                <a:tab algn="l" pos="1501920"/>
                <a:tab algn="l" pos="1638360"/>
                <a:tab algn="l" pos="1774800"/>
                <a:tab algn="l" pos="1911240"/>
                <a:tab algn="l" pos="2048040"/>
                <a:tab algn="l" pos="2184480"/>
                <a:tab algn="l" pos="2320920"/>
                <a:tab algn="l" pos="2457360"/>
                <a:tab algn="l" pos="2593800"/>
                <a:tab algn="l" pos="2730600"/>
                <a:tab algn="l" pos="2867040"/>
                <a:tab algn="l" pos="3003480"/>
                <a:tab algn="l" pos="3139920"/>
                <a:tab algn="l" pos="3276720"/>
                <a:tab algn="l" pos="3413160"/>
                <a:tab algn="l" pos="3549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5840">
              <a:tabLst>
                <a:tab algn="l" pos="0"/>
                <a:tab algn="l" pos="955800"/>
                <a:tab algn="l" pos="1092240"/>
                <a:tab algn="l" pos="1228680"/>
                <a:tab algn="l" pos="1365120"/>
                <a:tab algn="l" pos="1501920"/>
                <a:tab algn="l" pos="1638360"/>
                <a:tab algn="l" pos="1774800"/>
                <a:tab algn="l" pos="1911240"/>
                <a:tab algn="l" pos="2048040"/>
                <a:tab algn="l" pos="2184480"/>
                <a:tab algn="l" pos="2320920"/>
                <a:tab algn="l" pos="2457360"/>
                <a:tab algn="l" pos="2593800"/>
                <a:tab algn="l" pos="2730600"/>
                <a:tab algn="l" pos="2867040"/>
                <a:tab algn="l" pos="3003480"/>
                <a:tab algn="l" pos="3139920"/>
                <a:tab algn="l" pos="3276720"/>
                <a:tab algn="l" pos="3413160"/>
                <a:tab algn="l" pos="35496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Οι γλώσσες υψηλού επιπέδου διακρίνονται σε 3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γενιές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":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39640" y="38088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High-Level Languag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68360" y="4797360"/>
            <a:ext cx="82296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 marL="1203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TAN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BOL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SIC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scal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306396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79404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1076400"/>
            <a:ext cx="88930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1365120" indent="-341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Είναι αρχαιότερες γλώσσες υψηλού επιπέδου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 Είναι μεταφέρσιμες. Δηλαδή, ο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bject code 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που δημιουργούν για ένα τύπο συστήματος μπορεί να «τρέξει» και σε συστήματα άλλων τύπων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41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Για κάθε γλώσσα υπάρχει χωριστό μεταφραστικό πρόγραμμα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52680">
              <a:buClr>
                <a:srgbClr val="cc0066"/>
              </a:buClr>
              <a:buFont typeface="Times New Roman"/>
              <a:buChar char="•"/>
              <a:tabLst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  <a:tab algn="l" pos="4925880"/>
              </a:tabLst>
            </a:pPr>
            <a:r>
              <a:rPr b="1" lang="el-GR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Compil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εταγλωττιστής)</a:t>
            </a:r>
            <a:r>
              <a:rPr b="1" lang="el-GR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52680">
              <a:buClr>
                <a:srgbClr val="cc0066"/>
              </a:buClr>
              <a:buFont typeface="Times New Roman"/>
              <a:buChar char="•"/>
              <a:tabLst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  <a:tab algn="l" pos="4925880"/>
              </a:tabLst>
            </a:pPr>
            <a:r>
              <a:rPr b="1" lang="el-GR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nterpreter</a:t>
            </a:r>
            <a:r>
              <a:rPr b="1" lang="el-GR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(Διερμηνευτής)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41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41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Οι παρακάτω είναι γλώσσες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G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396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Γλώσσες Υψηλού Επιπέδου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3GL</a:t>
            </a:r>
            <a:r>
              <a:rPr b="1" lang="el-GR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28600" y="4467240"/>
            <a:ext cx="82296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 marL="10778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sual Basic (V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778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sua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778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sual C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523880"/>
            <a:ext cx="87631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1311120" indent="-395280">
              <a:buClr>
                <a:srgbClr val="3333cc"/>
              </a:buClr>
              <a:buFont typeface="Times New Roman"/>
              <a:buChar char="•"/>
              <a:tabLst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Είναι ακόμη πιο εύκολες στην χρήση από ότι οι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G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11120" indent="-395280">
              <a:buClr>
                <a:srgbClr val="3333cc"/>
              </a:buClr>
              <a:buFont typeface="Times New Roman"/>
              <a:buChar char="•"/>
              <a:tabLst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11120" indent="-395280">
              <a:buClr>
                <a:srgbClr val="3333cc"/>
              </a:buClr>
              <a:buFont typeface="Times New Roman"/>
              <a:buChar char="•"/>
              <a:tabLst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Επιτρέπουν την εργασία σε ένα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οπτικό περιβάλλον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sual environment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) με χρήση γραφικών εργαλείων όπως τα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11120" indent="-395280">
              <a:buClr>
                <a:srgbClr val="3333cc"/>
              </a:buClr>
              <a:buFont typeface="Times New Roman"/>
              <a:buChar char="•"/>
              <a:tabLst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11120" indent="-395280">
              <a:buClr>
                <a:srgbClr val="3333cc"/>
              </a:buClr>
              <a:buFont typeface="Times New Roman"/>
              <a:buChar char="•"/>
              <a:tabLst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Οι παρακάτω είναι γλώσσες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G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3338640"/>
            <a:ext cx="9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5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Times New Roman"/>
              </a:rPr>
              <a:t>Γλώσσες Υψηλού Επιπέδου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– 4G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Γλώσσες Υψηλού Επιπέδο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9640" y="1413000"/>
            <a:ext cx="8077320" cy="4665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/*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Αυτό το πρόγραμμα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είιναι γραμμένο σε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γλώσσ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Διαβάζει δύο ακεραίους αριθμούς από το πληκτρολόγιο και τυπώνει το γινόμενο τους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main 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number1, number2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f(“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ώσε δύο αριθμούς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f(“%d”, &amp;number1);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f(“%d”, &amp;number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= number1 * numbe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f(“To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γινόμενο είνα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d”, re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Γλώσσες Υψηλού Επιπέδο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68360" y="1484280"/>
            <a:ext cx="8077320" cy="4451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(*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Αυτό το πρόγραμμα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είιναι γραμμένο σε γλώσσ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Διαβάζει δύο ακεραίους αριθμούς από το πληκτρολόγιο και τυπώνει το γινόμενο τους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l-GR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*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Product_of_two_numb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1, number2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: integ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(“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ώσε δύο αριθμούς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ln(number1, number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= number1 * numbe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ln(“To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γινόμενο είνα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”, re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676520"/>
            <a:ext cx="845820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r>
              <a:rPr b="1" lang="el-GR" sz="2600" spc="-1" strike="noStrike">
                <a:solidFill>
                  <a:srgbClr val="3333cc"/>
                </a:solidFill>
                <a:latin typeface="Times New Roman"/>
              </a:rPr>
              <a:t>Είναι η τελευταία γενιά γλωσσών. Κάποιοι προγραμματιστές θεωρούν ότι δεν υφίσταται 5</a:t>
            </a:r>
            <a:r>
              <a:rPr b="1" lang="el-GR" sz="2600" spc="-1" strike="noStrike" baseline="30000">
                <a:solidFill>
                  <a:srgbClr val="3333cc"/>
                </a:solidFill>
                <a:latin typeface="Times New Roman"/>
              </a:rPr>
              <a:t>η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l-GR" sz="2600" spc="-1" strike="noStrike">
                <a:solidFill>
                  <a:srgbClr val="3333cc"/>
                </a:solidFill>
                <a:latin typeface="Times New Roman"/>
              </a:rPr>
              <a:t> γενιά γλωσσών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r>
              <a:rPr b="1" lang="el-GR" sz="2600" spc="-1" strike="noStrike">
                <a:solidFill>
                  <a:srgbClr val="3333cc"/>
                </a:solidFill>
                <a:latin typeface="Times New Roman"/>
              </a:rPr>
              <a:t>Οι γλώσσες αυτές θα χρησιμοποιούν στοιχεία και μηχανισμούς της </a:t>
            </a:r>
            <a:r>
              <a:rPr b="1" lang="el-GR" sz="2600" spc="-1" strike="noStrike">
                <a:solidFill>
                  <a:srgbClr val="cc0066"/>
                </a:solidFill>
                <a:latin typeface="Times New Roman"/>
              </a:rPr>
              <a:t>Τεχνητής Νοημοσύνης </a:t>
            </a:r>
            <a:r>
              <a:rPr b="1" lang="el-GR" sz="2600" spc="-1" strike="noStrike">
                <a:solidFill>
                  <a:srgbClr val="3333cc"/>
                </a:solidFill>
                <a:latin typeface="Times New Roman"/>
              </a:rPr>
              <a:t>για τη δημιουργία προγραμμάτων.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81080" y="476280"/>
            <a:ext cx="93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5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Γλώσσες Υψηλού Επιπέδου - 5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imes New Roman"/>
              </a:rPr>
              <a:t>Κατασκευή ενός Προγράμματο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1699920"/>
            <a:ext cx="80708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Δουλειά του προγραμματιστή είναι να γράψει ένα πρόγραμμα και μετά να το μετατρέψει σε </a:t>
            </a:r>
            <a:r>
              <a:rPr b="1" lang="el-GR" sz="3200" spc="-1" strike="noStrike">
                <a:solidFill>
                  <a:srgbClr val="ff0000"/>
                </a:solidFill>
                <a:latin typeface="Times New Roman"/>
              </a:rPr>
              <a:t>εκτελέσιμο αρχείο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. Αυτή η διαδικασία έχει τρία βήματα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γραφή και διόρθωση του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γλώττιση του προγράμματ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νδεση του προγράμματος με τις απαραίτητες υπομονάδες βιβλιοθηκώ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228600" y="3657600"/>
            <a:ext cx="160020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ext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124080" y="3657600"/>
            <a:ext cx="160020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172200" y="3657600"/>
            <a:ext cx="160020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1828800" y="403848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4724280" y="403848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28600" y="1752480"/>
            <a:ext cx="1905120" cy="114300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>
            <a:off x="83808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1371600" y="2895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779840" y="3276720"/>
            <a:ext cx="129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495680" y="32004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bjec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7772400" y="403848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7162920" y="3200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ecutabl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68436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mpilers (</a:t>
            </a:r>
            <a:r>
              <a:rPr b="0" lang="el-GR" sz="4400" spc="-1" strike="noStrike">
                <a:solidFill>
                  <a:srgbClr val="ff0000"/>
                </a:solidFill>
                <a:latin typeface="Times New Roman"/>
              </a:rPr>
              <a:t>μεταγλωττιστέ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7020000" y="4724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6227640" y="5445000"/>
            <a:ext cx="16002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8640" y="2055600"/>
            <a:ext cx="6429240" cy="18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400" spc="-1" strike="noStrike">
                <a:solidFill>
                  <a:srgbClr val="ff0000"/>
                </a:solidFill>
                <a:latin typeface="Arial"/>
              </a:rPr>
              <a:t>Αλγόριθμο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205000"/>
            <a:ext cx="8094600" cy="20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Προγραμματισμός Η/Υ:</a:t>
            </a:r>
            <a:br>
              <a:rPr sz="4400"/>
            </a:b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Αλγόριθμοι και γλώσσες προγραμματισμο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1916280"/>
            <a:ext cx="849780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1365120" indent="-44928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Ένας αλγόριθμος είναι μια σειρά από βήματα που πρέπει ακολουθήσουμε ώστε να φτάσουμε στην λύση ενός προβλήματος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44928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44928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Τα βήματα ενός αλγορίθμου είναι ίδια είτε επιλύουμε το πρόβλημα με το χέρι, είτε μέσω προγράμματος υπολογιστ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44928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44928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Η ανάπτυξη αλγορίθμων είναι το προστάδιο της υλοποίησης ενός προγράμματος Η/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449280">
              <a:lnSpc>
                <a:spcPct val="110000"/>
              </a:lnSpc>
              <a:buClr>
                <a:srgbClr val="3333cc"/>
              </a:buClr>
              <a:buFont typeface="Arial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3521160"/>
            <a:ext cx="9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 u="sng">
                <a:solidFill>
                  <a:srgbClr val="ff0000"/>
                </a:solidFill>
                <a:uFillTx/>
                <a:latin typeface="Arial"/>
              </a:rPr>
              <a:t>Αλγόριθμοι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l-GR" sz="4000" spc="-1" strike="noStrike" u="sng">
                <a:solidFill>
                  <a:srgbClr val="ff0000"/>
                </a:solidFill>
                <a:uFillTx/>
                <a:latin typeface="Arial"/>
              </a:rPr>
              <a:t>(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gorithms</a:t>
            </a:r>
            <a:r>
              <a:rPr b="0" lang="el-GR" sz="40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Αλγόριθμοι - συνέχει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1295280"/>
            <a:ext cx="850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κοπός του αλγορίθμου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είναι η επίλυση ενός προβλήματος μέσω ηλεκτρονικού υπολογιστή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ς αλγόριθμος δέχεται κάποια δεδομένα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σοδ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 και παράγει κάποια αποτελέσματα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έξοδ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αλγόριθμος είναι άμεσα κατανοητός από τον άνθρωπο (όχι από τους ηλεκτρονικούς υπολογιστές) και συντάσσετα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φυσική γλώσσ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ψευδοκώδικ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ε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διάγραμμα ρο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 συνέχεια μετατρέπεται σε πρόγραμμα Η/Υ με χρήση κάποιας γλώσσας προγραμματισμού, ώστε να μπορεί να εκτελεστε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5040" y="2349000"/>
            <a:ext cx="3111480" cy="24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Διάγραμμα ροή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324000" y="1901880"/>
          <a:ext cx="8350200" cy="38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01880"/>
                    <a:ext cx="835020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5040" y="2349000"/>
            <a:ext cx="3111480" cy="24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Ψευδοκώδικ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468360" y="2133720"/>
          <a:ext cx="791064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791064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Αλγόριθμοι - συνέχει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Κρίσιμη παρατήρηση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λγόριθμος πρέπει να μπορεί να επιλύει μια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μάδα προβλημάτων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και όχι μία συγκεκριμένη περίπτωση του προβλήματο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δεν κατασκευάζουμε έναν αλγόριθμο που να λύνει την εξίσωση </a:t>
            </a:r>
            <a:r>
              <a:rPr b="1" lang="el-GR" sz="2800" spc="-1" strike="noStrike">
                <a:solidFill>
                  <a:srgbClr val="3333cc"/>
                </a:solidFill>
                <a:latin typeface="Times New Roman"/>
              </a:rPr>
              <a:t>3x + 2 = 5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, αλλά έναν αλγόριθμο που να λύνει την εξίσωση </a:t>
            </a:r>
            <a:r>
              <a:rPr b="1" lang="el-GR" sz="2800" spc="-1" strike="noStrike">
                <a:solidFill>
                  <a:srgbClr val="3333cc"/>
                </a:solidFill>
                <a:latin typeface="Times New Roman"/>
              </a:rPr>
              <a:t>ax + b = c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Τότε ο αλγόριθμος θα είναι ικανός να λύνει το συγκεκριμένο πρόβλημα αλλά και κάθε πρωτοβάθμια εξίσωση, ανεξαρτήτως των τιμών των a, b και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Verdana"/>
              </a:rPr>
              <a:t>Απλά προβλήματα αλγορίθμω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1: Να υπολογιστεί ο μέσος όρος 3 αριθμών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3640" y="1628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Είσοδος: Τρεις αριθμο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Έ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  <a:ea typeface="Tahoma"/>
              </a:rPr>
              <a:t>ξοδος: Ο μέσος όρος των 3 αριθμώ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Αλγόριθμος σε φυσική γλώσσ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2800" spc="-1" strike="noStrike">
                <a:solidFill>
                  <a:srgbClr val="3333cc"/>
                </a:solidFill>
                <a:latin typeface="Tahoma"/>
                <a:ea typeface="Tahoma"/>
              </a:rPr>
              <a:t>Διάβασε 3 αριθμούς. Υπολόγισε το άθροισμα τους. Διαίρεσε το άθροισμα με το πλήθος των αριθμών και εκτύπωσε το αποτέλεσμα της διαίρεσης.</a:t>
            </a:r>
            <a:r>
              <a:rPr b="0" lang="el-GR" sz="2800" spc="-1" strike="noStrike">
                <a:solidFill>
                  <a:srgbClr val="3333cc"/>
                </a:solidFill>
                <a:latin typeface="Tahoma"/>
                <a:ea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1: Να υπολογιστεί ο μέσος όρος 3 αριθμών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838080" y="1981080"/>
            <a:ext cx="74678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Αλγόριθμος σε μορφή ψευδοκώδικ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Βήμα 1.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  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Διάβασε 3 αριθμούς στις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μεταβλητές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A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B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Βήμα 2.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  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Υπολόγισ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M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=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 A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B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Βήμα 3.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  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Υπολόγισε ΜΟ=</a:t>
            </a:r>
            <a:r>
              <a:rPr b="1" lang="fr-FR" sz="2800" spc="-1" strike="noStrike">
                <a:solidFill>
                  <a:srgbClr val="3333cc"/>
                </a:solidFill>
                <a:latin typeface="Arial"/>
                <a:ea typeface="Tahoma"/>
              </a:rPr>
              <a:t>SUM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ahoma"/>
              </a:rPr>
              <a:t>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Βήμα 4.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  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Τύπωσε “Μέσος όρος= “, Μ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Tahoma"/>
              </a:rPr>
              <a:t>Βήμα 5.   Τέλ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048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1: Να υπολογιστεί ο μέσος όρος 3 αριθμών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2120" y="2895480"/>
            <a:ext cx="281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ahoma"/>
              </a:rPr>
              <a:t>Αλγόριθμος  σε μορφή διαγράμματος ροή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f1"/>
          <p:cNvPicPr/>
          <p:nvPr/>
        </p:nvPicPr>
        <p:blipFill>
          <a:blip r:embed="rId1"/>
          <a:stretch/>
        </p:blipFill>
        <p:spPr>
          <a:xfrm>
            <a:off x="4495680" y="549360"/>
            <a:ext cx="330228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Verdana"/>
              </a:rPr>
              <a:t>Βασικοί συμβολισμοί στα διαγράμματα ροή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4191120" y="3657600"/>
            <a:ext cx="2438280" cy="838080"/>
          </a:xfrm>
          <a:prstGeom prst="flowChartDecision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533520" y="3581280"/>
            <a:ext cx="2286000" cy="609840"/>
          </a:xfrm>
          <a:prstGeom prst="flowChartInputOutpu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38080" y="2362320"/>
            <a:ext cx="1905120" cy="45720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733920" y="4952880"/>
            <a:ext cx="1676160" cy="762120"/>
          </a:xfrm>
          <a:prstGeom prst="flowChart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257800" y="2209680"/>
            <a:ext cx="1828800" cy="7621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6212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ρχή ή τέλ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85800" y="4419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ίσοδος δεδομένων (ανάγνωσ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181480" y="2971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πεξεργασ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571500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Έλεγχος συνθήκ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4800600" y="5562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κτύπωση αποτελεσμά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3962520"/>
            <a:ext cx="86868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 marL="1203480" indent="-39528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Γλώσσες μηχανής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chine languages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39528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39528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Σε συμβολικές γλώσσες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sembly languages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395280"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Σε γλώσσες Υψηλού-Επιπέδου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igh-level languages</a:t>
            </a: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03480" indent="-395280"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3429000"/>
            <a:ext cx="914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990720"/>
            <a:ext cx="84582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969840">
              <a:tabLst>
                <a:tab algn="l" pos="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Κάθε πρόγραμμα Η/Υ φτιάχνεται σε μια γλώσσα προγραμματισμού που μπορεί να είναι κατανοητή από τον άνθρωπο. Για να εκτελεστούν από ένα Η/Υ αυτά τα προγράμματα πρέπει να μεταφραστούν σε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κώδικα μηχανής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9840">
              <a:buClr>
                <a:srgbClr val="3333cc"/>
              </a:buClr>
              <a:buFont typeface="Times New Roman"/>
              <a:buChar char="•"/>
              <a:tabLst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9840">
              <a:tabLst>
                <a:tab algn="l" pos="0"/>
                <a:tab algn="l" pos="1019160"/>
                <a:tab algn="l" pos="1189080"/>
                <a:tab algn="l" pos="1359000"/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Times New Roman"/>
              </a:rPr>
              <a:t>Οι γλώσσες προγραμματισμού διακρίνονται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Η εξέλιξη των γλωσσών προγραμματισμο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</a:t>
            </a:r>
            <a:r>
              <a:rPr b="1" lang="el-GR" sz="25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el-GR" sz="2500" spc="-1" strike="noStrike">
                <a:solidFill>
                  <a:srgbClr val="ff0000"/>
                </a:solidFill>
                <a:latin typeface="Verdana"/>
                <a:ea typeface="Tahoma"/>
              </a:rPr>
              <a:t>: Να </a:t>
            </a:r>
            <a:r>
              <a:rPr b="1" lang="el-GR" sz="2500" spc="-1" strike="noStrike">
                <a:solidFill>
                  <a:srgbClr val="ff0000"/>
                </a:solidFill>
                <a:latin typeface="Verdana"/>
              </a:rPr>
              <a:t>βρεθεί ο μεγαλύτερος από 3 αριθμού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1447920"/>
            <a:ext cx="7086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Είσοδος: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Οι 3 αριθμο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Έ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ξοδος: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Ο μεγαλύτερος αριθμό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Ο αλγόριθμος σε μορφή ψευδοκώδικ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2895480"/>
            <a:ext cx="8382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1: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Tahoma"/>
              </a:rPr>
              <a:t>Διάβασε 3 αριθμούς Α, Β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2: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Tahoma"/>
              </a:rPr>
              <a:t>Θέσε ως μέγιστο τον πρώτο,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Tahoma"/>
              </a:rPr>
              <a:t>ΜΑΧ = 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: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Tahoma"/>
              </a:rPr>
              <a:t>Αν Β &gt; ΜΑΧ  Τότε Θέσε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Tahoma"/>
              </a:rPr>
              <a:t>ΜΑΧ = 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4: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Tahoma"/>
              </a:rPr>
              <a:t>Αν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ahoma"/>
              </a:rPr>
              <a:t>C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Tahoma"/>
              </a:rPr>
              <a:t> &gt; ΜΑΧ  Τότε Θέσε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Tahoma"/>
              </a:rPr>
              <a:t>ΜΑΧ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5: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Tahoma"/>
              </a:rPr>
              <a:t>Τύπωσε την τιμή του ΜΑ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6: Τέλ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24386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Arial"/>
                <a:ea typeface="Tahoma"/>
              </a:rPr>
              <a:t>Πρόβλημα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  <a:ea typeface="Tahoma"/>
              </a:rPr>
              <a:t>:</a:t>
            </a:r>
            <a:br>
              <a:rPr sz="2600"/>
            </a:b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Ο αλγόριθμος σε μορφή διαγράμματος ροής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f3"/>
          <p:cNvPicPr/>
          <p:nvPr/>
        </p:nvPicPr>
        <p:blipFill>
          <a:blip r:embed="rId1"/>
          <a:stretch/>
        </p:blipFill>
        <p:spPr>
          <a:xfrm>
            <a:off x="2951280" y="355680"/>
            <a:ext cx="5354640" cy="60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Πρόβλημα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: Να τυπωθεί η φράση «ΚΑΛΗΜΕΡΑ ΖΩΗ» Ν φορέ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62120" y="2360520"/>
            <a:ext cx="7619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σοδος: Ο αριθμός 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Έξοδος: Η φρά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ΛΗΜΕΡΑ ΖΩΗ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φορ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3: 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λγόριθμος σε ψευδοκώδικ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95280" y="1989000"/>
            <a:ext cx="8064360" cy="342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1: Διάβασε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2: Μηδένισε μετρητή, Ι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: Όσο ο μετρητής Ι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.1 Αύξησε μετρητή κατά ένα, Ι = Ι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.2 Τύπωσ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ΛΗΜΕΡΑ ΖΩΗ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Τέλος Όσ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4: Τέλ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3: 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λγόριθμος σε ψευδοκώδικ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95280" y="1989000"/>
            <a:ext cx="8064360" cy="342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1: Διάβασε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2: Μηδένισε μετρητή, Ι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: Όσο Ι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.1 Αύξησε μετρητή κατά ένα, Ι = Ι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.2 Τύπωσ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ΛΗΜΕΡΑ ΖΩΗ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Τέλος Όσ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4: Τέλ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92360" y="1484280"/>
            <a:ext cx="5256360" cy="376416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κτέλεση αλγορίθμου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</a:t>
            </a:r>
            <a:r>
              <a:rPr b="1" lang="el-GR" sz="2800" spc="-1" strike="noStrike">
                <a:solidFill>
                  <a:srgbClr val="ff0000"/>
                </a:solidFill>
                <a:latin typeface="Times New Roman"/>
              </a:rPr>
              <a:t>Ν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ΛΗΜΕΡΑ ΖΩΗ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ΛΗΜΕΡΑ ΖΩΗ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ΛΗΜΕΡΑ ΖΩΗ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ΛΗΜΕΡΑ ΖΩΗ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ΚΑΛΗΜΕΡΑ ΖΩΗ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3: 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  <a:ea typeface="Tahoma"/>
              </a:rPr>
              <a:t>Βελτίωση α</a:t>
            </a:r>
            <a:r>
              <a:rPr b="1" lang="el-GR" sz="4400" spc="-1" strike="noStrike">
                <a:solidFill>
                  <a:srgbClr val="000000"/>
                </a:solidFill>
                <a:latin typeface="Verdana"/>
              </a:rPr>
              <a:t>λγ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ορίθμο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© </a:t>
            </a:r>
            <a:r>
              <a:rPr b="0" lang="el-GR" sz="1400" spc="-1" strike="noStrike">
                <a:solidFill>
                  <a:srgbClr val="000000"/>
                </a:solidFill>
                <a:latin typeface="Arial Narrow"/>
              </a:rPr>
              <a:t>Ανδρέας Νεάρχο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24000" y="1628640"/>
            <a:ext cx="8064360" cy="4921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1: Διάβασε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2: Όσο Ν </a:t>
            </a:r>
            <a:r>
              <a:rPr b="1" lang="el-GR" sz="2400" spc="-1" strike="noStrike">
                <a:solidFill>
                  <a:srgbClr val="cc0066"/>
                </a:solidFill>
                <a:latin typeface="Symbol"/>
                <a:ea typeface="Symbol"/>
              </a:rPr>
              <a:t>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2.1 Τύπωσε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Δώσε θετικό πλήθος Ν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2.2 Διάβασε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cc0066"/>
                </a:solidFill>
                <a:latin typeface="Arial"/>
              </a:rPr>
              <a:t>Τέλος Όσ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3: Μηδένισε μετρητή, Ι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4: Όσο Ι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4.1 Αύξησε μετρητή κατά ένα, Ι = Ι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4.2 Τύπωσ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ΛΗΜΕΡΑ ΖΩΗ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Τέλος Όσ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cc"/>
                </a:solidFill>
                <a:latin typeface="Arial"/>
              </a:rPr>
              <a:t>5: Τέλ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33520"/>
            <a:ext cx="823104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Πρόβλημα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: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Για Ν τυχαίους αριθμούς που θα διαβαστούν από το πληκτρολόγιο να υπολογιστεί το ά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θροισμα,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το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γινόμενο και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ο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μέσ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ος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όρος τους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© </a:t>
            </a:r>
            <a:r>
              <a:rPr b="0" lang="el-GR" sz="1400" spc="-1" strike="noStrike">
                <a:solidFill>
                  <a:srgbClr val="000000"/>
                </a:solidFill>
                <a:latin typeface="Arial Narrow"/>
              </a:rPr>
              <a:t>Ανδρέας Νεάρχο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755640" y="2924280"/>
            <a:ext cx="76201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σοδος: Οι Ν αριθμο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Έξοδος: Το άθροισμ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, το γινόμενο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αι ο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έσος όρος του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59280" y="115920"/>
            <a:ext cx="4051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Verdana"/>
                <a:ea typeface="Tahoma"/>
              </a:rPr>
              <a:t>Πρόβλημα 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Tahoma"/>
              </a:rPr>
              <a:t>4</a:t>
            </a:r>
            <a:r>
              <a:rPr b="1" lang="el-GR" sz="4000" spc="-1" strike="noStrike">
                <a:solidFill>
                  <a:srgbClr val="ff0000"/>
                </a:solidFill>
                <a:latin typeface="Verdana"/>
                <a:ea typeface="Tahom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© </a:t>
            </a:r>
            <a:r>
              <a:rPr b="0" lang="el-GR" sz="1400" spc="-1" strike="noStrike">
                <a:solidFill>
                  <a:srgbClr val="000000"/>
                </a:solidFill>
                <a:latin typeface="Arial Narrow"/>
              </a:rPr>
              <a:t>Ανδρέας Νεάρχο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24000" y="692280"/>
            <a:ext cx="8064360" cy="646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1: Διάβασε 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2: Όσο Ν </a:t>
            </a:r>
            <a:r>
              <a:rPr b="1" lang="el-GR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2.1 Τύπωσ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Δώσε θετικό πλήθος Ν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2.2 Διάβασε 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Τέλος Όσ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3: Μηδένισε μετρητή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αριθμών,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4: Θέσε αρχικές τιμές στα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και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G,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S=0, G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: Όσο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&lt;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.1 Αύξησε μετρητή κατά ένα,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J</a:t>
            </a:r>
            <a:r>
              <a:rPr b="1" lang="el-GR" sz="2000" spc="-1" strike="noStrike">
                <a:solidFill>
                  <a:srgbClr val="cc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J</a:t>
            </a:r>
            <a:r>
              <a:rPr b="1" lang="el-GR" sz="2000" spc="-1" strike="noStrike">
                <a:solidFill>
                  <a:srgbClr val="cc0066"/>
                </a:solidFill>
                <a:latin typeface="Arial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.2 Τύπωσ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Δώσε νέο αριθμό Χ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5.3 Διάβασε 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5.4 Υπολόγισ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+X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και φύλαξε το αποτέλεσμα στο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5.5 Υπολόγισ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X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και φύλαξε το αποτέλεσμα στο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Τέλος Όσ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.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Υπολόγισε μέσο όρο, </a:t>
            </a:r>
            <a:r>
              <a:rPr b="1" lang="el-GR" sz="2000" spc="-1" strike="noStrike">
                <a:solidFill>
                  <a:srgbClr val="cc0066"/>
                </a:solidFill>
                <a:latin typeface="Arial"/>
              </a:rPr>
              <a:t>ΜΟ=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S/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: 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Τύπωσ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, G, 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1" lang="el-GR" sz="2000" spc="-1" strike="noStrike">
                <a:solidFill>
                  <a:srgbClr val="3333cc"/>
                </a:solidFill>
                <a:latin typeface="Arial"/>
              </a:rPr>
              <a:t>: Τέλο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243828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Arial"/>
                <a:ea typeface="Tahoma"/>
              </a:rPr>
              <a:t>Πρόβλημα 4:</a:t>
            </a:r>
            <a:br>
              <a:rPr sz="2600"/>
            </a:br>
            <a:br>
              <a:rPr sz="2600"/>
            </a:b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Το διάγραμμα ροής του αλγορίθμο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" descr="f2"/>
          <p:cNvPicPr/>
          <p:nvPr/>
        </p:nvPicPr>
        <p:blipFill>
          <a:blip r:embed="rId1"/>
          <a:stretch/>
        </p:blipFill>
        <p:spPr>
          <a:xfrm>
            <a:off x="3187800" y="304920"/>
            <a:ext cx="49654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02" t="0" r="2239" b="0"/>
          <a:stretch/>
        </p:blipFill>
        <p:spPr>
          <a:xfrm>
            <a:off x="0" y="476280"/>
            <a:ext cx="92012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5184" t="26043" r="25037" b="8337"/>
          <a:stretch/>
        </p:blipFill>
        <p:spPr>
          <a:xfrm>
            <a:off x="611280" y="476280"/>
            <a:ext cx="78692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700280"/>
            <a:ext cx="853452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Οι γλώσσες μηχανής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γλώσσες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1ης γενιάς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είναι η πιο βασική μορφή γλώσσας προγραμματισμού και περιλαμβάνουν εντολές που η μορφή τους είναι σειρές από δυαδικούς αριθμούς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Η γλώσσα μηχανής είναι η μόνη γλώσσα που το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ardware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καταλαβαίνει άμεσα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ff0000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r>
              <a:rPr b="1" lang="el-GR" sz="2500" spc="-1" strike="noStrike">
                <a:solidFill>
                  <a:srgbClr val="ff0000"/>
                </a:solidFill>
                <a:latin typeface="Times New Roman"/>
              </a:rPr>
              <a:t>Διαφορετικές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CPUs </a:t>
            </a:r>
            <a:r>
              <a:rPr b="1" lang="el-GR" sz="2500" spc="-1" strike="noStrike">
                <a:solidFill>
                  <a:srgbClr val="ff0000"/>
                </a:solidFill>
                <a:latin typeface="Times New Roman"/>
              </a:rPr>
              <a:t>χρησιμοποιούν διαφορετικές γλώσσες μηχανής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Π.χ. οι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BM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Η/Υ διαθέτουν διαφορετική γλώσσα μηχανής από ότι οι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pple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 Η/Υ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ff0000"/>
              </a:buClr>
              <a:buFont typeface="Times New Roman"/>
              <a:buChar char="•"/>
              <a:tabLst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  <a:tab algn="l" pos="587376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Intel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vs.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Motorola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διαφορετικές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CPU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53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Γλώσσες Μηχανής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Γλώσσα Μηχανή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00000" y="1700280"/>
            <a:ext cx="8077320" cy="4483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10111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1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0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00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0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101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0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111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01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1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0110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01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10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11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01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0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10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10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0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011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01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011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01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0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0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10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00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11111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0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011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1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011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0001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01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1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1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10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1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011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1110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10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1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1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0000000011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24000" y="1700280"/>
            <a:ext cx="609480" cy="4483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-181080" y="1682640"/>
            <a:ext cx="883944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Οι συμβολικές γλώσσες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γλώσσες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2ης γενιάς)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είναι κάπως ευκολότερες στην χρήση για τον άνθρωπο από ότι οι γλώσσες μηχανής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Για να αναπτύξει κάποιος προγράμματα σε γλώσσα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ssembly,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χρησιμοποιεί κρυπτογραφικές φράσεις της Αγγλικής. Οι φράσεις αυτές αντικαθιστούν τις σειρές από δυαδικούς αριθμούς της γλώσσας μηχανής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65120" indent="-395280">
              <a:buClr>
                <a:srgbClr val="3333cc"/>
              </a:buClr>
              <a:buFont typeface="Times New Roman"/>
              <a:buChar char="•"/>
              <a:tabLst>
                <a:tab algn="l" pos="1528920"/>
                <a:tab algn="l" pos="1698480"/>
                <a:tab algn="l" pos="1868400"/>
                <a:tab algn="l" pos="2038320"/>
                <a:tab algn="l" pos="2208240"/>
                <a:tab algn="l" pos="2378160"/>
                <a:tab algn="l" pos="2548080"/>
                <a:tab algn="l" pos="2717640"/>
                <a:tab algn="l" pos="2887560"/>
                <a:tab algn="l" pos="3057480"/>
                <a:tab algn="l" pos="3227400"/>
                <a:tab algn="l" pos="3397320"/>
                <a:tab algn="l" pos="3567240"/>
                <a:tab algn="l" pos="3736800"/>
                <a:tab algn="l" pos="3906720"/>
                <a:tab algn="l" pos="4076640"/>
                <a:tab algn="l" pos="4246560"/>
                <a:tab algn="l" pos="4416480"/>
                <a:tab algn="l" pos="4586400"/>
                <a:tab algn="l" pos="4756320"/>
              </a:tabLst>
            </a:pP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Ο κώδικας σε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assembly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κατόπιν μεταφράζεται σε αντικειμενικό κώδικα (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object code) </a:t>
            </a:r>
            <a:r>
              <a:rPr b="1" lang="el-GR" sz="2500" spc="-1" strike="noStrike">
                <a:solidFill>
                  <a:srgbClr val="3333cc"/>
                </a:solidFill>
                <a:latin typeface="Times New Roman"/>
              </a:rPr>
              <a:t>χρησιμοποιώντας ένα μεταφραστικό πρόγραμμα που καλείται </a:t>
            </a:r>
            <a:r>
              <a:rPr b="1" lang="en-US" sz="25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assembler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3429000"/>
            <a:ext cx="9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76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95280" y="40464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58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Γλώσσα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Assembl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ff0000"/>
                </a:solidFill>
                <a:latin typeface="Arial"/>
              </a:rPr>
              <a:t>(συμβολική γλώσσα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9"/>
          <p:cNvGrpSpPr/>
          <p:nvPr/>
        </p:nvGrpSpPr>
        <p:grpSpPr>
          <a:xfrm>
            <a:off x="736560" y="5246640"/>
            <a:ext cx="2362320" cy="990720"/>
            <a:chOff x="736560" y="5246640"/>
            <a:chExt cx="2362320" cy="990720"/>
          </a:xfrm>
        </p:grpSpPr>
        <p:sp>
          <p:nvSpPr>
            <p:cNvPr id="60" name="AutoShape 7"/>
            <p:cNvSpPr/>
            <p:nvPr/>
          </p:nvSpPr>
          <p:spPr>
            <a:xfrm>
              <a:off x="736560" y="5246640"/>
              <a:ext cx="2362320" cy="9907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6"/>
            <p:cNvSpPr/>
            <p:nvPr/>
          </p:nvSpPr>
          <p:spPr>
            <a:xfrm>
              <a:off x="1028880" y="5515200"/>
              <a:ext cx="17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Assemb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3"/>
          <p:cNvGrpSpPr/>
          <p:nvPr/>
        </p:nvGrpSpPr>
        <p:grpSpPr>
          <a:xfrm>
            <a:off x="0" y="0"/>
            <a:ext cx="6443280" cy="3644640"/>
            <a:chOff x="0" y="0"/>
            <a:chExt cx="6443280" cy="3644640"/>
          </a:xfrm>
        </p:grpSpPr>
        <p:sp>
          <p:nvSpPr>
            <p:cNvPr id="63" name="AutoShape 5"/>
            <p:cNvSpPr/>
            <p:nvPr/>
          </p:nvSpPr>
          <p:spPr>
            <a:xfrm>
              <a:off x="0" y="0"/>
              <a:ext cx="6443280" cy="3644640"/>
            </a:xfrm>
            <a:prstGeom prst="foldedCorner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Picture 3" descr="Figure28_2b"/>
            <p:cNvPicPr/>
            <p:nvPr/>
          </p:nvPicPr>
          <p:blipFill>
            <a:blip r:embed="rId1"/>
            <a:stretch/>
          </p:blipFill>
          <p:spPr>
            <a:xfrm>
              <a:off x="353160" y="355680"/>
              <a:ext cx="5747760" cy="28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8"/>
            <p:cNvSpPr/>
            <p:nvPr/>
          </p:nvSpPr>
          <p:spPr>
            <a:xfrm>
              <a:off x="4015080" y="533160"/>
              <a:ext cx="161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Assemb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AutoShape 10"/>
          <p:cNvSpPr/>
          <p:nvPr/>
        </p:nvSpPr>
        <p:spPr>
          <a:xfrm>
            <a:off x="1676520" y="3646440"/>
            <a:ext cx="457200" cy="1523880"/>
          </a:xfrm>
          <a:prstGeom prst="downArrow">
            <a:avLst>
              <a:gd name="adj1" fmla="val 50000"/>
              <a:gd name="adj2" fmla="val 8332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124080" y="5475240"/>
            <a:ext cx="2438640" cy="4572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4"/>
          <p:cNvGrpSpPr/>
          <p:nvPr/>
        </p:nvGrpSpPr>
        <p:grpSpPr>
          <a:xfrm>
            <a:off x="5562720" y="4038480"/>
            <a:ext cx="3581280" cy="2819520"/>
            <a:chOff x="5562720" y="4038480"/>
            <a:chExt cx="3581280" cy="2819520"/>
          </a:xfrm>
        </p:grpSpPr>
        <p:sp>
          <p:nvSpPr>
            <p:cNvPr id="69" name="AutoShape 4"/>
            <p:cNvSpPr/>
            <p:nvPr/>
          </p:nvSpPr>
          <p:spPr>
            <a:xfrm>
              <a:off x="5562720" y="4038480"/>
              <a:ext cx="3581280" cy="2819520"/>
            </a:xfrm>
            <a:prstGeom prst="foldedCorner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Picture 2" descr="Figure28_2a"/>
            <p:cNvPicPr/>
            <p:nvPr/>
          </p:nvPicPr>
          <p:blipFill>
            <a:blip r:embed="rId2"/>
            <a:stretch/>
          </p:blipFill>
          <p:spPr>
            <a:xfrm>
              <a:off x="5943600" y="4572000"/>
              <a:ext cx="2867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2"/>
            <p:cNvSpPr/>
            <p:nvPr/>
          </p:nvSpPr>
          <p:spPr>
            <a:xfrm>
              <a:off x="6477840" y="586728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Object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48:58Z</dcterms:created>
  <dc:creator>ChrPie</dc:creator>
  <dc:description/>
  <dc:language>en-US</dc:language>
  <cp:lastModifiedBy>Nastou-Stamatiou</cp:lastModifiedBy>
  <dcterms:modified xsi:type="dcterms:W3CDTF">2023-10-04T19:56:04Z</dcterms:modified>
  <cp:revision>624</cp:revision>
  <dc:subject/>
  <dc:title>ΕΛΛΗΝΙΚΟ ΑΝΟΙΚΤΟ ΠΑΝΕΠΙΣΤΗΜΙΟ</dc:title>
</cp:coreProperties>
</file>