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55600" y="890280"/>
            <a:ext cx="478008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1"/>
          <p:cNvSpPr/>
          <p:nvPr/>
        </p:nvSpPr>
        <p:spPr>
          <a:xfrm>
            <a:off x="1155600" y="89064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946080" y="4863600"/>
            <a:ext cx="5207040" cy="43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AU" sz="16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AEDD21-4BFA-4F63-A47E-1650CC13007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42FFB5-E601-47D7-BCCC-66DA8412225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311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pilation and Lo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ldImg"/>
          </p:nvPr>
        </p:nvSpPr>
        <p:spPr>
          <a:xfrm>
            <a:off x="1154160" y="890640"/>
            <a:ext cx="479088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1"/>
          <p:cNvSpPr/>
          <p:nvPr/>
        </p:nvSpPr>
        <p:spPr>
          <a:xfrm>
            <a:off x="1155600" y="89064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264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1"/>
          <p:cNvSpPr/>
          <p:nvPr/>
        </p:nvSpPr>
        <p:spPr>
          <a:xfrm>
            <a:off x="1155600" y="89064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264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1"/>
          <p:cNvSpPr/>
          <p:nvPr/>
        </p:nvSpPr>
        <p:spPr>
          <a:xfrm>
            <a:off x="1155600" y="890640"/>
            <a:ext cx="4789440" cy="359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264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68553D-F7B6-41DF-B418-9CC172BD684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82155C-624C-4569-8D1D-116005CD058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767E53-E429-4D8B-B5F0-CE72B7C85F2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116076-0170-4D9C-8170-BAF20935C28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993BE9-33C0-4297-910A-F2053C1A3F2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656B7E-C51B-4840-BAC2-E199FCBE403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51823C-4A31-46D4-9E45-3940696D189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46080" y="4863960"/>
            <a:ext cx="51976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DAB-1791-4CAF-9AAD-F06E28D1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214-A414-4F2A-9E98-7E487D1A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937-B31A-4D46-B840-561A2079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853-5BAB-4476-BD84-1F4B5306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9D1D3-5EF2-45E2-AFE7-444886FCA9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4D7E6-1774-41F1-9F1C-A3BAA3CC44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EE00A-17CA-4672-8600-3115049054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F09B9-3A4B-4244-9761-9D9A0AE43E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CC7D9-F4C2-4015-A0D0-F4F9AF5F2C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1208B-6B02-4697-8CB0-D47EB684EF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8EBCF-5A8B-4BB1-B439-34900478F1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E6A-64F3-452F-8096-B227C934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42C82-89B3-4CA2-985A-1DC4620C12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D76C9-5572-4225-99D0-0FD5EF9378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992B8-C13B-4E91-BE03-4FB254A2A5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510D2-34A8-452A-A564-2E159CF0B7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E2ED6-16CF-466B-8C13-7A9F96565C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53B07-2D61-4AD3-9D77-E7D7ECB724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98BB-87AC-43C0-B7E8-CC06BEB2C2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2AB10-F9CA-4434-A4A7-1B9C56C98A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90842-DA8E-4E5A-B530-3C80EB6171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8BF00-F103-4B7A-B76A-2F3332B46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15E-99CA-4076-8843-956409A1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FBFAE-4567-4BDD-BDDB-5F869DD2D6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C844A-23CA-44DB-8355-D3DB26F6C6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8C811-0B90-4276-A1F4-8BE5A00CDA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8357E-268A-4D3B-93A5-3F817A96F5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94CFB-126B-4955-82DD-33A81D58D0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84CB3-7B12-411D-BFDE-6559A4BCAA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9ED69-B4C4-4694-8A33-A3858F440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93F-9FC6-411B-8318-13848483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A51-CF8C-44D4-B5F0-A1D58E90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F8E-2101-48EA-8E6E-6241799B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576-C29B-4990-8F01-87B343CA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7A5-B0E2-44B7-9AF2-D282B806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4E6-8E18-4F90-B246-DEC6E991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BB1A4-25FA-496E-804E-E2D6BB8BD1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659F49-EB47-4C46-876B-0560371D0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01558E-C992-4A71-9F3A-7F87FDA58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684360" y="549360"/>
            <a:ext cx="77724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3600" spc="-1" strike="noStrike">
                <a:solidFill>
                  <a:srgbClr val="000099"/>
                </a:solidFill>
                <a:latin typeface="Arial"/>
              </a:rPr>
              <a:t>Προγραμματισμός Η/Υ με τη γλώσσα προγραμματισμού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187280" y="2708280"/>
            <a:ext cx="6705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0099"/>
                </a:solidFill>
                <a:latin typeface="Arial"/>
              </a:rPr>
              <a:t>Γιάννης Σταματίο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reeform 2"/>
          <p:cNvSpPr/>
          <p:nvPr/>
        </p:nvSpPr>
        <p:spPr>
          <a:xfrm>
            <a:off x="3909960" y="43956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3909960" y="109044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909960" y="185904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3909960" y="358776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3909960" y="5321160"/>
            <a:ext cx="882720" cy="3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72" y="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6265800" y="1490760"/>
            <a:ext cx="293760" cy="1601280"/>
            <a:chOff x="6265800" y="1490760"/>
            <a:chExt cx="293760" cy="1601280"/>
          </a:xfrm>
        </p:grpSpPr>
        <p:sp>
          <p:nvSpPr>
            <p:cNvPr id="155" name="Arc 8"/>
            <p:cNvSpPr/>
            <p:nvPr/>
          </p:nvSpPr>
          <p:spPr>
            <a:xfrm>
              <a:off x="6265800" y="1490760"/>
              <a:ext cx="147600" cy="401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Arc 9"/>
            <p:cNvSpPr/>
            <p:nvPr/>
          </p:nvSpPr>
          <p:spPr>
            <a:xfrm flipV="1">
              <a:off x="6265800" y="2690280"/>
              <a:ext cx="147600" cy="401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Arc 10"/>
            <p:cNvSpPr/>
            <p:nvPr/>
          </p:nvSpPr>
          <p:spPr>
            <a:xfrm flipH="1">
              <a:off x="6411960" y="2290680"/>
              <a:ext cx="147600" cy="401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Arc 11"/>
            <p:cNvSpPr/>
            <p:nvPr/>
          </p:nvSpPr>
          <p:spPr>
            <a:xfrm flipH="1" flipV="1">
              <a:off x="6411960" y="1890000"/>
              <a:ext cx="147600" cy="401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6265800" y="3227400"/>
            <a:ext cx="293760" cy="1599840"/>
            <a:chOff x="6265800" y="3227400"/>
            <a:chExt cx="293760" cy="1599840"/>
          </a:xfrm>
        </p:grpSpPr>
        <p:sp>
          <p:nvSpPr>
            <p:cNvPr id="160" name="Arc 13"/>
            <p:cNvSpPr/>
            <p:nvPr/>
          </p:nvSpPr>
          <p:spPr>
            <a:xfrm>
              <a:off x="6265800" y="322740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Arc 14"/>
            <p:cNvSpPr/>
            <p:nvPr/>
          </p:nvSpPr>
          <p:spPr>
            <a:xfrm flipV="1">
              <a:off x="6265800" y="442692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6411960" y="402768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Arc 16"/>
            <p:cNvSpPr/>
            <p:nvPr/>
          </p:nvSpPr>
          <p:spPr>
            <a:xfrm flipH="1" flipV="1">
              <a:off x="6411960" y="362664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6265800" y="4952880"/>
            <a:ext cx="293760" cy="1599840"/>
            <a:chOff x="6265800" y="4952880"/>
            <a:chExt cx="293760" cy="1599840"/>
          </a:xfrm>
        </p:grpSpPr>
        <p:sp>
          <p:nvSpPr>
            <p:cNvPr id="165" name="Arc 18"/>
            <p:cNvSpPr/>
            <p:nvPr/>
          </p:nvSpPr>
          <p:spPr>
            <a:xfrm>
              <a:off x="6265800" y="495288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Arc 19"/>
            <p:cNvSpPr/>
            <p:nvPr/>
          </p:nvSpPr>
          <p:spPr>
            <a:xfrm flipV="1">
              <a:off x="6265800" y="615240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Arc 20"/>
            <p:cNvSpPr/>
            <p:nvPr/>
          </p:nvSpPr>
          <p:spPr>
            <a:xfrm flipH="1">
              <a:off x="6411960" y="575316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Arc 21"/>
            <p:cNvSpPr/>
            <p:nvPr/>
          </p:nvSpPr>
          <p:spPr>
            <a:xfrm flipH="1" flipV="1">
              <a:off x="6411960" y="5352120"/>
              <a:ext cx="147600" cy="399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6265800" y="198360"/>
            <a:ext cx="293760" cy="480600"/>
            <a:chOff x="6265800" y="198360"/>
            <a:chExt cx="293760" cy="480600"/>
          </a:xfrm>
        </p:grpSpPr>
        <p:sp>
          <p:nvSpPr>
            <p:cNvPr id="170" name="Arc 23"/>
            <p:cNvSpPr/>
            <p:nvPr/>
          </p:nvSpPr>
          <p:spPr>
            <a:xfrm>
              <a:off x="6265800" y="19836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Arc 24"/>
            <p:cNvSpPr/>
            <p:nvPr/>
          </p:nvSpPr>
          <p:spPr>
            <a:xfrm flipV="1">
              <a:off x="6265800" y="55800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Arc 25"/>
            <p:cNvSpPr/>
            <p:nvPr/>
          </p:nvSpPr>
          <p:spPr>
            <a:xfrm flipH="1">
              <a:off x="6411960" y="43812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Arc 26"/>
            <p:cNvSpPr/>
            <p:nvPr/>
          </p:nvSpPr>
          <p:spPr>
            <a:xfrm flipH="1" flipV="1">
              <a:off x="6411960" y="31824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Group 27"/>
          <p:cNvGrpSpPr/>
          <p:nvPr/>
        </p:nvGrpSpPr>
        <p:grpSpPr>
          <a:xfrm>
            <a:off x="6265800" y="839880"/>
            <a:ext cx="293760" cy="478800"/>
            <a:chOff x="6265800" y="839880"/>
            <a:chExt cx="293760" cy="478800"/>
          </a:xfrm>
        </p:grpSpPr>
        <p:sp>
          <p:nvSpPr>
            <p:cNvPr id="175" name="Arc 28"/>
            <p:cNvSpPr/>
            <p:nvPr/>
          </p:nvSpPr>
          <p:spPr>
            <a:xfrm>
              <a:off x="6265800" y="83988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Arc 29"/>
            <p:cNvSpPr/>
            <p:nvPr/>
          </p:nvSpPr>
          <p:spPr>
            <a:xfrm flipV="1">
              <a:off x="6265800" y="119772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Arc 30"/>
            <p:cNvSpPr/>
            <p:nvPr/>
          </p:nvSpPr>
          <p:spPr>
            <a:xfrm flipH="1">
              <a:off x="6411960" y="107928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31"/>
            <p:cNvSpPr/>
            <p:nvPr/>
          </p:nvSpPr>
          <p:spPr>
            <a:xfrm flipH="1" flipV="1">
              <a:off x="6411960" y="957960"/>
              <a:ext cx="147600" cy="12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Rectangle 32"/>
          <p:cNvSpPr/>
          <p:nvPr/>
        </p:nvSpPr>
        <p:spPr>
          <a:xfrm>
            <a:off x="6707160" y="228600"/>
            <a:ext cx="220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Το πρόγραμμα δημιουργείται και αποθηκεύεται στον δίσκ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6707160" y="863640"/>
            <a:ext cx="220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Ο μεταφραστής δημιουργεί σειρές από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s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και τα αποθηκεύει στον δίσκο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34"/>
          <p:cNvSpPr/>
          <p:nvPr/>
        </p:nvSpPr>
        <p:spPr>
          <a:xfrm>
            <a:off x="6700680" y="2187720"/>
            <a:ext cx="2208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Ο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Class loader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μεταφέρει τις σειρές από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s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στην μνήμη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6707160" y="3560760"/>
            <a:ext cx="2208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Ο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code verifier </a:t>
            </a:r>
            <a:br>
              <a:rPr sz="1200"/>
            </a:b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επαληθεύει ότι όλες οι σειρές από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s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είναι ασφαλής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6707160" y="5133960"/>
            <a:ext cx="22082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Ο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Interpreter 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διαβάζει τις σειρές από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bytes</a:t>
            </a:r>
            <a:r>
              <a:rPr b="0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και τους μεταφράζει στην γλώσσα μηχανή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228600" y="387360"/>
            <a:ext cx="1546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228600" y="1044720"/>
            <a:ext cx="1546200" cy="1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9"/>
          <p:cNvSpPr/>
          <p:nvPr/>
        </p:nvSpPr>
        <p:spPr>
          <a:xfrm>
            <a:off x="228600" y="1812960"/>
            <a:ext cx="1546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228600" y="3543480"/>
            <a:ext cx="1546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41"/>
          <p:cNvSpPr/>
          <p:nvPr/>
        </p:nvSpPr>
        <p:spPr>
          <a:xfrm>
            <a:off x="228600" y="5273640"/>
            <a:ext cx="15462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Φάση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Group 42"/>
          <p:cNvGrpSpPr/>
          <p:nvPr/>
        </p:nvGrpSpPr>
        <p:grpSpPr>
          <a:xfrm>
            <a:off x="4822920" y="295200"/>
            <a:ext cx="1325520" cy="325440"/>
            <a:chOff x="4822920" y="295200"/>
            <a:chExt cx="1325520" cy="325440"/>
          </a:xfrm>
        </p:grpSpPr>
        <p:grpSp>
          <p:nvGrpSpPr>
            <p:cNvPr id="190" name="Group 43"/>
            <p:cNvGrpSpPr/>
            <p:nvPr/>
          </p:nvGrpSpPr>
          <p:grpSpPr>
            <a:xfrm>
              <a:off x="4822920" y="295560"/>
              <a:ext cx="1325520" cy="325080"/>
              <a:chOff x="4822920" y="295560"/>
              <a:chExt cx="1325520" cy="325080"/>
            </a:xfrm>
          </p:grpSpPr>
          <p:sp>
            <p:nvSpPr>
              <p:cNvPr id="191" name="Oval 44"/>
              <p:cNvSpPr/>
              <p:nvPr/>
            </p:nvSpPr>
            <p:spPr>
              <a:xfrm>
                <a:off x="4822920" y="540000"/>
                <a:ext cx="1325520" cy="80640"/>
              </a:xfrm>
              <a:prstGeom prst="ellipse">
                <a:avLst/>
              </a:prstGeom>
              <a:solidFill>
                <a:srgbClr val="ccccff"/>
              </a:solidFill>
              <a:ln w="3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rm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45"/>
              <p:cNvSpPr/>
              <p:nvPr/>
            </p:nvSpPr>
            <p:spPr>
              <a:xfrm>
                <a:off x="4824360" y="336600"/>
                <a:ext cx="13240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ccccff"/>
              </a:solidFill>
              <a:ln w="32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Oval 46"/>
              <p:cNvSpPr/>
              <p:nvPr/>
            </p:nvSpPr>
            <p:spPr>
              <a:xfrm>
                <a:off x="4822920" y="295560"/>
                <a:ext cx="1325520" cy="80640"/>
              </a:xfrm>
              <a:prstGeom prst="ellipse">
                <a:avLst/>
              </a:prstGeom>
              <a:solidFill>
                <a:srgbClr val="ccccff"/>
              </a:solidFill>
              <a:ln w="3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rm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Oval 47"/>
            <p:cNvSpPr/>
            <p:nvPr/>
          </p:nvSpPr>
          <p:spPr>
            <a:xfrm>
              <a:off x="4822920" y="53964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48"/>
            <p:cNvSpPr/>
            <p:nvPr/>
          </p:nvSpPr>
          <p:spPr>
            <a:xfrm>
              <a:off x="4824360" y="336240"/>
              <a:ext cx="1324080" cy="241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49"/>
            <p:cNvSpPr/>
            <p:nvPr/>
          </p:nvSpPr>
          <p:spPr>
            <a:xfrm>
              <a:off x="4832280" y="539640"/>
              <a:ext cx="1309680" cy="37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649"/>
                  </a:lnTo>
                  <a:lnTo>
                    <a:pt x="0" y="19649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50"/>
            <p:cNvSpPr/>
            <p:nvPr/>
          </p:nvSpPr>
          <p:spPr>
            <a:xfrm>
              <a:off x="5195880" y="414360"/>
              <a:ext cx="579600" cy="17460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cc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Dis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51"/>
            <p:cNvSpPr/>
            <p:nvPr/>
          </p:nvSpPr>
          <p:spPr>
            <a:xfrm>
              <a:off x="4832280" y="328320"/>
              <a:ext cx="1309680" cy="46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701"/>
                  </a:lnTo>
                  <a:lnTo>
                    <a:pt x="0" y="19701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Oval 52"/>
            <p:cNvSpPr/>
            <p:nvPr/>
          </p:nvSpPr>
          <p:spPr>
            <a:xfrm>
              <a:off x="4822920" y="29520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1798560" y="187200"/>
            <a:ext cx="2062080" cy="479520"/>
            <a:chOff x="1798560" y="187200"/>
            <a:chExt cx="2062080" cy="479520"/>
          </a:xfrm>
        </p:grpSpPr>
        <p:sp>
          <p:nvSpPr>
            <p:cNvPr id="201" name="Freeform 54"/>
            <p:cNvSpPr/>
            <p:nvPr/>
          </p:nvSpPr>
          <p:spPr>
            <a:xfrm>
              <a:off x="1798560" y="187200"/>
              <a:ext cx="2062080" cy="47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55"/>
            <p:cNvSpPr/>
            <p:nvPr/>
          </p:nvSpPr>
          <p:spPr>
            <a:xfrm>
              <a:off x="1798560" y="187200"/>
              <a:ext cx="2062080" cy="47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56"/>
            <p:cNvSpPr/>
            <p:nvPr/>
          </p:nvSpPr>
          <p:spPr>
            <a:xfrm>
              <a:off x="2450880" y="365040"/>
              <a:ext cx="757080" cy="16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Edi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Group 57"/>
          <p:cNvGrpSpPr/>
          <p:nvPr/>
        </p:nvGrpSpPr>
        <p:grpSpPr>
          <a:xfrm>
            <a:off x="1798560" y="825480"/>
            <a:ext cx="2062080" cy="480960"/>
            <a:chOff x="1798560" y="825480"/>
            <a:chExt cx="2062080" cy="480960"/>
          </a:xfrm>
        </p:grpSpPr>
        <p:sp>
          <p:nvSpPr>
            <p:cNvPr id="205" name="Freeform 58"/>
            <p:cNvSpPr/>
            <p:nvPr/>
          </p:nvSpPr>
          <p:spPr>
            <a:xfrm>
              <a:off x="1798560" y="825480"/>
              <a:ext cx="20620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59"/>
            <p:cNvSpPr/>
            <p:nvPr/>
          </p:nvSpPr>
          <p:spPr>
            <a:xfrm>
              <a:off x="1798560" y="825480"/>
              <a:ext cx="20620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0"/>
            <p:cNvSpPr/>
            <p:nvPr/>
          </p:nvSpPr>
          <p:spPr>
            <a:xfrm>
              <a:off x="2331720" y="1003320"/>
              <a:ext cx="993600" cy="16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Μεταφραστής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Group 61"/>
          <p:cNvGrpSpPr/>
          <p:nvPr/>
        </p:nvGrpSpPr>
        <p:grpSpPr>
          <a:xfrm>
            <a:off x="1798560" y="1557360"/>
            <a:ext cx="2062080" cy="480960"/>
            <a:chOff x="1798560" y="1557360"/>
            <a:chExt cx="2062080" cy="480960"/>
          </a:xfrm>
        </p:grpSpPr>
        <p:sp>
          <p:nvSpPr>
            <p:cNvPr id="209" name="Freeform 62"/>
            <p:cNvSpPr/>
            <p:nvPr/>
          </p:nvSpPr>
          <p:spPr>
            <a:xfrm>
              <a:off x="1798560" y="1557360"/>
              <a:ext cx="20620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63"/>
            <p:cNvSpPr/>
            <p:nvPr/>
          </p:nvSpPr>
          <p:spPr>
            <a:xfrm>
              <a:off x="1798560" y="1557360"/>
              <a:ext cx="20620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Rectangle 64"/>
            <p:cNvSpPr/>
            <p:nvPr/>
          </p:nvSpPr>
          <p:spPr>
            <a:xfrm>
              <a:off x="2097000" y="1735200"/>
              <a:ext cx="1463760" cy="162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Class Loa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Group 66"/>
          <p:cNvGrpSpPr/>
          <p:nvPr/>
        </p:nvGrpSpPr>
        <p:grpSpPr>
          <a:xfrm>
            <a:off x="2166840" y="2305080"/>
            <a:ext cx="1325520" cy="325440"/>
            <a:chOff x="2166840" y="2305080"/>
            <a:chExt cx="1325520" cy="325440"/>
          </a:xfrm>
        </p:grpSpPr>
        <p:sp>
          <p:nvSpPr>
            <p:cNvPr id="213" name="Oval 67"/>
            <p:cNvSpPr/>
            <p:nvPr/>
          </p:nvSpPr>
          <p:spPr>
            <a:xfrm>
              <a:off x="2166840" y="254952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68"/>
            <p:cNvSpPr/>
            <p:nvPr/>
          </p:nvSpPr>
          <p:spPr>
            <a:xfrm>
              <a:off x="2168280" y="2346120"/>
              <a:ext cx="1324080" cy="241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Oval 69"/>
            <p:cNvSpPr/>
            <p:nvPr/>
          </p:nvSpPr>
          <p:spPr>
            <a:xfrm>
              <a:off x="2166840" y="230508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Oval 70"/>
          <p:cNvSpPr/>
          <p:nvPr/>
        </p:nvSpPr>
        <p:spPr>
          <a:xfrm>
            <a:off x="2166840" y="2549520"/>
            <a:ext cx="1325520" cy="81000"/>
          </a:xfrm>
          <a:prstGeom prst="ellipse">
            <a:avLst/>
          </a:prstGeom>
          <a:solidFill>
            <a:srgbClr val="ccccff"/>
          </a:solidFill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71"/>
          <p:cNvSpPr/>
          <p:nvPr/>
        </p:nvSpPr>
        <p:spPr>
          <a:xfrm>
            <a:off x="2168640" y="2346480"/>
            <a:ext cx="1323720" cy="241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1" y="0"/>
                </a:moveTo>
                <a:lnTo>
                  <a:pt x="19981" y="19944"/>
                </a:lnTo>
                <a:lnTo>
                  <a:pt x="0" y="19944"/>
                </a:lnTo>
                <a:lnTo>
                  <a:pt x="0" y="0"/>
                </a:lnTo>
                <a:lnTo>
                  <a:pt x="19981" y="0"/>
                </a:lnTo>
                <a:close/>
              </a:path>
            </a:pathLst>
          </a:custGeom>
          <a:solidFill>
            <a:srgbClr val="ccccff"/>
          </a:soli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72"/>
          <p:cNvSpPr/>
          <p:nvPr/>
        </p:nvSpPr>
        <p:spPr>
          <a:xfrm>
            <a:off x="2174760" y="2550960"/>
            <a:ext cx="1309680" cy="381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1" y="0"/>
                </a:moveTo>
                <a:lnTo>
                  <a:pt x="19981" y="19649"/>
                </a:lnTo>
                <a:lnTo>
                  <a:pt x="0" y="19649"/>
                </a:lnTo>
                <a:lnTo>
                  <a:pt x="0" y="0"/>
                </a:lnTo>
                <a:lnTo>
                  <a:pt x="19981" y="0"/>
                </a:lnTo>
                <a:close/>
              </a:path>
            </a:pathLst>
          </a:custGeom>
          <a:solidFill>
            <a:srgbClr val="ccccff"/>
          </a:soli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73"/>
          <p:cNvSpPr/>
          <p:nvPr/>
        </p:nvSpPr>
        <p:spPr>
          <a:xfrm>
            <a:off x="2509920" y="2411280"/>
            <a:ext cx="639720" cy="187560"/>
          </a:xfrm>
          <a:prstGeom prst="rect">
            <a:avLst/>
          </a:prstGeom>
          <a:solidFill>
            <a:srgbClr val="ccccff"/>
          </a:solidFill>
          <a:ln w="0">
            <a:solidFill>
              <a:srgbClr val="cc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Di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76560" y="2338560"/>
            <a:ext cx="1309680" cy="45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81" y="0"/>
                </a:moveTo>
                <a:lnTo>
                  <a:pt x="19981" y="19701"/>
                </a:lnTo>
                <a:lnTo>
                  <a:pt x="0" y="19701"/>
                </a:lnTo>
                <a:lnTo>
                  <a:pt x="0" y="0"/>
                </a:lnTo>
                <a:lnTo>
                  <a:pt x="19981" y="0"/>
                </a:lnTo>
                <a:close/>
              </a:path>
            </a:pathLst>
          </a:custGeom>
          <a:solidFill>
            <a:srgbClr val="ccccff"/>
          </a:soli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Oval 75"/>
          <p:cNvSpPr/>
          <p:nvPr/>
        </p:nvSpPr>
        <p:spPr>
          <a:xfrm>
            <a:off x="2166840" y="2305080"/>
            <a:ext cx="1325520" cy="81000"/>
          </a:xfrm>
          <a:prstGeom prst="ellipse">
            <a:avLst/>
          </a:prstGeom>
          <a:solidFill>
            <a:srgbClr val="ccccff"/>
          </a:solidFill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76"/>
          <p:cNvSpPr/>
          <p:nvPr/>
        </p:nvSpPr>
        <p:spPr>
          <a:xfrm>
            <a:off x="2830680" y="2033640"/>
            <a:ext cx="360" cy="3189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58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Group 77"/>
          <p:cNvGrpSpPr/>
          <p:nvPr/>
        </p:nvGrpSpPr>
        <p:grpSpPr>
          <a:xfrm>
            <a:off x="4822920" y="888840"/>
            <a:ext cx="1325520" cy="325440"/>
            <a:chOff x="4822920" y="888840"/>
            <a:chExt cx="1325520" cy="325440"/>
          </a:xfrm>
        </p:grpSpPr>
        <p:grpSp>
          <p:nvGrpSpPr>
            <p:cNvPr id="224" name="Group 78"/>
            <p:cNvGrpSpPr/>
            <p:nvPr/>
          </p:nvGrpSpPr>
          <p:grpSpPr>
            <a:xfrm>
              <a:off x="4822920" y="889920"/>
              <a:ext cx="1325520" cy="324360"/>
              <a:chOff x="4822920" y="889920"/>
              <a:chExt cx="1325520" cy="324360"/>
            </a:xfrm>
          </p:grpSpPr>
          <p:sp>
            <p:nvSpPr>
              <p:cNvPr id="225" name="Oval 79"/>
              <p:cNvSpPr/>
              <p:nvPr/>
            </p:nvSpPr>
            <p:spPr>
              <a:xfrm>
                <a:off x="4822920" y="1133280"/>
                <a:ext cx="1325520" cy="81000"/>
              </a:xfrm>
              <a:prstGeom prst="ellipse">
                <a:avLst/>
              </a:prstGeom>
              <a:solidFill>
                <a:srgbClr val="ccccff"/>
              </a:solidFill>
              <a:ln w="3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rm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Freeform 80"/>
              <p:cNvSpPr/>
              <p:nvPr/>
            </p:nvSpPr>
            <p:spPr>
              <a:xfrm>
                <a:off x="4824360" y="930960"/>
                <a:ext cx="1324080" cy="240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ccccff"/>
              </a:solidFill>
              <a:ln w="324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Oval 81"/>
              <p:cNvSpPr/>
              <p:nvPr/>
            </p:nvSpPr>
            <p:spPr>
              <a:xfrm>
                <a:off x="4822920" y="889920"/>
                <a:ext cx="1325520" cy="81000"/>
              </a:xfrm>
              <a:prstGeom prst="ellipse">
                <a:avLst/>
              </a:prstGeom>
              <a:solidFill>
                <a:srgbClr val="ccccff"/>
              </a:solidFill>
              <a:ln w="32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rm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Oval 82"/>
            <p:cNvSpPr/>
            <p:nvPr/>
          </p:nvSpPr>
          <p:spPr>
            <a:xfrm>
              <a:off x="4822920" y="113184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3"/>
            <p:cNvSpPr/>
            <p:nvPr/>
          </p:nvSpPr>
          <p:spPr>
            <a:xfrm>
              <a:off x="4824360" y="929880"/>
              <a:ext cx="1324080" cy="241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84"/>
            <p:cNvSpPr/>
            <p:nvPr/>
          </p:nvSpPr>
          <p:spPr>
            <a:xfrm>
              <a:off x="4832280" y="1135080"/>
              <a:ext cx="1309680" cy="37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649"/>
                  </a:lnTo>
                  <a:lnTo>
                    <a:pt x="0" y="19649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85"/>
            <p:cNvSpPr/>
            <p:nvPr/>
          </p:nvSpPr>
          <p:spPr>
            <a:xfrm>
              <a:off x="5165640" y="995040"/>
              <a:ext cx="639720" cy="18720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cc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Dis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86"/>
            <p:cNvSpPr/>
            <p:nvPr/>
          </p:nvSpPr>
          <p:spPr>
            <a:xfrm>
              <a:off x="4832280" y="923760"/>
              <a:ext cx="1309680" cy="4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701"/>
                  </a:lnTo>
                  <a:lnTo>
                    <a:pt x="0" y="19701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Oval 87"/>
            <p:cNvSpPr/>
            <p:nvPr/>
          </p:nvSpPr>
          <p:spPr>
            <a:xfrm>
              <a:off x="4822920" y="888840"/>
              <a:ext cx="1325520" cy="8100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Rectangle 89"/>
          <p:cNvSpPr/>
          <p:nvPr/>
        </p:nvSpPr>
        <p:spPr>
          <a:xfrm>
            <a:off x="4805280" y="3124080"/>
            <a:ext cx="13255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Κύρια μνήμ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90"/>
          <p:cNvGrpSpPr/>
          <p:nvPr/>
        </p:nvGrpSpPr>
        <p:grpSpPr>
          <a:xfrm>
            <a:off x="4840200" y="3465360"/>
            <a:ext cx="1327320" cy="1563840"/>
            <a:chOff x="4840200" y="3465360"/>
            <a:chExt cx="1327320" cy="1563840"/>
          </a:xfrm>
        </p:grpSpPr>
        <p:sp>
          <p:nvSpPr>
            <p:cNvPr id="236" name="Rectangle 91"/>
            <p:cNvSpPr/>
            <p:nvPr/>
          </p:nvSpPr>
          <p:spPr>
            <a:xfrm>
              <a:off x="5392800" y="4449600"/>
              <a:ext cx="149040" cy="42696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92"/>
            <p:cNvSpPr/>
            <p:nvPr/>
          </p:nvSpPr>
          <p:spPr>
            <a:xfrm>
              <a:off x="4840200" y="3465360"/>
              <a:ext cx="1316520" cy="1563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90"/>
                  </a:lnTo>
                  <a:lnTo>
                    <a:pt x="0" y="19990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93"/>
            <p:cNvSpPr/>
            <p:nvPr/>
          </p:nvSpPr>
          <p:spPr>
            <a:xfrm>
              <a:off x="4843080" y="3466800"/>
              <a:ext cx="1324440" cy="193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94"/>
            <p:cNvSpPr/>
            <p:nvPr/>
          </p:nvSpPr>
          <p:spPr>
            <a:xfrm>
              <a:off x="4843080" y="3662280"/>
              <a:ext cx="1324440" cy="196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5"/>
            <p:cNvSpPr/>
            <p:nvPr/>
          </p:nvSpPr>
          <p:spPr>
            <a:xfrm>
              <a:off x="4843080" y="3857400"/>
              <a:ext cx="1324440" cy="193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96"/>
            <p:cNvSpPr/>
            <p:nvPr/>
          </p:nvSpPr>
          <p:spPr>
            <a:xfrm>
              <a:off x="4843080" y="4051080"/>
              <a:ext cx="1324440" cy="19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97"/>
            <p:cNvSpPr/>
            <p:nvPr/>
          </p:nvSpPr>
          <p:spPr>
            <a:xfrm>
              <a:off x="4843080" y="4248000"/>
              <a:ext cx="1324440" cy="19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98"/>
            <p:cNvSpPr/>
            <p:nvPr/>
          </p:nvSpPr>
          <p:spPr>
            <a:xfrm>
              <a:off x="4843080" y="4443480"/>
              <a:ext cx="1324440" cy="39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58"/>
                  </a:lnTo>
                  <a:lnTo>
                    <a:pt x="0" y="19958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99"/>
            <p:cNvSpPr/>
            <p:nvPr/>
          </p:nvSpPr>
          <p:spPr>
            <a:xfrm>
              <a:off x="4843080" y="4834080"/>
              <a:ext cx="1324440" cy="193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100"/>
            <p:cNvSpPr/>
            <p:nvPr/>
          </p:nvSpPr>
          <p:spPr>
            <a:xfrm>
              <a:off x="5430960" y="4443480"/>
              <a:ext cx="147600" cy="42372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Rectangle 102"/>
          <p:cNvSpPr/>
          <p:nvPr/>
        </p:nvSpPr>
        <p:spPr>
          <a:xfrm>
            <a:off x="4805280" y="1371600"/>
            <a:ext cx="1325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Κύρια μνήμ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103"/>
          <p:cNvGrpSpPr/>
          <p:nvPr/>
        </p:nvGrpSpPr>
        <p:grpSpPr>
          <a:xfrm>
            <a:off x="4840200" y="1674720"/>
            <a:ext cx="1327320" cy="1392480"/>
            <a:chOff x="4840200" y="1674720"/>
            <a:chExt cx="1327320" cy="1392480"/>
          </a:xfrm>
        </p:grpSpPr>
        <p:sp>
          <p:nvSpPr>
            <p:cNvPr id="248" name="Rectangle 104"/>
            <p:cNvSpPr/>
            <p:nvPr/>
          </p:nvSpPr>
          <p:spPr>
            <a:xfrm>
              <a:off x="5392800" y="2551320"/>
              <a:ext cx="149040" cy="379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05"/>
            <p:cNvSpPr/>
            <p:nvPr/>
          </p:nvSpPr>
          <p:spPr>
            <a:xfrm>
              <a:off x="4840200" y="1674720"/>
              <a:ext cx="1316520" cy="1392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90"/>
                  </a:lnTo>
                  <a:lnTo>
                    <a:pt x="0" y="19990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06"/>
            <p:cNvSpPr/>
            <p:nvPr/>
          </p:nvSpPr>
          <p:spPr>
            <a:xfrm>
              <a:off x="4843080" y="1674720"/>
              <a:ext cx="1324440" cy="174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07"/>
            <p:cNvSpPr/>
            <p:nvPr/>
          </p:nvSpPr>
          <p:spPr>
            <a:xfrm>
              <a:off x="4843080" y="1850760"/>
              <a:ext cx="1324440" cy="174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108"/>
            <p:cNvSpPr/>
            <p:nvPr/>
          </p:nvSpPr>
          <p:spPr>
            <a:xfrm>
              <a:off x="4843080" y="2023920"/>
              <a:ext cx="1324440" cy="17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109"/>
            <p:cNvSpPr/>
            <p:nvPr/>
          </p:nvSpPr>
          <p:spPr>
            <a:xfrm>
              <a:off x="4843080" y="2197080"/>
              <a:ext cx="1324440" cy="17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10"/>
            <p:cNvSpPr/>
            <p:nvPr/>
          </p:nvSpPr>
          <p:spPr>
            <a:xfrm>
              <a:off x="4843080" y="2371680"/>
              <a:ext cx="1324440" cy="17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111"/>
            <p:cNvSpPr/>
            <p:nvPr/>
          </p:nvSpPr>
          <p:spPr>
            <a:xfrm>
              <a:off x="4843080" y="2544840"/>
              <a:ext cx="1324440" cy="347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58"/>
                  </a:lnTo>
                  <a:lnTo>
                    <a:pt x="0" y="19958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112"/>
            <p:cNvSpPr/>
            <p:nvPr/>
          </p:nvSpPr>
          <p:spPr>
            <a:xfrm>
              <a:off x="4843080" y="2892600"/>
              <a:ext cx="1324440" cy="174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Rectangle 113"/>
            <p:cNvSpPr/>
            <p:nvPr/>
          </p:nvSpPr>
          <p:spPr>
            <a:xfrm>
              <a:off x="5430960" y="2544840"/>
              <a:ext cx="147600" cy="377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6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Rectangle 115"/>
          <p:cNvSpPr/>
          <p:nvPr/>
        </p:nvSpPr>
        <p:spPr>
          <a:xfrm>
            <a:off x="4805280" y="5084640"/>
            <a:ext cx="13255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Κύρια μνήμ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116"/>
          <p:cNvGrpSpPr/>
          <p:nvPr/>
        </p:nvGrpSpPr>
        <p:grpSpPr>
          <a:xfrm>
            <a:off x="4859280" y="5300640"/>
            <a:ext cx="1327320" cy="1414440"/>
            <a:chOff x="4859280" y="5300640"/>
            <a:chExt cx="1327320" cy="1414440"/>
          </a:xfrm>
        </p:grpSpPr>
        <p:sp>
          <p:nvSpPr>
            <p:cNvPr id="260" name="Rectangle 117"/>
            <p:cNvSpPr/>
            <p:nvPr/>
          </p:nvSpPr>
          <p:spPr>
            <a:xfrm>
              <a:off x="5411880" y="6191280"/>
              <a:ext cx="149040" cy="385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118"/>
            <p:cNvSpPr/>
            <p:nvPr/>
          </p:nvSpPr>
          <p:spPr>
            <a:xfrm>
              <a:off x="4859280" y="5300640"/>
              <a:ext cx="1316520" cy="141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90"/>
                  </a:lnTo>
                  <a:lnTo>
                    <a:pt x="0" y="19990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119"/>
            <p:cNvSpPr/>
            <p:nvPr/>
          </p:nvSpPr>
          <p:spPr>
            <a:xfrm>
              <a:off x="4862160" y="5300640"/>
              <a:ext cx="1324440" cy="177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120"/>
            <p:cNvSpPr/>
            <p:nvPr/>
          </p:nvSpPr>
          <p:spPr>
            <a:xfrm>
              <a:off x="4862160" y="5478480"/>
              <a:ext cx="1324440" cy="177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121"/>
            <p:cNvSpPr/>
            <p:nvPr/>
          </p:nvSpPr>
          <p:spPr>
            <a:xfrm>
              <a:off x="4862160" y="5654520"/>
              <a:ext cx="1324440" cy="176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22"/>
            <p:cNvSpPr/>
            <p:nvPr/>
          </p:nvSpPr>
          <p:spPr>
            <a:xfrm>
              <a:off x="4862160" y="5832360"/>
              <a:ext cx="1324440" cy="176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23"/>
            <p:cNvSpPr/>
            <p:nvPr/>
          </p:nvSpPr>
          <p:spPr>
            <a:xfrm>
              <a:off x="4862160" y="6008760"/>
              <a:ext cx="1324440" cy="176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124"/>
            <p:cNvSpPr/>
            <p:nvPr/>
          </p:nvSpPr>
          <p:spPr>
            <a:xfrm>
              <a:off x="4862160" y="6184800"/>
              <a:ext cx="1324440" cy="353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58"/>
                  </a:lnTo>
                  <a:lnTo>
                    <a:pt x="0" y="19958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125"/>
            <p:cNvSpPr/>
            <p:nvPr/>
          </p:nvSpPr>
          <p:spPr>
            <a:xfrm>
              <a:off x="4862160" y="6537240"/>
              <a:ext cx="1324440" cy="177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19981" y="19916"/>
                  </a:lnTo>
                  <a:lnTo>
                    <a:pt x="0" y="19916"/>
                  </a:lnTo>
                  <a:lnTo>
                    <a:pt x="0" y="0"/>
                  </a:lnTo>
                  <a:lnTo>
                    <a:pt x="19981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126"/>
            <p:cNvSpPr/>
            <p:nvPr/>
          </p:nvSpPr>
          <p:spPr>
            <a:xfrm>
              <a:off x="5450040" y="6184800"/>
              <a:ext cx="147600" cy="38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Group 127"/>
          <p:cNvGrpSpPr/>
          <p:nvPr/>
        </p:nvGrpSpPr>
        <p:grpSpPr>
          <a:xfrm>
            <a:off x="1752480" y="3308400"/>
            <a:ext cx="2108160" cy="480960"/>
            <a:chOff x="1752480" y="3308400"/>
            <a:chExt cx="2108160" cy="480960"/>
          </a:xfrm>
        </p:grpSpPr>
        <p:sp>
          <p:nvSpPr>
            <p:cNvPr id="271" name="Freeform 128"/>
            <p:cNvSpPr/>
            <p:nvPr/>
          </p:nvSpPr>
          <p:spPr>
            <a:xfrm>
              <a:off x="1752480" y="3308400"/>
              <a:ext cx="21081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129"/>
            <p:cNvSpPr/>
            <p:nvPr/>
          </p:nvSpPr>
          <p:spPr>
            <a:xfrm>
              <a:off x="1752480" y="3308400"/>
              <a:ext cx="21081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30"/>
            <p:cNvSpPr/>
            <p:nvPr/>
          </p:nvSpPr>
          <p:spPr>
            <a:xfrm>
              <a:off x="1755360" y="3486240"/>
              <a:ext cx="2100600" cy="162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Bytecode Verifi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Group 131"/>
          <p:cNvGrpSpPr/>
          <p:nvPr/>
        </p:nvGrpSpPr>
        <p:grpSpPr>
          <a:xfrm>
            <a:off x="1798560" y="4984920"/>
            <a:ext cx="2062080" cy="479160"/>
            <a:chOff x="1798560" y="4984920"/>
            <a:chExt cx="2062080" cy="479160"/>
          </a:xfrm>
        </p:grpSpPr>
        <p:sp>
          <p:nvSpPr>
            <p:cNvPr id="275" name="Freeform 132"/>
            <p:cNvSpPr/>
            <p:nvPr/>
          </p:nvSpPr>
          <p:spPr>
            <a:xfrm>
              <a:off x="1798560" y="4984920"/>
              <a:ext cx="2062080" cy="47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c500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133"/>
            <p:cNvSpPr/>
            <p:nvPr/>
          </p:nvSpPr>
          <p:spPr>
            <a:xfrm>
              <a:off x="1798560" y="4984920"/>
              <a:ext cx="2062080" cy="47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Rectangle 134"/>
            <p:cNvSpPr/>
            <p:nvPr/>
          </p:nvSpPr>
          <p:spPr>
            <a:xfrm>
              <a:off x="2155680" y="5162400"/>
              <a:ext cx="1346040" cy="16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Interpre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3300"/>
                </a:solidFill>
                <a:latin typeface="AvantGarde"/>
              </a:rPr>
              <a:t>Εγκατάσταση 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BlueJ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ρχείο εγκατάστασης από τη σελίδ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l-GR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bluej.org/download/downloa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άλογα με το λειτουργικό σύστημα που έχουμε στον υπολογιστή μας κατεβάζ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ρέπει να έχουμε στον υπολογιστή μας πλατφόρμ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Times New Roman"/>
              </a:rPr>
              <a:t>https://www.java.com/en/download/manual.jsp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Εκτελούμε τα βήματα της εγκατάστασης το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J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και δημιουργείται το εικονίδιο εκκίνηση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4" descr="bluej-icon"/>
          <p:cNvPicPr/>
          <p:nvPr/>
        </p:nvPicPr>
        <p:blipFill>
          <a:blip r:embed="rId1"/>
          <a:stretch/>
        </p:blipFill>
        <p:spPr>
          <a:xfrm>
            <a:off x="5867280" y="6165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about-logo"/>
          <p:cNvPicPr/>
          <p:nvPr/>
        </p:nvPicPr>
        <p:blipFill>
          <a:blip r:embed="rId2"/>
          <a:stretch/>
        </p:blipFill>
        <p:spPr>
          <a:xfrm>
            <a:off x="7020000" y="333360"/>
            <a:ext cx="143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3300"/>
                </a:solidFill>
                <a:latin typeface="AvantGarde"/>
              </a:rPr>
              <a:t>Ένα πολύ απλό παράδειγμα σε 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java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219320"/>
            <a:ext cx="6981840" cy="30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public class my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public static void main() throws IO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System.out.println("Hello planet!!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84360" y="4503600"/>
            <a:ext cx="30240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1) edi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2) compi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3) r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4356000" y="4581360"/>
            <a:ext cx="44640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Ας δούμε τι κάνει το άνω πρόγραμμα με την βοήθεια του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MS PGothic"/>
              </a:rPr>
              <a:t>Blue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"/>
          <p:cNvSpPr/>
          <p:nvPr/>
        </p:nvSpPr>
        <p:spPr>
          <a:xfrm>
            <a:off x="1987560" y="1758960"/>
            <a:ext cx="1816200" cy="596880"/>
          </a:xfrm>
          <a:prstGeom prst="roundRect">
            <a:avLst>
              <a:gd name="adj" fmla="val 37495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MS PGothic"/>
              </a:rPr>
              <a:t>μετάφρα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3300"/>
                </a:solidFill>
                <a:latin typeface="AvantGarde"/>
              </a:rPr>
              <a:t>Μεταγλώττιση </a:t>
            </a:r>
            <a:r>
              <a:rPr b="0" lang="el-GR" sz="1800" spc="-1" strike="noStrike">
                <a:solidFill>
                  <a:srgbClr val="ff3300"/>
                </a:solidFill>
                <a:latin typeface="AvantGarde"/>
              </a:rPr>
              <a:t>(</a:t>
            </a:r>
            <a:r>
              <a:rPr b="0" lang="en-AU" sz="1800" spc="-1" strike="noStrike">
                <a:solidFill>
                  <a:srgbClr val="ff3300"/>
                </a:solidFill>
                <a:latin typeface="AvantGarde"/>
              </a:rPr>
              <a:t>Compilation</a:t>
            </a:r>
            <a:r>
              <a:rPr b="0" lang="el-GR" sz="1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1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92280" y="2597040"/>
            <a:ext cx="1511280" cy="2197080"/>
            <a:chOff x="692280" y="2597040"/>
            <a:chExt cx="1511280" cy="2197080"/>
          </a:xfrm>
        </p:grpSpPr>
        <p:sp>
          <p:nvSpPr>
            <p:cNvPr id="289" name="Rectangle 5"/>
            <p:cNvSpPr/>
            <p:nvPr/>
          </p:nvSpPr>
          <p:spPr>
            <a:xfrm>
              <a:off x="692280" y="2597040"/>
              <a:ext cx="1511280" cy="219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927000" y="30481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>
              <a:off x="927000" y="32767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>
              <a:off x="927000" y="35053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9"/>
            <p:cNvSpPr/>
            <p:nvPr/>
          </p:nvSpPr>
          <p:spPr>
            <a:xfrm>
              <a:off x="927000" y="37339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10"/>
            <p:cNvSpPr/>
            <p:nvPr/>
          </p:nvSpPr>
          <p:spPr>
            <a:xfrm>
              <a:off x="927000" y="39625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11"/>
            <p:cNvSpPr/>
            <p:nvPr/>
          </p:nvSpPr>
          <p:spPr>
            <a:xfrm>
              <a:off x="927000" y="4191120"/>
              <a:ext cx="88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511440" y="2597040"/>
            <a:ext cx="1511280" cy="2197080"/>
            <a:chOff x="3511440" y="2597040"/>
            <a:chExt cx="1511280" cy="2197080"/>
          </a:xfrm>
        </p:grpSpPr>
        <p:sp>
          <p:nvSpPr>
            <p:cNvPr id="297" name="Rectangle 13"/>
            <p:cNvSpPr/>
            <p:nvPr/>
          </p:nvSpPr>
          <p:spPr>
            <a:xfrm>
              <a:off x="3511440" y="2597040"/>
              <a:ext cx="1511280" cy="219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Group 14"/>
            <p:cNvGrpSpPr/>
            <p:nvPr/>
          </p:nvGrpSpPr>
          <p:grpSpPr>
            <a:xfrm>
              <a:off x="3787920" y="2867040"/>
              <a:ext cx="967680" cy="1506240"/>
              <a:chOff x="3787920" y="2867040"/>
              <a:chExt cx="967680" cy="1506240"/>
            </a:xfrm>
          </p:grpSpPr>
          <p:sp>
            <p:nvSpPr>
              <p:cNvPr id="299" name="Rectangle 15"/>
              <p:cNvSpPr/>
              <p:nvPr/>
            </p:nvSpPr>
            <p:spPr>
              <a:xfrm>
                <a:off x="3787920" y="28670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6"/>
              <p:cNvSpPr/>
              <p:nvPr/>
            </p:nvSpPr>
            <p:spPr>
              <a:xfrm>
                <a:off x="3787920" y="30956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7"/>
              <p:cNvSpPr/>
              <p:nvPr/>
            </p:nvSpPr>
            <p:spPr>
              <a:xfrm>
                <a:off x="3787920" y="33242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8"/>
              <p:cNvSpPr/>
              <p:nvPr/>
            </p:nvSpPr>
            <p:spPr>
              <a:xfrm>
                <a:off x="3787920" y="35528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9"/>
              <p:cNvSpPr/>
              <p:nvPr/>
            </p:nvSpPr>
            <p:spPr>
              <a:xfrm>
                <a:off x="3787920" y="37814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20"/>
              <p:cNvSpPr/>
              <p:nvPr/>
            </p:nvSpPr>
            <p:spPr>
              <a:xfrm>
                <a:off x="3787920" y="40100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Group 21"/>
          <p:cNvGrpSpPr/>
          <p:nvPr/>
        </p:nvGrpSpPr>
        <p:grpSpPr>
          <a:xfrm>
            <a:off x="6330960" y="2521080"/>
            <a:ext cx="2273400" cy="3187440"/>
            <a:chOff x="6330960" y="2521080"/>
            <a:chExt cx="2273400" cy="3187440"/>
          </a:xfrm>
        </p:grpSpPr>
        <p:sp>
          <p:nvSpPr>
            <p:cNvPr id="306" name="Rectangle 22"/>
            <p:cNvSpPr/>
            <p:nvPr/>
          </p:nvSpPr>
          <p:spPr>
            <a:xfrm>
              <a:off x="6330960" y="2521080"/>
              <a:ext cx="2273400" cy="31874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23"/>
            <p:cNvSpPr/>
            <p:nvPr/>
          </p:nvSpPr>
          <p:spPr>
            <a:xfrm>
              <a:off x="6561000" y="2728800"/>
              <a:ext cx="1128960" cy="277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" name="Group 24"/>
            <p:cNvGrpSpPr/>
            <p:nvPr/>
          </p:nvGrpSpPr>
          <p:grpSpPr>
            <a:xfrm>
              <a:off x="6593040" y="2901960"/>
              <a:ext cx="967680" cy="1406160"/>
              <a:chOff x="6593040" y="2901960"/>
              <a:chExt cx="967680" cy="1406160"/>
            </a:xfrm>
          </p:grpSpPr>
          <p:sp>
            <p:nvSpPr>
              <p:cNvPr id="309" name="Rectangle 25"/>
              <p:cNvSpPr/>
              <p:nvPr/>
            </p:nvSpPr>
            <p:spPr>
              <a:xfrm>
                <a:off x="6593040" y="290196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26"/>
              <p:cNvSpPr/>
              <p:nvPr/>
            </p:nvSpPr>
            <p:spPr>
              <a:xfrm>
                <a:off x="6593040" y="311004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27"/>
              <p:cNvSpPr/>
              <p:nvPr/>
            </p:nvSpPr>
            <p:spPr>
              <a:xfrm>
                <a:off x="6593040" y="331956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28"/>
              <p:cNvSpPr/>
              <p:nvPr/>
            </p:nvSpPr>
            <p:spPr>
              <a:xfrm>
                <a:off x="6593040" y="352728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29"/>
              <p:cNvSpPr/>
              <p:nvPr/>
            </p:nvSpPr>
            <p:spPr>
              <a:xfrm>
                <a:off x="6593040" y="373680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30"/>
              <p:cNvSpPr/>
              <p:nvPr/>
            </p:nvSpPr>
            <p:spPr>
              <a:xfrm>
                <a:off x="6593040" y="3944880"/>
                <a:ext cx="967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800" spc="-1" strike="noStrike">
                    <a:solidFill>
                      <a:srgbClr val="000000"/>
                    </a:solidFill>
                    <a:latin typeface="Geneva"/>
                    <a:ea typeface="MS PGothic"/>
                  </a:rPr>
                  <a:t>01010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Rectangle 31"/>
            <p:cNvSpPr/>
            <p:nvPr/>
          </p:nvSpPr>
          <p:spPr>
            <a:xfrm>
              <a:off x="7854840" y="2728800"/>
              <a:ext cx="595440" cy="474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Rectangle 32"/>
          <p:cNvSpPr/>
          <p:nvPr/>
        </p:nvSpPr>
        <p:spPr>
          <a:xfrm>
            <a:off x="547560" y="4902120"/>
            <a:ext cx="18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MS PGothic"/>
              </a:rPr>
              <a:t>Πηγαίος κώδικα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3286080" y="4902120"/>
            <a:ext cx="197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MS PGothic"/>
              </a:rPr>
              <a:t>Κώδικας μηχανή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34"/>
          <p:cNvSpPr/>
          <p:nvPr/>
        </p:nvSpPr>
        <p:spPr>
          <a:xfrm>
            <a:off x="6762240" y="5846760"/>
            <a:ext cx="146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MS PGothic"/>
              </a:rPr>
              <a:t>υπολογιστή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35"/>
          <p:cNvSpPr/>
          <p:nvPr/>
        </p:nvSpPr>
        <p:spPr>
          <a:xfrm>
            <a:off x="2368440" y="3359160"/>
            <a:ext cx="978120" cy="596880"/>
          </a:xfrm>
          <a:prstGeom prst="rightArrow">
            <a:avLst>
              <a:gd name="adj1" fmla="val 50000"/>
              <a:gd name="adj2" fmla="val 8194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36"/>
          <p:cNvSpPr/>
          <p:nvPr/>
        </p:nvSpPr>
        <p:spPr>
          <a:xfrm>
            <a:off x="5187960" y="3359160"/>
            <a:ext cx="977760" cy="596880"/>
          </a:xfrm>
          <a:prstGeom prst="rightArrow">
            <a:avLst>
              <a:gd name="adj1" fmla="val 50000"/>
              <a:gd name="adj2" fmla="val 8191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37"/>
          <p:cNvSpPr/>
          <p:nvPr/>
        </p:nvSpPr>
        <p:spPr>
          <a:xfrm>
            <a:off x="4724280" y="1765440"/>
            <a:ext cx="1816200" cy="596880"/>
          </a:xfrm>
          <a:prstGeom prst="roundRect">
            <a:avLst>
              <a:gd name="adj" fmla="val 37495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MS PGothic"/>
              </a:rPr>
              <a:t>εκτέλεσ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1666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 </a:t>
            </a: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Τοπικές Μεταβλητ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1429920" y="789120"/>
            <a:ext cx="5626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mport java.util.Scanne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blic class Ad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ublic static void main (String[ 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canner input = new Scanner( System.in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 number1, number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 su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ystem.out.print(“Enter first number: 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umber1 = input.nextIn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ystem.out.print(“Enter second number: 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umber2 = input.nextIn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um = number1+number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ystem.out.printf(“The sum is %d\n", sum);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4360" y="1666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 </a:t>
            </a: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Παρατηρή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60360" y="930240"/>
            <a:ext cx="845964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Η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ca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είναι μια κλάση του πακέτου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java.u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,  και αποτελεί τμήμα της Java cla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rary ή Java Application Programming Interface (Java API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Η εντολ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εισάγει την κλάση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ca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στο πρόγραμμα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Η εντολ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canner input = new Scanner( System.in )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διεκπεραιώνει δύο ενέργειε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)   Δηλώνει πως η μεταβλητ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είναι τύπου Scanne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)  Δημιουργεί (μέσω της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ένα νέο αντικείμενο της κλάσης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ca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κα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καταχωρεί στην μεταβλητ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Το αντικείμενο αυτό είναι κατάλληλο για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ανάγνωση από το πληκτρολόγιο (το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ystem.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είναι το standard input object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 Μεταβλητές τύπου int παίρνουν ακέραιες τιμές από -2,147,483,648 έως +2,147,483,64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 Το πακέτο java.lang περιέχει κλάσεις όπως η System που εντάσσονται αυτόματα σ' έν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πρόγραμμα ακόμα και χωρίς την εντολή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im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  Με το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%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στην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Arial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δηλώνουμε πως στην συγκεκριμένη θέση θα εκτυπωθεί ακέραιο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5219640" y="1484280"/>
            <a:ext cx="29718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7240" y="1792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0"/>
                </a:solidFill>
                <a:latin typeface="Arial"/>
              </a:rPr>
              <a:t>Μεταβλητές και Μνήμ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684360" y="1484280"/>
            <a:ext cx="4106880" cy="31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ια εντολή καταχώρησης καταχωρεί </a:t>
            </a: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Arial"/>
              </a:rPr>
              <a:t>μια τιμή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σε μια μεταβλητή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αραδείγματα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int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numberOfSeats, year=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String nam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numberOfSeats = 4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name = “Homer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   </a:t>
            </a:r>
            <a:r>
              <a:rPr b="0" lang="en-AU" sz="1600" spc="-1" strike="noStrike">
                <a:solidFill>
                  <a:srgbClr val="000080"/>
                </a:solidFill>
                <a:latin typeface="Arial"/>
                <a:ea typeface="Arial"/>
              </a:rPr>
              <a:t>year = year+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5580360" y="1773360"/>
            <a:ext cx="148752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</a:rPr>
              <a:t>int siz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</a:rPr>
              <a:t>size = 5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80"/>
                </a:solidFill>
                <a:latin typeface="Arial"/>
              </a:rPr>
              <a:t>size = size - 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883200" y="4940280"/>
            <a:ext cx="5198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5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433640" y="4948200"/>
            <a:ext cx="54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6900480" y="2359080"/>
            <a:ext cx="5198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7449480" y="2367000"/>
            <a:ext cx="54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6899040" y="3654360"/>
            <a:ext cx="51984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55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7449480" y="3662280"/>
            <a:ext cx="54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971640" y="1754280"/>
            <a:ext cx="7143840" cy="50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 java.util.Scanne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class controlStat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x, y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“Enter first number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y = x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if (x &lt;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ff0000"/>
                </a:solidFill>
                <a:latin typeface="Arial"/>
              </a:rPr>
              <a:t>y = -x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"Absolute value = " + 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95280" y="9079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1600" spc="-1" strike="noStrike" u="sng">
                <a:solidFill>
                  <a:srgbClr val="000099"/>
                </a:solidFill>
                <a:uFillTx/>
                <a:latin typeface="Arial"/>
              </a:rPr>
              <a:t>Άσκηση</a:t>
            </a:r>
            <a:r>
              <a:rPr b="0" lang="en-GB" sz="16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Να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γραφεί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εφαρμογή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Java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δέχεται ως είσοδο έναν ακέραιο και εκτυπώνει την απόλυτη τιμή το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Ροή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2"/>
          <p:cNvGrpSpPr/>
          <p:nvPr/>
        </p:nvGrpSpPr>
        <p:grpSpPr>
          <a:xfrm>
            <a:off x="2500560" y="1152360"/>
            <a:ext cx="4046760" cy="2394720"/>
            <a:chOff x="2500560" y="1152360"/>
            <a:chExt cx="4046760" cy="2394720"/>
          </a:xfrm>
        </p:grpSpPr>
        <p:sp>
          <p:nvSpPr>
            <p:cNvPr id="341" name="Text Box 3"/>
            <p:cNvSpPr/>
            <p:nvPr/>
          </p:nvSpPr>
          <p:spPr>
            <a:xfrm>
              <a:off x="4024800" y="1152360"/>
              <a:ext cx="6152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y = x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AutoShape 4"/>
            <p:cNvSpPr/>
            <p:nvPr/>
          </p:nvSpPr>
          <p:spPr>
            <a:xfrm>
              <a:off x="3686040" y="1900080"/>
              <a:ext cx="1370160" cy="6843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Text Box 5"/>
            <p:cNvSpPr/>
            <p:nvPr/>
          </p:nvSpPr>
          <p:spPr>
            <a:xfrm>
              <a:off x="4093920" y="208908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x &lt;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2500560" y="3240000"/>
              <a:ext cx="3579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System.out.println("Absolute value = " + y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Text Box 7"/>
            <p:cNvSpPr/>
            <p:nvPr/>
          </p:nvSpPr>
          <p:spPr>
            <a:xfrm>
              <a:off x="5822640" y="2079720"/>
              <a:ext cx="7246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y := -x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8"/>
            <p:cNvSpPr/>
            <p:nvPr/>
          </p:nvSpPr>
          <p:spPr>
            <a:xfrm>
              <a:off x="4371840" y="159552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Line 9"/>
            <p:cNvSpPr/>
            <p:nvPr/>
          </p:nvSpPr>
          <p:spPr>
            <a:xfrm>
              <a:off x="4371840" y="2662200"/>
              <a:ext cx="0" cy="45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Line 10"/>
            <p:cNvSpPr/>
            <p:nvPr/>
          </p:nvSpPr>
          <p:spPr>
            <a:xfrm>
              <a:off x="5133960" y="22050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6505560" y="2433600"/>
              <a:ext cx="0" cy="45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4366800" y="2890800"/>
              <a:ext cx="21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3763440" y="268920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Όχι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5058720" y="185112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Ναι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Text Box 15"/>
          <p:cNvSpPr/>
          <p:nvPr/>
        </p:nvSpPr>
        <p:spPr>
          <a:xfrm>
            <a:off x="1332360" y="468000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Σενάριo A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1328040" y="519732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x = 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Absolute value =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5148720" y="466740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Σενάριo B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5144400" y="518472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66"/>
                </a:solidFill>
                <a:latin typeface="Arial"/>
              </a:rPr>
              <a:t>x =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cc00"/>
                </a:solidFill>
                <a:latin typeface="Arial"/>
              </a:rPr>
              <a:t>Absolute value =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Η Εντολή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if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24000" y="907920"/>
            <a:ext cx="837072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1400" spc="-1" strike="noStrike" u="sng">
                <a:solidFill>
                  <a:srgbClr val="000099"/>
                </a:solidFill>
                <a:uFillTx/>
                <a:latin typeface="Arial"/>
              </a:rPr>
              <a:t>Άσκη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Ένα κατάστημα ρούχων έχει εκπτώσεις. Οτιδήποτε πάνω από 100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Euro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 έχει έκπτωση 30% ενώ τα υπόλοιπα ρούχα έχουν έκπτωση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20%. Να γραφεί εφαρμογή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που δέχεται ως είσοδο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διαβάζει την αρχική τιμή ενός ρούχου και εκτυπώνει την νέα του τιμή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927720" y="2303640"/>
            <a:ext cx="555372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static void main 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oldPrice, newPrice, di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“Enter price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dPrice = input.nextDouble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 (oldPrice &gt;= 100.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s = oldPrice*0.3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s = oldPrice*0.2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Price = oldPrice - di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The new price is " + newPrice + " Euros.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98756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μοντέλο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Οι εξυπηρετητές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s)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προσφέρουν αρχεία που χρειάζονται συχνότερα οι πελάτε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li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α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++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ρκετά δημοφιλείς για τη δημιουργία λειτουργικών συστημάτων, δικτυακών εφαρμογών και εφαρμογών πελάτη/εξυπηρετητ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χρησιμοποιείται συχνά για εφαρμογές στο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Ο προγραμματισμός σ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μπορεί να είναι πιο παραγωγικός από τον προγραμματισμό σ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440" y="219240"/>
            <a:ext cx="7846920" cy="12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vantGarde"/>
              </a:rPr>
              <a:t>Προσωπικός υπολογιστής, κατανεμημένοι υπολογιστές και εφαρμογές πελάτη/εξυπηρετητή (</a:t>
            </a: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client/server)</a:t>
            </a:r>
            <a:endParaRPr b="0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Ροή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3475080" y="1731960"/>
            <a:ext cx="1950840" cy="760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3632040" y="1944720"/>
            <a:ext cx="14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dP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&gt;= 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49600" y="3168720"/>
            <a:ext cx="50958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ewPrice = oldPrice - di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ystem.out.println("The new price is " + newPrice + " Euros.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134760" y="1949400"/>
            <a:ext cx="157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s =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dP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*0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5508720" y="21337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7"/>
          <p:cNvGrpSpPr/>
          <p:nvPr/>
        </p:nvGrpSpPr>
        <p:grpSpPr>
          <a:xfrm>
            <a:off x="4529160" y="2303640"/>
            <a:ext cx="2138400" cy="457200"/>
            <a:chOff x="4529160" y="2303640"/>
            <a:chExt cx="2138400" cy="457200"/>
          </a:xfrm>
        </p:grpSpPr>
        <p:sp>
          <p:nvSpPr>
            <p:cNvPr id="367" name="Line 8"/>
            <p:cNvSpPr/>
            <p:nvPr/>
          </p:nvSpPr>
          <p:spPr>
            <a:xfrm>
              <a:off x="6664320" y="2303640"/>
              <a:ext cx="0" cy="4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Line 9"/>
            <p:cNvSpPr/>
            <p:nvPr/>
          </p:nvSpPr>
          <p:spPr>
            <a:xfrm flipH="1">
              <a:off x="4529160" y="2760840"/>
              <a:ext cx="21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Text Box 10"/>
          <p:cNvSpPr/>
          <p:nvPr/>
        </p:nvSpPr>
        <p:spPr>
          <a:xfrm>
            <a:off x="5437080" y="180036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Ναί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2989440" y="180036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12"/>
          <p:cNvSpPr/>
          <p:nvPr/>
        </p:nvSpPr>
        <p:spPr>
          <a:xfrm flipH="1">
            <a:off x="2910960" y="2133720"/>
            <a:ext cx="543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105560" y="1949400"/>
            <a:ext cx="157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s =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dP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*0.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14"/>
          <p:cNvSpPr/>
          <p:nvPr/>
        </p:nvSpPr>
        <p:spPr>
          <a:xfrm>
            <a:off x="4456080" y="138924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4427640" y="2492280"/>
            <a:ext cx="9360" cy="58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16"/>
          <p:cNvGrpSpPr/>
          <p:nvPr/>
        </p:nvGrpSpPr>
        <p:grpSpPr>
          <a:xfrm>
            <a:off x="2246400" y="2303640"/>
            <a:ext cx="2131920" cy="457200"/>
            <a:chOff x="2246400" y="2303640"/>
            <a:chExt cx="2131920" cy="457200"/>
          </a:xfrm>
        </p:grpSpPr>
        <p:sp>
          <p:nvSpPr>
            <p:cNvPr id="376" name="Line 17"/>
            <p:cNvSpPr/>
            <p:nvPr/>
          </p:nvSpPr>
          <p:spPr>
            <a:xfrm>
              <a:off x="2246400" y="2303640"/>
              <a:ext cx="0" cy="4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18"/>
            <p:cNvSpPr/>
            <p:nvPr/>
          </p:nvSpPr>
          <p:spPr>
            <a:xfrm>
              <a:off x="2246400" y="2760840"/>
              <a:ext cx="213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Text Box 19"/>
          <p:cNvSpPr/>
          <p:nvPr/>
        </p:nvSpPr>
        <p:spPr>
          <a:xfrm>
            <a:off x="694080" y="495144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Σενάριo A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677160" y="5327640"/>
            <a:ext cx="25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ff3399"/>
                </a:solidFill>
                <a:latin typeface="Arial"/>
              </a:rPr>
              <a:t>oldPrice = </a:t>
            </a: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cc00"/>
                </a:solidFill>
                <a:latin typeface="Arial"/>
              </a:rPr>
              <a:t>The new price is 40.00 Eur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5077080" y="4968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Σενάριo B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5096520" y="5361120"/>
            <a:ext cx="264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ff3399"/>
                </a:solidFill>
                <a:latin typeface="Arial"/>
              </a:rPr>
              <a:t>oldPrice = </a:t>
            </a:r>
            <a:r>
              <a:rPr b="0" lang="en-GB" sz="1400" spc="-1" strike="noStrike">
                <a:solidFill>
                  <a:srgbClr val="ff3399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cc00"/>
                </a:solidFill>
                <a:latin typeface="Arial"/>
              </a:rPr>
              <a:t>The new price is 140.00 Eur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17748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Σύνθετες Εντολ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228600" y="685800"/>
            <a:ext cx="849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Άσκη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Να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γραφεί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εφαρμογή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που δέχεται ως είσοδο δύο ακεραίους Α και Β, και εμφανίζει το άθροισμά τους εάν το Α είναι πολλαπλάσιο του Β, διαφορετικά εμφανίζει το γινόμενό του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521800" y="1600200"/>
            <a:ext cx="4227120" cy="51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int a, b, rem, sum, prod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System.out.print(“Enter two numbers: “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rem = a%b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if (rem == 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sum = a+b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System.out.println("The sum is " + sum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prod = a*b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System.out.println("The product is " + prod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en-AU" sz="1300" spc="-1" strike="noStrike">
                <a:solidFill>
                  <a:srgbClr val="339933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2955960" y="4579920"/>
            <a:ext cx="4897440" cy="449280"/>
          </a:xfrm>
          <a:prstGeom prst="rect">
            <a:avLst/>
          </a:prstGeom>
          <a:noFill/>
          <a:ln w="1260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2971800" y="5715000"/>
            <a:ext cx="4897440" cy="574560"/>
          </a:xfrm>
          <a:prstGeom prst="rect">
            <a:avLst/>
          </a:prstGeom>
          <a:noFill/>
          <a:ln w="1260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Ροή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"/>
          <p:cNvGrpSpPr/>
          <p:nvPr/>
        </p:nvGrpSpPr>
        <p:grpSpPr>
          <a:xfrm>
            <a:off x="1603800" y="4292640"/>
            <a:ext cx="1302480" cy="896400"/>
            <a:chOff x="1603800" y="4292640"/>
            <a:chExt cx="1302480" cy="896400"/>
          </a:xfrm>
        </p:grpSpPr>
        <p:sp>
          <p:nvSpPr>
            <p:cNvPr id="389" name="Text Box 3"/>
            <p:cNvSpPr/>
            <p:nvPr/>
          </p:nvSpPr>
          <p:spPr>
            <a:xfrm>
              <a:off x="1615680" y="429264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Σενάριo A</a:t>
              </a: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4"/>
            <p:cNvSpPr/>
            <p:nvPr/>
          </p:nvSpPr>
          <p:spPr>
            <a:xfrm>
              <a:off x="1603800" y="4668840"/>
              <a:ext cx="130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ff3399"/>
                  </a:solidFill>
                  <a:latin typeface="Arial"/>
                </a:rPr>
                <a:t>a = 50, b = 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cc00"/>
                  </a:solidFill>
                  <a:latin typeface="Arial"/>
                </a:rPr>
                <a:t>The sum is 5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Group 5"/>
          <p:cNvGrpSpPr/>
          <p:nvPr/>
        </p:nvGrpSpPr>
        <p:grpSpPr>
          <a:xfrm>
            <a:off x="5782680" y="4292640"/>
            <a:ext cx="1585440" cy="912240"/>
            <a:chOff x="5782680" y="4292640"/>
            <a:chExt cx="1585440" cy="912240"/>
          </a:xfrm>
        </p:grpSpPr>
        <p:sp>
          <p:nvSpPr>
            <p:cNvPr id="392" name="Text Box 6"/>
            <p:cNvSpPr/>
            <p:nvPr/>
          </p:nvSpPr>
          <p:spPr>
            <a:xfrm>
              <a:off x="5782680" y="429264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Σενάριo B</a:t>
              </a: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Text Box 7"/>
            <p:cNvSpPr/>
            <p:nvPr/>
          </p:nvSpPr>
          <p:spPr>
            <a:xfrm>
              <a:off x="5806800" y="4684680"/>
              <a:ext cx="1561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ff3399"/>
                  </a:solidFill>
                  <a:latin typeface="Arial"/>
                </a:rPr>
                <a:t>a = 15, b =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cc00"/>
                  </a:solidFill>
                  <a:latin typeface="Arial"/>
                </a:rPr>
                <a:t>The product is 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Group 8"/>
          <p:cNvGrpSpPr/>
          <p:nvPr/>
        </p:nvGrpSpPr>
        <p:grpSpPr>
          <a:xfrm>
            <a:off x="168480" y="1413000"/>
            <a:ext cx="8777160" cy="2144520"/>
            <a:chOff x="168480" y="1413000"/>
            <a:chExt cx="8777160" cy="2144520"/>
          </a:xfrm>
        </p:grpSpPr>
        <p:sp>
          <p:nvSpPr>
            <p:cNvPr id="395" name="AutoShape 9"/>
            <p:cNvSpPr/>
            <p:nvPr/>
          </p:nvSpPr>
          <p:spPr>
            <a:xfrm>
              <a:off x="4138560" y="2178000"/>
              <a:ext cx="1079640" cy="7588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4210200" y="2421000"/>
              <a:ext cx="8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m</a:t>
              </a: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 =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11"/>
            <p:cNvSpPr/>
            <p:nvPr/>
          </p:nvSpPr>
          <p:spPr>
            <a:xfrm>
              <a:off x="5076360" y="217800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Ναί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Text Box 12"/>
            <p:cNvSpPr/>
            <p:nvPr/>
          </p:nvSpPr>
          <p:spPr>
            <a:xfrm>
              <a:off x="3852360" y="2178000"/>
              <a:ext cx="45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Όχι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13"/>
            <p:cNvSpPr/>
            <p:nvPr/>
          </p:nvSpPr>
          <p:spPr>
            <a:xfrm flipH="1">
              <a:off x="3846600" y="25383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14"/>
            <p:cNvSpPr/>
            <p:nvPr/>
          </p:nvSpPr>
          <p:spPr>
            <a:xfrm>
              <a:off x="5572080" y="2178000"/>
              <a:ext cx="3373560" cy="56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sum = a+b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System.out.println("The sum is " + sum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15"/>
            <p:cNvSpPr/>
            <p:nvPr/>
          </p:nvSpPr>
          <p:spPr>
            <a:xfrm>
              <a:off x="4643280" y="181764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Line 16"/>
            <p:cNvSpPr/>
            <p:nvPr/>
          </p:nvSpPr>
          <p:spPr>
            <a:xfrm>
              <a:off x="4643280" y="2970360"/>
              <a:ext cx="792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7"/>
            <p:cNvSpPr/>
            <p:nvPr/>
          </p:nvSpPr>
          <p:spPr>
            <a:xfrm>
              <a:off x="3925440" y="1413000"/>
              <a:ext cx="1098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m = a%b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18"/>
            <p:cNvSpPr/>
            <p:nvPr/>
          </p:nvSpPr>
          <p:spPr>
            <a:xfrm>
              <a:off x="168480" y="2178000"/>
              <a:ext cx="3652560" cy="56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prod = a*b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System.out.println("The product is " + prod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Line 19"/>
            <p:cNvSpPr/>
            <p:nvPr/>
          </p:nvSpPr>
          <p:spPr>
            <a:xfrm>
              <a:off x="5291280" y="25383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Line 20"/>
            <p:cNvSpPr/>
            <p:nvPr/>
          </p:nvSpPr>
          <p:spPr>
            <a:xfrm>
              <a:off x="1835280" y="282564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21"/>
            <p:cNvSpPr/>
            <p:nvPr/>
          </p:nvSpPr>
          <p:spPr>
            <a:xfrm>
              <a:off x="7307280" y="282564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Line 22"/>
            <p:cNvSpPr/>
            <p:nvPr/>
          </p:nvSpPr>
          <p:spPr>
            <a:xfrm>
              <a:off x="1835280" y="3186000"/>
              <a:ext cx="28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Line 23"/>
            <p:cNvSpPr/>
            <p:nvPr/>
          </p:nvSpPr>
          <p:spPr>
            <a:xfrm flipH="1">
              <a:off x="4638600" y="3186000"/>
              <a:ext cx="267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Άσκ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228600" y="914400"/>
            <a:ext cx="86868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Το ημερομίσθιο ενός εργαζόμενου είναι 100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Euro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 τις καθημερινές, ενώ τα Σαββατοκύριακα προσαυξάνεται κατά 50%. Γράψτε μία εφαρμογή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Java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που δέχεται ως είσοδο τον κωδικό της τρέχουσας ημέρας (η Κυριακή έχει τον κωδικό 1, η Δευτέρα τον κωδικό 2, κλπ), και υπολογίζει το ημερομίσθιο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2025720" y="2087640"/>
            <a:ext cx="44683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 day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uble pay, rate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.out.print("Enter the day: 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y = input.nextInt(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 = 100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if ((day == 1) || (day == 7)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pay = rate*1.5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pay = rate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.out.println("Today's pay is " + pay + " Euro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17748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Ένθετες Εντολές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if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457200" y="1219320"/>
            <a:ext cx="809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 u="sng">
                <a:solidFill>
                  <a:srgbClr val="000099"/>
                </a:solidFill>
                <a:uFillTx/>
                <a:latin typeface="Arial"/>
              </a:rPr>
              <a:t>Άσκη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Σε ορισμένα πανεπιστήμια του εξωτερικού υπάρχουν δύο κλίμακες βαθμολογίας. Στην πρώτη κλίμακα Κ1 οι βαθμοί κυμαίνονται από 0-100, ενώ στην δεύτερη κλίμακα Κ2 αποτελούνται από τα σύμβολα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F, CQ, C, B, A.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Η αντιστοιχία μεταξύ της κλίμακας Κ1 και της κλίμακας Κ2 είναι η εξής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533520" y="2846520"/>
            <a:ext cx="2512800" cy="1798920"/>
            <a:chOff x="533520" y="2846520"/>
            <a:chExt cx="2512800" cy="1798920"/>
          </a:xfrm>
        </p:grpSpPr>
        <p:sp>
          <p:nvSpPr>
            <p:cNvPr id="416" name="Text Box 4"/>
            <p:cNvSpPr/>
            <p:nvPr/>
          </p:nvSpPr>
          <p:spPr>
            <a:xfrm>
              <a:off x="610560" y="2846520"/>
              <a:ext cx="227628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K1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K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0 - 49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50 - 59 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C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60 - 69 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70 - 74  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75 - 100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lang="en-AU" sz="14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0" i="1" lang="en-AU" sz="14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29840"/>
                  <a:tab algn="l" pos="1077912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533520" y="3200400"/>
              <a:ext cx="251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515880" y="5284800"/>
            <a:ext cx="626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Να γραφεί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εφαρμογή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Java </a:t>
            </a: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που να μετατρέπει την βαθμολογία από Κ1 σε Κ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360" y="17748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Ένθετες Εντολές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if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2700360" y="836640"/>
            <a:ext cx="39592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 marks; 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(“Enter marks: "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s = input.nextInt(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if (marks &lt; 5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System.out.println("Grade = F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4700b8"/>
                </a:solidFill>
                <a:latin typeface="Arial"/>
              </a:rPr>
              <a:t>els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if (marks &lt;6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System.out.println("Grade = CQ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ae00"/>
                </a:solidFill>
                <a:latin typeface="Arial"/>
              </a:rPr>
              <a:t>else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if (marks &lt;70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System.out.println("Grade = C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663300"/>
                </a:solidFill>
                <a:latin typeface="Arial"/>
              </a:rPr>
              <a:t>els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if (marks &lt;75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System.out.println("Grade = B")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System.out.println("Grade = A");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Ροή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"/>
          <p:cNvGrpSpPr/>
          <p:nvPr/>
        </p:nvGrpSpPr>
        <p:grpSpPr>
          <a:xfrm>
            <a:off x="1981080" y="1628640"/>
            <a:ext cx="1446480" cy="565200"/>
            <a:chOff x="1981080" y="1628640"/>
            <a:chExt cx="1446480" cy="565200"/>
          </a:xfrm>
        </p:grpSpPr>
        <p:sp>
          <p:nvSpPr>
            <p:cNvPr id="423" name="AutoShape 3"/>
            <p:cNvSpPr/>
            <p:nvPr/>
          </p:nvSpPr>
          <p:spPr>
            <a:xfrm>
              <a:off x="1981080" y="1628640"/>
              <a:ext cx="1446480" cy="5652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4"/>
            <p:cNvSpPr/>
            <p:nvPr/>
          </p:nvSpPr>
          <p:spPr>
            <a:xfrm>
              <a:off x="2169000" y="177012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marks &lt; 5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Group 5"/>
          <p:cNvGrpSpPr/>
          <p:nvPr/>
        </p:nvGrpSpPr>
        <p:grpSpPr>
          <a:xfrm>
            <a:off x="1981080" y="2455920"/>
            <a:ext cx="1446480" cy="565200"/>
            <a:chOff x="1981080" y="2455920"/>
            <a:chExt cx="1446480" cy="565200"/>
          </a:xfrm>
        </p:grpSpPr>
        <p:sp>
          <p:nvSpPr>
            <p:cNvPr id="426" name="AutoShape 6"/>
            <p:cNvSpPr/>
            <p:nvPr/>
          </p:nvSpPr>
          <p:spPr>
            <a:xfrm>
              <a:off x="1981080" y="2455920"/>
              <a:ext cx="1446480" cy="5652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Text Box 7"/>
            <p:cNvSpPr/>
            <p:nvPr/>
          </p:nvSpPr>
          <p:spPr>
            <a:xfrm>
              <a:off x="2169000" y="259704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marks &lt; 6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8" name="Group 8"/>
          <p:cNvGrpSpPr/>
          <p:nvPr/>
        </p:nvGrpSpPr>
        <p:grpSpPr>
          <a:xfrm>
            <a:off x="1981080" y="3282840"/>
            <a:ext cx="1446480" cy="565200"/>
            <a:chOff x="1981080" y="3282840"/>
            <a:chExt cx="1446480" cy="565200"/>
          </a:xfrm>
        </p:grpSpPr>
        <p:sp>
          <p:nvSpPr>
            <p:cNvPr id="429" name="AutoShape 9"/>
            <p:cNvSpPr/>
            <p:nvPr/>
          </p:nvSpPr>
          <p:spPr>
            <a:xfrm>
              <a:off x="1981080" y="3282840"/>
              <a:ext cx="1446480" cy="5652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 Box 10"/>
            <p:cNvSpPr/>
            <p:nvPr/>
          </p:nvSpPr>
          <p:spPr>
            <a:xfrm>
              <a:off x="2169000" y="342432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marks &lt; 7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11"/>
          <p:cNvGrpSpPr/>
          <p:nvPr/>
        </p:nvGrpSpPr>
        <p:grpSpPr>
          <a:xfrm>
            <a:off x="1981080" y="4110120"/>
            <a:ext cx="1446480" cy="565200"/>
            <a:chOff x="1981080" y="4110120"/>
            <a:chExt cx="1446480" cy="565200"/>
          </a:xfrm>
        </p:grpSpPr>
        <p:sp>
          <p:nvSpPr>
            <p:cNvPr id="432" name="AutoShape 12"/>
            <p:cNvSpPr/>
            <p:nvPr/>
          </p:nvSpPr>
          <p:spPr>
            <a:xfrm>
              <a:off x="1981080" y="4110120"/>
              <a:ext cx="1446480" cy="5652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2169000" y="4251240"/>
              <a:ext cx="106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marks &lt; 7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Line 14"/>
          <p:cNvSpPr/>
          <p:nvPr/>
        </p:nvSpPr>
        <p:spPr>
          <a:xfrm>
            <a:off x="2705040" y="2222640"/>
            <a:ext cx="18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15"/>
          <p:cNvSpPr/>
          <p:nvPr/>
        </p:nvSpPr>
        <p:spPr>
          <a:xfrm>
            <a:off x="2705040" y="3063960"/>
            <a:ext cx="18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2705040" y="3887640"/>
            <a:ext cx="18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303080" y="1751040"/>
            <a:ext cx="3058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F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304520" y="2532240"/>
            <a:ext cx="3237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CQ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19"/>
          <p:cNvSpPr/>
          <p:nvPr/>
        </p:nvSpPr>
        <p:spPr>
          <a:xfrm>
            <a:off x="4302360" y="3382920"/>
            <a:ext cx="3080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C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4302000" y="4233960"/>
            <a:ext cx="3070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B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4302360" y="5084640"/>
            <a:ext cx="3070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"Grade = A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2"/>
          <p:cNvSpPr/>
          <p:nvPr/>
        </p:nvSpPr>
        <p:spPr>
          <a:xfrm>
            <a:off x="2705040" y="1282680"/>
            <a:ext cx="180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3"/>
          <p:cNvSpPr/>
          <p:nvPr/>
        </p:nvSpPr>
        <p:spPr>
          <a:xfrm>
            <a:off x="3463920" y="1920960"/>
            <a:ext cx="790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24"/>
          <p:cNvSpPr/>
          <p:nvPr/>
        </p:nvSpPr>
        <p:spPr>
          <a:xfrm>
            <a:off x="3463920" y="2735280"/>
            <a:ext cx="790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25"/>
          <p:cNvSpPr/>
          <p:nvPr/>
        </p:nvSpPr>
        <p:spPr>
          <a:xfrm>
            <a:off x="3463920" y="3568680"/>
            <a:ext cx="790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26"/>
          <p:cNvSpPr/>
          <p:nvPr/>
        </p:nvSpPr>
        <p:spPr>
          <a:xfrm>
            <a:off x="3463920" y="4394160"/>
            <a:ext cx="79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27"/>
          <p:cNvSpPr/>
          <p:nvPr/>
        </p:nvSpPr>
        <p:spPr>
          <a:xfrm>
            <a:off x="2701800" y="4713120"/>
            <a:ext cx="18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28"/>
          <p:cNvSpPr/>
          <p:nvPr/>
        </p:nvSpPr>
        <p:spPr>
          <a:xfrm>
            <a:off x="2701800" y="5218200"/>
            <a:ext cx="1514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29"/>
          <p:cNvSpPr/>
          <p:nvPr/>
        </p:nvSpPr>
        <p:spPr>
          <a:xfrm>
            <a:off x="3494160" y="162864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3494160" y="24084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3494160" y="325908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3494160" y="41101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3494160" y="48895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Να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34"/>
          <p:cNvSpPr/>
          <p:nvPr/>
        </p:nvSpPr>
        <p:spPr>
          <a:xfrm>
            <a:off x="2122560" y="21240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2122560" y="29052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2122560" y="375588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2122560" y="474804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99"/>
                </a:solidFill>
                <a:latin typeface="Arial"/>
              </a:rPr>
              <a:t>Όχ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Άσκ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"/>
          <p:cNvSpPr/>
          <p:nvPr/>
        </p:nvSpPr>
        <p:spPr>
          <a:xfrm>
            <a:off x="832320" y="1125360"/>
            <a:ext cx="77000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Γράψτε μία εφαρμογή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Java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 χαρακτήρα και εκτυπώνε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το μήνυμα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“Arithmetic Operator”,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εάν ο χαρακτήρα είναι ο αριθμητικός τελεστής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`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`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“Relational Operator”,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εάν ο χαρακτήρα είναι τ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`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`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“Punctuation Mark”, εάν ο χαρακτήρας είναι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 η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`(`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-  “Wrong Input”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σε κάθε άλλη περίπτωση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971640" y="1989000"/>
            <a:ext cx="381636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1+2+3+4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Ιστορική εξέλιξη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002960"/>
            <a:ext cx="806292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ελίχθηκ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79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jarne Stroustrup – Bell Labs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από τη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(1972 – 197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nis Ritchie – Bell Lab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ξελίχθηκε απο 2 προηγούμενες γλώσσες προγραμματισμού, τι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αθιέρωσε παγκόσμια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για προγραμματισμό σ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το 198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αναβαθμίζε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Δίνει δυνατότητες για αντικειμενοστραφή προγραμματισμ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ντικείμενα – επαναχρησιμοποιούμενα συστατικά λογισμικού που μοντελοποιούν κομμάτια του πραγματικού κόσμο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Τα αντικειμενοστραφή προγράμματα είναι εύκολα στην κατανόηση, στην διόρθωση και στη μεταφορά τους σε άλλο υπολογιστικό περιβάλλο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Box 18"/>
          <p:cNvSpPr/>
          <p:nvPr/>
        </p:nvSpPr>
        <p:spPr>
          <a:xfrm>
            <a:off x="6372360" y="3573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Straight Connector 32"/>
          <p:cNvSpPr/>
          <p:nvPr/>
        </p:nvSpPr>
        <p:spPr>
          <a:xfrm flipV="1">
            <a:off x="644364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6372360" y="3573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5940360" y="3573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Straight Connector 32"/>
          <p:cNvSpPr/>
          <p:nvPr/>
        </p:nvSpPr>
        <p:spPr>
          <a:xfrm flipV="1">
            <a:off x="644364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Straight Connector 33"/>
          <p:cNvSpPr/>
          <p:nvPr/>
        </p:nvSpPr>
        <p:spPr>
          <a:xfrm flipV="1">
            <a:off x="601200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Box 18"/>
          <p:cNvSpPr/>
          <p:nvPr/>
        </p:nvSpPr>
        <p:spPr>
          <a:xfrm>
            <a:off x="6372360" y="3573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Box 19"/>
          <p:cNvSpPr/>
          <p:nvPr/>
        </p:nvSpPr>
        <p:spPr>
          <a:xfrm>
            <a:off x="6372360" y="3860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Box 20"/>
          <p:cNvSpPr/>
          <p:nvPr/>
        </p:nvSpPr>
        <p:spPr>
          <a:xfrm>
            <a:off x="5940360" y="3573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Straight Connector 32"/>
          <p:cNvSpPr/>
          <p:nvPr/>
        </p:nvSpPr>
        <p:spPr>
          <a:xfrm flipV="1">
            <a:off x="644364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Straight Connector 33"/>
          <p:cNvSpPr/>
          <p:nvPr/>
        </p:nvSpPr>
        <p:spPr>
          <a:xfrm flipV="1">
            <a:off x="601200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Straight Connector 34"/>
          <p:cNvSpPr/>
          <p:nvPr/>
        </p:nvSpPr>
        <p:spPr>
          <a:xfrm flipV="1">
            <a:off x="6443640" y="364464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"/>
          <p:cNvSpPr/>
          <p:nvPr/>
        </p:nvSpPr>
        <p:spPr>
          <a:xfrm>
            <a:off x="1317960" y="981000"/>
            <a:ext cx="61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υπολογίζει το άθροισμα 1+2+3+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971640" y="1989000"/>
            <a:ext cx="3816360" cy="29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 i, sum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for (i = 1; i &lt;= 4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          </a:t>
            </a:r>
            <a:r>
              <a:rPr b="1" lang="en-US" sz="1400" spc="-1" strike="noStrike">
                <a:solidFill>
                  <a:srgbClr val="006600"/>
                </a:solidFill>
                <a:latin typeface="Calibri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ystem.out.println(“The sum is “+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Box 1"/>
          <p:cNvSpPr/>
          <p:nvPr/>
        </p:nvSpPr>
        <p:spPr>
          <a:xfrm>
            <a:off x="5870880" y="198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1400" spc="-1" strike="noStrike" u="sng">
                <a:solidFill>
                  <a:srgbClr val="000090"/>
                </a:solidFill>
                <a:uFillTx/>
                <a:latin typeface="Calibri"/>
              </a:rPr>
              <a:t>Εκτέλε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5867280" y="2708280"/>
            <a:ext cx="4334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6300720" y="2708280"/>
            <a:ext cx="43200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5942160" y="2421000"/>
            <a:ext cx="2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Box 10"/>
          <p:cNvSpPr/>
          <p:nvPr/>
        </p:nvSpPr>
        <p:spPr>
          <a:xfrm>
            <a:off x="6231600" y="24210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Calibri"/>
              </a:rPr>
              <a:t>s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Box 11"/>
          <p:cNvSpPr/>
          <p:nvPr/>
        </p:nvSpPr>
        <p:spPr>
          <a:xfrm>
            <a:off x="594216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6374880" y="270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5940360" y="2997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Box 14"/>
          <p:cNvSpPr/>
          <p:nvPr/>
        </p:nvSpPr>
        <p:spPr>
          <a:xfrm>
            <a:off x="6372360" y="2997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Box 15"/>
          <p:cNvSpPr/>
          <p:nvPr/>
        </p:nvSpPr>
        <p:spPr>
          <a:xfrm>
            <a:off x="5940360" y="3284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6372360" y="328464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Box 18"/>
          <p:cNvSpPr/>
          <p:nvPr/>
        </p:nvSpPr>
        <p:spPr>
          <a:xfrm>
            <a:off x="6372360" y="3573360"/>
            <a:ext cx="3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Box 19"/>
          <p:cNvSpPr/>
          <p:nvPr/>
        </p:nvSpPr>
        <p:spPr>
          <a:xfrm>
            <a:off x="6372360" y="3860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Box 20"/>
          <p:cNvSpPr/>
          <p:nvPr/>
        </p:nvSpPr>
        <p:spPr>
          <a:xfrm>
            <a:off x="5940360" y="357336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Box 21"/>
          <p:cNvSpPr/>
          <p:nvPr/>
        </p:nvSpPr>
        <p:spPr>
          <a:xfrm>
            <a:off x="5940360" y="3860640"/>
            <a:ext cx="3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Straight Connector 28"/>
          <p:cNvSpPr/>
          <p:nvPr/>
        </p:nvSpPr>
        <p:spPr>
          <a:xfrm flipV="1">
            <a:off x="601200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Straight Connector 29"/>
          <p:cNvSpPr/>
          <p:nvPr/>
        </p:nvSpPr>
        <p:spPr>
          <a:xfrm flipV="1">
            <a:off x="6443640" y="2781000"/>
            <a:ext cx="14436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Straight Connector 30"/>
          <p:cNvSpPr/>
          <p:nvPr/>
        </p:nvSpPr>
        <p:spPr>
          <a:xfrm flipV="1">
            <a:off x="644364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Straight Connector 31"/>
          <p:cNvSpPr/>
          <p:nvPr/>
        </p:nvSpPr>
        <p:spPr>
          <a:xfrm flipV="1">
            <a:off x="6012000" y="306828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Straight Connector 32"/>
          <p:cNvSpPr/>
          <p:nvPr/>
        </p:nvSpPr>
        <p:spPr>
          <a:xfrm flipV="1">
            <a:off x="644364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Straight Connector 33"/>
          <p:cNvSpPr/>
          <p:nvPr/>
        </p:nvSpPr>
        <p:spPr>
          <a:xfrm flipV="1">
            <a:off x="6012000" y="3357720"/>
            <a:ext cx="144360" cy="142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Straight Connector 34"/>
          <p:cNvSpPr/>
          <p:nvPr/>
        </p:nvSpPr>
        <p:spPr>
          <a:xfrm flipV="1">
            <a:off x="6443640" y="364464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Straight Connector 35"/>
          <p:cNvSpPr/>
          <p:nvPr/>
        </p:nvSpPr>
        <p:spPr>
          <a:xfrm flipV="1">
            <a:off x="6012000" y="364464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Βασίστηκε στη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αι στη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(SUN MICROSYSTEM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Το αρχικό της όνομα ήταν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Oa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βελανιδιά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ναπτύχθηκε από τον James Gosling το 1991 για «έξυπνες» ηλεκτρονικές συσκευέ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ειδή δεν αναπτύχθηκε η αγορά, τ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κινδύνευσε να ακυρωθε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Με την έκρηξη το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το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3,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το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σώθηκ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χρησιμοποιήθηκε για την δημιουργία σελίδων με δυναμικό περιεχόμεν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ανακοινώθηκε επίσημα το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Ιστορική εξέλιξη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468360" y="9079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και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ετράει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 ανάποδα από αυτόν το ακέραιο μέχρι το μηδέ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2484360" y="1844640"/>
            <a:ext cx="482436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Ν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number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N; i &gt;= 0; i--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ystem.out.println(“I = “ + 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αράδειγμα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όλους τους κοινούς διαιρέτες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1836720" y="1844640"/>
            <a:ext cx="5472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αράδειγμα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όλους τους κοινούς διαιρέτες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836720" y="1844640"/>
            <a:ext cx="5472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1; i &lt;= a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f ((a%i == 0) &amp;&amp; (b%i == 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ystem.out.println(“Common Divison: “  + 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όλους τους κοινούς διαιρέτες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1836720" y="1844640"/>
            <a:ext cx="54720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όλους τους κοινούς διαιρέτες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1836720" y="1844640"/>
            <a:ext cx="5472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1; i &lt;= a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f ((a%i == 0) &amp;&amp; (b%i == 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ystem.out.println(“Common Divisor: “  + i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τον μέγιστο κοινό διαιρέτη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1836720" y="1844640"/>
            <a:ext cx="54720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, max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=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f("Greatest Common Divisor: %d\n", ma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εραίους και θα εκτυπώνει τον μέγιστο κοινό διαιρέτη το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1836720" y="1844640"/>
            <a:ext cx="54720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b, i, max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2 numbers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 =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2; i &lt;= a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f ((a%i == 0) &amp;&amp; (b%i == 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max = 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f("Greatest Common Divisor: %d\n", ma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465120" y="79056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και θα υπολογίζει εάν είναι πρώτο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371600" y="1600200"/>
            <a:ext cx="685008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i, d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a number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=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f (d ==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Prime Number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Composite Number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Παράδειγμα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"/>
          <p:cNvSpPr/>
          <p:nvPr/>
        </p:nvSpPr>
        <p:spPr>
          <a:xfrm>
            <a:off x="465120" y="79056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και θα υπολογίζει εάν είναι πρώτο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1371600" y="1600200"/>
            <a:ext cx="685008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ner input = new Scanner( System.in );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 a, i, d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("Enter a number: 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= 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r (i = 2; i &lt; a; i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f (a%i ==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 = 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f (d ==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Prime Number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.out.println("Composite Number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287280" y="7207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δύο θετικούς ακέραιους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, b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τον μέγιστο κοινό διαιρέτη του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360360" y="1746360"/>
            <a:ext cx="4319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5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t a, b, d, te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ystem.out.print(“Enter 2 numbers: 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 = input.nextIn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(a &gt;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mp = 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= 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 = te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859280" y="1619280"/>
            <a:ext cx="52560" cy="44751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5092560" y="1832040"/>
            <a:ext cx="371952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 = 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while ((a%d != 0) || (b%d != 0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--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Greatest Common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+ “Divisor: ” + d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java-play"/>
          <p:cNvPicPr/>
          <p:nvPr/>
        </p:nvPicPr>
        <p:blipFill>
          <a:blip r:embed="rId1"/>
          <a:stretch/>
        </p:blipFill>
        <p:spPr>
          <a:xfrm>
            <a:off x="395280" y="2549520"/>
            <a:ext cx="7128000" cy="3363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Java </a:t>
            </a:r>
            <a:r>
              <a:rPr b="0" lang="el-GR" sz="3600" spc="-1" strike="noStrike">
                <a:solidFill>
                  <a:srgbClr val="ff3300"/>
                </a:solidFill>
                <a:latin typeface="AvantGarde"/>
              </a:rPr>
              <a:t>και 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Interne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907920"/>
            <a:ext cx="806292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Όταν το World Wide Web εμφανίστηκε στο διαδίκτυο το 1993, παρουσιάστηκε η ανάγκη μιας γλώσσας η οποία να είναι platform independent (ανεξάρτητη πλατφόρμα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059280" y="3068640"/>
            <a:ext cx="594180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Πλέον χρησιμοποιείται για δημιουργία σελίδων με διαδραστικό περιεχόμενο, για αναβάθμισ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nhance web servers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για εφαρμογές σε διάφορες συσκευέ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κινητ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ενσωματωμένα συστήματα κ.λπ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Εντολή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do..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"/>
          <p:cNvSpPr/>
          <p:nvPr/>
        </p:nvSpPr>
        <p:spPr>
          <a:xfrm>
            <a:off x="576360" y="9079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εάν είναι πρώτο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3"/>
          <p:cNvSpPr/>
          <p:nvPr/>
        </p:nvSpPr>
        <p:spPr>
          <a:xfrm>
            <a:off x="1403280" y="1628640"/>
            <a:ext cx="6264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a, i=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(“Enter a numbers: “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 = input.nextIn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i++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} while (a%i != 0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f (i==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Prime number.”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Composite number.”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ροσοχή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593640" y="738360"/>
            <a:ext cx="8155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το άθροισμα όλων των ζυγών αριθμών μικρότερων του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1763640" y="1773360"/>
            <a:ext cx="56167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a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m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(“Enter a numbers: “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 = input.nextInt()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} while (i != 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The sum is = “ + 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ροσοχή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593640" y="738360"/>
            <a:ext cx="8155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το άθροισμα όλων των ζυγών αριθμών μικρότερων του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763640" y="1773360"/>
            <a:ext cx="56167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a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m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(“Enter a numbers: “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 = input.nextInt()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} while (i != 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The sum is = “ + 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994640" y="4842000"/>
            <a:ext cx="74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i = i+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19240"/>
            <a:ext cx="777240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</a:rPr>
              <a:t>Προσοχή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593640" y="738360"/>
            <a:ext cx="8155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Γράψτε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μια εφαρμογή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Java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που θα δέχεται ως είσοδο έναν θετικό ακέραιο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και θα υπολογίζει το άθροισμα όλων των ζυγών αριθμών μικρότερων του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l-GR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1763640" y="1773360"/>
            <a:ext cx="56167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ublic static void main(String[ 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nner input = new Scanner( System.in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 a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m, i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(“Enter a numbers: “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 = input.nextInt()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um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sum = sum+i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1400" spc="-1" strike="noStrike">
                <a:solidFill>
                  <a:srgbClr val="006600"/>
                </a:solidFill>
                <a:latin typeface="Arial"/>
              </a:rPr>
              <a:t>} while (i != a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ystem.out.println(“The sum is = “ + sum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4994640" y="4842000"/>
            <a:ext cx="74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i = i+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2954160" y="5133960"/>
            <a:ext cx="2650680" cy="302040"/>
            <a:chOff x="2954160" y="5133960"/>
            <a:chExt cx="2650680" cy="302040"/>
          </a:xfrm>
        </p:grpSpPr>
        <p:sp>
          <p:nvSpPr>
            <p:cNvPr id="684" name="Text Box 6"/>
            <p:cNvSpPr/>
            <p:nvPr/>
          </p:nvSpPr>
          <p:spPr>
            <a:xfrm>
              <a:off x="4394520" y="5133960"/>
              <a:ext cx="1210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3300"/>
                  </a:solidFill>
                  <a:latin typeface="Arial"/>
                </a:rPr>
                <a:t>while (i &lt; a)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7"/>
            <p:cNvSpPr/>
            <p:nvPr/>
          </p:nvSpPr>
          <p:spPr>
            <a:xfrm>
              <a:off x="2954160" y="5278320"/>
              <a:ext cx="1293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 Class Libra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ποτελούνται από τμήματα που ονομάζονται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Ο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περιέχουν </a:t>
            </a:r>
            <a:r>
              <a:rPr b="0" lang="el-GR" sz="2200" spc="-1" strike="noStrike" u="sng">
                <a:solidFill>
                  <a:srgbClr val="3333cc"/>
                </a:solidFill>
                <a:uFillTx/>
                <a:latin typeface="Times New Roman"/>
              </a:rPr>
              <a:t>μεθόδους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που επιτελού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κάποιον υπολογισμ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Γνωστές και σα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va API (Applications Programming 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Πλούσια συλλογή από ήδη ορισμένες κλάσει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έτοιμες για χρήσ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ύο μέρη στην εκμάθηση τη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κμάθηση της ίδιας της γλώσσας ώστε να μπορεί ο χρήστης να φτιάξει τις δικές του κλάσει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Εκμάθηση της χρήσης των ήδη υπαρχόντων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Βασικές αρχές λειτουργίας ενός τυπικού περιβάλλοντος </a:t>
            </a:r>
            <a:r>
              <a:rPr b="1" lang="en-US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endParaRPr b="0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1135080"/>
            <a:ext cx="82818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στήματα ανάπτυξης εφαρμογών σ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ποτελούνται από το περιβάλλον ανάπτυξης, την γλώσσ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Java Applications Programming Interface (API), class libra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προγράμματ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ούν τις εξής φάσεις δημιουργία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πληκτρολόγηση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Χρήση ενό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ώστε να γραφτεί το πρόγραμμ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a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otepad, Jbuilder, Visual J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ja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(μετάφραση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φράζει το πρόγραμμα σε μορφή που είναι κατανοητή σε έναν μεταφραστ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ντολ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c myProgram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ημιουργε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ρχείο που περιέχει σειρά απ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rogram.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Συνέχει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(φόρτωμα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loader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εταφέρει το αρχείο τύπο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τη μνήμ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φαρμογές: τρέχουν στον υπολογιστή του χρήστ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φορτώνονται, προσωρινά, στον φυλλομετρητή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)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ου χρήστ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ι κλάσεις φορτώνονται και εκτελούνται από τον διερμηνευτή με χρήση της εντολής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, π.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va Wel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Τα έγγραφα σε μορφ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μπορούν να αναφέρονται σ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Applets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υ είναι φορτωμένα στον φυλλομετρητ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Βασικές αρχές λειτουργίας ενός τυπικού περιβάλλοντος </a:t>
            </a:r>
            <a:r>
              <a:rPr b="1" lang="en-US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endParaRPr b="0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έχει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ify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(επαλήθευση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ytecode verif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παληθεύει ότι ο ενδιάμεσος κώδικας είναι σωστός και δεν παραβιάζει την ασφάλε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ρέπει να είναι ασφαλή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– δυνατή η πρόκληση προβλημάτων (π.χ. από ιού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 (εκτέλεση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Ο υπολογιστής εκτελεί τον κώδικα, ένα-ένα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Έτσι, εκτελεί τον υπολογισμό που περιγράφεται στο πρόγραμμ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bugging (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αποσφαλμάτωση) καθώς τα προγράμματα (συνήθως) δεν τρέχουν σωστά με την πρώτη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Κάνουμε τις απαραίτητες αλλαγές και επαναλαμβάνουμε τη διαδικασί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Βασικές αρχές λειτουργίας ενός τυπικού περιβάλλοντος </a:t>
            </a:r>
            <a:r>
              <a:rPr b="1" lang="en-US" sz="32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ava</a:t>
            </a:r>
            <a:endParaRPr b="0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5T15:18:02Z</dcterms:created>
  <dc:creator>Αντώνιος Συμβώνης</dc:creator>
  <dc:description>Translated from the lecture notes of 
Michael Kölling, Monash University</dc:description>
  <dc:language>en-US</dc:language>
  <cp:lastModifiedBy>Yannis</cp:lastModifiedBy>
  <cp:lastPrinted>2000-02-28T22:07:46Z</cp:lastPrinted>
  <dcterms:modified xsi:type="dcterms:W3CDTF">2022-11-23T21:14:43Z</dcterms:modified>
  <cp:revision>215</cp:revision>
  <dc:subject>Lecture slides</dc:subject>
  <dc:title>Εισαγωγή στον Προγραμματισμό</dc:title>
</cp:coreProperties>
</file>