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wmf" ContentType="image/x-wmf"/>
  <Override PartName="/ppt/media/image24.wmf" ContentType="image/x-wmf"/>
  <Override PartName="/ppt/media/image23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2.jpeg" ContentType="image/jpeg"/>
  <Override PartName="/ppt/media/image16.wmf" ContentType="image/x-wmf"/>
  <Override PartName="/ppt/media/image22.jpeg" ContentType="image/jpeg"/>
  <Override PartName="/ppt/media/image39.png" ContentType="image/png"/>
  <Override PartName="/ppt/media/image38.png" ContentType="image/png"/>
  <Override PartName="/ppt/media/image9.wmf" ContentType="image/x-wmf"/>
  <Override PartName="/ppt/media/image41.png" ContentType="image/png"/>
  <Override PartName="/ppt/media/image30.png" ContentType="image/png"/>
  <Override PartName="/ppt/media/image5.png" ContentType="image/png"/>
  <Override PartName="/ppt/media/image13.wmf" ContentType="image/x-wmf"/>
  <Override PartName="/ppt/media/image3.png" ContentType="image/png"/>
  <Override PartName="/ppt/media/image11.wmf" ContentType="image/x-wmf"/>
  <Override PartName="/ppt/media/image31.wmf" ContentType="image/x-wmf"/>
  <Override PartName="/ppt/media/image33.wmf" ContentType="image/x-wmf"/>
  <Override PartName="/ppt/media/image40.png" ContentType="image/png"/>
  <Override PartName="/ppt/media/image8.wmf" ContentType="image/x-wmf"/>
  <Override PartName="/ppt/media/image35.wmf" ContentType="image/x-wmf"/>
  <Override PartName="/ppt/media/image37.png" ContentType="image/png"/>
  <Override PartName="/ppt/media/image12.wmf" ContentType="image/x-wmf"/>
  <Override PartName="/ppt/media/image7.wmf" ContentType="image/x-wmf"/>
  <Override PartName="/ppt/media/image10.wmf" ContentType="image/x-wmf"/>
  <Override PartName="/ppt/media/image42.jpeg" ContentType="image/jpeg"/>
  <Override PartName="/ppt/media/image25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319F-760D-4CAD-96CB-B17FDEF8D4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C555-1673-48B0-B2CE-1AD2C8E1C6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D102-6D27-45C0-B4EF-61143C7B02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RSA brei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695B-24F4-427E-B8BE-720C19B4C0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96F9-21C7-47D7-A5E5-344E24527F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6852-B41A-4588-8A22-7EA4A44F2C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D49A-E87F-4197-8856-8A37CF36DD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1C50-ABB0-4E83-8FFE-10C03CB278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B2B73-5355-49F6-9999-CD7789FE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47E7E-C8BD-4B90-85E5-0BD496CB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4B0AB-95EA-4130-B48C-FD83A184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3D2D6-2710-4D64-BC96-FB7C8B2E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3A88-DB65-4B9D-8482-BB6B0BDE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B2E6-DA06-4007-864B-2D119F32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401A-2007-4BC7-BE3D-81B872B8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3334-E656-4231-9B99-65FB6C5F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DAFC-5A61-4A61-83ED-ADB8F647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F733-023E-46A7-B521-4A40C7E5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44C8-88CD-469F-AD20-863B0E68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BDCA6-A427-4023-8DC9-06E3738D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90E0-36F7-480F-904A-AC97E422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C990-A483-4551-A980-0D161B07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65A6-D204-440C-8E13-2B98FD33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BB37-D814-4945-AEDA-2E085B14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78CB-A255-4D02-85D3-F0A435B0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4CA8A-9EF0-4A98-80D5-68B8F41D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7CE34-8506-4E66-8519-88DD73A5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493A5-E29F-4355-BB27-E6AC8BBB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FF0AB-14C5-4CD4-816B-7E9BF88B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2FCE7-C724-47DB-800E-8E7B5DA3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5A8C8-6923-4F1E-A5C7-967FBA34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81C2E-BCF5-46F4-B380-DBCD1AE9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33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regenz, August 6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3DAB-B321-4D64-B204-616172606B1B}" type="slidenum">
              <a:rPr b="0" lang="el-G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7236000" y="6381720"/>
            <a:ext cx="468000" cy="47628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084720" y="6381720"/>
            <a:ext cx="936720" cy="47628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5"/>
          <p:cNvSpPr>
            <a:spLocks noGrp="1"/>
          </p:cNvSpPr>
          <p:nvPr>
            <p:ph type="ftr" idx="3"/>
          </p:nvPr>
        </p:nvSpPr>
        <p:spPr>
          <a:xfrm>
            <a:off x="3779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0173-3110-47ED-BFDD-814040B2E2AB}" type="slidenum">
              <a:rPr b="0" lang="el-G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oras.sourceforge.net/" TargetMode="External"/><Relationship Id="rId2" Type="http://schemas.openxmlformats.org/officeDocument/2006/relationships/hyperlink" Target="http://coras.sourceforge.net/" TargetMode="External"/><Relationship Id="rId3" Type="http://schemas.openxmlformats.org/officeDocument/2006/relationships/hyperlink" Target="http://coras.sourceforge.net/" TargetMode="External"/><Relationship Id="rId4" Type="http://schemas.openxmlformats.org/officeDocument/2006/relationships/hyperlink" Target="http://coras.sourceforge.net/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8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0" y="2708280"/>
            <a:ext cx="91440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Work team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. Avramidis (Presenter), C. Manolopoulos, P. Nakou, A. Panagiotaki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. Sofotassios, P. Spirakis, Y. Stamatiou (Presenter) and A. Tataki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llaborative work betwe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52095"/>
                </a:solidFill>
                <a:latin typeface="Tahoma"/>
              </a:rPr>
              <a:t>Research and Academic Computer Technology Institute (RACTI)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52095"/>
                </a:solidFill>
                <a:latin typeface="Tahoma"/>
              </a:rPr>
              <a:t>EXPERTNET SA,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Gree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upported by the General Secretariat of Research and Technology of Greece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rd Community Support Framework, Operational Program of Western Greece</a:t>
            </a: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Tahoma"/>
              </a:rPr>
              <a:t>ΠΝΥΚΑ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47840" indent="-433440" algn="ctr">
              <a:lnSpc>
                <a:spcPct val="8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71640" y="189000"/>
            <a:ext cx="7345440" cy="187164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17175e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50000">
                    <a:srgbClr val="17175e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17175e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 Trust-Centered, Internet-based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50000">
                    <a:srgbClr val="17175e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17175e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Voting platfor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50000">
                    <a:srgbClr val="17175e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400800"/>
            <a:ext cx="33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regenz, August 6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8BA5-02ED-4D25-A86D-CB4B50B79B79}" type="slidenum">
              <a:rPr b="0" lang="el-G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236000" y="6381720"/>
            <a:ext cx="468000" cy="476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084720" y="6381720"/>
            <a:ext cx="936720" cy="47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80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1508040"/>
            <a:ext cx="84247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44600" indent="-444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omposition of the eVoting process into layers containing basic trust component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 the management of trust in each 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rete notion of trust components should be taken into consideration by designers of security critical applications in gener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3357720"/>
            <a:ext cx="1440000" cy="215640"/>
          </a:xfrm>
          <a:prstGeom prst="rightArrow">
            <a:avLst>
              <a:gd name="adj1" fmla="val 50000"/>
              <a:gd name="adj2" fmla="val 16694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sign Principles(2/26)</a:t>
            </a:r>
            <a:br>
              <a:rPr sz="2800"/>
            </a:br>
            <a:r>
              <a:rPr b="0" lang="en-US" sz="5400" spc="-1" strike="noStrike">
                <a:solidFill>
                  <a:srgbClr val="993300"/>
                </a:solidFill>
                <a:latin typeface="Tahoma"/>
              </a:rPr>
              <a:t>Our Approach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09618-5FD3-4DCA-8CD3-74745451B8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2066760"/>
            <a:ext cx="8245440" cy="43149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6280"/>
            <a:ext cx="762012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sign Principles(3/26)</a:t>
            </a:r>
            <a:r>
              <a:rPr b="0" lang="el-GR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The trust - centered approa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8E294-90FD-4CEF-BCC2-2F9B5BD6B7A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900000" y="2060640"/>
          <a:ext cx="7417080" cy="42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060640"/>
                    <a:ext cx="741708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81723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sign Principles(4/26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“Layers of Trust”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1B4F5-A979-4B66-B30F-377FC882CC7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5960" y="2133720"/>
            <a:ext cx="2361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e4a8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e4a8"/>
                </a:solidFill>
                <a:latin typeface="Arial"/>
              </a:rPr>
              <a:t>Scientific Soundness: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ypto-based justification of all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 cryptographically secure random number generators, homomorphic functions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362320" y="2174760"/>
          <a:ext cx="6553080" cy="40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174760"/>
                    <a:ext cx="6553080" cy="40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042920" y="3068640"/>
            <a:ext cx="2081160" cy="512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42560" y="333000"/>
            <a:ext cx="81010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sign Principles(5/26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“Layers of Trust”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54B91-5FAB-462E-8846-8811A6C8E06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956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sign Principles(6/26)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GB" sz="4000" spc="-1" strike="noStrike">
                <a:solidFill>
                  <a:srgbClr val="993300"/>
                </a:solidFill>
                <a:latin typeface="Tahoma"/>
              </a:rPr>
              <a:t>Cryptographic Primitiv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7848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 algn="just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One-way Function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 algn="just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Probabilistic Encryp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 algn="just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Digital Signatur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 algn="just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Secret Sharing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 algn="just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Threshold Encryp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 algn="just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Zero Knowledge Proof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 algn="just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Homomorphic Function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 algn="just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El Gamal Cryptosystem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5252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ACB54-3D71-4414-AF3C-1A11F9718ED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69516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sign Principles(7/26)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Arial"/>
                <a:ea typeface="Arial"/>
              </a:rPr>
              <a:t>One-Way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function </a:t>
            </a:r>
            <a:r>
              <a:rPr b="0" i="1" lang="en-US" sz="3200" spc="-1" strike="noStrike">
                <a:solidFill>
                  <a:srgbClr val="336699"/>
                </a:solidFill>
                <a:latin typeface="Tahoma"/>
              </a:rPr>
              <a:t>f: D</a:t>
            </a:r>
            <a:r>
              <a:rPr b="0" i="1" lang="en-US" sz="32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336699"/>
                </a:solidFill>
                <a:latin typeface="Tahoma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ne-wa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omputing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  <a:ea typeface="Arial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is “easy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omputing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6699"/>
                </a:solidFill>
                <a:latin typeface="Tahoma"/>
                <a:ea typeface="Arial"/>
              </a:rPr>
              <a:t>-1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  <a:ea typeface="Arial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for almost all the images is “har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.g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under the DL as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ime </a:t>
            </a:r>
            <a:r>
              <a:rPr b="0" i="1" lang="en-US" sz="2800" spc="-1" strike="noStrike">
                <a:solidFill>
                  <a:srgbClr val="336699"/>
                </a:solidFill>
                <a:latin typeface="Tahoma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a generator </a:t>
            </a:r>
            <a:r>
              <a:rPr b="0" i="1" lang="en-US" sz="2800" spc="-1" strike="noStrike">
                <a:solidFill>
                  <a:srgbClr val="336699"/>
                </a:solidFill>
                <a:latin typeface="Tahoma"/>
                <a:ea typeface="Arial"/>
              </a:rPr>
              <a:t>g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of </a:t>
            </a:r>
            <a:r>
              <a:rPr b="0" lang="en-US" sz="2200" spc="-1" strike="noStrike">
                <a:solidFill>
                  <a:srgbClr val="336699"/>
                </a:solidFill>
                <a:latin typeface="Tahoma"/>
                <a:ea typeface="Arial"/>
              </a:rPr>
              <a:t>Z</a:t>
            </a:r>
            <a:r>
              <a:rPr b="0" lang="en-US" sz="2200" spc="-1" strike="noStrike" baseline="-25000">
                <a:solidFill>
                  <a:srgbClr val="336699"/>
                </a:solidFill>
                <a:latin typeface="Tahoma"/>
                <a:ea typeface="Arial"/>
              </a:rPr>
              <a:t>p</a:t>
            </a:r>
            <a:r>
              <a:rPr b="0" lang="en-US" sz="2200" spc="-1" strike="noStrike">
                <a:solidFill>
                  <a:srgbClr val="336699"/>
                </a:solidFill>
                <a:latin typeface="Tahoma"/>
                <a:ea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  <a:ea typeface="Arial"/>
              </a:rPr>
              <a:t>f(x) = g</a:t>
            </a:r>
            <a:r>
              <a:rPr b="0" lang="en-US" sz="2800" spc="-1" strike="noStrike" baseline="30000">
                <a:solidFill>
                  <a:srgbClr val="336699"/>
                </a:solidFill>
                <a:latin typeface="Tahoma"/>
                <a:ea typeface="Arial"/>
              </a:rPr>
              <a:t>x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  <a:ea typeface="Arial"/>
              </a:rPr>
              <a:t> (mod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43E6A-B670-402C-84BE-E7E6759CD4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6000" y="907560"/>
            <a:ext cx="7648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sign Principles(8/26)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Probabilistic Encry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813600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spcAft>
                <a:spcPts val="15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babilistic encryption maps every M to many C randomly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901"/>
              </a:spcBef>
              <a:spcAft>
                <a:spcPts val="15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yptanalysists can’t tell whether C = 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M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DAE45-BA9C-443F-B28B-13DFC0A68A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703584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sign Principles(9/26)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Arial"/>
                <a:ea typeface="Arial"/>
              </a:rPr>
              <a:t>Digital Sign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8137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focus on electronic signatures that use public-key crypt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ased on R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 key genera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Same as in RSA encry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 sign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 algn="just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Arial"/>
              </a:rPr>
              <a:t>Same as decryption of </a:t>
            </a:r>
            <a:r>
              <a:rPr b="0" lang="en-US" sz="1700" spc="-1" strike="noStrike">
                <a:solidFill>
                  <a:srgbClr val="336699"/>
                </a:solidFill>
                <a:latin typeface="Tahoma"/>
                <a:ea typeface="Arial"/>
              </a:rPr>
              <a:t>M</a:t>
            </a:r>
            <a:r>
              <a:rPr b="0" lang="en-US" sz="17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6699"/>
                </a:solidFill>
                <a:latin typeface="Tahoma"/>
                <a:ea typeface="Arial"/>
              </a:rPr>
              <a:t>Z</a:t>
            </a:r>
            <a:r>
              <a:rPr b="0" lang="en-US" sz="1700" spc="-1" strike="noStrike" baseline="-25000">
                <a:solidFill>
                  <a:srgbClr val="336699"/>
                </a:solidFill>
                <a:latin typeface="Tahoma"/>
                <a:ea typeface="Arial"/>
              </a:rPr>
              <a:t>N</a:t>
            </a:r>
            <a:r>
              <a:rPr b="0" lang="en-US" sz="1700" spc="-1" strike="noStrike">
                <a:solidFill>
                  <a:srgbClr val="336699"/>
                </a:solidFill>
                <a:latin typeface="Tahoma"/>
                <a:ea typeface="Arial"/>
              </a:rPr>
              <a:t>*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Arial"/>
              </a:rPr>
              <a:t> by </a:t>
            </a:r>
            <a:r>
              <a:rPr b="0" lang="en-US" sz="1700" spc="-1" strike="noStrike">
                <a:solidFill>
                  <a:srgbClr val="336699"/>
                </a:solidFill>
                <a:latin typeface="Tahoma"/>
                <a:ea typeface="Arial"/>
              </a:rPr>
              <a:t>C=D(M)=M</a:t>
            </a:r>
            <a:r>
              <a:rPr b="0" lang="en-US" sz="2400" spc="-1" strike="noStrike" baseline="30000">
                <a:solidFill>
                  <a:srgbClr val="336699"/>
                </a:solidFill>
                <a:latin typeface="Tahoma"/>
                <a:ea typeface="Arial"/>
              </a:rPr>
              <a:t>d</a:t>
            </a:r>
            <a:r>
              <a:rPr b="0" lang="en-US" sz="1700" spc="-1" strike="noStrike">
                <a:solidFill>
                  <a:srgbClr val="336699"/>
                </a:solidFill>
                <a:latin typeface="Tahoma"/>
                <a:ea typeface="Arial"/>
              </a:rPr>
              <a:t> mod N</a:t>
            </a:r>
            <a:r>
              <a:rPr b="0" lang="en-US" sz="1700" spc="-1" strike="noStrike">
                <a:solidFill>
                  <a:srgbClr val="333399"/>
                </a:solidFill>
                <a:latin typeface="Tahoma"/>
                <a:ea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 verifica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 algn="just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Arial"/>
              </a:rPr>
              <a:t>Same as encryption of </a:t>
            </a:r>
            <a:r>
              <a:rPr b="0" lang="en-US" sz="1700" spc="-1" strike="noStrike">
                <a:solidFill>
                  <a:srgbClr val="336699"/>
                </a:solidFill>
                <a:latin typeface="Tahoma"/>
                <a:ea typeface="Arial"/>
              </a:rPr>
              <a:t>C</a:t>
            </a:r>
            <a:r>
              <a:rPr b="0" lang="en-US" sz="17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6699"/>
                </a:solidFill>
                <a:latin typeface="Tahoma"/>
                <a:ea typeface="Arial"/>
              </a:rPr>
              <a:t>Z</a:t>
            </a:r>
            <a:r>
              <a:rPr b="0" lang="en-US" sz="1700" spc="-1" strike="noStrike" baseline="-25000">
                <a:solidFill>
                  <a:srgbClr val="336699"/>
                </a:solidFill>
                <a:latin typeface="Tahoma"/>
                <a:ea typeface="Arial"/>
              </a:rPr>
              <a:t>N</a:t>
            </a:r>
            <a:r>
              <a:rPr b="0" lang="en-US" sz="1700" spc="-1" strike="noStrike">
                <a:solidFill>
                  <a:srgbClr val="336699"/>
                </a:solidFill>
                <a:latin typeface="Tahoma"/>
                <a:ea typeface="Arial"/>
              </a:rPr>
              <a:t>*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Arial"/>
              </a:rPr>
              <a:t> by </a:t>
            </a:r>
            <a:r>
              <a:rPr b="0" lang="en-US" sz="1700" spc="-1" strike="noStrike">
                <a:solidFill>
                  <a:srgbClr val="336699"/>
                </a:solidFill>
                <a:latin typeface="Tahoma"/>
                <a:ea typeface="Arial"/>
              </a:rPr>
              <a:t>M=E(C)=C</a:t>
            </a:r>
            <a:r>
              <a:rPr b="0" lang="en-US" sz="2400" spc="-1" strike="noStrike" baseline="30000">
                <a:solidFill>
                  <a:srgbClr val="336699"/>
                </a:solidFill>
                <a:latin typeface="Tahoma"/>
                <a:ea typeface="Arial"/>
              </a:rPr>
              <a:t>e</a:t>
            </a:r>
            <a:r>
              <a:rPr b="0" lang="en-US" sz="1700" spc="-1" strike="noStrike">
                <a:solidFill>
                  <a:srgbClr val="336699"/>
                </a:solidFill>
                <a:latin typeface="Tahoma"/>
                <a:ea typeface="Arial"/>
              </a:rPr>
              <a:t> mod N</a:t>
            </a:r>
            <a:r>
              <a:rPr b="0" lang="en-US" sz="1700" spc="-1" strike="noStrike">
                <a:solidFill>
                  <a:srgbClr val="333399"/>
                </a:solidFill>
                <a:latin typeface="Tahoma"/>
                <a:ea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 algn="just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Arial"/>
              </a:rPr>
              <a:t>Can be calculated and verified by anyon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of Blind Signature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535F7-5D4E-4AFD-A31C-DFF99C06FB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920" y="549360"/>
            <a:ext cx="63928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sign Principles(10/26)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Arial"/>
                <a:ea typeface="Arial"/>
              </a:rPr>
              <a:t>Secret Sha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072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the next problem - assuming that there are </a:t>
            </a:r>
            <a:r>
              <a:rPr b="0" i="1" lang="en-US" sz="3200" spc="-1" strike="noStrike">
                <a:solidFill>
                  <a:srgbClr val="336699"/>
                </a:solidFill>
                <a:latin typeface="Tahoma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yers, how can a dealer share a secret in a way that any group of </a:t>
            </a:r>
            <a:r>
              <a:rPr b="0" i="1" lang="en-US" sz="3200" spc="-1" strike="noStrike">
                <a:solidFill>
                  <a:srgbClr val="336699"/>
                </a:solidFill>
                <a:latin typeface="Tahoma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&lt; 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or more players could recreate the secret, but any group of less then </a:t>
            </a:r>
            <a:r>
              <a:rPr b="0" i="1" lang="en-US" sz="3200" spc="-1" strike="noStrike">
                <a:solidFill>
                  <a:srgbClr val="336699"/>
                </a:solidFill>
                <a:latin typeface="Tahoma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yers will not be able to do so. Such scheme is called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t,N) - threshold secret sharing sch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7303A-53E8-44D4-AB05-DE9686D689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69516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sign Principles(11/26)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400" spc="-1" strike="noStrike">
                <a:solidFill>
                  <a:srgbClr val="993300"/>
                </a:solidFill>
                <a:latin typeface="Arial"/>
                <a:ea typeface="Arial"/>
              </a:rPr>
              <a:t>Threshold Encry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28036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reshold encryption we have </a:t>
            </a:r>
            <a:r>
              <a:rPr b="0" i="1" lang="en-US" sz="3200" spc="-1" strike="noStrike">
                <a:solidFill>
                  <a:srgbClr val="336699"/>
                </a:solidFill>
                <a:latin typeface="Tahoma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orities, and we want to encrypt a message in a way that any </a:t>
            </a:r>
            <a:r>
              <a:rPr b="0" i="1" lang="en-US" sz="3200" spc="-1" strike="noStrike">
                <a:solidFill>
                  <a:srgbClr val="336699"/>
                </a:solidFill>
                <a:latin typeface="Tahoma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more authorities could decrypt it. Again, any group of less then </a:t>
            </a:r>
            <a:r>
              <a:rPr b="0" i="1" lang="en-US" sz="3200" spc="-1" strike="noStrike">
                <a:solidFill>
                  <a:srgbClr val="336699"/>
                </a:solidFill>
                <a:latin typeface="Tahoma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orities will not be able to do 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trusted dea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utions are similar to Shamir’s sch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D3588-7A9B-47EF-8D4B-36CB561BCE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0" y="335736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400800"/>
            <a:ext cx="33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regenz, August 6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DE1C-83BA-469C-93AE-DEA312310DAF}" type="slidenum">
              <a:rPr b="0" lang="el-G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236000" y="6381720"/>
            <a:ext cx="468000" cy="476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084720" y="6381720"/>
            <a:ext cx="936720" cy="476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780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4005360"/>
            <a:ext cx="756144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yka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was the meeting place of the world's first ever democratic legislature, the Atheni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kklesia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(assembly), and the flat stone platform i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ma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, the "stepping stone" or speakers' platform.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It is located less than one kilometre wes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ropolis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and 1.6km south-west of the centre of modern Athe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340000" y="476280"/>
            <a:ext cx="468000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1820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sign Principles(12/26)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Arial"/>
                <a:ea typeface="Arial"/>
              </a:rPr>
              <a:t>Zero-knowledge Proo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1360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 protocols between two players, Prover and Verifier, in which the prover proves to the verifier, with high probability, that some statement is tr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not leak any information besides the veracity of this stat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case of honest verifier ZKP, we can modify the protocol to non-intera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B4988-DE0A-4F1A-BBA3-277A19D242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9567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2095"/>
                </a:solidFill>
                <a:latin typeface="Tahoma"/>
              </a:rPr>
              <a:t>Design Principles(13/26)</a:t>
            </a:r>
            <a:r>
              <a:rPr b="0" lang="en-GB" sz="4400" spc="-1" strike="noStrike">
                <a:solidFill>
                  <a:srgbClr val="052095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400" spc="-1" strike="noStrike">
                <a:solidFill>
                  <a:srgbClr val="993300"/>
                </a:solidFill>
                <a:latin typeface="Arial"/>
                <a:ea typeface="Arial"/>
              </a:rPr>
              <a:t>ZKP Example: Equality of loga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280" y="2233080"/>
            <a:ext cx="82710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800" spc="-1" strike="noStrike">
                <a:solidFill>
                  <a:srgbClr val="336699"/>
                </a:solidFill>
                <a:latin typeface="Tahoma"/>
              </a:rPr>
              <a:t>g</a:t>
            </a:r>
            <a:r>
              <a:rPr b="0" i="1" lang="en-US" sz="2800" spc="-1" strike="noStrike" baseline="-25000">
                <a:solidFill>
                  <a:srgbClr val="336699"/>
                </a:solidFill>
                <a:latin typeface="Tahoma"/>
              </a:rPr>
              <a:t>1</a:t>
            </a:r>
            <a:r>
              <a:rPr b="0" i="1" lang="en-US" sz="2800" spc="-1" strike="noStrike">
                <a:solidFill>
                  <a:srgbClr val="336699"/>
                </a:solidFill>
                <a:latin typeface="Tahoma"/>
              </a:rPr>
              <a:t>, g</a:t>
            </a:r>
            <a:r>
              <a:rPr b="0" i="1" lang="en-US" sz="2800" spc="-1" strike="noStrike" baseline="-25000">
                <a:solidFill>
                  <a:srgbClr val="336699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ors of 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Z</a:t>
            </a:r>
            <a:r>
              <a:rPr b="0" lang="en-US" sz="2400" spc="-1" strike="noStrike" baseline="-25000">
                <a:solidFill>
                  <a:srgbClr val="336699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over claims that </a:t>
            </a:r>
            <a:r>
              <a:rPr b="0" i="1" lang="en-US" sz="2800" spc="-1" strike="noStrike">
                <a:solidFill>
                  <a:srgbClr val="336699"/>
                </a:solidFill>
                <a:latin typeface="Tahoma"/>
              </a:rPr>
              <a:t>log</a:t>
            </a:r>
            <a:r>
              <a:rPr b="0" i="1" lang="en-US" sz="2800" spc="-1" strike="noStrike" baseline="-25000">
                <a:solidFill>
                  <a:srgbClr val="336699"/>
                </a:solidFill>
                <a:latin typeface="Tahoma"/>
              </a:rPr>
              <a:t>g1</a:t>
            </a:r>
            <a:r>
              <a:rPr b="0" i="1" lang="en-US" sz="2800" spc="-1" strike="noStrike">
                <a:solidFill>
                  <a:srgbClr val="336699"/>
                </a:solidFill>
                <a:latin typeface="Tahoma"/>
              </a:rPr>
              <a:t>v = log</a:t>
            </a:r>
            <a:r>
              <a:rPr b="0" i="1" lang="en-US" sz="2800" spc="-1" strike="noStrike" baseline="-25000">
                <a:solidFill>
                  <a:srgbClr val="336699"/>
                </a:solidFill>
                <a:latin typeface="Tahoma"/>
              </a:rPr>
              <a:t>g2</a:t>
            </a:r>
            <a:r>
              <a:rPr b="0" i="1" lang="en-US" sz="2800" spc="-1" strike="noStrike">
                <a:solidFill>
                  <a:srgbClr val="336699"/>
                </a:solidFill>
                <a:latin typeface="Tahoma"/>
              </a:rPr>
              <a:t>w (=x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ublicly known </a:t>
            </a:r>
            <a:r>
              <a:rPr b="0" i="1" lang="en-US" sz="2800" spc="-1" strike="noStrike">
                <a:solidFill>
                  <a:srgbClr val="336699"/>
                </a:solidFill>
                <a:latin typeface="Tahoma"/>
              </a:rPr>
              <a:t>v, w, g</a:t>
            </a:r>
            <a:r>
              <a:rPr b="0" i="1" lang="en-US" sz="2800" spc="-1" strike="noStrike" baseline="-25000">
                <a:solidFill>
                  <a:srgbClr val="336699"/>
                </a:solidFill>
                <a:latin typeface="Tahoma"/>
              </a:rPr>
              <a:t>1</a:t>
            </a:r>
            <a:r>
              <a:rPr b="0" i="1" lang="en-US" sz="2800" spc="-1" strike="noStrike">
                <a:solidFill>
                  <a:srgbClr val="336699"/>
                </a:solidFill>
                <a:latin typeface="Tahoma"/>
              </a:rPr>
              <a:t>, g</a:t>
            </a:r>
            <a:r>
              <a:rPr b="0" i="1" lang="en-US" sz="2800" spc="-1" strike="noStrike" baseline="-25000">
                <a:solidFill>
                  <a:srgbClr val="336699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Arial"/>
              </a:rPr>
              <a:t>P chooses 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336699"/>
                </a:solidFill>
                <a:latin typeface="Tahoma"/>
                <a:ea typeface="Arial"/>
              </a:rPr>
              <a:t>z </a:t>
            </a:r>
            <a:r>
              <a:rPr b="0" i="1" lang="en-US" sz="22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336699"/>
                </a:solidFill>
                <a:latin typeface="Tahoma"/>
                <a:ea typeface="Arial"/>
              </a:rPr>
              <a:t> [1..q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Arial"/>
              </a:rPr>
              <a:t> and sends </a:t>
            </a:r>
            <a:r>
              <a:rPr b="0" i="1" lang="en-US" sz="2200" spc="-1" strike="noStrike">
                <a:solidFill>
                  <a:srgbClr val="336699"/>
                </a:solidFill>
                <a:latin typeface="Tahoma"/>
                <a:ea typeface="Arial"/>
              </a:rPr>
              <a:t>a=g</a:t>
            </a:r>
            <a:r>
              <a:rPr b="0" i="1" lang="en-US" sz="2200" spc="-1" strike="noStrike" baseline="-25000">
                <a:solidFill>
                  <a:srgbClr val="336699"/>
                </a:solidFill>
                <a:latin typeface="Tahoma"/>
                <a:ea typeface="Arial"/>
              </a:rPr>
              <a:t>1</a:t>
            </a:r>
            <a:r>
              <a:rPr b="0" i="1" lang="en-US" sz="2200" spc="-1" strike="noStrike" baseline="30000">
                <a:solidFill>
                  <a:srgbClr val="336699"/>
                </a:solidFill>
                <a:latin typeface="Tahoma"/>
                <a:ea typeface="Arial"/>
              </a:rPr>
              <a:t>z</a:t>
            </a:r>
            <a:r>
              <a:rPr b="0" lang="en-US" sz="2200" spc="-1" strike="noStrike">
                <a:solidFill>
                  <a:srgbClr val="336699"/>
                </a:solidFill>
                <a:latin typeface="Tahoma"/>
                <a:ea typeface="Arial"/>
              </a:rPr>
              <a:t>, </a:t>
            </a:r>
            <a:r>
              <a:rPr b="0" i="1" lang="en-US" sz="2200" spc="-1" strike="noStrike">
                <a:solidFill>
                  <a:srgbClr val="336699"/>
                </a:solidFill>
                <a:latin typeface="Tahoma"/>
                <a:ea typeface="Arial"/>
              </a:rPr>
              <a:t>b=g</a:t>
            </a:r>
            <a:r>
              <a:rPr b="0" i="1" lang="en-US" sz="2200" spc="-1" strike="noStrike" baseline="-25000">
                <a:solidFill>
                  <a:srgbClr val="336699"/>
                </a:solidFill>
                <a:latin typeface="Tahoma"/>
                <a:ea typeface="Arial"/>
              </a:rPr>
              <a:t>2</a:t>
            </a:r>
            <a:r>
              <a:rPr b="0" i="1" lang="en-US" sz="2200" spc="-1" strike="noStrike" baseline="30000">
                <a:solidFill>
                  <a:srgbClr val="336699"/>
                </a:solidFill>
                <a:latin typeface="Tahoma"/>
                <a:ea typeface="Arial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Arial"/>
              </a:rPr>
              <a:t>V selects random </a:t>
            </a:r>
            <a:r>
              <a:rPr b="0" i="1" lang="en-US" sz="2200" spc="-1" strike="noStrike">
                <a:solidFill>
                  <a:srgbClr val="336699"/>
                </a:solidFill>
                <a:latin typeface="Tahoma"/>
                <a:ea typeface="Arial"/>
              </a:rPr>
              <a:t>c </a:t>
            </a:r>
            <a:r>
              <a:rPr b="0" i="1" lang="en-US" sz="22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336699"/>
                </a:solidFill>
                <a:latin typeface="Tahoma"/>
                <a:ea typeface="Arial"/>
              </a:rPr>
              <a:t> [1..q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Arial"/>
              </a:rPr>
              <a:t> and send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Arial"/>
              </a:rPr>
              <a:t>P sends </a:t>
            </a:r>
            <a:r>
              <a:rPr b="0" i="1" lang="en-US" sz="2200" spc="-1" strike="noStrike">
                <a:solidFill>
                  <a:srgbClr val="336699"/>
                </a:solidFill>
                <a:latin typeface="Tahoma"/>
                <a:ea typeface="Arial"/>
              </a:rPr>
              <a:t>r = (z+cx)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Arial"/>
              </a:rPr>
              <a:t>V verifies that </a:t>
            </a:r>
            <a:r>
              <a:rPr b="0" i="1" lang="en-US" sz="2200" spc="-1" strike="noStrike">
                <a:solidFill>
                  <a:srgbClr val="336699"/>
                </a:solidFill>
                <a:latin typeface="Tahoma"/>
                <a:ea typeface="Arial"/>
              </a:rPr>
              <a:t>g</a:t>
            </a:r>
            <a:r>
              <a:rPr b="0" i="1" lang="en-US" sz="2200" spc="-1" strike="noStrike" baseline="-25000">
                <a:solidFill>
                  <a:srgbClr val="336699"/>
                </a:solidFill>
                <a:latin typeface="Tahoma"/>
                <a:ea typeface="Arial"/>
              </a:rPr>
              <a:t>1</a:t>
            </a:r>
            <a:r>
              <a:rPr b="0" i="1" lang="en-US" sz="2200" spc="-1" strike="noStrike" baseline="30000">
                <a:solidFill>
                  <a:srgbClr val="336699"/>
                </a:solidFill>
                <a:latin typeface="Tahoma"/>
                <a:ea typeface="Arial"/>
              </a:rPr>
              <a:t>r</a:t>
            </a:r>
            <a:r>
              <a:rPr b="0" i="1" lang="en-US" sz="2200" spc="-1" strike="noStrike">
                <a:solidFill>
                  <a:srgbClr val="336699"/>
                </a:solidFill>
                <a:latin typeface="Tahoma"/>
                <a:ea typeface="Arial"/>
              </a:rPr>
              <a:t>=av</a:t>
            </a:r>
            <a:r>
              <a:rPr b="0" i="1" lang="en-US" sz="2200" spc="-1" strike="noStrike" baseline="30000">
                <a:solidFill>
                  <a:srgbClr val="336699"/>
                </a:solidFill>
                <a:latin typeface="Tahoma"/>
                <a:ea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Arial"/>
              </a:rPr>
              <a:t> and </a:t>
            </a:r>
            <a:r>
              <a:rPr b="0" i="1" lang="en-US" sz="2200" spc="-1" strike="noStrike">
                <a:solidFill>
                  <a:srgbClr val="336699"/>
                </a:solidFill>
                <a:latin typeface="Tahoma"/>
                <a:ea typeface="Arial"/>
              </a:rPr>
              <a:t>g</a:t>
            </a:r>
            <a:r>
              <a:rPr b="0" i="1" lang="en-US" sz="2200" spc="-1" strike="noStrike" baseline="-25000">
                <a:solidFill>
                  <a:srgbClr val="336699"/>
                </a:solidFill>
                <a:latin typeface="Tahoma"/>
                <a:ea typeface="Arial"/>
              </a:rPr>
              <a:t>2</a:t>
            </a:r>
            <a:r>
              <a:rPr b="0" i="1" lang="en-US" sz="2200" spc="-1" strike="noStrike" baseline="30000">
                <a:solidFill>
                  <a:srgbClr val="336699"/>
                </a:solidFill>
                <a:latin typeface="Tahoma"/>
                <a:ea typeface="Arial"/>
              </a:rPr>
              <a:t>r</a:t>
            </a:r>
            <a:r>
              <a:rPr b="0" i="1" lang="en-US" sz="2200" spc="-1" strike="noStrike">
                <a:solidFill>
                  <a:srgbClr val="336699"/>
                </a:solidFill>
                <a:latin typeface="Tahoma"/>
                <a:ea typeface="Arial"/>
              </a:rPr>
              <a:t>=bw</a:t>
            </a:r>
            <a:r>
              <a:rPr b="0" i="1" lang="en-US" sz="2200" spc="-1" strike="noStrike" baseline="30000">
                <a:solidFill>
                  <a:srgbClr val="336699"/>
                </a:solidFill>
                <a:latin typeface="Tahoma"/>
                <a:ea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turned into non-interac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99"/>
                </a:solidFill>
                <a:latin typeface="Tahoma"/>
                <a:ea typeface="Arial"/>
              </a:rPr>
              <a:t>C = Hash(a,b,v,w)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DDE5A-D02B-495B-AB4F-E2AB5528B5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2095"/>
                </a:solidFill>
                <a:latin typeface="Tahoma"/>
              </a:rPr>
              <a:t>Design Principles(14/26)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Homomorphic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916280"/>
            <a:ext cx="4103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A mechanism for destroying the relationship between voter and his vote – based on homomorphic functions (i.e. El Gamal encryption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Based on the computational difficulty in inverting these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Votes are never decrypted by they are added, homomorphically, in their encrypted form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vote outcome is in encrypted form too and needs to be decrypted (this is not hard since the number of voters is usually small and a brute force inversion suffices – also use of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lard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, Baby-step-giant-step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72000" y="2421000"/>
                <a:ext cx="43941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∘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∘</m:t>
                    </m:r>
                    <m:r>
                      <m:t xml:space="preserve">…</m:t>
                    </m:r>
                    <m:r>
                      <m:t xml:space="preserve">∘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∘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∘</m:t>
                    </m:r>
                    <m:r>
                      <m:t xml:space="preserve">…</m:t>
                    </m:r>
                    <m:r>
                      <m:t xml:space="preserve">∘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4572000" y="3284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parallelization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716360" y="3645000"/>
            <a:ext cx="4427640" cy="28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2B0FD-B3D8-4926-82F1-F3632CAA5F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34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2095"/>
                </a:solidFill>
                <a:latin typeface="Tahoma"/>
              </a:rPr>
              <a:t>Design Principles(15/26)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993300"/>
                </a:solidFill>
                <a:latin typeface="Tahoma"/>
              </a:rPr>
              <a:t>El Gamal Cryptosyst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13600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 algn="just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robabilistic, homomorphic public-key encryption scheme over a multiplicative group of prime orde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 key generation algorithm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176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oose two large primes q’ and q such that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 | q’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.e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’ = qk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som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We also fix a generator g’ of F*q’.  The cyclic group G we work with is the one generated b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 = (g’)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has or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q’-1)/k = 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76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vate ke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 ke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 = g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1778E-B79B-4119-A4A5-54ABD8D840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6320" y="2133720"/>
            <a:ext cx="2361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e4a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e4a8"/>
                </a:solidFill>
                <a:latin typeface="Arial"/>
              </a:rPr>
              <a:t>Implementation Soundnes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l methodology for the verification of the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214200"/>
            <a:ext cx="82803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sign Principles(16/26)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“Layers of Trust”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362320" y="2174760"/>
            <a:ext cx="6553080" cy="40737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066680" y="2819520"/>
            <a:ext cx="2497320" cy="3222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48763-D882-4801-8F5F-2607FED4AF9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11280" y="1628640"/>
            <a:ext cx="8137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0360" indent="-36036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just"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just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1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584680"/>
            <a:ext cx="184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2133720"/>
            <a:ext cx="431964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ology for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ris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ustomised language f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threat and risk model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UML based) + extended documentation (diagrams,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detail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guidelin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each ste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oses different tools and techniques for each ste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tool to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t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s and document resul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l-GR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</a:t>
            </a:r>
            <a:r>
              <a:rPr b="0" lang="el-GR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//</a:t>
            </a:r>
            <a:r>
              <a:rPr b="0" lang="el-GR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coras.sourceforge.net</a:t>
            </a:r>
            <a:r>
              <a:rPr b="0" lang="el-GR" sz="2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219640" y="2060640"/>
          <a:ext cx="3492720" cy="417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19640" y="2060640"/>
                    <a:ext cx="34927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sign Principles (17/26)</a:t>
            </a:r>
            <a:br>
              <a:rPr sz="2800"/>
            </a:br>
            <a:r>
              <a:rPr b="0" lang="en-US" sz="3600" spc="-1" strike="noStrike">
                <a:solidFill>
                  <a:srgbClr val="993300"/>
                </a:solidFill>
                <a:latin typeface="Tahoma"/>
              </a:rPr>
              <a:t>Risk Analysis and Management – </a:t>
            </a:r>
            <a:br>
              <a:rPr sz="3600"/>
            </a:br>
            <a:r>
              <a:rPr b="0" lang="en-US" sz="3600" spc="-1" strike="noStrike">
                <a:solidFill>
                  <a:srgbClr val="993300"/>
                </a:solidFill>
                <a:latin typeface="Tahoma"/>
              </a:rPr>
              <a:t>The Coras Methodolog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BA589-1FE0-4B0D-9311-96464ED824E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11280" y="1628640"/>
            <a:ext cx="8137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0360" indent="-36036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just"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just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1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5584680"/>
            <a:ext cx="184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79640" y="5950080"/>
            <a:ext cx="46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of Time Sequence Diagram (Decryption and Calculation of Resul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597720" cy="40323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sign Principles (18/26)</a:t>
            </a:r>
            <a:br>
              <a:rPr sz="2800"/>
            </a:br>
            <a:r>
              <a:rPr b="0" lang="en-US" sz="3600" spc="-1" strike="noStrike">
                <a:solidFill>
                  <a:srgbClr val="993300"/>
                </a:solidFill>
                <a:latin typeface="Tahoma"/>
              </a:rPr>
              <a:t>Risk Analysis and Management – Step 1: Context Identific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8BD89-98CE-492F-ADB7-5F78974F017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11280" y="1628640"/>
            <a:ext cx="8137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0360" indent="-36036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just"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just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1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584680"/>
            <a:ext cx="184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68360" y="609300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ult Tree Diagram (ITEM Toolkit S/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437240" cy="42483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7216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sign Principles (19/26)</a:t>
            </a:r>
            <a:br>
              <a:rPr sz="2800"/>
            </a:br>
            <a:r>
              <a:rPr b="0" lang="en-US" sz="4000" spc="-1" strike="noStrike">
                <a:solidFill>
                  <a:srgbClr val="993300"/>
                </a:solidFill>
                <a:latin typeface="Tahoma"/>
              </a:rPr>
              <a:t>Risk Analysis and Management – Step 2: Risk Identific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83A00-ADB9-42E1-80DD-AA613466A7F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11280" y="1628640"/>
            <a:ext cx="8137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0360" indent="-36036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just"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just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1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5584680"/>
            <a:ext cx="184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191556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ative assessment of Consequences using FM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24000" y="2421000"/>
          <a:ext cx="8569080" cy="3890880"/>
        </p:xfrm>
        <a:graphic>
          <a:graphicData uri="http://schemas.openxmlformats.org/drawingml/2006/table">
            <a:tbl>
              <a:tblPr/>
              <a:tblGrid>
                <a:gridCol w="536400"/>
                <a:gridCol w="1382760"/>
                <a:gridCol w="1536840"/>
                <a:gridCol w="1079280"/>
                <a:gridCol w="1297080"/>
                <a:gridCol w="1440000"/>
                <a:gridCol w="129672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ction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ilure 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f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equ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stem w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4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teElGamalParameters (siz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z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 is not available in system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ig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public parameters may not be crea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stem initialization is not pos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ig file is not properly updated by system administrato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ess to config file/database is not pos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ting process may not 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sh(elGamalParamete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letin Board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not updated with the public para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yholders may not produce ke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stem initialization is not pos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nection to database is not pos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ting process may not 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7216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sign Principles (20/26)</a:t>
            </a:r>
            <a:br>
              <a:rPr sz="2800"/>
            </a:br>
            <a:r>
              <a:rPr b="0" lang="en-US" sz="4000" spc="-1" strike="noStrike">
                <a:solidFill>
                  <a:srgbClr val="993300"/>
                </a:solidFill>
                <a:latin typeface="Tahoma"/>
              </a:rPr>
              <a:t>Risk Analysis and Management – Step 3: Risk Analysi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8AD06-764E-46D5-AABC-B178AE2E8A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6320" y="2133720"/>
            <a:ext cx="2361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e4a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e4a8"/>
                </a:solidFill>
                <a:latin typeface="Arial"/>
              </a:rPr>
              <a:t>Internal Operational Soundnes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availability and fault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elf-auditing, self-checking, self-recovery from malfunctio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362320" y="2174760"/>
          <a:ext cx="6553080" cy="40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174760"/>
                    <a:ext cx="6553080" cy="40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905120" y="2666880"/>
            <a:ext cx="1600200" cy="228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2440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sign Principles (21/26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“Layers of Trust”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E5A6E-2744-41D8-9478-54DD08453AF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sentation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6280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ting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15484-9F6C-4E22-A798-072C20D677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68360" y="1728720"/>
            <a:ext cx="82803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44600" indent="-444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most important issues in an eVoting application is the ability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f-check its internal op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ive warn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nee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check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duces human interven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creases the responsi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ystem in case of a non-normal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checking approaches include: Intrusion Detection Systems, hardware-based software bootloaders for secure start-up (embedded syste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7721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sign Principles (22/26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Internal Operation Sound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A9B5A-58EC-4A0F-B2AE-18691A9D7A0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6320" y="2133720"/>
            <a:ext cx="2361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e4a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e4a8"/>
                </a:solidFill>
                <a:latin typeface="Arial"/>
              </a:rPr>
              <a:t>Externally Visible Operational Soundnes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ssible for someone to interfere with the system from the out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quickly detectab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362320" y="2174760"/>
          <a:ext cx="6553080" cy="40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174760"/>
                    <a:ext cx="6553080" cy="40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 flipV="1">
            <a:off x="1908000" y="2636640"/>
            <a:ext cx="1371600" cy="75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213840"/>
            <a:ext cx="775656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sign Principles (23/26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“Layers of Trust”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B496A-7AE2-4B57-B8A4-E4EBE67BD4B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68360" y="2133720"/>
            <a:ext cx="8280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should be possible to detect erratic behavior or ascertain that everything is as expect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Detect some frequently eVoting system failures and attacks as fast as possi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333360"/>
            <a:ext cx="7993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sign Principles (24/26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Externally Visible Operational Sound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908000" y="4221000"/>
            <a:ext cx="5328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sible failures and attack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ilure of a random number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database da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ging v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gus” voting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BB42A-C6CD-4105-A30D-D5ED4E7793E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6320" y="2133720"/>
            <a:ext cx="2361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e4a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e4a8"/>
                </a:solidFill>
                <a:latin typeface="Arial"/>
              </a:rPr>
              <a:t>Convincing the Public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ucial for the success of the eVoting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etails available to the public, organize campaigns etc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362320" y="2174760"/>
          <a:ext cx="6553080" cy="40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174760"/>
                    <a:ext cx="6553080" cy="40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 flipV="1">
            <a:off x="1979640" y="2420640"/>
            <a:ext cx="1871640" cy="228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213840"/>
            <a:ext cx="802800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sign Principles (25/26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“Layers of Trust”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006EE-CD33-410F-81B8-9A4B6D3612E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sign Principles (26/26)</a:t>
            </a:r>
            <a:br>
              <a:rPr sz="2800"/>
            </a:br>
            <a:r>
              <a:rPr b="0" lang="en-US" sz="4800" spc="-1" strike="noStrike">
                <a:solidFill>
                  <a:srgbClr val="993300"/>
                </a:solidFill>
                <a:latin typeface="Tahoma"/>
              </a:rPr>
              <a:t>Convincing the public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000" y="3213000"/>
            <a:ext cx="3600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ing awarenes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 evaluation and accreditation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pendence of evaluator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 challen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32360" y="3217680"/>
            <a:ext cx="3672000" cy="36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ve logging and auditing of system activitie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gency planning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tion and law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utation and past experience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2205000"/>
            <a:ext cx="849600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0000"/>
                </a:solidFill>
                <a:latin typeface="Tahoma"/>
              </a:rPr>
              <a:t>Reassure the public that all measures have been taken in order to produce an error-free, secure and useful applic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8BB0C-AAD2-48DF-8908-D8EF0F5A6C5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sentation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32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32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320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Voting Protoc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44600" indent="-432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32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32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32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8E839-9101-4CC1-A82A-76E16EAEEAB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79280" y="2133720"/>
            <a:ext cx="859644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0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82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Voting Protocol (1/9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The core steps of the protocol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(W. Smith, 200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24000" y="2060640"/>
          <a:ext cx="842328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060640"/>
                    <a:ext cx="842328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 txBox="1"/>
          <p:nvPr/>
        </p:nvSpPr>
        <p:spPr>
          <a:xfrm>
            <a:off x="2987640" y="5300640"/>
            <a:ext cx="3024360" cy="52380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Secrecy: Steps 1 and 3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8360" y="5877000"/>
            <a:ext cx="8280360" cy="50328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Fairness, Robustness: Mutually distrusting keyholders (Step 1)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6CC35-B9E6-4572-A30C-CADB45B05B8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52280" y="2160720"/>
            <a:ext cx="859644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24000" y="2349360"/>
          <a:ext cx="8351640" cy="24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349360"/>
                    <a:ext cx="8351640" cy="24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 txBox="1"/>
          <p:nvPr/>
        </p:nvSpPr>
        <p:spPr>
          <a:xfrm>
            <a:off x="1908000" y="5300640"/>
            <a:ext cx="5472360" cy="50328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Uncoercibility, no vote selling: Step 5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6485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Voting Protocol (2/9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The core steps of the protocol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(W. Smith, 200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3C711-8AD0-45B8-8733-315F8E7B798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-108000" y="2205000"/>
          <a:ext cx="8756640" cy="306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000" y="2205000"/>
                    <a:ext cx="8756640" cy="30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 txBox="1"/>
          <p:nvPr/>
        </p:nvSpPr>
        <p:spPr>
          <a:xfrm>
            <a:off x="1619280" y="5589720"/>
            <a:ext cx="6048360" cy="50328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Receipt freeness, atomic verif.: Step 6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Voting Protocol (3/9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The core steps of the protocol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(W. Smith, 200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51144-044F-4C90-8F0D-5E292A4CBED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0" y="2133720"/>
          <a:ext cx="8604360" cy="33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86043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 txBox="1"/>
          <p:nvPr/>
        </p:nvSpPr>
        <p:spPr>
          <a:xfrm>
            <a:off x="1547640" y="5805360"/>
            <a:ext cx="6310440" cy="50328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Receipt freeness, atomic verif.: Step 8, Step 9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Voting Protocol (4/9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The core steps of the protocol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(W. Smith, 200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F3079-CCD5-4332-9B8E-AB5EFF1AD95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136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88920" indent="-453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mocr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88920" indent="-453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88920" indent="-453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cre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88920" indent="-453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ceipt Fre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88920" indent="-453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ncoerc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88920" indent="-453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88920" indent="-453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omic &amp; Universal Verifiabil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88920" indent="-453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115640" y="549360"/>
            <a:ext cx="74595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5499"/>
              </a:spcBef>
              <a:spcAft>
                <a:spcPts val="2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view (1/4)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400"/>
            </a:br>
            <a:r>
              <a:rPr b="0" lang="en-GB" sz="4400" spc="-1" strike="noStrike">
                <a:solidFill>
                  <a:srgbClr val="993300"/>
                </a:solidFill>
                <a:latin typeface="Tahoma"/>
              </a:rPr>
              <a:t>Voting requir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AF898-44DB-47C2-8E5F-8997F1BEDF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324000" y="2060640"/>
          <a:ext cx="8280360" cy="38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060640"/>
                    <a:ext cx="828036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 txBox="1"/>
          <p:nvPr/>
        </p:nvSpPr>
        <p:spPr>
          <a:xfrm>
            <a:off x="2340000" y="4724280"/>
            <a:ext cx="4608360" cy="43200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Atomic verif.: Step 12, Step 13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692360" y="5300640"/>
            <a:ext cx="5761080" cy="100800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Uncoercibility, no vote selling: Step 14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Democracy: Timestapping (Step 12)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645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Voting Protocol (5/9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The core steps of the protocol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(W. Smith, 200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CAE5D-1E4B-4540-94EC-2D4131FCB06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250920" y="2349360"/>
          <a:ext cx="8424720" cy="266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349360"/>
                    <a:ext cx="842472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 txBox="1"/>
          <p:nvPr/>
        </p:nvSpPr>
        <p:spPr>
          <a:xfrm>
            <a:off x="2268360" y="5157720"/>
            <a:ext cx="4896000" cy="43200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Atomic-Universal verif.: Step 15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645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Voting Protocol (6/9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The core steps of the protocol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(W. Smith, 200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38BF0-5530-440D-A7DD-66221097B9E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11280" y="436572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36520" y="2205000"/>
          <a:ext cx="8439120" cy="319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520" y="2205000"/>
                    <a:ext cx="8439120" cy="31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 txBox="1"/>
          <p:nvPr/>
        </p:nvSpPr>
        <p:spPr>
          <a:xfrm>
            <a:off x="2050920" y="5734080"/>
            <a:ext cx="5185080" cy="43164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Atomic-Universal verif.: Step 17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Voting Protocol (7/9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The core steps of the protocol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(W. Smith, 200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037B1-086E-45B9-A0F1-3BDC5DDDBBC0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81723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oting Protocol (8/9)</a:t>
            </a:r>
            <a:br>
              <a:rPr sz="3200"/>
            </a:br>
            <a:r>
              <a:rPr b="0" lang="en-US" sz="4000" spc="-1" strike="noStrike">
                <a:solidFill>
                  <a:srgbClr val="993300"/>
                </a:solidFill>
                <a:latin typeface="Tahoma"/>
              </a:rPr>
              <a:t>What the protocol does not suppor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35344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ange-vo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rite-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tes are not supported – supports 0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/1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ve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, 1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visible absten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not directly supported – anybody can see if a voter has voted by looking at the bulleting board (possible solution: introduce a “dummy” candida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tocol does not examine whether the voter is entitled to vote or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mployment of a single EA creat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ngle-point-of-fail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llowing the possibility for DoS or EA corruption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21A37-D38E-46EC-9E91-682C3ED603B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oting Protocol (9/9)</a:t>
            </a:r>
            <a:br>
              <a:rPr sz="32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Extensions of th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Local EAs and Central EA for robustness, efficiency (for large-scale elections) and cross-checking of voting results – avoidance of a single-point-of-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ecognition of legal voters through a PKI supported election catalogue (only legal voters can vote and if a voter is legal, the voter is not prevented from voting – amplifies the support of the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Democrac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airnes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incipl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te timestamping with the use of Network Time Protocol (NT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-oriented defenses, for instance, high-availability or intrusion detection (these also amplify the support of the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Democrac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airnes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inciples on a systemic, rather than on a protocol leve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282E4-632A-4A89-A8BD-FBFCAFA6C29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sentation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ting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System Archite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BFCE8-19A5-4B57-A161-65CA24DBD90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551664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539280" y="2060640"/>
            <a:ext cx="374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Central Election Autho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Local Election Author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ion Authorities communicate over VP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ters vote to Local EAs, through HTT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whole process is monitored by external Verifi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xternal Parties who may want to (illegally) influence the voting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571640" y="1916280"/>
            <a:ext cx="4392720" cy="4033440"/>
            <a:chOff x="4571640" y="1916280"/>
            <a:chExt cx="4392720" cy="4033440"/>
          </a:xfrm>
        </p:grpSpPr>
        <p:sp>
          <p:nvSpPr>
            <p:cNvPr id="279" name=""/>
            <p:cNvSpPr/>
            <p:nvPr/>
          </p:nvSpPr>
          <p:spPr>
            <a:xfrm>
              <a:off x="4571640" y="19162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82800" y="1946160"/>
              <a:ext cx="4381560" cy="400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82800" y="1946160"/>
              <a:ext cx="4381560" cy="40035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98760" y="3451680"/>
              <a:ext cx="853560" cy="70812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898760" y="3451680"/>
              <a:ext cx="853560" cy="70812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75160" y="3715200"/>
              <a:ext cx="32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800" spc="-1" strike="noStrike">
                  <a:solidFill>
                    <a:srgbClr val="000000"/>
                  </a:solidFill>
                  <a:latin typeface="Arial"/>
                </a:rPr>
                <a:t>Centr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36240" y="3715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504640" y="3715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8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45400" y="2568600"/>
              <a:ext cx="744120" cy="655200"/>
            </a:xfrm>
            <a:custGeom>
              <a:avLst/>
              <a:gdLst/>
              <a:ahLst/>
              <a:rect l="l" t="t" r="r" b="b"/>
              <a:pathLst>
                <a:path w="477" h="321">
                  <a:moveTo>
                    <a:pt x="43" y="138"/>
                  </a:moveTo>
                  <a:lnTo>
                    <a:pt x="4" y="151"/>
                  </a:lnTo>
                  <a:lnTo>
                    <a:pt x="50" y="169"/>
                  </a:lnTo>
                  <a:lnTo>
                    <a:pt x="13" y="208"/>
                  </a:lnTo>
                  <a:lnTo>
                    <a:pt x="62" y="226"/>
                  </a:lnTo>
                  <a:lnTo>
                    <a:pt x="34" y="264"/>
                  </a:lnTo>
                  <a:lnTo>
                    <a:pt x="97" y="271"/>
                  </a:lnTo>
                  <a:lnTo>
                    <a:pt x="107" y="314"/>
                  </a:lnTo>
                  <a:lnTo>
                    <a:pt x="161" y="298"/>
                  </a:lnTo>
                  <a:lnTo>
                    <a:pt x="201" y="321"/>
                  </a:lnTo>
                  <a:lnTo>
                    <a:pt x="232" y="299"/>
                  </a:lnTo>
                  <a:lnTo>
                    <a:pt x="264" y="321"/>
                  </a:lnTo>
                  <a:lnTo>
                    <a:pt x="291" y="295"/>
                  </a:lnTo>
                  <a:lnTo>
                    <a:pt x="333" y="312"/>
                  </a:lnTo>
                  <a:lnTo>
                    <a:pt x="371" y="278"/>
                  </a:lnTo>
                  <a:lnTo>
                    <a:pt x="439" y="288"/>
                  </a:lnTo>
                  <a:lnTo>
                    <a:pt x="422" y="248"/>
                  </a:lnTo>
                  <a:lnTo>
                    <a:pt x="469" y="244"/>
                  </a:lnTo>
                  <a:lnTo>
                    <a:pt x="437" y="198"/>
                  </a:lnTo>
                  <a:lnTo>
                    <a:pt x="477" y="172"/>
                  </a:lnTo>
                  <a:lnTo>
                    <a:pt x="425" y="144"/>
                  </a:lnTo>
                  <a:lnTo>
                    <a:pt x="454" y="103"/>
                  </a:lnTo>
                  <a:lnTo>
                    <a:pt x="400" y="102"/>
                  </a:lnTo>
                  <a:lnTo>
                    <a:pt x="422" y="55"/>
                  </a:lnTo>
                  <a:lnTo>
                    <a:pt x="354" y="62"/>
                  </a:lnTo>
                  <a:lnTo>
                    <a:pt x="350" y="14"/>
                  </a:lnTo>
                  <a:lnTo>
                    <a:pt x="281" y="35"/>
                  </a:lnTo>
                  <a:lnTo>
                    <a:pt x="256" y="0"/>
                  </a:lnTo>
                  <a:lnTo>
                    <a:pt x="212" y="32"/>
                  </a:lnTo>
                  <a:lnTo>
                    <a:pt x="170" y="0"/>
                  </a:lnTo>
                  <a:lnTo>
                    <a:pt x="144" y="47"/>
                  </a:lnTo>
                  <a:lnTo>
                    <a:pt x="98" y="22"/>
                  </a:lnTo>
                  <a:lnTo>
                    <a:pt x="99" y="64"/>
                  </a:lnTo>
                  <a:lnTo>
                    <a:pt x="40" y="52"/>
                  </a:lnTo>
                  <a:lnTo>
                    <a:pt x="54" y="95"/>
                  </a:lnTo>
                  <a:lnTo>
                    <a:pt x="0" y="93"/>
                  </a:lnTo>
                  <a:lnTo>
                    <a:pt x="43" y="138"/>
                  </a:lnTo>
                  <a:close/>
                </a:path>
              </a:pathLst>
            </a:custGeom>
            <a:blipFill rotWithShape="0">
              <a:blip r:embed="rId1">
                <a:alphaModFix amt="2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48080" y="2764440"/>
              <a:ext cx="518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TTP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ver Intern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5520" y="289692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28640" y="3135240"/>
              <a:ext cx="10440" cy="1187280"/>
            </a:xfrm>
            <a:custGeom>
              <a:avLst/>
              <a:gdLst/>
              <a:ahLst/>
              <a:rect l="l" t="t" r="r" b="b"/>
              <a:pathLst>
                <a:path w="26" h="2329">
                  <a:moveTo>
                    <a:pt x="26" y="12"/>
                  </a:moveTo>
                  <a:lnTo>
                    <a:pt x="26" y="12"/>
                  </a:lnTo>
                  <a:cubicBezTo>
                    <a:pt x="26" y="19"/>
                    <a:pt x="20" y="25"/>
                    <a:pt x="13" y="25"/>
                  </a:cubicBezTo>
                  <a:cubicBezTo>
                    <a:pt x="6" y="25"/>
                    <a:pt x="0" y="19"/>
                    <a:pt x="0" y="12"/>
                  </a:cubicBezTo>
                  <a:lnTo>
                    <a:pt x="0" y="12"/>
                  </a:lnTo>
                  <a:cubicBezTo>
                    <a:pt x="0" y="5"/>
                    <a:pt x="6" y="0"/>
                    <a:pt x="13" y="0"/>
                  </a:cubicBezTo>
                  <a:cubicBezTo>
                    <a:pt x="20" y="0"/>
                    <a:pt x="26" y="5"/>
                    <a:pt x="26" y="12"/>
                  </a:cubicBezTo>
                  <a:close/>
                  <a:moveTo>
                    <a:pt x="26" y="243"/>
                  </a:moveTo>
                  <a:lnTo>
                    <a:pt x="26" y="243"/>
                  </a:lnTo>
                  <a:cubicBezTo>
                    <a:pt x="26" y="250"/>
                    <a:pt x="20" y="256"/>
                    <a:pt x="13" y="256"/>
                  </a:cubicBezTo>
                  <a:cubicBezTo>
                    <a:pt x="6" y="256"/>
                    <a:pt x="0" y="250"/>
                    <a:pt x="0" y="243"/>
                  </a:cubicBezTo>
                  <a:lnTo>
                    <a:pt x="0" y="243"/>
                  </a:lnTo>
                  <a:cubicBezTo>
                    <a:pt x="0" y="236"/>
                    <a:pt x="6" y="230"/>
                    <a:pt x="13" y="230"/>
                  </a:cubicBezTo>
                  <a:cubicBezTo>
                    <a:pt x="20" y="230"/>
                    <a:pt x="26" y="236"/>
                    <a:pt x="26" y="243"/>
                  </a:cubicBezTo>
                  <a:close/>
                  <a:moveTo>
                    <a:pt x="26" y="473"/>
                  </a:moveTo>
                  <a:lnTo>
                    <a:pt x="26" y="473"/>
                  </a:lnTo>
                  <a:cubicBezTo>
                    <a:pt x="26" y="480"/>
                    <a:pt x="20" y="486"/>
                    <a:pt x="13" y="486"/>
                  </a:cubicBezTo>
                  <a:cubicBezTo>
                    <a:pt x="6" y="486"/>
                    <a:pt x="0" y="480"/>
                    <a:pt x="0" y="473"/>
                  </a:cubicBezTo>
                  <a:lnTo>
                    <a:pt x="0" y="473"/>
                  </a:lnTo>
                  <a:cubicBezTo>
                    <a:pt x="0" y="466"/>
                    <a:pt x="6" y="460"/>
                    <a:pt x="13" y="460"/>
                  </a:cubicBezTo>
                  <a:cubicBezTo>
                    <a:pt x="20" y="460"/>
                    <a:pt x="26" y="466"/>
                    <a:pt x="26" y="473"/>
                  </a:cubicBezTo>
                  <a:close/>
                  <a:moveTo>
                    <a:pt x="26" y="704"/>
                  </a:moveTo>
                  <a:lnTo>
                    <a:pt x="26" y="704"/>
                  </a:lnTo>
                  <a:cubicBezTo>
                    <a:pt x="26" y="711"/>
                    <a:pt x="20" y="716"/>
                    <a:pt x="13" y="716"/>
                  </a:cubicBezTo>
                  <a:cubicBezTo>
                    <a:pt x="6" y="716"/>
                    <a:pt x="0" y="711"/>
                    <a:pt x="0" y="704"/>
                  </a:cubicBezTo>
                  <a:lnTo>
                    <a:pt x="0" y="704"/>
                  </a:lnTo>
                  <a:cubicBezTo>
                    <a:pt x="0" y="697"/>
                    <a:pt x="6" y="691"/>
                    <a:pt x="13" y="691"/>
                  </a:cubicBezTo>
                  <a:cubicBezTo>
                    <a:pt x="20" y="691"/>
                    <a:pt x="26" y="697"/>
                    <a:pt x="26" y="704"/>
                  </a:cubicBezTo>
                  <a:close/>
                  <a:moveTo>
                    <a:pt x="26" y="934"/>
                  </a:moveTo>
                  <a:lnTo>
                    <a:pt x="26" y="934"/>
                  </a:lnTo>
                  <a:cubicBezTo>
                    <a:pt x="26" y="941"/>
                    <a:pt x="20" y="947"/>
                    <a:pt x="13" y="947"/>
                  </a:cubicBezTo>
                  <a:cubicBezTo>
                    <a:pt x="6" y="947"/>
                    <a:pt x="0" y="941"/>
                    <a:pt x="0" y="934"/>
                  </a:cubicBezTo>
                  <a:lnTo>
                    <a:pt x="0" y="934"/>
                  </a:lnTo>
                  <a:cubicBezTo>
                    <a:pt x="0" y="927"/>
                    <a:pt x="6" y="921"/>
                    <a:pt x="13" y="921"/>
                  </a:cubicBezTo>
                  <a:cubicBezTo>
                    <a:pt x="20" y="921"/>
                    <a:pt x="26" y="927"/>
                    <a:pt x="26" y="934"/>
                  </a:cubicBezTo>
                  <a:close/>
                  <a:moveTo>
                    <a:pt x="26" y="1165"/>
                  </a:moveTo>
                  <a:lnTo>
                    <a:pt x="26" y="1165"/>
                  </a:lnTo>
                  <a:cubicBezTo>
                    <a:pt x="26" y="1172"/>
                    <a:pt x="20" y="1177"/>
                    <a:pt x="13" y="1177"/>
                  </a:cubicBezTo>
                  <a:cubicBezTo>
                    <a:pt x="6" y="1177"/>
                    <a:pt x="0" y="1172"/>
                    <a:pt x="0" y="1165"/>
                  </a:cubicBezTo>
                  <a:lnTo>
                    <a:pt x="0" y="1165"/>
                  </a:lnTo>
                  <a:cubicBezTo>
                    <a:pt x="0" y="1157"/>
                    <a:pt x="6" y="1152"/>
                    <a:pt x="13" y="1152"/>
                  </a:cubicBezTo>
                  <a:cubicBezTo>
                    <a:pt x="20" y="1152"/>
                    <a:pt x="26" y="1157"/>
                    <a:pt x="26" y="1165"/>
                  </a:cubicBezTo>
                  <a:close/>
                  <a:moveTo>
                    <a:pt x="26" y="1395"/>
                  </a:moveTo>
                  <a:lnTo>
                    <a:pt x="26" y="1395"/>
                  </a:lnTo>
                  <a:cubicBezTo>
                    <a:pt x="26" y="1402"/>
                    <a:pt x="20" y="1408"/>
                    <a:pt x="13" y="1408"/>
                  </a:cubicBezTo>
                  <a:cubicBezTo>
                    <a:pt x="6" y="1408"/>
                    <a:pt x="0" y="1402"/>
                    <a:pt x="0" y="1395"/>
                  </a:cubicBezTo>
                  <a:lnTo>
                    <a:pt x="0" y="1395"/>
                  </a:lnTo>
                  <a:cubicBezTo>
                    <a:pt x="0" y="1388"/>
                    <a:pt x="6" y="1382"/>
                    <a:pt x="13" y="1382"/>
                  </a:cubicBezTo>
                  <a:cubicBezTo>
                    <a:pt x="20" y="1382"/>
                    <a:pt x="26" y="1388"/>
                    <a:pt x="26" y="1395"/>
                  </a:cubicBezTo>
                  <a:close/>
                  <a:moveTo>
                    <a:pt x="26" y="1625"/>
                  </a:moveTo>
                  <a:lnTo>
                    <a:pt x="26" y="1625"/>
                  </a:lnTo>
                  <a:cubicBezTo>
                    <a:pt x="26" y="1632"/>
                    <a:pt x="20" y="1638"/>
                    <a:pt x="13" y="1638"/>
                  </a:cubicBezTo>
                  <a:cubicBezTo>
                    <a:pt x="6" y="1638"/>
                    <a:pt x="0" y="1632"/>
                    <a:pt x="0" y="1625"/>
                  </a:cubicBezTo>
                  <a:lnTo>
                    <a:pt x="0" y="1625"/>
                  </a:lnTo>
                  <a:cubicBezTo>
                    <a:pt x="0" y="1618"/>
                    <a:pt x="6" y="1613"/>
                    <a:pt x="13" y="1613"/>
                  </a:cubicBezTo>
                  <a:cubicBezTo>
                    <a:pt x="20" y="1613"/>
                    <a:pt x="26" y="1618"/>
                    <a:pt x="26" y="1625"/>
                  </a:cubicBezTo>
                  <a:close/>
                  <a:moveTo>
                    <a:pt x="26" y="1856"/>
                  </a:moveTo>
                  <a:lnTo>
                    <a:pt x="26" y="1856"/>
                  </a:lnTo>
                  <a:cubicBezTo>
                    <a:pt x="26" y="1863"/>
                    <a:pt x="20" y="1869"/>
                    <a:pt x="13" y="1869"/>
                  </a:cubicBezTo>
                  <a:cubicBezTo>
                    <a:pt x="6" y="1869"/>
                    <a:pt x="0" y="1863"/>
                    <a:pt x="0" y="1856"/>
                  </a:cubicBezTo>
                  <a:lnTo>
                    <a:pt x="0" y="1856"/>
                  </a:lnTo>
                  <a:cubicBezTo>
                    <a:pt x="0" y="1849"/>
                    <a:pt x="6" y="1843"/>
                    <a:pt x="13" y="1843"/>
                  </a:cubicBezTo>
                  <a:cubicBezTo>
                    <a:pt x="20" y="1843"/>
                    <a:pt x="26" y="1849"/>
                    <a:pt x="26" y="1856"/>
                  </a:cubicBezTo>
                  <a:close/>
                  <a:moveTo>
                    <a:pt x="26" y="2086"/>
                  </a:moveTo>
                  <a:lnTo>
                    <a:pt x="26" y="2086"/>
                  </a:lnTo>
                  <a:cubicBezTo>
                    <a:pt x="26" y="2093"/>
                    <a:pt x="20" y="2099"/>
                    <a:pt x="13" y="2099"/>
                  </a:cubicBezTo>
                  <a:cubicBezTo>
                    <a:pt x="6" y="2099"/>
                    <a:pt x="0" y="2093"/>
                    <a:pt x="0" y="2086"/>
                  </a:cubicBezTo>
                  <a:lnTo>
                    <a:pt x="0" y="2086"/>
                  </a:lnTo>
                  <a:cubicBezTo>
                    <a:pt x="0" y="2079"/>
                    <a:pt x="6" y="2073"/>
                    <a:pt x="13" y="2073"/>
                  </a:cubicBezTo>
                  <a:cubicBezTo>
                    <a:pt x="20" y="2073"/>
                    <a:pt x="26" y="2079"/>
                    <a:pt x="26" y="2086"/>
                  </a:cubicBezTo>
                  <a:close/>
                  <a:moveTo>
                    <a:pt x="26" y="2317"/>
                  </a:moveTo>
                  <a:lnTo>
                    <a:pt x="26" y="2317"/>
                  </a:lnTo>
                  <a:cubicBezTo>
                    <a:pt x="26" y="2324"/>
                    <a:pt x="20" y="2329"/>
                    <a:pt x="13" y="2329"/>
                  </a:cubicBezTo>
                  <a:cubicBezTo>
                    <a:pt x="6" y="2329"/>
                    <a:pt x="0" y="2324"/>
                    <a:pt x="0" y="2317"/>
                  </a:cubicBezTo>
                  <a:lnTo>
                    <a:pt x="0" y="2317"/>
                  </a:lnTo>
                  <a:cubicBezTo>
                    <a:pt x="0" y="2310"/>
                    <a:pt x="6" y="2304"/>
                    <a:pt x="13" y="2304"/>
                  </a:cubicBezTo>
                  <a:cubicBezTo>
                    <a:pt x="20" y="2304"/>
                    <a:pt x="26" y="2310"/>
                    <a:pt x="26" y="2317"/>
                  </a:cubicBez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99960" y="3227040"/>
              <a:ext cx="301320" cy="233640"/>
            </a:xfrm>
            <a:custGeom>
              <a:avLst/>
              <a:gdLst/>
              <a:ahLst/>
              <a:rect l="l" t="t" r="r" b="b"/>
              <a:pathLst>
                <a:path w="753" h="455">
                  <a:moveTo>
                    <a:pt x="26" y="9"/>
                  </a:moveTo>
                  <a:lnTo>
                    <a:pt x="26" y="9"/>
                  </a:lnTo>
                  <a:cubicBezTo>
                    <a:pt x="29" y="16"/>
                    <a:pt x="26" y="23"/>
                    <a:pt x="20" y="26"/>
                  </a:cubicBezTo>
                  <a:cubicBezTo>
                    <a:pt x="14" y="29"/>
                    <a:pt x="6" y="27"/>
                    <a:pt x="3" y="20"/>
                  </a:cubicBezTo>
                  <a:lnTo>
                    <a:pt x="3" y="20"/>
                  </a:lnTo>
                  <a:cubicBezTo>
                    <a:pt x="0" y="14"/>
                    <a:pt x="2" y="6"/>
                    <a:pt x="9" y="3"/>
                  </a:cubicBezTo>
                  <a:cubicBezTo>
                    <a:pt x="15" y="0"/>
                    <a:pt x="23" y="3"/>
                    <a:pt x="26" y="9"/>
                  </a:cubicBezTo>
                  <a:close/>
                  <a:moveTo>
                    <a:pt x="137" y="207"/>
                  </a:moveTo>
                  <a:lnTo>
                    <a:pt x="137" y="207"/>
                  </a:lnTo>
                  <a:cubicBezTo>
                    <a:pt x="141" y="213"/>
                    <a:pt x="140" y="221"/>
                    <a:pt x="135" y="225"/>
                  </a:cubicBezTo>
                  <a:cubicBezTo>
                    <a:pt x="129" y="229"/>
                    <a:pt x="121" y="228"/>
                    <a:pt x="117" y="223"/>
                  </a:cubicBezTo>
                  <a:lnTo>
                    <a:pt x="117" y="223"/>
                  </a:lnTo>
                  <a:cubicBezTo>
                    <a:pt x="112" y="217"/>
                    <a:pt x="113" y="209"/>
                    <a:pt x="119" y="205"/>
                  </a:cubicBezTo>
                  <a:cubicBezTo>
                    <a:pt x="125" y="201"/>
                    <a:pt x="133" y="202"/>
                    <a:pt x="137" y="207"/>
                  </a:cubicBezTo>
                  <a:close/>
                  <a:moveTo>
                    <a:pt x="298" y="360"/>
                  </a:moveTo>
                  <a:lnTo>
                    <a:pt x="298" y="360"/>
                  </a:lnTo>
                  <a:cubicBezTo>
                    <a:pt x="304" y="363"/>
                    <a:pt x="307" y="371"/>
                    <a:pt x="304" y="377"/>
                  </a:cubicBezTo>
                  <a:cubicBezTo>
                    <a:pt x="301" y="384"/>
                    <a:pt x="294" y="387"/>
                    <a:pt x="287" y="384"/>
                  </a:cubicBezTo>
                  <a:lnTo>
                    <a:pt x="287" y="384"/>
                  </a:lnTo>
                  <a:cubicBezTo>
                    <a:pt x="281" y="381"/>
                    <a:pt x="278" y="373"/>
                    <a:pt x="281" y="367"/>
                  </a:cubicBezTo>
                  <a:cubicBezTo>
                    <a:pt x="284" y="360"/>
                    <a:pt x="291" y="357"/>
                    <a:pt x="298" y="360"/>
                  </a:cubicBezTo>
                  <a:close/>
                  <a:moveTo>
                    <a:pt x="513" y="429"/>
                  </a:moveTo>
                  <a:lnTo>
                    <a:pt x="513" y="429"/>
                  </a:lnTo>
                  <a:cubicBezTo>
                    <a:pt x="520" y="430"/>
                    <a:pt x="524" y="436"/>
                    <a:pt x="523" y="443"/>
                  </a:cubicBezTo>
                  <a:cubicBezTo>
                    <a:pt x="522" y="450"/>
                    <a:pt x="515" y="455"/>
                    <a:pt x="508" y="454"/>
                  </a:cubicBezTo>
                  <a:lnTo>
                    <a:pt x="508" y="454"/>
                  </a:lnTo>
                  <a:cubicBezTo>
                    <a:pt x="501" y="453"/>
                    <a:pt x="497" y="446"/>
                    <a:pt x="498" y="439"/>
                  </a:cubicBezTo>
                  <a:cubicBezTo>
                    <a:pt x="499" y="432"/>
                    <a:pt x="506" y="427"/>
                    <a:pt x="513" y="429"/>
                  </a:cubicBezTo>
                  <a:close/>
                  <a:moveTo>
                    <a:pt x="736" y="418"/>
                  </a:moveTo>
                  <a:lnTo>
                    <a:pt x="736" y="418"/>
                  </a:lnTo>
                  <a:cubicBezTo>
                    <a:pt x="743" y="416"/>
                    <a:pt x="750" y="421"/>
                    <a:pt x="752" y="428"/>
                  </a:cubicBezTo>
                  <a:cubicBezTo>
                    <a:pt x="753" y="434"/>
                    <a:pt x="749" y="441"/>
                    <a:pt x="742" y="443"/>
                  </a:cubicBezTo>
                  <a:lnTo>
                    <a:pt x="742" y="443"/>
                  </a:lnTo>
                  <a:cubicBezTo>
                    <a:pt x="735" y="444"/>
                    <a:pt x="728" y="440"/>
                    <a:pt x="727" y="433"/>
                  </a:cubicBezTo>
                  <a:cubicBezTo>
                    <a:pt x="725" y="426"/>
                    <a:pt x="729" y="419"/>
                    <a:pt x="736" y="418"/>
                  </a:cubicBez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46000" y="2217240"/>
              <a:ext cx="559440" cy="372240"/>
            </a:xfrm>
            <a:custGeom>
              <a:avLst/>
              <a:gdLst/>
              <a:ahLst/>
              <a:rect l="l" t="t" r="r" b="b"/>
              <a:pathLst>
                <a:path w="1391" h="726">
                  <a:moveTo>
                    <a:pt x="0" y="363"/>
                  </a:moveTo>
                  <a:cubicBezTo>
                    <a:pt x="0" y="163"/>
                    <a:pt x="312" y="0"/>
                    <a:pt x="696" y="0"/>
                  </a:cubicBezTo>
                  <a:cubicBezTo>
                    <a:pt x="1080" y="0"/>
                    <a:pt x="1391" y="163"/>
                    <a:pt x="1391" y="363"/>
                  </a:cubicBezTo>
                  <a:cubicBezTo>
                    <a:pt x="1391" y="363"/>
                    <a:pt x="1391" y="363"/>
                    <a:pt x="1391" y="363"/>
                  </a:cubicBezTo>
                  <a:cubicBezTo>
                    <a:pt x="1391" y="563"/>
                    <a:pt x="1080" y="726"/>
                    <a:pt x="696" y="726"/>
                  </a:cubicBezTo>
                  <a:cubicBezTo>
                    <a:pt x="312" y="726"/>
                    <a:pt x="0" y="563"/>
                    <a:pt x="0" y="363"/>
                  </a:cubicBezTo>
                </a:path>
              </a:pathLst>
            </a:custGeom>
            <a:solidFill>
              <a:srgbClr val="e8eef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46000" y="2217240"/>
              <a:ext cx="559440" cy="372240"/>
            </a:xfrm>
            <a:custGeom>
              <a:avLst/>
              <a:gdLst/>
              <a:ahLst/>
              <a:rect l="l" t="t" r="r" b="b"/>
              <a:pathLst>
                <a:path w="359" h="182">
                  <a:moveTo>
                    <a:pt x="0" y="91"/>
                  </a:moveTo>
                  <a:cubicBezTo>
                    <a:pt x="0" y="41"/>
                    <a:pt x="81" y="0"/>
                    <a:pt x="180" y="0"/>
                  </a:cubicBezTo>
                  <a:cubicBezTo>
                    <a:pt x="279" y="0"/>
                    <a:pt x="359" y="41"/>
                    <a:pt x="359" y="91"/>
                  </a:cubicBezTo>
                  <a:cubicBezTo>
                    <a:pt x="359" y="91"/>
                    <a:pt x="359" y="91"/>
                    <a:pt x="359" y="91"/>
                  </a:cubicBezTo>
                  <a:cubicBezTo>
                    <a:pt x="359" y="141"/>
                    <a:pt x="279" y="182"/>
                    <a:pt x="180" y="182"/>
                  </a:cubicBezTo>
                  <a:cubicBezTo>
                    <a:pt x="81" y="182"/>
                    <a:pt x="0" y="141"/>
                    <a:pt x="0" y="91"/>
                  </a:cubicBez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32760" y="2321280"/>
              <a:ext cx="37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800" spc="-1" strike="noStrike">
                  <a:solidFill>
                    <a:srgbClr val="000000"/>
                  </a:solidFill>
                  <a:latin typeface="Arial"/>
                </a:rPr>
                <a:t>Verifi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67920" y="5452560"/>
              <a:ext cx="3750120" cy="307440"/>
            </a:xfrm>
            <a:custGeom>
              <a:avLst/>
              <a:gdLst/>
              <a:ahLst/>
              <a:rect l="l" t="t" r="r" b="b"/>
              <a:pathLst>
                <a:path w="9312" h="605">
                  <a:moveTo>
                    <a:pt x="0" y="302"/>
                  </a:moveTo>
                  <a:cubicBezTo>
                    <a:pt x="0" y="135"/>
                    <a:pt x="2084" y="0"/>
                    <a:pt x="4656" y="0"/>
                  </a:cubicBezTo>
                  <a:cubicBezTo>
                    <a:pt x="7228" y="0"/>
                    <a:pt x="9312" y="135"/>
                    <a:pt x="9312" y="302"/>
                  </a:cubicBezTo>
                  <a:cubicBezTo>
                    <a:pt x="9312" y="302"/>
                    <a:pt x="9312" y="302"/>
                    <a:pt x="9312" y="302"/>
                  </a:cubicBezTo>
                  <a:cubicBezTo>
                    <a:pt x="9312" y="469"/>
                    <a:pt x="7228" y="605"/>
                    <a:pt x="4656" y="605"/>
                  </a:cubicBezTo>
                  <a:cubicBezTo>
                    <a:pt x="2084" y="605"/>
                    <a:pt x="0" y="469"/>
                    <a:pt x="0" y="302"/>
                  </a:cubicBezTo>
                </a:path>
              </a:pathLst>
            </a:custGeom>
            <a:solidFill>
              <a:srgbClr val="e8eef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67920" y="5452560"/>
              <a:ext cx="3750120" cy="307440"/>
            </a:xfrm>
            <a:custGeom>
              <a:avLst/>
              <a:gdLst/>
              <a:ahLst/>
              <a:rect l="l" t="t" r="r" b="b"/>
              <a:pathLst>
                <a:path w="2403" h="151">
                  <a:moveTo>
                    <a:pt x="0" y="76"/>
                  </a:moveTo>
                  <a:cubicBezTo>
                    <a:pt x="0" y="34"/>
                    <a:pt x="538" y="0"/>
                    <a:pt x="1201" y="0"/>
                  </a:cubicBezTo>
                  <a:cubicBezTo>
                    <a:pt x="1865" y="0"/>
                    <a:pt x="2403" y="34"/>
                    <a:pt x="2403" y="76"/>
                  </a:cubicBezTo>
                  <a:cubicBezTo>
                    <a:pt x="2403" y="76"/>
                    <a:pt x="2403" y="76"/>
                    <a:pt x="2403" y="76"/>
                  </a:cubicBezTo>
                  <a:cubicBezTo>
                    <a:pt x="2403" y="117"/>
                    <a:pt x="1865" y="151"/>
                    <a:pt x="1201" y="151"/>
                  </a:cubicBezTo>
                  <a:cubicBezTo>
                    <a:pt x="538" y="151"/>
                    <a:pt x="0" y="117"/>
                    <a:pt x="0" y="76"/>
                  </a:cubicBez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0280" y="5525280"/>
              <a:ext cx="1108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800" spc="-1" strike="noStrike">
                  <a:solidFill>
                    <a:srgbClr val="000000"/>
                  </a:solidFill>
                  <a:latin typeface="Arial"/>
                </a:rPr>
                <a:t>Adversaries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&amp; Coercers</a:t>
              </a:r>
              <a:r>
                <a:rPr b="0" lang="el-G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62400" y="2348280"/>
              <a:ext cx="1983600" cy="307440"/>
            </a:xfrm>
            <a:custGeom>
              <a:avLst/>
              <a:gdLst/>
              <a:ahLst/>
              <a:rect l="l" t="t" r="r" b="b"/>
              <a:pathLst>
                <a:path w="1271" h="151">
                  <a:moveTo>
                    <a:pt x="1271" y="54"/>
                  </a:moveTo>
                  <a:lnTo>
                    <a:pt x="75" y="54"/>
                  </a:lnTo>
                  <a:lnTo>
                    <a:pt x="75" y="106"/>
                  </a:lnTo>
                  <a:lnTo>
                    <a:pt x="93" y="106"/>
                  </a:lnTo>
                  <a:lnTo>
                    <a:pt x="46" y="151"/>
                  </a:lnTo>
                  <a:lnTo>
                    <a:pt x="0" y="106"/>
                  </a:lnTo>
                  <a:lnTo>
                    <a:pt x="18" y="106"/>
                  </a:lnTo>
                  <a:lnTo>
                    <a:pt x="18" y="0"/>
                  </a:lnTo>
                  <a:lnTo>
                    <a:pt x="1271" y="0"/>
                  </a:lnTo>
                  <a:lnTo>
                    <a:pt x="1271" y="54"/>
                  </a:lnTo>
                  <a:close/>
                </a:path>
              </a:pathLst>
            </a:cu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62400" y="2348280"/>
              <a:ext cx="1983600" cy="307440"/>
            </a:xfrm>
            <a:custGeom>
              <a:avLst/>
              <a:gdLst/>
              <a:ahLst/>
              <a:rect l="l" t="t" r="r" b="b"/>
              <a:pathLst>
                <a:path w="1271" h="151">
                  <a:moveTo>
                    <a:pt x="1271" y="54"/>
                  </a:moveTo>
                  <a:lnTo>
                    <a:pt x="75" y="54"/>
                  </a:lnTo>
                  <a:lnTo>
                    <a:pt x="75" y="106"/>
                  </a:lnTo>
                  <a:lnTo>
                    <a:pt x="93" y="106"/>
                  </a:lnTo>
                  <a:lnTo>
                    <a:pt x="46" y="151"/>
                  </a:lnTo>
                  <a:lnTo>
                    <a:pt x="0" y="106"/>
                  </a:lnTo>
                  <a:lnTo>
                    <a:pt x="18" y="106"/>
                  </a:lnTo>
                  <a:lnTo>
                    <a:pt x="18" y="0"/>
                  </a:lnTo>
                  <a:lnTo>
                    <a:pt x="1271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52280" y="2589480"/>
              <a:ext cx="145080" cy="861840"/>
            </a:xfrm>
            <a:custGeom>
              <a:avLst/>
              <a:gdLst/>
              <a:ahLst/>
              <a:rect l="l" t="t" r="r" b="b"/>
              <a:pathLst>
                <a:path w="93" h="423">
                  <a:moveTo>
                    <a:pt x="75" y="0"/>
                  </a:moveTo>
                  <a:lnTo>
                    <a:pt x="75" y="377"/>
                  </a:lnTo>
                  <a:lnTo>
                    <a:pt x="93" y="377"/>
                  </a:lnTo>
                  <a:lnTo>
                    <a:pt x="47" y="423"/>
                  </a:lnTo>
                  <a:lnTo>
                    <a:pt x="0" y="377"/>
                  </a:lnTo>
                  <a:lnTo>
                    <a:pt x="18" y="377"/>
                  </a:lnTo>
                  <a:lnTo>
                    <a:pt x="1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52280" y="2589480"/>
              <a:ext cx="145080" cy="861840"/>
            </a:xfrm>
            <a:custGeom>
              <a:avLst/>
              <a:gdLst/>
              <a:ahLst/>
              <a:rect l="l" t="t" r="r" b="b"/>
              <a:pathLst>
                <a:path w="93" h="423">
                  <a:moveTo>
                    <a:pt x="75" y="0"/>
                  </a:moveTo>
                  <a:lnTo>
                    <a:pt x="75" y="377"/>
                  </a:lnTo>
                  <a:lnTo>
                    <a:pt x="93" y="377"/>
                  </a:lnTo>
                  <a:lnTo>
                    <a:pt x="47" y="423"/>
                  </a:lnTo>
                  <a:lnTo>
                    <a:pt x="0" y="377"/>
                  </a:lnTo>
                  <a:lnTo>
                    <a:pt x="18" y="377"/>
                  </a:lnTo>
                  <a:lnTo>
                    <a:pt x="18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85800" y="5205600"/>
              <a:ext cx="170280" cy="25452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24" y="125"/>
                  </a:moveTo>
                  <a:lnTo>
                    <a:pt x="22" y="54"/>
                  </a:lnTo>
                  <a:lnTo>
                    <a:pt x="0" y="55"/>
                  </a:lnTo>
                  <a:lnTo>
                    <a:pt x="53" y="0"/>
                  </a:lnTo>
                  <a:lnTo>
                    <a:pt x="109" y="51"/>
                  </a:lnTo>
                  <a:lnTo>
                    <a:pt x="87" y="52"/>
                  </a:lnTo>
                  <a:lnTo>
                    <a:pt x="89" y="123"/>
                  </a:lnTo>
                  <a:lnTo>
                    <a:pt x="24" y="125"/>
                  </a:lnTo>
                  <a:close/>
                </a:path>
              </a:pathLst>
            </a:cu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85800" y="5205600"/>
              <a:ext cx="170280" cy="25452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24" y="125"/>
                  </a:moveTo>
                  <a:lnTo>
                    <a:pt x="22" y="54"/>
                  </a:lnTo>
                  <a:lnTo>
                    <a:pt x="0" y="55"/>
                  </a:lnTo>
                  <a:lnTo>
                    <a:pt x="53" y="0"/>
                  </a:lnTo>
                  <a:lnTo>
                    <a:pt x="109" y="51"/>
                  </a:lnTo>
                  <a:lnTo>
                    <a:pt x="87" y="52"/>
                  </a:lnTo>
                  <a:lnTo>
                    <a:pt x="89" y="123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18320" y="4412880"/>
              <a:ext cx="631080" cy="48492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818320" y="4412880"/>
              <a:ext cx="631080" cy="48492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11200" y="457092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8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86960" y="4570920"/>
              <a:ext cx="13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800" spc="-1" strike="noStrike">
                  <a:solidFill>
                    <a:srgbClr val="000000"/>
                  </a:solidFill>
                  <a:latin typeface="Arial"/>
                </a:rPr>
                <a:t>E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24120" y="4638960"/>
              <a:ext cx="3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027400" y="4375080"/>
              <a:ext cx="740880" cy="632880"/>
            </a:xfrm>
            <a:custGeom>
              <a:avLst/>
              <a:gdLst/>
              <a:ahLst/>
              <a:rect l="l" t="t" r="r" b="b"/>
              <a:pathLst>
                <a:path w="475" h="310">
                  <a:moveTo>
                    <a:pt x="42" y="133"/>
                  </a:moveTo>
                  <a:lnTo>
                    <a:pt x="3" y="146"/>
                  </a:lnTo>
                  <a:lnTo>
                    <a:pt x="49" y="163"/>
                  </a:lnTo>
                  <a:lnTo>
                    <a:pt x="12" y="201"/>
                  </a:lnTo>
                  <a:lnTo>
                    <a:pt x="61" y="218"/>
                  </a:lnTo>
                  <a:lnTo>
                    <a:pt x="33" y="255"/>
                  </a:lnTo>
                  <a:lnTo>
                    <a:pt x="96" y="261"/>
                  </a:lnTo>
                  <a:lnTo>
                    <a:pt x="106" y="304"/>
                  </a:lnTo>
                  <a:lnTo>
                    <a:pt x="160" y="288"/>
                  </a:lnTo>
                  <a:lnTo>
                    <a:pt x="200" y="310"/>
                  </a:lnTo>
                  <a:lnTo>
                    <a:pt x="231" y="289"/>
                  </a:lnTo>
                  <a:lnTo>
                    <a:pt x="263" y="310"/>
                  </a:lnTo>
                  <a:lnTo>
                    <a:pt x="290" y="285"/>
                  </a:lnTo>
                  <a:lnTo>
                    <a:pt x="332" y="302"/>
                  </a:lnTo>
                  <a:lnTo>
                    <a:pt x="369" y="269"/>
                  </a:lnTo>
                  <a:lnTo>
                    <a:pt x="438" y="278"/>
                  </a:lnTo>
                  <a:lnTo>
                    <a:pt x="421" y="239"/>
                  </a:lnTo>
                  <a:lnTo>
                    <a:pt x="468" y="235"/>
                  </a:lnTo>
                  <a:lnTo>
                    <a:pt x="435" y="191"/>
                  </a:lnTo>
                  <a:lnTo>
                    <a:pt x="475" y="166"/>
                  </a:lnTo>
                  <a:lnTo>
                    <a:pt x="424" y="138"/>
                  </a:lnTo>
                  <a:lnTo>
                    <a:pt x="453" y="100"/>
                  </a:lnTo>
                  <a:lnTo>
                    <a:pt x="399" y="98"/>
                  </a:lnTo>
                  <a:lnTo>
                    <a:pt x="421" y="53"/>
                  </a:lnTo>
                  <a:lnTo>
                    <a:pt x="353" y="59"/>
                  </a:lnTo>
                  <a:lnTo>
                    <a:pt x="349" y="13"/>
                  </a:lnTo>
                  <a:lnTo>
                    <a:pt x="280" y="34"/>
                  </a:lnTo>
                  <a:lnTo>
                    <a:pt x="255" y="0"/>
                  </a:lnTo>
                  <a:lnTo>
                    <a:pt x="212" y="30"/>
                  </a:lnTo>
                  <a:lnTo>
                    <a:pt x="169" y="0"/>
                  </a:lnTo>
                  <a:lnTo>
                    <a:pt x="143" y="46"/>
                  </a:lnTo>
                  <a:lnTo>
                    <a:pt x="97" y="21"/>
                  </a:lnTo>
                  <a:lnTo>
                    <a:pt x="98" y="62"/>
                  </a:lnTo>
                  <a:lnTo>
                    <a:pt x="39" y="50"/>
                  </a:lnTo>
                  <a:lnTo>
                    <a:pt x="53" y="92"/>
                  </a:lnTo>
                  <a:lnTo>
                    <a:pt x="0" y="90"/>
                  </a:lnTo>
                  <a:lnTo>
                    <a:pt x="42" y="133"/>
                  </a:lnTo>
                  <a:close/>
                </a:path>
              </a:pathLst>
            </a:custGeom>
            <a:blipFill rotWithShape="0">
              <a:blip r:embed="rId2">
                <a:alphaModFix amt="2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64480" y="4581720"/>
              <a:ext cx="53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TTP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ver Internet</a:t>
              </a:r>
              <a:r>
                <a:rPr b="0" lang="el-GR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62480" y="4685760"/>
              <a:ext cx="144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02120" y="4553280"/>
              <a:ext cx="92880" cy="300960"/>
            </a:xfrm>
            <a:custGeom>
              <a:avLst/>
              <a:gdLst/>
              <a:ahLst/>
              <a:rect l="l" t="t" r="r" b="b"/>
              <a:pathLst>
                <a:path w="233" h="592">
                  <a:moveTo>
                    <a:pt x="136" y="21"/>
                  </a:moveTo>
                  <a:lnTo>
                    <a:pt x="136" y="21"/>
                  </a:lnTo>
                  <a:cubicBezTo>
                    <a:pt x="132" y="27"/>
                    <a:pt x="124" y="29"/>
                    <a:pt x="118" y="25"/>
                  </a:cubicBezTo>
                  <a:cubicBezTo>
                    <a:pt x="112" y="21"/>
                    <a:pt x="111" y="13"/>
                    <a:pt x="115" y="7"/>
                  </a:cubicBezTo>
                  <a:lnTo>
                    <a:pt x="115" y="7"/>
                  </a:lnTo>
                  <a:cubicBezTo>
                    <a:pt x="119" y="1"/>
                    <a:pt x="127" y="0"/>
                    <a:pt x="132" y="4"/>
                  </a:cubicBezTo>
                  <a:cubicBezTo>
                    <a:pt x="138" y="7"/>
                    <a:pt x="140" y="15"/>
                    <a:pt x="136" y="21"/>
                  </a:cubicBezTo>
                  <a:close/>
                  <a:moveTo>
                    <a:pt x="26" y="219"/>
                  </a:moveTo>
                  <a:lnTo>
                    <a:pt x="26" y="219"/>
                  </a:lnTo>
                  <a:cubicBezTo>
                    <a:pt x="23" y="226"/>
                    <a:pt x="16" y="229"/>
                    <a:pt x="9" y="226"/>
                  </a:cubicBezTo>
                  <a:cubicBezTo>
                    <a:pt x="3" y="224"/>
                    <a:pt x="0" y="216"/>
                    <a:pt x="2" y="210"/>
                  </a:cubicBezTo>
                  <a:lnTo>
                    <a:pt x="2" y="210"/>
                  </a:lnTo>
                  <a:cubicBezTo>
                    <a:pt x="5" y="203"/>
                    <a:pt x="12" y="200"/>
                    <a:pt x="19" y="203"/>
                  </a:cubicBezTo>
                  <a:cubicBezTo>
                    <a:pt x="25" y="205"/>
                    <a:pt x="29" y="213"/>
                    <a:pt x="26" y="219"/>
                  </a:cubicBezTo>
                  <a:close/>
                  <a:moveTo>
                    <a:pt x="52" y="426"/>
                  </a:moveTo>
                  <a:lnTo>
                    <a:pt x="52" y="426"/>
                  </a:lnTo>
                  <a:cubicBezTo>
                    <a:pt x="56" y="432"/>
                    <a:pt x="55" y="440"/>
                    <a:pt x="50" y="444"/>
                  </a:cubicBezTo>
                  <a:cubicBezTo>
                    <a:pt x="44" y="448"/>
                    <a:pt x="36" y="447"/>
                    <a:pt x="32" y="442"/>
                  </a:cubicBezTo>
                  <a:lnTo>
                    <a:pt x="32" y="442"/>
                  </a:lnTo>
                  <a:cubicBezTo>
                    <a:pt x="27" y="436"/>
                    <a:pt x="28" y="428"/>
                    <a:pt x="34" y="424"/>
                  </a:cubicBezTo>
                  <a:cubicBezTo>
                    <a:pt x="39" y="420"/>
                    <a:pt x="48" y="421"/>
                    <a:pt x="52" y="426"/>
                  </a:cubicBezTo>
                  <a:close/>
                  <a:moveTo>
                    <a:pt x="223" y="566"/>
                  </a:moveTo>
                  <a:lnTo>
                    <a:pt x="223" y="566"/>
                  </a:lnTo>
                  <a:cubicBezTo>
                    <a:pt x="230" y="569"/>
                    <a:pt x="233" y="576"/>
                    <a:pt x="230" y="583"/>
                  </a:cubicBezTo>
                  <a:cubicBezTo>
                    <a:pt x="227" y="589"/>
                    <a:pt x="219" y="592"/>
                    <a:pt x="213" y="589"/>
                  </a:cubicBezTo>
                  <a:lnTo>
                    <a:pt x="213" y="589"/>
                  </a:lnTo>
                  <a:cubicBezTo>
                    <a:pt x="206" y="586"/>
                    <a:pt x="203" y="578"/>
                    <a:pt x="206" y="572"/>
                  </a:cubicBezTo>
                  <a:cubicBezTo>
                    <a:pt x="209" y="565"/>
                    <a:pt x="217" y="563"/>
                    <a:pt x="223" y="566"/>
                  </a:cubicBez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53520" y="4866480"/>
              <a:ext cx="340200" cy="432000"/>
            </a:xfrm>
            <a:custGeom>
              <a:avLst/>
              <a:gdLst/>
              <a:ahLst/>
              <a:rect l="l" t="t" r="r" b="b"/>
              <a:pathLst>
                <a:path w="847" h="846">
                  <a:moveTo>
                    <a:pt x="0" y="423"/>
                  </a:moveTo>
                  <a:cubicBezTo>
                    <a:pt x="0" y="189"/>
                    <a:pt x="190" y="0"/>
                    <a:pt x="424" y="0"/>
                  </a:cubicBezTo>
                  <a:cubicBezTo>
                    <a:pt x="657" y="0"/>
                    <a:pt x="847" y="189"/>
                    <a:pt x="847" y="423"/>
                  </a:cubicBezTo>
                  <a:cubicBezTo>
                    <a:pt x="847" y="423"/>
                    <a:pt x="847" y="423"/>
                    <a:pt x="847" y="423"/>
                  </a:cubicBezTo>
                  <a:cubicBezTo>
                    <a:pt x="847" y="657"/>
                    <a:pt x="657" y="846"/>
                    <a:pt x="424" y="846"/>
                  </a:cubicBezTo>
                  <a:cubicBezTo>
                    <a:pt x="190" y="846"/>
                    <a:pt x="0" y="657"/>
                    <a:pt x="0" y="423"/>
                  </a:cubicBezTo>
                </a:path>
              </a:pathLst>
            </a:custGeom>
            <a:solidFill>
              <a:srgbClr val="e8eef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853520" y="4866480"/>
              <a:ext cx="340200" cy="432000"/>
            </a:xfrm>
            <a:custGeom>
              <a:avLst/>
              <a:gdLst/>
              <a:ahLst/>
              <a:rect l="l" t="t" r="r" b="b"/>
              <a:pathLst>
                <a:path w="218" h="212">
                  <a:moveTo>
                    <a:pt x="0" y="106"/>
                  </a:moveTo>
                  <a:cubicBezTo>
                    <a:pt x="0" y="48"/>
                    <a:pt x="49" y="0"/>
                    <a:pt x="109" y="0"/>
                  </a:cubicBezTo>
                  <a:cubicBezTo>
                    <a:pt x="169" y="0"/>
                    <a:pt x="218" y="48"/>
                    <a:pt x="218" y="106"/>
                  </a:cubicBezTo>
                  <a:cubicBezTo>
                    <a:pt x="218" y="106"/>
                    <a:pt x="218" y="106"/>
                    <a:pt x="218" y="106"/>
                  </a:cubicBezTo>
                  <a:cubicBezTo>
                    <a:pt x="218" y="164"/>
                    <a:pt x="169" y="212"/>
                    <a:pt x="109" y="212"/>
                  </a:cubicBezTo>
                  <a:cubicBezTo>
                    <a:pt x="49" y="212"/>
                    <a:pt x="0" y="164"/>
                    <a:pt x="0" y="106"/>
                  </a:cubicBez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15080" y="5030640"/>
              <a:ext cx="195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88240" y="5065560"/>
              <a:ext cx="54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400" spc="-1" strike="noStrike">
                  <a:solidFill>
                    <a:srgbClr val="000000"/>
                  </a:solidFill>
                  <a:latin typeface="Arial"/>
                </a:rPr>
                <a:t>nk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81520" y="4128120"/>
              <a:ext cx="340560" cy="430920"/>
            </a:xfrm>
            <a:custGeom>
              <a:avLst/>
              <a:gdLst/>
              <a:ahLst/>
              <a:rect l="l" t="t" r="r" b="b"/>
              <a:pathLst>
                <a:path w="847" h="847">
                  <a:moveTo>
                    <a:pt x="0" y="424"/>
                  </a:moveTo>
                  <a:cubicBezTo>
                    <a:pt x="0" y="190"/>
                    <a:pt x="189" y="0"/>
                    <a:pt x="423" y="0"/>
                  </a:cubicBezTo>
                  <a:cubicBezTo>
                    <a:pt x="657" y="0"/>
                    <a:pt x="847" y="190"/>
                    <a:pt x="847" y="424"/>
                  </a:cubicBezTo>
                  <a:cubicBezTo>
                    <a:pt x="847" y="424"/>
                    <a:pt x="847" y="424"/>
                    <a:pt x="847" y="424"/>
                  </a:cubicBezTo>
                  <a:cubicBezTo>
                    <a:pt x="847" y="658"/>
                    <a:pt x="657" y="847"/>
                    <a:pt x="423" y="847"/>
                  </a:cubicBezTo>
                  <a:cubicBezTo>
                    <a:pt x="189" y="847"/>
                    <a:pt x="0" y="658"/>
                    <a:pt x="0" y="424"/>
                  </a:cubicBezTo>
                </a:path>
              </a:pathLst>
            </a:custGeom>
            <a:solidFill>
              <a:srgbClr val="e8eef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81520" y="4128120"/>
              <a:ext cx="340560" cy="430920"/>
            </a:xfrm>
            <a:custGeom>
              <a:avLst/>
              <a:gdLst/>
              <a:ahLst/>
              <a:rect l="l" t="t" r="r" b="b"/>
              <a:pathLst>
                <a:path w="219" h="211">
                  <a:moveTo>
                    <a:pt x="0" y="106"/>
                  </a:moveTo>
                  <a:cubicBezTo>
                    <a:pt x="0" y="47"/>
                    <a:pt x="49" y="0"/>
                    <a:pt x="109" y="0"/>
                  </a:cubicBezTo>
                  <a:cubicBezTo>
                    <a:pt x="170" y="0"/>
                    <a:pt x="219" y="47"/>
                    <a:pt x="219" y="106"/>
                  </a:cubicBezTo>
                  <a:cubicBezTo>
                    <a:pt x="219" y="106"/>
                    <a:pt x="219" y="106"/>
                    <a:pt x="219" y="106"/>
                  </a:cubicBezTo>
                  <a:cubicBezTo>
                    <a:pt x="219" y="164"/>
                    <a:pt x="170" y="211"/>
                    <a:pt x="109" y="211"/>
                  </a:cubicBezTo>
                  <a:cubicBezTo>
                    <a:pt x="49" y="211"/>
                    <a:pt x="0" y="164"/>
                    <a:pt x="0" y="106"/>
                  </a:cubicBez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43080" y="4286520"/>
              <a:ext cx="195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31360" y="43286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76080" y="3943080"/>
              <a:ext cx="339120" cy="432000"/>
            </a:xfrm>
            <a:custGeom>
              <a:avLst/>
              <a:gdLst/>
              <a:ahLst/>
              <a:rect l="l" t="t" r="r" b="b"/>
              <a:pathLst>
                <a:path w="846" h="846">
                  <a:moveTo>
                    <a:pt x="0" y="423"/>
                  </a:moveTo>
                  <a:cubicBezTo>
                    <a:pt x="0" y="189"/>
                    <a:pt x="189" y="0"/>
                    <a:pt x="423" y="0"/>
                  </a:cubicBezTo>
                  <a:cubicBezTo>
                    <a:pt x="657" y="0"/>
                    <a:pt x="846" y="189"/>
                    <a:pt x="846" y="423"/>
                  </a:cubicBezTo>
                  <a:cubicBezTo>
                    <a:pt x="846" y="423"/>
                    <a:pt x="846" y="423"/>
                    <a:pt x="846" y="423"/>
                  </a:cubicBezTo>
                  <a:cubicBezTo>
                    <a:pt x="846" y="657"/>
                    <a:pt x="657" y="846"/>
                    <a:pt x="423" y="846"/>
                  </a:cubicBezTo>
                  <a:cubicBezTo>
                    <a:pt x="189" y="846"/>
                    <a:pt x="0" y="657"/>
                    <a:pt x="0" y="423"/>
                  </a:cubicBezTo>
                </a:path>
              </a:pathLst>
            </a:custGeom>
            <a:solidFill>
              <a:srgbClr val="e8eef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76080" y="3943080"/>
              <a:ext cx="339120" cy="432000"/>
            </a:xfrm>
            <a:custGeom>
              <a:avLst/>
              <a:gdLst/>
              <a:ahLst/>
              <a:rect l="l" t="t" r="r" b="b"/>
              <a:pathLst>
                <a:path w="218" h="212">
                  <a:moveTo>
                    <a:pt x="0" y="106"/>
                  </a:moveTo>
                  <a:cubicBezTo>
                    <a:pt x="0" y="48"/>
                    <a:pt x="49" y="0"/>
                    <a:pt x="109" y="0"/>
                  </a:cubicBezTo>
                  <a:cubicBezTo>
                    <a:pt x="169" y="0"/>
                    <a:pt x="218" y="48"/>
                    <a:pt x="218" y="106"/>
                  </a:cubicBezTo>
                  <a:cubicBezTo>
                    <a:pt x="218" y="106"/>
                    <a:pt x="218" y="106"/>
                    <a:pt x="218" y="106"/>
                  </a:cubicBezTo>
                  <a:cubicBezTo>
                    <a:pt x="218" y="164"/>
                    <a:pt x="169" y="212"/>
                    <a:pt x="109" y="212"/>
                  </a:cubicBezTo>
                  <a:cubicBezTo>
                    <a:pt x="49" y="212"/>
                    <a:pt x="0" y="164"/>
                    <a:pt x="0" y="106"/>
                  </a:cubicBez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48440" y="4102560"/>
              <a:ext cx="195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22320" y="414180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49880" y="3216240"/>
              <a:ext cx="339120" cy="430920"/>
            </a:xfrm>
            <a:custGeom>
              <a:avLst/>
              <a:gdLst/>
              <a:ahLst/>
              <a:rect l="l" t="t" r="r" b="b"/>
              <a:pathLst>
                <a:path w="847" h="846">
                  <a:moveTo>
                    <a:pt x="0" y="423"/>
                  </a:moveTo>
                  <a:cubicBezTo>
                    <a:pt x="0" y="189"/>
                    <a:pt x="190" y="0"/>
                    <a:pt x="423" y="0"/>
                  </a:cubicBezTo>
                  <a:cubicBezTo>
                    <a:pt x="657" y="0"/>
                    <a:pt x="847" y="189"/>
                    <a:pt x="847" y="423"/>
                  </a:cubicBezTo>
                  <a:cubicBezTo>
                    <a:pt x="847" y="423"/>
                    <a:pt x="847" y="423"/>
                    <a:pt x="847" y="423"/>
                  </a:cubicBezTo>
                  <a:cubicBezTo>
                    <a:pt x="847" y="657"/>
                    <a:pt x="657" y="846"/>
                    <a:pt x="423" y="846"/>
                  </a:cubicBezTo>
                  <a:cubicBezTo>
                    <a:pt x="190" y="846"/>
                    <a:pt x="0" y="657"/>
                    <a:pt x="0" y="423"/>
                  </a:cubicBezTo>
                </a:path>
              </a:pathLst>
            </a:custGeom>
            <a:solidFill>
              <a:srgbClr val="e8eef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49880" y="3216240"/>
              <a:ext cx="339120" cy="430920"/>
            </a:xfrm>
            <a:custGeom>
              <a:avLst/>
              <a:gdLst/>
              <a:ahLst/>
              <a:rect l="l" t="t" r="r" b="b"/>
              <a:pathLst>
                <a:path w="218" h="211">
                  <a:moveTo>
                    <a:pt x="0" y="106"/>
                  </a:moveTo>
                  <a:cubicBezTo>
                    <a:pt x="0" y="47"/>
                    <a:pt x="49" y="0"/>
                    <a:pt x="109" y="0"/>
                  </a:cubicBezTo>
                  <a:cubicBezTo>
                    <a:pt x="169" y="0"/>
                    <a:pt x="218" y="47"/>
                    <a:pt x="218" y="106"/>
                  </a:cubicBezTo>
                  <a:cubicBezTo>
                    <a:pt x="218" y="106"/>
                    <a:pt x="218" y="106"/>
                    <a:pt x="218" y="106"/>
                  </a:cubicBezTo>
                  <a:cubicBezTo>
                    <a:pt x="218" y="164"/>
                    <a:pt x="169" y="211"/>
                    <a:pt x="109" y="211"/>
                  </a:cubicBezTo>
                  <a:cubicBezTo>
                    <a:pt x="49" y="211"/>
                    <a:pt x="0" y="164"/>
                    <a:pt x="0" y="106"/>
                  </a:cubicBez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07480" y="3374640"/>
              <a:ext cx="195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79560" y="341820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04760" y="341820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33280" y="2803680"/>
              <a:ext cx="342360" cy="432000"/>
            </a:xfrm>
            <a:custGeom>
              <a:avLst/>
              <a:gdLst/>
              <a:ahLst/>
              <a:rect l="l" t="t" r="r" b="b"/>
              <a:pathLst>
                <a:path w="847" h="847">
                  <a:moveTo>
                    <a:pt x="0" y="423"/>
                  </a:moveTo>
                  <a:cubicBezTo>
                    <a:pt x="0" y="190"/>
                    <a:pt x="190" y="0"/>
                    <a:pt x="423" y="0"/>
                  </a:cubicBezTo>
                  <a:cubicBezTo>
                    <a:pt x="657" y="0"/>
                    <a:pt x="847" y="190"/>
                    <a:pt x="847" y="423"/>
                  </a:cubicBezTo>
                  <a:cubicBezTo>
                    <a:pt x="847" y="423"/>
                    <a:pt x="847" y="423"/>
                    <a:pt x="847" y="423"/>
                  </a:cubicBezTo>
                  <a:cubicBezTo>
                    <a:pt x="847" y="657"/>
                    <a:pt x="657" y="847"/>
                    <a:pt x="423" y="847"/>
                  </a:cubicBezTo>
                  <a:cubicBezTo>
                    <a:pt x="190" y="847"/>
                    <a:pt x="0" y="657"/>
                    <a:pt x="0" y="423"/>
                  </a:cubicBezTo>
                </a:path>
              </a:pathLst>
            </a:custGeom>
            <a:solidFill>
              <a:srgbClr val="e8eef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33280" y="2803680"/>
              <a:ext cx="342360" cy="432000"/>
            </a:xfrm>
            <a:custGeom>
              <a:avLst/>
              <a:gdLst/>
              <a:ahLst/>
              <a:rect l="l" t="t" r="r" b="b"/>
              <a:pathLst>
                <a:path w="219" h="212">
                  <a:moveTo>
                    <a:pt x="0" y="106"/>
                  </a:moveTo>
                  <a:cubicBezTo>
                    <a:pt x="0" y="48"/>
                    <a:pt x="49" y="0"/>
                    <a:pt x="110" y="0"/>
                  </a:cubicBezTo>
                  <a:cubicBezTo>
                    <a:pt x="170" y="0"/>
                    <a:pt x="219" y="48"/>
                    <a:pt x="219" y="106"/>
                  </a:cubicBezTo>
                  <a:cubicBezTo>
                    <a:pt x="219" y="106"/>
                    <a:pt x="219" y="106"/>
                    <a:pt x="219" y="106"/>
                  </a:cubicBezTo>
                  <a:cubicBezTo>
                    <a:pt x="219" y="164"/>
                    <a:pt x="170" y="212"/>
                    <a:pt x="110" y="212"/>
                  </a:cubicBezTo>
                  <a:cubicBezTo>
                    <a:pt x="49" y="212"/>
                    <a:pt x="0" y="164"/>
                    <a:pt x="0" y="106"/>
                  </a:cubicBez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03480" y="2967840"/>
              <a:ext cx="195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977360" y="300096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19680" y="2325960"/>
              <a:ext cx="340560" cy="432360"/>
            </a:xfrm>
            <a:custGeom>
              <a:avLst/>
              <a:gdLst/>
              <a:ahLst/>
              <a:rect l="l" t="t" r="r" b="b"/>
              <a:pathLst>
                <a:path w="846" h="846">
                  <a:moveTo>
                    <a:pt x="0" y="423"/>
                  </a:moveTo>
                  <a:cubicBezTo>
                    <a:pt x="0" y="189"/>
                    <a:pt x="189" y="0"/>
                    <a:pt x="423" y="0"/>
                  </a:cubicBezTo>
                  <a:cubicBezTo>
                    <a:pt x="657" y="0"/>
                    <a:pt x="846" y="189"/>
                    <a:pt x="846" y="423"/>
                  </a:cubicBezTo>
                  <a:cubicBezTo>
                    <a:pt x="846" y="423"/>
                    <a:pt x="846" y="423"/>
                    <a:pt x="846" y="423"/>
                  </a:cubicBezTo>
                  <a:cubicBezTo>
                    <a:pt x="846" y="657"/>
                    <a:pt x="657" y="846"/>
                    <a:pt x="423" y="846"/>
                  </a:cubicBezTo>
                  <a:cubicBezTo>
                    <a:pt x="189" y="846"/>
                    <a:pt x="0" y="657"/>
                    <a:pt x="0" y="423"/>
                  </a:cubicBezTo>
                </a:path>
              </a:pathLst>
            </a:custGeom>
            <a:solidFill>
              <a:srgbClr val="e8eef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19680" y="2325960"/>
              <a:ext cx="340560" cy="432360"/>
            </a:xfrm>
            <a:custGeom>
              <a:avLst/>
              <a:gdLst/>
              <a:ahLst/>
              <a:rect l="l" t="t" r="r" b="b"/>
              <a:pathLst>
                <a:path w="218" h="212">
                  <a:moveTo>
                    <a:pt x="0" y="106"/>
                  </a:moveTo>
                  <a:cubicBezTo>
                    <a:pt x="0" y="48"/>
                    <a:pt x="49" y="0"/>
                    <a:pt x="109" y="0"/>
                  </a:cubicBezTo>
                  <a:cubicBezTo>
                    <a:pt x="170" y="0"/>
                    <a:pt x="218" y="48"/>
                    <a:pt x="218" y="106"/>
                  </a:cubicBezTo>
                  <a:cubicBezTo>
                    <a:pt x="218" y="106"/>
                    <a:pt x="218" y="106"/>
                    <a:pt x="218" y="106"/>
                  </a:cubicBezTo>
                  <a:cubicBezTo>
                    <a:pt x="218" y="164"/>
                    <a:pt x="170" y="212"/>
                    <a:pt x="109" y="212"/>
                  </a:cubicBezTo>
                  <a:cubicBezTo>
                    <a:pt x="49" y="212"/>
                    <a:pt x="0" y="164"/>
                    <a:pt x="0" y="106"/>
                  </a:cubicBez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889880" y="2487240"/>
              <a:ext cx="195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67000" y="25171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85080" y="2142000"/>
              <a:ext cx="340560" cy="430920"/>
            </a:xfrm>
            <a:custGeom>
              <a:avLst/>
              <a:gdLst/>
              <a:ahLst/>
              <a:rect l="l" t="t" r="r" b="b"/>
              <a:pathLst>
                <a:path w="846" h="847">
                  <a:moveTo>
                    <a:pt x="0" y="423"/>
                  </a:moveTo>
                  <a:cubicBezTo>
                    <a:pt x="0" y="190"/>
                    <a:pt x="189" y="0"/>
                    <a:pt x="423" y="0"/>
                  </a:cubicBezTo>
                  <a:cubicBezTo>
                    <a:pt x="657" y="0"/>
                    <a:pt x="846" y="190"/>
                    <a:pt x="846" y="423"/>
                  </a:cubicBezTo>
                  <a:cubicBezTo>
                    <a:pt x="846" y="423"/>
                    <a:pt x="846" y="423"/>
                    <a:pt x="846" y="423"/>
                  </a:cubicBezTo>
                  <a:cubicBezTo>
                    <a:pt x="846" y="657"/>
                    <a:pt x="657" y="847"/>
                    <a:pt x="423" y="847"/>
                  </a:cubicBezTo>
                  <a:cubicBezTo>
                    <a:pt x="189" y="847"/>
                    <a:pt x="0" y="657"/>
                    <a:pt x="0" y="423"/>
                  </a:cubicBezTo>
                </a:path>
              </a:pathLst>
            </a:custGeom>
            <a:solidFill>
              <a:srgbClr val="e8eef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85080" y="2142000"/>
              <a:ext cx="340560" cy="430920"/>
            </a:xfrm>
            <a:custGeom>
              <a:avLst/>
              <a:gdLst/>
              <a:ahLst/>
              <a:rect l="l" t="t" r="r" b="b"/>
              <a:pathLst>
                <a:path w="218" h="211">
                  <a:moveTo>
                    <a:pt x="0" y="105"/>
                  </a:moveTo>
                  <a:cubicBezTo>
                    <a:pt x="0" y="47"/>
                    <a:pt x="49" y="0"/>
                    <a:pt x="109" y="0"/>
                  </a:cubicBezTo>
                  <a:cubicBezTo>
                    <a:pt x="170" y="0"/>
                    <a:pt x="218" y="47"/>
                    <a:pt x="218" y="105"/>
                  </a:cubicBezTo>
                  <a:cubicBezTo>
                    <a:pt x="218" y="105"/>
                    <a:pt x="218" y="105"/>
                    <a:pt x="218" y="105"/>
                  </a:cubicBezTo>
                  <a:cubicBezTo>
                    <a:pt x="218" y="164"/>
                    <a:pt x="170" y="211"/>
                    <a:pt x="109" y="211"/>
                  </a:cubicBezTo>
                  <a:cubicBezTo>
                    <a:pt x="49" y="211"/>
                    <a:pt x="0" y="164"/>
                    <a:pt x="0" y="105"/>
                  </a:cubicBez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255280" y="2298960"/>
              <a:ext cx="195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29520" y="23407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09280" y="5235840"/>
              <a:ext cx="168120" cy="25452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25" y="125"/>
                  </a:moveTo>
                  <a:lnTo>
                    <a:pt x="22" y="55"/>
                  </a:lnTo>
                  <a:lnTo>
                    <a:pt x="0" y="56"/>
                  </a:lnTo>
                  <a:lnTo>
                    <a:pt x="52" y="0"/>
                  </a:lnTo>
                  <a:lnTo>
                    <a:pt x="109" y="51"/>
                  </a:lnTo>
                  <a:lnTo>
                    <a:pt x="87" y="52"/>
                  </a:lnTo>
                  <a:lnTo>
                    <a:pt x="90" y="122"/>
                  </a:lnTo>
                  <a:lnTo>
                    <a:pt x="25" y="125"/>
                  </a:lnTo>
                  <a:close/>
                </a:path>
              </a:pathLst>
            </a:cu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09280" y="5235840"/>
              <a:ext cx="168120" cy="25452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25" y="125"/>
                  </a:moveTo>
                  <a:lnTo>
                    <a:pt x="22" y="55"/>
                  </a:lnTo>
                  <a:lnTo>
                    <a:pt x="0" y="56"/>
                  </a:lnTo>
                  <a:lnTo>
                    <a:pt x="52" y="0"/>
                  </a:lnTo>
                  <a:lnTo>
                    <a:pt x="109" y="51"/>
                  </a:lnTo>
                  <a:lnTo>
                    <a:pt x="87" y="52"/>
                  </a:lnTo>
                  <a:lnTo>
                    <a:pt x="90" y="122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059960" y="5205600"/>
              <a:ext cx="170280" cy="249840"/>
            </a:xfrm>
            <a:custGeom>
              <a:avLst/>
              <a:gdLst/>
              <a:ahLst/>
              <a:rect l="l" t="t" r="r" b="b"/>
              <a:pathLst>
                <a:path w="109" h="123">
                  <a:moveTo>
                    <a:pt x="22" y="123"/>
                  </a:moveTo>
                  <a:lnTo>
                    <a:pt x="22" y="53"/>
                  </a:lnTo>
                  <a:lnTo>
                    <a:pt x="0" y="53"/>
                  </a:lnTo>
                  <a:lnTo>
                    <a:pt x="54" y="0"/>
                  </a:lnTo>
                  <a:lnTo>
                    <a:pt x="109" y="52"/>
                  </a:lnTo>
                  <a:lnTo>
                    <a:pt x="87" y="52"/>
                  </a:lnTo>
                  <a:lnTo>
                    <a:pt x="87" y="123"/>
                  </a:lnTo>
                  <a:lnTo>
                    <a:pt x="22" y="123"/>
                  </a:lnTo>
                  <a:close/>
                </a:path>
              </a:pathLst>
            </a:cu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59960" y="5205600"/>
              <a:ext cx="170280" cy="249840"/>
            </a:xfrm>
            <a:custGeom>
              <a:avLst/>
              <a:gdLst/>
              <a:ahLst/>
              <a:rect l="l" t="t" r="r" b="b"/>
              <a:pathLst>
                <a:path w="109" h="123">
                  <a:moveTo>
                    <a:pt x="22" y="123"/>
                  </a:moveTo>
                  <a:lnTo>
                    <a:pt x="22" y="53"/>
                  </a:lnTo>
                  <a:lnTo>
                    <a:pt x="0" y="53"/>
                  </a:lnTo>
                  <a:lnTo>
                    <a:pt x="54" y="0"/>
                  </a:lnTo>
                  <a:lnTo>
                    <a:pt x="109" y="52"/>
                  </a:lnTo>
                  <a:lnTo>
                    <a:pt x="87" y="52"/>
                  </a:lnTo>
                  <a:lnTo>
                    <a:pt x="87" y="123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126640" y="5252400"/>
              <a:ext cx="170280" cy="25452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17" y="120"/>
                  </a:moveTo>
                  <a:lnTo>
                    <a:pt x="22" y="50"/>
                  </a:lnTo>
                  <a:lnTo>
                    <a:pt x="0" y="49"/>
                  </a:lnTo>
                  <a:lnTo>
                    <a:pt x="58" y="0"/>
                  </a:lnTo>
                  <a:lnTo>
                    <a:pt x="109" y="56"/>
                  </a:lnTo>
                  <a:lnTo>
                    <a:pt x="87" y="55"/>
                  </a:lnTo>
                  <a:lnTo>
                    <a:pt x="82" y="125"/>
                  </a:lnTo>
                  <a:lnTo>
                    <a:pt x="17" y="120"/>
                  </a:lnTo>
                  <a:close/>
                </a:path>
              </a:pathLst>
            </a:cu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126640" y="5252400"/>
              <a:ext cx="170280" cy="25452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17" y="120"/>
                  </a:moveTo>
                  <a:lnTo>
                    <a:pt x="22" y="50"/>
                  </a:lnTo>
                  <a:lnTo>
                    <a:pt x="0" y="49"/>
                  </a:lnTo>
                  <a:lnTo>
                    <a:pt x="58" y="0"/>
                  </a:lnTo>
                  <a:lnTo>
                    <a:pt x="109" y="56"/>
                  </a:lnTo>
                  <a:lnTo>
                    <a:pt x="87" y="55"/>
                  </a:lnTo>
                  <a:lnTo>
                    <a:pt x="82" y="125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18320" y="2656080"/>
              <a:ext cx="631080" cy="48492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18320" y="2656080"/>
              <a:ext cx="631080" cy="48492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11200" y="281232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8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81920" y="2812320"/>
              <a:ext cx="13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800" spc="-1" strike="noStrike">
                  <a:solidFill>
                    <a:srgbClr val="000000"/>
                  </a:solidFill>
                  <a:latin typeface="Arial"/>
                </a:rPr>
                <a:t>E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24480" y="28861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588000" y="2741760"/>
              <a:ext cx="1274760" cy="2406240"/>
            </a:xfrm>
            <a:prstGeom prst="rect">
              <a:avLst/>
            </a:prstGeom>
            <a:blipFill rotWithShape="0">
              <a:blip r:embed="rId3">
                <a:alphaModFix amt="25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VPN Ov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ystem Architecture (1/2)</a:t>
            </a:r>
            <a:br>
              <a:rPr sz="2800"/>
            </a:br>
            <a:r>
              <a:rPr b="0" lang="en-US" sz="4800" spc="-1" strike="noStrike">
                <a:solidFill>
                  <a:srgbClr val="993300"/>
                </a:solidFill>
                <a:latin typeface="Tahoma"/>
              </a:rPr>
              <a:t>Network Architectur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3C9F0-9708-47C6-8501-2A7086D26A14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551664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1280" y="2060640"/>
            <a:ext cx="8042040" cy="42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1280" y="2060640"/>
            <a:ext cx="8042040" cy="424800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37040" y="3479760"/>
            <a:ext cx="5076720" cy="1496880"/>
          </a:xfrm>
          <a:prstGeom prst="rect">
            <a:avLst/>
          </a:prstGeom>
          <a:solidFill>
            <a:srgbClr val="1a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139920" y="3483000"/>
            <a:ext cx="5064120" cy="148572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3137040" y="3479760"/>
            <a:ext cx="5076720" cy="1496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39920" y="3429000"/>
            <a:ext cx="5064120" cy="1539720"/>
          </a:xfrm>
          <a:prstGeom prst="rect">
            <a:avLst/>
          </a:prstGeom>
          <a:solidFill>
            <a:srgbClr val="ff7c80"/>
          </a:solidFill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03400" y="3479760"/>
            <a:ext cx="1735200" cy="1496880"/>
          </a:xfrm>
          <a:prstGeom prst="rect">
            <a:avLst/>
          </a:prstGeom>
          <a:solidFill>
            <a:srgbClr val="1a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1117440" y="3483000"/>
            <a:ext cx="1725840" cy="14889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103400" y="3479760"/>
            <a:ext cx="1735200" cy="1496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117440" y="3429000"/>
            <a:ext cx="1725840" cy="1542960"/>
          </a:xfrm>
          <a:prstGeom prst="rect">
            <a:avLst/>
          </a:prstGeom>
          <a:solidFill>
            <a:srgbClr val="ffcc99"/>
          </a:solidFill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95440" y="2311560"/>
            <a:ext cx="5818320" cy="811080"/>
          </a:xfrm>
          <a:prstGeom prst="rect">
            <a:avLst/>
          </a:prstGeom>
          <a:solidFill>
            <a:srgbClr val="1a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2395440" y="2316240"/>
            <a:ext cx="5808600" cy="8078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2395440" y="2311560"/>
            <a:ext cx="5818320" cy="811080"/>
          </a:xfrm>
          <a:prstGeom prst="rect">
            <a:avLst/>
          </a:prstGeom>
          <a:solidFill>
            <a:srgbClr val="d4fb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95440" y="2316240"/>
            <a:ext cx="5808600" cy="80784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103400" y="5311800"/>
            <a:ext cx="7092720" cy="698400"/>
          </a:xfrm>
          <a:prstGeom prst="rect">
            <a:avLst/>
          </a:prstGeom>
          <a:solidFill>
            <a:srgbClr val="1a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1117440" y="5321160"/>
            <a:ext cx="7086600" cy="6890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103400" y="5311800"/>
            <a:ext cx="7089840" cy="7812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16000" y="5300640"/>
            <a:ext cx="7086600" cy="79236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6360" y="4525920"/>
            <a:ext cx="1908000" cy="360360"/>
          </a:xfrm>
          <a:prstGeom prst="rect">
            <a:avLst/>
          </a:prstGeom>
          <a:solidFill>
            <a:srgbClr val="e8ee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56360" y="4525920"/>
            <a:ext cx="1908000" cy="36036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25960" y="4581360"/>
            <a:ext cx="551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Tal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40160" y="4525920"/>
            <a:ext cx="1341360" cy="360360"/>
          </a:xfrm>
          <a:prstGeom prst="rect">
            <a:avLst/>
          </a:prstGeom>
          <a:solidFill>
            <a:srgbClr val="e8ee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40160" y="4525920"/>
            <a:ext cx="1341360" cy="36036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19640" y="4581360"/>
            <a:ext cx="133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Keyhol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00720" y="2349360"/>
            <a:ext cx="180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Verification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51280" y="5300640"/>
            <a:ext cx="188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Administration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85840" y="3573360"/>
            <a:ext cx="161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Registration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932360" y="3429000"/>
            <a:ext cx="1704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System Cor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56000" y="2637000"/>
            <a:ext cx="1936800" cy="318960"/>
          </a:xfrm>
          <a:custGeom>
            <a:avLst/>
            <a:gdLst/>
            <a:ahLst/>
            <a:rect l="l" t="t" r="r" b="b"/>
            <a:pathLst>
              <a:path w="674" h="148">
                <a:moveTo>
                  <a:pt x="674" y="37"/>
                </a:moveTo>
                <a:lnTo>
                  <a:pt x="39" y="37"/>
                </a:lnTo>
                <a:lnTo>
                  <a:pt x="39" y="0"/>
                </a:lnTo>
                <a:lnTo>
                  <a:pt x="0" y="74"/>
                </a:lnTo>
                <a:lnTo>
                  <a:pt x="39" y="148"/>
                </a:lnTo>
                <a:lnTo>
                  <a:pt x="39" y="111"/>
                </a:lnTo>
                <a:lnTo>
                  <a:pt x="674" y="111"/>
                </a:lnTo>
                <a:lnTo>
                  <a:pt x="674" y="37"/>
                </a:lnTo>
                <a:close/>
              </a:path>
            </a:pathLst>
          </a:custGeom>
          <a:solidFill>
            <a:srgbClr val="dde2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56000" y="2637000"/>
            <a:ext cx="1936800" cy="318960"/>
          </a:xfrm>
          <a:custGeom>
            <a:avLst/>
            <a:gdLst/>
            <a:ahLst/>
            <a:rect l="l" t="t" r="r" b="b"/>
            <a:pathLst>
              <a:path w="674" h="148">
                <a:moveTo>
                  <a:pt x="674" y="37"/>
                </a:moveTo>
                <a:lnTo>
                  <a:pt x="39" y="37"/>
                </a:lnTo>
                <a:lnTo>
                  <a:pt x="39" y="0"/>
                </a:lnTo>
                <a:lnTo>
                  <a:pt x="0" y="74"/>
                </a:lnTo>
                <a:lnTo>
                  <a:pt x="39" y="148"/>
                </a:lnTo>
                <a:lnTo>
                  <a:pt x="39" y="111"/>
                </a:lnTo>
                <a:lnTo>
                  <a:pt x="674" y="111"/>
                </a:lnTo>
                <a:lnTo>
                  <a:pt x="674" y="37"/>
                </a:lnTo>
                <a:close/>
              </a:path>
            </a:pathLst>
          </a:cu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96000" y="3789360"/>
            <a:ext cx="479520" cy="318960"/>
          </a:xfrm>
          <a:custGeom>
            <a:avLst/>
            <a:gdLst/>
            <a:ahLst/>
            <a:rect l="l" t="t" r="r" b="b"/>
            <a:pathLst>
              <a:path w="187" h="148">
                <a:moveTo>
                  <a:pt x="0" y="111"/>
                </a:moveTo>
                <a:lnTo>
                  <a:pt x="148" y="111"/>
                </a:lnTo>
                <a:lnTo>
                  <a:pt x="148" y="148"/>
                </a:lnTo>
                <a:lnTo>
                  <a:pt x="187" y="74"/>
                </a:lnTo>
                <a:lnTo>
                  <a:pt x="148" y="0"/>
                </a:lnTo>
                <a:lnTo>
                  <a:pt x="148" y="37"/>
                </a:lnTo>
                <a:lnTo>
                  <a:pt x="0" y="37"/>
                </a:lnTo>
                <a:lnTo>
                  <a:pt x="0" y="111"/>
                </a:lnTo>
                <a:close/>
              </a:path>
            </a:pathLst>
          </a:custGeom>
          <a:solidFill>
            <a:srgbClr val="dde2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96000" y="3789360"/>
            <a:ext cx="479520" cy="318960"/>
          </a:xfrm>
          <a:custGeom>
            <a:avLst/>
            <a:gdLst/>
            <a:ahLst/>
            <a:rect l="l" t="t" r="r" b="b"/>
            <a:pathLst>
              <a:path w="187" h="148">
                <a:moveTo>
                  <a:pt x="0" y="111"/>
                </a:moveTo>
                <a:lnTo>
                  <a:pt x="148" y="111"/>
                </a:lnTo>
                <a:lnTo>
                  <a:pt x="148" y="148"/>
                </a:lnTo>
                <a:lnTo>
                  <a:pt x="187" y="74"/>
                </a:lnTo>
                <a:lnTo>
                  <a:pt x="148" y="0"/>
                </a:lnTo>
                <a:lnTo>
                  <a:pt x="148" y="37"/>
                </a:lnTo>
                <a:lnTo>
                  <a:pt x="0" y="37"/>
                </a:lnTo>
                <a:lnTo>
                  <a:pt x="0" y="111"/>
                </a:lnTo>
                <a:close/>
              </a:path>
            </a:pathLst>
          </a:cu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781520" y="4546440"/>
            <a:ext cx="474840" cy="317520"/>
          </a:xfrm>
          <a:custGeom>
            <a:avLst/>
            <a:gdLst/>
            <a:ahLst/>
            <a:rect l="l" t="t" r="r" b="b"/>
            <a:pathLst>
              <a:path w="165" h="147">
                <a:moveTo>
                  <a:pt x="0" y="111"/>
                </a:moveTo>
                <a:lnTo>
                  <a:pt x="126" y="111"/>
                </a:lnTo>
                <a:lnTo>
                  <a:pt x="126" y="147"/>
                </a:lnTo>
                <a:lnTo>
                  <a:pt x="165" y="73"/>
                </a:lnTo>
                <a:lnTo>
                  <a:pt x="126" y="0"/>
                </a:lnTo>
                <a:lnTo>
                  <a:pt x="126" y="37"/>
                </a:lnTo>
                <a:lnTo>
                  <a:pt x="0" y="37"/>
                </a:lnTo>
                <a:lnTo>
                  <a:pt x="0" y="111"/>
                </a:lnTo>
                <a:close/>
              </a:path>
            </a:pathLst>
          </a:custGeom>
          <a:solidFill>
            <a:srgbClr val="dde2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81520" y="4546440"/>
            <a:ext cx="474840" cy="317520"/>
          </a:xfrm>
          <a:custGeom>
            <a:avLst/>
            <a:gdLst/>
            <a:ahLst/>
            <a:rect l="l" t="t" r="r" b="b"/>
            <a:pathLst>
              <a:path w="165" h="147">
                <a:moveTo>
                  <a:pt x="0" y="111"/>
                </a:moveTo>
                <a:lnTo>
                  <a:pt x="126" y="111"/>
                </a:lnTo>
                <a:lnTo>
                  <a:pt x="126" y="147"/>
                </a:lnTo>
                <a:lnTo>
                  <a:pt x="165" y="73"/>
                </a:lnTo>
                <a:lnTo>
                  <a:pt x="126" y="0"/>
                </a:lnTo>
                <a:lnTo>
                  <a:pt x="126" y="37"/>
                </a:lnTo>
                <a:lnTo>
                  <a:pt x="0" y="37"/>
                </a:lnTo>
                <a:lnTo>
                  <a:pt x="0" y="111"/>
                </a:lnTo>
                <a:close/>
              </a:path>
            </a:pathLst>
          </a:cu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3800" y="4149720"/>
            <a:ext cx="449280" cy="376200"/>
          </a:xfrm>
          <a:custGeom>
            <a:avLst/>
            <a:gdLst/>
            <a:ahLst/>
            <a:rect l="l" t="t" r="r" b="b"/>
            <a:pathLst>
              <a:path w="156" h="158">
                <a:moveTo>
                  <a:pt x="117" y="158"/>
                </a:moveTo>
                <a:lnTo>
                  <a:pt x="117" y="37"/>
                </a:lnTo>
                <a:lnTo>
                  <a:pt x="156" y="37"/>
                </a:lnTo>
                <a:lnTo>
                  <a:pt x="78" y="0"/>
                </a:lnTo>
                <a:lnTo>
                  <a:pt x="0" y="37"/>
                </a:lnTo>
                <a:lnTo>
                  <a:pt x="39" y="37"/>
                </a:lnTo>
                <a:lnTo>
                  <a:pt x="39" y="158"/>
                </a:lnTo>
                <a:lnTo>
                  <a:pt x="117" y="158"/>
                </a:lnTo>
                <a:close/>
              </a:path>
            </a:pathLst>
          </a:custGeom>
          <a:solidFill>
            <a:srgbClr val="dde2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3800" y="4149720"/>
            <a:ext cx="449280" cy="376200"/>
          </a:xfrm>
          <a:custGeom>
            <a:avLst/>
            <a:gdLst/>
            <a:ahLst/>
            <a:rect l="l" t="t" r="r" b="b"/>
            <a:pathLst>
              <a:path w="156" h="158">
                <a:moveTo>
                  <a:pt x="117" y="158"/>
                </a:moveTo>
                <a:lnTo>
                  <a:pt x="117" y="37"/>
                </a:lnTo>
                <a:lnTo>
                  <a:pt x="156" y="37"/>
                </a:lnTo>
                <a:lnTo>
                  <a:pt x="78" y="0"/>
                </a:lnTo>
                <a:lnTo>
                  <a:pt x="0" y="37"/>
                </a:lnTo>
                <a:lnTo>
                  <a:pt x="39" y="37"/>
                </a:lnTo>
                <a:lnTo>
                  <a:pt x="39" y="158"/>
                </a:lnTo>
                <a:lnTo>
                  <a:pt x="117" y="158"/>
                </a:lnTo>
                <a:close/>
              </a:path>
            </a:pathLst>
          </a:cu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50120" y="4149720"/>
            <a:ext cx="444240" cy="376200"/>
          </a:xfrm>
          <a:custGeom>
            <a:avLst/>
            <a:gdLst/>
            <a:ahLst/>
            <a:rect l="l" t="t" r="r" b="b"/>
            <a:pathLst>
              <a:path w="155" h="158">
                <a:moveTo>
                  <a:pt x="116" y="158"/>
                </a:moveTo>
                <a:lnTo>
                  <a:pt x="116" y="37"/>
                </a:lnTo>
                <a:lnTo>
                  <a:pt x="155" y="37"/>
                </a:lnTo>
                <a:lnTo>
                  <a:pt x="78" y="0"/>
                </a:lnTo>
                <a:lnTo>
                  <a:pt x="0" y="37"/>
                </a:lnTo>
                <a:lnTo>
                  <a:pt x="39" y="37"/>
                </a:lnTo>
                <a:lnTo>
                  <a:pt x="39" y="158"/>
                </a:lnTo>
                <a:lnTo>
                  <a:pt x="116" y="158"/>
                </a:lnTo>
                <a:close/>
              </a:path>
            </a:pathLst>
          </a:custGeom>
          <a:solidFill>
            <a:srgbClr val="dde2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50120" y="4149720"/>
            <a:ext cx="444240" cy="376200"/>
          </a:xfrm>
          <a:custGeom>
            <a:avLst/>
            <a:gdLst/>
            <a:ahLst/>
            <a:rect l="l" t="t" r="r" b="b"/>
            <a:pathLst>
              <a:path w="155" h="158">
                <a:moveTo>
                  <a:pt x="116" y="158"/>
                </a:moveTo>
                <a:lnTo>
                  <a:pt x="116" y="37"/>
                </a:lnTo>
                <a:lnTo>
                  <a:pt x="155" y="37"/>
                </a:lnTo>
                <a:lnTo>
                  <a:pt x="78" y="0"/>
                </a:lnTo>
                <a:lnTo>
                  <a:pt x="0" y="37"/>
                </a:lnTo>
                <a:lnTo>
                  <a:pt x="39" y="37"/>
                </a:lnTo>
                <a:lnTo>
                  <a:pt x="39" y="158"/>
                </a:lnTo>
                <a:lnTo>
                  <a:pt x="116" y="158"/>
                </a:lnTo>
                <a:close/>
              </a:path>
            </a:pathLst>
          </a:cu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73640" y="4149720"/>
            <a:ext cx="446040" cy="376200"/>
          </a:xfrm>
          <a:custGeom>
            <a:avLst/>
            <a:gdLst/>
            <a:ahLst/>
            <a:rect l="l" t="t" r="r" b="b"/>
            <a:pathLst>
              <a:path w="155" h="158">
                <a:moveTo>
                  <a:pt x="38" y="0"/>
                </a:moveTo>
                <a:lnTo>
                  <a:pt x="38" y="121"/>
                </a:lnTo>
                <a:lnTo>
                  <a:pt x="0" y="121"/>
                </a:lnTo>
                <a:lnTo>
                  <a:pt x="77" y="158"/>
                </a:lnTo>
                <a:lnTo>
                  <a:pt x="155" y="121"/>
                </a:lnTo>
                <a:lnTo>
                  <a:pt x="116" y="121"/>
                </a:lnTo>
                <a:lnTo>
                  <a:pt x="116" y="0"/>
                </a:lnTo>
                <a:lnTo>
                  <a:pt x="38" y="0"/>
                </a:lnTo>
                <a:close/>
              </a:path>
            </a:pathLst>
          </a:custGeom>
          <a:solidFill>
            <a:srgbClr val="dde2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73640" y="4149720"/>
            <a:ext cx="446040" cy="376200"/>
          </a:xfrm>
          <a:custGeom>
            <a:avLst/>
            <a:gdLst/>
            <a:ahLst/>
            <a:rect l="l" t="t" r="r" b="b"/>
            <a:pathLst>
              <a:path w="155" h="158">
                <a:moveTo>
                  <a:pt x="38" y="0"/>
                </a:moveTo>
                <a:lnTo>
                  <a:pt x="38" y="121"/>
                </a:lnTo>
                <a:lnTo>
                  <a:pt x="0" y="121"/>
                </a:lnTo>
                <a:lnTo>
                  <a:pt x="77" y="158"/>
                </a:lnTo>
                <a:lnTo>
                  <a:pt x="155" y="121"/>
                </a:lnTo>
                <a:lnTo>
                  <a:pt x="116" y="121"/>
                </a:lnTo>
                <a:lnTo>
                  <a:pt x="116" y="0"/>
                </a:lnTo>
                <a:lnTo>
                  <a:pt x="38" y="0"/>
                </a:lnTo>
                <a:close/>
              </a:path>
            </a:pathLst>
          </a:cu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78520" y="4971960"/>
            <a:ext cx="449280" cy="328680"/>
          </a:xfrm>
          <a:custGeom>
            <a:avLst/>
            <a:gdLst/>
            <a:ahLst/>
            <a:rect l="l" t="t" r="r" b="b"/>
            <a:pathLst>
              <a:path w="156" h="157">
                <a:moveTo>
                  <a:pt x="117" y="37"/>
                </a:moveTo>
                <a:lnTo>
                  <a:pt x="156" y="37"/>
                </a:lnTo>
                <a:lnTo>
                  <a:pt x="78" y="0"/>
                </a:lnTo>
                <a:lnTo>
                  <a:pt x="0" y="37"/>
                </a:lnTo>
                <a:lnTo>
                  <a:pt x="39" y="37"/>
                </a:lnTo>
                <a:lnTo>
                  <a:pt x="39" y="120"/>
                </a:lnTo>
                <a:lnTo>
                  <a:pt x="0" y="120"/>
                </a:lnTo>
                <a:lnTo>
                  <a:pt x="78" y="157"/>
                </a:lnTo>
                <a:lnTo>
                  <a:pt x="156" y="120"/>
                </a:lnTo>
                <a:lnTo>
                  <a:pt x="117" y="120"/>
                </a:lnTo>
                <a:lnTo>
                  <a:pt x="117" y="37"/>
                </a:lnTo>
                <a:close/>
              </a:path>
            </a:pathLst>
          </a:custGeom>
          <a:solidFill>
            <a:srgbClr val="dde2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78520" y="4971960"/>
            <a:ext cx="449280" cy="338400"/>
          </a:xfrm>
          <a:custGeom>
            <a:avLst/>
            <a:gdLst/>
            <a:ahLst/>
            <a:rect l="l" t="t" r="r" b="b"/>
            <a:pathLst>
              <a:path w="156" h="157">
                <a:moveTo>
                  <a:pt x="117" y="37"/>
                </a:moveTo>
                <a:lnTo>
                  <a:pt x="156" y="37"/>
                </a:lnTo>
                <a:lnTo>
                  <a:pt x="78" y="0"/>
                </a:lnTo>
                <a:lnTo>
                  <a:pt x="0" y="37"/>
                </a:lnTo>
                <a:lnTo>
                  <a:pt x="39" y="37"/>
                </a:lnTo>
                <a:lnTo>
                  <a:pt x="39" y="120"/>
                </a:lnTo>
                <a:lnTo>
                  <a:pt x="0" y="120"/>
                </a:lnTo>
                <a:lnTo>
                  <a:pt x="78" y="157"/>
                </a:lnTo>
                <a:lnTo>
                  <a:pt x="156" y="120"/>
                </a:lnTo>
                <a:lnTo>
                  <a:pt x="117" y="120"/>
                </a:lnTo>
                <a:lnTo>
                  <a:pt x="117" y="37"/>
                </a:lnTo>
                <a:close/>
              </a:path>
            </a:pathLst>
          </a:cu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43280" y="4024440"/>
            <a:ext cx="296640" cy="320400"/>
          </a:xfrm>
          <a:custGeom>
            <a:avLst/>
            <a:gdLst/>
            <a:ahLst/>
            <a:rect l="l" t="t" r="r" b="b"/>
            <a:pathLst>
              <a:path w="103" h="148">
                <a:moveTo>
                  <a:pt x="0" y="111"/>
                </a:moveTo>
                <a:lnTo>
                  <a:pt x="69" y="111"/>
                </a:lnTo>
                <a:lnTo>
                  <a:pt x="69" y="148"/>
                </a:lnTo>
                <a:lnTo>
                  <a:pt x="103" y="74"/>
                </a:lnTo>
                <a:lnTo>
                  <a:pt x="69" y="0"/>
                </a:lnTo>
                <a:lnTo>
                  <a:pt x="69" y="37"/>
                </a:lnTo>
                <a:lnTo>
                  <a:pt x="0" y="37"/>
                </a:lnTo>
                <a:lnTo>
                  <a:pt x="0" y="111"/>
                </a:lnTo>
                <a:close/>
              </a:path>
            </a:pathLst>
          </a:custGeom>
          <a:solidFill>
            <a:srgbClr val="dde2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43280" y="4024440"/>
            <a:ext cx="296640" cy="320400"/>
          </a:xfrm>
          <a:custGeom>
            <a:avLst/>
            <a:gdLst/>
            <a:ahLst/>
            <a:rect l="l" t="t" r="r" b="b"/>
            <a:pathLst>
              <a:path w="103" h="148">
                <a:moveTo>
                  <a:pt x="0" y="111"/>
                </a:moveTo>
                <a:lnTo>
                  <a:pt x="69" y="111"/>
                </a:lnTo>
                <a:lnTo>
                  <a:pt x="69" y="148"/>
                </a:lnTo>
                <a:lnTo>
                  <a:pt x="103" y="74"/>
                </a:lnTo>
                <a:lnTo>
                  <a:pt x="69" y="0"/>
                </a:lnTo>
                <a:lnTo>
                  <a:pt x="69" y="37"/>
                </a:lnTo>
                <a:lnTo>
                  <a:pt x="0" y="37"/>
                </a:lnTo>
                <a:lnTo>
                  <a:pt x="0" y="111"/>
                </a:lnTo>
                <a:close/>
              </a:path>
            </a:pathLst>
          </a:cu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51480" y="3124080"/>
            <a:ext cx="446040" cy="304920"/>
          </a:xfrm>
          <a:custGeom>
            <a:avLst/>
            <a:gdLst/>
            <a:ahLst/>
            <a:rect l="l" t="t" r="r" b="b"/>
            <a:pathLst>
              <a:path w="155" h="157">
                <a:moveTo>
                  <a:pt x="116" y="36"/>
                </a:moveTo>
                <a:lnTo>
                  <a:pt x="155" y="36"/>
                </a:lnTo>
                <a:lnTo>
                  <a:pt x="77" y="0"/>
                </a:lnTo>
                <a:lnTo>
                  <a:pt x="0" y="36"/>
                </a:lnTo>
                <a:lnTo>
                  <a:pt x="39" y="36"/>
                </a:lnTo>
                <a:lnTo>
                  <a:pt x="39" y="120"/>
                </a:lnTo>
                <a:lnTo>
                  <a:pt x="0" y="120"/>
                </a:lnTo>
                <a:lnTo>
                  <a:pt x="77" y="157"/>
                </a:lnTo>
                <a:lnTo>
                  <a:pt x="155" y="120"/>
                </a:lnTo>
                <a:lnTo>
                  <a:pt x="116" y="120"/>
                </a:lnTo>
                <a:lnTo>
                  <a:pt x="116" y="36"/>
                </a:lnTo>
                <a:close/>
              </a:path>
            </a:pathLst>
          </a:custGeom>
          <a:solidFill>
            <a:srgbClr val="dde2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51480" y="3124080"/>
            <a:ext cx="446040" cy="304920"/>
          </a:xfrm>
          <a:custGeom>
            <a:avLst/>
            <a:gdLst/>
            <a:ahLst/>
            <a:rect l="l" t="t" r="r" b="b"/>
            <a:pathLst>
              <a:path w="155" h="157">
                <a:moveTo>
                  <a:pt x="116" y="36"/>
                </a:moveTo>
                <a:lnTo>
                  <a:pt x="155" y="36"/>
                </a:lnTo>
                <a:lnTo>
                  <a:pt x="77" y="0"/>
                </a:lnTo>
                <a:lnTo>
                  <a:pt x="0" y="36"/>
                </a:lnTo>
                <a:lnTo>
                  <a:pt x="39" y="36"/>
                </a:lnTo>
                <a:lnTo>
                  <a:pt x="39" y="120"/>
                </a:lnTo>
                <a:lnTo>
                  <a:pt x="0" y="120"/>
                </a:lnTo>
                <a:lnTo>
                  <a:pt x="77" y="157"/>
                </a:lnTo>
                <a:lnTo>
                  <a:pt x="155" y="120"/>
                </a:lnTo>
                <a:lnTo>
                  <a:pt x="116" y="120"/>
                </a:lnTo>
                <a:lnTo>
                  <a:pt x="116" y="36"/>
                </a:lnTo>
                <a:close/>
              </a:path>
            </a:pathLst>
          </a:cu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81240" y="4003560"/>
            <a:ext cx="1338120" cy="362160"/>
          </a:xfrm>
          <a:prstGeom prst="rect">
            <a:avLst/>
          </a:prstGeom>
          <a:solidFill>
            <a:srgbClr val="e8ee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281240" y="4003560"/>
            <a:ext cx="1338120" cy="433440"/>
          </a:xfrm>
          <a:prstGeom prst="rect">
            <a:avLst/>
          </a:prstGeom>
          <a:solidFill>
            <a:srgbClr val="ffffff"/>
          </a:solidFill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47640" y="4076640"/>
            <a:ext cx="82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Registr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44840" y="5589720"/>
            <a:ext cx="2606760" cy="363240"/>
          </a:xfrm>
          <a:prstGeom prst="rect">
            <a:avLst/>
          </a:prstGeom>
          <a:solidFill>
            <a:srgbClr val="e8ee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44840" y="5589720"/>
            <a:ext cx="2606760" cy="431640"/>
          </a:xfrm>
          <a:prstGeom prst="rect">
            <a:avLst/>
          </a:prstGeom>
          <a:solidFill>
            <a:srgbClr val="f0f2cc"/>
          </a:solidFill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64000" y="5661000"/>
            <a:ext cx="2349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System Administr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994120" y="2570040"/>
            <a:ext cx="1339920" cy="427320"/>
          </a:xfrm>
          <a:prstGeom prst="rect">
            <a:avLst/>
          </a:prstGeom>
          <a:solidFill>
            <a:srgbClr val="e8ee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987640" y="2565360"/>
            <a:ext cx="1339920" cy="43200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00480" y="2637000"/>
            <a:ext cx="744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Aud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270480" y="2570040"/>
            <a:ext cx="1339920" cy="362160"/>
          </a:xfrm>
          <a:prstGeom prst="rect">
            <a:avLst/>
          </a:prstGeom>
          <a:solidFill>
            <a:srgbClr val="e8ee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270480" y="2570040"/>
            <a:ext cx="1339920" cy="427320"/>
          </a:xfrm>
          <a:prstGeom prst="rect">
            <a:avLst/>
          </a:prstGeom>
          <a:solidFill>
            <a:srgbClr val="ffffff"/>
          </a:solidFill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568920" y="263700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Log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76720" y="3716280"/>
            <a:ext cx="2500200" cy="424080"/>
          </a:xfrm>
          <a:prstGeom prst="rect">
            <a:avLst/>
          </a:prstGeom>
          <a:solidFill>
            <a:srgbClr val="e8ee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76720" y="3716280"/>
            <a:ext cx="2500200" cy="42408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24360" y="3789360"/>
            <a:ext cx="123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Voting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351480" y="3716280"/>
            <a:ext cx="1549440" cy="43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300720" y="3716280"/>
            <a:ext cx="1584360" cy="434880"/>
          </a:xfrm>
          <a:prstGeom prst="rect">
            <a:avLst/>
          </a:prstGeom>
          <a:solidFill>
            <a:srgbClr val="ffffff"/>
          </a:solidFill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27640" y="3716280"/>
            <a:ext cx="1729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Bulletin Boa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ystem Architecture (2/2)</a:t>
            </a:r>
            <a:br>
              <a:rPr sz="2800"/>
            </a:br>
            <a:r>
              <a:rPr b="0" lang="en-US" sz="4800" spc="-1" strike="noStrike">
                <a:solidFill>
                  <a:srgbClr val="993300"/>
                </a:solidFill>
                <a:latin typeface="Tahoma"/>
              </a:rPr>
              <a:t>EA Architectur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225AE-4699-4969-B958-7C443823F30F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sentation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ting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Implementation Too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43EF0-0B36-4A0B-8D84-658E7823B5C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5076360" y="1989000"/>
            <a:ext cx="367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tb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ny-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im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RNG SG100 for see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EL’s ATMega8 microcontroller for secure bootstrapping of parameters and startup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buntu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uncy Castle Java crypto Libr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/ NetBe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ache/Apache Tomc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gre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VP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ena 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lementation Tools (1/19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Software and 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D7A3F-12F2-4BDD-A51D-43A72D582F4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764640"/>
            <a:ext cx="7993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view (2/4)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Meeting the requirements (1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obust cryptographic protocol, (W. Smith 2005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shold cryptograp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Gamal Homomorphic encryption/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momorphic tallying of vo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ated Verifier Zero Knowledge Proofs of vote valid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Sign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st engineering approac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s of Trust” Architectu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ML-based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l and semi-formal ris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1512F-C9E2-4246-B7D3-7BDD7B40935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684360" y="227664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buntu Server 8.04.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spcAft>
                <a:spcPts val="4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y Large User base, easy suppo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spcAft>
                <a:spcPts val="4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y to administ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spcAft>
                <a:spcPts val="4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can (in theory) be set up in every modern Linux distribu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lementation Tools (2/19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Ubuntu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A62CE-4A0E-4957-AD8E-3AB8B95810E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610920" y="2017440"/>
            <a:ext cx="806436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ouncy Cast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collection of API used in cryptography. It includes APIs for both C# and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has an easy to use Java AP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reated our own crypto library, based on Bouncy Castle ver 1.3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us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lliptic Curve Cryptography (ECC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implement El Gamal Encryption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plan to use ECC for other cryptographic modules of th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lementation Tools (3/19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Bouncy Cast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33D94-3926-4E15-BB76-B4CA5031266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755640" y="2017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ain core of the system was implemented in Java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uncy Castle based libr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 Serv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beans v6.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ache Tomcat v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6.0.16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lementation Tools (4/19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Java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C68D8-92BF-47BF-924B-29DFD45647E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lementation Tools (5/19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Apache / Apache Tomc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ache (ver 2.2.8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s the OpenCA Web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SSL Communication with voters (mod_ss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allow unauthorized clients to conn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s over requests for the voting interface to Tomcat Server (mod_j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87640" y="220500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ache Tomcat (ver 6.0.1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s the voting and administration interf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s java code of the servl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s the database requests contained in the servl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ilt-in load balanc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A8A41-4E57-45D4-8EC1-9A85CEAE361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684360" y="2017440"/>
            <a:ext cx="79912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 algn="just">
              <a:lnSpc>
                <a:spcPct val="9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greSQL ver. 8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 algn="just">
              <a:lnSpc>
                <a:spcPct val="9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entralized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 algn="just">
              <a:lnSpc>
                <a:spcPct val="9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EA holds all the data necessary for the voting process to proce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 algn="just">
              <a:lnSpc>
                <a:spcPct val="9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Local EA has a database with the same tables as the Central 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 algn="just">
              <a:lnSpc>
                <a:spcPct val="9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Local EA’s database only holds data specific to itself (List of voters, votes, local resul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 algn="just">
              <a:lnSpc>
                <a:spcPct val="9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entral database of the system holds the union of all the data stored in the Local EAs, plus some extra voting parameters for the voting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lementation Tools (6/19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Databas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241CD-67E2-4BE6-9ABF-47B09C591BD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755640" y="242100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 algn="just">
              <a:spcBef>
                <a:spcPts val="799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 eligible voter of the system has a username and a password assigned to him/her by the syst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 algn="just">
              <a:spcBef>
                <a:spcPts val="799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oter must use his/her credentials to access the voting interfa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lementation Tools (7/19)</a:t>
            </a:r>
            <a:br>
              <a:rPr sz="2800"/>
            </a:br>
            <a:r>
              <a:rPr b="0" lang="en-US" sz="4000" spc="-1" strike="noStrike">
                <a:solidFill>
                  <a:srgbClr val="993300"/>
                </a:solidFill>
                <a:latin typeface="Tahoma"/>
              </a:rPr>
              <a:t>Voter Authentication – </a:t>
            </a:r>
            <a:br>
              <a:rPr sz="4000"/>
            </a:br>
            <a:r>
              <a:rPr b="0" lang="en-US" sz="4000" spc="-1" strike="noStrike">
                <a:solidFill>
                  <a:srgbClr val="993300"/>
                </a:solidFill>
                <a:latin typeface="Tahoma"/>
              </a:rPr>
              <a:t>User Name and Passwor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96CE6-7425-4344-B79F-DBEBD3B9F1B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lementation Tools (8/19)</a:t>
            </a:r>
            <a:br>
              <a:rPr sz="2800"/>
            </a:br>
            <a:r>
              <a:rPr b="0" lang="en-US" sz="4000" spc="-1" strike="noStrike">
                <a:solidFill>
                  <a:srgbClr val="993300"/>
                </a:solidFill>
                <a:latin typeface="Tahoma"/>
              </a:rPr>
              <a:t>Voter Authentication – OpenC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the voting interface is restricted only to certified browse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ertificates are issued by the Central Certificate Authority, implemented by OpenC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ters must use OpenCA’s web interface to obtain a certificate for their browser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CA is also used to issue all certificates used by the system (OpenVPN, Apache SSL Certificate, User Authent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9D0F7-A469-45FE-A2F8-BC86277F7EB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610920" y="220500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ee-like structure for the Certification and Registration Authorities, allowing maximum scalability of the syst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just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y to use Web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just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dministrator must manually approve or disapprove every certificate requ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lementation Tools (9/19)</a:t>
            </a:r>
            <a:br>
              <a:rPr sz="2800"/>
            </a:br>
            <a:r>
              <a:rPr b="0" lang="en-US" sz="4000" spc="-1" strike="noStrike">
                <a:solidFill>
                  <a:srgbClr val="993300"/>
                </a:solidFill>
                <a:latin typeface="Tahoma"/>
              </a:rPr>
              <a:t>OpenCA Advantages and Disadvantag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202AE-89A5-4412-A76C-03E93637F39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lementation Tools (10/19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OpenVP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VPN Connection between Local EAs and Central E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penVPN Server on Central EA, accessible over the Interne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nection to the VPN requires a certifica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SL Encryption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5076720" y="2060640"/>
            <a:ext cx="3810240" cy="39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A6FE5-3D74-4B8D-A09A-3FEDAD18D65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4321440" cy="42483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lementation Tools (11/19)</a:t>
            </a:r>
            <a:br>
              <a:rPr sz="2800"/>
            </a:br>
            <a:r>
              <a:rPr b="0" lang="en-US" sz="4000" spc="-1" strike="noStrike">
                <a:solidFill>
                  <a:srgbClr val="993300"/>
                </a:solidFill>
                <a:latin typeface="Tahoma"/>
              </a:rPr>
              <a:t>Intrusion Detection System: HELEN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4176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ed by RAC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antly gathers and analyzes incoming and outgoing traffic from a target network (the network with the central EAs in our cas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 computer ag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 console ag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-used” request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shold values – updates: target network is modeled with a directed graph with connections (vertices: computers + ports, edges: connection reques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7896B-D95A-43B7-9C48-326FF5A3855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764640"/>
            <a:ext cx="7993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view (3/4)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Meeting the requirements (2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64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and publicly verifiable implement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 Source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e VPN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ve data logging/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 evalu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oretical (open network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/M/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eues) model describing large scale national e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mu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model to assess the overall system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ck-up pol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ith the participation of members of the Technical Chamber of Gree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0D65E-7B96-4C3A-9DD2-21E9B3C828F0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lementation Tools (12/19)</a:t>
            </a:r>
            <a:br>
              <a:rPr sz="2800"/>
            </a:br>
            <a:r>
              <a:rPr b="0" lang="en-US" sz="4800" spc="-1" strike="noStrike">
                <a:solidFill>
                  <a:srgbClr val="993300"/>
                </a:solidFill>
                <a:latin typeface="Tahoma"/>
              </a:rPr>
              <a:t>Heartbeat Overview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40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sters of Computing Systems ensure availability even in case of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tBeat monitors the health of the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de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ails, then Heartbeat activat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d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2 serves the client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5003640" y="1989000"/>
          <a:ext cx="3764160" cy="407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989000"/>
                    <a:ext cx="3764160" cy="40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2A966-1EA8-41D4-BBA7-3A9F29C4377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684000" y="227664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 algn="just">
              <a:spcBef>
                <a:spcPts val="799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the two servers’ DBs to be in sync, we use a Data Base Replication Schem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0" algn="just">
              <a:spcBef>
                <a:spcPts val="300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 algn="just">
              <a:spcBef>
                <a:spcPts val="799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Slony-I is a "master to multiple slaves" replication system supporting cascading and failo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lementation Tools (13/19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Database Synchro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A526A-9C61-4520-A609-7052CD920A0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684360" y="2205000"/>
            <a:ext cx="424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rtbeat monitors the health of the two servers of the cluste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lony-I is used to replicate data between the DBs of the two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a failure is detected in one node, the other takes ov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base of backup node is kept up-to-date with Slony-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voting process can go on without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5145120" y="2205000"/>
            <a:ext cx="3809880" cy="396072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lementation Tools (14/19)</a:t>
            </a:r>
            <a:br>
              <a:rPr sz="2800"/>
            </a:br>
            <a:r>
              <a:rPr b="0" lang="en-US" sz="4000" spc="-1" strike="noStrike">
                <a:solidFill>
                  <a:srgbClr val="993300"/>
                </a:solidFill>
                <a:latin typeface="Tahoma"/>
              </a:rPr>
              <a:t>High Availability Application Exampl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13536-F638-433B-AA11-6BA5BB38810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468000" y="2349360"/>
            <a:ext cx="43196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49"/>
              </a:spcBef>
              <a:spcAft>
                <a:spcPts val="6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ata from Local EAs are transferred to Central E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spcBef>
                <a:spcPts val="649"/>
              </a:spcBef>
              <a:spcAft>
                <a:spcPts val="6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lony-I creates “clusters”, consisting of Local EAs and Central E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spcBef>
                <a:spcPts val="649"/>
              </a:spcBef>
              <a:spcAft>
                <a:spcPts val="6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synchronous Transfer Between E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5003640" y="2349360"/>
          <a:ext cx="414036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2349360"/>
                    <a:ext cx="41403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PlaceHolder 2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lementation Tools (15/19)</a:t>
            </a:r>
            <a:br>
              <a:rPr sz="2800"/>
            </a:br>
            <a:r>
              <a:rPr b="0" lang="en-US" sz="4000" spc="-1" strike="noStrike">
                <a:solidFill>
                  <a:srgbClr val="993300"/>
                </a:solidFill>
                <a:latin typeface="Tahoma"/>
              </a:rPr>
              <a:t>Asynchronous Database Replic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67EE4-0DC3-4592-9DD4-8589C534890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539640" y="227664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 algn="just"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is essential for the voting process to proceed (time stamping of the votes, opening and closing of the election proc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 algn="just"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omponents taking part in the election process must share the same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 algn="just"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NTP server exists in the system, and every component sets its time using the NTP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lementation Tools (16/19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Network Time Protocol (NTP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441D8-4492-4BD8-8585-DE63BB549DD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5" name=""/>
          <p:cNvGraphicFramePr/>
          <p:nvPr/>
        </p:nvGraphicFramePr>
        <p:xfrm>
          <a:off x="4859280" y="1989000"/>
          <a:ext cx="4095720" cy="42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989000"/>
                    <a:ext cx="409572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lementation Tools (17/19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MCUs with protected mem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4248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76"/>
              </a:spcBef>
              <a:spcAft>
                <a:spcPts val="82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ecure storage of keys, voting parameters and bootstrapping co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spcAft>
                <a:spcPts val="82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ecure code execution and authentication of external applica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spcAft>
                <a:spcPts val="82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Low cost and easy to develop solution (as opposed to TPM based ones) that easily fits legacy hardware and softwa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spcAft>
                <a:spcPts val="82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New version of code and new keys can be dispatched over any insecure communication means in encrypted form – decryption takes place within the MCU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B7923-472D-4DC5-B68E-32ACC434B21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lementation Tools (18/19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Hardware RNG SG10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418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are Random Number Gen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s to the Serial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semi-conductor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eding the Pseudo Random Gen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5419800" y="2017800"/>
            <a:ext cx="32590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86BBD-31D9-4599-98B3-A8027B1BD80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lementation Tools(19/19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Vulnerability 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920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Vulnerability Scanners were used to assess the security of the serv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ss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k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m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ignificant security holes were discov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DDDFA-F38B-4EDC-ABFB-6C3B2DFB995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sentation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ting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System Evalu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2DE2F-9318-40E9-8318-4A4BF65F951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755280" y="206064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rchitecture: Directed Acyclic Graph (DA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: open network of M/M/1 queues (Poisson distributed arrival rate – exponentially distributed service rate – one server – unlimited queue siz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ters’ arrival behavior: Weibull distributed with a peak around no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ulation tool: CSIM 19 (C and C++) simulation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ystem Evaluation (1/8)</a:t>
            </a:r>
            <a:br>
              <a:rPr sz="2800"/>
            </a:br>
            <a:r>
              <a:rPr b="0" lang="en-US" sz="4000" spc="-1" strike="noStrike">
                <a:solidFill>
                  <a:srgbClr val="993300"/>
                </a:solidFill>
                <a:latin typeface="Tahoma"/>
              </a:rPr>
              <a:t>Performance aspects – System Simul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068B3-FB34-4F72-934B-98114FE9969C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59421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view (4/4)</a:t>
            </a:r>
            <a:br>
              <a:rPr sz="3200"/>
            </a:br>
            <a:r>
              <a:rPr b="0" lang="el-GR" sz="4400" spc="-1" strike="noStrike">
                <a:solidFill>
                  <a:srgbClr val="993300"/>
                </a:solidFill>
                <a:latin typeface="Tahoma"/>
              </a:rPr>
              <a:t>Τ</a:t>
            </a: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h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calab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ternet bas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-voting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 basic versions, designed to facilitate voting processes of various degrees of importance and sca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ropriate for different e-voting scenar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t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feren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ral ele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ecure, built-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pport for all the stages of a voting proces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ion of election catalog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hentication/Registration of voters using a PK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mission of votes using homomorphic encryption (El Gama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llying of votes using the homomorphic proper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, cross verification of results / Publis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7F317-95D8-4226-AEE1-AD7B90B9C3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3024360" cy="35287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3492360" y="1886040"/>
                <a:ext cx="223200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t</m:t>
                                      </m:r>
                                    </m:e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a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p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−</m:t>
                                          </m:r>
                                          <m:sSup>
                                            <m:e>
                                              <m:d>
                                                <m:dPr>
                                                  <m:begChr m:val="("/>
                                                  <m:endChr m:val=")"/>
                                                </m:dPr>
                                                <m:e>
                                                  <m:f>
                                                    <m:num>
                                                      <m:r>
                                                        <m:t xml:space="preserve">t</m:t>
                                                      </m:r>
                                                    </m:num>
                                                    <m:den>
                                                      <m:r>
                                                        <m:t xml:space="preserve">b</m:t>
                                                      </m:r>
                                                    </m:den>
                                                  </m:f>
                                                </m:e>
                                              </m:d>
                                            </m:e>
                                            <m:sup>
                                              <m:r>
                                                <m:t xml:space="preserve">a</m:t>
                                              </m:r>
                                            </m:sup>
                                          </m:sSup>
                                        </m:e>
                                      </m:d>
                                    </m:sup>
                                  </m:sSup>
                                </m:num>
                                <m:den>
                                  <m:s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p>
                                      <m:r>
                                        <m:t xml:space="preserve">a</m:t>
                                      </m:r>
                                    </m:sup>
                                  </m:sSup>
                                </m:den>
                              </m:f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82" name=""/>
          <p:cNvGrpSpPr/>
          <p:nvPr/>
        </p:nvGrpSpPr>
        <p:grpSpPr>
          <a:xfrm>
            <a:off x="6443640" y="1844640"/>
            <a:ext cx="2484360" cy="2397600"/>
            <a:chOff x="6443640" y="1844640"/>
            <a:chExt cx="2484360" cy="2397600"/>
          </a:xfrm>
        </p:grpSpPr>
        <p:pic>
          <p:nvPicPr>
            <p:cNvPr id="483" name="" descr=""/>
            <p:cNvPicPr/>
            <p:nvPr/>
          </p:nvPicPr>
          <p:blipFill>
            <a:blip r:embed="rId2"/>
            <a:stretch/>
          </p:blipFill>
          <p:spPr>
            <a:xfrm>
              <a:off x="6588000" y="1844640"/>
              <a:ext cx="2160720" cy="18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6443640" y="3752280"/>
              <a:ext cx="2484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ifted Weibull distribution with parameters </a:t>
              </a:r>
              <a:r>
                <a:rPr b="1" i="1" lang="el-G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2.5,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 = 5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US" sz="12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85" name=""/>
          <p:cNvGraphicFramePr/>
          <p:nvPr/>
        </p:nvGraphicFramePr>
        <p:xfrm>
          <a:off x="6588000" y="4437000"/>
          <a:ext cx="2160720" cy="1938240"/>
        </p:xfrm>
        <a:graphic>
          <a:graphicData uri="http://schemas.openxmlformats.org/drawingml/2006/table">
            <a:tbl>
              <a:tblPr/>
              <a:tblGrid>
                <a:gridCol w="973440"/>
                <a:gridCol w="1187280"/>
              </a:tblGrid>
              <a:tr h="4572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inter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i="1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8:00,10: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0:00,12: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2:00,14: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4:00,16: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6:00,18: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8:00,20: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3419640" y="4437000"/>
          <a:ext cx="2011320" cy="1923840"/>
        </p:xfrm>
        <a:graphic>
          <a:graphicData uri="http://schemas.openxmlformats.org/drawingml/2006/table">
            <a:tbl>
              <a:tblPr/>
              <a:tblGrid>
                <a:gridCol w="906120"/>
                <a:gridCol w="1105200"/>
              </a:tblGrid>
              <a:tr h="4824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inter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i="1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incoming vote rat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8:00,10: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0:00,12: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2:00,14: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4:00,16: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6:00,18: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8:00,20: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3492360" y="2873520"/>
                <a:ext cx="2232000" cy="13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h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0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s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t xml:space="preserve">h</m:t>
                                    </m:r>
                                  </m:den>
                                </m:f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:#</m:t>
                        </m:r>
                        <m:r>
                          <m:rPr>
                            <m:lit/>
                            <m:nor/>
                          </m:rPr>
                          <m:t xml:space="preserve">voters</m:t>
                        </m:r>
                      </m:e>
                      <m:e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:#</m:t>
                        </m:r>
                        <m:r>
                          <m:rPr>
                            <m:lit/>
                            <m:nor/>
                          </m:rPr>
                          <m:t xml:space="preserve">hours per interval</m:t>
                        </m:r>
                      </m:e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:#</m:t>
                        </m:r>
                        <m:r>
                          <m:rPr>
                            <m:lit/>
                            <m:nor/>
                          </m:rPr>
                          <m:t xml:space="preserve">election duration in hour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5508720" y="4869000"/>
                <a:ext cx="1008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000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ystem Evaluation (2/8)</a:t>
            </a:r>
            <a:br>
              <a:rPr sz="2800"/>
            </a:br>
            <a:r>
              <a:rPr b="0" lang="en-US" sz="4000" spc="-1" strike="noStrike">
                <a:solidFill>
                  <a:srgbClr val="993300"/>
                </a:solidFill>
                <a:latin typeface="Tahoma"/>
              </a:rPr>
              <a:t>Performance aspects – System Simul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A095E-4980-409A-93D0-DFA5EEA8AD49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900000" y="4149720"/>
            <a:ext cx="3456000" cy="21589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3456000" cy="216036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4859280" y="1916280"/>
            <a:ext cx="3390840" cy="216036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4859280" y="4149720"/>
            <a:ext cx="3398760" cy="2160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ystem Evaluation (3/8)</a:t>
            </a:r>
            <a:br>
              <a:rPr sz="2800"/>
            </a:br>
            <a:r>
              <a:rPr b="0" lang="en-US" sz="4000" spc="-1" strike="noStrike">
                <a:solidFill>
                  <a:srgbClr val="993300"/>
                </a:solidFill>
                <a:latin typeface="Tahoma"/>
              </a:rPr>
              <a:t>Performance aspects – System Simul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B2B10-C4A0-4704-B7F0-91869DCAEF21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ystem Evaluation (4/8)</a:t>
            </a:r>
            <a:br>
              <a:rPr sz="4000"/>
            </a:br>
            <a:r>
              <a:rPr b="0" lang="en-US" sz="4000" spc="-1" strike="noStrike">
                <a:solidFill>
                  <a:srgbClr val="993300"/>
                </a:solidFill>
                <a:latin typeface="Tahoma"/>
              </a:rPr>
              <a:t>Technical Chamber of Greece Mock Up Pol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24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ystem used in the mock-up po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6840720" cy="41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25368-FB27-41A4-8C2E-873E89CDF98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ystem Evaluation (5/8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Mock-up Poll Characteris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26920" y="2205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ting Process: Opinion Po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gible Voters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l-GR" sz="2400" spc="-1" strike="noStrike">
                <a:solidFill>
                  <a:srgbClr val="052095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052095"/>
                </a:solidFill>
                <a:latin typeface="Tahoma"/>
              </a:rPr>
              <a:t>1</a:t>
            </a:r>
            <a:r>
              <a:rPr b="0" lang="el-GR" sz="2400" spc="-1" strike="noStrike">
                <a:solidFill>
                  <a:srgbClr val="052095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52095"/>
                </a:solidFill>
                <a:latin typeface="Tahoma"/>
              </a:rPr>
              <a:t>members of the Technical Chamber of Gree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8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stration – Certificate Issue </a:t>
            </a:r>
            <a:r>
              <a:rPr b="0" lang="el-GR" sz="2400" spc="-1" strike="noStrike">
                <a:solidFill>
                  <a:srgbClr val="052095"/>
                </a:solidFill>
                <a:latin typeface="Tahoma"/>
              </a:rPr>
              <a:t>(3-5/12/0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8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te Submission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052095"/>
                </a:solidFill>
                <a:latin typeface="Tahoma"/>
              </a:rPr>
              <a:t>(6/12/0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on of the process by the voters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questionnair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upport </a:t>
            </a:r>
            <a:r>
              <a:rPr b="0" lang="el-GR" sz="2400" spc="-1" strike="noStrike">
                <a:solidFill>
                  <a:srgbClr val="052095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52095"/>
                </a:solidFill>
                <a:latin typeface="Tahoma"/>
              </a:rPr>
              <a:t>help-des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41DA2-8340-4CDD-A9F0-DD0A50CC47B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ystem Evaluation (6/8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System Op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5003640" y="2276640"/>
            <a:ext cx="3600720" cy="345744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68360" y="6020640"/>
            <a:ext cx="39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tep 1</a:t>
            </a:r>
            <a:r>
              <a:rPr b="1" lang="el-GR" sz="12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finition of Voting Parame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003640" y="6020640"/>
            <a:ext cx="36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tep 2</a:t>
            </a:r>
            <a:r>
              <a:rPr b="1" lang="el-GR" sz="12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tificate Requ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4032360" cy="339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7CD47-A491-418E-B803-51EDA2FC432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ystem Evaluation (7/8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System Op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539640" y="5949360"/>
            <a:ext cx="38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tep 3</a:t>
            </a:r>
            <a:r>
              <a:rPr b="1" lang="el-GR" sz="12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ter Lo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932360" y="5949360"/>
            <a:ext cx="37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tep 4</a:t>
            </a:r>
            <a:r>
              <a:rPr b="1" lang="el-GR" sz="12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ctronic Vote 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3816360" cy="331308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18160" cy="331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65441-3E08-4300-B423-C81FD16C4D6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ystem Evaluation (8/8)</a:t>
            </a:r>
            <a:br>
              <a:rPr sz="28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System Op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468360" y="5949360"/>
            <a:ext cx="38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tep 3</a:t>
            </a:r>
            <a:r>
              <a:rPr b="1" lang="el-GR" sz="12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te Announcement in the Bulletin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932360" y="5949360"/>
            <a:ext cx="36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tep 4</a:t>
            </a:r>
            <a:r>
              <a:rPr b="1" lang="el-GR" sz="12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te Tallying and Result Announc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3816360" cy="32400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16360" cy="32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6988F-F70F-4CB2-A07F-67545D6FB22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420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 algn="just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buClr>
                <a:srgbClr val="052095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, trust-centered, layered approach towards trust building in eVoting and, generally, eGovernment application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 algn="just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buClr>
                <a:srgbClr val="052095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sed on a design process that incorporates risk analysis/management methodologies for security critical systems (e.g. CORA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 algn="just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buClr>
                <a:srgbClr val="052095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calability, due to the distributed system archite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 algn="just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buClr>
                <a:srgbClr val="052095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rge scale simulation results to evaluate the architecture’s efficiency as a function of the voter population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 algn="just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buClr>
                <a:srgbClr val="052095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ock-up poll for the members of the Western Greece sector of the Technical Chamber – useful feedback, that was incorporated in the current version of the eVoting platfor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460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F688-E800-4590-AB03-3E5F824D02CD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sentation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ting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Public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DAC13-84CB-4C1B-B336-CA381D6404C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68000" y="2060280"/>
            <a:ext cx="806436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52095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ahoma"/>
              </a:rPr>
              <a:t>A Trust-Centered Approach for Building eVoting Systems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 Int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f. on Electronic Government (EGOV 2007), 3-7 September, Regensburg, Germa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52095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ahoma"/>
              </a:rPr>
              <a:t>Experiences and Benefits from the Application of a Formal Risk Assessment Framework in the eVoting Domain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 Int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f. on Electronic Government (EGOV 2008), 1-4 September 2008, Turin, Ita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52095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ahoma"/>
              </a:rPr>
              <a:t>Τ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he Design, Implementation and </a:t>
            </a:r>
            <a:r>
              <a:rPr b="1" i="1" lang="el-GR" sz="20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valuation of an Internet-based eVoting System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ited paper on 1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anhellenic Conference of Informatics, 28-30 August 2008, Samos, Gree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52095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ahoma"/>
              </a:rPr>
              <a:t>A ‘step-wise refinement’ approach for enhancing eVoting acceptance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ub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52095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erformance Analysis of Distributed, Large-scale eVoting System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be sub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4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57420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79B78-C068-4F25-889A-5C6850D5197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sentation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Design 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ting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4600" indent="-444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569C6-33DB-4ADB-845C-2481036501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3564000" y="2133720"/>
            <a:ext cx="1728720" cy="165564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2916360" y="4365720"/>
            <a:ext cx="3046320" cy="117144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ank you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32EFE-08AC-43B4-A198-75399485624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77929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sign Principles(1/26)</a:t>
            </a:r>
            <a:r>
              <a:rPr b="0" lang="el-GR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800" spc="-1" strike="noStrike">
                <a:solidFill>
                  <a:srgbClr val="993300"/>
                </a:solidFill>
                <a:latin typeface="Tahoma"/>
              </a:rPr>
              <a:t>Our Goal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35344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17600" indent="-417600" algn="just">
              <a:spcBef>
                <a:spcPts val="700"/>
              </a:spcBef>
              <a:spcAft>
                <a:spcPts val="1225"/>
              </a:spcAft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 and appl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trust preserving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pproach for handling the increasingly difficult complexity issues of building eVoting systems and, in general, trust-critical eGovernment applic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17600" indent="-417600" algn="just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sign and implementation of a secure and efficient eVoting platform with a focus on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trus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8D90C-F54D-4C15-9BC3-49A937313F9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annis Stamatiou</dc:creator>
  <dc:description/>
  <dc:language>en-US</dc:language>
  <cp:lastModifiedBy>winuser</cp:lastModifiedBy>
  <dcterms:modified xsi:type="dcterms:W3CDTF">2008-08-04T11:18:04Z</dcterms:modified>
  <cp:revision>1199</cp:revision>
  <dc:subject/>
  <dc:title>e-Voting</dc:title>
</cp:coreProperties>
</file>