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sldImg"/>
          </p:nvPr>
        </p:nvSpPr>
        <p:spPr>
          <a:xfrm>
            <a:off x="-598680" y="-360"/>
            <a:ext cx="4795560" cy="3598920"/>
          </a:xfrm>
          <a:prstGeom prst="rect">
            <a:avLst/>
          </a:prstGeom>
          <a:noFill/>
          <a:ln w="0">
            <a:noFill/>
          </a:ln>
        </p:spPr>
        <p:txBody>
          <a:bodyPr lIns="0" rIns="0" tIns="0" bIns="0" anchor="ctr">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0000"/>
                </a:solidFill>
                <a:latin typeface="Arial"/>
              </a:rPr>
              <a:t>Click to move the slide</a:t>
            </a:r>
            <a:endParaRPr b="0" lang="en-US" sz="4900" spc="-1" strike="noStrike">
              <a:solidFill>
                <a:srgbClr val="000000"/>
              </a:solidFill>
              <a:latin typeface="Arial"/>
            </a:endParaRPr>
          </a:p>
        </p:txBody>
      </p:sp>
      <p:sp>
        <p:nvSpPr>
          <p:cNvPr id="4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Arial"/>
              </a:defRPr>
            </a:lvl1pPr>
          </a:lstStyle>
          <a:p>
            <a: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C9F5FA-62A9-4659-9BC5-3B38EBA6BE4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2BC1CC-3498-47A4-8AA5-150E2EA56350}" type="slidenum">
              <a:rPr b="0" lang="en-GB" sz="1400" spc="-1" strike="noStrike">
                <a:solidFill>
                  <a:srgbClr val="000000"/>
                </a:solidFill>
                <a:latin typeface="Arial"/>
                <a:ea typeface="Arial Unicode MS"/>
              </a:rPr>
              <a:t>&lt;number&gt;</a:t>
            </a:fld>
            <a:endParaRPr b="0" lang="en-US" sz="1400" spc="-1" strike="noStrike">
              <a:solidFill>
                <a:srgbClr val="000000"/>
              </a:solidFill>
              <a:latin typeface="Arial"/>
            </a:endParaRPr>
          </a:p>
        </p:txBody>
      </p:sp>
      <p:sp>
        <p:nvSpPr>
          <p:cNvPr id="591" name="PlaceHolder 1"/>
          <p:cNvSpPr>
            <a:spLocks noGrp="1"/>
          </p:cNvSpPr>
          <p:nvPr>
            <p:ph type="sldImg"/>
          </p:nvPr>
        </p:nvSpPr>
        <p:spPr>
          <a:xfrm>
            <a:off x="-600120" y="0"/>
            <a:ext cx="4800600" cy="3600360"/>
          </a:xfrm>
          <a:prstGeom prst="rect">
            <a:avLst/>
          </a:prstGeom>
          <a:ln w="0">
            <a:noFill/>
          </a:ln>
        </p:spPr>
      </p:sp>
      <p:sp>
        <p:nvSpPr>
          <p:cNvPr id="59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29B01E-293C-466D-85E6-A2760AB64519}" type="slidenum">
              <a:rPr b="0" lang="en-GB" sz="1400" spc="-1" strike="noStrike">
                <a:solidFill>
                  <a:srgbClr val="000000"/>
                </a:solidFill>
                <a:latin typeface="Arial"/>
                <a:ea typeface="Arial Unicode MS"/>
              </a:rPr>
              <a:t>&lt;number&gt;</a:t>
            </a:fld>
            <a:endParaRPr b="0" lang="en-US" sz="1400" spc="-1" strike="noStrike">
              <a:solidFill>
                <a:srgbClr val="000000"/>
              </a:solidFill>
              <a:latin typeface="Arial"/>
            </a:endParaRPr>
          </a:p>
        </p:txBody>
      </p:sp>
      <p:sp>
        <p:nvSpPr>
          <p:cNvPr id="594" name="PlaceHolder 1"/>
          <p:cNvSpPr>
            <a:spLocks noGrp="1"/>
          </p:cNvSpPr>
          <p:nvPr>
            <p:ph type="sldImg"/>
          </p:nvPr>
        </p:nvSpPr>
        <p:spPr>
          <a:xfrm>
            <a:off x="-600120" y="0"/>
            <a:ext cx="4800600" cy="3600360"/>
          </a:xfrm>
          <a:prstGeom prst="rect">
            <a:avLst/>
          </a:prstGeom>
          <a:ln w="0">
            <a:noFill/>
          </a:ln>
        </p:spPr>
      </p:sp>
      <p:sp>
        <p:nvSpPr>
          <p:cNvPr id="59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0D557-7E47-466F-8BA1-5AFD145DB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8" name="PlaceHolder 2"/>
          <p:cNvSpPr>
            <a:spLocks noGrp="1"/>
          </p:cNvSpPr>
          <p:nvPr>
            <p:ph/>
          </p:nvPr>
        </p:nvSpPr>
        <p:spPr>
          <a:xfrm>
            <a:off x="504720" y="1763640"/>
            <a:ext cx="907272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9" name="PlaceHolder 3"/>
          <p:cNvSpPr>
            <a:spLocks noGrp="1"/>
          </p:cNvSpPr>
          <p:nvPr>
            <p:ph/>
          </p:nvPr>
        </p:nvSpPr>
        <p:spPr>
          <a:xfrm>
            <a:off x="504720" y="4370040"/>
            <a:ext cx="907272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55C75-69CE-44EB-8FA7-65DD26268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1" name="PlaceHolder 2"/>
          <p:cNvSpPr>
            <a:spLocks noGrp="1"/>
          </p:cNvSpPr>
          <p:nvPr>
            <p:ph/>
          </p:nvPr>
        </p:nvSpPr>
        <p:spPr>
          <a:xfrm>
            <a:off x="504720" y="1763640"/>
            <a:ext cx="442728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2" name="PlaceHolder 3"/>
          <p:cNvSpPr>
            <a:spLocks noGrp="1"/>
          </p:cNvSpPr>
          <p:nvPr>
            <p:ph/>
          </p:nvPr>
        </p:nvSpPr>
        <p:spPr>
          <a:xfrm>
            <a:off x="5153760" y="1763640"/>
            <a:ext cx="442728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3" name="PlaceHolder 4"/>
          <p:cNvSpPr>
            <a:spLocks noGrp="1"/>
          </p:cNvSpPr>
          <p:nvPr>
            <p:ph/>
          </p:nvPr>
        </p:nvSpPr>
        <p:spPr>
          <a:xfrm>
            <a:off x="504720" y="4370040"/>
            <a:ext cx="442728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4" name="PlaceHolder 5"/>
          <p:cNvSpPr>
            <a:spLocks noGrp="1"/>
          </p:cNvSpPr>
          <p:nvPr>
            <p:ph/>
          </p:nvPr>
        </p:nvSpPr>
        <p:spPr>
          <a:xfrm>
            <a:off x="5153760" y="4370040"/>
            <a:ext cx="442728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1C3D6-7F71-4448-8706-2446F0C36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6" name="PlaceHolder 2"/>
          <p:cNvSpPr>
            <a:spLocks noGrp="1"/>
          </p:cNvSpPr>
          <p:nvPr>
            <p:ph/>
          </p:nvPr>
        </p:nvSpPr>
        <p:spPr>
          <a:xfrm>
            <a:off x="504720" y="1763640"/>
            <a:ext cx="292104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7" name="PlaceHolder 3"/>
          <p:cNvSpPr>
            <a:spLocks noGrp="1"/>
          </p:cNvSpPr>
          <p:nvPr>
            <p:ph/>
          </p:nvPr>
        </p:nvSpPr>
        <p:spPr>
          <a:xfrm>
            <a:off x="3572280" y="1763640"/>
            <a:ext cx="292104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8" name="PlaceHolder 4"/>
          <p:cNvSpPr>
            <a:spLocks noGrp="1"/>
          </p:cNvSpPr>
          <p:nvPr>
            <p:ph/>
          </p:nvPr>
        </p:nvSpPr>
        <p:spPr>
          <a:xfrm>
            <a:off x="6639840" y="1763640"/>
            <a:ext cx="292104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9" name="PlaceHolder 5"/>
          <p:cNvSpPr>
            <a:spLocks noGrp="1"/>
          </p:cNvSpPr>
          <p:nvPr>
            <p:ph/>
          </p:nvPr>
        </p:nvSpPr>
        <p:spPr>
          <a:xfrm>
            <a:off x="504720" y="4370040"/>
            <a:ext cx="292104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0" name="PlaceHolder 6"/>
          <p:cNvSpPr>
            <a:spLocks noGrp="1"/>
          </p:cNvSpPr>
          <p:nvPr>
            <p:ph/>
          </p:nvPr>
        </p:nvSpPr>
        <p:spPr>
          <a:xfrm>
            <a:off x="3572280" y="4370040"/>
            <a:ext cx="292104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1" name="PlaceHolder 7"/>
          <p:cNvSpPr>
            <a:spLocks noGrp="1"/>
          </p:cNvSpPr>
          <p:nvPr>
            <p:ph/>
          </p:nvPr>
        </p:nvSpPr>
        <p:spPr>
          <a:xfrm>
            <a:off x="6639840" y="4370040"/>
            <a:ext cx="292104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4C40E-58AE-4583-9046-52D64BE51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7" name="PlaceHolder 2"/>
          <p:cNvSpPr>
            <a:spLocks noGrp="1"/>
          </p:cNvSpPr>
          <p:nvPr>
            <p:ph type="subTitle"/>
          </p:nvPr>
        </p:nvSpPr>
        <p:spPr>
          <a:xfrm>
            <a:off x="504720" y="1763640"/>
            <a:ext cx="9072720" cy="498960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DE816-B8D3-44DF-85CD-09E07D6A4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9" name="PlaceHolder 2"/>
          <p:cNvSpPr>
            <a:spLocks noGrp="1"/>
          </p:cNvSpPr>
          <p:nvPr>
            <p:ph/>
          </p:nvPr>
        </p:nvSpPr>
        <p:spPr>
          <a:xfrm>
            <a:off x="504720" y="1763640"/>
            <a:ext cx="9072720" cy="49896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8FE71-F1E3-45E6-AF57-BBA8973C9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1" name="PlaceHolder 2"/>
          <p:cNvSpPr>
            <a:spLocks noGrp="1"/>
          </p:cNvSpPr>
          <p:nvPr>
            <p:ph/>
          </p:nvPr>
        </p:nvSpPr>
        <p:spPr>
          <a:xfrm>
            <a:off x="504720" y="1763640"/>
            <a:ext cx="4427280" cy="49896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2" name="PlaceHolder 3"/>
          <p:cNvSpPr>
            <a:spLocks noGrp="1"/>
          </p:cNvSpPr>
          <p:nvPr>
            <p:ph/>
          </p:nvPr>
        </p:nvSpPr>
        <p:spPr>
          <a:xfrm>
            <a:off x="5153760" y="1763640"/>
            <a:ext cx="4427280" cy="49896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0610E-84AB-4351-A343-FC74FE5D8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5789D-DE2C-4618-9115-375E1B46F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4720" y="303120"/>
            <a:ext cx="9072720" cy="912600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90BB5-B780-41FD-B0F6-DC8370F39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6" name="PlaceHolder 2"/>
          <p:cNvSpPr>
            <a:spLocks noGrp="1"/>
          </p:cNvSpPr>
          <p:nvPr>
            <p:ph/>
          </p:nvPr>
        </p:nvSpPr>
        <p:spPr>
          <a:xfrm>
            <a:off x="504720" y="1763640"/>
            <a:ext cx="442728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7" name="PlaceHolder 3"/>
          <p:cNvSpPr>
            <a:spLocks noGrp="1"/>
          </p:cNvSpPr>
          <p:nvPr>
            <p:ph/>
          </p:nvPr>
        </p:nvSpPr>
        <p:spPr>
          <a:xfrm>
            <a:off x="5153760" y="1763640"/>
            <a:ext cx="4427280" cy="49896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8" name="PlaceHolder 4"/>
          <p:cNvSpPr>
            <a:spLocks noGrp="1"/>
          </p:cNvSpPr>
          <p:nvPr>
            <p:ph/>
          </p:nvPr>
        </p:nvSpPr>
        <p:spPr>
          <a:xfrm>
            <a:off x="504720" y="4370040"/>
            <a:ext cx="442728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26517-B00A-46F5-9D2D-FC6B4B516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0" name="PlaceHolder 2"/>
          <p:cNvSpPr>
            <a:spLocks noGrp="1"/>
          </p:cNvSpPr>
          <p:nvPr>
            <p:ph/>
          </p:nvPr>
        </p:nvSpPr>
        <p:spPr>
          <a:xfrm>
            <a:off x="504720" y="1763640"/>
            <a:ext cx="4427280" cy="49896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1" name="PlaceHolder 3"/>
          <p:cNvSpPr>
            <a:spLocks noGrp="1"/>
          </p:cNvSpPr>
          <p:nvPr>
            <p:ph/>
          </p:nvPr>
        </p:nvSpPr>
        <p:spPr>
          <a:xfrm>
            <a:off x="5153760" y="1763640"/>
            <a:ext cx="442728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2" name="PlaceHolder 4"/>
          <p:cNvSpPr>
            <a:spLocks noGrp="1"/>
          </p:cNvSpPr>
          <p:nvPr>
            <p:ph/>
          </p:nvPr>
        </p:nvSpPr>
        <p:spPr>
          <a:xfrm>
            <a:off x="5153760" y="4370040"/>
            <a:ext cx="442728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CA95B-15C1-4690-81FF-9B8C48ECD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4" name="PlaceHolder 2"/>
          <p:cNvSpPr>
            <a:spLocks noGrp="1"/>
          </p:cNvSpPr>
          <p:nvPr>
            <p:ph/>
          </p:nvPr>
        </p:nvSpPr>
        <p:spPr>
          <a:xfrm>
            <a:off x="504720" y="1763640"/>
            <a:ext cx="442728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5" name="PlaceHolder 3"/>
          <p:cNvSpPr>
            <a:spLocks noGrp="1"/>
          </p:cNvSpPr>
          <p:nvPr>
            <p:ph/>
          </p:nvPr>
        </p:nvSpPr>
        <p:spPr>
          <a:xfrm>
            <a:off x="5153760" y="1763640"/>
            <a:ext cx="442728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6" name="PlaceHolder 4"/>
          <p:cNvSpPr>
            <a:spLocks noGrp="1"/>
          </p:cNvSpPr>
          <p:nvPr>
            <p:ph/>
          </p:nvPr>
        </p:nvSpPr>
        <p:spPr>
          <a:xfrm>
            <a:off x="504720" y="4370040"/>
            <a:ext cx="9072720" cy="237996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70835-621E-45FC-BCA0-18D483E2E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4720" y="303120"/>
            <a:ext cx="9072720" cy="1968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 name="PlaceHolder 2"/>
          <p:cNvSpPr>
            <a:spLocks noGrp="1"/>
          </p:cNvSpPr>
          <p:nvPr>
            <p:ph type="body"/>
          </p:nvPr>
        </p:nvSpPr>
        <p:spPr>
          <a:xfrm>
            <a:off x="504720" y="1763640"/>
            <a:ext cx="9072720" cy="4989600"/>
          </a:xfrm>
          <a:prstGeom prst="rect">
            <a:avLst/>
          </a:prstGeom>
          <a:noFill/>
          <a:ln w="0">
            <a:noFill/>
          </a:ln>
        </p:spPr>
        <p:txBody>
          <a:bodyPr lIns="100800" rIns="100800" tIns="50400" bIns="50400" anchor="t">
            <a:normAutofit/>
          </a:bodyPr>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9000" indent="-31572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60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6364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2" name="PlaceHolder 3"/>
          <p:cNvSpPr>
            <a:spLocks noGrp="1"/>
          </p:cNvSpPr>
          <p:nvPr>
            <p:ph type="dt" idx="1"/>
          </p:nvPr>
        </p:nvSpPr>
        <p:spPr>
          <a:xfrm>
            <a:off x="504360" y="6884640"/>
            <a:ext cx="2351160" cy="523800"/>
          </a:xfrm>
          <a:prstGeom prst="rect">
            <a:avLst/>
          </a:prstGeom>
          <a:noFill/>
          <a:ln w="0">
            <a:noFill/>
          </a:ln>
        </p:spPr>
        <p:txBody>
          <a:bodyPr lIns="100800" rIns="100800" tIns="50400" bIns="504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4840" y="6884640"/>
            <a:ext cx="3191040" cy="523800"/>
          </a:xfrm>
          <a:prstGeom prst="rect">
            <a:avLst/>
          </a:prstGeom>
          <a:noFill/>
          <a:ln w="0">
            <a:noFill/>
          </a:ln>
        </p:spPr>
        <p:txBody>
          <a:bodyPr lIns="100800" rIns="100800" tIns="50400" bIns="504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4480" y="6884640"/>
            <a:ext cx="2352600" cy="523800"/>
          </a:xfrm>
          <a:prstGeom prst="rect">
            <a:avLst/>
          </a:prstGeom>
          <a:noFill/>
          <a:ln w="0">
            <a:noFill/>
          </a:ln>
        </p:spPr>
        <p:txBody>
          <a:bodyPr lIns="100800" rIns="100800" tIns="50400" bIns="5040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i-FI" sz="1500" spc="-1" strike="noStrike">
                <a:solidFill>
                  <a:srgbClr val="000000"/>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F3B596C-5587-42C6-8A8D-ECAC93DDE0F1}" type="slidenum">
              <a:rPr b="0" lang="fi-FI" sz="1500" spc="-1" strike="noStrike">
                <a:solidFill>
                  <a:srgbClr val="000000"/>
                </a:solidFill>
                <a:latin typeface="Arial"/>
              </a:rPr>
              <a:t>&lt;number&gt;</a:t>
            </a:fld>
            <a:endParaRPr b="0" lang="en-US" sz="1500" spc="-1" strike="noStrike">
              <a:solidFill>
                <a:srgbClr val="000000"/>
              </a:solidFill>
              <a:latin typeface="Arial"/>
            </a:endParaRPr>
          </a:p>
        </p:txBody>
      </p:sp>
      <p:pic>
        <p:nvPicPr>
          <p:cNvPr id="5" name="Picture 7" descr=""/>
          <p:cNvPicPr/>
          <p:nvPr/>
        </p:nvPicPr>
        <p:blipFill>
          <a:blip r:embed="rId2"/>
          <a:stretch/>
        </p:blipFill>
        <p:spPr>
          <a:xfrm>
            <a:off x="0" y="0"/>
            <a:ext cx="10080720" cy="123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hare.vn.fi/" TargetMode="External"/><Relationship Id="rId2" Type="http://schemas.openxmlformats.org/officeDocument/2006/relationships/hyperlink" Target="http://www.eduskunta.fi/"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finlex.fi/" TargetMode="External"/><Relationship Id="rId2" Type="http://schemas.openxmlformats.org/officeDocument/2006/relationships/hyperlink" Target="http://www.oikeus.fi/" TargetMode="External"/><Relationship Id="rId3" Type="http://schemas.openxmlformats.org/officeDocument/2006/relationships/hyperlink" Target="http://www.kko.fi/" TargetMode="External"/><Relationship Id="rId4" Type="http://schemas.openxmlformats.org/officeDocument/2006/relationships/hyperlink" Target="http://www.eduskunta.fi/"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4.png"/><Relationship Id="rId14" Type="http://schemas.openxmlformats.org/officeDocument/2006/relationships/image" Target="../media/image3.png"/><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5.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6.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4.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4.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20720" y="1933560"/>
            <a:ext cx="8640720" cy="10987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1960"/>
                <a:tab algn="l" pos="5065560"/>
                <a:tab algn="l" pos="5791320"/>
                <a:tab algn="l" pos="6513480"/>
                <a:tab algn="l" pos="7237440"/>
                <a:tab algn="l" pos="7959600"/>
                <a:tab algn="l" pos="8051760"/>
                <a:tab algn="l" pos="9058320"/>
                <a:tab algn="l" pos="10064880"/>
              </a:tabLst>
            </a:pPr>
            <a:r>
              <a:rPr b="0" lang="en-GB" sz="3600" spc="-1" strike="noStrike">
                <a:solidFill>
                  <a:srgbClr val="000000"/>
                </a:solidFill>
                <a:latin typeface="Arial"/>
              </a:rPr>
              <a:t>E-Law and Free Access to Legislation in Finland and in Europe</a:t>
            </a:r>
            <a:endParaRPr b="0" lang="en-US" sz="3600" spc="-1" strike="noStrike">
              <a:solidFill>
                <a:srgbClr val="000000"/>
              </a:solidFill>
              <a:latin typeface="Arial"/>
            </a:endParaRPr>
          </a:p>
        </p:txBody>
      </p:sp>
      <p:sp>
        <p:nvSpPr>
          <p:cNvPr id="50" name="PlaceHolder 2"/>
          <p:cNvSpPr>
            <a:spLocks noGrp="1"/>
          </p:cNvSpPr>
          <p:nvPr>
            <p:ph type="subTitle"/>
          </p:nvPr>
        </p:nvSpPr>
        <p:spPr>
          <a:xfrm>
            <a:off x="720720" y="3402720"/>
            <a:ext cx="8640720" cy="3387600"/>
          </a:xfrm>
          <a:prstGeom prst="rect">
            <a:avLst/>
          </a:prstGeom>
          <a:noFill/>
          <a:ln w="0">
            <a:noFill/>
          </a:ln>
        </p:spPr>
        <p:txBody>
          <a:bodyPr lIns="0" rIns="0" tIns="0" bIns="0" anchor="ctr">
            <a:noAutofit/>
          </a:bodyPr>
          <a:p>
            <a:pPr indent="0" algn="ctr">
              <a:spcBef>
                <a:spcPts val="876"/>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endParaRPr b="0" lang="en-US" sz="3500" spc="-1" strike="noStrike">
              <a:solidFill>
                <a:srgbClr val="000000"/>
              </a:solidFill>
              <a:latin typeface="Arial"/>
            </a:endParaRPr>
          </a:p>
          <a:p>
            <a:pPr indent="0" algn="ctr">
              <a:spcBef>
                <a:spcPts val="876"/>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endParaRPr b="0" lang="en-US" sz="3500" spc="-1" strike="noStrike">
              <a:solidFill>
                <a:srgbClr val="000000"/>
              </a:solidFill>
              <a:latin typeface="Arial"/>
            </a:endParaRPr>
          </a:p>
          <a:p>
            <a:pPr indent="0" algn="ctr">
              <a:spcBef>
                <a:spcPts val="799"/>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r>
              <a:rPr b="0" lang="fi-FI" sz="3200" spc="-1" strike="noStrike">
                <a:solidFill>
                  <a:srgbClr val="000000"/>
                </a:solidFill>
                <a:latin typeface="Arial"/>
              </a:rPr>
              <a:t>Aki Hietanen, Ministry of Justice, Finland</a:t>
            </a:r>
            <a:endParaRPr b="0" lang="en-US" sz="3200" spc="-1" strike="noStrike">
              <a:solidFill>
                <a:srgbClr val="000000"/>
              </a:solidFill>
              <a:latin typeface="Arial"/>
            </a:endParaRPr>
          </a:p>
          <a:p>
            <a:pPr indent="0" algn="ctr">
              <a:spcBef>
                <a:spcPts val="799"/>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endParaRPr b="0" lang="en-US" sz="3200" spc="-1" strike="noStrike">
              <a:solidFill>
                <a:srgbClr val="000000"/>
              </a:solidFill>
              <a:latin typeface="Arial"/>
            </a:endParaRPr>
          </a:p>
          <a:p>
            <a:pPr indent="0" algn="ctr">
              <a:spcBef>
                <a:spcPts val="700"/>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r>
              <a:rPr b="0" lang="fi-FI" sz="2800" spc="-1" strike="noStrike">
                <a:solidFill>
                  <a:srgbClr val="000000"/>
                </a:solidFill>
                <a:latin typeface="Arial"/>
              </a:rPr>
              <a:t>IFLA 14.08.2012</a:t>
            </a:r>
            <a:endParaRPr b="0" lang="en-US" sz="2800" spc="-1" strike="noStrike">
              <a:solidFill>
                <a:srgbClr val="000000"/>
              </a:solidFill>
              <a:latin typeface="Arial"/>
            </a:endParaRPr>
          </a:p>
          <a:p>
            <a:pPr indent="0" algn="ctr">
              <a:spcBef>
                <a:spcPts val="700"/>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r>
              <a:rPr b="0" lang="fi-FI" sz="2800" spc="-1" strike="noStrike">
                <a:solidFill>
                  <a:srgbClr val="000000"/>
                </a:solidFill>
                <a:latin typeface="Arial"/>
              </a:rPr>
              <a:t>Conference session 129</a:t>
            </a:r>
            <a:endParaRPr b="0" lang="en-US" sz="2800" spc="-1" strike="noStrike">
              <a:solidFill>
                <a:srgbClr val="000000"/>
              </a:solidFill>
              <a:latin typeface="Arial"/>
            </a:endParaRPr>
          </a:p>
        </p:txBody>
      </p:sp>
      <p:pic>
        <p:nvPicPr>
          <p:cNvPr id="51" name="Picture 6" descr="PPP_CGEN1_CLP_Scale_Equal"/>
          <p:cNvPicPr/>
          <p:nvPr/>
        </p:nvPicPr>
        <p:blipFill>
          <a:blip r:embed="rId1"/>
          <a:stretch/>
        </p:blipFill>
        <p:spPr>
          <a:xfrm>
            <a:off x="4032360" y="3132000"/>
            <a:ext cx="2333520" cy="1273320"/>
          </a:xfrm>
          <a:prstGeom prst="rect">
            <a:avLst/>
          </a:prstGeom>
          <a:ln w="0">
            <a:noFill/>
          </a:ln>
        </p:spPr>
      </p:pic>
      <p:pic>
        <p:nvPicPr>
          <p:cNvPr id="52" name="Picture 5" descr=""/>
          <p:cNvPicPr/>
          <p:nvPr/>
        </p:nvPicPr>
        <p:blipFill>
          <a:blip r:embed="rId2"/>
          <a:stretch/>
        </p:blipFill>
        <p:spPr>
          <a:xfrm>
            <a:off x="0" y="0"/>
            <a:ext cx="10080720" cy="1042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685800" y="466560"/>
            <a:ext cx="7772400" cy="9050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600" spc="-1" strike="noStrike">
                <a:solidFill>
                  <a:srgbClr val="e9f731"/>
                </a:solidFill>
                <a:latin typeface="Arial"/>
                <a:ea typeface="Arial Unicode MS"/>
              </a:rPr>
              <a:t>Free Access to Law Movement</a:t>
            </a:r>
            <a:endParaRPr b="0" lang="en-US" sz="3600" spc="-1" strike="noStrike">
              <a:solidFill>
                <a:srgbClr val="000000"/>
              </a:solidFill>
              <a:latin typeface="Arial"/>
            </a:endParaRPr>
          </a:p>
        </p:txBody>
      </p:sp>
      <p:sp>
        <p:nvSpPr>
          <p:cNvPr id="547" name="Rectangle 3"/>
          <p:cNvSpPr/>
          <p:nvPr/>
        </p:nvSpPr>
        <p:spPr>
          <a:xfrm>
            <a:off x="685800" y="1676520"/>
            <a:ext cx="7772400" cy="4267080"/>
          </a:xfrm>
          <a:prstGeom prst="rect">
            <a:avLst/>
          </a:prstGeom>
          <a:noFill/>
          <a:ln w="0">
            <a:noFill/>
          </a:ln>
        </p:spPr>
        <p:style>
          <a:lnRef idx="0"/>
          <a:fillRef idx="0"/>
          <a:effectRef idx="0"/>
          <a:fontRef idx="minor"/>
        </p:style>
        <p:txBody>
          <a:bodyPr lIns="90000" rIns="90000" tIns="46800" bIns="46800" anchor="t">
            <a:normAutofit fontScale="86000"/>
          </a:bodyPr>
          <a:p>
            <a:pPr marL="325080" indent="-32508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Free Access to Law Movement began in 1992 with the creation of the Cornell Law School Legal Information Institute.  Today there are about forty institutions as members in the movement (most of them area Legal Information Institutes). Only seven EU countries are active in this cooperation. </a:t>
            </a:r>
            <a:endParaRPr b="0" lang="en-US" sz="2400" spc="-1" strike="noStrike">
              <a:solidFill>
                <a:srgbClr val="000000"/>
              </a:solidFill>
              <a:latin typeface="Arial"/>
            </a:endParaRPr>
          </a:p>
          <a:p>
            <a:pPr marL="325080" indent="-32508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2400" spc="-1" strike="noStrike">
                <a:solidFill>
                  <a:srgbClr val="000000"/>
                </a:solidFill>
                <a:latin typeface="Arial"/>
                <a:ea typeface="Arial Unicode MS"/>
              </a:rPr>
              <a:t>Montreal Declaration on Free Access to Law</a:t>
            </a:r>
            <a:r>
              <a:rPr b="0" lang="en-US" sz="2400" spc="-1" strike="noStrike">
                <a:solidFill>
                  <a:srgbClr val="000000"/>
                </a:solidFill>
                <a:latin typeface="Arial"/>
                <a:ea typeface="Arial Unicode MS"/>
              </a:rPr>
              <a:t> (2002) states that “public legal information from all countries and international institutions is part of the common heritage of humanity. Maximising access to this information promotes justice and the rule of law.”</a:t>
            </a:r>
            <a:endParaRPr b="0" lang="en-US" sz="2400" spc="-1" strike="noStrike">
              <a:solidFill>
                <a:srgbClr val="000000"/>
              </a:solidFill>
              <a:latin typeface="Arial"/>
            </a:endParaRPr>
          </a:p>
          <a:p>
            <a:pPr marL="325080" indent="-325080">
              <a:spcBef>
                <a:spcPts val="60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Public legal information is digital common property and should be accessible to all on a non-profit basis and free of char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2"/>
          <p:cNvSpPr/>
          <p:nvPr/>
        </p:nvSpPr>
        <p:spPr>
          <a:xfrm>
            <a:off x="685800" y="466560"/>
            <a:ext cx="7772400" cy="9050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600" spc="-1" strike="noStrike">
                <a:solidFill>
                  <a:srgbClr val="e9f731"/>
                </a:solidFill>
                <a:latin typeface="Arial"/>
                <a:ea typeface="Arial Unicode MS"/>
              </a:rPr>
              <a:t>Free Access to Law in Europe</a:t>
            </a:r>
            <a:endParaRPr b="0" lang="en-US" sz="3600" spc="-1" strike="noStrike">
              <a:solidFill>
                <a:srgbClr val="000000"/>
              </a:solidFill>
              <a:latin typeface="Arial"/>
            </a:endParaRPr>
          </a:p>
        </p:txBody>
      </p:sp>
      <p:sp>
        <p:nvSpPr>
          <p:cNvPr id="549" name="Rectangle 3"/>
          <p:cNvSpPr/>
          <p:nvPr/>
        </p:nvSpPr>
        <p:spPr>
          <a:xfrm>
            <a:off x="216000" y="1676520"/>
            <a:ext cx="9288360" cy="5703840"/>
          </a:xfrm>
          <a:prstGeom prst="rect">
            <a:avLst/>
          </a:prstGeom>
          <a:noFill/>
          <a:ln w="0">
            <a:noFill/>
          </a:ln>
        </p:spPr>
        <p:style>
          <a:lnRef idx="0"/>
          <a:fillRef idx="0"/>
          <a:effectRef idx="0"/>
          <a:fontRef idx="minor"/>
        </p:style>
        <p:txBody>
          <a:bodyPr lIns="90000" rIns="90000" tIns="46800" bIns="46800" anchor="t">
            <a:normAutofit/>
          </a:bodyPr>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In Europe there has been no clear policy on Free Access to Law.  As could be seen in the map of 1997, access to legislation was free of charge only in some EU Member States.  At the EU level, one milestone was the opening of EUR-Lex in 1998, with the free access to the EU Official Journal. </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In EU Member States, a rapid change took place in 1998-2000. One factor behind this change was the pressure from the user of legal information and the “free Internet” philosophy.</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In 2003, the EU adopted the Directive on the re-use of public sector information (PSI Directive). It has introduced a common legislative framework regulating how public sector bodies should make their information available for re-use in order to remove barriers such as discriminatory practices, monopoly markets and a lack of transparenc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2"/>
          <p:cNvSpPr/>
          <p:nvPr/>
        </p:nvSpPr>
        <p:spPr>
          <a:xfrm>
            <a:off x="685800" y="466560"/>
            <a:ext cx="7772400" cy="9050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600" spc="-1" strike="noStrike">
                <a:solidFill>
                  <a:srgbClr val="e9f731"/>
                </a:solidFill>
                <a:latin typeface="Arial"/>
                <a:ea typeface="Arial Unicode MS"/>
              </a:rPr>
              <a:t>Free Access to Law in Finland</a:t>
            </a:r>
            <a:endParaRPr b="0" lang="en-US" sz="3600" spc="-1" strike="noStrike">
              <a:solidFill>
                <a:srgbClr val="000000"/>
              </a:solidFill>
              <a:latin typeface="Arial"/>
            </a:endParaRPr>
          </a:p>
        </p:txBody>
      </p:sp>
      <p:sp>
        <p:nvSpPr>
          <p:cNvPr id="551" name="Rectangle 3"/>
          <p:cNvSpPr/>
          <p:nvPr/>
        </p:nvSpPr>
        <p:spPr>
          <a:xfrm>
            <a:off x="216000" y="1332000"/>
            <a:ext cx="9288360" cy="6048360"/>
          </a:xfrm>
          <a:prstGeom prst="rect">
            <a:avLst/>
          </a:prstGeom>
          <a:noFill/>
          <a:ln w="0">
            <a:noFill/>
          </a:ln>
        </p:spPr>
        <p:style>
          <a:lnRef idx="0"/>
          <a:fillRef idx="0"/>
          <a:effectRef idx="0"/>
          <a:fontRef idx="minor"/>
        </p:style>
        <p:txBody>
          <a:bodyPr lIns="90000" rIns="90000" tIns="46800" bIns="46800" anchor="t">
            <a:normAutofit/>
          </a:bodyPr>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In Finland the reform on Free Access to Law was started in mid- 1990´s, earlier than elsewhere in Europe. The current thinking on free access to government files and specifically to legislative information is based on one hand </a:t>
            </a:r>
            <a:r>
              <a:rPr b="1" lang="en-US" sz="2400" spc="-1" strike="noStrike">
                <a:solidFill>
                  <a:srgbClr val="000000"/>
                </a:solidFill>
                <a:latin typeface="Arial"/>
                <a:ea typeface="Arial Unicode MS"/>
              </a:rPr>
              <a:t>on historical</a:t>
            </a:r>
            <a:r>
              <a:rPr b="1" i="1" lang="en-US" sz="2400" spc="-1" strike="noStrike">
                <a:solidFill>
                  <a:srgbClr val="000000"/>
                </a:solidFill>
                <a:latin typeface="Arial"/>
                <a:ea typeface="Arial Unicode MS"/>
              </a:rPr>
              <a:t> </a:t>
            </a:r>
            <a:r>
              <a:rPr b="1" lang="en-US" sz="2400" spc="-1" strike="noStrike">
                <a:solidFill>
                  <a:srgbClr val="000000"/>
                </a:solidFill>
                <a:latin typeface="Arial"/>
                <a:ea typeface="Arial Unicode MS"/>
              </a:rPr>
              <a:t>traditions</a:t>
            </a:r>
            <a:r>
              <a:rPr b="0" lang="en-US" sz="2400" spc="-1" strike="noStrike">
                <a:solidFill>
                  <a:srgbClr val="000000"/>
                </a:solidFill>
                <a:latin typeface="Arial"/>
                <a:ea typeface="Arial Unicode MS"/>
              </a:rPr>
              <a:t> and on the other hand on recent analysis of </a:t>
            </a:r>
            <a:r>
              <a:rPr b="1" lang="en-US" sz="2400" spc="-1" strike="noStrike">
                <a:solidFill>
                  <a:srgbClr val="000000"/>
                </a:solidFill>
                <a:latin typeface="Arial"/>
                <a:ea typeface="Arial Unicode MS"/>
              </a:rPr>
              <a:t>the right to information</a:t>
            </a:r>
            <a:r>
              <a:rPr b="0" lang="en-US" sz="2400" spc="-1" strike="noStrike">
                <a:solidFill>
                  <a:srgbClr val="000000"/>
                </a:solidFill>
                <a:latin typeface="Arial"/>
                <a:ea typeface="Arial Unicode MS"/>
              </a:rPr>
              <a:t> by citizens.  </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In Finland, a unique concept has been developed concerning the free access to information and especially legal information (not only legislation).</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The tradition of open access to government files in Finland is among the longest in the world. As Finland was a Swedish-governed territory until 1809, the Swedish Royal Act of 1766 on Access to Public Records was applied also in Finland. It was actually drafted and introduced by a Finnish clergyman and scientist and Member of Swedish Parliament Anders Chydeniu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
          <p:cNvSpPr/>
          <p:nvPr/>
        </p:nvSpPr>
        <p:spPr>
          <a:xfrm>
            <a:off x="685800" y="466560"/>
            <a:ext cx="7772400" cy="9050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600" spc="-1" strike="noStrike">
                <a:solidFill>
                  <a:srgbClr val="e9f731"/>
                </a:solidFill>
                <a:latin typeface="Arial"/>
                <a:ea typeface="Arial Unicode MS"/>
              </a:rPr>
              <a:t>Free Access to Law in Finland </a:t>
            </a:r>
            <a:r>
              <a:rPr b="0" lang="fi-FI" sz="2400" spc="-1" strike="noStrike">
                <a:solidFill>
                  <a:srgbClr val="e9f731"/>
                </a:solidFill>
                <a:latin typeface="Arial"/>
                <a:ea typeface="Arial Unicode MS"/>
              </a:rPr>
              <a:t>(2)</a:t>
            </a:r>
            <a:endParaRPr b="0" lang="en-US" sz="2400" spc="-1" strike="noStrike">
              <a:solidFill>
                <a:srgbClr val="000000"/>
              </a:solidFill>
              <a:latin typeface="Arial"/>
            </a:endParaRPr>
          </a:p>
        </p:txBody>
      </p:sp>
      <p:sp>
        <p:nvSpPr>
          <p:cNvPr id="553" name="Rectangle 3"/>
          <p:cNvSpPr/>
          <p:nvPr/>
        </p:nvSpPr>
        <p:spPr>
          <a:xfrm>
            <a:off x="216000" y="1332000"/>
            <a:ext cx="9288360" cy="6048360"/>
          </a:xfrm>
          <a:prstGeom prst="rect">
            <a:avLst/>
          </a:prstGeom>
          <a:noFill/>
          <a:ln w="0">
            <a:noFill/>
          </a:ln>
        </p:spPr>
        <p:style>
          <a:lnRef idx="0"/>
          <a:fillRef idx="0"/>
          <a:effectRef idx="0"/>
          <a:fontRef idx="minor"/>
        </p:style>
        <p:txBody>
          <a:bodyPr lIns="90000" rIns="90000" tIns="46800" bIns="46800" anchor="t">
            <a:normAutofit/>
          </a:bodyPr>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In Finland, the principles of transparency and right to information are written in the Constitution of 2000 (Section 12): “Documents and recordings in the possession of the authorities are public, (…) Everyone has the right of access to public documents and recordings.” </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With the emergence of the Internet and the new discussion on the access to information, the principles of free access had to be reformulated in the mid-1990s.  This was done by a working group set up by the Ministry of Justice, revising the principles of access to legislation. </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A new direction for the dissemination of legislative information was given: it is not sufficient to provide only the material of the Legal Gazette to the citizens, but to provide free access to other legal materials, as well. </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2"/>
          <p:cNvSpPr/>
          <p:nvPr/>
        </p:nvSpPr>
        <p:spPr>
          <a:xfrm>
            <a:off x="685800" y="466560"/>
            <a:ext cx="7772400" cy="9050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600" spc="-1" strike="noStrike">
                <a:solidFill>
                  <a:srgbClr val="e9f731"/>
                </a:solidFill>
                <a:latin typeface="Arial"/>
                <a:ea typeface="Arial Unicode MS"/>
              </a:rPr>
              <a:t>Free Access to Law in Finland </a:t>
            </a:r>
            <a:r>
              <a:rPr b="0" lang="fi-FI" sz="2400" spc="-1" strike="noStrike">
                <a:solidFill>
                  <a:srgbClr val="e9f731"/>
                </a:solidFill>
                <a:latin typeface="Arial"/>
                <a:ea typeface="Arial Unicode MS"/>
              </a:rPr>
              <a:t>(3)</a:t>
            </a:r>
            <a:endParaRPr b="0" lang="en-US" sz="2400" spc="-1" strike="noStrike">
              <a:solidFill>
                <a:srgbClr val="000000"/>
              </a:solidFill>
              <a:latin typeface="Arial"/>
            </a:endParaRPr>
          </a:p>
        </p:txBody>
      </p:sp>
      <p:sp>
        <p:nvSpPr>
          <p:cNvPr id="555" name="Rectangle 3"/>
          <p:cNvSpPr/>
          <p:nvPr/>
        </p:nvSpPr>
        <p:spPr>
          <a:xfrm>
            <a:off x="216000" y="1332000"/>
            <a:ext cx="9288360" cy="6048360"/>
          </a:xfrm>
          <a:prstGeom prst="rect">
            <a:avLst/>
          </a:prstGeom>
          <a:noFill/>
          <a:ln w="0">
            <a:noFill/>
          </a:ln>
        </p:spPr>
        <p:style>
          <a:lnRef idx="0"/>
          <a:fillRef idx="0"/>
          <a:effectRef idx="0"/>
          <a:fontRef idx="minor"/>
        </p:style>
        <p:txBody>
          <a:bodyPr lIns="90000" rIns="90000" tIns="46800" bIns="46800" anchor="t">
            <a:normAutofit/>
          </a:bodyPr>
          <a:p>
            <a:pPr marL="666720" indent="-666720">
              <a:spcBef>
                <a:spcPts val="60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The Finnish approach to the free access to legislative materials consists thereby of the following elements:</a:t>
            </a:r>
            <a:endParaRPr b="0" lang="en-US" sz="2400" spc="-1" strike="noStrike">
              <a:solidFill>
                <a:srgbClr val="000000"/>
              </a:solidFill>
              <a:latin typeface="Arial"/>
            </a:endParaRPr>
          </a:p>
          <a:p>
            <a:pPr marL="666720" indent="-66672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The historical principle of Public Access (since 1766).</a:t>
            </a:r>
            <a:endParaRPr b="0" lang="en-US" sz="2400" spc="-1" strike="noStrike">
              <a:solidFill>
                <a:srgbClr val="000000"/>
              </a:solidFill>
              <a:latin typeface="Arial"/>
            </a:endParaRPr>
          </a:p>
          <a:p>
            <a:pPr marL="666720" indent="-66672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The right to information as confirmed in the Constitution and in the Act on the Openness of Government Activities</a:t>
            </a:r>
            <a:endParaRPr b="0" lang="en-US" sz="2400" spc="-1" strike="noStrike">
              <a:solidFill>
                <a:srgbClr val="000000"/>
              </a:solidFill>
              <a:latin typeface="Arial"/>
            </a:endParaRPr>
          </a:p>
          <a:p>
            <a:pPr marL="666720" indent="-66672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The definition of the non-copyright of laws, decrees, decisions and judgments in the Copyright Act.</a:t>
            </a:r>
            <a:endParaRPr b="0" lang="en-US" sz="2400" spc="-1" strike="noStrike">
              <a:solidFill>
                <a:srgbClr val="000000"/>
              </a:solidFill>
              <a:latin typeface="Arial"/>
            </a:endParaRPr>
          </a:p>
          <a:p>
            <a:pPr marL="666720" indent="-66672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The broad concept of access to legislation by the Constitutional Committee of the Parliament and the Ministry of Justice, including access to consolidated legislation, secondary legislation, government bills, etc.</a:t>
            </a:r>
            <a:endParaRPr b="0" lang="en-US" sz="2400" spc="-1" strike="noStrike">
              <a:solidFill>
                <a:srgbClr val="000000"/>
              </a:solidFill>
              <a:latin typeface="Arial"/>
            </a:endParaRPr>
          </a:p>
          <a:p>
            <a:pPr marL="666720" indent="-66672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The electronic version of the Finnish Legal Gazette (Statutes of Finland) has been authentic since 2011.</a:t>
            </a:r>
            <a:endParaRPr b="0" lang="en-US" sz="2400" spc="-1" strike="noStrike">
              <a:solidFill>
                <a:srgbClr val="000000"/>
              </a:solidFill>
              <a:latin typeface="Arial"/>
            </a:endParaRPr>
          </a:p>
          <a:p>
            <a:pPr marL="666720" indent="-66672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2"/>
          <p:cNvSpPr/>
          <p:nvPr/>
        </p:nvSpPr>
        <p:spPr>
          <a:xfrm>
            <a:off x="685800" y="466560"/>
            <a:ext cx="7772400" cy="9050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600" spc="-1" strike="noStrike">
                <a:solidFill>
                  <a:srgbClr val="e9f731"/>
                </a:solidFill>
                <a:latin typeface="Arial"/>
                <a:ea typeface="Arial Unicode MS"/>
              </a:rPr>
              <a:t>Free Access to Law  - FINLEX</a:t>
            </a:r>
            <a:endParaRPr b="0" lang="en-US" sz="3600" spc="-1" strike="noStrike">
              <a:solidFill>
                <a:srgbClr val="000000"/>
              </a:solidFill>
              <a:latin typeface="Arial"/>
            </a:endParaRPr>
          </a:p>
        </p:txBody>
      </p:sp>
      <p:sp>
        <p:nvSpPr>
          <p:cNvPr id="557" name="Rectangle 3"/>
          <p:cNvSpPr/>
          <p:nvPr/>
        </p:nvSpPr>
        <p:spPr>
          <a:xfrm>
            <a:off x="216000" y="1332000"/>
            <a:ext cx="9288360" cy="6048360"/>
          </a:xfrm>
          <a:prstGeom prst="rect">
            <a:avLst/>
          </a:prstGeom>
          <a:noFill/>
          <a:ln w="0">
            <a:noFill/>
          </a:ln>
        </p:spPr>
        <p:style>
          <a:lnRef idx="0"/>
          <a:fillRef idx="0"/>
          <a:effectRef idx="0"/>
          <a:fontRef idx="minor"/>
        </p:style>
        <p:txBody>
          <a:bodyPr lIns="90000" rIns="90000" tIns="46800" bIns="46800" anchor="t">
            <a:normAutofit fontScale="95000"/>
          </a:bodyPr>
          <a:p>
            <a:pPr marL="633240" indent="-633240">
              <a:spcBef>
                <a:spcPts val="60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FINLEX Legal Data Bank has been available free of charge since 1997.  It consists of over thirty databases: </a:t>
            </a:r>
            <a:endParaRPr b="0" lang="en-US" sz="2400" spc="-1" strike="noStrike">
              <a:solidFill>
                <a:srgbClr val="000000"/>
              </a:solidFill>
              <a:latin typeface="Arial"/>
            </a:endParaRPr>
          </a:p>
          <a:p>
            <a:pPr marL="633240" indent="-63324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Legal Gazette in Finnish, Swedish and Sámi languages</a:t>
            </a:r>
            <a:endParaRPr b="0" lang="en-US" sz="2400" spc="-1" strike="noStrike">
              <a:solidFill>
                <a:srgbClr val="000000"/>
              </a:solidFill>
              <a:latin typeface="Arial"/>
            </a:endParaRPr>
          </a:p>
          <a:p>
            <a:pPr marL="633240" indent="-63324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Consolidated legislation in Finnish and Swedish languages</a:t>
            </a:r>
            <a:endParaRPr b="0" lang="en-US" sz="2400" spc="-1" strike="noStrike">
              <a:solidFill>
                <a:srgbClr val="000000"/>
              </a:solidFill>
              <a:latin typeface="Arial"/>
            </a:endParaRPr>
          </a:p>
          <a:p>
            <a:pPr marL="633240" indent="-63324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Index of all legislation since 1734          </a:t>
            </a:r>
            <a:endParaRPr b="0" lang="en-US" sz="2400" spc="-1" strike="noStrike">
              <a:solidFill>
                <a:srgbClr val="000000"/>
              </a:solidFill>
              <a:latin typeface="Arial"/>
            </a:endParaRPr>
          </a:p>
          <a:p>
            <a:pPr marL="633240" indent="-63324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Government bills and parliamentary documents         </a:t>
            </a:r>
            <a:endParaRPr b="0" lang="en-US" sz="2400" spc="-1" strike="noStrike">
              <a:solidFill>
                <a:srgbClr val="000000"/>
              </a:solidFill>
              <a:latin typeface="Arial"/>
            </a:endParaRPr>
          </a:p>
          <a:p>
            <a:pPr marL="633240" indent="-63324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International treaties and conventions</a:t>
            </a:r>
            <a:endParaRPr b="0" lang="en-US" sz="2400" spc="-1" strike="noStrike">
              <a:solidFill>
                <a:srgbClr val="000000"/>
              </a:solidFill>
              <a:latin typeface="Arial"/>
            </a:endParaRPr>
          </a:p>
          <a:p>
            <a:pPr marL="633240" indent="-63324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Court judgments and references to case-law in legal literature        </a:t>
            </a:r>
            <a:endParaRPr b="0" lang="en-US" sz="2400" spc="-1" strike="noStrike">
              <a:solidFill>
                <a:srgbClr val="000000"/>
              </a:solidFill>
              <a:latin typeface="Arial"/>
            </a:endParaRPr>
          </a:p>
          <a:p>
            <a:pPr marL="633240" indent="-63324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Secondary legislation (norms of ministries and other state authorities)         </a:t>
            </a:r>
            <a:endParaRPr b="0" lang="en-US" sz="2400" spc="-1" strike="noStrike">
              <a:solidFill>
                <a:srgbClr val="000000"/>
              </a:solidFill>
              <a:latin typeface="Arial"/>
            </a:endParaRPr>
          </a:p>
          <a:p>
            <a:pPr marL="633240" indent="-63324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Collective agreements</a:t>
            </a:r>
            <a:endParaRPr b="0" lang="en-US" sz="2400" spc="-1" strike="noStrike">
              <a:solidFill>
                <a:srgbClr val="000000"/>
              </a:solidFill>
              <a:latin typeface="Arial"/>
            </a:endParaRPr>
          </a:p>
          <a:p>
            <a:pPr marL="633240" indent="-63324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Decisions of the supervisors of legislation (Justice Councellor and Parliamentary Ombudsman)</a:t>
            </a:r>
            <a:endParaRPr b="0" lang="en-US" sz="2400" spc="-1" strike="noStrike">
              <a:solidFill>
                <a:srgbClr val="000000"/>
              </a:solidFill>
              <a:latin typeface="Arial"/>
            </a:endParaRPr>
          </a:p>
          <a:p>
            <a:pPr marL="633240" indent="-633240">
              <a:spcBef>
                <a:spcPts val="601"/>
              </a:spcBef>
              <a:buClr>
                <a:srgbClr val="000000"/>
              </a:buClr>
              <a:buFont typeface="Arial"/>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Translations of Finnish legis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504720" y="179280"/>
            <a:ext cx="9072720" cy="122400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4900" spc="-1" strike="noStrike">
                <a:solidFill>
                  <a:srgbClr val="e9f731"/>
                </a:solidFill>
                <a:latin typeface="Arial"/>
              </a:rPr>
              <a:t>Daily Finnish Legal Gazette</a:t>
            </a:r>
            <a:endParaRPr b="0" lang="en-US" sz="4900" spc="-1" strike="noStrike">
              <a:solidFill>
                <a:srgbClr val="000000"/>
              </a:solidFill>
              <a:latin typeface="Arial"/>
            </a:endParaRPr>
          </a:p>
        </p:txBody>
      </p:sp>
      <p:pic>
        <p:nvPicPr>
          <p:cNvPr id="559" name="Picture 5" descr=""/>
          <p:cNvPicPr/>
          <p:nvPr/>
        </p:nvPicPr>
        <p:blipFill>
          <a:blip r:embed="rId1"/>
          <a:stretch/>
        </p:blipFill>
        <p:spPr>
          <a:xfrm>
            <a:off x="596880" y="1508040"/>
            <a:ext cx="8888400" cy="4543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504720" y="323640"/>
            <a:ext cx="9072720" cy="93492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4900" spc="-1" strike="noStrike">
                <a:solidFill>
                  <a:srgbClr val="e9f731"/>
                </a:solidFill>
                <a:latin typeface="Arial"/>
              </a:rPr>
              <a:t>History of the Legal Gazette</a:t>
            </a:r>
            <a:endParaRPr b="0" lang="en-US" sz="4900" spc="-1" strike="noStrike">
              <a:solidFill>
                <a:srgbClr val="000000"/>
              </a:solidFill>
              <a:latin typeface="Arial"/>
            </a:endParaRPr>
          </a:p>
        </p:txBody>
      </p:sp>
      <p:sp>
        <p:nvSpPr>
          <p:cNvPr id="561" name="Rectangle 5"/>
          <p:cNvSpPr/>
          <p:nvPr/>
        </p:nvSpPr>
        <p:spPr>
          <a:xfrm>
            <a:off x="685800" y="539640"/>
            <a:ext cx="7772400" cy="576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p:txBody>
      </p:sp>
      <p:sp>
        <p:nvSpPr>
          <p:cNvPr id="562" name="Rectangle 6"/>
          <p:cNvSpPr/>
          <p:nvPr/>
        </p:nvSpPr>
        <p:spPr>
          <a:xfrm>
            <a:off x="792000" y="1116000"/>
            <a:ext cx="7772400" cy="6192720"/>
          </a:xfrm>
          <a:prstGeom prst="rect">
            <a:avLst/>
          </a:prstGeom>
          <a:noFill/>
          <a:ln w="0">
            <a:noFill/>
          </a:ln>
        </p:spPr>
        <p:style>
          <a:lnRef idx="0"/>
          <a:fillRef idx="0"/>
          <a:effectRef idx="0"/>
          <a:fontRef idx="minor"/>
        </p:style>
        <p:txBody>
          <a:bodyPr lIns="90000" rIns="90000" tIns="46800" bIns="46800" anchor="t">
            <a:normAutofit/>
          </a:bodyPr>
          <a:p>
            <a:pPr lvl="1" marL="819000" indent="-315720">
              <a:spcBef>
                <a:spcPts val="774"/>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Finland as a part of Sweden </a:t>
            </a:r>
            <a:r>
              <a:rPr b="0" lang="fi-FI" sz="2400" spc="-1" strike="noStrike">
                <a:solidFill>
                  <a:srgbClr val="000000"/>
                </a:solidFill>
                <a:latin typeface="Wingdings"/>
                <a:ea typeface="Wingdings"/>
              </a:rPr>
              <a:t></a:t>
            </a:r>
            <a:r>
              <a:rPr b="0" lang="fi-FI" sz="2400" spc="-1" strike="noStrike">
                <a:solidFill>
                  <a:srgbClr val="000000"/>
                </a:solidFill>
                <a:latin typeface="Arial"/>
                <a:ea typeface="Arial Unicode MS"/>
              </a:rPr>
              <a:t>1809</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Finland as a part of Russia -&gt; 1917</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publishing of statutes started in Finland in 1809</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since year 1860 all statutes published regularly in the Legal Gazette in Finnish and Swedish</a:t>
            </a:r>
            <a:endParaRPr b="0" lang="en-US" sz="2400" spc="-1" strike="noStrike">
              <a:solidFill>
                <a:srgbClr val="000000"/>
              </a:solidFill>
              <a:latin typeface="Arial"/>
            </a:endParaRPr>
          </a:p>
          <a:p>
            <a:pPr marL="378000" indent="-378000">
              <a:spcBef>
                <a:spcPts val="60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We, Alexander the Second, by the grace of God, Emperor and Autocrat of all the Russias, Czar of Poland, Grand Duke of Finland,…”</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1902-1905 all statutes in Russian-Finnish-Swedish</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Electronic Legal Gazette in 1995</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Authentic Electronic Legal Gazette in 20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04720" y="303120"/>
            <a:ext cx="9072720" cy="11001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rPr>
              <a:t>Information on Legislative Process</a:t>
            </a:r>
            <a:endParaRPr b="0" lang="en-US" sz="2800" spc="-1" strike="noStrike">
              <a:solidFill>
                <a:srgbClr val="000000"/>
              </a:solidFill>
              <a:latin typeface="Arial"/>
            </a:endParaRPr>
          </a:p>
        </p:txBody>
      </p:sp>
      <p:sp>
        <p:nvSpPr>
          <p:cNvPr id="564" name="PlaceHolder 2"/>
          <p:cNvSpPr>
            <a:spLocks noGrp="1"/>
          </p:cNvSpPr>
          <p:nvPr>
            <p:ph/>
          </p:nvPr>
        </p:nvSpPr>
        <p:spPr>
          <a:xfrm>
            <a:off x="504720" y="1763640"/>
            <a:ext cx="9072720" cy="4989600"/>
          </a:xfrm>
          <a:prstGeom prst="rect">
            <a:avLst/>
          </a:prstGeom>
          <a:noFill/>
          <a:ln w="0">
            <a:noFill/>
          </a:ln>
        </p:spPr>
        <p:txBody>
          <a:bodyPr lIns="100800" rIns="100800" tIns="50400" bIns="50400" anchor="t">
            <a:normAutofit/>
          </a:bodyPr>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500" spc="-1" strike="noStrike">
                <a:solidFill>
                  <a:srgbClr val="000000"/>
                </a:solidFill>
                <a:latin typeface="Arial"/>
              </a:rPr>
              <a:t>Electronic information is available on the steps of the legislative process</a:t>
            </a:r>
            <a:endParaRPr b="0" lang="en-US" sz="3500" spc="-1" strike="noStrike">
              <a:solidFill>
                <a:srgbClr val="000000"/>
              </a:solidFill>
              <a:latin typeface="Arial"/>
            </a:endParaRPr>
          </a:p>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500" spc="-1" strike="noStrike">
                <a:solidFill>
                  <a:srgbClr val="000000"/>
                </a:solidFill>
                <a:latin typeface="Arial"/>
              </a:rPr>
              <a:t>Information on Finnish legislative projects </a:t>
            </a:r>
            <a:r>
              <a:rPr b="0" lang="fi-FI" sz="3500" spc="-1" strike="noStrike" u="sng">
                <a:solidFill>
                  <a:srgbClr val="009999"/>
                </a:solidFill>
                <a:uFillTx/>
                <a:latin typeface="Arial"/>
                <a:hlinkClick r:id="rId1"/>
              </a:rPr>
              <a:t>www.hare.vn.fi</a:t>
            </a:r>
            <a:r>
              <a:rPr b="0" lang="fi-FI" sz="3500" spc="-1" strike="noStrike">
                <a:solidFill>
                  <a:srgbClr val="000000"/>
                </a:solidFill>
                <a:latin typeface="Arial"/>
              </a:rPr>
              <a:t> and websites of ministries</a:t>
            </a:r>
            <a:endParaRPr b="0" lang="en-US" sz="3500" spc="-1" strike="noStrike">
              <a:solidFill>
                <a:srgbClr val="000000"/>
              </a:solidFill>
              <a:latin typeface="Arial"/>
            </a:endParaRPr>
          </a:p>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500" spc="-1" strike="noStrike">
                <a:solidFill>
                  <a:srgbClr val="000000"/>
                </a:solidFill>
                <a:latin typeface="Arial"/>
              </a:rPr>
              <a:t>Information on Government Bills – Finlex</a:t>
            </a:r>
            <a:endParaRPr b="0" lang="en-US" sz="3500" spc="-1" strike="noStrike">
              <a:solidFill>
                <a:srgbClr val="000000"/>
              </a:solidFill>
              <a:latin typeface="Arial"/>
            </a:endParaRPr>
          </a:p>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500" spc="-1" strike="noStrike">
                <a:solidFill>
                  <a:srgbClr val="000000"/>
                </a:solidFill>
                <a:latin typeface="Arial"/>
              </a:rPr>
              <a:t>Government Decision-Making System PTJ</a:t>
            </a:r>
            <a:endParaRPr b="0" lang="en-US" sz="3500" spc="-1" strike="noStrike">
              <a:solidFill>
                <a:srgbClr val="000000"/>
              </a:solidFill>
              <a:latin typeface="Arial"/>
            </a:endParaRPr>
          </a:p>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500" spc="-1" strike="noStrike">
                <a:solidFill>
                  <a:srgbClr val="000000"/>
                </a:solidFill>
                <a:latin typeface="Arial"/>
              </a:rPr>
              <a:t>Parliament Databases </a:t>
            </a:r>
            <a:r>
              <a:rPr b="0" lang="fi-FI" sz="3500" spc="-1" strike="noStrike" u="sng">
                <a:solidFill>
                  <a:srgbClr val="009999"/>
                </a:solidFill>
                <a:uFillTx/>
                <a:latin typeface="Arial"/>
                <a:hlinkClick r:id="rId2"/>
              </a:rPr>
              <a:t>www.eduskunta.fi</a:t>
            </a:r>
            <a:endParaRPr b="0" lang="en-US" sz="3500" spc="-1" strike="noStrike">
              <a:solidFill>
                <a:srgbClr val="000000"/>
              </a:solidFill>
              <a:latin typeface="Arial"/>
            </a:endParaRPr>
          </a:p>
          <a:p>
            <a:pPr marL="378000"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4"/>
          <p:cNvSpPr/>
          <p:nvPr/>
        </p:nvSpPr>
        <p:spPr>
          <a:xfrm>
            <a:off x="685800" y="466560"/>
            <a:ext cx="7772400" cy="9050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200" spc="-1" strike="noStrike">
                <a:solidFill>
                  <a:srgbClr val="000000"/>
                </a:solidFill>
                <a:latin typeface="Arial"/>
                <a:ea typeface="Arial Unicode MS"/>
              </a:rPr>
              <a:t>                        </a:t>
            </a:r>
            <a:r>
              <a:rPr b="0" lang="fi-FI" sz="3200" spc="-1" strike="noStrike">
                <a:solidFill>
                  <a:srgbClr val="e9f731"/>
                </a:solidFill>
                <a:latin typeface="Arial"/>
                <a:ea typeface="Arial Unicode MS"/>
              </a:rPr>
              <a:t>LEGISLATIVE PROCESS</a:t>
            </a:r>
            <a:endParaRPr b="0" lang="en-US" sz="3200" spc="-1" strike="noStrike">
              <a:solidFill>
                <a:srgbClr val="000000"/>
              </a:solidFill>
              <a:latin typeface="Arial"/>
            </a:endParaRPr>
          </a:p>
        </p:txBody>
      </p:sp>
      <p:sp>
        <p:nvSpPr>
          <p:cNvPr id="566" name="Rectangle 5"/>
          <p:cNvSpPr/>
          <p:nvPr/>
        </p:nvSpPr>
        <p:spPr>
          <a:xfrm>
            <a:off x="685800" y="1447920"/>
            <a:ext cx="7772400" cy="4495680"/>
          </a:xfrm>
          <a:prstGeom prst="rect">
            <a:avLst/>
          </a:prstGeom>
          <a:noFill/>
          <a:ln w="0">
            <a:noFill/>
          </a:ln>
        </p:spPr>
        <p:style>
          <a:lnRef idx="0"/>
          <a:fillRef idx="0"/>
          <a:effectRef idx="0"/>
          <a:fontRef idx="minor"/>
        </p:style>
        <p:txBody>
          <a:bodyPr lIns="90000" rIns="90000" tIns="46800" bIns="46800" anchor="t">
            <a:normAutofit/>
          </a:bodyPr>
          <a:p>
            <a:pPr marL="378000" indent="-378000">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a:p>
            <a:pPr marL="378000" indent="-378000">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pic>
        <p:nvPicPr>
          <p:cNvPr id="567" name="Picture 6" descr=""/>
          <p:cNvPicPr/>
          <p:nvPr/>
        </p:nvPicPr>
        <p:blipFill>
          <a:blip r:embed="rId1"/>
          <a:stretch/>
        </p:blipFill>
        <p:spPr>
          <a:xfrm>
            <a:off x="360360" y="1187280"/>
            <a:ext cx="9360000" cy="619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20720" y="1933560"/>
            <a:ext cx="8640720" cy="10987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1960"/>
                <a:tab algn="l" pos="5065560"/>
                <a:tab algn="l" pos="5791320"/>
                <a:tab algn="l" pos="6513480"/>
                <a:tab algn="l" pos="7237440"/>
                <a:tab algn="l" pos="7959600"/>
                <a:tab algn="l" pos="8051760"/>
                <a:tab algn="l" pos="9058320"/>
                <a:tab algn="l" pos="10064880"/>
              </a:tabLst>
            </a:pPr>
            <a:r>
              <a:rPr b="0" lang="en-GB" sz="3600" spc="-1" strike="noStrike">
                <a:solidFill>
                  <a:srgbClr val="000000"/>
                </a:solidFill>
                <a:latin typeface="Arial"/>
              </a:rPr>
              <a:t>E-Law and Free Access to Legislation in Finland and in Europe</a:t>
            </a:r>
            <a:endParaRPr b="0" lang="en-US" sz="3600" spc="-1" strike="noStrike">
              <a:solidFill>
                <a:srgbClr val="000000"/>
              </a:solidFill>
              <a:latin typeface="Arial"/>
            </a:endParaRPr>
          </a:p>
        </p:txBody>
      </p:sp>
      <p:sp>
        <p:nvSpPr>
          <p:cNvPr id="54" name="PlaceHolder 2"/>
          <p:cNvSpPr>
            <a:spLocks noGrp="1"/>
          </p:cNvSpPr>
          <p:nvPr>
            <p:ph type="subTitle"/>
          </p:nvPr>
        </p:nvSpPr>
        <p:spPr>
          <a:xfrm>
            <a:off x="720720" y="3402720"/>
            <a:ext cx="8640720" cy="3387600"/>
          </a:xfrm>
          <a:prstGeom prst="rect">
            <a:avLst/>
          </a:prstGeom>
          <a:noFill/>
          <a:ln w="0">
            <a:noFill/>
          </a:ln>
        </p:spPr>
        <p:txBody>
          <a:bodyPr lIns="0" rIns="0" tIns="0" bIns="0" anchor="ctr">
            <a:noAutofit/>
          </a:bodyPr>
          <a:p>
            <a:pPr indent="0" algn="ctr">
              <a:spcBef>
                <a:spcPts val="876"/>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endParaRPr b="0" lang="en-US" sz="3500" spc="-1" strike="noStrike">
              <a:solidFill>
                <a:srgbClr val="000000"/>
              </a:solidFill>
              <a:latin typeface="Arial"/>
            </a:endParaRPr>
          </a:p>
          <a:p>
            <a:pPr indent="0" algn="ctr">
              <a:spcBef>
                <a:spcPts val="876"/>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endParaRPr b="0" lang="en-US" sz="3500" spc="-1" strike="noStrike">
              <a:solidFill>
                <a:srgbClr val="000000"/>
              </a:solidFill>
              <a:latin typeface="Arial"/>
            </a:endParaRPr>
          </a:p>
          <a:p>
            <a:pPr indent="0" algn="ctr">
              <a:spcBef>
                <a:spcPts val="799"/>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r>
              <a:rPr b="0" lang="fi-FI" sz="3200" spc="-1" strike="noStrike">
                <a:solidFill>
                  <a:srgbClr val="000000"/>
                </a:solidFill>
                <a:latin typeface="Arial"/>
              </a:rPr>
              <a:t>Aki Hietanen, Ministry of Justice, Finland</a:t>
            </a:r>
            <a:endParaRPr b="0" lang="en-US" sz="3200" spc="-1" strike="noStrike">
              <a:solidFill>
                <a:srgbClr val="000000"/>
              </a:solidFill>
              <a:latin typeface="Arial"/>
            </a:endParaRPr>
          </a:p>
          <a:p>
            <a:pPr indent="0" algn="ctr">
              <a:spcBef>
                <a:spcPts val="799"/>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endParaRPr b="0" lang="en-US" sz="3200" spc="-1" strike="noStrike">
              <a:solidFill>
                <a:srgbClr val="000000"/>
              </a:solidFill>
              <a:latin typeface="Arial"/>
            </a:endParaRPr>
          </a:p>
          <a:p>
            <a:pPr indent="0" algn="ctr">
              <a:spcBef>
                <a:spcPts val="700"/>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r>
              <a:rPr b="0" lang="fi-FI" sz="2800" spc="-1" strike="noStrike">
                <a:solidFill>
                  <a:srgbClr val="000000"/>
                </a:solidFill>
                <a:latin typeface="Arial"/>
              </a:rPr>
              <a:t>IFLA 14.08.2012</a:t>
            </a:r>
            <a:endParaRPr b="0" lang="en-US" sz="2800" spc="-1" strike="noStrike">
              <a:solidFill>
                <a:srgbClr val="000000"/>
              </a:solidFill>
              <a:latin typeface="Arial"/>
            </a:endParaRPr>
          </a:p>
          <a:p>
            <a:pPr indent="0" algn="ctr">
              <a:spcBef>
                <a:spcPts val="700"/>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r>
              <a:rPr b="0" lang="fi-FI" sz="2800" spc="-1" strike="noStrike">
                <a:solidFill>
                  <a:srgbClr val="000000"/>
                </a:solidFill>
                <a:latin typeface="Arial"/>
              </a:rPr>
              <a:t>Conference session 129</a:t>
            </a:r>
            <a:endParaRPr b="0" lang="en-US" sz="2800" spc="-1" strike="noStrike">
              <a:solidFill>
                <a:srgbClr val="000000"/>
              </a:solidFill>
              <a:latin typeface="Arial"/>
            </a:endParaRPr>
          </a:p>
        </p:txBody>
      </p:sp>
      <p:pic>
        <p:nvPicPr>
          <p:cNvPr id="55" name="Picture 6" descr="PPP_CGEN1_CLP_Scale_Equal"/>
          <p:cNvPicPr/>
          <p:nvPr/>
        </p:nvPicPr>
        <p:blipFill>
          <a:blip r:embed="rId1"/>
          <a:stretch/>
        </p:blipFill>
        <p:spPr>
          <a:xfrm>
            <a:off x="4032360" y="3132000"/>
            <a:ext cx="2333520" cy="1273320"/>
          </a:xfrm>
          <a:prstGeom prst="rect">
            <a:avLst/>
          </a:prstGeom>
          <a:ln w="0">
            <a:noFill/>
          </a:ln>
        </p:spPr>
      </p:pic>
      <p:pic>
        <p:nvPicPr>
          <p:cNvPr id="56" name="Picture 5" descr=""/>
          <p:cNvPicPr/>
          <p:nvPr/>
        </p:nvPicPr>
        <p:blipFill>
          <a:blip r:embed="rId2"/>
          <a:stretch/>
        </p:blipFill>
        <p:spPr>
          <a:xfrm>
            <a:off x="0" y="0"/>
            <a:ext cx="10080720" cy="1042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504720" y="303120"/>
            <a:ext cx="9072720" cy="11001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200" spc="-1" strike="noStrike">
                <a:solidFill>
                  <a:srgbClr val="e9f731"/>
                </a:solidFill>
                <a:latin typeface="Arial"/>
              </a:rPr>
              <a:t>Finlex – Case-Law</a:t>
            </a:r>
            <a:endParaRPr b="0" lang="en-US" sz="3200" spc="-1" strike="noStrike">
              <a:solidFill>
                <a:srgbClr val="000000"/>
              </a:solidFill>
              <a:latin typeface="Arial"/>
            </a:endParaRPr>
          </a:p>
        </p:txBody>
      </p:sp>
      <p:sp>
        <p:nvSpPr>
          <p:cNvPr id="569" name="PlaceHolder 2"/>
          <p:cNvSpPr>
            <a:spLocks noGrp="1"/>
          </p:cNvSpPr>
          <p:nvPr>
            <p:ph/>
          </p:nvPr>
        </p:nvSpPr>
        <p:spPr>
          <a:xfrm>
            <a:off x="504720" y="1763640"/>
            <a:ext cx="9072720" cy="4989600"/>
          </a:xfrm>
          <a:prstGeom prst="rect">
            <a:avLst/>
          </a:prstGeom>
          <a:noFill/>
          <a:ln w="0">
            <a:noFill/>
          </a:ln>
        </p:spPr>
        <p:txBody>
          <a:bodyPr lIns="100800" rIns="100800" tIns="50400" bIns="50400" anchor="t">
            <a:normAutofit/>
          </a:bodyPr>
          <a:p>
            <a:pPr marL="378000" indent="-378000">
              <a:lnSpc>
                <a:spcPct val="9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100" spc="-1" strike="noStrike">
                <a:solidFill>
                  <a:srgbClr val="000000"/>
                </a:solidFill>
                <a:latin typeface="Arial"/>
              </a:rPr>
              <a:t>The precedents of Supreme Court and Supreme Administrative Court</a:t>
            </a:r>
            <a:endParaRPr b="0" lang="en-US" sz="3100" spc="-1" strike="noStrike">
              <a:solidFill>
                <a:srgbClr val="000000"/>
              </a:solidFill>
              <a:latin typeface="Arial"/>
            </a:endParaRPr>
          </a:p>
          <a:p>
            <a:pPr marL="378000" indent="-378000">
              <a:lnSpc>
                <a:spcPct val="9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100" spc="-1" strike="noStrike">
                <a:solidFill>
                  <a:srgbClr val="000000"/>
                </a:solidFill>
                <a:latin typeface="Arial"/>
              </a:rPr>
              <a:t>Courts of Appeal and Administrative Courts</a:t>
            </a:r>
            <a:endParaRPr b="0" lang="en-US" sz="3100" spc="-1" strike="noStrike">
              <a:solidFill>
                <a:srgbClr val="000000"/>
              </a:solidFill>
              <a:latin typeface="Arial"/>
            </a:endParaRPr>
          </a:p>
          <a:p>
            <a:pPr marL="378000" indent="-378000">
              <a:lnSpc>
                <a:spcPct val="9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100" spc="-1" strike="noStrike">
                <a:solidFill>
                  <a:srgbClr val="000000"/>
                </a:solidFill>
                <a:latin typeface="Arial"/>
              </a:rPr>
              <a:t>Special courts (Labour Court, Market Court, Insurance Court)</a:t>
            </a:r>
            <a:endParaRPr b="0" lang="en-US" sz="3100" spc="-1" strike="noStrike">
              <a:solidFill>
                <a:srgbClr val="000000"/>
              </a:solidFill>
              <a:latin typeface="Arial"/>
            </a:endParaRPr>
          </a:p>
          <a:p>
            <a:pPr marL="378000" indent="-378000">
              <a:lnSpc>
                <a:spcPct val="9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100" spc="-1" strike="noStrike">
                <a:solidFill>
                  <a:srgbClr val="000000"/>
                </a:solidFill>
                <a:latin typeface="Arial"/>
              </a:rPr>
              <a:t>Case Law in Legal Literature – database</a:t>
            </a:r>
            <a:endParaRPr b="0" lang="en-US" sz="3100" spc="-1" strike="noStrike">
              <a:solidFill>
                <a:srgbClr val="000000"/>
              </a:solidFill>
              <a:latin typeface="Arial"/>
            </a:endParaRPr>
          </a:p>
          <a:p>
            <a:pPr marL="378000" indent="-378000">
              <a:lnSpc>
                <a:spcPct val="9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100" spc="-1" strike="noStrike">
                <a:solidFill>
                  <a:srgbClr val="000000"/>
                </a:solidFill>
                <a:latin typeface="Arial"/>
              </a:rPr>
              <a:t>Judgments of the European Court of Human Rights  (summaries in Finnish and original judgments concerning Finland)</a:t>
            </a:r>
            <a:endParaRPr b="0" lang="en-US" sz="3100" spc="-1" strike="noStrike">
              <a:solidFill>
                <a:srgbClr val="000000"/>
              </a:solidFill>
              <a:latin typeface="Arial"/>
            </a:endParaRPr>
          </a:p>
          <a:p>
            <a:pPr marL="378000" indent="-378000">
              <a:lnSpc>
                <a:spcPct val="9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100" spc="-1" strike="noStrike">
                <a:solidFill>
                  <a:srgbClr val="000000"/>
                </a:solidFill>
                <a:latin typeface="Arial"/>
              </a:rPr>
              <a:t>”</a:t>
            </a:r>
            <a:r>
              <a:rPr b="0" lang="fi-FI" sz="3100" spc="-1" strike="noStrike">
                <a:solidFill>
                  <a:srgbClr val="000000"/>
                </a:solidFill>
                <a:latin typeface="Arial"/>
              </a:rPr>
              <a:t>Free Access to Case Law” -principle</a:t>
            </a:r>
            <a:endParaRPr b="0" lang="en-US" sz="3100" spc="-1" strike="noStrike">
              <a:solidFill>
                <a:srgbClr val="000000"/>
              </a:solidFill>
              <a:latin typeface="Arial"/>
            </a:endParaRPr>
          </a:p>
          <a:p>
            <a:pPr marL="378000" indent="0">
              <a:lnSpc>
                <a:spcPct val="90000"/>
              </a:lnSpc>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04720" y="302760"/>
            <a:ext cx="9072720" cy="117324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rPr>
              <a:t>Access to Case Law - something special</a:t>
            </a:r>
            <a:endParaRPr b="0" lang="en-US" sz="2800" spc="-1" strike="noStrike">
              <a:solidFill>
                <a:srgbClr val="000000"/>
              </a:solidFill>
              <a:latin typeface="Arial"/>
            </a:endParaRPr>
          </a:p>
        </p:txBody>
      </p:sp>
      <p:sp>
        <p:nvSpPr>
          <p:cNvPr id="571" name="PlaceHolder 2"/>
          <p:cNvSpPr>
            <a:spLocks noGrp="1"/>
          </p:cNvSpPr>
          <p:nvPr>
            <p:ph/>
          </p:nvPr>
        </p:nvSpPr>
        <p:spPr>
          <a:xfrm>
            <a:off x="504720" y="1763640"/>
            <a:ext cx="9072720" cy="4989600"/>
          </a:xfrm>
          <a:prstGeom prst="rect">
            <a:avLst/>
          </a:prstGeom>
          <a:noFill/>
          <a:ln w="0">
            <a:noFill/>
          </a:ln>
        </p:spPr>
        <p:txBody>
          <a:bodyPr lIns="100800" rIns="100800" tIns="50400" bIns="50400" anchor="t">
            <a:normAutofit/>
          </a:bodyPr>
          <a:p>
            <a:pPr marL="378000" indent="-378000">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Arial"/>
              </a:rPr>
              <a:t>Case Law in Legal Literature -database</a:t>
            </a:r>
            <a:endParaRPr b="0" lang="en-US" sz="3100" spc="-1" strike="noStrike">
              <a:solidFill>
                <a:srgbClr val="000000"/>
              </a:solidFill>
              <a:latin typeface="Arial"/>
            </a:endParaRPr>
          </a:p>
          <a:p>
            <a:pPr marL="378000" indent="-378000">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Arial"/>
              </a:rPr>
              <a:t>A collection of references to court judgments from Finnish legal monographs and articles since 1926</a:t>
            </a:r>
            <a:endParaRPr b="0" lang="en-US" sz="3100" spc="-1" strike="noStrike">
              <a:solidFill>
                <a:srgbClr val="000000"/>
              </a:solidFill>
              <a:latin typeface="Arial"/>
            </a:endParaRPr>
          </a:p>
          <a:p>
            <a:pPr marL="378000" indent="-378000">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Arial"/>
              </a:rPr>
              <a:t>Appr. 630 000 references to 125 000 court judgments</a:t>
            </a:r>
            <a:endParaRPr b="0" lang="en-US" sz="3100" spc="-1" strike="noStrike">
              <a:solidFill>
                <a:srgbClr val="000000"/>
              </a:solidFill>
              <a:latin typeface="Arial"/>
            </a:endParaRPr>
          </a:p>
          <a:p>
            <a:pPr marL="378000" indent="0">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Arial"/>
            </a:endParaRPr>
          </a:p>
          <a:p>
            <a:pPr marL="378000" indent="-378000">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100" spc="-1" strike="noStrike">
                <a:solidFill>
                  <a:srgbClr val="000000"/>
                </a:solidFill>
                <a:latin typeface="Arial"/>
              </a:rPr>
              <a:t>Regularly updated by the University of Lapland, under contract with the Ministry of Justice</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504720" y="303120"/>
            <a:ext cx="9072720" cy="13161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e9f731"/>
                </a:solidFill>
                <a:latin typeface="Arial"/>
              </a:rPr>
              <a:t>Access to Law - New Developments in Europe</a:t>
            </a:r>
            <a:endParaRPr b="0" lang="en-US" sz="2400" spc="-1" strike="noStrike">
              <a:solidFill>
                <a:srgbClr val="000000"/>
              </a:solidFill>
              <a:latin typeface="Arial"/>
            </a:endParaRPr>
          </a:p>
        </p:txBody>
      </p:sp>
      <p:sp>
        <p:nvSpPr>
          <p:cNvPr id="573" name="PlaceHolder 2"/>
          <p:cNvSpPr>
            <a:spLocks noGrp="1"/>
          </p:cNvSpPr>
          <p:nvPr>
            <p:ph/>
          </p:nvPr>
        </p:nvSpPr>
        <p:spPr>
          <a:xfrm>
            <a:off x="504720" y="1763640"/>
            <a:ext cx="9072720" cy="4989600"/>
          </a:xfrm>
          <a:prstGeom prst="rect">
            <a:avLst/>
          </a:prstGeom>
          <a:noFill/>
          <a:ln w="0">
            <a:noFill/>
          </a:ln>
        </p:spPr>
        <p:txBody>
          <a:bodyPr lIns="100800" rIns="100800" tIns="50400" bIns="50400" anchor="t">
            <a:normAutofit/>
          </a:bodyPr>
          <a:p>
            <a:pPr marL="378000" indent="-378000">
              <a:spcBef>
                <a:spcPts val="7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200" spc="-1" strike="noStrike">
                <a:solidFill>
                  <a:srgbClr val="000000"/>
                </a:solidFill>
                <a:latin typeface="Arial"/>
              </a:rPr>
              <a:t>Linked Open Data and ”Linked Legal Data” projects</a:t>
            </a:r>
            <a:endParaRPr b="0" lang="en-US" sz="3200" spc="-1" strike="noStrike">
              <a:solidFill>
                <a:srgbClr val="000000"/>
              </a:solidFill>
              <a:latin typeface="Arial"/>
            </a:endParaRPr>
          </a:p>
          <a:p>
            <a:pPr marL="378000" indent="-378000">
              <a:spcBef>
                <a:spcPts val="7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200" spc="-1" strike="noStrike">
                <a:solidFill>
                  <a:srgbClr val="000000"/>
                </a:solidFill>
                <a:latin typeface="Arial"/>
              </a:rPr>
              <a:t>European Forum of Official Gazettes and EU Council have developed </a:t>
            </a:r>
            <a:r>
              <a:rPr b="1" lang="fi-FI" sz="3200" spc="-1" strike="noStrike">
                <a:solidFill>
                  <a:srgbClr val="000000"/>
                </a:solidFill>
                <a:latin typeface="Arial"/>
              </a:rPr>
              <a:t>European Legislative Identifier </a:t>
            </a:r>
            <a:endParaRPr b="0" lang="en-US" sz="3200" spc="-1" strike="noStrike">
              <a:solidFill>
                <a:srgbClr val="000000"/>
              </a:solidFill>
              <a:latin typeface="Arial"/>
            </a:endParaRPr>
          </a:p>
          <a:p>
            <a:pPr marL="378000" indent="0">
              <a:spcBef>
                <a:spcPts val="799"/>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200" spc="-1" strike="noStrike">
              <a:solidFill>
                <a:srgbClr val="000000"/>
              </a:solidFill>
              <a:latin typeface="Arial"/>
            </a:endParaRPr>
          </a:p>
          <a:p>
            <a:pPr marL="378000" indent="-378000">
              <a:spcBef>
                <a:spcPts val="7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200" spc="-1" strike="noStrike">
                <a:solidFill>
                  <a:srgbClr val="000000"/>
                </a:solidFill>
                <a:latin typeface="Arial"/>
              </a:rPr>
              <a:t>EU Council has published conclusions of European Case Law Identifier (ECLI)</a:t>
            </a:r>
            <a:endParaRPr b="0" lang="en-US" sz="3200" spc="-1" strike="noStrike">
              <a:solidFill>
                <a:srgbClr val="000000"/>
              </a:solidFill>
              <a:latin typeface="Arial"/>
            </a:endParaRPr>
          </a:p>
          <a:p>
            <a:pPr marL="378000" indent="0">
              <a:spcBef>
                <a:spcPts val="799"/>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200" spc="-1" strike="noStrike">
              <a:solidFill>
                <a:srgbClr val="000000"/>
              </a:solidFill>
              <a:latin typeface="Arial"/>
            </a:endParaRPr>
          </a:p>
          <a:p>
            <a:pPr marL="378000" indent="0">
              <a:spcBef>
                <a:spcPts val="799"/>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504720" y="302760"/>
            <a:ext cx="9072720" cy="117324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200" spc="-1" strike="noStrike">
                <a:solidFill>
                  <a:srgbClr val="e9f731"/>
                </a:solidFill>
                <a:latin typeface="Arial"/>
              </a:rPr>
              <a:t>Open Data and Linked Open Data</a:t>
            </a:r>
            <a:endParaRPr b="0" lang="en-US" sz="3200" spc="-1" strike="noStrike">
              <a:solidFill>
                <a:srgbClr val="000000"/>
              </a:solidFill>
              <a:latin typeface="Arial"/>
            </a:endParaRPr>
          </a:p>
        </p:txBody>
      </p:sp>
      <p:sp>
        <p:nvSpPr>
          <p:cNvPr id="575" name="PlaceHolder 2"/>
          <p:cNvSpPr>
            <a:spLocks noGrp="1"/>
          </p:cNvSpPr>
          <p:nvPr>
            <p:ph/>
          </p:nvPr>
        </p:nvSpPr>
        <p:spPr>
          <a:xfrm>
            <a:off x="504720" y="1763640"/>
            <a:ext cx="9072720" cy="4989600"/>
          </a:xfrm>
          <a:prstGeom prst="rect">
            <a:avLst/>
          </a:prstGeom>
          <a:noFill/>
          <a:ln w="0">
            <a:noFill/>
          </a:ln>
        </p:spPr>
        <p:txBody>
          <a:bodyPr lIns="100800" rIns="100800" tIns="50400" bIns="50400" anchor="t">
            <a:normAutofit/>
          </a:bodyPr>
          <a:p>
            <a:pPr marL="378000" indent="-37800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Nowadays there is more debate about Open Data than about Free Access.</a:t>
            </a:r>
            <a:endParaRPr b="0" lang="en-US" sz="2000" spc="-1" strike="noStrike">
              <a:solidFill>
                <a:srgbClr val="000000"/>
              </a:solidFill>
              <a:latin typeface="Arial"/>
            </a:endParaRPr>
          </a:p>
          <a:p>
            <a:pPr marL="378000" indent="-37800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Open data is a philosophy and a practice that requires that certain data are of free access to all, with no technical or legal limitations. </a:t>
            </a:r>
            <a:endParaRPr b="0" lang="en-US" sz="2000" spc="-1" strike="noStrike">
              <a:solidFill>
                <a:srgbClr val="000000"/>
              </a:solidFill>
              <a:latin typeface="Arial"/>
            </a:endParaRPr>
          </a:p>
          <a:p>
            <a:pPr marL="378000" indent="-37800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Open data licences and terms of use are subject to laws on the reuse of public sector information. The trend is to open data free of conditions so long as the data are kept intact and not manipulated, the source is cited and the date the data were last updated is indicated. </a:t>
            </a:r>
            <a:endParaRPr b="0" lang="en-US" sz="2000" spc="-1" strike="noStrike">
              <a:solidFill>
                <a:srgbClr val="000000"/>
              </a:solidFill>
              <a:latin typeface="Arial"/>
            </a:endParaRPr>
          </a:p>
          <a:p>
            <a:pPr marL="378000" indent="-37800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000000"/>
                </a:solidFill>
                <a:latin typeface="Arial"/>
              </a:rPr>
              <a:t>The latest feature is Linked Open Data</a:t>
            </a:r>
            <a:endParaRPr b="0" lang="en-US" sz="20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400" spc="-1" strike="noStrike">
                <a:solidFill>
                  <a:srgbClr val="000000"/>
                </a:solidFill>
                <a:latin typeface="Arial"/>
              </a:rPr>
              <a:t>Linked Data is about using the Web to connect related data that was not previously linked, or using the Web to lower the barriers to linking data currently linked using other methods. (http://linkeddata.o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04720" y="302760"/>
            <a:ext cx="9072720" cy="117324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rPr>
              <a:t>Linked Open Data – the splendid Cloud Diagram</a:t>
            </a:r>
            <a:endParaRPr b="0" lang="en-US" sz="2800" spc="-1" strike="noStrike">
              <a:solidFill>
                <a:srgbClr val="000000"/>
              </a:solidFill>
              <a:latin typeface="Arial"/>
            </a:endParaRPr>
          </a:p>
        </p:txBody>
      </p:sp>
      <p:pic>
        <p:nvPicPr>
          <p:cNvPr id="577" name="Picture 5" descr=""/>
          <p:cNvPicPr/>
          <p:nvPr/>
        </p:nvPicPr>
        <p:blipFill>
          <a:blip r:embed="rId1"/>
          <a:stretch/>
        </p:blipFill>
        <p:spPr>
          <a:xfrm>
            <a:off x="503280" y="1547640"/>
            <a:ext cx="9123480" cy="5232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504720" y="302760"/>
            <a:ext cx="9072720" cy="117324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200" spc="-1" strike="noStrike">
                <a:solidFill>
                  <a:srgbClr val="e9f731"/>
                </a:solidFill>
                <a:latin typeface="Arial"/>
              </a:rPr>
              <a:t>Linked Legal Data Projects in Europe</a:t>
            </a:r>
            <a:endParaRPr b="0" lang="en-US" sz="3200" spc="-1" strike="noStrike">
              <a:solidFill>
                <a:srgbClr val="000000"/>
              </a:solidFill>
              <a:latin typeface="Arial"/>
            </a:endParaRPr>
          </a:p>
        </p:txBody>
      </p:sp>
      <p:sp>
        <p:nvSpPr>
          <p:cNvPr id="579" name="PlaceHolder 2"/>
          <p:cNvSpPr>
            <a:spLocks noGrp="1"/>
          </p:cNvSpPr>
          <p:nvPr>
            <p:ph/>
          </p:nvPr>
        </p:nvSpPr>
        <p:spPr>
          <a:xfrm>
            <a:off x="504720" y="1403280"/>
            <a:ext cx="9072720" cy="5905440"/>
          </a:xfrm>
          <a:prstGeom prst="rect">
            <a:avLst/>
          </a:prstGeom>
          <a:noFill/>
          <a:ln w="0">
            <a:noFill/>
          </a:ln>
        </p:spPr>
        <p:txBody>
          <a:bodyPr lIns="100800" rIns="100800" tIns="50400" bIns="50400" anchor="t">
            <a:normAutofit/>
          </a:bodyPr>
          <a:p>
            <a:pPr lvl="1" marL="819000" indent="-315720">
              <a:lnSpc>
                <a:spcPct val="8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2600" spc="-1" strike="noStrike">
                <a:solidFill>
                  <a:srgbClr val="000000"/>
                </a:solidFill>
                <a:latin typeface="Arial"/>
              </a:rPr>
              <a:t>United Kingdom:</a:t>
            </a:r>
            <a:r>
              <a:rPr b="0" lang="en-US" sz="2600" spc="-1" strike="noStrike">
                <a:solidFill>
                  <a:srgbClr val="000000"/>
                </a:solidFill>
                <a:latin typeface="Arial"/>
              </a:rPr>
              <a:t> Since 2010, the legislation website </a:t>
            </a:r>
            <a:r>
              <a:rPr b="1" lang="en-US" sz="2600" spc="-1" strike="noStrike">
                <a:solidFill>
                  <a:srgbClr val="000000"/>
                </a:solidFill>
                <a:latin typeface="Arial"/>
              </a:rPr>
              <a:t>www.legislation.gov.uk </a:t>
            </a:r>
            <a:r>
              <a:rPr b="0" lang="en-US" sz="2600" spc="-1" strike="noStrike">
                <a:solidFill>
                  <a:srgbClr val="000000"/>
                </a:solidFill>
                <a:latin typeface="Arial"/>
              </a:rPr>
              <a:t>provides an API to give developers full and open access to the underlying data, free for re-use under data.gov.uk licence terms.</a:t>
            </a:r>
            <a:endParaRPr b="0" lang="en-US" sz="2600" spc="-1" strike="noStrike">
              <a:solidFill>
                <a:srgbClr val="000000"/>
              </a:solidFill>
              <a:latin typeface="Arial"/>
            </a:endParaRPr>
          </a:p>
          <a:p>
            <a:pPr lvl="1" marL="819000" indent="-315720">
              <a:lnSpc>
                <a:spcPct val="8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2600" spc="-1" strike="noStrike">
                <a:solidFill>
                  <a:srgbClr val="000000"/>
                </a:solidFill>
                <a:latin typeface="Arial"/>
              </a:rPr>
              <a:t>The Netherlands:</a:t>
            </a:r>
            <a:r>
              <a:rPr b="0" lang="en-US" sz="2600" spc="-1" strike="noStrike">
                <a:solidFill>
                  <a:srgbClr val="000000"/>
                </a:solidFill>
                <a:latin typeface="Arial"/>
              </a:rPr>
              <a:t> The case-law databases of </a:t>
            </a:r>
            <a:r>
              <a:rPr b="1" lang="en-US" sz="2600" spc="-1" strike="noStrike">
                <a:solidFill>
                  <a:srgbClr val="000000"/>
                </a:solidFill>
                <a:latin typeface="Arial"/>
              </a:rPr>
              <a:t>Rechtsspraak.nl</a:t>
            </a:r>
            <a:r>
              <a:rPr b="0" lang="en-US" sz="2600" spc="-1" strike="noStrike">
                <a:solidFill>
                  <a:srgbClr val="000000"/>
                </a:solidFill>
                <a:latin typeface="Arial"/>
              </a:rPr>
              <a:t> are available as linked open data.</a:t>
            </a:r>
            <a:endParaRPr b="0" lang="en-US" sz="2600" spc="-1" strike="noStrike">
              <a:solidFill>
                <a:srgbClr val="000000"/>
              </a:solidFill>
              <a:latin typeface="Arial"/>
            </a:endParaRPr>
          </a:p>
          <a:p>
            <a:pPr lvl="1" marL="819000" indent="-315720">
              <a:lnSpc>
                <a:spcPct val="8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2600" spc="-1" strike="noStrike">
                <a:solidFill>
                  <a:srgbClr val="000000"/>
                </a:solidFill>
                <a:latin typeface="Arial"/>
              </a:rPr>
              <a:t>Germany</a:t>
            </a:r>
            <a:r>
              <a:rPr b="0" lang="en-US" sz="2600" spc="-1" strike="noStrike">
                <a:solidFill>
                  <a:srgbClr val="000000"/>
                </a:solidFill>
                <a:latin typeface="Arial"/>
              </a:rPr>
              <a:t>: In July 2012, Wolters Kluwer Germany published two legal thesauri as Linked Open Data for free re-use by public administrations, industry and the Open Data community. One thesaurus is covering topics around labor law in German language, while the other one describes German and European courts.</a:t>
            </a:r>
            <a:endParaRPr b="0" lang="en-US" sz="2600" spc="-1" strike="noStrike">
              <a:solidFill>
                <a:srgbClr val="000000"/>
              </a:solidFill>
              <a:latin typeface="Arial"/>
            </a:endParaRPr>
          </a:p>
          <a:p>
            <a:pPr lvl="1" marL="819000" indent="-315720">
              <a:lnSpc>
                <a:spcPct val="8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2600" spc="-1" strike="noStrike">
                <a:solidFill>
                  <a:srgbClr val="000000"/>
                </a:solidFill>
                <a:latin typeface="Arial"/>
              </a:rPr>
              <a:t>Sweden</a:t>
            </a:r>
            <a:r>
              <a:rPr b="0" lang="en-US" sz="2600" spc="-1" strike="noStrike">
                <a:solidFill>
                  <a:srgbClr val="000000"/>
                </a:solidFill>
                <a:latin typeface="Arial"/>
              </a:rPr>
              <a:t>: Swedish legislation will be available in 2013 also in RDF format (Resource Description Framework) (see </a:t>
            </a:r>
            <a:r>
              <a:rPr b="1" lang="en-US" sz="2600" spc="-1" strike="noStrike">
                <a:solidFill>
                  <a:srgbClr val="000000"/>
                </a:solidFill>
                <a:latin typeface="Arial"/>
              </a:rPr>
              <a:t>rinfo.lagrummet.se</a:t>
            </a:r>
            <a:r>
              <a:rPr b="0" lang="en-US" sz="2600" spc="-1" strike="noStrike">
                <a:solidFill>
                  <a:srgbClr val="000000"/>
                </a:solidFill>
                <a:latin typeface="Arial"/>
              </a:rPr>
              <a:t> )</a:t>
            </a:r>
            <a:endParaRPr b="0" lang="en-US" sz="2600" spc="-1" strike="noStrike">
              <a:solidFill>
                <a:srgbClr val="000000"/>
              </a:solidFill>
              <a:latin typeface="Arial"/>
            </a:endParaRPr>
          </a:p>
          <a:p>
            <a:pPr lvl="1" marL="819000" indent="-315720">
              <a:lnSpc>
                <a:spcPct val="8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2600" spc="-1" strike="noStrike">
                <a:solidFill>
                  <a:srgbClr val="000000"/>
                </a:solidFill>
                <a:latin typeface="Arial"/>
              </a:rPr>
              <a:t>Finland:</a:t>
            </a:r>
            <a:r>
              <a:rPr b="0" lang="en-US" sz="2600" spc="-1" strike="noStrike">
                <a:solidFill>
                  <a:srgbClr val="000000"/>
                </a:solidFill>
                <a:latin typeface="Arial"/>
              </a:rPr>
              <a:t> Linked Data Finland project was started in 2011, with Legal Linked Data as one sub-project. </a:t>
            </a:r>
            <a:endParaRPr b="0" lang="en-US" sz="2600" spc="-1" strike="noStrike">
              <a:solidFill>
                <a:srgbClr val="000000"/>
              </a:solidFill>
              <a:latin typeface="Arial"/>
            </a:endParaRPr>
          </a:p>
          <a:p>
            <a:pPr lvl="1" marL="819000" indent="0">
              <a:lnSpc>
                <a:spcPct val="80000"/>
              </a:lnSpc>
              <a:spcBef>
                <a:spcPts val="649"/>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504720" y="303120"/>
            <a:ext cx="9072720" cy="11001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rPr>
              <a:t>New Developments in EU - ELI</a:t>
            </a:r>
            <a:r>
              <a:rPr b="0" lang="fi-FI" sz="4900" spc="-1" strike="noStrike">
                <a:solidFill>
                  <a:srgbClr val="000000"/>
                </a:solidFill>
                <a:latin typeface="Arial"/>
              </a:rPr>
              <a:t> </a:t>
            </a:r>
            <a:endParaRPr b="0" lang="en-US" sz="4900" spc="-1" strike="noStrike">
              <a:solidFill>
                <a:srgbClr val="000000"/>
              </a:solidFill>
              <a:latin typeface="Arial"/>
            </a:endParaRPr>
          </a:p>
        </p:txBody>
      </p:sp>
      <p:sp>
        <p:nvSpPr>
          <p:cNvPr id="581" name="PlaceHolder 2"/>
          <p:cNvSpPr>
            <a:spLocks noGrp="1"/>
          </p:cNvSpPr>
          <p:nvPr>
            <p:ph/>
          </p:nvPr>
        </p:nvSpPr>
        <p:spPr>
          <a:xfrm>
            <a:off x="504720" y="1258920"/>
            <a:ext cx="9072720" cy="6121440"/>
          </a:xfrm>
          <a:prstGeom prst="rect">
            <a:avLst/>
          </a:prstGeom>
          <a:noFill/>
          <a:ln w="0">
            <a:noFill/>
          </a:ln>
        </p:spPr>
        <p:txBody>
          <a:bodyPr lIns="100800" rIns="100800" tIns="50400" bIns="50400" anchor="t">
            <a:normAutofit/>
          </a:bodyPr>
          <a:p>
            <a:pPr marL="378000" indent="-378000">
              <a:lnSpc>
                <a:spcPct val="8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fi-FI" sz="2600" spc="-1" strike="noStrike">
                <a:solidFill>
                  <a:srgbClr val="000000"/>
                </a:solidFill>
                <a:latin typeface="Arial"/>
              </a:rPr>
              <a:t>European Legislative Identifier (ELI)</a:t>
            </a:r>
            <a:endParaRPr b="0" lang="en-US" sz="26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	</a:t>
            </a:r>
            <a:r>
              <a:rPr b="1" lang="fi-FI" sz="1800" spc="-1" strike="noStrike">
                <a:solidFill>
                  <a:srgbClr val="000000"/>
                </a:solidFill>
                <a:latin typeface="Arial"/>
              </a:rPr>
              <a:t>- European Forum of Official Gazettes and EU Council working party on E-Law have developed the</a:t>
            </a:r>
            <a:r>
              <a:rPr b="0" lang="fi-FI" sz="1800" spc="-1" strike="noStrike">
                <a:solidFill>
                  <a:srgbClr val="000000"/>
                </a:solidFill>
                <a:latin typeface="Arial"/>
              </a:rPr>
              <a:t> </a:t>
            </a:r>
            <a:r>
              <a:rPr b="1" lang="fi-FI" sz="1800" spc="-1" strike="noStrike">
                <a:solidFill>
                  <a:srgbClr val="000000"/>
                </a:solidFill>
                <a:latin typeface="Arial"/>
              </a:rPr>
              <a:t>European Legislative Identifier  ELI</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	</a:t>
            </a:r>
            <a:r>
              <a:rPr b="1" lang="fi-FI" sz="1800" spc="-1" strike="noStrike">
                <a:solidFill>
                  <a:srgbClr val="000000"/>
                </a:solidFill>
                <a:latin typeface="Arial"/>
              </a:rPr>
              <a:t>- ELI is </a:t>
            </a:r>
            <a:r>
              <a:rPr b="1" lang="en-US" sz="1800" spc="-1" strike="noStrike">
                <a:solidFill>
                  <a:srgbClr val="000000"/>
                </a:solidFill>
                <a:latin typeface="Arial"/>
              </a:rPr>
              <a:t>a minimum set of uniform metadata to standardise legislative databases and to prepare the framework for  semantic “Official Legal Gazettes”. </a:t>
            </a:r>
            <a:endParaRPr b="0" lang="en-US" sz="1800" spc="-1" strike="noStrike">
              <a:solidFill>
                <a:srgbClr val="000000"/>
              </a:solidFill>
              <a:latin typeface="Arial"/>
            </a:endParaRPr>
          </a:p>
          <a:p>
            <a:pPr lvl="1" marL="819000" indent="-315720">
              <a:lnSpc>
                <a:spcPct val="80000"/>
              </a:lnSpc>
              <a:spcBef>
                <a:spcPts val="45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According to the draft EU council conlusions, EU </a:t>
            </a:r>
            <a:r>
              <a:rPr b="1" lang="en-US" sz="1800" spc="-1" strike="noStrike">
                <a:solidFill>
                  <a:srgbClr val="000000"/>
                </a:solidFill>
                <a:latin typeface="Arial"/>
              </a:rPr>
              <a:t>Member States should provide all pieces of national legislation which are published in national Official Journals and Legal Gazettes with a unique identifier, based on a template using some or all of the components set out in the ELI annex and some of the metadata and ontology as set out in  ELI annex.</a:t>
            </a:r>
            <a:endParaRPr b="0" lang="en-US" sz="1800" spc="-1" strike="noStrike">
              <a:solidFill>
                <a:srgbClr val="000000"/>
              </a:solidFill>
              <a:latin typeface="Arial"/>
            </a:endParaRPr>
          </a:p>
          <a:p>
            <a:pPr marL="378000" indent="-378000">
              <a:lnSpc>
                <a:spcPct val="80000"/>
              </a:lnSpc>
              <a:spcBef>
                <a:spcPts val="45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ELI) uses Unique Resource Identifiers (URI) and intends to promote the use of URIs for legislation in European Legal Gazettes.</a:t>
            </a:r>
            <a:endParaRPr b="0" lang="en-US" sz="1800" spc="-1" strike="noStrike">
              <a:solidFill>
                <a:srgbClr val="000000"/>
              </a:solidFill>
              <a:latin typeface="Arial"/>
            </a:endParaRPr>
          </a:p>
          <a:p>
            <a:pPr marL="378000" indent="-378000">
              <a:lnSpc>
                <a:spcPct val="80000"/>
              </a:lnSpc>
              <a:spcBef>
                <a:spcPts val="45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ELI  is already implemented in some EU member states, e.g. in Luxembourg</a:t>
            </a:r>
            <a:endParaRPr b="0" lang="en-US" sz="1800" spc="-1" strike="noStrike">
              <a:solidFill>
                <a:srgbClr val="000000"/>
              </a:solidFill>
              <a:latin typeface="Arial"/>
            </a:endParaRPr>
          </a:p>
          <a:p>
            <a:pPr lvl="1" marL="819000" indent="0">
              <a:lnSpc>
                <a:spcPct val="80000"/>
              </a:lnSpc>
              <a:spcBef>
                <a:spcPts val="451"/>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a:p>
            <a:pPr lvl="1" marL="819000" indent="-315720">
              <a:lnSpc>
                <a:spcPct val="80000"/>
              </a:lnSpc>
              <a:spcBef>
                <a:spcPts val="45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eli/lu/etat/2010/10/30/law : reference to all LAWS signed on 30 October 2010</a:t>
            </a:r>
            <a:endParaRPr b="0" lang="en-US" sz="1800" spc="-1" strike="noStrike">
              <a:solidFill>
                <a:srgbClr val="000000"/>
              </a:solidFill>
              <a:latin typeface="Arial"/>
            </a:endParaRPr>
          </a:p>
          <a:p>
            <a:pPr lvl="1" marL="819000" indent="-315720">
              <a:lnSpc>
                <a:spcPct val="80000"/>
              </a:lnSpc>
              <a:spcBef>
                <a:spcPts val="45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eli/lu/etat/2010/10/30/law/2010-12/ : reference to the law “2010-12” signed on 30 October 2010</a:t>
            </a:r>
            <a:endParaRPr b="0" lang="en-US" sz="1800" spc="-1" strike="noStrike">
              <a:solidFill>
                <a:srgbClr val="000000"/>
              </a:solidFill>
              <a:latin typeface="Arial"/>
            </a:endParaRPr>
          </a:p>
          <a:p>
            <a:pPr lvl="1" marL="819000" indent="-315720">
              <a:lnSpc>
                <a:spcPct val="80000"/>
              </a:lnSpc>
              <a:spcBef>
                <a:spcPts val="45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eli/lu/etat/2010/10/30/law/2010-12/de : reference to the law “2010-12” signed on 30 October 2010 German</a:t>
            </a:r>
            <a:endParaRPr b="0" lang="en-US" sz="1800" spc="-1" strike="noStrike">
              <a:solidFill>
                <a:srgbClr val="000000"/>
              </a:solidFill>
              <a:latin typeface="Arial"/>
            </a:endParaRPr>
          </a:p>
          <a:p>
            <a:pPr lvl="1" marL="819000" indent="-315720">
              <a:lnSpc>
                <a:spcPct val="80000"/>
              </a:lnSpc>
              <a:spcBef>
                <a:spcPts val="45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eli/lu/etat/2010/10/30/law/2010-12/art.8 : reference to article 8 in the law “2010-12” signed on 30 October 2010</a:t>
            </a:r>
            <a:endParaRPr b="0" lang="en-US" sz="1800" spc="-1" strike="noStrike">
              <a:solidFill>
                <a:srgbClr val="000000"/>
              </a:solidFill>
              <a:latin typeface="Arial"/>
            </a:endParaRPr>
          </a:p>
          <a:p>
            <a:pPr marL="378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504720" y="303120"/>
            <a:ext cx="9072720" cy="11001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rPr>
              <a:t>New Developments in EU - ELI</a:t>
            </a:r>
            <a:r>
              <a:rPr b="0" lang="fi-FI" sz="4900" spc="-1" strike="noStrike">
                <a:solidFill>
                  <a:srgbClr val="000000"/>
                </a:solidFill>
                <a:latin typeface="Arial"/>
              </a:rPr>
              <a:t> </a:t>
            </a:r>
            <a:endParaRPr b="0" lang="en-US" sz="4900" spc="-1" strike="noStrike">
              <a:solidFill>
                <a:srgbClr val="000000"/>
              </a:solidFill>
              <a:latin typeface="Arial"/>
            </a:endParaRPr>
          </a:p>
        </p:txBody>
      </p:sp>
      <p:sp>
        <p:nvSpPr>
          <p:cNvPr id="583" name="PlaceHolder 2"/>
          <p:cNvSpPr>
            <a:spLocks noGrp="1"/>
          </p:cNvSpPr>
          <p:nvPr>
            <p:ph/>
          </p:nvPr>
        </p:nvSpPr>
        <p:spPr>
          <a:xfrm>
            <a:off x="504720" y="1331640"/>
            <a:ext cx="9072720" cy="6048360"/>
          </a:xfrm>
          <a:prstGeom prst="rect">
            <a:avLst/>
          </a:prstGeom>
          <a:noFill/>
          <a:ln w="0">
            <a:noFill/>
          </a:ln>
        </p:spPr>
        <p:txBody>
          <a:bodyPr lIns="100800" rIns="100800" tIns="50400" bIns="50400" anchor="t">
            <a:normAutofit/>
          </a:bodyPr>
          <a:p>
            <a:pPr marL="378000" indent="0">
              <a:lnSpc>
                <a:spcPct val="80000"/>
              </a:lnSpc>
              <a:spcBef>
                <a:spcPts val="400"/>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500" spc="-1" strike="noStrike">
                <a:solidFill>
                  <a:srgbClr val="000000"/>
                </a:solidFill>
                <a:latin typeface="Arial"/>
              </a:rPr>
              <a:t>The </a:t>
            </a:r>
            <a:r>
              <a:rPr b="1" lang="fi-FI" sz="1600" spc="-1" strike="noStrike">
                <a:solidFill>
                  <a:srgbClr val="000000"/>
                </a:solidFill>
                <a:latin typeface="Arial"/>
              </a:rPr>
              <a:t>United Kingdom examples using a specific ELI URI Template (www.legislation.gov.uk)</a:t>
            </a:r>
            <a:endParaRPr b="0" lang="en-US" sz="1600" spc="-1" strike="noStrike">
              <a:solidFill>
                <a:srgbClr val="000000"/>
              </a:solidFill>
              <a:latin typeface="Arial"/>
            </a:endParaRPr>
          </a:p>
          <a:p>
            <a:pPr lvl="1" marL="819000" indent="0">
              <a:lnSpc>
                <a:spcPct val="80000"/>
              </a:lnSpc>
              <a:spcBef>
                <a:spcPts val="349"/>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Arial"/>
            </a:endParaRPr>
          </a:p>
          <a:p>
            <a:pPr lvl="1" marL="819000" indent="0">
              <a:lnSpc>
                <a:spcPct val="80000"/>
              </a:lnSpc>
              <a:spcBef>
                <a:spcPts val="400"/>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600" spc="-1" strike="noStrike">
                <a:solidFill>
                  <a:srgbClr val="000000"/>
                </a:solidFill>
                <a:latin typeface="Arial"/>
              </a:rPr>
              <a:t>id/{type}/{+year}/{identifier}{/sub-division*} : ELI Template for UK Identifier URIs</a:t>
            </a:r>
            <a:endParaRPr b="0" lang="en-US" sz="1600" spc="-1" strike="noStrike">
              <a:solidFill>
                <a:srgbClr val="000000"/>
              </a:solidFill>
              <a:latin typeface="Arial"/>
            </a:endParaRPr>
          </a:p>
          <a:p>
            <a:pPr lvl="1" marL="819000" indent="0">
              <a:lnSpc>
                <a:spcPct val="80000"/>
              </a:lnSpc>
              <a:spcBef>
                <a:spcPts val="400"/>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600" spc="-1" strike="noStrike">
                <a:solidFill>
                  <a:srgbClr val="000000"/>
                </a:solidFill>
                <a:latin typeface="Arial"/>
              </a:rPr>
              <a:t>{type}/{+year}/{identifier}{/sub-division*}{/version,language} : ELI Template for UK Document URIs</a:t>
            </a:r>
            <a:endParaRPr b="0" lang="en-US" sz="1600" spc="-1" strike="noStrike">
              <a:solidFill>
                <a:srgbClr val="000000"/>
              </a:solidFill>
              <a:latin typeface="Arial"/>
            </a:endParaRPr>
          </a:p>
          <a:p>
            <a:pPr lvl="1" marL="819000" indent="0">
              <a:lnSpc>
                <a:spcPct val="80000"/>
              </a:lnSpc>
              <a:spcBef>
                <a:spcPts val="400"/>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6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Identifier URIs</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id/ukpga/2011/3 : Identifier for United Kingdom Public General Act, 2011, Chapter 3</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id/ukpga/Eliz2/10-11/59 : Identifier for United Kingdom Public General Act, 10 and 11 Elizabeth II, Chapter 59 (i.e. using regnal year for UK Acts of Parliament prior to 1963)</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id/ukpga/2011/3/section/1/2 : Identifier for United Kingdom Public General Act, 2011, Chapter 3, Section 1, Subsection 2</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Document URIs</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ukpga/2011/3 : Reference to the current and in force version of United Kingdom Public General Act, 2011, Chapter 3</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ukpga/2011/3/enacted : Reference to the enacted (original) version of UnEuropean Forum of Official Gazettes and E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504720" y="303120"/>
            <a:ext cx="9072720" cy="13161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rPr>
              <a:t>New Developments in the EU - ECLI</a:t>
            </a:r>
            <a:r>
              <a:rPr b="0" lang="fi-FI" sz="2800" spc="-1" strike="noStrike">
                <a:solidFill>
                  <a:srgbClr val="000000"/>
                </a:solidFill>
                <a:latin typeface="Arial"/>
              </a:rPr>
              <a:t> </a:t>
            </a:r>
            <a:endParaRPr b="0" lang="en-US" sz="2800" spc="-1" strike="noStrike">
              <a:solidFill>
                <a:srgbClr val="000000"/>
              </a:solidFill>
              <a:latin typeface="Arial"/>
            </a:endParaRPr>
          </a:p>
        </p:txBody>
      </p:sp>
      <p:sp>
        <p:nvSpPr>
          <p:cNvPr id="585" name="PlaceHolder 2"/>
          <p:cNvSpPr>
            <a:spLocks noGrp="1"/>
          </p:cNvSpPr>
          <p:nvPr>
            <p:ph/>
          </p:nvPr>
        </p:nvSpPr>
        <p:spPr>
          <a:xfrm>
            <a:off x="286920" y="1476360"/>
            <a:ext cx="9433080" cy="6337440"/>
          </a:xfrm>
          <a:prstGeom prst="rect">
            <a:avLst/>
          </a:prstGeom>
          <a:noFill/>
          <a:ln w="0">
            <a:noFill/>
          </a:ln>
        </p:spPr>
        <p:txBody>
          <a:bodyPr lIns="100800" rIns="100800" tIns="50400" bIns="50400" anchor="t">
            <a:normAutofit/>
          </a:bodyPr>
          <a:p>
            <a:pPr marL="378000" indent="0">
              <a:lnSpc>
                <a:spcPct val="80000"/>
              </a:lnSpc>
              <a:spcBef>
                <a:spcPts val="60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2400" spc="-1" strike="noStrike">
                <a:solidFill>
                  <a:srgbClr val="000000"/>
                </a:solidFill>
                <a:latin typeface="Arial"/>
              </a:rPr>
              <a:t>European Case Law Identifier ECLI</a:t>
            </a:r>
            <a:endParaRPr b="0" lang="en-US" sz="2400" spc="-1" strike="noStrike">
              <a:solidFill>
                <a:srgbClr val="000000"/>
              </a:solidFill>
              <a:latin typeface="Arial"/>
            </a:endParaRPr>
          </a:p>
          <a:p>
            <a:pPr marL="378000" indent="0">
              <a:lnSpc>
                <a:spcPct val="80000"/>
              </a:lnSpc>
              <a:spcBef>
                <a:spcPts val="601"/>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Arial"/>
            </a:endParaRPr>
          </a:p>
          <a:p>
            <a:pPr marL="378000" indent="-378000">
              <a:lnSpc>
                <a:spcPct val="80000"/>
              </a:lnSpc>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fi-FI" sz="2400" spc="-1" strike="noStrike">
                <a:solidFill>
                  <a:srgbClr val="000000"/>
                </a:solidFill>
                <a:latin typeface="Arial"/>
              </a:rPr>
              <a:t>EU Council working party on E-Law developed in 2009-2010</a:t>
            </a:r>
            <a:r>
              <a:rPr b="0" lang="fi-FI" sz="2400" spc="-1" strike="noStrike">
                <a:solidFill>
                  <a:srgbClr val="000000"/>
                </a:solidFill>
                <a:latin typeface="Arial"/>
              </a:rPr>
              <a:t> </a:t>
            </a:r>
            <a:r>
              <a:rPr b="1" lang="fi-FI" sz="2400" spc="-1" strike="noStrike">
                <a:solidFill>
                  <a:srgbClr val="000000"/>
                </a:solidFill>
                <a:latin typeface="Arial"/>
              </a:rPr>
              <a:t>European Case Law  Identifier  ECLI</a:t>
            </a:r>
            <a:endParaRPr b="0" lang="en-US" sz="2400" spc="-1" strike="noStrike">
              <a:solidFill>
                <a:srgbClr val="000000"/>
              </a:solidFill>
              <a:latin typeface="Arial"/>
            </a:endParaRPr>
          </a:p>
          <a:p>
            <a:pPr marL="378000" indent="-378000">
              <a:lnSpc>
                <a:spcPct val="80000"/>
              </a:lnSpc>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fi-FI" sz="2400" spc="-1" strike="noStrike">
                <a:solidFill>
                  <a:srgbClr val="000000"/>
                </a:solidFill>
                <a:latin typeface="Arial"/>
              </a:rPr>
              <a:t>ECLI is used as an identifier for national court judgments and for EU Court of Justice judgments</a:t>
            </a:r>
            <a:endParaRPr b="0" lang="en-US" sz="2400" spc="-1" strike="noStrike">
              <a:solidFill>
                <a:srgbClr val="000000"/>
              </a:solidFill>
              <a:latin typeface="Arial"/>
            </a:endParaRPr>
          </a:p>
          <a:p>
            <a:pPr lvl="1" marL="819000" indent="0">
              <a:lnSpc>
                <a:spcPct val="80000"/>
              </a:lnSpc>
              <a:spcBef>
                <a:spcPts val="601"/>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Arial"/>
            </a:endParaRPr>
          </a:p>
          <a:p>
            <a:pPr lvl="1" marL="819000" indent="0">
              <a:lnSpc>
                <a:spcPct val="80000"/>
              </a:lnSpc>
              <a:spcBef>
                <a:spcPts val="60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2400" spc="-1" strike="noStrike">
                <a:solidFill>
                  <a:srgbClr val="000000"/>
                </a:solidFill>
                <a:latin typeface="Arial"/>
              </a:rPr>
              <a:t>ECLI is an identifier consisting of five components:</a:t>
            </a:r>
            <a:endParaRPr b="0" lang="en-US" sz="24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a) the abbreviation ‘ECLI’;</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b) the country code for the country under whose competence the judicial decision is rendered.</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c) the abbreviation for the court or tribunal (hereafter: the court code). The court code:</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d) the year of the decision, which must be written in four digits;</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e) an ordinal number, which must be unique in the sense that there must not be more than one judgment of the same court within the same year with the same ordinal number. </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For the Finnish Supreme Court, ECLI  has the following format:</a:t>
            </a:r>
            <a:endParaRPr b="0" lang="en-US" sz="1800" spc="-1" strike="noStrike">
              <a:solidFill>
                <a:srgbClr val="000000"/>
              </a:solidFill>
              <a:latin typeface="Arial"/>
            </a:endParaRPr>
          </a:p>
          <a:p>
            <a:pPr lvl="1" marL="81900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ECLI:FI:KKO:2012: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504720" y="303120"/>
            <a:ext cx="9072720" cy="8841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rPr>
              <a:t>New Developments - ECLI (2)</a:t>
            </a:r>
            <a:endParaRPr b="0" lang="en-US" sz="2800" spc="-1" strike="noStrike">
              <a:solidFill>
                <a:srgbClr val="000000"/>
              </a:solidFill>
              <a:latin typeface="Arial"/>
            </a:endParaRPr>
          </a:p>
        </p:txBody>
      </p:sp>
      <p:sp>
        <p:nvSpPr>
          <p:cNvPr id="587" name="PlaceHolder 2"/>
          <p:cNvSpPr>
            <a:spLocks noGrp="1"/>
          </p:cNvSpPr>
          <p:nvPr>
            <p:ph/>
          </p:nvPr>
        </p:nvSpPr>
        <p:spPr>
          <a:xfrm>
            <a:off x="504720" y="1403280"/>
            <a:ext cx="9072720" cy="5905440"/>
          </a:xfrm>
          <a:prstGeom prst="rect">
            <a:avLst/>
          </a:prstGeom>
          <a:noFill/>
          <a:ln w="0">
            <a:noFill/>
          </a:ln>
        </p:spPr>
        <p:txBody>
          <a:bodyPr lIns="100800" rIns="100800" tIns="50400" bIns="50400" anchor="t">
            <a:normAutofit fontScale="97000"/>
          </a:bodyPr>
          <a:p>
            <a:pPr marL="366480" indent="-366480">
              <a:lnSpc>
                <a:spcPct val="80000"/>
              </a:lnSpc>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fi-FI" sz="2000" spc="-1" strike="noStrike">
                <a:solidFill>
                  <a:srgbClr val="000000"/>
                </a:solidFill>
                <a:latin typeface="Arial"/>
              </a:rPr>
              <a:t>European Case Law Identifier ECLI</a:t>
            </a:r>
            <a:endParaRPr b="0" lang="en-US" sz="2000" spc="-1" strike="noStrike">
              <a:solidFill>
                <a:srgbClr val="000000"/>
              </a:solidFill>
              <a:latin typeface="Arial"/>
            </a:endParaRPr>
          </a:p>
          <a:p>
            <a:pPr lvl="1" marL="79416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1800" spc="-1" strike="noStrike">
                <a:solidFill>
                  <a:srgbClr val="000000"/>
                </a:solidFill>
                <a:latin typeface="Arial"/>
              </a:rPr>
              <a:t>	</a:t>
            </a:r>
            <a:endParaRPr b="0" lang="en-US" sz="1800" spc="-1" strike="noStrike">
              <a:solidFill>
                <a:srgbClr val="000000"/>
              </a:solidFill>
              <a:latin typeface="Arial"/>
            </a:endParaRPr>
          </a:p>
          <a:p>
            <a:pPr lvl="1" marL="79416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Example:  the French </a:t>
            </a:r>
            <a:r>
              <a:rPr b="1" lang="fr-FR" sz="1800" spc="-1" strike="noStrike">
                <a:solidFill>
                  <a:srgbClr val="000000"/>
                </a:solidFill>
                <a:latin typeface="Arial"/>
              </a:rPr>
              <a:t>Conseil d'État (judgment 01.08.2012)</a:t>
            </a:r>
            <a:endParaRPr b="0" lang="en-US" sz="1800" spc="-1" strike="noStrike">
              <a:solidFill>
                <a:srgbClr val="000000"/>
              </a:solidFill>
              <a:latin typeface="Arial"/>
            </a:endParaRPr>
          </a:p>
          <a:p>
            <a:pPr lvl="1" marL="79416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a:p>
            <a:pPr lvl="1" marL="794160" indent="-306000">
              <a:lnSpc>
                <a:spcPct val="80000"/>
              </a:lnSpc>
              <a:spcBef>
                <a:spcPts val="45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00"/>
                </a:solidFill>
                <a:latin typeface="Arial"/>
              </a:rPr>
              <a:t>Références - Conseil d'État </a:t>
            </a:r>
            <a:endParaRPr b="0" lang="en-US" sz="1800" spc="-1" strike="noStrike">
              <a:solidFill>
                <a:srgbClr val="000000"/>
              </a:solidFill>
              <a:latin typeface="Arial"/>
            </a:endParaRPr>
          </a:p>
          <a:p>
            <a:pPr lvl="1" marL="79416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00"/>
                </a:solidFill>
                <a:latin typeface="Arial"/>
              </a:rPr>
              <a:t>       </a:t>
            </a:r>
            <a:r>
              <a:rPr b="1" lang="fr-FR" sz="1800" spc="-1" strike="noStrike">
                <a:solidFill>
                  <a:srgbClr val="000000"/>
                </a:solidFill>
                <a:latin typeface="Arial"/>
              </a:rPr>
              <a:t>N° 348113    </a:t>
            </a:r>
            <a:endParaRPr b="0" lang="en-US" sz="1800" spc="-1" strike="noStrike">
              <a:solidFill>
                <a:srgbClr val="000000"/>
              </a:solidFill>
              <a:latin typeface="Arial"/>
            </a:endParaRPr>
          </a:p>
          <a:p>
            <a:pPr lvl="1" marL="79416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00"/>
                </a:solidFill>
                <a:latin typeface="Arial"/>
              </a:rPr>
              <a:t>       </a:t>
            </a:r>
            <a:r>
              <a:rPr b="1" lang="fr-FR" sz="1800" spc="-1" strike="noStrike">
                <a:solidFill>
                  <a:srgbClr val="000000"/>
                </a:solidFill>
                <a:latin typeface="Arial"/>
              </a:rPr>
              <a:t>ECLI:FR:CESSR:2012:348113.20120801 </a:t>
            </a:r>
            <a:endParaRPr b="0" lang="en-US" sz="1800" spc="-1" strike="noStrike">
              <a:solidFill>
                <a:srgbClr val="000000"/>
              </a:solidFill>
              <a:latin typeface="Arial"/>
            </a:endParaRPr>
          </a:p>
          <a:p>
            <a:pPr lvl="1" marL="79416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a:p>
            <a:pPr lvl="1" marL="79416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00"/>
                </a:solidFill>
                <a:latin typeface="Arial"/>
              </a:rPr>
              <a:t>       </a:t>
            </a:r>
            <a:r>
              <a:rPr b="1" lang="fr-FR" sz="1800" spc="-1" strike="noStrike">
                <a:solidFill>
                  <a:srgbClr val="000000"/>
                </a:solidFill>
                <a:latin typeface="Arial"/>
              </a:rPr>
              <a:t>1ère sous-section jugeant seule </a:t>
            </a:r>
            <a:endParaRPr b="0" lang="en-US" sz="1800" spc="-1" strike="noStrike">
              <a:solidFill>
                <a:srgbClr val="000000"/>
              </a:solidFill>
              <a:latin typeface="Arial"/>
            </a:endParaRPr>
          </a:p>
          <a:p>
            <a:pPr lvl="1" marL="79416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00"/>
                </a:solidFill>
                <a:latin typeface="Arial"/>
              </a:rPr>
              <a:t>       </a:t>
            </a:r>
            <a:r>
              <a:rPr b="1" lang="fr-FR" sz="1800" spc="-1" strike="noStrike">
                <a:solidFill>
                  <a:srgbClr val="000000"/>
                </a:solidFill>
                <a:latin typeface="Arial"/>
              </a:rPr>
              <a:t>M. Denis Piveteau, président</a:t>
            </a:r>
            <a:endParaRPr b="0" lang="en-US" sz="1800" spc="-1" strike="noStrike">
              <a:solidFill>
                <a:srgbClr val="000000"/>
              </a:solidFill>
              <a:latin typeface="Arial"/>
            </a:endParaRPr>
          </a:p>
          <a:p>
            <a:pPr lvl="1" marL="79416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00"/>
                </a:solidFill>
                <a:latin typeface="Arial"/>
              </a:rPr>
              <a:t>       </a:t>
            </a:r>
            <a:r>
              <a:rPr b="1" lang="fr-FR" sz="1800" spc="-1" strike="noStrike">
                <a:solidFill>
                  <a:srgbClr val="000000"/>
                </a:solidFill>
                <a:latin typeface="Arial"/>
              </a:rPr>
              <a:t>Mme Chrystelle Naudan-Carastro, rapporteur</a:t>
            </a:r>
            <a:endParaRPr b="0" lang="en-US" sz="1800" spc="-1" strike="noStrike">
              <a:solidFill>
                <a:srgbClr val="000000"/>
              </a:solidFill>
              <a:latin typeface="Arial"/>
            </a:endParaRPr>
          </a:p>
          <a:p>
            <a:pPr lvl="1" marL="794160" indent="0">
              <a:lnSpc>
                <a:spcPct val="80000"/>
              </a:lnSpc>
              <a:spcBef>
                <a:spcPts val="45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00"/>
                </a:solidFill>
                <a:latin typeface="Arial"/>
              </a:rPr>
              <a:t>       </a:t>
            </a:r>
            <a:r>
              <a:rPr b="1" lang="fr-FR" sz="1800" spc="-1" strike="noStrike">
                <a:solidFill>
                  <a:srgbClr val="000000"/>
                </a:solidFill>
                <a:latin typeface="Arial"/>
              </a:rPr>
              <a:t>Mme Claire Landais, rapporteur public</a:t>
            </a:r>
            <a:endParaRPr b="0" lang="en-US" sz="1800" spc="-1" strike="noStrike">
              <a:solidFill>
                <a:srgbClr val="000000"/>
              </a:solidFill>
              <a:latin typeface="Arial"/>
            </a:endParaRPr>
          </a:p>
          <a:p>
            <a:pPr lvl="1" marL="794160" indent="0">
              <a:lnSpc>
                <a:spcPct val="80000"/>
              </a:lnSpc>
              <a:spcBef>
                <a:spcPts val="451"/>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a:p>
            <a:pPr lvl="1" marL="794160" indent="0">
              <a:lnSpc>
                <a:spcPct val="80000"/>
              </a:lnSpc>
              <a:spcBef>
                <a:spcPts val="499"/>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i-FI" sz="2000" spc="-1" strike="noStrike">
                <a:solidFill>
                  <a:srgbClr val="000000"/>
                </a:solidFill>
                <a:latin typeface="Arial"/>
              </a:rPr>
              <a:t>Current work on ECLI</a:t>
            </a:r>
            <a:endParaRPr b="0" lang="en-US" sz="2000" spc="-1" strike="noStrike">
              <a:solidFill>
                <a:srgbClr val="000000"/>
              </a:solidFill>
              <a:latin typeface="Arial"/>
            </a:endParaRPr>
          </a:p>
          <a:p>
            <a:pPr lvl="1" marL="794160" indent="0">
              <a:lnSpc>
                <a:spcPct val="80000"/>
              </a:lnSpc>
              <a:spcBef>
                <a:spcPts val="499"/>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000000"/>
              </a:solidFill>
              <a:latin typeface="Arial"/>
            </a:endParaRPr>
          </a:p>
          <a:p>
            <a:pPr lvl="1" marL="794160" indent="-306000">
              <a:lnSpc>
                <a:spcPct val="80000"/>
              </a:lnSpc>
              <a:spcBef>
                <a:spcPts val="45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The European Commission started in 2011 a project with all EU Member States with the purpose of defining an XML schema definition (XSD) for compliance validation of ECLI metadata by both ECLI suppliers (EU Member States) and ECLI operators (the European Commission).  </a:t>
            </a:r>
            <a:endParaRPr b="0" lang="en-US" sz="1800" spc="-1" strike="noStrike">
              <a:solidFill>
                <a:srgbClr val="000000"/>
              </a:solidFill>
              <a:latin typeface="Arial"/>
            </a:endParaRPr>
          </a:p>
          <a:p>
            <a:pPr lvl="1" marL="794160" indent="0">
              <a:lnSpc>
                <a:spcPct val="80000"/>
              </a:lnSpc>
              <a:spcBef>
                <a:spcPts val="451"/>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000000"/>
              </a:solidFill>
              <a:latin typeface="Arial"/>
            </a:endParaRPr>
          </a:p>
          <a:p>
            <a:pPr lvl="1" marL="794160" indent="-306000">
              <a:lnSpc>
                <a:spcPct val="80000"/>
              </a:lnSpc>
              <a:spcBef>
                <a:spcPts val="45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1800" spc="-1" strike="noStrike">
                <a:solidFill>
                  <a:srgbClr val="000000"/>
                </a:solidFill>
                <a:latin typeface="Arial"/>
              </a:rPr>
              <a:t>The project also includes an implementation analysis on the exposure of ECLI metadata for indexation by the European e-Justice Por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685800" y="762120"/>
            <a:ext cx="7772400" cy="6094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200" spc="-1" strike="noStrike">
                <a:solidFill>
                  <a:srgbClr val="e9f731"/>
                </a:solidFill>
                <a:latin typeface="Arial"/>
                <a:ea typeface="Arial Unicode MS"/>
              </a:rPr>
              <a:t>SUMMARY OF CONTENTS</a:t>
            </a:r>
            <a:endParaRPr b="0" lang="en-US" sz="3200" spc="-1" strike="noStrike">
              <a:solidFill>
                <a:srgbClr val="000000"/>
              </a:solidFill>
              <a:latin typeface="Arial"/>
            </a:endParaRPr>
          </a:p>
        </p:txBody>
      </p:sp>
      <p:sp>
        <p:nvSpPr>
          <p:cNvPr id="58" name="Rectangle 5"/>
          <p:cNvSpPr/>
          <p:nvPr/>
        </p:nvSpPr>
        <p:spPr>
          <a:xfrm>
            <a:off x="685800" y="1676520"/>
            <a:ext cx="8531280" cy="5703840"/>
          </a:xfrm>
          <a:prstGeom prst="rect">
            <a:avLst/>
          </a:prstGeom>
          <a:noFill/>
          <a:ln w="0">
            <a:noFill/>
          </a:ln>
        </p:spPr>
        <p:style>
          <a:lnRef idx="0"/>
          <a:fillRef idx="0"/>
          <a:effectRef idx="0"/>
          <a:fontRef idx="minor"/>
        </p:style>
        <p:txBody>
          <a:bodyPr lIns="90000" rIns="90000" tIns="46800" bIns="46800" anchor="t">
            <a:normAutofit/>
          </a:bodyPr>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500" spc="-1" strike="noStrike">
                <a:solidFill>
                  <a:srgbClr val="000000"/>
                </a:solidFill>
                <a:latin typeface="Arial"/>
                <a:ea typeface="Arial Unicode MS"/>
              </a:rPr>
              <a:t>About E-Law and E-Justice in Europe</a:t>
            </a:r>
            <a:endParaRPr b="0" lang="en-US" sz="3500" spc="-1" strike="noStrike">
              <a:solidFill>
                <a:srgbClr val="000000"/>
              </a:solidFill>
              <a:latin typeface="Arial"/>
            </a:endParaRPr>
          </a:p>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500" spc="-1" strike="noStrike">
                <a:solidFill>
                  <a:srgbClr val="000000"/>
                </a:solidFill>
                <a:latin typeface="Arial"/>
                <a:ea typeface="Arial Unicode MS"/>
              </a:rPr>
              <a:t>Free access to legislation: trends in Europe</a:t>
            </a:r>
            <a:endParaRPr b="0" lang="en-US" sz="3500" spc="-1" strike="noStrike">
              <a:solidFill>
                <a:srgbClr val="000000"/>
              </a:solidFill>
              <a:latin typeface="Arial"/>
            </a:endParaRPr>
          </a:p>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500" spc="-1" strike="noStrike">
                <a:solidFill>
                  <a:srgbClr val="000000"/>
                </a:solidFill>
                <a:latin typeface="Arial"/>
                <a:ea typeface="Arial Unicode MS"/>
              </a:rPr>
              <a:t>Free access to legislation: the Finnish model</a:t>
            </a:r>
            <a:endParaRPr b="0" lang="en-US" sz="3500" spc="-1" strike="noStrike">
              <a:solidFill>
                <a:srgbClr val="000000"/>
              </a:solidFill>
              <a:latin typeface="Arial"/>
            </a:endParaRPr>
          </a:p>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3500" spc="-1" strike="noStrike">
                <a:solidFill>
                  <a:srgbClr val="000000"/>
                </a:solidFill>
                <a:latin typeface="Arial"/>
                <a:ea typeface="Arial Unicode MS"/>
              </a:rPr>
              <a:t>New developments: Linked Open Data, European Legislative Identifier, authentic electronic legal gazette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504720" y="303120"/>
            <a:ext cx="9072720" cy="8128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rPr>
              <a:t>Free Access to Law - Further information</a:t>
            </a:r>
            <a:endParaRPr b="0" lang="en-US" sz="2800" spc="-1" strike="noStrike">
              <a:solidFill>
                <a:srgbClr val="000000"/>
              </a:solidFill>
              <a:latin typeface="Arial"/>
            </a:endParaRPr>
          </a:p>
        </p:txBody>
      </p:sp>
      <p:sp>
        <p:nvSpPr>
          <p:cNvPr id="589" name="PlaceHolder 2"/>
          <p:cNvSpPr>
            <a:spLocks noGrp="1"/>
          </p:cNvSpPr>
          <p:nvPr>
            <p:ph/>
          </p:nvPr>
        </p:nvSpPr>
        <p:spPr>
          <a:xfrm>
            <a:off x="504720" y="1763640"/>
            <a:ext cx="9072720" cy="4989600"/>
          </a:xfrm>
          <a:prstGeom prst="rect">
            <a:avLst/>
          </a:prstGeom>
          <a:noFill/>
          <a:ln w="0">
            <a:noFill/>
          </a:ln>
        </p:spPr>
        <p:txBody>
          <a:bodyPr lIns="100800" rIns="100800" tIns="50400" bIns="50400" anchor="t">
            <a:normAutofit/>
          </a:bodyPr>
          <a:p>
            <a:pPr marL="378000" indent="-378000">
              <a:lnSpc>
                <a:spcPct val="9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600" spc="-1" strike="noStrike">
                <a:solidFill>
                  <a:srgbClr val="000000"/>
                </a:solidFill>
                <a:latin typeface="Arial"/>
              </a:rPr>
              <a:t>Finlex Legal Data Bank </a:t>
            </a:r>
            <a:r>
              <a:rPr b="0" lang="fi-FI" sz="2600" spc="-1" strike="noStrike" u="sng">
                <a:solidFill>
                  <a:srgbClr val="009999"/>
                </a:solidFill>
                <a:uFillTx/>
                <a:latin typeface="Arial"/>
                <a:hlinkClick r:id="rId1"/>
              </a:rPr>
              <a:t>www.finlex.fi</a:t>
            </a:r>
            <a:r>
              <a:rPr b="0" lang="fi-FI" sz="2600" spc="-1" strike="noStrike">
                <a:solidFill>
                  <a:srgbClr val="000000"/>
                </a:solidFill>
                <a:latin typeface="Arial"/>
              </a:rPr>
              <a:t>  </a:t>
            </a:r>
            <a:endParaRPr b="0" lang="en-US" sz="2600" spc="-1" strike="noStrike">
              <a:solidFill>
                <a:srgbClr val="000000"/>
              </a:solidFill>
              <a:latin typeface="Arial"/>
            </a:endParaRPr>
          </a:p>
          <a:p>
            <a:pPr marL="378000" indent="-378000">
              <a:lnSpc>
                <a:spcPct val="9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600" spc="-1" strike="noStrike">
                <a:solidFill>
                  <a:srgbClr val="000000"/>
                </a:solidFill>
                <a:latin typeface="Arial"/>
              </a:rPr>
              <a:t>Courts and Judicial system </a:t>
            </a:r>
            <a:r>
              <a:rPr b="0" lang="fi-FI" sz="2600" spc="-1" strike="noStrike" u="sng">
                <a:solidFill>
                  <a:srgbClr val="009999"/>
                </a:solidFill>
                <a:uFillTx/>
                <a:latin typeface="Arial"/>
                <a:hlinkClick r:id="rId2"/>
              </a:rPr>
              <a:t>www.oikeus.fi</a:t>
            </a:r>
            <a:endParaRPr b="0" lang="en-US" sz="2600" spc="-1" strike="noStrike">
              <a:solidFill>
                <a:srgbClr val="000000"/>
              </a:solidFill>
              <a:latin typeface="Arial"/>
            </a:endParaRPr>
          </a:p>
          <a:p>
            <a:pPr marL="378000" indent="-378000">
              <a:lnSpc>
                <a:spcPct val="9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600" spc="-1" strike="noStrike">
                <a:solidFill>
                  <a:srgbClr val="000000"/>
                </a:solidFill>
                <a:latin typeface="Arial"/>
              </a:rPr>
              <a:t>Supreme Court </a:t>
            </a:r>
            <a:r>
              <a:rPr b="0" lang="fi-FI" sz="2600" spc="-1" strike="noStrike" u="sng">
                <a:solidFill>
                  <a:srgbClr val="009999"/>
                </a:solidFill>
                <a:uFillTx/>
                <a:latin typeface="Arial"/>
                <a:hlinkClick r:id="rId3"/>
              </a:rPr>
              <a:t>www.kko.fi</a:t>
            </a:r>
            <a:endParaRPr b="0" lang="en-US" sz="2600" spc="-1" strike="noStrike">
              <a:solidFill>
                <a:srgbClr val="000000"/>
              </a:solidFill>
              <a:latin typeface="Arial"/>
            </a:endParaRPr>
          </a:p>
          <a:p>
            <a:pPr marL="378000" indent="-378000">
              <a:lnSpc>
                <a:spcPct val="9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600" spc="-1" strike="noStrike">
                <a:solidFill>
                  <a:srgbClr val="000000"/>
                </a:solidFill>
                <a:latin typeface="Arial"/>
              </a:rPr>
              <a:t>Supreme Administrative Court www.kho.fi</a:t>
            </a:r>
            <a:endParaRPr b="0" lang="en-US" sz="2600" spc="-1" strike="noStrike">
              <a:solidFill>
                <a:srgbClr val="000000"/>
              </a:solidFill>
              <a:latin typeface="Arial"/>
            </a:endParaRPr>
          </a:p>
          <a:p>
            <a:pPr marL="378000" indent="-378000">
              <a:lnSpc>
                <a:spcPct val="9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600" spc="-1" strike="noStrike">
                <a:solidFill>
                  <a:srgbClr val="000000"/>
                </a:solidFill>
                <a:latin typeface="Arial"/>
              </a:rPr>
              <a:t>Finnish Parliament </a:t>
            </a:r>
            <a:r>
              <a:rPr b="0" lang="fi-FI" sz="2600" spc="-1" strike="noStrike" u="sng">
                <a:solidFill>
                  <a:srgbClr val="009999"/>
                </a:solidFill>
                <a:uFillTx/>
                <a:latin typeface="Arial"/>
                <a:hlinkClick r:id="rId4"/>
              </a:rPr>
              <a:t>www.eduskunta.fi</a:t>
            </a:r>
            <a:endParaRPr b="0" lang="en-US" sz="2600" spc="-1" strike="noStrike">
              <a:solidFill>
                <a:srgbClr val="000000"/>
              </a:solidFill>
              <a:latin typeface="Arial"/>
            </a:endParaRPr>
          </a:p>
          <a:p>
            <a:pPr marL="378000" indent="0">
              <a:lnSpc>
                <a:spcPct val="90000"/>
              </a:lnSpc>
              <a:spcBef>
                <a:spcPts val="649"/>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a:p>
            <a:pPr marL="378000" indent="-378000">
              <a:lnSpc>
                <a:spcPct val="9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600" spc="-1" strike="noStrike">
                <a:solidFill>
                  <a:srgbClr val="000000"/>
                </a:solidFill>
                <a:latin typeface="Arial"/>
              </a:rPr>
              <a:t>European Forum of Official Gazettes</a:t>
            </a:r>
            <a:endParaRPr b="0" lang="en-US" sz="2600" spc="-1" strike="noStrike">
              <a:solidFill>
                <a:srgbClr val="000000"/>
              </a:solidFill>
              <a:latin typeface="Arial"/>
            </a:endParaRPr>
          </a:p>
          <a:p>
            <a:pPr marL="378000" indent="0">
              <a:lnSpc>
                <a:spcPct val="90000"/>
              </a:lnSpc>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600" spc="-1" strike="noStrike">
                <a:solidFill>
                  <a:srgbClr val="000000"/>
                </a:solidFill>
                <a:latin typeface="Arial"/>
              </a:rPr>
              <a:t>    </a:t>
            </a:r>
            <a:r>
              <a:rPr b="0" lang="fi-FI" sz="2600" spc="-1" strike="noStrike">
                <a:solidFill>
                  <a:srgbClr val="000000"/>
                </a:solidFill>
                <a:latin typeface="Arial"/>
              </a:rPr>
              <a:t>www.forum-official-gazettes.eu/ </a:t>
            </a:r>
            <a:endParaRPr b="0" lang="en-US" sz="2600" spc="-1" strike="noStrike">
              <a:solidFill>
                <a:srgbClr val="000000"/>
              </a:solidFill>
              <a:latin typeface="Arial"/>
            </a:endParaRPr>
          </a:p>
          <a:p>
            <a:pPr marL="378000" indent="-378000">
              <a:lnSpc>
                <a:spcPct val="9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600" spc="-1" strike="noStrike">
                <a:solidFill>
                  <a:srgbClr val="000000"/>
                </a:solidFill>
                <a:latin typeface="Arial"/>
              </a:rPr>
              <a:t>European Case Law Identifier (Official Journal of the EU, </a:t>
            </a:r>
            <a:endParaRPr b="0" lang="en-US" sz="2600" spc="-1" strike="noStrike">
              <a:solidFill>
                <a:srgbClr val="000000"/>
              </a:solidFill>
              <a:latin typeface="Arial"/>
            </a:endParaRPr>
          </a:p>
          <a:p>
            <a:pPr marL="378000" indent="0">
              <a:lnSpc>
                <a:spcPct val="90000"/>
              </a:lnSpc>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600" spc="-1" strike="noStrike">
                <a:solidFill>
                  <a:srgbClr val="000000"/>
                </a:solidFill>
                <a:latin typeface="Arial"/>
              </a:rPr>
              <a:t>    </a:t>
            </a:r>
            <a:r>
              <a:rPr b="0" lang="pl-PL" sz="2600" spc="-1" strike="noStrike">
                <a:solidFill>
                  <a:srgbClr val="000000"/>
                </a:solidFill>
                <a:latin typeface="Arial"/>
              </a:rPr>
              <a:t>OJ C 127, 29.4.2011, p. 1–7 </a:t>
            </a:r>
            <a:r>
              <a:rPr b="0" lang="fi-FI" sz="2600" spc="-1" strike="noStrike">
                <a:solidFill>
                  <a:srgbClr val="000000"/>
                </a:solidFill>
                <a:latin typeface="Arial"/>
              </a:rPr>
              <a:t>)</a:t>
            </a:r>
            <a:endParaRPr b="0" lang="en-US" sz="2600" spc="-1" strike="noStrike">
              <a:solidFill>
                <a:srgbClr val="000000"/>
              </a:solidFill>
              <a:latin typeface="Arial"/>
            </a:endParaRPr>
          </a:p>
          <a:p>
            <a:pPr marL="378000" indent="0">
              <a:lnSpc>
                <a:spcPct val="90000"/>
              </a:lnSpc>
              <a:spcBef>
                <a:spcPts val="649"/>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a:p>
            <a:pPr marL="378000" indent="0">
              <a:lnSpc>
                <a:spcPct val="90000"/>
              </a:lnSpc>
              <a:spcBef>
                <a:spcPts val="649"/>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685800" y="466560"/>
            <a:ext cx="7772400" cy="9050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ea typeface="Arial Unicode MS"/>
              </a:rPr>
              <a:t>E-Law in Europe</a:t>
            </a:r>
            <a:endParaRPr b="0" lang="en-US" sz="2800" spc="-1" strike="noStrike">
              <a:solidFill>
                <a:srgbClr val="000000"/>
              </a:solidFill>
              <a:latin typeface="Arial"/>
            </a:endParaRPr>
          </a:p>
        </p:txBody>
      </p:sp>
      <p:sp>
        <p:nvSpPr>
          <p:cNvPr id="60" name="Rectangle 5"/>
          <p:cNvSpPr/>
          <p:nvPr/>
        </p:nvSpPr>
        <p:spPr>
          <a:xfrm>
            <a:off x="685800" y="1676520"/>
            <a:ext cx="9034560" cy="5703840"/>
          </a:xfrm>
          <a:prstGeom prst="rect">
            <a:avLst/>
          </a:prstGeom>
          <a:noFill/>
          <a:ln w="0">
            <a:noFill/>
          </a:ln>
        </p:spPr>
        <p:style>
          <a:lnRef idx="0"/>
          <a:fillRef idx="0"/>
          <a:effectRef idx="0"/>
          <a:fontRef idx="minor"/>
        </p:style>
        <p:txBody>
          <a:bodyPr lIns="90000" rIns="90000" tIns="46800" bIns="46800" anchor="t">
            <a:normAutofit/>
          </a:bodyPr>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fi-FI" sz="2400" spc="-1" strike="noStrike">
                <a:solidFill>
                  <a:srgbClr val="000000"/>
                </a:solidFill>
                <a:latin typeface="Arial"/>
                <a:ea typeface="Arial Unicode MS"/>
              </a:rPr>
              <a:t>E-Law</a:t>
            </a:r>
            <a:r>
              <a:rPr b="0" lang="fi-FI" sz="2400" spc="-1" strike="noStrike">
                <a:solidFill>
                  <a:srgbClr val="000000"/>
                </a:solidFill>
                <a:latin typeface="Arial"/>
                <a:ea typeface="Arial Unicode MS"/>
              </a:rPr>
              <a:t> is a fairly new concept, used in Europe since 2004-2005 </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It refers to </a:t>
            </a:r>
            <a:r>
              <a:rPr b="1" lang="fi-FI" sz="2400" spc="-1" strike="noStrike">
                <a:solidFill>
                  <a:srgbClr val="000000"/>
                </a:solidFill>
                <a:latin typeface="Arial"/>
                <a:ea typeface="Arial Unicode MS"/>
              </a:rPr>
              <a:t>electronic legislation</a:t>
            </a:r>
            <a:r>
              <a:rPr b="0" lang="fi-FI" sz="2400" spc="-1" strike="noStrike">
                <a:solidFill>
                  <a:srgbClr val="000000"/>
                </a:solidFill>
                <a:latin typeface="Arial"/>
                <a:ea typeface="Arial Unicode MS"/>
              </a:rPr>
              <a:t> and to the different aspects of </a:t>
            </a:r>
            <a:r>
              <a:rPr b="1" lang="fi-FI" sz="2400" spc="-1" strike="noStrike">
                <a:solidFill>
                  <a:srgbClr val="000000"/>
                </a:solidFill>
                <a:latin typeface="Arial"/>
                <a:ea typeface="Arial Unicode MS"/>
              </a:rPr>
              <a:t>electronic publishing of legislation</a:t>
            </a:r>
            <a:r>
              <a:rPr b="0" lang="fi-FI" sz="2400" spc="-1" strike="noStrike">
                <a:solidFill>
                  <a:srgbClr val="000000"/>
                </a:solidFill>
                <a:latin typeface="Arial"/>
                <a:ea typeface="Arial Unicode MS"/>
              </a:rPr>
              <a:t>, e.g. authenticity of electronic acts, promulgation of electronic legislation and access to electronic legislation</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fi-FI" sz="2400" spc="-1" strike="noStrike">
                <a:solidFill>
                  <a:srgbClr val="000000"/>
                </a:solidFill>
                <a:latin typeface="Arial"/>
                <a:ea typeface="Arial Unicode MS"/>
              </a:rPr>
              <a:t>E-Justice</a:t>
            </a:r>
            <a:r>
              <a:rPr b="0" lang="fi-FI" sz="2400" spc="-1" strike="noStrike">
                <a:solidFill>
                  <a:srgbClr val="000000"/>
                </a:solidFill>
                <a:latin typeface="Arial"/>
                <a:ea typeface="Arial Unicode MS"/>
              </a:rPr>
              <a:t> is a similar concept, </a:t>
            </a:r>
            <a:r>
              <a:rPr b="0" lang="en-US" sz="2400" spc="-1" strike="noStrike">
                <a:solidFill>
                  <a:srgbClr val="000000"/>
                </a:solidFill>
                <a:latin typeface="Arial"/>
                <a:ea typeface="Arial Unicode MS"/>
              </a:rPr>
              <a:t>including, in general, the use of electronic technologies in the field of justice,</a:t>
            </a:r>
            <a:r>
              <a:rPr b="0" lang="fi-FI" sz="2400" spc="-1" strike="noStrike">
                <a:solidFill>
                  <a:srgbClr val="000000"/>
                </a:solidFill>
                <a:latin typeface="Arial"/>
                <a:ea typeface="Arial Unicode MS"/>
              </a:rPr>
              <a:t> (electronic exchange of court documents, electronic registers, videoconferencing, European E-Justice portal)</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EU Council has a Working Group on  E-Law and E-Justice, exchanging  information on the experiences of EU Member States and developing policies at the EU lev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685800" y="466560"/>
            <a:ext cx="7772400" cy="9050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ea typeface="Arial Unicode MS"/>
              </a:rPr>
              <a:t>E-Law in practice</a:t>
            </a:r>
            <a:endParaRPr b="0" lang="en-US" sz="2800" spc="-1" strike="noStrike">
              <a:solidFill>
                <a:srgbClr val="000000"/>
              </a:solidFill>
              <a:latin typeface="Arial"/>
            </a:endParaRPr>
          </a:p>
        </p:txBody>
      </p:sp>
      <p:sp>
        <p:nvSpPr>
          <p:cNvPr id="62" name="Rectangle 3"/>
          <p:cNvSpPr/>
          <p:nvPr/>
        </p:nvSpPr>
        <p:spPr>
          <a:xfrm>
            <a:off x="685800" y="1676520"/>
            <a:ext cx="8386920" cy="5343480"/>
          </a:xfrm>
          <a:prstGeom prst="rect">
            <a:avLst/>
          </a:prstGeom>
          <a:noFill/>
          <a:ln w="0">
            <a:noFill/>
          </a:ln>
        </p:spPr>
        <p:style>
          <a:lnRef idx="0"/>
          <a:fillRef idx="0"/>
          <a:effectRef idx="0"/>
          <a:fontRef idx="minor"/>
        </p:style>
        <p:txBody>
          <a:bodyPr lIns="90000" rIns="90000" tIns="46800" bIns="46800" anchor="t">
            <a:normAutofit/>
          </a:bodyPr>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European Commission has established EUR-Lex as a one stop shop to European legislation</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EUR-Lex includes N-Lex, a common gateway and portal of national legislation in EU Member States</a:t>
            </a:r>
            <a:endParaRPr b="0" lang="en-US" sz="2400" spc="-1" strike="noStrike">
              <a:solidFill>
                <a:srgbClr val="000000"/>
              </a:solidFill>
              <a:latin typeface="Arial"/>
            </a:endParaRPr>
          </a:p>
          <a:p>
            <a:pPr lvl="1" marL="819000" indent="-31572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http://eur-lex.europa.eu/n-lex/index_en.htm</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New E-Law initiatives include</a:t>
            </a:r>
            <a:endParaRPr b="0" lang="en-US" sz="2400" spc="-1" strike="noStrike">
              <a:solidFill>
                <a:srgbClr val="000000"/>
              </a:solidFill>
              <a:latin typeface="Arial"/>
            </a:endParaRPr>
          </a:p>
          <a:p>
            <a:pPr lvl="1" marL="819000" indent="-31572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000" spc="-1" strike="noStrike">
                <a:solidFill>
                  <a:srgbClr val="000000"/>
                </a:solidFill>
                <a:latin typeface="Arial"/>
                <a:ea typeface="Arial Unicode MS"/>
              </a:rPr>
              <a:t>European Legislative Identifier ELI</a:t>
            </a:r>
            <a:endParaRPr b="0" lang="en-US" sz="2000" spc="-1" strike="noStrike">
              <a:solidFill>
                <a:srgbClr val="000000"/>
              </a:solidFill>
              <a:latin typeface="Arial"/>
            </a:endParaRPr>
          </a:p>
          <a:p>
            <a:pPr lvl="1" marL="819000" indent="-31572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000" spc="-1" strike="noStrike">
                <a:solidFill>
                  <a:srgbClr val="000000"/>
                </a:solidFill>
                <a:latin typeface="Arial"/>
                <a:ea typeface="Arial Unicode MS"/>
              </a:rPr>
              <a:t>European Case Law Identifier  ECLI</a:t>
            </a:r>
            <a:endParaRPr b="0" lang="en-US" sz="2000" spc="-1" strike="noStrike">
              <a:solidFill>
                <a:srgbClr val="000000"/>
              </a:solidFill>
              <a:latin typeface="Arial"/>
            </a:endParaRPr>
          </a:p>
          <a:p>
            <a:pPr lvl="1" marL="819000" indent="-31572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000" spc="-1" strike="noStrike">
                <a:solidFill>
                  <a:srgbClr val="000000"/>
                </a:solidFill>
                <a:latin typeface="Arial"/>
                <a:ea typeface="Arial Unicode MS"/>
              </a:rPr>
              <a:t>Linked Open Legal Data (several projects in Europe)</a:t>
            </a:r>
            <a:endParaRPr b="0" lang="en-US" sz="2000" spc="-1" strike="noStrike">
              <a:solidFill>
                <a:srgbClr val="000000"/>
              </a:solidFill>
              <a:latin typeface="Arial"/>
            </a:endParaRPr>
          </a:p>
          <a:p>
            <a:pPr marL="378000" indent="-37800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685800" y="395280"/>
            <a:ext cx="7772400" cy="9763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2800" spc="-1" strike="noStrike">
                <a:solidFill>
                  <a:srgbClr val="e9f731"/>
                </a:solidFill>
                <a:latin typeface="Arial"/>
                <a:ea typeface="Arial Unicode MS"/>
              </a:rPr>
              <a:t>E-Law and Free Access to Legislation in Europe</a:t>
            </a:r>
            <a:endParaRPr b="0" lang="en-US" sz="2800" spc="-1" strike="noStrike">
              <a:solidFill>
                <a:srgbClr val="000000"/>
              </a:solidFill>
              <a:latin typeface="Arial"/>
            </a:endParaRPr>
          </a:p>
        </p:txBody>
      </p:sp>
      <p:sp>
        <p:nvSpPr>
          <p:cNvPr id="64" name="Rectangle 3"/>
          <p:cNvSpPr/>
          <p:nvPr/>
        </p:nvSpPr>
        <p:spPr>
          <a:xfrm>
            <a:off x="685800" y="1676520"/>
            <a:ext cx="9178920" cy="5703840"/>
          </a:xfrm>
          <a:prstGeom prst="rect">
            <a:avLst/>
          </a:prstGeom>
          <a:noFill/>
          <a:ln w="0">
            <a:noFill/>
          </a:ln>
        </p:spPr>
        <p:style>
          <a:lnRef idx="0"/>
          <a:fillRef idx="0"/>
          <a:effectRef idx="0"/>
          <a:fontRef idx="minor"/>
        </p:style>
        <p:txBody>
          <a:bodyPr lIns="90000" rIns="90000" tIns="46800" bIns="46800" anchor="t">
            <a:normAutofit/>
          </a:bodyPr>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Legislation is available in most European countries free of charge</a:t>
            </a:r>
            <a:endParaRPr b="0" lang="en-US" sz="2400" spc="-1" strike="noStrike">
              <a:solidFill>
                <a:srgbClr val="000000"/>
              </a:solidFill>
              <a:latin typeface="Arial"/>
            </a:endParaRPr>
          </a:p>
          <a:p>
            <a:pPr marL="378000" indent="-378000">
              <a:spcBef>
                <a:spcPts val="601"/>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400" spc="-1" strike="noStrike">
                <a:solidFill>
                  <a:srgbClr val="000000"/>
                </a:solidFill>
                <a:latin typeface="Arial"/>
                <a:ea typeface="Arial Unicode MS"/>
              </a:rPr>
              <a:t>Nevertheless, there are differences in the way legislation is made available</a:t>
            </a:r>
            <a:endParaRPr b="0" lang="en-US" sz="2400" spc="-1" strike="noStrike">
              <a:solidFill>
                <a:srgbClr val="000000"/>
              </a:solidFill>
              <a:latin typeface="Arial"/>
            </a:endParaRPr>
          </a:p>
          <a:p>
            <a:pPr lvl="1" marL="819000" indent="-31572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000" spc="-1" strike="noStrike">
                <a:solidFill>
                  <a:srgbClr val="000000"/>
                </a:solidFill>
                <a:latin typeface="Arial"/>
                <a:ea typeface="Arial Unicode MS"/>
              </a:rPr>
              <a:t>Legislation of limited period (e.g. the last 30 days) vs. all legislation of the last hundred years</a:t>
            </a:r>
            <a:endParaRPr b="0" lang="en-US" sz="2000" spc="-1" strike="noStrike">
              <a:solidFill>
                <a:srgbClr val="000000"/>
              </a:solidFill>
              <a:latin typeface="Arial"/>
            </a:endParaRPr>
          </a:p>
          <a:p>
            <a:pPr lvl="1" marL="819000" indent="-31572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000" spc="-1" strike="noStrike">
                <a:solidFill>
                  <a:srgbClr val="000000"/>
                </a:solidFill>
                <a:latin typeface="Arial"/>
                <a:ea typeface="Arial Unicode MS"/>
              </a:rPr>
              <a:t>Legislation is available in non-consolidated form vs. in regularly updated consolidated form with information about amendments</a:t>
            </a:r>
            <a:endParaRPr b="0" lang="en-US" sz="2000" spc="-1" strike="noStrike">
              <a:solidFill>
                <a:srgbClr val="000000"/>
              </a:solidFill>
              <a:latin typeface="Arial"/>
            </a:endParaRPr>
          </a:p>
          <a:p>
            <a:pPr lvl="1" marL="819000" indent="-31572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000" spc="-1" strike="noStrike">
                <a:solidFill>
                  <a:srgbClr val="000000"/>
                </a:solidFill>
                <a:latin typeface="Arial"/>
                <a:ea typeface="Arial Unicode MS"/>
              </a:rPr>
              <a:t>Legal Gazettes are available without any search features vs. legislation is available in databases with full search features</a:t>
            </a:r>
            <a:endParaRPr b="0" lang="en-US" sz="2000" spc="-1" strike="noStrike">
              <a:solidFill>
                <a:srgbClr val="000000"/>
              </a:solidFill>
              <a:latin typeface="Arial"/>
            </a:endParaRPr>
          </a:p>
          <a:p>
            <a:pPr lvl="1" marL="819000" indent="-31572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000" spc="-1" strike="noStrike">
                <a:solidFill>
                  <a:srgbClr val="000000"/>
                </a:solidFill>
                <a:latin typeface="Arial"/>
                <a:ea typeface="Arial Unicode MS"/>
              </a:rPr>
              <a:t>In some countries, also the original versions of legal acts are available</a:t>
            </a:r>
            <a:endParaRPr b="0" lang="en-US" sz="2000" spc="-1" strike="noStrike">
              <a:solidFill>
                <a:srgbClr val="000000"/>
              </a:solidFill>
              <a:latin typeface="Arial"/>
            </a:endParaRPr>
          </a:p>
          <a:p>
            <a:pPr lvl="1" marL="819000" indent="-315720">
              <a:spcBef>
                <a:spcPts val="49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fi-FI" sz="2000" spc="-1" strike="noStrike">
                <a:solidFill>
                  <a:srgbClr val="000000"/>
                </a:solidFill>
                <a:latin typeface="Arial"/>
                <a:ea typeface="Arial Unicode MS"/>
              </a:rPr>
              <a:t>In some countries, also the consolidate versions of legal acts are avail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Freeform 4"/>
          <p:cNvSpPr/>
          <p:nvPr/>
        </p:nvSpPr>
        <p:spPr>
          <a:xfrm>
            <a:off x="4168800" y="85680"/>
            <a:ext cx="1757160" cy="4657680"/>
          </a:xfrm>
          <a:custGeom>
            <a:avLst/>
            <a:gdLst>
              <a:gd name="textAreaLeft" fmla="*/ 0 w 1757160"/>
              <a:gd name="textAreaRight" fmla="*/ 1757520 w 1757160"/>
              <a:gd name="textAreaTop" fmla="*/ 0 h 4657680"/>
              <a:gd name="textAreaBottom" fmla="*/ 4658040 h 4657680"/>
            </a:gdLst>
            <a:ahLst/>
            <a:rect l="textAreaLeft" t="textAreaTop" r="textAreaRight" b="textAreaBottom"/>
            <a:pathLst>
              <a:path w="2215" h="5868">
                <a:moveTo>
                  <a:pt x="165" y="2903"/>
                </a:moveTo>
                <a:lnTo>
                  <a:pt x="166" y="2903"/>
                </a:lnTo>
                <a:lnTo>
                  <a:pt x="168" y="2903"/>
                </a:lnTo>
                <a:lnTo>
                  <a:pt x="170" y="2903"/>
                </a:lnTo>
                <a:lnTo>
                  <a:pt x="177" y="2904"/>
                </a:lnTo>
                <a:lnTo>
                  <a:pt x="196" y="2908"/>
                </a:lnTo>
                <a:lnTo>
                  <a:pt x="236" y="2924"/>
                </a:lnTo>
                <a:lnTo>
                  <a:pt x="255" y="2942"/>
                </a:lnTo>
                <a:lnTo>
                  <a:pt x="252" y="2943"/>
                </a:lnTo>
                <a:lnTo>
                  <a:pt x="240" y="2946"/>
                </a:lnTo>
                <a:lnTo>
                  <a:pt x="195" y="2956"/>
                </a:lnTo>
                <a:lnTo>
                  <a:pt x="158" y="2963"/>
                </a:lnTo>
                <a:lnTo>
                  <a:pt x="156" y="2963"/>
                </a:lnTo>
                <a:lnTo>
                  <a:pt x="146" y="2957"/>
                </a:lnTo>
                <a:lnTo>
                  <a:pt x="132" y="2945"/>
                </a:lnTo>
                <a:lnTo>
                  <a:pt x="128" y="2940"/>
                </a:lnTo>
                <a:lnTo>
                  <a:pt x="126" y="2936"/>
                </a:lnTo>
                <a:lnTo>
                  <a:pt x="125" y="2931"/>
                </a:lnTo>
                <a:lnTo>
                  <a:pt x="126" y="2927"/>
                </a:lnTo>
                <a:lnTo>
                  <a:pt x="129" y="2923"/>
                </a:lnTo>
                <a:lnTo>
                  <a:pt x="134" y="2919"/>
                </a:lnTo>
                <a:lnTo>
                  <a:pt x="142" y="2914"/>
                </a:lnTo>
                <a:lnTo>
                  <a:pt x="165" y="2903"/>
                </a:lnTo>
                <a:lnTo>
                  <a:pt x="167" y="2902"/>
                </a:lnTo>
                <a:lnTo>
                  <a:pt x="165" y="2903"/>
                </a:lnTo>
                <a:close/>
                <a:moveTo>
                  <a:pt x="276" y="3005"/>
                </a:moveTo>
                <a:lnTo>
                  <a:pt x="264" y="3018"/>
                </a:lnTo>
                <a:lnTo>
                  <a:pt x="246" y="3044"/>
                </a:lnTo>
                <a:lnTo>
                  <a:pt x="215" y="3096"/>
                </a:lnTo>
                <a:lnTo>
                  <a:pt x="180" y="3140"/>
                </a:lnTo>
                <a:lnTo>
                  <a:pt x="169" y="3147"/>
                </a:lnTo>
                <a:lnTo>
                  <a:pt x="163" y="3147"/>
                </a:lnTo>
                <a:lnTo>
                  <a:pt x="157" y="3145"/>
                </a:lnTo>
                <a:lnTo>
                  <a:pt x="142" y="3138"/>
                </a:lnTo>
                <a:lnTo>
                  <a:pt x="127" y="3129"/>
                </a:lnTo>
                <a:lnTo>
                  <a:pt x="115" y="3117"/>
                </a:lnTo>
                <a:lnTo>
                  <a:pt x="111" y="3109"/>
                </a:lnTo>
                <a:lnTo>
                  <a:pt x="110" y="3102"/>
                </a:lnTo>
                <a:lnTo>
                  <a:pt x="111" y="3095"/>
                </a:lnTo>
                <a:lnTo>
                  <a:pt x="116" y="3088"/>
                </a:lnTo>
                <a:lnTo>
                  <a:pt x="117" y="3071"/>
                </a:lnTo>
                <a:lnTo>
                  <a:pt x="123" y="3056"/>
                </a:lnTo>
                <a:lnTo>
                  <a:pt x="131" y="3044"/>
                </a:lnTo>
                <a:lnTo>
                  <a:pt x="142" y="3035"/>
                </a:lnTo>
                <a:lnTo>
                  <a:pt x="155" y="3029"/>
                </a:lnTo>
                <a:lnTo>
                  <a:pt x="170" y="3023"/>
                </a:lnTo>
                <a:lnTo>
                  <a:pt x="203" y="3017"/>
                </a:lnTo>
                <a:lnTo>
                  <a:pt x="240" y="3012"/>
                </a:lnTo>
                <a:lnTo>
                  <a:pt x="276" y="3005"/>
                </a:lnTo>
                <a:lnTo>
                  <a:pt x="265" y="3016"/>
                </a:lnTo>
                <a:lnTo>
                  <a:pt x="256" y="3026"/>
                </a:lnTo>
                <a:lnTo>
                  <a:pt x="261" y="3020"/>
                </a:lnTo>
                <a:lnTo>
                  <a:pt x="275" y="3006"/>
                </a:lnTo>
                <a:lnTo>
                  <a:pt x="276" y="3005"/>
                </a:lnTo>
                <a:close/>
                <a:moveTo>
                  <a:pt x="866" y="1550"/>
                </a:moveTo>
                <a:lnTo>
                  <a:pt x="871" y="1542"/>
                </a:lnTo>
                <a:lnTo>
                  <a:pt x="891" y="1518"/>
                </a:lnTo>
                <a:lnTo>
                  <a:pt x="906" y="1500"/>
                </a:lnTo>
                <a:lnTo>
                  <a:pt x="907" y="1498"/>
                </a:lnTo>
                <a:lnTo>
                  <a:pt x="903" y="1498"/>
                </a:lnTo>
                <a:lnTo>
                  <a:pt x="887" y="1497"/>
                </a:lnTo>
                <a:lnTo>
                  <a:pt x="829" y="1492"/>
                </a:lnTo>
                <a:lnTo>
                  <a:pt x="787" y="1487"/>
                </a:lnTo>
                <a:lnTo>
                  <a:pt x="784" y="1486"/>
                </a:lnTo>
                <a:lnTo>
                  <a:pt x="779" y="1473"/>
                </a:lnTo>
                <a:lnTo>
                  <a:pt x="765" y="1431"/>
                </a:lnTo>
                <a:lnTo>
                  <a:pt x="754" y="1400"/>
                </a:lnTo>
                <a:lnTo>
                  <a:pt x="754" y="1398"/>
                </a:lnTo>
                <a:lnTo>
                  <a:pt x="739" y="1390"/>
                </a:lnTo>
                <a:lnTo>
                  <a:pt x="719" y="1379"/>
                </a:lnTo>
                <a:lnTo>
                  <a:pt x="708" y="1373"/>
                </a:lnTo>
                <a:lnTo>
                  <a:pt x="702" y="1367"/>
                </a:lnTo>
                <a:lnTo>
                  <a:pt x="695" y="1356"/>
                </a:lnTo>
                <a:lnTo>
                  <a:pt x="686" y="1335"/>
                </a:lnTo>
                <a:lnTo>
                  <a:pt x="679" y="1318"/>
                </a:lnTo>
                <a:lnTo>
                  <a:pt x="679" y="1314"/>
                </a:lnTo>
                <a:lnTo>
                  <a:pt x="687" y="1286"/>
                </a:lnTo>
                <a:lnTo>
                  <a:pt x="709" y="1188"/>
                </a:lnTo>
                <a:lnTo>
                  <a:pt x="726" y="1114"/>
                </a:lnTo>
                <a:lnTo>
                  <a:pt x="728" y="1108"/>
                </a:lnTo>
                <a:lnTo>
                  <a:pt x="724" y="1105"/>
                </a:lnTo>
                <a:lnTo>
                  <a:pt x="703" y="1078"/>
                </a:lnTo>
                <a:lnTo>
                  <a:pt x="629" y="987"/>
                </a:lnTo>
                <a:lnTo>
                  <a:pt x="573" y="917"/>
                </a:lnTo>
                <a:lnTo>
                  <a:pt x="571" y="913"/>
                </a:lnTo>
                <a:lnTo>
                  <a:pt x="562" y="895"/>
                </a:lnTo>
                <a:lnTo>
                  <a:pt x="553" y="858"/>
                </a:lnTo>
                <a:lnTo>
                  <a:pt x="550" y="825"/>
                </a:lnTo>
                <a:lnTo>
                  <a:pt x="555" y="763"/>
                </a:lnTo>
                <a:lnTo>
                  <a:pt x="559" y="716"/>
                </a:lnTo>
                <a:lnTo>
                  <a:pt x="555" y="712"/>
                </a:lnTo>
                <a:lnTo>
                  <a:pt x="552" y="707"/>
                </a:lnTo>
                <a:lnTo>
                  <a:pt x="545" y="693"/>
                </a:lnTo>
                <a:lnTo>
                  <a:pt x="524" y="655"/>
                </a:lnTo>
                <a:lnTo>
                  <a:pt x="473" y="612"/>
                </a:lnTo>
                <a:lnTo>
                  <a:pt x="457" y="604"/>
                </a:lnTo>
                <a:lnTo>
                  <a:pt x="432" y="594"/>
                </a:lnTo>
                <a:lnTo>
                  <a:pt x="406" y="589"/>
                </a:lnTo>
                <a:lnTo>
                  <a:pt x="399" y="588"/>
                </a:lnTo>
                <a:lnTo>
                  <a:pt x="398" y="587"/>
                </a:lnTo>
                <a:lnTo>
                  <a:pt x="397" y="585"/>
                </a:lnTo>
                <a:lnTo>
                  <a:pt x="396" y="581"/>
                </a:lnTo>
                <a:lnTo>
                  <a:pt x="395" y="578"/>
                </a:lnTo>
                <a:lnTo>
                  <a:pt x="388" y="549"/>
                </a:lnTo>
                <a:lnTo>
                  <a:pt x="365" y="454"/>
                </a:lnTo>
                <a:lnTo>
                  <a:pt x="348" y="381"/>
                </a:lnTo>
                <a:lnTo>
                  <a:pt x="348" y="377"/>
                </a:lnTo>
                <a:lnTo>
                  <a:pt x="347" y="368"/>
                </a:lnTo>
                <a:lnTo>
                  <a:pt x="345" y="338"/>
                </a:lnTo>
                <a:lnTo>
                  <a:pt x="344" y="316"/>
                </a:lnTo>
                <a:lnTo>
                  <a:pt x="344" y="314"/>
                </a:lnTo>
                <a:lnTo>
                  <a:pt x="354" y="310"/>
                </a:lnTo>
                <a:lnTo>
                  <a:pt x="387" y="296"/>
                </a:lnTo>
                <a:lnTo>
                  <a:pt x="411" y="286"/>
                </a:lnTo>
                <a:lnTo>
                  <a:pt x="413" y="285"/>
                </a:lnTo>
                <a:lnTo>
                  <a:pt x="414" y="284"/>
                </a:lnTo>
                <a:lnTo>
                  <a:pt x="425" y="271"/>
                </a:lnTo>
                <a:lnTo>
                  <a:pt x="463" y="226"/>
                </a:lnTo>
                <a:lnTo>
                  <a:pt x="492" y="192"/>
                </a:lnTo>
                <a:lnTo>
                  <a:pt x="494" y="190"/>
                </a:lnTo>
                <a:lnTo>
                  <a:pt x="495" y="188"/>
                </a:lnTo>
                <a:lnTo>
                  <a:pt x="508" y="180"/>
                </a:lnTo>
                <a:lnTo>
                  <a:pt x="551" y="151"/>
                </a:lnTo>
                <a:lnTo>
                  <a:pt x="584" y="128"/>
                </a:lnTo>
                <a:lnTo>
                  <a:pt x="586" y="126"/>
                </a:lnTo>
                <a:lnTo>
                  <a:pt x="590" y="119"/>
                </a:lnTo>
                <a:lnTo>
                  <a:pt x="591" y="112"/>
                </a:lnTo>
                <a:lnTo>
                  <a:pt x="592" y="106"/>
                </a:lnTo>
                <a:lnTo>
                  <a:pt x="591" y="100"/>
                </a:lnTo>
                <a:lnTo>
                  <a:pt x="588" y="90"/>
                </a:lnTo>
                <a:lnTo>
                  <a:pt x="586" y="79"/>
                </a:lnTo>
                <a:lnTo>
                  <a:pt x="586" y="75"/>
                </a:lnTo>
                <a:lnTo>
                  <a:pt x="589" y="71"/>
                </a:lnTo>
                <a:lnTo>
                  <a:pt x="593" y="67"/>
                </a:lnTo>
                <a:lnTo>
                  <a:pt x="602" y="62"/>
                </a:lnTo>
                <a:lnTo>
                  <a:pt x="645" y="90"/>
                </a:lnTo>
                <a:lnTo>
                  <a:pt x="698" y="122"/>
                </a:lnTo>
                <a:lnTo>
                  <a:pt x="709" y="129"/>
                </a:lnTo>
                <a:lnTo>
                  <a:pt x="713" y="131"/>
                </a:lnTo>
                <a:lnTo>
                  <a:pt x="715" y="133"/>
                </a:lnTo>
                <a:lnTo>
                  <a:pt x="715" y="134"/>
                </a:lnTo>
                <a:lnTo>
                  <a:pt x="714" y="134"/>
                </a:lnTo>
                <a:lnTo>
                  <a:pt x="711" y="134"/>
                </a:lnTo>
                <a:lnTo>
                  <a:pt x="708" y="136"/>
                </a:lnTo>
                <a:lnTo>
                  <a:pt x="699" y="137"/>
                </a:lnTo>
                <a:lnTo>
                  <a:pt x="672" y="146"/>
                </a:lnTo>
                <a:lnTo>
                  <a:pt x="658" y="156"/>
                </a:lnTo>
                <a:lnTo>
                  <a:pt x="644" y="173"/>
                </a:lnTo>
                <a:lnTo>
                  <a:pt x="642" y="178"/>
                </a:lnTo>
                <a:lnTo>
                  <a:pt x="672" y="187"/>
                </a:lnTo>
                <a:lnTo>
                  <a:pt x="739" y="195"/>
                </a:lnTo>
                <a:lnTo>
                  <a:pt x="812" y="191"/>
                </a:lnTo>
                <a:lnTo>
                  <a:pt x="965" y="175"/>
                </a:lnTo>
                <a:lnTo>
                  <a:pt x="1072" y="178"/>
                </a:lnTo>
                <a:lnTo>
                  <a:pt x="1100" y="185"/>
                </a:lnTo>
                <a:lnTo>
                  <a:pt x="1161" y="209"/>
                </a:lnTo>
                <a:lnTo>
                  <a:pt x="1293" y="268"/>
                </a:lnTo>
                <a:lnTo>
                  <a:pt x="1432" y="303"/>
                </a:lnTo>
                <a:lnTo>
                  <a:pt x="1467" y="301"/>
                </a:lnTo>
                <a:lnTo>
                  <a:pt x="1494" y="301"/>
                </a:lnTo>
                <a:lnTo>
                  <a:pt x="1521" y="306"/>
                </a:lnTo>
                <a:lnTo>
                  <a:pt x="1548" y="316"/>
                </a:lnTo>
                <a:lnTo>
                  <a:pt x="1597" y="347"/>
                </a:lnTo>
                <a:lnTo>
                  <a:pt x="1638" y="390"/>
                </a:lnTo>
                <a:lnTo>
                  <a:pt x="1667" y="438"/>
                </a:lnTo>
                <a:lnTo>
                  <a:pt x="1681" y="485"/>
                </a:lnTo>
                <a:lnTo>
                  <a:pt x="1682" y="505"/>
                </a:lnTo>
                <a:lnTo>
                  <a:pt x="1681" y="508"/>
                </a:lnTo>
                <a:lnTo>
                  <a:pt x="1679" y="525"/>
                </a:lnTo>
                <a:lnTo>
                  <a:pt x="1670" y="583"/>
                </a:lnTo>
                <a:lnTo>
                  <a:pt x="1664" y="627"/>
                </a:lnTo>
                <a:lnTo>
                  <a:pt x="1664" y="629"/>
                </a:lnTo>
                <a:lnTo>
                  <a:pt x="1642" y="699"/>
                </a:lnTo>
                <a:lnTo>
                  <a:pt x="1603" y="751"/>
                </a:lnTo>
                <a:lnTo>
                  <a:pt x="1547" y="787"/>
                </a:lnTo>
                <a:lnTo>
                  <a:pt x="1478" y="808"/>
                </a:lnTo>
                <a:lnTo>
                  <a:pt x="1399" y="818"/>
                </a:lnTo>
                <a:lnTo>
                  <a:pt x="1224" y="814"/>
                </a:lnTo>
                <a:lnTo>
                  <a:pt x="1046" y="793"/>
                </a:lnTo>
                <a:lnTo>
                  <a:pt x="887" y="773"/>
                </a:lnTo>
                <a:lnTo>
                  <a:pt x="824" y="769"/>
                </a:lnTo>
                <a:lnTo>
                  <a:pt x="861" y="805"/>
                </a:lnTo>
                <a:lnTo>
                  <a:pt x="945" y="859"/>
                </a:lnTo>
                <a:lnTo>
                  <a:pt x="1034" y="901"/>
                </a:lnTo>
                <a:lnTo>
                  <a:pt x="1115" y="940"/>
                </a:lnTo>
                <a:lnTo>
                  <a:pt x="1174" y="990"/>
                </a:lnTo>
                <a:lnTo>
                  <a:pt x="1192" y="1022"/>
                </a:lnTo>
                <a:lnTo>
                  <a:pt x="1199" y="1061"/>
                </a:lnTo>
                <a:lnTo>
                  <a:pt x="1196" y="1106"/>
                </a:lnTo>
                <a:lnTo>
                  <a:pt x="1203" y="1123"/>
                </a:lnTo>
                <a:lnTo>
                  <a:pt x="1214" y="1155"/>
                </a:lnTo>
                <a:lnTo>
                  <a:pt x="1230" y="1228"/>
                </a:lnTo>
                <a:lnTo>
                  <a:pt x="1236" y="1297"/>
                </a:lnTo>
                <a:lnTo>
                  <a:pt x="1237" y="1312"/>
                </a:lnTo>
                <a:lnTo>
                  <a:pt x="1242" y="1326"/>
                </a:lnTo>
                <a:lnTo>
                  <a:pt x="1253" y="1336"/>
                </a:lnTo>
                <a:lnTo>
                  <a:pt x="1267" y="1341"/>
                </a:lnTo>
                <a:lnTo>
                  <a:pt x="1283" y="1343"/>
                </a:lnTo>
                <a:lnTo>
                  <a:pt x="1301" y="1343"/>
                </a:lnTo>
                <a:lnTo>
                  <a:pt x="1340" y="1337"/>
                </a:lnTo>
                <a:lnTo>
                  <a:pt x="1406" y="1323"/>
                </a:lnTo>
                <a:lnTo>
                  <a:pt x="1417" y="1322"/>
                </a:lnTo>
                <a:lnTo>
                  <a:pt x="1432" y="1326"/>
                </a:lnTo>
                <a:lnTo>
                  <a:pt x="1463" y="1338"/>
                </a:lnTo>
                <a:lnTo>
                  <a:pt x="1524" y="1365"/>
                </a:lnTo>
                <a:lnTo>
                  <a:pt x="1594" y="1378"/>
                </a:lnTo>
                <a:lnTo>
                  <a:pt x="1614" y="1375"/>
                </a:lnTo>
                <a:lnTo>
                  <a:pt x="1628" y="1370"/>
                </a:lnTo>
                <a:lnTo>
                  <a:pt x="1640" y="1361"/>
                </a:lnTo>
                <a:lnTo>
                  <a:pt x="1648" y="1350"/>
                </a:lnTo>
                <a:lnTo>
                  <a:pt x="1653" y="1336"/>
                </a:lnTo>
                <a:lnTo>
                  <a:pt x="1655" y="1320"/>
                </a:lnTo>
                <a:lnTo>
                  <a:pt x="1655" y="1288"/>
                </a:lnTo>
                <a:lnTo>
                  <a:pt x="1652" y="1256"/>
                </a:lnTo>
                <a:lnTo>
                  <a:pt x="1648" y="1230"/>
                </a:lnTo>
                <a:lnTo>
                  <a:pt x="1648" y="1220"/>
                </a:lnTo>
                <a:lnTo>
                  <a:pt x="1618" y="1220"/>
                </a:lnTo>
                <a:lnTo>
                  <a:pt x="1567" y="1216"/>
                </a:lnTo>
                <a:lnTo>
                  <a:pt x="1529" y="1208"/>
                </a:lnTo>
                <a:lnTo>
                  <a:pt x="1501" y="1192"/>
                </a:lnTo>
                <a:lnTo>
                  <a:pt x="1481" y="1167"/>
                </a:lnTo>
                <a:lnTo>
                  <a:pt x="1467" y="1128"/>
                </a:lnTo>
                <a:lnTo>
                  <a:pt x="1463" y="1103"/>
                </a:lnTo>
                <a:lnTo>
                  <a:pt x="1486" y="1089"/>
                </a:lnTo>
                <a:lnTo>
                  <a:pt x="1513" y="1081"/>
                </a:lnTo>
                <a:lnTo>
                  <a:pt x="1543" y="1079"/>
                </a:lnTo>
                <a:lnTo>
                  <a:pt x="1576" y="1081"/>
                </a:lnTo>
                <a:lnTo>
                  <a:pt x="1648" y="1091"/>
                </a:lnTo>
                <a:lnTo>
                  <a:pt x="1719" y="1099"/>
                </a:lnTo>
                <a:lnTo>
                  <a:pt x="1788" y="1094"/>
                </a:lnTo>
                <a:lnTo>
                  <a:pt x="1845" y="1063"/>
                </a:lnTo>
                <a:lnTo>
                  <a:pt x="1842" y="1031"/>
                </a:lnTo>
                <a:lnTo>
                  <a:pt x="1826" y="982"/>
                </a:lnTo>
                <a:lnTo>
                  <a:pt x="1800" y="944"/>
                </a:lnTo>
                <a:lnTo>
                  <a:pt x="1773" y="914"/>
                </a:lnTo>
                <a:lnTo>
                  <a:pt x="1753" y="882"/>
                </a:lnTo>
                <a:lnTo>
                  <a:pt x="1746" y="843"/>
                </a:lnTo>
                <a:lnTo>
                  <a:pt x="1752" y="818"/>
                </a:lnTo>
                <a:lnTo>
                  <a:pt x="1758" y="796"/>
                </a:lnTo>
                <a:lnTo>
                  <a:pt x="1770" y="770"/>
                </a:lnTo>
                <a:lnTo>
                  <a:pt x="1775" y="764"/>
                </a:lnTo>
                <a:lnTo>
                  <a:pt x="1781" y="761"/>
                </a:lnTo>
                <a:lnTo>
                  <a:pt x="1785" y="760"/>
                </a:lnTo>
                <a:lnTo>
                  <a:pt x="1790" y="760"/>
                </a:lnTo>
                <a:lnTo>
                  <a:pt x="1796" y="759"/>
                </a:lnTo>
                <a:lnTo>
                  <a:pt x="1801" y="757"/>
                </a:lnTo>
                <a:lnTo>
                  <a:pt x="1807" y="751"/>
                </a:lnTo>
                <a:lnTo>
                  <a:pt x="1814" y="742"/>
                </a:lnTo>
                <a:lnTo>
                  <a:pt x="1822" y="726"/>
                </a:lnTo>
                <a:lnTo>
                  <a:pt x="1830" y="709"/>
                </a:lnTo>
                <a:lnTo>
                  <a:pt x="1843" y="672"/>
                </a:lnTo>
                <a:lnTo>
                  <a:pt x="1864" y="604"/>
                </a:lnTo>
                <a:lnTo>
                  <a:pt x="1885" y="559"/>
                </a:lnTo>
                <a:lnTo>
                  <a:pt x="1891" y="553"/>
                </a:lnTo>
                <a:lnTo>
                  <a:pt x="1902" y="558"/>
                </a:lnTo>
                <a:lnTo>
                  <a:pt x="1936" y="570"/>
                </a:lnTo>
                <a:lnTo>
                  <a:pt x="2033" y="596"/>
                </a:lnTo>
                <a:lnTo>
                  <a:pt x="2114" y="612"/>
                </a:lnTo>
                <a:lnTo>
                  <a:pt x="2126" y="612"/>
                </a:lnTo>
                <a:lnTo>
                  <a:pt x="2100" y="589"/>
                </a:lnTo>
                <a:lnTo>
                  <a:pt x="2080" y="561"/>
                </a:lnTo>
                <a:lnTo>
                  <a:pt x="2049" y="498"/>
                </a:lnTo>
                <a:lnTo>
                  <a:pt x="2023" y="433"/>
                </a:lnTo>
                <a:lnTo>
                  <a:pt x="1993" y="378"/>
                </a:lnTo>
                <a:lnTo>
                  <a:pt x="1975" y="358"/>
                </a:lnTo>
                <a:lnTo>
                  <a:pt x="1951" y="343"/>
                </a:lnTo>
                <a:lnTo>
                  <a:pt x="1922" y="337"/>
                </a:lnTo>
                <a:lnTo>
                  <a:pt x="1888" y="339"/>
                </a:lnTo>
                <a:lnTo>
                  <a:pt x="1873" y="330"/>
                </a:lnTo>
                <a:lnTo>
                  <a:pt x="1864" y="317"/>
                </a:lnTo>
                <a:lnTo>
                  <a:pt x="1859" y="301"/>
                </a:lnTo>
                <a:lnTo>
                  <a:pt x="1858" y="282"/>
                </a:lnTo>
                <a:lnTo>
                  <a:pt x="1859" y="263"/>
                </a:lnTo>
                <a:lnTo>
                  <a:pt x="1866" y="221"/>
                </a:lnTo>
                <a:lnTo>
                  <a:pt x="1878" y="147"/>
                </a:lnTo>
                <a:lnTo>
                  <a:pt x="1876" y="132"/>
                </a:lnTo>
                <a:lnTo>
                  <a:pt x="1869" y="119"/>
                </a:lnTo>
                <a:lnTo>
                  <a:pt x="1857" y="107"/>
                </a:lnTo>
                <a:lnTo>
                  <a:pt x="1841" y="98"/>
                </a:lnTo>
                <a:lnTo>
                  <a:pt x="1821" y="91"/>
                </a:lnTo>
                <a:lnTo>
                  <a:pt x="1777" y="78"/>
                </a:lnTo>
                <a:lnTo>
                  <a:pt x="1696" y="51"/>
                </a:lnTo>
                <a:lnTo>
                  <a:pt x="1673" y="26"/>
                </a:lnTo>
                <a:lnTo>
                  <a:pt x="1733" y="20"/>
                </a:lnTo>
                <a:lnTo>
                  <a:pt x="1822" y="8"/>
                </a:lnTo>
                <a:lnTo>
                  <a:pt x="1938" y="0"/>
                </a:lnTo>
                <a:lnTo>
                  <a:pt x="2079" y="49"/>
                </a:lnTo>
                <a:lnTo>
                  <a:pt x="2133" y="73"/>
                </a:lnTo>
                <a:lnTo>
                  <a:pt x="2120" y="83"/>
                </a:lnTo>
                <a:lnTo>
                  <a:pt x="2089" y="102"/>
                </a:lnTo>
                <a:lnTo>
                  <a:pt x="2025" y="151"/>
                </a:lnTo>
                <a:lnTo>
                  <a:pt x="1970" y="208"/>
                </a:lnTo>
                <a:lnTo>
                  <a:pt x="1962" y="223"/>
                </a:lnTo>
                <a:lnTo>
                  <a:pt x="1966" y="235"/>
                </a:lnTo>
                <a:lnTo>
                  <a:pt x="1965" y="248"/>
                </a:lnTo>
                <a:lnTo>
                  <a:pt x="1960" y="262"/>
                </a:lnTo>
                <a:lnTo>
                  <a:pt x="1951" y="276"/>
                </a:lnTo>
                <a:lnTo>
                  <a:pt x="1926" y="307"/>
                </a:lnTo>
                <a:lnTo>
                  <a:pt x="1869" y="363"/>
                </a:lnTo>
                <a:lnTo>
                  <a:pt x="1846" y="385"/>
                </a:lnTo>
                <a:lnTo>
                  <a:pt x="1841" y="393"/>
                </a:lnTo>
                <a:lnTo>
                  <a:pt x="1839" y="396"/>
                </a:lnTo>
                <a:lnTo>
                  <a:pt x="1839" y="399"/>
                </a:lnTo>
                <a:lnTo>
                  <a:pt x="1839" y="400"/>
                </a:lnTo>
                <a:lnTo>
                  <a:pt x="1840" y="401"/>
                </a:lnTo>
                <a:lnTo>
                  <a:pt x="1841" y="402"/>
                </a:lnTo>
                <a:lnTo>
                  <a:pt x="1842" y="402"/>
                </a:lnTo>
                <a:lnTo>
                  <a:pt x="1844" y="403"/>
                </a:lnTo>
                <a:lnTo>
                  <a:pt x="1849" y="403"/>
                </a:lnTo>
                <a:lnTo>
                  <a:pt x="1856" y="402"/>
                </a:lnTo>
                <a:lnTo>
                  <a:pt x="1874" y="398"/>
                </a:lnTo>
                <a:lnTo>
                  <a:pt x="1933" y="379"/>
                </a:lnTo>
                <a:lnTo>
                  <a:pt x="2166" y="289"/>
                </a:lnTo>
                <a:lnTo>
                  <a:pt x="2207" y="272"/>
                </a:lnTo>
                <a:lnTo>
                  <a:pt x="2207" y="375"/>
                </a:lnTo>
                <a:lnTo>
                  <a:pt x="2209" y="1082"/>
                </a:lnTo>
                <a:lnTo>
                  <a:pt x="2212" y="3504"/>
                </a:lnTo>
                <a:lnTo>
                  <a:pt x="2214" y="5350"/>
                </a:lnTo>
                <a:lnTo>
                  <a:pt x="2215" y="5452"/>
                </a:lnTo>
                <a:lnTo>
                  <a:pt x="2214" y="5452"/>
                </a:lnTo>
                <a:lnTo>
                  <a:pt x="2212" y="5452"/>
                </a:lnTo>
                <a:lnTo>
                  <a:pt x="2207" y="5451"/>
                </a:lnTo>
                <a:lnTo>
                  <a:pt x="2191" y="5448"/>
                </a:lnTo>
                <a:lnTo>
                  <a:pt x="2138" y="5443"/>
                </a:lnTo>
                <a:lnTo>
                  <a:pt x="2068" y="5456"/>
                </a:lnTo>
                <a:lnTo>
                  <a:pt x="1998" y="5498"/>
                </a:lnTo>
                <a:lnTo>
                  <a:pt x="1943" y="5588"/>
                </a:lnTo>
                <a:lnTo>
                  <a:pt x="1917" y="5726"/>
                </a:lnTo>
                <a:lnTo>
                  <a:pt x="1915" y="5726"/>
                </a:lnTo>
                <a:lnTo>
                  <a:pt x="1902" y="5723"/>
                </a:lnTo>
                <a:lnTo>
                  <a:pt x="1858" y="5712"/>
                </a:lnTo>
                <a:lnTo>
                  <a:pt x="1825" y="5705"/>
                </a:lnTo>
                <a:lnTo>
                  <a:pt x="1824" y="5704"/>
                </a:lnTo>
                <a:lnTo>
                  <a:pt x="1829" y="5718"/>
                </a:lnTo>
                <a:lnTo>
                  <a:pt x="1848" y="5755"/>
                </a:lnTo>
                <a:lnTo>
                  <a:pt x="1863" y="5785"/>
                </a:lnTo>
                <a:lnTo>
                  <a:pt x="1864" y="5786"/>
                </a:lnTo>
                <a:lnTo>
                  <a:pt x="1862" y="5788"/>
                </a:lnTo>
                <a:lnTo>
                  <a:pt x="1855" y="5798"/>
                </a:lnTo>
                <a:lnTo>
                  <a:pt x="1827" y="5835"/>
                </a:lnTo>
                <a:lnTo>
                  <a:pt x="1806" y="5862"/>
                </a:lnTo>
                <a:lnTo>
                  <a:pt x="1805" y="5863"/>
                </a:lnTo>
                <a:lnTo>
                  <a:pt x="1797" y="5864"/>
                </a:lnTo>
                <a:lnTo>
                  <a:pt x="1782" y="5866"/>
                </a:lnTo>
                <a:lnTo>
                  <a:pt x="1754" y="5868"/>
                </a:lnTo>
                <a:lnTo>
                  <a:pt x="1728" y="5865"/>
                </a:lnTo>
                <a:lnTo>
                  <a:pt x="1722" y="5863"/>
                </a:lnTo>
                <a:lnTo>
                  <a:pt x="1710" y="5858"/>
                </a:lnTo>
                <a:lnTo>
                  <a:pt x="1699" y="5850"/>
                </a:lnTo>
                <a:lnTo>
                  <a:pt x="1691" y="5840"/>
                </a:lnTo>
                <a:lnTo>
                  <a:pt x="1677" y="5815"/>
                </a:lnTo>
                <a:lnTo>
                  <a:pt x="1666" y="5786"/>
                </a:lnTo>
                <a:lnTo>
                  <a:pt x="1651" y="5730"/>
                </a:lnTo>
                <a:lnTo>
                  <a:pt x="1648" y="5718"/>
                </a:lnTo>
                <a:lnTo>
                  <a:pt x="1642" y="5701"/>
                </a:lnTo>
                <a:lnTo>
                  <a:pt x="1636" y="5670"/>
                </a:lnTo>
                <a:lnTo>
                  <a:pt x="1628" y="5613"/>
                </a:lnTo>
                <a:lnTo>
                  <a:pt x="1617" y="5570"/>
                </a:lnTo>
                <a:lnTo>
                  <a:pt x="1611" y="5562"/>
                </a:lnTo>
                <a:lnTo>
                  <a:pt x="1604" y="5556"/>
                </a:lnTo>
                <a:lnTo>
                  <a:pt x="1590" y="5541"/>
                </a:lnTo>
                <a:lnTo>
                  <a:pt x="1553" y="5513"/>
                </a:lnTo>
                <a:lnTo>
                  <a:pt x="1504" y="5480"/>
                </a:lnTo>
                <a:lnTo>
                  <a:pt x="1490" y="5471"/>
                </a:lnTo>
                <a:lnTo>
                  <a:pt x="1473" y="5463"/>
                </a:lnTo>
                <a:lnTo>
                  <a:pt x="1434" y="5441"/>
                </a:lnTo>
                <a:lnTo>
                  <a:pt x="1342" y="5384"/>
                </a:lnTo>
                <a:lnTo>
                  <a:pt x="1255" y="5307"/>
                </a:lnTo>
                <a:lnTo>
                  <a:pt x="1238" y="5284"/>
                </a:lnTo>
                <a:lnTo>
                  <a:pt x="1221" y="5297"/>
                </a:lnTo>
                <a:lnTo>
                  <a:pt x="1192" y="5317"/>
                </a:lnTo>
                <a:lnTo>
                  <a:pt x="1137" y="5353"/>
                </a:lnTo>
                <a:lnTo>
                  <a:pt x="1073" y="5416"/>
                </a:lnTo>
                <a:lnTo>
                  <a:pt x="1052" y="5440"/>
                </a:lnTo>
                <a:lnTo>
                  <a:pt x="1034" y="5438"/>
                </a:lnTo>
                <a:lnTo>
                  <a:pt x="1006" y="5430"/>
                </a:lnTo>
                <a:lnTo>
                  <a:pt x="968" y="5409"/>
                </a:lnTo>
                <a:lnTo>
                  <a:pt x="932" y="5381"/>
                </a:lnTo>
                <a:lnTo>
                  <a:pt x="923" y="5374"/>
                </a:lnTo>
                <a:lnTo>
                  <a:pt x="913" y="5382"/>
                </a:lnTo>
                <a:lnTo>
                  <a:pt x="884" y="5406"/>
                </a:lnTo>
                <a:lnTo>
                  <a:pt x="799" y="5457"/>
                </a:lnTo>
                <a:lnTo>
                  <a:pt x="746" y="5471"/>
                </a:lnTo>
                <a:lnTo>
                  <a:pt x="688" y="5466"/>
                </a:lnTo>
                <a:lnTo>
                  <a:pt x="658" y="5455"/>
                </a:lnTo>
                <a:lnTo>
                  <a:pt x="655" y="5454"/>
                </a:lnTo>
                <a:lnTo>
                  <a:pt x="632" y="5442"/>
                </a:lnTo>
                <a:lnTo>
                  <a:pt x="556" y="5405"/>
                </a:lnTo>
                <a:lnTo>
                  <a:pt x="498" y="5376"/>
                </a:lnTo>
                <a:lnTo>
                  <a:pt x="496" y="5374"/>
                </a:lnTo>
                <a:lnTo>
                  <a:pt x="497" y="5370"/>
                </a:lnTo>
                <a:lnTo>
                  <a:pt x="509" y="5342"/>
                </a:lnTo>
                <a:lnTo>
                  <a:pt x="550" y="5243"/>
                </a:lnTo>
                <a:lnTo>
                  <a:pt x="581" y="5167"/>
                </a:lnTo>
                <a:lnTo>
                  <a:pt x="583" y="5162"/>
                </a:lnTo>
                <a:lnTo>
                  <a:pt x="582" y="5155"/>
                </a:lnTo>
                <a:lnTo>
                  <a:pt x="582" y="5139"/>
                </a:lnTo>
                <a:lnTo>
                  <a:pt x="578" y="5108"/>
                </a:lnTo>
                <a:lnTo>
                  <a:pt x="576" y="5084"/>
                </a:lnTo>
                <a:lnTo>
                  <a:pt x="576" y="5079"/>
                </a:lnTo>
                <a:lnTo>
                  <a:pt x="580" y="5074"/>
                </a:lnTo>
                <a:lnTo>
                  <a:pt x="604" y="5036"/>
                </a:lnTo>
                <a:lnTo>
                  <a:pt x="690" y="4906"/>
                </a:lnTo>
                <a:lnTo>
                  <a:pt x="754" y="4806"/>
                </a:lnTo>
                <a:lnTo>
                  <a:pt x="759" y="4800"/>
                </a:lnTo>
                <a:lnTo>
                  <a:pt x="753" y="4790"/>
                </a:lnTo>
                <a:lnTo>
                  <a:pt x="740" y="4764"/>
                </a:lnTo>
                <a:lnTo>
                  <a:pt x="708" y="4691"/>
                </a:lnTo>
                <a:lnTo>
                  <a:pt x="669" y="4623"/>
                </a:lnTo>
                <a:lnTo>
                  <a:pt x="658" y="4611"/>
                </a:lnTo>
                <a:lnTo>
                  <a:pt x="656" y="4610"/>
                </a:lnTo>
                <a:lnTo>
                  <a:pt x="648" y="4603"/>
                </a:lnTo>
                <a:lnTo>
                  <a:pt x="619" y="4577"/>
                </a:lnTo>
                <a:lnTo>
                  <a:pt x="598" y="4559"/>
                </a:lnTo>
                <a:lnTo>
                  <a:pt x="597" y="4557"/>
                </a:lnTo>
                <a:lnTo>
                  <a:pt x="603" y="4540"/>
                </a:lnTo>
                <a:lnTo>
                  <a:pt x="605" y="4526"/>
                </a:lnTo>
                <a:lnTo>
                  <a:pt x="605" y="4514"/>
                </a:lnTo>
                <a:lnTo>
                  <a:pt x="602" y="4504"/>
                </a:lnTo>
                <a:lnTo>
                  <a:pt x="596" y="4497"/>
                </a:lnTo>
                <a:lnTo>
                  <a:pt x="588" y="4491"/>
                </a:lnTo>
                <a:lnTo>
                  <a:pt x="578" y="4486"/>
                </a:lnTo>
                <a:lnTo>
                  <a:pt x="557" y="4475"/>
                </a:lnTo>
                <a:lnTo>
                  <a:pt x="533" y="4462"/>
                </a:lnTo>
                <a:lnTo>
                  <a:pt x="524" y="4453"/>
                </a:lnTo>
                <a:lnTo>
                  <a:pt x="527" y="4445"/>
                </a:lnTo>
                <a:lnTo>
                  <a:pt x="539" y="4426"/>
                </a:lnTo>
                <a:lnTo>
                  <a:pt x="568" y="4385"/>
                </a:lnTo>
                <a:lnTo>
                  <a:pt x="590" y="4345"/>
                </a:lnTo>
                <a:lnTo>
                  <a:pt x="593" y="4336"/>
                </a:lnTo>
                <a:lnTo>
                  <a:pt x="597" y="4311"/>
                </a:lnTo>
                <a:lnTo>
                  <a:pt x="597" y="4279"/>
                </a:lnTo>
                <a:lnTo>
                  <a:pt x="587" y="4207"/>
                </a:lnTo>
                <a:lnTo>
                  <a:pt x="540" y="4060"/>
                </a:lnTo>
                <a:lnTo>
                  <a:pt x="478" y="3973"/>
                </a:lnTo>
                <a:lnTo>
                  <a:pt x="472" y="3975"/>
                </a:lnTo>
                <a:lnTo>
                  <a:pt x="435" y="3987"/>
                </a:lnTo>
                <a:lnTo>
                  <a:pt x="307" y="4023"/>
                </a:lnTo>
                <a:lnTo>
                  <a:pt x="210" y="4052"/>
                </a:lnTo>
                <a:lnTo>
                  <a:pt x="205" y="4053"/>
                </a:lnTo>
                <a:lnTo>
                  <a:pt x="201" y="4046"/>
                </a:lnTo>
                <a:lnTo>
                  <a:pt x="190" y="4023"/>
                </a:lnTo>
                <a:lnTo>
                  <a:pt x="183" y="4005"/>
                </a:lnTo>
                <a:lnTo>
                  <a:pt x="183" y="4004"/>
                </a:lnTo>
                <a:lnTo>
                  <a:pt x="178" y="4001"/>
                </a:lnTo>
                <a:lnTo>
                  <a:pt x="176" y="4000"/>
                </a:lnTo>
                <a:lnTo>
                  <a:pt x="172" y="4000"/>
                </a:lnTo>
                <a:lnTo>
                  <a:pt x="163" y="3999"/>
                </a:lnTo>
                <a:lnTo>
                  <a:pt x="140" y="4001"/>
                </a:lnTo>
                <a:lnTo>
                  <a:pt x="81" y="4009"/>
                </a:lnTo>
                <a:lnTo>
                  <a:pt x="40" y="4013"/>
                </a:lnTo>
                <a:lnTo>
                  <a:pt x="44" y="4005"/>
                </a:lnTo>
                <a:lnTo>
                  <a:pt x="59" y="3979"/>
                </a:lnTo>
                <a:lnTo>
                  <a:pt x="69" y="3967"/>
                </a:lnTo>
                <a:lnTo>
                  <a:pt x="78" y="3960"/>
                </a:lnTo>
                <a:lnTo>
                  <a:pt x="83" y="3958"/>
                </a:lnTo>
                <a:lnTo>
                  <a:pt x="74" y="3955"/>
                </a:lnTo>
                <a:lnTo>
                  <a:pt x="57" y="3947"/>
                </a:lnTo>
                <a:lnTo>
                  <a:pt x="28" y="3930"/>
                </a:lnTo>
                <a:lnTo>
                  <a:pt x="5" y="3905"/>
                </a:lnTo>
                <a:lnTo>
                  <a:pt x="0" y="3897"/>
                </a:lnTo>
                <a:lnTo>
                  <a:pt x="12" y="3897"/>
                </a:lnTo>
                <a:lnTo>
                  <a:pt x="41" y="3894"/>
                </a:lnTo>
                <a:lnTo>
                  <a:pt x="99" y="3881"/>
                </a:lnTo>
                <a:lnTo>
                  <a:pt x="125" y="3870"/>
                </a:lnTo>
                <a:lnTo>
                  <a:pt x="142" y="3857"/>
                </a:lnTo>
                <a:lnTo>
                  <a:pt x="148" y="3850"/>
                </a:lnTo>
                <a:lnTo>
                  <a:pt x="137" y="3838"/>
                </a:lnTo>
                <a:lnTo>
                  <a:pt x="128" y="3824"/>
                </a:lnTo>
                <a:lnTo>
                  <a:pt x="115" y="3792"/>
                </a:lnTo>
                <a:lnTo>
                  <a:pt x="109" y="3755"/>
                </a:lnTo>
                <a:lnTo>
                  <a:pt x="102" y="3682"/>
                </a:lnTo>
                <a:lnTo>
                  <a:pt x="100" y="3647"/>
                </a:lnTo>
                <a:lnTo>
                  <a:pt x="97" y="3636"/>
                </a:lnTo>
                <a:lnTo>
                  <a:pt x="86" y="3609"/>
                </a:lnTo>
                <a:lnTo>
                  <a:pt x="58" y="3547"/>
                </a:lnTo>
                <a:lnTo>
                  <a:pt x="49" y="3517"/>
                </a:lnTo>
                <a:lnTo>
                  <a:pt x="45" y="3488"/>
                </a:lnTo>
                <a:lnTo>
                  <a:pt x="49" y="3475"/>
                </a:lnTo>
                <a:lnTo>
                  <a:pt x="57" y="3457"/>
                </a:lnTo>
                <a:lnTo>
                  <a:pt x="69" y="3445"/>
                </a:lnTo>
                <a:lnTo>
                  <a:pt x="81" y="3439"/>
                </a:lnTo>
                <a:lnTo>
                  <a:pt x="95" y="3438"/>
                </a:lnTo>
                <a:lnTo>
                  <a:pt x="110" y="3440"/>
                </a:lnTo>
                <a:lnTo>
                  <a:pt x="125" y="3445"/>
                </a:lnTo>
                <a:lnTo>
                  <a:pt x="158" y="3454"/>
                </a:lnTo>
                <a:lnTo>
                  <a:pt x="192" y="3455"/>
                </a:lnTo>
                <a:lnTo>
                  <a:pt x="228" y="3435"/>
                </a:lnTo>
                <a:lnTo>
                  <a:pt x="232" y="3439"/>
                </a:lnTo>
                <a:lnTo>
                  <a:pt x="237" y="3442"/>
                </a:lnTo>
                <a:lnTo>
                  <a:pt x="245" y="3444"/>
                </a:lnTo>
                <a:lnTo>
                  <a:pt x="254" y="3444"/>
                </a:lnTo>
                <a:lnTo>
                  <a:pt x="272" y="3442"/>
                </a:lnTo>
                <a:lnTo>
                  <a:pt x="313" y="3436"/>
                </a:lnTo>
                <a:lnTo>
                  <a:pt x="332" y="3434"/>
                </a:lnTo>
                <a:lnTo>
                  <a:pt x="339" y="3446"/>
                </a:lnTo>
                <a:lnTo>
                  <a:pt x="358" y="3460"/>
                </a:lnTo>
                <a:lnTo>
                  <a:pt x="377" y="3468"/>
                </a:lnTo>
                <a:lnTo>
                  <a:pt x="400" y="3469"/>
                </a:lnTo>
                <a:lnTo>
                  <a:pt x="428" y="3466"/>
                </a:lnTo>
                <a:lnTo>
                  <a:pt x="462" y="3461"/>
                </a:lnTo>
                <a:lnTo>
                  <a:pt x="482" y="3457"/>
                </a:lnTo>
                <a:lnTo>
                  <a:pt x="509" y="3454"/>
                </a:lnTo>
                <a:lnTo>
                  <a:pt x="539" y="3459"/>
                </a:lnTo>
                <a:lnTo>
                  <a:pt x="573" y="3470"/>
                </a:lnTo>
                <a:lnTo>
                  <a:pt x="645" y="3505"/>
                </a:lnTo>
                <a:lnTo>
                  <a:pt x="784" y="3574"/>
                </a:lnTo>
                <a:lnTo>
                  <a:pt x="856" y="3570"/>
                </a:lnTo>
                <a:lnTo>
                  <a:pt x="872" y="3561"/>
                </a:lnTo>
                <a:lnTo>
                  <a:pt x="899" y="3539"/>
                </a:lnTo>
                <a:lnTo>
                  <a:pt x="921" y="3515"/>
                </a:lnTo>
                <a:lnTo>
                  <a:pt x="954" y="3464"/>
                </a:lnTo>
                <a:lnTo>
                  <a:pt x="980" y="3432"/>
                </a:lnTo>
                <a:lnTo>
                  <a:pt x="987" y="3410"/>
                </a:lnTo>
                <a:lnTo>
                  <a:pt x="1004" y="3359"/>
                </a:lnTo>
                <a:lnTo>
                  <a:pt x="1026" y="3247"/>
                </a:lnTo>
                <a:lnTo>
                  <a:pt x="1025" y="3197"/>
                </a:lnTo>
                <a:lnTo>
                  <a:pt x="1011" y="3157"/>
                </a:lnTo>
                <a:lnTo>
                  <a:pt x="999" y="3142"/>
                </a:lnTo>
                <a:lnTo>
                  <a:pt x="969" y="3124"/>
                </a:lnTo>
                <a:lnTo>
                  <a:pt x="918" y="3103"/>
                </a:lnTo>
                <a:lnTo>
                  <a:pt x="873" y="3095"/>
                </a:lnTo>
                <a:lnTo>
                  <a:pt x="833" y="3092"/>
                </a:lnTo>
                <a:lnTo>
                  <a:pt x="794" y="3083"/>
                </a:lnTo>
                <a:lnTo>
                  <a:pt x="753" y="3058"/>
                </a:lnTo>
                <a:lnTo>
                  <a:pt x="733" y="3037"/>
                </a:lnTo>
                <a:lnTo>
                  <a:pt x="738" y="3036"/>
                </a:lnTo>
                <a:lnTo>
                  <a:pt x="745" y="3032"/>
                </a:lnTo>
                <a:lnTo>
                  <a:pt x="760" y="3020"/>
                </a:lnTo>
                <a:lnTo>
                  <a:pt x="778" y="3002"/>
                </a:lnTo>
                <a:lnTo>
                  <a:pt x="818" y="2956"/>
                </a:lnTo>
                <a:lnTo>
                  <a:pt x="840" y="2927"/>
                </a:lnTo>
                <a:lnTo>
                  <a:pt x="833" y="2923"/>
                </a:lnTo>
                <a:lnTo>
                  <a:pt x="820" y="2915"/>
                </a:lnTo>
                <a:lnTo>
                  <a:pt x="804" y="2898"/>
                </a:lnTo>
                <a:lnTo>
                  <a:pt x="790" y="2883"/>
                </a:lnTo>
                <a:lnTo>
                  <a:pt x="785" y="2879"/>
                </a:lnTo>
                <a:lnTo>
                  <a:pt x="770" y="2870"/>
                </a:lnTo>
                <a:lnTo>
                  <a:pt x="761" y="2862"/>
                </a:lnTo>
                <a:lnTo>
                  <a:pt x="755" y="2854"/>
                </a:lnTo>
                <a:lnTo>
                  <a:pt x="754" y="2846"/>
                </a:lnTo>
                <a:lnTo>
                  <a:pt x="756" y="2838"/>
                </a:lnTo>
                <a:lnTo>
                  <a:pt x="761" y="2831"/>
                </a:lnTo>
                <a:lnTo>
                  <a:pt x="766" y="2824"/>
                </a:lnTo>
                <a:lnTo>
                  <a:pt x="779" y="2812"/>
                </a:lnTo>
                <a:lnTo>
                  <a:pt x="789" y="2801"/>
                </a:lnTo>
                <a:lnTo>
                  <a:pt x="792" y="2796"/>
                </a:lnTo>
                <a:lnTo>
                  <a:pt x="792" y="2789"/>
                </a:lnTo>
                <a:lnTo>
                  <a:pt x="792" y="2779"/>
                </a:lnTo>
                <a:lnTo>
                  <a:pt x="791" y="2770"/>
                </a:lnTo>
                <a:lnTo>
                  <a:pt x="796" y="2744"/>
                </a:lnTo>
                <a:lnTo>
                  <a:pt x="818" y="2706"/>
                </a:lnTo>
                <a:lnTo>
                  <a:pt x="822" y="2676"/>
                </a:lnTo>
                <a:lnTo>
                  <a:pt x="835" y="2650"/>
                </a:lnTo>
                <a:lnTo>
                  <a:pt x="854" y="2626"/>
                </a:lnTo>
                <a:lnTo>
                  <a:pt x="879" y="2604"/>
                </a:lnTo>
                <a:lnTo>
                  <a:pt x="936" y="2565"/>
                </a:lnTo>
                <a:lnTo>
                  <a:pt x="1035" y="2492"/>
                </a:lnTo>
                <a:lnTo>
                  <a:pt x="1054" y="2449"/>
                </a:lnTo>
                <a:lnTo>
                  <a:pt x="1028" y="2451"/>
                </a:lnTo>
                <a:lnTo>
                  <a:pt x="982" y="2457"/>
                </a:lnTo>
                <a:lnTo>
                  <a:pt x="942" y="2464"/>
                </a:lnTo>
                <a:lnTo>
                  <a:pt x="909" y="2466"/>
                </a:lnTo>
                <a:lnTo>
                  <a:pt x="896" y="2460"/>
                </a:lnTo>
                <a:lnTo>
                  <a:pt x="885" y="2452"/>
                </a:lnTo>
                <a:lnTo>
                  <a:pt x="878" y="2438"/>
                </a:lnTo>
                <a:lnTo>
                  <a:pt x="872" y="2419"/>
                </a:lnTo>
                <a:lnTo>
                  <a:pt x="870" y="2391"/>
                </a:lnTo>
                <a:lnTo>
                  <a:pt x="862" y="2395"/>
                </a:lnTo>
                <a:lnTo>
                  <a:pt x="852" y="2397"/>
                </a:lnTo>
                <a:lnTo>
                  <a:pt x="829" y="2399"/>
                </a:lnTo>
                <a:lnTo>
                  <a:pt x="806" y="2397"/>
                </a:lnTo>
                <a:lnTo>
                  <a:pt x="758" y="2388"/>
                </a:lnTo>
                <a:lnTo>
                  <a:pt x="738" y="2380"/>
                </a:lnTo>
                <a:lnTo>
                  <a:pt x="773" y="2350"/>
                </a:lnTo>
                <a:lnTo>
                  <a:pt x="851" y="2267"/>
                </a:lnTo>
                <a:lnTo>
                  <a:pt x="1001" y="2051"/>
                </a:lnTo>
                <a:lnTo>
                  <a:pt x="1044" y="1941"/>
                </a:lnTo>
                <a:lnTo>
                  <a:pt x="1051" y="1892"/>
                </a:lnTo>
                <a:lnTo>
                  <a:pt x="1048" y="1847"/>
                </a:lnTo>
                <a:lnTo>
                  <a:pt x="1031" y="1808"/>
                </a:lnTo>
                <a:lnTo>
                  <a:pt x="1019" y="1791"/>
                </a:lnTo>
                <a:lnTo>
                  <a:pt x="1001" y="1762"/>
                </a:lnTo>
                <a:lnTo>
                  <a:pt x="965" y="1720"/>
                </a:lnTo>
                <a:lnTo>
                  <a:pt x="893" y="1693"/>
                </a:lnTo>
                <a:lnTo>
                  <a:pt x="866" y="1687"/>
                </a:lnTo>
                <a:lnTo>
                  <a:pt x="866" y="1686"/>
                </a:lnTo>
                <a:lnTo>
                  <a:pt x="867" y="1676"/>
                </a:lnTo>
                <a:lnTo>
                  <a:pt x="873" y="1642"/>
                </a:lnTo>
                <a:lnTo>
                  <a:pt x="878" y="1617"/>
                </a:lnTo>
                <a:lnTo>
                  <a:pt x="879" y="1615"/>
                </a:lnTo>
                <a:lnTo>
                  <a:pt x="877" y="1605"/>
                </a:lnTo>
                <a:lnTo>
                  <a:pt x="870" y="1575"/>
                </a:lnTo>
                <a:lnTo>
                  <a:pt x="866" y="1552"/>
                </a:lnTo>
                <a:lnTo>
                  <a:pt x="866" y="1550"/>
                </a:lnTo>
                <a:close/>
                <a:moveTo>
                  <a:pt x="1432" y="1856"/>
                </a:moveTo>
                <a:lnTo>
                  <a:pt x="1445" y="1844"/>
                </a:lnTo>
                <a:lnTo>
                  <a:pt x="1461" y="1831"/>
                </a:lnTo>
                <a:lnTo>
                  <a:pt x="1465" y="1828"/>
                </a:lnTo>
                <a:lnTo>
                  <a:pt x="1467" y="1827"/>
                </a:lnTo>
                <a:lnTo>
                  <a:pt x="1469" y="1827"/>
                </a:lnTo>
                <a:lnTo>
                  <a:pt x="1472" y="1828"/>
                </a:lnTo>
                <a:lnTo>
                  <a:pt x="1476" y="1832"/>
                </a:lnTo>
                <a:lnTo>
                  <a:pt x="1479" y="1835"/>
                </a:lnTo>
                <a:lnTo>
                  <a:pt x="1494" y="1841"/>
                </a:lnTo>
                <a:lnTo>
                  <a:pt x="1515" y="1842"/>
                </a:lnTo>
                <a:lnTo>
                  <a:pt x="1519" y="1824"/>
                </a:lnTo>
                <a:lnTo>
                  <a:pt x="1517" y="1807"/>
                </a:lnTo>
                <a:lnTo>
                  <a:pt x="1509" y="1792"/>
                </a:lnTo>
                <a:lnTo>
                  <a:pt x="1498" y="1778"/>
                </a:lnTo>
                <a:lnTo>
                  <a:pt x="1482" y="1766"/>
                </a:lnTo>
                <a:lnTo>
                  <a:pt x="1447" y="1744"/>
                </a:lnTo>
                <a:lnTo>
                  <a:pt x="1410" y="1726"/>
                </a:lnTo>
                <a:lnTo>
                  <a:pt x="1378" y="1710"/>
                </a:lnTo>
                <a:lnTo>
                  <a:pt x="1369" y="1701"/>
                </a:lnTo>
                <a:lnTo>
                  <a:pt x="1383" y="1699"/>
                </a:lnTo>
                <a:lnTo>
                  <a:pt x="1422" y="1697"/>
                </a:lnTo>
                <a:lnTo>
                  <a:pt x="1470" y="1700"/>
                </a:lnTo>
                <a:lnTo>
                  <a:pt x="1561" y="1726"/>
                </a:lnTo>
                <a:lnTo>
                  <a:pt x="1598" y="1764"/>
                </a:lnTo>
                <a:lnTo>
                  <a:pt x="1609" y="1784"/>
                </a:lnTo>
                <a:lnTo>
                  <a:pt x="1643" y="1844"/>
                </a:lnTo>
                <a:lnTo>
                  <a:pt x="1708" y="1996"/>
                </a:lnTo>
                <a:lnTo>
                  <a:pt x="1711" y="2030"/>
                </a:lnTo>
                <a:lnTo>
                  <a:pt x="1706" y="2061"/>
                </a:lnTo>
                <a:lnTo>
                  <a:pt x="1688" y="2084"/>
                </a:lnTo>
                <a:lnTo>
                  <a:pt x="1658" y="2100"/>
                </a:lnTo>
                <a:lnTo>
                  <a:pt x="1613" y="2105"/>
                </a:lnTo>
                <a:lnTo>
                  <a:pt x="1615" y="2097"/>
                </a:lnTo>
                <a:lnTo>
                  <a:pt x="1618" y="2088"/>
                </a:lnTo>
                <a:lnTo>
                  <a:pt x="1617" y="2077"/>
                </a:lnTo>
                <a:lnTo>
                  <a:pt x="1612" y="2055"/>
                </a:lnTo>
                <a:lnTo>
                  <a:pt x="1605" y="2031"/>
                </a:lnTo>
                <a:lnTo>
                  <a:pt x="1584" y="1990"/>
                </a:lnTo>
                <a:lnTo>
                  <a:pt x="1580" y="1981"/>
                </a:lnTo>
                <a:lnTo>
                  <a:pt x="1560" y="1981"/>
                </a:lnTo>
                <a:lnTo>
                  <a:pt x="1524" y="1978"/>
                </a:lnTo>
                <a:lnTo>
                  <a:pt x="1494" y="1967"/>
                </a:lnTo>
                <a:lnTo>
                  <a:pt x="1470" y="1950"/>
                </a:lnTo>
                <a:lnTo>
                  <a:pt x="1450" y="1922"/>
                </a:lnTo>
                <a:lnTo>
                  <a:pt x="1436" y="1883"/>
                </a:lnTo>
                <a:lnTo>
                  <a:pt x="1432" y="1856"/>
                </a:lnTo>
                <a:lnTo>
                  <a:pt x="1444" y="1845"/>
                </a:lnTo>
                <a:lnTo>
                  <a:pt x="1457" y="1833"/>
                </a:lnTo>
                <a:lnTo>
                  <a:pt x="1450" y="1839"/>
                </a:lnTo>
                <a:lnTo>
                  <a:pt x="1433" y="1855"/>
                </a:lnTo>
                <a:lnTo>
                  <a:pt x="1432" y="1856"/>
                </a:lnTo>
                <a:close/>
                <a:moveTo>
                  <a:pt x="1020" y="2121"/>
                </a:moveTo>
                <a:lnTo>
                  <a:pt x="1019" y="2132"/>
                </a:lnTo>
                <a:lnTo>
                  <a:pt x="1019" y="2152"/>
                </a:lnTo>
                <a:lnTo>
                  <a:pt x="1014" y="2179"/>
                </a:lnTo>
                <a:lnTo>
                  <a:pt x="1006" y="2188"/>
                </a:lnTo>
                <a:lnTo>
                  <a:pt x="996" y="2197"/>
                </a:lnTo>
                <a:lnTo>
                  <a:pt x="989" y="2200"/>
                </a:lnTo>
                <a:lnTo>
                  <a:pt x="1002" y="2219"/>
                </a:lnTo>
                <a:lnTo>
                  <a:pt x="1035" y="2256"/>
                </a:lnTo>
                <a:lnTo>
                  <a:pt x="1116" y="2328"/>
                </a:lnTo>
                <a:lnTo>
                  <a:pt x="1189" y="2408"/>
                </a:lnTo>
                <a:lnTo>
                  <a:pt x="1203" y="2431"/>
                </a:lnTo>
                <a:lnTo>
                  <a:pt x="1215" y="2418"/>
                </a:lnTo>
                <a:lnTo>
                  <a:pt x="1233" y="2396"/>
                </a:lnTo>
                <a:lnTo>
                  <a:pt x="1244" y="2382"/>
                </a:lnTo>
                <a:lnTo>
                  <a:pt x="1249" y="2378"/>
                </a:lnTo>
                <a:lnTo>
                  <a:pt x="1254" y="2375"/>
                </a:lnTo>
                <a:lnTo>
                  <a:pt x="1262" y="2374"/>
                </a:lnTo>
                <a:lnTo>
                  <a:pt x="1270" y="2374"/>
                </a:lnTo>
                <a:lnTo>
                  <a:pt x="1282" y="2376"/>
                </a:lnTo>
                <a:lnTo>
                  <a:pt x="1317" y="2385"/>
                </a:lnTo>
                <a:lnTo>
                  <a:pt x="1327" y="2353"/>
                </a:lnTo>
                <a:lnTo>
                  <a:pt x="1328" y="2316"/>
                </a:lnTo>
                <a:lnTo>
                  <a:pt x="1321" y="2273"/>
                </a:lnTo>
                <a:lnTo>
                  <a:pt x="1286" y="2187"/>
                </a:lnTo>
                <a:lnTo>
                  <a:pt x="1228" y="2114"/>
                </a:lnTo>
                <a:lnTo>
                  <a:pt x="1192" y="2090"/>
                </a:lnTo>
                <a:lnTo>
                  <a:pt x="1152" y="2075"/>
                </a:lnTo>
                <a:lnTo>
                  <a:pt x="1110" y="2074"/>
                </a:lnTo>
                <a:lnTo>
                  <a:pt x="1065" y="2089"/>
                </a:lnTo>
                <a:lnTo>
                  <a:pt x="1020" y="2121"/>
                </a:lnTo>
                <a:lnTo>
                  <a:pt x="1020" y="2131"/>
                </a:lnTo>
                <a:lnTo>
                  <a:pt x="1020" y="2142"/>
                </a:lnTo>
                <a:lnTo>
                  <a:pt x="1020" y="2135"/>
                </a:lnTo>
                <a:lnTo>
                  <a:pt x="1020" y="2122"/>
                </a:lnTo>
                <a:lnTo>
                  <a:pt x="1020" y="21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5"/>
          <p:cNvSpPr/>
          <p:nvPr/>
        </p:nvSpPr>
        <p:spPr>
          <a:xfrm>
            <a:off x="4267080" y="2387520"/>
            <a:ext cx="103320" cy="49320"/>
          </a:xfrm>
          <a:custGeom>
            <a:avLst/>
            <a:gdLst>
              <a:gd name="textAreaLeft" fmla="*/ 0 w 103320"/>
              <a:gd name="textAreaRight" fmla="*/ 103680 w 103320"/>
              <a:gd name="textAreaTop" fmla="*/ 0 h 49320"/>
              <a:gd name="textAreaBottom" fmla="*/ 49680 h 49320"/>
            </a:gdLst>
            <a:ahLst/>
            <a:rect l="textAreaLeft" t="textAreaTop" r="textAreaRight" b="textAreaBottom"/>
            <a:pathLst>
              <a:path w="130" h="61">
                <a:moveTo>
                  <a:pt x="40" y="1"/>
                </a:moveTo>
                <a:lnTo>
                  <a:pt x="41" y="1"/>
                </a:lnTo>
                <a:lnTo>
                  <a:pt x="43" y="1"/>
                </a:lnTo>
                <a:lnTo>
                  <a:pt x="45" y="1"/>
                </a:lnTo>
                <a:lnTo>
                  <a:pt x="52" y="2"/>
                </a:lnTo>
                <a:lnTo>
                  <a:pt x="71" y="6"/>
                </a:lnTo>
                <a:lnTo>
                  <a:pt x="111" y="22"/>
                </a:lnTo>
                <a:lnTo>
                  <a:pt x="130" y="40"/>
                </a:lnTo>
                <a:lnTo>
                  <a:pt x="127" y="41"/>
                </a:lnTo>
                <a:lnTo>
                  <a:pt x="115" y="44"/>
                </a:lnTo>
                <a:lnTo>
                  <a:pt x="70" y="54"/>
                </a:lnTo>
                <a:lnTo>
                  <a:pt x="33" y="61"/>
                </a:lnTo>
                <a:lnTo>
                  <a:pt x="31" y="61"/>
                </a:lnTo>
                <a:lnTo>
                  <a:pt x="21" y="55"/>
                </a:lnTo>
                <a:lnTo>
                  <a:pt x="7" y="43"/>
                </a:lnTo>
                <a:lnTo>
                  <a:pt x="3" y="38"/>
                </a:lnTo>
                <a:lnTo>
                  <a:pt x="1" y="34"/>
                </a:lnTo>
                <a:lnTo>
                  <a:pt x="0" y="29"/>
                </a:lnTo>
                <a:lnTo>
                  <a:pt x="1" y="25"/>
                </a:lnTo>
                <a:lnTo>
                  <a:pt x="4" y="21"/>
                </a:lnTo>
                <a:lnTo>
                  <a:pt x="9" y="17"/>
                </a:lnTo>
                <a:lnTo>
                  <a:pt x="17" y="12"/>
                </a:lnTo>
                <a:lnTo>
                  <a:pt x="40" y="1"/>
                </a:lnTo>
                <a:lnTo>
                  <a:pt x="42" y="0"/>
                </a:lnTo>
                <a:lnTo>
                  <a:pt x="40" y="1"/>
                </a:lnTo>
              </a:path>
            </a:pathLst>
          </a:custGeom>
          <a:noFill/>
          <a:ln w="9360">
            <a:solidFill>
              <a:srgbClr val="1f1a17"/>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 name="Freeform 6"/>
          <p:cNvSpPr/>
          <p:nvPr/>
        </p:nvSpPr>
        <p:spPr>
          <a:xfrm>
            <a:off x="4254480" y="2470320"/>
            <a:ext cx="133200" cy="112680"/>
          </a:xfrm>
          <a:custGeom>
            <a:avLst/>
            <a:gdLst>
              <a:gd name="textAreaLeft" fmla="*/ 0 w 133200"/>
              <a:gd name="textAreaRight" fmla="*/ 133200 w 133200"/>
              <a:gd name="textAreaTop" fmla="*/ 0 h 112680"/>
              <a:gd name="textAreaBottom" fmla="*/ 113040 h 112680"/>
            </a:gdLst>
            <a:ahLst/>
            <a:rect l="textAreaLeft" t="textAreaTop" r="textAreaRight" b="textAreaBottom"/>
            <a:pathLst>
              <a:path w="166" h="142">
                <a:moveTo>
                  <a:pt x="166" y="0"/>
                </a:moveTo>
                <a:lnTo>
                  <a:pt x="154" y="13"/>
                </a:lnTo>
                <a:lnTo>
                  <a:pt x="136" y="39"/>
                </a:lnTo>
                <a:lnTo>
                  <a:pt x="105" y="91"/>
                </a:lnTo>
                <a:lnTo>
                  <a:pt x="70" y="135"/>
                </a:lnTo>
                <a:lnTo>
                  <a:pt x="59" y="142"/>
                </a:lnTo>
                <a:lnTo>
                  <a:pt x="53" y="142"/>
                </a:lnTo>
                <a:lnTo>
                  <a:pt x="47" y="140"/>
                </a:lnTo>
                <a:lnTo>
                  <a:pt x="32" y="133"/>
                </a:lnTo>
                <a:lnTo>
                  <a:pt x="17" y="124"/>
                </a:lnTo>
                <a:lnTo>
                  <a:pt x="5" y="112"/>
                </a:lnTo>
                <a:lnTo>
                  <a:pt x="1" y="104"/>
                </a:lnTo>
                <a:lnTo>
                  <a:pt x="0" y="97"/>
                </a:lnTo>
                <a:lnTo>
                  <a:pt x="1" y="90"/>
                </a:lnTo>
                <a:lnTo>
                  <a:pt x="6" y="83"/>
                </a:lnTo>
                <a:lnTo>
                  <a:pt x="7" y="66"/>
                </a:lnTo>
                <a:lnTo>
                  <a:pt x="13" y="51"/>
                </a:lnTo>
                <a:lnTo>
                  <a:pt x="21" y="39"/>
                </a:lnTo>
                <a:lnTo>
                  <a:pt x="32" y="30"/>
                </a:lnTo>
                <a:lnTo>
                  <a:pt x="45" y="24"/>
                </a:lnTo>
                <a:lnTo>
                  <a:pt x="60" y="18"/>
                </a:lnTo>
                <a:lnTo>
                  <a:pt x="93" y="12"/>
                </a:lnTo>
                <a:lnTo>
                  <a:pt x="130" y="7"/>
                </a:lnTo>
                <a:lnTo>
                  <a:pt x="166" y="0"/>
                </a:lnTo>
                <a:lnTo>
                  <a:pt x="155" y="11"/>
                </a:lnTo>
                <a:lnTo>
                  <a:pt x="146" y="21"/>
                </a:lnTo>
                <a:lnTo>
                  <a:pt x="151" y="15"/>
                </a:lnTo>
                <a:lnTo>
                  <a:pt x="165" y="1"/>
                </a:lnTo>
                <a:lnTo>
                  <a:pt x="166"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7"/>
          <p:cNvSpPr/>
          <p:nvPr/>
        </p:nvSpPr>
        <p:spPr>
          <a:xfrm>
            <a:off x="4168800" y="85680"/>
            <a:ext cx="1757160" cy="4657680"/>
          </a:xfrm>
          <a:custGeom>
            <a:avLst/>
            <a:gdLst>
              <a:gd name="textAreaLeft" fmla="*/ 0 w 1757160"/>
              <a:gd name="textAreaRight" fmla="*/ 1757520 w 1757160"/>
              <a:gd name="textAreaTop" fmla="*/ 0 h 4657680"/>
              <a:gd name="textAreaBottom" fmla="*/ 4658040 h 4657680"/>
            </a:gdLst>
            <a:ahLst/>
            <a:rect l="textAreaLeft" t="textAreaTop" r="textAreaRight" b="textAreaBottom"/>
            <a:pathLst>
              <a:path w="2215" h="5868">
                <a:moveTo>
                  <a:pt x="866" y="1550"/>
                </a:moveTo>
                <a:lnTo>
                  <a:pt x="871" y="1542"/>
                </a:lnTo>
                <a:lnTo>
                  <a:pt x="891" y="1518"/>
                </a:lnTo>
                <a:lnTo>
                  <a:pt x="906" y="1500"/>
                </a:lnTo>
                <a:lnTo>
                  <a:pt x="907" y="1498"/>
                </a:lnTo>
                <a:lnTo>
                  <a:pt x="903" y="1498"/>
                </a:lnTo>
                <a:lnTo>
                  <a:pt x="887" y="1497"/>
                </a:lnTo>
                <a:lnTo>
                  <a:pt x="829" y="1492"/>
                </a:lnTo>
                <a:lnTo>
                  <a:pt x="787" y="1487"/>
                </a:lnTo>
                <a:lnTo>
                  <a:pt x="784" y="1486"/>
                </a:lnTo>
                <a:lnTo>
                  <a:pt x="779" y="1473"/>
                </a:lnTo>
                <a:lnTo>
                  <a:pt x="765" y="1431"/>
                </a:lnTo>
                <a:lnTo>
                  <a:pt x="754" y="1400"/>
                </a:lnTo>
                <a:lnTo>
                  <a:pt x="754" y="1398"/>
                </a:lnTo>
                <a:lnTo>
                  <a:pt x="739" y="1390"/>
                </a:lnTo>
                <a:lnTo>
                  <a:pt x="719" y="1379"/>
                </a:lnTo>
                <a:lnTo>
                  <a:pt x="708" y="1373"/>
                </a:lnTo>
                <a:lnTo>
                  <a:pt x="702" y="1367"/>
                </a:lnTo>
                <a:lnTo>
                  <a:pt x="695" y="1356"/>
                </a:lnTo>
                <a:lnTo>
                  <a:pt x="686" y="1335"/>
                </a:lnTo>
                <a:lnTo>
                  <a:pt x="679" y="1318"/>
                </a:lnTo>
                <a:lnTo>
                  <a:pt x="679" y="1314"/>
                </a:lnTo>
                <a:lnTo>
                  <a:pt x="687" y="1286"/>
                </a:lnTo>
                <a:lnTo>
                  <a:pt x="709" y="1188"/>
                </a:lnTo>
                <a:lnTo>
                  <a:pt x="726" y="1114"/>
                </a:lnTo>
                <a:lnTo>
                  <a:pt x="728" y="1108"/>
                </a:lnTo>
                <a:lnTo>
                  <a:pt x="724" y="1105"/>
                </a:lnTo>
                <a:lnTo>
                  <a:pt x="703" y="1078"/>
                </a:lnTo>
                <a:lnTo>
                  <a:pt x="629" y="987"/>
                </a:lnTo>
                <a:lnTo>
                  <a:pt x="573" y="917"/>
                </a:lnTo>
                <a:lnTo>
                  <a:pt x="571" y="913"/>
                </a:lnTo>
                <a:lnTo>
                  <a:pt x="562" y="895"/>
                </a:lnTo>
                <a:lnTo>
                  <a:pt x="553" y="858"/>
                </a:lnTo>
                <a:lnTo>
                  <a:pt x="550" y="825"/>
                </a:lnTo>
                <a:lnTo>
                  <a:pt x="555" y="763"/>
                </a:lnTo>
                <a:lnTo>
                  <a:pt x="559" y="716"/>
                </a:lnTo>
                <a:lnTo>
                  <a:pt x="555" y="712"/>
                </a:lnTo>
                <a:lnTo>
                  <a:pt x="552" y="707"/>
                </a:lnTo>
                <a:lnTo>
                  <a:pt x="545" y="693"/>
                </a:lnTo>
                <a:lnTo>
                  <a:pt x="524" y="655"/>
                </a:lnTo>
                <a:lnTo>
                  <a:pt x="473" y="612"/>
                </a:lnTo>
                <a:lnTo>
                  <a:pt x="457" y="604"/>
                </a:lnTo>
                <a:lnTo>
                  <a:pt x="432" y="594"/>
                </a:lnTo>
                <a:lnTo>
                  <a:pt x="406" y="589"/>
                </a:lnTo>
                <a:lnTo>
                  <a:pt x="399" y="588"/>
                </a:lnTo>
                <a:lnTo>
                  <a:pt x="398" y="587"/>
                </a:lnTo>
                <a:lnTo>
                  <a:pt x="397" y="585"/>
                </a:lnTo>
                <a:lnTo>
                  <a:pt x="396" y="581"/>
                </a:lnTo>
                <a:lnTo>
                  <a:pt x="395" y="578"/>
                </a:lnTo>
                <a:lnTo>
                  <a:pt x="388" y="549"/>
                </a:lnTo>
                <a:lnTo>
                  <a:pt x="365" y="454"/>
                </a:lnTo>
                <a:lnTo>
                  <a:pt x="348" y="381"/>
                </a:lnTo>
                <a:lnTo>
                  <a:pt x="348" y="377"/>
                </a:lnTo>
                <a:lnTo>
                  <a:pt x="347" y="368"/>
                </a:lnTo>
                <a:lnTo>
                  <a:pt x="345" y="338"/>
                </a:lnTo>
                <a:lnTo>
                  <a:pt x="344" y="316"/>
                </a:lnTo>
                <a:lnTo>
                  <a:pt x="344" y="314"/>
                </a:lnTo>
                <a:lnTo>
                  <a:pt x="354" y="310"/>
                </a:lnTo>
                <a:lnTo>
                  <a:pt x="387" y="296"/>
                </a:lnTo>
                <a:lnTo>
                  <a:pt x="411" y="286"/>
                </a:lnTo>
                <a:lnTo>
                  <a:pt x="413" y="285"/>
                </a:lnTo>
                <a:lnTo>
                  <a:pt x="414" y="284"/>
                </a:lnTo>
                <a:lnTo>
                  <a:pt x="425" y="271"/>
                </a:lnTo>
                <a:lnTo>
                  <a:pt x="463" y="226"/>
                </a:lnTo>
                <a:lnTo>
                  <a:pt x="492" y="192"/>
                </a:lnTo>
                <a:lnTo>
                  <a:pt x="494" y="190"/>
                </a:lnTo>
                <a:lnTo>
                  <a:pt x="495" y="188"/>
                </a:lnTo>
                <a:lnTo>
                  <a:pt x="508" y="180"/>
                </a:lnTo>
                <a:lnTo>
                  <a:pt x="551" y="151"/>
                </a:lnTo>
                <a:lnTo>
                  <a:pt x="584" y="128"/>
                </a:lnTo>
                <a:lnTo>
                  <a:pt x="586" y="126"/>
                </a:lnTo>
                <a:lnTo>
                  <a:pt x="590" y="119"/>
                </a:lnTo>
                <a:lnTo>
                  <a:pt x="591" y="112"/>
                </a:lnTo>
                <a:lnTo>
                  <a:pt x="592" y="106"/>
                </a:lnTo>
                <a:lnTo>
                  <a:pt x="591" y="100"/>
                </a:lnTo>
                <a:lnTo>
                  <a:pt x="588" y="90"/>
                </a:lnTo>
                <a:lnTo>
                  <a:pt x="586" y="79"/>
                </a:lnTo>
                <a:lnTo>
                  <a:pt x="586" y="75"/>
                </a:lnTo>
                <a:lnTo>
                  <a:pt x="589" y="71"/>
                </a:lnTo>
                <a:lnTo>
                  <a:pt x="593" y="67"/>
                </a:lnTo>
                <a:lnTo>
                  <a:pt x="602" y="62"/>
                </a:lnTo>
                <a:lnTo>
                  <a:pt x="645" y="90"/>
                </a:lnTo>
                <a:lnTo>
                  <a:pt x="698" y="122"/>
                </a:lnTo>
                <a:lnTo>
                  <a:pt x="709" y="129"/>
                </a:lnTo>
                <a:lnTo>
                  <a:pt x="713" y="131"/>
                </a:lnTo>
                <a:lnTo>
                  <a:pt x="715" y="133"/>
                </a:lnTo>
                <a:lnTo>
                  <a:pt x="715" y="134"/>
                </a:lnTo>
                <a:lnTo>
                  <a:pt x="714" y="134"/>
                </a:lnTo>
                <a:lnTo>
                  <a:pt x="711" y="134"/>
                </a:lnTo>
                <a:lnTo>
                  <a:pt x="708" y="136"/>
                </a:lnTo>
                <a:lnTo>
                  <a:pt x="699" y="137"/>
                </a:lnTo>
                <a:lnTo>
                  <a:pt x="672" y="146"/>
                </a:lnTo>
                <a:lnTo>
                  <a:pt x="658" y="156"/>
                </a:lnTo>
                <a:lnTo>
                  <a:pt x="644" y="173"/>
                </a:lnTo>
                <a:lnTo>
                  <a:pt x="642" y="178"/>
                </a:lnTo>
                <a:lnTo>
                  <a:pt x="672" y="187"/>
                </a:lnTo>
                <a:lnTo>
                  <a:pt x="739" y="195"/>
                </a:lnTo>
                <a:lnTo>
                  <a:pt x="812" y="191"/>
                </a:lnTo>
                <a:lnTo>
                  <a:pt x="965" y="175"/>
                </a:lnTo>
                <a:lnTo>
                  <a:pt x="1072" y="178"/>
                </a:lnTo>
                <a:lnTo>
                  <a:pt x="1100" y="185"/>
                </a:lnTo>
                <a:lnTo>
                  <a:pt x="1161" y="209"/>
                </a:lnTo>
                <a:lnTo>
                  <a:pt x="1293" y="268"/>
                </a:lnTo>
                <a:lnTo>
                  <a:pt x="1432" y="303"/>
                </a:lnTo>
                <a:lnTo>
                  <a:pt x="1467" y="301"/>
                </a:lnTo>
                <a:lnTo>
                  <a:pt x="1494" y="301"/>
                </a:lnTo>
                <a:lnTo>
                  <a:pt x="1521" y="306"/>
                </a:lnTo>
                <a:lnTo>
                  <a:pt x="1548" y="316"/>
                </a:lnTo>
                <a:lnTo>
                  <a:pt x="1597" y="347"/>
                </a:lnTo>
                <a:lnTo>
                  <a:pt x="1638" y="390"/>
                </a:lnTo>
                <a:lnTo>
                  <a:pt x="1667" y="438"/>
                </a:lnTo>
                <a:lnTo>
                  <a:pt x="1681" y="485"/>
                </a:lnTo>
                <a:lnTo>
                  <a:pt x="1682" y="505"/>
                </a:lnTo>
                <a:lnTo>
                  <a:pt x="1681" y="508"/>
                </a:lnTo>
                <a:lnTo>
                  <a:pt x="1679" y="525"/>
                </a:lnTo>
                <a:lnTo>
                  <a:pt x="1670" y="583"/>
                </a:lnTo>
                <a:lnTo>
                  <a:pt x="1664" y="627"/>
                </a:lnTo>
                <a:lnTo>
                  <a:pt x="1664" y="629"/>
                </a:lnTo>
                <a:lnTo>
                  <a:pt x="1642" y="699"/>
                </a:lnTo>
                <a:lnTo>
                  <a:pt x="1603" y="751"/>
                </a:lnTo>
                <a:lnTo>
                  <a:pt x="1547" y="787"/>
                </a:lnTo>
                <a:lnTo>
                  <a:pt x="1478" y="808"/>
                </a:lnTo>
                <a:lnTo>
                  <a:pt x="1399" y="818"/>
                </a:lnTo>
                <a:lnTo>
                  <a:pt x="1224" y="814"/>
                </a:lnTo>
                <a:lnTo>
                  <a:pt x="1046" y="793"/>
                </a:lnTo>
                <a:lnTo>
                  <a:pt x="887" y="773"/>
                </a:lnTo>
                <a:lnTo>
                  <a:pt x="824" y="769"/>
                </a:lnTo>
                <a:lnTo>
                  <a:pt x="861" y="805"/>
                </a:lnTo>
                <a:lnTo>
                  <a:pt x="945" y="859"/>
                </a:lnTo>
                <a:lnTo>
                  <a:pt x="1034" y="901"/>
                </a:lnTo>
                <a:lnTo>
                  <a:pt x="1115" y="940"/>
                </a:lnTo>
                <a:lnTo>
                  <a:pt x="1174" y="990"/>
                </a:lnTo>
                <a:lnTo>
                  <a:pt x="1192" y="1022"/>
                </a:lnTo>
                <a:lnTo>
                  <a:pt x="1199" y="1061"/>
                </a:lnTo>
                <a:lnTo>
                  <a:pt x="1196" y="1106"/>
                </a:lnTo>
                <a:lnTo>
                  <a:pt x="1203" y="1123"/>
                </a:lnTo>
                <a:lnTo>
                  <a:pt x="1214" y="1155"/>
                </a:lnTo>
                <a:lnTo>
                  <a:pt x="1230" y="1228"/>
                </a:lnTo>
                <a:lnTo>
                  <a:pt x="1236" y="1297"/>
                </a:lnTo>
                <a:lnTo>
                  <a:pt x="1237" y="1312"/>
                </a:lnTo>
                <a:lnTo>
                  <a:pt x="1242" y="1326"/>
                </a:lnTo>
                <a:lnTo>
                  <a:pt x="1253" y="1336"/>
                </a:lnTo>
                <a:lnTo>
                  <a:pt x="1267" y="1341"/>
                </a:lnTo>
                <a:lnTo>
                  <a:pt x="1283" y="1343"/>
                </a:lnTo>
                <a:lnTo>
                  <a:pt x="1301" y="1343"/>
                </a:lnTo>
                <a:lnTo>
                  <a:pt x="1340" y="1337"/>
                </a:lnTo>
                <a:lnTo>
                  <a:pt x="1406" y="1323"/>
                </a:lnTo>
                <a:lnTo>
                  <a:pt x="1417" y="1322"/>
                </a:lnTo>
                <a:lnTo>
                  <a:pt x="1432" y="1326"/>
                </a:lnTo>
                <a:lnTo>
                  <a:pt x="1463" y="1338"/>
                </a:lnTo>
                <a:lnTo>
                  <a:pt x="1524" y="1365"/>
                </a:lnTo>
                <a:lnTo>
                  <a:pt x="1594" y="1378"/>
                </a:lnTo>
                <a:lnTo>
                  <a:pt x="1614" y="1375"/>
                </a:lnTo>
                <a:lnTo>
                  <a:pt x="1628" y="1370"/>
                </a:lnTo>
                <a:lnTo>
                  <a:pt x="1640" y="1361"/>
                </a:lnTo>
                <a:lnTo>
                  <a:pt x="1648" y="1350"/>
                </a:lnTo>
                <a:lnTo>
                  <a:pt x="1653" y="1336"/>
                </a:lnTo>
                <a:lnTo>
                  <a:pt x="1655" y="1320"/>
                </a:lnTo>
                <a:lnTo>
                  <a:pt x="1655" y="1288"/>
                </a:lnTo>
                <a:lnTo>
                  <a:pt x="1652" y="1256"/>
                </a:lnTo>
                <a:lnTo>
                  <a:pt x="1648" y="1230"/>
                </a:lnTo>
                <a:lnTo>
                  <a:pt x="1648" y="1220"/>
                </a:lnTo>
                <a:lnTo>
                  <a:pt x="1618" y="1220"/>
                </a:lnTo>
                <a:lnTo>
                  <a:pt x="1567" y="1216"/>
                </a:lnTo>
                <a:lnTo>
                  <a:pt x="1529" y="1208"/>
                </a:lnTo>
                <a:lnTo>
                  <a:pt x="1501" y="1192"/>
                </a:lnTo>
                <a:lnTo>
                  <a:pt x="1481" y="1167"/>
                </a:lnTo>
                <a:lnTo>
                  <a:pt x="1467" y="1128"/>
                </a:lnTo>
                <a:lnTo>
                  <a:pt x="1463" y="1103"/>
                </a:lnTo>
                <a:lnTo>
                  <a:pt x="1486" y="1089"/>
                </a:lnTo>
                <a:lnTo>
                  <a:pt x="1513" y="1081"/>
                </a:lnTo>
                <a:lnTo>
                  <a:pt x="1543" y="1079"/>
                </a:lnTo>
                <a:lnTo>
                  <a:pt x="1576" y="1081"/>
                </a:lnTo>
                <a:lnTo>
                  <a:pt x="1648" y="1091"/>
                </a:lnTo>
                <a:lnTo>
                  <a:pt x="1719" y="1099"/>
                </a:lnTo>
                <a:lnTo>
                  <a:pt x="1788" y="1094"/>
                </a:lnTo>
                <a:lnTo>
                  <a:pt x="1845" y="1063"/>
                </a:lnTo>
                <a:lnTo>
                  <a:pt x="1842" y="1031"/>
                </a:lnTo>
                <a:lnTo>
                  <a:pt x="1826" y="982"/>
                </a:lnTo>
                <a:lnTo>
                  <a:pt x="1800" y="944"/>
                </a:lnTo>
                <a:lnTo>
                  <a:pt x="1773" y="914"/>
                </a:lnTo>
                <a:lnTo>
                  <a:pt x="1753" y="882"/>
                </a:lnTo>
                <a:lnTo>
                  <a:pt x="1746" y="843"/>
                </a:lnTo>
                <a:lnTo>
                  <a:pt x="1752" y="818"/>
                </a:lnTo>
                <a:lnTo>
                  <a:pt x="1758" y="796"/>
                </a:lnTo>
                <a:lnTo>
                  <a:pt x="1770" y="770"/>
                </a:lnTo>
                <a:lnTo>
                  <a:pt x="1775" y="764"/>
                </a:lnTo>
                <a:lnTo>
                  <a:pt x="1781" y="761"/>
                </a:lnTo>
                <a:lnTo>
                  <a:pt x="1785" y="760"/>
                </a:lnTo>
                <a:lnTo>
                  <a:pt x="1790" y="760"/>
                </a:lnTo>
                <a:lnTo>
                  <a:pt x="1796" y="759"/>
                </a:lnTo>
                <a:lnTo>
                  <a:pt x="1801" y="757"/>
                </a:lnTo>
                <a:lnTo>
                  <a:pt x="1807" y="751"/>
                </a:lnTo>
                <a:lnTo>
                  <a:pt x="1814" y="742"/>
                </a:lnTo>
                <a:lnTo>
                  <a:pt x="1822" y="726"/>
                </a:lnTo>
                <a:lnTo>
                  <a:pt x="1830" y="709"/>
                </a:lnTo>
                <a:lnTo>
                  <a:pt x="1843" y="672"/>
                </a:lnTo>
                <a:lnTo>
                  <a:pt x="1864" y="604"/>
                </a:lnTo>
                <a:lnTo>
                  <a:pt x="1885" y="559"/>
                </a:lnTo>
                <a:lnTo>
                  <a:pt x="1891" y="553"/>
                </a:lnTo>
                <a:lnTo>
                  <a:pt x="1902" y="558"/>
                </a:lnTo>
                <a:lnTo>
                  <a:pt x="1936" y="570"/>
                </a:lnTo>
                <a:lnTo>
                  <a:pt x="2033" y="596"/>
                </a:lnTo>
                <a:lnTo>
                  <a:pt x="2114" y="612"/>
                </a:lnTo>
                <a:lnTo>
                  <a:pt x="2126" y="612"/>
                </a:lnTo>
                <a:lnTo>
                  <a:pt x="2100" y="589"/>
                </a:lnTo>
                <a:lnTo>
                  <a:pt x="2080" y="561"/>
                </a:lnTo>
                <a:lnTo>
                  <a:pt x="2049" y="498"/>
                </a:lnTo>
                <a:lnTo>
                  <a:pt x="2023" y="433"/>
                </a:lnTo>
                <a:lnTo>
                  <a:pt x="1993" y="378"/>
                </a:lnTo>
                <a:lnTo>
                  <a:pt x="1975" y="358"/>
                </a:lnTo>
                <a:lnTo>
                  <a:pt x="1951" y="343"/>
                </a:lnTo>
                <a:lnTo>
                  <a:pt x="1922" y="337"/>
                </a:lnTo>
                <a:lnTo>
                  <a:pt x="1888" y="339"/>
                </a:lnTo>
                <a:lnTo>
                  <a:pt x="1873" y="330"/>
                </a:lnTo>
                <a:lnTo>
                  <a:pt x="1864" y="317"/>
                </a:lnTo>
                <a:lnTo>
                  <a:pt x="1859" y="301"/>
                </a:lnTo>
                <a:lnTo>
                  <a:pt x="1858" y="282"/>
                </a:lnTo>
                <a:lnTo>
                  <a:pt x="1859" y="263"/>
                </a:lnTo>
                <a:lnTo>
                  <a:pt x="1866" y="221"/>
                </a:lnTo>
                <a:lnTo>
                  <a:pt x="1878" y="147"/>
                </a:lnTo>
                <a:lnTo>
                  <a:pt x="1876" y="132"/>
                </a:lnTo>
                <a:lnTo>
                  <a:pt x="1869" y="119"/>
                </a:lnTo>
                <a:lnTo>
                  <a:pt x="1857" y="107"/>
                </a:lnTo>
                <a:lnTo>
                  <a:pt x="1841" y="98"/>
                </a:lnTo>
                <a:lnTo>
                  <a:pt x="1821" y="91"/>
                </a:lnTo>
                <a:lnTo>
                  <a:pt x="1777" y="78"/>
                </a:lnTo>
                <a:lnTo>
                  <a:pt x="1696" y="51"/>
                </a:lnTo>
                <a:lnTo>
                  <a:pt x="1673" y="26"/>
                </a:lnTo>
                <a:lnTo>
                  <a:pt x="1733" y="20"/>
                </a:lnTo>
                <a:lnTo>
                  <a:pt x="1822" y="8"/>
                </a:lnTo>
                <a:lnTo>
                  <a:pt x="1938" y="0"/>
                </a:lnTo>
                <a:lnTo>
                  <a:pt x="2079" y="49"/>
                </a:lnTo>
                <a:lnTo>
                  <a:pt x="2133" y="73"/>
                </a:lnTo>
                <a:lnTo>
                  <a:pt x="2120" y="83"/>
                </a:lnTo>
                <a:lnTo>
                  <a:pt x="2089" y="102"/>
                </a:lnTo>
                <a:lnTo>
                  <a:pt x="2025" y="151"/>
                </a:lnTo>
                <a:lnTo>
                  <a:pt x="1970" y="208"/>
                </a:lnTo>
                <a:lnTo>
                  <a:pt x="1962" y="223"/>
                </a:lnTo>
                <a:lnTo>
                  <a:pt x="1966" y="235"/>
                </a:lnTo>
                <a:lnTo>
                  <a:pt x="1965" y="248"/>
                </a:lnTo>
                <a:lnTo>
                  <a:pt x="1960" y="262"/>
                </a:lnTo>
                <a:lnTo>
                  <a:pt x="1951" y="276"/>
                </a:lnTo>
                <a:lnTo>
                  <a:pt x="1926" y="307"/>
                </a:lnTo>
                <a:lnTo>
                  <a:pt x="1869" y="363"/>
                </a:lnTo>
                <a:lnTo>
                  <a:pt x="1846" y="385"/>
                </a:lnTo>
                <a:lnTo>
                  <a:pt x="1841" y="393"/>
                </a:lnTo>
                <a:lnTo>
                  <a:pt x="1839" y="396"/>
                </a:lnTo>
                <a:lnTo>
                  <a:pt x="1839" y="399"/>
                </a:lnTo>
                <a:lnTo>
                  <a:pt x="1839" y="400"/>
                </a:lnTo>
                <a:lnTo>
                  <a:pt x="1840" y="401"/>
                </a:lnTo>
                <a:lnTo>
                  <a:pt x="1841" y="402"/>
                </a:lnTo>
                <a:lnTo>
                  <a:pt x="1842" y="402"/>
                </a:lnTo>
                <a:lnTo>
                  <a:pt x="1844" y="403"/>
                </a:lnTo>
                <a:lnTo>
                  <a:pt x="1849" y="403"/>
                </a:lnTo>
                <a:lnTo>
                  <a:pt x="1856" y="402"/>
                </a:lnTo>
                <a:lnTo>
                  <a:pt x="1874" y="398"/>
                </a:lnTo>
                <a:lnTo>
                  <a:pt x="1933" y="379"/>
                </a:lnTo>
                <a:lnTo>
                  <a:pt x="2166" y="289"/>
                </a:lnTo>
                <a:lnTo>
                  <a:pt x="2207" y="272"/>
                </a:lnTo>
                <a:lnTo>
                  <a:pt x="2207" y="375"/>
                </a:lnTo>
                <a:lnTo>
                  <a:pt x="2209" y="1082"/>
                </a:lnTo>
                <a:lnTo>
                  <a:pt x="2212" y="3504"/>
                </a:lnTo>
                <a:lnTo>
                  <a:pt x="2214" y="5350"/>
                </a:lnTo>
                <a:lnTo>
                  <a:pt x="2215" y="5452"/>
                </a:lnTo>
                <a:lnTo>
                  <a:pt x="2214" y="5452"/>
                </a:lnTo>
                <a:lnTo>
                  <a:pt x="2212" y="5452"/>
                </a:lnTo>
                <a:lnTo>
                  <a:pt x="2207" y="5451"/>
                </a:lnTo>
                <a:lnTo>
                  <a:pt x="2191" y="5448"/>
                </a:lnTo>
                <a:lnTo>
                  <a:pt x="2138" y="5443"/>
                </a:lnTo>
                <a:lnTo>
                  <a:pt x="2068" y="5456"/>
                </a:lnTo>
                <a:lnTo>
                  <a:pt x="1998" y="5498"/>
                </a:lnTo>
                <a:lnTo>
                  <a:pt x="1943" y="5588"/>
                </a:lnTo>
                <a:lnTo>
                  <a:pt x="1917" y="5726"/>
                </a:lnTo>
                <a:lnTo>
                  <a:pt x="1915" y="5726"/>
                </a:lnTo>
                <a:lnTo>
                  <a:pt x="1902" y="5723"/>
                </a:lnTo>
                <a:lnTo>
                  <a:pt x="1858" y="5712"/>
                </a:lnTo>
                <a:lnTo>
                  <a:pt x="1825" y="5705"/>
                </a:lnTo>
                <a:lnTo>
                  <a:pt x="1824" y="5704"/>
                </a:lnTo>
                <a:lnTo>
                  <a:pt x="1829" y="5718"/>
                </a:lnTo>
                <a:lnTo>
                  <a:pt x="1848" y="5755"/>
                </a:lnTo>
                <a:lnTo>
                  <a:pt x="1863" y="5785"/>
                </a:lnTo>
                <a:lnTo>
                  <a:pt x="1864" y="5786"/>
                </a:lnTo>
                <a:lnTo>
                  <a:pt x="1862" y="5788"/>
                </a:lnTo>
                <a:lnTo>
                  <a:pt x="1855" y="5798"/>
                </a:lnTo>
                <a:lnTo>
                  <a:pt x="1827" y="5835"/>
                </a:lnTo>
                <a:lnTo>
                  <a:pt x="1806" y="5862"/>
                </a:lnTo>
                <a:lnTo>
                  <a:pt x="1805" y="5863"/>
                </a:lnTo>
                <a:lnTo>
                  <a:pt x="1797" y="5864"/>
                </a:lnTo>
                <a:lnTo>
                  <a:pt x="1782" y="5866"/>
                </a:lnTo>
                <a:lnTo>
                  <a:pt x="1754" y="5868"/>
                </a:lnTo>
                <a:lnTo>
                  <a:pt x="1728" y="5865"/>
                </a:lnTo>
                <a:lnTo>
                  <a:pt x="1722" y="5863"/>
                </a:lnTo>
                <a:lnTo>
                  <a:pt x="1710" y="5858"/>
                </a:lnTo>
                <a:lnTo>
                  <a:pt x="1699" y="5850"/>
                </a:lnTo>
                <a:lnTo>
                  <a:pt x="1691" y="5840"/>
                </a:lnTo>
                <a:lnTo>
                  <a:pt x="1677" y="5815"/>
                </a:lnTo>
                <a:lnTo>
                  <a:pt x="1666" y="5786"/>
                </a:lnTo>
                <a:lnTo>
                  <a:pt x="1651" y="5730"/>
                </a:lnTo>
                <a:lnTo>
                  <a:pt x="1648" y="5718"/>
                </a:lnTo>
                <a:lnTo>
                  <a:pt x="1642" y="5701"/>
                </a:lnTo>
                <a:lnTo>
                  <a:pt x="1636" y="5670"/>
                </a:lnTo>
                <a:lnTo>
                  <a:pt x="1628" y="5613"/>
                </a:lnTo>
                <a:lnTo>
                  <a:pt x="1617" y="5570"/>
                </a:lnTo>
                <a:lnTo>
                  <a:pt x="1611" y="5562"/>
                </a:lnTo>
                <a:lnTo>
                  <a:pt x="1604" y="5556"/>
                </a:lnTo>
                <a:lnTo>
                  <a:pt x="1590" y="5541"/>
                </a:lnTo>
                <a:lnTo>
                  <a:pt x="1553" y="5513"/>
                </a:lnTo>
                <a:lnTo>
                  <a:pt x="1504" y="5480"/>
                </a:lnTo>
                <a:lnTo>
                  <a:pt x="1490" y="5471"/>
                </a:lnTo>
                <a:lnTo>
                  <a:pt x="1473" y="5463"/>
                </a:lnTo>
                <a:lnTo>
                  <a:pt x="1434" y="5441"/>
                </a:lnTo>
                <a:lnTo>
                  <a:pt x="1342" y="5384"/>
                </a:lnTo>
                <a:lnTo>
                  <a:pt x="1255" y="5307"/>
                </a:lnTo>
                <a:lnTo>
                  <a:pt x="1238" y="5284"/>
                </a:lnTo>
                <a:lnTo>
                  <a:pt x="1221" y="5297"/>
                </a:lnTo>
                <a:lnTo>
                  <a:pt x="1192" y="5317"/>
                </a:lnTo>
                <a:lnTo>
                  <a:pt x="1137" y="5353"/>
                </a:lnTo>
                <a:lnTo>
                  <a:pt x="1073" y="5416"/>
                </a:lnTo>
                <a:lnTo>
                  <a:pt x="1052" y="5440"/>
                </a:lnTo>
                <a:lnTo>
                  <a:pt x="1034" y="5438"/>
                </a:lnTo>
                <a:lnTo>
                  <a:pt x="1006" y="5430"/>
                </a:lnTo>
                <a:lnTo>
                  <a:pt x="968" y="5409"/>
                </a:lnTo>
                <a:lnTo>
                  <a:pt x="932" y="5381"/>
                </a:lnTo>
                <a:lnTo>
                  <a:pt x="923" y="5374"/>
                </a:lnTo>
                <a:lnTo>
                  <a:pt x="913" y="5382"/>
                </a:lnTo>
                <a:lnTo>
                  <a:pt x="884" y="5406"/>
                </a:lnTo>
                <a:lnTo>
                  <a:pt x="799" y="5457"/>
                </a:lnTo>
                <a:lnTo>
                  <a:pt x="746" y="5471"/>
                </a:lnTo>
                <a:lnTo>
                  <a:pt x="688" y="5466"/>
                </a:lnTo>
                <a:lnTo>
                  <a:pt x="658" y="5455"/>
                </a:lnTo>
                <a:lnTo>
                  <a:pt x="655" y="5454"/>
                </a:lnTo>
                <a:lnTo>
                  <a:pt x="632" y="5442"/>
                </a:lnTo>
                <a:lnTo>
                  <a:pt x="556" y="5405"/>
                </a:lnTo>
                <a:lnTo>
                  <a:pt x="498" y="5376"/>
                </a:lnTo>
                <a:lnTo>
                  <a:pt x="496" y="5374"/>
                </a:lnTo>
                <a:lnTo>
                  <a:pt x="497" y="5370"/>
                </a:lnTo>
                <a:lnTo>
                  <a:pt x="509" y="5342"/>
                </a:lnTo>
                <a:lnTo>
                  <a:pt x="550" y="5243"/>
                </a:lnTo>
                <a:lnTo>
                  <a:pt x="581" y="5167"/>
                </a:lnTo>
                <a:lnTo>
                  <a:pt x="583" y="5162"/>
                </a:lnTo>
                <a:lnTo>
                  <a:pt x="582" y="5155"/>
                </a:lnTo>
                <a:lnTo>
                  <a:pt x="582" y="5139"/>
                </a:lnTo>
                <a:lnTo>
                  <a:pt x="578" y="5108"/>
                </a:lnTo>
                <a:lnTo>
                  <a:pt x="576" y="5084"/>
                </a:lnTo>
                <a:lnTo>
                  <a:pt x="576" y="5079"/>
                </a:lnTo>
                <a:lnTo>
                  <a:pt x="580" y="5074"/>
                </a:lnTo>
                <a:lnTo>
                  <a:pt x="604" y="5036"/>
                </a:lnTo>
                <a:lnTo>
                  <a:pt x="690" y="4906"/>
                </a:lnTo>
                <a:lnTo>
                  <a:pt x="754" y="4806"/>
                </a:lnTo>
                <a:lnTo>
                  <a:pt x="759" y="4800"/>
                </a:lnTo>
                <a:lnTo>
                  <a:pt x="753" y="4790"/>
                </a:lnTo>
                <a:lnTo>
                  <a:pt x="740" y="4764"/>
                </a:lnTo>
                <a:lnTo>
                  <a:pt x="708" y="4691"/>
                </a:lnTo>
                <a:lnTo>
                  <a:pt x="669" y="4623"/>
                </a:lnTo>
                <a:lnTo>
                  <a:pt x="658" y="4611"/>
                </a:lnTo>
                <a:lnTo>
                  <a:pt x="656" y="4610"/>
                </a:lnTo>
                <a:lnTo>
                  <a:pt x="648" y="4603"/>
                </a:lnTo>
                <a:lnTo>
                  <a:pt x="619" y="4577"/>
                </a:lnTo>
                <a:lnTo>
                  <a:pt x="598" y="4559"/>
                </a:lnTo>
                <a:lnTo>
                  <a:pt x="597" y="4557"/>
                </a:lnTo>
                <a:lnTo>
                  <a:pt x="603" y="4540"/>
                </a:lnTo>
                <a:lnTo>
                  <a:pt x="605" y="4526"/>
                </a:lnTo>
                <a:lnTo>
                  <a:pt x="605" y="4514"/>
                </a:lnTo>
                <a:lnTo>
                  <a:pt x="602" y="4504"/>
                </a:lnTo>
                <a:lnTo>
                  <a:pt x="596" y="4497"/>
                </a:lnTo>
                <a:lnTo>
                  <a:pt x="588" y="4491"/>
                </a:lnTo>
                <a:lnTo>
                  <a:pt x="578" y="4486"/>
                </a:lnTo>
                <a:lnTo>
                  <a:pt x="557" y="4475"/>
                </a:lnTo>
                <a:lnTo>
                  <a:pt x="533" y="4462"/>
                </a:lnTo>
                <a:lnTo>
                  <a:pt x="524" y="4453"/>
                </a:lnTo>
                <a:lnTo>
                  <a:pt x="527" y="4445"/>
                </a:lnTo>
                <a:lnTo>
                  <a:pt x="539" y="4426"/>
                </a:lnTo>
                <a:lnTo>
                  <a:pt x="568" y="4385"/>
                </a:lnTo>
                <a:lnTo>
                  <a:pt x="590" y="4345"/>
                </a:lnTo>
                <a:lnTo>
                  <a:pt x="593" y="4336"/>
                </a:lnTo>
                <a:lnTo>
                  <a:pt x="597" y="4311"/>
                </a:lnTo>
                <a:lnTo>
                  <a:pt x="597" y="4279"/>
                </a:lnTo>
                <a:lnTo>
                  <a:pt x="587" y="4207"/>
                </a:lnTo>
                <a:lnTo>
                  <a:pt x="540" y="4060"/>
                </a:lnTo>
                <a:lnTo>
                  <a:pt x="478" y="3973"/>
                </a:lnTo>
                <a:lnTo>
                  <a:pt x="472" y="3975"/>
                </a:lnTo>
                <a:lnTo>
                  <a:pt x="435" y="3987"/>
                </a:lnTo>
                <a:lnTo>
                  <a:pt x="307" y="4023"/>
                </a:lnTo>
                <a:lnTo>
                  <a:pt x="210" y="4052"/>
                </a:lnTo>
                <a:lnTo>
                  <a:pt x="205" y="4053"/>
                </a:lnTo>
                <a:lnTo>
                  <a:pt x="201" y="4046"/>
                </a:lnTo>
                <a:lnTo>
                  <a:pt x="190" y="4023"/>
                </a:lnTo>
                <a:lnTo>
                  <a:pt x="183" y="4005"/>
                </a:lnTo>
                <a:lnTo>
                  <a:pt x="183" y="4004"/>
                </a:lnTo>
                <a:lnTo>
                  <a:pt x="178" y="4001"/>
                </a:lnTo>
                <a:lnTo>
                  <a:pt x="176" y="4000"/>
                </a:lnTo>
                <a:lnTo>
                  <a:pt x="172" y="4000"/>
                </a:lnTo>
                <a:lnTo>
                  <a:pt x="163" y="3999"/>
                </a:lnTo>
                <a:lnTo>
                  <a:pt x="140" y="4001"/>
                </a:lnTo>
                <a:lnTo>
                  <a:pt x="81" y="4009"/>
                </a:lnTo>
                <a:lnTo>
                  <a:pt x="40" y="4013"/>
                </a:lnTo>
                <a:lnTo>
                  <a:pt x="44" y="4005"/>
                </a:lnTo>
                <a:lnTo>
                  <a:pt x="59" y="3979"/>
                </a:lnTo>
                <a:lnTo>
                  <a:pt x="69" y="3967"/>
                </a:lnTo>
                <a:lnTo>
                  <a:pt x="78" y="3960"/>
                </a:lnTo>
                <a:lnTo>
                  <a:pt x="83" y="3958"/>
                </a:lnTo>
                <a:lnTo>
                  <a:pt x="74" y="3955"/>
                </a:lnTo>
                <a:lnTo>
                  <a:pt x="57" y="3947"/>
                </a:lnTo>
                <a:lnTo>
                  <a:pt x="28" y="3930"/>
                </a:lnTo>
                <a:lnTo>
                  <a:pt x="5" y="3905"/>
                </a:lnTo>
                <a:lnTo>
                  <a:pt x="0" y="3897"/>
                </a:lnTo>
                <a:lnTo>
                  <a:pt x="12" y="3897"/>
                </a:lnTo>
                <a:lnTo>
                  <a:pt x="41" y="3894"/>
                </a:lnTo>
                <a:lnTo>
                  <a:pt x="99" y="3881"/>
                </a:lnTo>
                <a:lnTo>
                  <a:pt x="125" y="3870"/>
                </a:lnTo>
                <a:lnTo>
                  <a:pt x="142" y="3857"/>
                </a:lnTo>
                <a:lnTo>
                  <a:pt x="148" y="3850"/>
                </a:lnTo>
                <a:lnTo>
                  <a:pt x="137" y="3838"/>
                </a:lnTo>
                <a:lnTo>
                  <a:pt x="128" y="3824"/>
                </a:lnTo>
                <a:lnTo>
                  <a:pt x="115" y="3792"/>
                </a:lnTo>
                <a:lnTo>
                  <a:pt x="109" y="3755"/>
                </a:lnTo>
                <a:lnTo>
                  <a:pt x="102" y="3682"/>
                </a:lnTo>
                <a:lnTo>
                  <a:pt x="100" y="3647"/>
                </a:lnTo>
                <a:lnTo>
                  <a:pt x="97" y="3636"/>
                </a:lnTo>
                <a:lnTo>
                  <a:pt x="86" y="3609"/>
                </a:lnTo>
                <a:lnTo>
                  <a:pt x="58" y="3547"/>
                </a:lnTo>
                <a:lnTo>
                  <a:pt x="49" y="3517"/>
                </a:lnTo>
                <a:lnTo>
                  <a:pt x="45" y="3488"/>
                </a:lnTo>
                <a:lnTo>
                  <a:pt x="49" y="3475"/>
                </a:lnTo>
                <a:lnTo>
                  <a:pt x="57" y="3457"/>
                </a:lnTo>
                <a:lnTo>
                  <a:pt x="69" y="3445"/>
                </a:lnTo>
                <a:lnTo>
                  <a:pt x="81" y="3439"/>
                </a:lnTo>
                <a:lnTo>
                  <a:pt x="95" y="3438"/>
                </a:lnTo>
                <a:lnTo>
                  <a:pt x="110" y="3440"/>
                </a:lnTo>
                <a:lnTo>
                  <a:pt x="125" y="3445"/>
                </a:lnTo>
                <a:lnTo>
                  <a:pt x="158" y="3454"/>
                </a:lnTo>
                <a:lnTo>
                  <a:pt x="192" y="3455"/>
                </a:lnTo>
                <a:lnTo>
                  <a:pt x="228" y="3435"/>
                </a:lnTo>
                <a:lnTo>
                  <a:pt x="232" y="3439"/>
                </a:lnTo>
                <a:lnTo>
                  <a:pt x="237" y="3442"/>
                </a:lnTo>
                <a:lnTo>
                  <a:pt x="245" y="3444"/>
                </a:lnTo>
                <a:lnTo>
                  <a:pt x="254" y="3444"/>
                </a:lnTo>
                <a:lnTo>
                  <a:pt x="272" y="3442"/>
                </a:lnTo>
                <a:lnTo>
                  <a:pt x="313" y="3436"/>
                </a:lnTo>
                <a:lnTo>
                  <a:pt x="332" y="3434"/>
                </a:lnTo>
                <a:lnTo>
                  <a:pt x="339" y="3446"/>
                </a:lnTo>
                <a:lnTo>
                  <a:pt x="358" y="3460"/>
                </a:lnTo>
                <a:lnTo>
                  <a:pt x="377" y="3468"/>
                </a:lnTo>
                <a:lnTo>
                  <a:pt x="400" y="3469"/>
                </a:lnTo>
                <a:lnTo>
                  <a:pt x="428" y="3466"/>
                </a:lnTo>
                <a:lnTo>
                  <a:pt x="462" y="3461"/>
                </a:lnTo>
                <a:lnTo>
                  <a:pt x="482" y="3457"/>
                </a:lnTo>
                <a:lnTo>
                  <a:pt x="509" y="3454"/>
                </a:lnTo>
                <a:lnTo>
                  <a:pt x="539" y="3459"/>
                </a:lnTo>
                <a:lnTo>
                  <a:pt x="573" y="3470"/>
                </a:lnTo>
                <a:lnTo>
                  <a:pt x="645" y="3505"/>
                </a:lnTo>
                <a:lnTo>
                  <a:pt x="784" y="3574"/>
                </a:lnTo>
                <a:lnTo>
                  <a:pt x="856" y="3570"/>
                </a:lnTo>
                <a:lnTo>
                  <a:pt x="872" y="3561"/>
                </a:lnTo>
                <a:lnTo>
                  <a:pt x="899" y="3539"/>
                </a:lnTo>
                <a:lnTo>
                  <a:pt x="921" y="3515"/>
                </a:lnTo>
                <a:lnTo>
                  <a:pt x="954" y="3464"/>
                </a:lnTo>
                <a:lnTo>
                  <a:pt x="980" y="3432"/>
                </a:lnTo>
                <a:lnTo>
                  <a:pt x="987" y="3410"/>
                </a:lnTo>
                <a:lnTo>
                  <a:pt x="1004" y="3359"/>
                </a:lnTo>
                <a:lnTo>
                  <a:pt x="1026" y="3247"/>
                </a:lnTo>
                <a:lnTo>
                  <a:pt x="1025" y="3197"/>
                </a:lnTo>
                <a:lnTo>
                  <a:pt x="1011" y="3157"/>
                </a:lnTo>
                <a:lnTo>
                  <a:pt x="999" y="3142"/>
                </a:lnTo>
                <a:lnTo>
                  <a:pt x="969" y="3124"/>
                </a:lnTo>
                <a:lnTo>
                  <a:pt x="918" y="3103"/>
                </a:lnTo>
                <a:lnTo>
                  <a:pt x="873" y="3095"/>
                </a:lnTo>
                <a:lnTo>
                  <a:pt x="833" y="3092"/>
                </a:lnTo>
                <a:lnTo>
                  <a:pt x="794" y="3083"/>
                </a:lnTo>
                <a:lnTo>
                  <a:pt x="753" y="3058"/>
                </a:lnTo>
                <a:lnTo>
                  <a:pt x="733" y="3037"/>
                </a:lnTo>
                <a:lnTo>
                  <a:pt x="738" y="3036"/>
                </a:lnTo>
                <a:lnTo>
                  <a:pt x="745" y="3032"/>
                </a:lnTo>
                <a:lnTo>
                  <a:pt x="760" y="3020"/>
                </a:lnTo>
                <a:lnTo>
                  <a:pt x="778" y="3002"/>
                </a:lnTo>
                <a:lnTo>
                  <a:pt x="818" y="2956"/>
                </a:lnTo>
                <a:lnTo>
                  <a:pt x="840" y="2927"/>
                </a:lnTo>
                <a:lnTo>
                  <a:pt x="833" y="2923"/>
                </a:lnTo>
                <a:lnTo>
                  <a:pt x="820" y="2915"/>
                </a:lnTo>
                <a:lnTo>
                  <a:pt x="804" y="2898"/>
                </a:lnTo>
                <a:lnTo>
                  <a:pt x="790" y="2883"/>
                </a:lnTo>
                <a:lnTo>
                  <a:pt x="785" y="2879"/>
                </a:lnTo>
                <a:lnTo>
                  <a:pt x="770" y="2870"/>
                </a:lnTo>
                <a:lnTo>
                  <a:pt x="761" y="2862"/>
                </a:lnTo>
                <a:lnTo>
                  <a:pt x="755" y="2854"/>
                </a:lnTo>
                <a:lnTo>
                  <a:pt x="754" y="2846"/>
                </a:lnTo>
                <a:lnTo>
                  <a:pt x="756" y="2838"/>
                </a:lnTo>
                <a:lnTo>
                  <a:pt x="761" y="2831"/>
                </a:lnTo>
                <a:lnTo>
                  <a:pt x="766" y="2824"/>
                </a:lnTo>
                <a:lnTo>
                  <a:pt x="779" y="2812"/>
                </a:lnTo>
                <a:lnTo>
                  <a:pt x="789" y="2801"/>
                </a:lnTo>
                <a:lnTo>
                  <a:pt x="792" y="2796"/>
                </a:lnTo>
                <a:lnTo>
                  <a:pt x="792" y="2789"/>
                </a:lnTo>
                <a:lnTo>
                  <a:pt x="792" y="2779"/>
                </a:lnTo>
                <a:lnTo>
                  <a:pt x="791" y="2770"/>
                </a:lnTo>
                <a:lnTo>
                  <a:pt x="796" y="2744"/>
                </a:lnTo>
                <a:lnTo>
                  <a:pt x="818" y="2706"/>
                </a:lnTo>
                <a:lnTo>
                  <a:pt x="822" y="2676"/>
                </a:lnTo>
                <a:lnTo>
                  <a:pt x="835" y="2650"/>
                </a:lnTo>
                <a:lnTo>
                  <a:pt x="854" y="2626"/>
                </a:lnTo>
                <a:lnTo>
                  <a:pt x="879" y="2604"/>
                </a:lnTo>
                <a:lnTo>
                  <a:pt x="936" y="2565"/>
                </a:lnTo>
                <a:lnTo>
                  <a:pt x="1035" y="2492"/>
                </a:lnTo>
                <a:lnTo>
                  <a:pt x="1054" y="2449"/>
                </a:lnTo>
                <a:lnTo>
                  <a:pt x="1028" y="2451"/>
                </a:lnTo>
                <a:lnTo>
                  <a:pt x="982" y="2457"/>
                </a:lnTo>
                <a:lnTo>
                  <a:pt x="942" y="2464"/>
                </a:lnTo>
                <a:lnTo>
                  <a:pt x="909" y="2466"/>
                </a:lnTo>
                <a:lnTo>
                  <a:pt x="896" y="2460"/>
                </a:lnTo>
                <a:lnTo>
                  <a:pt x="885" y="2452"/>
                </a:lnTo>
                <a:lnTo>
                  <a:pt x="878" y="2438"/>
                </a:lnTo>
                <a:lnTo>
                  <a:pt x="872" y="2419"/>
                </a:lnTo>
                <a:lnTo>
                  <a:pt x="870" y="2391"/>
                </a:lnTo>
                <a:lnTo>
                  <a:pt x="862" y="2395"/>
                </a:lnTo>
                <a:lnTo>
                  <a:pt x="852" y="2397"/>
                </a:lnTo>
                <a:lnTo>
                  <a:pt x="829" y="2399"/>
                </a:lnTo>
                <a:lnTo>
                  <a:pt x="806" y="2397"/>
                </a:lnTo>
                <a:lnTo>
                  <a:pt x="758" y="2388"/>
                </a:lnTo>
                <a:lnTo>
                  <a:pt x="738" y="2380"/>
                </a:lnTo>
                <a:lnTo>
                  <a:pt x="773" y="2350"/>
                </a:lnTo>
                <a:lnTo>
                  <a:pt x="851" y="2267"/>
                </a:lnTo>
                <a:lnTo>
                  <a:pt x="1001" y="2051"/>
                </a:lnTo>
                <a:lnTo>
                  <a:pt x="1044" y="1941"/>
                </a:lnTo>
                <a:lnTo>
                  <a:pt x="1051" y="1892"/>
                </a:lnTo>
                <a:lnTo>
                  <a:pt x="1048" y="1847"/>
                </a:lnTo>
                <a:lnTo>
                  <a:pt x="1031" y="1808"/>
                </a:lnTo>
                <a:lnTo>
                  <a:pt x="1019" y="1791"/>
                </a:lnTo>
                <a:lnTo>
                  <a:pt x="1001" y="1762"/>
                </a:lnTo>
                <a:lnTo>
                  <a:pt x="965" y="1720"/>
                </a:lnTo>
                <a:lnTo>
                  <a:pt x="893" y="1693"/>
                </a:lnTo>
                <a:lnTo>
                  <a:pt x="866" y="1687"/>
                </a:lnTo>
                <a:lnTo>
                  <a:pt x="866" y="1686"/>
                </a:lnTo>
                <a:lnTo>
                  <a:pt x="867" y="1676"/>
                </a:lnTo>
                <a:lnTo>
                  <a:pt x="873" y="1642"/>
                </a:lnTo>
                <a:lnTo>
                  <a:pt x="878" y="1617"/>
                </a:lnTo>
                <a:lnTo>
                  <a:pt x="879" y="1615"/>
                </a:lnTo>
                <a:lnTo>
                  <a:pt x="877" y="1605"/>
                </a:lnTo>
                <a:lnTo>
                  <a:pt x="870" y="1575"/>
                </a:lnTo>
                <a:lnTo>
                  <a:pt x="866" y="1552"/>
                </a:lnTo>
                <a:lnTo>
                  <a:pt x="866" y="155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8"/>
          <p:cNvSpPr/>
          <p:nvPr/>
        </p:nvSpPr>
        <p:spPr>
          <a:xfrm>
            <a:off x="5254560" y="1432080"/>
            <a:ext cx="271440" cy="323640"/>
          </a:xfrm>
          <a:custGeom>
            <a:avLst/>
            <a:gdLst>
              <a:gd name="textAreaLeft" fmla="*/ 0 w 271440"/>
              <a:gd name="textAreaRight" fmla="*/ 271800 w 271440"/>
              <a:gd name="textAreaTop" fmla="*/ 0 h 323640"/>
              <a:gd name="textAreaBottom" fmla="*/ 324000 h 323640"/>
            </a:gdLst>
            <a:ahLst/>
            <a:rect l="textAreaLeft" t="textAreaTop" r="textAreaRight" b="textAreaBottom"/>
            <a:pathLst>
              <a:path w="342" h="408">
                <a:moveTo>
                  <a:pt x="63" y="159"/>
                </a:moveTo>
                <a:lnTo>
                  <a:pt x="76" y="147"/>
                </a:lnTo>
                <a:lnTo>
                  <a:pt x="92" y="134"/>
                </a:lnTo>
                <a:lnTo>
                  <a:pt x="96" y="131"/>
                </a:lnTo>
                <a:lnTo>
                  <a:pt x="98" y="130"/>
                </a:lnTo>
                <a:lnTo>
                  <a:pt x="100" y="130"/>
                </a:lnTo>
                <a:lnTo>
                  <a:pt x="103" y="131"/>
                </a:lnTo>
                <a:lnTo>
                  <a:pt x="107" y="135"/>
                </a:lnTo>
                <a:lnTo>
                  <a:pt x="110" y="138"/>
                </a:lnTo>
                <a:lnTo>
                  <a:pt x="125" y="144"/>
                </a:lnTo>
                <a:lnTo>
                  <a:pt x="146" y="145"/>
                </a:lnTo>
                <a:lnTo>
                  <a:pt x="150" y="127"/>
                </a:lnTo>
                <a:lnTo>
                  <a:pt x="148" y="110"/>
                </a:lnTo>
                <a:lnTo>
                  <a:pt x="140" y="95"/>
                </a:lnTo>
                <a:lnTo>
                  <a:pt x="129" y="81"/>
                </a:lnTo>
                <a:lnTo>
                  <a:pt x="113" y="69"/>
                </a:lnTo>
                <a:lnTo>
                  <a:pt x="78" y="47"/>
                </a:lnTo>
                <a:lnTo>
                  <a:pt x="41" y="29"/>
                </a:lnTo>
                <a:lnTo>
                  <a:pt x="9" y="13"/>
                </a:lnTo>
                <a:lnTo>
                  <a:pt x="0" y="4"/>
                </a:lnTo>
                <a:lnTo>
                  <a:pt x="14" y="2"/>
                </a:lnTo>
                <a:lnTo>
                  <a:pt x="53" y="0"/>
                </a:lnTo>
                <a:lnTo>
                  <a:pt x="101" y="3"/>
                </a:lnTo>
                <a:lnTo>
                  <a:pt x="192" y="29"/>
                </a:lnTo>
                <a:lnTo>
                  <a:pt x="229" y="67"/>
                </a:lnTo>
                <a:lnTo>
                  <a:pt x="240" y="87"/>
                </a:lnTo>
                <a:lnTo>
                  <a:pt x="274" y="147"/>
                </a:lnTo>
                <a:lnTo>
                  <a:pt x="339" y="299"/>
                </a:lnTo>
                <a:lnTo>
                  <a:pt x="342" y="333"/>
                </a:lnTo>
                <a:lnTo>
                  <a:pt x="337" y="364"/>
                </a:lnTo>
                <a:lnTo>
                  <a:pt x="319" y="387"/>
                </a:lnTo>
                <a:lnTo>
                  <a:pt x="289" y="403"/>
                </a:lnTo>
                <a:lnTo>
                  <a:pt x="244" y="408"/>
                </a:lnTo>
                <a:lnTo>
                  <a:pt x="246" y="400"/>
                </a:lnTo>
                <a:lnTo>
                  <a:pt x="249" y="391"/>
                </a:lnTo>
                <a:lnTo>
                  <a:pt x="248" y="380"/>
                </a:lnTo>
                <a:lnTo>
                  <a:pt x="243" y="358"/>
                </a:lnTo>
                <a:lnTo>
                  <a:pt x="236" y="334"/>
                </a:lnTo>
                <a:lnTo>
                  <a:pt x="215" y="293"/>
                </a:lnTo>
                <a:lnTo>
                  <a:pt x="211" y="284"/>
                </a:lnTo>
                <a:lnTo>
                  <a:pt x="191" y="284"/>
                </a:lnTo>
                <a:lnTo>
                  <a:pt x="155" y="281"/>
                </a:lnTo>
                <a:lnTo>
                  <a:pt x="125" y="270"/>
                </a:lnTo>
                <a:lnTo>
                  <a:pt x="101" y="253"/>
                </a:lnTo>
                <a:lnTo>
                  <a:pt x="81" y="225"/>
                </a:lnTo>
                <a:lnTo>
                  <a:pt x="67" y="186"/>
                </a:lnTo>
                <a:lnTo>
                  <a:pt x="63" y="159"/>
                </a:lnTo>
                <a:lnTo>
                  <a:pt x="75" y="148"/>
                </a:lnTo>
                <a:lnTo>
                  <a:pt x="88" y="136"/>
                </a:lnTo>
                <a:lnTo>
                  <a:pt x="81" y="142"/>
                </a:lnTo>
                <a:lnTo>
                  <a:pt x="64" y="158"/>
                </a:lnTo>
                <a:lnTo>
                  <a:pt x="63" y="15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9"/>
          <p:cNvSpPr/>
          <p:nvPr/>
        </p:nvSpPr>
        <p:spPr>
          <a:xfrm>
            <a:off x="4952880" y="1731960"/>
            <a:ext cx="270000" cy="282600"/>
          </a:xfrm>
          <a:custGeom>
            <a:avLst/>
            <a:gdLst>
              <a:gd name="textAreaLeft" fmla="*/ 0 w 270000"/>
              <a:gd name="textAreaRight" fmla="*/ 270000 w 270000"/>
              <a:gd name="textAreaTop" fmla="*/ 0 h 282600"/>
              <a:gd name="textAreaBottom" fmla="*/ 282960 h 282600"/>
            </a:gdLst>
            <a:ahLst/>
            <a:rect l="textAreaLeft" t="textAreaTop" r="textAreaRight" b="textAreaBottom"/>
            <a:pathLst>
              <a:path w="339" h="357">
                <a:moveTo>
                  <a:pt x="31" y="47"/>
                </a:moveTo>
                <a:lnTo>
                  <a:pt x="30" y="58"/>
                </a:lnTo>
                <a:lnTo>
                  <a:pt x="30" y="78"/>
                </a:lnTo>
                <a:lnTo>
                  <a:pt x="25" y="105"/>
                </a:lnTo>
                <a:lnTo>
                  <a:pt x="17" y="114"/>
                </a:lnTo>
                <a:lnTo>
                  <a:pt x="7" y="123"/>
                </a:lnTo>
                <a:lnTo>
                  <a:pt x="0" y="126"/>
                </a:lnTo>
                <a:lnTo>
                  <a:pt x="13" y="145"/>
                </a:lnTo>
                <a:lnTo>
                  <a:pt x="46" y="182"/>
                </a:lnTo>
                <a:lnTo>
                  <a:pt x="127" y="254"/>
                </a:lnTo>
                <a:lnTo>
                  <a:pt x="200" y="334"/>
                </a:lnTo>
                <a:lnTo>
                  <a:pt x="214" y="357"/>
                </a:lnTo>
                <a:lnTo>
                  <a:pt x="226" y="344"/>
                </a:lnTo>
                <a:lnTo>
                  <a:pt x="244" y="322"/>
                </a:lnTo>
                <a:lnTo>
                  <a:pt x="255" y="308"/>
                </a:lnTo>
                <a:lnTo>
                  <a:pt x="260" y="304"/>
                </a:lnTo>
                <a:lnTo>
                  <a:pt x="265" y="301"/>
                </a:lnTo>
                <a:lnTo>
                  <a:pt x="273" y="300"/>
                </a:lnTo>
                <a:lnTo>
                  <a:pt x="281" y="300"/>
                </a:lnTo>
                <a:lnTo>
                  <a:pt x="293" y="302"/>
                </a:lnTo>
                <a:lnTo>
                  <a:pt x="328" y="311"/>
                </a:lnTo>
                <a:lnTo>
                  <a:pt x="338" y="279"/>
                </a:lnTo>
                <a:lnTo>
                  <a:pt x="339" y="242"/>
                </a:lnTo>
                <a:lnTo>
                  <a:pt x="332" y="199"/>
                </a:lnTo>
                <a:lnTo>
                  <a:pt x="297" y="113"/>
                </a:lnTo>
                <a:lnTo>
                  <a:pt x="239" y="40"/>
                </a:lnTo>
                <a:lnTo>
                  <a:pt x="203" y="16"/>
                </a:lnTo>
                <a:lnTo>
                  <a:pt x="163" y="1"/>
                </a:lnTo>
                <a:lnTo>
                  <a:pt x="121" y="0"/>
                </a:lnTo>
                <a:lnTo>
                  <a:pt x="76" y="15"/>
                </a:lnTo>
                <a:lnTo>
                  <a:pt x="31" y="47"/>
                </a:lnTo>
                <a:lnTo>
                  <a:pt x="31" y="57"/>
                </a:lnTo>
                <a:lnTo>
                  <a:pt x="31" y="68"/>
                </a:lnTo>
                <a:lnTo>
                  <a:pt x="31" y="61"/>
                </a:lnTo>
                <a:lnTo>
                  <a:pt x="31" y="48"/>
                </a:lnTo>
                <a:lnTo>
                  <a:pt x="31" y="47"/>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10"/>
          <p:cNvSpPr/>
          <p:nvPr/>
        </p:nvSpPr>
        <p:spPr>
          <a:xfrm>
            <a:off x="5423040" y="5459400"/>
            <a:ext cx="501480" cy="882720"/>
          </a:xfrm>
          <a:custGeom>
            <a:avLst/>
            <a:gdLst>
              <a:gd name="textAreaLeft" fmla="*/ 0 w 501480"/>
              <a:gd name="textAreaRight" fmla="*/ 501840 w 501480"/>
              <a:gd name="textAreaTop" fmla="*/ 0 h 882720"/>
              <a:gd name="textAreaBottom" fmla="*/ 883080 h 882720"/>
            </a:gdLst>
            <a:ahLst/>
            <a:rect l="textAreaLeft" t="textAreaTop" r="textAreaRight" b="textAreaBottom"/>
            <a:pathLst>
              <a:path w="633" h="1110">
                <a:moveTo>
                  <a:pt x="633" y="17"/>
                </a:moveTo>
                <a:lnTo>
                  <a:pt x="618" y="16"/>
                </a:lnTo>
                <a:lnTo>
                  <a:pt x="588" y="11"/>
                </a:lnTo>
                <a:lnTo>
                  <a:pt x="522" y="1"/>
                </a:lnTo>
                <a:lnTo>
                  <a:pt x="462" y="0"/>
                </a:lnTo>
                <a:lnTo>
                  <a:pt x="449" y="2"/>
                </a:lnTo>
                <a:lnTo>
                  <a:pt x="451" y="4"/>
                </a:lnTo>
                <a:lnTo>
                  <a:pt x="463" y="15"/>
                </a:lnTo>
                <a:lnTo>
                  <a:pt x="508" y="56"/>
                </a:lnTo>
                <a:lnTo>
                  <a:pt x="543" y="94"/>
                </a:lnTo>
                <a:lnTo>
                  <a:pt x="545" y="99"/>
                </a:lnTo>
                <a:lnTo>
                  <a:pt x="545" y="100"/>
                </a:lnTo>
                <a:lnTo>
                  <a:pt x="545" y="104"/>
                </a:lnTo>
                <a:lnTo>
                  <a:pt x="545" y="119"/>
                </a:lnTo>
                <a:lnTo>
                  <a:pt x="545" y="130"/>
                </a:lnTo>
                <a:lnTo>
                  <a:pt x="525" y="174"/>
                </a:lnTo>
                <a:lnTo>
                  <a:pt x="491" y="203"/>
                </a:lnTo>
                <a:lnTo>
                  <a:pt x="447" y="222"/>
                </a:lnTo>
                <a:lnTo>
                  <a:pt x="395" y="232"/>
                </a:lnTo>
                <a:lnTo>
                  <a:pt x="278" y="241"/>
                </a:lnTo>
                <a:lnTo>
                  <a:pt x="159" y="252"/>
                </a:lnTo>
                <a:lnTo>
                  <a:pt x="59" y="285"/>
                </a:lnTo>
                <a:lnTo>
                  <a:pt x="0" y="364"/>
                </a:lnTo>
                <a:lnTo>
                  <a:pt x="0" y="372"/>
                </a:lnTo>
                <a:lnTo>
                  <a:pt x="0" y="391"/>
                </a:lnTo>
                <a:lnTo>
                  <a:pt x="7" y="437"/>
                </a:lnTo>
                <a:lnTo>
                  <a:pt x="25" y="479"/>
                </a:lnTo>
                <a:lnTo>
                  <a:pt x="33" y="487"/>
                </a:lnTo>
                <a:lnTo>
                  <a:pt x="42" y="484"/>
                </a:lnTo>
                <a:lnTo>
                  <a:pt x="62" y="479"/>
                </a:lnTo>
                <a:lnTo>
                  <a:pt x="86" y="477"/>
                </a:lnTo>
                <a:lnTo>
                  <a:pt x="134" y="479"/>
                </a:lnTo>
                <a:lnTo>
                  <a:pt x="165" y="487"/>
                </a:lnTo>
                <a:lnTo>
                  <a:pt x="164" y="492"/>
                </a:lnTo>
                <a:lnTo>
                  <a:pt x="162" y="496"/>
                </a:lnTo>
                <a:lnTo>
                  <a:pt x="159" y="501"/>
                </a:lnTo>
                <a:lnTo>
                  <a:pt x="151" y="512"/>
                </a:lnTo>
                <a:lnTo>
                  <a:pt x="141" y="522"/>
                </a:lnTo>
                <a:lnTo>
                  <a:pt x="130" y="530"/>
                </a:lnTo>
                <a:lnTo>
                  <a:pt x="120" y="534"/>
                </a:lnTo>
                <a:lnTo>
                  <a:pt x="116" y="534"/>
                </a:lnTo>
                <a:lnTo>
                  <a:pt x="119" y="535"/>
                </a:lnTo>
                <a:lnTo>
                  <a:pt x="128" y="537"/>
                </a:lnTo>
                <a:lnTo>
                  <a:pt x="136" y="541"/>
                </a:lnTo>
                <a:lnTo>
                  <a:pt x="152" y="548"/>
                </a:lnTo>
                <a:lnTo>
                  <a:pt x="165" y="550"/>
                </a:lnTo>
                <a:lnTo>
                  <a:pt x="165" y="559"/>
                </a:lnTo>
                <a:lnTo>
                  <a:pt x="165" y="581"/>
                </a:lnTo>
                <a:lnTo>
                  <a:pt x="179" y="629"/>
                </a:lnTo>
                <a:lnTo>
                  <a:pt x="196" y="651"/>
                </a:lnTo>
                <a:lnTo>
                  <a:pt x="223" y="667"/>
                </a:lnTo>
                <a:lnTo>
                  <a:pt x="241" y="671"/>
                </a:lnTo>
                <a:lnTo>
                  <a:pt x="241" y="672"/>
                </a:lnTo>
                <a:lnTo>
                  <a:pt x="243" y="674"/>
                </a:lnTo>
                <a:lnTo>
                  <a:pt x="244" y="675"/>
                </a:lnTo>
                <a:lnTo>
                  <a:pt x="245" y="676"/>
                </a:lnTo>
                <a:lnTo>
                  <a:pt x="250" y="682"/>
                </a:lnTo>
                <a:lnTo>
                  <a:pt x="262" y="691"/>
                </a:lnTo>
                <a:lnTo>
                  <a:pt x="271" y="700"/>
                </a:lnTo>
                <a:lnTo>
                  <a:pt x="273" y="702"/>
                </a:lnTo>
                <a:lnTo>
                  <a:pt x="274" y="704"/>
                </a:lnTo>
                <a:lnTo>
                  <a:pt x="274" y="705"/>
                </a:lnTo>
                <a:lnTo>
                  <a:pt x="273" y="706"/>
                </a:lnTo>
                <a:lnTo>
                  <a:pt x="270" y="707"/>
                </a:lnTo>
                <a:lnTo>
                  <a:pt x="268" y="707"/>
                </a:lnTo>
                <a:lnTo>
                  <a:pt x="265" y="707"/>
                </a:lnTo>
                <a:lnTo>
                  <a:pt x="253" y="706"/>
                </a:lnTo>
                <a:lnTo>
                  <a:pt x="237" y="702"/>
                </a:lnTo>
                <a:lnTo>
                  <a:pt x="218" y="699"/>
                </a:lnTo>
                <a:lnTo>
                  <a:pt x="189" y="697"/>
                </a:lnTo>
                <a:lnTo>
                  <a:pt x="179" y="699"/>
                </a:lnTo>
                <a:lnTo>
                  <a:pt x="173" y="703"/>
                </a:lnTo>
                <a:lnTo>
                  <a:pt x="171" y="705"/>
                </a:lnTo>
                <a:lnTo>
                  <a:pt x="169" y="708"/>
                </a:lnTo>
                <a:lnTo>
                  <a:pt x="169" y="711"/>
                </a:lnTo>
                <a:lnTo>
                  <a:pt x="169" y="715"/>
                </a:lnTo>
                <a:lnTo>
                  <a:pt x="171" y="718"/>
                </a:lnTo>
                <a:lnTo>
                  <a:pt x="173" y="723"/>
                </a:lnTo>
                <a:lnTo>
                  <a:pt x="179" y="732"/>
                </a:lnTo>
                <a:lnTo>
                  <a:pt x="191" y="743"/>
                </a:lnTo>
                <a:lnTo>
                  <a:pt x="226" y="767"/>
                </a:lnTo>
                <a:lnTo>
                  <a:pt x="244" y="778"/>
                </a:lnTo>
                <a:lnTo>
                  <a:pt x="252" y="785"/>
                </a:lnTo>
                <a:lnTo>
                  <a:pt x="254" y="789"/>
                </a:lnTo>
                <a:lnTo>
                  <a:pt x="255" y="790"/>
                </a:lnTo>
                <a:lnTo>
                  <a:pt x="255" y="791"/>
                </a:lnTo>
                <a:lnTo>
                  <a:pt x="254" y="792"/>
                </a:lnTo>
                <a:lnTo>
                  <a:pt x="252" y="792"/>
                </a:lnTo>
                <a:lnTo>
                  <a:pt x="251" y="792"/>
                </a:lnTo>
                <a:lnTo>
                  <a:pt x="247" y="792"/>
                </a:lnTo>
                <a:lnTo>
                  <a:pt x="237" y="791"/>
                </a:lnTo>
                <a:lnTo>
                  <a:pt x="212" y="785"/>
                </a:lnTo>
                <a:lnTo>
                  <a:pt x="189" y="780"/>
                </a:lnTo>
                <a:lnTo>
                  <a:pt x="180" y="780"/>
                </a:lnTo>
                <a:lnTo>
                  <a:pt x="177" y="780"/>
                </a:lnTo>
                <a:lnTo>
                  <a:pt x="176" y="780"/>
                </a:lnTo>
                <a:lnTo>
                  <a:pt x="175" y="781"/>
                </a:lnTo>
                <a:lnTo>
                  <a:pt x="174" y="784"/>
                </a:lnTo>
                <a:lnTo>
                  <a:pt x="174" y="788"/>
                </a:lnTo>
                <a:lnTo>
                  <a:pt x="174" y="791"/>
                </a:lnTo>
                <a:lnTo>
                  <a:pt x="175" y="794"/>
                </a:lnTo>
                <a:lnTo>
                  <a:pt x="179" y="801"/>
                </a:lnTo>
                <a:lnTo>
                  <a:pt x="184" y="812"/>
                </a:lnTo>
                <a:lnTo>
                  <a:pt x="184" y="815"/>
                </a:lnTo>
                <a:lnTo>
                  <a:pt x="186" y="816"/>
                </a:lnTo>
                <a:lnTo>
                  <a:pt x="203" y="817"/>
                </a:lnTo>
                <a:lnTo>
                  <a:pt x="262" y="821"/>
                </a:lnTo>
                <a:lnTo>
                  <a:pt x="307" y="824"/>
                </a:lnTo>
                <a:lnTo>
                  <a:pt x="310" y="824"/>
                </a:lnTo>
                <a:lnTo>
                  <a:pt x="309" y="831"/>
                </a:lnTo>
                <a:lnTo>
                  <a:pt x="308" y="853"/>
                </a:lnTo>
                <a:lnTo>
                  <a:pt x="305" y="906"/>
                </a:lnTo>
                <a:lnTo>
                  <a:pt x="311" y="953"/>
                </a:lnTo>
                <a:lnTo>
                  <a:pt x="317" y="960"/>
                </a:lnTo>
                <a:lnTo>
                  <a:pt x="321" y="965"/>
                </a:lnTo>
                <a:lnTo>
                  <a:pt x="326" y="968"/>
                </a:lnTo>
                <a:lnTo>
                  <a:pt x="333" y="969"/>
                </a:lnTo>
                <a:lnTo>
                  <a:pt x="338" y="968"/>
                </a:lnTo>
                <a:lnTo>
                  <a:pt x="344" y="967"/>
                </a:lnTo>
                <a:lnTo>
                  <a:pt x="356" y="963"/>
                </a:lnTo>
                <a:lnTo>
                  <a:pt x="368" y="960"/>
                </a:lnTo>
                <a:lnTo>
                  <a:pt x="372" y="959"/>
                </a:lnTo>
                <a:lnTo>
                  <a:pt x="378" y="961"/>
                </a:lnTo>
                <a:lnTo>
                  <a:pt x="382" y="963"/>
                </a:lnTo>
                <a:lnTo>
                  <a:pt x="383" y="963"/>
                </a:lnTo>
                <a:lnTo>
                  <a:pt x="382" y="965"/>
                </a:lnTo>
                <a:lnTo>
                  <a:pt x="380" y="966"/>
                </a:lnTo>
                <a:lnTo>
                  <a:pt x="374" y="971"/>
                </a:lnTo>
                <a:lnTo>
                  <a:pt x="360" y="984"/>
                </a:lnTo>
                <a:lnTo>
                  <a:pt x="347" y="1000"/>
                </a:lnTo>
                <a:lnTo>
                  <a:pt x="342" y="1010"/>
                </a:lnTo>
                <a:lnTo>
                  <a:pt x="340" y="1018"/>
                </a:lnTo>
                <a:lnTo>
                  <a:pt x="341" y="1025"/>
                </a:lnTo>
                <a:lnTo>
                  <a:pt x="343" y="1029"/>
                </a:lnTo>
                <a:lnTo>
                  <a:pt x="347" y="1032"/>
                </a:lnTo>
                <a:lnTo>
                  <a:pt x="352" y="1034"/>
                </a:lnTo>
                <a:lnTo>
                  <a:pt x="363" y="1038"/>
                </a:lnTo>
                <a:lnTo>
                  <a:pt x="373" y="1037"/>
                </a:lnTo>
                <a:lnTo>
                  <a:pt x="385" y="1034"/>
                </a:lnTo>
                <a:lnTo>
                  <a:pt x="397" y="1028"/>
                </a:lnTo>
                <a:lnTo>
                  <a:pt x="419" y="1012"/>
                </a:lnTo>
                <a:lnTo>
                  <a:pt x="454" y="984"/>
                </a:lnTo>
                <a:lnTo>
                  <a:pt x="462" y="984"/>
                </a:lnTo>
                <a:lnTo>
                  <a:pt x="467" y="985"/>
                </a:lnTo>
                <a:lnTo>
                  <a:pt x="482" y="985"/>
                </a:lnTo>
                <a:lnTo>
                  <a:pt x="518" y="988"/>
                </a:lnTo>
                <a:lnTo>
                  <a:pt x="534" y="991"/>
                </a:lnTo>
                <a:lnTo>
                  <a:pt x="540" y="994"/>
                </a:lnTo>
                <a:lnTo>
                  <a:pt x="543" y="997"/>
                </a:lnTo>
                <a:lnTo>
                  <a:pt x="545" y="1000"/>
                </a:lnTo>
                <a:lnTo>
                  <a:pt x="542" y="1002"/>
                </a:lnTo>
                <a:lnTo>
                  <a:pt x="525" y="1014"/>
                </a:lnTo>
                <a:lnTo>
                  <a:pt x="463" y="1050"/>
                </a:lnTo>
                <a:lnTo>
                  <a:pt x="417" y="1079"/>
                </a:lnTo>
                <a:lnTo>
                  <a:pt x="415" y="1080"/>
                </a:lnTo>
                <a:lnTo>
                  <a:pt x="415" y="1082"/>
                </a:lnTo>
                <a:lnTo>
                  <a:pt x="416" y="1085"/>
                </a:lnTo>
                <a:lnTo>
                  <a:pt x="417" y="1087"/>
                </a:lnTo>
                <a:lnTo>
                  <a:pt x="422" y="1093"/>
                </a:lnTo>
                <a:lnTo>
                  <a:pt x="428" y="1099"/>
                </a:lnTo>
                <a:lnTo>
                  <a:pt x="434" y="1103"/>
                </a:lnTo>
                <a:lnTo>
                  <a:pt x="443" y="1105"/>
                </a:lnTo>
                <a:lnTo>
                  <a:pt x="447" y="1105"/>
                </a:lnTo>
                <a:lnTo>
                  <a:pt x="451" y="1106"/>
                </a:lnTo>
                <a:lnTo>
                  <a:pt x="454" y="1106"/>
                </a:lnTo>
                <a:lnTo>
                  <a:pt x="461" y="1109"/>
                </a:lnTo>
                <a:lnTo>
                  <a:pt x="468" y="1110"/>
                </a:lnTo>
                <a:lnTo>
                  <a:pt x="476" y="1109"/>
                </a:lnTo>
                <a:lnTo>
                  <a:pt x="487" y="1102"/>
                </a:lnTo>
                <a:lnTo>
                  <a:pt x="502" y="1087"/>
                </a:lnTo>
                <a:lnTo>
                  <a:pt x="508" y="1080"/>
                </a:lnTo>
                <a:lnTo>
                  <a:pt x="515" y="1075"/>
                </a:lnTo>
                <a:lnTo>
                  <a:pt x="520" y="1073"/>
                </a:lnTo>
                <a:lnTo>
                  <a:pt x="525" y="1073"/>
                </a:lnTo>
                <a:lnTo>
                  <a:pt x="529" y="1075"/>
                </a:lnTo>
                <a:lnTo>
                  <a:pt x="532" y="1078"/>
                </a:lnTo>
                <a:lnTo>
                  <a:pt x="535" y="1082"/>
                </a:lnTo>
                <a:lnTo>
                  <a:pt x="543" y="1090"/>
                </a:lnTo>
                <a:lnTo>
                  <a:pt x="547" y="1093"/>
                </a:lnTo>
                <a:lnTo>
                  <a:pt x="552" y="1096"/>
                </a:lnTo>
                <a:lnTo>
                  <a:pt x="559" y="1096"/>
                </a:lnTo>
                <a:lnTo>
                  <a:pt x="565" y="1095"/>
                </a:lnTo>
                <a:lnTo>
                  <a:pt x="573" y="1092"/>
                </a:lnTo>
                <a:lnTo>
                  <a:pt x="580" y="1086"/>
                </a:lnTo>
                <a:lnTo>
                  <a:pt x="594" y="1072"/>
                </a:lnTo>
                <a:lnTo>
                  <a:pt x="607" y="1056"/>
                </a:lnTo>
                <a:lnTo>
                  <a:pt x="624" y="1033"/>
                </a:lnTo>
                <a:lnTo>
                  <a:pt x="626" y="1031"/>
                </a:lnTo>
                <a:lnTo>
                  <a:pt x="626" y="1012"/>
                </a:lnTo>
                <a:lnTo>
                  <a:pt x="626" y="873"/>
                </a:lnTo>
                <a:lnTo>
                  <a:pt x="630" y="399"/>
                </a:lnTo>
                <a:lnTo>
                  <a:pt x="632" y="38"/>
                </a:lnTo>
                <a:lnTo>
                  <a:pt x="633"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1"/>
          <p:cNvSpPr/>
          <p:nvPr/>
        </p:nvSpPr>
        <p:spPr>
          <a:xfrm>
            <a:off x="5423040" y="5459400"/>
            <a:ext cx="501480" cy="882720"/>
          </a:xfrm>
          <a:custGeom>
            <a:avLst/>
            <a:gdLst>
              <a:gd name="textAreaLeft" fmla="*/ 0 w 501480"/>
              <a:gd name="textAreaRight" fmla="*/ 501840 w 501480"/>
              <a:gd name="textAreaTop" fmla="*/ 0 h 882720"/>
              <a:gd name="textAreaBottom" fmla="*/ 883080 h 882720"/>
            </a:gdLst>
            <a:ahLst/>
            <a:rect l="textAreaLeft" t="textAreaTop" r="textAreaRight" b="textAreaBottom"/>
            <a:pathLst>
              <a:path w="633" h="1110">
                <a:moveTo>
                  <a:pt x="633" y="17"/>
                </a:moveTo>
                <a:lnTo>
                  <a:pt x="618" y="16"/>
                </a:lnTo>
                <a:lnTo>
                  <a:pt x="588" y="11"/>
                </a:lnTo>
                <a:lnTo>
                  <a:pt x="522" y="1"/>
                </a:lnTo>
                <a:lnTo>
                  <a:pt x="462" y="0"/>
                </a:lnTo>
                <a:lnTo>
                  <a:pt x="449" y="2"/>
                </a:lnTo>
                <a:lnTo>
                  <a:pt x="451" y="4"/>
                </a:lnTo>
                <a:lnTo>
                  <a:pt x="463" y="15"/>
                </a:lnTo>
                <a:lnTo>
                  <a:pt x="508" y="56"/>
                </a:lnTo>
                <a:lnTo>
                  <a:pt x="543" y="94"/>
                </a:lnTo>
                <a:lnTo>
                  <a:pt x="545" y="99"/>
                </a:lnTo>
                <a:lnTo>
                  <a:pt x="545" y="100"/>
                </a:lnTo>
                <a:lnTo>
                  <a:pt x="545" y="104"/>
                </a:lnTo>
                <a:lnTo>
                  <a:pt x="545" y="119"/>
                </a:lnTo>
                <a:lnTo>
                  <a:pt x="545" y="130"/>
                </a:lnTo>
                <a:lnTo>
                  <a:pt x="525" y="174"/>
                </a:lnTo>
                <a:lnTo>
                  <a:pt x="491" y="203"/>
                </a:lnTo>
                <a:lnTo>
                  <a:pt x="447" y="222"/>
                </a:lnTo>
                <a:lnTo>
                  <a:pt x="395" y="232"/>
                </a:lnTo>
                <a:lnTo>
                  <a:pt x="278" y="241"/>
                </a:lnTo>
                <a:lnTo>
                  <a:pt x="159" y="252"/>
                </a:lnTo>
                <a:lnTo>
                  <a:pt x="59" y="285"/>
                </a:lnTo>
                <a:lnTo>
                  <a:pt x="0" y="364"/>
                </a:lnTo>
                <a:lnTo>
                  <a:pt x="0" y="372"/>
                </a:lnTo>
                <a:lnTo>
                  <a:pt x="0" y="391"/>
                </a:lnTo>
                <a:lnTo>
                  <a:pt x="7" y="437"/>
                </a:lnTo>
                <a:lnTo>
                  <a:pt x="25" y="479"/>
                </a:lnTo>
                <a:lnTo>
                  <a:pt x="33" y="487"/>
                </a:lnTo>
                <a:lnTo>
                  <a:pt x="42" y="484"/>
                </a:lnTo>
                <a:lnTo>
                  <a:pt x="62" y="479"/>
                </a:lnTo>
                <a:lnTo>
                  <a:pt x="86" y="477"/>
                </a:lnTo>
                <a:lnTo>
                  <a:pt x="134" y="479"/>
                </a:lnTo>
                <a:lnTo>
                  <a:pt x="165" y="487"/>
                </a:lnTo>
                <a:lnTo>
                  <a:pt x="164" y="492"/>
                </a:lnTo>
                <a:lnTo>
                  <a:pt x="162" y="496"/>
                </a:lnTo>
                <a:lnTo>
                  <a:pt x="159" y="501"/>
                </a:lnTo>
                <a:lnTo>
                  <a:pt x="151" y="512"/>
                </a:lnTo>
                <a:lnTo>
                  <a:pt x="141" y="522"/>
                </a:lnTo>
                <a:lnTo>
                  <a:pt x="130" y="530"/>
                </a:lnTo>
                <a:lnTo>
                  <a:pt x="120" y="534"/>
                </a:lnTo>
                <a:lnTo>
                  <a:pt x="116" y="534"/>
                </a:lnTo>
                <a:lnTo>
                  <a:pt x="119" y="535"/>
                </a:lnTo>
                <a:lnTo>
                  <a:pt x="128" y="537"/>
                </a:lnTo>
                <a:lnTo>
                  <a:pt x="136" y="541"/>
                </a:lnTo>
                <a:lnTo>
                  <a:pt x="152" y="548"/>
                </a:lnTo>
                <a:lnTo>
                  <a:pt x="165" y="550"/>
                </a:lnTo>
                <a:lnTo>
                  <a:pt x="165" y="559"/>
                </a:lnTo>
                <a:lnTo>
                  <a:pt x="165" y="581"/>
                </a:lnTo>
                <a:lnTo>
                  <a:pt x="179" y="629"/>
                </a:lnTo>
                <a:lnTo>
                  <a:pt x="196" y="651"/>
                </a:lnTo>
                <a:lnTo>
                  <a:pt x="223" y="667"/>
                </a:lnTo>
                <a:lnTo>
                  <a:pt x="241" y="671"/>
                </a:lnTo>
                <a:lnTo>
                  <a:pt x="241" y="672"/>
                </a:lnTo>
                <a:lnTo>
                  <a:pt x="243" y="674"/>
                </a:lnTo>
                <a:lnTo>
                  <a:pt x="244" y="675"/>
                </a:lnTo>
                <a:lnTo>
                  <a:pt x="245" y="676"/>
                </a:lnTo>
                <a:lnTo>
                  <a:pt x="250" y="682"/>
                </a:lnTo>
                <a:lnTo>
                  <a:pt x="262" y="691"/>
                </a:lnTo>
                <a:lnTo>
                  <a:pt x="271" y="700"/>
                </a:lnTo>
                <a:lnTo>
                  <a:pt x="273" y="702"/>
                </a:lnTo>
                <a:lnTo>
                  <a:pt x="274" y="704"/>
                </a:lnTo>
                <a:lnTo>
                  <a:pt x="274" y="705"/>
                </a:lnTo>
                <a:lnTo>
                  <a:pt x="273" y="706"/>
                </a:lnTo>
                <a:lnTo>
                  <a:pt x="270" y="707"/>
                </a:lnTo>
                <a:lnTo>
                  <a:pt x="268" y="707"/>
                </a:lnTo>
                <a:lnTo>
                  <a:pt x="265" y="707"/>
                </a:lnTo>
                <a:lnTo>
                  <a:pt x="253" y="706"/>
                </a:lnTo>
                <a:lnTo>
                  <a:pt x="237" y="702"/>
                </a:lnTo>
                <a:lnTo>
                  <a:pt x="218" y="699"/>
                </a:lnTo>
                <a:lnTo>
                  <a:pt x="189" y="697"/>
                </a:lnTo>
                <a:lnTo>
                  <a:pt x="179" y="699"/>
                </a:lnTo>
                <a:lnTo>
                  <a:pt x="173" y="703"/>
                </a:lnTo>
                <a:lnTo>
                  <a:pt x="171" y="705"/>
                </a:lnTo>
                <a:lnTo>
                  <a:pt x="169" y="708"/>
                </a:lnTo>
                <a:lnTo>
                  <a:pt x="169" y="711"/>
                </a:lnTo>
                <a:lnTo>
                  <a:pt x="169" y="715"/>
                </a:lnTo>
                <a:lnTo>
                  <a:pt x="171" y="718"/>
                </a:lnTo>
                <a:lnTo>
                  <a:pt x="173" y="723"/>
                </a:lnTo>
                <a:lnTo>
                  <a:pt x="179" y="732"/>
                </a:lnTo>
                <a:lnTo>
                  <a:pt x="191" y="743"/>
                </a:lnTo>
                <a:lnTo>
                  <a:pt x="226" y="767"/>
                </a:lnTo>
                <a:lnTo>
                  <a:pt x="244" y="778"/>
                </a:lnTo>
                <a:lnTo>
                  <a:pt x="252" y="785"/>
                </a:lnTo>
                <a:lnTo>
                  <a:pt x="254" y="789"/>
                </a:lnTo>
                <a:lnTo>
                  <a:pt x="255" y="790"/>
                </a:lnTo>
                <a:lnTo>
                  <a:pt x="255" y="791"/>
                </a:lnTo>
                <a:lnTo>
                  <a:pt x="254" y="792"/>
                </a:lnTo>
                <a:lnTo>
                  <a:pt x="252" y="792"/>
                </a:lnTo>
                <a:lnTo>
                  <a:pt x="251" y="792"/>
                </a:lnTo>
                <a:lnTo>
                  <a:pt x="247" y="792"/>
                </a:lnTo>
                <a:lnTo>
                  <a:pt x="237" y="791"/>
                </a:lnTo>
                <a:lnTo>
                  <a:pt x="212" y="785"/>
                </a:lnTo>
                <a:lnTo>
                  <a:pt x="189" y="780"/>
                </a:lnTo>
                <a:lnTo>
                  <a:pt x="180" y="780"/>
                </a:lnTo>
                <a:lnTo>
                  <a:pt x="177" y="780"/>
                </a:lnTo>
                <a:lnTo>
                  <a:pt x="176" y="780"/>
                </a:lnTo>
                <a:lnTo>
                  <a:pt x="175" y="781"/>
                </a:lnTo>
                <a:lnTo>
                  <a:pt x="174" y="784"/>
                </a:lnTo>
                <a:lnTo>
                  <a:pt x="174" y="788"/>
                </a:lnTo>
                <a:lnTo>
                  <a:pt x="174" y="791"/>
                </a:lnTo>
                <a:lnTo>
                  <a:pt x="175" y="794"/>
                </a:lnTo>
                <a:lnTo>
                  <a:pt x="179" y="801"/>
                </a:lnTo>
                <a:lnTo>
                  <a:pt x="184" y="812"/>
                </a:lnTo>
                <a:lnTo>
                  <a:pt x="184" y="815"/>
                </a:lnTo>
                <a:lnTo>
                  <a:pt x="186" y="816"/>
                </a:lnTo>
                <a:lnTo>
                  <a:pt x="203" y="817"/>
                </a:lnTo>
                <a:lnTo>
                  <a:pt x="262" y="821"/>
                </a:lnTo>
                <a:lnTo>
                  <a:pt x="307" y="824"/>
                </a:lnTo>
                <a:lnTo>
                  <a:pt x="310" y="824"/>
                </a:lnTo>
                <a:lnTo>
                  <a:pt x="309" y="831"/>
                </a:lnTo>
                <a:lnTo>
                  <a:pt x="308" y="853"/>
                </a:lnTo>
                <a:lnTo>
                  <a:pt x="305" y="906"/>
                </a:lnTo>
                <a:lnTo>
                  <a:pt x="311" y="953"/>
                </a:lnTo>
                <a:lnTo>
                  <a:pt x="317" y="960"/>
                </a:lnTo>
                <a:lnTo>
                  <a:pt x="321" y="965"/>
                </a:lnTo>
                <a:lnTo>
                  <a:pt x="326" y="968"/>
                </a:lnTo>
                <a:lnTo>
                  <a:pt x="333" y="969"/>
                </a:lnTo>
                <a:lnTo>
                  <a:pt x="338" y="968"/>
                </a:lnTo>
                <a:lnTo>
                  <a:pt x="344" y="967"/>
                </a:lnTo>
                <a:lnTo>
                  <a:pt x="356" y="963"/>
                </a:lnTo>
                <a:lnTo>
                  <a:pt x="368" y="960"/>
                </a:lnTo>
                <a:lnTo>
                  <a:pt x="372" y="959"/>
                </a:lnTo>
                <a:lnTo>
                  <a:pt x="378" y="961"/>
                </a:lnTo>
                <a:lnTo>
                  <a:pt x="382" y="963"/>
                </a:lnTo>
                <a:lnTo>
                  <a:pt x="383" y="963"/>
                </a:lnTo>
                <a:lnTo>
                  <a:pt x="382" y="965"/>
                </a:lnTo>
                <a:lnTo>
                  <a:pt x="380" y="966"/>
                </a:lnTo>
                <a:lnTo>
                  <a:pt x="374" y="971"/>
                </a:lnTo>
                <a:lnTo>
                  <a:pt x="360" y="984"/>
                </a:lnTo>
                <a:lnTo>
                  <a:pt x="347" y="1000"/>
                </a:lnTo>
                <a:lnTo>
                  <a:pt x="342" y="1010"/>
                </a:lnTo>
                <a:lnTo>
                  <a:pt x="340" y="1018"/>
                </a:lnTo>
                <a:lnTo>
                  <a:pt x="341" y="1025"/>
                </a:lnTo>
                <a:lnTo>
                  <a:pt x="343" y="1029"/>
                </a:lnTo>
                <a:lnTo>
                  <a:pt x="347" y="1032"/>
                </a:lnTo>
                <a:lnTo>
                  <a:pt x="352" y="1034"/>
                </a:lnTo>
                <a:lnTo>
                  <a:pt x="363" y="1038"/>
                </a:lnTo>
                <a:lnTo>
                  <a:pt x="373" y="1037"/>
                </a:lnTo>
                <a:lnTo>
                  <a:pt x="385" y="1034"/>
                </a:lnTo>
                <a:lnTo>
                  <a:pt x="397" y="1028"/>
                </a:lnTo>
                <a:lnTo>
                  <a:pt x="419" y="1012"/>
                </a:lnTo>
                <a:lnTo>
                  <a:pt x="454" y="984"/>
                </a:lnTo>
                <a:lnTo>
                  <a:pt x="462" y="984"/>
                </a:lnTo>
                <a:lnTo>
                  <a:pt x="467" y="985"/>
                </a:lnTo>
                <a:lnTo>
                  <a:pt x="482" y="985"/>
                </a:lnTo>
                <a:lnTo>
                  <a:pt x="518" y="988"/>
                </a:lnTo>
                <a:lnTo>
                  <a:pt x="534" y="991"/>
                </a:lnTo>
                <a:lnTo>
                  <a:pt x="540" y="994"/>
                </a:lnTo>
                <a:lnTo>
                  <a:pt x="543" y="997"/>
                </a:lnTo>
                <a:lnTo>
                  <a:pt x="545" y="1000"/>
                </a:lnTo>
                <a:lnTo>
                  <a:pt x="542" y="1002"/>
                </a:lnTo>
                <a:lnTo>
                  <a:pt x="525" y="1014"/>
                </a:lnTo>
                <a:lnTo>
                  <a:pt x="463" y="1050"/>
                </a:lnTo>
                <a:lnTo>
                  <a:pt x="417" y="1079"/>
                </a:lnTo>
                <a:lnTo>
                  <a:pt x="415" y="1080"/>
                </a:lnTo>
                <a:lnTo>
                  <a:pt x="415" y="1082"/>
                </a:lnTo>
                <a:lnTo>
                  <a:pt x="416" y="1085"/>
                </a:lnTo>
                <a:lnTo>
                  <a:pt x="417" y="1087"/>
                </a:lnTo>
                <a:lnTo>
                  <a:pt x="422" y="1093"/>
                </a:lnTo>
                <a:lnTo>
                  <a:pt x="428" y="1099"/>
                </a:lnTo>
                <a:lnTo>
                  <a:pt x="434" y="1103"/>
                </a:lnTo>
                <a:lnTo>
                  <a:pt x="443" y="1105"/>
                </a:lnTo>
                <a:lnTo>
                  <a:pt x="447" y="1105"/>
                </a:lnTo>
                <a:lnTo>
                  <a:pt x="451" y="1106"/>
                </a:lnTo>
                <a:lnTo>
                  <a:pt x="454" y="1106"/>
                </a:lnTo>
                <a:lnTo>
                  <a:pt x="461" y="1109"/>
                </a:lnTo>
                <a:lnTo>
                  <a:pt x="468" y="1110"/>
                </a:lnTo>
                <a:lnTo>
                  <a:pt x="476" y="1109"/>
                </a:lnTo>
                <a:lnTo>
                  <a:pt x="487" y="1102"/>
                </a:lnTo>
                <a:lnTo>
                  <a:pt x="502" y="1087"/>
                </a:lnTo>
                <a:lnTo>
                  <a:pt x="508" y="1080"/>
                </a:lnTo>
                <a:lnTo>
                  <a:pt x="515" y="1075"/>
                </a:lnTo>
                <a:lnTo>
                  <a:pt x="520" y="1073"/>
                </a:lnTo>
                <a:lnTo>
                  <a:pt x="525" y="1073"/>
                </a:lnTo>
                <a:lnTo>
                  <a:pt x="529" y="1075"/>
                </a:lnTo>
                <a:lnTo>
                  <a:pt x="532" y="1078"/>
                </a:lnTo>
                <a:lnTo>
                  <a:pt x="535" y="1082"/>
                </a:lnTo>
                <a:lnTo>
                  <a:pt x="543" y="1090"/>
                </a:lnTo>
                <a:lnTo>
                  <a:pt x="547" y="1093"/>
                </a:lnTo>
                <a:lnTo>
                  <a:pt x="552" y="1096"/>
                </a:lnTo>
                <a:lnTo>
                  <a:pt x="559" y="1096"/>
                </a:lnTo>
                <a:lnTo>
                  <a:pt x="565" y="1095"/>
                </a:lnTo>
                <a:lnTo>
                  <a:pt x="573" y="1092"/>
                </a:lnTo>
                <a:lnTo>
                  <a:pt x="580" y="1086"/>
                </a:lnTo>
                <a:lnTo>
                  <a:pt x="594" y="1072"/>
                </a:lnTo>
                <a:lnTo>
                  <a:pt x="607" y="1056"/>
                </a:lnTo>
                <a:lnTo>
                  <a:pt x="624" y="1033"/>
                </a:lnTo>
                <a:lnTo>
                  <a:pt x="626" y="1031"/>
                </a:lnTo>
                <a:lnTo>
                  <a:pt x="626" y="1012"/>
                </a:lnTo>
                <a:lnTo>
                  <a:pt x="626" y="873"/>
                </a:lnTo>
                <a:lnTo>
                  <a:pt x="630" y="399"/>
                </a:lnTo>
                <a:lnTo>
                  <a:pt x="632" y="38"/>
                </a:lnTo>
                <a:lnTo>
                  <a:pt x="633" y="17"/>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12"/>
          <p:cNvSpPr/>
          <p:nvPr/>
        </p:nvSpPr>
        <p:spPr>
          <a:xfrm>
            <a:off x="216000" y="471600"/>
            <a:ext cx="882720" cy="685800"/>
          </a:xfrm>
          <a:custGeom>
            <a:avLst/>
            <a:gdLst>
              <a:gd name="textAreaLeft" fmla="*/ 0 w 882720"/>
              <a:gd name="textAreaRight" fmla="*/ 883080 w 882720"/>
              <a:gd name="textAreaTop" fmla="*/ 0 h 685800"/>
              <a:gd name="textAreaBottom" fmla="*/ 686160 h 685800"/>
            </a:gdLst>
            <a:ahLst/>
            <a:rect l="textAreaLeft" t="textAreaTop" r="textAreaRight" b="textAreaBottom"/>
            <a:pathLst>
              <a:path w="1113" h="864">
                <a:moveTo>
                  <a:pt x="74" y="133"/>
                </a:moveTo>
                <a:lnTo>
                  <a:pt x="83" y="125"/>
                </a:lnTo>
                <a:lnTo>
                  <a:pt x="104" y="107"/>
                </a:lnTo>
                <a:lnTo>
                  <a:pt x="159" y="66"/>
                </a:lnTo>
                <a:lnTo>
                  <a:pt x="216" y="34"/>
                </a:lnTo>
                <a:lnTo>
                  <a:pt x="229" y="29"/>
                </a:lnTo>
                <a:lnTo>
                  <a:pt x="243" y="44"/>
                </a:lnTo>
                <a:lnTo>
                  <a:pt x="263" y="64"/>
                </a:lnTo>
                <a:lnTo>
                  <a:pt x="269" y="70"/>
                </a:lnTo>
                <a:lnTo>
                  <a:pt x="274" y="73"/>
                </a:lnTo>
                <a:lnTo>
                  <a:pt x="275" y="73"/>
                </a:lnTo>
                <a:lnTo>
                  <a:pt x="276" y="73"/>
                </a:lnTo>
                <a:lnTo>
                  <a:pt x="277" y="72"/>
                </a:lnTo>
                <a:lnTo>
                  <a:pt x="278" y="70"/>
                </a:lnTo>
                <a:lnTo>
                  <a:pt x="278" y="69"/>
                </a:lnTo>
                <a:lnTo>
                  <a:pt x="278" y="66"/>
                </a:lnTo>
                <a:lnTo>
                  <a:pt x="279" y="57"/>
                </a:lnTo>
                <a:lnTo>
                  <a:pt x="280" y="29"/>
                </a:lnTo>
                <a:lnTo>
                  <a:pt x="282" y="0"/>
                </a:lnTo>
                <a:lnTo>
                  <a:pt x="302" y="3"/>
                </a:lnTo>
                <a:lnTo>
                  <a:pt x="319" y="9"/>
                </a:lnTo>
                <a:lnTo>
                  <a:pt x="335" y="19"/>
                </a:lnTo>
                <a:lnTo>
                  <a:pt x="349" y="33"/>
                </a:lnTo>
                <a:lnTo>
                  <a:pt x="361" y="49"/>
                </a:lnTo>
                <a:lnTo>
                  <a:pt x="380" y="86"/>
                </a:lnTo>
                <a:lnTo>
                  <a:pt x="392" y="124"/>
                </a:lnTo>
                <a:lnTo>
                  <a:pt x="398" y="161"/>
                </a:lnTo>
                <a:lnTo>
                  <a:pt x="399" y="177"/>
                </a:lnTo>
                <a:lnTo>
                  <a:pt x="393" y="202"/>
                </a:lnTo>
                <a:lnTo>
                  <a:pt x="382" y="238"/>
                </a:lnTo>
                <a:lnTo>
                  <a:pt x="376" y="264"/>
                </a:lnTo>
                <a:lnTo>
                  <a:pt x="374" y="273"/>
                </a:lnTo>
                <a:lnTo>
                  <a:pt x="377" y="279"/>
                </a:lnTo>
                <a:lnTo>
                  <a:pt x="379" y="282"/>
                </a:lnTo>
                <a:lnTo>
                  <a:pt x="381" y="284"/>
                </a:lnTo>
                <a:lnTo>
                  <a:pt x="384" y="285"/>
                </a:lnTo>
                <a:lnTo>
                  <a:pt x="390" y="286"/>
                </a:lnTo>
                <a:lnTo>
                  <a:pt x="400" y="286"/>
                </a:lnTo>
                <a:lnTo>
                  <a:pt x="416" y="285"/>
                </a:lnTo>
                <a:lnTo>
                  <a:pt x="437" y="282"/>
                </a:lnTo>
                <a:lnTo>
                  <a:pt x="443" y="278"/>
                </a:lnTo>
                <a:lnTo>
                  <a:pt x="450" y="270"/>
                </a:lnTo>
                <a:lnTo>
                  <a:pt x="454" y="261"/>
                </a:lnTo>
                <a:lnTo>
                  <a:pt x="458" y="251"/>
                </a:lnTo>
                <a:lnTo>
                  <a:pt x="464" y="227"/>
                </a:lnTo>
                <a:lnTo>
                  <a:pt x="471" y="188"/>
                </a:lnTo>
                <a:lnTo>
                  <a:pt x="479" y="181"/>
                </a:lnTo>
                <a:lnTo>
                  <a:pt x="500" y="181"/>
                </a:lnTo>
                <a:lnTo>
                  <a:pt x="530" y="180"/>
                </a:lnTo>
                <a:lnTo>
                  <a:pt x="540" y="180"/>
                </a:lnTo>
                <a:lnTo>
                  <a:pt x="546" y="182"/>
                </a:lnTo>
                <a:lnTo>
                  <a:pt x="548" y="183"/>
                </a:lnTo>
                <a:lnTo>
                  <a:pt x="549" y="185"/>
                </a:lnTo>
                <a:lnTo>
                  <a:pt x="550" y="188"/>
                </a:lnTo>
                <a:lnTo>
                  <a:pt x="551" y="193"/>
                </a:lnTo>
                <a:lnTo>
                  <a:pt x="551" y="202"/>
                </a:lnTo>
                <a:lnTo>
                  <a:pt x="548" y="232"/>
                </a:lnTo>
                <a:lnTo>
                  <a:pt x="546" y="281"/>
                </a:lnTo>
                <a:lnTo>
                  <a:pt x="546" y="280"/>
                </a:lnTo>
                <a:lnTo>
                  <a:pt x="546" y="279"/>
                </a:lnTo>
                <a:lnTo>
                  <a:pt x="547" y="278"/>
                </a:lnTo>
                <a:lnTo>
                  <a:pt x="548" y="277"/>
                </a:lnTo>
                <a:lnTo>
                  <a:pt x="549" y="277"/>
                </a:lnTo>
                <a:lnTo>
                  <a:pt x="553" y="277"/>
                </a:lnTo>
                <a:lnTo>
                  <a:pt x="559" y="277"/>
                </a:lnTo>
                <a:lnTo>
                  <a:pt x="563" y="276"/>
                </a:lnTo>
                <a:lnTo>
                  <a:pt x="566" y="273"/>
                </a:lnTo>
                <a:lnTo>
                  <a:pt x="570" y="268"/>
                </a:lnTo>
                <a:lnTo>
                  <a:pt x="573" y="261"/>
                </a:lnTo>
                <a:lnTo>
                  <a:pt x="576" y="251"/>
                </a:lnTo>
                <a:lnTo>
                  <a:pt x="578" y="235"/>
                </a:lnTo>
                <a:lnTo>
                  <a:pt x="599" y="229"/>
                </a:lnTo>
                <a:lnTo>
                  <a:pt x="643" y="220"/>
                </a:lnTo>
                <a:lnTo>
                  <a:pt x="685" y="220"/>
                </a:lnTo>
                <a:lnTo>
                  <a:pt x="723" y="229"/>
                </a:lnTo>
                <a:lnTo>
                  <a:pt x="752" y="249"/>
                </a:lnTo>
                <a:lnTo>
                  <a:pt x="761" y="263"/>
                </a:lnTo>
                <a:lnTo>
                  <a:pt x="767" y="280"/>
                </a:lnTo>
                <a:lnTo>
                  <a:pt x="768" y="300"/>
                </a:lnTo>
                <a:lnTo>
                  <a:pt x="782" y="285"/>
                </a:lnTo>
                <a:lnTo>
                  <a:pt x="807" y="263"/>
                </a:lnTo>
                <a:lnTo>
                  <a:pt x="826" y="253"/>
                </a:lnTo>
                <a:lnTo>
                  <a:pt x="835" y="252"/>
                </a:lnTo>
                <a:lnTo>
                  <a:pt x="842" y="254"/>
                </a:lnTo>
                <a:lnTo>
                  <a:pt x="850" y="260"/>
                </a:lnTo>
                <a:lnTo>
                  <a:pt x="857" y="269"/>
                </a:lnTo>
                <a:lnTo>
                  <a:pt x="865" y="281"/>
                </a:lnTo>
                <a:lnTo>
                  <a:pt x="881" y="317"/>
                </a:lnTo>
                <a:lnTo>
                  <a:pt x="886" y="314"/>
                </a:lnTo>
                <a:lnTo>
                  <a:pt x="890" y="308"/>
                </a:lnTo>
                <a:lnTo>
                  <a:pt x="894" y="301"/>
                </a:lnTo>
                <a:lnTo>
                  <a:pt x="896" y="293"/>
                </a:lnTo>
                <a:lnTo>
                  <a:pt x="898" y="275"/>
                </a:lnTo>
                <a:lnTo>
                  <a:pt x="901" y="235"/>
                </a:lnTo>
                <a:lnTo>
                  <a:pt x="907" y="217"/>
                </a:lnTo>
                <a:lnTo>
                  <a:pt x="922" y="219"/>
                </a:lnTo>
                <a:lnTo>
                  <a:pt x="936" y="224"/>
                </a:lnTo>
                <a:lnTo>
                  <a:pt x="948" y="230"/>
                </a:lnTo>
                <a:lnTo>
                  <a:pt x="959" y="239"/>
                </a:lnTo>
                <a:lnTo>
                  <a:pt x="968" y="251"/>
                </a:lnTo>
                <a:lnTo>
                  <a:pt x="980" y="276"/>
                </a:lnTo>
                <a:lnTo>
                  <a:pt x="989" y="303"/>
                </a:lnTo>
                <a:lnTo>
                  <a:pt x="993" y="327"/>
                </a:lnTo>
                <a:lnTo>
                  <a:pt x="994" y="337"/>
                </a:lnTo>
                <a:lnTo>
                  <a:pt x="1005" y="328"/>
                </a:lnTo>
                <a:lnTo>
                  <a:pt x="1022" y="313"/>
                </a:lnTo>
                <a:lnTo>
                  <a:pt x="1032" y="304"/>
                </a:lnTo>
                <a:lnTo>
                  <a:pt x="1036" y="302"/>
                </a:lnTo>
                <a:lnTo>
                  <a:pt x="1037" y="302"/>
                </a:lnTo>
                <a:lnTo>
                  <a:pt x="1038" y="302"/>
                </a:lnTo>
                <a:lnTo>
                  <a:pt x="1040" y="302"/>
                </a:lnTo>
                <a:lnTo>
                  <a:pt x="1042" y="303"/>
                </a:lnTo>
                <a:lnTo>
                  <a:pt x="1043" y="304"/>
                </a:lnTo>
                <a:lnTo>
                  <a:pt x="1044" y="306"/>
                </a:lnTo>
                <a:lnTo>
                  <a:pt x="1047" y="311"/>
                </a:lnTo>
                <a:lnTo>
                  <a:pt x="1050" y="318"/>
                </a:lnTo>
                <a:lnTo>
                  <a:pt x="1055" y="326"/>
                </a:lnTo>
                <a:lnTo>
                  <a:pt x="1063" y="335"/>
                </a:lnTo>
                <a:lnTo>
                  <a:pt x="1068" y="343"/>
                </a:lnTo>
                <a:lnTo>
                  <a:pt x="1070" y="351"/>
                </a:lnTo>
                <a:lnTo>
                  <a:pt x="1070" y="359"/>
                </a:lnTo>
                <a:lnTo>
                  <a:pt x="1068" y="365"/>
                </a:lnTo>
                <a:lnTo>
                  <a:pt x="1065" y="371"/>
                </a:lnTo>
                <a:lnTo>
                  <a:pt x="1061" y="377"/>
                </a:lnTo>
                <a:lnTo>
                  <a:pt x="1051" y="387"/>
                </a:lnTo>
                <a:lnTo>
                  <a:pt x="1045" y="396"/>
                </a:lnTo>
                <a:lnTo>
                  <a:pt x="1045" y="399"/>
                </a:lnTo>
                <a:lnTo>
                  <a:pt x="1045" y="412"/>
                </a:lnTo>
                <a:lnTo>
                  <a:pt x="1051" y="433"/>
                </a:lnTo>
                <a:lnTo>
                  <a:pt x="1062" y="454"/>
                </a:lnTo>
                <a:lnTo>
                  <a:pt x="1089" y="496"/>
                </a:lnTo>
                <a:lnTo>
                  <a:pt x="1106" y="529"/>
                </a:lnTo>
                <a:lnTo>
                  <a:pt x="1113" y="586"/>
                </a:lnTo>
                <a:lnTo>
                  <a:pt x="1108" y="632"/>
                </a:lnTo>
                <a:lnTo>
                  <a:pt x="1089" y="669"/>
                </a:lnTo>
                <a:lnTo>
                  <a:pt x="1061" y="699"/>
                </a:lnTo>
                <a:lnTo>
                  <a:pt x="1024" y="723"/>
                </a:lnTo>
                <a:lnTo>
                  <a:pt x="983" y="742"/>
                </a:lnTo>
                <a:lnTo>
                  <a:pt x="890" y="772"/>
                </a:lnTo>
                <a:lnTo>
                  <a:pt x="802" y="801"/>
                </a:lnTo>
                <a:lnTo>
                  <a:pt x="737" y="838"/>
                </a:lnTo>
                <a:lnTo>
                  <a:pt x="713" y="827"/>
                </a:lnTo>
                <a:lnTo>
                  <a:pt x="688" y="821"/>
                </a:lnTo>
                <a:lnTo>
                  <a:pt x="660" y="820"/>
                </a:lnTo>
                <a:lnTo>
                  <a:pt x="632" y="823"/>
                </a:lnTo>
                <a:lnTo>
                  <a:pt x="573" y="835"/>
                </a:lnTo>
                <a:lnTo>
                  <a:pt x="460" y="864"/>
                </a:lnTo>
                <a:lnTo>
                  <a:pt x="415" y="864"/>
                </a:lnTo>
                <a:lnTo>
                  <a:pt x="380" y="850"/>
                </a:lnTo>
                <a:lnTo>
                  <a:pt x="348" y="829"/>
                </a:lnTo>
                <a:lnTo>
                  <a:pt x="290" y="777"/>
                </a:lnTo>
                <a:lnTo>
                  <a:pt x="236" y="718"/>
                </a:lnTo>
                <a:lnTo>
                  <a:pt x="180" y="665"/>
                </a:lnTo>
                <a:lnTo>
                  <a:pt x="116" y="627"/>
                </a:lnTo>
                <a:lnTo>
                  <a:pt x="39" y="614"/>
                </a:lnTo>
                <a:lnTo>
                  <a:pt x="38" y="591"/>
                </a:lnTo>
                <a:lnTo>
                  <a:pt x="36" y="559"/>
                </a:lnTo>
                <a:lnTo>
                  <a:pt x="36" y="543"/>
                </a:lnTo>
                <a:lnTo>
                  <a:pt x="37" y="541"/>
                </a:lnTo>
                <a:lnTo>
                  <a:pt x="38" y="540"/>
                </a:lnTo>
                <a:lnTo>
                  <a:pt x="40" y="539"/>
                </a:lnTo>
                <a:lnTo>
                  <a:pt x="42" y="539"/>
                </a:lnTo>
                <a:lnTo>
                  <a:pt x="45" y="539"/>
                </a:lnTo>
                <a:lnTo>
                  <a:pt x="54" y="540"/>
                </a:lnTo>
                <a:lnTo>
                  <a:pt x="83" y="543"/>
                </a:lnTo>
                <a:lnTo>
                  <a:pt x="116" y="544"/>
                </a:lnTo>
                <a:lnTo>
                  <a:pt x="136" y="522"/>
                </a:lnTo>
                <a:lnTo>
                  <a:pt x="150" y="498"/>
                </a:lnTo>
                <a:lnTo>
                  <a:pt x="158" y="476"/>
                </a:lnTo>
                <a:lnTo>
                  <a:pt x="159" y="454"/>
                </a:lnTo>
                <a:lnTo>
                  <a:pt x="155" y="434"/>
                </a:lnTo>
                <a:lnTo>
                  <a:pt x="145" y="416"/>
                </a:lnTo>
                <a:lnTo>
                  <a:pt x="131" y="400"/>
                </a:lnTo>
                <a:lnTo>
                  <a:pt x="113" y="387"/>
                </a:lnTo>
                <a:lnTo>
                  <a:pt x="92" y="377"/>
                </a:lnTo>
                <a:lnTo>
                  <a:pt x="68" y="371"/>
                </a:lnTo>
                <a:lnTo>
                  <a:pt x="42" y="368"/>
                </a:lnTo>
                <a:lnTo>
                  <a:pt x="14" y="369"/>
                </a:lnTo>
                <a:lnTo>
                  <a:pt x="2" y="345"/>
                </a:lnTo>
                <a:lnTo>
                  <a:pt x="0" y="326"/>
                </a:lnTo>
                <a:lnTo>
                  <a:pt x="3" y="312"/>
                </a:lnTo>
                <a:lnTo>
                  <a:pt x="13" y="302"/>
                </a:lnTo>
                <a:lnTo>
                  <a:pt x="27" y="294"/>
                </a:lnTo>
                <a:lnTo>
                  <a:pt x="45" y="291"/>
                </a:lnTo>
                <a:lnTo>
                  <a:pt x="65" y="290"/>
                </a:lnTo>
                <a:lnTo>
                  <a:pt x="109" y="294"/>
                </a:lnTo>
                <a:lnTo>
                  <a:pt x="149" y="305"/>
                </a:lnTo>
                <a:lnTo>
                  <a:pt x="166" y="311"/>
                </a:lnTo>
                <a:lnTo>
                  <a:pt x="168" y="310"/>
                </a:lnTo>
                <a:lnTo>
                  <a:pt x="176" y="302"/>
                </a:lnTo>
                <a:lnTo>
                  <a:pt x="207" y="272"/>
                </a:lnTo>
                <a:lnTo>
                  <a:pt x="230" y="251"/>
                </a:lnTo>
                <a:lnTo>
                  <a:pt x="232" y="249"/>
                </a:lnTo>
                <a:lnTo>
                  <a:pt x="218" y="238"/>
                </a:lnTo>
                <a:lnTo>
                  <a:pt x="203" y="229"/>
                </a:lnTo>
                <a:lnTo>
                  <a:pt x="169" y="215"/>
                </a:lnTo>
                <a:lnTo>
                  <a:pt x="103" y="187"/>
                </a:lnTo>
                <a:lnTo>
                  <a:pt x="74" y="13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reeform 13"/>
          <p:cNvSpPr/>
          <p:nvPr/>
        </p:nvSpPr>
        <p:spPr>
          <a:xfrm>
            <a:off x="216000" y="471600"/>
            <a:ext cx="882720" cy="685800"/>
          </a:xfrm>
          <a:custGeom>
            <a:avLst/>
            <a:gdLst>
              <a:gd name="textAreaLeft" fmla="*/ 0 w 882720"/>
              <a:gd name="textAreaRight" fmla="*/ 883080 w 882720"/>
              <a:gd name="textAreaTop" fmla="*/ 0 h 685800"/>
              <a:gd name="textAreaBottom" fmla="*/ 686160 h 685800"/>
            </a:gdLst>
            <a:ahLst/>
            <a:rect l="textAreaLeft" t="textAreaTop" r="textAreaRight" b="textAreaBottom"/>
            <a:pathLst>
              <a:path w="1113" h="864">
                <a:moveTo>
                  <a:pt x="74" y="133"/>
                </a:moveTo>
                <a:lnTo>
                  <a:pt x="83" y="125"/>
                </a:lnTo>
                <a:lnTo>
                  <a:pt x="104" y="107"/>
                </a:lnTo>
                <a:lnTo>
                  <a:pt x="159" y="66"/>
                </a:lnTo>
                <a:lnTo>
                  <a:pt x="216" y="34"/>
                </a:lnTo>
                <a:lnTo>
                  <a:pt x="229" y="29"/>
                </a:lnTo>
                <a:lnTo>
                  <a:pt x="243" y="44"/>
                </a:lnTo>
                <a:lnTo>
                  <a:pt x="263" y="64"/>
                </a:lnTo>
                <a:lnTo>
                  <a:pt x="269" y="70"/>
                </a:lnTo>
                <a:lnTo>
                  <a:pt x="274" y="73"/>
                </a:lnTo>
                <a:lnTo>
                  <a:pt x="275" y="73"/>
                </a:lnTo>
                <a:lnTo>
                  <a:pt x="276" y="73"/>
                </a:lnTo>
                <a:lnTo>
                  <a:pt x="277" y="72"/>
                </a:lnTo>
                <a:lnTo>
                  <a:pt x="278" y="70"/>
                </a:lnTo>
                <a:lnTo>
                  <a:pt x="278" y="69"/>
                </a:lnTo>
                <a:lnTo>
                  <a:pt x="278" y="66"/>
                </a:lnTo>
                <a:lnTo>
                  <a:pt x="279" y="57"/>
                </a:lnTo>
                <a:lnTo>
                  <a:pt x="280" y="29"/>
                </a:lnTo>
                <a:lnTo>
                  <a:pt x="282" y="0"/>
                </a:lnTo>
                <a:lnTo>
                  <a:pt x="302" y="3"/>
                </a:lnTo>
                <a:lnTo>
                  <a:pt x="319" y="9"/>
                </a:lnTo>
                <a:lnTo>
                  <a:pt x="335" y="19"/>
                </a:lnTo>
                <a:lnTo>
                  <a:pt x="349" y="33"/>
                </a:lnTo>
                <a:lnTo>
                  <a:pt x="361" y="49"/>
                </a:lnTo>
                <a:lnTo>
                  <a:pt x="380" y="86"/>
                </a:lnTo>
                <a:lnTo>
                  <a:pt x="392" y="124"/>
                </a:lnTo>
                <a:lnTo>
                  <a:pt x="398" y="161"/>
                </a:lnTo>
                <a:lnTo>
                  <a:pt x="399" y="177"/>
                </a:lnTo>
                <a:lnTo>
                  <a:pt x="393" y="202"/>
                </a:lnTo>
                <a:lnTo>
                  <a:pt x="382" y="238"/>
                </a:lnTo>
                <a:lnTo>
                  <a:pt x="376" y="264"/>
                </a:lnTo>
                <a:lnTo>
                  <a:pt x="374" y="273"/>
                </a:lnTo>
                <a:lnTo>
                  <a:pt x="377" y="279"/>
                </a:lnTo>
                <a:lnTo>
                  <a:pt x="379" y="282"/>
                </a:lnTo>
                <a:lnTo>
                  <a:pt x="381" y="284"/>
                </a:lnTo>
                <a:lnTo>
                  <a:pt x="384" y="285"/>
                </a:lnTo>
                <a:lnTo>
                  <a:pt x="390" y="286"/>
                </a:lnTo>
                <a:lnTo>
                  <a:pt x="400" y="286"/>
                </a:lnTo>
                <a:lnTo>
                  <a:pt x="416" y="285"/>
                </a:lnTo>
                <a:lnTo>
                  <a:pt x="437" y="282"/>
                </a:lnTo>
                <a:lnTo>
                  <a:pt x="443" y="278"/>
                </a:lnTo>
                <a:lnTo>
                  <a:pt x="450" y="270"/>
                </a:lnTo>
                <a:lnTo>
                  <a:pt x="454" y="261"/>
                </a:lnTo>
                <a:lnTo>
                  <a:pt x="458" y="251"/>
                </a:lnTo>
                <a:lnTo>
                  <a:pt x="464" y="227"/>
                </a:lnTo>
                <a:lnTo>
                  <a:pt x="471" y="188"/>
                </a:lnTo>
                <a:lnTo>
                  <a:pt x="479" y="181"/>
                </a:lnTo>
                <a:lnTo>
                  <a:pt x="500" y="181"/>
                </a:lnTo>
                <a:lnTo>
                  <a:pt x="530" y="180"/>
                </a:lnTo>
                <a:lnTo>
                  <a:pt x="540" y="180"/>
                </a:lnTo>
                <a:lnTo>
                  <a:pt x="546" y="182"/>
                </a:lnTo>
                <a:lnTo>
                  <a:pt x="548" y="183"/>
                </a:lnTo>
                <a:lnTo>
                  <a:pt x="549" y="185"/>
                </a:lnTo>
                <a:lnTo>
                  <a:pt x="550" y="188"/>
                </a:lnTo>
                <a:lnTo>
                  <a:pt x="551" y="193"/>
                </a:lnTo>
                <a:lnTo>
                  <a:pt x="551" y="202"/>
                </a:lnTo>
                <a:lnTo>
                  <a:pt x="548" y="232"/>
                </a:lnTo>
                <a:lnTo>
                  <a:pt x="546" y="281"/>
                </a:lnTo>
                <a:lnTo>
                  <a:pt x="546" y="280"/>
                </a:lnTo>
                <a:lnTo>
                  <a:pt x="546" y="279"/>
                </a:lnTo>
                <a:lnTo>
                  <a:pt x="547" y="278"/>
                </a:lnTo>
                <a:lnTo>
                  <a:pt x="548" y="277"/>
                </a:lnTo>
                <a:lnTo>
                  <a:pt x="549" y="277"/>
                </a:lnTo>
                <a:lnTo>
                  <a:pt x="553" y="277"/>
                </a:lnTo>
                <a:lnTo>
                  <a:pt x="559" y="277"/>
                </a:lnTo>
                <a:lnTo>
                  <a:pt x="563" y="276"/>
                </a:lnTo>
                <a:lnTo>
                  <a:pt x="566" y="273"/>
                </a:lnTo>
                <a:lnTo>
                  <a:pt x="570" y="268"/>
                </a:lnTo>
                <a:lnTo>
                  <a:pt x="573" y="261"/>
                </a:lnTo>
                <a:lnTo>
                  <a:pt x="576" y="251"/>
                </a:lnTo>
                <a:lnTo>
                  <a:pt x="578" y="235"/>
                </a:lnTo>
                <a:lnTo>
                  <a:pt x="599" y="229"/>
                </a:lnTo>
                <a:lnTo>
                  <a:pt x="643" y="220"/>
                </a:lnTo>
                <a:lnTo>
                  <a:pt x="685" y="220"/>
                </a:lnTo>
                <a:lnTo>
                  <a:pt x="723" y="229"/>
                </a:lnTo>
                <a:lnTo>
                  <a:pt x="752" y="249"/>
                </a:lnTo>
                <a:lnTo>
                  <a:pt x="761" y="263"/>
                </a:lnTo>
                <a:lnTo>
                  <a:pt x="767" y="280"/>
                </a:lnTo>
                <a:lnTo>
                  <a:pt x="768" y="300"/>
                </a:lnTo>
                <a:lnTo>
                  <a:pt x="782" y="285"/>
                </a:lnTo>
                <a:lnTo>
                  <a:pt x="807" y="263"/>
                </a:lnTo>
                <a:lnTo>
                  <a:pt x="826" y="253"/>
                </a:lnTo>
                <a:lnTo>
                  <a:pt x="835" y="252"/>
                </a:lnTo>
                <a:lnTo>
                  <a:pt x="842" y="254"/>
                </a:lnTo>
                <a:lnTo>
                  <a:pt x="850" y="260"/>
                </a:lnTo>
                <a:lnTo>
                  <a:pt x="857" y="269"/>
                </a:lnTo>
                <a:lnTo>
                  <a:pt x="865" y="281"/>
                </a:lnTo>
                <a:lnTo>
                  <a:pt x="881" y="317"/>
                </a:lnTo>
                <a:lnTo>
                  <a:pt x="886" y="314"/>
                </a:lnTo>
                <a:lnTo>
                  <a:pt x="890" y="308"/>
                </a:lnTo>
                <a:lnTo>
                  <a:pt x="894" y="301"/>
                </a:lnTo>
                <a:lnTo>
                  <a:pt x="896" y="293"/>
                </a:lnTo>
                <a:lnTo>
                  <a:pt x="898" y="275"/>
                </a:lnTo>
                <a:lnTo>
                  <a:pt x="901" y="235"/>
                </a:lnTo>
                <a:lnTo>
                  <a:pt x="907" y="217"/>
                </a:lnTo>
                <a:lnTo>
                  <a:pt x="922" y="219"/>
                </a:lnTo>
                <a:lnTo>
                  <a:pt x="936" y="224"/>
                </a:lnTo>
                <a:lnTo>
                  <a:pt x="948" y="230"/>
                </a:lnTo>
                <a:lnTo>
                  <a:pt x="959" y="239"/>
                </a:lnTo>
                <a:lnTo>
                  <a:pt x="968" y="251"/>
                </a:lnTo>
                <a:lnTo>
                  <a:pt x="980" y="276"/>
                </a:lnTo>
                <a:lnTo>
                  <a:pt x="989" y="303"/>
                </a:lnTo>
                <a:lnTo>
                  <a:pt x="993" y="327"/>
                </a:lnTo>
                <a:lnTo>
                  <a:pt x="994" y="337"/>
                </a:lnTo>
                <a:lnTo>
                  <a:pt x="1005" y="328"/>
                </a:lnTo>
                <a:lnTo>
                  <a:pt x="1022" y="313"/>
                </a:lnTo>
                <a:lnTo>
                  <a:pt x="1032" y="304"/>
                </a:lnTo>
                <a:lnTo>
                  <a:pt x="1036" y="302"/>
                </a:lnTo>
                <a:lnTo>
                  <a:pt x="1037" y="302"/>
                </a:lnTo>
                <a:lnTo>
                  <a:pt x="1038" y="302"/>
                </a:lnTo>
                <a:lnTo>
                  <a:pt x="1040" y="302"/>
                </a:lnTo>
                <a:lnTo>
                  <a:pt x="1042" y="303"/>
                </a:lnTo>
                <a:lnTo>
                  <a:pt x="1043" y="304"/>
                </a:lnTo>
                <a:lnTo>
                  <a:pt x="1044" y="306"/>
                </a:lnTo>
                <a:lnTo>
                  <a:pt x="1047" y="311"/>
                </a:lnTo>
                <a:lnTo>
                  <a:pt x="1050" y="318"/>
                </a:lnTo>
                <a:lnTo>
                  <a:pt x="1055" y="326"/>
                </a:lnTo>
                <a:lnTo>
                  <a:pt x="1063" y="335"/>
                </a:lnTo>
                <a:lnTo>
                  <a:pt x="1068" y="343"/>
                </a:lnTo>
                <a:lnTo>
                  <a:pt x="1070" y="351"/>
                </a:lnTo>
                <a:lnTo>
                  <a:pt x="1070" y="359"/>
                </a:lnTo>
                <a:lnTo>
                  <a:pt x="1068" y="365"/>
                </a:lnTo>
                <a:lnTo>
                  <a:pt x="1065" y="371"/>
                </a:lnTo>
                <a:lnTo>
                  <a:pt x="1061" y="377"/>
                </a:lnTo>
                <a:lnTo>
                  <a:pt x="1051" y="387"/>
                </a:lnTo>
                <a:lnTo>
                  <a:pt x="1045" y="396"/>
                </a:lnTo>
                <a:lnTo>
                  <a:pt x="1045" y="399"/>
                </a:lnTo>
                <a:lnTo>
                  <a:pt x="1045" y="412"/>
                </a:lnTo>
                <a:lnTo>
                  <a:pt x="1051" y="433"/>
                </a:lnTo>
                <a:lnTo>
                  <a:pt x="1062" y="454"/>
                </a:lnTo>
                <a:lnTo>
                  <a:pt x="1089" y="496"/>
                </a:lnTo>
                <a:lnTo>
                  <a:pt x="1106" y="529"/>
                </a:lnTo>
                <a:lnTo>
                  <a:pt x="1113" y="586"/>
                </a:lnTo>
                <a:lnTo>
                  <a:pt x="1108" y="632"/>
                </a:lnTo>
                <a:lnTo>
                  <a:pt x="1089" y="669"/>
                </a:lnTo>
                <a:lnTo>
                  <a:pt x="1061" y="699"/>
                </a:lnTo>
                <a:lnTo>
                  <a:pt x="1024" y="723"/>
                </a:lnTo>
                <a:lnTo>
                  <a:pt x="983" y="742"/>
                </a:lnTo>
                <a:lnTo>
                  <a:pt x="890" y="772"/>
                </a:lnTo>
                <a:lnTo>
                  <a:pt x="802" y="801"/>
                </a:lnTo>
                <a:lnTo>
                  <a:pt x="737" y="838"/>
                </a:lnTo>
                <a:lnTo>
                  <a:pt x="713" y="827"/>
                </a:lnTo>
                <a:lnTo>
                  <a:pt x="688" y="821"/>
                </a:lnTo>
                <a:lnTo>
                  <a:pt x="660" y="820"/>
                </a:lnTo>
                <a:lnTo>
                  <a:pt x="632" y="823"/>
                </a:lnTo>
                <a:lnTo>
                  <a:pt x="573" y="835"/>
                </a:lnTo>
                <a:lnTo>
                  <a:pt x="460" y="864"/>
                </a:lnTo>
                <a:lnTo>
                  <a:pt x="415" y="864"/>
                </a:lnTo>
                <a:lnTo>
                  <a:pt x="380" y="850"/>
                </a:lnTo>
                <a:lnTo>
                  <a:pt x="348" y="829"/>
                </a:lnTo>
                <a:lnTo>
                  <a:pt x="290" y="777"/>
                </a:lnTo>
                <a:lnTo>
                  <a:pt x="236" y="718"/>
                </a:lnTo>
                <a:lnTo>
                  <a:pt x="180" y="665"/>
                </a:lnTo>
                <a:lnTo>
                  <a:pt x="116" y="627"/>
                </a:lnTo>
                <a:lnTo>
                  <a:pt x="39" y="614"/>
                </a:lnTo>
                <a:lnTo>
                  <a:pt x="38" y="591"/>
                </a:lnTo>
                <a:lnTo>
                  <a:pt x="36" y="559"/>
                </a:lnTo>
                <a:lnTo>
                  <a:pt x="36" y="543"/>
                </a:lnTo>
                <a:lnTo>
                  <a:pt x="37" y="541"/>
                </a:lnTo>
                <a:lnTo>
                  <a:pt x="38" y="540"/>
                </a:lnTo>
                <a:lnTo>
                  <a:pt x="40" y="539"/>
                </a:lnTo>
                <a:lnTo>
                  <a:pt x="42" y="539"/>
                </a:lnTo>
                <a:lnTo>
                  <a:pt x="45" y="539"/>
                </a:lnTo>
                <a:lnTo>
                  <a:pt x="54" y="540"/>
                </a:lnTo>
                <a:lnTo>
                  <a:pt x="83" y="543"/>
                </a:lnTo>
                <a:lnTo>
                  <a:pt x="116" y="544"/>
                </a:lnTo>
                <a:lnTo>
                  <a:pt x="136" y="522"/>
                </a:lnTo>
                <a:lnTo>
                  <a:pt x="150" y="498"/>
                </a:lnTo>
                <a:lnTo>
                  <a:pt x="158" y="476"/>
                </a:lnTo>
                <a:lnTo>
                  <a:pt x="159" y="454"/>
                </a:lnTo>
                <a:lnTo>
                  <a:pt x="155" y="434"/>
                </a:lnTo>
                <a:lnTo>
                  <a:pt x="145" y="416"/>
                </a:lnTo>
                <a:lnTo>
                  <a:pt x="131" y="400"/>
                </a:lnTo>
                <a:lnTo>
                  <a:pt x="113" y="387"/>
                </a:lnTo>
                <a:lnTo>
                  <a:pt x="92" y="377"/>
                </a:lnTo>
                <a:lnTo>
                  <a:pt x="68" y="371"/>
                </a:lnTo>
                <a:lnTo>
                  <a:pt x="42" y="368"/>
                </a:lnTo>
                <a:lnTo>
                  <a:pt x="14" y="369"/>
                </a:lnTo>
                <a:lnTo>
                  <a:pt x="2" y="345"/>
                </a:lnTo>
                <a:lnTo>
                  <a:pt x="0" y="326"/>
                </a:lnTo>
                <a:lnTo>
                  <a:pt x="3" y="312"/>
                </a:lnTo>
                <a:lnTo>
                  <a:pt x="13" y="302"/>
                </a:lnTo>
                <a:lnTo>
                  <a:pt x="27" y="294"/>
                </a:lnTo>
                <a:lnTo>
                  <a:pt x="45" y="291"/>
                </a:lnTo>
                <a:lnTo>
                  <a:pt x="65" y="290"/>
                </a:lnTo>
                <a:lnTo>
                  <a:pt x="109" y="294"/>
                </a:lnTo>
                <a:lnTo>
                  <a:pt x="149" y="305"/>
                </a:lnTo>
                <a:lnTo>
                  <a:pt x="166" y="311"/>
                </a:lnTo>
                <a:lnTo>
                  <a:pt x="168" y="310"/>
                </a:lnTo>
                <a:lnTo>
                  <a:pt x="176" y="302"/>
                </a:lnTo>
                <a:lnTo>
                  <a:pt x="207" y="272"/>
                </a:lnTo>
                <a:lnTo>
                  <a:pt x="230" y="251"/>
                </a:lnTo>
                <a:lnTo>
                  <a:pt x="232" y="249"/>
                </a:lnTo>
                <a:lnTo>
                  <a:pt x="218" y="238"/>
                </a:lnTo>
                <a:lnTo>
                  <a:pt x="203" y="229"/>
                </a:lnTo>
                <a:lnTo>
                  <a:pt x="169" y="215"/>
                </a:lnTo>
                <a:lnTo>
                  <a:pt x="103" y="187"/>
                </a:lnTo>
                <a:lnTo>
                  <a:pt x="74" y="133"/>
                </a:lnTo>
              </a:path>
            </a:pathLst>
          </a:custGeom>
          <a:solidFill>
            <a:srgbClr val="ffffff"/>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4"/>
          <p:cNvSpPr/>
          <p:nvPr/>
        </p:nvSpPr>
        <p:spPr>
          <a:xfrm>
            <a:off x="3855960" y="190440"/>
            <a:ext cx="1143000" cy="2011320"/>
          </a:xfrm>
          <a:custGeom>
            <a:avLst/>
            <a:gdLst>
              <a:gd name="textAreaLeft" fmla="*/ 0 w 1143000"/>
              <a:gd name="textAreaRight" fmla="*/ 1143360 w 1143000"/>
              <a:gd name="textAreaTop" fmla="*/ 0 h 2011320"/>
              <a:gd name="textAreaBottom" fmla="*/ 2011680 h 2011320"/>
            </a:gdLst>
            <a:ahLst/>
            <a:rect l="textAreaLeft" t="textAreaTop" r="textAreaRight" b="textAreaBottom"/>
            <a:pathLst>
              <a:path w="1440" h="2533">
                <a:moveTo>
                  <a:pt x="1258" y="1415"/>
                </a:moveTo>
                <a:lnTo>
                  <a:pt x="1262" y="1406"/>
                </a:lnTo>
                <a:lnTo>
                  <a:pt x="1277" y="1382"/>
                </a:lnTo>
                <a:lnTo>
                  <a:pt x="1289" y="1364"/>
                </a:lnTo>
                <a:lnTo>
                  <a:pt x="1290" y="1362"/>
                </a:lnTo>
                <a:lnTo>
                  <a:pt x="1287" y="1362"/>
                </a:lnTo>
                <a:lnTo>
                  <a:pt x="1270" y="1361"/>
                </a:lnTo>
                <a:lnTo>
                  <a:pt x="1212" y="1355"/>
                </a:lnTo>
                <a:lnTo>
                  <a:pt x="1167" y="1352"/>
                </a:lnTo>
                <a:lnTo>
                  <a:pt x="1165" y="1351"/>
                </a:lnTo>
                <a:lnTo>
                  <a:pt x="1164" y="1344"/>
                </a:lnTo>
                <a:lnTo>
                  <a:pt x="1161" y="1328"/>
                </a:lnTo>
                <a:lnTo>
                  <a:pt x="1154" y="1297"/>
                </a:lnTo>
                <a:lnTo>
                  <a:pt x="1148" y="1267"/>
                </a:lnTo>
                <a:lnTo>
                  <a:pt x="1148" y="1259"/>
                </a:lnTo>
                <a:lnTo>
                  <a:pt x="1136" y="1259"/>
                </a:lnTo>
                <a:lnTo>
                  <a:pt x="1125" y="1256"/>
                </a:lnTo>
                <a:lnTo>
                  <a:pt x="1115" y="1252"/>
                </a:lnTo>
                <a:lnTo>
                  <a:pt x="1108" y="1245"/>
                </a:lnTo>
                <a:lnTo>
                  <a:pt x="1094" y="1232"/>
                </a:lnTo>
                <a:lnTo>
                  <a:pt x="1082" y="1215"/>
                </a:lnTo>
                <a:lnTo>
                  <a:pt x="1074" y="1198"/>
                </a:lnTo>
                <a:lnTo>
                  <a:pt x="1065" y="1180"/>
                </a:lnTo>
                <a:lnTo>
                  <a:pt x="1066" y="1177"/>
                </a:lnTo>
                <a:lnTo>
                  <a:pt x="1072" y="1150"/>
                </a:lnTo>
                <a:lnTo>
                  <a:pt x="1098" y="1055"/>
                </a:lnTo>
                <a:lnTo>
                  <a:pt x="1118" y="983"/>
                </a:lnTo>
                <a:lnTo>
                  <a:pt x="1120" y="979"/>
                </a:lnTo>
                <a:lnTo>
                  <a:pt x="1116" y="975"/>
                </a:lnTo>
                <a:lnTo>
                  <a:pt x="1094" y="949"/>
                </a:lnTo>
                <a:lnTo>
                  <a:pt x="1020" y="858"/>
                </a:lnTo>
                <a:lnTo>
                  <a:pt x="963" y="789"/>
                </a:lnTo>
                <a:lnTo>
                  <a:pt x="961" y="785"/>
                </a:lnTo>
                <a:lnTo>
                  <a:pt x="950" y="772"/>
                </a:lnTo>
                <a:lnTo>
                  <a:pt x="937" y="742"/>
                </a:lnTo>
                <a:lnTo>
                  <a:pt x="933" y="712"/>
                </a:lnTo>
                <a:lnTo>
                  <a:pt x="934" y="678"/>
                </a:lnTo>
                <a:lnTo>
                  <a:pt x="946" y="596"/>
                </a:lnTo>
                <a:lnTo>
                  <a:pt x="950" y="572"/>
                </a:lnTo>
                <a:lnTo>
                  <a:pt x="934" y="558"/>
                </a:lnTo>
                <a:lnTo>
                  <a:pt x="909" y="529"/>
                </a:lnTo>
                <a:lnTo>
                  <a:pt x="869" y="483"/>
                </a:lnTo>
                <a:lnTo>
                  <a:pt x="808" y="454"/>
                </a:lnTo>
                <a:lnTo>
                  <a:pt x="785" y="449"/>
                </a:lnTo>
                <a:lnTo>
                  <a:pt x="783" y="444"/>
                </a:lnTo>
                <a:lnTo>
                  <a:pt x="774" y="408"/>
                </a:lnTo>
                <a:lnTo>
                  <a:pt x="743" y="286"/>
                </a:lnTo>
                <a:lnTo>
                  <a:pt x="721" y="193"/>
                </a:lnTo>
                <a:lnTo>
                  <a:pt x="720" y="187"/>
                </a:lnTo>
                <a:lnTo>
                  <a:pt x="727" y="170"/>
                </a:lnTo>
                <a:lnTo>
                  <a:pt x="751" y="118"/>
                </a:lnTo>
                <a:lnTo>
                  <a:pt x="769" y="78"/>
                </a:lnTo>
                <a:lnTo>
                  <a:pt x="770" y="75"/>
                </a:lnTo>
                <a:lnTo>
                  <a:pt x="768" y="75"/>
                </a:lnTo>
                <a:lnTo>
                  <a:pt x="760" y="75"/>
                </a:lnTo>
                <a:lnTo>
                  <a:pt x="733" y="74"/>
                </a:lnTo>
                <a:lnTo>
                  <a:pt x="712" y="73"/>
                </a:lnTo>
                <a:lnTo>
                  <a:pt x="711" y="72"/>
                </a:lnTo>
                <a:lnTo>
                  <a:pt x="708" y="71"/>
                </a:lnTo>
                <a:lnTo>
                  <a:pt x="694" y="62"/>
                </a:lnTo>
                <a:lnTo>
                  <a:pt x="642" y="28"/>
                </a:lnTo>
                <a:lnTo>
                  <a:pt x="604" y="2"/>
                </a:lnTo>
                <a:lnTo>
                  <a:pt x="602" y="0"/>
                </a:lnTo>
                <a:lnTo>
                  <a:pt x="600" y="2"/>
                </a:lnTo>
                <a:lnTo>
                  <a:pt x="587" y="11"/>
                </a:lnTo>
                <a:lnTo>
                  <a:pt x="542" y="39"/>
                </a:lnTo>
                <a:lnTo>
                  <a:pt x="507" y="61"/>
                </a:lnTo>
                <a:lnTo>
                  <a:pt x="506" y="62"/>
                </a:lnTo>
                <a:lnTo>
                  <a:pt x="505" y="65"/>
                </a:lnTo>
                <a:lnTo>
                  <a:pt x="498" y="80"/>
                </a:lnTo>
                <a:lnTo>
                  <a:pt x="474" y="131"/>
                </a:lnTo>
                <a:lnTo>
                  <a:pt x="455" y="171"/>
                </a:lnTo>
                <a:lnTo>
                  <a:pt x="455" y="173"/>
                </a:lnTo>
                <a:lnTo>
                  <a:pt x="455" y="175"/>
                </a:lnTo>
                <a:lnTo>
                  <a:pt x="458" y="189"/>
                </a:lnTo>
                <a:lnTo>
                  <a:pt x="470" y="238"/>
                </a:lnTo>
                <a:lnTo>
                  <a:pt x="479" y="275"/>
                </a:lnTo>
                <a:lnTo>
                  <a:pt x="481" y="276"/>
                </a:lnTo>
                <a:lnTo>
                  <a:pt x="478" y="284"/>
                </a:lnTo>
                <a:lnTo>
                  <a:pt x="474" y="306"/>
                </a:lnTo>
                <a:lnTo>
                  <a:pt x="471" y="323"/>
                </a:lnTo>
                <a:lnTo>
                  <a:pt x="470" y="325"/>
                </a:lnTo>
                <a:lnTo>
                  <a:pt x="462" y="338"/>
                </a:lnTo>
                <a:lnTo>
                  <a:pt x="440" y="380"/>
                </a:lnTo>
                <a:lnTo>
                  <a:pt x="422" y="413"/>
                </a:lnTo>
                <a:lnTo>
                  <a:pt x="422" y="414"/>
                </a:lnTo>
                <a:lnTo>
                  <a:pt x="414" y="415"/>
                </a:lnTo>
                <a:lnTo>
                  <a:pt x="393" y="418"/>
                </a:lnTo>
                <a:lnTo>
                  <a:pt x="375" y="420"/>
                </a:lnTo>
                <a:lnTo>
                  <a:pt x="367" y="415"/>
                </a:lnTo>
                <a:lnTo>
                  <a:pt x="341" y="400"/>
                </a:lnTo>
                <a:lnTo>
                  <a:pt x="322" y="388"/>
                </a:lnTo>
                <a:lnTo>
                  <a:pt x="321" y="387"/>
                </a:lnTo>
                <a:lnTo>
                  <a:pt x="319" y="388"/>
                </a:lnTo>
                <a:lnTo>
                  <a:pt x="308" y="391"/>
                </a:lnTo>
                <a:lnTo>
                  <a:pt x="272" y="402"/>
                </a:lnTo>
                <a:lnTo>
                  <a:pt x="245" y="411"/>
                </a:lnTo>
                <a:lnTo>
                  <a:pt x="244" y="411"/>
                </a:lnTo>
                <a:lnTo>
                  <a:pt x="236" y="412"/>
                </a:lnTo>
                <a:lnTo>
                  <a:pt x="231" y="411"/>
                </a:lnTo>
                <a:lnTo>
                  <a:pt x="223" y="407"/>
                </a:lnTo>
                <a:lnTo>
                  <a:pt x="216" y="402"/>
                </a:lnTo>
                <a:lnTo>
                  <a:pt x="197" y="385"/>
                </a:lnTo>
                <a:lnTo>
                  <a:pt x="131" y="331"/>
                </a:lnTo>
                <a:lnTo>
                  <a:pt x="76" y="296"/>
                </a:lnTo>
                <a:lnTo>
                  <a:pt x="75" y="297"/>
                </a:lnTo>
                <a:lnTo>
                  <a:pt x="68" y="301"/>
                </a:lnTo>
                <a:lnTo>
                  <a:pt x="41" y="317"/>
                </a:lnTo>
                <a:lnTo>
                  <a:pt x="8" y="345"/>
                </a:lnTo>
                <a:lnTo>
                  <a:pt x="0" y="353"/>
                </a:lnTo>
                <a:lnTo>
                  <a:pt x="13" y="368"/>
                </a:lnTo>
                <a:lnTo>
                  <a:pt x="46" y="397"/>
                </a:lnTo>
                <a:lnTo>
                  <a:pt x="127" y="445"/>
                </a:lnTo>
                <a:lnTo>
                  <a:pt x="207" y="475"/>
                </a:lnTo>
                <a:lnTo>
                  <a:pt x="225" y="479"/>
                </a:lnTo>
                <a:lnTo>
                  <a:pt x="260" y="496"/>
                </a:lnTo>
                <a:lnTo>
                  <a:pt x="289" y="518"/>
                </a:lnTo>
                <a:lnTo>
                  <a:pt x="314" y="548"/>
                </a:lnTo>
                <a:lnTo>
                  <a:pt x="337" y="581"/>
                </a:lnTo>
                <a:lnTo>
                  <a:pt x="371" y="659"/>
                </a:lnTo>
                <a:lnTo>
                  <a:pt x="395" y="741"/>
                </a:lnTo>
                <a:lnTo>
                  <a:pt x="411" y="820"/>
                </a:lnTo>
                <a:lnTo>
                  <a:pt x="423" y="884"/>
                </a:lnTo>
                <a:lnTo>
                  <a:pt x="423" y="888"/>
                </a:lnTo>
                <a:lnTo>
                  <a:pt x="423" y="911"/>
                </a:lnTo>
                <a:lnTo>
                  <a:pt x="423" y="991"/>
                </a:lnTo>
                <a:lnTo>
                  <a:pt x="423" y="1052"/>
                </a:lnTo>
                <a:lnTo>
                  <a:pt x="423" y="1055"/>
                </a:lnTo>
                <a:lnTo>
                  <a:pt x="441" y="1070"/>
                </a:lnTo>
                <a:lnTo>
                  <a:pt x="488" y="1099"/>
                </a:lnTo>
                <a:lnTo>
                  <a:pt x="544" y="1125"/>
                </a:lnTo>
                <a:lnTo>
                  <a:pt x="641" y="1189"/>
                </a:lnTo>
                <a:lnTo>
                  <a:pt x="671" y="1259"/>
                </a:lnTo>
                <a:lnTo>
                  <a:pt x="644" y="1258"/>
                </a:lnTo>
                <a:lnTo>
                  <a:pt x="619" y="1267"/>
                </a:lnTo>
                <a:lnTo>
                  <a:pt x="597" y="1285"/>
                </a:lnTo>
                <a:lnTo>
                  <a:pt x="577" y="1311"/>
                </a:lnTo>
                <a:lnTo>
                  <a:pt x="560" y="1341"/>
                </a:lnTo>
                <a:lnTo>
                  <a:pt x="533" y="1415"/>
                </a:lnTo>
                <a:lnTo>
                  <a:pt x="506" y="1559"/>
                </a:lnTo>
                <a:lnTo>
                  <a:pt x="505" y="1585"/>
                </a:lnTo>
                <a:lnTo>
                  <a:pt x="484" y="1586"/>
                </a:lnTo>
                <a:lnTo>
                  <a:pt x="471" y="1588"/>
                </a:lnTo>
                <a:lnTo>
                  <a:pt x="462" y="1591"/>
                </a:lnTo>
                <a:lnTo>
                  <a:pt x="460" y="1593"/>
                </a:lnTo>
                <a:lnTo>
                  <a:pt x="459" y="1596"/>
                </a:lnTo>
                <a:lnTo>
                  <a:pt x="458" y="1598"/>
                </a:lnTo>
                <a:lnTo>
                  <a:pt x="459" y="1601"/>
                </a:lnTo>
                <a:lnTo>
                  <a:pt x="460" y="1604"/>
                </a:lnTo>
                <a:lnTo>
                  <a:pt x="463" y="1611"/>
                </a:lnTo>
                <a:lnTo>
                  <a:pt x="469" y="1618"/>
                </a:lnTo>
                <a:lnTo>
                  <a:pt x="478" y="1634"/>
                </a:lnTo>
                <a:lnTo>
                  <a:pt x="481" y="1642"/>
                </a:lnTo>
                <a:lnTo>
                  <a:pt x="481" y="1650"/>
                </a:lnTo>
                <a:lnTo>
                  <a:pt x="479" y="1653"/>
                </a:lnTo>
                <a:lnTo>
                  <a:pt x="463" y="1656"/>
                </a:lnTo>
                <a:lnTo>
                  <a:pt x="449" y="1664"/>
                </a:lnTo>
                <a:lnTo>
                  <a:pt x="435" y="1675"/>
                </a:lnTo>
                <a:lnTo>
                  <a:pt x="424" y="1690"/>
                </a:lnTo>
                <a:lnTo>
                  <a:pt x="399" y="1725"/>
                </a:lnTo>
                <a:lnTo>
                  <a:pt x="342" y="1798"/>
                </a:lnTo>
                <a:lnTo>
                  <a:pt x="303" y="1820"/>
                </a:lnTo>
                <a:lnTo>
                  <a:pt x="304" y="1830"/>
                </a:lnTo>
                <a:lnTo>
                  <a:pt x="304" y="1851"/>
                </a:lnTo>
                <a:lnTo>
                  <a:pt x="299" y="1873"/>
                </a:lnTo>
                <a:lnTo>
                  <a:pt x="286" y="1916"/>
                </a:lnTo>
                <a:lnTo>
                  <a:pt x="275" y="1942"/>
                </a:lnTo>
                <a:lnTo>
                  <a:pt x="282" y="1975"/>
                </a:lnTo>
                <a:lnTo>
                  <a:pt x="296" y="2047"/>
                </a:lnTo>
                <a:lnTo>
                  <a:pt x="325" y="2208"/>
                </a:lnTo>
                <a:lnTo>
                  <a:pt x="360" y="2361"/>
                </a:lnTo>
                <a:lnTo>
                  <a:pt x="372" y="2394"/>
                </a:lnTo>
                <a:lnTo>
                  <a:pt x="379" y="2406"/>
                </a:lnTo>
                <a:lnTo>
                  <a:pt x="390" y="2417"/>
                </a:lnTo>
                <a:lnTo>
                  <a:pt x="405" y="2429"/>
                </a:lnTo>
                <a:lnTo>
                  <a:pt x="445" y="2453"/>
                </a:lnTo>
                <a:lnTo>
                  <a:pt x="535" y="2500"/>
                </a:lnTo>
                <a:lnTo>
                  <a:pt x="588" y="2533"/>
                </a:lnTo>
                <a:lnTo>
                  <a:pt x="635" y="2532"/>
                </a:lnTo>
                <a:lnTo>
                  <a:pt x="682" y="2520"/>
                </a:lnTo>
                <a:lnTo>
                  <a:pt x="727" y="2498"/>
                </a:lnTo>
                <a:lnTo>
                  <a:pt x="817" y="2432"/>
                </a:lnTo>
                <a:lnTo>
                  <a:pt x="906" y="2357"/>
                </a:lnTo>
                <a:lnTo>
                  <a:pt x="996" y="2289"/>
                </a:lnTo>
                <a:lnTo>
                  <a:pt x="1090" y="2246"/>
                </a:lnTo>
                <a:lnTo>
                  <a:pt x="1139" y="2239"/>
                </a:lnTo>
                <a:lnTo>
                  <a:pt x="1165" y="2214"/>
                </a:lnTo>
                <a:lnTo>
                  <a:pt x="1215" y="2163"/>
                </a:lnTo>
                <a:lnTo>
                  <a:pt x="1303" y="2059"/>
                </a:lnTo>
                <a:lnTo>
                  <a:pt x="1367" y="1960"/>
                </a:lnTo>
                <a:lnTo>
                  <a:pt x="1379" y="1936"/>
                </a:lnTo>
                <a:lnTo>
                  <a:pt x="1392" y="1910"/>
                </a:lnTo>
                <a:lnTo>
                  <a:pt x="1415" y="1860"/>
                </a:lnTo>
                <a:lnTo>
                  <a:pt x="1440" y="1772"/>
                </a:lnTo>
                <a:lnTo>
                  <a:pt x="1427" y="1690"/>
                </a:lnTo>
                <a:lnTo>
                  <a:pt x="1418" y="1668"/>
                </a:lnTo>
                <a:lnTo>
                  <a:pt x="1407" y="1652"/>
                </a:lnTo>
                <a:lnTo>
                  <a:pt x="1383" y="1622"/>
                </a:lnTo>
                <a:lnTo>
                  <a:pt x="1327" y="1578"/>
                </a:lnTo>
                <a:lnTo>
                  <a:pt x="1263" y="1556"/>
                </a:lnTo>
                <a:lnTo>
                  <a:pt x="1247" y="1555"/>
                </a:lnTo>
                <a:lnTo>
                  <a:pt x="1247" y="1554"/>
                </a:lnTo>
                <a:lnTo>
                  <a:pt x="1249" y="1544"/>
                </a:lnTo>
                <a:lnTo>
                  <a:pt x="1259" y="1507"/>
                </a:lnTo>
                <a:lnTo>
                  <a:pt x="1267" y="1480"/>
                </a:lnTo>
                <a:lnTo>
                  <a:pt x="1268" y="1478"/>
                </a:lnTo>
                <a:lnTo>
                  <a:pt x="1266" y="1469"/>
                </a:lnTo>
                <a:lnTo>
                  <a:pt x="1261" y="1439"/>
                </a:lnTo>
                <a:lnTo>
                  <a:pt x="1258" y="1417"/>
                </a:lnTo>
                <a:lnTo>
                  <a:pt x="1258" y="1415"/>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15"/>
          <p:cNvSpPr/>
          <p:nvPr/>
        </p:nvSpPr>
        <p:spPr>
          <a:xfrm>
            <a:off x="3859200" y="190440"/>
            <a:ext cx="1143000" cy="2009880"/>
          </a:xfrm>
          <a:custGeom>
            <a:avLst/>
            <a:gdLst>
              <a:gd name="textAreaLeft" fmla="*/ 0 w 1143000"/>
              <a:gd name="textAreaRight" fmla="*/ 1143360 w 1143000"/>
              <a:gd name="textAreaTop" fmla="*/ 0 h 2009880"/>
              <a:gd name="textAreaBottom" fmla="*/ 2010240 h 2009880"/>
            </a:gdLst>
            <a:ahLst/>
            <a:rect l="textAreaLeft" t="textAreaTop" r="textAreaRight" b="textAreaBottom"/>
            <a:pathLst>
              <a:path w="1440" h="2533">
                <a:moveTo>
                  <a:pt x="1258" y="1415"/>
                </a:moveTo>
                <a:lnTo>
                  <a:pt x="1262" y="1406"/>
                </a:lnTo>
                <a:lnTo>
                  <a:pt x="1277" y="1382"/>
                </a:lnTo>
                <a:lnTo>
                  <a:pt x="1289" y="1364"/>
                </a:lnTo>
                <a:lnTo>
                  <a:pt x="1290" y="1362"/>
                </a:lnTo>
                <a:lnTo>
                  <a:pt x="1287" y="1362"/>
                </a:lnTo>
                <a:lnTo>
                  <a:pt x="1270" y="1361"/>
                </a:lnTo>
                <a:lnTo>
                  <a:pt x="1212" y="1355"/>
                </a:lnTo>
                <a:lnTo>
                  <a:pt x="1167" y="1352"/>
                </a:lnTo>
                <a:lnTo>
                  <a:pt x="1165" y="1351"/>
                </a:lnTo>
                <a:lnTo>
                  <a:pt x="1164" y="1344"/>
                </a:lnTo>
                <a:lnTo>
                  <a:pt x="1161" y="1328"/>
                </a:lnTo>
                <a:lnTo>
                  <a:pt x="1154" y="1297"/>
                </a:lnTo>
                <a:lnTo>
                  <a:pt x="1148" y="1267"/>
                </a:lnTo>
                <a:lnTo>
                  <a:pt x="1148" y="1259"/>
                </a:lnTo>
                <a:lnTo>
                  <a:pt x="1136" y="1259"/>
                </a:lnTo>
                <a:lnTo>
                  <a:pt x="1125" y="1256"/>
                </a:lnTo>
                <a:lnTo>
                  <a:pt x="1115" y="1252"/>
                </a:lnTo>
                <a:lnTo>
                  <a:pt x="1108" y="1245"/>
                </a:lnTo>
                <a:lnTo>
                  <a:pt x="1094" y="1232"/>
                </a:lnTo>
                <a:lnTo>
                  <a:pt x="1082" y="1215"/>
                </a:lnTo>
                <a:lnTo>
                  <a:pt x="1074" y="1198"/>
                </a:lnTo>
                <a:lnTo>
                  <a:pt x="1065" y="1180"/>
                </a:lnTo>
                <a:lnTo>
                  <a:pt x="1066" y="1177"/>
                </a:lnTo>
                <a:lnTo>
                  <a:pt x="1072" y="1150"/>
                </a:lnTo>
                <a:lnTo>
                  <a:pt x="1098" y="1055"/>
                </a:lnTo>
                <a:lnTo>
                  <a:pt x="1118" y="983"/>
                </a:lnTo>
                <a:lnTo>
                  <a:pt x="1120" y="979"/>
                </a:lnTo>
                <a:lnTo>
                  <a:pt x="1116" y="975"/>
                </a:lnTo>
                <a:lnTo>
                  <a:pt x="1094" y="949"/>
                </a:lnTo>
                <a:lnTo>
                  <a:pt x="1020" y="858"/>
                </a:lnTo>
                <a:lnTo>
                  <a:pt x="963" y="789"/>
                </a:lnTo>
                <a:lnTo>
                  <a:pt x="961" y="785"/>
                </a:lnTo>
                <a:lnTo>
                  <a:pt x="950" y="772"/>
                </a:lnTo>
                <a:lnTo>
                  <a:pt x="937" y="742"/>
                </a:lnTo>
                <a:lnTo>
                  <a:pt x="933" y="712"/>
                </a:lnTo>
                <a:lnTo>
                  <a:pt x="934" y="678"/>
                </a:lnTo>
                <a:lnTo>
                  <a:pt x="946" y="596"/>
                </a:lnTo>
                <a:lnTo>
                  <a:pt x="950" y="572"/>
                </a:lnTo>
                <a:lnTo>
                  <a:pt x="934" y="558"/>
                </a:lnTo>
                <a:lnTo>
                  <a:pt x="909" y="529"/>
                </a:lnTo>
                <a:lnTo>
                  <a:pt x="869" y="483"/>
                </a:lnTo>
                <a:lnTo>
                  <a:pt x="808" y="454"/>
                </a:lnTo>
                <a:lnTo>
                  <a:pt x="785" y="449"/>
                </a:lnTo>
                <a:lnTo>
                  <a:pt x="783" y="444"/>
                </a:lnTo>
                <a:lnTo>
                  <a:pt x="774" y="408"/>
                </a:lnTo>
                <a:lnTo>
                  <a:pt x="743" y="286"/>
                </a:lnTo>
                <a:lnTo>
                  <a:pt x="721" y="193"/>
                </a:lnTo>
                <a:lnTo>
                  <a:pt x="720" y="187"/>
                </a:lnTo>
                <a:lnTo>
                  <a:pt x="727" y="170"/>
                </a:lnTo>
                <a:lnTo>
                  <a:pt x="751" y="118"/>
                </a:lnTo>
                <a:lnTo>
                  <a:pt x="769" y="78"/>
                </a:lnTo>
                <a:lnTo>
                  <a:pt x="770" y="75"/>
                </a:lnTo>
                <a:lnTo>
                  <a:pt x="768" y="75"/>
                </a:lnTo>
                <a:lnTo>
                  <a:pt x="760" y="75"/>
                </a:lnTo>
                <a:lnTo>
                  <a:pt x="733" y="74"/>
                </a:lnTo>
                <a:lnTo>
                  <a:pt x="712" y="73"/>
                </a:lnTo>
                <a:lnTo>
                  <a:pt x="711" y="72"/>
                </a:lnTo>
                <a:lnTo>
                  <a:pt x="708" y="71"/>
                </a:lnTo>
                <a:lnTo>
                  <a:pt x="694" y="62"/>
                </a:lnTo>
                <a:lnTo>
                  <a:pt x="642" y="28"/>
                </a:lnTo>
                <a:lnTo>
                  <a:pt x="604" y="2"/>
                </a:lnTo>
                <a:lnTo>
                  <a:pt x="602" y="0"/>
                </a:lnTo>
                <a:lnTo>
                  <a:pt x="600" y="2"/>
                </a:lnTo>
                <a:lnTo>
                  <a:pt x="587" y="11"/>
                </a:lnTo>
                <a:lnTo>
                  <a:pt x="542" y="39"/>
                </a:lnTo>
                <a:lnTo>
                  <a:pt x="507" y="61"/>
                </a:lnTo>
                <a:lnTo>
                  <a:pt x="506" y="62"/>
                </a:lnTo>
                <a:lnTo>
                  <a:pt x="505" y="65"/>
                </a:lnTo>
                <a:lnTo>
                  <a:pt x="498" y="80"/>
                </a:lnTo>
                <a:lnTo>
                  <a:pt x="474" y="131"/>
                </a:lnTo>
                <a:lnTo>
                  <a:pt x="455" y="171"/>
                </a:lnTo>
                <a:lnTo>
                  <a:pt x="455" y="173"/>
                </a:lnTo>
                <a:lnTo>
                  <a:pt x="455" y="175"/>
                </a:lnTo>
                <a:lnTo>
                  <a:pt x="458" y="189"/>
                </a:lnTo>
                <a:lnTo>
                  <a:pt x="470" y="238"/>
                </a:lnTo>
                <a:lnTo>
                  <a:pt x="479" y="275"/>
                </a:lnTo>
                <a:lnTo>
                  <a:pt x="481" y="276"/>
                </a:lnTo>
                <a:lnTo>
                  <a:pt x="478" y="284"/>
                </a:lnTo>
                <a:lnTo>
                  <a:pt x="474" y="306"/>
                </a:lnTo>
                <a:lnTo>
                  <a:pt x="471" y="323"/>
                </a:lnTo>
                <a:lnTo>
                  <a:pt x="470" y="325"/>
                </a:lnTo>
                <a:lnTo>
                  <a:pt x="462" y="338"/>
                </a:lnTo>
                <a:lnTo>
                  <a:pt x="440" y="380"/>
                </a:lnTo>
                <a:lnTo>
                  <a:pt x="422" y="413"/>
                </a:lnTo>
                <a:lnTo>
                  <a:pt x="422" y="414"/>
                </a:lnTo>
                <a:lnTo>
                  <a:pt x="414" y="415"/>
                </a:lnTo>
                <a:lnTo>
                  <a:pt x="393" y="418"/>
                </a:lnTo>
                <a:lnTo>
                  <a:pt x="375" y="420"/>
                </a:lnTo>
                <a:lnTo>
                  <a:pt x="367" y="415"/>
                </a:lnTo>
                <a:lnTo>
                  <a:pt x="341" y="400"/>
                </a:lnTo>
                <a:lnTo>
                  <a:pt x="322" y="388"/>
                </a:lnTo>
                <a:lnTo>
                  <a:pt x="321" y="387"/>
                </a:lnTo>
                <a:lnTo>
                  <a:pt x="319" y="388"/>
                </a:lnTo>
                <a:lnTo>
                  <a:pt x="308" y="391"/>
                </a:lnTo>
                <a:lnTo>
                  <a:pt x="272" y="402"/>
                </a:lnTo>
                <a:lnTo>
                  <a:pt x="245" y="411"/>
                </a:lnTo>
                <a:lnTo>
                  <a:pt x="244" y="411"/>
                </a:lnTo>
                <a:lnTo>
                  <a:pt x="236" y="412"/>
                </a:lnTo>
                <a:lnTo>
                  <a:pt x="231" y="411"/>
                </a:lnTo>
                <a:lnTo>
                  <a:pt x="223" y="407"/>
                </a:lnTo>
                <a:lnTo>
                  <a:pt x="216" y="402"/>
                </a:lnTo>
                <a:lnTo>
                  <a:pt x="197" y="385"/>
                </a:lnTo>
                <a:lnTo>
                  <a:pt x="131" y="331"/>
                </a:lnTo>
                <a:lnTo>
                  <a:pt x="76" y="296"/>
                </a:lnTo>
                <a:lnTo>
                  <a:pt x="75" y="297"/>
                </a:lnTo>
                <a:lnTo>
                  <a:pt x="68" y="301"/>
                </a:lnTo>
                <a:lnTo>
                  <a:pt x="41" y="317"/>
                </a:lnTo>
                <a:lnTo>
                  <a:pt x="8" y="345"/>
                </a:lnTo>
                <a:lnTo>
                  <a:pt x="0" y="353"/>
                </a:lnTo>
                <a:lnTo>
                  <a:pt x="13" y="368"/>
                </a:lnTo>
                <a:lnTo>
                  <a:pt x="46" y="397"/>
                </a:lnTo>
                <a:lnTo>
                  <a:pt x="127" y="445"/>
                </a:lnTo>
                <a:lnTo>
                  <a:pt x="207" y="475"/>
                </a:lnTo>
                <a:lnTo>
                  <a:pt x="225" y="479"/>
                </a:lnTo>
                <a:lnTo>
                  <a:pt x="260" y="496"/>
                </a:lnTo>
                <a:lnTo>
                  <a:pt x="289" y="518"/>
                </a:lnTo>
                <a:lnTo>
                  <a:pt x="314" y="548"/>
                </a:lnTo>
                <a:lnTo>
                  <a:pt x="337" y="581"/>
                </a:lnTo>
                <a:lnTo>
                  <a:pt x="371" y="659"/>
                </a:lnTo>
                <a:lnTo>
                  <a:pt x="395" y="741"/>
                </a:lnTo>
                <a:lnTo>
                  <a:pt x="411" y="820"/>
                </a:lnTo>
                <a:lnTo>
                  <a:pt x="423" y="884"/>
                </a:lnTo>
                <a:lnTo>
                  <a:pt x="423" y="888"/>
                </a:lnTo>
                <a:lnTo>
                  <a:pt x="423" y="911"/>
                </a:lnTo>
                <a:lnTo>
                  <a:pt x="423" y="991"/>
                </a:lnTo>
                <a:lnTo>
                  <a:pt x="423" y="1052"/>
                </a:lnTo>
                <a:lnTo>
                  <a:pt x="423" y="1055"/>
                </a:lnTo>
                <a:lnTo>
                  <a:pt x="441" y="1070"/>
                </a:lnTo>
                <a:lnTo>
                  <a:pt x="488" y="1099"/>
                </a:lnTo>
                <a:lnTo>
                  <a:pt x="544" y="1125"/>
                </a:lnTo>
                <a:lnTo>
                  <a:pt x="641" y="1189"/>
                </a:lnTo>
                <a:lnTo>
                  <a:pt x="671" y="1259"/>
                </a:lnTo>
                <a:lnTo>
                  <a:pt x="644" y="1258"/>
                </a:lnTo>
                <a:lnTo>
                  <a:pt x="619" y="1267"/>
                </a:lnTo>
                <a:lnTo>
                  <a:pt x="597" y="1285"/>
                </a:lnTo>
                <a:lnTo>
                  <a:pt x="577" y="1311"/>
                </a:lnTo>
                <a:lnTo>
                  <a:pt x="560" y="1341"/>
                </a:lnTo>
                <a:lnTo>
                  <a:pt x="533" y="1415"/>
                </a:lnTo>
                <a:lnTo>
                  <a:pt x="506" y="1559"/>
                </a:lnTo>
                <a:lnTo>
                  <a:pt x="505" y="1585"/>
                </a:lnTo>
                <a:lnTo>
                  <a:pt x="484" y="1586"/>
                </a:lnTo>
                <a:lnTo>
                  <a:pt x="471" y="1588"/>
                </a:lnTo>
                <a:lnTo>
                  <a:pt x="462" y="1591"/>
                </a:lnTo>
                <a:lnTo>
                  <a:pt x="460" y="1593"/>
                </a:lnTo>
                <a:lnTo>
                  <a:pt x="459" y="1596"/>
                </a:lnTo>
                <a:lnTo>
                  <a:pt x="458" y="1598"/>
                </a:lnTo>
                <a:lnTo>
                  <a:pt x="459" y="1601"/>
                </a:lnTo>
                <a:lnTo>
                  <a:pt x="460" y="1604"/>
                </a:lnTo>
                <a:lnTo>
                  <a:pt x="463" y="1611"/>
                </a:lnTo>
                <a:lnTo>
                  <a:pt x="469" y="1618"/>
                </a:lnTo>
                <a:lnTo>
                  <a:pt x="478" y="1634"/>
                </a:lnTo>
                <a:lnTo>
                  <a:pt x="481" y="1642"/>
                </a:lnTo>
                <a:lnTo>
                  <a:pt x="481" y="1650"/>
                </a:lnTo>
                <a:lnTo>
                  <a:pt x="479" y="1653"/>
                </a:lnTo>
                <a:lnTo>
                  <a:pt x="463" y="1656"/>
                </a:lnTo>
                <a:lnTo>
                  <a:pt x="449" y="1664"/>
                </a:lnTo>
                <a:lnTo>
                  <a:pt x="435" y="1675"/>
                </a:lnTo>
                <a:lnTo>
                  <a:pt x="424" y="1690"/>
                </a:lnTo>
                <a:lnTo>
                  <a:pt x="399" y="1725"/>
                </a:lnTo>
                <a:lnTo>
                  <a:pt x="342" y="1798"/>
                </a:lnTo>
                <a:lnTo>
                  <a:pt x="303" y="1820"/>
                </a:lnTo>
                <a:lnTo>
                  <a:pt x="304" y="1830"/>
                </a:lnTo>
                <a:lnTo>
                  <a:pt x="304" y="1851"/>
                </a:lnTo>
                <a:lnTo>
                  <a:pt x="299" y="1873"/>
                </a:lnTo>
                <a:lnTo>
                  <a:pt x="286" y="1916"/>
                </a:lnTo>
                <a:lnTo>
                  <a:pt x="275" y="1942"/>
                </a:lnTo>
                <a:lnTo>
                  <a:pt x="282" y="1975"/>
                </a:lnTo>
                <a:lnTo>
                  <a:pt x="296" y="2047"/>
                </a:lnTo>
                <a:lnTo>
                  <a:pt x="325" y="2208"/>
                </a:lnTo>
                <a:lnTo>
                  <a:pt x="360" y="2361"/>
                </a:lnTo>
                <a:lnTo>
                  <a:pt x="372" y="2394"/>
                </a:lnTo>
                <a:lnTo>
                  <a:pt x="379" y="2406"/>
                </a:lnTo>
                <a:lnTo>
                  <a:pt x="390" y="2417"/>
                </a:lnTo>
                <a:lnTo>
                  <a:pt x="405" y="2429"/>
                </a:lnTo>
                <a:lnTo>
                  <a:pt x="445" y="2453"/>
                </a:lnTo>
                <a:lnTo>
                  <a:pt x="535" y="2500"/>
                </a:lnTo>
                <a:lnTo>
                  <a:pt x="588" y="2533"/>
                </a:lnTo>
                <a:lnTo>
                  <a:pt x="635" y="2532"/>
                </a:lnTo>
                <a:lnTo>
                  <a:pt x="682" y="2520"/>
                </a:lnTo>
                <a:lnTo>
                  <a:pt x="727" y="2498"/>
                </a:lnTo>
                <a:lnTo>
                  <a:pt x="817" y="2432"/>
                </a:lnTo>
                <a:lnTo>
                  <a:pt x="906" y="2357"/>
                </a:lnTo>
                <a:lnTo>
                  <a:pt x="996" y="2289"/>
                </a:lnTo>
                <a:lnTo>
                  <a:pt x="1090" y="2246"/>
                </a:lnTo>
                <a:lnTo>
                  <a:pt x="1139" y="2239"/>
                </a:lnTo>
                <a:lnTo>
                  <a:pt x="1165" y="2214"/>
                </a:lnTo>
                <a:lnTo>
                  <a:pt x="1215" y="2163"/>
                </a:lnTo>
                <a:lnTo>
                  <a:pt x="1303" y="2059"/>
                </a:lnTo>
                <a:lnTo>
                  <a:pt x="1367" y="1960"/>
                </a:lnTo>
                <a:lnTo>
                  <a:pt x="1379" y="1936"/>
                </a:lnTo>
                <a:lnTo>
                  <a:pt x="1392" y="1910"/>
                </a:lnTo>
                <a:lnTo>
                  <a:pt x="1415" y="1860"/>
                </a:lnTo>
                <a:lnTo>
                  <a:pt x="1440" y="1772"/>
                </a:lnTo>
                <a:lnTo>
                  <a:pt x="1427" y="1690"/>
                </a:lnTo>
                <a:lnTo>
                  <a:pt x="1418" y="1668"/>
                </a:lnTo>
                <a:lnTo>
                  <a:pt x="1407" y="1652"/>
                </a:lnTo>
                <a:lnTo>
                  <a:pt x="1383" y="1622"/>
                </a:lnTo>
                <a:lnTo>
                  <a:pt x="1327" y="1578"/>
                </a:lnTo>
                <a:lnTo>
                  <a:pt x="1263" y="1556"/>
                </a:lnTo>
                <a:lnTo>
                  <a:pt x="1247" y="1555"/>
                </a:lnTo>
                <a:lnTo>
                  <a:pt x="1247" y="1554"/>
                </a:lnTo>
                <a:lnTo>
                  <a:pt x="1249" y="1544"/>
                </a:lnTo>
                <a:lnTo>
                  <a:pt x="1259" y="1507"/>
                </a:lnTo>
                <a:lnTo>
                  <a:pt x="1267" y="1480"/>
                </a:lnTo>
                <a:lnTo>
                  <a:pt x="1268" y="1478"/>
                </a:lnTo>
                <a:lnTo>
                  <a:pt x="1266" y="1469"/>
                </a:lnTo>
                <a:lnTo>
                  <a:pt x="1261" y="1439"/>
                </a:lnTo>
                <a:lnTo>
                  <a:pt x="1258" y="1417"/>
                </a:lnTo>
                <a:lnTo>
                  <a:pt x="1258" y="1415"/>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16"/>
          <p:cNvSpPr/>
          <p:nvPr/>
        </p:nvSpPr>
        <p:spPr>
          <a:xfrm>
            <a:off x="3527280" y="3203640"/>
            <a:ext cx="1255680" cy="968400"/>
          </a:xfrm>
          <a:custGeom>
            <a:avLst/>
            <a:gdLst>
              <a:gd name="textAreaLeft" fmla="*/ 0 w 1255680"/>
              <a:gd name="textAreaRight" fmla="*/ 1256040 w 1255680"/>
              <a:gd name="textAreaTop" fmla="*/ 0 h 968400"/>
              <a:gd name="textAreaBottom" fmla="*/ 968760 h 968400"/>
            </a:gdLst>
            <a:ahLst/>
            <a:rect l="textAreaLeft" t="textAreaTop" r="textAreaRight" b="textAreaBottom"/>
            <a:pathLst>
              <a:path w="1583" h="1221">
                <a:moveTo>
                  <a:pt x="1424" y="597"/>
                </a:moveTo>
                <a:lnTo>
                  <a:pt x="1428" y="585"/>
                </a:lnTo>
                <a:lnTo>
                  <a:pt x="1431" y="563"/>
                </a:lnTo>
                <a:lnTo>
                  <a:pt x="1424" y="545"/>
                </a:lnTo>
                <a:lnTo>
                  <a:pt x="1410" y="531"/>
                </a:lnTo>
                <a:lnTo>
                  <a:pt x="1390" y="518"/>
                </a:lnTo>
                <a:lnTo>
                  <a:pt x="1365" y="505"/>
                </a:lnTo>
                <a:lnTo>
                  <a:pt x="1352" y="498"/>
                </a:lnTo>
                <a:lnTo>
                  <a:pt x="1353" y="488"/>
                </a:lnTo>
                <a:lnTo>
                  <a:pt x="1356" y="477"/>
                </a:lnTo>
                <a:lnTo>
                  <a:pt x="1362" y="467"/>
                </a:lnTo>
                <a:lnTo>
                  <a:pt x="1376" y="448"/>
                </a:lnTo>
                <a:lnTo>
                  <a:pt x="1392" y="431"/>
                </a:lnTo>
                <a:lnTo>
                  <a:pt x="1406" y="415"/>
                </a:lnTo>
                <a:lnTo>
                  <a:pt x="1414" y="398"/>
                </a:lnTo>
                <a:lnTo>
                  <a:pt x="1416" y="390"/>
                </a:lnTo>
                <a:lnTo>
                  <a:pt x="1422" y="365"/>
                </a:lnTo>
                <a:lnTo>
                  <a:pt x="1424" y="333"/>
                </a:lnTo>
                <a:lnTo>
                  <a:pt x="1416" y="262"/>
                </a:lnTo>
                <a:lnTo>
                  <a:pt x="1397" y="185"/>
                </a:lnTo>
                <a:lnTo>
                  <a:pt x="1338" y="53"/>
                </a:lnTo>
                <a:lnTo>
                  <a:pt x="1305" y="15"/>
                </a:lnTo>
                <a:lnTo>
                  <a:pt x="1298" y="17"/>
                </a:lnTo>
                <a:lnTo>
                  <a:pt x="1262" y="29"/>
                </a:lnTo>
                <a:lnTo>
                  <a:pt x="1133" y="66"/>
                </a:lnTo>
                <a:lnTo>
                  <a:pt x="1036" y="96"/>
                </a:lnTo>
                <a:lnTo>
                  <a:pt x="1030" y="97"/>
                </a:lnTo>
                <a:lnTo>
                  <a:pt x="1026" y="90"/>
                </a:lnTo>
                <a:lnTo>
                  <a:pt x="1014" y="66"/>
                </a:lnTo>
                <a:lnTo>
                  <a:pt x="1006" y="48"/>
                </a:lnTo>
                <a:lnTo>
                  <a:pt x="1006" y="47"/>
                </a:lnTo>
                <a:lnTo>
                  <a:pt x="980" y="48"/>
                </a:lnTo>
                <a:lnTo>
                  <a:pt x="925" y="50"/>
                </a:lnTo>
                <a:lnTo>
                  <a:pt x="814" y="64"/>
                </a:lnTo>
                <a:lnTo>
                  <a:pt x="713" y="88"/>
                </a:lnTo>
                <a:lnTo>
                  <a:pt x="692" y="95"/>
                </a:lnTo>
                <a:lnTo>
                  <a:pt x="680" y="91"/>
                </a:lnTo>
                <a:lnTo>
                  <a:pt x="655" y="78"/>
                </a:lnTo>
                <a:lnTo>
                  <a:pt x="609" y="45"/>
                </a:lnTo>
                <a:lnTo>
                  <a:pt x="569" y="9"/>
                </a:lnTo>
                <a:lnTo>
                  <a:pt x="561" y="0"/>
                </a:lnTo>
                <a:lnTo>
                  <a:pt x="526" y="4"/>
                </a:lnTo>
                <a:lnTo>
                  <a:pt x="489" y="13"/>
                </a:lnTo>
                <a:lnTo>
                  <a:pt x="411" y="47"/>
                </a:lnTo>
                <a:lnTo>
                  <a:pt x="331" y="93"/>
                </a:lnTo>
                <a:lnTo>
                  <a:pt x="179" y="186"/>
                </a:lnTo>
                <a:lnTo>
                  <a:pt x="116" y="218"/>
                </a:lnTo>
                <a:lnTo>
                  <a:pt x="107" y="220"/>
                </a:lnTo>
                <a:lnTo>
                  <a:pt x="97" y="224"/>
                </a:lnTo>
                <a:lnTo>
                  <a:pt x="88" y="231"/>
                </a:lnTo>
                <a:lnTo>
                  <a:pt x="67" y="250"/>
                </a:lnTo>
                <a:lnTo>
                  <a:pt x="31" y="292"/>
                </a:lnTo>
                <a:lnTo>
                  <a:pt x="13" y="314"/>
                </a:lnTo>
                <a:lnTo>
                  <a:pt x="13" y="316"/>
                </a:lnTo>
                <a:lnTo>
                  <a:pt x="16" y="328"/>
                </a:lnTo>
                <a:lnTo>
                  <a:pt x="27" y="371"/>
                </a:lnTo>
                <a:lnTo>
                  <a:pt x="34" y="403"/>
                </a:lnTo>
                <a:lnTo>
                  <a:pt x="35" y="405"/>
                </a:lnTo>
                <a:lnTo>
                  <a:pt x="35" y="409"/>
                </a:lnTo>
                <a:lnTo>
                  <a:pt x="34" y="414"/>
                </a:lnTo>
                <a:lnTo>
                  <a:pt x="32" y="419"/>
                </a:lnTo>
                <a:lnTo>
                  <a:pt x="25" y="432"/>
                </a:lnTo>
                <a:lnTo>
                  <a:pt x="8" y="467"/>
                </a:lnTo>
                <a:lnTo>
                  <a:pt x="0" y="499"/>
                </a:lnTo>
                <a:lnTo>
                  <a:pt x="1" y="502"/>
                </a:lnTo>
                <a:lnTo>
                  <a:pt x="14" y="522"/>
                </a:lnTo>
                <a:lnTo>
                  <a:pt x="58" y="588"/>
                </a:lnTo>
                <a:lnTo>
                  <a:pt x="91" y="638"/>
                </a:lnTo>
                <a:lnTo>
                  <a:pt x="93" y="640"/>
                </a:lnTo>
                <a:lnTo>
                  <a:pt x="95" y="654"/>
                </a:lnTo>
                <a:lnTo>
                  <a:pt x="98" y="685"/>
                </a:lnTo>
                <a:lnTo>
                  <a:pt x="106" y="753"/>
                </a:lnTo>
                <a:lnTo>
                  <a:pt x="128" y="842"/>
                </a:lnTo>
                <a:lnTo>
                  <a:pt x="139" y="868"/>
                </a:lnTo>
                <a:lnTo>
                  <a:pt x="151" y="895"/>
                </a:lnTo>
                <a:lnTo>
                  <a:pt x="184" y="935"/>
                </a:lnTo>
                <a:lnTo>
                  <a:pt x="225" y="962"/>
                </a:lnTo>
                <a:lnTo>
                  <a:pt x="270" y="976"/>
                </a:lnTo>
                <a:lnTo>
                  <a:pt x="316" y="979"/>
                </a:lnTo>
                <a:lnTo>
                  <a:pt x="359" y="972"/>
                </a:lnTo>
                <a:lnTo>
                  <a:pt x="379" y="965"/>
                </a:lnTo>
                <a:lnTo>
                  <a:pt x="386" y="973"/>
                </a:lnTo>
                <a:lnTo>
                  <a:pt x="407" y="995"/>
                </a:lnTo>
                <a:lnTo>
                  <a:pt x="423" y="1014"/>
                </a:lnTo>
                <a:lnTo>
                  <a:pt x="424" y="1014"/>
                </a:lnTo>
                <a:lnTo>
                  <a:pt x="423" y="1019"/>
                </a:lnTo>
                <a:lnTo>
                  <a:pt x="422" y="1029"/>
                </a:lnTo>
                <a:lnTo>
                  <a:pt x="421" y="1050"/>
                </a:lnTo>
                <a:lnTo>
                  <a:pt x="423" y="1061"/>
                </a:lnTo>
                <a:lnTo>
                  <a:pt x="428" y="1070"/>
                </a:lnTo>
                <a:lnTo>
                  <a:pt x="432" y="1074"/>
                </a:lnTo>
                <a:lnTo>
                  <a:pt x="436" y="1074"/>
                </a:lnTo>
                <a:lnTo>
                  <a:pt x="440" y="1072"/>
                </a:lnTo>
                <a:lnTo>
                  <a:pt x="446" y="1069"/>
                </a:lnTo>
                <a:lnTo>
                  <a:pt x="455" y="1060"/>
                </a:lnTo>
                <a:lnTo>
                  <a:pt x="465" y="1048"/>
                </a:lnTo>
                <a:lnTo>
                  <a:pt x="477" y="1027"/>
                </a:lnTo>
                <a:lnTo>
                  <a:pt x="478" y="1023"/>
                </a:lnTo>
                <a:lnTo>
                  <a:pt x="497" y="1024"/>
                </a:lnTo>
                <a:lnTo>
                  <a:pt x="536" y="1028"/>
                </a:lnTo>
                <a:lnTo>
                  <a:pt x="597" y="1049"/>
                </a:lnTo>
                <a:lnTo>
                  <a:pt x="618" y="1070"/>
                </a:lnTo>
                <a:lnTo>
                  <a:pt x="632" y="1096"/>
                </a:lnTo>
                <a:lnTo>
                  <a:pt x="637" y="1112"/>
                </a:lnTo>
                <a:lnTo>
                  <a:pt x="650" y="1115"/>
                </a:lnTo>
                <a:lnTo>
                  <a:pt x="691" y="1121"/>
                </a:lnTo>
                <a:lnTo>
                  <a:pt x="722" y="1125"/>
                </a:lnTo>
                <a:lnTo>
                  <a:pt x="725" y="1125"/>
                </a:lnTo>
                <a:lnTo>
                  <a:pt x="733" y="1134"/>
                </a:lnTo>
                <a:lnTo>
                  <a:pt x="748" y="1147"/>
                </a:lnTo>
                <a:lnTo>
                  <a:pt x="775" y="1167"/>
                </a:lnTo>
                <a:lnTo>
                  <a:pt x="815" y="1181"/>
                </a:lnTo>
                <a:lnTo>
                  <a:pt x="830" y="1184"/>
                </a:lnTo>
                <a:lnTo>
                  <a:pt x="831" y="1184"/>
                </a:lnTo>
                <a:lnTo>
                  <a:pt x="844" y="1182"/>
                </a:lnTo>
                <a:lnTo>
                  <a:pt x="888" y="1175"/>
                </a:lnTo>
                <a:lnTo>
                  <a:pt x="921" y="1169"/>
                </a:lnTo>
                <a:lnTo>
                  <a:pt x="923" y="1168"/>
                </a:lnTo>
                <a:lnTo>
                  <a:pt x="937" y="1177"/>
                </a:lnTo>
                <a:lnTo>
                  <a:pt x="980" y="1201"/>
                </a:lnTo>
                <a:lnTo>
                  <a:pt x="1012" y="1220"/>
                </a:lnTo>
                <a:lnTo>
                  <a:pt x="1014" y="1221"/>
                </a:lnTo>
                <a:lnTo>
                  <a:pt x="1022" y="1213"/>
                </a:lnTo>
                <a:lnTo>
                  <a:pt x="1047" y="1192"/>
                </a:lnTo>
                <a:lnTo>
                  <a:pt x="1067" y="1175"/>
                </a:lnTo>
                <a:lnTo>
                  <a:pt x="1069" y="1174"/>
                </a:lnTo>
                <a:lnTo>
                  <a:pt x="1070" y="1174"/>
                </a:lnTo>
                <a:lnTo>
                  <a:pt x="1083" y="1173"/>
                </a:lnTo>
                <a:lnTo>
                  <a:pt x="1126" y="1168"/>
                </a:lnTo>
                <a:lnTo>
                  <a:pt x="1159" y="1165"/>
                </a:lnTo>
                <a:lnTo>
                  <a:pt x="1161" y="1164"/>
                </a:lnTo>
                <a:lnTo>
                  <a:pt x="1169" y="1161"/>
                </a:lnTo>
                <a:lnTo>
                  <a:pt x="1187" y="1157"/>
                </a:lnTo>
                <a:lnTo>
                  <a:pt x="1221" y="1152"/>
                </a:lnTo>
                <a:lnTo>
                  <a:pt x="1236" y="1153"/>
                </a:lnTo>
                <a:lnTo>
                  <a:pt x="1248" y="1156"/>
                </a:lnTo>
                <a:lnTo>
                  <a:pt x="1252" y="1159"/>
                </a:lnTo>
                <a:lnTo>
                  <a:pt x="1254" y="1164"/>
                </a:lnTo>
                <a:lnTo>
                  <a:pt x="1254" y="1168"/>
                </a:lnTo>
                <a:lnTo>
                  <a:pt x="1253" y="1172"/>
                </a:lnTo>
                <a:lnTo>
                  <a:pt x="1251" y="1177"/>
                </a:lnTo>
                <a:lnTo>
                  <a:pt x="1249" y="1181"/>
                </a:lnTo>
                <a:lnTo>
                  <a:pt x="1242" y="1188"/>
                </a:lnTo>
                <a:lnTo>
                  <a:pt x="1235" y="1195"/>
                </a:lnTo>
                <a:lnTo>
                  <a:pt x="1234" y="1197"/>
                </a:lnTo>
                <a:lnTo>
                  <a:pt x="1235" y="1198"/>
                </a:lnTo>
                <a:lnTo>
                  <a:pt x="1238" y="1199"/>
                </a:lnTo>
                <a:lnTo>
                  <a:pt x="1262" y="1200"/>
                </a:lnTo>
                <a:lnTo>
                  <a:pt x="1344" y="1203"/>
                </a:lnTo>
                <a:lnTo>
                  <a:pt x="1408" y="1206"/>
                </a:lnTo>
                <a:lnTo>
                  <a:pt x="1412" y="1206"/>
                </a:lnTo>
                <a:lnTo>
                  <a:pt x="1410" y="1194"/>
                </a:lnTo>
                <a:lnTo>
                  <a:pt x="1406" y="1154"/>
                </a:lnTo>
                <a:lnTo>
                  <a:pt x="1402" y="1125"/>
                </a:lnTo>
                <a:lnTo>
                  <a:pt x="1402" y="1123"/>
                </a:lnTo>
                <a:lnTo>
                  <a:pt x="1406" y="1118"/>
                </a:lnTo>
                <a:lnTo>
                  <a:pt x="1430" y="1080"/>
                </a:lnTo>
                <a:lnTo>
                  <a:pt x="1514" y="949"/>
                </a:lnTo>
                <a:lnTo>
                  <a:pt x="1578" y="849"/>
                </a:lnTo>
                <a:lnTo>
                  <a:pt x="1583" y="843"/>
                </a:lnTo>
                <a:lnTo>
                  <a:pt x="1577" y="833"/>
                </a:lnTo>
                <a:lnTo>
                  <a:pt x="1565" y="805"/>
                </a:lnTo>
                <a:lnTo>
                  <a:pt x="1534" y="732"/>
                </a:lnTo>
                <a:lnTo>
                  <a:pt x="1497" y="665"/>
                </a:lnTo>
                <a:lnTo>
                  <a:pt x="1487" y="654"/>
                </a:lnTo>
                <a:lnTo>
                  <a:pt x="1485" y="653"/>
                </a:lnTo>
                <a:lnTo>
                  <a:pt x="1476" y="646"/>
                </a:lnTo>
                <a:lnTo>
                  <a:pt x="1447" y="619"/>
                </a:lnTo>
                <a:lnTo>
                  <a:pt x="1425" y="599"/>
                </a:lnTo>
                <a:lnTo>
                  <a:pt x="1424" y="5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17"/>
          <p:cNvSpPr/>
          <p:nvPr/>
        </p:nvSpPr>
        <p:spPr>
          <a:xfrm>
            <a:off x="4581360" y="3619440"/>
            <a:ext cx="71640" cy="82440"/>
          </a:xfrm>
          <a:custGeom>
            <a:avLst/>
            <a:gdLst>
              <a:gd name="textAreaLeft" fmla="*/ 0 w 71640"/>
              <a:gd name="textAreaRight" fmla="*/ 72000 w 71640"/>
              <a:gd name="textAreaTop" fmla="*/ 0 h 82440"/>
              <a:gd name="textAreaBottom" fmla="*/ 82800 h 82440"/>
            </a:gdLst>
            <a:ahLst/>
            <a:rect l="textAreaLeft" t="textAreaTop" r="textAreaRight" b="textAreaBottom"/>
            <a:pathLst>
              <a:path w="89" h="104">
                <a:moveTo>
                  <a:pt x="0" y="4"/>
                </a:moveTo>
                <a:lnTo>
                  <a:pt x="1" y="6"/>
                </a:lnTo>
                <a:lnTo>
                  <a:pt x="2" y="7"/>
                </a:lnTo>
                <a:lnTo>
                  <a:pt x="5" y="9"/>
                </a:lnTo>
                <a:lnTo>
                  <a:pt x="6" y="10"/>
                </a:lnTo>
                <a:lnTo>
                  <a:pt x="7" y="10"/>
                </a:lnTo>
                <a:lnTo>
                  <a:pt x="10" y="12"/>
                </a:lnTo>
                <a:lnTo>
                  <a:pt x="11" y="12"/>
                </a:lnTo>
                <a:lnTo>
                  <a:pt x="12" y="12"/>
                </a:lnTo>
                <a:lnTo>
                  <a:pt x="15" y="14"/>
                </a:lnTo>
                <a:lnTo>
                  <a:pt x="16" y="15"/>
                </a:lnTo>
                <a:lnTo>
                  <a:pt x="17" y="15"/>
                </a:lnTo>
                <a:lnTo>
                  <a:pt x="20" y="17"/>
                </a:lnTo>
                <a:lnTo>
                  <a:pt x="21" y="17"/>
                </a:lnTo>
                <a:lnTo>
                  <a:pt x="22" y="17"/>
                </a:lnTo>
                <a:lnTo>
                  <a:pt x="24" y="20"/>
                </a:lnTo>
                <a:lnTo>
                  <a:pt x="26" y="20"/>
                </a:lnTo>
                <a:lnTo>
                  <a:pt x="29" y="22"/>
                </a:lnTo>
                <a:lnTo>
                  <a:pt x="30" y="23"/>
                </a:lnTo>
                <a:lnTo>
                  <a:pt x="31" y="23"/>
                </a:lnTo>
                <a:lnTo>
                  <a:pt x="33" y="25"/>
                </a:lnTo>
                <a:lnTo>
                  <a:pt x="35" y="25"/>
                </a:lnTo>
                <a:lnTo>
                  <a:pt x="37" y="27"/>
                </a:lnTo>
                <a:lnTo>
                  <a:pt x="39" y="27"/>
                </a:lnTo>
                <a:lnTo>
                  <a:pt x="41" y="29"/>
                </a:lnTo>
                <a:lnTo>
                  <a:pt x="44" y="29"/>
                </a:lnTo>
                <a:lnTo>
                  <a:pt x="46" y="31"/>
                </a:lnTo>
                <a:lnTo>
                  <a:pt x="47" y="32"/>
                </a:lnTo>
                <a:lnTo>
                  <a:pt x="48" y="32"/>
                </a:lnTo>
                <a:lnTo>
                  <a:pt x="50" y="34"/>
                </a:lnTo>
                <a:lnTo>
                  <a:pt x="51" y="34"/>
                </a:lnTo>
                <a:lnTo>
                  <a:pt x="53" y="36"/>
                </a:lnTo>
                <a:lnTo>
                  <a:pt x="55" y="36"/>
                </a:lnTo>
                <a:lnTo>
                  <a:pt x="56" y="38"/>
                </a:lnTo>
                <a:lnTo>
                  <a:pt x="58" y="39"/>
                </a:lnTo>
                <a:lnTo>
                  <a:pt x="59" y="39"/>
                </a:lnTo>
                <a:lnTo>
                  <a:pt x="61" y="41"/>
                </a:lnTo>
                <a:lnTo>
                  <a:pt x="62" y="41"/>
                </a:lnTo>
                <a:lnTo>
                  <a:pt x="63" y="43"/>
                </a:lnTo>
                <a:lnTo>
                  <a:pt x="64" y="43"/>
                </a:lnTo>
                <a:lnTo>
                  <a:pt x="65" y="45"/>
                </a:lnTo>
                <a:lnTo>
                  <a:pt x="66" y="46"/>
                </a:lnTo>
                <a:lnTo>
                  <a:pt x="67" y="46"/>
                </a:lnTo>
                <a:lnTo>
                  <a:pt x="68" y="48"/>
                </a:lnTo>
                <a:lnTo>
                  <a:pt x="69" y="48"/>
                </a:lnTo>
                <a:lnTo>
                  <a:pt x="70" y="50"/>
                </a:lnTo>
                <a:lnTo>
                  <a:pt x="71" y="51"/>
                </a:lnTo>
                <a:lnTo>
                  <a:pt x="73" y="53"/>
                </a:lnTo>
                <a:lnTo>
                  <a:pt x="74" y="54"/>
                </a:lnTo>
                <a:lnTo>
                  <a:pt x="75" y="56"/>
                </a:lnTo>
                <a:lnTo>
                  <a:pt x="76" y="58"/>
                </a:lnTo>
                <a:lnTo>
                  <a:pt x="77" y="59"/>
                </a:lnTo>
                <a:lnTo>
                  <a:pt x="77" y="60"/>
                </a:lnTo>
                <a:lnTo>
                  <a:pt x="77" y="61"/>
                </a:lnTo>
                <a:lnTo>
                  <a:pt x="77" y="62"/>
                </a:lnTo>
                <a:lnTo>
                  <a:pt x="78" y="62"/>
                </a:lnTo>
                <a:lnTo>
                  <a:pt x="78" y="63"/>
                </a:lnTo>
                <a:lnTo>
                  <a:pt x="78" y="64"/>
                </a:lnTo>
                <a:lnTo>
                  <a:pt x="78" y="65"/>
                </a:lnTo>
                <a:lnTo>
                  <a:pt x="79" y="65"/>
                </a:lnTo>
                <a:lnTo>
                  <a:pt x="79" y="66"/>
                </a:lnTo>
                <a:lnTo>
                  <a:pt x="79" y="67"/>
                </a:lnTo>
                <a:lnTo>
                  <a:pt x="79" y="68"/>
                </a:lnTo>
                <a:lnTo>
                  <a:pt x="79" y="69"/>
                </a:lnTo>
                <a:lnTo>
                  <a:pt x="79" y="70"/>
                </a:lnTo>
                <a:lnTo>
                  <a:pt x="79" y="71"/>
                </a:lnTo>
                <a:lnTo>
                  <a:pt x="79" y="73"/>
                </a:lnTo>
                <a:lnTo>
                  <a:pt x="79" y="75"/>
                </a:lnTo>
                <a:lnTo>
                  <a:pt x="79" y="76"/>
                </a:lnTo>
                <a:lnTo>
                  <a:pt x="79" y="77"/>
                </a:lnTo>
                <a:lnTo>
                  <a:pt x="79" y="78"/>
                </a:lnTo>
                <a:lnTo>
                  <a:pt x="79" y="79"/>
                </a:lnTo>
                <a:lnTo>
                  <a:pt x="78" y="82"/>
                </a:lnTo>
                <a:lnTo>
                  <a:pt x="78" y="83"/>
                </a:lnTo>
                <a:lnTo>
                  <a:pt x="77" y="86"/>
                </a:lnTo>
                <a:lnTo>
                  <a:pt x="77" y="87"/>
                </a:lnTo>
                <a:lnTo>
                  <a:pt x="76" y="91"/>
                </a:lnTo>
                <a:lnTo>
                  <a:pt x="76" y="92"/>
                </a:lnTo>
                <a:lnTo>
                  <a:pt x="75" y="95"/>
                </a:lnTo>
                <a:lnTo>
                  <a:pt x="75" y="96"/>
                </a:lnTo>
                <a:lnTo>
                  <a:pt x="74" y="97"/>
                </a:lnTo>
                <a:lnTo>
                  <a:pt x="73" y="100"/>
                </a:lnTo>
                <a:lnTo>
                  <a:pt x="71" y="101"/>
                </a:lnTo>
                <a:lnTo>
                  <a:pt x="77" y="103"/>
                </a:lnTo>
                <a:lnTo>
                  <a:pt x="80" y="104"/>
                </a:lnTo>
                <a:lnTo>
                  <a:pt x="81" y="104"/>
                </a:lnTo>
                <a:lnTo>
                  <a:pt x="82" y="101"/>
                </a:lnTo>
                <a:lnTo>
                  <a:pt x="82" y="100"/>
                </a:lnTo>
                <a:lnTo>
                  <a:pt x="83" y="99"/>
                </a:lnTo>
                <a:lnTo>
                  <a:pt x="84" y="96"/>
                </a:lnTo>
                <a:lnTo>
                  <a:pt x="84" y="95"/>
                </a:lnTo>
                <a:lnTo>
                  <a:pt x="85" y="94"/>
                </a:lnTo>
                <a:lnTo>
                  <a:pt x="85" y="92"/>
                </a:lnTo>
                <a:lnTo>
                  <a:pt x="85" y="91"/>
                </a:lnTo>
                <a:lnTo>
                  <a:pt x="86" y="90"/>
                </a:lnTo>
                <a:lnTo>
                  <a:pt x="86" y="87"/>
                </a:lnTo>
                <a:lnTo>
                  <a:pt x="86" y="86"/>
                </a:lnTo>
                <a:lnTo>
                  <a:pt x="88" y="85"/>
                </a:lnTo>
                <a:lnTo>
                  <a:pt x="88" y="83"/>
                </a:lnTo>
                <a:lnTo>
                  <a:pt x="88" y="82"/>
                </a:lnTo>
                <a:lnTo>
                  <a:pt x="89" y="81"/>
                </a:lnTo>
                <a:lnTo>
                  <a:pt x="89" y="78"/>
                </a:lnTo>
                <a:lnTo>
                  <a:pt x="89" y="77"/>
                </a:lnTo>
                <a:lnTo>
                  <a:pt x="89" y="76"/>
                </a:lnTo>
                <a:lnTo>
                  <a:pt x="89" y="74"/>
                </a:lnTo>
                <a:lnTo>
                  <a:pt x="89" y="73"/>
                </a:lnTo>
                <a:lnTo>
                  <a:pt x="89" y="71"/>
                </a:lnTo>
                <a:lnTo>
                  <a:pt x="89" y="69"/>
                </a:lnTo>
                <a:lnTo>
                  <a:pt x="89" y="68"/>
                </a:lnTo>
                <a:lnTo>
                  <a:pt x="89" y="67"/>
                </a:lnTo>
                <a:lnTo>
                  <a:pt x="88" y="65"/>
                </a:lnTo>
                <a:lnTo>
                  <a:pt x="88" y="64"/>
                </a:lnTo>
                <a:lnTo>
                  <a:pt x="88" y="63"/>
                </a:lnTo>
                <a:lnTo>
                  <a:pt x="86" y="61"/>
                </a:lnTo>
                <a:lnTo>
                  <a:pt x="86" y="60"/>
                </a:lnTo>
                <a:lnTo>
                  <a:pt x="86" y="59"/>
                </a:lnTo>
                <a:lnTo>
                  <a:pt x="85" y="57"/>
                </a:lnTo>
                <a:lnTo>
                  <a:pt x="85" y="56"/>
                </a:lnTo>
                <a:lnTo>
                  <a:pt x="83" y="54"/>
                </a:lnTo>
                <a:lnTo>
                  <a:pt x="83" y="52"/>
                </a:lnTo>
                <a:lnTo>
                  <a:pt x="82" y="50"/>
                </a:lnTo>
                <a:lnTo>
                  <a:pt x="82" y="49"/>
                </a:lnTo>
                <a:lnTo>
                  <a:pt x="80" y="48"/>
                </a:lnTo>
                <a:lnTo>
                  <a:pt x="79" y="47"/>
                </a:lnTo>
                <a:lnTo>
                  <a:pt x="79" y="46"/>
                </a:lnTo>
                <a:lnTo>
                  <a:pt x="77" y="44"/>
                </a:lnTo>
                <a:lnTo>
                  <a:pt x="77" y="43"/>
                </a:lnTo>
                <a:lnTo>
                  <a:pt x="75" y="42"/>
                </a:lnTo>
                <a:lnTo>
                  <a:pt x="74" y="41"/>
                </a:lnTo>
                <a:lnTo>
                  <a:pt x="74" y="40"/>
                </a:lnTo>
                <a:lnTo>
                  <a:pt x="71" y="38"/>
                </a:lnTo>
                <a:lnTo>
                  <a:pt x="71" y="37"/>
                </a:lnTo>
                <a:lnTo>
                  <a:pt x="69" y="36"/>
                </a:lnTo>
                <a:lnTo>
                  <a:pt x="68" y="35"/>
                </a:lnTo>
                <a:lnTo>
                  <a:pt x="68" y="34"/>
                </a:lnTo>
                <a:lnTo>
                  <a:pt x="65" y="33"/>
                </a:lnTo>
                <a:lnTo>
                  <a:pt x="64" y="32"/>
                </a:lnTo>
                <a:lnTo>
                  <a:pt x="62" y="31"/>
                </a:lnTo>
                <a:lnTo>
                  <a:pt x="61" y="30"/>
                </a:lnTo>
                <a:lnTo>
                  <a:pt x="61" y="29"/>
                </a:lnTo>
                <a:lnTo>
                  <a:pt x="58" y="28"/>
                </a:lnTo>
                <a:lnTo>
                  <a:pt x="56" y="27"/>
                </a:lnTo>
                <a:lnTo>
                  <a:pt x="54" y="26"/>
                </a:lnTo>
                <a:lnTo>
                  <a:pt x="53" y="25"/>
                </a:lnTo>
                <a:lnTo>
                  <a:pt x="53" y="24"/>
                </a:lnTo>
                <a:lnTo>
                  <a:pt x="50" y="23"/>
                </a:lnTo>
                <a:lnTo>
                  <a:pt x="49" y="22"/>
                </a:lnTo>
                <a:lnTo>
                  <a:pt x="46" y="21"/>
                </a:lnTo>
                <a:lnTo>
                  <a:pt x="45" y="20"/>
                </a:lnTo>
                <a:lnTo>
                  <a:pt x="45" y="19"/>
                </a:lnTo>
                <a:lnTo>
                  <a:pt x="41" y="17"/>
                </a:lnTo>
                <a:lnTo>
                  <a:pt x="40" y="16"/>
                </a:lnTo>
                <a:lnTo>
                  <a:pt x="37" y="15"/>
                </a:lnTo>
                <a:lnTo>
                  <a:pt x="36" y="14"/>
                </a:lnTo>
                <a:lnTo>
                  <a:pt x="32" y="13"/>
                </a:lnTo>
                <a:lnTo>
                  <a:pt x="31" y="12"/>
                </a:lnTo>
                <a:lnTo>
                  <a:pt x="31" y="11"/>
                </a:lnTo>
                <a:lnTo>
                  <a:pt x="28" y="10"/>
                </a:lnTo>
                <a:lnTo>
                  <a:pt x="26" y="9"/>
                </a:lnTo>
                <a:lnTo>
                  <a:pt x="25" y="9"/>
                </a:lnTo>
                <a:lnTo>
                  <a:pt x="22" y="8"/>
                </a:lnTo>
                <a:lnTo>
                  <a:pt x="21" y="8"/>
                </a:lnTo>
                <a:lnTo>
                  <a:pt x="21" y="7"/>
                </a:lnTo>
                <a:lnTo>
                  <a:pt x="18" y="6"/>
                </a:lnTo>
                <a:lnTo>
                  <a:pt x="17" y="5"/>
                </a:lnTo>
                <a:lnTo>
                  <a:pt x="17" y="4"/>
                </a:lnTo>
                <a:lnTo>
                  <a:pt x="16" y="4"/>
                </a:lnTo>
                <a:lnTo>
                  <a:pt x="12" y="3"/>
                </a:lnTo>
                <a:lnTo>
                  <a:pt x="11" y="3"/>
                </a:lnTo>
                <a:lnTo>
                  <a:pt x="11" y="2"/>
                </a:lnTo>
                <a:lnTo>
                  <a:pt x="8" y="1"/>
                </a:lnTo>
                <a:lnTo>
                  <a:pt x="7" y="0"/>
                </a:lnTo>
                <a:lnTo>
                  <a:pt x="8" y="3"/>
                </a:lnTo>
                <a:lnTo>
                  <a:pt x="9" y="4"/>
                </a:lnTo>
                <a:lnTo>
                  <a:pt x="8" y="4"/>
                </a:lnTo>
                <a:lnTo>
                  <a:pt x="7" y="4"/>
                </a:lnTo>
                <a:lnTo>
                  <a:pt x="3" y="4"/>
                </a:lnTo>
                <a:lnTo>
                  <a:pt x="0" y="4"/>
                </a:lnTo>
                <a:lnTo>
                  <a:pt x="0" y="5"/>
                </a:lnTo>
                <a:lnTo>
                  <a:pt x="0" y="6"/>
                </a:lnTo>
                <a:lnTo>
                  <a:pt x="1" y="7"/>
                </a:lnTo>
                <a:lnTo>
                  <a:pt x="2" y="7"/>
                </a:lnTo>
                <a:lnTo>
                  <a:pt x="0" y="4"/>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9" name="Freeform 18"/>
          <p:cNvSpPr/>
          <p:nvPr/>
        </p:nvSpPr>
        <p:spPr>
          <a:xfrm>
            <a:off x="4581360" y="3535200"/>
            <a:ext cx="59040" cy="87480"/>
          </a:xfrm>
          <a:custGeom>
            <a:avLst/>
            <a:gdLst>
              <a:gd name="textAreaLeft" fmla="*/ 0 w 59040"/>
              <a:gd name="textAreaRight" fmla="*/ 59400 w 59040"/>
              <a:gd name="textAreaTop" fmla="*/ 0 h 87480"/>
              <a:gd name="textAreaBottom" fmla="*/ 87840 h 87480"/>
            </a:gdLst>
            <a:ahLst/>
            <a:rect l="textAreaLeft" t="textAreaTop" r="textAreaRight" b="textAreaBottom"/>
            <a:pathLst>
              <a:path w="74" h="109">
                <a:moveTo>
                  <a:pt x="64" y="0"/>
                </a:moveTo>
                <a:lnTo>
                  <a:pt x="64" y="1"/>
                </a:lnTo>
                <a:lnTo>
                  <a:pt x="64" y="2"/>
                </a:lnTo>
                <a:lnTo>
                  <a:pt x="64" y="3"/>
                </a:lnTo>
                <a:lnTo>
                  <a:pt x="63" y="4"/>
                </a:lnTo>
                <a:lnTo>
                  <a:pt x="63" y="5"/>
                </a:lnTo>
                <a:lnTo>
                  <a:pt x="63" y="6"/>
                </a:lnTo>
                <a:lnTo>
                  <a:pt x="63" y="7"/>
                </a:lnTo>
                <a:lnTo>
                  <a:pt x="63" y="8"/>
                </a:lnTo>
                <a:lnTo>
                  <a:pt x="62" y="9"/>
                </a:lnTo>
                <a:lnTo>
                  <a:pt x="62" y="10"/>
                </a:lnTo>
                <a:lnTo>
                  <a:pt x="61" y="12"/>
                </a:lnTo>
                <a:lnTo>
                  <a:pt x="61" y="13"/>
                </a:lnTo>
                <a:lnTo>
                  <a:pt x="60" y="14"/>
                </a:lnTo>
                <a:lnTo>
                  <a:pt x="59" y="16"/>
                </a:lnTo>
                <a:lnTo>
                  <a:pt x="59" y="17"/>
                </a:lnTo>
                <a:lnTo>
                  <a:pt x="58" y="18"/>
                </a:lnTo>
                <a:lnTo>
                  <a:pt x="56" y="19"/>
                </a:lnTo>
                <a:lnTo>
                  <a:pt x="55" y="20"/>
                </a:lnTo>
                <a:lnTo>
                  <a:pt x="54" y="21"/>
                </a:lnTo>
                <a:lnTo>
                  <a:pt x="54" y="22"/>
                </a:lnTo>
                <a:lnTo>
                  <a:pt x="53" y="23"/>
                </a:lnTo>
                <a:lnTo>
                  <a:pt x="52" y="24"/>
                </a:lnTo>
                <a:lnTo>
                  <a:pt x="52" y="25"/>
                </a:lnTo>
                <a:lnTo>
                  <a:pt x="51" y="26"/>
                </a:lnTo>
                <a:lnTo>
                  <a:pt x="50" y="27"/>
                </a:lnTo>
                <a:lnTo>
                  <a:pt x="50" y="28"/>
                </a:lnTo>
                <a:lnTo>
                  <a:pt x="49" y="29"/>
                </a:lnTo>
                <a:lnTo>
                  <a:pt x="48" y="30"/>
                </a:lnTo>
                <a:lnTo>
                  <a:pt x="48" y="31"/>
                </a:lnTo>
                <a:lnTo>
                  <a:pt x="47" y="32"/>
                </a:lnTo>
                <a:lnTo>
                  <a:pt x="46" y="33"/>
                </a:lnTo>
                <a:lnTo>
                  <a:pt x="45" y="34"/>
                </a:lnTo>
                <a:lnTo>
                  <a:pt x="44" y="35"/>
                </a:lnTo>
                <a:lnTo>
                  <a:pt x="43" y="36"/>
                </a:lnTo>
                <a:lnTo>
                  <a:pt x="41" y="37"/>
                </a:lnTo>
                <a:lnTo>
                  <a:pt x="40" y="38"/>
                </a:lnTo>
                <a:lnTo>
                  <a:pt x="39" y="39"/>
                </a:lnTo>
                <a:lnTo>
                  <a:pt x="39" y="40"/>
                </a:lnTo>
                <a:lnTo>
                  <a:pt x="38" y="41"/>
                </a:lnTo>
                <a:lnTo>
                  <a:pt x="37" y="42"/>
                </a:lnTo>
                <a:lnTo>
                  <a:pt x="36" y="43"/>
                </a:lnTo>
                <a:lnTo>
                  <a:pt x="35" y="44"/>
                </a:lnTo>
                <a:lnTo>
                  <a:pt x="34" y="45"/>
                </a:lnTo>
                <a:lnTo>
                  <a:pt x="33" y="46"/>
                </a:lnTo>
                <a:lnTo>
                  <a:pt x="32" y="47"/>
                </a:lnTo>
                <a:lnTo>
                  <a:pt x="31" y="49"/>
                </a:lnTo>
                <a:lnTo>
                  <a:pt x="30" y="50"/>
                </a:lnTo>
                <a:lnTo>
                  <a:pt x="29" y="51"/>
                </a:lnTo>
                <a:lnTo>
                  <a:pt x="28" y="52"/>
                </a:lnTo>
                <a:lnTo>
                  <a:pt x="26" y="53"/>
                </a:lnTo>
                <a:lnTo>
                  <a:pt x="25" y="54"/>
                </a:lnTo>
                <a:lnTo>
                  <a:pt x="24" y="55"/>
                </a:lnTo>
                <a:lnTo>
                  <a:pt x="24" y="56"/>
                </a:lnTo>
                <a:lnTo>
                  <a:pt x="23" y="57"/>
                </a:lnTo>
                <a:lnTo>
                  <a:pt x="22" y="59"/>
                </a:lnTo>
                <a:lnTo>
                  <a:pt x="21" y="60"/>
                </a:lnTo>
                <a:lnTo>
                  <a:pt x="20" y="61"/>
                </a:lnTo>
                <a:lnTo>
                  <a:pt x="19" y="62"/>
                </a:lnTo>
                <a:lnTo>
                  <a:pt x="18" y="63"/>
                </a:lnTo>
                <a:lnTo>
                  <a:pt x="17" y="64"/>
                </a:lnTo>
                <a:lnTo>
                  <a:pt x="16" y="66"/>
                </a:lnTo>
                <a:lnTo>
                  <a:pt x="16" y="67"/>
                </a:lnTo>
                <a:lnTo>
                  <a:pt x="15" y="68"/>
                </a:lnTo>
                <a:lnTo>
                  <a:pt x="14" y="70"/>
                </a:lnTo>
                <a:lnTo>
                  <a:pt x="12" y="71"/>
                </a:lnTo>
                <a:lnTo>
                  <a:pt x="11" y="72"/>
                </a:lnTo>
                <a:lnTo>
                  <a:pt x="10" y="74"/>
                </a:lnTo>
                <a:lnTo>
                  <a:pt x="10" y="75"/>
                </a:lnTo>
                <a:lnTo>
                  <a:pt x="9" y="76"/>
                </a:lnTo>
                <a:lnTo>
                  <a:pt x="8" y="78"/>
                </a:lnTo>
                <a:lnTo>
                  <a:pt x="8" y="79"/>
                </a:lnTo>
                <a:lnTo>
                  <a:pt x="7" y="80"/>
                </a:lnTo>
                <a:lnTo>
                  <a:pt x="6" y="82"/>
                </a:lnTo>
                <a:lnTo>
                  <a:pt x="6" y="83"/>
                </a:lnTo>
                <a:lnTo>
                  <a:pt x="5" y="84"/>
                </a:lnTo>
                <a:lnTo>
                  <a:pt x="4" y="86"/>
                </a:lnTo>
                <a:lnTo>
                  <a:pt x="4" y="87"/>
                </a:lnTo>
                <a:lnTo>
                  <a:pt x="3" y="90"/>
                </a:lnTo>
                <a:lnTo>
                  <a:pt x="3" y="91"/>
                </a:lnTo>
                <a:lnTo>
                  <a:pt x="2" y="94"/>
                </a:lnTo>
                <a:lnTo>
                  <a:pt x="2" y="95"/>
                </a:lnTo>
                <a:lnTo>
                  <a:pt x="1" y="99"/>
                </a:lnTo>
                <a:lnTo>
                  <a:pt x="1" y="100"/>
                </a:lnTo>
                <a:lnTo>
                  <a:pt x="0" y="103"/>
                </a:lnTo>
                <a:lnTo>
                  <a:pt x="0" y="104"/>
                </a:lnTo>
                <a:lnTo>
                  <a:pt x="0" y="105"/>
                </a:lnTo>
                <a:lnTo>
                  <a:pt x="0" y="108"/>
                </a:lnTo>
                <a:lnTo>
                  <a:pt x="0" y="109"/>
                </a:lnTo>
                <a:lnTo>
                  <a:pt x="1" y="109"/>
                </a:lnTo>
                <a:lnTo>
                  <a:pt x="5" y="109"/>
                </a:lnTo>
                <a:lnTo>
                  <a:pt x="8" y="109"/>
                </a:lnTo>
                <a:lnTo>
                  <a:pt x="9" y="109"/>
                </a:lnTo>
                <a:lnTo>
                  <a:pt x="9" y="107"/>
                </a:lnTo>
                <a:lnTo>
                  <a:pt x="9" y="106"/>
                </a:lnTo>
                <a:lnTo>
                  <a:pt x="9" y="105"/>
                </a:lnTo>
                <a:lnTo>
                  <a:pt x="9" y="103"/>
                </a:lnTo>
                <a:lnTo>
                  <a:pt x="9" y="102"/>
                </a:lnTo>
                <a:lnTo>
                  <a:pt x="10" y="101"/>
                </a:lnTo>
                <a:lnTo>
                  <a:pt x="10" y="99"/>
                </a:lnTo>
                <a:lnTo>
                  <a:pt x="10" y="98"/>
                </a:lnTo>
                <a:lnTo>
                  <a:pt x="10" y="97"/>
                </a:lnTo>
                <a:lnTo>
                  <a:pt x="10" y="96"/>
                </a:lnTo>
                <a:lnTo>
                  <a:pt x="10" y="95"/>
                </a:lnTo>
                <a:lnTo>
                  <a:pt x="11" y="94"/>
                </a:lnTo>
                <a:lnTo>
                  <a:pt x="12" y="92"/>
                </a:lnTo>
                <a:lnTo>
                  <a:pt x="14" y="90"/>
                </a:lnTo>
                <a:lnTo>
                  <a:pt x="14" y="89"/>
                </a:lnTo>
                <a:lnTo>
                  <a:pt x="14" y="88"/>
                </a:lnTo>
                <a:lnTo>
                  <a:pt x="15" y="87"/>
                </a:lnTo>
                <a:lnTo>
                  <a:pt x="16" y="85"/>
                </a:lnTo>
                <a:lnTo>
                  <a:pt x="17" y="83"/>
                </a:lnTo>
                <a:lnTo>
                  <a:pt x="18" y="82"/>
                </a:lnTo>
                <a:lnTo>
                  <a:pt x="19" y="80"/>
                </a:lnTo>
                <a:lnTo>
                  <a:pt x="20" y="78"/>
                </a:lnTo>
                <a:lnTo>
                  <a:pt x="21" y="76"/>
                </a:lnTo>
                <a:lnTo>
                  <a:pt x="22" y="75"/>
                </a:lnTo>
                <a:lnTo>
                  <a:pt x="23" y="73"/>
                </a:lnTo>
                <a:lnTo>
                  <a:pt x="24" y="71"/>
                </a:lnTo>
                <a:lnTo>
                  <a:pt x="25" y="70"/>
                </a:lnTo>
                <a:lnTo>
                  <a:pt x="26" y="68"/>
                </a:lnTo>
                <a:lnTo>
                  <a:pt x="28" y="67"/>
                </a:lnTo>
                <a:lnTo>
                  <a:pt x="29" y="65"/>
                </a:lnTo>
                <a:lnTo>
                  <a:pt x="30" y="64"/>
                </a:lnTo>
                <a:lnTo>
                  <a:pt x="31" y="63"/>
                </a:lnTo>
                <a:lnTo>
                  <a:pt x="32" y="62"/>
                </a:lnTo>
                <a:lnTo>
                  <a:pt x="33" y="61"/>
                </a:lnTo>
                <a:lnTo>
                  <a:pt x="34" y="59"/>
                </a:lnTo>
                <a:lnTo>
                  <a:pt x="35" y="57"/>
                </a:lnTo>
                <a:lnTo>
                  <a:pt x="36" y="56"/>
                </a:lnTo>
                <a:lnTo>
                  <a:pt x="37" y="55"/>
                </a:lnTo>
                <a:lnTo>
                  <a:pt x="38" y="54"/>
                </a:lnTo>
                <a:lnTo>
                  <a:pt x="39" y="53"/>
                </a:lnTo>
                <a:lnTo>
                  <a:pt x="40" y="52"/>
                </a:lnTo>
                <a:lnTo>
                  <a:pt x="41" y="51"/>
                </a:lnTo>
                <a:lnTo>
                  <a:pt x="43" y="50"/>
                </a:lnTo>
                <a:lnTo>
                  <a:pt x="44" y="49"/>
                </a:lnTo>
                <a:lnTo>
                  <a:pt x="45" y="48"/>
                </a:lnTo>
                <a:lnTo>
                  <a:pt x="46" y="46"/>
                </a:lnTo>
                <a:lnTo>
                  <a:pt x="47" y="45"/>
                </a:lnTo>
                <a:lnTo>
                  <a:pt x="48" y="44"/>
                </a:lnTo>
                <a:lnTo>
                  <a:pt x="49" y="43"/>
                </a:lnTo>
                <a:lnTo>
                  <a:pt x="50" y="42"/>
                </a:lnTo>
                <a:lnTo>
                  <a:pt x="51" y="41"/>
                </a:lnTo>
                <a:lnTo>
                  <a:pt x="52" y="40"/>
                </a:lnTo>
                <a:lnTo>
                  <a:pt x="53" y="39"/>
                </a:lnTo>
                <a:lnTo>
                  <a:pt x="54" y="38"/>
                </a:lnTo>
                <a:lnTo>
                  <a:pt x="55" y="37"/>
                </a:lnTo>
                <a:lnTo>
                  <a:pt x="56" y="36"/>
                </a:lnTo>
                <a:lnTo>
                  <a:pt x="58" y="34"/>
                </a:lnTo>
                <a:lnTo>
                  <a:pt x="59" y="33"/>
                </a:lnTo>
                <a:lnTo>
                  <a:pt x="60" y="32"/>
                </a:lnTo>
                <a:lnTo>
                  <a:pt x="61" y="31"/>
                </a:lnTo>
                <a:lnTo>
                  <a:pt x="62" y="29"/>
                </a:lnTo>
                <a:lnTo>
                  <a:pt x="63" y="27"/>
                </a:lnTo>
                <a:lnTo>
                  <a:pt x="64" y="26"/>
                </a:lnTo>
                <a:lnTo>
                  <a:pt x="65" y="24"/>
                </a:lnTo>
                <a:lnTo>
                  <a:pt x="66" y="23"/>
                </a:lnTo>
                <a:lnTo>
                  <a:pt x="67" y="21"/>
                </a:lnTo>
                <a:lnTo>
                  <a:pt x="68" y="20"/>
                </a:lnTo>
                <a:lnTo>
                  <a:pt x="69" y="18"/>
                </a:lnTo>
                <a:lnTo>
                  <a:pt x="69" y="17"/>
                </a:lnTo>
                <a:lnTo>
                  <a:pt x="69" y="16"/>
                </a:lnTo>
                <a:lnTo>
                  <a:pt x="70" y="14"/>
                </a:lnTo>
                <a:lnTo>
                  <a:pt x="70" y="13"/>
                </a:lnTo>
                <a:lnTo>
                  <a:pt x="70" y="12"/>
                </a:lnTo>
                <a:lnTo>
                  <a:pt x="71" y="11"/>
                </a:lnTo>
                <a:lnTo>
                  <a:pt x="71" y="9"/>
                </a:lnTo>
                <a:lnTo>
                  <a:pt x="71" y="8"/>
                </a:lnTo>
                <a:lnTo>
                  <a:pt x="73" y="7"/>
                </a:lnTo>
                <a:lnTo>
                  <a:pt x="73" y="6"/>
                </a:lnTo>
                <a:lnTo>
                  <a:pt x="73" y="5"/>
                </a:lnTo>
                <a:lnTo>
                  <a:pt x="74" y="4"/>
                </a:lnTo>
                <a:lnTo>
                  <a:pt x="74" y="3"/>
                </a:lnTo>
                <a:lnTo>
                  <a:pt x="74" y="2"/>
                </a:lnTo>
                <a:lnTo>
                  <a:pt x="74" y="1"/>
                </a:lnTo>
                <a:lnTo>
                  <a:pt x="74" y="2"/>
                </a:lnTo>
                <a:lnTo>
                  <a:pt x="64" y="0"/>
                </a:lnTo>
                <a:close/>
              </a:path>
            </a:pathLst>
          </a:custGeom>
          <a:solidFill>
            <a:srgbClr val="1f1a17"/>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0" name="Freeform 19"/>
          <p:cNvSpPr/>
          <p:nvPr/>
        </p:nvSpPr>
        <p:spPr>
          <a:xfrm>
            <a:off x="4546440" y="3235320"/>
            <a:ext cx="100080" cy="301680"/>
          </a:xfrm>
          <a:custGeom>
            <a:avLst/>
            <a:gdLst>
              <a:gd name="textAreaLeft" fmla="*/ 0 w 100080"/>
              <a:gd name="textAreaRight" fmla="*/ 100440 w 100080"/>
              <a:gd name="textAreaTop" fmla="*/ 0 h 301680"/>
              <a:gd name="textAreaBottom" fmla="*/ 302040 h 301680"/>
            </a:gdLst>
            <a:ahLst/>
            <a:rect l="textAreaLeft" t="textAreaTop" r="textAreaRight" b="textAreaBottom"/>
            <a:pathLst>
              <a:path w="126" h="380">
                <a:moveTo>
                  <a:pt x="4" y="9"/>
                </a:moveTo>
                <a:lnTo>
                  <a:pt x="3" y="9"/>
                </a:lnTo>
                <a:lnTo>
                  <a:pt x="1" y="9"/>
                </a:lnTo>
                <a:lnTo>
                  <a:pt x="0" y="9"/>
                </a:lnTo>
                <a:lnTo>
                  <a:pt x="0" y="8"/>
                </a:lnTo>
                <a:lnTo>
                  <a:pt x="3" y="12"/>
                </a:lnTo>
                <a:lnTo>
                  <a:pt x="4" y="14"/>
                </a:lnTo>
                <a:lnTo>
                  <a:pt x="5" y="14"/>
                </a:lnTo>
                <a:lnTo>
                  <a:pt x="8" y="18"/>
                </a:lnTo>
                <a:lnTo>
                  <a:pt x="10" y="19"/>
                </a:lnTo>
                <a:lnTo>
                  <a:pt x="11" y="19"/>
                </a:lnTo>
                <a:lnTo>
                  <a:pt x="15" y="24"/>
                </a:lnTo>
                <a:lnTo>
                  <a:pt x="17" y="26"/>
                </a:lnTo>
                <a:lnTo>
                  <a:pt x="18" y="26"/>
                </a:lnTo>
                <a:lnTo>
                  <a:pt x="21" y="31"/>
                </a:lnTo>
                <a:lnTo>
                  <a:pt x="22" y="33"/>
                </a:lnTo>
                <a:lnTo>
                  <a:pt x="23" y="33"/>
                </a:lnTo>
                <a:lnTo>
                  <a:pt x="26" y="39"/>
                </a:lnTo>
                <a:lnTo>
                  <a:pt x="29" y="42"/>
                </a:lnTo>
                <a:lnTo>
                  <a:pt x="30" y="42"/>
                </a:lnTo>
                <a:lnTo>
                  <a:pt x="33" y="48"/>
                </a:lnTo>
                <a:lnTo>
                  <a:pt x="35" y="51"/>
                </a:lnTo>
                <a:lnTo>
                  <a:pt x="36" y="51"/>
                </a:lnTo>
                <a:lnTo>
                  <a:pt x="39" y="58"/>
                </a:lnTo>
                <a:lnTo>
                  <a:pt x="41" y="61"/>
                </a:lnTo>
                <a:lnTo>
                  <a:pt x="42" y="61"/>
                </a:lnTo>
                <a:lnTo>
                  <a:pt x="46" y="69"/>
                </a:lnTo>
                <a:lnTo>
                  <a:pt x="47" y="73"/>
                </a:lnTo>
                <a:lnTo>
                  <a:pt x="48" y="73"/>
                </a:lnTo>
                <a:lnTo>
                  <a:pt x="51" y="80"/>
                </a:lnTo>
                <a:lnTo>
                  <a:pt x="53" y="84"/>
                </a:lnTo>
                <a:lnTo>
                  <a:pt x="54" y="84"/>
                </a:lnTo>
                <a:lnTo>
                  <a:pt x="57" y="92"/>
                </a:lnTo>
                <a:lnTo>
                  <a:pt x="59" y="96"/>
                </a:lnTo>
                <a:lnTo>
                  <a:pt x="60" y="96"/>
                </a:lnTo>
                <a:lnTo>
                  <a:pt x="63" y="104"/>
                </a:lnTo>
                <a:lnTo>
                  <a:pt x="64" y="108"/>
                </a:lnTo>
                <a:lnTo>
                  <a:pt x="65" y="108"/>
                </a:lnTo>
                <a:lnTo>
                  <a:pt x="65" y="109"/>
                </a:lnTo>
                <a:lnTo>
                  <a:pt x="65" y="111"/>
                </a:lnTo>
                <a:lnTo>
                  <a:pt x="68" y="117"/>
                </a:lnTo>
                <a:lnTo>
                  <a:pt x="69" y="121"/>
                </a:lnTo>
                <a:lnTo>
                  <a:pt x="70" y="121"/>
                </a:lnTo>
                <a:lnTo>
                  <a:pt x="70" y="123"/>
                </a:lnTo>
                <a:lnTo>
                  <a:pt x="70" y="125"/>
                </a:lnTo>
                <a:lnTo>
                  <a:pt x="74" y="131"/>
                </a:lnTo>
                <a:lnTo>
                  <a:pt x="75" y="135"/>
                </a:lnTo>
                <a:lnTo>
                  <a:pt x="76" y="135"/>
                </a:lnTo>
                <a:lnTo>
                  <a:pt x="76" y="136"/>
                </a:lnTo>
                <a:lnTo>
                  <a:pt x="76" y="138"/>
                </a:lnTo>
                <a:lnTo>
                  <a:pt x="79" y="144"/>
                </a:lnTo>
                <a:lnTo>
                  <a:pt x="80" y="148"/>
                </a:lnTo>
                <a:lnTo>
                  <a:pt x="81" y="148"/>
                </a:lnTo>
                <a:lnTo>
                  <a:pt x="81" y="149"/>
                </a:lnTo>
                <a:lnTo>
                  <a:pt x="81" y="151"/>
                </a:lnTo>
                <a:lnTo>
                  <a:pt x="83" y="157"/>
                </a:lnTo>
                <a:lnTo>
                  <a:pt x="84" y="162"/>
                </a:lnTo>
                <a:lnTo>
                  <a:pt x="85" y="162"/>
                </a:lnTo>
                <a:lnTo>
                  <a:pt x="85" y="163"/>
                </a:lnTo>
                <a:lnTo>
                  <a:pt x="85" y="165"/>
                </a:lnTo>
                <a:lnTo>
                  <a:pt x="89" y="171"/>
                </a:lnTo>
                <a:lnTo>
                  <a:pt x="90" y="177"/>
                </a:lnTo>
                <a:lnTo>
                  <a:pt x="91" y="177"/>
                </a:lnTo>
                <a:lnTo>
                  <a:pt x="91" y="178"/>
                </a:lnTo>
                <a:lnTo>
                  <a:pt x="91" y="180"/>
                </a:lnTo>
                <a:lnTo>
                  <a:pt x="93" y="186"/>
                </a:lnTo>
                <a:lnTo>
                  <a:pt x="94" y="190"/>
                </a:lnTo>
                <a:lnTo>
                  <a:pt x="95" y="190"/>
                </a:lnTo>
                <a:lnTo>
                  <a:pt x="95" y="191"/>
                </a:lnTo>
                <a:lnTo>
                  <a:pt x="95" y="193"/>
                </a:lnTo>
                <a:lnTo>
                  <a:pt x="96" y="200"/>
                </a:lnTo>
                <a:lnTo>
                  <a:pt x="97" y="205"/>
                </a:lnTo>
                <a:lnTo>
                  <a:pt x="98" y="205"/>
                </a:lnTo>
                <a:lnTo>
                  <a:pt x="98" y="206"/>
                </a:lnTo>
                <a:lnTo>
                  <a:pt x="98" y="208"/>
                </a:lnTo>
                <a:lnTo>
                  <a:pt x="100" y="214"/>
                </a:lnTo>
                <a:lnTo>
                  <a:pt x="101" y="219"/>
                </a:lnTo>
                <a:lnTo>
                  <a:pt x="103" y="219"/>
                </a:lnTo>
                <a:lnTo>
                  <a:pt x="103" y="220"/>
                </a:lnTo>
                <a:lnTo>
                  <a:pt x="103" y="222"/>
                </a:lnTo>
                <a:lnTo>
                  <a:pt x="104" y="228"/>
                </a:lnTo>
                <a:lnTo>
                  <a:pt x="105" y="234"/>
                </a:lnTo>
                <a:lnTo>
                  <a:pt x="106" y="234"/>
                </a:lnTo>
                <a:lnTo>
                  <a:pt x="106" y="235"/>
                </a:lnTo>
                <a:lnTo>
                  <a:pt x="106" y="237"/>
                </a:lnTo>
                <a:lnTo>
                  <a:pt x="107" y="243"/>
                </a:lnTo>
                <a:lnTo>
                  <a:pt x="107" y="248"/>
                </a:lnTo>
                <a:lnTo>
                  <a:pt x="108" y="248"/>
                </a:lnTo>
                <a:lnTo>
                  <a:pt x="108" y="249"/>
                </a:lnTo>
                <a:lnTo>
                  <a:pt x="108" y="251"/>
                </a:lnTo>
                <a:lnTo>
                  <a:pt x="109" y="257"/>
                </a:lnTo>
                <a:lnTo>
                  <a:pt x="110" y="261"/>
                </a:lnTo>
                <a:lnTo>
                  <a:pt x="111" y="261"/>
                </a:lnTo>
                <a:lnTo>
                  <a:pt x="111" y="262"/>
                </a:lnTo>
                <a:lnTo>
                  <a:pt x="111" y="264"/>
                </a:lnTo>
                <a:lnTo>
                  <a:pt x="112" y="270"/>
                </a:lnTo>
                <a:lnTo>
                  <a:pt x="112" y="275"/>
                </a:lnTo>
                <a:lnTo>
                  <a:pt x="113" y="275"/>
                </a:lnTo>
                <a:lnTo>
                  <a:pt x="113" y="276"/>
                </a:lnTo>
                <a:lnTo>
                  <a:pt x="113" y="278"/>
                </a:lnTo>
                <a:lnTo>
                  <a:pt x="113" y="285"/>
                </a:lnTo>
                <a:lnTo>
                  <a:pt x="113" y="289"/>
                </a:lnTo>
                <a:lnTo>
                  <a:pt x="114" y="289"/>
                </a:lnTo>
                <a:lnTo>
                  <a:pt x="114" y="290"/>
                </a:lnTo>
                <a:lnTo>
                  <a:pt x="114" y="292"/>
                </a:lnTo>
                <a:lnTo>
                  <a:pt x="114" y="298"/>
                </a:lnTo>
                <a:lnTo>
                  <a:pt x="114" y="302"/>
                </a:lnTo>
                <a:lnTo>
                  <a:pt x="115" y="302"/>
                </a:lnTo>
                <a:lnTo>
                  <a:pt x="115" y="303"/>
                </a:lnTo>
                <a:lnTo>
                  <a:pt x="115" y="304"/>
                </a:lnTo>
                <a:lnTo>
                  <a:pt x="115" y="310"/>
                </a:lnTo>
                <a:lnTo>
                  <a:pt x="115" y="314"/>
                </a:lnTo>
                <a:lnTo>
                  <a:pt x="116" y="314"/>
                </a:lnTo>
                <a:lnTo>
                  <a:pt x="116" y="315"/>
                </a:lnTo>
                <a:lnTo>
                  <a:pt x="116" y="316"/>
                </a:lnTo>
                <a:lnTo>
                  <a:pt x="116" y="322"/>
                </a:lnTo>
                <a:lnTo>
                  <a:pt x="116" y="326"/>
                </a:lnTo>
                <a:lnTo>
                  <a:pt x="116" y="327"/>
                </a:lnTo>
                <a:lnTo>
                  <a:pt x="116" y="328"/>
                </a:lnTo>
                <a:lnTo>
                  <a:pt x="116" y="334"/>
                </a:lnTo>
                <a:lnTo>
                  <a:pt x="116" y="338"/>
                </a:lnTo>
                <a:lnTo>
                  <a:pt x="115" y="341"/>
                </a:lnTo>
                <a:lnTo>
                  <a:pt x="115" y="346"/>
                </a:lnTo>
                <a:lnTo>
                  <a:pt x="115" y="350"/>
                </a:lnTo>
                <a:lnTo>
                  <a:pt x="114" y="352"/>
                </a:lnTo>
                <a:lnTo>
                  <a:pt x="114" y="357"/>
                </a:lnTo>
                <a:lnTo>
                  <a:pt x="114" y="360"/>
                </a:lnTo>
                <a:lnTo>
                  <a:pt x="113" y="362"/>
                </a:lnTo>
                <a:lnTo>
                  <a:pt x="112" y="366"/>
                </a:lnTo>
                <a:lnTo>
                  <a:pt x="112" y="369"/>
                </a:lnTo>
                <a:lnTo>
                  <a:pt x="111" y="371"/>
                </a:lnTo>
                <a:lnTo>
                  <a:pt x="110" y="375"/>
                </a:lnTo>
                <a:lnTo>
                  <a:pt x="109" y="378"/>
                </a:lnTo>
                <a:lnTo>
                  <a:pt x="114" y="380"/>
                </a:lnTo>
                <a:lnTo>
                  <a:pt x="118" y="380"/>
                </a:lnTo>
                <a:lnTo>
                  <a:pt x="119" y="380"/>
                </a:lnTo>
                <a:lnTo>
                  <a:pt x="119" y="379"/>
                </a:lnTo>
                <a:lnTo>
                  <a:pt x="120" y="376"/>
                </a:lnTo>
                <a:lnTo>
                  <a:pt x="120" y="373"/>
                </a:lnTo>
                <a:lnTo>
                  <a:pt x="121" y="372"/>
                </a:lnTo>
                <a:lnTo>
                  <a:pt x="121" y="371"/>
                </a:lnTo>
                <a:lnTo>
                  <a:pt x="122" y="366"/>
                </a:lnTo>
                <a:lnTo>
                  <a:pt x="122" y="362"/>
                </a:lnTo>
                <a:lnTo>
                  <a:pt x="123" y="361"/>
                </a:lnTo>
                <a:lnTo>
                  <a:pt x="123" y="360"/>
                </a:lnTo>
                <a:lnTo>
                  <a:pt x="124" y="355"/>
                </a:lnTo>
                <a:lnTo>
                  <a:pt x="124" y="352"/>
                </a:lnTo>
                <a:lnTo>
                  <a:pt x="125" y="351"/>
                </a:lnTo>
                <a:lnTo>
                  <a:pt x="125" y="350"/>
                </a:lnTo>
                <a:lnTo>
                  <a:pt x="125" y="344"/>
                </a:lnTo>
                <a:lnTo>
                  <a:pt x="125" y="340"/>
                </a:lnTo>
                <a:lnTo>
                  <a:pt x="126" y="338"/>
                </a:lnTo>
                <a:lnTo>
                  <a:pt x="126" y="337"/>
                </a:lnTo>
                <a:lnTo>
                  <a:pt x="126" y="332"/>
                </a:lnTo>
                <a:lnTo>
                  <a:pt x="126" y="328"/>
                </a:lnTo>
                <a:lnTo>
                  <a:pt x="126" y="327"/>
                </a:lnTo>
                <a:lnTo>
                  <a:pt x="126" y="325"/>
                </a:lnTo>
                <a:lnTo>
                  <a:pt x="126" y="319"/>
                </a:lnTo>
                <a:lnTo>
                  <a:pt x="126" y="315"/>
                </a:lnTo>
                <a:lnTo>
                  <a:pt x="126" y="314"/>
                </a:lnTo>
                <a:lnTo>
                  <a:pt x="125" y="312"/>
                </a:lnTo>
                <a:lnTo>
                  <a:pt x="125" y="306"/>
                </a:lnTo>
                <a:lnTo>
                  <a:pt x="125" y="302"/>
                </a:lnTo>
                <a:lnTo>
                  <a:pt x="125" y="301"/>
                </a:lnTo>
                <a:lnTo>
                  <a:pt x="124" y="299"/>
                </a:lnTo>
                <a:lnTo>
                  <a:pt x="124" y="293"/>
                </a:lnTo>
                <a:lnTo>
                  <a:pt x="124" y="289"/>
                </a:lnTo>
                <a:lnTo>
                  <a:pt x="124" y="288"/>
                </a:lnTo>
                <a:lnTo>
                  <a:pt x="123" y="286"/>
                </a:lnTo>
                <a:lnTo>
                  <a:pt x="123" y="279"/>
                </a:lnTo>
                <a:lnTo>
                  <a:pt x="123" y="275"/>
                </a:lnTo>
                <a:lnTo>
                  <a:pt x="123" y="274"/>
                </a:lnTo>
                <a:lnTo>
                  <a:pt x="122" y="272"/>
                </a:lnTo>
                <a:lnTo>
                  <a:pt x="121" y="266"/>
                </a:lnTo>
                <a:lnTo>
                  <a:pt x="121" y="261"/>
                </a:lnTo>
                <a:lnTo>
                  <a:pt x="121" y="260"/>
                </a:lnTo>
                <a:lnTo>
                  <a:pt x="120" y="258"/>
                </a:lnTo>
                <a:lnTo>
                  <a:pt x="119" y="252"/>
                </a:lnTo>
                <a:lnTo>
                  <a:pt x="118" y="247"/>
                </a:lnTo>
                <a:lnTo>
                  <a:pt x="118" y="246"/>
                </a:lnTo>
                <a:lnTo>
                  <a:pt x="116" y="244"/>
                </a:lnTo>
                <a:lnTo>
                  <a:pt x="115" y="238"/>
                </a:lnTo>
                <a:lnTo>
                  <a:pt x="115" y="233"/>
                </a:lnTo>
                <a:lnTo>
                  <a:pt x="115" y="232"/>
                </a:lnTo>
                <a:lnTo>
                  <a:pt x="114" y="229"/>
                </a:lnTo>
                <a:lnTo>
                  <a:pt x="112" y="223"/>
                </a:lnTo>
                <a:lnTo>
                  <a:pt x="111" y="218"/>
                </a:lnTo>
                <a:lnTo>
                  <a:pt x="111" y="217"/>
                </a:lnTo>
                <a:lnTo>
                  <a:pt x="110" y="215"/>
                </a:lnTo>
                <a:lnTo>
                  <a:pt x="109" y="208"/>
                </a:lnTo>
                <a:lnTo>
                  <a:pt x="108" y="203"/>
                </a:lnTo>
                <a:lnTo>
                  <a:pt x="108" y="202"/>
                </a:lnTo>
                <a:lnTo>
                  <a:pt x="107" y="200"/>
                </a:lnTo>
                <a:lnTo>
                  <a:pt x="105" y="194"/>
                </a:lnTo>
                <a:lnTo>
                  <a:pt x="104" y="189"/>
                </a:lnTo>
                <a:lnTo>
                  <a:pt x="104" y="188"/>
                </a:lnTo>
                <a:lnTo>
                  <a:pt x="103" y="186"/>
                </a:lnTo>
                <a:lnTo>
                  <a:pt x="100" y="180"/>
                </a:lnTo>
                <a:lnTo>
                  <a:pt x="99" y="174"/>
                </a:lnTo>
                <a:lnTo>
                  <a:pt x="99" y="173"/>
                </a:lnTo>
                <a:lnTo>
                  <a:pt x="98" y="171"/>
                </a:lnTo>
                <a:lnTo>
                  <a:pt x="96" y="165"/>
                </a:lnTo>
                <a:lnTo>
                  <a:pt x="95" y="160"/>
                </a:lnTo>
                <a:lnTo>
                  <a:pt x="95" y="159"/>
                </a:lnTo>
                <a:lnTo>
                  <a:pt x="94" y="157"/>
                </a:lnTo>
                <a:lnTo>
                  <a:pt x="91" y="151"/>
                </a:lnTo>
                <a:lnTo>
                  <a:pt x="90" y="146"/>
                </a:lnTo>
                <a:lnTo>
                  <a:pt x="90" y="145"/>
                </a:lnTo>
                <a:lnTo>
                  <a:pt x="89" y="143"/>
                </a:lnTo>
                <a:lnTo>
                  <a:pt x="86" y="137"/>
                </a:lnTo>
                <a:lnTo>
                  <a:pt x="85" y="133"/>
                </a:lnTo>
                <a:lnTo>
                  <a:pt x="85" y="132"/>
                </a:lnTo>
                <a:lnTo>
                  <a:pt x="84" y="130"/>
                </a:lnTo>
                <a:lnTo>
                  <a:pt x="81" y="124"/>
                </a:lnTo>
                <a:lnTo>
                  <a:pt x="80" y="118"/>
                </a:lnTo>
                <a:lnTo>
                  <a:pt x="80" y="117"/>
                </a:lnTo>
                <a:lnTo>
                  <a:pt x="79" y="115"/>
                </a:lnTo>
                <a:lnTo>
                  <a:pt x="76" y="109"/>
                </a:lnTo>
                <a:lnTo>
                  <a:pt x="75" y="105"/>
                </a:lnTo>
                <a:lnTo>
                  <a:pt x="75" y="104"/>
                </a:lnTo>
                <a:lnTo>
                  <a:pt x="74" y="103"/>
                </a:lnTo>
                <a:lnTo>
                  <a:pt x="70" y="97"/>
                </a:lnTo>
                <a:lnTo>
                  <a:pt x="68" y="93"/>
                </a:lnTo>
                <a:lnTo>
                  <a:pt x="68" y="92"/>
                </a:lnTo>
                <a:lnTo>
                  <a:pt x="67" y="91"/>
                </a:lnTo>
                <a:lnTo>
                  <a:pt x="64" y="85"/>
                </a:lnTo>
                <a:lnTo>
                  <a:pt x="63" y="81"/>
                </a:lnTo>
                <a:lnTo>
                  <a:pt x="63" y="80"/>
                </a:lnTo>
                <a:lnTo>
                  <a:pt x="62" y="79"/>
                </a:lnTo>
                <a:lnTo>
                  <a:pt x="59" y="73"/>
                </a:lnTo>
                <a:lnTo>
                  <a:pt x="56" y="69"/>
                </a:lnTo>
                <a:lnTo>
                  <a:pt x="56" y="67"/>
                </a:lnTo>
                <a:lnTo>
                  <a:pt x="55" y="66"/>
                </a:lnTo>
                <a:lnTo>
                  <a:pt x="52" y="61"/>
                </a:lnTo>
                <a:lnTo>
                  <a:pt x="50" y="58"/>
                </a:lnTo>
                <a:lnTo>
                  <a:pt x="50" y="57"/>
                </a:lnTo>
                <a:lnTo>
                  <a:pt x="49" y="56"/>
                </a:lnTo>
                <a:lnTo>
                  <a:pt x="46" y="51"/>
                </a:lnTo>
                <a:lnTo>
                  <a:pt x="45" y="47"/>
                </a:lnTo>
                <a:lnTo>
                  <a:pt x="45" y="46"/>
                </a:lnTo>
                <a:lnTo>
                  <a:pt x="44" y="45"/>
                </a:lnTo>
                <a:lnTo>
                  <a:pt x="40" y="41"/>
                </a:lnTo>
                <a:lnTo>
                  <a:pt x="38" y="38"/>
                </a:lnTo>
                <a:lnTo>
                  <a:pt x="38" y="37"/>
                </a:lnTo>
                <a:lnTo>
                  <a:pt x="37" y="36"/>
                </a:lnTo>
                <a:lnTo>
                  <a:pt x="34" y="32"/>
                </a:lnTo>
                <a:lnTo>
                  <a:pt x="32" y="29"/>
                </a:lnTo>
                <a:lnTo>
                  <a:pt x="32" y="28"/>
                </a:lnTo>
                <a:lnTo>
                  <a:pt x="31" y="27"/>
                </a:lnTo>
                <a:lnTo>
                  <a:pt x="27" y="24"/>
                </a:lnTo>
                <a:lnTo>
                  <a:pt x="25" y="21"/>
                </a:lnTo>
                <a:lnTo>
                  <a:pt x="25" y="20"/>
                </a:lnTo>
                <a:lnTo>
                  <a:pt x="24" y="19"/>
                </a:lnTo>
                <a:lnTo>
                  <a:pt x="21" y="16"/>
                </a:lnTo>
                <a:lnTo>
                  <a:pt x="19" y="14"/>
                </a:lnTo>
                <a:lnTo>
                  <a:pt x="19" y="12"/>
                </a:lnTo>
                <a:lnTo>
                  <a:pt x="14" y="9"/>
                </a:lnTo>
                <a:lnTo>
                  <a:pt x="11" y="7"/>
                </a:lnTo>
                <a:lnTo>
                  <a:pt x="11" y="6"/>
                </a:lnTo>
                <a:lnTo>
                  <a:pt x="7" y="3"/>
                </a:lnTo>
                <a:lnTo>
                  <a:pt x="5" y="2"/>
                </a:lnTo>
                <a:lnTo>
                  <a:pt x="5" y="1"/>
                </a:lnTo>
                <a:lnTo>
                  <a:pt x="4" y="1"/>
                </a:lnTo>
                <a:lnTo>
                  <a:pt x="2" y="1"/>
                </a:lnTo>
                <a:lnTo>
                  <a:pt x="1" y="1"/>
                </a:lnTo>
                <a:lnTo>
                  <a:pt x="1" y="0"/>
                </a:lnTo>
                <a:lnTo>
                  <a:pt x="3" y="1"/>
                </a:lnTo>
                <a:lnTo>
                  <a:pt x="4" y="1"/>
                </a:lnTo>
                <a:lnTo>
                  <a:pt x="5" y="1"/>
                </a:lnTo>
                <a:lnTo>
                  <a:pt x="3" y="0"/>
                </a:lnTo>
                <a:lnTo>
                  <a:pt x="2" y="0"/>
                </a:lnTo>
                <a:lnTo>
                  <a:pt x="1" y="0"/>
                </a:lnTo>
                <a:lnTo>
                  <a:pt x="4" y="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20"/>
          <p:cNvSpPr/>
          <p:nvPr/>
        </p:nvSpPr>
        <p:spPr>
          <a:xfrm>
            <a:off x="4325760" y="3235320"/>
            <a:ext cx="223920" cy="73080"/>
          </a:xfrm>
          <a:custGeom>
            <a:avLst/>
            <a:gdLst>
              <a:gd name="textAreaLeft" fmla="*/ 0 w 223920"/>
              <a:gd name="textAreaRight" fmla="*/ 224280 w 223920"/>
              <a:gd name="textAreaTop" fmla="*/ 0 h 73080"/>
              <a:gd name="textAreaBottom" fmla="*/ 73440 h 73080"/>
            </a:gdLst>
            <a:ahLst/>
            <a:rect l="textAreaLeft" t="textAreaTop" r="textAreaRight" b="textAreaBottom"/>
            <a:pathLst>
              <a:path w="281" h="92">
                <a:moveTo>
                  <a:pt x="0" y="88"/>
                </a:moveTo>
                <a:lnTo>
                  <a:pt x="3" y="90"/>
                </a:lnTo>
                <a:lnTo>
                  <a:pt x="5" y="91"/>
                </a:lnTo>
                <a:lnTo>
                  <a:pt x="6" y="91"/>
                </a:lnTo>
                <a:lnTo>
                  <a:pt x="12" y="90"/>
                </a:lnTo>
                <a:lnTo>
                  <a:pt x="49" y="79"/>
                </a:lnTo>
                <a:lnTo>
                  <a:pt x="177" y="41"/>
                </a:lnTo>
                <a:lnTo>
                  <a:pt x="274" y="11"/>
                </a:lnTo>
                <a:lnTo>
                  <a:pt x="281" y="9"/>
                </a:lnTo>
                <a:lnTo>
                  <a:pt x="279" y="4"/>
                </a:lnTo>
                <a:lnTo>
                  <a:pt x="278" y="1"/>
                </a:lnTo>
                <a:lnTo>
                  <a:pt x="278" y="0"/>
                </a:lnTo>
                <a:lnTo>
                  <a:pt x="271" y="2"/>
                </a:lnTo>
                <a:lnTo>
                  <a:pt x="235" y="14"/>
                </a:lnTo>
                <a:lnTo>
                  <a:pt x="106" y="51"/>
                </a:lnTo>
                <a:lnTo>
                  <a:pt x="8" y="81"/>
                </a:lnTo>
                <a:lnTo>
                  <a:pt x="3" y="82"/>
                </a:lnTo>
                <a:lnTo>
                  <a:pt x="6" y="84"/>
                </a:lnTo>
                <a:lnTo>
                  <a:pt x="8" y="85"/>
                </a:lnTo>
                <a:lnTo>
                  <a:pt x="10" y="85"/>
                </a:lnTo>
                <a:lnTo>
                  <a:pt x="7" y="86"/>
                </a:lnTo>
                <a:lnTo>
                  <a:pt x="3" y="87"/>
                </a:lnTo>
                <a:lnTo>
                  <a:pt x="0" y="88"/>
                </a:lnTo>
                <a:lnTo>
                  <a:pt x="1" y="91"/>
                </a:lnTo>
                <a:lnTo>
                  <a:pt x="2" y="92"/>
                </a:lnTo>
                <a:lnTo>
                  <a:pt x="4" y="92"/>
                </a:lnTo>
                <a:lnTo>
                  <a:pt x="5" y="92"/>
                </a:lnTo>
                <a:lnTo>
                  <a:pt x="6" y="91"/>
                </a:lnTo>
                <a:lnTo>
                  <a:pt x="0" y="88"/>
                </a:lnTo>
                <a:close/>
              </a:path>
            </a:pathLst>
          </a:custGeom>
          <a:solidFill>
            <a:srgbClr val="1f1a17"/>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2" name="Freeform 21"/>
          <p:cNvSpPr/>
          <p:nvPr/>
        </p:nvSpPr>
        <p:spPr>
          <a:xfrm>
            <a:off x="4307040" y="3260880"/>
            <a:ext cx="27000" cy="44280"/>
          </a:xfrm>
          <a:custGeom>
            <a:avLst/>
            <a:gdLst>
              <a:gd name="textAreaLeft" fmla="*/ 0 w 27000"/>
              <a:gd name="textAreaRight" fmla="*/ 27360 w 27000"/>
              <a:gd name="textAreaTop" fmla="*/ 0 h 44280"/>
              <a:gd name="textAreaBottom" fmla="*/ 44640 h 44280"/>
            </a:gdLst>
            <a:ahLst/>
            <a:rect l="textAreaLeft" t="textAreaTop" r="textAreaRight" b="textAreaBottom"/>
            <a:pathLst>
              <a:path w="35" h="56">
                <a:moveTo>
                  <a:pt x="6" y="9"/>
                </a:moveTo>
                <a:lnTo>
                  <a:pt x="1" y="8"/>
                </a:lnTo>
                <a:lnTo>
                  <a:pt x="0" y="7"/>
                </a:lnTo>
                <a:lnTo>
                  <a:pt x="0" y="6"/>
                </a:lnTo>
                <a:lnTo>
                  <a:pt x="3" y="14"/>
                </a:lnTo>
                <a:lnTo>
                  <a:pt x="15" y="38"/>
                </a:lnTo>
                <a:lnTo>
                  <a:pt x="24" y="56"/>
                </a:lnTo>
                <a:lnTo>
                  <a:pt x="25" y="56"/>
                </a:lnTo>
                <a:lnTo>
                  <a:pt x="26" y="56"/>
                </a:lnTo>
                <a:lnTo>
                  <a:pt x="30" y="55"/>
                </a:lnTo>
                <a:lnTo>
                  <a:pt x="33" y="54"/>
                </a:lnTo>
                <a:lnTo>
                  <a:pt x="35" y="53"/>
                </a:lnTo>
                <a:lnTo>
                  <a:pt x="30" y="46"/>
                </a:lnTo>
                <a:lnTo>
                  <a:pt x="18" y="22"/>
                </a:lnTo>
                <a:lnTo>
                  <a:pt x="10" y="4"/>
                </a:lnTo>
                <a:lnTo>
                  <a:pt x="10" y="3"/>
                </a:lnTo>
                <a:lnTo>
                  <a:pt x="7" y="2"/>
                </a:lnTo>
                <a:lnTo>
                  <a:pt x="6" y="1"/>
                </a:lnTo>
                <a:lnTo>
                  <a:pt x="6" y="0"/>
                </a:lnTo>
                <a:lnTo>
                  <a:pt x="8" y="2"/>
                </a:lnTo>
                <a:lnTo>
                  <a:pt x="9" y="3"/>
                </a:lnTo>
                <a:lnTo>
                  <a:pt x="10" y="3"/>
                </a:lnTo>
                <a:lnTo>
                  <a:pt x="8" y="1"/>
                </a:lnTo>
                <a:lnTo>
                  <a:pt x="8" y="0"/>
                </a:lnTo>
                <a:lnTo>
                  <a:pt x="7" y="0"/>
                </a:lnTo>
                <a:lnTo>
                  <a:pt x="6" y="0"/>
                </a:lnTo>
                <a:lnTo>
                  <a:pt x="6" y="9"/>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3" name="Freeform 22"/>
          <p:cNvSpPr/>
          <p:nvPr/>
        </p:nvSpPr>
        <p:spPr>
          <a:xfrm>
            <a:off x="4060800" y="3260880"/>
            <a:ext cx="250920" cy="44280"/>
          </a:xfrm>
          <a:custGeom>
            <a:avLst/>
            <a:gdLst>
              <a:gd name="textAreaLeft" fmla="*/ 0 w 250920"/>
              <a:gd name="textAreaRight" fmla="*/ 250920 w 250920"/>
              <a:gd name="textAreaTop" fmla="*/ 0 h 44280"/>
              <a:gd name="textAreaBottom" fmla="*/ 44640 h 44280"/>
            </a:gdLst>
            <a:ahLst/>
            <a:rect l="textAreaLeft" t="textAreaTop" r="textAreaRight" b="textAreaBottom"/>
            <a:pathLst>
              <a:path w="316" h="57">
                <a:moveTo>
                  <a:pt x="0" y="57"/>
                </a:moveTo>
                <a:lnTo>
                  <a:pt x="1" y="57"/>
                </a:lnTo>
                <a:lnTo>
                  <a:pt x="2" y="57"/>
                </a:lnTo>
                <a:lnTo>
                  <a:pt x="4" y="57"/>
                </a:lnTo>
                <a:lnTo>
                  <a:pt x="8" y="56"/>
                </a:lnTo>
                <a:lnTo>
                  <a:pt x="10" y="55"/>
                </a:lnTo>
                <a:lnTo>
                  <a:pt x="11" y="54"/>
                </a:lnTo>
                <a:lnTo>
                  <a:pt x="12" y="54"/>
                </a:lnTo>
                <a:lnTo>
                  <a:pt x="15" y="53"/>
                </a:lnTo>
                <a:lnTo>
                  <a:pt x="19" y="52"/>
                </a:lnTo>
                <a:lnTo>
                  <a:pt x="20" y="51"/>
                </a:lnTo>
                <a:lnTo>
                  <a:pt x="24" y="50"/>
                </a:lnTo>
                <a:lnTo>
                  <a:pt x="26" y="49"/>
                </a:lnTo>
                <a:lnTo>
                  <a:pt x="27" y="48"/>
                </a:lnTo>
                <a:lnTo>
                  <a:pt x="28" y="48"/>
                </a:lnTo>
                <a:lnTo>
                  <a:pt x="31" y="47"/>
                </a:lnTo>
                <a:lnTo>
                  <a:pt x="35" y="47"/>
                </a:lnTo>
                <a:lnTo>
                  <a:pt x="36" y="46"/>
                </a:lnTo>
                <a:lnTo>
                  <a:pt x="37" y="46"/>
                </a:lnTo>
                <a:lnTo>
                  <a:pt x="41" y="45"/>
                </a:lnTo>
                <a:lnTo>
                  <a:pt x="44" y="44"/>
                </a:lnTo>
                <a:lnTo>
                  <a:pt x="45" y="43"/>
                </a:lnTo>
                <a:lnTo>
                  <a:pt x="46" y="43"/>
                </a:lnTo>
                <a:lnTo>
                  <a:pt x="50" y="42"/>
                </a:lnTo>
                <a:lnTo>
                  <a:pt x="53" y="42"/>
                </a:lnTo>
                <a:lnTo>
                  <a:pt x="54" y="41"/>
                </a:lnTo>
                <a:lnTo>
                  <a:pt x="55" y="41"/>
                </a:lnTo>
                <a:lnTo>
                  <a:pt x="58" y="40"/>
                </a:lnTo>
                <a:lnTo>
                  <a:pt x="61" y="40"/>
                </a:lnTo>
                <a:lnTo>
                  <a:pt x="63" y="39"/>
                </a:lnTo>
                <a:lnTo>
                  <a:pt x="64" y="39"/>
                </a:lnTo>
                <a:lnTo>
                  <a:pt x="68" y="38"/>
                </a:lnTo>
                <a:lnTo>
                  <a:pt x="71" y="37"/>
                </a:lnTo>
                <a:lnTo>
                  <a:pt x="72" y="35"/>
                </a:lnTo>
                <a:lnTo>
                  <a:pt x="73" y="35"/>
                </a:lnTo>
                <a:lnTo>
                  <a:pt x="78" y="34"/>
                </a:lnTo>
                <a:lnTo>
                  <a:pt x="81" y="34"/>
                </a:lnTo>
                <a:lnTo>
                  <a:pt x="82" y="33"/>
                </a:lnTo>
                <a:lnTo>
                  <a:pt x="83" y="33"/>
                </a:lnTo>
                <a:lnTo>
                  <a:pt x="87" y="32"/>
                </a:lnTo>
                <a:lnTo>
                  <a:pt x="90" y="32"/>
                </a:lnTo>
                <a:lnTo>
                  <a:pt x="91" y="31"/>
                </a:lnTo>
                <a:lnTo>
                  <a:pt x="93" y="31"/>
                </a:lnTo>
                <a:lnTo>
                  <a:pt x="97" y="30"/>
                </a:lnTo>
                <a:lnTo>
                  <a:pt x="100" y="30"/>
                </a:lnTo>
                <a:lnTo>
                  <a:pt x="101" y="29"/>
                </a:lnTo>
                <a:lnTo>
                  <a:pt x="102" y="29"/>
                </a:lnTo>
                <a:lnTo>
                  <a:pt x="108" y="28"/>
                </a:lnTo>
                <a:lnTo>
                  <a:pt x="111" y="28"/>
                </a:lnTo>
                <a:lnTo>
                  <a:pt x="112" y="27"/>
                </a:lnTo>
                <a:lnTo>
                  <a:pt x="113" y="27"/>
                </a:lnTo>
                <a:lnTo>
                  <a:pt x="117" y="27"/>
                </a:lnTo>
                <a:lnTo>
                  <a:pt x="120" y="27"/>
                </a:lnTo>
                <a:lnTo>
                  <a:pt x="122" y="26"/>
                </a:lnTo>
                <a:lnTo>
                  <a:pt x="123" y="26"/>
                </a:lnTo>
                <a:lnTo>
                  <a:pt x="128" y="25"/>
                </a:lnTo>
                <a:lnTo>
                  <a:pt x="131" y="25"/>
                </a:lnTo>
                <a:lnTo>
                  <a:pt x="132" y="24"/>
                </a:lnTo>
                <a:lnTo>
                  <a:pt x="133" y="24"/>
                </a:lnTo>
                <a:lnTo>
                  <a:pt x="138" y="23"/>
                </a:lnTo>
                <a:lnTo>
                  <a:pt x="141" y="23"/>
                </a:lnTo>
                <a:lnTo>
                  <a:pt x="142" y="22"/>
                </a:lnTo>
                <a:lnTo>
                  <a:pt x="143" y="22"/>
                </a:lnTo>
                <a:lnTo>
                  <a:pt x="148" y="22"/>
                </a:lnTo>
                <a:lnTo>
                  <a:pt x="152" y="22"/>
                </a:lnTo>
                <a:lnTo>
                  <a:pt x="153" y="21"/>
                </a:lnTo>
                <a:lnTo>
                  <a:pt x="154" y="21"/>
                </a:lnTo>
                <a:lnTo>
                  <a:pt x="158" y="20"/>
                </a:lnTo>
                <a:lnTo>
                  <a:pt x="161" y="20"/>
                </a:lnTo>
                <a:lnTo>
                  <a:pt x="162" y="19"/>
                </a:lnTo>
                <a:lnTo>
                  <a:pt x="163" y="19"/>
                </a:lnTo>
                <a:lnTo>
                  <a:pt x="169" y="19"/>
                </a:lnTo>
                <a:lnTo>
                  <a:pt x="172" y="19"/>
                </a:lnTo>
                <a:lnTo>
                  <a:pt x="173" y="18"/>
                </a:lnTo>
                <a:lnTo>
                  <a:pt x="174" y="18"/>
                </a:lnTo>
                <a:lnTo>
                  <a:pt x="179" y="18"/>
                </a:lnTo>
                <a:lnTo>
                  <a:pt x="183" y="18"/>
                </a:lnTo>
                <a:lnTo>
                  <a:pt x="184" y="17"/>
                </a:lnTo>
                <a:lnTo>
                  <a:pt x="185" y="17"/>
                </a:lnTo>
                <a:lnTo>
                  <a:pt x="190" y="17"/>
                </a:lnTo>
                <a:lnTo>
                  <a:pt x="193" y="17"/>
                </a:lnTo>
                <a:lnTo>
                  <a:pt x="194" y="16"/>
                </a:lnTo>
                <a:lnTo>
                  <a:pt x="195" y="16"/>
                </a:lnTo>
                <a:lnTo>
                  <a:pt x="201" y="16"/>
                </a:lnTo>
                <a:lnTo>
                  <a:pt x="204" y="16"/>
                </a:lnTo>
                <a:lnTo>
                  <a:pt x="205" y="15"/>
                </a:lnTo>
                <a:lnTo>
                  <a:pt x="206" y="15"/>
                </a:lnTo>
                <a:lnTo>
                  <a:pt x="211" y="15"/>
                </a:lnTo>
                <a:lnTo>
                  <a:pt x="214" y="15"/>
                </a:lnTo>
                <a:lnTo>
                  <a:pt x="215" y="14"/>
                </a:lnTo>
                <a:lnTo>
                  <a:pt x="216" y="14"/>
                </a:lnTo>
                <a:lnTo>
                  <a:pt x="221" y="14"/>
                </a:lnTo>
                <a:lnTo>
                  <a:pt x="224" y="14"/>
                </a:lnTo>
                <a:lnTo>
                  <a:pt x="226" y="13"/>
                </a:lnTo>
                <a:lnTo>
                  <a:pt x="227" y="13"/>
                </a:lnTo>
                <a:lnTo>
                  <a:pt x="232" y="13"/>
                </a:lnTo>
                <a:lnTo>
                  <a:pt x="235" y="13"/>
                </a:lnTo>
                <a:lnTo>
                  <a:pt x="236" y="12"/>
                </a:lnTo>
                <a:lnTo>
                  <a:pt x="237" y="12"/>
                </a:lnTo>
                <a:lnTo>
                  <a:pt x="242" y="12"/>
                </a:lnTo>
                <a:lnTo>
                  <a:pt x="245" y="12"/>
                </a:lnTo>
                <a:lnTo>
                  <a:pt x="246" y="11"/>
                </a:lnTo>
                <a:lnTo>
                  <a:pt x="247" y="11"/>
                </a:lnTo>
                <a:lnTo>
                  <a:pt x="252" y="11"/>
                </a:lnTo>
                <a:lnTo>
                  <a:pt x="256" y="11"/>
                </a:lnTo>
                <a:lnTo>
                  <a:pt x="257" y="11"/>
                </a:lnTo>
                <a:lnTo>
                  <a:pt x="258" y="11"/>
                </a:lnTo>
                <a:lnTo>
                  <a:pt x="262" y="11"/>
                </a:lnTo>
                <a:lnTo>
                  <a:pt x="265" y="11"/>
                </a:lnTo>
                <a:lnTo>
                  <a:pt x="266" y="10"/>
                </a:lnTo>
                <a:lnTo>
                  <a:pt x="267" y="10"/>
                </a:lnTo>
                <a:lnTo>
                  <a:pt x="273" y="10"/>
                </a:lnTo>
                <a:lnTo>
                  <a:pt x="276" y="10"/>
                </a:lnTo>
                <a:lnTo>
                  <a:pt x="277" y="10"/>
                </a:lnTo>
                <a:lnTo>
                  <a:pt x="278" y="10"/>
                </a:lnTo>
                <a:lnTo>
                  <a:pt x="282" y="10"/>
                </a:lnTo>
                <a:lnTo>
                  <a:pt x="286" y="10"/>
                </a:lnTo>
                <a:lnTo>
                  <a:pt x="287" y="9"/>
                </a:lnTo>
                <a:lnTo>
                  <a:pt x="288" y="9"/>
                </a:lnTo>
                <a:lnTo>
                  <a:pt x="292" y="9"/>
                </a:lnTo>
                <a:lnTo>
                  <a:pt x="295" y="9"/>
                </a:lnTo>
                <a:lnTo>
                  <a:pt x="296" y="9"/>
                </a:lnTo>
                <a:lnTo>
                  <a:pt x="297" y="9"/>
                </a:lnTo>
                <a:lnTo>
                  <a:pt x="302" y="9"/>
                </a:lnTo>
                <a:lnTo>
                  <a:pt x="305" y="9"/>
                </a:lnTo>
                <a:lnTo>
                  <a:pt x="306" y="9"/>
                </a:lnTo>
                <a:lnTo>
                  <a:pt x="307" y="9"/>
                </a:lnTo>
                <a:lnTo>
                  <a:pt x="311" y="9"/>
                </a:lnTo>
                <a:lnTo>
                  <a:pt x="315" y="9"/>
                </a:lnTo>
                <a:lnTo>
                  <a:pt x="316" y="9"/>
                </a:lnTo>
                <a:lnTo>
                  <a:pt x="316" y="8"/>
                </a:lnTo>
                <a:lnTo>
                  <a:pt x="316" y="4"/>
                </a:lnTo>
                <a:lnTo>
                  <a:pt x="316" y="1"/>
                </a:lnTo>
                <a:lnTo>
                  <a:pt x="316" y="0"/>
                </a:lnTo>
                <a:lnTo>
                  <a:pt x="315" y="0"/>
                </a:lnTo>
                <a:lnTo>
                  <a:pt x="313" y="0"/>
                </a:lnTo>
                <a:lnTo>
                  <a:pt x="309" y="0"/>
                </a:lnTo>
                <a:lnTo>
                  <a:pt x="306" y="0"/>
                </a:lnTo>
                <a:lnTo>
                  <a:pt x="305" y="0"/>
                </a:lnTo>
                <a:lnTo>
                  <a:pt x="304" y="0"/>
                </a:lnTo>
                <a:lnTo>
                  <a:pt x="300" y="0"/>
                </a:lnTo>
                <a:lnTo>
                  <a:pt x="296" y="0"/>
                </a:lnTo>
                <a:lnTo>
                  <a:pt x="295" y="0"/>
                </a:lnTo>
                <a:lnTo>
                  <a:pt x="294" y="0"/>
                </a:lnTo>
                <a:lnTo>
                  <a:pt x="289" y="0"/>
                </a:lnTo>
                <a:lnTo>
                  <a:pt x="286" y="0"/>
                </a:lnTo>
                <a:lnTo>
                  <a:pt x="283" y="1"/>
                </a:lnTo>
                <a:lnTo>
                  <a:pt x="279" y="1"/>
                </a:lnTo>
                <a:lnTo>
                  <a:pt x="276" y="1"/>
                </a:lnTo>
                <a:lnTo>
                  <a:pt x="275" y="1"/>
                </a:lnTo>
                <a:lnTo>
                  <a:pt x="274" y="1"/>
                </a:lnTo>
                <a:lnTo>
                  <a:pt x="269" y="1"/>
                </a:lnTo>
                <a:lnTo>
                  <a:pt x="266" y="1"/>
                </a:lnTo>
                <a:lnTo>
                  <a:pt x="264" y="2"/>
                </a:lnTo>
                <a:lnTo>
                  <a:pt x="259" y="2"/>
                </a:lnTo>
                <a:lnTo>
                  <a:pt x="256" y="2"/>
                </a:lnTo>
                <a:lnTo>
                  <a:pt x="254" y="2"/>
                </a:lnTo>
                <a:lnTo>
                  <a:pt x="253" y="2"/>
                </a:lnTo>
                <a:lnTo>
                  <a:pt x="249" y="2"/>
                </a:lnTo>
                <a:lnTo>
                  <a:pt x="246" y="2"/>
                </a:lnTo>
                <a:lnTo>
                  <a:pt x="244" y="3"/>
                </a:lnTo>
                <a:lnTo>
                  <a:pt x="238" y="3"/>
                </a:lnTo>
                <a:lnTo>
                  <a:pt x="235" y="3"/>
                </a:lnTo>
                <a:lnTo>
                  <a:pt x="233" y="4"/>
                </a:lnTo>
                <a:lnTo>
                  <a:pt x="228" y="4"/>
                </a:lnTo>
                <a:lnTo>
                  <a:pt x="224" y="4"/>
                </a:lnTo>
                <a:lnTo>
                  <a:pt x="222" y="5"/>
                </a:lnTo>
                <a:lnTo>
                  <a:pt x="217" y="5"/>
                </a:lnTo>
                <a:lnTo>
                  <a:pt x="214" y="5"/>
                </a:lnTo>
                <a:lnTo>
                  <a:pt x="212" y="6"/>
                </a:lnTo>
                <a:lnTo>
                  <a:pt x="207" y="6"/>
                </a:lnTo>
                <a:lnTo>
                  <a:pt x="204" y="6"/>
                </a:lnTo>
                <a:lnTo>
                  <a:pt x="202" y="7"/>
                </a:lnTo>
                <a:lnTo>
                  <a:pt x="197" y="7"/>
                </a:lnTo>
                <a:lnTo>
                  <a:pt x="193" y="7"/>
                </a:lnTo>
                <a:lnTo>
                  <a:pt x="191" y="8"/>
                </a:lnTo>
                <a:lnTo>
                  <a:pt x="186" y="8"/>
                </a:lnTo>
                <a:lnTo>
                  <a:pt x="183" y="8"/>
                </a:lnTo>
                <a:lnTo>
                  <a:pt x="180" y="9"/>
                </a:lnTo>
                <a:lnTo>
                  <a:pt x="175" y="9"/>
                </a:lnTo>
                <a:lnTo>
                  <a:pt x="172" y="9"/>
                </a:lnTo>
                <a:lnTo>
                  <a:pt x="170" y="10"/>
                </a:lnTo>
                <a:lnTo>
                  <a:pt x="164" y="10"/>
                </a:lnTo>
                <a:lnTo>
                  <a:pt x="161" y="10"/>
                </a:lnTo>
                <a:lnTo>
                  <a:pt x="159" y="11"/>
                </a:lnTo>
                <a:lnTo>
                  <a:pt x="154" y="12"/>
                </a:lnTo>
                <a:lnTo>
                  <a:pt x="150" y="12"/>
                </a:lnTo>
                <a:lnTo>
                  <a:pt x="148" y="13"/>
                </a:lnTo>
                <a:lnTo>
                  <a:pt x="144" y="13"/>
                </a:lnTo>
                <a:lnTo>
                  <a:pt x="141" y="13"/>
                </a:lnTo>
                <a:lnTo>
                  <a:pt x="139" y="14"/>
                </a:lnTo>
                <a:lnTo>
                  <a:pt x="133" y="15"/>
                </a:lnTo>
                <a:lnTo>
                  <a:pt x="130" y="15"/>
                </a:lnTo>
                <a:lnTo>
                  <a:pt x="128" y="16"/>
                </a:lnTo>
                <a:lnTo>
                  <a:pt x="123" y="17"/>
                </a:lnTo>
                <a:lnTo>
                  <a:pt x="119" y="17"/>
                </a:lnTo>
                <a:lnTo>
                  <a:pt x="117" y="18"/>
                </a:lnTo>
                <a:lnTo>
                  <a:pt x="113" y="19"/>
                </a:lnTo>
                <a:lnTo>
                  <a:pt x="110" y="19"/>
                </a:lnTo>
                <a:lnTo>
                  <a:pt x="108" y="20"/>
                </a:lnTo>
                <a:lnTo>
                  <a:pt x="102" y="20"/>
                </a:lnTo>
                <a:lnTo>
                  <a:pt x="99" y="20"/>
                </a:lnTo>
                <a:lnTo>
                  <a:pt x="97" y="21"/>
                </a:lnTo>
                <a:lnTo>
                  <a:pt x="93" y="22"/>
                </a:lnTo>
                <a:lnTo>
                  <a:pt x="89" y="22"/>
                </a:lnTo>
                <a:lnTo>
                  <a:pt x="87" y="23"/>
                </a:lnTo>
                <a:lnTo>
                  <a:pt x="83" y="24"/>
                </a:lnTo>
                <a:lnTo>
                  <a:pt x="80" y="25"/>
                </a:lnTo>
                <a:lnTo>
                  <a:pt x="78" y="26"/>
                </a:lnTo>
                <a:lnTo>
                  <a:pt x="73" y="27"/>
                </a:lnTo>
                <a:lnTo>
                  <a:pt x="70" y="27"/>
                </a:lnTo>
                <a:lnTo>
                  <a:pt x="68" y="28"/>
                </a:lnTo>
                <a:lnTo>
                  <a:pt x="64" y="29"/>
                </a:lnTo>
                <a:lnTo>
                  <a:pt x="60" y="29"/>
                </a:lnTo>
                <a:lnTo>
                  <a:pt x="58" y="30"/>
                </a:lnTo>
                <a:lnTo>
                  <a:pt x="55" y="31"/>
                </a:lnTo>
                <a:lnTo>
                  <a:pt x="52" y="31"/>
                </a:lnTo>
                <a:lnTo>
                  <a:pt x="50" y="32"/>
                </a:lnTo>
                <a:lnTo>
                  <a:pt x="45" y="33"/>
                </a:lnTo>
                <a:lnTo>
                  <a:pt x="42" y="34"/>
                </a:lnTo>
                <a:lnTo>
                  <a:pt x="40" y="35"/>
                </a:lnTo>
                <a:lnTo>
                  <a:pt x="37" y="37"/>
                </a:lnTo>
                <a:lnTo>
                  <a:pt x="34" y="37"/>
                </a:lnTo>
                <a:lnTo>
                  <a:pt x="31" y="38"/>
                </a:lnTo>
                <a:lnTo>
                  <a:pt x="28" y="39"/>
                </a:lnTo>
                <a:lnTo>
                  <a:pt x="25" y="40"/>
                </a:lnTo>
                <a:lnTo>
                  <a:pt x="23" y="41"/>
                </a:lnTo>
                <a:lnTo>
                  <a:pt x="20" y="42"/>
                </a:lnTo>
                <a:lnTo>
                  <a:pt x="16" y="43"/>
                </a:lnTo>
                <a:lnTo>
                  <a:pt x="14" y="44"/>
                </a:lnTo>
                <a:lnTo>
                  <a:pt x="11" y="45"/>
                </a:lnTo>
                <a:lnTo>
                  <a:pt x="8" y="45"/>
                </a:lnTo>
                <a:lnTo>
                  <a:pt x="7" y="46"/>
                </a:lnTo>
                <a:lnTo>
                  <a:pt x="2" y="47"/>
                </a:lnTo>
                <a:lnTo>
                  <a:pt x="0" y="48"/>
                </a:lnTo>
                <a:lnTo>
                  <a:pt x="1" y="48"/>
                </a:lnTo>
                <a:lnTo>
                  <a:pt x="2" y="48"/>
                </a:lnTo>
                <a:lnTo>
                  <a:pt x="4" y="48"/>
                </a:lnTo>
                <a:lnTo>
                  <a:pt x="0" y="57"/>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4" name="Freeform 23"/>
          <p:cNvSpPr/>
          <p:nvPr/>
        </p:nvSpPr>
        <p:spPr>
          <a:xfrm>
            <a:off x="3954600" y="3222720"/>
            <a:ext cx="109440" cy="82440"/>
          </a:xfrm>
          <a:custGeom>
            <a:avLst/>
            <a:gdLst>
              <a:gd name="textAreaLeft" fmla="*/ 0 w 109440"/>
              <a:gd name="textAreaRight" fmla="*/ 109800 w 109440"/>
              <a:gd name="textAreaTop" fmla="*/ 0 h 82440"/>
              <a:gd name="textAreaBottom" fmla="*/ 82800 h 82440"/>
            </a:gdLst>
            <a:ahLst/>
            <a:rect l="textAreaLeft" t="textAreaTop" r="textAreaRight" b="textAreaBottom"/>
            <a:pathLst>
              <a:path w="138" h="104">
                <a:moveTo>
                  <a:pt x="5" y="9"/>
                </a:moveTo>
                <a:lnTo>
                  <a:pt x="3" y="9"/>
                </a:lnTo>
                <a:lnTo>
                  <a:pt x="1" y="9"/>
                </a:lnTo>
                <a:lnTo>
                  <a:pt x="0" y="9"/>
                </a:lnTo>
                <a:lnTo>
                  <a:pt x="0" y="8"/>
                </a:lnTo>
                <a:lnTo>
                  <a:pt x="1" y="10"/>
                </a:lnTo>
                <a:lnTo>
                  <a:pt x="2" y="11"/>
                </a:lnTo>
                <a:lnTo>
                  <a:pt x="3" y="11"/>
                </a:lnTo>
                <a:lnTo>
                  <a:pt x="5" y="13"/>
                </a:lnTo>
                <a:lnTo>
                  <a:pt x="6" y="14"/>
                </a:lnTo>
                <a:lnTo>
                  <a:pt x="7" y="14"/>
                </a:lnTo>
                <a:lnTo>
                  <a:pt x="8" y="16"/>
                </a:lnTo>
                <a:lnTo>
                  <a:pt x="9" y="17"/>
                </a:lnTo>
                <a:lnTo>
                  <a:pt x="10" y="17"/>
                </a:lnTo>
                <a:lnTo>
                  <a:pt x="12" y="19"/>
                </a:lnTo>
                <a:lnTo>
                  <a:pt x="13" y="20"/>
                </a:lnTo>
                <a:lnTo>
                  <a:pt x="14" y="20"/>
                </a:lnTo>
                <a:lnTo>
                  <a:pt x="15" y="22"/>
                </a:lnTo>
                <a:lnTo>
                  <a:pt x="16" y="23"/>
                </a:lnTo>
                <a:lnTo>
                  <a:pt x="17" y="23"/>
                </a:lnTo>
                <a:lnTo>
                  <a:pt x="19" y="25"/>
                </a:lnTo>
                <a:lnTo>
                  <a:pt x="20" y="26"/>
                </a:lnTo>
                <a:lnTo>
                  <a:pt x="21" y="26"/>
                </a:lnTo>
                <a:lnTo>
                  <a:pt x="23" y="30"/>
                </a:lnTo>
                <a:lnTo>
                  <a:pt x="24" y="31"/>
                </a:lnTo>
                <a:lnTo>
                  <a:pt x="25" y="31"/>
                </a:lnTo>
                <a:lnTo>
                  <a:pt x="26" y="33"/>
                </a:lnTo>
                <a:lnTo>
                  <a:pt x="27" y="34"/>
                </a:lnTo>
                <a:lnTo>
                  <a:pt x="28" y="34"/>
                </a:lnTo>
                <a:lnTo>
                  <a:pt x="30" y="36"/>
                </a:lnTo>
                <a:lnTo>
                  <a:pt x="31" y="37"/>
                </a:lnTo>
                <a:lnTo>
                  <a:pt x="32" y="37"/>
                </a:lnTo>
                <a:lnTo>
                  <a:pt x="34" y="40"/>
                </a:lnTo>
                <a:lnTo>
                  <a:pt x="35" y="41"/>
                </a:lnTo>
                <a:lnTo>
                  <a:pt x="36" y="41"/>
                </a:lnTo>
                <a:lnTo>
                  <a:pt x="38" y="43"/>
                </a:lnTo>
                <a:lnTo>
                  <a:pt x="39" y="44"/>
                </a:lnTo>
                <a:lnTo>
                  <a:pt x="40" y="44"/>
                </a:lnTo>
                <a:lnTo>
                  <a:pt x="42" y="47"/>
                </a:lnTo>
                <a:lnTo>
                  <a:pt x="43" y="48"/>
                </a:lnTo>
                <a:lnTo>
                  <a:pt x="44" y="48"/>
                </a:lnTo>
                <a:lnTo>
                  <a:pt x="46" y="50"/>
                </a:lnTo>
                <a:lnTo>
                  <a:pt x="47" y="51"/>
                </a:lnTo>
                <a:lnTo>
                  <a:pt x="49" y="51"/>
                </a:lnTo>
                <a:lnTo>
                  <a:pt x="51" y="53"/>
                </a:lnTo>
                <a:lnTo>
                  <a:pt x="52" y="54"/>
                </a:lnTo>
                <a:lnTo>
                  <a:pt x="53" y="54"/>
                </a:lnTo>
                <a:lnTo>
                  <a:pt x="55" y="57"/>
                </a:lnTo>
                <a:lnTo>
                  <a:pt x="56" y="58"/>
                </a:lnTo>
                <a:lnTo>
                  <a:pt x="57" y="58"/>
                </a:lnTo>
                <a:lnTo>
                  <a:pt x="59" y="60"/>
                </a:lnTo>
                <a:lnTo>
                  <a:pt x="60" y="61"/>
                </a:lnTo>
                <a:lnTo>
                  <a:pt x="61" y="61"/>
                </a:lnTo>
                <a:lnTo>
                  <a:pt x="64" y="63"/>
                </a:lnTo>
                <a:lnTo>
                  <a:pt x="65" y="64"/>
                </a:lnTo>
                <a:lnTo>
                  <a:pt x="66" y="64"/>
                </a:lnTo>
                <a:lnTo>
                  <a:pt x="68" y="67"/>
                </a:lnTo>
                <a:lnTo>
                  <a:pt x="69" y="68"/>
                </a:lnTo>
                <a:lnTo>
                  <a:pt x="70" y="68"/>
                </a:lnTo>
                <a:lnTo>
                  <a:pt x="72" y="70"/>
                </a:lnTo>
                <a:lnTo>
                  <a:pt x="73" y="71"/>
                </a:lnTo>
                <a:lnTo>
                  <a:pt x="74" y="71"/>
                </a:lnTo>
                <a:lnTo>
                  <a:pt x="76" y="73"/>
                </a:lnTo>
                <a:lnTo>
                  <a:pt x="77" y="74"/>
                </a:lnTo>
                <a:lnTo>
                  <a:pt x="79" y="74"/>
                </a:lnTo>
                <a:lnTo>
                  <a:pt x="81" y="76"/>
                </a:lnTo>
                <a:lnTo>
                  <a:pt x="82" y="77"/>
                </a:lnTo>
                <a:lnTo>
                  <a:pt x="83" y="77"/>
                </a:lnTo>
                <a:lnTo>
                  <a:pt x="85" y="79"/>
                </a:lnTo>
                <a:lnTo>
                  <a:pt x="86" y="80"/>
                </a:lnTo>
                <a:lnTo>
                  <a:pt x="87" y="80"/>
                </a:lnTo>
                <a:lnTo>
                  <a:pt x="90" y="82"/>
                </a:lnTo>
                <a:lnTo>
                  <a:pt x="91" y="84"/>
                </a:lnTo>
                <a:lnTo>
                  <a:pt x="92" y="84"/>
                </a:lnTo>
                <a:lnTo>
                  <a:pt x="95" y="86"/>
                </a:lnTo>
                <a:lnTo>
                  <a:pt x="97" y="86"/>
                </a:lnTo>
                <a:lnTo>
                  <a:pt x="99" y="88"/>
                </a:lnTo>
                <a:lnTo>
                  <a:pt x="100" y="89"/>
                </a:lnTo>
                <a:lnTo>
                  <a:pt x="101" y="89"/>
                </a:lnTo>
                <a:lnTo>
                  <a:pt x="104" y="91"/>
                </a:lnTo>
                <a:lnTo>
                  <a:pt x="105" y="92"/>
                </a:lnTo>
                <a:lnTo>
                  <a:pt x="106" y="92"/>
                </a:lnTo>
                <a:lnTo>
                  <a:pt x="109" y="94"/>
                </a:lnTo>
                <a:lnTo>
                  <a:pt x="111" y="94"/>
                </a:lnTo>
                <a:lnTo>
                  <a:pt x="113" y="96"/>
                </a:lnTo>
                <a:lnTo>
                  <a:pt x="115" y="96"/>
                </a:lnTo>
                <a:lnTo>
                  <a:pt x="118" y="98"/>
                </a:lnTo>
                <a:lnTo>
                  <a:pt x="119" y="98"/>
                </a:lnTo>
                <a:lnTo>
                  <a:pt x="120" y="98"/>
                </a:lnTo>
                <a:lnTo>
                  <a:pt x="123" y="100"/>
                </a:lnTo>
                <a:lnTo>
                  <a:pt x="125" y="100"/>
                </a:lnTo>
                <a:lnTo>
                  <a:pt x="128" y="102"/>
                </a:lnTo>
                <a:lnTo>
                  <a:pt x="129" y="102"/>
                </a:lnTo>
                <a:lnTo>
                  <a:pt x="130" y="102"/>
                </a:lnTo>
                <a:lnTo>
                  <a:pt x="132" y="104"/>
                </a:lnTo>
                <a:lnTo>
                  <a:pt x="134" y="104"/>
                </a:lnTo>
                <a:lnTo>
                  <a:pt x="134" y="103"/>
                </a:lnTo>
                <a:lnTo>
                  <a:pt x="135" y="99"/>
                </a:lnTo>
                <a:lnTo>
                  <a:pt x="136" y="96"/>
                </a:lnTo>
                <a:lnTo>
                  <a:pt x="138" y="95"/>
                </a:lnTo>
                <a:lnTo>
                  <a:pt x="136" y="95"/>
                </a:lnTo>
                <a:lnTo>
                  <a:pt x="134" y="95"/>
                </a:lnTo>
                <a:lnTo>
                  <a:pt x="133" y="95"/>
                </a:lnTo>
                <a:lnTo>
                  <a:pt x="133" y="94"/>
                </a:lnTo>
                <a:lnTo>
                  <a:pt x="130" y="93"/>
                </a:lnTo>
                <a:lnTo>
                  <a:pt x="129" y="92"/>
                </a:lnTo>
                <a:lnTo>
                  <a:pt x="128" y="92"/>
                </a:lnTo>
                <a:lnTo>
                  <a:pt x="125" y="91"/>
                </a:lnTo>
                <a:lnTo>
                  <a:pt x="124" y="91"/>
                </a:lnTo>
                <a:lnTo>
                  <a:pt x="124" y="90"/>
                </a:lnTo>
                <a:lnTo>
                  <a:pt x="120" y="89"/>
                </a:lnTo>
                <a:lnTo>
                  <a:pt x="119" y="88"/>
                </a:lnTo>
                <a:lnTo>
                  <a:pt x="116" y="87"/>
                </a:lnTo>
                <a:lnTo>
                  <a:pt x="115" y="86"/>
                </a:lnTo>
                <a:lnTo>
                  <a:pt x="112" y="85"/>
                </a:lnTo>
                <a:lnTo>
                  <a:pt x="111" y="84"/>
                </a:lnTo>
                <a:lnTo>
                  <a:pt x="108" y="82"/>
                </a:lnTo>
                <a:lnTo>
                  <a:pt x="106" y="81"/>
                </a:lnTo>
                <a:lnTo>
                  <a:pt x="106" y="80"/>
                </a:lnTo>
                <a:lnTo>
                  <a:pt x="103" y="79"/>
                </a:lnTo>
                <a:lnTo>
                  <a:pt x="102" y="78"/>
                </a:lnTo>
                <a:lnTo>
                  <a:pt x="98" y="77"/>
                </a:lnTo>
                <a:lnTo>
                  <a:pt x="97" y="76"/>
                </a:lnTo>
                <a:lnTo>
                  <a:pt x="97" y="75"/>
                </a:lnTo>
                <a:lnTo>
                  <a:pt x="94" y="74"/>
                </a:lnTo>
                <a:lnTo>
                  <a:pt x="92" y="73"/>
                </a:lnTo>
                <a:lnTo>
                  <a:pt x="92" y="72"/>
                </a:lnTo>
                <a:lnTo>
                  <a:pt x="89" y="71"/>
                </a:lnTo>
                <a:lnTo>
                  <a:pt x="88" y="70"/>
                </a:lnTo>
                <a:lnTo>
                  <a:pt x="85" y="69"/>
                </a:lnTo>
                <a:lnTo>
                  <a:pt x="84" y="68"/>
                </a:lnTo>
                <a:lnTo>
                  <a:pt x="84" y="67"/>
                </a:lnTo>
                <a:lnTo>
                  <a:pt x="81" y="66"/>
                </a:lnTo>
                <a:lnTo>
                  <a:pt x="80" y="65"/>
                </a:lnTo>
                <a:lnTo>
                  <a:pt x="80" y="64"/>
                </a:lnTo>
                <a:lnTo>
                  <a:pt x="76" y="63"/>
                </a:lnTo>
                <a:lnTo>
                  <a:pt x="75" y="62"/>
                </a:lnTo>
                <a:lnTo>
                  <a:pt x="75" y="61"/>
                </a:lnTo>
                <a:lnTo>
                  <a:pt x="72" y="59"/>
                </a:lnTo>
                <a:lnTo>
                  <a:pt x="71" y="58"/>
                </a:lnTo>
                <a:lnTo>
                  <a:pt x="71" y="57"/>
                </a:lnTo>
                <a:lnTo>
                  <a:pt x="68" y="56"/>
                </a:lnTo>
                <a:lnTo>
                  <a:pt x="67" y="55"/>
                </a:lnTo>
                <a:lnTo>
                  <a:pt x="67" y="54"/>
                </a:lnTo>
                <a:lnTo>
                  <a:pt x="64" y="53"/>
                </a:lnTo>
                <a:lnTo>
                  <a:pt x="62" y="52"/>
                </a:lnTo>
                <a:lnTo>
                  <a:pt x="62" y="51"/>
                </a:lnTo>
                <a:lnTo>
                  <a:pt x="59" y="50"/>
                </a:lnTo>
                <a:lnTo>
                  <a:pt x="58" y="49"/>
                </a:lnTo>
                <a:lnTo>
                  <a:pt x="58" y="48"/>
                </a:lnTo>
                <a:lnTo>
                  <a:pt x="56" y="46"/>
                </a:lnTo>
                <a:lnTo>
                  <a:pt x="55" y="45"/>
                </a:lnTo>
                <a:lnTo>
                  <a:pt x="55" y="44"/>
                </a:lnTo>
                <a:lnTo>
                  <a:pt x="52" y="43"/>
                </a:lnTo>
                <a:lnTo>
                  <a:pt x="51" y="42"/>
                </a:lnTo>
                <a:lnTo>
                  <a:pt x="51" y="41"/>
                </a:lnTo>
                <a:lnTo>
                  <a:pt x="47" y="40"/>
                </a:lnTo>
                <a:lnTo>
                  <a:pt x="46" y="39"/>
                </a:lnTo>
                <a:lnTo>
                  <a:pt x="46" y="38"/>
                </a:lnTo>
                <a:lnTo>
                  <a:pt x="44" y="36"/>
                </a:lnTo>
                <a:lnTo>
                  <a:pt x="43" y="35"/>
                </a:lnTo>
                <a:lnTo>
                  <a:pt x="43" y="34"/>
                </a:lnTo>
                <a:lnTo>
                  <a:pt x="40" y="33"/>
                </a:lnTo>
                <a:lnTo>
                  <a:pt x="39" y="32"/>
                </a:lnTo>
                <a:lnTo>
                  <a:pt x="39" y="31"/>
                </a:lnTo>
                <a:lnTo>
                  <a:pt x="36" y="30"/>
                </a:lnTo>
                <a:lnTo>
                  <a:pt x="35" y="29"/>
                </a:lnTo>
                <a:lnTo>
                  <a:pt x="35" y="27"/>
                </a:lnTo>
                <a:lnTo>
                  <a:pt x="32" y="25"/>
                </a:lnTo>
                <a:lnTo>
                  <a:pt x="31" y="24"/>
                </a:lnTo>
                <a:lnTo>
                  <a:pt x="31" y="23"/>
                </a:lnTo>
                <a:lnTo>
                  <a:pt x="29" y="22"/>
                </a:lnTo>
                <a:lnTo>
                  <a:pt x="28" y="21"/>
                </a:lnTo>
                <a:lnTo>
                  <a:pt x="28" y="20"/>
                </a:lnTo>
                <a:lnTo>
                  <a:pt x="25" y="19"/>
                </a:lnTo>
                <a:lnTo>
                  <a:pt x="24" y="18"/>
                </a:lnTo>
                <a:lnTo>
                  <a:pt x="24" y="17"/>
                </a:lnTo>
                <a:lnTo>
                  <a:pt x="22" y="16"/>
                </a:lnTo>
                <a:lnTo>
                  <a:pt x="21" y="15"/>
                </a:lnTo>
                <a:lnTo>
                  <a:pt x="21" y="14"/>
                </a:lnTo>
                <a:lnTo>
                  <a:pt x="19" y="12"/>
                </a:lnTo>
                <a:lnTo>
                  <a:pt x="17" y="11"/>
                </a:lnTo>
                <a:lnTo>
                  <a:pt x="17" y="10"/>
                </a:lnTo>
                <a:lnTo>
                  <a:pt x="15" y="9"/>
                </a:lnTo>
                <a:lnTo>
                  <a:pt x="14" y="8"/>
                </a:lnTo>
                <a:lnTo>
                  <a:pt x="14" y="7"/>
                </a:lnTo>
                <a:lnTo>
                  <a:pt x="12" y="6"/>
                </a:lnTo>
                <a:lnTo>
                  <a:pt x="11" y="5"/>
                </a:lnTo>
                <a:lnTo>
                  <a:pt x="11" y="4"/>
                </a:lnTo>
                <a:lnTo>
                  <a:pt x="9" y="3"/>
                </a:lnTo>
                <a:lnTo>
                  <a:pt x="8" y="2"/>
                </a:lnTo>
                <a:lnTo>
                  <a:pt x="8" y="1"/>
                </a:lnTo>
                <a:lnTo>
                  <a:pt x="7" y="1"/>
                </a:lnTo>
                <a:lnTo>
                  <a:pt x="6" y="1"/>
                </a:lnTo>
                <a:lnTo>
                  <a:pt x="5" y="1"/>
                </a:lnTo>
                <a:lnTo>
                  <a:pt x="5" y="0"/>
                </a:lnTo>
                <a:lnTo>
                  <a:pt x="5" y="9"/>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5" name="Freeform 24"/>
          <p:cNvSpPr/>
          <p:nvPr/>
        </p:nvSpPr>
        <p:spPr>
          <a:xfrm>
            <a:off x="3603600" y="3222720"/>
            <a:ext cx="353880" cy="180720"/>
          </a:xfrm>
          <a:custGeom>
            <a:avLst/>
            <a:gdLst>
              <a:gd name="textAreaLeft" fmla="*/ 0 w 353880"/>
              <a:gd name="textAreaRight" fmla="*/ 354240 w 353880"/>
              <a:gd name="textAreaTop" fmla="*/ 0 h 180720"/>
              <a:gd name="textAreaBottom" fmla="*/ 181080 h 180720"/>
            </a:gdLst>
            <a:ahLst/>
            <a:rect l="textAreaLeft" t="textAreaTop" r="textAreaRight" b="textAreaBottom"/>
            <a:pathLst>
              <a:path w="448" h="227">
                <a:moveTo>
                  <a:pt x="3" y="227"/>
                </a:moveTo>
                <a:lnTo>
                  <a:pt x="4" y="227"/>
                </a:lnTo>
                <a:lnTo>
                  <a:pt x="10" y="224"/>
                </a:lnTo>
                <a:lnTo>
                  <a:pt x="14" y="223"/>
                </a:lnTo>
                <a:lnTo>
                  <a:pt x="15" y="222"/>
                </a:lnTo>
                <a:lnTo>
                  <a:pt x="22" y="219"/>
                </a:lnTo>
                <a:lnTo>
                  <a:pt x="25" y="218"/>
                </a:lnTo>
                <a:lnTo>
                  <a:pt x="26" y="217"/>
                </a:lnTo>
                <a:lnTo>
                  <a:pt x="34" y="214"/>
                </a:lnTo>
                <a:lnTo>
                  <a:pt x="38" y="212"/>
                </a:lnTo>
                <a:lnTo>
                  <a:pt x="39" y="211"/>
                </a:lnTo>
                <a:lnTo>
                  <a:pt x="40" y="210"/>
                </a:lnTo>
                <a:lnTo>
                  <a:pt x="45" y="207"/>
                </a:lnTo>
                <a:lnTo>
                  <a:pt x="50" y="205"/>
                </a:lnTo>
                <a:lnTo>
                  <a:pt x="51" y="204"/>
                </a:lnTo>
                <a:lnTo>
                  <a:pt x="52" y="203"/>
                </a:lnTo>
                <a:lnTo>
                  <a:pt x="58" y="200"/>
                </a:lnTo>
                <a:lnTo>
                  <a:pt x="63" y="198"/>
                </a:lnTo>
                <a:lnTo>
                  <a:pt x="64" y="197"/>
                </a:lnTo>
                <a:lnTo>
                  <a:pt x="65" y="196"/>
                </a:lnTo>
                <a:lnTo>
                  <a:pt x="71" y="193"/>
                </a:lnTo>
                <a:lnTo>
                  <a:pt x="75" y="190"/>
                </a:lnTo>
                <a:lnTo>
                  <a:pt x="77" y="189"/>
                </a:lnTo>
                <a:lnTo>
                  <a:pt x="79" y="188"/>
                </a:lnTo>
                <a:lnTo>
                  <a:pt x="85" y="185"/>
                </a:lnTo>
                <a:lnTo>
                  <a:pt x="89" y="182"/>
                </a:lnTo>
                <a:lnTo>
                  <a:pt x="90" y="181"/>
                </a:lnTo>
                <a:lnTo>
                  <a:pt x="93" y="180"/>
                </a:lnTo>
                <a:lnTo>
                  <a:pt x="99" y="177"/>
                </a:lnTo>
                <a:lnTo>
                  <a:pt x="103" y="174"/>
                </a:lnTo>
                <a:lnTo>
                  <a:pt x="104" y="173"/>
                </a:lnTo>
                <a:lnTo>
                  <a:pt x="107" y="172"/>
                </a:lnTo>
                <a:lnTo>
                  <a:pt x="113" y="168"/>
                </a:lnTo>
                <a:lnTo>
                  <a:pt x="117" y="165"/>
                </a:lnTo>
                <a:lnTo>
                  <a:pt x="118" y="164"/>
                </a:lnTo>
                <a:lnTo>
                  <a:pt x="120" y="163"/>
                </a:lnTo>
                <a:lnTo>
                  <a:pt x="127" y="160"/>
                </a:lnTo>
                <a:lnTo>
                  <a:pt x="131" y="157"/>
                </a:lnTo>
                <a:lnTo>
                  <a:pt x="132" y="156"/>
                </a:lnTo>
                <a:lnTo>
                  <a:pt x="134" y="155"/>
                </a:lnTo>
                <a:lnTo>
                  <a:pt x="141" y="151"/>
                </a:lnTo>
                <a:lnTo>
                  <a:pt x="145" y="148"/>
                </a:lnTo>
                <a:lnTo>
                  <a:pt x="146" y="147"/>
                </a:lnTo>
                <a:lnTo>
                  <a:pt x="148" y="146"/>
                </a:lnTo>
                <a:lnTo>
                  <a:pt x="155" y="142"/>
                </a:lnTo>
                <a:lnTo>
                  <a:pt x="160" y="139"/>
                </a:lnTo>
                <a:lnTo>
                  <a:pt x="161" y="138"/>
                </a:lnTo>
                <a:lnTo>
                  <a:pt x="163" y="136"/>
                </a:lnTo>
                <a:lnTo>
                  <a:pt x="170" y="132"/>
                </a:lnTo>
                <a:lnTo>
                  <a:pt x="175" y="129"/>
                </a:lnTo>
                <a:lnTo>
                  <a:pt x="176" y="128"/>
                </a:lnTo>
                <a:lnTo>
                  <a:pt x="178" y="127"/>
                </a:lnTo>
                <a:lnTo>
                  <a:pt x="185" y="123"/>
                </a:lnTo>
                <a:lnTo>
                  <a:pt x="189" y="120"/>
                </a:lnTo>
                <a:lnTo>
                  <a:pt x="190" y="119"/>
                </a:lnTo>
                <a:lnTo>
                  <a:pt x="192" y="118"/>
                </a:lnTo>
                <a:lnTo>
                  <a:pt x="199" y="113"/>
                </a:lnTo>
                <a:lnTo>
                  <a:pt x="204" y="110"/>
                </a:lnTo>
                <a:lnTo>
                  <a:pt x="205" y="109"/>
                </a:lnTo>
                <a:lnTo>
                  <a:pt x="207" y="108"/>
                </a:lnTo>
                <a:lnTo>
                  <a:pt x="214" y="104"/>
                </a:lnTo>
                <a:lnTo>
                  <a:pt x="219" y="101"/>
                </a:lnTo>
                <a:lnTo>
                  <a:pt x="220" y="100"/>
                </a:lnTo>
                <a:lnTo>
                  <a:pt x="222" y="99"/>
                </a:lnTo>
                <a:lnTo>
                  <a:pt x="229" y="96"/>
                </a:lnTo>
                <a:lnTo>
                  <a:pt x="234" y="93"/>
                </a:lnTo>
                <a:lnTo>
                  <a:pt x="235" y="92"/>
                </a:lnTo>
                <a:lnTo>
                  <a:pt x="237" y="91"/>
                </a:lnTo>
                <a:lnTo>
                  <a:pt x="245" y="87"/>
                </a:lnTo>
                <a:lnTo>
                  <a:pt x="250" y="84"/>
                </a:lnTo>
                <a:lnTo>
                  <a:pt x="251" y="82"/>
                </a:lnTo>
                <a:lnTo>
                  <a:pt x="253" y="81"/>
                </a:lnTo>
                <a:lnTo>
                  <a:pt x="260" y="77"/>
                </a:lnTo>
                <a:lnTo>
                  <a:pt x="265" y="74"/>
                </a:lnTo>
                <a:lnTo>
                  <a:pt x="266" y="73"/>
                </a:lnTo>
                <a:lnTo>
                  <a:pt x="268" y="72"/>
                </a:lnTo>
                <a:lnTo>
                  <a:pt x="275" y="69"/>
                </a:lnTo>
                <a:lnTo>
                  <a:pt x="280" y="66"/>
                </a:lnTo>
                <a:lnTo>
                  <a:pt x="281" y="65"/>
                </a:lnTo>
                <a:lnTo>
                  <a:pt x="283" y="64"/>
                </a:lnTo>
                <a:lnTo>
                  <a:pt x="290" y="61"/>
                </a:lnTo>
                <a:lnTo>
                  <a:pt x="295" y="58"/>
                </a:lnTo>
                <a:lnTo>
                  <a:pt x="296" y="57"/>
                </a:lnTo>
                <a:lnTo>
                  <a:pt x="298" y="56"/>
                </a:lnTo>
                <a:lnTo>
                  <a:pt x="305" y="53"/>
                </a:lnTo>
                <a:lnTo>
                  <a:pt x="309" y="51"/>
                </a:lnTo>
                <a:lnTo>
                  <a:pt x="310" y="50"/>
                </a:lnTo>
                <a:lnTo>
                  <a:pt x="312" y="49"/>
                </a:lnTo>
                <a:lnTo>
                  <a:pt x="319" y="46"/>
                </a:lnTo>
                <a:lnTo>
                  <a:pt x="324" y="44"/>
                </a:lnTo>
                <a:lnTo>
                  <a:pt x="325" y="43"/>
                </a:lnTo>
                <a:lnTo>
                  <a:pt x="334" y="40"/>
                </a:lnTo>
                <a:lnTo>
                  <a:pt x="339" y="38"/>
                </a:lnTo>
                <a:lnTo>
                  <a:pt x="340" y="37"/>
                </a:lnTo>
                <a:lnTo>
                  <a:pt x="349" y="34"/>
                </a:lnTo>
                <a:lnTo>
                  <a:pt x="353" y="32"/>
                </a:lnTo>
                <a:lnTo>
                  <a:pt x="354" y="31"/>
                </a:lnTo>
                <a:lnTo>
                  <a:pt x="356" y="31"/>
                </a:lnTo>
                <a:lnTo>
                  <a:pt x="363" y="27"/>
                </a:lnTo>
                <a:lnTo>
                  <a:pt x="367" y="26"/>
                </a:lnTo>
                <a:lnTo>
                  <a:pt x="368" y="25"/>
                </a:lnTo>
                <a:lnTo>
                  <a:pt x="370" y="25"/>
                </a:lnTo>
                <a:lnTo>
                  <a:pt x="377" y="22"/>
                </a:lnTo>
                <a:lnTo>
                  <a:pt x="381" y="21"/>
                </a:lnTo>
                <a:lnTo>
                  <a:pt x="382" y="20"/>
                </a:lnTo>
                <a:lnTo>
                  <a:pt x="384" y="20"/>
                </a:lnTo>
                <a:lnTo>
                  <a:pt x="391" y="18"/>
                </a:lnTo>
                <a:lnTo>
                  <a:pt x="395" y="17"/>
                </a:lnTo>
                <a:lnTo>
                  <a:pt x="396" y="16"/>
                </a:lnTo>
                <a:lnTo>
                  <a:pt x="397" y="16"/>
                </a:lnTo>
                <a:lnTo>
                  <a:pt x="404" y="15"/>
                </a:lnTo>
                <a:lnTo>
                  <a:pt x="408" y="14"/>
                </a:lnTo>
                <a:lnTo>
                  <a:pt x="409" y="13"/>
                </a:lnTo>
                <a:lnTo>
                  <a:pt x="410" y="13"/>
                </a:lnTo>
                <a:lnTo>
                  <a:pt x="416" y="12"/>
                </a:lnTo>
                <a:lnTo>
                  <a:pt x="421" y="12"/>
                </a:lnTo>
                <a:lnTo>
                  <a:pt x="422" y="11"/>
                </a:lnTo>
                <a:lnTo>
                  <a:pt x="423" y="11"/>
                </a:lnTo>
                <a:lnTo>
                  <a:pt x="429" y="10"/>
                </a:lnTo>
                <a:lnTo>
                  <a:pt x="434" y="10"/>
                </a:lnTo>
                <a:lnTo>
                  <a:pt x="435" y="9"/>
                </a:lnTo>
                <a:lnTo>
                  <a:pt x="436" y="9"/>
                </a:lnTo>
                <a:lnTo>
                  <a:pt x="442" y="9"/>
                </a:lnTo>
                <a:lnTo>
                  <a:pt x="446" y="9"/>
                </a:lnTo>
                <a:lnTo>
                  <a:pt x="448" y="9"/>
                </a:lnTo>
                <a:lnTo>
                  <a:pt x="448" y="8"/>
                </a:lnTo>
                <a:lnTo>
                  <a:pt x="448" y="4"/>
                </a:lnTo>
                <a:lnTo>
                  <a:pt x="448" y="1"/>
                </a:lnTo>
                <a:lnTo>
                  <a:pt x="448" y="0"/>
                </a:lnTo>
                <a:lnTo>
                  <a:pt x="446" y="0"/>
                </a:lnTo>
                <a:lnTo>
                  <a:pt x="444" y="0"/>
                </a:lnTo>
                <a:lnTo>
                  <a:pt x="438" y="0"/>
                </a:lnTo>
                <a:lnTo>
                  <a:pt x="434" y="0"/>
                </a:lnTo>
                <a:lnTo>
                  <a:pt x="431" y="1"/>
                </a:lnTo>
                <a:lnTo>
                  <a:pt x="425" y="2"/>
                </a:lnTo>
                <a:lnTo>
                  <a:pt x="421" y="2"/>
                </a:lnTo>
                <a:lnTo>
                  <a:pt x="418" y="3"/>
                </a:lnTo>
                <a:lnTo>
                  <a:pt x="411" y="4"/>
                </a:lnTo>
                <a:lnTo>
                  <a:pt x="407" y="4"/>
                </a:lnTo>
                <a:lnTo>
                  <a:pt x="405" y="5"/>
                </a:lnTo>
                <a:lnTo>
                  <a:pt x="398" y="7"/>
                </a:lnTo>
                <a:lnTo>
                  <a:pt x="394" y="8"/>
                </a:lnTo>
                <a:lnTo>
                  <a:pt x="391" y="9"/>
                </a:lnTo>
                <a:lnTo>
                  <a:pt x="384" y="10"/>
                </a:lnTo>
                <a:lnTo>
                  <a:pt x="379" y="11"/>
                </a:lnTo>
                <a:lnTo>
                  <a:pt x="376" y="12"/>
                </a:lnTo>
                <a:lnTo>
                  <a:pt x="369" y="15"/>
                </a:lnTo>
                <a:lnTo>
                  <a:pt x="365" y="16"/>
                </a:lnTo>
                <a:lnTo>
                  <a:pt x="364" y="17"/>
                </a:lnTo>
                <a:lnTo>
                  <a:pt x="355" y="20"/>
                </a:lnTo>
                <a:lnTo>
                  <a:pt x="351" y="22"/>
                </a:lnTo>
                <a:lnTo>
                  <a:pt x="350" y="23"/>
                </a:lnTo>
                <a:lnTo>
                  <a:pt x="341" y="26"/>
                </a:lnTo>
                <a:lnTo>
                  <a:pt x="336" y="29"/>
                </a:lnTo>
                <a:lnTo>
                  <a:pt x="335" y="30"/>
                </a:lnTo>
                <a:lnTo>
                  <a:pt x="326" y="33"/>
                </a:lnTo>
                <a:lnTo>
                  <a:pt x="321" y="35"/>
                </a:lnTo>
                <a:lnTo>
                  <a:pt x="320" y="36"/>
                </a:lnTo>
                <a:lnTo>
                  <a:pt x="318" y="37"/>
                </a:lnTo>
                <a:lnTo>
                  <a:pt x="311" y="40"/>
                </a:lnTo>
                <a:lnTo>
                  <a:pt x="306" y="42"/>
                </a:lnTo>
                <a:lnTo>
                  <a:pt x="305" y="43"/>
                </a:lnTo>
                <a:lnTo>
                  <a:pt x="303" y="44"/>
                </a:lnTo>
                <a:lnTo>
                  <a:pt x="296" y="47"/>
                </a:lnTo>
                <a:lnTo>
                  <a:pt x="291" y="50"/>
                </a:lnTo>
                <a:lnTo>
                  <a:pt x="290" y="51"/>
                </a:lnTo>
                <a:lnTo>
                  <a:pt x="288" y="52"/>
                </a:lnTo>
                <a:lnTo>
                  <a:pt x="281" y="55"/>
                </a:lnTo>
                <a:lnTo>
                  <a:pt x="276" y="57"/>
                </a:lnTo>
                <a:lnTo>
                  <a:pt x="275" y="58"/>
                </a:lnTo>
                <a:lnTo>
                  <a:pt x="273" y="59"/>
                </a:lnTo>
                <a:lnTo>
                  <a:pt x="266" y="63"/>
                </a:lnTo>
                <a:lnTo>
                  <a:pt x="261" y="66"/>
                </a:lnTo>
                <a:lnTo>
                  <a:pt x="260" y="67"/>
                </a:lnTo>
                <a:lnTo>
                  <a:pt x="258" y="68"/>
                </a:lnTo>
                <a:lnTo>
                  <a:pt x="251" y="71"/>
                </a:lnTo>
                <a:lnTo>
                  <a:pt x="246" y="74"/>
                </a:lnTo>
                <a:lnTo>
                  <a:pt x="245" y="75"/>
                </a:lnTo>
                <a:lnTo>
                  <a:pt x="243" y="76"/>
                </a:lnTo>
                <a:lnTo>
                  <a:pt x="236" y="80"/>
                </a:lnTo>
                <a:lnTo>
                  <a:pt x="231" y="84"/>
                </a:lnTo>
                <a:lnTo>
                  <a:pt x="230" y="85"/>
                </a:lnTo>
                <a:lnTo>
                  <a:pt x="228" y="86"/>
                </a:lnTo>
                <a:lnTo>
                  <a:pt x="221" y="90"/>
                </a:lnTo>
                <a:lnTo>
                  <a:pt x="216" y="93"/>
                </a:lnTo>
                <a:lnTo>
                  <a:pt x="215" y="94"/>
                </a:lnTo>
                <a:lnTo>
                  <a:pt x="213" y="95"/>
                </a:lnTo>
                <a:lnTo>
                  <a:pt x="206" y="99"/>
                </a:lnTo>
                <a:lnTo>
                  <a:pt x="201" y="102"/>
                </a:lnTo>
                <a:lnTo>
                  <a:pt x="200" y="103"/>
                </a:lnTo>
                <a:lnTo>
                  <a:pt x="198" y="104"/>
                </a:lnTo>
                <a:lnTo>
                  <a:pt x="191" y="108"/>
                </a:lnTo>
                <a:lnTo>
                  <a:pt x="186" y="111"/>
                </a:lnTo>
                <a:lnTo>
                  <a:pt x="185" y="112"/>
                </a:lnTo>
                <a:lnTo>
                  <a:pt x="183" y="113"/>
                </a:lnTo>
                <a:lnTo>
                  <a:pt x="176" y="117"/>
                </a:lnTo>
                <a:lnTo>
                  <a:pt x="171" y="120"/>
                </a:lnTo>
                <a:lnTo>
                  <a:pt x="170" y="121"/>
                </a:lnTo>
                <a:lnTo>
                  <a:pt x="168" y="122"/>
                </a:lnTo>
                <a:lnTo>
                  <a:pt x="161" y="126"/>
                </a:lnTo>
                <a:lnTo>
                  <a:pt x="156" y="129"/>
                </a:lnTo>
                <a:lnTo>
                  <a:pt x="155" y="130"/>
                </a:lnTo>
                <a:lnTo>
                  <a:pt x="153" y="131"/>
                </a:lnTo>
                <a:lnTo>
                  <a:pt x="146" y="135"/>
                </a:lnTo>
                <a:lnTo>
                  <a:pt x="141" y="139"/>
                </a:lnTo>
                <a:lnTo>
                  <a:pt x="140" y="140"/>
                </a:lnTo>
                <a:lnTo>
                  <a:pt x="138" y="141"/>
                </a:lnTo>
                <a:lnTo>
                  <a:pt x="131" y="145"/>
                </a:lnTo>
                <a:lnTo>
                  <a:pt x="127" y="148"/>
                </a:lnTo>
                <a:lnTo>
                  <a:pt x="126" y="149"/>
                </a:lnTo>
                <a:lnTo>
                  <a:pt x="124" y="150"/>
                </a:lnTo>
                <a:lnTo>
                  <a:pt x="117" y="154"/>
                </a:lnTo>
                <a:lnTo>
                  <a:pt x="113" y="157"/>
                </a:lnTo>
                <a:lnTo>
                  <a:pt x="112" y="158"/>
                </a:lnTo>
                <a:lnTo>
                  <a:pt x="110" y="159"/>
                </a:lnTo>
                <a:lnTo>
                  <a:pt x="103" y="162"/>
                </a:lnTo>
                <a:lnTo>
                  <a:pt x="99" y="165"/>
                </a:lnTo>
                <a:lnTo>
                  <a:pt x="98" y="166"/>
                </a:lnTo>
                <a:lnTo>
                  <a:pt x="96" y="167"/>
                </a:lnTo>
                <a:lnTo>
                  <a:pt x="89" y="170"/>
                </a:lnTo>
                <a:lnTo>
                  <a:pt x="85" y="173"/>
                </a:lnTo>
                <a:lnTo>
                  <a:pt x="84" y="174"/>
                </a:lnTo>
                <a:lnTo>
                  <a:pt x="83" y="175"/>
                </a:lnTo>
                <a:lnTo>
                  <a:pt x="77" y="178"/>
                </a:lnTo>
                <a:lnTo>
                  <a:pt x="72" y="181"/>
                </a:lnTo>
                <a:lnTo>
                  <a:pt x="71" y="182"/>
                </a:lnTo>
                <a:lnTo>
                  <a:pt x="70" y="183"/>
                </a:lnTo>
                <a:lnTo>
                  <a:pt x="64" y="186"/>
                </a:lnTo>
                <a:lnTo>
                  <a:pt x="59" y="189"/>
                </a:lnTo>
                <a:lnTo>
                  <a:pt x="58" y="190"/>
                </a:lnTo>
                <a:lnTo>
                  <a:pt x="51" y="194"/>
                </a:lnTo>
                <a:lnTo>
                  <a:pt x="46" y="196"/>
                </a:lnTo>
                <a:lnTo>
                  <a:pt x="45" y="197"/>
                </a:lnTo>
                <a:lnTo>
                  <a:pt x="44" y="198"/>
                </a:lnTo>
                <a:lnTo>
                  <a:pt x="38" y="201"/>
                </a:lnTo>
                <a:lnTo>
                  <a:pt x="34" y="203"/>
                </a:lnTo>
                <a:lnTo>
                  <a:pt x="33" y="204"/>
                </a:lnTo>
                <a:lnTo>
                  <a:pt x="26" y="207"/>
                </a:lnTo>
                <a:lnTo>
                  <a:pt x="22" y="209"/>
                </a:lnTo>
                <a:lnTo>
                  <a:pt x="21" y="210"/>
                </a:lnTo>
                <a:lnTo>
                  <a:pt x="14" y="213"/>
                </a:lnTo>
                <a:lnTo>
                  <a:pt x="11" y="214"/>
                </a:lnTo>
                <a:lnTo>
                  <a:pt x="9" y="215"/>
                </a:lnTo>
                <a:lnTo>
                  <a:pt x="4" y="217"/>
                </a:lnTo>
                <a:lnTo>
                  <a:pt x="0" y="218"/>
                </a:lnTo>
                <a:lnTo>
                  <a:pt x="1" y="218"/>
                </a:lnTo>
                <a:lnTo>
                  <a:pt x="3" y="218"/>
                </a:lnTo>
                <a:lnTo>
                  <a:pt x="3" y="2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25"/>
          <p:cNvSpPr/>
          <p:nvPr/>
        </p:nvSpPr>
        <p:spPr>
          <a:xfrm>
            <a:off x="3519360" y="3395520"/>
            <a:ext cx="85680" cy="82800"/>
          </a:xfrm>
          <a:custGeom>
            <a:avLst/>
            <a:gdLst>
              <a:gd name="textAreaLeft" fmla="*/ 0 w 85680"/>
              <a:gd name="textAreaRight" fmla="*/ 86040 w 85680"/>
              <a:gd name="textAreaTop" fmla="*/ 0 h 82800"/>
              <a:gd name="textAreaBottom" fmla="*/ 83160 h 82800"/>
            </a:gdLst>
            <a:ahLst/>
            <a:rect l="textAreaLeft" t="textAreaTop" r="textAreaRight" b="textAreaBottom"/>
            <a:pathLst>
              <a:path w="109" h="104">
                <a:moveTo>
                  <a:pt x="10" y="99"/>
                </a:moveTo>
                <a:lnTo>
                  <a:pt x="9" y="103"/>
                </a:lnTo>
                <a:lnTo>
                  <a:pt x="9" y="104"/>
                </a:lnTo>
                <a:lnTo>
                  <a:pt x="10" y="102"/>
                </a:lnTo>
                <a:lnTo>
                  <a:pt x="11" y="101"/>
                </a:lnTo>
                <a:lnTo>
                  <a:pt x="12" y="100"/>
                </a:lnTo>
                <a:lnTo>
                  <a:pt x="13" y="99"/>
                </a:lnTo>
                <a:lnTo>
                  <a:pt x="14" y="98"/>
                </a:lnTo>
                <a:lnTo>
                  <a:pt x="15" y="97"/>
                </a:lnTo>
                <a:lnTo>
                  <a:pt x="16" y="95"/>
                </a:lnTo>
                <a:lnTo>
                  <a:pt x="17" y="94"/>
                </a:lnTo>
                <a:lnTo>
                  <a:pt x="18" y="92"/>
                </a:lnTo>
                <a:lnTo>
                  <a:pt x="20" y="91"/>
                </a:lnTo>
                <a:lnTo>
                  <a:pt x="21" y="90"/>
                </a:lnTo>
                <a:lnTo>
                  <a:pt x="22" y="89"/>
                </a:lnTo>
                <a:lnTo>
                  <a:pt x="23" y="88"/>
                </a:lnTo>
                <a:lnTo>
                  <a:pt x="24" y="86"/>
                </a:lnTo>
                <a:lnTo>
                  <a:pt x="25" y="84"/>
                </a:lnTo>
                <a:lnTo>
                  <a:pt x="26" y="83"/>
                </a:lnTo>
                <a:lnTo>
                  <a:pt x="27" y="82"/>
                </a:lnTo>
                <a:lnTo>
                  <a:pt x="28" y="80"/>
                </a:lnTo>
                <a:lnTo>
                  <a:pt x="29" y="79"/>
                </a:lnTo>
                <a:lnTo>
                  <a:pt x="30" y="78"/>
                </a:lnTo>
                <a:lnTo>
                  <a:pt x="31" y="76"/>
                </a:lnTo>
                <a:lnTo>
                  <a:pt x="32" y="75"/>
                </a:lnTo>
                <a:lnTo>
                  <a:pt x="33" y="74"/>
                </a:lnTo>
                <a:lnTo>
                  <a:pt x="35" y="72"/>
                </a:lnTo>
                <a:lnTo>
                  <a:pt x="36" y="71"/>
                </a:lnTo>
                <a:lnTo>
                  <a:pt x="37" y="70"/>
                </a:lnTo>
                <a:lnTo>
                  <a:pt x="38" y="68"/>
                </a:lnTo>
                <a:lnTo>
                  <a:pt x="39" y="67"/>
                </a:lnTo>
                <a:lnTo>
                  <a:pt x="40" y="66"/>
                </a:lnTo>
                <a:lnTo>
                  <a:pt x="41" y="64"/>
                </a:lnTo>
                <a:lnTo>
                  <a:pt x="42" y="63"/>
                </a:lnTo>
                <a:lnTo>
                  <a:pt x="43" y="62"/>
                </a:lnTo>
                <a:lnTo>
                  <a:pt x="45" y="60"/>
                </a:lnTo>
                <a:lnTo>
                  <a:pt x="46" y="59"/>
                </a:lnTo>
                <a:lnTo>
                  <a:pt x="47" y="58"/>
                </a:lnTo>
                <a:lnTo>
                  <a:pt x="48" y="56"/>
                </a:lnTo>
                <a:lnTo>
                  <a:pt x="50" y="55"/>
                </a:lnTo>
                <a:lnTo>
                  <a:pt x="51" y="54"/>
                </a:lnTo>
                <a:lnTo>
                  <a:pt x="52" y="52"/>
                </a:lnTo>
                <a:lnTo>
                  <a:pt x="53" y="51"/>
                </a:lnTo>
                <a:lnTo>
                  <a:pt x="54" y="50"/>
                </a:lnTo>
                <a:lnTo>
                  <a:pt x="56" y="48"/>
                </a:lnTo>
                <a:lnTo>
                  <a:pt x="57" y="47"/>
                </a:lnTo>
                <a:lnTo>
                  <a:pt x="58" y="46"/>
                </a:lnTo>
                <a:lnTo>
                  <a:pt x="59" y="44"/>
                </a:lnTo>
                <a:lnTo>
                  <a:pt x="60" y="43"/>
                </a:lnTo>
                <a:lnTo>
                  <a:pt x="61" y="42"/>
                </a:lnTo>
                <a:lnTo>
                  <a:pt x="63" y="40"/>
                </a:lnTo>
                <a:lnTo>
                  <a:pt x="65" y="39"/>
                </a:lnTo>
                <a:lnTo>
                  <a:pt x="66" y="38"/>
                </a:lnTo>
                <a:lnTo>
                  <a:pt x="67" y="36"/>
                </a:lnTo>
                <a:lnTo>
                  <a:pt x="68" y="35"/>
                </a:lnTo>
                <a:lnTo>
                  <a:pt x="69" y="34"/>
                </a:lnTo>
                <a:lnTo>
                  <a:pt x="71" y="33"/>
                </a:lnTo>
                <a:lnTo>
                  <a:pt x="72" y="32"/>
                </a:lnTo>
                <a:lnTo>
                  <a:pt x="73" y="31"/>
                </a:lnTo>
                <a:lnTo>
                  <a:pt x="74" y="30"/>
                </a:lnTo>
                <a:lnTo>
                  <a:pt x="75" y="29"/>
                </a:lnTo>
                <a:lnTo>
                  <a:pt x="76" y="28"/>
                </a:lnTo>
                <a:lnTo>
                  <a:pt x="77" y="25"/>
                </a:lnTo>
                <a:lnTo>
                  <a:pt x="78" y="24"/>
                </a:lnTo>
                <a:lnTo>
                  <a:pt x="80" y="23"/>
                </a:lnTo>
                <a:lnTo>
                  <a:pt x="82" y="22"/>
                </a:lnTo>
                <a:lnTo>
                  <a:pt x="84" y="21"/>
                </a:lnTo>
                <a:lnTo>
                  <a:pt x="85" y="20"/>
                </a:lnTo>
                <a:lnTo>
                  <a:pt x="86" y="19"/>
                </a:lnTo>
                <a:lnTo>
                  <a:pt x="87" y="18"/>
                </a:lnTo>
                <a:lnTo>
                  <a:pt x="88" y="17"/>
                </a:lnTo>
                <a:lnTo>
                  <a:pt x="90" y="16"/>
                </a:lnTo>
                <a:lnTo>
                  <a:pt x="91" y="15"/>
                </a:lnTo>
                <a:lnTo>
                  <a:pt x="94" y="14"/>
                </a:lnTo>
                <a:lnTo>
                  <a:pt x="95" y="13"/>
                </a:lnTo>
                <a:lnTo>
                  <a:pt x="97" y="12"/>
                </a:lnTo>
                <a:lnTo>
                  <a:pt x="98" y="12"/>
                </a:lnTo>
                <a:lnTo>
                  <a:pt x="99" y="12"/>
                </a:lnTo>
                <a:lnTo>
                  <a:pt x="100" y="11"/>
                </a:lnTo>
                <a:lnTo>
                  <a:pt x="101" y="11"/>
                </a:lnTo>
                <a:lnTo>
                  <a:pt x="102" y="11"/>
                </a:lnTo>
                <a:lnTo>
                  <a:pt x="103" y="10"/>
                </a:lnTo>
                <a:lnTo>
                  <a:pt x="105" y="9"/>
                </a:lnTo>
                <a:lnTo>
                  <a:pt x="106" y="9"/>
                </a:lnTo>
                <a:lnTo>
                  <a:pt x="107" y="9"/>
                </a:lnTo>
                <a:lnTo>
                  <a:pt x="109" y="9"/>
                </a:lnTo>
                <a:lnTo>
                  <a:pt x="109" y="8"/>
                </a:lnTo>
                <a:lnTo>
                  <a:pt x="109" y="4"/>
                </a:lnTo>
                <a:lnTo>
                  <a:pt x="109" y="1"/>
                </a:lnTo>
                <a:lnTo>
                  <a:pt x="109" y="0"/>
                </a:lnTo>
                <a:lnTo>
                  <a:pt x="107" y="0"/>
                </a:lnTo>
                <a:lnTo>
                  <a:pt x="105" y="0"/>
                </a:lnTo>
                <a:lnTo>
                  <a:pt x="104" y="0"/>
                </a:lnTo>
                <a:lnTo>
                  <a:pt x="101" y="1"/>
                </a:lnTo>
                <a:lnTo>
                  <a:pt x="100" y="1"/>
                </a:lnTo>
                <a:lnTo>
                  <a:pt x="98" y="2"/>
                </a:lnTo>
                <a:lnTo>
                  <a:pt x="97" y="2"/>
                </a:lnTo>
                <a:lnTo>
                  <a:pt x="96" y="3"/>
                </a:lnTo>
                <a:lnTo>
                  <a:pt x="94" y="4"/>
                </a:lnTo>
                <a:lnTo>
                  <a:pt x="92" y="4"/>
                </a:lnTo>
                <a:lnTo>
                  <a:pt x="91" y="5"/>
                </a:lnTo>
                <a:lnTo>
                  <a:pt x="90" y="6"/>
                </a:lnTo>
                <a:lnTo>
                  <a:pt x="89" y="6"/>
                </a:lnTo>
                <a:lnTo>
                  <a:pt x="88" y="7"/>
                </a:lnTo>
                <a:lnTo>
                  <a:pt x="86" y="8"/>
                </a:lnTo>
                <a:lnTo>
                  <a:pt x="85" y="8"/>
                </a:lnTo>
                <a:lnTo>
                  <a:pt x="84" y="9"/>
                </a:lnTo>
                <a:lnTo>
                  <a:pt x="83" y="10"/>
                </a:lnTo>
                <a:lnTo>
                  <a:pt x="82" y="11"/>
                </a:lnTo>
                <a:lnTo>
                  <a:pt x="81" y="12"/>
                </a:lnTo>
                <a:lnTo>
                  <a:pt x="78" y="13"/>
                </a:lnTo>
                <a:lnTo>
                  <a:pt x="77" y="14"/>
                </a:lnTo>
                <a:lnTo>
                  <a:pt x="76" y="15"/>
                </a:lnTo>
                <a:lnTo>
                  <a:pt x="75" y="16"/>
                </a:lnTo>
                <a:lnTo>
                  <a:pt x="74" y="17"/>
                </a:lnTo>
                <a:lnTo>
                  <a:pt x="73" y="18"/>
                </a:lnTo>
                <a:lnTo>
                  <a:pt x="71" y="19"/>
                </a:lnTo>
                <a:lnTo>
                  <a:pt x="70" y="20"/>
                </a:lnTo>
                <a:lnTo>
                  <a:pt x="69" y="21"/>
                </a:lnTo>
                <a:lnTo>
                  <a:pt x="67" y="23"/>
                </a:lnTo>
                <a:lnTo>
                  <a:pt x="66" y="24"/>
                </a:lnTo>
                <a:lnTo>
                  <a:pt x="65" y="25"/>
                </a:lnTo>
                <a:lnTo>
                  <a:pt x="63" y="26"/>
                </a:lnTo>
                <a:lnTo>
                  <a:pt x="62" y="28"/>
                </a:lnTo>
                <a:lnTo>
                  <a:pt x="61" y="29"/>
                </a:lnTo>
                <a:lnTo>
                  <a:pt x="59" y="31"/>
                </a:lnTo>
                <a:lnTo>
                  <a:pt x="58" y="32"/>
                </a:lnTo>
                <a:lnTo>
                  <a:pt x="57" y="33"/>
                </a:lnTo>
                <a:lnTo>
                  <a:pt x="56" y="35"/>
                </a:lnTo>
                <a:lnTo>
                  <a:pt x="55" y="36"/>
                </a:lnTo>
                <a:lnTo>
                  <a:pt x="54" y="37"/>
                </a:lnTo>
                <a:lnTo>
                  <a:pt x="52" y="39"/>
                </a:lnTo>
                <a:lnTo>
                  <a:pt x="51" y="40"/>
                </a:lnTo>
                <a:lnTo>
                  <a:pt x="50" y="41"/>
                </a:lnTo>
                <a:lnTo>
                  <a:pt x="47" y="43"/>
                </a:lnTo>
                <a:lnTo>
                  <a:pt x="46" y="44"/>
                </a:lnTo>
                <a:lnTo>
                  <a:pt x="45" y="45"/>
                </a:lnTo>
                <a:lnTo>
                  <a:pt x="44" y="47"/>
                </a:lnTo>
                <a:lnTo>
                  <a:pt x="43" y="48"/>
                </a:lnTo>
                <a:lnTo>
                  <a:pt x="42" y="49"/>
                </a:lnTo>
                <a:lnTo>
                  <a:pt x="41" y="51"/>
                </a:lnTo>
                <a:lnTo>
                  <a:pt x="40" y="52"/>
                </a:lnTo>
                <a:lnTo>
                  <a:pt x="39" y="53"/>
                </a:lnTo>
                <a:lnTo>
                  <a:pt x="37" y="55"/>
                </a:lnTo>
                <a:lnTo>
                  <a:pt x="36" y="56"/>
                </a:lnTo>
                <a:lnTo>
                  <a:pt x="35" y="57"/>
                </a:lnTo>
                <a:lnTo>
                  <a:pt x="33" y="59"/>
                </a:lnTo>
                <a:lnTo>
                  <a:pt x="32" y="60"/>
                </a:lnTo>
                <a:lnTo>
                  <a:pt x="31" y="61"/>
                </a:lnTo>
                <a:lnTo>
                  <a:pt x="30" y="63"/>
                </a:lnTo>
                <a:lnTo>
                  <a:pt x="29" y="64"/>
                </a:lnTo>
                <a:lnTo>
                  <a:pt x="28" y="65"/>
                </a:lnTo>
                <a:lnTo>
                  <a:pt x="27" y="67"/>
                </a:lnTo>
                <a:lnTo>
                  <a:pt x="26" y="68"/>
                </a:lnTo>
                <a:lnTo>
                  <a:pt x="25" y="69"/>
                </a:lnTo>
                <a:lnTo>
                  <a:pt x="24" y="71"/>
                </a:lnTo>
                <a:lnTo>
                  <a:pt x="23" y="72"/>
                </a:lnTo>
                <a:lnTo>
                  <a:pt x="22" y="73"/>
                </a:lnTo>
                <a:lnTo>
                  <a:pt x="21" y="75"/>
                </a:lnTo>
                <a:lnTo>
                  <a:pt x="20" y="76"/>
                </a:lnTo>
                <a:lnTo>
                  <a:pt x="18" y="77"/>
                </a:lnTo>
                <a:lnTo>
                  <a:pt x="17" y="78"/>
                </a:lnTo>
                <a:lnTo>
                  <a:pt x="16" y="79"/>
                </a:lnTo>
                <a:lnTo>
                  <a:pt x="15" y="80"/>
                </a:lnTo>
                <a:lnTo>
                  <a:pt x="14" y="82"/>
                </a:lnTo>
                <a:lnTo>
                  <a:pt x="14" y="83"/>
                </a:lnTo>
                <a:lnTo>
                  <a:pt x="13" y="84"/>
                </a:lnTo>
                <a:lnTo>
                  <a:pt x="12" y="86"/>
                </a:lnTo>
                <a:lnTo>
                  <a:pt x="11" y="87"/>
                </a:lnTo>
                <a:lnTo>
                  <a:pt x="10" y="88"/>
                </a:lnTo>
                <a:lnTo>
                  <a:pt x="9" y="89"/>
                </a:lnTo>
                <a:lnTo>
                  <a:pt x="8" y="90"/>
                </a:lnTo>
                <a:lnTo>
                  <a:pt x="7" y="91"/>
                </a:lnTo>
                <a:lnTo>
                  <a:pt x="7" y="92"/>
                </a:lnTo>
                <a:lnTo>
                  <a:pt x="6" y="93"/>
                </a:lnTo>
                <a:lnTo>
                  <a:pt x="4" y="94"/>
                </a:lnTo>
                <a:lnTo>
                  <a:pt x="3" y="95"/>
                </a:lnTo>
                <a:lnTo>
                  <a:pt x="3" y="96"/>
                </a:lnTo>
                <a:lnTo>
                  <a:pt x="2" y="97"/>
                </a:lnTo>
                <a:lnTo>
                  <a:pt x="1" y="97"/>
                </a:lnTo>
                <a:lnTo>
                  <a:pt x="0" y="101"/>
                </a:lnTo>
                <a:lnTo>
                  <a:pt x="0" y="102"/>
                </a:lnTo>
                <a:lnTo>
                  <a:pt x="0" y="99"/>
                </a:lnTo>
                <a:lnTo>
                  <a:pt x="0" y="98"/>
                </a:lnTo>
                <a:lnTo>
                  <a:pt x="1" y="97"/>
                </a:lnTo>
                <a:lnTo>
                  <a:pt x="0" y="98"/>
                </a:lnTo>
                <a:lnTo>
                  <a:pt x="0" y="99"/>
                </a:lnTo>
                <a:lnTo>
                  <a:pt x="0" y="100"/>
                </a:lnTo>
                <a:lnTo>
                  <a:pt x="0" y="101"/>
                </a:lnTo>
                <a:lnTo>
                  <a:pt x="0" y="102"/>
                </a:lnTo>
                <a:lnTo>
                  <a:pt x="10" y="9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7" name="Freeform 26"/>
          <p:cNvSpPr/>
          <p:nvPr/>
        </p:nvSpPr>
        <p:spPr>
          <a:xfrm>
            <a:off x="3519360" y="3475080"/>
            <a:ext cx="25560" cy="73080"/>
          </a:xfrm>
          <a:custGeom>
            <a:avLst/>
            <a:gdLst>
              <a:gd name="textAreaLeft" fmla="*/ 0 w 25560"/>
              <a:gd name="textAreaRight" fmla="*/ 25920 w 25560"/>
              <a:gd name="textAreaTop" fmla="*/ 0 h 73080"/>
              <a:gd name="textAreaBottom" fmla="*/ 73080 h 73080"/>
            </a:gdLst>
            <a:ahLst/>
            <a:rect l="textAreaLeft" t="textAreaTop" r="textAreaRight" b="textAreaBottom"/>
            <a:pathLst>
              <a:path w="32" h="93">
                <a:moveTo>
                  <a:pt x="32" y="89"/>
                </a:moveTo>
                <a:lnTo>
                  <a:pt x="32" y="89"/>
                </a:lnTo>
                <a:lnTo>
                  <a:pt x="28" y="76"/>
                </a:lnTo>
                <a:lnTo>
                  <a:pt x="17" y="34"/>
                </a:lnTo>
                <a:lnTo>
                  <a:pt x="10" y="2"/>
                </a:lnTo>
                <a:lnTo>
                  <a:pt x="10" y="0"/>
                </a:lnTo>
                <a:lnTo>
                  <a:pt x="8" y="1"/>
                </a:lnTo>
                <a:lnTo>
                  <a:pt x="3" y="2"/>
                </a:lnTo>
                <a:lnTo>
                  <a:pt x="0" y="3"/>
                </a:lnTo>
                <a:lnTo>
                  <a:pt x="0" y="5"/>
                </a:lnTo>
                <a:lnTo>
                  <a:pt x="3" y="17"/>
                </a:lnTo>
                <a:lnTo>
                  <a:pt x="14" y="59"/>
                </a:lnTo>
                <a:lnTo>
                  <a:pt x="22" y="92"/>
                </a:lnTo>
                <a:lnTo>
                  <a:pt x="23" y="93"/>
                </a:lnTo>
                <a:lnTo>
                  <a:pt x="32" y="89"/>
                </a:lnTo>
                <a:close/>
              </a:path>
            </a:pathLst>
          </a:custGeom>
          <a:solidFill>
            <a:srgbClr val="1f1a17"/>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8" name="Freeform 27"/>
          <p:cNvSpPr/>
          <p:nvPr/>
        </p:nvSpPr>
        <p:spPr>
          <a:xfrm>
            <a:off x="3508200" y="3546360"/>
            <a:ext cx="36720" cy="77760"/>
          </a:xfrm>
          <a:custGeom>
            <a:avLst/>
            <a:gdLst>
              <a:gd name="textAreaLeft" fmla="*/ 0 w 36720"/>
              <a:gd name="textAreaRight" fmla="*/ 37080 w 36720"/>
              <a:gd name="textAreaTop" fmla="*/ 0 h 77760"/>
              <a:gd name="textAreaBottom" fmla="*/ 78120 h 77760"/>
            </a:gdLst>
            <a:ahLst/>
            <a:rect l="textAreaLeft" t="textAreaTop" r="textAreaRight" b="textAreaBottom"/>
            <a:pathLst>
              <a:path w="45" h="99">
                <a:moveTo>
                  <a:pt x="9" y="94"/>
                </a:moveTo>
                <a:lnTo>
                  <a:pt x="9" y="95"/>
                </a:lnTo>
                <a:lnTo>
                  <a:pt x="9" y="96"/>
                </a:lnTo>
                <a:lnTo>
                  <a:pt x="9" y="97"/>
                </a:lnTo>
                <a:lnTo>
                  <a:pt x="10" y="97"/>
                </a:lnTo>
                <a:lnTo>
                  <a:pt x="10" y="95"/>
                </a:lnTo>
                <a:lnTo>
                  <a:pt x="10" y="94"/>
                </a:lnTo>
                <a:lnTo>
                  <a:pt x="11" y="93"/>
                </a:lnTo>
                <a:lnTo>
                  <a:pt x="11" y="91"/>
                </a:lnTo>
                <a:lnTo>
                  <a:pt x="11" y="90"/>
                </a:lnTo>
                <a:lnTo>
                  <a:pt x="11" y="89"/>
                </a:lnTo>
                <a:lnTo>
                  <a:pt x="11" y="86"/>
                </a:lnTo>
                <a:lnTo>
                  <a:pt x="11" y="85"/>
                </a:lnTo>
                <a:lnTo>
                  <a:pt x="12" y="84"/>
                </a:lnTo>
                <a:lnTo>
                  <a:pt x="12" y="82"/>
                </a:lnTo>
                <a:lnTo>
                  <a:pt x="12" y="81"/>
                </a:lnTo>
                <a:lnTo>
                  <a:pt x="13" y="80"/>
                </a:lnTo>
                <a:lnTo>
                  <a:pt x="13" y="78"/>
                </a:lnTo>
                <a:lnTo>
                  <a:pt x="13" y="77"/>
                </a:lnTo>
                <a:lnTo>
                  <a:pt x="14" y="76"/>
                </a:lnTo>
                <a:lnTo>
                  <a:pt x="14" y="75"/>
                </a:lnTo>
                <a:lnTo>
                  <a:pt x="14" y="74"/>
                </a:lnTo>
                <a:lnTo>
                  <a:pt x="15" y="73"/>
                </a:lnTo>
                <a:lnTo>
                  <a:pt x="16" y="71"/>
                </a:lnTo>
                <a:lnTo>
                  <a:pt x="17" y="69"/>
                </a:lnTo>
                <a:lnTo>
                  <a:pt x="17" y="67"/>
                </a:lnTo>
                <a:lnTo>
                  <a:pt x="17" y="66"/>
                </a:lnTo>
                <a:lnTo>
                  <a:pt x="19" y="65"/>
                </a:lnTo>
                <a:lnTo>
                  <a:pt x="19" y="64"/>
                </a:lnTo>
                <a:lnTo>
                  <a:pt x="19" y="63"/>
                </a:lnTo>
                <a:lnTo>
                  <a:pt x="20" y="62"/>
                </a:lnTo>
                <a:lnTo>
                  <a:pt x="21" y="60"/>
                </a:lnTo>
                <a:lnTo>
                  <a:pt x="22" y="58"/>
                </a:lnTo>
                <a:lnTo>
                  <a:pt x="22" y="57"/>
                </a:lnTo>
                <a:lnTo>
                  <a:pt x="22" y="55"/>
                </a:lnTo>
                <a:lnTo>
                  <a:pt x="23" y="54"/>
                </a:lnTo>
                <a:lnTo>
                  <a:pt x="24" y="53"/>
                </a:lnTo>
                <a:lnTo>
                  <a:pt x="25" y="51"/>
                </a:lnTo>
                <a:lnTo>
                  <a:pt x="25" y="49"/>
                </a:lnTo>
                <a:lnTo>
                  <a:pt x="25" y="48"/>
                </a:lnTo>
                <a:lnTo>
                  <a:pt x="26" y="47"/>
                </a:lnTo>
                <a:lnTo>
                  <a:pt x="27" y="46"/>
                </a:lnTo>
                <a:lnTo>
                  <a:pt x="28" y="44"/>
                </a:lnTo>
                <a:lnTo>
                  <a:pt x="28" y="43"/>
                </a:lnTo>
                <a:lnTo>
                  <a:pt x="28" y="42"/>
                </a:lnTo>
                <a:lnTo>
                  <a:pt x="29" y="41"/>
                </a:lnTo>
                <a:lnTo>
                  <a:pt x="30" y="40"/>
                </a:lnTo>
                <a:lnTo>
                  <a:pt x="31" y="38"/>
                </a:lnTo>
                <a:lnTo>
                  <a:pt x="33" y="35"/>
                </a:lnTo>
                <a:lnTo>
                  <a:pt x="34" y="34"/>
                </a:lnTo>
                <a:lnTo>
                  <a:pt x="35" y="33"/>
                </a:lnTo>
                <a:lnTo>
                  <a:pt x="36" y="30"/>
                </a:lnTo>
                <a:lnTo>
                  <a:pt x="36" y="28"/>
                </a:lnTo>
                <a:lnTo>
                  <a:pt x="37" y="27"/>
                </a:lnTo>
                <a:lnTo>
                  <a:pt x="38" y="26"/>
                </a:lnTo>
                <a:lnTo>
                  <a:pt x="39" y="25"/>
                </a:lnTo>
                <a:lnTo>
                  <a:pt x="40" y="23"/>
                </a:lnTo>
                <a:lnTo>
                  <a:pt x="40" y="22"/>
                </a:lnTo>
                <a:lnTo>
                  <a:pt x="40" y="21"/>
                </a:lnTo>
                <a:lnTo>
                  <a:pt x="41" y="20"/>
                </a:lnTo>
                <a:lnTo>
                  <a:pt x="42" y="18"/>
                </a:lnTo>
                <a:lnTo>
                  <a:pt x="43" y="16"/>
                </a:lnTo>
                <a:lnTo>
                  <a:pt x="44" y="14"/>
                </a:lnTo>
                <a:lnTo>
                  <a:pt x="44" y="13"/>
                </a:lnTo>
                <a:lnTo>
                  <a:pt x="44" y="12"/>
                </a:lnTo>
                <a:lnTo>
                  <a:pt x="44" y="11"/>
                </a:lnTo>
                <a:lnTo>
                  <a:pt x="44" y="10"/>
                </a:lnTo>
                <a:lnTo>
                  <a:pt x="45" y="9"/>
                </a:lnTo>
                <a:lnTo>
                  <a:pt x="45" y="8"/>
                </a:lnTo>
                <a:lnTo>
                  <a:pt x="45" y="7"/>
                </a:lnTo>
                <a:lnTo>
                  <a:pt x="45" y="6"/>
                </a:lnTo>
                <a:lnTo>
                  <a:pt x="45" y="5"/>
                </a:lnTo>
                <a:lnTo>
                  <a:pt x="45" y="4"/>
                </a:lnTo>
                <a:lnTo>
                  <a:pt x="45" y="3"/>
                </a:lnTo>
                <a:lnTo>
                  <a:pt x="45" y="1"/>
                </a:lnTo>
                <a:lnTo>
                  <a:pt x="45" y="0"/>
                </a:lnTo>
                <a:lnTo>
                  <a:pt x="43" y="1"/>
                </a:lnTo>
                <a:lnTo>
                  <a:pt x="39" y="3"/>
                </a:lnTo>
                <a:lnTo>
                  <a:pt x="36" y="4"/>
                </a:lnTo>
                <a:lnTo>
                  <a:pt x="36" y="5"/>
                </a:lnTo>
                <a:lnTo>
                  <a:pt x="36" y="6"/>
                </a:lnTo>
                <a:lnTo>
                  <a:pt x="36" y="7"/>
                </a:lnTo>
                <a:lnTo>
                  <a:pt x="36" y="8"/>
                </a:lnTo>
                <a:lnTo>
                  <a:pt x="36" y="9"/>
                </a:lnTo>
                <a:lnTo>
                  <a:pt x="35" y="10"/>
                </a:lnTo>
                <a:lnTo>
                  <a:pt x="35" y="11"/>
                </a:lnTo>
                <a:lnTo>
                  <a:pt x="35" y="12"/>
                </a:lnTo>
                <a:lnTo>
                  <a:pt x="34" y="13"/>
                </a:lnTo>
                <a:lnTo>
                  <a:pt x="34" y="14"/>
                </a:lnTo>
                <a:lnTo>
                  <a:pt x="33" y="15"/>
                </a:lnTo>
                <a:lnTo>
                  <a:pt x="33" y="16"/>
                </a:lnTo>
                <a:lnTo>
                  <a:pt x="31" y="18"/>
                </a:lnTo>
                <a:lnTo>
                  <a:pt x="31" y="19"/>
                </a:lnTo>
                <a:lnTo>
                  <a:pt x="30" y="20"/>
                </a:lnTo>
                <a:lnTo>
                  <a:pt x="30" y="21"/>
                </a:lnTo>
                <a:lnTo>
                  <a:pt x="29" y="22"/>
                </a:lnTo>
                <a:lnTo>
                  <a:pt x="28" y="23"/>
                </a:lnTo>
                <a:lnTo>
                  <a:pt x="26" y="27"/>
                </a:lnTo>
                <a:lnTo>
                  <a:pt x="26" y="29"/>
                </a:lnTo>
                <a:lnTo>
                  <a:pt x="25" y="30"/>
                </a:lnTo>
                <a:lnTo>
                  <a:pt x="24" y="33"/>
                </a:lnTo>
                <a:lnTo>
                  <a:pt x="23" y="34"/>
                </a:lnTo>
                <a:lnTo>
                  <a:pt x="22" y="35"/>
                </a:lnTo>
                <a:lnTo>
                  <a:pt x="21" y="36"/>
                </a:lnTo>
                <a:lnTo>
                  <a:pt x="21" y="37"/>
                </a:lnTo>
                <a:lnTo>
                  <a:pt x="20" y="39"/>
                </a:lnTo>
                <a:lnTo>
                  <a:pt x="20" y="40"/>
                </a:lnTo>
                <a:lnTo>
                  <a:pt x="19" y="41"/>
                </a:lnTo>
                <a:lnTo>
                  <a:pt x="17" y="42"/>
                </a:lnTo>
                <a:lnTo>
                  <a:pt x="17" y="43"/>
                </a:lnTo>
                <a:lnTo>
                  <a:pt x="16" y="46"/>
                </a:lnTo>
                <a:lnTo>
                  <a:pt x="16" y="47"/>
                </a:lnTo>
                <a:lnTo>
                  <a:pt x="15" y="48"/>
                </a:lnTo>
                <a:lnTo>
                  <a:pt x="14" y="49"/>
                </a:lnTo>
                <a:lnTo>
                  <a:pt x="14" y="50"/>
                </a:lnTo>
                <a:lnTo>
                  <a:pt x="13" y="51"/>
                </a:lnTo>
                <a:lnTo>
                  <a:pt x="12" y="53"/>
                </a:lnTo>
                <a:lnTo>
                  <a:pt x="12" y="54"/>
                </a:lnTo>
                <a:lnTo>
                  <a:pt x="11" y="57"/>
                </a:lnTo>
                <a:lnTo>
                  <a:pt x="11" y="58"/>
                </a:lnTo>
                <a:lnTo>
                  <a:pt x="10" y="61"/>
                </a:lnTo>
                <a:lnTo>
                  <a:pt x="10" y="62"/>
                </a:lnTo>
                <a:lnTo>
                  <a:pt x="9" y="63"/>
                </a:lnTo>
                <a:lnTo>
                  <a:pt x="8" y="65"/>
                </a:lnTo>
                <a:lnTo>
                  <a:pt x="8" y="66"/>
                </a:lnTo>
                <a:lnTo>
                  <a:pt x="7" y="69"/>
                </a:lnTo>
                <a:lnTo>
                  <a:pt x="7" y="70"/>
                </a:lnTo>
                <a:lnTo>
                  <a:pt x="6" y="73"/>
                </a:lnTo>
                <a:lnTo>
                  <a:pt x="6" y="74"/>
                </a:lnTo>
                <a:lnTo>
                  <a:pt x="5" y="75"/>
                </a:lnTo>
                <a:lnTo>
                  <a:pt x="4" y="77"/>
                </a:lnTo>
                <a:lnTo>
                  <a:pt x="4" y="78"/>
                </a:lnTo>
                <a:lnTo>
                  <a:pt x="2" y="81"/>
                </a:lnTo>
                <a:lnTo>
                  <a:pt x="2" y="82"/>
                </a:lnTo>
                <a:lnTo>
                  <a:pt x="1" y="86"/>
                </a:lnTo>
                <a:lnTo>
                  <a:pt x="1" y="87"/>
                </a:lnTo>
                <a:lnTo>
                  <a:pt x="1" y="88"/>
                </a:lnTo>
                <a:lnTo>
                  <a:pt x="1" y="90"/>
                </a:lnTo>
                <a:lnTo>
                  <a:pt x="1" y="91"/>
                </a:lnTo>
                <a:lnTo>
                  <a:pt x="0" y="95"/>
                </a:lnTo>
                <a:lnTo>
                  <a:pt x="0" y="96"/>
                </a:lnTo>
                <a:lnTo>
                  <a:pt x="0" y="97"/>
                </a:lnTo>
                <a:lnTo>
                  <a:pt x="0" y="98"/>
                </a:lnTo>
                <a:lnTo>
                  <a:pt x="0" y="99"/>
                </a:lnTo>
                <a:lnTo>
                  <a:pt x="1" y="99"/>
                </a:lnTo>
                <a:lnTo>
                  <a:pt x="9" y="94"/>
                </a:lnTo>
                <a:close/>
              </a:path>
            </a:pathLst>
          </a:custGeom>
          <a:solidFill>
            <a:srgbClr val="1f1a17"/>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9" name="Freeform 28"/>
          <p:cNvSpPr/>
          <p:nvPr/>
        </p:nvSpPr>
        <p:spPr>
          <a:xfrm>
            <a:off x="3510000" y="3621240"/>
            <a:ext cx="81000" cy="114120"/>
          </a:xfrm>
          <a:custGeom>
            <a:avLst/>
            <a:gdLst>
              <a:gd name="textAreaLeft" fmla="*/ 0 w 81000"/>
              <a:gd name="textAreaRight" fmla="*/ 81360 w 81000"/>
              <a:gd name="textAreaTop" fmla="*/ 0 h 114120"/>
              <a:gd name="textAreaBottom" fmla="*/ 114480 h 114120"/>
            </a:gdLst>
            <a:ahLst/>
            <a:rect l="textAreaLeft" t="textAreaTop" r="textAreaRight" b="textAreaBottom"/>
            <a:pathLst>
              <a:path w="102" h="146">
                <a:moveTo>
                  <a:pt x="102" y="143"/>
                </a:moveTo>
                <a:lnTo>
                  <a:pt x="101" y="142"/>
                </a:lnTo>
                <a:lnTo>
                  <a:pt x="101" y="141"/>
                </a:lnTo>
                <a:lnTo>
                  <a:pt x="99" y="139"/>
                </a:lnTo>
                <a:lnTo>
                  <a:pt x="86" y="119"/>
                </a:lnTo>
                <a:lnTo>
                  <a:pt x="42" y="53"/>
                </a:lnTo>
                <a:lnTo>
                  <a:pt x="9" y="3"/>
                </a:lnTo>
                <a:lnTo>
                  <a:pt x="8" y="0"/>
                </a:lnTo>
                <a:lnTo>
                  <a:pt x="7" y="1"/>
                </a:lnTo>
                <a:lnTo>
                  <a:pt x="3" y="4"/>
                </a:lnTo>
                <a:lnTo>
                  <a:pt x="0" y="5"/>
                </a:lnTo>
                <a:lnTo>
                  <a:pt x="1" y="8"/>
                </a:lnTo>
                <a:lnTo>
                  <a:pt x="14" y="28"/>
                </a:lnTo>
                <a:lnTo>
                  <a:pt x="58" y="94"/>
                </a:lnTo>
                <a:lnTo>
                  <a:pt x="92" y="144"/>
                </a:lnTo>
                <a:lnTo>
                  <a:pt x="94" y="146"/>
                </a:lnTo>
                <a:lnTo>
                  <a:pt x="93" y="145"/>
                </a:lnTo>
                <a:lnTo>
                  <a:pt x="93" y="144"/>
                </a:lnTo>
                <a:lnTo>
                  <a:pt x="102" y="1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29"/>
          <p:cNvSpPr/>
          <p:nvPr/>
        </p:nvSpPr>
        <p:spPr>
          <a:xfrm>
            <a:off x="3583080" y="3733920"/>
            <a:ext cx="44280" cy="182520"/>
          </a:xfrm>
          <a:custGeom>
            <a:avLst/>
            <a:gdLst>
              <a:gd name="textAreaLeft" fmla="*/ 0 w 44280"/>
              <a:gd name="textAreaRight" fmla="*/ 44280 w 44280"/>
              <a:gd name="textAreaTop" fmla="*/ 0 h 182520"/>
              <a:gd name="textAreaBottom" fmla="*/ 182880 h 182520"/>
            </a:gdLst>
            <a:ahLst/>
            <a:rect l="textAreaLeft" t="textAreaTop" r="textAreaRight" b="textAreaBottom"/>
            <a:pathLst>
              <a:path w="55" h="230">
                <a:moveTo>
                  <a:pt x="55" y="227"/>
                </a:moveTo>
                <a:lnTo>
                  <a:pt x="55" y="227"/>
                </a:lnTo>
                <a:lnTo>
                  <a:pt x="52" y="221"/>
                </a:lnTo>
                <a:lnTo>
                  <a:pt x="51" y="218"/>
                </a:lnTo>
                <a:lnTo>
                  <a:pt x="51" y="217"/>
                </a:lnTo>
                <a:lnTo>
                  <a:pt x="49" y="211"/>
                </a:lnTo>
                <a:lnTo>
                  <a:pt x="48" y="208"/>
                </a:lnTo>
                <a:lnTo>
                  <a:pt x="48" y="207"/>
                </a:lnTo>
                <a:lnTo>
                  <a:pt x="46" y="202"/>
                </a:lnTo>
                <a:lnTo>
                  <a:pt x="45" y="199"/>
                </a:lnTo>
                <a:lnTo>
                  <a:pt x="45" y="197"/>
                </a:lnTo>
                <a:lnTo>
                  <a:pt x="43" y="192"/>
                </a:lnTo>
                <a:lnTo>
                  <a:pt x="41" y="189"/>
                </a:lnTo>
                <a:lnTo>
                  <a:pt x="41" y="188"/>
                </a:lnTo>
                <a:lnTo>
                  <a:pt x="39" y="183"/>
                </a:lnTo>
                <a:lnTo>
                  <a:pt x="38" y="180"/>
                </a:lnTo>
                <a:lnTo>
                  <a:pt x="38" y="179"/>
                </a:lnTo>
                <a:lnTo>
                  <a:pt x="36" y="174"/>
                </a:lnTo>
                <a:lnTo>
                  <a:pt x="36" y="171"/>
                </a:lnTo>
                <a:lnTo>
                  <a:pt x="36" y="170"/>
                </a:lnTo>
                <a:lnTo>
                  <a:pt x="34" y="166"/>
                </a:lnTo>
                <a:lnTo>
                  <a:pt x="34" y="163"/>
                </a:lnTo>
                <a:lnTo>
                  <a:pt x="34" y="162"/>
                </a:lnTo>
                <a:lnTo>
                  <a:pt x="32" y="158"/>
                </a:lnTo>
                <a:lnTo>
                  <a:pt x="32" y="155"/>
                </a:lnTo>
                <a:lnTo>
                  <a:pt x="32" y="154"/>
                </a:lnTo>
                <a:lnTo>
                  <a:pt x="30" y="150"/>
                </a:lnTo>
                <a:lnTo>
                  <a:pt x="30" y="147"/>
                </a:lnTo>
                <a:lnTo>
                  <a:pt x="30" y="146"/>
                </a:lnTo>
                <a:lnTo>
                  <a:pt x="28" y="141"/>
                </a:lnTo>
                <a:lnTo>
                  <a:pt x="28" y="138"/>
                </a:lnTo>
                <a:lnTo>
                  <a:pt x="28" y="137"/>
                </a:lnTo>
                <a:lnTo>
                  <a:pt x="26" y="133"/>
                </a:lnTo>
                <a:lnTo>
                  <a:pt x="26" y="130"/>
                </a:lnTo>
                <a:lnTo>
                  <a:pt x="26" y="129"/>
                </a:lnTo>
                <a:lnTo>
                  <a:pt x="24" y="125"/>
                </a:lnTo>
                <a:lnTo>
                  <a:pt x="24" y="123"/>
                </a:lnTo>
                <a:lnTo>
                  <a:pt x="24" y="122"/>
                </a:lnTo>
                <a:lnTo>
                  <a:pt x="23" y="118"/>
                </a:lnTo>
                <a:lnTo>
                  <a:pt x="23" y="116"/>
                </a:lnTo>
                <a:lnTo>
                  <a:pt x="23" y="115"/>
                </a:lnTo>
                <a:lnTo>
                  <a:pt x="22" y="111"/>
                </a:lnTo>
                <a:lnTo>
                  <a:pt x="22" y="109"/>
                </a:lnTo>
                <a:lnTo>
                  <a:pt x="22" y="108"/>
                </a:lnTo>
                <a:lnTo>
                  <a:pt x="21" y="104"/>
                </a:lnTo>
                <a:lnTo>
                  <a:pt x="21" y="102"/>
                </a:lnTo>
                <a:lnTo>
                  <a:pt x="21" y="101"/>
                </a:lnTo>
                <a:lnTo>
                  <a:pt x="20" y="97"/>
                </a:lnTo>
                <a:lnTo>
                  <a:pt x="20" y="95"/>
                </a:lnTo>
                <a:lnTo>
                  <a:pt x="20" y="94"/>
                </a:lnTo>
                <a:lnTo>
                  <a:pt x="19" y="91"/>
                </a:lnTo>
                <a:lnTo>
                  <a:pt x="19" y="88"/>
                </a:lnTo>
                <a:lnTo>
                  <a:pt x="19" y="87"/>
                </a:lnTo>
                <a:lnTo>
                  <a:pt x="19" y="86"/>
                </a:lnTo>
                <a:lnTo>
                  <a:pt x="19" y="83"/>
                </a:lnTo>
                <a:lnTo>
                  <a:pt x="19" y="81"/>
                </a:lnTo>
                <a:lnTo>
                  <a:pt x="19" y="80"/>
                </a:lnTo>
                <a:lnTo>
                  <a:pt x="18" y="77"/>
                </a:lnTo>
                <a:lnTo>
                  <a:pt x="18" y="75"/>
                </a:lnTo>
                <a:lnTo>
                  <a:pt x="18" y="74"/>
                </a:lnTo>
                <a:lnTo>
                  <a:pt x="17" y="71"/>
                </a:lnTo>
                <a:lnTo>
                  <a:pt x="17" y="69"/>
                </a:lnTo>
                <a:lnTo>
                  <a:pt x="17" y="68"/>
                </a:lnTo>
                <a:lnTo>
                  <a:pt x="17" y="65"/>
                </a:lnTo>
                <a:lnTo>
                  <a:pt x="17" y="63"/>
                </a:lnTo>
                <a:lnTo>
                  <a:pt x="17" y="62"/>
                </a:lnTo>
                <a:lnTo>
                  <a:pt x="16" y="59"/>
                </a:lnTo>
                <a:lnTo>
                  <a:pt x="16" y="57"/>
                </a:lnTo>
                <a:lnTo>
                  <a:pt x="16" y="56"/>
                </a:lnTo>
                <a:lnTo>
                  <a:pt x="16" y="53"/>
                </a:lnTo>
                <a:lnTo>
                  <a:pt x="16" y="51"/>
                </a:lnTo>
                <a:lnTo>
                  <a:pt x="16" y="50"/>
                </a:lnTo>
                <a:lnTo>
                  <a:pt x="15" y="47"/>
                </a:lnTo>
                <a:lnTo>
                  <a:pt x="15" y="45"/>
                </a:lnTo>
                <a:lnTo>
                  <a:pt x="15" y="44"/>
                </a:lnTo>
                <a:lnTo>
                  <a:pt x="15" y="41"/>
                </a:lnTo>
                <a:lnTo>
                  <a:pt x="15" y="39"/>
                </a:lnTo>
                <a:lnTo>
                  <a:pt x="15" y="38"/>
                </a:lnTo>
                <a:lnTo>
                  <a:pt x="14" y="34"/>
                </a:lnTo>
                <a:lnTo>
                  <a:pt x="14" y="33"/>
                </a:lnTo>
                <a:lnTo>
                  <a:pt x="14" y="32"/>
                </a:lnTo>
                <a:lnTo>
                  <a:pt x="14" y="29"/>
                </a:lnTo>
                <a:lnTo>
                  <a:pt x="14" y="27"/>
                </a:lnTo>
                <a:lnTo>
                  <a:pt x="14" y="26"/>
                </a:lnTo>
                <a:lnTo>
                  <a:pt x="13" y="23"/>
                </a:lnTo>
                <a:lnTo>
                  <a:pt x="13" y="22"/>
                </a:lnTo>
                <a:lnTo>
                  <a:pt x="13" y="21"/>
                </a:lnTo>
                <a:lnTo>
                  <a:pt x="11" y="18"/>
                </a:lnTo>
                <a:lnTo>
                  <a:pt x="11" y="17"/>
                </a:lnTo>
                <a:lnTo>
                  <a:pt x="11" y="16"/>
                </a:lnTo>
                <a:lnTo>
                  <a:pt x="11" y="13"/>
                </a:lnTo>
                <a:lnTo>
                  <a:pt x="11" y="11"/>
                </a:lnTo>
                <a:lnTo>
                  <a:pt x="11" y="10"/>
                </a:lnTo>
                <a:lnTo>
                  <a:pt x="10" y="7"/>
                </a:lnTo>
                <a:lnTo>
                  <a:pt x="10" y="6"/>
                </a:lnTo>
                <a:lnTo>
                  <a:pt x="10" y="5"/>
                </a:lnTo>
                <a:lnTo>
                  <a:pt x="9" y="2"/>
                </a:lnTo>
                <a:lnTo>
                  <a:pt x="9" y="1"/>
                </a:lnTo>
                <a:lnTo>
                  <a:pt x="9" y="0"/>
                </a:lnTo>
                <a:lnTo>
                  <a:pt x="7" y="1"/>
                </a:lnTo>
                <a:lnTo>
                  <a:pt x="3" y="1"/>
                </a:lnTo>
                <a:lnTo>
                  <a:pt x="0" y="1"/>
                </a:lnTo>
                <a:lnTo>
                  <a:pt x="0" y="2"/>
                </a:lnTo>
                <a:lnTo>
                  <a:pt x="0" y="5"/>
                </a:lnTo>
                <a:lnTo>
                  <a:pt x="0" y="6"/>
                </a:lnTo>
                <a:lnTo>
                  <a:pt x="1" y="6"/>
                </a:lnTo>
                <a:lnTo>
                  <a:pt x="1" y="7"/>
                </a:lnTo>
                <a:lnTo>
                  <a:pt x="1" y="10"/>
                </a:lnTo>
                <a:lnTo>
                  <a:pt x="1" y="12"/>
                </a:lnTo>
                <a:lnTo>
                  <a:pt x="2" y="12"/>
                </a:lnTo>
                <a:lnTo>
                  <a:pt x="2" y="13"/>
                </a:lnTo>
                <a:lnTo>
                  <a:pt x="2" y="16"/>
                </a:lnTo>
                <a:lnTo>
                  <a:pt x="2" y="17"/>
                </a:lnTo>
                <a:lnTo>
                  <a:pt x="2" y="18"/>
                </a:lnTo>
                <a:lnTo>
                  <a:pt x="2" y="21"/>
                </a:lnTo>
                <a:lnTo>
                  <a:pt x="2" y="22"/>
                </a:lnTo>
                <a:lnTo>
                  <a:pt x="3" y="22"/>
                </a:lnTo>
                <a:lnTo>
                  <a:pt x="3" y="23"/>
                </a:lnTo>
                <a:lnTo>
                  <a:pt x="3" y="26"/>
                </a:lnTo>
                <a:lnTo>
                  <a:pt x="3" y="27"/>
                </a:lnTo>
                <a:lnTo>
                  <a:pt x="4" y="27"/>
                </a:lnTo>
                <a:lnTo>
                  <a:pt x="4" y="28"/>
                </a:lnTo>
                <a:lnTo>
                  <a:pt x="4" y="31"/>
                </a:lnTo>
                <a:lnTo>
                  <a:pt x="4" y="33"/>
                </a:lnTo>
                <a:lnTo>
                  <a:pt x="4" y="34"/>
                </a:lnTo>
                <a:lnTo>
                  <a:pt x="4" y="38"/>
                </a:lnTo>
                <a:lnTo>
                  <a:pt x="4" y="39"/>
                </a:lnTo>
                <a:lnTo>
                  <a:pt x="5" y="39"/>
                </a:lnTo>
                <a:lnTo>
                  <a:pt x="5" y="40"/>
                </a:lnTo>
                <a:lnTo>
                  <a:pt x="5" y="43"/>
                </a:lnTo>
                <a:lnTo>
                  <a:pt x="5" y="45"/>
                </a:lnTo>
                <a:lnTo>
                  <a:pt x="5" y="46"/>
                </a:lnTo>
                <a:lnTo>
                  <a:pt x="5" y="49"/>
                </a:lnTo>
                <a:lnTo>
                  <a:pt x="5" y="51"/>
                </a:lnTo>
                <a:lnTo>
                  <a:pt x="6" y="51"/>
                </a:lnTo>
                <a:lnTo>
                  <a:pt x="6" y="52"/>
                </a:lnTo>
                <a:lnTo>
                  <a:pt x="6" y="55"/>
                </a:lnTo>
                <a:lnTo>
                  <a:pt x="6" y="56"/>
                </a:lnTo>
                <a:lnTo>
                  <a:pt x="6" y="57"/>
                </a:lnTo>
                <a:lnTo>
                  <a:pt x="6" y="60"/>
                </a:lnTo>
                <a:lnTo>
                  <a:pt x="6" y="62"/>
                </a:lnTo>
                <a:lnTo>
                  <a:pt x="7" y="62"/>
                </a:lnTo>
                <a:lnTo>
                  <a:pt x="7" y="63"/>
                </a:lnTo>
                <a:lnTo>
                  <a:pt x="7" y="66"/>
                </a:lnTo>
                <a:lnTo>
                  <a:pt x="7" y="68"/>
                </a:lnTo>
                <a:lnTo>
                  <a:pt x="7" y="69"/>
                </a:lnTo>
                <a:lnTo>
                  <a:pt x="7" y="70"/>
                </a:lnTo>
                <a:lnTo>
                  <a:pt x="7" y="73"/>
                </a:lnTo>
                <a:lnTo>
                  <a:pt x="7" y="75"/>
                </a:lnTo>
                <a:lnTo>
                  <a:pt x="8" y="75"/>
                </a:lnTo>
                <a:lnTo>
                  <a:pt x="8" y="76"/>
                </a:lnTo>
                <a:lnTo>
                  <a:pt x="8" y="79"/>
                </a:lnTo>
                <a:lnTo>
                  <a:pt x="8" y="81"/>
                </a:lnTo>
                <a:lnTo>
                  <a:pt x="9" y="81"/>
                </a:lnTo>
                <a:lnTo>
                  <a:pt x="9" y="82"/>
                </a:lnTo>
                <a:lnTo>
                  <a:pt x="9" y="83"/>
                </a:lnTo>
                <a:lnTo>
                  <a:pt x="9" y="86"/>
                </a:lnTo>
                <a:lnTo>
                  <a:pt x="9" y="88"/>
                </a:lnTo>
                <a:lnTo>
                  <a:pt x="9" y="89"/>
                </a:lnTo>
                <a:lnTo>
                  <a:pt x="9" y="93"/>
                </a:lnTo>
                <a:lnTo>
                  <a:pt x="9" y="95"/>
                </a:lnTo>
                <a:lnTo>
                  <a:pt x="10" y="95"/>
                </a:lnTo>
                <a:lnTo>
                  <a:pt x="10" y="96"/>
                </a:lnTo>
                <a:lnTo>
                  <a:pt x="10" y="97"/>
                </a:lnTo>
                <a:lnTo>
                  <a:pt x="10" y="100"/>
                </a:lnTo>
                <a:lnTo>
                  <a:pt x="10" y="102"/>
                </a:lnTo>
                <a:lnTo>
                  <a:pt x="11" y="102"/>
                </a:lnTo>
                <a:lnTo>
                  <a:pt x="11" y="103"/>
                </a:lnTo>
                <a:lnTo>
                  <a:pt x="11" y="104"/>
                </a:lnTo>
                <a:lnTo>
                  <a:pt x="11" y="107"/>
                </a:lnTo>
                <a:lnTo>
                  <a:pt x="11" y="109"/>
                </a:lnTo>
                <a:lnTo>
                  <a:pt x="13" y="109"/>
                </a:lnTo>
                <a:lnTo>
                  <a:pt x="13" y="110"/>
                </a:lnTo>
                <a:lnTo>
                  <a:pt x="13" y="111"/>
                </a:lnTo>
                <a:lnTo>
                  <a:pt x="13" y="114"/>
                </a:lnTo>
                <a:lnTo>
                  <a:pt x="13" y="116"/>
                </a:lnTo>
                <a:lnTo>
                  <a:pt x="14" y="116"/>
                </a:lnTo>
                <a:lnTo>
                  <a:pt x="14" y="117"/>
                </a:lnTo>
                <a:lnTo>
                  <a:pt x="14" y="118"/>
                </a:lnTo>
                <a:lnTo>
                  <a:pt x="15" y="121"/>
                </a:lnTo>
                <a:lnTo>
                  <a:pt x="15" y="123"/>
                </a:lnTo>
                <a:lnTo>
                  <a:pt x="16" y="123"/>
                </a:lnTo>
                <a:lnTo>
                  <a:pt x="16" y="124"/>
                </a:lnTo>
                <a:lnTo>
                  <a:pt x="16" y="125"/>
                </a:lnTo>
                <a:lnTo>
                  <a:pt x="16" y="128"/>
                </a:lnTo>
                <a:lnTo>
                  <a:pt x="16" y="131"/>
                </a:lnTo>
                <a:lnTo>
                  <a:pt x="17" y="131"/>
                </a:lnTo>
                <a:lnTo>
                  <a:pt x="17" y="132"/>
                </a:lnTo>
                <a:lnTo>
                  <a:pt x="17" y="133"/>
                </a:lnTo>
                <a:lnTo>
                  <a:pt x="17" y="136"/>
                </a:lnTo>
                <a:lnTo>
                  <a:pt x="17" y="139"/>
                </a:lnTo>
                <a:lnTo>
                  <a:pt x="18" y="139"/>
                </a:lnTo>
                <a:lnTo>
                  <a:pt x="18" y="140"/>
                </a:lnTo>
                <a:lnTo>
                  <a:pt x="18" y="141"/>
                </a:lnTo>
                <a:lnTo>
                  <a:pt x="19" y="145"/>
                </a:lnTo>
                <a:lnTo>
                  <a:pt x="19" y="148"/>
                </a:lnTo>
                <a:lnTo>
                  <a:pt x="20" y="148"/>
                </a:lnTo>
                <a:lnTo>
                  <a:pt x="20" y="149"/>
                </a:lnTo>
                <a:lnTo>
                  <a:pt x="20" y="150"/>
                </a:lnTo>
                <a:lnTo>
                  <a:pt x="21" y="153"/>
                </a:lnTo>
                <a:lnTo>
                  <a:pt x="21" y="156"/>
                </a:lnTo>
                <a:lnTo>
                  <a:pt x="22" y="156"/>
                </a:lnTo>
                <a:lnTo>
                  <a:pt x="22" y="157"/>
                </a:lnTo>
                <a:lnTo>
                  <a:pt x="22" y="158"/>
                </a:lnTo>
                <a:lnTo>
                  <a:pt x="23" y="161"/>
                </a:lnTo>
                <a:lnTo>
                  <a:pt x="23" y="164"/>
                </a:lnTo>
                <a:lnTo>
                  <a:pt x="24" y="164"/>
                </a:lnTo>
                <a:lnTo>
                  <a:pt x="24" y="165"/>
                </a:lnTo>
                <a:lnTo>
                  <a:pt x="24" y="166"/>
                </a:lnTo>
                <a:lnTo>
                  <a:pt x="25" y="170"/>
                </a:lnTo>
                <a:lnTo>
                  <a:pt x="25" y="173"/>
                </a:lnTo>
                <a:lnTo>
                  <a:pt x="26" y="173"/>
                </a:lnTo>
                <a:lnTo>
                  <a:pt x="26" y="174"/>
                </a:lnTo>
                <a:lnTo>
                  <a:pt x="26" y="175"/>
                </a:lnTo>
                <a:lnTo>
                  <a:pt x="28" y="178"/>
                </a:lnTo>
                <a:lnTo>
                  <a:pt x="29" y="181"/>
                </a:lnTo>
                <a:lnTo>
                  <a:pt x="30" y="181"/>
                </a:lnTo>
                <a:lnTo>
                  <a:pt x="30" y="182"/>
                </a:lnTo>
                <a:lnTo>
                  <a:pt x="30" y="183"/>
                </a:lnTo>
                <a:lnTo>
                  <a:pt x="31" y="187"/>
                </a:lnTo>
                <a:lnTo>
                  <a:pt x="31" y="190"/>
                </a:lnTo>
                <a:lnTo>
                  <a:pt x="32" y="190"/>
                </a:lnTo>
                <a:lnTo>
                  <a:pt x="32" y="191"/>
                </a:lnTo>
                <a:lnTo>
                  <a:pt x="32" y="192"/>
                </a:lnTo>
                <a:lnTo>
                  <a:pt x="33" y="197"/>
                </a:lnTo>
                <a:lnTo>
                  <a:pt x="34" y="201"/>
                </a:lnTo>
                <a:lnTo>
                  <a:pt x="35" y="201"/>
                </a:lnTo>
                <a:lnTo>
                  <a:pt x="35" y="202"/>
                </a:lnTo>
                <a:lnTo>
                  <a:pt x="35" y="203"/>
                </a:lnTo>
                <a:lnTo>
                  <a:pt x="36" y="207"/>
                </a:lnTo>
                <a:lnTo>
                  <a:pt x="37" y="210"/>
                </a:lnTo>
                <a:lnTo>
                  <a:pt x="38" y="210"/>
                </a:lnTo>
                <a:lnTo>
                  <a:pt x="38" y="211"/>
                </a:lnTo>
                <a:lnTo>
                  <a:pt x="38" y="212"/>
                </a:lnTo>
                <a:lnTo>
                  <a:pt x="40" y="217"/>
                </a:lnTo>
                <a:lnTo>
                  <a:pt x="41" y="220"/>
                </a:lnTo>
                <a:lnTo>
                  <a:pt x="43" y="220"/>
                </a:lnTo>
                <a:lnTo>
                  <a:pt x="43" y="221"/>
                </a:lnTo>
                <a:lnTo>
                  <a:pt x="43" y="222"/>
                </a:lnTo>
                <a:lnTo>
                  <a:pt x="44" y="227"/>
                </a:lnTo>
                <a:lnTo>
                  <a:pt x="45" y="230"/>
                </a:lnTo>
                <a:lnTo>
                  <a:pt x="46" y="230"/>
                </a:lnTo>
                <a:lnTo>
                  <a:pt x="55" y="2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30"/>
          <p:cNvSpPr/>
          <p:nvPr/>
        </p:nvSpPr>
        <p:spPr>
          <a:xfrm>
            <a:off x="3619440" y="3914640"/>
            <a:ext cx="196920" cy="92160"/>
          </a:xfrm>
          <a:custGeom>
            <a:avLst/>
            <a:gdLst>
              <a:gd name="textAreaLeft" fmla="*/ 0 w 196920"/>
              <a:gd name="textAreaRight" fmla="*/ 197280 w 196920"/>
              <a:gd name="textAreaTop" fmla="*/ 0 h 92160"/>
              <a:gd name="textAreaBottom" fmla="*/ 92520 h 92160"/>
            </a:gdLst>
            <a:ahLst/>
            <a:rect l="textAreaLeft" t="textAreaTop" r="textAreaRight" b="textAreaBottom"/>
            <a:pathLst>
              <a:path w="249" h="116">
                <a:moveTo>
                  <a:pt x="249" y="96"/>
                </a:moveTo>
                <a:lnTo>
                  <a:pt x="247" y="96"/>
                </a:lnTo>
                <a:lnTo>
                  <a:pt x="244" y="95"/>
                </a:lnTo>
                <a:lnTo>
                  <a:pt x="243" y="95"/>
                </a:lnTo>
                <a:lnTo>
                  <a:pt x="243" y="94"/>
                </a:lnTo>
                <a:lnTo>
                  <a:pt x="242" y="95"/>
                </a:lnTo>
                <a:lnTo>
                  <a:pt x="238" y="96"/>
                </a:lnTo>
                <a:lnTo>
                  <a:pt x="236" y="97"/>
                </a:lnTo>
                <a:lnTo>
                  <a:pt x="231" y="99"/>
                </a:lnTo>
                <a:lnTo>
                  <a:pt x="229" y="99"/>
                </a:lnTo>
                <a:lnTo>
                  <a:pt x="227" y="100"/>
                </a:lnTo>
                <a:lnTo>
                  <a:pt x="224" y="101"/>
                </a:lnTo>
                <a:lnTo>
                  <a:pt x="222" y="101"/>
                </a:lnTo>
                <a:lnTo>
                  <a:pt x="220" y="102"/>
                </a:lnTo>
                <a:lnTo>
                  <a:pt x="216" y="103"/>
                </a:lnTo>
                <a:lnTo>
                  <a:pt x="214" y="103"/>
                </a:lnTo>
                <a:lnTo>
                  <a:pt x="212" y="104"/>
                </a:lnTo>
                <a:lnTo>
                  <a:pt x="209" y="105"/>
                </a:lnTo>
                <a:lnTo>
                  <a:pt x="207" y="105"/>
                </a:lnTo>
                <a:lnTo>
                  <a:pt x="205" y="106"/>
                </a:lnTo>
                <a:lnTo>
                  <a:pt x="201" y="106"/>
                </a:lnTo>
                <a:lnTo>
                  <a:pt x="198" y="106"/>
                </a:lnTo>
                <a:lnTo>
                  <a:pt x="196" y="107"/>
                </a:lnTo>
                <a:lnTo>
                  <a:pt x="193" y="107"/>
                </a:lnTo>
                <a:lnTo>
                  <a:pt x="191" y="107"/>
                </a:lnTo>
                <a:lnTo>
                  <a:pt x="190" y="107"/>
                </a:lnTo>
                <a:lnTo>
                  <a:pt x="188" y="107"/>
                </a:lnTo>
                <a:lnTo>
                  <a:pt x="185" y="107"/>
                </a:lnTo>
                <a:lnTo>
                  <a:pt x="182" y="107"/>
                </a:lnTo>
                <a:lnTo>
                  <a:pt x="181" y="107"/>
                </a:lnTo>
                <a:lnTo>
                  <a:pt x="180" y="107"/>
                </a:lnTo>
                <a:lnTo>
                  <a:pt x="177" y="107"/>
                </a:lnTo>
                <a:lnTo>
                  <a:pt x="173" y="107"/>
                </a:lnTo>
                <a:lnTo>
                  <a:pt x="172" y="107"/>
                </a:lnTo>
                <a:lnTo>
                  <a:pt x="171" y="107"/>
                </a:lnTo>
                <a:lnTo>
                  <a:pt x="168" y="107"/>
                </a:lnTo>
                <a:lnTo>
                  <a:pt x="165" y="107"/>
                </a:lnTo>
                <a:lnTo>
                  <a:pt x="164" y="107"/>
                </a:lnTo>
                <a:lnTo>
                  <a:pt x="163" y="107"/>
                </a:lnTo>
                <a:lnTo>
                  <a:pt x="160" y="107"/>
                </a:lnTo>
                <a:lnTo>
                  <a:pt x="157" y="107"/>
                </a:lnTo>
                <a:lnTo>
                  <a:pt x="156" y="107"/>
                </a:lnTo>
                <a:lnTo>
                  <a:pt x="155" y="107"/>
                </a:lnTo>
                <a:lnTo>
                  <a:pt x="152" y="107"/>
                </a:lnTo>
                <a:lnTo>
                  <a:pt x="149" y="107"/>
                </a:lnTo>
                <a:lnTo>
                  <a:pt x="149" y="106"/>
                </a:lnTo>
                <a:lnTo>
                  <a:pt x="148" y="106"/>
                </a:lnTo>
                <a:lnTo>
                  <a:pt x="147" y="106"/>
                </a:lnTo>
                <a:lnTo>
                  <a:pt x="143" y="106"/>
                </a:lnTo>
                <a:lnTo>
                  <a:pt x="140" y="106"/>
                </a:lnTo>
                <a:lnTo>
                  <a:pt x="140" y="105"/>
                </a:lnTo>
                <a:lnTo>
                  <a:pt x="139" y="105"/>
                </a:lnTo>
                <a:lnTo>
                  <a:pt x="138" y="105"/>
                </a:lnTo>
                <a:lnTo>
                  <a:pt x="135" y="104"/>
                </a:lnTo>
                <a:lnTo>
                  <a:pt x="132" y="104"/>
                </a:lnTo>
                <a:lnTo>
                  <a:pt x="132" y="103"/>
                </a:lnTo>
                <a:lnTo>
                  <a:pt x="131" y="103"/>
                </a:lnTo>
                <a:lnTo>
                  <a:pt x="130" y="103"/>
                </a:lnTo>
                <a:lnTo>
                  <a:pt x="126" y="102"/>
                </a:lnTo>
                <a:lnTo>
                  <a:pt x="123" y="102"/>
                </a:lnTo>
                <a:lnTo>
                  <a:pt x="123" y="101"/>
                </a:lnTo>
                <a:lnTo>
                  <a:pt x="122" y="101"/>
                </a:lnTo>
                <a:lnTo>
                  <a:pt x="121" y="101"/>
                </a:lnTo>
                <a:lnTo>
                  <a:pt x="118" y="100"/>
                </a:lnTo>
                <a:lnTo>
                  <a:pt x="114" y="100"/>
                </a:lnTo>
                <a:lnTo>
                  <a:pt x="114" y="99"/>
                </a:lnTo>
                <a:lnTo>
                  <a:pt x="109" y="98"/>
                </a:lnTo>
                <a:lnTo>
                  <a:pt x="107" y="97"/>
                </a:lnTo>
                <a:lnTo>
                  <a:pt x="107" y="96"/>
                </a:lnTo>
                <a:lnTo>
                  <a:pt x="106" y="96"/>
                </a:lnTo>
                <a:lnTo>
                  <a:pt x="105" y="96"/>
                </a:lnTo>
                <a:lnTo>
                  <a:pt x="102" y="95"/>
                </a:lnTo>
                <a:lnTo>
                  <a:pt x="98" y="94"/>
                </a:lnTo>
                <a:lnTo>
                  <a:pt x="98" y="93"/>
                </a:lnTo>
                <a:lnTo>
                  <a:pt x="93" y="91"/>
                </a:lnTo>
                <a:lnTo>
                  <a:pt x="91" y="90"/>
                </a:lnTo>
                <a:lnTo>
                  <a:pt x="91" y="89"/>
                </a:lnTo>
                <a:lnTo>
                  <a:pt x="86" y="87"/>
                </a:lnTo>
                <a:lnTo>
                  <a:pt x="82" y="86"/>
                </a:lnTo>
                <a:lnTo>
                  <a:pt x="82" y="85"/>
                </a:lnTo>
                <a:lnTo>
                  <a:pt x="77" y="83"/>
                </a:lnTo>
                <a:lnTo>
                  <a:pt x="75" y="82"/>
                </a:lnTo>
                <a:lnTo>
                  <a:pt x="75" y="81"/>
                </a:lnTo>
                <a:lnTo>
                  <a:pt x="69" y="77"/>
                </a:lnTo>
                <a:lnTo>
                  <a:pt x="67" y="76"/>
                </a:lnTo>
                <a:lnTo>
                  <a:pt x="67" y="75"/>
                </a:lnTo>
                <a:lnTo>
                  <a:pt x="63" y="72"/>
                </a:lnTo>
                <a:lnTo>
                  <a:pt x="61" y="71"/>
                </a:lnTo>
                <a:lnTo>
                  <a:pt x="61" y="70"/>
                </a:lnTo>
                <a:lnTo>
                  <a:pt x="56" y="67"/>
                </a:lnTo>
                <a:lnTo>
                  <a:pt x="53" y="65"/>
                </a:lnTo>
                <a:lnTo>
                  <a:pt x="53" y="64"/>
                </a:lnTo>
                <a:lnTo>
                  <a:pt x="49" y="61"/>
                </a:lnTo>
                <a:lnTo>
                  <a:pt x="47" y="59"/>
                </a:lnTo>
                <a:lnTo>
                  <a:pt x="47" y="58"/>
                </a:lnTo>
                <a:lnTo>
                  <a:pt x="46" y="57"/>
                </a:lnTo>
                <a:lnTo>
                  <a:pt x="43" y="54"/>
                </a:lnTo>
                <a:lnTo>
                  <a:pt x="40" y="52"/>
                </a:lnTo>
                <a:lnTo>
                  <a:pt x="40" y="51"/>
                </a:lnTo>
                <a:lnTo>
                  <a:pt x="39" y="50"/>
                </a:lnTo>
                <a:lnTo>
                  <a:pt x="36" y="47"/>
                </a:lnTo>
                <a:lnTo>
                  <a:pt x="34" y="45"/>
                </a:lnTo>
                <a:lnTo>
                  <a:pt x="34" y="44"/>
                </a:lnTo>
                <a:lnTo>
                  <a:pt x="33" y="43"/>
                </a:lnTo>
                <a:lnTo>
                  <a:pt x="30" y="40"/>
                </a:lnTo>
                <a:lnTo>
                  <a:pt x="29" y="38"/>
                </a:lnTo>
                <a:lnTo>
                  <a:pt x="29" y="37"/>
                </a:lnTo>
                <a:lnTo>
                  <a:pt x="28" y="36"/>
                </a:lnTo>
                <a:lnTo>
                  <a:pt x="24" y="32"/>
                </a:lnTo>
                <a:lnTo>
                  <a:pt x="23" y="29"/>
                </a:lnTo>
                <a:lnTo>
                  <a:pt x="23" y="28"/>
                </a:lnTo>
                <a:lnTo>
                  <a:pt x="22" y="27"/>
                </a:lnTo>
                <a:lnTo>
                  <a:pt x="19" y="23"/>
                </a:lnTo>
                <a:lnTo>
                  <a:pt x="18" y="20"/>
                </a:lnTo>
                <a:lnTo>
                  <a:pt x="18" y="19"/>
                </a:lnTo>
                <a:lnTo>
                  <a:pt x="17" y="18"/>
                </a:lnTo>
                <a:lnTo>
                  <a:pt x="15" y="14"/>
                </a:lnTo>
                <a:lnTo>
                  <a:pt x="14" y="11"/>
                </a:lnTo>
                <a:lnTo>
                  <a:pt x="14" y="10"/>
                </a:lnTo>
                <a:lnTo>
                  <a:pt x="10" y="4"/>
                </a:lnTo>
                <a:lnTo>
                  <a:pt x="9" y="1"/>
                </a:lnTo>
                <a:lnTo>
                  <a:pt x="9" y="0"/>
                </a:lnTo>
                <a:lnTo>
                  <a:pt x="7" y="1"/>
                </a:lnTo>
                <a:lnTo>
                  <a:pt x="3" y="2"/>
                </a:lnTo>
                <a:lnTo>
                  <a:pt x="0" y="3"/>
                </a:lnTo>
                <a:lnTo>
                  <a:pt x="0" y="4"/>
                </a:lnTo>
                <a:lnTo>
                  <a:pt x="0" y="5"/>
                </a:lnTo>
                <a:lnTo>
                  <a:pt x="2" y="10"/>
                </a:lnTo>
                <a:lnTo>
                  <a:pt x="3" y="13"/>
                </a:lnTo>
                <a:lnTo>
                  <a:pt x="4" y="13"/>
                </a:lnTo>
                <a:lnTo>
                  <a:pt x="7" y="20"/>
                </a:lnTo>
                <a:lnTo>
                  <a:pt x="8" y="23"/>
                </a:lnTo>
                <a:lnTo>
                  <a:pt x="9" y="23"/>
                </a:lnTo>
                <a:lnTo>
                  <a:pt x="13" y="30"/>
                </a:lnTo>
                <a:lnTo>
                  <a:pt x="14" y="33"/>
                </a:lnTo>
                <a:lnTo>
                  <a:pt x="15" y="33"/>
                </a:lnTo>
                <a:lnTo>
                  <a:pt x="18" y="39"/>
                </a:lnTo>
                <a:lnTo>
                  <a:pt x="19" y="42"/>
                </a:lnTo>
                <a:lnTo>
                  <a:pt x="20" y="42"/>
                </a:lnTo>
                <a:lnTo>
                  <a:pt x="23" y="47"/>
                </a:lnTo>
                <a:lnTo>
                  <a:pt x="25" y="50"/>
                </a:lnTo>
                <a:lnTo>
                  <a:pt x="27" y="50"/>
                </a:lnTo>
                <a:lnTo>
                  <a:pt x="30" y="55"/>
                </a:lnTo>
                <a:lnTo>
                  <a:pt x="32" y="57"/>
                </a:lnTo>
                <a:lnTo>
                  <a:pt x="33" y="57"/>
                </a:lnTo>
                <a:lnTo>
                  <a:pt x="36" y="62"/>
                </a:lnTo>
                <a:lnTo>
                  <a:pt x="38" y="64"/>
                </a:lnTo>
                <a:lnTo>
                  <a:pt x="39" y="64"/>
                </a:lnTo>
                <a:lnTo>
                  <a:pt x="40" y="66"/>
                </a:lnTo>
                <a:lnTo>
                  <a:pt x="44" y="69"/>
                </a:lnTo>
                <a:lnTo>
                  <a:pt x="46" y="71"/>
                </a:lnTo>
                <a:lnTo>
                  <a:pt x="47" y="71"/>
                </a:lnTo>
                <a:lnTo>
                  <a:pt x="48" y="72"/>
                </a:lnTo>
                <a:lnTo>
                  <a:pt x="51" y="75"/>
                </a:lnTo>
                <a:lnTo>
                  <a:pt x="53" y="77"/>
                </a:lnTo>
                <a:lnTo>
                  <a:pt x="54" y="77"/>
                </a:lnTo>
                <a:lnTo>
                  <a:pt x="56" y="78"/>
                </a:lnTo>
                <a:lnTo>
                  <a:pt x="59" y="82"/>
                </a:lnTo>
                <a:lnTo>
                  <a:pt x="61" y="83"/>
                </a:lnTo>
                <a:lnTo>
                  <a:pt x="62" y="83"/>
                </a:lnTo>
                <a:lnTo>
                  <a:pt x="63" y="84"/>
                </a:lnTo>
                <a:lnTo>
                  <a:pt x="66" y="87"/>
                </a:lnTo>
                <a:lnTo>
                  <a:pt x="68" y="89"/>
                </a:lnTo>
                <a:lnTo>
                  <a:pt x="69" y="89"/>
                </a:lnTo>
                <a:lnTo>
                  <a:pt x="71" y="90"/>
                </a:lnTo>
                <a:lnTo>
                  <a:pt x="74" y="92"/>
                </a:lnTo>
                <a:lnTo>
                  <a:pt x="77" y="93"/>
                </a:lnTo>
                <a:lnTo>
                  <a:pt x="78" y="93"/>
                </a:lnTo>
                <a:lnTo>
                  <a:pt x="79" y="94"/>
                </a:lnTo>
                <a:lnTo>
                  <a:pt x="82" y="96"/>
                </a:lnTo>
                <a:lnTo>
                  <a:pt x="86" y="97"/>
                </a:lnTo>
                <a:lnTo>
                  <a:pt x="87" y="97"/>
                </a:lnTo>
                <a:lnTo>
                  <a:pt x="88" y="98"/>
                </a:lnTo>
                <a:lnTo>
                  <a:pt x="91" y="100"/>
                </a:lnTo>
                <a:lnTo>
                  <a:pt x="94" y="101"/>
                </a:lnTo>
                <a:lnTo>
                  <a:pt x="95" y="101"/>
                </a:lnTo>
                <a:lnTo>
                  <a:pt x="96" y="102"/>
                </a:lnTo>
                <a:lnTo>
                  <a:pt x="99" y="104"/>
                </a:lnTo>
                <a:lnTo>
                  <a:pt x="103" y="105"/>
                </a:lnTo>
                <a:lnTo>
                  <a:pt x="104" y="105"/>
                </a:lnTo>
                <a:lnTo>
                  <a:pt x="108" y="107"/>
                </a:lnTo>
                <a:lnTo>
                  <a:pt x="111" y="107"/>
                </a:lnTo>
                <a:lnTo>
                  <a:pt x="112" y="107"/>
                </a:lnTo>
                <a:lnTo>
                  <a:pt x="117" y="109"/>
                </a:lnTo>
                <a:lnTo>
                  <a:pt x="120" y="110"/>
                </a:lnTo>
                <a:lnTo>
                  <a:pt x="121" y="110"/>
                </a:lnTo>
                <a:lnTo>
                  <a:pt x="125" y="112"/>
                </a:lnTo>
                <a:lnTo>
                  <a:pt x="128" y="112"/>
                </a:lnTo>
                <a:lnTo>
                  <a:pt x="130" y="112"/>
                </a:lnTo>
                <a:lnTo>
                  <a:pt x="134" y="114"/>
                </a:lnTo>
                <a:lnTo>
                  <a:pt x="137" y="114"/>
                </a:lnTo>
                <a:lnTo>
                  <a:pt x="138" y="114"/>
                </a:lnTo>
                <a:lnTo>
                  <a:pt x="143" y="115"/>
                </a:lnTo>
                <a:lnTo>
                  <a:pt x="147" y="115"/>
                </a:lnTo>
                <a:lnTo>
                  <a:pt x="148" y="115"/>
                </a:lnTo>
                <a:lnTo>
                  <a:pt x="152" y="116"/>
                </a:lnTo>
                <a:lnTo>
                  <a:pt x="155" y="116"/>
                </a:lnTo>
                <a:lnTo>
                  <a:pt x="156" y="116"/>
                </a:lnTo>
                <a:lnTo>
                  <a:pt x="157" y="116"/>
                </a:lnTo>
                <a:lnTo>
                  <a:pt x="161" y="116"/>
                </a:lnTo>
                <a:lnTo>
                  <a:pt x="164" y="116"/>
                </a:lnTo>
                <a:lnTo>
                  <a:pt x="165" y="116"/>
                </a:lnTo>
                <a:lnTo>
                  <a:pt x="166" y="116"/>
                </a:lnTo>
                <a:lnTo>
                  <a:pt x="169" y="116"/>
                </a:lnTo>
                <a:lnTo>
                  <a:pt x="172" y="116"/>
                </a:lnTo>
                <a:lnTo>
                  <a:pt x="173" y="116"/>
                </a:lnTo>
                <a:lnTo>
                  <a:pt x="175" y="116"/>
                </a:lnTo>
                <a:lnTo>
                  <a:pt x="178" y="116"/>
                </a:lnTo>
                <a:lnTo>
                  <a:pt x="181" y="116"/>
                </a:lnTo>
                <a:lnTo>
                  <a:pt x="182" y="116"/>
                </a:lnTo>
                <a:lnTo>
                  <a:pt x="183" y="116"/>
                </a:lnTo>
                <a:lnTo>
                  <a:pt x="186" y="116"/>
                </a:lnTo>
                <a:lnTo>
                  <a:pt x="190" y="116"/>
                </a:lnTo>
                <a:lnTo>
                  <a:pt x="191" y="116"/>
                </a:lnTo>
                <a:lnTo>
                  <a:pt x="192" y="116"/>
                </a:lnTo>
                <a:lnTo>
                  <a:pt x="195" y="116"/>
                </a:lnTo>
                <a:lnTo>
                  <a:pt x="198" y="116"/>
                </a:lnTo>
                <a:lnTo>
                  <a:pt x="199" y="115"/>
                </a:lnTo>
                <a:lnTo>
                  <a:pt x="200" y="115"/>
                </a:lnTo>
                <a:lnTo>
                  <a:pt x="204" y="114"/>
                </a:lnTo>
                <a:lnTo>
                  <a:pt x="207" y="114"/>
                </a:lnTo>
                <a:lnTo>
                  <a:pt x="208" y="113"/>
                </a:lnTo>
                <a:lnTo>
                  <a:pt x="209" y="113"/>
                </a:lnTo>
                <a:lnTo>
                  <a:pt x="212" y="113"/>
                </a:lnTo>
                <a:lnTo>
                  <a:pt x="215" y="113"/>
                </a:lnTo>
                <a:lnTo>
                  <a:pt x="216" y="112"/>
                </a:lnTo>
                <a:lnTo>
                  <a:pt x="217" y="112"/>
                </a:lnTo>
                <a:lnTo>
                  <a:pt x="221" y="111"/>
                </a:lnTo>
                <a:lnTo>
                  <a:pt x="223" y="111"/>
                </a:lnTo>
                <a:lnTo>
                  <a:pt x="224" y="110"/>
                </a:lnTo>
                <a:lnTo>
                  <a:pt x="225" y="110"/>
                </a:lnTo>
                <a:lnTo>
                  <a:pt x="228" y="109"/>
                </a:lnTo>
                <a:lnTo>
                  <a:pt x="230" y="109"/>
                </a:lnTo>
                <a:lnTo>
                  <a:pt x="231" y="108"/>
                </a:lnTo>
                <a:lnTo>
                  <a:pt x="236" y="107"/>
                </a:lnTo>
                <a:lnTo>
                  <a:pt x="238" y="106"/>
                </a:lnTo>
                <a:lnTo>
                  <a:pt x="239" y="105"/>
                </a:lnTo>
                <a:lnTo>
                  <a:pt x="240" y="105"/>
                </a:lnTo>
                <a:lnTo>
                  <a:pt x="243" y="104"/>
                </a:lnTo>
                <a:lnTo>
                  <a:pt x="245" y="104"/>
                </a:lnTo>
                <a:lnTo>
                  <a:pt x="246" y="103"/>
                </a:lnTo>
                <a:lnTo>
                  <a:pt x="245" y="103"/>
                </a:lnTo>
                <a:lnTo>
                  <a:pt x="242" y="102"/>
                </a:lnTo>
                <a:lnTo>
                  <a:pt x="241" y="102"/>
                </a:lnTo>
                <a:lnTo>
                  <a:pt x="241" y="101"/>
                </a:lnTo>
                <a:lnTo>
                  <a:pt x="245" y="98"/>
                </a:lnTo>
                <a:lnTo>
                  <a:pt x="247" y="97"/>
                </a:lnTo>
                <a:lnTo>
                  <a:pt x="249" y="96"/>
                </a:lnTo>
                <a:lnTo>
                  <a:pt x="246" y="94"/>
                </a:lnTo>
                <a:lnTo>
                  <a:pt x="246" y="93"/>
                </a:lnTo>
                <a:lnTo>
                  <a:pt x="244" y="94"/>
                </a:lnTo>
                <a:lnTo>
                  <a:pt x="243" y="94"/>
                </a:lnTo>
                <a:lnTo>
                  <a:pt x="249" y="96"/>
                </a:lnTo>
                <a:close/>
              </a:path>
            </a:pathLst>
          </a:custGeom>
          <a:solidFill>
            <a:srgbClr val="1f1a17"/>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92" name="Freeform 31"/>
          <p:cNvSpPr/>
          <p:nvPr/>
        </p:nvSpPr>
        <p:spPr>
          <a:xfrm>
            <a:off x="3811680" y="3989520"/>
            <a:ext cx="41040" cy="42840"/>
          </a:xfrm>
          <a:custGeom>
            <a:avLst/>
            <a:gdLst>
              <a:gd name="textAreaLeft" fmla="*/ 0 w 41040"/>
              <a:gd name="textAreaRight" fmla="*/ 41400 w 41040"/>
              <a:gd name="textAreaTop" fmla="*/ 0 h 42840"/>
              <a:gd name="textAreaBottom" fmla="*/ 43200 h 42840"/>
            </a:gdLst>
            <a:ahLst/>
            <a:rect l="textAreaLeft" t="textAreaTop" r="textAreaRight" b="textAreaBottom"/>
            <a:pathLst>
              <a:path w="54" h="54">
                <a:moveTo>
                  <a:pt x="54" y="52"/>
                </a:moveTo>
                <a:lnTo>
                  <a:pt x="53" y="50"/>
                </a:lnTo>
                <a:lnTo>
                  <a:pt x="53" y="49"/>
                </a:lnTo>
                <a:lnTo>
                  <a:pt x="45" y="42"/>
                </a:lnTo>
                <a:lnTo>
                  <a:pt x="24" y="19"/>
                </a:lnTo>
                <a:lnTo>
                  <a:pt x="8" y="1"/>
                </a:lnTo>
                <a:lnTo>
                  <a:pt x="8" y="0"/>
                </a:lnTo>
                <a:lnTo>
                  <a:pt x="6" y="1"/>
                </a:lnTo>
                <a:lnTo>
                  <a:pt x="2" y="4"/>
                </a:lnTo>
                <a:lnTo>
                  <a:pt x="0" y="5"/>
                </a:lnTo>
                <a:lnTo>
                  <a:pt x="6" y="13"/>
                </a:lnTo>
                <a:lnTo>
                  <a:pt x="28" y="35"/>
                </a:lnTo>
                <a:lnTo>
                  <a:pt x="44" y="54"/>
                </a:lnTo>
                <a:lnTo>
                  <a:pt x="45" y="54"/>
                </a:lnTo>
                <a:lnTo>
                  <a:pt x="44" y="53"/>
                </a:lnTo>
                <a:lnTo>
                  <a:pt x="44" y="52"/>
                </a:lnTo>
                <a:lnTo>
                  <a:pt x="54" y="52"/>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3" name="Freeform 32"/>
          <p:cNvSpPr/>
          <p:nvPr/>
        </p:nvSpPr>
        <p:spPr>
          <a:xfrm>
            <a:off x="3843360" y="4030560"/>
            <a:ext cx="15840" cy="50760"/>
          </a:xfrm>
          <a:custGeom>
            <a:avLst/>
            <a:gdLst>
              <a:gd name="textAreaLeft" fmla="*/ 0 w 15840"/>
              <a:gd name="textAreaRight" fmla="*/ 16200 w 15840"/>
              <a:gd name="textAreaTop" fmla="*/ 0 h 50760"/>
              <a:gd name="textAreaBottom" fmla="*/ 51120 h 50760"/>
            </a:gdLst>
            <a:ahLst/>
            <a:rect l="textAreaLeft" t="textAreaTop" r="textAreaRight" b="textAreaBottom"/>
            <a:pathLst>
              <a:path w="18" h="64">
                <a:moveTo>
                  <a:pt x="15" y="55"/>
                </a:moveTo>
                <a:lnTo>
                  <a:pt x="17" y="56"/>
                </a:lnTo>
                <a:lnTo>
                  <a:pt x="18" y="56"/>
                </a:lnTo>
                <a:lnTo>
                  <a:pt x="17" y="55"/>
                </a:lnTo>
                <a:lnTo>
                  <a:pt x="16" y="54"/>
                </a:lnTo>
                <a:lnTo>
                  <a:pt x="15" y="53"/>
                </a:lnTo>
                <a:lnTo>
                  <a:pt x="15" y="52"/>
                </a:lnTo>
                <a:lnTo>
                  <a:pt x="14" y="51"/>
                </a:lnTo>
                <a:lnTo>
                  <a:pt x="13" y="50"/>
                </a:lnTo>
                <a:lnTo>
                  <a:pt x="13" y="49"/>
                </a:lnTo>
                <a:lnTo>
                  <a:pt x="12" y="48"/>
                </a:lnTo>
                <a:lnTo>
                  <a:pt x="12" y="47"/>
                </a:lnTo>
                <a:lnTo>
                  <a:pt x="12" y="46"/>
                </a:lnTo>
                <a:lnTo>
                  <a:pt x="11" y="45"/>
                </a:lnTo>
                <a:lnTo>
                  <a:pt x="11" y="44"/>
                </a:lnTo>
                <a:lnTo>
                  <a:pt x="11" y="43"/>
                </a:lnTo>
                <a:lnTo>
                  <a:pt x="11" y="42"/>
                </a:lnTo>
                <a:lnTo>
                  <a:pt x="11" y="41"/>
                </a:lnTo>
                <a:lnTo>
                  <a:pt x="10" y="39"/>
                </a:lnTo>
                <a:lnTo>
                  <a:pt x="10" y="38"/>
                </a:lnTo>
                <a:lnTo>
                  <a:pt x="10" y="37"/>
                </a:lnTo>
                <a:lnTo>
                  <a:pt x="10" y="36"/>
                </a:lnTo>
                <a:lnTo>
                  <a:pt x="10" y="35"/>
                </a:lnTo>
                <a:lnTo>
                  <a:pt x="10" y="34"/>
                </a:lnTo>
                <a:lnTo>
                  <a:pt x="10" y="33"/>
                </a:lnTo>
                <a:lnTo>
                  <a:pt x="10" y="32"/>
                </a:lnTo>
                <a:lnTo>
                  <a:pt x="10" y="31"/>
                </a:lnTo>
                <a:lnTo>
                  <a:pt x="10" y="30"/>
                </a:lnTo>
                <a:lnTo>
                  <a:pt x="10" y="29"/>
                </a:lnTo>
                <a:lnTo>
                  <a:pt x="10" y="28"/>
                </a:lnTo>
                <a:lnTo>
                  <a:pt x="10" y="27"/>
                </a:lnTo>
                <a:lnTo>
                  <a:pt x="10" y="26"/>
                </a:lnTo>
                <a:lnTo>
                  <a:pt x="10" y="25"/>
                </a:lnTo>
                <a:lnTo>
                  <a:pt x="10" y="24"/>
                </a:lnTo>
                <a:lnTo>
                  <a:pt x="10" y="23"/>
                </a:lnTo>
                <a:lnTo>
                  <a:pt x="10" y="22"/>
                </a:lnTo>
                <a:lnTo>
                  <a:pt x="10" y="21"/>
                </a:lnTo>
                <a:lnTo>
                  <a:pt x="10" y="20"/>
                </a:lnTo>
                <a:lnTo>
                  <a:pt x="11" y="18"/>
                </a:lnTo>
                <a:lnTo>
                  <a:pt x="11" y="17"/>
                </a:lnTo>
                <a:lnTo>
                  <a:pt x="11" y="16"/>
                </a:lnTo>
                <a:lnTo>
                  <a:pt x="11" y="15"/>
                </a:lnTo>
                <a:lnTo>
                  <a:pt x="11" y="14"/>
                </a:lnTo>
                <a:lnTo>
                  <a:pt x="11" y="13"/>
                </a:lnTo>
                <a:lnTo>
                  <a:pt x="11" y="12"/>
                </a:lnTo>
                <a:lnTo>
                  <a:pt x="11" y="11"/>
                </a:lnTo>
                <a:lnTo>
                  <a:pt x="11" y="10"/>
                </a:lnTo>
                <a:lnTo>
                  <a:pt x="12" y="8"/>
                </a:lnTo>
                <a:lnTo>
                  <a:pt x="12" y="7"/>
                </a:lnTo>
                <a:lnTo>
                  <a:pt x="12" y="6"/>
                </a:lnTo>
                <a:lnTo>
                  <a:pt x="12" y="5"/>
                </a:lnTo>
                <a:lnTo>
                  <a:pt x="12" y="4"/>
                </a:lnTo>
                <a:lnTo>
                  <a:pt x="12" y="3"/>
                </a:lnTo>
                <a:lnTo>
                  <a:pt x="12" y="2"/>
                </a:lnTo>
                <a:lnTo>
                  <a:pt x="12" y="1"/>
                </a:lnTo>
                <a:lnTo>
                  <a:pt x="12" y="0"/>
                </a:lnTo>
                <a:lnTo>
                  <a:pt x="11" y="0"/>
                </a:lnTo>
                <a:lnTo>
                  <a:pt x="10" y="0"/>
                </a:lnTo>
                <a:lnTo>
                  <a:pt x="5" y="0"/>
                </a:lnTo>
                <a:lnTo>
                  <a:pt x="2" y="0"/>
                </a:lnTo>
                <a:lnTo>
                  <a:pt x="2" y="1"/>
                </a:lnTo>
                <a:lnTo>
                  <a:pt x="2" y="2"/>
                </a:lnTo>
                <a:lnTo>
                  <a:pt x="2" y="3"/>
                </a:lnTo>
                <a:lnTo>
                  <a:pt x="2" y="4"/>
                </a:lnTo>
                <a:lnTo>
                  <a:pt x="2" y="5"/>
                </a:lnTo>
                <a:lnTo>
                  <a:pt x="2" y="6"/>
                </a:lnTo>
                <a:lnTo>
                  <a:pt x="2" y="7"/>
                </a:lnTo>
                <a:lnTo>
                  <a:pt x="2" y="8"/>
                </a:lnTo>
                <a:lnTo>
                  <a:pt x="1" y="9"/>
                </a:lnTo>
                <a:lnTo>
                  <a:pt x="1" y="10"/>
                </a:lnTo>
                <a:lnTo>
                  <a:pt x="1" y="11"/>
                </a:lnTo>
                <a:lnTo>
                  <a:pt x="1" y="12"/>
                </a:lnTo>
                <a:lnTo>
                  <a:pt x="1" y="13"/>
                </a:lnTo>
                <a:lnTo>
                  <a:pt x="1" y="14"/>
                </a:lnTo>
                <a:lnTo>
                  <a:pt x="1" y="15"/>
                </a:lnTo>
                <a:lnTo>
                  <a:pt x="1" y="16"/>
                </a:lnTo>
                <a:lnTo>
                  <a:pt x="1" y="17"/>
                </a:lnTo>
                <a:lnTo>
                  <a:pt x="0" y="18"/>
                </a:lnTo>
                <a:lnTo>
                  <a:pt x="0" y="19"/>
                </a:lnTo>
                <a:lnTo>
                  <a:pt x="0" y="20"/>
                </a:lnTo>
                <a:lnTo>
                  <a:pt x="0" y="21"/>
                </a:lnTo>
                <a:lnTo>
                  <a:pt x="0" y="22"/>
                </a:lnTo>
                <a:lnTo>
                  <a:pt x="0" y="23"/>
                </a:lnTo>
                <a:lnTo>
                  <a:pt x="0" y="24"/>
                </a:lnTo>
                <a:lnTo>
                  <a:pt x="0" y="25"/>
                </a:lnTo>
                <a:lnTo>
                  <a:pt x="0" y="26"/>
                </a:lnTo>
                <a:lnTo>
                  <a:pt x="0" y="27"/>
                </a:lnTo>
                <a:lnTo>
                  <a:pt x="0" y="28"/>
                </a:lnTo>
                <a:lnTo>
                  <a:pt x="0" y="29"/>
                </a:lnTo>
                <a:lnTo>
                  <a:pt x="0" y="30"/>
                </a:lnTo>
                <a:lnTo>
                  <a:pt x="0" y="31"/>
                </a:lnTo>
                <a:lnTo>
                  <a:pt x="0" y="32"/>
                </a:lnTo>
                <a:lnTo>
                  <a:pt x="0" y="33"/>
                </a:lnTo>
                <a:lnTo>
                  <a:pt x="0" y="34"/>
                </a:lnTo>
                <a:lnTo>
                  <a:pt x="0" y="35"/>
                </a:lnTo>
                <a:lnTo>
                  <a:pt x="0" y="36"/>
                </a:lnTo>
                <a:lnTo>
                  <a:pt x="0" y="37"/>
                </a:lnTo>
                <a:lnTo>
                  <a:pt x="0" y="38"/>
                </a:lnTo>
                <a:lnTo>
                  <a:pt x="0" y="39"/>
                </a:lnTo>
                <a:lnTo>
                  <a:pt x="0" y="41"/>
                </a:lnTo>
                <a:lnTo>
                  <a:pt x="1" y="43"/>
                </a:lnTo>
                <a:lnTo>
                  <a:pt x="1" y="44"/>
                </a:lnTo>
                <a:lnTo>
                  <a:pt x="1" y="45"/>
                </a:lnTo>
                <a:lnTo>
                  <a:pt x="2" y="47"/>
                </a:lnTo>
                <a:lnTo>
                  <a:pt x="2" y="48"/>
                </a:lnTo>
                <a:lnTo>
                  <a:pt x="2" y="49"/>
                </a:lnTo>
                <a:lnTo>
                  <a:pt x="3" y="51"/>
                </a:lnTo>
                <a:lnTo>
                  <a:pt x="4" y="53"/>
                </a:lnTo>
                <a:lnTo>
                  <a:pt x="5" y="55"/>
                </a:lnTo>
                <a:lnTo>
                  <a:pt x="6" y="57"/>
                </a:lnTo>
                <a:lnTo>
                  <a:pt x="7" y="59"/>
                </a:lnTo>
                <a:lnTo>
                  <a:pt x="8" y="61"/>
                </a:lnTo>
                <a:lnTo>
                  <a:pt x="10" y="61"/>
                </a:lnTo>
                <a:lnTo>
                  <a:pt x="11" y="63"/>
                </a:lnTo>
                <a:lnTo>
                  <a:pt x="13" y="64"/>
                </a:lnTo>
                <a:lnTo>
                  <a:pt x="14" y="64"/>
                </a:lnTo>
                <a:lnTo>
                  <a:pt x="15" y="64"/>
                </a:lnTo>
                <a:lnTo>
                  <a:pt x="14" y="64"/>
                </a:lnTo>
                <a:lnTo>
                  <a:pt x="12" y="64"/>
                </a:lnTo>
                <a:lnTo>
                  <a:pt x="11" y="64"/>
                </a:lnTo>
                <a:lnTo>
                  <a:pt x="11" y="63"/>
                </a:lnTo>
                <a:lnTo>
                  <a:pt x="12" y="64"/>
                </a:lnTo>
                <a:lnTo>
                  <a:pt x="13" y="64"/>
                </a:lnTo>
                <a:lnTo>
                  <a:pt x="14" y="64"/>
                </a:lnTo>
                <a:lnTo>
                  <a:pt x="15" y="64"/>
                </a:lnTo>
                <a:lnTo>
                  <a:pt x="15" y="55"/>
                </a:lnTo>
                <a:close/>
              </a:path>
            </a:pathLst>
          </a:custGeom>
          <a:solidFill>
            <a:srgbClr val="1f1a17"/>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4" name="Freeform 33"/>
          <p:cNvSpPr/>
          <p:nvPr/>
        </p:nvSpPr>
        <p:spPr>
          <a:xfrm>
            <a:off x="3855960" y="4033800"/>
            <a:ext cx="39600" cy="47520"/>
          </a:xfrm>
          <a:custGeom>
            <a:avLst/>
            <a:gdLst>
              <a:gd name="textAreaLeft" fmla="*/ 0 w 39600"/>
              <a:gd name="textAreaRight" fmla="*/ 39960 w 39600"/>
              <a:gd name="textAreaTop" fmla="*/ 0 h 47520"/>
              <a:gd name="textAreaBottom" fmla="*/ 47880 h 47520"/>
            </a:gdLst>
            <a:ahLst/>
            <a:rect l="textAreaLeft" t="textAreaTop" r="textAreaRight" b="textAreaBottom"/>
            <a:pathLst>
              <a:path w="50" h="60">
                <a:moveTo>
                  <a:pt x="46" y="0"/>
                </a:moveTo>
                <a:lnTo>
                  <a:pt x="45" y="1"/>
                </a:lnTo>
                <a:lnTo>
                  <a:pt x="42" y="4"/>
                </a:lnTo>
                <a:lnTo>
                  <a:pt x="41" y="5"/>
                </a:lnTo>
                <a:lnTo>
                  <a:pt x="41" y="6"/>
                </a:lnTo>
                <a:lnTo>
                  <a:pt x="41" y="7"/>
                </a:lnTo>
                <a:lnTo>
                  <a:pt x="40" y="8"/>
                </a:lnTo>
                <a:lnTo>
                  <a:pt x="40" y="9"/>
                </a:lnTo>
                <a:lnTo>
                  <a:pt x="38" y="10"/>
                </a:lnTo>
                <a:lnTo>
                  <a:pt x="38" y="11"/>
                </a:lnTo>
                <a:lnTo>
                  <a:pt x="38" y="12"/>
                </a:lnTo>
                <a:lnTo>
                  <a:pt x="38" y="13"/>
                </a:lnTo>
                <a:lnTo>
                  <a:pt x="37" y="14"/>
                </a:lnTo>
                <a:lnTo>
                  <a:pt x="36" y="15"/>
                </a:lnTo>
                <a:lnTo>
                  <a:pt x="36" y="16"/>
                </a:lnTo>
                <a:lnTo>
                  <a:pt x="35" y="17"/>
                </a:lnTo>
                <a:lnTo>
                  <a:pt x="35" y="18"/>
                </a:lnTo>
                <a:lnTo>
                  <a:pt x="34" y="19"/>
                </a:lnTo>
                <a:lnTo>
                  <a:pt x="34" y="20"/>
                </a:lnTo>
                <a:lnTo>
                  <a:pt x="33" y="21"/>
                </a:lnTo>
                <a:lnTo>
                  <a:pt x="33" y="22"/>
                </a:lnTo>
                <a:lnTo>
                  <a:pt x="32" y="23"/>
                </a:lnTo>
                <a:lnTo>
                  <a:pt x="31" y="24"/>
                </a:lnTo>
                <a:lnTo>
                  <a:pt x="30" y="25"/>
                </a:lnTo>
                <a:lnTo>
                  <a:pt x="30" y="26"/>
                </a:lnTo>
                <a:lnTo>
                  <a:pt x="29" y="27"/>
                </a:lnTo>
                <a:lnTo>
                  <a:pt x="29" y="28"/>
                </a:lnTo>
                <a:lnTo>
                  <a:pt x="28" y="29"/>
                </a:lnTo>
                <a:lnTo>
                  <a:pt x="27" y="30"/>
                </a:lnTo>
                <a:lnTo>
                  <a:pt x="26" y="31"/>
                </a:lnTo>
                <a:lnTo>
                  <a:pt x="26" y="32"/>
                </a:lnTo>
                <a:lnTo>
                  <a:pt x="25" y="33"/>
                </a:lnTo>
                <a:lnTo>
                  <a:pt x="23" y="34"/>
                </a:lnTo>
                <a:lnTo>
                  <a:pt x="22" y="35"/>
                </a:lnTo>
                <a:lnTo>
                  <a:pt x="21" y="37"/>
                </a:lnTo>
                <a:lnTo>
                  <a:pt x="20" y="38"/>
                </a:lnTo>
                <a:lnTo>
                  <a:pt x="19" y="39"/>
                </a:lnTo>
                <a:lnTo>
                  <a:pt x="18" y="40"/>
                </a:lnTo>
                <a:lnTo>
                  <a:pt x="17" y="41"/>
                </a:lnTo>
                <a:lnTo>
                  <a:pt x="16" y="42"/>
                </a:lnTo>
                <a:lnTo>
                  <a:pt x="15" y="43"/>
                </a:lnTo>
                <a:lnTo>
                  <a:pt x="14" y="44"/>
                </a:lnTo>
                <a:lnTo>
                  <a:pt x="13" y="45"/>
                </a:lnTo>
                <a:lnTo>
                  <a:pt x="12" y="46"/>
                </a:lnTo>
                <a:lnTo>
                  <a:pt x="11" y="46"/>
                </a:lnTo>
                <a:lnTo>
                  <a:pt x="10" y="47"/>
                </a:lnTo>
                <a:lnTo>
                  <a:pt x="8" y="48"/>
                </a:lnTo>
                <a:lnTo>
                  <a:pt x="7" y="48"/>
                </a:lnTo>
                <a:lnTo>
                  <a:pt x="6" y="49"/>
                </a:lnTo>
                <a:lnTo>
                  <a:pt x="5" y="50"/>
                </a:lnTo>
                <a:lnTo>
                  <a:pt x="4" y="50"/>
                </a:lnTo>
                <a:lnTo>
                  <a:pt x="3" y="50"/>
                </a:lnTo>
                <a:lnTo>
                  <a:pt x="2" y="51"/>
                </a:lnTo>
                <a:lnTo>
                  <a:pt x="1" y="51"/>
                </a:lnTo>
                <a:lnTo>
                  <a:pt x="0" y="51"/>
                </a:lnTo>
                <a:lnTo>
                  <a:pt x="0" y="52"/>
                </a:lnTo>
                <a:lnTo>
                  <a:pt x="0" y="53"/>
                </a:lnTo>
                <a:lnTo>
                  <a:pt x="0" y="57"/>
                </a:lnTo>
                <a:lnTo>
                  <a:pt x="0" y="60"/>
                </a:lnTo>
                <a:lnTo>
                  <a:pt x="1" y="60"/>
                </a:lnTo>
                <a:lnTo>
                  <a:pt x="2" y="60"/>
                </a:lnTo>
                <a:lnTo>
                  <a:pt x="4" y="59"/>
                </a:lnTo>
                <a:lnTo>
                  <a:pt x="5" y="59"/>
                </a:lnTo>
                <a:lnTo>
                  <a:pt x="6" y="59"/>
                </a:lnTo>
                <a:lnTo>
                  <a:pt x="8" y="58"/>
                </a:lnTo>
                <a:lnTo>
                  <a:pt x="11" y="57"/>
                </a:lnTo>
                <a:lnTo>
                  <a:pt x="13" y="56"/>
                </a:lnTo>
                <a:lnTo>
                  <a:pt x="15" y="55"/>
                </a:lnTo>
                <a:lnTo>
                  <a:pt x="16" y="54"/>
                </a:lnTo>
                <a:lnTo>
                  <a:pt x="17" y="53"/>
                </a:lnTo>
                <a:lnTo>
                  <a:pt x="19" y="52"/>
                </a:lnTo>
                <a:lnTo>
                  <a:pt x="20" y="51"/>
                </a:lnTo>
                <a:lnTo>
                  <a:pt x="21" y="50"/>
                </a:lnTo>
                <a:lnTo>
                  <a:pt x="22" y="48"/>
                </a:lnTo>
                <a:lnTo>
                  <a:pt x="25" y="47"/>
                </a:lnTo>
                <a:lnTo>
                  <a:pt x="26" y="46"/>
                </a:lnTo>
                <a:lnTo>
                  <a:pt x="27" y="45"/>
                </a:lnTo>
                <a:lnTo>
                  <a:pt x="28" y="44"/>
                </a:lnTo>
                <a:lnTo>
                  <a:pt x="29" y="43"/>
                </a:lnTo>
                <a:lnTo>
                  <a:pt x="30" y="42"/>
                </a:lnTo>
                <a:lnTo>
                  <a:pt x="31" y="41"/>
                </a:lnTo>
                <a:lnTo>
                  <a:pt x="32" y="39"/>
                </a:lnTo>
                <a:lnTo>
                  <a:pt x="33" y="38"/>
                </a:lnTo>
                <a:lnTo>
                  <a:pt x="34" y="35"/>
                </a:lnTo>
                <a:lnTo>
                  <a:pt x="35" y="34"/>
                </a:lnTo>
                <a:lnTo>
                  <a:pt x="36" y="33"/>
                </a:lnTo>
                <a:lnTo>
                  <a:pt x="37" y="31"/>
                </a:lnTo>
                <a:lnTo>
                  <a:pt x="38" y="30"/>
                </a:lnTo>
                <a:lnTo>
                  <a:pt x="40" y="29"/>
                </a:lnTo>
                <a:lnTo>
                  <a:pt x="41" y="27"/>
                </a:lnTo>
                <a:lnTo>
                  <a:pt x="42" y="26"/>
                </a:lnTo>
                <a:lnTo>
                  <a:pt x="43" y="25"/>
                </a:lnTo>
                <a:lnTo>
                  <a:pt x="43" y="24"/>
                </a:lnTo>
                <a:lnTo>
                  <a:pt x="43" y="23"/>
                </a:lnTo>
                <a:lnTo>
                  <a:pt x="44" y="22"/>
                </a:lnTo>
                <a:lnTo>
                  <a:pt x="45" y="20"/>
                </a:lnTo>
                <a:lnTo>
                  <a:pt x="46" y="18"/>
                </a:lnTo>
                <a:lnTo>
                  <a:pt x="47" y="16"/>
                </a:lnTo>
                <a:lnTo>
                  <a:pt x="48" y="14"/>
                </a:lnTo>
                <a:lnTo>
                  <a:pt x="49" y="12"/>
                </a:lnTo>
                <a:lnTo>
                  <a:pt x="49" y="11"/>
                </a:lnTo>
                <a:lnTo>
                  <a:pt x="49" y="10"/>
                </a:lnTo>
                <a:lnTo>
                  <a:pt x="50" y="8"/>
                </a:lnTo>
                <a:lnTo>
                  <a:pt x="50" y="7"/>
                </a:lnTo>
                <a:lnTo>
                  <a:pt x="50" y="6"/>
                </a:lnTo>
                <a:lnTo>
                  <a:pt x="50" y="5"/>
                </a:lnTo>
                <a:lnTo>
                  <a:pt x="49" y="6"/>
                </a:lnTo>
                <a:lnTo>
                  <a:pt x="47" y="8"/>
                </a:lnTo>
                <a:lnTo>
                  <a:pt x="46" y="9"/>
                </a:lnTo>
                <a:lnTo>
                  <a:pt x="46" y="8"/>
                </a:lnTo>
                <a:lnTo>
                  <a:pt x="46" y="4"/>
                </a:lnTo>
                <a:lnTo>
                  <a:pt x="46" y="1"/>
                </a:lnTo>
                <a:lnTo>
                  <a:pt x="46" y="0"/>
                </a:lnTo>
                <a:lnTo>
                  <a:pt x="45" y="0"/>
                </a:lnTo>
                <a:lnTo>
                  <a:pt x="42" y="0"/>
                </a:lnTo>
                <a:lnTo>
                  <a:pt x="41" y="0"/>
                </a:lnTo>
                <a:lnTo>
                  <a:pt x="41" y="1"/>
                </a:lnTo>
                <a:lnTo>
                  <a:pt x="41" y="4"/>
                </a:lnTo>
                <a:lnTo>
                  <a:pt x="41" y="5"/>
                </a:lnTo>
                <a:lnTo>
                  <a:pt x="46" y="0"/>
                </a:lnTo>
                <a:close/>
              </a:path>
            </a:pathLst>
          </a:custGeom>
          <a:solidFill>
            <a:srgbClr val="1f1a17"/>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5" name="Freeform 34"/>
          <p:cNvSpPr/>
          <p:nvPr/>
        </p:nvSpPr>
        <p:spPr>
          <a:xfrm>
            <a:off x="3892680" y="4033800"/>
            <a:ext cx="128520" cy="77760"/>
          </a:xfrm>
          <a:custGeom>
            <a:avLst/>
            <a:gdLst>
              <a:gd name="textAreaLeft" fmla="*/ 0 w 128520"/>
              <a:gd name="textAreaRight" fmla="*/ 128880 w 128520"/>
              <a:gd name="textAreaTop" fmla="*/ 0 h 77760"/>
              <a:gd name="textAreaBottom" fmla="*/ 78120 h 77760"/>
            </a:gdLst>
            <a:ahLst/>
            <a:rect l="textAreaLeft" t="textAreaTop" r="textAreaRight" b="textAreaBottom"/>
            <a:pathLst>
              <a:path w="163" h="98">
                <a:moveTo>
                  <a:pt x="159" y="88"/>
                </a:moveTo>
                <a:lnTo>
                  <a:pt x="161" y="92"/>
                </a:lnTo>
                <a:lnTo>
                  <a:pt x="162" y="93"/>
                </a:lnTo>
                <a:lnTo>
                  <a:pt x="163" y="93"/>
                </a:lnTo>
                <a:lnTo>
                  <a:pt x="162" y="88"/>
                </a:lnTo>
                <a:lnTo>
                  <a:pt x="162" y="86"/>
                </a:lnTo>
                <a:lnTo>
                  <a:pt x="162" y="85"/>
                </a:lnTo>
                <a:lnTo>
                  <a:pt x="160" y="82"/>
                </a:lnTo>
                <a:lnTo>
                  <a:pt x="160" y="80"/>
                </a:lnTo>
                <a:lnTo>
                  <a:pt x="160" y="79"/>
                </a:lnTo>
                <a:lnTo>
                  <a:pt x="159" y="76"/>
                </a:lnTo>
                <a:lnTo>
                  <a:pt x="159" y="74"/>
                </a:lnTo>
                <a:lnTo>
                  <a:pt x="159" y="73"/>
                </a:lnTo>
                <a:lnTo>
                  <a:pt x="157" y="70"/>
                </a:lnTo>
                <a:lnTo>
                  <a:pt x="157" y="69"/>
                </a:lnTo>
                <a:lnTo>
                  <a:pt x="157" y="68"/>
                </a:lnTo>
                <a:lnTo>
                  <a:pt x="154" y="65"/>
                </a:lnTo>
                <a:lnTo>
                  <a:pt x="153" y="64"/>
                </a:lnTo>
                <a:lnTo>
                  <a:pt x="153" y="63"/>
                </a:lnTo>
                <a:lnTo>
                  <a:pt x="151" y="60"/>
                </a:lnTo>
                <a:lnTo>
                  <a:pt x="151" y="58"/>
                </a:lnTo>
                <a:lnTo>
                  <a:pt x="151" y="57"/>
                </a:lnTo>
                <a:lnTo>
                  <a:pt x="149" y="55"/>
                </a:lnTo>
                <a:lnTo>
                  <a:pt x="148" y="54"/>
                </a:lnTo>
                <a:lnTo>
                  <a:pt x="148" y="53"/>
                </a:lnTo>
                <a:lnTo>
                  <a:pt x="146" y="50"/>
                </a:lnTo>
                <a:lnTo>
                  <a:pt x="145" y="49"/>
                </a:lnTo>
                <a:lnTo>
                  <a:pt x="145" y="48"/>
                </a:lnTo>
                <a:lnTo>
                  <a:pt x="142" y="46"/>
                </a:lnTo>
                <a:lnTo>
                  <a:pt x="140" y="45"/>
                </a:lnTo>
                <a:lnTo>
                  <a:pt x="140" y="44"/>
                </a:lnTo>
                <a:lnTo>
                  <a:pt x="138" y="42"/>
                </a:lnTo>
                <a:lnTo>
                  <a:pt x="137" y="41"/>
                </a:lnTo>
                <a:lnTo>
                  <a:pt x="137" y="40"/>
                </a:lnTo>
                <a:lnTo>
                  <a:pt x="134" y="38"/>
                </a:lnTo>
                <a:lnTo>
                  <a:pt x="133" y="37"/>
                </a:lnTo>
                <a:lnTo>
                  <a:pt x="133" y="35"/>
                </a:lnTo>
                <a:lnTo>
                  <a:pt x="129" y="33"/>
                </a:lnTo>
                <a:lnTo>
                  <a:pt x="128" y="32"/>
                </a:lnTo>
                <a:lnTo>
                  <a:pt x="128" y="31"/>
                </a:lnTo>
                <a:lnTo>
                  <a:pt x="124" y="30"/>
                </a:lnTo>
                <a:lnTo>
                  <a:pt x="123" y="29"/>
                </a:lnTo>
                <a:lnTo>
                  <a:pt x="123" y="28"/>
                </a:lnTo>
                <a:lnTo>
                  <a:pt x="119" y="27"/>
                </a:lnTo>
                <a:lnTo>
                  <a:pt x="118" y="26"/>
                </a:lnTo>
                <a:lnTo>
                  <a:pt x="118" y="25"/>
                </a:lnTo>
                <a:lnTo>
                  <a:pt x="115" y="24"/>
                </a:lnTo>
                <a:lnTo>
                  <a:pt x="114" y="23"/>
                </a:lnTo>
                <a:lnTo>
                  <a:pt x="114" y="22"/>
                </a:lnTo>
                <a:lnTo>
                  <a:pt x="109" y="21"/>
                </a:lnTo>
                <a:lnTo>
                  <a:pt x="108" y="20"/>
                </a:lnTo>
                <a:lnTo>
                  <a:pt x="108" y="19"/>
                </a:lnTo>
                <a:lnTo>
                  <a:pt x="104" y="18"/>
                </a:lnTo>
                <a:lnTo>
                  <a:pt x="102" y="17"/>
                </a:lnTo>
                <a:lnTo>
                  <a:pt x="102" y="16"/>
                </a:lnTo>
                <a:lnTo>
                  <a:pt x="101" y="16"/>
                </a:lnTo>
                <a:lnTo>
                  <a:pt x="98" y="15"/>
                </a:lnTo>
                <a:lnTo>
                  <a:pt x="97" y="15"/>
                </a:lnTo>
                <a:lnTo>
                  <a:pt x="97" y="14"/>
                </a:lnTo>
                <a:lnTo>
                  <a:pt x="95" y="14"/>
                </a:lnTo>
                <a:lnTo>
                  <a:pt x="92" y="13"/>
                </a:lnTo>
                <a:lnTo>
                  <a:pt x="91" y="13"/>
                </a:lnTo>
                <a:lnTo>
                  <a:pt x="91" y="12"/>
                </a:lnTo>
                <a:lnTo>
                  <a:pt x="90" y="12"/>
                </a:lnTo>
                <a:lnTo>
                  <a:pt x="87" y="11"/>
                </a:lnTo>
                <a:lnTo>
                  <a:pt x="85" y="11"/>
                </a:lnTo>
                <a:lnTo>
                  <a:pt x="85" y="10"/>
                </a:lnTo>
                <a:lnTo>
                  <a:pt x="84" y="10"/>
                </a:lnTo>
                <a:lnTo>
                  <a:pt x="80" y="9"/>
                </a:lnTo>
                <a:lnTo>
                  <a:pt x="78" y="9"/>
                </a:lnTo>
                <a:lnTo>
                  <a:pt x="78" y="8"/>
                </a:lnTo>
                <a:lnTo>
                  <a:pt x="77" y="8"/>
                </a:lnTo>
                <a:lnTo>
                  <a:pt x="74" y="8"/>
                </a:lnTo>
                <a:lnTo>
                  <a:pt x="72" y="8"/>
                </a:lnTo>
                <a:lnTo>
                  <a:pt x="72" y="7"/>
                </a:lnTo>
                <a:lnTo>
                  <a:pt x="71" y="7"/>
                </a:lnTo>
                <a:lnTo>
                  <a:pt x="68" y="6"/>
                </a:lnTo>
                <a:lnTo>
                  <a:pt x="65" y="6"/>
                </a:lnTo>
                <a:lnTo>
                  <a:pt x="65" y="5"/>
                </a:lnTo>
                <a:lnTo>
                  <a:pt x="64" y="5"/>
                </a:lnTo>
                <a:lnTo>
                  <a:pt x="63" y="5"/>
                </a:lnTo>
                <a:lnTo>
                  <a:pt x="60" y="5"/>
                </a:lnTo>
                <a:lnTo>
                  <a:pt x="58" y="5"/>
                </a:lnTo>
                <a:lnTo>
                  <a:pt x="58" y="4"/>
                </a:lnTo>
                <a:lnTo>
                  <a:pt x="57" y="4"/>
                </a:lnTo>
                <a:lnTo>
                  <a:pt x="54" y="4"/>
                </a:lnTo>
                <a:lnTo>
                  <a:pt x="51" y="4"/>
                </a:lnTo>
                <a:lnTo>
                  <a:pt x="51" y="3"/>
                </a:lnTo>
                <a:lnTo>
                  <a:pt x="50" y="3"/>
                </a:lnTo>
                <a:lnTo>
                  <a:pt x="49" y="3"/>
                </a:lnTo>
                <a:lnTo>
                  <a:pt x="46" y="3"/>
                </a:lnTo>
                <a:lnTo>
                  <a:pt x="44" y="3"/>
                </a:lnTo>
                <a:lnTo>
                  <a:pt x="44" y="2"/>
                </a:lnTo>
                <a:lnTo>
                  <a:pt x="43" y="2"/>
                </a:lnTo>
                <a:lnTo>
                  <a:pt x="40" y="2"/>
                </a:lnTo>
                <a:lnTo>
                  <a:pt x="38" y="2"/>
                </a:lnTo>
                <a:lnTo>
                  <a:pt x="36" y="2"/>
                </a:lnTo>
                <a:lnTo>
                  <a:pt x="35" y="2"/>
                </a:lnTo>
                <a:lnTo>
                  <a:pt x="32" y="2"/>
                </a:lnTo>
                <a:lnTo>
                  <a:pt x="30" y="2"/>
                </a:lnTo>
                <a:lnTo>
                  <a:pt x="30" y="1"/>
                </a:lnTo>
                <a:lnTo>
                  <a:pt x="29" y="1"/>
                </a:lnTo>
                <a:lnTo>
                  <a:pt x="28" y="1"/>
                </a:lnTo>
                <a:lnTo>
                  <a:pt x="25" y="1"/>
                </a:lnTo>
                <a:lnTo>
                  <a:pt x="23" y="1"/>
                </a:lnTo>
                <a:lnTo>
                  <a:pt x="21" y="1"/>
                </a:lnTo>
                <a:lnTo>
                  <a:pt x="20" y="1"/>
                </a:lnTo>
                <a:lnTo>
                  <a:pt x="17" y="1"/>
                </a:lnTo>
                <a:lnTo>
                  <a:pt x="15" y="1"/>
                </a:lnTo>
                <a:lnTo>
                  <a:pt x="15" y="0"/>
                </a:lnTo>
                <a:lnTo>
                  <a:pt x="14" y="0"/>
                </a:lnTo>
                <a:lnTo>
                  <a:pt x="13" y="0"/>
                </a:lnTo>
                <a:lnTo>
                  <a:pt x="10" y="0"/>
                </a:lnTo>
                <a:lnTo>
                  <a:pt x="7" y="0"/>
                </a:lnTo>
                <a:lnTo>
                  <a:pt x="6" y="0"/>
                </a:lnTo>
                <a:lnTo>
                  <a:pt x="5" y="0"/>
                </a:lnTo>
                <a:lnTo>
                  <a:pt x="2" y="0"/>
                </a:lnTo>
                <a:lnTo>
                  <a:pt x="0" y="0"/>
                </a:lnTo>
                <a:lnTo>
                  <a:pt x="0" y="1"/>
                </a:lnTo>
                <a:lnTo>
                  <a:pt x="0" y="2"/>
                </a:lnTo>
                <a:lnTo>
                  <a:pt x="0" y="6"/>
                </a:lnTo>
                <a:lnTo>
                  <a:pt x="0" y="9"/>
                </a:lnTo>
                <a:lnTo>
                  <a:pt x="1" y="9"/>
                </a:lnTo>
                <a:lnTo>
                  <a:pt x="4" y="9"/>
                </a:lnTo>
                <a:lnTo>
                  <a:pt x="6" y="9"/>
                </a:lnTo>
                <a:lnTo>
                  <a:pt x="7" y="9"/>
                </a:lnTo>
                <a:lnTo>
                  <a:pt x="9" y="9"/>
                </a:lnTo>
                <a:lnTo>
                  <a:pt x="12" y="9"/>
                </a:lnTo>
                <a:lnTo>
                  <a:pt x="14" y="9"/>
                </a:lnTo>
                <a:lnTo>
                  <a:pt x="15" y="9"/>
                </a:lnTo>
                <a:lnTo>
                  <a:pt x="18" y="10"/>
                </a:lnTo>
                <a:lnTo>
                  <a:pt x="20" y="10"/>
                </a:lnTo>
                <a:lnTo>
                  <a:pt x="21" y="10"/>
                </a:lnTo>
                <a:lnTo>
                  <a:pt x="23" y="10"/>
                </a:lnTo>
                <a:lnTo>
                  <a:pt x="26" y="10"/>
                </a:lnTo>
                <a:lnTo>
                  <a:pt x="28" y="10"/>
                </a:lnTo>
                <a:lnTo>
                  <a:pt x="29" y="10"/>
                </a:lnTo>
                <a:lnTo>
                  <a:pt x="33" y="11"/>
                </a:lnTo>
                <a:lnTo>
                  <a:pt x="35" y="11"/>
                </a:lnTo>
                <a:lnTo>
                  <a:pt x="36" y="11"/>
                </a:lnTo>
                <a:lnTo>
                  <a:pt x="40" y="11"/>
                </a:lnTo>
                <a:lnTo>
                  <a:pt x="42" y="11"/>
                </a:lnTo>
                <a:lnTo>
                  <a:pt x="43" y="11"/>
                </a:lnTo>
                <a:lnTo>
                  <a:pt x="47" y="12"/>
                </a:lnTo>
                <a:lnTo>
                  <a:pt x="49" y="12"/>
                </a:lnTo>
                <a:lnTo>
                  <a:pt x="50" y="12"/>
                </a:lnTo>
                <a:lnTo>
                  <a:pt x="54" y="13"/>
                </a:lnTo>
                <a:lnTo>
                  <a:pt x="56" y="13"/>
                </a:lnTo>
                <a:lnTo>
                  <a:pt x="57" y="13"/>
                </a:lnTo>
                <a:lnTo>
                  <a:pt x="60" y="14"/>
                </a:lnTo>
                <a:lnTo>
                  <a:pt x="62" y="14"/>
                </a:lnTo>
                <a:lnTo>
                  <a:pt x="63" y="14"/>
                </a:lnTo>
                <a:lnTo>
                  <a:pt x="66" y="16"/>
                </a:lnTo>
                <a:lnTo>
                  <a:pt x="69" y="16"/>
                </a:lnTo>
                <a:lnTo>
                  <a:pt x="70" y="16"/>
                </a:lnTo>
                <a:lnTo>
                  <a:pt x="73" y="17"/>
                </a:lnTo>
                <a:lnTo>
                  <a:pt x="75" y="17"/>
                </a:lnTo>
                <a:lnTo>
                  <a:pt x="76" y="17"/>
                </a:lnTo>
                <a:lnTo>
                  <a:pt x="79" y="19"/>
                </a:lnTo>
                <a:lnTo>
                  <a:pt x="80" y="19"/>
                </a:lnTo>
                <a:lnTo>
                  <a:pt x="81" y="19"/>
                </a:lnTo>
                <a:lnTo>
                  <a:pt x="85" y="20"/>
                </a:lnTo>
                <a:lnTo>
                  <a:pt x="87" y="20"/>
                </a:lnTo>
                <a:lnTo>
                  <a:pt x="88" y="20"/>
                </a:lnTo>
                <a:lnTo>
                  <a:pt x="91" y="22"/>
                </a:lnTo>
                <a:lnTo>
                  <a:pt x="92" y="22"/>
                </a:lnTo>
                <a:lnTo>
                  <a:pt x="93" y="22"/>
                </a:lnTo>
                <a:lnTo>
                  <a:pt x="97" y="24"/>
                </a:lnTo>
                <a:lnTo>
                  <a:pt x="98" y="25"/>
                </a:lnTo>
                <a:lnTo>
                  <a:pt x="99" y="25"/>
                </a:lnTo>
                <a:lnTo>
                  <a:pt x="102" y="27"/>
                </a:lnTo>
                <a:lnTo>
                  <a:pt x="103" y="27"/>
                </a:lnTo>
                <a:lnTo>
                  <a:pt x="104" y="27"/>
                </a:lnTo>
                <a:lnTo>
                  <a:pt x="106" y="29"/>
                </a:lnTo>
                <a:lnTo>
                  <a:pt x="108" y="29"/>
                </a:lnTo>
                <a:lnTo>
                  <a:pt x="112" y="31"/>
                </a:lnTo>
                <a:lnTo>
                  <a:pt x="113" y="32"/>
                </a:lnTo>
                <a:lnTo>
                  <a:pt x="114" y="32"/>
                </a:lnTo>
                <a:lnTo>
                  <a:pt x="116" y="34"/>
                </a:lnTo>
                <a:lnTo>
                  <a:pt x="117" y="35"/>
                </a:lnTo>
                <a:lnTo>
                  <a:pt x="118" y="35"/>
                </a:lnTo>
                <a:lnTo>
                  <a:pt x="120" y="38"/>
                </a:lnTo>
                <a:lnTo>
                  <a:pt x="121" y="39"/>
                </a:lnTo>
                <a:lnTo>
                  <a:pt x="122" y="39"/>
                </a:lnTo>
                <a:lnTo>
                  <a:pt x="123" y="41"/>
                </a:lnTo>
                <a:lnTo>
                  <a:pt x="124" y="42"/>
                </a:lnTo>
                <a:lnTo>
                  <a:pt x="125" y="42"/>
                </a:lnTo>
                <a:lnTo>
                  <a:pt x="128" y="45"/>
                </a:lnTo>
                <a:lnTo>
                  <a:pt x="129" y="46"/>
                </a:lnTo>
                <a:lnTo>
                  <a:pt x="130" y="46"/>
                </a:lnTo>
                <a:lnTo>
                  <a:pt x="131" y="48"/>
                </a:lnTo>
                <a:lnTo>
                  <a:pt x="132" y="49"/>
                </a:lnTo>
                <a:lnTo>
                  <a:pt x="133" y="49"/>
                </a:lnTo>
                <a:lnTo>
                  <a:pt x="134" y="52"/>
                </a:lnTo>
                <a:lnTo>
                  <a:pt x="135" y="53"/>
                </a:lnTo>
                <a:lnTo>
                  <a:pt x="136" y="53"/>
                </a:lnTo>
                <a:lnTo>
                  <a:pt x="137" y="56"/>
                </a:lnTo>
                <a:lnTo>
                  <a:pt x="138" y="57"/>
                </a:lnTo>
                <a:lnTo>
                  <a:pt x="139" y="57"/>
                </a:lnTo>
                <a:lnTo>
                  <a:pt x="140" y="61"/>
                </a:lnTo>
                <a:lnTo>
                  <a:pt x="142" y="62"/>
                </a:lnTo>
                <a:lnTo>
                  <a:pt x="143" y="62"/>
                </a:lnTo>
                <a:lnTo>
                  <a:pt x="144" y="65"/>
                </a:lnTo>
                <a:lnTo>
                  <a:pt x="145" y="66"/>
                </a:lnTo>
                <a:lnTo>
                  <a:pt x="145" y="67"/>
                </a:lnTo>
                <a:lnTo>
                  <a:pt x="146" y="70"/>
                </a:lnTo>
                <a:lnTo>
                  <a:pt x="146" y="71"/>
                </a:lnTo>
                <a:lnTo>
                  <a:pt x="147" y="71"/>
                </a:lnTo>
                <a:lnTo>
                  <a:pt x="147" y="72"/>
                </a:lnTo>
                <a:lnTo>
                  <a:pt x="148" y="75"/>
                </a:lnTo>
                <a:lnTo>
                  <a:pt x="148" y="76"/>
                </a:lnTo>
                <a:lnTo>
                  <a:pt x="149" y="76"/>
                </a:lnTo>
                <a:lnTo>
                  <a:pt x="149" y="77"/>
                </a:lnTo>
                <a:lnTo>
                  <a:pt x="150" y="80"/>
                </a:lnTo>
                <a:lnTo>
                  <a:pt x="150" y="82"/>
                </a:lnTo>
                <a:lnTo>
                  <a:pt x="151" y="82"/>
                </a:lnTo>
                <a:lnTo>
                  <a:pt x="151" y="83"/>
                </a:lnTo>
                <a:lnTo>
                  <a:pt x="151" y="86"/>
                </a:lnTo>
                <a:lnTo>
                  <a:pt x="151" y="87"/>
                </a:lnTo>
                <a:lnTo>
                  <a:pt x="152" y="87"/>
                </a:lnTo>
                <a:lnTo>
                  <a:pt x="152" y="88"/>
                </a:lnTo>
                <a:lnTo>
                  <a:pt x="152" y="92"/>
                </a:lnTo>
                <a:lnTo>
                  <a:pt x="152" y="94"/>
                </a:lnTo>
                <a:lnTo>
                  <a:pt x="153" y="94"/>
                </a:lnTo>
                <a:lnTo>
                  <a:pt x="155" y="97"/>
                </a:lnTo>
                <a:lnTo>
                  <a:pt x="157" y="98"/>
                </a:lnTo>
                <a:lnTo>
                  <a:pt x="158" y="98"/>
                </a:lnTo>
                <a:lnTo>
                  <a:pt x="154" y="96"/>
                </a:lnTo>
                <a:lnTo>
                  <a:pt x="153" y="95"/>
                </a:lnTo>
                <a:lnTo>
                  <a:pt x="153" y="94"/>
                </a:lnTo>
                <a:lnTo>
                  <a:pt x="153" y="95"/>
                </a:lnTo>
                <a:lnTo>
                  <a:pt x="153" y="96"/>
                </a:lnTo>
                <a:lnTo>
                  <a:pt x="153" y="97"/>
                </a:lnTo>
                <a:lnTo>
                  <a:pt x="154" y="97"/>
                </a:lnTo>
                <a:lnTo>
                  <a:pt x="157" y="98"/>
                </a:lnTo>
                <a:lnTo>
                  <a:pt x="158" y="98"/>
                </a:lnTo>
                <a:lnTo>
                  <a:pt x="159" y="88"/>
                </a:lnTo>
                <a:close/>
              </a:path>
            </a:pathLst>
          </a:custGeom>
          <a:solidFill>
            <a:srgbClr val="1f1a17"/>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6" name="Freeform 35"/>
          <p:cNvSpPr/>
          <p:nvPr/>
        </p:nvSpPr>
        <p:spPr>
          <a:xfrm>
            <a:off x="4017960" y="4105440"/>
            <a:ext cx="73080" cy="17280"/>
          </a:xfrm>
          <a:custGeom>
            <a:avLst/>
            <a:gdLst>
              <a:gd name="textAreaLeft" fmla="*/ 0 w 73080"/>
              <a:gd name="textAreaRight" fmla="*/ 73440 w 73080"/>
              <a:gd name="textAreaTop" fmla="*/ 0 h 17280"/>
              <a:gd name="textAreaBottom" fmla="*/ 17640 h 17280"/>
            </a:gdLst>
            <a:ahLst/>
            <a:rect l="textAreaLeft" t="textAreaTop" r="textAreaRight" b="textAreaBottom"/>
            <a:pathLst>
              <a:path w="92" h="23">
                <a:moveTo>
                  <a:pt x="92" y="15"/>
                </a:moveTo>
                <a:lnTo>
                  <a:pt x="91" y="15"/>
                </a:lnTo>
                <a:lnTo>
                  <a:pt x="90" y="15"/>
                </a:lnTo>
                <a:lnTo>
                  <a:pt x="89" y="15"/>
                </a:lnTo>
                <a:lnTo>
                  <a:pt x="89" y="14"/>
                </a:lnTo>
                <a:lnTo>
                  <a:pt x="86" y="14"/>
                </a:lnTo>
                <a:lnTo>
                  <a:pt x="75" y="12"/>
                </a:lnTo>
                <a:lnTo>
                  <a:pt x="33" y="6"/>
                </a:lnTo>
                <a:lnTo>
                  <a:pt x="2" y="1"/>
                </a:lnTo>
                <a:lnTo>
                  <a:pt x="1" y="0"/>
                </a:lnTo>
                <a:lnTo>
                  <a:pt x="0" y="3"/>
                </a:lnTo>
                <a:lnTo>
                  <a:pt x="0" y="7"/>
                </a:lnTo>
                <a:lnTo>
                  <a:pt x="0" y="10"/>
                </a:lnTo>
                <a:lnTo>
                  <a:pt x="12" y="13"/>
                </a:lnTo>
                <a:lnTo>
                  <a:pt x="54" y="19"/>
                </a:lnTo>
                <a:lnTo>
                  <a:pt x="85" y="23"/>
                </a:lnTo>
                <a:lnTo>
                  <a:pt x="88" y="23"/>
                </a:lnTo>
                <a:lnTo>
                  <a:pt x="86" y="23"/>
                </a:lnTo>
                <a:lnTo>
                  <a:pt x="85" y="23"/>
                </a:lnTo>
                <a:lnTo>
                  <a:pt x="84" y="23"/>
                </a:lnTo>
                <a:lnTo>
                  <a:pt x="84" y="22"/>
                </a:lnTo>
                <a:lnTo>
                  <a:pt x="92" y="15"/>
                </a:lnTo>
                <a:close/>
              </a:path>
            </a:pathLst>
          </a:custGeom>
          <a:solidFill>
            <a:srgbClr val="1f1a17"/>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 name="Freeform 36"/>
          <p:cNvSpPr/>
          <p:nvPr/>
        </p:nvSpPr>
        <p:spPr>
          <a:xfrm>
            <a:off x="4084560" y="4116240"/>
            <a:ext cx="87480" cy="52560"/>
          </a:xfrm>
          <a:custGeom>
            <a:avLst/>
            <a:gdLst>
              <a:gd name="textAreaLeft" fmla="*/ 0 w 87480"/>
              <a:gd name="textAreaRight" fmla="*/ 87840 w 87480"/>
              <a:gd name="textAreaTop" fmla="*/ 0 h 52560"/>
              <a:gd name="textAreaBottom" fmla="*/ 52920 h 52560"/>
            </a:gdLst>
            <a:ahLst/>
            <a:rect l="textAreaLeft" t="textAreaTop" r="textAreaRight" b="textAreaBottom"/>
            <a:pathLst>
              <a:path w="111" h="67">
                <a:moveTo>
                  <a:pt x="109" y="58"/>
                </a:moveTo>
                <a:lnTo>
                  <a:pt x="110" y="58"/>
                </a:lnTo>
                <a:lnTo>
                  <a:pt x="111" y="58"/>
                </a:lnTo>
                <a:lnTo>
                  <a:pt x="110" y="58"/>
                </a:lnTo>
                <a:lnTo>
                  <a:pt x="107" y="58"/>
                </a:lnTo>
                <a:lnTo>
                  <a:pt x="104" y="58"/>
                </a:lnTo>
                <a:lnTo>
                  <a:pt x="104" y="57"/>
                </a:lnTo>
                <a:lnTo>
                  <a:pt x="103" y="57"/>
                </a:lnTo>
                <a:lnTo>
                  <a:pt x="100" y="57"/>
                </a:lnTo>
                <a:lnTo>
                  <a:pt x="99" y="57"/>
                </a:lnTo>
                <a:lnTo>
                  <a:pt x="99" y="56"/>
                </a:lnTo>
                <a:lnTo>
                  <a:pt x="96" y="55"/>
                </a:lnTo>
                <a:lnTo>
                  <a:pt x="95" y="54"/>
                </a:lnTo>
                <a:lnTo>
                  <a:pt x="94" y="54"/>
                </a:lnTo>
                <a:lnTo>
                  <a:pt x="90" y="54"/>
                </a:lnTo>
                <a:lnTo>
                  <a:pt x="89" y="54"/>
                </a:lnTo>
                <a:lnTo>
                  <a:pt x="89" y="53"/>
                </a:lnTo>
                <a:lnTo>
                  <a:pt x="88" y="53"/>
                </a:lnTo>
                <a:lnTo>
                  <a:pt x="86" y="53"/>
                </a:lnTo>
                <a:lnTo>
                  <a:pt x="85" y="53"/>
                </a:lnTo>
                <a:lnTo>
                  <a:pt x="85" y="52"/>
                </a:lnTo>
                <a:lnTo>
                  <a:pt x="84" y="52"/>
                </a:lnTo>
                <a:lnTo>
                  <a:pt x="82" y="52"/>
                </a:lnTo>
                <a:lnTo>
                  <a:pt x="81" y="52"/>
                </a:lnTo>
                <a:lnTo>
                  <a:pt x="81" y="51"/>
                </a:lnTo>
                <a:lnTo>
                  <a:pt x="79" y="50"/>
                </a:lnTo>
                <a:lnTo>
                  <a:pt x="78" y="49"/>
                </a:lnTo>
                <a:lnTo>
                  <a:pt x="76" y="49"/>
                </a:lnTo>
                <a:lnTo>
                  <a:pt x="75" y="49"/>
                </a:lnTo>
                <a:lnTo>
                  <a:pt x="74" y="49"/>
                </a:lnTo>
                <a:lnTo>
                  <a:pt x="74" y="48"/>
                </a:lnTo>
                <a:lnTo>
                  <a:pt x="73" y="48"/>
                </a:lnTo>
                <a:lnTo>
                  <a:pt x="71" y="48"/>
                </a:lnTo>
                <a:lnTo>
                  <a:pt x="70" y="48"/>
                </a:lnTo>
                <a:lnTo>
                  <a:pt x="70" y="47"/>
                </a:lnTo>
                <a:lnTo>
                  <a:pt x="69" y="47"/>
                </a:lnTo>
                <a:lnTo>
                  <a:pt x="68" y="47"/>
                </a:lnTo>
                <a:lnTo>
                  <a:pt x="67" y="47"/>
                </a:lnTo>
                <a:lnTo>
                  <a:pt x="67" y="46"/>
                </a:lnTo>
                <a:lnTo>
                  <a:pt x="65" y="45"/>
                </a:lnTo>
                <a:lnTo>
                  <a:pt x="64" y="44"/>
                </a:lnTo>
                <a:lnTo>
                  <a:pt x="61" y="43"/>
                </a:lnTo>
                <a:lnTo>
                  <a:pt x="60" y="43"/>
                </a:lnTo>
                <a:lnTo>
                  <a:pt x="59" y="43"/>
                </a:lnTo>
                <a:lnTo>
                  <a:pt x="58" y="43"/>
                </a:lnTo>
                <a:lnTo>
                  <a:pt x="58" y="42"/>
                </a:lnTo>
                <a:lnTo>
                  <a:pt x="56" y="40"/>
                </a:lnTo>
                <a:lnTo>
                  <a:pt x="56" y="39"/>
                </a:lnTo>
                <a:lnTo>
                  <a:pt x="55" y="39"/>
                </a:lnTo>
                <a:lnTo>
                  <a:pt x="54" y="39"/>
                </a:lnTo>
                <a:lnTo>
                  <a:pt x="53" y="39"/>
                </a:lnTo>
                <a:lnTo>
                  <a:pt x="53" y="38"/>
                </a:lnTo>
                <a:lnTo>
                  <a:pt x="51" y="37"/>
                </a:lnTo>
                <a:lnTo>
                  <a:pt x="51" y="36"/>
                </a:lnTo>
                <a:lnTo>
                  <a:pt x="49" y="35"/>
                </a:lnTo>
                <a:lnTo>
                  <a:pt x="46" y="34"/>
                </a:lnTo>
                <a:lnTo>
                  <a:pt x="46" y="33"/>
                </a:lnTo>
                <a:lnTo>
                  <a:pt x="44" y="32"/>
                </a:lnTo>
                <a:lnTo>
                  <a:pt x="44" y="31"/>
                </a:lnTo>
                <a:lnTo>
                  <a:pt x="43" y="31"/>
                </a:lnTo>
                <a:lnTo>
                  <a:pt x="42" y="31"/>
                </a:lnTo>
                <a:lnTo>
                  <a:pt x="41" y="31"/>
                </a:lnTo>
                <a:lnTo>
                  <a:pt x="41" y="30"/>
                </a:lnTo>
                <a:lnTo>
                  <a:pt x="39" y="29"/>
                </a:lnTo>
                <a:lnTo>
                  <a:pt x="39" y="28"/>
                </a:lnTo>
                <a:lnTo>
                  <a:pt x="37" y="27"/>
                </a:lnTo>
                <a:lnTo>
                  <a:pt x="37" y="26"/>
                </a:lnTo>
                <a:lnTo>
                  <a:pt x="35" y="25"/>
                </a:lnTo>
                <a:lnTo>
                  <a:pt x="35" y="24"/>
                </a:lnTo>
                <a:lnTo>
                  <a:pt x="33" y="23"/>
                </a:lnTo>
                <a:lnTo>
                  <a:pt x="31" y="22"/>
                </a:lnTo>
                <a:lnTo>
                  <a:pt x="29" y="20"/>
                </a:lnTo>
                <a:lnTo>
                  <a:pt x="29" y="19"/>
                </a:lnTo>
                <a:lnTo>
                  <a:pt x="27" y="18"/>
                </a:lnTo>
                <a:lnTo>
                  <a:pt x="26" y="17"/>
                </a:lnTo>
                <a:lnTo>
                  <a:pt x="24" y="16"/>
                </a:lnTo>
                <a:lnTo>
                  <a:pt x="24" y="15"/>
                </a:lnTo>
                <a:lnTo>
                  <a:pt x="22" y="14"/>
                </a:lnTo>
                <a:lnTo>
                  <a:pt x="21" y="13"/>
                </a:lnTo>
                <a:lnTo>
                  <a:pt x="21" y="12"/>
                </a:lnTo>
                <a:lnTo>
                  <a:pt x="19" y="11"/>
                </a:lnTo>
                <a:lnTo>
                  <a:pt x="18" y="10"/>
                </a:lnTo>
                <a:lnTo>
                  <a:pt x="18" y="9"/>
                </a:lnTo>
                <a:lnTo>
                  <a:pt x="15" y="8"/>
                </a:lnTo>
                <a:lnTo>
                  <a:pt x="14" y="7"/>
                </a:lnTo>
                <a:lnTo>
                  <a:pt x="14" y="6"/>
                </a:lnTo>
                <a:lnTo>
                  <a:pt x="12" y="5"/>
                </a:lnTo>
                <a:lnTo>
                  <a:pt x="11" y="4"/>
                </a:lnTo>
                <a:lnTo>
                  <a:pt x="11" y="3"/>
                </a:lnTo>
                <a:lnTo>
                  <a:pt x="9" y="2"/>
                </a:lnTo>
                <a:lnTo>
                  <a:pt x="8" y="1"/>
                </a:lnTo>
                <a:lnTo>
                  <a:pt x="8" y="0"/>
                </a:lnTo>
                <a:lnTo>
                  <a:pt x="7" y="1"/>
                </a:lnTo>
                <a:lnTo>
                  <a:pt x="6" y="2"/>
                </a:lnTo>
                <a:lnTo>
                  <a:pt x="2" y="5"/>
                </a:lnTo>
                <a:lnTo>
                  <a:pt x="0" y="7"/>
                </a:lnTo>
                <a:lnTo>
                  <a:pt x="2" y="9"/>
                </a:lnTo>
                <a:lnTo>
                  <a:pt x="4" y="10"/>
                </a:lnTo>
                <a:lnTo>
                  <a:pt x="5" y="10"/>
                </a:lnTo>
                <a:lnTo>
                  <a:pt x="6" y="12"/>
                </a:lnTo>
                <a:lnTo>
                  <a:pt x="7" y="13"/>
                </a:lnTo>
                <a:lnTo>
                  <a:pt x="8" y="13"/>
                </a:lnTo>
                <a:lnTo>
                  <a:pt x="9" y="15"/>
                </a:lnTo>
                <a:lnTo>
                  <a:pt x="10" y="16"/>
                </a:lnTo>
                <a:lnTo>
                  <a:pt x="11" y="16"/>
                </a:lnTo>
                <a:lnTo>
                  <a:pt x="13" y="18"/>
                </a:lnTo>
                <a:lnTo>
                  <a:pt x="14" y="18"/>
                </a:lnTo>
                <a:lnTo>
                  <a:pt x="15" y="20"/>
                </a:lnTo>
                <a:lnTo>
                  <a:pt x="16" y="21"/>
                </a:lnTo>
                <a:lnTo>
                  <a:pt x="18" y="21"/>
                </a:lnTo>
                <a:lnTo>
                  <a:pt x="19" y="23"/>
                </a:lnTo>
                <a:lnTo>
                  <a:pt x="20" y="24"/>
                </a:lnTo>
                <a:lnTo>
                  <a:pt x="22" y="26"/>
                </a:lnTo>
                <a:lnTo>
                  <a:pt x="23" y="26"/>
                </a:lnTo>
                <a:lnTo>
                  <a:pt x="24" y="28"/>
                </a:lnTo>
                <a:lnTo>
                  <a:pt x="25" y="28"/>
                </a:lnTo>
                <a:lnTo>
                  <a:pt x="27" y="30"/>
                </a:lnTo>
                <a:lnTo>
                  <a:pt x="28" y="30"/>
                </a:lnTo>
                <a:lnTo>
                  <a:pt x="29" y="32"/>
                </a:lnTo>
                <a:lnTo>
                  <a:pt x="30" y="33"/>
                </a:lnTo>
                <a:lnTo>
                  <a:pt x="31" y="35"/>
                </a:lnTo>
                <a:lnTo>
                  <a:pt x="33" y="35"/>
                </a:lnTo>
                <a:lnTo>
                  <a:pt x="35" y="37"/>
                </a:lnTo>
                <a:lnTo>
                  <a:pt x="36" y="37"/>
                </a:lnTo>
                <a:lnTo>
                  <a:pt x="37" y="38"/>
                </a:lnTo>
                <a:lnTo>
                  <a:pt x="38" y="38"/>
                </a:lnTo>
                <a:lnTo>
                  <a:pt x="39" y="40"/>
                </a:lnTo>
                <a:lnTo>
                  <a:pt x="40" y="40"/>
                </a:lnTo>
                <a:lnTo>
                  <a:pt x="42" y="43"/>
                </a:lnTo>
                <a:lnTo>
                  <a:pt x="43" y="43"/>
                </a:lnTo>
                <a:lnTo>
                  <a:pt x="44" y="45"/>
                </a:lnTo>
                <a:lnTo>
                  <a:pt x="45" y="45"/>
                </a:lnTo>
                <a:lnTo>
                  <a:pt x="48" y="46"/>
                </a:lnTo>
                <a:lnTo>
                  <a:pt x="49" y="46"/>
                </a:lnTo>
                <a:lnTo>
                  <a:pt x="50" y="48"/>
                </a:lnTo>
                <a:lnTo>
                  <a:pt x="51" y="48"/>
                </a:lnTo>
                <a:lnTo>
                  <a:pt x="53" y="49"/>
                </a:lnTo>
                <a:lnTo>
                  <a:pt x="54" y="49"/>
                </a:lnTo>
                <a:lnTo>
                  <a:pt x="56" y="51"/>
                </a:lnTo>
                <a:lnTo>
                  <a:pt x="57" y="51"/>
                </a:lnTo>
                <a:lnTo>
                  <a:pt x="59" y="52"/>
                </a:lnTo>
                <a:lnTo>
                  <a:pt x="60" y="52"/>
                </a:lnTo>
                <a:lnTo>
                  <a:pt x="63" y="54"/>
                </a:lnTo>
                <a:lnTo>
                  <a:pt x="64" y="54"/>
                </a:lnTo>
                <a:lnTo>
                  <a:pt x="66" y="55"/>
                </a:lnTo>
                <a:lnTo>
                  <a:pt x="67" y="55"/>
                </a:lnTo>
                <a:lnTo>
                  <a:pt x="69" y="57"/>
                </a:lnTo>
                <a:lnTo>
                  <a:pt x="70" y="57"/>
                </a:lnTo>
                <a:lnTo>
                  <a:pt x="72" y="58"/>
                </a:lnTo>
                <a:lnTo>
                  <a:pt x="73" y="58"/>
                </a:lnTo>
                <a:lnTo>
                  <a:pt x="74" y="58"/>
                </a:lnTo>
                <a:lnTo>
                  <a:pt x="76" y="59"/>
                </a:lnTo>
                <a:lnTo>
                  <a:pt x="78" y="59"/>
                </a:lnTo>
                <a:lnTo>
                  <a:pt x="79" y="59"/>
                </a:lnTo>
                <a:lnTo>
                  <a:pt x="81" y="60"/>
                </a:lnTo>
                <a:lnTo>
                  <a:pt x="82" y="60"/>
                </a:lnTo>
                <a:lnTo>
                  <a:pt x="83" y="60"/>
                </a:lnTo>
                <a:lnTo>
                  <a:pt x="85" y="62"/>
                </a:lnTo>
                <a:lnTo>
                  <a:pt x="87" y="62"/>
                </a:lnTo>
                <a:lnTo>
                  <a:pt x="89" y="63"/>
                </a:lnTo>
                <a:lnTo>
                  <a:pt x="90" y="63"/>
                </a:lnTo>
                <a:lnTo>
                  <a:pt x="92" y="63"/>
                </a:lnTo>
                <a:lnTo>
                  <a:pt x="95" y="64"/>
                </a:lnTo>
                <a:lnTo>
                  <a:pt x="96" y="64"/>
                </a:lnTo>
                <a:lnTo>
                  <a:pt x="97" y="64"/>
                </a:lnTo>
                <a:lnTo>
                  <a:pt x="100" y="66"/>
                </a:lnTo>
                <a:lnTo>
                  <a:pt x="101" y="66"/>
                </a:lnTo>
                <a:lnTo>
                  <a:pt x="102" y="66"/>
                </a:lnTo>
                <a:lnTo>
                  <a:pt x="105" y="67"/>
                </a:lnTo>
                <a:lnTo>
                  <a:pt x="107" y="67"/>
                </a:lnTo>
                <a:lnTo>
                  <a:pt x="108" y="67"/>
                </a:lnTo>
                <a:lnTo>
                  <a:pt x="109" y="67"/>
                </a:lnTo>
                <a:lnTo>
                  <a:pt x="110" y="67"/>
                </a:lnTo>
                <a:lnTo>
                  <a:pt x="109" y="58"/>
                </a:lnTo>
                <a:close/>
              </a:path>
            </a:pathLst>
          </a:custGeom>
          <a:solidFill>
            <a:srgbClr val="1f1a17"/>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8" name="Freeform 37"/>
          <p:cNvSpPr/>
          <p:nvPr/>
        </p:nvSpPr>
        <p:spPr>
          <a:xfrm>
            <a:off x="4170240" y="4149720"/>
            <a:ext cx="77760" cy="19080"/>
          </a:xfrm>
          <a:custGeom>
            <a:avLst/>
            <a:gdLst>
              <a:gd name="textAreaLeft" fmla="*/ 0 w 77760"/>
              <a:gd name="textAreaRight" fmla="*/ 78120 w 77760"/>
              <a:gd name="textAreaTop" fmla="*/ 0 h 19080"/>
              <a:gd name="textAreaBottom" fmla="*/ 19440 h 19080"/>
            </a:gdLst>
            <a:ahLst/>
            <a:rect l="textAreaLeft" t="textAreaTop" r="textAreaRight" b="textAreaBottom"/>
            <a:pathLst>
              <a:path w="96" h="25">
                <a:moveTo>
                  <a:pt x="96" y="1"/>
                </a:moveTo>
                <a:lnTo>
                  <a:pt x="95" y="1"/>
                </a:lnTo>
                <a:lnTo>
                  <a:pt x="94" y="1"/>
                </a:lnTo>
                <a:lnTo>
                  <a:pt x="93" y="1"/>
                </a:lnTo>
                <a:lnTo>
                  <a:pt x="93" y="0"/>
                </a:lnTo>
                <a:lnTo>
                  <a:pt x="91" y="1"/>
                </a:lnTo>
                <a:lnTo>
                  <a:pt x="78" y="3"/>
                </a:lnTo>
                <a:lnTo>
                  <a:pt x="34" y="10"/>
                </a:lnTo>
                <a:lnTo>
                  <a:pt x="1" y="16"/>
                </a:lnTo>
                <a:lnTo>
                  <a:pt x="0" y="16"/>
                </a:lnTo>
                <a:lnTo>
                  <a:pt x="0" y="17"/>
                </a:lnTo>
                <a:lnTo>
                  <a:pt x="0" y="18"/>
                </a:lnTo>
                <a:lnTo>
                  <a:pt x="0" y="22"/>
                </a:lnTo>
                <a:lnTo>
                  <a:pt x="0" y="25"/>
                </a:lnTo>
                <a:lnTo>
                  <a:pt x="1" y="25"/>
                </a:lnTo>
                <a:lnTo>
                  <a:pt x="2" y="25"/>
                </a:lnTo>
                <a:lnTo>
                  <a:pt x="15" y="23"/>
                </a:lnTo>
                <a:lnTo>
                  <a:pt x="59" y="16"/>
                </a:lnTo>
                <a:lnTo>
                  <a:pt x="92" y="10"/>
                </a:lnTo>
                <a:lnTo>
                  <a:pt x="94" y="9"/>
                </a:lnTo>
                <a:lnTo>
                  <a:pt x="93" y="9"/>
                </a:lnTo>
                <a:lnTo>
                  <a:pt x="92" y="9"/>
                </a:lnTo>
                <a:lnTo>
                  <a:pt x="91" y="9"/>
                </a:lnTo>
                <a:lnTo>
                  <a:pt x="91" y="8"/>
                </a:lnTo>
                <a:lnTo>
                  <a:pt x="96" y="1"/>
                </a:lnTo>
                <a:close/>
              </a:path>
            </a:pathLst>
          </a:custGeom>
          <a:solidFill>
            <a:srgbClr val="1f1a17"/>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9" name="Freeform 38"/>
          <p:cNvSpPr/>
          <p:nvPr/>
        </p:nvSpPr>
        <p:spPr>
          <a:xfrm>
            <a:off x="4243320" y="4149720"/>
            <a:ext cx="77760" cy="49320"/>
          </a:xfrm>
          <a:custGeom>
            <a:avLst/>
            <a:gdLst>
              <a:gd name="textAreaLeft" fmla="*/ 0 w 77760"/>
              <a:gd name="textAreaRight" fmla="*/ 78120 w 77760"/>
              <a:gd name="textAreaTop" fmla="*/ 0 h 49320"/>
              <a:gd name="textAreaBottom" fmla="*/ 49680 h 49320"/>
            </a:gdLst>
            <a:ahLst/>
            <a:rect l="textAreaLeft" t="textAreaTop" r="textAreaRight" b="textAreaBottom"/>
            <a:pathLst>
              <a:path w="97" h="62">
                <a:moveTo>
                  <a:pt x="90" y="52"/>
                </a:moveTo>
                <a:lnTo>
                  <a:pt x="93" y="52"/>
                </a:lnTo>
                <a:lnTo>
                  <a:pt x="95" y="52"/>
                </a:lnTo>
                <a:lnTo>
                  <a:pt x="96" y="52"/>
                </a:lnTo>
                <a:lnTo>
                  <a:pt x="94" y="51"/>
                </a:lnTo>
                <a:lnTo>
                  <a:pt x="81" y="44"/>
                </a:lnTo>
                <a:lnTo>
                  <a:pt x="38" y="20"/>
                </a:lnTo>
                <a:lnTo>
                  <a:pt x="6" y="2"/>
                </a:lnTo>
                <a:lnTo>
                  <a:pt x="5" y="0"/>
                </a:lnTo>
                <a:lnTo>
                  <a:pt x="4" y="1"/>
                </a:lnTo>
                <a:lnTo>
                  <a:pt x="1" y="5"/>
                </a:lnTo>
                <a:lnTo>
                  <a:pt x="0" y="7"/>
                </a:lnTo>
                <a:lnTo>
                  <a:pt x="14" y="16"/>
                </a:lnTo>
                <a:lnTo>
                  <a:pt x="57" y="40"/>
                </a:lnTo>
                <a:lnTo>
                  <a:pt x="89" y="59"/>
                </a:lnTo>
                <a:lnTo>
                  <a:pt x="91" y="60"/>
                </a:lnTo>
                <a:lnTo>
                  <a:pt x="94" y="60"/>
                </a:lnTo>
                <a:lnTo>
                  <a:pt x="96" y="60"/>
                </a:lnTo>
                <a:lnTo>
                  <a:pt x="97" y="60"/>
                </a:lnTo>
                <a:lnTo>
                  <a:pt x="96" y="60"/>
                </a:lnTo>
                <a:lnTo>
                  <a:pt x="93" y="60"/>
                </a:lnTo>
                <a:lnTo>
                  <a:pt x="91" y="60"/>
                </a:lnTo>
                <a:lnTo>
                  <a:pt x="93" y="62"/>
                </a:lnTo>
                <a:lnTo>
                  <a:pt x="94" y="62"/>
                </a:lnTo>
                <a:lnTo>
                  <a:pt x="95" y="61"/>
                </a:lnTo>
                <a:lnTo>
                  <a:pt x="97" y="60"/>
                </a:lnTo>
                <a:lnTo>
                  <a:pt x="90" y="52"/>
                </a:lnTo>
                <a:close/>
              </a:path>
            </a:pathLst>
          </a:custGeom>
          <a:solidFill>
            <a:srgbClr val="1f1a17"/>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00" name="Freeform 39"/>
          <p:cNvSpPr/>
          <p:nvPr/>
        </p:nvSpPr>
        <p:spPr>
          <a:xfrm>
            <a:off x="4314960" y="4154400"/>
            <a:ext cx="48960" cy="42840"/>
          </a:xfrm>
          <a:custGeom>
            <a:avLst/>
            <a:gdLst>
              <a:gd name="textAreaLeft" fmla="*/ 0 w 48960"/>
              <a:gd name="textAreaRight" fmla="*/ 49320 w 48960"/>
              <a:gd name="textAreaTop" fmla="*/ 0 h 42840"/>
              <a:gd name="textAreaBottom" fmla="*/ 42840 h 42840"/>
            </a:gdLst>
            <a:ahLst/>
            <a:rect l="textAreaLeft" t="textAreaTop" r="textAreaRight" b="textAreaBottom"/>
            <a:pathLst>
              <a:path w="62" h="55">
                <a:moveTo>
                  <a:pt x="58" y="0"/>
                </a:moveTo>
                <a:lnTo>
                  <a:pt x="56" y="1"/>
                </a:lnTo>
                <a:lnTo>
                  <a:pt x="55" y="1"/>
                </a:lnTo>
                <a:lnTo>
                  <a:pt x="52" y="2"/>
                </a:lnTo>
                <a:lnTo>
                  <a:pt x="46" y="9"/>
                </a:lnTo>
                <a:lnTo>
                  <a:pt x="20" y="30"/>
                </a:lnTo>
                <a:lnTo>
                  <a:pt x="1" y="47"/>
                </a:lnTo>
                <a:lnTo>
                  <a:pt x="0" y="47"/>
                </a:lnTo>
                <a:lnTo>
                  <a:pt x="1" y="50"/>
                </a:lnTo>
                <a:lnTo>
                  <a:pt x="4" y="53"/>
                </a:lnTo>
                <a:lnTo>
                  <a:pt x="6" y="55"/>
                </a:lnTo>
                <a:lnTo>
                  <a:pt x="7" y="55"/>
                </a:lnTo>
                <a:lnTo>
                  <a:pt x="15" y="47"/>
                </a:lnTo>
                <a:lnTo>
                  <a:pt x="41" y="26"/>
                </a:lnTo>
                <a:lnTo>
                  <a:pt x="60" y="9"/>
                </a:lnTo>
                <a:lnTo>
                  <a:pt x="62" y="8"/>
                </a:lnTo>
                <a:lnTo>
                  <a:pt x="60" y="9"/>
                </a:lnTo>
                <a:lnTo>
                  <a:pt x="59" y="9"/>
                </a:lnTo>
                <a:lnTo>
                  <a:pt x="58"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 name="Freeform 40"/>
          <p:cNvSpPr/>
          <p:nvPr/>
        </p:nvSpPr>
        <p:spPr>
          <a:xfrm>
            <a:off x="4361040" y="4146480"/>
            <a:ext cx="74520" cy="14400"/>
          </a:xfrm>
          <a:custGeom>
            <a:avLst/>
            <a:gdLst>
              <a:gd name="textAreaLeft" fmla="*/ 0 w 74520"/>
              <a:gd name="textAreaRight" fmla="*/ 74880 w 74520"/>
              <a:gd name="textAreaTop" fmla="*/ 0 h 14400"/>
              <a:gd name="textAreaBottom" fmla="*/ 14760 h 14400"/>
            </a:gdLst>
            <a:ahLst/>
            <a:rect l="textAreaLeft" t="textAreaTop" r="textAreaRight" b="textAreaBottom"/>
            <a:pathLst>
              <a:path w="94" h="20">
                <a:moveTo>
                  <a:pt x="91" y="0"/>
                </a:moveTo>
                <a:lnTo>
                  <a:pt x="92" y="0"/>
                </a:lnTo>
                <a:lnTo>
                  <a:pt x="90" y="1"/>
                </a:lnTo>
                <a:lnTo>
                  <a:pt x="77" y="2"/>
                </a:lnTo>
                <a:lnTo>
                  <a:pt x="34" y="8"/>
                </a:lnTo>
                <a:lnTo>
                  <a:pt x="1" y="11"/>
                </a:lnTo>
                <a:lnTo>
                  <a:pt x="0" y="11"/>
                </a:lnTo>
                <a:lnTo>
                  <a:pt x="0" y="12"/>
                </a:lnTo>
                <a:lnTo>
                  <a:pt x="0" y="13"/>
                </a:lnTo>
                <a:lnTo>
                  <a:pt x="0" y="17"/>
                </a:lnTo>
                <a:lnTo>
                  <a:pt x="0" y="20"/>
                </a:lnTo>
                <a:lnTo>
                  <a:pt x="1" y="20"/>
                </a:lnTo>
                <a:lnTo>
                  <a:pt x="2" y="20"/>
                </a:lnTo>
                <a:lnTo>
                  <a:pt x="15" y="19"/>
                </a:lnTo>
                <a:lnTo>
                  <a:pt x="58" y="14"/>
                </a:lnTo>
                <a:lnTo>
                  <a:pt x="91" y="11"/>
                </a:lnTo>
                <a:lnTo>
                  <a:pt x="93" y="10"/>
                </a:lnTo>
                <a:lnTo>
                  <a:pt x="94" y="10"/>
                </a:lnTo>
                <a:lnTo>
                  <a:pt x="91" y="0"/>
                </a:lnTo>
                <a:close/>
              </a:path>
            </a:pathLst>
          </a:custGeom>
          <a:solidFill>
            <a:srgbClr val="1f1a17"/>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02" name="Freeform 41"/>
          <p:cNvSpPr/>
          <p:nvPr/>
        </p:nvSpPr>
        <p:spPr>
          <a:xfrm>
            <a:off x="4432320" y="4137120"/>
            <a:ext cx="77760" cy="15840"/>
          </a:xfrm>
          <a:custGeom>
            <a:avLst/>
            <a:gdLst>
              <a:gd name="textAreaLeft" fmla="*/ 0 w 77760"/>
              <a:gd name="textAreaRight" fmla="*/ 78120 w 77760"/>
              <a:gd name="textAreaTop" fmla="*/ 0 h 15840"/>
              <a:gd name="textAreaBottom" fmla="*/ 16200 h 15840"/>
            </a:gdLst>
            <a:ahLst/>
            <a:rect l="textAreaLeft" t="textAreaTop" r="textAreaRight" b="textAreaBottom"/>
            <a:pathLst>
              <a:path w="96" h="21">
                <a:moveTo>
                  <a:pt x="96" y="8"/>
                </a:moveTo>
                <a:lnTo>
                  <a:pt x="96" y="9"/>
                </a:lnTo>
                <a:lnTo>
                  <a:pt x="94" y="8"/>
                </a:lnTo>
                <a:lnTo>
                  <a:pt x="94" y="7"/>
                </a:lnTo>
                <a:lnTo>
                  <a:pt x="92" y="6"/>
                </a:lnTo>
                <a:lnTo>
                  <a:pt x="92" y="5"/>
                </a:lnTo>
                <a:lnTo>
                  <a:pt x="90" y="4"/>
                </a:lnTo>
                <a:lnTo>
                  <a:pt x="88" y="3"/>
                </a:lnTo>
                <a:lnTo>
                  <a:pt x="86" y="2"/>
                </a:lnTo>
                <a:lnTo>
                  <a:pt x="84" y="1"/>
                </a:lnTo>
                <a:lnTo>
                  <a:pt x="83" y="1"/>
                </a:lnTo>
                <a:lnTo>
                  <a:pt x="81" y="1"/>
                </a:lnTo>
                <a:lnTo>
                  <a:pt x="80" y="1"/>
                </a:lnTo>
                <a:lnTo>
                  <a:pt x="78" y="0"/>
                </a:lnTo>
                <a:lnTo>
                  <a:pt x="77" y="0"/>
                </a:lnTo>
                <a:lnTo>
                  <a:pt x="76" y="0"/>
                </a:lnTo>
                <a:lnTo>
                  <a:pt x="75" y="0"/>
                </a:lnTo>
                <a:lnTo>
                  <a:pt x="74" y="0"/>
                </a:lnTo>
                <a:lnTo>
                  <a:pt x="73" y="0"/>
                </a:lnTo>
                <a:lnTo>
                  <a:pt x="72" y="0"/>
                </a:lnTo>
                <a:lnTo>
                  <a:pt x="71" y="0"/>
                </a:lnTo>
                <a:lnTo>
                  <a:pt x="70" y="0"/>
                </a:lnTo>
                <a:lnTo>
                  <a:pt x="69" y="0"/>
                </a:lnTo>
                <a:lnTo>
                  <a:pt x="68" y="0"/>
                </a:lnTo>
                <a:lnTo>
                  <a:pt x="66" y="0"/>
                </a:lnTo>
                <a:lnTo>
                  <a:pt x="65" y="0"/>
                </a:lnTo>
                <a:lnTo>
                  <a:pt x="64" y="0"/>
                </a:lnTo>
                <a:lnTo>
                  <a:pt x="63" y="0"/>
                </a:lnTo>
                <a:lnTo>
                  <a:pt x="62" y="0"/>
                </a:lnTo>
                <a:lnTo>
                  <a:pt x="61" y="0"/>
                </a:lnTo>
                <a:lnTo>
                  <a:pt x="60" y="0"/>
                </a:lnTo>
                <a:lnTo>
                  <a:pt x="59" y="0"/>
                </a:lnTo>
                <a:lnTo>
                  <a:pt x="58" y="0"/>
                </a:lnTo>
                <a:lnTo>
                  <a:pt x="57" y="0"/>
                </a:lnTo>
                <a:lnTo>
                  <a:pt x="56" y="0"/>
                </a:lnTo>
                <a:lnTo>
                  <a:pt x="55" y="0"/>
                </a:lnTo>
                <a:lnTo>
                  <a:pt x="54" y="0"/>
                </a:lnTo>
                <a:lnTo>
                  <a:pt x="51" y="1"/>
                </a:lnTo>
                <a:lnTo>
                  <a:pt x="50" y="1"/>
                </a:lnTo>
                <a:lnTo>
                  <a:pt x="49" y="1"/>
                </a:lnTo>
                <a:lnTo>
                  <a:pt x="48" y="1"/>
                </a:lnTo>
                <a:lnTo>
                  <a:pt x="47" y="1"/>
                </a:lnTo>
                <a:lnTo>
                  <a:pt x="45" y="2"/>
                </a:lnTo>
                <a:lnTo>
                  <a:pt x="44" y="2"/>
                </a:lnTo>
                <a:lnTo>
                  <a:pt x="43" y="2"/>
                </a:lnTo>
                <a:lnTo>
                  <a:pt x="42" y="2"/>
                </a:lnTo>
                <a:lnTo>
                  <a:pt x="41" y="2"/>
                </a:lnTo>
                <a:lnTo>
                  <a:pt x="39" y="3"/>
                </a:lnTo>
                <a:lnTo>
                  <a:pt x="37" y="3"/>
                </a:lnTo>
                <a:lnTo>
                  <a:pt x="34" y="4"/>
                </a:lnTo>
                <a:lnTo>
                  <a:pt x="33" y="4"/>
                </a:lnTo>
                <a:lnTo>
                  <a:pt x="32" y="4"/>
                </a:lnTo>
                <a:lnTo>
                  <a:pt x="31" y="4"/>
                </a:lnTo>
                <a:lnTo>
                  <a:pt x="30" y="4"/>
                </a:lnTo>
                <a:lnTo>
                  <a:pt x="28" y="5"/>
                </a:lnTo>
                <a:lnTo>
                  <a:pt x="27" y="5"/>
                </a:lnTo>
                <a:lnTo>
                  <a:pt x="25" y="6"/>
                </a:lnTo>
                <a:lnTo>
                  <a:pt x="24" y="6"/>
                </a:lnTo>
                <a:lnTo>
                  <a:pt x="21" y="7"/>
                </a:lnTo>
                <a:lnTo>
                  <a:pt x="20" y="7"/>
                </a:lnTo>
                <a:lnTo>
                  <a:pt x="19" y="7"/>
                </a:lnTo>
                <a:lnTo>
                  <a:pt x="18" y="7"/>
                </a:lnTo>
                <a:lnTo>
                  <a:pt x="17" y="7"/>
                </a:lnTo>
                <a:lnTo>
                  <a:pt x="14" y="8"/>
                </a:lnTo>
                <a:lnTo>
                  <a:pt x="13" y="8"/>
                </a:lnTo>
                <a:lnTo>
                  <a:pt x="11" y="9"/>
                </a:lnTo>
                <a:lnTo>
                  <a:pt x="10" y="9"/>
                </a:lnTo>
                <a:lnTo>
                  <a:pt x="7" y="10"/>
                </a:lnTo>
                <a:lnTo>
                  <a:pt x="6" y="10"/>
                </a:lnTo>
                <a:lnTo>
                  <a:pt x="5" y="10"/>
                </a:lnTo>
                <a:lnTo>
                  <a:pt x="4" y="10"/>
                </a:lnTo>
                <a:lnTo>
                  <a:pt x="3" y="10"/>
                </a:lnTo>
                <a:lnTo>
                  <a:pt x="1" y="11"/>
                </a:lnTo>
                <a:lnTo>
                  <a:pt x="0" y="11"/>
                </a:lnTo>
                <a:lnTo>
                  <a:pt x="0" y="12"/>
                </a:lnTo>
                <a:lnTo>
                  <a:pt x="0" y="13"/>
                </a:lnTo>
                <a:lnTo>
                  <a:pt x="1" y="18"/>
                </a:lnTo>
                <a:lnTo>
                  <a:pt x="2" y="21"/>
                </a:lnTo>
                <a:lnTo>
                  <a:pt x="3" y="21"/>
                </a:lnTo>
                <a:lnTo>
                  <a:pt x="4" y="21"/>
                </a:lnTo>
                <a:lnTo>
                  <a:pt x="5" y="21"/>
                </a:lnTo>
                <a:lnTo>
                  <a:pt x="6" y="20"/>
                </a:lnTo>
                <a:lnTo>
                  <a:pt x="7" y="20"/>
                </a:lnTo>
                <a:lnTo>
                  <a:pt x="9" y="20"/>
                </a:lnTo>
                <a:lnTo>
                  <a:pt x="10" y="19"/>
                </a:lnTo>
                <a:lnTo>
                  <a:pt x="11" y="19"/>
                </a:lnTo>
                <a:lnTo>
                  <a:pt x="12" y="19"/>
                </a:lnTo>
                <a:lnTo>
                  <a:pt x="13" y="19"/>
                </a:lnTo>
                <a:lnTo>
                  <a:pt x="14" y="19"/>
                </a:lnTo>
                <a:lnTo>
                  <a:pt x="15" y="19"/>
                </a:lnTo>
                <a:lnTo>
                  <a:pt x="16" y="18"/>
                </a:lnTo>
                <a:lnTo>
                  <a:pt x="17" y="18"/>
                </a:lnTo>
                <a:lnTo>
                  <a:pt x="18" y="18"/>
                </a:lnTo>
                <a:lnTo>
                  <a:pt x="19" y="17"/>
                </a:lnTo>
                <a:lnTo>
                  <a:pt x="20" y="17"/>
                </a:lnTo>
                <a:lnTo>
                  <a:pt x="21" y="17"/>
                </a:lnTo>
                <a:lnTo>
                  <a:pt x="22" y="16"/>
                </a:lnTo>
                <a:lnTo>
                  <a:pt x="24" y="16"/>
                </a:lnTo>
                <a:lnTo>
                  <a:pt x="25" y="16"/>
                </a:lnTo>
                <a:lnTo>
                  <a:pt x="26" y="16"/>
                </a:lnTo>
                <a:lnTo>
                  <a:pt x="27" y="16"/>
                </a:lnTo>
                <a:lnTo>
                  <a:pt x="28" y="16"/>
                </a:lnTo>
                <a:lnTo>
                  <a:pt x="29" y="14"/>
                </a:lnTo>
                <a:lnTo>
                  <a:pt x="30" y="14"/>
                </a:lnTo>
                <a:lnTo>
                  <a:pt x="31" y="14"/>
                </a:lnTo>
                <a:lnTo>
                  <a:pt x="32" y="13"/>
                </a:lnTo>
                <a:lnTo>
                  <a:pt x="33" y="13"/>
                </a:lnTo>
                <a:lnTo>
                  <a:pt x="34" y="13"/>
                </a:lnTo>
                <a:lnTo>
                  <a:pt x="35" y="12"/>
                </a:lnTo>
                <a:lnTo>
                  <a:pt x="36" y="12"/>
                </a:lnTo>
                <a:lnTo>
                  <a:pt x="37" y="12"/>
                </a:lnTo>
                <a:lnTo>
                  <a:pt x="39" y="12"/>
                </a:lnTo>
                <a:lnTo>
                  <a:pt x="40" y="12"/>
                </a:lnTo>
                <a:lnTo>
                  <a:pt x="41" y="12"/>
                </a:lnTo>
                <a:lnTo>
                  <a:pt x="42" y="11"/>
                </a:lnTo>
                <a:lnTo>
                  <a:pt x="43" y="11"/>
                </a:lnTo>
                <a:lnTo>
                  <a:pt x="44" y="11"/>
                </a:lnTo>
                <a:lnTo>
                  <a:pt x="45" y="11"/>
                </a:lnTo>
                <a:lnTo>
                  <a:pt x="46" y="11"/>
                </a:lnTo>
                <a:lnTo>
                  <a:pt x="47" y="11"/>
                </a:lnTo>
                <a:lnTo>
                  <a:pt x="48" y="10"/>
                </a:lnTo>
                <a:lnTo>
                  <a:pt x="49" y="10"/>
                </a:lnTo>
                <a:lnTo>
                  <a:pt x="50" y="10"/>
                </a:lnTo>
                <a:lnTo>
                  <a:pt x="51" y="10"/>
                </a:lnTo>
                <a:lnTo>
                  <a:pt x="53" y="10"/>
                </a:lnTo>
                <a:lnTo>
                  <a:pt x="54" y="10"/>
                </a:lnTo>
                <a:lnTo>
                  <a:pt x="55" y="9"/>
                </a:lnTo>
                <a:lnTo>
                  <a:pt x="56" y="9"/>
                </a:lnTo>
                <a:lnTo>
                  <a:pt x="57" y="9"/>
                </a:lnTo>
                <a:lnTo>
                  <a:pt x="58" y="9"/>
                </a:lnTo>
                <a:lnTo>
                  <a:pt x="59" y="9"/>
                </a:lnTo>
                <a:lnTo>
                  <a:pt x="60" y="9"/>
                </a:lnTo>
                <a:lnTo>
                  <a:pt x="61" y="9"/>
                </a:lnTo>
                <a:lnTo>
                  <a:pt x="62" y="9"/>
                </a:lnTo>
                <a:lnTo>
                  <a:pt x="63" y="9"/>
                </a:lnTo>
                <a:lnTo>
                  <a:pt x="64" y="9"/>
                </a:lnTo>
                <a:lnTo>
                  <a:pt x="65" y="9"/>
                </a:lnTo>
                <a:lnTo>
                  <a:pt x="66" y="9"/>
                </a:lnTo>
                <a:lnTo>
                  <a:pt x="68" y="9"/>
                </a:lnTo>
                <a:lnTo>
                  <a:pt x="69" y="9"/>
                </a:lnTo>
                <a:lnTo>
                  <a:pt x="70" y="9"/>
                </a:lnTo>
                <a:lnTo>
                  <a:pt x="71" y="9"/>
                </a:lnTo>
                <a:lnTo>
                  <a:pt x="72" y="9"/>
                </a:lnTo>
                <a:lnTo>
                  <a:pt x="73" y="9"/>
                </a:lnTo>
                <a:lnTo>
                  <a:pt x="74" y="9"/>
                </a:lnTo>
                <a:lnTo>
                  <a:pt x="75" y="9"/>
                </a:lnTo>
                <a:lnTo>
                  <a:pt x="76" y="9"/>
                </a:lnTo>
                <a:lnTo>
                  <a:pt x="77" y="9"/>
                </a:lnTo>
                <a:lnTo>
                  <a:pt x="78" y="9"/>
                </a:lnTo>
                <a:lnTo>
                  <a:pt x="79" y="10"/>
                </a:lnTo>
                <a:lnTo>
                  <a:pt x="80" y="10"/>
                </a:lnTo>
                <a:lnTo>
                  <a:pt x="81" y="10"/>
                </a:lnTo>
                <a:lnTo>
                  <a:pt x="83" y="10"/>
                </a:lnTo>
                <a:lnTo>
                  <a:pt x="84" y="11"/>
                </a:lnTo>
                <a:lnTo>
                  <a:pt x="85" y="11"/>
                </a:lnTo>
                <a:lnTo>
                  <a:pt x="86" y="12"/>
                </a:lnTo>
                <a:lnTo>
                  <a:pt x="87" y="13"/>
                </a:lnTo>
                <a:lnTo>
                  <a:pt x="88" y="13"/>
                </a:lnTo>
                <a:lnTo>
                  <a:pt x="89" y="14"/>
                </a:lnTo>
                <a:lnTo>
                  <a:pt x="89" y="16"/>
                </a:lnTo>
                <a:lnTo>
                  <a:pt x="96" y="8"/>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3" name="Freeform 42"/>
          <p:cNvSpPr/>
          <p:nvPr/>
        </p:nvSpPr>
        <p:spPr>
          <a:xfrm>
            <a:off x="4487760" y="4143240"/>
            <a:ext cx="25560" cy="38160"/>
          </a:xfrm>
          <a:custGeom>
            <a:avLst/>
            <a:gdLst>
              <a:gd name="textAreaLeft" fmla="*/ 0 w 25560"/>
              <a:gd name="textAreaRight" fmla="*/ 25920 w 25560"/>
              <a:gd name="textAreaTop" fmla="*/ 0 h 38160"/>
              <a:gd name="textAreaBottom" fmla="*/ 38520 h 38160"/>
            </a:gdLst>
            <a:ahLst/>
            <a:rect l="textAreaLeft" t="textAreaTop" r="textAreaRight" b="textAreaBottom"/>
            <a:pathLst>
              <a:path w="31" h="47">
                <a:moveTo>
                  <a:pt x="6" y="38"/>
                </a:moveTo>
                <a:lnTo>
                  <a:pt x="6" y="38"/>
                </a:lnTo>
                <a:lnTo>
                  <a:pt x="7" y="39"/>
                </a:lnTo>
                <a:lnTo>
                  <a:pt x="8" y="39"/>
                </a:lnTo>
                <a:lnTo>
                  <a:pt x="9" y="41"/>
                </a:lnTo>
                <a:lnTo>
                  <a:pt x="9" y="42"/>
                </a:lnTo>
                <a:lnTo>
                  <a:pt x="9" y="43"/>
                </a:lnTo>
                <a:lnTo>
                  <a:pt x="9" y="42"/>
                </a:lnTo>
                <a:lnTo>
                  <a:pt x="10" y="41"/>
                </a:lnTo>
                <a:lnTo>
                  <a:pt x="11" y="41"/>
                </a:lnTo>
                <a:lnTo>
                  <a:pt x="13" y="40"/>
                </a:lnTo>
                <a:lnTo>
                  <a:pt x="14" y="38"/>
                </a:lnTo>
                <a:lnTo>
                  <a:pt x="15" y="37"/>
                </a:lnTo>
                <a:lnTo>
                  <a:pt x="16" y="36"/>
                </a:lnTo>
                <a:lnTo>
                  <a:pt x="17" y="35"/>
                </a:lnTo>
                <a:lnTo>
                  <a:pt x="18" y="33"/>
                </a:lnTo>
                <a:lnTo>
                  <a:pt x="20" y="32"/>
                </a:lnTo>
                <a:lnTo>
                  <a:pt x="21" y="30"/>
                </a:lnTo>
                <a:lnTo>
                  <a:pt x="22" y="29"/>
                </a:lnTo>
                <a:lnTo>
                  <a:pt x="23" y="28"/>
                </a:lnTo>
                <a:lnTo>
                  <a:pt x="24" y="27"/>
                </a:lnTo>
                <a:lnTo>
                  <a:pt x="25" y="25"/>
                </a:lnTo>
                <a:lnTo>
                  <a:pt x="26" y="23"/>
                </a:lnTo>
                <a:lnTo>
                  <a:pt x="28" y="22"/>
                </a:lnTo>
                <a:lnTo>
                  <a:pt x="29" y="20"/>
                </a:lnTo>
                <a:lnTo>
                  <a:pt x="30" y="18"/>
                </a:lnTo>
                <a:lnTo>
                  <a:pt x="30" y="17"/>
                </a:lnTo>
                <a:lnTo>
                  <a:pt x="30" y="16"/>
                </a:lnTo>
                <a:lnTo>
                  <a:pt x="31" y="14"/>
                </a:lnTo>
                <a:lnTo>
                  <a:pt x="31" y="13"/>
                </a:lnTo>
                <a:lnTo>
                  <a:pt x="31" y="12"/>
                </a:lnTo>
                <a:lnTo>
                  <a:pt x="31" y="11"/>
                </a:lnTo>
                <a:lnTo>
                  <a:pt x="31" y="10"/>
                </a:lnTo>
                <a:lnTo>
                  <a:pt x="30" y="8"/>
                </a:lnTo>
                <a:lnTo>
                  <a:pt x="30" y="6"/>
                </a:lnTo>
                <a:lnTo>
                  <a:pt x="29" y="5"/>
                </a:lnTo>
                <a:lnTo>
                  <a:pt x="29" y="4"/>
                </a:lnTo>
                <a:lnTo>
                  <a:pt x="28" y="3"/>
                </a:lnTo>
                <a:lnTo>
                  <a:pt x="28" y="2"/>
                </a:lnTo>
                <a:lnTo>
                  <a:pt x="26" y="1"/>
                </a:lnTo>
                <a:lnTo>
                  <a:pt x="26" y="0"/>
                </a:lnTo>
                <a:lnTo>
                  <a:pt x="25" y="1"/>
                </a:lnTo>
                <a:lnTo>
                  <a:pt x="24" y="2"/>
                </a:lnTo>
                <a:lnTo>
                  <a:pt x="21" y="5"/>
                </a:lnTo>
                <a:lnTo>
                  <a:pt x="19" y="8"/>
                </a:lnTo>
                <a:lnTo>
                  <a:pt x="20" y="8"/>
                </a:lnTo>
                <a:lnTo>
                  <a:pt x="20" y="9"/>
                </a:lnTo>
                <a:lnTo>
                  <a:pt x="21" y="10"/>
                </a:lnTo>
                <a:lnTo>
                  <a:pt x="21" y="11"/>
                </a:lnTo>
                <a:lnTo>
                  <a:pt x="21" y="12"/>
                </a:lnTo>
                <a:lnTo>
                  <a:pt x="21" y="13"/>
                </a:lnTo>
                <a:lnTo>
                  <a:pt x="20" y="14"/>
                </a:lnTo>
                <a:lnTo>
                  <a:pt x="20" y="15"/>
                </a:lnTo>
                <a:lnTo>
                  <a:pt x="20" y="16"/>
                </a:lnTo>
                <a:lnTo>
                  <a:pt x="19" y="17"/>
                </a:lnTo>
                <a:lnTo>
                  <a:pt x="18" y="18"/>
                </a:lnTo>
                <a:lnTo>
                  <a:pt x="18" y="19"/>
                </a:lnTo>
                <a:lnTo>
                  <a:pt x="17" y="20"/>
                </a:lnTo>
                <a:lnTo>
                  <a:pt x="16" y="21"/>
                </a:lnTo>
                <a:lnTo>
                  <a:pt x="16" y="22"/>
                </a:lnTo>
                <a:lnTo>
                  <a:pt x="15" y="23"/>
                </a:lnTo>
                <a:lnTo>
                  <a:pt x="14" y="24"/>
                </a:lnTo>
                <a:lnTo>
                  <a:pt x="13" y="25"/>
                </a:lnTo>
                <a:lnTo>
                  <a:pt x="13" y="26"/>
                </a:lnTo>
                <a:lnTo>
                  <a:pt x="11" y="27"/>
                </a:lnTo>
                <a:lnTo>
                  <a:pt x="10" y="28"/>
                </a:lnTo>
                <a:lnTo>
                  <a:pt x="10" y="29"/>
                </a:lnTo>
                <a:lnTo>
                  <a:pt x="9" y="30"/>
                </a:lnTo>
                <a:lnTo>
                  <a:pt x="8" y="30"/>
                </a:lnTo>
                <a:lnTo>
                  <a:pt x="7" y="31"/>
                </a:lnTo>
                <a:lnTo>
                  <a:pt x="6" y="32"/>
                </a:lnTo>
                <a:lnTo>
                  <a:pt x="5" y="33"/>
                </a:lnTo>
                <a:lnTo>
                  <a:pt x="4" y="34"/>
                </a:lnTo>
                <a:lnTo>
                  <a:pt x="4" y="35"/>
                </a:lnTo>
                <a:lnTo>
                  <a:pt x="3" y="36"/>
                </a:lnTo>
                <a:lnTo>
                  <a:pt x="2" y="37"/>
                </a:lnTo>
                <a:lnTo>
                  <a:pt x="1" y="38"/>
                </a:lnTo>
                <a:lnTo>
                  <a:pt x="1" y="39"/>
                </a:lnTo>
                <a:lnTo>
                  <a:pt x="0" y="40"/>
                </a:lnTo>
                <a:lnTo>
                  <a:pt x="0" y="41"/>
                </a:lnTo>
                <a:lnTo>
                  <a:pt x="0" y="42"/>
                </a:lnTo>
                <a:lnTo>
                  <a:pt x="0" y="43"/>
                </a:lnTo>
                <a:lnTo>
                  <a:pt x="0" y="44"/>
                </a:lnTo>
                <a:lnTo>
                  <a:pt x="0" y="45"/>
                </a:lnTo>
                <a:lnTo>
                  <a:pt x="1" y="45"/>
                </a:lnTo>
                <a:lnTo>
                  <a:pt x="3" y="47"/>
                </a:lnTo>
                <a:lnTo>
                  <a:pt x="4" y="47"/>
                </a:lnTo>
                <a:lnTo>
                  <a:pt x="5" y="47"/>
                </a:lnTo>
                <a:lnTo>
                  <a:pt x="6" y="47"/>
                </a:lnTo>
                <a:lnTo>
                  <a:pt x="5" y="47"/>
                </a:lnTo>
                <a:lnTo>
                  <a:pt x="6" y="38"/>
                </a:lnTo>
                <a:close/>
              </a:path>
            </a:pathLst>
          </a:custGeom>
          <a:solidFill>
            <a:srgbClr val="1f1a17"/>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4" name="Freeform 43"/>
          <p:cNvSpPr/>
          <p:nvPr/>
        </p:nvSpPr>
        <p:spPr>
          <a:xfrm>
            <a:off x="4492800" y="4173480"/>
            <a:ext cx="145800" cy="14400"/>
          </a:xfrm>
          <a:custGeom>
            <a:avLst/>
            <a:gdLst>
              <a:gd name="textAreaLeft" fmla="*/ 0 w 145800"/>
              <a:gd name="textAreaRight" fmla="*/ 145800 w 145800"/>
              <a:gd name="textAreaTop" fmla="*/ 0 h 14400"/>
              <a:gd name="textAreaBottom" fmla="*/ 14760 h 14400"/>
            </a:gdLst>
            <a:ahLst/>
            <a:rect l="textAreaLeft" t="textAreaTop" r="textAreaRight" b="textAreaBottom"/>
            <a:pathLst>
              <a:path w="183" h="17">
                <a:moveTo>
                  <a:pt x="173" y="13"/>
                </a:moveTo>
                <a:lnTo>
                  <a:pt x="176" y="10"/>
                </a:lnTo>
                <a:lnTo>
                  <a:pt x="177" y="9"/>
                </a:lnTo>
                <a:lnTo>
                  <a:pt x="178" y="8"/>
                </a:lnTo>
                <a:lnTo>
                  <a:pt x="174" y="8"/>
                </a:lnTo>
                <a:lnTo>
                  <a:pt x="150" y="7"/>
                </a:lnTo>
                <a:lnTo>
                  <a:pt x="68" y="4"/>
                </a:lnTo>
                <a:lnTo>
                  <a:pt x="4" y="1"/>
                </a:lnTo>
                <a:lnTo>
                  <a:pt x="1" y="0"/>
                </a:lnTo>
                <a:lnTo>
                  <a:pt x="0" y="2"/>
                </a:lnTo>
                <a:lnTo>
                  <a:pt x="0" y="6"/>
                </a:lnTo>
                <a:lnTo>
                  <a:pt x="0" y="9"/>
                </a:lnTo>
                <a:lnTo>
                  <a:pt x="3" y="10"/>
                </a:lnTo>
                <a:lnTo>
                  <a:pt x="27" y="11"/>
                </a:lnTo>
                <a:lnTo>
                  <a:pt x="109" y="14"/>
                </a:lnTo>
                <a:lnTo>
                  <a:pt x="173" y="17"/>
                </a:lnTo>
                <a:lnTo>
                  <a:pt x="177" y="17"/>
                </a:lnTo>
                <a:lnTo>
                  <a:pt x="180" y="14"/>
                </a:lnTo>
                <a:lnTo>
                  <a:pt x="181" y="13"/>
                </a:lnTo>
                <a:lnTo>
                  <a:pt x="182" y="12"/>
                </a:lnTo>
                <a:lnTo>
                  <a:pt x="181" y="13"/>
                </a:lnTo>
                <a:lnTo>
                  <a:pt x="178" y="16"/>
                </a:lnTo>
                <a:lnTo>
                  <a:pt x="177" y="17"/>
                </a:lnTo>
                <a:lnTo>
                  <a:pt x="180" y="17"/>
                </a:lnTo>
                <a:lnTo>
                  <a:pt x="182" y="17"/>
                </a:lnTo>
                <a:lnTo>
                  <a:pt x="183" y="17"/>
                </a:lnTo>
                <a:lnTo>
                  <a:pt x="182" y="14"/>
                </a:lnTo>
                <a:lnTo>
                  <a:pt x="182" y="13"/>
                </a:lnTo>
                <a:lnTo>
                  <a:pt x="182" y="12"/>
                </a:lnTo>
                <a:lnTo>
                  <a:pt x="173" y="13"/>
                </a:lnTo>
                <a:close/>
              </a:path>
            </a:pathLst>
          </a:custGeom>
          <a:solidFill>
            <a:srgbClr val="1f1a17"/>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05" name="Freeform 44"/>
          <p:cNvSpPr/>
          <p:nvPr/>
        </p:nvSpPr>
        <p:spPr>
          <a:xfrm>
            <a:off x="4622760" y="4114800"/>
            <a:ext cx="14400" cy="69840"/>
          </a:xfrm>
          <a:custGeom>
            <a:avLst/>
            <a:gdLst>
              <a:gd name="textAreaLeft" fmla="*/ 0 w 14400"/>
              <a:gd name="textAreaRight" fmla="*/ 14760 w 14400"/>
              <a:gd name="textAreaTop" fmla="*/ 0 h 69840"/>
              <a:gd name="textAreaBottom" fmla="*/ 70200 h 69840"/>
            </a:gdLst>
            <a:ahLst/>
            <a:rect l="textAreaLeft" t="textAreaTop" r="textAreaRight" b="textAreaBottom"/>
            <a:pathLst>
              <a:path w="19" h="86">
                <a:moveTo>
                  <a:pt x="1" y="0"/>
                </a:moveTo>
                <a:lnTo>
                  <a:pt x="0" y="2"/>
                </a:lnTo>
                <a:lnTo>
                  <a:pt x="0" y="3"/>
                </a:lnTo>
                <a:lnTo>
                  <a:pt x="0" y="5"/>
                </a:lnTo>
                <a:lnTo>
                  <a:pt x="1" y="16"/>
                </a:lnTo>
                <a:lnTo>
                  <a:pt x="5" y="56"/>
                </a:lnTo>
                <a:lnTo>
                  <a:pt x="9" y="85"/>
                </a:lnTo>
                <a:lnTo>
                  <a:pt x="10" y="86"/>
                </a:lnTo>
                <a:lnTo>
                  <a:pt x="11" y="86"/>
                </a:lnTo>
                <a:lnTo>
                  <a:pt x="15" y="86"/>
                </a:lnTo>
                <a:lnTo>
                  <a:pt x="18" y="86"/>
                </a:lnTo>
                <a:lnTo>
                  <a:pt x="19" y="85"/>
                </a:lnTo>
                <a:lnTo>
                  <a:pt x="17" y="73"/>
                </a:lnTo>
                <a:lnTo>
                  <a:pt x="13" y="33"/>
                </a:lnTo>
                <a:lnTo>
                  <a:pt x="10" y="4"/>
                </a:lnTo>
                <a:lnTo>
                  <a:pt x="10" y="2"/>
                </a:lnTo>
                <a:lnTo>
                  <a:pt x="9" y="4"/>
                </a:lnTo>
                <a:lnTo>
                  <a:pt x="9" y="5"/>
                </a:lnTo>
                <a:lnTo>
                  <a:pt x="1" y="0"/>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6" name="Freeform 45"/>
          <p:cNvSpPr/>
          <p:nvPr/>
        </p:nvSpPr>
        <p:spPr>
          <a:xfrm>
            <a:off x="4622760" y="3892680"/>
            <a:ext cx="150840" cy="226800"/>
          </a:xfrm>
          <a:custGeom>
            <a:avLst/>
            <a:gdLst>
              <a:gd name="textAreaLeft" fmla="*/ 0 w 150840"/>
              <a:gd name="textAreaRight" fmla="*/ 151200 w 150840"/>
              <a:gd name="textAreaTop" fmla="*/ 0 h 226800"/>
              <a:gd name="textAreaBottom" fmla="*/ 227160 h 226800"/>
            </a:gdLst>
            <a:ahLst/>
            <a:rect l="textAreaLeft" t="textAreaTop" r="textAreaRight" b="textAreaBottom"/>
            <a:pathLst>
              <a:path w="190" h="285">
                <a:moveTo>
                  <a:pt x="180" y="5"/>
                </a:moveTo>
                <a:lnTo>
                  <a:pt x="180" y="2"/>
                </a:lnTo>
                <a:lnTo>
                  <a:pt x="180" y="1"/>
                </a:lnTo>
                <a:lnTo>
                  <a:pt x="180" y="0"/>
                </a:lnTo>
                <a:lnTo>
                  <a:pt x="176" y="6"/>
                </a:lnTo>
                <a:lnTo>
                  <a:pt x="151" y="43"/>
                </a:lnTo>
                <a:lnTo>
                  <a:pt x="68" y="175"/>
                </a:lnTo>
                <a:lnTo>
                  <a:pt x="3" y="275"/>
                </a:lnTo>
                <a:lnTo>
                  <a:pt x="0" y="280"/>
                </a:lnTo>
                <a:lnTo>
                  <a:pt x="1" y="281"/>
                </a:lnTo>
                <a:lnTo>
                  <a:pt x="4" y="284"/>
                </a:lnTo>
                <a:lnTo>
                  <a:pt x="7" y="285"/>
                </a:lnTo>
                <a:lnTo>
                  <a:pt x="8" y="285"/>
                </a:lnTo>
                <a:lnTo>
                  <a:pt x="11" y="280"/>
                </a:lnTo>
                <a:lnTo>
                  <a:pt x="35" y="242"/>
                </a:lnTo>
                <a:lnTo>
                  <a:pt x="119" y="111"/>
                </a:lnTo>
                <a:lnTo>
                  <a:pt x="183" y="11"/>
                </a:lnTo>
                <a:lnTo>
                  <a:pt x="188" y="5"/>
                </a:lnTo>
                <a:lnTo>
                  <a:pt x="188" y="2"/>
                </a:lnTo>
                <a:lnTo>
                  <a:pt x="188" y="1"/>
                </a:lnTo>
                <a:lnTo>
                  <a:pt x="188" y="0"/>
                </a:lnTo>
                <a:lnTo>
                  <a:pt x="188" y="1"/>
                </a:lnTo>
                <a:lnTo>
                  <a:pt x="188" y="4"/>
                </a:lnTo>
                <a:lnTo>
                  <a:pt x="188" y="5"/>
                </a:lnTo>
                <a:lnTo>
                  <a:pt x="189" y="4"/>
                </a:lnTo>
                <a:lnTo>
                  <a:pt x="190" y="3"/>
                </a:lnTo>
                <a:lnTo>
                  <a:pt x="188" y="1"/>
                </a:lnTo>
                <a:lnTo>
                  <a:pt x="188" y="0"/>
                </a:lnTo>
                <a:lnTo>
                  <a:pt x="180" y="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46"/>
          <p:cNvSpPr/>
          <p:nvPr/>
        </p:nvSpPr>
        <p:spPr>
          <a:xfrm>
            <a:off x="4689360" y="3743280"/>
            <a:ext cx="82800" cy="154080"/>
          </a:xfrm>
          <a:custGeom>
            <a:avLst/>
            <a:gdLst>
              <a:gd name="textAreaLeft" fmla="*/ 0 w 82800"/>
              <a:gd name="textAreaRight" fmla="*/ 83160 w 82800"/>
              <a:gd name="textAreaTop" fmla="*/ 0 h 154080"/>
              <a:gd name="textAreaBottom" fmla="*/ 154440 h 154080"/>
            </a:gdLst>
            <a:ahLst/>
            <a:rect l="textAreaLeft" t="textAreaTop" r="textAreaRight" b="textAreaBottom"/>
            <a:pathLst>
              <a:path w="103" h="195">
                <a:moveTo>
                  <a:pt x="0" y="7"/>
                </a:moveTo>
                <a:lnTo>
                  <a:pt x="0" y="7"/>
                </a:lnTo>
                <a:lnTo>
                  <a:pt x="2" y="9"/>
                </a:lnTo>
                <a:lnTo>
                  <a:pt x="3" y="10"/>
                </a:lnTo>
                <a:lnTo>
                  <a:pt x="4" y="10"/>
                </a:lnTo>
                <a:lnTo>
                  <a:pt x="5" y="13"/>
                </a:lnTo>
                <a:lnTo>
                  <a:pt x="6" y="14"/>
                </a:lnTo>
                <a:lnTo>
                  <a:pt x="7" y="14"/>
                </a:lnTo>
                <a:lnTo>
                  <a:pt x="8" y="17"/>
                </a:lnTo>
                <a:lnTo>
                  <a:pt x="9" y="18"/>
                </a:lnTo>
                <a:lnTo>
                  <a:pt x="11" y="18"/>
                </a:lnTo>
                <a:lnTo>
                  <a:pt x="13" y="22"/>
                </a:lnTo>
                <a:lnTo>
                  <a:pt x="14" y="23"/>
                </a:lnTo>
                <a:lnTo>
                  <a:pt x="15" y="23"/>
                </a:lnTo>
                <a:lnTo>
                  <a:pt x="16" y="28"/>
                </a:lnTo>
                <a:lnTo>
                  <a:pt x="17" y="29"/>
                </a:lnTo>
                <a:lnTo>
                  <a:pt x="18" y="29"/>
                </a:lnTo>
                <a:lnTo>
                  <a:pt x="19" y="33"/>
                </a:lnTo>
                <a:lnTo>
                  <a:pt x="20" y="34"/>
                </a:lnTo>
                <a:lnTo>
                  <a:pt x="21" y="34"/>
                </a:lnTo>
                <a:lnTo>
                  <a:pt x="23" y="38"/>
                </a:lnTo>
                <a:lnTo>
                  <a:pt x="24" y="40"/>
                </a:lnTo>
                <a:lnTo>
                  <a:pt x="26" y="40"/>
                </a:lnTo>
                <a:lnTo>
                  <a:pt x="27" y="44"/>
                </a:lnTo>
                <a:lnTo>
                  <a:pt x="28" y="46"/>
                </a:lnTo>
                <a:lnTo>
                  <a:pt x="29" y="46"/>
                </a:lnTo>
                <a:lnTo>
                  <a:pt x="30" y="50"/>
                </a:lnTo>
                <a:lnTo>
                  <a:pt x="31" y="52"/>
                </a:lnTo>
                <a:lnTo>
                  <a:pt x="32" y="52"/>
                </a:lnTo>
                <a:lnTo>
                  <a:pt x="33" y="57"/>
                </a:lnTo>
                <a:lnTo>
                  <a:pt x="34" y="59"/>
                </a:lnTo>
                <a:lnTo>
                  <a:pt x="35" y="59"/>
                </a:lnTo>
                <a:lnTo>
                  <a:pt x="36" y="63"/>
                </a:lnTo>
                <a:lnTo>
                  <a:pt x="37" y="65"/>
                </a:lnTo>
                <a:lnTo>
                  <a:pt x="38" y="65"/>
                </a:lnTo>
                <a:lnTo>
                  <a:pt x="41" y="70"/>
                </a:lnTo>
                <a:lnTo>
                  <a:pt x="42" y="72"/>
                </a:lnTo>
                <a:lnTo>
                  <a:pt x="43" y="72"/>
                </a:lnTo>
                <a:lnTo>
                  <a:pt x="44" y="77"/>
                </a:lnTo>
                <a:lnTo>
                  <a:pt x="45" y="80"/>
                </a:lnTo>
                <a:lnTo>
                  <a:pt x="46" y="80"/>
                </a:lnTo>
                <a:lnTo>
                  <a:pt x="47" y="85"/>
                </a:lnTo>
                <a:lnTo>
                  <a:pt x="48" y="87"/>
                </a:lnTo>
                <a:lnTo>
                  <a:pt x="49" y="87"/>
                </a:lnTo>
                <a:lnTo>
                  <a:pt x="50" y="92"/>
                </a:lnTo>
                <a:lnTo>
                  <a:pt x="51" y="94"/>
                </a:lnTo>
                <a:lnTo>
                  <a:pt x="52" y="94"/>
                </a:lnTo>
                <a:lnTo>
                  <a:pt x="53" y="99"/>
                </a:lnTo>
                <a:lnTo>
                  <a:pt x="55" y="101"/>
                </a:lnTo>
                <a:lnTo>
                  <a:pt x="56" y="101"/>
                </a:lnTo>
                <a:lnTo>
                  <a:pt x="57" y="106"/>
                </a:lnTo>
                <a:lnTo>
                  <a:pt x="58" y="108"/>
                </a:lnTo>
                <a:lnTo>
                  <a:pt x="59" y="108"/>
                </a:lnTo>
                <a:lnTo>
                  <a:pt x="59" y="109"/>
                </a:lnTo>
                <a:lnTo>
                  <a:pt x="59" y="110"/>
                </a:lnTo>
                <a:lnTo>
                  <a:pt x="60" y="113"/>
                </a:lnTo>
                <a:lnTo>
                  <a:pt x="60" y="115"/>
                </a:lnTo>
                <a:lnTo>
                  <a:pt x="61" y="115"/>
                </a:lnTo>
                <a:lnTo>
                  <a:pt x="62" y="120"/>
                </a:lnTo>
                <a:lnTo>
                  <a:pt x="63" y="122"/>
                </a:lnTo>
                <a:lnTo>
                  <a:pt x="64" y="122"/>
                </a:lnTo>
                <a:lnTo>
                  <a:pt x="65" y="127"/>
                </a:lnTo>
                <a:lnTo>
                  <a:pt x="66" y="129"/>
                </a:lnTo>
                <a:lnTo>
                  <a:pt x="67" y="129"/>
                </a:lnTo>
                <a:lnTo>
                  <a:pt x="67" y="130"/>
                </a:lnTo>
                <a:lnTo>
                  <a:pt x="67" y="131"/>
                </a:lnTo>
                <a:lnTo>
                  <a:pt x="68" y="135"/>
                </a:lnTo>
                <a:lnTo>
                  <a:pt x="68" y="137"/>
                </a:lnTo>
                <a:lnTo>
                  <a:pt x="70" y="137"/>
                </a:lnTo>
                <a:lnTo>
                  <a:pt x="71" y="142"/>
                </a:lnTo>
                <a:lnTo>
                  <a:pt x="72" y="144"/>
                </a:lnTo>
                <a:lnTo>
                  <a:pt x="73" y="144"/>
                </a:lnTo>
                <a:lnTo>
                  <a:pt x="73" y="145"/>
                </a:lnTo>
                <a:lnTo>
                  <a:pt x="74" y="148"/>
                </a:lnTo>
                <a:lnTo>
                  <a:pt x="74" y="150"/>
                </a:lnTo>
                <a:lnTo>
                  <a:pt x="75" y="150"/>
                </a:lnTo>
                <a:lnTo>
                  <a:pt x="76" y="154"/>
                </a:lnTo>
                <a:lnTo>
                  <a:pt x="77" y="156"/>
                </a:lnTo>
                <a:lnTo>
                  <a:pt x="78" y="156"/>
                </a:lnTo>
                <a:lnTo>
                  <a:pt x="78" y="157"/>
                </a:lnTo>
                <a:lnTo>
                  <a:pt x="79" y="160"/>
                </a:lnTo>
                <a:lnTo>
                  <a:pt x="79" y="162"/>
                </a:lnTo>
                <a:lnTo>
                  <a:pt x="80" y="162"/>
                </a:lnTo>
                <a:lnTo>
                  <a:pt x="80" y="163"/>
                </a:lnTo>
                <a:lnTo>
                  <a:pt x="81" y="166"/>
                </a:lnTo>
                <a:lnTo>
                  <a:pt x="81" y="168"/>
                </a:lnTo>
                <a:lnTo>
                  <a:pt x="82" y="168"/>
                </a:lnTo>
                <a:lnTo>
                  <a:pt x="82" y="169"/>
                </a:lnTo>
                <a:lnTo>
                  <a:pt x="83" y="172"/>
                </a:lnTo>
                <a:lnTo>
                  <a:pt x="83" y="173"/>
                </a:lnTo>
                <a:lnTo>
                  <a:pt x="85" y="173"/>
                </a:lnTo>
                <a:lnTo>
                  <a:pt x="85" y="174"/>
                </a:lnTo>
                <a:lnTo>
                  <a:pt x="86" y="177"/>
                </a:lnTo>
                <a:lnTo>
                  <a:pt x="86" y="178"/>
                </a:lnTo>
                <a:lnTo>
                  <a:pt x="87" y="178"/>
                </a:lnTo>
                <a:lnTo>
                  <a:pt x="88" y="181"/>
                </a:lnTo>
                <a:lnTo>
                  <a:pt x="89" y="182"/>
                </a:lnTo>
                <a:lnTo>
                  <a:pt x="89" y="183"/>
                </a:lnTo>
                <a:lnTo>
                  <a:pt x="90" y="186"/>
                </a:lnTo>
                <a:lnTo>
                  <a:pt x="90" y="188"/>
                </a:lnTo>
                <a:lnTo>
                  <a:pt x="91" y="188"/>
                </a:lnTo>
                <a:lnTo>
                  <a:pt x="92" y="190"/>
                </a:lnTo>
                <a:lnTo>
                  <a:pt x="93" y="191"/>
                </a:lnTo>
                <a:lnTo>
                  <a:pt x="94" y="194"/>
                </a:lnTo>
                <a:lnTo>
                  <a:pt x="95" y="195"/>
                </a:lnTo>
                <a:lnTo>
                  <a:pt x="100" y="192"/>
                </a:lnTo>
                <a:lnTo>
                  <a:pt x="102" y="191"/>
                </a:lnTo>
                <a:lnTo>
                  <a:pt x="103" y="190"/>
                </a:lnTo>
                <a:lnTo>
                  <a:pt x="102" y="188"/>
                </a:lnTo>
                <a:lnTo>
                  <a:pt x="102" y="186"/>
                </a:lnTo>
                <a:lnTo>
                  <a:pt x="100" y="184"/>
                </a:lnTo>
                <a:lnTo>
                  <a:pt x="100" y="183"/>
                </a:lnTo>
                <a:lnTo>
                  <a:pt x="98" y="181"/>
                </a:lnTo>
                <a:lnTo>
                  <a:pt x="98" y="180"/>
                </a:lnTo>
                <a:lnTo>
                  <a:pt x="98" y="179"/>
                </a:lnTo>
                <a:lnTo>
                  <a:pt x="96" y="176"/>
                </a:lnTo>
                <a:lnTo>
                  <a:pt x="96" y="175"/>
                </a:lnTo>
                <a:lnTo>
                  <a:pt x="96" y="174"/>
                </a:lnTo>
                <a:lnTo>
                  <a:pt x="94" y="172"/>
                </a:lnTo>
                <a:lnTo>
                  <a:pt x="94" y="170"/>
                </a:lnTo>
                <a:lnTo>
                  <a:pt x="92" y="167"/>
                </a:lnTo>
                <a:lnTo>
                  <a:pt x="92" y="165"/>
                </a:lnTo>
                <a:lnTo>
                  <a:pt x="92" y="164"/>
                </a:lnTo>
                <a:lnTo>
                  <a:pt x="90" y="161"/>
                </a:lnTo>
                <a:lnTo>
                  <a:pt x="90" y="160"/>
                </a:lnTo>
                <a:lnTo>
                  <a:pt x="90" y="159"/>
                </a:lnTo>
                <a:lnTo>
                  <a:pt x="88" y="156"/>
                </a:lnTo>
                <a:lnTo>
                  <a:pt x="87" y="154"/>
                </a:lnTo>
                <a:lnTo>
                  <a:pt x="87" y="153"/>
                </a:lnTo>
                <a:lnTo>
                  <a:pt x="85" y="150"/>
                </a:lnTo>
                <a:lnTo>
                  <a:pt x="85" y="148"/>
                </a:lnTo>
                <a:lnTo>
                  <a:pt x="85" y="147"/>
                </a:lnTo>
                <a:lnTo>
                  <a:pt x="83" y="146"/>
                </a:lnTo>
                <a:lnTo>
                  <a:pt x="82" y="143"/>
                </a:lnTo>
                <a:lnTo>
                  <a:pt x="81" y="141"/>
                </a:lnTo>
                <a:lnTo>
                  <a:pt x="81" y="140"/>
                </a:lnTo>
                <a:lnTo>
                  <a:pt x="79" y="137"/>
                </a:lnTo>
                <a:lnTo>
                  <a:pt x="79" y="135"/>
                </a:lnTo>
                <a:lnTo>
                  <a:pt x="79" y="134"/>
                </a:lnTo>
                <a:lnTo>
                  <a:pt x="78" y="132"/>
                </a:lnTo>
                <a:lnTo>
                  <a:pt x="77" y="129"/>
                </a:lnTo>
                <a:lnTo>
                  <a:pt x="76" y="127"/>
                </a:lnTo>
                <a:lnTo>
                  <a:pt x="76" y="126"/>
                </a:lnTo>
                <a:lnTo>
                  <a:pt x="74" y="122"/>
                </a:lnTo>
                <a:lnTo>
                  <a:pt x="74" y="120"/>
                </a:lnTo>
                <a:lnTo>
                  <a:pt x="74" y="119"/>
                </a:lnTo>
                <a:lnTo>
                  <a:pt x="73" y="118"/>
                </a:lnTo>
                <a:lnTo>
                  <a:pt x="72" y="115"/>
                </a:lnTo>
                <a:lnTo>
                  <a:pt x="71" y="113"/>
                </a:lnTo>
                <a:lnTo>
                  <a:pt x="71" y="112"/>
                </a:lnTo>
                <a:lnTo>
                  <a:pt x="70" y="111"/>
                </a:lnTo>
                <a:lnTo>
                  <a:pt x="68" y="108"/>
                </a:lnTo>
                <a:lnTo>
                  <a:pt x="67" y="106"/>
                </a:lnTo>
                <a:lnTo>
                  <a:pt x="67" y="105"/>
                </a:lnTo>
                <a:lnTo>
                  <a:pt x="66" y="104"/>
                </a:lnTo>
                <a:lnTo>
                  <a:pt x="65" y="101"/>
                </a:lnTo>
                <a:lnTo>
                  <a:pt x="64" y="99"/>
                </a:lnTo>
                <a:lnTo>
                  <a:pt x="64" y="98"/>
                </a:lnTo>
                <a:lnTo>
                  <a:pt x="63" y="97"/>
                </a:lnTo>
                <a:lnTo>
                  <a:pt x="62" y="94"/>
                </a:lnTo>
                <a:lnTo>
                  <a:pt x="61" y="92"/>
                </a:lnTo>
                <a:lnTo>
                  <a:pt x="61" y="91"/>
                </a:lnTo>
                <a:lnTo>
                  <a:pt x="59" y="87"/>
                </a:lnTo>
                <a:lnTo>
                  <a:pt x="58" y="84"/>
                </a:lnTo>
                <a:lnTo>
                  <a:pt x="58" y="83"/>
                </a:lnTo>
                <a:lnTo>
                  <a:pt x="57" y="82"/>
                </a:lnTo>
                <a:lnTo>
                  <a:pt x="56" y="78"/>
                </a:lnTo>
                <a:lnTo>
                  <a:pt x="55" y="76"/>
                </a:lnTo>
                <a:lnTo>
                  <a:pt x="55" y="75"/>
                </a:lnTo>
                <a:lnTo>
                  <a:pt x="53" y="74"/>
                </a:lnTo>
                <a:lnTo>
                  <a:pt x="52" y="71"/>
                </a:lnTo>
                <a:lnTo>
                  <a:pt x="51" y="69"/>
                </a:lnTo>
                <a:lnTo>
                  <a:pt x="51" y="68"/>
                </a:lnTo>
                <a:lnTo>
                  <a:pt x="50" y="67"/>
                </a:lnTo>
                <a:lnTo>
                  <a:pt x="49" y="64"/>
                </a:lnTo>
                <a:lnTo>
                  <a:pt x="48" y="62"/>
                </a:lnTo>
                <a:lnTo>
                  <a:pt x="48" y="61"/>
                </a:lnTo>
                <a:lnTo>
                  <a:pt x="45" y="58"/>
                </a:lnTo>
                <a:lnTo>
                  <a:pt x="44" y="56"/>
                </a:lnTo>
                <a:lnTo>
                  <a:pt x="44" y="55"/>
                </a:lnTo>
                <a:lnTo>
                  <a:pt x="43" y="54"/>
                </a:lnTo>
                <a:lnTo>
                  <a:pt x="42" y="51"/>
                </a:lnTo>
                <a:lnTo>
                  <a:pt x="41" y="49"/>
                </a:lnTo>
                <a:lnTo>
                  <a:pt x="41" y="48"/>
                </a:lnTo>
                <a:lnTo>
                  <a:pt x="38" y="45"/>
                </a:lnTo>
                <a:lnTo>
                  <a:pt x="37" y="43"/>
                </a:lnTo>
                <a:lnTo>
                  <a:pt x="37" y="42"/>
                </a:lnTo>
                <a:lnTo>
                  <a:pt x="34" y="39"/>
                </a:lnTo>
                <a:lnTo>
                  <a:pt x="33" y="37"/>
                </a:lnTo>
                <a:lnTo>
                  <a:pt x="33" y="36"/>
                </a:lnTo>
                <a:lnTo>
                  <a:pt x="31" y="33"/>
                </a:lnTo>
                <a:lnTo>
                  <a:pt x="30" y="31"/>
                </a:lnTo>
                <a:lnTo>
                  <a:pt x="30" y="30"/>
                </a:lnTo>
                <a:lnTo>
                  <a:pt x="27" y="27"/>
                </a:lnTo>
                <a:lnTo>
                  <a:pt x="26" y="24"/>
                </a:lnTo>
                <a:lnTo>
                  <a:pt x="26" y="23"/>
                </a:lnTo>
                <a:lnTo>
                  <a:pt x="23" y="20"/>
                </a:lnTo>
                <a:lnTo>
                  <a:pt x="22" y="19"/>
                </a:lnTo>
                <a:lnTo>
                  <a:pt x="22" y="18"/>
                </a:lnTo>
                <a:lnTo>
                  <a:pt x="19" y="15"/>
                </a:lnTo>
                <a:lnTo>
                  <a:pt x="18" y="14"/>
                </a:lnTo>
                <a:lnTo>
                  <a:pt x="18" y="13"/>
                </a:lnTo>
                <a:lnTo>
                  <a:pt x="16" y="10"/>
                </a:lnTo>
                <a:lnTo>
                  <a:pt x="15" y="9"/>
                </a:lnTo>
                <a:lnTo>
                  <a:pt x="15" y="8"/>
                </a:lnTo>
                <a:lnTo>
                  <a:pt x="12" y="6"/>
                </a:lnTo>
                <a:lnTo>
                  <a:pt x="11" y="5"/>
                </a:lnTo>
                <a:lnTo>
                  <a:pt x="11" y="4"/>
                </a:lnTo>
                <a:lnTo>
                  <a:pt x="8" y="2"/>
                </a:lnTo>
                <a:lnTo>
                  <a:pt x="7" y="1"/>
                </a:lnTo>
                <a:lnTo>
                  <a:pt x="7" y="0"/>
                </a:lnTo>
                <a:lnTo>
                  <a:pt x="0" y="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47"/>
          <p:cNvSpPr/>
          <p:nvPr/>
        </p:nvSpPr>
        <p:spPr>
          <a:xfrm>
            <a:off x="4638600" y="3697200"/>
            <a:ext cx="57240" cy="50760"/>
          </a:xfrm>
          <a:custGeom>
            <a:avLst/>
            <a:gdLst>
              <a:gd name="textAreaLeft" fmla="*/ 0 w 57240"/>
              <a:gd name="textAreaRight" fmla="*/ 57600 w 57240"/>
              <a:gd name="textAreaTop" fmla="*/ 0 h 50760"/>
              <a:gd name="textAreaBottom" fmla="*/ 51120 h 50760"/>
            </a:gdLst>
            <a:ahLst/>
            <a:rect l="textAreaLeft" t="textAreaTop" r="textAreaRight" b="textAreaBottom"/>
            <a:pathLst>
              <a:path w="73" h="64">
                <a:moveTo>
                  <a:pt x="1" y="2"/>
                </a:moveTo>
                <a:lnTo>
                  <a:pt x="1" y="3"/>
                </a:lnTo>
                <a:lnTo>
                  <a:pt x="1" y="6"/>
                </a:lnTo>
                <a:lnTo>
                  <a:pt x="1" y="7"/>
                </a:lnTo>
                <a:lnTo>
                  <a:pt x="3" y="7"/>
                </a:lnTo>
                <a:lnTo>
                  <a:pt x="4" y="9"/>
                </a:lnTo>
                <a:lnTo>
                  <a:pt x="12" y="16"/>
                </a:lnTo>
                <a:lnTo>
                  <a:pt x="41" y="43"/>
                </a:lnTo>
                <a:lnTo>
                  <a:pt x="64" y="63"/>
                </a:lnTo>
                <a:lnTo>
                  <a:pt x="66" y="64"/>
                </a:lnTo>
                <a:lnTo>
                  <a:pt x="67" y="63"/>
                </a:lnTo>
                <a:lnTo>
                  <a:pt x="70" y="60"/>
                </a:lnTo>
                <a:lnTo>
                  <a:pt x="72" y="58"/>
                </a:lnTo>
                <a:lnTo>
                  <a:pt x="73" y="57"/>
                </a:lnTo>
                <a:lnTo>
                  <a:pt x="71" y="56"/>
                </a:lnTo>
                <a:lnTo>
                  <a:pt x="63" y="49"/>
                </a:lnTo>
                <a:lnTo>
                  <a:pt x="34" y="22"/>
                </a:lnTo>
                <a:lnTo>
                  <a:pt x="11" y="2"/>
                </a:lnTo>
                <a:lnTo>
                  <a:pt x="10" y="0"/>
                </a:lnTo>
                <a:lnTo>
                  <a:pt x="10" y="1"/>
                </a:lnTo>
                <a:lnTo>
                  <a:pt x="10" y="4"/>
                </a:lnTo>
                <a:lnTo>
                  <a:pt x="10" y="5"/>
                </a:lnTo>
                <a:lnTo>
                  <a:pt x="11" y="5"/>
                </a:lnTo>
                <a:lnTo>
                  <a:pt x="10" y="5"/>
                </a:lnTo>
                <a:lnTo>
                  <a:pt x="9" y="5"/>
                </a:lnTo>
                <a:lnTo>
                  <a:pt x="5" y="4"/>
                </a:lnTo>
                <a:lnTo>
                  <a:pt x="1" y="3"/>
                </a:lnTo>
                <a:lnTo>
                  <a:pt x="1" y="2"/>
                </a:lnTo>
                <a:lnTo>
                  <a:pt x="0" y="4"/>
                </a:lnTo>
                <a:lnTo>
                  <a:pt x="0" y="5"/>
                </a:lnTo>
                <a:lnTo>
                  <a:pt x="1" y="7"/>
                </a:lnTo>
                <a:lnTo>
                  <a:pt x="3" y="7"/>
                </a:lnTo>
                <a:lnTo>
                  <a:pt x="1" y="2"/>
                </a:lnTo>
                <a:close/>
              </a:path>
            </a:pathLst>
          </a:custGeom>
          <a:solidFill>
            <a:srgbClr val="1f1a17"/>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09" name="Freeform 48"/>
          <p:cNvSpPr/>
          <p:nvPr/>
        </p:nvSpPr>
        <p:spPr>
          <a:xfrm>
            <a:off x="2556000" y="3249720"/>
            <a:ext cx="1065240" cy="1385640"/>
          </a:xfrm>
          <a:custGeom>
            <a:avLst/>
            <a:gdLst>
              <a:gd name="textAreaLeft" fmla="*/ 0 w 1065240"/>
              <a:gd name="textAreaRight" fmla="*/ 1065240 w 1065240"/>
              <a:gd name="textAreaTop" fmla="*/ 0 h 1385640"/>
              <a:gd name="textAreaBottom" fmla="*/ 1386000 h 1385640"/>
            </a:gdLst>
            <a:ahLst/>
            <a:rect l="textAreaLeft" t="textAreaTop" r="textAreaRight" b="textAreaBottom"/>
            <a:pathLst>
              <a:path w="1343" h="1746">
                <a:moveTo>
                  <a:pt x="896" y="1072"/>
                </a:moveTo>
                <a:lnTo>
                  <a:pt x="928" y="1058"/>
                </a:lnTo>
                <a:lnTo>
                  <a:pt x="995" y="1034"/>
                </a:lnTo>
                <a:lnTo>
                  <a:pt x="1125" y="983"/>
                </a:lnTo>
                <a:lnTo>
                  <a:pt x="1235" y="881"/>
                </a:lnTo>
                <a:lnTo>
                  <a:pt x="1257" y="841"/>
                </a:lnTo>
                <a:lnTo>
                  <a:pt x="1269" y="846"/>
                </a:lnTo>
                <a:lnTo>
                  <a:pt x="1306" y="860"/>
                </a:lnTo>
                <a:lnTo>
                  <a:pt x="1335" y="872"/>
                </a:lnTo>
                <a:lnTo>
                  <a:pt x="1338" y="872"/>
                </a:lnTo>
                <a:lnTo>
                  <a:pt x="1340" y="865"/>
                </a:lnTo>
                <a:lnTo>
                  <a:pt x="1343" y="851"/>
                </a:lnTo>
                <a:lnTo>
                  <a:pt x="1342" y="837"/>
                </a:lnTo>
                <a:lnTo>
                  <a:pt x="1339" y="822"/>
                </a:lnTo>
                <a:lnTo>
                  <a:pt x="1326" y="779"/>
                </a:lnTo>
                <a:lnTo>
                  <a:pt x="1323" y="765"/>
                </a:lnTo>
                <a:lnTo>
                  <a:pt x="1321" y="762"/>
                </a:lnTo>
                <a:lnTo>
                  <a:pt x="1318" y="740"/>
                </a:lnTo>
                <a:lnTo>
                  <a:pt x="1308" y="666"/>
                </a:lnTo>
                <a:lnTo>
                  <a:pt x="1299" y="610"/>
                </a:lnTo>
                <a:lnTo>
                  <a:pt x="1299" y="606"/>
                </a:lnTo>
                <a:lnTo>
                  <a:pt x="1297" y="604"/>
                </a:lnTo>
                <a:lnTo>
                  <a:pt x="1284" y="585"/>
                </a:lnTo>
                <a:lnTo>
                  <a:pt x="1241" y="521"/>
                </a:lnTo>
                <a:lnTo>
                  <a:pt x="1208" y="472"/>
                </a:lnTo>
                <a:lnTo>
                  <a:pt x="1207" y="469"/>
                </a:lnTo>
                <a:lnTo>
                  <a:pt x="1207" y="462"/>
                </a:lnTo>
                <a:lnTo>
                  <a:pt x="1209" y="446"/>
                </a:lnTo>
                <a:lnTo>
                  <a:pt x="1220" y="415"/>
                </a:lnTo>
                <a:lnTo>
                  <a:pt x="1236" y="385"/>
                </a:lnTo>
                <a:lnTo>
                  <a:pt x="1240" y="377"/>
                </a:lnTo>
                <a:lnTo>
                  <a:pt x="1239" y="373"/>
                </a:lnTo>
                <a:lnTo>
                  <a:pt x="1235" y="352"/>
                </a:lnTo>
                <a:lnTo>
                  <a:pt x="1218" y="279"/>
                </a:lnTo>
                <a:lnTo>
                  <a:pt x="1207" y="223"/>
                </a:lnTo>
                <a:lnTo>
                  <a:pt x="1207" y="219"/>
                </a:lnTo>
                <a:lnTo>
                  <a:pt x="1205" y="217"/>
                </a:lnTo>
                <a:lnTo>
                  <a:pt x="1201" y="214"/>
                </a:lnTo>
                <a:lnTo>
                  <a:pt x="1198" y="210"/>
                </a:lnTo>
                <a:lnTo>
                  <a:pt x="1187" y="204"/>
                </a:lnTo>
                <a:lnTo>
                  <a:pt x="1162" y="190"/>
                </a:lnTo>
                <a:lnTo>
                  <a:pt x="1113" y="163"/>
                </a:lnTo>
                <a:lnTo>
                  <a:pt x="1121" y="139"/>
                </a:lnTo>
                <a:lnTo>
                  <a:pt x="1132" y="133"/>
                </a:lnTo>
                <a:lnTo>
                  <a:pt x="1138" y="124"/>
                </a:lnTo>
                <a:lnTo>
                  <a:pt x="1141" y="115"/>
                </a:lnTo>
                <a:lnTo>
                  <a:pt x="1141" y="104"/>
                </a:lnTo>
                <a:lnTo>
                  <a:pt x="1139" y="92"/>
                </a:lnTo>
                <a:lnTo>
                  <a:pt x="1135" y="81"/>
                </a:lnTo>
                <a:lnTo>
                  <a:pt x="1122" y="59"/>
                </a:lnTo>
                <a:lnTo>
                  <a:pt x="1108" y="38"/>
                </a:lnTo>
                <a:lnTo>
                  <a:pt x="1097" y="22"/>
                </a:lnTo>
                <a:lnTo>
                  <a:pt x="1092" y="18"/>
                </a:lnTo>
                <a:lnTo>
                  <a:pt x="1082" y="9"/>
                </a:lnTo>
                <a:lnTo>
                  <a:pt x="1073" y="3"/>
                </a:lnTo>
                <a:lnTo>
                  <a:pt x="1068" y="1"/>
                </a:lnTo>
                <a:lnTo>
                  <a:pt x="1063" y="0"/>
                </a:lnTo>
                <a:lnTo>
                  <a:pt x="1057" y="1"/>
                </a:lnTo>
                <a:lnTo>
                  <a:pt x="1051" y="4"/>
                </a:lnTo>
                <a:lnTo>
                  <a:pt x="1045" y="9"/>
                </a:lnTo>
                <a:lnTo>
                  <a:pt x="1037" y="16"/>
                </a:lnTo>
                <a:lnTo>
                  <a:pt x="1031" y="25"/>
                </a:lnTo>
                <a:lnTo>
                  <a:pt x="1025" y="35"/>
                </a:lnTo>
                <a:lnTo>
                  <a:pt x="1025" y="39"/>
                </a:lnTo>
                <a:lnTo>
                  <a:pt x="1025" y="43"/>
                </a:lnTo>
                <a:lnTo>
                  <a:pt x="1028" y="46"/>
                </a:lnTo>
                <a:lnTo>
                  <a:pt x="1030" y="48"/>
                </a:lnTo>
                <a:lnTo>
                  <a:pt x="1033" y="52"/>
                </a:lnTo>
                <a:lnTo>
                  <a:pt x="1040" y="56"/>
                </a:lnTo>
                <a:lnTo>
                  <a:pt x="1048" y="60"/>
                </a:lnTo>
                <a:lnTo>
                  <a:pt x="1057" y="64"/>
                </a:lnTo>
                <a:lnTo>
                  <a:pt x="1062" y="69"/>
                </a:lnTo>
                <a:lnTo>
                  <a:pt x="1064" y="72"/>
                </a:lnTo>
                <a:lnTo>
                  <a:pt x="1065" y="75"/>
                </a:lnTo>
                <a:lnTo>
                  <a:pt x="1066" y="79"/>
                </a:lnTo>
                <a:lnTo>
                  <a:pt x="1065" y="83"/>
                </a:lnTo>
                <a:lnTo>
                  <a:pt x="1062" y="88"/>
                </a:lnTo>
                <a:lnTo>
                  <a:pt x="1059" y="94"/>
                </a:lnTo>
                <a:lnTo>
                  <a:pt x="1046" y="108"/>
                </a:lnTo>
                <a:lnTo>
                  <a:pt x="1037" y="116"/>
                </a:lnTo>
                <a:lnTo>
                  <a:pt x="1017" y="132"/>
                </a:lnTo>
                <a:lnTo>
                  <a:pt x="977" y="153"/>
                </a:lnTo>
                <a:lnTo>
                  <a:pt x="941" y="163"/>
                </a:lnTo>
                <a:lnTo>
                  <a:pt x="909" y="165"/>
                </a:lnTo>
                <a:lnTo>
                  <a:pt x="882" y="162"/>
                </a:lnTo>
                <a:lnTo>
                  <a:pt x="861" y="156"/>
                </a:lnTo>
                <a:lnTo>
                  <a:pt x="855" y="153"/>
                </a:lnTo>
                <a:lnTo>
                  <a:pt x="854" y="154"/>
                </a:lnTo>
                <a:lnTo>
                  <a:pt x="851" y="163"/>
                </a:lnTo>
                <a:lnTo>
                  <a:pt x="839" y="188"/>
                </a:lnTo>
                <a:lnTo>
                  <a:pt x="829" y="215"/>
                </a:lnTo>
                <a:lnTo>
                  <a:pt x="829" y="219"/>
                </a:lnTo>
                <a:lnTo>
                  <a:pt x="827" y="219"/>
                </a:lnTo>
                <a:lnTo>
                  <a:pt x="816" y="217"/>
                </a:lnTo>
                <a:lnTo>
                  <a:pt x="780" y="210"/>
                </a:lnTo>
                <a:lnTo>
                  <a:pt x="752" y="206"/>
                </a:lnTo>
                <a:lnTo>
                  <a:pt x="751" y="205"/>
                </a:lnTo>
                <a:lnTo>
                  <a:pt x="750" y="198"/>
                </a:lnTo>
                <a:lnTo>
                  <a:pt x="747" y="177"/>
                </a:lnTo>
                <a:lnTo>
                  <a:pt x="746" y="160"/>
                </a:lnTo>
                <a:lnTo>
                  <a:pt x="746" y="159"/>
                </a:lnTo>
                <a:lnTo>
                  <a:pt x="736" y="154"/>
                </a:lnTo>
                <a:lnTo>
                  <a:pt x="712" y="144"/>
                </a:lnTo>
                <a:lnTo>
                  <a:pt x="653" y="124"/>
                </a:lnTo>
                <a:lnTo>
                  <a:pt x="594" y="112"/>
                </a:lnTo>
                <a:lnTo>
                  <a:pt x="581" y="111"/>
                </a:lnTo>
                <a:lnTo>
                  <a:pt x="581" y="101"/>
                </a:lnTo>
                <a:lnTo>
                  <a:pt x="586" y="85"/>
                </a:lnTo>
                <a:lnTo>
                  <a:pt x="591" y="71"/>
                </a:lnTo>
                <a:lnTo>
                  <a:pt x="599" y="40"/>
                </a:lnTo>
                <a:lnTo>
                  <a:pt x="592" y="8"/>
                </a:lnTo>
                <a:lnTo>
                  <a:pt x="588" y="8"/>
                </a:lnTo>
                <a:lnTo>
                  <a:pt x="561" y="8"/>
                </a:lnTo>
                <a:lnTo>
                  <a:pt x="468" y="8"/>
                </a:lnTo>
                <a:lnTo>
                  <a:pt x="397" y="8"/>
                </a:lnTo>
                <a:lnTo>
                  <a:pt x="394" y="8"/>
                </a:lnTo>
                <a:lnTo>
                  <a:pt x="394" y="22"/>
                </a:lnTo>
                <a:lnTo>
                  <a:pt x="400" y="52"/>
                </a:lnTo>
                <a:lnTo>
                  <a:pt x="426" y="114"/>
                </a:lnTo>
                <a:lnTo>
                  <a:pt x="460" y="164"/>
                </a:lnTo>
                <a:lnTo>
                  <a:pt x="469" y="172"/>
                </a:lnTo>
                <a:lnTo>
                  <a:pt x="468" y="177"/>
                </a:lnTo>
                <a:lnTo>
                  <a:pt x="466" y="186"/>
                </a:lnTo>
                <a:lnTo>
                  <a:pt x="459" y="207"/>
                </a:lnTo>
                <a:lnTo>
                  <a:pt x="454" y="228"/>
                </a:lnTo>
                <a:lnTo>
                  <a:pt x="454" y="232"/>
                </a:lnTo>
                <a:lnTo>
                  <a:pt x="449" y="233"/>
                </a:lnTo>
                <a:lnTo>
                  <a:pt x="444" y="234"/>
                </a:lnTo>
                <a:lnTo>
                  <a:pt x="436" y="238"/>
                </a:lnTo>
                <a:lnTo>
                  <a:pt x="428" y="242"/>
                </a:lnTo>
                <a:lnTo>
                  <a:pt x="417" y="251"/>
                </a:lnTo>
                <a:lnTo>
                  <a:pt x="416" y="252"/>
                </a:lnTo>
                <a:lnTo>
                  <a:pt x="412" y="249"/>
                </a:lnTo>
                <a:lnTo>
                  <a:pt x="401" y="240"/>
                </a:lnTo>
                <a:lnTo>
                  <a:pt x="394" y="233"/>
                </a:lnTo>
                <a:lnTo>
                  <a:pt x="394" y="232"/>
                </a:lnTo>
                <a:lnTo>
                  <a:pt x="394" y="238"/>
                </a:lnTo>
                <a:lnTo>
                  <a:pt x="394" y="254"/>
                </a:lnTo>
                <a:lnTo>
                  <a:pt x="391" y="299"/>
                </a:lnTo>
                <a:lnTo>
                  <a:pt x="384" y="318"/>
                </a:lnTo>
                <a:lnTo>
                  <a:pt x="380" y="325"/>
                </a:lnTo>
                <a:lnTo>
                  <a:pt x="375" y="330"/>
                </a:lnTo>
                <a:lnTo>
                  <a:pt x="368" y="331"/>
                </a:lnTo>
                <a:lnTo>
                  <a:pt x="367" y="331"/>
                </a:lnTo>
                <a:lnTo>
                  <a:pt x="363" y="331"/>
                </a:lnTo>
                <a:lnTo>
                  <a:pt x="347" y="331"/>
                </a:lnTo>
                <a:lnTo>
                  <a:pt x="334" y="331"/>
                </a:lnTo>
                <a:lnTo>
                  <a:pt x="328" y="330"/>
                </a:lnTo>
                <a:lnTo>
                  <a:pt x="322" y="327"/>
                </a:lnTo>
                <a:lnTo>
                  <a:pt x="316" y="321"/>
                </a:lnTo>
                <a:lnTo>
                  <a:pt x="301" y="306"/>
                </a:lnTo>
                <a:lnTo>
                  <a:pt x="269" y="271"/>
                </a:lnTo>
                <a:lnTo>
                  <a:pt x="253" y="252"/>
                </a:lnTo>
                <a:lnTo>
                  <a:pt x="251" y="254"/>
                </a:lnTo>
                <a:lnTo>
                  <a:pt x="243" y="262"/>
                </a:lnTo>
                <a:lnTo>
                  <a:pt x="210" y="291"/>
                </a:lnTo>
                <a:lnTo>
                  <a:pt x="187" y="312"/>
                </a:lnTo>
                <a:lnTo>
                  <a:pt x="186" y="313"/>
                </a:lnTo>
                <a:lnTo>
                  <a:pt x="186" y="316"/>
                </a:lnTo>
                <a:lnTo>
                  <a:pt x="190" y="334"/>
                </a:lnTo>
                <a:lnTo>
                  <a:pt x="206" y="392"/>
                </a:lnTo>
                <a:lnTo>
                  <a:pt x="218" y="436"/>
                </a:lnTo>
                <a:lnTo>
                  <a:pt x="219" y="438"/>
                </a:lnTo>
                <a:lnTo>
                  <a:pt x="217" y="440"/>
                </a:lnTo>
                <a:lnTo>
                  <a:pt x="205" y="453"/>
                </a:lnTo>
                <a:lnTo>
                  <a:pt x="166" y="496"/>
                </a:lnTo>
                <a:lnTo>
                  <a:pt x="138" y="529"/>
                </a:lnTo>
                <a:lnTo>
                  <a:pt x="136" y="530"/>
                </a:lnTo>
                <a:lnTo>
                  <a:pt x="141" y="539"/>
                </a:lnTo>
                <a:lnTo>
                  <a:pt x="157" y="561"/>
                </a:lnTo>
                <a:lnTo>
                  <a:pt x="169" y="578"/>
                </a:lnTo>
                <a:lnTo>
                  <a:pt x="170" y="578"/>
                </a:lnTo>
                <a:lnTo>
                  <a:pt x="165" y="581"/>
                </a:lnTo>
                <a:lnTo>
                  <a:pt x="143" y="599"/>
                </a:lnTo>
                <a:lnTo>
                  <a:pt x="66" y="657"/>
                </a:lnTo>
                <a:lnTo>
                  <a:pt x="7" y="701"/>
                </a:lnTo>
                <a:lnTo>
                  <a:pt x="3" y="703"/>
                </a:lnTo>
                <a:lnTo>
                  <a:pt x="2" y="708"/>
                </a:lnTo>
                <a:lnTo>
                  <a:pt x="2" y="740"/>
                </a:lnTo>
                <a:lnTo>
                  <a:pt x="1" y="853"/>
                </a:lnTo>
                <a:lnTo>
                  <a:pt x="0" y="946"/>
                </a:lnTo>
                <a:lnTo>
                  <a:pt x="0" y="953"/>
                </a:lnTo>
                <a:lnTo>
                  <a:pt x="1" y="957"/>
                </a:lnTo>
                <a:lnTo>
                  <a:pt x="8" y="985"/>
                </a:lnTo>
                <a:lnTo>
                  <a:pt x="33" y="1079"/>
                </a:lnTo>
                <a:lnTo>
                  <a:pt x="53" y="1150"/>
                </a:lnTo>
                <a:lnTo>
                  <a:pt x="55" y="1153"/>
                </a:lnTo>
                <a:lnTo>
                  <a:pt x="59" y="1159"/>
                </a:lnTo>
                <a:lnTo>
                  <a:pt x="71" y="1170"/>
                </a:lnTo>
                <a:lnTo>
                  <a:pt x="94" y="1196"/>
                </a:lnTo>
                <a:lnTo>
                  <a:pt x="101" y="1208"/>
                </a:lnTo>
                <a:lnTo>
                  <a:pt x="105" y="1220"/>
                </a:lnTo>
                <a:lnTo>
                  <a:pt x="106" y="1225"/>
                </a:lnTo>
                <a:lnTo>
                  <a:pt x="105" y="1230"/>
                </a:lnTo>
                <a:lnTo>
                  <a:pt x="105" y="1238"/>
                </a:lnTo>
                <a:lnTo>
                  <a:pt x="105" y="1251"/>
                </a:lnTo>
                <a:lnTo>
                  <a:pt x="99" y="1266"/>
                </a:lnTo>
                <a:lnTo>
                  <a:pt x="97" y="1271"/>
                </a:lnTo>
                <a:lnTo>
                  <a:pt x="116" y="1278"/>
                </a:lnTo>
                <a:lnTo>
                  <a:pt x="156" y="1285"/>
                </a:lnTo>
                <a:lnTo>
                  <a:pt x="194" y="1288"/>
                </a:lnTo>
                <a:lnTo>
                  <a:pt x="267" y="1306"/>
                </a:lnTo>
                <a:lnTo>
                  <a:pt x="321" y="1350"/>
                </a:lnTo>
                <a:lnTo>
                  <a:pt x="320" y="1356"/>
                </a:lnTo>
                <a:lnTo>
                  <a:pt x="318" y="1373"/>
                </a:lnTo>
                <a:lnTo>
                  <a:pt x="317" y="1386"/>
                </a:lnTo>
                <a:lnTo>
                  <a:pt x="306" y="1415"/>
                </a:lnTo>
                <a:lnTo>
                  <a:pt x="282" y="1465"/>
                </a:lnTo>
                <a:lnTo>
                  <a:pt x="233" y="1551"/>
                </a:lnTo>
                <a:lnTo>
                  <a:pt x="216" y="1655"/>
                </a:lnTo>
                <a:lnTo>
                  <a:pt x="222" y="1688"/>
                </a:lnTo>
                <a:lnTo>
                  <a:pt x="228" y="1688"/>
                </a:lnTo>
                <a:lnTo>
                  <a:pt x="245" y="1687"/>
                </a:lnTo>
                <a:lnTo>
                  <a:pt x="292" y="1682"/>
                </a:lnTo>
                <a:lnTo>
                  <a:pt x="312" y="1678"/>
                </a:lnTo>
                <a:lnTo>
                  <a:pt x="320" y="1675"/>
                </a:lnTo>
                <a:lnTo>
                  <a:pt x="325" y="1671"/>
                </a:lnTo>
                <a:lnTo>
                  <a:pt x="327" y="1667"/>
                </a:lnTo>
                <a:lnTo>
                  <a:pt x="325" y="1662"/>
                </a:lnTo>
                <a:lnTo>
                  <a:pt x="320" y="1648"/>
                </a:lnTo>
                <a:lnTo>
                  <a:pt x="317" y="1636"/>
                </a:lnTo>
                <a:lnTo>
                  <a:pt x="317" y="1635"/>
                </a:lnTo>
                <a:lnTo>
                  <a:pt x="322" y="1623"/>
                </a:lnTo>
                <a:lnTo>
                  <a:pt x="333" y="1615"/>
                </a:lnTo>
                <a:lnTo>
                  <a:pt x="346" y="1613"/>
                </a:lnTo>
                <a:lnTo>
                  <a:pt x="361" y="1614"/>
                </a:lnTo>
                <a:lnTo>
                  <a:pt x="377" y="1618"/>
                </a:lnTo>
                <a:lnTo>
                  <a:pt x="412" y="1634"/>
                </a:lnTo>
                <a:lnTo>
                  <a:pt x="446" y="1653"/>
                </a:lnTo>
                <a:lnTo>
                  <a:pt x="472" y="1670"/>
                </a:lnTo>
                <a:lnTo>
                  <a:pt x="482" y="1677"/>
                </a:lnTo>
                <a:lnTo>
                  <a:pt x="485" y="1677"/>
                </a:lnTo>
                <a:lnTo>
                  <a:pt x="496" y="1676"/>
                </a:lnTo>
                <a:lnTo>
                  <a:pt x="525" y="1672"/>
                </a:lnTo>
                <a:lnTo>
                  <a:pt x="558" y="1670"/>
                </a:lnTo>
                <a:lnTo>
                  <a:pt x="566" y="1669"/>
                </a:lnTo>
                <a:lnTo>
                  <a:pt x="581" y="1682"/>
                </a:lnTo>
                <a:lnTo>
                  <a:pt x="628" y="1717"/>
                </a:lnTo>
                <a:lnTo>
                  <a:pt x="663" y="1745"/>
                </a:lnTo>
                <a:lnTo>
                  <a:pt x="665" y="1746"/>
                </a:lnTo>
                <a:lnTo>
                  <a:pt x="673" y="1739"/>
                </a:lnTo>
                <a:lnTo>
                  <a:pt x="692" y="1723"/>
                </a:lnTo>
                <a:lnTo>
                  <a:pt x="735" y="1697"/>
                </a:lnTo>
                <a:lnTo>
                  <a:pt x="782" y="1680"/>
                </a:lnTo>
                <a:lnTo>
                  <a:pt x="795" y="1677"/>
                </a:lnTo>
                <a:lnTo>
                  <a:pt x="815" y="1669"/>
                </a:lnTo>
                <a:lnTo>
                  <a:pt x="861" y="1659"/>
                </a:lnTo>
                <a:lnTo>
                  <a:pt x="959" y="1648"/>
                </a:lnTo>
                <a:lnTo>
                  <a:pt x="1053" y="1639"/>
                </a:lnTo>
                <a:lnTo>
                  <a:pt x="1075" y="1635"/>
                </a:lnTo>
                <a:lnTo>
                  <a:pt x="1074" y="1632"/>
                </a:lnTo>
                <a:lnTo>
                  <a:pt x="1072" y="1627"/>
                </a:lnTo>
                <a:lnTo>
                  <a:pt x="1068" y="1623"/>
                </a:lnTo>
                <a:lnTo>
                  <a:pt x="1061" y="1612"/>
                </a:lnTo>
                <a:lnTo>
                  <a:pt x="1039" y="1595"/>
                </a:lnTo>
                <a:lnTo>
                  <a:pt x="1025" y="1589"/>
                </a:lnTo>
                <a:lnTo>
                  <a:pt x="1039" y="1574"/>
                </a:lnTo>
                <a:lnTo>
                  <a:pt x="1078" y="1539"/>
                </a:lnTo>
                <a:lnTo>
                  <a:pt x="1177" y="1475"/>
                </a:lnTo>
                <a:lnTo>
                  <a:pt x="1269" y="1433"/>
                </a:lnTo>
                <a:lnTo>
                  <a:pt x="1287" y="1429"/>
                </a:lnTo>
                <a:lnTo>
                  <a:pt x="1282" y="1423"/>
                </a:lnTo>
                <a:lnTo>
                  <a:pt x="1267" y="1402"/>
                </a:lnTo>
                <a:lnTo>
                  <a:pt x="1255" y="1387"/>
                </a:lnTo>
                <a:lnTo>
                  <a:pt x="1255" y="1386"/>
                </a:lnTo>
                <a:lnTo>
                  <a:pt x="1250" y="1382"/>
                </a:lnTo>
                <a:lnTo>
                  <a:pt x="1245" y="1379"/>
                </a:lnTo>
                <a:lnTo>
                  <a:pt x="1239" y="1376"/>
                </a:lnTo>
                <a:lnTo>
                  <a:pt x="1224" y="1371"/>
                </a:lnTo>
                <a:lnTo>
                  <a:pt x="1181" y="1348"/>
                </a:lnTo>
                <a:lnTo>
                  <a:pt x="1135" y="1305"/>
                </a:lnTo>
                <a:lnTo>
                  <a:pt x="1117" y="1285"/>
                </a:lnTo>
                <a:lnTo>
                  <a:pt x="1084" y="1243"/>
                </a:lnTo>
                <a:lnTo>
                  <a:pt x="1034" y="1166"/>
                </a:lnTo>
                <a:lnTo>
                  <a:pt x="1009" y="1123"/>
                </a:lnTo>
                <a:lnTo>
                  <a:pt x="1008" y="1120"/>
                </a:lnTo>
                <a:lnTo>
                  <a:pt x="990" y="1113"/>
                </a:lnTo>
                <a:lnTo>
                  <a:pt x="938" y="1091"/>
                </a:lnTo>
                <a:lnTo>
                  <a:pt x="898" y="1073"/>
                </a:lnTo>
                <a:lnTo>
                  <a:pt x="896" y="1072"/>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49"/>
          <p:cNvSpPr/>
          <p:nvPr/>
        </p:nvSpPr>
        <p:spPr>
          <a:xfrm>
            <a:off x="2556000" y="3249720"/>
            <a:ext cx="1065240" cy="1385640"/>
          </a:xfrm>
          <a:custGeom>
            <a:avLst/>
            <a:gdLst>
              <a:gd name="textAreaLeft" fmla="*/ 0 w 1065240"/>
              <a:gd name="textAreaRight" fmla="*/ 1065240 w 1065240"/>
              <a:gd name="textAreaTop" fmla="*/ 0 h 1385640"/>
              <a:gd name="textAreaBottom" fmla="*/ 1386000 h 1385640"/>
            </a:gdLst>
            <a:ahLst/>
            <a:rect l="textAreaLeft" t="textAreaTop" r="textAreaRight" b="textAreaBottom"/>
            <a:pathLst>
              <a:path w="1343" h="1746">
                <a:moveTo>
                  <a:pt x="896" y="1072"/>
                </a:moveTo>
                <a:lnTo>
                  <a:pt x="928" y="1058"/>
                </a:lnTo>
                <a:lnTo>
                  <a:pt x="995" y="1034"/>
                </a:lnTo>
                <a:lnTo>
                  <a:pt x="1125" y="983"/>
                </a:lnTo>
                <a:lnTo>
                  <a:pt x="1235" y="881"/>
                </a:lnTo>
                <a:lnTo>
                  <a:pt x="1257" y="841"/>
                </a:lnTo>
                <a:lnTo>
                  <a:pt x="1269" y="846"/>
                </a:lnTo>
                <a:lnTo>
                  <a:pt x="1306" y="860"/>
                </a:lnTo>
                <a:lnTo>
                  <a:pt x="1335" y="872"/>
                </a:lnTo>
                <a:lnTo>
                  <a:pt x="1338" y="872"/>
                </a:lnTo>
                <a:lnTo>
                  <a:pt x="1340" y="865"/>
                </a:lnTo>
                <a:lnTo>
                  <a:pt x="1343" y="851"/>
                </a:lnTo>
                <a:lnTo>
                  <a:pt x="1342" y="837"/>
                </a:lnTo>
                <a:lnTo>
                  <a:pt x="1339" y="822"/>
                </a:lnTo>
                <a:lnTo>
                  <a:pt x="1326" y="779"/>
                </a:lnTo>
                <a:lnTo>
                  <a:pt x="1323" y="765"/>
                </a:lnTo>
                <a:lnTo>
                  <a:pt x="1321" y="762"/>
                </a:lnTo>
                <a:lnTo>
                  <a:pt x="1318" y="740"/>
                </a:lnTo>
                <a:lnTo>
                  <a:pt x="1308" y="666"/>
                </a:lnTo>
                <a:lnTo>
                  <a:pt x="1299" y="610"/>
                </a:lnTo>
                <a:lnTo>
                  <a:pt x="1299" y="606"/>
                </a:lnTo>
                <a:lnTo>
                  <a:pt x="1297" y="604"/>
                </a:lnTo>
                <a:lnTo>
                  <a:pt x="1284" y="585"/>
                </a:lnTo>
                <a:lnTo>
                  <a:pt x="1241" y="521"/>
                </a:lnTo>
                <a:lnTo>
                  <a:pt x="1208" y="472"/>
                </a:lnTo>
                <a:lnTo>
                  <a:pt x="1207" y="469"/>
                </a:lnTo>
                <a:lnTo>
                  <a:pt x="1207" y="462"/>
                </a:lnTo>
                <a:lnTo>
                  <a:pt x="1209" y="446"/>
                </a:lnTo>
                <a:lnTo>
                  <a:pt x="1220" y="415"/>
                </a:lnTo>
                <a:lnTo>
                  <a:pt x="1236" y="385"/>
                </a:lnTo>
                <a:lnTo>
                  <a:pt x="1240" y="377"/>
                </a:lnTo>
                <a:lnTo>
                  <a:pt x="1239" y="373"/>
                </a:lnTo>
                <a:lnTo>
                  <a:pt x="1235" y="352"/>
                </a:lnTo>
                <a:lnTo>
                  <a:pt x="1218" y="279"/>
                </a:lnTo>
                <a:lnTo>
                  <a:pt x="1207" y="223"/>
                </a:lnTo>
                <a:lnTo>
                  <a:pt x="1207" y="219"/>
                </a:lnTo>
                <a:lnTo>
                  <a:pt x="1205" y="217"/>
                </a:lnTo>
                <a:lnTo>
                  <a:pt x="1201" y="214"/>
                </a:lnTo>
                <a:lnTo>
                  <a:pt x="1198" y="210"/>
                </a:lnTo>
                <a:lnTo>
                  <a:pt x="1187" y="204"/>
                </a:lnTo>
                <a:lnTo>
                  <a:pt x="1162" y="190"/>
                </a:lnTo>
                <a:lnTo>
                  <a:pt x="1113" y="163"/>
                </a:lnTo>
                <a:lnTo>
                  <a:pt x="1121" y="139"/>
                </a:lnTo>
                <a:lnTo>
                  <a:pt x="1132" y="133"/>
                </a:lnTo>
                <a:lnTo>
                  <a:pt x="1138" y="124"/>
                </a:lnTo>
                <a:lnTo>
                  <a:pt x="1141" y="115"/>
                </a:lnTo>
                <a:lnTo>
                  <a:pt x="1141" y="104"/>
                </a:lnTo>
                <a:lnTo>
                  <a:pt x="1139" y="92"/>
                </a:lnTo>
                <a:lnTo>
                  <a:pt x="1135" y="81"/>
                </a:lnTo>
                <a:lnTo>
                  <a:pt x="1122" y="59"/>
                </a:lnTo>
                <a:lnTo>
                  <a:pt x="1108" y="38"/>
                </a:lnTo>
                <a:lnTo>
                  <a:pt x="1097" y="22"/>
                </a:lnTo>
                <a:lnTo>
                  <a:pt x="1092" y="18"/>
                </a:lnTo>
                <a:lnTo>
                  <a:pt x="1082" y="9"/>
                </a:lnTo>
                <a:lnTo>
                  <a:pt x="1073" y="3"/>
                </a:lnTo>
                <a:lnTo>
                  <a:pt x="1068" y="1"/>
                </a:lnTo>
                <a:lnTo>
                  <a:pt x="1063" y="0"/>
                </a:lnTo>
                <a:lnTo>
                  <a:pt x="1057" y="1"/>
                </a:lnTo>
                <a:lnTo>
                  <a:pt x="1051" y="4"/>
                </a:lnTo>
                <a:lnTo>
                  <a:pt x="1045" y="9"/>
                </a:lnTo>
                <a:lnTo>
                  <a:pt x="1037" y="16"/>
                </a:lnTo>
                <a:lnTo>
                  <a:pt x="1031" y="25"/>
                </a:lnTo>
                <a:lnTo>
                  <a:pt x="1025" y="35"/>
                </a:lnTo>
                <a:lnTo>
                  <a:pt x="1025" y="39"/>
                </a:lnTo>
                <a:lnTo>
                  <a:pt x="1025" y="43"/>
                </a:lnTo>
                <a:lnTo>
                  <a:pt x="1028" y="46"/>
                </a:lnTo>
                <a:lnTo>
                  <a:pt x="1030" y="48"/>
                </a:lnTo>
                <a:lnTo>
                  <a:pt x="1033" y="52"/>
                </a:lnTo>
                <a:lnTo>
                  <a:pt x="1040" y="56"/>
                </a:lnTo>
                <a:lnTo>
                  <a:pt x="1048" y="60"/>
                </a:lnTo>
                <a:lnTo>
                  <a:pt x="1057" y="64"/>
                </a:lnTo>
                <a:lnTo>
                  <a:pt x="1062" y="69"/>
                </a:lnTo>
                <a:lnTo>
                  <a:pt x="1064" y="72"/>
                </a:lnTo>
                <a:lnTo>
                  <a:pt x="1065" y="75"/>
                </a:lnTo>
                <a:lnTo>
                  <a:pt x="1066" y="79"/>
                </a:lnTo>
                <a:lnTo>
                  <a:pt x="1065" y="83"/>
                </a:lnTo>
                <a:lnTo>
                  <a:pt x="1062" y="88"/>
                </a:lnTo>
                <a:lnTo>
                  <a:pt x="1059" y="94"/>
                </a:lnTo>
                <a:lnTo>
                  <a:pt x="1046" y="108"/>
                </a:lnTo>
                <a:lnTo>
                  <a:pt x="1037" y="116"/>
                </a:lnTo>
                <a:lnTo>
                  <a:pt x="1017" y="132"/>
                </a:lnTo>
                <a:lnTo>
                  <a:pt x="977" y="153"/>
                </a:lnTo>
                <a:lnTo>
                  <a:pt x="941" y="163"/>
                </a:lnTo>
                <a:lnTo>
                  <a:pt x="909" y="165"/>
                </a:lnTo>
                <a:lnTo>
                  <a:pt x="882" y="162"/>
                </a:lnTo>
                <a:lnTo>
                  <a:pt x="861" y="156"/>
                </a:lnTo>
                <a:lnTo>
                  <a:pt x="855" y="153"/>
                </a:lnTo>
                <a:lnTo>
                  <a:pt x="854" y="154"/>
                </a:lnTo>
                <a:lnTo>
                  <a:pt x="851" y="163"/>
                </a:lnTo>
                <a:lnTo>
                  <a:pt x="839" y="188"/>
                </a:lnTo>
                <a:lnTo>
                  <a:pt x="829" y="215"/>
                </a:lnTo>
                <a:lnTo>
                  <a:pt x="829" y="219"/>
                </a:lnTo>
                <a:lnTo>
                  <a:pt x="827" y="219"/>
                </a:lnTo>
                <a:lnTo>
                  <a:pt x="816" y="217"/>
                </a:lnTo>
                <a:lnTo>
                  <a:pt x="780" y="210"/>
                </a:lnTo>
                <a:lnTo>
                  <a:pt x="752" y="206"/>
                </a:lnTo>
                <a:lnTo>
                  <a:pt x="751" y="205"/>
                </a:lnTo>
                <a:lnTo>
                  <a:pt x="750" y="198"/>
                </a:lnTo>
                <a:lnTo>
                  <a:pt x="747" y="177"/>
                </a:lnTo>
                <a:lnTo>
                  <a:pt x="746" y="160"/>
                </a:lnTo>
                <a:lnTo>
                  <a:pt x="746" y="159"/>
                </a:lnTo>
                <a:lnTo>
                  <a:pt x="736" y="154"/>
                </a:lnTo>
                <a:lnTo>
                  <a:pt x="712" y="144"/>
                </a:lnTo>
                <a:lnTo>
                  <a:pt x="653" y="124"/>
                </a:lnTo>
                <a:lnTo>
                  <a:pt x="594" y="112"/>
                </a:lnTo>
                <a:lnTo>
                  <a:pt x="581" y="111"/>
                </a:lnTo>
                <a:lnTo>
                  <a:pt x="581" y="101"/>
                </a:lnTo>
                <a:lnTo>
                  <a:pt x="586" y="85"/>
                </a:lnTo>
                <a:lnTo>
                  <a:pt x="591" y="71"/>
                </a:lnTo>
                <a:lnTo>
                  <a:pt x="599" y="40"/>
                </a:lnTo>
                <a:lnTo>
                  <a:pt x="592" y="8"/>
                </a:lnTo>
                <a:lnTo>
                  <a:pt x="588" y="8"/>
                </a:lnTo>
                <a:lnTo>
                  <a:pt x="561" y="8"/>
                </a:lnTo>
                <a:lnTo>
                  <a:pt x="468" y="8"/>
                </a:lnTo>
                <a:lnTo>
                  <a:pt x="397" y="8"/>
                </a:lnTo>
                <a:lnTo>
                  <a:pt x="394" y="8"/>
                </a:lnTo>
                <a:lnTo>
                  <a:pt x="394" y="22"/>
                </a:lnTo>
                <a:lnTo>
                  <a:pt x="400" y="52"/>
                </a:lnTo>
                <a:lnTo>
                  <a:pt x="426" y="114"/>
                </a:lnTo>
                <a:lnTo>
                  <a:pt x="460" y="164"/>
                </a:lnTo>
                <a:lnTo>
                  <a:pt x="469" y="172"/>
                </a:lnTo>
                <a:lnTo>
                  <a:pt x="468" y="177"/>
                </a:lnTo>
                <a:lnTo>
                  <a:pt x="466" y="186"/>
                </a:lnTo>
                <a:lnTo>
                  <a:pt x="459" y="207"/>
                </a:lnTo>
                <a:lnTo>
                  <a:pt x="454" y="228"/>
                </a:lnTo>
                <a:lnTo>
                  <a:pt x="454" y="232"/>
                </a:lnTo>
                <a:lnTo>
                  <a:pt x="449" y="233"/>
                </a:lnTo>
                <a:lnTo>
                  <a:pt x="444" y="234"/>
                </a:lnTo>
                <a:lnTo>
                  <a:pt x="436" y="238"/>
                </a:lnTo>
                <a:lnTo>
                  <a:pt x="428" y="242"/>
                </a:lnTo>
                <a:lnTo>
                  <a:pt x="417" y="251"/>
                </a:lnTo>
                <a:lnTo>
                  <a:pt x="416" y="252"/>
                </a:lnTo>
                <a:lnTo>
                  <a:pt x="412" y="249"/>
                </a:lnTo>
                <a:lnTo>
                  <a:pt x="401" y="240"/>
                </a:lnTo>
                <a:lnTo>
                  <a:pt x="394" y="233"/>
                </a:lnTo>
                <a:lnTo>
                  <a:pt x="394" y="232"/>
                </a:lnTo>
                <a:lnTo>
                  <a:pt x="394" y="238"/>
                </a:lnTo>
                <a:lnTo>
                  <a:pt x="394" y="254"/>
                </a:lnTo>
                <a:lnTo>
                  <a:pt x="391" y="299"/>
                </a:lnTo>
                <a:lnTo>
                  <a:pt x="384" y="318"/>
                </a:lnTo>
                <a:lnTo>
                  <a:pt x="380" y="325"/>
                </a:lnTo>
                <a:lnTo>
                  <a:pt x="375" y="330"/>
                </a:lnTo>
                <a:lnTo>
                  <a:pt x="368" y="331"/>
                </a:lnTo>
                <a:lnTo>
                  <a:pt x="367" y="331"/>
                </a:lnTo>
                <a:lnTo>
                  <a:pt x="363" y="331"/>
                </a:lnTo>
                <a:lnTo>
                  <a:pt x="347" y="331"/>
                </a:lnTo>
                <a:lnTo>
                  <a:pt x="334" y="331"/>
                </a:lnTo>
                <a:lnTo>
                  <a:pt x="328" y="330"/>
                </a:lnTo>
                <a:lnTo>
                  <a:pt x="322" y="327"/>
                </a:lnTo>
                <a:lnTo>
                  <a:pt x="316" y="321"/>
                </a:lnTo>
                <a:lnTo>
                  <a:pt x="301" y="306"/>
                </a:lnTo>
                <a:lnTo>
                  <a:pt x="269" y="271"/>
                </a:lnTo>
                <a:lnTo>
                  <a:pt x="253" y="252"/>
                </a:lnTo>
                <a:lnTo>
                  <a:pt x="251" y="254"/>
                </a:lnTo>
                <a:lnTo>
                  <a:pt x="243" y="262"/>
                </a:lnTo>
                <a:lnTo>
                  <a:pt x="210" y="291"/>
                </a:lnTo>
                <a:lnTo>
                  <a:pt x="187" y="312"/>
                </a:lnTo>
                <a:lnTo>
                  <a:pt x="186" y="313"/>
                </a:lnTo>
                <a:lnTo>
                  <a:pt x="186" y="316"/>
                </a:lnTo>
                <a:lnTo>
                  <a:pt x="190" y="334"/>
                </a:lnTo>
                <a:lnTo>
                  <a:pt x="206" y="392"/>
                </a:lnTo>
                <a:lnTo>
                  <a:pt x="218" y="436"/>
                </a:lnTo>
                <a:lnTo>
                  <a:pt x="219" y="438"/>
                </a:lnTo>
                <a:lnTo>
                  <a:pt x="217" y="440"/>
                </a:lnTo>
                <a:lnTo>
                  <a:pt x="205" y="453"/>
                </a:lnTo>
                <a:lnTo>
                  <a:pt x="166" y="496"/>
                </a:lnTo>
                <a:lnTo>
                  <a:pt x="138" y="529"/>
                </a:lnTo>
                <a:lnTo>
                  <a:pt x="136" y="530"/>
                </a:lnTo>
                <a:lnTo>
                  <a:pt x="141" y="539"/>
                </a:lnTo>
                <a:lnTo>
                  <a:pt x="157" y="561"/>
                </a:lnTo>
                <a:lnTo>
                  <a:pt x="169" y="578"/>
                </a:lnTo>
                <a:lnTo>
                  <a:pt x="170" y="578"/>
                </a:lnTo>
                <a:lnTo>
                  <a:pt x="165" y="581"/>
                </a:lnTo>
                <a:lnTo>
                  <a:pt x="143" y="599"/>
                </a:lnTo>
                <a:lnTo>
                  <a:pt x="66" y="657"/>
                </a:lnTo>
                <a:lnTo>
                  <a:pt x="7" y="701"/>
                </a:lnTo>
                <a:lnTo>
                  <a:pt x="3" y="703"/>
                </a:lnTo>
                <a:lnTo>
                  <a:pt x="2" y="708"/>
                </a:lnTo>
                <a:lnTo>
                  <a:pt x="2" y="740"/>
                </a:lnTo>
                <a:lnTo>
                  <a:pt x="1" y="853"/>
                </a:lnTo>
                <a:lnTo>
                  <a:pt x="0" y="946"/>
                </a:lnTo>
                <a:lnTo>
                  <a:pt x="0" y="953"/>
                </a:lnTo>
                <a:lnTo>
                  <a:pt x="1" y="957"/>
                </a:lnTo>
                <a:lnTo>
                  <a:pt x="8" y="985"/>
                </a:lnTo>
                <a:lnTo>
                  <a:pt x="33" y="1079"/>
                </a:lnTo>
                <a:lnTo>
                  <a:pt x="53" y="1150"/>
                </a:lnTo>
                <a:lnTo>
                  <a:pt x="55" y="1153"/>
                </a:lnTo>
                <a:lnTo>
                  <a:pt x="59" y="1159"/>
                </a:lnTo>
                <a:lnTo>
                  <a:pt x="71" y="1170"/>
                </a:lnTo>
                <a:lnTo>
                  <a:pt x="94" y="1196"/>
                </a:lnTo>
                <a:lnTo>
                  <a:pt x="101" y="1208"/>
                </a:lnTo>
                <a:lnTo>
                  <a:pt x="105" y="1220"/>
                </a:lnTo>
                <a:lnTo>
                  <a:pt x="106" y="1225"/>
                </a:lnTo>
                <a:lnTo>
                  <a:pt x="105" y="1230"/>
                </a:lnTo>
                <a:lnTo>
                  <a:pt x="105" y="1238"/>
                </a:lnTo>
                <a:lnTo>
                  <a:pt x="105" y="1251"/>
                </a:lnTo>
                <a:lnTo>
                  <a:pt x="99" y="1266"/>
                </a:lnTo>
                <a:lnTo>
                  <a:pt x="97" y="1271"/>
                </a:lnTo>
                <a:lnTo>
                  <a:pt x="116" y="1278"/>
                </a:lnTo>
                <a:lnTo>
                  <a:pt x="156" y="1285"/>
                </a:lnTo>
                <a:lnTo>
                  <a:pt x="194" y="1288"/>
                </a:lnTo>
                <a:lnTo>
                  <a:pt x="267" y="1306"/>
                </a:lnTo>
                <a:lnTo>
                  <a:pt x="321" y="1350"/>
                </a:lnTo>
                <a:lnTo>
                  <a:pt x="320" y="1356"/>
                </a:lnTo>
                <a:lnTo>
                  <a:pt x="318" y="1373"/>
                </a:lnTo>
                <a:lnTo>
                  <a:pt x="317" y="1386"/>
                </a:lnTo>
                <a:lnTo>
                  <a:pt x="306" y="1415"/>
                </a:lnTo>
                <a:lnTo>
                  <a:pt x="282" y="1465"/>
                </a:lnTo>
                <a:lnTo>
                  <a:pt x="233" y="1551"/>
                </a:lnTo>
                <a:lnTo>
                  <a:pt x="216" y="1655"/>
                </a:lnTo>
                <a:lnTo>
                  <a:pt x="222" y="1688"/>
                </a:lnTo>
                <a:lnTo>
                  <a:pt x="228" y="1688"/>
                </a:lnTo>
                <a:lnTo>
                  <a:pt x="245" y="1687"/>
                </a:lnTo>
                <a:lnTo>
                  <a:pt x="292" y="1682"/>
                </a:lnTo>
                <a:lnTo>
                  <a:pt x="312" y="1678"/>
                </a:lnTo>
                <a:lnTo>
                  <a:pt x="320" y="1675"/>
                </a:lnTo>
                <a:lnTo>
                  <a:pt x="325" y="1671"/>
                </a:lnTo>
                <a:lnTo>
                  <a:pt x="327" y="1667"/>
                </a:lnTo>
                <a:lnTo>
                  <a:pt x="325" y="1662"/>
                </a:lnTo>
                <a:lnTo>
                  <a:pt x="320" y="1648"/>
                </a:lnTo>
                <a:lnTo>
                  <a:pt x="317" y="1636"/>
                </a:lnTo>
                <a:lnTo>
                  <a:pt x="317" y="1635"/>
                </a:lnTo>
                <a:lnTo>
                  <a:pt x="322" y="1623"/>
                </a:lnTo>
                <a:lnTo>
                  <a:pt x="333" y="1615"/>
                </a:lnTo>
                <a:lnTo>
                  <a:pt x="346" y="1613"/>
                </a:lnTo>
                <a:lnTo>
                  <a:pt x="361" y="1614"/>
                </a:lnTo>
                <a:lnTo>
                  <a:pt x="377" y="1618"/>
                </a:lnTo>
                <a:lnTo>
                  <a:pt x="412" y="1634"/>
                </a:lnTo>
                <a:lnTo>
                  <a:pt x="446" y="1653"/>
                </a:lnTo>
                <a:lnTo>
                  <a:pt x="472" y="1670"/>
                </a:lnTo>
                <a:lnTo>
                  <a:pt x="482" y="1677"/>
                </a:lnTo>
                <a:lnTo>
                  <a:pt x="485" y="1677"/>
                </a:lnTo>
                <a:lnTo>
                  <a:pt x="496" y="1676"/>
                </a:lnTo>
                <a:lnTo>
                  <a:pt x="525" y="1672"/>
                </a:lnTo>
                <a:lnTo>
                  <a:pt x="558" y="1670"/>
                </a:lnTo>
                <a:lnTo>
                  <a:pt x="566" y="1669"/>
                </a:lnTo>
                <a:lnTo>
                  <a:pt x="581" y="1682"/>
                </a:lnTo>
                <a:lnTo>
                  <a:pt x="628" y="1717"/>
                </a:lnTo>
                <a:lnTo>
                  <a:pt x="663" y="1745"/>
                </a:lnTo>
                <a:lnTo>
                  <a:pt x="665" y="1746"/>
                </a:lnTo>
                <a:lnTo>
                  <a:pt x="673" y="1739"/>
                </a:lnTo>
                <a:lnTo>
                  <a:pt x="692" y="1723"/>
                </a:lnTo>
                <a:lnTo>
                  <a:pt x="735" y="1697"/>
                </a:lnTo>
                <a:lnTo>
                  <a:pt x="782" y="1680"/>
                </a:lnTo>
                <a:lnTo>
                  <a:pt x="795" y="1677"/>
                </a:lnTo>
                <a:lnTo>
                  <a:pt x="815" y="1669"/>
                </a:lnTo>
                <a:lnTo>
                  <a:pt x="861" y="1659"/>
                </a:lnTo>
                <a:lnTo>
                  <a:pt x="959" y="1648"/>
                </a:lnTo>
                <a:lnTo>
                  <a:pt x="1053" y="1639"/>
                </a:lnTo>
                <a:lnTo>
                  <a:pt x="1075" y="1635"/>
                </a:lnTo>
                <a:lnTo>
                  <a:pt x="1074" y="1632"/>
                </a:lnTo>
                <a:lnTo>
                  <a:pt x="1072" y="1627"/>
                </a:lnTo>
                <a:lnTo>
                  <a:pt x="1068" y="1623"/>
                </a:lnTo>
                <a:lnTo>
                  <a:pt x="1061" y="1612"/>
                </a:lnTo>
                <a:lnTo>
                  <a:pt x="1039" y="1595"/>
                </a:lnTo>
                <a:lnTo>
                  <a:pt x="1025" y="1589"/>
                </a:lnTo>
                <a:lnTo>
                  <a:pt x="1039" y="1574"/>
                </a:lnTo>
                <a:lnTo>
                  <a:pt x="1078" y="1539"/>
                </a:lnTo>
                <a:lnTo>
                  <a:pt x="1177" y="1475"/>
                </a:lnTo>
                <a:lnTo>
                  <a:pt x="1269" y="1433"/>
                </a:lnTo>
                <a:lnTo>
                  <a:pt x="1287" y="1429"/>
                </a:lnTo>
                <a:lnTo>
                  <a:pt x="1282" y="1423"/>
                </a:lnTo>
                <a:lnTo>
                  <a:pt x="1267" y="1402"/>
                </a:lnTo>
                <a:lnTo>
                  <a:pt x="1255" y="1387"/>
                </a:lnTo>
                <a:lnTo>
                  <a:pt x="1255" y="1386"/>
                </a:lnTo>
                <a:lnTo>
                  <a:pt x="1250" y="1382"/>
                </a:lnTo>
                <a:lnTo>
                  <a:pt x="1245" y="1379"/>
                </a:lnTo>
                <a:lnTo>
                  <a:pt x="1239" y="1376"/>
                </a:lnTo>
                <a:lnTo>
                  <a:pt x="1224" y="1371"/>
                </a:lnTo>
                <a:lnTo>
                  <a:pt x="1181" y="1348"/>
                </a:lnTo>
                <a:lnTo>
                  <a:pt x="1135" y="1305"/>
                </a:lnTo>
                <a:lnTo>
                  <a:pt x="1117" y="1285"/>
                </a:lnTo>
                <a:lnTo>
                  <a:pt x="1084" y="1243"/>
                </a:lnTo>
                <a:lnTo>
                  <a:pt x="1034" y="1166"/>
                </a:lnTo>
                <a:lnTo>
                  <a:pt x="1009" y="1123"/>
                </a:lnTo>
                <a:lnTo>
                  <a:pt x="1008" y="1120"/>
                </a:lnTo>
                <a:lnTo>
                  <a:pt x="990" y="1113"/>
                </a:lnTo>
                <a:lnTo>
                  <a:pt x="938" y="1091"/>
                </a:lnTo>
                <a:lnTo>
                  <a:pt x="898" y="1073"/>
                </a:lnTo>
                <a:lnTo>
                  <a:pt x="896" y="1072"/>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50"/>
          <p:cNvSpPr/>
          <p:nvPr/>
        </p:nvSpPr>
        <p:spPr>
          <a:xfrm>
            <a:off x="2241720" y="3505320"/>
            <a:ext cx="485640" cy="500040"/>
          </a:xfrm>
          <a:custGeom>
            <a:avLst/>
            <a:gdLst>
              <a:gd name="textAreaLeft" fmla="*/ 0 w 485640"/>
              <a:gd name="textAreaRight" fmla="*/ 486000 w 485640"/>
              <a:gd name="textAreaTop" fmla="*/ 0 h 500040"/>
              <a:gd name="textAreaBottom" fmla="*/ 500400 h 500040"/>
            </a:gdLst>
            <a:ahLst/>
            <a:rect l="textAreaLeft" t="textAreaTop" r="textAreaRight" b="textAreaBottom"/>
            <a:pathLst>
              <a:path w="613" h="629">
                <a:moveTo>
                  <a:pt x="396" y="382"/>
                </a:moveTo>
                <a:lnTo>
                  <a:pt x="400" y="380"/>
                </a:lnTo>
                <a:lnTo>
                  <a:pt x="422" y="363"/>
                </a:lnTo>
                <a:lnTo>
                  <a:pt x="500" y="305"/>
                </a:lnTo>
                <a:lnTo>
                  <a:pt x="559" y="261"/>
                </a:lnTo>
                <a:lnTo>
                  <a:pt x="564" y="258"/>
                </a:lnTo>
                <a:lnTo>
                  <a:pt x="558" y="251"/>
                </a:lnTo>
                <a:lnTo>
                  <a:pt x="544" y="228"/>
                </a:lnTo>
                <a:lnTo>
                  <a:pt x="534" y="209"/>
                </a:lnTo>
                <a:lnTo>
                  <a:pt x="534" y="208"/>
                </a:lnTo>
                <a:lnTo>
                  <a:pt x="535" y="207"/>
                </a:lnTo>
                <a:lnTo>
                  <a:pt x="545" y="194"/>
                </a:lnTo>
                <a:lnTo>
                  <a:pt x="583" y="151"/>
                </a:lnTo>
                <a:lnTo>
                  <a:pt x="611" y="119"/>
                </a:lnTo>
                <a:lnTo>
                  <a:pt x="613" y="117"/>
                </a:lnTo>
                <a:lnTo>
                  <a:pt x="609" y="103"/>
                </a:lnTo>
                <a:lnTo>
                  <a:pt x="598" y="62"/>
                </a:lnTo>
                <a:lnTo>
                  <a:pt x="590" y="30"/>
                </a:lnTo>
                <a:lnTo>
                  <a:pt x="590" y="28"/>
                </a:lnTo>
                <a:lnTo>
                  <a:pt x="587" y="23"/>
                </a:lnTo>
                <a:lnTo>
                  <a:pt x="584" y="18"/>
                </a:lnTo>
                <a:lnTo>
                  <a:pt x="579" y="14"/>
                </a:lnTo>
                <a:lnTo>
                  <a:pt x="572" y="10"/>
                </a:lnTo>
                <a:lnTo>
                  <a:pt x="555" y="4"/>
                </a:lnTo>
                <a:lnTo>
                  <a:pt x="534" y="1"/>
                </a:lnTo>
                <a:lnTo>
                  <a:pt x="482" y="0"/>
                </a:lnTo>
                <a:lnTo>
                  <a:pt x="426" y="9"/>
                </a:lnTo>
                <a:lnTo>
                  <a:pt x="375" y="27"/>
                </a:lnTo>
                <a:lnTo>
                  <a:pt x="334" y="54"/>
                </a:lnTo>
                <a:lnTo>
                  <a:pt x="335" y="69"/>
                </a:lnTo>
                <a:lnTo>
                  <a:pt x="343" y="95"/>
                </a:lnTo>
                <a:lnTo>
                  <a:pt x="353" y="120"/>
                </a:lnTo>
                <a:lnTo>
                  <a:pt x="361" y="143"/>
                </a:lnTo>
                <a:lnTo>
                  <a:pt x="361" y="167"/>
                </a:lnTo>
                <a:lnTo>
                  <a:pt x="347" y="194"/>
                </a:lnTo>
                <a:lnTo>
                  <a:pt x="334" y="208"/>
                </a:lnTo>
                <a:lnTo>
                  <a:pt x="332" y="208"/>
                </a:lnTo>
                <a:lnTo>
                  <a:pt x="323" y="208"/>
                </a:lnTo>
                <a:lnTo>
                  <a:pt x="292" y="208"/>
                </a:lnTo>
                <a:lnTo>
                  <a:pt x="269" y="208"/>
                </a:lnTo>
                <a:lnTo>
                  <a:pt x="268" y="208"/>
                </a:lnTo>
                <a:lnTo>
                  <a:pt x="264" y="206"/>
                </a:lnTo>
                <a:lnTo>
                  <a:pt x="257" y="199"/>
                </a:lnTo>
                <a:lnTo>
                  <a:pt x="252" y="194"/>
                </a:lnTo>
                <a:lnTo>
                  <a:pt x="252" y="193"/>
                </a:lnTo>
                <a:lnTo>
                  <a:pt x="250" y="189"/>
                </a:lnTo>
                <a:lnTo>
                  <a:pt x="248" y="175"/>
                </a:lnTo>
                <a:lnTo>
                  <a:pt x="241" y="137"/>
                </a:lnTo>
                <a:lnTo>
                  <a:pt x="234" y="105"/>
                </a:lnTo>
                <a:lnTo>
                  <a:pt x="234" y="100"/>
                </a:lnTo>
                <a:lnTo>
                  <a:pt x="226" y="117"/>
                </a:lnTo>
                <a:lnTo>
                  <a:pt x="211" y="152"/>
                </a:lnTo>
                <a:lnTo>
                  <a:pt x="180" y="229"/>
                </a:lnTo>
                <a:lnTo>
                  <a:pt x="135" y="302"/>
                </a:lnTo>
                <a:lnTo>
                  <a:pt x="120" y="318"/>
                </a:lnTo>
                <a:lnTo>
                  <a:pt x="110" y="327"/>
                </a:lnTo>
                <a:lnTo>
                  <a:pt x="86" y="344"/>
                </a:lnTo>
                <a:lnTo>
                  <a:pt x="35" y="384"/>
                </a:lnTo>
                <a:lnTo>
                  <a:pt x="13" y="406"/>
                </a:lnTo>
                <a:lnTo>
                  <a:pt x="1" y="428"/>
                </a:lnTo>
                <a:lnTo>
                  <a:pt x="0" y="440"/>
                </a:lnTo>
                <a:lnTo>
                  <a:pt x="9" y="444"/>
                </a:lnTo>
                <a:lnTo>
                  <a:pt x="40" y="455"/>
                </a:lnTo>
                <a:lnTo>
                  <a:pt x="63" y="464"/>
                </a:lnTo>
                <a:lnTo>
                  <a:pt x="65" y="464"/>
                </a:lnTo>
                <a:lnTo>
                  <a:pt x="66" y="464"/>
                </a:lnTo>
                <a:lnTo>
                  <a:pt x="80" y="461"/>
                </a:lnTo>
                <a:lnTo>
                  <a:pt x="126" y="452"/>
                </a:lnTo>
                <a:lnTo>
                  <a:pt x="161" y="445"/>
                </a:lnTo>
                <a:lnTo>
                  <a:pt x="164" y="444"/>
                </a:lnTo>
                <a:lnTo>
                  <a:pt x="167" y="446"/>
                </a:lnTo>
                <a:lnTo>
                  <a:pt x="191" y="457"/>
                </a:lnTo>
                <a:lnTo>
                  <a:pt x="275" y="495"/>
                </a:lnTo>
                <a:lnTo>
                  <a:pt x="338" y="523"/>
                </a:lnTo>
                <a:lnTo>
                  <a:pt x="343" y="524"/>
                </a:lnTo>
                <a:lnTo>
                  <a:pt x="342" y="526"/>
                </a:lnTo>
                <a:lnTo>
                  <a:pt x="339" y="536"/>
                </a:lnTo>
                <a:lnTo>
                  <a:pt x="332" y="572"/>
                </a:lnTo>
                <a:lnTo>
                  <a:pt x="327" y="600"/>
                </a:lnTo>
                <a:lnTo>
                  <a:pt x="327" y="601"/>
                </a:lnTo>
                <a:lnTo>
                  <a:pt x="334" y="603"/>
                </a:lnTo>
                <a:lnTo>
                  <a:pt x="348" y="606"/>
                </a:lnTo>
                <a:lnTo>
                  <a:pt x="372" y="612"/>
                </a:lnTo>
                <a:lnTo>
                  <a:pt x="391" y="625"/>
                </a:lnTo>
                <a:lnTo>
                  <a:pt x="396" y="629"/>
                </a:lnTo>
                <a:lnTo>
                  <a:pt x="396" y="625"/>
                </a:lnTo>
                <a:lnTo>
                  <a:pt x="396" y="591"/>
                </a:lnTo>
                <a:lnTo>
                  <a:pt x="396" y="475"/>
                </a:lnTo>
                <a:lnTo>
                  <a:pt x="396" y="387"/>
                </a:lnTo>
                <a:lnTo>
                  <a:pt x="396" y="3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51"/>
          <p:cNvSpPr/>
          <p:nvPr/>
        </p:nvSpPr>
        <p:spPr>
          <a:xfrm>
            <a:off x="2241720" y="3505320"/>
            <a:ext cx="485640" cy="500040"/>
          </a:xfrm>
          <a:custGeom>
            <a:avLst/>
            <a:gdLst>
              <a:gd name="textAreaLeft" fmla="*/ 0 w 485640"/>
              <a:gd name="textAreaRight" fmla="*/ 486000 w 485640"/>
              <a:gd name="textAreaTop" fmla="*/ 0 h 500040"/>
              <a:gd name="textAreaBottom" fmla="*/ 500400 h 500040"/>
            </a:gdLst>
            <a:ahLst/>
            <a:rect l="textAreaLeft" t="textAreaTop" r="textAreaRight" b="textAreaBottom"/>
            <a:pathLst>
              <a:path w="613" h="629">
                <a:moveTo>
                  <a:pt x="396" y="382"/>
                </a:moveTo>
                <a:lnTo>
                  <a:pt x="400" y="380"/>
                </a:lnTo>
                <a:lnTo>
                  <a:pt x="422" y="363"/>
                </a:lnTo>
                <a:lnTo>
                  <a:pt x="500" y="305"/>
                </a:lnTo>
                <a:lnTo>
                  <a:pt x="559" y="261"/>
                </a:lnTo>
                <a:lnTo>
                  <a:pt x="564" y="258"/>
                </a:lnTo>
                <a:lnTo>
                  <a:pt x="558" y="251"/>
                </a:lnTo>
                <a:lnTo>
                  <a:pt x="544" y="228"/>
                </a:lnTo>
                <a:lnTo>
                  <a:pt x="534" y="209"/>
                </a:lnTo>
                <a:lnTo>
                  <a:pt x="534" y="208"/>
                </a:lnTo>
                <a:lnTo>
                  <a:pt x="535" y="207"/>
                </a:lnTo>
                <a:lnTo>
                  <a:pt x="545" y="194"/>
                </a:lnTo>
                <a:lnTo>
                  <a:pt x="583" y="151"/>
                </a:lnTo>
                <a:lnTo>
                  <a:pt x="611" y="119"/>
                </a:lnTo>
                <a:lnTo>
                  <a:pt x="613" y="117"/>
                </a:lnTo>
                <a:lnTo>
                  <a:pt x="609" y="103"/>
                </a:lnTo>
                <a:lnTo>
                  <a:pt x="598" y="62"/>
                </a:lnTo>
                <a:lnTo>
                  <a:pt x="590" y="30"/>
                </a:lnTo>
                <a:lnTo>
                  <a:pt x="590" y="28"/>
                </a:lnTo>
                <a:lnTo>
                  <a:pt x="587" y="23"/>
                </a:lnTo>
                <a:lnTo>
                  <a:pt x="584" y="18"/>
                </a:lnTo>
                <a:lnTo>
                  <a:pt x="579" y="14"/>
                </a:lnTo>
                <a:lnTo>
                  <a:pt x="572" y="10"/>
                </a:lnTo>
                <a:lnTo>
                  <a:pt x="555" y="4"/>
                </a:lnTo>
                <a:lnTo>
                  <a:pt x="534" y="1"/>
                </a:lnTo>
                <a:lnTo>
                  <a:pt x="482" y="0"/>
                </a:lnTo>
                <a:lnTo>
                  <a:pt x="426" y="9"/>
                </a:lnTo>
                <a:lnTo>
                  <a:pt x="375" y="27"/>
                </a:lnTo>
                <a:lnTo>
                  <a:pt x="334" y="54"/>
                </a:lnTo>
                <a:lnTo>
                  <a:pt x="335" y="69"/>
                </a:lnTo>
                <a:lnTo>
                  <a:pt x="343" y="95"/>
                </a:lnTo>
                <a:lnTo>
                  <a:pt x="353" y="120"/>
                </a:lnTo>
                <a:lnTo>
                  <a:pt x="361" y="143"/>
                </a:lnTo>
                <a:lnTo>
                  <a:pt x="361" y="167"/>
                </a:lnTo>
                <a:lnTo>
                  <a:pt x="347" y="194"/>
                </a:lnTo>
                <a:lnTo>
                  <a:pt x="334" y="208"/>
                </a:lnTo>
                <a:lnTo>
                  <a:pt x="332" y="208"/>
                </a:lnTo>
                <a:lnTo>
                  <a:pt x="323" y="208"/>
                </a:lnTo>
                <a:lnTo>
                  <a:pt x="292" y="208"/>
                </a:lnTo>
                <a:lnTo>
                  <a:pt x="269" y="208"/>
                </a:lnTo>
                <a:lnTo>
                  <a:pt x="268" y="208"/>
                </a:lnTo>
                <a:lnTo>
                  <a:pt x="264" y="206"/>
                </a:lnTo>
                <a:lnTo>
                  <a:pt x="257" y="199"/>
                </a:lnTo>
                <a:lnTo>
                  <a:pt x="252" y="194"/>
                </a:lnTo>
                <a:lnTo>
                  <a:pt x="252" y="193"/>
                </a:lnTo>
                <a:lnTo>
                  <a:pt x="250" y="189"/>
                </a:lnTo>
                <a:lnTo>
                  <a:pt x="248" y="175"/>
                </a:lnTo>
                <a:lnTo>
                  <a:pt x="241" y="137"/>
                </a:lnTo>
                <a:lnTo>
                  <a:pt x="234" y="105"/>
                </a:lnTo>
                <a:lnTo>
                  <a:pt x="234" y="100"/>
                </a:lnTo>
                <a:lnTo>
                  <a:pt x="226" y="117"/>
                </a:lnTo>
                <a:lnTo>
                  <a:pt x="211" y="152"/>
                </a:lnTo>
                <a:lnTo>
                  <a:pt x="180" y="229"/>
                </a:lnTo>
                <a:lnTo>
                  <a:pt x="135" y="302"/>
                </a:lnTo>
                <a:lnTo>
                  <a:pt x="120" y="318"/>
                </a:lnTo>
                <a:lnTo>
                  <a:pt x="110" y="327"/>
                </a:lnTo>
                <a:lnTo>
                  <a:pt x="86" y="344"/>
                </a:lnTo>
                <a:lnTo>
                  <a:pt x="35" y="384"/>
                </a:lnTo>
                <a:lnTo>
                  <a:pt x="13" y="406"/>
                </a:lnTo>
                <a:lnTo>
                  <a:pt x="1" y="428"/>
                </a:lnTo>
                <a:lnTo>
                  <a:pt x="0" y="440"/>
                </a:lnTo>
                <a:lnTo>
                  <a:pt x="9" y="444"/>
                </a:lnTo>
                <a:lnTo>
                  <a:pt x="40" y="455"/>
                </a:lnTo>
                <a:lnTo>
                  <a:pt x="63" y="464"/>
                </a:lnTo>
                <a:lnTo>
                  <a:pt x="65" y="464"/>
                </a:lnTo>
                <a:lnTo>
                  <a:pt x="66" y="464"/>
                </a:lnTo>
                <a:lnTo>
                  <a:pt x="80" y="461"/>
                </a:lnTo>
                <a:lnTo>
                  <a:pt x="126" y="452"/>
                </a:lnTo>
                <a:lnTo>
                  <a:pt x="161" y="445"/>
                </a:lnTo>
                <a:lnTo>
                  <a:pt x="164" y="444"/>
                </a:lnTo>
                <a:lnTo>
                  <a:pt x="167" y="446"/>
                </a:lnTo>
                <a:lnTo>
                  <a:pt x="191" y="457"/>
                </a:lnTo>
                <a:lnTo>
                  <a:pt x="275" y="495"/>
                </a:lnTo>
                <a:lnTo>
                  <a:pt x="338" y="523"/>
                </a:lnTo>
                <a:lnTo>
                  <a:pt x="343" y="524"/>
                </a:lnTo>
                <a:lnTo>
                  <a:pt x="342" y="526"/>
                </a:lnTo>
                <a:lnTo>
                  <a:pt x="339" y="536"/>
                </a:lnTo>
                <a:lnTo>
                  <a:pt x="332" y="572"/>
                </a:lnTo>
                <a:lnTo>
                  <a:pt x="327" y="600"/>
                </a:lnTo>
                <a:lnTo>
                  <a:pt x="327" y="601"/>
                </a:lnTo>
                <a:lnTo>
                  <a:pt x="334" y="603"/>
                </a:lnTo>
                <a:lnTo>
                  <a:pt x="348" y="606"/>
                </a:lnTo>
                <a:lnTo>
                  <a:pt x="372" y="612"/>
                </a:lnTo>
                <a:lnTo>
                  <a:pt x="391" y="625"/>
                </a:lnTo>
                <a:lnTo>
                  <a:pt x="396" y="629"/>
                </a:lnTo>
                <a:lnTo>
                  <a:pt x="396" y="625"/>
                </a:lnTo>
                <a:lnTo>
                  <a:pt x="396" y="591"/>
                </a:lnTo>
                <a:lnTo>
                  <a:pt x="396" y="475"/>
                </a:lnTo>
                <a:lnTo>
                  <a:pt x="396" y="387"/>
                </a:lnTo>
                <a:lnTo>
                  <a:pt x="396" y="382"/>
                </a:lnTo>
              </a:path>
            </a:pathLst>
          </a:custGeom>
          <a:solidFill>
            <a:srgbClr val="cc0000"/>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52"/>
          <p:cNvSpPr/>
          <p:nvPr/>
        </p:nvSpPr>
        <p:spPr>
          <a:xfrm>
            <a:off x="614520" y="2943360"/>
            <a:ext cx="582480" cy="618840"/>
          </a:xfrm>
          <a:custGeom>
            <a:avLst/>
            <a:gdLst>
              <a:gd name="textAreaLeft" fmla="*/ 0 w 582480"/>
              <a:gd name="textAreaRight" fmla="*/ 582840 w 582480"/>
              <a:gd name="textAreaTop" fmla="*/ 0 h 618840"/>
              <a:gd name="textAreaBottom" fmla="*/ 618840 h 618840"/>
            </a:gdLst>
            <a:ahLst/>
            <a:rect l="textAreaLeft" t="textAreaTop" r="textAreaRight" b="textAreaBottom"/>
            <a:pathLst>
              <a:path w="735" h="781">
                <a:moveTo>
                  <a:pt x="506" y="172"/>
                </a:moveTo>
                <a:lnTo>
                  <a:pt x="505" y="180"/>
                </a:lnTo>
                <a:lnTo>
                  <a:pt x="507" y="189"/>
                </a:lnTo>
                <a:lnTo>
                  <a:pt x="512" y="200"/>
                </a:lnTo>
                <a:lnTo>
                  <a:pt x="526" y="223"/>
                </a:lnTo>
                <a:lnTo>
                  <a:pt x="547" y="243"/>
                </a:lnTo>
                <a:lnTo>
                  <a:pt x="574" y="255"/>
                </a:lnTo>
                <a:lnTo>
                  <a:pt x="604" y="256"/>
                </a:lnTo>
                <a:lnTo>
                  <a:pt x="621" y="250"/>
                </a:lnTo>
                <a:lnTo>
                  <a:pt x="630" y="260"/>
                </a:lnTo>
                <a:lnTo>
                  <a:pt x="652" y="285"/>
                </a:lnTo>
                <a:lnTo>
                  <a:pt x="702" y="350"/>
                </a:lnTo>
                <a:lnTo>
                  <a:pt x="733" y="414"/>
                </a:lnTo>
                <a:lnTo>
                  <a:pt x="735" y="426"/>
                </a:lnTo>
                <a:lnTo>
                  <a:pt x="733" y="506"/>
                </a:lnTo>
                <a:lnTo>
                  <a:pt x="717" y="570"/>
                </a:lnTo>
                <a:lnTo>
                  <a:pt x="689" y="623"/>
                </a:lnTo>
                <a:lnTo>
                  <a:pt x="648" y="665"/>
                </a:lnTo>
                <a:lnTo>
                  <a:pt x="599" y="696"/>
                </a:lnTo>
                <a:lnTo>
                  <a:pt x="543" y="721"/>
                </a:lnTo>
                <a:lnTo>
                  <a:pt x="413" y="751"/>
                </a:lnTo>
                <a:lnTo>
                  <a:pt x="276" y="768"/>
                </a:lnTo>
                <a:lnTo>
                  <a:pt x="145" y="781"/>
                </a:lnTo>
                <a:lnTo>
                  <a:pt x="101" y="759"/>
                </a:lnTo>
                <a:lnTo>
                  <a:pt x="42" y="731"/>
                </a:lnTo>
                <a:lnTo>
                  <a:pt x="12" y="717"/>
                </a:lnTo>
                <a:lnTo>
                  <a:pt x="8" y="715"/>
                </a:lnTo>
                <a:lnTo>
                  <a:pt x="6" y="713"/>
                </a:lnTo>
                <a:lnTo>
                  <a:pt x="4" y="710"/>
                </a:lnTo>
                <a:lnTo>
                  <a:pt x="4" y="707"/>
                </a:lnTo>
                <a:lnTo>
                  <a:pt x="6" y="704"/>
                </a:lnTo>
                <a:lnTo>
                  <a:pt x="8" y="700"/>
                </a:lnTo>
                <a:lnTo>
                  <a:pt x="14" y="692"/>
                </a:lnTo>
                <a:lnTo>
                  <a:pt x="33" y="662"/>
                </a:lnTo>
                <a:lnTo>
                  <a:pt x="44" y="637"/>
                </a:lnTo>
                <a:lnTo>
                  <a:pt x="42" y="631"/>
                </a:lnTo>
                <a:lnTo>
                  <a:pt x="38" y="627"/>
                </a:lnTo>
                <a:lnTo>
                  <a:pt x="28" y="618"/>
                </a:lnTo>
                <a:lnTo>
                  <a:pt x="6" y="595"/>
                </a:lnTo>
                <a:lnTo>
                  <a:pt x="0" y="581"/>
                </a:lnTo>
                <a:lnTo>
                  <a:pt x="2" y="578"/>
                </a:lnTo>
                <a:lnTo>
                  <a:pt x="8" y="575"/>
                </a:lnTo>
                <a:lnTo>
                  <a:pt x="15" y="573"/>
                </a:lnTo>
                <a:lnTo>
                  <a:pt x="33" y="568"/>
                </a:lnTo>
                <a:lnTo>
                  <a:pt x="72" y="559"/>
                </a:lnTo>
                <a:lnTo>
                  <a:pt x="85" y="548"/>
                </a:lnTo>
                <a:lnTo>
                  <a:pt x="84" y="543"/>
                </a:lnTo>
                <a:lnTo>
                  <a:pt x="81" y="540"/>
                </a:lnTo>
                <a:lnTo>
                  <a:pt x="76" y="536"/>
                </a:lnTo>
                <a:lnTo>
                  <a:pt x="71" y="534"/>
                </a:lnTo>
                <a:lnTo>
                  <a:pt x="59" y="528"/>
                </a:lnTo>
                <a:lnTo>
                  <a:pt x="47" y="523"/>
                </a:lnTo>
                <a:lnTo>
                  <a:pt x="37" y="516"/>
                </a:lnTo>
                <a:lnTo>
                  <a:pt x="32" y="507"/>
                </a:lnTo>
                <a:lnTo>
                  <a:pt x="31" y="488"/>
                </a:lnTo>
                <a:lnTo>
                  <a:pt x="36" y="477"/>
                </a:lnTo>
                <a:lnTo>
                  <a:pt x="40" y="473"/>
                </a:lnTo>
                <a:lnTo>
                  <a:pt x="44" y="470"/>
                </a:lnTo>
                <a:lnTo>
                  <a:pt x="48" y="468"/>
                </a:lnTo>
                <a:lnTo>
                  <a:pt x="55" y="468"/>
                </a:lnTo>
                <a:lnTo>
                  <a:pt x="61" y="468"/>
                </a:lnTo>
                <a:lnTo>
                  <a:pt x="74" y="470"/>
                </a:lnTo>
                <a:lnTo>
                  <a:pt x="88" y="475"/>
                </a:lnTo>
                <a:lnTo>
                  <a:pt x="114" y="486"/>
                </a:lnTo>
                <a:lnTo>
                  <a:pt x="130" y="494"/>
                </a:lnTo>
                <a:lnTo>
                  <a:pt x="133" y="492"/>
                </a:lnTo>
                <a:lnTo>
                  <a:pt x="140" y="486"/>
                </a:lnTo>
                <a:lnTo>
                  <a:pt x="145" y="478"/>
                </a:lnTo>
                <a:lnTo>
                  <a:pt x="148" y="467"/>
                </a:lnTo>
                <a:lnTo>
                  <a:pt x="150" y="456"/>
                </a:lnTo>
                <a:lnTo>
                  <a:pt x="152" y="433"/>
                </a:lnTo>
                <a:lnTo>
                  <a:pt x="155" y="416"/>
                </a:lnTo>
                <a:lnTo>
                  <a:pt x="156" y="414"/>
                </a:lnTo>
                <a:lnTo>
                  <a:pt x="157" y="413"/>
                </a:lnTo>
                <a:lnTo>
                  <a:pt x="158" y="413"/>
                </a:lnTo>
                <a:lnTo>
                  <a:pt x="161" y="416"/>
                </a:lnTo>
                <a:lnTo>
                  <a:pt x="164" y="419"/>
                </a:lnTo>
                <a:lnTo>
                  <a:pt x="166" y="424"/>
                </a:lnTo>
                <a:lnTo>
                  <a:pt x="171" y="430"/>
                </a:lnTo>
                <a:lnTo>
                  <a:pt x="179" y="444"/>
                </a:lnTo>
                <a:lnTo>
                  <a:pt x="191" y="452"/>
                </a:lnTo>
                <a:lnTo>
                  <a:pt x="204" y="456"/>
                </a:lnTo>
                <a:lnTo>
                  <a:pt x="218" y="457"/>
                </a:lnTo>
                <a:lnTo>
                  <a:pt x="234" y="455"/>
                </a:lnTo>
                <a:lnTo>
                  <a:pt x="249" y="450"/>
                </a:lnTo>
                <a:lnTo>
                  <a:pt x="279" y="436"/>
                </a:lnTo>
                <a:lnTo>
                  <a:pt x="305" y="420"/>
                </a:lnTo>
                <a:lnTo>
                  <a:pt x="323" y="405"/>
                </a:lnTo>
                <a:lnTo>
                  <a:pt x="298" y="405"/>
                </a:lnTo>
                <a:lnTo>
                  <a:pt x="254" y="403"/>
                </a:lnTo>
                <a:lnTo>
                  <a:pt x="181" y="387"/>
                </a:lnTo>
                <a:lnTo>
                  <a:pt x="154" y="370"/>
                </a:lnTo>
                <a:lnTo>
                  <a:pt x="130" y="347"/>
                </a:lnTo>
                <a:lnTo>
                  <a:pt x="120" y="332"/>
                </a:lnTo>
                <a:lnTo>
                  <a:pt x="141" y="326"/>
                </a:lnTo>
                <a:lnTo>
                  <a:pt x="175" y="317"/>
                </a:lnTo>
                <a:lnTo>
                  <a:pt x="201" y="308"/>
                </a:lnTo>
                <a:lnTo>
                  <a:pt x="209" y="303"/>
                </a:lnTo>
                <a:lnTo>
                  <a:pt x="215" y="297"/>
                </a:lnTo>
                <a:lnTo>
                  <a:pt x="217" y="289"/>
                </a:lnTo>
                <a:lnTo>
                  <a:pt x="216" y="279"/>
                </a:lnTo>
                <a:lnTo>
                  <a:pt x="211" y="267"/>
                </a:lnTo>
                <a:lnTo>
                  <a:pt x="203" y="252"/>
                </a:lnTo>
                <a:lnTo>
                  <a:pt x="192" y="235"/>
                </a:lnTo>
                <a:lnTo>
                  <a:pt x="187" y="232"/>
                </a:lnTo>
                <a:lnTo>
                  <a:pt x="172" y="219"/>
                </a:lnTo>
                <a:lnTo>
                  <a:pt x="161" y="210"/>
                </a:lnTo>
                <a:lnTo>
                  <a:pt x="161" y="209"/>
                </a:lnTo>
                <a:lnTo>
                  <a:pt x="174" y="187"/>
                </a:lnTo>
                <a:lnTo>
                  <a:pt x="192" y="170"/>
                </a:lnTo>
                <a:lnTo>
                  <a:pt x="213" y="157"/>
                </a:lnTo>
                <a:lnTo>
                  <a:pt x="235" y="150"/>
                </a:lnTo>
                <a:lnTo>
                  <a:pt x="259" y="147"/>
                </a:lnTo>
                <a:lnTo>
                  <a:pt x="284" y="148"/>
                </a:lnTo>
                <a:lnTo>
                  <a:pt x="333" y="160"/>
                </a:lnTo>
                <a:lnTo>
                  <a:pt x="376" y="180"/>
                </a:lnTo>
                <a:lnTo>
                  <a:pt x="406" y="203"/>
                </a:lnTo>
                <a:lnTo>
                  <a:pt x="410" y="203"/>
                </a:lnTo>
                <a:lnTo>
                  <a:pt x="415" y="202"/>
                </a:lnTo>
                <a:lnTo>
                  <a:pt x="426" y="197"/>
                </a:lnTo>
                <a:lnTo>
                  <a:pt x="451" y="185"/>
                </a:lnTo>
                <a:lnTo>
                  <a:pt x="471" y="174"/>
                </a:lnTo>
                <a:lnTo>
                  <a:pt x="469" y="164"/>
                </a:lnTo>
                <a:lnTo>
                  <a:pt x="466" y="136"/>
                </a:lnTo>
                <a:lnTo>
                  <a:pt x="463" y="115"/>
                </a:lnTo>
                <a:lnTo>
                  <a:pt x="463" y="113"/>
                </a:lnTo>
                <a:lnTo>
                  <a:pt x="458" y="112"/>
                </a:lnTo>
                <a:lnTo>
                  <a:pt x="448" y="110"/>
                </a:lnTo>
                <a:lnTo>
                  <a:pt x="439" y="110"/>
                </a:lnTo>
                <a:lnTo>
                  <a:pt x="418" y="107"/>
                </a:lnTo>
                <a:lnTo>
                  <a:pt x="404" y="96"/>
                </a:lnTo>
                <a:lnTo>
                  <a:pt x="407" y="90"/>
                </a:lnTo>
                <a:lnTo>
                  <a:pt x="410" y="85"/>
                </a:lnTo>
                <a:lnTo>
                  <a:pt x="414" y="82"/>
                </a:lnTo>
                <a:lnTo>
                  <a:pt x="418" y="81"/>
                </a:lnTo>
                <a:lnTo>
                  <a:pt x="423" y="81"/>
                </a:lnTo>
                <a:lnTo>
                  <a:pt x="428" y="81"/>
                </a:lnTo>
                <a:lnTo>
                  <a:pt x="439" y="83"/>
                </a:lnTo>
                <a:lnTo>
                  <a:pt x="448" y="84"/>
                </a:lnTo>
                <a:lnTo>
                  <a:pt x="458" y="81"/>
                </a:lnTo>
                <a:lnTo>
                  <a:pt x="463" y="67"/>
                </a:lnTo>
                <a:lnTo>
                  <a:pt x="472" y="53"/>
                </a:lnTo>
                <a:lnTo>
                  <a:pt x="483" y="42"/>
                </a:lnTo>
                <a:lnTo>
                  <a:pt x="511" y="25"/>
                </a:lnTo>
                <a:lnTo>
                  <a:pt x="543" y="13"/>
                </a:lnTo>
                <a:lnTo>
                  <a:pt x="575" y="5"/>
                </a:lnTo>
                <a:lnTo>
                  <a:pt x="605" y="1"/>
                </a:lnTo>
                <a:lnTo>
                  <a:pt x="619" y="0"/>
                </a:lnTo>
                <a:lnTo>
                  <a:pt x="619" y="2"/>
                </a:lnTo>
                <a:lnTo>
                  <a:pt x="620" y="10"/>
                </a:lnTo>
                <a:lnTo>
                  <a:pt x="625" y="34"/>
                </a:lnTo>
                <a:lnTo>
                  <a:pt x="629" y="52"/>
                </a:lnTo>
                <a:lnTo>
                  <a:pt x="630" y="53"/>
                </a:lnTo>
                <a:lnTo>
                  <a:pt x="628" y="55"/>
                </a:lnTo>
                <a:lnTo>
                  <a:pt x="616" y="67"/>
                </a:lnTo>
                <a:lnTo>
                  <a:pt x="575" y="103"/>
                </a:lnTo>
                <a:lnTo>
                  <a:pt x="544" y="131"/>
                </a:lnTo>
                <a:lnTo>
                  <a:pt x="543" y="132"/>
                </a:lnTo>
                <a:lnTo>
                  <a:pt x="536" y="139"/>
                </a:lnTo>
                <a:lnTo>
                  <a:pt x="533" y="144"/>
                </a:lnTo>
                <a:lnTo>
                  <a:pt x="534" y="147"/>
                </a:lnTo>
                <a:lnTo>
                  <a:pt x="536" y="149"/>
                </a:lnTo>
                <a:lnTo>
                  <a:pt x="541" y="150"/>
                </a:lnTo>
                <a:lnTo>
                  <a:pt x="546" y="151"/>
                </a:lnTo>
                <a:lnTo>
                  <a:pt x="557" y="154"/>
                </a:lnTo>
                <a:lnTo>
                  <a:pt x="563" y="160"/>
                </a:lnTo>
                <a:lnTo>
                  <a:pt x="560" y="172"/>
                </a:lnTo>
                <a:lnTo>
                  <a:pt x="557" y="177"/>
                </a:lnTo>
                <a:lnTo>
                  <a:pt x="552" y="179"/>
                </a:lnTo>
                <a:lnTo>
                  <a:pt x="549" y="180"/>
                </a:lnTo>
                <a:lnTo>
                  <a:pt x="545" y="179"/>
                </a:lnTo>
                <a:lnTo>
                  <a:pt x="540" y="178"/>
                </a:lnTo>
                <a:lnTo>
                  <a:pt x="530" y="175"/>
                </a:lnTo>
                <a:lnTo>
                  <a:pt x="520" y="172"/>
                </a:lnTo>
                <a:lnTo>
                  <a:pt x="511" y="171"/>
                </a:lnTo>
                <a:lnTo>
                  <a:pt x="506" y="17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53"/>
          <p:cNvSpPr/>
          <p:nvPr/>
        </p:nvSpPr>
        <p:spPr>
          <a:xfrm>
            <a:off x="614520" y="2943360"/>
            <a:ext cx="582480" cy="618840"/>
          </a:xfrm>
          <a:custGeom>
            <a:avLst/>
            <a:gdLst>
              <a:gd name="textAreaLeft" fmla="*/ 0 w 582480"/>
              <a:gd name="textAreaRight" fmla="*/ 582840 w 582480"/>
              <a:gd name="textAreaTop" fmla="*/ 0 h 618840"/>
              <a:gd name="textAreaBottom" fmla="*/ 618840 h 618840"/>
            </a:gdLst>
            <a:ahLst/>
            <a:rect l="textAreaLeft" t="textAreaTop" r="textAreaRight" b="textAreaBottom"/>
            <a:pathLst>
              <a:path w="735" h="781">
                <a:moveTo>
                  <a:pt x="506" y="172"/>
                </a:moveTo>
                <a:lnTo>
                  <a:pt x="505" y="180"/>
                </a:lnTo>
                <a:lnTo>
                  <a:pt x="507" y="189"/>
                </a:lnTo>
                <a:lnTo>
                  <a:pt x="512" y="200"/>
                </a:lnTo>
                <a:lnTo>
                  <a:pt x="526" y="223"/>
                </a:lnTo>
                <a:lnTo>
                  <a:pt x="547" y="243"/>
                </a:lnTo>
                <a:lnTo>
                  <a:pt x="574" y="255"/>
                </a:lnTo>
                <a:lnTo>
                  <a:pt x="604" y="256"/>
                </a:lnTo>
                <a:lnTo>
                  <a:pt x="621" y="250"/>
                </a:lnTo>
                <a:lnTo>
                  <a:pt x="630" y="260"/>
                </a:lnTo>
                <a:lnTo>
                  <a:pt x="652" y="285"/>
                </a:lnTo>
                <a:lnTo>
                  <a:pt x="702" y="350"/>
                </a:lnTo>
                <a:lnTo>
                  <a:pt x="733" y="414"/>
                </a:lnTo>
                <a:lnTo>
                  <a:pt x="735" y="426"/>
                </a:lnTo>
                <a:lnTo>
                  <a:pt x="733" y="506"/>
                </a:lnTo>
                <a:lnTo>
                  <a:pt x="717" y="570"/>
                </a:lnTo>
                <a:lnTo>
                  <a:pt x="689" y="623"/>
                </a:lnTo>
                <a:lnTo>
                  <a:pt x="648" y="665"/>
                </a:lnTo>
                <a:lnTo>
                  <a:pt x="599" y="696"/>
                </a:lnTo>
                <a:lnTo>
                  <a:pt x="543" y="721"/>
                </a:lnTo>
                <a:lnTo>
                  <a:pt x="413" y="751"/>
                </a:lnTo>
                <a:lnTo>
                  <a:pt x="276" y="768"/>
                </a:lnTo>
                <a:lnTo>
                  <a:pt x="145" y="781"/>
                </a:lnTo>
                <a:lnTo>
                  <a:pt x="101" y="759"/>
                </a:lnTo>
                <a:lnTo>
                  <a:pt x="42" y="731"/>
                </a:lnTo>
                <a:lnTo>
                  <a:pt x="12" y="717"/>
                </a:lnTo>
                <a:lnTo>
                  <a:pt x="8" y="715"/>
                </a:lnTo>
                <a:lnTo>
                  <a:pt x="6" y="713"/>
                </a:lnTo>
                <a:lnTo>
                  <a:pt x="4" y="710"/>
                </a:lnTo>
                <a:lnTo>
                  <a:pt x="4" y="707"/>
                </a:lnTo>
                <a:lnTo>
                  <a:pt x="6" y="704"/>
                </a:lnTo>
                <a:lnTo>
                  <a:pt x="8" y="700"/>
                </a:lnTo>
                <a:lnTo>
                  <a:pt x="14" y="692"/>
                </a:lnTo>
                <a:lnTo>
                  <a:pt x="33" y="662"/>
                </a:lnTo>
                <a:lnTo>
                  <a:pt x="44" y="637"/>
                </a:lnTo>
                <a:lnTo>
                  <a:pt x="42" y="631"/>
                </a:lnTo>
                <a:lnTo>
                  <a:pt x="38" y="627"/>
                </a:lnTo>
                <a:lnTo>
                  <a:pt x="28" y="618"/>
                </a:lnTo>
                <a:lnTo>
                  <a:pt x="6" y="595"/>
                </a:lnTo>
                <a:lnTo>
                  <a:pt x="0" y="581"/>
                </a:lnTo>
                <a:lnTo>
                  <a:pt x="2" y="578"/>
                </a:lnTo>
                <a:lnTo>
                  <a:pt x="8" y="575"/>
                </a:lnTo>
                <a:lnTo>
                  <a:pt x="15" y="573"/>
                </a:lnTo>
                <a:lnTo>
                  <a:pt x="33" y="568"/>
                </a:lnTo>
                <a:lnTo>
                  <a:pt x="72" y="559"/>
                </a:lnTo>
                <a:lnTo>
                  <a:pt x="85" y="548"/>
                </a:lnTo>
                <a:lnTo>
                  <a:pt x="84" y="543"/>
                </a:lnTo>
                <a:lnTo>
                  <a:pt x="81" y="540"/>
                </a:lnTo>
                <a:lnTo>
                  <a:pt x="76" y="536"/>
                </a:lnTo>
                <a:lnTo>
                  <a:pt x="71" y="534"/>
                </a:lnTo>
                <a:lnTo>
                  <a:pt x="59" y="528"/>
                </a:lnTo>
                <a:lnTo>
                  <a:pt x="47" y="523"/>
                </a:lnTo>
                <a:lnTo>
                  <a:pt x="37" y="516"/>
                </a:lnTo>
                <a:lnTo>
                  <a:pt x="32" y="507"/>
                </a:lnTo>
                <a:lnTo>
                  <a:pt x="31" y="488"/>
                </a:lnTo>
                <a:lnTo>
                  <a:pt x="36" y="477"/>
                </a:lnTo>
                <a:lnTo>
                  <a:pt x="40" y="473"/>
                </a:lnTo>
                <a:lnTo>
                  <a:pt x="44" y="470"/>
                </a:lnTo>
                <a:lnTo>
                  <a:pt x="48" y="468"/>
                </a:lnTo>
                <a:lnTo>
                  <a:pt x="55" y="468"/>
                </a:lnTo>
                <a:lnTo>
                  <a:pt x="61" y="468"/>
                </a:lnTo>
                <a:lnTo>
                  <a:pt x="74" y="470"/>
                </a:lnTo>
                <a:lnTo>
                  <a:pt x="88" y="475"/>
                </a:lnTo>
                <a:lnTo>
                  <a:pt x="114" y="486"/>
                </a:lnTo>
                <a:lnTo>
                  <a:pt x="130" y="494"/>
                </a:lnTo>
                <a:lnTo>
                  <a:pt x="133" y="492"/>
                </a:lnTo>
                <a:lnTo>
                  <a:pt x="140" y="486"/>
                </a:lnTo>
                <a:lnTo>
                  <a:pt x="145" y="478"/>
                </a:lnTo>
                <a:lnTo>
                  <a:pt x="148" y="467"/>
                </a:lnTo>
                <a:lnTo>
                  <a:pt x="150" y="456"/>
                </a:lnTo>
                <a:lnTo>
                  <a:pt x="152" y="433"/>
                </a:lnTo>
                <a:lnTo>
                  <a:pt x="155" y="416"/>
                </a:lnTo>
                <a:lnTo>
                  <a:pt x="156" y="414"/>
                </a:lnTo>
                <a:lnTo>
                  <a:pt x="157" y="413"/>
                </a:lnTo>
                <a:lnTo>
                  <a:pt x="158" y="413"/>
                </a:lnTo>
                <a:lnTo>
                  <a:pt x="161" y="416"/>
                </a:lnTo>
                <a:lnTo>
                  <a:pt x="164" y="419"/>
                </a:lnTo>
                <a:lnTo>
                  <a:pt x="166" y="424"/>
                </a:lnTo>
                <a:lnTo>
                  <a:pt x="171" y="430"/>
                </a:lnTo>
                <a:lnTo>
                  <a:pt x="179" y="444"/>
                </a:lnTo>
                <a:lnTo>
                  <a:pt x="191" y="452"/>
                </a:lnTo>
                <a:lnTo>
                  <a:pt x="204" y="456"/>
                </a:lnTo>
                <a:lnTo>
                  <a:pt x="218" y="457"/>
                </a:lnTo>
                <a:lnTo>
                  <a:pt x="234" y="455"/>
                </a:lnTo>
                <a:lnTo>
                  <a:pt x="249" y="450"/>
                </a:lnTo>
                <a:lnTo>
                  <a:pt x="279" y="436"/>
                </a:lnTo>
                <a:lnTo>
                  <a:pt x="305" y="420"/>
                </a:lnTo>
                <a:lnTo>
                  <a:pt x="323" y="405"/>
                </a:lnTo>
                <a:lnTo>
                  <a:pt x="298" y="405"/>
                </a:lnTo>
                <a:lnTo>
                  <a:pt x="254" y="403"/>
                </a:lnTo>
                <a:lnTo>
                  <a:pt x="181" y="387"/>
                </a:lnTo>
                <a:lnTo>
                  <a:pt x="154" y="370"/>
                </a:lnTo>
                <a:lnTo>
                  <a:pt x="130" y="347"/>
                </a:lnTo>
                <a:lnTo>
                  <a:pt x="120" y="332"/>
                </a:lnTo>
                <a:lnTo>
                  <a:pt x="141" y="326"/>
                </a:lnTo>
                <a:lnTo>
                  <a:pt x="175" y="317"/>
                </a:lnTo>
                <a:lnTo>
                  <a:pt x="201" y="308"/>
                </a:lnTo>
                <a:lnTo>
                  <a:pt x="209" y="303"/>
                </a:lnTo>
                <a:lnTo>
                  <a:pt x="215" y="297"/>
                </a:lnTo>
                <a:lnTo>
                  <a:pt x="217" y="289"/>
                </a:lnTo>
                <a:lnTo>
                  <a:pt x="216" y="279"/>
                </a:lnTo>
                <a:lnTo>
                  <a:pt x="211" y="267"/>
                </a:lnTo>
                <a:lnTo>
                  <a:pt x="203" y="252"/>
                </a:lnTo>
                <a:lnTo>
                  <a:pt x="192" y="235"/>
                </a:lnTo>
                <a:lnTo>
                  <a:pt x="187" y="232"/>
                </a:lnTo>
                <a:lnTo>
                  <a:pt x="172" y="219"/>
                </a:lnTo>
                <a:lnTo>
                  <a:pt x="161" y="210"/>
                </a:lnTo>
                <a:lnTo>
                  <a:pt x="161" y="209"/>
                </a:lnTo>
                <a:lnTo>
                  <a:pt x="174" y="187"/>
                </a:lnTo>
                <a:lnTo>
                  <a:pt x="192" y="170"/>
                </a:lnTo>
                <a:lnTo>
                  <a:pt x="213" y="157"/>
                </a:lnTo>
                <a:lnTo>
                  <a:pt x="235" y="150"/>
                </a:lnTo>
                <a:lnTo>
                  <a:pt x="259" y="147"/>
                </a:lnTo>
                <a:lnTo>
                  <a:pt x="284" y="148"/>
                </a:lnTo>
                <a:lnTo>
                  <a:pt x="333" y="160"/>
                </a:lnTo>
                <a:lnTo>
                  <a:pt x="376" y="180"/>
                </a:lnTo>
                <a:lnTo>
                  <a:pt x="406" y="203"/>
                </a:lnTo>
                <a:lnTo>
                  <a:pt x="410" y="203"/>
                </a:lnTo>
                <a:lnTo>
                  <a:pt x="415" y="202"/>
                </a:lnTo>
                <a:lnTo>
                  <a:pt x="426" y="197"/>
                </a:lnTo>
                <a:lnTo>
                  <a:pt x="451" y="185"/>
                </a:lnTo>
                <a:lnTo>
                  <a:pt x="471" y="174"/>
                </a:lnTo>
                <a:lnTo>
                  <a:pt x="469" y="164"/>
                </a:lnTo>
                <a:lnTo>
                  <a:pt x="466" y="136"/>
                </a:lnTo>
                <a:lnTo>
                  <a:pt x="463" y="115"/>
                </a:lnTo>
                <a:lnTo>
                  <a:pt x="463" y="113"/>
                </a:lnTo>
                <a:lnTo>
                  <a:pt x="458" y="112"/>
                </a:lnTo>
                <a:lnTo>
                  <a:pt x="448" y="110"/>
                </a:lnTo>
                <a:lnTo>
                  <a:pt x="439" y="110"/>
                </a:lnTo>
                <a:lnTo>
                  <a:pt x="418" y="107"/>
                </a:lnTo>
                <a:lnTo>
                  <a:pt x="404" y="96"/>
                </a:lnTo>
                <a:lnTo>
                  <a:pt x="407" y="90"/>
                </a:lnTo>
                <a:lnTo>
                  <a:pt x="410" y="85"/>
                </a:lnTo>
                <a:lnTo>
                  <a:pt x="414" y="82"/>
                </a:lnTo>
                <a:lnTo>
                  <a:pt x="418" y="81"/>
                </a:lnTo>
                <a:lnTo>
                  <a:pt x="423" y="81"/>
                </a:lnTo>
                <a:lnTo>
                  <a:pt x="428" y="81"/>
                </a:lnTo>
                <a:lnTo>
                  <a:pt x="439" y="83"/>
                </a:lnTo>
                <a:lnTo>
                  <a:pt x="448" y="84"/>
                </a:lnTo>
                <a:lnTo>
                  <a:pt x="458" y="81"/>
                </a:lnTo>
                <a:lnTo>
                  <a:pt x="463" y="67"/>
                </a:lnTo>
                <a:lnTo>
                  <a:pt x="472" y="53"/>
                </a:lnTo>
                <a:lnTo>
                  <a:pt x="483" y="42"/>
                </a:lnTo>
                <a:lnTo>
                  <a:pt x="511" y="25"/>
                </a:lnTo>
                <a:lnTo>
                  <a:pt x="543" y="13"/>
                </a:lnTo>
                <a:lnTo>
                  <a:pt x="575" y="5"/>
                </a:lnTo>
                <a:lnTo>
                  <a:pt x="605" y="1"/>
                </a:lnTo>
                <a:lnTo>
                  <a:pt x="619" y="0"/>
                </a:lnTo>
                <a:lnTo>
                  <a:pt x="619" y="2"/>
                </a:lnTo>
                <a:lnTo>
                  <a:pt x="620" y="10"/>
                </a:lnTo>
                <a:lnTo>
                  <a:pt x="625" y="34"/>
                </a:lnTo>
                <a:lnTo>
                  <a:pt x="629" y="52"/>
                </a:lnTo>
                <a:lnTo>
                  <a:pt x="630" y="53"/>
                </a:lnTo>
                <a:lnTo>
                  <a:pt x="628" y="55"/>
                </a:lnTo>
                <a:lnTo>
                  <a:pt x="616" y="67"/>
                </a:lnTo>
                <a:lnTo>
                  <a:pt x="575" y="103"/>
                </a:lnTo>
                <a:lnTo>
                  <a:pt x="544" y="131"/>
                </a:lnTo>
                <a:lnTo>
                  <a:pt x="543" y="132"/>
                </a:lnTo>
                <a:lnTo>
                  <a:pt x="536" y="139"/>
                </a:lnTo>
                <a:lnTo>
                  <a:pt x="533" y="144"/>
                </a:lnTo>
                <a:lnTo>
                  <a:pt x="534" y="147"/>
                </a:lnTo>
                <a:lnTo>
                  <a:pt x="536" y="149"/>
                </a:lnTo>
                <a:lnTo>
                  <a:pt x="541" y="150"/>
                </a:lnTo>
                <a:lnTo>
                  <a:pt x="546" y="151"/>
                </a:lnTo>
                <a:lnTo>
                  <a:pt x="557" y="154"/>
                </a:lnTo>
                <a:lnTo>
                  <a:pt x="563" y="160"/>
                </a:lnTo>
                <a:lnTo>
                  <a:pt x="560" y="172"/>
                </a:lnTo>
                <a:lnTo>
                  <a:pt x="557" y="177"/>
                </a:lnTo>
                <a:lnTo>
                  <a:pt x="552" y="179"/>
                </a:lnTo>
                <a:lnTo>
                  <a:pt x="549" y="180"/>
                </a:lnTo>
                <a:lnTo>
                  <a:pt x="545" y="179"/>
                </a:lnTo>
                <a:lnTo>
                  <a:pt x="540" y="178"/>
                </a:lnTo>
                <a:lnTo>
                  <a:pt x="530" y="175"/>
                </a:lnTo>
                <a:lnTo>
                  <a:pt x="520" y="172"/>
                </a:lnTo>
                <a:lnTo>
                  <a:pt x="511" y="171"/>
                </a:lnTo>
                <a:lnTo>
                  <a:pt x="506" y="172"/>
                </a:lnTo>
              </a:path>
            </a:pathLst>
          </a:custGeom>
          <a:solidFill>
            <a:srgbClr val="ffffff"/>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54"/>
          <p:cNvSpPr/>
          <p:nvPr/>
        </p:nvSpPr>
        <p:spPr>
          <a:xfrm>
            <a:off x="4433760" y="4278240"/>
            <a:ext cx="1241640" cy="851040"/>
          </a:xfrm>
          <a:custGeom>
            <a:avLst/>
            <a:gdLst>
              <a:gd name="textAreaLeft" fmla="*/ 0 w 1241640"/>
              <a:gd name="textAreaRight" fmla="*/ 1242000 w 1241640"/>
              <a:gd name="textAreaTop" fmla="*/ 0 h 851040"/>
              <a:gd name="textAreaBottom" fmla="*/ 851400 h 851040"/>
            </a:gdLst>
            <a:ahLst/>
            <a:rect l="textAreaLeft" t="textAreaTop" r="textAreaRight" b="textAreaBottom"/>
            <a:pathLst>
              <a:path w="1564" h="1073">
                <a:moveTo>
                  <a:pt x="1564" y="585"/>
                </a:moveTo>
                <a:lnTo>
                  <a:pt x="1563" y="581"/>
                </a:lnTo>
                <a:lnTo>
                  <a:pt x="1560" y="575"/>
                </a:lnTo>
                <a:lnTo>
                  <a:pt x="1554" y="560"/>
                </a:lnTo>
                <a:lnTo>
                  <a:pt x="1536" y="526"/>
                </a:lnTo>
                <a:lnTo>
                  <a:pt x="1527" y="500"/>
                </a:lnTo>
                <a:lnTo>
                  <a:pt x="1526" y="502"/>
                </a:lnTo>
                <a:lnTo>
                  <a:pt x="1519" y="512"/>
                </a:lnTo>
                <a:lnTo>
                  <a:pt x="1495" y="546"/>
                </a:lnTo>
                <a:lnTo>
                  <a:pt x="1477" y="572"/>
                </a:lnTo>
                <a:lnTo>
                  <a:pt x="1477" y="573"/>
                </a:lnTo>
                <a:lnTo>
                  <a:pt x="1472" y="578"/>
                </a:lnTo>
                <a:lnTo>
                  <a:pt x="1467" y="581"/>
                </a:lnTo>
                <a:lnTo>
                  <a:pt x="1461" y="584"/>
                </a:lnTo>
                <a:lnTo>
                  <a:pt x="1453" y="586"/>
                </a:lnTo>
                <a:lnTo>
                  <a:pt x="1436" y="587"/>
                </a:lnTo>
                <a:lnTo>
                  <a:pt x="1416" y="586"/>
                </a:lnTo>
                <a:lnTo>
                  <a:pt x="1395" y="583"/>
                </a:lnTo>
                <a:lnTo>
                  <a:pt x="1376" y="578"/>
                </a:lnTo>
                <a:lnTo>
                  <a:pt x="1367" y="573"/>
                </a:lnTo>
                <a:lnTo>
                  <a:pt x="1359" y="563"/>
                </a:lnTo>
                <a:lnTo>
                  <a:pt x="1351" y="551"/>
                </a:lnTo>
                <a:lnTo>
                  <a:pt x="1337" y="519"/>
                </a:lnTo>
                <a:lnTo>
                  <a:pt x="1316" y="450"/>
                </a:lnTo>
                <a:lnTo>
                  <a:pt x="1308" y="412"/>
                </a:lnTo>
                <a:lnTo>
                  <a:pt x="1303" y="381"/>
                </a:lnTo>
                <a:lnTo>
                  <a:pt x="1295" y="332"/>
                </a:lnTo>
                <a:lnTo>
                  <a:pt x="1285" y="297"/>
                </a:lnTo>
                <a:lnTo>
                  <a:pt x="1268" y="270"/>
                </a:lnTo>
                <a:lnTo>
                  <a:pt x="1238" y="245"/>
                </a:lnTo>
                <a:lnTo>
                  <a:pt x="1191" y="213"/>
                </a:lnTo>
                <a:lnTo>
                  <a:pt x="1161" y="193"/>
                </a:lnTo>
                <a:lnTo>
                  <a:pt x="1145" y="184"/>
                </a:lnTo>
                <a:lnTo>
                  <a:pt x="1108" y="163"/>
                </a:lnTo>
                <a:lnTo>
                  <a:pt x="1012" y="108"/>
                </a:lnTo>
                <a:lnTo>
                  <a:pt x="919" y="27"/>
                </a:lnTo>
                <a:lnTo>
                  <a:pt x="901" y="0"/>
                </a:lnTo>
                <a:lnTo>
                  <a:pt x="887" y="13"/>
                </a:lnTo>
                <a:lnTo>
                  <a:pt x="855" y="36"/>
                </a:lnTo>
                <a:lnTo>
                  <a:pt x="785" y="86"/>
                </a:lnTo>
                <a:lnTo>
                  <a:pt x="727" y="141"/>
                </a:lnTo>
                <a:lnTo>
                  <a:pt x="719" y="155"/>
                </a:lnTo>
                <a:lnTo>
                  <a:pt x="706" y="155"/>
                </a:lnTo>
                <a:lnTo>
                  <a:pt x="682" y="150"/>
                </a:lnTo>
                <a:lnTo>
                  <a:pt x="660" y="141"/>
                </a:lnTo>
                <a:lnTo>
                  <a:pt x="618" y="116"/>
                </a:lnTo>
                <a:lnTo>
                  <a:pt x="591" y="93"/>
                </a:lnTo>
                <a:lnTo>
                  <a:pt x="563" y="115"/>
                </a:lnTo>
                <a:lnTo>
                  <a:pt x="514" y="149"/>
                </a:lnTo>
                <a:lnTo>
                  <a:pt x="429" y="186"/>
                </a:lnTo>
                <a:lnTo>
                  <a:pt x="388" y="189"/>
                </a:lnTo>
                <a:lnTo>
                  <a:pt x="347" y="180"/>
                </a:lnTo>
                <a:lnTo>
                  <a:pt x="326" y="172"/>
                </a:lnTo>
                <a:lnTo>
                  <a:pt x="307" y="185"/>
                </a:lnTo>
                <a:lnTo>
                  <a:pt x="275" y="219"/>
                </a:lnTo>
                <a:lnTo>
                  <a:pt x="249" y="260"/>
                </a:lnTo>
                <a:lnTo>
                  <a:pt x="201" y="358"/>
                </a:lnTo>
                <a:lnTo>
                  <a:pt x="159" y="436"/>
                </a:lnTo>
                <a:lnTo>
                  <a:pt x="162" y="451"/>
                </a:lnTo>
                <a:lnTo>
                  <a:pt x="164" y="479"/>
                </a:lnTo>
                <a:lnTo>
                  <a:pt x="157" y="529"/>
                </a:lnTo>
                <a:lnTo>
                  <a:pt x="133" y="582"/>
                </a:lnTo>
                <a:lnTo>
                  <a:pt x="126" y="596"/>
                </a:lnTo>
                <a:lnTo>
                  <a:pt x="122" y="599"/>
                </a:lnTo>
                <a:lnTo>
                  <a:pt x="105" y="606"/>
                </a:lnTo>
                <a:lnTo>
                  <a:pt x="47" y="632"/>
                </a:lnTo>
                <a:lnTo>
                  <a:pt x="2" y="653"/>
                </a:lnTo>
                <a:lnTo>
                  <a:pt x="0" y="654"/>
                </a:lnTo>
                <a:lnTo>
                  <a:pt x="1" y="657"/>
                </a:lnTo>
                <a:lnTo>
                  <a:pt x="10" y="675"/>
                </a:lnTo>
                <a:lnTo>
                  <a:pt x="41" y="737"/>
                </a:lnTo>
                <a:lnTo>
                  <a:pt x="63" y="784"/>
                </a:lnTo>
                <a:lnTo>
                  <a:pt x="65" y="786"/>
                </a:lnTo>
                <a:lnTo>
                  <a:pt x="67" y="787"/>
                </a:lnTo>
                <a:lnTo>
                  <a:pt x="78" y="794"/>
                </a:lnTo>
                <a:lnTo>
                  <a:pt x="120" y="817"/>
                </a:lnTo>
                <a:lnTo>
                  <a:pt x="151" y="834"/>
                </a:lnTo>
                <a:lnTo>
                  <a:pt x="153" y="834"/>
                </a:lnTo>
                <a:lnTo>
                  <a:pt x="158" y="842"/>
                </a:lnTo>
                <a:lnTo>
                  <a:pt x="164" y="856"/>
                </a:lnTo>
                <a:lnTo>
                  <a:pt x="168" y="880"/>
                </a:lnTo>
                <a:lnTo>
                  <a:pt x="162" y="902"/>
                </a:lnTo>
                <a:lnTo>
                  <a:pt x="159" y="908"/>
                </a:lnTo>
                <a:lnTo>
                  <a:pt x="162" y="910"/>
                </a:lnTo>
                <a:lnTo>
                  <a:pt x="184" y="920"/>
                </a:lnTo>
                <a:lnTo>
                  <a:pt x="262" y="954"/>
                </a:lnTo>
                <a:lnTo>
                  <a:pt x="320" y="981"/>
                </a:lnTo>
                <a:lnTo>
                  <a:pt x="324" y="982"/>
                </a:lnTo>
                <a:lnTo>
                  <a:pt x="325" y="981"/>
                </a:lnTo>
                <a:lnTo>
                  <a:pt x="334" y="972"/>
                </a:lnTo>
                <a:lnTo>
                  <a:pt x="365" y="945"/>
                </a:lnTo>
                <a:lnTo>
                  <a:pt x="387" y="924"/>
                </a:lnTo>
                <a:lnTo>
                  <a:pt x="389" y="921"/>
                </a:lnTo>
                <a:lnTo>
                  <a:pt x="390" y="925"/>
                </a:lnTo>
                <a:lnTo>
                  <a:pt x="398" y="938"/>
                </a:lnTo>
                <a:lnTo>
                  <a:pt x="426" y="987"/>
                </a:lnTo>
                <a:lnTo>
                  <a:pt x="447" y="1023"/>
                </a:lnTo>
                <a:lnTo>
                  <a:pt x="449" y="1025"/>
                </a:lnTo>
                <a:lnTo>
                  <a:pt x="450" y="1026"/>
                </a:lnTo>
                <a:lnTo>
                  <a:pt x="462" y="1034"/>
                </a:lnTo>
                <a:lnTo>
                  <a:pt x="504" y="1056"/>
                </a:lnTo>
                <a:lnTo>
                  <a:pt x="535" y="1073"/>
                </a:lnTo>
                <a:lnTo>
                  <a:pt x="537" y="1073"/>
                </a:lnTo>
                <a:lnTo>
                  <a:pt x="541" y="1073"/>
                </a:lnTo>
                <a:lnTo>
                  <a:pt x="571" y="1073"/>
                </a:lnTo>
                <a:lnTo>
                  <a:pt x="670" y="1073"/>
                </a:lnTo>
                <a:lnTo>
                  <a:pt x="747" y="1073"/>
                </a:lnTo>
                <a:lnTo>
                  <a:pt x="752" y="1073"/>
                </a:lnTo>
                <a:lnTo>
                  <a:pt x="756" y="1072"/>
                </a:lnTo>
                <a:lnTo>
                  <a:pt x="789" y="1062"/>
                </a:lnTo>
                <a:lnTo>
                  <a:pt x="905" y="1025"/>
                </a:lnTo>
                <a:lnTo>
                  <a:pt x="993" y="998"/>
                </a:lnTo>
                <a:lnTo>
                  <a:pt x="998" y="996"/>
                </a:lnTo>
                <a:lnTo>
                  <a:pt x="1013" y="991"/>
                </a:lnTo>
                <a:lnTo>
                  <a:pt x="1037" y="978"/>
                </a:lnTo>
                <a:lnTo>
                  <a:pt x="1055" y="961"/>
                </a:lnTo>
                <a:lnTo>
                  <a:pt x="1072" y="943"/>
                </a:lnTo>
                <a:lnTo>
                  <a:pt x="1120" y="904"/>
                </a:lnTo>
                <a:lnTo>
                  <a:pt x="1138" y="894"/>
                </a:lnTo>
                <a:lnTo>
                  <a:pt x="1155" y="887"/>
                </a:lnTo>
                <a:lnTo>
                  <a:pt x="1184" y="876"/>
                </a:lnTo>
                <a:lnTo>
                  <a:pt x="1229" y="873"/>
                </a:lnTo>
                <a:lnTo>
                  <a:pt x="1284" y="881"/>
                </a:lnTo>
                <a:lnTo>
                  <a:pt x="1302" y="883"/>
                </a:lnTo>
                <a:lnTo>
                  <a:pt x="1314" y="888"/>
                </a:lnTo>
                <a:lnTo>
                  <a:pt x="1338" y="900"/>
                </a:lnTo>
                <a:lnTo>
                  <a:pt x="1387" y="926"/>
                </a:lnTo>
                <a:lnTo>
                  <a:pt x="1412" y="932"/>
                </a:lnTo>
                <a:lnTo>
                  <a:pt x="1440" y="929"/>
                </a:lnTo>
                <a:lnTo>
                  <a:pt x="1455" y="921"/>
                </a:lnTo>
                <a:lnTo>
                  <a:pt x="1454" y="918"/>
                </a:lnTo>
                <a:lnTo>
                  <a:pt x="1451" y="891"/>
                </a:lnTo>
                <a:lnTo>
                  <a:pt x="1438" y="797"/>
                </a:lnTo>
                <a:lnTo>
                  <a:pt x="1428" y="725"/>
                </a:lnTo>
                <a:lnTo>
                  <a:pt x="1428" y="721"/>
                </a:lnTo>
                <a:lnTo>
                  <a:pt x="1431" y="719"/>
                </a:lnTo>
                <a:lnTo>
                  <a:pt x="1449" y="700"/>
                </a:lnTo>
                <a:lnTo>
                  <a:pt x="1512" y="637"/>
                </a:lnTo>
                <a:lnTo>
                  <a:pt x="1560" y="588"/>
                </a:lnTo>
                <a:lnTo>
                  <a:pt x="1564" y="5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55"/>
          <p:cNvSpPr/>
          <p:nvPr/>
        </p:nvSpPr>
        <p:spPr>
          <a:xfrm>
            <a:off x="4433760" y="4278240"/>
            <a:ext cx="1241640" cy="851040"/>
          </a:xfrm>
          <a:custGeom>
            <a:avLst/>
            <a:gdLst>
              <a:gd name="textAreaLeft" fmla="*/ 0 w 1241640"/>
              <a:gd name="textAreaRight" fmla="*/ 1242000 w 1241640"/>
              <a:gd name="textAreaTop" fmla="*/ 0 h 851040"/>
              <a:gd name="textAreaBottom" fmla="*/ 851400 h 851040"/>
            </a:gdLst>
            <a:ahLst/>
            <a:rect l="textAreaLeft" t="textAreaTop" r="textAreaRight" b="textAreaBottom"/>
            <a:pathLst>
              <a:path w="1564" h="1073">
                <a:moveTo>
                  <a:pt x="1564" y="585"/>
                </a:moveTo>
                <a:lnTo>
                  <a:pt x="1563" y="581"/>
                </a:lnTo>
                <a:lnTo>
                  <a:pt x="1560" y="575"/>
                </a:lnTo>
                <a:lnTo>
                  <a:pt x="1554" y="560"/>
                </a:lnTo>
                <a:lnTo>
                  <a:pt x="1536" y="526"/>
                </a:lnTo>
                <a:lnTo>
                  <a:pt x="1527" y="500"/>
                </a:lnTo>
                <a:lnTo>
                  <a:pt x="1526" y="502"/>
                </a:lnTo>
                <a:lnTo>
                  <a:pt x="1519" y="512"/>
                </a:lnTo>
                <a:lnTo>
                  <a:pt x="1495" y="546"/>
                </a:lnTo>
                <a:lnTo>
                  <a:pt x="1477" y="572"/>
                </a:lnTo>
                <a:lnTo>
                  <a:pt x="1477" y="573"/>
                </a:lnTo>
                <a:lnTo>
                  <a:pt x="1472" y="578"/>
                </a:lnTo>
                <a:lnTo>
                  <a:pt x="1467" y="581"/>
                </a:lnTo>
                <a:lnTo>
                  <a:pt x="1461" y="584"/>
                </a:lnTo>
                <a:lnTo>
                  <a:pt x="1453" y="586"/>
                </a:lnTo>
                <a:lnTo>
                  <a:pt x="1436" y="587"/>
                </a:lnTo>
                <a:lnTo>
                  <a:pt x="1416" y="586"/>
                </a:lnTo>
                <a:lnTo>
                  <a:pt x="1395" y="583"/>
                </a:lnTo>
                <a:lnTo>
                  <a:pt x="1376" y="578"/>
                </a:lnTo>
                <a:lnTo>
                  <a:pt x="1367" y="573"/>
                </a:lnTo>
                <a:lnTo>
                  <a:pt x="1359" y="563"/>
                </a:lnTo>
                <a:lnTo>
                  <a:pt x="1351" y="551"/>
                </a:lnTo>
                <a:lnTo>
                  <a:pt x="1337" y="519"/>
                </a:lnTo>
                <a:lnTo>
                  <a:pt x="1316" y="450"/>
                </a:lnTo>
                <a:lnTo>
                  <a:pt x="1308" y="412"/>
                </a:lnTo>
                <a:lnTo>
                  <a:pt x="1303" y="381"/>
                </a:lnTo>
                <a:lnTo>
                  <a:pt x="1295" y="332"/>
                </a:lnTo>
                <a:lnTo>
                  <a:pt x="1285" y="297"/>
                </a:lnTo>
                <a:lnTo>
                  <a:pt x="1268" y="270"/>
                </a:lnTo>
                <a:lnTo>
                  <a:pt x="1238" y="245"/>
                </a:lnTo>
                <a:lnTo>
                  <a:pt x="1191" y="213"/>
                </a:lnTo>
                <a:lnTo>
                  <a:pt x="1161" y="193"/>
                </a:lnTo>
                <a:lnTo>
                  <a:pt x="1145" y="184"/>
                </a:lnTo>
                <a:lnTo>
                  <a:pt x="1108" y="163"/>
                </a:lnTo>
                <a:lnTo>
                  <a:pt x="1012" y="108"/>
                </a:lnTo>
                <a:lnTo>
                  <a:pt x="919" y="27"/>
                </a:lnTo>
                <a:lnTo>
                  <a:pt x="901" y="0"/>
                </a:lnTo>
                <a:lnTo>
                  <a:pt x="887" y="13"/>
                </a:lnTo>
                <a:lnTo>
                  <a:pt x="855" y="36"/>
                </a:lnTo>
                <a:lnTo>
                  <a:pt x="785" y="86"/>
                </a:lnTo>
                <a:lnTo>
                  <a:pt x="727" y="141"/>
                </a:lnTo>
                <a:lnTo>
                  <a:pt x="719" y="155"/>
                </a:lnTo>
                <a:lnTo>
                  <a:pt x="706" y="155"/>
                </a:lnTo>
                <a:lnTo>
                  <a:pt x="682" y="150"/>
                </a:lnTo>
                <a:lnTo>
                  <a:pt x="660" y="141"/>
                </a:lnTo>
                <a:lnTo>
                  <a:pt x="618" y="116"/>
                </a:lnTo>
                <a:lnTo>
                  <a:pt x="591" y="93"/>
                </a:lnTo>
                <a:lnTo>
                  <a:pt x="563" y="115"/>
                </a:lnTo>
                <a:lnTo>
                  <a:pt x="514" y="149"/>
                </a:lnTo>
                <a:lnTo>
                  <a:pt x="429" y="186"/>
                </a:lnTo>
                <a:lnTo>
                  <a:pt x="388" y="189"/>
                </a:lnTo>
                <a:lnTo>
                  <a:pt x="347" y="180"/>
                </a:lnTo>
                <a:lnTo>
                  <a:pt x="326" y="172"/>
                </a:lnTo>
                <a:lnTo>
                  <a:pt x="307" y="185"/>
                </a:lnTo>
                <a:lnTo>
                  <a:pt x="275" y="219"/>
                </a:lnTo>
                <a:lnTo>
                  <a:pt x="249" y="260"/>
                </a:lnTo>
                <a:lnTo>
                  <a:pt x="201" y="358"/>
                </a:lnTo>
                <a:lnTo>
                  <a:pt x="159" y="436"/>
                </a:lnTo>
                <a:lnTo>
                  <a:pt x="162" y="451"/>
                </a:lnTo>
                <a:lnTo>
                  <a:pt x="164" y="479"/>
                </a:lnTo>
                <a:lnTo>
                  <a:pt x="157" y="529"/>
                </a:lnTo>
                <a:lnTo>
                  <a:pt x="133" y="582"/>
                </a:lnTo>
                <a:lnTo>
                  <a:pt x="126" y="596"/>
                </a:lnTo>
                <a:lnTo>
                  <a:pt x="122" y="599"/>
                </a:lnTo>
                <a:lnTo>
                  <a:pt x="105" y="606"/>
                </a:lnTo>
                <a:lnTo>
                  <a:pt x="47" y="632"/>
                </a:lnTo>
                <a:lnTo>
                  <a:pt x="2" y="653"/>
                </a:lnTo>
                <a:lnTo>
                  <a:pt x="0" y="654"/>
                </a:lnTo>
                <a:lnTo>
                  <a:pt x="1" y="657"/>
                </a:lnTo>
                <a:lnTo>
                  <a:pt x="10" y="675"/>
                </a:lnTo>
                <a:lnTo>
                  <a:pt x="41" y="737"/>
                </a:lnTo>
                <a:lnTo>
                  <a:pt x="63" y="784"/>
                </a:lnTo>
                <a:lnTo>
                  <a:pt x="65" y="786"/>
                </a:lnTo>
                <a:lnTo>
                  <a:pt x="67" y="787"/>
                </a:lnTo>
                <a:lnTo>
                  <a:pt x="78" y="794"/>
                </a:lnTo>
                <a:lnTo>
                  <a:pt x="120" y="817"/>
                </a:lnTo>
                <a:lnTo>
                  <a:pt x="151" y="834"/>
                </a:lnTo>
                <a:lnTo>
                  <a:pt x="153" y="834"/>
                </a:lnTo>
                <a:lnTo>
                  <a:pt x="158" y="842"/>
                </a:lnTo>
                <a:lnTo>
                  <a:pt x="164" y="856"/>
                </a:lnTo>
                <a:lnTo>
                  <a:pt x="168" y="880"/>
                </a:lnTo>
                <a:lnTo>
                  <a:pt x="162" y="902"/>
                </a:lnTo>
                <a:lnTo>
                  <a:pt x="159" y="908"/>
                </a:lnTo>
                <a:lnTo>
                  <a:pt x="162" y="910"/>
                </a:lnTo>
                <a:lnTo>
                  <a:pt x="184" y="920"/>
                </a:lnTo>
                <a:lnTo>
                  <a:pt x="262" y="954"/>
                </a:lnTo>
                <a:lnTo>
                  <a:pt x="320" y="981"/>
                </a:lnTo>
                <a:lnTo>
                  <a:pt x="324" y="982"/>
                </a:lnTo>
                <a:lnTo>
                  <a:pt x="325" y="981"/>
                </a:lnTo>
                <a:lnTo>
                  <a:pt x="334" y="972"/>
                </a:lnTo>
                <a:lnTo>
                  <a:pt x="365" y="945"/>
                </a:lnTo>
                <a:lnTo>
                  <a:pt x="387" y="924"/>
                </a:lnTo>
                <a:lnTo>
                  <a:pt x="389" y="921"/>
                </a:lnTo>
                <a:lnTo>
                  <a:pt x="390" y="925"/>
                </a:lnTo>
                <a:lnTo>
                  <a:pt x="398" y="938"/>
                </a:lnTo>
                <a:lnTo>
                  <a:pt x="426" y="987"/>
                </a:lnTo>
                <a:lnTo>
                  <a:pt x="447" y="1023"/>
                </a:lnTo>
                <a:lnTo>
                  <a:pt x="449" y="1025"/>
                </a:lnTo>
                <a:lnTo>
                  <a:pt x="450" y="1026"/>
                </a:lnTo>
                <a:lnTo>
                  <a:pt x="462" y="1034"/>
                </a:lnTo>
                <a:lnTo>
                  <a:pt x="504" y="1056"/>
                </a:lnTo>
                <a:lnTo>
                  <a:pt x="535" y="1073"/>
                </a:lnTo>
                <a:lnTo>
                  <a:pt x="537" y="1073"/>
                </a:lnTo>
                <a:lnTo>
                  <a:pt x="541" y="1073"/>
                </a:lnTo>
                <a:lnTo>
                  <a:pt x="571" y="1073"/>
                </a:lnTo>
                <a:lnTo>
                  <a:pt x="670" y="1073"/>
                </a:lnTo>
                <a:lnTo>
                  <a:pt x="747" y="1073"/>
                </a:lnTo>
                <a:lnTo>
                  <a:pt x="752" y="1073"/>
                </a:lnTo>
                <a:lnTo>
                  <a:pt x="756" y="1072"/>
                </a:lnTo>
                <a:lnTo>
                  <a:pt x="789" y="1062"/>
                </a:lnTo>
                <a:lnTo>
                  <a:pt x="905" y="1025"/>
                </a:lnTo>
                <a:lnTo>
                  <a:pt x="993" y="998"/>
                </a:lnTo>
                <a:lnTo>
                  <a:pt x="998" y="996"/>
                </a:lnTo>
                <a:lnTo>
                  <a:pt x="1013" y="991"/>
                </a:lnTo>
                <a:lnTo>
                  <a:pt x="1037" y="978"/>
                </a:lnTo>
                <a:lnTo>
                  <a:pt x="1055" y="961"/>
                </a:lnTo>
                <a:lnTo>
                  <a:pt x="1072" y="943"/>
                </a:lnTo>
                <a:lnTo>
                  <a:pt x="1120" y="904"/>
                </a:lnTo>
                <a:lnTo>
                  <a:pt x="1138" y="894"/>
                </a:lnTo>
                <a:lnTo>
                  <a:pt x="1155" y="887"/>
                </a:lnTo>
                <a:lnTo>
                  <a:pt x="1184" y="876"/>
                </a:lnTo>
                <a:lnTo>
                  <a:pt x="1229" y="873"/>
                </a:lnTo>
                <a:lnTo>
                  <a:pt x="1284" y="881"/>
                </a:lnTo>
                <a:lnTo>
                  <a:pt x="1302" y="883"/>
                </a:lnTo>
                <a:lnTo>
                  <a:pt x="1314" y="888"/>
                </a:lnTo>
                <a:lnTo>
                  <a:pt x="1338" y="900"/>
                </a:lnTo>
                <a:lnTo>
                  <a:pt x="1387" y="926"/>
                </a:lnTo>
                <a:lnTo>
                  <a:pt x="1412" y="932"/>
                </a:lnTo>
                <a:lnTo>
                  <a:pt x="1440" y="929"/>
                </a:lnTo>
                <a:lnTo>
                  <a:pt x="1455" y="921"/>
                </a:lnTo>
                <a:lnTo>
                  <a:pt x="1454" y="918"/>
                </a:lnTo>
                <a:lnTo>
                  <a:pt x="1451" y="891"/>
                </a:lnTo>
                <a:lnTo>
                  <a:pt x="1438" y="797"/>
                </a:lnTo>
                <a:lnTo>
                  <a:pt x="1428" y="725"/>
                </a:lnTo>
                <a:lnTo>
                  <a:pt x="1428" y="721"/>
                </a:lnTo>
                <a:lnTo>
                  <a:pt x="1431" y="719"/>
                </a:lnTo>
                <a:lnTo>
                  <a:pt x="1449" y="700"/>
                </a:lnTo>
                <a:lnTo>
                  <a:pt x="1512" y="637"/>
                </a:lnTo>
                <a:lnTo>
                  <a:pt x="1560" y="588"/>
                </a:lnTo>
                <a:lnTo>
                  <a:pt x="1564" y="585"/>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56"/>
          <p:cNvSpPr/>
          <p:nvPr/>
        </p:nvSpPr>
        <p:spPr>
          <a:xfrm>
            <a:off x="3851280" y="4321080"/>
            <a:ext cx="838080" cy="573120"/>
          </a:xfrm>
          <a:custGeom>
            <a:avLst/>
            <a:gdLst>
              <a:gd name="textAreaLeft" fmla="*/ 0 w 838080"/>
              <a:gd name="textAreaRight" fmla="*/ 838440 w 838080"/>
              <a:gd name="textAreaTop" fmla="*/ 0 h 573120"/>
              <a:gd name="textAreaBottom" fmla="*/ 573480 h 573120"/>
            </a:gdLst>
            <a:ahLst/>
            <a:rect l="textAreaLeft" t="textAreaTop" r="textAreaRight" b="textAreaBottom"/>
            <a:pathLst>
              <a:path w="1056" h="721">
                <a:moveTo>
                  <a:pt x="892" y="375"/>
                </a:moveTo>
                <a:lnTo>
                  <a:pt x="906" y="353"/>
                </a:lnTo>
                <a:lnTo>
                  <a:pt x="932" y="304"/>
                </a:lnTo>
                <a:lnTo>
                  <a:pt x="980" y="209"/>
                </a:lnTo>
                <a:lnTo>
                  <a:pt x="1038" y="132"/>
                </a:lnTo>
                <a:lnTo>
                  <a:pt x="1056" y="118"/>
                </a:lnTo>
                <a:lnTo>
                  <a:pt x="1052" y="117"/>
                </a:lnTo>
                <a:lnTo>
                  <a:pt x="1029" y="104"/>
                </a:lnTo>
                <a:lnTo>
                  <a:pt x="951" y="65"/>
                </a:lnTo>
                <a:lnTo>
                  <a:pt x="892" y="34"/>
                </a:lnTo>
                <a:lnTo>
                  <a:pt x="889" y="32"/>
                </a:lnTo>
                <a:lnTo>
                  <a:pt x="867" y="22"/>
                </a:lnTo>
                <a:lnTo>
                  <a:pt x="830" y="8"/>
                </a:lnTo>
                <a:lnTo>
                  <a:pt x="764" y="0"/>
                </a:lnTo>
                <a:lnTo>
                  <a:pt x="695" y="16"/>
                </a:lnTo>
                <a:lnTo>
                  <a:pt x="676" y="23"/>
                </a:lnTo>
                <a:lnTo>
                  <a:pt x="670" y="58"/>
                </a:lnTo>
                <a:lnTo>
                  <a:pt x="654" y="83"/>
                </a:lnTo>
                <a:lnTo>
                  <a:pt x="630" y="102"/>
                </a:lnTo>
                <a:lnTo>
                  <a:pt x="600" y="116"/>
                </a:lnTo>
                <a:lnTo>
                  <a:pt x="566" y="126"/>
                </a:lnTo>
                <a:lnTo>
                  <a:pt x="493" y="139"/>
                </a:lnTo>
                <a:lnTo>
                  <a:pt x="428" y="154"/>
                </a:lnTo>
                <a:lnTo>
                  <a:pt x="405" y="167"/>
                </a:lnTo>
                <a:lnTo>
                  <a:pt x="389" y="184"/>
                </a:lnTo>
                <a:lnTo>
                  <a:pt x="383" y="207"/>
                </a:lnTo>
                <a:lnTo>
                  <a:pt x="364" y="215"/>
                </a:lnTo>
                <a:lnTo>
                  <a:pt x="324" y="229"/>
                </a:lnTo>
                <a:lnTo>
                  <a:pt x="241" y="236"/>
                </a:lnTo>
                <a:lnTo>
                  <a:pt x="199" y="225"/>
                </a:lnTo>
                <a:lnTo>
                  <a:pt x="157" y="201"/>
                </a:lnTo>
                <a:lnTo>
                  <a:pt x="137" y="183"/>
                </a:lnTo>
                <a:lnTo>
                  <a:pt x="136" y="187"/>
                </a:lnTo>
                <a:lnTo>
                  <a:pt x="135" y="191"/>
                </a:lnTo>
                <a:lnTo>
                  <a:pt x="131" y="198"/>
                </a:lnTo>
                <a:lnTo>
                  <a:pt x="126" y="206"/>
                </a:lnTo>
                <a:lnTo>
                  <a:pt x="117" y="228"/>
                </a:lnTo>
                <a:lnTo>
                  <a:pt x="116" y="241"/>
                </a:lnTo>
                <a:lnTo>
                  <a:pt x="104" y="242"/>
                </a:lnTo>
                <a:lnTo>
                  <a:pt x="81" y="243"/>
                </a:lnTo>
                <a:lnTo>
                  <a:pt x="41" y="252"/>
                </a:lnTo>
                <a:lnTo>
                  <a:pt x="7" y="269"/>
                </a:lnTo>
                <a:lnTo>
                  <a:pt x="0" y="275"/>
                </a:lnTo>
                <a:lnTo>
                  <a:pt x="1" y="277"/>
                </a:lnTo>
                <a:lnTo>
                  <a:pt x="9" y="284"/>
                </a:lnTo>
                <a:lnTo>
                  <a:pt x="41" y="311"/>
                </a:lnTo>
                <a:lnTo>
                  <a:pt x="65" y="332"/>
                </a:lnTo>
                <a:lnTo>
                  <a:pt x="67" y="333"/>
                </a:lnTo>
                <a:lnTo>
                  <a:pt x="67" y="348"/>
                </a:lnTo>
                <a:lnTo>
                  <a:pt x="66" y="379"/>
                </a:lnTo>
                <a:lnTo>
                  <a:pt x="50" y="435"/>
                </a:lnTo>
                <a:lnTo>
                  <a:pt x="16" y="480"/>
                </a:lnTo>
                <a:lnTo>
                  <a:pt x="4" y="490"/>
                </a:lnTo>
                <a:lnTo>
                  <a:pt x="7" y="495"/>
                </a:lnTo>
                <a:lnTo>
                  <a:pt x="36" y="526"/>
                </a:lnTo>
                <a:lnTo>
                  <a:pt x="131" y="634"/>
                </a:lnTo>
                <a:lnTo>
                  <a:pt x="205" y="717"/>
                </a:lnTo>
                <a:lnTo>
                  <a:pt x="210" y="721"/>
                </a:lnTo>
                <a:lnTo>
                  <a:pt x="214" y="720"/>
                </a:lnTo>
                <a:lnTo>
                  <a:pt x="247" y="707"/>
                </a:lnTo>
                <a:lnTo>
                  <a:pt x="361" y="663"/>
                </a:lnTo>
                <a:lnTo>
                  <a:pt x="448" y="629"/>
                </a:lnTo>
                <a:lnTo>
                  <a:pt x="453" y="627"/>
                </a:lnTo>
                <a:lnTo>
                  <a:pt x="458" y="627"/>
                </a:lnTo>
                <a:lnTo>
                  <a:pt x="497" y="623"/>
                </a:lnTo>
                <a:lnTo>
                  <a:pt x="632" y="609"/>
                </a:lnTo>
                <a:lnTo>
                  <a:pt x="734" y="599"/>
                </a:lnTo>
                <a:lnTo>
                  <a:pt x="741" y="598"/>
                </a:lnTo>
                <a:lnTo>
                  <a:pt x="742" y="597"/>
                </a:lnTo>
                <a:lnTo>
                  <a:pt x="744" y="596"/>
                </a:lnTo>
                <a:lnTo>
                  <a:pt x="752" y="591"/>
                </a:lnTo>
                <a:lnTo>
                  <a:pt x="779" y="579"/>
                </a:lnTo>
                <a:lnTo>
                  <a:pt x="841" y="550"/>
                </a:lnTo>
                <a:lnTo>
                  <a:pt x="861" y="536"/>
                </a:lnTo>
                <a:lnTo>
                  <a:pt x="867" y="522"/>
                </a:lnTo>
                <a:lnTo>
                  <a:pt x="879" y="499"/>
                </a:lnTo>
                <a:lnTo>
                  <a:pt x="894" y="457"/>
                </a:lnTo>
                <a:lnTo>
                  <a:pt x="894" y="398"/>
                </a:lnTo>
                <a:lnTo>
                  <a:pt x="892" y="3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57"/>
          <p:cNvSpPr/>
          <p:nvPr/>
        </p:nvSpPr>
        <p:spPr>
          <a:xfrm>
            <a:off x="3851280" y="4321080"/>
            <a:ext cx="838080" cy="573120"/>
          </a:xfrm>
          <a:custGeom>
            <a:avLst/>
            <a:gdLst>
              <a:gd name="textAreaLeft" fmla="*/ 0 w 838080"/>
              <a:gd name="textAreaRight" fmla="*/ 838440 w 838080"/>
              <a:gd name="textAreaTop" fmla="*/ 0 h 573120"/>
              <a:gd name="textAreaBottom" fmla="*/ 573480 h 573120"/>
            </a:gdLst>
            <a:ahLst/>
            <a:rect l="textAreaLeft" t="textAreaTop" r="textAreaRight" b="textAreaBottom"/>
            <a:pathLst>
              <a:path w="1056" h="721">
                <a:moveTo>
                  <a:pt x="892" y="375"/>
                </a:moveTo>
                <a:lnTo>
                  <a:pt x="906" y="353"/>
                </a:lnTo>
                <a:lnTo>
                  <a:pt x="932" y="304"/>
                </a:lnTo>
                <a:lnTo>
                  <a:pt x="980" y="209"/>
                </a:lnTo>
                <a:lnTo>
                  <a:pt x="1038" y="132"/>
                </a:lnTo>
                <a:lnTo>
                  <a:pt x="1056" y="118"/>
                </a:lnTo>
                <a:lnTo>
                  <a:pt x="1052" y="117"/>
                </a:lnTo>
                <a:lnTo>
                  <a:pt x="1029" y="104"/>
                </a:lnTo>
                <a:lnTo>
                  <a:pt x="951" y="65"/>
                </a:lnTo>
                <a:lnTo>
                  <a:pt x="892" y="34"/>
                </a:lnTo>
                <a:lnTo>
                  <a:pt x="889" y="32"/>
                </a:lnTo>
                <a:lnTo>
                  <a:pt x="867" y="22"/>
                </a:lnTo>
                <a:lnTo>
                  <a:pt x="830" y="8"/>
                </a:lnTo>
                <a:lnTo>
                  <a:pt x="764" y="0"/>
                </a:lnTo>
                <a:lnTo>
                  <a:pt x="695" y="16"/>
                </a:lnTo>
                <a:lnTo>
                  <a:pt x="676" y="23"/>
                </a:lnTo>
                <a:lnTo>
                  <a:pt x="670" y="58"/>
                </a:lnTo>
                <a:lnTo>
                  <a:pt x="654" y="83"/>
                </a:lnTo>
                <a:lnTo>
                  <a:pt x="630" y="102"/>
                </a:lnTo>
                <a:lnTo>
                  <a:pt x="600" y="116"/>
                </a:lnTo>
                <a:lnTo>
                  <a:pt x="566" y="126"/>
                </a:lnTo>
                <a:lnTo>
                  <a:pt x="493" y="139"/>
                </a:lnTo>
                <a:lnTo>
                  <a:pt x="428" y="154"/>
                </a:lnTo>
                <a:lnTo>
                  <a:pt x="405" y="167"/>
                </a:lnTo>
                <a:lnTo>
                  <a:pt x="389" y="184"/>
                </a:lnTo>
                <a:lnTo>
                  <a:pt x="383" y="207"/>
                </a:lnTo>
                <a:lnTo>
                  <a:pt x="364" y="215"/>
                </a:lnTo>
                <a:lnTo>
                  <a:pt x="324" y="229"/>
                </a:lnTo>
                <a:lnTo>
                  <a:pt x="241" y="236"/>
                </a:lnTo>
                <a:lnTo>
                  <a:pt x="199" y="225"/>
                </a:lnTo>
                <a:lnTo>
                  <a:pt x="157" y="201"/>
                </a:lnTo>
                <a:lnTo>
                  <a:pt x="137" y="183"/>
                </a:lnTo>
                <a:lnTo>
                  <a:pt x="136" y="187"/>
                </a:lnTo>
                <a:lnTo>
                  <a:pt x="135" y="191"/>
                </a:lnTo>
                <a:lnTo>
                  <a:pt x="131" y="198"/>
                </a:lnTo>
                <a:lnTo>
                  <a:pt x="126" y="206"/>
                </a:lnTo>
                <a:lnTo>
                  <a:pt x="117" y="228"/>
                </a:lnTo>
                <a:lnTo>
                  <a:pt x="116" y="241"/>
                </a:lnTo>
                <a:lnTo>
                  <a:pt x="104" y="242"/>
                </a:lnTo>
                <a:lnTo>
                  <a:pt x="81" y="243"/>
                </a:lnTo>
                <a:lnTo>
                  <a:pt x="41" y="252"/>
                </a:lnTo>
                <a:lnTo>
                  <a:pt x="7" y="269"/>
                </a:lnTo>
                <a:lnTo>
                  <a:pt x="0" y="275"/>
                </a:lnTo>
                <a:lnTo>
                  <a:pt x="1" y="277"/>
                </a:lnTo>
                <a:lnTo>
                  <a:pt x="9" y="284"/>
                </a:lnTo>
                <a:lnTo>
                  <a:pt x="41" y="311"/>
                </a:lnTo>
                <a:lnTo>
                  <a:pt x="65" y="332"/>
                </a:lnTo>
                <a:lnTo>
                  <a:pt x="67" y="333"/>
                </a:lnTo>
                <a:lnTo>
                  <a:pt x="67" y="348"/>
                </a:lnTo>
                <a:lnTo>
                  <a:pt x="66" y="379"/>
                </a:lnTo>
                <a:lnTo>
                  <a:pt x="50" y="435"/>
                </a:lnTo>
                <a:lnTo>
                  <a:pt x="16" y="480"/>
                </a:lnTo>
                <a:lnTo>
                  <a:pt x="4" y="490"/>
                </a:lnTo>
                <a:lnTo>
                  <a:pt x="7" y="495"/>
                </a:lnTo>
                <a:lnTo>
                  <a:pt x="36" y="526"/>
                </a:lnTo>
                <a:lnTo>
                  <a:pt x="131" y="634"/>
                </a:lnTo>
                <a:lnTo>
                  <a:pt x="205" y="717"/>
                </a:lnTo>
                <a:lnTo>
                  <a:pt x="210" y="721"/>
                </a:lnTo>
                <a:lnTo>
                  <a:pt x="214" y="720"/>
                </a:lnTo>
                <a:lnTo>
                  <a:pt x="247" y="707"/>
                </a:lnTo>
                <a:lnTo>
                  <a:pt x="361" y="663"/>
                </a:lnTo>
                <a:lnTo>
                  <a:pt x="448" y="629"/>
                </a:lnTo>
                <a:lnTo>
                  <a:pt x="453" y="627"/>
                </a:lnTo>
                <a:lnTo>
                  <a:pt x="458" y="627"/>
                </a:lnTo>
                <a:lnTo>
                  <a:pt x="497" y="623"/>
                </a:lnTo>
                <a:lnTo>
                  <a:pt x="632" y="609"/>
                </a:lnTo>
                <a:lnTo>
                  <a:pt x="734" y="599"/>
                </a:lnTo>
                <a:lnTo>
                  <a:pt x="741" y="598"/>
                </a:lnTo>
                <a:lnTo>
                  <a:pt x="742" y="597"/>
                </a:lnTo>
                <a:lnTo>
                  <a:pt x="744" y="596"/>
                </a:lnTo>
                <a:lnTo>
                  <a:pt x="752" y="591"/>
                </a:lnTo>
                <a:lnTo>
                  <a:pt x="779" y="579"/>
                </a:lnTo>
                <a:lnTo>
                  <a:pt x="841" y="550"/>
                </a:lnTo>
                <a:lnTo>
                  <a:pt x="861" y="536"/>
                </a:lnTo>
                <a:lnTo>
                  <a:pt x="867" y="522"/>
                </a:lnTo>
                <a:lnTo>
                  <a:pt x="879" y="499"/>
                </a:lnTo>
                <a:lnTo>
                  <a:pt x="894" y="457"/>
                </a:lnTo>
                <a:lnTo>
                  <a:pt x="894" y="398"/>
                </a:lnTo>
                <a:lnTo>
                  <a:pt x="892" y="375"/>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58"/>
          <p:cNvSpPr/>
          <p:nvPr/>
        </p:nvSpPr>
        <p:spPr>
          <a:xfrm>
            <a:off x="3268800" y="3908520"/>
            <a:ext cx="1363680" cy="603000"/>
          </a:xfrm>
          <a:custGeom>
            <a:avLst/>
            <a:gdLst>
              <a:gd name="textAreaLeft" fmla="*/ 0 w 1363680"/>
              <a:gd name="textAreaRight" fmla="*/ 1364040 w 1363680"/>
              <a:gd name="textAreaTop" fmla="*/ 0 h 603000"/>
              <a:gd name="textAreaBottom" fmla="*/ 603000 h 603000"/>
            </a:gdLst>
            <a:ahLst/>
            <a:rect l="textAreaLeft" t="textAreaTop" r="textAreaRight" b="textAreaBottom"/>
            <a:pathLst>
              <a:path w="1718" h="759">
                <a:moveTo>
                  <a:pt x="1232" y="309"/>
                </a:moveTo>
                <a:lnTo>
                  <a:pt x="1230" y="310"/>
                </a:lnTo>
                <a:lnTo>
                  <a:pt x="1218" y="312"/>
                </a:lnTo>
                <a:lnTo>
                  <a:pt x="1177" y="318"/>
                </a:lnTo>
                <a:lnTo>
                  <a:pt x="1146" y="322"/>
                </a:lnTo>
                <a:lnTo>
                  <a:pt x="1145" y="322"/>
                </a:lnTo>
                <a:lnTo>
                  <a:pt x="1136" y="323"/>
                </a:lnTo>
                <a:lnTo>
                  <a:pt x="1117" y="322"/>
                </a:lnTo>
                <a:lnTo>
                  <a:pt x="1099" y="316"/>
                </a:lnTo>
                <a:lnTo>
                  <a:pt x="1081" y="306"/>
                </a:lnTo>
                <a:lnTo>
                  <a:pt x="1041" y="275"/>
                </a:lnTo>
                <a:lnTo>
                  <a:pt x="1032" y="265"/>
                </a:lnTo>
                <a:lnTo>
                  <a:pt x="1029" y="265"/>
                </a:lnTo>
                <a:lnTo>
                  <a:pt x="1018" y="264"/>
                </a:lnTo>
                <a:lnTo>
                  <a:pt x="976" y="258"/>
                </a:lnTo>
                <a:lnTo>
                  <a:pt x="945" y="254"/>
                </a:lnTo>
                <a:lnTo>
                  <a:pt x="944" y="253"/>
                </a:lnTo>
                <a:lnTo>
                  <a:pt x="939" y="251"/>
                </a:lnTo>
                <a:lnTo>
                  <a:pt x="938" y="247"/>
                </a:lnTo>
                <a:lnTo>
                  <a:pt x="938" y="243"/>
                </a:lnTo>
                <a:lnTo>
                  <a:pt x="937" y="233"/>
                </a:lnTo>
                <a:lnTo>
                  <a:pt x="927" y="209"/>
                </a:lnTo>
                <a:lnTo>
                  <a:pt x="914" y="197"/>
                </a:lnTo>
                <a:lnTo>
                  <a:pt x="908" y="193"/>
                </a:lnTo>
                <a:lnTo>
                  <a:pt x="895" y="184"/>
                </a:lnTo>
                <a:lnTo>
                  <a:pt x="886" y="177"/>
                </a:lnTo>
                <a:lnTo>
                  <a:pt x="886" y="176"/>
                </a:lnTo>
                <a:lnTo>
                  <a:pt x="873" y="173"/>
                </a:lnTo>
                <a:lnTo>
                  <a:pt x="854" y="168"/>
                </a:lnTo>
                <a:lnTo>
                  <a:pt x="827" y="165"/>
                </a:lnTo>
                <a:lnTo>
                  <a:pt x="798" y="164"/>
                </a:lnTo>
                <a:lnTo>
                  <a:pt x="788" y="163"/>
                </a:lnTo>
                <a:lnTo>
                  <a:pt x="787" y="167"/>
                </a:lnTo>
                <a:lnTo>
                  <a:pt x="785" y="172"/>
                </a:lnTo>
                <a:lnTo>
                  <a:pt x="782" y="176"/>
                </a:lnTo>
                <a:lnTo>
                  <a:pt x="774" y="186"/>
                </a:lnTo>
                <a:lnTo>
                  <a:pt x="755" y="207"/>
                </a:lnTo>
                <a:lnTo>
                  <a:pt x="745" y="218"/>
                </a:lnTo>
                <a:lnTo>
                  <a:pt x="738" y="216"/>
                </a:lnTo>
                <a:lnTo>
                  <a:pt x="734" y="211"/>
                </a:lnTo>
                <a:lnTo>
                  <a:pt x="730" y="206"/>
                </a:lnTo>
                <a:lnTo>
                  <a:pt x="728" y="201"/>
                </a:lnTo>
                <a:lnTo>
                  <a:pt x="727" y="193"/>
                </a:lnTo>
                <a:lnTo>
                  <a:pt x="727" y="180"/>
                </a:lnTo>
                <a:lnTo>
                  <a:pt x="728" y="167"/>
                </a:lnTo>
                <a:lnTo>
                  <a:pt x="726" y="157"/>
                </a:lnTo>
                <a:lnTo>
                  <a:pt x="725" y="153"/>
                </a:lnTo>
                <a:lnTo>
                  <a:pt x="718" y="146"/>
                </a:lnTo>
                <a:lnTo>
                  <a:pt x="701" y="123"/>
                </a:lnTo>
                <a:lnTo>
                  <a:pt x="687" y="106"/>
                </a:lnTo>
                <a:lnTo>
                  <a:pt x="687" y="105"/>
                </a:lnTo>
                <a:lnTo>
                  <a:pt x="671" y="111"/>
                </a:lnTo>
                <a:lnTo>
                  <a:pt x="643" y="119"/>
                </a:lnTo>
                <a:lnTo>
                  <a:pt x="616" y="121"/>
                </a:lnTo>
                <a:lnTo>
                  <a:pt x="588" y="118"/>
                </a:lnTo>
                <a:lnTo>
                  <a:pt x="533" y="101"/>
                </a:lnTo>
                <a:lnTo>
                  <a:pt x="519" y="95"/>
                </a:lnTo>
                <a:lnTo>
                  <a:pt x="505" y="88"/>
                </a:lnTo>
                <a:lnTo>
                  <a:pt x="492" y="78"/>
                </a:lnTo>
                <a:lnTo>
                  <a:pt x="473" y="57"/>
                </a:lnTo>
                <a:lnTo>
                  <a:pt x="459" y="34"/>
                </a:lnTo>
                <a:lnTo>
                  <a:pt x="444" y="1"/>
                </a:lnTo>
                <a:lnTo>
                  <a:pt x="443" y="0"/>
                </a:lnTo>
                <a:lnTo>
                  <a:pt x="442" y="7"/>
                </a:lnTo>
                <a:lnTo>
                  <a:pt x="442" y="27"/>
                </a:lnTo>
                <a:lnTo>
                  <a:pt x="442" y="43"/>
                </a:lnTo>
                <a:lnTo>
                  <a:pt x="440" y="43"/>
                </a:lnTo>
                <a:lnTo>
                  <a:pt x="428" y="39"/>
                </a:lnTo>
                <a:lnTo>
                  <a:pt x="389" y="23"/>
                </a:lnTo>
                <a:lnTo>
                  <a:pt x="359" y="12"/>
                </a:lnTo>
                <a:lnTo>
                  <a:pt x="358" y="11"/>
                </a:lnTo>
                <a:lnTo>
                  <a:pt x="350" y="22"/>
                </a:lnTo>
                <a:lnTo>
                  <a:pt x="334" y="46"/>
                </a:lnTo>
                <a:lnTo>
                  <a:pt x="294" y="101"/>
                </a:lnTo>
                <a:lnTo>
                  <a:pt x="231" y="153"/>
                </a:lnTo>
                <a:lnTo>
                  <a:pt x="209" y="163"/>
                </a:lnTo>
                <a:lnTo>
                  <a:pt x="187" y="173"/>
                </a:lnTo>
                <a:lnTo>
                  <a:pt x="145" y="188"/>
                </a:lnTo>
                <a:lnTo>
                  <a:pt x="73" y="212"/>
                </a:lnTo>
                <a:lnTo>
                  <a:pt x="13" y="234"/>
                </a:lnTo>
                <a:lnTo>
                  <a:pt x="0" y="240"/>
                </a:lnTo>
                <a:lnTo>
                  <a:pt x="2" y="242"/>
                </a:lnTo>
                <a:lnTo>
                  <a:pt x="17" y="249"/>
                </a:lnTo>
                <a:lnTo>
                  <a:pt x="69" y="273"/>
                </a:lnTo>
                <a:lnTo>
                  <a:pt x="107" y="291"/>
                </a:lnTo>
                <a:lnTo>
                  <a:pt x="110" y="292"/>
                </a:lnTo>
                <a:lnTo>
                  <a:pt x="122" y="313"/>
                </a:lnTo>
                <a:lnTo>
                  <a:pt x="153" y="362"/>
                </a:lnTo>
                <a:lnTo>
                  <a:pt x="233" y="471"/>
                </a:lnTo>
                <a:lnTo>
                  <a:pt x="279" y="515"/>
                </a:lnTo>
                <a:lnTo>
                  <a:pt x="329" y="546"/>
                </a:lnTo>
                <a:lnTo>
                  <a:pt x="356" y="553"/>
                </a:lnTo>
                <a:lnTo>
                  <a:pt x="360" y="561"/>
                </a:lnTo>
                <a:lnTo>
                  <a:pt x="374" y="583"/>
                </a:lnTo>
                <a:lnTo>
                  <a:pt x="385" y="600"/>
                </a:lnTo>
                <a:lnTo>
                  <a:pt x="386" y="600"/>
                </a:lnTo>
                <a:lnTo>
                  <a:pt x="391" y="601"/>
                </a:lnTo>
                <a:lnTo>
                  <a:pt x="409" y="602"/>
                </a:lnTo>
                <a:lnTo>
                  <a:pt x="423" y="602"/>
                </a:lnTo>
                <a:lnTo>
                  <a:pt x="424" y="602"/>
                </a:lnTo>
                <a:lnTo>
                  <a:pt x="442" y="597"/>
                </a:lnTo>
                <a:lnTo>
                  <a:pt x="457" y="589"/>
                </a:lnTo>
                <a:lnTo>
                  <a:pt x="470" y="578"/>
                </a:lnTo>
                <a:lnTo>
                  <a:pt x="492" y="553"/>
                </a:lnTo>
                <a:lnTo>
                  <a:pt x="515" y="531"/>
                </a:lnTo>
                <a:lnTo>
                  <a:pt x="546" y="516"/>
                </a:lnTo>
                <a:lnTo>
                  <a:pt x="590" y="517"/>
                </a:lnTo>
                <a:lnTo>
                  <a:pt x="621" y="526"/>
                </a:lnTo>
                <a:lnTo>
                  <a:pt x="645" y="533"/>
                </a:lnTo>
                <a:lnTo>
                  <a:pt x="688" y="542"/>
                </a:lnTo>
                <a:lnTo>
                  <a:pt x="769" y="560"/>
                </a:lnTo>
                <a:lnTo>
                  <a:pt x="847" y="601"/>
                </a:lnTo>
                <a:lnTo>
                  <a:pt x="868" y="618"/>
                </a:lnTo>
                <a:lnTo>
                  <a:pt x="872" y="618"/>
                </a:lnTo>
                <a:lnTo>
                  <a:pt x="888" y="618"/>
                </a:lnTo>
                <a:lnTo>
                  <a:pt x="900" y="618"/>
                </a:lnTo>
                <a:lnTo>
                  <a:pt x="901" y="618"/>
                </a:lnTo>
                <a:lnTo>
                  <a:pt x="900" y="626"/>
                </a:lnTo>
                <a:lnTo>
                  <a:pt x="897" y="642"/>
                </a:lnTo>
                <a:lnTo>
                  <a:pt x="890" y="658"/>
                </a:lnTo>
                <a:lnTo>
                  <a:pt x="876" y="687"/>
                </a:lnTo>
                <a:lnTo>
                  <a:pt x="869" y="705"/>
                </a:lnTo>
                <a:lnTo>
                  <a:pt x="885" y="720"/>
                </a:lnTo>
                <a:lnTo>
                  <a:pt x="922" y="743"/>
                </a:lnTo>
                <a:lnTo>
                  <a:pt x="964" y="755"/>
                </a:lnTo>
                <a:lnTo>
                  <a:pt x="1007" y="759"/>
                </a:lnTo>
                <a:lnTo>
                  <a:pt x="1051" y="753"/>
                </a:lnTo>
                <a:lnTo>
                  <a:pt x="1095" y="739"/>
                </a:lnTo>
                <a:lnTo>
                  <a:pt x="1116" y="727"/>
                </a:lnTo>
                <a:lnTo>
                  <a:pt x="1124" y="703"/>
                </a:lnTo>
                <a:lnTo>
                  <a:pt x="1141" y="686"/>
                </a:lnTo>
                <a:lnTo>
                  <a:pt x="1166" y="673"/>
                </a:lnTo>
                <a:lnTo>
                  <a:pt x="1196" y="664"/>
                </a:lnTo>
                <a:lnTo>
                  <a:pt x="1265" y="652"/>
                </a:lnTo>
                <a:lnTo>
                  <a:pt x="1334" y="636"/>
                </a:lnTo>
                <a:lnTo>
                  <a:pt x="1364" y="622"/>
                </a:lnTo>
                <a:lnTo>
                  <a:pt x="1388" y="604"/>
                </a:lnTo>
                <a:lnTo>
                  <a:pt x="1405" y="579"/>
                </a:lnTo>
                <a:lnTo>
                  <a:pt x="1413" y="544"/>
                </a:lnTo>
                <a:lnTo>
                  <a:pt x="1433" y="537"/>
                </a:lnTo>
                <a:lnTo>
                  <a:pt x="1469" y="527"/>
                </a:lnTo>
                <a:lnTo>
                  <a:pt x="1535" y="523"/>
                </a:lnTo>
                <a:lnTo>
                  <a:pt x="1605" y="545"/>
                </a:lnTo>
                <a:lnTo>
                  <a:pt x="1626" y="555"/>
                </a:lnTo>
                <a:lnTo>
                  <a:pt x="1627" y="551"/>
                </a:lnTo>
                <a:lnTo>
                  <a:pt x="1640" y="523"/>
                </a:lnTo>
                <a:lnTo>
                  <a:pt x="1683" y="425"/>
                </a:lnTo>
                <a:lnTo>
                  <a:pt x="1716" y="350"/>
                </a:lnTo>
                <a:lnTo>
                  <a:pt x="1718" y="345"/>
                </a:lnTo>
                <a:lnTo>
                  <a:pt x="1714" y="345"/>
                </a:lnTo>
                <a:lnTo>
                  <a:pt x="1690" y="344"/>
                </a:lnTo>
                <a:lnTo>
                  <a:pt x="1609" y="341"/>
                </a:lnTo>
                <a:lnTo>
                  <a:pt x="1547" y="338"/>
                </a:lnTo>
                <a:lnTo>
                  <a:pt x="1544" y="337"/>
                </a:lnTo>
                <a:lnTo>
                  <a:pt x="1556" y="324"/>
                </a:lnTo>
                <a:lnTo>
                  <a:pt x="1562" y="313"/>
                </a:lnTo>
                <a:lnTo>
                  <a:pt x="1562" y="309"/>
                </a:lnTo>
                <a:lnTo>
                  <a:pt x="1562" y="305"/>
                </a:lnTo>
                <a:lnTo>
                  <a:pt x="1560" y="301"/>
                </a:lnTo>
                <a:lnTo>
                  <a:pt x="1557" y="298"/>
                </a:lnTo>
                <a:lnTo>
                  <a:pt x="1553" y="296"/>
                </a:lnTo>
                <a:lnTo>
                  <a:pt x="1547" y="294"/>
                </a:lnTo>
                <a:lnTo>
                  <a:pt x="1536" y="292"/>
                </a:lnTo>
                <a:lnTo>
                  <a:pt x="1523" y="292"/>
                </a:lnTo>
                <a:lnTo>
                  <a:pt x="1495" y="295"/>
                </a:lnTo>
                <a:lnTo>
                  <a:pt x="1472" y="301"/>
                </a:lnTo>
                <a:lnTo>
                  <a:pt x="1467" y="305"/>
                </a:lnTo>
                <a:lnTo>
                  <a:pt x="1465" y="306"/>
                </a:lnTo>
                <a:lnTo>
                  <a:pt x="1452" y="307"/>
                </a:lnTo>
                <a:lnTo>
                  <a:pt x="1409" y="310"/>
                </a:lnTo>
                <a:lnTo>
                  <a:pt x="1377" y="313"/>
                </a:lnTo>
                <a:lnTo>
                  <a:pt x="1376" y="313"/>
                </a:lnTo>
                <a:lnTo>
                  <a:pt x="1374" y="314"/>
                </a:lnTo>
                <a:lnTo>
                  <a:pt x="1367" y="321"/>
                </a:lnTo>
                <a:lnTo>
                  <a:pt x="1342" y="342"/>
                </a:lnTo>
                <a:lnTo>
                  <a:pt x="1322" y="360"/>
                </a:lnTo>
                <a:lnTo>
                  <a:pt x="1321" y="360"/>
                </a:lnTo>
                <a:lnTo>
                  <a:pt x="1307" y="352"/>
                </a:lnTo>
                <a:lnTo>
                  <a:pt x="1265" y="328"/>
                </a:lnTo>
                <a:lnTo>
                  <a:pt x="1233" y="310"/>
                </a:lnTo>
                <a:lnTo>
                  <a:pt x="1232" y="3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59"/>
          <p:cNvSpPr/>
          <p:nvPr/>
        </p:nvSpPr>
        <p:spPr>
          <a:xfrm>
            <a:off x="3268800" y="3908520"/>
            <a:ext cx="1363680" cy="603000"/>
          </a:xfrm>
          <a:custGeom>
            <a:avLst/>
            <a:gdLst>
              <a:gd name="textAreaLeft" fmla="*/ 0 w 1363680"/>
              <a:gd name="textAreaRight" fmla="*/ 1364040 w 1363680"/>
              <a:gd name="textAreaTop" fmla="*/ 0 h 603000"/>
              <a:gd name="textAreaBottom" fmla="*/ 603000 h 603000"/>
            </a:gdLst>
            <a:ahLst/>
            <a:rect l="textAreaLeft" t="textAreaTop" r="textAreaRight" b="textAreaBottom"/>
            <a:pathLst>
              <a:path w="1718" h="759">
                <a:moveTo>
                  <a:pt x="1232" y="309"/>
                </a:moveTo>
                <a:lnTo>
                  <a:pt x="1230" y="310"/>
                </a:lnTo>
                <a:lnTo>
                  <a:pt x="1218" y="312"/>
                </a:lnTo>
                <a:lnTo>
                  <a:pt x="1177" y="318"/>
                </a:lnTo>
                <a:lnTo>
                  <a:pt x="1146" y="322"/>
                </a:lnTo>
                <a:lnTo>
                  <a:pt x="1145" y="322"/>
                </a:lnTo>
                <a:lnTo>
                  <a:pt x="1136" y="323"/>
                </a:lnTo>
                <a:lnTo>
                  <a:pt x="1117" y="322"/>
                </a:lnTo>
                <a:lnTo>
                  <a:pt x="1099" y="316"/>
                </a:lnTo>
                <a:lnTo>
                  <a:pt x="1081" y="306"/>
                </a:lnTo>
                <a:lnTo>
                  <a:pt x="1041" y="275"/>
                </a:lnTo>
                <a:lnTo>
                  <a:pt x="1032" y="265"/>
                </a:lnTo>
                <a:lnTo>
                  <a:pt x="1029" y="265"/>
                </a:lnTo>
                <a:lnTo>
                  <a:pt x="1018" y="264"/>
                </a:lnTo>
                <a:lnTo>
                  <a:pt x="976" y="258"/>
                </a:lnTo>
                <a:lnTo>
                  <a:pt x="945" y="254"/>
                </a:lnTo>
                <a:lnTo>
                  <a:pt x="944" y="253"/>
                </a:lnTo>
                <a:lnTo>
                  <a:pt x="939" y="251"/>
                </a:lnTo>
                <a:lnTo>
                  <a:pt x="938" y="247"/>
                </a:lnTo>
                <a:lnTo>
                  <a:pt x="938" y="243"/>
                </a:lnTo>
                <a:lnTo>
                  <a:pt x="937" y="233"/>
                </a:lnTo>
                <a:lnTo>
                  <a:pt x="927" y="209"/>
                </a:lnTo>
                <a:lnTo>
                  <a:pt x="914" y="197"/>
                </a:lnTo>
                <a:lnTo>
                  <a:pt x="908" y="193"/>
                </a:lnTo>
                <a:lnTo>
                  <a:pt x="895" y="184"/>
                </a:lnTo>
                <a:lnTo>
                  <a:pt x="886" y="177"/>
                </a:lnTo>
                <a:lnTo>
                  <a:pt x="886" y="176"/>
                </a:lnTo>
                <a:lnTo>
                  <a:pt x="873" y="173"/>
                </a:lnTo>
                <a:lnTo>
                  <a:pt x="854" y="168"/>
                </a:lnTo>
                <a:lnTo>
                  <a:pt x="827" y="165"/>
                </a:lnTo>
                <a:lnTo>
                  <a:pt x="798" y="164"/>
                </a:lnTo>
                <a:lnTo>
                  <a:pt x="788" y="163"/>
                </a:lnTo>
                <a:lnTo>
                  <a:pt x="787" y="167"/>
                </a:lnTo>
                <a:lnTo>
                  <a:pt x="785" y="172"/>
                </a:lnTo>
                <a:lnTo>
                  <a:pt x="782" y="176"/>
                </a:lnTo>
                <a:lnTo>
                  <a:pt x="774" y="186"/>
                </a:lnTo>
                <a:lnTo>
                  <a:pt x="755" y="207"/>
                </a:lnTo>
                <a:lnTo>
                  <a:pt x="745" y="218"/>
                </a:lnTo>
                <a:lnTo>
                  <a:pt x="738" y="216"/>
                </a:lnTo>
                <a:lnTo>
                  <a:pt x="734" y="211"/>
                </a:lnTo>
                <a:lnTo>
                  <a:pt x="730" y="206"/>
                </a:lnTo>
                <a:lnTo>
                  <a:pt x="728" y="201"/>
                </a:lnTo>
                <a:lnTo>
                  <a:pt x="727" y="193"/>
                </a:lnTo>
                <a:lnTo>
                  <a:pt x="727" y="180"/>
                </a:lnTo>
                <a:lnTo>
                  <a:pt x="728" y="167"/>
                </a:lnTo>
                <a:lnTo>
                  <a:pt x="726" y="157"/>
                </a:lnTo>
                <a:lnTo>
                  <a:pt x="725" y="153"/>
                </a:lnTo>
                <a:lnTo>
                  <a:pt x="718" y="146"/>
                </a:lnTo>
                <a:lnTo>
                  <a:pt x="701" y="123"/>
                </a:lnTo>
                <a:lnTo>
                  <a:pt x="687" y="106"/>
                </a:lnTo>
                <a:lnTo>
                  <a:pt x="687" y="105"/>
                </a:lnTo>
                <a:lnTo>
                  <a:pt x="671" y="111"/>
                </a:lnTo>
                <a:lnTo>
                  <a:pt x="643" y="119"/>
                </a:lnTo>
                <a:lnTo>
                  <a:pt x="616" y="121"/>
                </a:lnTo>
                <a:lnTo>
                  <a:pt x="588" y="118"/>
                </a:lnTo>
                <a:lnTo>
                  <a:pt x="533" y="101"/>
                </a:lnTo>
                <a:lnTo>
                  <a:pt x="519" y="95"/>
                </a:lnTo>
                <a:lnTo>
                  <a:pt x="505" y="88"/>
                </a:lnTo>
                <a:lnTo>
                  <a:pt x="492" y="78"/>
                </a:lnTo>
                <a:lnTo>
                  <a:pt x="473" y="57"/>
                </a:lnTo>
                <a:lnTo>
                  <a:pt x="459" y="34"/>
                </a:lnTo>
                <a:lnTo>
                  <a:pt x="444" y="1"/>
                </a:lnTo>
                <a:lnTo>
                  <a:pt x="443" y="0"/>
                </a:lnTo>
                <a:lnTo>
                  <a:pt x="442" y="7"/>
                </a:lnTo>
                <a:lnTo>
                  <a:pt x="442" y="27"/>
                </a:lnTo>
                <a:lnTo>
                  <a:pt x="442" y="43"/>
                </a:lnTo>
                <a:lnTo>
                  <a:pt x="440" y="43"/>
                </a:lnTo>
                <a:lnTo>
                  <a:pt x="428" y="39"/>
                </a:lnTo>
                <a:lnTo>
                  <a:pt x="389" y="23"/>
                </a:lnTo>
                <a:lnTo>
                  <a:pt x="359" y="12"/>
                </a:lnTo>
                <a:lnTo>
                  <a:pt x="358" y="11"/>
                </a:lnTo>
                <a:lnTo>
                  <a:pt x="350" y="22"/>
                </a:lnTo>
                <a:lnTo>
                  <a:pt x="334" y="46"/>
                </a:lnTo>
                <a:lnTo>
                  <a:pt x="294" y="101"/>
                </a:lnTo>
                <a:lnTo>
                  <a:pt x="231" y="153"/>
                </a:lnTo>
                <a:lnTo>
                  <a:pt x="209" y="163"/>
                </a:lnTo>
                <a:lnTo>
                  <a:pt x="187" y="173"/>
                </a:lnTo>
                <a:lnTo>
                  <a:pt x="145" y="188"/>
                </a:lnTo>
                <a:lnTo>
                  <a:pt x="73" y="212"/>
                </a:lnTo>
                <a:lnTo>
                  <a:pt x="13" y="234"/>
                </a:lnTo>
                <a:lnTo>
                  <a:pt x="0" y="240"/>
                </a:lnTo>
                <a:lnTo>
                  <a:pt x="2" y="242"/>
                </a:lnTo>
                <a:lnTo>
                  <a:pt x="17" y="249"/>
                </a:lnTo>
                <a:lnTo>
                  <a:pt x="69" y="273"/>
                </a:lnTo>
                <a:lnTo>
                  <a:pt x="107" y="291"/>
                </a:lnTo>
                <a:lnTo>
                  <a:pt x="110" y="292"/>
                </a:lnTo>
                <a:lnTo>
                  <a:pt x="122" y="313"/>
                </a:lnTo>
                <a:lnTo>
                  <a:pt x="153" y="362"/>
                </a:lnTo>
                <a:lnTo>
                  <a:pt x="233" y="471"/>
                </a:lnTo>
                <a:lnTo>
                  <a:pt x="279" y="515"/>
                </a:lnTo>
                <a:lnTo>
                  <a:pt x="329" y="546"/>
                </a:lnTo>
                <a:lnTo>
                  <a:pt x="356" y="553"/>
                </a:lnTo>
                <a:lnTo>
                  <a:pt x="360" y="561"/>
                </a:lnTo>
                <a:lnTo>
                  <a:pt x="374" y="583"/>
                </a:lnTo>
                <a:lnTo>
                  <a:pt x="385" y="600"/>
                </a:lnTo>
                <a:lnTo>
                  <a:pt x="386" y="600"/>
                </a:lnTo>
                <a:lnTo>
                  <a:pt x="391" y="601"/>
                </a:lnTo>
                <a:lnTo>
                  <a:pt x="409" y="602"/>
                </a:lnTo>
                <a:lnTo>
                  <a:pt x="423" y="602"/>
                </a:lnTo>
                <a:lnTo>
                  <a:pt x="424" y="602"/>
                </a:lnTo>
                <a:lnTo>
                  <a:pt x="442" y="597"/>
                </a:lnTo>
                <a:lnTo>
                  <a:pt x="457" y="589"/>
                </a:lnTo>
                <a:lnTo>
                  <a:pt x="470" y="578"/>
                </a:lnTo>
                <a:lnTo>
                  <a:pt x="492" y="553"/>
                </a:lnTo>
                <a:lnTo>
                  <a:pt x="515" y="531"/>
                </a:lnTo>
                <a:lnTo>
                  <a:pt x="546" y="516"/>
                </a:lnTo>
                <a:lnTo>
                  <a:pt x="590" y="517"/>
                </a:lnTo>
                <a:lnTo>
                  <a:pt x="621" y="526"/>
                </a:lnTo>
                <a:lnTo>
                  <a:pt x="645" y="533"/>
                </a:lnTo>
                <a:lnTo>
                  <a:pt x="688" y="542"/>
                </a:lnTo>
                <a:lnTo>
                  <a:pt x="769" y="560"/>
                </a:lnTo>
                <a:lnTo>
                  <a:pt x="847" y="601"/>
                </a:lnTo>
                <a:lnTo>
                  <a:pt x="868" y="618"/>
                </a:lnTo>
                <a:lnTo>
                  <a:pt x="872" y="618"/>
                </a:lnTo>
                <a:lnTo>
                  <a:pt x="888" y="618"/>
                </a:lnTo>
                <a:lnTo>
                  <a:pt x="900" y="618"/>
                </a:lnTo>
                <a:lnTo>
                  <a:pt x="901" y="618"/>
                </a:lnTo>
                <a:lnTo>
                  <a:pt x="900" y="626"/>
                </a:lnTo>
                <a:lnTo>
                  <a:pt x="897" y="642"/>
                </a:lnTo>
                <a:lnTo>
                  <a:pt x="890" y="658"/>
                </a:lnTo>
                <a:lnTo>
                  <a:pt x="876" y="687"/>
                </a:lnTo>
                <a:lnTo>
                  <a:pt x="869" y="705"/>
                </a:lnTo>
                <a:lnTo>
                  <a:pt x="885" y="720"/>
                </a:lnTo>
                <a:lnTo>
                  <a:pt x="922" y="743"/>
                </a:lnTo>
                <a:lnTo>
                  <a:pt x="964" y="755"/>
                </a:lnTo>
                <a:lnTo>
                  <a:pt x="1007" y="759"/>
                </a:lnTo>
                <a:lnTo>
                  <a:pt x="1051" y="753"/>
                </a:lnTo>
                <a:lnTo>
                  <a:pt x="1095" y="739"/>
                </a:lnTo>
                <a:lnTo>
                  <a:pt x="1116" y="727"/>
                </a:lnTo>
                <a:lnTo>
                  <a:pt x="1124" y="703"/>
                </a:lnTo>
                <a:lnTo>
                  <a:pt x="1141" y="686"/>
                </a:lnTo>
                <a:lnTo>
                  <a:pt x="1166" y="673"/>
                </a:lnTo>
                <a:lnTo>
                  <a:pt x="1196" y="664"/>
                </a:lnTo>
                <a:lnTo>
                  <a:pt x="1265" y="652"/>
                </a:lnTo>
                <a:lnTo>
                  <a:pt x="1334" y="636"/>
                </a:lnTo>
                <a:lnTo>
                  <a:pt x="1364" y="622"/>
                </a:lnTo>
                <a:lnTo>
                  <a:pt x="1388" y="604"/>
                </a:lnTo>
                <a:lnTo>
                  <a:pt x="1405" y="579"/>
                </a:lnTo>
                <a:lnTo>
                  <a:pt x="1413" y="544"/>
                </a:lnTo>
                <a:lnTo>
                  <a:pt x="1433" y="537"/>
                </a:lnTo>
                <a:lnTo>
                  <a:pt x="1469" y="527"/>
                </a:lnTo>
                <a:lnTo>
                  <a:pt x="1535" y="523"/>
                </a:lnTo>
                <a:lnTo>
                  <a:pt x="1605" y="545"/>
                </a:lnTo>
                <a:lnTo>
                  <a:pt x="1626" y="555"/>
                </a:lnTo>
                <a:lnTo>
                  <a:pt x="1627" y="551"/>
                </a:lnTo>
                <a:lnTo>
                  <a:pt x="1640" y="523"/>
                </a:lnTo>
                <a:lnTo>
                  <a:pt x="1683" y="425"/>
                </a:lnTo>
                <a:lnTo>
                  <a:pt x="1716" y="350"/>
                </a:lnTo>
                <a:lnTo>
                  <a:pt x="1718" y="345"/>
                </a:lnTo>
                <a:lnTo>
                  <a:pt x="1714" y="345"/>
                </a:lnTo>
                <a:lnTo>
                  <a:pt x="1690" y="344"/>
                </a:lnTo>
                <a:lnTo>
                  <a:pt x="1609" y="341"/>
                </a:lnTo>
                <a:lnTo>
                  <a:pt x="1547" y="338"/>
                </a:lnTo>
                <a:lnTo>
                  <a:pt x="1544" y="337"/>
                </a:lnTo>
                <a:lnTo>
                  <a:pt x="1556" y="324"/>
                </a:lnTo>
                <a:lnTo>
                  <a:pt x="1562" y="313"/>
                </a:lnTo>
                <a:lnTo>
                  <a:pt x="1562" y="309"/>
                </a:lnTo>
                <a:lnTo>
                  <a:pt x="1562" y="305"/>
                </a:lnTo>
                <a:lnTo>
                  <a:pt x="1560" y="301"/>
                </a:lnTo>
                <a:lnTo>
                  <a:pt x="1557" y="298"/>
                </a:lnTo>
                <a:lnTo>
                  <a:pt x="1553" y="296"/>
                </a:lnTo>
                <a:lnTo>
                  <a:pt x="1547" y="294"/>
                </a:lnTo>
                <a:lnTo>
                  <a:pt x="1536" y="292"/>
                </a:lnTo>
                <a:lnTo>
                  <a:pt x="1523" y="292"/>
                </a:lnTo>
                <a:lnTo>
                  <a:pt x="1495" y="295"/>
                </a:lnTo>
                <a:lnTo>
                  <a:pt x="1472" y="301"/>
                </a:lnTo>
                <a:lnTo>
                  <a:pt x="1467" y="305"/>
                </a:lnTo>
                <a:lnTo>
                  <a:pt x="1465" y="306"/>
                </a:lnTo>
                <a:lnTo>
                  <a:pt x="1452" y="307"/>
                </a:lnTo>
                <a:lnTo>
                  <a:pt x="1409" y="310"/>
                </a:lnTo>
                <a:lnTo>
                  <a:pt x="1377" y="313"/>
                </a:lnTo>
                <a:lnTo>
                  <a:pt x="1376" y="313"/>
                </a:lnTo>
                <a:lnTo>
                  <a:pt x="1374" y="314"/>
                </a:lnTo>
                <a:lnTo>
                  <a:pt x="1367" y="321"/>
                </a:lnTo>
                <a:lnTo>
                  <a:pt x="1342" y="342"/>
                </a:lnTo>
                <a:lnTo>
                  <a:pt x="1322" y="360"/>
                </a:lnTo>
                <a:lnTo>
                  <a:pt x="1321" y="360"/>
                </a:lnTo>
                <a:lnTo>
                  <a:pt x="1307" y="352"/>
                </a:lnTo>
                <a:lnTo>
                  <a:pt x="1265" y="328"/>
                </a:lnTo>
                <a:lnTo>
                  <a:pt x="1233" y="310"/>
                </a:lnTo>
                <a:lnTo>
                  <a:pt x="1232" y="309"/>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60"/>
          <p:cNvSpPr/>
          <p:nvPr/>
        </p:nvSpPr>
        <p:spPr>
          <a:xfrm>
            <a:off x="3268800" y="3908520"/>
            <a:ext cx="815760" cy="479160"/>
          </a:xfrm>
          <a:custGeom>
            <a:avLst/>
            <a:gdLst>
              <a:gd name="textAreaLeft" fmla="*/ 0 w 815760"/>
              <a:gd name="textAreaRight" fmla="*/ 816120 w 815760"/>
              <a:gd name="textAreaTop" fmla="*/ 0 h 479160"/>
              <a:gd name="textAreaBottom" fmla="*/ 479520 h 479160"/>
            </a:gdLst>
            <a:ahLst/>
            <a:rect l="textAreaLeft" t="textAreaTop" r="textAreaRight" b="textAreaBottom"/>
            <a:pathLst>
              <a:path w="1027" h="602">
                <a:moveTo>
                  <a:pt x="1027" y="276"/>
                </a:moveTo>
                <a:lnTo>
                  <a:pt x="1025" y="276"/>
                </a:lnTo>
                <a:lnTo>
                  <a:pt x="1012" y="272"/>
                </a:lnTo>
                <a:lnTo>
                  <a:pt x="971" y="258"/>
                </a:lnTo>
                <a:lnTo>
                  <a:pt x="938" y="247"/>
                </a:lnTo>
                <a:lnTo>
                  <a:pt x="937" y="246"/>
                </a:lnTo>
                <a:lnTo>
                  <a:pt x="928" y="225"/>
                </a:lnTo>
                <a:lnTo>
                  <a:pt x="904" y="192"/>
                </a:lnTo>
                <a:lnTo>
                  <a:pt x="878" y="175"/>
                </a:lnTo>
                <a:lnTo>
                  <a:pt x="851" y="167"/>
                </a:lnTo>
                <a:lnTo>
                  <a:pt x="824" y="165"/>
                </a:lnTo>
                <a:lnTo>
                  <a:pt x="799" y="164"/>
                </a:lnTo>
                <a:lnTo>
                  <a:pt x="788" y="163"/>
                </a:lnTo>
                <a:lnTo>
                  <a:pt x="787" y="167"/>
                </a:lnTo>
                <a:lnTo>
                  <a:pt x="785" y="172"/>
                </a:lnTo>
                <a:lnTo>
                  <a:pt x="782" y="176"/>
                </a:lnTo>
                <a:lnTo>
                  <a:pt x="774" y="186"/>
                </a:lnTo>
                <a:lnTo>
                  <a:pt x="755" y="207"/>
                </a:lnTo>
                <a:lnTo>
                  <a:pt x="745" y="218"/>
                </a:lnTo>
                <a:lnTo>
                  <a:pt x="738" y="216"/>
                </a:lnTo>
                <a:lnTo>
                  <a:pt x="734" y="211"/>
                </a:lnTo>
                <a:lnTo>
                  <a:pt x="730" y="206"/>
                </a:lnTo>
                <a:lnTo>
                  <a:pt x="728" y="201"/>
                </a:lnTo>
                <a:lnTo>
                  <a:pt x="727" y="193"/>
                </a:lnTo>
                <a:lnTo>
                  <a:pt x="727" y="180"/>
                </a:lnTo>
                <a:lnTo>
                  <a:pt x="726" y="157"/>
                </a:lnTo>
                <a:lnTo>
                  <a:pt x="725" y="153"/>
                </a:lnTo>
                <a:lnTo>
                  <a:pt x="718" y="146"/>
                </a:lnTo>
                <a:lnTo>
                  <a:pt x="701" y="123"/>
                </a:lnTo>
                <a:lnTo>
                  <a:pt x="687" y="106"/>
                </a:lnTo>
                <a:lnTo>
                  <a:pt x="687" y="105"/>
                </a:lnTo>
                <a:lnTo>
                  <a:pt x="671" y="111"/>
                </a:lnTo>
                <a:lnTo>
                  <a:pt x="643" y="119"/>
                </a:lnTo>
                <a:lnTo>
                  <a:pt x="616" y="121"/>
                </a:lnTo>
                <a:lnTo>
                  <a:pt x="588" y="118"/>
                </a:lnTo>
                <a:lnTo>
                  <a:pt x="533" y="101"/>
                </a:lnTo>
                <a:lnTo>
                  <a:pt x="519" y="95"/>
                </a:lnTo>
                <a:lnTo>
                  <a:pt x="505" y="89"/>
                </a:lnTo>
                <a:lnTo>
                  <a:pt x="492" y="79"/>
                </a:lnTo>
                <a:lnTo>
                  <a:pt x="473" y="57"/>
                </a:lnTo>
                <a:lnTo>
                  <a:pt x="459" y="35"/>
                </a:lnTo>
                <a:lnTo>
                  <a:pt x="444" y="2"/>
                </a:lnTo>
                <a:lnTo>
                  <a:pt x="443" y="0"/>
                </a:lnTo>
                <a:lnTo>
                  <a:pt x="442" y="7"/>
                </a:lnTo>
                <a:lnTo>
                  <a:pt x="442" y="27"/>
                </a:lnTo>
                <a:lnTo>
                  <a:pt x="442" y="43"/>
                </a:lnTo>
                <a:lnTo>
                  <a:pt x="440" y="43"/>
                </a:lnTo>
                <a:lnTo>
                  <a:pt x="428" y="39"/>
                </a:lnTo>
                <a:lnTo>
                  <a:pt x="389" y="23"/>
                </a:lnTo>
                <a:lnTo>
                  <a:pt x="359" y="12"/>
                </a:lnTo>
                <a:lnTo>
                  <a:pt x="358" y="11"/>
                </a:lnTo>
                <a:lnTo>
                  <a:pt x="350" y="22"/>
                </a:lnTo>
                <a:lnTo>
                  <a:pt x="334" y="46"/>
                </a:lnTo>
                <a:lnTo>
                  <a:pt x="294" y="101"/>
                </a:lnTo>
                <a:lnTo>
                  <a:pt x="231" y="153"/>
                </a:lnTo>
                <a:lnTo>
                  <a:pt x="209" y="163"/>
                </a:lnTo>
                <a:lnTo>
                  <a:pt x="187" y="173"/>
                </a:lnTo>
                <a:lnTo>
                  <a:pt x="145" y="188"/>
                </a:lnTo>
                <a:lnTo>
                  <a:pt x="73" y="212"/>
                </a:lnTo>
                <a:lnTo>
                  <a:pt x="13" y="234"/>
                </a:lnTo>
                <a:lnTo>
                  <a:pt x="0" y="240"/>
                </a:lnTo>
                <a:lnTo>
                  <a:pt x="2" y="242"/>
                </a:lnTo>
                <a:lnTo>
                  <a:pt x="17" y="249"/>
                </a:lnTo>
                <a:lnTo>
                  <a:pt x="69" y="273"/>
                </a:lnTo>
                <a:lnTo>
                  <a:pt x="107" y="291"/>
                </a:lnTo>
                <a:lnTo>
                  <a:pt x="110" y="292"/>
                </a:lnTo>
                <a:lnTo>
                  <a:pt x="122" y="313"/>
                </a:lnTo>
                <a:lnTo>
                  <a:pt x="153" y="362"/>
                </a:lnTo>
                <a:lnTo>
                  <a:pt x="233" y="471"/>
                </a:lnTo>
                <a:lnTo>
                  <a:pt x="279" y="515"/>
                </a:lnTo>
                <a:lnTo>
                  <a:pt x="329" y="546"/>
                </a:lnTo>
                <a:lnTo>
                  <a:pt x="356" y="553"/>
                </a:lnTo>
                <a:lnTo>
                  <a:pt x="360" y="561"/>
                </a:lnTo>
                <a:lnTo>
                  <a:pt x="374" y="583"/>
                </a:lnTo>
                <a:lnTo>
                  <a:pt x="385" y="600"/>
                </a:lnTo>
                <a:lnTo>
                  <a:pt x="386" y="600"/>
                </a:lnTo>
                <a:lnTo>
                  <a:pt x="391" y="601"/>
                </a:lnTo>
                <a:lnTo>
                  <a:pt x="409" y="602"/>
                </a:lnTo>
                <a:lnTo>
                  <a:pt x="423" y="602"/>
                </a:lnTo>
                <a:lnTo>
                  <a:pt x="424" y="602"/>
                </a:lnTo>
                <a:lnTo>
                  <a:pt x="445" y="599"/>
                </a:lnTo>
                <a:lnTo>
                  <a:pt x="492" y="589"/>
                </a:lnTo>
                <a:lnTo>
                  <a:pt x="591" y="567"/>
                </a:lnTo>
                <a:lnTo>
                  <a:pt x="663" y="544"/>
                </a:lnTo>
                <a:lnTo>
                  <a:pt x="673" y="538"/>
                </a:lnTo>
                <a:lnTo>
                  <a:pt x="680" y="533"/>
                </a:lnTo>
                <a:lnTo>
                  <a:pt x="728" y="497"/>
                </a:lnTo>
                <a:lnTo>
                  <a:pt x="893" y="375"/>
                </a:lnTo>
                <a:lnTo>
                  <a:pt x="1020" y="282"/>
                </a:lnTo>
                <a:lnTo>
                  <a:pt x="1027"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61"/>
          <p:cNvSpPr/>
          <p:nvPr/>
        </p:nvSpPr>
        <p:spPr>
          <a:xfrm>
            <a:off x="3268800" y="3908520"/>
            <a:ext cx="815760" cy="479160"/>
          </a:xfrm>
          <a:custGeom>
            <a:avLst/>
            <a:gdLst>
              <a:gd name="textAreaLeft" fmla="*/ 0 w 815760"/>
              <a:gd name="textAreaRight" fmla="*/ 816120 w 815760"/>
              <a:gd name="textAreaTop" fmla="*/ 0 h 479160"/>
              <a:gd name="textAreaBottom" fmla="*/ 479520 h 479160"/>
            </a:gdLst>
            <a:ahLst/>
            <a:rect l="textAreaLeft" t="textAreaTop" r="textAreaRight" b="textAreaBottom"/>
            <a:pathLst>
              <a:path w="1027" h="602">
                <a:moveTo>
                  <a:pt x="1027" y="276"/>
                </a:moveTo>
                <a:lnTo>
                  <a:pt x="1025" y="276"/>
                </a:lnTo>
                <a:lnTo>
                  <a:pt x="1012" y="272"/>
                </a:lnTo>
                <a:lnTo>
                  <a:pt x="971" y="258"/>
                </a:lnTo>
                <a:lnTo>
                  <a:pt x="938" y="247"/>
                </a:lnTo>
                <a:lnTo>
                  <a:pt x="937" y="246"/>
                </a:lnTo>
                <a:lnTo>
                  <a:pt x="928" y="225"/>
                </a:lnTo>
                <a:lnTo>
                  <a:pt x="904" y="192"/>
                </a:lnTo>
                <a:lnTo>
                  <a:pt x="878" y="175"/>
                </a:lnTo>
                <a:lnTo>
                  <a:pt x="851" y="167"/>
                </a:lnTo>
                <a:lnTo>
                  <a:pt x="824" y="165"/>
                </a:lnTo>
                <a:lnTo>
                  <a:pt x="799" y="164"/>
                </a:lnTo>
                <a:lnTo>
                  <a:pt x="788" y="163"/>
                </a:lnTo>
                <a:lnTo>
                  <a:pt x="787" y="167"/>
                </a:lnTo>
                <a:lnTo>
                  <a:pt x="785" y="172"/>
                </a:lnTo>
                <a:lnTo>
                  <a:pt x="782" y="176"/>
                </a:lnTo>
                <a:lnTo>
                  <a:pt x="774" y="186"/>
                </a:lnTo>
                <a:lnTo>
                  <a:pt x="755" y="207"/>
                </a:lnTo>
                <a:lnTo>
                  <a:pt x="745" y="218"/>
                </a:lnTo>
                <a:lnTo>
                  <a:pt x="738" y="216"/>
                </a:lnTo>
                <a:lnTo>
                  <a:pt x="734" y="211"/>
                </a:lnTo>
                <a:lnTo>
                  <a:pt x="730" y="206"/>
                </a:lnTo>
                <a:lnTo>
                  <a:pt x="728" y="201"/>
                </a:lnTo>
                <a:lnTo>
                  <a:pt x="727" y="193"/>
                </a:lnTo>
                <a:lnTo>
                  <a:pt x="727" y="180"/>
                </a:lnTo>
                <a:lnTo>
                  <a:pt x="726" y="157"/>
                </a:lnTo>
                <a:lnTo>
                  <a:pt x="725" y="153"/>
                </a:lnTo>
                <a:lnTo>
                  <a:pt x="718" y="146"/>
                </a:lnTo>
                <a:lnTo>
                  <a:pt x="701" y="123"/>
                </a:lnTo>
                <a:lnTo>
                  <a:pt x="687" y="106"/>
                </a:lnTo>
                <a:lnTo>
                  <a:pt x="687" y="105"/>
                </a:lnTo>
                <a:lnTo>
                  <a:pt x="671" y="111"/>
                </a:lnTo>
                <a:lnTo>
                  <a:pt x="643" y="119"/>
                </a:lnTo>
                <a:lnTo>
                  <a:pt x="616" y="121"/>
                </a:lnTo>
                <a:lnTo>
                  <a:pt x="588" y="118"/>
                </a:lnTo>
                <a:lnTo>
                  <a:pt x="533" y="101"/>
                </a:lnTo>
                <a:lnTo>
                  <a:pt x="519" y="95"/>
                </a:lnTo>
                <a:lnTo>
                  <a:pt x="505" y="89"/>
                </a:lnTo>
                <a:lnTo>
                  <a:pt x="492" y="79"/>
                </a:lnTo>
                <a:lnTo>
                  <a:pt x="473" y="57"/>
                </a:lnTo>
                <a:lnTo>
                  <a:pt x="459" y="35"/>
                </a:lnTo>
                <a:lnTo>
                  <a:pt x="444" y="2"/>
                </a:lnTo>
                <a:lnTo>
                  <a:pt x="443" y="0"/>
                </a:lnTo>
                <a:lnTo>
                  <a:pt x="442" y="7"/>
                </a:lnTo>
                <a:lnTo>
                  <a:pt x="442" y="27"/>
                </a:lnTo>
                <a:lnTo>
                  <a:pt x="442" y="43"/>
                </a:lnTo>
                <a:lnTo>
                  <a:pt x="440" y="43"/>
                </a:lnTo>
                <a:lnTo>
                  <a:pt x="428" y="39"/>
                </a:lnTo>
                <a:lnTo>
                  <a:pt x="389" y="23"/>
                </a:lnTo>
                <a:lnTo>
                  <a:pt x="359" y="12"/>
                </a:lnTo>
                <a:lnTo>
                  <a:pt x="358" y="11"/>
                </a:lnTo>
                <a:lnTo>
                  <a:pt x="350" y="22"/>
                </a:lnTo>
                <a:lnTo>
                  <a:pt x="334" y="46"/>
                </a:lnTo>
                <a:lnTo>
                  <a:pt x="294" y="101"/>
                </a:lnTo>
                <a:lnTo>
                  <a:pt x="231" y="153"/>
                </a:lnTo>
                <a:lnTo>
                  <a:pt x="209" y="163"/>
                </a:lnTo>
                <a:lnTo>
                  <a:pt x="187" y="173"/>
                </a:lnTo>
                <a:lnTo>
                  <a:pt x="145" y="188"/>
                </a:lnTo>
                <a:lnTo>
                  <a:pt x="73" y="212"/>
                </a:lnTo>
                <a:lnTo>
                  <a:pt x="13" y="234"/>
                </a:lnTo>
                <a:lnTo>
                  <a:pt x="0" y="240"/>
                </a:lnTo>
                <a:lnTo>
                  <a:pt x="2" y="242"/>
                </a:lnTo>
                <a:lnTo>
                  <a:pt x="17" y="249"/>
                </a:lnTo>
                <a:lnTo>
                  <a:pt x="69" y="273"/>
                </a:lnTo>
                <a:lnTo>
                  <a:pt x="107" y="291"/>
                </a:lnTo>
                <a:lnTo>
                  <a:pt x="110" y="292"/>
                </a:lnTo>
                <a:lnTo>
                  <a:pt x="122" y="313"/>
                </a:lnTo>
                <a:lnTo>
                  <a:pt x="153" y="362"/>
                </a:lnTo>
                <a:lnTo>
                  <a:pt x="233" y="471"/>
                </a:lnTo>
                <a:lnTo>
                  <a:pt x="279" y="515"/>
                </a:lnTo>
                <a:lnTo>
                  <a:pt x="329" y="546"/>
                </a:lnTo>
                <a:lnTo>
                  <a:pt x="356" y="553"/>
                </a:lnTo>
                <a:lnTo>
                  <a:pt x="360" y="561"/>
                </a:lnTo>
                <a:lnTo>
                  <a:pt x="374" y="583"/>
                </a:lnTo>
                <a:lnTo>
                  <a:pt x="385" y="600"/>
                </a:lnTo>
                <a:lnTo>
                  <a:pt x="386" y="600"/>
                </a:lnTo>
                <a:lnTo>
                  <a:pt x="391" y="601"/>
                </a:lnTo>
                <a:lnTo>
                  <a:pt x="409" y="602"/>
                </a:lnTo>
                <a:lnTo>
                  <a:pt x="423" y="602"/>
                </a:lnTo>
                <a:lnTo>
                  <a:pt x="424" y="602"/>
                </a:lnTo>
                <a:lnTo>
                  <a:pt x="445" y="599"/>
                </a:lnTo>
                <a:lnTo>
                  <a:pt x="492" y="589"/>
                </a:lnTo>
                <a:lnTo>
                  <a:pt x="591" y="567"/>
                </a:lnTo>
                <a:lnTo>
                  <a:pt x="663" y="544"/>
                </a:lnTo>
                <a:lnTo>
                  <a:pt x="673" y="538"/>
                </a:lnTo>
                <a:lnTo>
                  <a:pt x="680" y="533"/>
                </a:lnTo>
                <a:lnTo>
                  <a:pt x="728" y="497"/>
                </a:lnTo>
                <a:lnTo>
                  <a:pt x="893" y="375"/>
                </a:lnTo>
                <a:lnTo>
                  <a:pt x="1020" y="282"/>
                </a:lnTo>
                <a:lnTo>
                  <a:pt x="1027" y="276"/>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62"/>
          <p:cNvSpPr/>
          <p:nvPr/>
        </p:nvSpPr>
        <p:spPr>
          <a:xfrm>
            <a:off x="2941560" y="4317840"/>
            <a:ext cx="1044720" cy="484200"/>
          </a:xfrm>
          <a:custGeom>
            <a:avLst/>
            <a:gdLst>
              <a:gd name="textAreaLeft" fmla="*/ 0 w 1044720"/>
              <a:gd name="textAreaRight" fmla="*/ 1045080 w 1044720"/>
              <a:gd name="textAreaTop" fmla="*/ 0 h 484200"/>
              <a:gd name="textAreaBottom" fmla="*/ 484560 h 484200"/>
            </a:gdLst>
            <a:ahLst/>
            <a:rect l="textAreaLeft" t="textAreaTop" r="textAreaRight" b="textAreaBottom"/>
            <a:pathLst>
              <a:path w="1316" h="611">
                <a:moveTo>
                  <a:pt x="1215" y="341"/>
                </a:moveTo>
                <a:lnTo>
                  <a:pt x="1213" y="340"/>
                </a:lnTo>
                <a:lnTo>
                  <a:pt x="1204" y="332"/>
                </a:lnTo>
                <a:lnTo>
                  <a:pt x="1173" y="304"/>
                </a:lnTo>
                <a:lnTo>
                  <a:pt x="1150" y="283"/>
                </a:lnTo>
                <a:lnTo>
                  <a:pt x="1149" y="281"/>
                </a:lnTo>
                <a:lnTo>
                  <a:pt x="1156" y="277"/>
                </a:lnTo>
                <a:lnTo>
                  <a:pt x="1171" y="268"/>
                </a:lnTo>
                <a:lnTo>
                  <a:pt x="1204" y="255"/>
                </a:lnTo>
                <a:lnTo>
                  <a:pt x="1248" y="249"/>
                </a:lnTo>
                <a:lnTo>
                  <a:pt x="1262" y="249"/>
                </a:lnTo>
                <a:lnTo>
                  <a:pt x="1262" y="241"/>
                </a:lnTo>
                <a:lnTo>
                  <a:pt x="1266" y="230"/>
                </a:lnTo>
                <a:lnTo>
                  <a:pt x="1275" y="205"/>
                </a:lnTo>
                <a:lnTo>
                  <a:pt x="1302" y="149"/>
                </a:lnTo>
                <a:lnTo>
                  <a:pt x="1316" y="104"/>
                </a:lnTo>
                <a:lnTo>
                  <a:pt x="1312" y="104"/>
                </a:lnTo>
                <a:lnTo>
                  <a:pt x="1305" y="104"/>
                </a:lnTo>
                <a:lnTo>
                  <a:pt x="1295" y="104"/>
                </a:lnTo>
                <a:lnTo>
                  <a:pt x="1282" y="104"/>
                </a:lnTo>
                <a:lnTo>
                  <a:pt x="1278" y="104"/>
                </a:lnTo>
                <a:lnTo>
                  <a:pt x="1273" y="98"/>
                </a:lnTo>
                <a:lnTo>
                  <a:pt x="1262" y="87"/>
                </a:lnTo>
                <a:lnTo>
                  <a:pt x="1248" y="78"/>
                </a:lnTo>
                <a:lnTo>
                  <a:pt x="1217" y="62"/>
                </a:lnTo>
                <a:lnTo>
                  <a:pt x="1197" y="48"/>
                </a:lnTo>
                <a:lnTo>
                  <a:pt x="1175" y="44"/>
                </a:lnTo>
                <a:lnTo>
                  <a:pt x="1138" y="36"/>
                </a:lnTo>
                <a:lnTo>
                  <a:pt x="1075" y="21"/>
                </a:lnTo>
                <a:lnTo>
                  <a:pt x="1011" y="6"/>
                </a:lnTo>
                <a:lnTo>
                  <a:pt x="994" y="0"/>
                </a:lnTo>
                <a:lnTo>
                  <a:pt x="986" y="1"/>
                </a:lnTo>
                <a:lnTo>
                  <a:pt x="970" y="1"/>
                </a:lnTo>
                <a:lnTo>
                  <a:pt x="943" y="7"/>
                </a:lnTo>
                <a:lnTo>
                  <a:pt x="930" y="14"/>
                </a:lnTo>
                <a:lnTo>
                  <a:pt x="917" y="25"/>
                </a:lnTo>
                <a:lnTo>
                  <a:pt x="911" y="33"/>
                </a:lnTo>
                <a:lnTo>
                  <a:pt x="903" y="42"/>
                </a:lnTo>
                <a:lnTo>
                  <a:pt x="889" y="58"/>
                </a:lnTo>
                <a:lnTo>
                  <a:pt x="855" y="81"/>
                </a:lnTo>
                <a:lnTo>
                  <a:pt x="812" y="89"/>
                </a:lnTo>
                <a:lnTo>
                  <a:pt x="800" y="88"/>
                </a:lnTo>
                <a:lnTo>
                  <a:pt x="785" y="90"/>
                </a:lnTo>
                <a:lnTo>
                  <a:pt x="767" y="94"/>
                </a:lnTo>
                <a:lnTo>
                  <a:pt x="723" y="112"/>
                </a:lnTo>
                <a:lnTo>
                  <a:pt x="622" y="172"/>
                </a:lnTo>
                <a:lnTo>
                  <a:pt x="536" y="242"/>
                </a:lnTo>
                <a:lnTo>
                  <a:pt x="543" y="247"/>
                </a:lnTo>
                <a:lnTo>
                  <a:pt x="553" y="253"/>
                </a:lnTo>
                <a:lnTo>
                  <a:pt x="567" y="261"/>
                </a:lnTo>
                <a:lnTo>
                  <a:pt x="582" y="283"/>
                </a:lnTo>
                <a:lnTo>
                  <a:pt x="589" y="292"/>
                </a:lnTo>
                <a:lnTo>
                  <a:pt x="586" y="293"/>
                </a:lnTo>
                <a:lnTo>
                  <a:pt x="568" y="295"/>
                </a:lnTo>
                <a:lnTo>
                  <a:pt x="511" y="301"/>
                </a:lnTo>
                <a:lnTo>
                  <a:pt x="466" y="306"/>
                </a:lnTo>
                <a:lnTo>
                  <a:pt x="463" y="306"/>
                </a:lnTo>
                <a:lnTo>
                  <a:pt x="434" y="307"/>
                </a:lnTo>
                <a:lnTo>
                  <a:pt x="379" y="312"/>
                </a:lnTo>
                <a:lnTo>
                  <a:pt x="277" y="340"/>
                </a:lnTo>
                <a:lnTo>
                  <a:pt x="194" y="387"/>
                </a:lnTo>
                <a:lnTo>
                  <a:pt x="177" y="401"/>
                </a:lnTo>
                <a:lnTo>
                  <a:pt x="175" y="400"/>
                </a:lnTo>
                <a:lnTo>
                  <a:pt x="161" y="390"/>
                </a:lnTo>
                <a:lnTo>
                  <a:pt x="115" y="354"/>
                </a:lnTo>
                <a:lnTo>
                  <a:pt x="79" y="326"/>
                </a:lnTo>
                <a:lnTo>
                  <a:pt x="78" y="324"/>
                </a:lnTo>
                <a:lnTo>
                  <a:pt x="76" y="325"/>
                </a:lnTo>
                <a:lnTo>
                  <a:pt x="66" y="326"/>
                </a:lnTo>
                <a:lnTo>
                  <a:pt x="29" y="329"/>
                </a:lnTo>
                <a:lnTo>
                  <a:pt x="1" y="333"/>
                </a:lnTo>
                <a:lnTo>
                  <a:pt x="0" y="333"/>
                </a:lnTo>
                <a:lnTo>
                  <a:pt x="8" y="342"/>
                </a:lnTo>
                <a:lnTo>
                  <a:pt x="31" y="369"/>
                </a:lnTo>
                <a:lnTo>
                  <a:pt x="51" y="390"/>
                </a:lnTo>
                <a:lnTo>
                  <a:pt x="52" y="391"/>
                </a:lnTo>
                <a:lnTo>
                  <a:pt x="51" y="393"/>
                </a:lnTo>
                <a:lnTo>
                  <a:pt x="47" y="400"/>
                </a:lnTo>
                <a:lnTo>
                  <a:pt x="38" y="426"/>
                </a:lnTo>
                <a:lnTo>
                  <a:pt x="30" y="447"/>
                </a:lnTo>
                <a:lnTo>
                  <a:pt x="30" y="448"/>
                </a:lnTo>
                <a:lnTo>
                  <a:pt x="32" y="449"/>
                </a:lnTo>
                <a:lnTo>
                  <a:pt x="47" y="456"/>
                </a:lnTo>
                <a:lnTo>
                  <a:pt x="101" y="477"/>
                </a:lnTo>
                <a:lnTo>
                  <a:pt x="141" y="494"/>
                </a:lnTo>
                <a:lnTo>
                  <a:pt x="144" y="494"/>
                </a:lnTo>
                <a:lnTo>
                  <a:pt x="148" y="499"/>
                </a:lnTo>
                <a:lnTo>
                  <a:pt x="161" y="513"/>
                </a:lnTo>
                <a:lnTo>
                  <a:pt x="171" y="523"/>
                </a:lnTo>
                <a:lnTo>
                  <a:pt x="172" y="523"/>
                </a:lnTo>
                <a:lnTo>
                  <a:pt x="186" y="526"/>
                </a:lnTo>
                <a:lnTo>
                  <a:pt x="227" y="533"/>
                </a:lnTo>
                <a:lnTo>
                  <a:pt x="260" y="539"/>
                </a:lnTo>
                <a:lnTo>
                  <a:pt x="262" y="539"/>
                </a:lnTo>
                <a:lnTo>
                  <a:pt x="264" y="538"/>
                </a:lnTo>
                <a:lnTo>
                  <a:pt x="285" y="526"/>
                </a:lnTo>
                <a:lnTo>
                  <a:pt x="359" y="484"/>
                </a:lnTo>
                <a:lnTo>
                  <a:pt x="416" y="453"/>
                </a:lnTo>
                <a:lnTo>
                  <a:pt x="419" y="451"/>
                </a:lnTo>
                <a:lnTo>
                  <a:pt x="425" y="455"/>
                </a:lnTo>
                <a:lnTo>
                  <a:pt x="462" y="476"/>
                </a:lnTo>
                <a:lnTo>
                  <a:pt x="591" y="551"/>
                </a:lnTo>
                <a:lnTo>
                  <a:pt x="690" y="608"/>
                </a:lnTo>
                <a:lnTo>
                  <a:pt x="696" y="611"/>
                </a:lnTo>
                <a:lnTo>
                  <a:pt x="699" y="611"/>
                </a:lnTo>
                <a:lnTo>
                  <a:pt x="727" y="611"/>
                </a:lnTo>
                <a:lnTo>
                  <a:pt x="822" y="609"/>
                </a:lnTo>
                <a:lnTo>
                  <a:pt x="894" y="608"/>
                </a:lnTo>
                <a:lnTo>
                  <a:pt x="899" y="607"/>
                </a:lnTo>
                <a:lnTo>
                  <a:pt x="906" y="599"/>
                </a:lnTo>
                <a:lnTo>
                  <a:pt x="920" y="586"/>
                </a:lnTo>
                <a:lnTo>
                  <a:pt x="943" y="566"/>
                </a:lnTo>
                <a:lnTo>
                  <a:pt x="970" y="550"/>
                </a:lnTo>
                <a:lnTo>
                  <a:pt x="978" y="545"/>
                </a:lnTo>
                <a:lnTo>
                  <a:pt x="985" y="544"/>
                </a:lnTo>
                <a:lnTo>
                  <a:pt x="1000" y="540"/>
                </a:lnTo>
                <a:lnTo>
                  <a:pt x="1039" y="534"/>
                </a:lnTo>
                <a:lnTo>
                  <a:pt x="1078" y="525"/>
                </a:lnTo>
                <a:lnTo>
                  <a:pt x="1088" y="521"/>
                </a:lnTo>
                <a:lnTo>
                  <a:pt x="1096" y="518"/>
                </a:lnTo>
                <a:lnTo>
                  <a:pt x="1123" y="507"/>
                </a:lnTo>
                <a:lnTo>
                  <a:pt x="1143" y="499"/>
                </a:lnTo>
                <a:lnTo>
                  <a:pt x="1145" y="498"/>
                </a:lnTo>
                <a:lnTo>
                  <a:pt x="1156" y="492"/>
                </a:lnTo>
                <a:lnTo>
                  <a:pt x="1167" y="484"/>
                </a:lnTo>
                <a:lnTo>
                  <a:pt x="1177" y="475"/>
                </a:lnTo>
                <a:lnTo>
                  <a:pt x="1193" y="451"/>
                </a:lnTo>
                <a:lnTo>
                  <a:pt x="1205" y="421"/>
                </a:lnTo>
                <a:lnTo>
                  <a:pt x="1216" y="357"/>
                </a:lnTo>
                <a:lnTo>
                  <a:pt x="1215" y="341"/>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63"/>
          <p:cNvSpPr/>
          <p:nvPr/>
        </p:nvSpPr>
        <p:spPr>
          <a:xfrm>
            <a:off x="2941560" y="4317840"/>
            <a:ext cx="1044720" cy="484200"/>
          </a:xfrm>
          <a:custGeom>
            <a:avLst/>
            <a:gdLst>
              <a:gd name="textAreaLeft" fmla="*/ 0 w 1044720"/>
              <a:gd name="textAreaRight" fmla="*/ 1045080 w 1044720"/>
              <a:gd name="textAreaTop" fmla="*/ 0 h 484200"/>
              <a:gd name="textAreaBottom" fmla="*/ 484560 h 484200"/>
            </a:gdLst>
            <a:ahLst/>
            <a:rect l="textAreaLeft" t="textAreaTop" r="textAreaRight" b="textAreaBottom"/>
            <a:pathLst>
              <a:path w="1316" h="611">
                <a:moveTo>
                  <a:pt x="1215" y="341"/>
                </a:moveTo>
                <a:lnTo>
                  <a:pt x="1213" y="340"/>
                </a:lnTo>
                <a:lnTo>
                  <a:pt x="1204" y="332"/>
                </a:lnTo>
                <a:lnTo>
                  <a:pt x="1173" y="304"/>
                </a:lnTo>
                <a:lnTo>
                  <a:pt x="1150" y="283"/>
                </a:lnTo>
                <a:lnTo>
                  <a:pt x="1149" y="281"/>
                </a:lnTo>
                <a:lnTo>
                  <a:pt x="1156" y="277"/>
                </a:lnTo>
                <a:lnTo>
                  <a:pt x="1171" y="268"/>
                </a:lnTo>
                <a:lnTo>
                  <a:pt x="1204" y="255"/>
                </a:lnTo>
                <a:lnTo>
                  <a:pt x="1248" y="249"/>
                </a:lnTo>
                <a:lnTo>
                  <a:pt x="1262" y="249"/>
                </a:lnTo>
                <a:lnTo>
                  <a:pt x="1262" y="241"/>
                </a:lnTo>
                <a:lnTo>
                  <a:pt x="1266" y="230"/>
                </a:lnTo>
                <a:lnTo>
                  <a:pt x="1275" y="205"/>
                </a:lnTo>
                <a:lnTo>
                  <a:pt x="1302" y="149"/>
                </a:lnTo>
                <a:lnTo>
                  <a:pt x="1316" y="104"/>
                </a:lnTo>
                <a:lnTo>
                  <a:pt x="1312" y="104"/>
                </a:lnTo>
                <a:lnTo>
                  <a:pt x="1305" y="104"/>
                </a:lnTo>
                <a:lnTo>
                  <a:pt x="1295" y="104"/>
                </a:lnTo>
                <a:lnTo>
                  <a:pt x="1282" y="104"/>
                </a:lnTo>
                <a:lnTo>
                  <a:pt x="1278" y="104"/>
                </a:lnTo>
                <a:lnTo>
                  <a:pt x="1273" y="98"/>
                </a:lnTo>
                <a:lnTo>
                  <a:pt x="1262" y="87"/>
                </a:lnTo>
                <a:lnTo>
                  <a:pt x="1248" y="78"/>
                </a:lnTo>
                <a:lnTo>
                  <a:pt x="1217" y="62"/>
                </a:lnTo>
                <a:lnTo>
                  <a:pt x="1197" y="48"/>
                </a:lnTo>
                <a:lnTo>
                  <a:pt x="1175" y="44"/>
                </a:lnTo>
                <a:lnTo>
                  <a:pt x="1138" y="36"/>
                </a:lnTo>
                <a:lnTo>
                  <a:pt x="1075" y="21"/>
                </a:lnTo>
                <a:lnTo>
                  <a:pt x="1011" y="6"/>
                </a:lnTo>
                <a:lnTo>
                  <a:pt x="994" y="0"/>
                </a:lnTo>
                <a:lnTo>
                  <a:pt x="986" y="1"/>
                </a:lnTo>
                <a:lnTo>
                  <a:pt x="970" y="1"/>
                </a:lnTo>
                <a:lnTo>
                  <a:pt x="943" y="7"/>
                </a:lnTo>
                <a:lnTo>
                  <a:pt x="930" y="14"/>
                </a:lnTo>
                <a:lnTo>
                  <a:pt x="917" y="25"/>
                </a:lnTo>
                <a:lnTo>
                  <a:pt x="911" y="33"/>
                </a:lnTo>
                <a:lnTo>
                  <a:pt x="903" y="42"/>
                </a:lnTo>
                <a:lnTo>
                  <a:pt x="889" y="58"/>
                </a:lnTo>
                <a:lnTo>
                  <a:pt x="855" y="81"/>
                </a:lnTo>
                <a:lnTo>
                  <a:pt x="812" y="89"/>
                </a:lnTo>
                <a:lnTo>
                  <a:pt x="800" y="88"/>
                </a:lnTo>
                <a:lnTo>
                  <a:pt x="785" y="90"/>
                </a:lnTo>
                <a:lnTo>
                  <a:pt x="767" y="94"/>
                </a:lnTo>
                <a:lnTo>
                  <a:pt x="723" y="112"/>
                </a:lnTo>
                <a:lnTo>
                  <a:pt x="622" y="172"/>
                </a:lnTo>
                <a:lnTo>
                  <a:pt x="536" y="242"/>
                </a:lnTo>
                <a:lnTo>
                  <a:pt x="543" y="247"/>
                </a:lnTo>
                <a:lnTo>
                  <a:pt x="553" y="253"/>
                </a:lnTo>
                <a:lnTo>
                  <a:pt x="567" y="261"/>
                </a:lnTo>
                <a:lnTo>
                  <a:pt x="582" y="283"/>
                </a:lnTo>
                <a:lnTo>
                  <a:pt x="589" y="292"/>
                </a:lnTo>
                <a:lnTo>
                  <a:pt x="586" y="293"/>
                </a:lnTo>
                <a:lnTo>
                  <a:pt x="568" y="295"/>
                </a:lnTo>
                <a:lnTo>
                  <a:pt x="511" y="301"/>
                </a:lnTo>
                <a:lnTo>
                  <a:pt x="466" y="306"/>
                </a:lnTo>
                <a:lnTo>
                  <a:pt x="463" y="306"/>
                </a:lnTo>
                <a:lnTo>
                  <a:pt x="434" y="307"/>
                </a:lnTo>
                <a:lnTo>
                  <a:pt x="379" y="312"/>
                </a:lnTo>
                <a:lnTo>
                  <a:pt x="277" y="340"/>
                </a:lnTo>
                <a:lnTo>
                  <a:pt x="194" y="387"/>
                </a:lnTo>
                <a:lnTo>
                  <a:pt x="177" y="401"/>
                </a:lnTo>
                <a:lnTo>
                  <a:pt x="175" y="400"/>
                </a:lnTo>
                <a:lnTo>
                  <a:pt x="161" y="390"/>
                </a:lnTo>
                <a:lnTo>
                  <a:pt x="115" y="354"/>
                </a:lnTo>
                <a:lnTo>
                  <a:pt x="79" y="326"/>
                </a:lnTo>
                <a:lnTo>
                  <a:pt x="78" y="324"/>
                </a:lnTo>
                <a:lnTo>
                  <a:pt x="76" y="325"/>
                </a:lnTo>
                <a:lnTo>
                  <a:pt x="66" y="326"/>
                </a:lnTo>
                <a:lnTo>
                  <a:pt x="29" y="329"/>
                </a:lnTo>
                <a:lnTo>
                  <a:pt x="1" y="333"/>
                </a:lnTo>
                <a:lnTo>
                  <a:pt x="0" y="333"/>
                </a:lnTo>
                <a:lnTo>
                  <a:pt x="8" y="342"/>
                </a:lnTo>
                <a:lnTo>
                  <a:pt x="31" y="369"/>
                </a:lnTo>
                <a:lnTo>
                  <a:pt x="51" y="390"/>
                </a:lnTo>
                <a:lnTo>
                  <a:pt x="52" y="391"/>
                </a:lnTo>
                <a:lnTo>
                  <a:pt x="51" y="393"/>
                </a:lnTo>
                <a:lnTo>
                  <a:pt x="47" y="400"/>
                </a:lnTo>
                <a:lnTo>
                  <a:pt x="38" y="426"/>
                </a:lnTo>
                <a:lnTo>
                  <a:pt x="30" y="447"/>
                </a:lnTo>
                <a:lnTo>
                  <a:pt x="30" y="448"/>
                </a:lnTo>
                <a:lnTo>
                  <a:pt x="32" y="449"/>
                </a:lnTo>
                <a:lnTo>
                  <a:pt x="47" y="456"/>
                </a:lnTo>
                <a:lnTo>
                  <a:pt x="101" y="477"/>
                </a:lnTo>
                <a:lnTo>
                  <a:pt x="141" y="494"/>
                </a:lnTo>
                <a:lnTo>
                  <a:pt x="144" y="494"/>
                </a:lnTo>
                <a:lnTo>
                  <a:pt x="148" y="499"/>
                </a:lnTo>
                <a:lnTo>
                  <a:pt x="161" y="513"/>
                </a:lnTo>
                <a:lnTo>
                  <a:pt x="171" y="523"/>
                </a:lnTo>
                <a:lnTo>
                  <a:pt x="172" y="523"/>
                </a:lnTo>
                <a:lnTo>
                  <a:pt x="186" y="526"/>
                </a:lnTo>
                <a:lnTo>
                  <a:pt x="227" y="533"/>
                </a:lnTo>
                <a:lnTo>
                  <a:pt x="260" y="539"/>
                </a:lnTo>
                <a:lnTo>
                  <a:pt x="262" y="539"/>
                </a:lnTo>
                <a:lnTo>
                  <a:pt x="264" y="538"/>
                </a:lnTo>
                <a:lnTo>
                  <a:pt x="285" y="526"/>
                </a:lnTo>
                <a:lnTo>
                  <a:pt x="359" y="484"/>
                </a:lnTo>
                <a:lnTo>
                  <a:pt x="416" y="453"/>
                </a:lnTo>
                <a:lnTo>
                  <a:pt x="419" y="451"/>
                </a:lnTo>
                <a:lnTo>
                  <a:pt x="425" y="455"/>
                </a:lnTo>
                <a:lnTo>
                  <a:pt x="462" y="476"/>
                </a:lnTo>
                <a:lnTo>
                  <a:pt x="591" y="551"/>
                </a:lnTo>
                <a:lnTo>
                  <a:pt x="690" y="608"/>
                </a:lnTo>
                <a:lnTo>
                  <a:pt x="696" y="611"/>
                </a:lnTo>
                <a:lnTo>
                  <a:pt x="699" y="611"/>
                </a:lnTo>
                <a:lnTo>
                  <a:pt x="727" y="611"/>
                </a:lnTo>
                <a:lnTo>
                  <a:pt x="822" y="609"/>
                </a:lnTo>
                <a:lnTo>
                  <a:pt x="894" y="608"/>
                </a:lnTo>
                <a:lnTo>
                  <a:pt x="899" y="607"/>
                </a:lnTo>
                <a:lnTo>
                  <a:pt x="906" y="599"/>
                </a:lnTo>
                <a:lnTo>
                  <a:pt x="920" y="586"/>
                </a:lnTo>
                <a:lnTo>
                  <a:pt x="943" y="566"/>
                </a:lnTo>
                <a:lnTo>
                  <a:pt x="970" y="550"/>
                </a:lnTo>
                <a:lnTo>
                  <a:pt x="978" y="545"/>
                </a:lnTo>
                <a:lnTo>
                  <a:pt x="985" y="544"/>
                </a:lnTo>
                <a:lnTo>
                  <a:pt x="1000" y="540"/>
                </a:lnTo>
                <a:lnTo>
                  <a:pt x="1039" y="534"/>
                </a:lnTo>
                <a:lnTo>
                  <a:pt x="1078" y="525"/>
                </a:lnTo>
                <a:lnTo>
                  <a:pt x="1088" y="521"/>
                </a:lnTo>
                <a:lnTo>
                  <a:pt x="1096" y="518"/>
                </a:lnTo>
                <a:lnTo>
                  <a:pt x="1123" y="507"/>
                </a:lnTo>
                <a:lnTo>
                  <a:pt x="1143" y="499"/>
                </a:lnTo>
                <a:lnTo>
                  <a:pt x="1145" y="498"/>
                </a:lnTo>
                <a:lnTo>
                  <a:pt x="1156" y="492"/>
                </a:lnTo>
                <a:lnTo>
                  <a:pt x="1167" y="484"/>
                </a:lnTo>
                <a:lnTo>
                  <a:pt x="1177" y="475"/>
                </a:lnTo>
                <a:lnTo>
                  <a:pt x="1193" y="451"/>
                </a:lnTo>
                <a:lnTo>
                  <a:pt x="1205" y="421"/>
                </a:lnTo>
                <a:lnTo>
                  <a:pt x="1216" y="357"/>
                </a:lnTo>
                <a:lnTo>
                  <a:pt x="1215" y="341"/>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64"/>
          <p:cNvSpPr/>
          <p:nvPr/>
        </p:nvSpPr>
        <p:spPr>
          <a:xfrm>
            <a:off x="2455920" y="4532400"/>
            <a:ext cx="625320" cy="345960"/>
          </a:xfrm>
          <a:custGeom>
            <a:avLst/>
            <a:gdLst>
              <a:gd name="textAreaLeft" fmla="*/ 0 w 625320"/>
              <a:gd name="textAreaRight" fmla="*/ 625680 w 625320"/>
              <a:gd name="textAreaTop" fmla="*/ 0 h 345960"/>
              <a:gd name="textAreaBottom" fmla="*/ 345960 h 345960"/>
            </a:gdLst>
            <a:ahLst/>
            <a:rect l="textAreaLeft" t="textAreaTop" r="textAreaRight" b="textAreaBottom"/>
            <a:pathLst>
              <a:path w="787" h="437">
                <a:moveTo>
                  <a:pt x="639" y="178"/>
                </a:moveTo>
                <a:lnTo>
                  <a:pt x="642" y="170"/>
                </a:lnTo>
                <a:lnTo>
                  <a:pt x="654" y="145"/>
                </a:lnTo>
                <a:lnTo>
                  <a:pt x="664" y="127"/>
                </a:lnTo>
                <a:lnTo>
                  <a:pt x="665" y="125"/>
                </a:lnTo>
                <a:lnTo>
                  <a:pt x="654" y="109"/>
                </a:lnTo>
                <a:lnTo>
                  <a:pt x="624" y="77"/>
                </a:lnTo>
                <a:lnTo>
                  <a:pt x="585" y="46"/>
                </a:lnTo>
                <a:lnTo>
                  <a:pt x="496" y="7"/>
                </a:lnTo>
                <a:lnTo>
                  <a:pt x="442" y="12"/>
                </a:lnTo>
                <a:lnTo>
                  <a:pt x="442" y="13"/>
                </a:lnTo>
                <a:lnTo>
                  <a:pt x="443" y="18"/>
                </a:lnTo>
                <a:lnTo>
                  <a:pt x="448" y="36"/>
                </a:lnTo>
                <a:lnTo>
                  <a:pt x="452" y="57"/>
                </a:lnTo>
                <a:lnTo>
                  <a:pt x="453" y="61"/>
                </a:lnTo>
                <a:lnTo>
                  <a:pt x="451" y="62"/>
                </a:lnTo>
                <a:lnTo>
                  <a:pt x="436" y="63"/>
                </a:lnTo>
                <a:lnTo>
                  <a:pt x="388" y="68"/>
                </a:lnTo>
                <a:lnTo>
                  <a:pt x="351" y="72"/>
                </a:lnTo>
                <a:lnTo>
                  <a:pt x="349" y="72"/>
                </a:lnTo>
                <a:lnTo>
                  <a:pt x="346" y="62"/>
                </a:lnTo>
                <a:lnTo>
                  <a:pt x="340" y="28"/>
                </a:lnTo>
                <a:lnTo>
                  <a:pt x="334" y="2"/>
                </a:lnTo>
                <a:lnTo>
                  <a:pt x="334" y="0"/>
                </a:lnTo>
                <a:lnTo>
                  <a:pt x="332" y="1"/>
                </a:lnTo>
                <a:lnTo>
                  <a:pt x="317" y="2"/>
                </a:lnTo>
                <a:lnTo>
                  <a:pt x="269" y="7"/>
                </a:lnTo>
                <a:lnTo>
                  <a:pt x="231" y="10"/>
                </a:lnTo>
                <a:lnTo>
                  <a:pt x="230" y="10"/>
                </a:lnTo>
                <a:lnTo>
                  <a:pt x="225" y="12"/>
                </a:lnTo>
                <a:lnTo>
                  <a:pt x="223" y="15"/>
                </a:lnTo>
                <a:lnTo>
                  <a:pt x="222" y="19"/>
                </a:lnTo>
                <a:lnTo>
                  <a:pt x="223" y="25"/>
                </a:lnTo>
                <a:lnTo>
                  <a:pt x="224" y="31"/>
                </a:lnTo>
                <a:lnTo>
                  <a:pt x="228" y="44"/>
                </a:lnTo>
                <a:lnTo>
                  <a:pt x="233" y="56"/>
                </a:lnTo>
                <a:lnTo>
                  <a:pt x="233" y="62"/>
                </a:lnTo>
                <a:lnTo>
                  <a:pt x="233" y="64"/>
                </a:lnTo>
                <a:lnTo>
                  <a:pt x="230" y="65"/>
                </a:lnTo>
                <a:lnTo>
                  <a:pt x="223" y="68"/>
                </a:lnTo>
                <a:lnTo>
                  <a:pt x="210" y="72"/>
                </a:lnTo>
                <a:lnTo>
                  <a:pt x="175" y="80"/>
                </a:lnTo>
                <a:lnTo>
                  <a:pt x="86" y="101"/>
                </a:lnTo>
                <a:lnTo>
                  <a:pt x="23" y="127"/>
                </a:lnTo>
                <a:lnTo>
                  <a:pt x="17" y="134"/>
                </a:lnTo>
                <a:lnTo>
                  <a:pt x="7" y="143"/>
                </a:lnTo>
                <a:lnTo>
                  <a:pt x="1" y="150"/>
                </a:lnTo>
                <a:lnTo>
                  <a:pt x="0" y="153"/>
                </a:lnTo>
                <a:lnTo>
                  <a:pt x="0" y="155"/>
                </a:lnTo>
                <a:lnTo>
                  <a:pt x="0" y="158"/>
                </a:lnTo>
                <a:lnTo>
                  <a:pt x="2" y="160"/>
                </a:lnTo>
                <a:lnTo>
                  <a:pt x="4" y="163"/>
                </a:lnTo>
                <a:lnTo>
                  <a:pt x="12" y="168"/>
                </a:lnTo>
                <a:lnTo>
                  <a:pt x="14" y="171"/>
                </a:lnTo>
                <a:lnTo>
                  <a:pt x="17" y="172"/>
                </a:lnTo>
                <a:lnTo>
                  <a:pt x="20" y="172"/>
                </a:lnTo>
                <a:lnTo>
                  <a:pt x="30" y="172"/>
                </a:lnTo>
                <a:lnTo>
                  <a:pt x="52" y="167"/>
                </a:lnTo>
                <a:lnTo>
                  <a:pt x="97" y="157"/>
                </a:lnTo>
                <a:lnTo>
                  <a:pt x="108" y="160"/>
                </a:lnTo>
                <a:lnTo>
                  <a:pt x="106" y="162"/>
                </a:lnTo>
                <a:lnTo>
                  <a:pt x="97" y="174"/>
                </a:lnTo>
                <a:lnTo>
                  <a:pt x="65" y="211"/>
                </a:lnTo>
                <a:lnTo>
                  <a:pt x="41" y="241"/>
                </a:lnTo>
                <a:lnTo>
                  <a:pt x="40" y="242"/>
                </a:lnTo>
                <a:lnTo>
                  <a:pt x="38" y="253"/>
                </a:lnTo>
                <a:lnTo>
                  <a:pt x="40" y="282"/>
                </a:lnTo>
                <a:lnTo>
                  <a:pt x="55" y="355"/>
                </a:lnTo>
                <a:lnTo>
                  <a:pt x="76" y="393"/>
                </a:lnTo>
                <a:lnTo>
                  <a:pt x="110" y="425"/>
                </a:lnTo>
                <a:lnTo>
                  <a:pt x="134" y="437"/>
                </a:lnTo>
                <a:lnTo>
                  <a:pt x="138" y="437"/>
                </a:lnTo>
                <a:lnTo>
                  <a:pt x="175" y="432"/>
                </a:lnTo>
                <a:lnTo>
                  <a:pt x="297" y="416"/>
                </a:lnTo>
                <a:lnTo>
                  <a:pt x="391" y="404"/>
                </a:lnTo>
                <a:lnTo>
                  <a:pt x="397" y="403"/>
                </a:lnTo>
                <a:lnTo>
                  <a:pt x="396" y="393"/>
                </a:lnTo>
                <a:lnTo>
                  <a:pt x="393" y="359"/>
                </a:lnTo>
                <a:lnTo>
                  <a:pt x="392" y="335"/>
                </a:lnTo>
                <a:lnTo>
                  <a:pt x="392" y="333"/>
                </a:lnTo>
                <a:lnTo>
                  <a:pt x="400" y="328"/>
                </a:lnTo>
                <a:lnTo>
                  <a:pt x="422" y="313"/>
                </a:lnTo>
                <a:lnTo>
                  <a:pt x="441" y="302"/>
                </a:lnTo>
                <a:lnTo>
                  <a:pt x="442" y="301"/>
                </a:lnTo>
                <a:lnTo>
                  <a:pt x="443" y="304"/>
                </a:lnTo>
                <a:lnTo>
                  <a:pt x="455" y="321"/>
                </a:lnTo>
                <a:lnTo>
                  <a:pt x="493" y="379"/>
                </a:lnTo>
                <a:lnTo>
                  <a:pt x="523" y="424"/>
                </a:lnTo>
                <a:lnTo>
                  <a:pt x="525" y="426"/>
                </a:lnTo>
                <a:lnTo>
                  <a:pt x="525" y="424"/>
                </a:lnTo>
                <a:lnTo>
                  <a:pt x="533" y="407"/>
                </a:lnTo>
                <a:lnTo>
                  <a:pt x="555" y="349"/>
                </a:lnTo>
                <a:lnTo>
                  <a:pt x="573" y="304"/>
                </a:lnTo>
                <a:lnTo>
                  <a:pt x="574" y="301"/>
                </a:lnTo>
                <a:lnTo>
                  <a:pt x="584" y="302"/>
                </a:lnTo>
                <a:lnTo>
                  <a:pt x="605" y="304"/>
                </a:lnTo>
                <a:lnTo>
                  <a:pt x="620" y="310"/>
                </a:lnTo>
                <a:lnTo>
                  <a:pt x="633" y="317"/>
                </a:lnTo>
                <a:lnTo>
                  <a:pt x="642" y="328"/>
                </a:lnTo>
                <a:lnTo>
                  <a:pt x="651" y="341"/>
                </a:lnTo>
                <a:lnTo>
                  <a:pt x="655" y="348"/>
                </a:lnTo>
                <a:lnTo>
                  <a:pt x="659" y="348"/>
                </a:lnTo>
                <a:lnTo>
                  <a:pt x="669" y="346"/>
                </a:lnTo>
                <a:lnTo>
                  <a:pt x="694" y="339"/>
                </a:lnTo>
                <a:lnTo>
                  <a:pt x="716" y="334"/>
                </a:lnTo>
                <a:lnTo>
                  <a:pt x="722" y="333"/>
                </a:lnTo>
                <a:lnTo>
                  <a:pt x="718" y="322"/>
                </a:lnTo>
                <a:lnTo>
                  <a:pt x="717" y="312"/>
                </a:lnTo>
                <a:lnTo>
                  <a:pt x="719" y="303"/>
                </a:lnTo>
                <a:lnTo>
                  <a:pt x="723" y="296"/>
                </a:lnTo>
                <a:lnTo>
                  <a:pt x="728" y="289"/>
                </a:lnTo>
                <a:lnTo>
                  <a:pt x="734" y="283"/>
                </a:lnTo>
                <a:lnTo>
                  <a:pt x="751" y="272"/>
                </a:lnTo>
                <a:lnTo>
                  <a:pt x="769" y="263"/>
                </a:lnTo>
                <a:lnTo>
                  <a:pt x="787" y="255"/>
                </a:lnTo>
                <a:lnTo>
                  <a:pt x="782" y="251"/>
                </a:lnTo>
                <a:lnTo>
                  <a:pt x="766" y="237"/>
                </a:lnTo>
                <a:lnTo>
                  <a:pt x="754" y="226"/>
                </a:lnTo>
                <a:lnTo>
                  <a:pt x="754" y="225"/>
                </a:lnTo>
                <a:lnTo>
                  <a:pt x="736" y="217"/>
                </a:lnTo>
                <a:lnTo>
                  <a:pt x="682" y="196"/>
                </a:lnTo>
                <a:lnTo>
                  <a:pt x="641" y="179"/>
                </a:lnTo>
                <a:lnTo>
                  <a:pt x="639" y="1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65"/>
          <p:cNvSpPr/>
          <p:nvPr/>
        </p:nvSpPr>
        <p:spPr>
          <a:xfrm>
            <a:off x="2455920" y="4532400"/>
            <a:ext cx="625320" cy="345960"/>
          </a:xfrm>
          <a:custGeom>
            <a:avLst/>
            <a:gdLst>
              <a:gd name="textAreaLeft" fmla="*/ 0 w 625320"/>
              <a:gd name="textAreaRight" fmla="*/ 625680 w 625320"/>
              <a:gd name="textAreaTop" fmla="*/ 0 h 345960"/>
              <a:gd name="textAreaBottom" fmla="*/ 345960 h 345960"/>
            </a:gdLst>
            <a:ahLst/>
            <a:rect l="textAreaLeft" t="textAreaTop" r="textAreaRight" b="textAreaBottom"/>
            <a:pathLst>
              <a:path w="787" h="437">
                <a:moveTo>
                  <a:pt x="639" y="178"/>
                </a:moveTo>
                <a:lnTo>
                  <a:pt x="642" y="170"/>
                </a:lnTo>
                <a:lnTo>
                  <a:pt x="654" y="145"/>
                </a:lnTo>
                <a:lnTo>
                  <a:pt x="664" y="127"/>
                </a:lnTo>
                <a:lnTo>
                  <a:pt x="665" y="125"/>
                </a:lnTo>
                <a:lnTo>
                  <a:pt x="654" y="109"/>
                </a:lnTo>
                <a:lnTo>
                  <a:pt x="624" y="77"/>
                </a:lnTo>
                <a:lnTo>
                  <a:pt x="585" y="46"/>
                </a:lnTo>
                <a:lnTo>
                  <a:pt x="496" y="7"/>
                </a:lnTo>
                <a:lnTo>
                  <a:pt x="442" y="12"/>
                </a:lnTo>
                <a:lnTo>
                  <a:pt x="442" y="13"/>
                </a:lnTo>
                <a:lnTo>
                  <a:pt x="443" y="18"/>
                </a:lnTo>
                <a:lnTo>
                  <a:pt x="448" y="36"/>
                </a:lnTo>
                <a:lnTo>
                  <a:pt x="452" y="57"/>
                </a:lnTo>
                <a:lnTo>
                  <a:pt x="453" y="61"/>
                </a:lnTo>
                <a:lnTo>
                  <a:pt x="451" y="62"/>
                </a:lnTo>
                <a:lnTo>
                  <a:pt x="436" y="63"/>
                </a:lnTo>
                <a:lnTo>
                  <a:pt x="388" y="68"/>
                </a:lnTo>
                <a:lnTo>
                  <a:pt x="351" y="72"/>
                </a:lnTo>
                <a:lnTo>
                  <a:pt x="349" y="72"/>
                </a:lnTo>
                <a:lnTo>
                  <a:pt x="346" y="62"/>
                </a:lnTo>
                <a:lnTo>
                  <a:pt x="340" y="28"/>
                </a:lnTo>
                <a:lnTo>
                  <a:pt x="334" y="2"/>
                </a:lnTo>
                <a:lnTo>
                  <a:pt x="334" y="0"/>
                </a:lnTo>
                <a:lnTo>
                  <a:pt x="332" y="1"/>
                </a:lnTo>
                <a:lnTo>
                  <a:pt x="317" y="2"/>
                </a:lnTo>
                <a:lnTo>
                  <a:pt x="269" y="7"/>
                </a:lnTo>
                <a:lnTo>
                  <a:pt x="231" y="10"/>
                </a:lnTo>
                <a:lnTo>
                  <a:pt x="230" y="10"/>
                </a:lnTo>
                <a:lnTo>
                  <a:pt x="225" y="12"/>
                </a:lnTo>
                <a:lnTo>
                  <a:pt x="223" y="15"/>
                </a:lnTo>
                <a:lnTo>
                  <a:pt x="222" y="19"/>
                </a:lnTo>
                <a:lnTo>
                  <a:pt x="223" y="25"/>
                </a:lnTo>
                <a:lnTo>
                  <a:pt x="224" y="31"/>
                </a:lnTo>
                <a:lnTo>
                  <a:pt x="228" y="44"/>
                </a:lnTo>
                <a:lnTo>
                  <a:pt x="233" y="56"/>
                </a:lnTo>
                <a:lnTo>
                  <a:pt x="233" y="62"/>
                </a:lnTo>
                <a:lnTo>
                  <a:pt x="233" y="64"/>
                </a:lnTo>
                <a:lnTo>
                  <a:pt x="230" y="65"/>
                </a:lnTo>
                <a:lnTo>
                  <a:pt x="223" y="68"/>
                </a:lnTo>
                <a:lnTo>
                  <a:pt x="210" y="72"/>
                </a:lnTo>
                <a:lnTo>
                  <a:pt x="175" y="80"/>
                </a:lnTo>
                <a:lnTo>
                  <a:pt x="86" y="101"/>
                </a:lnTo>
                <a:lnTo>
                  <a:pt x="23" y="127"/>
                </a:lnTo>
                <a:lnTo>
                  <a:pt x="17" y="134"/>
                </a:lnTo>
                <a:lnTo>
                  <a:pt x="7" y="143"/>
                </a:lnTo>
                <a:lnTo>
                  <a:pt x="1" y="150"/>
                </a:lnTo>
                <a:lnTo>
                  <a:pt x="0" y="153"/>
                </a:lnTo>
                <a:lnTo>
                  <a:pt x="0" y="155"/>
                </a:lnTo>
                <a:lnTo>
                  <a:pt x="0" y="158"/>
                </a:lnTo>
                <a:lnTo>
                  <a:pt x="2" y="160"/>
                </a:lnTo>
                <a:lnTo>
                  <a:pt x="4" y="163"/>
                </a:lnTo>
                <a:lnTo>
                  <a:pt x="12" y="168"/>
                </a:lnTo>
                <a:lnTo>
                  <a:pt x="14" y="171"/>
                </a:lnTo>
                <a:lnTo>
                  <a:pt x="17" y="172"/>
                </a:lnTo>
                <a:lnTo>
                  <a:pt x="20" y="172"/>
                </a:lnTo>
                <a:lnTo>
                  <a:pt x="30" y="172"/>
                </a:lnTo>
                <a:lnTo>
                  <a:pt x="52" y="167"/>
                </a:lnTo>
                <a:lnTo>
                  <a:pt x="97" y="157"/>
                </a:lnTo>
                <a:lnTo>
                  <a:pt x="108" y="160"/>
                </a:lnTo>
                <a:lnTo>
                  <a:pt x="106" y="162"/>
                </a:lnTo>
                <a:lnTo>
                  <a:pt x="97" y="174"/>
                </a:lnTo>
                <a:lnTo>
                  <a:pt x="65" y="211"/>
                </a:lnTo>
                <a:lnTo>
                  <a:pt x="41" y="241"/>
                </a:lnTo>
                <a:lnTo>
                  <a:pt x="40" y="242"/>
                </a:lnTo>
                <a:lnTo>
                  <a:pt x="38" y="253"/>
                </a:lnTo>
                <a:lnTo>
                  <a:pt x="40" y="282"/>
                </a:lnTo>
                <a:lnTo>
                  <a:pt x="55" y="355"/>
                </a:lnTo>
                <a:lnTo>
                  <a:pt x="76" y="393"/>
                </a:lnTo>
                <a:lnTo>
                  <a:pt x="110" y="425"/>
                </a:lnTo>
                <a:lnTo>
                  <a:pt x="134" y="437"/>
                </a:lnTo>
                <a:lnTo>
                  <a:pt x="138" y="437"/>
                </a:lnTo>
                <a:lnTo>
                  <a:pt x="175" y="432"/>
                </a:lnTo>
                <a:lnTo>
                  <a:pt x="297" y="416"/>
                </a:lnTo>
                <a:lnTo>
                  <a:pt x="391" y="404"/>
                </a:lnTo>
                <a:lnTo>
                  <a:pt x="397" y="403"/>
                </a:lnTo>
                <a:lnTo>
                  <a:pt x="396" y="393"/>
                </a:lnTo>
                <a:lnTo>
                  <a:pt x="393" y="359"/>
                </a:lnTo>
                <a:lnTo>
                  <a:pt x="392" y="335"/>
                </a:lnTo>
                <a:lnTo>
                  <a:pt x="392" y="333"/>
                </a:lnTo>
                <a:lnTo>
                  <a:pt x="400" y="328"/>
                </a:lnTo>
                <a:lnTo>
                  <a:pt x="422" y="313"/>
                </a:lnTo>
                <a:lnTo>
                  <a:pt x="441" y="302"/>
                </a:lnTo>
                <a:lnTo>
                  <a:pt x="442" y="301"/>
                </a:lnTo>
                <a:lnTo>
                  <a:pt x="443" y="304"/>
                </a:lnTo>
                <a:lnTo>
                  <a:pt x="455" y="321"/>
                </a:lnTo>
                <a:lnTo>
                  <a:pt x="493" y="379"/>
                </a:lnTo>
                <a:lnTo>
                  <a:pt x="523" y="424"/>
                </a:lnTo>
                <a:lnTo>
                  <a:pt x="525" y="426"/>
                </a:lnTo>
                <a:lnTo>
                  <a:pt x="525" y="424"/>
                </a:lnTo>
                <a:lnTo>
                  <a:pt x="533" y="407"/>
                </a:lnTo>
                <a:lnTo>
                  <a:pt x="555" y="349"/>
                </a:lnTo>
                <a:lnTo>
                  <a:pt x="573" y="304"/>
                </a:lnTo>
                <a:lnTo>
                  <a:pt x="574" y="301"/>
                </a:lnTo>
                <a:lnTo>
                  <a:pt x="584" y="302"/>
                </a:lnTo>
                <a:lnTo>
                  <a:pt x="605" y="304"/>
                </a:lnTo>
                <a:lnTo>
                  <a:pt x="620" y="310"/>
                </a:lnTo>
                <a:lnTo>
                  <a:pt x="633" y="317"/>
                </a:lnTo>
                <a:lnTo>
                  <a:pt x="642" y="328"/>
                </a:lnTo>
                <a:lnTo>
                  <a:pt x="651" y="341"/>
                </a:lnTo>
                <a:lnTo>
                  <a:pt x="655" y="348"/>
                </a:lnTo>
                <a:lnTo>
                  <a:pt x="659" y="348"/>
                </a:lnTo>
                <a:lnTo>
                  <a:pt x="669" y="346"/>
                </a:lnTo>
                <a:lnTo>
                  <a:pt x="694" y="339"/>
                </a:lnTo>
                <a:lnTo>
                  <a:pt x="716" y="334"/>
                </a:lnTo>
                <a:lnTo>
                  <a:pt x="722" y="333"/>
                </a:lnTo>
                <a:lnTo>
                  <a:pt x="718" y="322"/>
                </a:lnTo>
                <a:lnTo>
                  <a:pt x="717" y="312"/>
                </a:lnTo>
                <a:lnTo>
                  <a:pt x="719" y="303"/>
                </a:lnTo>
                <a:lnTo>
                  <a:pt x="723" y="296"/>
                </a:lnTo>
                <a:lnTo>
                  <a:pt x="728" y="289"/>
                </a:lnTo>
                <a:lnTo>
                  <a:pt x="734" y="283"/>
                </a:lnTo>
                <a:lnTo>
                  <a:pt x="751" y="272"/>
                </a:lnTo>
                <a:lnTo>
                  <a:pt x="769" y="263"/>
                </a:lnTo>
                <a:lnTo>
                  <a:pt x="787" y="255"/>
                </a:lnTo>
                <a:lnTo>
                  <a:pt x="782" y="251"/>
                </a:lnTo>
                <a:lnTo>
                  <a:pt x="766" y="237"/>
                </a:lnTo>
                <a:lnTo>
                  <a:pt x="754" y="226"/>
                </a:lnTo>
                <a:lnTo>
                  <a:pt x="754" y="225"/>
                </a:lnTo>
                <a:lnTo>
                  <a:pt x="736" y="217"/>
                </a:lnTo>
                <a:lnTo>
                  <a:pt x="682" y="196"/>
                </a:lnTo>
                <a:lnTo>
                  <a:pt x="641" y="179"/>
                </a:lnTo>
                <a:lnTo>
                  <a:pt x="639" y="178"/>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66"/>
          <p:cNvSpPr/>
          <p:nvPr/>
        </p:nvSpPr>
        <p:spPr>
          <a:xfrm>
            <a:off x="5384880" y="5340240"/>
            <a:ext cx="396720" cy="357120"/>
          </a:xfrm>
          <a:custGeom>
            <a:avLst/>
            <a:gdLst>
              <a:gd name="textAreaLeft" fmla="*/ 0 w 396720"/>
              <a:gd name="textAreaRight" fmla="*/ 397080 w 396720"/>
              <a:gd name="textAreaTop" fmla="*/ 0 h 357120"/>
              <a:gd name="textAreaBottom" fmla="*/ 357480 h 357120"/>
            </a:gdLst>
            <a:ahLst/>
            <a:rect l="textAreaLeft" t="textAreaTop" r="textAreaRight" b="textAreaBottom"/>
            <a:pathLst>
              <a:path w="500" h="452">
                <a:moveTo>
                  <a:pt x="373" y="97"/>
                </a:moveTo>
                <a:lnTo>
                  <a:pt x="365" y="90"/>
                </a:lnTo>
                <a:lnTo>
                  <a:pt x="349" y="76"/>
                </a:lnTo>
                <a:lnTo>
                  <a:pt x="314" y="45"/>
                </a:lnTo>
                <a:lnTo>
                  <a:pt x="273" y="10"/>
                </a:lnTo>
                <a:lnTo>
                  <a:pt x="262" y="0"/>
                </a:lnTo>
                <a:lnTo>
                  <a:pt x="261" y="1"/>
                </a:lnTo>
                <a:lnTo>
                  <a:pt x="256" y="5"/>
                </a:lnTo>
                <a:lnTo>
                  <a:pt x="240" y="20"/>
                </a:lnTo>
                <a:lnTo>
                  <a:pt x="228" y="31"/>
                </a:lnTo>
                <a:lnTo>
                  <a:pt x="227" y="31"/>
                </a:lnTo>
                <a:lnTo>
                  <a:pt x="222" y="31"/>
                </a:lnTo>
                <a:lnTo>
                  <a:pt x="206" y="31"/>
                </a:lnTo>
                <a:lnTo>
                  <a:pt x="193" y="31"/>
                </a:lnTo>
                <a:lnTo>
                  <a:pt x="188" y="29"/>
                </a:lnTo>
                <a:lnTo>
                  <a:pt x="174" y="22"/>
                </a:lnTo>
                <a:lnTo>
                  <a:pt x="163" y="15"/>
                </a:lnTo>
                <a:lnTo>
                  <a:pt x="163" y="14"/>
                </a:lnTo>
                <a:lnTo>
                  <a:pt x="154" y="15"/>
                </a:lnTo>
                <a:lnTo>
                  <a:pt x="131" y="19"/>
                </a:lnTo>
                <a:lnTo>
                  <a:pt x="112" y="20"/>
                </a:lnTo>
                <a:lnTo>
                  <a:pt x="108" y="22"/>
                </a:lnTo>
                <a:lnTo>
                  <a:pt x="93" y="33"/>
                </a:lnTo>
                <a:lnTo>
                  <a:pt x="42" y="70"/>
                </a:lnTo>
                <a:lnTo>
                  <a:pt x="2" y="100"/>
                </a:lnTo>
                <a:lnTo>
                  <a:pt x="0" y="101"/>
                </a:lnTo>
                <a:lnTo>
                  <a:pt x="4" y="106"/>
                </a:lnTo>
                <a:lnTo>
                  <a:pt x="17" y="119"/>
                </a:lnTo>
                <a:lnTo>
                  <a:pt x="47" y="153"/>
                </a:lnTo>
                <a:lnTo>
                  <a:pt x="75" y="183"/>
                </a:lnTo>
                <a:lnTo>
                  <a:pt x="80" y="187"/>
                </a:lnTo>
                <a:lnTo>
                  <a:pt x="72" y="196"/>
                </a:lnTo>
                <a:lnTo>
                  <a:pt x="56" y="218"/>
                </a:lnTo>
                <a:lnTo>
                  <a:pt x="29" y="273"/>
                </a:lnTo>
                <a:lnTo>
                  <a:pt x="15" y="329"/>
                </a:lnTo>
                <a:lnTo>
                  <a:pt x="15" y="341"/>
                </a:lnTo>
                <a:lnTo>
                  <a:pt x="19" y="344"/>
                </a:lnTo>
                <a:lnTo>
                  <a:pt x="24" y="344"/>
                </a:lnTo>
                <a:lnTo>
                  <a:pt x="28" y="342"/>
                </a:lnTo>
                <a:lnTo>
                  <a:pt x="33" y="341"/>
                </a:lnTo>
                <a:lnTo>
                  <a:pt x="43" y="337"/>
                </a:lnTo>
                <a:lnTo>
                  <a:pt x="64" y="329"/>
                </a:lnTo>
                <a:lnTo>
                  <a:pt x="75" y="328"/>
                </a:lnTo>
                <a:lnTo>
                  <a:pt x="76" y="329"/>
                </a:lnTo>
                <a:lnTo>
                  <a:pt x="77" y="331"/>
                </a:lnTo>
                <a:lnTo>
                  <a:pt x="78" y="334"/>
                </a:lnTo>
                <a:lnTo>
                  <a:pt x="78" y="338"/>
                </a:lnTo>
                <a:lnTo>
                  <a:pt x="76" y="348"/>
                </a:lnTo>
                <a:lnTo>
                  <a:pt x="72" y="359"/>
                </a:lnTo>
                <a:lnTo>
                  <a:pt x="60" y="386"/>
                </a:lnTo>
                <a:lnTo>
                  <a:pt x="39" y="438"/>
                </a:lnTo>
                <a:lnTo>
                  <a:pt x="39" y="452"/>
                </a:lnTo>
                <a:lnTo>
                  <a:pt x="42" y="449"/>
                </a:lnTo>
                <a:lnTo>
                  <a:pt x="48" y="445"/>
                </a:lnTo>
                <a:lnTo>
                  <a:pt x="68" y="434"/>
                </a:lnTo>
                <a:lnTo>
                  <a:pt x="121" y="402"/>
                </a:lnTo>
                <a:lnTo>
                  <a:pt x="168" y="358"/>
                </a:lnTo>
                <a:lnTo>
                  <a:pt x="172" y="353"/>
                </a:lnTo>
                <a:lnTo>
                  <a:pt x="173" y="347"/>
                </a:lnTo>
                <a:lnTo>
                  <a:pt x="174" y="341"/>
                </a:lnTo>
                <a:lnTo>
                  <a:pt x="173" y="335"/>
                </a:lnTo>
                <a:lnTo>
                  <a:pt x="172" y="326"/>
                </a:lnTo>
                <a:lnTo>
                  <a:pt x="169" y="317"/>
                </a:lnTo>
                <a:lnTo>
                  <a:pt x="170" y="314"/>
                </a:lnTo>
                <a:lnTo>
                  <a:pt x="172" y="311"/>
                </a:lnTo>
                <a:lnTo>
                  <a:pt x="176" y="308"/>
                </a:lnTo>
                <a:lnTo>
                  <a:pt x="181" y="306"/>
                </a:lnTo>
                <a:lnTo>
                  <a:pt x="188" y="304"/>
                </a:lnTo>
                <a:lnTo>
                  <a:pt x="202" y="297"/>
                </a:lnTo>
                <a:lnTo>
                  <a:pt x="231" y="276"/>
                </a:lnTo>
                <a:lnTo>
                  <a:pt x="251" y="261"/>
                </a:lnTo>
                <a:lnTo>
                  <a:pt x="254" y="259"/>
                </a:lnTo>
                <a:lnTo>
                  <a:pt x="271" y="252"/>
                </a:lnTo>
                <a:lnTo>
                  <a:pt x="310" y="240"/>
                </a:lnTo>
                <a:lnTo>
                  <a:pt x="394" y="218"/>
                </a:lnTo>
                <a:lnTo>
                  <a:pt x="474" y="195"/>
                </a:lnTo>
                <a:lnTo>
                  <a:pt x="491" y="187"/>
                </a:lnTo>
                <a:lnTo>
                  <a:pt x="491" y="184"/>
                </a:lnTo>
                <a:lnTo>
                  <a:pt x="492" y="175"/>
                </a:lnTo>
                <a:lnTo>
                  <a:pt x="495" y="163"/>
                </a:lnTo>
                <a:lnTo>
                  <a:pt x="499" y="157"/>
                </a:lnTo>
                <a:lnTo>
                  <a:pt x="500" y="156"/>
                </a:lnTo>
                <a:lnTo>
                  <a:pt x="489" y="153"/>
                </a:lnTo>
                <a:lnTo>
                  <a:pt x="469" y="145"/>
                </a:lnTo>
                <a:lnTo>
                  <a:pt x="430" y="125"/>
                </a:lnTo>
                <a:lnTo>
                  <a:pt x="386" y="103"/>
                </a:lnTo>
                <a:lnTo>
                  <a:pt x="373" y="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67"/>
          <p:cNvSpPr/>
          <p:nvPr/>
        </p:nvSpPr>
        <p:spPr>
          <a:xfrm>
            <a:off x="5384880" y="5340240"/>
            <a:ext cx="396720" cy="357120"/>
          </a:xfrm>
          <a:custGeom>
            <a:avLst/>
            <a:gdLst>
              <a:gd name="textAreaLeft" fmla="*/ 0 w 396720"/>
              <a:gd name="textAreaRight" fmla="*/ 397080 w 396720"/>
              <a:gd name="textAreaTop" fmla="*/ 0 h 357120"/>
              <a:gd name="textAreaBottom" fmla="*/ 357480 h 357120"/>
            </a:gdLst>
            <a:ahLst/>
            <a:rect l="textAreaLeft" t="textAreaTop" r="textAreaRight" b="textAreaBottom"/>
            <a:pathLst>
              <a:path w="500" h="452">
                <a:moveTo>
                  <a:pt x="373" y="97"/>
                </a:moveTo>
                <a:lnTo>
                  <a:pt x="365" y="90"/>
                </a:lnTo>
                <a:lnTo>
                  <a:pt x="349" y="76"/>
                </a:lnTo>
                <a:lnTo>
                  <a:pt x="314" y="45"/>
                </a:lnTo>
                <a:lnTo>
                  <a:pt x="273" y="10"/>
                </a:lnTo>
                <a:lnTo>
                  <a:pt x="262" y="0"/>
                </a:lnTo>
                <a:lnTo>
                  <a:pt x="261" y="1"/>
                </a:lnTo>
                <a:lnTo>
                  <a:pt x="256" y="5"/>
                </a:lnTo>
                <a:lnTo>
                  <a:pt x="240" y="20"/>
                </a:lnTo>
                <a:lnTo>
                  <a:pt x="228" y="31"/>
                </a:lnTo>
                <a:lnTo>
                  <a:pt x="227" y="31"/>
                </a:lnTo>
                <a:lnTo>
                  <a:pt x="222" y="31"/>
                </a:lnTo>
                <a:lnTo>
                  <a:pt x="206" y="31"/>
                </a:lnTo>
                <a:lnTo>
                  <a:pt x="193" y="31"/>
                </a:lnTo>
                <a:lnTo>
                  <a:pt x="188" y="29"/>
                </a:lnTo>
                <a:lnTo>
                  <a:pt x="174" y="22"/>
                </a:lnTo>
                <a:lnTo>
                  <a:pt x="163" y="15"/>
                </a:lnTo>
                <a:lnTo>
                  <a:pt x="163" y="14"/>
                </a:lnTo>
                <a:lnTo>
                  <a:pt x="154" y="15"/>
                </a:lnTo>
                <a:lnTo>
                  <a:pt x="131" y="19"/>
                </a:lnTo>
                <a:lnTo>
                  <a:pt x="112" y="20"/>
                </a:lnTo>
                <a:lnTo>
                  <a:pt x="108" y="22"/>
                </a:lnTo>
                <a:lnTo>
                  <a:pt x="93" y="33"/>
                </a:lnTo>
                <a:lnTo>
                  <a:pt x="42" y="70"/>
                </a:lnTo>
                <a:lnTo>
                  <a:pt x="2" y="100"/>
                </a:lnTo>
                <a:lnTo>
                  <a:pt x="0" y="101"/>
                </a:lnTo>
                <a:lnTo>
                  <a:pt x="4" y="106"/>
                </a:lnTo>
                <a:lnTo>
                  <a:pt x="17" y="119"/>
                </a:lnTo>
                <a:lnTo>
                  <a:pt x="47" y="153"/>
                </a:lnTo>
                <a:lnTo>
                  <a:pt x="75" y="183"/>
                </a:lnTo>
                <a:lnTo>
                  <a:pt x="80" y="187"/>
                </a:lnTo>
                <a:lnTo>
                  <a:pt x="72" y="196"/>
                </a:lnTo>
                <a:lnTo>
                  <a:pt x="56" y="218"/>
                </a:lnTo>
                <a:lnTo>
                  <a:pt x="29" y="273"/>
                </a:lnTo>
                <a:lnTo>
                  <a:pt x="15" y="329"/>
                </a:lnTo>
                <a:lnTo>
                  <a:pt x="15" y="341"/>
                </a:lnTo>
                <a:lnTo>
                  <a:pt x="19" y="344"/>
                </a:lnTo>
                <a:lnTo>
                  <a:pt x="24" y="344"/>
                </a:lnTo>
                <a:lnTo>
                  <a:pt x="28" y="342"/>
                </a:lnTo>
                <a:lnTo>
                  <a:pt x="33" y="341"/>
                </a:lnTo>
                <a:lnTo>
                  <a:pt x="43" y="337"/>
                </a:lnTo>
                <a:lnTo>
                  <a:pt x="64" y="329"/>
                </a:lnTo>
                <a:lnTo>
                  <a:pt x="75" y="328"/>
                </a:lnTo>
                <a:lnTo>
                  <a:pt x="76" y="329"/>
                </a:lnTo>
                <a:lnTo>
                  <a:pt x="77" y="331"/>
                </a:lnTo>
                <a:lnTo>
                  <a:pt x="78" y="334"/>
                </a:lnTo>
                <a:lnTo>
                  <a:pt x="78" y="338"/>
                </a:lnTo>
                <a:lnTo>
                  <a:pt x="76" y="348"/>
                </a:lnTo>
                <a:lnTo>
                  <a:pt x="72" y="359"/>
                </a:lnTo>
                <a:lnTo>
                  <a:pt x="60" y="386"/>
                </a:lnTo>
                <a:lnTo>
                  <a:pt x="39" y="438"/>
                </a:lnTo>
                <a:lnTo>
                  <a:pt x="39" y="452"/>
                </a:lnTo>
                <a:lnTo>
                  <a:pt x="42" y="449"/>
                </a:lnTo>
                <a:lnTo>
                  <a:pt x="48" y="445"/>
                </a:lnTo>
                <a:lnTo>
                  <a:pt x="68" y="434"/>
                </a:lnTo>
                <a:lnTo>
                  <a:pt x="121" y="402"/>
                </a:lnTo>
                <a:lnTo>
                  <a:pt x="168" y="358"/>
                </a:lnTo>
                <a:lnTo>
                  <a:pt x="172" y="353"/>
                </a:lnTo>
                <a:lnTo>
                  <a:pt x="173" y="347"/>
                </a:lnTo>
                <a:lnTo>
                  <a:pt x="174" y="341"/>
                </a:lnTo>
                <a:lnTo>
                  <a:pt x="173" y="335"/>
                </a:lnTo>
                <a:lnTo>
                  <a:pt x="172" y="326"/>
                </a:lnTo>
                <a:lnTo>
                  <a:pt x="169" y="317"/>
                </a:lnTo>
                <a:lnTo>
                  <a:pt x="170" y="314"/>
                </a:lnTo>
                <a:lnTo>
                  <a:pt x="172" y="311"/>
                </a:lnTo>
                <a:lnTo>
                  <a:pt x="176" y="308"/>
                </a:lnTo>
                <a:lnTo>
                  <a:pt x="181" y="306"/>
                </a:lnTo>
                <a:lnTo>
                  <a:pt x="188" y="304"/>
                </a:lnTo>
                <a:lnTo>
                  <a:pt x="202" y="297"/>
                </a:lnTo>
                <a:lnTo>
                  <a:pt x="231" y="276"/>
                </a:lnTo>
                <a:lnTo>
                  <a:pt x="251" y="261"/>
                </a:lnTo>
                <a:lnTo>
                  <a:pt x="254" y="259"/>
                </a:lnTo>
                <a:lnTo>
                  <a:pt x="271" y="252"/>
                </a:lnTo>
                <a:lnTo>
                  <a:pt x="310" y="240"/>
                </a:lnTo>
                <a:lnTo>
                  <a:pt x="394" y="218"/>
                </a:lnTo>
                <a:lnTo>
                  <a:pt x="474" y="195"/>
                </a:lnTo>
                <a:lnTo>
                  <a:pt x="491" y="187"/>
                </a:lnTo>
                <a:lnTo>
                  <a:pt x="491" y="184"/>
                </a:lnTo>
                <a:lnTo>
                  <a:pt x="492" y="175"/>
                </a:lnTo>
                <a:lnTo>
                  <a:pt x="495" y="163"/>
                </a:lnTo>
                <a:lnTo>
                  <a:pt x="499" y="157"/>
                </a:lnTo>
                <a:lnTo>
                  <a:pt x="500" y="156"/>
                </a:lnTo>
                <a:lnTo>
                  <a:pt x="489" y="153"/>
                </a:lnTo>
                <a:lnTo>
                  <a:pt x="469" y="145"/>
                </a:lnTo>
                <a:lnTo>
                  <a:pt x="430" y="125"/>
                </a:lnTo>
                <a:lnTo>
                  <a:pt x="386" y="103"/>
                </a:lnTo>
                <a:lnTo>
                  <a:pt x="373" y="97"/>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68"/>
          <p:cNvSpPr/>
          <p:nvPr/>
        </p:nvSpPr>
        <p:spPr>
          <a:xfrm>
            <a:off x="4743360" y="4970520"/>
            <a:ext cx="849240" cy="646200"/>
          </a:xfrm>
          <a:custGeom>
            <a:avLst/>
            <a:gdLst>
              <a:gd name="textAreaLeft" fmla="*/ 0 w 849240"/>
              <a:gd name="textAreaRight" fmla="*/ 849600 w 849240"/>
              <a:gd name="textAreaTop" fmla="*/ 0 h 646200"/>
              <a:gd name="textAreaBottom" fmla="*/ 646560 h 646200"/>
            </a:gdLst>
            <a:ahLst/>
            <a:rect l="textAreaLeft" t="textAreaTop" r="textAreaRight" b="textAreaBottom"/>
            <a:pathLst>
              <a:path w="1071" h="815">
                <a:moveTo>
                  <a:pt x="1037" y="306"/>
                </a:moveTo>
                <a:lnTo>
                  <a:pt x="1034" y="283"/>
                </a:lnTo>
                <a:lnTo>
                  <a:pt x="1033" y="237"/>
                </a:lnTo>
                <a:lnTo>
                  <a:pt x="1042" y="153"/>
                </a:lnTo>
                <a:lnTo>
                  <a:pt x="1061" y="75"/>
                </a:lnTo>
                <a:lnTo>
                  <a:pt x="1066" y="56"/>
                </a:lnTo>
                <a:lnTo>
                  <a:pt x="1065" y="53"/>
                </a:lnTo>
                <a:lnTo>
                  <a:pt x="1064" y="52"/>
                </a:lnTo>
                <a:lnTo>
                  <a:pt x="1061" y="51"/>
                </a:lnTo>
                <a:lnTo>
                  <a:pt x="1059" y="51"/>
                </a:lnTo>
                <a:lnTo>
                  <a:pt x="1054" y="52"/>
                </a:lnTo>
                <a:lnTo>
                  <a:pt x="1048" y="55"/>
                </a:lnTo>
                <a:lnTo>
                  <a:pt x="1042" y="59"/>
                </a:lnTo>
                <a:lnTo>
                  <a:pt x="1037" y="61"/>
                </a:lnTo>
                <a:lnTo>
                  <a:pt x="1021" y="59"/>
                </a:lnTo>
                <a:lnTo>
                  <a:pt x="999" y="53"/>
                </a:lnTo>
                <a:lnTo>
                  <a:pt x="982" y="45"/>
                </a:lnTo>
                <a:lnTo>
                  <a:pt x="952" y="27"/>
                </a:lnTo>
                <a:lnTo>
                  <a:pt x="923" y="14"/>
                </a:lnTo>
                <a:lnTo>
                  <a:pt x="887" y="5"/>
                </a:lnTo>
                <a:lnTo>
                  <a:pt x="828" y="0"/>
                </a:lnTo>
                <a:lnTo>
                  <a:pt x="777" y="10"/>
                </a:lnTo>
                <a:lnTo>
                  <a:pt x="733" y="33"/>
                </a:lnTo>
                <a:lnTo>
                  <a:pt x="691" y="65"/>
                </a:lnTo>
                <a:lnTo>
                  <a:pt x="648" y="100"/>
                </a:lnTo>
                <a:lnTo>
                  <a:pt x="626" y="118"/>
                </a:lnTo>
                <a:lnTo>
                  <a:pt x="620" y="120"/>
                </a:lnTo>
                <a:lnTo>
                  <a:pt x="585" y="131"/>
                </a:lnTo>
                <a:lnTo>
                  <a:pt x="464" y="170"/>
                </a:lnTo>
                <a:lnTo>
                  <a:pt x="370" y="199"/>
                </a:lnTo>
                <a:lnTo>
                  <a:pt x="366" y="200"/>
                </a:lnTo>
                <a:lnTo>
                  <a:pt x="362" y="201"/>
                </a:lnTo>
                <a:lnTo>
                  <a:pt x="332" y="201"/>
                </a:lnTo>
                <a:lnTo>
                  <a:pt x="230" y="201"/>
                </a:lnTo>
                <a:lnTo>
                  <a:pt x="152" y="201"/>
                </a:lnTo>
                <a:lnTo>
                  <a:pt x="148" y="201"/>
                </a:lnTo>
                <a:lnTo>
                  <a:pt x="133" y="194"/>
                </a:lnTo>
                <a:lnTo>
                  <a:pt x="91" y="172"/>
                </a:lnTo>
                <a:lnTo>
                  <a:pt x="59" y="154"/>
                </a:lnTo>
                <a:lnTo>
                  <a:pt x="58" y="153"/>
                </a:lnTo>
                <a:lnTo>
                  <a:pt x="56" y="155"/>
                </a:lnTo>
                <a:lnTo>
                  <a:pt x="49" y="169"/>
                </a:lnTo>
                <a:lnTo>
                  <a:pt x="22" y="211"/>
                </a:lnTo>
                <a:lnTo>
                  <a:pt x="1" y="245"/>
                </a:lnTo>
                <a:lnTo>
                  <a:pt x="0" y="246"/>
                </a:lnTo>
                <a:lnTo>
                  <a:pt x="2" y="250"/>
                </a:lnTo>
                <a:lnTo>
                  <a:pt x="17" y="271"/>
                </a:lnTo>
                <a:lnTo>
                  <a:pt x="72" y="344"/>
                </a:lnTo>
                <a:lnTo>
                  <a:pt x="113" y="399"/>
                </a:lnTo>
                <a:lnTo>
                  <a:pt x="116" y="402"/>
                </a:lnTo>
                <a:lnTo>
                  <a:pt x="114" y="404"/>
                </a:lnTo>
                <a:lnTo>
                  <a:pt x="105" y="413"/>
                </a:lnTo>
                <a:lnTo>
                  <a:pt x="73" y="444"/>
                </a:lnTo>
                <a:lnTo>
                  <a:pt x="50" y="467"/>
                </a:lnTo>
                <a:lnTo>
                  <a:pt x="49" y="468"/>
                </a:lnTo>
                <a:lnTo>
                  <a:pt x="49" y="471"/>
                </a:lnTo>
                <a:lnTo>
                  <a:pt x="49" y="491"/>
                </a:lnTo>
                <a:lnTo>
                  <a:pt x="49" y="555"/>
                </a:lnTo>
                <a:lnTo>
                  <a:pt x="49" y="605"/>
                </a:lnTo>
                <a:lnTo>
                  <a:pt x="50" y="607"/>
                </a:lnTo>
                <a:lnTo>
                  <a:pt x="54" y="608"/>
                </a:lnTo>
                <a:lnTo>
                  <a:pt x="70" y="610"/>
                </a:lnTo>
                <a:lnTo>
                  <a:pt x="109" y="617"/>
                </a:lnTo>
                <a:lnTo>
                  <a:pt x="143" y="623"/>
                </a:lnTo>
                <a:lnTo>
                  <a:pt x="148" y="623"/>
                </a:lnTo>
                <a:lnTo>
                  <a:pt x="156" y="635"/>
                </a:lnTo>
                <a:lnTo>
                  <a:pt x="178" y="671"/>
                </a:lnTo>
                <a:lnTo>
                  <a:pt x="197" y="697"/>
                </a:lnTo>
                <a:lnTo>
                  <a:pt x="198" y="698"/>
                </a:lnTo>
                <a:lnTo>
                  <a:pt x="194" y="707"/>
                </a:lnTo>
                <a:lnTo>
                  <a:pt x="188" y="728"/>
                </a:lnTo>
                <a:lnTo>
                  <a:pt x="183" y="744"/>
                </a:lnTo>
                <a:lnTo>
                  <a:pt x="183" y="746"/>
                </a:lnTo>
                <a:lnTo>
                  <a:pt x="184" y="756"/>
                </a:lnTo>
                <a:lnTo>
                  <a:pt x="189" y="789"/>
                </a:lnTo>
                <a:lnTo>
                  <a:pt x="193" y="814"/>
                </a:lnTo>
                <a:lnTo>
                  <a:pt x="194" y="815"/>
                </a:lnTo>
                <a:lnTo>
                  <a:pt x="197" y="814"/>
                </a:lnTo>
                <a:lnTo>
                  <a:pt x="217" y="802"/>
                </a:lnTo>
                <a:lnTo>
                  <a:pt x="286" y="765"/>
                </a:lnTo>
                <a:lnTo>
                  <a:pt x="338" y="735"/>
                </a:lnTo>
                <a:lnTo>
                  <a:pt x="341" y="733"/>
                </a:lnTo>
                <a:lnTo>
                  <a:pt x="346" y="733"/>
                </a:lnTo>
                <a:lnTo>
                  <a:pt x="358" y="733"/>
                </a:lnTo>
                <a:lnTo>
                  <a:pt x="391" y="732"/>
                </a:lnTo>
                <a:lnTo>
                  <a:pt x="420" y="732"/>
                </a:lnTo>
                <a:lnTo>
                  <a:pt x="425" y="731"/>
                </a:lnTo>
                <a:lnTo>
                  <a:pt x="427" y="731"/>
                </a:lnTo>
                <a:lnTo>
                  <a:pt x="442" y="725"/>
                </a:lnTo>
                <a:lnTo>
                  <a:pt x="494" y="707"/>
                </a:lnTo>
                <a:lnTo>
                  <a:pt x="532" y="691"/>
                </a:lnTo>
                <a:lnTo>
                  <a:pt x="535" y="690"/>
                </a:lnTo>
                <a:lnTo>
                  <a:pt x="548" y="695"/>
                </a:lnTo>
                <a:lnTo>
                  <a:pt x="590" y="709"/>
                </a:lnTo>
                <a:lnTo>
                  <a:pt x="622" y="719"/>
                </a:lnTo>
                <a:lnTo>
                  <a:pt x="624" y="719"/>
                </a:lnTo>
                <a:lnTo>
                  <a:pt x="627" y="718"/>
                </a:lnTo>
                <a:lnTo>
                  <a:pt x="643" y="712"/>
                </a:lnTo>
                <a:lnTo>
                  <a:pt x="697" y="687"/>
                </a:lnTo>
                <a:lnTo>
                  <a:pt x="739" y="669"/>
                </a:lnTo>
                <a:lnTo>
                  <a:pt x="742" y="667"/>
                </a:lnTo>
                <a:lnTo>
                  <a:pt x="737" y="663"/>
                </a:lnTo>
                <a:lnTo>
                  <a:pt x="721" y="649"/>
                </a:lnTo>
                <a:lnTo>
                  <a:pt x="709" y="637"/>
                </a:lnTo>
                <a:lnTo>
                  <a:pt x="709" y="636"/>
                </a:lnTo>
                <a:lnTo>
                  <a:pt x="712" y="634"/>
                </a:lnTo>
                <a:lnTo>
                  <a:pt x="741" y="613"/>
                </a:lnTo>
                <a:lnTo>
                  <a:pt x="841" y="543"/>
                </a:lnTo>
                <a:lnTo>
                  <a:pt x="917" y="488"/>
                </a:lnTo>
                <a:lnTo>
                  <a:pt x="922" y="485"/>
                </a:lnTo>
                <a:lnTo>
                  <a:pt x="929" y="484"/>
                </a:lnTo>
                <a:lnTo>
                  <a:pt x="955" y="480"/>
                </a:lnTo>
                <a:lnTo>
                  <a:pt x="974" y="478"/>
                </a:lnTo>
                <a:lnTo>
                  <a:pt x="975" y="477"/>
                </a:lnTo>
                <a:lnTo>
                  <a:pt x="979" y="480"/>
                </a:lnTo>
                <a:lnTo>
                  <a:pt x="993" y="490"/>
                </a:lnTo>
                <a:lnTo>
                  <a:pt x="1004" y="496"/>
                </a:lnTo>
                <a:lnTo>
                  <a:pt x="1005" y="496"/>
                </a:lnTo>
                <a:lnTo>
                  <a:pt x="1009" y="496"/>
                </a:lnTo>
                <a:lnTo>
                  <a:pt x="1024" y="496"/>
                </a:lnTo>
                <a:lnTo>
                  <a:pt x="1036" y="496"/>
                </a:lnTo>
                <a:lnTo>
                  <a:pt x="1037" y="496"/>
                </a:lnTo>
                <a:lnTo>
                  <a:pt x="1042" y="492"/>
                </a:lnTo>
                <a:lnTo>
                  <a:pt x="1058" y="477"/>
                </a:lnTo>
                <a:lnTo>
                  <a:pt x="1069" y="466"/>
                </a:lnTo>
                <a:lnTo>
                  <a:pt x="1071" y="465"/>
                </a:lnTo>
                <a:lnTo>
                  <a:pt x="1068" y="464"/>
                </a:lnTo>
                <a:lnTo>
                  <a:pt x="1058" y="453"/>
                </a:lnTo>
                <a:lnTo>
                  <a:pt x="1020" y="415"/>
                </a:lnTo>
                <a:lnTo>
                  <a:pt x="991" y="387"/>
                </a:lnTo>
                <a:lnTo>
                  <a:pt x="990" y="385"/>
                </a:lnTo>
                <a:lnTo>
                  <a:pt x="997" y="372"/>
                </a:lnTo>
                <a:lnTo>
                  <a:pt x="1019" y="336"/>
                </a:lnTo>
                <a:lnTo>
                  <a:pt x="1036" y="308"/>
                </a:lnTo>
                <a:lnTo>
                  <a:pt x="1037" y="3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69"/>
          <p:cNvSpPr/>
          <p:nvPr/>
        </p:nvSpPr>
        <p:spPr>
          <a:xfrm>
            <a:off x="4743360" y="4970520"/>
            <a:ext cx="849240" cy="646200"/>
          </a:xfrm>
          <a:custGeom>
            <a:avLst/>
            <a:gdLst>
              <a:gd name="textAreaLeft" fmla="*/ 0 w 849240"/>
              <a:gd name="textAreaRight" fmla="*/ 849600 w 849240"/>
              <a:gd name="textAreaTop" fmla="*/ 0 h 646200"/>
              <a:gd name="textAreaBottom" fmla="*/ 646560 h 646200"/>
            </a:gdLst>
            <a:ahLst/>
            <a:rect l="textAreaLeft" t="textAreaTop" r="textAreaRight" b="textAreaBottom"/>
            <a:pathLst>
              <a:path w="1071" h="815">
                <a:moveTo>
                  <a:pt x="1037" y="306"/>
                </a:moveTo>
                <a:lnTo>
                  <a:pt x="1034" y="283"/>
                </a:lnTo>
                <a:lnTo>
                  <a:pt x="1033" y="237"/>
                </a:lnTo>
                <a:lnTo>
                  <a:pt x="1042" y="153"/>
                </a:lnTo>
                <a:lnTo>
                  <a:pt x="1061" y="75"/>
                </a:lnTo>
                <a:lnTo>
                  <a:pt x="1066" y="56"/>
                </a:lnTo>
                <a:lnTo>
                  <a:pt x="1065" y="53"/>
                </a:lnTo>
                <a:lnTo>
                  <a:pt x="1064" y="52"/>
                </a:lnTo>
                <a:lnTo>
                  <a:pt x="1061" y="51"/>
                </a:lnTo>
                <a:lnTo>
                  <a:pt x="1059" y="51"/>
                </a:lnTo>
                <a:lnTo>
                  <a:pt x="1054" y="52"/>
                </a:lnTo>
                <a:lnTo>
                  <a:pt x="1048" y="55"/>
                </a:lnTo>
                <a:lnTo>
                  <a:pt x="1042" y="59"/>
                </a:lnTo>
                <a:lnTo>
                  <a:pt x="1037" y="61"/>
                </a:lnTo>
                <a:lnTo>
                  <a:pt x="1021" y="59"/>
                </a:lnTo>
                <a:lnTo>
                  <a:pt x="999" y="53"/>
                </a:lnTo>
                <a:lnTo>
                  <a:pt x="982" y="45"/>
                </a:lnTo>
                <a:lnTo>
                  <a:pt x="952" y="27"/>
                </a:lnTo>
                <a:lnTo>
                  <a:pt x="923" y="14"/>
                </a:lnTo>
                <a:lnTo>
                  <a:pt x="887" y="5"/>
                </a:lnTo>
                <a:lnTo>
                  <a:pt x="828" y="0"/>
                </a:lnTo>
                <a:lnTo>
                  <a:pt x="777" y="10"/>
                </a:lnTo>
                <a:lnTo>
                  <a:pt x="733" y="33"/>
                </a:lnTo>
                <a:lnTo>
                  <a:pt x="691" y="65"/>
                </a:lnTo>
                <a:lnTo>
                  <a:pt x="648" y="100"/>
                </a:lnTo>
                <a:lnTo>
                  <a:pt x="626" y="118"/>
                </a:lnTo>
                <a:lnTo>
                  <a:pt x="620" y="120"/>
                </a:lnTo>
                <a:lnTo>
                  <a:pt x="585" y="131"/>
                </a:lnTo>
                <a:lnTo>
                  <a:pt x="464" y="170"/>
                </a:lnTo>
                <a:lnTo>
                  <a:pt x="370" y="199"/>
                </a:lnTo>
                <a:lnTo>
                  <a:pt x="366" y="200"/>
                </a:lnTo>
                <a:lnTo>
                  <a:pt x="362" y="201"/>
                </a:lnTo>
                <a:lnTo>
                  <a:pt x="332" y="201"/>
                </a:lnTo>
                <a:lnTo>
                  <a:pt x="230" y="201"/>
                </a:lnTo>
                <a:lnTo>
                  <a:pt x="152" y="201"/>
                </a:lnTo>
                <a:lnTo>
                  <a:pt x="148" y="201"/>
                </a:lnTo>
                <a:lnTo>
                  <a:pt x="133" y="194"/>
                </a:lnTo>
                <a:lnTo>
                  <a:pt x="91" y="172"/>
                </a:lnTo>
                <a:lnTo>
                  <a:pt x="59" y="154"/>
                </a:lnTo>
                <a:lnTo>
                  <a:pt x="58" y="153"/>
                </a:lnTo>
                <a:lnTo>
                  <a:pt x="56" y="155"/>
                </a:lnTo>
                <a:lnTo>
                  <a:pt x="49" y="169"/>
                </a:lnTo>
                <a:lnTo>
                  <a:pt x="22" y="211"/>
                </a:lnTo>
                <a:lnTo>
                  <a:pt x="1" y="245"/>
                </a:lnTo>
                <a:lnTo>
                  <a:pt x="0" y="246"/>
                </a:lnTo>
                <a:lnTo>
                  <a:pt x="2" y="250"/>
                </a:lnTo>
                <a:lnTo>
                  <a:pt x="17" y="271"/>
                </a:lnTo>
                <a:lnTo>
                  <a:pt x="72" y="344"/>
                </a:lnTo>
                <a:lnTo>
                  <a:pt x="113" y="399"/>
                </a:lnTo>
                <a:lnTo>
                  <a:pt x="116" y="402"/>
                </a:lnTo>
                <a:lnTo>
                  <a:pt x="114" y="404"/>
                </a:lnTo>
                <a:lnTo>
                  <a:pt x="105" y="413"/>
                </a:lnTo>
                <a:lnTo>
                  <a:pt x="73" y="444"/>
                </a:lnTo>
                <a:lnTo>
                  <a:pt x="50" y="467"/>
                </a:lnTo>
                <a:lnTo>
                  <a:pt x="49" y="468"/>
                </a:lnTo>
                <a:lnTo>
                  <a:pt x="49" y="471"/>
                </a:lnTo>
                <a:lnTo>
                  <a:pt x="49" y="491"/>
                </a:lnTo>
                <a:lnTo>
                  <a:pt x="49" y="555"/>
                </a:lnTo>
                <a:lnTo>
                  <a:pt x="49" y="605"/>
                </a:lnTo>
                <a:lnTo>
                  <a:pt x="50" y="607"/>
                </a:lnTo>
                <a:lnTo>
                  <a:pt x="54" y="608"/>
                </a:lnTo>
                <a:lnTo>
                  <a:pt x="70" y="610"/>
                </a:lnTo>
                <a:lnTo>
                  <a:pt x="109" y="617"/>
                </a:lnTo>
                <a:lnTo>
                  <a:pt x="143" y="623"/>
                </a:lnTo>
                <a:lnTo>
                  <a:pt x="148" y="623"/>
                </a:lnTo>
                <a:lnTo>
                  <a:pt x="156" y="635"/>
                </a:lnTo>
                <a:lnTo>
                  <a:pt x="178" y="671"/>
                </a:lnTo>
                <a:lnTo>
                  <a:pt x="197" y="697"/>
                </a:lnTo>
                <a:lnTo>
                  <a:pt x="198" y="698"/>
                </a:lnTo>
                <a:lnTo>
                  <a:pt x="194" y="707"/>
                </a:lnTo>
                <a:lnTo>
                  <a:pt x="188" y="728"/>
                </a:lnTo>
                <a:lnTo>
                  <a:pt x="183" y="744"/>
                </a:lnTo>
                <a:lnTo>
                  <a:pt x="183" y="746"/>
                </a:lnTo>
                <a:lnTo>
                  <a:pt x="184" y="756"/>
                </a:lnTo>
                <a:lnTo>
                  <a:pt x="189" y="789"/>
                </a:lnTo>
                <a:lnTo>
                  <a:pt x="193" y="814"/>
                </a:lnTo>
                <a:lnTo>
                  <a:pt x="194" y="815"/>
                </a:lnTo>
                <a:lnTo>
                  <a:pt x="197" y="814"/>
                </a:lnTo>
                <a:lnTo>
                  <a:pt x="217" y="802"/>
                </a:lnTo>
                <a:lnTo>
                  <a:pt x="286" y="765"/>
                </a:lnTo>
                <a:lnTo>
                  <a:pt x="338" y="735"/>
                </a:lnTo>
                <a:lnTo>
                  <a:pt x="341" y="733"/>
                </a:lnTo>
                <a:lnTo>
                  <a:pt x="346" y="733"/>
                </a:lnTo>
                <a:lnTo>
                  <a:pt x="358" y="733"/>
                </a:lnTo>
                <a:lnTo>
                  <a:pt x="391" y="732"/>
                </a:lnTo>
                <a:lnTo>
                  <a:pt x="420" y="732"/>
                </a:lnTo>
                <a:lnTo>
                  <a:pt x="425" y="731"/>
                </a:lnTo>
                <a:lnTo>
                  <a:pt x="427" y="731"/>
                </a:lnTo>
                <a:lnTo>
                  <a:pt x="442" y="725"/>
                </a:lnTo>
                <a:lnTo>
                  <a:pt x="494" y="707"/>
                </a:lnTo>
                <a:lnTo>
                  <a:pt x="532" y="691"/>
                </a:lnTo>
                <a:lnTo>
                  <a:pt x="535" y="690"/>
                </a:lnTo>
                <a:lnTo>
                  <a:pt x="548" y="695"/>
                </a:lnTo>
                <a:lnTo>
                  <a:pt x="590" y="709"/>
                </a:lnTo>
                <a:lnTo>
                  <a:pt x="622" y="719"/>
                </a:lnTo>
                <a:lnTo>
                  <a:pt x="624" y="719"/>
                </a:lnTo>
                <a:lnTo>
                  <a:pt x="627" y="718"/>
                </a:lnTo>
                <a:lnTo>
                  <a:pt x="643" y="712"/>
                </a:lnTo>
                <a:lnTo>
                  <a:pt x="697" y="687"/>
                </a:lnTo>
                <a:lnTo>
                  <a:pt x="739" y="669"/>
                </a:lnTo>
                <a:lnTo>
                  <a:pt x="742" y="667"/>
                </a:lnTo>
                <a:lnTo>
                  <a:pt x="737" y="663"/>
                </a:lnTo>
                <a:lnTo>
                  <a:pt x="721" y="649"/>
                </a:lnTo>
                <a:lnTo>
                  <a:pt x="709" y="637"/>
                </a:lnTo>
                <a:lnTo>
                  <a:pt x="709" y="636"/>
                </a:lnTo>
                <a:lnTo>
                  <a:pt x="712" y="634"/>
                </a:lnTo>
                <a:lnTo>
                  <a:pt x="741" y="613"/>
                </a:lnTo>
                <a:lnTo>
                  <a:pt x="841" y="543"/>
                </a:lnTo>
                <a:lnTo>
                  <a:pt x="917" y="488"/>
                </a:lnTo>
                <a:lnTo>
                  <a:pt x="922" y="485"/>
                </a:lnTo>
                <a:lnTo>
                  <a:pt x="929" y="484"/>
                </a:lnTo>
                <a:lnTo>
                  <a:pt x="955" y="480"/>
                </a:lnTo>
                <a:lnTo>
                  <a:pt x="974" y="478"/>
                </a:lnTo>
                <a:lnTo>
                  <a:pt x="975" y="477"/>
                </a:lnTo>
                <a:lnTo>
                  <a:pt x="979" y="480"/>
                </a:lnTo>
                <a:lnTo>
                  <a:pt x="993" y="490"/>
                </a:lnTo>
                <a:lnTo>
                  <a:pt x="1004" y="496"/>
                </a:lnTo>
                <a:lnTo>
                  <a:pt x="1005" y="496"/>
                </a:lnTo>
                <a:lnTo>
                  <a:pt x="1009" y="496"/>
                </a:lnTo>
                <a:lnTo>
                  <a:pt x="1024" y="496"/>
                </a:lnTo>
                <a:lnTo>
                  <a:pt x="1036" y="496"/>
                </a:lnTo>
                <a:lnTo>
                  <a:pt x="1037" y="496"/>
                </a:lnTo>
                <a:lnTo>
                  <a:pt x="1042" y="492"/>
                </a:lnTo>
                <a:lnTo>
                  <a:pt x="1058" y="477"/>
                </a:lnTo>
                <a:lnTo>
                  <a:pt x="1069" y="466"/>
                </a:lnTo>
                <a:lnTo>
                  <a:pt x="1071" y="465"/>
                </a:lnTo>
                <a:lnTo>
                  <a:pt x="1068" y="464"/>
                </a:lnTo>
                <a:lnTo>
                  <a:pt x="1058" y="453"/>
                </a:lnTo>
                <a:lnTo>
                  <a:pt x="1020" y="415"/>
                </a:lnTo>
                <a:lnTo>
                  <a:pt x="991" y="387"/>
                </a:lnTo>
                <a:lnTo>
                  <a:pt x="990" y="385"/>
                </a:lnTo>
                <a:lnTo>
                  <a:pt x="997" y="372"/>
                </a:lnTo>
                <a:lnTo>
                  <a:pt x="1019" y="336"/>
                </a:lnTo>
                <a:lnTo>
                  <a:pt x="1036" y="308"/>
                </a:lnTo>
                <a:lnTo>
                  <a:pt x="1037" y="306"/>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70"/>
          <p:cNvSpPr/>
          <p:nvPr/>
        </p:nvSpPr>
        <p:spPr>
          <a:xfrm>
            <a:off x="4336920" y="5430960"/>
            <a:ext cx="274680" cy="528480"/>
          </a:xfrm>
          <a:custGeom>
            <a:avLst/>
            <a:gdLst>
              <a:gd name="textAreaLeft" fmla="*/ 0 w 274680"/>
              <a:gd name="textAreaRight" fmla="*/ 275040 w 274680"/>
              <a:gd name="textAreaTop" fmla="*/ 0 h 528480"/>
              <a:gd name="textAreaBottom" fmla="*/ 528480 h 528480"/>
            </a:gdLst>
            <a:ahLst/>
            <a:rect l="textAreaLeft" t="textAreaTop" r="textAreaRight" b="textAreaBottom"/>
            <a:pathLst>
              <a:path w="344" h="667">
                <a:moveTo>
                  <a:pt x="344" y="371"/>
                </a:moveTo>
                <a:lnTo>
                  <a:pt x="326" y="349"/>
                </a:lnTo>
                <a:lnTo>
                  <a:pt x="298" y="305"/>
                </a:lnTo>
                <a:lnTo>
                  <a:pt x="266" y="221"/>
                </a:lnTo>
                <a:lnTo>
                  <a:pt x="260" y="128"/>
                </a:lnTo>
                <a:lnTo>
                  <a:pt x="263" y="100"/>
                </a:lnTo>
                <a:lnTo>
                  <a:pt x="250" y="86"/>
                </a:lnTo>
                <a:lnTo>
                  <a:pt x="216" y="57"/>
                </a:lnTo>
                <a:lnTo>
                  <a:pt x="177" y="32"/>
                </a:lnTo>
                <a:lnTo>
                  <a:pt x="95" y="0"/>
                </a:lnTo>
                <a:lnTo>
                  <a:pt x="50" y="2"/>
                </a:lnTo>
                <a:lnTo>
                  <a:pt x="44" y="6"/>
                </a:lnTo>
                <a:lnTo>
                  <a:pt x="30" y="16"/>
                </a:lnTo>
                <a:lnTo>
                  <a:pt x="7" y="41"/>
                </a:lnTo>
                <a:lnTo>
                  <a:pt x="1" y="60"/>
                </a:lnTo>
                <a:lnTo>
                  <a:pt x="0" y="86"/>
                </a:lnTo>
                <a:lnTo>
                  <a:pt x="3" y="100"/>
                </a:lnTo>
                <a:lnTo>
                  <a:pt x="3" y="103"/>
                </a:lnTo>
                <a:lnTo>
                  <a:pt x="3" y="109"/>
                </a:lnTo>
                <a:lnTo>
                  <a:pt x="4" y="121"/>
                </a:lnTo>
                <a:lnTo>
                  <a:pt x="6" y="131"/>
                </a:lnTo>
                <a:lnTo>
                  <a:pt x="7" y="133"/>
                </a:lnTo>
                <a:lnTo>
                  <a:pt x="7" y="136"/>
                </a:lnTo>
                <a:lnTo>
                  <a:pt x="10" y="138"/>
                </a:lnTo>
                <a:lnTo>
                  <a:pt x="12" y="139"/>
                </a:lnTo>
                <a:lnTo>
                  <a:pt x="15" y="140"/>
                </a:lnTo>
                <a:lnTo>
                  <a:pt x="17" y="140"/>
                </a:lnTo>
                <a:lnTo>
                  <a:pt x="25" y="141"/>
                </a:lnTo>
                <a:lnTo>
                  <a:pt x="31" y="142"/>
                </a:lnTo>
                <a:lnTo>
                  <a:pt x="35" y="145"/>
                </a:lnTo>
                <a:lnTo>
                  <a:pt x="36" y="147"/>
                </a:lnTo>
                <a:lnTo>
                  <a:pt x="36" y="154"/>
                </a:lnTo>
                <a:lnTo>
                  <a:pt x="37" y="168"/>
                </a:lnTo>
                <a:lnTo>
                  <a:pt x="34" y="203"/>
                </a:lnTo>
                <a:lnTo>
                  <a:pt x="35" y="237"/>
                </a:lnTo>
                <a:lnTo>
                  <a:pt x="38" y="243"/>
                </a:lnTo>
                <a:lnTo>
                  <a:pt x="44" y="257"/>
                </a:lnTo>
                <a:lnTo>
                  <a:pt x="56" y="284"/>
                </a:lnTo>
                <a:lnTo>
                  <a:pt x="76" y="331"/>
                </a:lnTo>
                <a:lnTo>
                  <a:pt x="94" y="375"/>
                </a:lnTo>
                <a:lnTo>
                  <a:pt x="99" y="384"/>
                </a:lnTo>
                <a:lnTo>
                  <a:pt x="97" y="389"/>
                </a:lnTo>
                <a:lnTo>
                  <a:pt x="95" y="395"/>
                </a:lnTo>
                <a:lnTo>
                  <a:pt x="90" y="408"/>
                </a:lnTo>
                <a:lnTo>
                  <a:pt x="74" y="438"/>
                </a:lnTo>
                <a:lnTo>
                  <a:pt x="66" y="461"/>
                </a:lnTo>
                <a:lnTo>
                  <a:pt x="72" y="484"/>
                </a:lnTo>
                <a:lnTo>
                  <a:pt x="91" y="524"/>
                </a:lnTo>
                <a:lnTo>
                  <a:pt x="121" y="560"/>
                </a:lnTo>
                <a:lnTo>
                  <a:pt x="156" y="592"/>
                </a:lnTo>
                <a:lnTo>
                  <a:pt x="231" y="651"/>
                </a:lnTo>
                <a:lnTo>
                  <a:pt x="249" y="667"/>
                </a:lnTo>
                <a:lnTo>
                  <a:pt x="254" y="666"/>
                </a:lnTo>
                <a:lnTo>
                  <a:pt x="265" y="662"/>
                </a:lnTo>
                <a:lnTo>
                  <a:pt x="283" y="653"/>
                </a:lnTo>
                <a:lnTo>
                  <a:pt x="295" y="646"/>
                </a:lnTo>
                <a:lnTo>
                  <a:pt x="297" y="645"/>
                </a:lnTo>
                <a:lnTo>
                  <a:pt x="298" y="644"/>
                </a:lnTo>
                <a:lnTo>
                  <a:pt x="298" y="642"/>
                </a:lnTo>
                <a:lnTo>
                  <a:pt x="296" y="639"/>
                </a:lnTo>
                <a:lnTo>
                  <a:pt x="295" y="636"/>
                </a:lnTo>
                <a:lnTo>
                  <a:pt x="290" y="630"/>
                </a:lnTo>
                <a:lnTo>
                  <a:pt x="285" y="622"/>
                </a:lnTo>
                <a:lnTo>
                  <a:pt x="280" y="611"/>
                </a:lnTo>
                <a:lnTo>
                  <a:pt x="281" y="603"/>
                </a:lnTo>
                <a:lnTo>
                  <a:pt x="286" y="581"/>
                </a:lnTo>
                <a:lnTo>
                  <a:pt x="290" y="564"/>
                </a:lnTo>
                <a:lnTo>
                  <a:pt x="292" y="563"/>
                </a:lnTo>
                <a:lnTo>
                  <a:pt x="292" y="560"/>
                </a:lnTo>
                <a:lnTo>
                  <a:pt x="299" y="533"/>
                </a:lnTo>
                <a:lnTo>
                  <a:pt x="324" y="443"/>
                </a:lnTo>
                <a:lnTo>
                  <a:pt x="343" y="375"/>
                </a:lnTo>
                <a:lnTo>
                  <a:pt x="344" y="3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71"/>
          <p:cNvSpPr/>
          <p:nvPr/>
        </p:nvSpPr>
        <p:spPr>
          <a:xfrm>
            <a:off x="4336920" y="5430960"/>
            <a:ext cx="274680" cy="528480"/>
          </a:xfrm>
          <a:custGeom>
            <a:avLst/>
            <a:gdLst>
              <a:gd name="textAreaLeft" fmla="*/ 0 w 274680"/>
              <a:gd name="textAreaRight" fmla="*/ 275040 w 274680"/>
              <a:gd name="textAreaTop" fmla="*/ 0 h 528480"/>
              <a:gd name="textAreaBottom" fmla="*/ 528480 h 528480"/>
            </a:gdLst>
            <a:ahLst/>
            <a:rect l="textAreaLeft" t="textAreaTop" r="textAreaRight" b="textAreaBottom"/>
            <a:pathLst>
              <a:path w="344" h="667">
                <a:moveTo>
                  <a:pt x="344" y="371"/>
                </a:moveTo>
                <a:lnTo>
                  <a:pt x="326" y="349"/>
                </a:lnTo>
                <a:lnTo>
                  <a:pt x="298" y="305"/>
                </a:lnTo>
                <a:lnTo>
                  <a:pt x="266" y="221"/>
                </a:lnTo>
                <a:lnTo>
                  <a:pt x="260" y="128"/>
                </a:lnTo>
                <a:lnTo>
                  <a:pt x="263" y="100"/>
                </a:lnTo>
                <a:lnTo>
                  <a:pt x="250" y="86"/>
                </a:lnTo>
                <a:lnTo>
                  <a:pt x="216" y="57"/>
                </a:lnTo>
                <a:lnTo>
                  <a:pt x="177" y="32"/>
                </a:lnTo>
                <a:lnTo>
                  <a:pt x="95" y="0"/>
                </a:lnTo>
                <a:lnTo>
                  <a:pt x="50" y="2"/>
                </a:lnTo>
                <a:lnTo>
                  <a:pt x="44" y="6"/>
                </a:lnTo>
                <a:lnTo>
                  <a:pt x="30" y="16"/>
                </a:lnTo>
                <a:lnTo>
                  <a:pt x="7" y="41"/>
                </a:lnTo>
                <a:lnTo>
                  <a:pt x="1" y="60"/>
                </a:lnTo>
                <a:lnTo>
                  <a:pt x="0" y="86"/>
                </a:lnTo>
                <a:lnTo>
                  <a:pt x="3" y="100"/>
                </a:lnTo>
                <a:lnTo>
                  <a:pt x="3" y="103"/>
                </a:lnTo>
                <a:lnTo>
                  <a:pt x="3" y="109"/>
                </a:lnTo>
                <a:lnTo>
                  <a:pt x="4" y="121"/>
                </a:lnTo>
                <a:lnTo>
                  <a:pt x="6" y="131"/>
                </a:lnTo>
                <a:lnTo>
                  <a:pt x="7" y="133"/>
                </a:lnTo>
                <a:lnTo>
                  <a:pt x="7" y="136"/>
                </a:lnTo>
                <a:lnTo>
                  <a:pt x="10" y="138"/>
                </a:lnTo>
                <a:lnTo>
                  <a:pt x="12" y="139"/>
                </a:lnTo>
                <a:lnTo>
                  <a:pt x="15" y="140"/>
                </a:lnTo>
                <a:lnTo>
                  <a:pt x="17" y="140"/>
                </a:lnTo>
                <a:lnTo>
                  <a:pt x="25" y="141"/>
                </a:lnTo>
                <a:lnTo>
                  <a:pt x="31" y="142"/>
                </a:lnTo>
                <a:lnTo>
                  <a:pt x="35" y="145"/>
                </a:lnTo>
                <a:lnTo>
                  <a:pt x="36" y="147"/>
                </a:lnTo>
                <a:lnTo>
                  <a:pt x="36" y="154"/>
                </a:lnTo>
                <a:lnTo>
                  <a:pt x="37" y="168"/>
                </a:lnTo>
                <a:lnTo>
                  <a:pt x="34" y="203"/>
                </a:lnTo>
                <a:lnTo>
                  <a:pt x="35" y="237"/>
                </a:lnTo>
                <a:lnTo>
                  <a:pt x="38" y="243"/>
                </a:lnTo>
                <a:lnTo>
                  <a:pt x="44" y="257"/>
                </a:lnTo>
                <a:lnTo>
                  <a:pt x="56" y="284"/>
                </a:lnTo>
                <a:lnTo>
                  <a:pt x="76" y="331"/>
                </a:lnTo>
                <a:lnTo>
                  <a:pt x="94" y="375"/>
                </a:lnTo>
                <a:lnTo>
                  <a:pt x="99" y="384"/>
                </a:lnTo>
                <a:lnTo>
                  <a:pt x="97" y="389"/>
                </a:lnTo>
                <a:lnTo>
                  <a:pt x="95" y="395"/>
                </a:lnTo>
                <a:lnTo>
                  <a:pt x="90" y="408"/>
                </a:lnTo>
                <a:lnTo>
                  <a:pt x="74" y="438"/>
                </a:lnTo>
                <a:lnTo>
                  <a:pt x="66" y="461"/>
                </a:lnTo>
                <a:lnTo>
                  <a:pt x="72" y="484"/>
                </a:lnTo>
                <a:lnTo>
                  <a:pt x="91" y="524"/>
                </a:lnTo>
                <a:lnTo>
                  <a:pt x="121" y="560"/>
                </a:lnTo>
                <a:lnTo>
                  <a:pt x="156" y="592"/>
                </a:lnTo>
                <a:lnTo>
                  <a:pt x="231" y="651"/>
                </a:lnTo>
                <a:lnTo>
                  <a:pt x="249" y="667"/>
                </a:lnTo>
                <a:lnTo>
                  <a:pt x="254" y="666"/>
                </a:lnTo>
                <a:lnTo>
                  <a:pt x="265" y="662"/>
                </a:lnTo>
                <a:lnTo>
                  <a:pt x="283" y="653"/>
                </a:lnTo>
                <a:lnTo>
                  <a:pt x="295" y="646"/>
                </a:lnTo>
                <a:lnTo>
                  <a:pt x="297" y="645"/>
                </a:lnTo>
                <a:lnTo>
                  <a:pt x="298" y="644"/>
                </a:lnTo>
                <a:lnTo>
                  <a:pt x="298" y="642"/>
                </a:lnTo>
                <a:lnTo>
                  <a:pt x="296" y="639"/>
                </a:lnTo>
                <a:lnTo>
                  <a:pt x="295" y="636"/>
                </a:lnTo>
                <a:lnTo>
                  <a:pt x="290" y="630"/>
                </a:lnTo>
                <a:lnTo>
                  <a:pt x="285" y="622"/>
                </a:lnTo>
                <a:lnTo>
                  <a:pt x="280" y="611"/>
                </a:lnTo>
                <a:lnTo>
                  <a:pt x="281" y="603"/>
                </a:lnTo>
                <a:lnTo>
                  <a:pt x="286" y="581"/>
                </a:lnTo>
                <a:lnTo>
                  <a:pt x="290" y="564"/>
                </a:lnTo>
                <a:lnTo>
                  <a:pt x="292" y="563"/>
                </a:lnTo>
                <a:lnTo>
                  <a:pt x="292" y="560"/>
                </a:lnTo>
                <a:lnTo>
                  <a:pt x="299" y="533"/>
                </a:lnTo>
                <a:lnTo>
                  <a:pt x="324" y="443"/>
                </a:lnTo>
                <a:lnTo>
                  <a:pt x="343" y="375"/>
                </a:lnTo>
                <a:lnTo>
                  <a:pt x="344" y="371"/>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72"/>
          <p:cNvSpPr/>
          <p:nvPr/>
        </p:nvSpPr>
        <p:spPr>
          <a:xfrm>
            <a:off x="1122480" y="3902040"/>
            <a:ext cx="1825560" cy="1833480"/>
          </a:xfrm>
          <a:custGeom>
            <a:avLst/>
            <a:gdLst>
              <a:gd name="textAreaLeft" fmla="*/ 0 w 1825560"/>
              <a:gd name="textAreaRight" fmla="*/ 1825920 w 1825560"/>
              <a:gd name="textAreaTop" fmla="*/ 0 h 1833480"/>
              <a:gd name="textAreaBottom" fmla="*/ 1833840 h 1833480"/>
            </a:gdLst>
            <a:ahLst/>
            <a:rect l="textAreaLeft" t="textAreaTop" r="textAreaRight" b="textAreaBottom"/>
            <a:pathLst>
              <a:path w="2302" h="2309">
                <a:moveTo>
                  <a:pt x="2124" y="2061"/>
                </a:moveTo>
                <a:lnTo>
                  <a:pt x="2128" y="2053"/>
                </a:lnTo>
                <a:lnTo>
                  <a:pt x="2146" y="2033"/>
                </a:lnTo>
                <a:lnTo>
                  <a:pt x="2196" y="1987"/>
                </a:lnTo>
                <a:lnTo>
                  <a:pt x="2245" y="1946"/>
                </a:lnTo>
                <a:lnTo>
                  <a:pt x="2255" y="1936"/>
                </a:lnTo>
                <a:lnTo>
                  <a:pt x="2273" y="1960"/>
                </a:lnTo>
                <a:lnTo>
                  <a:pt x="2286" y="1988"/>
                </a:lnTo>
                <a:lnTo>
                  <a:pt x="2295" y="2021"/>
                </a:lnTo>
                <a:lnTo>
                  <a:pt x="2302" y="2096"/>
                </a:lnTo>
                <a:lnTo>
                  <a:pt x="2293" y="2173"/>
                </a:lnTo>
                <a:lnTo>
                  <a:pt x="2273" y="2243"/>
                </a:lnTo>
                <a:lnTo>
                  <a:pt x="2241" y="2294"/>
                </a:lnTo>
                <a:lnTo>
                  <a:pt x="2221" y="2309"/>
                </a:lnTo>
                <a:lnTo>
                  <a:pt x="2196" y="2301"/>
                </a:lnTo>
                <a:lnTo>
                  <a:pt x="2155" y="2278"/>
                </a:lnTo>
                <a:lnTo>
                  <a:pt x="2128" y="2245"/>
                </a:lnTo>
                <a:lnTo>
                  <a:pt x="2114" y="2204"/>
                </a:lnTo>
                <a:lnTo>
                  <a:pt x="2111" y="2155"/>
                </a:lnTo>
                <a:lnTo>
                  <a:pt x="2117" y="2094"/>
                </a:lnTo>
                <a:lnTo>
                  <a:pt x="2124" y="2061"/>
                </a:lnTo>
                <a:lnTo>
                  <a:pt x="2127" y="2055"/>
                </a:lnTo>
                <a:lnTo>
                  <a:pt x="2130" y="2049"/>
                </a:lnTo>
                <a:lnTo>
                  <a:pt x="2128" y="2052"/>
                </a:lnTo>
                <a:lnTo>
                  <a:pt x="2124" y="2061"/>
                </a:lnTo>
                <a:close/>
                <a:moveTo>
                  <a:pt x="229" y="1678"/>
                </a:moveTo>
                <a:lnTo>
                  <a:pt x="244" y="1664"/>
                </a:lnTo>
                <a:lnTo>
                  <a:pt x="278" y="1634"/>
                </a:lnTo>
                <a:lnTo>
                  <a:pt x="348" y="1569"/>
                </a:lnTo>
                <a:lnTo>
                  <a:pt x="402" y="1501"/>
                </a:lnTo>
                <a:lnTo>
                  <a:pt x="412" y="1485"/>
                </a:lnTo>
                <a:lnTo>
                  <a:pt x="413" y="1477"/>
                </a:lnTo>
                <a:lnTo>
                  <a:pt x="416" y="1460"/>
                </a:lnTo>
                <a:lnTo>
                  <a:pt x="429" y="1405"/>
                </a:lnTo>
                <a:lnTo>
                  <a:pt x="470" y="1266"/>
                </a:lnTo>
                <a:lnTo>
                  <a:pt x="511" y="1174"/>
                </a:lnTo>
                <a:lnTo>
                  <a:pt x="494" y="1141"/>
                </a:lnTo>
                <a:lnTo>
                  <a:pt x="471" y="1083"/>
                </a:lnTo>
                <a:lnTo>
                  <a:pt x="445" y="986"/>
                </a:lnTo>
                <a:lnTo>
                  <a:pt x="400" y="891"/>
                </a:lnTo>
                <a:lnTo>
                  <a:pt x="380" y="864"/>
                </a:lnTo>
                <a:lnTo>
                  <a:pt x="390" y="844"/>
                </a:lnTo>
                <a:lnTo>
                  <a:pt x="404" y="819"/>
                </a:lnTo>
                <a:lnTo>
                  <a:pt x="407" y="811"/>
                </a:lnTo>
                <a:lnTo>
                  <a:pt x="408" y="806"/>
                </a:lnTo>
                <a:lnTo>
                  <a:pt x="407" y="804"/>
                </a:lnTo>
                <a:lnTo>
                  <a:pt x="406" y="802"/>
                </a:lnTo>
                <a:lnTo>
                  <a:pt x="405" y="801"/>
                </a:lnTo>
                <a:lnTo>
                  <a:pt x="402" y="800"/>
                </a:lnTo>
                <a:lnTo>
                  <a:pt x="396" y="796"/>
                </a:lnTo>
                <a:lnTo>
                  <a:pt x="376" y="788"/>
                </a:lnTo>
                <a:lnTo>
                  <a:pt x="347" y="770"/>
                </a:lnTo>
                <a:lnTo>
                  <a:pt x="336" y="753"/>
                </a:lnTo>
                <a:lnTo>
                  <a:pt x="307" y="708"/>
                </a:lnTo>
                <a:lnTo>
                  <a:pt x="220" y="614"/>
                </a:lnTo>
                <a:lnTo>
                  <a:pt x="167" y="584"/>
                </a:lnTo>
                <a:lnTo>
                  <a:pt x="139" y="576"/>
                </a:lnTo>
                <a:lnTo>
                  <a:pt x="110" y="575"/>
                </a:lnTo>
                <a:lnTo>
                  <a:pt x="82" y="583"/>
                </a:lnTo>
                <a:lnTo>
                  <a:pt x="73" y="578"/>
                </a:lnTo>
                <a:lnTo>
                  <a:pt x="58" y="569"/>
                </a:lnTo>
                <a:lnTo>
                  <a:pt x="28" y="543"/>
                </a:lnTo>
                <a:lnTo>
                  <a:pt x="5" y="513"/>
                </a:lnTo>
                <a:lnTo>
                  <a:pt x="0" y="505"/>
                </a:lnTo>
                <a:lnTo>
                  <a:pt x="5" y="505"/>
                </a:lnTo>
                <a:lnTo>
                  <a:pt x="11" y="503"/>
                </a:lnTo>
                <a:lnTo>
                  <a:pt x="25" y="497"/>
                </a:lnTo>
                <a:lnTo>
                  <a:pt x="57" y="483"/>
                </a:lnTo>
                <a:lnTo>
                  <a:pt x="82" y="473"/>
                </a:lnTo>
                <a:lnTo>
                  <a:pt x="78" y="466"/>
                </a:lnTo>
                <a:lnTo>
                  <a:pt x="70" y="455"/>
                </a:lnTo>
                <a:lnTo>
                  <a:pt x="60" y="448"/>
                </a:lnTo>
                <a:lnTo>
                  <a:pt x="51" y="442"/>
                </a:lnTo>
                <a:lnTo>
                  <a:pt x="39" y="437"/>
                </a:lnTo>
                <a:lnTo>
                  <a:pt x="25" y="431"/>
                </a:lnTo>
                <a:lnTo>
                  <a:pt x="17" y="427"/>
                </a:lnTo>
                <a:lnTo>
                  <a:pt x="17" y="423"/>
                </a:lnTo>
                <a:lnTo>
                  <a:pt x="20" y="418"/>
                </a:lnTo>
                <a:lnTo>
                  <a:pt x="22" y="413"/>
                </a:lnTo>
                <a:lnTo>
                  <a:pt x="29" y="403"/>
                </a:lnTo>
                <a:lnTo>
                  <a:pt x="45" y="386"/>
                </a:lnTo>
                <a:lnTo>
                  <a:pt x="51" y="381"/>
                </a:lnTo>
                <a:lnTo>
                  <a:pt x="65" y="384"/>
                </a:lnTo>
                <a:lnTo>
                  <a:pt x="102" y="387"/>
                </a:lnTo>
                <a:lnTo>
                  <a:pt x="204" y="386"/>
                </a:lnTo>
                <a:lnTo>
                  <a:pt x="308" y="382"/>
                </a:lnTo>
                <a:lnTo>
                  <a:pt x="331" y="381"/>
                </a:lnTo>
                <a:lnTo>
                  <a:pt x="334" y="385"/>
                </a:lnTo>
                <a:lnTo>
                  <a:pt x="342" y="395"/>
                </a:lnTo>
                <a:lnTo>
                  <a:pt x="359" y="417"/>
                </a:lnTo>
                <a:lnTo>
                  <a:pt x="376" y="438"/>
                </a:lnTo>
                <a:lnTo>
                  <a:pt x="380" y="442"/>
                </a:lnTo>
                <a:lnTo>
                  <a:pt x="392" y="443"/>
                </a:lnTo>
                <a:lnTo>
                  <a:pt x="419" y="445"/>
                </a:lnTo>
                <a:lnTo>
                  <a:pt x="472" y="452"/>
                </a:lnTo>
                <a:lnTo>
                  <a:pt x="518" y="458"/>
                </a:lnTo>
                <a:lnTo>
                  <a:pt x="528" y="458"/>
                </a:lnTo>
                <a:lnTo>
                  <a:pt x="538" y="448"/>
                </a:lnTo>
                <a:lnTo>
                  <a:pt x="550" y="430"/>
                </a:lnTo>
                <a:lnTo>
                  <a:pt x="555" y="414"/>
                </a:lnTo>
                <a:lnTo>
                  <a:pt x="555" y="399"/>
                </a:lnTo>
                <a:lnTo>
                  <a:pt x="555" y="382"/>
                </a:lnTo>
                <a:lnTo>
                  <a:pt x="557" y="361"/>
                </a:lnTo>
                <a:lnTo>
                  <a:pt x="561" y="349"/>
                </a:lnTo>
                <a:lnTo>
                  <a:pt x="548" y="338"/>
                </a:lnTo>
                <a:lnTo>
                  <a:pt x="530" y="313"/>
                </a:lnTo>
                <a:lnTo>
                  <a:pt x="518" y="285"/>
                </a:lnTo>
                <a:lnTo>
                  <a:pt x="514" y="259"/>
                </a:lnTo>
                <a:lnTo>
                  <a:pt x="518" y="231"/>
                </a:lnTo>
                <a:lnTo>
                  <a:pt x="532" y="206"/>
                </a:lnTo>
                <a:lnTo>
                  <a:pt x="544" y="193"/>
                </a:lnTo>
                <a:lnTo>
                  <a:pt x="559" y="202"/>
                </a:lnTo>
                <a:lnTo>
                  <a:pt x="579" y="216"/>
                </a:lnTo>
                <a:lnTo>
                  <a:pt x="592" y="223"/>
                </a:lnTo>
                <a:lnTo>
                  <a:pt x="603" y="225"/>
                </a:lnTo>
                <a:lnTo>
                  <a:pt x="618" y="222"/>
                </a:lnTo>
                <a:lnTo>
                  <a:pt x="642" y="215"/>
                </a:lnTo>
                <a:lnTo>
                  <a:pt x="660" y="209"/>
                </a:lnTo>
                <a:lnTo>
                  <a:pt x="660" y="228"/>
                </a:lnTo>
                <a:lnTo>
                  <a:pt x="668" y="262"/>
                </a:lnTo>
                <a:lnTo>
                  <a:pt x="683" y="290"/>
                </a:lnTo>
                <a:lnTo>
                  <a:pt x="706" y="312"/>
                </a:lnTo>
                <a:lnTo>
                  <a:pt x="735" y="326"/>
                </a:lnTo>
                <a:lnTo>
                  <a:pt x="770" y="334"/>
                </a:lnTo>
                <a:lnTo>
                  <a:pt x="791" y="334"/>
                </a:lnTo>
                <a:lnTo>
                  <a:pt x="799" y="321"/>
                </a:lnTo>
                <a:lnTo>
                  <a:pt x="815" y="293"/>
                </a:lnTo>
                <a:lnTo>
                  <a:pt x="842" y="249"/>
                </a:lnTo>
                <a:lnTo>
                  <a:pt x="851" y="243"/>
                </a:lnTo>
                <a:lnTo>
                  <a:pt x="858" y="240"/>
                </a:lnTo>
                <a:lnTo>
                  <a:pt x="868" y="241"/>
                </a:lnTo>
                <a:lnTo>
                  <a:pt x="878" y="246"/>
                </a:lnTo>
                <a:lnTo>
                  <a:pt x="890" y="255"/>
                </a:lnTo>
                <a:lnTo>
                  <a:pt x="924" y="247"/>
                </a:lnTo>
                <a:lnTo>
                  <a:pt x="974" y="228"/>
                </a:lnTo>
                <a:lnTo>
                  <a:pt x="1006" y="201"/>
                </a:lnTo>
                <a:lnTo>
                  <a:pt x="1026" y="169"/>
                </a:lnTo>
                <a:lnTo>
                  <a:pt x="1038" y="127"/>
                </a:lnTo>
                <a:lnTo>
                  <a:pt x="1050" y="76"/>
                </a:lnTo>
                <a:lnTo>
                  <a:pt x="1058" y="46"/>
                </a:lnTo>
                <a:lnTo>
                  <a:pt x="1062" y="35"/>
                </a:lnTo>
                <a:lnTo>
                  <a:pt x="1070" y="27"/>
                </a:lnTo>
                <a:lnTo>
                  <a:pt x="1077" y="21"/>
                </a:lnTo>
                <a:lnTo>
                  <a:pt x="1087" y="16"/>
                </a:lnTo>
                <a:lnTo>
                  <a:pt x="1096" y="13"/>
                </a:lnTo>
                <a:lnTo>
                  <a:pt x="1118" y="10"/>
                </a:lnTo>
                <a:lnTo>
                  <a:pt x="1139" y="9"/>
                </a:lnTo>
                <a:lnTo>
                  <a:pt x="1160" y="10"/>
                </a:lnTo>
                <a:lnTo>
                  <a:pt x="1169" y="10"/>
                </a:lnTo>
                <a:lnTo>
                  <a:pt x="1190" y="6"/>
                </a:lnTo>
                <a:lnTo>
                  <a:pt x="1202" y="5"/>
                </a:lnTo>
                <a:lnTo>
                  <a:pt x="1207" y="6"/>
                </a:lnTo>
                <a:lnTo>
                  <a:pt x="1210" y="7"/>
                </a:lnTo>
                <a:lnTo>
                  <a:pt x="1212" y="9"/>
                </a:lnTo>
                <a:lnTo>
                  <a:pt x="1213" y="12"/>
                </a:lnTo>
                <a:lnTo>
                  <a:pt x="1214" y="14"/>
                </a:lnTo>
                <a:lnTo>
                  <a:pt x="1213" y="17"/>
                </a:lnTo>
                <a:lnTo>
                  <a:pt x="1212" y="23"/>
                </a:lnTo>
                <a:lnTo>
                  <a:pt x="1211" y="27"/>
                </a:lnTo>
                <a:lnTo>
                  <a:pt x="1210" y="29"/>
                </a:lnTo>
                <a:lnTo>
                  <a:pt x="1210" y="30"/>
                </a:lnTo>
                <a:lnTo>
                  <a:pt x="1212" y="30"/>
                </a:lnTo>
                <a:lnTo>
                  <a:pt x="1214" y="28"/>
                </a:lnTo>
                <a:lnTo>
                  <a:pt x="1223" y="21"/>
                </a:lnTo>
                <a:lnTo>
                  <a:pt x="1237" y="9"/>
                </a:lnTo>
                <a:lnTo>
                  <a:pt x="1248" y="0"/>
                </a:lnTo>
                <a:lnTo>
                  <a:pt x="1249" y="8"/>
                </a:lnTo>
                <a:lnTo>
                  <a:pt x="1253" y="16"/>
                </a:lnTo>
                <a:lnTo>
                  <a:pt x="1259" y="22"/>
                </a:lnTo>
                <a:lnTo>
                  <a:pt x="1269" y="29"/>
                </a:lnTo>
                <a:lnTo>
                  <a:pt x="1289" y="41"/>
                </a:lnTo>
                <a:lnTo>
                  <a:pt x="1312" y="50"/>
                </a:lnTo>
                <a:lnTo>
                  <a:pt x="1332" y="56"/>
                </a:lnTo>
                <a:lnTo>
                  <a:pt x="1346" y="60"/>
                </a:lnTo>
                <a:lnTo>
                  <a:pt x="1347" y="62"/>
                </a:lnTo>
                <a:lnTo>
                  <a:pt x="1354" y="70"/>
                </a:lnTo>
                <a:lnTo>
                  <a:pt x="1374" y="97"/>
                </a:lnTo>
                <a:lnTo>
                  <a:pt x="1390" y="118"/>
                </a:lnTo>
                <a:lnTo>
                  <a:pt x="1391" y="119"/>
                </a:lnTo>
                <a:lnTo>
                  <a:pt x="1402" y="130"/>
                </a:lnTo>
                <a:lnTo>
                  <a:pt x="1419" y="147"/>
                </a:lnTo>
                <a:lnTo>
                  <a:pt x="1446" y="174"/>
                </a:lnTo>
                <a:lnTo>
                  <a:pt x="1482" y="199"/>
                </a:lnTo>
                <a:lnTo>
                  <a:pt x="1496" y="206"/>
                </a:lnTo>
                <a:lnTo>
                  <a:pt x="1498" y="211"/>
                </a:lnTo>
                <a:lnTo>
                  <a:pt x="1500" y="215"/>
                </a:lnTo>
                <a:lnTo>
                  <a:pt x="1501" y="228"/>
                </a:lnTo>
                <a:lnTo>
                  <a:pt x="1501" y="255"/>
                </a:lnTo>
                <a:lnTo>
                  <a:pt x="1505" y="266"/>
                </a:lnTo>
                <a:lnTo>
                  <a:pt x="1512" y="270"/>
                </a:lnTo>
                <a:lnTo>
                  <a:pt x="1521" y="275"/>
                </a:lnTo>
                <a:lnTo>
                  <a:pt x="1535" y="289"/>
                </a:lnTo>
                <a:lnTo>
                  <a:pt x="1549" y="305"/>
                </a:lnTo>
                <a:lnTo>
                  <a:pt x="1577" y="337"/>
                </a:lnTo>
                <a:lnTo>
                  <a:pt x="1592" y="347"/>
                </a:lnTo>
                <a:lnTo>
                  <a:pt x="1635" y="372"/>
                </a:lnTo>
                <a:lnTo>
                  <a:pt x="1680" y="410"/>
                </a:lnTo>
                <a:lnTo>
                  <a:pt x="1688" y="426"/>
                </a:lnTo>
                <a:lnTo>
                  <a:pt x="1690" y="439"/>
                </a:lnTo>
                <a:lnTo>
                  <a:pt x="1690" y="448"/>
                </a:lnTo>
                <a:lnTo>
                  <a:pt x="1690" y="455"/>
                </a:lnTo>
                <a:lnTo>
                  <a:pt x="1690" y="456"/>
                </a:lnTo>
                <a:lnTo>
                  <a:pt x="1692" y="457"/>
                </a:lnTo>
                <a:lnTo>
                  <a:pt x="1693" y="458"/>
                </a:lnTo>
                <a:lnTo>
                  <a:pt x="1696" y="459"/>
                </a:lnTo>
                <a:lnTo>
                  <a:pt x="1698" y="459"/>
                </a:lnTo>
                <a:lnTo>
                  <a:pt x="1703" y="458"/>
                </a:lnTo>
                <a:lnTo>
                  <a:pt x="1723" y="455"/>
                </a:lnTo>
                <a:lnTo>
                  <a:pt x="1802" y="438"/>
                </a:lnTo>
                <a:lnTo>
                  <a:pt x="1805" y="438"/>
                </a:lnTo>
                <a:lnTo>
                  <a:pt x="1811" y="439"/>
                </a:lnTo>
                <a:lnTo>
                  <a:pt x="1827" y="441"/>
                </a:lnTo>
                <a:lnTo>
                  <a:pt x="1867" y="448"/>
                </a:lnTo>
                <a:lnTo>
                  <a:pt x="1901" y="450"/>
                </a:lnTo>
                <a:lnTo>
                  <a:pt x="1922" y="456"/>
                </a:lnTo>
                <a:lnTo>
                  <a:pt x="1965" y="463"/>
                </a:lnTo>
                <a:lnTo>
                  <a:pt x="2042" y="473"/>
                </a:lnTo>
                <a:lnTo>
                  <a:pt x="2075" y="485"/>
                </a:lnTo>
                <a:lnTo>
                  <a:pt x="2103" y="504"/>
                </a:lnTo>
                <a:lnTo>
                  <a:pt x="2116" y="518"/>
                </a:lnTo>
                <a:lnTo>
                  <a:pt x="2125" y="536"/>
                </a:lnTo>
                <a:lnTo>
                  <a:pt x="2128" y="552"/>
                </a:lnTo>
                <a:lnTo>
                  <a:pt x="2126" y="568"/>
                </a:lnTo>
                <a:lnTo>
                  <a:pt x="2122" y="586"/>
                </a:lnTo>
                <a:lnTo>
                  <a:pt x="2113" y="603"/>
                </a:lnTo>
                <a:lnTo>
                  <a:pt x="2088" y="643"/>
                </a:lnTo>
                <a:lnTo>
                  <a:pt x="2029" y="755"/>
                </a:lnTo>
                <a:lnTo>
                  <a:pt x="2018" y="791"/>
                </a:lnTo>
                <a:lnTo>
                  <a:pt x="2014" y="793"/>
                </a:lnTo>
                <a:lnTo>
                  <a:pt x="2009" y="794"/>
                </a:lnTo>
                <a:lnTo>
                  <a:pt x="1991" y="796"/>
                </a:lnTo>
                <a:lnTo>
                  <a:pt x="1945" y="800"/>
                </a:lnTo>
                <a:lnTo>
                  <a:pt x="1916" y="802"/>
                </a:lnTo>
                <a:lnTo>
                  <a:pt x="1910" y="806"/>
                </a:lnTo>
                <a:lnTo>
                  <a:pt x="1908" y="810"/>
                </a:lnTo>
                <a:lnTo>
                  <a:pt x="1906" y="814"/>
                </a:lnTo>
                <a:lnTo>
                  <a:pt x="1907" y="820"/>
                </a:lnTo>
                <a:lnTo>
                  <a:pt x="1907" y="825"/>
                </a:lnTo>
                <a:lnTo>
                  <a:pt x="1910" y="837"/>
                </a:lnTo>
                <a:lnTo>
                  <a:pt x="1911" y="848"/>
                </a:lnTo>
                <a:lnTo>
                  <a:pt x="1908" y="858"/>
                </a:lnTo>
                <a:lnTo>
                  <a:pt x="1905" y="860"/>
                </a:lnTo>
                <a:lnTo>
                  <a:pt x="1895" y="863"/>
                </a:lnTo>
                <a:lnTo>
                  <a:pt x="1881" y="866"/>
                </a:lnTo>
                <a:lnTo>
                  <a:pt x="1843" y="874"/>
                </a:lnTo>
                <a:lnTo>
                  <a:pt x="1747" y="900"/>
                </a:lnTo>
                <a:lnTo>
                  <a:pt x="1686" y="941"/>
                </a:lnTo>
                <a:lnTo>
                  <a:pt x="1684" y="947"/>
                </a:lnTo>
                <a:lnTo>
                  <a:pt x="1684" y="952"/>
                </a:lnTo>
                <a:lnTo>
                  <a:pt x="1685" y="956"/>
                </a:lnTo>
                <a:lnTo>
                  <a:pt x="1688" y="959"/>
                </a:lnTo>
                <a:lnTo>
                  <a:pt x="1692" y="961"/>
                </a:lnTo>
                <a:lnTo>
                  <a:pt x="1697" y="963"/>
                </a:lnTo>
                <a:lnTo>
                  <a:pt x="1702" y="964"/>
                </a:lnTo>
                <a:lnTo>
                  <a:pt x="1715" y="964"/>
                </a:lnTo>
                <a:lnTo>
                  <a:pt x="1746" y="959"/>
                </a:lnTo>
                <a:lnTo>
                  <a:pt x="1774" y="954"/>
                </a:lnTo>
                <a:lnTo>
                  <a:pt x="1784" y="953"/>
                </a:lnTo>
                <a:lnTo>
                  <a:pt x="1787" y="953"/>
                </a:lnTo>
                <a:lnTo>
                  <a:pt x="1789" y="954"/>
                </a:lnTo>
                <a:lnTo>
                  <a:pt x="1790" y="955"/>
                </a:lnTo>
                <a:lnTo>
                  <a:pt x="1790" y="958"/>
                </a:lnTo>
                <a:lnTo>
                  <a:pt x="1788" y="960"/>
                </a:lnTo>
                <a:lnTo>
                  <a:pt x="1786" y="963"/>
                </a:lnTo>
                <a:lnTo>
                  <a:pt x="1777" y="973"/>
                </a:lnTo>
                <a:lnTo>
                  <a:pt x="1746" y="1006"/>
                </a:lnTo>
                <a:lnTo>
                  <a:pt x="1723" y="1032"/>
                </a:lnTo>
                <a:lnTo>
                  <a:pt x="1722" y="1033"/>
                </a:lnTo>
                <a:lnTo>
                  <a:pt x="1719" y="1037"/>
                </a:lnTo>
                <a:lnTo>
                  <a:pt x="1717" y="1041"/>
                </a:lnTo>
                <a:lnTo>
                  <a:pt x="1717" y="1047"/>
                </a:lnTo>
                <a:lnTo>
                  <a:pt x="1717" y="1060"/>
                </a:lnTo>
                <a:lnTo>
                  <a:pt x="1722" y="1089"/>
                </a:lnTo>
                <a:lnTo>
                  <a:pt x="1726" y="1105"/>
                </a:lnTo>
                <a:lnTo>
                  <a:pt x="1726" y="1119"/>
                </a:lnTo>
                <a:lnTo>
                  <a:pt x="1729" y="1133"/>
                </a:lnTo>
                <a:lnTo>
                  <a:pt x="1734" y="1146"/>
                </a:lnTo>
                <a:lnTo>
                  <a:pt x="1749" y="1169"/>
                </a:lnTo>
                <a:lnTo>
                  <a:pt x="1769" y="1192"/>
                </a:lnTo>
                <a:lnTo>
                  <a:pt x="1804" y="1226"/>
                </a:lnTo>
                <a:lnTo>
                  <a:pt x="1811" y="1232"/>
                </a:lnTo>
                <a:lnTo>
                  <a:pt x="1813" y="1237"/>
                </a:lnTo>
                <a:lnTo>
                  <a:pt x="1828" y="1257"/>
                </a:lnTo>
                <a:lnTo>
                  <a:pt x="1881" y="1330"/>
                </a:lnTo>
                <a:lnTo>
                  <a:pt x="1922" y="1385"/>
                </a:lnTo>
                <a:lnTo>
                  <a:pt x="1925" y="1388"/>
                </a:lnTo>
                <a:lnTo>
                  <a:pt x="1923" y="1389"/>
                </a:lnTo>
                <a:lnTo>
                  <a:pt x="1910" y="1397"/>
                </a:lnTo>
                <a:lnTo>
                  <a:pt x="1866" y="1419"/>
                </a:lnTo>
                <a:lnTo>
                  <a:pt x="1833" y="1437"/>
                </a:lnTo>
                <a:lnTo>
                  <a:pt x="1832" y="1437"/>
                </a:lnTo>
                <a:lnTo>
                  <a:pt x="1831" y="1439"/>
                </a:lnTo>
                <a:lnTo>
                  <a:pt x="1833" y="1443"/>
                </a:lnTo>
                <a:lnTo>
                  <a:pt x="1837" y="1448"/>
                </a:lnTo>
                <a:lnTo>
                  <a:pt x="1849" y="1461"/>
                </a:lnTo>
                <a:lnTo>
                  <a:pt x="1880" y="1489"/>
                </a:lnTo>
                <a:lnTo>
                  <a:pt x="1895" y="1500"/>
                </a:lnTo>
                <a:lnTo>
                  <a:pt x="1890" y="1501"/>
                </a:lnTo>
                <a:lnTo>
                  <a:pt x="1872" y="1503"/>
                </a:lnTo>
                <a:lnTo>
                  <a:pt x="1819" y="1509"/>
                </a:lnTo>
                <a:lnTo>
                  <a:pt x="1796" y="1514"/>
                </a:lnTo>
                <a:lnTo>
                  <a:pt x="1787" y="1517"/>
                </a:lnTo>
                <a:lnTo>
                  <a:pt x="1781" y="1521"/>
                </a:lnTo>
                <a:lnTo>
                  <a:pt x="1778" y="1524"/>
                </a:lnTo>
                <a:lnTo>
                  <a:pt x="1778" y="1526"/>
                </a:lnTo>
                <a:lnTo>
                  <a:pt x="1781" y="1539"/>
                </a:lnTo>
                <a:lnTo>
                  <a:pt x="1787" y="1585"/>
                </a:lnTo>
                <a:lnTo>
                  <a:pt x="1791" y="1621"/>
                </a:lnTo>
                <a:lnTo>
                  <a:pt x="1792" y="1622"/>
                </a:lnTo>
                <a:lnTo>
                  <a:pt x="1793" y="1624"/>
                </a:lnTo>
                <a:lnTo>
                  <a:pt x="1805" y="1636"/>
                </a:lnTo>
                <a:lnTo>
                  <a:pt x="1847" y="1678"/>
                </a:lnTo>
                <a:lnTo>
                  <a:pt x="1878" y="1710"/>
                </a:lnTo>
                <a:lnTo>
                  <a:pt x="1880" y="1711"/>
                </a:lnTo>
                <a:lnTo>
                  <a:pt x="1881" y="1711"/>
                </a:lnTo>
                <a:lnTo>
                  <a:pt x="1890" y="1711"/>
                </a:lnTo>
                <a:lnTo>
                  <a:pt x="1919" y="1708"/>
                </a:lnTo>
                <a:lnTo>
                  <a:pt x="1940" y="1706"/>
                </a:lnTo>
                <a:lnTo>
                  <a:pt x="1942" y="1705"/>
                </a:lnTo>
                <a:lnTo>
                  <a:pt x="1937" y="1706"/>
                </a:lnTo>
                <a:lnTo>
                  <a:pt x="1931" y="1709"/>
                </a:lnTo>
                <a:lnTo>
                  <a:pt x="1924" y="1714"/>
                </a:lnTo>
                <a:lnTo>
                  <a:pt x="1909" y="1729"/>
                </a:lnTo>
                <a:lnTo>
                  <a:pt x="1873" y="1769"/>
                </a:lnTo>
                <a:lnTo>
                  <a:pt x="1797" y="1865"/>
                </a:lnTo>
                <a:lnTo>
                  <a:pt x="1747" y="1908"/>
                </a:lnTo>
                <a:lnTo>
                  <a:pt x="1715" y="1911"/>
                </a:lnTo>
                <a:lnTo>
                  <a:pt x="1666" y="1910"/>
                </a:lnTo>
                <a:lnTo>
                  <a:pt x="1602" y="1891"/>
                </a:lnTo>
                <a:lnTo>
                  <a:pt x="1540" y="1843"/>
                </a:lnTo>
                <a:lnTo>
                  <a:pt x="1520" y="1825"/>
                </a:lnTo>
                <a:lnTo>
                  <a:pt x="1518" y="1826"/>
                </a:lnTo>
                <a:lnTo>
                  <a:pt x="1506" y="1828"/>
                </a:lnTo>
                <a:lnTo>
                  <a:pt x="1466" y="1838"/>
                </a:lnTo>
                <a:lnTo>
                  <a:pt x="1436" y="1844"/>
                </a:lnTo>
                <a:lnTo>
                  <a:pt x="1435" y="1844"/>
                </a:lnTo>
                <a:lnTo>
                  <a:pt x="1431" y="1843"/>
                </a:lnTo>
                <a:lnTo>
                  <a:pt x="1404" y="1833"/>
                </a:lnTo>
                <a:lnTo>
                  <a:pt x="1314" y="1796"/>
                </a:lnTo>
                <a:lnTo>
                  <a:pt x="1244" y="1768"/>
                </a:lnTo>
                <a:lnTo>
                  <a:pt x="1241" y="1766"/>
                </a:lnTo>
                <a:lnTo>
                  <a:pt x="1211" y="1783"/>
                </a:lnTo>
                <a:lnTo>
                  <a:pt x="1186" y="1801"/>
                </a:lnTo>
                <a:lnTo>
                  <a:pt x="1168" y="1821"/>
                </a:lnTo>
                <a:lnTo>
                  <a:pt x="1155" y="1844"/>
                </a:lnTo>
                <a:lnTo>
                  <a:pt x="1146" y="1867"/>
                </a:lnTo>
                <a:lnTo>
                  <a:pt x="1139" y="1917"/>
                </a:lnTo>
                <a:lnTo>
                  <a:pt x="1145" y="1967"/>
                </a:lnTo>
                <a:lnTo>
                  <a:pt x="1156" y="2013"/>
                </a:lnTo>
                <a:lnTo>
                  <a:pt x="1164" y="2032"/>
                </a:lnTo>
                <a:lnTo>
                  <a:pt x="1161" y="2032"/>
                </a:lnTo>
                <a:lnTo>
                  <a:pt x="1142" y="2029"/>
                </a:lnTo>
                <a:lnTo>
                  <a:pt x="1071" y="2018"/>
                </a:lnTo>
                <a:lnTo>
                  <a:pt x="987" y="2005"/>
                </a:lnTo>
                <a:lnTo>
                  <a:pt x="970" y="2002"/>
                </a:lnTo>
                <a:lnTo>
                  <a:pt x="956" y="2002"/>
                </a:lnTo>
                <a:lnTo>
                  <a:pt x="941" y="1997"/>
                </a:lnTo>
                <a:lnTo>
                  <a:pt x="923" y="1988"/>
                </a:lnTo>
                <a:lnTo>
                  <a:pt x="882" y="1964"/>
                </a:lnTo>
                <a:lnTo>
                  <a:pt x="800" y="1903"/>
                </a:lnTo>
                <a:lnTo>
                  <a:pt x="759" y="1866"/>
                </a:lnTo>
                <a:lnTo>
                  <a:pt x="756" y="1864"/>
                </a:lnTo>
                <a:lnTo>
                  <a:pt x="754" y="1863"/>
                </a:lnTo>
                <a:lnTo>
                  <a:pt x="752" y="1863"/>
                </a:lnTo>
                <a:lnTo>
                  <a:pt x="748" y="1864"/>
                </a:lnTo>
                <a:lnTo>
                  <a:pt x="745" y="1865"/>
                </a:lnTo>
                <a:lnTo>
                  <a:pt x="734" y="1869"/>
                </a:lnTo>
                <a:lnTo>
                  <a:pt x="710" y="1882"/>
                </a:lnTo>
                <a:lnTo>
                  <a:pt x="660" y="1909"/>
                </a:lnTo>
                <a:lnTo>
                  <a:pt x="641" y="1909"/>
                </a:lnTo>
                <a:lnTo>
                  <a:pt x="638" y="1908"/>
                </a:lnTo>
                <a:lnTo>
                  <a:pt x="627" y="1897"/>
                </a:lnTo>
                <a:lnTo>
                  <a:pt x="585" y="1857"/>
                </a:lnTo>
                <a:lnTo>
                  <a:pt x="554" y="1827"/>
                </a:lnTo>
                <a:lnTo>
                  <a:pt x="553" y="1825"/>
                </a:lnTo>
                <a:lnTo>
                  <a:pt x="550" y="1826"/>
                </a:lnTo>
                <a:lnTo>
                  <a:pt x="543" y="1830"/>
                </a:lnTo>
                <a:lnTo>
                  <a:pt x="515" y="1839"/>
                </a:lnTo>
                <a:lnTo>
                  <a:pt x="495" y="1846"/>
                </a:lnTo>
                <a:lnTo>
                  <a:pt x="494" y="1846"/>
                </a:lnTo>
                <a:lnTo>
                  <a:pt x="476" y="1833"/>
                </a:lnTo>
                <a:lnTo>
                  <a:pt x="444" y="1812"/>
                </a:lnTo>
                <a:lnTo>
                  <a:pt x="392" y="1780"/>
                </a:lnTo>
                <a:lnTo>
                  <a:pt x="374" y="1761"/>
                </a:lnTo>
                <a:lnTo>
                  <a:pt x="364" y="1737"/>
                </a:lnTo>
                <a:lnTo>
                  <a:pt x="363" y="1722"/>
                </a:lnTo>
                <a:lnTo>
                  <a:pt x="360" y="1718"/>
                </a:lnTo>
                <a:lnTo>
                  <a:pt x="356" y="1716"/>
                </a:lnTo>
                <a:lnTo>
                  <a:pt x="348" y="1711"/>
                </a:lnTo>
                <a:lnTo>
                  <a:pt x="321" y="1701"/>
                </a:lnTo>
                <a:lnTo>
                  <a:pt x="258" y="1682"/>
                </a:lnTo>
                <a:lnTo>
                  <a:pt x="229" y="1678"/>
                </a:lnTo>
                <a:lnTo>
                  <a:pt x="242" y="1667"/>
                </a:lnTo>
                <a:lnTo>
                  <a:pt x="254" y="1655"/>
                </a:lnTo>
                <a:lnTo>
                  <a:pt x="247" y="1661"/>
                </a:lnTo>
                <a:lnTo>
                  <a:pt x="230" y="1677"/>
                </a:lnTo>
                <a:lnTo>
                  <a:pt x="229" y="1678"/>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73"/>
          <p:cNvSpPr/>
          <p:nvPr/>
        </p:nvSpPr>
        <p:spPr>
          <a:xfrm>
            <a:off x="2797200" y="5438880"/>
            <a:ext cx="150840" cy="296640"/>
          </a:xfrm>
          <a:custGeom>
            <a:avLst/>
            <a:gdLst>
              <a:gd name="textAreaLeft" fmla="*/ 0 w 150840"/>
              <a:gd name="textAreaRight" fmla="*/ 151200 w 150840"/>
              <a:gd name="textAreaTop" fmla="*/ 0 h 296640"/>
              <a:gd name="textAreaBottom" fmla="*/ 297000 h 296640"/>
            </a:gdLst>
            <a:ahLst/>
            <a:rect l="textAreaLeft" t="textAreaTop" r="textAreaRight" b="textAreaBottom"/>
            <a:pathLst>
              <a:path w="191" h="373">
                <a:moveTo>
                  <a:pt x="13" y="125"/>
                </a:moveTo>
                <a:lnTo>
                  <a:pt x="17" y="117"/>
                </a:lnTo>
                <a:lnTo>
                  <a:pt x="35" y="97"/>
                </a:lnTo>
                <a:lnTo>
                  <a:pt x="85" y="51"/>
                </a:lnTo>
                <a:lnTo>
                  <a:pt x="134" y="10"/>
                </a:lnTo>
                <a:lnTo>
                  <a:pt x="144" y="0"/>
                </a:lnTo>
                <a:lnTo>
                  <a:pt x="162" y="24"/>
                </a:lnTo>
                <a:lnTo>
                  <a:pt x="175" y="52"/>
                </a:lnTo>
                <a:lnTo>
                  <a:pt x="184" y="85"/>
                </a:lnTo>
                <a:lnTo>
                  <a:pt x="191" y="160"/>
                </a:lnTo>
                <a:lnTo>
                  <a:pt x="182" y="237"/>
                </a:lnTo>
                <a:lnTo>
                  <a:pt x="162" y="307"/>
                </a:lnTo>
                <a:lnTo>
                  <a:pt x="130" y="358"/>
                </a:lnTo>
                <a:lnTo>
                  <a:pt x="110" y="373"/>
                </a:lnTo>
                <a:lnTo>
                  <a:pt x="85" y="365"/>
                </a:lnTo>
                <a:lnTo>
                  <a:pt x="44" y="342"/>
                </a:lnTo>
                <a:lnTo>
                  <a:pt x="17" y="309"/>
                </a:lnTo>
                <a:lnTo>
                  <a:pt x="3" y="268"/>
                </a:lnTo>
                <a:lnTo>
                  <a:pt x="0" y="219"/>
                </a:lnTo>
                <a:lnTo>
                  <a:pt x="6" y="158"/>
                </a:lnTo>
                <a:lnTo>
                  <a:pt x="13" y="125"/>
                </a:lnTo>
                <a:lnTo>
                  <a:pt x="16" y="119"/>
                </a:lnTo>
                <a:lnTo>
                  <a:pt x="19" y="113"/>
                </a:lnTo>
                <a:lnTo>
                  <a:pt x="17" y="116"/>
                </a:lnTo>
                <a:lnTo>
                  <a:pt x="13" y="125"/>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74"/>
          <p:cNvSpPr/>
          <p:nvPr/>
        </p:nvSpPr>
        <p:spPr>
          <a:xfrm>
            <a:off x="1122480" y="3902040"/>
            <a:ext cx="1687320" cy="1612800"/>
          </a:xfrm>
          <a:custGeom>
            <a:avLst/>
            <a:gdLst>
              <a:gd name="textAreaLeft" fmla="*/ 0 w 1687320"/>
              <a:gd name="textAreaRight" fmla="*/ 1687680 w 1687320"/>
              <a:gd name="textAreaTop" fmla="*/ 0 h 1612800"/>
              <a:gd name="textAreaBottom" fmla="*/ 1613160 h 1612800"/>
            </a:gdLst>
            <a:ahLst/>
            <a:rect l="textAreaLeft" t="textAreaTop" r="textAreaRight" b="textAreaBottom"/>
            <a:pathLst>
              <a:path w="2128" h="2032">
                <a:moveTo>
                  <a:pt x="229" y="1678"/>
                </a:moveTo>
                <a:lnTo>
                  <a:pt x="244" y="1664"/>
                </a:lnTo>
                <a:lnTo>
                  <a:pt x="278" y="1634"/>
                </a:lnTo>
                <a:lnTo>
                  <a:pt x="348" y="1569"/>
                </a:lnTo>
                <a:lnTo>
                  <a:pt x="402" y="1501"/>
                </a:lnTo>
                <a:lnTo>
                  <a:pt x="412" y="1485"/>
                </a:lnTo>
                <a:lnTo>
                  <a:pt x="413" y="1477"/>
                </a:lnTo>
                <a:lnTo>
                  <a:pt x="416" y="1460"/>
                </a:lnTo>
                <a:lnTo>
                  <a:pt x="429" y="1405"/>
                </a:lnTo>
                <a:lnTo>
                  <a:pt x="470" y="1266"/>
                </a:lnTo>
                <a:lnTo>
                  <a:pt x="511" y="1174"/>
                </a:lnTo>
                <a:lnTo>
                  <a:pt x="494" y="1141"/>
                </a:lnTo>
                <a:lnTo>
                  <a:pt x="471" y="1083"/>
                </a:lnTo>
                <a:lnTo>
                  <a:pt x="445" y="986"/>
                </a:lnTo>
                <a:lnTo>
                  <a:pt x="400" y="891"/>
                </a:lnTo>
                <a:lnTo>
                  <a:pt x="380" y="864"/>
                </a:lnTo>
                <a:lnTo>
                  <a:pt x="390" y="844"/>
                </a:lnTo>
                <a:lnTo>
                  <a:pt x="404" y="819"/>
                </a:lnTo>
                <a:lnTo>
                  <a:pt x="407" y="811"/>
                </a:lnTo>
                <a:lnTo>
                  <a:pt x="408" y="806"/>
                </a:lnTo>
                <a:lnTo>
                  <a:pt x="407" y="804"/>
                </a:lnTo>
                <a:lnTo>
                  <a:pt x="406" y="802"/>
                </a:lnTo>
                <a:lnTo>
                  <a:pt x="405" y="801"/>
                </a:lnTo>
                <a:lnTo>
                  <a:pt x="402" y="800"/>
                </a:lnTo>
                <a:lnTo>
                  <a:pt x="396" y="796"/>
                </a:lnTo>
                <a:lnTo>
                  <a:pt x="376" y="788"/>
                </a:lnTo>
                <a:lnTo>
                  <a:pt x="347" y="770"/>
                </a:lnTo>
                <a:lnTo>
                  <a:pt x="336" y="753"/>
                </a:lnTo>
                <a:lnTo>
                  <a:pt x="307" y="708"/>
                </a:lnTo>
                <a:lnTo>
                  <a:pt x="220" y="614"/>
                </a:lnTo>
                <a:lnTo>
                  <a:pt x="167" y="584"/>
                </a:lnTo>
                <a:lnTo>
                  <a:pt x="139" y="576"/>
                </a:lnTo>
                <a:lnTo>
                  <a:pt x="110" y="575"/>
                </a:lnTo>
                <a:lnTo>
                  <a:pt x="82" y="583"/>
                </a:lnTo>
                <a:lnTo>
                  <a:pt x="73" y="578"/>
                </a:lnTo>
                <a:lnTo>
                  <a:pt x="58" y="569"/>
                </a:lnTo>
                <a:lnTo>
                  <a:pt x="28" y="543"/>
                </a:lnTo>
                <a:lnTo>
                  <a:pt x="5" y="513"/>
                </a:lnTo>
                <a:lnTo>
                  <a:pt x="0" y="505"/>
                </a:lnTo>
                <a:lnTo>
                  <a:pt x="5" y="505"/>
                </a:lnTo>
                <a:lnTo>
                  <a:pt x="11" y="503"/>
                </a:lnTo>
                <a:lnTo>
                  <a:pt x="25" y="497"/>
                </a:lnTo>
                <a:lnTo>
                  <a:pt x="57" y="483"/>
                </a:lnTo>
                <a:lnTo>
                  <a:pt x="82" y="473"/>
                </a:lnTo>
                <a:lnTo>
                  <a:pt x="78" y="466"/>
                </a:lnTo>
                <a:lnTo>
                  <a:pt x="70" y="455"/>
                </a:lnTo>
                <a:lnTo>
                  <a:pt x="60" y="448"/>
                </a:lnTo>
                <a:lnTo>
                  <a:pt x="51" y="442"/>
                </a:lnTo>
                <a:lnTo>
                  <a:pt x="39" y="437"/>
                </a:lnTo>
                <a:lnTo>
                  <a:pt x="25" y="431"/>
                </a:lnTo>
                <a:lnTo>
                  <a:pt x="17" y="427"/>
                </a:lnTo>
                <a:lnTo>
                  <a:pt x="17" y="423"/>
                </a:lnTo>
                <a:lnTo>
                  <a:pt x="20" y="418"/>
                </a:lnTo>
                <a:lnTo>
                  <a:pt x="22" y="413"/>
                </a:lnTo>
                <a:lnTo>
                  <a:pt x="29" y="403"/>
                </a:lnTo>
                <a:lnTo>
                  <a:pt x="45" y="386"/>
                </a:lnTo>
                <a:lnTo>
                  <a:pt x="51" y="381"/>
                </a:lnTo>
                <a:lnTo>
                  <a:pt x="65" y="384"/>
                </a:lnTo>
                <a:lnTo>
                  <a:pt x="102" y="387"/>
                </a:lnTo>
                <a:lnTo>
                  <a:pt x="204" y="386"/>
                </a:lnTo>
                <a:lnTo>
                  <a:pt x="308" y="382"/>
                </a:lnTo>
                <a:lnTo>
                  <a:pt x="331" y="381"/>
                </a:lnTo>
                <a:lnTo>
                  <a:pt x="334" y="385"/>
                </a:lnTo>
                <a:lnTo>
                  <a:pt x="342" y="395"/>
                </a:lnTo>
                <a:lnTo>
                  <a:pt x="359" y="417"/>
                </a:lnTo>
                <a:lnTo>
                  <a:pt x="376" y="438"/>
                </a:lnTo>
                <a:lnTo>
                  <a:pt x="380" y="442"/>
                </a:lnTo>
                <a:lnTo>
                  <a:pt x="392" y="443"/>
                </a:lnTo>
                <a:lnTo>
                  <a:pt x="419" y="445"/>
                </a:lnTo>
                <a:lnTo>
                  <a:pt x="472" y="452"/>
                </a:lnTo>
                <a:lnTo>
                  <a:pt x="518" y="458"/>
                </a:lnTo>
                <a:lnTo>
                  <a:pt x="528" y="458"/>
                </a:lnTo>
                <a:lnTo>
                  <a:pt x="538" y="448"/>
                </a:lnTo>
                <a:lnTo>
                  <a:pt x="550" y="430"/>
                </a:lnTo>
                <a:lnTo>
                  <a:pt x="555" y="414"/>
                </a:lnTo>
                <a:lnTo>
                  <a:pt x="555" y="399"/>
                </a:lnTo>
                <a:lnTo>
                  <a:pt x="555" y="382"/>
                </a:lnTo>
                <a:lnTo>
                  <a:pt x="557" y="361"/>
                </a:lnTo>
                <a:lnTo>
                  <a:pt x="561" y="349"/>
                </a:lnTo>
                <a:lnTo>
                  <a:pt x="548" y="338"/>
                </a:lnTo>
                <a:lnTo>
                  <a:pt x="530" y="313"/>
                </a:lnTo>
                <a:lnTo>
                  <a:pt x="518" y="285"/>
                </a:lnTo>
                <a:lnTo>
                  <a:pt x="514" y="259"/>
                </a:lnTo>
                <a:lnTo>
                  <a:pt x="518" y="231"/>
                </a:lnTo>
                <a:lnTo>
                  <a:pt x="532" y="206"/>
                </a:lnTo>
                <a:lnTo>
                  <a:pt x="544" y="193"/>
                </a:lnTo>
                <a:lnTo>
                  <a:pt x="559" y="202"/>
                </a:lnTo>
                <a:lnTo>
                  <a:pt x="579" y="216"/>
                </a:lnTo>
                <a:lnTo>
                  <a:pt x="592" y="223"/>
                </a:lnTo>
                <a:lnTo>
                  <a:pt x="603" y="225"/>
                </a:lnTo>
                <a:lnTo>
                  <a:pt x="618" y="222"/>
                </a:lnTo>
                <a:lnTo>
                  <a:pt x="642" y="215"/>
                </a:lnTo>
                <a:lnTo>
                  <a:pt x="660" y="209"/>
                </a:lnTo>
                <a:lnTo>
                  <a:pt x="660" y="228"/>
                </a:lnTo>
                <a:lnTo>
                  <a:pt x="668" y="262"/>
                </a:lnTo>
                <a:lnTo>
                  <a:pt x="683" y="290"/>
                </a:lnTo>
                <a:lnTo>
                  <a:pt x="706" y="312"/>
                </a:lnTo>
                <a:lnTo>
                  <a:pt x="735" y="326"/>
                </a:lnTo>
                <a:lnTo>
                  <a:pt x="770" y="334"/>
                </a:lnTo>
                <a:lnTo>
                  <a:pt x="791" y="334"/>
                </a:lnTo>
                <a:lnTo>
                  <a:pt x="799" y="321"/>
                </a:lnTo>
                <a:lnTo>
                  <a:pt x="815" y="293"/>
                </a:lnTo>
                <a:lnTo>
                  <a:pt x="842" y="249"/>
                </a:lnTo>
                <a:lnTo>
                  <a:pt x="851" y="243"/>
                </a:lnTo>
                <a:lnTo>
                  <a:pt x="858" y="240"/>
                </a:lnTo>
                <a:lnTo>
                  <a:pt x="868" y="241"/>
                </a:lnTo>
                <a:lnTo>
                  <a:pt x="878" y="246"/>
                </a:lnTo>
                <a:lnTo>
                  <a:pt x="890" y="255"/>
                </a:lnTo>
                <a:lnTo>
                  <a:pt x="924" y="247"/>
                </a:lnTo>
                <a:lnTo>
                  <a:pt x="974" y="228"/>
                </a:lnTo>
                <a:lnTo>
                  <a:pt x="1006" y="201"/>
                </a:lnTo>
                <a:lnTo>
                  <a:pt x="1026" y="169"/>
                </a:lnTo>
                <a:lnTo>
                  <a:pt x="1038" y="127"/>
                </a:lnTo>
                <a:lnTo>
                  <a:pt x="1050" y="76"/>
                </a:lnTo>
                <a:lnTo>
                  <a:pt x="1058" y="46"/>
                </a:lnTo>
                <a:lnTo>
                  <a:pt x="1062" y="35"/>
                </a:lnTo>
                <a:lnTo>
                  <a:pt x="1070" y="27"/>
                </a:lnTo>
                <a:lnTo>
                  <a:pt x="1077" y="21"/>
                </a:lnTo>
                <a:lnTo>
                  <a:pt x="1087" y="16"/>
                </a:lnTo>
                <a:lnTo>
                  <a:pt x="1096" y="13"/>
                </a:lnTo>
                <a:lnTo>
                  <a:pt x="1118" y="10"/>
                </a:lnTo>
                <a:lnTo>
                  <a:pt x="1139" y="9"/>
                </a:lnTo>
                <a:lnTo>
                  <a:pt x="1160" y="10"/>
                </a:lnTo>
                <a:lnTo>
                  <a:pt x="1169" y="10"/>
                </a:lnTo>
                <a:lnTo>
                  <a:pt x="1190" y="6"/>
                </a:lnTo>
                <a:lnTo>
                  <a:pt x="1202" y="5"/>
                </a:lnTo>
                <a:lnTo>
                  <a:pt x="1207" y="6"/>
                </a:lnTo>
                <a:lnTo>
                  <a:pt x="1210" y="7"/>
                </a:lnTo>
                <a:lnTo>
                  <a:pt x="1212" y="9"/>
                </a:lnTo>
                <a:lnTo>
                  <a:pt x="1213" y="12"/>
                </a:lnTo>
                <a:lnTo>
                  <a:pt x="1214" y="14"/>
                </a:lnTo>
                <a:lnTo>
                  <a:pt x="1213" y="17"/>
                </a:lnTo>
                <a:lnTo>
                  <a:pt x="1212" y="23"/>
                </a:lnTo>
                <a:lnTo>
                  <a:pt x="1211" y="27"/>
                </a:lnTo>
                <a:lnTo>
                  <a:pt x="1210" y="29"/>
                </a:lnTo>
                <a:lnTo>
                  <a:pt x="1210" y="30"/>
                </a:lnTo>
                <a:lnTo>
                  <a:pt x="1212" y="30"/>
                </a:lnTo>
                <a:lnTo>
                  <a:pt x="1214" y="28"/>
                </a:lnTo>
                <a:lnTo>
                  <a:pt x="1223" y="21"/>
                </a:lnTo>
                <a:lnTo>
                  <a:pt x="1237" y="9"/>
                </a:lnTo>
                <a:lnTo>
                  <a:pt x="1248" y="0"/>
                </a:lnTo>
                <a:lnTo>
                  <a:pt x="1249" y="8"/>
                </a:lnTo>
                <a:lnTo>
                  <a:pt x="1253" y="16"/>
                </a:lnTo>
                <a:lnTo>
                  <a:pt x="1259" y="22"/>
                </a:lnTo>
                <a:lnTo>
                  <a:pt x="1269" y="29"/>
                </a:lnTo>
                <a:lnTo>
                  <a:pt x="1289" y="41"/>
                </a:lnTo>
                <a:lnTo>
                  <a:pt x="1312" y="50"/>
                </a:lnTo>
                <a:lnTo>
                  <a:pt x="1332" y="56"/>
                </a:lnTo>
                <a:lnTo>
                  <a:pt x="1346" y="60"/>
                </a:lnTo>
                <a:lnTo>
                  <a:pt x="1347" y="62"/>
                </a:lnTo>
                <a:lnTo>
                  <a:pt x="1354" y="70"/>
                </a:lnTo>
                <a:lnTo>
                  <a:pt x="1374" y="97"/>
                </a:lnTo>
                <a:lnTo>
                  <a:pt x="1390" y="118"/>
                </a:lnTo>
                <a:lnTo>
                  <a:pt x="1391" y="119"/>
                </a:lnTo>
                <a:lnTo>
                  <a:pt x="1402" y="130"/>
                </a:lnTo>
                <a:lnTo>
                  <a:pt x="1419" y="147"/>
                </a:lnTo>
                <a:lnTo>
                  <a:pt x="1446" y="174"/>
                </a:lnTo>
                <a:lnTo>
                  <a:pt x="1482" y="199"/>
                </a:lnTo>
                <a:lnTo>
                  <a:pt x="1496" y="206"/>
                </a:lnTo>
                <a:lnTo>
                  <a:pt x="1498" y="211"/>
                </a:lnTo>
                <a:lnTo>
                  <a:pt x="1500" y="215"/>
                </a:lnTo>
                <a:lnTo>
                  <a:pt x="1501" y="228"/>
                </a:lnTo>
                <a:lnTo>
                  <a:pt x="1501" y="255"/>
                </a:lnTo>
                <a:lnTo>
                  <a:pt x="1505" y="266"/>
                </a:lnTo>
                <a:lnTo>
                  <a:pt x="1512" y="270"/>
                </a:lnTo>
                <a:lnTo>
                  <a:pt x="1521" y="275"/>
                </a:lnTo>
                <a:lnTo>
                  <a:pt x="1535" y="289"/>
                </a:lnTo>
                <a:lnTo>
                  <a:pt x="1549" y="305"/>
                </a:lnTo>
                <a:lnTo>
                  <a:pt x="1577" y="337"/>
                </a:lnTo>
                <a:lnTo>
                  <a:pt x="1592" y="347"/>
                </a:lnTo>
                <a:lnTo>
                  <a:pt x="1635" y="372"/>
                </a:lnTo>
                <a:lnTo>
                  <a:pt x="1680" y="410"/>
                </a:lnTo>
                <a:lnTo>
                  <a:pt x="1688" y="426"/>
                </a:lnTo>
                <a:lnTo>
                  <a:pt x="1690" y="439"/>
                </a:lnTo>
                <a:lnTo>
                  <a:pt x="1690" y="448"/>
                </a:lnTo>
                <a:lnTo>
                  <a:pt x="1690" y="455"/>
                </a:lnTo>
                <a:lnTo>
                  <a:pt x="1690" y="456"/>
                </a:lnTo>
                <a:lnTo>
                  <a:pt x="1692" y="457"/>
                </a:lnTo>
                <a:lnTo>
                  <a:pt x="1693" y="458"/>
                </a:lnTo>
                <a:lnTo>
                  <a:pt x="1696" y="459"/>
                </a:lnTo>
                <a:lnTo>
                  <a:pt x="1698" y="459"/>
                </a:lnTo>
                <a:lnTo>
                  <a:pt x="1703" y="458"/>
                </a:lnTo>
                <a:lnTo>
                  <a:pt x="1723" y="455"/>
                </a:lnTo>
                <a:lnTo>
                  <a:pt x="1802" y="438"/>
                </a:lnTo>
                <a:lnTo>
                  <a:pt x="1805" y="438"/>
                </a:lnTo>
                <a:lnTo>
                  <a:pt x="1811" y="439"/>
                </a:lnTo>
                <a:lnTo>
                  <a:pt x="1827" y="441"/>
                </a:lnTo>
                <a:lnTo>
                  <a:pt x="1867" y="448"/>
                </a:lnTo>
                <a:lnTo>
                  <a:pt x="1901" y="450"/>
                </a:lnTo>
                <a:lnTo>
                  <a:pt x="1922" y="456"/>
                </a:lnTo>
                <a:lnTo>
                  <a:pt x="1965" y="463"/>
                </a:lnTo>
                <a:lnTo>
                  <a:pt x="2042" y="473"/>
                </a:lnTo>
                <a:lnTo>
                  <a:pt x="2075" y="485"/>
                </a:lnTo>
                <a:lnTo>
                  <a:pt x="2103" y="504"/>
                </a:lnTo>
                <a:lnTo>
                  <a:pt x="2116" y="518"/>
                </a:lnTo>
                <a:lnTo>
                  <a:pt x="2125" y="536"/>
                </a:lnTo>
                <a:lnTo>
                  <a:pt x="2128" y="552"/>
                </a:lnTo>
                <a:lnTo>
                  <a:pt x="2126" y="568"/>
                </a:lnTo>
                <a:lnTo>
                  <a:pt x="2122" y="586"/>
                </a:lnTo>
                <a:lnTo>
                  <a:pt x="2113" y="603"/>
                </a:lnTo>
                <a:lnTo>
                  <a:pt x="2088" y="643"/>
                </a:lnTo>
                <a:lnTo>
                  <a:pt x="2029" y="755"/>
                </a:lnTo>
                <a:lnTo>
                  <a:pt x="2018" y="791"/>
                </a:lnTo>
                <a:lnTo>
                  <a:pt x="2014" y="793"/>
                </a:lnTo>
                <a:lnTo>
                  <a:pt x="2009" y="794"/>
                </a:lnTo>
                <a:lnTo>
                  <a:pt x="1991" y="796"/>
                </a:lnTo>
                <a:lnTo>
                  <a:pt x="1945" y="800"/>
                </a:lnTo>
                <a:lnTo>
                  <a:pt x="1916" y="802"/>
                </a:lnTo>
                <a:lnTo>
                  <a:pt x="1910" y="806"/>
                </a:lnTo>
                <a:lnTo>
                  <a:pt x="1908" y="810"/>
                </a:lnTo>
                <a:lnTo>
                  <a:pt x="1906" y="814"/>
                </a:lnTo>
                <a:lnTo>
                  <a:pt x="1907" y="820"/>
                </a:lnTo>
                <a:lnTo>
                  <a:pt x="1907" y="825"/>
                </a:lnTo>
                <a:lnTo>
                  <a:pt x="1910" y="837"/>
                </a:lnTo>
                <a:lnTo>
                  <a:pt x="1911" y="848"/>
                </a:lnTo>
                <a:lnTo>
                  <a:pt x="1908" y="858"/>
                </a:lnTo>
                <a:lnTo>
                  <a:pt x="1905" y="860"/>
                </a:lnTo>
                <a:lnTo>
                  <a:pt x="1895" y="863"/>
                </a:lnTo>
                <a:lnTo>
                  <a:pt x="1881" y="866"/>
                </a:lnTo>
                <a:lnTo>
                  <a:pt x="1843" y="874"/>
                </a:lnTo>
                <a:lnTo>
                  <a:pt x="1747" y="900"/>
                </a:lnTo>
                <a:lnTo>
                  <a:pt x="1686" y="941"/>
                </a:lnTo>
                <a:lnTo>
                  <a:pt x="1684" y="947"/>
                </a:lnTo>
                <a:lnTo>
                  <a:pt x="1684" y="952"/>
                </a:lnTo>
                <a:lnTo>
                  <a:pt x="1685" y="956"/>
                </a:lnTo>
                <a:lnTo>
                  <a:pt x="1688" y="959"/>
                </a:lnTo>
                <a:lnTo>
                  <a:pt x="1692" y="961"/>
                </a:lnTo>
                <a:lnTo>
                  <a:pt x="1697" y="963"/>
                </a:lnTo>
                <a:lnTo>
                  <a:pt x="1702" y="964"/>
                </a:lnTo>
                <a:lnTo>
                  <a:pt x="1715" y="964"/>
                </a:lnTo>
                <a:lnTo>
                  <a:pt x="1746" y="959"/>
                </a:lnTo>
                <a:lnTo>
                  <a:pt x="1774" y="954"/>
                </a:lnTo>
                <a:lnTo>
                  <a:pt x="1784" y="953"/>
                </a:lnTo>
                <a:lnTo>
                  <a:pt x="1787" y="953"/>
                </a:lnTo>
                <a:lnTo>
                  <a:pt x="1789" y="954"/>
                </a:lnTo>
                <a:lnTo>
                  <a:pt x="1790" y="955"/>
                </a:lnTo>
                <a:lnTo>
                  <a:pt x="1790" y="958"/>
                </a:lnTo>
                <a:lnTo>
                  <a:pt x="1788" y="960"/>
                </a:lnTo>
                <a:lnTo>
                  <a:pt x="1786" y="963"/>
                </a:lnTo>
                <a:lnTo>
                  <a:pt x="1777" y="973"/>
                </a:lnTo>
                <a:lnTo>
                  <a:pt x="1746" y="1006"/>
                </a:lnTo>
                <a:lnTo>
                  <a:pt x="1723" y="1032"/>
                </a:lnTo>
                <a:lnTo>
                  <a:pt x="1722" y="1033"/>
                </a:lnTo>
                <a:lnTo>
                  <a:pt x="1719" y="1037"/>
                </a:lnTo>
                <a:lnTo>
                  <a:pt x="1717" y="1041"/>
                </a:lnTo>
                <a:lnTo>
                  <a:pt x="1717" y="1047"/>
                </a:lnTo>
                <a:lnTo>
                  <a:pt x="1717" y="1060"/>
                </a:lnTo>
                <a:lnTo>
                  <a:pt x="1722" y="1089"/>
                </a:lnTo>
                <a:lnTo>
                  <a:pt x="1726" y="1105"/>
                </a:lnTo>
                <a:lnTo>
                  <a:pt x="1726" y="1119"/>
                </a:lnTo>
                <a:lnTo>
                  <a:pt x="1729" y="1133"/>
                </a:lnTo>
                <a:lnTo>
                  <a:pt x="1734" y="1146"/>
                </a:lnTo>
                <a:lnTo>
                  <a:pt x="1749" y="1169"/>
                </a:lnTo>
                <a:lnTo>
                  <a:pt x="1769" y="1192"/>
                </a:lnTo>
                <a:lnTo>
                  <a:pt x="1804" y="1226"/>
                </a:lnTo>
                <a:lnTo>
                  <a:pt x="1811" y="1232"/>
                </a:lnTo>
                <a:lnTo>
                  <a:pt x="1813" y="1237"/>
                </a:lnTo>
                <a:lnTo>
                  <a:pt x="1828" y="1257"/>
                </a:lnTo>
                <a:lnTo>
                  <a:pt x="1881" y="1330"/>
                </a:lnTo>
                <a:lnTo>
                  <a:pt x="1922" y="1385"/>
                </a:lnTo>
                <a:lnTo>
                  <a:pt x="1925" y="1388"/>
                </a:lnTo>
                <a:lnTo>
                  <a:pt x="1923" y="1389"/>
                </a:lnTo>
                <a:lnTo>
                  <a:pt x="1910" y="1397"/>
                </a:lnTo>
                <a:lnTo>
                  <a:pt x="1866" y="1419"/>
                </a:lnTo>
                <a:lnTo>
                  <a:pt x="1833" y="1437"/>
                </a:lnTo>
                <a:lnTo>
                  <a:pt x="1832" y="1437"/>
                </a:lnTo>
                <a:lnTo>
                  <a:pt x="1831" y="1439"/>
                </a:lnTo>
                <a:lnTo>
                  <a:pt x="1833" y="1443"/>
                </a:lnTo>
                <a:lnTo>
                  <a:pt x="1837" y="1448"/>
                </a:lnTo>
                <a:lnTo>
                  <a:pt x="1849" y="1461"/>
                </a:lnTo>
                <a:lnTo>
                  <a:pt x="1880" y="1489"/>
                </a:lnTo>
                <a:lnTo>
                  <a:pt x="1895" y="1500"/>
                </a:lnTo>
                <a:lnTo>
                  <a:pt x="1890" y="1501"/>
                </a:lnTo>
                <a:lnTo>
                  <a:pt x="1872" y="1503"/>
                </a:lnTo>
                <a:lnTo>
                  <a:pt x="1819" y="1509"/>
                </a:lnTo>
                <a:lnTo>
                  <a:pt x="1796" y="1514"/>
                </a:lnTo>
                <a:lnTo>
                  <a:pt x="1787" y="1517"/>
                </a:lnTo>
                <a:lnTo>
                  <a:pt x="1781" y="1521"/>
                </a:lnTo>
                <a:lnTo>
                  <a:pt x="1778" y="1524"/>
                </a:lnTo>
                <a:lnTo>
                  <a:pt x="1778" y="1526"/>
                </a:lnTo>
                <a:lnTo>
                  <a:pt x="1781" y="1539"/>
                </a:lnTo>
                <a:lnTo>
                  <a:pt x="1787" y="1585"/>
                </a:lnTo>
                <a:lnTo>
                  <a:pt x="1791" y="1621"/>
                </a:lnTo>
                <a:lnTo>
                  <a:pt x="1792" y="1622"/>
                </a:lnTo>
                <a:lnTo>
                  <a:pt x="1793" y="1624"/>
                </a:lnTo>
                <a:lnTo>
                  <a:pt x="1805" y="1636"/>
                </a:lnTo>
                <a:lnTo>
                  <a:pt x="1847" y="1678"/>
                </a:lnTo>
                <a:lnTo>
                  <a:pt x="1878" y="1710"/>
                </a:lnTo>
                <a:lnTo>
                  <a:pt x="1880" y="1711"/>
                </a:lnTo>
                <a:lnTo>
                  <a:pt x="1881" y="1711"/>
                </a:lnTo>
                <a:lnTo>
                  <a:pt x="1890" y="1711"/>
                </a:lnTo>
                <a:lnTo>
                  <a:pt x="1919" y="1708"/>
                </a:lnTo>
                <a:lnTo>
                  <a:pt x="1940" y="1706"/>
                </a:lnTo>
                <a:lnTo>
                  <a:pt x="1942" y="1705"/>
                </a:lnTo>
                <a:lnTo>
                  <a:pt x="1937" y="1706"/>
                </a:lnTo>
                <a:lnTo>
                  <a:pt x="1931" y="1709"/>
                </a:lnTo>
                <a:lnTo>
                  <a:pt x="1924" y="1714"/>
                </a:lnTo>
                <a:lnTo>
                  <a:pt x="1909" y="1729"/>
                </a:lnTo>
                <a:lnTo>
                  <a:pt x="1873" y="1769"/>
                </a:lnTo>
                <a:lnTo>
                  <a:pt x="1797" y="1865"/>
                </a:lnTo>
                <a:lnTo>
                  <a:pt x="1747" y="1908"/>
                </a:lnTo>
                <a:lnTo>
                  <a:pt x="1715" y="1911"/>
                </a:lnTo>
                <a:lnTo>
                  <a:pt x="1666" y="1910"/>
                </a:lnTo>
                <a:lnTo>
                  <a:pt x="1602" y="1891"/>
                </a:lnTo>
                <a:lnTo>
                  <a:pt x="1540" y="1843"/>
                </a:lnTo>
                <a:lnTo>
                  <a:pt x="1520" y="1825"/>
                </a:lnTo>
                <a:lnTo>
                  <a:pt x="1518" y="1826"/>
                </a:lnTo>
                <a:lnTo>
                  <a:pt x="1506" y="1828"/>
                </a:lnTo>
                <a:lnTo>
                  <a:pt x="1466" y="1838"/>
                </a:lnTo>
                <a:lnTo>
                  <a:pt x="1436" y="1844"/>
                </a:lnTo>
                <a:lnTo>
                  <a:pt x="1435" y="1844"/>
                </a:lnTo>
                <a:lnTo>
                  <a:pt x="1431" y="1843"/>
                </a:lnTo>
                <a:lnTo>
                  <a:pt x="1404" y="1833"/>
                </a:lnTo>
                <a:lnTo>
                  <a:pt x="1314" y="1796"/>
                </a:lnTo>
                <a:lnTo>
                  <a:pt x="1244" y="1768"/>
                </a:lnTo>
                <a:lnTo>
                  <a:pt x="1241" y="1766"/>
                </a:lnTo>
                <a:lnTo>
                  <a:pt x="1211" y="1783"/>
                </a:lnTo>
                <a:lnTo>
                  <a:pt x="1186" y="1801"/>
                </a:lnTo>
                <a:lnTo>
                  <a:pt x="1168" y="1821"/>
                </a:lnTo>
                <a:lnTo>
                  <a:pt x="1155" y="1844"/>
                </a:lnTo>
                <a:lnTo>
                  <a:pt x="1146" y="1867"/>
                </a:lnTo>
                <a:lnTo>
                  <a:pt x="1139" y="1917"/>
                </a:lnTo>
                <a:lnTo>
                  <a:pt x="1145" y="1967"/>
                </a:lnTo>
                <a:lnTo>
                  <a:pt x="1156" y="2013"/>
                </a:lnTo>
                <a:lnTo>
                  <a:pt x="1164" y="2032"/>
                </a:lnTo>
                <a:lnTo>
                  <a:pt x="1161" y="2032"/>
                </a:lnTo>
                <a:lnTo>
                  <a:pt x="1142" y="2029"/>
                </a:lnTo>
                <a:lnTo>
                  <a:pt x="1071" y="2018"/>
                </a:lnTo>
                <a:lnTo>
                  <a:pt x="987" y="2005"/>
                </a:lnTo>
                <a:lnTo>
                  <a:pt x="970" y="2002"/>
                </a:lnTo>
                <a:lnTo>
                  <a:pt x="956" y="2002"/>
                </a:lnTo>
                <a:lnTo>
                  <a:pt x="941" y="1997"/>
                </a:lnTo>
                <a:lnTo>
                  <a:pt x="923" y="1988"/>
                </a:lnTo>
                <a:lnTo>
                  <a:pt x="882" y="1964"/>
                </a:lnTo>
                <a:lnTo>
                  <a:pt x="800" y="1903"/>
                </a:lnTo>
                <a:lnTo>
                  <a:pt x="759" y="1866"/>
                </a:lnTo>
                <a:lnTo>
                  <a:pt x="756" y="1864"/>
                </a:lnTo>
                <a:lnTo>
                  <a:pt x="754" y="1863"/>
                </a:lnTo>
                <a:lnTo>
                  <a:pt x="752" y="1863"/>
                </a:lnTo>
                <a:lnTo>
                  <a:pt x="748" y="1864"/>
                </a:lnTo>
                <a:lnTo>
                  <a:pt x="745" y="1865"/>
                </a:lnTo>
                <a:lnTo>
                  <a:pt x="734" y="1869"/>
                </a:lnTo>
                <a:lnTo>
                  <a:pt x="710" y="1882"/>
                </a:lnTo>
                <a:lnTo>
                  <a:pt x="660" y="1909"/>
                </a:lnTo>
                <a:lnTo>
                  <a:pt x="641" y="1909"/>
                </a:lnTo>
                <a:lnTo>
                  <a:pt x="638" y="1908"/>
                </a:lnTo>
                <a:lnTo>
                  <a:pt x="627" y="1897"/>
                </a:lnTo>
                <a:lnTo>
                  <a:pt x="585" y="1857"/>
                </a:lnTo>
                <a:lnTo>
                  <a:pt x="554" y="1827"/>
                </a:lnTo>
                <a:lnTo>
                  <a:pt x="553" y="1825"/>
                </a:lnTo>
                <a:lnTo>
                  <a:pt x="550" y="1826"/>
                </a:lnTo>
                <a:lnTo>
                  <a:pt x="543" y="1830"/>
                </a:lnTo>
                <a:lnTo>
                  <a:pt x="515" y="1839"/>
                </a:lnTo>
                <a:lnTo>
                  <a:pt x="495" y="1846"/>
                </a:lnTo>
                <a:lnTo>
                  <a:pt x="494" y="1846"/>
                </a:lnTo>
                <a:lnTo>
                  <a:pt x="476" y="1833"/>
                </a:lnTo>
                <a:lnTo>
                  <a:pt x="444" y="1812"/>
                </a:lnTo>
                <a:lnTo>
                  <a:pt x="392" y="1780"/>
                </a:lnTo>
                <a:lnTo>
                  <a:pt x="374" y="1761"/>
                </a:lnTo>
                <a:lnTo>
                  <a:pt x="364" y="1737"/>
                </a:lnTo>
                <a:lnTo>
                  <a:pt x="363" y="1722"/>
                </a:lnTo>
                <a:lnTo>
                  <a:pt x="360" y="1718"/>
                </a:lnTo>
                <a:lnTo>
                  <a:pt x="356" y="1716"/>
                </a:lnTo>
                <a:lnTo>
                  <a:pt x="348" y="1711"/>
                </a:lnTo>
                <a:lnTo>
                  <a:pt x="321" y="1701"/>
                </a:lnTo>
                <a:lnTo>
                  <a:pt x="258" y="1682"/>
                </a:lnTo>
                <a:lnTo>
                  <a:pt x="229" y="1678"/>
                </a:lnTo>
                <a:lnTo>
                  <a:pt x="242" y="1667"/>
                </a:lnTo>
                <a:lnTo>
                  <a:pt x="254" y="1655"/>
                </a:lnTo>
                <a:lnTo>
                  <a:pt x="247" y="1661"/>
                </a:lnTo>
                <a:lnTo>
                  <a:pt x="230" y="1677"/>
                </a:lnTo>
                <a:lnTo>
                  <a:pt x="229" y="1678"/>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75"/>
          <p:cNvSpPr/>
          <p:nvPr/>
        </p:nvSpPr>
        <p:spPr>
          <a:xfrm>
            <a:off x="2533680" y="4675320"/>
            <a:ext cx="1706400" cy="1936440"/>
          </a:xfrm>
          <a:custGeom>
            <a:avLst/>
            <a:gdLst>
              <a:gd name="textAreaLeft" fmla="*/ 0 w 1706400"/>
              <a:gd name="textAreaRight" fmla="*/ 1706760 w 1706400"/>
              <a:gd name="textAreaTop" fmla="*/ 0 h 1936440"/>
              <a:gd name="textAreaBottom" fmla="*/ 1936800 h 1936440"/>
            </a:gdLst>
            <a:ahLst/>
            <a:rect l="textAreaLeft" t="textAreaTop" r="textAreaRight" b="textAreaBottom"/>
            <a:pathLst>
              <a:path w="2150" h="2440">
                <a:moveTo>
                  <a:pt x="294" y="1601"/>
                </a:moveTo>
                <a:lnTo>
                  <a:pt x="304" y="1626"/>
                </a:lnTo>
                <a:lnTo>
                  <a:pt x="313" y="1676"/>
                </a:lnTo>
                <a:lnTo>
                  <a:pt x="311" y="1729"/>
                </a:lnTo>
                <a:lnTo>
                  <a:pt x="301" y="1831"/>
                </a:lnTo>
                <a:lnTo>
                  <a:pt x="310" y="1896"/>
                </a:lnTo>
                <a:lnTo>
                  <a:pt x="337" y="1894"/>
                </a:lnTo>
                <a:lnTo>
                  <a:pt x="359" y="1888"/>
                </a:lnTo>
                <a:lnTo>
                  <a:pt x="376" y="1878"/>
                </a:lnTo>
                <a:lnTo>
                  <a:pt x="389" y="1867"/>
                </a:lnTo>
                <a:lnTo>
                  <a:pt x="399" y="1855"/>
                </a:lnTo>
                <a:lnTo>
                  <a:pt x="414" y="1835"/>
                </a:lnTo>
                <a:lnTo>
                  <a:pt x="422" y="1827"/>
                </a:lnTo>
                <a:lnTo>
                  <a:pt x="426" y="1825"/>
                </a:lnTo>
                <a:lnTo>
                  <a:pt x="430" y="1824"/>
                </a:lnTo>
                <a:lnTo>
                  <a:pt x="436" y="1824"/>
                </a:lnTo>
                <a:lnTo>
                  <a:pt x="441" y="1826"/>
                </a:lnTo>
                <a:lnTo>
                  <a:pt x="449" y="1829"/>
                </a:lnTo>
                <a:lnTo>
                  <a:pt x="464" y="1842"/>
                </a:lnTo>
                <a:lnTo>
                  <a:pt x="474" y="1850"/>
                </a:lnTo>
                <a:lnTo>
                  <a:pt x="478" y="1842"/>
                </a:lnTo>
                <a:lnTo>
                  <a:pt x="486" y="1819"/>
                </a:lnTo>
                <a:lnTo>
                  <a:pt x="503" y="1766"/>
                </a:lnTo>
                <a:lnTo>
                  <a:pt x="519" y="1718"/>
                </a:lnTo>
                <a:lnTo>
                  <a:pt x="524" y="1709"/>
                </a:lnTo>
                <a:lnTo>
                  <a:pt x="514" y="1692"/>
                </a:lnTo>
                <a:lnTo>
                  <a:pt x="496" y="1661"/>
                </a:lnTo>
                <a:lnTo>
                  <a:pt x="484" y="1638"/>
                </a:lnTo>
                <a:lnTo>
                  <a:pt x="479" y="1618"/>
                </a:lnTo>
                <a:lnTo>
                  <a:pt x="481" y="1608"/>
                </a:lnTo>
                <a:lnTo>
                  <a:pt x="485" y="1599"/>
                </a:lnTo>
                <a:lnTo>
                  <a:pt x="494" y="1591"/>
                </a:lnTo>
                <a:lnTo>
                  <a:pt x="507" y="1581"/>
                </a:lnTo>
                <a:lnTo>
                  <a:pt x="524" y="1571"/>
                </a:lnTo>
                <a:lnTo>
                  <a:pt x="523" y="1555"/>
                </a:lnTo>
                <a:lnTo>
                  <a:pt x="519" y="1522"/>
                </a:lnTo>
                <a:lnTo>
                  <a:pt x="503" y="1456"/>
                </a:lnTo>
                <a:lnTo>
                  <a:pt x="469" y="1396"/>
                </a:lnTo>
                <a:lnTo>
                  <a:pt x="458" y="1384"/>
                </a:lnTo>
                <a:lnTo>
                  <a:pt x="422" y="1416"/>
                </a:lnTo>
                <a:lnTo>
                  <a:pt x="366" y="1456"/>
                </a:lnTo>
                <a:lnTo>
                  <a:pt x="330" y="1475"/>
                </a:lnTo>
                <a:lnTo>
                  <a:pt x="308" y="1490"/>
                </a:lnTo>
                <a:lnTo>
                  <a:pt x="302" y="1500"/>
                </a:lnTo>
                <a:lnTo>
                  <a:pt x="297" y="1515"/>
                </a:lnTo>
                <a:lnTo>
                  <a:pt x="295" y="1535"/>
                </a:lnTo>
                <a:lnTo>
                  <a:pt x="294" y="1601"/>
                </a:lnTo>
                <a:lnTo>
                  <a:pt x="304" y="1622"/>
                </a:lnTo>
                <a:lnTo>
                  <a:pt x="315" y="1641"/>
                </a:lnTo>
                <a:lnTo>
                  <a:pt x="308" y="1630"/>
                </a:lnTo>
                <a:lnTo>
                  <a:pt x="294" y="1603"/>
                </a:lnTo>
                <a:lnTo>
                  <a:pt x="294" y="1601"/>
                </a:lnTo>
                <a:close/>
                <a:moveTo>
                  <a:pt x="1580" y="2176"/>
                </a:moveTo>
                <a:lnTo>
                  <a:pt x="1587" y="2169"/>
                </a:lnTo>
                <a:lnTo>
                  <a:pt x="1598" y="2151"/>
                </a:lnTo>
                <a:lnTo>
                  <a:pt x="1606" y="2132"/>
                </a:lnTo>
                <a:lnTo>
                  <a:pt x="1609" y="2113"/>
                </a:lnTo>
                <a:lnTo>
                  <a:pt x="1611" y="2077"/>
                </a:lnTo>
                <a:lnTo>
                  <a:pt x="1612" y="2068"/>
                </a:lnTo>
                <a:lnTo>
                  <a:pt x="1576" y="2071"/>
                </a:lnTo>
                <a:lnTo>
                  <a:pt x="1509" y="2084"/>
                </a:lnTo>
                <a:lnTo>
                  <a:pt x="1446" y="2103"/>
                </a:lnTo>
                <a:lnTo>
                  <a:pt x="1321" y="2121"/>
                </a:lnTo>
                <a:lnTo>
                  <a:pt x="1218" y="2083"/>
                </a:lnTo>
                <a:lnTo>
                  <a:pt x="1196" y="2093"/>
                </a:lnTo>
                <a:lnTo>
                  <a:pt x="1154" y="2105"/>
                </a:lnTo>
                <a:lnTo>
                  <a:pt x="1115" y="2112"/>
                </a:lnTo>
                <a:lnTo>
                  <a:pt x="1079" y="2122"/>
                </a:lnTo>
                <a:lnTo>
                  <a:pt x="1065" y="2130"/>
                </a:lnTo>
                <a:lnTo>
                  <a:pt x="1054" y="2142"/>
                </a:lnTo>
                <a:lnTo>
                  <a:pt x="1045" y="2159"/>
                </a:lnTo>
                <a:lnTo>
                  <a:pt x="1039" y="2180"/>
                </a:lnTo>
                <a:lnTo>
                  <a:pt x="1037" y="2206"/>
                </a:lnTo>
                <a:lnTo>
                  <a:pt x="1069" y="2233"/>
                </a:lnTo>
                <a:lnTo>
                  <a:pt x="1145" y="2279"/>
                </a:lnTo>
                <a:lnTo>
                  <a:pt x="1234" y="2317"/>
                </a:lnTo>
                <a:lnTo>
                  <a:pt x="1428" y="2387"/>
                </a:lnTo>
                <a:lnTo>
                  <a:pt x="1564" y="2440"/>
                </a:lnTo>
                <a:lnTo>
                  <a:pt x="1580" y="2421"/>
                </a:lnTo>
                <a:lnTo>
                  <a:pt x="1592" y="2402"/>
                </a:lnTo>
                <a:lnTo>
                  <a:pt x="1597" y="2384"/>
                </a:lnTo>
                <a:lnTo>
                  <a:pt x="1599" y="2365"/>
                </a:lnTo>
                <a:lnTo>
                  <a:pt x="1598" y="2346"/>
                </a:lnTo>
                <a:lnTo>
                  <a:pt x="1591" y="2305"/>
                </a:lnTo>
                <a:lnTo>
                  <a:pt x="1577" y="2206"/>
                </a:lnTo>
                <a:lnTo>
                  <a:pt x="1580" y="2176"/>
                </a:lnTo>
                <a:lnTo>
                  <a:pt x="1587" y="2170"/>
                </a:lnTo>
                <a:lnTo>
                  <a:pt x="1593" y="2164"/>
                </a:lnTo>
                <a:lnTo>
                  <a:pt x="1590" y="2167"/>
                </a:lnTo>
                <a:lnTo>
                  <a:pt x="1580" y="2176"/>
                </a:lnTo>
                <a:close/>
                <a:moveTo>
                  <a:pt x="168" y="729"/>
                </a:moveTo>
                <a:lnTo>
                  <a:pt x="169" y="735"/>
                </a:lnTo>
                <a:lnTo>
                  <a:pt x="170" y="737"/>
                </a:lnTo>
                <a:lnTo>
                  <a:pt x="172" y="738"/>
                </a:lnTo>
                <a:lnTo>
                  <a:pt x="174" y="739"/>
                </a:lnTo>
                <a:lnTo>
                  <a:pt x="177" y="740"/>
                </a:lnTo>
                <a:lnTo>
                  <a:pt x="181" y="740"/>
                </a:lnTo>
                <a:lnTo>
                  <a:pt x="188" y="739"/>
                </a:lnTo>
                <a:lnTo>
                  <a:pt x="197" y="736"/>
                </a:lnTo>
                <a:lnTo>
                  <a:pt x="218" y="727"/>
                </a:lnTo>
                <a:lnTo>
                  <a:pt x="271" y="699"/>
                </a:lnTo>
                <a:lnTo>
                  <a:pt x="376" y="633"/>
                </a:lnTo>
                <a:lnTo>
                  <a:pt x="411" y="618"/>
                </a:lnTo>
                <a:lnTo>
                  <a:pt x="415" y="623"/>
                </a:lnTo>
                <a:lnTo>
                  <a:pt x="423" y="627"/>
                </a:lnTo>
                <a:lnTo>
                  <a:pt x="443" y="639"/>
                </a:lnTo>
                <a:lnTo>
                  <a:pt x="496" y="657"/>
                </a:lnTo>
                <a:lnTo>
                  <a:pt x="542" y="665"/>
                </a:lnTo>
                <a:lnTo>
                  <a:pt x="558" y="691"/>
                </a:lnTo>
                <a:lnTo>
                  <a:pt x="590" y="733"/>
                </a:lnTo>
                <a:lnTo>
                  <a:pt x="648" y="805"/>
                </a:lnTo>
                <a:lnTo>
                  <a:pt x="686" y="898"/>
                </a:lnTo>
                <a:lnTo>
                  <a:pt x="691" y="930"/>
                </a:lnTo>
                <a:lnTo>
                  <a:pt x="695" y="957"/>
                </a:lnTo>
                <a:lnTo>
                  <a:pt x="710" y="985"/>
                </a:lnTo>
                <a:lnTo>
                  <a:pt x="733" y="1011"/>
                </a:lnTo>
                <a:lnTo>
                  <a:pt x="761" y="1038"/>
                </a:lnTo>
                <a:lnTo>
                  <a:pt x="830" y="1089"/>
                </a:lnTo>
                <a:lnTo>
                  <a:pt x="971" y="1175"/>
                </a:lnTo>
                <a:lnTo>
                  <a:pt x="1018" y="1210"/>
                </a:lnTo>
                <a:lnTo>
                  <a:pt x="1031" y="1223"/>
                </a:lnTo>
                <a:lnTo>
                  <a:pt x="1061" y="1254"/>
                </a:lnTo>
                <a:lnTo>
                  <a:pt x="1132" y="1316"/>
                </a:lnTo>
                <a:lnTo>
                  <a:pt x="1171" y="1335"/>
                </a:lnTo>
                <a:lnTo>
                  <a:pt x="1212" y="1340"/>
                </a:lnTo>
                <a:lnTo>
                  <a:pt x="1234" y="1335"/>
                </a:lnTo>
                <a:lnTo>
                  <a:pt x="1252" y="1340"/>
                </a:lnTo>
                <a:lnTo>
                  <a:pt x="1284" y="1353"/>
                </a:lnTo>
                <a:lnTo>
                  <a:pt x="1308" y="1370"/>
                </a:lnTo>
                <a:lnTo>
                  <a:pt x="1326" y="1390"/>
                </a:lnTo>
                <a:lnTo>
                  <a:pt x="1341" y="1416"/>
                </a:lnTo>
                <a:lnTo>
                  <a:pt x="1356" y="1444"/>
                </a:lnTo>
                <a:lnTo>
                  <a:pt x="1365" y="1460"/>
                </a:lnTo>
                <a:lnTo>
                  <a:pt x="1374" y="1468"/>
                </a:lnTo>
                <a:lnTo>
                  <a:pt x="1387" y="1474"/>
                </a:lnTo>
                <a:lnTo>
                  <a:pt x="1417" y="1485"/>
                </a:lnTo>
                <a:lnTo>
                  <a:pt x="1482" y="1499"/>
                </a:lnTo>
                <a:lnTo>
                  <a:pt x="1530" y="1507"/>
                </a:lnTo>
                <a:lnTo>
                  <a:pt x="1530" y="1519"/>
                </a:lnTo>
                <a:lnTo>
                  <a:pt x="1532" y="1539"/>
                </a:lnTo>
                <a:lnTo>
                  <a:pt x="1543" y="1576"/>
                </a:lnTo>
                <a:lnTo>
                  <a:pt x="1559" y="1607"/>
                </a:lnTo>
                <a:lnTo>
                  <a:pt x="1563" y="1615"/>
                </a:lnTo>
                <a:lnTo>
                  <a:pt x="1600" y="1619"/>
                </a:lnTo>
                <a:lnTo>
                  <a:pt x="1634" y="1631"/>
                </a:lnTo>
                <a:lnTo>
                  <a:pt x="1664" y="1648"/>
                </a:lnTo>
                <a:lnTo>
                  <a:pt x="1688" y="1672"/>
                </a:lnTo>
                <a:lnTo>
                  <a:pt x="1710" y="1699"/>
                </a:lnTo>
                <a:lnTo>
                  <a:pt x="1745" y="1763"/>
                </a:lnTo>
                <a:lnTo>
                  <a:pt x="1773" y="1833"/>
                </a:lnTo>
                <a:lnTo>
                  <a:pt x="1797" y="1898"/>
                </a:lnTo>
                <a:lnTo>
                  <a:pt x="1810" y="1926"/>
                </a:lnTo>
                <a:lnTo>
                  <a:pt x="1804" y="1927"/>
                </a:lnTo>
                <a:lnTo>
                  <a:pt x="1800" y="1929"/>
                </a:lnTo>
                <a:lnTo>
                  <a:pt x="1788" y="1935"/>
                </a:lnTo>
                <a:lnTo>
                  <a:pt x="1765" y="1950"/>
                </a:lnTo>
                <a:lnTo>
                  <a:pt x="1744" y="1958"/>
                </a:lnTo>
                <a:lnTo>
                  <a:pt x="1743" y="1967"/>
                </a:lnTo>
                <a:lnTo>
                  <a:pt x="1741" y="1986"/>
                </a:lnTo>
                <a:lnTo>
                  <a:pt x="1730" y="2032"/>
                </a:lnTo>
                <a:lnTo>
                  <a:pt x="1714" y="2075"/>
                </a:lnTo>
                <a:lnTo>
                  <a:pt x="1711" y="2083"/>
                </a:lnTo>
                <a:lnTo>
                  <a:pt x="1733" y="2091"/>
                </a:lnTo>
                <a:lnTo>
                  <a:pt x="1754" y="2090"/>
                </a:lnTo>
                <a:lnTo>
                  <a:pt x="1770" y="2083"/>
                </a:lnTo>
                <a:lnTo>
                  <a:pt x="1785" y="2070"/>
                </a:lnTo>
                <a:lnTo>
                  <a:pt x="1797" y="2053"/>
                </a:lnTo>
                <a:lnTo>
                  <a:pt x="1807" y="2032"/>
                </a:lnTo>
                <a:lnTo>
                  <a:pt x="1822" y="1987"/>
                </a:lnTo>
                <a:lnTo>
                  <a:pt x="1834" y="1944"/>
                </a:lnTo>
                <a:lnTo>
                  <a:pt x="1843" y="1911"/>
                </a:lnTo>
                <a:lnTo>
                  <a:pt x="1844" y="1904"/>
                </a:lnTo>
                <a:lnTo>
                  <a:pt x="1848" y="1896"/>
                </a:lnTo>
                <a:lnTo>
                  <a:pt x="1856" y="1889"/>
                </a:lnTo>
                <a:lnTo>
                  <a:pt x="1864" y="1880"/>
                </a:lnTo>
                <a:lnTo>
                  <a:pt x="1886" y="1866"/>
                </a:lnTo>
                <a:lnTo>
                  <a:pt x="1929" y="1843"/>
                </a:lnTo>
                <a:lnTo>
                  <a:pt x="1943" y="1834"/>
                </a:lnTo>
                <a:lnTo>
                  <a:pt x="1941" y="1826"/>
                </a:lnTo>
                <a:lnTo>
                  <a:pt x="1939" y="1810"/>
                </a:lnTo>
                <a:lnTo>
                  <a:pt x="1932" y="1780"/>
                </a:lnTo>
                <a:lnTo>
                  <a:pt x="1925" y="1748"/>
                </a:lnTo>
                <a:lnTo>
                  <a:pt x="1925" y="1740"/>
                </a:lnTo>
                <a:lnTo>
                  <a:pt x="1916" y="1740"/>
                </a:lnTo>
                <a:lnTo>
                  <a:pt x="1906" y="1737"/>
                </a:lnTo>
                <a:lnTo>
                  <a:pt x="1885" y="1728"/>
                </a:lnTo>
                <a:lnTo>
                  <a:pt x="1840" y="1701"/>
                </a:lnTo>
                <a:lnTo>
                  <a:pt x="1810" y="1678"/>
                </a:lnTo>
                <a:lnTo>
                  <a:pt x="1810" y="1665"/>
                </a:lnTo>
                <a:lnTo>
                  <a:pt x="1817" y="1634"/>
                </a:lnTo>
                <a:lnTo>
                  <a:pt x="1847" y="1561"/>
                </a:lnTo>
                <a:lnTo>
                  <a:pt x="1884" y="1501"/>
                </a:lnTo>
                <a:lnTo>
                  <a:pt x="1893" y="1491"/>
                </a:lnTo>
                <a:lnTo>
                  <a:pt x="1914" y="1493"/>
                </a:lnTo>
                <a:lnTo>
                  <a:pt x="1961" y="1504"/>
                </a:lnTo>
                <a:lnTo>
                  <a:pt x="2010" y="1526"/>
                </a:lnTo>
                <a:lnTo>
                  <a:pt x="2098" y="1583"/>
                </a:lnTo>
                <a:lnTo>
                  <a:pt x="2140" y="1631"/>
                </a:lnTo>
                <a:lnTo>
                  <a:pt x="2148" y="1608"/>
                </a:lnTo>
                <a:lnTo>
                  <a:pt x="2150" y="1587"/>
                </a:lnTo>
                <a:lnTo>
                  <a:pt x="2146" y="1568"/>
                </a:lnTo>
                <a:lnTo>
                  <a:pt x="2138" y="1548"/>
                </a:lnTo>
                <a:lnTo>
                  <a:pt x="2125" y="1531"/>
                </a:lnTo>
                <a:lnTo>
                  <a:pt x="2109" y="1515"/>
                </a:lnTo>
                <a:lnTo>
                  <a:pt x="2069" y="1486"/>
                </a:lnTo>
                <a:lnTo>
                  <a:pt x="2028" y="1463"/>
                </a:lnTo>
                <a:lnTo>
                  <a:pt x="1991" y="1444"/>
                </a:lnTo>
                <a:lnTo>
                  <a:pt x="1968" y="1436"/>
                </a:lnTo>
                <a:lnTo>
                  <a:pt x="1916" y="1414"/>
                </a:lnTo>
                <a:lnTo>
                  <a:pt x="1796" y="1358"/>
                </a:lnTo>
                <a:lnTo>
                  <a:pt x="1683" y="1302"/>
                </a:lnTo>
                <a:lnTo>
                  <a:pt x="1662" y="1289"/>
                </a:lnTo>
                <a:lnTo>
                  <a:pt x="1662" y="1284"/>
                </a:lnTo>
                <a:lnTo>
                  <a:pt x="1664" y="1279"/>
                </a:lnTo>
                <a:lnTo>
                  <a:pt x="1670" y="1265"/>
                </a:lnTo>
                <a:lnTo>
                  <a:pt x="1691" y="1235"/>
                </a:lnTo>
                <a:lnTo>
                  <a:pt x="1711" y="1210"/>
                </a:lnTo>
                <a:lnTo>
                  <a:pt x="1694" y="1204"/>
                </a:lnTo>
                <a:lnTo>
                  <a:pt x="1664" y="1198"/>
                </a:lnTo>
                <a:lnTo>
                  <a:pt x="1634" y="1197"/>
                </a:lnTo>
                <a:lnTo>
                  <a:pt x="1576" y="1200"/>
                </a:lnTo>
                <a:lnTo>
                  <a:pt x="1530" y="1195"/>
                </a:lnTo>
                <a:lnTo>
                  <a:pt x="1493" y="1186"/>
                </a:lnTo>
                <a:lnTo>
                  <a:pt x="1428" y="1156"/>
                </a:lnTo>
                <a:lnTo>
                  <a:pt x="1372" y="1114"/>
                </a:lnTo>
                <a:lnTo>
                  <a:pt x="1327" y="1064"/>
                </a:lnTo>
                <a:lnTo>
                  <a:pt x="1294" y="1007"/>
                </a:lnTo>
                <a:lnTo>
                  <a:pt x="1272" y="946"/>
                </a:lnTo>
                <a:lnTo>
                  <a:pt x="1267" y="915"/>
                </a:lnTo>
                <a:lnTo>
                  <a:pt x="1253" y="875"/>
                </a:lnTo>
                <a:lnTo>
                  <a:pt x="1229" y="841"/>
                </a:lnTo>
                <a:lnTo>
                  <a:pt x="1200" y="811"/>
                </a:lnTo>
                <a:lnTo>
                  <a:pt x="1130" y="758"/>
                </a:lnTo>
                <a:lnTo>
                  <a:pt x="1060" y="707"/>
                </a:lnTo>
                <a:lnTo>
                  <a:pt x="1011" y="649"/>
                </a:lnTo>
                <a:lnTo>
                  <a:pt x="1000" y="613"/>
                </a:lnTo>
                <a:lnTo>
                  <a:pt x="1002" y="573"/>
                </a:lnTo>
                <a:lnTo>
                  <a:pt x="1018" y="525"/>
                </a:lnTo>
                <a:lnTo>
                  <a:pt x="1014" y="518"/>
                </a:lnTo>
                <a:lnTo>
                  <a:pt x="1006" y="502"/>
                </a:lnTo>
                <a:lnTo>
                  <a:pt x="993" y="465"/>
                </a:lnTo>
                <a:lnTo>
                  <a:pt x="987" y="416"/>
                </a:lnTo>
                <a:lnTo>
                  <a:pt x="987" y="401"/>
                </a:lnTo>
                <a:lnTo>
                  <a:pt x="999" y="391"/>
                </a:lnTo>
                <a:lnTo>
                  <a:pt x="1028" y="370"/>
                </a:lnTo>
                <a:lnTo>
                  <a:pt x="1092" y="331"/>
                </a:lnTo>
                <a:lnTo>
                  <a:pt x="1153" y="290"/>
                </a:lnTo>
                <a:lnTo>
                  <a:pt x="1167" y="278"/>
                </a:lnTo>
                <a:lnTo>
                  <a:pt x="1175" y="285"/>
                </a:lnTo>
                <a:lnTo>
                  <a:pt x="1193" y="296"/>
                </a:lnTo>
                <a:lnTo>
                  <a:pt x="1210" y="304"/>
                </a:lnTo>
                <a:lnTo>
                  <a:pt x="1247" y="311"/>
                </a:lnTo>
                <a:lnTo>
                  <a:pt x="1272" y="312"/>
                </a:lnTo>
                <a:lnTo>
                  <a:pt x="1263" y="290"/>
                </a:lnTo>
                <a:lnTo>
                  <a:pt x="1237" y="220"/>
                </a:lnTo>
                <a:lnTo>
                  <a:pt x="1218" y="166"/>
                </a:lnTo>
                <a:lnTo>
                  <a:pt x="1217" y="163"/>
                </a:lnTo>
                <a:lnTo>
                  <a:pt x="1210" y="160"/>
                </a:lnTo>
                <a:lnTo>
                  <a:pt x="1173" y="137"/>
                </a:lnTo>
                <a:lnTo>
                  <a:pt x="1041" y="62"/>
                </a:lnTo>
                <a:lnTo>
                  <a:pt x="941" y="4"/>
                </a:lnTo>
                <a:lnTo>
                  <a:pt x="936" y="0"/>
                </a:lnTo>
                <a:lnTo>
                  <a:pt x="931" y="2"/>
                </a:lnTo>
                <a:lnTo>
                  <a:pt x="910" y="14"/>
                </a:lnTo>
                <a:lnTo>
                  <a:pt x="833" y="57"/>
                </a:lnTo>
                <a:lnTo>
                  <a:pt x="775" y="89"/>
                </a:lnTo>
                <a:lnTo>
                  <a:pt x="771" y="90"/>
                </a:lnTo>
                <a:lnTo>
                  <a:pt x="769" y="90"/>
                </a:lnTo>
                <a:lnTo>
                  <a:pt x="758" y="88"/>
                </a:lnTo>
                <a:lnTo>
                  <a:pt x="719" y="81"/>
                </a:lnTo>
                <a:lnTo>
                  <a:pt x="689" y="75"/>
                </a:lnTo>
                <a:lnTo>
                  <a:pt x="688" y="74"/>
                </a:lnTo>
                <a:lnTo>
                  <a:pt x="661" y="85"/>
                </a:lnTo>
                <a:lnTo>
                  <a:pt x="632" y="105"/>
                </a:lnTo>
                <a:lnTo>
                  <a:pt x="626" y="113"/>
                </a:lnTo>
                <a:lnTo>
                  <a:pt x="624" y="121"/>
                </a:lnTo>
                <a:lnTo>
                  <a:pt x="622" y="128"/>
                </a:lnTo>
                <a:lnTo>
                  <a:pt x="619" y="142"/>
                </a:lnTo>
                <a:lnTo>
                  <a:pt x="614" y="148"/>
                </a:lnTo>
                <a:lnTo>
                  <a:pt x="603" y="156"/>
                </a:lnTo>
                <a:lnTo>
                  <a:pt x="586" y="164"/>
                </a:lnTo>
                <a:lnTo>
                  <a:pt x="561" y="171"/>
                </a:lnTo>
                <a:lnTo>
                  <a:pt x="555" y="159"/>
                </a:lnTo>
                <a:lnTo>
                  <a:pt x="541" y="140"/>
                </a:lnTo>
                <a:lnTo>
                  <a:pt x="525" y="129"/>
                </a:lnTo>
                <a:lnTo>
                  <a:pt x="508" y="124"/>
                </a:lnTo>
                <a:lnTo>
                  <a:pt x="494" y="122"/>
                </a:lnTo>
                <a:lnTo>
                  <a:pt x="483" y="122"/>
                </a:lnTo>
                <a:lnTo>
                  <a:pt x="481" y="122"/>
                </a:lnTo>
                <a:lnTo>
                  <a:pt x="480" y="125"/>
                </a:lnTo>
                <a:lnTo>
                  <a:pt x="472" y="141"/>
                </a:lnTo>
                <a:lnTo>
                  <a:pt x="449" y="198"/>
                </a:lnTo>
                <a:lnTo>
                  <a:pt x="429" y="242"/>
                </a:lnTo>
                <a:lnTo>
                  <a:pt x="429" y="244"/>
                </a:lnTo>
                <a:lnTo>
                  <a:pt x="427" y="242"/>
                </a:lnTo>
                <a:lnTo>
                  <a:pt x="415" y="226"/>
                </a:lnTo>
                <a:lnTo>
                  <a:pt x="377" y="169"/>
                </a:lnTo>
                <a:lnTo>
                  <a:pt x="347" y="126"/>
                </a:lnTo>
                <a:lnTo>
                  <a:pt x="346" y="123"/>
                </a:lnTo>
                <a:lnTo>
                  <a:pt x="345" y="124"/>
                </a:lnTo>
                <a:lnTo>
                  <a:pt x="338" y="127"/>
                </a:lnTo>
                <a:lnTo>
                  <a:pt x="317" y="139"/>
                </a:lnTo>
                <a:lnTo>
                  <a:pt x="300" y="148"/>
                </a:lnTo>
                <a:lnTo>
                  <a:pt x="300" y="151"/>
                </a:lnTo>
                <a:lnTo>
                  <a:pt x="300" y="160"/>
                </a:lnTo>
                <a:lnTo>
                  <a:pt x="300" y="193"/>
                </a:lnTo>
                <a:lnTo>
                  <a:pt x="300" y="219"/>
                </a:lnTo>
                <a:lnTo>
                  <a:pt x="300" y="220"/>
                </a:lnTo>
                <a:lnTo>
                  <a:pt x="294" y="221"/>
                </a:lnTo>
                <a:lnTo>
                  <a:pt x="257" y="226"/>
                </a:lnTo>
                <a:lnTo>
                  <a:pt x="132" y="244"/>
                </a:lnTo>
                <a:lnTo>
                  <a:pt x="36" y="258"/>
                </a:lnTo>
                <a:lnTo>
                  <a:pt x="32" y="258"/>
                </a:lnTo>
                <a:lnTo>
                  <a:pt x="34" y="263"/>
                </a:lnTo>
                <a:lnTo>
                  <a:pt x="49" y="284"/>
                </a:lnTo>
                <a:lnTo>
                  <a:pt x="102" y="357"/>
                </a:lnTo>
                <a:lnTo>
                  <a:pt x="143" y="413"/>
                </a:lnTo>
                <a:lnTo>
                  <a:pt x="146" y="416"/>
                </a:lnTo>
                <a:lnTo>
                  <a:pt x="144" y="417"/>
                </a:lnTo>
                <a:lnTo>
                  <a:pt x="130" y="425"/>
                </a:lnTo>
                <a:lnTo>
                  <a:pt x="85" y="446"/>
                </a:lnTo>
                <a:lnTo>
                  <a:pt x="50" y="463"/>
                </a:lnTo>
                <a:lnTo>
                  <a:pt x="49" y="463"/>
                </a:lnTo>
                <a:lnTo>
                  <a:pt x="50" y="465"/>
                </a:lnTo>
                <a:lnTo>
                  <a:pt x="58" y="473"/>
                </a:lnTo>
                <a:lnTo>
                  <a:pt x="88" y="503"/>
                </a:lnTo>
                <a:lnTo>
                  <a:pt x="111" y="524"/>
                </a:lnTo>
                <a:lnTo>
                  <a:pt x="113" y="525"/>
                </a:lnTo>
                <a:lnTo>
                  <a:pt x="94" y="527"/>
                </a:lnTo>
                <a:lnTo>
                  <a:pt x="62" y="531"/>
                </a:lnTo>
                <a:lnTo>
                  <a:pt x="18" y="536"/>
                </a:lnTo>
                <a:lnTo>
                  <a:pt x="10" y="539"/>
                </a:lnTo>
                <a:lnTo>
                  <a:pt x="5" y="542"/>
                </a:lnTo>
                <a:lnTo>
                  <a:pt x="2" y="546"/>
                </a:lnTo>
                <a:lnTo>
                  <a:pt x="0" y="550"/>
                </a:lnTo>
                <a:lnTo>
                  <a:pt x="0" y="556"/>
                </a:lnTo>
                <a:lnTo>
                  <a:pt x="0" y="558"/>
                </a:lnTo>
                <a:lnTo>
                  <a:pt x="3" y="572"/>
                </a:lnTo>
                <a:lnTo>
                  <a:pt x="10" y="618"/>
                </a:lnTo>
                <a:lnTo>
                  <a:pt x="15" y="654"/>
                </a:lnTo>
                <a:lnTo>
                  <a:pt x="17" y="655"/>
                </a:lnTo>
                <a:lnTo>
                  <a:pt x="18" y="657"/>
                </a:lnTo>
                <a:lnTo>
                  <a:pt x="29" y="668"/>
                </a:lnTo>
                <a:lnTo>
                  <a:pt x="68" y="707"/>
                </a:lnTo>
                <a:lnTo>
                  <a:pt x="98" y="736"/>
                </a:lnTo>
                <a:lnTo>
                  <a:pt x="100" y="737"/>
                </a:lnTo>
                <a:lnTo>
                  <a:pt x="101" y="737"/>
                </a:lnTo>
                <a:lnTo>
                  <a:pt x="110" y="736"/>
                </a:lnTo>
                <a:lnTo>
                  <a:pt x="142" y="733"/>
                </a:lnTo>
                <a:lnTo>
                  <a:pt x="166" y="730"/>
                </a:lnTo>
                <a:lnTo>
                  <a:pt x="168" y="729"/>
                </a:lnTo>
                <a:lnTo>
                  <a:pt x="168" y="740"/>
                </a:lnTo>
                <a:lnTo>
                  <a:pt x="168" y="752"/>
                </a:lnTo>
                <a:lnTo>
                  <a:pt x="168" y="745"/>
                </a:lnTo>
                <a:lnTo>
                  <a:pt x="168" y="730"/>
                </a:lnTo>
                <a:lnTo>
                  <a:pt x="168" y="729"/>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76"/>
          <p:cNvSpPr/>
          <p:nvPr/>
        </p:nvSpPr>
        <p:spPr>
          <a:xfrm>
            <a:off x="2766960" y="5773680"/>
            <a:ext cx="182520" cy="406440"/>
          </a:xfrm>
          <a:custGeom>
            <a:avLst/>
            <a:gdLst>
              <a:gd name="textAreaLeft" fmla="*/ 0 w 182520"/>
              <a:gd name="textAreaRight" fmla="*/ 182880 w 182520"/>
              <a:gd name="textAreaTop" fmla="*/ 0 h 406440"/>
              <a:gd name="textAreaBottom" fmla="*/ 406800 h 406440"/>
            </a:gdLst>
            <a:ahLst/>
            <a:rect l="textAreaLeft" t="textAreaTop" r="textAreaRight" b="textAreaBottom"/>
            <a:pathLst>
              <a:path w="230" h="512">
                <a:moveTo>
                  <a:pt x="0" y="217"/>
                </a:moveTo>
                <a:lnTo>
                  <a:pt x="10" y="242"/>
                </a:lnTo>
                <a:lnTo>
                  <a:pt x="19" y="292"/>
                </a:lnTo>
                <a:lnTo>
                  <a:pt x="17" y="345"/>
                </a:lnTo>
                <a:lnTo>
                  <a:pt x="7" y="447"/>
                </a:lnTo>
                <a:lnTo>
                  <a:pt x="16" y="512"/>
                </a:lnTo>
                <a:lnTo>
                  <a:pt x="43" y="510"/>
                </a:lnTo>
                <a:lnTo>
                  <a:pt x="65" y="504"/>
                </a:lnTo>
                <a:lnTo>
                  <a:pt x="82" y="494"/>
                </a:lnTo>
                <a:lnTo>
                  <a:pt x="95" y="483"/>
                </a:lnTo>
                <a:lnTo>
                  <a:pt x="105" y="471"/>
                </a:lnTo>
                <a:lnTo>
                  <a:pt x="120" y="451"/>
                </a:lnTo>
                <a:lnTo>
                  <a:pt x="128" y="443"/>
                </a:lnTo>
                <a:lnTo>
                  <a:pt x="132" y="441"/>
                </a:lnTo>
                <a:lnTo>
                  <a:pt x="136" y="440"/>
                </a:lnTo>
                <a:lnTo>
                  <a:pt x="142" y="440"/>
                </a:lnTo>
                <a:lnTo>
                  <a:pt x="147" y="442"/>
                </a:lnTo>
                <a:lnTo>
                  <a:pt x="155" y="445"/>
                </a:lnTo>
                <a:lnTo>
                  <a:pt x="170" y="458"/>
                </a:lnTo>
                <a:lnTo>
                  <a:pt x="180" y="466"/>
                </a:lnTo>
                <a:lnTo>
                  <a:pt x="184" y="458"/>
                </a:lnTo>
                <a:lnTo>
                  <a:pt x="192" y="435"/>
                </a:lnTo>
                <a:lnTo>
                  <a:pt x="209" y="382"/>
                </a:lnTo>
                <a:lnTo>
                  <a:pt x="225" y="334"/>
                </a:lnTo>
                <a:lnTo>
                  <a:pt x="230" y="325"/>
                </a:lnTo>
                <a:lnTo>
                  <a:pt x="220" y="308"/>
                </a:lnTo>
                <a:lnTo>
                  <a:pt x="202" y="277"/>
                </a:lnTo>
                <a:lnTo>
                  <a:pt x="190" y="254"/>
                </a:lnTo>
                <a:lnTo>
                  <a:pt x="185" y="234"/>
                </a:lnTo>
                <a:lnTo>
                  <a:pt x="187" y="224"/>
                </a:lnTo>
                <a:lnTo>
                  <a:pt x="191" y="215"/>
                </a:lnTo>
                <a:lnTo>
                  <a:pt x="200" y="207"/>
                </a:lnTo>
                <a:lnTo>
                  <a:pt x="213" y="197"/>
                </a:lnTo>
                <a:lnTo>
                  <a:pt x="230" y="187"/>
                </a:lnTo>
                <a:lnTo>
                  <a:pt x="229" y="171"/>
                </a:lnTo>
                <a:lnTo>
                  <a:pt x="225" y="138"/>
                </a:lnTo>
                <a:lnTo>
                  <a:pt x="209" y="72"/>
                </a:lnTo>
                <a:lnTo>
                  <a:pt x="175" y="12"/>
                </a:lnTo>
                <a:lnTo>
                  <a:pt x="164" y="0"/>
                </a:lnTo>
                <a:lnTo>
                  <a:pt x="128" y="32"/>
                </a:lnTo>
                <a:lnTo>
                  <a:pt x="72" y="72"/>
                </a:lnTo>
                <a:lnTo>
                  <a:pt x="36" y="91"/>
                </a:lnTo>
                <a:lnTo>
                  <a:pt x="14" y="106"/>
                </a:lnTo>
                <a:lnTo>
                  <a:pt x="8" y="116"/>
                </a:lnTo>
                <a:lnTo>
                  <a:pt x="3" y="131"/>
                </a:lnTo>
                <a:lnTo>
                  <a:pt x="1" y="151"/>
                </a:lnTo>
                <a:lnTo>
                  <a:pt x="0" y="217"/>
                </a:lnTo>
                <a:lnTo>
                  <a:pt x="10" y="238"/>
                </a:lnTo>
                <a:lnTo>
                  <a:pt x="21" y="257"/>
                </a:lnTo>
                <a:lnTo>
                  <a:pt x="14" y="246"/>
                </a:lnTo>
                <a:lnTo>
                  <a:pt x="0" y="219"/>
                </a:lnTo>
                <a:lnTo>
                  <a:pt x="0" y="217"/>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77"/>
          <p:cNvSpPr/>
          <p:nvPr/>
        </p:nvSpPr>
        <p:spPr>
          <a:xfrm>
            <a:off x="3357720" y="6316560"/>
            <a:ext cx="455400" cy="295200"/>
          </a:xfrm>
          <a:custGeom>
            <a:avLst/>
            <a:gdLst>
              <a:gd name="textAreaLeft" fmla="*/ 0 w 455400"/>
              <a:gd name="textAreaRight" fmla="*/ 455760 w 455400"/>
              <a:gd name="textAreaTop" fmla="*/ 0 h 295200"/>
              <a:gd name="textAreaBottom" fmla="*/ 295560 h 295200"/>
            </a:gdLst>
            <a:ahLst/>
            <a:rect l="textAreaLeft" t="textAreaTop" r="textAreaRight" b="textAreaBottom"/>
            <a:pathLst>
              <a:path w="575" h="372">
                <a:moveTo>
                  <a:pt x="543" y="108"/>
                </a:moveTo>
                <a:lnTo>
                  <a:pt x="550" y="101"/>
                </a:lnTo>
                <a:lnTo>
                  <a:pt x="561" y="83"/>
                </a:lnTo>
                <a:lnTo>
                  <a:pt x="569" y="64"/>
                </a:lnTo>
                <a:lnTo>
                  <a:pt x="572" y="45"/>
                </a:lnTo>
                <a:lnTo>
                  <a:pt x="574" y="9"/>
                </a:lnTo>
                <a:lnTo>
                  <a:pt x="575" y="0"/>
                </a:lnTo>
                <a:lnTo>
                  <a:pt x="539" y="3"/>
                </a:lnTo>
                <a:lnTo>
                  <a:pt x="472" y="16"/>
                </a:lnTo>
                <a:lnTo>
                  <a:pt x="409" y="35"/>
                </a:lnTo>
                <a:lnTo>
                  <a:pt x="284" y="53"/>
                </a:lnTo>
                <a:lnTo>
                  <a:pt x="181" y="15"/>
                </a:lnTo>
                <a:lnTo>
                  <a:pt x="159" y="25"/>
                </a:lnTo>
                <a:lnTo>
                  <a:pt x="117" y="37"/>
                </a:lnTo>
                <a:lnTo>
                  <a:pt x="78" y="44"/>
                </a:lnTo>
                <a:lnTo>
                  <a:pt x="42" y="54"/>
                </a:lnTo>
                <a:lnTo>
                  <a:pt x="28" y="62"/>
                </a:lnTo>
                <a:lnTo>
                  <a:pt x="17" y="74"/>
                </a:lnTo>
                <a:lnTo>
                  <a:pt x="8" y="91"/>
                </a:lnTo>
                <a:lnTo>
                  <a:pt x="2" y="112"/>
                </a:lnTo>
                <a:lnTo>
                  <a:pt x="0" y="138"/>
                </a:lnTo>
                <a:lnTo>
                  <a:pt x="32" y="165"/>
                </a:lnTo>
                <a:lnTo>
                  <a:pt x="108" y="211"/>
                </a:lnTo>
                <a:lnTo>
                  <a:pt x="197" y="249"/>
                </a:lnTo>
                <a:lnTo>
                  <a:pt x="391" y="319"/>
                </a:lnTo>
                <a:lnTo>
                  <a:pt x="527" y="372"/>
                </a:lnTo>
                <a:lnTo>
                  <a:pt x="543" y="353"/>
                </a:lnTo>
                <a:lnTo>
                  <a:pt x="555" y="334"/>
                </a:lnTo>
                <a:lnTo>
                  <a:pt x="560" y="316"/>
                </a:lnTo>
                <a:lnTo>
                  <a:pt x="562" y="297"/>
                </a:lnTo>
                <a:lnTo>
                  <a:pt x="561" y="278"/>
                </a:lnTo>
                <a:lnTo>
                  <a:pt x="554" y="237"/>
                </a:lnTo>
                <a:lnTo>
                  <a:pt x="540" y="138"/>
                </a:lnTo>
                <a:lnTo>
                  <a:pt x="543" y="108"/>
                </a:lnTo>
                <a:lnTo>
                  <a:pt x="550" y="102"/>
                </a:lnTo>
                <a:lnTo>
                  <a:pt x="556" y="96"/>
                </a:lnTo>
                <a:lnTo>
                  <a:pt x="553" y="99"/>
                </a:lnTo>
                <a:lnTo>
                  <a:pt x="543" y="108"/>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78"/>
          <p:cNvSpPr/>
          <p:nvPr/>
        </p:nvSpPr>
        <p:spPr>
          <a:xfrm>
            <a:off x="2533680" y="4675320"/>
            <a:ext cx="1706400" cy="1660320"/>
          </a:xfrm>
          <a:custGeom>
            <a:avLst/>
            <a:gdLst>
              <a:gd name="textAreaLeft" fmla="*/ 0 w 1706400"/>
              <a:gd name="textAreaRight" fmla="*/ 1706760 w 1706400"/>
              <a:gd name="textAreaTop" fmla="*/ 0 h 1660320"/>
              <a:gd name="textAreaBottom" fmla="*/ 1660680 h 1660320"/>
            </a:gdLst>
            <a:ahLst/>
            <a:rect l="textAreaLeft" t="textAreaTop" r="textAreaRight" b="textAreaBottom"/>
            <a:pathLst>
              <a:path w="2150" h="2091">
                <a:moveTo>
                  <a:pt x="168" y="729"/>
                </a:moveTo>
                <a:lnTo>
                  <a:pt x="169" y="735"/>
                </a:lnTo>
                <a:lnTo>
                  <a:pt x="170" y="737"/>
                </a:lnTo>
                <a:lnTo>
                  <a:pt x="172" y="738"/>
                </a:lnTo>
                <a:lnTo>
                  <a:pt x="174" y="739"/>
                </a:lnTo>
                <a:lnTo>
                  <a:pt x="177" y="740"/>
                </a:lnTo>
                <a:lnTo>
                  <a:pt x="181" y="740"/>
                </a:lnTo>
                <a:lnTo>
                  <a:pt x="188" y="739"/>
                </a:lnTo>
                <a:lnTo>
                  <a:pt x="197" y="736"/>
                </a:lnTo>
                <a:lnTo>
                  <a:pt x="218" y="727"/>
                </a:lnTo>
                <a:lnTo>
                  <a:pt x="271" y="699"/>
                </a:lnTo>
                <a:lnTo>
                  <a:pt x="376" y="633"/>
                </a:lnTo>
                <a:lnTo>
                  <a:pt x="411" y="618"/>
                </a:lnTo>
                <a:lnTo>
                  <a:pt x="415" y="623"/>
                </a:lnTo>
                <a:lnTo>
                  <a:pt x="423" y="627"/>
                </a:lnTo>
                <a:lnTo>
                  <a:pt x="443" y="639"/>
                </a:lnTo>
                <a:lnTo>
                  <a:pt x="496" y="657"/>
                </a:lnTo>
                <a:lnTo>
                  <a:pt x="542" y="665"/>
                </a:lnTo>
                <a:lnTo>
                  <a:pt x="558" y="691"/>
                </a:lnTo>
                <a:lnTo>
                  <a:pt x="590" y="733"/>
                </a:lnTo>
                <a:lnTo>
                  <a:pt x="648" y="805"/>
                </a:lnTo>
                <a:lnTo>
                  <a:pt x="686" y="898"/>
                </a:lnTo>
                <a:lnTo>
                  <a:pt x="691" y="930"/>
                </a:lnTo>
                <a:lnTo>
                  <a:pt x="695" y="957"/>
                </a:lnTo>
                <a:lnTo>
                  <a:pt x="710" y="985"/>
                </a:lnTo>
                <a:lnTo>
                  <a:pt x="733" y="1011"/>
                </a:lnTo>
                <a:lnTo>
                  <a:pt x="761" y="1038"/>
                </a:lnTo>
                <a:lnTo>
                  <a:pt x="830" y="1089"/>
                </a:lnTo>
                <a:lnTo>
                  <a:pt x="971" y="1175"/>
                </a:lnTo>
                <a:lnTo>
                  <a:pt x="1018" y="1210"/>
                </a:lnTo>
                <a:lnTo>
                  <a:pt x="1031" y="1223"/>
                </a:lnTo>
                <a:lnTo>
                  <a:pt x="1061" y="1254"/>
                </a:lnTo>
                <a:lnTo>
                  <a:pt x="1132" y="1316"/>
                </a:lnTo>
                <a:lnTo>
                  <a:pt x="1171" y="1335"/>
                </a:lnTo>
                <a:lnTo>
                  <a:pt x="1212" y="1340"/>
                </a:lnTo>
                <a:lnTo>
                  <a:pt x="1234" y="1335"/>
                </a:lnTo>
                <a:lnTo>
                  <a:pt x="1252" y="1340"/>
                </a:lnTo>
                <a:lnTo>
                  <a:pt x="1284" y="1353"/>
                </a:lnTo>
                <a:lnTo>
                  <a:pt x="1308" y="1370"/>
                </a:lnTo>
                <a:lnTo>
                  <a:pt x="1326" y="1390"/>
                </a:lnTo>
                <a:lnTo>
                  <a:pt x="1341" y="1416"/>
                </a:lnTo>
                <a:lnTo>
                  <a:pt x="1356" y="1444"/>
                </a:lnTo>
                <a:lnTo>
                  <a:pt x="1365" y="1460"/>
                </a:lnTo>
                <a:lnTo>
                  <a:pt x="1374" y="1468"/>
                </a:lnTo>
                <a:lnTo>
                  <a:pt x="1387" y="1474"/>
                </a:lnTo>
                <a:lnTo>
                  <a:pt x="1417" y="1485"/>
                </a:lnTo>
                <a:lnTo>
                  <a:pt x="1482" y="1499"/>
                </a:lnTo>
                <a:lnTo>
                  <a:pt x="1530" y="1507"/>
                </a:lnTo>
                <a:lnTo>
                  <a:pt x="1530" y="1519"/>
                </a:lnTo>
                <a:lnTo>
                  <a:pt x="1532" y="1539"/>
                </a:lnTo>
                <a:lnTo>
                  <a:pt x="1543" y="1576"/>
                </a:lnTo>
                <a:lnTo>
                  <a:pt x="1559" y="1607"/>
                </a:lnTo>
                <a:lnTo>
                  <a:pt x="1563" y="1615"/>
                </a:lnTo>
                <a:lnTo>
                  <a:pt x="1600" y="1619"/>
                </a:lnTo>
                <a:lnTo>
                  <a:pt x="1634" y="1631"/>
                </a:lnTo>
                <a:lnTo>
                  <a:pt x="1664" y="1648"/>
                </a:lnTo>
                <a:lnTo>
                  <a:pt x="1688" y="1672"/>
                </a:lnTo>
                <a:lnTo>
                  <a:pt x="1710" y="1699"/>
                </a:lnTo>
                <a:lnTo>
                  <a:pt x="1745" y="1763"/>
                </a:lnTo>
                <a:lnTo>
                  <a:pt x="1773" y="1833"/>
                </a:lnTo>
                <a:lnTo>
                  <a:pt x="1797" y="1898"/>
                </a:lnTo>
                <a:lnTo>
                  <a:pt x="1810" y="1926"/>
                </a:lnTo>
                <a:lnTo>
                  <a:pt x="1804" y="1927"/>
                </a:lnTo>
                <a:lnTo>
                  <a:pt x="1800" y="1929"/>
                </a:lnTo>
                <a:lnTo>
                  <a:pt x="1788" y="1935"/>
                </a:lnTo>
                <a:lnTo>
                  <a:pt x="1765" y="1950"/>
                </a:lnTo>
                <a:lnTo>
                  <a:pt x="1744" y="1958"/>
                </a:lnTo>
                <a:lnTo>
                  <a:pt x="1743" y="1967"/>
                </a:lnTo>
                <a:lnTo>
                  <a:pt x="1741" y="1986"/>
                </a:lnTo>
                <a:lnTo>
                  <a:pt x="1730" y="2032"/>
                </a:lnTo>
                <a:lnTo>
                  <a:pt x="1714" y="2075"/>
                </a:lnTo>
                <a:lnTo>
                  <a:pt x="1711" y="2083"/>
                </a:lnTo>
                <a:lnTo>
                  <a:pt x="1733" y="2091"/>
                </a:lnTo>
                <a:lnTo>
                  <a:pt x="1754" y="2090"/>
                </a:lnTo>
                <a:lnTo>
                  <a:pt x="1770" y="2083"/>
                </a:lnTo>
                <a:lnTo>
                  <a:pt x="1785" y="2070"/>
                </a:lnTo>
                <a:lnTo>
                  <a:pt x="1797" y="2053"/>
                </a:lnTo>
                <a:lnTo>
                  <a:pt x="1807" y="2032"/>
                </a:lnTo>
                <a:lnTo>
                  <a:pt x="1822" y="1987"/>
                </a:lnTo>
                <a:lnTo>
                  <a:pt x="1834" y="1944"/>
                </a:lnTo>
                <a:lnTo>
                  <a:pt x="1843" y="1911"/>
                </a:lnTo>
                <a:lnTo>
                  <a:pt x="1844" y="1904"/>
                </a:lnTo>
                <a:lnTo>
                  <a:pt x="1848" y="1896"/>
                </a:lnTo>
                <a:lnTo>
                  <a:pt x="1856" y="1889"/>
                </a:lnTo>
                <a:lnTo>
                  <a:pt x="1864" y="1880"/>
                </a:lnTo>
                <a:lnTo>
                  <a:pt x="1886" y="1866"/>
                </a:lnTo>
                <a:lnTo>
                  <a:pt x="1929" y="1843"/>
                </a:lnTo>
                <a:lnTo>
                  <a:pt x="1943" y="1834"/>
                </a:lnTo>
                <a:lnTo>
                  <a:pt x="1941" y="1826"/>
                </a:lnTo>
                <a:lnTo>
                  <a:pt x="1939" y="1810"/>
                </a:lnTo>
                <a:lnTo>
                  <a:pt x="1932" y="1780"/>
                </a:lnTo>
                <a:lnTo>
                  <a:pt x="1925" y="1748"/>
                </a:lnTo>
                <a:lnTo>
                  <a:pt x="1925" y="1740"/>
                </a:lnTo>
                <a:lnTo>
                  <a:pt x="1916" y="1740"/>
                </a:lnTo>
                <a:lnTo>
                  <a:pt x="1906" y="1737"/>
                </a:lnTo>
                <a:lnTo>
                  <a:pt x="1885" y="1728"/>
                </a:lnTo>
                <a:lnTo>
                  <a:pt x="1840" y="1701"/>
                </a:lnTo>
                <a:lnTo>
                  <a:pt x="1810" y="1678"/>
                </a:lnTo>
                <a:lnTo>
                  <a:pt x="1810" y="1665"/>
                </a:lnTo>
                <a:lnTo>
                  <a:pt x="1817" y="1634"/>
                </a:lnTo>
                <a:lnTo>
                  <a:pt x="1847" y="1561"/>
                </a:lnTo>
                <a:lnTo>
                  <a:pt x="1884" y="1501"/>
                </a:lnTo>
                <a:lnTo>
                  <a:pt x="1893" y="1491"/>
                </a:lnTo>
                <a:lnTo>
                  <a:pt x="1914" y="1493"/>
                </a:lnTo>
                <a:lnTo>
                  <a:pt x="1961" y="1504"/>
                </a:lnTo>
                <a:lnTo>
                  <a:pt x="2010" y="1526"/>
                </a:lnTo>
                <a:lnTo>
                  <a:pt x="2098" y="1583"/>
                </a:lnTo>
                <a:lnTo>
                  <a:pt x="2140" y="1631"/>
                </a:lnTo>
                <a:lnTo>
                  <a:pt x="2148" y="1608"/>
                </a:lnTo>
                <a:lnTo>
                  <a:pt x="2150" y="1587"/>
                </a:lnTo>
                <a:lnTo>
                  <a:pt x="2146" y="1568"/>
                </a:lnTo>
                <a:lnTo>
                  <a:pt x="2138" y="1548"/>
                </a:lnTo>
                <a:lnTo>
                  <a:pt x="2125" y="1531"/>
                </a:lnTo>
                <a:lnTo>
                  <a:pt x="2109" y="1515"/>
                </a:lnTo>
                <a:lnTo>
                  <a:pt x="2069" y="1486"/>
                </a:lnTo>
                <a:lnTo>
                  <a:pt x="2028" y="1463"/>
                </a:lnTo>
                <a:lnTo>
                  <a:pt x="1991" y="1444"/>
                </a:lnTo>
                <a:lnTo>
                  <a:pt x="1968" y="1436"/>
                </a:lnTo>
                <a:lnTo>
                  <a:pt x="1916" y="1414"/>
                </a:lnTo>
                <a:lnTo>
                  <a:pt x="1796" y="1358"/>
                </a:lnTo>
                <a:lnTo>
                  <a:pt x="1683" y="1302"/>
                </a:lnTo>
                <a:lnTo>
                  <a:pt x="1662" y="1289"/>
                </a:lnTo>
                <a:lnTo>
                  <a:pt x="1662" y="1284"/>
                </a:lnTo>
                <a:lnTo>
                  <a:pt x="1664" y="1279"/>
                </a:lnTo>
                <a:lnTo>
                  <a:pt x="1670" y="1265"/>
                </a:lnTo>
                <a:lnTo>
                  <a:pt x="1691" y="1235"/>
                </a:lnTo>
                <a:lnTo>
                  <a:pt x="1711" y="1210"/>
                </a:lnTo>
                <a:lnTo>
                  <a:pt x="1694" y="1204"/>
                </a:lnTo>
                <a:lnTo>
                  <a:pt x="1664" y="1198"/>
                </a:lnTo>
                <a:lnTo>
                  <a:pt x="1634" y="1197"/>
                </a:lnTo>
                <a:lnTo>
                  <a:pt x="1576" y="1200"/>
                </a:lnTo>
                <a:lnTo>
                  <a:pt x="1530" y="1195"/>
                </a:lnTo>
                <a:lnTo>
                  <a:pt x="1493" y="1186"/>
                </a:lnTo>
                <a:lnTo>
                  <a:pt x="1428" y="1156"/>
                </a:lnTo>
                <a:lnTo>
                  <a:pt x="1372" y="1114"/>
                </a:lnTo>
                <a:lnTo>
                  <a:pt x="1327" y="1064"/>
                </a:lnTo>
                <a:lnTo>
                  <a:pt x="1294" y="1007"/>
                </a:lnTo>
                <a:lnTo>
                  <a:pt x="1272" y="946"/>
                </a:lnTo>
                <a:lnTo>
                  <a:pt x="1267" y="915"/>
                </a:lnTo>
                <a:lnTo>
                  <a:pt x="1253" y="875"/>
                </a:lnTo>
                <a:lnTo>
                  <a:pt x="1229" y="841"/>
                </a:lnTo>
                <a:lnTo>
                  <a:pt x="1200" y="811"/>
                </a:lnTo>
                <a:lnTo>
                  <a:pt x="1130" y="758"/>
                </a:lnTo>
                <a:lnTo>
                  <a:pt x="1060" y="707"/>
                </a:lnTo>
                <a:lnTo>
                  <a:pt x="1011" y="649"/>
                </a:lnTo>
                <a:lnTo>
                  <a:pt x="1000" y="613"/>
                </a:lnTo>
                <a:lnTo>
                  <a:pt x="1002" y="573"/>
                </a:lnTo>
                <a:lnTo>
                  <a:pt x="1018" y="525"/>
                </a:lnTo>
                <a:lnTo>
                  <a:pt x="1014" y="518"/>
                </a:lnTo>
                <a:lnTo>
                  <a:pt x="1006" y="502"/>
                </a:lnTo>
                <a:lnTo>
                  <a:pt x="993" y="465"/>
                </a:lnTo>
                <a:lnTo>
                  <a:pt x="987" y="416"/>
                </a:lnTo>
                <a:lnTo>
                  <a:pt x="987" y="401"/>
                </a:lnTo>
                <a:lnTo>
                  <a:pt x="999" y="391"/>
                </a:lnTo>
                <a:lnTo>
                  <a:pt x="1028" y="370"/>
                </a:lnTo>
                <a:lnTo>
                  <a:pt x="1092" y="331"/>
                </a:lnTo>
                <a:lnTo>
                  <a:pt x="1153" y="290"/>
                </a:lnTo>
                <a:lnTo>
                  <a:pt x="1167" y="278"/>
                </a:lnTo>
                <a:lnTo>
                  <a:pt x="1175" y="285"/>
                </a:lnTo>
                <a:lnTo>
                  <a:pt x="1193" y="296"/>
                </a:lnTo>
                <a:lnTo>
                  <a:pt x="1210" y="304"/>
                </a:lnTo>
                <a:lnTo>
                  <a:pt x="1247" y="311"/>
                </a:lnTo>
                <a:lnTo>
                  <a:pt x="1272" y="312"/>
                </a:lnTo>
                <a:lnTo>
                  <a:pt x="1263" y="290"/>
                </a:lnTo>
                <a:lnTo>
                  <a:pt x="1237" y="220"/>
                </a:lnTo>
                <a:lnTo>
                  <a:pt x="1218" y="166"/>
                </a:lnTo>
                <a:lnTo>
                  <a:pt x="1217" y="163"/>
                </a:lnTo>
                <a:lnTo>
                  <a:pt x="1210" y="160"/>
                </a:lnTo>
                <a:lnTo>
                  <a:pt x="1173" y="137"/>
                </a:lnTo>
                <a:lnTo>
                  <a:pt x="1041" y="62"/>
                </a:lnTo>
                <a:lnTo>
                  <a:pt x="941" y="4"/>
                </a:lnTo>
                <a:lnTo>
                  <a:pt x="936" y="0"/>
                </a:lnTo>
                <a:lnTo>
                  <a:pt x="931" y="2"/>
                </a:lnTo>
                <a:lnTo>
                  <a:pt x="910" y="14"/>
                </a:lnTo>
                <a:lnTo>
                  <a:pt x="833" y="57"/>
                </a:lnTo>
                <a:lnTo>
                  <a:pt x="775" y="89"/>
                </a:lnTo>
                <a:lnTo>
                  <a:pt x="771" y="90"/>
                </a:lnTo>
                <a:lnTo>
                  <a:pt x="769" y="90"/>
                </a:lnTo>
                <a:lnTo>
                  <a:pt x="758" y="88"/>
                </a:lnTo>
                <a:lnTo>
                  <a:pt x="719" y="81"/>
                </a:lnTo>
                <a:lnTo>
                  <a:pt x="689" y="75"/>
                </a:lnTo>
                <a:lnTo>
                  <a:pt x="688" y="74"/>
                </a:lnTo>
                <a:lnTo>
                  <a:pt x="661" y="85"/>
                </a:lnTo>
                <a:lnTo>
                  <a:pt x="632" y="105"/>
                </a:lnTo>
                <a:lnTo>
                  <a:pt x="626" y="113"/>
                </a:lnTo>
                <a:lnTo>
                  <a:pt x="624" y="121"/>
                </a:lnTo>
                <a:lnTo>
                  <a:pt x="622" y="128"/>
                </a:lnTo>
                <a:lnTo>
                  <a:pt x="619" y="142"/>
                </a:lnTo>
                <a:lnTo>
                  <a:pt x="614" y="148"/>
                </a:lnTo>
                <a:lnTo>
                  <a:pt x="603" y="156"/>
                </a:lnTo>
                <a:lnTo>
                  <a:pt x="586" y="164"/>
                </a:lnTo>
                <a:lnTo>
                  <a:pt x="561" y="171"/>
                </a:lnTo>
                <a:lnTo>
                  <a:pt x="555" y="159"/>
                </a:lnTo>
                <a:lnTo>
                  <a:pt x="541" y="140"/>
                </a:lnTo>
                <a:lnTo>
                  <a:pt x="525" y="129"/>
                </a:lnTo>
                <a:lnTo>
                  <a:pt x="508" y="124"/>
                </a:lnTo>
                <a:lnTo>
                  <a:pt x="494" y="122"/>
                </a:lnTo>
                <a:lnTo>
                  <a:pt x="483" y="122"/>
                </a:lnTo>
                <a:lnTo>
                  <a:pt x="481" y="122"/>
                </a:lnTo>
                <a:lnTo>
                  <a:pt x="480" y="125"/>
                </a:lnTo>
                <a:lnTo>
                  <a:pt x="472" y="141"/>
                </a:lnTo>
                <a:lnTo>
                  <a:pt x="449" y="198"/>
                </a:lnTo>
                <a:lnTo>
                  <a:pt x="429" y="242"/>
                </a:lnTo>
                <a:lnTo>
                  <a:pt x="429" y="244"/>
                </a:lnTo>
                <a:lnTo>
                  <a:pt x="427" y="242"/>
                </a:lnTo>
                <a:lnTo>
                  <a:pt x="415" y="226"/>
                </a:lnTo>
                <a:lnTo>
                  <a:pt x="377" y="169"/>
                </a:lnTo>
                <a:lnTo>
                  <a:pt x="347" y="126"/>
                </a:lnTo>
                <a:lnTo>
                  <a:pt x="346" y="123"/>
                </a:lnTo>
                <a:lnTo>
                  <a:pt x="345" y="124"/>
                </a:lnTo>
                <a:lnTo>
                  <a:pt x="338" y="127"/>
                </a:lnTo>
                <a:lnTo>
                  <a:pt x="317" y="139"/>
                </a:lnTo>
                <a:lnTo>
                  <a:pt x="300" y="148"/>
                </a:lnTo>
                <a:lnTo>
                  <a:pt x="300" y="151"/>
                </a:lnTo>
                <a:lnTo>
                  <a:pt x="300" y="160"/>
                </a:lnTo>
                <a:lnTo>
                  <a:pt x="300" y="193"/>
                </a:lnTo>
                <a:lnTo>
                  <a:pt x="300" y="219"/>
                </a:lnTo>
                <a:lnTo>
                  <a:pt x="300" y="220"/>
                </a:lnTo>
                <a:lnTo>
                  <a:pt x="294" y="221"/>
                </a:lnTo>
                <a:lnTo>
                  <a:pt x="257" y="226"/>
                </a:lnTo>
                <a:lnTo>
                  <a:pt x="132" y="244"/>
                </a:lnTo>
                <a:lnTo>
                  <a:pt x="36" y="258"/>
                </a:lnTo>
                <a:lnTo>
                  <a:pt x="32" y="258"/>
                </a:lnTo>
                <a:lnTo>
                  <a:pt x="34" y="263"/>
                </a:lnTo>
                <a:lnTo>
                  <a:pt x="49" y="284"/>
                </a:lnTo>
                <a:lnTo>
                  <a:pt x="102" y="357"/>
                </a:lnTo>
                <a:lnTo>
                  <a:pt x="143" y="413"/>
                </a:lnTo>
                <a:lnTo>
                  <a:pt x="146" y="416"/>
                </a:lnTo>
                <a:lnTo>
                  <a:pt x="144" y="417"/>
                </a:lnTo>
                <a:lnTo>
                  <a:pt x="130" y="425"/>
                </a:lnTo>
                <a:lnTo>
                  <a:pt x="85" y="446"/>
                </a:lnTo>
                <a:lnTo>
                  <a:pt x="50" y="463"/>
                </a:lnTo>
                <a:lnTo>
                  <a:pt x="49" y="463"/>
                </a:lnTo>
                <a:lnTo>
                  <a:pt x="50" y="465"/>
                </a:lnTo>
                <a:lnTo>
                  <a:pt x="58" y="473"/>
                </a:lnTo>
                <a:lnTo>
                  <a:pt x="88" y="503"/>
                </a:lnTo>
                <a:lnTo>
                  <a:pt x="111" y="524"/>
                </a:lnTo>
                <a:lnTo>
                  <a:pt x="113" y="525"/>
                </a:lnTo>
                <a:lnTo>
                  <a:pt x="94" y="527"/>
                </a:lnTo>
                <a:lnTo>
                  <a:pt x="62" y="531"/>
                </a:lnTo>
                <a:lnTo>
                  <a:pt x="18" y="536"/>
                </a:lnTo>
                <a:lnTo>
                  <a:pt x="10" y="539"/>
                </a:lnTo>
                <a:lnTo>
                  <a:pt x="5" y="542"/>
                </a:lnTo>
                <a:lnTo>
                  <a:pt x="2" y="546"/>
                </a:lnTo>
                <a:lnTo>
                  <a:pt x="0" y="550"/>
                </a:lnTo>
                <a:lnTo>
                  <a:pt x="0" y="556"/>
                </a:lnTo>
                <a:lnTo>
                  <a:pt x="0" y="558"/>
                </a:lnTo>
                <a:lnTo>
                  <a:pt x="3" y="572"/>
                </a:lnTo>
                <a:lnTo>
                  <a:pt x="10" y="618"/>
                </a:lnTo>
                <a:lnTo>
                  <a:pt x="15" y="654"/>
                </a:lnTo>
                <a:lnTo>
                  <a:pt x="17" y="655"/>
                </a:lnTo>
                <a:lnTo>
                  <a:pt x="18" y="657"/>
                </a:lnTo>
                <a:lnTo>
                  <a:pt x="29" y="668"/>
                </a:lnTo>
                <a:lnTo>
                  <a:pt x="68" y="707"/>
                </a:lnTo>
                <a:lnTo>
                  <a:pt x="98" y="736"/>
                </a:lnTo>
                <a:lnTo>
                  <a:pt x="100" y="737"/>
                </a:lnTo>
                <a:lnTo>
                  <a:pt x="101" y="737"/>
                </a:lnTo>
                <a:lnTo>
                  <a:pt x="110" y="736"/>
                </a:lnTo>
                <a:lnTo>
                  <a:pt x="142" y="733"/>
                </a:lnTo>
                <a:lnTo>
                  <a:pt x="166" y="730"/>
                </a:lnTo>
                <a:lnTo>
                  <a:pt x="168" y="729"/>
                </a:lnTo>
                <a:lnTo>
                  <a:pt x="168" y="740"/>
                </a:lnTo>
                <a:lnTo>
                  <a:pt x="168" y="752"/>
                </a:lnTo>
                <a:lnTo>
                  <a:pt x="168" y="745"/>
                </a:lnTo>
                <a:lnTo>
                  <a:pt x="168" y="730"/>
                </a:lnTo>
                <a:lnTo>
                  <a:pt x="168" y="729"/>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79"/>
          <p:cNvSpPr/>
          <p:nvPr/>
        </p:nvSpPr>
        <p:spPr>
          <a:xfrm>
            <a:off x="3701880" y="6716880"/>
            <a:ext cx="34920" cy="33120"/>
          </a:xfrm>
          <a:custGeom>
            <a:avLst/>
            <a:gdLst>
              <a:gd name="textAreaLeft" fmla="*/ 0 w 34920"/>
              <a:gd name="textAreaRight" fmla="*/ 34920 w 34920"/>
              <a:gd name="textAreaTop" fmla="*/ 0 h 33120"/>
              <a:gd name="textAreaBottom" fmla="*/ 33480 h 33120"/>
            </a:gdLst>
            <a:ahLst/>
            <a:rect l="textAreaLeft" t="textAreaTop" r="textAreaRight" b="textAreaBottom"/>
            <a:pathLst>
              <a:path w="44" h="44">
                <a:moveTo>
                  <a:pt x="24" y="44"/>
                </a:moveTo>
                <a:lnTo>
                  <a:pt x="14" y="38"/>
                </a:lnTo>
                <a:lnTo>
                  <a:pt x="2" y="32"/>
                </a:lnTo>
                <a:lnTo>
                  <a:pt x="0" y="31"/>
                </a:lnTo>
                <a:lnTo>
                  <a:pt x="1" y="30"/>
                </a:lnTo>
                <a:lnTo>
                  <a:pt x="2" y="30"/>
                </a:lnTo>
                <a:lnTo>
                  <a:pt x="4" y="29"/>
                </a:lnTo>
                <a:lnTo>
                  <a:pt x="7" y="27"/>
                </a:lnTo>
                <a:lnTo>
                  <a:pt x="10" y="24"/>
                </a:lnTo>
                <a:lnTo>
                  <a:pt x="13" y="17"/>
                </a:lnTo>
                <a:lnTo>
                  <a:pt x="14" y="9"/>
                </a:lnTo>
                <a:lnTo>
                  <a:pt x="15" y="3"/>
                </a:lnTo>
                <a:lnTo>
                  <a:pt x="22" y="3"/>
                </a:lnTo>
                <a:lnTo>
                  <a:pt x="34" y="1"/>
                </a:lnTo>
                <a:lnTo>
                  <a:pt x="42" y="0"/>
                </a:lnTo>
                <a:lnTo>
                  <a:pt x="43" y="0"/>
                </a:lnTo>
                <a:lnTo>
                  <a:pt x="44" y="1"/>
                </a:lnTo>
                <a:lnTo>
                  <a:pt x="44" y="2"/>
                </a:lnTo>
                <a:lnTo>
                  <a:pt x="44" y="3"/>
                </a:lnTo>
                <a:lnTo>
                  <a:pt x="44" y="4"/>
                </a:lnTo>
                <a:lnTo>
                  <a:pt x="43" y="6"/>
                </a:lnTo>
                <a:lnTo>
                  <a:pt x="41" y="12"/>
                </a:lnTo>
                <a:lnTo>
                  <a:pt x="31" y="31"/>
                </a:lnTo>
                <a:lnTo>
                  <a:pt x="24" y="44"/>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 name="Freeform 80"/>
          <p:cNvSpPr/>
          <p:nvPr/>
        </p:nvSpPr>
        <p:spPr>
          <a:xfrm>
            <a:off x="3701880" y="6716880"/>
            <a:ext cx="34920" cy="33120"/>
          </a:xfrm>
          <a:custGeom>
            <a:avLst/>
            <a:gdLst>
              <a:gd name="textAreaLeft" fmla="*/ 0 w 34920"/>
              <a:gd name="textAreaRight" fmla="*/ 34920 w 34920"/>
              <a:gd name="textAreaTop" fmla="*/ 0 h 33120"/>
              <a:gd name="textAreaBottom" fmla="*/ 33480 h 33120"/>
            </a:gdLst>
            <a:ahLst/>
            <a:rect l="textAreaLeft" t="textAreaTop" r="textAreaRight" b="textAreaBottom"/>
            <a:pathLst>
              <a:path w="44" h="44">
                <a:moveTo>
                  <a:pt x="24" y="44"/>
                </a:moveTo>
                <a:lnTo>
                  <a:pt x="14" y="38"/>
                </a:lnTo>
                <a:lnTo>
                  <a:pt x="2" y="32"/>
                </a:lnTo>
                <a:lnTo>
                  <a:pt x="0" y="31"/>
                </a:lnTo>
                <a:lnTo>
                  <a:pt x="1" y="30"/>
                </a:lnTo>
                <a:lnTo>
                  <a:pt x="2" y="30"/>
                </a:lnTo>
                <a:lnTo>
                  <a:pt x="4" y="29"/>
                </a:lnTo>
                <a:lnTo>
                  <a:pt x="7" y="27"/>
                </a:lnTo>
                <a:lnTo>
                  <a:pt x="10" y="24"/>
                </a:lnTo>
                <a:lnTo>
                  <a:pt x="13" y="17"/>
                </a:lnTo>
                <a:lnTo>
                  <a:pt x="14" y="9"/>
                </a:lnTo>
                <a:lnTo>
                  <a:pt x="15" y="3"/>
                </a:lnTo>
                <a:lnTo>
                  <a:pt x="22" y="3"/>
                </a:lnTo>
                <a:lnTo>
                  <a:pt x="34" y="1"/>
                </a:lnTo>
                <a:lnTo>
                  <a:pt x="42" y="0"/>
                </a:lnTo>
                <a:lnTo>
                  <a:pt x="43" y="0"/>
                </a:lnTo>
                <a:lnTo>
                  <a:pt x="44" y="1"/>
                </a:lnTo>
                <a:lnTo>
                  <a:pt x="44" y="2"/>
                </a:lnTo>
                <a:lnTo>
                  <a:pt x="44" y="3"/>
                </a:lnTo>
                <a:lnTo>
                  <a:pt x="44" y="4"/>
                </a:lnTo>
                <a:lnTo>
                  <a:pt x="43" y="6"/>
                </a:lnTo>
                <a:lnTo>
                  <a:pt x="41" y="12"/>
                </a:lnTo>
                <a:lnTo>
                  <a:pt x="31" y="31"/>
                </a:lnTo>
                <a:lnTo>
                  <a:pt x="24" y="44"/>
                </a:lnTo>
              </a:path>
            </a:pathLst>
          </a:custGeom>
          <a:noFill/>
          <a:ln w="6480">
            <a:solidFill>
              <a:srgbClr val="1f1a17"/>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2" name="Freeform 81"/>
          <p:cNvSpPr/>
          <p:nvPr/>
        </p:nvSpPr>
        <p:spPr>
          <a:xfrm>
            <a:off x="0" y="5237280"/>
            <a:ext cx="652320" cy="942840"/>
          </a:xfrm>
          <a:custGeom>
            <a:avLst/>
            <a:gdLst>
              <a:gd name="textAreaLeft" fmla="*/ 0 w 652320"/>
              <a:gd name="textAreaRight" fmla="*/ 652320 w 652320"/>
              <a:gd name="textAreaTop" fmla="*/ 0 h 942840"/>
              <a:gd name="textAreaBottom" fmla="*/ 943200 h 942840"/>
            </a:gdLst>
            <a:ahLst/>
            <a:rect l="textAreaLeft" t="textAreaTop" r="textAreaRight" b="textAreaBottom"/>
            <a:pathLst>
              <a:path w="822" h="1187">
                <a:moveTo>
                  <a:pt x="635" y="643"/>
                </a:moveTo>
                <a:lnTo>
                  <a:pt x="636" y="634"/>
                </a:lnTo>
                <a:lnTo>
                  <a:pt x="638" y="615"/>
                </a:lnTo>
                <a:lnTo>
                  <a:pt x="649" y="557"/>
                </a:lnTo>
                <a:lnTo>
                  <a:pt x="674" y="409"/>
                </a:lnTo>
                <a:lnTo>
                  <a:pt x="689" y="323"/>
                </a:lnTo>
                <a:lnTo>
                  <a:pt x="692" y="322"/>
                </a:lnTo>
                <a:lnTo>
                  <a:pt x="710" y="312"/>
                </a:lnTo>
                <a:lnTo>
                  <a:pt x="772" y="276"/>
                </a:lnTo>
                <a:lnTo>
                  <a:pt x="819" y="249"/>
                </a:lnTo>
                <a:lnTo>
                  <a:pt x="822" y="247"/>
                </a:lnTo>
                <a:lnTo>
                  <a:pt x="819" y="238"/>
                </a:lnTo>
                <a:lnTo>
                  <a:pt x="813" y="208"/>
                </a:lnTo>
                <a:lnTo>
                  <a:pt x="807" y="185"/>
                </a:lnTo>
                <a:lnTo>
                  <a:pt x="807" y="183"/>
                </a:lnTo>
                <a:lnTo>
                  <a:pt x="802" y="181"/>
                </a:lnTo>
                <a:lnTo>
                  <a:pt x="767" y="166"/>
                </a:lnTo>
                <a:lnTo>
                  <a:pt x="644" y="113"/>
                </a:lnTo>
                <a:lnTo>
                  <a:pt x="551" y="72"/>
                </a:lnTo>
                <a:lnTo>
                  <a:pt x="547" y="69"/>
                </a:lnTo>
                <a:lnTo>
                  <a:pt x="548" y="68"/>
                </a:lnTo>
                <a:lnTo>
                  <a:pt x="549" y="67"/>
                </a:lnTo>
                <a:lnTo>
                  <a:pt x="550" y="65"/>
                </a:lnTo>
                <a:lnTo>
                  <a:pt x="553" y="58"/>
                </a:lnTo>
                <a:lnTo>
                  <a:pt x="565" y="42"/>
                </a:lnTo>
                <a:lnTo>
                  <a:pt x="575" y="31"/>
                </a:lnTo>
                <a:lnTo>
                  <a:pt x="571" y="31"/>
                </a:lnTo>
                <a:lnTo>
                  <a:pt x="553" y="27"/>
                </a:lnTo>
                <a:lnTo>
                  <a:pt x="489" y="12"/>
                </a:lnTo>
                <a:lnTo>
                  <a:pt x="441" y="1"/>
                </a:lnTo>
                <a:lnTo>
                  <a:pt x="439" y="0"/>
                </a:lnTo>
                <a:lnTo>
                  <a:pt x="440" y="5"/>
                </a:lnTo>
                <a:lnTo>
                  <a:pt x="440" y="10"/>
                </a:lnTo>
                <a:lnTo>
                  <a:pt x="437" y="16"/>
                </a:lnTo>
                <a:lnTo>
                  <a:pt x="435" y="22"/>
                </a:lnTo>
                <a:lnTo>
                  <a:pt x="426" y="34"/>
                </a:lnTo>
                <a:lnTo>
                  <a:pt x="413" y="49"/>
                </a:lnTo>
                <a:lnTo>
                  <a:pt x="378" y="78"/>
                </a:lnTo>
                <a:lnTo>
                  <a:pt x="311" y="135"/>
                </a:lnTo>
                <a:lnTo>
                  <a:pt x="293" y="156"/>
                </a:lnTo>
                <a:lnTo>
                  <a:pt x="315" y="182"/>
                </a:lnTo>
                <a:lnTo>
                  <a:pt x="326" y="204"/>
                </a:lnTo>
                <a:lnTo>
                  <a:pt x="328" y="223"/>
                </a:lnTo>
                <a:lnTo>
                  <a:pt x="322" y="238"/>
                </a:lnTo>
                <a:lnTo>
                  <a:pt x="310" y="253"/>
                </a:lnTo>
                <a:lnTo>
                  <a:pt x="295" y="268"/>
                </a:lnTo>
                <a:lnTo>
                  <a:pt x="263" y="296"/>
                </a:lnTo>
                <a:lnTo>
                  <a:pt x="251" y="313"/>
                </a:lnTo>
                <a:lnTo>
                  <a:pt x="244" y="331"/>
                </a:lnTo>
                <a:lnTo>
                  <a:pt x="245" y="353"/>
                </a:lnTo>
                <a:lnTo>
                  <a:pt x="255" y="379"/>
                </a:lnTo>
                <a:lnTo>
                  <a:pt x="256" y="379"/>
                </a:lnTo>
                <a:lnTo>
                  <a:pt x="234" y="402"/>
                </a:lnTo>
                <a:lnTo>
                  <a:pt x="190" y="452"/>
                </a:lnTo>
                <a:lnTo>
                  <a:pt x="107" y="563"/>
                </a:lnTo>
                <a:lnTo>
                  <a:pt x="21" y="667"/>
                </a:lnTo>
                <a:lnTo>
                  <a:pt x="0" y="690"/>
                </a:lnTo>
                <a:lnTo>
                  <a:pt x="4" y="704"/>
                </a:lnTo>
                <a:lnTo>
                  <a:pt x="16" y="731"/>
                </a:lnTo>
                <a:lnTo>
                  <a:pt x="49" y="788"/>
                </a:lnTo>
                <a:lnTo>
                  <a:pt x="94" y="836"/>
                </a:lnTo>
                <a:lnTo>
                  <a:pt x="108" y="844"/>
                </a:lnTo>
                <a:lnTo>
                  <a:pt x="108" y="866"/>
                </a:lnTo>
                <a:lnTo>
                  <a:pt x="105" y="882"/>
                </a:lnTo>
                <a:lnTo>
                  <a:pt x="99" y="896"/>
                </a:lnTo>
                <a:lnTo>
                  <a:pt x="90" y="908"/>
                </a:lnTo>
                <a:lnTo>
                  <a:pt x="79" y="917"/>
                </a:lnTo>
                <a:lnTo>
                  <a:pt x="59" y="932"/>
                </a:lnTo>
                <a:lnTo>
                  <a:pt x="51" y="938"/>
                </a:lnTo>
                <a:lnTo>
                  <a:pt x="46" y="945"/>
                </a:lnTo>
                <a:lnTo>
                  <a:pt x="45" y="948"/>
                </a:lnTo>
                <a:lnTo>
                  <a:pt x="45" y="952"/>
                </a:lnTo>
                <a:lnTo>
                  <a:pt x="47" y="956"/>
                </a:lnTo>
                <a:lnTo>
                  <a:pt x="49" y="962"/>
                </a:lnTo>
                <a:lnTo>
                  <a:pt x="54" y="967"/>
                </a:lnTo>
                <a:lnTo>
                  <a:pt x="60" y="972"/>
                </a:lnTo>
                <a:lnTo>
                  <a:pt x="70" y="985"/>
                </a:lnTo>
                <a:lnTo>
                  <a:pt x="76" y="999"/>
                </a:lnTo>
                <a:lnTo>
                  <a:pt x="77" y="1014"/>
                </a:lnTo>
                <a:lnTo>
                  <a:pt x="75" y="1029"/>
                </a:lnTo>
                <a:lnTo>
                  <a:pt x="71" y="1045"/>
                </a:lnTo>
                <a:lnTo>
                  <a:pt x="54" y="1077"/>
                </a:lnTo>
                <a:lnTo>
                  <a:pt x="31" y="1105"/>
                </a:lnTo>
                <a:lnTo>
                  <a:pt x="10" y="1130"/>
                </a:lnTo>
                <a:lnTo>
                  <a:pt x="0" y="1139"/>
                </a:lnTo>
                <a:lnTo>
                  <a:pt x="5" y="1140"/>
                </a:lnTo>
                <a:lnTo>
                  <a:pt x="47" y="1147"/>
                </a:lnTo>
                <a:lnTo>
                  <a:pt x="190" y="1169"/>
                </a:lnTo>
                <a:lnTo>
                  <a:pt x="299" y="1187"/>
                </a:lnTo>
                <a:lnTo>
                  <a:pt x="306" y="1187"/>
                </a:lnTo>
                <a:lnTo>
                  <a:pt x="308" y="1184"/>
                </a:lnTo>
                <a:lnTo>
                  <a:pt x="327" y="1159"/>
                </a:lnTo>
                <a:lnTo>
                  <a:pt x="393" y="1074"/>
                </a:lnTo>
                <a:lnTo>
                  <a:pt x="444" y="1009"/>
                </a:lnTo>
                <a:lnTo>
                  <a:pt x="447" y="1005"/>
                </a:lnTo>
                <a:lnTo>
                  <a:pt x="475" y="1005"/>
                </a:lnTo>
                <a:lnTo>
                  <a:pt x="518" y="1003"/>
                </a:lnTo>
                <a:lnTo>
                  <a:pt x="543" y="998"/>
                </a:lnTo>
                <a:lnTo>
                  <a:pt x="545" y="996"/>
                </a:lnTo>
                <a:lnTo>
                  <a:pt x="547" y="994"/>
                </a:lnTo>
                <a:lnTo>
                  <a:pt x="547" y="993"/>
                </a:lnTo>
                <a:lnTo>
                  <a:pt x="547" y="992"/>
                </a:lnTo>
                <a:lnTo>
                  <a:pt x="547" y="991"/>
                </a:lnTo>
                <a:lnTo>
                  <a:pt x="546" y="990"/>
                </a:lnTo>
                <a:lnTo>
                  <a:pt x="543" y="987"/>
                </a:lnTo>
                <a:lnTo>
                  <a:pt x="538" y="984"/>
                </a:lnTo>
                <a:lnTo>
                  <a:pt x="525" y="978"/>
                </a:lnTo>
                <a:lnTo>
                  <a:pt x="485" y="963"/>
                </a:lnTo>
                <a:lnTo>
                  <a:pt x="463" y="955"/>
                </a:lnTo>
                <a:lnTo>
                  <a:pt x="464" y="953"/>
                </a:lnTo>
                <a:lnTo>
                  <a:pt x="474" y="932"/>
                </a:lnTo>
                <a:lnTo>
                  <a:pt x="509" y="860"/>
                </a:lnTo>
                <a:lnTo>
                  <a:pt x="536" y="805"/>
                </a:lnTo>
                <a:lnTo>
                  <a:pt x="538" y="802"/>
                </a:lnTo>
                <a:lnTo>
                  <a:pt x="540" y="794"/>
                </a:lnTo>
                <a:lnTo>
                  <a:pt x="540" y="785"/>
                </a:lnTo>
                <a:lnTo>
                  <a:pt x="537" y="775"/>
                </a:lnTo>
                <a:lnTo>
                  <a:pt x="531" y="763"/>
                </a:lnTo>
                <a:lnTo>
                  <a:pt x="517" y="737"/>
                </a:lnTo>
                <a:lnTo>
                  <a:pt x="495" y="673"/>
                </a:lnTo>
                <a:lnTo>
                  <a:pt x="502" y="635"/>
                </a:lnTo>
                <a:lnTo>
                  <a:pt x="507" y="643"/>
                </a:lnTo>
                <a:lnTo>
                  <a:pt x="526" y="667"/>
                </a:lnTo>
                <a:lnTo>
                  <a:pt x="540" y="685"/>
                </a:lnTo>
                <a:lnTo>
                  <a:pt x="541" y="685"/>
                </a:lnTo>
                <a:lnTo>
                  <a:pt x="555" y="679"/>
                </a:lnTo>
                <a:lnTo>
                  <a:pt x="599" y="659"/>
                </a:lnTo>
                <a:lnTo>
                  <a:pt x="633" y="644"/>
                </a:lnTo>
                <a:lnTo>
                  <a:pt x="635" y="643"/>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82"/>
          <p:cNvSpPr/>
          <p:nvPr/>
        </p:nvSpPr>
        <p:spPr>
          <a:xfrm>
            <a:off x="0" y="5237280"/>
            <a:ext cx="652320" cy="942840"/>
          </a:xfrm>
          <a:custGeom>
            <a:avLst/>
            <a:gdLst>
              <a:gd name="textAreaLeft" fmla="*/ 0 w 652320"/>
              <a:gd name="textAreaRight" fmla="*/ 652320 w 652320"/>
              <a:gd name="textAreaTop" fmla="*/ 0 h 942840"/>
              <a:gd name="textAreaBottom" fmla="*/ 943200 h 942840"/>
            </a:gdLst>
            <a:ahLst/>
            <a:rect l="textAreaLeft" t="textAreaTop" r="textAreaRight" b="textAreaBottom"/>
            <a:pathLst>
              <a:path w="822" h="1187">
                <a:moveTo>
                  <a:pt x="635" y="643"/>
                </a:moveTo>
                <a:lnTo>
                  <a:pt x="636" y="634"/>
                </a:lnTo>
                <a:lnTo>
                  <a:pt x="638" y="615"/>
                </a:lnTo>
                <a:lnTo>
                  <a:pt x="649" y="557"/>
                </a:lnTo>
                <a:lnTo>
                  <a:pt x="674" y="409"/>
                </a:lnTo>
                <a:lnTo>
                  <a:pt x="689" y="323"/>
                </a:lnTo>
                <a:lnTo>
                  <a:pt x="692" y="322"/>
                </a:lnTo>
                <a:lnTo>
                  <a:pt x="710" y="312"/>
                </a:lnTo>
                <a:lnTo>
                  <a:pt x="772" y="276"/>
                </a:lnTo>
                <a:lnTo>
                  <a:pt x="819" y="249"/>
                </a:lnTo>
                <a:lnTo>
                  <a:pt x="822" y="247"/>
                </a:lnTo>
                <a:lnTo>
                  <a:pt x="819" y="238"/>
                </a:lnTo>
                <a:lnTo>
                  <a:pt x="813" y="208"/>
                </a:lnTo>
                <a:lnTo>
                  <a:pt x="807" y="185"/>
                </a:lnTo>
                <a:lnTo>
                  <a:pt x="807" y="183"/>
                </a:lnTo>
                <a:lnTo>
                  <a:pt x="802" y="181"/>
                </a:lnTo>
                <a:lnTo>
                  <a:pt x="767" y="166"/>
                </a:lnTo>
                <a:lnTo>
                  <a:pt x="644" y="113"/>
                </a:lnTo>
                <a:lnTo>
                  <a:pt x="551" y="72"/>
                </a:lnTo>
                <a:lnTo>
                  <a:pt x="547" y="69"/>
                </a:lnTo>
                <a:lnTo>
                  <a:pt x="548" y="68"/>
                </a:lnTo>
                <a:lnTo>
                  <a:pt x="549" y="67"/>
                </a:lnTo>
                <a:lnTo>
                  <a:pt x="550" y="65"/>
                </a:lnTo>
                <a:lnTo>
                  <a:pt x="553" y="58"/>
                </a:lnTo>
                <a:lnTo>
                  <a:pt x="565" y="42"/>
                </a:lnTo>
                <a:lnTo>
                  <a:pt x="575" y="31"/>
                </a:lnTo>
                <a:lnTo>
                  <a:pt x="571" y="31"/>
                </a:lnTo>
                <a:lnTo>
                  <a:pt x="553" y="27"/>
                </a:lnTo>
                <a:lnTo>
                  <a:pt x="489" y="12"/>
                </a:lnTo>
                <a:lnTo>
                  <a:pt x="441" y="1"/>
                </a:lnTo>
                <a:lnTo>
                  <a:pt x="439" y="0"/>
                </a:lnTo>
                <a:lnTo>
                  <a:pt x="440" y="5"/>
                </a:lnTo>
                <a:lnTo>
                  <a:pt x="440" y="10"/>
                </a:lnTo>
                <a:lnTo>
                  <a:pt x="437" y="16"/>
                </a:lnTo>
                <a:lnTo>
                  <a:pt x="435" y="22"/>
                </a:lnTo>
                <a:lnTo>
                  <a:pt x="426" y="34"/>
                </a:lnTo>
                <a:lnTo>
                  <a:pt x="413" y="49"/>
                </a:lnTo>
                <a:lnTo>
                  <a:pt x="378" y="78"/>
                </a:lnTo>
                <a:lnTo>
                  <a:pt x="311" y="135"/>
                </a:lnTo>
                <a:lnTo>
                  <a:pt x="293" y="156"/>
                </a:lnTo>
                <a:lnTo>
                  <a:pt x="315" y="182"/>
                </a:lnTo>
                <a:lnTo>
                  <a:pt x="326" y="204"/>
                </a:lnTo>
                <a:lnTo>
                  <a:pt x="328" y="223"/>
                </a:lnTo>
                <a:lnTo>
                  <a:pt x="322" y="238"/>
                </a:lnTo>
                <a:lnTo>
                  <a:pt x="310" y="253"/>
                </a:lnTo>
                <a:lnTo>
                  <a:pt x="295" y="268"/>
                </a:lnTo>
                <a:lnTo>
                  <a:pt x="263" y="296"/>
                </a:lnTo>
                <a:lnTo>
                  <a:pt x="251" y="313"/>
                </a:lnTo>
                <a:lnTo>
                  <a:pt x="244" y="331"/>
                </a:lnTo>
                <a:lnTo>
                  <a:pt x="245" y="353"/>
                </a:lnTo>
                <a:lnTo>
                  <a:pt x="255" y="379"/>
                </a:lnTo>
                <a:lnTo>
                  <a:pt x="256" y="379"/>
                </a:lnTo>
                <a:lnTo>
                  <a:pt x="234" y="402"/>
                </a:lnTo>
                <a:lnTo>
                  <a:pt x="190" y="452"/>
                </a:lnTo>
                <a:lnTo>
                  <a:pt x="107" y="563"/>
                </a:lnTo>
                <a:lnTo>
                  <a:pt x="21" y="667"/>
                </a:lnTo>
                <a:lnTo>
                  <a:pt x="0" y="690"/>
                </a:lnTo>
                <a:lnTo>
                  <a:pt x="4" y="704"/>
                </a:lnTo>
                <a:lnTo>
                  <a:pt x="16" y="731"/>
                </a:lnTo>
                <a:lnTo>
                  <a:pt x="49" y="788"/>
                </a:lnTo>
                <a:lnTo>
                  <a:pt x="94" y="836"/>
                </a:lnTo>
                <a:lnTo>
                  <a:pt x="108" y="844"/>
                </a:lnTo>
                <a:lnTo>
                  <a:pt x="108" y="866"/>
                </a:lnTo>
                <a:lnTo>
                  <a:pt x="105" y="882"/>
                </a:lnTo>
                <a:lnTo>
                  <a:pt x="99" y="896"/>
                </a:lnTo>
                <a:lnTo>
                  <a:pt x="90" y="908"/>
                </a:lnTo>
                <a:lnTo>
                  <a:pt x="79" y="917"/>
                </a:lnTo>
                <a:lnTo>
                  <a:pt x="59" y="932"/>
                </a:lnTo>
                <a:lnTo>
                  <a:pt x="51" y="938"/>
                </a:lnTo>
                <a:lnTo>
                  <a:pt x="46" y="945"/>
                </a:lnTo>
                <a:lnTo>
                  <a:pt x="45" y="948"/>
                </a:lnTo>
                <a:lnTo>
                  <a:pt x="45" y="952"/>
                </a:lnTo>
                <a:lnTo>
                  <a:pt x="47" y="956"/>
                </a:lnTo>
                <a:lnTo>
                  <a:pt x="49" y="962"/>
                </a:lnTo>
                <a:lnTo>
                  <a:pt x="54" y="967"/>
                </a:lnTo>
                <a:lnTo>
                  <a:pt x="60" y="972"/>
                </a:lnTo>
                <a:lnTo>
                  <a:pt x="70" y="985"/>
                </a:lnTo>
                <a:lnTo>
                  <a:pt x="76" y="999"/>
                </a:lnTo>
                <a:lnTo>
                  <a:pt x="77" y="1014"/>
                </a:lnTo>
                <a:lnTo>
                  <a:pt x="75" y="1029"/>
                </a:lnTo>
                <a:lnTo>
                  <a:pt x="71" y="1045"/>
                </a:lnTo>
                <a:lnTo>
                  <a:pt x="54" y="1077"/>
                </a:lnTo>
                <a:lnTo>
                  <a:pt x="31" y="1105"/>
                </a:lnTo>
                <a:lnTo>
                  <a:pt x="10" y="1130"/>
                </a:lnTo>
                <a:lnTo>
                  <a:pt x="0" y="1139"/>
                </a:lnTo>
                <a:lnTo>
                  <a:pt x="5" y="1140"/>
                </a:lnTo>
                <a:lnTo>
                  <a:pt x="47" y="1147"/>
                </a:lnTo>
                <a:lnTo>
                  <a:pt x="190" y="1169"/>
                </a:lnTo>
                <a:lnTo>
                  <a:pt x="299" y="1187"/>
                </a:lnTo>
                <a:lnTo>
                  <a:pt x="306" y="1187"/>
                </a:lnTo>
                <a:lnTo>
                  <a:pt x="308" y="1184"/>
                </a:lnTo>
                <a:lnTo>
                  <a:pt x="327" y="1159"/>
                </a:lnTo>
                <a:lnTo>
                  <a:pt x="393" y="1074"/>
                </a:lnTo>
                <a:lnTo>
                  <a:pt x="444" y="1009"/>
                </a:lnTo>
                <a:lnTo>
                  <a:pt x="447" y="1005"/>
                </a:lnTo>
                <a:lnTo>
                  <a:pt x="475" y="1005"/>
                </a:lnTo>
                <a:lnTo>
                  <a:pt x="518" y="1003"/>
                </a:lnTo>
                <a:lnTo>
                  <a:pt x="543" y="998"/>
                </a:lnTo>
                <a:lnTo>
                  <a:pt x="545" y="996"/>
                </a:lnTo>
                <a:lnTo>
                  <a:pt x="547" y="994"/>
                </a:lnTo>
                <a:lnTo>
                  <a:pt x="547" y="993"/>
                </a:lnTo>
                <a:lnTo>
                  <a:pt x="547" y="992"/>
                </a:lnTo>
                <a:lnTo>
                  <a:pt x="547" y="991"/>
                </a:lnTo>
                <a:lnTo>
                  <a:pt x="546" y="990"/>
                </a:lnTo>
                <a:lnTo>
                  <a:pt x="543" y="987"/>
                </a:lnTo>
                <a:lnTo>
                  <a:pt x="538" y="984"/>
                </a:lnTo>
                <a:lnTo>
                  <a:pt x="525" y="978"/>
                </a:lnTo>
                <a:lnTo>
                  <a:pt x="485" y="963"/>
                </a:lnTo>
                <a:lnTo>
                  <a:pt x="463" y="955"/>
                </a:lnTo>
                <a:lnTo>
                  <a:pt x="464" y="953"/>
                </a:lnTo>
                <a:lnTo>
                  <a:pt x="474" y="932"/>
                </a:lnTo>
                <a:lnTo>
                  <a:pt x="509" y="860"/>
                </a:lnTo>
                <a:lnTo>
                  <a:pt x="536" y="805"/>
                </a:lnTo>
                <a:lnTo>
                  <a:pt x="538" y="802"/>
                </a:lnTo>
                <a:lnTo>
                  <a:pt x="540" y="794"/>
                </a:lnTo>
                <a:lnTo>
                  <a:pt x="540" y="785"/>
                </a:lnTo>
                <a:lnTo>
                  <a:pt x="537" y="775"/>
                </a:lnTo>
                <a:lnTo>
                  <a:pt x="531" y="763"/>
                </a:lnTo>
                <a:lnTo>
                  <a:pt x="517" y="737"/>
                </a:lnTo>
                <a:lnTo>
                  <a:pt x="495" y="673"/>
                </a:lnTo>
                <a:lnTo>
                  <a:pt x="502" y="635"/>
                </a:lnTo>
                <a:lnTo>
                  <a:pt x="507" y="643"/>
                </a:lnTo>
                <a:lnTo>
                  <a:pt x="526" y="667"/>
                </a:lnTo>
                <a:lnTo>
                  <a:pt x="540" y="685"/>
                </a:lnTo>
                <a:lnTo>
                  <a:pt x="541" y="685"/>
                </a:lnTo>
                <a:lnTo>
                  <a:pt x="555" y="679"/>
                </a:lnTo>
                <a:lnTo>
                  <a:pt x="599" y="659"/>
                </a:lnTo>
                <a:lnTo>
                  <a:pt x="633" y="644"/>
                </a:lnTo>
                <a:lnTo>
                  <a:pt x="635" y="643"/>
                </a:lnTo>
              </a:path>
            </a:pathLst>
          </a:custGeom>
          <a:blipFill rotWithShape="0">
            <a:blip r:embed="rId5"/>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83"/>
          <p:cNvSpPr/>
          <p:nvPr/>
        </p:nvSpPr>
        <p:spPr>
          <a:xfrm>
            <a:off x="243000" y="4994280"/>
            <a:ext cx="2001600" cy="1420920"/>
          </a:xfrm>
          <a:custGeom>
            <a:avLst/>
            <a:gdLst>
              <a:gd name="textAreaLeft" fmla="*/ 0 w 2001600"/>
              <a:gd name="textAreaRight" fmla="*/ 2001960 w 2001600"/>
              <a:gd name="textAreaTop" fmla="*/ 0 h 1420920"/>
              <a:gd name="textAreaBottom" fmla="*/ 1420920 h 1420920"/>
            </a:gdLst>
            <a:ahLst/>
            <a:rect l="textAreaLeft" t="textAreaTop" r="textAreaRight" b="textAreaBottom"/>
            <a:pathLst>
              <a:path w="2522" h="1790">
                <a:moveTo>
                  <a:pt x="1862" y="1387"/>
                </a:moveTo>
                <a:lnTo>
                  <a:pt x="1870" y="1384"/>
                </a:lnTo>
                <a:lnTo>
                  <a:pt x="1884" y="1380"/>
                </a:lnTo>
                <a:lnTo>
                  <a:pt x="1896" y="1379"/>
                </a:lnTo>
                <a:lnTo>
                  <a:pt x="1907" y="1381"/>
                </a:lnTo>
                <a:lnTo>
                  <a:pt x="1920" y="1385"/>
                </a:lnTo>
                <a:lnTo>
                  <a:pt x="1933" y="1391"/>
                </a:lnTo>
                <a:lnTo>
                  <a:pt x="1941" y="1394"/>
                </a:lnTo>
                <a:lnTo>
                  <a:pt x="1936" y="1396"/>
                </a:lnTo>
                <a:lnTo>
                  <a:pt x="1922" y="1403"/>
                </a:lnTo>
                <a:lnTo>
                  <a:pt x="1888" y="1413"/>
                </a:lnTo>
                <a:lnTo>
                  <a:pt x="1879" y="1413"/>
                </a:lnTo>
                <a:lnTo>
                  <a:pt x="1872" y="1410"/>
                </a:lnTo>
                <a:lnTo>
                  <a:pt x="1867" y="1406"/>
                </a:lnTo>
                <a:lnTo>
                  <a:pt x="1863" y="1398"/>
                </a:lnTo>
                <a:lnTo>
                  <a:pt x="1862" y="1387"/>
                </a:lnTo>
                <a:lnTo>
                  <a:pt x="1869" y="1384"/>
                </a:lnTo>
                <a:lnTo>
                  <a:pt x="1875" y="1381"/>
                </a:lnTo>
                <a:lnTo>
                  <a:pt x="1872" y="1383"/>
                </a:lnTo>
                <a:lnTo>
                  <a:pt x="1862" y="1387"/>
                </a:lnTo>
                <a:close/>
                <a:moveTo>
                  <a:pt x="2378" y="1146"/>
                </a:moveTo>
                <a:lnTo>
                  <a:pt x="2418" y="1148"/>
                </a:lnTo>
                <a:lnTo>
                  <a:pt x="2479" y="1155"/>
                </a:lnTo>
                <a:lnTo>
                  <a:pt x="2513" y="1167"/>
                </a:lnTo>
                <a:lnTo>
                  <a:pt x="2519" y="1170"/>
                </a:lnTo>
                <a:lnTo>
                  <a:pt x="2521" y="1174"/>
                </a:lnTo>
                <a:lnTo>
                  <a:pt x="2522" y="1177"/>
                </a:lnTo>
                <a:lnTo>
                  <a:pt x="2522" y="1181"/>
                </a:lnTo>
                <a:lnTo>
                  <a:pt x="2519" y="1184"/>
                </a:lnTo>
                <a:lnTo>
                  <a:pt x="2514" y="1187"/>
                </a:lnTo>
                <a:lnTo>
                  <a:pt x="2509" y="1191"/>
                </a:lnTo>
                <a:lnTo>
                  <a:pt x="2492" y="1196"/>
                </a:lnTo>
                <a:lnTo>
                  <a:pt x="2466" y="1201"/>
                </a:lnTo>
                <a:lnTo>
                  <a:pt x="2434" y="1204"/>
                </a:lnTo>
                <a:lnTo>
                  <a:pt x="2416" y="1205"/>
                </a:lnTo>
                <a:lnTo>
                  <a:pt x="2415" y="1204"/>
                </a:lnTo>
                <a:lnTo>
                  <a:pt x="2409" y="1196"/>
                </a:lnTo>
                <a:lnTo>
                  <a:pt x="2392" y="1169"/>
                </a:lnTo>
                <a:lnTo>
                  <a:pt x="2378" y="1148"/>
                </a:lnTo>
                <a:lnTo>
                  <a:pt x="2378" y="1146"/>
                </a:lnTo>
                <a:lnTo>
                  <a:pt x="2414" y="1146"/>
                </a:lnTo>
                <a:lnTo>
                  <a:pt x="2450" y="1146"/>
                </a:lnTo>
                <a:lnTo>
                  <a:pt x="2430" y="1146"/>
                </a:lnTo>
                <a:lnTo>
                  <a:pt x="2381" y="1146"/>
                </a:lnTo>
                <a:lnTo>
                  <a:pt x="2378" y="1146"/>
                </a:lnTo>
                <a:close/>
                <a:moveTo>
                  <a:pt x="2066" y="1253"/>
                </a:moveTo>
                <a:lnTo>
                  <a:pt x="2095" y="1237"/>
                </a:lnTo>
                <a:lnTo>
                  <a:pt x="2134" y="1219"/>
                </a:lnTo>
                <a:lnTo>
                  <a:pt x="2146" y="1216"/>
                </a:lnTo>
                <a:lnTo>
                  <a:pt x="2155" y="1216"/>
                </a:lnTo>
                <a:lnTo>
                  <a:pt x="2163" y="1218"/>
                </a:lnTo>
                <a:lnTo>
                  <a:pt x="2170" y="1222"/>
                </a:lnTo>
                <a:lnTo>
                  <a:pt x="2187" y="1232"/>
                </a:lnTo>
                <a:lnTo>
                  <a:pt x="2218" y="1239"/>
                </a:lnTo>
                <a:lnTo>
                  <a:pt x="2243" y="1240"/>
                </a:lnTo>
                <a:lnTo>
                  <a:pt x="2245" y="1252"/>
                </a:lnTo>
                <a:lnTo>
                  <a:pt x="2246" y="1263"/>
                </a:lnTo>
                <a:lnTo>
                  <a:pt x="2243" y="1286"/>
                </a:lnTo>
                <a:lnTo>
                  <a:pt x="2233" y="1308"/>
                </a:lnTo>
                <a:lnTo>
                  <a:pt x="2219" y="1330"/>
                </a:lnTo>
                <a:lnTo>
                  <a:pt x="2203" y="1349"/>
                </a:lnTo>
                <a:lnTo>
                  <a:pt x="2187" y="1365"/>
                </a:lnTo>
                <a:lnTo>
                  <a:pt x="2161" y="1364"/>
                </a:lnTo>
                <a:lnTo>
                  <a:pt x="2121" y="1355"/>
                </a:lnTo>
                <a:lnTo>
                  <a:pt x="2091" y="1340"/>
                </a:lnTo>
                <a:lnTo>
                  <a:pt x="2071" y="1318"/>
                </a:lnTo>
                <a:lnTo>
                  <a:pt x="2063" y="1293"/>
                </a:lnTo>
                <a:lnTo>
                  <a:pt x="2062" y="1266"/>
                </a:lnTo>
                <a:lnTo>
                  <a:pt x="2066" y="1253"/>
                </a:lnTo>
                <a:lnTo>
                  <a:pt x="2094" y="1238"/>
                </a:lnTo>
                <a:lnTo>
                  <a:pt x="2122" y="1221"/>
                </a:lnTo>
                <a:lnTo>
                  <a:pt x="2106" y="1230"/>
                </a:lnTo>
                <a:lnTo>
                  <a:pt x="2068" y="1252"/>
                </a:lnTo>
                <a:lnTo>
                  <a:pt x="2066" y="1253"/>
                </a:lnTo>
                <a:close/>
                <a:moveTo>
                  <a:pt x="1780" y="919"/>
                </a:moveTo>
                <a:lnTo>
                  <a:pt x="1787" y="913"/>
                </a:lnTo>
                <a:lnTo>
                  <a:pt x="1807" y="902"/>
                </a:lnTo>
                <a:lnTo>
                  <a:pt x="1826" y="895"/>
                </a:lnTo>
                <a:lnTo>
                  <a:pt x="1847" y="892"/>
                </a:lnTo>
                <a:lnTo>
                  <a:pt x="1886" y="890"/>
                </a:lnTo>
                <a:lnTo>
                  <a:pt x="1894" y="889"/>
                </a:lnTo>
                <a:lnTo>
                  <a:pt x="1912" y="883"/>
                </a:lnTo>
                <a:lnTo>
                  <a:pt x="1951" y="865"/>
                </a:lnTo>
                <a:lnTo>
                  <a:pt x="2040" y="815"/>
                </a:lnTo>
                <a:lnTo>
                  <a:pt x="2124" y="781"/>
                </a:lnTo>
                <a:lnTo>
                  <a:pt x="2142" y="778"/>
                </a:lnTo>
                <a:lnTo>
                  <a:pt x="2164" y="782"/>
                </a:lnTo>
                <a:lnTo>
                  <a:pt x="2196" y="788"/>
                </a:lnTo>
                <a:lnTo>
                  <a:pt x="2216" y="790"/>
                </a:lnTo>
                <a:lnTo>
                  <a:pt x="2223" y="788"/>
                </a:lnTo>
                <a:lnTo>
                  <a:pt x="2228" y="785"/>
                </a:lnTo>
                <a:lnTo>
                  <a:pt x="2231" y="778"/>
                </a:lnTo>
                <a:lnTo>
                  <a:pt x="2234" y="769"/>
                </a:lnTo>
                <a:lnTo>
                  <a:pt x="2237" y="756"/>
                </a:lnTo>
                <a:lnTo>
                  <a:pt x="2241" y="718"/>
                </a:lnTo>
                <a:lnTo>
                  <a:pt x="2256" y="716"/>
                </a:lnTo>
                <a:lnTo>
                  <a:pt x="2277" y="714"/>
                </a:lnTo>
                <a:lnTo>
                  <a:pt x="2290" y="711"/>
                </a:lnTo>
                <a:lnTo>
                  <a:pt x="2293" y="709"/>
                </a:lnTo>
                <a:lnTo>
                  <a:pt x="2296" y="707"/>
                </a:lnTo>
                <a:lnTo>
                  <a:pt x="2296" y="702"/>
                </a:lnTo>
                <a:lnTo>
                  <a:pt x="2296" y="696"/>
                </a:lnTo>
                <a:lnTo>
                  <a:pt x="2294" y="678"/>
                </a:lnTo>
                <a:lnTo>
                  <a:pt x="2294" y="663"/>
                </a:lnTo>
                <a:lnTo>
                  <a:pt x="2289" y="663"/>
                </a:lnTo>
                <a:lnTo>
                  <a:pt x="2257" y="657"/>
                </a:lnTo>
                <a:lnTo>
                  <a:pt x="2148" y="639"/>
                </a:lnTo>
                <a:lnTo>
                  <a:pt x="2064" y="625"/>
                </a:lnTo>
                <a:lnTo>
                  <a:pt x="2060" y="624"/>
                </a:lnTo>
                <a:lnTo>
                  <a:pt x="2042" y="620"/>
                </a:lnTo>
                <a:lnTo>
                  <a:pt x="2007" y="602"/>
                </a:lnTo>
                <a:lnTo>
                  <a:pt x="1972" y="579"/>
                </a:lnTo>
                <a:lnTo>
                  <a:pt x="1904" y="523"/>
                </a:lnTo>
                <a:lnTo>
                  <a:pt x="1862" y="483"/>
                </a:lnTo>
                <a:lnTo>
                  <a:pt x="1859" y="485"/>
                </a:lnTo>
                <a:lnTo>
                  <a:pt x="1845" y="492"/>
                </a:lnTo>
                <a:lnTo>
                  <a:pt x="1794" y="517"/>
                </a:lnTo>
                <a:lnTo>
                  <a:pt x="1755" y="535"/>
                </a:lnTo>
                <a:lnTo>
                  <a:pt x="1753" y="536"/>
                </a:lnTo>
                <a:lnTo>
                  <a:pt x="1731" y="515"/>
                </a:lnTo>
                <a:lnTo>
                  <a:pt x="1701" y="482"/>
                </a:lnTo>
                <a:lnTo>
                  <a:pt x="1683" y="463"/>
                </a:lnTo>
                <a:lnTo>
                  <a:pt x="1676" y="457"/>
                </a:lnTo>
                <a:lnTo>
                  <a:pt x="1668" y="453"/>
                </a:lnTo>
                <a:lnTo>
                  <a:pt x="1660" y="452"/>
                </a:lnTo>
                <a:lnTo>
                  <a:pt x="1649" y="455"/>
                </a:lnTo>
                <a:lnTo>
                  <a:pt x="1636" y="458"/>
                </a:lnTo>
                <a:lnTo>
                  <a:pt x="1600" y="469"/>
                </a:lnTo>
                <a:lnTo>
                  <a:pt x="1586" y="459"/>
                </a:lnTo>
                <a:lnTo>
                  <a:pt x="1556" y="438"/>
                </a:lnTo>
                <a:lnTo>
                  <a:pt x="1494" y="404"/>
                </a:lnTo>
                <a:lnTo>
                  <a:pt x="1474" y="383"/>
                </a:lnTo>
                <a:lnTo>
                  <a:pt x="1468" y="372"/>
                </a:lnTo>
                <a:lnTo>
                  <a:pt x="1466" y="359"/>
                </a:lnTo>
                <a:lnTo>
                  <a:pt x="1468" y="343"/>
                </a:lnTo>
                <a:lnTo>
                  <a:pt x="1458" y="340"/>
                </a:lnTo>
                <a:lnTo>
                  <a:pt x="1438" y="332"/>
                </a:lnTo>
                <a:lnTo>
                  <a:pt x="1389" y="316"/>
                </a:lnTo>
                <a:lnTo>
                  <a:pt x="1344" y="301"/>
                </a:lnTo>
                <a:lnTo>
                  <a:pt x="1336" y="297"/>
                </a:lnTo>
                <a:lnTo>
                  <a:pt x="1303" y="286"/>
                </a:lnTo>
                <a:lnTo>
                  <a:pt x="1239" y="267"/>
                </a:lnTo>
                <a:lnTo>
                  <a:pt x="1115" y="238"/>
                </a:lnTo>
                <a:lnTo>
                  <a:pt x="989" y="212"/>
                </a:lnTo>
                <a:lnTo>
                  <a:pt x="957" y="204"/>
                </a:lnTo>
                <a:lnTo>
                  <a:pt x="938" y="199"/>
                </a:lnTo>
                <a:lnTo>
                  <a:pt x="892" y="178"/>
                </a:lnTo>
                <a:lnTo>
                  <a:pt x="779" y="127"/>
                </a:lnTo>
                <a:lnTo>
                  <a:pt x="724" y="110"/>
                </a:lnTo>
                <a:lnTo>
                  <a:pt x="678" y="105"/>
                </a:lnTo>
                <a:lnTo>
                  <a:pt x="660" y="110"/>
                </a:lnTo>
                <a:lnTo>
                  <a:pt x="628" y="96"/>
                </a:lnTo>
                <a:lnTo>
                  <a:pt x="579" y="80"/>
                </a:lnTo>
                <a:lnTo>
                  <a:pt x="543" y="73"/>
                </a:lnTo>
                <a:lnTo>
                  <a:pt x="471" y="55"/>
                </a:lnTo>
                <a:lnTo>
                  <a:pt x="380" y="0"/>
                </a:lnTo>
                <a:lnTo>
                  <a:pt x="365" y="0"/>
                </a:lnTo>
                <a:lnTo>
                  <a:pt x="345" y="0"/>
                </a:lnTo>
                <a:lnTo>
                  <a:pt x="333" y="2"/>
                </a:lnTo>
                <a:lnTo>
                  <a:pt x="329" y="5"/>
                </a:lnTo>
                <a:lnTo>
                  <a:pt x="326" y="9"/>
                </a:lnTo>
                <a:lnTo>
                  <a:pt x="321" y="15"/>
                </a:lnTo>
                <a:lnTo>
                  <a:pt x="313" y="34"/>
                </a:lnTo>
                <a:lnTo>
                  <a:pt x="298" y="63"/>
                </a:lnTo>
                <a:lnTo>
                  <a:pt x="271" y="64"/>
                </a:lnTo>
                <a:lnTo>
                  <a:pt x="226" y="65"/>
                </a:lnTo>
                <a:lnTo>
                  <a:pt x="189" y="70"/>
                </a:lnTo>
                <a:lnTo>
                  <a:pt x="163" y="82"/>
                </a:lnTo>
                <a:lnTo>
                  <a:pt x="143" y="102"/>
                </a:lnTo>
                <a:lnTo>
                  <a:pt x="135" y="136"/>
                </a:lnTo>
                <a:lnTo>
                  <a:pt x="134" y="157"/>
                </a:lnTo>
                <a:lnTo>
                  <a:pt x="145" y="175"/>
                </a:lnTo>
                <a:lnTo>
                  <a:pt x="166" y="200"/>
                </a:lnTo>
                <a:lnTo>
                  <a:pt x="178" y="216"/>
                </a:lnTo>
                <a:lnTo>
                  <a:pt x="180" y="223"/>
                </a:lnTo>
                <a:lnTo>
                  <a:pt x="179" y="231"/>
                </a:lnTo>
                <a:lnTo>
                  <a:pt x="176" y="241"/>
                </a:lnTo>
                <a:lnTo>
                  <a:pt x="170" y="252"/>
                </a:lnTo>
                <a:lnTo>
                  <a:pt x="148" y="286"/>
                </a:lnTo>
                <a:lnTo>
                  <a:pt x="131" y="311"/>
                </a:lnTo>
                <a:lnTo>
                  <a:pt x="134" y="312"/>
                </a:lnTo>
                <a:lnTo>
                  <a:pt x="152" y="316"/>
                </a:lnTo>
                <a:lnTo>
                  <a:pt x="215" y="328"/>
                </a:lnTo>
                <a:lnTo>
                  <a:pt x="263" y="337"/>
                </a:lnTo>
                <a:lnTo>
                  <a:pt x="267" y="337"/>
                </a:lnTo>
                <a:lnTo>
                  <a:pt x="265" y="341"/>
                </a:lnTo>
                <a:lnTo>
                  <a:pt x="264" y="346"/>
                </a:lnTo>
                <a:lnTo>
                  <a:pt x="262" y="349"/>
                </a:lnTo>
                <a:lnTo>
                  <a:pt x="257" y="355"/>
                </a:lnTo>
                <a:lnTo>
                  <a:pt x="252" y="362"/>
                </a:lnTo>
                <a:lnTo>
                  <a:pt x="240" y="377"/>
                </a:lnTo>
                <a:lnTo>
                  <a:pt x="238" y="381"/>
                </a:lnTo>
                <a:lnTo>
                  <a:pt x="264" y="391"/>
                </a:lnTo>
                <a:lnTo>
                  <a:pt x="312" y="408"/>
                </a:lnTo>
                <a:lnTo>
                  <a:pt x="391" y="437"/>
                </a:lnTo>
                <a:lnTo>
                  <a:pt x="476" y="478"/>
                </a:lnTo>
                <a:lnTo>
                  <a:pt x="500" y="491"/>
                </a:lnTo>
                <a:lnTo>
                  <a:pt x="500" y="493"/>
                </a:lnTo>
                <a:lnTo>
                  <a:pt x="502" y="502"/>
                </a:lnTo>
                <a:lnTo>
                  <a:pt x="511" y="534"/>
                </a:lnTo>
                <a:lnTo>
                  <a:pt x="518" y="557"/>
                </a:lnTo>
                <a:lnTo>
                  <a:pt x="519" y="558"/>
                </a:lnTo>
                <a:lnTo>
                  <a:pt x="515" y="560"/>
                </a:lnTo>
                <a:lnTo>
                  <a:pt x="496" y="572"/>
                </a:lnTo>
                <a:lnTo>
                  <a:pt x="432" y="609"/>
                </a:lnTo>
                <a:lnTo>
                  <a:pt x="382" y="638"/>
                </a:lnTo>
                <a:lnTo>
                  <a:pt x="380" y="639"/>
                </a:lnTo>
                <a:lnTo>
                  <a:pt x="379" y="645"/>
                </a:lnTo>
                <a:lnTo>
                  <a:pt x="372" y="688"/>
                </a:lnTo>
                <a:lnTo>
                  <a:pt x="349" y="832"/>
                </a:lnTo>
                <a:lnTo>
                  <a:pt x="331" y="944"/>
                </a:lnTo>
                <a:lnTo>
                  <a:pt x="331" y="949"/>
                </a:lnTo>
                <a:lnTo>
                  <a:pt x="329" y="950"/>
                </a:lnTo>
                <a:lnTo>
                  <a:pt x="315" y="957"/>
                </a:lnTo>
                <a:lnTo>
                  <a:pt x="268" y="978"/>
                </a:lnTo>
                <a:lnTo>
                  <a:pt x="232" y="995"/>
                </a:lnTo>
                <a:lnTo>
                  <a:pt x="231" y="995"/>
                </a:lnTo>
                <a:lnTo>
                  <a:pt x="230" y="994"/>
                </a:lnTo>
                <a:lnTo>
                  <a:pt x="226" y="987"/>
                </a:lnTo>
                <a:lnTo>
                  <a:pt x="210" y="960"/>
                </a:lnTo>
                <a:lnTo>
                  <a:pt x="198" y="939"/>
                </a:lnTo>
                <a:lnTo>
                  <a:pt x="198" y="937"/>
                </a:lnTo>
                <a:lnTo>
                  <a:pt x="197" y="938"/>
                </a:lnTo>
                <a:lnTo>
                  <a:pt x="195" y="943"/>
                </a:lnTo>
                <a:lnTo>
                  <a:pt x="188" y="960"/>
                </a:lnTo>
                <a:lnTo>
                  <a:pt x="186" y="971"/>
                </a:lnTo>
                <a:lnTo>
                  <a:pt x="188" y="982"/>
                </a:lnTo>
                <a:lnTo>
                  <a:pt x="190" y="986"/>
                </a:lnTo>
                <a:lnTo>
                  <a:pt x="194" y="993"/>
                </a:lnTo>
                <a:lnTo>
                  <a:pt x="202" y="1012"/>
                </a:lnTo>
                <a:lnTo>
                  <a:pt x="224" y="1062"/>
                </a:lnTo>
                <a:lnTo>
                  <a:pt x="238" y="1098"/>
                </a:lnTo>
                <a:lnTo>
                  <a:pt x="239" y="1101"/>
                </a:lnTo>
                <a:lnTo>
                  <a:pt x="237" y="1106"/>
                </a:lnTo>
                <a:lnTo>
                  <a:pt x="226" y="1127"/>
                </a:lnTo>
                <a:lnTo>
                  <a:pt x="190" y="1201"/>
                </a:lnTo>
                <a:lnTo>
                  <a:pt x="163" y="1257"/>
                </a:lnTo>
                <a:lnTo>
                  <a:pt x="161" y="1260"/>
                </a:lnTo>
                <a:lnTo>
                  <a:pt x="175" y="1265"/>
                </a:lnTo>
                <a:lnTo>
                  <a:pt x="217" y="1280"/>
                </a:lnTo>
                <a:lnTo>
                  <a:pt x="249" y="1291"/>
                </a:lnTo>
                <a:lnTo>
                  <a:pt x="252" y="1291"/>
                </a:lnTo>
                <a:lnTo>
                  <a:pt x="243" y="1297"/>
                </a:lnTo>
                <a:lnTo>
                  <a:pt x="234" y="1301"/>
                </a:lnTo>
                <a:lnTo>
                  <a:pt x="224" y="1304"/>
                </a:lnTo>
                <a:lnTo>
                  <a:pt x="201" y="1308"/>
                </a:lnTo>
                <a:lnTo>
                  <a:pt x="157" y="1313"/>
                </a:lnTo>
                <a:lnTo>
                  <a:pt x="136" y="1325"/>
                </a:lnTo>
                <a:lnTo>
                  <a:pt x="133" y="1329"/>
                </a:lnTo>
                <a:lnTo>
                  <a:pt x="114" y="1351"/>
                </a:lnTo>
                <a:lnTo>
                  <a:pt x="50" y="1430"/>
                </a:lnTo>
                <a:lnTo>
                  <a:pt x="2" y="1489"/>
                </a:lnTo>
                <a:lnTo>
                  <a:pt x="0" y="1492"/>
                </a:lnTo>
                <a:lnTo>
                  <a:pt x="25" y="1514"/>
                </a:lnTo>
                <a:lnTo>
                  <a:pt x="82" y="1554"/>
                </a:lnTo>
                <a:lnTo>
                  <a:pt x="203" y="1628"/>
                </a:lnTo>
                <a:lnTo>
                  <a:pt x="299" y="1726"/>
                </a:lnTo>
                <a:lnTo>
                  <a:pt x="314" y="1759"/>
                </a:lnTo>
                <a:lnTo>
                  <a:pt x="315" y="1767"/>
                </a:lnTo>
                <a:lnTo>
                  <a:pt x="319" y="1773"/>
                </a:lnTo>
                <a:lnTo>
                  <a:pt x="327" y="1777"/>
                </a:lnTo>
                <a:lnTo>
                  <a:pt x="335" y="1781"/>
                </a:lnTo>
                <a:lnTo>
                  <a:pt x="346" y="1784"/>
                </a:lnTo>
                <a:lnTo>
                  <a:pt x="368" y="1788"/>
                </a:lnTo>
                <a:lnTo>
                  <a:pt x="407" y="1790"/>
                </a:lnTo>
                <a:lnTo>
                  <a:pt x="413" y="1790"/>
                </a:lnTo>
                <a:lnTo>
                  <a:pt x="453" y="1783"/>
                </a:lnTo>
                <a:lnTo>
                  <a:pt x="528" y="1768"/>
                </a:lnTo>
                <a:lnTo>
                  <a:pt x="670" y="1748"/>
                </a:lnTo>
                <a:lnTo>
                  <a:pt x="817" y="1752"/>
                </a:lnTo>
                <a:lnTo>
                  <a:pt x="857" y="1759"/>
                </a:lnTo>
                <a:lnTo>
                  <a:pt x="880" y="1761"/>
                </a:lnTo>
                <a:lnTo>
                  <a:pt x="909" y="1769"/>
                </a:lnTo>
                <a:lnTo>
                  <a:pt x="923" y="1780"/>
                </a:lnTo>
                <a:lnTo>
                  <a:pt x="930" y="1789"/>
                </a:lnTo>
                <a:lnTo>
                  <a:pt x="931" y="1790"/>
                </a:lnTo>
                <a:lnTo>
                  <a:pt x="934" y="1790"/>
                </a:lnTo>
                <a:lnTo>
                  <a:pt x="936" y="1790"/>
                </a:lnTo>
                <a:lnTo>
                  <a:pt x="938" y="1789"/>
                </a:lnTo>
                <a:lnTo>
                  <a:pt x="942" y="1787"/>
                </a:lnTo>
                <a:lnTo>
                  <a:pt x="951" y="1779"/>
                </a:lnTo>
                <a:lnTo>
                  <a:pt x="965" y="1767"/>
                </a:lnTo>
                <a:lnTo>
                  <a:pt x="973" y="1759"/>
                </a:lnTo>
                <a:lnTo>
                  <a:pt x="998" y="1761"/>
                </a:lnTo>
                <a:lnTo>
                  <a:pt x="1026" y="1758"/>
                </a:lnTo>
                <a:lnTo>
                  <a:pt x="1084" y="1742"/>
                </a:lnTo>
                <a:lnTo>
                  <a:pt x="1146" y="1719"/>
                </a:lnTo>
                <a:lnTo>
                  <a:pt x="1266" y="1674"/>
                </a:lnTo>
                <a:lnTo>
                  <a:pt x="1320" y="1666"/>
                </a:lnTo>
                <a:lnTo>
                  <a:pt x="1334" y="1660"/>
                </a:lnTo>
                <a:lnTo>
                  <a:pt x="1350" y="1651"/>
                </a:lnTo>
                <a:lnTo>
                  <a:pt x="1353" y="1648"/>
                </a:lnTo>
                <a:lnTo>
                  <a:pt x="1353" y="1647"/>
                </a:lnTo>
                <a:lnTo>
                  <a:pt x="1353" y="1644"/>
                </a:lnTo>
                <a:lnTo>
                  <a:pt x="1353" y="1643"/>
                </a:lnTo>
                <a:lnTo>
                  <a:pt x="1352" y="1642"/>
                </a:lnTo>
                <a:lnTo>
                  <a:pt x="1351" y="1640"/>
                </a:lnTo>
                <a:lnTo>
                  <a:pt x="1348" y="1637"/>
                </a:lnTo>
                <a:lnTo>
                  <a:pt x="1340" y="1627"/>
                </a:lnTo>
                <a:lnTo>
                  <a:pt x="1336" y="1610"/>
                </a:lnTo>
                <a:lnTo>
                  <a:pt x="1336" y="1604"/>
                </a:lnTo>
                <a:lnTo>
                  <a:pt x="1385" y="1569"/>
                </a:lnTo>
                <a:lnTo>
                  <a:pt x="1461" y="1522"/>
                </a:lnTo>
                <a:lnTo>
                  <a:pt x="1536" y="1482"/>
                </a:lnTo>
                <a:lnTo>
                  <a:pt x="1543" y="1474"/>
                </a:lnTo>
                <a:lnTo>
                  <a:pt x="1547" y="1464"/>
                </a:lnTo>
                <a:lnTo>
                  <a:pt x="1549" y="1449"/>
                </a:lnTo>
                <a:lnTo>
                  <a:pt x="1549" y="1428"/>
                </a:lnTo>
                <a:lnTo>
                  <a:pt x="1550" y="1401"/>
                </a:lnTo>
                <a:lnTo>
                  <a:pt x="1545" y="1390"/>
                </a:lnTo>
                <a:lnTo>
                  <a:pt x="1532" y="1363"/>
                </a:lnTo>
                <a:lnTo>
                  <a:pt x="1506" y="1306"/>
                </a:lnTo>
                <a:lnTo>
                  <a:pt x="1497" y="1245"/>
                </a:lnTo>
                <a:lnTo>
                  <a:pt x="1500" y="1229"/>
                </a:lnTo>
                <a:lnTo>
                  <a:pt x="1509" y="1199"/>
                </a:lnTo>
                <a:lnTo>
                  <a:pt x="1544" y="1146"/>
                </a:lnTo>
                <a:lnTo>
                  <a:pt x="1589" y="1097"/>
                </a:lnTo>
                <a:lnTo>
                  <a:pt x="1699" y="1003"/>
                </a:lnTo>
                <a:lnTo>
                  <a:pt x="1780" y="919"/>
                </a:lnTo>
                <a:lnTo>
                  <a:pt x="1786" y="913"/>
                </a:lnTo>
                <a:lnTo>
                  <a:pt x="1793" y="907"/>
                </a:lnTo>
                <a:lnTo>
                  <a:pt x="1789" y="910"/>
                </a:lnTo>
                <a:lnTo>
                  <a:pt x="1780" y="919"/>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84"/>
          <p:cNvSpPr/>
          <p:nvPr/>
        </p:nvSpPr>
        <p:spPr>
          <a:xfrm>
            <a:off x="1720800" y="6087960"/>
            <a:ext cx="61920" cy="27000"/>
          </a:xfrm>
          <a:custGeom>
            <a:avLst/>
            <a:gdLst>
              <a:gd name="textAreaLeft" fmla="*/ 0 w 61920"/>
              <a:gd name="textAreaRight" fmla="*/ 62280 w 61920"/>
              <a:gd name="textAreaTop" fmla="*/ 0 h 27000"/>
              <a:gd name="textAreaBottom" fmla="*/ 27360 h 27000"/>
            </a:gdLst>
            <a:ahLst/>
            <a:rect l="textAreaLeft" t="textAreaTop" r="textAreaRight" b="textAreaBottom"/>
            <a:pathLst>
              <a:path w="79" h="34">
                <a:moveTo>
                  <a:pt x="0" y="8"/>
                </a:moveTo>
                <a:lnTo>
                  <a:pt x="8" y="5"/>
                </a:lnTo>
                <a:lnTo>
                  <a:pt x="22" y="1"/>
                </a:lnTo>
                <a:lnTo>
                  <a:pt x="34" y="0"/>
                </a:lnTo>
                <a:lnTo>
                  <a:pt x="45" y="2"/>
                </a:lnTo>
                <a:lnTo>
                  <a:pt x="58" y="6"/>
                </a:lnTo>
                <a:lnTo>
                  <a:pt x="71" y="12"/>
                </a:lnTo>
                <a:lnTo>
                  <a:pt x="79" y="15"/>
                </a:lnTo>
                <a:lnTo>
                  <a:pt x="74" y="17"/>
                </a:lnTo>
                <a:lnTo>
                  <a:pt x="60" y="24"/>
                </a:lnTo>
                <a:lnTo>
                  <a:pt x="26" y="34"/>
                </a:lnTo>
                <a:lnTo>
                  <a:pt x="17" y="34"/>
                </a:lnTo>
                <a:lnTo>
                  <a:pt x="10" y="31"/>
                </a:lnTo>
                <a:lnTo>
                  <a:pt x="5" y="27"/>
                </a:lnTo>
                <a:lnTo>
                  <a:pt x="1" y="19"/>
                </a:lnTo>
                <a:lnTo>
                  <a:pt x="0" y="8"/>
                </a:lnTo>
                <a:lnTo>
                  <a:pt x="7" y="5"/>
                </a:lnTo>
                <a:lnTo>
                  <a:pt x="13" y="2"/>
                </a:lnTo>
                <a:lnTo>
                  <a:pt x="10" y="4"/>
                </a:lnTo>
                <a:lnTo>
                  <a:pt x="0" y="8"/>
                </a:lnTo>
              </a:path>
            </a:pathLst>
          </a:custGeom>
          <a:noFill/>
          <a:ln w="6480">
            <a:solidFill>
              <a:srgbClr val="1f1a17"/>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46" name="Freeform 85"/>
          <p:cNvSpPr/>
          <p:nvPr/>
        </p:nvSpPr>
        <p:spPr>
          <a:xfrm>
            <a:off x="2130480" y="5904000"/>
            <a:ext cx="114120" cy="46080"/>
          </a:xfrm>
          <a:custGeom>
            <a:avLst/>
            <a:gdLst>
              <a:gd name="textAreaLeft" fmla="*/ 0 w 114120"/>
              <a:gd name="textAreaRight" fmla="*/ 114480 w 114120"/>
              <a:gd name="textAreaTop" fmla="*/ 0 h 46080"/>
              <a:gd name="textAreaBottom" fmla="*/ 46440 h 46080"/>
            </a:gdLst>
            <a:ahLst/>
            <a:rect l="textAreaLeft" t="textAreaTop" r="textAreaRight" b="textAreaBottom"/>
            <a:pathLst>
              <a:path w="144" h="59">
                <a:moveTo>
                  <a:pt x="0" y="0"/>
                </a:moveTo>
                <a:lnTo>
                  <a:pt x="40" y="2"/>
                </a:lnTo>
                <a:lnTo>
                  <a:pt x="101" y="9"/>
                </a:lnTo>
                <a:lnTo>
                  <a:pt x="135" y="21"/>
                </a:lnTo>
                <a:lnTo>
                  <a:pt x="141" y="24"/>
                </a:lnTo>
                <a:lnTo>
                  <a:pt x="143" y="28"/>
                </a:lnTo>
                <a:lnTo>
                  <a:pt x="144" y="31"/>
                </a:lnTo>
                <a:lnTo>
                  <a:pt x="144" y="35"/>
                </a:lnTo>
                <a:lnTo>
                  <a:pt x="141" y="38"/>
                </a:lnTo>
                <a:lnTo>
                  <a:pt x="136" y="41"/>
                </a:lnTo>
                <a:lnTo>
                  <a:pt x="131" y="45"/>
                </a:lnTo>
                <a:lnTo>
                  <a:pt x="114" y="50"/>
                </a:lnTo>
                <a:lnTo>
                  <a:pt x="88" y="55"/>
                </a:lnTo>
                <a:lnTo>
                  <a:pt x="56" y="58"/>
                </a:lnTo>
                <a:lnTo>
                  <a:pt x="38" y="59"/>
                </a:lnTo>
                <a:lnTo>
                  <a:pt x="37" y="58"/>
                </a:lnTo>
                <a:lnTo>
                  <a:pt x="31" y="50"/>
                </a:lnTo>
                <a:lnTo>
                  <a:pt x="14" y="23"/>
                </a:lnTo>
                <a:lnTo>
                  <a:pt x="0" y="2"/>
                </a:lnTo>
                <a:lnTo>
                  <a:pt x="0" y="0"/>
                </a:lnTo>
                <a:lnTo>
                  <a:pt x="36" y="0"/>
                </a:lnTo>
                <a:lnTo>
                  <a:pt x="72" y="0"/>
                </a:lnTo>
                <a:lnTo>
                  <a:pt x="52" y="0"/>
                </a:lnTo>
                <a:lnTo>
                  <a:pt x="3" y="0"/>
                </a:lnTo>
                <a:lnTo>
                  <a:pt x="0" y="0"/>
                </a:lnTo>
              </a:path>
            </a:pathLst>
          </a:custGeom>
          <a:noFill/>
          <a:ln w="6480">
            <a:solidFill>
              <a:srgbClr val="1f1a17"/>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7" name="Freeform 86"/>
          <p:cNvSpPr/>
          <p:nvPr/>
        </p:nvSpPr>
        <p:spPr>
          <a:xfrm>
            <a:off x="1879560" y="5958000"/>
            <a:ext cx="146160" cy="118800"/>
          </a:xfrm>
          <a:custGeom>
            <a:avLst/>
            <a:gdLst>
              <a:gd name="textAreaLeft" fmla="*/ 0 w 146160"/>
              <a:gd name="textAreaRight" fmla="*/ 146520 w 146160"/>
              <a:gd name="textAreaTop" fmla="*/ 0 h 118800"/>
              <a:gd name="textAreaBottom" fmla="*/ 118800 h 118800"/>
            </a:gdLst>
            <a:ahLst/>
            <a:rect l="textAreaLeft" t="textAreaTop" r="textAreaRight" b="textAreaBottom"/>
            <a:pathLst>
              <a:path w="184" h="149">
                <a:moveTo>
                  <a:pt x="4" y="37"/>
                </a:moveTo>
                <a:lnTo>
                  <a:pt x="33" y="21"/>
                </a:lnTo>
                <a:lnTo>
                  <a:pt x="72" y="3"/>
                </a:lnTo>
                <a:lnTo>
                  <a:pt x="84" y="0"/>
                </a:lnTo>
                <a:lnTo>
                  <a:pt x="93" y="0"/>
                </a:lnTo>
                <a:lnTo>
                  <a:pt x="101" y="2"/>
                </a:lnTo>
                <a:lnTo>
                  <a:pt x="108" y="6"/>
                </a:lnTo>
                <a:lnTo>
                  <a:pt x="125" y="16"/>
                </a:lnTo>
                <a:lnTo>
                  <a:pt x="156" y="23"/>
                </a:lnTo>
                <a:lnTo>
                  <a:pt x="181" y="24"/>
                </a:lnTo>
                <a:lnTo>
                  <a:pt x="183" y="36"/>
                </a:lnTo>
                <a:lnTo>
                  <a:pt x="184" y="47"/>
                </a:lnTo>
                <a:lnTo>
                  <a:pt x="181" y="70"/>
                </a:lnTo>
                <a:lnTo>
                  <a:pt x="171" y="92"/>
                </a:lnTo>
                <a:lnTo>
                  <a:pt x="157" y="114"/>
                </a:lnTo>
                <a:lnTo>
                  <a:pt x="141" y="133"/>
                </a:lnTo>
                <a:lnTo>
                  <a:pt x="125" y="149"/>
                </a:lnTo>
                <a:lnTo>
                  <a:pt x="99" y="148"/>
                </a:lnTo>
                <a:lnTo>
                  <a:pt x="59" y="139"/>
                </a:lnTo>
                <a:lnTo>
                  <a:pt x="29" y="124"/>
                </a:lnTo>
                <a:lnTo>
                  <a:pt x="9" y="102"/>
                </a:lnTo>
                <a:lnTo>
                  <a:pt x="1" y="77"/>
                </a:lnTo>
                <a:lnTo>
                  <a:pt x="0" y="50"/>
                </a:lnTo>
                <a:lnTo>
                  <a:pt x="4" y="37"/>
                </a:lnTo>
                <a:lnTo>
                  <a:pt x="32" y="22"/>
                </a:lnTo>
                <a:lnTo>
                  <a:pt x="60" y="5"/>
                </a:lnTo>
                <a:lnTo>
                  <a:pt x="44" y="14"/>
                </a:lnTo>
                <a:lnTo>
                  <a:pt x="6" y="36"/>
                </a:lnTo>
                <a:lnTo>
                  <a:pt x="4" y="37"/>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87"/>
          <p:cNvSpPr/>
          <p:nvPr/>
        </p:nvSpPr>
        <p:spPr>
          <a:xfrm>
            <a:off x="243000" y="4994280"/>
            <a:ext cx="1822320" cy="1420920"/>
          </a:xfrm>
          <a:custGeom>
            <a:avLst/>
            <a:gdLst>
              <a:gd name="textAreaLeft" fmla="*/ 0 w 1822320"/>
              <a:gd name="textAreaRight" fmla="*/ 1822680 w 1822320"/>
              <a:gd name="textAreaTop" fmla="*/ 0 h 1420920"/>
              <a:gd name="textAreaBottom" fmla="*/ 1420920 h 1420920"/>
            </a:gdLst>
            <a:ahLst/>
            <a:rect l="textAreaLeft" t="textAreaTop" r="textAreaRight" b="textAreaBottom"/>
            <a:pathLst>
              <a:path w="2296" h="1790">
                <a:moveTo>
                  <a:pt x="1780" y="919"/>
                </a:moveTo>
                <a:lnTo>
                  <a:pt x="1787" y="913"/>
                </a:lnTo>
                <a:lnTo>
                  <a:pt x="1807" y="902"/>
                </a:lnTo>
                <a:lnTo>
                  <a:pt x="1826" y="895"/>
                </a:lnTo>
                <a:lnTo>
                  <a:pt x="1847" y="892"/>
                </a:lnTo>
                <a:lnTo>
                  <a:pt x="1886" y="890"/>
                </a:lnTo>
                <a:lnTo>
                  <a:pt x="1894" y="889"/>
                </a:lnTo>
                <a:lnTo>
                  <a:pt x="1912" y="883"/>
                </a:lnTo>
                <a:lnTo>
                  <a:pt x="1951" y="865"/>
                </a:lnTo>
                <a:lnTo>
                  <a:pt x="2040" y="815"/>
                </a:lnTo>
                <a:lnTo>
                  <a:pt x="2124" y="781"/>
                </a:lnTo>
                <a:lnTo>
                  <a:pt x="2142" y="778"/>
                </a:lnTo>
                <a:lnTo>
                  <a:pt x="2164" y="782"/>
                </a:lnTo>
                <a:lnTo>
                  <a:pt x="2196" y="788"/>
                </a:lnTo>
                <a:lnTo>
                  <a:pt x="2216" y="790"/>
                </a:lnTo>
                <a:lnTo>
                  <a:pt x="2223" y="788"/>
                </a:lnTo>
                <a:lnTo>
                  <a:pt x="2228" y="785"/>
                </a:lnTo>
                <a:lnTo>
                  <a:pt x="2231" y="778"/>
                </a:lnTo>
                <a:lnTo>
                  <a:pt x="2234" y="769"/>
                </a:lnTo>
                <a:lnTo>
                  <a:pt x="2237" y="756"/>
                </a:lnTo>
                <a:lnTo>
                  <a:pt x="2241" y="718"/>
                </a:lnTo>
                <a:lnTo>
                  <a:pt x="2256" y="716"/>
                </a:lnTo>
                <a:lnTo>
                  <a:pt x="2277" y="714"/>
                </a:lnTo>
                <a:lnTo>
                  <a:pt x="2290" y="711"/>
                </a:lnTo>
                <a:lnTo>
                  <a:pt x="2293" y="709"/>
                </a:lnTo>
                <a:lnTo>
                  <a:pt x="2296" y="707"/>
                </a:lnTo>
                <a:lnTo>
                  <a:pt x="2296" y="702"/>
                </a:lnTo>
                <a:lnTo>
                  <a:pt x="2296" y="696"/>
                </a:lnTo>
                <a:lnTo>
                  <a:pt x="2294" y="678"/>
                </a:lnTo>
                <a:lnTo>
                  <a:pt x="2294" y="663"/>
                </a:lnTo>
                <a:lnTo>
                  <a:pt x="2289" y="663"/>
                </a:lnTo>
                <a:lnTo>
                  <a:pt x="2257" y="657"/>
                </a:lnTo>
                <a:lnTo>
                  <a:pt x="2148" y="639"/>
                </a:lnTo>
                <a:lnTo>
                  <a:pt x="2064" y="625"/>
                </a:lnTo>
                <a:lnTo>
                  <a:pt x="2060" y="624"/>
                </a:lnTo>
                <a:lnTo>
                  <a:pt x="2042" y="620"/>
                </a:lnTo>
                <a:lnTo>
                  <a:pt x="2007" y="602"/>
                </a:lnTo>
                <a:lnTo>
                  <a:pt x="1972" y="579"/>
                </a:lnTo>
                <a:lnTo>
                  <a:pt x="1904" y="523"/>
                </a:lnTo>
                <a:lnTo>
                  <a:pt x="1862" y="483"/>
                </a:lnTo>
                <a:lnTo>
                  <a:pt x="1859" y="485"/>
                </a:lnTo>
                <a:lnTo>
                  <a:pt x="1845" y="492"/>
                </a:lnTo>
                <a:lnTo>
                  <a:pt x="1794" y="517"/>
                </a:lnTo>
                <a:lnTo>
                  <a:pt x="1755" y="535"/>
                </a:lnTo>
                <a:lnTo>
                  <a:pt x="1753" y="536"/>
                </a:lnTo>
                <a:lnTo>
                  <a:pt x="1731" y="515"/>
                </a:lnTo>
                <a:lnTo>
                  <a:pt x="1701" y="482"/>
                </a:lnTo>
                <a:lnTo>
                  <a:pt x="1683" y="463"/>
                </a:lnTo>
                <a:lnTo>
                  <a:pt x="1676" y="457"/>
                </a:lnTo>
                <a:lnTo>
                  <a:pt x="1668" y="453"/>
                </a:lnTo>
                <a:lnTo>
                  <a:pt x="1660" y="452"/>
                </a:lnTo>
                <a:lnTo>
                  <a:pt x="1649" y="455"/>
                </a:lnTo>
                <a:lnTo>
                  <a:pt x="1636" y="458"/>
                </a:lnTo>
                <a:lnTo>
                  <a:pt x="1600" y="469"/>
                </a:lnTo>
                <a:lnTo>
                  <a:pt x="1586" y="459"/>
                </a:lnTo>
                <a:lnTo>
                  <a:pt x="1556" y="438"/>
                </a:lnTo>
                <a:lnTo>
                  <a:pt x="1494" y="404"/>
                </a:lnTo>
                <a:lnTo>
                  <a:pt x="1474" y="383"/>
                </a:lnTo>
                <a:lnTo>
                  <a:pt x="1468" y="372"/>
                </a:lnTo>
                <a:lnTo>
                  <a:pt x="1466" y="359"/>
                </a:lnTo>
                <a:lnTo>
                  <a:pt x="1468" y="343"/>
                </a:lnTo>
                <a:lnTo>
                  <a:pt x="1458" y="340"/>
                </a:lnTo>
                <a:lnTo>
                  <a:pt x="1438" y="332"/>
                </a:lnTo>
                <a:lnTo>
                  <a:pt x="1389" y="316"/>
                </a:lnTo>
                <a:lnTo>
                  <a:pt x="1344" y="301"/>
                </a:lnTo>
                <a:lnTo>
                  <a:pt x="1336" y="297"/>
                </a:lnTo>
                <a:lnTo>
                  <a:pt x="1303" y="286"/>
                </a:lnTo>
                <a:lnTo>
                  <a:pt x="1239" y="267"/>
                </a:lnTo>
                <a:lnTo>
                  <a:pt x="1115" y="238"/>
                </a:lnTo>
                <a:lnTo>
                  <a:pt x="989" y="212"/>
                </a:lnTo>
                <a:lnTo>
                  <a:pt x="957" y="204"/>
                </a:lnTo>
                <a:lnTo>
                  <a:pt x="938" y="199"/>
                </a:lnTo>
                <a:lnTo>
                  <a:pt x="892" y="178"/>
                </a:lnTo>
                <a:lnTo>
                  <a:pt x="779" y="127"/>
                </a:lnTo>
                <a:lnTo>
                  <a:pt x="724" y="110"/>
                </a:lnTo>
                <a:lnTo>
                  <a:pt x="678" y="105"/>
                </a:lnTo>
                <a:lnTo>
                  <a:pt x="660" y="110"/>
                </a:lnTo>
                <a:lnTo>
                  <a:pt x="628" y="96"/>
                </a:lnTo>
                <a:lnTo>
                  <a:pt x="579" y="80"/>
                </a:lnTo>
                <a:lnTo>
                  <a:pt x="543" y="73"/>
                </a:lnTo>
                <a:lnTo>
                  <a:pt x="471" y="55"/>
                </a:lnTo>
                <a:lnTo>
                  <a:pt x="380" y="0"/>
                </a:lnTo>
                <a:lnTo>
                  <a:pt x="365" y="0"/>
                </a:lnTo>
                <a:lnTo>
                  <a:pt x="345" y="0"/>
                </a:lnTo>
                <a:lnTo>
                  <a:pt x="333" y="2"/>
                </a:lnTo>
                <a:lnTo>
                  <a:pt x="329" y="5"/>
                </a:lnTo>
                <a:lnTo>
                  <a:pt x="326" y="9"/>
                </a:lnTo>
                <a:lnTo>
                  <a:pt x="321" y="15"/>
                </a:lnTo>
                <a:lnTo>
                  <a:pt x="313" y="34"/>
                </a:lnTo>
                <a:lnTo>
                  <a:pt x="298" y="63"/>
                </a:lnTo>
                <a:lnTo>
                  <a:pt x="271" y="64"/>
                </a:lnTo>
                <a:lnTo>
                  <a:pt x="226" y="65"/>
                </a:lnTo>
                <a:lnTo>
                  <a:pt x="189" y="70"/>
                </a:lnTo>
                <a:lnTo>
                  <a:pt x="163" y="82"/>
                </a:lnTo>
                <a:lnTo>
                  <a:pt x="143" y="102"/>
                </a:lnTo>
                <a:lnTo>
                  <a:pt x="135" y="136"/>
                </a:lnTo>
                <a:lnTo>
                  <a:pt x="134" y="157"/>
                </a:lnTo>
                <a:lnTo>
                  <a:pt x="145" y="175"/>
                </a:lnTo>
                <a:lnTo>
                  <a:pt x="166" y="200"/>
                </a:lnTo>
                <a:lnTo>
                  <a:pt x="178" y="216"/>
                </a:lnTo>
                <a:lnTo>
                  <a:pt x="180" y="223"/>
                </a:lnTo>
                <a:lnTo>
                  <a:pt x="179" y="231"/>
                </a:lnTo>
                <a:lnTo>
                  <a:pt x="176" y="241"/>
                </a:lnTo>
                <a:lnTo>
                  <a:pt x="170" y="252"/>
                </a:lnTo>
                <a:lnTo>
                  <a:pt x="148" y="286"/>
                </a:lnTo>
                <a:lnTo>
                  <a:pt x="131" y="311"/>
                </a:lnTo>
                <a:lnTo>
                  <a:pt x="134" y="312"/>
                </a:lnTo>
                <a:lnTo>
                  <a:pt x="152" y="316"/>
                </a:lnTo>
                <a:lnTo>
                  <a:pt x="215" y="328"/>
                </a:lnTo>
                <a:lnTo>
                  <a:pt x="263" y="337"/>
                </a:lnTo>
                <a:lnTo>
                  <a:pt x="267" y="337"/>
                </a:lnTo>
                <a:lnTo>
                  <a:pt x="265" y="341"/>
                </a:lnTo>
                <a:lnTo>
                  <a:pt x="264" y="346"/>
                </a:lnTo>
                <a:lnTo>
                  <a:pt x="262" y="349"/>
                </a:lnTo>
                <a:lnTo>
                  <a:pt x="257" y="355"/>
                </a:lnTo>
                <a:lnTo>
                  <a:pt x="252" y="362"/>
                </a:lnTo>
                <a:lnTo>
                  <a:pt x="240" y="377"/>
                </a:lnTo>
                <a:lnTo>
                  <a:pt x="238" y="381"/>
                </a:lnTo>
                <a:lnTo>
                  <a:pt x="264" y="391"/>
                </a:lnTo>
                <a:lnTo>
                  <a:pt x="312" y="408"/>
                </a:lnTo>
                <a:lnTo>
                  <a:pt x="391" y="437"/>
                </a:lnTo>
                <a:lnTo>
                  <a:pt x="476" y="478"/>
                </a:lnTo>
                <a:lnTo>
                  <a:pt x="500" y="491"/>
                </a:lnTo>
                <a:lnTo>
                  <a:pt x="500" y="493"/>
                </a:lnTo>
                <a:lnTo>
                  <a:pt x="502" y="502"/>
                </a:lnTo>
                <a:lnTo>
                  <a:pt x="511" y="534"/>
                </a:lnTo>
                <a:lnTo>
                  <a:pt x="518" y="557"/>
                </a:lnTo>
                <a:lnTo>
                  <a:pt x="519" y="558"/>
                </a:lnTo>
                <a:lnTo>
                  <a:pt x="515" y="560"/>
                </a:lnTo>
                <a:lnTo>
                  <a:pt x="496" y="572"/>
                </a:lnTo>
                <a:lnTo>
                  <a:pt x="432" y="609"/>
                </a:lnTo>
                <a:lnTo>
                  <a:pt x="382" y="638"/>
                </a:lnTo>
                <a:lnTo>
                  <a:pt x="380" y="639"/>
                </a:lnTo>
                <a:lnTo>
                  <a:pt x="379" y="645"/>
                </a:lnTo>
                <a:lnTo>
                  <a:pt x="372" y="688"/>
                </a:lnTo>
                <a:lnTo>
                  <a:pt x="349" y="832"/>
                </a:lnTo>
                <a:lnTo>
                  <a:pt x="331" y="944"/>
                </a:lnTo>
                <a:lnTo>
                  <a:pt x="331" y="949"/>
                </a:lnTo>
                <a:lnTo>
                  <a:pt x="329" y="950"/>
                </a:lnTo>
                <a:lnTo>
                  <a:pt x="315" y="957"/>
                </a:lnTo>
                <a:lnTo>
                  <a:pt x="268" y="978"/>
                </a:lnTo>
                <a:lnTo>
                  <a:pt x="232" y="995"/>
                </a:lnTo>
                <a:lnTo>
                  <a:pt x="231" y="995"/>
                </a:lnTo>
                <a:lnTo>
                  <a:pt x="230" y="994"/>
                </a:lnTo>
                <a:lnTo>
                  <a:pt x="226" y="987"/>
                </a:lnTo>
                <a:lnTo>
                  <a:pt x="210" y="960"/>
                </a:lnTo>
                <a:lnTo>
                  <a:pt x="198" y="939"/>
                </a:lnTo>
                <a:lnTo>
                  <a:pt x="198" y="937"/>
                </a:lnTo>
                <a:lnTo>
                  <a:pt x="197" y="938"/>
                </a:lnTo>
                <a:lnTo>
                  <a:pt x="195" y="943"/>
                </a:lnTo>
                <a:lnTo>
                  <a:pt x="188" y="960"/>
                </a:lnTo>
                <a:lnTo>
                  <a:pt x="186" y="971"/>
                </a:lnTo>
                <a:lnTo>
                  <a:pt x="188" y="982"/>
                </a:lnTo>
                <a:lnTo>
                  <a:pt x="190" y="986"/>
                </a:lnTo>
                <a:lnTo>
                  <a:pt x="194" y="993"/>
                </a:lnTo>
                <a:lnTo>
                  <a:pt x="202" y="1012"/>
                </a:lnTo>
                <a:lnTo>
                  <a:pt x="224" y="1062"/>
                </a:lnTo>
                <a:lnTo>
                  <a:pt x="238" y="1098"/>
                </a:lnTo>
                <a:lnTo>
                  <a:pt x="239" y="1101"/>
                </a:lnTo>
                <a:lnTo>
                  <a:pt x="237" y="1106"/>
                </a:lnTo>
                <a:lnTo>
                  <a:pt x="226" y="1127"/>
                </a:lnTo>
                <a:lnTo>
                  <a:pt x="190" y="1201"/>
                </a:lnTo>
                <a:lnTo>
                  <a:pt x="163" y="1257"/>
                </a:lnTo>
                <a:lnTo>
                  <a:pt x="161" y="1260"/>
                </a:lnTo>
                <a:lnTo>
                  <a:pt x="175" y="1265"/>
                </a:lnTo>
                <a:lnTo>
                  <a:pt x="217" y="1280"/>
                </a:lnTo>
                <a:lnTo>
                  <a:pt x="249" y="1291"/>
                </a:lnTo>
                <a:lnTo>
                  <a:pt x="252" y="1291"/>
                </a:lnTo>
                <a:lnTo>
                  <a:pt x="243" y="1297"/>
                </a:lnTo>
                <a:lnTo>
                  <a:pt x="234" y="1301"/>
                </a:lnTo>
                <a:lnTo>
                  <a:pt x="224" y="1304"/>
                </a:lnTo>
                <a:lnTo>
                  <a:pt x="201" y="1308"/>
                </a:lnTo>
                <a:lnTo>
                  <a:pt x="157" y="1313"/>
                </a:lnTo>
                <a:lnTo>
                  <a:pt x="136" y="1325"/>
                </a:lnTo>
                <a:lnTo>
                  <a:pt x="133" y="1329"/>
                </a:lnTo>
                <a:lnTo>
                  <a:pt x="114" y="1351"/>
                </a:lnTo>
                <a:lnTo>
                  <a:pt x="50" y="1430"/>
                </a:lnTo>
                <a:lnTo>
                  <a:pt x="2" y="1489"/>
                </a:lnTo>
                <a:lnTo>
                  <a:pt x="0" y="1492"/>
                </a:lnTo>
                <a:lnTo>
                  <a:pt x="25" y="1514"/>
                </a:lnTo>
                <a:lnTo>
                  <a:pt x="82" y="1554"/>
                </a:lnTo>
                <a:lnTo>
                  <a:pt x="203" y="1628"/>
                </a:lnTo>
                <a:lnTo>
                  <a:pt x="299" y="1726"/>
                </a:lnTo>
                <a:lnTo>
                  <a:pt x="314" y="1759"/>
                </a:lnTo>
                <a:lnTo>
                  <a:pt x="315" y="1767"/>
                </a:lnTo>
                <a:lnTo>
                  <a:pt x="319" y="1773"/>
                </a:lnTo>
                <a:lnTo>
                  <a:pt x="327" y="1777"/>
                </a:lnTo>
                <a:lnTo>
                  <a:pt x="335" y="1781"/>
                </a:lnTo>
                <a:lnTo>
                  <a:pt x="346" y="1784"/>
                </a:lnTo>
                <a:lnTo>
                  <a:pt x="368" y="1788"/>
                </a:lnTo>
                <a:lnTo>
                  <a:pt x="407" y="1790"/>
                </a:lnTo>
                <a:lnTo>
                  <a:pt x="413" y="1790"/>
                </a:lnTo>
                <a:lnTo>
                  <a:pt x="453" y="1783"/>
                </a:lnTo>
                <a:lnTo>
                  <a:pt x="528" y="1768"/>
                </a:lnTo>
                <a:lnTo>
                  <a:pt x="670" y="1748"/>
                </a:lnTo>
                <a:lnTo>
                  <a:pt x="817" y="1752"/>
                </a:lnTo>
                <a:lnTo>
                  <a:pt x="857" y="1759"/>
                </a:lnTo>
                <a:lnTo>
                  <a:pt x="880" y="1761"/>
                </a:lnTo>
                <a:lnTo>
                  <a:pt x="909" y="1769"/>
                </a:lnTo>
                <a:lnTo>
                  <a:pt x="923" y="1780"/>
                </a:lnTo>
                <a:lnTo>
                  <a:pt x="930" y="1789"/>
                </a:lnTo>
                <a:lnTo>
                  <a:pt x="931" y="1790"/>
                </a:lnTo>
                <a:lnTo>
                  <a:pt x="934" y="1790"/>
                </a:lnTo>
                <a:lnTo>
                  <a:pt x="936" y="1790"/>
                </a:lnTo>
                <a:lnTo>
                  <a:pt x="938" y="1789"/>
                </a:lnTo>
                <a:lnTo>
                  <a:pt x="942" y="1787"/>
                </a:lnTo>
                <a:lnTo>
                  <a:pt x="951" y="1779"/>
                </a:lnTo>
                <a:lnTo>
                  <a:pt x="965" y="1767"/>
                </a:lnTo>
                <a:lnTo>
                  <a:pt x="973" y="1759"/>
                </a:lnTo>
                <a:lnTo>
                  <a:pt x="998" y="1761"/>
                </a:lnTo>
                <a:lnTo>
                  <a:pt x="1026" y="1758"/>
                </a:lnTo>
                <a:lnTo>
                  <a:pt x="1084" y="1742"/>
                </a:lnTo>
                <a:lnTo>
                  <a:pt x="1146" y="1719"/>
                </a:lnTo>
                <a:lnTo>
                  <a:pt x="1266" y="1674"/>
                </a:lnTo>
                <a:lnTo>
                  <a:pt x="1320" y="1666"/>
                </a:lnTo>
                <a:lnTo>
                  <a:pt x="1334" y="1660"/>
                </a:lnTo>
                <a:lnTo>
                  <a:pt x="1350" y="1651"/>
                </a:lnTo>
                <a:lnTo>
                  <a:pt x="1353" y="1648"/>
                </a:lnTo>
                <a:lnTo>
                  <a:pt x="1353" y="1647"/>
                </a:lnTo>
                <a:lnTo>
                  <a:pt x="1353" y="1644"/>
                </a:lnTo>
                <a:lnTo>
                  <a:pt x="1353" y="1643"/>
                </a:lnTo>
                <a:lnTo>
                  <a:pt x="1352" y="1642"/>
                </a:lnTo>
                <a:lnTo>
                  <a:pt x="1351" y="1640"/>
                </a:lnTo>
                <a:lnTo>
                  <a:pt x="1348" y="1637"/>
                </a:lnTo>
                <a:lnTo>
                  <a:pt x="1340" y="1627"/>
                </a:lnTo>
                <a:lnTo>
                  <a:pt x="1336" y="1610"/>
                </a:lnTo>
                <a:lnTo>
                  <a:pt x="1336" y="1604"/>
                </a:lnTo>
                <a:lnTo>
                  <a:pt x="1385" y="1569"/>
                </a:lnTo>
                <a:lnTo>
                  <a:pt x="1461" y="1522"/>
                </a:lnTo>
                <a:lnTo>
                  <a:pt x="1536" y="1482"/>
                </a:lnTo>
                <a:lnTo>
                  <a:pt x="1543" y="1474"/>
                </a:lnTo>
                <a:lnTo>
                  <a:pt x="1547" y="1464"/>
                </a:lnTo>
                <a:lnTo>
                  <a:pt x="1549" y="1449"/>
                </a:lnTo>
                <a:lnTo>
                  <a:pt x="1549" y="1428"/>
                </a:lnTo>
                <a:lnTo>
                  <a:pt x="1550" y="1401"/>
                </a:lnTo>
                <a:lnTo>
                  <a:pt x="1545" y="1390"/>
                </a:lnTo>
                <a:lnTo>
                  <a:pt x="1532" y="1363"/>
                </a:lnTo>
                <a:lnTo>
                  <a:pt x="1506" y="1306"/>
                </a:lnTo>
                <a:lnTo>
                  <a:pt x="1497" y="1245"/>
                </a:lnTo>
                <a:lnTo>
                  <a:pt x="1500" y="1229"/>
                </a:lnTo>
                <a:lnTo>
                  <a:pt x="1509" y="1199"/>
                </a:lnTo>
                <a:lnTo>
                  <a:pt x="1544" y="1146"/>
                </a:lnTo>
                <a:lnTo>
                  <a:pt x="1589" y="1097"/>
                </a:lnTo>
                <a:lnTo>
                  <a:pt x="1699" y="1003"/>
                </a:lnTo>
                <a:lnTo>
                  <a:pt x="1780" y="919"/>
                </a:lnTo>
                <a:lnTo>
                  <a:pt x="1786" y="913"/>
                </a:lnTo>
                <a:lnTo>
                  <a:pt x="1793" y="907"/>
                </a:lnTo>
                <a:lnTo>
                  <a:pt x="1789" y="910"/>
                </a:lnTo>
                <a:lnTo>
                  <a:pt x="1780" y="919"/>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88"/>
          <p:cNvSpPr/>
          <p:nvPr/>
        </p:nvSpPr>
        <p:spPr>
          <a:xfrm>
            <a:off x="1014480" y="1657440"/>
            <a:ext cx="1074600" cy="2311200"/>
          </a:xfrm>
          <a:custGeom>
            <a:avLst/>
            <a:gdLst>
              <a:gd name="textAreaLeft" fmla="*/ 0 w 1074600"/>
              <a:gd name="textAreaRight" fmla="*/ 1074960 w 1074600"/>
              <a:gd name="textAreaTop" fmla="*/ 0 h 2311200"/>
              <a:gd name="textAreaBottom" fmla="*/ 2311560 h 2311200"/>
            </a:gdLst>
            <a:ahLst/>
            <a:rect l="textAreaLeft" t="textAreaTop" r="textAreaRight" b="textAreaBottom"/>
            <a:pathLst>
              <a:path w="1356" h="2912">
                <a:moveTo>
                  <a:pt x="561" y="0"/>
                </a:moveTo>
                <a:lnTo>
                  <a:pt x="579" y="1"/>
                </a:lnTo>
                <a:lnTo>
                  <a:pt x="605" y="8"/>
                </a:lnTo>
                <a:lnTo>
                  <a:pt x="612" y="14"/>
                </a:lnTo>
                <a:lnTo>
                  <a:pt x="618" y="21"/>
                </a:lnTo>
                <a:lnTo>
                  <a:pt x="621" y="29"/>
                </a:lnTo>
                <a:lnTo>
                  <a:pt x="622" y="38"/>
                </a:lnTo>
                <a:lnTo>
                  <a:pt x="621" y="48"/>
                </a:lnTo>
                <a:lnTo>
                  <a:pt x="617" y="71"/>
                </a:lnTo>
                <a:lnTo>
                  <a:pt x="610" y="93"/>
                </a:lnTo>
                <a:lnTo>
                  <a:pt x="602" y="93"/>
                </a:lnTo>
                <a:lnTo>
                  <a:pt x="592" y="90"/>
                </a:lnTo>
                <a:lnTo>
                  <a:pt x="584" y="86"/>
                </a:lnTo>
                <a:lnTo>
                  <a:pt x="567" y="73"/>
                </a:lnTo>
                <a:lnTo>
                  <a:pt x="556" y="56"/>
                </a:lnTo>
                <a:lnTo>
                  <a:pt x="550" y="34"/>
                </a:lnTo>
                <a:lnTo>
                  <a:pt x="555" y="12"/>
                </a:lnTo>
                <a:lnTo>
                  <a:pt x="561" y="0"/>
                </a:lnTo>
                <a:lnTo>
                  <a:pt x="577" y="0"/>
                </a:lnTo>
                <a:lnTo>
                  <a:pt x="595" y="0"/>
                </a:lnTo>
                <a:lnTo>
                  <a:pt x="586" y="0"/>
                </a:lnTo>
                <a:lnTo>
                  <a:pt x="562" y="0"/>
                </a:lnTo>
                <a:lnTo>
                  <a:pt x="561" y="0"/>
                </a:lnTo>
                <a:close/>
                <a:moveTo>
                  <a:pt x="1155" y="684"/>
                </a:moveTo>
                <a:lnTo>
                  <a:pt x="1154" y="674"/>
                </a:lnTo>
                <a:lnTo>
                  <a:pt x="1152" y="659"/>
                </a:lnTo>
                <a:lnTo>
                  <a:pt x="1145" y="648"/>
                </a:lnTo>
                <a:lnTo>
                  <a:pt x="1137" y="640"/>
                </a:lnTo>
                <a:lnTo>
                  <a:pt x="1126" y="633"/>
                </a:lnTo>
                <a:lnTo>
                  <a:pt x="1112" y="627"/>
                </a:lnTo>
                <a:lnTo>
                  <a:pt x="1105" y="623"/>
                </a:lnTo>
                <a:lnTo>
                  <a:pt x="1113" y="610"/>
                </a:lnTo>
                <a:lnTo>
                  <a:pt x="1128" y="592"/>
                </a:lnTo>
                <a:lnTo>
                  <a:pt x="1136" y="582"/>
                </a:lnTo>
                <a:lnTo>
                  <a:pt x="1138" y="578"/>
                </a:lnTo>
                <a:lnTo>
                  <a:pt x="1138" y="577"/>
                </a:lnTo>
                <a:lnTo>
                  <a:pt x="1137" y="575"/>
                </a:lnTo>
                <a:lnTo>
                  <a:pt x="1136" y="574"/>
                </a:lnTo>
                <a:lnTo>
                  <a:pt x="1135" y="572"/>
                </a:lnTo>
                <a:lnTo>
                  <a:pt x="1130" y="568"/>
                </a:lnTo>
                <a:lnTo>
                  <a:pt x="1115" y="556"/>
                </a:lnTo>
                <a:lnTo>
                  <a:pt x="1105" y="546"/>
                </a:lnTo>
                <a:lnTo>
                  <a:pt x="1112" y="543"/>
                </a:lnTo>
                <a:lnTo>
                  <a:pt x="1129" y="533"/>
                </a:lnTo>
                <a:lnTo>
                  <a:pt x="1163" y="515"/>
                </a:lnTo>
                <a:lnTo>
                  <a:pt x="1195" y="491"/>
                </a:lnTo>
                <a:lnTo>
                  <a:pt x="1203" y="482"/>
                </a:lnTo>
                <a:lnTo>
                  <a:pt x="1206" y="493"/>
                </a:lnTo>
                <a:lnTo>
                  <a:pt x="1207" y="508"/>
                </a:lnTo>
                <a:lnTo>
                  <a:pt x="1207" y="548"/>
                </a:lnTo>
                <a:lnTo>
                  <a:pt x="1192" y="638"/>
                </a:lnTo>
                <a:lnTo>
                  <a:pt x="1155" y="684"/>
                </a:lnTo>
                <a:lnTo>
                  <a:pt x="1155" y="675"/>
                </a:lnTo>
                <a:lnTo>
                  <a:pt x="1155" y="666"/>
                </a:lnTo>
                <a:lnTo>
                  <a:pt x="1155" y="671"/>
                </a:lnTo>
                <a:lnTo>
                  <a:pt x="1155" y="684"/>
                </a:lnTo>
                <a:close/>
                <a:moveTo>
                  <a:pt x="905" y="896"/>
                </a:moveTo>
                <a:lnTo>
                  <a:pt x="893" y="895"/>
                </a:lnTo>
                <a:lnTo>
                  <a:pt x="885" y="892"/>
                </a:lnTo>
                <a:lnTo>
                  <a:pt x="877" y="886"/>
                </a:lnTo>
                <a:lnTo>
                  <a:pt x="871" y="879"/>
                </a:lnTo>
                <a:lnTo>
                  <a:pt x="867" y="871"/>
                </a:lnTo>
                <a:lnTo>
                  <a:pt x="864" y="861"/>
                </a:lnTo>
                <a:lnTo>
                  <a:pt x="863" y="852"/>
                </a:lnTo>
                <a:lnTo>
                  <a:pt x="864" y="843"/>
                </a:lnTo>
                <a:lnTo>
                  <a:pt x="868" y="833"/>
                </a:lnTo>
                <a:lnTo>
                  <a:pt x="873" y="825"/>
                </a:lnTo>
                <a:lnTo>
                  <a:pt x="881" y="818"/>
                </a:lnTo>
                <a:lnTo>
                  <a:pt x="891" y="811"/>
                </a:lnTo>
                <a:lnTo>
                  <a:pt x="891" y="816"/>
                </a:lnTo>
                <a:lnTo>
                  <a:pt x="892" y="821"/>
                </a:lnTo>
                <a:lnTo>
                  <a:pt x="898" y="833"/>
                </a:lnTo>
                <a:lnTo>
                  <a:pt x="907" y="865"/>
                </a:lnTo>
                <a:lnTo>
                  <a:pt x="905" y="896"/>
                </a:lnTo>
                <a:lnTo>
                  <a:pt x="895" y="896"/>
                </a:lnTo>
                <a:lnTo>
                  <a:pt x="885" y="896"/>
                </a:lnTo>
                <a:lnTo>
                  <a:pt x="890" y="896"/>
                </a:lnTo>
                <a:lnTo>
                  <a:pt x="904" y="896"/>
                </a:lnTo>
                <a:lnTo>
                  <a:pt x="905" y="896"/>
                </a:lnTo>
                <a:close/>
                <a:moveTo>
                  <a:pt x="276" y="1051"/>
                </a:moveTo>
                <a:lnTo>
                  <a:pt x="265" y="1051"/>
                </a:lnTo>
                <a:lnTo>
                  <a:pt x="244" y="1050"/>
                </a:lnTo>
                <a:lnTo>
                  <a:pt x="202" y="1044"/>
                </a:lnTo>
                <a:lnTo>
                  <a:pt x="184" y="1035"/>
                </a:lnTo>
                <a:lnTo>
                  <a:pt x="169" y="1020"/>
                </a:lnTo>
                <a:lnTo>
                  <a:pt x="163" y="1010"/>
                </a:lnTo>
                <a:lnTo>
                  <a:pt x="172" y="999"/>
                </a:lnTo>
                <a:lnTo>
                  <a:pt x="182" y="991"/>
                </a:lnTo>
                <a:lnTo>
                  <a:pt x="194" y="986"/>
                </a:lnTo>
                <a:lnTo>
                  <a:pt x="207" y="985"/>
                </a:lnTo>
                <a:lnTo>
                  <a:pt x="220" y="986"/>
                </a:lnTo>
                <a:lnTo>
                  <a:pt x="232" y="990"/>
                </a:lnTo>
                <a:lnTo>
                  <a:pt x="244" y="997"/>
                </a:lnTo>
                <a:lnTo>
                  <a:pt x="253" y="1005"/>
                </a:lnTo>
                <a:lnTo>
                  <a:pt x="269" y="1027"/>
                </a:lnTo>
                <a:lnTo>
                  <a:pt x="276" y="1051"/>
                </a:lnTo>
                <a:lnTo>
                  <a:pt x="267" y="1051"/>
                </a:lnTo>
                <a:lnTo>
                  <a:pt x="258" y="1050"/>
                </a:lnTo>
                <a:lnTo>
                  <a:pt x="263" y="1051"/>
                </a:lnTo>
                <a:lnTo>
                  <a:pt x="275" y="1051"/>
                </a:lnTo>
                <a:lnTo>
                  <a:pt x="276" y="1051"/>
                </a:lnTo>
                <a:close/>
                <a:moveTo>
                  <a:pt x="364" y="998"/>
                </a:moveTo>
                <a:lnTo>
                  <a:pt x="366" y="976"/>
                </a:lnTo>
                <a:lnTo>
                  <a:pt x="372" y="937"/>
                </a:lnTo>
                <a:lnTo>
                  <a:pt x="383" y="908"/>
                </a:lnTo>
                <a:lnTo>
                  <a:pt x="401" y="889"/>
                </a:lnTo>
                <a:lnTo>
                  <a:pt x="431" y="875"/>
                </a:lnTo>
                <a:lnTo>
                  <a:pt x="476" y="867"/>
                </a:lnTo>
                <a:lnTo>
                  <a:pt x="507" y="864"/>
                </a:lnTo>
                <a:lnTo>
                  <a:pt x="516" y="888"/>
                </a:lnTo>
                <a:lnTo>
                  <a:pt x="520" y="909"/>
                </a:lnTo>
                <a:lnTo>
                  <a:pt x="518" y="928"/>
                </a:lnTo>
                <a:lnTo>
                  <a:pt x="511" y="945"/>
                </a:lnTo>
                <a:lnTo>
                  <a:pt x="500" y="958"/>
                </a:lnTo>
                <a:lnTo>
                  <a:pt x="485" y="970"/>
                </a:lnTo>
                <a:lnTo>
                  <a:pt x="468" y="981"/>
                </a:lnTo>
                <a:lnTo>
                  <a:pt x="428" y="993"/>
                </a:lnTo>
                <a:lnTo>
                  <a:pt x="384" y="999"/>
                </a:lnTo>
                <a:lnTo>
                  <a:pt x="364" y="998"/>
                </a:lnTo>
                <a:lnTo>
                  <a:pt x="366" y="978"/>
                </a:lnTo>
                <a:lnTo>
                  <a:pt x="368" y="957"/>
                </a:lnTo>
                <a:lnTo>
                  <a:pt x="367" y="968"/>
                </a:lnTo>
                <a:lnTo>
                  <a:pt x="364" y="997"/>
                </a:lnTo>
                <a:lnTo>
                  <a:pt x="364" y="998"/>
                </a:lnTo>
                <a:close/>
                <a:moveTo>
                  <a:pt x="265" y="1193"/>
                </a:moveTo>
                <a:lnTo>
                  <a:pt x="256" y="1190"/>
                </a:lnTo>
                <a:lnTo>
                  <a:pt x="241" y="1183"/>
                </a:lnTo>
                <a:lnTo>
                  <a:pt x="229" y="1176"/>
                </a:lnTo>
                <a:lnTo>
                  <a:pt x="221" y="1169"/>
                </a:lnTo>
                <a:lnTo>
                  <a:pt x="219" y="1165"/>
                </a:lnTo>
                <a:lnTo>
                  <a:pt x="219" y="1160"/>
                </a:lnTo>
                <a:lnTo>
                  <a:pt x="221" y="1155"/>
                </a:lnTo>
                <a:lnTo>
                  <a:pt x="225" y="1149"/>
                </a:lnTo>
                <a:lnTo>
                  <a:pt x="233" y="1141"/>
                </a:lnTo>
                <a:lnTo>
                  <a:pt x="236" y="1141"/>
                </a:lnTo>
                <a:lnTo>
                  <a:pt x="241" y="1141"/>
                </a:lnTo>
                <a:lnTo>
                  <a:pt x="245" y="1142"/>
                </a:lnTo>
                <a:lnTo>
                  <a:pt x="247" y="1143"/>
                </a:lnTo>
                <a:lnTo>
                  <a:pt x="249" y="1145"/>
                </a:lnTo>
                <a:lnTo>
                  <a:pt x="250" y="1149"/>
                </a:lnTo>
                <a:lnTo>
                  <a:pt x="252" y="1153"/>
                </a:lnTo>
                <a:lnTo>
                  <a:pt x="258" y="1169"/>
                </a:lnTo>
                <a:lnTo>
                  <a:pt x="265" y="1193"/>
                </a:lnTo>
                <a:lnTo>
                  <a:pt x="258" y="1190"/>
                </a:lnTo>
                <a:lnTo>
                  <a:pt x="251" y="1186"/>
                </a:lnTo>
                <a:lnTo>
                  <a:pt x="254" y="1188"/>
                </a:lnTo>
                <a:lnTo>
                  <a:pt x="264" y="1193"/>
                </a:lnTo>
                <a:lnTo>
                  <a:pt x="265" y="1193"/>
                </a:lnTo>
                <a:close/>
                <a:moveTo>
                  <a:pt x="284" y="1588"/>
                </a:moveTo>
                <a:lnTo>
                  <a:pt x="284" y="1584"/>
                </a:lnTo>
                <a:lnTo>
                  <a:pt x="288" y="1579"/>
                </a:lnTo>
                <a:lnTo>
                  <a:pt x="292" y="1573"/>
                </a:lnTo>
                <a:lnTo>
                  <a:pt x="303" y="1559"/>
                </a:lnTo>
                <a:lnTo>
                  <a:pt x="326" y="1532"/>
                </a:lnTo>
                <a:lnTo>
                  <a:pt x="335" y="1516"/>
                </a:lnTo>
                <a:lnTo>
                  <a:pt x="333" y="1516"/>
                </a:lnTo>
                <a:lnTo>
                  <a:pt x="323" y="1516"/>
                </a:lnTo>
                <a:lnTo>
                  <a:pt x="288" y="1516"/>
                </a:lnTo>
                <a:lnTo>
                  <a:pt x="261" y="1516"/>
                </a:lnTo>
                <a:lnTo>
                  <a:pt x="260" y="1515"/>
                </a:lnTo>
                <a:lnTo>
                  <a:pt x="259" y="1519"/>
                </a:lnTo>
                <a:lnTo>
                  <a:pt x="259" y="1529"/>
                </a:lnTo>
                <a:lnTo>
                  <a:pt x="262" y="1552"/>
                </a:lnTo>
                <a:lnTo>
                  <a:pt x="277" y="1581"/>
                </a:lnTo>
                <a:lnTo>
                  <a:pt x="284" y="1588"/>
                </a:lnTo>
                <a:lnTo>
                  <a:pt x="284" y="1585"/>
                </a:lnTo>
                <a:lnTo>
                  <a:pt x="284" y="1582"/>
                </a:lnTo>
                <a:lnTo>
                  <a:pt x="284" y="1584"/>
                </a:lnTo>
                <a:lnTo>
                  <a:pt x="284" y="1588"/>
                </a:lnTo>
                <a:close/>
                <a:moveTo>
                  <a:pt x="398" y="1685"/>
                </a:moveTo>
                <a:lnTo>
                  <a:pt x="403" y="1700"/>
                </a:lnTo>
                <a:lnTo>
                  <a:pt x="410" y="1720"/>
                </a:lnTo>
                <a:lnTo>
                  <a:pt x="414" y="1732"/>
                </a:lnTo>
                <a:lnTo>
                  <a:pt x="415" y="1733"/>
                </a:lnTo>
                <a:lnTo>
                  <a:pt x="416" y="1734"/>
                </a:lnTo>
                <a:lnTo>
                  <a:pt x="417" y="1734"/>
                </a:lnTo>
                <a:lnTo>
                  <a:pt x="418" y="1733"/>
                </a:lnTo>
                <a:lnTo>
                  <a:pt x="419" y="1729"/>
                </a:lnTo>
                <a:lnTo>
                  <a:pt x="421" y="1727"/>
                </a:lnTo>
                <a:lnTo>
                  <a:pt x="425" y="1721"/>
                </a:lnTo>
                <a:lnTo>
                  <a:pt x="436" y="1701"/>
                </a:lnTo>
                <a:lnTo>
                  <a:pt x="440" y="1694"/>
                </a:lnTo>
                <a:lnTo>
                  <a:pt x="437" y="1692"/>
                </a:lnTo>
                <a:lnTo>
                  <a:pt x="431" y="1688"/>
                </a:lnTo>
                <a:lnTo>
                  <a:pt x="424" y="1684"/>
                </a:lnTo>
                <a:lnTo>
                  <a:pt x="415" y="1682"/>
                </a:lnTo>
                <a:lnTo>
                  <a:pt x="408" y="1681"/>
                </a:lnTo>
                <a:lnTo>
                  <a:pt x="400" y="1683"/>
                </a:lnTo>
                <a:lnTo>
                  <a:pt x="398" y="1685"/>
                </a:lnTo>
                <a:lnTo>
                  <a:pt x="402" y="1698"/>
                </a:lnTo>
                <a:lnTo>
                  <a:pt x="408" y="1711"/>
                </a:lnTo>
                <a:lnTo>
                  <a:pt x="404" y="1704"/>
                </a:lnTo>
                <a:lnTo>
                  <a:pt x="398" y="1687"/>
                </a:lnTo>
                <a:lnTo>
                  <a:pt x="398" y="1685"/>
                </a:lnTo>
                <a:close/>
                <a:moveTo>
                  <a:pt x="448" y="1954"/>
                </a:moveTo>
                <a:lnTo>
                  <a:pt x="448" y="1951"/>
                </a:lnTo>
                <a:lnTo>
                  <a:pt x="449" y="1945"/>
                </a:lnTo>
                <a:lnTo>
                  <a:pt x="455" y="1935"/>
                </a:lnTo>
                <a:lnTo>
                  <a:pt x="469" y="1911"/>
                </a:lnTo>
                <a:lnTo>
                  <a:pt x="477" y="1884"/>
                </a:lnTo>
                <a:lnTo>
                  <a:pt x="482" y="1885"/>
                </a:lnTo>
                <a:lnTo>
                  <a:pt x="490" y="1887"/>
                </a:lnTo>
                <a:lnTo>
                  <a:pt x="499" y="1890"/>
                </a:lnTo>
                <a:lnTo>
                  <a:pt x="517" y="1898"/>
                </a:lnTo>
                <a:lnTo>
                  <a:pt x="530" y="1900"/>
                </a:lnTo>
                <a:lnTo>
                  <a:pt x="526" y="1911"/>
                </a:lnTo>
                <a:lnTo>
                  <a:pt x="519" y="1929"/>
                </a:lnTo>
                <a:lnTo>
                  <a:pt x="511" y="1943"/>
                </a:lnTo>
                <a:lnTo>
                  <a:pt x="501" y="1954"/>
                </a:lnTo>
                <a:lnTo>
                  <a:pt x="485" y="1958"/>
                </a:lnTo>
                <a:lnTo>
                  <a:pt x="462" y="1957"/>
                </a:lnTo>
                <a:lnTo>
                  <a:pt x="448" y="1954"/>
                </a:lnTo>
                <a:lnTo>
                  <a:pt x="448" y="1952"/>
                </a:lnTo>
                <a:lnTo>
                  <a:pt x="448" y="1949"/>
                </a:lnTo>
                <a:lnTo>
                  <a:pt x="448" y="1950"/>
                </a:lnTo>
                <a:lnTo>
                  <a:pt x="448" y="1954"/>
                </a:lnTo>
                <a:close/>
                <a:moveTo>
                  <a:pt x="314" y="1791"/>
                </a:moveTo>
                <a:lnTo>
                  <a:pt x="313" y="1779"/>
                </a:lnTo>
                <a:lnTo>
                  <a:pt x="309" y="1758"/>
                </a:lnTo>
                <a:lnTo>
                  <a:pt x="294" y="1719"/>
                </a:lnTo>
                <a:lnTo>
                  <a:pt x="275" y="1685"/>
                </a:lnTo>
                <a:lnTo>
                  <a:pt x="271" y="1677"/>
                </a:lnTo>
                <a:lnTo>
                  <a:pt x="262" y="1674"/>
                </a:lnTo>
                <a:lnTo>
                  <a:pt x="254" y="1673"/>
                </a:lnTo>
                <a:lnTo>
                  <a:pt x="247" y="1673"/>
                </a:lnTo>
                <a:lnTo>
                  <a:pt x="241" y="1675"/>
                </a:lnTo>
                <a:lnTo>
                  <a:pt x="237" y="1679"/>
                </a:lnTo>
                <a:lnTo>
                  <a:pt x="229" y="1684"/>
                </a:lnTo>
                <a:lnTo>
                  <a:pt x="220" y="1688"/>
                </a:lnTo>
                <a:lnTo>
                  <a:pt x="216" y="1688"/>
                </a:lnTo>
                <a:lnTo>
                  <a:pt x="211" y="1687"/>
                </a:lnTo>
                <a:lnTo>
                  <a:pt x="206" y="1683"/>
                </a:lnTo>
                <a:lnTo>
                  <a:pt x="200" y="1679"/>
                </a:lnTo>
                <a:lnTo>
                  <a:pt x="188" y="1671"/>
                </a:lnTo>
                <a:lnTo>
                  <a:pt x="163" y="1663"/>
                </a:lnTo>
                <a:lnTo>
                  <a:pt x="143" y="1661"/>
                </a:lnTo>
                <a:lnTo>
                  <a:pt x="138" y="1660"/>
                </a:lnTo>
                <a:lnTo>
                  <a:pt x="135" y="1663"/>
                </a:lnTo>
                <a:lnTo>
                  <a:pt x="121" y="1678"/>
                </a:lnTo>
                <a:lnTo>
                  <a:pt x="70" y="1726"/>
                </a:lnTo>
                <a:lnTo>
                  <a:pt x="31" y="1763"/>
                </a:lnTo>
                <a:lnTo>
                  <a:pt x="29" y="1765"/>
                </a:lnTo>
                <a:lnTo>
                  <a:pt x="31" y="1766"/>
                </a:lnTo>
                <a:lnTo>
                  <a:pt x="34" y="1767"/>
                </a:lnTo>
                <a:lnTo>
                  <a:pt x="43" y="1769"/>
                </a:lnTo>
                <a:lnTo>
                  <a:pt x="59" y="1773"/>
                </a:lnTo>
                <a:lnTo>
                  <a:pt x="62" y="1774"/>
                </a:lnTo>
                <a:lnTo>
                  <a:pt x="61" y="1775"/>
                </a:lnTo>
                <a:lnTo>
                  <a:pt x="60" y="1776"/>
                </a:lnTo>
                <a:lnTo>
                  <a:pt x="60" y="1778"/>
                </a:lnTo>
                <a:lnTo>
                  <a:pt x="60" y="1781"/>
                </a:lnTo>
                <a:lnTo>
                  <a:pt x="59" y="1789"/>
                </a:lnTo>
                <a:lnTo>
                  <a:pt x="58" y="1792"/>
                </a:lnTo>
                <a:lnTo>
                  <a:pt x="56" y="1795"/>
                </a:lnTo>
                <a:lnTo>
                  <a:pt x="53" y="1798"/>
                </a:lnTo>
                <a:lnTo>
                  <a:pt x="48" y="1799"/>
                </a:lnTo>
                <a:lnTo>
                  <a:pt x="42" y="1799"/>
                </a:lnTo>
                <a:lnTo>
                  <a:pt x="33" y="1797"/>
                </a:lnTo>
                <a:lnTo>
                  <a:pt x="23" y="1792"/>
                </a:lnTo>
                <a:lnTo>
                  <a:pt x="12" y="1789"/>
                </a:lnTo>
                <a:lnTo>
                  <a:pt x="5" y="1788"/>
                </a:lnTo>
                <a:lnTo>
                  <a:pt x="3" y="1789"/>
                </a:lnTo>
                <a:lnTo>
                  <a:pt x="1" y="1790"/>
                </a:lnTo>
                <a:lnTo>
                  <a:pt x="0" y="1791"/>
                </a:lnTo>
                <a:lnTo>
                  <a:pt x="0" y="1793"/>
                </a:lnTo>
                <a:lnTo>
                  <a:pt x="0" y="1795"/>
                </a:lnTo>
                <a:lnTo>
                  <a:pt x="1" y="1797"/>
                </a:lnTo>
                <a:lnTo>
                  <a:pt x="3" y="1803"/>
                </a:lnTo>
                <a:lnTo>
                  <a:pt x="10" y="1815"/>
                </a:lnTo>
                <a:lnTo>
                  <a:pt x="17" y="1831"/>
                </a:lnTo>
                <a:lnTo>
                  <a:pt x="15" y="1835"/>
                </a:lnTo>
                <a:lnTo>
                  <a:pt x="16" y="1841"/>
                </a:lnTo>
                <a:lnTo>
                  <a:pt x="21" y="1846"/>
                </a:lnTo>
                <a:lnTo>
                  <a:pt x="27" y="1851"/>
                </a:lnTo>
                <a:lnTo>
                  <a:pt x="44" y="1861"/>
                </a:lnTo>
                <a:lnTo>
                  <a:pt x="76" y="1876"/>
                </a:lnTo>
                <a:lnTo>
                  <a:pt x="83" y="1878"/>
                </a:lnTo>
                <a:lnTo>
                  <a:pt x="86" y="1879"/>
                </a:lnTo>
                <a:lnTo>
                  <a:pt x="91" y="1879"/>
                </a:lnTo>
                <a:lnTo>
                  <a:pt x="96" y="1878"/>
                </a:lnTo>
                <a:lnTo>
                  <a:pt x="111" y="1872"/>
                </a:lnTo>
                <a:lnTo>
                  <a:pt x="118" y="1869"/>
                </a:lnTo>
                <a:lnTo>
                  <a:pt x="128" y="1879"/>
                </a:lnTo>
                <a:lnTo>
                  <a:pt x="147" y="1899"/>
                </a:lnTo>
                <a:lnTo>
                  <a:pt x="176" y="1937"/>
                </a:lnTo>
                <a:lnTo>
                  <a:pt x="206" y="1979"/>
                </a:lnTo>
                <a:lnTo>
                  <a:pt x="215" y="1990"/>
                </a:lnTo>
                <a:lnTo>
                  <a:pt x="217" y="1989"/>
                </a:lnTo>
                <a:lnTo>
                  <a:pt x="232" y="1976"/>
                </a:lnTo>
                <a:lnTo>
                  <a:pt x="286" y="1932"/>
                </a:lnTo>
                <a:lnTo>
                  <a:pt x="327" y="1899"/>
                </a:lnTo>
                <a:lnTo>
                  <a:pt x="330" y="1897"/>
                </a:lnTo>
                <a:lnTo>
                  <a:pt x="329" y="1885"/>
                </a:lnTo>
                <a:lnTo>
                  <a:pt x="325" y="1866"/>
                </a:lnTo>
                <a:lnTo>
                  <a:pt x="319" y="1851"/>
                </a:lnTo>
                <a:lnTo>
                  <a:pt x="309" y="1820"/>
                </a:lnTo>
                <a:lnTo>
                  <a:pt x="314" y="1791"/>
                </a:lnTo>
                <a:lnTo>
                  <a:pt x="314" y="1781"/>
                </a:lnTo>
                <a:lnTo>
                  <a:pt x="314" y="1771"/>
                </a:lnTo>
                <a:lnTo>
                  <a:pt x="314" y="1777"/>
                </a:lnTo>
                <a:lnTo>
                  <a:pt x="314" y="1791"/>
                </a:lnTo>
                <a:close/>
                <a:moveTo>
                  <a:pt x="991" y="1960"/>
                </a:moveTo>
                <a:lnTo>
                  <a:pt x="992" y="1928"/>
                </a:lnTo>
                <a:lnTo>
                  <a:pt x="992" y="1895"/>
                </a:lnTo>
                <a:lnTo>
                  <a:pt x="991" y="1891"/>
                </a:lnTo>
                <a:lnTo>
                  <a:pt x="990" y="1890"/>
                </a:lnTo>
                <a:lnTo>
                  <a:pt x="989" y="1889"/>
                </a:lnTo>
                <a:lnTo>
                  <a:pt x="988" y="1888"/>
                </a:lnTo>
                <a:lnTo>
                  <a:pt x="987" y="1888"/>
                </a:lnTo>
                <a:lnTo>
                  <a:pt x="985" y="1889"/>
                </a:lnTo>
                <a:lnTo>
                  <a:pt x="982" y="1890"/>
                </a:lnTo>
                <a:lnTo>
                  <a:pt x="980" y="1891"/>
                </a:lnTo>
                <a:lnTo>
                  <a:pt x="973" y="1897"/>
                </a:lnTo>
                <a:lnTo>
                  <a:pt x="963" y="1901"/>
                </a:lnTo>
                <a:lnTo>
                  <a:pt x="951" y="1902"/>
                </a:lnTo>
                <a:lnTo>
                  <a:pt x="937" y="1900"/>
                </a:lnTo>
                <a:lnTo>
                  <a:pt x="921" y="1891"/>
                </a:lnTo>
                <a:lnTo>
                  <a:pt x="903" y="1875"/>
                </a:lnTo>
                <a:lnTo>
                  <a:pt x="904" y="1858"/>
                </a:lnTo>
                <a:lnTo>
                  <a:pt x="910" y="1835"/>
                </a:lnTo>
                <a:lnTo>
                  <a:pt x="923" y="1782"/>
                </a:lnTo>
                <a:lnTo>
                  <a:pt x="934" y="1726"/>
                </a:lnTo>
                <a:lnTo>
                  <a:pt x="933" y="1675"/>
                </a:lnTo>
                <a:lnTo>
                  <a:pt x="925" y="1655"/>
                </a:lnTo>
                <a:lnTo>
                  <a:pt x="910" y="1639"/>
                </a:lnTo>
                <a:lnTo>
                  <a:pt x="886" y="1628"/>
                </a:lnTo>
                <a:lnTo>
                  <a:pt x="855" y="1624"/>
                </a:lnTo>
                <a:lnTo>
                  <a:pt x="853" y="1619"/>
                </a:lnTo>
                <a:lnTo>
                  <a:pt x="849" y="1615"/>
                </a:lnTo>
                <a:lnTo>
                  <a:pt x="844" y="1610"/>
                </a:lnTo>
                <a:lnTo>
                  <a:pt x="829" y="1600"/>
                </a:lnTo>
                <a:lnTo>
                  <a:pt x="794" y="1583"/>
                </a:lnTo>
                <a:lnTo>
                  <a:pt x="774" y="1578"/>
                </a:lnTo>
                <a:lnTo>
                  <a:pt x="784" y="1519"/>
                </a:lnTo>
                <a:lnTo>
                  <a:pt x="811" y="1461"/>
                </a:lnTo>
                <a:lnTo>
                  <a:pt x="847" y="1406"/>
                </a:lnTo>
                <a:lnTo>
                  <a:pt x="929" y="1307"/>
                </a:lnTo>
                <a:lnTo>
                  <a:pt x="962" y="1266"/>
                </a:lnTo>
                <a:lnTo>
                  <a:pt x="980" y="1231"/>
                </a:lnTo>
                <a:lnTo>
                  <a:pt x="984" y="1217"/>
                </a:lnTo>
                <a:lnTo>
                  <a:pt x="980" y="1206"/>
                </a:lnTo>
                <a:lnTo>
                  <a:pt x="971" y="1197"/>
                </a:lnTo>
                <a:lnTo>
                  <a:pt x="953" y="1190"/>
                </a:lnTo>
                <a:lnTo>
                  <a:pt x="930" y="1184"/>
                </a:lnTo>
                <a:lnTo>
                  <a:pt x="897" y="1183"/>
                </a:lnTo>
                <a:lnTo>
                  <a:pt x="801" y="1188"/>
                </a:lnTo>
                <a:lnTo>
                  <a:pt x="663" y="1207"/>
                </a:lnTo>
                <a:lnTo>
                  <a:pt x="676" y="1184"/>
                </a:lnTo>
                <a:lnTo>
                  <a:pt x="707" y="1141"/>
                </a:lnTo>
                <a:lnTo>
                  <a:pt x="785" y="1058"/>
                </a:lnTo>
                <a:lnTo>
                  <a:pt x="870" y="980"/>
                </a:lnTo>
                <a:lnTo>
                  <a:pt x="891" y="960"/>
                </a:lnTo>
                <a:lnTo>
                  <a:pt x="888" y="957"/>
                </a:lnTo>
                <a:lnTo>
                  <a:pt x="883" y="954"/>
                </a:lnTo>
                <a:lnTo>
                  <a:pt x="877" y="951"/>
                </a:lnTo>
                <a:lnTo>
                  <a:pt x="869" y="949"/>
                </a:lnTo>
                <a:lnTo>
                  <a:pt x="849" y="946"/>
                </a:lnTo>
                <a:lnTo>
                  <a:pt x="800" y="944"/>
                </a:lnTo>
                <a:lnTo>
                  <a:pt x="688" y="949"/>
                </a:lnTo>
                <a:lnTo>
                  <a:pt x="627" y="951"/>
                </a:lnTo>
                <a:lnTo>
                  <a:pt x="610" y="967"/>
                </a:lnTo>
                <a:lnTo>
                  <a:pt x="578" y="1000"/>
                </a:lnTo>
                <a:lnTo>
                  <a:pt x="515" y="1072"/>
                </a:lnTo>
                <a:lnTo>
                  <a:pt x="458" y="1150"/>
                </a:lnTo>
                <a:lnTo>
                  <a:pt x="446" y="1169"/>
                </a:lnTo>
                <a:lnTo>
                  <a:pt x="443" y="1169"/>
                </a:lnTo>
                <a:lnTo>
                  <a:pt x="441" y="1168"/>
                </a:lnTo>
                <a:lnTo>
                  <a:pt x="438" y="1165"/>
                </a:lnTo>
                <a:lnTo>
                  <a:pt x="431" y="1158"/>
                </a:lnTo>
                <a:lnTo>
                  <a:pt x="414" y="1139"/>
                </a:lnTo>
                <a:lnTo>
                  <a:pt x="393" y="1118"/>
                </a:lnTo>
                <a:lnTo>
                  <a:pt x="367" y="1103"/>
                </a:lnTo>
                <a:lnTo>
                  <a:pt x="352" y="1099"/>
                </a:lnTo>
                <a:lnTo>
                  <a:pt x="336" y="1100"/>
                </a:lnTo>
                <a:lnTo>
                  <a:pt x="319" y="1105"/>
                </a:lnTo>
                <a:lnTo>
                  <a:pt x="310" y="1109"/>
                </a:lnTo>
                <a:lnTo>
                  <a:pt x="311" y="1112"/>
                </a:lnTo>
                <a:lnTo>
                  <a:pt x="320" y="1125"/>
                </a:lnTo>
                <a:lnTo>
                  <a:pt x="352" y="1174"/>
                </a:lnTo>
                <a:lnTo>
                  <a:pt x="375" y="1211"/>
                </a:lnTo>
                <a:lnTo>
                  <a:pt x="378" y="1213"/>
                </a:lnTo>
                <a:lnTo>
                  <a:pt x="379" y="1214"/>
                </a:lnTo>
                <a:lnTo>
                  <a:pt x="388" y="1221"/>
                </a:lnTo>
                <a:lnTo>
                  <a:pt x="419" y="1244"/>
                </a:lnTo>
                <a:lnTo>
                  <a:pt x="444" y="1262"/>
                </a:lnTo>
                <a:lnTo>
                  <a:pt x="446" y="1262"/>
                </a:lnTo>
                <a:lnTo>
                  <a:pt x="427" y="1274"/>
                </a:lnTo>
                <a:lnTo>
                  <a:pt x="386" y="1296"/>
                </a:lnTo>
                <a:lnTo>
                  <a:pt x="307" y="1352"/>
                </a:lnTo>
                <a:lnTo>
                  <a:pt x="280" y="1389"/>
                </a:lnTo>
                <a:lnTo>
                  <a:pt x="268" y="1435"/>
                </a:lnTo>
                <a:lnTo>
                  <a:pt x="270" y="1462"/>
                </a:lnTo>
                <a:lnTo>
                  <a:pt x="314" y="1464"/>
                </a:lnTo>
                <a:lnTo>
                  <a:pt x="378" y="1469"/>
                </a:lnTo>
                <a:lnTo>
                  <a:pt x="397" y="1474"/>
                </a:lnTo>
                <a:lnTo>
                  <a:pt x="410" y="1482"/>
                </a:lnTo>
                <a:lnTo>
                  <a:pt x="413" y="1487"/>
                </a:lnTo>
                <a:lnTo>
                  <a:pt x="415" y="1493"/>
                </a:lnTo>
                <a:lnTo>
                  <a:pt x="415" y="1500"/>
                </a:lnTo>
                <a:lnTo>
                  <a:pt x="414" y="1509"/>
                </a:lnTo>
                <a:lnTo>
                  <a:pt x="409" y="1530"/>
                </a:lnTo>
                <a:lnTo>
                  <a:pt x="398" y="1556"/>
                </a:lnTo>
                <a:lnTo>
                  <a:pt x="363" y="1631"/>
                </a:lnTo>
                <a:lnTo>
                  <a:pt x="341" y="1680"/>
                </a:lnTo>
                <a:lnTo>
                  <a:pt x="375" y="1665"/>
                </a:lnTo>
                <a:lnTo>
                  <a:pt x="427" y="1653"/>
                </a:lnTo>
                <a:lnTo>
                  <a:pt x="444" y="1655"/>
                </a:lnTo>
                <a:lnTo>
                  <a:pt x="455" y="1662"/>
                </a:lnTo>
                <a:lnTo>
                  <a:pt x="461" y="1672"/>
                </a:lnTo>
                <a:lnTo>
                  <a:pt x="462" y="1685"/>
                </a:lnTo>
                <a:lnTo>
                  <a:pt x="458" y="1700"/>
                </a:lnTo>
                <a:lnTo>
                  <a:pt x="449" y="1717"/>
                </a:lnTo>
                <a:lnTo>
                  <a:pt x="437" y="1736"/>
                </a:lnTo>
                <a:lnTo>
                  <a:pt x="400" y="1771"/>
                </a:lnTo>
                <a:lnTo>
                  <a:pt x="416" y="1792"/>
                </a:lnTo>
                <a:lnTo>
                  <a:pt x="449" y="1814"/>
                </a:lnTo>
                <a:lnTo>
                  <a:pt x="484" y="1819"/>
                </a:lnTo>
                <a:lnTo>
                  <a:pt x="519" y="1813"/>
                </a:lnTo>
                <a:lnTo>
                  <a:pt x="559" y="1802"/>
                </a:lnTo>
                <a:lnTo>
                  <a:pt x="603" y="1794"/>
                </a:lnTo>
                <a:lnTo>
                  <a:pt x="627" y="1792"/>
                </a:lnTo>
                <a:lnTo>
                  <a:pt x="639" y="1804"/>
                </a:lnTo>
                <a:lnTo>
                  <a:pt x="655" y="1827"/>
                </a:lnTo>
                <a:lnTo>
                  <a:pt x="662" y="1850"/>
                </a:lnTo>
                <a:lnTo>
                  <a:pt x="660" y="1873"/>
                </a:lnTo>
                <a:lnTo>
                  <a:pt x="651" y="1900"/>
                </a:lnTo>
                <a:lnTo>
                  <a:pt x="636" y="1930"/>
                </a:lnTo>
                <a:lnTo>
                  <a:pt x="627" y="1948"/>
                </a:lnTo>
                <a:lnTo>
                  <a:pt x="641" y="1975"/>
                </a:lnTo>
                <a:lnTo>
                  <a:pt x="663" y="2022"/>
                </a:lnTo>
                <a:lnTo>
                  <a:pt x="673" y="2062"/>
                </a:lnTo>
                <a:lnTo>
                  <a:pt x="669" y="2097"/>
                </a:lnTo>
                <a:lnTo>
                  <a:pt x="651" y="2134"/>
                </a:lnTo>
                <a:lnTo>
                  <a:pt x="617" y="2174"/>
                </a:lnTo>
                <a:lnTo>
                  <a:pt x="594" y="2195"/>
                </a:lnTo>
                <a:lnTo>
                  <a:pt x="569" y="2192"/>
                </a:lnTo>
                <a:lnTo>
                  <a:pt x="542" y="2185"/>
                </a:lnTo>
                <a:lnTo>
                  <a:pt x="490" y="2160"/>
                </a:lnTo>
                <a:lnTo>
                  <a:pt x="449" y="2140"/>
                </a:lnTo>
                <a:lnTo>
                  <a:pt x="434" y="2135"/>
                </a:lnTo>
                <a:lnTo>
                  <a:pt x="429" y="2135"/>
                </a:lnTo>
                <a:lnTo>
                  <a:pt x="427" y="2136"/>
                </a:lnTo>
                <a:lnTo>
                  <a:pt x="425" y="2137"/>
                </a:lnTo>
                <a:lnTo>
                  <a:pt x="424" y="2138"/>
                </a:lnTo>
                <a:lnTo>
                  <a:pt x="423" y="2140"/>
                </a:lnTo>
                <a:lnTo>
                  <a:pt x="422" y="2143"/>
                </a:lnTo>
                <a:lnTo>
                  <a:pt x="422" y="2146"/>
                </a:lnTo>
                <a:lnTo>
                  <a:pt x="423" y="2154"/>
                </a:lnTo>
                <a:lnTo>
                  <a:pt x="426" y="2166"/>
                </a:lnTo>
                <a:lnTo>
                  <a:pt x="440" y="2197"/>
                </a:lnTo>
                <a:lnTo>
                  <a:pt x="462" y="2242"/>
                </a:lnTo>
                <a:lnTo>
                  <a:pt x="438" y="2243"/>
                </a:lnTo>
                <a:lnTo>
                  <a:pt x="409" y="2246"/>
                </a:lnTo>
                <a:lnTo>
                  <a:pt x="406" y="2247"/>
                </a:lnTo>
                <a:lnTo>
                  <a:pt x="403" y="2248"/>
                </a:lnTo>
                <a:lnTo>
                  <a:pt x="402" y="2249"/>
                </a:lnTo>
                <a:lnTo>
                  <a:pt x="401" y="2250"/>
                </a:lnTo>
                <a:lnTo>
                  <a:pt x="401" y="2251"/>
                </a:lnTo>
                <a:lnTo>
                  <a:pt x="402" y="2253"/>
                </a:lnTo>
                <a:lnTo>
                  <a:pt x="403" y="2255"/>
                </a:lnTo>
                <a:lnTo>
                  <a:pt x="404" y="2256"/>
                </a:lnTo>
                <a:lnTo>
                  <a:pt x="408" y="2258"/>
                </a:lnTo>
                <a:lnTo>
                  <a:pt x="416" y="2264"/>
                </a:lnTo>
                <a:lnTo>
                  <a:pt x="441" y="2280"/>
                </a:lnTo>
                <a:lnTo>
                  <a:pt x="471" y="2299"/>
                </a:lnTo>
                <a:lnTo>
                  <a:pt x="479" y="2304"/>
                </a:lnTo>
                <a:lnTo>
                  <a:pt x="476" y="2334"/>
                </a:lnTo>
                <a:lnTo>
                  <a:pt x="460" y="2377"/>
                </a:lnTo>
                <a:lnTo>
                  <a:pt x="430" y="2407"/>
                </a:lnTo>
                <a:lnTo>
                  <a:pt x="390" y="2426"/>
                </a:lnTo>
                <a:lnTo>
                  <a:pt x="348" y="2441"/>
                </a:lnTo>
                <a:lnTo>
                  <a:pt x="303" y="2453"/>
                </a:lnTo>
                <a:lnTo>
                  <a:pt x="282" y="2459"/>
                </a:lnTo>
                <a:lnTo>
                  <a:pt x="281" y="2464"/>
                </a:lnTo>
                <a:lnTo>
                  <a:pt x="280" y="2477"/>
                </a:lnTo>
                <a:lnTo>
                  <a:pt x="275" y="2511"/>
                </a:lnTo>
                <a:lnTo>
                  <a:pt x="270" y="2540"/>
                </a:lnTo>
                <a:lnTo>
                  <a:pt x="270" y="2545"/>
                </a:lnTo>
                <a:lnTo>
                  <a:pt x="300" y="2546"/>
                </a:lnTo>
                <a:lnTo>
                  <a:pt x="343" y="2547"/>
                </a:lnTo>
                <a:lnTo>
                  <a:pt x="393" y="2550"/>
                </a:lnTo>
                <a:lnTo>
                  <a:pt x="454" y="2553"/>
                </a:lnTo>
                <a:lnTo>
                  <a:pt x="479" y="2553"/>
                </a:lnTo>
                <a:lnTo>
                  <a:pt x="481" y="2568"/>
                </a:lnTo>
                <a:lnTo>
                  <a:pt x="487" y="2580"/>
                </a:lnTo>
                <a:lnTo>
                  <a:pt x="496" y="2588"/>
                </a:lnTo>
                <a:lnTo>
                  <a:pt x="506" y="2595"/>
                </a:lnTo>
                <a:lnTo>
                  <a:pt x="519" y="2600"/>
                </a:lnTo>
                <a:lnTo>
                  <a:pt x="533" y="2602"/>
                </a:lnTo>
                <a:lnTo>
                  <a:pt x="562" y="2603"/>
                </a:lnTo>
                <a:lnTo>
                  <a:pt x="590" y="2601"/>
                </a:lnTo>
                <a:lnTo>
                  <a:pt x="611" y="2600"/>
                </a:lnTo>
                <a:lnTo>
                  <a:pt x="606" y="2612"/>
                </a:lnTo>
                <a:lnTo>
                  <a:pt x="595" y="2632"/>
                </a:lnTo>
                <a:lnTo>
                  <a:pt x="569" y="2666"/>
                </a:lnTo>
                <a:lnTo>
                  <a:pt x="536" y="2688"/>
                </a:lnTo>
                <a:lnTo>
                  <a:pt x="529" y="2692"/>
                </a:lnTo>
                <a:lnTo>
                  <a:pt x="519" y="2692"/>
                </a:lnTo>
                <a:lnTo>
                  <a:pt x="498" y="2688"/>
                </a:lnTo>
                <a:lnTo>
                  <a:pt x="449" y="2674"/>
                </a:lnTo>
                <a:lnTo>
                  <a:pt x="404" y="2664"/>
                </a:lnTo>
                <a:lnTo>
                  <a:pt x="396" y="2663"/>
                </a:lnTo>
                <a:lnTo>
                  <a:pt x="368" y="2692"/>
                </a:lnTo>
                <a:lnTo>
                  <a:pt x="343" y="2729"/>
                </a:lnTo>
                <a:lnTo>
                  <a:pt x="336" y="2748"/>
                </a:lnTo>
                <a:lnTo>
                  <a:pt x="332" y="2754"/>
                </a:lnTo>
                <a:lnTo>
                  <a:pt x="321" y="2762"/>
                </a:lnTo>
                <a:lnTo>
                  <a:pt x="303" y="2770"/>
                </a:lnTo>
                <a:lnTo>
                  <a:pt x="227" y="2797"/>
                </a:lnTo>
                <a:lnTo>
                  <a:pt x="82" y="2849"/>
                </a:lnTo>
                <a:lnTo>
                  <a:pt x="112" y="2870"/>
                </a:lnTo>
                <a:lnTo>
                  <a:pt x="145" y="2880"/>
                </a:lnTo>
                <a:lnTo>
                  <a:pt x="179" y="2882"/>
                </a:lnTo>
                <a:lnTo>
                  <a:pt x="214" y="2879"/>
                </a:lnTo>
                <a:lnTo>
                  <a:pt x="283" y="2863"/>
                </a:lnTo>
                <a:lnTo>
                  <a:pt x="345" y="2848"/>
                </a:lnTo>
                <a:lnTo>
                  <a:pt x="371" y="2846"/>
                </a:lnTo>
                <a:lnTo>
                  <a:pt x="393" y="2849"/>
                </a:lnTo>
                <a:lnTo>
                  <a:pt x="410" y="2861"/>
                </a:lnTo>
                <a:lnTo>
                  <a:pt x="421" y="2883"/>
                </a:lnTo>
                <a:lnTo>
                  <a:pt x="437" y="2869"/>
                </a:lnTo>
                <a:lnTo>
                  <a:pt x="467" y="2843"/>
                </a:lnTo>
                <a:lnTo>
                  <a:pt x="497" y="2825"/>
                </a:lnTo>
                <a:lnTo>
                  <a:pt x="528" y="2818"/>
                </a:lnTo>
                <a:lnTo>
                  <a:pt x="560" y="2823"/>
                </a:lnTo>
                <a:lnTo>
                  <a:pt x="595" y="2844"/>
                </a:lnTo>
                <a:lnTo>
                  <a:pt x="616" y="2860"/>
                </a:lnTo>
                <a:lnTo>
                  <a:pt x="627" y="2860"/>
                </a:lnTo>
                <a:lnTo>
                  <a:pt x="654" y="2854"/>
                </a:lnTo>
                <a:lnTo>
                  <a:pt x="681" y="2845"/>
                </a:lnTo>
                <a:lnTo>
                  <a:pt x="737" y="2825"/>
                </a:lnTo>
                <a:lnTo>
                  <a:pt x="775" y="2818"/>
                </a:lnTo>
                <a:lnTo>
                  <a:pt x="777" y="2819"/>
                </a:lnTo>
                <a:lnTo>
                  <a:pt x="778" y="2820"/>
                </a:lnTo>
                <a:lnTo>
                  <a:pt x="779" y="2822"/>
                </a:lnTo>
                <a:lnTo>
                  <a:pt x="783" y="2826"/>
                </a:lnTo>
                <a:lnTo>
                  <a:pt x="794" y="2840"/>
                </a:lnTo>
                <a:lnTo>
                  <a:pt x="825" y="2875"/>
                </a:lnTo>
                <a:lnTo>
                  <a:pt x="859" y="2904"/>
                </a:lnTo>
                <a:lnTo>
                  <a:pt x="875" y="2911"/>
                </a:lnTo>
                <a:lnTo>
                  <a:pt x="882" y="2912"/>
                </a:lnTo>
                <a:lnTo>
                  <a:pt x="887" y="2910"/>
                </a:lnTo>
                <a:lnTo>
                  <a:pt x="892" y="2905"/>
                </a:lnTo>
                <a:lnTo>
                  <a:pt x="896" y="2898"/>
                </a:lnTo>
                <a:lnTo>
                  <a:pt x="898" y="2887"/>
                </a:lnTo>
                <a:lnTo>
                  <a:pt x="898" y="2873"/>
                </a:lnTo>
                <a:lnTo>
                  <a:pt x="893" y="2831"/>
                </a:lnTo>
                <a:lnTo>
                  <a:pt x="891" y="2818"/>
                </a:lnTo>
                <a:lnTo>
                  <a:pt x="917" y="2829"/>
                </a:lnTo>
                <a:lnTo>
                  <a:pt x="975" y="2843"/>
                </a:lnTo>
                <a:lnTo>
                  <a:pt x="1037" y="2847"/>
                </a:lnTo>
                <a:lnTo>
                  <a:pt x="1100" y="2840"/>
                </a:lnTo>
                <a:lnTo>
                  <a:pt x="1160" y="2820"/>
                </a:lnTo>
                <a:lnTo>
                  <a:pt x="1214" y="2785"/>
                </a:lnTo>
                <a:lnTo>
                  <a:pt x="1237" y="2762"/>
                </a:lnTo>
                <a:lnTo>
                  <a:pt x="1231" y="2754"/>
                </a:lnTo>
                <a:lnTo>
                  <a:pt x="1223" y="2748"/>
                </a:lnTo>
                <a:lnTo>
                  <a:pt x="1213" y="2742"/>
                </a:lnTo>
                <a:lnTo>
                  <a:pt x="1189" y="2732"/>
                </a:lnTo>
                <a:lnTo>
                  <a:pt x="1136" y="2713"/>
                </a:lnTo>
                <a:lnTo>
                  <a:pt x="1105" y="2692"/>
                </a:lnTo>
                <a:lnTo>
                  <a:pt x="1109" y="2688"/>
                </a:lnTo>
                <a:lnTo>
                  <a:pt x="1122" y="2678"/>
                </a:lnTo>
                <a:lnTo>
                  <a:pt x="1154" y="2649"/>
                </a:lnTo>
                <a:lnTo>
                  <a:pt x="1183" y="2617"/>
                </a:lnTo>
                <a:lnTo>
                  <a:pt x="1188" y="2609"/>
                </a:lnTo>
                <a:lnTo>
                  <a:pt x="1204" y="2608"/>
                </a:lnTo>
                <a:lnTo>
                  <a:pt x="1222" y="2604"/>
                </a:lnTo>
                <a:lnTo>
                  <a:pt x="1257" y="2588"/>
                </a:lnTo>
                <a:lnTo>
                  <a:pt x="1290" y="2567"/>
                </a:lnTo>
                <a:lnTo>
                  <a:pt x="1342" y="2514"/>
                </a:lnTo>
                <a:lnTo>
                  <a:pt x="1356" y="2488"/>
                </a:lnTo>
                <a:lnTo>
                  <a:pt x="1338" y="2461"/>
                </a:lnTo>
                <a:lnTo>
                  <a:pt x="1301" y="2423"/>
                </a:lnTo>
                <a:lnTo>
                  <a:pt x="1259" y="2405"/>
                </a:lnTo>
                <a:lnTo>
                  <a:pt x="1214" y="2399"/>
                </a:lnTo>
                <a:lnTo>
                  <a:pt x="1165" y="2399"/>
                </a:lnTo>
                <a:lnTo>
                  <a:pt x="1112" y="2398"/>
                </a:lnTo>
                <a:lnTo>
                  <a:pt x="1084" y="2395"/>
                </a:lnTo>
                <a:lnTo>
                  <a:pt x="1091" y="2355"/>
                </a:lnTo>
                <a:lnTo>
                  <a:pt x="1109" y="2277"/>
                </a:lnTo>
                <a:lnTo>
                  <a:pt x="1126" y="2130"/>
                </a:lnTo>
                <a:lnTo>
                  <a:pt x="1101" y="2061"/>
                </a:lnTo>
                <a:lnTo>
                  <a:pt x="1039" y="1993"/>
                </a:lnTo>
                <a:lnTo>
                  <a:pt x="991" y="1960"/>
                </a:lnTo>
                <a:lnTo>
                  <a:pt x="992" y="1928"/>
                </a:lnTo>
                <a:lnTo>
                  <a:pt x="994" y="1897"/>
                </a:lnTo>
                <a:lnTo>
                  <a:pt x="993" y="1915"/>
                </a:lnTo>
                <a:lnTo>
                  <a:pt x="991" y="1958"/>
                </a:lnTo>
                <a:lnTo>
                  <a:pt x="991" y="19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89"/>
          <p:cNvSpPr/>
          <p:nvPr/>
        </p:nvSpPr>
        <p:spPr>
          <a:xfrm>
            <a:off x="1450800" y="1657440"/>
            <a:ext cx="57240" cy="74520"/>
          </a:xfrm>
          <a:custGeom>
            <a:avLst/>
            <a:gdLst>
              <a:gd name="textAreaLeft" fmla="*/ 0 w 57240"/>
              <a:gd name="textAreaRight" fmla="*/ 57600 w 57240"/>
              <a:gd name="textAreaTop" fmla="*/ 0 h 74520"/>
              <a:gd name="textAreaBottom" fmla="*/ 74520 h 74520"/>
            </a:gdLst>
            <a:ahLst/>
            <a:rect l="textAreaLeft" t="textAreaTop" r="textAreaRight" b="textAreaBottom"/>
            <a:pathLst>
              <a:path w="72" h="93">
                <a:moveTo>
                  <a:pt x="11" y="0"/>
                </a:moveTo>
                <a:lnTo>
                  <a:pt x="29" y="1"/>
                </a:lnTo>
                <a:lnTo>
                  <a:pt x="55" y="8"/>
                </a:lnTo>
                <a:lnTo>
                  <a:pt x="62" y="14"/>
                </a:lnTo>
                <a:lnTo>
                  <a:pt x="68" y="21"/>
                </a:lnTo>
                <a:lnTo>
                  <a:pt x="71" y="29"/>
                </a:lnTo>
                <a:lnTo>
                  <a:pt x="72" y="38"/>
                </a:lnTo>
                <a:lnTo>
                  <a:pt x="71" y="48"/>
                </a:lnTo>
                <a:lnTo>
                  <a:pt x="67" y="71"/>
                </a:lnTo>
                <a:lnTo>
                  <a:pt x="60" y="93"/>
                </a:lnTo>
                <a:lnTo>
                  <a:pt x="52" y="93"/>
                </a:lnTo>
                <a:lnTo>
                  <a:pt x="42" y="90"/>
                </a:lnTo>
                <a:lnTo>
                  <a:pt x="34" y="86"/>
                </a:lnTo>
                <a:lnTo>
                  <a:pt x="17" y="73"/>
                </a:lnTo>
                <a:lnTo>
                  <a:pt x="6" y="56"/>
                </a:lnTo>
                <a:lnTo>
                  <a:pt x="0" y="34"/>
                </a:lnTo>
                <a:lnTo>
                  <a:pt x="5" y="12"/>
                </a:lnTo>
                <a:lnTo>
                  <a:pt x="11" y="0"/>
                </a:lnTo>
                <a:lnTo>
                  <a:pt x="27" y="0"/>
                </a:lnTo>
                <a:lnTo>
                  <a:pt x="45" y="0"/>
                </a:lnTo>
                <a:lnTo>
                  <a:pt x="36" y="0"/>
                </a:lnTo>
                <a:lnTo>
                  <a:pt x="12" y="0"/>
                </a:lnTo>
                <a:lnTo>
                  <a:pt x="11" y="0"/>
                </a:lnTo>
              </a:path>
            </a:pathLst>
          </a:custGeom>
          <a:noFill/>
          <a:ln w="6480">
            <a:solidFill>
              <a:srgbClr val="1f1a17"/>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1" name="Freeform 90"/>
          <p:cNvSpPr/>
          <p:nvPr/>
        </p:nvSpPr>
        <p:spPr>
          <a:xfrm>
            <a:off x="1890720" y="2039760"/>
            <a:ext cx="81000" cy="160560"/>
          </a:xfrm>
          <a:custGeom>
            <a:avLst/>
            <a:gdLst>
              <a:gd name="textAreaLeft" fmla="*/ 0 w 81000"/>
              <a:gd name="textAreaRight" fmla="*/ 81360 w 81000"/>
              <a:gd name="textAreaTop" fmla="*/ 0 h 160560"/>
              <a:gd name="textAreaBottom" fmla="*/ 160920 h 160560"/>
            </a:gdLst>
            <a:ahLst/>
            <a:rect l="textAreaLeft" t="textAreaTop" r="textAreaRight" b="textAreaBottom"/>
            <a:pathLst>
              <a:path w="102" h="202">
                <a:moveTo>
                  <a:pt x="50" y="202"/>
                </a:moveTo>
                <a:lnTo>
                  <a:pt x="49" y="192"/>
                </a:lnTo>
                <a:lnTo>
                  <a:pt x="47" y="177"/>
                </a:lnTo>
                <a:lnTo>
                  <a:pt x="40" y="166"/>
                </a:lnTo>
                <a:lnTo>
                  <a:pt x="32" y="158"/>
                </a:lnTo>
                <a:lnTo>
                  <a:pt x="21" y="151"/>
                </a:lnTo>
                <a:lnTo>
                  <a:pt x="7" y="145"/>
                </a:lnTo>
                <a:lnTo>
                  <a:pt x="0" y="141"/>
                </a:lnTo>
                <a:lnTo>
                  <a:pt x="8" y="128"/>
                </a:lnTo>
                <a:lnTo>
                  <a:pt x="23" y="110"/>
                </a:lnTo>
                <a:lnTo>
                  <a:pt x="31" y="100"/>
                </a:lnTo>
                <a:lnTo>
                  <a:pt x="33" y="96"/>
                </a:lnTo>
                <a:lnTo>
                  <a:pt x="33" y="95"/>
                </a:lnTo>
                <a:lnTo>
                  <a:pt x="32" y="93"/>
                </a:lnTo>
                <a:lnTo>
                  <a:pt x="31" y="92"/>
                </a:lnTo>
                <a:lnTo>
                  <a:pt x="30" y="90"/>
                </a:lnTo>
                <a:lnTo>
                  <a:pt x="25" y="86"/>
                </a:lnTo>
                <a:lnTo>
                  <a:pt x="10" y="74"/>
                </a:lnTo>
                <a:lnTo>
                  <a:pt x="0" y="64"/>
                </a:lnTo>
                <a:lnTo>
                  <a:pt x="7" y="61"/>
                </a:lnTo>
                <a:lnTo>
                  <a:pt x="24" y="51"/>
                </a:lnTo>
                <a:lnTo>
                  <a:pt x="58" y="33"/>
                </a:lnTo>
                <a:lnTo>
                  <a:pt x="90" y="9"/>
                </a:lnTo>
                <a:lnTo>
                  <a:pt x="98" y="0"/>
                </a:lnTo>
                <a:lnTo>
                  <a:pt x="101" y="11"/>
                </a:lnTo>
                <a:lnTo>
                  <a:pt x="102" y="26"/>
                </a:lnTo>
                <a:lnTo>
                  <a:pt x="102" y="66"/>
                </a:lnTo>
                <a:lnTo>
                  <a:pt x="87" y="156"/>
                </a:lnTo>
                <a:lnTo>
                  <a:pt x="50" y="202"/>
                </a:lnTo>
                <a:lnTo>
                  <a:pt x="50" y="193"/>
                </a:lnTo>
                <a:lnTo>
                  <a:pt x="50" y="184"/>
                </a:lnTo>
                <a:lnTo>
                  <a:pt x="50" y="189"/>
                </a:lnTo>
                <a:lnTo>
                  <a:pt x="50" y="202"/>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91"/>
          <p:cNvSpPr/>
          <p:nvPr/>
        </p:nvSpPr>
        <p:spPr>
          <a:xfrm>
            <a:off x="1698480" y="2300400"/>
            <a:ext cx="34920" cy="68040"/>
          </a:xfrm>
          <a:custGeom>
            <a:avLst/>
            <a:gdLst>
              <a:gd name="textAreaLeft" fmla="*/ 0 w 34920"/>
              <a:gd name="textAreaRight" fmla="*/ 34920 w 34920"/>
              <a:gd name="textAreaTop" fmla="*/ 0 h 68040"/>
              <a:gd name="textAreaBottom" fmla="*/ 68400 h 68040"/>
            </a:gdLst>
            <a:ahLst/>
            <a:rect l="textAreaLeft" t="textAreaTop" r="textAreaRight" b="textAreaBottom"/>
            <a:pathLst>
              <a:path w="44" h="85">
                <a:moveTo>
                  <a:pt x="42" y="85"/>
                </a:moveTo>
                <a:lnTo>
                  <a:pt x="30" y="84"/>
                </a:lnTo>
                <a:lnTo>
                  <a:pt x="22" y="81"/>
                </a:lnTo>
                <a:lnTo>
                  <a:pt x="14" y="75"/>
                </a:lnTo>
                <a:lnTo>
                  <a:pt x="8" y="68"/>
                </a:lnTo>
                <a:lnTo>
                  <a:pt x="4" y="60"/>
                </a:lnTo>
                <a:lnTo>
                  <a:pt x="1" y="50"/>
                </a:lnTo>
                <a:lnTo>
                  <a:pt x="0" y="41"/>
                </a:lnTo>
                <a:lnTo>
                  <a:pt x="1" y="32"/>
                </a:lnTo>
                <a:lnTo>
                  <a:pt x="5" y="22"/>
                </a:lnTo>
                <a:lnTo>
                  <a:pt x="10" y="14"/>
                </a:lnTo>
                <a:lnTo>
                  <a:pt x="18" y="7"/>
                </a:lnTo>
                <a:lnTo>
                  <a:pt x="28" y="0"/>
                </a:lnTo>
                <a:lnTo>
                  <a:pt x="28" y="5"/>
                </a:lnTo>
                <a:lnTo>
                  <a:pt x="29" y="10"/>
                </a:lnTo>
                <a:lnTo>
                  <a:pt x="35" y="22"/>
                </a:lnTo>
                <a:lnTo>
                  <a:pt x="44" y="54"/>
                </a:lnTo>
                <a:lnTo>
                  <a:pt x="42" y="85"/>
                </a:lnTo>
                <a:lnTo>
                  <a:pt x="32" y="85"/>
                </a:lnTo>
                <a:lnTo>
                  <a:pt x="22" y="85"/>
                </a:lnTo>
                <a:lnTo>
                  <a:pt x="27" y="85"/>
                </a:lnTo>
                <a:lnTo>
                  <a:pt x="41" y="85"/>
                </a:lnTo>
                <a:lnTo>
                  <a:pt x="42" y="85"/>
                </a:lnTo>
              </a:path>
            </a:pathLst>
          </a:custGeom>
          <a:noFill/>
          <a:ln w="6480">
            <a:solidFill>
              <a:srgbClr val="1f1a17"/>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3" name="Freeform 92"/>
          <p:cNvSpPr/>
          <p:nvPr/>
        </p:nvSpPr>
        <p:spPr>
          <a:xfrm>
            <a:off x="1143000" y="2438280"/>
            <a:ext cx="88920" cy="52560"/>
          </a:xfrm>
          <a:custGeom>
            <a:avLst/>
            <a:gdLst>
              <a:gd name="textAreaLeft" fmla="*/ 0 w 88920"/>
              <a:gd name="textAreaRight" fmla="*/ 88920 w 88920"/>
              <a:gd name="textAreaTop" fmla="*/ 0 h 52560"/>
              <a:gd name="textAreaBottom" fmla="*/ 52920 h 52560"/>
            </a:gdLst>
            <a:ahLst/>
            <a:rect l="textAreaLeft" t="textAreaTop" r="textAreaRight" b="textAreaBottom"/>
            <a:pathLst>
              <a:path w="113" h="66">
                <a:moveTo>
                  <a:pt x="113" y="66"/>
                </a:moveTo>
                <a:lnTo>
                  <a:pt x="102" y="66"/>
                </a:lnTo>
                <a:lnTo>
                  <a:pt x="81" y="65"/>
                </a:lnTo>
                <a:lnTo>
                  <a:pt x="39" y="59"/>
                </a:lnTo>
                <a:lnTo>
                  <a:pt x="21" y="50"/>
                </a:lnTo>
                <a:lnTo>
                  <a:pt x="6" y="35"/>
                </a:lnTo>
                <a:lnTo>
                  <a:pt x="0" y="25"/>
                </a:lnTo>
                <a:lnTo>
                  <a:pt x="9" y="14"/>
                </a:lnTo>
                <a:lnTo>
                  <a:pt x="19" y="6"/>
                </a:lnTo>
                <a:lnTo>
                  <a:pt x="31" y="1"/>
                </a:lnTo>
                <a:lnTo>
                  <a:pt x="44" y="0"/>
                </a:lnTo>
                <a:lnTo>
                  <a:pt x="57" y="1"/>
                </a:lnTo>
                <a:lnTo>
                  <a:pt x="69" y="5"/>
                </a:lnTo>
                <a:lnTo>
                  <a:pt x="81" y="12"/>
                </a:lnTo>
                <a:lnTo>
                  <a:pt x="90" y="20"/>
                </a:lnTo>
                <a:lnTo>
                  <a:pt x="106" y="42"/>
                </a:lnTo>
                <a:lnTo>
                  <a:pt x="113" y="66"/>
                </a:lnTo>
                <a:lnTo>
                  <a:pt x="104" y="66"/>
                </a:lnTo>
                <a:lnTo>
                  <a:pt x="95" y="65"/>
                </a:lnTo>
                <a:lnTo>
                  <a:pt x="100" y="66"/>
                </a:lnTo>
                <a:lnTo>
                  <a:pt x="112" y="66"/>
                </a:lnTo>
                <a:lnTo>
                  <a:pt x="113" y="66"/>
                </a:lnTo>
              </a:path>
            </a:pathLst>
          </a:custGeom>
          <a:noFill/>
          <a:ln w="6480">
            <a:solidFill>
              <a:srgbClr val="1f1a17"/>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54" name="Freeform 93"/>
          <p:cNvSpPr/>
          <p:nvPr/>
        </p:nvSpPr>
        <p:spPr>
          <a:xfrm>
            <a:off x="1301760" y="2343240"/>
            <a:ext cx="125280" cy="108000"/>
          </a:xfrm>
          <a:custGeom>
            <a:avLst/>
            <a:gdLst>
              <a:gd name="textAreaLeft" fmla="*/ 0 w 125280"/>
              <a:gd name="textAreaRight" fmla="*/ 125640 w 125280"/>
              <a:gd name="textAreaTop" fmla="*/ 0 h 108000"/>
              <a:gd name="textAreaBottom" fmla="*/ 108360 h 108000"/>
            </a:gdLst>
            <a:ahLst/>
            <a:rect l="textAreaLeft" t="textAreaTop" r="textAreaRight" b="textAreaBottom"/>
            <a:pathLst>
              <a:path w="156" h="135">
                <a:moveTo>
                  <a:pt x="0" y="134"/>
                </a:moveTo>
                <a:lnTo>
                  <a:pt x="2" y="112"/>
                </a:lnTo>
                <a:lnTo>
                  <a:pt x="8" y="73"/>
                </a:lnTo>
                <a:lnTo>
                  <a:pt x="19" y="44"/>
                </a:lnTo>
                <a:lnTo>
                  <a:pt x="37" y="25"/>
                </a:lnTo>
                <a:lnTo>
                  <a:pt x="67" y="11"/>
                </a:lnTo>
                <a:lnTo>
                  <a:pt x="112" y="3"/>
                </a:lnTo>
                <a:lnTo>
                  <a:pt x="143" y="0"/>
                </a:lnTo>
                <a:lnTo>
                  <a:pt x="152" y="24"/>
                </a:lnTo>
                <a:lnTo>
                  <a:pt x="156" y="45"/>
                </a:lnTo>
                <a:lnTo>
                  <a:pt x="154" y="64"/>
                </a:lnTo>
                <a:lnTo>
                  <a:pt x="147" y="81"/>
                </a:lnTo>
                <a:lnTo>
                  <a:pt x="136" y="94"/>
                </a:lnTo>
                <a:lnTo>
                  <a:pt x="121" y="106"/>
                </a:lnTo>
                <a:lnTo>
                  <a:pt x="104" y="117"/>
                </a:lnTo>
                <a:lnTo>
                  <a:pt x="64" y="129"/>
                </a:lnTo>
                <a:lnTo>
                  <a:pt x="20" y="135"/>
                </a:lnTo>
                <a:lnTo>
                  <a:pt x="0" y="134"/>
                </a:lnTo>
                <a:lnTo>
                  <a:pt x="2" y="114"/>
                </a:lnTo>
                <a:lnTo>
                  <a:pt x="4" y="93"/>
                </a:lnTo>
                <a:lnTo>
                  <a:pt x="3" y="104"/>
                </a:lnTo>
                <a:lnTo>
                  <a:pt x="0" y="133"/>
                </a:lnTo>
                <a:lnTo>
                  <a:pt x="0" y="134"/>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94"/>
          <p:cNvSpPr/>
          <p:nvPr/>
        </p:nvSpPr>
        <p:spPr>
          <a:xfrm>
            <a:off x="1187280" y="2562120"/>
            <a:ext cx="36720" cy="41400"/>
          </a:xfrm>
          <a:custGeom>
            <a:avLst/>
            <a:gdLst>
              <a:gd name="textAreaLeft" fmla="*/ 0 w 36720"/>
              <a:gd name="textAreaRight" fmla="*/ 37080 w 36720"/>
              <a:gd name="textAreaTop" fmla="*/ 0 h 41400"/>
              <a:gd name="textAreaBottom" fmla="*/ 41760 h 41400"/>
            </a:gdLst>
            <a:ahLst/>
            <a:rect l="textAreaLeft" t="textAreaTop" r="textAreaRight" b="textAreaBottom"/>
            <a:pathLst>
              <a:path w="46" h="52">
                <a:moveTo>
                  <a:pt x="46" y="52"/>
                </a:moveTo>
                <a:lnTo>
                  <a:pt x="37" y="49"/>
                </a:lnTo>
                <a:lnTo>
                  <a:pt x="22" y="42"/>
                </a:lnTo>
                <a:lnTo>
                  <a:pt x="10" y="35"/>
                </a:lnTo>
                <a:lnTo>
                  <a:pt x="2" y="28"/>
                </a:lnTo>
                <a:lnTo>
                  <a:pt x="0" y="24"/>
                </a:lnTo>
                <a:lnTo>
                  <a:pt x="0" y="19"/>
                </a:lnTo>
                <a:lnTo>
                  <a:pt x="2" y="14"/>
                </a:lnTo>
                <a:lnTo>
                  <a:pt x="6" y="8"/>
                </a:lnTo>
                <a:lnTo>
                  <a:pt x="14" y="0"/>
                </a:lnTo>
                <a:lnTo>
                  <a:pt x="17" y="0"/>
                </a:lnTo>
                <a:lnTo>
                  <a:pt x="22" y="0"/>
                </a:lnTo>
                <a:lnTo>
                  <a:pt x="26" y="1"/>
                </a:lnTo>
                <a:lnTo>
                  <a:pt x="28" y="2"/>
                </a:lnTo>
                <a:lnTo>
                  <a:pt x="30" y="4"/>
                </a:lnTo>
                <a:lnTo>
                  <a:pt x="31" y="8"/>
                </a:lnTo>
                <a:lnTo>
                  <a:pt x="33" y="12"/>
                </a:lnTo>
                <a:lnTo>
                  <a:pt x="39" y="28"/>
                </a:lnTo>
                <a:lnTo>
                  <a:pt x="46" y="52"/>
                </a:lnTo>
                <a:lnTo>
                  <a:pt x="39" y="49"/>
                </a:lnTo>
                <a:lnTo>
                  <a:pt x="32" y="45"/>
                </a:lnTo>
                <a:lnTo>
                  <a:pt x="35" y="47"/>
                </a:lnTo>
                <a:lnTo>
                  <a:pt x="45" y="52"/>
                </a:lnTo>
                <a:lnTo>
                  <a:pt x="46" y="52"/>
                </a:lnTo>
              </a:path>
            </a:pathLst>
          </a:custGeom>
          <a:noFill/>
          <a:ln w="6480">
            <a:solidFill>
              <a:srgbClr val="1f1a17"/>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56" name="Freeform 95"/>
          <p:cNvSpPr/>
          <p:nvPr/>
        </p:nvSpPr>
        <p:spPr>
          <a:xfrm>
            <a:off x="1219320" y="2859120"/>
            <a:ext cx="60120" cy="58680"/>
          </a:xfrm>
          <a:custGeom>
            <a:avLst/>
            <a:gdLst>
              <a:gd name="textAreaLeft" fmla="*/ 0 w 60120"/>
              <a:gd name="textAreaRight" fmla="*/ 60480 w 60120"/>
              <a:gd name="textAreaTop" fmla="*/ 0 h 58680"/>
              <a:gd name="textAreaBottom" fmla="*/ 59040 h 58680"/>
            </a:gdLst>
            <a:ahLst/>
            <a:rect l="textAreaLeft" t="textAreaTop" r="textAreaRight" b="textAreaBottom"/>
            <a:pathLst>
              <a:path w="76" h="73">
                <a:moveTo>
                  <a:pt x="25" y="73"/>
                </a:moveTo>
                <a:lnTo>
                  <a:pt x="25" y="69"/>
                </a:lnTo>
                <a:lnTo>
                  <a:pt x="29" y="64"/>
                </a:lnTo>
                <a:lnTo>
                  <a:pt x="33" y="58"/>
                </a:lnTo>
                <a:lnTo>
                  <a:pt x="44" y="44"/>
                </a:lnTo>
                <a:lnTo>
                  <a:pt x="67" y="17"/>
                </a:lnTo>
                <a:lnTo>
                  <a:pt x="76" y="1"/>
                </a:lnTo>
                <a:lnTo>
                  <a:pt x="74" y="1"/>
                </a:lnTo>
                <a:lnTo>
                  <a:pt x="64" y="1"/>
                </a:lnTo>
                <a:lnTo>
                  <a:pt x="29" y="1"/>
                </a:lnTo>
                <a:lnTo>
                  <a:pt x="2" y="1"/>
                </a:lnTo>
                <a:lnTo>
                  <a:pt x="1" y="0"/>
                </a:lnTo>
                <a:lnTo>
                  <a:pt x="0" y="4"/>
                </a:lnTo>
                <a:lnTo>
                  <a:pt x="0" y="14"/>
                </a:lnTo>
                <a:lnTo>
                  <a:pt x="3" y="37"/>
                </a:lnTo>
                <a:lnTo>
                  <a:pt x="18" y="66"/>
                </a:lnTo>
                <a:lnTo>
                  <a:pt x="25" y="73"/>
                </a:lnTo>
                <a:lnTo>
                  <a:pt x="25" y="70"/>
                </a:lnTo>
                <a:lnTo>
                  <a:pt x="25" y="67"/>
                </a:lnTo>
                <a:lnTo>
                  <a:pt x="25" y="69"/>
                </a:lnTo>
                <a:lnTo>
                  <a:pt x="25" y="73"/>
                </a:lnTo>
              </a:path>
            </a:pathLst>
          </a:custGeom>
          <a:noFill/>
          <a:ln w="6480">
            <a:solidFill>
              <a:srgbClr val="1f1a17"/>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7" name="Freeform 96"/>
          <p:cNvSpPr/>
          <p:nvPr/>
        </p:nvSpPr>
        <p:spPr>
          <a:xfrm>
            <a:off x="1328760" y="2990880"/>
            <a:ext cx="33480" cy="42840"/>
          </a:xfrm>
          <a:custGeom>
            <a:avLst/>
            <a:gdLst>
              <a:gd name="textAreaLeft" fmla="*/ 0 w 33480"/>
              <a:gd name="textAreaRight" fmla="*/ 33840 w 33480"/>
              <a:gd name="textAreaTop" fmla="*/ 0 h 42840"/>
              <a:gd name="textAreaBottom" fmla="*/ 43200 h 42840"/>
            </a:gdLst>
            <a:ahLst/>
            <a:rect l="textAreaLeft" t="textAreaTop" r="textAreaRight" b="textAreaBottom"/>
            <a:pathLst>
              <a:path w="42" h="53">
                <a:moveTo>
                  <a:pt x="0" y="4"/>
                </a:moveTo>
                <a:lnTo>
                  <a:pt x="5" y="19"/>
                </a:lnTo>
                <a:lnTo>
                  <a:pt x="12" y="39"/>
                </a:lnTo>
                <a:lnTo>
                  <a:pt x="16" y="51"/>
                </a:lnTo>
                <a:lnTo>
                  <a:pt x="17" y="52"/>
                </a:lnTo>
                <a:lnTo>
                  <a:pt x="18" y="53"/>
                </a:lnTo>
                <a:lnTo>
                  <a:pt x="19" y="53"/>
                </a:lnTo>
                <a:lnTo>
                  <a:pt x="20" y="52"/>
                </a:lnTo>
                <a:lnTo>
                  <a:pt x="21" y="48"/>
                </a:lnTo>
                <a:lnTo>
                  <a:pt x="23" y="46"/>
                </a:lnTo>
                <a:lnTo>
                  <a:pt x="27" y="40"/>
                </a:lnTo>
                <a:lnTo>
                  <a:pt x="38" y="20"/>
                </a:lnTo>
                <a:lnTo>
                  <a:pt x="42" y="13"/>
                </a:lnTo>
                <a:lnTo>
                  <a:pt x="39" y="11"/>
                </a:lnTo>
                <a:lnTo>
                  <a:pt x="33" y="7"/>
                </a:lnTo>
                <a:lnTo>
                  <a:pt x="26" y="3"/>
                </a:lnTo>
                <a:lnTo>
                  <a:pt x="17" y="1"/>
                </a:lnTo>
                <a:lnTo>
                  <a:pt x="10" y="0"/>
                </a:lnTo>
                <a:lnTo>
                  <a:pt x="2" y="2"/>
                </a:lnTo>
                <a:lnTo>
                  <a:pt x="0" y="4"/>
                </a:lnTo>
                <a:lnTo>
                  <a:pt x="4" y="17"/>
                </a:lnTo>
                <a:lnTo>
                  <a:pt x="10" y="30"/>
                </a:lnTo>
                <a:lnTo>
                  <a:pt x="6" y="23"/>
                </a:lnTo>
                <a:lnTo>
                  <a:pt x="0" y="6"/>
                </a:lnTo>
                <a:lnTo>
                  <a:pt x="0" y="4"/>
                </a:lnTo>
              </a:path>
            </a:pathLst>
          </a:custGeom>
          <a:noFill/>
          <a:ln w="6480">
            <a:solidFill>
              <a:srgbClr val="1f1a17"/>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8" name="Freeform 97"/>
          <p:cNvSpPr/>
          <p:nvPr/>
        </p:nvSpPr>
        <p:spPr>
          <a:xfrm>
            <a:off x="1370160" y="3152880"/>
            <a:ext cx="63360" cy="58680"/>
          </a:xfrm>
          <a:custGeom>
            <a:avLst/>
            <a:gdLst>
              <a:gd name="textAreaLeft" fmla="*/ 0 w 63360"/>
              <a:gd name="textAreaRight" fmla="*/ 63720 w 63360"/>
              <a:gd name="textAreaTop" fmla="*/ 0 h 58680"/>
              <a:gd name="textAreaBottom" fmla="*/ 59040 h 58680"/>
            </a:gdLst>
            <a:ahLst/>
            <a:rect l="textAreaLeft" t="textAreaTop" r="textAreaRight" b="textAreaBottom"/>
            <a:pathLst>
              <a:path w="82" h="74">
                <a:moveTo>
                  <a:pt x="0" y="70"/>
                </a:moveTo>
                <a:lnTo>
                  <a:pt x="0" y="67"/>
                </a:lnTo>
                <a:lnTo>
                  <a:pt x="1" y="61"/>
                </a:lnTo>
                <a:lnTo>
                  <a:pt x="7" y="51"/>
                </a:lnTo>
                <a:lnTo>
                  <a:pt x="21" y="27"/>
                </a:lnTo>
                <a:lnTo>
                  <a:pt x="29" y="0"/>
                </a:lnTo>
                <a:lnTo>
                  <a:pt x="34" y="1"/>
                </a:lnTo>
                <a:lnTo>
                  <a:pt x="42" y="3"/>
                </a:lnTo>
                <a:lnTo>
                  <a:pt x="51" y="6"/>
                </a:lnTo>
                <a:lnTo>
                  <a:pt x="69" y="14"/>
                </a:lnTo>
                <a:lnTo>
                  <a:pt x="82" y="16"/>
                </a:lnTo>
                <a:lnTo>
                  <a:pt x="78" y="27"/>
                </a:lnTo>
                <a:lnTo>
                  <a:pt x="71" y="45"/>
                </a:lnTo>
                <a:lnTo>
                  <a:pt x="63" y="59"/>
                </a:lnTo>
                <a:lnTo>
                  <a:pt x="53" y="70"/>
                </a:lnTo>
                <a:lnTo>
                  <a:pt x="37" y="74"/>
                </a:lnTo>
                <a:lnTo>
                  <a:pt x="14" y="73"/>
                </a:lnTo>
                <a:lnTo>
                  <a:pt x="0" y="70"/>
                </a:lnTo>
                <a:lnTo>
                  <a:pt x="0" y="68"/>
                </a:lnTo>
                <a:lnTo>
                  <a:pt x="0" y="65"/>
                </a:lnTo>
                <a:lnTo>
                  <a:pt x="0" y="66"/>
                </a:lnTo>
                <a:lnTo>
                  <a:pt x="0" y="70"/>
                </a:lnTo>
              </a:path>
            </a:pathLst>
          </a:custGeom>
          <a:noFill/>
          <a:ln w="6480">
            <a:solidFill>
              <a:srgbClr val="1f1a17"/>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9" name="Freeform 98"/>
          <p:cNvSpPr/>
          <p:nvPr/>
        </p:nvSpPr>
        <p:spPr>
          <a:xfrm>
            <a:off x="1014480" y="2975040"/>
            <a:ext cx="261720" cy="261720"/>
          </a:xfrm>
          <a:custGeom>
            <a:avLst/>
            <a:gdLst>
              <a:gd name="textAreaLeft" fmla="*/ 0 w 261720"/>
              <a:gd name="textAreaRight" fmla="*/ 262080 w 261720"/>
              <a:gd name="textAreaTop" fmla="*/ 0 h 261720"/>
              <a:gd name="textAreaBottom" fmla="*/ 262080 h 261720"/>
            </a:gdLst>
            <a:ahLst/>
            <a:rect l="textAreaLeft" t="textAreaTop" r="textAreaRight" b="textAreaBottom"/>
            <a:pathLst>
              <a:path w="330" h="330">
                <a:moveTo>
                  <a:pt x="314" y="131"/>
                </a:moveTo>
                <a:lnTo>
                  <a:pt x="313" y="119"/>
                </a:lnTo>
                <a:lnTo>
                  <a:pt x="309" y="98"/>
                </a:lnTo>
                <a:lnTo>
                  <a:pt x="294" y="59"/>
                </a:lnTo>
                <a:lnTo>
                  <a:pt x="275" y="25"/>
                </a:lnTo>
                <a:lnTo>
                  <a:pt x="271" y="17"/>
                </a:lnTo>
                <a:lnTo>
                  <a:pt x="262" y="14"/>
                </a:lnTo>
                <a:lnTo>
                  <a:pt x="254" y="13"/>
                </a:lnTo>
                <a:lnTo>
                  <a:pt x="247" y="13"/>
                </a:lnTo>
                <a:lnTo>
                  <a:pt x="241" y="15"/>
                </a:lnTo>
                <a:lnTo>
                  <a:pt x="237" y="19"/>
                </a:lnTo>
                <a:lnTo>
                  <a:pt x="229" y="24"/>
                </a:lnTo>
                <a:lnTo>
                  <a:pt x="220" y="28"/>
                </a:lnTo>
                <a:lnTo>
                  <a:pt x="216" y="28"/>
                </a:lnTo>
                <a:lnTo>
                  <a:pt x="211" y="27"/>
                </a:lnTo>
                <a:lnTo>
                  <a:pt x="206" y="23"/>
                </a:lnTo>
                <a:lnTo>
                  <a:pt x="200" y="19"/>
                </a:lnTo>
                <a:lnTo>
                  <a:pt x="188" y="11"/>
                </a:lnTo>
                <a:lnTo>
                  <a:pt x="163" y="3"/>
                </a:lnTo>
                <a:lnTo>
                  <a:pt x="143" y="1"/>
                </a:lnTo>
                <a:lnTo>
                  <a:pt x="138" y="0"/>
                </a:lnTo>
                <a:lnTo>
                  <a:pt x="135" y="3"/>
                </a:lnTo>
                <a:lnTo>
                  <a:pt x="121" y="18"/>
                </a:lnTo>
                <a:lnTo>
                  <a:pt x="70" y="66"/>
                </a:lnTo>
                <a:lnTo>
                  <a:pt x="31" y="103"/>
                </a:lnTo>
                <a:lnTo>
                  <a:pt x="29" y="105"/>
                </a:lnTo>
                <a:lnTo>
                  <a:pt x="31" y="106"/>
                </a:lnTo>
                <a:lnTo>
                  <a:pt x="34" y="107"/>
                </a:lnTo>
                <a:lnTo>
                  <a:pt x="43" y="109"/>
                </a:lnTo>
                <a:lnTo>
                  <a:pt x="59" y="113"/>
                </a:lnTo>
                <a:lnTo>
                  <a:pt x="62" y="114"/>
                </a:lnTo>
                <a:lnTo>
                  <a:pt x="61" y="115"/>
                </a:lnTo>
                <a:lnTo>
                  <a:pt x="60" y="116"/>
                </a:lnTo>
                <a:lnTo>
                  <a:pt x="60" y="118"/>
                </a:lnTo>
                <a:lnTo>
                  <a:pt x="60" y="121"/>
                </a:lnTo>
                <a:lnTo>
                  <a:pt x="59" y="129"/>
                </a:lnTo>
                <a:lnTo>
                  <a:pt x="58" y="132"/>
                </a:lnTo>
                <a:lnTo>
                  <a:pt x="56" y="135"/>
                </a:lnTo>
                <a:lnTo>
                  <a:pt x="53" y="138"/>
                </a:lnTo>
                <a:lnTo>
                  <a:pt x="48" y="139"/>
                </a:lnTo>
                <a:lnTo>
                  <a:pt x="42" y="139"/>
                </a:lnTo>
                <a:lnTo>
                  <a:pt x="33" y="137"/>
                </a:lnTo>
                <a:lnTo>
                  <a:pt x="23" y="132"/>
                </a:lnTo>
                <a:lnTo>
                  <a:pt x="12" y="129"/>
                </a:lnTo>
                <a:lnTo>
                  <a:pt x="5" y="128"/>
                </a:lnTo>
                <a:lnTo>
                  <a:pt x="3" y="129"/>
                </a:lnTo>
                <a:lnTo>
                  <a:pt x="1" y="130"/>
                </a:lnTo>
                <a:lnTo>
                  <a:pt x="0" y="131"/>
                </a:lnTo>
                <a:lnTo>
                  <a:pt x="0" y="133"/>
                </a:lnTo>
                <a:lnTo>
                  <a:pt x="0" y="135"/>
                </a:lnTo>
                <a:lnTo>
                  <a:pt x="1" y="137"/>
                </a:lnTo>
                <a:lnTo>
                  <a:pt x="3" y="143"/>
                </a:lnTo>
                <a:lnTo>
                  <a:pt x="10" y="155"/>
                </a:lnTo>
                <a:lnTo>
                  <a:pt x="17" y="171"/>
                </a:lnTo>
                <a:lnTo>
                  <a:pt x="15" y="175"/>
                </a:lnTo>
                <a:lnTo>
                  <a:pt x="16" y="181"/>
                </a:lnTo>
                <a:lnTo>
                  <a:pt x="21" y="186"/>
                </a:lnTo>
                <a:lnTo>
                  <a:pt x="27" y="191"/>
                </a:lnTo>
                <a:lnTo>
                  <a:pt x="44" y="201"/>
                </a:lnTo>
                <a:lnTo>
                  <a:pt x="76" y="216"/>
                </a:lnTo>
                <a:lnTo>
                  <a:pt x="83" y="218"/>
                </a:lnTo>
                <a:lnTo>
                  <a:pt x="86" y="219"/>
                </a:lnTo>
                <a:lnTo>
                  <a:pt x="91" y="219"/>
                </a:lnTo>
                <a:lnTo>
                  <a:pt x="96" y="218"/>
                </a:lnTo>
                <a:lnTo>
                  <a:pt x="111" y="212"/>
                </a:lnTo>
                <a:lnTo>
                  <a:pt x="118" y="209"/>
                </a:lnTo>
                <a:lnTo>
                  <a:pt x="128" y="219"/>
                </a:lnTo>
                <a:lnTo>
                  <a:pt x="147" y="239"/>
                </a:lnTo>
                <a:lnTo>
                  <a:pt x="176" y="277"/>
                </a:lnTo>
                <a:lnTo>
                  <a:pt x="206" y="319"/>
                </a:lnTo>
                <a:lnTo>
                  <a:pt x="215" y="330"/>
                </a:lnTo>
                <a:lnTo>
                  <a:pt x="217" y="329"/>
                </a:lnTo>
                <a:lnTo>
                  <a:pt x="232" y="316"/>
                </a:lnTo>
                <a:lnTo>
                  <a:pt x="286" y="272"/>
                </a:lnTo>
                <a:lnTo>
                  <a:pt x="327" y="239"/>
                </a:lnTo>
                <a:lnTo>
                  <a:pt x="330" y="237"/>
                </a:lnTo>
                <a:lnTo>
                  <a:pt x="329" y="225"/>
                </a:lnTo>
                <a:lnTo>
                  <a:pt x="325" y="206"/>
                </a:lnTo>
                <a:lnTo>
                  <a:pt x="319" y="191"/>
                </a:lnTo>
                <a:lnTo>
                  <a:pt x="309" y="160"/>
                </a:lnTo>
                <a:lnTo>
                  <a:pt x="314" y="131"/>
                </a:lnTo>
                <a:lnTo>
                  <a:pt x="314" y="121"/>
                </a:lnTo>
                <a:lnTo>
                  <a:pt x="314" y="111"/>
                </a:lnTo>
                <a:lnTo>
                  <a:pt x="314" y="117"/>
                </a:lnTo>
                <a:lnTo>
                  <a:pt x="314" y="131"/>
                </a:lnTo>
              </a:path>
            </a:pathLst>
          </a:custGeom>
          <a:blipFill rotWithShape="0">
            <a:blip r:embed="rId6"/>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99"/>
          <p:cNvSpPr/>
          <p:nvPr/>
        </p:nvSpPr>
        <p:spPr>
          <a:xfrm>
            <a:off x="1077840" y="2406600"/>
            <a:ext cx="1011240" cy="1562040"/>
          </a:xfrm>
          <a:custGeom>
            <a:avLst/>
            <a:gdLst>
              <a:gd name="textAreaLeft" fmla="*/ 0 w 1011240"/>
              <a:gd name="textAreaRight" fmla="*/ 1011600 w 1011240"/>
              <a:gd name="textAreaTop" fmla="*/ 0 h 1562040"/>
              <a:gd name="textAreaBottom" fmla="*/ 1562400 h 1562040"/>
            </a:gdLst>
            <a:ahLst/>
            <a:rect l="textAreaLeft" t="textAreaTop" r="textAreaRight" b="textAreaBottom"/>
            <a:pathLst>
              <a:path w="1274" h="1968">
                <a:moveTo>
                  <a:pt x="909" y="1016"/>
                </a:moveTo>
                <a:lnTo>
                  <a:pt x="910" y="984"/>
                </a:lnTo>
                <a:lnTo>
                  <a:pt x="910" y="951"/>
                </a:lnTo>
                <a:lnTo>
                  <a:pt x="909" y="947"/>
                </a:lnTo>
                <a:lnTo>
                  <a:pt x="908" y="946"/>
                </a:lnTo>
                <a:lnTo>
                  <a:pt x="907" y="945"/>
                </a:lnTo>
                <a:lnTo>
                  <a:pt x="906" y="944"/>
                </a:lnTo>
                <a:lnTo>
                  <a:pt x="905" y="944"/>
                </a:lnTo>
                <a:lnTo>
                  <a:pt x="903" y="945"/>
                </a:lnTo>
                <a:lnTo>
                  <a:pt x="900" y="946"/>
                </a:lnTo>
                <a:lnTo>
                  <a:pt x="898" y="947"/>
                </a:lnTo>
                <a:lnTo>
                  <a:pt x="891" y="953"/>
                </a:lnTo>
                <a:lnTo>
                  <a:pt x="881" y="957"/>
                </a:lnTo>
                <a:lnTo>
                  <a:pt x="869" y="958"/>
                </a:lnTo>
                <a:lnTo>
                  <a:pt x="855" y="956"/>
                </a:lnTo>
                <a:lnTo>
                  <a:pt x="839" y="947"/>
                </a:lnTo>
                <a:lnTo>
                  <a:pt x="821" y="931"/>
                </a:lnTo>
                <a:lnTo>
                  <a:pt x="822" y="914"/>
                </a:lnTo>
                <a:lnTo>
                  <a:pt x="828" y="891"/>
                </a:lnTo>
                <a:lnTo>
                  <a:pt x="841" y="838"/>
                </a:lnTo>
                <a:lnTo>
                  <a:pt x="852" y="782"/>
                </a:lnTo>
                <a:lnTo>
                  <a:pt x="851" y="731"/>
                </a:lnTo>
                <a:lnTo>
                  <a:pt x="843" y="711"/>
                </a:lnTo>
                <a:lnTo>
                  <a:pt x="828" y="695"/>
                </a:lnTo>
                <a:lnTo>
                  <a:pt x="804" y="684"/>
                </a:lnTo>
                <a:lnTo>
                  <a:pt x="773" y="680"/>
                </a:lnTo>
                <a:lnTo>
                  <a:pt x="771" y="675"/>
                </a:lnTo>
                <a:lnTo>
                  <a:pt x="767" y="671"/>
                </a:lnTo>
                <a:lnTo>
                  <a:pt x="762" y="666"/>
                </a:lnTo>
                <a:lnTo>
                  <a:pt x="747" y="656"/>
                </a:lnTo>
                <a:lnTo>
                  <a:pt x="712" y="639"/>
                </a:lnTo>
                <a:lnTo>
                  <a:pt x="692" y="634"/>
                </a:lnTo>
                <a:lnTo>
                  <a:pt x="702" y="575"/>
                </a:lnTo>
                <a:lnTo>
                  <a:pt x="729" y="517"/>
                </a:lnTo>
                <a:lnTo>
                  <a:pt x="765" y="462"/>
                </a:lnTo>
                <a:lnTo>
                  <a:pt x="847" y="363"/>
                </a:lnTo>
                <a:lnTo>
                  <a:pt x="880" y="322"/>
                </a:lnTo>
                <a:lnTo>
                  <a:pt x="898" y="287"/>
                </a:lnTo>
                <a:lnTo>
                  <a:pt x="902" y="273"/>
                </a:lnTo>
                <a:lnTo>
                  <a:pt x="898" y="262"/>
                </a:lnTo>
                <a:lnTo>
                  <a:pt x="889" y="253"/>
                </a:lnTo>
                <a:lnTo>
                  <a:pt x="871" y="246"/>
                </a:lnTo>
                <a:lnTo>
                  <a:pt x="848" y="240"/>
                </a:lnTo>
                <a:lnTo>
                  <a:pt x="815" y="239"/>
                </a:lnTo>
                <a:lnTo>
                  <a:pt x="719" y="244"/>
                </a:lnTo>
                <a:lnTo>
                  <a:pt x="581" y="263"/>
                </a:lnTo>
                <a:lnTo>
                  <a:pt x="594" y="240"/>
                </a:lnTo>
                <a:lnTo>
                  <a:pt x="625" y="197"/>
                </a:lnTo>
                <a:lnTo>
                  <a:pt x="703" y="114"/>
                </a:lnTo>
                <a:lnTo>
                  <a:pt x="788" y="36"/>
                </a:lnTo>
                <a:lnTo>
                  <a:pt x="809" y="16"/>
                </a:lnTo>
                <a:lnTo>
                  <a:pt x="806" y="13"/>
                </a:lnTo>
                <a:lnTo>
                  <a:pt x="801" y="10"/>
                </a:lnTo>
                <a:lnTo>
                  <a:pt x="795" y="7"/>
                </a:lnTo>
                <a:lnTo>
                  <a:pt x="787" y="5"/>
                </a:lnTo>
                <a:lnTo>
                  <a:pt x="767" y="2"/>
                </a:lnTo>
                <a:lnTo>
                  <a:pt x="718" y="0"/>
                </a:lnTo>
                <a:lnTo>
                  <a:pt x="606" y="5"/>
                </a:lnTo>
                <a:lnTo>
                  <a:pt x="545" y="7"/>
                </a:lnTo>
                <a:lnTo>
                  <a:pt x="528" y="23"/>
                </a:lnTo>
                <a:lnTo>
                  <a:pt x="496" y="56"/>
                </a:lnTo>
                <a:lnTo>
                  <a:pt x="433" y="128"/>
                </a:lnTo>
                <a:lnTo>
                  <a:pt x="376" y="206"/>
                </a:lnTo>
                <a:lnTo>
                  <a:pt x="364" y="225"/>
                </a:lnTo>
                <a:lnTo>
                  <a:pt x="361" y="225"/>
                </a:lnTo>
                <a:lnTo>
                  <a:pt x="359" y="224"/>
                </a:lnTo>
                <a:lnTo>
                  <a:pt x="356" y="221"/>
                </a:lnTo>
                <a:lnTo>
                  <a:pt x="349" y="214"/>
                </a:lnTo>
                <a:lnTo>
                  <a:pt x="332" y="195"/>
                </a:lnTo>
                <a:lnTo>
                  <a:pt x="311" y="174"/>
                </a:lnTo>
                <a:lnTo>
                  <a:pt x="285" y="159"/>
                </a:lnTo>
                <a:lnTo>
                  <a:pt x="270" y="155"/>
                </a:lnTo>
                <a:lnTo>
                  <a:pt x="254" y="156"/>
                </a:lnTo>
                <a:lnTo>
                  <a:pt x="237" y="161"/>
                </a:lnTo>
                <a:lnTo>
                  <a:pt x="228" y="165"/>
                </a:lnTo>
                <a:lnTo>
                  <a:pt x="229" y="168"/>
                </a:lnTo>
                <a:lnTo>
                  <a:pt x="238" y="181"/>
                </a:lnTo>
                <a:lnTo>
                  <a:pt x="270" y="230"/>
                </a:lnTo>
                <a:lnTo>
                  <a:pt x="293" y="267"/>
                </a:lnTo>
                <a:lnTo>
                  <a:pt x="296" y="269"/>
                </a:lnTo>
                <a:lnTo>
                  <a:pt x="297" y="270"/>
                </a:lnTo>
                <a:lnTo>
                  <a:pt x="306" y="277"/>
                </a:lnTo>
                <a:lnTo>
                  <a:pt x="337" y="300"/>
                </a:lnTo>
                <a:lnTo>
                  <a:pt x="362" y="318"/>
                </a:lnTo>
                <a:lnTo>
                  <a:pt x="364" y="318"/>
                </a:lnTo>
                <a:lnTo>
                  <a:pt x="345" y="330"/>
                </a:lnTo>
                <a:lnTo>
                  <a:pt x="304" y="352"/>
                </a:lnTo>
                <a:lnTo>
                  <a:pt x="225" y="408"/>
                </a:lnTo>
                <a:lnTo>
                  <a:pt x="198" y="445"/>
                </a:lnTo>
                <a:lnTo>
                  <a:pt x="186" y="491"/>
                </a:lnTo>
                <a:lnTo>
                  <a:pt x="188" y="518"/>
                </a:lnTo>
                <a:lnTo>
                  <a:pt x="232" y="520"/>
                </a:lnTo>
                <a:lnTo>
                  <a:pt x="296" y="525"/>
                </a:lnTo>
                <a:lnTo>
                  <a:pt x="315" y="530"/>
                </a:lnTo>
                <a:lnTo>
                  <a:pt x="328" y="538"/>
                </a:lnTo>
                <a:lnTo>
                  <a:pt x="331" y="543"/>
                </a:lnTo>
                <a:lnTo>
                  <a:pt x="333" y="549"/>
                </a:lnTo>
                <a:lnTo>
                  <a:pt x="333" y="556"/>
                </a:lnTo>
                <a:lnTo>
                  <a:pt x="332" y="565"/>
                </a:lnTo>
                <a:lnTo>
                  <a:pt x="327" y="586"/>
                </a:lnTo>
                <a:lnTo>
                  <a:pt x="316" y="612"/>
                </a:lnTo>
                <a:lnTo>
                  <a:pt x="281" y="687"/>
                </a:lnTo>
                <a:lnTo>
                  <a:pt x="259" y="736"/>
                </a:lnTo>
                <a:lnTo>
                  <a:pt x="293" y="721"/>
                </a:lnTo>
                <a:lnTo>
                  <a:pt x="345" y="709"/>
                </a:lnTo>
                <a:lnTo>
                  <a:pt x="362" y="711"/>
                </a:lnTo>
                <a:lnTo>
                  <a:pt x="373" y="718"/>
                </a:lnTo>
                <a:lnTo>
                  <a:pt x="379" y="728"/>
                </a:lnTo>
                <a:lnTo>
                  <a:pt x="380" y="741"/>
                </a:lnTo>
                <a:lnTo>
                  <a:pt x="376" y="756"/>
                </a:lnTo>
                <a:lnTo>
                  <a:pt x="367" y="773"/>
                </a:lnTo>
                <a:lnTo>
                  <a:pt x="355" y="792"/>
                </a:lnTo>
                <a:lnTo>
                  <a:pt x="318" y="827"/>
                </a:lnTo>
                <a:lnTo>
                  <a:pt x="334" y="848"/>
                </a:lnTo>
                <a:lnTo>
                  <a:pt x="367" y="870"/>
                </a:lnTo>
                <a:lnTo>
                  <a:pt x="402" y="875"/>
                </a:lnTo>
                <a:lnTo>
                  <a:pt x="437" y="869"/>
                </a:lnTo>
                <a:lnTo>
                  <a:pt x="477" y="858"/>
                </a:lnTo>
                <a:lnTo>
                  <a:pt x="521" y="850"/>
                </a:lnTo>
                <a:lnTo>
                  <a:pt x="545" y="848"/>
                </a:lnTo>
                <a:lnTo>
                  <a:pt x="557" y="860"/>
                </a:lnTo>
                <a:lnTo>
                  <a:pt x="573" y="883"/>
                </a:lnTo>
                <a:lnTo>
                  <a:pt x="580" y="906"/>
                </a:lnTo>
                <a:lnTo>
                  <a:pt x="578" y="929"/>
                </a:lnTo>
                <a:lnTo>
                  <a:pt x="569" y="956"/>
                </a:lnTo>
                <a:lnTo>
                  <a:pt x="554" y="986"/>
                </a:lnTo>
                <a:lnTo>
                  <a:pt x="545" y="1004"/>
                </a:lnTo>
                <a:lnTo>
                  <a:pt x="559" y="1031"/>
                </a:lnTo>
                <a:lnTo>
                  <a:pt x="581" y="1078"/>
                </a:lnTo>
                <a:lnTo>
                  <a:pt x="591" y="1118"/>
                </a:lnTo>
                <a:lnTo>
                  <a:pt x="587" y="1153"/>
                </a:lnTo>
                <a:lnTo>
                  <a:pt x="569" y="1190"/>
                </a:lnTo>
                <a:lnTo>
                  <a:pt x="535" y="1230"/>
                </a:lnTo>
                <a:lnTo>
                  <a:pt x="512" y="1251"/>
                </a:lnTo>
                <a:lnTo>
                  <a:pt x="487" y="1248"/>
                </a:lnTo>
                <a:lnTo>
                  <a:pt x="460" y="1241"/>
                </a:lnTo>
                <a:lnTo>
                  <a:pt x="408" y="1216"/>
                </a:lnTo>
                <a:lnTo>
                  <a:pt x="367" y="1196"/>
                </a:lnTo>
                <a:lnTo>
                  <a:pt x="352" y="1191"/>
                </a:lnTo>
                <a:lnTo>
                  <a:pt x="347" y="1191"/>
                </a:lnTo>
                <a:lnTo>
                  <a:pt x="345" y="1192"/>
                </a:lnTo>
                <a:lnTo>
                  <a:pt x="343" y="1193"/>
                </a:lnTo>
                <a:lnTo>
                  <a:pt x="342" y="1194"/>
                </a:lnTo>
                <a:lnTo>
                  <a:pt x="341" y="1196"/>
                </a:lnTo>
                <a:lnTo>
                  <a:pt x="340" y="1199"/>
                </a:lnTo>
                <a:lnTo>
                  <a:pt x="340" y="1202"/>
                </a:lnTo>
                <a:lnTo>
                  <a:pt x="341" y="1210"/>
                </a:lnTo>
                <a:lnTo>
                  <a:pt x="344" y="1222"/>
                </a:lnTo>
                <a:lnTo>
                  <a:pt x="358" y="1253"/>
                </a:lnTo>
                <a:lnTo>
                  <a:pt x="380" y="1298"/>
                </a:lnTo>
                <a:lnTo>
                  <a:pt x="356" y="1299"/>
                </a:lnTo>
                <a:lnTo>
                  <a:pt x="327" y="1302"/>
                </a:lnTo>
                <a:lnTo>
                  <a:pt x="324" y="1303"/>
                </a:lnTo>
                <a:lnTo>
                  <a:pt x="321" y="1304"/>
                </a:lnTo>
                <a:lnTo>
                  <a:pt x="320" y="1305"/>
                </a:lnTo>
                <a:lnTo>
                  <a:pt x="319" y="1306"/>
                </a:lnTo>
                <a:lnTo>
                  <a:pt x="319" y="1307"/>
                </a:lnTo>
                <a:lnTo>
                  <a:pt x="320" y="1309"/>
                </a:lnTo>
                <a:lnTo>
                  <a:pt x="321" y="1311"/>
                </a:lnTo>
                <a:lnTo>
                  <a:pt x="322" y="1312"/>
                </a:lnTo>
                <a:lnTo>
                  <a:pt x="326" y="1314"/>
                </a:lnTo>
                <a:lnTo>
                  <a:pt x="334" y="1320"/>
                </a:lnTo>
                <a:lnTo>
                  <a:pt x="359" y="1336"/>
                </a:lnTo>
                <a:lnTo>
                  <a:pt x="389" y="1355"/>
                </a:lnTo>
                <a:lnTo>
                  <a:pt x="397" y="1360"/>
                </a:lnTo>
                <a:lnTo>
                  <a:pt x="394" y="1390"/>
                </a:lnTo>
                <a:lnTo>
                  <a:pt x="378" y="1433"/>
                </a:lnTo>
                <a:lnTo>
                  <a:pt x="348" y="1463"/>
                </a:lnTo>
                <a:lnTo>
                  <a:pt x="308" y="1482"/>
                </a:lnTo>
                <a:lnTo>
                  <a:pt x="266" y="1497"/>
                </a:lnTo>
                <a:lnTo>
                  <a:pt x="221" y="1509"/>
                </a:lnTo>
                <a:lnTo>
                  <a:pt x="200" y="1515"/>
                </a:lnTo>
                <a:lnTo>
                  <a:pt x="199" y="1520"/>
                </a:lnTo>
                <a:lnTo>
                  <a:pt x="198" y="1533"/>
                </a:lnTo>
                <a:lnTo>
                  <a:pt x="193" y="1567"/>
                </a:lnTo>
                <a:lnTo>
                  <a:pt x="188" y="1596"/>
                </a:lnTo>
                <a:lnTo>
                  <a:pt x="188" y="1601"/>
                </a:lnTo>
                <a:lnTo>
                  <a:pt x="218" y="1602"/>
                </a:lnTo>
                <a:lnTo>
                  <a:pt x="261" y="1603"/>
                </a:lnTo>
                <a:lnTo>
                  <a:pt x="311" y="1606"/>
                </a:lnTo>
                <a:lnTo>
                  <a:pt x="372" y="1609"/>
                </a:lnTo>
                <a:lnTo>
                  <a:pt x="397" y="1609"/>
                </a:lnTo>
                <a:lnTo>
                  <a:pt x="399" y="1624"/>
                </a:lnTo>
                <a:lnTo>
                  <a:pt x="405" y="1636"/>
                </a:lnTo>
                <a:lnTo>
                  <a:pt x="414" y="1644"/>
                </a:lnTo>
                <a:lnTo>
                  <a:pt x="424" y="1651"/>
                </a:lnTo>
                <a:lnTo>
                  <a:pt x="437" y="1656"/>
                </a:lnTo>
                <a:lnTo>
                  <a:pt x="451" y="1658"/>
                </a:lnTo>
                <a:lnTo>
                  <a:pt x="480" y="1659"/>
                </a:lnTo>
                <a:lnTo>
                  <a:pt x="508" y="1657"/>
                </a:lnTo>
                <a:lnTo>
                  <a:pt x="529" y="1656"/>
                </a:lnTo>
                <a:lnTo>
                  <a:pt x="524" y="1668"/>
                </a:lnTo>
                <a:lnTo>
                  <a:pt x="513" y="1688"/>
                </a:lnTo>
                <a:lnTo>
                  <a:pt x="487" y="1722"/>
                </a:lnTo>
                <a:lnTo>
                  <a:pt x="454" y="1744"/>
                </a:lnTo>
                <a:lnTo>
                  <a:pt x="447" y="1748"/>
                </a:lnTo>
                <a:lnTo>
                  <a:pt x="437" y="1748"/>
                </a:lnTo>
                <a:lnTo>
                  <a:pt x="416" y="1744"/>
                </a:lnTo>
                <a:lnTo>
                  <a:pt x="367" y="1730"/>
                </a:lnTo>
                <a:lnTo>
                  <a:pt x="322" y="1720"/>
                </a:lnTo>
                <a:lnTo>
                  <a:pt x="314" y="1719"/>
                </a:lnTo>
                <a:lnTo>
                  <a:pt x="286" y="1748"/>
                </a:lnTo>
                <a:lnTo>
                  <a:pt x="261" y="1785"/>
                </a:lnTo>
                <a:lnTo>
                  <a:pt x="254" y="1804"/>
                </a:lnTo>
                <a:lnTo>
                  <a:pt x="250" y="1810"/>
                </a:lnTo>
                <a:lnTo>
                  <a:pt x="239" y="1818"/>
                </a:lnTo>
                <a:lnTo>
                  <a:pt x="221" y="1826"/>
                </a:lnTo>
                <a:lnTo>
                  <a:pt x="145" y="1853"/>
                </a:lnTo>
                <a:lnTo>
                  <a:pt x="0" y="1905"/>
                </a:lnTo>
                <a:lnTo>
                  <a:pt x="30" y="1926"/>
                </a:lnTo>
                <a:lnTo>
                  <a:pt x="63" y="1936"/>
                </a:lnTo>
                <a:lnTo>
                  <a:pt x="97" y="1938"/>
                </a:lnTo>
                <a:lnTo>
                  <a:pt x="132" y="1935"/>
                </a:lnTo>
                <a:lnTo>
                  <a:pt x="201" y="1919"/>
                </a:lnTo>
                <a:lnTo>
                  <a:pt x="263" y="1904"/>
                </a:lnTo>
                <a:lnTo>
                  <a:pt x="289" y="1902"/>
                </a:lnTo>
                <a:lnTo>
                  <a:pt x="311" y="1905"/>
                </a:lnTo>
                <a:lnTo>
                  <a:pt x="328" y="1917"/>
                </a:lnTo>
                <a:lnTo>
                  <a:pt x="339" y="1939"/>
                </a:lnTo>
                <a:lnTo>
                  <a:pt x="355" y="1925"/>
                </a:lnTo>
                <a:lnTo>
                  <a:pt x="385" y="1899"/>
                </a:lnTo>
                <a:lnTo>
                  <a:pt x="415" y="1881"/>
                </a:lnTo>
                <a:lnTo>
                  <a:pt x="446" y="1874"/>
                </a:lnTo>
                <a:lnTo>
                  <a:pt x="478" y="1879"/>
                </a:lnTo>
                <a:lnTo>
                  <a:pt x="513" y="1900"/>
                </a:lnTo>
                <a:lnTo>
                  <a:pt x="534" y="1916"/>
                </a:lnTo>
                <a:lnTo>
                  <a:pt x="545" y="1916"/>
                </a:lnTo>
                <a:lnTo>
                  <a:pt x="572" y="1910"/>
                </a:lnTo>
                <a:lnTo>
                  <a:pt x="599" y="1901"/>
                </a:lnTo>
                <a:lnTo>
                  <a:pt x="655" y="1881"/>
                </a:lnTo>
                <a:lnTo>
                  <a:pt x="693" y="1874"/>
                </a:lnTo>
                <a:lnTo>
                  <a:pt x="695" y="1875"/>
                </a:lnTo>
                <a:lnTo>
                  <a:pt x="696" y="1876"/>
                </a:lnTo>
                <a:lnTo>
                  <a:pt x="697" y="1878"/>
                </a:lnTo>
                <a:lnTo>
                  <a:pt x="701" y="1882"/>
                </a:lnTo>
                <a:lnTo>
                  <a:pt x="712" y="1896"/>
                </a:lnTo>
                <a:lnTo>
                  <a:pt x="743" y="1931"/>
                </a:lnTo>
                <a:lnTo>
                  <a:pt x="777" y="1960"/>
                </a:lnTo>
                <a:lnTo>
                  <a:pt x="793" y="1967"/>
                </a:lnTo>
                <a:lnTo>
                  <a:pt x="800" y="1968"/>
                </a:lnTo>
                <a:lnTo>
                  <a:pt x="805" y="1966"/>
                </a:lnTo>
                <a:lnTo>
                  <a:pt x="810" y="1961"/>
                </a:lnTo>
                <a:lnTo>
                  <a:pt x="814" y="1954"/>
                </a:lnTo>
                <a:lnTo>
                  <a:pt x="816" y="1943"/>
                </a:lnTo>
                <a:lnTo>
                  <a:pt x="816" y="1929"/>
                </a:lnTo>
                <a:lnTo>
                  <a:pt x="811" y="1887"/>
                </a:lnTo>
                <a:lnTo>
                  <a:pt x="809" y="1874"/>
                </a:lnTo>
                <a:lnTo>
                  <a:pt x="835" y="1885"/>
                </a:lnTo>
                <a:lnTo>
                  <a:pt x="893" y="1899"/>
                </a:lnTo>
                <a:lnTo>
                  <a:pt x="955" y="1903"/>
                </a:lnTo>
                <a:lnTo>
                  <a:pt x="1018" y="1896"/>
                </a:lnTo>
                <a:lnTo>
                  <a:pt x="1078" y="1876"/>
                </a:lnTo>
                <a:lnTo>
                  <a:pt x="1132" y="1841"/>
                </a:lnTo>
                <a:lnTo>
                  <a:pt x="1155" y="1818"/>
                </a:lnTo>
                <a:lnTo>
                  <a:pt x="1149" y="1810"/>
                </a:lnTo>
                <a:lnTo>
                  <a:pt x="1141" y="1804"/>
                </a:lnTo>
                <a:lnTo>
                  <a:pt x="1131" y="1798"/>
                </a:lnTo>
                <a:lnTo>
                  <a:pt x="1107" y="1788"/>
                </a:lnTo>
                <a:lnTo>
                  <a:pt x="1054" y="1769"/>
                </a:lnTo>
                <a:lnTo>
                  <a:pt x="1023" y="1748"/>
                </a:lnTo>
                <a:lnTo>
                  <a:pt x="1027" y="1744"/>
                </a:lnTo>
                <a:lnTo>
                  <a:pt x="1040" y="1734"/>
                </a:lnTo>
                <a:lnTo>
                  <a:pt x="1072" y="1705"/>
                </a:lnTo>
                <a:lnTo>
                  <a:pt x="1101" y="1673"/>
                </a:lnTo>
                <a:lnTo>
                  <a:pt x="1106" y="1665"/>
                </a:lnTo>
                <a:lnTo>
                  <a:pt x="1122" y="1664"/>
                </a:lnTo>
                <a:lnTo>
                  <a:pt x="1140" y="1660"/>
                </a:lnTo>
                <a:lnTo>
                  <a:pt x="1175" y="1644"/>
                </a:lnTo>
                <a:lnTo>
                  <a:pt x="1208" y="1623"/>
                </a:lnTo>
                <a:lnTo>
                  <a:pt x="1260" y="1570"/>
                </a:lnTo>
                <a:lnTo>
                  <a:pt x="1274" y="1544"/>
                </a:lnTo>
                <a:lnTo>
                  <a:pt x="1256" y="1517"/>
                </a:lnTo>
                <a:lnTo>
                  <a:pt x="1219" y="1479"/>
                </a:lnTo>
                <a:lnTo>
                  <a:pt x="1177" y="1461"/>
                </a:lnTo>
                <a:lnTo>
                  <a:pt x="1132" y="1455"/>
                </a:lnTo>
                <a:lnTo>
                  <a:pt x="1083" y="1455"/>
                </a:lnTo>
                <a:lnTo>
                  <a:pt x="1030" y="1454"/>
                </a:lnTo>
                <a:lnTo>
                  <a:pt x="1002" y="1451"/>
                </a:lnTo>
                <a:lnTo>
                  <a:pt x="1009" y="1411"/>
                </a:lnTo>
                <a:lnTo>
                  <a:pt x="1027" y="1333"/>
                </a:lnTo>
                <a:lnTo>
                  <a:pt x="1044" y="1186"/>
                </a:lnTo>
                <a:lnTo>
                  <a:pt x="1019" y="1117"/>
                </a:lnTo>
                <a:lnTo>
                  <a:pt x="957" y="1049"/>
                </a:lnTo>
                <a:lnTo>
                  <a:pt x="909" y="1016"/>
                </a:lnTo>
                <a:lnTo>
                  <a:pt x="910" y="984"/>
                </a:lnTo>
                <a:lnTo>
                  <a:pt x="912" y="953"/>
                </a:lnTo>
                <a:lnTo>
                  <a:pt x="911" y="971"/>
                </a:lnTo>
                <a:lnTo>
                  <a:pt x="909" y="1014"/>
                </a:lnTo>
                <a:lnTo>
                  <a:pt x="909" y="1016"/>
                </a:lnTo>
              </a:path>
            </a:pathLst>
          </a:custGeom>
          <a:blipFill rotWithShape="0">
            <a:blip r:embed="rId7"/>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100"/>
          <p:cNvSpPr/>
          <p:nvPr/>
        </p:nvSpPr>
        <p:spPr>
          <a:xfrm>
            <a:off x="2808360" y="2744640"/>
            <a:ext cx="855720" cy="567000"/>
          </a:xfrm>
          <a:custGeom>
            <a:avLst/>
            <a:gdLst>
              <a:gd name="textAreaLeft" fmla="*/ 0 w 855720"/>
              <a:gd name="textAreaRight" fmla="*/ 856080 w 855720"/>
              <a:gd name="textAreaTop" fmla="*/ 0 h 567000"/>
              <a:gd name="textAreaBottom" fmla="*/ 567360 h 567000"/>
            </a:gdLst>
            <a:ahLst/>
            <a:rect l="textAreaLeft" t="textAreaTop" r="textAreaRight" b="textAreaBottom"/>
            <a:pathLst>
              <a:path w="1079" h="713">
                <a:moveTo>
                  <a:pt x="1036" y="587"/>
                </a:moveTo>
                <a:lnTo>
                  <a:pt x="1055" y="591"/>
                </a:lnTo>
                <a:lnTo>
                  <a:pt x="1069" y="590"/>
                </a:lnTo>
                <a:lnTo>
                  <a:pt x="1073" y="588"/>
                </a:lnTo>
                <a:lnTo>
                  <a:pt x="1076" y="586"/>
                </a:lnTo>
                <a:lnTo>
                  <a:pt x="1079" y="583"/>
                </a:lnTo>
                <a:lnTo>
                  <a:pt x="1079" y="580"/>
                </a:lnTo>
                <a:lnTo>
                  <a:pt x="1079" y="575"/>
                </a:lnTo>
                <a:lnTo>
                  <a:pt x="1076" y="571"/>
                </a:lnTo>
                <a:lnTo>
                  <a:pt x="1074" y="567"/>
                </a:lnTo>
                <a:lnTo>
                  <a:pt x="1067" y="560"/>
                </a:lnTo>
                <a:lnTo>
                  <a:pt x="1057" y="553"/>
                </a:lnTo>
                <a:lnTo>
                  <a:pt x="1046" y="549"/>
                </a:lnTo>
                <a:lnTo>
                  <a:pt x="1034" y="548"/>
                </a:lnTo>
                <a:lnTo>
                  <a:pt x="1022" y="550"/>
                </a:lnTo>
                <a:lnTo>
                  <a:pt x="1010" y="558"/>
                </a:lnTo>
                <a:lnTo>
                  <a:pt x="1005" y="563"/>
                </a:lnTo>
                <a:lnTo>
                  <a:pt x="994" y="577"/>
                </a:lnTo>
                <a:lnTo>
                  <a:pt x="983" y="596"/>
                </a:lnTo>
                <a:lnTo>
                  <a:pt x="982" y="602"/>
                </a:lnTo>
                <a:lnTo>
                  <a:pt x="982" y="604"/>
                </a:lnTo>
                <a:lnTo>
                  <a:pt x="983" y="605"/>
                </a:lnTo>
                <a:lnTo>
                  <a:pt x="985" y="607"/>
                </a:lnTo>
                <a:lnTo>
                  <a:pt x="987" y="608"/>
                </a:lnTo>
                <a:lnTo>
                  <a:pt x="989" y="608"/>
                </a:lnTo>
                <a:lnTo>
                  <a:pt x="992" y="608"/>
                </a:lnTo>
                <a:lnTo>
                  <a:pt x="998" y="606"/>
                </a:lnTo>
                <a:lnTo>
                  <a:pt x="1006" y="604"/>
                </a:lnTo>
                <a:lnTo>
                  <a:pt x="1025" y="594"/>
                </a:lnTo>
                <a:lnTo>
                  <a:pt x="1036" y="587"/>
                </a:lnTo>
                <a:lnTo>
                  <a:pt x="1055" y="592"/>
                </a:lnTo>
                <a:lnTo>
                  <a:pt x="1075" y="597"/>
                </a:lnTo>
                <a:lnTo>
                  <a:pt x="1065" y="594"/>
                </a:lnTo>
                <a:lnTo>
                  <a:pt x="1037" y="588"/>
                </a:lnTo>
                <a:lnTo>
                  <a:pt x="1036" y="587"/>
                </a:lnTo>
                <a:close/>
                <a:moveTo>
                  <a:pt x="463" y="551"/>
                </a:moveTo>
                <a:lnTo>
                  <a:pt x="462" y="511"/>
                </a:lnTo>
                <a:lnTo>
                  <a:pt x="462" y="456"/>
                </a:lnTo>
                <a:lnTo>
                  <a:pt x="466" y="429"/>
                </a:lnTo>
                <a:lnTo>
                  <a:pt x="471" y="422"/>
                </a:lnTo>
                <a:lnTo>
                  <a:pt x="477" y="418"/>
                </a:lnTo>
                <a:lnTo>
                  <a:pt x="486" y="415"/>
                </a:lnTo>
                <a:lnTo>
                  <a:pt x="496" y="412"/>
                </a:lnTo>
                <a:lnTo>
                  <a:pt x="526" y="404"/>
                </a:lnTo>
                <a:lnTo>
                  <a:pt x="548" y="395"/>
                </a:lnTo>
                <a:lnTo>
                  <a:pt x="549" y="395"/>
                </a:lnTo>
                <a:lnTo>
                  <a:pt x="551" y="393"/>
                </a:lnTo>
                <a:lnTo>
                  <a:pt x="553" y="390"/>
                </a:lnTo>
                <a:lnTo>
                  <a:pt x="555" y="387"/>
                </a:lnTo>
                <a:lnTo>
                  <a:pt x="560" y="377"/>
                </a:lnTo>
                <a:lnTo>
                  <a:pt x="570" y="352"/>
                </a:lnTo>
                <a:lnTo>
                  <a:pt x="584" y="327"/>
                </a:lnTo>
                <a:lnTo>
                  <a:pt x="602" y="308"/>
                </a:lnTo>
                <a:lnTo>
                  <a:pt x="614" y="302"/>
                </a:lnTo>
                <a:lnTo>
                  <a:pt x="628" y="301"/>
                </a:lnTo>
                <a:lnTo>
                  <a:pt x="644" y="307"/>
                </a:lnTo>
                <a:lnTo>
                  <a:pt x="638" y="313"/>
                </a:lnTo>
                <a:lnTo>
                  <a:pt x="634" y="323"/>
                </a:lnTo>
                <a:lnTo>
                  <a:pt x="631" y="334"/>
                </a:lnTo>
                <a:lnTo>
                  <a:pt x="628" y="365"/>
                </a:lnTo>
                <a:lnTo>
                  <a:pt x="623" y="431"/>
                </a:lnTo>
                <a:lnTo>
                  <a:pt x="608" y="466"/>
                </a:lnTo>
                <a:lnTo>
                  <a:pt x="608" y="475"/>
                </a:lnTo>
                <a:lnTo>
                  <a:pt x="611" y="482"/>
                </a:lnTo>
                <a:lnTo>
                  <a:pt x="615" y="488"/>
                </a:lnTo>
                <a:lnTo>
                  <a:pt x="627" y="500"/>
                </a:lnTo>
                <a:lnTo>
                  <a:pt x="639" y="512"/>
                </a:lnTo>
                <a:lnTo>
                  <a:pt x="651" y="525"/>
                </a:lnTo>
                <a:lnTo>
                  <a:pt x="658" y="538"/>
                </a:lnTo>
                <a:lnTo>
                  <a:pt x="659" y="545"/>
                </a:lnTo>
                <a:lnTo>
                  <a:pt x="632" y="559"/>
                </a:lnTo>
                <a:lnTo>
                  <a:pt x="604" y="573"/>
                </a:lnTo>
                <a:lnTo>
                  <a:pt x="596" y="575"/>
                </a:lnTo>
                <a:lnTo>
                  <a:pt x="591" y="575"/>
                </a:lnTo>
                <a:lnTo>
                  <a:pt x="586" y="572"/>
                </a:lnTo>
                <a:lnTo>
                  <a:pt x="580" y="569"/>
                </a:lnTo>
                <a:lnTo>
                  <a:pt x="556" y="560"/>
                </a:lnTo>
                <a:lnTo>
                  <a:pt x="504" y="553"/>
                </a:lnTo>
                <a:lnTo>
                  <a:pt x="463" y="551"/>
                </a:lnTo>
                <a:lnTo>
                  <a:pt x="462" y="513"/>
                </a:lnTo>
                <a:lnTo>
                  <a:pt x="462" y="475"/>
                </a:lnTo>
                <a:lnTo>
                  <a:pt x="462" y="496"/>
                </a:lnTo>
                <a:lnTo>
                  <a:pt x="462" y="548"/>
                </a:lnTo>
                <a:lnTo>
                  <a:pt x="463" y="551"/>
                </a:lnTo>
                <a:close/>
                <a:moveTo>
                  <a:pt x="641" y="621"/>
                </a:moveTo>
                <a:lnTo>
                  <a:pt x="632" y="629"/>
                </a:lnTo>
                <a:lnTo>
                  <a:pt x="620" y="645"/>
                </a:lnTo>
                <a:lnTo>
                  <a:pt x="605" y="675"/>
                </a:lnTo>
                <a:lnTo>
                  <a:pt x="600" y="706"/>
                </a:lnTo>
                <a:lnTo>
                  <a:pt x="600" y="713"/>
                </a:lnTo>
                <a:lnTo>
                  <a:pt x="590" y="713"/>
                </a:lnTo>
                <a:lnTo>
                  <a:pt x="584" y="711"/>
                </a:lnTo>
                <a:lnTo>
                  <a:pt x="582" y="707"/>
                </a:lnTo>
                <a:lnTo>
                  <a:pt x="582" y="703"/>
                </a:lnTo>
                <a:lnTo>
                  <a:pt x="584" y="698"/>
                </a:lnTo>
                <a:lnTo>
                  <a:pt x="587" y="693"/>
                </a:lnTo>
                <a:lnTo>
                  <a:pt x="592" y="681"/>
                </a:lnTo>
                <a:lnTo>
                  <a:pt x="592" y="675"/>
                </a:lnTo>
                <a:lnTo>
                  <a:pt x="590" y="670"/>
                </a:lnTo>
                <a:lnTo>
                  <a:pt x="584" y="665"/>
                </a:lnTo>
                <a:lnTo>
                  <a:pt x="575" y="660"/>
                </a:lnTo>
                <a:lnTo>
                  <a:pt x="573" y="659"/>
                </a:lnTo>
                <a:lnTo>
                  <a:pt x="572" y="658"/>
                </a:lnTo>
                <a:lnTo>
                  <a:pt x="569" y="656"/>
                </a:lnTo>
                <a:lnTo>
                  <a:pt x="566" y="654"/>
                </a:lnTo>
                <a:lnTo>
                  <a:pt x="556" y="651"/>
                </a:lnTo>
                <a:lnTo>
                  <a:pt x="538" y="644"/>
                </a:lnTo>
                <a:lnTo>
                  <a:pt x="532" y="641"/>
                </a:lnTo>
                <a:lnTo>
                  <a:pt x="530" y="640"/>
                </a:lnTo>
                <a:lnTo>
                  <a:pt x="528" y="638"/>
                </a:lnTo>
                <a:lnTo>
                  <a:pt x="530" y="636"/>
                </a:lnTo>
                <a:lnTo>
                  <a:pt x="532" y="635"/>
                </a:lnTo>
                <a:lnTo>
                  <a:pt x="533" y="634"/>
                </a:lnTo>
                <a:lnTo>
                  <a:pt x="538" y="633"/>
                </a:lnTo>
                <a:lnTo>
                  <a:pt x="553" y="629"/>
                </a:lnTo>
                <a:lnTo>
                  <a:pt x="616" y="623"/>
                </a:lnTo>
                <a:lnTo>
                  <a:pt x="641" y="621"/>
                </a:lnTo>
                <a:lnTo>
                  <a:pt x="634" y="628"/>
                </a:lnTo>
                <a:lnTo>
                  <a:pt x="626" y="636"/>
                </a:lnTo>
                <a:lnTo>
                  <a:pt x="630" y="632"/>
                </a:lnTo>
                <a:lnTo>
                  <a:pt x="640" y="622"/>
                </a:lnTo>
                <a:lnTo>
                  <a:pt x="641" y="621"/>
                </a:lnTo>
                <a:close/>
                <a:moveTo>
                  <a:pt x="447" y="607"/>
                </a:moveTo>
                <a:lnTo>
                  <a:pt x="446" y="612"/>
                </a:lnTo>
                <a:lnTo>
                  <a:pt x="444" y="616"/>
                </a:lnTo>
                <a:lnTo>
                  <a:pt x="442" y="621"/>
                </a:lnTo>
                <a:lnTo>
                  <a:pt x="434" y="632"/>
                </a:lnTo>
                <a:lnTo>
                  <a:pt x="418" y="649"/>
                </a:lnTo>
                <a:lnTo>
                  <a:pt x="414" y="654"/>
                </a:lnTo>
                <a:lnTo>
                  <a:pt x="423" y="659"/>
                </a:lnTo>
                <a:lnTo>
                  <a:pt x="431" y="663"/>
                </a:lnTo>
                <a:lnTo>
                  <a:pt x="435" y="668"/>
                </a:lnTo>
                <a:lnTo>
                  <a:pt x="437" y="673"/>
                </a:lnTo>
                <a:lnTo>
                  <a:pt x="437" y="678"/>
                </a:lnTo>
                <a:lnTo>
                  <a:pt x="438" y="683"/>
                </a:lnTo>
                <a:lnTo>
                  <a:pt x="438" y="693"/>
                </a:lnTo>
                <a:lnTo>
                  <a:pt x="441" y="696"/>
                </a:lnTo>
                <a:lnTo>
                  <a:pt x="445" y="699"/>
                </a:lnTo>
                <a:lnTo>
                  <a:pt x="452" y="701"/>
                </a:lnTo>
                <a:lnTo>
                  <a:pt x="463" y="701"/>
                </a:lnTo>
                <a:lnTo>
                  <a:pt x="463" y="695"/>
                </a:lnTo>
                <a:lnTo>
                  <a:pt x="464" y="691"/>
                </a:lnTo>
                <a:lnTo>
                  <a:pt x="467" y="688"/>
                </a:lnTo>
                <a:lnTo>
                  <a:pt x="471" y="686"/>
                </a:lnTo>
                <a:lnTo>
                  <a:pt x="475" y="686"/>
                </a:lnTo>
                <a:lnTo>
                  <a:pt x="480" y="684"/>
                </a:lnTo>
                <a:lnTo>
                  <a:pt x="492" y="684"/>
                </a:lnTo>
                <a:lnTo>
                  <a:pt x="507" y="679"/>
                </a:lnTo>
                <a:lnTo>
                  <a:pt x="523" y="668"/>
                </a:lnTo>
                <a:lnTo>
                  <a:pt x="517" y="667"/>
                </a:lnTo>
                <a:lnTo>
                  <a:pt x="508" y="663"/>
                </a:lnTo>
                <a:lnTo>
                  <a:pt x="498" y="658"/>
                </a:lnTo>
                <a:lnTo>
                  <a:pt x="478" y="643"/>
                </a:lnTo>
                <a:lnTo>
                  <a:pt x="446" y="613"/>
                </a:lnTo>
                <a:lnTo>
                  <a:pt x="447" y="607"/>
                </a:lnTo>
                <a:lnTo>
                  <a:pt x="447" y="611"/>
                </a:lnTo>
                <a:lnTo>
                  <a:pt x="447" y="614"/>
                </a:lnTo>
                <a:lnTo>
                  <a:pt x="447" y="612"/>
                </a:lnTo>
                <a:lnTo>
                  <a:pt x="447" y="608"/>
                </a:lnTo>
                <a:lnTo>
                  <a:pt x="447" y="607"/>
                </a:lnTo>
                <a:close/>
                <a:moveTo>
                  <a:pt x="313" y="585"/>
                </a:moveTo>
                <a:lnTo>
                  <a:pt x="327" y="589"/>
                </a:lnTo>
                <a:lnTo>
                  <a:pt x="370" y="599"/>
                </a:lnTo>
                <a:lnTo>
                  <a:pt x="402" y="606"/>
                </a:lnTo>
                <a:lnTo>
                  <a:pt x="404" y="606"/>
                </a:lnTo>
                <a:lnTo>
                  <a:pt x="403" y="598"/>
                </a:lnTo>
                <a:lnTo>
                  <a:pt x="402" y="572"/>
                </a:lnTo>
                <a:lnTo>
                  <a:pt x="397" y="510"/>
                </a:lnTo>
                <a:lnTo>
                  <a:pt x="384" y="458"/>
                </a:lnTo>
                <a:lnTo>
                  <a:pt x="379" y="451"/>
                </a:lnTo>
                <a:lnTo>
                  <a:pt x="369" y="451"/>
                </a:lnTo>
                <a:lnTo>
                  <a:pt x="357" y="455"/>
                </a:lnTo>
                <a:lnTo>
                  <a:pt x="345" y="461"/>
                </a:lnTo>
                <a:lnTo>
                  <a:pt x="333" y="472"/>
                </a:lnTo>
                <a:lnTo>
                  <a:pt x="313" y="497"/>
                </a:lnTo>
                <a:lnTo>
                  <a:pt x="299" y="528"/>
                </a:lnTo>
                <a:lnTo>
                  <a:pt x="298" y="558"/>
                </a:lnTo>
                <a:lnTo>
                  <a:pt x="313" y="585"/>
                </a:lnTo>
                <a:close/>
                <a:moveTo>
                  <a:pt x="272" y="644"/>
                </a:moveTo>
                <a:lnTo>
                  <a:pt x="268" y="645"/>
                </a:lnTo>
                <a:lnTo>
                  <a:pt x="241" y="645"/>
                </a:lnTo>
                <a:lnTo>
                  <a:pt x="149" y="645"/>
                </a:lnTo>
                <a:lnTo>
                  <a:pt x="79" y="645"/>
                </a:lnTo>
                <a:lnTo>
                  <a:pt x="76" y="645"/>
                </a:lnTo>
                <a:lnTo>
                  <a:pt x="75" y="636"/>
                </a:lnTo>
                <a:lnTo>
                  <a:pt x="74" y="617"/>
                </a:lnTo>
                <a:lnTo>
                  <a:pt x="68" y="584"/>
                </a:lnTo>
                <a:lnTo>
                  <a:pt x="65" y="551"/>
                </a:lnTo>
                <a:lnTo>
                  <a:pt x="65" y="543"/>
                </a:lnTo>
                <a:lnTo>
                  <a:pt x="50" y="529"/>
                </a:lnTo>
                <a:lnTo>
                  <a:pt x="38" y="509"/>
                </a:lnTo>
                <a:lnTo>
                  <a:pt x="29" y="484"/>
                </a:lnTo>
                <a:lnTo>
                  <a:pt x="17" y="425"/>
                </a:lnTo>
                <a:lnTo>
                  <a:pt x="7" y="295"/>
                </a:lnTo>
                <a:lnTo>
                  <a:pt x="0" y="218"/>
                </a:lnTo>
                <a:lnTo>
                  <a:pt x="27" y="228"/>
                </a:lnTo>
                <a:lnTo>
                  <a:pt x="75" y="238"/>
                </a:lnTo>
                <a:lnTo>
                  <a:pt x="116" y="239"/>
                </a:lnTo>
                <a:lnTo>
                  <a:pt x="151" y="232"/>
                </a:lnTo>
                <a:lnTo>
                  <a:pt x="181" y="218"/>
                </a:lnTo>
                <a:lnTo>
                  <a:pt x="209" y="199"/>
                </a:lnTo>
                <a:lnTo>
                  <a:pt x="222" y="186"/>
                </a:lnTo>
                <a:lnTo>
                  <a:pt x="221" y="185"/>
                </a:lnTo>
                <a:lnTo>
                  <a:pt x="220" y="184"/>
                </a:lnTo>
                <a:lnTo>
                  <a:pt x="217" y="182"/>
                </a:lnTo>
                <a:lnTo>
                  <a:pt x="210" y="177"/>
                </a:lnTo>
                <a:lnTo>
                  <a:pt x="187" y="166"/>
                </a:lnTo>
                <a:lnTo>
                  <a:pt x="157" y="157"/>
                </a:lnTo>
                <a:lnTo>
                  <a:pt x="122" y="154"/>
                </a:lnTo>
                <a:lnTo>
                  <a:pt x="83" y="161"/>
                </a:lnTo>
                <a:lnTo>
                  <a:pt x="57" y="175"/>
                </a:lnTo>
                <a:lnTo>
                  <a:pt x="42" y="184"/>
                </a:lnTo>
                <a:lnTo>
                  <a:pt x="36" y="186"/>
                </a:lnTo>
                <a:lnTo>
                  <a:pt x="35" y="186"/>
                </a:lnTo>
                <a:lnTo>
                  <a:pt x="33" y="186"/>
                </a:lnTo>
                <a:lnTo>
                  <a:pt x="32" y="186"/>
                </a:lnTo>
                <a:lnTo>
                  <a:pt x="31" y="184"/>
                </a:lnTo>
                <a:lnTo>
                  <a:pt x="31" y="183"/>
                </a:lnTo>
                <a:lnTo>
                  <a:pt x="31" y="181"/>
                </a:lnTo>
                <a:lnTo>
                  <a:pt x="32" y="177"/>
                </a:lnTo>
                <a:lnTo>
                  <a:pt x="34" y="172"/>
                </a:lnTo>
                <a:lnTo>
                  <a:pt x="41" y="161"/>
                </a:lnTo>
                <a:lnTo>
                  <a:pt x="58" y="131"/>
                </a:lnTo>
                <a:lnTo>
                  <a:pt x="76" y="103"/>
                </a:lnTo>
                <a:lnTo>
                  <a:pt x="86" y="83"/>
                </a:lnTo>
                <a:lnTo>
                  <a:pt x="86" y="80"/>
                </a:lnTo>
                <a:lnTo>
                  <a:pt x="91" y="80"/>
                </a:lnTo>
                <a:lnTo>
                  <a:pt x="112" y="80"/>
                </a:lnTo>
                <a:lnTo>
                  <a:pt x="177" y="78"/>
                </a:lnTo>
                <a:lnTo>
                  <a:pt x="236" y="77"/>
                </a:lnTo>
                <a:lnTo>
                  <a:pt x="246" y="76"/>
                </a:lnTo>
                <a:lnTo>
                  <a:pt x="246" y="66"/>
                </a:lnTo>
                <a:lnTo>
                  <a:pt x="252" y="48"/>
                </a:lnTo>
                <a:lnTo>
                  <a:pt x="260" y="33"/>
                </a:lnTo>
                <a:lnTo>
                  <a:pt x="273" y="21"/>
                </a:lnTo>
                <a:lnTo>
                  <a:pt x="287" y="12"/>
                </a:lnTo>
                <a:lnTo>
                  <a:pt x="303" y="4"/>
                </a:lnTo>
                <a:lnTo>
                  <a:pt x="312" y="0"/>
                </a:lnTo>
                <a:lnTo>
                  <a:pt x="314" y="13"/>
                </a:lnTo>
                <a:lnTo>
                  <a:pt x="316" y="28"/>
                </a:lnTo>
                <a:lnTo>
                  <a:pt x="314" y="63"/>
                </a:lnTo>
                <a:lnTo>
                  <a:pt x="298" y="139"/>
                </a:lnTo>
                <a:lnTo>
                  <a:pt x="280" y="202"/>
                </a:lnTo>
                <a:lnTo>
                  <a:pt x="285" y="210"/>
                </a:lnTo>
                <a:lnTo>
                  <a:pt x="294" y="215"/>
                </a:lnTo>
                <a:lnTo>
                  <a:pt x="304" y="220"/>
                </a:lnTo>
                <a:lnTo>
                  <a:pt x="331" y="227"/>
                </a:lnTo>
                <a:lnTo>
                  <a:pt x="386" y="241"/>
                </a:lnTo>
                <a:lnTo>
                  <a:pt x="413" y="259"/>
                </a:lnTo>
                <a:lnTo>
                  <a:pt x="407" y="260"/>
                </a:lnTo>
                <a:lnTo>
                  <a:pt x="400" y="263"/>
                </a:lnTo>
                <a:lnTo>
                  <a:pt x="382" y="272"/>
                </a:lnTo>
                <a:lnTo>
                  <a:pt x="341" y="297"/>
                </a:lnTo>
                <a:lnTo>
                  <a:pt x="312" y="310"/>
                </a:lnTo>
                <a:lnTo>
                  <a:pt x="312" y="323"/>
                </a:lnTo>
                <a:lnTo>
                  <a:pt x="309" y="340"/>
                </a:lnTo>
                <a:lnTo>
                  <a:pt x="294" y="386"/>
                </a:lnTo>
                <a:lnTo>
                  <a:pt x="242" y="495"/>
                </a:lnTo>
                <a:lnTo>
                  <a:pt x="181" y="573"/>
                </a:lnTo>
                <a:lnTo>
                  <a:pt x="168" y="584"/>
                </a:lnTo>
                <a:lnTo>
                  <a:pt x="155" y="592"/>
                </a:lnTo>
                <a:lnTo>
                  <a:pt x="154" y="593"/>
                </a:lnTo>
                <a:lnTo>
                  <a:pt x="155" y="593"/>
                </a:lnTo>
                <a:lnTo>
                  <a:pt x="160" y="591"/>
                </a:lnTo>
                <a:lnTo>
                  <a:pt x="169" y="590"/>
                </a:lnTo>
                <a:lnTo>
                  <a:pt x="173" y="591"/>
                </a:lnTo>
                <a:lnTo>
                  <a:pt x="176" y="593"/>
                </a:lnTo>
                <a:lnTo>
                  <a:pt x="177" y="595"/>
                </a:lnTo>
                <a:lnTo>
                  <a:pt x="178" y="598"/>
                </a:lnTo>
                <a:lnTo>
                  <a:pt x="179" y="601"/>
                </a:lnTo>
                <a:lnTo>
                  <a:pt x="180" y="605"/>
                </a:lnTo>
                <a:lnTo>
                  <a:pt x="184" y="606"/>
                </a:lnTo>
                <a:lnTo>
                  <a:pt x="195" y="607"/>
                </a:lnTo>
                <a:lnTo>
                  <a:pt x="223" y="616"/>
                </a:lnTo>
                <a:lnTo>
                  <a:pt x="260" y="637"/>
                </a:lnTo>
                <a:lnTo>
                  <a:pt x="272" y="644"/>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101"/>
          <p:cNvSpPr/>
          <p:nvPr/>
        </p:nvSpPr>
        <p:spPr>
          <a:xfrm>
            <a:off x="3587760" y="3179880"/>
            <a:ext cx="76320" cy="48960"/>
          </a:xfrm>
          <a:custGeom>
            <a:avLst/>
            <a:gdLst>
              <a:gd name="textAreaLeft" fmla="*/ 0 w 76320"/>
              <a:gd name="textAreaRight" fmla="*/ 76680 w 76320"/>
              <a:gd name="textAreaTop" fmla="*/ 0 h 48960"/>
              <a:gd name="textAreaBottom" fmla="*/ 49320 h 48960"/>
            </a:gdLst>
            <a:ahLst/>
            <a:rect l="textAreaLeft" t="textAreaTop" r="textAreaRight" b="textAreaBottom"/>
            <a:pathLst>
              <a:path w="97" h="60">
                <a:moveTo>
                  <a:pt x="54" y="39"/>
                </a:moveTo>
                <a:lnTo>
                  <a:pt x="73" y="43"/>
                </a:lnTo>
                <a:lnTo>
                  <a:pt x="87" y="42"/>
                </a:lnTo>
                <a:lnTo>
                  <a:pt x="91" y="40"/>
                </a:lnTo>
                <a:lnTo>
                  <a:pt x="94" y="38"/>
                </a:lnTo>
                <a:lnTo>
                  <a:pt x="97" y="35"/>
                </a:lnTo>
                <a:lnTo>
                  <a:pt x="97" y="32"/>
                </a:lnTo>
                <a:lnTo>
                  <a:pt x="97" y="27"/>
                </a:lnTo>
                <a:lnTo>
                  <a:pt x="94" y="23"/>
                </a:lnTo>
                <a:lnTo>
                  <a:pt x="92" y="19"/>
                </a:lnTo>
                <a:lnTo>
                  <a:pt x="85" y="12"/>
                </a:lnTo>
                <a:lnTo>
                  <a:pt x="75" y="5"/>
                </a:lnTo>
                <a:lnTo>
                  <a:pt x="64" y="1"/>
                </a:lnTo>
                <a:lnTo>
                  <a:pt x="52" y="0"/>
                </a:lnTo>
                <a:lnTo>
                  <a:pt x="40" y="2"/>
                </a:lnTo>
                <a:lnTo>
                  <a:pt x="28" y="10"/>
                </a:lnTo>
                <a:lnTo>
                  <a:pt x="23" y="15"/>
                </a:lnTo>
                <a:lnTo>
                  <a:pt x="12" y="29"/>
                </a:lnTo>
                <a:lnTo>
                  <a:pt x="1" y="48"/>
                </a:lnTo>
                <a:lnTo>
                  <a:pt x="0" y="54"/>
                </a:lnTo>
                <a:lnTo>
                  <a:pt x="0" y="56"/>
                </a:lnTo>
                <a:lnTo>
                  <a:pt x="1" y="57"/>
                </a:lnTo>
                <a:lnTo>
                  <a:pt x="3" y="59"/>
                </a:lnTo>
                <a:lnTo>
                  <a:pt x="5" y="60"/>
                </a:lnTo>
                <a:lnTo>
                  <a:pt x="7" y="60"/>
                </a:lnTo>
                <a:lnTo>
                  <a:pt x="10" y="60"/>
                </a:lnTo>
                <a:lnTo>
                  <a:pt x="16" y="58"/>
                </a:lnTo>
                <a:lnTo>
                  <a:pt x="24" y="56"/>
                </a:lnTo>
                <a:lnTo>
                  <a:pt x="43" y="46"/>
                </a:lnTo>
                <a:lnTo>
                  <a:pt x="54" y="39"/>
                </a:lnTo>
                <a:lnTo>
                  <a:pt x="73" y="44"/>
                </a:lnTo>
                <a:lnTo>
                  <a:pt x="93" y="49"/>
                </a:lnTo>
                <a:lnTo>
                  <a:pt x="83" y="46"/>
                </a:lnTo>
                <a:lnTo>
                  <a:pt x="55" y="40"/>
                </a:lnTo>
                <a:lnTo>
                  <a:pt x="54" y="39"/>
                </a:lnTo>
              </a:path>
            </a:pathLst>
          </a:custGeom>
          <a:blipFill rotWithShape="0">
            <a:blip r:embed="rId8"/>
            <a:srcRect/>
            <a:tile tx="0" ty="0" sx="100000" sy="100000" algn="ctr"/>
          </a:blipFill>
          <a:ln w="6480">
            <a:solidFill>
              <a:srgbClr val="1f1a17"/>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3" name="Freeform 102"/>
          <p:cNvSpPr/>
          <p:nvPr/>
        </p:nvSpPr>
        <p:spPr>
          <a:xfrm>
            <a:off x="3174840" y="2984400"/>
            <a:ext cx="157320" cy="217440"/>
          </a:xfrm>
          <a:custGeom>
            <a:avLst/>
            <a:gdLst>
              <a:gd name="textAreaLeft" fmla="*/ 0 w 157320"/>
              <a:gd name="textAreaRight" fmla="*/ 157320 w 157320"/>
              <a:gd name="textAreaTop" fmla="*/ 0 h 217440"/>
              <a:gd name="textAreaBottom" fmla="*/ 217800 h 217440"/>
            </a:gdLst>
            <a:ahLst/>
            <a:rect l="textAreaLeft" t="textAreaTop" r="textAreaRight" b="textAreaBottom"/>
            <a:pathLst>
              <a:path w="197" h="274">
                <a:moveTo>
                  <a:pt x="1" y="250"/>
                </a:moveTo>
                <a:lnTo>
                  <a:pt x="0" y="210"/>
                </a:lnTo>
                <a:lnTo>
                  <a:pt x="0" y="155"/>
                </a:lnTo>
                <a:lnTo>
                  <a:pt x="4" y="128"/>
                </a:lnTo>
                <a:lnTo>
                  <a:pt x="9" y="121"/>
                </a:lnTo>
                <a:lnTo>
                  <a:pt x="15" y="117"/>
                </a:lnTo>
                <a:lnTo>
                  <a:pt x="24" y="114"/>
                </a:lnTo>
                <a:lnTo>
                  <a:pt x="34" y="111"/>
                </a:lnTo>
                <a:lnTo>
                  <a:pt x="64" y="103"/>
                </a:lnTo>
                <a:lnTo>
                  <a:pt x="86" y="94"/>
                </a:lnTo>
                <a:lnTo>
                  <a:pt x="87" y="94"/>
                </a:lnTo>
                <a:lnTo>
                  <a:pt x="89" y="92"/>
                </a:lnTo>
                <a:lnTo>
                  <a:pt x="91" y="89"/>
                </a:lnTo>
                <a:lnTo>
                  <a:pt x="93" y="86"/>
                </a:lnTo>
                <a:lnTo>
                  <a:pt x="98" y="76"/>
                </a:lnTo>
                <a:lnTo>
                  <a:pt x="108" y="51"/>
                </a:lnTo>
                <a:lnTo>
                  <a:pt x="122" y="26"/>
                </a:lnTo>
                <a:lnTo>
                  <a:pt x="140" y="7"/>
                </a:lnTo>
                <a:lnTo>
                  <a:pt x="152" y="1"/>
                </a:lnTo>
                <a:lnTo>
                  <a:pt x="166" y="0"/>
                </a:lnTo>
                <a:lnTo>
                  <a:pt x="182" y="6"/>
                </a:lnTo>
                <a:lnTo>
                  <a:pt x="176" y="12"/>
                </a:lnTo>
                <a:lnTo>
                  <a:pt x="172" y="22"/>
                </a:lnTo>
                <a:lnTo>
                  <a:pt x="169" y="33"/>
                </a:lnTo>
                <a:lnTo>
                  <a:pt x="166" y="64"/>
                </a:lnTo>
                <a:lnTo>
                  <a:pt x="161" y="130"/>
                </a:lnTo>
                <a:lnTo>
                  <a:pt x="146" y="165"/>
                </a:lnTo>
                <a:lnTo>
                  <a:pt x="146" y="174"/>
                </a:lnTo>
                <a:lnTo>
                  <a:pt x="149" y="181"/>
                </a:lnTo>
                <a:lnTo>
                  <a:pt x="153" y="187"/>
                </a:lnTo>
                <a:lnTo>
                  <a:pt x="165" y="199"/>
                </a:lnTo>
                <a:lnTo>
                  <a:pt x="177" y="211"/>
                </a:lnTo>
                <a:lnTo>
                  <a:pt x="189" y="224"/>
                </a:lnTo>
                <a:lnTo>
                  <a:pt x="196" y="237"/>
                </a:lnTo>
                <a:lnTo>
                  <a:pt x="197" y="244"/>
                </a:lnTo>
                <a:lnTo>
                  <a:pt x="170" y="258"/>
                </a:lnTo>
                <a:lnTo>
                  <a:pt x="142" y="272"/>
                </a:lnTo>
                <a:lnTo>
                  <a:pt x="134" y="274"/>
                </a:lnTo>
                <a:lnTo>
                  <a:pt x="129" y="274"/>
                </a:lnTo>
                <a:lnTo>
                  <a:pt x="124" y="271"/>
                </a:lnTo>
                <a:lnTo>
                  <a:pt x="118" y="268"/>
                </a:lnTo>
                <a:lnTo>
                  <a:pt x="94" y="259"/>
                </a:lnTo>
                <a:lnTo>
                  <a:pt x="42" y="252"/>
                </a:lnTo>
                <a:lnTo>
                  <a:pt x="1" y="250"/>
                </a:lnTo>
                <a:lnTo>
                  <a:pt x="0" y="212"/>
                </a:lnTo>
                <a:lnTo>
                  <a:pt x="0" y="174"/>
                </a:lnTo>
                <a:lnTo>
                  <a:pt x="0" y="195"/>
                </a:lnTo>
                <a:lnTo>
                  <a:pt x="0" y="247"/>
                </a:lnTo>
                <a:lnTo>
                  <a:pt x="1" y="250"/>
                </a:lnTo>
              </a:path>
            </a:pathLst>
          </a:custGeom>
          <a:solidFill>
            <a:srgbClr val="cc0000"/>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03"/>
          <p:cNvSpPr/>
          <p:nvPr/>
        </p:nvSpPr>
        <p:spPr>
          <a:xfrm>
            <a:off x="3227400" y="3238560"/>
            <a:ext cx="90360" cy="73080"/>
          </a:xfrm>
          <a:custGeom>
            <a:avLst/>
            <a:gdLst>
              <a:gd name="textAreaLeft" fmla="*/ 0 w 90360"/>
              <a:gd name="textAreaRight" fmla="*/ 90720 w 90360"/>
              <a:gd name="textAreaTop" fmla="*/ 0 h 73080"/>
              <a:gd name="textAreaBottom" fmla="*/ 73440 h 73080"/>
            </a:gdLst>
            <a:ahLst/>
            <a:rect l="textAreaLeft" t="textAreaTop" r="textAreaRight" b="textAreaBottom"/>
            <a:pathLst>
              <a:path w="113" h="92">
                <a:moveTo>
                  <a:pt x="113" y="0"/>
                </a:moveTo>
                <a:lnTo>
                  <a:pt x="104" y="8"/>
                </a:lnTo>
                <a:lnTo>
                  <a:pt x="92" y="24"/>
                </a:lnTo>
                <a:lnTo>
                  <a:pt x="77" y="54"/>
                </a:lnTo>
                <a:lnTo>
                  <a:pt x="72" y="85"/>
                </a:lnTo>
                <a:lnTo>
                  <a:pt x="72" y="92"/>
                </a:lnTo>
                <a:lnTo>
                  <a:pt x="62" y="92"/>
                </a:lnTo>
                <a:lnTo>
                  <a:pt x="56" y="90"/>
                </a:lnTo>
                <a:lnTo>
                  <a:pt x="54" y="86"/>
                </a:lnTo>
                <a:lnTo>
                  <a:pt x="54" y="82"/>
                </a:lnTo>
                <a:lnTo>
                  <a:pt x="56" y="77"/>
                </a:lnTo>
                <a:lnTo>
                  <a:pt x="59" y="72"/>
                </a:lnTo>
                <a:lnTo>
                  <a:pt x="64" y="60"/>
                </a:lnTo>
                <a:lnTo>
                  <a:pt x="64" y="54"/>
                </a:lnTo>
                <a:lnTo>
                  <a:pt x="62" y="49"/>
                </a:lnTo>
                <a:lnTo>
                  <a:pt x="56" y="44"/>
                </a:lnTo>
                <a:lnTo>
                  <a:pt x="47" y="39"/>
                </a:lnTo>
                <a:lnTo>
                  <a:pt x="45" y="38"/>
                </a:lnTo>
                <a:lnTo>
                  <a:pt x="44" y="37"/>
                </a:lnTo>
                <a:lnTo>
                  <a:pt x="41" y="35"/>
                </a:lnTo>
                <a:lnTo>
                  <a:pt x="38" y="33"/>
                </a:lnTo>
                <a:lnTo>
                  <a:pt x="28" y="30"/>
                </a:lnTo>
                <a:lnTo>
                  <a:pt x="10" y="23"/>
                </a:lnTo>
                <a:lnTo>
                  <a:pt x="4" y="20"/>
                </a:lnTo>
                <a:lnTo>
                  <a:pt x="2" y="19"/>
                </a:lnTo>
                <a:lnTo>
                  <a:pt x="0" y="17"/>
                </a:lnTo>
                <a:lnTo>
                  <a:pt x="2" y="15"/>
                </a:lnTo>
                <a:lnTo>
                  <a:pt x="4" y="14"/>
                </a:lnTo>
                <a:lnTo>
                  <a:pt x="5" y="13"/>
                </a:lnTo>
                <a:lnTo>
                  <a:pt x="10" y="12"/>
                </a:lnTo>
                <a:lnTo>
                  <a:pt x="25" y="8"/>
                </a:lnTo>
                <a:lnTo>
                  <a:pt x="88" y="2"/>
                </a:lnTo>
                <a:lnTo>
                  <a:pt x="113" y="0"/>
                </a:lnTo>
                <a:lnTo>
                  <a:pt x="106" y="7"/>
                </a:lnTo>
                <a:lnTo>
                  <a:pt x="98" y="15"/>
                </a:lnTo>
                <a:lnTo>
                  <a:pt x="102" y="11"/>
                </a:lnTo>
                <a:lnTo>
                  <a:pt x="112" y="1"/>
                </a:lnTo>
                <a:lnTo>
                  <a:pt x="113" y="0"/>
                </a:lnTo>
              </a:path>
            </a:pathLst>
          </a:custGeom>
          <a:solidFill>
            <a:srgbClr val="c0c0c0"/>
          </a:solidFill>
          <a:ln w="6480">
            <a:solidFill>
              <a:srgbClr val="1f1a17"/>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65" name="Freeform 104"/>
          <p:cNvSpPr/>
          <p:nvPr/>
        </p:nvSpPr>
        <p:spPr>
          <a:xfrm>
            <a:off x="3137040" y="3227400"/>
            <a:ext cx="87120" cy="74520"/>
          </a:xfrm>
          <a:custGeom>
            <a:avLst/>
            <a:gdLst>
              <a:gd name="textAreaLeft" fmla="*/ 0 w 87120"/>
              <a:gd name="textAreaRight" fmla="*/ 87480 w 87120"/>
              <a:gd name="textAreaTop" fmla="*/ 0 h 74520"/>
              <a:gd name="textAreaBottom" fmla="*/ 74880 h 74520"/>
            </a:gdLst>
            <a:ahLst/>
            <a:rect l="textAreaLeft" t="textAreaTop" r="textAreaRight" b="textAreaBottom"/>
            <a:pathLst>
              <a:path w="109" h="94">
                <a:moveTo>
                  <a:pt x="33" y="0"/>
                </a:moveTo>
                <a:lnTo>
                  <a:pt x="32" y="5"/>
                </a:lnTo>
                <a:lnTo>
                  <a:pt x="30" y="9"/>
                </a:lnTo>
                <a:lnTo>
                  <a:pt x="28" y="14"/>
                </a:lnTo>
                <a:lnTo>
                  <a:pt x="20" y="25"/>
                </a:lnTo>
                <a:lnTo>
                  <a:pt x="4" y="42"/>
                </a:lnTo>
                <a:lnTo>
                  <a:pt x="0" y="47"/>
                </a:lnTo>
                <a:lnTo>
                  <a:pt x="9" y="52"/>
                </a:lnTo>
                <a:lnTo>
                  <a:pt x="17" y="56"/>
                </a:lnTo>
                <a:lnTo>
                  <a:pt x="21" y="61"/>
                </a:lnTo>
                <a:lnTo>
                  <a:pt x="23" y="66"/>
                </a:lnTo>
                <a:lnTo>
                  <a:pt x="23" y="71"/>
                </a:lnTo>
                <a:lnTo>
                  <a:pt x="24" y="76"/>
                </a:lnTo>
                <a:lnTo>
                  <a:pt x="24" y="86"/>
                </a:lnTo>
                <a:lnTo>
                  <a:pt x="27" y="89"/>
                </a:lnTo>
                <a:lnTo>
                  <a:pt x="31" y="92"/>
                </a:lnTo>
                <a:lnTo>
                  <a:pt x="38" y="94"/>
                </a:lnTo>
                <a:lnTo>
                  <a:pt x="49" y="94"/>
                </a:lnTo>
                <a:lnTo>
                  <a:pt x="49" y="88"/>
                </a:lnTo>
                <a:lnTo>
                  <a:pt x="50" y="84"/>
                </a:lnTo>
                <a:lnTo>
                  <a:pt x="53" y="81"/>
                </a:lnTo>
                <a:lnTo>
                  <a:pt x="57" y="79"/>
                </a:lnTo>
                <a:lnTo>
                  <a:pt x="61" y="79"/>
                </a:lnTo>
                <a:lnTo>
                  <a:pt x="66" y="77"/>
                </a:lnTo>
                <a:lnTo>
                  <a:pt x="78" y="77"/>
                </a:lnTo>
                <a:lnTo>
                  <a:pt x="93" y="72"/>
                </a:lnTo>
                <a:lnTo>
                  <a:pt x="109" y="61"/>
                </a:lnTo>
                <a:lnTo>
                  <a:pt x="103" y="60"/>
                </a:lnTo>
                <a:lnTo>
                  <a:pt x="94" y="56"/>
                </a:lnTo>
                <a:lnTo>
                  <a:pt x="84" y="51"/>
                </a:lnTo>
                <a:lnTo>
                  <a:pt x="64" y="36"/>
                </a:lnTo>
                <a:lnTo>
                  <a:pt x="32" y="6"/>
                </a:lnTo>
                <a:lnTo>
                  <a:pt x="33" y="0"/>
                </a:lnTo>
                <a:lnTo>
                  <a:pt x="33" y="4"/>
                </a:lnTo>
                <a:lnTo>
                  <a:pt x="33" y="7"/>
                </a:lnTo>
                <a:lnTo>
                  <a:pt x="33" y="5"/>
                </a:lnTo>
                <a:lnTo>
                  <a:pt x="33" y="1"/>
                </a:lnTo>
                <a:lnTo>
                  <a:pt x="33" y="0"/>
                </a:lnTo>
              </a:path>
            </a:pathLst>
          </a:custGeom>
          <a:blipFill rotWithShape="0">
            <a:blip r:embed="rId9"/>
            <a:srcRect/>
            <a:tile tx="0" ty="0" sx="100000" sy="100000" algn="ctr"/>
          </a:blipFill>
          <a:ln w="6480">
            <a:solidFill>
              <a:srgbClr val="1f1a17"/>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6" name="Freeform 105"/>
          <p:cNvSpPr/>
          <p:nvPr/>
        </p:nvSpPr>
        <p:spPr>
          <a:xfrm>
            <a:off x="3044880" y="3103560"/>
            <a:ext cx="84240" cy="123840"/>
          </a:xfrm>
          <a:custGeom>
            <a:avLst/>
            <a:gdLst/>
            <a:ahLst/>
            <a:rect l="l" t="t" r="r" b="b"/>
            <a:pathLst>
              <a:path w="106" h="155">
                <a:moveTo>
                  <a:pt x="15" y="134"/>
                </a:moveTo>
                <a:lnTo>
                  <a:pt x="29" y="138"/>
                </a:lnTo>
                <a:lnTo>
                  <a:pt x="72" y="148"/>
                </a:lnTo>
                <a:lnTo>
                  <a:pt x="104" y="155"/>
                </a:lnTo>
                <a:lnTo>
                  <a:pt x="106" y="155"/>
                </a:lnTo>
                <a:lnTo>
                  <a:pt x="105" y="147"/>
                </a:lnTo>
                <a:lnTo>
                  <a:pt x="104" y="121"/>
                </a:lnTo>
                <a:lnTo>
                  <a:pt x="99" y="59"/>
                </a:lnTo>
                <a:lnTo>
                  <a:pt x="86" y="7"/>
                </a:lnTo>
                <a:lnTo>
                  <a:pt x="81" y="0"/>
                </a:lnTo>
                <a:lnTo>
                  <a:pt x="71" y="0"/>
                </a:lnTo>
                <a:lnTo>
                  <a:pt x="59" y="4"/>
                </a:lnTo>
                <a:lnTo>
                  <a:pt x="47" y="10"/>
                </a:lnTo>
                <a:lnTo>
                  <a:pt x="35" y="21"/>
                </a:lnTo>
                <a:lnTo>
                  <a:pt x="15" y="46"/>
                </a:lnTo>
                <a:lnTo>
                  <a:pt x="1" y="77"/>
                </a:lnTo>
                <a:lnTo>
                  <a:pt x="0" y="107"/>
                </a:lnTo>
                <a:lnTo>
                  <a:pt x="15" y="134"/>
                </a:lnTo>
              </a:path>
            </a:pathLst>
          </a:custGeom>
          <a:solidFill>
            <a:srgbClr val="cc0000"/>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06"/>
          <p:cNvSpPr/>
          <p:nvPr/>
        </p:nvSpPr>
        <p:spPr>
          <a:xfrm>
            <a:off x="2808360" y="2744640"/>
            <a:ext cx="326880" cy="513000"/>
          </a:xfrm>
          <a:custGeom>
            <a:avLst/>
            <a:gdLst>
              <a:gd name="textAreaLeft" fmla="*/ 0 w 326880"/>
              <a:gd name="textAreaRight" fmla="*/ 327240 w 326880"/>
              <a:gd name="textAreaTop" fmla="*/ 0 h 513000"/>
              <a:gd name="textAreaBottom" fmla="*/ 513360 h 513000"/>
            </a:gdLst>
            <a:ahLst/>
            <a:rect l="textAreaLeft" t="textAreaTop" r="textAreaRight" b="textAreaBottom"/>
            <a:pathLst>
              <a:path w="413" h="645">
                <a:moveTo>
                  <a:pt x="272" y="644"/>
                </a:moveTo>
                <a:lnTo>
                  <a:pt x="268" y="645"/>
                </a:lnTo>
                <a:lnTo>
                  <a:pt x="241" y="645"/>
                </a:lnTo>
                <a:lnTo>
                  <a:pt x="149" y="645"/>
                </a:lnTo>
                <a:lnTo>
                  <a:pt x="79" y="645"/>
                </a:lnTo>
                <a:lnTo>
                  <a:pt x="76" y="645"/>
                </a:lnTo>
                <a:lnTo>
                  <a:pt x="75" y="636"/>
                </a:lnTo>
                <a:lnTo>
                  <a:pt x="74" y="617"/>
                </a:lnTo>
                <a:lnTo>
                  <a:pt x="68" y="584"/>
                </a:lnTo>
                <a:lnTo>
                  <a:pt x="65" y="551"/>
                </a:lnTo>
                <a:lnTo>
                  <a:pt x="65" y="543"/>
                </a:lnTo>
                <a:lnTo>
                  <a:pt x="50" y="529"/>
                </a:lnTo>
                <a:lnTo>
                  <a:pt x="38" y="509"/>
                </a:lnTo>
                <a:lnTo>
                  <a:pt x="29" y="484"/>
                </a:lnTo>
                <a:lnTo>
                  <a:pt x="17" y="425"/>
                </a:lnTo>
                <a:lnTo>
                  <a:pt x="7" y="295"/>
                </a:lnTo>
                <a:lnTo>
                  <a:pt x="0" y="218"/>
                </a:lnTo>
                <a:lnTo>
                  <a:pt x="27" y="228"/>
                </a:lnTo>
                <a:lnTo>
                  <a:pt x="75" y="238"/>
                </a:lnTo>
                <a:lnTo>
                  <a:pt x="116" y="239"/>
                </a:lnTo>
                <a:lnTo>
                  <a:pt x="151" y="232"/>
                </a:lnTo>
                <a:lnTo>
                  <a:pt x="181" y="218"/>
                </a:lnTo>
                <a:lnTo>
                  <a:pt x="209" y="199"/>
                </a:lnTo>
                <a:lnTo>
                  <a:pt x="222" y="186"/>
                </a:lnTo>
                <a:lnTo>
                  <a:pt x="221" y="185"/>
                </a:lnTo>
                <a:lnTo>
                  <a:pt x="220" y="184"/>
                </a:lnTo>
                <a:lnTo>
                  <a:pt x="217" y="182"/>
                </a:lnTo>
                <a:lnTo>
                  <a:pt x="210" y="177"/>
                </a:lnTo>
                <a:lnTo>
                  <a:pt x="187" y="166"/>
                </a:lnTo>
                <a:lnTo>
                  <a:pt x="157" y="157"/>
                </a:lnTo>
                <a:lnTo>
                  <a:pt x="122" y="154"/>
                </a:lnTo>
                <a:lnTo>
                  <a:pt x="83" y="161"/>
                </a:lnTo>
                <a:lnTo>
                  <a:pt x="57" y="175"/>
                </a:lnTo>
                <a:lnTo>
                  <a:pt x="42" y="184"/>
                </a:lnTo>
                <a:lnTo>
                  <a:pt x="36" y="186"/>
                </a:lnTo>
                <a:lnTo>
                  <a:pt x="35" y="186"/>
                </a:lnTo>
                <a:lnTo>
                  <a:pt x="33" y="186"/>
                </a:lnTo>
                <a:lnTo>
                  <a:pt x="32" y="186"/>
                </a:lnTo>
                <a:lnTo>
                  <a:pt x="31" y="184"/>
                </a:lnTo>
                <a:lnTo>
                  <a:pt x="31" y="183"/>
                </a:lnTo>
                <a:lnTo>
                  <a:pt x="31" y="181"/>
                </a:lnTo>
                <a:lnTo>
                  <a:pt x="32" y="177"/>
                </a:lnTo>
                <a:lnTo>
                  <a:pt x="34" y="172"/>
                </a:lnTo>
                <a:lnTo>
                  <a:pt x="41" y="161"/>
                </a:lnTo>
                <a:lnTo>
                  <a:pt x="58" y="131"/>
                </a:lnTo>
                <a:lnTo>
                  <a:pt x="76" y="103"/>
                </a:lnTo>
                <a:lnTo>
                  <a:pt x="86" y="83"/>
                </a:lnTo>
                <a:lnTo>
                  <a:pt x="86" y="80"/>
                </a:lnTo>
                <a:lnTo>
                  <a:pt x="91" y="80"/>
                </a:lnTo>
                <a:lnTo>
                  <a:pt x="112" y="80"/>
                </a:lnTo>
                <a:lnTo>
                  <a:pt x="177" y="78"/>
                </a:lnTo>
                <a:lnTo>
                  <a:pt x="236" y="77"/>
                </a:lnTo>
                <a:lnTo>
                  <a:pt x="246" y="76"/>
                </a:lnTo>
                <a:lnTo>
                  <a:pt x="246" y="66"/>
                </a:lnTo>
                <a:lnTo>
                  <a:pt x="252" y="48"/>
                </a:lnTo>
                <a:lnTo>
                  <a:pt x="260" y="33"/>
                </a:lnTo>
                <a:lnTo>
                  <a:pt x="273" y="21"/>
                </a:lnTo>
                <a:lnTo>
                  <a:pt x="287" y="12"/>
                </a:lnTo>
                <a:lnTo>
                  <a:pt x="303" y="4"/>
                </a:lnTo>
                <a:lnTo>
                  <a:pt x="312" y="0"/>
                </a:lnTo>
                <a:lnTo>
                  <a:pt x="314" y="13"/>
                </a:lnTo>
                <a:lnTo>
                  <a:pt x="316" y="28"/>
                </a:lnTo>
                <a:lnTo>
                  <a:pt x="314" y="63"/>
                </a:lnTo>
                <a:lnTo>
                  <a:pt x="298" y="139"/>
                </a:lnTo>
                <a:lnTo>
                  <a:pt x="280" y="202"/>
                </a:lnTo>
                <a:lnTo>
                  <a:pt x="285" y="210"/>
                </a:lnTo>
                <a:lnTo>
                  <a:pt x="294" y="215"/>
                </a:lnTo>
                <a:lnTo>
                  <a:pt x="304" y="220"/>
                </a:lnTo>
                <a:lnTo>
                  <a:pt x="331" y="227"/>
                </a:lnTo>
                <a:lnTo>
                  <a:pt x="386" y="241"/>
                </a:lnTo>
                <a:lnTo>
                  <a:pt x="413" y="259"/>
                </a:lnTo>
                <a:lnTo>
                  <a:pt x="407" y="260"/>
                </a:lnTo>
                <a:lnTo>
                  <a:pt x="400" y="263"/>
                </a:lnTo>
                <a:lnTo>
                  <a:pt x="382" y="272"/>
                </a:lnTo>
                <a:lnTo>
                  <a:pt x="341" y="297"/>
                </a:lnTo>
                <a:lnTo>
                  <a:pt x="312" y="310"/>
                </a:lnTo>
                <a:lnTo>
                  <a:pt x="312" y="323"/>
                </a:lnTo>
                <a:lnTo>
                  <a:pt x="309" y="340"/>
                </a:lnTo>
                <a:lnTo>
                  <a:pt x="294" y="386"/>
                </a:lnTo>
                <a:lnTo>
                  <a:pt x="242" y="495"/>
                </a:lnTo>
                <a:lnTo>
                  <a:pt x="181" y="573"/>
                </a:lnTo>
                <a:lnTo>
                  <a:pt x="168" y="584"/>
                </a:lnTo>
                <a:lnTo>
                  <a:pt x="155" y="592"/>
                </a:lnTo>
                <a:lnTo>
                  <a:pt x="154" y="593"/>
                </a:lnTo>
                <a:lnTo>
                  <a:pt x="155" y="593"/>
                </a:lnTo>
                <a:lnTo>
                  <a:pt x="160" y="591"/>
                </a:lnTo>
                <a:lnTo>
                  <a:pt x="169" y="590"/>
                </a:lnTo>
                <a:lnTo>
                  <a:pt x="173" y="591"/>
                </a:lnTo>
                <a:lnTo>
                  <a:pt x="176" y="593"/>
                </a:lnTo>
                <a:lnTo>
                  <a:pt x="177" y="595"/>
                </a:lnTo>
                <a:lnTo>
                  <a:pt x="178" y="598"/>
                </a:lnTo>
                <a:lnTo>
                  <a:pt x="179" y="601"/>
                </a:lnTo>
                <a:lnTo>
                  <a:pt x="180" y="605"/>
                </a:lnTo>
                <a:lnTo>
                  <a:pt x="184" y="606"/>
                </a:lnTo>
                <a:lnTo>
                  <a:pt x="195" y="607"/>
                </a:lnTo>
                <a:lnTo>
                  <a:pt x="223" y="616"/>
                </a:lnTo>
                <a:lnTo>
                  <a:pt x="260" y="637"/>
                </a:lnTo>
                <a:lnTo>
                  <a:pt x="272" y="644"/>
                </a:lnTo>
              </a:path>
            </a:pathLst>
          </a:custGeom>
          <a:solidFill>
            <a:srgbClr val="cc0000"/>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07"/>
          <p:cNvSpPr/>
          <p:nvPr/>
        </p:nvSpPr>
        <p:spPr>
          <a:xfrm>
            <a:off x="3132000" y="468360"/>
            <a:ext cx="1062000" cy="2668680"/>
          </a:xfrm>
          <a:custGeom>
            <a:avLst/>
            <a:gdLst>
              <a:gd name="textAreaLeft" fmla="*/ 0 w 1062000"/>
              <a:gd name="textAreaRight" fmla="*/ 1062360 w 1062000"/>
              <a:gd name="textAreaTop" fmla="*/ 0 h 2668680"/>
              <a:gd name="textAreaBottom" fmla="*/ 2669040 h 2668680"/>
            </a:gdLst>
            <a:ahLst/>
            <a:rect l="textAreaLeft" t="textAreaTop" r="textAreaRight" b="textAreaBottom"/>
            <a:pathLst>
              <a:path w="1339" h="3362">
                <a:moveTo>
                  <a:pt x="794" y="3073"/>
                </a:moveTo>
                <a:lnTo>
                  <a:pt x="793" y="3080"/>
                </a:lnTo>
                <a:lnTo>
                  <a:pt x="793" y="3094"/>
                </a:lnTo>
                <a:lnTo>
                  <a:pt x="792" y="3121"/>
                </a:lnTo>
                <a:lnTo>
                  <a:pt x="791" y="3146"/>
                </a:lnTo>
                <a:lnTo>
                  <a:pt x="791" y="3152"/>
                </a:lnTo>
                <a:lnTo>
                  <a:pt x="793" y="3158"/>
                </a:lnTo>
                <a:lnTo>
                  <a:pt x="797" y="3165"/>
                </a:lnTo>
                <a:lnTo>
                  <a:pt x="800" y="3170"/>
                </a:lnTo>
                <a:lnTo>
                  <a:pt x="804" y="3171"/>
                </a:lnTo>
                <a:lnTo>
                  <a:pt x="806" y="3170"/>
                </a:lnTo>
                <a:lnTo>
                  <a:pt x="808" y="3169"/>
                </a:lnTo>
                <a:lnTo>
                  <a:pt x="815" y="3164"/>
                </a:lnTo>
                <a:lnTo>
                  <a:pt x="821" y="3161"/>
                </a:lnTo>
                <a:lnTo>
                  <a:pt x="821" y="3153"/>
                </a:lnTo>
                <a:lnTo>
                  <a:pt x="822" y="3137"/>
                </a:lnTo>
                <a:lnTo>
                  <a:pt x="825" y="3107"/>
                </a:lnTo>
                <a:lnTo>
                  <a:pt x="827" y="3077"/>
                </a:lnTo>
                <a:lnTo>
                  <a:pt x="828" y="3069"/>
                </a:lnTo>
                <a:lnTo>
                  <a:pt x="827" y="3056"/>
                </a:lnTo>
                <a:lnTo>
                  <a:pt x="827" y="3028"/>
                </a:lnTo>
                <a:lnTo>
                  <a:pt x="831" y="2963"/>
                </a:lnTo>
                <a:lnTo>
                  <a:pt x="828" y="2932"/>
                </a:lnTo>
                <a:lnTo>
                  <a:pt x="820" y="2906"/>
                </a:lnTo>
                <a:lnTo>
                  <a:pt x="813" y="2894"/>
                </a:lnTo>
                <a:lnTo>
                  <a:pt x="811" y="2899"/>
                </a:lnTo>
                <a:lnTo>
                  <a:pt x="807" y="2924"/>
                </a:lnTo>
                <a:lnTo>
                  <a:pt x="793" y="3004"/>
                </a:lnTo>
                <a:lnTo>
                  <a:pt x="790" y="3042"/>
                </a:lnTo>
                <a:lnTo>
                  <a:pt x="791" y="3068"/>
                </a:lnTo>
                <a:lnTo>
                  <a:pt x="794" y="3073"/>
                </a:lnTo>
                <a:lnTo>
                  <a:pt x="794" y="3079"/>
                </a:lnTo>
                <a:lnTo>
                  <a:pt x="794" y="3085"/>
                </a:lnTo>
                <a:lnTo>
                  <a:pt x="794" y="3082"/>
                </a:lnTo>
                <a:lnTo>
                  <a:pt x="794" y="3074"/>
                </a:lnTo>
                <a:lnTo>
                  <a:pt x="794" y="3073"/>
                </a:lnTo>
                <a:close/>
                <a:moveTo>
                  <a:pt x="1078" y="2699"/>
                </a:moveTo>
                <a:lnTo>
                  <a:pt x="1077" y="2720"/>
                </a:lnTo>
                <a:lnTo>
                  <a:pt x="1077" y="2766"/>
                </a:lnTo>
                <a:lnTo>
                  <a:pt x="1064" y="2869"/>
                </a:lnTo>
                <a:lnTo>
                  <a:pt x="1027" y="2959"/>
                </a:lnTo>
                <a:lnTo>
                  <a:pt x="1012" y="2975"/>
                </a:lnTo>
                <a:lnTo>
                  <a:pt x="992" y="2962"/>
                </a:lnTo>
                <a:lnTo>
                  <a:pt x="975" y="2941"/>
                </a:lnTo>
                <a:lnTo>
                  <a:pt x="962" y="2916"/>
                </a:lnTo>
                <a:lnTo>
                  <a:pt x="953" y="2886"/>
                </a:lnTo>
                <a:lnTo>
                  <a:pt x="948" y="2823"/>
                </a:lnTo>
                <a:lnTo>
                  <a:pt x="964" y="2762"/>
                </a:lnTo>
                <a:lnTo>
                  <a:pt x="982" y="2736"/>
                </a:lnTo>
                <a:lnTo>
                  <a:pt x="1006" y="2717"/>
                </a:lnTo>
                <a:lnTo>
                  <a:pt x="1037" y="2704"/>
                </a:lnTo>
                <a:lnTo>
                  <a:pt x="1078" y="2699"/>
                </a:lnTo>
                <a:lnTo>
                  <a:pt x="1078" y="2715"/>
                </a:lnTo>
                <a:lnTo>
                  <a:pt x="1078" y="2732"/>
                </a:lnTo>
                <a:lnTo>
                  <a:pt x="1078" y="2723"/>
                </a:lnTo>
                <a:lnTo>
                  <a:pt x="1078" y="2701"/>
                </a:lnTo>
                <a:lnTo>
                  <a:pt x="1078" y="2699"/>
                </a:lnTo>
                <a:close/>
                <a:moveTo>
                  <a:pt x="1171" y="1140"/>
                </a:moveTo>
                <a:lnTo>
                  <a:pt x="1156" y="1089"/>
                </a:lnTo>
                <a:lnTo>
                  <a:pt x="1132" y="1014"/>
                </a:lnTo>
                <a:lnTo>
                  <a:pt x="1119" y="970"/>
                </a:lnTo>
                <a:lnTo>
                  <a:pt x="1119" y="956"/>
                </a:lnTo>
                <a:lnTo>
                  <a:pt x="1123" y="945"/>
                </a:lnTo>
                <a:lnTo>
                  <a:pt x="1135" y="936"/>
                </a:lnTo>
                <a:lnTo>
                  <a:pt x="1154" y="928"/>
                </a:lnTo>
                <a:lnTo>
                  <a:pt x="1181" y="919"/>
                </a:lnTo>
                <a:lnTo>
                  <a:pt x="1263" y="893"/>
                </a:lnTo>
                <a:lnTo>
                  <a:pt x="1248" y="870"/>
                </a:lnTo>
                <a:lnTo>
                  <a:pt x="1230" y="835"/>
                </a:lnTo>
                <a:lnTo>
                  <a:pt x="1227" y="822"/>
                </a:lnTo>
                <a:lnTo>
                  <a:pt x="1228" y="810"/>
                </a:lnTo>
                <a:lnTo>
                  <a:pt x="1234" y="800"/>
                </a:lnTo>
                <a:lnTo>
                  <a:pt x="1242" y="790"/>
                </a:lnTo>
                <a:lnTo>
                  <a:pt x="1254" y="777"/>
                </a:lnTo>
                <a:lnTo>
                  <a:pt x="1289" y="749"/>
                </a:lnTo>
                <a:lnTo>
                  <a:pt x="1339" y="705"/>
                </a:lnTo>
                <a:lnTo>
                  <a:pt x="1339" y="702"/>
                </a:lnTo>
                <a:lnTo>
                  <a:pt x="1339" y="678"/>
                </a:lnTo>
                <a:lnTo>
                  <a:pt x="1339" y="598"/>
                </a:lnTo>
                <a:lnTo>
                  <a:pt x="1339" y="537"/>
                </a:lnTo>
                <a:lnTo>
                  <a:pt x="1339" y="533"/>
                </a:lnTo>
                <a:lnTo>
                  <a:pt x="1338" y="529"/>
                </a:lnTo>
                <a:lnTo>
                  <a:pt x="1330" y="499"/>
                </a:lnTo>
                <a:lnTo>
                  <a:pt x="1304" y="396"/>
                </a:lnTo>
                <a:lnTo>
                  <a:pt x="1285" y="318"/>
                </a:lnTo>
                <a:lnTo>
                  <a:pt x="1285" y="313"/>
                </a:lnTo>
                <a:lnTo>
                  <a:pt x="1272" y="263"/>
                </a:lnTo>
                <a:lnTo>
                  <a:pt x="1231" y="192"/>
                </a:lnTo>
                <a:lnTo>
                  <a:pt x="1175" y="151"/>
                </a:lnTo>
                <a:lnTo>
                  <a:pt x="1106" y="122"/>
                </a:lnTo>
                <a:lnTo>
                  <a:pt x="953" y="39"/>
                </a:lnTo>
                <a:lnTo>
                  <a:pt x="915" y="0"/>
                </a:lnTo>
                <a:lnTo>
                  <a:pt x="909" y="6"/>
                </a:lnTo>
                <a:lnTo>
                  <a:pt x="898" y="14"/>
                </a:lnTo>
                <a:lnTo>
                  <a:pt x="881" y="26"/>
                </a:lnTo>
                <a:lnTo>
                  <a:pt x="867" y="44"/>
                </a:lnTo>
                <a:lnTo>
                  <a:pt x="864" y="50"/>
                </a:lnTo>
                <a:lnTo>
                  <a:pt x="864" y="56"/>
                </a:lnTo>
                <a:lnTo>
                  <a:pt x="867" y="65"/>
                </a:lnTo>
                <a:lnTo>
                  <a:pt x="875" y="91"/>
                </a:lnTo>
                <a:lnTo>
                  <a:pt x="897" y="152"/>
                </a:lnTo>
                <a:lnTo>
                  <a:pt x="910" y="190"/>
                </a:lnTo>
                <a:lnTo>
                  <a:pt x="886" y="202"/>
                </a:lnTo>
                <a:lnTo>
                  <a:pt x="850" y="212"/>
                </a:lnTo>
                <a:lnTo>
                  <a:pt x="821" y="213"/>
                </a:lnTo>
                <a:lnTo>
                  <a:pt x="796" y="205"/>
                </a:lnTo>
                <a:lnTo>
                  <a:pt x="771" y="189"/>
                </a:lnTo>
                <a:lnTo>
                  <a:pt x="744" y="171"/>
                </a:lnTo>
                <a:lnTo>
                  <a:pt x="727" y="160"/>
                </a:lnTo>
                <a:lnTo>
                  <a:pt x="725" y="163"/>
                </a:lnTo>
                <a:lnTo>
                  <a:pt x="713" y="183"/>
                </a:lnTo>
                <a:lnTo>
                  <a:pt x="673" y="252"/>
                </a:lnTo>
                <a:lnTo>
                  <a:pt x="642" y="304"/>
                </a:lnTo>
                <a:lnTo>
                  <a:pt x="641" y="306"/>
                </a:lnTo>
                <a:lnTo>
                  <a:pt x="638" y="307"/>
                </a:lnTo>
                <a:lnTo>
                  <a:pt x="631" y="308"/>
                </a:lnTo>
                <a:lnTo>
                  <a:pt x="603" y="313"/>
                </a:lnTo>
                <a:lnTo>
                  <a:pt x="583" y="316"/>
                </a:lnTo>
                <a:lnTo>
                  <a:pt x="582" y="316"/>
                </a:lnTo>
                <a:lnTo>
                  <a:pt x="579" y="318"/>
                </a:lnTo>
                <a:lnTo>
                  <a:pt x="570" y="330"/>
                </a:lnTo>
                <a:lnTo>
                  <a:pt x="538" y="372"/>
                </a:lnTo>
                <a:lnTo>
                  <a:pt x="513" y="404"/>
                </a:lnTo>
                <a:lnTo>
                  <a:pt x="512" y="405"/>
                </a:lnTo>
                <a:lnTo>
                  <a:pt x="512" y="409"/>
                </a:lnTo>
                <a:lnTo>
                  <a:pt x="519" y="431"/>
                </a:lnTo>
                <a:lnTo>
                  <a:pt x="543" y="505"/>
                </a:lnTo>
                <a:lnTo>
                  <a:pt x="562" y="561"/>
                </a:lnTo>
                <a:lnTo>
                  <a:pt x="563" y="564"/>
                </a:lnTo>
                <a:lnTo>
                  <a:pt x="563" y="570"/>
                </a:lnTo>
                <a:lnTo>
                  <a:pt x="562" y="577"/>
                </a:lnTo>
                <a:lnTo>
                  <a:pt x="559" y="582"/>
                </a:lnTo>
                <a:lnTo>
                  <a:pt x="554" y="587"/>
                </a:lnTo>
                <a:lnTo>
                  <a:pt x="542" y="597"/>
                </a:lnTo>
                <a:lnTo>
                  <a:pt x="518" y="625"/>
                </a:lnTo>
                <a:lnTo>
                  <a:pt x="513" y="646"/>
                </a:lnTo>
                <a:lnTo>
                  <a:pt x="509" y="698"/>
                </a:lnTo>
                <a:lnTo>
                  <a:pt x="501" y="772"/>
                </a:lnTo>
                <a:lnTo>
                  <a:pt x="491" y="820"/>
                </a:lnTo>
                <a:lnTo>
                  <a:pt x="472" y="856"/>
                </a:lnTo>
                <a:lnTo>
                  <a:pt x="438" y="893"/>
                </a:lnTo>
                <a:lnTo>
                  <a:pt x="384" y="946"/>
                </a:lnTo>
                <a:lnTo>
                  <a:pt x="348" y="982"/>
                </a:lnTo>
                <a:lnTo>
                  <a:pt x="363" y="1003"/>
                </a:lnTo>
                <a:lnTo>
                  <a:pt x="370" y="1024"/>
                </a:lnTo>
                <a:lnTo>
                  <a:pt x="371" y="1044"/>
                </a:lnTo>
                <a:lnTo>
                  <a:pt x="367" y="1065"/>
                </a:lnTo>
                <a:lnTo>
                  <a:pt x="361" y="1085"/>
                </a:lnTo>
                <a:lnTo>
                  <a:pt x="342" y="1127"/>
                </a:lnTo>
                <a:lnTo>
                  <a:pt x="330" y="1172"/>
                </a:lnTo>
                <a:lnTo>
                  <a:pt x="334" y="1221"/>
                </a:lnTo>
                <a:lnTo>
                  <a:pt x="348" y="1248"/>
                </a:lnTo>
                <a:lnTo>
                  <a:pt x="338" y="1262"/>
                </a:lnTo>
                <a:lnTo>
                  <a:pt x="322" y="1275"/>
                </a:lnTo>
                <a:lnTo>
                  <a:pt x="303" y="1290"/>
                </a:lnTo>
                <a:lnTo>
                  <a:pt x="258" y="1319"/>
                </a:lnTo>
                <a:lnTo>
                  <a:pt x="175" y="1382"/>
                </a:lnTo>
                <a:lnTo>
                  <a:pt x="165" y="1437"/>
                </a:lnTo>
                <a:lnTo>
                  <a:pt x="150" y="1476"/>
                </a:lnTo>
                <a:lnTo>
                  <a:pt x="135" y="1567"/>
                </a:lnTo>
                <a:lnTo>
                  <a:pt x="138" y="1670"/>
                </a:lnTo>
                <a:lnTo>
                  <a:pt x="184" y="1868"/>
                </a:lnTo>
                <a:lnTo>
                  <a:pt x="249" y="1971"/>
                </a:lnTo>
                <a:lnTo>
                  <a:pt x="244" y="1988"/>
                </a:lnTo>
                <a:lnTo>
                  <a:pt x="235" y="2009"/>
                </a:lnTo>
                <a:lnTo>
                  <a:pt x="226" y="2020"/>
                </a:lnTo>
                <a:lnTo>
                  <a:pt x="212" y="2028"/>
                </a:lnTo>
                <a:lnTo>
                  <a:pt x="192" y="2037"/>
                </a:lnTo>
                <a:lnTo>
                  <a:pt x="165" y="2051"/>
                </a:lnTo>
                <a:lnTo>
                  <a:pt x="149" y="2061"/>
                </a:lnTo>
                <a:lnTo>
                  <a:pt x="149" y="2065"/>
                </a:lnTo>
                <a:lnTo>
                  <a:pt x="154" y="2093"/>
                </a:lnTo>
                <a:lnTo>
                  <a:pt x="167" y="2185"/>
                </a:lnTo>
                <a:lnTo>
                  <a:pt x="176" y="2257"/>
                </a:lnTo>
                <a:lnTo>
                  <a:pt x="177" y="2260"/>
                </a:lnTo>
                <a:lnTo>
                  <a:pt x="175" y="2262"/>
                </a:lnTo>
                <a:lnTo>
                  <a:pt x="163" y="2269"/>
                </a:lnTo>
                <a:lnTo>
                  <a:pt x="122" y="2294"/>
                </a:lnTo>
                <a:lnTo>
                  <a:pt x="89" y="2313"/>
                </a:lnTo>
                <a:lnTo>
                  <a:pt x="88" y="2314"/>
                </a:lnTo>
                <a:lnTo>
                  <a:pt x="87" y="2318"/>
                </a:lnTo>
                <a:lnTo>
                  <a:pt x="87" y="2340"/>
                </a:lnTo>
                <a:lnTo>
                  <a:pt x="85" y="2419"/>
                </a:lnTo>
                <a:lnTo>
                  <a:pt x="84" y="2478"/>
                </a:lnTo>
                <a:lnTo>
                  <a:pt x="84" y="2481"/>
                </a:lnTo>
                <a:lnTo>
                  <a:pt x="79" y="2481"/>
                </a:lnTo>
                <a:lnTo>
                  <a:pt x="72" y="2478"/>
                </a:lnTo>
                <a:lnTo>
                  <a:pt x="66" y="2474"/>
                </a:lnTo>
                <a:lnTo>
                  <a:pt x="50" y="2463"/>
                </a:lnTo>
                <a:lnTo>
                  <a:pt x="17" y="2442"/>
                </a:lnTo>
                <a:lnTo>
                  <a:pt x="0" y="2434"/>
                </a:lnTo>
                <a:lnTo>
                  <a:pt x="4" y="2468"/>
                </a:lnTo>
                <a:lnTo>
                  <a:pt x="14" y="2541"/>
                </a:lnTo>
                <a:lnTo>
                  <a:pt x="53" y="2692"/>
                </a:lnTo>
                <a:lnTo>
                  <a:pt x="126" y="2825"/>
                </a:lnTo>
                <a:lnTo>
                  <a:pt x="152" y="2852"/>
                </a:lnTo>
                <a:lnTo>
                  <a:pt x="145" y="2871"/>
                </a:lnTo>
                <a:lnTo>
                  <a:pt x="139" y="2896"/>
                </a:lnTo>
                <a:lnTo>
                  <a:pt x="138" y="2905"/>
                </a:lnTo>
                <a:lnTo>
                  <a:pt x="140" y="2912"/>
                </a:lnTo>
                <a:lnTo>
                  <a:pt x="143" y="2917"/>
                </a:lnTo>
                <a:lnTo>
                  <a:pt x="147" y="2921"/>
                </a:lnTo>
                <a:lnTo>
                  <a:pt x="155" y="2926"/>
                </a:lnTo>
                <a:lnTo>
                  <a:pt x="174" y="2938"/>
                </a:lnTo>
                <a:lnTo>
                  <a:pt x="201" y="2960"/>
                </a:lnTo>
                <a:lnTo>
                  <a:pt x="199" y="2972"/>
                </a:lnTo>
                <a:lnTo>
                  <a:pt x="200" y="2985"/>
                </a:lnTo>
                <a:lnTo>
                  <a:pt x="204" y="2997"/>
                </a:lnTo>
                <a:lnTo>
                  <a:pt x="212" y="3010"/>
                </a:lnTo>
                <a:lnTo>
                  <a:pt x="232" y="3036"/>
                </a:lnTo>
                <a:lnTo>
                  <a:pt x="256" y="3061"/>
                </a:lnTo>
                <a:lnTo>
                  <a:pt x="280" y="3083"/>
                </a:lnTo>
                <a:lnTo>
                  <a:pt x="301" y="3100"/>
                </a:lnTo>
                <a:lnTo>
                  <a:pt x="301" y="3102"/>
                </a:lnTo>
                <a:lnTo>
                  <a:pt x="301" y="3104"/>
                </a:lnTo>
                <a:lnTo>
                  <a:pt x="302" y="3109"/>
                </a:lnTo>
                <a:lnTo>
                  <a:pt x="305" y="3126"/>
                </a:lnTo>
                <a:lnTo>
                  <a:pt x="312" y="3177"/>
                </a:lnTo>
                <a:lnTo>
                  <a:pt x="332" y="3301"/>
                </a:lnTo>
                <a:lnTo>
                  <a:pt x="346" y="3362"/>
                </a:lnTo>
                <a:lnTo>
                  <a:pt x="350" y="3362"/>
                </a:lnTo>
                <a:lnTo>
                  <a:pt x="366" y="3360"/>
                </a:lnTo>
                <a:lnTo>
                  <a:pt x="407" y="3351"/>
                </a:lnTo>
                <a:lnTo>
                  <a:pt x="442" y="3344"/>
                </a:lnTo>
                <a:lnTo>
                  <a:pt x="448" y="3343"/>
                </a:lnTo>
                <a:lnTo>
                  <a:pt x="448" y="3326"/>
                </a:lnTo>
                <a:lnTo>
                  <a:pt x="448" y="3291"/>
                </a:lnTo>
                <a:lnTo>
                  <a:pt x="454" y="3215"/>
                </a:lnTo>
                <a:lnTo>
                  <a:pt x="461" y="3182"/>
                </a:lnTo>
                <a:lnTo>
                  <a:pt x="472" y="3156"/>
                </a:lnTo>
                <a:lnTo>
                  <a:pt x="481" y="3147"/>
                </a:lnTo>
                <a:lnTo>
                  <a:pt x="520" y="3160"/>
                </a:lnTo>
                <a:lnTo>
                  <a:pt x="558" y="3160"/>
                </a:lnTo>
                <a:lnTo>
                  <a:pt x="593" y="3149"/>
                </a:lnTo>
                <a:lnTo>
                  <a:pt x="626" y="3129"/>
                </a:lnTo>
                <a:lnTo>
                  <a:pt x="656" y="3102"/>
                </a:lnTo>
                <a:lnTo>
                  <a:pt x="681" y="3070"/>
                </a:lnTo>
                <a:lnTo>
                  <a:pt x="724" y="2996"/>
                </a:lnTo>
                <a:lnTo>
                  <a:pt x="751" y="2922"/>
                </a:lnTo>
                <a:lnTo>
                  <a:pt x="761" y="2863"/>
                </a:lnTo>
                <a:lnTo>
                  <a:pt x="760" y="2846"/>
                </a:lnTo>
                <a:lnTo>
                  <a:pt x="753" y="2806"/>
                </a:lnTo>
                <a:lnTo>
                  <a:pt x="733" y="2709"/>
                </a:lnTo>
                <a:lnTo>
                  <a:pt x="724" y="2619"/>
                </a:lnTo>
                <a:lnTo>
                  <a:pt x="727" y="2602"/>
                </a:lnTo>
                <a:lnTo>
                  <a:pt x="735" y="2584"/>
                </a:lnTo>
                <a:lnTo>
                  <a:pt x="748" y="2566"/>
                </a:lnTo>
                <a:lnTo>
                  <a:pt x="765" y="2549"/>
                </a:lnTo>
                <a:lnTo>
                  <a:pt x="810" y="2518"/>
                </a:lnTo>
                <a:lnTo>
                  <a:pt x="904" y="2460"/>
                </a:lnTo>
                <a:lnTo>
                  <a:pt x="943" y="2414"/>
                </a:lnTo>
                <a:lnTo>
                  <a:pt x="943" y="2406"/>
                </a:lnTo>
                <a:lnTo>
                  <a:pt x="946" y="2395"/>
                </a:lnTo>
                <a:lnTo>
                  <a:pt x="955" y="2368"/>
                </a:lnTo>
                <a:lnTo>
                  <a:pt x="978" y="2305"/>
                </a:lnTo>
                <a:lnTo>
                  <a:pt x="991" y="2257"/>
                </a:lnTo>
                <a:lnTo>
                  <a:pt x="967" y="2249"/>
                </a:lnTo>
                <a:lnTo>
                  <a:pt x="932" y="2237"/>
                </a:lnTo>
                <a:lnTo>
                  <a:pt x="913" y="2229"/>
                </a:lnTo>
                <a:lnTo>
                  <a:pt x="911" y="2226"/>
                </a:lnTo>
                <a:lnTo>
                  <a:pt x="910" y="2224"/>
                </a:lnTo>
                <a:lnTo>
                  <a:pt x="909" y="2221"/>
                </a:lnTo>
                <a:lnTo>
                  <a:pt x="909" y="2219"/>
                </a:lnTo>
                <a:lnTo>
                  <a:pt x="910" y="2216"/>
                </a:lnTo>
                <a:lnTo>
                  <a:pt x="912" y="2212"/>
                </a:lnTo>
                <a:lnTo>
                  <a:pt x="918" y="2204"/>
                </a:lnTo>
                <a:lnTo>
                  <a:pt x="941" y="2180"/>
                </a:lnTo>
                <a:lnTo>
                  <a:pt x="957" y="2163"/>
                </a:lnTo>
                <a:lnTo>
                  <a:pt x="956" y="2160"/>
                </a:lnTo>
                <a:lnTo>
                  <a:pt x="954" y="2156"/>
                </a:lnTo>
                <a:lnTo>
                  <a:pt x="950" y="2153"/>
                </a:lnTo>
                <a:lnTo>
                  <a:pt x="945" y="2150"/>
                </a:lnTo>
                <a:lnTo>
                  <a:pt x="933" y="2143"/>
                </a:lnTo>
                <a:lnTo>
                  <a:pt x="918" y="2138"/>
                </a:lnTo>
                <a:lnTo>
                  <a:pt x="882" y="2130"/>
                </a:lnTo>
                <a:lnTo>
                  <a:pt x="811" y="2122"/>
                </a:lnTo>
                <a:lnTo>
                  <a:pt x="794" y="2120"/>
                </a:lnTo>
                <a:lnTo>
                  <a:pt x="772" y="2109"/>
                </a:lnTo>
                <a:lnTo>
                  <a:pt x="757" y="2091"/>
                </a:lnTo>
                <a:lnTo>
                  <a:pt x="749" y="2067"/>
                </a:lnTo>
                <a:lnTo>
                  <a:pt x="744" y="2040"/>
                </a:lnTo>
                <a:lnTo>
                  <a:pt x="744" y="1977"/>
                </a:lnTo>
                <a:lnTo>
                  <a:pt x="749" y="1912"/>
                </a:lnTo>
                <a:lnTo>
                  <a:pt x="751" y="1853"/>
                </a:lnTo>
                <a:lnTo>
                  <a:pt x="744" y="1810"/>
                </a:lnTo>
                <a:lnTo>
                  <a:pt x="762" y="1776"/>
                </a:lnTo>
                <a:lnTo>
                  <a:pt x="830" y="1648"/>
                </a:lnTo>
                <a:lnTo>
                  <a:pt x="1022" y="1311"/>
                </a:lnTo>
                <a:lnTo>
                  <a:pt x="1108" y="1180"/>
                </a:lnTo>
                <a:lnTo>
                  <a:pt x="1140" y="1140"/>
                </a:lnTo>
                <a:lnTo>
                  <a:pt x="1152" y="1130"/>
                </a:lnTo>
                <a:lnTo>
                  <a:pt x="1157" y="1127"/>
                </a:lnTo>
                <a:lnTo>
                  <a:pt x="1162" y="1126"/>
                </a:lnTo>
                <a:lnTo>
                  <a:pt x="1164" y="1126"/>
                </a:lnTo>
                <a:lnTo>
                  <a:pt x="1166" y="1127"/>
                </a:lnTo>
                <a:lnTo>
                  <a:pt x="1167" y="1128"/>
                </a:lnTo>
                <a:lnTo>
                  <a:pt x="1168" y="1129"/>
                </a:lnTo>
                <a:lnTo>
                  <a:pt x="1169" y="1131"/>
                </a:lnTo>
                <a:lnTo>
                  <a:pt x="1170" y="1134"/>
                </a:lnTo>
                <a:lnTo>
                  <a:pt x="1170" y="1137"/>
                </a:lnTo>
                <a:lnTo>
                  <a:pt x="1171" y="1140"/>
                </a:lnTo>
                <a:lnTo>
                  <a:pt x="1159" y="1092"/>
                </a:lnTo>
                <a:lnTo>
                  <a:pt x="1146" y="1043"/>
                </a:lnTo>
                <a:lnTo>
                  <a:pt x="1153" y="1071"/>
                </a:lnTo>
                <a:lnTo>
                  <a:pt x="1169" y="1136"/>
                </a:lnTo>
                <a:lnTo>
                  <a:pt x="1171" y="1140"/>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108"/>
          <p:cNvSpPr/>
          <p:nvPr/>
        </p:nvSpPr>
        <p:spPr>
          <a:xfrm>
            <a:off x="3759120" y="2766960"/>
            <a:ext cx="33480" cy="219240"/>
          </a:xfrm>
          <a:custGeom>
            <a:avLst/>
            <a:gdLst>
              <a:gd name="textAreaLeft" fmla="*/ 0 w 33480"/>
              <a:gd name="textAreaRight" fmla="*/ 33480 w 33480"/>
              <a:gd name="textAreaTop" fmla="*/ 0 h 219240"/>
              <a:gd name="textAreaBottom" fmla="*/ 219600 h 219240"/>
            </a:gdLst>
            <a:ahLst/>
            <a:rect l="textAreaLeft" t="textAreaTop" r="textAreaRight" b="textAreaBottom"/>
            <a:pathLst>
              <a:path w="41" h="277">
                <a:moveTo>
                  <a:pt x="4" y="179"/>
                </a:moveTo>
                <a:lnTo>
                  <a:pt x="3" y="186"/>
                </a:lnTo>
                <a:lnTo>
                  <a:pt x="3" y="200"/>
                </a:lnTo>
                <a:lnTo>
                  <a:pt x="2" y="227"/>
                </a:lnTo>
                <a:lnTo>
                  <a:pt x="1" y="252"/>
                </a:lnTo>
                <a:lnTo>
                  <a:pt x="1" y="258"/>
                </a:lnTo>
                <a:lnTo>
                  <a:pt x="3" y="264"/>
                </a:lnTo>
                <a:lnTo>
                  <a:pt x="7" y="271"/>
                </a:lnTo>
                <a:lnTo>
                  <a:pt x="10" y="276"/>
                </a:lnTo>
                <a:lnTo>
                  <a:pt x="14" y="277"/>
                </a:lnTo>
                <a:lnTo>
                  <a:pt x="16" y="276"/>
                </a:lnTo>
                <a:lnTo>
                  <a:pt x="18" y="275"/>
                </a:lnTo>
                <a:lnTo>
                  <a:pt x="25" y="270"/>
                </a:lnTo>
                <a:lnTo>
                  <a:pt x="31" y="267"/>
                </a:lnTo>
                <a:lnTo>
                  <a:pt x="31" y="259"/>
                </a:lnTo>
                <a:lnTo>
                  <a:pt x="32" y="243"/>
                </a:lnTo>
                <a:lnTo>
                  <a:pt x="35" y="213"/>
                </a:lnTo>
                <a:lnTo>
                  <a:pt x="37" y="183"/>
                </a:lnTo>
                <a:lnTo>
                  <a:pt x="38" y="175"/>
                </a:lnTo>
                <a:lnTo>
                  <a:pt x="37" y="162"/>
                </a:lnTo>
                <a:lnTo>
                  <a:pt x="37" y="134"/>
                </a:lnTo>
                <a:lnTo>
                  <a:pt x="41" y="69"/>
                </a:lnTo>
                <a:lnTo>
                  <a:pt x="38" y="38"/>
                </a:lnTo>
                <a:lnTo>
                  <a:pt x="30" y="12"/>
                </a:lnTo>
                <a:lnTo>
                  <a:pt x="23" y="0"/>
                </a:lnTo>
                <a:lnTo>
                  <a:pt x="21" y="5"/>
                </a:lnTo>
                <a:lnTo>
                  <a:pt x="17" y="30"/>
                </a:lnTo>
                <a:lnTo>
                  <a:pt x="3" y="110"/>
                </a:lnTo>
                <a:lnTo>
                  <a:pt x="0" y="148"/>
                </a:lnTo>
                <a:lnTo>
                  <a:pt x="1" y="174"/>
                </a:lnTo>
                <a:lnTo>
                  <a:pt x="4" y="179"/>
                </a:lnTo>
                <a:lnTo>
                  <a:pt x="4" y="185"/>
                </a:lnTo>
                <a:lnTo>
                  <a:pt x="4" y="191"/>
                </a:lnTo>
                <a:lnTo>
                  <a:pt x="4" y="188"/>
                </a:lnTo>
                <a:lnTo>
                  <a:pt x="4" y="180"/>
                </a:lnTo>
                <a:lnTo>
                  <a:pt x="4" y="179"/>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109"/>
          <p:cNvSpPr/>
          <p:nvPr/>
        </p:nvSpPr>
        <p:spPr>
          <a:xfrm>
            <a:off x="3884760" y="2611440"/>
            <a:ext cx="102960" cy="219240"/>
          </a:xfrm>
          <a:custGeom>
            <a:avLst/>
            <a:gdLst>
              <a:gd name="textAreaLeft" fmla="*/ 0 w 102960"/>
              <a:gd name="textAreaRight" fmla="*/ 103320 w 102960"/>
              <a:gd name="textAreaTop" fmla="*/ 0 h 219240"/>
              <a:gd name="textAreaBottom" fmla="*/ 219600 h 219240"/>
            </a:gdLst>
            <a:ahLst/>
            <a:rect l="textAreaLeft" t="textAreaTop" r="textAreaRight" b="textAreaBottom"/>
            <a:pathLst>
              <a:path w="130" h="276">
                <a:moveTo>
                  <a:pt x="130" y="0"/>
                </a:moveTo>
                <a:lnTo>
                  <a:pt x="129" y="21"/>
                </a:lnTo>
                <a:lnTo>
                  <a:pt x="129" y="67"/>
                </a:lnTo>
                <a:lnTo>
                  <a:pt x="116" y="170"/>
                </a:lnTo>
                <a:lnTo>
                  <a:pt x="79" y="260"/>
                </a:lnTo>
                <a:lnTo>
                  <a:pt x="64" y="276"/>
                </a:lnTo>
                <a:lnTo>
                  <a:pt x="44" y="263"/>
                </a:lnTo>
                <a:lnTo>
                  <a:pt x="27" y="242"/>
                </a:lnTo>
                <a:lnTo>
                  <a:pt x="14" y="217"/>
                </a:lnTo>
                <a:lnTo>
                  <a:pt x="5" y="187"/>
                </a:lnTo>
                <a:lnTo>
                  <a:pt x="0" y="124"/>
                </a:lnTo>
                <a:lnTo>
                  <a:pt x="16" y="63"/>
                </a:lnTo>
                <a:lnTo>
                  <a:pt x="34" y="37"/>
                </a:lnTo>
                <a:lnTo>
                  <a:pt x="58" y="18"/>
                </a:lnTo>
                <a:lnTo>
                  <a:pt x="89" y="5"/>
                </a:lnTo>
                <a:lnTo>
                  <a:pt x="130" y="0"/>
                </a:lnTo>
                <a:lnTo>
                  <a:pt x="130" y="16"/>
                </a:lnTo>
                <a:lnTo>
                  <a:pt x="130" y="33"/>
                </a:lnTo>
                <a:lnTo>
                  <a:pt x="130" y="24"/>
                </a:lnTo>
                <a:lnTo>
                  <a:pt x="130" y="2"/>
                </a:lnTo>
                <a:lnTo>
                  <a:pt x="130" y="0"/>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110"/>
          <p:cNvSpPr/>
          <p:nvPr/>
        </p:nvSpPr>
        <p:spPr>
          <a:xfrm>
            <a:off x="3132000" y="468360"/>
            <a:ext cx="1062000" cy="2668680"/>
          </a:xfrm>
          <a:custGeom>
            <a:avLst/>
            <a:gdLst>
              <a:gd name="textAreaLeft" fmla="*/ 0 w 1062000"/>
              <a:gd name="textAreaRight" fmla="*/ 1062360 w 1062000"/>
              <a:gd name="textAreaTop" fmla="*/ 0 h 2668680"/>
              <a:gd name="textAreaBottom" fmla="*/ 2669040 h 2668680"/>
            </a:gdLst>
            <a:ahLst/>
            <a:rect l="textAreaLeft" t="textAreaTop" r="textAreaRight" b="textAreaBottom"/>
            <a:pathLst>
              <a:path w="1339" h="3362">
                <a:moveTo>
                  <a:pt x="1171" y="1140"/>
                </a:moveTo>
                <a:lnTo>
                  <a:pt x="1156" y="1089"/>
                </a:lnTo>
                <a:lnTo>
                  <a:pt x="1132" y="1014"/>
                </a:lnTo>
                <a:lnTo>
                  <a:pt x="1119" y="970"/>
                </a:lnTo>
                <a:lnTo>
                  <a:pt x="1119" y="956"/>
                </a:lnTo>
                <a:lnTo>
                  <a:pt x="1123" y="945"/>
                </a:lnTo>
                <a:lnTo>
                  <a:pt x="1135" y="936"/>
                </a:lnTo>
                <a:lnTo>
                  <a:pt x="1154" y="928"/>
                </a:lnTo>
                <a:lnTo>
                  <a:pt x="1181" y="919"/>
                </a:lnTo>
                <a:lnTo>
                  <a:pt x="1263" y="893"/>
                </a:lnTo>
                <a:lnTo>
                  <a:pt x="1248" y="870"/>
                </a:lnTo>
                <a:lnTo>
                  <a:pt x="1230" y="835"/>
                </a:lnTo>
                <a:lnTo>
                  <a:pt x="1227" y="822"/>
                </a:lnTo>
                <a:lnTo>
                  <a:pt x="1228" y="810"/>
                </a:lnTo>
                <a:lnTo>
                  <a:pt x="1234" y="800"/>
                </a:lnTo>
                <a:lnTo>
                  <a:pt x="1242" y="790"/>
                </a:lnTo>
                <a:lnTo>
                  <a:pt x="1254" y="777"/>
                </a:lnTo>
                <a:lnTo>
                  <a:pt x="1289" y="749"/>
                </a:lnTo>
                <a:lnTo>
                  <a:pt x="1339" y="705"/>
                </a:lnTo>
                <a:lnTo>
                  <a:pt x="1339" y="702"/>
                </a:lnTo>
                <a:lnTo>
                  <a:pt x="1339" y="678"/>
                </a:lnTo>
                <a:lnTo>
                  <a:pt x="1339" y="598"/>
                </a:lnTo>
                <a:lnTo>
                  <a:pt x="1339" y="537"/>
                </a:lnTo>
                <a:lnTo>
                  <a:pt x="1339" y="533"/>
                </a:lnTo>
                <a:lnTo>
                  <a:pt x="1338" y="529"/>
                </a:lnTo>
                <a:lnTo>
                  <a:pt x="1330" y="499"/>
                </a:lnTo>
                <a:lnTo>
                  <a:pt x="1304" y="396"/>
                </a:lnTo>
                <a:lnTo>
                  <a:pt x="1285" y="318"/>
                </a:lnTo>
                <a:lnTo>
                  <a:pt x="1285" y="313"/>
                </a:lnTo>
                <a:lnTo>
                  <a:pt x="1272" y="263"/>
                </a:lnTo>
                <a:lnTo>
                  <a:pt x="1231" y="192"/>
                </a:lnTo>
                <a:lnTo>
                  <a:pt x="1175" y="151"/>
                </a:lnTo>
                <a:lnTo>
                  <a:pt x="1106" y="122"/>
                </a:lnTo>
                <a:lnTo>
                  <a:pt x="953" y="39"/>
                </a:lnTo>
                <a:lnTo>
                  <a:pt x="915" y="0"/>
                </a:lnTo>
                <a:lnTo>
                  <a:pt x="909" y="6"/>
                </a:lnTo>
                <a:lnTo>
                  <a:pt x="898" y="14"/>
                </a:lnTo>
                <a:lnTo>
                  <a:pt x="881" y="26"/>
                </a:lnTo>
                <a:lnTo>
                  <a:pt x="867" y="44"/>
                </a:lnTo>
                <a:lnTo>
                  <a:pt x="864" y="50"/>
                </a:lnTo>
                <a:lnTo>
                  <a:pt x="864" y="56"/>
                </a:lnTo>
                <a:lnTo>
                  <a:pt x="867" y="65"/>
                </a:lnTo>
                <a:lnTo>
                  <a:pt x="875" y="91"/>
                </a:lnTo>
                <a:lnTo>
                  <a:pt x="897" y="152"/>
                </a:lnTo>
                <a:lnTo>
                  <a:pt x="910" y="190"/>
                </a:lnTo>
                <a:lnTo>
                  <a:pt x="886" y="202"/>
                </a:lnTo>
                <a:lnTo>
                  <a:pt x="850" y="212"/>
                </a:lnTo>
                <a:lnTo>
                  <a:pt x="821" y="213"/>
                </a:lnTo>
                <a:lnTo>
                  <a:pt x="796" y="205"/>
                </a:lnTo>
                <a:lnTo>
                  <a:pt x="771" y="189"/>
                </a:lnTo>
                <a:lnTo>
                  <a:pt x="744" y="171"/>
                </a:lnTo>
                <a:lnTo>
                  <a:pt x="727" y="160"/>
                </a:lnTo>
                <a:lnTo>
                  <a:pt x="725" y="163"/>
                </a:lnTo>
                <a:lnTo>
                  <a:pt x="713" y="183"/>
                </a:lnTo>
                <a:lnTo>
                  <a:pt x="673" y="252"/>
                </a:lnTo>
                <a:lnTo>
                  <a:pt x="642" y="304"/>
                </a:lnTo>
                <a:lnTo>
                  <a:pt x="641" y="306"/>
                </a:lnTo>
                <a:lnTo>
                  <a:pt x="638" y="307"/>
                </a:lnTo>
                <a:lnTo>
                  <a:pt x="631" y="308"/>
                </a:lnTo>
                <a:lnTo>
                  <a:pt x="603" y="313"/>
                </a:lnTo>
                <a:lnTo>
                  <a:pt x="583" y="316"/>
                </a:lnTo>
                <a:lnTo>
                  <a:pt x="582" y="316"/>
                </a:lnTo>
                <a:lnTo>
                  <a:pt x="579" y="318"/>
                </a:lnTo>
                <a:lnTo>
                  <a:pt x="570" y="330"/>
                </a:lnTo>
                <a:lnTo>
                  <a:pt x="538" y="372"/>
                </a:lnTo>
                <a:lnTo>
                  <a:pt x="513" y="404"/>
                </a:lnTo>
                <a:lnTo>
                  <a:pt x="512" y="405"/>
                </a:lnTo>
                <a:lnTo>
                  <a:pt x="512" y="409"/>
                </a:lnTo>
                <a:lnTo>
                  <a:pt x="519" y="431"/>
                </a:lnTo>
                <a:lnTo>
                  <a:pt x="543" y="505"/>
                </a:lnTo>
                <a:lnTo>
                  <a:pt x="562" y="561"/>
                </a:lnTo>
                <a:lnTo>
                  <a:pt x="563" y="564"/>
                </a:lnTo>
                <a:lnTo>
                  <a:pt x="563" y="570"/>
                </a:lnTo>
                <a:lnTo>
                  <a:pt x="562" y="577"/>
                </a:lnTo>
                <a:lnTo>
                  <a:pt x="559" y="582"/>
                </a:lnTo>
                <a:lnTo>
                  <a:pt x="554" y="587"/>
                </a:lnTo>
                <a:lnTo>
                  <a:pt x="542" y="597"/>
                </a:lnTo>
                <a:lnTo>
                  <a:pt x="518" y="625"/>
                </a:lnTo>
                <a:lnTo>
                  <a:pt x="513" y="646"/>
                </a:lnTo>
                <a:lnTo>
                  <a:pt x="509" y="698"/>
                </a:lnTo>
                <a:lnTo>
                  <a:pt x="501" y="772"/>
                </a:lnTo>
                <a:lnTo>
                  <a:pt x="491" y="820"/>
                </a:lnTo>
                <a:lnTo>
                  <a:pt x="472" y="856"/>
                </a:lnTo>
                <a:lnTo>
                  <a:pt x="438" y="893"/>
                </a:lnTo>
                <a:lnTo>
                  <a:pt x="384" y="946"/>
                </a:lnTo>
                <a:lnTo>
                  <a:pt x="348" y="982"/>
                </a:lnTo>
                <a:lnTo>
                  <a:pt x="363" y="1003"/>
                </a:lnTo>
                <a:lnTo>
                  <a:pt x="370" y="1024"/>
                </a:lnTo>
                <a:lnTo>
                  <a:pt x="371" y="1044"/>
                </a:lnTo>
                <a:lnTo>
                  <a:pt x="367" y="1065"/>
                </a:lnTo>
                <a:lnTo>
                  <a:pt x="361" y="1085"/>
                </a:lnTo>
                <a:lnTo>
                  <a:pt x="342" y="1127"/>
                </a:lnTo>
                <a:lnTo>
                  <a:pt x="330" y="1172"/>
                </a:lnTo>
                <a:lnTo>
                  <a:pt x="334" y="1221"/>
                </a:lnTo>
                <a:lnTo>
                  <a:pt x="348" y="1248"/>
                </a:lnTo>
                <a:lnTo>
                  <a:pt x="338" y="1262"/>
                </a:lnTo>
                <a:lnTo>
                  <a:pt x="322" y="1275"/>
                </a:lnTo>
                <a:lnTo>
                  <a:pt x="303" y="1290"/>
                </a:lnTo>
                <a:lnTo>
                  <a:pt x="258" y="1319"/>
                </a:lnTo>
                <a:lnTo>
                  <a:pt x="175" y="1382"/>
                </a:lnTo>
                <a:lnTo>
                  <a:pt x="165" y="1437"/>
                </a:lnTo>
                <a:lnTo>
                  <a:pt x="150" y="1476"/>
                </a:lnTo>
                <a:lnTo>
                  <a:pt x="135" y="1567"/>
                </a:lnTo>
                <a:lnTo>
                  <a:pt x="138" y="1670"/>
                </a:lnTo>
                <a:lnTo>
                  <a:pt x="184" y="1868"/>
                </a:lnTo>
                <a:lnTo>
                  <a:pt x="249" y="1971"/>
                </a:lnTo>
                <a:lnTo>
                  <a:pt x="244" y="1988"/>
                </a:lnTo>
                <a:lnTo>
                  <a:pt x="235" y="2009"/>
                </a:lnTo>
                <a:lnTo>
                  <a:pt x="226" y="2020"/>
                </a:lnTo>
                <a:lnTo>
                  <a:pt x="212" y="2028"/>
                </a:lnTo>
                <a:lnTo>
                  <a:pt x="192" y="2037"/>
                </a:lnTo>
                <a:lnTo>
                  <a:pt x="165" y="2051"/>
                </a:lnTo>
                <a:lnTo>
                  <a:pt x="149" y="2061"/>
                </a:lnTo>
                <a:lnTo>
                  <a:pt x="149" y="2065"/>
                </a:lnTo>
                <a:lnTo>
                  <a:pt x="154" y="2093"/>
                </a:lnTo>
                <a:lnTo>
                  <a:pt x="167" y="2185"/>
                </a:lnTo>
                <a:lnTo>
                  <a:pt x="176" y="2257"/>
                </a:lnTo>
                <a:lnTo>
                  <a:pt x="177" y="2260"/>
                </a:lnTo>
                <a:lnTo>
                  <a:pt x="175" y="2262"/>
                </a:lnTo>
                <a:lnTo>
                  <a:pt x="163" y="2269"/>
                </a:lnTo>
                <a:lnTo>
                  <a:pt x="122" y="2294"/>
                </a:lnTo>
                <a:lnTo>
                  <a:pt x="89" y="2313"/>
                </a:lnTo>
                <a:lnTo>
                  <a:pt x="88" y="2314"/>
                </a:lnTo>
                <a:lnTo>
                  <a:pt x="87" y="2318"/>
                </a:lnTo>
                <a:lnTo>
                  <a:pt x="87" y="2340"/>
                </a:lnTo>
                <a:lnTo>
                  <a:pt x="85" y="2419"/>
                </a:lnTo>
                <a:lnTo>
                  <a:pt x="84" y="2478"/>
                </a:lnTo>
                <a:lnTo>
                  <a:pt x="84" y="2481"/>
                </a:lnTo>
                <a:lnTo>
                  <a:pt x="79" y="2481"/>
                </a:lnTo>
                <a:lnTo>
                  <a:pt x="72" y="2478"/>
                </a:lnTo>
                <a:lnTo>
                  <a:pt x="66" y="2474"/>
                </a:lnTo>
                <a:lnTo>
                  <a:pt x="50" y="2463"/>
                </a:lnTo>
                <a:lnTo>
                  <a:pt x="17" y="2442"/>
                </a:lnTo>
                <a:lnTo>
                  <a:pt x="0" y="2434"/>
                </a:lnTo>
                <a:lnTo>
                  <a:pt x="4" y="2468"/>
                </a:lnTo>
                <a:lnTo>
                  <a:pt x="14" y="2541"/>
                </a:lnTo>
                <a:lnTo>
                  <a:pt x="53" y="2692"/>
                </a:lnTo>
                <a:lnTo>
                  <a:pt x="126" y="2825"/>
                </a:lnTo>
                <a:lnTo>
                  <a:pt x="152" y="2852"/>
                </a:lnTo>
                <a:lnTo>
                  <a:pt x="145" y="2871"/>
                </a:lnTo>
                <a:lnTo>
                  <a:pt x="139" y="2896"/>
                </a:lnTo>
                <a:lnTo>
                  <a:pt x="138" y="2905"/>
                </a:lnTo>
                <a:lnTo>
                  <a:pt x="140" y="2912"/>
                </a:lnTo>
                <a:lnTo>
                  <a:pt x="143" y="2917"/>
                </a:lnTo>
                <a:lnTo>
                  <a:pt x="147" y="2921"/>
                </a:lnTo>
                <a:lnTo>
                  <a:pt x="155" y="2926"/>
                </a:lnTo>
                <a:lnTo>
                  <a:pt x="174" y="2938"/>
                </a:lnTo>
                <a:lnTo>
                  <a:pt x="201" y="2960"/>
                </a:lnTo>
                <a:lnTo>
                  <a:pt x="199" y="2972"/>
                </a:lnTo>
                <a:lnTo>
                  <a:pt x="200" y="2985"/>
                </a:lnTo>
                <a:lnTo>
                  <a:pt x="204" y="2997"/>
                </a:lnTo>
                <a:lnTo>
                  <a:pt x="212" y="3010"/>
                </a:lnTo>
                <a:lnTo>
                  <a:pt x="232" y="3036"/>
                </a:lnTo>
                <a:lnTo>
                  <a:pt x="256" y="3061"/>
                </a:lnTo>
                <a:lnTo>
                  <a:pt x="280" y="3083"/>
                </a:lnTo>
                <a:lnTo>
                  <a:pt x="301" y="3100"/>
                </a:lnTo>
                <a:lnTo>
                  <a:pt x="301" y="3102"/>
                </a:lnTo>
                <a:lnTo>
                  <a:pt x="301" y="3104"/>
                </a:lnTo>
                <a:lnTo>
                  <a:pt x="302" y="3109"/>
                </a:lnTo>
                <a:lnTo>
                  <a:pt x="305" y="3126"/>
                </a:lnTo>
                <a:lnTo>
                  <a:pt x="312" y="3177"/>
                </a:lnTo>
                <a:lnTo>
                  <a:pt x="332" y="3301"/>
                </a:lnTo>
                <a:lnTo>
                  <a:pt x="346" y="3362"/>
                </a:lnTo>
                <a:lnTo>
                  <a:pt x="350" y="3362"/>
                </a:lnTo>
                <a:lnTo>
                  <a:pt x="366" y="3360"/>
                </a:lnTo>
                <a:lnTo>
                  <a:pt x="407" y="3351"/>
                </a:lnTo>
                <a:lnTo>
                  <a:pt x="442" y="3344"/>
                </a:lnTo>
                <a:lnTo>
                  <a:pt x="448" y="3343"/>
                </a:lnTo>
                <a:lnTo>
                  <a:pt x="448" y="3326"/>
                </a:lnTo>
                <a:lnTo>
                  <a:pt x="448" y="3291"/>
                </a:lnTo>
                <a:lnTo>
                  <a:pt x="454" y="3215"/>
                </a:lnTo>
                <a:lnTo>
                  <a:pt x="461" y="3182"/>
                </a:lnTo>
                <a:lnTo>
                  <a:pt x="472" y="3156"/>
                </a:lnTo>
                <a:lnTo>
                  <a:pt x="481" y="3147"/>
                </a:lnTo>
                <a:lnTo>
                  <a:pt x="520" y="3160"/>
                </a:lnTo>
                <a:lnTo>
                  <a:pt x="558" y="3160"/>
                </a:lnTo>
                <a:lnTo>
                  <a:pt x="593" y="3149"/>
                </a:lnTo>
                <a:lnTo>
                  <a:pt x="626" y="3129"/>
                </a:lnTo>
                <a:lnTo>
                  <a:pt x="656" y="3102"/>
                </a:lnTo>
                <a:lnTo>
                  <a:pt x="681" y="3070"/>
                </a:lnTo>
                <a:lnTo>
                  <a:pt x="724" y="2996"/>
                </a:lnTo>
                <a:lnTo>
                  <a:pt x="751" y="2922"/>
                </a:lnTo>
                <a:lnTo>
                  <a:pt x="761" y="2863"/>
                </a:lnTo>
                <a:lnTo>
                  <a:pt x="760" y="2846"/>
                </a:lnTo>
                <a:lnTo>
                  <a:pt x="753" y="2806"/>
                </a:lnTo>
                <a:lnTo>
                  <a:pt x="733" y="2709"/>
                </a:lnTo>
                <a:lnTo>
                  <a:pt x="724" y="2619"/>
                </a:lnTo>
                <a:lnTo>
                  <a:pt x="727" y="2602"/>
                </a:lnTo>
                <a:lnTo>
                  <a:pt x="735" y="2584"/>
                </a:lnTo>
                <a:lnTo>
                  <a:pt x="748" y="2566"/>
                </a:lnTo>
                <a:lnTo>
                  <a:pt x="765" y="2549"/>
                </a:lnTo>
                <a:lnTo>
                  <a:pt x="810" y="2518"/>
                </a:lnTo>
                <a:lnTo>
                  <a:pt x="904" y="2460"/>
                </a:lnTo>
                <a:lnTo>
                  <a:pt x="943" y="2414"/>
                </a:lnTo>
                <a:lnTo>
                  <a:pt x="943" y="2406"/>
                </a:lnTo>
                <a:lnTo>
                  <a:pt x="946" y="2395"/>
                </a:lnTo>
                <a:lnTo>
                  <a:pt x="955" y="2368"/>
                </a:lnTo>
                <a:lnTo>
                  <a:pt x="978" y="2305"/>
                </a:lnTo>
                <a:lnTo>
                  <a:pt x="991" y="2257"/>
                </a:lnTo>
                <a:lnTo>
                  <a:pt x="967" y="2249"/>
                </a:lnTo>
                <a:lnTo>
                  <a:pt x="932" y="2237"/>
                </a:lnTo>
                <a:lnTo>
                  <a:pt x="913" y="2229"/>
                </a:lnTo>
                <a:lnTo>
                  <a:pt x="911" y="2226"/>
                </a:lnTo>
                <a:lnTo>
                  <a:pt x="910" y="2224"/>
                </a:lnTo>
                <a:lnTo>
                  <a:pt x="909" y="2221"/>
                </a:lnTo>
                <a:lnTo>
                  <a:pt x="909" y="2219"/>
                </a:lnTo>
                <a:lnTo>
                  <a:pt x="910" y="2216"/>
                </a:lnTo>
                <a:lnTo>
                  <a:pt x="912" y="2212"/>
                </a:lnTo>
                <a:lnTo>
                  <a:pt x="918" y="2204"/>
                </a:lnTo>
                <a:lnTo>
                  <a:pt x="941" y="2180"/>
                </a:lnTo>
                <a:lnTo>
                  <a:pt x="957" y="2163"/>
                </a:lnTo>
                <a:lnTo>
                  <a:pt x="956" y="2160"/>
                </a:lnTo>
                <a:lnTo>
                  <a:pt x="954" y="2156"/>
                </a:lnTo>
                <a:lnTo>
                  <a:pt x="950" y="2153"/>
                </a:lnTo>
                <a:lnTo>
                  <a:pt x="945" y="2150"/>
                </a:lnTo>
                <a:lnTo>
                  <a:pt x="933" y="2143"/>
                </a:lnTo>
                <a:lnTo>
                  <a:pt x="918" y="2138"/>
                </a:lnTo>
                <a:lnTo>
                  <a:pt x="882" y="2130"/>
                </a:lnTo>
                <a:lnTo>
                  <a:pt x="811" y="2122"/>
                </a:lnTo>
                <a:lnTo>
                  <a:pt x="794" y="2120"/>
                </a:lnTo>
                <a:lnTo>
                  <a:pt x="772" y="2109"/>
                </a:lnTo>
                <a:lnTo>
                  <a:pt x="757" y="2091"/>
                </a:lnTo>
                <a:lnTo>
                  <a:pt x="749" y="2067"/>
                </a:lnTo>
                <a:lnTo>
                  <a:pt x="744" y="2040"/>
                </a:lnTo>
                <a:lnTo>
                  <a:pt x="744" y="1977"/>
                </a:lnTo>
                <a:lnTo>
                  <a:pt x="749" y="1912"/>
                </a:lnTo>
                <a:lnTo>
                  <a:pt x="751" y="1853"/>
                </a:lnTo>
                <a:lnTo>
                  <a:pt x="744" y="1810"/>
                </a:lnTo>
                <a:lnTo>
                  <a:pt x="762" y="1776"/>
                </a:lnTo>
                <a:lnTo>
                  <a:pt x="830" y="1648"/>
                </a:lnTo>
                <a:lnTo>
                  <a:pt x="1022" y="1311"/>
                </a:lnTo>
                <a:lnTo>
                  <a:pt x="1108" y="1180"/>
                </a:lnTo>
                <a:lnTo>
                  <a:pt x="1140" y="1140"/>
                </a:lnTo>
                <a:lnTo>
                  <a:pt x="1152" y="1130"/>
                </a:lnTo>
                <a:lnTo>
                  <a:pt x="1157" y="1127"/>
                </a:lnTo>
                <a:lnTo>
                  <a:pt x="1162" y="1126"/>
                </a:lnTo>
                <a:lnTo>
                  <a:pt x="1164" y="1126"/>
                </a:lnTo>
                <a:lnTo>
                  <a:pt x="1166" y="1127"/>
                </a:lnTo>
                <a:lnTo>
                  <a:pt x="1167" y="1128"/>
                </a:lnTo>
                <a:lnTo>
                  <a:pt x="1168" y="1129"/>
                </a:lnTo>
                <a:lnTo>
                  <a:pt x="1169" y="1131"/>
                </a:lnTo>
                <a:lnTo>
                  <a:pt x="1170" y="1134"/>
                </a:lnTo>
                <a:lnTo>
                  <a:pt x="1170" y="1137"/>
                </a:lnTo>
                <a:lnTo>
                  <a:pt x="1171" y="1140"/>
                </a:lnTo>
                <a:lnTo>
                  <a:pt x="1159" y="1092"/>
                </a:lnTo>
                <a:lnTo>
                  <a:pt x="1146" y="1043"/>
                </a:lnTo>
                <a:lnTo>
                  <a:pt x="1153" y="1071"/>
                </a:lnTo>
                <a:lnTo>
                  <a:pt x="1169" y="1136"/>
                </a:lnTo>
                <a:lnTo>
                  <a:pt x="1171" y="1140"/>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11"/>
          <p:cNvSpPr/>
          <p:nvPr/>
        </p:nvSpPr>
        <p:spPr>
          <a:xfrm>
            <a:off x="2465280" y="4010040"/>
            <a:ext cx="174600" cy="260280"/>
          </a:xfrm>
          <a:custGeom>
            <a:avLst/>
            <a:gdLst>
              <a:gd name="textAreaLeft" fmla="*/ 0 w 174600"/>
              <a:gd name="textAreaRight" fmla="*/ 174960 w 174600"/>
              <a:gd name="textAreaTop" fmla="*/ 0 h 260280"/>
              <a:gd name="textAreaBottom" fmla="*/ 260640 h 260280"/>
            </a:gdLst>
            <a:ahLst/>
            <a:rect l="textAreaLeft" t="textAreaTop" r="textAreaRight" b="textAreaBottom"/>
            <a:pathLst>
              <a:path w="218" h="328">
                <a:moveTo>
                  <a:pt x="115" y="0"/>
                </a:moveTo>
                <a:lnTo>
                  <a:pt x="115" y="4"/>
                </a:lnTo>
                <a:lnTo>
                  <a:pt x="123" y="32"/>
                </a:lnTo>
                <a:lnTo>
                  <a:pt x="147" y="126"/>
                </a:lnTo>
                <a:lnTo>
                  <a:pt x="166" y="197"/>
                </a:lnTo>
                <a:lnTo>
                  <a:pt x="167" y="200"/>
                </a:lnTo>
                <a:lnTo>
                  <a:pt x="167" y="203"/>
                </a:lnTo>
                <a:lnTo>
                  <a:pt x="169" y="205"/>
                </a:lnTo>
                <a:lnTo>
                  <a:pt x="172" y="208"/>
                </a:lnTo>
                <a:lnTo>
                  <a:pt x="180" y="214"/>
                </a:lnTo>
                <a:lnTo>
                  <a:pt x="201" y="235"/>
                </a:lnTo>
                <a:lnTo>
                  <a:pt x="218" y="260"/>
                </a:lnTo>
                <a:lnTo>
                  <a:pt x="217" y="262"/>
                </a:lnTo>
                <a:lnTo>
                  <a:pt x="216" y="269"/>
                </a:lnTo>
                <a:lnTo>
                  <a:pt x="213" y="297"/>
                </a:lnTo>
                <a:lnTo>
                  <a:pt x="211" y="317"/>
                </a:lnTo>
                <a:lnTo>
                  <a:pt x="211" y="318"/>
                </a:lnTo>
                <a:lnTo>
                  <a:pt x="208" y="318"/>
                </a:lnTo>
                <a:lnTo>
                  <a:pt x="201" y="317"/>
                </a:lnTo>
                <a:lnTo>
                  <a:pt x="183" y="313"/>
                </a:lnTo>
                <a:lnTo>
                  <a:pt x="135" y="305"/>
                </a:lnTo>
                <a:lnTo>
                  <a:pt x="108" y="301"/>
                </a:lnTo>
                <a:lnTo>
                  <a:pt x="106" y="302"/>
                </a:lnTo>
                <a:lnTo>
                  <a:pt x="91" y="306"/>
                </a:lnTo>
                <a:lnTo>
                  <a:pt x="39" y="318"/>
                </a:lnTo>
                <a:lnTo>
                  <a:pt x="1" y="328"/>
                </a:lnTo>
                <a:lnTo>
                  <a:pt x="0" y="328"/>
                </a:lnTo>
                <a:lnTo>
                  <a:pt x="2" y="322"/>
                </a:lnTo>
                <a:lnTo>
                  <a:pt x="17" y="277"/>
                </a:lnTo>
                <a:lnTo>
                  <a:pt x="71" y="125"/>
                </a:lnTo>
                <a:lnTo>
                  <a:pt x="112" y="7"/>
                </a:lnTo>
                <a:lnTo>
                  <a:pt x="1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112"/>
          <p:cNvSpPr/>
          <p:nvPr/>
        </p:nvSpPr>
        <p:spPr>
          <a:xfrm>
            <a:off x="2465280" y="4010040"/>
            <a:ext cx="174600" cy="260280"/>
          </a:xfrm>
          <a:custGeom>
            <a:avLst/>
            <a:gdLst>
              <a:gd name="textAreaLeft" fmla="*/ 0 w 174600"/>
              <a:gd name="textAreaRight" fmla="*/ 174960 w 174600"/>
              <a:gd name="textAreaTop" fmla="*/ 0 h 260280"/>
              <a:gd name="textAreaBottom" fmla="*/ 260640 h 260280"/>
            </a:gdLst>
            <a:ahLst/>
            <a:rect l="textAreaLeft" t="textAreaTop" r="textAreaRight" b="textAreaBottom"/>
            <a:pathLst>
              <a:path w="218" h="328">
                <a:moveTo>
                  <a:pt x="115" y="0"/>
                </a:moveTo>
                <a:lnTo>
                  <a:pt x="115" y="4"/>
                </a:lnTo>
                <a:lnTo>
                  <a:pt x="123" y="32"/>
                </a:lnTo>
                <a:lnTo>
                  <a:pt x="147" y="126"/>
                </a:lnTo>
                <a:lnTo>
                  <a:pt x="166" y="197"/>
                </a:lnTo>
                <a:lnTo>
                  <a:pt x="167" y="200"/>
                </a:lnTo>
                <a:lnTo>
                  <a:pt x="167" y="203"/>
                </a:lnTo>
                <a:lnTo>
                  <a:pt x="169" y="205"/>
                </a:lnTo>
                <a:lnTo>
                  <a:pt x="172" y="208"/>
                </a:lnTo>
                <a:lnTo>
                  <a:pt x="180" y="214"/>
                </a:lnTo>
                <a:lnTo>
                  <a:pt x="201" y="235"/>
                </a:lnTo>
                <a:lnTo>
                  <a:pt x="218" y="260"/>
                </a:lnTo>
                <a:lnTo>
                  <a:pt x="217" y="262"/>
                </a:lnTo>
                <a:lnTo>
                  <a:pt x="216" y="269"/>
                </a:lnTo>
                <a:lnTo>
                  <a:pt x="213" y="297"/>
                </a:lnTo>
                <a:lnTo>
                  <a:pt x="211" y="317"/>
                </a:lnTo>
                <a:lnTo>
                  <a:pt x="211" y="318"/>
                </a:lnTo>
                <a:lnTo>
                  <a:pt x="208" y="318"/>
                </a:lnTo>
                <a:lnTo>
                  <a:pt x="201" y="317"/>
                </a:lnTo>
                <a:lnTo>
                  <a:pt x="183" y="313"/>
                </a:lnTo>
                <a:lnTo>
                  <a:pt x="135" y="305"/>
                </a:lnTo>
                <a:lnTo>
                  <a:pt x="108" y="301"/>
                </a:lnTo>
                <a:lnTo>
                  <a:pt x="106" y="302"/>
                </a:lnTo>
                <a:lnTo>
                  <a:pt x="91" y="306"/>
                </a:lnTo>
                <a:lnTo>
                  <a:pt x="39" y="318"/>
                </a:lnTo>
                <a:lnTo>
                  <a:pt x="1" y="328"/>
                </a:lnTo>
                <a:lnTo>
                  <a:pt x="0" y="328"/>
                </a:lnTo>
                <a:lnTo>
                  <a:pt x="2" y="322"/>
                </a:lnTo>
                <a:lnTo>
                  <a:pt x="17" y="277"/>
                </a:lnTo>
                <a:lnTo>
                  <a:pt x="71" y="125"/>
                </a:lnTo>
                <a:lnTo>
                  <a:pt x="112" y="7"/>
                </a:lnTo>
                <a:lnTo>
                  <a:pt x="115" y="0"/>
                </a:lnTo>
              </a:path>
            </a:pathLst>
          </a:custGeom>
          <a:solidFill>
            <a:srgbClr val="ffffff"/>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113"/>
          <p:cNvSpPr/>
          <p:nvPr/>
        </p:nvSpPr>
        <p:spPr>
          <a:xfrm>
            <a:off x="2111400" y="3849840"/>
            <a:ext cx="447480" cy="420480"/>
          </a:xfrm>
          <a:custGeom>
            <a:avLst/>
            <a:gdLst>
              <a:gd name="textAreaLeft" fmla="*/ 0 w 447480"/>
              <a:gd name="textAreaRight" fmla="*/ 447840 w 447480"/>
              <a:gd name="textAreaTop" fmla="*/ 0 h 420480"/>
              <a:gd name="textAreaBottom" fmla="*/ 420840 h 420480"/>
            </a:gdLst>
            <a:ahLst/>
            <a:rect l="textAreaLeft" t="textAreaTop" r="textAreaRight" b="textAreaBottom"/>
            <a:pathLst>
              <a:path w="563" h="528">
                <a:moveTo>
                  <a:pt x="0" y="66"/>
                </a:moveTo>
                <a:lnTo>
                  <a:pt x="6" y="78"/>
                </a:lnTo>
                <a:lnTo>
                  <a:pt x="21" y="95"/>
                </a:lnTo>
                <a:lnTo>
                  <a:pt x="37" y="104"/>
                </a:lnTo>
                <a:lnTo>
                  <a:pt x="54" y="111"/>
                </a:lnTo>
                <a:lnTo>
                  <a:pt x="71" y="115"/>
                </a:lnTo>
                <a:lnTo>
                  <a:pt x="87" y="121"/>
                </a:lnTo>
                <a:lnTo>
                  <a:pt x="96" y="125"/>
                </a:lnTo>
                <a:lnTo>
                  <a:pt x="102" y="135"/>
                </a:lnTo>
                <a:lnTo>
                  <a:pt x="125" y="164"/>
                </a:lnTo>
                <a:lnTo>
                  <a:pt x="142" y="185"/>
                </a:lnTo>
                <a:lnTo>
                  <a:pt x="143" y="186"/>
                </a:lnTo>
                <a:lnTo>
                  <a:pt x="151" y="195"/>
                </a:lnTo>
                <a:lnTo>
                  <a:pt x="165" y="211"/>
                </a:lnTo>
                <a:lnTo>
                  <a:pt x="193" y="236"/>
                </a:lnTo>
                <a:lnTo>
                  <a:pt x="234" y="261"/>
                </a:lnTo>
                <a:lnTo>
                  <a:pt x="249" y="270"/>
                </a:lnTo>
                <a:lnTo>
                  <a:pt x="249" y="274"/>
                </a:lnTo>
                <a:lnTo>
                  <a:pt x="249" y="284"/>
                </a:lnTo>
                <a:lnTo>
                  <a:pt x="253" y="307"/>
                </a:lnTo>
                <a:lnTo>
                  <a:pt x="254" y="329"/>
                </a:lnTo>
                <a:lnTo>
                  <a:pt x="255" y="332"/>
                </a:lnTo>
                <a:lnTo>
                  <a:pt x="269" y="339"/>
                </a:lnTo>
                <a:lnTo>
                  <a:pt x="287" y="352"/>
                </a:lnTo>
                <a:lnTo>
                  <a:pt x="298" y="364"/>
                </a:lnTo>
                <a:lnTo>
                  <a:pt x="305" y="377"/>
                </a:lnTo>
                <a:lnTo>
                  <a:pt x="332" y="404"/>
                </a:lnTo>
                <a:lnTo>
                  <a:pt x="345" y="411"/>
                </a:lnTo>
                <a:lnTo>
                  <a:pt x="359" y="419"/>
                </a:lnTo>
                <a:lnTo>
                  <a:pt x="385" y="435"/>
                </a:lnTo>
                <a:lnTo>
                  <a:pt x="425" y="465"/>
                </a:lnTo>
                <a:lnTo>
                  <a:pt x="438" y="487"/>
                </a:lnTo>
                <a:lnTo>
                  <a:pt x="446" y="513"/>
                </a:lnTo>
                <a:lnTo>
                  <a:pt x="447" y="528"/>
                </a:lnTo>
                <a:lnTo>
                  <a:pt x="449" y="522"/>
                </a:lnTo>
                <a:lnTo>
                  <a:pt x="464" y="477"/>
                </a:lnTo>
                <a:lnTo>
                  <a:pt x="519" y="323"/>
                </a:lnTo>
                <a:lnTo>
                  <a:pt x="559" y="205"/>
                </a:lnTo>
                <a:lnTo>
                  <a:pt x="563" y="198"/>
                </a:lnTo>
                <a:lnTo>
                  <a:pt x="558" y="195"/>
                </a:lnTo>
                <a:lnTo>
                  <a:pt x="549" y="187"/>
                </a:lnTo>
                <a:lnTo>
                  <a:pt x="526" y="175"/>
                </a:lnTo>
                <a:lnTo>
                  <a:pt x="498" y="168"/>
                </a:lnTo>
                <a:lnTo>
                  <a:pt x="491" y="167"/>
                </a:lnTo>
                <a:lnTo>
                  <a:pt x="491" y="166"/>
                </a:lnTo>
                <a:lnTo>
                  <a:pt x="493" y="155"/>
                </a:lnTo>
                <a:lnTo>
                  <a:pt x="500" y="119"/>
                </a:lnTo>
                <a:lnTo>
                  <a:pt x="506" y="91"/>
                </a:lnTo>
                <a:lnTo>
                  <a:pt x="507" y="89"/>
                </a:lnTo>
                <a:lnTo>
                  <a:pt x="502" y="88"/>
                </a:lnTo>
                <a:lnTo>
                  <a:pt x="479" y="77"/>
                </a:lnTo>
                <a:lnTo>
                  <a:pt x="395" y="40"/>
                </a:lnTo>
                <a:lnTo>
                  <a:pt x="332" y="13"/>
                </a:lnTo>
                <a:lnTo>
                  <a:pt x="329" y="11"/>
                </a:lnTo>
                <a:lnTo>
                  <a:pt x="327" y="12"/>
                </a:lnTo>
                <a:lnTo>
                  <a:pt x="313" y="14"/>
                </a:lnTo>
                <a:lnTo>
                  <a:pt x="268" y="23"/>
                </a:lnTo>
                <a:lnTo>
                  <a:pt x="232" y="30"/>
                </a:lnTo>
                <a:lnTo>
                  <a:pt x="231" y="30"/>
                </a:lnTo>
                <a:lnTo>
                  <a:pt x="229" y="30"/>
                </a:lnTo>
                <a:lnTo>
                  <a:pt x="217" y="26"/>
                </a:lnTo>
                <a:lnTo>
                  <a:pt x="176" y="12"/>
                </a:lnTo>
                <a:lnTo>
                  <a:pt x="145" y="1"/>
                </a:lnTo>
                <a:lnTo>
                  <a:pt x="144" y="0"/>
                </a:lnTo>
                <a:lnTo>
                  <a:pt x="141" y="2"/>
                </a:lnTo>
                <a:lnTo>
                  <a:pt x="121" y="11"/>
                </a:lnTo>
                <a:lnTo>
                  <a:pt x="53" y="41"/>
                </a:lnTo>
                <a:lnTo>
                  <a:pt x="2" y="65"/>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114"/>
          <p:cNvSpPr/>
          <p:nvPr/>
        </p:nvSpPr>
        <p:spPr>
          <a:xfrm>
            <a:off x="2111400" y="3849840"/>
            <a:ext cx="447480" cy="420480"/>
          </a:xfrm>
          <a:custGeom>
            <a:avLst/>
            <a:gdLst>
              <a:gd name="textAreaLeft" fmla="*/ 0 w 447480"/>
              <a:gd name="textAreaRight" fmla="*/ 447840 w 447480"/>
              <a:gd name="textAreaTop" fmla="*/ 0 h 420480"/>
              <a:gd name="textAreaBottom" fmla="*/ 420840 h 420480"/>
            </a:gdLst>
            <a:ahLst/>
            <a:rect l="textAreaLeft" t="textAreaTop" r="textAreaRight" b="textAreaBottom"/>
            <a:pathLst>
              <a:path w="563" h="528">
                <a:moveTo>
                  <a:pt x="0" y="66"/>
                </a:moveTo>
                <a:lnTo>
                  <a:pt x="6" y="78"/>
                </a:lnTo>
                <a:lnTo>
                  <a:pt x="21" y="95"/>
                </a:lnTo>
                <a:lnTo>
                  <a:pt x="37" y="104"/>
                </a:lnTo>
                <a:lnTo>
                  <a:pt x="54" y="111"/>
                </a:lnTo>
                <a:lnTo>
                  <a:pt x="71" y="115"/>
                </a:lnTo>
                <a:lnTo>
                  <a:pt x="87" y="121"/>
                </a:lnTo>
                <a:lnTo>
                  <a:pt x="96" y="125"/>
                </a:lnTo>
                <a:lnTo>
                  <a:pt x="102" y="135"/>
                </a:lnTo>
                <a:lnTo>
                  <a:pt x="125" y="164"/>
                </a:lnTo>
                <a:lnTo>
                  <a:pt x="142" y="185"/>
                </a:lnTo>
                <a:lnTo>
                  <a:pt x="143" y="186"/>
                </a:lnTo>
                <a:lnTo>
                  <a:pt x="151" y="195"/>
                </a:lnTo>
                <a:lnTo>
                  <a:pt x="165" y="211"/>
                </a:lnTo>
                <a:lnTo>
                  <a:pt x="193" y="236"/>
                </a:lnTo>
                <a:lnTo>
                  <a:pt x="234" y="261"/>
                </a:lnTo>
                <a:lnTo>
                  <a:pt x="249" y="270"/>
                </a:lnTo>
                <a:lnTo>
                  <a:pt x="249" y="274"/>
                </a:lnTo>
                <a:lnTo>
                  <a:pt x="249" y="284"/>
                </a:lnTo>
                <a:lnTo>
                  <a:pt x="253" y="307"/>
                </a:lnTo>
                <a:lnTo>
                  <a:pt x="254" y="329"/>
                </a:lnTo>
                <a:lnTo>
                  <a:pt x="255" y="332"/>
                </a:lnTo>
                <a:lnTo>
                  <a:pt x="269" y="339"/>
                </a:lnTo>
                <a:lnTo>
                  <a:pt x="287" y="352"/>
                </a:lnTo>
                <a:lnTo>
                  <a:pt x="298" y="364"/>
                </a:lnTo>
                <a:lnTo>
                  <a:pt x="305" y="377"/>
                </a:lnTo>
                <a:lnTo>
                  <a:pt x="332" y="404"/>
                </a:lnTo>
                <a:lnTo>
                  <a:pt x="345" y="411"/>
                </a:lnTo>
                <a:lnTo>
                  <a:pt x="359" y="419"/>
                </a:lnTo>
                <a:lnTo>
                  <a:pt x="385" y="435"/>
                </a:lnTo>
                <a:lnTo>
                  <a:pt x="425" y="465"/>
                </a:lnTo>
                <a:lnTo>
                  <a:pt x="438" y="487"/>
                </a:lnTo>
                <a:lnTo>
                  <a:pt x="446" y="513"/>
                </a:lnTo>
                <a:lnTo>
                  <a:pt x="447" y="528"/>
                </a:lnTo>
                <a:lnTo>
                  <a:pt x="449" y="522"/>
                </a:lnTo>
                <a:lnTo>
                  <a:pt x="464" y="477"/>
                </a:lnTo>
                <a:lnTo>
                  <a:pt x="519" y="323"/>
                </a:lnTo>
                <a:lnTo>
                  <a:pt x="559" y="205"/>
                </a:lnTo>
                <a:lnTo>
                  <a:pt x="563" y="198"/>
                </a:lnTo>
                <a:lnTo>
                  <a:pt x="558" y="195"/>
                </a:lnTo>
                <a:lnTo>
                  <a:pt x="549" y="187"/>
                </a:lnTo>
                <a:lnTo>
                  <a:pt x="526" y="175"/>
                </a:lnTo>
                <a:lnTo>
                  <a:pt x="498" y="168"/>
                </a:lnTo>
                <a:lnTo>
                  <a:pt x="491" y="167"/>
                </a:lnTo>
                <a:lnTo>
                  <a:pt x="491" y="166"/>
                </a:lnTo>
                <a:lnTo>
                  <a:pt x="493" y="155"/>
                </a:lnTo>
                <a:lnTo>
                  <a:pt x="500" y="119"/>
                </a:lnTo>
                <a:lnTo>
                  <a:pt x="506" y="91"/>
                </a:lnTo>
                <a:lnTo>
                  <a:pt x="507" y="89"/>
                </a:lnTo>
                <a:lnTo>
                  <a:pt x="502" y="88"/>
                </a:lnTo>
                <a:lnTo>
                  <a:pt x="479" y="77"/>
                </a:lnTo>
                <a:lnTo>
                  <a:pt x="395" y="40"/>
                </a:lnTo>
                <a:lnTo>
                  <a:pt x="332" y="13"/>
                </a:lnTo>
                <a:lnTo>
                  <a:pt x="329" y="11"/>
                </a:lnTo>
                <a:lnTo>
                  <a:pt x="327" y="12"/>
                </a:lnTo>
                <a:lnTo>
                  <a:pt x="313" y="14"/>
                </a:lnTo>
                <a:lnTo>
                  <a:pt x="268" y="23"/>
                </a:lnTo>
                <a:lnTo>
                  <a:pt x="232" y="30"/>
                </a:lnTo>
                <a:lnTo>
                  <a:pt x="231" y="30"/>
                </a:lnTo>
                <a:lnTo>
                  <a:pt x="229" y="30"/>
                </a:lnTo>
                <a:lnTo>
                  <a:pt x="217" y="26"/>
                </a:lnTo>
                <a:lnTo>
                  <a:pt x="176" y="12"/>
                </a:lnTo>
                <a:lnTo>
                  <a:pt x="145" y="1"/>
                </a:lnTo>
                <a:lnTo>
                  <a:pt x="144" y="0"/>
                </a:lnTo>
                <a:lnTo>
                  <a:pt x="141" y="2"/>
                </a:lnTo>
                <a:lnTo>
                  <a:pt x="121" y="11"/>
                </a:lnTo>
                <a:lnTo>
                  <a:pt x="53" y="41"/>
                </a:lnTo>
                <a:lnTo>
                  <a:pt x="2" y="65"/>
                </a:lnTo>
                <a:lnTo>
                  <a:pt x="0" y="66"/>
                </a:lnTo>
              </a:path>
            </a:pathLst>
          </a:custGeom>
          <a:blipFill rotWithShape="0">
            <a:blip r:embed="rId11"/>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115"/>
          <p:cNvSpPr/>
          <p:nvPr/>
        </p:nvSpPr>
        <p:spPr>
          <a:xfrm>
            <a:off x="4449600" y="5419800"/>
            <a:ext cx="1332000" cy="1315800"/>
          </a:xfrm>
          <a:custGeom>
            <a:avLst/>
            <a:gdLst>
              <a:gd name="textAreaLeft" fmla="*/ 0 w 1332000"/>
              <a:gd name="textAreaRight" fmla="*/ 1332360 w 1332000"/>
              <a:gd name="textAreaTop" fmla="*/ 0 h 1315800"/>
              <a:gd name="textAreaBottom" fmla="*/ 1316160 h 1315800"/>
            </a:gdLst>
            <a:ahLst/>
            <a:rect l="textAreaLeft" t="textAreaTop" r="textAreaRight" b="textAreaBottom"/>
            <a:pathLst>
              <a:path w="1678" h="1659">
                <a:moveTo>
                  <a:pt x="1623" y="1478"/>
                </a:moveTo>
                <a:lnTo>
                  <a:pt x="1624" y="1483"/>
                </a:lnTo>
                <a:lnTo>
                  <a:pt x="1626" y="1486"/>
                </a:lnTo>
                <a:lnTo>
                  <a:pt x="1629" y="1491"/>
                </a:lnTo>
                <a:lnTo>
                  <a:pt x="1634" y="1493"/>
                </a:lnTo>
                <a:lnTo>
                  <a:pt x="1642" y="1497"/>
                </a:lnTo>
                <a:lnTo>
                  <a:pt x="1652" y="1500"/>
                </a:lnTo>
                <a:lnTo>
                  <a:pt x="1660" y="1501"/>
                </a:lnTo>
                <a:lnTo>
                  <a:pt x="1669" y="1501"/>
                </a:lnTo>
                <a:lnTo>
                  <a:pt x="1673" y="1495"/>
                </a:lnTo>
                <a:lnTo>
                  <a:pt x="1677" y="1488"/>
                </a:lnTo>
                <a:lnTo>
                  <a:pt x="1678" y="1482"/>
                </a:lnTo>
                <a:lnTo>
                  <a:pt x="1678" y="1476"/>
                </a:lnTo>
                <a:lnTo>
                  <a:pt x="1677" y="1469"/>
                </a:lnTo>
                <a:lnTo>
                  <a:pt x="1673" y="1463"/>
                </a:lnTo>
                <a:lnTo>
                  <a:pt x="1665" y="1451"/>
                </a:lnTo>
                <a:lnTo>
                  <a:pt x="1652" y="1439"/>
                </a:lnTo>
                <a:lnTo>
                  <a:pt x="1636" y="1427"/>
                </a:lnTo>
                <a:lnTo>
                  <a:pt x="1626" y="1422"/>
                </a:lnTo>
                <a:lnTo>
                  <a:pt x="1614" y="1412"/>
                </a:lnTo>
                <a:lnTo>
                  <a:pt x="1609" y="1405"/>
                </a:lnTo>
                <a:lnTo>
                  <a:pt x="1608" y="1405"/>
                </a:lnTo>
                <a:lnTo>
                  <a:pt x="1608" y="1406"/>
                </a:lnTo>
                <a:lnTo>
                  <a:pt x="1608" y="1408"/>
                </a:lnTo>
                <a:lnTo>
                  <a:pt x="1608" y="1410"/>
                </a:lnTo>
                <a:lnTo>
                  <a:pt x="1610" y="1417"/>
                </a:lnTo>
                <a:lnTo>
                  <a:pt x="1617" y="1445"/>
                </a:lnTo>
                <a:lnTo>
                  <a:pt x="1623" y="1478"/>
                </a:lnTo>
                <a:lnTo>
                  <a:pt x="1623" y="1482"/>
                </a:lnTo>
                <a:lnTo>
                  <a:pt x="1624" y="1486"/>
                </a:lnTo>
                <a:lnTo>
                  <a:pt x="1624" y="1484"/>
                </a:lnTo>
                <a:lnTo>
                  <a:pt x="1623" y="1479"/>
                </a:lnTo>
                <a:lnTo>
                  <a:pt x="1623" y="1478"/>
                </a:lnTo>
                <a:close/>
                <a:moveTo>
                  <a:pt x="1238" y="826"/>
                </a:moveTo>
                <a:lnTo>
                  <a:pt x="1240" y="819"/>
                </a:lnTo>
                <a:lnTo>
                  <a:pt x="1243" y="812"/>
                </a:lnTo>
                <a:lnTo>
                  <a:pt x="1255" y="797"/>
                </a:lnTo>
                <a:lnTo>
                  <a:pt x="1268" y="788"/>
                </a:lnTo>
                <a:lnTo>
                  <a:pt x="1274" y="786"/>
                </a:lnTo>
                <a:lnTo>
                  <a:pt x="1278" y="786"/>
                </a:lnTo>
                <a:lnTo>
                  <a:pt x="1280" y="787"/>
                </a:lnTo>
                <a:lnTo>
                  <a:pt x="1282" y="789"/>
                </a:lnTo>
                <a:lnTo>
                  <a:pt x="1283" y="791"/>
                </a:lnTo>
                <a:lnTo>
                  <a:pt x="1285" y="794"/>
                </a:lnTo>
                <a:lnTo>
                  <a:pt x="1285" y="799"/>
                </a:lnTo>
                <a:lnTo>
                  <a:pt x="1285" y="810"/>
                </a:lnTo>
                <a:lnTo>
                  <a:pt x="1283" y="826"/>
                </a:lnTo>
                <a:lnTo>
                  <a:pt x="1279" y="841"/>
                </a:lnTo>
                <a:lnTo>
                  <a:pt x="1271" y="861"/>
                </a:lnTo>
                <a:lnTo>
                  <a:pt x="1267" y="868"/>
                </a:lnTo>
                <a:lnTo>
                  <a:pt x="1263" y="872"/>
                </a:lnTo>
                <a:lnTo>
                  <a:pt x="1260" y="873"/>
                </a:lnTo>
                <a:lnTo>
                  <a:pt x="1258" y="874"/>
                </a:lnTo>
                <a:lnTo>
                  <a:pt x="1256" y="874"/>
                </a:lnTo>
                <a:lnTo>
                  <a:pt x="1254" y="873"/>
                </a:lnTo>
                <a:lnTo>
                  <a:pt x="1253" y="872"/>
                </a:lnTo>
                <a:lnTo>
                  <a:pt x="1251" y="870"/>
                </a:lnTo>
                <a:lnTo>
                  <a:pt x="1249" y="867"/>
                </a:lnTo>
                <a:lnTo>
                  <a:pt x="1245" y="860"/>
                </a:lnTo>
                <a:lnTo>
                  <a:pt x="1242" y="849"/>
                </a:lnTo>
                <a:lnTo>
                  <a:pt x="1239" y="834"/>
                </a:lnTo>
                <a:lnTo>
                  <a:pt x="1238" y="826"/>
                </a:lnTo>
                <a:lnTo>
                  <a:pt x="1239" y="821"/>
                </a:lnTo>
                <a:lnTo>
                  <a:pt x="1240" y="815"/>
                </a:lnTo>
                <a:lnTo>
                  <a:pt x="1239" y="818"/>
                </a:lnTo>
                <a:lnTo>
                  <a:pt x="1238" y="826"/>
                </a:lnTo>
                <a:close/>
                <a:moveTo>
                  <a:pt x="1332" y="973"/>
                </a:moveTo>
                <a:lnTo>
                  <a:pt x="1325" y="973"/>
                </a:lnTo>
                <a:lnTo>
                  <a:pt x="1314" y="973"/>
                </a:lnTo>
                <a:lnTo>
                  <a:pt x="1311" y="974"/>
                </a:lnTo>
                <a:lnTo>
                  <a:pt x="1309" y="975"/>
                </a:lnTo>
                <a:lnTo>
                  <a:pt x="1307" y="976"/>
                </a:lnTo>
                <a:lnTo>
                  <a:pt x="1306" y="979"/>
                </a:lnTo>
                <a:lnTo>
                  <a:pt x="1306" y="982"/>
                </a:lnTo>
                <a:lnTo>
                  <a:pt x="1306" y="986"/>
                </a:lnTo>
                <a:lnTo>
                  <a:pt x="1308" y="999"/>
                </a:lnTo>
                <a:lnTo>
                  <a:pt x="1310" y="1008"/>
                </a:lnTo>
                <a:lnTo>
                  <a:pt x="1313" y="1008"/>
                </a:lnTo>
                <a:lnTo>
                  <a:pt x="1324" y="1006"/>
                </a:lnTo>
                <a:lnTo>
                  <a:pt x="1332" y="1005"/>
                </a:lnTo>
                <a:lnTo>
                  <a:pt x="1333" y="1004"/>
                </a:lnTo>
                <a:lnTo>
                  <a:pt x="1344" y="1002"/>
                </a:lnTo>
                <a:lnTo>
                  <a:pt x="1361" y="995"/>
                </a:lnTo>
                <a:lnTo>
                  <a:pt x="1366" y="992"/>
                </a:lnTo>
                <a:lnTo>
                  <a:pt x="1368" y="989"/>
                </a:lnTo>
                <a:lnTo>
                  <a:pt x="1369" y="987"/>
                </a:lnTo>
                <a:lnTo>
                  <a:pt x="1369" y="985"/>
                </a:lnTo>
                <a:lnTo>
                  <a:pt x="1368" y="983"/>
                </a:lnTo>
                <a:lnTo>
                  <a:pt x="1367" y="982"/>
                </a:lnTo>
                <a:lnTo>
                  <a:pt x="1366" y="981"/>
                </a:lnTo>
                <a:lnTo>
                  <a:pt x="1363" y="979"/>
                </a:lnTo>
                <a:lnTo>
                  <a:pt x="1358" y="977"/>
                </a:lnTo>
                <a:lnTo>
                  <a:pt x="1351" y="975"/>
                </a:lnTo>
                <a:lnTo>
                  <a:pt x="1332" y="973"/>
                </a:lnTo>
                <a:lnTo>
                  <a:pt x="1326" y="973"/>
                </a:lnTo>
                <a:lnTo>
                  <a:pt x="1319" y="973"/>
                </a:lnTo>
                <a:lnTo>
                  <a:pt x="1323" y="973"/>
                </a:lnTo>
                <a:lnTo>
                  <a:pt x="1331" y="973"/>
                </a:lnTo>
                <a:lnTo>
                  <a:pt x="1332" y="973"/>
                </a:lnTo>
                <a:close/>
                <a:moveTo>
                  <a:pt x="971" y="399"/>
                </a:moveTo>
                <a:lnTo>
                  <a:pt x="977" y="397"/>
                </a:lnTo>
                <a:lnTo>
                  <a:pt x="988" y="392"/>
                </a:lnTo>
                <a:lnTo>
                  <a:pt x="997" y="387"/>
                </a:lnTo>
                <a:lnTo>
                  <a:pt x="999" y="385"/>
                </a:lnTo>
                <a:lnTo>
                  <a:pt x="1007" y="397"/>
                </a:lnTo>
                <a:lnTo>
                  <a:pt x="1012" y="409"/>
                </a:lnTo>
                <a:lnTo>
                  <a:pt x="1013" y="417"/>
                </a:lnTo>
                <a:lnTo>
                  <a:pt x="1011" y="423"/>
                </a:lnTo>
                <a:lnTo>
                  <a:pt x="1007" y="428"/>
                </a:lnTo>
                <a:lnTo>
                  <a:pt x="1001" y="430"/>
                </a:lnTo>
                <a:lnTo>
                  <a:pt x="995" y="431"/>
                </a:lnTo>
                <a:lnTo>
                  <a:pt x="988" y="429"/>
                </a:lnTo>
                <a:lnTo>
                  <a:pt x="981" y="425"/>
                </a:lnTo>
                <a:lnTo>
                  <a:pt x="975" y="419"/>
                </a:lnTo>
                <a:lnTo>
                  <a:pt x="972" y="411"/>
                </a:lnTo>
                <a:lnTo>
                  <a:pt x="971" y="399"/>
                </a:lnTo>
                <a:lnTo>
                  <a:pt x="973" y="398"/>
                </a:lnTo>
                <a:lnTo>
                  <a:pt x="972" y="399"/>
                </a:lnTo>
                <a:lnTo>
                  <a:pt x="971" y="399"/>
                </a:lnTo>
                <a:close/>
                <a:moveTo>
                  <a:pt x="1055" y="444"/>
                </a:moveTo>
                <a:lnTo>
                  <a:pt x="1057" y="445"/>
                </a:lnTo>
                <a:lnTo>
                  <a:pt x="1059" y="446"/>
                </a:lnTo>
                <a:lnTo>
                  <a:pt x="1062" y="448"/>
                </a:lnTo>
                <a:lnTo>
                  <a:pt x="1066" y="452"/>
                </a:lnTo>
                <a:lnTo>
                  <a:pt x="1072" y="459"/>
                </a:lnTo>
                <a:lnTo>
                  <a:pt x="1073" y="461"/>
                </a:lnTo>
                <a:lnTo>
                  <a:pt x="1073" y="465"/>
                </a:lnTo>
                <a:lnTo>
                  <a:pt x="1074" y="472"/>
                </a:lnTo>
                <a:lnTo>
                  <a:pt x="1075" y="487"/>
                </a:lnTo>
                <a:lnTo>
                  <a:pt x="1074" y="501"/>
                </a:lnTo>
                <a:lnTo>
                  <a:pt x="1073" y="503"/>
                </a:lnTo>
                <a:lnTo>
                  <a:pt x="1063" y="525"/>
                </a:lnTo>
                <a:lnTo>
                  <a:pt x="1056" y="536"/>
                </a:lnTo>
                <a:lnTo>
                  <a:pt x="1052" y="539"/>
                </a:lnTo>
                <a:lnTo>
                  <a:pt x="1051" y="540"/>
                </a:lnTo>
                <a:lnTo>
                  <a:pt x="1050" y="540"/>
                </a:lnTo>
                <a:lnTo>
                  <a:pt x="1049" y="540"/>
                </a:lnTo>
                <a:lnTo>
                  <a:pt x="1047" y="539"/>
                </a:lnTo>
                <a:lnTo>
                  <a:pt x="1046" y="537"/>
                </a:lnTo>
                <a:lnTo>
                  <a:pt x="1046" y="536"/>
                </a:lnTo>
                <a:lnTo>
                  <a:pt x="1045" y="532"/>
                </a:lnTo>
                <a:lnTo>
                  <a:pt x="1044" y="521"/>
                </a:lnTo>
                <a:lnTo>
                  <a:pt x="1045" y="492"/>
                </a:lnTo>
                <a:lnTo>
                  <a:pt x="1048" y="464"/>
                </a:lnTo>
                <a:lnTo>
                  <a:pt x="1054" y="445"/>
                </a:lnTo>
                <a:lnTo>
                  <a:pt x="1055" y="444"/>
                </a:lnTo>
                <a:lnTo>
                  <a:pt x="1056" y="444"/>
                </a:lnTo>
                <a:lnTo>
                  <a:pt x="1057" y="444"/>
                </a:lnTo>
                <a:lnTo>
                  <a:pt x="1056" y="444"/>
                </a:lnTo>
                <a:lnTo>
                  <a:pt x="1055" y="444"/>
                </a:lnTo>
                <a:close/>
                <a:moveTo>
                  <a:pt x="1030" y="794"/>
                </a:moveTo>
                <a:lnTo>
                  <a:pt x="1043" y="794"/>
                </a:lnTo>
                <a:lnTo>
                  <a:pt x="1052" y="792"/>
                </a:lnTo>
                <a:lnTo>
                  <a:pt x="1055" y="791"/>
                </a:lnTo>
                <a:lnTo>
                  <a:pt x="1057" y="790"/>
                </a:lnTo>
                <a:lnTo>
                  <a:pt x="1058" y="788"/>
                </a:lnTo>
                <a:lnTo>
                  <a:pt x="1058" y="786"/>
                </a:lnTo>
                <a:lnTo>
                  <a:pt x="1058" y="783"/>
                </a:lnTo>
                <a:lnTo>
                  <a:pt x="1057" y="781"/>
                </a:lnTo>
                <a:lnTo>
                  <a:pt x="1055" y="779"/>
                </a:lnTo>
                <a:lnTo>
                  <a:pt x="1050" y="774"/>
                </a:lnTo>
                <a:lnTo>
                  <a:pt x="1040" y="764"/>
                </a:lnTo>
                <a:lnTo>
                  <a:pt x="1030" y="754"/>
                </a:lnTo>
                <a:lnTo>
                  <a:pt x="1028" y="747"/>
                </a:lnTo>
                <a:lnTo>
                  <a:pt x="1007" y="743"/>
                </a:lnTo>
                <a:lnTo>
                  <a:pt x="977" y="737"/>
                </a:lnTo>
                <a:lnTo>
                  <a:pt x="959" y="737"/>
                </a:lnTo>
                <a:lnTo>
                  <a:pt x="956" y="737"/>
                </a:lnTo>
                <a:lnTo>
                  <a:pt x="955" y="738"/>
                </a:lnTo>
                <a:lnTo>
                  <a:pt x="954" y="739"/>
                </a:lnTo>
                <a:lnTo>
                  <a:pt x="953" y="741"/>
                </a:lnTo>
                <a:lnTo>
                  <a:pt x="954" y="743"/>
                </a:lnTo>
                <a:lnTo>
                  <a:pt x="955" y="744"/>
                </a:lnTo>
                <a:lnTo>
                  <a:pt x="957" y="746"/>
                </a:lnTo>
                <a:lnTo>
                  <a:pt x="959" y="748"/>
                </a:lnTo>
                <a:lnTo>
                  <a:pt x="968" y="754"/>
                </a:lnTo>
                <a:lnTo>
                  <a:pt x="996" y="768"/>
                </a:lnTo>
                <a:lnTo>
                  <a:pt x="1001" y="769"/>
                </a:lnTo>
                <a:lnTo>
                  <a:pt x="1003" y="770"/>
                </a:lnTo>
                <a:lnTo>
                  <a:pt x="1005" y="772"/>
                </a:lnTo>
                <a:lnTo>
                  <a:pt x="1012" y="779"/>
                </a:lnTo>
                <a:lnTo>
                  <a:pt x="1026" y="794"/>
                </a:lnTo>
                <a:lnTo>
                  <a:pt x="1030" y="794"/>
                </a:lnTo>
                <a:lnTo>
                  <a:pt x="1043" y="795"/>
                </a:lnTo>
                <a:lnTo>
                  <a:pt x="1057" y="795"/>
                </a:lnTo>
                <a:lnTo>
                  <a:pt x="1049" y="795"/>
                </a:lnTo>
                <a:lnTo>
                  <a:pt x="1031" y="795"/>
                </a:lnTo>
                <a:lnTo>
                  <a:pt x="1030" y="794"/>
                </a:lnTo>
                <a:close/>
                <a:moveTo>
                  <a:pt x="704" y="738"/>
                </a:moveTo>
                <a:lnTo>
                  <a:pt x="706" y="740"/>
                </a:lnTo>
                <a:lnTo>
                  <a:pt x="723" y="751"/>
                </a:lnTo>
                <a:lnTo>
                  <a:pt x="783" y="788"/>
                </a:lnTo>
                <a:lnTo>
                  <a:pt x="829" y="816"/>
                </a:lnTo>
                <a:lnTo>
                  <a:pt x="833" y="817"/>
                </a:lnTo>
                <a:lnTo>
                  <a:pt x="839" y="818"/>
                </a:lnTo>
                <a:lnTo>
                  <a:pt x="852" y="818"/>
                </a:lnTo>
                <a:lnTo>
                  <a:pt x="873" y="818"/>
                </a:lnTo>
                <a:lnTo>
                  <a:pt x="897" y="821"/>
                </a:lnTo>
                <a:lnTo>
                  <a:pt x="904" y="821"/>
                </a:lnTo>
                <a:lnTo>
                  <a:pt x="910" y="824"/>
                </a:lnTo>
                <a:lnTo>
                  <a:pt x="915" y="828"/>
                </a:lnTo>
                <a:lnTo>
                  <a:pt x="921" y="834"/>
                </a:lnTo>
                <a:lnTo>
                  <a:pt x="930" y="851"/>
                </a:lnTo>
                <a:lnTo>
                  <a:pt x="946" y="884"/>
                </a:lnTo>
                <a:lnTo>
                  <a:pt x="952" y="898"/>
                </a:lnTo>
                <a:lnTo>
                  <a:pt x="972" y="927"/>
                </a:lnTo>
                <a:lnTo>
                  <a:pt x="991" y="964"/>
                </a:lnTo>
                <a:lnTo>
                  <a:pt x="992" y="969"/>
                </a:lnTo>
                <a:lnTo>
                  <a:pt x="991" y="973"/>
                </a:lnTo>
                <a:lnTo>
                  <a:pt x="991" y="975"/>
                </a:lnTo>
                <a:lnTo>
                  <a:pt x="990" y="976"/>
                </a:lnTo>
                <a:lnTo>
                  <a:pt x="989" y="977"/>
                </a:lnTo>
                <a:lnTo>
                  <a:pt x="986" y="978"/>
                </a:lnTo>
                <a:lnTo>
                  <a:pt x="985" y="978"/>
                </a:lnTo>
                <a:lnTo>
                  <a:pt x="981" y="977"/>
                </a:lnTo>
                <a:lnTo>
                  <a:pt x="975" y="975"/>
                </a:lnTo>
                <a:lnTo>
                  <a:pt x="964" y="968"/>
                </a:lnTo>
                <a:lnTo>
                  <a:pt x="953" y="959"/>
                </a:lnTo>
                <a:lnTo>
                  <a:pt x="929" y="931"/>
                </a:lnTo>
                <a:lnTo>
                  <a:pt x="917" y="907"/>
                </a:lnTo>
                <a:lnTo>
                  <a:pt x="915" y="905"/>
                </a:lnTo>
                <a:lnTo>
                  <a:pt x="910" y="897"/>
                </a:lnTo>
                <a:lnTo>
                  <a:pt x="896" y="875"/>
                </a:lnTo>
                <a:lnTo>
                  <a:pt x="887" y="867"/>
                </a:lnTo>
                <a:lnTo>
                  <a:pt x="881" y="862"/>
                </a:lnTo>
                <a:lnTo>
                  <a:pt x="879" y="861"/>
                </a:lnTo>
                <a:lnTo>
                  <a:pt x="869" y="861"/>
                </a:lnTo>
                <a:lnTo>
                  <a:pt x="855" y="859"/>
                </a:lnTo>
                <a:lnTo>
                  <a:pt x="822" y="848"/>
                </a:lnTo>
                <a:lnTo>
                  <a:pt x="754" y="819"/>
                </a:lnTo>
                <a:lnTo>
                  <a:pt x="738" y="810"/>
                </a:lnTo>
                <a:lnTo>
                  <a:pt x="733" y="808"/>
                </a:lnTo>
                <a:lnTo>
                  <a:pt x="718" y="798"/>
                </a:lnTo>
                <a:lnTo>
                  <a:pt x="689" y="769"/>
                </a:lnTo>
                <a:lnTo>
                  <a:pt x="686" y="762"/>
                </a:lnTo>
                <a:lnTo>
                  <a:pt x="685" y="755"/>
                </a:lnTo>
                <a:lnTo>
                  <a:pt x="687" y="748"/>
                </a:lnTo>
                <a:lnTo>
                  <a:pt x="693" y="743"/>
                </a:lnTo>
                <a:lnTo>
                  <a:pt x="704" y="738"/>
                </a:lnTo>
                <a:close/>
                <a:moveTo>
                  <a:pt x="1044" y="996"/>
                </a:moveTo>
                <a:lnTo>
                  <a:pt x="1047" y="994"/>
                </a:lnTo>
                <a:lnTo>
                  <a:pt x="1060" y="986"/>
                </a:lnTo>
                <a:lnTo>
                  <a:pt x="1070" y="980"/>
                </a:lnTo>
                <a:lnTo>
                  <a:pt x="1071" y="979"/>
                </a:lnTo>
                <a:lnTo>
                  <a:pt x="1072" y="995"/>
                </a:lnTo>
                <a:lnTo>
                  <a:pt x="1071" y="1022"/>
                </a:lnTo>
                <a:lnTo>
                  <a:pt x="1064" y="1041"/>
                </a:lnTo>
                <a:lnTo>
                  <a:pt x="1061" y="1046"/>
                </a:lnTo>
                <a:lnTo>
                  <a:pt x="1059" y="1047"/>
                </a:lnTo>
                <a:lnTo>
                  <a:pt x="1057" y="1048"/>
                </a:lnTo>
                <a:lnTo>
                  <a:pt x="1055" y="1047"/>
                </a:lnTo>
                <a:lnTo>
                  <a:pt x="1052" y="1046"/>
                </a:lnTo>
                <a:lnTo>
                  <a:pt x="1050" y="1044"/>
                </a:lnTo>
                <a:lnTo>
                  <a:pt x="1049" y="1041"/>
                </a:lnTo>
                <a:lnTo>
                  <a:pt x="1047" y="1036"/>
                </a:lnTo>
                <a:lnTo>
                  <a:pt x="1045" y="1024"/>
                </a:lnTo>
                <a:lnTo>
                  <a:pt x="1044" y="1008"/>
                </a:lnTo>
                <a:lnTo>
                  <a:pt x="1044" y="996"/>
                </a:lnTo>
                <a:close/>
                <a:moveTo>
                  <a:pt x="1134" y="1015"/>
                </a:moveTo>
                <a:lnTo>
                  <a:pt x="1135" y="1015"/>
                </a:lnTo>
                <a:lnTo>
                  <a:pt x="1140" y="1015"/>
                </a:lnTo>
                <a:lnTo>
                  <a:pt x="1144" y="1015"/>
                </a:lnTo>
                <a:lnTo>
                  <a:pt x="1145" y="1015"/>
                </a:lnTo>
                <a:lnTo>
                  <a:pt x="1150" y="1016"/>
                </a:lnTo>
                <a:lnTo>
                  <a:pt x="1152" y="1018"/>
                </a:lnTo>
                <a:lnTo>
                  <a:pt x="1154" y="1020"/>
                </a:lnTo>
                <a:lnTo>
                  <a:pt x="1156" y="1023"/>
                </a:lnTo>
                <a:lnTo>
                  <a:pt x="1156" y="1027"/>
                </a:lnTo>
                <a:lnTo>
                  <a:pt x="1158" y="1028"/>
                </a:lnTo>
                <a:lnTo>
                  <a:pt x="1158" y="1029"/>
                </a:lnTo>
                <a:lnTo>
                  <a:pt x="1158" y="1032"/>
                </a:lnTo>
                <a:lnTo>
                  <a:pt x="1158" y="1033"/>
                </a:lnTo>
                <a:lnTo>
                  <a:pt x="1156" y="1039"/>
                </a:lnTo>
                <a:lnTo>
                  <a:pt x="1154" y="1041"/>
                </a:lnTo>
                <a:lnTo>
                  <a:pt x="1152" y="1043"/>
                </a:lnTo>
                <a:lnTo>
                  <a:pt x="1150" y="1045"/>
                </a:lnTo>
                <a:lnTo>
                  <a:pt x="1146" y="1045"/>
                </a:lnTo>
                <a:lnTo>
                  <a:pt x="1145" y="1045"/>
                </a:lnTo>
                <a:lnTo>
                  <a:pt x="1144" y="1045"/>
                </a:lnTo>
                <a:lnTo>
                  <a:pt x="1143" y="1045"/>
                </a:lnTo>
                <a:lnTo>
                  <a:pt x="1137" y="1045"/>
                </a:lnTo>
                <a:lnTo>
                  <a:pt x="1134" y="1045"/>
                </a:lnTo>
                <a:lnTo>
                  <a:pt x="1132" y="1045"/>
                </a:lnTo>
                <a:lnTo>
                  <a:pt x="1127" y="1045"/>
                </a:lnTo>
                <a:lnTo>
                  <a:pt x="1125" y="1043"/>
                </a:lnTo>
                <a:lnTo>
                  <a:pt x="1123" y="1041"/>
                </a:lnTo>
                <a:lnTo>
                  <a:pt x="1121" y="1039"/>
                </a:lnTo>
                <a:lnTo>
                  <a:pt x="1121" y="1035"/>
                </a:lnTo>
                <a:lnTo>
                  <a:pt x="1121" y="1033"/>
                </a:lnTo>
                <a:lnTo>
                  <a:pt x="1121" y="1030"/>
                </a:lnTo>
                <a:lnTo>
                  <a:pt x="1121" y="1029"/>
                </a:lnTo>
                <a:lnTo>
                  <a:pt x="1121" y="1028"/>
                </a:lnTo>
                <a:lnTo>
                  <a:pt x="1121" y="1027"/>
                </a:lnTo>
                <a:lnTo>
                  <a:pt x="1121" y="1023"/>
                </a:lnTo>
                <a:lnTo>
                  <a:pt x="1123" y="1020"/>
                </a:lnTo>
                <a:lnTo>
                  <a:pt x="1125" y="1018"/>
                </a:lnTo>
                <a:lnTo>
                  <a:pt x="1127" y="1016"/>
                </a:lnTo>
                <a:lnTo>
                  <a:pt x="1132" y="1016"/>
                </a:lnTo>
                <a:lnTo>
                  <a:pt x="1134" y="1015"/>
                </a:lnTo>
                <a:close/>
                <a:moveTo>
                  <a:pt x="1226" y="1157"/>
                </a:moveTo>
                <a:lnTo>
                  <a:pt x="1226" y="1153"/>
                </a:lnTo>
                <a:lnTo>
                  <a:pt x="1226" y="1146"/>
                </a:lnTo>
                <a:lnTo>
                  <a:pt x="1232" y="1135"/>
                </a:lnTo>
                <a:lnTo>
                  <a:pt x="1239" y="1126"/>
                </a:lnTo>
                <a:lnTo>
                  <a:pt x="1242" y="1123"/>
                </a:lnTo>
                <a:lnTo>
                  <a:pt x="1245" y="1127"/>
                </a:lnTo>
                <a:lnTo>
                  <a:pt x="1256" y="1137"/>
                </a:lnTo>
                <a:lnTo>
                  <a:pt x="1265" y="1144"/>
                </a:lnTo>
                <a:lnTo>
                  <a:pt x="1266" y="1144"/>
                </a:lnTo>
                <a:lnTo>
                  <a:pt x="1262" y="1156"/>
                </a:lnTo>
                <a:lnTo>
                  <a:pt x="1257" y="1174"/>
                </a:lnTo>
                <a:lnTo>
                  <a:pt x="1255" y="1184"/>
                </a:lnTo>
                <a:lnTo>
                  <a:pt x="1254" y="1185"/>
                </a:lnTo>
                <a:lnTo>
                  <a:pt x="1253" y="1186"/>
                </a:lnTo>
                <a:lnTo>
                  <a:pt x="1252" y="1186"/>
                </a:lnTo>
                <a:lnTo>
                  <a:pt x="1251" y="1186"/>
                </a:lnTo>
                <a:lnTo>
                  <a:pt x="1250" y="1185"/>
                </a:lnTo>
                <a:lnTo>
                  <a:pt x="1248" y="1184"/>
                </a:lnTo>
                <a:lnTo>
                  <a:pt x="1244" y="1180"/>
                </a:lnTo>
                <a:lnTo>
                  <a:pt x="1232" y="1166"/>
                </a:lnTo>
                <a:lnTo>
                  <a:pt x="1226" y="1157"/>
                </a:lnTo>
                <a:lnTo>
                  <a:pt x="1226" y="1154"/>
                </a:lnTo>
                <a:lnTo>
                  <a:pt x="1226" y="1150"/>
                </a:lnTo>
                <a:lnTo>
                  <a:pt x="1226" y="1152"/>
                </a:lnTo>
                <a:lnTo>
                  <a:pt x="1226" y="1157"/>
                </a:lnTo>
                <a:close/>
                <a:moveTo>
                  <a:pt x="1191" y="1174"/>
                </a:moveTo>
                <a:lnTo>
                  <a:pt x="1182" y="1186"/>
                </a:lnTo>
                <a:lnTo>
                  <a:pt x="1178" y="1188"/>
                </a:lnTo>
                <a:lnTo>
                  <a:pt x="1177" y="1188"/>
                </a:lnTo>
                <a:lnTo>
                  <a:pt x="1175" y="1188"/>
                </a:lnTo>
                <a:lnTo>
                  <a:pt x="1174" y="1188"/>
                </a:lnTo>
                <a:lnTo>
                  <a:pt x="1171" y="1187"/>
                </a:lnTo>
                <a:lnTo>
                  <a:pt x="1170" y="1186"/>
                </a:lnTo>
                <a:lnTo>
                  <a:pt x="1169" y="1184"/>
                </a:lnTo>
                <a:lnTo>
                  <a:pt x="1167" y="1181"/>
                </a:lnTo>
                <a:lnTo>
                  <a:pt x="1165" y="1176"/>
                </a:lnTo>
                <a:lnTo>
                  <a:pt x="1163" y="1165"/>
                </a:lnTo>
                <a:lnTo>
                  <a:pt x="1162" y="1141"/>
                </a:lnTo>
                <a:lnTo>
                  <a:pt x="1165" y="1133"/>
                </a:lnTo>
                <a:lnTo>
                  <a:pt x="1166" y="1132"/>
                </a:lnTo>
                <a:lnTo>
                  <a:pt x="1167" y="1131"/>
                </a:lnTo>
                <a:lnTo>
                  <a:pt x="1168" y="1131"/>
                </a:lnTo>
                <a:lnTo>
                  <a:pt x="1169" y="1131"/>
                </a:lnTo>
                <a:lnTo>
                  <a:pt x="1171" y="1132"/>
                </a:lnTo>
                <a:lnTo>
                  <a:pt x="1173" y="1134"/>
                </a:lnTo>
                <a:lnTo>
                  <a:pt x="1176" y="1138"/>
                </a:lnTo>
                <a:lnTo>
                  <a:pt x="1179" y="1145"/>
                </a:lnTo>
                <a:lnTo>
                  <a:pt x="1188" y="1167"/>
                </a:lnTo>
                <a:lnTo>
                  <a:pt x="1191" y="1174"/>
                </a:lnTo>
                <a:lnTo>
                  <a:pt x="1182" y="1188"/>
                </a:lnTo>
                <a:lnTo>
                  <a:pt x="1175" y="1201"/>
                </a:lnTo>
                <a:lnTo>
                  <a:pt x="1179" y="1194"/>
                </a:lnTo>
                <a:lnTo>
                  <a:pt x="1190" y="1176"/>
                </a:lnTo>
                <a:lnTo>
                  <a:pt x="1191" y="1174"/>
                </a:lnTo>
                <a:close/>
                <a:moveTo>
                  <a:pt x="1027" y="1269"/>
                </a:moveTo>
                <a:lnTo>
                  <a:pt x="1041" y="1262"/>
                </a:lnTo>
                <a:lnTo>
                  <a:pt x="1059" y="1251"/>
                </a:lnTo>
                <a:lnTo>
                  <a:pt x="1067" y="1247"/>
                </a:lnTo>
                <a:lnTo>
                  <a:pt x="1070" y="1247"/>
                </a:lnTo>
                <a:lnTo>
                  <a:pt x="1071" y="1247"/>
                </a:lnTo>
                <a:lnTo>
                  <a:pt x="1072" y="1248"/>
                </a:lnTo>
                <a:lnTo>
                  <a:pt x="1073" y="1249"/>
                </a:lnTo>
                <a:lnTo>
                  <a:pt x="1075" y="1254"/>
                </a:lnTo>
                <a:lnTo>
                  <a:pt x="1080" y="1263"/>
                </a:lnTo>
                <a:lnTo>
                  <a:pt x="1086" y="1269"/>
                </a:lnTo>
                <a:lnTo>
                  <a:pt x="1081" y="1277"/>
                </a:lnTo>
                <a:lnTo>
                  <a:pt x="1077" y="1282"/>
                </a:lnTo>
                <a:lnTo>
                  <a:pt x="1072" y="1284"/>
                </a:lnTo>
                <a:lnTo>
                  <a:pt x="1066" y="1285"/>
                </a:lnTo>
                <a:lnTo>
                  <a:pt x="1061" y="1285"/>
                </a:lnTo>
                <a:lnTo>
                  <a:pt x="1056" y="1284"/>
                </a:lnTo>
                <a:lnTo>
                  <a:pt x="1044" y="1279"/>
                </a:lnTo>
                <a:lnTo>
                  <a:pt x="1034" y="1274"/>
                </a:lnTo>
                <a:lnTo>
                  <a:pt x="1027" y="1269"/>
                </a:lnTo>
                <a:lnTo>
                  <a:pt x="1040" y="1262"/>
                </a:lnTo>
                <a:lnTo>
                  <a:pt x="1052" y="1255"/>
                </a:lnTo>
                <a:lnTo>
                  <a:pt x="1045" y="1259"/>
                </a:lnTo>
                <a:lnTo>
                  <a:pt x="1028" y="1269"/>
                </a:lnTo>
                <a:lnTo>
                  <a:pt x="1027" y="1269"/>
                </a:lnTo>
                <a:close/>
                <a:moveTo>
                  <a:pt x="8" y="765"/>
                </a:moveTo>
                <a:lnTo>
                  <a:pt x="7" y="766"/>
                </a:lnTo>
                <a:lnTo>
                  <a:pt x="6" y="764"/>
                </a:lnTo>
                <a:lnTo>
                  <a:pt x="5" y="760"/>
                </a:lnTo>
                <a:lnTo>
                  <a:pt x="3" y="746"/>
                </a:lnTo>
                <a:lnTo>
                  <a:pt x="0" y="710"/>
                </a:lnTo>
                <a:lnTo>
                  <a:pt x="0" y="692"/>
                </a:lnTo>
                <a:lnTo>
                  <a:pt x="4" y="689"/>
                </a:lnTo>
                <a:lnTo>
                  <a:pt x="7" y="687"/>
                </a:lnTo>
                <a:lnTo>
                  <a:pt x="11" y="685"/>
                </a:lnTo>
                <a:lnTo>
                  <a:pt x="14" y="685"/>
                </a:lnTo>
                <a:lnTo>
                  <a:pt x="19" y="685"/>
                </a:lnTo>
                <a:lnTo>
                  <a:pt x="23" y="685"/>
                </a:lnTo>
                <a:lnTo>
                  <a:pt x="30" y="689"/>
                </a:lnTo>
                <a:lnTo>
                  <a:pt x="38" y="693"/>
                </a:lnTo>
                <a:lnTo>
                  <a:pt x="44" y="699"/>
                </a:lnTo>
                <a:lnTo>
                  <a:pt x="43" y="701"/>
                </a:lnTo>
                <a:lnTo>
                  <a:pt x="38" y="710"/>
                </a:lnTo>
                <a:lnTo>
                  <a:pt x="21" y="741"/>
                </a:lnTo>
                <a:lnTo>
                  <a:pt x="8" y="764"/>
                </a:lnTo>
                <a:lnTo>
                  <a:pt x="8" y="765"/>
                </a:lnTo>
                <a:lnTo>
                  <a:pt x="7" y="767"/>
                </a:lnTo>
                <a:lnTo>
                  <a:pt x="6" y="769"/>
                </a:lnTo>
                <a:lnTo>
                  <a:pt x="7" y="766"/>
                </a:lnTo>
                <a:lnTo>
                  <a:pt x="8" y="765"/>
                </a:lnTo>
                <a:close/>
                <a:moveTo>
                  <a:pt x="216" y="859"/>
                </a:moveTo>
                <a:lnTo>
                  <a:pt x="219" y="860"/>
                </a:lnTo>
                <a:lnTo>
                  <a:pt x="229" y="862"/>
                </a:lnTo>
                <a:lnTo>
                  <a:pt x="236" y="863"/>
                </a:lnTo>
                <a:lnTo>
                  <a:pt x="237" y="863"/>
                </a:lnTo>
                <a:lnTo>
                  <a:pt x="236" y="870"/>
                </a:lnTo>
                <a:lnTo>
                  <a:pt x="233" y="888"/>
                </a:lnTo>
                <a:lnTo>
                  <a:pt x="232" y="903"/>
                </a:lnTo>
                <a:lnTo>
                  <a:pt x="216" y="909"/>
                </a:lnTo>
                <a:lnTo>
                  <a:pt x="198" y="914"/>
                </a:lnTo>
                <a:lnTo>
                  <a:pt x="197" y="914"/>
                </a:lnTo>
                <a:lnTo>
                  <a:pt x="196" y="914"/>
                </a:lnTo>
                <a:lnTo>
                  <a:pt x="196" y="912"/>
                </a:lnTo>
                <a:lnTo>
                  <a:pt x="197" y="910"/>
                </a:lnTo>
                <a:lnTo>
                  <a:pt x="198" y="907"/>
                </a:lnTo>
                <a:lnTo>
                  <a:pt x="201" y="902"/>
                </a:lnTo>
                <a:lnTo>
                  <a:pt x="211" y="887"/>
                </a:lnTo>
                <a:lnTo>
                  <a:pt x="216" y="869"/>
                </a:lnTo>
                <a:lnTo>
                  <a:pt x="216" y="859"/>
                </a:lnTo>
                <a:close/>
                <a:moveTo>
                  <a:pt x="222" y="1031"/>
                </a:moveTo>
                <a:lnTo>
                  <a:pt x="229" y="1034"/>
                </a:lnTo>
                <a:lnTo>
                  <a:pt x="248" y="1043"/>
                </a:lnTo>
                <a:lnTo>
                  <a:pt x="264" y="1049"/>
                </a:lnTo>
                <a:lnTo>
                  <a:pt x="265" y="1049"/>
                </a:lnTo>
                <a:lnTo>
                  <a:pt x="264" y="1050"/>
                </a:lnTo>
                <a:lnTo>
                  <a:pt x="260" y="1054"/>
                </a:lnTo>
                <a:lnTo>
                  <a:pt x="244" y="1067"/>
                </a:lnTo>
                <a:lnTo>
                  <a:pt x="231" y="1077"/>
                </a:lnTo>
                <a:lnTo>
                  <a:pt x="228" y="1078"/>
                </a:lnTo>
                <a:lnTo>
                  <a:pt x="221" y="1079"/>
                </a:lnTo>
                <a:lnTo>
                  <a:pt x="207" y="1079"/>
                </a:lnTo>
                <a:lnTo>
                  <a:pt x="197" y="1078"/>
                </a:lnTo>
                <a:lnTo>
                  <a:pt x="195" y="1077"/>
                </a:lnTo>
                <a:lnTo>
                  <a:pt x="196" y="1076"/>
                </a:lnTo>
                <a:lnTo>
                  <a:pt x="198" y="1073"/>
                </a:lnTo>
                <a:lnTo>
                  <a:pt x="203" y="1064"/>
                </a:lnTo>
                <a:lnTo>
                  <a:pt x="217" y="1042"/>
                </a:lnTo>
                <a:lnTo>
                  <a:pt x="222" y="1031"/>
                </a:lnTo>
                <a:close/>
                <a:moveTo>
                  <a:pt x="237" y="1188"/>
                </a:moveTo>
                <a:lnTo>
                  <a:pt x="264" y="1187"/>
                </a:lnTo>
                <a:lnTo>
                  <a:pt x="287" y="1190"/>
                </a:lnTo>
                <a:lnTo>
                  <a:pt x="303" y="1195"/>
                </a:lnTo>
                <a:lnTo>
                  <a:pt x="315" y="1203"/>
                </a:lnTo>
                <a:lnTo>
                  <a:pt x="320" y="1211"/>
                </a:lnTo>
                <a:lnTo>
                  <a:pt x="321" y="1215"/>
                </a:lnTo>
                <a:lnTo>
                  <a:pt x="321" y="1219"/>
                </a:lnTo>
                <a:lnTo>
                  <a:pt x="320" y="1223"/>
                </a:lnTo>
                <a:lnTo>
                  <a:pt x="317" y="1225"/>
                </a:lnTo>
                <a:lnTo>
                  <a:pt x="314" y="1227"/>
                </a:lnTo>
                <a:lnTo>
                  <a:pt x="309" y="1229"/>
                </a:lnTo>
                <a:lnTo>
                  <a:pt x="304" y="1229"/>
                </a:lnTo>
                <a:lnTo>
                  <a:pt x="296" y="1228"/>
                </a:lnTo>
                <a:lnTo>
                  <a:pt x="289" y="1225"/>
                </a:lnTo>
                <a:lnTo>
                  <a:pt x="271" y="1215"/>
                </a:lnTo>
                <a:lnTo>
                  <a:pt x="249" y="1199"/>
                </a:lnTo>
                <a:lnTo>
                  <a:pt x="237" y="1188"/>
                </a:lnTo>
                <a:lnTo>
                  <a:pt x="263" y="1185"/>
                </a:lnTo>
                <a:lnTo>
                  <a:pt x="289" y="1182"/>
                </a:lnTo>
                <a:lnTo>
                  <a:pt x="274" y="1184"/>
                </a:lnTo>
                <a:lnTo>
                  <a:pt x="240" y="1188"/>
                </a:lnTo>
                <a:lnTo>
                  <a:pt x="237" y="1188"/>
                </a:lnTo>
                <a:close/>
                <a:moveTo>
                  <a:pt x="945" y="1519"/>
                </a:moveTo>
                <a:lnTo>
                  <a:pt x="957" y="1520"/>
                </a:lnTo>
                <a:lnTo>
                  <a:pt x="984" y="1520"/>
                </a:lnTo>
                <a:lnTo>
                  <a:pt x="1032" y="1529"/>
                </a:lnTo>
                <a:lnTo>
                  <a:pt x="1041" y="1533"/>
                </a:lnTo>
                <a:lnTo>
                  <a:pt x="1048" y="1539"/>
                </a:lnTo>
                <a:lnTo>
                  <a:pt x="1052" y="1547"/>
                </a:lnTo>
                <a:lnTo>
                  <a:pt x="1055" y="1556"/>
                </a:lnTo>
                <a:lnTo>
                  <a:pt x="1054" y="1566"/>
                </a:lnTo>
                <a:lnTo>
                  <a:pt x="1072" y="1566"/>
                </a:lnTo>
                <a:lnTo>
                  <a:pt x="1118" y="1563"/>
                </a:lnTo>
                <a:lnTo>
                  <a:pt x="1229" y="1545"/>
                </a:lnTo>
                <a:lnTo>
                  <a:pt x="1332" y="1514"/>
                </a:lnTo>
                <a:lnTo>
                  <a:pt x="1353" y="1504"/>
                </a:lnTo>
                <a:lnTo>
                  <a:pt x="1353" y="1506"/>
                </a:lnTo>
                <a:lnTo>
                  <a:pt x="1353" y="1514"/>
                </a:lnTo>
                <a:lnTo>
                  <a:pt x="1355" y="1544"/>
                </a:lnTo>
                <a:lnTo>
                  <a:pt x="1356" y="1565"/>
                </a:lnTo>
                <a:lnTo>
                  <a:pt x="1357" y="1566"/>
                </a:lnTo>
                <a:lnTo>
                  <a:pt x="1361" y="1562"/>
                </a:lnTo>
                <a:lnTo>
                  <a:pt x="1369" y="1557"/>
                </a:lnTo>
                <a:lnTo>
                  <a:pt x="1389" y="1547"/>
                </a:lnTo>
                <a:lnTo>
                  <a:pt x="1440" y="1526"/>
                </a:lnTo>
                <a:lnTo>
                  <a:pt x="1485" y="1516"/>
                </a:lnTo>
                <a:lnTo>
                  <a:pt x="1489" y="1526"/>
                </a:lnTo>
                <a:lnTo>
                  <a:pt x="1490" y="1536"/>
                </a:lnTo>
                <a:lnTo>
                  <a:pt x="1488" y="1546"/>
                </a:lnTo>
                <a:lnTo>
                  <a:pt x="1482" y="1554"/>
                </a:lnTo>
                <a:lnTo>
                  <a:pt x="1474" y="1562"/>
                </a:lnTo>
                <a:lnTo>
                  <a:pt x="1463" y="1570"/>
                </a:lnTo>
                <a:lnTo>
                  <a:pt x="1433" y="1584"/>
                </a:lnTo>
                <a:lnTo>
                  <a:pt x="1398" y="1596"/>
                </a:lnTo>
                <a:lnTo>
                  <a:pt x="1312" y="1618"/>
                </a:lnTo>
                <a:lnTo>
                  <a:pt x="1150" y="1651"/>
                </a:lnTo>
                <a:lnTo>
                  <a:pt x="1125" y="1659"/>
                </a:lnTo>
                <a:lnTo>
                  <a:pt x="1111" y="1647"/>
                </a:lnTo>
                <a:lnTo>
                  <a:pt x="1096" y="1639"/>
                </a:lnTo>
                <a:lnTo>
                  <a:pt x="1078" y="1633"/>
                </a:lnTo>
                <a:lnTo>
                  <a:pt x="1036" y="1626"/>
                </a:lnTo>
                <a:lnTo>
                  <a:pt x="990" y="1623"/>
                </a:lnTo>
                <a:lnTo>
                  <a:pt x="907" y="1615"/>
                </a:lnTo>
                <a:lnTo>
                  <a:pt x="890" y="1609"/>
                </a:lnTo>
                <a:lnTo>
                  <a:pt x="892" y="1608"/>
                </a:lnTo>
                <a:lnTo>
                  <a:pt x="898" y="1595"/>
                </a:lnTo>
                <a:lnTo>
                  <a:pt x="924" y="1554"/>
                </a:lnTo>
                <a:lnTo>
                  <a:pt x="943" y="1521"/>
                </a:lnTo>
                <a:lnTo>
                  <a:pt x="945" y="1519"/>
                </a:lnTo>
                <a:lnTo>
                  <a:pt x="955" y="1519"/>
                </a:lnTo>
                <a:lnTo>
                  <a:pt x="966" y="1519"/>
                </a:lnTo>
                <a:lnTo>
                  <a:pt x="959" y="1519"/>
                </a:lnTo>
                <a:lnTo>
                  <a:pt x="945" y="1519"/>
                </a:lnTo>
                <a:close/>
                <a:moveTo>
                  <a:pt x="725" y="991"/>
                </a:moveTo>
                <a:lnTo>
                  <a:pt x="725" y="993"/>
                </a:lnTo>
                <a:lnTo>
                  <a:pt x="725" y="1006"/>
                </a:lnTo>
                <a:lnTo>
                  <a:pt x="726" y="1046"/>
                </a:lnTo>
                <a:lnTo>
                  <a:pt x="726" y="1078"/>
                </a:lnTo>
                <a:lnTo>
                  <a:pt x="727" y="1079"/>
                </a:lnTo>
                <a:lnTo>
                  <a:pt x="727" y="1082"/>
                </a:lnTo>
                <a:lnTo>
                  <a:pt x="730" y="1085"/>
                </a:lnTo>
                <a:lnTo>
                  <a:pt x="734" y="1088"/>
                </a:lnTo>
                <a:lnTo>
                  <a:pt x="738" y="1091"/>
                </a:lnTo>
                <a:lnTo>
                  <a:pt x="751" y="1096"/>
                </a:lnTo>
                <a:lnTo>
                  <a:pt x="783" y="1107"/>
                </a:lnTo>
                <a:lnTo>
                  <a:pt x="817" y="1120"/>
                </a:lnTo>
                <a:lnTo>
                  <a:pt x="842" y="1134"/>
                </a:lnTo>
                <a:lnTo>
                  <a:pt x="849" y="1143"/>
                </a:lnTo>
                <a:lnTo>
                  <a:pt x="850" y="1147"/>
                </a:lnTo>
                <a:lnTo>
                  <a:pt x="850" y="1152"/>
                </a:lnTo>
                <a:lnTo>
                  <a:pt x="848" y="1157"/>
                </a:lnTo>
                <a:lnTo>
                  <a:pt x="844" y="1162"/>
                </a:lnTo>
                <a:lnTo>
                  <a:pt x="839" y="1168"/>
                </a:lnTo>
                <a:lnTo>
                  <a:pt x="833" y="1171"/>
                </a:lnTo>
                <a:lnTo>
                  <a:pt x="825" y="1172"/>
                </a:lnTo>
                <a:lnTo>
                  <a:pt x="818" y="1172"/>
                </a:lnTo>
                <a:lnTo>
                  <a:pt x="809" y="1171"/>
                </a:lnTo>
                <a:lnTo>
                  <a:pt x="790" y="1165"/>
                </a:lnTo>
                <a:lnTo>
                  <a:pt x="767" y="1155"/>
                </a:lnTo>
                <a:lnTo>
                  <a:pt x="744" y="1143"/>
                </a:lnTo>
                <a:lnTo>
                  <a:pt x="731" y="1136"/>
                </a:lnTo>
                <a:lnTo>
                  <a:pt x="718" y="1131"/>
                </a:lnTo>
                <a:lnTo>
                  <a:pt x="699" y="1123"/>
                </a:lnTo>
                <a:lnTo>
                  <a:pt x="677" y="1119"/>
                </a:lnTo>
                <a:lnTo>
                  <a:pt x="669" y="1120"/>
                </a:lnTo>
                <a:lnTo>
                  <a:pt x="667" y="1120"/>
                </a:lnTo>
                <a:lnTo>
                  <a:pt x="671" y="1128"/>
                </a:lnTo>
                <a:lnTo>
                  <a:pt x="675" y="1140"/>
                </a:lnTo>
                <a:lnTo>
                  <a:pt x="676" y="1150"/>
                </a:lnTo>
                <a:lnTo>
                  <a:pt x="675" y="1160"/>
                </a:lnTo>
                <a:lnTo>
                  <a:pt x="672" y="1182"/>
                </a:lnTo>
                <a:lnTo>
                  <a:pt x="672" y="1189"/>
                </a:lnTo>
                <a:lnTo>
                  <a:pt x="676" y="1193"/>
                </a:lnTo>
                <a:lnTo>
                  <a:pt x="690" y="1203"/>
                </a:lnTo>
                <a:lnTo>
                  <a:pt x="726" y="1228"/>
                </a:lnTo>
                <a:lnTo>
                  <a:pt x="762" y="1261"/>
                </a:lnTo>
                <a:lnTo>
                  <a:pt x="769" y="1270"/>
                </a:lnTo>
                <a:lnTo>
                  <a:pt x="775" y="1281"/>
                </a:lnTo>
                <a:lnTo>
                  <a:pt x="781" y="1300"/>
                </a:lnTo>
                <a:lnTo>
                  <a:pt x="784" y="1317"/>
                </a:lnTo>
                <a:lnTo>
                  <a:pt x="785" y="1346"/>
                </a:lnTo>
                <a:lnTo>
                  <a:pt x="789" y="1360"/>
                </a:lnTo>
                <a:lnTo>
                  <a:pt x="783" y="1361"/>
                </a:lnTo>
                <a:lnTo>
                  <a:pt x="778" y="1360"/>
                </a:lnTo>
                <a:lnTo>
                  <a:pt x="771" y="1357"/>
                </a:lnTo>
                <a:lnTo>
                  <a:pt x="765" y="1352"/>
                </a:lnTo>
                <a:lnTo>
                  <a:pt x="750" y="1339"/>
                </a:lnTo>
                <a:lnTo>
                  <a:pt x="716" y="1307"/>
                </a:lnTo>
                <a:lnTo>
                  <a:pt x="699" y="1292"/>
                </a:lnTo>
                <a:lnTo>
                  <a:pt x="690" y="1288"/>
                </a:lnTo>
                <a:lnTo>
                  <a:pt x="687" y="1288"/>
                </a:lnTo>
                <a:lnTo>
                  <a:pt x="685" y="1288"/>
                </a:lnTo>
                <a:lnTo>
                  <a:pt x="682" y="1290"/>
                </a:lnTo>
                <a:lnTo>
                  <a:pt x="680" y="1292"/>
                </a:lnTo>
                <a:lnTo>
                  <a:pt x="679" y="1295"/>
                </a:lnTo>
                <a:lnTo>
                  <a:pt x="678" y="1299"/>
                </a:lnTo>
                <a:lnTo>
                  <a:pt x="676" y="1308"/>
                </a:lnTo>
                <a:lnTo>
                  <a:pt x="674" y="1331"/>
                </a:lnTo>
                <a:lnTo>
                  <a:pt x="671" y="1352"/>
                </a:lnTo>
                <a:lnTo>
                  <a:pt x="667" y="1361"/>
                </a:lnTo>
                <a:lnTo>
                  <a:pt x="664" y="1368"/>
                </a:lnTo>
                <a:lnTo>
                  <a:pt x="661" y="1370"/>
                </a:lnTo>
                <a:lnTo>
                  <a:pt x="659" y="1371"/>
                </a:lnTo>
                <a:lnTo>
                  <a:pt x="657" y="1369"/>
                </a:lnTo>
                <a:lnTo>
                  <a:pt x="644" y="1354"/>
                </a:lnTo>
                <a:lnTo>
                  <a:pt x="601" y="1299"/>
                </a:lnTo>
                <a:lnTo>
                  <a:pt x="568" y="1257"/>
                </a:lnTo>
                <a:lnTo>
                  <a:pt x="567" y="1254"/>
                </a:lnTo>
                <a:lnTo>
                  <a:pt x="564" y="1255"/>
                </a:lnTo>
                <a:lnTo>
                  <a:pt x="563" y="1256"/>
                </a:lnTo>
                <a:lnTo>
                  <a:pt x="562" y="1260"/>
                </a:lnTo>
                <a:lnTo>
                  <a:pt x="561" y="1265"/>
                </a:lnTo>
                <a:lnTo>
                  <a:pt x="560" y="1276"/>
                </a:lnTo>
                <a:lnTo>
                  <a:pt x="556" y="1302"/>
                </a:lnTo>
                <a:lnTo>
                  <a:pt x="546" y="1328"/>
                </a:lnTo>
                <a:lnTo>
                  <a:pt x="538" y="1337"/>
                </a:lnTo>
                <a:lnTo>
                  <a:pt x="526" y="1341"/>
                </a:lnTo>
                <a:lnTo>
                  <a:pt x="510" y="1340"/>
                </a:lnTo>
                <a:lnTo>
                  <a:pt x="489" y="1333"/>
                </a:lnTo>
                <a:lnTo>
                  <a:pt x="465" y="1317"/>
                </a:lnTo>
                <a:lnTo>
                  <a:pt x="465" y="1316"/>
                </a:lnTo>
                <a:lnTo>
                  <a:pt x="460" y="1306"/>
                </a:lnTo>
                <a:lnTo>
                  <a:pt x="457" y="1282"/>
                </a:lnTo>
                <a:lnTo>
                  <a:pt x="456" y="1254"/>
                </a:lnTo>
                <a:lnTo>
                  <a:pt x="453" y="1197"/>
                </a:lnTo>
                <a:lnTo>
                  <a:pt x="445" y="1162"/>
                </a:lnTo>
                <a:lnTo>
                  <a:pt x="439" y="1154"/>
                </a:lnTo>
                <a:lnTo>
                  <a:pt x="430" y="1148"/>
                </a:lnTo>
                <a:lnTo>
                  <a:pt x="420" y="1143"/>
                </a:lnTo>
                <a:lnTo>
                  <a:pt x="408" y="1139"/>
                </a:lnTo>
                <a:lnTo>
                  <a:pt x="381" y="1133"/>
                </a:lnTo>
                <a:lnTo>
                  <a:pt x="353" y="1124"/>
                </a:lnTo>
                <a:lnTo>
                  <a:pt x="327" y="1109"/>
                </a:lnTo>
                <a:lnTo>
                  <a:pt x="309" y="1084"/>
                </a:lnTo>
                <a:lnTo>
                  <a:pt x="316" y="1034"/>
                </a:lnTo>
                <a:lnTo>
                  <a:pt x="335" y="1003"/>
                </a:lnTo>
                <a:lnTo>
                  <a:pt x="364" y="986"/>
                </a:lnTo>
                <a:lnTo>
                  <a:pt x="400" y="981"/>
                </a:lnTo>
                <a:lnTo>
                  <a:pt x="442" y="984"/>
                </a:lnTo>
                <a:lnTo>
                  <a:pt x="530" y="999"/>
                </a:lnTo>
                <a:lnTo>
                  <a:pt x="608" y="1005"/>
                </a:lnTo>
                <a:lnTo>
                  <a:pt x="638" y="994"/>
                </a:lnTo>
                <a:lnTo>
                  <a:pt x="650" y="985"/>
                </a:lnTo>
                <a:lnTo>
                  <a:pt x="659" y="972"/>
                </a:lnTo>
                <a:lnTo>
                  <a:pt x="664" y="955"/>
                </a:lnTo>
                <a:lnTo>
                  <a:pt x="666" y="932"/>
                </a:lnTo>
                <a:lnTo>
                  <a:pt x="635" y="928"/>
                </a:lnTo>
                <a:lnTo>
                  <a:pt x="600" y="928"/>
                </a:lnTo>
                <a:lnTo>
                  <a:pt x="523" y="935"/>
                </a:lnTo>
                <a:lnTo>
                  <a:pt x="366" y="944"/>
                </a:lnTo>
                <a:lnTo>
                  <a:pt x="265" y="876"/>
                </a:lnTo>
                <a:lnTo>
                  <a:pt x="269" y="864"/>
                </a:lnTo>
                <a:lnTo>
                  <a:pt x="279" y="847"/>
                </a:lnTo>
                <a:lnTo>
                  <a:pt x="292" y="836"/>
                </a:lnTo>
                <a:lnTo>
                  <a:pt x="306" y="830"/>
                </a:lnTo>
                <a:lnTo>
                  <a:pt x="320" y="827"/>
                </a:lnTo>
                <a:lnTo>
                  <a:pt x="331" y="823"/>
                </a:lnTo>
                <a:lnTo>
                  <a:pt x="336" y="819"/>
                </a:lnTo>
                <a:lnTo>
                  <a:pt x="319" y="816"/>
                </a:lnTo>
                <a:lnTo>
                  <a:pt x="284" y="809"/>
                </a:lnTo>
                <a:lnTo>
                  <a:pt x="211" y="793"/>
                </a:lnTo>
                <a:lnTo>
                  <a:pt x="139" y="756"/>
                </a:lnTo>
                <a:lnTo>
                  <a:pt x="123" y="741"/>
                </a:lnTo>
                <a:lnTo>
                  <a:pt x="119" y="733"/>
                </a:lnTo>
                <a:lnTo>
                  <a:pt x="113" y="706"/>
                </a:lnTo>
                <a:lnTo>
                  <a:pt x="109" y="686"/>
                </a:lnTo>
                <a:lnTo>
                  <a:pt x="109" y="684"/>
                </a:lnTo>
                <a:lnTo>
                  <a:pt x="115" y="682"/>
                </a:lnTo>
                <a:lnTo>
                  <a:pt x="138" y="672"/>
                </a:lnTo>
                <a:lnTo>
                  <a:pt x="155" y="665"/>
                </a:lnTo>
                <a:lnTo>
                  <a:pt x="156" y="664"/>
                </a:lnTo>
                <a:lnTo>
                  <a:pt x="155" y="661"/>
                </a:lnTo>
                <a:lnTo>
                  <a:pt x="153" y="653"/>
                </a:lnTo>
                <a:lnTo>
                  <a:pt x="148" y="645"/>
                </a:lnTo>
                <a:lnTo>
                  <a:pt x="141" y="630"/>
                </a:lnTo>
                <a:lnTo>
                  <a:pt x="139" y="617"/>
                </a:lnTo>
                <a:lnTo>
                  <a:pt x="140" y="613"/>
                </a:lnTo>
                <a:lnTo>
                  <a:pt x="148" y="582"/>
                </a:lnTo>
                <a:lnTo>
                  <a:pt x="181" y="473"/>
                </a:lnTo>
                <a:lnTo>
                  <a:pt x="204" y="390"/>
                </a:lnTo>
                <a:lnTo>
                  <a:pt x="206" y="385"/>
                </a:lnTo>
                <a:lnTo>
                  <a:pt x="212" y="385"/>
                </a:lnTo>
                <a:lnTo>
                  <a:pt x="230" y="384"/>
                </a:lnTo>
                <a:lnTo>
                  <a:pt x="285" y="378"/>
                </a:lnTo>
                <a:lnTo>
                  <a:pt x="343" y="363"/>
                </a:lnTo>
                <a:lnTo>
                  <a:pt x="355" y="357"/>
                </a:lnTo>
                <a:lnTo>
                  <a:pt x="356" y="356"/>
                </a:lnTo>
                <a:lnTo>
                  <a:pt x="368" y="347"/>
                </a:lnTo>
                <a:lnTo>
                  <a:pt x="408" y="317"/>
                </a:lnTo>
                <a:lnTo>
                  <a:pt x="438" y="294"/>
                </a:lnTo>
                <a:lnTo>
                  <a:pt x="440" y="292"/>
                </a:lnTo>
                <a:lnTo>
                  <a:pt x="441" y="292"/>
                </a:lnTo>
                <a:lnTo>
                  <a:pt x="449" y="292"/>
                </a:lnTo>
                <a:lnTo>
                  <a:pt x="478" y="289"/>
                </a:lnTo>
                <a:lnTo>
                  <a:pt x="499" y="288"/>
                </a:lnTo>
                <a:lnTo>
                  <a:pt x="501" y="287"/>
                </a:lnTo>
                <a:lnTo>
                  <a:pt x="504" y="285"/>
                </a:lnTo>
                <a:lnTo>
                  <a:pt x="533" y="269"/>
                </a:lnTo>
                <a:lnTo>
                  <a:pt x="632" y="214"/>
                </a:lnTo>
                <a:lnTo>
                  <a:pt x="708" y="171"/>
                </a:lnTo>
                <a:lnTo>
                  <a:pt x="712" y="168"/>
                </a:lnTo>
                <a:lnTo>
                  <a:pt x="714" y="168"/>
                </a:lnTo>
                <a:lnTo>
                  <a:pt x="725" y="168"/>
                </a:lnTo>
                <a:lnTo>
                  <a:pt x="765" y="168"/>
                </a:lnTo>
                <a:lnTo>
                  <a:pt x="795" y="168"/>
                </a:lnTo>
                <a:lnTo>
                  <a:pt x="797" y="167"/>
                </a:lnTo>
                <a:lnTo>
                  <a:pt x="798" y="167"/>
                </a:lnTo>
                <a:lnTo>
                  <a:pt x="813" y="161"/>
                </a:lnTo>
                <a:lnTo>
                  <a:pt x="865" y="143"/>
                </a:lnTo>
                <a:lnTo>
                  <a:pt x="903" y="128"/>
                </a:lnTo>
                <a:lnTo>
                  <a:pt x="906" y="127"/>
                </a:lnTo>
                <a:lnTo>
                  <a:pt x="919" y="132"/>
                </a:lnTo>
                <a:lnTo>
                  <a:pt x="961" y="145"/>
                </a:lnTo>
                <a:lnTo>
                  <a:pt x="993" y="154"/>
                </a:lnTo>
                <a:lnTo>
                  <a:pt x="996" y="154"/>
                </a:lnTo>
                <a:lnTo>
                  <a:pt x="1013" y="147"/>
                </a:lnTo>
                <a:lnTo>
                  <a:pt x="1067" y="122"/>
                </a:lnTo>
                <a:lnTo>
                  <a:pt x="1108" y="104"/>
                </a:lnTo>
                <a:lnTo>
                  <a:pt x="1111" y="103"/>
                </a:lnTo>
                <a:lnTo>
                  <a:pt x="1106" y="99"/>
                </a:lnTo>
                <a:lnTo>
                  <a:pt x="1090" y="85"/>
                </a:lnTo>
                <a:lnTo>
                  <a:pt x="1078" y="73"/>
                </a:lnTo>
                <a:lnTo>
                  <a:pt x="1078" y="72"/>
                </a:lnTo>
                <a:lnTo>
                  <a:pt x="1079" y="71"/>
                </a:lnTo>
                <a:lnTo>
                  <a:pt x="1093" y="61"/>
                </a:lnTo>
                <a:lnTo>
                  <a:pt x="1141" y="28"/>
                </a:lnTo>
                <a:lnTo>
                  <a:pt x="1178" y="2"/>
                </a:lnTo>
                <a:lnTo>
                  <a:pt x="1180" y="0"/>
                </a:lnTo>
                <a:lnTo>
                  <a:pt x="1181" y="2"/>
                </a:lnTo>
                <a:lnTo>
                  <a:pt x="1192" y="13"/>
                </a:lnTo>
                <a:lnTo>
                  <a:pt x="1228" y="53"/>
                </a:lnTo>
                <a:lnTo>
                  <a:pt x="1256" y="83"/>
                </a:lnTo>
                <a:lnTo>
                  <a:pt x="1258" y="84"/>
                </a:lnTo>
                <a:lnTo>
                  <a:pt x="1257" y="86"/>
                </a:lnTo>
                <a:lnTo>
                  <a:pt x="1250" y="98"/>
                </a:lnTo>
                <a:lnTo>
                  <a:pt x="1224" y="139"/>
                </a:lnTo>
                <a:lnTo>
                  <a:pt x="1205" y="170"/>
                </a:lnTo>
                <a:lnTo>
                  <a:pt x="1205" y="171"/>
                </a:lnTo>
                <a:lnTo>
                  <a:pt x="1204" y="178"/>
                </a:lnTo>
                <a:lnTo>
                  <a:pt x="1203" y="190"/>
                </a:lnTo>
                <a:lnTo>
                  <a:pt x="1199" y="198"/>
                </a:lnTo>
                <a:lnTo>
                  <a:pt x="1194" y="217"/>
                </a:lnTo>
                <a:lnTo>
                  <a:pt x="1195" y="240"/>
                </a:lnTo>
                <a:lnTo>
                  <a:pt x="1185" y="237"/>
                </a:lnTo>
                <a:lnTo>
                  <a:pt x="1173" y="236"/>
                </a:lnTo>
                <a:lnTo>
                  <a:pt x="1144" y="235"/>
                </a:lnTo>
                <a:lnTo>
                  <a:pt x="1111" y="238"/>
                </a:lnTo>
                <a:lnTo>
                  <a:pt x="1049" y="252"/>
                </a:lnTo>
                <a:lnTo>
                  <a:pt x="1028" y="259"/>
                </a:lnTo>
                <a:lnTo>
                  <a:pt x="1022" y="258"/>
                </a:lnTo>
                <a:lnTo>
                  <a:pt x="1016" y="258"/>
                </a:lnTo>
                <a:lnTo>
                  <a:pt x="1002" y="259"/>
                </a:lnTo>
                <a:lnTo>
                  <a:pt x="985" y="262"/>
                </a:lnTo>
                <a:lnTo>
                  <a:pt x="949" y="271"/>
                </a:lnTo>
                <a:lnTo>
                  <a:pt x="934" y="276"/>
                </a:lnTo>
                <a:lnTo>
                  <a:pt x="927" y="279"/>
                </a:lnTo>
                <a:lnTo>
                  <a:pt x="914" y="286"/>
                </a:lnTo>
                <a:lnTo>
                  <a:pt x="903" y="296"/>
                </a:lnTo>
                <a:lnTo>
                  <a:pt x="893" y="311"/>
                </a:lnTo>
                <a:lnTo>
                  <a:pt x="884" y="330"/>
                </a:lnTo>
                <a:lnTo>
                  <a:pt x="875" y="357"/>
                </a:lnTo>
                <a:lnTo>
                  <a:pt x="871" y="372"/>
                </a:lnTo>
                <a:lnTo>
                  <a:pt x="866" y="387"/>
                </a:lnTo>
                <a:lnTo>
                  <a:pt x="860" y="395"/>
                </a:lnTo>
                <a:lnTo>
                  <a:pt x="858" y="398"/>
                </a:lnTo>
                <a:lnTo>
                  <a:pt x="855" y="399"/>
                </a:lnTo>
                <a:lnTo>
                  <a:pt x="852" y="399"/>
                </a:lnTo>
                <a:lnTo>
                  <a:pt x="849" y="399"/>
                </a:lnTo>
                <a:lnTo>
                  <a:pt x="845" y="398"/>
                </a:lnTo>
                <a:lnTo>
                  <a:pt x="842" y="396"/>
                </a:lnTo>
                <a:lnTo>
                  <a:pt x="837" y="392"/>
                </a:lnTo>
                <a:lnTo>
                  <a:pt x="824" y="380"/>
                </a:lnTo>
                <a:lnTo>
                  <a:pt x="803" y="375"/>
                </a:lnTo>
                <a:lnTo>
                  <a:pt x="800" y="378"/>
                </a:lnTo>
                <a:lnTo>
                  <a:pt x="800" y="381"/>
                </a:lnTo>
                <a:lnTo>
                  <a:pt x="801" y="385"/>
                </a:lnTo>
                <a:lnTo>
                  <a:pt x="804" y="388"/>
                </a:lnTo>
                <a:lnTo>
                  <a:pt x="807" y="392"/>
                </a:lnTo>
                <a:lnTo>
                  <a:pt x="814" y="400"/>
                </a:lnTo>
                <a:lnTo>
                  <a:pt x="837" y="420"/>
                </a:lnTo>
                <a:lnTo>
                  <a:pt x="860" y="440"/>
                </a:lnTo>
                <a:lnTo>
                  <a:pt x="877" y="461"/>
                </a:lnTo>
                <a:lnTo>
                  <a:pt x="880" y="471"/>
                </a:lnTo>
                <a:lnTo>
                  <a:pt x="878" y="480"/>
                </a:lnTo>
                <a:lnTo>
                  <a:pt x="875" y="484"/>
                </a:lnTo>
                <a:lnTo>
                  <a:pt x="872" y="483"/>
                </a:lnTo>
                <a:lnTo>
                  <a:pt x="858" y="475"/>
                </a:lnTo>
                <a:lnTo>
                  <a:pt x="807" y="444"/>
                </a:lnTo>
                <a:lnTo>
                  <a:pt x="768" y="422"/>
                </a:lnTo>
                <a:lnTo>
                  <a:pt x="766" y="420"/>
                </a:lnTo>
                <a:lnTo>
                  <a:pt x="765" y="421"/>
                </a:lnTo>
                <a:lnTo>
                  <a:pt x="762" y="423"/>
                </a:lnTo>
                <a:lnTo>
                  <a:pt x="750" y="432"/>
                </a:lnTo>
                <a:lnTo>
                  <a:pt x="740" y="439"/>
                </a:lnTo>
                <a:lnTo>
                  <a:pt x="741" y="441"/>
                </a:lnTo>
                <a:lnTo>
                  <a:pt x="753" y="454"/>
                </a:lnTo>
                <a:lnTo>
                  <a:pt x="795" y="500"/>
                </a:lnTo>
                <a:lnTo>
                  <a:pt x="826" y="536"/>
                </a:lnTo>
                <a:lnTo>
                  <a:pt x="828" y="537"/>
                </a:lnTo>
                <a:lnTo>
                  <a:pt x="818" y="544"/>
                </a:lnTo>
                <a:lnTo>
                  <a:pt x="812" y="545"/>
                </a:lnTo>
                <a:lnTo>
                  <a:pt x="808" y="545"/>
                </a:lnTo>
                <a:lnTo>
                  <a:pt x="803" y="543"/>
                </a:lnTo>
                <a:lnTo>
                  <a:pt x="797" y="541"/>
                </a:lnTo>
                <a:lnTo>
                  <a:pt x="786" y="534"/>
                </a:lnTo>
                <a:lnTo>
                  <a:pt x="776" y="524"/>
                </a:lnTo>
                <a:lnTo>
                  <a:pt x="752" y="501"/>
                </a:lnTo>
                <a:lnTo>
                  <a:pt x="729" y="481"/>
                </a:lnTo>
                <a:lnTo>
                  <a:pt x="716" y="475"/>
                </a:lnTo>
                <a:lnTo>
                  <a:pt x="703" y="473"/>
                </a:lnTo>
                <a:lnTo>
                  <a:pt x="690" y="475"/>
                </a:lnTo>
                <a:lnTo>
                  <a:pt x="693" y="484"/>
                </a:lnTo>
                <a:lnTo>
                  <a:pt x="700" y="493"/>
                </a:lnTo>
                <a:lnTo>
                  <a:pt x="715" y="508"/>
                </a:lnTo>
                <a:lnTo>
                  <a:pt x="731" y="525"/>
                </a:lnTo>
                <a:lnTo>
                  <a:pt x="741" y="542"/>
                </a:lnTo>
                <a:lnTo>
                  <a:pt x="744" y="551"/>
                </a:lnTo>
                <a:lnTo>
                  <a:pt x="741" y="561"/>
                </a:lnTo>
                <a:lnTo>
                  <a:pt x="736" y="573"/>
                </a:lnTo>
                <a:lnTo>
                  <a:pt x="727" y="585"/>
                </a:lnTo>
                <a:lnTo>
                  <a:pt x="712" y="583"/>
                </a:lnTo>
                <a:lnTo>
                  <a:pt x="700" y="576"/>
                </a:lnTo>
                <a:lnTo>
                  <a:pt x="687" y="563"/>
                </a:lnTo>
                <a:lnTo>
                  <a:pt x="675" y="547"/>
                </a:lnTo>
                <a:lnTo>
                  <a:pt x="651" y="507"/>
                </a:lnTo>
                <a:lnTo>
                  <a:pt x="599" y="420"/>
                </a:lnTo>
                <a:lnTo>
                  <a:pt x="567" y="384"/>
                </a:lnTo>
                <a:lnTo>
                  <a:pt x="566" y="384"/>
                </a:lnTo>
                <a:lnTo>
                  <a:pt x="561" y="384"/>
                </a:lnTo>
                <a:lnTo>
                  <a:pt x="545" y="384"/>
                </a:lnTo>
                <a:lnTo>
                  <a:pt x="533" y="384"/>
                </a:lnTo>
                <a:lnTo>
                  <a:pt x="531" y="385"/>
                </a:lnTo>
                <a:lnTo>
                  <a:pt x="529" y="387"/>
                </a:lnTo>
                <a:lnTo>
                  <a:pt x="528" y="390"/>
                </a:lnTo>
                <a:lnTo>
                  <a:pt x="526" y="394"/>
                </a:lnTo>
                <a:lnTo>
                  <a:pt x="524" y="404"/>
                </a:lnTo>
                <a:lnTo>
                  <a:pt x="518" y="432"/>
                </a:lnTo>
                <a:lnTo>
                  <a:pt x="514" y="495"/>
                </a:lnTo>
                <a:lnTo>
                  <a:pt x="513" y="523"/>
                </a:lnTo>
                <a:lnTo>
                  <a:pt x="521" y="546"/>
                </a:lnTo>
                <a:lnTo>
                  <a:pt x="536" y="566"/>
                </a:lnTo>
                <a:lnTo>
                  <a:pt x="555" y="585"/>
                </a:lnTo>
                <a:lnTo>
                  <a:pt x="602" y="618"/>
                </a:lnTo>
                <a:lnTo>
                  <a:pt x="650" y="646"/>
                </a:lnTo>
                <a:lnTo>
                  <a:pt x="688" y="670"/>
                </a:lnTo>
                <a:lnTo>
                  <a:pt x="699" y="681"/>
                </a:lnTo>
                <a:lnTo>
                  <a:pt x="702" y="687"/>
                </a:lnTo>
                <a:lnTo>
                  <a:pt x="703" y="692"/>
                </a:lnTo>
                <a:lnTo>
                  <a:pt x="701" y="697"/>
                </a:lnTo>
                <a:lnTo>
                  <a:pt x="697" y="701"/>
                </a:lnTo>
                <a:lnTo>
                  <a:pt x="691" y="701"/>
                </a:lnTo>
                <a:lnTo>
                  <a:pt x="684" y="699"/>
                </a:lnTo>
                <a:lnTo>
                  <a:pt x="662" y="693"/>
                </a:lnTo>
                <a:lnTo>
                  <a:pt x="613" y="675"/>
                </a:lnTo>
                <a:lnTo>
                  <a:pt x="578" y="666"/>
                </a:lnTo>
                <a:lnTo>
                  <a:pt x="578" y="680"/>
                </a:lnTo>
                <a:lnTo>
                  <a:pt x="585" y="707"/>
                </a:lnTo>
                <a:lnTo>
                  <a:pt x="597" y="738"/>
                </a:lnTo>
                <a:lnTo>
                  <a:pt x="629" y="795"/>
                </a:lnTo>
                <a:lnTo>
                  <a:pt x="656" y="826"/>
                </a:lnTo>
                <a:lnTo>
                  <a:pt x="673" y="842"/>
                </a:lnTo>
                <a:lnTo>
                  <a:pt x="712" y="867"/>
                </a:lnTo>
                <a:lnTo>
                  <a:pt x="800" y="912"/>
                </a:lnTo>
                <a:lnTo>
                  <a:pt x="868" y="960"/>
                </a:lnTo>
                <a:lnTo>
                  <a:pt x="879" y="974"/>
                </a:lnTo>
                <a:lnTo>
                  <a:pt x="877" y="978"/>
                </a:lnTo>
                <a:lnTo>
                  <a:pt x="877" y="981"/>
                </a:lnTo>
                <a:lnTo>
                  <a:pt x="878" y="984"/>
                </a:lnTo>
                <a:lnTo>
                  <a:pt x="880" y="988"/>
                </a:lnTo>
                <a:lnTo>
                  <a:pt x="883" y="992"/>
                </a:lnTo>
                <a:lnTo>
                  <a:pt x="893" y="1002"/>
                </a:lnTo>
                <a:lnTo>
                  <a:pt x="915" y="1021"/>
                </a:lnTo>
                <a:lnTo>
                  <a:pt x="937" y="1040"/>
                </a:lnTo>
                <a:lnTo>
                  <a:pt x="944" y="1049"/>
                </a:lnTo>
                <a:lnTo>
                  <a:pt x="947" y="1059"/>
                </a:lnTo>
                <a:lnTo>
                  <a:pt x="948" y="1063"/>
                </a:lnTo>
                <a:lnTo>
                  <a:pt x="947" y="1067"/>
                </a:lnTo>
                <a:lnTo>
                  <a:pt x="944" y="1071"/>
                </a:lnTo>
                <a:lnTo>
                  <a:pt x="940" y="1074"/>
                </a:lnTo>
                <a:lnTo>
                  <a:pt x="934" y="1077"/>
                </a:lnTo>
                <a:lnTo>
                  <a:pt x="927" y="1079"/>
                </a:lnTo>
                <a:lnTo>
                  <a:pt x="921" y="1080"/>
                </a:lnTo>
                <a:lnTo>
                  <a:pt x="913" y="1078"/>
                </a:lnTo>
                <a:lnTo>
                  <a:pt x="907" y="1076"/>
                </a:lnTo>
                <a:lnTo>
                  <a:pt x="893" y="1067"/>
                </a:lnTo>
                <a:lnTo>
                  <a:pt x="878" y="1055"/>
                </a:lnTo>
                <a:lnTo>
                  <a:pt x="860" y="1042"/>
                </a:lnTo>
                <a:lnTo>
                  <a:pt x="841" y="1029"/>
                </a:lnTo>
                <a:lnTo>
                  <a:pt x="829" y="1024"/>
                </a:lnTo>
                <a:lnTo>
                  <a:pt x="809" y="1016"/>
                </a:lnTo>
                <a:lnTo>
                  <a:pt x="776" y="1008"/>
                </a:lnTo>
                <a:lnTo>
                  <a:pt x="765" y="1004"/>
                </a:lnTo>
                <a:lnTo>
                  <a:pt x="762" y="1002"/>
                </a:lnTo>
                <a:lnTo>
                  <a:pt x="761" y="1000"/>
                </a:lnTo>
                <a:lnTo>
                  <a:pt x="760" y="997"/>
                </a:lnTo>
                <a:lnTo>
                  <a:pt x="761" y="995"/>
                </a:lnTo>
                <a:lnTo>
                  <a:pt x="760" y="995"/>
                </a:lnTo>
                <a:lnTo>
                  <a:pt x="754" y="995"/>
                </a:lnTo>
                <a:lnTo>
                  <a:pt x="738" y="993"/>
                </a:lnTo>
                <a:lnTo>
                  <a:pt x="725" y="992"/>
                </a:lnTo>
                <a:lnTo>
                  <a:pt x="725" y="9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16"/>
          <p:cNvSpPr/>
          <p:nvPr/>
        </p:nvSpPr>
        <p:spPr>
          <a:xfrm>
            <a:off x="5726160" y="6534000"/>
            <a:ext cx="55440" cy="76320"/>
          </a:xfrm>
          <a:custGeom>
            <a:avLst/>
            <a:gdLst>
              <a:gd name="textAreaLeft" fmla="*/ 0 w 55440"/>
              <a:gd name="textAreaRight" fmla="*/ 55800 w 55440"/>
              <a:gd name="textAreaTop" fmla="*/ 0 h 76320"/>
              <a:gd name="textAreaBottom" fmla="*/ 76680 h 76320"/>
            </a:gdLst>
            <a:ahLst/>
            <a:rect l="textAreaLeft" t="textAreaTop" r="textAreaRight" b="textAreaBottom"/>
            <a:pathLst>
              <a:path w="70" h="96">
                <a:moveTo>
                  <a:pt x="15" y="73"/>
                </a:moveTo>
                <a:lnTo>
                  <a:pt x="16" y="78"/>
                </a:lnTo>
                <a:lnTo>
                  <a:pt x="18" y="81"/>
                </a:lnTo>
                <a:lnTo>
                  <a:pt x="21" y="86"/>
                </a:lnTo>
                <a:lnTo>
                  <a:pt x="26" y="88"/>
                </a:lnTo>
                <a:lnTo>
                  <a:pt x="34" y="92"/>
                </a:lnTo>
                <a:lnTo>
                  <a:pt x="44" y="95"/>
                </a:lnTo>
                <a:lnTo>
                  <a:pt x="52" y="96"/>
                </a:lnTo>
                <a:lnTo>
                  <a:pt x="61" y="96"/>
                </a:lnTo>
                <a:lnTo>
                  <a:pt x="65" y="90"/>
                </a:lnTo>
                <a:lnTo>
                  <a:pt x="69" y="83"/>
                </a:lnTo>
                <a:lnTo>
                  <a:pt x="70" y="77"/>
                </a:lnTo>
                <a:lnTo>
                  <a:pt x="70" y="71"/>
                </a:lnTo>
                <a:lnTo>
                  <a:pt x="69" y="64"/>
                </a:lnTo>
                <a:lnTo>
                  <a:pt x="65" y="58"/>
                </a:lnTo>
                <a:lnTo>
                  <a:pt x="57" y="46"/>
                </a:lnTo>
                <a:lnTo>
                  <a:pt x="44" y="34"/>
                </a:lnTo>
                <a:lnTo>
                  <a:pt x="28" y="22"/>
                </a:lnTo>
                <a:lnTo>
                  <a:pt x="18" y="17"/>
                </a:lnTo>
                <a:lnTo>
                  <a:pt x="6" y="7"/>
                </a:lnTo>
                <a:lnTo>
                  <a:pt x="1" y="0"/>
                </a:lnTo>
                <a:lnTo>
                  <a:pt x="0" y="0"/>
                </a:lnTo>
                <a:lnTo>
                  <a:pt x="0" y="1"/>
                </a:lnTo>
                <a:lnTo>
                  <a:pt x="0" y="3"/>
                </a:lnTo>
                <a:lnTo>
                  <a:pt x="0" y="5"/>
                </a:lnTo>
                <a:lnTo>
                  <a:pt x="2" y="12"/>
                </a:lnTo>
                <a:lnTo>
                  <a:pt x="9" y="40"/>
                </a:lnTo>
                <a:lnTo>
                  <a:pt x="15" y="73"/>
                </a:lnTo>
                <a:lnTo>
                  <a:pt x="15" y="77"/>
                </a:lnTo>
                <a:lnTo>
                  <a:pt x="16" y="81"/>
                </a:lnTo>
                <a:lnTo>
                  <a:pt x="16" y="79"/>
                </a:lnTo>
                <a:lnTo>
                  <a:pt x="15" y="74"/>
                </a:lnTo>
                <a:lnTo>
                  <a:pt x="15" y="73"/>
                </a:lnTo>
              </a:path>
            </a:pathLst>
          </a:custGeom>
          <a:solidFill>
            <a:srgbClr val="ff0000"/>
          </a:solidFill>
          <a:ln w="6480">
            <a:solidFill>
              <a:srgbClr val="1f1a17"/>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78" name="Freeform 117"/>
          <p:cNvSpPr/>
          <p:nvPr/>
        </p:nvSpPr>
        <p:spPr>
          <a:xfrm>
            <a:off x="5432400" y="6041880"/>
            <a:ext cx="38160" cy="71640"/>
          </a:xfrm>
          <a:custGeom>
            <a:avLst/>
            <a:gdLst>
              <a:gd name="textAreaLeft" fmla="*/ 0 w 38160"/>
              <a:gd name="textAreaRight" fmla="*/ 38520 w 38160"/>
              <a:gd name="textAreaTop" fmla="*/ 0 h 71640"/>
              <a:gd name="textAreaBottom" fmla="*/ 72000 h 71640"/>
            </a:gdLst>
            <a:ahLst/>
            <a:rect l="textAreaLeft" t="textAreaTop" r="textAreaRight" b="textAreaBottom"/>
            <a:pathLst>
              <a:path w="47" h="88">
                <a:moveTo>
                  <a:pt x="0" y="40"/>
                </a:moveTo>
                <a:lnTo>
                  <a:pt x="2" y="33"/>
                </a:lnTo>
                <a:lnTo>
                  <a:pt x="5" y="26"/>
                </a:lnTo>
                <a:lnTo>
                  <a:pt x="17" y="11"/>
                </a:lnTo>
                <a:lnTo>
                  <a:pt x="30" y="2"/>
                </a:lnTo>
                <a:lnTo>
                  <a:pt x="36" y="0"/>
                </a:lnTo>
                <a:lnTo>
                  <a:pt x="40" y="0"/>
                </a:lnTo>
                <a:lnTo>
                  <a:pt x="42" y="1"/>
                </a:lnTo>
                <a:lnTo>
                  <a:pt x="44" y="3"/>
                </a:lnTo>
                <a:lnTo>
                  <a:pt x="45" y="5"/>
                </a:lnTo>
                <a:lnTo>
                  <a:pt x="47" y="8"/>
                </a:lnTo>
                <a:lnTo>
                  <a:pt x="47" y="13"/>
                </a:lnTo>
                <a:lnTo>
                  <a:pt x="47" y="24"/>
                </a:lnTo>
                <a:lnTo>
                  <a:pt x="45" y="40"/>
                </a:lnTo>
                <a:lnTo>
                  <a:pt x="41" y="55"/>
                </a:lnTo>
                <a:lnTo>
                  <a:pt x="33" y="75"/>
                </a:lnTo>
                <a:lnTo>
                  <a:pt x="29" y="82"/>
                </a:lnTo>
                <a:lnTo>
                  <a:pt x="25" y="86"/>
                </a:lnTo>
                <a:lnTo>
                  <a:pt x="22" y="87"/>
                </a:lnTo>
                <a:lnTo>
                  <a:pt x="20" y="88"/>
                </a:lnTo>
                <a:lnTo>
                  <a:pt x="18" y="88"/>
                </a:lnTo>
                <a:lnTo>
                  <a:pt x="16" y="87"/>
                </a:lnTo>
                <a:lnTo>
                  <a:pt x="15" y="86"/>
                </a:lnTo>
                <a:lnTo>
                  <a:pt x="13" y="84"/>
                </a:lnTo>
                <a:lnTo>
                  <a:pt x="11" y="81"/>
                </a:lnTo>
                <a:lnTo>
                  <a:pt x="7" y="74"/>
                </a:lnTo>
                <a:lnTo>
                  <a:pt x="4" y="63"/>
                </a:lnTo>
                <a:lnTo>
                  <a:pt x="1" y="48"/>
                </a:lnTo>
                <a:lnTo>
                  <a:pt x="0" y="40"/>
                </a:lnTo>
                <a:lnTo>
                  <a:pt x="1" y="35"/>
                </a:lnTo>
                <a:lnTo>
                  <a:pt x="2" y="29"/>
                </a:lnTo>
                <a:lnTo>
                  <a:pt x="1" y="32"/>
                </a:lnTo>
                <a:lnTo>
                  <a:pt x="0" y="40"/>
                </a:lnTo>
              </a:path>
            </a:pathLst>
          </a:custGeom>
          <a:solidFill>
            <a:srgbClr val="ff0000"/>
          </a:solidFill>
          <a:ln w="6480">
            <a:solidFill>
              <a:srgbClr val="1f1a17"/>
            </a:solidFill>
            <a:round/>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79" name="Freeform 118"/>
          <p:cNvSpPr/>
          <p:nvPr/>
        </p:nvSpPr>
        <p:spPr>
          <a:xfrm>
            <a:off x="5486400" y="6191280"/>
            <a:ext cx="49320" cy="27000"/>
          </a:xfrm>
          <a:custGeom>
            <a:avLst/>
            <a:gdLst>
              <a:gd name="textAreaLeft" fmla="*/ 0 w 49320"/>
              <a:gd name="textAreaRight" fmla="*/ 49680 w 49320"/>
              <a:gd name="textAreaTop" fmla="*/ 0 h 27000"/>
              <a:gd name="textAreaBottom" fmla="*/ 27360 h 27000"/>
            </a:gdLst>
            <a:ahLst/>
            <a:rect l="textAreaLeft" t="textAreaTop" r="textAreaRight" b="textAreaBottom"/>
            <a:pathLst>
              <a:path w="63" h="35">
                <a:moveTo>
                  <a:pt x="26" y="0"/>
                </a:moveTo>
                <a:lnTo>
                  <a:pt x="19" y="0"/>
                </a:lnTo>
                <a:lnTo>
                  <a:pt x="8" y="0"/>
                </a:lnTo>
                <a:lnTo>
                  <a:pt x="5" y="1"/>
                </a:lnTo>
                <a:lnTo>
                  <a:pt x="3" y="2"/>
                </a:lnTo>
                <a:lnTo>
                  <a:pt x="1" y="3"/>
                </a:lnTo>
                <a:lnTo>
                  <a:pt x="0" y="6"/>
                </a:lnTo>
                <a:lnTo>
                  <a:pt x="0" y="9"/>
                </a:lnTo>
                <a:lnTo>
                  <a:pt x="0" y="13"/>
                </a:lnTo>
                <a:lnTo>
                  <a:pt x="2" y="26"/>
                </a:lnTo>
                <a:lnTo>
                  <a:pt x="4" y="35"/>
                </a:lnTo>
                <a:lnTo>
                  <a:pt x="7" y="35"/>
                </a:lnTo>
                <a:lnTo>
                  <a:pt x="18" y="33"/>
                </a:lnTo>
                <a:lnTo>
                  <a:pt x="26" y="32"/>
                </a:lnTo>
                <a:lnTo>
                  <a:pt x="27" y="31"/>
                </a:lnTo>
                <a:lnTo>
                  <a:pt x="38" y="29"/>
                </a:lnTo>
                <a:lnTo>
                  <a:pt x="55" y="22"/>
                </a:lnTo>
                <a:lnTo>
                  <a:pt x="60" y="19"/>
                </a:lnTo>
                <a:lnTo>
                  <a:pt x="62" y="16"/>
                </a:lnTo>
                <a:lnTo>
                  <a:pt x="63" y="14"/>
                </a:lnTo>
                <a:lnTo>
                  <a:pt x="63" y="12"/>
                </a:lnTo>
                <a:lnTo>
                  <a:pt x="62" y="10"/>
                </a:lnTo>
                <a:lnTo>
                  <a:pt x="61" y="9"/>
                </a:lnTo>
                <a:lnTo>
                  <a:pt x="60" y="8"/>
                </a:lnTo>
                <a:lnTo>
                  <a:pt x="57" y="6"/>
                </a:lnTo>
                <a:lnTo>
                  <a:pt x="52" y="4"/>
                </a:lnTo>
                <a:lnTo>
                  <a:pt x="45" y="2"/>
                </a:lnTo>
                <a:lnTo>
                  <a:pt x="26" y="0"/>
                </a:lnTo>
                <a:lnTo>
                  <a:pt x="20" y="0"/>
                </a:lnTo>
                <a:lnTo>
                  <a:pt x="13" y="0"/>
                </a:lnTo>
                <a:lnTo>
                  <a:pt x="17" y="0"/>
                </a:lnTo>
                <a:lnTo>
                  <a:pt x="25" y="0"/>
                </a:lnTo>
                <a:lnTo>
                  <a:pt x="26" y="0"/>
                </a:lnTo>
              </a:path>
            </a:pathLst>
          </a:custGeom>
          <a:solidFill>
            <a:srgbClr val="ff0000"/>
          </a:solidFill>
          <a:ln w="6480">
            <a:solidFill>
              <a:srgbClr val="1f1a17"/>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80" name="Freeform 119"/>
          <p:cNvSpPr/>
          <p:nvPr/>
        </p:nvSpPr>
        <p:spPr>
          <a:xfrm>
            <a:off x="5219640" y="5724360"/>
            <a:ext cx="33480" cy="36720"/>
          </a:xfrm>
          <a:custGeom>
            <a:avLst/>
            <a:gdLst>
              <a:gd name="textAreaLeft" fmla="*/ 0 w 33480"/>
              <a:gd name="textAreaRight" fmla="*/ 33840 w 33480"/>
              <a:gd name="textAreaTop" fmla="*/ 0 h 36720"/>
              <a:gd name="textAreaBottom" fmla="*/ 37080 h 36720"/>
            </a:gdLst>
            <a:ahLst/>
            <a:rect l="textAreaLeft" t="textAreaTop" r="textAreaRight" b="textAreaBottom"/>
            <a:pathLst>
              <a:path w="42" h="46">
                <a:moveTo>
                  <a:pt x="0" y="14"/>
                </a:moveTo>
                <a:lnTo>
                  <a:pt x="6" y="12"/>
                </a:lnTo>
                <a:lnTo>
                  <a:pt x="17" y="7"/>
                </a:lnTo>
                <a:lnTo>
                  <a:pt x="26" y="2"/>
                </a:lnTo>
                <a:lnTo>
                  <a:pt x="28" y="0"/>
                </a:lnTo>
                <a:lnTo>
                  <a:pt x="36" y="12"/>
                </a:lnTo>
                <a:lnTo>
                  <a:pt x="41" y="24"/>
                </a:lnTo>
                <a:lnTo>
                  <a:pt x="42" y="32"/>
                </a:lnTo>
                <a:lnTo>
                  <a:pt x="40" y="38"/>
                </a:lnTo>
                <a:lnTo>
                  <a:pt x="36" y="43"/>
                </a:lnTo>
                <a:lnTo>
                  <a:pt x="30" y="45"/>
                </a:lnTo>
                <a:lnTo>
                  <a:pt x="24" y="46"/>
                </a:lnTo>
                <a:lnTo>
                  <a:pt x="17" y="44"/>
                </a:lnTo>
                <a:lnTo>
                  <a:pt x="10" y="40"/>
                </a:lnTo>
                <a:lnTo>
                  <a:pt x="4" y="34"/>
                </a:lnTo>
                <a:lnTo>
                  <a:pt x="1" y="26"/>
                </a:lnTo>
                <a:lnTo>
                  <a:pt x="0" y="14"/>
                </a:lnTo>
                <a:lnTo>
                  <a:pt x="2" y="13"/>
                </a:lnTo>
                <a:lnTo>
                  <a:pt x="1" y="14"/>
                </a:lnTo>
                <a:lnTo>
                  <a:pt x="0" y="14"/>
                </a:lnTo>
              </a:path>
            </a:pathLst>
          </a:custGeom>
          <a:noFill/>
          <a:ln w="6480">
            <a:solidFill>
              <a:srgbClr val="1f1a17"/>
            </a:solidFill>
            <a:round/>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81" name="Freeform 120"/>
          <p:cNvSpPr/>
          <p:nvPr/>
        </p:nvSpPr>
        <p:spPr>
          <a:xfrm>
            <a:off x="5278320" y="5772240"/>
            <a:ext cx="23760" cy="74520"/>
          </a:xfrm>
          <a:custGeom>
            <a:avLst/>
            <a:gdLst>
              <a:gd name="textAreaLeft" fmla="*/ 0 w 23760"/>
              <a:gd name="textAreaRight" fmla="*/ 24120 w 23760"/>
              <a:gd name="textAreaTop" fmla="*/ 0 h 74520"/>
              <a:gd name="textAreaBottom" fmla="*/ 74880 h 74520"/>
            </a:gdLst>
            <a:ahLst/>
            <a:rect l="textAreaLeft" t="textAreaTop" r="textAreaRight" b="textAreaBottom"/>
            <a:pathLst>
              <a:path w="31" h="96">
                <a:moveTo>
                  <a:pt x="11" y="0"/>
                </a:moveTo>
                <a:lnTo>
                  <a:pt x="13" y="1"/>
                </a:lnTo>
                <a:lnTo>
                  <a:pt x="15" y="2"/>
                </a:lnTo>
                <a:lnTo>
                  <a:pt x="18" y="4"/>
                </a:lnTo>
                <a:lnTo>
                  <a:pt x="22" y="8"/>
                </a:lnTo>
                <a:lnTo>
                  <a:pt x="28" y="15"/>
                </a:lnTo>
                <a:lnTo>
                  <a:pt x="29" y="17"/>
                </a:lnTo>
                <a:lnTo>
                  <a:pt x="29" y="21"/>
                </a:lnTo>
                <a:lnTo>
                  <a:pt x="30" y="28"/>
                </a:lnTo>
                <a:lnTo>
                  <a:pt x="31" y="43"/>
                </a:lnTo>
                <a:lnTo>
                  <a:pt x="30" y="57"/>
                </a:lnTo>
                <a:lnTo>
                  <a:pt x="29" y="59"/>
                </a:lnTo>
                <a:lnTo>
                  <a:pt x="19" y="81"/>
                </a:lnTo>
                <a:lnTo>
                  <a:pt x="12" y="92"/>
                </a:lnTo>
                <a:lnTo>
                  <a:pt x="8" y="95"/>
                </a:lnTo>
                <a:lnTo>
                  <a:pt x="7" y="96"/>
                </a:lnTo>
                <a:lnTo>
                  <a:pt x="6" y="96"/>
                </a:lnTo>
                <a:lnTo>
                  <a:pt x="5" y="96"/>
                </a:lnTo>
                <a:lnTo>
                  <a:pt x="3" y="95"/>
                </a:lnTo>
                <a:lnTo>
                  <a:pt x="2" y="93"/>
                </a:lnTo>
                <a:lnTo>
                  <a:pt x="2" y="92"/>
                </a:lnTo>
                <a:lnTo>
                  <a:pt x="1" y="88"/>
                </a:lnTo>
                <a:lnTo>
                  <a:pt x="0" y="77"/>
                </a:lnTo>
                <a:lnTo>
                  <a:pt x="1" y="48"/>
                </a:lnTo>
                <a:lnTo>
                  <a:pt x="4" y="20"/>
                </a:lnTo>
                <a:lnTo>
                  <a:pt x="10" y="1"/>
                </a:lnTo>
                <a:lnTo>
                  <a:pt x="11" y="0"/>
                </a:lnTo>
                <a:lnTo>
                  <a:pt x="12" y="0"/>
                </a:lnTo>
                <a:lnTo>
                  <a:pt x="13" y="0"/>
                </a:lnTo>
                <a:lnTo>
                  <a:pt x="12" y="0"/>
                </a:lnTo>
                <a:lnTo>
                  <a:pt x="11" y="0"/>
                </a:lnTo>
              </a:path>
            </a:pathLst>
          </a:custGeom>
          <a:noFill/>
          <a:ln w="6480">
            <a:solidFill>
              <a:srgbClr val="1f1a17"/>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2" name="Freeform 121"/>
          <p:cNvSpPr/>
          <p:nvPr/>
        </p:nvSpPr>
        <p:spPr>
          <a:xfrm>
            <a:off x="5205240" y="6004080"/>
            <a:ext cx="84240" cy="45720"/>
          </a:xfrm>
          <a:custGeom>
            <a:avLst/>
            <a:gdLst>
              <a:gd name="textAreaLeft" fmla="*/ 0 w 84240"/>
              <a:gd name="textAreaRight" fmla="*/ 84600 w 84240"/>
              <a:gd name="textAreaTop" fmla="*/ 0 h 45720"/>
              <a:gd name="textAreaBottom" fmla="*/ 46080 h 45720"/>
            </a:gdLst>
            <a:ahLst/>
            <a:rect l="textAreaLeft" t="textAreaTop" r="textAreaRight" b="textAreaBottom"/>
            <a:pathLst>
              <a:path w="105" h="58">
                <a:moveTo>
                  <a:pt x="77" y="57"/>
                </a:moveTo>
                <a:lnTo>
                  <a:pt x="90" y="57"/>
                </a:lnTo>
                <a:lnTo>
                  <a:pt x="99" y="55"/>
                </a:lnTo>
                <a:lnTo>
                  <a:pt x="102" y="54"/>
                </a:lnTo>
                <a:lnTo>
                  <a:pt x="104" y="53"/>
                </a:lnTo>
                <a:lnTo>
                  <a:pt x="105" y="51"/>
                </a:lnTo>
                <a:lnTo>
                  <a:pt x="105" y="49"/>
                </a:lnTo>
                <a:lnTo>
                  <a:pt x="105" y="46"/>
                </a:lnTo>
                <a:lnTo>
                  <a:pt x="104" y="44"/>
                </a:lnTo>
                <a:lnTo>
                  <a:pt x="102" y="42"/>
                </a:lnTo>
                <a:lnTo>
                  <a:pt x="97" y="37"/>
                </a:lnTo>
                <a:lnTo>
                  <a:pt x="87" y="27"/>
                </a:lnTo>
                <a:lnTo>
                  <a:pt x="77" y="17"/>
                </a:lnTo>
                <a:lnTo>
                  <a:pt x="75" y="10"/>
                </a:lnTo>
                <a:lnTo>
                  <a:pt x="54" y="6"/>
                </a:lnTo>
                <a:lnTo>
                  <a:pt x="24" y="0"/>
                </a:lnTo>
                <a:lnTo>
                  <a:pt x="6" y="0"/>
                </a:lnTo>
                <a:lnTo>
                  <a:pt x="3" y="0"/>
                </a:lnTo>
                <a:lnTo>
                  <a:pt x="2" y="1"/>
                </a:lnTo>
                <a:lnTo>
                  <a:pt x="1" y="2"/>
                </a:lnTo>
                <a:lnTo>
                  <a:pt x="0" y="4"/>
                </a:lnTo>
                <a:lnTo>
                  <a:pt x="1" y="6"/>
                </a:lnTo>
                <a:lnTo>
                  <a:pt x="2" y="7"/>
                </a:lnTo>
                <a:lnTo>
                  <a:pt x="4" y="9"/>
                </a:lnTo>
                <a:lnTo>
                  <a:pt x="6" y="11"/>
                </a:lnTo>
                <a:lnTo>
                  <a:pt x="15" y="17"/>
                </a:lnTo>
                <a:lnTo>
                  <a:pt x="43" y="31"/>
                </a:lnTo>
                <a:lnTo>
                  <a:pt x="48" y="32"/>
                </a:lnTo>
                <a:lnTo>
                  <a:pt x="50" y="33"/>
                </a:lnTo>
                <a:lnTo>
                  <a:pt x="52" y="35"/>
                </a:lnTo>
                <a:lnTo>
                  <a:pt x="59" y="42"/>
                </a:lnTo>
                <a:lnTo>
                  <a:pt x="73" y="57"/>
                </a:lnTo>
                <a:lnTo>
                  <a:pt x="77" y="57"/>
                </a:lnTo>
                <a:lnTo>
                  <a:pt x="90" y="58"/>
                </a:lnTo>
                <a:lnTo>
                  <a:pt x="104" y="58"/>
                </a:lnTo>
                <a:lnTo>
                  <a:pt x="96" y="58"/>
                </a:lnTo>
                <a:lnTo>
                  <a:pt x="78" y="58"/>
                </a:lnTo>
                <a:lnTo>
                  <a:pt x="77" y="57"/>
                </a:lnTo>
              </a:path>
            </a:pathLst>
          </a:custGeom>
          <a:noFill/>
          <a:ln w="6480">
            <a:solidFill>
              <a:srgbClr val="1f1a17"/>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3" name="Freeform 122"/>
          <p:cNvSpPr/>
          <p:nvPr/>
        </p:nvSpPr>
        <p:spPr>
          <a:xfrm>
            <a:off x="4992840" y="6004080"/>
            <a:ext cx="244440" cy="191880"/>
          </a:xfrm>
          <a:custGeom>
            <a:avLst/>
            <a:gdLst>
              <a:gd name="textAreaLeft" fmla="*/ 0 w 244440"/>
              <a:gd name="textAreaRight" fmla="*/ 244800 w 244440"/>
              <a:gd name="textAreaTop" fmla="*/ 0 h 191880"/>
              <a:gd name="textAreaBottom" fmla="*/ 192240 h 191880"/>
            </a:gdLst>
            <a:ahLst/>
            <a:rect l="textAreaLeft" t="textAreaTop" r="textAreaRight" b="textAreaBottom"/>
            <a:pathLst>
              <a:path w="307" h="240">
                <a:moveTo>
                  <a:pt x="19" y="0"/>
                </a:moveTo>
                <a:lnTo>
                  <a:pt x="21" y="2"/>
                </a:lnTo>
                <a:lnTo>
                  <a:pt x="38" y="13"/>
                </a:lnTo>
                <a:lnTo>
                  <a:pt x="98" y="50"/>
                </a:lnTo>
                <a:lnTo>
                  <a:pt x="144" y="78"/>
                </a:lnTo>
                <a:lnTo>
                  <a:pt x="148" y="79"/>
                </a:lnTo>
                <a:lnTo>
                  <a:pt x="154" y="80"/>
                </a:lnTo>
                <a:lnTo>
                  <a:pt x="167" y="80"/>
                </a:lnTo>
                <a:lnTo>
                  <a:pt x="188" y="80"/>
                </a:lnTo>
                <a:lnTo>
                  <a:pt x="212" y="83"/>
                </a:lnTo>
                <a:lnTo>
                  <a:pt x="219" y="83"/>
                </a:lnTo>
                <a:lnTo>
                  <a:pt x="225" y="86"/>
                </a:lnTo>
                <a:lnTo>
                  <a:pt x="230" y="90"/>
                </a:lnTo>
                <a:lnTo>
                  <a:pt x="236" y="96"/>
                </a:lnTo>
                <a:lnTo>
                  <a:pt x="245" y="113"/>
                </a:lnTo>
                <a:lnTo>
                  <a:pt x="261" y="146"/>
                </a:lnTo>
                <a:lnTo>
                  <a:pt x="267" y="160"/>
                </a:lnTo>
                <a:lnTo>
                  <a:pt x="287" y="189"/>
                </a:lnTo>
                <a:lnTo>
                  <a:pt x="306" y="226"/>
                </a:lnTo>
                <a:lnTo>
                  <a:pt x="307" y="231"/>
                </a:lnTo>
                <a:lnTo>
                  <a:pt x="306" y="235"/>
                </a:lnTo>
                <a:lnTo>
                  <a:pt x="306" y="237"/>
                </a:lnTo>
                <a:lnTo>
                  <a:pt x="305" y="238"/>
                </a:lnTo>
                <a:lnTo>
                  <a:pt x="304" y="239"/>
                </a:lnTo>
                <a:lnTo>
                  <a:pt x="301" y="240"/>
                </a:lnTo>
                <a:lnTo>
                  <a:pt x="300" y="240"/>
                </a:lnTo>
                <a:lnTo>
                  <a:pt x="296" y="239"/>
                </a:lnTo>
                <a:lnTo>
                  <a:pt x="290" y="237"/>
                </a:lnTo>
                <a:lnTo>
                  <a:pt x="279" y="230"/>
                </a:lnTo>
                <a:lnTo>
                  <a:pt x="268" y="221"/>
                </a:lnTo>
                <a:lnTo>
                  <a:pt x="244" y="193"/>
                </a:lnTo>
                <a:lnTo>
                  <a:pt x="232" y="169"/>
                </a:lnTo>
                <a:lnTo>
                  <a:pt x="230" y="167"/>
                </a:lnTo>
                <a:lnTo>
                  <a:pt x="225" y="159"/>
                </a:lnTo>
                <a:lnTo>
                  <a:pt x="211" y="137"/>
                </a:lnTo>
                <a:lnTo>
                  <a:pt x="202" y="129"/>
                </a:lnTo>
                <a:lnTo>
                  <a:pt x="196" y="124"/>
                </a:lnTo>
                <a:lnTo>
                  <a:pt x="194" y="123"/>
                </a:lnTo>
                <a:lnTo>
                  <a:pt x="184" y="123"/>
                </a:lnTo>
                <a:lnTo>
                  <a:pt x="170" y="121"/>
                </a:lnTo>
                <a:lnTo>
                  <a:pt x="137" y="110"/>
                </a:lnTo>
                <a:lnTo>
                  <a:pt x="69" y="81"/>
                </a:lnTo>
                <a:lnTo>
                  <a:pt x="53" y="72"/>
                </a:lnTo>
                <a:lnTo>
                  <a:pt x="48" y="70"/>
                </a:lnTo>
                <a:lnTo>
                  <a:pt x="33" y="60"/>
                </a:lnTo>
                <a:lnTo>
                  <a:pt x="4" y="31"/>
                </a:lnTo>
                <a:lnTo>
                  <a:pt x="1" y="24"/>
                </a:lnTo>
                <a:lnTo>
                  <a:pt x="0" y="17"/>
                </a:lnTo>
                <a:lnTo>
                  <a:pt x="2" y="10"/>
                </a:lnTo>
                <a:lnTo>
                  <a:pt x="8" y="5"/>
                </a:lnTo>
                <a:lnTo>
                  <a:pt x="19" y="0"/>
                </a:lnTo>
              </a:path>
            </a:pathLst>
          </a:custGeom>
          <a:solidFill>
            <a:srgbClr val="ff0000"/>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123"/>
          <p:cNvSpPr/>
          <p:nvPr/>
        </p:nvSpPr>
        <p:spPr>
          <a:xfrm>
            <a:off x="5278320" y="6195960"/>
            <a:ext cx="22320" cy="55440"/>
          </a:xfrm>
          <a:custGeom>
            <a:avLst/>
            <a:gdLst>
              <a:gd name="textAreaLeft" fmla="*/ 0 w 22320"/>
              <a:gd name="textAreaRight" fmla="*/ 22680 w 22320"/>
              <a:gd name="textAreaTop" fmla="*/ 0 h 55440"/>
              <a:gd name="textAreaBottom" fmla="*/ 55800 h 55440"/>
            </a:gdLst>
            <a:ahLst/>
            <a:rect l="textAreaLeft" t="textAreaTop" r="textAreaRight" b="textAreaBottom"/>
            <a:pathLst>
              <a:path w="28" h="69">
                <a:moveTo>
                  <a:pt x="0" y="17"/>
                </a:moveTo>
                <a:lnTo>
                  <a:pt x="3" y="15"/>
                </a:lnTo>
                <a:lnTo>
                  <a:pt x="16" y="7"/>
                </a:lnTo>
                <a:lnTo>
                  <a:pt x="26" y="1"/>
                </a:lnTo>
                <a:lnTo>
                  <a:pt x="27" y="0"/>
                </a:lnTo>
                <a:lnTo>
                  <a:pt x="28" y="16"/>
                </a:lnTo>
                <a:lnTo>
                  <a:pt x="27" y="43"/>
                </a:lnTo>
                <a:lnTo>
                  <a:pt x="20" y="62"/>
                </a:lnTo>
                <a:lnTo>
                  <a:pt x="17" y="67"/>
                </a:lnTo>
                <a:lnTo>
                  <a:pt x="15" y="68"/>
                </a:lnTo>
                <a:lnTo>
                  <a:pt x="13" y="69"/>
                </a:lnTo>
                <a:lnTo>
                  <a:pt x="11" y="68"/>
                </a:lnTo>
                <a:lnTo>
                  <a:pt x="8" y="67"/>
                </a:lnTo>
                <a:lnTo>
                  <a:pt x="6" y="65"/>
                </a:lnTo>
                <a:lnTo>
                  <a:pt x="5" y="62"/>
                </a:lnTo>
                <a:lnTo>
                  <a:pt x="3" y="57"/>
                </a:lnTo>
                <a:lnTo>
                  <a:pt x="1" y="45"/>
                </a:lnTo>
                <a:lnTo>
                  <a:pt x="0" y="29"/>
                </a:lnTo>
                <a:lnTo>
                  <a:pt x="0" y="17"/>
                </a:lnTo>
              </a:path>
            </a:pathLst>
          </a:custGeom>
          <a:noFill/>
          <a:ln w="6480">
            <a:solidFill>
              <a:srgbClr val="1f1a17"/>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5" name="Freeform 124"/>
          <p:cNvSpPr/>
          <p:nvPr/>
        </p:nvSpPr>
        <p:spPr>
          <a:xfrm>
            <a:off x="5340240" y="6224760"/>
            <a:ext cx="28800" cy="23760"/>
          </a:xfrm>
          <a:custGeom>
            <a:avLst/>
            <a:gdLst>
              <a:gd name="textAreaLeft" fmla="*/ 0 w 28800"/>
              <a:gd name="textAreaRight" fmla="*/ 29160 w 28800"/>
              <a:gd name="textAreaTop" fmla="*/ 0 h 23760"/>
              <a:gd name="textAreaBottom" fmla="*/ 24120 h 23760"/>
            </a:gdLst>
            <a:ahLst/>
            <a:rect l="textAreaLeft" t="textAreaTop" r="textAreaRight" b="textAreaBottom"/>
            <a:pathLst>
              <a:path w="37" h="30">
                <a:moveTo>
                  <a:pt x="13" y="0"/>
                </a:moveTo>
                <a:lnTo>
                  <a:pt x="14" y="0"/>
                </a:lnTo>
                <a:lnTo>
                  <a:pt x="19" y="0"/>
                </a:lnTo>
                <a:lnTo>
                  <a:pt x="23" y="0"/>
                </a:lnTo>
                <a:lnTo>
                  <a:pt x="24" y="0"/>
                </a:lnTo>
                <a:lnTo>
                  <a:pt x="29" y="1"/>
                </a:lnTo>
                <a:lnTo>
                  <a:pt x="31" y="3"/>
                </a:lnTo>
                <a:lnTo>
                  <a:pt x="33" y="5"/>
                </a:lnTo>
                <a:lnTo>
                  <a:pt x="35" y="8"/>
                </a:lnTo>
                <a:lnTo>
                  <a:pt x="35" y="12"/>
                </a:lnTo>
                <a:lnTo>
                  <a:pt x="37" y="13"/>
                </a:lnTo>
                <a:lnTo>
                  <a:pt x="37" y="14"/>
                </a:lnTo>
                <a:lnTo>
                  <a:pt x="37" y="17"/>
                </a:lnTo>
                <a:lnTo>
                  <a:pt x="37" y="18"/>
                </a:lnTo>
                <a:lnTo>
                  <a:pt x="35" y="24"/>
                </a:lnTo>
                <a:lnTo>
                  <a:pt x="33" y="26"/>
                </a:lnTo>
                <a:lnTo>
                  <a:pt x="31" y="28"/>
                </a:lnTo>
                <a:lnTo>
                  <a:pt x="29" y="30"/>
                </a:lnTo>
                <a:lnTo>
                  <a:pt x="25" y="30"/>
                </a:lnTo>
                <a:lnTo>
                  <a:pt x="24" y="30"/>
                </a:lnTo>
                <a:lnTo>
                  <a:pt x="23" y="30"/>
                </a:lnTo>
                <a:lnTo>
                  <a:pt x="22" y="30"/>
                </a:lnTo>
                <a:lnTo>
                  <a:pt x="16" y="30"/>
                </a:lnTo>
                <a:lnTo>
                  <a:pt x="13" y="30"/>
                </a:lnTo>
                <a:lnTo>
                  <a:pt x="11" y="30"/>
                </a:lnTo>
                <a:lnTo>
                  <a:pt x="6" y="30"/>
                </a:lnTo>
                <a:lnTo>
                  <a:pt x="4" y="28"/>
                </a:lnTo>
                <a:lnTo>
                  <a:pt x="2" y="26"/>
                </a:lnTo>
                <a:lnTo>
                  <a:pt x="0" y="24"/>
                </a:lnTo>
                <a:lnTo>
                  <a:pt x="0" y="20"/>
                </a:lnTo>
                <a:lnTo>
                  <a:pt x="0" y="18"/>
                </a:lnTo>
                <a:lnTo>
                  <a:pt x="0" y="15"/>
                </a:lnTo>
                <a:lnTo>
                  <a:pt x="0" y="14"/>
                </a:lnTo>
                <a:lnTo>
                  <a:pt x="0" y="13"/>
                </a:lnTo>
                <a:lnTo>
                  <a:pt x="0" y="12"/>
                </a:lnTo>
                <a:lnTo>
                  <a:pt x="0" y="8"/>
                </a:lnTo>
                <a:lnTo>
                  <a:pt x="2" y="5"/>
                </a:lnTo>
                <a:lnTo>
                  <a:pt x="4" y="3"/>
                </a:lnTo>
                <a:lnTo>
                  <a:pt x="6" y="1"/>
                </a:lnTo>
                <a:lnTo>
                  <a:pt x="11" y="1"/>
                </a:lnTo>
                <a:lnTo>
                  <a:pt x="13" y="0"/>
                </a:lnTo>
              </a:path>
            </a:pathLst>
          </a:custGeom>
          <a:noFill/>
          <a:ln w="6480">
            <a:solidFill>
              <a:srgbClr val="1f1a17"/>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6" name="Freeform 125"/>
          <p:cNvSpPr/>
          <p:nvPr/>
        </p:nvSpPr>
        <p:spPr>
          <a:xfrm>
            <a:off x="5423040" y="6310440"/>
            <a:ext cx="31680" cy="48960"/>
          </a:xfrm>
          <a:custGeom>
            <a:avLst/>
            <a:gdLst>
              <a:gd name="textAreaLeft" fmla="*/ 0 w 31680"/>
              <a:gd name="textAreaRight" fmla="*/ 32040 w 31680"/>
              <a:gd name="textAreaTop" fmla="*/ 0 h 48960"/>
              <a:gd name="textAreaBottom" fmla="*/ 49320 h 48960"/>
            </a:gdLst>
            <a:ahLst/>
            <a:rect l="textAreaLeft" t="textAreaTop" r="textAreaRight" b="textAreaBottom"/>
            <a:pathLst>
              <a:path w="40" h="63">
                <a:moveTo>
                  <a:pt x="0" y="34"/>
                </a:moveTo>
                <a:lnTo>
                  <a:pt x="0" y="30"/>
                </a:lnTo>
                <a:lnTo>
                  <a:pt x="0" y="23"/>
                </a:lnTo>
                <a:lnTo>
                  <a:pt x="6" y="12"/>
                </a:lnTo>
                <a:lnTo>
                  <a:pt x="13" y="3"/>
                </a:lnTo>
                <a:lnTo>
                  <a:pt x="16" y="0"/>
                </a:lnTo>
                <a:lnTo>
                  <a:pt x="19" y="4"/>
                </a:lnTo>
                <a:lnTo>
                  <a:pt x="30" y="14"/>
                </a:lnTo>
                <a:lnTo>
                  <a:pt x="39" y="21"/>
                </a:lnTo>
                <a:lnTo>
                  <a:pt x="40" y="21"/>
                </a:lnTo>
                <a:lnTo>
                  <a:pt x="36" y="33"/>
                </a:lnTo>
                <a:lnTo>
                  <a:pt x="31" y="51"/>
                </a:lnTo>
                <a:lnTo>
                  <a:pt x="29" y="61"/>
                </a:lnTo>
                <a:lnTo>
                  <a:pt x="28" y="62"/>
                </a:lnTo>
                <a:lnTo>
                  <a:pt x="27" y="63"/>
                </a:lnTo>
                <a:lnTo>
                  <a:pt x="26" y="63"/>
                </a:lnTo>
                <a:lnTo>
                  <a:pt x="25" y="63"/>
                </a:lnTo>
                <a:lnTo>
                  <a:pt x="24" y="62"/>
                </a:lnTo>
                <a:lnTo>
                  <a:pt x="22" y="61"/>
                </a:lnTo>
                <a:lnTo>
                  <a:pt x="18" y="57"/>
                </a:lnTo>
                <a:lnTo>
                  <a:pt x="6" y="43"/>
                </a:lnTo>
                <a:lnTo>
                  <a:pt x="0" y="34"/>
                </a:lnTo>
                <a:lnTo>
                  <a:pt x="0" y="31"/>
                </a:lnTo>
                <a:lnTo>
                  <a:pt x="0" y="27"/>
                </a:lnTo>
                <a:lnTo>
                  <a:pt x="0" y="29"/>
                </a:lnTo>
                <a:lnTo>
                  <a:pt x="0" y="34"/>
                </a:lnTo>
              </a:path>
            </a:pathLst>
          </a:custGeom>
          <a:solidFill>
            <a:srgbClr val="ff0000"/>
          </a:solidFill>
          <a:ln w="6480">
            <a:solidFill>
              <a:srgbClr val="1f1a17"/>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7" name="Freeform 126"/>
          <p:cNvSpPr/>
          <p:nvPr/>
        </p:nvSpPr>
        <p:spPr>
          <a:xfrm>
            <a:off x="5372280" y="6316560"/>
            <a:ext cx="21960" cy="55800"/>
          </a:xfrm>
          <a:custGeom>
            <a:avLst/>
            <a:gdLst>
              <a:gd name="textAreaLeft" fmla="*/ 0 w 21960"/>
              <a:gd name="textAreaRight" fmla="*/ 21960 w 21960"/>
              <a:gd name="textAreaTop" fmla="*/ 0 h 55800"/>
              <a:gd name="textAreaBottom" fmla="*/ 56160 h 55800"/>
            </a:gdLst>
            <a:ahLst/>
            <a:rect l="textAreaLeft" t="textAreaTop" r="textAreaRight" b="textAreaBottom"/>
            <a:pathLst>
              <a:path w="29" h="70">
                <a:moveTo>
                  <a:pt x="29" y="43"/>
                </a:moveTo>
                <a:lnTo>
                  <a:pt x="20" y="55"/>
                </a:lnTo>
                <a:lnTo>
                  <a:pt x="16" y="57"/>
                </a:lnTo>
                <a:lnTo>
                  <a:pt x="15" y="57"/>
                </a:lnTo>
                <a:lnTo>
                  <a:pt x="13" y="57"/>
                </a:lnTo>
                <a:lnTo>
                  <a:pt x="12" y="57"/>
                </a:lnTo>
                <a:lnTo>
                  <a:pt x="9" y="56"/>
                </a:lnTo>
                <a:lnTo>
                  <a:pt x="8" y="55"/>
                </a:lnTo>
                <a:lnTo>
                  <a:pt x="7" y="53"/>
                </a:lnTo>
                <a:lnTo>
                  <a:pt x="5" y="50"/>
                </a:lnTo>
                <a:lnTo>
                  <a:pt x="3" y="45"/>
                </a:lnTo>
                <a:lnTo>
                  <a:pt x="1" y="34"/>
                </a:lnTo>
                <a:lnTo>
                  <a:pt x="0" y="10"/>
                </a:lnTo>
                <a:lnTo>
                  <a:pt x="3" y="2"/>
                </a:lnTo>
                <a:lnTo>
                  <a:pt x="4" y="1"/>
                </a:lnTo>
                <a:lnTo>
                  <a:pt x="5" y="0"/>
                </a:lnTo>
                <a:lnTo>
                  <a:pt x="6" y="0"/>
                </a:lnTo>
                <a:lnTo>
                  <a:pt x="7" y="0"/>
                </a:lnTo>
                <a:lnTo>
                  <a:pt x="9" y="1"/>
                </a:lnTo>
                <a:lnTo>
                  <a:pt x="11" y="3"/>
                </a:lnTo>
                <a:lnTo>
                  <a:pt x="14" y="7"/>
                </a:lnTo>
                <a:lnTo>
                  <a:pt x="17" y="14"/>
                </a:lnTo>
                <a:lnTo>
                  <a:pt x="26" y="36"/>
                </a:lnTo>
                <a:lnTo>
                  <a:pt x="29" y="43"/>
                </a:lnTo>
                <a:lnTo>
                  <a:pt x="20" y="57"/>
                </a:lnTo>
                <a:lnTo>
                  <a:pt x="13" y="70"/>
                </a:lnTo>
                <a:lnTo>
                  <a:pt x="17" y="63"/>
                </a:lnTo>
                <a:lnTo>
                  <a:pt x="28" y="45"/>
                </a:lnTo>
                <a:lnTo>
                  <a:pt x="29" y="43"/>
                </a:lnTo>
              </a:path>
            </a:pathLst>
          </a:custGeom>
          <a:noFill/>
          <a:ln w="6480">
            <a:solidFill>
              <a:srgbClr val="1f1a17"/>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88" name="Freeform 127"/>
          <p:cNvSpPr/>
          <p:nvPr/>
        </p:nvSpPr>
        <p:spPr>
          <a:xfrm>
            <a:off x="5264280" y="6408720"/>
            <a:ext cx="47520" cy="30240"/>
          </a:xfrm>
          <a:custGeom>
            <a:avLst/>
            <a:gdLst>
              <a:gd name="textAreaLeft" fmla="*/ 0 w 47520"/>
              <a:gd name="textAreaRight" fmla="*/ 47880 w 47520"/>
              <a:gd name="textAreaTop" fmla="*/ 0 h 30240"/>
              <a:gd name="textAreaBottom" fmla="*/ 30600 h 30240"/>
            </a:gdLst>
            <a:ahLst/>
            <a:rect l="textAreaLeft" t="textAreaTop" r="textAreaRight" b="textAreaBottom"/>
            <a:pathLst>
              <a:path w="59" h="38">
                <a:moveTo>
                  <a:pt x="0" y="22"/>
                </a:moveTo>
                <a:lnTo>
                  <a:pt x="14" y="15"/>
                </a:lnTo>
                <a:lnTo>
                  <a:pt x="32" y="4"/>
                </a:lnTo>
                <a:lnTo>
                  <a:pt x="40" y="0"/>
                </a:lnTo>
                <a:lnTo>
                  <a:pt x="43" y="0"/>
                </a:lnTo>
                <a:lnTo>
                  <a:pt x="44" y="0"/>
                </a:lnTo>
                <a:lnTo>
                  <a:pt x="45" y="1"/>
                </a:lnTo>
                <a:lnTo>
                  <a:pt x="46" y="2"/>
                </a:lnTo>
                <a:lnTo>
                  <a:pt x="48" y="7"/>
                </a:lnTo>
                <a:lnTo>
                  <a:pt x="53" y="16"/>
                </a:lnTo>
                <a:lnTo>
                  <a:pt x="59" y="22"/>
                </a:lnTo>
                <a:lnTo>
                  <a:pt x="54" y="30"/>
                </a:lnTo>
                <a:lnTo>
                  <a:pt x="50" y="35"/>
                </a:lnTo>
                <a:lnTo>
                  <a:pt x="45" y="37"/>
                </a:lnTo>
                <a:lnTo>
                  <a:pt x="39" y="38"/>
                </a:lnTo>
                <a:lnTo>
                  <a:pt x="34" y="38"/>
                </a:lnTo>
                <a:lnTo>
                  <a:pt x="29" y="37"/>
                </a:lnTo>
                <a:lnTo>
                  <a:pt x="17" y="32"/>
                </a:lnTo>
                <a:lnTo>
                  <a:pt x="7" y="27"/>
                </a:lnTo>
                <a:lnTo>
                  <a:pt x="0" y="22"/>
                </a:lnTo>
                <a:lnTo>
                  <a:pt x="13" y="15"/>
                </a:lnTo>
                <a:lnTo>
                  <a:pt x="25" y="8"/>
                </a:lnTo>
                <a:lnTo>
                  <a:pt x="18" y="12"/>
                </a:lnTo>
                <a:lnTo>
                  <a:pt x="1" y="22"/>
                </a:lnTo>
                <a:lnTo>
                  <a:pt x="0" y="22"/>
                </a:lnTo>
              </a:path>
            </a:pathLst>
          </a:custGeom>
          <a:noFill/>
          <a:ln w="6480">
            <a:solidFill>
              <a:srgbClr val="1f1a17"/>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89" name="Freeform 128"/>
          <p:cNvSpPr/>
          <p:nvPr/>
        </p:nvSpPr>
        <p:spPr>
          <a:xfrm>
            <a:off x="4449600" y="5962680"/>
            <a:ext cx="34920" cy="66600"/>
          </a:xfrm>
          <a:custGeom>
            <a:avLst/>
            <a:gdLst>
              <a:gd name="textAreaLeft" fmla="*/ 0 w 34920"/>
              <a:gd name="textAreaRight" fmla="*/ 34920 w 34920"/>
              <a:gd name="textAreaTop" fmla="*/ 0 h 66600"/>
              <a:gd name="textAreaBottom" fmla="*/ 66960 h 66600"/>
            </a:gdLst>
            <a:ahLst/>
            <a:rect l="textAreaLeft" t="textAreaTop" r="textAreaRight" b="textAreaBottom"/>
            <a:pathLst>
              <a:path w="44" h="84">
                <a:moveTo>
                  <a:pt x="8" y="80"/>
                </a:moveTo>
                <a:lnTo>
                  <a:pt x="7" y="81"/>
                </a:lnTo>
                <a:lnTo>
                  <a:pt x="6" y="79"/>
                </a:lnTo>
                <a:lnTo>
                  <a:pt x="5" y="75"/>
                </a:lnTo>
                <a:lnTo>
                  <a:pt x="3" y="61"/>
                </a:lnTo>
                <a:lnTo>
                  <a:pt x="0" y="25"/>
                </a:lnTo>
                <a:lnTo>
                  <a:pt x="0" y="7"/>
                </a:lnTo>
                <a:lnTo>
                  <a:pt x="4" y="4"/>
                </a:lnTo>
                <a:lnTo>
                  <a:pt x="7" y="2"/>
                </a:lnTo>
                <a:lnTo>
                  <a:pt x="11" y="0"/>
                </a:lnTo>
                <a:lnTo>
                  <a:pt x="14" y="0"/>
                </a:lnTo>
                <a:lnTo>
                  <a:pt x="19" y="0"/>
                </a:lnTo>
                <a:lnTo>
                  <a:pt x="23" y="0"/>
                </a:lnTo>
                <a:lnTo>
                  <a:pt x="30" y="4"/>
                </a:lnTo>
                <a:lnTo>
                  <a:pt x="38" y="8"/>
                </a:lnTo>
                <a:lnTo>
                  <a:pt x="44" y="14"/>
                </a:lnTo>
                <a:lnTo>
                  <a:pt x="43" y="16"/>
                </a:lnTo>
                <a:lnTo>
                  <a:pt x="38" y="25"/>
                </a:lnTo>
                <a:lnTo>
                  <a:pt x="21" y="56"/>
                </a:lnTo>
                <a:lnTo>
                  <a:pt x="8" y="79"/>
                </a:lnTo>
                <a:lnTo>
                  <a:pt x="8" y="80"/>
                </a:lnTo>
                <a:lnTo>
                  <a:pt x="7" y="82"/>
                </a:lnTo>
                <a:lnTo>
                  <a:pt x="6" y="84"/>
                </a:lnTo>
                <a:lnTo>
                  <a:pt x="7" y="81"/>
                </a:lnTo>
                <a:lnTo>
                  <a:pt x="8" y="80"/>
                </a:lnTo>
              </a:path>
            </a:pathLst>
          </a:custGeom>
          <a:noFill/>
          <a:ln w="6480">
            <a:solidFill>
              <a:srgbClr val="1f1a17"/>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0" name="Freeform 129"/>
          <p:cNvSpPr/>
          <p:nvPr/>
        </p:nvSpPr>
        <p:spPr>
          <a:xfrm>
            <a:off x="4605480" y="6100920"/>
            <a:ext cx="33120" cy="42840"/>
          </a:xfrm>
          <a:custGeom>
            <a:avLst/>
            <a:gdLst/>
            <a:ahLst/>
            <a:rect l="l" t="t" r="r" b="b"/>
            <a:pathLst>
              <a:path w="41" h="55">
                <a:moveTo>
                  <a:pt x="20" y="0"/>
                </a:moveTo>
                <a:lnTo>
                  <a:pt x="23" y="1"/>
                </a:lnTo>
                <a:lnTo>
                  <a:pt x="33" y="3"/>
                </a:lnTo>
                <a:lnTo>
                  <a:pt x="40" y="4"/>
                </a:lnTo>
                <a:lnTo>
                  <a:pt x="41" y="4"/>
                </a:lnTo>
                <a:lnTo>
                  <a:pt x="40" y="11"/>
                </a:lnTo>
                <a:lnTo>
                  <a:pt x="37" y="29"/>
                </a:lnTo>
                <a:lnTo>
                  <a:pt x="36" y="44"/>
                </a:lnTo>
                <a:lnTo>
                  <a:pt x="20" y="50"/>
                </a:lnTo>
                <a:lnTo>
                  <a:pt x="2" y="55"/>
                </a:lnTo>
                <a:lnTo>
                  <a:pt x="1" y="55"/>
                </a:lnTo>
                <a:lnTo>
                  <a:pt x="0" y="55"/>
                </a:lnTo>
                <a:lnTo>
                  <a:pt x="0" y="53"/>
                </a:lnTo>
                <a:lnTo>
                  <a:pt x="1" y="51"/>
                </a:lnTo>
                <a:lnTo>
                  <a:pt x="2" y="48"/>
                </a:lnTo>
                <a:lnTo>
                  <a:pt x="5" y="43"/>
                </a:lnTo>
                <a:lnTo>
                  <a:pt x="15" y="28"/>
                </a:lnTo>
                <a:lnTo>
                  <a:pt x="20" y="10"/>
                </a:lnTo>
                <a:lnTo>
                  <a:pt x="20" y="0"/>
                </a:lnTo>
              </a:path>
            </a:pathLst>
          </a:custGeom>
          <a:noFill/>
          <a:ln w="6480">
            <a:solidFill>
              <a:srgbClr val="1f1a17"/>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1" name="Freeform 130"/>
          <p:cNvSpPr/>
          <p:nvPr/>
        </p:nvSpPr>
        <p:spPr>
          <a:xfrm>
            <a:off x="4603680" y="6237360"/>
            <a:ext cx="57240" cy="38160"/>
          </a:xfrm>
          <a:custGeom>
            <a:avLst/>
            <a:gdLst>
              <a:gd name="textAreaLeft" fmla="*/ 0 w 57240"/>
              <a:gd name="textAreaRight" fmla="*/ 57600 w 57240"/>
              <a:gd name="textAreaTop" fmla="*/ 0 h 38160"/>
              <a:gd name="textAreaBottom" fmla="*/ 38520 h 38160"/>
            </a:gdLst>
            <a:ahLst/>
            <a:rect l="textAreaLeft" t="textAreaTop" r="textAreaRight" b="textAreaBottom"/>
            <a:pathLst>
              <a:path w="70" h="48">
                <a:moveTo>
                  <a:pt x="27" y="0"/>
                </a:moveTo>
                <a:lnTo>
                  <a:pt x="34" y="3"/>
                </a:lnTo>
                <a:lnTo>
                  <a:pt x="53" y="12"/>
                </a:lnTo>
                <a:lnTo>
                  <a:pt x="69" y="18"/>
                </a:lnTo>
                <a:lnTo>
                  <a:pt x="70" y="18"/>
                </a:lnTo>
                <a:lnTo>
                  <a:pt x="69" y="19"/>
                </a:lnTo>
                <a:lnTo>
                  <a:pt x="65" y="23"/>
                </a:lnTo>
                <a:lnTo>
                  <a:pt x="49" y="36"/>
                </a:lnTo>
                <a:lnTo>
                  <a:pt x="36" y="46"/>
                </a:lnTo>
                <a:lnTo>
                  <a:pt x="33" y="47"/>
                </a:lnTo>
                <a:lnTo>
                  <a:pt x="26" y="48"/>
                </a:lnTo>
                <a:lnTo>
                  <a:pt x="12" y="48"/>
                </a:lnTo>
                <a:lnTo>
                  <a:pt x="2" y="47"/>
                </a:lnTo>
                <a:lnTo>
                  <a:pt x="0" y="46"/>
                </a:lnTo>
                <a:lnTo>
                  <a:pt x="1" y="45"/>
                </a:lnTo>
                <a:lnTo>
                  <a:pt x="3" y="42"/>
                </a:lnTo>
                <a:lnTo>
                  <a:pt x="8" y="33"/>
                </a:lnTo>
                <a:lnTo>
                  <a:pt x="22" y="11"/>
                </a:lnTo>
                <a:lnTo>
                  <a:pt x="27" y="0"/>
                </a:lnTo>
              </a:path>
            </a:pathLst>
          </a:custGeom>
          <a:noFill/>
          <a:ln w="6480">
            <a:solidFill>
              <a:srgbClr val="1f1a17"/>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2" name="Freeform 131"/>
          <p:cNvSpPr/>
          <p:nvPr/>
        </p:nvSpPr>
        <p:spPr>
          <a:xfrm>
            <a:off x="4638600" y="6356520"/>
            <a:ext cx="66600" cy="37800"/>
          </a:xfrm>
          <a:custGeom>
            <a:avLst/>
            <a:gdLst>
              <a:gd name="textAreaLeft" fmla="*/ 0 w 66600"/>
              <a:gd name="textAreaRight" fmla="*/ 66960 w 66600"/>
              <a:gd name="textAreaTop" fmla="*/ 0 h 37800"/>
              <a:gd name="textAreaBottom" fmla="*/ 38160 h 37800"/>
            </a:gdLst>
            <a:ahLst/>
            <a:rect l="textAreaLeft" t="textAreaTop" r="textAreaRight" b="textAreaBottom"/>
            <a:pathLst>
              <a:path w="84" h="47">
                <a:moveTo>
                  <a:pt x="0" y="6"/>
                </a:moveTo>
                <a:lnTo>
                  <a:pt x="27" y="5"/>
                </a:lnTo>
                <a:lnTo>
                  <a:pt x="50" y="8"/>
                </a:lnTo>
                <a:lnTo>
                  <a:pt x="66" y="13"/>
                </a:lnTo>
                <a:lnTo>
                  <a:pt x="78" y="21"/>
                </a:lnTo>
                <a:lnTo>
                  <a:pt x="83" y="29"/>
                </a:lnTo>
                <a:lnTo>
                  <a:pt x="84" y="33"/>
                </a:lnTo>
                <a:lnTo>
                  <a:pt x="84" y="37"/>
                </a:lnTo>
                <a:lnTo>
                  <a:pt x="83" y="41"/>
                </a:lnTo>
                <a:lnTo>
                  <a:pt x="80" y="43"/>
                </a:lnTo>
                <a:lnTo>
                  <a:pt x="77" y="45"/>
                </a:lnTo>
                <a:lnTo>
                  <a:pt x="72" y="47"/>
                </a:lnTo>
                <a:lnTo>
                  <a:pt x="67" y="47"/>
                </a:lnTo>
                <a:lnTo>
                  <a:pt x="59" y="46"/>
                </a:lnTo>
                <a:lnTo>
                  <a:pt x="52" y="43"/>
                </a:lnTo>
                <a:lnTo>
                  <a:pt x="34" y="33"/>
                </a:lnTo>
                <a:lnTo>
                  <a:pt x="12" y="17"/>
                </a:lnTo>
                <a:lnTo>
                  <a:pt x="0" y="6"/>
                </a:lnTo>
                <a:lnTo>
                  <a:pt x="26" y="3"/>
                </a:lnTo>
                <a:lnTo>
                  <a:pt x="52" y="0"/>
                </a:lnTo>
                <a:lnTo>
                  <a:pt x="37" y="2"/>
                </a:lnTo>
                <a:lnTo>
                  <a:pt x="3" y="6"/>
                </a:lnTo>
                <a:lnTo>
                  <a:pt x="0" y="6"/>
                </a:lnTo>
              </a:path>
            </a:pathLst>
          </a:custGeom>
          <a:noFill/>
          <a:ln w="6480">
            <a:solidFill>
              <a:srgbClr val="1f1a17"/>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3" name="Freeform 132"/>
          <p:cNvSpPr/>
          <p:nvPr/>
        </p:nvSpPr>
        <p:spPr>
          <a:xfrm>
            <a:off x="5156280" y="6611760"/>
            <a:ext cx="476280" cy="123840"/>
          </a:xfrm>
          <a:custGeom>
            <a:avLst/>
            <a:gdLst>
              <a:gd name="textAreaLeft" fmla="*/ 0 w 476280"/>
              <a:gd name="textAreaRight" fmla="*/ 476640 w 476280"/>
              <a:gd name="textAreaTop" fmla="*/ 0 h 123840"/>
              <a:gd name="textAreaBottom" fmla="*/ 123840 h 123840"/>
            </a:gdLst>
            <a:ahLst/>
            <a:rect l="textAreaLeft" t="textAreaTop" r="textAreaRight" b="textAreaBottom"/>
            <a:pathLst>
              <a:path w="600" h="155">
                <a:moveTo>
                  <a:pt x="55" y="15"/>
                </a:moveTo>
                <a:lnTo>
                  <a:pt x="67" y="16"/>
                </a:lnTo>
                <a:lnTo>
                  <a:pt x="94" y="16"/>
                </a:lnTo>
                <a:lnTo>
                  <a:pt x="142" y="25"/>
                </a:lnTo>
                <a:lnTo>
                  <a:pt x="151" y="29"/>
                </a:lnTo>
                <a:lnTo>
                  <a:pt x="158" y="35"/>
                </a:lnTo>
                <a:lnTo>
                  <a:pt x="162" y="43"/>
                </a:lnTo>
                <a:lnTo>
                  <a:pt x="165" y="52"/>
                </a:lnTo>
                <a:lnTo>
                  <a:pt x="164" y="62"/>
                </a:lnTo>
                <a:lnTo>
                  <a:pt x="182" y="62"/>
                </a:lnTo>
                <a:lnTo>
                  <a:pt x="228" y="59"/>
                </a:lnTo>
                <a:lnTo>
                  <a:pt x="339" y="41"/>
                </a:lnTo>
                <a:lnTo>
                  <a:pt x="442" y="10"/>
                </a:lnTo>
                <a:lnTo>
                  <a:pt x="463" y="0"/>
                </a:lnTo>
                <a:lnTo>
                  <a:pt x="463" y="2"/>
                </a:lnTo>
                <a:lnTo>
                  <a:pt x="463" y="10"/>
                </a:lnTo>
                <a:lnTo>
                  <a:pt x="465" y="40"/>
                </a:lnTo>
                <a:lnTo>
                  <a:pt x="466" y="61"/>
                </a:lnTo>
                <a:lnTo>
                  <a:pt x="467" y="62"/>
                </a:lnTo>
                <a:lnTo>
                  <a:pt x="471" y="58"/>
                </a:lnTo>
                <a:lnTo>
                  <a:pt x="479" y="53"/>
                </a:lnTo>
                <a:lnTo>
                  <a:pt x="499" y="43"/>
                </a:lnTo>
                <a:lnTo>
                  <a:pt x="550" y="22"/>
                </a:lnTo>
                <a:lnTo>
                  <a:pt x="595" y="12"/>
                </a:lnTo>
                <a:lnTo>
                  <a:pt x="599" y="22"/>
                </a:lnTo>
                <a:lnTo>
                  <a:pt x="600" y="32"/>
                </a:lnTo>
                <a:lnTo>
                  <a:pt x="598" y="42"/>
                </a:lnTo>
                <a:lnTo>
                  <a:pt x="592" y="50"/>
                </a:lnTo>
                <a:lnTo>
                  <a:pt x="584" y="58"/>
                </a:lnTo>
                <a:lnTo>
                  <a:pt x="573" y="66"/>
                </a:lnTo>
                <a:lnTo>
                  <a:pt x="543" y="80"/>
                </a:lnTo>
                <a:lnTo>
                  <a:pt x="508" y="92"/>
                </a:lnTo>
                <a:lnTo>
                  <a:pt x="422" y="114"/>
                </a:lnTo>
                <a:lnTo>
                  <a:pt x="260" y="147"/>
                </a:lnTo>
                <a:lnTo>
                  <a:pt x="235" y="155"/>
                </a:lnTo>
                <a:lnTo>
                  <a:pt x="221" y="143"/>
                </a:lnTo>
                <a:lnTo>
                  <a:pt x="206" y="135"/>
                </a:lnTo>
                <a:lnTo>
                  <a:pt x="188" y="129"/>
                </a:lnTo>
                <a:lnTo>
                  <a:pt x="146" y="122"/>
                </a:lnTo>
                <a:lnTo>
                  <a:pt x="100" y="119"/>
                </a:lnTo>
                <a:lnTo>
                  <a:pt x="17" y="111"/>
                </a:lnTo>
                <a:lnTo>
                  <a:pt x="0" y="105"/>
                </a:lnTo>
                <a:lnTo>
                  <a:pt x="2" y="104"/>
                </a:lnTo>
                <a:lnTo>
                  <a:pt x="8" y="91"/>
                </a:lnTo>
                <a:lnTo>
                  <a:pt x="34" y="50"/>
                </a:lnTo>
                <a:lnTo>
                  <a:pt x="53" y="17"/>
                </a:lnTo>
                <a:lnTo>
                  <a:pt x="55" y="15"/>
                </a:lnTo>
                <a:lnTo>
                  <a:pt x="65" y="15"/>
                </a:lnTo>
                <a:lnTo>
                  <a:pt x="76" y="15"/>
                </a:lnTo>
                <a:lnTo>
                  <a:pt x="69" y="15"/>
                </a:lnTo>
                <a:lnTo>
                  <a:pt x="55" y="15"/>
                </a:lnTo>
              </a:path>
            </a:pathLst>
          </a:custGeom>
          <a:solidFill>
            <a:srgbClr val="ff0000"/>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33"/>
          <p:cNvSpPr/>
          <p:nvPr/>
        </p:nvSpPr>
        <p:spPr>
          <a:xfrm>
            <a:off x="4535640" y="5419800"/>
            <a:ext cx="912600" cy="1087200"/>
          </a:xfrm>
          <a:custGeom>
            <a:avLst/>
            <a:gdLst>
              <a:gd name="textAreaLeft" fmla="*/ 0 w 912600"/>
              <a:gd name="textAreaRight" fmla="*/ 912960 w 912600"/>
              <a:gd name="textAreaTop" fmla="*/ 0 h 1087200"/>
              <a:gd name="textAreaBottom" fmla="*/ 1087560 h 1087200"/>
            </a:gdLst>
            <a:ahLst/>
            <a:rect l="textAreaLeft" t="textAreaTop" r="textAreaRight" b="textAreaBottom"/>
            <a:pathLst>
              <a:path w="1149" h="1371">
                <a:moveTo>
                  <a:pt x="616" y="991"/>
                </a:moveTo>
                <a:lnTo>
                  <a:pt x="616" y="993"/>
                </a:lnTo>
                <a:lnTo>
                  <a:pt x="616" y="1006"/>
                </a:lnTo>
                <a:lnTo>
                  <a:pt x="617" y="1046"/>
                </a:lnTo>
                <a:lnTo>
                  <a:pt x="617" y="1078"/>
                </a:lnTo>
                <a:lnTo>
                  <a:pt x="618" y="1079"/>
                </a:lnTo>
                <a:lnTo>
                  <a:pt x="618" y="1082"/>
                </a:lnTo>
                <a:lnTo>
                  <a:pt x="621" y="1085"/>
                </a:lnTo>
                <a:lnTo>
                  <a:pt x="625" y="1088"/>
                </a:lnTo>
                <a:lnTo>
                  <a:pt x="629" y="1091"/>
                </a:lnTo>
                <a:lnTo>
                  <a:pt x="642" y="1096"/>
                </a:lnTo>
                <a:lnTo>
                  <a:pt x="674" y="1107"/>
                </a:lnTo>
                <a:lnTo>
                  <a:pt x="708" y="1120"/>
                </a:lnTo>
                <a:lnTo>
                  <a:pt x="733" y="1134"/>
                </a:lnTo>
                <a:lnTo>
                  <a:pt x="740" y="1143"/>
                </a:lnTo>
                <a:lnTo>
                  <a:pt x="741" y="1147"/>
                </a:lnTo>
                <a:lnTo>
                  <a:pt x="741" y="1152"/>
                </a:lnTo>
                <a:lnTo>
                  <a:pt x="739" y="1157"/>
                </a:lnTo>
                <a:lnTo>
                  <a:pt x="735" y="1162"/>
                </a:lnTo>
                <a:lnTo>
                  <a:pt x="730" y="1168"/>
                </a:lnTo>
                <a:lnTo>
                  <a:pt x="724" y="1171"/>
                </a:lnTo>
                <a:lnTo>
                  <a:pt x="716" y="1172"/>
                </a:lnTo>
                <a:lnTo>
                  <a:pt x="709" y="1172"/>
                </a:lnTo>
                <a:lnTo>
                  <a:pt x="700" y="1171"/>
                </a:lnTo>
                <a:lnTo>
                  <a:pt x="681" y="1165"/>
                </a:lnTo>
                <a:lnTo>
                  <a:pt x="658" y="1155"/>
                </a:lnTo>
                <a:lnTo>
                  <a:pt x="635" y="1143"/>
                </a:lnTo>
                <a:lnTo>
                  <a:pt x="622" y="1136"/>
                </a:lnTo>
                <a:lnTo>
                  <a:pt x="609" y="1131"/>
                </a:lnTo>
                <a:lnTo>
                  <a:pt x="590" y="1123"/>
                </a:lnTo>
                <a:lnTo>
                  <a:pt x="568" y="1119"/>
                </a:lnTo>
                <a:lnTo>
                  <a:pt x="560" y="1120"/>
                </a:lnTo>
                <a:lnTo>
                  <a:pt x="558" y="1120"/>
                </a:lnTo>
                <a:lnTo>
                  <a:pt x="562" y="1128"/>
                </a:lnTo>
                <a:lnTo>
                  <a:pt x="566" y="1140"/>
                </a:lnTo>
                <a:lnTo>
                  <a:pt x="567" y="1150"/>
                </a:lnTo>
                <a:lnTo>
                  <a:pt x="566" y="1160"/>
                </a:lnTo>
                <a:lnTo>
                  <a:pt x="563" y="1182"/>
                </a:lnTo>
                <a:lnTo>
                  <a:pt x="563" y="1189"/>
                </a:lnTo>
                <a:lnTo>
                  <a:pt x="567" y="1193"/>
                </a:lnTo>
                <a:lnTo>
                  <a:pt x="581" y="1203"/>
                </a:lnTo>
                <a:lnTo>
                  <a:pt x="617" y="1228"/>
                </a:lnTo>
                <a:lnTo>
                  <a:pt x="653" y="1261"/>
                </a:lnTo>
                <a:lnTo>
                  <a:pt x="660" y="1270"/>
                </a:lnTo>
                <a:lnTo>
                  <a:pt x="666" y="1281"/>
                </a:lnTo>
                <a:lnTo>
                  <a:pt x="672" y="1300"/>
                </a:lnTo>
                <a:lnTo>
                  <a:pt x="675" y="1317"/>
                </a:lnTo>
                <a:lnTo>
                  <a:pt x="676" y="1346"/>
                </a:lnTo>
                <a:lnTo>
                  <a:pt x="680" y="1360"/>
                </a:lnTo>
                <a:lnTo>
                  <a:pt x="674" y="1361"/>
                </a:lnTo>
                <a:lnTo>
                  <a:pt x="669" y="1360"/>
                </a:lnTo>
                <a:lnTo>
                  <a:pt x="662" y="1357"/>
                </a:lnTo>
                <a:lnTo>
                  <a:pt x="656" y="1352"/>
                </a:lnTo>
                <a:lnTo>
                  <a:pt x="641" y="1339"/>
                </a:lnTo>
                <a:lnTo>
                  <a:pt x="607" y="1307"/>
                </a:lnTo>
                <a:lnTo>
                  <a:pt x="590" y="1292"/>
                </a:lnTo>
                <a:lnTo>
                  <a:pt x="581" y="1288"/>
                </a:lnTo>
                <a:lnTo>
                  <a:pt x="578" y="1288"/>
                </a:lnTo>
                <a:lnTo>
                  <a:pt x="576" y="1288"/>
                </a:lnTo>
                <a:lnTo>
                  <a:pt x="573" y="1290"/>
                </a:lnTo>
                <a:lnTo>
                  <a:pt x="571" y="1292"/>
                </a:lnTo>
                <a:lnTo>
                  <a:pt x="570" y="1295"/>
                </a:lnTo>
                <a:lnTo>
                  <a:pt x="569" y="1299"/>
                </a:lnTo>
                <a:lnTo>
                  <a:pt x="567" y="1308"/>
                </a:lnTo>
                <a:lnTo>
                  <a:pt x="565" y="1331"/>
                </a:lnTo>
                <a:lnTo>
                  <a:pt x="562" y="1352"/>
                </a:lnTo>
                <a:lnTo>
                  <a:pt x="558" y="1361"/>
                </a:lnTo>
                <a:lnTo>
                  <a:pt x="555" y="1368"/>
                </a:lnTo>
                <a:lnTo>
                  <a:pt x="552" y="1370"/>
                </a:lnTo>
                <a:lnTo>
                  <a:pt x="550" y="1371"/>
                </a:lnTo>
                <a:lnTo>
                  <a:pt x="548" y="1369"/>
                </a:lnTo>
                <a:lnTo>
                  <a:pt x="535" y="1354"/>
                </a:lnTo>
                <a:lnTo>
                  <a:pt x="492" y="1299"/>
                </a:lnTo>
                <a:lnTo>
                  <a:pt x="459" y="1257"/>
                </a:lnTo>
                <a:lnTo>
                  <a:pt x="458" y="1254"/>
                </a:lnTo>
                <a:lnTo>
                  <a:pt x="455" y="1255"/>
                </a:lnTo>
                <a:lnTo>
                  <a:pt x="454" y="1256"/>
                </a:lnTo>
                <a:lnTo>
                  <a:pt x="453" y="1260"/>
                </a:lnTo>
                <a:lnTo>
                  <a:pt x="452" y="1265"/>
                </a:lnTo>
                <a:lnTo>
                  <a:pt x="451" y="1276"/>
                </a:lnTo>
                <a:lnTo>
                  <a:pt x="447" y="1302"/>
                </a:lnTo>
                <a:lnTo>
                  <a:pt x="437" y="1328"/>
                </a:lnTo>
                <a:lnTo>
                  <a:pt x="429" y="1337"/>
                </a:lnTo>
                <a:lnTo>
                  <a:pt x="417" y="1341"/>
                </a:lnTo>
                <a:lnTo>
                  <a:pt x="401" y="1340"/>
                </a:lnTo>
                <a:lnTo>
                  <a:pt x="380" y="1333"/>
                </a:lnTo>
                <a:lnTo>
                  <a:pt x="356" y="1317"/>
                </a:lnTo>
                <a:lnTo>
                  <a:pt x="356" y="1316"/>
                </a:lnTo>
                <a:lnTo>
                  <a:pt x="351" y="1306"/>
                </a:lnTo>
                <a:lnTo>
                  <a:pt x="348" y="1282"/>
                </a:lnTo>
                <a:lnTo>
                  <a:pt x="347" y="1254"/>
                </a:lnTo>
                <a:lnTo>
                  <a:pt x="344" y="1197"/>
                </a:lnTo>
                <a:lnTo>
                  <a:pt x="336" y="1162"/>
                </a:lnTo>
                <a:lnTo>
                  <a:pt x="330" y="1154"/>
                </a:lnTo>
                <a:lnTo>
                  <a:pt x="321" y="1148"/>
                </a:lnTo>
                <a:lnTo>
                  <a:pt x="311" y="1143"/>
                </a:lnTo>
                <a:lnTo>
                  <a:pt x="299" y="1139"/>
                </a:lnTo>
                <a:lnTo>
                  <a:pt x="272" y="1133"/>
                </a:lnTo>
                <a:lnTo>
                  <a:pt x="244" y="1124"/>
                </a:lnTo>
                <a:lnTo>
                  <a:pt x="218" y="1109"/>
                </a:lnTo>
                <a:lnTo>
                  <a:pt x="200" y="1084"/>
                </a:lnTo>
                <a:lnTo>
                  <a:pt x="207" y="1034"/>
                </a:lnTo>
                <a:lnTo>
                  <a:pt x="226" y="1003"/>
                </a:lnTo>
                <a:lnTo>
                  <a:pt x="255" y="986"/>
                </a:lnTo>
                <a:lnTo>
                  <a:pt x="291" y="981"/>
                </a:lnTo>
                <a:lnTo>
                  <a:pt x="333" y="984"/>
                </a:lnTo>
                <a:lnTo>
                  <a:pt x="421" y="999"/>
                </a:lnTo>
                <a:lnTo>
                  <a:pt x="499" y="1005"/>
                </a:lnTo>
                <a:lnTo>
                  <a:pt x="529" y="994"/>
                </a:lnTo>
                <a:lnTo>
                  <a:pt x="541" y="985"/>
                </a:lnTo>
                <a:lnTo>
                  <a:pt x="550" y="972"/>
                </a:lnTo>
                <a:lnTo>
                  <a:pt x="555" y="955"/>
                </a:lnTo>
                <a:lnTo>
                  <a:pt x="557" y="932"/>
                </a:lnTo>
                <a:lnTo>
                  <a:pt x="526" y="928"/>
                </a:lnTo>
                <a:lnTo>
                  <a:pt x="491" y="928"/>
                </a:lnTo>
                <a:lnTo>
                  <a:pt x="414" y="935"/>
                </a:lnTo>
                <a:lnTo>
                  <a:pt x="257" y="944"/>
                </a:lnTo>
                <a:lnTo>
                  <a:pt x="156" y="876"/>
                </a:lnTo>
                <a:lnTo>
                  <a:pt x="160" y="864"/>
                </a:lnTo>
                <a:lnTo>
                  <a:pt x="170" y="847"/>
                </a:lnTo>
                <a:lnTo>
                  <a:pt x="183" y="836"/>
                </a:lnTo>
                <a:lnTo>
                  <a:pt x="197" y="830"/>
                </a:lnTo>
                <a:lnTo>
                  <a:pt x="211" y="827"/>
                </a:lnTo>
                <a:lnTo>
                  <a:pt x="222" y="823"/>
                </a:lnTo>
                <a:lnTo>
                  <a:pt x="227" y="819"/>
                </a:lnTo>
                <a:lnTo>
                  <a:pt x="210" y="816"/>
                </a:lnTo>
                <a:lnTo>
                  <a:pt x="175" y="809"/>
                </a:lnTo>
                <a:lnTo>
                  <a:pt x="102" y="793"/>
                </a:lnTo>
                <a:lnTo>
                  <a:pt x="30" y="756"/>
                </a:lnTo>
                <a:lnTo>
                  <a:pt x="14" y="741"/>
                </a:lnTo>
                <a:lnTo>
                  <a:pt x="10" y="733"/>
                </a:lnTo>
                <a:lnTo>
                  <a:pt x="4" y="706"/>
                </a:lnTo>
                <a:lnTo>
                  <a:pt x="0" y="686"/>
                </a:lnTo>
                <a:lnTo>
                  <a:pt x="0" y="684"/>
                </a:lnTo>
                <a:lnTo>
                  <a:pt x="6" y="682"/>
                </a:lnTo>
                <a:lnTo>
                  <a:pt x="29" y="672"/>
                </a:lnTo>
                <a:lnTo>
                  <a:pt x="46" y="665"/>
                </a:lnTo>
                <a:lnTo>
                  <a:pt x="47" y="664"/>
                </a:lnTo>
                <a:lnTo>
                  <a:pt x="46" y="661"/>
                </a:lnTo>
                <a:lnTo>
                  <a:pt x="44" y="653"/>
                </a:lnTo>
                <a:lnTo>
                  <a:pt x="39" y="645"/>
                </a:lnTo>
                <a:lnTo>
                  <a:pt x="32" y="630"/>
                </a:lnTo>
                <a:lnTo>
                  <a:pt x="30" y="617"/>
                </a:lnTo>
                <a:lnTo>
                  <a:pt x="31" y="613"/>
                </a:lnTo>
                <a:lnTo>
                  <a:pt x="39" y="582"/>
                </a:lnTo>
                <a:lnTo>
                  <a:pt x="72" y="473"/>
                </a:lnTo>
                <a:lnTo>
                  <a:pt x="95" y="390"/>
                </a:lnTo>
                <a:lnTo>
                  <a:pt x="97" y="385"/>
                </a:lnTo>
                <a:lnTo>
                  <a:pt x="103" y="385"/>
                </a:lnTo>
                <a:lnTo>
                  <a:pt x="121" y="384"/>
                </a:lnTo>
                <a:lnTo>
                  <a:pt x="176" y="378"/>
                </a:lnTo>
                <a:lnTo>
                  <a:pt x="234" y="363"/>
                </a:lnTo>
                <a:lnTo>
                  <a:pt x="246" y="357"/>
                </a:lnTo>
                <a:lnTo>
                  <a:pt x="247" y="356"/>
                </a:lnTo>
                <a:lnTo>
                  <a:pt x="259" y="347"/>
                </a:lnTo>
                <a:lnTo>
                  <a:pt x="299" y="317"/>
                </a:lnTo>
                <a:lnTo>
                  <a:pt x="329" y="294"/>
                </a:lnTo>
                <a:lnTo>
                  <a:pt x="331" y="292"/>
                </a:lnTo>
                <a:lnTo>
                  <a:pt x="332" y="292"/>
                </a:lnTo>
                <a:lnTo>
                  <a:pt x="340" y="292"/>
                </a:lnTo>
                <a:lnTo>
                  <a:pt x="369" y="289"/>
                </a:lnTo>
                <a:lnTo>
                  <a:pt x="390" y="288"/>
                </a:lnTo>
                <a:lnTo>
                  <a:pt x="392" y="287"/>
                </a:lnTo>
                <a:lnTo>
                  <a:pt x="395" y="285"/>
                </a:lnTo>
                <a:lnTo>
                  <a:pt x="424" y="269"/>
                </a:lnTo>
                <a:lnTo>
                  <a:pt x="523" y="214"/>
                </a:lnTo>
                <a:lnTo>
                  <a:pt x="599" y="171"/>
                </a:lnTo>
                <a:lnTo>
                  <a:pt x="603" y="168"/>
                </a:lnTo>
                <a:lnTo>
                  <a:pt x="605" y="168"/>
                </a:lnTo>
                <a:lnTo>
                  <a:pt x="616" y="168"/>
                </a:lnTo>
                <a:lnTo>
                  <a:pt x="656" y="168"/>
                </a:lnTo>
                <a:lnTo>
                  <a:pt x="686" y="168"/>
                </a:lnTo>
                <a:lnTo>
                  <a:pt x="688" y="167"/>
                </a:lnTo>
                <a:lnTo>
                  <a:pt x="689" y="167"/>
                </a:lnTo>
                <a:lnTo>
                  <a:pt x="704" y="161"/>
                </a:lnTo>
                <a:lnTo>
                  <a:pt x="756" y="143"/>
                </a:lnTo>
                <a:lnTo>
                  <a:pt x="794" y="128"/>
                </a:lnTo>
                <a:lnTo>
                  <a:pt x="797" y="127"/>
                </a:lnTo>
                <a:lnTo>
                  <a:pt x="810" y="132"/>
                </a:lnTo>
                <a:lnTo>
                  <a:pt x="852" y="145"/>
                </a:lnTo>
                <a:lnTo>
                  <a:pt x="884" y="154"/>
                </a:lnTo>
                <a:lnTo>
                  <a:pt x="887" y="154"/>
                </a:lnTo>
                <a:lnTo>
                  <a:pt x="904" y="147"/>
                </a:lnTo>
                <a:lnTo>
                  <a:pt x="958" y="122"/>
                </a:lnTo>
                <a:lnTo>
                  <a:pt x="999" y="104"/>
                </a:lnTo>
                <a:lnTo>
                  <a:pt x="1002" y="103"/>
                </a:lnTo>
                <a:lnTo>
                  <a:pt x="997" y="99"/>
                </a:lnTo>
                <a:lnTo>
                  <a:pt x="981" y="85"/>
                </a:lnTo>
                <a:lnTo>
                  <a:pt x="969" y="73"/>
                </a:lnTo>
                <a:lnTo>
                  <a:pt x="969" y="72"/>
                </a:lnTo>
                <a:lnTo>
                  <a:pt x="970" y="71"/>
                </a:lnTo>
                <a:lnTo>
                  <a:pt x="984" y="61"/>
                </a:lnTo>
                <a:lnTo>
                  <a:pt x="1032" y="28"/>
                </a:lnTo>
                <a:lnTo>
                  <a:pt x="1069" y="2"/>
                </a:lnTo>
                <a:lnTo>
                  <a:pt x="1071" y="0"/>
                </a:lnTo>
                <a:lnTo>
                  <a:pt x="1072" y="2"/>
                </a:lnTo>
                <a:lnTo>
                  <a:pt x="1083" y="13"/>
                </a:lnTo>
                <a:lnTo>
                  <a:pt x="1119" y="53"/>
                </a:lnTo>
                <a:lnTo>
                  <a:pt x="1147" y="83"/>
                </a:lnTo>
                <a:lnTo>
                  <a:pt x="1149" y="84"/>
                </a:lnTo>
                <a:lnTo>
                  <a:pt x="1148" y="86"/>
                </a:lnTo>
                <a:lnTo>
                  <a:pt x="1141" y="98"/>
                </a:lnTo>
                <a:lnTo>
                  <a:pt x="1115" y="139"/>
                </a:lnTo>
                <a:lnTo>
                  <a:pt x="1096" y="170"/>
                </a:lnTo>
                <a:lnTo>
                  <a:pt x="1096" y="171"/>
                </a:lnTo>
                <a:lnTo>
                  <a:pt x="1095" y="178"/>
                </a:lnTo>
                <a:lnTo>
                  <a:pt x="1094" y="190"/>
                </a:lnTo>
                <a:lnTo>
                  <a:pt x="1090" y="198"/>
                </a:lnTo>
                <a:lnTo>
                  <a:pt x="1085" y="217"/>
                </a:lnTo>
                <a:lnTo>
                  <a:pt x="1086" y="240"/>
                </a:lnTo>
                <a:lnTo>
                  <a:pt x="1076" y="237"/>
                </a:lnTo>
                <a:lnTo>
                  <a:pt x="1064" y="236"/>
                </a:lnTo>
                <a:lnTo>
                  <a:pt x="1035" y="235"/>
                </a:lnTo>
                <a:lnTo>
                  <a:pt x="1002" y="238"/>
                </a:lnTo>
                <a:lnTo>
                  <a:pt x="940" y="252"/>
                </a:lnTo>
                <a:lnTo>
                  <a:pt x="919" y="259"/>
                </a:lnTo>
                <a:lnTo>
                  <a:pt x="913" y="258"/>
                </a:lnTo>
                <a:lnTo>
                  <a:pt x="907" y="258"/>
                </a:lnTo>
                <a:lnTo>
                  <a:pt x="893" y="259"/>
                </a:lnTo>
                <a:lnTo>
                  <a:pt x="876" y="262"/>
                </a:lnTo>
                <a:lnTo>
                  <a:pt x="840" y="271"/>
                </a:lnTo>
                <a:lnTo>
                  <a:pt x="825" y="276"/>
                </a:lnTo>
                <a:lnTo>
                  <a:pt x="818" y="279"/>
                </a:lnTo>
                <a:lnTo>
                  <a:pt x="805" y="286"/>
                </a:lnTo>
                <a:lnTo>
                  <a:pt x="794" y="296"/>
                </a:lnTo>
                <a:lnTo>
                  <a:pt x="784" y="311"/>
                </a:lnTo>
                <a:lnTo>
                  <a:pt x="775" y="330"/>
                </a:lnTo>
                <a:lnTo>
                  <a:pt x="766" y="357"/>
                </a:lnTo>
                <a:lnTo>
                  <a:pt x="762" y="372"/>
                </a:lnTo>
                <a:lnTo>
                  <a:pt x="757" y="387"/>
                </a:lnTo>
                <a:lnTo>
                  <a:pt x="751" y="395"/>
                </a:lnTo>
                <a:lnTo>
                  <a:pt x="749" y="398"/>
                </a:lnTo>
                <a:lnTo>
                  <a:pt x="746" y="399"/>
                </a:lnTo>
                <a:lnTo>
                  <a:pt x="743" y="399"/>
                </a:lnTo>
                <a:lnTo>
                  <a:pt x="740" y="399"/>
                </a:lnTo>
                <a:lnTo>
                  <a:pt x="736" y="398"/>
                </a:lnTo>
                <a:lnTo>
                  <a:pt x="733" y="396"/>
                </a:lnTo>
                <a:lnTo>
                  <a:pt x="728" y="392"/>
                </a:lnTo>
                <a:lnTo>
                  <a:pt x="715" y="380"/>
                </a:lnTo>
                <a:lnTo>
                  <a:pt x="694" y="375"/>
                </a:lnTo>
                <a:lnTo>
                  <a:pt x="691" y="378"/>
                </a:lnTo>
                <a:lnTo>
                  <a:pt x="691" y="381"/>
                </a:lnTo>
                <a:lnTo>
                  <a:pt x="692" y="385"/>
                </a:lnTo>
                <a:lnTo>
                  <a:pt x="695" y="388"/>
                </a:lnTo>
                <a:lnTo>
                  <a:pt x="698" y="392"/>
                </a:lnTo>
                <a:lnTo>
                  <a:pt x="705" y="400"/>
                </a:lnTo>
                <a:lnTo>
                  <a:pt x="728" y="420"/>
                </a:lnTo>
                <a:lnTo>
                  <a:pt x="751" y="440"/>
                </a:lnTo>
                <a:lnTo>
                  <a:pt x="768" y="461"/>
                </a:lnTo>
                <a:lnTo>
                  <a:pt x="771" y="471"/>
                </a:lnTo>
                <a:lnTo>
                  <a:pt x="769" y="480"/>
                </a:lnTo>
                <a:lnTo>
                  <a:pt x="766" y="484"/>
                </a:lnTo>
                <a:lnTo>
                  <a:pt x="763" y="483"/>
                </a:lnTo>
                <a:lnTo>
                  <a:pt x="749" y="475"/>
                </a:lnTo>
                <a:lnTo>
                  <a:pt x="698" y="444"/>
                </a:lnTo>
                <a:lnTo>
                  <a:pt x="659" y="422"/>
                </a:lnTo>
                <a:lnTo>
                  <a:pt x="657" y="420"/>
                </a:lnTo>
                <a:lnTo>
                  <a:pt x="656" y="421"/>
                </a:lnTo>
                <a:lnTo>
                  <a:pt x="653" y="423"/>
                </a:lnTo>
                <a:lnTo>
                  <a:pt x="641" y="432"/>
                </a:lnTo>
                <a:lnTo>
                  <a:pt x="631" y="439"/>
                </a:lnTo>
                <a:lnTo>
                  <a:pt x="632" y="441"/>
                </a:lnTo>
                <a:lnTo>
                  <a:pt x="644" y="454"/>
                </a:lnTo>
                <a:lnTo>
                  <a:pt x="686" y="500"/>
                </a:lnTo>
                <a:lnTo>
                  <a:pt x="717" y="536"/>
                </a:lnTo>
                <a:lnTo>
                  <a:pt x="719" y="537"/>
                </a:lnTo>
                <a:lnTo>
                  <a:pt x="709" y="544"/>
                </a:lnTo>
                <a:lnTo>
                  <a:pt x="703" y="545"/>
                </a:lnTo>
                <a:lnTo>
                  <a:pt x="699" y="545"/>
                </a:lnTo>
                <a:lnTo>
                  <a:pt x="694" y="543"/>
                </a:lnTo>
                <a:lnTo>
                  <a:pt x="688" y="541"/>
                </a:lnTo>
                <a:lnTo>
                  <a:pt x="677" y="534"/>
                </a:lnTo>
                <a:lnTo>
                  <a:pt x="667" y="524"/>
                </a:lnTo>
                <a:lnTo>
                  <a:pt x="643" y="501"/>
                </a:lnTo>
                <a:lnTo>
                  <a:pt x="620" y="481"/>
                </a:lnTo>
                <a:lnTo>
                  <a:pt x="607" y="475"/>
                </a:lnTo>
                <a:lnTo>
                  <a:pt x="594" y="473"/>
                </a:lnTo>
                <a:lnTo>
                  <a:pt x="581" y="475"/>
                </a:lnTo>
                <a:lnTo>
                  <a:pt x="584" y="484"/>
                </a:lnTo>
                <a:lnTo>
                  <a:pt x="591" y="493"/>
                </a:lnTo>
                <a:lnTo>
                  <a:pt x="606" y="508"/>
                </a:lnTo>
                <a:lnTo>
                  <a:pt x="622" y="525"/>
                </a:lnTo>
                <a:lnTo>
                  <a:pt x="632" y="542"/>
                </a:lnTo>
                <a:lnTo>
                  <a:pt x="635" y="551"/>
                </a:lnTo>
                <a:lnTo>
                  <a:pt x="632" y="561"/>
                </a:lnTo>
                <a:lnTo>
                  <a:pt x="627" y="573"/>
                </a:lnTo>
                <a:lnTo>
                  <a:pt x="618" y="585"/>
                </a:lnTo>
                <a:lnTo>
                  <a:pt x="603" y="583"/>
                </a:lnTo>
                <a:lnTo>
                  <a:pt x="591" y="576"/>
                </a:lnTo>
                <a:lnTo>
                  <a:pt x="578" y="563"/>
                </a:lnTo>
                <a:lnTo>
                  <a:pt x="566" y="547"/>
                </a:lnTo>
                <a:lnTo>
                  <a:pt x="542" y="507"/>
                </a:lnTo>
                <a:lnTo>
                  <a:pt x="490" y="420"/>
                </a:lnTo>
                <a:lnTo>
                  <a:pt x="458" y="384"/>
                </a:lnTo>
                <a:lnTo>
                  <a:pt x="457" y="384"/>
                </a:lnTo>
                <a:lnTo>
                  <a:pt x="452" y="384"/>
                </a:lnTo>
                <a:lnTo>
                  <a:pt x="436" y="384"/>
                </a:lnTo>
                <a:lnTo>
                  <a:pt x="424" y="384"/>
                </a:lnTo>
                <a:lnTo>
                  <a:pt x="422" y="385"/>
                </a:lnTo>
                <a:lnTo>
                  <a:pt x="420" y="387"/>
                </a:lnTo>
                <a:lnTo>
                  <a:pt x="419" y="390"/>
                </a:lnTo>
                <a:lnTo>
                  <a:pt x="417" y="394"/>
                </a:lnTo>
                <a:lnTo>
                  <a:pt x="415" y="404"/>
                </a:lnTo>
                <a:lnTo>
                  <a:pt x="409" y="432"/>
                </a:lnTo>
                <a:lnTo>
                  <a:pt x="405" y="495"/>
                </a:lnTo>
                <a:lnTo>
                  <a:pt x="404" y="523"/>
                </a:lnTo>
                <a:lnTo>
                  <a:pt x="412" y="546"/>
                </a:lnTo>
                <a:lnTo>
                  <a:pt x="427" y="566"/>
                </a:lnTo>
                <a:lnTo>
                  <a:pt x="446" y="585"/>
                </a:lnTo>
                <a:lnTo>
                  <a:pt x="493" y="618"/>
                </a:lnTo>
                <a:lnTo>
                  <a:pt x="541" y="646"/>
                </a:lnTo>
                <a:lnTo>
                  <a:pt x="579" y="670"/>
                </a:lnTo>
                <a:lnTo>
                  <a:pt x="590" y="681"/>
                </a:lnTo>
                <a:lnTo>
                  <a:pt x="593" y="687"/>
                </a:lnTo>
                <a:lnTo>
                  <a:pt x="594" y="692"/>
                </a:lnTo>
                <a:lnTo>
                  <a:pt x="592" y="697"/>
                </a:lnTo>
                <a:lnTo>
                  <a:pt x="588" y="701"/>
                </a:lnTo>
                <a:lnTo>
                  <a:pt x="582" y="701"/>
                </a:lnTo>
                <a:lnTo>
                  <a:pt x="575" y="699"/>
                </a:lnTo>
                <a:lnTo>
                  <a:pt x="553" y="693"/>
                </a:lnTo>
                <a:lnTo>
                  <a:pt x="504" y="675"/>
                </a:lnTo>
                <a:lnTo>
                  <a:pt x="469" y="666"/>
                </a:lnTo>
                <a:lnTo>
                  <a:pt x="469" y="680"/>
                </a:lnTo>
                <a:lnTo>
                  <a:pt x="476" y="707"/>
                </a:lnTo>
                <a:lnTo>
                  <a:pt x="488" y="738"/>
                </a:lnTo>
                <a:lnTo>
                  <a:pt x="520" y="795"/>
                </a:lnTo>
                <a:lnTo>
                  <a:pt x="547" y="826"/>
                </a:lnTo>
                <a:lnTo>
                  <a:pt x="564" y="842"/>
                </a:lnTo>
                <a:lnTo>
                  <a:pt x="603" y="867"/>
                </a:lnTo>
                <a:lnTo>
                  <a:pt x="691" y="912"/>
                </a:lnTo>
                <a:lnTo>
                  <a:pt x="759" y="960"/>
                </a:lnTo>
                <a:lnTo>
                  <a:pt x="770" y="974"/>
                </a:lnTo>
                <a:lnTo>
                  <a:pt x="768" y="978"/>
                </a:lnTo>
                <a:lnTo>
                  <a:pt x="768" y="981"/>
                </a:lnTo>
                <a:lnTo>
                  <a:pt x="769" y="984"/>
                </a:lnTo>
                <a:lnTo>
                  <a:pt x="771" y="988"/>
                </a:lnTo>
                <a:lnTo>
                  <a:pt x="774" y="992"/>
                </a:lnTo>
                <a:lnTo>
                  <a:pt x="784" y="1002"/>
                </a:lnTo>
                <a:lnTo>
                  <a:pt x="806" y="1021"/>
                </a:lnTo>
                <a:lnTo>
                  <a:pt x="828" y="1040"/>
                </a:lnTo>
                <a:lnTo>
                  <a:pt x="835" y="1049"/>
                </a:lnTo>
                <a:lnTo>
                  <a:pt x="838" y="1059"/>
                </a:lnTo>
                <a:lnTo>
                  <a:pt x="839" y="1063"/>
                </a:lnTo>
                <a:lnTo>
                  <a:pt x="838" y="1067"/>
                </a:lnTo>
                <a:lnTo>
                  <a:pt x="835" y="1071"/>
                </a:lnTo>
                <a:lnTo>
                  <a:pt x="831" y="1074"/>
                </a:lnTo>
                <a:lnTo>
                  <a:pt x="825" y="1077"/>
                </a:lnTo>
                <a:lnTo>
                  <a:pt x="818" y="1079"/>
                </a:lnTo>
                <a:lnTo>
                  <a:pt x="812" y="1080"/>
                </a:lnTo>
                <a:lnTo>
                  <a:pt x="804" y="1078"/>
                </a:lnTo>
                <a:lnTo>
                  <a:pt x="798" y="1076"/>
                </a:lnTo>
                <a:lnTo>
                  <a:pt x="784" y="1067"/>
                </a:lnTo>
                <a:lnTo>
                  <a:pt x="769" y="1055"/>
                </a:lnTo>
                <a:lnTo>
                  <a:pt x="751" y="1042"/>
                </a:lnTo>
                <a:lnTo>
                  <a:pt x="732" y="1029"/>
                </a:lnTo>
                <a:lnTo>
                  <a:pt x="720" y="1024"/>
                </a:lnTo>
                <a:lnTo>
                  <a:pt x="700" y="1016"/>
                </a:lnTo>
                <a:lnTo>
                  <a:pt x="667" y="1008"/>
                </a:lnTo>
                <a:lnTo>
                  <a:pt x="656" y="1004"/>
                </a:lnTo>
                <a:lnTo>
                  <a:pt x="653" y="1002"/>
                </a:lnTo>
                <a:lnTo>
                  <a:pt x="652" y="1000"/>
                </a:lnTo>
                <a:lnTo>
                  <a:pt x="651" y="997"/>
                </a:lnTo>
                <a:lnTo>
                  <a:pt x="652" y="995"/>
                </a:lnTo>
                <a:lnTo>
                  <a:pt x="651" y="995"/>
                </a:lnTo>
                <a:lnTo>
                  <a:pt x="645" y="995"/>
                </a:lnTo>
                <a:lnTo>
                  <a:pt x="629" y="993"/>
                </a:lnTo>
                <a:lnTo>
                  <a:pt x="616" y="992"/>
                </a:lnTo>
                <a:lnTo>
                  <a:pt x="616" y="991"/>
                </a:lnTo>
              </a:path>
            </a:pathLst>
          </a:custGeom>
          <a:solidFill>
            <a:srgbClr val="cc0000"/>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134"/>
          <p:cNvSpPr/>
          <p:nvPr/>
        </p:nvSpPr>
        <p:spPr>
          <a:xfrm>
            <a:off x="5580000" y="6154560"/>
            <a:ext cx="38160" cy="71640"/>
          </a:xfrm>
          <a:custGeom>
            <a:avLst/>
            <a:gdLst>
              <a:gd name="textAreaLeft" fmla="*/ 0 w 38160"/>
              <a:gd name="textAreaRight" fmla="*/ 38520 w 38160"/>
              <a:gd name="textAreaTop" fmla="*/ 0 h 71640"/>
              <a:gd name="textAreaBottom" fmla="*/ 72000 h 71640"/>
            </a:gdLst>
            <a:ahLst/>
            <a:rect l="textAreaLeft" t="textAreaTop" r="textAreaRight" b="textAreaBottom"/>
            <a:pathLst>
              <a:path w="50" h="91">
                <a:moveTo>
                  <a:pt x="21" y="54"/>
                </a:moveTo>
                <a:lnTo>
                  <a:pt x="21" y="48"/>
                </a:lnTo>
                <a:lnTo>
                  <a:pt x="18" y="39"/>
                </a:lnTo>
                <a:lnTo>
                  <a:pt x="13" y="34"/>
                </a:lnTo>
                <a:lnTo>
                  <a:pt x="8" y="30"/>
                </a:lnTo>
                <a:lnTo>
                  <a:pt x="4" y="26"/>
                </a:lnTo>
                <a:lnTo>
                  <a:pt x="0" y="18"/>
                </a:lnTo>
                <a:lnTo>
                  <a:pt x="0" y="12"/>
                </a:lnTo>
                <a:lnTo>
                  <a:pt x="3" y="9"/>
                </a:lnTo>
                <a:lnTo>
                  <a:pt x="6" y="4"/>
                </a:lnTo>
                <a:lnTo>
                  <a:pt x="9" y="1"/>
                </a:lnTo>
                <a:lnTo>
                  <a:pt x="11" y="0"/>
                </a:lnTo>
                <a:lnTo>
                  <a:pt x="12" y="0"/>
                </a:lnTo>
                <a:lnTo>
                  <a:pt x="13" y="0"/>
                </a:lnTo>
                <a:lnTo>
                  <a:pt x="15" y="0"/>
                </a:lnTo>
                <a:lnTo>
                  <a:pt x="17" y="1"/>
                </a:lnTo>
                <a:lnTo>
                  <a:pt x="19" y="3"/>
                </a:lnTo>
                <a:lnTo>
                  <a:pt x="22" y="5"/>
                </a:lnTo>
                <a:lnTo>
                  <a:pt x="22" y="11"/>
                </a:lnTo>
                <a:lnTo>
                  <a:pt x="24" y="16"/>
                </a:lnTo>
                <a:lnTo>
                  <a:pt x="27" y="21"/>
                </a:lnTo>
                <a:lnTo>
                  <a:pt x="31" y="24"/>
                </a:lnTo>
                <a:lnTo>
                  <a:pt x="39" y="30"/>
                </a:lnTo>
                <a:lnTo>
                  <a:pt x="46" y="36"/>
                </a:lnTo>
                <a:lnTo>
                  <a:pt x="49" y="39"/>
                </a:lnTo>
                <a:lnTo>
                  <a:pt x="50" y="43"/>
                </a:lnTo>
                <a:lnTo>
                  <a:pt x="50" y="47"/>
                </a:lnTo>
                <a:lnTo>
                  <a:pt x="49" y="52"/>
                </a:lnTo>
                <a:lnTo>
                  <a:pt x="42" y="63"/>
                </a:lnTo>
                <a:lnTo>
                  <a:pt x="29" y="80"/>
                </a:lnTo>
                <a:lnTo>
                  <a:pt x="17" y="89"/>
                </a:lnTo>
                <a:lnTo>
                  <a:pt x="11" y="91"/>
                </a:lnTo>
                <a:lnTo>
                  <a:pt x="9" y="91"/>
                </a:lnTo>
                <a:lnTo>
                  <a:pt x="7" y="91"/>
                </a:lnTo>
                <a:lnTo>
                  <a:pt x="5" y="90"/>
                </a:lnTo>
                <a:lnTo>
                  <a:pt x="4" y="89"/>
                </a:lnTo>
                <a:lnTo>
                  <a:pt x="4" y="87"/>
                </a:lnTo>
                <a:lnTo>
                  <a:pt x="4" y="84"/>
                </a:lnTo>
                <a:lnTo>
                  <a:pt x="5" y="81"/>
                </a:lnTo>
                <a:lnTo>
                  <a:pt x="8" y="72"/>
                </a:lnTo>
                <a:lnTo>
                  <a:pt x="15" y="61"/>
                </a:lnTo>
                <a:lnTo>
                  <a:pt x="21" y="54"/>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96" name="Freeform 135"/>
          <p:cNvSpPr/>
          <p:nvPr/>
        </p:nvSpPr>
        <p:spPr>
          <a:xfrm>
            <a:off x="5580000" y="6154560"/>
            <a:ext cx="38160" cy="71640"/>
          </a:xfrm>
          <a:custGeom>
            <a:avLst/>
            <a:gdLst>
              <a:gd name="textAreaLeft" fmla="*/ 0 w 38160"/>
              <a:gd name="textAreaRight" fmla="*/ 38520 w 38160"/>
              <a:gd name="textAreaTop" fmla="*/ 0 h 71640"/>
              <a:gd name="textAreaBottom" fmla="*/ 72000 h 71640"/>
            </a:gdLst>
            <a:ahLst/>
            <a:rect l="textAreaLeft" t="textAreaTop" r="textAreaRight" b="textAreaBottom"/>
            <a:pathLst>
              <a:path w="50" h="91">
                <a:moveTo>
                  <a:pt x="21" y="54"/>
                </a:moveTo>
                <a:lnTo>
                  <a:pt x="21" y="48"/>
                </a:lnTo>
                <a:lnTo>
                  <a:pt x="18" y="39"/>
                </a:lnTo>
                <a:lnTo>
                  <a:pt x="13" y="34"/>
                </a:lnTo>
                <a:lnTo>
                  <a:pt x="8" y="30"/>
                </a:lnTo>
                <a:lnTo>
                  <a:pt x="4" y="26"/>
                </a:lnTo>
                <a:lnTo>
                  <a:pt x="0" y="18"/>
                </a:lnTo>
                <a:lnTo>
                  <a:pt x="0" y="12"/>
                </a:lnTo>
                <a:lnTo>
                  <a:pt x="3" y="9"/>
                </a:lnTo>
                <a:lnTo>
                  <a:pt x="6" y="4"/>
                </a:lnTo>
                <a:lnTo>
                  <a:pt x="9" y="1"/>
                </a:lnTo>
                <a:lnTo>
                  <a:pt x="11" y="0"/>
                </a:lnTo>
                <a:lnTo>
                  <a:pt x="12" y="0"/>
                </a:lnTo>
                <a:lnTo>
                  <a:pt x="13" y="0"/>
                </a:lnTo>
                <a:lnTo>
                  <a:pt x="15" y="0"/>
                </a:lnTo>
                <a:lnTo>
                  <a:pt x="17" y="1"/>
                </a:lnTo>
                <a:lnTo>
                  <a:pt x="19" y="3"/>
                </a:lnTo>
                <a:lnTo>
                  <a:pt x="22" y="5"/>
                </a:lnTo>
                <a:lnTo>
                  <a:pt x="22" y="11"/>
                </a:lnTo>
                <a:lnTo>
                  <a:pt x="24" y="16"/>
                </a:lnTo>
                <a:lnTo>
                  <a:pt x="27" y="21"/>
                </a:lnTo>
                <a:lnTo>
                  <a:pt x="31" y="24"/>
                </a:lnTo>
                <a:lnTo>
                  <a:pt x="39" y="30"/>
                </a:lnTo>
                <a:lnTo>
                  <a:pt x="46" y="36"/>
                </a:lnTo>
                <a:lnTo>
                  <a:pt x="49" y="39"/>
                </a:lnTo>
                <a:lnTo>
                  <a:pt x="50" y="43"/>
                </a:lnTo>
                <a:lnTo>
                  <a:pt x="50" y="47"/>
                </a:lnTo>
                <a:lnTo>
                  <a:pt x="49" y="52"/>
                </a:lnTo>
                <a:lnTo>
                  <a:pt x="42" y="63"/>
                </a:lnTo>
                <a:lnTo>
                  <a:pt x="29" y="80"/>
                </a:lnTo>
                <a:lnTo>
                  <a:pt x="17" y="89"/>
                </a:lnTo>
                <a:lnTo>
                  <a:pt x="11" y="91"/>
                </a:lnTo>
                <a:lnTo>
                  <a:pt x="9" y="91"/>
                </a:lnTo>
                <a:lnTo>
                  <a:pt x="7" y="91"/>
                </a:lnTo>
                <a:lnTo>
                  <a:pt x="5" y="90"/>
                </a:lnTo>
                <a:lnTo>
                  <a:pt x="4" y="89"/>
                </a:lnTo>
                <a:lnTo>
                  <a:pt x="4" y="87"/>
                </a:lnTo>
                <a:lnTo>
                  <a:pt x="4" y="84"/>
                </a:lnTo>
                <a:lnTo>
                  <a:pt x="5" y="81"/>
                </a:lnTo>
                <a:lnTo>
                  <a:pt x="8" y="72"/>
                </a:lnTo>
                <a:lnTo>
                  <a:pt x="15" y="61"/>
                </a:lnTo>
                <a:lnTo>
                  <a:pt x="21" y="54"/>
                </a:lnTo>
              </a:path>
            </a:pathLst>
          </a:custGeom>
          <a:solidFill>
            <a:srgbClr val="ff0000"/>
          </a:solidFill>
          <a:ln w="6480">
            <a:solidFill>
              <a:srgbClr val="1f1a17"/>
            </a:solidFill>
            <a:round/>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97" name="Freeform 136"/>
          <p:cNvSpPr/>
          <p:nvPr/>
        </p:nvSpPr>
        <p:spPr>
          <a:xfrm>
            <a:off x="5838840" y="6372360"/>
            <a:ext cx="46080" cy="109440"/>
          </a:xfrm>
          <a:custGeom>
            <a:avLst/>
            <a:gdLst>
              <a:gd name="textAreaLeft" fmla="*/ 0 w 46080"/>
              <a:gd name="textAreaRight" fmla="*/ 46440 w 46080"/>
              <a:gd name="textAreaTop" fmla="*/ 0 h 109440"/>
              <a:gd name="textAreaBottom" fmla="*/ 109800 h 109440"/>
            </a:gdLst>
            <a:ahLst/>
            <a:rect l="textAreaLeft" t="textAreaTop" r="textAreaRight" b="textAreaBottom"/>
            <a:pathLst>
              <a:path w="56" h="140">
                <a:moveTo>
                  <a:pt x="4" y="39"/>
                </a:moveTo>
                <a:lnTo>
                  <a:pt x="3" y="63"/>
                </a:lnTo>
                <a:lnTo>
                  <a:pt x="3" y="98"/>
                </a:lnTo>
                <a:lnTo>
                  <a:pt x="7" y="133"/>
                </a:lnTo>
                <a:lnTo>
                  <a:pt x="7" y="137"/>
                </a:lnTo>
                <a:lnTo>
                  <a:pt x="7" y="138"/>
                </a:lnTo>
                <a:lnTo>
                  <a:pt x="6" y="139"/>
                </a:lnTo>
                <a:lnTo>
                  <a:pt x="5" y="139"/>
                </a:lnTo>
                <a:lnTo>
                  <a:pt x="3" y="140"/>
                </a:lnTo>
                <a:lnTo>
                  <a:pt x="2" y="140"/>
                </a:lnTo>
                <a:lnTo>
                  <a:pt x="0" y="139"/>
                </a:lnTo>
                <a:lnTo>
                  <a:pt x="6" y="140"/>
                </a:lnTo>
                <a:lnTo>
                  <a:pt x="12" y="139"/>
                </a:lnTo>
                <a:lnTo>
                  <a:pt x="17" y="138"/>
                </a:lnTo>
                <a:lnTo>
                  <a:pt x="21" y="135"/>
                </a:lnTo>
                <a:lnTo>
                  <a:pt x="23" y="131"/>
                </a:lnTo>
                <a:lnTo>
                  <a:pt x="25" y="126"/>
                </a:lnTo>
                <a:lnTo>
                  <a:pt x="27" y="121"/>
                </a:lnTo>
                <a:lnTo>
                  <a:pt x="29" y="111"/>
                </a:lnTo>
                <a:lnTo>
                  <a:pt x="31" y="101"/>
                </a:lnTo>
                <a:lnTo>
                  <a:pt x="32" y="96"/>
                </a:lnTo>
                <a:lnTo>
                  <a:pt x="34" y="90"/>
                </a:lnTo>
                <a:lnTo>
                  <a:pt x="41" y="80"/>
                </a:lnTo>
                <a:lnTo>
                  <a:pt x="49" y="70"/>
                </a:lnTo>
                <a:lnTo>
                  <a:pt x="55" y="61"/>
                </a:lnTo>
                <a:lnTo>
                  <a:pt x="56" y="56"/>
                </a:lnTo>
                <a:lnTo>
                  <a:pt x="56" y="51"/>
                </a:lnTo>
                <a:lnTo>
                  <a:pt x="54" y="45"/>
                </a:lnTo>
                <a:lnTo>
                  <a:pt x="51" y="38"/>
                </a:lnTo>
                <a:lnTo>
                  <a:pt x="46" y="30"/>
                </a:lnTo>
                <a:lnTo>
                  <a:pt x="44" y="29"/>
                </a:lnTo>
                <a:lnTo>
                  <a:pt x="44" y="28"/>
                </a:lnTo>
                <a:lnTo>
                  <a:pt x="42" y="25"/>
                </a:lnTo>
                <a:lnTo>
                  <a:pt x="41" y="14"/>
                </a:lnTo>
                <a:lnTo>
                  <a:pt x="38" y="4"/>
                </a:lnTo>
                <a:lnTo>
                  <a:pt x="36" y="1"/>
                </a:lnTo>
                <a:lnTo>
                  <a:pt x="35" y="0"/>
                </a:lnTo>
                <a:lnTo>
                  <a:pt x="33" y="0"/>
                </a:lnTo>
                <a:lnTo>
                  <a:pt x="31" y="0"/>
                </a:lnTo>
                <a:lnTo>
                  <a:pt x="29" y="1"/>
                </a:lnTo>
                <a:lnTo>
                  <a:pt x="26" y="2"/>
                </a:lnTo>
                <a:lnTo>
                  <a:pt x="23" y="4"/>
                </a:lnTo>
                <a:lnTo>
                  <a:pt x="17" y="12"/>
                </a:lnTo>
                <a:lnTo>
                  <a:pt x="14" y="16"/>
                </a:lnTo>
                <a:lnTo>
                  <a:pt x="11" y="21"/>
                </a:lnTo>
                <a:lnTo>
                  <a:pt x="7" y="31"/>
                </a:lnTo>
                <a:lnTo>
                  <a:pt x="4"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37"/>
          <p:cNvSpPr/>
          <p:nvPr/>
        </p:nvSpPr>
        <p:spPr>
          <a:xfrm>
            <a:off x="5840280" y="6400800"/>
            <a:ext cx="46080" cy="109440"/>
          </a:xfrm>
          <a:custGeom>
            <a:avLst/>
            <a:gdLst>
              <a:gd name="textAreaLeft" fmla="*/ 0 w 46080"/>
              <a:gd name="textAreaRight" fmla="*/ 46440 w 46080"/>
              <a:gd name="textAreaTop" fmla="*/ 0 h 109440"/>
              <a:gd name="textAreaBottom" fmla="*/ 109800 h 109440"/>
            </a:gdLst>
            <a:ahLst/>
            <a:rect l="textAreaLeft" t="textAreaTop" r="textAreaRight" b="textAreaBottom"/>
            <a:pathLst>
              <a:path w="56" h="140">
                <a:moveTo>
                  <a:pt x="4" y="39"/>
                </a:moveTo>
                <a:lnTo>
                  <a:pt x="3" y="63"/>
                </a:lnTo>
                <a:lnTo>
                  <a:pt x="3" y="98"/>
                </a:lnTo>
                <a:lnTo>
                  <a:pt x="7" y="133"/>
                </a:lnTo>
                <a:lnTo>
                  <a:pt x="7" y="137"/>
                </a:lnTo>
                <a:lnTo>
                  <a:pt x="7" y="138"/>
                </a:lnTo>
                <a:lnTo>
                  <a:pt x="6" y="139"/>
                </a:lnTo>
                <a:lnTo>
                  <a:pt x="5" y="139"/>
                </a:lnTo>
                <a:lnTo>
                  <a:pt x="3" y="140"/>
                </a:lnTo>
                <a:lnTo>
                  <a:pt x="2" y="140"/>
                </a:lnTo>
                <a:lnTo>
                  <a:pt x="0" y="139"/>
                </a:lnTo>
                <a:lnTo>
                  <a:pt x="6" y="140"/>
                </a:lnTo>
                <a:lnTo>
                  <a:pt x="12" y="139"/>
                </a:lnTo>
                <a:lnTo>
                  <a:pt x="17" y="138"/>
                </a:lnTo>
                <a:lnTo>
                  <a:pt x="21" y="135"/>
                </a:lnTo>
                <a:lnTo>
                  <a:pt x="23" y="131"/>
                </a:lnTo>
                <a:lnTo>
                  <a:pt x="25" y="126"/>
                </a:lnTo>
                <a:lnTo>
                  <a:pt x="27" y="121"/>
                </a:lnTo>
                <a:lnTo>
                  <a:pt x="29" y="111"/>
                </a:lnTo>
                <a:lnTo>
                  <a:pt x="31" y="101"/>
                </a:lnTo>
                <a:lnTo>
                  <a:pt x="32" y="96"/>
                </a:lnTo>
                <a:lnTo>
                  <a:pt x="34" y="90"/>
                </a:lnTo>
                <a:lnTo>
                  <a:pt x="41" y="80"/>
                </a:lnTo>
                <a:lnTo>
                  <a:pt x="49" y="70"/>
                </a:lnTo>
                <a:lnTo>
                  <a:pt x="55" y="61"/>
                </a:lnTo>
                <a:lnTo>
                  <a:pt x="56" y="56"/>
                </a:lnTo>
                <a:lnTo>
                  <a:pt x="56" y="51"/>
                </a:lnTo>
                <a:lnTo>
                  <a:pt x="54" y="45"/>
                </a:lnTo>
                <a:lnTo>
                  <a:pt x="51" y="38"/>
                </a:lnTo>
                <a:lnTo>
                  <a:pt x="46" y="30"/>
                </a:lnTo>
                <a:lnTo>
                  <a:pt x="44" y="29"/>
                </a:lnTo>
                <a:lnTo>
                  <a:pt x="44" y="28"/>
                </a:lnTo>
                <a:lnTo>
                  <a:pt x="42" y="25"/>
                </a:lnTo>
                <a:lnTo>
                  <a:pt x="41" y="14"/>
                </a:lnTo>
                <a:lnTo>
                  <a:pt x="38" y="4"/>
                </a:lnTo>
                <a:lnTo>
                  <a:pt x="36" y="1"/>
                </a:lnTo>
                <a:lnTo>
                  <a:pt x="35" y="0"/>
                </a:lnTo>
                <a:lnTo>
                  <a:pt x="33" y="0"/>
                </a:lnTo>
                <a:lnTo>
                  <a:pt x="31" y="0"/>
                </a:lnTo>
                <a:lnTo>
                  <a:pt x="29" y="1"/>
                </a:lnTo>
                <a:lnTo>
                  <a:pt x="26" y="2"/>
                </a:lnTo>
                <a:lnTo>
                  <a:pt x="23" y="4"/>
                </a:lnTo>
                <a:lnTo>
                  <a:pt x="17" y="12"/>
                </a:lnTo>
                <a:lnTo>
                  <a:pt x="14" y="16"/>
                </a:lnTo>
                <a:lnTo>
                  <a:pt x="11" y="21"/>
                </a:lnTo>
                <a:lnTo>
                  <a:pt x="7" y="31"/>
                </a:lnTo>
                <a:lnTo>
                  <a:pt x="4" y="39"/>
                </a:lnTo>
              </a:path>
            </a:pathLst>
          </a:custGeom>
          <a:solidFill>
            <a:srgbClr val="ff0000"/>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38"/>
          <p:cNvSpPr/>
          <p:nvPr/>
        </p:nvSpPr>
        <p:spPr>
          <a:xfrm>
            <a:off x="5076720" y="6518160"/>
            <a:ext cx="25560" cy="60480"/>
          </a:xfrm>
          <a:custGeom>
            <a:avLst/>
            <a:gdLst>
              <a:gd name="textAreaLeft" fmla="*/ 0 w 25560"/>
              <a:gd name="textAreaRight" fmla="*/ 25920 w 25560"/>
              <a:gd name="textAreaTop" fmla="*/ 0 h 60480"/>
              <a:gd name="textAreaBottom" fmla="*/ 60840 h 60480"/>
            </a:gdLst>
            <a:ahLst/>
            <a:rect l="textAreaLeft" t="textAreaTop" r="textAreaRight" b="textAreaBottom"/>
            <a:pathLst>
              <a:path w="33" h="76">
                <a:moveTo>
                  <a:pt x="5" y="36"/>
                </a:moveTo>
                <a:lnTo>
                  <a:pt x="6" y="35"/>
                </a:lnTo>
                <a:lnTo>
                  <a:pt x="7" y="32"/>
                </a:lnTo>
                <a:lnTo>
                  <a:pt x="8" y="29"/>
                </a:lnTo>
                <a:lnTo>
                  <a:pt x="9" y="22"/>
                </a:lnTo>
                <a:lnTo>
                  <a:pt x="11" y="8"/>
                </a:lnTo>
                <a:lnTo>
                  <a:pt x="14" y="0"/>
                </a:lnTo>
                <a:lnTo>
                  <a:pt x="18" y="1"/>
                </a:lnTo>
                <a:lnTo>
                  <a:pt x="21" y="2"/>
                </a:lnTo>
                <a:lnTo>
                  <a:pt x="27" y="4"/>
                </a:lnTo>
                <a:lnTo>
                  <a:pt x="30" y="4"/>
                </a:lnTo>
                <a:lnTo>
                  <a:pt x="30" y="9"/>
                </a:lnTo>
                <a:lnTo>
                  <a:pt x="30" y="17"/>
                </a:lnTo>
                <a:lnTo>
                  <a:pt x="31" y="32"/>
                </a:lnTo>
                <a:lnTo>
                  <a:pt x="32" y="48"/>
                </a:lnTo>
                <a:lnTo>
                  <a:pt x="33" y="53"/>
                </a:lnTo>
                <a:lnTo>
                  <a:pt x="21" y="65"/>
                </a:lnTo>
                <a:lnTo>
                  <a:pt x="14" y="72"/>
                </a:lnTo>
                <a:lnTo>
                  <a:pt x="7" y="75"/>
                </a:lnTo>
                <a:lnTo>
                  <a:pt x="5" y="76"/>
                </a:lnTo>
                <a:lnTo>
                  <a:pt x="3" y="75"/>
                </a:lnTo>
                <a:lnTo>
                  <a:pt x="2" y="74"/>
                </a:lnTo>
                <a:lnTo>
                  <a:pt x="1" y="72"/>
                </a:lnTo>
                <a:lnTo>
                  <a:pt x="0" y="70"/>
                </a:lnTo>
                <a:lnTo>
                  <a:pt x="0" y="67"/>
                </a:lnTo>
                <a:lnTo>
                  <a:pt x="0" y="61"/>
                </a:lnTo>
                <a:lnTo>
                  <a:pt x="2" y="47"/>
                </a:lnTo>
                <a:lnTo>
                  <a:pt x="4" y="38"/>
                </a:lnTo>
                <a:lnTo>
                  <a:pt x="5" y="36"/>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0" name="Freeform 139"/>
          <p:cNvSpPr/>
          <p:nvPr/>
        </p:nvSpPr>
        <p:spPr>
          <a:xfrm>
            <a:off x="5076720" y="6518160"/>
            <a:ext cx="25560" cy="60480"/>
          </a:xfrm>
          <a:custGeom>
            <a:avLst/>
            <a:gdLst>
              <a:gd name="textAreaLeft" fmla="*/ 0 w 25560"/>
              <a:gd name="textAreaRight" fmla="*/ 25920 w 25560"/>
              <a:gd name="textAreaTop" fmla="*/ 0 h 60480"/>
              <a:gd name="textAreaBottom" fmla="*/ 60840 h 60480"/>
            </a:gdLst>
            <a:ahLst/>
            <a:rect l="textAreaLeft" t="textAreaTop" r="textAreaRight" b="textAreaBottom"/>
            <a:pathLst>
              <a:path w="33" h="76">
                <a:moveTo>
                  <a:pt x="5" y="36"/>
                </a:moveTo>
                <a:lnTo>
                  <a:pt x="6" y="35"/>
                </a:lnTo>
                <a:lnTo>
                  <a:pt x="7" y="32"/>
                </a:lnTo>
                <a:lnTo>
                  <a:pt x="8" y="29"/>
                </a:lnTo>
                <a:lnTo>
                  <a:pt x="9" y="22"/>
                </a:lnTo>
                <a:lnTo>
                  <a:pt x="11" y="8"/>
                </a:lnTo>
                <a:lnTo>
                  <a:pt x="14" y="0"/>
                </a:lnTo>
                <a:lnTo>
                  <a:pt x="18" y="1"/>
                </a:lnTo>
                <a:lnTo>
                  <a:pt x="21" y="2"/>
                </a:lnTo>
                <a:lnTo>
                  <a:pt x="27" y="4"/>
                </a:lnTo>
                <a:lnTo>
                  <a:pt x="30" y="4"/>
                </a:lnTo>
                <a:lnTo>
                  <a:pt x="30" y="9"/>
                </a:lnTo>
                <a:lnTo>
                  <a:pt x="30" y="17"/>
                </a:lnTo>
                <a:lnTo>
                  <a:pt x="31" y="32"/>
                </a:lnTo>
                <a:lnTo>
                  <a:pt x="32" y="48"/>
                </a:lnTo>
                <a:lnTo>
                  <a:pt x="33" y="53"/>
                </a:lnTo>
                <a:lnTo>
                  <a:pt x="21" y="65"/>
                </a:lnTo>
                <a:lnTo>
                  <a:pt x="14" y="72"/>
                </a:lnTo>
                <a:lnTo>
                  <a:pt x="7" y="75"/>
                </a:lnTo>
                <a:lnTo>
                  <a:pt x="5" y="76"/>
                </a:lnTo>
                <a:lnTo>
                  <a:pt x="3" y="75"/>
                </a:lnTo>
                <a:lnTo>
                  <a:pt x="2" y="74"/>
                </a:lnTo>
                <a:lnTo>
                  <a:pt x="1" y="72"/>
                </a:lnTo>
                <a:lnTo>
                  <a:pt x="0" y="70"/>
                </a:lnTo>
                <a:lnTo>
                  <a:pt x="0" y="67"/>
                </a:lnTo>
                <a:lnTo>
                  <a:pt x="0" y="61"/>
                </a:lnTo>
                <a:lnTo>
                  <a:pt x="2" y="47"/>
                </a:lnTo>
                <a:lnTo>
                  <a:pt x="4" y="38"/>
                </a:lnTo>
                <a:lnTo>
                  <a:pt x="5" y="36"/>
                </a:lnTo>
              </a:path>
            </a:pathLst>
          </a:custGeom>
          <a:noFill/>
          <a:ln w="6480">
            <a:solidFill>
              <a:srgbClr val="1f1a17"/>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1" name="Freeform 140"/>
          <p:cNvSpPr/>
          <p:nvPr/>
        </p:nvSpPr>
        <p:spPr>
          <a:xfrm>
            <a:off x="2554200" y="23760"/>
            <a:ext cx="2005200" cy="2622600"/>
          </a:xfrm>
          <a:custGeom>
            <a:avLst/>
            <a:gdLst>
              <a:gd name="textAreaLeft" fmla="*/ 0 w 2005200"/>
              <a:gd name="textAreaRight" fmla="*/ 2005560 w 2005200"/>
              <a:gd name="textAreaTop" fmla="*/ 0 h 2622600"/>
              <a:gd name="textAreaBottom" fmla="*/ 2622960 h 2622600"/>
            </a:gdLst>
            <a:ahLst/>
            <a:rect l="textAreaLeft" t="textAreaTop" r="textAreaRight" b="textAreaBottom"/>
            <a:pathLst>
              <a:path w="2526" h="3304">
                <a:moveTo>
                  <a:pt x="890" y="1996"/>
                </a:moveTo>
                <a:lnTo>
                  <a:pt x="889" y="1959"/>
                </a:lnTo>
                <a:lnTo>
                  <a:pt x="893" y="1932"/>
                </a:lnTo>
                <a:lnTo>
                  <a:pt x="902" y="1913"/>
                </a:lnTo>
                <a:lnTo>
                  <a:pt x="915" y="1901"/>
                </a:lnTo>
                <a:lnTo>
                  <a:pt x="930" y="1894"/>
                </a:lnTo>
                <a:lnTo>
                  <a:pt x="948" y="1889"/>
                </a:lnTo>
                <a:lnTo>
                  <a:pt x="990" y="1880"/>
                </a:lnTo>
                <a:lnTo>
                  <a:pt x="1034" y="1860"/>
                </a:lnTo>
                <a:lnTo>
                  <a:pt x="1076" y="1810"/>
                </a:lnTo>
                <a:lnTo>
                  <a:pt x="1065" y="1791"/>
                </a:lnTo>
                <a:lnTo>
                  <a:pt x="1054" y="1752"/>
                </a:lnTo>
                <a:lnTo>
                  <a:pt x="1056" y="1713"/>
                </a:lnTo>
                <a:lnTo>
                  <a:pt x="1066" y="1674"/>
                </a:lnTo>
                <a:lnTo>
                  <a:pt x="1099" y="1597"/>
                </a:lnTo>
                <a:lnTo>
                  <a:pt x="1108" y="1577"/>
                </a:lnTo>
                <a:lnTo>
                  <a:pt x="1103" y="1573"/>
                </a:lnTo>
                <a:lnTo>
                  <a:pt x="1088" y="1557"/>
                </a:lnTo>
                <a:lnTo>
                  <a:pt x="1076" y="1546"/>
                </a:lnTo>
                <a:lnTo>
                  <a:pt x="1076" y="1545"/>
                </a:lnTo>
                <a:lnTo>
                  <a:pt x="1081" y="1537"/>
                </a:lnTo>
                <a:lnTo>
                  <a:pt x="1092" y="1527"/>
                </a:lnTo>
                <a:lnTo>
                  <a:pt x="1121" y="1503"/>
                </a:lnTo>
                <a:lnTo>
                  <a:pt x="1191" y="1447"/>
                </a:lnTo>
                <a:lnTo>
                  <a:pt x="1226" y="1394"/>
                </a:lnTo>
                <a:lnTo>
                  <a:pt x="1226" y="1391"/>
                </a:lnTo>
                <a:lnTo>
                  <a:pt x="1228" y="1366"/>
                </a:lnTo>
                <a:lnTo>
                  <a:pt x="1235" y="1280"/>
                </a:lnTo>
                <a:lnTo>
                  <a:pt x="1239" y="1215"/>
                </a:lnTo>
                <a:lnTo>
                  <a:pt x="1240" y="1211"/>
                </a:lnTo>
                <a:lnTo>
                  <a:pt x="1241" y="1199"/>
                </a:lnTo>
                <a:lnTo>
                  <a:pt x="1247" y="1179"/>
                </a:lnTo>
                <a:lnTo>
                  <a:pt x="1258" y="1167"/>
                </a:lnTo>
                <a:lnTo>
                  <a:pt x="1270" y="1158"/>
                </a:lnTo>
                <a:lnTo>
                  <a:pt x="1280" y="1148"/>
                </a:lnTo>
                <a:lnTo>
                  <a:pt x="1288" y="1135"/>
                </a:lnTo>
                <a:lnTo>
                  <a:pt x="1290" y="1125"/>
                </a:lnTo>
                <a:lnTo>
                  <a:pt x="1289" y="1122"/>
                </a:lnTo>
                <a:lnTo>
                  <a:pt x="1282" y="1102"/>
                </a:lnTo>
                <a:lnTo>
                  <a:pt x="1258" y="1029"/>
                </a:lnTo>
                <a:lnTo>
                  <a:pt x="1240" y="974"/>
                </a:lnTo>
                <a:lnTo>
                  <a:pt x="1240" y="969"/>
                </a:lnTo>
                <a:lnTo>
                  <a:pt x="1241" y="968"/>
                </a:lnTo>
                <a:lnTo>
                  <a:pt x="1250" y="955"/>
                </a:lnTo>
                <a:lnTo>
                  <a:pt x="1282" y="912"/>
                </a:lnTo>
                <a:lnTo>
                  <a:pt x="1305" y="880"/>
                </a:lnTo>
                <a:lnTo>
                  <a:pt x="1307" y="878"/>
                </a:lnTo>
                <a:lnTo>
                  <a:pt x="1309" y="878"/>
                </a:lnTo>
                <a:lnTo>
                  <a:pt x="1316" y="877"/>
                </a:lnTo>
                <a:lnTo>
                  <a:pt x="1344" y="872"/>
                </a:lnTo>
                <a:lnTo>
                  <a:pt x="1365" y="869"/>
                </a:lnTo>
                <a:lnTo>
                  <a:pt x="1367" y="868"/>
                </a:lnTo>
                <a:lnTo>
                  <a:pt x="1369" y="866"/>
                </a:lnTo>
                <a:lnTo>
                  <a:pt x="1380" y="845"/>
                </a:lnTo>
                <a:lnTo>
                  <a:pt x="1421" y="777"/>
                </a:lnTo>
                <a:lnTo>
                  <a:pt x="1452" y="724"/>
                </a:lnTo>
                <a:lnTo>
                  <a:pt x="1454" y="721"/>
                </a:lnTo>
                <a:lnTo>
                  <a:pt x="1467" y="731"/>
                </a:lnTo>
                <a:lnTo>
                  <a:pt x="1495" y="748"/>
                </a:lnTo>
                <a:lnTo>
                  <a:pt x="1553" y="770"/>
                </a:lnTo>
                <a:lnTo>
                  <a:pt x="1585" y="770"/>
                </a:lnTo>
                <a:lnTo>
                  <a:pt x="1619" y="761"/>
                </a:lnTo>
                <a:lnTo>
                  <a:pt x="1639" y="751"/>
                </a:lnTo>
                <a:lnTo>
                  <a:pt x="1638" y="746"/>
                </a:lnTo>
                <a:lnTo>
                  <a:pt x="1635" y="736"/>
                </a:lnTo>
                <a:lnTo>
                  <a:pt x="1625" y="709"/>
                </a:lnTo>
                <a:lnTo>
                  <a:pt x="1600" y="644"/>
                </a:lnTo>
                <a:lnTo>
                  <a:pt x="1587" y="611"/>
                </a:lnTo>
                <a:lnTo>
                  <a:pt x="1595" y="603"/>
                </a:lnTo>
                <a:lnTo>
                  <a:pt x="1615" y="583"/>
                </a:lnTo>
                <a:lnTo>
                  <a:pt x="1663" y="542"/>
                </a:lnTo>
                <a:lnTo>
                  <a:pt x="1709" y="508"/>
                </a:lnTo>
                <a:lnTo>
                  <a:pt x="1718" y="503"/>
                </a:lnTo>
                <a:lnTo>
                  <a:pt x="1729" y="513"/>
                </a:lnTo>
                <a:lnTo>
                  <a:pt x="1749" y="527"/>
                </a:lnTo>
                <a:lnTo>
                  <a:pt x="1791" y="550"/>
                </a:lnTo>
                <a:lnTo>
                  <a:pt x="1856" y="604"/>
                </a:lnTo>
                <a:lnTo>
                  <a:pt x="1880" y="627"/>
                </a:lnTo>
                <a:lnTo>
                  <a:pt x="1881" y="627"/>
                </a:lnTo>
                <a:lnTo>
                  <a:pt x="1893" y="623"/>
                </a:lnTo>
                <a:lnTo>
                  <a:pt x="1933" y="608"/>
                </a:lnTo>
                <a:lnTo>
                  <a:pt x="1963" y="597"/>
                </a:lnTo>
                <a:lnTo>
                  <a:pt x="1965" y="596"/>
                </a:lnTo>
                <a:lnTo>
                  <a:pt x="1972" y="602"/>
                </a:lnTo>
                <a:lnTo>
                  <a:pt x="1996" y="617"/>
                </a:lnTo>
                <a:lnTo>
                  <a:pt x="2015" y="629"/>
                </a:lnTo>
                <a:lnTo>
                  <a:pt x="2016" y="629"/>
                </a:lnTo>
                <a:lnTo>
                  <a:pt x="2024" y="629"/>
                </a:lnTo>
                <a:lnTo>
                  <a:pt x="2048" y="628"/>
                </a:lnTo>
                <a:lnTo>
                  <a:pt x="2068" y="627"/>
                </a:lnTo>
                <a:lnTo>
                  <a:pt x="2069" y="626"/>
                </a:lnTo>
                <a:lnTo>
                  <a:pt x="2069" y="624"/>
                </a:lnTo>
                <a:lnTo>
                  <a:pt x="2076" y="604"/>
                </a:lnTo>
                <a:lnTo>
                  <a:pt x="2102" y="535"/>
                </a:lnTo>
                <a:lnTo>
                  <a:pt x="2121" y="482"/>
                </a:lnTo>
                <a:lnTo>
                  <a:pt x="2122" y="479"/>
                </a:lnTo>
                <a:lnTo>
                  <a:pt x="2118" y="465"/>
                </a:lnTo>
                <a:lnTo>
                  <a:pt x="2106" y="420"/>
                </a:lnTo>
                <a:lnTo>
                  <a:pt x="2097" y="387"/>
                </a:lnTo>
                <a:lnTo>
                  <a:pt x="2097" y="385"/>
                </a:lnTo>
                <a:lnTo>
                  <a:pt x="2104" y="367"/>
                </a:lnTo>
                <a:lnTo>
                  <a:pt x="2128" y="313"/>
                </a:lnTo>
                <a:lnTo>
                  <a:pt x="2146" y="273"/>
                </a:lnTo>
                <a:lnTo>
                  <a:pt x="2147" y="270"/>
                </a:lnTo>
                <a:lnTo>
                  <a:pt x="2148" y="269"/>
                </a:lnTo>
                <a:lnTo>
                  <a:pt x="2161" y="260"/>
                </a:lnTo>
                <a:lnTo>
                  <a:pt x="2206" y="233"/>
                </a:lnTo>
                <a:lnTo>
                  <a:pt x="2240" y="211"/>
                </a:lnTo>
                <a:lnTo>
                  <a:pt x="2243" y="209"/>
                </a:lnTo>
                <a:lnTo>
                  <a:pt x="2245" y="211"/>
                </a:lnTo>
                <a:lnTo>
                  <a:pt x="2260" y="221"/>
                </a:lnTo>
                <a:lnTo>
                  <a:pt x="2313" y="254"/>
                </a:lnTo>
                <a:lnTo>
                  <a:pt x="2353" y="280"/>
                </a:lnTo>
                <a:lnTo>
                  <a:pt x="2356" y="281"/>
                </a:lnTo>
                <a:lnTo>
                  <a:pt x="2364" y="282"/>
                </a:lnTo>
                <a:lnTo>
                  <a:pt x="2389" y="283"/>
                </a:lnTo>
                <a:lnTo>
                  <a:pt x="2409" y="284"/>
                </a:lnTo>
                <a:lnTo>
                  <a:pt x="2411" y="284"/>
                </a:lnTo>
                <a:lnTo>
                  <a:pt x="2410" y="287"/>
                </a:lnTo>
                <a:lnTo>
                  <a:pt x="2403" y="301"/>
                </a:lnTo>
                <a:lnTo>
                  <a:pt x="2384" y="351"/>
                </a:lnTo>
                <a:lnTo>
                  <a:pt x="2369" y="389"/>
                </a:lnTo>
                <a:lnTo>
                  <a:pt x="2369" y="391"/>
                </a:lnTo>
                <a:lnTo>
                  <a:pt x="2370" y="391"/>
                </a:lnTo>
                <a:lnTo>
                  <a:pt x="2380" y="388"/>
                </a:lnTo>
                <a:lnTo>
                  <a:pt x="2415" y="378"/>
                </a:lnTo>
                <a:lnTo>
                  <a:pt x="2441" y="369"/>
                </a:lnTo>
                <a:lnTo>
                  <a:pt x="2443" y="368"/>
                </a:lnTo>
                <a:lnTo>
                  <a:pt x="2444" y="367"/>
                </a:lnTo>
                <a:lnTo>
                  <a:pt x="2456" y="353"/>
                </a:lnTo>
                <a:lnTo>
                  <a:pt x="2495" y="307"/>
                </a:lnTo>
                <a:lnTo>
                  <a:pt x="2524" y="272"/>
                </a:lnTo>
                <a:lnTo>
                  <a:pt x="2526" y="270"/>
                </a:lnTo>
                <a:lnTo>
                  <a:pt x="2512" y="258"/>
                </a:lnTo>
                <a:lnTo>
                  <a:pt x="2499" y="251"/>
                </a:lnTo>
                <a:lnTo>
                  <a:pt x="2487" y="248"/>
                </a:lnTo>
                <a:lnTo>
                  <a:pt x="2476" y="247"/>
                </a:lnTo>
                <a:lnTo>
                  <a:pt x="2466" y="248"/>
                </a:lnTo>
                <a:lnTo>
                  <a:pt x="2446" y="250"/>
                </a:lnTo>
                <a:lnTo>
                  <a:pt x="2436" y="249"/>
                </a:lnTo>
                <a:lnTo>
                  <a:pt x="2426" y="245"/>
                </a:lnTo>
                <a:lnTo>
                  <a:pt x="2415" y="238"/>
                </a:lnTo>
                <a:lnTo>
                  <a:pt x="2404" y="226"/>
                </a:lnTo>
                <a:lnTo>
                  <a:pt x="2394" y="206"/>
                </a:lnTo>
                <a:lnTo>
                  <a:pt x="2398" y="200"/>
                </a:lnTo>
                <a:lnTo>
                  <a:pt x="2406" y="195"/>
                </a:lnTo>
                <a:lnTo>
                  <a:pt x="2413" y="191"/>
                </a:lnTo>
                <a:lnTo>
                  <a:pt x="2429" y="183"/>
                </a:lnTo>
                <a:lnTo>
                  <a:pt x="2436" y="179"/>
                </a:lnTo>
                <a:lnTo>
                  <a:pt x="2442" y="174"/>
                </a:lnTo>
                <a:lnTo>
                  <a:pt x="2445" y="167"/>
                </a:lnTo>
                <a:lnTo>
                  <a:pt x="2446" y="157"/>
                </a:lnTo>
                <a:lnTo>
                  <a:pt x="2443" y="146"/>
                </a:lnTo>
                <a:lnTo>
                  <a:pt x="2437" y="132"/>
                </a:lnTo>
                <a:lnTo>
                  <a:pt x="2427" y="113"/>
                </a:lnTo>
                <a:lnTo>
                  <a:pt x="2428" y="113"/>
                </a:lnTo>
                <a:lnTo>
                  <a:pt x="2441" y="109"/>
                </a:lnTo>
                <a:lnTo>
                  <a:pt x="2486" y="94"/>
                </a:lnTo>
                <a:lnTo>
                  <a:pt x="2520" y="83"/>
                </a:lnTo>
                <a:lnTo>
                  <a:pt x="2522" y="82"/>
                </a:lnTo>
                <a:lnTo>
                  <a:pt x="2490" y="55"/>
                </a:lnTo>
                <a:lnTo>
                  <a:pt x="2432" y="16"/>
                </a:lnTo>
                <a:lnTo>
                  <a:pt x="2381" y="0"/>
                </a:lnTo>
                <a:lnTo>
                  <a:pt x="2357" y="0"/>
                </a:lnTo>
                <a:lnTo>
                  <a:pt x="2335" y="6"/>
                </a:lnTo>
                <a:lnTo>
                  <a:pt x="2314" y="18"/>
                </a:lnTo>
                <a:lnTo>
                  <a:pt x="2295" y="36"/>
                </a:lnTo>
                <a:lnTo>
                  <a:pt x="2277" y="61"/>
                </a:lnTo>
                <a:lnTo>
                  <a:pt x="2245" y="129"/>
                </a:lnTo>
                <a:lnTo>
                  <a:pt x="2244" y="127"/>
                </a:lnTo>
                <a:lnTo>
                  <a:pt x="2239" y="114"/>
                </a:lnTo>
                <a:lnTo>
                  <a:pt x="2224" y="65"/>
                </a:lnTo>
                <a:lnTo>
                  <a:pt x="2213" y="28"/>
                </a:lnTo>
                <a:lnTo>
                  <a:pt x="2213" y="25"/>
                </a:lnTo>
                <a:lnTo>
                  <a:pt x="2190" y="17"/>
                </a:lnTo>
                <a:lnTo>
                  <a:pt x="2173" y="15"/>
                </a:lnTo>
                <a:lnTo>
                  <a:pt x="2167" y="15"/>
                </a:lnTo>
                <a:lnTo>
                  <a:pt x="2162" y="16"/>
                </a:lnTo>
                <a:lnTo>
                  <a:pt x="2159" y="19"/>
                </a:lnTo>
                <a:lnTo>
                  <a:pt x="2156" y="22"/>
                </a:lnTo>
                <a:lnTo>
                  <a:pt x="2155" y="26"/>
                </a:lnTo>
                <a:lnTo>
                  <a:pt x="2154" y="31"/>
                </a:lnTo>
                <a:lnTo>
                  <a:pt x="2152" y="43"/>
                </a:lnTo>
                <a:lnTo>
                  <a:pt x="2154" y="57"/>
                </a:lnTo>
                <a:lnTo>
                  <a:pt x="2156" y="87"/>
                </a:lnTo>
                <a:lnTo>
                  <a:pt x="2152" y="117"/>
                </a:lnTo>
                <a:lnTo>
                  <a:pt x="2147" y="129"/>
                </a:lnTo>
                <a:lnTo>
                  <a:pt x="2135" y="130"/>
                </a:lnTo>
                <a:lnTo>
                  <a:pt x="2118" y="133"/>
                </a:lnTo>
                <a:lnTo>
                  <a:pt x="2106" y="140"/>
                </a:lnTo>
                <a:lnTo>
                  <a:pt x="2096" y="147"/>
                </a:lnTo>
                <a:lnTo>
                  <a:pt x="2067" y="166"/>
                </a:lnTo>
                <a:lnTo>
                  <a:pt x="2056" y="169"/>
                </a:lnTo>
                <a:lnTo>
                  <a:pt x="2053" y="160"/>
                </a:lnTo>
                <a:lnTo>
                  <a:pt x="2052" y="148"/>
                </a:lnTo>
                <a:lnTo>
                  <a:pt x="2053" y="134"/>
                </a:lnTo>
                <a:lnTo>
                  <a:pt x="2056" y="103"/>
                </a:lnTo>
                <a:lnTo>
                  <a:pt x="2057" y="74"/>
                </a:lnTo>
                <a:lnTo>
                  <a:pt x="2056" y="61"/>
                </a:lnTo>
                <a:lnTo>
                  <a:pt x="2051" y="51"/>
                </a:lnTo>
                <a:lnTo>
                  <a:pt x="2043" y="43"/>
                </a:lnTo>
                <a:lnTo>
                  <a:pt x="2030" y="40"/>
                </a:lnTo>
                <a:lnTo>
                  <a:pt x="2014" y="41"/>
                </a:lnTo>
                <a:lnTo>
                  <a:pt x="1991" y="61"/>
                </a:lnTo>
                <a:lnTo>
                  <a:pt x="1958" y="91"/>
                </a:lnTo>
                <a:lnTo>
                  <a:pt x="1920" y="122"/>
                </a:lnTo>
                <a:lnTo>
                  <a:pt x="1899" y="128"/>
                </a:lnTo>
                <a:lnTo>
                  <a:pt x="1870" y="129"/>
                </a:lnTo>
                <a:lnTo>
                  <a:pt x="1850" y="129"/>
                </a:lnTo>
                <a:lnTo>
                  <a:pt x="1829" y="139"/>
                </a:lnTo>
                <a:lnTo>
                  <a:pt x="1793" y="166"/>
                </a:lnTo>
                <a:lnTo>
                  <a:pt x="1764" y="200"/>
                </a:lnTo>
                <a:lnTo>
                  <a:pt x="1742" y="239"/>
                </a:lnTo>
                <a:lnTo>
                  <a:pt x="1718" y="315"/>
                </a:lnTo>
                <a:lnTo>
                  <a:pt x="1718" y="331"/>
                </a:lnTo>
                <a:lnTo>
                  <a:pt x="1704" y="345"/>
                </a:lnTo>
                <a:lnTo>
                  <a:pt x="1684" y="364"/>
                </a:lnTo>
                <a:lnTo>
                  <a:pt x="1671" y="374"/>
                </a:lnTo>
                <a:lnTo>
                  <a:pt x="1665" y="378"/>
                </a:lnTo>
                <a:lnTo>
                  <a:pt x="1658" y="378"/>
                </a:lnTo>
                <a:lnTo>
                  <a:pt x="1652" y="378"/>
                </a:lnTo>
                <a:lnTo>
                  <a:pt x="1643" y="376"/>
                </a:lnTo>
                <a:lnTo>
                  <a:pt x="1619" y="367"/>
                </a:lnTo>
                <a:lnTo>
                  <a:pt x="1603" y="362"/>
                </a:lnTo>
                <a:lnTo>
                  <a:pt x="1580" y="384"/>
                </a:lnTo>
                <a:lnTo>
                  <a:pt x="1542" y="415"/>
                </a:lnTo>
                <a:lnTo>
                  <a:pt x="1492" y="463"/>
                </a:lnTo>
                <a:lnTo>
                  <a:pt x="1478" y="491"/>
                </a:lnTo>
                <a:lnTo>
                  <a:pt x="1472" y="526"/>
                </a:lnTo>
                <a:lnTo>
                  <a:pt x="1472" y="549"/>
                </a:lnTo>
                <a:lnTo>
                  <a:pt x="1432" y="588"/>
                </a:lnTo>
                <a:lnTo>
                  <a:pt x="1372" y="663"/>
                </a:lnTo>
                <a:lnTo>
                  <a:pt x="1289" y="796"/>
                </a:lnTo>
                <a:lnTo>
                  <a:pt x="1193" y="912"/>
                </a:lnTo>
                <a:lnTo>
                  <a:pt x="1158" y="939"/>
                </a:lnTo>
                <a:lnTo>
                  <a:pt x="1153" y="970"/>
                </a:lnTo>
                <a:lnTo>
                  <a:pt x="1140" y="1002"/>
                </a:lnTo>
                <a:lnTo>
                  <a:pt x="1120" y="1035"/>
                </a:lnTo>
                <a:lnTo>
                  <a:pt x="1070" y="1099"/>
                </a:lnTo>
                <a:lnTo>
                  <a:pt x="1021" y="1165"/>
                </a:lnTo>
                <a:lnTo>
                  <a:pt x="989" y="1232"/>
                </a:lnTo>
                <a:lnTo>
                  <a:pt x="984" y="1267"/>
                </a:lnTo>
                <a:lnTo>
                  <a:pt x="990" y="1302"/>
                </a:lnTo>
                <a:lnTo>
                  <a:pt x="1008" y="1335"/>
                </a:lnTo>
                <a:lnTo>
                  <a:pt x="985" y="1345"/>
                </a:lnTo>
                <a:lnTo>
                  <a:pt x="944" y="1369"/>
                </a:lnTo>
                <a:lnTo>
                  <a:pt x="915" y="1396"/>
                </a:lnTo>
                <a:lnTo>
                  <a:pt x="901" y="1431"/>
                </a:lnTo>
                <a:lnTo>
                  <a:pt x="902" y="1475"/>
                </a:lnTo>
                <a:lnTo>
                  <a:pt x="922" y="1530"/>
                </a:lnTo>
                <a:lnTo>
                  <a:pt x="942" y="1561"/>
                </a:lnTo>
                <a:lnTo>
                  <a:pt x="928" y="1575"/>
                </a:lnTo>
                <a:lnTo>
                  <a:pt x="899" y="1598"/>
                </a:lnTo>
                <a:lnTo>
                  <a:pt x="851" y="1642"/>
                </a:lnTo>
                <a:lnTo>
                  <a:pt x="845" y="1653"/>
                </a:lnTo>
                <a:lnTo>
                  <a:pt x="842" y="1664"/>
                </a:lnTo>
                <a:lnTo>
                  <a:pt x="844" y="1676"/>
                </a:lnTo>
                <a:lnTo>
                  <a:pt x="851" y="1689"/>
                </a:lnTo>
                <a:lnTo>
                  <a:pt x="862" y="1701"/>
                </a:lnTo>
                <a:lnTo>
                  <a:pt x="836" y="1718"/>
                </a:lnTo>
                <a:lnTo>
                  <a:pt x="777" y="1758"/>
                </a:lnTo>
                <a:lnTo>
                  <a:pt x="664" y="1856"/>
                </a:lnTo>
                <a:lnTo>
                  <a:pt x="625" y="1910"/>
                </a:lnTo>
                <a:lnTo>
                  <a:pt x="611" y="1965"/>
                </a:lnTo>
                <a:lnTo>
                  <a:pt x="616" y="1992"/>
                </a:lnTo>
                <a:lnTo>
                  <a:pt x="628" y="1982"/>
                </a:lnTo>
                <a:lnTo>
                  <a:pt x="662" y="1950"/>
                </a:lnTo>
                <a:lnTo>
                  <a:pt x="750" y="1883"/>
                </a:lnTo>
                <a:lnTo>
                  <a:pt x="770" y="1876"/>
                </a:lnTo>
                <a:lnTo>
                  <a:pt x="779" y="1875"/>
                </a:lnTo>
                <a:lnTo>
                  <a:pt x="787" y="1876"/>
                </a:lnTo>
                <a:lnTo>
                  <a:pt x="795" y="1879"/>
                </a:lnTo>
                <a:lnTo>
                  <a:pt x="800" y="1884"/>
                </a:lnTo>
                <a:lnTo>
                  <a:pt x="806" y="1893"/>
                </a:lnTo>
                <a:lnTo>
                  <a:pt x="810" y="1904"/>
                </a:lnTo>
                <a:lnTo>
                  <a:pt x="812" y="1918"/>
                </a:lnTo>
                <a:lnTo>
                  <a:pt x="813" y="1934"/>
                </a:lnTo>
                <a:lnTo>
                  <a:pt x="796" y="1958"/>
                </a:lnTo>
                <a:lnTo>
                  <a:pt x="765" y="1996"/>
                </a:lnTo>
                <a:lnTo>
                  <a:pt x="733" y="2025"/>
                </a:lnTo>
                <a:lnTo>
                  <a:pt x="697" y="2042"/>
                </a:lnTo>
                <a:lnTo>
                  <a:pt x="658" y="2047"/>
                </a:lnTo>
                <a:lnTo>
                  <a:pt x="609" y="2039"/>
                </a:lnTo>
                <a:lnTo>
                  <a:pt x="582" y="2029"/>
                </a:lnTo>
                <a:lnTo>
                  <a:pt x="537" y="2044"/>
                </a:lnTo>
                <a:lnTo>
                  <a:pt x="448" y="2085"/>
                </a:lnTo>
                <a:lnTo>
                  <a:pt x="266" y="2199"/>
                </a:lnTo>
                <a:lnTo>
                  <a:pt x="83" y="2337"/>
                </a:lnTo>
                <a:lnTo>
                  <a:pt x="39" y="2370"/>
                </a:lnTo>
                <a:lnTo>
                  <a:pt x="47" y="2389"/>
                </a:lnTo>
                <a:lnTo>
                  <a:pt x="60" y="2423"/>
                </a:lnTo>
                <a:lnTo>
                  <a:pt x="66" y="2456"/>
                </a:lnTo>
                <a:lnTo>
                  <a:pt x="61" y="2489"/>
                </a:lnTo>
                <a:lnTo>
                  <a:pt x="47" y="2521"/>
                </a:lnTo>
                <a:lnTo>
                  <a:pt x="23" y="2555"/>
                </a:lnTo>
                <a:lnTo>
                  <a:pt x="6" y="2572"/>
                </a:lnTo>
                <a:lnTo>
                  <a:pt x="9" y="2588"/>
                </a:lnTo>
                <a:lnTo>
                  <a:pt x="10" y="2624"/>
                </a:lnTo>
                <a:lnTo>
                  <a:pt x="8" y="2661"/>
                </a:lnTo>
                <a:lnTo>
                  <a:pt x="0" y="2732"/>
                </a:lnTo>
                <a:lnTo>
                  <a:pt x="6" y="2774"/>
                </a:lnTo>
                <a:lnTo>
                  <a:pt x="53" y="2776"/>
                </a:lnTo>
                <a:lnTo>
                  <a:pt x="86" y="2782"/>
                </a:lnTo>
                <a:lnTo>
                  <a:pt x="106" y="2791"/>
                </a:lnTo>
                <a:lnTo>
                  <a:pt x="113" y="2797"/>
                </a:lnTo>
                <a:lnTo>
                  <a:pt x="117" y="2803"/>
                </a:lnTo>
                <a:lnTo>
                  <a:pt x="118" y="2810"/>
                </a:lnTo>
                <a:lnTo>
                  <a:pt x="117" y="2819"/>
                </a:lnTo>
                <a:lnTo>
                  <a:pt x="115" y="2827"/>
                </a:lnTo>
                <a:lnTo>
                  <a:pt x="111" y="2836"/>
                </a:lnTo>
                <a:lnTo>
                  <a:pt x="98" y="2854"/>
                </a:lnTo>
                <a:lnTo>
                  <a:pt x="62" y="2896"/>
                </a:lnTo>
                <a:lnTo>
                  <a:pt x="22" y="2940"/>
                </a:lnTo>
                <a:lnTo>
                  <a:pt x="6" y="2961"/>
                </a:lnTo>
                <a:lnTo>
                  <a:pt x="16" y="2972"/>
                </a:lnTo>
                <a:lnTo>
                  <a:pt x="34" y="2987"/>
                </a:lnTo>
                <a:lnTo>
                  <a:pt x="41" y="2991"/>
                </a:lnTo>
                <a:lnTo>
                  <a:pt x="47" y="2993"/>
                </a:lnTo>
                <a:lnTo>
                  <a:pt x="55" y="2993"/>
                </a:lnTo>
                <a:lnTo>
                  <a:pt x="61" y="2991"/>
                </a:lnTo>
                <a:lnTo>
                  <a:pt x="69" y="2988"/>
                </a:lnTo>
                <a:lnTo>
                  <a:pt x="90" y="2978"/>
                </a:lnTo>
                <a:lnTo>
                  <a:pt x="120" y="2961"/>
                </a:lnTo>
                <a:lnTo>
                  <a:pt x="126" y="2982"/>
                </a:lnTo>
                <a:lnTo>
                  <a:pt x="130" y="3015"/>
                </a:lnTo>
                <a:lnTo>
                  <a:pt x="122" y="3043"/>
                </a:lnTo>
                <a:lnTo>
                  <a:pt x="108" y="3065"/>
                </a:lnTo>
                <a:lnTo>
                  <a:pt x="89" y="3086"/>
                </a:lnTo>
                <a:lnTo>
                  <a:pt x="67" y="3106"/>
                </a:lnTo>
                <a:lnTo>
                  <a:pt x="56" y="3117"/>
                </a:lnTo>
                <a:lnTo>
                  <a:pt x="57" y="3157"/>
                </a:lnTo>
                <a:lnTo>
                  <a:pt x="73" y="3212"/>
                </a:lnTo>
                <a:lnTo>
                  <a:pt x="100" y="3241"/>
                </a:lnTo>
                <a:lnTo>
                  <a:pt x="136" y="3257"/>
                </a:lnTo>
                <a:lnTo>
                  <a:pt x="176" y="3269"/>
                </a:lnTo>
                <a:lnTo>
                  <a:pt x="216" y="3288"/>
                </a:lnTo>
                <a:lnTo>
                  <a:pt x="236" y="3304"/>
                </a:lnTo>
                <a:lnTo>
                  <a:pt x="269" y="3300"/>
                </a:lnTo>
                <a:lnTo>
                  <a:pt x="305" y="3290"/>
                </a:lnTo>
                <a:lnTo>
                  <a:pt x="379" y="3253"/>
                </a:lnTo>
                <a:lnTo>
                  <a:pt x="452" y="3201"/>
                </a:lnTo>
                <a:lnTo>
                  <a:pt x="582" y="3086"/>
                </a:lnTo>
                <a:lnTo>
                  <a:pt x="632" y="3039"/>
                </a:lnTo>
                <a:lnTo>
                  <a:pt x="632" y="3037"/>
                </a:lnTo>
                <a:lnTo>
                  <a:pt x="639" y="3017"/>
                </a:lnTo>
                <a:lnTo>
                  <a:pt x="662" y="2952"/>
                </a:lnTo>
                <a:lnTo>
                  <a:pt x="680" y="2902"/>
                </a:lnTo>
                <a:lnTo>
                  <a:pt x="681" y="2899"/>
                </a:lnTo>
                <a:lnTo>
                  <a:pt x="689" y="2914"/>
                </a:lnTo>
                <a:lnTo>
                  <a:pt x="711" y="2960"/>
                </a:lnTo>
                <a:lnTo>
                  <a:pt x="729" y="2996"/>
                </a:lnTo>
                <a:lnTo>
                  <a:pt x="730" y="2997"/>
                </a:lnTo>
                <a:lnTo>
                  <a:pt x="732" y="2998"/>
                </a:lnTo>
                <a:lnTo>
                  <a:pt x="742" y="3005"/>
                </a:lnTo>
                <a:lnTo>
                  <a:pt x="779" y="3026"/>
                </a:lnTo>
                <a:lnTo>
                  <a:pt x="807" y="3043"/>
                </a:lnTo>
                <a:lnTo>
                  <a:pt x="809" y="3043"/>
                </a:lnTo>
                <a:lnTo>
                  <a:pt x="817" y="2984"/>
                </a:lnTo>
                <a:lnTo>
                  <a:pt x="827" y="2916"/>
                </a:lnTo>
                <a:lnTo>
                  <a:pt x="829" y="2902"/>
                </a:lnTo>
                <a:lnTo>
                  <a:pt x="829" y="2899"/>
                </a:lnTo>
                <a:lnTo>
                  <a:pt x="829" y="2898"/>
                </a:lnTo>
                <a:lnTo>
                  <a:pt x="828" y="2897"/>
                </a:lnTo>
                <a:lnTo>
                  <a:pt x="827" y="2898"/>
                </a:lnTo>
                <a:lnTo>
                  <a:pt x="826" y="2899"/>
                </a:lnTo>
                <a:lnTo>
                  <a:pt x="825" y="2901"/>
                </a:lnTo>
                <a:lnTo>
                  <a:pt x="822" y="2905"/>
                </a:lnTo>
                <a:lnTo>
                  <a:pt x="821" y="2907"/>
                </a:lnTo>
                <a:lnTo>
                  <a:pt x="819" y="2908"/>
                </a:lnTo>
                <a:lnTo>
                  <a:pt x="818" y="2908"/>
                </a:lnTo>
                <a:lnTo>
                  <a:pt x="817" y="2908"/>
                </a:lnTo>
                <a:lnTo>
                  <a:pt x="816" y="2907"/>
                </a:lnTo>
                <a:lnTo>
                  <a:pt x="815" y="2905"/>
                </a:lnTo>
                <a:lnTo>
                  <a:pt x="815" y="2903"/>
                </a:lnTo>
                <a:lnTo>
                  <a:pt x="814" y="2898"/>
                </a:lnTo>
                <a:lnTo>
                  <a:pt x="813" y="2879"/>
                </a:lnTo>
                <a:lnTo>
                  <a:pt x="813" y="2868"/>
                </a:lnTo>
                <a:lnTo>
                  <a:pt x="817" y="2868"/>
                </a:lnTo>
                <a:lnTo>
                  <a:pt x="824" y="2864"/>
                </a:lnTo>
                <a:lnTo>
                  <a:pt x="842" y="2856"/>
                </a:lnTo>
                <a:lnTo>
                  <a:pt x="882" y="2833"/>
                </a:lnTo>
                <a:lnTo>
                  <a:pt x="912" y="2821"/>
                </a:lnTo>
                <a:lnTo>
                  <a:pt x="911" y="2818"/>
                </a:lnTo>
                <a:lnTo>
                  <a:pt x="906" y="2791"/>
                </a:lnTo>
                <a:lnTo>
                  <a:pt x="890" y="2699"/>
                </a:lnTo>
                <a:lnTo>
                  <a:pt x="878" y="2630"/>
                </a:lnTo>
                <a:lnTo>
                  <a:pt x="878" y="2626"/>
                </a:lnTo>
                <a:lnTo>
                  <a:pt x="890" y="2613"/>
                </a:lnTo>
                <a:lnTo>
                  <a:pt x="912" y="2595"/>
                </a:lnTo>
                <a:lnTo>
                  <a:pt x="931" y="2588"/>
                </a:lnTo>
                <a:lnTo>
                  <a:pt x="946" y="2584"/>
                </a:lnTo>
                <a:lnTo>
                  <a:pt x="954" y="2580"/>
                </a:lnTo>
                <a:lnTo>
                  <a:pt x="959" y="2575"/>
                </a:lnTo>
                <a:lnTo>
                  <a:pt x="964" y="2566"/>
                </a:lnTo>
                <a:lnTo>
                  <a:pt x="969" y="2554"/>
                </a:lnTo>
                <a:lnTo>
                  <a:pt x="972" y="2535"/>
                </a:lnTo>
                <a:lnTo>
                  <a:pt x="942" y="2493"/>
                </a:lnTo>
                <a:lnTo>
                  <a:pt x="898" y="2407"/>
                </a:lnTo>
                <a:lnTo>
                  <a:pt x="872" y="2321"/>
                </a:lnTo>
                <a:lnTo>
                  <a:pt x="862" y="2234"/>
                </a:lnTo>
                <a:lnTo>
                  <a:pt x="880" y="2047"/>
                </a:lnTo>
                <a:lnTo>
                  <a:pt x="890" y="199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41"/>
          <p:cNvSpPr/>
          <p:nvPr/>
        </p:nvSpPr>
        <p:spPr>
          <a:xfrm>
            <a:off x="2554200" y="23760"/>
            <a:ext cx="2005200" cy="2622600"/>
          </a:xfrm>
          <a:custGeom>
            <a:avLst/>
            <a:gdLst>
              <a:gd name="textAreaLeft" fmla="*/ 0 w 2005200"/>
              <a:gd name="textAreaRight" fmla="*/ 2005560 w 2005200"/>
              <a:gd name="textAreaTop" fmla="*/ 0 h 2622600"/>
              <a:gd name="textAreaBottom" fmla="*/ 2622960 h 2622600"/>
            </a:gdLst>
            <a:ahLst/>
            <a:rect l="textAreaLeft" t="textAreaTop" r="textAreaRight" b="textAreaBottom"/>
            <a:pathLst>
              <a:path w="2526" h="3304">
                <a:moveTo>
                  <a:pt x="890" y="1996"/>
                </a:moveTo>
                <a:lnTo>
                  <a:pt x="889" y="1959"/>
                </a:lnTo>
                <a:lnTo>
                  <a:pt x="893" y="1932"/>
                </a:lnTo>
                <a:lnTo>
                  <a:pt x="902" y="1913"/>
                </a:lnTo>
                <a:lnTo>
                  <a:pt x="915" y="1901"/>
                </a:lnTo>
                <a:lnTo>
                  <a:pt x="930" y="1894"/>
                </a:lnTo>
                <a:lnTo>
                  <a:pt x="948" y="1889"/>
                </a:lnTo>
                <a:lnTo>
                  <a:pt x="990" y="1880"/>
                </a:lnTo>
                <a:lnTo>
                  <a:pt x="1034" y="1860"/>
                </a:lnTo>
                <a:lnTo>
                  <a:pt x="1076" y="1810"/>
                </a:lnTo>
                <a:lnTo>
                  <a:pt x="1065" y="1791"/>
                </a:lnTo>
                <a:lnTo>
                  <a:pt x="1054" y="1752"/>
                </a:lnTo>
                <a:lnTo>
                  <a:pt x="1056" y="1713"/>
                </a:lnTo>
                <a:lnTo>
                  <a:pt x="1066" y="1674"/>
                </a:lnTo>
                <a:lnTo>
                  <a:pt x="1099" y="1597"/>
                </a:lnTo>
                <a:lnTo>
                  <a:pt x="1108" y="1577"/>
                </a:lnTo>
                <a:lnTo>
                  <a:pt x="1103" y="1573"/>
                </a:lnTo>
                <a:lnTo>
                  <a:pt x="1088" y="1557"/>
                </a:lnTo>
                <a:lnTo>
                  <a:pt x="1076" y="1546"/>
                </a:lnTo>
                <a:lnTo>
                  <a:pt x="1076" y="1545"/>
                </a:lnTo>
                <a:lnTo>
                  <a:pt x="1081" y="1537"/>
                </a:lnTo>
                <a:lnTo>
                  <a:pt x="1092" y="1527"/>
                </a:lnTo>
                <a:lnTo>
                  <a:pt x="1121" y="1503"/>
                </a:lnTo>
                <a:lnTo>
                  <a:pt x="1191" y="1447"/>
                </a:lnTo>
                <a:lnTo>
                  <a:pt x="1226" y="1394"/>
                </a:lnTo>
                <a:lnTo>
                  <a:pt x="1226" y="1391"/>
                </a:lnTo>
                <a:lnTo>
                  <a:pt x="1228" y="1366"/>
                </a:lnTo>
                <a:lnTo>
                  <a:pt x="1235" y="1280"/>
                </a:lnTo>
                <a:lnTo>
                  <a:pt x="1239" y="1215"/>
                </a:lnTo>
                <a:lnTo>
                  <a:pt x="1240" y="1211"/>
                </a:lnTo>
                <a:lnTo>
                  <a:pt x="1241" y="1199"/>
                </a:lnTo>
                <a:lnTo>
                  <a:pt x="1247" y="1179"/>
                </a:lnTo>
                <a:lnTo>
                  <a:pt x="1258" y="1167"/>
                </a:lnTo>
                <a:lnTo>
                  <a:pt x="1270" y="1158"/>
                </a:lnTo>
                <a:lnTo>
                  <a:pt x="1280" y="1148"/>
                </a:lnTo>
                <a:lnTo>
                  <a:pt x="1288" y="1135"/>
                </a:lnTo>
                <a:lnTo>
                  <a:pt x="1290" y="1125"/>
                </a:lnTo>
                <a:lnTo>
                  <a:pt x="1289" y="1122"/>
                </a:lnTo>
                <a:lnTo>
                  <a:pt x="1282" y="1102"/>
                </a:lnTo>
                <a:lnTo>
                  <a:pt x="1258" y="1029"/>
                </a:lnTo>
                <a:lnTo>
                  <a:pt x="1240" y="974"/>
                </a:lnTo>
                <a:lnTo>
                  <a:pt x="1240" y="969"/>
                </a:lnTo>
                <a:lnTo>
                  <a:pt x="1241" y="968"/>
                </a:lnTo>
                <a:lnTo>
                  <a:pt x="1250" y="955"/>
                </a:lnTo>
                <a:lnTo>
                  <a:pt x="1282" y="912"/>
                </a:lnTo>
                <a:lnTo>
                  <a:pt x="1305" y="880"/>
                </a:lnTo>
                <a:lnTo>
                  <a:pt x="1307" y="878"/>
                </a:lnTo>
                <a:lnTo>
                  <a:pt x="1309" y="878"/>
                </a:lnTo>
                <a:lnTo>
                  <a:pt x="1316" y="877"/>
                </a:lnTo>
                <a:lnTo>
                  <a:pt x="1344" y="872"/>
                </a:lnTo>
                <a:lnTo>
                  <a:pt x="1365" y="869"/>
                </a:lnTo>
                <a:lnTo>
                  <a:pt x="1367" y="868"/>
                </a:lnTo>
                <a:lnTo>
                  <a:pt x="1369" y="866"/>
                </a:lnTo>
                <a:lnTo>
                  <a:pt x="1380" y="845"/>
                </a:lnTo>
                <a:lnTo>
                  <a:pt x="1421" y="777"/>
                </a:lnTo>
                <a:lnTo>
                  <a:pt x="1452" y="724"/>
                </a:lnTo>
                <a:lnTo>
                  <a:pt x="1454" y="721"/>
                </a:lnTo>
                <a:lnTo>
                  <a:pt x="1467" y="731"/>
                </a:lnTo>
                <a:lnTo>
                  <a:pt x="1495" y="748"/>
                </a:lnTo>
                <a:lnTo>
                  <a:pt x="1553" y="770"/>
                </a:lnTo>
                <a:lnTo>
                  <a:pt x="1585" y="770"/>
                </a:lnTo>
                <a:lnTo>
                  <a:pt x="1619" y="761"/>
                </a:lnTo>
                <a:lnTo>
                  <a:pt x="1639" y="751"/>
                </a:lnTo>
                <a:lnTo>
                  <a:pt x="1638" y="746"/>
                </a:lnTo>
                <a:lnTo>
                  <a:pt x="1635" y="736"/>
                </a:lnTo>
                <a:lnTo>
                  <a:pt x="1625" y="709"/>
                </a:lnTo>
                <a:lnTo>
                  <a:pt x="1600" y="644"/>
                </a:lnTo>
                <a:lnTo>
                  <a:pt x="1587" y="611"/>
                </a:lnTo>
                <a:lnTo>
                  <a:pt x="1595" y="603"/>
                </a:lnTo>
                <a:lnTo>
                  <a:pt x="1615" y="583"/>
                </a:lnTo>
                <a:lnTo>
                  <a:pt x="1663" y="542"/>
                </a:lnTo>
                <a:lnTo>
                  <a:pt x="1709" y="508"/>
                </a:lnTo>
                <a:lnTo>
                  <a:pt x="1718" y="503"/>
                </a:lnTo>
                <a:lnTo>
                  <a:pt x="1729" y="513"/>
                </a:lnTo>
                <a:lnTo>
                  <a:pt x="1749" y="527"/>
                </a:lnTo>
                <a:lnTo>
                  <a:pt x="1791" y="550"/>
                </a:lnTo>
                <a:lnTo>
                  <a:pt x="1856" y="604"/>
                </a:lnTo>
                <a:lnTo>
                  <a:pt x="1880" y="627"/>
                </a:lnTo>
                <a:lnTo>
                  <a:pt x="1881" y="627"/>
                </a:lnTo>
                <a:lnTo>
                  <a:pt x="1893" y="623"/>
                </a:lnTo>
                <a:lnTo>
                  <a:pt x="1933" y="608"/>
                </a:lnTo>
                <a:lnTo>
                  <a:pt x="1963" y="597"/>
                </a:lnTo>
                <a:lnTo>
                  <a:pt x="1965" y="596"/>
                </a:lnTo>
                <a:lnTo>
                  <a:pt x="1972" y="602"/>
                </a:lnTo>
                <a:lnTo>
                  <a:pt x="1996" y="617"/>
                </a:lnTo>
                <a:lnTo>
                  <a:pt x="2015" y="629"/>
                </a:lnTo>
                <a:lnTo>
                  <a:pt x="2016" y="629"/>
                </a:lnTo>
                <a:lnTo>
                  <a:pt x="2024" y="629"/>
                </a:lnTo>
                <a:lnTo>
                  <a:pt x="2048" y="628"/>
                </a:lnTo>
                <a:lnTo>
                  <a:pt x="2068" y="627"/>
                </a:lnTo>
                <a:lnTo>
                  <a:pt x="2069" y="626"/>
                </a:lnTo>
                <a:lnTo>
                  <a:pt x="2069" y="624"/>
                </a:lnTo>
                <a:lnTo>
                  <a:pt x="2076" y="604"/>
                </a:lnTo>
                <a:lnTo>
                  <a:pt x="2102" y="535"/>
                </a:lnTo>
                <a:lnTo>
                  <a:pt x="2121" y="482"/>
                </a:lnTo>
                <a:lnTo>
                  <a:pt x="2122" y="479"/>
                </a:lnTo>
                <a:lnTo>
                  <a:pt x="2118" y="465"/>
                </a:lnTo>
                <a:lnTo>
                  <a:pt x="2106" y="420"/>
                </a:lnTo>
                <a:lnTo>
                  <a:pt x="2097" y="387"/>
                </a:lnTo>
                <a:lnTo>
                  <a:pt x="2097" y="385"/>
                </a:lnTo>
                <a:lnTo>
                  <a:pt x="2104" y="367"/>
                </a:lnTo>
                <a:lnTo>
                  <a:pt x="2128" y="313"/>
                </a:lnTo>
                <a:lnTo>
                  <a:pt x="2146" y="273"/>
                </a:lnTo>
                <a:lnTo>
                  <a:pt x="2147" y="270"/>
                </a:lnTo>
                <a:lnTo>
                  <a:pt x="2148" y="269"/>
                </a:lnTo>
                <a:lnTo>
                  <a:pt x="2161" y="260"/>
                </a:lnTo>
                <a:lnTo>
                  <a:pt x="2206" y="233"/>
                </a:lnTo>
                <a:lnTo>
                  <a:pt x="2240" y="211"/>
                </a:lnTo>
                <a:lnTo>
                  <a:pt x="2243" y="209"/>
                </a:lnTo>
                <a:lnTo>
                  <a:pt x="2245" y="211"/>
                </a:lnTo>
                <a:lnTo>
                  <a:pt x="2260" y="221"/>
                </a:lnTo>
                <a:lnTo>
                  <a:pt x="2313" y="254"/>
                </a:lnTo>
                <a:lnTo>
                  <a:pt x="2353" y="280"/>
                </a:lnTo>
                <a:lnTo>
                  <a:pt x="2356" y="281"/>
                </a:lnTo>
                <a:lnTo>
                  <a:pt x="2364" y="282"/>
                </a:lnTo>
                <a:lnTo>
                  <a:pt x="2389" y="283"/>
                </a:lnTo>
                <a:lnTo>
                  <a:pt x="2409" y="284"/>
                </a:lnTo>
                <a:lnTo>
                  <a:pt x="2411" y="284"/>
                </a:lnTo>
                <a:lnTo>
                  <a:pt x="2410" y="287"/>
                </a:lnTo>
                <a:lnTo>
                  <a:pt x="2403" y="301"/>
                </a:lnTo>
                <a:lnTo>
                  <a:pt x="2384" y="351"/>
                </a:lnTo>
                <a:lnTo>
                  <a:pt x="2369" y="389"/>
                </a:lnTo>
                <a:lnTo>
                  <a:pt x="2369" y="391"/>
                </a:lnTo>
                <a:lnTo>
                  <a:pt x="2370" y="391"/>
                </a:lnTo>
                <a:lnTo>
                  <a:pt x="2380" y="388"/>
                </a:lnTo>
                <a:lnTo>
                  <a:pt x="2415" y="378"/>
                </a:lnTo>
                <a:lnTo>
                  <a:pt x="2441" y="369"/>
                </a:lnTo>
                <a:lnTo>
                  <a:pt x="2443" y="368"/>
                </a:lnTo>
                <a:lnTo>
                  <a:pt x="2444" y="367"/>
                </a:lnTo>
                <a:lnTo>
                  <a:pt x="2456" y="353"/>
                </a:lnTo>
                <a:lnTo>
                  <a:pt x="2495" y="307"/>
                </a:lnTo>
                <a:lnTo>
                  <a:pt x="2524" y="272"/>
                </a:lnTo>
                <a:lnTo>
                  <a:pt x="2526" y="270"/>
                </a:lnTo>
                <a:lnTo>
                  <a:pt x="2512" y="258"/>
                </a:lnTo>
                <a:lnTo>
                  <a:pt x="2499" y="251"/>
                </a:lnTo>
                <a:lnTo>
                  <a:pt x="2487" y="248"/>
                </a:lnTo>
                <a:lnTo>
                  <a:pt x="2476" y="247"/>
                </a:lnTo>
                <a:lnTo>
                  <a:pt x="2466" y="248"/>
                </a:lnTo>
                <a:lnTo>
                  <a:pt x="2446" y="250"/>
                </a:lnTo>
                <a:lnTo>
                  <a:pt x="2436" y="249"/>
                </a:lnTo>
                <a:lnTo>
                  <a:pt x="2426" y="245"/>
                </a:lnTo>
                <a:lnTo>
                  <a:pt x="2415" y="238"/>
                </a:lnTo>
                <a:lnTo>
                  <a:pt x="2404" y="226"/>
                </a:lnTo>
                <a:lnTo>
                  <a:pt x="2394" y="206"/>
                </a:lnTo>
                <a:lnTo>
                  <a:pt x="2398" y="200"/>
                </a:lnTo>
                <a:lnTo>
                  <a:pt x="2406" y="195"/>
                </a:lnTo>
                <a:lnTo>
                  <a:pt x="2413" y="191"/>
                </a:lnTo>
                <a:lnTo>
                  <a:pt x="2429" y="183"/>
                </a:lnTo>
                <a:lnTo>
                  <a:pt x="2436" y="179"/>
                </a:lnTo>
                <a:lnTo>
                  <a:pt x="2442" y="174"/>
                </a:lnTo>
                <a:lnTo>
                  <a:pt x="2445" y="167"/>
                </a:lnTo>
                <a:lnTo>
                  <a:pt x="2446" y="157"/>
                </a:lnTo>
                <a:lnTo>
                  <a:pt x="2443" y="146"/>
                </a:lnTo>
                <a:lnTo>
                  <a:pt x="2437" y="132"/>
                </a:lnTo>
                <a:lnTo>
                  <a:pt x="2427" y="113"/>
                </a:lnTo>
                <a:lnTo>
                  <a:pt x="2428" y="113"/>
                </a:lnTo>
                <a:lnTo>
                  <a:pt x="2441" y="109"/>
                </a:lnTo>
                <a:lnTo>
                  <a:pt x="2486" y="94"/>
                </a:lnTo>
                <a:lnTo>
                  <a:pt x="2520" y="83"/>
                </a:lnTo>
                <a:lnTo>
                  <a:pt x="2522" y="82"/>
                </a:lnTo>
                <a:lnTo>
                  <a:pt x="2490" y="55"/>
                </a:lnTo>
                <a:lnTo>
                  <a:pt x="2432" y="16"/>
                </a:lnTo>
                <a:lnTo>
                  <a:pt x="2381" y="0"/>
                </a:lnTo>
                <a:lnTo>
                  <a:pt x="2357" y="0"/>
                </a:lnTo>
                <a:lnTo>
                  <a:pt x="2335" y="6"/>
                </a:lnTo>
                <a:lnTo>
                  <a:pt x="2314" y="18"/>
                </a:lnTo>
                <a:lnTo>
                  <a:pt x="2295" y="36"/>
                </a:lnTo>
                <a:lnTo>
                  <a:pt x="2277" y="61"/>
                </a:lnTo>
                <a:lnTo>
                  <a:pt x="2245" y="129"/>
                </a:lnTo>
                <a:lnTo>
                  <a:pt x="2244" y="127"/>
                </a:lnTo>
                <a:lnTo>
                  <a:pt x="2239" y="114"/>
                </a:lnTo>
                <a:lnTo>
                  <a:pt x="2224" y="65"/>
                </a:lnTo>
                <a:lnTo>
                  <a:pt x="2213" y="28"/>
                </a:lnTo>
                <a:lnTo>
                  <a:pt x="2213" y="25"/>
                </a:lnTo>
                <a:lnTo>
                  <a:pt x="2190" y="17"/>
                </a:lnTo>
                <a:lnTo>
                  <a:pt x="2173" y="15"/>
                </a:lnTo>
                <a:lnTo>
                  <a:pt x="2167" y="15"/>
                </a:lnTo>
                <a:lnTo>
                  <a:pt x="2162" y="16"/>
                </a:lnTo>
                <a:lnTo>
                  <a:pt x="2159" y="19"/>
                </a:lnTo>
                <a:lnTo>
                  <a:pt x="2156" y="22"/>
                </a:lnTo>
                <a:lnTo>
                  <a:pt x="2155" y="26"/>
                </a:lnTo>
                <a:lnTo>
                  <a:pt x="2154" y="31"/>
                </a:lnTo>
                <a:lnTo>
                  <a:pt x="2152" y="43"/>
                </a:lnTo>
                <a:lnTo>
                  <a:pt x="2154" y="57"/>
                </a:lnTo>
                <a:lnTo>
                  <a:pt x="2156" y="87"/>
                </a:lnTo>
                <a:lnTo>
                  <a:pt x="2152" y="117"/>
                </a:lnTo>
                <a:lnTo>
                  <a:pt x="2147" y="129"/>
                </a:lnTo>
                <a:lnTo>
                  <a:pt x="2135" y="130"/>
                </a:lnTo>
                <a:lnTo>
                  <a:pt x="2118" y="133"/>
                </a:lnTo>
                <a:lnTo>
                  <a:pt x="2106" y="140"/>
                </a:lnTo>
                <a:lnTo>
                  <a:pt x="2096" y="147"/>
                </a:lnTo>
                <a:lnTo>
                  <a:pt x="2067" y="166"/>
                </a:lnTo>
                <a:lnTo>
                  <a:pt x="2056" y="169"/>
                </a:lnTo>
                <a:lnTo>
                  <a:pt x="2053" y="160"/>
                </a:lnTo>
                <a:lnTo>
                  <a:pt x="2052" y="148"/>
                </a:lnTo>
                <a:lnTo>
                  <a:pt x="2053" y="134"/>
                </a:lnTo>
                <a:lnTo>
                  <a:pt x="2056" y="103"/>
                </a:lnTo>
                <a:lnTo>
                  <a:pt x="2057" y="74"/>
                </a:lnTo>
                <a:lnTo>
                  <a:pt x="2056" y="61"/>
                </a:lnTo>
                <a:lnTo>
                  <a:pt x="2051" y="51"/>
                </a:lnTo>
                <a:lnTo>
                  <a:pt x="2043" y="43"/>
                </a:lnTo>
                <a:lnTo>
                  <a:pt x="2030" y="40"/>
                </a:lnTo>
                <a:lnTo>
                  <a:pt x="2014" y="41"/>
                </a:lnTo>
                <a:lnTo>
                  <a:pt x="1991" y="61"/>
                </a:lnTo>
                <a:lnTo>
                  <a:pt x="1958" y="91"/>
                </a:lnTo>
                <a:lnTo>
                  <a:pt x="1920" y="122"/>
                </a:lnTo>
                <a:lnTo>
                  <a:pt x="1899" y="128"/>
                </a:lnTo>
                <a:lnTo>
                  <a:pt x="1870" y="129"/>
                </a:lnTo>
                <a:lnTo>
                  <a:pt x="1850" y="129"/>
                </a:lnTo>
                <a:lnTo>
                  <a:pt x="1829" y="139"/>
                </a:lnTo>
                <a:lnTo>
                  <a:pt x="1793" y="166"/>
                </a:lnTo>
                <a:lnTo>
                  <a:pt x="1764" y="200"/>
                </a:lnTo>
                <a:lnTo>
                  <a:pt x="1742" y="239"/>
                </a:lnTo>
                <a:lnTo>
                  <a:pt x="1718" y="315"/>
                </a:lnTo>
                <a:lnTo>
                  <a:pt x="1718" y="331"/>
                </a:lnTo>
                <a:lnTo>
                  <a:pt x="1704" y="345"/>
                </a:lnTo>
                <a:lnTo>
                  <a:pt x="1684" y="364"/>
                </a:lnTo>
                <a:lnTo>
                  <a:pt x="1671" y="374"/>
                </a:lnTo>
                <a:lnTo>
                  <a:pt x="1665" y="378"/>
                </a:lnTo>
                <a:lnTo>
                  <a:pt x="1658" y="378"/>
                </a:lnTo>
                <a:lnTo>
                  <a:pt x="1652" y="378"/>
                </a:lnTo>
                <a:lnTo>
                  <a:pt x="1643" y="376"/>
                </a:lnTo>
                <a:lnTo>
                  <a:pt x="1619" y="367"/>
                </a:lnTo>
                <a:lnTo>
                  <a:pt x="1603" y="362"/>
                </a:lnTo>
                <a:lnTo>
                  <a:pt x="1580" y="384"/>
                </a:lnTo>
                <a:lnTo>
                  <a:pt x="1542" y="415"/>
                </a:lnTo>
                <a:lnTo>
                  <a:pt x="1492" y="463"/>
                </a:lnTo>
                <a:lnTo>
                  <a:pt x="1478" y="491"/>
                </a:lnTo>
                <a:lnTo>
                  <a:pt x="1472" y="526"/>
                </a:lnTo>
                <a:lnTo>
                  <a:pt x="1472" y="549"/>
                </a:lnTo>
                <a:lnTo>
                  <a:pt x="1432" y="588"/>
                </a:lnTo>
                <a:lnTo>
                  <a:pt x="1372" y="663"/>
                </a:lnTo>
                <a:lnTo>
                  <a:pt x="1289" y="796"/>
                </a:lnTo>
                <a:lnTo>
                  <a:pt x="1193" y="912"/>
                </a:lnTo>
                <a:lnTo>
                  <a:pt x="1158" y="939"/>
                </a:lnTo>
                <a:lnTo>
                  <a:pt x="1153" y="970"/>
                </a:lnTo>
                <a:lnTo>
                  <a:pt x="1140" y="1002"/>
                </a:lnTo>
                <a:lnTo>
                  <a:pt x="1120" y="1035"/>
                </a:lnTo>
                <a:lnTo>
                  <a:pt x="1070" y="1099"/>
                </a:lnTo>
                <a:lnTo>
                  <a:pt x="1021" y="1165"/>
                </a:lnTo>
                <a:lnTo>
                  <a:pt x="989" y="1232"/>
                </a:lnTo>
                <a:lnTo>
                  <a:pt x="984" y="1267"/>
                </a:lnTo>
                <a:lnTo>
                  <a:pt x="990" y="1302"/>
                </a:lnTo>
                <a:lnTo>
                  <a:pt x="1008" y="1335"/>
                </a:lnTo>
                <a:lnTo>
                  <a:pt x="985" y="1345"/>
                </a:lnTo>
                <a:lnTo>
                  <a:pt x="944" y="1369"/>
                </a:lnTo>
                <a:lnTo>
                  <a:pt x="915" y="1396"/>
                </a:lnTo>
                <a:lnTo>
                  <a:pt x="901" y="1431"/>
                </a:lnTo>
                <a:lnTo>
                  <a:pt x="902" y="1475"/>
                </a:lnTo>
                <a:lnTo>
                  <a:pt x="922" y="1530"/>
                </a:lnTo>
                <a:lnTo>
                  <a:pt x="942" y="1561"/>
                </a:lnTo>
                <a:lnTo>
                  <a:pt x="928" y="1575"/>
                </a:lnTo>
                <a:lnTo>
                  <a:pt x="899" y="1598"/>
                </a:lnTo>
                <a:lnTo>
                  <a:pt x="851" y="1642"/>
                </a:lnTo>
                <a:lnTo>
                  <a:pt x="845" y="1653"/>
                </a:lnTo>
                <a:lnTo>
                  <a:pt x="842" y="1664"/>
                </a:lnTo>
                <a:lnTo>
                  <a:pt x="844" y="1676"/>
                </a:lnTo>
                <a:lnTo>
                  <a:pt x="851" y="1689"/>
                </a:lnTo>
                <a:lnTo>
                  <a:pt x="862" y="1701"/>
                </a:lnTo>
                <a:lnTo>
                  <a:pt x="836" y="1718"/>
                </a:lnTo>
                <a:lnTo>
                  <a:pt x="777" y="1758"/>
                </a:lnTo>
                <a:lnTo>
                  <a:pt x="664" y="1856"/>
                </a:lnTo>
                <a:lnTo>
                  <a:pt x="625" y="1910"/>
                </a:lnTo>
                <a:lnTo>
                  <a:pt x="611" y="1965"/>
                </a:lnTo>
                <a:lnTo>
                  <a:pt x="616" y="1992"/>
                </a:lnTo>
                <a:lnTo>
                  <a:pt x="628" y="1982"/>
                </a:lnTo>
                <a:lnTo>
                  <a:pt x="662" y="1950"/>
                </a:lnTo>
                <a:lnTo>
                  <a:pt x="750" y="1883"/>
                </a:lnTo>
                <a:lnTo>
                  <a:pt x="770" y="1876"/>
                </a:lnTo>
                <a:lnTo>
                  <a:pt x="779" y="1875"/>
                </a:lnTo>
                <a:lnTo>
                  <a:pt x="787" y="1876"/>
                </a:lnTo>
                <a:lnTo>
                  <a:pt x="795" y="1879"/>
                </a:lnTo>
                <a:lnTo>
                  <a:pt x="800" y="1884"/>
                </a:lnTo>
                <a:lnTo>
                  <a:pt x="806" y="1893"/>
                </a:lnTo>
                <a:lnTo>
                  <a:pt x="810" y="1904"/>
                </a:lnTo>
                <a:lnTo>
                  <a:pt x="812" y="1918"/>
                </a:lnTo>
                <a:lnTo>
                  <a:pt x="813" y="1934"/>
                </a:lnTo>
                <a:lnTo>
                  <a:pt x="796" y="1958"/>
                </a:lnTo>
                <a:lnTo>
                  <a:pt x="765" y="1996"/>
                </a:lnTo>
                <a:lnTo>
                  <a:pt x="733" y="2025"/>
                </a:lnTo>
                <a:lnTo>
                  <a:pt x="697" y="2042"/>
                </a:lnTo>
                <a:lnTo>
                  <a:pt x="658" y="2047"/>
                </a:lnTo>
                <a:lnTo>
                  <a:pt x="609" y="2039"/>
                </a:lnTo>
                <a:lnTo>
                  <a:pt x="582" y="2029"/>
                </a:lnTo>
                <a:lnTo>
                  <a:pt x="537" y="2044"/>
                </a:lnTo>
                <a:lnTo>
                  <a:pt x="448" y="2085"/>
                </a:lnTo>
                <a:lnTo>
                  <a:pt x="266" y="2199"/>
                </a:lnTo>
                <a:lnTo>
                  <a:pt x="83" y="2337"/>
                </a:lnTo>
                <a:lnTo>
                  <a:pt x="39" y="2370"/>
                </a:lnTo>
                <a:lnTo>
                  <a:pt x="47" y="2389"/>
                </a:lnTo>
                <a:lnTo>
                  <a:pt x="60" y="2423"/>
                </a:lnTo>
                <a:lnTo>
                  <a:pt x="66" y="2456"/>
                </a:lnTo>
                <a:lnTo>
                  <a:pt x="61" y="2489"/>
                </a:lnTo>
                <a:lnTo>
                  <a:pt x="47" y="2521"/>
                </a:lnTo>
                <a:lnTo>
                  <a:pt x="23" y="2555"/>
                </a:lnTo>
                <a:lnTo>
                  <a:pt x="6" y="2572"/>
                </a:lnTo>
                <a:lnTo>
                  <a:pt x="9" y="2588"/>
                </a:lnTo>
                <a:lnTo>
                  <a:pt x="10" y="2624"/>
                </a:lnTo>
                <a:lnTo>
                  <a:pt x="8" y="2661"/>
                </a:lnTo>
                <a:lnTo>
                  <a:pt x="0" y="2732"/>
                </a:lnTo>
                <a:lnTo>
                  <a:pt x="6" y="2774"/>
                </a:lnTo>
                <a:lnTo>
                  <a:pt x="53" y="2776"/>
                </a:lnTo>
                <a:lnTo>
                  <a:pt x="86" y="2782"/>
                </a:lnTo>
                <a:lnTo>
                  <a:pt x="106" y="2791"/>
                </a:lnTo>
                <a:lnTo>
                  <a:pt x="113" y="2797"/>
                </a:lnTo>
                <a:lnTo>
                  <a:pt x="117" y="2803"/>
                </a:lnTo>
                <a:lnTo>
                  <a:pt x="118" y="2810"/>
                </a:lnTo>
                <a:lnTo>
                  <a:pt x="117" y="2819"/>
                </a:lnTo>
                <a:lnTo>
                  <a:pt x="115" y="2827"/>
                </a:lnTo>
                <a:lnTo>
                  <a:pt x="111" y="2836"/>
                </a:lnTo>
                <a:lnTo>
                  <a:pt x="98" y="2854"/>
                </a:lnTo>
                <a:lnTo>
                  <a:pt x="62" y="2896"/>
                </a:lnTo>
                <a:lnTo>
                  <a:pt x="22" y="2940"/>
                </a:lnTo>
                <a:lnTo>
                  <a:pt x="6" y="2961"/>
                </a:lnTo>
                <a:lnTo>
                  <a:pt x="16" y="2972"/>
                </a:lnTo>
                <a:lnTo>
                  <a:pt x="34" y="2987"/>
                </a:lnTo>
                <a:lnTo>
                  <a:pt x="41" y="2991"/>
                </a:lnTo>
                <a:lnTo>
                  <a:pt x="47" y="2993"/>
                </a:lnTo>
                <a:lnTo>
                  <a:pt x="55" y="2993"/>
                </a:lnTo>
                <a:lnTo>
                  <a:pt x="61" y="2991"/>
                </a:lnTo>
                <a:lnTo>
                  <a:pt x="69" y="2988"/>
                </a:lnTo>
                <a:lnTo>
                  <a:pt x="90" y="2978"/>
                </a:lnTo>
                <a:lnTo>
                  <a:pt x="120" y="2961"/>
                </a:lnTo>
                <a:lnTo>
                  <a:pt x="126" y="2982"/>
                </a:lnTo>
                <a:lnTo>
                  <a:pt x="130" y="3015"/>
                </a:lnTo>
                <a:lnTo>
                  <a:pt x="122" y="3043"/>
                </a:lnTo>
                <a:lnTo>
                  <a:pt x="108" y="3065"/>
                </a:lnTo>
                <a:lnTo>
                  <a:pt x="89" y="3086"/>
                </a:lnTo>
                <a:lnTo>
                  <a:pt x="67" y="3106"/>
                </a:lnTo>
                <a:lnTo>
                  <a:pt x="56" y="3117"/>
                </a:lnTo>
                <a:lnTo>
                  <a:pt x="57" y="3157"/>
                </a:lnTo>
                <a:lnTo>
                  <a:pt x="73" y="3212"/>
                </a:lnTo>
                <a:lnTo>
                  <a:pt x="100" y="3241"/>
                </a:lnTo>
                <a:lnTo>
                  <a:pt x="136" y="3257"/>
                </a:lnTo>
                <a:lnTo>
                  <a:pt x="176" y="3269"/>
                </a:lnTo>
                <a:lnTo>
                  <a:pt x="216" y="3288"/>
                </a:lnTo>
                <a:lnTo>
                  <a:pt x="236" y="3304"/>
                </a:lnTo>
                <a:lnTo>
                  <a:pt x="269" y="3300"/>
                </a:lnTo>
                <a:lnTo>
                  <a:pt x="305" y="3290"/>
                </a:lnTo>
                <a:lnTo>
                  <a:pt x="379" y="3253"/>
                </a:lnTo>
                <a:lnTo>
                  <a:pt x="452" y="3201"/>
                </a:lnTo>
                <a:lnTo>
                  <a:pt x="582" y="3086"/>
                </a:lnTo>
                <a:lnTo>
                  <a:pt x="632" y="3039"/>
                </a:lnTo>
                <a:lnTo>
                  <a:pt x="632" y="3037"/>
                </a:lnTo>
                <a:lnTo>
                  <a:pt x="639" y="3017"/>
                </a:lnTo>
                <a:lnTo>
                  <a:pt x="662" y="2952"/>
                </a:lnTo>
                <a:lnTo>
                  <a:pt x="680" y="2902"/>
                </a:lnTo>
                <a:lnTo>
                  <a:pt x="681" y="2899"/>
                </a:lnTo>
                <a:lnTo>
                  <a:pt x="689" y="2914"/>
                </a:lnTo>
                <a:lnTo>
                  <a:pt x="711" y="2960"/>
                </a:lnTo>
                <a:lnTo>
                  <a:pt x="729" y="2996"/>
                </a:lnTo>
                <a:lnTo>
                  <a:pt x="730" y="2997"/>
                </a:lnTo>
                <a:lnTo>
                  <a:pt x="732" y="2998"/>
                </a:lnTo>
                <a:lnTo>
                  <a:pt x="742" y="3005"/>
                </a:lnTo>
                <a:lnTo>
                  <a:pt x="779" y="3026"/>
                </a:lnTo>
                <a:lnTo>
                  <a:pt x="807" y="3043"/>
                </a:lnTo>
                <a:lnTo>
                  <a:pt x="809" y="3043"/>
                </a:lnTo>
                <a:lnTo>
                  <a:pt x="817" y="2984"/>
                </a:lnTo>
                <a:lnTo>
                  <a:pt x="827" y="2916"/>
                </a:lnTo>
                <a:lnTo>
                  <a:pt x="829" y="2902"/>
                </a:lnTo>
                <a:lnTo>
                  <a:pt x="829" y="2899"/>
                </a:lnTo>
                <a:lnTo>
                  <a:pt x="829" y="2898"/>
                </a:lnTo>
                <a:lnTo>
                  <a:pt x="828" y="2897"/>
                </a:lnTo>
                <a:lnTo>
                  <a:pt x="827" y="2898"/>
                </a:lnTo>
                <a:lnTo>
                  <a:pt x="826" y="2899"/>
                </a:lnTo>
                <a:lnTo>
                  <a:pt x="825" y="2901"/>
                </a:lnTo>
                <a:lnTo>
                  <a:pt x="822" y="2905"/>
                </a:lnTo>
                <a:lnTo>
                  <a:pt x="821" y="2907"/>
                </a:lnTo>
                <a:lnTo>
                  <a:pt x="819" y="2908"/>
                </a:lnTo>
                <a:lnTo>
                  <a:pt x="818" y="2908"/>
                </a:lnTo>
                <a:lnTo>
                  <a:pt x="817" y="2908"/>
                </a:lnTo>
                <a:lnTo>
                  <a:pt x="816" y="2907"/>
                </a:lnTo>
                <a:lnTo>
                  <a:pt x="815" y="2905"/>
                </a:lnTo>
                <a:lnTo>
                  <a:pt x="815" y="2903"/>
                </a:lnTo>
                <a:lnTo>
                  <a:pt x="814" y="2898"/>
                </a:lnTo>
                <a:lnTo>
                  <a:pt x="813" y="2879"/>
                </a:lnTo>
                <a:lnTo>
                  <a:pt x="813" y="2868"/>
                </a:lnTo>
                <a:lnTo>
                  <a:pt x="817" y="2868"/>
                </a:lnTo>
                <a:lnTo>
                  <a:pt x="824" y="2864"/>
                </a:lnTo>
                <a:lnTo>
                  <a:pt x="842" y="2856"/>
                </a:lnTo>
                <a:lnTo>
                  <a:pt x="882" y="2833"/>
                </a:lnTo>
                <a:lnTo>
                  <a:pt x="912" y="2821"/>
                </a:lnTo>
                <a:lnTo>
                  <a:pt x="911" y="2818"/>
                </a:lnTo>
                <a:lnTo>
                  <a:pt x="906" y="2791"/>
                </a:lnTo>
                <a:lnTo>
                  <a:pt x="890" y="2699"/>
                </a:lnTo>
                <a:lnTo>
                  <a:pt x="878" y="2630"/>
                </a:lnTo>
                <a:lnTo>
                  <a:pt x="878" y="2626"/>
                </a:lnTo>
                <a:lnTo>
                  <a:pt x="890" y="2613"/>
                </a:lnTo>
                <a:lnTo>
                  <a:pt x="912" y="2595"/>
                </a:lnTo>
                <a:lnTo>
                  <a:pt x="931" y="2588"/>
                </a:lnTo>
                <a:lnTo>
                  <a:pt x="946" y="2584"/>
                </a:lnTo>
                <a:lnTo>
                  <a:pt x="954" y="2580"/>
                </a:lnTo>
                <a:lnTo>
                  <a:pt x="959" y="2575"/>
                </a:lnTo>
                <a:lnTo>
                  <a:pt x="964" y="2566"/>
                </a:lnTo>
                <a:lnTo>
                  <a:pt x="969" y="2554"/>
                </a:lnTo>
                <a:lnTo>
                  <a:pt x="972" y="2535"/>
                </a:lnTo>
                <a:lnTo>
                  <a:pt x="942" y="2493"/>
                </a:lnTo>
                <a:lnTo>
                  <a:pt x="898" y="2407"/>
                </a:lnTo>
                <a:lnTo>
                  <a:pt x="872" y="2321"/>
                </a:lnTo>
                <a:lnTo>
                  <a:pt x="862" y="2234"/>
                </a:lnTo>
                <a:lnTo>
                  <a:pt x="880" y="2047"/>
                </a:lnTo>
                <a:lnTo>
                  <a:pt x="890" y="1996"/>
                </a:lnTo>
              </a:path>
            </a:pathLst>
          </a:custGeom>
          <a:solidFill>
            <a:srgbClr val="ffffff"/>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42"/>
          <p:cNvSpPr/>
          <p:nvPr/>
        </p:nvSpPr>
        <p:spPr>
          <a:xfrm>
            <a:off x="2816280" y="1577880"/>
            <a:ext cx="111240" cy="61920"/>
          </a:xfrm>
          <a:custGeom>
            <a:avLst/>
            <a:gdLst>
              <a:gd name="textAreaLeft" fmla="*/ 0 w 111240"/>
              <a:gd name="textAreaRight" fmla="*/ 111600 w 111240"/>
              <a:gd name="textAreaTop" fmla="*/ 0 h 61920"/>
              <a:gd name="textAreaBottom" fmla="*/ 62280 h 61920"/>
            </a:gdLst>
            <a:ahLst/>
            <a:rect l="textAreaLeft" t="textAreaTop" r="textAreaRight" b="textAreaBottom"/>
            <a:pathLst>
              <a:path w="142" h="77">
                <a:moveTo>
                  <a:pt x="93" y="23"/>
                </a:moveTo>
                <a:lnTo>
                  <a:pt x="80" y="27"/>
                </a:lnTo>
                <a:lnTo>
                  <a:pt x="62" y="29"/>
                </a:lnTo>
                <a:lnTo>
                  <a:pt x="48" y="28"/>
                </a:lnTo>
                <a:lnTo>
                  <a:pt x="37" y="29"/>
                </a:lnTo>
                <a:lnTo>
                  <a:pt x="30" y="32"/>
                </a:lnTo>
                <a:lnTo>
                  <a:pt x="25" y="37"/>
                </a:lnTo>
                <a:lnTo>
                  <a:pt x="18" y="46"/>
                </a:lnTo>
                <a:lnTo>
                  <a:pt x="0" y="73"/>
                </a:lnTo>
                <a:lnTo>
                  <a:pt x="8" y="76"/>
                </a:lnTo>
                <a:lnTo>
                  <a:pt x="18" y="77"/>
                </a:lnTo>
                <a:lnTo>
                  <a:pt x="43" y="75"/>
                </a:lnTo>
                <a:lnTo>
                  <a:pt x="100" y="65"/>
                </a:lnTo>
                <a:lnTo>
                  <a:pt x="142" y="51"/>
                </a:lnTo>
                <a:lnTo>
                  <a:pt x="133" y="51"/>
                </a:lnTo>
                <a:lnTo>
                  <a:pt x="128" y="50"/>
                </a:lnTo>
                <a:lnTo>
                  <a:pt x="125" y="48"/>
                </a:lnTo>
                <a:lnTo>
                  <a:pt x="124" y="45"/>
                </a:lnTo>
                <a:lnTo>
                  <a:pt x="124" y="42"/>
                </a:lnTo>
                <a:lnTo>
                  <a:pt x="125" y="37"/>
                </a:lnTo>
                <a:lnTo>
                  <a:pt x="126" y="27"/>
                </a:lnTo>
                <a:lnTo>
                  <a:pt x="126" y="15"/>
                </a:lnTo>
                <a:lnTo>
                  <a:pt x="118" y="0"/>
                </a:lnTo>
                <a:lnTo>
                  <a:pt x="114" y="1"/>
                </a:lnTo>
                <a:lnTo>
                  <a:pt x="107" y="2"/>
                </a:lnTo>
                <a:lnTo>
                  <a:pt x="101" y="4"/>
                </a:lnTo>
                <a:lnTo>
                  <a:pt x="98" y="8"/>
                </a:lnTo>
                <a:lnTo>
                  <a:pt x="95" y="13"/>
                </a:lnTo>
                <a:lnTo>
                  <a:pt x="93" y="19"/>
                </a:lnTo>
                <a:lnTo>
                  <a:pt x="93" y="23"/>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04" name="Freeform 143"/>
          <p:cNvSpPr/>
          <p:nvPr/>
        </p:nvSpPr>
        <p:spPr>
          <a:xfrm>
            <a:off x="2816280" y="1577880"/>
            <a:ext cx="111240" cy="61920"/>
          </a:xfrm>
          <a:custGeom>
            <a:avLst/>
            <a:gdLst>
              <a:gd name="textAreaLeft" fmla="*/ 0 w 111240"/>
              <a:gd name="textAreaRight" fmla="*/ 111600 w 111240"/>
              <a:gd name="textAreaTop" fmla="*/ 0 h 61920"/>
              <a:gd name="textAreaBottom" fmla="*/ 62280 h 61920"/>
            </a:gdLst>
            <a:ahLst/>
            <a:rect l="textAreaLeft" t="textAreaTop" r="textAreaRight" b="textAreaBottom"/>
            <a:pathLst>
              <a:path w="142" h="77">
                <a:moveTo>
                  <a:pt x="93" y="23"/>
                </a:moveTo>
                <a:lnTo>
                  <a:pt x="80" y="27"/>
                </a:lnTo>
                <a:lnTo>
                  <a:pt x="62" y="29"/>
                </a:lnTo>
                <a:lnTo>
                  <a:pt x="48" y="28"/>
                </a:lnTo>
                <a:lnTo>
                  <a:pt x="37" y="29"/>
                </a:lnTo>
                <a:lnTo>
                  <a:pt x="30" y="32"/>
                </a:lnTo>
                <a:lnTo>
                  <a:pt x="25" y="37"/>
                </a:lnTo>
                <a:lnTo>
                  <a:pt x="18" y="46"/>
                </a:lnTo>
                <a:lnTo>
                  <a:pt x="0" y="73"/>
                </a:lnTo>
                <a:lnTo>
                  <a:pt x="8" y="76"/>
                </a:lnTo>
                <a:lnTo>
                  <a:pt x="18" y="77"/>
                </a:lnTo>
                <a:lnTo>
                  <a:pt x="43" y="75"/>
                </a:lnTo>
                <a:lnTo>
                  <a:pt x="100" y="65"/>
                </a:lnTo>
                <a:lnTo>
                  <a:pt x="142" y="51"/>
                </a:lnTo>
                <a:lnTo>
                  <a:pt x="133" y="51"/>
                </a:lnTo>
                <a:lnTo>
                  <a:pt x="128" y="50"/>
                </a:lnTo>
                <a:lnTo>
                  <a:pt x="125" y="48"/>
                </a:lnTo>
                <a:lnTo>
                  <a:pt x="124" y="45"/>
                </a:lnTo>
                <a:lnTo>
                  <a:pt x="124" y="42"/>
                </a:lnTo>
                <a:lnTo>
                  <a:pt x="125" y="37"/>
                </a:lnTo>
                <a:lnTo>
                  <a:pt x="126" y="27"/>
                </a:lnTo>
                <a:lnTo>
                  <a:pt x="126" y="15"/>
                </a:lnTo>
                <a:lnTo>
                  <a:pt x="118" y="0"/>
                </a:lnTo>
                <a:lnTo>
                  <a:pt x="114" y="1"/>
                </a:lnTo>
                <a:lnTo>
                  <a:pt x="107" y="2"/>
                </a:lnTo>
                <a:lnTo>
                  <a:pt x="101" y="4"/>
                </a:lnTo>
                <a:lnTo>
                  <a:pt x="98" y="8"/>
                </a:lnTo>
                <a:lnTo>
                  <a:pt x="95" y="13"/>
                </a:lnTo>
                <a:lnTo>
                  <a:pt x="93" y="19"/>
                </a:lnTo>
                <a:lnTo>
                  <a:pt x="93" y="23"/>
                </a:lnTo>
              </a:path>
            </a:pathLst>
          </a:custGeom>
          <a:noFill/>
          <a:ln w="6480">
            <a:solidFill>
              <a:srgbClr val="1f1a17"/>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05" name="Freeform 144"/>
          <p:cNvSpPr/>
          <p:nvPr/>
        </p:nvSpPr>
        <p:spPr>
          <a:xfrm>
            <a:off x="2948040" y="1535040"/>
            <a:ext cx="49320" cy="49320"/>
          </a:xfrm>
          <a:custGeom>
            <a:avLst/>
            <a:gdLst>
              <a:gd name="textAreaLeft" fmla="*/ 0 w 49320"/>
              <a:gd name="textAreaRight" fmla="*/ 49680 w 49320"/>
              <a:gd name="textAreaTop" fmla="*/ 0 h 49320"/>
              <a:gd name="textAreaBottom" fmla="*/ 49680 h 49320"/>
            </a:gdLst>
            <a:ahLst/>
            <a:rect l="textAreaLeft" t="textAreaTop" r="textAreaRight" b="textAreaBottom"/>
            <a:pathLst>
              <a:path w="63" h="62">
                <a:moveTo>
                  <a:pt x="4" y="15"/>
                </a:moveTo>
                <a:lnTo>
                  <a:pt x="1" y="10"/>
                </a:lnTo>
                <a:lnTo>
                  <a:pt x="0" y="13"/>
                </a:lnTo>
                <a:lnTo>
                  <a:pt x="1" y="18"/>
                </a:lnTo>
                <a:lnTo>
                  <a:pt x="4" y="34"/>
                </a:lnTo>
                <a:lnTo>
                  <a:pt x="9" y="52"/>
                </a:lnTo>
                <a:lnTo>
                  <a:pt x="12" y="58"/>
                </a:lnTo>
                <a:lnTo>
                  <a:pt x="16" y="62"/>
                </a:lnTo>
                <a:lnTo>
                  <a:pt x="20" y="62"/>
                </a:lnTo>
                <a:lnTo>
                  <a:pt x="24" y="58"/>
                </a:lnTo>
                <a:lnTo>
                  <a:pt x="33" y="50"/>
                </a:lnTo>
                <a:lnTo>
                  <a:pt x="48" y="36"/>
                </a:lnTo>
                <a:lnTo>
                  <a:pt x="59" y="27"/>
                </a:lnTo>
                <a:lnTo>
                  <a:pt x="62" y="24"/>
                </a:lnTo>
                <a:lnTo>
                  <a:pt x="63" y="20"/>
                </a:lnTo>
                <a:lnTo>
                  <a:pt x="63" y="17"/>
                </a:lnTo>
                <a:lnTo>
                  <a:pt x="62" y="14"/>
                </a:lnTo>
                <a:lnTo>
                  <a:pt x="58" y="10"/>
                </a:lnTo>
                <a:lnTo>
                  <a:pt x="52" y="6"/>
                </a:lnTo>
                <a:lnTo>
                  <a:pt x="45" y="0"/>
                </a:lnTo>
                <a:lnTo>
                  <a:pt x="44" y="1"/>
                </a:lnTo>
                <a:lnTo>
                  <a:pt x="43" y="2"/>
                </a:lnTo>
                <a:lnTo>
                  <a:pt x="35" y="4"/>
                </a:lnTo>
                <a:lnTo>
                  <a:pt x="17" y="11"/>
                </a:lnTo>
                <a:lnTo>
                  <a:pt x="4" y="15"/>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6" name="Freeform 145"/>
          <p:cNvSpPr/>
          <p:nvPr/>
        </p:nvSpPr>
        <p:spPr>
          <a:xfrm>
            <a:off x="2948040" y="1535040"/>
            <a:ext cx="49320" cy="49320"/>
          </a:xfrm>
          <a:custGeom>
            <a:avLst/>
            <a:gdLst>
              <a:gd name="textAreaLeft" fmla="*/ 0 w 49320"/>
              <a:gd name="textAreaRight" fmla="*/ 49680 w 49320"/>
              <a:gd name="textAreaTop" fmla="*/ 0 h 49320"/>
              <a:gd name="textAreaBottom" fmla="*/ 49680 h 49320"/>
            </a:gdLst>
            <a:ahLst/>
            <a:rect l="textAreaLeft" t="textAreaTop" r="textAreaRight" b="textAreaBottom"/>
            <a:pathLst>
              <a:path w="63" h="62">
                <a:moveTo>
                  <a:pt x="4" y="15"/>
                </a:moveTo>
                <a:lnTo>
                  <a:pt x="1" y="10"/>
                </a:lnTo>
                <a:lnTo>
                  <a:pt x="0" y="13"/>
                </a:lnTo>
                <a:lnTo>
                  <a:pt x="1" y="18"/>
                </a:lnTo>
                <a:lnTo>
                  <a:pt x="4" y="34"/>
                </a:lnTo>
                <a:lnTo>
                  <a:pt x="9" y="52"/>
                </a:lnTo>
                <a:lnTo>
                  <a:pt x="12" y="58"/>
                </a:lnTo>
                <a:lnTo>
                  <a:pt x="16" y="62"/>
                </a:lnTo>
                <a:lnTo>
                  <a:pt x="20" y="62"/>
                </a:lnTo>
                <a:lnTo>
                  <a:pt x="24" y="58"/>
                </a:lnTo>
                <a:lnTo>
                  <a:pt x="33" y="50"/>
                </a:lnTo>
                <a:lnTo>
                  <a:pt x="48" y="36"/>
                </a:lnTo>
                <a:lnTo>
                  <a:pt x="59" y="27"/>
                </a:lnTo>
                <a:lnTo>
                  <a:pt x="62" y="24"/>
                </a:lnTo>
                <a:lnTo>
                  <a:pt x="63" y="20"/>
                </a:lnTo>
                <a:lnTo>
                  <a:pt x="63" y="17"/>
                </a:lnTo>
                <a:lnTo>
                  <a:pt x="62" y="14"/>
                </a:lnTo>
                <a:lnTo>
                  <a:pt x="58" y="10"/>
                </a:lnTo>
                <a:lnTo>
                  <a:pt x="52" y="6"/>
                </a:lnTo>
                <a:lnTo>
                  <a:pt x="45" y="0"/>
                </a:lnTo>
                <a:lnTo>
                  <a:pt x="44" y="1"/>
                </a:lnTo>
                <a:lnTo>
                  <a:pt x="43" y="2"/>
                </a:lnTo>
                <a:lnTo>
                  <a:pt x="35" y="4"/>
                </a:lnTo>
                <a:lnTo>
                  <a:pt x="17" y="11"/>
                </a:lnTo>
                <a:lnTo>
                  <a:pt x="4" y="15"/>
                </a:lnTo>
              </a:path>
            </a:pathLst>
          </a:custGeom>
          <a:noFill/>
          <a:ln w="6480">
            <a:solidFill>
              <a:srgbClr val="1f1a17"/>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7" name="Freeform 146"/>
          <p:cNvSpPr/>
          <p:nvPr/>
        </p:nvSpPr>
        <p:spPr>
          <a:xfrm>
            <a:off x="3111480" y="1292400"/>
            <a:ext cx="57240" cy="79200"/>
          </a:xfrm>
          <a:custGeom>
            <a:avLst/>
            <a:gdLst>
              <a:gd name="textAreaLeft" fmla="*/ 0 w 57240"/>
              <a:gd name="textAreaRight" fmla="*/ 57600 w 57240"/>
              <a:gd name="textAreaTop" fmla="*/ 0 h 79200"/>
              <a:gd name="textAreaBottom" fmla="*/ 79560 h 79200"/>
            </a:gdLst>
            <a:ahLst/>
            <a:rect l="textAreaLeft" t="textAreaTop" r="textAreaRight" b="textAreaBottom"/>
            <a:pathLst>
              <a:path w="71" h="100">
                <a:moveTo>
                  <a:pt x="42" y="100"/>
                </a:moveTo>
                <a:lnTo>
                  <a:pt x="49" y="87"/>
                </a:lnTo>
                <a:lnTo>
                  <a:pt x="61" y="66"/>
                </a:lnTo>
                <a:lnTo>
                  <a:pt x="71" y="42"/>
                </a:lnTo>
                <a:lnTo>
                  <a:pt x="70" y="12"/>
                </a:lnTo>
                <a:lnTo>
                  <a:pt x="69" y="0"/>
                </a:lnTo>
                <a:lnTo>
                  <a:pt x="68" y="0"/>
                </a:lnTo>
                <a:lnTo>
                  <a:pt x="63" y="0"/>
                </a:lnTo>
                <a:lnTo>
                  <a:pt x="43" y="0"/>
                </a:lnTo>
                <a:lnTo>
                  <a:pt x="28" y="0"/>
                </a:lnTo>
                <a:lnTo>
                  <a:pt x="23" y="6"/>
                </a:lnTo>
                <a:lnTo>
                  <a:pt x="12" y="25"/>
                </a:lnTo>
                <a:lnTo>
                  <a:pt x="4" y="46"/>
                </a:lnTo>
                <a:lnTo>
                  <a:pt x="0" y="68"/>
                </a:lnTo>
                <a:lnTo>
                  <a:pt x="2" y="79"/>
                </a:lnTo>
                <a:lnTo>
                  <a:pt x="6" y="88"/>
                </a:lnTo>
                <a:lnTo>
                  <a:pt x="13" y="95"/>
                </a:lnTo>
                <a:lnTo>
                  <a:pt x="25" y="99"/>
                </a:lnTo>
                <a:lnTo>
                  <a:pt x="42" y="10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8" name="Freeform 147"/>
          <p:cNvSpPr/>
          <p:nvPr/>
        </p:nvSpPr>
        <p:spPr>
          <a:xfrm>
            <a:off x="3111480" y="1292400"/>
            <a:ext cx="57240" cy="79200"/>
          </a:xfrm>
          <a:custGeom>
            <a:avLst/>
            <a:gdLst>
              <a:gd name="textAreaLeft" fmla="*/ 0 w 57240"/>
              <a:gd name="textAreaRight" fmla="*/ 57600 w 57240"/>
              <a:gd name="textAreaTop" fmla="*/ 0 h 79200"/>
              <a:gd name="textAreaBottom" fmla="*/ 79560 h 79200"/>
            </a:gdLst>
            <a:ahLst/>
            <a:rect l="textAreaLeft" t="textAreaTop" r="textAreaRight" b="textAreaBottom"/>
            <a:pathLst>
              <a:path w="71" h="100">
                <a:moveTo>
                  <a:pt x="42" y="100"/>
                </a:moveTo>
                <a:lnTo>
                  <a:pt x="49" y="87"/>
                </a:lnTo>
                <a:lnTo>
                  <a:pt x="61" y="66"/>
                </a:lnTo>
                <a:lnTo>
                  <a:pt x="71" y="42"/>
                </a:lnTo>
                <a:lnTo>
                  <a:pt x="70" y="12"/>
                </a:lnTo>
                <a:lnTo>
                  <a:pt x="69" y="0"/>
                </a:lnTo>
                <a:lnTo>
                  <a:pt x="68" y="0"/>
                </a:lnTo>
                <a:lnTo>
                  <a:pt x="63" y="0"/>
                </a:lnTo>
                <a:lnTo>
                  <a:pt x="43" y="0"/>
                </a:lnTo>
                <a:lnTo>
                  <a:pt x="28" y="0"/>
                </a:lnTo>
                <a:lnTo>
                  <a:pt x="23" y="6"/>
                </a:lnTo>
                <a:lnTo>
                  <a:pt x="12" y="25"/>
                </a:lnTo>
                <a:lnTo>
                  <a:pt x="4" y="46"/>
                </a:lnTo>
                <a:lnTo>
                  <a:pt x="0" y="68"/>
                </a:lnTo>
                <a:lnTo>
                  <a:pt x="2" y="79"/>
                </a:lnTo>
                <a:lnTo>
                  <a:pt x="6" y="88"/>
                </a:lnTo>
                <a:lnTo>
                  <a:pt x="13" y="95"/>
                </a:lnTo>
                <a:lnTo>
                  <a:pt x="25" y="99"/>
                </a:lnTo>
                <a:lnTo>
                  <a:pt x="42" y="100"/>
                </a:lnTo>
              </a:path>
            </a:pathLst>
          </a:custGeom>
          <a:noFill/>
          <a:ln w="6480">
            <a:solidFill>
              <a:srgbClr val="1f1a17"/>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9" name="Freeform 148"/>
          <p:cNvSpPr/>
          <p:nvPr/>
        </p:nvSpPr>
        <p:spPr>
          <a:xfrm>
            <a:off x="3367080" y="633240"/>
            <a:ext cx="111240" cy="87480"/>
          </a:xfrm>
          <a:custGeom>
            <a:avLst/>
            <a:gdLst>
              <a:gd name="textAreaLeft" fmla="*/ 0 w 111240"/>
              <a:gd name="textAreaRight" fmla="*/ 111600 w 111240"/>
              <a:gd name="textAreaTop" fmla="*/ 0 h 87480"/>
              <a:gd name="textAreaBottom" fmla="*/ 87840 h 87480"/>
            </a:gdLst>
            <a:ahLst/>
            <a:rect l="textAreaLeft" t="textAreaTop" r="textAreaRight" b="textAreaBottom"/>
            <a:pathLst>
              <a:path w="141" h="109">
                <a:moveTo>
                  <a:pt x="0" y="109"/>
                </a:moveTo>
                <a:lnTo>
                  <a:pt x="18" y="104"/>
                </a:lnTo>
                <a:lnTo>
                  <a:pt x="52" y="94"/>
                </a:lnTo>
                <a:lnTo>
                  <a:pt x="102" y="68"/>
                </a:lnTo>
                <a:lnTo>
                  <a:pt x="120" y="49"/>
                </a:lnTo>
                <a:lnTo>
                  <a:pt x="134" y="19"/>
                </a:lnTo>
                <a:lnTo>
                  <a:pt x="141" y="0"/>
                </a:lnTo>
                <a:lnTo>
                  <a:pt x="136" y="0"/>
                </a:lnTo>
                <a:lnTo>
                  <a:pt x="128" y="0"/>
                </a:lnTo>
                <a:lnTo>
                  <a:pt x="110" y="0"/>
                </a:lnTo>
                <a:lnTo>
                  <a:pt x="91" y="0"/>
                </a:lnTo>
                <a:lnTo>
                  <a:pt x="88" y="0"/>
                </a:lnTo>
                <a:lnTo>
                  <a:pt x="73" y="14"/>
                </a:lnTo>
                <a:lnTo>
                  <a:pt x="56" y="33"/>
                </a:lnTo>
                <a:lnTo>
                  <a:pt x="51" y="47"/>
                </a:lnTo>
                <a:lnTo>
                  <a:pt x="47" y="57"/>
                </a:lnTo>
                <a:lnTo>
                  <a:pt x="39" y="71"/>
                </a:lnTo>
                <a:lnTo>
                  <a:pt x="17" y="94"/>
                </a:lnTo>
                <a:lnTo>
                  <a:pt x="0" y="109"/>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10" name="Freeform 149"/>
          <p:cNvSpPr/>
          <p:nvPr/>
        </p:nvSpPr>
        <p:spPr>
          <a:xfrm>
            <a:off x="3367080" y="633240"/>
            <a:ext cx="111240" cy="87480"/>
          </a:xfrm>
          <a:custGeom>
            <a:avLst/>
            <a:gdLst>
              <a:gd name="textAreaLeft" fmla="*/ 0 w 111240"/>
              <a:gd name="textAreaRight" fmla="*/ 111600 w 111240"/>
              <a:gd name="textAreaTop" fmla="*/ 0 h 87480"/>
              <a:gd name="textAreaBottom" fmla="*/ 87840 h 87480"/>
            </a:gdLst>
            <a:ahLst/>
            <a:rect l="textAreaLeft" t="textAreaTop" r="textAreaRight" b="textAreaBottom"/>
            <a:pathLst>
              <a:path w="141" h="109">
                <a:moveTo>
                  <a:pt x="0" y="109"/>
                </a:moveTo>
                <a:lnTo>
                  <a:pt x="18" y="104"/>
                </a:lnTo>
                <a:lnTo>
                  <a:pt x="52" y="94"/>
                </a:lnTo>
                <a:lnTo>
                  <a:pt x="102" y="68"/>
                </a:lnTo>
                <a:lnTo>
                  <a:pt x="120" y="49"/>
                </a:lnTo>
                <a:lnTo>
                  <a:pt x="134" y="19"/>
                </a:lnTo>
                <a:lnTo>
                  <a:pt x="141" y="0"/>
                </a:lnTo>
                <a:lnTo>
                  <a:pt x="136" y="0"/>
                </a:lnTo>
                <a:lnTo>
                  <a:pt x="128" y="0"/>
                </a:lnTo>
                <a:lnTo>
                  <a:pt x="110" y="0"/>
                </a:lnTo>
                <a:lnTo>
                  <a:pt x="91" y="0"/>
                </a:lnTo>
                <a:lnTo>
                  <a:pt x="88" y="0"/>
                </a:lnTo>
                <a:lnTo>
                  <a:pt x="73" y="14"/>
                </a:lnTo>
                <a:lnTo>
                  <a:pt x="56" y="33"/>
                </a:lnTo>
                <a:lnTo>
                  <a:pt x="51" y="47"/>
                </a:lnTo>
                <a:lnTo>
                  <a:pt x="47" y="57"/>
                </a:lnTo>
                <a:lnTo>
                  <a:pt x="39" y="71"/>
                </a:lnTo>
                <a:lnTo>
                  <a:pt x="17" y="94"/>
                </a:lnTo>
                <a:lnTo>
                  <a:pt x="0" y="109"/>
                </a:lnTo>
              </a:path>
            </a:pathLst>
          </a:custGeom>
          <a:noFill/>
          <a:ln w="6480">
            <a:solidFill>
              <a:srgbClr val="1f1a17"/>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11" name="Freeform 150"/>
          <p:cNvSpPr/>
          <p:nvPr/>
        </p:nvSpPr>
        <p:spPr>
          <a:xfrm>
            <a:off x="3440160" y="442800"/>
            <a:ext cx="111240" cy="169920"/>
          </a:xfrm>
          <a:custGeom>
            <a:avLst/>
            <a:gdLst>
              <a:gd name="textAreaLeft" fmla="*/ 0 w 111240"/>
              <a:gd name="textAreaRight" fmla="*/ 111600 w 111240"/>
              <a:gd name="textAreaTop" fmla="*/ 0 h 169920"/>
              <a:gd name="textAreaBottom" fmla="*/ 170280 h 169920"/>
            </a:gdLst>
            <a:ahLst/>
            <a:rect l="textAreaLeft" t="textAreaTop" r="textAreaRight" b="textAreaBottom"/>
            <a:pathLst>
              <a:path w="139" h="214">
                <a:moveTo>
                  <a:pt x="62" y="49"/>
                </a:moveTo>
                <a:lnTo>
                  <a:pt x="56" y="71"/>
                </a:lnTo>
                <a:lnTo>
                  <a:pt x="49" y="87"/>
                </a:lnTo>
                <a:lnTo>
                  <a:pt x="39" y="100"/>
                </a:lnTo>
                <a:lnTo>
                  <a:pt x="28" y="109"/>
                </a:lnTo>
                <a:lnTo>
                  <a:pt x="9" y="125"/>
                </a:lnTo>
                <a:lnTo>
                  <a:pt x="3" y="133"/>
                </a:lnTo>
                <a:lnTo>
                  <a:pt x="0" y="141"/>
                </a:lnTo>
                <a:lnTo>
                  <a:pt x="1" y="153"/>
                </a:lnTo>
                <a:lnTo>
                  <a:pt x="7" y="168"/>
                </a:lnTo>
                <a:lnTo>
                  <a:pt x="21" y="189"/>
                </a:lnTo>
                <a:lnTo>
                  <a:pt x="42" y="214"/>
                </a:lnTo>
                <a:lnTo>
                  <a:pt x="77" y="196"/>
                </a:lnTo>
                <a:lnTo>
                  <a:pt x="121" y="164"/>
                </a:lnTo>
                <a:lnTo>
                  <a:pt x="131" y="150"/>
                </a:lnTo>
                <a:lnTo>
                  <a:pt x="138" y="137"/>
                </a:lnTo>
                <a:lnTo>
                  <a:pt x="139" y="124"/>
                </a:lnTo>
                <a:lnTo>
                  <a:pt x="137" y="109"/>
                </a:lnTo>
                <a:lnTo>
                  <a:pt x="134" y="93"/>
                </a:lnTo>
                <a:lnTo>
                  <a:pt x="123" y="54"/>
                </a:lnTo>
                <a:lnTo>
                  <a:pt x="119" y="0"/>
                </a:lnTo>
                <a:lnTo>
                  <a:pt x="112" y="1"/>
                </a:lnTo>
                <a:lnTo>
                  <a:pt x="107" y="3"/>
                </a:lnTo>
                <a:lnTo>
                  <a:pt x="102" y="6"/>
                </a:lnTo>
                <a:lnTo>
                  <a:pt x="98" y="11"/>
                </a:lnTo>
                <a:lnTo>
                  <a:pt x="90" y="21"/>
                </a:lnTo>
                <a:lnTo>
                  <a:pt x="72" y="42"/>
                </a:lnTo>
                <a:lnTo>
                  <a:pt x="62"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151"/>
          <p:cNvSpPr/>
          <p:nvPr/>
        </p:nvSpPr>
        <p:spPr>
          <a:xfrm>
            <a:off x="3440160" y="442800"/>
            <a:ext cx="111240" cy="169920"/>
          </a:xfrm>
          <a:custGeom>
            <a:avLst/>
            <a:gdLst>
              <a:gd name="textAreaLeft" fmla="*/ 0 w 111240"/>
              <a:gd name="textAreaRight" fmla="*/ 111600 w 111240"/>
              <a:gd name="textAreaTop" fmla="*/ 0 h 169920"/>
              <a:gd name="textAreaBottom" fmla="*/ 170280 h 169920"/>
            </a:gdLst>
            <a:ahLst/>
            <a:rect l="textAreaLeft" t="textAreaTop" r="textAreaRight" b="textAreaBottom"/>
            <a:pathLst>
              <a:path w="139" h="214">
                <a:moveTo>
                  <a:pt x="62" y="49"/>
                </a:moveTo>
                <a:lnTo>
                  <a:pt x="56" y="71"/>
                </a:lnTo>
                <a:lnTo>
                  <a:pt x="49" y="87"/>
                </a:lnTo>
                <a:lnTo>
                  <a:pt x="39" y="100"/>
                </a:lnTo>
                <a:lnTo>
                  <a:pt x="28" y="109"/>
                </a:lnTo>
                <a:lnTo>
                  <a:pt x="9" y="125"/>
                </a:lnTo>
                <a:lnTo>
                  <a:pt x="3" y="133"/>
                </a:lnTo>
                <a:lnTo>
                  <a:pt x="0" y="141"/>
                </a:lnTo>
                <a:lnTo>
                  <a:pt x="1" y="153"/>
                </a:lnTo>
                <a:lnTo>
                  <a:pt x="7" y="168"/>
                </a:lnTo>
                <a:lnTo>
                  <a:pt x="21" y="189"/>
                </a:lnTo>
                <a:lnTo>
                  <a:pt x="42" y="214"/>
                </a:lnTo>
                <a:lnTo>
                  <a:pt x="77" y="196"/>
                </a:lnTo>
                <a:lnTo>
                  <a:pt x="121" y="164"/>
                </a:lnTo>
                <a:lnTo>
                  <a:pt x="131" y="150"/>
                </a:lnTo>
                <a:lnTo>
                  <a:pt x="138" y="137"/>
                </a:lnTo>
                <a:lnTo>
                  <a:pt x="139" y="124"/>
                </a:lnTo>
                <a:lnTo>
                  <a:pt x="137" y="109"/>
                </a:lnTo>
                <a:lnTo>
                  <a:pt x="134" y="93"/>
                </a:lnTo>
                <a:lnTo>
                  <a:pt x="123" y="54"/>
                </a:lnTo>
                <a:lnTo>
                  <a:pt x="119" y="0"/>
                </a:lnTo>
                <a:lnTo>
                  <a:pt x="112" y="1"/>
                </a:lnTo>
                <a:lnTo>
                  <a:pt x="107" y="3"/>
                </a:lnTo>
                <a:lnTo>
                  <a:pt x="102" y="6"/>
                </a:lnTo>
                <a:lnTo>
                  <a:pt x="98" y="11"/>
                </a:lnTo>
                <a:lnTo>
                  <a:pt x="90" y="21"/>
                </a:lnTo>
                <a:lnTo>
                  <a:pt x="72" y="42"/>
                </a:lnTo>
                <a:lnTo>
                  <a:pt x="62" y="49"/>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52"/>
          <p:cNvSpPr/>
          <p:nvPr/>
        </p:nvSpPr>
        <p:spPr>
          <a:xfrm>
            <a:off x="3589200" y="431640"/>
            <a:ext cx="65160" cy="74880"/>
          </a:xfrm>
          <a:custGeom>
            <a:avLst/>
            <a:gdLst>
              <a:gd name="textAreaLeft" fmla="*/ 0 w 65160"/>
              <a:gd name="textAreaRight" fmla="*/ 65520 w 65160"/>
              <a:gd name="textAreaTop" fmla="*/ 0 h 74880"/>
              <a:gd name="textAreaBottom" fmla="*/ 75240 h 74880"/>
            </a:gdLst>
            <a:ahLst/>
            <a:rect l="textAreaLeft" t="textAreaTop" r="textAreaRight" b="textAreaBottom"/>
            <a:pathLst>
              <a:path w="84" h="94">
                <a:moveTo>
                  <a:pt x="68" y="0"/>
                </a:moveTo>
                <a:lnTo>
                  <a:pt x="62" y="3"/>
                </a:lnTo>
                <a:lnTo>
                  <a:pt x="49" y="11"/>
                </a:lnTo>
                <a:lnTo>
                  <a:pt x="21" y="40"/>
                </a:lnTo>
                <a:lnTo>
                  <a:pt x="0" y="80"/>
                </a:lnTo>
                <a:lnTo>
                  <a:pt x="0" y="90"/>
                </a:lnTo>
                <a:lnTo>
                  <a:pt x="3" y="92"/>
                </a:lnTo>
                <a:lnTo>
                  <a:pt x="8" y="93"/>
                </a:lnTo>
                <a:lnTo>
                  <a:pt x="17" y="94"/>
                </a:lnTo>
                <a:lnTo>
                  <a:pt x="27" y="93"/>
                </a:lnTo>
                <a:lnTo>
                  <a:pt x="48" y="91"/>
                </a:lnTo>
                <a:lnTo>
                  <a:pt x="58" y="90"/>
                </a:lnTo>
                <a:lnTo>
                  <a:pt x="60" y="87"/>
                </a:lnTo>
                <a:lnTo>
                  <a:pt x="69" y="74"/>
                </a:lnTo>
                <a:lnTo>
                  <a:pt x="83" y="40"/>
                </a:lnTo>
                <a:lnTo>
                  <a:pt x="84" y="21"/>
                </a:lnTo>
                <a:lnTo>
                  <a:pt x="81" y="13"/>
                </a:lnTo>
                <a:lnTo>
                  <a:pt x="75" y="6"/>
                </a:lnTo>
                <a:lnTo>
                  <a:pt x="68" y="0"/>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14" name="Freeform 153"/>
          <p:cNvSpPr/>
          <p:nvPr/>
        </p:nvSpPr>
        <p:spPr>
          <a:xfrm>
            <a:off x="3589200" y="431640"/>
            <a:ext cx="65160" cy="74880"/>
          </a:xfrm>
          <a:custGeom>
            <a:avLst/>
            <a:gdLst>
              <a:gd name="textAreaLeft" fmla="*/ 0 w 65160"/>
              <a:gd name="textAreaRight" fmla="*/ 65520 w 65160"/>
              <a:gd name="textAreaTop" fmla="*/ 0 h 74880"/>
              <a:gd name="textAreaBottom" fmla="*/ 75240 h 74880"/>
            </a:gdLst>
            <a:ahLst/>
            <a:rect l="textAreaLeft" t="textAreaTop" r="textAreaRight" b="textAreaBottom"/>
            <a:pathLst>
              <a:path w="84" h="94">
                <a:moveTo>
                  <a:pt x="68" y="0"/>
                </a:moveTo>
                <a:lnTo>
                  <a:pt x="62" y="3"/>
                </a:lnTo>
                <a:lnTo>
                  <a:pt x="49" y="11"/>
                </a:lnTo>
                <a:lnTo>
                  <a:pt x="21" y="40"/>
                </a:lnTo>
                <a:lnTo>
                  <a:pt x="0" y="80"/>
                </a:lnTo>
                <a:lnTo>
                  <a:pt x="0" y="90"/>
                </a:lnTo>
                <a:lnTo>
                  <a:pt x="3" y="92"/>
                </a:lnTo>
                <a:lnTo>
                  <a:pt x="8" y="93"/>
                </a:lnTo>
                <a:lnTo>
                  <a:pt x="17" y="94"/>
                </a:lnTo>
                <a:lnTo>
                  <a:pt x="27" y="93"/>
                </a:lnTo>
                <a:lnTo>
                  <a:pt x="48" y="91"/>
                </a:lnTo>
                <a:lnTo>
                  <a:pt x="58" y="90"/>
                </a:lnTo>
                <a:lnTo>
                  <a:pt x="60" y="87"/>
                </a:lnTo>
                <a:lnTo>
                  <a:pt x="69" y="74"/>
                </a:lnTo>
                <a:lnTo>
                  <a:pt x="83" y="40"/>
                </a:lnTo>
                <a:lnTo>
                  <a:pt x="84" y="21"/>
                </a:lnTo>
                <a:lnTo>
                  <a:pt x="81" y="13"/>
                </a:lnTo>
                <a:lnTo>
                  <a:pt x="75" y="6"/>
                </a:lnTo>
                <a:lnTo>
                  <a:pt x="68" y="0"/>
                </a:lnTo>
              </a:path>
            </a:pathLst>
          </a:custGeom>
          <a:noFill/>
          <a:ln w="6480">
            <a:solidFill>
              <a:srgbClr val="1f1a17"/>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15" name="Freeform 154"/>
          <p:cNvSpPr/>
          <p:nvPr/>
        </p:nvSpPr>
        <p:spPr>
          <a:xfrm>
            <a:off x="3692520" y="338040"/>
            <a:ext cx="44280" cy="36720"/>
          </a:xfrm>
          <a:custGeom>
            <a:avLst/>
            <a:gdLst>
              <a:gd name="textAreaLeft" fmla="*/ 0 w 44280"/>
              <a:gd name="textAreaRight" fmla="*/ 44640 w 44280"/>
              <a:gd name="textAreaTop" fmla="*/ 0 h 36720"/>
              <a:gd name="textAreaBottom" fmla="*/ 37080 h 36720"/>
            </a:gdLst>
            <a:ahLst/>
            <a:rect l="textAreaLeft" t="textAreaTop" r="textAreaRight" b="textAreaBottom"/>
            <a:pathLst>
              <a:path w="56" h="46">
                <a:moveTo>
                  <a:pt x="45" y="0"/>
                </a:moveTo>
                <a:lnTo>
                  <a:pt x="46" y="4"/>
                </a:lnTo>
                <a:lnTo>
                  <a:pt x="51" y="14"/>
                </a:lnTo>
                <a:lnTo>
                  <a:pt x="55" y="22"/>
                </a:lnTo>
                <a:lnTo>
                  <a:pt x="56" y="22"/>
                </a:lnTo>
                <a:lnTo>
                  <a:pt x="53" y="23"/>
                </a:lnTo>
                <a:lnTo>
                  <a:pt x="48" y="25"/>
                </a:lnTo>
                <a:lnTo>
                  <a:pt x="39" y="30"/>
                </a:lnTo>
                <a:lnTo>
                  <a:pt x="14" y="44"/>
                </a:lnTo>
                <a:lnTo>
                  <a:pt x="0" y="46"/>
                </a:lnTo>
                <a:lnTo>
                  <a:pt x="1" y="39"/>
                </a:lnTo>
                <a:lnTo>
                  <a:pt x="4" y="32"/>
                </a:lnTo>
                <a:lnTo>
                  <a:pt x="9" y="27"/>
                </a:lnTo>
                <a:lnTo>
                  <a:pt x="14" y="23"/>
                </a:lnTo>
                <a:lnTo>
                  <a:pt x="20" y="20"/>
                </a:lnTo>
                <a:lnTo>
                  <a:pt x="32" y="16"/>
                </a:lnTo>
                <a:lnTo>
                  <a:pt x="42" y="12"/>
                </a:lnTo>
                <a:lnTo>
                  <a:pt x="44" y="9"/>
                </a:lnTo>
                <a:lnTo>
                  <a:pt x="45" y="5"/>
                </a:lnTo>
                <a:lnTo>
                  <a:pt x="45" y="0"/>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16" name="Freeform 155"/>
          <p:cNvSpPr/>
          <p:nvPr/>
        </p:nvSpPr>
        <p:spPr>
          <a:xfrm>
            <a:off x="3692520" y="338040"/>
            <a:ext cx="44280" cy="36720"/>
          </a:xfrm>
          <a:custGeom>
            <a:avLst/>
            <a:gdLst>
              <a:gd name="textAreaLeft" fmla="*/ 0 w 44280"/>
              <a:gd name="textAreaRight" fmla="*/ 44640 w 44280"/>
              <a:gd name="textAreaTop" fmla="*/ 0 h 36720"/>
              <a:gd name="textAreaBottom" fmla="*/ 37080 h 36720"/>
            </a:gdLst>
            <a:ahLst/>
            <a:rect l="textAreaLeft" t="textAreaTop" r="textAreaRight" b="textAreaBottom"/>
            <a:pathLst>
              <a:path w="56" h="46">
                <a:moveTo>
                  <a:pt x="45" y="0"/>
                </a:moveTo>
                <a:lnTo>
                  <a:pt x="46" y="4"/>
                </a:lnTo>
                <a:lnTo>
                  <a:pt x="51" y="14"/>
                </a:lnTo>
                <a:lnTo>
                  <a:pt x="55" y="22"/>
                </a:lnTo>
                <a:lnTo>
                  <a:pt x="56" y="22"/>
                </a:lnTo>
                <a:lnTo>
                  <a:pt x="53" y="23"/>
                </a:lnTo>
                <a:lnTo>
                  <a:pt x="48" y="25"/>
                </a:lnTo>
                <a:lnTo>
                  <a:pt x="39" y="30"/>
                </a:lnTo>
                <a:lnTo>
                  <a:pt x="14" y="44"/>
                </a:lnTo>
                <a:lnTo>
                  <a:pt x="0" y="46"/>
                </a:lnTo>
                <a:lnTo>
                  <a:pt x="1" y="39"/>
                </a:lnTo>
                <a:lnTo>
                  <a:pt x="4" y="32"/>
                </a:lnTo>
                <a:lnTo>
                  <a:pt x="9" y="27"/>
                </a:lnTo>
                <a:lnTo>
                  <a:pt x="14" y="23"/>
                </a:lnTo>
                <a:lnTo>
                  <a:pt x="20" y="20"/>
                </a:lnTo>
                <a:lnTo>
                  <a:pt x="32" y="16"/>
                </a:lnTo>
                <a:lnTo>
                  <a:pt x="42" y="12"/>
                </a:lnTo>
                <a:lnTo>
                  <a:pt x="44" y="9"/>
                </a:lnTo>
                <a:lnTo>
                  <a:pt x="45" y="5"/>
                </a:lnTo>
                <a:lnTo>
                  <a:pt x="45" y="0"/>
                </a:lnTo>
              </a:path>
            </a:pathLst>
          </a:custGeom>
          <a:noFill/>
          <a:ln w="6480">
            <a:solidFill>
              <a:srgbClr val="1f1a17"/>
            </a:solidFill>
            <a:round/>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17" name="Freeform 156"/>
          <p:cNvSpPr/>
          <p:nvPr/>
        </p:nvSpPr>
        <p:spPr>
          <a:xfrm>
            <a:off x="3670200" y="236520"/>
            <a:ext cx="112680" cy="65160"/>
          </a:xfrm>
          <a:custGeom>
            <a:avLst/>
            <a:gdLst>
              <a:gd name="textAreaLeft" fmla="*/ 0 w 112680"/>
              <a:gd name="textAreaRight" fmla="*/ 113040 w 112680"/>
              <a:gd name="textAreaTop" fmla="*/ 0 h 65160"/>
              <a:gd name="textAreaBottom" fmla="*/ 65520 h 65160"/>
            </a:gdLst>
            <a:ahLst/>
            <a:rect l="textAreaLeft" t="textAreaTop" r="textAreaRight" b="textAreaBottom"/>
            <a:pathLst>
              <a:path w="142" h="81">
                <a:moveTo>
                  <a:pt x="30" y="43"/>
                </a:moveTo>
                <a:lnTo>
                  <a:pt x="27" y="45"/>
                </a:lnTo>
                <a:lnTo>
                  <a:pt x="25" y="47"/>
                </a:lnTo>
                <a:lnTo>
                  <a:pt x="19" y="54"/>
                </a:lnTo>
                <a:lnTo>
                  <a:pt x="8" y="69"/>
                </a:lnTo>
                <a:lnTo>
                  <a:pt x="0" y="79"/>
                </a:lnTo>
                <a:lnTo>
                  <a:pt x="1" y="81"/>
                </a:lnTo>
                <a:lnTo>
                  <a:pt x="3" y="81"/>
                </a:lnTo>
                <a:lnTo>
                  <a:pt x="7" y="79"/>
                </a:lnTo>
                <a:lnTo>
                  <a:pt x="10" y="78"/>
                </a:lnTo>
                <a:lnTo>
                  <a:pt x="18" y="73"/>
                </a:lnTo>
                <a:lnTo>
                  <a:pt x="34" y="62"/>
                </a:lnTo>
                <a:lnTo>
                  <a:pt x="41" y="60"/>
                </a:lnTo>
                <a:lnTo>
                  <a:pt x="74" y="42"/>
                </a:lnTo>
                <a:lnTo>
                  <a:pt x="121" y="16"/>
                </a:lnTo>
                <a:lnTo>
                  <a:pt x="141" y="3"/>
                </a:lnTo>
                <a:lnTo>
                  <a:pt x="142" y="2"/>
                </a:lnTo>
                <a:lnTo>
                  <a:pt x="142" y="1"/>
                </a:lnTo>
                <a:lnTo>
                  <a:pt x="141" y="0"/>
                </a:lnTo>
                <a:lnTo>
                  <a:pt x="140" y="0"/>
                </a:lnTo>
                <a:lnTo>
                  <a:pt x="137" y="1"/>
                </a:lnTo>
                <a:lnTo>
                  <a:pt x="136" y="1"/>
                </a:lnTo>
                <a:lnTo>
                  <a:pt x="132" y="2"/>
                </a:lnTo>
                <a:lnTo>
                  <a:pt x="118" y="6"/>
                </a:lnTo>
                <a:lnTo>
                  <a:pt x="76" y="23"/>
                </a:lnTo>
                <a:lnTo>
                  <a:pt x="30" y="4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8" name="Freeform 157"/>
          <p:cNvSpPr/>
          <p:nvPr/>
        </p:nvSpPr>
        <p:spPr>
          <a:xfrm>
            <a:off x="3670200" y="236520"/>
            <a:ext cx="112680" cy="65160"/>
          </a:xfrm>
          <a:custGeom>
            <a:avLst/>
            <a:gdLst>
              <a:gd name="textAreaLeft" fmla="*/ 0 w 112680"/>
              <a:gd name="textAreaRight" fmla="*/ 113040 w 112680"/>
              <a:gd name="textAreaTop" fmla="*/ 0 h 65160"/>
              <a:gd name="textAreaBottom" fmla="*/ 65520 h 65160"/>
            </a:gdLst>
            <a:ahLst/>
            <a:rect l="textAreaLeft" t="textAreaTop" r="textAreaRight" b="textAreaBottom"/>
            <a:pathLst>
              <a:path w="142" h="81">
                <a:moveTo>
                  <a:pt x="30" y="43"/>
                </a:moveTo>
                <a:lnTo>
                  <a:pt x="27" y="45"/>
                </a:lnTo>
                <a:lnTo>
                  <a:pt x="25" y="47"/>
                </a:lnTo>
                <a:lnTo>
                  <a:pt x="19" y="54"/>
                </a:lnTo>
                <a:lnTo>
                  <a:pt x="8" y="69"/>
                </a:lnTo>
                <a:lnTo>
                  <a:pt x="0" y="79"/>
                </a:lnTo>
                <a:lnTo>
                  <a:pt x="1" y="81"/>
                </a:lnTo>
                <a:lnTo>
                  <a:pt x="3" y="81"/>
                </a:lnTo>
                <a:lnTo>
                  <a:pt x="7" y="79"/>
                </a:lnTo>
                <a:lnTo>
                  <a:pt x="10" y="78"/>
                </a:lnTo>
                <a:lnTo>
                  <a:pt x="18" y="73"/>
                </a:lnTo>
                <a:lnTo>
                  <a:pt x="34" y="62"/>
                </a:lnTo>
                <a:lnTo>
                  <a:pt x="41" y="60"/>
                </a:lnTo>
                <a:lnTo>
                  <a:pt x="74" y="42"/>
                </a:lnTo>
                <a:lnTo>
                  <a:pt x="121" y="16"/>
                </a:lnTo>
                <a:lnTo>
                  <a:pt x="141" y="3"/>
                </a:lnTo>
                <a:lnTo>
                  <a:pt x="142" y="2"/>
                </a:lnTo>
                <a:lnTo>
                  <a:pt x="142" y="1"/>
                </a:lnTo>
                <a:lnTo>
                  <a:pt x="141" y="0"/>
                </a:lnTo>
                <a:lnTo>
                  <a:pt x="140" y="0"/>
                </a:lnTo>
                <a:lnTo>
                  <a:pt x="137" y="1"/>
                </a:lnTo>
                <a:lnTo>
                  <a:pt x="136" y="1"/>
                </a:lnTo>
                <a:lnTo>
                  <a:pt x="132" y="2"/>
                </a:lnTo>
                <a:lnTo>
                  <a:pt x="118" y="6"/>
                </a:lnTo>
                <a:lnTo>
                  <a:pt x="76" y="23"/>
                </a:lnTo>
                <a:lnTo>
                  <a:pt x="30" y="43"/>
                </a:lnTo>
              </a:path>
            </a:pathLst>
          </a:custGeom>
          <a:noFill/>
          <a:ln w="6480">
            <a:solidFill>
              <a:srgbClr val="1f1a17"/>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9" name="Freeform 158"/>
          <p:cNvSpPr/>
          <p:nvPr/>
        </p:nvSpPr>
        <p:spPr>
          <a:xfrm>
            <a:off x="3873600" y="68400"/>
            <a:ext cx="104760" cy="31680"/>
          </a:xfrm>
          <a:custGeom>
            <a:avLst/>
            <a:gdLst>
              <a:gd name="textAreaLeft" fmla="*/ 0 w 104760"/>
              <a:gd name="textAreaRight" fmla="*/ 105120 w 104760"/>
              <a:gd name="textAreaTop" fmla="*/ 0 h 31680"/>
              <a:gd name="textAreaBottom" fmla="*/ 32040 h 31680"/>
            </a:gdLst>
            <a:ahLst/>
            <a:rect l="textAreaLeft" t="textAreaTop" r="textAreaRight" b="textAreaBottom"/>
            <a:pathLst>
              <a:path w="132" h="38">
                <a:moveTo>
                  <a:pt x="67" y="38"/>
                </a:moveTo>
                <a:lnTo>
                  <a:pt x="50" y="38"/>
                </a:lnTo>
                <a:lnTo>
                  <a:pt x="22" y="34"/>
                </a:lnTo>
                <a:lnTo>
                  <a:pt x="5" y="27"/>
                </a:lnTo>
                <a:lnTo>
                  <a:pt x="2" y="25"/>
                </a:lnTo>
                <a:lnTo>
                  <a:pt x="1" y="23"/>
                </a:lnTo>
                <a:lnTo>
                  <a:pt x="0" y="21"/>
                </a:lnTo>
                <a:lnTo>
                  <a:pt x="1" y="19"/>
                </a:lnTo>
                <a:lnTo>
                  <a:pt x="2" y="17"/>
                </a:lnTo>
                <a:lnTo>
                  <a:pt x="5" y="15"/>
                </a:lnTo>
                <a:lnTo>
                  <a:pt x="8" y="13"/>
                </a:lnTo>
                <a:lnTo>
                  <a:pt x="19" y="9"/>
                </a:lnTo>
                <a:lnTo>
                  <a:pt x="34" y="5"/>
                </a:lnTo>
                <a:lnTo>
                  <a:pt x="53" y="2"/>
                </a:lnTo>
                <a:lnTo>
                  <a:pt x="66" y="0"/>
                </a:lnTo>
                <a:lnTo>
                  <a:pt x="80" y="2"/>
                </a:lnTo>
                <a:lnTo>
                  <a:pt x="106" y="7"/>
                </a:lnTo>
                <a:lnTo>
                  <a:pt x="126" y="14"/>
                </a:lnTo>
                <a:lnTo>
                  <a:pt x="130" y="18"/>
                </a:lnTo>
                <a:lnTo>
                  <a:pt x="132" y="20"/>
                </a:lnTo>
                <a:lnTo>
                  <a:pt x="132" y="21"/>
                </a:lnTo>
                <a:lnTo>
                  <a:pt x="131" y="23"/>
                </a:lnTo>
                <a:lnTo>
                  <a:pt x="129" y="25"/>
                </a:lnTo>
                <a:lnTo>
                  <a:pt x="127" y="27"/>
                </a:lnTo>
                <a:lnTo>
                  <a:pt x="123" y="29"/>
                </a:lnTo>
                <a:lnTo>
                  <a:pt x="110" y="33"/>
                </a:lnTo>
                <a:lnTo>
                  <a:pt x="91" y="36"/>
                </a:lnTo>
                <a:lnTo>
                  <a:pt x="67" y="38"/>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20" name="Freeform 159"/>
          <p:cNvSpPr/>
          <p:nvPr/>
        </p:nvSpPr>
        <p:spPr>
          <a:xfrm>
            <a:off x="3873600" y="68400"/>
            <a:ext cx="104760" cy="31680"/>
          </a:xfrm>
          <a:custGeom>
            <a:avLst/>
            <a:gdLst>
              <a:gd name="textAreaLeft" fmla="*/ 0 w 104760"/>
              <a:gd name="textAreaRight" fmla="*/ 105120 w 104760"/>
              <a:gd name="textAreaTop" fmla="*/ 0 h 31680"/>
              <a:gd name="textAreaBottom" fmla="*/ 32040 h 31680"/>
            </a:gdLst>
            <a:ahLst/>
            <a:rect l="textAreaLeft" t="textAreaTop" r="textAreaRight" b="textAreaBottom"/>
            <a:pathLst>
              <a:path w="132" h="38">
                <a:moveTo>
                  <a:pt x="67" y="38"/>
                </a:moveTo>
                <a:lnTo>
                  <a:pt x="50" y="38"/>
                </a:lnTo>
                <a:lnTo>
                  <a:pt x="22" y="34"/>
                </a:lnTo>
                <a:lnTo>
                  <a:pt x="5" y="27"/>
                </a:lnTo>
                <a:lnTo>
                  <a:pt x="2" y="25"/>
                </a:lnTo>
                <a:lnTo>
                  <a:pt x="1" y="23"/>
                </a:lnTo>
                <a:lnTo>
                  <a:pt x="0" y="21"/>
                </a:lnTo>
                <a:lnTo>
                  <a:pt x="1" y="19"/>
                </a:lnTo>
                <a:lnTo>
                  <a:pt x="2" y="17"/>
                </a:lnTo>
                <a:lnTo>
                  <a:pt x="5" y="15"/>
                </a:lnTo>
                <a:lnTo>
                  <a:pt x="8" y="13"/>
                </a:lnTo>
                <a:lnTo>
                  <a:pt x="19" y="9"/>
                </a:lnTo>
                <a:lnTo>
                  <a:pt x="34" y="5"/>
                </a:lnTo>
                <a:lnTo>
                  <a:pt x="53" y="2"/>
                </a:lnTo>
                <a:lnTo>
                  <a:pt x="66" y="0"/>
                </a:lnTo>
                <a:lnTo>
                  <a:pt x="80" y="2"/>
                </a:lnTo>
                <a:lnTo>
                  <a:pt x="106" y="7"/>
                </a:lnTo>
                <a:lnTo>
                  <a:pt x="126" y="14"/>
                </a:lnTo>
                <a:lnTo>
                  <a:pt x="130" y="18"/>
                </a:lnTo>
                <a:lnTo>
                  <a:pt x="132" y="20"/>
                </a:lnTo>
                <a:lnTo>
                  <a:pt x="132" y="21"/>
                </a:lnTo>
                <a:lnTo>
                  <a:pt x="131" y="23"/>
                </a:lnTo>
                <a:lnTo>
                  <a:pt x="129" y="25"/>
                </a:lnTo>
                <a:lnTo>
                  <a:pt x="127" y="27"/>
                </a:lnTo>
                <a:lnTo>
                  <a:pt x="123" y="29"/>
                </a:lnTo>
                <a:lnTo>
                  <a:pt x="110" y="33"/>
                </a:lnTo>
                <a:lnTo>
                  <a:pt x="91" y="36"/>
                </a:lnTo>
                <a:lnTo>
                  <a:pt x="67" y="38"/>
                </a:lnTo>
              </a:path>
            </a:pathLst>
          </a:custGeom>
          <a:noFill/>
          <a:ln w="6480">
            <a:solidFill>
              <a:srgbClr val="1f1a17"/>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21" name="Freeform 160"/>
          <p:cNvSpPr/>
          <p:nvPr/>
        </p:nvSpPr>
        <p:spPr>
          <a:xfrm>
            <a:off x="4049640" y="0"/>
            <a:ext cx="47520" cy="73080"/>
          </a:xfrm>
          <a:custGeom>
            <a:avLst/>
            <a:gdLst>
              <a:gd name="textAreaLeft" fmla="*/ 0 w 47520"/>
              <a:gd name="textAreaRight" fmla="*/ 47880 w 47520"/>
              <a:gd name="textAreaTop" fmla="*/ 0 h 73080"/>
              <a:gd name="textAreaBottom" fmla="*/ 73080 h 73080"/>
            </a:gdLst>
            <a:ahLst/>
            <a:rect l="textAreaLeft" t="textAreaTop" r="textAreaRight" b="textAreaBottom"/>
            <a:pathLst>
              <a:path w="59" h="94">
                <a:moveTo>
                  <a:pt x="8" y="34"/>
                </a:moveTo>
                <a:lnTo>
                  <a:pt x="12" y="23"/>
                </a:lnTo>
                <a:lnTo>
                  <a:pt x="19" y="8"/>
                </a:lnTo>
                <a:lnTo>
                  <a:pt x="22" y="3"/>
                </a:lnTo>
                <a:lnTo>
                  <a:pt x="25" y="1"/>
                </a:lnTo>
                <a:lnTo>
                  <a:pt x="26" y="0"/>
                </a:lnTo>
                <a:lnTo>
                  <a:pt x="27" y="0"/>
                </a:lnTo>
                <a:lnTo>
                  <a:pt x="29" y="0"/>
                </a:lnTo>
                <a:lnTo>
                  <a:pt x="33" y="2"/>
                </a:lnTo>
                <a:lnTo>
                  <a:pt x="35" y="3"/>
                </a:lnTo>
                <a:lnTo>
                  <a:pt x="39" y="6"/>
                </a:lnTo>
                <a:lnTo>
                  <a:pt x="51" y="17"/>
                </a:lnTo>
                <a:lnTo>
                  <a:pt x="59" y="23"/>
                </a:lnTo>
                <a:lnTo>
                  <a:pt x="44" y="49"/>
                </a:lnTo>
                <a:lnTo>
                  <a:pt x="22" y="82"/>
                </a:lnTo>
                <a:lnTo>
                  <a:pt x="14" y="90"/>
                </a:lnTo>
                <a:lnTo>
                  <a:pt x="11" y="92"/>
                </a:lnTo>
                <a:lnTo>
                  <a:pt x="8" y="94"/>
                </a:lnTo>
                <a:lnTo>
                  <a:pt x="6" y="94"/>
                </a:lnTo>
                <a:lnTo>
                  <a:pt x="4" y="93"/>
                </a:lnTo>
                <a:lnTo>
                  <a:pt x="3" y="92"/>
                </a:lnTo>
                <a:lnTo>
                  <a:pt x="1" y="89"/>
                </a:lnTo>
                <a:lnTo>
                  <a:pt x="0" y="86"/>
                </a:lnTo>
                <a:lnTo>
                  <a:pt x="0" y="77"/>
                </a:lnTo>
                <a:lnTo>
                  <a:pt x="0" y="66"/>
                </a:lnTo>
                <a:lnTo>
                  <a:pt x="6" y="41"/>
                </a:lnTo>
                <a:lnTo>
                  <a:pt x="8" y="34"/>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2" name="Freeform 161"/>
          <p:cNvSpPr/>
          <p:nvPr/>
        </p:nvSpPr>
        <p:spPr>
          <a:xfrm>
            <a:off x="4049640" y="0"/>
            <a:ext cx="47520" cy="73080"/>
          </a:xfrm>
          <a:custGeom>
            <a:avLst/>
            <a:gdLst>
              <a:gd name="textAreaLeft" fmla="*/ 0 w 47520"/>
              <a:gd name="textAreaRight" fmla="*/ 47880 w 47520"/>
              <a:gd name="textAreaTop" fmla="*/ 0 h 73080"/>
              <a:gd name="textAreaBottom" fmla="*/ 73080 h 73080"/>
            </a:gdLst>
            <a:ahLst/>
            <a:rect l="textAreaLeft" t="textAreaTop" r="textAreaRight" b="textAreaBottom"/>
            <a:pathLst>
              <a:path w="59" h="94">
                <a:moveTo>
                  <a:pt x="8" y="34"/>
                </a:moveTo>
                <a:lnTo>
                  <a:pt x="12" y="23"/>
                </a:lnTo>
                <a:lnTo>
                  <a:pt x="19" y="8"/>
                </a:lnTo>
                <a:lnTo>
                  <a:pt x="22" y="3"/>
                </a:lnTo>
                <a:lnTo>
                  <a:pt x="25" y="1"/>
                </a:lnTo>
                <a:lnTo>
                  <a:pt x="26" y="0"/>
                </a:lnTo>
                <a:lnTo>
                  <a:pt x="27" y="0"/>
                </a:lnTo>
                <a:lnTo>
                  <a:pt x="29" y="0"/>
                </a:lnTo>
                <a:lnTo>
                  <a:pt x="33" y="2"/>
                </a:lnTo>
                <a:lnTo>
                  <a:pt x="35" y="3"/>
                </a:lnTo>
                <a:lnTo>
                  <a:pt x="39" y="6"/>
                </a:lnTo>
                <a:lnTo>
                  <a:pt x="51" y="17"/>
                </a:lnTo>
                <a:lnTo>
                  <a:pt x="59" y="23"/>
                </a:lnTo>
                <a:lnTo>
                  <a:pt x="44" y="49"/>
                </a:lnTo>
                <a:lnTo>
                  <a:pt x="22" y="82"/>
                </a:lnTo>
                <a:lnTo>
                  <a:pt x="14" y="90"/>
                </a:lnTo>
                <a:lnTo>
                  <a:pt x="11" y="92"/>
                </a:lnTo>
                <a:lnTo>
                  <a:pt x="8" y="94"/>
                </a:lnTo>
                <a:lnTo>
                  <a:pt x="6" y="94"/>
                </a:lnTo>
                <a:lnTo>
                  <a:pt x="4" y="93"/>
                </a:lnTo>
                <a:lnTo>
                  <a:pt x="3" y="92"/>
                </a:lnTo>
                <a:lnTo>
                  <a:pt x="1" y="89"/>
                </a:lnTo>
                <a:lnTo>
                  <a:pt x="0" y="86"/>
                </a:lnTo>
                <a:lnTo>
                  <a:pt x="0" y="77"/>
                </a:lnTo>
                <a:lnTo>
                  <a:pt x="0" y="66"/>
                </a:lnTo>
                <a:lnTo>
                  <a:pt x="6" y="41"/>
                </a:lnTo>
                <a:lnTo>
                  <a:pt x="8" y="34"/>
                </a:lnTo>
              </a:path>
            </a:pathLst>
          </a:custGeom>
          <a:noFill/>
          <a:ln w="648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3" name="Freeform 162"/>
          <p:cNvSpPr/>
          <p:nvPr/>
        </p:nvSpPr>
        <p:spPr>
          <a:xfrm>
            <a:off x="2789280" y="1655640"/>
            <a:ext cx="46080" cy="49320"/>
          </a:xfrm>
          <a:custGeom>
            <a:avLst/>
            <a:gdLst>
              <a:gd name="textAreaLeft" fmla="*/ 0 w 46080"/>
              <a:gd name="textAreaRight" fmla="*/ 46440 w 46080"/>
              <a:gd name="textAreaTop" fmla="*/ 0 h 49320"/>
              <a:gd name="textAreaBottom" fmla="*/ 49680 h 49320"/>
            </a:gdLst>
            <a:ahLst/>
            <a:rect l="textAreaLeft" t="textAreaTop" r="textAreaRight" b="textAreaBottom"/>
            <a:pathLst>
              <a:path w="58" h="63">
                <a:moveTo>
                  <a:pt x="30" y="0"/>
                </a:moveTo>
                <a:lnTo>
                  <a:pt x="33" y="1"/>
                </a:lnTo>
                <a:lnTo>
                  <a:pt x="37" y="2"/>
                </a:lnTo>
                <a:lnTo>
                  <a:pt x="43" y="5"/>
                </a:lnTo>
                <a:lnTo>
                  <a:pt x="48" y="10"/>
                </a:lnTo>
                <a:lnTo>
                  <a:pt x="54" y="16"/>
                </a:lnTo>
                <a:lnTo>
                  <a:pt x="56" y="23"/>
                </a:lnTo>
                <a:lnTo>
                  <a:pt x="58" y="31"/>
                </a:lnTo>
                <a:lnTo>
                  <a:pt x="57" y="36"/>
                </a:lnTo>
                <a:lnTo>
                  <a:pt x="55" y="44"/>
                </a:lnTo>
                <a:lnTo>
                  <a:pt x="52" y="50"/>
                </a:lnTo>
                <a:lnTo>
                  <a:pt x="46" y="57"/>
                </a:lnTo>
                <a:lnTo>
                  <a:pt x="40" y="61"/>
                </a:lnTo>
                <a:lnTo>
                  <a:pt x="33" y="63"/>
                </a:lnTo>
                <a:lnTo>
                  <a:pt x="30" y="63"/>
                </a:lnTo>
                <a:lnTo>
                  <a:pt x="26" y="63"/>
                </a:lnTo>
                <a:lnTo>
                  <a:pt x="18" y="61"/>
                </a:lnTo>
                <a:lnTo>
                  <a:pt x="12" y="57"/>
                </a:lnTo>
                <a:lnTo>
                  <a:pt x="6" y="50"/>
                </a:lnTo>
                <a:lnTo>
                  <a:pt x="2" y="44"/>
                </a:lnTo>
                <a:lnTo>
                  <a:pt x="0" y="36"/>
                </a:lnTo>
                <a:lnTo>
                  <a:pt x="0" y="31"/>
                </a:lnTo>
                <a:lnTo>
                  <a:pt x="0" y="27"/>
                </a:lnTo>
                <a:lnTo>
                  <a:pt x="2" y="19"/>
                </a:lnTo>
                <a:lnTo>
                  <a:pt x="6" y="13"/>
                </a:lnTo>
                <a:lnTo>
                  <a:pt x="12" y="7"/>
                </a:lnTo>
                <a:lnTo>
                  <a:pt x="18" y="3"/>
                </a:lnTo>
                <a:lnTo>
                  <a:pt x="26" y="1"/>
                </a:lnTo>
                <a:lnTo>
                  <a:pt x="30" y="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4" name="Freeform 163"/>
          <p:cNvSpPr/>
          <p:nvPr/>
        </p:nvSpPr>
        <p:spPr>
          <a:xfrm>
            <a:off x="2789280" y="1655640"/>
            <a:ext cx="46080" cy="49320"/>
          </a:xfrm>
          <a:custGeom>
            <a:avLst/>
            <a:gdLst>
              <a:gd name="textAreaLeft" fmla="*/ 0 w 46080"/>
              <a:gd name="textAreaRight" fmla="*/ 46440 w 46080"/>
              <a:gd name="textAreaTop" fmla="*/ 0 h 49320"/>
              <a:gd name="textAreaBottom" fmla="*/ 49680 h 49320"/>
            </a:gdLst>
            <a:ahLst/>
            <a:rect l="textAreaLeft" t="textAreaTop" r="textAreaRight" b="textAreaBottom"/>
            <a:pathLst>
              <a:path w="58" h="63">
                <a:moveTo>
                  <a:pt x="30" y="0"/>
                </a:moveTo>
                <a:lnTo>
                  <a:pt x="33" y="1"/>
                </a:lnTo>
                <a:lnTo>
                  <a:pt x="37" y="2"/>
                </a:lnTo>
                <a:lnTo>
                  <a:pt x="43" y="5"/>
                </a:lnTo>
                <a:lnTo>
                  <a:pt x="48" y="10"/>
                </a:lnTo>
                <a:lnTo>
                  <a:pt x="54" y="16"/>
                </a:lnTo>
                <a:lnTo>
                  <a:pt x="56" y="23"/>
                </a:lnTo>
                <a:lnTo>
                  <a:pt x="58" y="31"/>
                </a:lnTo>
                <a:lnTo>
                  <a:pt x="57" y="36"/>
                </a:lnTo>
                <a:lnTo>
                  <a:pt x="55" y="44"/>
                </a:lnTo>
                <a:lnTo>
                  <a:pt x="52" y="50"/>
                </a:lnTo>
                <a:lnTo>
                  <a:pt x="46" y="57"/>
                </a:lnTo>
                <a:lnTo>
                  <a:pt x="40" y="61"/>
                </a:lnTo>
                <a:lnTo>
                  <a:pt x="33" y="63"/>
                </a:lnTo>
                <a:lnTo>
                  <a:pt x="30" y="63"/>
                </a:lnTo>
                <a:lnTo>
                  <a:pt x="26" y="63"/>
                </a:lnTo>
                <a:lnTo>
                  <a:pt x="18" y="61"/>
                </a:lnTo>
                <a:lnTo>
                  <a:pt x="12" y="57"/>
                </a:lnTo>
                <a:lnTo>
                  <a:pt x="6" y="50"/>
                </a:lnTo>
                <a:lnTo>
                  <a:pt x="2" y="44"/>
                </a:lnTo>
                <a:lnTo>
                  <a:pt x="0" y="36"/>
                </a:lnTo>
                <a:lnTo>
                  <a:pt x="0" y="31"/>
                </a:lnTo>
                <a:lnTo>
                  <a:pt x="0" y="27"/>
                </a:lnTo>
                <a:lnTo>
                  <a:pt x="2" y="19"/>
                </a:lnTo>
                <a:lnTo>
                  <a:pt x="6" y="13"/>
                </a:lnTo>
                <a:lnTo>
                  <a:pt x="12" y="7"/>
                </a:lnTo>
                <a:lnTo>
                  <a:pt x="18" y="3"/>
                </a:lnTo>
                <a:lnTo>
                  <a:pt x="26" y="1"/>
                </a:lnTo>
                <a:lnTo>
                  <a:pt x="30" y="0"/>
                </a:lnTo>
              </a:path>
            </a:pathLst>
          </a:custGeom>
          <a:noFill/>
          <a:ln w="3240">
            <a:solidFill>
              <a:srgbClr val="1f1a17"/>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5" name="Freeform 164"/>
          <p:cNvSpPr/>
          <p:nvPr/>
        </p:nvSpPr>
        <p:spPr>
          <a:xfrm>
            <a:off x="4202280" y="2797200"/>
            <a:ext cx="639720" cy="498600"/>
          </a:xfrm>
          <a:custGeom>
            <a:avLst/>
            <a:gdLst>
              <a:gd name="textAreaLeft" fmla="*/ 0 w 639720"/>
              <a:gd name="textAreaRight" fmla="*/ 640080 w 639720"/>
              <a:gd name="textAreaTop" fmla="*/ 0 h 498600"/>
              <a:gd name="textAreaBottom" fmla="*/ 498960 h 498600"/>
            </a:gdLst>
            <a:ahLst/>
            <a:rect l="textAreaLeft" t="textAreaTop" r="textAreaRight" b="textAreaBottom"/>
            <a:pathLst>
              <a:path w="806" h="630">
                <a:moveTo>
                  <a:pt x="805" y="152"/>
                </a:moveTo>
                <a:lnTo>
                  <a:pt x="806" y="167"/>
                </a:lnTo>
                <a:lnTo>
                  <a:pt x="806" y="182"/>
                </a:lnTo>
                <a:lnTo>
                  <a:pt x="797" y="209"/>
                </a:lnTo>
                <a:lnTo>
                  <a:pt x="783" y="233"/>
                </a:lnTo>
                <a:lnTo>
                  <a:pt x="755" y="284"/>
                </a:lnTo>
                <a:lnTo>
                  <a:pt x="749" y="313"/>
                </a:lnTo>
                <a:lnTo>
                  <a:pt x="747" y="316"/>
                </a:lnTo>
                <a:lnTo>
                  <a:pt x="744" y="320"/>
                </a:lnTo>
                <a:lnTo>
                  <a:pt x="737" y="327"/>
                </a:lnTo>
                <a:lnTo>
                  <a:pt x="734" y="329"/>
                </a:lnTo>
                <a:lnTo>
                  <a:pt x="730" y="330"/>
                </a:lnTo>
                <a:lnTo>
                  <a:pt x="728" y="330"/>
                </a:lnTo>
                <a:lnTo>
                  <a:pt x="724" y="331"/>
                </a:lnTo>
                <a:lnTo>
                  <a:pt x="717" y="333"/>
                </a:lnTo>
                <a:lnTo>
                  <a:pt x="700" y="341"/>
                </a:lnTo>
                <a:lnTo>
                  <a:pt x="692" y="347"/>
                </a:lnTo>
                <a:lnTo>
                  <a:pt x="687" y="355"/>
                </a:lnTo>
                <a:lnTo>
                  <a:pt x="686" y="358"/>
                </a:lnTo>
                <a:lnTo>
                  <a:pt x="685" y="366"/>
                </a:lnTo>
                <a:lnTo>
                  <a:pt x="685" y="388"/>
                </a:lnTo>
                <a:lnTo>
                  <a:pt x="685" y="406"/>
                </a:lnTo>
                <a:lnTo>
                  <a:pt x="685" y="407"/>
                </a:lnTo>
                <a:lnTo>
                  <a:pt x="687" y="414"/>
                </a:lnTo>
                <a:lnTo>
                  <a:pt x="696" y="438"/>
                </a:lnTo>
                <a:lnTo>
                  <a:pt x="703" y="456"/>
                </a:lnTo>
                <a:lnTo>
                  <a:pt x="704" y="456"/>
                </a:lnTo>
                <a:lnTo>
                  <a:pt x="703" y="459"/>
                </a:lnTo>
                <a:lnTo>
                  <a:pt x="702" y="461"/>
                </a:lnTo>
                <a:lnTo>
                  <a:pt x="700" y="465"/>
                </a:lnTo>
                <a:lnTo>
                  <a:pt x="698" y="471"/>
                </a:lnTo>
                <a:lnTo>
                  <a:pt x="698" y="472"/>
                </a:lnTo>
                <a:lnTo>
                  <a:pt x="695" y="476"/>
                </a:lnTo>
                <a:lnTo>
                  <a:pt x="690" y="483"/>
                </a:lnTo>
                <a:lnTo>
                  <a:pt x="677" y="494"/>
                </a:lnTo>
                <a:lnTo>
                  <a:pt x="670" y="496"/>
                </a:lnTo>
                <a:lnTo>
                  <a:pt x="661" y="496"/>
                </a:lnTo>
                <a:lnTo>
                  <a:pt x="658" y="495"/>
                </a:lnTo>
                <a:lnTo>
                  <a:pt x="653" y="495"/>
                </a:lnTo>
                <a:lnTo>
                  <a:pt x="651" y="494"/>
                </a:lnTo>
                <a:lnTo>
                  <a:pt x="648" y="492"/>
                </a:lnTo>
                <a:lnTo>
                  <a:pt x="643" y="488"/>
                </a:lnTo>
                <a:lnTo>
                  <a:pt x="638" y="483"/>
                </a:lnTo>
                <a:lnTo>
                  <a:pt x="630" y="474"/>
                </a:lnTo>
                <a:lnTo>
                  <a:pt x="628" y="472"/>
                </a:lnTo>
                <a:lnTo>
                  <a:pt x="621" y="476"/>
                </a:lnTo>
                <a:lnTo>
                  <a:pt x="612" y="483"/>
                </a:lnTo>
                <a:lnTo>
                  <a:pt x="597" y="500"/>
                </a:lnTo>
                <a:lnTo>
                  <a:pt x="587" y="521"/>
                </a:lnTo>
                <a:lnTo>
                  <a:pt x="585" y="526"/>
                </a:lnTo>
                <a:lnTo>
                  <a:pt x="575" y="533"/>
                </a:lnTo>
                <a:lnTo>
                  <a:pt x="558" y="551"/>
                </a:lnTo>
                <a:lnTo>
                  <a:pt x="544" y="572"/>
                </a:lnTo>
                <a:lnTo>
                  <a:pt x="517" y="610"/>
                </a:lnTo>
                <a:lnTo>
                  <a:pt x="491" y="630"/>
                </a:lnTo>
                <a:lnTo>
                  <a:pt x="487" y="623"/>
                </a:lnTo>
                <a:lnTo>
                  <a:pt x="481" y="608"/>
                </a:lnTo>
                <a:lnTo>
                  <a:pt x="465" y="583"/>
                </a:lnTo>
                <a:lnTo>
                  <a:pt x="442" y="561"/>
                </a:lnTo>
                <a:lnTo>
                  <a:pt x="435" y="556"/>
                </a:lnTo>
                <a:lnTo>
                  <a:pt x="430" y="558"/>
                </a:lnTo>
                <a:lnTo>
                  <a:pt x="401" y="567"/>
                </a:lnTo>
                <a:lnTo>
                  <a:pt x="305" y="596"/>
                </a:lnTo>
                <a:lnTo>
                  <a:pt x="231" y="618"/>
                </a:lnTo>
                <a:lnTo>
                  <a:pt x="228" y="619"/>
                </a:lnTo>
                <a:lnTo>
                  <a:pt x="226" y="619"/>
                </a:lnTo>
                <a:lnTo>
                  <a:pt x="224" y="618"/>
                </a:lnTo>
                <a:lnTo>
                  <a:pt x="223" y="616"/>
                </a:lnTo>
                <a:lnTo>
                  <a:pt x="222" y="610"/>
                </a:lnTo>
                <a:lnTo>
                  <a:pt x="220" y="594"/>
                </a:lnTo>
                <a:lnTo>
                  <a:pt x="216" y="551"/>
                </a:lnTo>
                <a:lnTo>
                  <a:pt x="213" y="522"/>
                </a:lnTo>
                <a:lnTo>
                  <a:pt x="213" y="521"/>
                </a:lnTo>
                <a:lnTo>
                  <a:pt x="216" y="511"/>
                </a:lnTo>
                <a:lnTo>
                  <a:pt x="229" y="479"/>
                </a:lnTo>
                <a:lnTo>
                  <a:pt x="238" y="454"/>
                </a:lnTo>
                <a:lnTo>
                  <a:pt x="239" y="452"/>
                </a:lnTo>
                <a:lnTo>
                  <a:pt x="241" y="444"/>
                </a:lnTo>
                <a:lnTo>
                  <a:pt x="241" y="426"/>
                </a:lnTo>
                <a:lnTo>
                  <a:pt x="236" y="389"/>
                </a:lnTo>
                <a:lnTo>
                  <a:pt x="223" y="361"/>
                </a:lnTo>
                <a:lnTo>
                  <a:pt x="219" y="356"/>
                </a:lnTo>
                <a:lnTo>
                  <a:pt x="204" y="355"/>
                </a:lnTo>
                <a:lnTo>
                  <a:pt x="176" y="357"/>
                </a:lnTo>
                <a:lnTo>
                  <a:pt x="149" y="361"/>
                </a:lnTo>
                <a:lnTo>
                  <a:pt x="124" y="363"/>
                </a:lnTo>
                <a:lnTo>
                  <a:pt x="99" y="357"/>
                </a:lnTo>
                <a:lnTo>
                  <a:pt x="76" y="338"/>
                </a:lnTo>
                <a:lnTo>
                  <a:pt x="66" y="323"/>
                </a:lnTo>
                <a:lnTo>
                  <a:pt x="64" y="310"/>
                </a:lnTo>
                <a:lnTo>
                  <a:pt x="58" y="274"/>
                </a:lnTo>
                <a:lnTo>
                  <a:pt x="38" y="189"/>
                </a:lnTo>
                <a:lnTo>
                  <a:pt x="8" y="118"/>
                </a:lnTo>
                <a:lnTo>
                  <a:pt x="0" y="108"/>
                </a:lnTo>
                <a:lnTo>
                  <a:pt x="20" y="101"/>
                </a:lnTo>
                <a:lnTo>
                  <a:pt x="51" y="89"/>
                </a:lnTo>
                <a:lnTo>
                  <a:pt x="84" y="67"/>
                </a:lnTo>
                <a:lnTo>
                  <a:pt x="97" y="52"/>
                </a:lnTo>
                <a:lnTo>
                  <a:pt x="101" y="48"/>
                </a:lnTo>
                <a:lnTo>
                  <a:pt x="118" y="39"/>
                </a:lnTo>
                <a:lnTo>
                  <a:pt x="154" y="27"/>
                </a:lnTo>
                <a:lnTo>
                  <a:pt x="191" y="20"/>
                </a:lnTo>
                <a:lnTo>
                  <a:pt x="230" y="20"/>
                </a:lnTo>
                <a:lnTo>
                  <a:pt x="306" y="32"/>
                </a:lnTo>
                <a:lnTo>
                  <a:pt x="324" y="35"/>
                </a:lnTo>
                <a:lnTo>
                  <a:pt x="331" y="35"/>
                </a:lnTo>
                <a:lnTo>
                  <a:pt x="344" y="33"/>
                </a:lnTo>
                <a:lnTo>
                  <a:pt x="372" y="30"/>
                </a:lnTo>
                <a:lnTo>
                  <a:pt x="402" y="33"/>
                </a:lnTo>
                <a:lnTo>
                  <a:pt x="411" y="35"/>
                </a:lnTo>
                <a:lnTo>
                  <a:pt x="418" y="37"/>
                </a:lnTo>
                <a:lnTo>
                  <a:pt x="424" y="37"/>
                </a:lnTo>
                <a:lnTo>
                  <a:pt x="429" y="36"/>
                </a:lnTo>
                <a:lnTo>
                  <a:pt x="436" y="33"/>
                </a:lnTo>
                <a:lnTo>
                  <a:pt x="448" y="26"/>
                </a:lnTo>
                <a:lnTo>
                  <a:pt x="457" y="16"/>
                </a:lnTo>
                <a:lnTo>
                  <a:pt x="468" y="7"/>
                </a:lnTo>
                <a:lnTo>
                  <a:pt x="478" y="0"/>
                </a:lnTo>
                <a:lnTo>
                  <a:pt x="483" y="1"/>
                </a:lnTo>
                <a:lnTo>
                  <a:pt x="496" y="3"/>
                </a:lnTo>
                <a:lnTo>
                  <a:pt x="528" y="12"/>
                </a:lnTo>
                <a:lnTo>
                  <a:pt x="554" y="20"/>
                </a:lnTo>
                <a:lnTo>
                  <a:pt x="558" y="21"/>
                </a:lnTo>
                <a:lnTo>
                  <a:pt x="561" y="21"/>
                </a:lnTo>
                <a:lnTo>
                  <a:pt x="570" y="20"/>
                </a:lnTo>
                <a:lnTo>
                  <a:pt x="585" y="19"/>
                </a:lnTo>
                <a:lnTo>
                  <a:pt x="601" y="19"/>
                </a:lnTo>
                <a:lnTo>
                  <a:pt x="605" y="18"/>
                </a:lnTo>
                <a:lnTo>
                  <a:pt x="612" y="23"/>
                </a:lnTo>
                <a:lnTo>
                  <a:pt x="627" y="33"/>
                </a:lnTo>
                <a:lnTo>
                  <a:pt x="655" y="55"/>
                </a:lnTo>
                <a:lnTo>
                  <a:pt x="678" y="84"/>
                </a:lnTo>
                <a:lnTo>
                  <a:pt x="683" y="91"/>
                </a:lnTo>
                <a:lnTo>
                  <a:pt x="689" y="98"/>
                </a:lnTo>
                <a:lnTo>
                  <a:pt x="706" y="112"/>
                </a:lnTo>
                <a:lnTo>
                  <a:pt x="751" y="139"/>
                </a:lnTo>
                <a:lnTo>
                  <a:pt x="795" y="153"/>
                </a:lnTo>
                <a:lnTo>
                  <a:pt x="805"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165"/>
          <p:cNvSpPr/>
          <p:nvPr/>
        </p:nvSpPr>
        <p:spPr>
          <a:xfrm>
            <a:off x="4202280" y="2797200"/>
            <a:ext cx="639720" cy="498600"/>
          </a:xfrm>
          <a:custGeom>
            <a:avLst/>
            <a:gdLst>
              <a:gd name="textAreaLeft" fmla="*/ 0 w 639720"/>
              <a:gd name="textAreaRight" fmla="*/ 640080 w 639720"/>
              <a:gd name="textAreaTop" fmla="*/ 0 h 498600"/>
              <a:gd name="textAreaBottom" fmla="*/ 498960 h 498600"/>
            </a:gdLst>
            <a:ahLst/>
            <a:rect l="textAreaLeft" t="textAreaTop" r="textAreaRight" b="textAreaBottom"/>
            <a:pathLst>
              <a:path w="806" h="630">
                <a:moveTo>
                  <a:pt x="805" y="152"/>
                </a:moveTo>
                <a:lnTo>
                  <a:pt x="806" y="167"/>
                </a:lnTo>
                <a:lnTo>
                  <a:pt x="806" y="182"/>
                </a:lnTo>
                <a:lnTo>
                  <a:pt x="797" y="209"/>
                </a:lnTo>
                <a:lnTo>
                  <a:pt x="783" y="233"/>
                </a:lnTo>
                <a:lnTo>
                  <a:pt x="755" y="284"/>
                </a:lnTo>
                <a:lnTo>
                  <a:pt x="749" y="313"/>
                </a:lnTo>
                <a:lnTo>
                  <a:pt x="747" y="316"/>
                </a:lnTo>
                <a:lnTo>
                  <a:pt x="744" y="320"/>
                </a:lnTo>
                <a:lnTo>
                  <a:pt x="737" y="327"/>
                </a:lnTo>
                <a:lnTo>
                  <a:pt x="734" y="329"/>
                </a:lnTo>
                <a:lnTo>
                  <a:pt x="730" y="330"/>
                </a:lnTo>
                <a:lnTo>
                  <a:pt x="728" y="330"/>
                </a:lnTo>
                <a:lnTo>
                  <a:pt x="724" y="331"/>
                </a:lnTo>
                <a:lnTo>
                  <a:pt x="717" y="333"/>
                </a:lnTo>
                <a:lnTo>
                  <a:pt x="700" y="341"/>
                </a:lnTo>
                <a:lnTo>
                  <a:pt x="692" y="347"/>
                </a:lnTo>
                <a:lnTo>
                  <a:pt x="687" y="355"/>
                </a:lnTo>
                <a:lnTo>
                  <a:pt x="686" y="358"/>
                </a:lnTo>
                <a:lnTo>
                  <a:pt x="685" y="366"/>
                </a:lnTo>
                <a:lnTo>
                  <a:pt x="685" y="388"/>
                </a:lnTo>
                <a:lnTo>
                  <a:pt x="685" y="406"/>
                </a:lnTo>
                <a:lnTo>
                  <a:pt x="685" y="407"/>
                </a:lnTo>
                <a:lnTo>
                  <a:pt x="687" y="414"/>
                </a:lnTo>
                <a:lnTo>
                  <a:pt x="696" y="438"/>
                </a:lnTo>
                <a:lnTo>
                  <a:pt x="703" y="456"/>
                </a:lnTo>
                <a:lnTo>
                  <a:pt x="704" y="456"/>
                </a:lnTo>
                <a:lnTo>
                  <a:pt x="703" y="459"/>
                </a:lnTo>
                <a:lnTo>
                  <a:pt x="702" y="461"/>
                </a:lnTo>
                <a:lnTo>
                  <a:pt x="700" y="465"/>
                </a:lnTo>
                <a:lnTo>
                  <a:pt x="698" y="471"/>
                </a:lnTo>
                <a:lnTo>
                  <a:pt x="698" y="472"/>
                </a:lnTo>
                <a:lnTo>
                  <a:pt x="695" y="476"/>
                </a:lnTo>
                <a:lnTo>
                  <a:pt x="690" y="483"/>
                </a:lnTo>
                <a:lnTo>
                  <a:pt x="677" y="494"/>
                </a:lnTo>
                <a:lnTo>
                  <a:pt x="670" y="496"/>
                </a:lnTo>
                <a:lnTo>
                  <a:pt x="661" y="496"/>
                </a:lnTo>
                <a:lnTo>
                  <a:pt x="658" y="495"/>
                </a:lnTo>
                <a:lnTo>
                  <a:pt x="653" y="495"/>
                </a:lnTo>
                <a:lnTo>
                  <a:pt x="651" y="494"/>
                </a:lnTo>
                <a:lnTo>
                  <a:pt x="648" y="492"/>
                </a:lnTo>
                <a:lnTo>
                  <a:pt x="643" y="488"/>
                </a:lnTo>
                <a:lnTo>
                  <a:pt x="638" y="483"/>
                </a:lnTo>
                <a:lnTo>
                  <a:pt x="630" y="474"/>
                </a:lnTo>
                <a:lnTo>
                  <a:pt x="628" y="472"/>
                </a:lnTo>
                <a:lnTo>
                  <a:pt x="621" y="476"/>
                </a:lnTo>
                <a:lnTo>
                  <a:pt x="612" y="483"/>
                </a:lnTo>
                <a:lnTo>
                  <a:pt x="597" y="500"/>
                </a:lnTo>
                <a:lnTo>
                  <a:pt x="587" y="521"/>
                </a:lnTo>
                <a:lnTo>
                  <a:pt x="585" y="526"/>
                </a:lnTo>
                <a:lnTo>
                  <a:pt x="575" y="533"/>
                </a:lnTo>
                <a:lnTo>
                  <a:pt x="558" y="551"/>
                </a:lnTo>
                <a:lnTo>
                  <a:pt x="544" y="572"/>
                </a:lnTo>
                <a:lnTo>
                  <a:pt x="517" y="610"/>
                </a:lnTo>
                <a:lnTo>
                  <a:pt x="491" y="630"/>
                </a:lnTo>
                <a:lnTo>
                  <a:pt x="487" y="623"/>
                </a:lnTo>
                <a:lnTo>
                  <a:pt x="481" y="608"/>
                </a:lnTo>
                <a:lnTo>
                  <a:pt x="465" y="583"/>
                </a:lnTo>
                <a:lnTo>
                  <a:pt x="442" y="561"/>
                </a:lnTo>
                <a:lnTo>
                  <a:pt x="435" y="556"/>
                </a:lnTo>
                <a:lnTo>
                  <a:pt x="430" y="558"/>
                </a:lnTo>
                <a:lnTo>
                  <a:pt x="401" y="567"/>
                </a:lnTo>
                <a:lnTo>
                  <a:pt x="305" y="596"/>
                </a:lnTo>
                <a:lnTo>
                  <a:pt x="231" y="618"/>
                </a:lnTo>
                <a:lnTo>
                  <a:pt x="228" y="619"/>
                </a:lnTo>
                <a:lnTo>
                  <a:pt x="226" y="619"/>
                </a:lnTo>
                <a:lnTo>
                  <a:pt x="224" y="618"/>
                </a:lnTo>
                <a:lnTo>
                  <a:pt x="223" y="616"/>
                </a:lnTo>
                <a:lnTo>
                  <a:pt x="222" y="610"/>
                </a:lnTo>
                <a:lnTo>
                  <a:pt x="220" y="594"/>
                </a:lnTo>
                <a:lnTo>
                  <a:pt x="216" y="551"/>
                </a:lnTo>
                <a:lnTo>
                  <a:pt x="213" y="522"/>
                </a:lnTo>
                <a:lnTo>
                  <a:pt x="213" y="521"/>
                </a:lnTo>
                <a:lnTo>
                  <a:pt x="216" y="511"/>
                </a:lnTo>
                <a:lnTo>
                  <a:pt x="229" y="479"/>
                </a:lnTo>
                <a:lnTo>
                  <a:pt x="238" y="454"/>
                </a:lnTo>
                <a:lnTo>
                  <a:pt x="239" y="452"/>
                </a:lnTo>
                <a:lnTo>
                  <a:pt x="241" y="444"/>
                </a:lnTo>
                <a:lnTo>
                  <a:pt x="241" y="426"/>
                </a:lnTo>
                <a:lnTo>
                  <a:pt x="236" y="389"/>
                </a:lnTo>
                <a:lnTo>
                  <a:pt x="223" y="361"/>
                </a:lnTo>
                <a:lnTo>
                  <a:pt x="219" y="356"/>
                </a:lnTo>
                <a:lnTo>
                  <a:pt x="204" y="355"/>
                </a:lnTo>
                <a:lnTo>
                  <a:pt x="176" y="357"/>
                </a:lnTo>
                <a:lnTo>
                  <a:pt x="149" y="361"/>
                </a:lnTo>
                <a:lnTo>
                  <a:pt x="124" y="363"/>
                </a:lnTo>
                <a:lnTo>
                  <a:pt x="99" y="357"/>
                </a:lnTo>
                <a:lnTo>
                  <a:pt x="76" y="338"/>
                </a:lnTo>
                <a:lnTo>
                  <a:pt x="66" y="323"/>
                </a:lnTo>
                <a:lnTo>
                  <a:pt x="64" y="310"/>
                </a:lnTo>
                <a:lnTo>
                  <a:pt x="58" y="274"/>
                </a:lnTo>
                <a:lnTo>
                  <a:pt x="38" y="189"/>
                </a:lnTo>
                <a:lnTo>
                  <a:pt x="8" y="118"/>
                </a:lnTo>
                <a:lnTo>
                  <a:pt x="0" y="108"/>
                </a:lnTo>
                <a:lnTo>
                  <a:pt x="20" y="101"/>
                </a:lnTo>
                <a:lnTo>
                  <a:pt x="51" y="89"/>
                </a:lnTo>
                <a:lnTo>
                  <a:pt x="84" y="67"/>
                </a:lnTo>
                <a:lnTo>
                  <a:pt x="97" y="52"/>
                </a:lnTo>
                <a:lnTo>
                  <a:pt x="101" y="48"/>
                </a:lnTo>
                <a:lnTo>
                  <a:pt x="118" y="39"/>
                </a:lnTo>
                <a:lnTo>
                  <a:pt x="154" y="27"/>
                </a:lnTo>
                <a:lnTo>
                  <a:pt x="191" y="20"/>
                </a:lnTo>
                <a:lnTo>
                  <a:pt x="230" y="20"/>
                </a:lnTo>
                <a:lnTo>
                  <a:pt x="306" y="32"/>
                </a:lnTo>
                <a:lnTo>
                  <a:pt x="324" y="35"/>
                </a:lnTo>
                <a:lnTo>
                  <a:pt x="331" y="35"/>
                </a:lnTo>
                <a:lnTo>
                  <a:pt x="344" y="33"/>
                </a:lnTo>
                <a:lnTo>
                  <a:pt x="372" y="30"/>
                </a:lnTo>
                <a:lnTo>
                  <a:pt x="402" y="33"/>
                </a:lnTo>
                <a:lnTo>
                  <a:pt x="411" y="35"/>
                </a:lnTo>
                <a:lnTo>
                  <a:pt x="418" y="37"/>
                </a:lnTo>
                <a:lnTo>
                  <a:pt x="424" y="37"/>
                </a:lnTo>
                <a:lnTo>
                  <a:pt x="429" y="36"/>
                </a:lnTo>
                <a:lnTo>
                  <a:pt x="436" y="33"/>
                </a:lnTo>
                <a:lnTo>
                  <a:pt x="448" y="26"/>
                </a:lnTo>
                <a:lnTo>
                  <a:pt x="457" y="16"/>
                </a:lnTo>
                <a:lnTo>
                  <a:pt x="468" y="7"/>
                </a:lnTo>
                <a:lnTo>
                  <a:pt x="478" y="0"/>
                </a:lnTo>
                <a:lnTo>
                  <a:pt x="483" y="1"/>
                </a:lnTo>
                <a:lnTo>
                  <a:pt x="496" y="3"/>
                </a:lnTo>
                <a:lnTo>
                  <a:pt x="528" y="12"/>
                </a:lnTo>
                <a:lnTo>
                  <a:pt x="554" y="20"/>
                </a:lnTo>
                <a:lnTo>
                  <a:pt x="558" y="21"/>
                </a:lnTo>
                <a:lnTo>
                  <a:pt x="561" y="21"/>
                </a:lnTo>
                <a:lnTo>
                  <a:pt x="570" y="20"/>
                </a:lnTo>
                <a:lnTo>
                  <a:pt x="585" y="19"/>
                </a:lnTo>
                <a:lnTo>
                  <a:pt x="601" y="19"/>
                </a:lnTo>
                <a:lnTo>
                  <a:pt x="605" y="18"/>
                </a:lnTo>
                <a:lnTo>
                  <a:pt x="612" y="23"/>
                </a:lnTo>
                <a:lnTo>
                  <a:pt x="627" y="33"/>
                </a:lnTo>
                <a:lnTo>
                  <a:pt x="655" y="55"/>
                </a:lnTo>
                <a:lnTo>
                  <a:pt x="678" y="84"/>
                </a:lnTo>
                <a:lnTo>
                  <a:pt x="683" y="91"/>
                </a:lnTo>
                <a:lnTo>
                  <a:pt x="689" y="98"/>
                </a:lnTo>
                <a:lnTo>
                  <a:pt x="706" y="112"/>
                </a:lnTo>
                <a:lnTo>
                  <a:pt x="751" y="139"/>
                </a:lnTo>
                <a:lnTo>
                  <a:pt x="795" y="153"/>
                </a:lnTo>
                <a:lnTo>
                  <a:pt x="805" y="152"/>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166"/>
          <p:cNvSpPr/>
          <p:nvPr/>
        </p:nvSpPr>
        <p:spPr>
          <a:xfrm>
            <a:off x="4203720" y="2444760"/>
            <a:ext cx="777960" cy="473040"/>
          </a:xfrm>
          <a:custGeom>
            <a:avLst/>
            <a:gdLst>
              <a:gd name="textAreaLeft" fmla="*/ 0 w 777960"/>
              <a:gd name="textAreaRight" fmla="*/ 778320 w 777960"/>
              <a:gd name="textAreaTop" fmla="*/ 0 h 473040"/>
              <a:gd name="textAreaBottom" fmla="*/ 473400 h 473040"/>
            </a:gdLst>
            <a:ahLst/>
            <a:rect l="textAreaLeft" t="textAreaTop" r="textAreaRight" b="textAreaBottom"/>
            <a:pathLst>
              <a:path w="980" h="595">
                <a:moveTo>
                  <a:pt x="5" y="544"/>
                </a:moveTo>
                <a:lnTo>
                  <a:pt x="25" y="537"/>
                </a:lnTo>
                <a:lnTo>
                  <a:pt x="55" y="524"/>
                </a:lnTo>
                <a:lnTo>
                  <a:pt x="86" y="506"/>
                </a:lnTo>
                <a:lnTo>
                  <a:pt x="99" y="494"/>
                </a:lnTo>
                <a:lnTo>
                  <a:pt x="103" y="491"/>
                </a:lnTo>
                <a:lnTo>
                  <a:pt x="121" y="483"/>
                </a:lnTo>
                <a:lnTo>
                  <a:pt x="156" y="470"/>
                </a:lnTo>
                <a:lnTo>
                  <a:pt x="194" y="464"/>
                </a:lnTo>
                <a:lnTo>
                  <a:pt x="232" y="463"/>
                </a:lnTo>
                <a:lnTo>
                  <a:pt x="308" y="475"/>
                </a:lnTo>
                <a:lnTo>
                  <a:pt x="326" y="478"/>
                </a:lnTo>
                <a:lnTo>
                  <a:pt x="333" y="478"/>
                </a:lnTo>
                <a:lnTo>
                  <a:pt x="346" y="476"/>
                </a:lnTo>
                <a:lnTo>
                  <a:pt x="374" y="473"/>
                </a:lnTo>
                <a:lnTo>
                  <a:pt x="404" y="476"/>
                </a:lnTo>
                <a:lnTo>
                  <a:pt x="412" y="478"/>
                </a:lnTo>
                <a:lnTo>
                  <a:pt x="419" y="480"/>
                </a:lnTo>
                <a:lnTo>
                  <a:pt x="425" y="480"/>
                </a:lnTo>
                <a:lnTo>
                  <a:pt x="432" y="478"/>
                </a:lnTo>
                <a:lnTo>
                  <a:pt x="437" y="476"/>
                </a:lnTo>
                <a:lnTo>
                  <a:pt x="449" y="469"/>
                </a:lnTo>
                <a:lnTo>
                  <a:pt x="459" y="459"/>
                </a:lnTo>
                <a:lnTo>
                  <a:pt x="469" y="451"/>
                </a:lnTo>
                <a:lnTo>
                  <a:pt x="480" y="444"/>
                </a:lnTo>
                <a:lnTo>
                  <a:pt x="485" y="445"/>
                </a:lnTo>
                <a:lnTo>
                  <a:pt x="498" y="447"/>
                </a:lnTo>
                <a:lnTo>
                  <a:pt x="529" y="455"/>
                </a:lnTo>
                <a:lnTo>
                  <a:pt x="555" y="463"/>
                </a:lnTo>
                <a:lnTo>
                  <a:pt x="559" y="464"/>
                </a:lnTo>
                <a:lnTo>
                  <a:pt x="562" y="464"/>
                </a:lnTo>
                <a:lnTo>
                  <a:pt x="571" y="463"/>
                </a:lnTo>
                <a:lnTo>
                  <a:pt x="587" y="462"/>
                </a:lnTo>
                <a:lnTo>
                  <a:pt x="602" y="462"/>
                </a:lnTo>
                <a:lnTo>
                  <a:pt x="606" y="461"/>
                </a:lnTo>
                <a:lnTo>
                  <a:pt x="613" y="466"/>
                </a:lnTo>
                <a:lnTo>
                  <a:pt x="628" y="476"/>
                </a:lnTo>
                <a:lnTo>
                  <a:pt x="656" y="498"/>
                </a:lnTo>
                <a:lnTo>
                  <a:pt x="680" y="527"/>
                </a:lnTo>
                <a:lnTo>
                  <a:pt x="686" y="535"/>
                </a:lnTo>
                <a:lnTo>
                  <a:pt x="691" y="542"/>
                </a:lnTo>
                <a:lnTo>
                  <a:pt x="708" y="555"/>
                </a:lnTo>
                <a:lnTo>
                  <a:pt x="753" y="582"/>
                </a:lnTo>
                <a:lnTo>
                  <a:pt x="797" y="595"/>
                </a:lnTo>
                <a:lnTo>
                  <a:pt x="807" y="594"/>
                </a:lnTo>
                <a:lnTo>
                  <a:pt x="821" y="587"/>
                </a:lnTo>
                <a:lnTo>
                  <a:pt x="846" y="567"/>
                </a:lnTo>
                <a:lnTo>
                  <a:pt x="866" y="544"/>
                </a:lnTo>
                <a:lnTo>
                  <a:pt x="903" y="492"/>
                </a:lnTo>
                <a:lnTo>
                  <a:pt x="933" y="452"/>
                </a:lnTo>
                <a:lnTo>
                  <a:pt x="947" y="403"/>
                </a:lnTo>
                <a:lnTo>
                  <a:pt x="970" y="317"/>
                </a:lnTo>
                <a:lnTo>
                  <a:pt x="980" y="245"/>
                </a:lnTo>
                <a:lnTo>
                  <a:pt x="975" y="216"/>
                </a:lnTo>
                <a:lnTo>
                  <a:pt x="965" y="190"/>
                </a:lnTo>
                <a:lnTo>
                  <a:pt x="946" y="168"/>
                </a:lnTo>
                <a:lnTo>
                  <a:pt x="918" y="150"/>
                </a:lnTo>
                <a:lnTo>
                  <a:pt x="880" y="135"/>
                </a:lnTo>
                <a:lnTo>
                  <a:pt x="829" y="125"/>
                </a:lnTo>
                <a:lnTo>
                  <a:pt x="767" y="118"/>
                </a:lnTo>
                <a:lnTo>
                  <a:pt x="735" y="105"/>
                </a:lnTo>
                <a:lnTo>
                  <a:pt x="691" y="74"/>
                </a:lnTo>
                <a:lnTo>
                  <a:pt x="665" y="43"/>
                </a:lnTo>
                <a:lnTo>
                  <a:pt x="647" y="17"/>
                </a:lnTo>
                <a:lnTo>
                  <a:pt x="637" y="8"/>
                </a:lnTo>
                <a:lnTo>
                  <a:pt x="626" y="2"/>
                </a:lnTo>
                <a:lnTo>
                  <a:pt x="611" y="0"/>
                </a:lnTo>
                <a:lnTo>
                  <a:pt x="590" y="3"/>
                </a:lnTo>
                <a:lnTo>
                  <a:pt x="565" y="10"/>
                </a:lnTo>
                <a:lnTo>
                  <a:pt x="562" y="10"/>
                </a:lnTo>
                <a:lnTo>
                  <a:pt x="559" y="10"/>
                </a:lnTo>
                <a:lnTo>
                  <a:pt x="556" y="11"/>
                </a:lnTo>
                <a:lnTo>
                  <a:pt x="547" y="14"/>
                </a:lnTo>
                <a:lnTo>
                  <a:pt x="524" y="24"/>
                </a:lnTo>
                <a:lnTo>
                  <a:pt x="471" y="52"/>
                </a:lnTo>
                <a:lnTo>
                  <a:pt x="441" y="66"/>
                </a:lnTo>
                <a:lnTo>
                  <a:pt x="427" y="97"/>
                </a:lnTo>
                <a:lnTo>
                  <a:pt x="421" y="127"/>
                </a:lnTo>
                <a:lnTo>
                  <a:pt x="420" y="159"/>
                </a:lnTo>
                <a:lnTo>
                  <a:pt x="428" y="222"/>
                </a:lnTo>
                <a:lnTo>
                  <a:pt x="439" y="279"/>
                </a:lnTo>
                <a:lnTo>
                  <a:pt x="441" y="328"/>
                </a:lnTo>
                <a:lnTo>
                  <a:pt x="435" y="347"/>
                </a:lnTo>
                <a:lnTo>
                  <a:pt x="422" y="363"/>
                </a:lnTo>
                <a:lnTo>
                  <a:pt x="400" y="373"/>
                </a:lnTo>
                <a:lnTo>
                  <a:pt x="379" y="375"/>
                </a:lnTo>
                <a:lnTo>
                  <a:pt x="360" y="373"/>
                </a:lnTo>
                <a:lnTo>
                  <a:pt x="343" y="368"/>
                </a:lnTo>
                <a:lnTo>
                  <a:pt x="328" y="361"/>
                </a:lnTo>
                <a:lnTo>
                  <a:pt x="313" y="350"/>
                </a:lnTo>
                <a:lnTo>
                  <a:pt x="288" y="325"/>
                </a:lnTo>
                <a:lnTo>
                  <a:pt x="266" y="296"/>
                </a:lnTo>
                <a:lnTo>
                  <a:pt x="248" y="267"/>
                </a:lnTo>
                <a:lnTo>
                  <a:pt x="240" y="254"/>
                </a:lnTo>
                <a:lnTo>
                  <a:pt x="230" y="254"/>
                </a:lnTo>
                <a:lnTo>
                  <a:pt x="207" y="254"/>
                </a:lnTo>
                <a:lnTo>
                  <a:pt x="160" y="249"/>
                </a:lnTo>
                <a:lnTo>
                  <a:pt x="140" y="245"/>
                </a:lnTo>
                <a:lnTo>
                  <a:pt x="125" y="239"/>
                </a:lnTo>
                <a:lnTo>
                  <a:pt x="121" y="235"/>
                </a:lnTo>
                <a:lnTo>
                  <a:pt x="103" y="258"/>
                </a:lnTo>
                <a:lnTo>
                  <a:pt x="79" y="297"/>
                </a:lnTo>
                <a:lnTo>
                  <a:pt x="48" y="368"/>
                </a:lnTo>
                <a:lnTo>
                  <a:pt x="22" y="445"/>
                </a:lnTo>
                <a:lnTo>
                  <a:pt x="14" y="469"/>
                </a:lnTo>
                <a:lnTo>
                  <a:pt x="11" y="475"/>
                </a:lnTo>
                <a:lnTo>
                  <a:pt x="7" y="487"/>
                </a:lnTo>
                <a:lnTo>
                  <a:pt x="0" y="511"/>
                </a:lnTo>
                <a:lnTo>
                  <a:pt x="2" y="538"/>
                </a:lnTo>
                <a:lnTo>
                  <a:pt x="5" y="5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167"/>
          <p:cNvSpPr/>
          <p:nvPr/>
        </p:nvSpPr>
        <p:spPr>
          <a:xfrm>
            <a:off x="4203720" y="2444760"/>
            <a:ext cx="777960" cy="473040"/>
          </a:xfrm>
          <a:custGeom>
            <a:avLst/>
            <a:gdLst>
              <a:gd name="textAreaLeft" fmla="*/ 0 w 777960"/>
              <a:gd name="textAreaRight" fmla="*/ 778320 w 777960"/>
              <a:gd name="textAreaTop" fmla="*/ 0 h 473040"/>
              <a:gd name="textAreaBottom" fmla="*/ 473400 h 473040"/>
            </a:gdLst>
            <a:ahLst/>
            <a:rect l="textAreaLeft" t="textAreaTop" r="textAreaRight" b="textAreaBottom"/>
            <a:pathLst>
              <a:path w="980" h="595">
                <a:moveTo>
                  <a:pt x="5" y="544"/>
                </a:moveTo>
                <a:lnTo>
                  <a:pt x="25" y="537"/>
                </a:lnTo>
                <a:lnTo>
                  <a:pt x="55" y="524"/>
                </a:lnTo>
                <a:lnTo>
                  <a:pt x="86" y="506"/>
                </a:lnTo>
                <a:lnTo>
                  <a:pt x="99" y="494"/>
                </a:lnTo>
                <a:lnTo>
                  <a:pt x="103" y="491"/>
                </a:lnTo>
                <a:lnTo>
                  <a:pt x="121" y="483"/>
                </a:lnTo>
                <a:lnTo>
                  <a:pt x="156" y="470"/>
                </a:lnTo>
                <a:lnTo>
                  <a:pt x="194" y="464"/>
                </a:lnTo>
                <a:lnTo>
                  <a:pt x="232" y="463"/>
                </a:lnTo>
                <a:lnTo>
                  <a:pt x="308" y="475"/>
                </a:lnTo>
                <a:lnTo>
                  <a:pt x="326" y="478"/>
                </a:lnTo>
                <a:lnTo>
                  <a:pt x="333" y="478"/>
                </a:lnTo>
                <a:lnTo>
                  <a:pt x="346" y="476"/>
                </a:lnTo>
                <a:lnTo>
                  <a:pt x="374" y="473"/>
                </a:lnTo>
                <a:lnTo>
                  <a:pt x="404" y="476"/>
                </a:lnTo>
                <a:lnTo>
                  <a:pt x="412" y="478"/>
                </a:lnTo>
                <a:lnTo>
                  <a:pt x="419" y="480"/>
                </a:lnTo>
                <a:lnTo>
                  <a:pt x="425" y="480"/>
                </a:lnTo>
                <a:lnTo>
                  <a:pt x="432" y="478"/>
                </a:lnTo>
                <a:lnTo>
                  <a:pt x="437" y="476"/>
                </a:lnTo>
                <a:lnTo>
                  <a:pt x="449" y="469"/>
                </a:lnTo>
                <a:lnTo>
                  <a:pt x="459" y="459"/>
                </a:lnTo>
                <a:lnTo>
                  <a:pt x="469" y="451"/>
                </a:lnTo>
                <a:lnTo>
                  <a:pt x="480" y="444"/>
                </a:lnTo>
                <a:lnTo>
                  <a:pt x="485" y="445"/>
                </a:lnTo>
                <a:lnTo>
                  <a:pt x="498" y="447"/>
                </a:lnTo>
                <a:lnTo>
                  <a:pt x="529" y="455"/>
                </a:lnTo>
                <a:lnTo>
                  <a:pt x="555" y="463"/>
                </a:lnTo>
                <a:lnTo>
                  <a:pt x="559" y="464"/>
                </a:lnTo>
                <a:lnTo>
                  <a:pt x="562" y="464"/>
                </a:lnTo>
                <a:lnTo>
                  <a:pt x="571" y="463"/>
                </a:lnTo>
                <a:lnTo>
                  <a:pt x="587" y="462"/>
                </a:lnTo>
                <a:lnTo>
                  <a:pt x="602" y="462"/>
                </a:lnTo>
                <a:lnTo>
                  <a:pt x="606" y="461"/>
                </a:lnTo>
                <a:lnTo>
                  <a:pt x="613" y="466"/>
                </a:lnTo>
                <a:lnTo>
                  <a:pt x="628" y="476"/>
                </a:lnTo>
                <a:lnTo>
                  <a:pt x="656" y="498"/>
                </a:lnTo>
                <a:lnTo>
                  <a:pt x="680" y="527"/>
                </a:lnTo>
                <a:lnTo>
                  <a:pt x="686" y="535"/>
                </a:lnTo>
                <a:lnTo>
                  <a:pt x="691" y="542"/>
                </a:lnTo>
                <a:lnTo>
                  <a:pt x="708" y="555"/>
                </a:lnTo>
                <a:lnTo>
                  <a:pt x="753" y="582"/>
                </a:lnTo>
                <a:lnTo>
                  <a:pt x="797" y="595"/>
                </a:lnTo>
                <a:lnTo>
                  <a:pt x="807" y="594"/>
                </a:lnTo>
                <a:lnTo>
                  <a:pt x="821" y="587"/>
                </a:lnTo>
                <a:lnTo>
                  <a:pt x="846" y="567"/>
                </a:lnTo>
                <a:lnTo>
                  <a:pt x="866" y="544"/>
                </a:lnTo>
                <a:lnTo>
                  <a:pt x="903" y="492"/>
                </a:lnTo>
                <a:lnTo>
                  <a:pt x="933" y="452"/>
                </a:lnTo>
                <a:lnTo>
                  <a:pt x="947" y="403"/>
                </a:lnTo>
                <a:lnTo>
                  <a:pt x="970" y="317"/>
                </a:lnTo>
                <a:lnTo>
                  <a:pt x="980" y="245"/>
                </a:lnTo>
                <a:lnTo>
                  <a:pt x="975" y="216"/>
                </a:lnTo>
                <a:lnTo>
                  <a:pt x="965" y="190"/>
                </a:lnTo>
                <a:lnTo>
                  <a:pt x="946" y="168"/>
                </a:lnTo>
                <a:lnTo>
                  <a:pt x="918" y="150"/>
                </a:lnTo>
                <a:lnTo>
                  <a:pt x="880" y="135"/>
                </a:lnTo>
                <a:lnTo>
                  <a:pt x="829" y="125"/>
                </a:lnTo>
                <a:lnTo>
                  <a:pt x="767" y="118"/>
                </a:lnTo>
                <a:lnTo>
                  <a:pt x="735" y="105"/>
                </a:lnTo>
                <a:lnTo>
                  <a:pt x="691" y="74"/>
                </a:lnTo>
                <a:lnTo>
                  <a:pt x="665" y="43"/>
                </a:lnTo>
                <a:lnTo>
                  <a:pt x="647" y="17"/>
                </a:lnTo>
                <a:lnTo>
                  <a:pt x="637" y="8"/>
                </a:lnTo>
                <a:lnTo>
                  <a:pt x="626" y="2"/>
                </a:lnTo>
                <a:lnTo>
                  <a:pt x="611" y="0"/>
                </a:lnTo>
                <a:lnTo>
                  <a:pt x="590" y="3"/>
                </a:lnTo>
                <a:lnTo>
                  <a:pt x="565" y="10"/>
                </a:lnTo>
                <a:lnTo>
                  <a:pt x="562" y="10"/>
                </a:lnTo>
                <a:lnTo>
                  <a:pt x="559" y="10"/>
                </a:lnTo>
                <a:lnTo>
                  <a:pt x="556" y="11"/>
                </a:lnTo>
                <a:lnTo>
                  <a:pt x="547" y="14"/>
                </a:lnTo>
                <a:lnTo>
                  <a:pt x="524" y="24"/>
                </a:lnTo>
                <a:lnTo>
                  <a:pt x="471" y="52"/>
                </a:lnTo>
                <a:lnTo>
                  <a:pt x="441" y="66"/>
                </a:lnTo>
                <a:lnTo>
                  <a:pt x="427" y="97"/>
                </a:lnTo>
                <a:lnTo>
                  <a:pt x="421" y="127"/>
                </a:lnTo>
                <a:lnTo>
                  <a:pt x="420" y="159"/>
                </a:lnTo>
                <a:lnTo>
                  <a:pt x="428" y="222"/>
                </a:lnTo>
                <a:lnTo>
                  <a:pt x="439" y="279"/>
                </a:lnTo>
                <a:lnTo>
                  <a:pt x="441" y="328"/>
                </a:lnTo>
                <a:lnTo>
                  <a:pt x="435" y="347"/>
                </a:lnTo>
                <a:lnTo>
                  <a:pt x="422" y="363"/>
                </a:lnTo>
                <a:lnTo>
                  <a:pt x="400" y="373"/>
                </a:lnTo>
                <a:lnTo>
                  <a:pt x="379" y="375"/>
                </a:lnTo>
                <a:lnTo>
                  <a:pt x="360" y="373"/>
                </a:lnTo>
                <a:lnTo>
                  <a:pt x="343" y="368"/>
                </a:lnTo>
                <a:lnTo>
                  <a:pt x="328" y="361"/>
                </a:lnTo>
                <a:lnTo>
                  <a:pt x="313" y="350"/>
                </a:lnTo>
                <a:lnTo>
                  <a:pt x="288" y="325"/>
                </a:lnTo>
                <a:lnTo>
                  <a:pt x="266" y="296"/>
                </a:lnTo>
                <a:lnTo>
                  <a:pt x="248" y="267"/>
                </a:lnTo>
                <a:lnTo>
                  <a:pt x="240" y="254"/>
                </a:lnTo>
                <a:lnTo>
                  <a:pt x="230" y="254"/>
                </a:lnTo>
                <a:lnTo>
                  <a:pt x="207" y="254"/>
                </a:lnTo>
                <a:lnTo>
                  <a:pt x="160" y="249"/>
                </a:lnTo>
                <a:lnTo>
                  <a:pt x="140" y="245"/>
                </a:lnTo>
                <a:lnTo>
                  <a:pt x="125" y="239"/>
                </a:lnTo>
                <a:lnTo>
                  <a:pt x="121" y="235"/>
                </a:lnTo>
                <a:lnTo>
                  <a:pt x="103" y="258"/>
                </a:lnTo>
                <a:lnTo>
                  <a:pt x="79" y="297"/>
                </a:lnTo>
                <a:lnTo>
                  <a:pt x="48" y="368"/>
                </a:lnTo>
                <a:lnTo>
                  <a:pt x="22" y="445"/>
                </a:lnTo>
                <a:lnTo>
                  <a:pt x="14" y="469"/>
                </a:lnTo>
                <a:lnTo>
                  <a:pt x="11" y="475"/>
                </a:lnTo>
                <a:lnTo>
                  <a:pt x="7" y="487"/>
                </a:lnTo>
                <a:lnTo>
                  <a:pt x="0" y="511"/>
                </a:lnTo>
                <a:lnTo>
                  <a:pt x="2" y="538"/>
                </a:lnTo>
                <a:lnTo>
                  <a:pt x="5" y="544"/>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68"/>
          <p:cNvSpPr/>
          <p:nvPr/>
        </p:nvSpPr>
        <p:spPr>
          <a:xfrm>
            <a:off x="4403880" y="2216160"/>
            <a:ext cx="425160" cy="276120"/>
          </a:xfrm>
          <a:custGeom>
            <a:avLst/>
            <a:gdLst>
              <a:gd name="textAreaLeft" fmla="*/ 0 w 425160"/>
              <a:gd name="textAreaRight" fmla="*/ 425520 w 425160"/>
              <a:gd name="textAreaTop" fmla="*/ 0 h 276120"/>
              <a:gd name="textAreaBottom" fmla="*/ 276480 h 276120"/>
            </a:gdLst>
            <a:ahLst/>
            <a:rect l="textAreaLeft" t="textAreaTop" r="textAreaRight" b="textAreaBottom"/>
            <a:pathLst>
              <a:path w="538" h="348">
                <a:moveTo>
                  <a:pt x="422" y="0"/>
                </a:moveTo>
                <a:lnTo>
                  <a:pt x="455" y="5"/>
                </a:lnTo>
                <a:lnTo>
                  <a:pt x="496" y="16"/>
                </a:lnTo>
                <a:lnTo>
                  <a:pt x="506" y="22"/>
                </a:lnTo>
                <a:lnTo>
                  <a:pt x="509" y="26"/>
                </a:lnTo>
                <a:lnTo>
                  <a:pt x="511" y="29"/>
                </a:lnTo>
                <a:lnTo>
                  <a:pt x="511" y="33"/>
                </a:lnTo>
                <a:lnTo>
                  <a:pt x="511" y="38"/>
                </a:lnTo>
                <a:lnTo>
                  <a:pt x="510" y="42"/>
                </a:lnTo>
                <a:lnTo>
                  <a:pt x="507" y="53"/>
                </a:lnTo>
                <a:lnTo>
                  <a:pt x="496" y="78"/>
                </a:lnTo>
                <a:lnTo>
                  <a:pt x="489" y="110"/>
                </a:lnTo>
                <a:lnTo>
                  <a:pt x="489" y="119"/>
                </a:lnTo>
                <a:lnTo>
                  <a:pt x="481" y="123"/>
                </a:lnTo>
                <a:lnTo>
                  <a:pt x="473" y="128"/>
                </a:lnTo>
                <a:lnTo>
                  <a:pt x="468" y="135"/>
                </a:lnTo>
                <a:lnTo>
                  <a:pt x="464" y="143"/>
                </a:lnTo>
                <a:lnTo>
                  <a:pt x="460" y="151"/>
                </a:lnTo>
                <a:lnTo>
                  <a:pt x="459" y="170"/>
                </a:lnTo>
                <a:lnTo>
                  <a:pt x="464" y="185"/>
                </a:lnTo>
                <a:lnTo>
                  <a:pt x="468" y="190"/>
                </a:lnTo>
                <a:lnTo>
                  <a:pt x="474" y="193"/>
                </a:lnTo>
                <a:lnTo>
                  <a:pt x="482" y="194"/>
                </a:lnTo>
                <a:lnTo>
                  <a:pt x="487" y="200"/>
                </a:lnTo>
                <a:lnTo>
                  <a:pt x="504" y="218"/>
                </a:lnTo>
                <a:lnTo>
                  <a:pt x="517" y="231"/>
                </a:lnTo>
                <a:lnTo>
                  <a:pt x="518" y="231"/>
                </a:lnTo>
                <a:lnTo>
                  <a:pt x="526" y="232"/>
                </a:lnTo>
                <a:lnTo>
                  <a:pt x="531" y="234"/>
                </a:lnTo>
                <a:lnTo>
                  <a:pt x="536" y="236"/>
                </a:lnTo>
                <a:lnTo>
                  <a:pt x="537" y="240"/>
                </a:lnTo>
                <a:lnTo>
                  <a:pt x="538" y="244"/>
                </a:lnTo>
                <a:lnTo>
                  <a:pt x="536" y="249"/>
                </a:lnTo>
                <a:lnTo>
                  <a:pt x="533" y="255"/>
                </a:lnTo>
                <a:lnTo>
                  <a:pt x="525" y="269"/>
                </a:lnTo>
                <a:lnTo>
                  <a:pt x="513" y="282"/>
                </a:lnTo>
                <a:lnTo>
                  <a:pt x="483" y="311"/>
                </a:lnTo>
                <a:lnTo>
                  <a:pt x="440" y="348"/>
                </a:lnTo>
                <a:lnTo>
                  <a:pt x="436" y="348"/>
                </a:lnTo>
                <a:lnTo>
                  <a:pt x="434" y="347"/>
                </a:lnTo>
                <a:lnTo>
                  <a:pt x="430" y="345"/>
                </a:lnTo>
                <a:lnTo>
                  <a:pt x="427" y="342"/>
                </a:lnTo>
                <a:lnTo>
                  <a:pt x="423" y="336"/>
                </a:lnTo>
                <a:lnTo>
                  <a:pt x="411" y="318"/>
                </a:lnTo>
                <a:lnTo>
                  <a:pt x="394" y="302"/>
                </a:lnTo>
                <a:lnTo>
                  <a:pt x="368" y="291"/>
                </a:lnTo>
                <a:lnTo>
                  <a:pt x="328" y="292"/>
                </a:lnTo>
                <a:lnTo>
                  <a:pt x="302" y="298"/>
                </a:lnTo>
                <a:lnTo>
                  <a:pt x="292" y="302"/>
                </a:lnTo>
                <a:lnTo>
                  <a:pt x="275" y="311"/>
                </a:lnTo>
                <a:lnTo>
                  <a:pt x="260" y="322"/>
                </a:lnTo>
                <a:lnTo>
                  <a:pt x="225" y="341"/>
                </a:lnTo>
                <a:lnTo>
                  <a:pt x="186" y="348"/>
                </a:lnTo>
                <a:lnTo>
                  <a:pt x="183" y="347"/>
                </a:lnTo>
                <a:lnTo>
                  <a:pt x="181" y="345"/>
                </a:lnTo>
                <a:lnTo>
                  <a:pt x="180" y="342"/>
                </a:lnTo>
                <a:lnTo>
                  <a:pt x="175" y="334"/>
                </a:lnTo>
                <a:lnTo>
                  <a:pt x="163" y="314"/>
                </a:lnTo>
                <a:lnTo>
                  <a:pt x="155" y="305"/>
                </a:lnTo>
                <a:lnTo>
                  <a:pt x="154" y="306"/>
                </a:lnTo>
                <a:lnTo>
                  <a:pt x="153" y="307"/>
                </a:lnTo>
                <a:lnTo>
                  <a:pt x="147" y="310"/>
                </a:lnTo>
                <a:lnTo>
                  <a:pt x="131" y="320"/>
                </a:lnTo>
                <a:lnTo>
                  <a:pt x="91" y="342"/>
                </a:lnTo>
                <a:lnTo>
                  <a:pt x="69" y="335"/>
                </a:lnTo>
                <a:lnTo>
                  <a:pt x="65" y="334"/>
                </a:lnTo>
                <a:lnTo>
                  <a:pt x="62" y="329"/>
                </a:lnTo>
                <a:lnTo>
                  <a:pt x="59" y="322"/>
                </a:lnTo>
                <a:lnTo>
                  <a:pt x="59" y="312"/>
                </a:lnTo>
                <a:lnTo>
                  <a:pt x="59" y="290"/>
                </a:lnTo>
                <a:lnTo>
                  <a:pt x="64" y="248"/>
                </a:lnTo>
                <a:lnTo>
                  <a:pt x="67" y="237"/>
                </a:lnTo>
                <a:lnTo>
                  <a:pt x="57" y="230"/>
                </a:lnTo>
                <a:lnTo>
                  <a:pt x="40" y="216"/>
                </a:lnTo>
                <a:lnTo>
                  <a:pt x="13" y="192"/>
                </a:lnTo>
                <a:lnTo>
                  <a:pt x="5" y="177"/>
                </a:lnTo>
                <a:lnTo>
                  <a:pt x="0" y="157"/>
                </a:lnTo>
                <a:lnTo>
                  <a:pt x="0" y="145"/>
                </a:lnTo>
                <a:lnTo>
                  <a:pt x="14" y="137"/>
                </a:lnTo>
                <a:lnTo>
                  <a:pt x="39" y="119"/>
                </a:lnTo>
                <a:lnTo>
                  <a:pt x="91" y="79"/>
                </a:lnTo>
                <a:lnTo>
                  <a:pt x="193" y="36"/>
                </a:lnTo>
                <a:lnTo>
                  <a:pt x="233" y="24"/>
                </a:lnTo>
                <a:lnTo>
                  <a:pt x="242" y="22"/>
                </a:lnTo>
                <a:lnTo>
                  <a:pt x="267" y="17"/>
                </a:lnTo>
                <a:lnTo>
                  <a:pt x="336" y="5"/>
                </a:lnTo>
                <a:lnTo>
                  <a:pt x="407" y="0"/>
                </a:lnTo>
                <a:lnTo>
                  <a:pt x="42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169"/>
          <p:cNvSpPr/>
          <p:nvPr/>
        </p:nvSpPr>
        <p:spPr>
          <a:xfrm>
            <a:off x="4403880" y="2216160"/>
            <a:ext cx="425160" cy="276120"/>
          </a:xfrm>
          <a:custGeom>
            <a:avLst/>
            <a:gdLst>
              <a:gd name="textAreaLeft" fmla="*/ 0 w 425160"/>
              <a:gd name="textAreaRight" fmla="*/ 425520 w 425160"/>
              <a:gd name="textAreaTop" fmla="*/ 0 h 276120"/>
              <a:gd name="textAreaBottom" fmla="*/ 276480 h 276120"/>
            </a:gdLst>
            <a:ahLst/>
            <a:rect l="textAreaLeft" t="textAreaTop" r="textAreaRight" b="textAreaBottom"/>
            <a:pathLst>
              <a:path w="538" h="348">
                <a:moveTo>
                  <a:pt x="422" y="0"/>
                </a:moveTo>
                <a:lnTo>
                  <a:pt x="455" y="5"/>
                </a:lnTo>
                <a:lnTo>
                  <a:pt x="496" y="16"/>
                </a:lnTo>
                <a:lnTo>
                  <a:pt x="506" y="22"/>
                </a:lnTo>
                <a:lnTo>
                  <a:pt x="509" y="26"/>
                </a:lnTo>
                <a:lnTo>
                  <a:pt x="511" y="29"/>
                </a:lnTo>
                <a:lnTo>
                  <a:pt x="511" y="33"/>
                </a:lnTo>
                <a:lnTo>
                  <a:pt x="511" y="38"/>
                </a:lnTo>
                <a:lnTo>
                  <a:pt x="510" y="42"/>
                </a:lnTo>
                <a:lnTo>
                  <a:pt x="507" y="53"/>
                </a:lnTo>
                <a:lnTo>
                  <a:pt x="496" y="78"/>
                </a:lnTo>
                <a:lnTo>
                  <a:pt x="489" y="110"/>
                </a:lnTo>
                <a:lnTo>
                  <a:pt x="489" y="119"/>
                </a:lnTo>
                <a:lnTo>
                  <a:pt x="481" y="123"/>
                </a:lnTo>
                <a:lnTo>
                  <a:pt x="473" y="128"/>
                </a:lnTo>
                <a:lnTo>
                  <a:pt x="468" y="135"/>
                </a:lnTo>
                <a:lnTo>
                  <a:pt x="464" y="143"/>
                </a:lnTo>
                <a:lnTo>
                  <a:pt x="460" y="151"/>
                </a:lnTo>
                <a:lnTo>
                  <a:pt x="459" y="170"/>
                </a:lnTo>
                <a:lnTo>
                  <a:pt x="464" y="185"/>
                </a:lnTo>
                <a:lnTo>
                  <a:pt x="468" y="190"/>
                </a:lnTo>
                <a:lnTo>
                  <a:pt x="474" y="193"/>
                </a:lnTo>
                <a:lnTo>
                  <a:pt x="482" y="194"/>
                </a:lnTo>
                <a:lnTo>
                  <a:pt x="487" y="200"/>
                </a:lnTo>
                <a:lnTo>
                  <a:pt x="504" y="218"/>
                </a:lnTo>
                <a:lnTo>
                  <a:pt x="517" y="231"/>
                </a:lnTo>
                <a:lnTo>
                  <a:pt x="518" y="231"/>
                </a:lnTo>
                <a:lnTo>
                  <a:pt x="526" y="232"/>
                </a:lnTo>
                <a:lnTo>
                  <a:pt x="531" y="234"/>
                </a:lnTo>
                <a:lnTo>
                  <a:pt x="536" y="236"/>
                </a:lnTo>
                <a:lnTo>
                  <a:pt x="537" y="240"/>
                </a:lnTo>
                <a:lnTo>
                  <a:pt x="538" y="244"/>
                </a:lnTo>
                <a:lnTo>
                  <a:pt x="536" y="249"/>
                </a:lnTo>
                <a:lnTo>
                  <a:pt x="533" y="255"/>
                </a:lnTo>
                <a:lnTo>
                  <a:pt x="525" y="269"/>
                </a:lnTo>
                <a:lnTo>
                  <a:pt x="513" y="282"/>
                </a:lnTo>
                <a:lnTo>
                  <a:pt x="483" y="311"/>
                </a:lnTo>
                <a:lnTo>
                  <a:pt x="440" y="348"/>
                </a:lnTo>
                <a:lnTo>
                  <a:pt x="436" y="348"/>
                </a:lnTo>
                <a:lnTo>
                  <a:pt x="434" y="347"/>
                </a:lnTo>
                <a:lnTo>
                  <a:pt x="430" y="345"/>
                </a:lnTo>
                <a:lnTo>
                  <a:pt x="427" y="342"/>
                </a:lnTo>
                <a:lnTo>
                  <a:pt x="423" y="336"/>
                </a:lnTo>
                <a:lnTo>
                  <a:pt x="411" y="318"/>
                </a:lnTo>
                <a:lnTo>
                  <a:pt x="394" y="302"/>
                </a:lnTo>
                <a:lnTo>
                  <a:pt x="368" y="291"/>
                </a:lnTo>
                <a:lnTo>
                  <a:pt x="328" y="292"/>
                </a:lnTo>
                <a:lnTo>
                  <a:pt x="302" y="298"/>
                </a:lnTo>
                <a:lnTo>
                  <a:pt x="292" y="302"/>
                </a:lnTo>
                <a:lnTo>
                  <a:pt x="275" y="311"/>
                </a:lnTo>
                <a:lnTo>
                  <a:pt x="260" y="322"/>
                </a:lnTo>
                <a:lnTo>
                  <a:pt x="225" y="341"/>
                </a:lnTo>
                <a:lnTo>
                  <a:pt x="186" y="348"/>
                </a:lnTo>
                <a:lnTo>
                  <a:pt x="183" y="347"/>
                </a:lnTo>
                <a:lnTo>
                  <a:pt x="181" y="345"/>
                </a:lnTo>
                <a:lnTo>
                  <a:pt x="180" y="342"/>
                </a:lnTo>
                <a:lnTo>
                  <a:pt x="175" y="334"/>
                </a:lnTo>
                <a:lnTo>
                  <a:pt x="163" y="314"/>
                </a:lnTo>
                <a:lnTo>
                  <a:pt x="155" y="305"/>
                </a:lnTo>
                <a:lnTo>
                  <a:pt x="154" y="306"/>
                </a:lnTo>
                <a:lnTo>
                  <a:pt x="153" y="307"/>
                </a:lnTo>
                <a:lnTo>
                  <a:pt x="147" y="310"/>
                </a:lnTo>
                <a:lnTo>
                  <a:pt x="131" y="320"/>
                </a:lnTo>
                <a:lnTo>
                  <a:pt x="91" y="342"/>
                </a:lnTo>
                <a:lnTo>
                  <a:pt x="69" y="335"/>
                </a:lnTo>
                <a:lnTo>
                  <a:pt x="65" y="334"/>
                </a:lnTo>
                <a:lnTo>
                  <a:pt x="62" y="329"/>
                </a:lnTo>
                <a:lnTo>
                  <a:pt x="59" y="322"/>
                </a:lnTo>
                <a:lnTo>
                  <a:pt x="59" y="312"/>
                </a:lnTo>
                <a:lnTo>
                  <a:pt x="59" y="290"/>
                </a:lnTo>
                <a:lnTo>
                  <a:pt x="64" y="248"/>
                </a:lnTo>
                <a:lnTo>
                  <a:pt x="67" y="237"/>
                </a:lnTo>
                <a:lnTo>
                  <a:pt x="57" y="230"/>
                </a:lnTo>
                <a:lnTo>
                  <a:pt x="40" y="216"/>
                </a:lnTo>
                <a:lnTo>
                  <a:pt x="13" y="192"/>
                </a:lnTo>
                <a:lnTo>
                  <a:pt x="5" y="177"/>
                </a:lnTo>
                <a:lnTo>
                  <a:pt x="0" y="157"/>
                </a:lnTo>
                <a:lnTo>
                  <a:pt x="0" y="145"/>
                </a:lnTo>
                <a:lnTo>
                  <a:pt x="14" y="137"/>
                </a:lnTo>
                <a:lnTo>
                  <a:pt x="39" y="119"/>
                </a:lnTo>
                <a:lnTo>
                  <a:pt x="91" y="79"/>
                </a:lnTo>
                <a:lnTo>
                  <a:pt x="193" y="36"/>
                </a:lnTo>
                <a:lnTo>
                  <a:pt x="233" y="24"/>
                </a:lnTo>
                <a:lnTo>
                  <a:pt x="242" y="22"/>
                </a:lnTo>
                <a:lnTo>
                  <a:pt x="267" y="17"/>
                </a:lnTo>
                <a:lnTo>
                  <a:pt x="336" y="5"/>
                </a:lnTo>
                <a:lnTo>
                  <a:pt x="407" y="0"/>
                </a:lnTo>
                <a:lnTo>
                  <a:pt x="422"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170"/>
          <p:cNvSpPr/>
          <p:nvPr/>
        </p:nvSpPr>
        <p:spPr>
          <a:xfrm>
            <a:off x="4589640" y="2763720"/>
            <a:ext cx="914400" cy="1103400"/>
          </a:xfrm>
          <a:custGeom>
            <a:avLst/>
            <a:gdLst>
              <a:gd name="textAreaLeft" fmla="*/ 0 w 914400"/>
              <a:gd name="textAreaRight" fmla="*/ 914760 w 914400"/>
              <a:gd name="textAreaTop" fmla="*/ 0 h 1103400"/>
              <a:gd name="textAreaBottom" fmla="*/ 1103760 h 1103400"/>
            </a:gdLst>
            <a:ahLst/>
            <a:rect l="textAreaLeft" t="textAreaTop" r="textAreaRight" b="textAreaBottom"/>
            <a:pathLst>
              <a:path w="1152" h="1391">
                <a:moveTo>
                  <a:pt x="468" y="0"/>
                </a:moveTo>
                <a:lnTo>
                  <a:pt x="469" y="4"/>
                </a:lnTo>
                <a:lnTo>
                  <a:pt x="471" y="11"/>
                </a:lnTo>
                <a:lnTo>
                  <a:pt x="483" y="29"/>
                </a:lnTo>
                <a:lnTo>
                  <a:pt x="524" y="81"/>
                </a:lnTo>
                <a:lnTo>
                  <a:pt x="627" y="204"/>
                </a:lnTo>
                <a:lnTo>
                  <a:pt x="683" y="268"/>
                </a:lnTo>
                <a:lnTo>
                  <a:pt x="699" y="285"/>
                </a:lnTo>
                <a:lnTo>
                  <a:pt x="721" y="298"/>
                </a:lnTo>
                <a:lnTo>
                  <a:pt x="769" y="323"/>
                </a:lnTo>
                <a:lnTo>
                  <a:pt x="874" y="375"/>
                </a:lnTo>
                <a:lnTo>
                  <a:pt x="942" y="443"/>
                </a:lnTo>
                <a:lnTo>
                  <a:pt x="945" y="460"/>
                </a:lnTo>
                <a:lnTo>
                  <a:pt x="947" y="496"/>
                </a:lnTo>
                <a:lnTo>
                  <a:pt x="945" y="538"/>
                </a:lnTo>
                <a:lnTo>
                  <a:pt x="942" y="623"/>
                </a:lnTo>
                <a:lnTo>
                  <a:pt x="957" y="674"/>
                </a:lnTo>
                <a:lnTo>
                  <a:pt x="973" y="698"/>
                </a:lnTo>
                <a:lnTo>
                  <a:pt x="1013" y="738"/>
                </a:lnTo>
                <a:lnTo>
                  <a:pt x="1056" y="772"/>
                </a:lnTo>
                <a:lnTo>
                  <a:pt x="1130" y="841"/>
                </a:lnTo>
                <a:lnTo>
                  <a:pt x="1152" y="915"/>
                </a:lnTo>
                <a:lnTo>
                  <a:pt x="1139" y="917"/>
                </a:lnTo>
                <a:lnTo>
                  <a:pt x="1131" y="920"/>
                </a:lnTo>
                <a:lnTo>
                  <a:pt x="1123" y="925"/>
                </a:lnTo>
                <a:lnTo>
                  <a:pt x="1118" y="932"/>
                </a:lnTo>
                <a:lnTo>
                  <a:pt x="1113" y="939"/>
                </a:lnTo>
                <a:lnTo>
                  <a:pt x="1107" y="952"/>
                </a:lnTo>
                <a:lnTo>
                  <a:pt x="1104" y="957"/>
                </a:lnTo>
                <a:lnTo>
                  <a:pt x="1103" y="958"/>
                </a:lnTo>
                <a:lnTo>
                  <a:pt x="1101" y="960"/>
                </a:lnTo>
                <a:lnTo>
                  <a:pt x="1098" y="960"/>
                </a:lnTo>
                <a:lnTo>
                  <a:pt x="1096" y="960"/>
                </a:lnTo>
                <a:lnTo>
                  <a:pt x="1093" y="959"/>
                </a:lnTo>
                <a:lnTo>
                  <a:pt x="1091" y="958"/>
                </a:lnTo>
                <a:lnTo>
                  <a:pt x="1087" y="955"/>
                </a:lnTo>
                <a:lnTo>
                  <a:pt x="1083" y="951"/>
                </a:lnTo>
                <a:lnTo>
                  <a:pt x="1081" y="950"/>
                </a:lnTo>
                <a:lnTo>
                  <a:pt x="1068" y="941"/>
                </a:lnTo>
                <a:lnTo>
                  <a:pt x="1024" y="910"/>
                </a:lnTo>
                <a:lnTo>
                  <a:pt x="990" y="887"/>
                </a:lnTo>
                <a:lnTo>
                  <a:pt x="989" y="885"/>
                </a:lnTo>
                <a:lnTo>
                  <a:pt x="986" y="896"/>
                </a:lnTo>
                <a:lnTo>
                  <a:pt x="984" y="921"/>
                </a:lnTo>
                <a:lnTo>
                  <a:pt x="985" y="952"/>
                </a:lnTo>
                <a:lnTo>
                  <a:pt x="992" y="1016"/>
                </a:lnTo>
                <a:lnTo>
                  <a:pt x="998" y="1056"/>
                </a:lnTo>
                <a:lnTo>
                  <a:pt x="1024" y="1072"/>
                </a:lnTo>
                <a:lnTo>
                  <a:pt x="1059" y="1101"/>
                </a:lnTo>
                <a:lnTo>
                  <a:pt x="1073" y="1126"/>
                </a:lnTo>
                <a:lnTo>
                  <a:pt x="1078" y="1152"/>
                </a:lnTo>
                <a:lnTo>
                  <a:pt x="1087" y="1181"/>
                </a:lnTo>
                <a:lnTo>
                  <a:pt x="1109" y="1217"/>
                </a:lnTo>
                <a:lnTo>
                  <a:pt x="1130" y="1237"/>
                </a:lnTo>
                <a:lnTo>
                  <a:pt x="1128" y="1244"/>
                </a:lnTo>
                <a:lnTo>
                  <a:pt x="1127" y="1258"/>
                </a:lnTo>
                <a:lnTo>
                  <a:pt x="1124" y="1289"/>
                </a:lnTo>
                <a:lnTo>
                  <a:pt x="1121" y="1315"/>
                </a:lnTo>
                <a:lnTo>
                  <a:pt x="1121" y="1320"/>
                </a:lnTo>
                <a:lnTo>
                  <a:pt x="1096" y="1321"/>
                </a:lnTo>
                <a:lnTo>
                  <a:pt x="1061" y="1326"/>
                </a:lnTo>
                <a:lnTo>
                  <a:pt x="1015" y="1338"/>
                </a:lnTo>
                <a:lnTo>
                  <a:pt x="961" y="1336"/>
                </a:lnTo>
                <a:lnTo>
                  <a:pt x="942" y="1331"/>
                </a:lnTo>
                <a:lnTo>
                  <a:pt x="910" y="1326"/>
                </a:lnTo>
                <a:lnTo>
                  <a:pt x="846" y="1326"/>
                </a:lnTo>
                <a:lnTo>
                  <a:pt x="782" y="1339"/>
                </a:lnTo>
                <a:lnTo>
                  <a:pt x="653" y="1377"/>
                </a:lnTo>
                <a:lnTo>
                  <a:pt x="560" y="1391"/>
                </a:lnTo>
                <a:lnTo>
                  <a:pt x="558" y="1385"/>
                </a:lnTo>
                <a:lnTo>
                  <a:pt x="553" y="1379"/>
                </a:lnTo>
                <a:lnTo>
                  <a:pt x="545" y="1374"/>
                </a:lnTo>
                <a:lnTo>
                  <a:pt x="535" y="1370"/>
                </a:lnTo>
                <a:lnTo>
                  <a:pt x="508" y="1363"/>
                </a:lnTo>
                <a:lnTo>
                  <a:pt x="474" y="1360"/>
                </a:lnTo>
                <a:lnTo>
                  <a:pt x="393" y="1360"/>
                </a:lnTo>
                <a:lnTo>
                  <a:pt x="242" y="1370"/>
                </a:lnTo>
                <a:lnTo>
                  <a:pt x="207" y="1372"/>
                </a:lnTo>
                <a:lnTo>
                  <a:pt x="195" y="1348"/>
                </a:lnTo>
                <a:lnTo>
                  <a:pt x="179" y="1311"/>
                </a:lnTo>
                <a:lnTo>
                  <a:pt x="150" y="1261"/>
                </a:lnTo>
                <a:lnTo>
                  <a:pt x="97" y="1203"/>
                </a:lnTo>
                <a:lnTo>
                  <a:pt x="75" y="1182"/>
                </a:lnTo>
                <a:lnTo>
                  <a:pt x="74" y="1182"/>
                </a:lnTo>
                <a:lnTo>
                  <a:pt x="72" y="1182"/>
                </a:lnTo>
                <a:lnTo>
                  <a:pt x="69" y="1181"/>
                </a:lnTo>
                <a:lnTo>
                  <a:pt x="67" y="1181"/>
                </a:lnTo>
                <a:lnTo>
                  <a:pt x="67" y="1180"/>
                </a:lnTo>
                <a:lnTo>
                  <a:pt x="67" y="1177"/>
                </a:lnTo>
                <a:lnTo>
                  <a:pt x="68" y="1169"/>
                </a:lnTo>
                <a:lnTo>
                  <a:pt x="71" y="1154"/>
                </a:lnTo>
                <a:lnTo>
                  <a:pt x="76" y="1134"/>
                </a:lnTo>
                <a:lnTo>
                  <a:pt x="77" y="1128"/>
                </a:lnTo>
                <a:lnTo>
                  <a:pt x="72" y="1125"/>
                </a:lnTo>
                <a:lnTo>
                  <a:pt x="61" y="1117"/>
                </a:lnTo>
                <a:lnTo>
                  <a:pt x="35" y="1100"/>
                </a:lnTo>
                <a:lnTo>
                  <a:pt x="7" y="1087"/>
                </a:lnTo>
                <a:lnTo>
                  <a:pt x="0" y="1086"/>
                </a:lnTo>
                <a:lnTo>
                  <a:pt x="1" y="1072"/>
                </a:lnTo>
                <a:lnTo>
                  <a:pt x="10" y="1047"/>
                </a:lnTo>
                <a:lnTo>
                  <a:pt x="24" y="1026"/>
                </a:lnTo>
                <a:lnTo>
                  <a:pt x="40" y="1008"/>
                </a:lnTo>
                <a:lnTo>
                  <a:pt x="55" y="992"/>
                </a:lnTo>
                <a:lnTo>
                  <a:pt x="66" y="974"/>
                </a:lnTo>
                <a:lnTo>
                  <a:pt x="69" y="964"/>
                </a:lnTo>
                <a:lnTo>
                  <a:pt x="70" y="944"/>
                </a:lnTo>
                <a:lnTo>
                  <a:pt x="67" y="895"/>
                </a:lnTo>
                <a:lnTo>
                  <a:pt x="44" y="782"/>
                </a:lnTo>
                <a:lnTo>
                  <a:pt x="14" y="692"/>
                </a:lnTo>
                <a:lnTo>
                  <a:pt x="9" y="678"/>
                </a:lnTo>
                <a:lnTo>
                  <a:pt x="13" y="671"/>
                </a:lnTo>
                <a:lnTo>
                  <a:pt x="25" y="655"/>
                </a:lnTo>
                <a:lnTo>
                  <a:pt x="53" y="622"/>
                </a:lnTo>
                <a:lnTo>
                  <a:pt x="86" y="579"/>
                </a:lnTo>
                <a:lnTo>
                  <a:pt x="97" y="566"/>
                </a:lnTo>
                <a:lnTo>
                  <a:pt x="98" y="562"/>
                </a:lnTo>
                <a:lnTo>
                  <a:pt x="102" y="553"/>
                </a:lnTo>
                <a:lnTo>
                  <a:pt x="113" y="537"/>
                </a:lnTo>
                <a:lnTo>
                  <a:pt x="129" y="523"/>
                </a:lnTo>
                <a:lnTo>
                  <a:pt x="135" y="519"/>
                </a:lnTo>
                <a:lnTo>
                  <a:pt x="146" y="528"/>
                </a:lnTo>
                <a:lnTo>
                  <a:pt x="165" y="538"/>
                </a:lnTo>
                <a:lnTo>
                  <a:pt x="182" y="540"/>
                </a:lnTo>
                <a:lnTo>
                  <a:pt x="197" y="535"/>
                </a:lnTo>
                <a:lnTo>
                  <a:pt x="208" y="525"/>
                </a:lnTo>
                <a:lnTo>
                  <a:pt x="218" y="511"/>
                </a:lnTo>
                <a:lnTo>
                  <a:pt x="223" y="503"/>
                </a:lnTo>
                <a:lnTo>
                  <a:pt x="221" y="498"/>
                </a:lnTo>
                <a:lnTo>
                  <a:pt x="219" y="494"/>
                </a:lnTo>
                <a:lnTo>
                  <a:pt x="212" y="483"/>
                </a:lnTo>
                <a:lnTo>
                  <a:pt x="199" y="450"/>
                </a:lnTo>
                <a:lnTo>
                  <a:pt x="204" y="394"/>
                </a:lnTo>
                <a:lnTo>
                  <a:pt x="224" y="386"/>
                </a:lnTo>
                <a:lnTo>
                  <a:pt x="253" y="369"/>
                </a:lnTo>
                <a:lnTo>
                  <a:pt x="271" y="346"/>
                </a:lnTo>
                <a:lnTo>
                  <a:pt x="282" y="315"/>
                </a:lnTo>
                <a:lnTo>
                  <a:pt x="293" y="275"/>
                </a:lnTo>
                <a:lnTo>
                  <a:pt x="309" y="225"/>
                </a:lnTo>
                <a:lnTo>
                  <a:pt x="322" y="196"/>
                </a:lnTo>
                <a:lnTo>
                  <a:pt x="326" y="196"/>
                </a:lnTo>
                <a:lnTo>
                  <a:pt x="332" y="193"/>
                </a:lnTo>
                <a:lnTo>
                  <a:pt x="337" y="190"/>
                </a:lnTo>
                <a:lnTo>
                  <a:pt x="351" y="179"/>
                </a:lnTo>
                <a:lnTo>
                  <a:pt x="382" y="145"/>
                </a:lnTo>
                <a:lnTo>
                  <a:pt x="443" y="58"/>
                </a:lnTo>
                <a:lnTo>
                  <a:pt x="4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171"/>
          <p:cNvSpPr/>
          <p:nvPr/>
        </p:nvSpPr>
        <p:spPr>
          <a:xfrm>
            <a:off x="4589640" y="2763720"/>
            <a:ext cx="914400" cy="1103400"/>
          </a:xfrm>
          <a:custGeom>
            <a:avLst/>
            <a:gdLst>
              <a:gd name="textAreaLeft" fmla="*/ 0 w 914400"/>
              <a:gd name="textAreaRight" fmla="*/ 914760 w 914400"/>
              <a:gd name="textAreaTop" fmla="*/ 0 h 1103400"/>
              <a:gd name="textAreaBottom" fmla="*/ 1103760 h 1103400"/>
            </a:gdLst>
            <a:ahLst/>
            <a:rect l="textAreaLeft" t="textAreaTop" r="textAreaRight" b="textAreaBottom"/>
            <a:pathLst>
              <a:path w="1152" h="1391">
                <a:moveTo>
                  <a:pt x="468" y="0"/>
                </a:moveTo>
                <a:lnTo>
                  <a:pt x="469" y="4"/>
                </a:lnTo>
                <a:lnTo>
                  <a:pt x="471" y="11"/>
                </a:lnTo>
                <a:lnTo>
                  <a:pt x="483" y="29"/>
                </a:lnTo>
                <a:lnTo>
                  <a:pt x="524" y="81"/>
                </a:lnTo>
                <a:lnTo>
                  <a:pt x="627" y="204"/>
                </a:lnTo>
                <a:lnTo>
                  <a:pt x="683" y="268"/>
                </a:lnTo>
                <a:lnTo>
                  <a:pt x="699" y="285"/>
                </a:lnTo>
                <a:lnTo>
                  <a:pt x="721" y="298"/>
                </a:lnTo>
                <a:lnTo>
                  <a:pt x="769" y="323"/>
                </a:lnTo>
                <a:lnTo>
                  <a:pt x="874" y="375"/>
                </a:lnTo>
                <a:lnTo>
                  <a:pt x="942" y="443"/>
                </a:lnTo>
                <a:lnTo>
                  <a:pt x="945" y="460"/>
                </a:lnTo>
                <a:lnTo>
                  <a:pt x="947" y="496"/>
                </a:lnTo>
                <a:lnTo>
                  <a:pt x="945" y="538"/>
                </a:lnTo>
                <a:lnTo>
                  <a:pt x="942" y="623"/>
                </a:lnTo>
                <a:lnTo>
                  <a:pt x="957" y="674"/>
                </a:lnTo>
                <a:lnTo>
                  <a:pt x="973" y="698"/>
                </a:lnTo>
                <a:lnTo>
                  <a:pt x="1013" y="738"/>
                </a:lnTo>
                <a:lnTo>
                  <a:pt x="1056" y="772"/>
                </a:lnTo>
                <a:lnTo>
                  <a:pt x="1130" y="841"/>
                </a:lnTo>
                <a:lnTo>
                  <a:pt x="1152" y="915"/>
                </a:lnTo>
                <a:lnTo>
                  <a:pt x="1139" y="917"/>
                </a:lnTo>
                <a:lnTo>
                  <a:pt x="1131" y="920"/>
                </a:lnTo>
                <a:lnTo>
                  <a:pt x="1123" y="925"/>
                </a:lnTo>
                <a:lnTo>
                  <a:pt x="1118" y="932"/>
                </a:lnTo>
                <a:lnTo>
                  <a:pt x="1113" y="939"/>
                </a:lnTo>
                <a:lnTo>
                  <a:pt x="1107" y="952"/>
                </a:lnTo>
                <a:lnTo>
                  <a:pt x="1104" y="957"/>
                </a:lnTo>
                <a:lnTo>
                  <a:pt x="1103" y="958"/>
                </a:lnTo>
                <a:lnTo>
                  <a:pt x="1101" y="960"/>
                </a:lnTo>
                <a:lnTo>
                  <a:pt x="1098" y="960"/>
                </a:lnTo>
                <a:lnTo>
                  <a:pt x="1096" y="960"/>
                </a:lnTo>
                <a:lnTo>
                  <a:pt x="1093" y="959"/>
                </a:lnTo>
                <a:lnTo>
                  <a:pt x="1091" y="958"/>
                </a:lnTo>
                <a:lnTo>
                  <a:pt x="1087" y="955"/>
                </a:lnTo>
                <a:lnTo>
                  <a:pt x="1083" y="951"/>
                </a:lnTo>
                <a:lnTo>
                  <a:pt x="1081" y="950"/>
                </a:lnTo>
                <a:lnTo>
                  <a:pt x="1068" y="941"/>
                </a:lnTo>
                <a:lnTo>
                  <a:pt x="1024" y="910"/>
                </a:lnTo>
                <a:lnTo>
                  <a:pt x="990" y="887"/>
                </a:lnTo>
                <a:lnTo>
                  <a:pt x="989" y="885"/>
                </a:lnTo>
                <a:lnTo>
                  <a:pt x="986" y="896"/>
                </a:lnTo>
                <a:lnTo>
                  <a:pt x="984" y="921"/>
                </a:lnTo>
                <a:lnTo>
                  <a:pt x="985" y="952"/>
                </a:lnTo>
                <a:lnTo>
                  <a:pt x="992" y="1016"/>
                </a:lnTo>
                <a:lnTo>
                  <a:pt x="998" y="1056"/>
                </a:lnTo>
                <a:lnTo>
                  <a:pt x="1024" y="1072"/>
                </a:lnTo>
                <a:lnTo>
                  <a:pt x="1059" y="1101"/>
                </a:lnTo>
                <a:lnTo>
                  <a:pt x="1073" y="1126"/>
                </a:lnTo>
                <a:lnTo>
                  <a:pt x="1078" y="1152"/>
                </a:lnTo>
                <a:lnTo>
                  <a:pt x="1087" y="1181"/>
                </a:lnTo>
                <a:lnTo>
                  <a:pt x="1109" y="1217"/>
                </a:lnTo>
                <a:lnTo>
                  <a:pt x="1130" y="1237"/>
                </a:lnTo>
                <a:lnTo>
                  <a:pt x="1128" y="1244"/>
                </a:lnTo>
                <a:lnTo>
                  <a:pt x="1127" y="1258"/>
                </a:lnTo>
                <a:lnTo>
                  <a:pt x="1124" y="1289"/>
                </a:lnTo>
                <a:lnTo>
                  <a:pt x="1121" y="1315"/>
                </a:lnTo>
                <a:lnTo>
                  <a:pt x="1121" y="1320"/>
                </a:lnTo>
                <a:lnTo>
                  <a:pt x="1096" y="1321"/>
                </a:lnTo>
                <a:lnTo>
                  <a:pt x="1061" y="1326"/>
                </a:lnTo>
                <a:lnTo>
                  <a:pt x="1015" y="1338"/>
                </a:lnTo>
                <a:lnTo>
                  <a:pt x="961" y="1336"/>
                </a:lnTo>
                <a:lnTo>
                  <a:pt x="942" y="1331"/>
                </a:lnTo>
                <a:lnTo>
                  <a:pt x="910" y="1326"/>
                </a:lnTo>
                <a:lnTo>
                  <a:pt x="846" y="1326"/>
                </a:lnTo>
                <a:lnTo>
                  <a:pt x="782" y="1339"/>
                </a:lnTo>
                <a:lnTo>
                  <a:pt x="653" y="1377"/>
                </a:lnTo>
                <a:lnTo>
                  <a:pt x="560" y="1391"/>
                </a:lnTo>
                <a:lnTo>
                  <a:pt x="558" y="1385"/>
                </a:lnTo>
                <a:lnTo>
                  <a:pt x="553" y="1379"/>
                </a:lnTo>
                <a:lnTo>
                  <a:pt x="545" y="1374"/>
                </a:lnTo>
                <a:lnTo>
                  <a:pt x="535" y="1370"/>
                </a:lnTo>
                <a:lnTo>
                  <a:pt x="508" y="1363"/>
                </a:lnTo>
                <a:lnTo>
                  <a:pt x="474" y="1360"/>
                </a:lnTo>
                <a:lnTo>
                  <a:pt x="393" y="1360"/>
                </a:lnTo>
                <a:lnTo>
                  <a:pt x="242" y="1370"/>
                </a:lnTo>
                <a:lnTo>
                  <a:pt x="207" y="1372"/>
                </a:lnTo>
                <a:lnTo>
                  <a:pt x="195" y="1348"/>
                </a:lnTo>
                <a:lnTo>
                  <a:pt x="179" y="1311"/>
                </a:lnTo>
                <a:lnTo>
                  <a:pt x="150" y="1261"/>
                </a:lnTo>
                <a:lnTo>
                  <a:pt x="97" y="1203"/>
                </a:lnTo>
                <a:lnTo>
                  <a:pt x="75" y="1182"/>
                </a:lnTo>
                <a:lnTo>
                  <a:pt x="74" y="1182"/>
                </a:lnTo>
                <a:lnTo>
                  <a:pt x="72" y="1182"/>
                </a:lnTo>
                <a:lnTo>
                  <a:pt x="69" y="1181"/>
                </a:lnTo>
                <a:lnTo>
                  <a:pt x="67" y="1181"/>
                </a:lnTo>
                <a:lnTo>
                  <a:pt x="67" y="1180"/>
                </a:lnTo>
                <a:lnTo>
                  <a:pt x="67" y="1177"/>
                </a:lnTo>
                <a:lnTo>
                  <a:pt x="68" y="1169"/>
                </a:lnTo>
                <a:lnTo>
                  <a:pt x="71" y="1154"/>
                </a:lnTo>
                <a:lnTo>
                  <a:pt x="76" y="1134"/>
                </a:lnTo>
                <a:lnTo>
                  <a:pt x="77" y="1128"/>
                </a:lnTo>
                <a:lnTo>
                  <a:pt x="72" y="1125"/>
                </a:lnTo>
                <a:lnTo>
                  <a:pt x="61" y="1117"/>
                </a:lnTo>
                <a:lnTo>
                  <a:pt x="35" y="1100"/>
                </a:lnTo>
                <a:lnTo>
                  <a:pt x="7" y="1087"/>
                </a:lnTo>
                <a:lnTo>
                  <a:pt x="0" y="1086"/>
                </a:lnTo>
                <a:lnTo>
                  <a:pt x="1" y="1072"/>
                </a:lnTo>
                <a:lnTo>
                  <a:pt x="10" y="1047"/>
                </a:lnTo>
                <a:lnTo>
                  <a:pt x="24" y="1026"/>
                </a:lnTo>
                <a:lnTo>
                  <a:pt x="40" y="1008"/>
                </a:lnTo>
                <a:lnTo>
                  <a:pt x="55" y="992"/>
                </a:lnTo>
                <a:lnTo>
                  <a:pt x="66" y="974"/>
                </a:lnTo>
                <a:lnTo>
                  <a:pt x="69" y="964"/>
                </a:lnTo>
                <a:lnTo>
                  <a:pt x="70" y="944"/>
                </a:lnTo>
                <a:lnTo>
                  <a:pt x="67" y="895"/>
                </a:lnTo>
                <a:lnTo>
                  <a:pt x="44" y="782"/>
                </a:lnTo>
                <a:lnTo>
                  <a:pt x="14" y="692"/>
                </a:lnTo>
                <a:lnTo>
                  <a:pt x="9" y="678"/>
                </a:lnTo>
                <a:lnTo>
                  <a:pt x="13" y="671"/>
                </a:lnTo>
                <a:lnTo>
                  <a:pt x="25" y="655"/>
                </a:lnTo>
                <a:lnTo>
                  <a:pt x="53" y="622"/>
                </a:lnTo>
                <a:lnTo>
                  <a:pt x="86" y="579"/>
                </a:lnTo>
                <a:lnTo>
                  <a:pt x="97" y="566"/>
                </a:lnTo>
                <a:lnTo>
                  <a:pt x="98" y="562"/>
                </a:lnTo>
                <a:lnTo>
                  <a:pt x="102" y="553"/>
                </a:lnTo>
                <a:lnTo>
                  <a:pt x="113" y="537"/>
                </a:lnTo>
                <a:lnTo>
                  <a:pt x="129" y="523"/>
                </a:lnTo>
                <a:lnTo>
                  <a:pt x="135" y="519"/>
                </a:lnTo>
                <a:lnTo>
                  <a:pt x="146" y="528"/>
                </a:lnTo>
                <a:lnTo>
                  <a:pt x="165" y="538"/>
                </a:lnTo>
                <a:lnTo>
                  <a:pt x="182" y="540"/>
                </a:lnTo>
                <a:lnTo>
                  <a:pt x="197" y="535"/>
                </a:lnTo>
                <a:lnTo>
                  <a:pt x="208" y="525"/>
                </a:lnTo>
                <a:lnTo>
                  <a:pt x="218" y="511"/>
                </a:lnTo>
                <a:lnTo>
                  <a:pt x="223" y="503"/>
                </a:lnTo>
                <a:lnTo>
                  <a:pt x="221" y="498"/>
                </a:lnTo>
                <a:lnTo>
                  <a:pt x="219" y="494"/>
                </a:lnTo>
                <a:lnTo>
                  <a:pt x="212" y="483"/>
                </a:lnTo>
                <a:lnTo>
                  <a:pt x="199" y="450"/>
                </a:lnTo>
                <a:lnTo>
                  <a:pt x="204" y="394"/>
                </a:lnTo>
                <a:lnTo>
                  <a:pt x="224" y="386"/>
                </a:lnTo>
                <a:lnTo>
                  <a:pt x="253" y="369"/>
                </a:lnTo>
                <a:lnTo>
                  <a:pt x="271" y="346"/>
                </a:lnTo>
                <a:lnTo>
                  <a:pt x="282" y="315"/>
                </a:lnTo>
                <a:lnTo>
                  <a:pt x="293" y="275"/>
                </a:lnTo>
                <a:lnTo>
                  <a:pt x="309" y="225"/>
                </a:lnTo>
                <a:lnTo>
                  <a:pt x="322" y="196"/>
                </a:lnTo>
                <a:lnTo>
                  <a:pt x="326" y="196"/>
                </a:lnTo>
                <a:lnTo>
                  <a:pt x="332" y="193"/>
                </a:lnTo>
                <a:lnTo>
                  <a:pt x="337" y="190"/>
                </a:lnTo>
                <a:lnTo>
                  <a:pt x="351" y="179"/>
                </a:lnTo>
                <a:lnTo>
                  <a:pt x="382" y="145"/>
                </a:lnTo>
                <a:lnTo>
                  <a:pt x="443" y="58"/>
                </a:lnTo>
                <a:lnTo>
                  <a:pt x="468"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172"/>
          <p:cNvSpPr/>
          <p:nvPr/>
        </p:nvSpPr>
        <p:spPr>
          <a:xfrm>
            <a:off x="4565520" y="3811680"/>
            <a:ext cx="1359000" cy="933480"/>
          </a:xfrm>
          <a:custGeom>
            <a:avLst/>
            <a:gdLst>
              <a:gd name="textAreaLeft" fmla="*/ 0 w 1359000"/>
              <a:gd name="textAreaRight" fmla="*/ 1359000 w 1359000"/>
              <a:gd name="textAreaTop" fmla="*/ 0 h 933480"/>
              <a:gd name="textAreaBottom" fmla="*/ 933840 h 933480"/>
            </a:gdLst>
            <a:ahLst/>
            <a:rect l="textAreaLeft" t="textAreaTop" r="textAreaRight" b="textAreaBottom"/>
            <a:pathLst>
              <a:path w="1712" h="1175">
                <a:moveTo>
                  <a:pt x="1701" y="744"/>
                </a:moveTo>
                <a:lnTo>
                  <a:pt x="1701" y="732"/>
                </a:lnTo>
                <a:lnTo>
                  <a:pt x="1702" y="640"/>
                </a:lnTo>
                <a:lnTo>
                  <a:pt x="1708" y="328"/>
                </a:lnTo>
                <a:lnTo>
                  <a:pt x="1711" y="88"/>
                </a:lnTo>
                <a:lnTo>
                  <a:pt x="1712" y="75"/>
                </a:lnTo>
                <a:lnTo>
                  <a:pt x="1711" y="77"/>
                </a:lnTo>
                <a:lnTo>
                  <a:pt x="1709" y="79"/>
                </a:lnTo>
                <a:lnTo>
                  <a:pt x="1706" y="80"/>
                </a:lnTo>
                <a:lnTo>
                  <a:pt x="1703" y="82"/>
                </a:lnTo>
                <a:lnTo>
                  <a:pt x="1696" y="84"/>
                </a:lnTo>
                <a:lnTo>
                  <a:pt x="1686" y="85"/>
                </a:lnTo>
                <a:lnTo>
                  <a:pt x="1661" y="85"/>
                </a:lnTo>
                <a:lnTo>
                  <a:pt x="1606" y="78"/>
                </a:lnTo>
                <a:lnTo>
                  <a:pt x="1580" y="71"/>
                </a:lnTo>
                <a:lnTo>
                  <a:pt x="1529" y="57"/>
                </a:lnTo>
                <a:lnTo>
                  <a:pt x="1455" y="35"/>
                </a:lnTo>
                <a:lnTo>
                  <a:pt x="1372" y="26"/>
                </a:lnTo>
                <a:lnTo>
                  <a:pt x="1314" y="46"/>
                </a:lnTo>
                <a:lnTo>
                  <a:pt x="1295" y="53"/>
                </a:lnTo>
                <a:lnTo>
                  <a:pt x="1281" y="50"/>
                </a:lnTo>
                <a:lnTo>
                  <a:pt x="1267" y="42"/>
                </a:lnTo>
                <a:lnTo>
                  <a:pt x="1238" y="26"/>
                </a:lnTo>
                <a:lnTo>
                  <a:pt x="1156" y="0"/>
                </a:lnTo>
                <a:lnTo>
                  <a:pt x="1019" y="23"/>
                </a:lnTo>
                <a:lnTo>
                  <a:pt x="993" y="16"/>
                </a:lnTo>
                <a:lnTo>
                  <a:pt x="945" y="7"/>
                </a:lnTo>
                <a:lnTo>
                  <a:pt x="852" y="11"/>
                </a:lnTo>
                <a:lnTo>
                  <a:pt x="744" y="40"/>
                </a:lnTo>
                <a:lnTo>
                  <a:pt x="713" y="50"/>
                </a:lnTo>
                <a:lnTo>
                  <a:pt x="710" y="51"/>
                </a:lnTo>
                <a:lnTo>
                  <a:pt x="703" y="52"/>
                </a:lnTo>
                <a:lnTo>
                  <a:pt x="681" y="56"/>
                </a:lnTo>
                <a:lnTo>
                  <a:pt x="622" y="68"/>
                </a:lnTo>
                <a:lnTo>
                  <a:pt x="581" y="80"/>
                </a:lnTo>
                <a:lnTo>
                  <a:pt x="578" y="70"/>
                </a:lnTo>
                <a:lnTo>
                  <a:pt x="573" y="61"/>
                </a:lnTo>
                <a:lnTo>
                  <a:pt x="566" y="54"/>
                </a:lnTo>
                <a:lnTo>
                  <a:pt x="557" y="48"/>
                </a:lnTo>
                <a:lnTo>
                  <a:pt x="545" y="42"/>
                </a:lnTo>
                <a:lnTo>
                  <a:pt x="518" y="36"/>
                </a:lnTo>
                <a:lnTo>
                  <a:pt x="485" y="34"/>
                </a:lnTo>
                <a:lnTo>
                  <a:pt x="410" y="36"/>
                </a:lnTo>
                <a:lnTo>
                  <a:pt x="265" y="49"/>
                </a:lnTo>
                <a:lnTo>
                  <a:pt x="229" y="46"/>
                </a:lnTo>
                <a:lnTo>
                  <a:pt x="230" y="52"/>
                </a:lnTo>
                <a:lnTo>
                  <a:pt x="234" y="63"/>
                </a:lnTo>
                <a:lnTo>
                  <a:pt x="245" y="83"/>
                </a:lnTo>
                <a:lnTo>
                  <a:pt x="254" y="104"/>
                </a:lnTo>
                <a:lnTo>
                  <a:pt x="257" y="108"/>
                </a:lnTo>
                <a:lnTo>
                  <a:pt x="242" y="131"/>
                </a:lnTo>
                <a:lnTo>
                  <a:pt x="209" y="176"/>
                </a:lnTo>
                <a:lnTo>
                  <a:pt x="145" y="266"/>
                </a:lnTo>
                <a:lnTo>
                  <a:pt x="87" y="360"/>
                </a:lnTo>
                <a:lnTo>
                  <a:pt x="75" y="385"/>
                </a:lnTo>
                <a:lnTo>
                  <a:pt x="75" y="393"/>
                </a:lnTo>
                <a:lnTo>
                  <a:pt x="76" y="406"/>
                </a:lnTo>
                <a:lnTo>
                  <a:pt x="81" y="427"/>
                </a:lnTo>
                <a:lnTo>
                  <a:pt x="84" y="455"/>
                </a:lnTo>
                <a:lnTo>
                  <a:pt x="84" y="464"/>
                </a:lnTo>
                <a:lnTo>
                  <a:pt x="82" y="469"/>
                </a:lnTo>
                <a:lnTo>
                  <a:pt x="69" y="498"/>
                </a:lnTo>
                <a:lnTo>
                  <a:pt x="28" y="597"/>
                </a:lnTo>
                <a:lnTo>
                  <a:pt x="0" y="674"/>
                </a:lnTo>
                <a:lnTo>
                  <a:pt x="0" y="678"/>
                </a:lnTo>
                <a:lnTo>
                  <a:pt x="13" y="686"/>
                </a:lnTo>
                <a:lnTo>
                  <a:pt x="50" y="707"/>
                </a:lnTo>
                <a:lnTo>
                  <a:pt x="142" y="752"/>
                </a:lnTo>
                <a:lnTo>
                  <a:pt x="189" y="768"/>
                </a:lnTo>
                <a:lnTo>
                  <a:pt x="229" y="775"/>
                </a:lnTo>
                <a:lnTo>
                  <a:pt x="245" y="773"/>
                </a:lnTo>
                <a:lnTo>
                  <a:pt x="261" y="771"/>
                </a:lnTo>
                <a:lnTo>
                  <a:pt x="294" y="762"/>
                </a:lnTo>
                <a:lnTo>
                  <a:pt x="355" y="730"/>
                </a:lnTo>
                <a:lnTo>
                  <a:pt x="409" y="687"/>
                </a:lnTo>
                <a:lnTo>
                  <a:pt x="421" y="675"/>
                </a:lnTo>
                <a:lnTo>
                  <a:pt x="425" y="677"/>
                </a:lnTo>
                <a:lnTo>
                  <a:pt x="428" y="680"/>
                </a:lnTo>
                <a:lnTo>
                  <a:pt x="439" y="686"/>
                </a:lnTo>
                <a:lnTo>
                  <a:pt x="466" y="706"/>
                </a:lnTo>
                <a:lnTo>
                  <a:pt x="524" y="744"/>
                </a:lnTo>
                <a:lnTo>
                  <a:pt x="548" y="744"/>
                </a:lnTo>
                <a:lnTo>
                  <a:pt x="548" y="739"/>
                </a:lnTo>
                <a:lnTo>
                  <a:pt x="551" y="733"/>
                </a:lnTo>
                <a:lnTo>
                  <a:pt x="556" y="727"/>
                </a:lnTo>
                <a:lnTo>
                  <a:pt x="569" y="713"/>
                </a:lnTo>
                <a:lnTo>
                  <a:pt x="606" y="680"/>
                </a:lnTo>
                <a:lnTo>
                  <a:pt x="695" y="616"/>
                </a:lnTo>
                <a:lnTo>
                  <a:pt x="734" y="584"/>
                </a:lnTo>
                <a:lnTo>
                  <a:pt x="735" y="586"/>
                </a:lnTo>
                <a:lnTo>
                  <a:pt x="736" y="588"/>
                </a:lnTo>
                <a:lnTo>
                  <a:pt x="738" y="591"/>
                </a:lnTo>
                <a:lnTo>
                  <a:pt x="747" y="599"/>
                </a:lnTo>
                <a:lnTo>
                  <a:pt x="772" y="625"/>
                </a:lnTo>
                <a:lnTo>
                  <a:pt x="851" y="692"/>
                </a:lnTo>
                <a:lnTo>
                  <a:pt x="935" y="737"/>
                </a:lnTo>
                <a:lnTo>
                  <a:pt x="944" y="748"/>
                </a:lnTo>
                <a:lnTo>
                  <a:pt x="969" y="767"/>
                </a:lnTo>
                <a:lnTo>
                  <a:pt x="1000" y="785"/>
                </a:lnTo>
                <a:lnTo>
                  <a:pt x="1069" y="827"/>
                </a:lnTo>
                <a:lnTo>
                  <a:pt x="1120" y="871"/>
                </a:lnTo>
                <a:lnTo>
                  <a:pt x="1124" y="883"/>
                </a:lnTo>
                <a:lnTo>
                  <a:pt x="1133" y="909"/>
                </a:lnTo>
                <a:lnTo>
                  <a:pt x="1140" y="965"/>
                </a:lnTo>
                <a:lnTo>
                  <a:pt x="1148" y="1023"/>
                </a:lnTo>
                <a:lnTo>
                  <a:pt x="1151" y="1036"/>
                </a:lnTo>
                <a:lnTo>
                  <a:pt x="1151" y="1058"/>
                </a:lnTo>
                <a:lnTo>
                  <a:pt x="1160" y="1100"/>
                </a:lnTo>
                <a:lnTo>
                  <a:pt x="1178" y="1136"/>
                </a:lnTo>
                <a:lnTo>
                  <a:pt x="1206" y="1161"/>
                </a:lnTo>
                <a:lnTo>
                  <a:pt x="1241" y="1175"/>
                </a:lnTo>
                <a:lnTo>
                  <a:pt x="1284" y="1173"/>
                </a:lnTo>
                <a:lnTo>
                  <a:pt x="1309" y="1165"/>
                </a:lnTo>
                <a:lnTo>
                  <a:pt x="1313" y="1160"/>
                </a:lnTo>
                <a:lnTo>
                  <a:pt x="1323" y="1146"/>
                </a:lnTo>
                <a:lnTo>
                  <a:pt x="1346" y="1114"/>
                </a:lnTo>
                <a:lnTo>
                  <a:pt x="1360" y="1094"/>
                </a:lnTo>
                <a:lnTo>
                  <a:pt x="1361" y="1091"/>
                </a:lnTo>
                <a:lnTo>
                  <a:pt x="1356" y="1079"/>
                </a:lnTo>
                <a:lnTo>
                  <a:pt x="1340" y="1041"/>
                </a:lnTo>
                <a:lnTo>
                  <a:pt x="1327" y="1012"/>
                </a:lnTo>
                <a:lnTo>
                  <a:pt x="1327" y="1010"/>
                </a:lnTo>
                <a:lnTo>
                  <a:pt x="1334" y="1011"/>
                </a:lnTo>
                <a:lnTo>
                  <a:pt x="1350" y="1013"/>
                </a:lnTo>
                <a:lnTo>
                  <a:pt x="1379" y="1022"/>
                </a:lnTo>
                <a:lnTo>
                  <a:pt x="1407" y="1025"/>
                </a:lnTo>
                <a:lnTo>
                  <a:pt x="1415" y="1023"/>
                </a:lnTo>
                <a:lnTo>
                  <a:pt x="1417" y="983"/>
                </a:lnTo>
                <a:lnTo>
                  <a:pt x="1431" y="905"/>
                </a:lnTo>
                <a:lnTo>
                  <a:pt x="1459" y="837"/>
                </a:lnTo>
                <a:lnTo>
                  <a:pt x="1504" y="784"/>
                </a:lnTo>
                <a:lnTo>
                  <a:pt x="1567" y="749"/>
                </a:lnTo>
                <a:lnTo>
                  <a:pt x="1651" y="739"/>
                </a:lnTo>
                <a:lnTo>
                  <a:pt x="1701" y="7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73"/>
          <p:cNvSpPr/>
          <p:nvPr/>
        </p:nvSpPr>
        <p:spPr>
          <a:xfrm>
            <a:off x="4565520" y="3811680"/>
            <a:ext cx="1359000" cy="933480"/>
          </a:xfrm>
          <a:custGeom>
            <a:avLst/>
            <a:gdLst>
              <a:gd name="textAreaLeft" fmla="*/ 0 w 1359000"/>
              <a:gd name="textAreaRight" fmla="*/ 1359000 w 1359000"/>
              <a:gd name="textAreaTop" fmla="*/ 0 h 933480"/>
              <a:gd name="textAreaBottom" fmla="*/ 933840 h 933480"/>
            </a:gdLst>
            <a:ahLst/>
            <a:rect l="textAreaLeft" t="textAreaTop" r="textAreaRight" b="textAreaBottom"/>
            <a:pathLst>
              <a:path w="1712" h="1175">
                <a:moveTo>
                  <a:pt x="1701" y="744"/>
                </a:moveTo>
                <a:lnTo>
                  <a:pt x="1701" y="732"/>
                </a:lnTo>
                <a:lnTo>
                  <a:pt x="1702" y="640"/>
                </a:lnTo>
                <a:lnTo>
                  <a:pt x="1708" y="328"/>
                </a:lnTo>
                <a:lnTo>
                  <a:pt x="1711" y="88"/>
                </a:lnTo>
                <a:lnTo>
                  <a:pt x="1712" y="75"/>
                </a:lnTo>
                <a:lnTo>
                  <a:pt x="1711" y="77"/>
                </a:lnTo>
                <a:lnTo>
                  <a:pt x="1709" y="79"/>
                </a:lnTo>
                <a:lnTo>
                  <a:pt x="1706" y="80"/>
                </a:lnTo>
                <a:lnTo>
                  <a:pt x="1703" y="82"/>
                </a:lnTo>
                <a:lnTo>
                  <a:pt x="1696" y="84"/>
                </a:lnTo>
                <a:lnTo>
                  <a:pt x="1686" y="85"/>
                </a:lnTo>
                <a:lnTo>
                  <a:pt x="1661" y="85"/>
                </a:lnTo>
                <a:lnTo>
                  <a:pt x="1606" y="78"/>
                </a:lnTo>
                <a:lnTo>
                  <a:pt x="1580" y="71"/>
                </a:lnTo>
                <a:lnTo>
                  <a:pt x="1529" y="57"/>
                </a:lnTo>
                <a:lnTo>
                  <a:pt x="1455" y="35"/>
                </a:lnTo>
                <a:lnTo>
                  <a:pt x="1372" y="26"/>
                </a:lnTo>
                <a:lnTo>
                  <a:pt x="1314" y="46"/>
                </a:lnTo>
                <a:lnTo>
                  <a:pt x="1295" y="53"/>
                </a:lnTo>
                <a:lnTo>
                  <a:pt x="1281" y="50"/>
                </a:lnTo>
                <a:lnTo>
                  <a:pt x="1267" y="42"/>
                </a:lnTo>
                <a:lnTo>
                  <a:pt x="1238" y="26"/>
                </a:lnTo>
                <a:lnTo>
                  <a:pt x="1156" y="0"/>
                </a:lnTo>
                <a:lnTo>
                  <a:pt x="1019" y="23"/>
                </a:lnTo>
                <a:lnTo>
                  <a:pt x="993" y="16"/>
                </a:lnTo>
                <a:lnTo>
                  <a:pt x="945" y="7"/>
                </a:lnTo>
                <a:lnTo>
                  <a:pt x="852" y="11"/>
                </a:lnTo>
                <a:lnTo>
                  <a:pt x="744" y="40"/>
                </a:lnTo>
                <a:lnTo>
                  <a:pt x="713" y="50"/>
                </a:lnTo>
                <a:lnTo>
                  <a:pt x="710" y="51"/>
                </a:lnTo>
                <a:lnTo>
                  <a:pt x="703" y="52"/>
                </a:lnTo>
                <a:lnTo>
                  <a:pt x="681" y="56"/>
                </a:lnTo>
                <a:lnTo>
                  <a:pt x="622" y="68"/>
                </a:lnTo>
                <a:lnTo>
                  <a:pt x="581" y="80"/>
                </a:lnTo>
                <a:lnTo>
                  <a:pt x="578" y="70"/>
                </a:lnTo>
                <a:lnTo>
                  <a:pt x="573" y="61"/>
                </a:lnTo>
                <a:lnTo>
                  <a:pt x="566" y="54"/>
                </a:lnTo>
                <a:lnTo>
                  <a:pt x="557" y="48"/>
                </a:lnTo>
                <a:lnTo>
                  <a:pt x="545" y="42"/>
                </a:lnTo>
                <a:lnTo>
                  <a:pt x="518" y="36"/>
                </a:lnTo>
                <a:lnTo>
                  <a:pt x="485" y="34"/>
                </a:lnTo>
                <a:lnTo>
                  <a:pt x="410" y="36"/>
                </a:lnTo>
                <a:lnTo>
                  <a:pt x="265" y="49"/>
                </a:lnTo>
                <a:lnTo>
                  <a:pt x="229" y="46"/>
                </a:lnTo>
                <a:lnTo>
                  <a:pt x="230" y="52"/>
                </a:lnTo>
                <a:lnTo>
                  <a:pt x="234" y="63"/>
                </a:lnTo>
                <a:lnTo>
                  <a:pt x="245" y="83"/>
                </a:lnTo>
                <a:lnTo>
                  <a:pt x="254" y="104"/>
                </a:lnTo>
                <a:lnTo>
                  <a:pt x="257" y="108"/>
                </a:lnTo>
                <a:lnTo>
                  <a:pt x="242" y="131"/>
                </a:lnTo>
                <a:lnTo>
                  <a:pt x="209" y="176"/>
                </a:lnTo>
                <a:lnTo>
                  <a:pt x="145" y="266"/>
                </a:lnTo>
                <a:lnTo>
                  <a:pt x="87" y="360"/>
                </a:lnTo>
                <a:lnTo>
                  <a:pt x="75" y="385"/>
                </a:lnTo>
                <a:lnTo>
                  <a:pt x="75" y="393"/>
                </a:lnTo>
                <a:lnTo>
                  <a:pt x="76" y="406"/>
                </a:lnTo>
                <a:lnTo>
                  <a:pt x="81" y="427"/>
                </a:lnTo>
                <a:lnTo>
                  <a:pt x="84" y="455"/>
                </a:lnTo>
                <a:lnTo>
                  <a:pt x="84" y="464"/>
                </a:lnTo>
                <a:lnTo>
                  <a:pt x="82" y="469"/>
                </a:lnTo>
                <a:lnTo>
                  <a:pt x="69" y="498"/>
                </a:lnTo>
                <a:lnTo>
                  <a:pt x="28" y="597"/>
                </a:lnTo>
                <a:lnTo>
                  <a:pt x="0" y="674"/>
                </a:lnTo>
                <a:lnTo>
                  <a:pt x="0" y="678"/>
                </a:lnTo>
                <a:lnTo>
                  <a:pt x="13" y="686"/>
                </a:lnTo>
                <a:lnTo>
                  <a:pt x="50" y="707"/>
                </a:lnTo>
                <a:lnTo>
                  <a:pt x="142" y="752"/>
                </a:lnTo>
                <a:lnTo>
                  <a:pt x="189" y="768"/>
                </a:lnTo>
                <a:lnTo>
                  <a:pt x="229" y="775"/>
                </a:lnTo>
                <a:lnTo>
                  <a:pt x="245" y="773"/>
                </a:lnTo>
                <a:lnTo>
                  <a:pt x="261" y="771"/>
                </a:lnTo>
                <a:lnTo>
                  <a:pt x="294" y="762"/>
                </a:lnTo>
                <a:lnTo>
                  <a:pt x="355" y="730"/>
                </a:lnTo>
                <a:lnTo>
                  <a:pt x="409" y="687"/>
                </a:lnTo>
                <a:lnTo>
                  <a:pt x="421" y="675"/>
                </a:lnTo>
                <a:lnTo>
                  <a:pt x="425" y="677"/>
                </a:lnTo>
                <a:lnTo>
                  <a:pt x="428" y="680"/>
                </a:lnTo>
                <a:lnTo>
                  <a:pt x="439" y="686"/>
                </a:lnTo>
                <a:lnTo>
                  <a:pt x="466" y="706"/>
                </a:lnTo>
                <a:lnTo>
                  <a:pt x="524" y="744"/>
                </a:lnTo>
                <a:lnTo>
                  <a:pt x="548" y="744"/>
                </a:lnTo>
                <a:lnTo>
                  <a:pt x="548" y="739"/>
                </a:lnTo>
                <a:lnTo>
                  <a:pt x="551" y="733"/>
                </a:lnTo>
                <a:lnTo>
                  <a:pt x="556" y="727"/>
                </a:lnTo>
                <a:lnTo>
                  <a:pt x="569" y="713"/>
                </a:lnTo>
                <a:lnTo>
                  <a:pt x="606" y="680"/>
                </a:lnTo>
                <a:lnTo>
                  <a:pt x="695" y="616"/>
                </a:lnTo>
                <a:lnTo>
                  <a:pt x="734" y="584"/>
                </a:lnTo>
                <a:lnTo>
                  <a:pt x="735" y="586"/>
                </a:lnTo>
                <a:lnTo>
                  <a:pt x="736" y="588"/>
                </a:lnTo>
                <a:lnTo>
                  <a:pt x="738" y="591"/>
                </a:lnTo>
                <a:lnTo>
                  <a:pt x="747" y="599"/>
                </a:lnTo>
                <a:lnTo>
                  <a:pt x="772" y="625"/>
                </a:lnTo>
                <a:lnTo>
                  <a:pt x="851" y="692"/>
                </a:lnTo>
                <a:lnTo>
                  <a:pt x="935" y="737"/>
                </a:lnTo>
                <a:lnTo>
                  <a:pt x="944" y="748"/>
                </a:lnTo>
                <a:lnTo>
                  <a:pt x="969" y="767"/>
                </a:lnTo>
                <a:lnTo>
                  <a:pt x="1000" y="785"/>
                </a:lnTo>
                <a:lnTo>
                  <a:pt x="1069" y="827"/>
                </a:lnTo>
                <a:lnTo>
                  <a:pt x="1120" y="871"/>
                </a:lnTo>
                <a:lnTo>
                  <a:pt x="1124" y="883"/>
                </a:lnTo>
                <a:lnTo>
                  <a:pt x="1133" y="909"/>
                </a:lnTo>
                <a:lnTo>
                  <a:pt x="1140" y="965"/>
                </a:lnTo>
                <a:lnTo>
                  <a:pt x="1148" y="1023"/>
                </a:lnTo>
                <a:lnTo>
                  <a:pt x="1151" y="1036"/>
                </a:lnTo>
                <a:lnTo>
                  <a:pt x="1151" y="1058"/>
                </a:lnTo>
                <a:lnTo>
                  <a:pt x="1160" y="1100"/>
                </a:lnTo>
                <a:lnTo>
                  <a:pt x="1178" y="1136"/>
                </a:lnTo>
                <a:lnTo>
                  <a:pt x="1206" y="1161"/>
                </a:lnTo>
                <a:lnTo>
                  <a:pt x="1241" y="1175"/>
                </a:lnTo>
                <a:lnTo>
                  <a:pt x="1284" y="1173"/>
                </a:lnTo>
                <a:lnTo>
                  <a:pt x="1309" y="1165"/>
                </a:lnTo>
                <a:lnTo>
                  <a:pt x="1313" y="1160"/>
                </a:lnTo>
                <a:lnTo>
                  <a:pt x="1323" y="1146"/>
                </a:lnTo>
                <a:lnTo>
                  <a:pt x="1346" y="1114"/>
                </a:lnTo>
                <a:lnTo>
                  <a:pt x="1360" y="1094"/>
                </a:lnTo>
                <a:lnTo>
                  <a:pt x="1361" y="1091"/>
                </a:lnTo>
                <a:lnTo>
                  <a:pt x="1356" y="1079"/>
                </a:lnTo>
                <a:lnTo>
                  <a:pt x="1340" y="1041"/>
                </a:lnTo>
                <a:lnTo>
                  <a:pt x="1327" y="1012"/>
                </a:lnTo>
                <a:lnTo>
                  <a:pt x="1327" y="1010"/>
                </a:lnTo>
                <a:lnTo>
                  <a:pt x="1334" y="1011"/>
                </a:lnTo>
                <a:lnTo>
                  <a:pt x="1350" y="1013"/>
                </a:lnTo>
                <a:lnTo>
                  <a:pt x="1379" y="1022"/>
                </a:lnTo>
                <a:lnTo>
                  <a:pt x="1407" y="1025"/>
                </a:lnTo>
                <a:lnTo>
                  <a:pt x="1415" y="1023"/>
                </a:lnTo>
                <a:lnTo>
                  <a:pt x="1417" y="983"/>
                </a:lnTo>
                <a:lnTo>
                  <a:pt x="1431" y="905"/>
                </a:lnTo>
                <a:lnTo>
                  <a:pt x="1459" y="837"/>
                </a:lnTo>
                <a:lnTo>
                  <a:pt x="1504" y="784"/>
                </a:lnTo>
                <a:lnTo>
                  <a:pt x="1567" y="749"/>
                </a:lnTo>
                <a:lnTo>
                  <a:pt x="1651" y="739"/>
                </a:lnTo>
                <a:lnTo>
                  <a:pt x="1701" y="744"/>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174"/>
          <p:cNvSpPr/>
          <p:nvPr/>
        </p:nvSpPr>
        <p:spPr>
          <a:xfrm>
            <a:off x="5145120" y="4275000"/>
            <a:ext cx="415800" cy="171720"/>
          </a:xfrm>
          <a:custGeom>
            <a:avLst/>
            <a:gdLst>
              <a:gd name="textAreaLeft" fmla="*/ 0 w 415800"/>
              <a:gd name="textAreaRight" fmla="*/ 416160 w 415800"/>
              <a:gd name="textAreaTop" fmla="*/ 0 h 171720"/>
              <a:gd name="textAreaBottom" fmla="*/ 172080 h 171720"/>
            </a:gdLst>
            <a:ahLst/>
            <a:rect l="textAreaLeft" t="textAreaTop" r="textAreaRight" b="textAreaBottom"/>
            <a:pathLst>
              <a:path w="524" h="217">
                <a:moveTo>
                  <a:pt x="160" y="7"/>
                </a:moveTo>
                <a:lnTo>
                  <a:pt x="168" y="9"/>
                </a:lnTo>
                <a:lnTo>
                  <a:pt x="181" y="13"/>
                </a:lnTo>
                <a:lnTo>
                  <a:pt x="218" y="27"/>
                </a:lnTo>
                <a:lnTo>
                  <a:pt x="312" y="65"/>
                </a:lnTo>
                <a:lnTo>
                  <a:pt x="381" y="89"/>
                </a:lnTo>
                <a:lnTo>
                  <a:pt x="390" y="93"/>
                </a:lnTo>
                <a:lnTo>
                  <a:pt x="402" y="99"/>
                </a:lnTo>
                <a:lnTo>
                  <a:pt x="430" y="118"/>
                </a:lnTo>
                <a:lnTo>
                  <a:pt x="489" y="170"/>
                </a:lnTo>
                <a:lnTo>
                  <a:pt x="524" y="213"/>
                </a:lnTo>
                <a:lnTo>
                  <a:pt x="524" y="215"/>
                </a:lnTo>
                <a:lnTo>
                  <a:pt x="523" y="216"/>
                </a:lnTo>
                <a:lnTo>
                  <a:pt x="521" y="217"/>
                </a:lnTo>
                <a:lnTo>
                  <a:pt x="518" y="217"/>
                </a:lnTo>
                <a:lnTo>
                  <a:pt x="513" y="216"/>
                </a:lnTo>
                <a:lnTo>
                  <a:pt x="504" y="214"/>
                </a:lnTo>
                <a:lnTo>
                  <a:pt x="478" y="207"/>
                </a:lnTo>
                <a:lnTo>
                  <a:pt x="423" y="196"/>
                </a:lnTo>
                <a:lnTo>
                  <a:pt x="406" y="203"/>
                </a:lnTo>
                <a:lnTo>
                  <a:pt x="378" y="206"/>
                </a:lnTo>
                <a:lnTo>
                  <a:pt x="337" y="209"/>
                </a:lnTo>
                <a:lnTo>
                  <a:pt x="286" y="203"/>
                </a:lnTo>
                <a:lnTo>
                  <a:pt x="231" y="173"/>
                </a:lnTo>
                <a:lnTo>
                  <a:pt x="211" y="160"/>
                </a:lnTo>
                <a:lnTo>
                  <a:pt x="198" y="154"/>
                </a:lnTo>
                <a:lnTo>
                  <a:pt x="171" y="139"/>
                </a:lnTo>
                <a:lnTo>
                  <a:pt x="112" y="105"/>
                </a:lnTo>
                <a:lnTo>
                  <a:pt x="62" y="70"/>
                </a:lnTo>
                <a:lnTo>
                  <a:pt x="52" y="61"/>
                </a:lnTo>
                <a:lnTo>
                  <a:pt x="42" y="51"/>
                </a:lnTo>
                <a:lnTo>
                  <a:pt x="32" y="38"/>
                </a:lnTo>
                <a:lnTo>
                  <a:pt x="7" y="11"/>
                </a:lnTo>
                <a:lnTo>
                  <a:pt x="0" y="0"/>
                </a:lnTo>
                <a:lnTo>
                  <a:pt x="11" y="1"/>
                </a:lnTo>
                <a:lnTo>
                  <a:pt x="37" y="1"/>
                </a:lnTo>
                <a:lnTo>
                  <a:pt x="95" y="4"/>
                </a:lnTo>
                <a:lnTo>
                  <a:pt x="149" y="7"/>
                </a:lnTo>
                <a:lnTo>
                  <a:pt x="160"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75"/>
          <p:cNvSpPr/>
          <p:nvPr/>
        </p:nvSpPr>
        <p:spPr>
          <a:xfrm>
            <a:off x="5145120" y="4275000"/>
            <a:ext cx="415800" cy="171720"/>
          </a:xfrm>
          <a:custGeom>
            <a:avLst/>
            <a:gdLst>
              <a:gd name="textAreaLeft" fmla="*/ 0 w 415800"/>
              <a:gd name="textAreaRight" fmla="*/ 416160 w 415800"/>
              <a:gd name="textAreaTop" fmla="*/ 0 h 171720"/>
              <a:gd name="textAreaBottom" fmla="*/ 172080 h 171720"/>
            </a:gdLst>
            <a:ahLst/>
            <a:rect l="textAreaLeft" t="textAreaTop" r="textAreaRight" b="textAreaBottom"/>
            <a:pathLst>
              <a:path w="524" h="217">
                <a:moveTo>
                  <a:pt x="160" y="7"/>
                </a:moveTo>
                <a:lnTo>
                  <a:pt x="168" y="9"/>
                </a:lnTo>
                <a:lnTo>
                  <a:pt x="181" y="13"/>
                </a:lnTo>
                <a:lnTo>
                  <a:pt x="218" y="27"/>
                </a:lnTo>
                <a:lnTo>
                  <a:pt x="312" y="65"/>
                </a:lnTo>
                <a:lnTo>
                  <a:pt x="381" y="89"/>
                </a:lnTo>
                <a:lnTo>
                  <a:pt x="390" y="93"/>
                </a:lnTo>
                <a:lnTo>
                  <a:pt x="402" y="99"/>
                </a:lnTo>
                <a:lnTo>
                  <a:pt x="430" y="118"/>
                </a:lnTo>
                <a:lnTo>
                  <a:pt x="489" y="170"/>
                </a:lnTo>
                <a:lnTo>
                  <a:pt x="524" y="213"/>
                </a:lnTo>
                <a:lnTo>
                  <a:pt x="524" y="215"/>
                </a:lnTo>
                <a:lnTo>
                  <a:pt x="523" y="216"/>
                </a:lnTo>
                <a:lnTo>
                  <a:pt x="521" y="217"/>
                </a:lnTo>
                <a:lnTo>
                  <a:pt x="518" y="217"/>
                </a:lnTo>
                <a:lnTo>
                  <a:pt x="513" y="216"/>
                </a:lnTo>
                <a:lnTo>
                  <a:pt x="504" y="214"/>
                </a:lnTo>
                <a:lnTo>
                  <a:pt x="478" y="207"/>
                </a:lnTo>
                <a:lnTo>
                  <a:pt x="423" y="196"/>
                </a:lnTo>
                <a:lnTo>
                  <a:pt x="406" y="203"/>
                </a:lnTo>
                <a:lnTo>
                  <a:pt x="378" y="206"/>
                </a:lnTo>
                <a:lnTo>
                  <a:pt x="337" y="209"/>
                </a:lnTo>
                <a:lnTo>
                  <a:pt x="286" y="203"/>
                </a:lnTo>
                <a:lnTo>
                  <a:pt x="231" y="173"/>
                </a:lnTo>
                <a:lnTo>
                  <a:pt x="211" y="160"/>
                </a:lnTo>
                <a:lnTo>
                  <a:pt x="198" y="154"/>
                </a:lnTo>
                <a:lnTo>
                  <a:pt x="171" y="139"/>
                </a:lnTo>
                <a:lnTo>
                  <a:pt x="112" y="105"/>
                </a:lnTo>
                <a:lnTo>
                  <a:pt x="62" y="70"/>
                </a:lnTo>
                <a:lnTo>
                  <a:pt x="52" y="61"/>
                </a:lnTo>
                <a:lnTo>
                  <a:pt x="42" y="51"/>
                </a:lnTo>
                <a:lnTo>
                  <a:pt x="32" y="38"/>
                </a:lnTo>
                <a:lnTo>
                  <a:pt x="7" y="11"/>
                </a:lnTo>
                <a:lnTo>
                  <a:pt x="0" y="0"/>
                </a:lnTo>
                <a:lnTo>
                  <a:pt x="11" y="1"/>
                </a:lnTo>
                <a:lnTo>
                  <a:pt x="37" y="1"/>
                </a:lnTo>
                <a:lnTo>
                  <a:pt x="95" y="4"/>
                </a:lnTo>
                <a:lnTo>
                  <a:pt x="149" y="7"/>
                </a:lnTo>
                <a:lnTo>
                  <a:pt x="160" y="7"/>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76"/>
          <p:cNvSpPr/>
          <p:nvPr/>
        </p:nvSpPr>
        <p:spPr>
          <a:xfrm>
            <a:off x="3863880" y="5354640"/>
            <a:ext cx="123840" cy="58680"/>
          </a:xfrm>
          <a:custGeom>
            <a:avLst/>
            <a:gdLst>
              <a:gd name="textAreaLeft" fmla="*/ 0 w 123840"/>
              <a:gd name="textAreaRight" fmla="*/ 123840 w 123840"/>
              <a:gd name="textAreaTop" fmla="*/ 0 h 58680"/>
              <a:gd name="textAreaBottom" fmla="*/ 59040 h 58680"/>
            </a:gdLst>
            <a:ahLst/>
            <a:rect l="textAreaLeft" t="textAreaTop" r="textAreaRight" b="textAreaBottom"/>
            <a:pathLst>
              <a:path w="155" h="75">
                <a:moveTo>
                  <a:pt x="155" y="37"/>
                </a:moveTo>
                <a:lnTo>
                  <a:pt x="152" y="49"/>
                </a:lnTo>
                <a:lnTo>
                  <a:pt x="143" y="59"/>
                </a:lnTo>
                <a:lnTo>
                  <a:pt x="130" y="67"/>
                </a:lnTo>
                <a:lnTo>
                  <a:pt x="114" y="72"/>
                </a:lnTo>
                <a:lnTo>
                  <a:pt x="96" y="75"/>
                </a:lnTo>
                <a:lnTo>
                  <a:pt x="58" y="75"/>
                </a:lnTo>
                <a:lnTo>
                  <a:pt x="23" y="67"/>
                </a:lnTo>
                <a:lnTo>
                  <a:pt x="10" y="59"/>
                </a:lnTo>
                <a:lnTo>
                  <a:pt x="2" y="49"/>
                </a:lnTo>
                <a:lnTo>
                  <a:pt x="0" y="37"/>
                </a:lnTo>
                <a:lnTo>
                  <a:pt x="2" y="26"/>
                </a:lnTo>
                <a:lnTo>
                  <a:pt x="10" y="16"/>
                </a:lnTo>
                <a:lnTo>
                  <a:pt x="23" y="9"/>
                </a:lnTo>
                <a:lnTo>
                  <a:pt x="39" y="3"/>
                </a:lnTo>
                <a:lnTo>
                  <a:pt x="58" y="0"/>
                </a:lnTo>
                <a:lnTo>
                  <a:pt x="96" y="0"/>
                </a:lnTo>
                <a:lnTo>
                  <a:pt x="130" y="9"/>
                </a:lnTo>
                <a:lnTo>
                  <a:pt x="143" y="16"/>
                </a:lnTo>
                <a:lnTo>
                  <a:pt x="152" y="26"/>
                </a:lnTo>
                <a:lnTo>
                  <a:pt x="155" y="37"/>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38" name="Freeform 177"/>
          <p:cNvSpPr/>
          <p:nvPr/>
        </p:nvSpPr>
        <p:spPr>
          <a:xfrm>
            <a:off x="3859200" y="5384880"/>
            <a:ext cx="133200" cy="34920"/>
          </a:xfrm>
          <a:custGeom>
            <a:avLst/>
            <a:gdLst>
              <a:gd name="textAreaLeft" fmla="*/ 0 w 133200"/>
              <a:gd name="textAreaRight" fmla="*/ 133560 w 133200"/>
              <a:gd name="textAreaTop" fmla="*/ 0 h 34920"/>
              <a:gd name="textAreaBottom" fmla="*/ 34920 h 34920"/>
            </a:gdLst>
            <a:ahLst/>
            <a:rect l="textAreaLeft" t="textAreaTop" r="textAreaRight" b="textAreaBottom"/>
            <a:pathLst>
              <a:path w="167" h="44">
                <a:moveTo>
                  <a:pt x="0" y="0"/>
                </a:moveTo>
                <a:lnTo>
                  <a:pt x="0" y="0"/>
                </a:lnTo>
                <a:lnTo>
                  <a:pt x="0" y="1"/>
                </a:lnTo>
                <a:lnTo>
                  <a:pt x="0" y="4"/>
                </a:lnTo>
                <a:lnTo>
                  <a:pt x="0" y="5"/>
                </a:lnTo>
                <a:lnTo>
                  <a:pt x="1" y="5"/>
                </a:lnTo>
                <a:lnTo>
                  <a:pt x="1" y="6"/>
                </a:lnTo>
                <a:lnTo>
                  <a:pt x="1" y="9"/>
                </a:lnTo>
                <a:lnTo>
                  <a:pt x="1" y="10"/>
                </a:lnTo>
                <a:lnTo>
                  <a:pt x="2" y="10"/>
                </a:lnTo>
                <a:lnTo>
                  <a:pt x="2" y="11"/>
                </a:lnTo>
                <a:lnTo>
                  <a:pt x="3" y="14"/>
                </a:lnTo>
                <a:lnTo>
                  <a:pt x="3" y="15"/>
                </a:lnTo>
                <a:lnTo>
                  <a:pt x="4" y="15"/>
                </a:lnTo>
                <a:lnTo>
                  <a:pt x="7" y="19"/>
                </a:lnTo>
                <a:lnTo>
                  <a:pt x="8" y="20"/>
                </a:lnTo>
                <a:lnTo>
                  <a:pt x="9" y="20"/>
                </a:lnTo>
                <a:lnTo>
                  <a:pt x="10" y="23"/>
                </a:lnTo>
                <a:lnTo>
                  <a:pt x="11" y="24"/>
                </a:lnTo>
                <a:lnTo>
                  <a:pt x="12" y="24"/>
                </a:lnTo>
                <a:lnTo>
                  <a:pt x="15" y="27"/>
                </a:lnTo>
                <a:lnTo>
                  <a:pt x="16" y="28"/>
                </a:lnTo>
                <a:lnTo>
                  <a:pt x="17" y="28"/>
                </a:lnTo>
                <a:lnTo>
                  <a:pt x="21" y="30"/>
                </a:lnTo>
                <a:lnTo>
                  <a:pt x="22" y="31"/>
                </a:lnTo>
                <a:lnTo>
                  <a:pt x="23" y="31"/>
                </a:lnTo>
                <a:lnTo>
                  <a:pt x="26" y="33"/>
                </a:lnTo>
                <a:lnTo>
                  <a:pt x="27" y="34"/>
                </a:lnTo>
                <a:lnTo>
                  <a:pt x="28" y="34"/>
                </a:lnTo>
                <a:lnTo>
                  <a:pt x="31" y="36"/>
                </a:lnTo>
                <a:lnTo>
                  <a:pt x="33" y="36"/>
                </a:lnTo>
                <a:lnTo>
                  <a:pt x="34" y="36"/>
                </a:lnTo>
                <a:lnTo>
                  <a:pt x="38" y="38"/>
                </a:lnTo>
                <a:lnTo>
                  <a:pt x="40" y="38"/>
                </a:lnTo>
                <a:lnTo>
                  <a:pt x="41" y="38"/>
                </a:lnTo>
                <a:lnTo>
                  <a:pt x="44" y="40"/>
                </a:lnTo>
                <a:lnTo>
                  <a:pt x="46" y="40"/>
                </a:lnTo>
                <a:lnTo>
                  <a:pt x="47" y="40"/>
                </a:lnTo>
                <a:lnTo>
                  <a:pt x="51" y="41"/>
                </a:lnTo>
                <a:lnTo>
                  <a:pt x="53" y="41"/>
                </a:lnTo>
                <a:lnTo>
                  <a:pt x="54" y="41"/>
                </a:lnTo>
                <a:lnTo>
                  <a:pt x="58" y="42"/>
                </a:lnTo>
                <a:lnTo>
                  <a:pt x="60" y="42"/>
                </a:lnTo>
                <a:lnTo>
                  <a:pt x="61" y="42"/>
                </a:lnTo>
                <a:lnTo>
                  <a:pt x="66" y="43"/>
                </a:lnTo>
                <a:lnTo>
                  <a:pt x="68" y="43"/>
                </a:lnTo>
                <a:lnTo>
                  <a:pt x="69" y="43"/>
                </a:lnTo>
                <a:lnTo>
                  <a:pt x="70" y="43"/>
                </a:lnTo>
                <a:lnTo>
                  <a:pt x="73" y="43"/>
                </a:lnTo>
                <a:lnTo>
                  <a:pt x="75" y="43"/>
                </a:lnTo>
                <a:lnTo>
                  <a:pt x="76" y="43"/>
                </a:lnTo>
                <a:lnTo>
                  <a:pt x="81" y="44"/>
                </a:lnTo>
                <a:lnTo>
                  <a:pt x="83" y="44"/>
                </a:lnTo>
                <a:lnTo>
                  <a:pt x="84" y="44"/>
                </a:lnTo>
                <a:lnTo>
                  <a:pt x="85" y="44"/>
                </a:lnTo>
                <a:lnTo>
                  <a:pt x="88" y="44"/>
                </a:lnTo>
                <a:lnTo>
                  <a:pt x="90" y="44"/>
                </a:lnTo>
                <a:lnTo>
                  <a:pt x="91" y="43"/>
                </a:lnTo>
                <a:lnTo>
                  <a:pt x="92" y="43"/>
                </a:lnTo>
                <a:lnTo>
                  <a:pt x="96" y="43"/>
                </a:lnTo>
                <a:lnTo>
                  <a:pt x="98" y="43"/>
                </a:lnTo>
                <a:lnTo>
                  <a:pt x="99" y="43"/>
                </a:lnTo>
                <a:lnTo>
                  <a:pt x="100" y="43"/>
                </a:lnTo>
                <a:lnTo>
                  <a:pt x="103" y="43"/>
                </a:lnTo>
                <a:lnTo>
                  <a:pt x="105" y="43"/>
                </a:lnTo>
                <a:lnTo>
                  <a:pt x="106" y="42"/>
                </a:lnTo>
                <a:lnTo>
                  <a:pt x="107" y="42"/>
                </a:lnTo>
                <a:lnTo>
                  <a:pt x="111" y="42"/>
                </a:lnTo>
                <a:lnTo>
                  <a:pt x="113" y="42"/>
                </a:lnTo>
                <a:lnTo>
                  <a:pt x="114" y="41"/>
                </a:lnTo>
                <a:lnTo>
                  <a:pt x="117" y="41"/>
                </a:lnTo>
                <a:lnTo>
                  <a:pt x="119" y="41"/>
                </a:lnTo>
                <a:lnTo>
                  <a:pt x="120" y="40"/>
                </a:lnTo>
                <a:lnTo>
                  <a:pt x="123" y="39"/>
                </a:lnTo>
                <a:lnTo>
                  <a:pt x="126" y="39"/>
                </a:lnTo>
                <a:lnTo>
                  <a:pt x="127" y="38"/>
                </a:lnTo>
                <a:lnTo>
                  <a:pt x="130" y="37"/>
                </a:lnTo>
                <a:lnTo>
                  <a:pt x="132" y="37"/>
                </a:lnTo>
                <a:lnTo>
                  <a:pt x="133" y="36"/>
                </a:lnTo>
                <a:lnTo>
                  <a:pt x="136" y="35"/>
                </a:lnTo>
                <a:lnTo>
                  <a:pt x="139" y="35"/>
                </a:lnTo>
                <a:lnTo>
                  <a:pt x="140" y="34"/>
                </a:lnTo>
                <a:lnTo>
                  <a:pt x="143" y="33"/>
                </a:lnTo>
                <a:lnTo>
                  <a:pt x="144" y="32"/>
                </a:lnTo>
                <a:lnTo>
                  <a:pt x="145" y="31"/>
                </a:lnTo>
                <a:lnTo>
                  <a:pt x="148" y="30"/>
                </a:lnTo>
                <a:lnTo>
                  <a:pt x="149" y="29"/>
                </a:lnTo>
                <a:lnTo>
                  <a:pt x="150" y="28"/>
                </a:lnTo>
                <a:lnTo>
                  <a:pt x="154" y="26"/>
                </a:lnTo>
                <a:lnTo>
                  <a:pt x="155" y="25"/>
                </a:lnTo>
                <a:lnTo>
                  <a:pt x="156" y="24"/>
                </a:lnTo>
                <a:lnTo>
                  <a:pt x="157" y="22"/>
                </a:lnTo>
                <a:lnTo>
                  <a:pt x="158" y="21"/>
                </a:lnTo>
                <a:lnTo>
                  <a:pt x="159" y="20"/>
                </a:lnTo>
                <a:lnTo>
                  <a:pt x="161" y="18"/>
                </a:lnTo>
                <a:lnTo>
                  <a:pt x="162" y="17"/>
                </a:lnTo>
                <a:lnTo>
                  <a:pt x="163" y="15"/>
                </a:lnTo>
                <a:lnTo>
                  <a:pt x="164" y="12"/>
                </a:lnTo>
                <a:lnTo>
                  <a:pt x="164" y="11"/>
                </a:lnTo>
                <a:lnTo>
                  <a:pt x="165" y="10"/>
                </a:lnTo>
                <a:lnTo>
                  <a:pt x="165" y="7"/>
                </a:lnTo>
                <a:lnTo>
                  <a:pt x="165" y="6"/>
                </a:lnTo>
                <a:lnTo>
                  <a:pt x="166" y="5"/>
                </a:lnTo>
                <a:lnTo>
                  <a:pt x="166" y="2"/>
                </a:lnTo>
                <a:lnTo>
                  <a:pt x="166" y="1"/>
                </a:lnTo>
                <a:lnTo>
                  <a:pt x="167" y="0"/>
                </a:lnTo>
                <a:lnTo>
                  <a:pt x="166" y="0"/>
                </a:lnTo>
                <a:lnTo>
                  <a:pt x="165" y="0"/>
                </a:lnTo>
                <a:lnTo>
                  <a:pt x="160" y="0"/>
                </a:lnTo>
                <a:lnTo>
                  <a:pt x="156" y="0"/>
                </a:lnTo>
                <a:lnTo>
                  <a:pt x="156" y="1"/>
                </a:lnTo>
                <a:lnTo>
                  <a:pt x="156" y="2"/>
                </a:lnTo>
                <a:lnTo>
                  <a:pt x="156" y="3"/>
                </a:lnTo>
                <a:lnTo>
                  <a:pt x="155" y="5"/>
                </a:lnTo>
                <a:lnTo>
                  <a:pt x="155" y="6"/>
                </a:lnTo>
                <a:lnTo>
                  <a:pt x="154" y="7"/>
                </a:lnTo>
                <a:lnTo>
                  <a:pt x="152" y="8"/>
                </a:lnTo>
                <a:lnTo>
                  <a:pt x="152" y="9"/>
                </a:lnTo>
                <a:lnTo>
                  <a:pt x="151" y="10"/>
                </a:lnTo>
                <a:lnTo>
                  <a:pt x="150" y="11"/>
                </a:lnTo>
                <a:lnTo>
                  <a:pt x="150" y="12"/>
                </a:lnTo>
                <a:lnTo>
                  <a:pt x="149" y="13"/>
                </a:lnTo>
                <a:lnTo>
                  <a:pt x="148" y="14"/>
                </a:lnTo>
                <a:lnTo>
                  <a:pt x="147" y="15"/>
                </a:lnTo>
                <a:lnTo>
                  <a:pt x="146" y="17"/>
                </a:lnTo>
                <a:lnTo>
                  <a:pt x="145" y="18"/>
                </a:lnTo>
                <a:lnTo>
                  <a:pt x="144" y="19"/>
                </a:lnTo>
                <a:lnTo>
                  <a:pt x="143" y="20"/>
                </a:lnTo>
                <a:lnTo>
                  <a:pt x="141" y="21"/>
                </a:lnTo>
                <a:lnTo>
                  <a:pt x="140" y="21"/>
                </a:lnTo>
                <a:lnTo>
                  <a:pt x="139" y="22"/>
                </a:lnTo>
                <a:lnTo>
                  <a:pt x="136" y="23"/>
                </a:lnTo>
                <a:lnTo>
                  <a:pt x="135" y="24"/>
                </a:lnTo>
                <a:lnTo>
                  <a:pt x="131" y="26"/>
                </a:lnTo>
                <a:lnTo>
                  <a:pt x="130" y="26"/>
                </a:lnTo>
                <a:lnTo>
                  <a:pt x="126" y="27"/>
                </a:lnTo>
                <a:lnTo>
                  <a:pt x="123" y="27"/>
                </a:lnTo>
                <a:lnTo>
                  <a:pt x="119" y="29"/>
                </a:lnTo>
                <a:lnTo>
                  <a:pt x="118" y="29"/>
                </a:lnTo>
                <a:lnTo>
                  <a:pt x="114" y="30"/>
                </a:lnTo>
                <a:lnTo>
                  <a:pt x="112" y="30"/>
                </a:lnTo>
                <a:lnTo>
                  <a:pt x="110" y="31"/>
                </a:lnTo>
                <a:lnTo>
                  <a:pt x="106" y="31"/>
                </a:lnTo>
                <a:lnTo>
                  <a:pt x="104" y="31"/>
                </a:lnTo>
                <a:lnTo>
                  <a:pt x="100" y="32"/>
                </a:lnTo>
                <a:lnTo>
                  <a:pt x="98" y="32"/>
                </a:lnTo>
                <a:lnTo>
                  <a:pt x="97" y="32"/>
                </a:lnTo>
                <a:lnTo>
                  <a:pt x="93" y="32"/>
                </a:lnTo>
                <a:lnTo>
                  <a:pt x="91" y="32"/>
                </a:lnTo>
                <a:lnTo>
                  <a:pt x="89" y="33"/>
                </a:lnTo>
                <a:lnTo>
                  <a:pt x="86" y="33"/>
                </a:lnTo>
                <a:lnTo>
                  <a:pt x="84" y="33"/>
                </a:lnTo>
                <a:lnTo>
                  <a:pt x="83" y="33"/>
                </a:lnTo>
                <a:lnTo>
                  <a:pt x="82" y="33"/>
                </a:lnTo>
                <a:lnTo>
                  <a:pt x="78" y="33"/>
                </a:lnTo>
                <a:lnTo>
                  <a:pt x="76" y="33"/>
                </a:lnTo>
                <a:lnTo>
                  <a:pt x="76" y="32"/>
                </a:lnTo>
                <a:lnTo>
                  <a:pt x="75" y="32"/>
                </a:lnTo>
                <a:lnTo>
                  <a:pt x="72" y="32"/>
                </a:lnTo>
                <a:lnTo>
                  <a:pt x="70" y="32"/>
                </a:lnTo>
                <a:lnTo>
                  <a:pt x="69" y="32"/>
                </a:lnTo>
                <a:lnTo>
                  <a:pt x="66" y="32"/>
                </a:lnTo>
                <a:lnTo>
                  <a:pt x="63" y="32"/>
                </a:lnTo>
                <a:lnTo>
                  <a:pt x="63" y="31"/>
                </a:lnTo>
                <a:lnTo>
                  <a:pt x="62" y="31"/>
                </a:lnTo>
                <a:lnTo>
                  <a:pt x="61" y="31"/>
                </a:lnTo>
                <a:lnTo>
                  <a:pt x="58" y="31"/>
                </a:lnTo>
                <a:lnTo>
                  <a:pt x="56" y="31"/>
                </a:lnTo>
                <a:lnTo>
                  <a:pt x="56" y="30"/>
                </a:lnTo>
                <a:lnTo>
                  <a:pt x="55" y="30"/>
                </a:lnTo>
                <a:lnTo>
                  <a:pt x="52" y="30"/>
                </a:lnTo>
                <a:lnTo>
                  <a:pt x="49" y="30"/>
                </a:lnTo>
                <a:lnTo>
                  <a:pt x="49" y="29"/>
                </a:lnTo>
                <a:lnTo>
                  <a:pt x="48" y="29"/>
                </a:lnTo>
                <a:lnTo>
                  <a:pt x="45" y="28"/>
                </a:lnTo>
                <a:lnTo>
                  <a:pt x="44" y="28"/>
                </a:lnTo>
                <a:lnTo>
                  <a:pt x="44" y="27"/>
                </a:lnTo>
                <a:lnTo>
                  <a:pt x="43" y="27"/>
                </a:lnTo>
                <a:lnTo>
                  <a:pt x="40" y="27"/>
                </a:lnTo>
                <a:lnTo>
                  <a:pt x="38" y="27"/>
                </a:lnTo>
                <a:lnTo>
                  <a:pt x="38" y="26"/>
                </a:lnTo>
                <a:lnTo>
                  <a:pt x="37" y="26"/>
                </a:lnTo>
                <a:lnTo>
                  <a:pt x="33" y="25"/>
                </a:lnTo>
                <a:lnTo>
                  <a:pt x="32" y="25"/>
                </a:lnTo>
                <a:lnTo>
                  <a:pt x="32" y="24"/>
                </a:lnTo>
                <a:lnTo>
                  <a:pt x="29" y="23"/>
                </a:lnTo>
                <a:lnTo>
                  <a:pt x="28" y="22"/>
                </a:lnTo>
                <a:lnTo>
                  <a:pt x="28" y="21"/>
                </a:lnTo>
                <a:lnTo>
                  <a:pt x="25" y="20"/>
                </a:lnTo>
                <a:lnTo>
                  <a:pt x="24" y="19"/>
                </a:lnTo>
                <a:lnTo>
                  <a:pt x="22" y="18"/>
                </a:lnTo>
                <a:lnTo>
                  <a:pt x="21" y="17"/>
                </a:lnTo>
                <a:lnTo>
                  <a:pt x="21" y="15"/>
                </a:lnTo>
                <a:lnTo>
                  <a:pt x="18" y="14"/>
                </a:lnTo>
                <a:lnTo>
                  <a:pt x="17" y="13"/>
                </a:lnTo>
                <a:lnTo>
                  <a:pt x="17" y="12"/>
                </a:lnTo>
                <a:lnTo>
                  <a:pt x="15" y="10"/>
                </a:lnTo>
                <a:lnTo>
                  <a:pt x="15" y="9"/>
                </a:lnTo>
                <a:lnTo>
                  <a:pt x="13" y="7"/>
                </a:lnTo>
                <a:lnTo>
                  <a:pt x="13" y="6"/>
                </a:lnTo>
                <a:lnTo>
                  <a:pt x="12" y="4"/>
                </a:lnTo>
                <a:lnTo>
                  <a:pt x="12" y="3"/>
                </a:lnTo>
                <a:lnTo>
                  <a:pt x="12" y="2"/>
                </a:lnTo>
                <a:lnTo>
                  <a:pt x="12" y="1"/>
                </a:lnTo>
                <a:lnTo>
                  <a:pt x="12" y="0"/>
                </a:lnTo>
                <a:lnTo>
                  <a:pt x="0"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39" name="Freeform 178"/>
          <p:cNvSpPr/>
          <p:nvPr/>
        </p:nvSpPr>
        <p:spPr>
          <a:xfrm>
            <a:off x="3859200" y="5348160"/>
            <a:ext cx="133200" cy="36720"/>
          </a:xfrm>
          <a:custGeom>
            <a:avLst/>
            <a:gdLst>
              <a:gd name="textAreaLeft" fmla="*/ 0 w 133200"/>
              <a:gd name="textAreaRight" fmla="*/ 133560 w 133200"/>
              <a:gd name="textAreaTop" fmla="*/ 0 h 36720"/>
              <a:gd name="textAreaBottom" fmla="*/ 37080 h 36720"/>
            </a:gdLst>
            <a:ahLst/>
            <a:rect l="textAreaLeft" t="textAreaTop" r="textAreaRight" b="textAreaBottom"/>
            <a:pathLst>
              <a:path w="167" h="45">
                <a:moveTo>
                  <a:pt x="167" y="45"/>
                </a:moveTo>
                <a:lnTo>
                  <a:pt x="167" y="45"/>
                </a:lnTo>
                <a:lnTo>
                  <a:pt x="166" y="42"/>
                </a:lnTo>
                <a:lnTo>
                  <a:pt x="166" y="40"/>
                </a:lnTo>
                <a:lnTo>
                  <a:pt x="166" y="39"/>
                </a:lnTo>
                <a:lnTo>
                  <a:pt x="165" y="36"/>
                </a:lnTo>
                <a:lnTo>
                  <a:pt x="165" y="35"/>
                </a:lnTo>
                <a:lnTo>
                  <a:pt x="165" y="34"/>
                </a:lnTo>
                <a:lnTo>
                  <a:pt x="163" y="31"/>
                </a:lnTo>
                <a:lnTo>
                  <a:pt x="163" y="30"/>
                </a:lnTo>
                <a:lnTo>
                  <a:pt x="163" y="29"/>
                </a:lnTo>
                <a:lnTo>
                  <a:pt x="161" y="26"/>
                </a:lnTo>
                <a:lnTo>
                  <a:pt x="160" y="25"/>
                </a:lnTo>
                <a:lnTo>
                  <a:pt x="160" y="24"/>
                </a:lnTo>
                <a:lnTo>
                  <a:pt x="157" y="22"/>
                </a:lnTo>
                <a:lnTo>
                  <a:pt x="156" y="21"/>
                </a:lnTo>
                <a:lnTo>
                  <a:pt x="156" y="20"/>
                </a:lnTo>
                <a:lnTo>
                  <a:pt x="151" y="19"/>
                </a:lnTo>
                <a:lnTo>
                  <a:pt x="150" y="18"/>
                </a:lnTo>
                <a:lnTo>
                  <a:pt x="150" y="17"/>
                </a:lnTo>
                <a:lnTo>
                  <a:pt x="146" y="16"/>
                </a:lnTo>
                <a:lnTo>
                  <a:pt x="145" y="15"/>
                </a:lnTo>
                <a:lnTo>
                  <a:pt x="145" y="14"/>
                </a:lnTo>
                <a:lnTo>
                  <a:pt x="141" y="13"/>
                </a:lnTo>
                <a:lnTo>
                  <a:pt x="140" y="12"/>
                </a:lnTo>
                <a:lnTo>
                  <a:pt x="140" y="11"/>
                </a:lnTo>
                <a:lnTo>
                  <a:pt x="135" y="10"/>
                </a:lnTo>
                <a:lnTo>
                  <a:pt x="134" y="9"/>
                </a:lnTo>
                <a:lnTo>
                  <a:pt x="134" y="8"/>
                </a:lnTo>
                <a:lnTo>
                  <a:pt x="133" y="8"/>
                </a:lnTo>
                <a:lnTo>
                  <a:pt x="132" y="8"/>
                </a:lnTo>
                <a:lnTo>
                  <a:pt x="129" y="6"/>
                </a:lnTo>
                <a:lnTo>
                  <a:pt x="127" y="6"/>
                </a:lnTo>
                <a:lnTo>
                  <a:pt x="127" y="5"/>
                </a:lnTo>
                <a:lnTo>
                  <a:pt x="126" y="5"/>
                </a:lnTo>
                <a:lnTo>
                  <a:pt x="122" y="5"/>
                </a:lnTo>
                <a:lnTo>
                  <a:pt x="120" y="5"/>
                </a:lnTo>
                <a:lnTo>
                  <a:pt x="120" y="4"/>
                </a:lnTo>
                <a:lnTo>
                  <a:pt x="119" y="4"/>
                </a:lnTo>
                <a:lnTo>
                  <a:pt x="116" y="3"/>
                </a:lnTo>
                <a:lnTo>
                  <a:pt x="114" y="3"/>
                </a:lnTo>
                <a:lnTo>
                  <a:pt x="114" y="2"/>
                </a:lnTo>
                <a:lnTo>
                  <a:pt x="113" y="2"/>
                </a:lnTo>
                <a:lnTo>
                  <a:pt x="112" y="2"/>
                </a:lnTo>
                <a:lnTo>
                  <a:pt x="108" y="2"/>
                </a:lnTo>
                <a:lnTo>
                  <a:pt x="106" y="2"/>
                </a:lnTo>
                <a:lnTo>
                  <a:pt x="106" y="1"/>
                </a:lnTo>
                <a:lnTo>
                  <a:pt x="105" y="1"/>
                </a:lnTo>
                <a:lnTo>
                  <a:pt x="104" y="1"/>
                </a:lnTo>
                <a:lnTo>
                  <a:pt x="101" y="1"/>
                </a:lnTo>
                <a:lnTo>
                  <a:pt x="99" y="1"/>
                </a:lnTo>
                <a:lnTo>
                  <a:pt x="99" y="0"/>
                </a:lnTo>
                <a:lnTo>
                  <a:pt x="98" y="0"/>
                </a:lnTo>
                <a:lnTo>
                  <a:pt x="97" y="0"/>
                </a:lnTo>
                <a:lnTo>
                  <a:pt x="93" y="0"/>
                </a:lnTo>
                <a:lnTo>
                  <a:pt x="91" y="0"/>
                </a:lnTo>
                <a:lnTo>
                  <a:pt x="90" y="0"/>
                </a:lnTo>
                <a:lnTo>
                  <a:pt x="89" y="0"/>
                </a:lnTo>
                <a:lnTo>
                  <a:pt x="86" y="0"/>
                </a:lnTo>
                <a:lnTo>
                  <a:pt x="84" y="0"/>
                </a:lnTo>
                <a:lnTo>
                  <a:pt x="83" y="0"/>
                </a:lnTo>
                <a:lnTo>
                  <a:pt x="82" y="0"/>
                </a:lnTo>
                <a:lnTo>
                  <a:pt x="78" y="0"/>
                </a:lnTo>
                <a:lnTo>
                  <a:pt x="76" y="0"/>
                </a:lnTo>
                <a:lnTo>
                  <a:pt x="75" y="0"/>
                </a:lnTo>
                <a:lnTo>
                  <a:pt x="74" y="0"/>
                </a:lnTo>
                <a:lnTo>
                  <a:pt x="71" y="0"/>
                </a:lnTo>
                <a:lnTo>
                  <a:pt x="69" y="0"/>
                </a:lnTo>
                <a:lnTo>
                  <a:pt x="67" y="1"/>
                </a:lnTo>
                <a:lnTo>
                  <a:pt x="63" y="1"/>
                </a:lnTo>
                <a:lnTo>
                  <a:pt x="61" y="1"/>
                </a:lnTo>
                <a:lnTo>
                  <a:pt x="59" y="2"/>
                </a:lnTo>
                <a:lnTo>
                  <a:pt x="56" y="2"/>
                </a:lnTo>
                <a:lnTo>
                  <a:pt x="54" y="2"/>
                </a:lnTo>
                <a:lnTo>
                  <a:pt x="49" y="4"/>
                </a:lnTo>
                <a:lnTo>
                  <a:pt x="47" y="4"/>
                </a:lnTo>
                <a:lnTo>
                  <a:pt x="43" y="5"/>
                </a:lnTo>
                <a:lnTo>
                  <a:pt x="41" y="5"/>
                </a:lnTo>
                <a:lnTo>
                  <a:pt x="37" y="8"/>
                </a:lnTo>
                <a:lnTo>
                  <a:pt x="34" y="8"/>
                </a:lnTo>
                <a:lnTo>
                  <a:pt x="33" y="9"/>
                </a:lnTo>
                <a:lnTo>
                  <a:pt x="30" y="10"/>
                </a:lnTo>
                <a:lnTo>
                  <a:pt x="28" y="11"/>
                </a:lnTo>
                <a:lnTo>
                  <a:pt x="27" y="12"/>
                </a:lnTo>
                <a:lnTo>
                  <a:pt x="24" y="13"/>
                </a:lnTo>
                <a:lnTo>
                  <a:pt x="23" y="14"/>
                </a:lnTo>
                <a:lnTo>
                  <a:pt x="22" y="15"/>
                </a:lnTo>
                <a:lnTo>
                  <a:pt x="18" y="16"/>
                </a:lnTo>
                <a:lnTo>
                  <a:pt x="17" y="17"/>
                </a:lnTo>
                <a:lnTo>
                  <a:pt x="16" y="18"/>
                </a:lnTo>
                <a:lnTo>
                  <a:pt x="13" y="19"/>
                </a:lnTo>
                <a:lnTo>
                  <a:pt x="12" y="20"/>
                </a:lnTo>
                <a:lnTo>
                  <a:pt x="11" y="21"/>
                </a:lnTo>
                <a:lnTo>
                  <a:pt x="10" y="23"/>
                </a:lnTo>
                <a:lnTo>
                  <a:pt x="9" y="24"/>
                </a:lnTo>
                <a:lnTo>
                  <a:pt x="8" y="25"/>
                </a:lnTo>
                <a:lnTo>
                  <a:pt x="6" y="28"/>
                </a:lnTo>
                <a:lnTo>
                  <a:pt x="4" y="29"/>
                </a:lnTo>
                <a:lnTo>
                  <a:pt x="2" y="33"/>
                </a:lnTo>
                <a:lnTo>
                  <a:pt x="2" y="34"/>
                </a:lnTo>
                <a:lnTo>
                  <a:pt x="1" y="38"/>
                </a:lnTo>
                <a:lnTo>
                  <a:pt x="1" y="39"/>
                </a:lnTo>
                <a:lnTo>
                  <a:pt x="0" y="43"/>
                </a:lnTo>
                <a:lnTo>
                  <a:pt x="0" y="45"/>
                </a:lnTo>
                <a:lnTo>
                  <a:pt x="1" y="45"/>
                </a:lnTo>
                <a:lnTo>
                  <a:pt x="7" y="45"/>
                </a:lnTo>
                <a:lnTo>
                  <a:pt x="11" y="45"/>
                </a:lnTo>
                <a:lnTo>
                  <a:pt x="12" y="45"/>
                </a:lnTo>
                <a:lnTo>
                  <a:pt x="12" y="43"/>
                </a:lnTo>
                <a:lnTo>
                  <a:pt x="12" y="42"/>
                </a:lnTo>
                <a:lnTo>
                  <a:pt x="12" y="41"/>
                </a:lnTo>
                <a:lnTo>
                  <a:pt x="12" y="39"/>
                </a:lnTo>
                <a:lnTo>
                  <a:pt x="12" y="38"/>
                </a:lnTo>
                <a:lnTo>
                  <a:pt x="13" y="37"/>
                </a:lnTo>
                <a:lnTo>
                  <a:pt x="14" y="36"/>
                </a:lnTo>
                <a:lnTo>
                  <a:pt x="15" y="34"/>
                </a:lnTo>
                <a:lnTo>
                  <a:pt x="16" y="33"/>
                </a:lnTo>
                <a:lnTo>
                  <a:pt x="17" y="31"/>
                </a:lnTo>
                <a:lnTo>
                  <a:pt x="18" y="30"/>
                </a:lnTo>
                <a:lnTo>
                  <a:pt x="19" y="29"/>
                </a:lnTo>
                <a:lnTo>
                  <a:pt x="21" y="28"/>
                </a:lnTo>
                <a:lnTo>
                  <a:pt x="22" y="27"/>
                </a:lnTo>
                <a:lnTo>
                  <a:pt x="24" y="26"/>
                </a:lnTo>
                <a:lnTo>
                  <a:pt x="26" y="25"/>
                </a:lnTo>
                <a:lnTo>
                  <a:pt x="27" y="24"/>
                </a:lnTo>
                <a:lnTo>
                  <a:pt x="28" y="23"/>
                </a:lnTo>
                <a:lnTo>
                  <a:pt x="30" y="22"/>
                </a:lnTo>
                <a:lnTo>
                  <a:pt x="32" y="21"/>
                </a:lnTo>
                <a:lnTo>
                  <a:pt x="36" y="20"/>
                </a:lnTo>
                <a:lnTo>
                  <a:pt x="37" y="20"/>
                </a:lnTo>
                <a:lnTo>
                  <a:pt x="38" y="19"/>
                </a:lnTo>
                <a:lnTo>
                  <a:pt x="41" y="18"/>
                </a:lnTo>
                <a:lnTo>
                  <a:pt x="43" y="18"/>
                </a:lnTo>
                <a:lnTo>
                  <a:pt x="44" y="17"/>
                </a:lnTo>
                <a:lnTo>
                  <a:pt x="47" y="16"/>
                </a:lnTo>
                <a:lnTo>
                  <a:pt x="48" y="16"/>
                </a:lnTo>
                <a:lnTo>
                  <a:pt x="49" y="15"/>
                </a:lnTo>
                <a:lnTo>
                  <a:pt x="53" y="15"/>
                </a:lnTo>
                <a:lnTo>
                  <a:pt x="55" y="15"/>
                </a:lnTo>
                <a:lnTo>
                  <a:pt x="56" y="14"/>
                </a:lnTo>
                <a:lnTo>
                  <a:pt x="57" y="14"/>
                </a:lnTo>
                <a:lnTo>
                  <a:pt x="60" y="14"/>
                </a:lnTo>
                <a:lnTo>
                  <a:pt x="62" y="14"/>
                </a:lnTo>
                <a:lnTo>
                  <a:pt x="63" y="13"/>
                </a:lnTo>
                <a:lnTo>
                  <a:pt x="67" y="13"/>
                </a:lnTo>
                <a:lnTo>
                  <a:pt x="69" y="13"/>
                </a:lnTo>
                <a:lnTo>
                  <a:pt x="70" y="12"/>
                </a:lnTo>
                <a:lnTo>
                  <a:pt x="73" y="12"/>
                </a:lnTo>
                <a:lnTo>
                  <a:pt x="75" y="12"/>
                </a:lnTo>
                <a:lnTo>
                  <a:pt x="76" y="12"/>
                </a:lnTo>
                <a:lnTo>
                  <a:pt x="77" y="12"/>
                </a:lnTo>
                <a:lnTo>
                  <a:pt x="81" y="12"/>
                </a:lnTo>
                <a:lnTo>
                  <a:pt x="83" y="12"/>
                </a:lnTo>
                <a:lnTo>
                  <a:pt x="84" y="12"/>
                </a:lnTo>
                <a:lnTo>
                  <a:pt x="85" y="12"/>
                </a:lnTo>
                <a:lnTo>
                  <a:pt x="88" y="12"/>
                </a:lnTo>
                <a:lnTo>
                  <a:pt x="90" y="12"/>
                </a:lnTo>
                <a:lnTo>
                  <a:pt x="91" y="12"/>
                </a:lnTo>
                <a:lnTo>
                  <a:pt x="95" y="12"/>
                </a:lnTo>
                <a:lnTo>
                  <a:pt x="97" y="12"/>
                </a:lnTo>
                <a:lnTo>
                  <a:pt x="98" y="12"/>
                </a:lnTo>
                <a:lnTo>
                  <a:pt x="101" y="13"/>
                </a:lnTo>
                <a:lnTo>
                  <a:pt x="103" y="13"/>
                </a:lnTo>
                <a:lnTo>
                  <a:pt x="104" y="13"/>
                </a:lnTo>
                <a:lnTo>
                  <a:pt x="108" y="14"/>
                </a:lnTo>
                <a:lnTo>
                  <a:pt x="111" y="14"/>
                </a:lnTo>
                <a:lnTo>
                  <a:pt x="112" y="14"/>
                </a:lnTo>
                <a:lnTo>
                  <a:pt x="115" y="15"/>
                </a:lnTo>
                <a:lnTo>
                  <a:pt x="117" y="15"/>
                </a:lnTo>
                <a:lnTo>
                  <a:pt x="118" y="15"/>
                </a:lnTo>
                <a:lnTo>
                  <a:pt x="121" y="17"/>
                </a:lnTo>
                <a:lnTo>
                  <a:pt x="122" y="17"/>
                </a:lnTo>
                <a:lnTo>
                  <a:pt x="123" y="17"/>
                </a:lnTo>
                <a:lnTo>
                  <a:pt x="127" y="19"/>
                </a:lnTo>
                <a:lnTo>
                  <a:pt x="129" y="19"/>
                </a:lnTo>
                <a:lnTo>
                  <a:pt x="130" y="19"/>
                </a:lnTo>
                <a:lnTo>
                  <a:pt x="133" y="21"/>
                </a:lnTo>
                <a:lnTo>
                  <a:pt x="134" y="21"/>
                </a:lnTo>
                <a:lnTo>
                  <a:pt x="135" y="21"/>
                </a:lnTo>
                <a:lnTo>
                  <a:pt x="137" y="23"/>
                </a:lnTo>
                <a:lnTo>
                  <a:pt x="140" y="23"/>
                </a:lnTo>
                <a:lnTo>
                  <a:pt x="142" y="25"/>
                </a:lnTo>
                <a:lnTo>
                  <a:pt x="143" y="26"/>
                </a:lnTo>
                <a:lnTo>
                  <a:pt x="144" y="26"/>
                </a:lnTo>
                <a:lnTo>
                  <a:pt x="146" y="28"/>
                </a:lnTo>
                <a:lnTo>
                  <a:pt x="147" y="28"/>
                </a:lnTo>
                <a:lnTo>
                  <a:pt x="148" y="30"/>
                </a:lnTo>
                <a:lnTo>
                  <a:pt x="149" y="31"/>
                </a:lnTo>
                <a:lnTo>
                  <a:pt x="150" y="31"/>
                </a:lnTo>
                <a:lnTo>
                  <a:pt x="151" y="33"/>
                </a:lnTo>
                <a:lnTo>
                  <a:pt x="152" y="34"/>
                </a:lnTo>
                <a:lnTo>
                  <a:pt x="154" y="36"/>
                </a:lnTo>
                <a:lnTo>
                  <a:pt x="155" y="37"/>
                </a:lnTo>
                <a:lnTo>
                  <a:pt x="155" y="38"/>
                </a:lnTo>
                <a:lnTo>
                  <a:pt x="155" y="40"/>
                </a:lnTo>
                <a:lnTo>
                  <a:pt x="155" y="41"/>
                </a:lnTo>
                <a:lnTo>
                  <a:pt x="156" y="41"/>
                </a:lnTo>
                <a:lnTo>
                  <a:pt x="156" y="42"/>
                </a:lnTo>
                <a:lnTo>
                  <a:pt x="156" y="44"/>
                </a:lnTo>
                <a:lnTo>
                  <a:pt x="156" y="45"/>
                </a:lnTo>
                <a:lnTo>
                  <a:pt x="167" y="45"/>
                </a:lnTo>
                <a:close/>
              </a:path>
            </a:pathLst>
          </a:custGeom>
          <a:solidFill>
            <a:srgbClr val="1f1a17"/>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40" name="Freeform 179"/>
          <p:cNvSpPr/>
          <p:nvPr/>
        </p:nvSpPr>
        <p:spPr>
          <a:xfrm>
            <a:off x="3614760" y="5065560"/>
            <a:ext cx="54000" cy="71640"/>
          </a:xfrm>
          <a:custGeom>
            <a:avLst/>
            <a:gdLst>
              <a:gd name="textAreaLeft" fmla="*/ 0 w 54000"/>
              <a:gd name="textAreaRight" fmla="*/ 54360 w 54000"/>
              <a:gd name="textAreaTop" fmla="*/ 0 h 71640"/>
              <a:gd name="textAreaBottom" fmla="*/ 72000 h 71640"/>
            </a:gdLst>
            <a:ahLst/>
            <a:rect l="textAreaLeft" t="textAreaTop" r="textAreaRight" b="textAreaBottom"/>
            <a:pathLst>
              <a:path w="68" h="88">
                <a:moveTo>
                  <a:pt x="36" y="0"/>
                </a:moveTo>
                <a:lnTo>
                  <a:pt x="45" y="2"/>
                </a:lnTo>
                <a:lnTo>
                  <a:pt x="54" y="7"/>
                </a:lnTo>
                <a:lnTo>
                  <a:pt x="60" y="14"/>
                </a:lnTo>
                <a:lnTo>
                  <a:pt x="65" y="23"/>
                </a:lnTo>
                <a:lnTo>
                  <a:pt x="67" y="33"/>
                </a:lnTo>
                <a:lnTo>
                  <a:pt x="68" y="45"/>
                </a:lnTo>
                <a:lnTo>
                  <a:pt x="65" y="66"/>
                </a:lnTo>
                <a:lnTo>
                  <a:pt x="60" y="75"/>
                </a:lnTo>
                <a:lnTo>
                  <a:pt x="54" y="82"/>
                </a:lnTo>
                <a:lnTo>
                  <a:pt x="45" y="87"/>
                </a:lnTo>
                <a:lnTo>
                  <a:pt x="36" y="88"/>
                </a:lnTo>
                <a:lnTo>
                  <a:pt x="25" y="87"/>
                </a:lnTo>
                <a:lnTo>
                  <a:pt x="16" y="82"/>
                </a:lnTo>
                <a:lnTo>
                  <a:pt x="9" y="75"/>
                </a:lnTo>
                <a:lnTo>
                  <a:pt x="5" y="66"/>
                </a:lnTo>
                <a:lnTo>
                  <a:pt x="1" y="56"/>
                </a:lnTo>
                <a:lnTo>
                  <a:pt x="0" y="45"/>
                </a:lnTo>
                <a:lnTo>
                  <a:pt x="5" y="23"/>
                </a:lnTo>
                <a:lnTo>
                  <a:pt x="9" y="14"/>
                </a:lnTo>
                <a:lnTo>
                  <a:pt x="16" y="7"/>
                </a:lnTo>
                <a:lnTo>
                  <a:pt x="25" y="2"/>
                </a:lnTo>
                <a:lnTo>
                  <a:pt x="36" y="0"/>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41" name="Freeform 180"/>
          <p:cNvSpPr/>
          <p:nvPr/>
        </p:nvSpPr>
        <p:spPr>
          <a:xfrm>
            <a:off x="3643200" y="5060880"/>
            <a:ext cx="30240" cy="79560"/>
          </a:xfrm>
          <a:custGeom>
            <a:avLst/>
            <a:gdLst>
              <a:gd name="textAreaLeft" fmla="*/ 0 w 30240"/>
              <a:gd name="textAreaRight" fmla="*/ 30600 w 30240"/>
              <a:gd name="textAreaTop" fmla="*/ 0 h 79560"/>
              <a:gd name="textAreaBottom" fmla="*/ 79920 h 79560"/>
            </a:gdLst>
            <a:ahLst/>
            <a:rect l="textAreaLeft" t="textAreaTop" r="textAreaRight" b="textAreaBottom"/>
            <a:pathLst>
              <a:path w="38" h="100">
                <a:moveTo>
                  <a:pt x="0" y="100"/>
                </a:moveTo>
                <a:lnTo>
                  <a:pt x="0" y="100"/>
                </a:lnTo>
                <a:lnTo>
                  <a:pt x="2" y="100"/>
                </a:lnTo>
                <a:lnTo>
                  <a:pt x="3" y="100"/>
                </a:lnTo>
                <a:lnTo>
                  <a:pt x="4" y="100"/>
                </a:lnTo>
                <a:lnTo>
                  <a:pt x="6" y="100"/>
                </a:lnTo>
                <a:lnTo>
                  <a:pt x="7" y="100"/>
                </a:lnTo>
                <a:lnTo>
                  <a:pt x="8" y="99"/>
                </a:lnTo>
                <a:lnTo>
                  <a:pt x="10" y="98"/>
                </a:lnTo>
                <a:lnTo>
                  <a:pt x="13" y="96"/>
                </a:lnTo>
                <a:lnTo>
                  <a:pt x="15" y="95"/>
                </a:lnTo>
                <a:lnTo>
                  <a:pt x="17" y="94"/>
                </a:lnTo>
                <a:lnTo>
                  <a:pt x="18" y="93"/>
                </a:lnTo>
                <a:lnTo>
                  <a:pt x="20" y="92"/>
                </a:lnTo>
                <a:lnTo>
                  <a:pt x="21" y="91"/>
                </a:lnTo>
                <a:lnTo>
                  <a:pt x="22" y="90"/>
                </a:lnTo>
                <a:lnTo>
                  <a:pt x="23" y="89"/>
                </a:lnTo>
                <a:lnTo>
                  <a:pt x="24" y="88"/>
                </a:lnTo>
                <a:lnTo>
                  <a:pt x="26" y="87"/>
                </a:lnTo>
                <a:lnTo>
                  <a:pt x="27" y="86"/>
                </a:lnTo>
                <a:lnTo>
                  <a:pt x="28" y="85"/>
                </a:lnTo>
                <a:lnTo>
                  <a:pt x="29" y="83"/>
                </a:lnTo>
                <a:lnTo>
                  <a:pt x="30" y="81"/>
                </a:lnTo>
                <a:lnTo>
                  <a:pt x="31" y="79"/>
                </a:lnTo>
                <a:lnTo>
                  <a:pt x="32" y="77"/>
                </a:lnTo>
                <a:lnTo>
                  <a:pt x="33" y="75"/>
                </a:lnTo>
                <a:lnTo>
                  <a:pt x="33" y="73"/>
                </a:lnTo>
                <a:lnTo>
                  <a:pt x="33" y="72"/>
                </a:lnTo>
                <a:lnTo>
                  <a:pt x="34" y="71"/>
                </a:lnTo>
                <a:lnTo>
                  <a:pt x="35" y="69"/>
                </a:lnTo>
                <a:lnTo>
                  <a:pt x="36" y="67"/>
                </a:lnTo>
                <a:lnTo>
                  <a:pt x="36" y="65"/>
                </a:lnTo>
                <a:lnTo>
                  <a:pt x="36" y="64"/>
                </a:lnTo>
                <a:lnTo>
                  <a:pt x="37" y="63"/>
                </a:lnTo>
                <a:lnTo>
                  <a:pt x="37" y="61"/>
                </a:lnTo>
                <a:lnTo>
                  <a:pt x="37" y="60"/>
                </a:lnTo>
                <a:lnTo>
                  <a:pt x="37" y="59"/>
                </a:lnTo>
                <a:lnTo>
                  <a:pt x="37" y="56"/>
                </a:lnTo>
                <a:lnTo>
                  <a:pt x="37" y="55"/>
                </a:lnTo>
                <a:lnTo>
                  <a:pt x="38" y="54"/>
                </a:lnTo>
                <a:lnTo>
                  <a:pt x="38" y="52"/>
                </a:lnTo>
                <a:lnTo>
                  <a:pt x="38" y="51"/>
                </a:lnTo>
                <a:lnTo>
                  <a:pt x="38" y="50"/>
                </a:lnTo>
                <a:lnTo>
                  <a:pt x="38" y="48"/>
                </a:lnTo>
                <a:lnTo>
                  <a:pt x="38" y="47"/>
                </a:lnTo>
                <a:lnTo>
                  <a:pt x="38" y="46"/>
                </a:lnTo>
                <a:lnTo>
                  <a:pt x="37" y="42"/>
                </a:lnTo>
                <a:lnTo>
                  <a:pt x="37" y="41"/>
                </a:lnTo>
                <a:lnTo>
                  <a:pt x="37" y="40"/>
                </a:lnTo>
                <a:lnTo>
                  <a:pt x="37" y="38"/>
                </a:lnTo>
                <a:lnTo>
                  <a:pt x="37" y="37"/>
                </a:lnTo>
                <a:lnTo>
                  <a:pt x="37" y="36"/>
                </a:lnTo>
                <a:lnTo>
                  <a:pt x="36" y="34"/>
                </a:lnTo>
                <a:lnTo>
                  <a:pt x="36" y="33"/>
                </a:lnTo>
                <a:lnTo>
                  <a:pt x="36" y="32"/>
                </a:lnTo>
                <a:lnTo>
                  <a:pt x="34" y="30"/>
                </a:lnTo>
                <a:lnTo>
                  <a:pt x="34" y="28"/>
                </a:lnTo>
                <a:lnTo>
                  <a:pt x="33" y="26"/>
                </a:lnTo>
                <a:lnTo>
                  <a:pt x="33" y="25"/>
                </a:lnTo>
                <a:lnTo>
                  <a:pt x="33" y="24"/>
                </a:lnTo>
                <a:lnTo>
                  <a:pt x="31" y="22"/>
                </a:lnTo>
                <a:lnTo>
                  <a:pt x="31" y="20"/>
                </a:lnTo>
                <a:lnTo>
                  <a:pt x="29" y="18"/>
                </a:lnTo>
                <a:lnTo>
                  <a:pt x="29" y="16"/>
                </a:lnTo>
                <a:lnTo>
                  <a:pt x="27" y="14"/>
                </a:lnTo>
                <a:lnTo>
                  <a:pt x="27" y="13"/>
                </a:lnTo>
                <a:lnTo>
                  <a:pt x="24" y="12"/>
                </a:lnTo>
                <a:lnTo>
                  <a:pt x="23" y="11"/>
                </a:lnTo>
                <a:lnTo>
                  <a:pt x="23" y="10"/>
                </a:lnTo>
                <a:lnTo>
                  <a:pt x="21" y="9"/>
                </a:lnTo>
                <a:lnTo>
                  <a:pt x="20" y="8"/>
                </a:lnTo>
                <a:lnTo>
                  <a:pt x="20" y="7"/>
                </a:lnTo>
                <a:lnTo>
                  <a:pt x="18" y="6"/>
                </a:lnTo>
                <a:lnTo>
                  <a:pt x="17" y="5"/>
                </a:lnTo>
                <a:lnTo>
                  <a:pt x="14" y="4"/>
                </a:lnTo>
                <a:lnTo>
                  <a:pt x="13" y="3"/>
                </a:lnTo>
                <a:lnTo>
                  <a:pt x="9" y="2"/>
                </a:lnTo>
                <a:lnTo>
                  <a:pt x="8" y="1"/>
                </a:lnTo>
                <a:lnTo>
                  <a:pt x="7" y="1"/>
                </a:lnTo>
                <a:lnTo>
                  <a:pt x="5" y="1"/>
                </a:lnTo>
                <a:lnTo>
                  <a:pt x="4" y="1"/>
                </a:lnTo>
                <a:lnTo>
                  <a:pt x="4" y="0"/>
                </a:lnTo>
                <a:lnTo>
                  <a:pt x="3" y="0"/>
                </a:lnTo>
                <a:lnTo>
                  <a:pt x="1" y="0"/>
                </a:lnTo>
                <a:lnTo>
                  <a:pt x="0" y="0"/>
                </a:lnTo>
                <a:lnTo>
                  <a:pt x="0" y="1"/>
                </a:lnTo>
                <a:lnTo>
                  <a:pt x="0" y="2"/>
                </a:lnTo>
                <a:lnTo>
                  <a:pt x="0" y="7"/>
                </a:lnTo>
                <a:lnTo>
                  <a:pt x="0" y="11"/>
                </a:lnTo>
                <a:lnTo>
                  <a:pt x="1" y="11"/>
                </a:lnTo>
                <a:lnTo>
                  <a:pt x="2" y="11"/>
                </a:lnTo>
                <a:lnTo>
                  <a:pt x="4" y="12"/>
                </a:lnTo>
                <a:lnTo>
                  <a:pt x="5" y="12"/>
                </a:lnTo>
                <a:lnTo>
                  <a:pt x="7" y="13"/>
                </a:lnTo>
                <a:lnTo>
                  <a:pt x="8" y="13"/>
                </a:lnTo>
                <a:lnTo>
                  <a:pt x="9" y="14"/>
                </a:lnTo>
                <a:lnTo>
                  <a:pt x="10" y="14"/>
                </a:lnTo>
                <a:lnTo>
                  <a:pt x="12" y="15"/>
                </a:lnTo>
                <a:lnTo>
                  <a:pt x="13" y="15"/>
                </a:lnTo>
                <a:lnTo>
                  <a:pt x="14" y="17"/>
                </a:lnTo>
                <a:lnTo>
                  <a:pt x="15" y="17"/>
                </a:lnTo>
                <a:lnTo>
                  <a:pt x="16" y="19"/>
                </a:lnTo>
                <a:lnTo>
                  <a:pt x="17" y="20"/>
                </a:lnTo>
                <a:lnTo>
                  <a:pt x="18" y="22"/>
                </a:lnTo>
                <a:lnTo>
                  <a:pt x="19" y="22"/>
                </a:lnTo>
                <a:lnTo>
                  <a:pt x="19" y="23"/>
                </a:lnTo>
                <a:lnTo>
                  <a:pt x="19" y="24"/>
                </a:lnTo>
                <a:lnTo>
                  <a:pt x="19" y="25"/>
                </a:lnTo>
                <a:lnTo>
                  <a:pt x="20" y="25"/>
                </a:lnTo>
                <a:lnTo>
                  <a:pt x="21" y="27"/>
                </a:lnTo>
                <a:lnTo>
                  <a:pt x="22" y="28"/>
                </a:lnTo>
                <a:lnTo>
                  <a:pt x="22" y="29"/>
                </a:lnTo>
                <a:lnTo>
                  <a:pt x="22" y="30"/>
                </a:lnTo>
                <a:lnTo>
                  <a:pt x="22" y="31"/>
                </a:lnTo>
                <a:lnTo>
                  <a:pt x="23" y="31"/>
                </a:lnTo>
                <a:lnTo>
                  <a:pt x="23" y="32"/>
                </a:lnTo>
                <a:lnTo>
                  <a:pt x="23" y="33"/>
                </a:lnTo>
                <a:lnTo>
                  <a:pt x="23" y="34"/>
                </a:lnTo>
                <a:lnTo>
                  <a:pt x="24" y="34"/>
                </a:lnTo>
                <a:lnTo>
                  <a:pt x="24" y="35"/>
                </a:lnTo>
                <a:lnTo>
                  <a:pt x="24" y="37"/>
                </a:lnTo>
                <a:lnTo>
                  <a:pt x="24" y="38"/>
                </a:lnTo>
                <a:lnTo>
                  <a:pt x="26" y="38"/>
                </a:lnTo>
                <a:lnTo>
                  <a:pt x="26" y="39"/>
                </a:lnTo>
                <a:lnTo>
                  <a:pt x="26" y="41"/>
                </a:lnTo>
                <a:lnTo>
                  <a:pt x="26" y="42"/>
                </a:lnTo>
                <a:lnTo>
                  <a:pt x="26" y="44"/>
                </a:lnTo>
                <a:lnTo>
                  <a:pt x="26" y="45"/>
                </a:lnTo>
                <a:lnTo>
                  <a:pt x="26" y="46"/>
                </a:lnTo>
                <a:lnTo>
                  <a:pt x="27" y="46"/>
                </a:lnTo>
                <a:lnTo>
                  <a:pt x="27" y="47"/>
                </a:lnTo>
                <a:lnTo>
                  <a:pt x="27" y="49"/>
                </a:lnTo>
                <a:lnTo>
                  <a:pt x="27" y="50"/>
                </a:lnTo>
                <a:lnTo>
                  <a:pt x="27" y="51"/>
                </a:lnTo>
                <a:lnTo>
                  <a:pt x="27" y="53"/>
                </a:lnTo>
                <a:lnTo>
                  <a:pt x="27" y="54"/>
                </a:lnTo>
                <a:lnTo>
                  <a:pt x="26" y="56"/>
                </a:lnTo>
                <a:lnTo>
                  <a:pt x="26" y="57"/>
                </a:lnTo>
                <a:lnTo>
                  <a:pt x="26" y="58"/>
                </a:lnTo>
                <a:lnTo>
                  <a:pt x="26" y="60"/>
                </a:lnTo>
                <a:lnTo>
                  <a:pt x="26" y="61"/>
                </a:lnTo>
                <a:lnTo>
                  <a:pt x="24" y="64"/>
                </a:lnTo>
                <a:lnTo>
                  <a:pt x="24" y="65"/>
                </a:lnTo>
                <a:lnTo>
                  <a:pt x="23" y="67"/>
                </a:lnTo>
                <a:lnTo>
                  <a:pt x="23" y="68"/>
                </a:lnTo>
                <a:lnTo>
                  <a:pt x="22" y="70"/>
                </a:lnTo>
                <a:lnTo>
                  <a:pt x="22" y="71"/>
                </a:lnTo>
                <a:lnTo>
                  <a:pt x="21" y="72"/>
                </a:lnTo>
                <a:lnTo>
                  <a:pt x="20" y="73"/>
                </a:lnTo>
                <a:lnTo>
                  <a:pt x="20" y="74"/>
                </a:lnTo>
                <a:lnTo>
                  <a:pt x="19" y="76"/>
                </a:lnTo>
                <a:lnTo>
                  <a:pt x="19" y="77"/>
                </a:lnTo>
                <a:lnTo>
                  <a:pt x="18" y="78"/>
                </a:lnTo>
                <a:lnTo>
                  <a:pt x="17" y="79"/>
                </a:lnTo>
                <a:lnTo>
                  <a:pt x="16" y="80"/>
                </a:lnTo>
                <a:lnTo>
                  <a:pt x="15" y="81"/>
                </a:lnTo>
                <a:lnTo>
                  <a:pt x="15" y="82"/>
                </a:lnTo>
                <a:lnTo>
                  <a:pt x="14" y="83"/>
                </a:lnTo>
                <a:lnTo>
                  <a:pt x="13" y="84"/>
                </a:lnTo>
                <a:lnTo>
                  <a:pt x="12" y="85"/>
                </a:lnTo>
                <a:lnTo>
                  <a:pt x="10" y="85"/>
                </a:lnTo>
                <a:lnTo>
                  <a:pt x="9" y="86"/>
                </a:lnTo>
                <a:lnTo>
                  <a:pt x="8" y="86"/>
                </a:lnTo>
                <a:lnTo>
                  <a:pt x="6" y="87"/>
                </a:lnTo>
                <a:lnTo>
                  <a:pt x="5" y="87"/>
                </a:lnTo>
                <a:lnTo>
                  <a:pt x="3" y="88"/>
                </a:lnTo>
                <a:lnTo>
                  <a:pt x="2" y="88"/>
                </a:lnTo>
                <a:lnTo>
                  <a:pt x="1" y="88"/>
                </a:lnTo>
                <a:lnTo>
                  <a:pt x="0" y="88"/>
                </a:lnTo>
                <a:lnTo>
                  <a:pt x="0" y="100"/>
                </a:lnTo>
                <a:close/>
              </a:path>
            </a:pathLst>
          </a:custGeom>
          <a:solidFill>
            <a:srgbClr val="1f1a17"/>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42" name="Freeform 181"/>
          <p:cNvSpPr/>
          <p:nvPr/>
        </p:nvSpPr>
        <p:spPr>
          <a:xfrm>
            <a:off x="3611520" y="5060880"/>
            <a:ext cx="31680" cy="79560"/>
          </a:xfrm>
          <a:custGeom>
            <a:avLst/>
            <a:gdLst>
              <a:gd name="textAreaLeft" fmla="*/ 0 w 31680"/>
              <a:gd name="textAreaRight" fmla="*/ 32040 w 31680"/>
              <a:gd name="textAreaTop" fmla="*/ 0 h 79560"/>
              <a:gd name="textAreaBottom" fmla="*/ 79920 h 79560"/>
            </a:gdLst>
            <a:ahLst/>
            <a:rect l="textAreaLeft" t="textAreaTop" r="textAreaRight" b="textAreaBottom"/>
            <a:pathLst>
              <a:path w="41" h="100">
                <a:moveTo>
                  <a:pt x="41" y="0"/>
                </a:moveTo>
                <a:lnTo>
                  <a:pt x="41" y="0"/>
                </a:lnTo>
                <a:lnTo>
                  <a:pt x="40" y="0"/>
                </a:lnTo>
                <a:lnTo>
                  <a:pt x="36" y="0"/>
                </a:lnTo>
                <a:lnTo>
                  <a:pt x="35" y="0"/>
                </a:lnTo>
                <a:lnTo>
                  <a:pt x="32" y="1"/>
                </a:lnTo>
                <a:lnTo>
                  <a:pt x="31" y="1"/>
                </a:lnTo>
                <a:lnTo>
                  <a:pt x="27" y="3"/>
                </a:lnTo>
                <a:lnTo>
                  <a:pt x="26" y="3"/>
                </a:lnTo>
                <a:lnTo>
                  <a:pt x="25" y="4"/>
                </a:lnTo>
                <a:lnTo>
                  <a:pt x="24" y="5"/>
                </a:lnTo>
                <a:lnTo>
                  <a:pt x="23" y="5"/>
                </a:lnTo>
                <a:lnTo>
                  <a:pt x="21" y="6"/>
                </a:lnTo>
                <a:lnTo>
                  <a:pt x="19" y="7"/>
                </a:lnTo>
                <a:lnTo>
                  <a:pt x="18" y="7"/>
                </a:lnTo>
                <a:lnTo>
                  <a:pt x="17" y="8"/>
                </a:lnTo>
                <a:lnTo>
                  <a:pt x="16" y="9"/>
                </a:lnTo>
                <a:lnTo>
                  <a:pt x="15" y="10"/>
                </a:lnTo>
                <a:lnTo>
                  <a:pt x="14" y="11"/>
                </a:lnTo>
                <a:lnTo>
                  <a:pt x="13" y="12"/>
                </a:lnTo>
                <a:lnTo>
                  <a:pt x="12" y="13"/>
                </a:lnTo>
                <a:lnTo>
                  <a:pt x="11" y="14"/>
                </a:lnTo>
                <a:lnTo>
                  <a:pt x="10" y="15"/>
                </a:lnTo>
                <a:lnTo>
                  <a:pt x="10" y="16"/>
                </a:lnTo>
                <a:lnTo>
                  <a:pt x="9" y="17"/>
                </a:lnTo>
                <a:lnTo>
                  <a:pt x="8" y="19"/>
                </a:lnTo>
                <a:lnTo>
                  <a:pt x="8" y="20"/>
                </a:lnTo>
                <a:lnTo>
                  <a:pt x="6" y="21"/>
                </a:lnTo>
                <a:lnTo>
                  <a:pt x="5" y="23"/>
                </a:lnTo>
                <a:lnTo>
                  <a:pt x="5" y="24"/>
                </a:lnTo>
                <a:lnTo>
                  <a:pt x="4" y="25"/>
                </a:lnTo>
                <a:lnTo>
                  <a:pt x="3" y="26"/>
                </a:lnTo>
                <a:lnTo>
                  <a:pt x="3" y="27"/>
                </a:lnTo>
                <a:lnTo>
                  <a:pt x="2" y="31"/>
                </a:lnTo>
                <a:lnTo>
                  <a:pt x="2" y="32"/>
                </a:lnTo>
                <a:lnTo>
                  <a:pt x="1" y="35"/>
                </a:lnTo>
                <a:lnTo>
                  <a:pt x="1" y="36"/>
                </a:lnTo>
                <a:lnTo>
                  <a:pt x="0" y="39"/>
                </a:lnTo>
                <a:lnTo>
                  <a:pt x="0" y="40"/>
                </a:lnTo>
                <a:lnTo>
                  <a:pt x="0" y="41"/>
                </a:lnTo>
                <a:lnTo>
                  <a:pt x="0" y="45"/>
                </a:lnTo>
                <a:lnTo>
                  <a:pt x="0" y="46"/>
                </a:lnTo>
                <a:lnTo>
                  <a:pt x="0" y="47"/>
                </a:lnTo>
                <a:lnTo>
                  <a:pt x="0" y="49"/>
                </a:lnTo>
                <a:lnTo>
                  <a:pt x="0" y="50"/>
                </a:lnTo>
                <a:lnTo>
                  <a:pt x="0" y="51"/>
                </a:lnTo>
                <a:lnTo>
                  <a:pt x="0" y="53"/>
                </a:lnTo>
                <a:lnTo>
                  <a:pt x="0" y="54"/>
                </a:lnTo>
                <a:lnTo>
                  <a:pt x="0" y="55"/>
                </a:lnTo>
                <a:lnTo>
                  <a:pt x="0" y="58"/>
                </a:lnTo>
                <a:lnTo>
                  <a:pt x="0" y="59"/>
                </a:lnTo>
                <a:lnTo>
                  <a:pt x="0" y="60"/>
                </a:lnTo>
                <a:lnTo>
                  <a:pt x="0" y="62"/>
                </a:lnTo>
                <a:lnTo>
                  <a:pt x="0" y="63"/>
                </a:lnTo>
                <a:lnTo>
                  <a:pt x="1" y="63"/>
                </a:lnTo>
                <a:lnTo>
                  <a:pt x="1" y="64"/>
                </a:lnTo>
                <a:lnTo>
                  <a:pt x="1" y="66"/>
                </a:lnTo>
                <a:lnTo>
                  <a:pt x="1" y="67"/>
                </a:lnTo>
                <a:lnTo>
                  <a:pt x="2" y="67"/>
                </a:lnTo>
                <a:lnTo>
                  <a:pt x="2" y="68"/>
                </a:lnTo>
                <a:lnTo>
                  <a:pt x="2" y="71"/>
                </a:lnTo>
                <a:lnTo>
                  <a:pt x="2" y="72"/>
                </a:lnTo>
                <a:lnTo>
                  <a:pt x="3" y="72"/>
                </a:lnTo>
                <a:lnTo>
                  <a:pt x="4" y="74"/>
                </a:lnTo>
                <a:lnTo>
                  <a:pt x="5" y="75"/>
                </a:lnTo>
                <a:lnTo>
                  <a:pt x="6" y="78"/>
                </a:lnTo>
                <a:lnTo>
                  <a:pt x="8" y="79"/>
                </a:lnTo>
                <a:lnTo>
                  <a:pt x="9" y="82"/>
                </a:lnTo>
                <a:lnTo>
                  <a:pt x="10" y="83"/>
                </a:lnTo>
                <a:lnTo>
                  <a:pt x="11" y="85"/>
                </a:lnTo>
                <a:lnTo>
                  <a:pt x="12" y="86"/>
                </a:lnTo>
                <a:lnTo>
                  <a:pt x="13" y="88"/>
                </a:lnTo>
                <a:lnTo>
                  <a:pt x="14" y="89"/>
                </a:lnTo>
                <a:lnTo>
                  <a:pt x="15" y="89"/>
                </a:lnTo>
                <a:lnTo>
                  <a:pt x="16" y="91"/>
                </a:lnTo>
                <a:lnTo>
                  <a:pt x="17" y="92"/>
                </a:lnTo>
                <a:lnTo>
                  <a:pt x="18" y="92"/>
                </a:lnTo>
                <a:lnTo>
                  <a:pt x="20" y="94"/>
                </a:lnTo>
                <a:lnTo>
                  <a:pt x="23" y="94"/>
                </a:lnTo>
                <a:lnTo>
                  <a:pt x="25" y="96"/>
                </a:lnTo>
                <a:lnTo>
                  <a:pt x="26" y="96"/>
                </a:lnTo>
                <a:lnTo>
                  <a:pt x="29" y="99"/>
                </a:lnTo>
                <a:lnTo>
                  <a:pt x="30" y="99"/>
                </a:lnTo>
                <a:lnTo>
                  <a:pt x="31" y="99"/>
                </a:lnTo>
                <a:lnTo>
                  <a:pt x="33" y="100"/>
                </a:lnTo>
                <a:lnTo>
                  <a:pt x="34" y="100"/>
                </a:lnTo>
                <a:lnTo>
                  <a:pt x="35" y="100"/>
                </a:lnTo>
                <a:lnTo>
                  <a:pt x="39" y="100"/>
                </a:lnTo>
                <a:lnTo>
                  <a:pt x="40" y="100"/>
                </a:lnTo>
                <a:lnTo>
                  <a:pt x="41" y="100"/>
                </a:lnTo>
                <a:lnTo>
                  <a:pt x="41" y="99"/>
                </a:lnTo>
                <a:lnTo>
                  <a:pt x="41" y="93"/>
                </a:lnTo>
                <a:lnTo>
                  <a:pt x="41" y="89"/>
                </a:lnTo>
                <a:lnTo>
                  <a:pt x="41" y="88"/>
                </a:lnTo>
                <a:lnTo>
                  <a:pt x="40" y="88"/>
                </a:lnTo>
                <a:lnTo>
                  <a:pt x="38" y="88"/>
                </a:lnTo>
                <a:lnTo>
                  <a:pt x="36" y="88"/>
                </a:lnTo>
                <a:lnTo>
                  <a:pt x="35" y="88"/>
                </a:lnTo>
                <a:lnTo>
                  <a:pt x="34" y="88"/>
                </a:lnTo>
                <a:lnTo>
                  <a:pt x="33" y="88"/>
                </a:lnTo>
                <a:lnTo>
                  <a:pt x="33" y="87"/>
                </a:lnTo>
                <a:lnTo>
                  <a:pt x="31" y="86"/>
                </a:lnTo>
                <a:lnTo>
                  <a:pt x="30" y="86"/>
                </a:lnTo>
                <a:lnTo>
                  <a:pt x="29" y="86"/>
                </a:lnTo>
                <a:lnTo>
                  <a:pt x="28" y="86"/>
                </a:lnTo>
                <a:lnTo>
                  <a:pt x="28" y="85"/>
                </a:lnTo>
                <a:lnTo>
                  <a:pt x="26" y="84"/>
                </a:lnTo>
                <a:lnTo>
                  <a:pt x="26" y="83"/>
                </a:lnTo>
                <a:lnTo>
                  <a:pt x="24" y="82"/>
                </a:lnTo>
                <a:lnTo>
                  <a:pt x="21" y="80"/>
                </a:lnTo>
                <a:lnTo>
                  <a:pt x="21" y="79"/>
                </a:lnTo>
                <a:lnTo>
                  <a:pt x="19" y="78"/>
                </a:lnTo>
                <a:lnTo>
                  <a:pt x="19" y="77"/>
                </a:lnTo>
                <a:lnTo>
                  <a:pt x="17" y="75"/>
                </a:lnTo>
                <a:lnTo>
                  <a:pt x="17" y="74"/>
                </a:lnTo>
                <a:lnTo>
                  <a:pt x="16" y="72"/>
                </a:lnTo>
                <a:lnTo>
                  <a:pt x="16" y="71"/>
                </a:lnTo>
                <a:lnTo>
                  <a:pt x="15" y="69"/>
                </a:lnTo>
                <a:lnTo>
                  <a:pt x="15" y="68"/>
                </a:lnTo>
                <a:lnTo>
                  <a:pt x="14" y="66"/>
                </a:lnTo>
                <a:lnTo>
                  <a:pt x="14" y="65"/>
                </a:lnTo>
                <a:lnTo>
                  <a:pt x="13" y="63"/>
                </a:lnTo>
                <a:lnTo>
                  <a:pt x="13" y="62"/>
                </a:lnTo>
                <a:lnTo>
                  <a:pt x="13" y="61"/>
                </a:lnTo>
                <a:lnTo>
                  <a:pt x="12" y="59"/>
                </a:lnTo>
                <a:lnTo>
                  <a:pt x="12" y="58"/>
                </a:lnTo>
                <a:lnTo>
                  <a:pt x="12" y="57"/>
                </a:lnTo>
                <a:lnTo>
                  <a:pt x="12" y="56"/>
                </a:lnTo>
                <a:lnTo>
                  <a:pt x="12" y="55"/>
                </a:lnTo>
                <a:lnTo>
                  <a:pt x="12" y="54"/>
                </a:lnTo>
                <a:lnTo>
                  <a:pt x="12" y="52"/>
                </a:lnTo>
                <a:lnTo>
                  <a:pt x="12" y="51"/>
                </a:lnTo>
                <a:lnTo>
                  <a:pt x="12" y="50"/>
                </a:lnTo>
                <a:lnTo>
                  <a:pt x="12" y="48"/>
                </a:lnTo>
                <a:lnTo>
                  <a:pt x="12" y="47"/>
                </a:lnTo>
                <a:lnTo>
                  <a:pt x="12" y="46"/>
                </a:lnTo>
                <a:lnTo>
                  <a:pt x="12" y="45"/>
                </a:lnTo>
                <a:lnTo>
                  <a:pt x="12" y="44"/>
                </a:lnTo>
                <a:lnTo>
                  <a:pt x="12" y="42"/>
                </a:lnTo>
                <a:lnTo>
                  <a:pt x="12" y="40"/>
                </a:lnTo>
                <a:lnTo>
                  <a:pt x="12" y="39"/>
                </a:lnTo>
                <a:lnTo>
                  <a:pt x="13" y="38"/>
                </a:lnTo>
                <a:lnTo>
                  <a:pt x="13" y="36"/>
                </a:lnTo>
                <a:lnTo>
                  <a:pt x="13" y="35"/>
                </a:lnTo>
                <a:lnTo>
                  <a:pt x="14" y="34"/>
                </a:lnTo>
                <a:lnTo>
                  <a:pt x="14" y="33"/>
                </a:lnTo>
                <a:lnTo>
                  <a:pt x="14" y="32"/>
                </a:lnTo>
                <a:lnTo>
                  <a:pt x="15" y="31"/>
                </a:lnTo>
                <a:lnTo>
                  <a:pt x="15" y="30"/>
                </a:lnTo>
                <a:lnTo>
                  <a:pt x="15" y="29"/>
                </a:lnTo>
                <a:lnTo>
                  <a:pt x="16" y="28"/>
                </a:lnTo>
                <a:lnTo>
                  <a:pt x="16" y="27"/>
                </a:lnTo>
                <a:lnTo>
                  <a:pt x="16" y="26"/>
                </a:lnTo>
                <a:lnTo>
                  <a:pt x="17" y="25"/>
                </a:lnTo>
                <a:lnTo>
                  <a:pt x="18" y="24"/>
                </a:lnTo>
                <a:lnTo>
                  <a:pt x="19" y="22"/>
                </a:lnTo>
                <a:lnTo>
                  <a:pt x="20" y="21"/>
                </a:lnTo>
                <a:lnTo>
                  <a:pt x="21" y="20"/>
                </a:lnTo>
                <a:lnTo>
                  <a:pt x="23" y="19"/>
                </a:lnTo>
                <a:lnTo>
                  <a:pt x="24" y="17"/>
                </a:lnTo>
                <a:lnTo>
                  <a:pt x="26" y="16"/>
                </a:lnTo>
                <a:lnTo>
                  <a:pt x="27" y="15"/>
                </a:lnTo>
                <a:lnTo>
                  <a:pt x="28" y="14"/>
                </a:lnTo>
                <a:lnTo>
                  <a:pt x="29" y="14"/>
                </a:lnTo>
                <a:lnTo>
                  <a:pt x="30" y="14"/>
                </a:lnTo>
                <a:lnTo>
                  <a:pt x="31" y="13"/>
                </a:lnTo>
                <a:lnTo>
                  <a:pt x="33" y="12"/>
                </a:lnTo>
                <a:lnTo>
                  <a:pt x="34" y="12"/>
                </a:lnTo>
                <a:lnTo>
                  <a:pt x="35" y="12"/>
                </a:lnTo>
                <a:lnTo>
                  <a:pt x="36" y="11"/>
                </a:lnTo>
                <a:lnTo>
                  <a:pt x="39" y="11"/>
                </a:lnTo>
                <a:lnTo>
                  <a:pt x="40" y="11"/>
                </a:lnTo>
                <a:lnTo>
                  <a:pt x="41" y="11"/>
                </a:lnTo>
                <a:lnTo>
                  <a:pt x="41" y="0"/>
                </a:lnTo>
                <a:close/>
              </a:path>
            </a:pathLst>
          </a:custGeom>
          <a:solidFill>
            <a:srgbClr val="1f1a17"/>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43" name="Freeform 182"/>
          <p:cNvSpPr/>
          <p:nvPr/>
        </p:nvSpPr>
        <p:spPr>
          <a:xfrm>
            <a:off x="4554360" y="5459400"/>
            <a:ext cx="346320" cy="266760"/>
          </a:xfrm>
          <a:custGeom>
            <a:avLst/>
            <a:gdLst>
              <a:gd name="textAreaLeft" fmla="*/ 0 w 346320"/>
              <a:gd name="textAreaRight" fmla="*/ 346680 w 346320"/>
              <a:gd name="textAreaTop" fmla="*/ 0 h 266760"/>
              <a:gd name="textAreaBottom" fmla="*/ 267120 h 266760"/>
            </a:gdLst>
            <a:ahLst/>
            <a:rect l="textAreaLeft" t="textAreaTop" r="textAreaRight" b="textAreaBottom"/>
            <a:pathLst>
              <a:path w="436" h="335">
                <a:moveTo>
                  <a:pt x="326" y="0"/>
                </a:moveTo>
                <a:lnTo>
                  <a:pt x="320" y="4"/>
                </a:lnTo>
                <a:lnTo>
                  <a:pt x="275" y="26"/>
                </a:lnTo>
                <a:lnTo>
                  <a:pt x="124" y="105"/>
                </a:lnTo>
                <a:lnTo>
                  <a:pt x="8" y="165"/>
                </a:lnTo>
                <a:lnTo>
                  <a:pt x="2" y="168"/>
                </a:lnTo>
                <a:lnTo>
                  <a:pt x="0" y="181"/>
                </a:lnTo>
                <a:lnTo>
                  <a:pt x="4" y="207"/>
                </a:lnTo>
                <a:lnTo>
                  <a:pt x="11" y="233"/>
                </a:lnTo>
                <a:lnTo>
                  <a:pt x="40" y="290"/>
                </a:lnTo>
                <a:lnTo>
                  <a:pt x="72" y="335"/>
                </a:lnTo>
                <a:lnTo>
                  <a:pt x="102" y="335"/>
                </a:lnTo>
                <a:lnTo>
                  <a:pt x="149" y="331"/>
                </a:lnTo>
                <a:lnTo>
                  <a:pt x="217" y="309"/>
                </a:lnTo>
                <a:lnTo>
                  <a:pt x="286" y="260"/>
                </a:lnTo>
                <a:lnTo>
                  <a:pt x="309" y="242"/>
                </a:lnTo>
                <a:lnTo>
                  <a:pt x="310" y="242"/>
                </a:lnTo>
                <a:lnTo>
                  <a:pt x="318" y="241"/>
                </a:lnTo>
                <a:lnTo>
                  <a:pt x="346" y="237"/>
                </a:lnTo>
                <a:lnTo>
                  <a:pt x="367" y="234"/>
                </a:lnTo>
                <a:lnTo>
                  <a:pt x="369" y="233"/>
                </a:lnTo>
                <a:lnTo>
                  <a:pt x="379" y="228"/>
                </a:lnTo>
                <a:lnTo>
                  <a:pt x="410" y="211"/>
                </a:lnTo>
                <a:lnTo>
                  <a:pt x="432" y="198"/>
                </a:lnTo>
                <a:lnTo>
                  <a:pt x="435" y="197"/>
                </a:lnTo>
                <a:lnTo>
                  <a:pt x="431" y="186"/>
                </a:lnTo>
                <a:lnTo>
                  <a:pt x="425" y="156"/>
                </a:lnTo>
                <a:lnTo>
                  <a:pt x="421" y="132"/>
                </a:lnTo>
                <a:lnTo>
                  <a:pt x="421" y="130"/>
                </a:lnTo>
                <a:lnTo>
                  <a:pt x="423" y="123"/>
                </a:lnTo>
                <a:lnTo>
                  <a:pt x="429" y="102"/>
                </a:lnTo>
                <a:lnTo>
                  <a:pt x="435" y="85"/>
                </a:lnTo>
                <a:lnTo>
                  <a:pt x="436" y="84"/>
                </a:lnTo>
                <a:lnTo>
                  <a:pt x="435" y="82"/>
                </a:lnTo>
                <a:lnTo>
                  <a:pt x="430" y="74"/>
                </a:lnTo>
                <a:lnTo>
                  <a:pt x="414" y="44"/>
                </a:lnTo>
                <a:lnTo>
                  <a:pt x="402" y="21"/>
                </a:lnTo>
                <a:lnTo>
                  <a:pt x="402" y="19"/>
                </a:lnTo>
                <a:lnTo>
                  <a:pt x="400" y="19"/>
                </a:lnTo>
                <a:lnTo>
                  <a:pt x="390" y="17"/>
                </a:lnTo>
                <a:lnTo>
                  <a:pt x="354" y="8"/>
                </a:lnTo>
                <a:lnTo>
                  <a:pt x="327" y="1"/>
                </a:lnTo>
                <a:lnTo>
                  <a:pt x="3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183"/>
          <p:cNvSpPr/>
          <p:nvPr/>
        </p:nvSpPr>
        <p:spPr>
          <a:xfrm>
            <a:off x="4551480" y="5454720"/>
            <a:ext cx="263520" cy="141120"/>
          </a:xfrm>
          <a:custGeom>
            <a:avLst/>
            <a:gdLst>
              <a:gd name="textAreaLeft" fmla="*/ 0 w 263520"/>
              <a:gd name="textAreaRight" fmla="*/ 263880 w 263520"/>
              <a:gd name="textAreaTop" fmla="*/ 0 h 141120"/>
              <a:gd name="textAreaBottom" fmla="*/ 141480 h 141120"/>
            </a:gdLst>
            <a:ahLst/>
            <a:rect l="textAreaLeft" t="textAreaTop" r="textAreaRight" b="textAreaBottom"/>
            <a:pathLst>
              <a:path w="332" h="177">
                <a:moveTo>
                  <a:pt x="12" y="173"/>
                </a:moveTo>
                <a:lnTo>
                  <a:pt x="11" y="174"/>
                </a:lnTo>
                <a:lnTo>
                  <a:pt x="10" y="176"/>
                </a:lnTo>
                <a:lnTo>
                  <a:pt x="9" y="177"/>
                </a:lnTo>
                <a:lnTo>
                  <a:pt x="14" y="174"/>
                </a:lnTo>
                <a:lnTo>
                  <a:pt x="59" y="152"/>
                </a:lnTo>
                <a:lnTo>
                  <a:pt x="210" y="73"/>
                </a:lnTo>
                <a:lnTo>
                  <a:pt x="326" y="13"/>
                </a:lnTo>
                <a:lnTo>
                  <a:pt x="332" y="9"/>
                </a:lnTo>
                <a:lnTo>
                  <a:pt x="331" y="8"/>
                </a:lnTo>
                <a:lnTo>
                  <a:pt x="328" y="4"/>
                </a:lnTo>
                <a:lnTo>
                  <a:pt x="327" y="1"/>
                </a:lnTo>
                <a:lnTo>
                  <a:pt x="327" y="0"/>
                </a:lnTo>
                <a:lnTo>
                  <a:pt x="321" y="4"/>
                </a:lnTo>
                <a:lnTo>
                  <a:pt x="276" y="26"/>
                </a:lnTo>
                <a:lnTo>
                  <a:pt x="124" y="105"/>
                </a:lnTo>
                <a:lnTo>
                  <a:pt x="9" y="165"/>
                </a:lnTo>
                <a:lnTo>
                  <a:pt x="3" y="168"/>
                </a:lnTo>
                <a:lnTo>
                  <a:pt x="2" y="169"/>
                </a:lnTo>
                <a:lnTo>
                  <a:pt x="1" y="171"/>
                </a:lnTo>
                <a:lnTo>
                  <a:pt x="0" y="172"/>
                </a:lnTo>
                <a:lnTo>
                  <a:pt x="1" y="170"/>
                </a:lnTo>
                <a:lnTo>
                  <a:pt x="2" y="169"/>
                </a:lnTo>
                <a:lnTo>
                  <a:pt x="3" y="168"/>
                </a:lnTo>
                <a:lnTo>
                  <a:pt x="1" y="169"/>
                </a:lnTo>
                <a:lnTo>
                  <a:pt x="0" y="169"/>
                </a:lnTo>
                <a:lnTo>
                  <a:pt x="0" y="170"/>
                </a:lnTo>
                <a:lnTo>
                  <a:pt x="0" y="171"/>
                </a:lnTo>
                <a:lnTo>
                  <a:pt x="0" y="172"/>
                </a:lnTo>
                <a:lnTo>
                  <a:pt x="12" y="17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84"/>
          <p:cNvSpPr/>
          <p:nvPr/>
        </p:nvSpPr>
        <p:spPr>
          <a:xfrm>
            <a:off x="4549680" y="5592600"/>
            <a:ext cx="65160" cy="136800"/>
          </a:xfrm>
          <a:custGeom>
            <a:avLst/>
            <a:gdLst>
              <a:gd name="textAreaLeft" fmla="*/ 0 w 65160"/>
              <a:gd name="textAreaRight" fmla="*/ 65520 w 65160"/>
              <a:gd name="textAreaTop" fmla="*/ 0 h 136800"/>
              <a:gd name="textAreaBottom" fmla="*/ 137160 h 136800"/>
            </a:gdLst>
            <a:ahLst/>
            <a:rect l="textAreaLeft" t="textAreaTop" r="textAreaRight" b="textAreaBottom"/>
            <a:pathLst>
              <a:path w="81" h="173">
                <a:moveTo>
                  <a:pt x="77" y="162"/>
                </a:moveTo>
                <a:lnTo>
                  <a:pt x="79" y="164"/>
                </a:lnTo>
                <a:lnTo>
                  <a:pt x="81" y="164"/>
                </a:lnTo>
                <a:lnTo>
                  <a:pt x="78" y="161"/>
                </a:lnTo>
                <a:lnTo>
                  <a:pt x="77" y="160"/>
                </a:lnTo>
                <a:lnTo>
                  <a:pt x="77" y="159"/>
                </a:lnTo>
                <a:lnTo>
                  <a:pt x="74" y="156"/>
                </a:lnTo>
                <a:lnTo>
                  <a:pt x="73" y="154"/>
                </a:lnTo>
                <a:lnTo>
                  <a:pt x="73" y="153"/>
                </a:lnTo>
                <a:lnTo>
                  <a:pt x="70" y="150"/>
                </a:lnTo>
                <a:lnTo>
                  <a:pt x="69" y="149"/>
                </a:lnTo>
                <a:lnTo>
                  <a:pt x="69" y="148"/>
                </a:lnTo>
                <a:lnTo>
                  <a:pt x="65" y="145"/>
                </a:lnTo>
                <a:lnTo>
                  <a:pt x="64" y="143"/>
                </a:lnTo>
                <a:lnTo>
                  <a:pt x="64" y="142"/>
                </a:lnTo>
                <a:lnTo>
                  <a:pt x="62" y="139"/>
                </a:lnTo>
                <a:lnTo>
                  <a:pt x="61" y="138"/>
                </a:lnTo>
                <a:lnTo>
                  <a:pt x="61" y="137"/>
                </a:lnTo>
                <a:lnTo>
                  <a:pt x="58" y="134"/>
                </a:lnTo>
                <a:lnTo>
                  <a:pt x="57" y="131"/>
                </a:lnTo>
                <a:lnTo>
                  <a:pt x="57" y="130"/>
                </a:lnTo>
                <a:lnTo>
                  <a:pt x="55" y="127"/>
                </a:lnTo>
                <a:lnTo>
                  <a:pt x="54" y="126"/>
                </a:lnTo>
                <a:lnTo>
                  <a:pt x="54" y="125"/>
                </a:lnTo>
                <a:lnTo>
                  <a:pt x="51" y="122"/>
                </a:lnTo>
                <a:lnTo>
                  <a:pt x="50" y="120"/>
                </a:lnTo>
                <a:lnTo>
                  <a:pt x="50" y="119"/>
                </a:lnTo>
                <a:lnTo>
                  <a:pt x="47" y="116"/>
                </a:lnTo>
                <a:lnTo>
                  <a:pt x="46" y="115"/>
                </a:lnTo>
                <a:lnTo>
                  <a:pt x="46" y="114"/>
                </a:lnTo>
                <a:lnTo>
                  <a:pt x="44" y="111"/>
                </a:lnTo>
                <a:lnTo>
                  <a:pt x="43" y="110"/>
                </a:lnTo>
                <a:lnTo>
                  <a:pt x="43" y="109"/>
                </a:lnTo>
                <a:lnTo>
                  <a:pt x="41" y="106"/>
                </a:lnTo>
                <a:lnTo>
                  <a:pt x="40" y="105"/>
                </a:lnTo>
                <a:lnTo>
                  <a:pt x="40" y="104"/>
                </a:lnTo>
                <a:lnTo>
                  <a:pt x="37" y="101"/>
                </a:lnTo>
                <a:lnTo>
                  <a:pt x="37" y="99"/>
                </a:lnTo>
                <a:lnTo>
                  <a:pt x="37" y="98"/>
                </a:lnTo>
                <a:lnTo>
                  <a:pt x="35" y="95"/>
                </a:lnTo>
                <a:lnTo>
                  <a:pt x="34" y="94"/>
                </a:lnTo>
                <a:lnTo>
                  <a:pt x="34" y="93"/>
                </a:lnTo>
                <a:lnTo>
                  <a:pt x="32" y="90"/>
                </a:lnTo>
                <a:lnTo>
                  <a:pt x="31" y="89"/>
                </a:lnTo>
                <a:lnTo>
                  <a:pt x="31" y="88"/>
                </a:lnTo>
                <a:lnTo>
                  <a:pt x="29" y="85"/>
                </a:lnTo>
                <a:lnTo>
                  <a:pt x="29" y="84"/>
                </a:lnTo>
                <a:lnTo>
                  <a:pt x="29" y="83"/>
                </a:lnTo>
                <a:lnTo>
                  <a:pt x="27" y="80"/>
                </a:lnTo>
                <a:lnTo>
                  <a:pt x="27" y="78"/>
                </a:lnTo>
                <a:lnTo>
                  <a:pt x="27" y="77"/>
                </a:lnTo>
                <a:lnTo>
                  <a:pt x="25" y="74"/>
                </a:lnTo>
                <a:lnTo>
                  <a:pt x="25" y="73"/>
                </a:lnTo>
                <a:lnTo>
                  <a:pt x="25" y="72"/>
                </a:lnTo>
                <a:lnTo>
                  <a:pt x="22" y="69"/>
                </a:lnTo>
                <a:lnTo>
                  <a:pt x="22" y="68"/>
                </a:lnTo>
                <a:lnTo>
                  <a:pt x="22" y="67"/>
                </a:lnTo>
                <a:lnTo>
                  <a:pt x="20" y="64"/>
                </a:lnTo>
                <a:lnTo>
                  <a:pt x="20" y="63"/>
                </a:lnTo>
                <a:lnTo>
                  <a:pt x="20" y="62"/>
                </a:lnTo>
                <a:lnTo>
                  <a:pt x="19" y="59"/>
                </a:lnTo>
                <a:lnTo>
                  <a:pt x="19" y="58"/>
                </a:lnTo>
                <a:lnTo>
                  <a:pt x="19" y="57"/>
                </a:lnTo>
                <a:lnTo>
                  <a:pt x="17" y="54"/>
                </a:lnTo>
                <a:lnTo>
                  <a:pt x="17" y="53"/>
                </a:lnTo>
                <a:lnTo>
                  <a:pt x="17" y="52"/>
                </a:lnTo>
                <a:lnTo>
                  <a:pt x="16" y="49"/>
                </a:lnTo>
                <a:lnTo>
                  <a:pt x="16" y="48"/>
                </a:lnTo>
                <a:lnTo>
                  <a:pt x="16" y="47"/>
                </a:lnTo>
                <a:lnTo>
                  <a:pt x="15" y="45"/>
                </a:lnTo>
                <a:lnTo>
                  <a:pt x="15" y="44"/>
                </a:lnTo>
                <a:lnTo>
                  <a:pt x="15" y="43"/>
                </a:lnTo>
                <a:lnTo>
                  <a:pt x="14" y="40"/>
                </a:lnTo>
                <a:lnTo>
                  <a:pt x="14" y="39"/>
                </a:lnTo>
                <a:lnTo>
                  <a:pt x="14" y="38"/>
                </a:lnTo>
                <a:lnTo>
                  <a:pt x="13" y="35"/>
                </a:lnTo>
                <a:lnTo>
                  <a:pt x="13" y="34"/>
                </a:lnTo>
                <a:lnTo>
                  <a:pt x="13" y="33"/>
                </a:lnTo>
                <a:lnTo>
                  <a:pt x="13" y="31"/>
                </a:lnTo>
                <a:lnTo>
                  <a:pt x="13" y="30"/>
                </a:lnTo>
                <a:lnTo>
                  <a:pt x="13" y="29"/>
                </a:lnTo>
                <a:lnTo>
                  <a:pt x="12" y="26"/>
                </a:lnTo>
                <a:lnTo>
                  <a:pt x="12" y="24"/>
                </a:lnTo>
                <a:lnTo>
                  <a:pt x="12" y="23"/>
                </a:lnTo>
                <a:lnTo>
                  <a:pt x="12" y="21"/>
                </a:lnTo>
                <a:lnTo>
                  <a:pt x="12" y="20"/>
                </a:lnTo>
                <a:lnTo>
                  <a:pt x="12" y="19"/>
                </a:lnTo>
                <a:lnTo>
                  <a:pt x="12" y="16"/>
                </a:lnTo>
                <a:lnTo>
                  <a:pt x="12" y="15"/>
                </a:lnTo>
                <a:lnTo>
                  <a:pt x="12" y="14"/>
                </a:lnTo>
                <a:lnTo>
                  <a:pt x="12" y="12"/>
                </a:lnTo>
                <a:lnTo>
                  <a:pt x="12" y="11"/>
                </a:lnTo>
                <a:lnTo>
                  <a:pt x="12" y="10"/>
                </a:lnTo>
                <a:lnTo>
                  <a:pt x="12" y="8"/>
                </a:lnTo>
                <a:lnTo>
                  <a:pt x="12" y="7"/>
                </a:lnTo>
                <a:lnTo>
                  <a:pt x="12" y="6"/>
                </a:lnTo>
                <a:lnTo>
                  <a:pt x="12" y="3"/>
                </a:lnTo>
                <a:lnTo>
                  <a:pt x="12" y="2"/>
                </a:lnTo>
                <a:lnTo>
                  <a:pt x="13" y="1"/>
                </a:lnTo>
                <a:lnTo>
                  <a:pt x="12" y="1"/>
                </a:lnTo>
                <a:lnTo>
                  <a:pt x="11" y="1"/>
                </a:lnTo>
                <a:lnTo>
                  <a:pt x="5" y="1"/>
                </a:lnTo>
                <a:lnTo>
                  <a:pt x="1" y="1"/>
                </a:lnTo>
                <a:lnTo>
                  <a:pt x="1" y="0"/>
                </a:lnTo>
                <a:lnTo>
                  <a:pt x="0" y="3"/>
                </a:lnTo>
                <a:lnTo>
                  <a:pt x="0" y="4"/>
                </a:lnTo>
                <a:lnTo>
                  <a:pt x="0" y="5"/>
                </a:lnTo>
                <a:lnTo>
                  <a:pt x="0" y="8"/>
                </a:lnTo>
                <a:lnTo>
                  <a:pt x="0" y="9"/>
                </a:lnTo>
                <a:lnTo>
                  <a:pt x="0" y="10"/>
                </a:lnTo>
                <a:lnTo>
                  <a:pt x="0" y="13"/>
                </a:lnTo>
                <a:lnTo>
                  <a:pt x="0" y="14"/>
                </a:lnTo>
                <a:lnTo>
                  <a:pt x="0" y="15"/>
                </a:lnTo>
                <a:lnTo>
                  <a:pt x="0" y="18"/>
                </a:lnTo>
                <a:lnTo>
                  <a:pt x="0" y="19"/>
                </a:lnTo>
                <a:lnTo>
                  <a:pt x="0" y="20"/>
                </a:lnTo>
                <a:lnTo>
                  <a:pt x="0" y="23"/>
                </a:lnTo>
                <a:lnTo>
                  <a:pt x="0" y="24"/>
                </a:lnTo>
                <a:lnTo>
                  <a:pt x="0" y="26"/>
                </a:lnTo>
                <a:lnTo>
                  <a:pt x="0" y="29"/>
                </a:lnTo>
                <a:lnTo>
                  <a:pt x="0" y="30"/>
                </a:lnTo>
                <a:lnTo>
                  <a:pt x="1" y="30"/>
                </a:lnTo>
                <a:lnTo>
                  <a:pt x="1" y="31"/>
                </a:lnTo>
                <a:lnTo>
                  <a:pt x="1" y="34"/>
                </a:lnTo>
                <a:lnTo>
                  <a:pt x="1" y="35"/>
                </a:lnTo>
                <a:lnTo>
                  <a:pt x="1" y="36"/>
                </a:lnTo>
                <a:lnTo>
                  <a:pt x="1" y="39"/>
                </a:lnTo>
                <a:lnTo>
                  <a:pt x="1" y="40"/>
                </a:lnTo>
                <a:lnTo>
                  <a:pt x="2" y="40"/>
                </a:lnTo>
                <a:lnTo>
                  <a:pt x="2" y="41"/>
                </a:lnTo>
                <a:lnTo>
                  <a:pt x="2" y="44"/>
                </a:lnTo>
                <a:lnTo>
                  <a:pt x="2" y="45"/>
                </a:lnTo>
                <a:lnTo>
                  <a:pt x="3" y="45"/>
                </a:lnTo>
                <a:lnTo>
                  <a:pt x="3" y="46"/>
                </a:lnTo>
                <a:lnTo>
                  <a:pt x="3" y="49"/>
                </a:lnTo>
                <a:lnTo>
                  <a:pt x="3" y="50"/>
                </a:lnTo>
                <a:lnTo>
                  <a:pt x="4" y="50"/>
                </a:lnTo>
                <a:lnTo>
                  <a:pt x="4" y="51"/>
                </a:lnTo>
                <a:lnTo>
                  <a:pt x="5" y="54"/>
                </a:lnTo>
                <a:lnTo>
                  <a:pt x="5" y="55"/>
                </a:lnTo>
                <a:lnTo>
                  <a:pt x="6" y="55"/>
                </a:lnTo>
                <a:lnTo>
                  <a:pt x="6" y="56"/>
                </a:lnTo>
                <a:lnTo>
                  <a:pt x="6" y="59"/>
                </a:lnTo>
                <a:lnTo>
                  <a:pt x="6" y="60"/>
                </a:lnTo>
                <a:lnTo>
                  <a:pt x="7" y="60"/>
                </a:lnTo>
                <a:lnTo>
                  <a:pt x="7" y="61"/>
                </a:lnTo>
                <a:lnTo>
                  <a:pt x="9" y="64"/>
                </a:lnTo>
                <a:lnTo>
                  <a:pt x="9" y="65"/>
                </a:lnTo>
                <a:lnTo>
                  <a:pt x="10" y="65"/>
                </a:lnTo>
                <a:lnTo>
                  <a:pt x="10" y="66"/>
                </a:lnTo>
                <a:lnTo>
                  <a:pt x="11" y="69"/>
                </a:lnTo>
                <a:lnTo>
                  <a:pt x="11" y="71"/>
                </a:lnTo>
                <a:lnTo>
                  <a:pt x="12" y="71"/>
                </a:lnTo>
                <a:lnTo>
                  <a:pt x="12" y="72"/>
                </a:lnTo>
                <a:lnTo>
                  <a:pt x="13" y="75"/>
                </a:lnTo>
                <a:lnTo>
                  <a:pt x="13" y="76"/>
                </a:lnTo>
                <a:lnTo>
                  <a:pt x="14" y="76"/>
                </a:lnTo>
                <a:lnTo>
                  <a:pt x="14" y="77"/>
                </a:lnTo>
                <a:lnTo>
                  <a:pt x="15" y="81"/>
                </a:lnTo>
                <a:lnTo>
                  <a:pt x="15" y="82"/>
                </a:lnTo>
                <a:lnTo>
                  <a:pt x="16" y="82"/>
                </a:lnTo>
                <a:lnTo>
                  <a:pt x="16" y="83"/>
                </a:lnTo>
                <a:lnTo>
                  <a:pt x="17" y="86"/>
                </a:lnTo>
                <a:lnTo>
                  <a:pt x="17" y="87"/>
                </a:lnTo>
                <a:lnTo>
                  <a:pt x="18" y="87"/>
                </a:lnTo>
                <a:lnTo>
                  <a:pt x="19" y="91"/>
                </a:lnTo>
                <a:lnTo>
                  <a:pt x="20" y="93"/>
                </a:lnTo>
                <a:lnTo>
                  <a:pt x="21" y="93"/>
                </a:lnTo>
                <a:lnTo>
                  <a:pt x="21" y="94"/>
                </a:lnTo>
                <a:lnTo>
                  <a:pt x="22" y="97"/>
                </a:lnTo>
                <a:lnTo>
                  <a:pt x="22" y="98"/>
                </a:lnTo>
                <a:lnTo>
                  <a:pt x="24" y="98"/>
                </a:lnTo>
                <a:lnTo>
                  <a:pt x="25" y="102"/>
                </a:lnTo>
                <a:lnTo>
                  <a:pt x="26" y="103"/>
                </a:lnTo>
                <a:lnTo>
                  <a:pt x="27" y="103"/>
                </a:lnTo>
                <a:lnTo>
                  <a:pt x="28" y="107"/>
                </a:lnTo>
                <a:lnTo>
                  <a:pt x="29" y="109"/>
                </a:lnTo>
                <a:lnTo>
                  <a:pt x="30" y="109"/>
                </a:lnTo>
                <a:lnTo>
                  <a:pt x="31" y="113"/>
                </a:lnTo>
                <a:lnTo>
                  <a:pt x="32" y="114"/>
                </a:lnTo>
                <a:lnTo>
                  <a:pt x="33" y="114"/>
                </a:lnTo>
                <a:lnTo>
                  <a:pt x="34" y="118"/>
                </a:lnTo>
                <a:lnTo>
                  <a:pt x="35" y="120"/>
                </a:lnTo>
                <a:lnTo>
                  <a:pt x="36" y="120"/>
                </a:lnTo>
                <a:lnTo>
                  <a:pt x="37" y="124"/>
                </a:lnTo>
                <a:lnTo>
                  <a:pt x="39" y="125"/>
                </a:lnTo>
                <a:lnTo>
                  <a:pt x="40" y="125"/>
                </a:lnTo>
                <a:lnTo>
                  <a:pt x="41" y="129"/>
                </a:lnTo>
                <a:lnTo>
                  <a:pt x="42" y="131"/>
                </a:lnTo>
                <a:lnTo>
                  <a:pt x="43" y="131"/>
                </a:lnTo>
                <a:lnTo>
                  <a:pt x="45" y="136"/>
                </a:lnTo>
                <a:lnTo>
                  <a:pt x="46" y="137"/>
                </a:lnTo>
                <a:lnTo>
                  <a:pt x="47" y="137"/>
                </a:lnTo>
                <a:lnTo>
                  <a:pt x="49" y="141"/>
                </a:lnTo>
                <a:lnTo>
                  <a:pt x="50" y="143"/>
                </a:lnTo>
                <a:lnTo>
                  <a:pt x="51" y="143"/>
                </a:lnTo>
                <a:lnTo>
                  <a:pt x="52" y="147"/>
                </a:lnTo>
                <a:lnTo>
                  <a:pt x="54" y="148"/>
                </a:lnTo>
                <a:lnTo>
                  <a:pt x="55" y="148"/>
                </a:lnTo>
                <a:lnTo>
                  <a:pt x="57" y="152"/>
                </a:lnTo>
                <a:lnTo>
                  <a:pt x="58" y="154"/>
                </a:lnTo>
                <a:lnTo>
                  <a:pt x="59" y="154"/>
                </a:lnTo>
                <a:lnTo>
                  <a:pt x="61" y="158"/>
                </a:lnTo>
                <a:lnTo>
                  <a:pt x="62" y="159"/>
                </a:lnTo>
                <a:lnTo>
                  <a:pt x="63" y="159"/>
                </a:lnTo>
                <a:lnTo>
                  <a:pt x="65" y="163"/>
                </a:lnTo>
                <a:lnTo>
                  <a:pt x="66" y="165"/>
                </a:lnTo>
                <a:lnTo>
                  <a:pt x="68" y="165"/>
                </a:lnTo>
                <a:lnTo>
                  <a:pt x="70" y="169"/>
                </a:lnTo>
                <a:lnTo>
                  <a:pt x="71" y="171"/>
                </a:lnTo>
                <a:lnTo>
                  <a:pt x="72" y="171"/>
                </a:lnTo>
                <a:lnTo>
                  <a:pt x="75" y="173"/>
                </a:lnTo>
                <a:lnTo>
                  <a:pt x="76" y="173"/>
                </a:lnTo>
                <a:lnTo>
                  <a:pt x="77" y="173"/>
                </a:lnTo>
                <a:lnTo>
                  <a:pt x="76" y="173"/>
                </a:lnTo>
                <a:lnTo>
                  <a:pt x="73" y="172"/>
                </a:lnTo>
                <a:lnTo>
                  <a:pt x="72" y="172"/>
                </a:lnTo>
                <a:lnTo>
                  <a:pt x="72" y="171"/>
                </a:lnTo>
                <a:lnTo>
                  <a:pt x="73" y="173"/>
                </a:lnTo>
                <a:lnTo>
                  <a:pt x="74" y="173"/>
                </a:lnTo>
                <a:lnTo>
                  <a:pt x="75" y="173"/>
                </a:lnTo>
                <a:lnTo>
                  <a:pt x="76" y="173"/>
                </a:lnTo>
                <a:lnTo>
                  <a:pt x="77" y="173"/>
                </a:lnTo>
                <a:lnTo>
                  <a:pt x="77" y="1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185"/>
          <p:cNvSpPr/>
          <p:nvPr/>
        </p:nvSpPr>
        <p:spPr>
          <a:xfrm>
            <a:off x="4611600" y="5646600"/>
            <a:ext cx="190440" cy="82800"/>
          </a:xfrm>
          <a:custGeom>
            <a:avLst/>
            <a:gdLst>
              <a:gd name="textAreaLeft" fmla="*/ 0 w 190440"/>
              <a:gd name="textAreaRight" fmla="*/ 190800 w 190440"/>
              <a:gd name="textAreaTop" fmla="*/ 0 h 82800"/>
              <a:gd name="textAreaBottom" fmla="*/ 83160 h 82800"/>
            </a:gdLst>
            <a:ahLst/>
            <a:rect l="textAreaLeft" t="textAreaTop" r="textAreaRight" b="textAreaBottom"/>
            <a:pathLst>
              <a:path w="240" h="104">
                <a:moveTo>
                  <a:pt x="236" y="0"/>
                </a:moveTo>
                <a:lnTo>
                  <a:pt x="234" y="1"/>
                </a:lnTo>
                <a:lnTo>
                  <a:pt x="233" y="1"/>
                </a:lnTo>
                <a:lnTo>
                  <a:pt x="232" y="2"/>
                </a:lnTo>
                <a:lnTo>
                  <a:pt x="231" y="3"/>
                </a:lnTo>
                <a:lnTo>
                  <a:pt x="228" y="6"/>
                </a:lnTo>
                <a:lnTo>
                  <a:pt x="224" y="8"/>
                </a:lnTo>
                <a:lnTo>
                  <a:pt x="223" y="9"/>
                </a:lnTo>
                <a:lnTo>
                  <a:pt x="219" y="13"/>
                </a:lnTo>
                <a:lnTo>
                  <a:pt x="216" y="15"/>
                </a:lnTo>
                <a:lnTo>
                  <a:pt x="215" y="16"/>
                </a:lnTo>
                <a:lnTo>
                  <a:pt x="210" y="19"/>
                </a:lnTo>
                <a:lnTo>
                  <a:pt x="207" y="21"/>
                </a:lnTo>
                <a:lnTo>
                  <a:pt x="206" y="22"/>
                </a:lnTo>
                <a:lnTo>
                  <a:pt x="202" y="25"/>
                </a:lnTo>
                <a:lnTo>
                  <a:pt x="200" y="26"/>
                </a:lnTo>
                <a:lnTo>
                  <a:pt x="199" y="27"/>
                </a:lnTo>
                <a:lnTo>
                  <a:pt x="194" y="30"/>
                </a:lnTo>
                <a:lnTo>
                  <a:pt x="192" y="32"/>
                </a:lnTo>
                <a:lnTo>
                  <a:pt x="191" y="33"/>
                </a:lnTo>
                <a:lnTo>
                  <a:pt x="188" y="36"/>
                </a:lnTo>
                <a:lnTo>
                  <a:pt x="186" y="37"/>
                </a:lnTo>
                <a:lnTo>
                  <a:pt x="185" y="38"/>
                </a:lnTo>
                <a:lnTo>
                  <a:pt x="180" y="40"/>
                </a:lnTo>
                <a:lnTo>
                  <a:pt x="178" y="41"/>
                </a:lnTo>
                <a:lnTo>
                  <a:pt x="177" y="42"/>
                </a:lnTo>
                <a:lnTo>
                  <a:pt x="174" y="45"/>
                </a:lnTo>
                <a:lnTo>
                  <a:pt x="173" y="46"/>
                </a:lnTo>
                <a:lnTo>
                  <a:pt x="172" y="47"/>
                </a:lnTo>
                <a:lnTo>
                  <a:pt x="169" y="49"/>
                </a:lnTo>
                <a:lnTo>
                  <a:pt x="166" y="50"/>
                </a:lnTo>
                <a:lnTo>
                  <a:pt x="165" y="51"/>
                </a:lnTo>
                <a:lnTo>
                  <a:pt x="162" y="53"/>
                </a:lnTo>
                <a:lnTo>
                  <a:pt x="160" y="54"/>
                </a:lnTo>
                <a:lnTo>
                  <a:pt x="159" y="55"/>
                </a:lnTo>
                <a:lnTo>
                  <a:pt x="156" y="57"/>
                </a:lnTo>
                <a:lnTo>
                  <a:pt x="155" y="58"/>
                </a:lnTo>
                <a:lnTo>
                  <a:pt x="154" y="59"/>
                </a:lnTo>
                <a:lnTo>
                  <a:pt x="150" y="60"/>
                </a:lnTo>
                <a:lnTo>
                  <a:pt x="149" y="61"/>
                </a:lnTo>
                <a:lnTo>
                  <a:pt x="148" y="62"/>
                </a:lnTo>
                <a:lnTo>
                  <a:pt x="145" y="65"/>
                </a:lnTo>
                <a:lnTo>
                  <a:pt x="144" y="66"/>
                </a:lnTo>
                <a:lnTo>
                  <a:pt x="143" y="67"/>
                </a:lnTo>
                <a:lnTo>
                  <a:pt x="140" y="68"/>
                </a:lnTo>
                <a:lnTo>
                  <a:pt x="139" y="69"/>
                </a:lnTo>
                <a:lnTo>
                  <a:pt x="137" y="70"/>
                </a:lnTo>
                <a:lnTo>
                  <a:pt x="134" y="71"/>
                </a:lnTo>
                <a:lnTo>
                  <a:pt x="133" y="72"/>
                </a:lnTo>
                <a:lnTo>
                  <a:pt x="129" y="74"/>
                </a:lnTo>
                <a:lnTo>
                  <a:pt x="127" y="74"/>
                </a:lnTo>
                <a:lnTo>
                  <a:pt x="126" y="75"/>
                </a:lnTo>
                <a:lnTo>
                  <a:pt x="122" y="76"/>
                </a:lnTo>
                <a:lnTo>
                  <a:pt x="121" y="77"/>
                </a:lnTo>
                <a:lnTo>
                  <a:pt x="117" y="79"/>
                </a:lnTo>
                <a:lnTo>
                  <a:pt x="116" y="79"/>
                </a:lnTo>
                <a:lnTo>
                  <a:pt x="112" y="81"/>
                </a:lnTo>
                <a:lnTo>
                  <a:pt x="111" y="81"/>
                </a:lnTo>
                <a:lnTo>
                  <a:pt x="106" y="83"/>
                </a:lnTo>
                <a:lnTo>
                  <a:pt x="104" y="83"/>
                </a:lnTo>
                <a:lnTo>
                  <a:pt x="100" y="85"/>
                </a:lnTo>
                <a:lnTo>
                  <a:pt x="98" y="85"/>
                </a:lnTo>
                <a:lnTo>
                  <a:pt x="93" y="86"/>
                </a:lnTo>
                <a:lnTo>
                  <a:pt x="91" y="86"/>
                </a:lnTo>
                <a:lnTo>
                  <a:pt x="89" y="87"/>
                </a:lnTo>
                <a:lnTo>
                  <a:pt x="86" y="88"/>
                </a:lnTo>
                <a:lnTo>
                  <a:pt x="84" y="88"/>
                </a:lnTo>
                <a:lnTo>
                  <a:pt x="80" y="89"/>
                </a:lnTo>
                <a:lnTo>
                  <a:pt x="77" y="89"/>
                </a:lnTo>
                <a:lnTo>
                  <a:pt x="75" y="90"/>
                </a:lnTo>
                <a:lnTo>
                  <a:pt x="72" y="90"/>
                </a:lnTo>
                <a:lnTo>
                  <a:pt x="69" y="90"/>
                </a:lnTo>
                <a:lnTo>
                  <a:pt x="67" y="91"/>
                </a:lnTo>
                <a:lnTo>
                  <a:pt x="63" y="91"/>
                </a:lnTo>
                <a:lnTo>
                  <a:pt x="61" y="91"/>
                </a:lnTo>
                <a:lnTo>
                  <a:pt x="60" y="91"/>
                </a:lnTo>
                <a:lnTo>
                  <a:pt x="59" y="91"/>
                </a:lnTo>
                <a:lnTo>
                  <a:pt x="56" y="91"/>
                </a:lnTo>
                <a:lnTo>
                  <a:pt x="53" y="91"/>
                </a:lnTo>
                <a:lnTo>
                  <a:pt x="51" y="92"/>
                </a:lnTo>
                <a:lnTo>
                  <a:pt x="46" y="92"/>
                </a:lnTo>
                <a:lnTo>
                  <a:pt x="43" y="92"/>
                </a:lnTo>
                <a:lnTo>
                  <a:pt x="42" y="92"/>
                </a:lnTo>
                <a:lnTo>
                  <a:pt x="41" y="92"/>
                </a:lnTo>
                <a:lnTo>
                  <a:pt x="37" y="92"/>
                </a:lnTo>
                <a:lnTo>
                  <a:pt x="33" y="92"/>
                </a:lnTo>
                <a:lnTo>
                  <a:pt x="31" y="93"/>
                </a:lnTo>
                <a:lnTo>
                  <a:pt x="26" y="93"/>
                </a:lnTo>
                <a:lnTo>
                  <a:pt x="23" y="93"/>
                </a:lnTo>
                <a:lnTo>
                  <a:pt x="22" y="93"/>
                </a:lnTo>
                <a:lnTo>
                  <a:pt x="21" y="93"/>
                </a:lnTo>
                <a:lnTo>
                  <a:pt x="15" y="93"/>
                </a:lnTo>
                <a:lnTo>
                  <a:pt x="12" y="93"/>
                </a:lnTo>
                <a:lnTo>
                  <a:pt x="11" y="93"/>
                </a:lnTo>
                <a:lnTo>
                  <a:pt x="10" y="93"/>
                </a:lnTo>
                <a:lnTo>
                  <a:pt x="4" y="93"/>
                </a:lnTo>
                <a:lnTo>
                  <a:pt x="0" y="93"/>
                </a:lnTo>
                <a:lnTo>
                  <a:pt x="0" y="94"/>
                </a:lnTo>
                <a:lnTo>
                  <a:pt x="0" y="95"/>
                </a:lnTo>
                <a:lnTo>
                  <a:pt x="0" y="100"/>
                </a:lnTo>
                <a:lnTo>
                  <a:pt x="0" y="104"/>
                </a:lnTo>
                <a:lnTo>
                  <a:pt x="1" y="104"/>
                </a:lnTo>
                <a:lnTo>
                  <a:pt x="7" y="104"/>
                </a:lnTo>
                <a:lnTo>
                  <a:pt x="11" y="104"/>
                </a:lnTo>
                <a:lnTo>
                  <a:pt x="12" y="104"/>
                </a:lnTo>
                <a:lnTo>
                  <a:pt x="13" y="104"/>
                </a:lnTo>
                <a:lnTo>
                  <a:pt x="18" y="104"/>
                </a:lnTo>
                <a:lnTo>
                  <a:pt x="22" y="104"/>
                </a:lnTo>
                <a:lnTo>
                  <a:pt x="23" y="104"/>
                </a:lnTo>
                <a:lnTo>
                  <a:pt x="24" y="104"/>
                </a:lnTo>
                <a:lnTo>
                  <a:pt x="29" y="104"/>
                </a:lnTo>
                <a:lnTo>
                  <a:pt x="32" y="104"/>
                </a:lnTo>
                <a:lnTo>
                  <a:pt x="33" y="103"/>
                </a:lnTo>
                <a:lnTo>
                  <a:pt x="34" y="103"/>
                </a:lnTo>
                <a:lnTo>
                  <a:pt x="40" y="103"/>
                </a:lnTo>
                <a:lnTo>
                  <a:pt x="43" y="103"/>
                </a:lnTo>
                <a:lnTo>
                  <a:pt x="44" y="103"/>
                </a:lnTo>
                <a:lnTo>
                  <a:pt x="45" y="103"/>
                </a:lnTo>
                <a:lnTo>
                  <a:pt x="48" y="103"/>
                </a:lnTo>
                <a:lnTo>
                  <a:pt x="52" y="103"/>
                </a:lnTo>
                <a:lnTo>
                  <a:pt x="53" y="102"/>
                </a:lnTo>
                <a:lnTo>
                  <a:pt x="54" y="102"/>
                </a:lnTo>
                <a:lnTo>
                  <a:pt x="58" y="102"/>
                </a:lnTo>
                <a:lnTo>
                  <a:pt x="61" y="102"/>
                </a:lnTo>
                <a:lnTo>
                  <a:pt x="62" y="102"/>
                </a:lnTo>
                <a:lnTo>
                  <a:pt x="63" y="102"/>
                </a:lnTo>
                <a:lnTo>
                  <a:pt x="67" y="102"/>
                </a:lnTo>
                <a:lnTo>
                  <a:pt x="70" y="102"/>
                </a:lnTo>
                <a:lnTo>
                  <a:pt x="71" y="101"/>
                </a:lnTo>
                <a:lnTo>
                  <a:pt x="72" y="101"/>
                </a:lnTo>
                <a:lnTo>
                  <a:pt x="75" y="101"/>
                </a:lnTo>
                <a:lnTo>
                  <a:pt x="77" y="101"/>
                </a:lnTo>
                <a:lnTo>
                  <a:pt x="78" y="100"/>
                </a:lnTo>
                <a:lnTo>
                  <a:pt x="80" y="100"/>
                </a:lnTo>
                <a:lnTo>
                  <a:pt x="83" y="99"/>
                </a:lnTo>
                <a:lnTo>
                  <a:pt x="85" y="99"/>
                </a:lnTo>
                <a:lnTo>
                  <a:pt x="86" y="98"/>
                </a:lnTo>
                <a:lnTo>
                  <a:pt x="87" y="98"/>
                </a:lnTo>
                <a:lnTo>
                  <a:pt x="90" y="98"/>
                </a:lnTo>
                <a:lnTo>
                  <a:pt x="92" y="98"/>
                </a:lnTo>
                <a:lnTo>
                  <a:pt x="93" y="97"/>
                </a:lnTo>
                <a:lnTo>
                  <a:pt x="95" y="97"/>
                </a:lnTo>
                <a:lnTo>
                  <a:pt x="98" y="96"/>
                </a:lnTo>
                <a:lnTo>
                  <a:pt x="100" y="96"/>
                </a:lnTo>
                <a:lnTo>
                  <a:pt x="101" y="95"/>
                </a:lnTo>
                <a:lnTo>
                  <a:pt x="104" y="94"/>
                </a:lnTo>
                <a:lnTo>
                  <a:pt x="106" y="94"/>
                </a:lnTo>
                <a:lnTo>
                  <a:pt x="107" y="93"/>
                </a:lnTo>
                <a:lnTo>
                  <a:pt x="111" y="92"/>
                </a:lnTo>
                <a:lnTo>
                  <a:pt x="113" y="92"/>
                </a:lnTo>
                <a:lnTo>
                  <a:pt x="114" y="91"/>
                </a:lnTo>
                <a:lnTo>
                  <a:pt x="117" y="90"/>
                </a:lnTo>
                <a:lnTo>
                  <a:pt x="119" y="90"/>
                </a:lnTo>
                <a:lnTo>
                  <a:pt x="120" y="89"/>
                </a:lnTo>
                <a:lnTo>
                  <a:pt x="123" y="88"/>
                </a:lnTo>
                <a:lnTo>
                  <a:pt x="126" y="88"/>
                </a:lnTo>
                <a:lnTo>
                  <a:pt x="127" y="87"/>
                </a:lnTo>
                <a:lnTo>
                  <a:pt x="130" y="86"/>
                </a:lnTo>
                <a:lnTo>
                  <a:pt x="131" y="85"/>
                </a:lnTo>
                <a:lnTo>
                  <a:pt x="132" y="84"/>
                </a:lnTo>
                <a:lnTo>
                  <a:pt x="135" y="83"/>
                </a:lnTo>
                <a:lnTo>
                  <a:pt x="137" y="82"/>
                </a:lnTo>
                <a:lnTo>
                  <a:pt x="139" y="81"/>
                </a:lnTo>
                <a:lnTo>
                  <a:pt x="142" y="80"/>
                </a:lnTo>
                <a:lnTo>
                  <a:pt x="143" y="79"/>
                </a:lnTo>
                <a:lnTo>
                  <a:pt x="144" y="78"/>
                </a:lnTo>
                <a:lnTo>
                  <a:pt x="147" y="77"/>
                </a:lnTo>
                <a:lnTo>
                  <a:pt x="149" y="76"/>
                </a:lnTo>
                <a:lnTo>
                  <a:pt x="150" y="75"/>
                </a:lnTo>
                <a:lnTo>
                  <a:pt x="154" y="74"/>
                </a:lnTo>
                <a:lnTo>
                  <a:pt x="155" y="73"/>
                </a:lnTo>
                <a:lnTo>
                  <a:pt x="156" y="72"/>
                </a:lnTo>
                <a:lnTo>
                  <a:pt x="159" y="70"/>
                </a:lnTo>
                <a:lnTo>
                  <a:pt x="160" y="69"/>
                </a:lnTo>
                <a:lnTo>
                  <a:pt x="161" y="68"/>
                </a:lnTo>
                <a:lnTo>
                  <a:pt x="164" y="66"/>
                </a:lnTo>
                <a:lnTo>
                  <a:pt x="166" y="65"/>
                </a:lnTo>
                <a:lnTo>
                  <a:pt x="167" y="63"/>
                </a:lnTo>
                <a:lnTo>
                  <a:pt x="171" y="61"/>
                </a:lnTo>
                <a:lnTo>
                  <a:pt x="172" y="60"/>
                </a:lnTo>
                <a:lnTo>
                  <a:pt x="173" y="59"/>
                </a:lnTo>
                <a:lnTo>
                  <a:pt x="176" y="57"/>
                </a:lnTo>
                <a:lnTo>
                  <a:pt x="178" y="56"/>
                </a:lnTo>
                <a:lnTo>
                  <a:pt x="179" y="55"/>
                </a:lnTo>
                <a:lnTo>
                  <a:pt x="182" y="52"/>
                </a:lnTo>
                <a:lnTo>
                  <a:pt x="185" y="51"/>
                </a:lnTo>
                <a:lnTo>
                  <a:pt x="186" y="50"/>
                </a:lnTo>
                <a:lnTo>
                  <a:pt x="189" y="47"/>
                </a:lnTo>
                <a:lnTo>
                  <a:pt x="191" y="46"/>
                </a:lnTo>
                <a:lnTo>
                  <a:pt x="192" y="45"/>
                </a:lnTo>
                <a:lnTo>
                  <a:pt x="196" y="42"/>
                </a:lnTo>
                <a:lnTo>
                  <a:pt x="199" y="41"/>
                </a:lnTo>
                <a:lnTo>
                  <a:pt x="200" y="40"/>
                </a:lnTo>
                <a:lnTo>
                  <a:pt x="204" y="37"/>
                </a:lnTo>
                <a:lnTo>
                  <a:pt x="206" y="36"/>
                </a:lnTo>
                <a:lnTo>
                  <a:pt x="207" y="35"/>
                </a:lnTo>
                <a:lnTo>
                  <a:pt x="211" y="32"/>
                </a:lnTo>
                <a:lnTo>
                  <a:pt x="214" y="30"/>
                </a:lnTo>
                <a:lnTo>
                  <a:pt x="215" y="29"/>
                </a:lnTo>
                <a:lnTo>
                  <a:pt x="219" y="26"/>
                </a:lnTo>
                <a:lnTo>
                  <a:pt x="221" y="24"/>
                </a:lnTo>
                <a:lnTo>
                  <a:pt x="222" y="23"/>
                </a:lnTo>
                <a:lnTo>
                  <a:pt x="226" y="20"/>
                </a:lnTo>
                <a:lnTo>
                  <a:pt x="230" y="18"/>
                </a:lnTo>
                <a:lnTo>
                  <a:pt x="231" y="17"/>
                </a:lnTo>
                <a:lnTo>
                  <a:pt x="236" y="14"/>
                </a:lnTo>
                <a:lnTo>
                  <a:pt x="239" y="12"/>
                </a:lnTo>
                <a:lnTo>
                  <a:pt x="240" y="11"/>
                </a:lnTo>
                <a:lnTo>
                  <a:pt x="238" y="12"/>
                </a:lnTo>
                <a:lnTo>
                  <a:pt x="237" y="12"/>
                </a:lnTo>
                <a:lnTo>
                  <a:pt x="236" y="0"/>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47" name="Freeform 186"/>
          <p:cNvSpPr/>
          <p:nvPr/>
        </p:nvSpPr>
        <p:spPr>
          <a:xfrm>
            <a:off x="4799160" y="5640480"/>
            <a:ext cx="50760" cy="15840"/>
          </a:xfrm>
          <a:custGeom>
            <a:avLst/>
            <a:gdLst>
              <a:gd name="textAreaLeft" fmla="*/ 0 w 50760"/>
              <a:gd name="textAreaRight" fmla="*/ 51120 w 50760"/>
              <a:gd name="textAreaTop" fmla="*/ 0 h 15840"/>
              <a:gd name="textAreaBottom" fmla="*/ 16200 h 15840"/>
            </a:gdLst>
            <a:ahLst/>
            <a:rect l="textAreaLeft" t="textAreaTop" r="textAreaRight" b="textAreaBottom"/>
            <a:pathLst>
              <a:path w="63" h="21">
                <a:moveTo>
                  <a:pt x="58" y="1"/>
                </a:moveTo>
                <a:lnTo>
                  <a:pt x="60" y="0"/>
                </a:lnTo>
                <a:lnTo>
                  <a:pt x="58" y="1"/>
                </a:lnTo>
                <a:lnTo>
                  <a:pt x="50" y="2"/>
                </a:lnTo>
                <a:lnTo>
                  <a:pt x="23" y="6"/>
                </a:lnTo>
                <a:lnTo>
                  <a:pt x="1" y="9"/>
                </a:lnTo>
                <a:lnTo>
                  <a:pt x="0" y="9"/>
                </a:lnTo>
                <a:lnTo>
                  <a:pt x="0" y="10"/>
                </a:lnTo>
                <a:lnTo>
                  <a:pt x="0" y="11"/>
                </a:lnTo>
                <a:lnTo>
                  <a:pt x="0" y="16"/>
                </a:lnTo>
                <a:lnTo>
                  <a:pt x="0" y="21"/>
                </a:lnTo>
                <a:lnTo>
                  <a:pt x="1" y="21"/>
                </a:lnTo>
                <a:lnTo>
                  <a:pt x="2" y="21"/>
                </a:lnTo>
                <a:lnTo>
                  <a:pt x="10" y="20"/>
                </a:lnTo>
                <a:lnTo>
                  <a:pt x="38" y="15"/>
                </a:lnTo>
                <a:lnTo>
                  <a:pt x="59" y="12"/>
                </a:lnTo>
                <a:lnTo>
                  <a:pt x="61" y="11"/>
                </a:lnTo>
                <a:lnTo>
                  <a:pt x="63" y="10"/>
                </a:lnTo>
                <a:lnTo>
                  <a:pt x="58" y="1"/>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48" name="Freeform 187"/>
          <p:cNvSpPr/>
          <p:nvPr/>
        </p:nvSpPr>
        <p:spPr>
          <a:xfrm>
            <a:off x="4844880" y="5611680"/>
            <a:ext cx="60480" cy="36720"/>
          </a:xfrm>
          <a:custGeom>
            <a:avLst/>
            <a:gdLst>
              <a:gd name="textAreaLeft" fmla="*/ 0 w 60480"/>
              <a:gd name="textAreaRight" fmla="*/ 60840 w 60480"/>
              <a:gd name="textAreaTop" fmla="*/ 0 h 36720"/>
              <a:gd name="textAreaBottom" fmla="*/ 37080 h 36720"/>
            </a:gdLst>
            <a:ahLst/>
            <a:rect l="textAreaLeft" t="textAreaTop" r="textAreaRight" b="textAreaBottom"/>
            <a:pathLst>
              <a:path w="75" h="46">
                <a:moveTo>
                  <a:pt x="62" y="7"/>
                </a:moveTo>
                <a:lnTo>
                  <a:pt x="63" y="4"/>
                </a:lnTo>
                <a:lnTo>
                  <a:pt x="64" y="2"/>
                </a:lnTo>
                <a:lnTo>
                  <a:pt x="65" y="0"/>
                </a:lnTo>
                <a:lnTo>
                  <a:pt x="63" y="2"/>
                </a:lnTo>
                <a:lnTo>
                  <a:pt x="55" y="7"/>
                </a:lnTo>
                <a:lnTo>
                  <a:pt x="24" y="24"/>
                </a:lnTo>
                <a:lnTo>
                  <a:pt x="1" y="37"/>
                </a:lnTo>
                <a:lnTo>
                  <a:pt x="0" y="37"/>
                </a:lnTo>
                <a:lnTo>
                  <a:pt x="3" y="43"/>
                </a:lnTo>
                <a:lnTo>
                  <a:pt x="4" y="46"/>
                </a:lnTo>
                <a:lnTo>
                  <a:pt x="5" y="46"/>
                </a:lnTo>
                <a:lnTo>
                  <a:pt x="15" y="41"/>
                </a:lnTo>
                <a:lnTo>
                  <a:pt x="46" y="24"/>
                </a:lnTo>
                <a:lnTo>
                  <a:pt x="69" y="11"/>
                </a:lnTo>
                <a:lnTo>
                  <a:pt x="71" y="10"/>
                </a:lnTo>
                <a:lnTo>
                  <a:pt x="72" y="7"/>
                </a:lnTo>
                <a:lnTo>
                  <a:pt x="73" y="5"/>
                </a:lnTo>
                <a:lnTo>
                  <a:pt x="74" y="4"/>
                </a:lnTo>
                <a:lnTo>
                  <a:pt x="73" y="5"/>
                </a:lnTo>
                <a:lnTo>
                  <a:pt x="72" y="8"/>
                </a:lnTo>
                <a:lnTo>
                  <a:pt x="71" y="10"/>
                </a:lnTo>
                <a:lnTo>
                  <a:pt x="73" y="9"/>
                </a:lnTo>
                <a:lnTo>
                  <a:pt x="75" y="8"/>
                </a:lnTo>
                <a:lnTo>
                  <a:pt x="74" y="6"/>
                </a:lnTo>
                <a:lnTo>
                  <a:pt x="74" y="5"/>
                </a:lnTo>
                <a:lnTo>
                  <a:pt x="74" y="4"/>
                </a:lnTo>
                <a:lnTo>
                  <a:pt x="62" y="7"/>
                </a:lnTo>
                <a:close/>
              </a:path>
            </a:pathLst>
          </a:custGeom>
          <a:solidFill>
            <a:srgbClr val="1f1a17"/>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49" name="Freeform 188"/>
          <p:cNvSpPr/>
          <p:nvPr/>
        </p:nvSpPr>
        <p:spPr>
          <a:xfrm>
            <a:off x="4883040" y="5560920"/>
            <a:ext cx="20880" cy="55800"/>
          </a:xfrm>
          <a:custGeom>
            <a:avLst/>
            <a:gdLst>
              <a:gd name="textAreaLeft" fmla="*/ 0 w 20880"/>
              <a:gd name="textAreaRight" fmla="*/ 21240 w 20880"/>
              <a:gd name="textAreaTop" fmla="*/ 0 h 55800"/>
              <a:gd name="textAreaBottom" fmla="*/ 56160 h 55800"/>
            </a:gdLst>
            <a:ahLst/>
            <a:rect l="textAreaLeft" t="textAreaTop" r="textAreaRight" b="textAreaBottom"/>
            <a:pathLst>
              <a:path w="26" h="70">
                <a:moveTo>
                  <a:pt x="0" y="0"/>
                </a:moveTo>
                <a:lnTo>
                  <a:pt x="0" y="1"/>
                </a:lnTo>
                <a:lnTo>
                  <a:pt x="0" y="2"/>
                </a:lnTo>
                <a:lnTo>
                  <a:pt x="0" y="3"/>
                </a:lnTo>
                <a:lnTo>
                  <a:pt x="0" y="5"/>
                </a:lnTo>
                <a:lnTo>
                  <a:pt x="2" y="15"/>
                </a:lnTo>
                <a:lnTo>
                  <a:pt x="9" y="45"/>
                </a:lnTo>
                <a:lnTo>
                  <a:pt x="13" y="69"/>
                </a:lnTo>
                <a:lnTo>
                  <a:pt x="14" y="70"/>
                </a:lnTo>
                <a:lnTo>
                  <a:pt x="15" y="70"/>
                </a:lnTo>
                <a:lnTo>
                  <a:pt x="21" y="69"/>
                </a:lnTo>
                <a:lnTo>
                  <a:pt x="25" y="68"/>
                </a:lnTo>
                <a:lnTo>
                  <a:pt x="26" y="67"/>
                </a:lnTo>
                <a:lnTo>
                  <a:pt x="23" y="56"/>
                </a:lnTo>
                <a:lnTo>
                  <a:pt x="16" y="26"/>
                </a:lnTo>
                <a:lnTo>
                  <a:pt x="12" y="2"/>
                </a:lnTo>
                <a:lnTo>
                  <a:pt x="12" y="0"/>
                </a:lnTo>
                <a:lnTo>
                  <a:pt x="12" y="1"/>
                </a:lnTo>
                <a:lnTo>
                  <a:pt x="12" y="2"/>
                </a:lnTo>
                <a:lnTo>
                  <a:pt x="12" y="3"/>
                </a:lnTo>
                <a:lnTo>
                  <a:pt x="0" y="0"/>
                </a:lnTo>
                <a:close/>
              </a:path>
            </a:pathLst>
          </a:custGeom>
          <a:solidFill>
            <a:srgbClr val="1f1a17"/>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50" name="Freeform 189"/>
          <p:cNvSpPr/>
          <p:nvPr/>
        </p:nvSpPr>
        <p:spPr>
          <a:xfrm>
            <a:off x="4883040" y="5522760"/>
            <a:ext cx="22320" cy="41400"/>
          </a:xfrm>
          <a:custGeom>
            <a:avLst/>
            <a:gdLst>
              <a:gd name="textAreaLeft" fmla="*/ 0 w 22320"/>
              <a:gd name="textAreaRight" fmla="*/ 22680 w 22320"/>
              <a:gd name="textAreaTop" fmla="*/ 0 h 41400"/>
              <a:gd name="textAreaBottom" fmla="*/ 41760 h 41400"/>
            </a:gdLst>
            <a:ahLst/>
            <a:rect l="textAreaLeft" t="textAreaTop" r="textAreaRight" b="textAreaBottom"/>
            <a:pathLst>
              <a:path w="27" h="51">
                <a:moveTo>
                  <a:pt x="16" y="6"/>
                </a:moveTo>
                <a:lnTo>
                  <a:pt x="15" y="4"/>
                </a:lnTo>
                <a:lnTo>
                  <a:pt x="15" y="2"/>
                </a:lnTo>
                <a:lnTo>
                  <a:pt x="15" y="1"/>
                </a:lnTo>
                <a:lnTo>
                  <a:pt x="12" y="10"/>
                </a:lnTo>
                <a:lnTo>
                  <a:pt x="6" y="31"/>
                </a:lnTo>
                <a:lnTo>
                  <a:pt x="0" y="48"/>
                </a:lnTo>
                <a:lnTo>
                  <a:pt x="7" y="50"/>
                </a:lnTo>
                <a:lnTo>
                  <a:pt x="11" y="51"/>
                </a:lnTo>
                <a:lnTo>
                  <a:pt x="12" y="51"/>
                </a:lnTo>
                <a:lnTo>
                  <a:pt x="14" y="44"/>
                </a:lnTo>
                <a:lnTo>
                  <a:pt x="21" y="23"/>
                </a:lnTo>
                <a:lnTo>
                  <a:pt x="26" y="6"/>
                </a:lnTo>
                <a:lnTo>
                  <a:pt x="27" y="5"/>
                </a:lnTo>
                <a:lnTo>
                  <a:pt x="26" y="2"/>
                </a:lnTo>
                <a:lnTo>
                  <a:pt x="26" y="1"/>
                </a:lnTo>
                <a:lnTo>
                  <a:pt x="26" y="0"/>
                </a:lnTo>
                <a:lnTo>
                  <a:pt x="16" y="6"/>
                </a:lnTo>
                <a:close/>
              </a:path>
            </a:pathLst>
          </a:custGeom>
          <a:solidFill>
            <a:srgbClr val="1f1a17"/>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51" name="Freeform 190"/>
          <p:cNvSpPr/>
          <p:nvPr/>
        </p:nvSpPr>
        <p:spPr>
          <a:xfrm>
            <a:off x="4870440" y="5470560"/>
            <a:ext cx="33480" cy="57240"/>
          </a:xfrm>
          <a:custGeom>
            <a:avLst/>
            <a:gdLst>
              <a:gd name="textAreaLeft" fmla="*/ 0 w 33480"/>
              <a:gd name="textAreaRight" fmla="*/ 33840 w 33480"/>
              <a:gd name="textAreaTop" fmla="*/ 0 h 57240"/>
              <a:gd name="textAreaBottom" fmla="*/ 57600 h 57240"/>
            </a:gdLst>
            <a:ahLst/>
            <a:rect l="textAreaLeft" t="textAreaTop" r="textAreaRight" b="textAreaBottom"/>
            <a:pathLst>
              <a:path w="43" h="73">
                <a:moveTo>
                  <a:pt x="3" y="11"/>
                </a:moveTo>
                <a:lnTo>
                  <a:pt x="1" y="10"/>
                </a:lnTo>
                <a:lnTo>
                  <a:pt x="0" y="9"/>
                </a:lnTo>
                <a:lnTo>
                  <a:pt x="0" y="8"/>
                </a:lnTo>
                <a:lnTo>
                  <a:pt x="4" y="19"/>
                </a:lnTo>
                <a:lnTo>
                  <a:pt x="20" y="49"/>
                </a:lnTo>
                <a:lnTo>
                  <a:pt x="32" y="72"/>
                </a:lnTo>
                <a:lnTo>
                  <a:pt x="33" y="73"/>
                </a:lnTo>
                <a:lnTo>
                  <a:pt x="39" y="69"/>
                </a:lnTo>
                <a:lnTo>
                  <a:pt x="42" y="68"/>
                </a:lnTo>
                <a:lnTo>
                  <a:pt x="43" y="67"/>
                </a:lnTo>
                <a:lnTo>
                  <a:pt x="42" y="66"/>
                </a:lnTo>
                <a:lnTo>
                  <a:pt x="38" y="58"/>
                </a:lnTo>
                <a:lnTo>
                  <a:pt x="22" y="28"/>
                </a:lnTo>
                <a:lnTo>
                  <a:pt x="10" y="5"/>
                </a:lnTo>
                <a:lnTo>
                  <a:pt x="10" y="3"/>
                </a:lnTo>
                <a:lnTo>
                  <a:pt x="8" y="2"/>
                </a:lnTo>
                <a:lnTo>
                  <a:pt x="7" y="1"/>
                </a:lnTo>
                <a:lnTo>
                  <a:pt x="7" y="0"/>
                </a:lnTo>
                <a:lnTo>
                  <a:pt x="8" y="2"/>
                </a:lnTo>
                <a:lnTo>
                  <a:pt x="9" y="3"/>
                </a:lnTo>
                <a:lnTo>
                  <a:pt x="10" y="3"/>
                </a:lnTo>
                <a:lnTo>
                  <a:pt x="9" y="2"/>
                </a:lnTo>
                <a:lnTo>
                  <a:pt x="9" y="1"/>
                </a:lnTo>
                <a:lnTo>
                  <a:pt x="7" y="0"/>
                </a:lnTo>
                <a:lnTo>
                  <a:pt x="3" y="11"/>
                </a:lnTo>
                <a:close/>
              </a:path>
            </a:pathLst>
          </a:custGeom>
          <a:solidFill>
            <a:srgbClr val="1f1a17"/>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52" name="Freeform 191"/>
          <p:cNvSpPr/>
          <p:nvPr/>
        </p:nvSpPr>
        <p:spPr>
          <a:xfrm>
            <a:off x="4811760" y="5454720"/>
            <a:ext cx="63360" cy="23760"/>
          </a:xfrm>
          <a:custGeom>
            <a:avLst/>
            <a:gdLst>
              <a:gd name="textAreaLeft" fmla="*/ 0 w 63360"/>
              <a:gd name="textAreaRight" fmla="*/ 63720 w 63360"/>
              <a:gd name="textAreaTop" fmla="*/ 0 h 23760"/>
              <a:gd name="textAreaBottom" fmla="*/ 24120 h 23760"/>
            </a:gdLst>
            <a:ahLst/>
            <a:rect l="textAreaLeft" t="textAreaTop" r="textAreaRight" b="textAreaBottom"/>
            <a:pathLst>
              <a:path w="81" h="30">
                <a:moveTo>
                  <a:pt x="5" y="10"/>
                </a:moveTo>
                <a:lnTo>
                  <a:pt x="2" y="11"/>
                </a:lnTo>
                <a:lnTo>
                  <a:pt x="1" y="11"/>
                </a:lnTo>
                <a:lnTo>
                  <a:pt x="13" y="14"/>
                </a:lnTo>
                <a:lnTo>
                  <a:pt x="48" y="23"/>
                </a:lnTo>
                <a:lnTo>
                  <a:pt x="75" y="30"/>
                </a:lnTo>
                <a:lnTo>
                  <a:pt x="77" y="30"/>
                </a:lnTo>
                <a:lnTo>
                  <a:pt x="77" y="29"/>
                </a:lnTo>
                <a:lnTo>
                  <a:pt x="78" y="24"/>
                </a:lnTo>
                <a:lnTo>
                  <a:pt x="79" y="20"/>
                </a:lnTo>
                <a:lnTo>
                  <a:pt x="81" y="19"/>
                </a:lnTo>
                <a:lnTo>
                  <a:pt x="78" y="19"/>
                </a:lnTo>
                <a:lnTo>
                  <a:pt x="68" y="17"/>
                </a:lnTo>
                <a:lnTo>
                  <a:pt x="32" y="8"/>
                </a:lnTo>
                <a:lnTo>
                  <a:pt x="5" y="1"/>
                </a:lnTo>
                <a:lnTo>
                  <a:pt x="4" y="0"/>
                </a:lnTo>
                <a:lnTo>
                  <a:pt x="1" y="1"/>
                </a:lnTo>
                <a:lnTo>
                  <a:pt x="0" y="1"/>
                </a:lnTo>
                <a:lnTo>
                  <a:pt x="5" y="10"/>
                </a:lnTo>
                <a:close/>
              </a:path>
            </a:pathLst>
          </a:custGeom>
          <a:solidFill>
            <a:srgbClr val="1f1a17"/>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53" name="Freeform 192"/>
          <p:cNvSpPr/>
          <p:nvPr/>
        </p:nvSpPr>
        <p:spPr>
          <a:xfrm>
            <a:off x="3497400" y="4710240"/>
            <a:ext cx="1338120" cy="814320"/>
          </a:xfrm>
          <a:custGeom>
            <a:avLst/>
            <a:gdLst>
              <a:gd name="textAreaLeft" fmla="*/ 0 w 1338120"/>
              <a:gd name="textAreaRight" fmla="*/ 1338480 w 1338120"/>
              <a:gd name="textAreaTop" fmla="*/ 0 h 814320"/>
              <a:gd name="textAreaBottom" fmla="*/ 814680 h 814320"/>
            </a:gdLst>
            <a:ahLst/>
            <a:rect l="textAreaLeft" t="textAreaTop" r="textAreaRight" b="textAreaBottom"/>
            <a:pathLst>
              <a:path w="1686" h="1025">
                <a:moveTo>
                  <a:pt x="1625" y="937"/>
                </a:moveTo>
                <a:lnTo>
                  <a:pt x="1624" y="914"/>
                </a:lnTo>
                <a:lnTo>
                  <a:pt x="1621" y="846"/>
                </a:lnTo>
                <a:lnTo>
                  <a:pt x="1620" y="794"/>
                </a:lnTo>
                <a:lnTo>
                  <a:pt x="1620" y="791"/>
                </a:lnTo>
                <a:lnTo>
                  <a:pt x="1621" y="790"/>
                </a:lnTo>
                <a:lnTo>
                  <a:pt x="1629" y="782"/>
                </a:lnTo>
                <a:lnTo>
                  <a:pt x="1660" y="752"/>
                </a:lnTo>
                <a:lnTo>
                  <a:pt x="1684" y="731"/>
                </a:lnTo>
                <a:lnTo>
                  <a:pt x="1686" y="729"/>
                </a:lnTo>
                <a:lnTo>
                  <a:pt x="1683" y="727"/>
                </a:lnTo>
                <a:lnTo>
                  <a:pt x="1668" y="706"/>
                </a:lnTo>
                <a:lnTo>
                  <a:pt x="1613" y="633"/>
                </a:lnTo>
                <a:lnTo>
                  <a:pt x="1572" y="577"/>
                </a:lnTo>
                <a:lnTo>
                  <a:pt x="1570" y="574"/>
                </a:lnTo>
                <a:lnTo>
                  <a:pt x="1571" y="573"/>
                </a:lnTo>
                <a:lnTo>
                  <a:pt x="1579" y="559"/>
                </a:lnTo>
                <a:lnTo>
                  <a:pt x="1607" y="514"/>
                </a:lnTo>
                <a:lnTo>
                  <a:pt x="1628" y="478"/>
                </a:lnTo>
                <a:lnTo>
                  <a:pt x="1630" y="476"/>
                </a:lnTo>
                <a:lnTo>
                  <a:pt x="1621" y="461"/>
                </a:lnTo>
                <a:lnTo>
                  <a:pt x="1593" y="412"/>
                </a:lnTo>
                <a:lnTo>
                  <a:pt x="1571" y="375"/>
                </a:lnTo>
                <a:lnTo>
                  <a:pt x="1570" y="373"/>
                </a:lnTo>
                <a:lnTo>
                  <a:pt x="1568" y="375"/>
                </a:lnTo>
                <a:lnTo>
                  <a:pt x="1560" y="384"/>
                </a:lnTo>
                <a:lnTo>
                  <a:pt x="1528" y="413"/>
                </a:lnTo>
                <a:lnTo>
                  <a:pt x="1505" y="435"/>
                </a:lnTo>
                <a:lnTo>
                  <a:pt x="1504" y="436"/>
                </a:lnTo>
                <a:lnTo>
                  <a:pt x="1500" y="435"/>
                </a:lnTo>
                <a:lnTo>
                  <a:pt x="1477" y="424"/>
                </a:lnTo>
                <a:lnTo>
                  <a:pt x="1400" y="391"/>
                </a:lnTo>
                <a:lnTo>
                  <a:pt x="1342" y="365"/>
                </a:lnTo>
                <a:lnTo>
                  <a:pt x="1339" y="363"/>
                </a:lnTo>
                <a:lnTo>
                  <a:pt x="1345" y="345"/>
                </a:lnTo>
                <a:lnTo>
                  <a:pt x="1347" y="314"/>
                </a:lnTo>
                <a:lnTo>
                  <a:pt x="1344" y="302"/>
                </a:lnTo>
                <a:lnTo>
                  <a:pt x="1337" y="292"/>
                </a:lnTo>
                <a:lnTo>
                  <a:pt x="1328" y="283"/>
                </a:lnTo>
                <a:lnTo>
                  <a:pt x="1316" y="276"/>
                </a:lnTo>
                <a:lnTo>
                  <a:pt x="1288" y="262"/>
                </a:lnTo>
                <a:lnTo>
                  <a:pt x="1258" y="249"/>
                </a:lnTo>
                <a:lnTo>
                  <a:pt x="1243" y="241"/>
                </a:lnTo>
                <a:lnTo>
                  <a:pt x="1241" y="239"/>
                </a:lnTo>
                <a:lnTo>
                  <a:pt x="1234" y="222"/>
                </a:lnTo>
                <a:lnTo>
                  <a:pt x="1207" y="161"/>
                </a:lnTo>
                <a:lnTo>
                  <a:pt x="1187" y="115"/>
                </a:lnTo>
                <a:lnTo>
                  <a:pt x="1186" y="112"/>
                </a:lnTo>
                <a:lnTo>
                  <a:pt x="1180" y="113"/>
                </a:lnTo>
                <a:lnTo>
                  <a:pt x="1141" y="116"/>
                </a:lnTo>
                <a:lnTo>
                  <a:pt x="1008" y="127"/>
                </a:lnTo>
                <a:lnTo>
                  <a:pt x="908" y="135"/>
                </a:lnTo>
                <a:lnTo>
                  <a:pt x="902" y="135"/>
                </a:lnTo>
                <a:lnTo>
                  <a:pt x="897" y="137"/>
                </a:lnTo>
                <a:lnTo>
                  <a:pt x="864" y="150"/>
                </a:lnTo>
                <a:lnTo>
                  <a:pt x="749" y="195"/>
                </a:lnTo>
                <a:lnTo>
                  <a:pt x="662" y="230"/>
                </a:lnTo>
                <a:lnTo>
                  <a:pt x="658" y="231"/>
                </a:lnTo>
                <a:lnTo>
                  <a:pt x="653" y="227"/>
                </a:lnTo>
                <a:lnTo>
                  <a:pt x="624" y="195"/>
                </a:lnTo>
                <a:lnTo>
                  <a:pt x="528" y="87"/>
                </a:lnTo>
                <a:lnTo>
                  <a:pt x="454" y="5"/>
                </a:lnTo>
                <a:lnTo>
                  <a:pt x="451" y="0"/>
                </a:lnTo>
                <a:lnTo>
                  <a:pt x="429" y="11"/>
                </a:lnTo>
                <a:lnTo>
                  <a:pt x="383" y="25"/>
                </a:lnTo>
                <a:lnTo>
                  <a:pt x="292" y="48"/>
                </a:lnTo>
                <a:lnTo>
                  <a:pt x="250" y="65"/>
                </a:lnTo>
                <a:lnTo>
                  <a:pt x="216" y="91"/>
                </a:lnTo>
                <a:lnTo>
                  <a:pt x="203" y="109"/>
                </a:lnTo>
                <a:lnTo>
                  <a:pt x="199" y="110"/>
                </a:lnTo>
                <a:lnTo>
                  <a:pt x="171" y="111"/>
                </a:lnTo>
                <a:lnTo>
                  <a:pt x="76" y="114"/>
                </a:lnTo>
                <a:lnTo>
                  <a:pt x="4" y="117"/>
                </a:lnTo>
                <a:lnTo>
                  <a:pt x="0" y="117"/>
                </a:lnTo>
                <a:lnTo>
                  <a:pt x="1" y="121"/>
                </a:lnTo>
                <a:lnTo>
                  <a:pt x="10" y="141"/>
                </a:lnTo>
                <a:lnTo>
                  <a:pt x="40" y="215"/>
                </a:lnTo>
                <a:lnTo>
                  <a:pt x="63" y="270"/>
                </a:lnTo>
                <a:lnTo>
                  <a:pt x="65" y="273"/>
                </a:lnTo>
                <a:lnTo>
                  <a:pt x="59" y="278"/>
                </a:lnTo>
                <a:lnTo>
                  <a:pt x="56" y="284"/>
                </a:lnTo>
                <a:lnTo>
                  <a:pt x="49" y="298"/>
                </a:lnTo>
                <a:lnTo>
                  <a:pt x="35" y="333"/>
                </a:lnTo>
                <a:lnTo>
                  <a:pt x="21" y="358"/>
                </a:lnTo>
                <a:lnTo>
                  <a:pt x="25" y="363"/>
                </a:lnTo>
                <a:lnTo>
                  <a:pt x="36" y="378"/>
                </a:lnTo>
                <a:lnTo>
                  <a:pt x="57" y="417"/>
                </a:lnTo>
                <a:lnTo>
                  <a:pt x="70" y="458"/>
                </a:lnTo>
                <a:lnTo>
                  <a:pt x="71" y="466"/>
                </a:lnTo>
                <a:lnTo>
                  <a:pt x="84" y="452"/>
                </a:lnTo>
                <a:lnTo>
                  <a:pt x="100" y="427"/>
                </a:lnTo>
                <a:lnTo>
                  <a:pt x="104" y="407"/>
                </a:lnTo>
                <a:lnTo>
                  <a:pt x="108" y="390"/>
                </a:lnTo>
                <a:lnTo>
                  <a:pt x="115" y="372"/>
                </a:lnTo>
                <a:lnTo>
                  <a:pt x="135" y="353"/>
                </a:lnTo>
                <a:lnTo>
                  <a:pt x="154" y="342"/>
                </a:lnTo>
                <a:lnTo>
                  <a:pt x="162" y="349"/>
                </a:lnTo>
                <a:lnTo>
                  <a:pt x="177" y="363"/>
                </a:lnTo>
                <a:lnTo>
                  <a:pt x="191" y="380"/>
                </a:lnTo>
                <a:lnTo>
                  <a:pt x="217" y="411"/>
                </a:lnTo>
                <a:lnTo>
                  <a:pt x="241" y="428"/>
                </a:lnTo>
                <a:lnTo>
                  <a:pt x="248" y="435"/>
                </a:lnTo>
                <a:lnTo>
                  <a:pt x="254" y="442"/>
                </a:lnTo>
                <a:lnTo>
                  <a:pt x="260" y="451"/>
                </a:lnTo>
                <a:lnTo>
                  <a:pt x="267" y="471"/>
                </a:lnTo>
                <a:lnTo>
                  <a:pt x="271" y="495"/>
                </a:lnTo>
                <a:lnTo>
                  <a:pt x="271" y="540"/>
                </a:lnTo>
                <a:lnTo>
                  <a:pt x="271" y="548"/>
                </a:lnTo>
                <a:lnTo>
                  <a:pt x="271" y="556"/>
                </a:lnTo>
                <a:lnTo>
                  <a:pt x="274" y="564"/>
                </a:lnTo>
                <a:lnTo>
                  <a:pt x="280" y="571"/>
                </a:lnTo>
                <a:lnTo>
                  <a:pt x="288" y="578"/>
                </a:lnTo>
                <a:lnTo>
                  <a:pt x="306" y="594"/>
                </a:lnTo>
                <a:lnTo>
                  <a:pt x="342" y="623"/>
                </a:lnTo>
                <a:lnTo>
                  <a:pt x="351" y="639"/>
                </a:lnTo>
                <a:lnTo>
                  <a:pt x="353" y="648"/>
                </a:lnTo>
                <a:lnTo>
                  <a:pt x="356" y="656"/>
                </a:lnTo>
                <a:lnTo>
                  <a:pt x="363" y="663"/>
                </a:lnTo>
                <a:lnTo>
                  <a:pt x="378" y="676"/>
                </a:lnTo>
                <a:lnTo>
                  <a:pt x="396" y="688"/>
                </a:lnTo>
                <a:lnTo>
                  <a:pt x="440" y="710"/>
                </a:lnTo>
                <a:lnTo>
                  <a:pt x="451" y="714"/>
                </a:lnTo>
                <a:lnTo>
                  <a:pt x="454" y="715"/>
                </a:lnTo>
                <a:lnTo>
                  <a:pt x="458" y="717"/>
                </a:lnTo>
                <a:lnTo>
                  <a:pt x="463" y="720"/>
                </a:lnTo>
                <a:lnTo>
                  <a:pt x="466" y="723"/>
                </a:lnTo>
                <a:lnTo>
                  <a:pt x="472" y="732"/>
                </a:lnTo>
                <a:lnTo>
                  <a:pt x="478" y="742"/>
                </a:lnTo>
                <a:lnTo>
                  <a:pt x="481" y="753"/>
                </a:lnTo>
                <a:lnTo>
                  <a:pt x="483" y="763"/>
                </a:lnTo>
                <a:lnTo>
                  <a:pt x="511" y="761"/>
                </a:lnTo>
                <a:lnTo>
                  <a:pt x="563" y="767"/>
                </a:lnTo>
                <a:lnTo>
                  <a:pt x="613" y="784"/>
                </a:lnTo>
                <a:lnTo>
                  <a:pt x="658" y="812"/>
                </a:lnTo>
                <a:lnTo>
                  <a:pt x="742" y="883"/>
                </a:lnTo>
                <a:lnTo>
                  <a:pt x="764" y="901"/>
                </a:lnTo>
                <a:lnTo>
                  <a:pt x="768" y="900"/>
                </a:lnTo>
                <a:lnTo>
                  <a:pt x="775" y="900"/>
                </a:lnTo>
                <a:lnTo>
                  <a:pt x="782" y="901"/>
                </a:lnTo>
                <a:lnTo>
                  <a:pt x="800" y="905"/>
                </a:lnTo>
                <a:lnTo>
                  <a:pt x="822" y="914"/>
                </a:lnTo>
                <a:lnTo>
                  <a:pt x="872" y="939"/>
                </a:lnTo>
                <a:lnTo>
                  <a:pt x="964" y="998"/>
                </a:lnTo>
                <a:lnTo>
                  <a:pt x="994" y="1025"/>
                </a:lnTo>
                <a:lnTo>
                  <a:pt x="998" y="1025"/>
                </a:lnTo>
                <a:lnTo>
                  <a:pt x="1008" y="1023"/>
                </a:lnTo>
                <a:lnTo>
                  <a:pt x="1032" y="1016"/>
                </a:lnTo>
                <a:lnTo>
                  <a:pt x="1054" y="1010"/>
                </a:lnTo>
                <a:lnTo>
                  <a:pt x="1059" y="1009"/>
                </a:lnTo>
                <a:lnTo>
                  <a:pt x="1059" y="990"/>
                </a:lnTo>
                <a:lnTo>
                  <a:pt x="1066" y="956"/>
                </a:lnTo>
                <a:lnTo>
                  <a:pt x="1079" y="931"/>
                </a:lnTo>
                <a:lnTo>
                  <a:pt x="1098" y="915"/>
                </a:lnTo>
                <a:lnTo>
                  <a:pt x="1124" y="909"/>
                </a:lnTo>
                <a:lnTo>
                  <a:pt x="1155" y="911"/>
                </a:lnTo>
                <a:lnTo>
                  <a:pt x="1174" y="915"/>
                </a:lnTo>
                <a:lnTo>
                  <a:pt x="1191" y="922"/>
                </a:lnTo>
                <a:lnTo>
                  <a:pt x="1223" y="933"/>
                </a:lnTo>
                <a:lnTo>
                  <a:pt x="1276" y="959"/>
                </a:lnTo>
                <a:lnTo>
                  <a:pt x="1319" y="993"/>
                </a:lnTo>
                <a:lnTo>
                  <a:pt x="1329" y="1003"/>
                </a:lnTo>
                <a:lnTo>
                  <a:pt x="1334" y="1002"/>
                </a:lnTo>
                <a:lnTo>
                  <a:pt x="1375" y="993"/>
                </a:lnTo>
                <a:lnTo>
                  <a:pt x="1513" y="962"/>
                </a:lnTo>
                <a:lnTo>
                  <a:pt x="1619" y="939"/>
                </a:lnTo>
                <a:lnTo>
                  <a:pt x="1625" y="9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93"/>
          <p:cNvSpPr/>
          <p:nvPr/>
        </p:nvSpPr>
        <p:spPr>
          <a:xfrm>
            <a:off x="4776840" y="5335560"/>
            <a:ext cx="14400" cy="119160"/>
          </a:xfrm>
          <a:custGeom>
            <a:avLst/>
            <a:gdLst>
              <a:gd name="textAreaLeft" fmla="*/ 0 w 14400"/>
              <a:gd name="textAreaRight" fmla="*/ 14760 w 14400"/>
              <a:gd name="textAreaTop" fmla="*/ 0 h 119160"/>
              <a:gd name="textAreaBottom" fmla="*/ 119520 h 119160"/>
            </a:gdLst>
            <a:ahLst/>
            <a:rect l="textAreaLeft" t="textAreaTop" r="textAreaRight" b="textAreaBottom"/>
            <a:pathLst>
              <a:path w="17" h="150">
                <a:moveTo>
                  <a:pt x="2" y="0"/>
                </a:moveTo>
                <a:lnTo>
                  <a:pt x="1" y="1"/>
                </a:lnTo>
                <a:lnTo>
                  <a:pt x="0" y="3"/>
                </a:lnTo>
                <a:lnTo>
                  <a:pt x="0" y="4"/>
                </a:lnTo>
                <a:lnTo>
                  <a:pt x="0" y="7"/>
                </a:lnTo>
                <a:lnTo>
                  <a:pt x="0" y="28"/>
                </a:lnTo>
                <a:lnTo>
                  <a:pt x="3" y="96"/>
                </a:lnTo>
                <a:lnTo>
                  <a:pt x="4" y="148"/>
                </a:lnTo>
                <a:lnTo>
                  <a:pt x="6" y="150"/>
                </a:lnTo>
                <a:lnTo>
                  <a:pt x="7" y="150"/>
                </a:lnTo>
                <a:lnTo>
                  <a:pt x="12" y="150"/>
                </a:lnTo>
                <a:lnTo>
                  <a:pt x="16" y="150"/>
                </a:lnTo>
                <a:lnTo>
                  <a:pt x="17" y="149"/>
                </a:lnTo>
                <a:lnTo>
                  <a:pt x="16" y="126"/>
                </a:lnTo>
                <a:lnTo>
                  <a:pt x="13" y="58"/>
                </a:lnTo>
                <a:lnTo>
                  <a:pt x="12" y="6"/>
                </a:lnTo>
                <a:lnTo>
                  <a:pt x="12" y="3"/>
                </a:lnTo>
                <a:lnTo>
                  <a:pt x="11" y="4"/>
                </a:lnTo>
                <a:lnTo>
                  <a:pt x="10" y="6"/>
                </a:lnTo>
                <a:lnTo>
                  <a:pt x="10" y="7"/>
                </a:lnTo>
                <a:lnTo>
                  <a:pt x="8" y="6"/>
                </a:lnTo>
                <a:lnTo>
                  <a:pt x="4" y="3"/>
                </a:lnTo>
                <a:lnTo>
                  <a:pt x="2" y="1"/>
                </a:lnTo>
                <a:lnTo>
                  <a:pt x="2" y="0"/>
                </a:lnTo>
                <a:lnTo>
                  <a:pt x="1" y="1"/>
                </a:lnTo>
                <a:lnTo>
                  <a:pt x="0" y="1"/>
                </a:lnTo>
                <a:lnTo>
                  <a:pt x="0" y="2"/>
                </a:lnTo>
                <a:lnTo>
                  <a:pt x="0" y="3"/>
                </a:lnTo>
                <a:lnTo>
                  <a:pt x="0" y="4"/>
                </a:lnTo>
                <a:lnTo>
                  <a:pt x="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194"/>
          <p:cNvSpPr/>
          <p:nvPr/>
        </p:nvSpPr>
        <p:spPr>
          <a:xfrm>
            <a:off x="4778280" y="5286240"/>
            <a:ext cx="61920" cy="55800"/>
          </a:xfrm>
          <a:custGeom>
            <a:avLst/>
            <a:gdLst>
              <a:gd name="textAreaLeft" fmla="*/ 0 w 61920"/>
              <a:gd name="textAreaRight" fmla="*/ 62280 w 61920"/>
              <a:gd name="textAreaTop" fmla="*/ 0 h 55800"/>
              <a:gd name="textAreaBottom" fmla="*/ 56160 h 55800"/>
            </a:gdLst>
            <a:ahLst/>
            <a:rect l="textAreaLeft" t="textAreaTop" r="textAreaRight" b="textAreaBottom"/>
            <a:pathLst>
              <a:path w="79" h="69">
                <a:moveTo>
                  <a:pt x="66" y="7"/>
                </a:moveTo>
                <a:lnTo>
                  <a:pt x="66" y="6"/>
                </a:lnTo>
                <a:lnTo>
                  <a:pt x="66" y="3"/>
                </a:lnTo>
                <a:lnTo>
                  <a:pt x="66" y="1"/>
                </a:lnTo>
                <a:lnTo>
                  <a:pt x="67" y="0"/>
                </a:lnTo>
                <a:lnTo>
                  <a:pt x="65" y="2"/>
                </a:lnTo>
                <a:lnTo>
                  <a:pt x="56" y="10"/>
                </a:lnTo>
                <a:lnTo>
                  <a:pt x="25" y="40"/>
                </a:lnTo>
                <a:lnTo>
                  <a:pt x="1" y="61"/>
                </a:lnTo>
                <a:lnTo>
                  <a:pt x="0" y="62"/>
                </a:lnTo>
                <a:lnTo>
                  <a:pt x="1" y="64"/>
                </a:lnTo>
                <a:lnTo>
                  <a:pt x="5" y="67"/>
                </a:lnTo>
                <a:lnTo>
                  <a:pt x="7" y="69"/>
                </a:lnTo>
                <a:lnTo>
                  <a:pt x="8" y="69"/>
                </a:lnTo>
                <a:lnTo>
                  <a:pt x="9" y="68"/>
                </a:lnTo>
                <a:lnTo>
                  <a:pt x="18" y="60"/>
                </a:lnTo>
                <a:lnTo>
                  <a:pt x="49" y="31"/>
                </a:lnTo>
                <a:lnTo>
                  <a:pt x="72" y="9"/>
                </a:lnTo>
                <a:lnTo>
                  <a:pt x="74" y="7"/>
                </a:lnTo>
                <a:lnTo>
                  <a:pt x="74" y="6"/>
                </a:lnTo>
                <a:lnTo>
                  <a:pt x="74" y="3"/>
                </a:lnTo>
                <a:lnTo>
                  <a:pt x="74" y="1"/>
                </a:lnTo>
                <a:lnTo>
                  <a:pt x="75" y="0"/>
                </a:lnTo>
                <a:lnTo>
                  <a:pt x="74" y="2"/>
                </a:lnTo>
                <a:lnTo>
                  <a:pt x="74" y="5"/>
                </a:lnTo>
                <a:lnTo>
                  <a:pt x="74" y="7"/>
                </a:lnTo>
                <a:lnTo>
                  <a:pt x="76" y="6"/>
                </a:lnTo>
                <a:lnTo>
                  <a:pt x="78" y="5"/>
                </a:lnTo>
                <a:lnTo>
                  <a:pt x="79" y="4"/>
                </a:lnTo>
                <a:lnTo>
                  <a:pt x="76" y="2"/>
                </a:lnTo>
                <a:lnTo>
                  <a:pt x="75" y="1"/>
                </a:lnTo>
                <a:lnTo>
                  <a:pt x="75" y="0"/>
                </a:lnTo>
                <a:lnTo>
                  <a:pt x="66" y="7"/>
                </a:lnTo>
                <a:close/>
              </a:path>
            </a:pathLst>
          </a:custGeom>
          <a:solidFill>
            <a:srgbClr val="1f1a17"/>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56" name="Freeform 195"/>
          <p:cNvSpPr/>
          <p:nvPr/>
        </p:nvSpPr>
        <p:spPr>
          <a:xfrm>
            <a:off x="4737240" y="5164200"/>
            <a:ext cx="101520" cy="128520"/>
          </a:xfrm>
          <a:custGeom>
            <a:avLst/>
            <a:gdLst>
              <a:gd name="textAreaLeft" fmla="*/ 0 w 101520"/>
              <a:gd name="textAreaRight" fmla="*/ 101880 w 101520"/>
              <a:gd name="textAreaTop" fmla="*/ 0 h 128520"/>
              <a:gd name="textAreaBottom" fmla="*/ 128880 h 128520"/>
            </a:gdLst>
            <a:ahLst/>
            <a:rect l="textAreaLeft" t="textAreaTop" r="textAreaRight" b="textAreaBottom"/>
            <a:pathLst>
              <a:path w="127" h="162">
                <a:moveTo>
                  <a:pt x="2" y="1"/>
                </a:moveTo>
                <a:lnTo>
                  <a:pt x="2" y="2"/>
                </a:lnTo>
                <a:lnTo>
                  <a:pt x="2" y="5"/>
                </a:lnTo>
                <a:lnTo>
                  <a:pt x="2" y="7"/>
                </a:lnTo>
                <a:lnTo>
                  <a:pt x="4" y="10"/>
                </a:lnTo>
                <a:lnTo>
                  <a:pt x="19" y="32"/>
                </a:lnTo>
                <a:lnTo>
                  <a:pt x="74" y="104"/>
                </a:lnTo>
                <a:lnTo>
                  <a:pt x="115" y="160"/>
                </a:lnTo>
                <a:lnTo>
                  <a:pt x="118" y="162"/>
                </a:lnTo>
                <a:lnTo>
                  <a:pt x="119" y="161"/>
                </a:lnTo>
                <a:lnTo>
                  <a:pt x="123" y="158"/>
                </a:lnTo>
                <a:lnTo>
                  <a:pt x="126" y="156"/>
                </a:lnTo>
                <a:lnTo>
                  <a:pt x="127" y="155"/>
                </a:lnTo>
                <a:lnTo>
                  <a:pt x="124" y="153"/>
                </a:lnTo>
                <a:lnTo>
                  <a:pt x="109" y="132"/>
                </a:lnTo>
                <a:lnTo>
                  <a:pt x="54" y="59"/>
                </a:lnTo>
                <a:lnTo>
                  <a:pt x="14" y="3"/>
                </a:lnTo>
                <a:lnTo>
                  <a:pt x="12" y="0"/>
                </a:lnTo>
                <a:lnTo>
                  <a:pt x="12" y="1"/>
                </a:lnTo>
                <a:lnTo>
                  <a:pt x="12" y="4"/>
                </a:lnTo>
                <a:lnTo>
                  <a:pt x="12" y="6"/>
                </a:lnTo>
                <a:lnTo>
                  <a:pt x="5" y="3"/>
                </a:lnTo>
                <a:lnTo>
                  <a:pt x="2" y="2"/>
                </a:lnTo>
                <a:lnTo>
                  <a:pt x="2" y="1"/>
                </a:lnTo>
                <a:lnTo>
                  <a:pt x="1" y="2"/>
                </a:lnTo>
                <a:lnTo>
                  <a:pt x="0" y="3"/>
                </a:lnTo>
                <a:lnTo>
                  <a:pt x="0" y="4"/>
                </a:lnTo>
                <a:lnTo>
                  <a:pt x="1" y="6"/>
                </a:lnTo>
                <a:lnTo>
                  <a:pt x="2" y="7"/>
                </a:lnTo>
                <a:lnTo>
                  <a:pt x="2" y="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196"/>
          <p:cNvSpPr/>
          <p:nvPr/>
        </p:nvSpPr>
        <p:spPr>
          <a:xfrm>
            <a:off x="4738680" y="5086440"/>
            <a:ext cx="57240" cy="82440"/>
          </a:xfrm>
          <a:custGeom>
            <a:avLst/>
            <a:gdLst>
              <a:gd name="textAreaLeft" fmla="*/ 0 w 57240"/>
              <a:gd name="textAreaRight" fmla="*/ 57600 w 57240"/>
              <a:gd name="textAreaTop" fmla="*/ 0 h 82440"/>
              <a:gd name="textAreaBottom" fmla="*/ 82800 h 82440"/>
            </a:gdLst>
            <a:ahLst/>
            <a:rect l="textAreaLeft" t="textAreaTop" r="textAreaRight" b="textAreaBottom"/>
            <a:pathLst>
              <a:path w="72" h="103">
                <a:moveTo>
                  <a:pt x="60" y="5"/>
                </a:moveTo>
                <a:lnTo>
                  <a:pt x="60" y="2"/>
                </a:lnTo>
                <a:lnTo>
                  <a:pt x="60" y="1"/>
                </a:lnTo>
                <a:lnTo>
                  <a:pt x="60" y="0"/>
                </a:lnTo>
                <a:lnTo>
                  <a:pt x="58" y="2"/>
                </a:lnTo>
                <a:lnTo>
                  <a:pt x="50" y="16"/>
                </a:lnTo>
                <a:lnTo>
                  <a:pt x="22" y="61"/>
                </a:lnTo>
                <a:lnTo>
                  <a:pt x="1" y="97"/>
                </a:lnTo>
                <a:lnTo>
                  <a:pt x="0" y="98"/>
                </a:lnTo>
                <a:lnTo>
                  <a:pt x="1" y="99"/>
                </a:lnTo>
                <a:lnTo>
                  <a:pt x="5" y="102"/>
                </a:lnTo>
                <a:lnTo>
                  <a:pt x="9" y="103"/>
                </a:lnTo>
                <a:lnTo>
                  <a:pt x="10" y="103"/>
                </a:lnTo>
                <a:lnTo>
                  <a:pt x="11" y="102"/>
                </a:lnTo>
                <a:lnTo>
                  <a:pt x="18" y="88"/>
                </a:lnTo>
                <a:lnTo>
                  <a:pt x="46" y="43"/>
                </a:lnTo>
                <a:lnTo>
                  <a:pt x="68" y="7"/>
                </a:lnTo>
                <a:lnTo>
                  <a:pt x="70" y="5"/>
                </a:lnTo>
                <a:lnTo>
                  <a:pt x="70" y="2"/>
                </a:lnTo>
                <a:lnTo>
                  <a:pt x="70" y="1"/>
                </a:lnTo>
                <a:lnTo>
                  <a:pt x="70" y="0"/>
                </a:lnTo>
                <a:lnTo>
                  <a:pt x="70" y="1"/>
                </a:lnTo>
                <a:lnTo>
                  <a:pt x="70" y="4"/>
                </a:lnTo>
                <a:lnTo>
                  <a:pt x="70" y="5"/>
                </a:lnTo>
                <a:lnTo>
                  <a:pt x="71" y="4"/>
                </a:lnTo>
                <a:lnTo>
                  <a:pt x="72" y="3"/>
                </a:lnTo>
                <a:lnTo>
                  <a:pt x="70" y="1"/>
                </a:lnTo>
                <a:lnTo>
                  <a:pt x="70" y="0"/>
                </a:lnTo>
                <a:lnTo>
                  <a:pt x="60" y="5"/>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58" name="Freeform 197"/>
          <p:cNvSpPr/>
          <p:nvPr/>
        </p:nvSpPr>
        <p:spPr>
          <a:xfrm>
            <a:off x="4738680" y="5000760"/>
            <a:ext cx="55440" cy="90360"/>
          </a:xfrm>
          <a:custGeom>
            <a:avLst/>
            <a:gdLst>
              <a:gd name="textAreaLeft" fmla="*/ 0 w 55440"/>
              <a:gd name="textAreaRight" fmla="*/ 55800 w 55440"/>
              <a:gd name="textAreaTop" fmla="*/ 0 h 90360"/>
              <a:gd name="textAreaBottom" fmla="*/ 90720 h 90360"/>
            </a:gdLst>
            <a:ahLst/>
            <a:rect l="textAreaLeft" t="textAreaTop" r="textAreaRight" b="textAreaBottom"/>
            <a:pathLst>
              <a:path w="70" h="114">
                <a:moveTo>
                  <a:pt x="9" y="13"/>
                </a:moveTo>
                <a:lnTo>
                  <a:pt x="7" y="13"/>
                </a:lnTo>
                <a:lnTo>
                  <a:pt x="6" y="13"/>
                </a:lnTo>
                <a:lnTo>
                  <a:pt x="3" y="13"/>
                </a:lnTo>
                <a:lnTo>
                  <a:pt x="0" y="13"/>
                </a:lnTo>
                <a:lnTo>
                  <a:pt x="0" y="11"/>
                </a:lnTo>
                <a:lnTo>
                  <a:pt x="1" y="14"/>
                </a:lnTo>
                <a:lnTo>
                  <a:pt x="9" y="28"/>
                </a:lnTo>
                <a:lnTo>
                  <a:pt x="36" y="77"/>
                </a:lnTo>
                <a:lnTo>
                  <a:pt x="58" y="113"/>
                </a:lnTo>
                <a:lnTo>
                  <a:pt x="60" y="114"/>
                </a:lnTo>
                <a:lnTo>
                  <a:pt x="65" y="111"/>
                </a:lnTo>
                <a:lnTo>
                  <a:pt x="69" y="110"/>
                </a:lnTo>
                <a:lnTo>
                  <a:pt x="70" y="109"/>
                </a:lnTo>
                <a:lnTo>
                  <a:pt x="60" y="94"/>
                </a:lnTo>
                <a:lnTo>
                  <a:pt x="32" y="45"/>
                </a:lnTo>
                <a:lnTo>
                  <a:pt x="11" y="8"/>
                </a:lnTo>
                <a:lnTo>
                  <a:pt x="10" y="6"/>
                </a:lnTo>
                <a:lnTo>
                  <a:pt x="9" y="6"/>
                </a:lnTo>
                <a:lnTo>
                  <a:pt x="7" y="6"/>
                </a:lnTo>
                <a:lnTo>
                  <a:pt x="4" y="6"/>
                </a:lnTo>
                <a:lnTo>
                  <a:pt x="1" y="6"/>
                </a:lnTo>
                <a:lnTo>
                  <a:pt x="1" y="5"/>
                </a:lnTo>
                <a:lnTo>
                  <a:pt x="5" y="6"/>
                </a:lnTo>
                <a:lnTo>
                  <a:pt x="9" y="6"/>
                </a:lnTo>
                <a:lnTo>
                  <a:pt x="10" y="6"/>
                </a:lnTo>
                <a:lnTo>
                  <a:pt x="7" y="3"/>
                </a:lnTo>
                <a:lnTo>
                  <a:pt x="6" y="1"/>
                </a:lnTo>
                <a:lnTo>
                  <a:pt x="6" y="0"/>
                </a:lnTo>
                <a:lnTo>
                  <a:pt x="5" y="1"/>
                </a:lnTo>
                <a:lnTo>
                  <a:pt x="2" y="4"/>
                </a:lnTo>
                <a:lnTo>
                  <a:pt x="1" y="5"/>
                </a:lnTo>
                <a:lnTo>
                  <a:pt x="9" y="13"/>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59" name="Freeform 198"/>
          <p:cNvSpPr/>
          <p:nvPr/>
        </p:nvSpPr>
        <p:spPr>
          <a:xfrm>
            <a:off x="4686480" y="5003640"/>
            <a:ext cx="58680" cy="57240"/>
          </a:xfrm>
          <a:custGeom>
            <a:avLst/>
            <a:gdLst>
              <a:gd name="textAreaLeft" fmla="*/ 0 w 58680"/>
              <a:gd name="textAreaRight" fmla="*/ 59040 w 58680"/>
              <a:gd name="textAreaTop" fmla="*/ 0 h 57240"/>
              <a:gd name="textAreaBottom" fmla="*/ 57600 h 57240"/>
            </a:gdLst>
            <a:ahLst/>
            <a:rect l="textAreaLeft" t="textAreaTop" r="textAreaRight" b="textAreaBottom"/>
            <a:pathLst>
              <a:path w="74" h="73">
                <a:moveTo>
                  <a:pt x="1" y="71"/>
                </a:moveTo>
                <a:lnTo>
                  <a:pt x="4" y="71"/>
                </a:lnTo>
                <a:lnTo>
                  <a:pt x="6" y="71"/>
                </a:lnTo>
                <a:lnTo>
                  <a:pt x="7" y="70"/>
                </a:lnTo>
                <a:lnTo>
                  <a:pt x="8" y="69"/>
                </a:lnTo>
                <a:lnTo>
                  <a:pt x="17" y="60"/>
                </a:lnTo>
                <a:lnTo>
                  <a:pt x="48" y="31"/>
                </a:lnTo>
                <a:lnTo>
                  <a:pt x="71" y="10"/>
                </a:lnTo>
                <a:lnTo>
                  <a:pt x="74" y="8"/>
                </a:lnTo>
                <a:lnTo>
                  <a:pt x="71" y="6"/>
                </a:lnTo>
                <a:lnTo>
                  <a:pt x="68" y="3"/>
                </a:lnTo>
                <a:lnTo>
                  <a:pt x="66" y="1"/>
                </a:lnTo>
                <a:lnTo>
                  <a:pt x="66" y="0"/>
                </a:lnTo>
                <a:lnTo>
                  <a:pt x="64" y="2"/>
                </a:lnTo>
                <a:lnTo>
                  <a:pt x="55" y="11"/>
                </a:lnTo>
                <a:lnTo>
                  <a:pt x="24" y="40"/>
                </a:lnTo>
                <a:lnTo>
                  <a:pt x="1" y="62"/>
                </a:lnTo>
                <a:lnTo>
                  <a:pt x="0" y="63"/>
                </a:lnTo>
                <a:lnTo>
                  <a:pt x="3" y="63"/>
                </a:lnTo>
                <a:lnTo>
                  <a:pt x="5" y="63"/>
                </a:lnTo>
                <a:lnTo>
                  <a:pt x="6" y="62"/>
                </a:lnTo>
                <a:lnTo>
                  <a:pt x="5" y="63"/>
                </a:lnTo>
                <a:lnTo>
                  <a:pt x="2" y="68"/>
                </a:lnTo>
                <a:lnTo>
                  <a:pt x="1" y="71"/>
                </a:lnTo>
                <a:lnTo>
                  <a:pt x="3" y="73"/>
                </a:lnTo>
                <a:lnTo>
                  <a:pt x="5" y="73"/>
                </a:lnTo>
                <a:lnTo>
                  <a:pt x="6" y="72"/>
                </a:lnTo>
                <a:lnTo>
                  <a:pt x="7" y="70"/>
                </a:lnTo>
                <a:lnTo>
                  <a:pt x="1" y="71"/>
                </a:lnTo>
                <a:close/>
              </a:path>
            </a:pathLst>
          </a:custGeom>
          <a:solidFill>
            <a:srgbClr val="1f1a17"/>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0" name="Freeform 199"/>
          <p:cNvSpPr/>
          <p:nvPr/>
        </p:nvSpPr>
        <p:spPr>
          <a:xfrm>
            <a:off x="4552920" y="4995720"/>
            <a:ext cx="138240" cy="63720"/>
          </a:xfrm>
          <a:custGeom>
            <a:avLst/>
            <a:gdLst>
              <a:gd name="textAreaLeft" fmla="*/ 0 w 138240"/>
              <a:gd name="textAreaRight" fmla="*/ 138600 w 138240"/>
              <a:gd name="textAreaTop" fmla="*/ 0 h 63720"/>
              <a:gd name="textAreaBottom" fmla="*/ 64080 h 63720"/>
            </a:gdLst>
            <a:ahLst/>
            <a:rect l="textAreaLeft" t="textAreaTop" r="textAreaRight" b="textAreaBottom"/>
            <a:pathLst>
              <a:path w="176" h="82">
                <a:moveTo>
                  <a:pt x="2" y="2"/>
                </a:moveTo>
                <a:lnTo>
                  <a:pt x="3" y="7"/>
                </a:lnTo>
                <a:lnTo>
                  <a:pt x="4" y="9"/>
                </a:lnTo>
                <a:lnTo>
                  <a:pt x="5" y="9"/>
                </a:lnTo>
                <a:lnTo>
                  <a:pt x="9" y="11"/>
                </a:lnTo>
                <a:lnTo>
                  <a:pt x="31" y="22"/>
                </a:lnTo>
                <a:lnTo>
                  <a:pt x="108" y="55"/>
                </a:lnTo>
                <a:lnTo>
                  <a:pt x="166" y="81"/>
                </a:lnTo>
                <a:lnTo>
                  <a:pt x="171" y="82"/>
                </a:lnTo>
                <a:lnTo>
                  <a:pt x="174" y="77"/>
                </a:lnTo>
                <a:lnTo>
                  <a:pt x="175" y="74"/>
                </a:lnTo>
                <a:lnTo>
                  <a:pt x="176" y="73"/>
                </a:lnTo>
                <a:lnTo>
                  <a:pt x="172" y="71"/>
                </a:lnTo>
                <a:lnTo>
                  <a:pt x="149" y="61"/>
                </a:lnTo>
                <a:lnTo>
                  <a:pt x="72" y="28"/>
                </a:lnTo>
                <a:lnTo>
                  <a:pt x="14" y="2"/>
                </a:lnTo>
                <a:lnTo>
                  <a:pt x="11" y="0"/>
                </a:lnTo>
                <a:lnTo>
                  <a:pt x="12" y="5"/>
                </a:lnTo>
                <a:lnTo>
                  <a:pt x="13" y="7"/>
                </a:lnTo>
                <a:lnTo>
                  <a:pt x="14" y="7"/>
                </a:lnTo>
                <a:lnTo>
                  <a:pt x="7" y="4"/>
                </a:lnTo>
                <a:lnTo>
                  <a:pt x="2" y="3"/>
                </a:lnTo>
                <a:lnTo>
                  <a:pt x="2" y="2"/>
                </a:lnTo>
                <a:lnTo>
                  <a:pt x="0" y="6"/>
                </a:lnTo>
                <a:lnTo>
                  <a:pt x="0" y="7"/>
                </a:lnTo>
                <a:lnTo>
                  <a:pt x="3" y="9"/>
                </a:lnTo>
                <a:lnTo>
                  <a:pt x="4" y="9"/>
                </a:lnTo>
                <a:lnTo>
                  <a:pt x="5" y="9"/>
                </a:lnTo>
                <a:lnTo>
                  <a:pt x="2" y="2"/>
                </a:lnTo>
                <a:close/>
              </a:path>
            </a:pathLst>
          </a:custGeom>
          <a:solidFill>
            <a:srgbClr val="1f1a17"/>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1" name="Freeform 200"/>
          <p:cNvSpPr/>
          <p:nvPr/>
        </p:nvSpPr>
        <p:spPr>
          <a:xfrm>
            <a:off x="4478400" y="4897440"/>
            <a:ext cx="93600" cy="103320"/>
          </a:xfrm>
          <a:custGeom>
            <a:avLst/>
            <a:gdLst>
              <a:gd name="textAreaLeft" fmla="*/ 0 w 93600"/>
              <a:gd name="textAreaRight" fmla="*/ 93960 w 93600"/>
              <a:gd name="textAreaTop" fmla="*/ 0 h 103320"/>
              <a:gd name="textAreaBottom" fmla="*/ 103680 h 103320"/>
            </a:gdLst>
            <a:ahLst/>
            <a:rect l="textAreaLeft" t="textAreaTop" r="textAreaRight" b="textAreaBottom"/>
            <a:pathLst>
              <a:path w="118" h="129">
                <a:moveTo>
                  <a:pt x="0" y="7"/>
                </a:moveTo>
                <a:lnTo>
                  <a:pt x="2" y="9"/>
                </a:lnTo>
                <a:lnTo>
                  <a:pt x="3" y="9"/>
                </a:lnTo>
                <a:lnTo>
                  <a:pt x="6" y="11"/>
                </a:lnTo>
                <a:lnTo>
                  <a:pt x="7" y="12"/>
                </a:lnTo>
                <a:lnTo>
                  <a:pt x="8" y="12"/>
                </a:lnTo>
                <a:lnTo>
                  <a:pt x="12" y="14"/>
                </a:lnTo>
                <a:lnTo>
                  <a:pt x="14" y="15"/>
                </a:lnTo>
                <a:lnTo>
                  <a:pt x="15" y="15"/>
                </a:lnTo>
                <a:lnTo>
                  <a:pt x="18" y="17"/>
                </a:lnTo>
                <a:lnTo>
                  <a:pt x="19" y="18"/>
                </a:lnTo>
                <a:lnTo>
                  <a:pt x="20" y="18"/>
                </a:lnTo>
                <a:lnTo>
                  <a:pt x="23" y="20"/>
                </a:lnTo>
                <a:lnTo>
                  <a:pt x="26" y="20"/>
                </a:lnTo>
                <a:lnTo>
                  <a:pt x="27" y="20"/>
                </a:lnTo>
                <a:lnTo>
                  <a:pt x="30" y="22"/>
                </a:lnTo>
                <a:lnTo>
                  <a:pt x="31" y="23"/>
                </a:lnTo>
                <a:lnTo>
                  <a:pt x="32" y="23"/>
                </a:lnTo>
                <a:lnTo>
                  <a:pt x="35" y="25"/>
                </a:lnTo>
                <a:lnTo>
                  <a:pt x="37" y="25"/>
                </a:lnTo>
                <a:lnTo>
                  <a:pt x="38" y="25"/>
                </a:lnTo>
                <a:lnTo>
                  <a:pt x="42" y="27"/>
                </a:lnTo>
                <a:lnTo>
                  <a:pt x="43" y="27"/>
                </a:lnTo>
                <a:lnTo>
                  <a:pt x="44" y="27"/>
                </a:lnTo>
                <a:lnTo>
                  <a:pt x="47" y="29"/>
                </a:lnTo>
                <a:lnTo>
                  <a:pt x="48" y="30"/>
                </a:lnTo>
                <a:lnTo>
                  <a:pt x="49" y="30"/>
                </a:lnTo>
                <a:lnTo>
                  <a:pt x="52" y="33"/>
                </a:lnTo>
                <a:lnTo>
                  <a:pt x="53" y="33"/>
                </a:lnTo>
                <a:lnTo>
                  <a:pt x="54" y="33"/>
                </a:lnTo>
                <a:lnTo>
                  <a:pt x="58" y="35"/>
                </a:lnTo>
                <a:lnTo>
                  <a:pt x="59" y="35"/>
                </a:lnTo>
                <a:lnTo>
                  <a:pt x="60" y="35"/>
                </a:lnTo>
                <a:lnTo>
                  <a:pt x="63" y="37"/>
                </a:lnTo>
                <a:lnTo>
                  <a:pt x="64" y="38"/>
                </a:lnTo>
                <a:lnTo>
                  <a:pt x="65" y="38"/>
                </a:lnTo>
                <a:lnTo>
                  <a:pt x="67" y="40"/>
                </a:lnTo>
                <a:lnTo>
                  <a:pt x="70" y="40"/>
                </a:lnTo>
                <a:lnTo>
                  <a:pt x="73" y="42"/>
                </a:lnTo>
                <a:lnTo>
                  <a:pt x="74" y="43"/>
                </a:lnTo>
                <a:lnTo>
                  <a:pt x="75" y="43"/>
                </a:lnTo>
                <a:lnTo>
                  <a:pt x="77" y="45"/>
                </a:lnTo>
                <a:lnTo>
                  <a:pt x="79" y="45"/>
                </a:lnTo>
                <a:lnTo>
                  <a:pt x="80" y="47"/>
                </a:lnTo>
                <a:lnTo>
                  <a:pt x="81" y="48"/>
                </a:lnTo>
                <a:lnTo>
                  <a:pt x="82" y="48"/>
                </a:lnTo>
                <a:lnTo>
                  <a:pt x="85" y="50"/>
                </a:lnTo>
                <a:lnTo>
                  <a:pt x="86" y="51"/>
                </a:lnTo>
                <a:lnTo>
                  <a:pt x="87" y="51"/>
                </a:lnTo>
                <a:lnTo>
                  <a:pt x="89" y="53"/>
                </a:lnTo>
                <a:lnTo>
                  <a:pt x="90" y="53"/>
                </a:lnTo>
                <a:lnTo>
                  <a:pt x="91" y="55"/>
                </a:lnTo>
                <a:lnTo>
                  <a:pt x="92" y="56"/>
                </a:lnTo>
                <a:lnTo>
                  <a:pt x="93" y="56"/>
                </a:lnTo>
                <a:lnTo>
                  <a:pt x="94" y="58"/>
                </a:lnTo>
                <a:lnTo>
                  <a:pt x="95" y="59"/>
                </a:lnTo>
                <a:lnTo>
                  <a:pt x="96" y="59"/>
                </a:lnTo>
                <a:lnTo>
                  <a:pt x="97" y="62"/>
                </a:lnTo>
                <a:lnTo>
                  <a:pt x="98" y="63"/>
                </a:lnTo>
                <a:lnTo>
                  <a:pt x="100" y="65"/>
                </a:lnTo>
                <a:lnTo>
                  <a:pt x="101" y="66"/>
                </a:lnTo>
                <a:lnTo>
                  <a:pt x="102" y="69"/>
                </a:lnTo>
                <a:lnTo>
                  <a:pt x="103" y="70"/>
                </a:lnTo>
                <a:lnTo>
                  <a:pt x="103" y="71"/>
                </a:lnTo>
                <a:lnTo>
                  <a:pt x="103" y="72"/>
                </a:lnTo>
                <a:lnTo>
                  <a:pt x="103" y="73"/>
                </a:lnTo>
                <a:lnTo>
                  <a:pt x="104" y="73"/>
                </a:lnTo>
                <a:lnTo>
                  <a:pt x="104" y="74"/>
                </a:lnTo>
                <a:lnTo>
                  <a:pt x="104" y="76"/>
                </a:lnTo>
                <a:lnTo>
                  <a:pt x="104" y="77"/>
                </a:lnTo>
                <a:lnTo>
                  <a:pt x="105" y="77"/>
                </a:lnTo>
                <a:lnTo>
                  <a:pt x="105" y="78"/>
                </a:lnTo>
                <a:lnTo>
                  <a:pt x="105" y="81"/>
                </a:lnTo>
                <a:lnTo>
                  <a:pt x="105" y="82"/>
                </a:lnTo>
                <a:lnTo>
                  <a:pt x="106" y="82"/>
                </a:lnTo>
                <a:lnTo>
                  <a:pt x="106" y="83"/>
                </a:lnTo>
                <a:lnTo>
                  <a:pt x="106" y="87"/>
                </a:lnTo>
                <a:lnTo>
                  <a:pt x="106" y="88"/>
                </a:lnTo>
                <a:lnTo>
                  <a:pt x="105" y="92"/>
                </a:lnTo>
                <a:lnTo>
                  <a:pt x="105" y="93"/>
                </a:lnTo>
                <a:lnTo>
                  <a:pt x="105" y="94"/>
                </a:lnTo>
                <a:lnTo>
                  <a:pt x="105" y="97"/>
                </a:lnTo>
                <a:lnTo>
                  <a:pt x="105" y="98"/>
                </a:lnTo>
                <a:lnTo>
                  <a:pt x="103" y="102"/>
                </a:lnTo>
                <a:lnTo>
                  <a:pt x="103" y="104"/>
                </a:lnTo>
                <a:lnTo>
                  <a:pt x="102" y="108"/>
                </a:lnTo>
                <a:lnTo>
                  <a:pt x="102" y="110"/>
                </a:lnTo>
                <a:lnTo>
                  <a:pt x="101" y="111"/>
                </a:lnTo>
                <a:lnTo>
                  <a:pt x="100" y="115"/>
                </a:lnTo>
                <a:lnTo>
                  <a:pt x="98" y="117"/>
                </a:lnTo>
                <a:lnTo>
                  <a:pt x="97" y="118"/>
                </a:lnTo>
                <a:lnTo>
                  <a:pt x="96" y="122"/>
                </a:lnTo>
                <a:lnTo>
                  <a:pt x="95" y="124"/>
                </a:lnTo>
                <a:lnTo>
                  <a:pt x="96" y="125"/>
                </a:lnTo>
                <a:lnTo>
                  <a:pt x="102" y="128"/>
                </a:lnTo>
                <a:lnTo>
                  <a:pt x="106" y="129"/>
                </a:lnTo>
                <a:lnTo>
                  <a:pt x="107" y="129"/>
                </a:lnTo>
                <a:lnTo>
                  <a:pt x="107" y="128"/>
                </a:lnTo>
                <a:lnTo>
                  <a:pt x="108" y="125"/>
                </a:lnTo>
                <a:lnTo>
                  <a:pt x="109" y="122"/>
                </a:lnTo>
                <a:lnTo>
                  <a:pt x="110" y="121"/>
                </a:lnTo>
                <a:lnTo>
                  <a:pt x="110" y="120"/>
                </a:lnTo>
                <a:lnTo>
                  <a:pt x="111" y="117"/>
                </a:lnTo>
                <a:lnTo>
                  <a:pt x="111" y="115"/>
                </a:lnTo>
                <a:lnTo>
                  <a:pt x="112" y="114"/>
                </a:lnTo>
                <a:lnTo>
                  <a:pt x="112" y="113"/>
                </a:lnTo>
                <a:lnTo>
                  <a:pt x="113" y="110"/>
                </a:lnTo>
                <a:lnTo>
                  <a:pt x="113" y="108"/>
                </a:lnTo>
                <a:lnTo>
                  <a:pt x="115" y="107"/>
                </a:lnTo>
                <a:lnTo>
                  <a:pt x="115" y="106"/>
                </a:lnTo>
                <a:lnTo>
                  <a:pt x="115" y="103"/>
                </a:lnTo>
                <a:lnTo>
                  <a:pt x="115" y="101"/>
                </a:lnTo>
                <a:lnTo>
                  <a:pt x="116" y="100"/>
                </a:lnTo>
                <a:lnTo>
                  <a:pt x="116" y="97"/>
                </a:lnTo>
                <a:lnTo>
                  <a:pt x="116" y="95"/>
                </a:lnTo>
                <a:lnTo>
                  <a:pt x="117" y="94"/>
                </a:lnTo>
                <a:lnTo>
                  <a:pt x="117" y="91"/>
                </a:lnTo>
                <a:lnTo>
                  <a:pt x="117" y="89"/>
                </a:lnTo>
                <a:lnTo>
                  <a:pt x="118" y="88"/>
                </a:lnTo>
                <a:lnTo>
                  <a:pt x="117" y="84"/>
                </a:lnTo>
                <a:lnTo>
                  <a:pt x="117" y="82"/>
                </a:lnTo>
                <a:lnTo>
                  <a:pt x="117" y="81"/>
                </a:lnTo>
                <a:lnTo>
                  <a:pt x="117" y="78"/>
                </a:lnTo>
                <a:lnTo>
                  <a:pt x="117" y="77"/>
                </a:lnTo>
                <a:lnTo>
                  <a:pt x="117" y="76"/>
                </a:lnTo>
                <a:lnTo>
                  <a:pt x="116" y="73"/>
                </a:lnTo>
                <a:lnTo>
                  <a:pt x="116" y="71"/>
                </a:lnTo>
                <a:lnTo>
                  <a:pt x="116" y="70"/>
                </a:lnTo>
                <a:lnTo>
                  <a:pt x="113" y="68"/>
                </a:lnTo>
                <a:lnTo>
                  <a:pt x="113" y="66"/>
                </a:lnTo>
                <a:lnTo>
                  <a:pt x="111" y="63"/>
                </a:lnTo>
                <a:lnTo>
                  <a:pt x="111" y="62"/>
                </a:lnTo>
                <a:lnTo>
                  <a:pt x="111" y="61"/>
                </a:lnTo>
                <a:lnTo>
                  <a:pt x="109" y="59"/>
                </a:lnTo>
                <a:lnTo>
                  <a:pt x="108" y="58"/>
                </a:lnTo>
                <a:lnTo>
                  <a:pt x="108" y="57"/>
                </a:lnTo>
                <a:lnTo>
                  <a:pt x="106" y="55"/>
                </a:lnTo>
                <a:lnTo>
                  <a:pt x="105" y="54"/>
                </a:lnTo>
                <a:lnTo>
                  <a:pt x="105" y="53"/>
                </a:lnTo>
                <a:lnTo>
                  <a:pt x="103" y="51"/>
                </a:lnTo>
                <a:lnTo>
                  <a:pt x="102" y="50"/>
                </a:lnTo>
                <a:lnTo>
                  <a:pt x="102" y="49"/>
                </a:lnTo>
                <a:lnTo>
                  <a:pt x="100" y="47"/>
                </a:lnTo>
                <a:lnTo>
                  <a:pt x="98" y="46"/>
                </a:lnTo>
                <a:lnTo>
                  <a:pt x="98" y="45"/>
                </a:lnTo>
                <a:lnTo>
                  <a:pt x="95" y="44"/>
                </a:lnTo>
                <a:lnTo>
                  <a:pt x="94" y="43"/>
                </a:lnTo>
                <a:lnTo>
                  <a:pt x="94" y="42"/>
                </a:lnTo>
                <a:lnTo>
                  <a:pt x="91" y="41"/>
                </a:lnTo>
                <a:lnTo>
                  <a:pt x="90" y="40"/>
                </a:lnTo>
                <a:lnTo>
                  <a:pt x="90" y="39"/>
                </a:lnTo>
                <a:lnTo>
                  <a:pt x="87" y="38"/>
                </a:lnTo>
                <a:lnTo>
                  <a:pt x="86" y="37"/>
                </a:lnTo>
                <a:lnTo>
                  <a:pt x="86" y="36"/>
                </a:lnTo>
                <a:lnTo>
                  <a:pt x="81" y="35"/>
                </a:lnTo>
                <a:lnTo>
                  <a:pt x="80" y="34"/>
                </a:lnTo>
                <a:lnTo>
                  <a:pt x="80" y="33"/>
                </a:lnTo>
                <a:lnTo>
                  <a:pt x="77" y="31"/>
                </a:lnTo>
                <a:lnTo>
                  <a:pt x="76" y="30"/>
                </a:lnTo>
                <a:lnTo>
                  <a:pt x="72" y="29"/>
                </a:lnTo>
                <a:lnTo>
                  <a:pt x="71" y="28"/>
                </a:lnTo>
                <a:lnTo>
                  <a:pt x="71" y="27"/>
                </a:lnTo>
                <a:lnTo>
                  <a:pt x="70" y="27"/>
                </a:lnTo>
                <a:lnTo>
                  <a:pt x="66" y="26"/>
                </a:lnTo>
                <a:lnTo>
                  <a:pt x="65" y="26"/>
                </a:lnTo>
                <a:lnTo>
                  <a:pt x="65" y="25"/>
                </a:lnTo>
                <a:lnTo>
                  <a:pt x="61" y="24"/>
                </a:lnTo>
                <a:lnTo>
                  <a:pt x="60" y="23"/>
                </a:lnTo>
                <a:lnTo>
                  <a:pt x="60" y="22"/>
                </a:lnTo>
                <a:lnTo>
                  <a:pt x="59" y="22"/>
                </a:lnTo>
                <a:lnTo>
                  <a:pt x="56" y="21"/>
                </a:lnTo>
                <a:lnTo>
                  <a:pt x="54" y="21"/>
                </a:lnTo>
                <a:lnTo>
                  <a:pt x="54" y="20"/>
                </a:lnTo>
                <a:lnTo>
                  <a:pt x="50" y="19"/>
                </a:lnTo>
                <a:lnTo>
                  <a:pt x="48" y="18"/>
                </a:lnTo>
                <a:lnTo>
                  <a:pt x="48" y="17"/>
                </a:lnTo>
                <a:lnTo>
                  <a:pt x="47" y="17"/>
                </a:lnTo>
                <a:lnTo>
                  <a:pt x="44" y="16"/>
                </a:lnTo>
                <a:lnTo>
                  <a:pt x="43" y="16"/>
                </a:lnTo>
                <a:lnTo>
                  <a:pt x="43" y="15"/>
                </a:lnTo>
                <a:lnTo>
                  <a:pt x="42" y="15"/>
                </a:lnTo>
                <a:lnTo>
                  <a:pt x="38" y="14"/>
                </a:lnTo>
                <a:lnTo>
                  <a:pt x="37" y="14"/>
                </a:lnTo>
                <a:lnTo>
                  <a:pt x="37" y="13"/>
                </a:lnTo>
                <a:lnTo>
                  <a:pt x="33" y="12"/>
                </a:lnTo>
                <a:lnTo>
                  <a:pt x="31" y="11"/>
                </a:lnTo>
                <a:lnTo>
                  <a:pt x="31" y="10"/>
                </a:lnTo>
                <a:lnTo>
                  <a:pt x="30" y="10"/>
                </a:lnTo>
                <a:lnTo>
                  <a:pt x="27" y="9"/>
                </a:lnTo>
                <a:lnTo>
                  <a:pt x="26" y="9"/>
                </a:lnTo>
                <a:lnTo>
                  <a:pt x="26" y="8"/>
                </a:lnTo>
                <a:lnTo>
                  <a:pt x="21" y="7"/>
                </a:lnTo>
                <a:lnTo>
                  <a:pt x="20" y="6"/>
                </a:lnTo>
                <a:lnTo>
                  <a:pt x="20" y="5"/>
                </a:lnTo>
                <a:lnTo>
                  <a:pt x="16" y="4"/>
                </a:lnTo>
                <a:lnTo>
                  <a:pt x="14" y="3"/>
                </a:lnTo>
                <a:lnTo>
                  <a:pt x="14" y="2"/>
                </a:lnTo>
                <a:lnTo>
                  <a:pt x="13" y="2"/>
                </a:lnTo>
                <a:lnTo>
                  <a:pt x="9" y="1"/>
                </a:lnTo>
                <a:lnTo>
                  <a:pt x="8" y="1"/>
                </a:lnTo>
                <a:lnTo>
                  <a:pt x="8" y="0"/>
                </a:lnTo>
                <a:lnTo>
                  <a:pt x="11" y="2"/>
                </a:lnTo>
                <a:lnTo>
                  <a:pt x="12" y="2"/>
                </a:lnTo>
                <a:lnTo>
                  <a:pt x="0" y="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201"/>
          <p:cNvSpPr/>
          <p:nvPr/>
        </p:nvSpPr>
        <p:spPr>
          <a:xfrm>
            <a:off x="4432320" y="4794120"/>
            <a:ext cx="55440" cy="109800"/>
          </a:xfrm>
          <a:custGeom>
            <a:avLst/>
            <a:gdLst>
              <a:gd name="textAreaLeft" fmla="*/ 0 w 55440"/>
              <a:gd name="textAreaRight" fmla="*/ 55800 w 55440"/>
              <a:gd name="textAreaTop" fmla="*/ 0 h 109800"/>
              <a:gd name="textAreaBottom" fmla="*/ 110160 h 109800"/>
            </a:gdLst>
            <a:ahLst/>
            <a:rect l="textAreaLeft" t="textAreaTop" r="textAreaRight" b="textAreaBottom"/>
            <a:pathLst>
              <a:path w="69" h="137">
                <a:moveTo>
                  <a:pt x="6" y="11"/>
                </a:moveTo>
                <a:lnTo>
                  <a:pt x="2" y="10"/>
                </a:lnTo>
                <a:lnTo>
                  <a:pt x="0" y="9"/>
                </a:lnTo>
                <a:lnTo>
                  <a:pt x="0" y="8"/>
                </a:lnTo>
                <a:lnTo>
                  <a:pt x="1" y="11"/>
                </a:lnTo>
                <a:lnTo>
                  <a:pt x="9" y="28"/>
                </a:lnTo>
                <a:lnTo>
                  <a:pt x="35" y="89"/>
                </a:lnTo>
                <a:lnTo>
                  <a:pt x="55" y="135"/>
                </a:lnTo>
                <a:lnTo>
                  <a:pt x="57" y="137"/>
                </a:lnTo>
                <a:lnTo>
                  <a:pt x="63" y="134"/>
                </a:lnTo>
                <a:lnTo>
                  <a:pt x="68" y="133"/>
                </a:lnTo>
                <a:lnTo>
                  <a:pt x="69" y="132"/>
                </a:lnTo>
                <a:lnTo>
                  <a:pt x="66" y="130"/>
                </a:lnTo>
                <a:lnTo>
                  <a:pt x="59" y="113"/>
                </a:lnTo>
                <a:lnTo>
                  <a:pt x="32" y="51"/>
                </a:lnTo>
                <a:lnTo>
                  <a:pt x="13" y="6"/>
                </a:lnTo>
                <a:lnTo>
                  <a:pt x="12" y="3"/>
                </a:lnTo>
                <a:lnTo>
                  <a:pt x="7" y="2"/>
                </a:lnTo>
                <a:lnTo>
                  <a:pt x="5" y="1"/>
                </a:lnTo>
                <a:lnTo>
                  <a:pt x="5" y="0"/>
                </a:lnTo>
                <a:lnTo>
                  <a:pt x="9" y="2"/>
                </a:lnTo>
                <a:lnTo>
                  <a:pt x="11" y="3"/>
                </a:lnTo>
                <a:lnTo>
                  <a:pt x="12" y="3"/>
                </a:lnTo>
                <a:lnTo>
                  <a:pt x="10" y="1"/>
                </a:lnTo>
                <a:lnTo>
                  <a:pt x="10" y="0"/>
                </a:lnTo>
                <a:lnTo>
                  <a:pt x="9" y="0"/>
                </a:lnTo>
                <a:lnTo>
                  <a:pt x="6" y="0"/>
                </a:lnTo>
                <a:lnTo>
                  <a:pt x="5" y="0"/>
                </a:lnTo>
                <a:lnTo>
                  <a:pt x="6" y="1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202"/>
          <p:cNvSpPr/>
          <p:nvPr/>
        </p:nvSpPr>
        <p:spPr>
          <a:xfrm>
            <a:off x="4210200" y="4794120"/>
            <a:ext cx="228600" cy="28800"/>
          </a:xfrm>
          <a:custGeom>
            <a:avLst/>
            <a:gdLst>
              <a:gd name="textAreaLeft" fmla="*/ 0 w 228600"/>
              <a:gd name="textAreaRight" fmla="*/ 228960 w 228600"/>
              <a:gd name="textAreaTop" fmla="*/ 0 h 28800"/>
              <a:gd name="textAreaBottom" fmla="*/ 29160 h 28800"/>
            </a:gdLst>
            <a:ahLst/>
            <a:rect l="textAreaLeft" t="textAreaTop" r="textAreaRight" b="textAreaBottom"/>
            <a:pathLst>
              <a:path w="287" h="34">
                <a:moveTo>
                  <a:pt x="5" y="34"/>
                </a:moveTo>
                <a:lnTo>
                  <a:pt x="4" y="34"/>
                </a:lnTo>
                <a:lnTo>
                  <a:pt x="3" y="34"/>
                </a:lnTo>
                <a:lnTo>
                  <a:pt x="9" y="34"/>
                </a:lnTo>
                <a:lnTo>
                  <a:pt x="47" y="31"/>
                </a:lnTo>
                <a:lnTo>
                  <a:pt x="180" y="20"/>
                </a:lnTo>
                <a:lnTo>
                  <a:pt x="281" y="12"/>
                </a:lnTo>
                <a:lnTo>
                  <a:pt x="287" y="11"/>
                </a:lnTo>
                <a:lnTo>
                  <a:pt x="286" y="5"/>
                </a:lnTo>
                <a:lnTo>
                  <a:pt x="286" y="1"/>
                </a:lnTo>
                <a:lnTo>
                  <a:pt x="286" y="0"/>
                </a:lnTo>
                <a:lnTo>
                  <a:pt x="280" y="1"/>
                </a:lnTo>
                <a:lnTo>
                  <a:pt x="241" y="4"/>
                </a:lnTo>
                <a:lnTo>
                  <a:pt x="108" y="15"/>
                </a:lnTo>
                <a:lnTo>
                  <a:pt x="7" y="23"/>
                </a:lnTo>
                <a:lnTo>
                  <a:pt x="2" y="23"/>
                </a:lnTo>
                <a:lnTo>
                  <a:pt x="1" y="23"/>
                </a:lnTo>
                <a:lnTo>
                  <a:pt x="0" y="23"/>
                </a:lnTo>
                <a:lnTo>
                  <a:pt x="5" y="34"/>
                </a:lnTo>
                <a:close/>
              </a:path>
            </a:pathLst>
          </a:custGeom>
          <a:solidFill>
            <a:srgbClr val="1f1a17"/>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64" name="Freeform 203"/>
          <p:cNvSpPr/>
          <p:nvPr/>
        </p:nvSpPr>
        <p:spPr>
          <a:xfrm>
            <a:off x="4014720" y="4813200"/>
            <a:ext cx="200160" cy="85680"/>
          </a:xfrm>
          <a:custGeom>
            <a:avLst/>
            <a:gdLst>
              <a:gd name="textAreaLeft" fmla="*/ 0 w 200160"/>
              <a:gd name="textAreaRight" fmla="*/ 200520 w 200160"/>
              <a:gd name="textAreaTop" fmla="*/ 0 h 85680"/>
              <a:gd name="textAreaBottom" fmla="*/ 85680 h 85680"/>
            </a:gdLst>
            <a:ahLst/>
            <a:rect l="textAreaLeft" t="textAreaTop" r="textAreaRight" b="textAreaBottom"/>
            <a:pathLst>
              <a:path w="252" h="108">
                <a:moveTo>
                  <a:pt x="0" y="105"/>
                </a:moveTo>
                <a:lnTo>
                  <a:pt x="5" y="107"/>
                </a:lnTo>
                <a:lnTo>
                  <a:pt x="7" y="107"/>
                </a:lnTo>
                <a:lnTo>
                  <a:pt x="8" y="107"/>
                </a:lnTo>
                <a:lnTo>
                  <a:pt x="12" y="106"/>
                </a:lnTo>
                <a:lnTo>
                  <a:pt x="45" y="93"/>
                </a:lnTo>
                <a:lnTo>
                  <a:pt x="160" y="48"/>
                </a:lnTo>
                <a:lnTo>
                  <a:pt x="247" y="13"/>
                </a:lnTo>
                <a:lnTo>
                  <a:pt x="252" y="11"/>
                </a:lnTo>
                <a:lnTo>
                  <a:pt x="251" y="10"/>
                </a:lnTo>
                <a:lnTo>
                  <a:pt x="248" y="5"/>
                </a:lnTo>
                <a:lnTo>
                  <a:pt x="247" y="1"/>
                </a:lnTo>
                <a:lnTo>
                  <a:pt x="247" y="0"/>
                </a:lnTo>
                <a:lnTo>
                  <a:pt x="242" y="2"/>
                </a:lnTo>
                <a:lnTo>
                  <a:pt x="208" y="15"/>
                </a:lnTo>
                <a:lnTo>
                  <a:pt x="94" y="60"/>
                </a:lnTo>
                <a:lnTo>
                  <a:pt x="7" y="95"/>
                </a:lnTo>
                <a:lnTo>
                  <a:pt x="2" y="96"/>
                </a:lnTo>
                <a:lnTo>
                  <a:pt x="7" y="98"/>
                </a:lnTo>
                <a:lnTo>
                  <a:pt x="9" y="98"/>
                </a:lnTo>
                <a:lnTo>
                  <a:pt x="10" y="98"/>
                </a:lnTo>
                <a:lnTo>
                  <a:pt x="9" y="99"/>
                </a:lnTo>
                <a:lnTo>
                  <a:pt x="8" y="100"/>
                </a:lnTo>
                <a:lnTo>
                  <a:pt x="4" y="103"/>
                </a:lnTo>
                <a:lnTo>
                  <a:pt x="0" y="105"/>
                </a:lnTo>
                <a:lnTo>
                  <a:pt x="1" y="107"/>
                </a:lnTo>
                <a:lnTo>
                  <a:pt x="2" y="108"/>
                </a:lnTo>
                <a:lnTo>
                  <a:pt x="4" y="108"/>
                </a:lnTo>
                <a:lnTo>
                  <a:pt x="6" y="108"/>
                </a:lnTo>
                <a:lnTo>
                  <a:pt x="7" y="108"/>
                </a:lnTo>
                <a:lnTo>
                  <a:pt x="8" y="107"/>
                </a:lnTo>
                <a:lnTo>
                  <a:pt x="0" y="105"/>
                </a:lnTo>
                <a:close/>
              </a:path>
            </a:pathLst>
          </a:custGeom>
          <a:solidFill>
            <a:srgbClr val="1f1a17"/>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5" name="Freeform 204"/>
          <p:cNvSpPr/>
          <p:nvPr/>
        </p:nvSpPr>
        <p:spPr>
          <a:xfrm>
            <a:off x="3849840" y="4703760"/>
            <a:ext cx="171360" cy="192240"/>
          </a:xfrm>
          <a:custGeom>
            <a:avLst/>
            <a:gdLst>
              <a:gd name="textAreaLeft" fmla="*/ 0 w 171360"/>
              <a:gd name="textAreaRight" fmla="*/ 171720 w 171360"/>
              <a:gd name="textAreaTop" fmla="*/ 0 h 192240"/>
              <a:gd name="textAreaBottom" fmla="*/ 192600 h 192240"/>
            </a:gdLst>
            <a:ahLst/>
            <a:rect l="textAreaLeft" t="textAreaTop" r="textAreaRight" b="textAreaBottom"/>
            <a:pathLst>
              <a:path w="217" h="243">
                <a:moveTo>
                  <a:pt x="8" y="13"/>
                </a:moveTo>
                <a:lnTo>
                  <a:pt x="7" y="13"/>
                </a:lnTo>
                <a:lnTo>
                  <a:pt x="6" y="13"/>
                </a:lnTo>
                <a:lnTo>
                  <a:pt x="3" y="13"/>
                </a:lnTo>
                <a:lnTo>
                  <a:pt x="0" y="13"/>
                </a:lnTo>
                <a:lnTo>
                  <a:pt x="0" y="12"/>
                </a:lnTo>
                <a:lnTo>
                  <a:pt x="4" y="17"/>
                </a:lnTo>
                <a:lnTo>
                  <a:pt x="33" y="48"/>
                </a:lnTo>
                <a:lnTo>
                  <a:pt x="129" y="156"/>
                </a:lnTo>
                <a:lnTo>
                  <a:pt x="203" y="239"/>
                </a:lnTo>
                <a:lnTo>
                  <a:pt x="207" y="243"/>
                </a:lnTo>
                <a:lnTo>
                  <a:pt x="208" y="242"/>
                </a:lnTo>
                <a:lnTo>
                  <a:pt x="213" y="239"/>
                </a:lnTo>
                <a:lnTo>
                  <a:pt x="216" y="237"/>
                </a:lnTo>
                <a:lnTo>
                  <a:pt x="217" y="236"/>
                </a:lnTo>
                <a:lnTo>
                  <a:pt x="213" y="232"/>
                </a:lnTo>
                <a:lnTo>
                  <a:pt x="184" y="200"/>
                </a:lnTo>
                <a:lnTo>
                  <a:pt x="87" y="92"/>
                </a:lnTo>
                <a:lnTo>
                  <a:pt x="13" y="10"/>
                </a:lnTo>
                <a:lnTo>
                  <a:pt x="10" y="4"/>
                </a:lnTo>
                <a:lnTo>
                  <a:pt x="9" y="4"/>
                </a:lnTo>
                <a:lnTo>
                  <a:pt x="8" y="4"/>
                </a:lnTo>
                <a:lnTo>
                  <a:pt x="5" y="4"/>
                </a:lnTo>
                <a:lnTo>
                  <a:pt x="3" y="4"/>
                </a:lnTo>
                <a:lnTo>
                  <a:pt x="3" y="3"/>
                </a:lnTo>
                <a:lnTo>
                  <a:pt x="7" y="4"/>
                </a:lnTo>
                <a:lnTo>
                  <a:pt x="9" y="4"/>
                </a:lnTo>
                <a:lnTo>
                  <a:pt x="10" y="4"/>
                </a:lnTo>
                <a:lnTo>
                  <a:pt x="8" y="2"/>
                </a:lnTo>
                <a:lnTo>
                  <a:pt x="7" y="1"/>
                </a:lnTo>
                <a:lnTo>
                  <a:pt x="7" y="0"/>
                </a:lnTo>
                <a:lnTo>
                  <a:pt x="6" y="1"/>
                </a:lnTo>
                <a:lnTo>
                  <a:pt x="4" y="2"/>
                </a:lnTo>
                <a:lnTo>
                  <a:pt x="3" y="3"/>
                </a:lnTo>
                <a:lnTo>
                  <a:pt x="8" y="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205"/>
          <p:cNvSpPr/>
          <p:nvPr/>
        </p:nvSpPr>
        <p:spPr>
          <a:xfrm>
            <a:off x="3652920" y="4707000"/>
            <a:ext cx="203040" cy="93600"/>
          </a:xfrm>
          <a:custGeom>
            <a:avLst/>
            <a:gdLst>
              <a:gd name="textAreaLeft" fmla="*/ 0 w 203040"/>
              <a:gd name="textAreaRight" fmla="*/ 203400 w 203040"/>
              <a:gd name="textAreaTop" fmla="*/ 0 h 93600"/>
              <a:gd name="textAreaBottom" fmla="*/ 93960 h 93600"/>
            </a:gdLst>
            <a:ahLst/>
            <a:rect l="textAreaLeft" t="textAreaTop" r="textAreaRight" b="textAreaBottom"/>
            <a:pathLst>
              <a:path w="255" h="120">
                <a:moveTo>
                  <a:pt x="5" y="120"/>
                </a:moveTo>
                <a:lnTo>
                  <a:pt x="7" y="119"/>
                </a:lnTo>
                <a:lnTo>
                  <a:pt x="8" y="118"/>
                </a:lnTo>
                <a:lnTo>
                  <a:pt x="9" y="117"/>
                </a:lnTo>
                <a:lnTo>
                  <a:pt x="13" y="114"/>
                </a:lnTo>
                <a:lnTo>
                  <a:pt x="14" y="112"/>
                </a:lnTo>
                <a:lnTo>
                  <a:pt x="15" y="110"/>
                </a:lnTo>
                <a:lnTo>
                  <a:pt x="17" y="106"/>
                </a:lnTo>
                <a:lnTo>
                  <a:pt x="18" y="104"/>
                </a:lnTo>
                <a:lnTo>
                  <a:pt x="19" y="103"/>
                </a:lnTo>
                <a:lnTo>
                  <a:pt x="22" y="100"/>
                </a:lnTo>
                <a:lnTo>
                  <a:pt x="23" y="99"/>
                </a:lnTo>
                <a:lnTo>
                  <a:pt x="24" y="98"/>
                </a:lnTo>
                <a:lnTo>
                  <a:pt x="28" y="95"/>
                </a:lnTo>
                <a:lnTo>
                  <a:pt x="29" y="93"/>
                </a:lnTo>
                <a:lnTo>
                  <a:pt x="30" y="92"/>
                </a:lnTo>
                <a:lnTo>
                  <a:pt x="33" y="89"/>
                </a:lnTo>
                <a:lnTo>
                  <a:pt x="35" y="88"/>
                </a:lnTo>
                <a:lnTo>
                  <a:pt x="36" y="87"/>
                </a:lnTo>
                <a:lnTo>
                  <a:pt x="39" y="85"/>
                </a:lnTo>
                <a:lnTo>
                  <a:pt x="41" y="84"/>
                </a:lnTo>
                <a:lnTo>
                  <a:pt x="43" y="83"/>
                </a:lnTo>
                <a:lnTo>
                  <a:pt x="46" y="81"/>
                </a:lnTo>
                <a:lnTo>
                  <a:pt x="48" y="80"/>
                </a:lnTo>
                <a:lnTo>
                  <a:pt x="49" y="79"/>
                </a:lnTo>
                <a:lnTo>
                  <a:pt x="52" y="77"/>
                </a:lnTo>
                <a:lnTo>
                  <a:pt x="54" y="76"/>
                </a:lnTo>
                <a:lnTo>
                  <a:pt x="55" y="75"/>
                </a:lnTo>
                <a:lnTo>
                  <a:pt x="59" y="73"/>
                </a:lnTo>
                <a:lnTo>
                  <a:pt x="61" y="72"/>
                </a:lnTo>
                <a:lnTo>
                  <a:pt x="62" y="71"/>
                </a:lnTo>
                <a:lnTo>
                  <a:pt x="66" y="70"/>
                </a:lnTo>
                <a:lnTo>
                  <a:pt x="68" y="69"/>
                </a:lnTo>
                <a:lnTo>
                  <a:pt x="69" y="68"/>
                </a:lnTo>
                <a:lnTo>
                  <a:pt x="74" y="67"/>
                </a:lnTo>
                <a:lnTo>
                  <a:pt x="76" y="66"/>
                </a:lnTo>
                <a:lnTo>
                  <a:pt x="77" y="65"/>
                </a:lnTo>
                <a:lnTo>
                  <a:pt x="81" y="64"/>
                </a:lnTo>
                <a:lnTo>
                  <a:pt x="83" y="63"/>
                </a:lnTo>
                <a:lnTo>
                  <a:pt x="84" y="62"/>
                </a:lnTo>
                <a:lnTo>
                  <a:pt x="85" y="62"/>
                </a:lnTo>
                <a:lnTo>
                  <a:pt x="89" y="61"/>
                </a:lnTo>
                <a:lnTo>
                  <a:pt x="92" y="61"/>
                </a:lnTo>
                <a:lnTo>
                  <a:pt x="93" y="60"/>
                </a:lnTo>
                <a:lnTo>
                  <a:pt x="97" y="59"/>
                </a:lnTo>
                <a:lnTo>
                  <a:pt x="99" y="58"/>
                </a:lnTo>
                <a:lnTo>
                  <a:pt x="100" y="56"/>
                </a:lnTo>
                <a:lnTo>
                  <a:pt x="102" y="56"/>
                </a:lnTo>
                <a:lnTo>
                  <a:pt x="105" y="55"/>
                </a:lnTo>
                <a:lnTo>
                  <a:pt x="108" y="55"/>
                </a:lnTo>
                <a:lnTo>
                  <a:pt x="109" y="54"/>
                </a:lnTo>
                <a:lnTo>
                  <a:pt x="110" y="54"/>
                </a:lnTo>
                <a:lnTo>
                  <a:pt x="113" y="53"/>
                </a:lnTo>
                <a:lnTo>
                  <a:pt x="117" y="53"/>
                </a:lnTo>
                <a:lnTo>
                  <a:pt x="118" y="52"/>
                </a:lnTo>
                <a:lnTo>
                  <a:pt x="119" y="52"/>
                </a:lnTo>
                <a:lnTo>
                  <a:pt x="122" y="51"/>
                </a:lnTo>
                <a:lnTo>
                  <a:pt x="125" y="51"/>
                </a:lnTo>
                <a:lnTo>
                  <a:pt x="126" y="50"/>
                </a:lnTo>
                <a:lnTo>
                  <a:pt x="127" y="50"/>
                </a:lnTo>
                <a:lnTo>
                  <a:pt x="130" y="49"/>
                </a:lnTo>
                <a:lnTo>
                  <a:pt x="134" y="49"/>
                </a:lnTo>
                <a:lnTo>
                  <a:pt x="135" y="48"/>
                </a:lnTo>
                <a:lnTo>
                  <a:pt x="136" y="48"/>
                </a:lnTo>
                <a:lnTo>
                  <a:pt x="139" y="47"/>
                </a:lnTo>
                <a:lnTo>
                  <a:pt x="142" y="47"/>
                </a:lnTo>
                <a:lnTo>
                  <a:pt x="143" y="46"/>
                </a:lnTo>
                <a:lnTo>
                  <a:pt x="144" y="46"/>
                </a:lnTo>
                <a:lnTo>
                  <a:pt x="148" y="45"/>
                </a:lnTo>
                <a:lnTo>
                  <a:pt x="151" y="45"/>
                </a:lnTo>
                <a:lnTo>
                  <a:pt x="152" y="44"/>
                </a:lnTo>
                <a:lnTo>
                  <a:pt x="153" y="44"/>
                </a:lnTo>
                <a:lnTo>
                  <a:pt x="156" y="43"/>
                </a:lnTo>
                <a:lnTo>
                  <a:pt x="159" y="43"/>
                </a:lnTo>
                <a:lnTo>
                  <a:pt x="161" y="42"/>
                </a:lnTo>
                <a:lnTo>
                  <a:pt x="162" y="42"/>
                </a:lnTo>
                <a:lnTo>
                  <a:pt x="165" y="41"/>
                </a:lnTo>
                <a:lnTo>
                  <a:pt x="168" y="41"/>
                </a:lnTo>
                <a:lnTo>
                  <a:pt x="169" y="40"/>
                </a:lnTo>
                <a:lnTo>
                  <a:pt x="170" y="40"/>
                </a:lnTo>
                <a:lnTo>
                  <a:pt x="174" y="39"/>
                </a:lnTo>
                <a:lnTo>
                  <a:pt x="178" y="39"/>
                </a:lnTo>
                <a:lnTo>
                  <a:pt x="179" y="38"/>
                </a:lnTo>
                <a:lnTo>
                  <a:pt x="180" y="38"/>
                </a:lnTo>
                <a:lnTo>
                  <a:pt x="183" y="37"/>
                </a:lnTo>
                <a:lnTo>
                  <a:pt x="186" y="37"/>
                </a:lnTo>
                <a:lnTo>
                  <a:pt x="187" y="36"/>
                </a:lnTo>
                <a:lnTo>
                  <a:pt x="188" y="36"/>
                </a:lnTo>
                <a:lnTo>
                  <a:pt x="192" y="35"/>
                </a:lnTo>
                <a:lnTo>
                  <a:pt x="195" y="34"/>
                </a:lnTo>
                <a:lnTo>
                  <a:pt x="196" y="33"/>
                </a:lnTo>
                <a:lnTo>
                  <a:pt x="197" y="33"/>
                </a:lnTo>
                <a:lnTo>
                  <a:pt x="200" y="32"/>
                </a:lnTo>
                <a:lnTo>
                  <a:pt x="203" y="32"/>
                </a:lnTo>
                <a:lnTo>
                  <a:pt x="204" y="31"/>
                </a:lnTo>
                <a:lnTo>
                  <a:pt x="206" y="31"/>
                </a:lnTo>
                <a:lnTo>
                  <a:pt x="209" y="30"/>
                </a:lnTo>
                <a:lnTo>
                  <a:pt x="212" y="29"/>
                </a:lnTo>
                <a:lnTo>
                  <a:pt x="213" y="28"/>
                </a:lnTo>
                <a:lnTo>
                  <a:pt x="214" y="28"/>
                </a:lnTo>
                <a:lnTo>
                  <a:pt x="217" y="27"/>
                </a:lnTo>
                <a:lnTo>
                  <a:pt x="221" y="26"/>
                </a:lnTo>
                <a:lnTo>
                  <a:pt x="222" y="25"/>
                </a:lnTo>
                <a:lnTo>
                  <a:pt x="223" y="25"/>
                </a:lnTo>
                <a:lnTo>
                  <a:pt x="226" y="24"/>
                </a:lnTo>
                <a:lnTo>
                  <a:pt x="229" y="23"/>
                </a:lnTo>
                <a:lnTo>
                  <a:pt x="230" y="22"/>
                </a:lnTo>
                <a:lnTo>
                  <a:pt x="234" y="20"/>
                </a:lnTo>
                <a:lnTo>
                  <a:pt x="238" y="19"/>
                </a:lnTo>
                <a:lnTo>
                  <a:pt x="239" y="18"/>
                </a:lnTo>
                <a:lnTo>
                  <a:pt x="243" y="16"/>
                </a:lnTo>
                <a:lnTo>
                  <a:pt x="246" y="15"/>
                </a:lnTo>
                <a:lnTo>
                  <a:pt x="247" y="14"/>
                </a:lnTo>
                <a:lnTo>
                  <a:pt x="252" y="12"/>
                </a:lnTo>
                <a:lnTo>
                  <a:pt x="254" y="11"/>
                </a:lnTo>
                <a:lnTo>
                  <a:pt x="255" y="10"/>
                </a:lnTo>
                <a:lnTo>
                  <a:pt x="254" y="9"/>
                </a:lnTo>
                <a:lnTo>
                  <a:pt x="251" y="5"/>
                </a:lnTo>
                <a:lnTo>
                  <a:pt x="250" y="1"/>
                </a:lnTo>
                <a:lnTo>
                  <a:pt x="250" y="0"/>
                </a:lnTo>
                <a:lnTo>
                  <a:pt x="248" y="1"/>
                </a:lnTo>
                <a:lnTo>
                  <a:pt x="244" y="4"/>
                </a:lnTo>
                <a:lnTo>
                  <a:pt x="242" y="5"/>
                </a:lnTo>
                <a:lnTo>
                  <a:pt x="240" y="6"/>
                </a:lnTo>
                <a:lnTo>
                  <a:pt x="237" y="7"/>
                </a:lnTo>
                <a:lnTo>
                  <a:pt x="233" y="8"/>
                </a:lnTo>
                <a:lnTo>
                  <a:pt x="232" y="9"/>
                </a:lnTo>
                <a:lnTo>
                  <a:pt x="228" y="11"/>
                </a:lnTo>
                <a:lnTo>
                  <a:pt x="226" y="12"/>
                </a:lnTo>
                <a:lnTo>
                  <a:pt x="224" y="13"/>
                </a:lnTo>
                <a:lnTo>
                  <a:pt x="221" y="14"/>
                </a:lnTo>
                <a:lnTo>
                  <a:pt x="217" y="15"/>
                </a:lnTo>
                <a:lnTo>
                  <a:pt x="216" y="16"/>
                </a:lnTo>
                <a:lnTo>
                  <a:pt x="212" y="17"/>
                </a:lnTo>
                <a:lnTo>
                  <a:pt x="210" y="18"/>
                </a:lnTo>
                <a:lnTo>
                  <a:pt x="208" y="19"/>
                </a:lnTo>
                <a:lnTo>
                  <a:pt x="204" y="20"/>
                </a:lnTo>
                <a:lnTo>
                  <a:pt x="201" y="20"/>
                </a:lnTo>
                <a:lnTo>
                  <a:pt x="199" y="21"/>
                </a:lnTo>
                <a:lnTo>
                  <a:pt x="196" y="22"/>
                </a:lnTo>
                <a:lnTo>
                  <a:pt x="193" y="23"/>
                </a:lnTo>
                <a:lnTo>
                  <a:pt x="191" y="24"/>
                </a:lnTo>
                <a:lnTo>
                  <a:pt x="187" y="25"/>
                </a:lnTo>
                <a:lnTo>
                  <a:pt x="184" y="25"/>
                </a:lnTo>
                <a:lnTo>
                  <a:pt x="182" y="26"/>
                </a:lnTo>
                <a:lnTo>
                  <a:pt x="179" y="27"/>
                </a:lnTo>
                <a:lnTo>
                  <a:pt x="176" y="27"/>
                </a:lnTo>
                <a:lnTo>
                  <a:pt x="173" y="28"/>
                </a:lnTo>
                <a:lnTo>
                  <a:pt x="170" y="29"/>
                </a:lnTo>
                <a:lnTo>
                  <a:pt x="167" y="29"/>
                </a:lnTo>
                <a:lnTo>
                  <a:pt x="165" y="30"/>
                </a:lnTo>
                <a:lnTo>
                  <a:pt x="162" y="31"/>
                </a:lnTo>
                <a:lnTo>
                  <a:pt x="158" y="31"/>
                </a:lnTo>
                <a:lnTo>
                  <a:pt x="156" y="32"/>
                </a:lnTo>
                <a:lnTo>
                  <a:pt x="152" y="33"/>
                </a:lnTo>
                <a:lnTo>
                  <a:pt x="149" y="33"/>
                </a:lnTo>
                <a:lnTo>
                  <a:pt x="147" y="34"/>
                </a:lnTo>
                <a:lnTo>
                  <a:pt x="143" y="35"/>
                </a:lnTo>
                <a:lnTo>
                  <a:pt x="140" y="35"/>
                </a:lnTo>
                <a:lnTo>
                  <a:pt x="138" y="36"/>
                </a:lnTo>
                <a:lnTo>
                  <a:pt x="135" y="37"/>
                </a:lnTo>
                <a:lnTo>
                  <a:pt x="132" y="37"/>
                </a:lnTo>
                <a:lnTo>
                  <a:pt x="129" y="38"/>
                </a:lnTo>
                <a:lnTo>
                  <a:pt x="126" y="39"/>
                </a:lnTo>
                <a:lnTo>
                  <a:pt x="123" y="39"/>
                </a:lnTo>
                <a:lnTo>
                  <a:pt x="121" y="40"/>
                </a:lnTo>
                <a:lnTo>
                  <a:pt x="118" y="41"/>
                </a:lnTo>
                <a:lnTo>
                  <a:pt x="114" y="41"/>
                </a:lnTo>
                <a:lnTo>
                  <a:pt x="112" y="42"/>
                </a:lnTo>
                <a:lnTo>
                  <a:pt x="109" y="43"/>
                </a:lnTo>
                <a:lnTo>
                  <a:pt x="106" y="44"/>
                </a:lnTo>
                <a:lnTo>
                  <a:pt x="104" y="45"/>
                </a:lnTo>
                <a:lnTo>
                  <a:pt x="100" y="46"/>
                </a:lnTo>
                <a:lnTo>
                  <a:pt x="97" y="46"/>
                </a:lnTo>
                <a:lnTo>
                  <a:pt x="95" y="47"/>
                </a:lnTo>
                <a:lnTo>
                  <a:pt x="92" y="48"/>
                </a:lnTo>
                <a:lnTo>
                  <a:pt x="89" y="48"/>
                </a:lnTo>
                <a:lnTo>
                  <a:pt x="88" y="49"/>
                </a:lnTo>
                <a:lnTo>
                  <a:pt x="83" y="50"/>
                </a:lnTo>
                <a:lnTo>
                  <a:pt x="81" y="51"/>
                </a:lnTo>
                <a:lnTo>
                  <a:pt x="79" y="52"/>
                </a:lnTo>
                <a:lnTo>
                  <a:pt x="76" y="53"/>
                </a:lnTo>
                <a:lnTo>
                  <a:pt x="73" y="54"/>
                </a:lnTo>
                <a:lnTo>
                  <a:pt x="71" y="55"/>
                </a:lnTo>
                <a:lnTo>
                  <a:pt x="67" y="56"/>
                </a:lnTo>
                <a:lnTo>
                  <a:pt x="65" y="58"/>
                </a:lnTo>
                <a:lnTo>
                  <a:pt x="64" y="59"/>
                </a:lnTo>
                <a:lnTo>
                  <a:pt x="60" y="61"/>
                </a:lnTo>
                <a:lnTo>
                  <a:pt x="56" y="62"/>
                </a:lnTo>
                <a:lnTo>
                  <a:pt x="55" y="63"/>
                </a:lnTo>
                <a:lnTo>
                  <a:pt x="51" y="64"/>
                </a:lnTo>
                <a:lnTo>
                  <a:pt x="49" y="65"/>
                </a:lnTo>
                <a:lnTo>
                  <a:pt x="48" y="66"/>
                </a:lnTo>
                <a:lnTo>
                  <a:pt x="45" y="69"/>
                </a:lnTo>
                <a:lnTo>
                  <a:pt x="43" y="70"/>
                </a:lnTo>
                <a:lnTo>
                  <a:pt x="41" y="71"/>
                </a:lnTo>
                <a:lnTo>
                  <a:pt x="37" y="73"/>
                </a:lnTo>
                <a:lnTo>
                  <a:pt x="35" y="74"/>
                </a:lnTo>
                <a:lnTo>
                  <a:pt x="34" y="75"/>
                </a:lnTo>
                <a:lnTo>
                  <a:pt x="31" y="78"/>
                </a:lnTo>
                <a:lnTo>
                  <a:pt x="29" y="79"/>
                </a:lnTo>
                <a:lnTo>
                  <a:pt x="28" y="80"/>
                </a:lnTo>
                <a:lnTo>
                  <a:pt x="24" y="83"/>
                </a:lnTo>
                <a:lnTo>
                  <a:pt x="22" y="84"/>
                </a:lnTo>
                <a:lnTo>
                  <a:pt x="21" y="85"/>
                </a:lnTo>
                <a:lnTo>
                  <a:pt x="18" y="88"/>
                </a:lnTo>
                <a:lnTo>
                  <a:pt x="16" y="90"/>
                </a:lnTo>
                <a:lnTo>
                  <a:pt x="15" y="91"/>
                </a:lnTo>
                <a:lnTo>
                  <a:pt x="11" y="95"/>
                </a:lnTo>
                <a:lnTo>
                  <a:pt x="10" y="97"/>
                </a:lnTo>
                <a:lnTo>
                  <a:pt x="9" y="98"/>
                </a:lnTo>
                <a:lnTo>
                  <a:pt x="6" y="101"/>
                </a:lnTo>
                <a:lnTo>
                  <a:pt x="4" y="103"/>
                </a:lnTo>
                <a:lnTo>
                  <a:pt x="3" y="104"/>
                </a:lnTo>
                <a:lnTo>
                  <a:pt x="1" y="108"/>
                </a:lnTo>
                <a:lnTo>
                  <a:pt x="0" y="112"/>
                </a:lnTo>
                <a:lnTo>
                  <a:pt x="2" y="110"/>
                </a:lnTo>
                <a:lnTo>
                  <a:pt x="3" y="109"/>
                </a:lnTo>
                <a:lnTo>
                  <a:pt x="4" y="108"/>
                </a:lnTo>
                <a:lnTo>
                  <a:pt x="4" y="109"/>
                </a:lnTo>
                <a:lnTo>
                  <a:pt x="4" y="110"/>
                </a:lnTo>
                <a:lnTo>
                  <a:pt x="4" y="116"/>
                </a:lnTo>
                <a:lnTo>
                  <a:pt x="4" y="120"/>
                </a:lnTo>
                <a:lnTo>
                  <a:pt x="5" y="120"/>
                </a:lnTo>
                <a:lnTo>
                  <a:pt x="6" y="120"/>
                </a:lnTo>
                <a:lnTo>
                  <a:pt x="7" y="120"/>
                </a:lnTo>
                <a:lnTo>
                  <a:pt x="8" y="120"/>
                </a:lnTo>
                <a:lnTo>
                  <a:pt x="8" y="119"/>
                </a:lnTo>
                <a:lnTo>
                  <a:pt x="8" y="118"/>
                </a:lnTo>
                <a:lnTo>
                  <a:pt x="9" y="117"/>
                </a:lnTo>
                <a:lnTo>
                  <a:pt x="5" y="12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206"/>
          <p:cNvSpPr/>
          <p:nvPr/>
        </p:nvSpPr>
        <p:spPr>
          <a:xfrm>
            <a:off x="3489480" y="4792680"/>
            <a:ext cx="168120" cy="14400"/>
          </a:xfrm>
          <a:custGeom>
            <a:avLst/>
            <a:gdLst>
              <a:gd name="textAreaLeft" fmla="*/ 0 w 168120"/>
              <a:gd name="textAreaRight" fmla="*/ 168120 w 168120"/>
              <a:gd name="textAreaTop" fmla="*/ 0 h 14400"/>
              <a:gd name="textAreaBottom" fmla="*/ 14760 h 14400"/>
            </a:gdLst>
            <a:ahLst/>
            <a:rect l="textAreaLeft" t="textAreaTop" r="textAreaRight" b="textAreaBottom"/>
            <a:pathLst>
              <a:path w="211" h="20">
                <a:moveTo>
                  <a:pt x="14" y="13"/>
                </a:moveTo>
                <a:lnTo>
                  <a:pt x="13" y="14"/>
                </a:lnTo>
                <a:lnTo>
                  <a:pt x="9" y="18"/>
                </a:lnTo>
                <a:lnTo>
                  <a:pt x="8" y="20"/>
                </a:lnTo>
                <a:lnTo>
                  <a:pt x="12" y="20"/>
                </a:lnTo>
                <a:lnTo>
                  <a:pt x="39" y="19"/>
                </a:lnTo>
                <a:lnTo>
                  <a:pt x="134" y="16"/>
                </a:lnTo>
                <a:lnTo>
                  <a:pt x="207" y="13"/>
                </a:lnTo>
                <a:lnTo>
                  <a:pt x="211" y="12"/>
                </a:lnTo>
                <a:lnTo>
                  <a:pt x="210" y="6"/>
                </a:lnTo>
                <a:lnTo>
                  <a:pt x="210" y="1"/>
                </a:lnTo>
                <a:lnTo>
                  <a:pt x="210" y="0"/>
                </a:lnTo>
                <a:lnTo>
                  <a:pt x="206" y="1"/>
                </a:lnTo>
                <a:lnTo>
                  <a:pt x="178" y="2"/>
                </a:lnTo>
                <a:lnTo>
                  <a:pt x="83" y="6"/>
                </a:lnTo>
                <a:lnTo>
                  <a:pt x="10" y="9"/>
                </a:lnTo>
                <a:lnTo>
                  <a:pt x="7" y="9"/>
                </a:lnTo>
                <a:lnTo>
                  <a:pt x="6" y="10"/>
                </a:lnTo>
                <a:lnTo>
                  <a:pt x="3" y="14"/>
                </a:lnTo>
                <a:lnTo>
                  <a:pt x="2" y="17"/>
                </a:lnTo>
                <a:lnTo>
                  <a:pt x="5" y="13"/>
                </a:lnTo>
                <a:lnTo>
                  <a:pt x="6" y="10"/>
                </a:lnTo>
                <a:lnTo>
                  <a:pt x="7" y="9"/>
                </a:lnTo>
                <a:lnTo>
                  <a:pt x="6" y="9"/>
                </a:lnTo>
                <a:lnTo>
                  <a:pt x="5" y="9"/>
                </a:lnTo>
                <a:lnTo>
                  <a:pt x="2" y="9"/>
                </a:lnTo>
                <a:lnTo>
                  <a:pt x="0" y="9"/>
                </a:lnTo>
                <a:lnTo>
                  <a:pt x="0" y="10"/>
                </a:lnTo>
                <a:lnTo>
                  <a:pt x="0" y="11"/>
                </a:lnTo>
                <a:lnTo>
                  <a:pt x="1" y="14"/>
                </a:lnTo>
                <a:lnTo>
                  <a:pt x="1" y="17"/>
                </a:lnTo>
                <a:lnTo>
                  <a:pt x="2" y="17"/>
                </a:lnTo>
                <a:lnTo>
                  <a:pt x="14" y="13"/>
                </a:lnTo>
                <a:close/>
              </a:path>
            </a:pathLst>
          </a:custGeom>
          <a:solidFill>
            <a:srgbClr val="1f1a17"/>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68" name="Freeform 207"/>
          <p:cNvSpPr/>
          <p:nvPr/>
        </p:nvSpPr>
        <p:spPr>
          <a:xfrm>
            <a:off x="3490920" y="4802040"/>
            <a:ext cx="61920" cy="128880"/>
          </a:xfrm>
          <a:custGeom>
            <a:avLst/>
            <a:gdLst>
              <a:gd name="textAreaLeft" fmla="*/ 0 w 61920"/>
              <a:gd name="textAreaRight" fmla="*/ 62280 w 61920"/>
              <a:gd name="textAreaTop" fmla="*/ 0 h 128880"/>
              <a:gd name="textAreaBottom" fmla="*/ 129240 h 128880"/>
            </a:gdLst>
            <a:ahLst/>
            <a:rect l="textAreaLeft" t="textAreaTop" r="textAreaRight" b="textAreaBottom"/>
            <a:pathLst>
              <a:path w="77" h="162">
                <a:moveTo>
                  <a:pt x="74" y="162"/>
                </a:moveTo>
                <a:lnTo>
                  <a:pt x="75" y="159"/>
                </a:lnTo>
                <a:lnTo>
                  <a:pt x="75" y="157"/>
                </a:lnTo>
                <a:lnTo>
                  <a:pt x="76" y="156"/>
                </a:lnTo>
                <a:lnTo>
                  <a:pt x="74" y="152"/>
                </a:lnTo>
                <a:lnTo>
                  <a:pt x="65" y="132"/>
                </a:lnTo>
                <a:lnTo>
                  <a:pt x="35" y="59"/>
                </a:lnTo>
                <a:lnTo>
                  <a:pt x="13" y="4"/>
                </a:lnTo>
                <a:lnTo>
                  <a:pt x="12" y="0"/>
                </a:lnTo>
                <a:lnTo>
                  <a:pt x="10" y="1"/>
                </a:lnTo>
                <a:lnTo>
                  <a:pt x="4" y="3"/>
                </a:lnTo>
                <a:lnTo>
                  <a:pt x="0" y="4"/>
                </a:lnTo>
                <a:lnTo>
                  <a:pt x="1" y="8"/>
                </a:lnTo>
                <a:lnTo>
                  <a:pt x="10" y="28"/>
                </a:lnTo>
                <a:lnTo>
                  <a:pt x="40" y="102"/>
                </a:lnTo>
                <a:lnTo>
                  <a:pt x="62" y="157"/>
                </a:lnTo>
                <a:lnTo>
                  <a:pt x="64" y="160"/>
                </a:lnTo>
                <a:lnTo>
                  <a:pt x="64" y="159"/>
                </a:lnTo>
                <a:lnTo>
                  <a:pt x="65" y="156"/>
                </a:lnTo>
                <a:lnTo>
                  <a:pt x="65" y="154"/>
                </a:lnTo>
                <a:lnTo>
                  <a:pt x="66" y="152"/>
                </a:lnTo>
                <a:lnTo>
                  <a:pt x="67" y="155"/>
                </a:lnTo>
                <a:lnTo>
                  <a:pt x="71" y="159"/>
                </a:lnTo>
                <a:lnTo>
                  <a:pt x="73" y="162"/>
                </a:lnTo>
                <a:lnTo>
                  <a:pt x="74" y="162"/>
                </a:lnTo>
                <a:lnTo>
                  <a:pt x="75" y="161"/>
                </a:lnTo>
                <a:lnTo>
                  <a:pt x="76" y="160"/>
                </a:lnTo>
                <a:lnTo>
                  <a:pt x="77" y="159"/>
                </a:lnTo>
                <a:lnTo>
                  <a:pt x="76" y="157"/>
                </a:lnTo>
                <a:lnTo>
                  <a:pt x="76" y="156"/>
                </a:lnTo>
                <a:lnTo>
                  <a:pt x="74" y="1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208"/>
          <p:cNvSpPr/>
          <p:nvPr/>
        </p:nvSpPr>
        <p:spPr>
          <a:xfrm>
            <a:off x="3506760" y="4923000"/>
            <a:ext cx="42840" cy="74520"/>
          </a:xfrm>
          <a:custGeom>
            <a:avLst/>
            <a:gdLst>
              <a:gd name="textAreaLeft" fmla="*/ 0 w 42840"/>
              <a:gd name="textAreaRight" fmla="*/ 43200 w 42840"/>
              <a:gd name="textAreaTop" fmla="*/ 0 h 74520"/>
              <a:gd name="textAreaBottom" fmla="*/ 74880 h 74520"/>
            </a:gdLst>
            <a:ahLst/>
            <a:rect l="textAreaLeft" t="textAreaTop" r="textAreaRight" b="textAreaBottom"/>
            <a:pathLst>
              <a:path w="56" h="94">
                <a:moveTo>
                  <a:pt x="12" y="87"/>
                </a:moveTo>
                <a:lnTo>
                  <a:pt x="12" y="88"/>
                </a:lnTo>
                <a:lnTo>
                  <a:pt x="12" y="89"/>
                </a:lnTo>
                <a:lnTo>
                  <a:pt x="12" y="92"/>
                </a:lnTo>
                <a:lnTo>
                  <a:pt x="12" y="94"/>
                </a:lnTo>
                <a:lnTo>
                  <a:pt x="13" y="93"/>
                </a:lnTo>
                <a:lnTo>
                  <a:pt x="14" y="92"/>
                </a:lnTo>
                <a:lnTo>
                  <a:pt x="15" y="91"/>
                </a:lnTo>
                <a:lnTo>
                  <a:pt x="16" y="90"/>
                </a:lnTo>
                <a:lnTo>
                  <a:pt x="17" y="88"/>
                </a:lnTo>
                <a:lnTo>
                  <a:pt x="18" y="87"/>
                </a:lnTo>
                <a:lnTo>
                  <a:pt x="19" y="86"/>
                </a:lnTo>
                <a:lnTo>
                  <a:pt x="19" y="85"/>
                </a:lnTo>
                <a:lnTo>
                  <a:pt x="19" y="84"/>
                </a:lnTo>
                <a:lnTo>
                  <a:pt x="20" y="83"/>
                </a:lnTo>
                <a:lnTo>
                  <a:pt x="22" y="82"/>
                </a:lnTo>
                <a:lnTo>
                  <a:pt x="23" y="81"/>
                </a:lnTo>
                <a:lnTo>
                  <a:pt x="23" y="80"/>
                </a:lnTo>
                <a:lnTo>
                  <a:pt x="23" y="79"/>
                </a:lnTo>
                <a:lnTo>
                  <a:pt x="24" y="78"/>
                </a:lnTo>
                <a:lnTo>
                  <a:pt x="24" y="77"/>
                </a:lnTo>
                <a:lnTo>
                  <a:pt x="24" y="76"/>
                </a:lnTo>
                <a:lnTo>
                  <a:pt x="25" y="75"/>
                </a:lnTo>
                <a:lnTo>
                  <a:pt x="26" y="74"/>
                </a:lnTo>
                <a:lnTo>
                  <a:pt x="27" y="72"/>
                </a:lnTo>
                <a:lnTo>
                  <a:pt x="27" y="71"/>
                </a:lnTo>
                <a:lnTo>
                  <a:pt x="27" y="70"/>
                </a:lnTo>
                <a:lnTo>
                  <a:pt x="28" y="69"/>
                </a:lnTo>
                <a:lnTo>
                  <a:pt x="28" y="68"/>
                </a:lnTo>
                <a:lnTo>
                  <a:pt x="28" y="67"/>
                </a:lnTo>
                <a:lnTo>
                  <a:pt x="29" y="66"/>
                </a:lnTo>
                <a:lnTo>
                  <a:pt x="29" y="65"/>
                </a:lnTo>
                <a:lnTo>
                  <a:pt x="29" y="64"/>
                </a:lnTo>
                <a:lnTo>
                  <a:pt x="30" y="63"/>
                </a:lnTo>
                <a:lnTo>
                  <a:pt x="30" y="62"/>
                </a:lnTo>
                <a:lnTo>
                  <a:pt x="30" y="61"/>
                </a:lnTo>
                <a:lnTo>
                  <a:pt x="31" y="60"/>
                </a:lnTo>
                <a:lnTo>
                  <a:pt x="31" y="58"/>
                </a:lnTo>
                <a:lnTo>
                  <a:pt x="31" y="57"/>
                </a:lnTo>
                <a:lnTo>
                  <a:pt x="32" y="56"/>
                </a:lnTo>
                <a:lnTo>
                  <a:pt x="33" y="54"/>
                </a:lnTo>
                <a:lnTo>
                  <a:pt x="34" y="52"/>
                </a:lnTo>
                <a:lnTo>
                  <a:pt x="34" y="51"/>
                </a:lnTo>
                <a:lnTo>
                  <a:pt x="34" y="50"/>
                </a:lnTo>
                <a:lnTo>
                  <a:pt x="36" y="49"/>
                </a:lnTo>
                <a:lnTo>
                  <a:pt x="36" y="48"/>
                </a:lnTo>
                <a:lnTo>
                  <a:pt x="36" y="47"/>
                </a:lnTo>
                <a:lnTo>
                  <a:pt x="37" y="46"/>
                </a:lnTo>
                <a:lnTo>
                  <a:pt x="37" y="45"/>
                </a:lnTo>
                <a:lnTo>
                  <a:pt x="37" y="44"/>
                </a:lnTo>
                <a:lnTo>
                  <a:pt x="38" y="43"/>
                </a:lnTo>
                <a:lnTo>
                  <a:pt x="38" y="41"/>
                </a:lnTo>
                <a:lnTo>
                  <a:pt x="38" y="40"/>
                </a:lnTo>
                <a:lnTo>
                  <a:pt x="39" y="39"/>
                </a:lnTo>
                <a:lnTo>
                  <a:pt x="39" y="38"/>
                </a:lnTo>
                <a:lnTo>
                  <a:pt x="39" y="37"/>
                </a:lnTo>
                <a:lnTo>
                  <a:pt x="40" y="36"/>
                </a:lnTo>
                <a:lnTo>
                  <a:pt x="41" y="35"/>
                </a:lnTo>
                <a:lnTo>
                  <a:pt x="42" y="33"/>
                </a:lnTo>
                <a:lnTo>
                  <a:pt x="43" y="31"/>
                </a:lnTo>
                <a:lnTo>
                  <a:pt x="43" y="30"/>
                </a:lnTo>
                <a:lnTo>
                  <a:pt x="43" y="29"/>
                </a:lnTo>
                <a:lnTo>
                  <a:pt x="44" y="28"/>
                </a:lnTo>
                <a:lnTo>
                  <a:pt x="44" y="27"/>
                </a:lnTo>
                <a:lnTo>
                  <a:pt x="44" y="26"/>
                </a:lnTo>
                <a:lnTo>
                  <a:pt x="45" y="25"/>
                </a:lnTo>
                <a:lnTo>
                  <a:pt x="45" y="24"/>
                </a:lnTo>
                <a:lnTo>
                  <a:pt x="45" y="23"/>
                </a:lnTo>
                <a:lnTo>
                  <a:pt x="46" y="22"/>
                </a:lnTo>
                <a:lnTo>
                  <a:pt x="47" y="21"/>
                </a:lnTo>
                <a:lnTo>
                  <a:pt x="48" y="20"/>
                </a:lnTo>
                <a:lnTo>
                  <a:pt x="49" y="18"/>
                </a:lnTo>
                <a:lnTo>
                  <a:pt x="51" y="16"/>
                </a:lnTo>
                <a:lnTo>
                  <a:pt x="52" y="14"/>
                </a:lnTo>
                <a:lnTo>
                  <a:pt x="53" y="13"/>
                </a:lnTo>
                <a:lnTo>
                  <a:pt x="54" y="12"/>
                </a:lnTo>
                <a:lnTo>
                  <a:pt x="55" y="11"/>
                </a:lnTo>
                <a:lnTo>
                  <a:pt x="56" y="10"/>
                </a:lnTo>
                <a:lnTo>
                  <a:pt x="51" y="5"/>
                </a:lnTo>
                <a:lnTo>
                  <a:pt x="48" y="2"/>
                </a:lnTo>
                <a:lnTo>
                  <a:pt x="48" y="0"/>
                </a:lnTo>
                <a:lnTo>
                  <a:pt x="47" y="2"/>
                </a:lnTo>
                <a:lnTo>
                  <a:pt x="46" y="3"/>
                </a:lnTo>
                <a:lnTo>
                  <a:pt x="45" y="4"/>
                </a:lnTo>
                <a:lnTo>
                  <a:pt x="44" y="5"/>
                </a:lnTo>
                <a:lnTo>
                  <a:pt x="43" y="6"/>
                </a:lnTo>
                <a:lnTo>
                  <a:pt x="42" y="7"/>
                </a:lnTo>
                <a:lnTo>
                  <a:pt x="41" y="9"/>
                </a:lnTo>
                <a:lnTo>
                  <a:pt x="41" y="10"/>
                </a:lnTo>
                <a:lnTo>
                  <a:pt x="40" y="11"/>
                </a:lnTo>
                <a:lnTo>
                  <a:pt x="39" y="12"/>
                </a:lnTo>
                <a:lnTo>
                  <a:pt x="38" y="14"/>
                </a:lnTo>
                <a:lnTo>
                  <a:pt x="38" y="15"/>
                </a:lnTo>
                <a:lnTo>
                  <a:pt x="37" y="17"/>
                </a:lnTo>
                <a:lnTo>
                  <a:pt x="37" y="18"/>
                </a:lnTo>
                <a:lnTo>
                  <a:pt x="36" y="19"/>
                </a:lnTo>
                <a:lnTo>
                  <a:pt x="34" y="20"/>
                </a:lnTo>
                <a:lnTo>
                  <a:pt x="33" y="22"/>
                </a:lnTo>
                <a:lnTo>
                  <a:pt x="33" y="23"/>
                </a:lnTo>
                <a:lnTo>
                  <a:pt x="32" y="25"/>
                </a:lnTo>
                <a:lnTo>
                  <a:pt x="32" y="26"/>
                </a:lnTo>
                <a:lnTo>
                  <a:pt x="31" y="27"/>
                </a:lnTo>
                <a:lnTo>
                  <a:pt x="30" y="28"/>
                </a:lnTo>
                <a:lnTo>
                  <a:pt x="30" y="29"/>
                </a:lnTo>
                <a:lnTo>
                  <a:pt x="29" y="31"/>
                </a:lnTo>
                <a:lnTo>
                  <a:pt x="29" y="32"/>
                </a:lnTo>
                <a:lnTo>
                  <a:pt x="28" y="35"/>
                </a:lnTo>
                <a:lnTo>
                  <a:pt x="28" y="36"/>
                </a:lnTo>
                <a:lnTo>
                  <a:pt x="27" y="38"/>
                </a:lnTo>
                <a:lnTo>
                  <a:pt x="27" y="39"/>
                </a:lnTo>
                <a:lnTo>
                  <a:pt x="26" y="41"/>
                </a:lnTo>
                <a:lnTo>
                  <a:pt x="26" y="42"/>
                </a:lnTo>
                <a:lnTo>
                  <a:pt x="25" y="43"/>
                </a:lnTo>
                <a:lnTo>
                  <a:pt x="24" y="44"/>
                </a:lnTo>
                <a:lnTo>
                  <a:pt x="24" y="45"/>
                </a:lnTo>
                <a:lnTo>
                  <a:pt x="23" y="47"/>
                </a:lnTo>
                <a:lnTo>
                  <a:pt x="23" y="48"/>
                </a:lnTo>
                <a:lnTo>
                  <a:pt x="22" y="51"/>
                </a:lnTo>
                <a:lnTo>
                  <a:pt x="22" y="52"/>
                </a:lnTo>
                <a:lnTo>
                  <a:pt x="20" y="54"/>
                </a:lnTo>
                <a:lnTo>
                  <a:pt x="20" y="56"/>
                </a:lnTo>
                <a:lnTo>
                  <a:pt x="19" y="58"/>
                </a:lnTo>
                <a:lnTo>
                  <a:pt x="19" y="59"/>
                </a:lnTo>
                <a:lnTo>
                  <a:pt x="18" y="61"/>
                </a:lnTo>
                <a:lnTo>
                  <a:pt x="18" y="62"/>
                </a:lnTo>
                <a:lnTo>
                  <a:pt x="17" y="64"/>
                </a:lnTo>
                <a:lnTo>
                  <a:pt x="17" y="65"/>
                </a:lnTo>
                <a:lnTo>
                  <a:pt x="16" y="66"/>
                </a:lnTo>
                <a:lnTo>
                  <a:pt x="15" y="67"/>
                </a:lnTo>
                <a:lnTo>
                  <a:pt x="15" y="68"/>
                </a:lnTo>
                <a:lnTo>
                  <a:pt x="14" y="70"/>
                </a:lnTo>
                <a:lnTo>
                  <a:pt x="14" y="71"/>
                </a:lnTo>
                <a:lnTo>
                  <a:pt x="13" y="72"/>
                </a:lnTo>
                <a:lnTo>
                  <a:pt x="13" y="73"/>
                </a:lnTo>
                <a:lnTo>
                  <a:pt x="12" y="75"/>
                </a:lnTo>
                <a:lnTo>
                  <a:pt x="12" y="76"/>
                </a:lnTo>
                <a:lnTo>
                  <a:pt x="11" y="77"/>
                </a:lnTo>
                <a:lnTo>
                  <a:pt x="11" y="78"/>
                </a:lnTo>
                <a:lnTo>
                  <a:pt x="10" y="79"/>
                </a:lnTo>
                <a:lnTo>
                  <a:pt x="9" y="80"/>
                </a:lnTo>
                <a:lnTo>
                  <a:pt x="8" y="81"/>
                </a:lnTo>
                <a:lnTo>
                  <a:pt x="8" y="82"/>
                </a:lnTo>
                <a:lnTo>
                  <a:pt x="7" y="83"/>
                </a:lnTo>
                <a:lnTo>
                  <a:pt x="7" y="84"/>
                </a:lnTo>
                <a:lnTo>
                  <a:pt x="5" y="85"/>
                </a:lnTo>
                <a:lnTo>
                  <a:pt x="4" y="86"/>
                </a:lnTo>
                <a:lnTo>
                  <a:pt x="4" y="87"/>
                </a:lnTo>
                <a:lnTo>
                  <a:pt x="4" y="88"/>
                </a:lnTo>
                <a:lnTo>
                  <a:pt x="4" y="89"/>
                </a:lnTo>
                <a:lnTo>
                  <a:pt x="4" y="92"/>
                </a:lnTo>
                <a:lnTo>
                  <a:pt x="4" y="94"/>
                </a:lnTo>
                <a:lnTo>
                  <a:pt x="4" y="93"/>
                </a:lnTo>
                <a:lnTo>
                  <a:pt x="4" y="90"/>
                </a:lnTo>
                <a:lnTo>
                  <a:pt x="4" y="88"/>
                </a:lnTo>
                <a:lnTo>
                  <a:pt x="4" y="87"/>
                </a:lnTo>
                <a:lnTo>
                  <a:pt x="3" y="88"/>
                </a:lnTo>
                <a:lnTo>
                  <a:pt x="1" y="90"/>
                </a:lnTo>
                <a:lnTo>
                  <a:pt x="0" y="91"/>
                </a:lnTo>
                <a:lnTo>
                  <a:pt x="2" y="93"/>
                </a:lnTo>
                <a:lnTo>
                  <a:pt x="3" y="94"/>
                </a:lnTo>
                <a:lnTo>
                  <a:pt x="4" y="94"/>
                </a:lnTo>
                <a:lnTo>
                  <a:pt x="12" y="87"/>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0" name="Freeform 209"/>
          <p:cNvSpPr/>
          <p:nvPr/>
        </p:nvSpPr>
        <p:spPr>
          <a:xfrm>
            <a:off x="3510000" y="4992840"/>
            <a:ext cx="47520" cy="90360"/>
          </a:xfrm>
          <a:custGeom>
            <a:avLst/>
            <a:gdLst>
              <a:gd name="textAreaLeft" fmla="*/ 0 w 47520"/>
              <a:gd name="textAreaRight" fmla="*/ 47880 w 47520"/>
              <a:gd name="textAreaTop" fmla="*/ 0 h 90360"/>
              <a:gd name="textAreaBottom" fmla="*/ 90360 h 90360"/>
            </a:gdLst>
            <a:ahLst/>
            <a:rect l="textAreaLeft" t="textAreaTop" r="textAreaRight" b="textAreaBottom"/>
            <a:pathLst>
              <a:path w="60" h="115">
                <a:moveTo>
                  <a:pt x="51" y="108"/>
                </a:moveTo>
                <a:lnTo>
                  <a:pt x="52" y="109"/>
                </a:lnTo>
                <a:lnTo>
                  <a:pt x="56" y="111"/>
                </a:lnTo>
                <a:lnTo>
                  <a:pt x="59" y="112"/>
                </a:lnTo>
                <a:lnTo>
                  <a:pt x="60" y="112"/>
                </a:lnTo>
                <a:lnTo>
                  <a:pt x="60" y="110"/>
                </a:lnTo>
                <a:lnTo>
                  <a:pt x="60" y="109"/>
                </a:lnTo>
                <a:lnTo>
                  <a:pt x="60" y="108"/>
                </a:lnTo>
                <a:lnTo>
                  <a:pt x="60" y="107"/>
                </a:lnTo>
                <a:lnTo>
                  <a:pt x="60" y="106"/>
                </a:lnTo>
                <a:lnTo>
                  <a:pt x="60" y="105"/>
                </a:lnTo>
                <a:lnTo>
                  <a:pt x="59" y="103"/>
                </a:lnTo>
                <a:lnTo>
                  <a:pt x="59" y="102"/>
                </a:lnTo>
                <a:lnTo>
                  <a:pt x="59" y="101"/>
                </a:lnTo>
                <a:lnTo>
                  <a:pt x="59" y="100"/>
                </a:lnTo>
                <a:lnTo>
                  <a:pt x="59" y="99"/>
                </a:lnTo>
                <a:lnTo>
                  <a:pt x="59" y="98"/>
                </a:lnTo>
                <a:lnTo>
                  <a:pt x="58" y="96"/>
                </a:lnTo>
                <a:lnTo>
                  <a:pt x="58" y="95"/>
                </a:lnTo>
                <a:lnTo>
                  <a:pt x="58" y="94"/>
                </a:lnTo>
                <a:lnTo>
                  <a:pt x="57" y="92"/>
                </a:lnTo>
                <a:lnTo>
                  <a:pt x="57" y="91"/>
                </a:lnTo>
                <a:lnTo>
                  <a:pt x="56" y="89"/>
                </a:lnTo>
                <a:lnTo>
                  <a:pt x="56" y="88"/>
                </a:lnTo>
                <a:lnTo>
                  <a:pt x="56" y="87"/>
                </a:lnTo>
                <a:lnTo>
                  <a:pt x="55" y="85"/>
                </a:lnTo>
                <a:lnTo>
                  <a:pt x="55" y="84"/>
                </a:lnTo>
                <a:lnTo>
                  <a:pt x="55" y="83"/>
                </a:lnTo>
                <a:lnTo>
                  <a:pt x="53" y="81"/>
                </a:lnTo>
                <a:lnTo>
                  <a:pt x="53" y="79"/>
                </a:lnTo>
                <a:lnTo>
                  <a:pt x="52" y="77"/>
                </a:lnTo>
                <a:lnTo>
                  <a:pt x="52" y="75"/>
                </a:lnTo>
                <a:lnTo>
                  <a:pt x="52" y="74"/>
                </a:lnTo>
                <a:lnTo>
                  <a:pt x="51" y="72"/>
                </a:lnTo>
                <a:lnTo>
                  <a:pt x="51" y="71"/>
                </a:lnTo>
                <a:lnTo>
                  <a:pt x="51" y="70"/>
                </a:lnTo>
                <a:lnTo>
                  <a:pt x="49" y="68"/>
                </a:lnTo>
                <a:lnTo>
                  <a:pt x="49" y="66"/>
                </a:lnTo>
                <a:lnTo>
                  <a:pt x="47" y="64"/>
                </a:lnTo>
                <a:lnTo>
                  <a:pt x="47" y="62"/>
                </a:lnTo>
                <a:lnTo>
                  <a:pt x="45" y="60"/>
                </a:lnTo>
                <a:lnTo>
                  <a:pt x="45" y="59"/>
                </a:lnTo>
                <a:lnTo>
                  <a:pt x="45" y="58"/>
                </a:lnTo>
                <a:lnTo>
                  <a:pt x="43" y="56"/>
                </a:lnTo>
                <a:lnTo>
                  <a:pt x="43" y="54"/>
                </a:lnTo>
                <a:lnTo>
                  <a:pt x="41" y="52"/>
                </a:lnTo>
                <a:lnTo>
                  <a:pt x="41" y="50"/>
                </a:lnTo>
                <a:lnTo>
                  <a:pt x="39" y="48"/>
                </a:lnTo>
                <a:lnTo>
                  <a:pt x="39" y="46"/>
                </a:lnTo>
                <a:lnTo>
                  <a:pt x="37" y="44"/>
                </a:lnTo>
                <a:lnTo>
                  <a:pt x="37" y="42"/>
                </a:lnTo>
                <a:lnTo>
                  <a:pt x="35" y="40"/>
                </a:lnTo>
                <a:lnTo>
                  <a:pt x="35" y="38"/>
                </a:lnTo>
                <a:lnTo>
                  <a:pt x="33" y="36"/>
                </a:lnTo>
                <a:lnTo>
                  <a:pt x="33" y="34"/>
                </a:lnTo>
                <a:lnTo>
                  <a:pt x="30" y="32"/>
                </a:lnTo>
                <a:lnTo>
                  <a:pt x="30" y="30"/>
                </a:lnTo>
                <a:lnTo>
                  <a:pt x="28" y="28"/>
                </a:lnTo>
                <a:lnTo>
                  <a:pt x="28" y="27"/>
                </a:lnTo>
                <a:lnTo>
                  <a:pt x="26" y="25"/>
                </a:lnTo>
                <a:lnTo>
                  <a:pt x="26" y="24"/>
                </a:lnTo>
                <a:lnTo>
                  <a:pt x="24" y="21"/>
                </a:lnTo>
                <a:lnTo>
                  <a:pt x="24" y="19"/>
                </a:lnTo>
                <a:lnTo>
                  <a:pt x="22" y="17"/>
                </a:lnTo>
                <a:lnTo>
                  <a:pt x="22" y="16"/>
                </a:lnTo>
                <a:lnTo>
                  <a:pt x="20" y="14"/>
                </a:lnTo>
                <a:lnTo>
                  <a:pt x="20" y="13"/>
                </a:lnTo>
                <a:lnTo>
                  <a:pt x="18" y="11"/>
                </a:lnTo>
                <a:lnTo>
                  <a:pt x="18" y="10"/>
                </a:lnTo>
                <a:lnTo>
                  <a:pt x="15" y="9"/>
                </a:lnTo>
                <a:lnTo>
                  <a:pt x="15" y="8"/>
                </a:lnTo>
                <a:lnTo>
                  <a:pt x="14" y="6"/>
                </a:lnTo>
                <a:lnTo>
                  <a:pt x="14" y="5"/>
                </a:lnTo>
                <a:lnTo>
                  <a:pt x="12" y="4"/>
                </a:lnTo>
                <a:lnTo>
                  <a:pt x="12" y="3"/>
                </a:lnTo>
                <a:lnTo>
                  <a:pt x="10" y="2"/>
                </a:lnTo>
                <a:lnTo>
                  <a:pt x="10" y="1"/>
                </a:lnTo>
                <a:lnTo>
                  <a:pt x="8" y="0"/>
                </a:lnTo>
                <a:lnTo>
                  <a:pt x="7" y="1"/>
                </a:lnTo>
                <a:lnTo>
                  <a:pt x="6" y="2"/>
                </a:lnTo>
                <a:lnTo>
                  <a:pt x="3" y="5"/>
                </a:lnTo>
                <a:lnTo>
                  <a:pt x="0" y="7"/>
                </a:lnTo>
                <a:lnTo>
                  <a:pt x="1" y="9"/>
                </a:lnTo>
                <a:lnTo>
                  <a:pt x="3" y="10"/>
                </a:lnTo>
                <a:lnTo>
                  <a:pt x="4" y="10"/>
                </a:lnTo>
                <a:lnTo>
                  <a:pt x="5" y="12"/>
                </a:lnTo>
                <a:lnTo>
                  <a:pt x="6" y="14"/>
                </a:lnTo>
                <a:lnTo>
                  <a:pt x="7" y="14"/>
                </a:lnTo>
                <a:lnTo>
                  <a:pt x="7" y="15"/>
                </a:lnTo>
                <a:lnTo>
                  <a:pt x="7" y="16"/>
                </a:lnTo>
                <a:lnTo>
                  <a:pt x="7" y="17"/>
                </a:lnTo>
                <a:lnTo>
                  <a:pt x="8" y="17"/>
                </a:lnTo>
                <a:lnTo>
                  <a:pt x="9" y="19"/>
                </a:lnTo>
                <a:lnTo>
                  <a:pt x="10" y="19"/>
                </a:lnTo>
                <a:lnTo>
                  <a:pt x="11" y="21"/>
                </a:lnTo>
                <a:lnTo>
                  <a:pt x="12" y="23"/>
                </a:lnTo>
                <a:lnTo>
                  <a:pt x="13" y="25"/>
                </a:lnTo>
                <a:lnTo>
                  <a:pt x="14" y="26"/>
                </a:lnTo>
                <a:lnTo>
                  <a:pt x="15" y="28"/>
                </a:lnTo>
                <a:lnTo>
                  <a:pt x="16" y="29"/>
                </a:lnTo>
                <a:lnTo>
                  <a:pt x="18" y="31"/>
                </a:lnTo>
                <a:lnTo>
                  <a:pt x="19" y="32"/>
                </a:lnTo>
                <a:lnTo>
                  <a:pt x="20" y="35"/>
                </a:lnTo>
                <a:lnTo>
                  <a:pt x="21" y="36"/>
                </a:lnTo>
                <a:lnTo>
                  <a:pt x="22" y="38"/>
                </a:lnTo>
                <a:lnTo>
                  <a:pt x="23" y="39"/>
                </a:lnTo>
                <a:lnTo>
                  <a:pt x="23" y="40"/>
                </a:lnTo>
                <a:lnTo>
                  <a:pt x="23" y="42"/>
                </a:lnTo>
                <a:lnTo>
                  <a:pt x="23" y="43"/>
                </a:lnTo>
                <a:lnTo>
                  <a:pt x="24" y="43"/>
                </a:lnTo>
                <a:lnTo>
                  <a:pt x="25" y="46"/>
                </a:lnTo>
                <a:lnTo>
                  <a:pt x="26" y="47"/>
                </a:lnTo>
                <a:lnTo>
                  <a:pt x="27" y="49"/>
                </a:lnTo>
                <a:lnTo>
                  <a:pt x="28" y="50"/>
                </a:lnTo>
                <a:lnTo>
                  <a:pt x="29" y="53"/>
                </a:lnTo>
                <a:lnTo>
                  <a:pt x="30" y="54"/>
                </a:lnTo>
                <a:lnTo>
                  <a:pt x="32" y="57"/>
                </a:lnTo>
                <a:lnTo>
                  <a:pt x="33" y="58"/>
                </a:lnTo>
                <a:lnTo>
                  <a:pt x="34" y="61"/>
                </a:lnTo>
                <a:lnTo>
                  <a:pt x="35" y="62"/>
                </a:lnTo>
                <a:lnTo>
                  <a:pt x="35" y="63"/>
                </a:lnTo>
                <a:lnTo>
                  <a:pt x="35" y="65"/>
                </a:lnTo>
                <a:lnTo>
                  <a:pt x="35" y="66"/>
                </a:lnTo>
                <a:lnTo>
                  <a:pt x="36" y="66"/>
                </a:lnTo>
                <a:lnTo>
                  <a:pt x="37" y="69"/>
                </a:lnTo>
                <a:lnTo>
                  <a:pt x="38" y="70"/>
                </a:lnTo>
                <a:lnTo>
                  <a:pt x="38" y="71"/>
                </a:lnTo>
                <a:lnTo>
                  <a:pt x="38" y="73"/>
                </a:lnTo>
                <a:lnTo>
                  <a:pt x="38" y="74"/>
                </a:lnTo>
                <a:lnTo>
                  <a:pt x="39" y="74"/>
                </a:lnTo>
                <a:lnTo>
                  <a:pt x="40" y="77"/>
                </a:lnTo>
                <a:lnTo>
                  <a:pt x="41" y="78"/>
                </a:lnTo>
                <a:lnTo>
                  <a:pt x="41" y="79"/>
                </a:lnTo>
                <a:lnTo>
                  <a:pt x="41" y="81"/>
                </a:lnTo>
                <a:lnTo>
                  <a:pt x="41" y="82"/>
                </a:lnTo>
                <a:lnTo>
                  <a:pt x="42" y="82"/>
                </a:lnTo>
                <a:lnTo>
                  <a:pt x="42" y="83"/>
                </a:lnTo>
                <a:lnTo>
                  <a:pt x="42" y="85"/>
                </a:lnTo>
                <a:lnTo>
                  <a:pt x="42" y="86"/>
                </a:lnTo>
                <a:lnTo>
                  <a:pt x="43" y="86"/>
                </a:lnTo>
                <a:lnTo>
                  <a:pt x="43" y="87"/>
                </a:lnTo>
                <a:lnTo>
                  <a:pt x="43" y="89"/>
                </a:lnTo>
                <a:lnTo>
                  <a:pt x="43" y="90"/>
                </a:lnTo>
                <a:lnTo>
                  <a:pt x="44" y="90"/>
                </a:lnTo>
                <a:lnTo>
                  <a:pt x="44" y="91"/>
                </a:lnTo>
                <a:lnTo>
                  <a:pt x="44" y="92"/>
                </a:lnTo>
                <a:lnTo>
                  <a:pt x="44" y="93"/>
                </a:lnTo>
                <a:lnTo>
                  <a:pt x="45" y="93"/>
                </a:lnTo>
                <a:lnTo>
                  <a:pt x="45" y="94"/>
                </a:lnTo>
                <a:lnTo>
                  <a:pt x="45" y="96"/>
                </a:lnTo>
                <a:lnTo>
                  <a:pt x="45" y="97"/>
                </a:lnTo>
                <a:lnTo>
                  <a:pt x="47" y="97"/>
                </a:lnTo>
                <a:lnTo>
                  <a:pt x="47" y="98"/>
                </a:lnTo>
                <a:lnTo>
                  <a:pt x="47" y="99"/>
                </a:lnTo>
                <a:lnTo>
                  <a:pt x="47" y="100"/>
                </a:lnTo>
                <a:lnTo>
                  <a:pt x="48" y="100"/>
                </a:lnTo>
                <a:lnTo>
                  <a:pt x="48" y="101"/>
                </a:lnTo>
                <a:lnTo>
                  <a:pt x="48" y="102"/>
                </a:lnTo>
                <a:lnTo>
                  <a:pt x="48" y="103"/>
                </a:lnTo>
                <a:lnTo>
                  <a:pt x="48" y="104"/>
                </a:lnTo>
                <a:lnTo>
                  <a:pt x="48" y="105"/>
                </a:lnTo>
                <a:lnTo>
                  <a:pt x="48" y="106"/>
                </a:lnTo>
                <a:lnTo>
                  <a:pt x="49" y="106"/>
                </a:lnTo>
                <a:lnTo>
                  <a:pt x="49" y="107"/>
                </a:lnTo>
                <a:lnTo>
                  <a:pt x="49" y="108"/>
                </a:lnTo>
                <a:lnTo>
                  <a:pt x="49" y="109"/>
                </a:lnTo>
                <a:lnTo>
                  <a:pt x="49" y="110"/>
                </a:lnTo>
                <a:lnTo>
                  <a:pt x="49" y="111"/>
                </a:lnTo>
                <a:lnTo>
                  <a:pt x="49" y="112"/>
                </a:lnTo>
                <a:lnTo>
                  <a:pt x="54" y="114"/>
                </a:lnTo>
                <a:lnTo>
                  <a:pt x="57" y="115"/>
                </a:lnTo>
                <a:lnTo>
                  <a:pt x="58" y="115"/>
                </a:lnTo>
                <a:lnTo>
                  <a:pt x="51" y="108"/>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71" name="Freeform 210"/>
          <p:cNvSpPr/>
          <p:nvPr/>
        </p:nvSpPr>
        <p:spPr>
          <a:xfrm>
            <a:off x="3549600" y="4976640"/>
            <a:ext cx="71640" cy="106560"/>
          </a:xfrm>
          <a:custGeom>
            <a:avLst/>
            <a:gdLst>
              <a:gd name="textAreaLeft" fmla="*/ 0 w 71640"/>
              <a:gd name="textAreaRight" fmla="*/ 72000 w 71640"/>
              <a:gd name="textAreaTop" fmla="*/ 0 h 106560"/>
              <a:gd name="textAreaBottom" fmla="*/ 106920 h 106560"/>
            </a:gdLst>
            <a:ahLst/>
            <a:rect l="textAreaLeft" t="textAreaTop" r="textAreaRight" b="textAreaBottom"/>
            <a:pathLst>
              <a:path w="90" h="134">
                <a:moveTo>
                  <a:pt x="90" y="2"/>
                </a:moveTo>
                <a:lnTo>
                  <a:pt x="89" y="2"/>
                </a:lnTo>
                <a:lnTo>
                  <a:pt x="86" y="2"/>
                </a:lnTo>
                <a:lnTo>
                  <a:pt x="83" y="2"/>
                </a:lnTo>
                <a:lnTo>
                  <a:pt x="82" y="3"/>
                </a:lnTo>
                <a:lnTo>
                  <a:pt x="78" y="5"/>
                </a:lnTo>
                <a:lnTo>
                  <a:pt x="76" y="6"/>
                </a:lnTo>
                <a:lnTo>
                  <a:pt x="75" y="7"/>
                </a:lnTo>
                <a:lnTo>
                  <a:pt x="72" y="9"/>
                </a:lnTo>
                <a:lnTo>
                  <a:pt x="70" y="10"/>
                </a:lnTo>
                <a:lnTo>
                  <a:pt x="68" y="11"/>
                </a:lnTo>
                <a:lnTo>
                  <a:pt x="65" y="13"/>
                </a:lnTo>
                <a:lnTo>
                  <a:pt x="63" y="14"/>
                </a:lnTo>
                <a:lnTo>
                  <a:pt x="62" y="15"/>
                </a:lnTo>
                <a:lnTo>
                  <a:pt x="59" y="17"/>
                </a:lnTo>
                <a:lnTo>
                  <a:pt x="58" y="18"/>
                </a:lnTo>
                <a:lnTo>
                  <a:pt x="57" y="19"/>
                </a:lnTo>
                <a:lnTo>
                  <a:pt x="55" y="20"/>
                </a:lnTo>
                <a:lnTo>
                  <a:pt x="53" y="21"/>
                </a:lnTo>
                <a:lnTo>
                  <a:pt x="52" y="22"/>
                </a:lnTo>
                <a:lnTo>
                  <a:pt x="50" y="24"/>
                </a:lnTo>
                <a:lnTo>
                  <a:pt x="49" y="25"/>
                </a:lnTo>
                <a:lnTo>
                  <a:pt x="48" y="26"/>
                </a:lnTo>
                <a:lnTo>
                  <a:pt x="47" y="28"/>
                </a:lnTo>
                <a:lnTo>
                  <a:pt x="46" y="29"/>
                </a:lnTo>
                <a:lnTo>
                  <a:pt x="45" y="30"/>
                </a:lnTo>
                <a:lnTo>
                  <a:pt x="44" y="31"/>
                </a:lnTo>
                <a:lnTo>
                  <a:pt x="43" y="32"/>
                </a:lnTo>
                <a:lnTo>
                  <a:pt x="42" y="33"/>
                </a:lnTo>
                <a:lnTo>
                  <a:pt x="41" y="35"/>
                </a:lnTo>
                <a:lnTo>
                  <a:pt x="41" y="36"/>
                </a:lnTo>
                <a:lnTo>
                  <a:pt x="39" y="37"/>
                </a:lnTo>
                <a:lnTo>
                  <a:pt x="38" y="39"/>
                </a:lnTo>
                <a:lnTo>
                  <a:pt x="38" y="40"/>
                </a:lnTo>
                <a:lnTo>
                  <a:pt x="37" y="43"/>
                </a:lnTo>
                <a:lnTo>
                  <a:pt x="37" y="44"/>
                </a:lnTo>
                <a:lnTo>
                  <a:pt x="36" y="47"/>
                </a:lnTo>
                <a:lnTo>
                  <a:pt x="36" y="48"/>
                </a:lnTo>
                <a:lnTo>
                  <a:pt x="35" y="50"/>
                </a:lnTo>
                <a:lnTo>
                  <a:pt x="35" y="51"/>
                </a:lnTo>
                <a:lnTo>
                  <a:pt x="34" y="54"/>
                </a:lnTo>
                <a:lnTo>
                  <a:pt x="34" y="55"/>
                </a:lnTo>
                <a:lnTo>
                  <a:pt x="33" y="57"/>
                </a:lnTo>
                <a:lnTo>
                  <a:pt x="33" y="58"/>
                </a:lnTo>
                <a:lnTo>
                  <a:pt x="33" y="59"/>
                </a:lnTo>
                <a:lnTo>
                  <a:pt x="33" y="60"/>
                </a:lnTo>
                <a:lnTo>
                  <a:pt x="33" y="61"/>
                </a:lnTo>
                <a:lnTo>
                  <a:pt x="33" y="62"/>
                </a:lnTo>
                <a:lnTo>
                  <a:pt x="33" y="64"/>
                </a:lnTo>
                <a:lnTo>
                  <a:pt x="33" y="65"/>
                </a:lnTo>
                <a:lnTo>
                  <a:pt x="32" y="67"/>
                </a:lnTo>
                <a:lnTo>
                  <a:pt x="32" y="68"/>
                </a:lnTo>
                <a:lnTo>
                  <a:pt x="32" y="69"/>
                </a:lnTo>
                <a:lnTo>
                  <a:pt x="32" y="70"/>
                </a:lnTo>
                <a:lnTo>
                  <a:pt x="32" y="71"/>
                </a:lnTo>
                <a:lnTo>
                  <a:pt x="31" y="74"/>
                </a:lnTo>
                <a:lnTo>
                  <a:pt x="31" y="75"/>
                </a:lnTo>
                <a:lnTo>
                  <a:pt x="31" y="76"/>
                </a:lnTo>
                <a:lnTo>
                  <a:pt x="31" y="77"/>
                </a:lnTo>
                <a:lnTo>
                  <a:pt x="31" y="78"/>
                </a:lnTo>
                <a:lnTo>
                  <a:pt x="30" y="81"/>
                </a:lnTo>
                <a:lnTo>
                  <a:pt x="30" y="82"/>
                </a:lnTo>
                <a:lnTo>
                  <a:pt x="29" y="84"/>
                </a:lnTo>
                <a:lnTo>
                  <a:pt x="29" y="85"/>
                </a:lnTo>
                <a:lnTo>
                  <a:pt x="28" y="86"/>
                </a:lnTo>
                <a:lnTo>
                  <a:pt x="27" y="88"/>
                </a:lnTo>
                <a:lnTo>
                  <a:pt x="27" y="89"/>
                </a:lnTo>
                <a:lnTo>
                  <a:pt x="26" y="92"/>
                </a:lnTo>
                <a:lnTo>
                  <a:pt x="26" y="93"/>
                </a:lnTo>
                <a:lnTo>
                  <a:pt x="24" y="94"/>
                </a:lnTo>
                <a:lnTo>
                  <a:pt x="23" y="97"/>
                </a:lnTo>
                <a:lnTo>
                  <a:pt x="23" y="98"/>
                </a:lnTo>
                <a:lnTo>
                  <a:pt x="22" y="99"/>
                </a:lnTo>
                <a:lnTo>
                  <a:pt x="21" y="101"/>
                </a:lnTo>
                <a:lnTo>
                  <a:pt x="21" y="102"/>
                </a:lnTo>
                <a:lnTo>
                  <a:pt x="20" y="103"/>
                </a:lnTo>
                <a:lnTo>
                  <a:pt x="19" y="105"/>
                </a:lnTo>
                <a:lnTo>
                  <a:pt x="18" y="106"/>
                </a:lnTo>
                <a:lnTo>
                  <a:pt x="17" y="107"/>
                </a:lnTo>
                <a:lnTo>
                  <a:pt x="15" y="110"/>
                </a:lnTo>
                <a:lnTo>
                  <a:pt x="14" y="111"/>
                </a:lnTo>
                <a:lnTo>
                  <a:pt x="13" y="112"/>
                </a:lnTo>
                <a:lnTo>
                  <a:pt x="11" y="115"/>
                </a:lnTo>
                <a:lnTo>
                  <a:pt x="9" y="116"/>
                </a:lnTo>
                <a:lnTo>
                  <a:pt x="8" y="117"/>
                </a:lnTo>
                <a:lnTo>
                  <a:pt x="6" y="120"/>
                </a:lnTo>
                <a:lnTo>
                  <a:pt x="5" y="121"/>
                </a:lnTo>
                <a:lnTo>
                  <a:pt x="4" y="122"/>
                </a:lnTo>
                <a:lnTo>
                  <a:pt x="1" y="125"/>
                </a:lnTo>
                <a:lnTo>
                  <a:pt x="0" y="127"/>
                </a:lnTo>
                <a:lnTo>
                  <a:pt x="1" y="129"/>
                </a:lnTo>
                <a:lnTo>
                  <a:pt x="4" y="132"/>
                </a:lnTo>
                <a:lnTo>
                  <a:pt x="6" y="134"/>
                </a:lnTo>
                <a:lnTo>
                  <a:pt x="7" y="134"/>
                </a:lnTo>
                <a:lnTo>
                  <a:pt x="11" y="131"/>
                </a:lnTo>
                <a:lnTo>
                  <a:pt x="13" y="130"/>
                </a:lnTo>
                <a:lnTo>
                  <a:pt x="14" y="129"/>
                </a:lnTo>
                <a:lnTo>
                  <a:pt x="17" y="126"/>
                </a:lnTo>
                <a:lnTo>
                  <a:pt x="18" y="124"/>
                </a:lnTo>
                <a:lnTo>
                  <a:pt x="19" y="123"/>
                </a:lnTo>
                <a:lnTo>
                  <a:pt x="21" y="120"/>
                </a:lnTo>
                <a:lnTo>
                  <a:pt x="22" y="119"/>
                </a:lnTo>
                <a:lnTo>
                  <a:pt x="23" y="118"/>
                </a:lnTo>
                <a:lnTo>
                  <a:pt x="26" y="115"/>
                </a:lnTo>
                <a:lnTo>
                  <a:pt x="27" y="114"/>
                </a:lnTo>
                <a:lnTo>
                  <a:pt x="28" y="113"/>
                </a:lnTo>
                <a:lnTo>
                  <a:pt x="29" y="110"/>
                </a:lnTo>
                <a:lnTo>
                  <a:pt x="30" y="109"/>
                </a:lnTo>
                <a:lnTo>
                  <a:pt x="31" y="108"/>
                </a:lnTo>
                <a:lnTo>
                  <a:pt x="32" y="105"/>
                </a:lnTo>
                <a:lnTo>
                  <a:pt x="33" y="104"/>
                </a:lnTo>
                <a:lnTo>
                  <a:pt x="34" y="103"/>
                </a:lnTo>
                <a:lnTo>
                  <a:pt x="35" y="100"/>
                </a:lnTo>
                <a:lnTo>
                  <a:pt x="35" y="99"/>
                </a:lnTo>
                <a:lnTo>
                  <a:pt x="36" y="98"/>
                </a:lnTo>
                <a:lnTo>
                  <a:pt x="37" y="96"/>
                </a:lnTo>
                <a:lnTo>
                  <a:pt x="38" y="93"/>
                </a:lnTo>
                <a:lnTo>
                  <a:pt x="38" y="91"/>
                </a:lnTo>
                <a:lnTo>
                  <a:pt x="38" y="90"/>
                </a:lnTo>
                <a:lnTo>
                  <a:pt x="39" y="89"/>
                </a:lnTo>
                <a:lnTo>
                  <a:pt x="39" y="86"/>
                </a:lnTo>
                <a:lnTo>
                  <a:pt x="39" y="85"/>
                </a:lnTo>
                <a:lnTo>
                  <a:pt x="41" y="84"/>
                </a:lnTo>
                <a:lnTo>
                  <a:pt x="41" y="82"/>
                </a:lnTo>
                <a:lnTo>
                  <a:pt x="41" y="81"/>
                </a:lnTo>
                <a:lnTo>
                  <a:pt x="42" y="80"/>
                </a:lnTo>
                <a:lnTo>
                  <a:pt x="42" y="79"/>
                </a:lnTo>
                <a:lnTo>
                  <a:pt x="42" y="78"/>
                </a:lnTo>
                <a:lnTo>
                  <a:pt x="43" y="77"/>
                </a:lnTo>
                <a:lnTo>
                  <a:pt x="43" y="75"/>
                </a:lnTo>
                <a:lnTo>
                  <a:pt x="43" y="74"/>
                </a:lnTo>
                <a:lnTo>
                  <a:pt x="44" y="73"/>
                </a:lnTo>
                <a:lnTo>
                  <a:pt x="44" y="71"/>
                </a:lnTo>
                <a:lnTo>
                  <a:pt x="44" y="70"/>
                </a:lnTo>
                <a:lnTo>
                  <a:pt x="44" y="69"/>
                </a:lnTo>
                <a:lnTo>
                  <a:pt x="44" y="68"/>
                </a:lnTo>
                <a:lnTo>
                  <a:pt x="44" y="67"/>
                </a:lnTo>
                <a:lnTo>
                  <a:pt x="44" y="66"/>
                </a:lnTo>
                <a:lnTo>
                  <a:pt x="44" y="65"/>
                </a:lnTo>
                <a:lnTo>
                  <a:pt x="44" y="64"/>
                </a:lnTo>
                <a:lnTo>
                  <a:pt x="45" y="63"/>
                </a:lnTo>
                <a:lnTo>
                  <a:pt x="45" y="62"/>
                </a:lnTo>
                <a:lnTo>
                  <a:pt x="45" y="61"/>
                </a:lnTo>
                <a:lnTo>
                  <a:pt x="45" y="60"/>
                </a:lnTo>
                <a:lnTo>
                  <a:pt x="45" y="59"/>
                </a:lnTo>
                <a:lnTo>
                  <a:pt x="45" y="58"/>
                </a:lnTo>
                <a:lnTo>
                  <a:pt x="46" y="57"/>
                </a:lnTo>
                <a:lnTo>
                  <a:pt x="46" y="56"/>
                </a:lnTo>
                <a:lnTo>
                  <a:pt x="46" y="55"/>
                </a:lnTo>
                <a:lnTo>
                  <a:pt x="46" y="54"/>
                </a:lnTo>
                <a:lnTo>
                  <a:pt x="46" y="53"/>
                </a:lnTo>
                <a:lnTo>
                  <a:pt x="46" y="52"/>
                </a:lnTo>
                <a:lnTo>
                  <a:pt x="47" y="51"/>
                </a:lnTo>
                <a:lnTo>
                  <a:pt x="47" y="50"/>
                </a:lnTo>
                <a:lnTo>
                  <a:pt x="47" y="49"/>
                </a:lnTo>
                <a:lnTo>
                  <a:pt x="48" y="48"/>
                </a:lnTo>
                <a:lnTo>
                  <a:pt x="48" y="47"/>
                </a:lnTo>
                <a:lnTo>
                  <a:pt x="48" y="46"/>
                </a:lnTo>
                <a:lnTo>
                  <a:pt x="49" y="45"/>
                </a:lnTo>
                <a:lnTo>
                  <a:pt x="50" y="44"/>
                </a:lnTo>
                <a:lnTo>
                  <a:pt x="51" y="43"/>
                </a:lnTo>
                <a:lnTo>
                  <a:pt x="51" y="42"/>
                </a:lnTo>
                <a:lnTo>
                  <a:pt x="51" y="40"/>
                </a:lnTo>
                <a:lnTo>
                  <a:pt x="52" y="39"/>
                </a:lnTo>
                <a:lnTo>
                  <a:pt x="53" y="38"/>
                </a:lnTo>
                <a:lnTo>
                  <a:pt x="55" y="37"/>
                </a:lnTo>
                <a:lnTo>
                  <a:pt x="56" y="36"/>
                </a:lnTo>
                <a:lnTo>
                  <a:pt x="57" y="35"/>
                </a:lnTo>
                <a:lnTo>
                  <a:pt x="58" y="33"/>
                </a:lnTo>
                <a:lnTo>
                  <a:pt x="60" y="31"/>
                </a:lnTo>
                <a:lnTo>
                  <a:pt x="61" y="30"/>
                </a:lnTo>
                <a:lnTo>
                  <a:pt x="62" y="29"/>
                </a:lnTo>
                <a:lnTo>
                  <a:pt x="63" y="28"/>
                </a:lnTo>
                <a:lnTo>
                  <a:pt x="64" y="27"/>
                </a:lnTo>
                <a:lnTo>
                  <a:pt x="65" y="26"/>
                </a:lnTo>
                <a:lnTo>
                  <a:pt x="68" y="25"/>
                </a:lnTo>
                <a:lnTo>
                  <a:pt x="70" y="24"/>
                </a:lnTo>
                <a:lnTo>
                  <a:pt x="71" y="23"/>
                </a:lnTo>
                <a:lnTo>
                  <a:pt x="74" y="21"/>
                </a:lnTo>
                <a:lnTo>
                  <a:pt x="75" y="20"/>
                </a:lnTo>
                <a:lnTo>
                  <a:pt x="76" y="19"/>
                </a:lnTo>
                <a:lnTo>
                  <a:pt x="79" y="17"/>
                </a:lnTo>
                <a:lnTo>
                  <a:pt x="81" y="16"/>
                </a:lnTo>
                <a:lnTo>
                  <a:pt x="82" y="15"/>
                </a:lnTo>
                <a:lnTo>
                  <a:pt x="86" y="13"/>
                </a:lnTo>
                <a:lnTo>
                  <a:pt x="88" y="12"/>
                </a:lnTo>
                <a:lnTo>
                  <a:pt x="89" y="11"/>
                </a:lnTo>
                <a:lnTo>
                  <a:pt x="88" y="11"/>
                </a:lnTo>
                <a:lnTo>
                  <a:pt x="85" y="11"/>
                </a:lnTo>
                <a:lnTo>
                  <a:pt x="82" y="11"/>
                </a:lnTo>
                <a:lnTo>
                  <a:pt x="83" y="10"/>
                </a:lnTo>
                <a:lnTo>
                  <a:pt x="87" y="6"/>
                </a:lnTo>
                <a:lnTo>
                  <a:pt x="89" y="3"/>
                </a:lnTo>
                <a:lnTo>
                  <a:pt x="90" y="2"/>
                </a:lnTo>
                <a:lnTo>
                  <a:pt x="88" y="1"/>
                </a:lnTo>
                <a:lnTo>
                  <a:pt x="87" y="0"/>
                </a:lnTo>
                <a:lnTo>
                  <a:pt x="86" y="1"/>
                </a:lnTo>
                <a:lnTo>
                  <a:pt x="85" y="2"/>
                </a:lnTo>
                <a:lnTo>
                  <a:pt x="83" y="2"/>
                </a:lnTo>
                <a:lnTo>
                  <a:pt x="90" y="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211"/>
          <p:cNvSpPr/>
          <p:nvPr/>
        </p:nvSpPr>
        <p:spPr>
          <a:xfrm>
            <a:off x="3614760" y="4978440"/>
            <a:ext cx="74520" cy="76320"/>
          </a:xfrm>
          <a:custGeom>
            <a:avLst/>
            <a:gdLst>
              <a:gd name="textAreaLeft" fmla="*/ 0 w 74520"/>
              <a:gd name="textAreaRight" fmla="*/ 74880 w 74520"/>
              <a:gd name="textAreaTop" fmla="*/ 0 h 76320"/>
              <a:gd name="textAreaBottom" fmla="*/ 76680 h 76320"/>
            </a:gdLst>
            <a:ahLst/>
            <a:rect l="textAreaLeft" t="textAreaTop" r="textAreaRight" b="textAreaBottom"/>
            <a:pathLst>
              <a:path w="94" h="96">
                <a:moveTo>
                  <a:pt x="94" y="86"/>
                </a:moveTo>
                <a:lnTo>
                  <a:pt x="94" y="86"/>
                </a:lnTo>
                <a:lnTo>
                  <a:pt x="92" y="85"/>
                </a:lnTo>
                <a:lnTo>
                  <a:pt x="90" y="84"/>
                </a:lnTo>
                <a:lnTo>
                  <a:pt x="88" y="83"/>
                </a:lnTo>
                <a:lnTo>
                  <a:pt x="88" y="82"/>
                </a:lnTo>
                <a:lnTo>
                  <a:pt x="87" y="82"/>
                </a:lnTo>
                <a:lnTo>
                  <a:pt x="86" y="82"/>
                </a:lnTo>
                <a:lnTo>
                  <a:pt x="85" y="82"/>
                </a:lnTo>
                <a:lnTo>
                  <a:pt x="85" y="81"/>
                </a:lnTo>
                <a:lnTo>
                  <a:pt x="83" y="80"/>
                </a:lnTo>
                <a:lnTo>
                  <a:pt x="83" y="79"/>
                </a:lnTo>
                <a:lnTo>
                  <a:pt x="81" y="78"/>
                </a:lnTo>
                <a:lnTo>
                  <a:pt x="80" y="77"/>
                </a:lnTo>
                <a:lnTo>
                  <a:pt x="78" y="75"/>
                </a:lnTo>
                <a:lnTo>
                  <a:pt x="78" y="74"/>
                </a:lnTo>
                <a:lnTo>
                  <a:pt x="75" y="73"/>
                </a:lnTo>
                <a:lnTo>
                  <a:pt x="75" y="72"/>
                </a:lnTo>
                <a:lnTo>
                  <a:pt x="73" y="71"/>
                </a:lnTo>
                <a:lnTo>
                  <a:pt x="72" y="70"/>
                </a:lnTo>
                <a:lnTo>
                  <a:pt x="70" y="68"/>
                </a:lnTo>
                <a:lnTo>
                  <a:pt x="70" y="67"/>
                </a:lnTo>
                <a:lnTo>
                  <a:pt x="68" y="65"/>
                </a:lnTo>
                <a:lnTo>
                  <a:pt x="68" y="64"/>
                </a:lnTo>
                <a:lnTo>
                  <a:pt x="66" y="63"/>
                </a:lnTo>
                <a:lnTo>
                  <a:pt x="66" y="62"/>
                </a:lnTo>
                <a:lnTo>
                  <a:pt x="64" y="61"/>
                </a:lnTo>
                <a:lnTo>
                  <a:pt x="63" y="60"/>
                </a:lnTo>
                <a:lnTo>
                  <a:pt x="63" y="59"/>
                </a:lnTo>
                <a:lnTo>
                  <a:pt x="60" y="57"/>
                </a:lnTo>
                <a:lnTo>
                  <a:pt x="60" y="56"/>
                </a:lnTo>
                <a:lnTo>
                  <a:pt x="58" y="54"/>
                </a:lnTo>
                <a:lnTo>
                  <a:pt x="58" y="53"/>
                </a:lnTo>
                <a:lnTo>
                  <a:pt x="56" y="51"/>
                </a:lnTo>
                <a:lnTo>
                  <a:pt x="56" y="50"/>
                </a:lnTo>
                <a:lnTo>
                  <a:pt x="54" y="48"/>
                </a:lnTo>
                <a:lnTo>
                  <a:pt x="54" y="47"/>
                </a:lnTo>
                <a:lnTo>
                  <a:pt x="52" y="46"/>
                </a:lnTo>
                <a:lnTo>
                  <a:pt x="51" y="45"/>
                </a:lnTo>
                <a:lnTo>
                  <a:pt x="51" y="44"/>
                </a:lnTo>
                <a:lnTo>
                  <a:pt x="49" y="42"/>
                </a:lnTo>
                <a:lnTo>
                  <a:pt x="49" y="41"/>
                </a:lnTo>
                <a:lnTo>
                  <a:pt x="46" y="38"/>
                </a:lnTo>
                <a:lnTo>
                  <a:pt x="46" y="37"/>
                </a:lnTo>
                <a:lnTo>
                  <a:pt x="44" y="36"/>
                </a:lnTo>
                <a:lnTo>
                  <a:pt x="43" y="35"/>
                </a:lnTo>
                <a:lnTo>
                  <a:pt x="43" y="34"/>
                </a:lnTo>
                <a:lnTo>
                  <a:pt x="41" y="32"/>
                </a:lnTo>
                <a:lnTo>
                  <a:pt x="41" y="31"/>
                </a:lnTo>
                <a:lnTo>
                  <a:pt x="39" y="29"/>
                </a:lnTo>
                <a:lnTo>
                  <a:pt x="39" y="28"/>
                </a:lnTo>
                <a:lnTo>
                  <a:pt x="37" y="26"/>
                </a:lnTo>
                <a:lnTo>
                  <a:pt x="36" y="25"/>
                </a:lnTo>
                <a:lnTo>
                  <a:pt x="36" y="24"/>
                </a:lnTo>
                <a:lnTo>
                  <a:pt x="34" y="22"/>
                </a:lnTo>
                <a:lnTo>
                  <a:pt x="34" y="21"/>
                </a:lnTo>
                <a:lnTo>
                  <a:pt x="31" y="20"/>
                </a:lnTo>
                <a:lnTo>
                  <a:pt x="30" y="19"/>
                </a:lnTo>
                <a:lnTo>
                  <a:pt x="28" y="18"/>
                </a:lnTo>
                <a:lnTo>
                  <a:pt x="27" y="17"/>
                </a:lnTo>
                <a:lnTo>
                  <a:pt x="27" y="16"/>
                </a:lnTo>
                <a:lnTo>
                  <a:pt x="25" y="15"/>
                </a:lnTo>
                <a:lnTo>
                  <a:pt x="24" y="14"/>
                </a:lnTo>
                <a:lnTo>
                  <a:pt x="24" y="13"/>
                </a:lnTo>
                <a:lnTo>
                  <a:pt x="22" y="12"/>
                </a:lnTo>
                <a:lnTo>
                  <a:pt x="21" y="11"/>
                </a:lnTo>
                <a:lnTo>
                  <a:pt x="21" y="10"/>
                </a:lnTo>
                <a:lnTo>
                  <a:pt x="19" y="9"/>
                </a:lnTo>
                <a:lnTo>
                  <a:pt x="18" y="8"/>
                </a:lnTo>
                <a:lnTo>
                  <a:pt x="18" y="7"/>
                </a:lnTo>
                <a:lnTo>
                  <a:pt x="15" y="6"/>
                </a:lnTo>
                <a:lnTo>
                  <a:pt x="14" y="5"/>
                </a:lnTo>
                <a:lnTo>
                  <a:pt x="12" y="4"/>
                </a:lnTo>
                <a:lnTo>
                  <a:pt x="11" y="3"/>
                </a:lnTo>
                <a:lnTo>
                  <a:pt x="11" y="2"/>
                </a:lnTo>
                <a:lnTo>
                  <a:pt x="9" y="1"/>
                </a:lnTo>
                <a:lnTo>
                  <a:pt x="8" y="0"/>
                </a:lnTo>
                <a:lnTo>
                  <a:pt x="7" y="1"/>
                </a:lnTo>
                <a:lnTo>
                  <a:pt x="6" y="2"/>
                </a:lnTo>
                <a:lnTo>
                  <a:pt x="3" y="6"/>
                </a:lnTo>
                <a:lnTo>
                  <a:pt x="0" y="9"/>
                </a:lnTo>
                <a:lnTo>
                  <a:pt x="3" y="11"/>
                </a:lnTo>
                <a:lnTo>
                  <a:pt x="5" y="11"/>
                </a:lnTo>
                <a:lnTo>
                  <a:pt x="6" y="13"/>
                </a:lnTo>
                <a:lnTo>
                  <a:pt x="7" y="13"/>
                </a:lnTo>
                <a:lnTo>
                  <a:pt x="8" y="15"/>
                </a:lnTo>
                <a:lnTo>
                  <a:pt x="9" y="16"/>
                </a:lnTo>
                <a:lnTo>
                  <a:pt x="10" y="16"/>
                </a:lnTo>
                <a:lnTo>
                  <a:pt x="12" y="18"/>
                </a:lnTo>
                <a:lnTo>
                  <a:pt x="13" y="18"/>
                </a:lnTo>
                <a:lnTo>
                  <a:pt x="14" y="20"/>
                </a:lnTo>
                <a:lnTo>
                  <a:pt x="15" y="21"/>
                </a:lnTo>
                <a:lnTo>
                  <a:pt x="16" y="21"/>
                </a:lnTo>
                <a:lnTo>
                  <a:pt x="18" y="23"/>
                </a:lnTo>
                <a:lnTo>
                  <a:pt x="19" y="23"/>
                </a:lnTo>
                <a:lnTo>
                  <a:pt x="20" y="25"/>
                </a:lnTo>
                <a:lnTo>
                  <a:pt x="21" y="26"/>
                </a:lnTo>
                <a:lnTo>
                  <a:pt x="22" y="26"/>
                </a:lnTo>
                <a:lnTo>
                  <a:pt x="23" y="28"/>
                </a:lnTo>
                <a:lnTo>
                  <a:pt x="24" y="29"/>
                </a:lnTo>
                <a:lnTo>
                  <a:pt x="25" y="31"/>
                </a:lnTo>
                <a:lnTo>
                  <a:pt x="26" y="32"/>
                </a:lnTo>
                <a:lnTo>
                  <a:pt x="27" y="32"/>
                </a:lnTo>
                <a:lnTo>
                  <a:pt x="28" y="34"/>
                </a:lnTo>
                <a:lnTo>
                  <a:pt x="29" y="34"/>
                </a:lnTo>
                <a:lnTo>
                  <a:pt x="30" y="36"/>
                </a:lnTo>
                <a:lnTo>
                  <a:pt x="31" y="37"/>
                </a:lnTo>
                <a:lnTo>
                  <a:pt x="33" y="40"/>
                </a:lnTo>
                <a:lnTo>
                  <a:pt x="34" y="41"/>
                </a:lnTo>
                <a:lnTo>
                  <a:pt x="35" y="41"/>
                </a:lnTo>
                <a:lnTo>
                  <a:pt x="36" y="43"/>
                </a:lnTo>
                <a:lnTo>
                  <a:pt x="37" y="44"/>
                </a:lnTo>
                <a:lnTo>
                  <a:pt x="38" y="46"/>
                </a:lnTo>
                <a:lnTo>
                  <a:pt x="39" y="47"/>
                </a:lnTo>
                <a:lnTo>
                  <a:pt x="40" y="49"/>
                </a:lnTo>
                <a:lnTo>
                  <a:pt x="41" y="50"/>
                </a:lnTo>
                <a:lnTo>
                  <a:pt x="42" y="52"/>
                </a:lnTo>
                <a:lnTo>
                  <a:pt x="43" y="53"/>
                </a:lnTo>
                <a:lnTo>
                  <a:pt x="44" y="53"/>
                </a:lnTo>
                <a:lnTo>
                  <a:pt x="45" y="56"/>
                </a:lnTo>
                <a:lnTo>
                  <a:pt x="46" y="57"/>
                </a:lnTo>
                <a:lnTo>
                  <a:pt x="48" y="59"/>
                </a:lnTo>
                <a:lnTo>
                  <a:pt x="49" y="60"/>
                </a:lnTo>
                <a:lnTo>
                  <a:pt x="50" y="62"/>
                </a:lnTo>
                <a:lnTo>
                  <a:pt x="51" y="63"/>
                </a:lnTo>
                <a:lnTo>
                  <a:pt x="52" y="65"/>
                </a:lnTo>
                <a:lnTo>
                  <a:pt x="53" y="66"/>
                </a:lnTo>
                <a:lnTo>
                  <a:pt x="54" y="66"/>
                </a:lnTo>
                <a:lnTo>
                  <a:pt x="55" y="68"/>
                </a:lnTo>
                <a:lnTo>
                  <a:pt x="56" y="68"/>
                </a:lnTo>
                <a:lnTo>
                  <a:pt x="57" y="70"/>
                </a:lnTo>
                <a:lnTo>
                  <a:pt x="58" y="71"/>
                </a:lnTo>
                <a:lnTo>
                  <a:pt x="59" y="73"/>
                </a:lnTo>
                <a:lnTo>
                  <a:pt x="60" y="74"/>
                </a:lnTo>
                <a:lnTo>
                  <a:pt x="62" y="74"/>
                </a:lnTo>
                <a:lnTo>
                  <a:pt x="63" y="76"/>
                </a:lnTo>
                <a:lnTo>
                  <a:pt x="64" y="77"/>
                </a:lnTo>
                <a:lnTo>
                  <a:pt x="65" y="79"/>
                </a:lnTo>
                <a:lnTo>
                  <a:pt x="66" y="80"/>
                </a:lnTo>
                <a:lnTo>
                  <a:pt x="67" y="80"/>
                </a:lnTo>
                <a:lnTo>
                  <a:pt x="68" y="82"/>
                </a:lnTo>
                <a:lnTo>
                  <a:pt x="69" y="82"/>
                </a:lnTo>
                <a:lnTo>
                  <a:pt x="70" y="84"/>
                </a:lnTo>
                <a:lnTo>
                  <a:pt x="71" y="85"/>
                </a:lnTo>
                <a:lnTo>
                  <a:pt x="72" y="85"/>
                </a:lnTo>
                <a:lnTo>
                  <a:pt x="74" y="87"/>
                </a:lnTo>
                <a:lnTo>
                  <a:pt x="75" y="87"/>
                </a:lnTo>
                <a:lnTo>
                  <a:pt x="78" y="89"/>
                </a:lnTo>
                <a:lnTo>
                  <a:pt x="79" y="89"/>
                </a:lnTo>
                <a:lnTo>
                  <a:pt x="80" y="91"/>
                </a:lnTo>
                <a:lnTo>
                  <a:pt x="81" y="92"/>
                </a:lnTo>
                <a:lnTo>
                  <a:pt x="82" y="92"/>
                </a:lnTo>
                <a:lnTo>
                  <a:pt x="84" y="95"/>
                </a:lnTo>
                <a:lnTo>
                  <a:pt x="85" y="95"/>
                </a:lnTo>
                <a:lnTo>
                  <a:pt x="87" y="96"/>
                </a:lnTo>
                <a:lnTo>
                  <a:pt x="88" y="96"/>
                </a:lnTo>
                <a:lnTo>
                  <a:pt x="94" y="86"/>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73" name="Freeform 212"/>
          <p:cNvSpPr/>
          <p:nvPr/>
        </p:nvSpPr>
        <p:spPr>
          <a:xfrm>
            <a:off x="3684600" y="5046840"/>
            <a:ext cx="33480" cy="98280"/>
          </a:xfrm>
          <a:custGeom>
            <a:avLst/>
            <a:gdLst>
              <a:gd name="textAreaLeft" fmla="*/ 0 w 33480"/>
              <a:gd name="textAreaRight" fmla="*/ 33480 w 33480"/>
              <a:gd name="textAreaTop" fmla="*/ 0 h 98280"/>
              <a:gd name="textAreaBottom" fmla="*/ 98640 h 98280"/>
            </a:gdLst>
            <a:ahLst/>
            <a:rect l="textAreaLeft" t="textAreaTop" r="textAreaRight" b="textAreaBottom"/>
            <a:pathLst>
              <a:path w="41" h="125">
                <a:moveTo>
                  <a:pt x="39" y="125"/>
                </a:moveTo>
                <a:lnTo>
                  <a:pt x="39" y="125"/>
                </a:lnTo>
                <a:lnTo>
                  <a:pt x="39" y="124"/>
                </a:lnTo>
                <a:lnTo>
                  <a:pt x="39" y="123"/>
                </a:lnTo>
                <a:lnTo>
                  <a:pt x="39" y="122"/>
                </a:lnTo>
                <a:lnTo>
                  <a:pt x="39" y="121"/>
                </a:lnTo>
                <a:lnTo>
                  <a:pt x="39" y="120"/>
                </a:lnTo>
                <a:lnTo>
                  <a:pt x="40" y="119"/>
                </a:lnTo>
                <a:lnTo>
                  <a:pt x="40" y="117"/>
                </a:lnTo>
                <a:lnTo>
                  <a:pt x="40" y="115"/>
                </a:lnTo>
                <a:lnTo>
                  <a:pt x="40" y="114"/>
                </a:lnTo>
                <a:lnTo>
                  <a:pt x="40" y="112"/>
                </a:lnTo>
                <a:lnTo>
                  <a:pt x="40" y="111"/>
                </a:lnTo>
                <a:lnTo>
                  <a:pt x="40" y="110"/>
                </a:lnTo>
                <a:lnTo>
                  <a:pt x="40" y="109"/>
                </a:lnTo>
                <a:lnTo>
                  <a:pt x="40" y="108"/>
                </a:lnTo>
                <a:lnTo>
                  <a:pt x="40" y="107"/>
                </a:lnTo>
                <a:lnTo>
                  <a:pt x="40" y="105"/>
                </a:lnTo>
                <a:lnTo>
                  <a:pt x="40" y="104"/>
                </a:lnTo>
                <a:lnTo>
                  <a:pt x="41" y="103"/>
                </a:lnTo>
                <a:lnTo>
                  <a:pt x="41" y="100"/>
                </a:lnTo>
                <a:lnTo>
                  <a:pt x="41" y="99"/>
                </a:lnTo>
                <a:lnTo>
                  <a:pt x="41" y="98"/>
                </a:lnTo>
                <a:lnTo>
                  <a:pt x="41" y="96"/>
                </a:lnTo>
                <a:lnTo>
                  <a:pt x="41" y="95"/>
                </a:lnTo>
                <a:lnTo>
                  <a:pt x="41" y="94"/>
                </a:lnTo>
                <a:lnTo>
                  <a:pt x="41" y="92"/>
                </a:lnTo>
                <a:lnTo>
                  <a:pt x="41" y="91"/>
                </a:lnTo>
                <a:lnTo>
                  <a:pt x="41" y="90"/>
                </a:lnTo>
                <a:lnTo>
                  <a:pt x="41" y="88"/>
                </a:lnTo>
                <a:lnTo>
                  <a:pt x="41" y="87"/>
                </a:lnTo>
                <a:lnTo>
                  <a:pt x="41" y="86"/>
                </a:lnTo>
                <a:lnTo>
                  <a:pt x="41" y="83"/>
                </a:lnTo>
                <a:lnTo>
                  <a:pt x="41" y="82"/>
                </a:lnTo>
                <a:lnTo>
                  <a:pt x="41" y="81"/>
                </a:lnTo>
                <a:lnTo>
                  <a:pt x="40" y="79"/>
                </a:lnTo>
                <a:lnTo>
                  <a:pt x="40" y="78"/>
                </a:lnTo>
                <a:lnTo>
                  <a:pt x="40" y="77"/>
                </a:lnTo>
                <a:lnTo>
                  <a:pt x="40" y="74"/>
                </a:lnTo>
                <a:lnTo>
                  <a:pt x="40" y="73"/>
                </a:lnTo>
                <a:lnTo>
                  <a:pt x="40" y="72"/>
                </a:lnTo>
                <a:lnTo>
                  <a:pt x="40" y="70"/>
                </a:lnTo>
                <a:lnTo>
                  <a:pt x="40" y="69"/>
                </a:lnTo>
                <a:lnTo>
                  <a:pt x="40" y="68"/>
                </a:lnTo>
                <a:lnTo>
                  <a:pt x="39" y="65"/>
                </a:lnTo>
                <a:lnTo>
                  <a:pt x="39" y="64"/>
                </a:lnTo>
                <a:lnTo>
                  <a:pt x="39" y="63"/>
                </a:lnTo>
                <a:lnTo>
                  <a:pt x="38" y="60"/>
                </a:lnTo>
                <a:lnTo>
                  <a:pt x="38" y="59"/>
                </a:lnTo>
                <a:lnTo>
                  <a:pt x="38" y="58"/>
                </a:lnTo>
                <a:lnTo>
                  <a:pt x="38" y="55"/>
                </a:lnTo>
                <a:lnTo>
                  <a:pt x="38" y="54"/>
                </a:lnTo>
                <a:lnTo>
                  <a:pt x="38" y="53"/>
                </a:lnTo>
                <a:lnTo>
                  <a:pt x="37" y="51"/>
                </a:lnTo>
                <a:lnTo>
                  <a:pt x="37" y="50"/>
                </a:lnTo>
                <a:lnTo>
                  <a:pt x="37" y="49"/>
                </a:lnTo>
                <a:lnTo>
                  <a:pt x="36" y="47"/>
                </a:lnTo>
                <a:lnTo>
                  <a:pt x="36" y="46"/>
                </a:lnTo>
                <a:lnTo>
                  <a:pt x="36" y="45"/>
                </a:lnTo>
                <a:lnTo>
                  <a:pt x="35" y="43"/>
                </a:lnTo>
                <a:lnTo>
                  <a:pt x="35" y="42"/>
                </a:lnTo>
                <a:lnTo>
                  <a:pt x="35" y="41"/>
                </a:lnTo>
                <a:lnTo>
                  <a:pt x="34" y="38"/>
                </a:lnTo>
                <a:lnTo>
                  <a:pt x="34" y="37"/>
                </a:lnTo>
                <a:lnTo>
                  <a:pt x="34" y="36"/>
                </a:lnTo>
                <a:lnTo>
                  <a:pt x="31" y="34"/>
                </a:lnTo>
                <a:lnTo>
                  <a:pt x="31" y="32"/>
                </a:lnTo>
                <a:lnTo>
                  <a:pt x="30" y="30"/>
                </a:lnTo>
                <a:lnTo>
                  <a:pt x="30" y="29"/>
                </a:lnTo>
                <a:lnTo>
                  <a:pt x="30" y="28"/>
                </a:lnTo>
                <a:lnTo>
                  <a:pt x="28" y="26"/>
                </a:lnTo>
                <a:lnTo>
                  <a:pt x="28" y="25"/>
                </a:lnTo>
                <a:lnTo>
                  <a:pt x="26" y="23"/>
                </a:lnTo>
                <a:lnTo>
                  <a:pt x="26" y="21"/>
                </a:lnTo>
                <a:lnTo>
                  <a:pt x="24" y="19"/>
                </a:lnTo>
                <a:lnTo>
                  <a:pt x="24" y="17"/>
                </a:lnTo>
                <a:lnTo>
                  <a:pt x="22" y="15"/>
                </a:lnTo>
                <a:lnTo>
                  <a:pt x="22" y="14"/>
                </a:lnTo>
                <a:lnTo>
                  <a:pt x="20" y="13"/>
                </a:lnTo>
                <a:lnTo>
                  <a:pt x="19" y="12"/>
                </a:lnTo>
                <a:lnTo>
                  <a:pt x="19" y="11"/>
                </a:lnTo>
                <a:lnTo>
                  <a:pt x="16" y="9"/>
                </a:lnTo>
                <a:lnTo>
                  <a:pt x="16" y="8"/>
                </a:lnTo>
                <a:lnTo>
                  <a:pt x="14" y="6"/>
                </a:lnTo>
                <a:lnTo>
                  <a:pt x="13" y="5"/>
                </a:lnTo>
                <a:lnTo>
                  <a:pt x="13" y="4"/>
                </a:lnTo>
                <a:lnTo>
                  <a:pt x="11" y="3"/>
                </a:lnTo>
                <a:lnTo>
                  <a:pt x="10" y="2"/>
                </a:lnTo>
                <a:lnTo>
                  <a:pt x="7" y="1"/>
                </a:lnTo>
                <a:lnTo>
                  <a:pt x="6" y="0"/>
                </a:lnTo>
                <a:lnTo>
                  <a:pt x="5" y="1"/>
                </a:lnTo>
                <a:lnTo>
                  <a:pt x="1" y="6"/>
                </a:lnTo>
                <a:lnTo>
                  <a:pt x="0" y="10"/>
                </a:lnTo>
                <a:lnTo>
                  <a:pt x="1" y="12"/>
                </a:lnTo>
                <a:lnTo>
                  <a:pt x="2" y="12"/>
                </a:lnTo>
                <a:lnTo>
                  <a:pt x="5" y="14"/>
                </a:lnTo>
                <a:lnTo>
                  <a:pt x="6" y="14"/>
                </a:lnTo>
                <a:lnTo>
                  <a:pt x="7" y="16"/>
                </a:lnTo>
                <a:lnTo>
                  <a:pt x="8" y="16"/>
                </a:lnTo>
                <a:lnTo>
                  <a:pt x="9" y="18"/>
                </a:lnTo>
                <a:lnTo>
                  <a:pt x="10" y="18"/>
                </a:lnTo>
                <a:lnTo>
                  <a:pt x="11" y="20"/>
                </a:lnTo>
                <a:lnTo>
                  <a:pt x="12" y="20"/>
                </a:lnTo>
                <a:lnTo>
                  <a:pt x="13" y="22"/>
                </a:lnTo>
                <a:lnTo>
                  <a:pt x="14" y="23"/>
                </a:lnTo>
                <a:lnTo>
                  <a:pt x="14" y="24"/>
                </a:lnTo>
                <a:lnTo>
                  <a:pt x="14" y="25"/>
                </a:lnTo>
                <a:lnTo>
                  <a:pt x="14" y="26"/>
                </a:lnTo>
                <a:lnTo>
                  <a:pt x="15" y="26"/>
                </a:lnTo>
                <a:lnTo>
                  <a:pt x="16" y="28"/>
                </a:lnTo>
                <a:lnTo>
                  <a:pt x="17" y="29"/>
                </a:lnTo>
                <a:lnTo>
                  <a:pt x="17" y="30"/>
                </a:lnTo>
                <a:lnTo>
                  <a:pt x="17" y="32"/>
                </a:lnTo>
                <a:lnTo>
                  <a:pt x="17" y="33"/>
                </a:lnTo>
                <a:lnTo>
                  <a:pt x="19" y="33"/>
                </a:lnTo>
                <a:lnTo>
                  <a:pt x="20" y="35"/>
                </a:lnTo>
                <a:lnTo>
                  <a:pt x="21" y="36"/>
                </a:lnTo>
                <a:lnTo>
                  <a:pt x="21" y="37"/>
                </a:lnTo>
                <a:lnTo>
                  <a:pt x="21" y="39"/>
                </a:lnTo>
                <a:lnTo>
                  <a:pt x="21" y="40"/>
                </a:lnTo>
                <a:lnTo>
                  <a:pt x="22" y="40"/>
                </a:lnTo>
                <a:lnTo>
                  <a:pt x="22" y="41"/>
                </a:lnTo>
                <a:lnTo>
                  <a:pt x="22" y="42"/>
                </a:lnTo>
                <a:lnTo>
                  <a:pt x="22" y="43"/>
                </a:lnTo>
                <a:lnTo>
                  <a:pt x="23" y="43"/>
                </a:lnTo>
                <a:lnTo>
                  <a:pt x="23" y="44"/>
                </a:lnTo>
                <a:lnTo>
                  <a:pt x="23" y="46"/>
                </a:lnTo>
                <a:lnTo>
                  <a:pt x="23" y="47"/>
                </a:lnTo>
                <a:lnTo>
                  <a:pt x="24" y="47"/>
                </a:lnTo>
                <a:lnTo>
                  <a:pt x="24" y="48"/>
                </a:lnTo>
                <a:lnTo>
                  <a:pt x="24" y="50"/>
                </a:lnTo>
                <a:lnTo>
                  <a:pt x="24" y="51"/>
                </a:lnTo>
                <a:lnTo>
                  <a:pt x="25" y="51"/>
                </a:lnTo>
                <a:lnTo>
                  <a:pt x="25" y="52"/>
                </a:lnTo>
                <a:lnTo>
                  <a:pt x="25" y="54"/>
                </a:lnTo>
                <a:lnTo>
                  <a:pt x="25" y="55"/>
                </a:lnTo>
                <a:lnTo>
                  <a:pt x="26" y="55"/>
                </a:lnTo>
                <a:lnTo>
                  <a:pt x="26" y="56"/>
                </a:lnTo>
                <a:lnTo>
                  <a:pt x="26" y="59"/>
                </a:lnTo>
                <a:lnTo>
                  <a:pt x="26" y="60"/>
                </a:lnTo>
                <a:lnTo>
                  <a:pt x="27" y="60"/>
                </a:lnTo>
                <a:lnTo>
                  <a:pt x="27" y="61"/>
                </a:lnTo>
                <a:lnTo>
                  <a:pt x="27" y="64"/>
                </a:lnTo>
                <a:lnTo>
                  <a:pt x="27" y="65"/>
                </a:lnTo>
                <a:lnTo>
                  <a:pt x="27" y="66"/>
                </a:lnTo>
                <a:lnTo>
                  <a:pt x="27" y="68"/>
                </a:lnTo>
                <a:lnTo>
                  <a:pt x="27" y="69"/>
                </a:lnTo>
                <a:lnTo>
                  <a:pt x="28" y="69"/>
                </a:lnTo>
                <a:lnTo>
                  <a:pt x="28" y="70"/>
                </a:lnTo>
                <a:lnTo>
                  <a:pt x="28" y="72"/>
                </a:lnTo>
                <a:lnTo>
                  <a:pt x="28" y="73"/>
                </a:lnTo>
                <a:lnTo>
                  <a:pt x="28" y="74"/>
                </a:lnTo>
                <a:lnTo>
                  <a:pt x="28" y="77"/>
                </a:lnTo>
                <a:lnTo>
                  <a:pt x="28" y="78"/>
                </a:lnTo>
                <a:lnTo>
                  <a:pt x="28" y="79"/>
                </a:lnTo>
                <a:lnTo>
                  <a:pt x="28" y="81"/>
                </a:lnTo>
                <a:lnTo>
                  <a:pt x="28" y="82"/>
                </a:lnTo>
                <a:lnTo>
                  <a:pt x="29" y="82"/>
                </a:lnTo>
                <a:lnTo>
                  <a:pt x="29" y="83"/>
                </a:lnTo>
                <a:lnTo>
                  <a:pt x="29" y="85"/>
                </a:lnTo>
                <a:lnTo>
                  <a:pt x="29" y="86"/>
                </a:lnTo>
                <a:lnTo>
                  <a:pt x="29" y="87"/>
                </a:lnTo>
                <a:lnTo>
                  <a:pt x="29" y="89"/>
                </a:lnTo>
                <a:lnTo>
                  <a:pt x="29" y="90"/>
                </a:lnTo>
                <a:lnTo>
                  <a:pt x="29" y="91"/>
                </a:lnTo>
                <a:lnTo>
                  <a:pt x="29" y="93"/>
                </a:lnTo>
                <a:lnTo>
                  <a:pt x="29" y="94"/>
                </a:lnTo>
                <a:lnTo>
                  <a:pt x="29" y="95"/>
                </a:lnTo>
                <a:lnTo>
                  <a:pt x="29" y="97"/>
                </a:lnTo>
                <a:lnTo>
                  <a:pt x="29" y="98"/>
                </a:lnTo>
                <a:lnTo>
                  <a:pt x="29" y="99"/>
                </a:lnTo>
                <a:lnTo>
                  <a:pt x="29" y="101"/>
                </a:lnTo>
                <a:lnTo>
                  <a:pt x="29" y="102"/>
                </a:lnTo>
                <a:lnTo>
                  <a:pt x="28" y="105"/>
                </a:lnTo>
                <a:lnTo>
                  <a:pt x="28" y="106"/>
                </a:lnTo>
                <a:lnTo>
                  <a:pt x="28" y="107"/>
                </a:lnTo>
                <a:lnTo>
                  <a:pt x="28" y="109"/>
                </a:lnTo>
                <a:lnTo>
                  <a:pt x="28" y="110"/>
                </a:lnTo>
                <a:lnTo>
                  <a:pt x="28" y="111"/>
                </a:lnTo>
                <a:lnTo>
                  <a:pt x="28" y="112"/>
                </a:lnTo>
                <a:lnTo>
                  <a:pt x="28" y="113"/>
                </a:lnTo>
                <a:lnTo>
                  <a:pt x="28" y="114"/>
                </a:lnTo>
                <a:lnTo>
                  <a:pt x="28" y="117"/>
                </a:lnTo>
                <a:lnTo>
                  <a:pt x="28" y="118"/>
                </a:lnTo>
                <a:lnTo>
                  <a:pt x="27" y="120"/>
                </a:lnTo>
                <a:lnTo>
                  <a:pt x="27" y="121"/>
                </a:lnTo>
                <a:lnTo>
                  <a:pt x="27" y="122"/>
                </a:lnTo>
                <a:lnTo>
                  <a:pt x="27" y="123"/>
                </a:lnTo>
                <a:lnTo>
                  <a:pt x="27" y="124"/>
                </a:lnTo>
                <a:lnTo>
                  <a:pt x="39" y="12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213"/>
          <p:cNvSpPr/>
          <p:nvPr/>
        </p:nvSpPr>
        <p:spPr>
          <a:xfrm>
            <a:off x="3706920" y="51451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92" h="92">
                <a:moveTo>
                  <a:pt x="92" y="91"/>
                </a:moveTo>
                <a:lnTo>
                  <a:pt x="92" y="91"/>
                </a:lnTo>
                <a:lnTo>
                  <a:pt x="91" y="89"/>
                </a:lnTo>
                <a:lnTo>
                  <a:pt x="91" y="88"/>
                </a:lnTo>
                <a:lnTo>
                  <a:pt x="91" y="87"/>
                </a:lnTo>
                <a:lnTo>
                  <a:pt x="90" y="85"/>
                </a:lnTo>
                <a:lnTo>
                  <a:pt x="90" y="84"/>
                </a:lnTo>
                <a:lnTo>
                  <a:pt x="90" y="83"/>
                </a:lnTo>
                <a:lnTo>
                  <a:pt x="88" y="81"/>
                </a:lnTo>
                <a:lnTo>
                  <a:pt x="88" y="80"/>
                </a:lnTo>
                <a:lnTo>
                  <a:pt x="86" y="78"/>
                </a:lnTo>
                <a:lnTo>
                  <a:pt x="86" y="76"/>
                </a:lnTo>
                <a:lnTo>
                  <a:pt x="84" y="74"/>
                </a:lnTo>
                <a:lnTo>
                  <a:pt x="84" y="73"/>
                </a:lnTo>
                <a:lnTo>
                  <a:pt x="82" y="72"/>
                </a:lnTo>
                <a:lnTo>
                  <a:pt x="81" y="71"/>
                </a:lnTo>
                <a:lnTo>
                  <a:pt x="81" y="70"/>
                </a:lnTo>
                <a:lnTo>
                  <a:pt x="78" y="69"/>
                </a:lnTo>
                <a:lnTo>
                  <a:pt x="77" y="68"/>
                </a:lnTo>
                <a:lnTo>
                  <a:pt x="77" y="67"/>
                </a:lnTo>
                <a:lnTo>
                  <a:pt x="75" y="65"/>
                </a:lnTo>
                <a:lnTo>
                  <a:pt x="75" y="64"/>
                </a:lnTo>
                <a:lnTo>
                  <a:pt x="72" y="63"/>
                </a:lnTo>
                <a:lnTo>
                  <a:pt x="71" y="62"/>
                </a:lnTo>
                <a:lnTo>
                  <a:pt x="71" y="61"/>
                </a:lnTo>
                <a:lnTo>
                  <a:pt x="69" y="60"/>
                </a:lnTo>
                <a:lnTo>
                  <a:pt x="68" y="59"/>
                </a:lnTo>
                <a:lnTo>
                  <a:pt x="68" y="58"/>
                </a:lnTo>
                <a:lnTo>
                  <a:pt x="66" y="57"/>
                </a:lnTo>
                <a:lnTo>
                  <a:pt x="64" y="56"/>
                </a:lnTo>
                <a:lnTo>
                  <a:pt x="64" y="55"/>
                </a:lnTo>
                <a:lnTo>
                  <a:pt x="62" y="54"/>
                </a:lnTo>
                <a:lnTo>
                  <a:pt x="61" y="53"/>
                </a:lnTo>
                <a:lnTo>
                  <a:pt x="61" y="52"/>
                </a:lnTo>
                <a:lnTo>
                  <a:pt x="58" y="51"/>
                </a:lnTo>
                <a:lnTo>
                  <a:pt x="57" y="50"/>
                </a:lnTo>
                <a:lnTo>
                  <a:pt x="57" y="49"/>
                </a:lnTo>
                <a:lnTo>
                  <a:pt x="55" y="48"/>
                </a:lnTo>
                <a:lnTo>
                  <a:pt x="54" y="47"/>
                </a:lnTo>
                <a:lnTo>
                  <a:pt x="51" y="45"/>
                </a:lnTo>
                <a:lnTo>
                  <a:pt x="49" y="44"/>
                </a:lnTo>
                <a:lnTo>
                  <a:pt x="49" y="43"/>
                </a:lnTo>
                <a:lnTo>
                  <a:pt x="47" y="42"/>
                </a:lnTo>
                <a:lnTo>
                  <a:pt x="46" y="41"/>
                </a:lnTo>
                <a:lnTo>
                  <a:pt x="46" y="40"/>
                </a:lnTo>
                <a:lnTo>
                  <a:pt x="43" y="39"/>
                </a:lnTo>
                <a:lnTo>
                  <a:pt x="42" y="38"/>
                </a:lnTo>
                <a:lnTo>
                  <a:pt x="40" y="37"/>
                </a:lnTo>
                <a:lnTo>
                  <a:pt x="39" y="36"/>
                </a:lnTo>
                <a:lnTo>
                  <a:pt x="39" y="35"/>
                </a:lnTo>
                <a:lnTo>
                  <a:pt x="37" y="34"/>
                </a:lnTo>
                <a:lnTo>
                  <a:pt x="36" y="33"/>
                </a:lnTo>
                <a:lnTo>
                  <a:pt x="36" y="32"/>
                </a:lnTo>
                <a:lnTo>
                  <a:pt x="32" y="31"/>
                </a:lnTo>
                <a:lnTo>
                  <a:pt x="31" y="30"/>
                </a:lnTo>
                <a:lnTo>
                  <a:pt x="29" y="29"/>
                </a:lnTo>
                <a:lnTo>
                  <a:pt x="28" y="28"/>
                </a:lnTo>
                <a:lnTo>
                  <a:pt x="28" y="27"/>
                </a:lnTo>
                <a:lnTo>
                  <a:pt x="26" y="26"/>
                </a:lnTo>
                <a:lnTo>
                  <a:pt x="26" y="25"/>
                </a:lnTo>
                <a:lnTo>
                  <a:pt x="24" y="24"/>
                </a:lnTo>
                <a:lnTo>
                  <a:pt x="23" y="23"/>
                </a:lnTo>
                <a:lnTo>
                  <a:pt x="23" y="22"/>
                </a:lnTo>
                <a:lnTo>
                  <a:pt x="21" y="21"/>
                </a:lnTo>
                <a:lnTo>
                  <a:pt x="21" y="20"/>
                </a:lnTo>
                <a:lnTo>
                  <a:pt x="18" y="18"/>
                </a:lnTo>
                <a:lnTo>
                  <a:pt x="18" y="17"/>
                </a:lnTo>
                <a:lnTo>
                  <a:pt x="16" y="16"/>
                </a:lnTo>
                <a:lnTo>
                  <a:pt x="16" y="15"/>
                </a:lnTo>
                <a:lnTo>
                  <a:pt x="15" y="13"/>
                </a:lnTo>
                <a:lnTo>
                  <a:pt x="15" y="12"/>
                </a:lnTo>
                <a:lnTo>
                  <a:pt x="13" y="11"/>
                </a:lnTo>
                <a:lnTo>
                  <a:pt x="13" y="10"/>
                </a:lnTo>
                <a:lnTo>
                  <a:pt x="13" y="9"/>
                </a:lnTo>
                <a:lnTo>
                  <a:pt x="13" y="8"/>
                </a:lnTo>
                <a:lnTo>
                  <a:pt x="12" y="7"/>
                </a:lnTo>
                <a:lnTo>
                  <a:pt x="12" y="6"/>
                </a:lnTo>
                <a:lnTo>
                  <a:pt x="12" y="5"/>
                </a:lnTo>
                <a:lnTo>
                  <a:pt x="12" y="4"/>
                </a:lnTo>
                <a:lnTo>
                  <a:pt x="12" y="3"/>
                </a:lnTo>
                <a:lnTo>
                  <a:pt x="12" y="2"/>
                </a:lnTo>
                <a:lnTo>
                  <a:pt x="12" y="1"/>
                </a:lnTo>
                <a:lnTo>
                  <a:pt x="11" y="1"/>
                </a:lnTo>
                <a:lnTo>
                  <a:pt x="10" y="1"/>
                </a:lnTo>
                <a:lnTo>
                  <a:pt x="4" y="1"/>
                </a:lnTo>
                <a:lnTo>
                  <a:pt x="0" y="1"/>
                </a:lnTo>
                <a:lnTo>
                  <a:pt x="0" y="0"/>
                </a:lnTo>
                <a:lnTo>
                  <a:pt x="0" y="1"/>
                </a:lnTo>
                <a:lnTo>
                  <a:pt x="0" y="3"/>
                </a:lnTo>
                <a:lnTo>
                  <a:pt x="0" y="4"/>
                </a:lnTo>
                <a:lnTo>
                  <a:pt x="0" y="5"/>
                </a:lnTo>
                <a:lnTo>
                  <a:pt x="0" y="6"/>
                </a:lnTo>
                <a:lnTo>
                  <a:pt x="0" y="7"/>
                </a:lnTo>
                <a:lnTo>
                  <a:pt x="0" y="8"/>
                </a:lnTo>
                <a:lnTo>
                  <a:pt x="0" y="10"/>
                </a:lnTo>
                <a:lnTo>
                  <a:pt x="0" y="11"/>
                </a:lnTo>
                <a:lnTo>
                  <a:pt x="1" y="11"/>
                </a:lnTo>
                <a:lnTo>
                  <a:pt x="1" y="12"/>
                </a:lnTo>
                <a:lnTo>
                  <a:pt x="1" y="13"/>
                </a:lnTo>
                <a:lnTo>
                  <a:pt x="1" y="14"/>
                </a:lnTo>
                <a:lnTo>
                  <a:pt x="2" y="14"/>
                </a:lnTo>
                <a:lnTo>
                  <a:pt x="3" y="17"/>
                </a:lnTo>
                <a:lnTo>
                  <a:pt x="4" y="18"/>
                </a:lnTo>
                <a:lnTo>
                  <a:pt x="5" y="20"/>
                </a:lnTo>
                <a:lnTo>
                  <a:pt x="7" y="21"/>
                </a:lnTo>
                <a:lnTo>
                  <a:pt x="8" y="23"/>
                </a:lnTo>
                <a:lnTo>
                  <a:pt x="9" y="24"/>
                </a:lnTo>
                <a:lnTo>
                  <a:pt x="10" y="26"/>
                </a:lnTo>
                <a:lnTo>
                  <a:pt x="11" y="27"/>
                </a:lnTo>
                <a:lnTo>
                  <a:pt x="12" y="27"/>
                </a:lnTo>
                <a:lnTo>
                  <a:pt x="13" y="29"/>
                </a:lnTo>
                <a:lnTo>
                  <a:pt x="14" y="30"/>
                </a:lnTo>
                <a:lnTo>
                  <a:pt x="15" y="32"/>
                </a:lnTo>
                <a:lnTo>
                  <a:pt x="16" y="33"/>
                </a:lnTo>
                <a:lnTo>
                  <a:pt x="17" y="33"/>
                </a:lnTo>
                <a:lnTo>
                  <a:pt x="19" y="35"/>
                </a:lnTo>
                <a:lnTo>
                  <a:pt x="21" y="35"/>
                </a:lnTo>
                <a:lnTo>
                  <a:pt x="22" y="37"/>
                </a:lnTo>
                <a:lnTo>
                  <a:pt x="23" y="38"/>
                </a:lnTo>
                <a:lnTo>
                  <a:pt x="24" y="38"/>
                </a:lnTo>
                <a:lnTo>
                  <a:pt x="26" y="40"/>
                </a:lnTo>
                <a:lnTo>
                  <a:pt x="27" y="41"/>
                </a:lnTo>
                <a:lnTo>
                  <a:pt x="28" y="41"/>
                </a:lnTo>
                <a:lnTo>
                  <a:pt x="29" y="43"/>
                </a:lnTo>
                <a:lnTo>
                  <a:pt x="30" y="44"/>
                </a:lnTo>
                <a:lnTo>
                  <a:pt x="31" y="44"/>
                </a:lnTo>
                <a:lnTo>
                  <a:pt x="33" y="47"/>
                </a:lnTo>
                <a:lnTo>
                  <a:pt x="34" y="47"/>
                </a:lnTo>
                <a:lnTo>
                  <a:pt x="37" y="49"/>
                </a:lnTo>
                <a:lnTo>
                  <a:pt x="38" y="50"/>
                </a:lnTo>
                <a:lnTo>
                  <a:pt x="39" y="50"/>
                </a:lnTo>
                <a:lnTo>
                  <a:pt x="40" y="52"/>
                </a:lnTo>
                <a:lnTo>
                  <a:pt x="41" y="53"/>
                </a:lnTo>
                <a:lnTo>
                  <a:pt x="42" y="53"/>
                </a:lnTo>
                <a:lnTo>
                  <a:pt x="44" y="55"/>
                </a:lnTo>
                <a:lnTo>
                  <a:pt x="46" y="55"/>
                </a:lnTo>
                <a:lnTo>
                  <a:pt x="47" y="57"/>
                </a:lnTo>
                <a:lnTo>
                  <a:pt x="48" y="58"/>
                </a:lnTo>
                <a:lnTo>
                  <a:pt x="49" y="58"/>
                </a:lnTo>
                <a:lnTo>
                  <a:pt x="52" y="60"/>
                </a:lnTo>
                <a:lnTo>
                  <a:pt x="53" y="61"/>
                </a:lnTo>
                <a:lnTo>
                  <a:pt x="54" y="61"/>
                </a:lnTo>
                <a:lnTo>
                  <a:pt x="56" y="63"/>
                </a:lnTo>
                <a:lnTo>
                  <a:pt x="57" y="63"/>
                </a:lnTo>
                <a:lnTo>
                  <a:pt x="58" y="65"/>
                </a:lnTo>
                <a:lnTo>
                  <a:pt x="59" y="66"/>
                </a:lnTo>
                <a:lnTo>
                  <a:pt x="60" y="66"/>
                </a:lnTo>
                <a:lnTo>
                  <a:pt x="61" y="68"/>
                </a:lnTo>
                <a:lnTo>
                  <a:pt x="62" y="69"/>
                </a:lnTo>
                <a:lnTo>
                  <a:pt x="63" y="69"/>
                </a:lnTo>
                <a:lnTo>
                  <a:pt x="64" y="71"/>
                </a:lnTo>
                <a:lnTo>
                  <a:pt x="66" y="72"/>
                </a:lnTo>
                <a:lnTo>
                  <a:pt x="67" y="72"/>
                </a:lnTo>
                <a:lnTo>
                  <a:pt x="68" y="74"/>
                </a:lnTo>
                <a:lnTo>
                  <a:pt x="69" y="74"/>
                </a:lnTo>
                <a:lnTo>
                  <a:pt x="70" y="76"/>
                </a:lnTo>
                <a:lnTo>
                  <a:pt x="71" y="77"/>
                </a:lnTo>
                <a:lnTo>
                  <a:pt x="72" y="77"/>
                </a:lnTo>
                <a:lnTo>
                  <a:pt x="73" y="79"/>
                </a:lnTo>
                <a:lnTo>
                  <a:pt x="74" y="80"/>
                </a:lnTo>
                <a:lnTo>
                  <a:pt x="75" y="82"/>
                </a:lnTo>
                <a:lnTo>
                  <a:pt x="76" y="82"/>
                </a:lnTo>
                <a:lnTo>
                  <a:pt x="76" y="83"/>
                </a:lnTo>
                <a:lnTo>
                  <a:pt x="76" y="84"/>
                </a:lnTo>
                <a:lnTo>
                  <a:pt x="76" y="85"/>
                </a:lnTo>
                <a:lnTo>
                  <a:pt x="77" y="85"/>
                </a:lnTo>
                <a:lnTo>
                  <a:pt x="78" y="87"/>
                </a:lnTo>
                <a:lnTo>
                  <a:pt x="79" y="87"/>
                </a:lnTo>
                <a:lnTo>
                  <a:pt x="79" y="88"/>
                </a:lnTo>
                <a:lnTo>
                  <a:pt x="79" y="89"/>
                </a:lnTo>
                <a:lnTo>
                  <a:pt x="79" y="90"/>
                </a:lnTo>
                <a:lnTo>
                  <a:pt x="81" y="92"/>
                </a:lnTo>
                <a:lnTo>
                  <a:pt x="92" y="91"/>
                </a:lnTo>
                <a:close/>
              </a:path>
            </a:pathLst>
          </a:custGeom>
          <a:solidFill>
            <a:srgbClr val="1f1a17"/>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75" name="Freeform 214"/>
          <p:cNvSpPr/>
          <p:nvPr/>
        </p:nvSpPr>
        <p:spPr>
          <a:xfrm>
            <a:off x="3770280" y="5218200"/>
            <a:ext cx="85680" cy="63360"/>
          </a:xfrm>
          <a:custGeom>
            <a:avLst/>
            <a:gdLst>
              <a:gd name="textAreaLeft" fmla="*/ 0 w 85680"/>
              <a:gd name="textAreaRight" fmla="*/ 85680 w 85680"/>
              <a:gd name="textAreaTop" fmla="*/ 0 h 63360"/>
              <a:gd name="textAreaBottom" fmla="*/ 63720 h 63360"/>
            </a:gdLst>
            <a:ahLst/>
            <a:rect l="textAreaLeft" t="textAreaTop" r="textAreaRight" b="textAreaBottom"/>
            <a:pathLst>
              <a:path w="108" h="81">
                <a:moveTo>
                  <a:pt x="106" y="70"/>
                </a:moveTo>
                <a:lnTo>
                  <a:pt x="107" y="71"/>
                </a:lnTo>
                <a:lnTo>
                  <a:pt x="108" y="71"/>
                </a:lnTo>
                <a:lnTo>
                  <a:pt x="105" y="70"/>
                </a:lnTo>
                <a:lnTo>
                  <a:pt x="104" y="69"/>
                </a:lnTo>
                <a:lnTo>
                  <a:pt x="100" y="68"/>
                </a:lnTo>
                <a:lnTo>
                  <a:pt x="99" y="67"/>
                </a:lnTo>
                <a:lnTo>
                  <a:pt x="97" y="66"/>
                </a:lnTo>
                <a:lnTo>
                  <a:pt x="96" y="65"/>
                </a:lnTo>
                <a:lnTo>
                  <a:pt x="95" y="65"/>
                </a:lnTo>
                <a:lnTo>
                  <a:pt x="93" y="65"/>
                </a:lnTo>
                <a:lnTo>
                  <a:pt x="92" y="65"/>
                </a:lnTo>
                <a:lnTo>
                  <a:pt x="92" y="64"/>
                </a:lnTo>
                <a:lnTo>
                  <a:pt x="89" y="62"/>
                </a:lnTo>
                <a:lnTo>
                  <a:pt x="87" y="61"/>
                </a:lnTo>
                <a:lnTo>
                  <a:pt x="84" y="60"/>
                </a:lnTo>
                <a:lnTo>
                  <a:pt x="83" y="59"/>
                </a:lnTo>
                <a:lnTo>
                  <a:pt x="80" y="58"/>
                </a:lnTo>
                <a:lnTo>
                  <a:pt x="79" y="57"/>
                </a:lnTo>
                <a:lnTo>
                  <a:pt x="77" y="56"/>
                </a:lnTo>
                <a:lnTo>
                  <a:pt x="76" y="55"/>
                </a:lnTo>
                <a:lnTo>
                  <a:pt x="72" y="54"/>
                </a:lnTo>
                <a:lnTo>
                  <a:pt x="71" y="53"/>
                </a:lnTo>
                <a:lnTo>
                  <a:pt x="68" y="52"/>
                </a:lnTo>
                <a:lnTo>
                  <a:pt x="67" y="51"/>
                </a:lnTo>
                <a:lnTo>
                  <a:pt x="65" y="50"/>
                </a:lnTo>
                <a:lnTo>
                  <a:pt x="64" y="49"/>
                </a:lnTo>
                <a:lnTo>
                  <a:pt x="61" y="48"/>
                </a:lnTo>
                <a:lnTo>
                  <a:pt x="60" y="47"/>
                </a:lnTo>
                <a:lnTo>
                  <a:pt x="56" y="46"/>
                </a:lnTo>
                <a:lnTo>
                  <a:pt x="55" y="45"/>
                </a:lnTo>
                <a:lnTo>
                  <a:pt x="53" y="44"/>
                </a:lnTo>
                <a:lnTo>
                  <a:pt x="52" y="43"/>
                </a:lnTo>
                <a:lnTo>
                  <a:pt x="50" y="42"/>
                </a:lnTo>
                <a:lnTo>
                  <a:pt x="49" y="41"/>
                </a:lnTo>
                <a:lnTo>
                  <a:pt x="46" y="40"/>
                </a:lnTo>
                <a:lnTo>
                  <a:pt x="45" y="39"/>
                </a:lnTo>
                <a:lnTo>
                  <a:pt x="42" y="38"/>
                </a:lnTo>
                <a:lnTo>
                  <a:pt x="41" y="37"/>
                </a:lnTo>
                <a:lnTo>
                  <a:pt x="39" y="36"/>
                </a:lnTo>
                <a:lnTo>
                  <a:pt x="38" y="35"/>
                </a:lnTo>
                <a:lnTo>
                  <a:pt x="38" y="34"/>
                </a:lnTo>
                <a:lnTo>
                  <a:pt x="36" y="33"/>
                </a:lnTo>
                <a:lnTo>
                  <a:pt x="35" y="32"/>
                </a:lnTo>
                <a:lnTo>
                  <a:pt x="33" y="31"/>
                </a:lnTo>
                <a:lnTo>
                  <a:pt x="32" y="30"/>
                </a:lnTo>
                <a:lnTo>
                  <a:pt x="30" y="28"/>
                </a:lnTo>
                <a:lnTo>
                  <a:pt x="30" y="27"/>
                </a:lnTo>
                <a:lnTo>
                  <a:pt x="27" y="26"/>
                </a:lnTo>
                <a:lnTo>
                  <a:pt x="26" y="25"/>
                </a:lnTo>
                <a:lnTo>
                  <a:pt x="24" y="24"/>
                </a:lnTo>
                <a:lnTo>
                  <a:pt x="24" y="23"/>
                </a:lnTo>
                <a:lnTo>
                  <a:pt x="22" y="21"/>
                </a:lnTo>
                <a:lnTo>
                  <a:pt x="22" y="20"/>
                </a:lnTo>
                <a:lnTo>
                  <a:pt x="20" y="19"/>
                </a:lnTo>
                <a:lnTo>
                  <a:pt x="20" y="18"/>
                </a:lnTo>
                <a:lnTo>
                  <a:pt x="18" y="16"/>
                </a:lnTo>
                <a:lnTo>
                  <a:pt x="18" y="15"/>
                </a:lnTo>
                <a:lnTo>
                  <a:pt x="17" y="14"/>
                </a:lnTo>
                <a:lnTo>
                  <a:pt x="17" y="13"/>
                </a:lnTo>
                <a:lnTo>
                  <a:pt x="15" y="12"/>
                </a:lnTo>
                <a:lnTo>
                  <a:pt x="15" y="11"/>
                </a:lnTo>
                <a:lnTo>
                  <a:pt x="14" y="8"/>
                </a:lnTo>
                <a:lnTo>
                  <a:pt x="14" y="7"/>
                </a:lnTo>
                <a:lnTo>
                  <a:pt x="12" y="6"/>
                </a:lnTo>
                <a:lnTo>
                  <a:pt x="12" y="5"/>
                </a:lnTo>
                <a:lnTo>
                  <a:pt x="11" y="3"/>
                </a:lnTo>
                <a:lnTo>
                  <a:pt x="11" y="2"/>
                </a:lnTo>
                <a:lnTo>
                  <a:pt x="11" y="1"/>
                </a:lnTo>
                <a:lnTo>
                  <a:pt x="11" y="0"/>
                </a:lnTo>
                <a:lnTo>
                  <a:pt x="9" y="1"/>
                </a:lnTo>
                <a:lnTo>
                  <a:pt x="4" y="1"/>
                </a:lnTo>
                <a:lnTo>
                  <a:pt x="0" y="1"/>
                </a:lnTo>
                <a:lnTo>
                  <a:pt x="0" y="2"/>
                </a:lnTo>
                <a:lnTo>
                  <a:pt x="0" y="4"/>
                </a:lnTo>
                <a:lnTo>
                  <a:pt x="0" y="5"/>
                </a:lnTo>
                <a:lnTo>
                  <a:pt x="1" y="5"/>
                </a:lnTo>
                <a:lnTo>
                  <a:pt x="1" y="6"/>
                </a:lnTo>
                <a:lnTo>
                  <a:pt x="1" y="7"/>
                </a:lnTo>
                <a:lnTo>
                  <a:pt x="1" y="8"/>
                </a:lnTo>
                <a:lnTo>
                  <a:pt x="2" y="8"/>
                </a:lnTo>
                <a:lnTo>
                  <a:pt x="2" y="10"/>
                </a:lnTo>
                <a:lnTo>
                  <a:pt x="2" y="11"/>
                </a:lnTo>
                <a:lnTo>
                  <a:pt x="2" y="12"/>
                </a:lnTo>
                <a:lnTo>
                  <a:pt x="3" y="12"/>
                </a:lnTo>
                <a:lnTo>
                  <a:pt x="3" y="13"/>
                </a:lnTo>
                <a:lnTo>
                  <a:pt x="3" y="15"/>
                </a:lnTo>
                <a:lnTo>
                  <a:pt x="3" y="16"/>
                </a:lnTo>
                <a:lnTo>
                  <a:pt x="4" y="16"/>
                </a:lnTo>
                <a:lnTo>
                  <a:pt x="5" y="18"/>
                </a:lnTo>
                <a:lnTo>
                  <a:pt x="6" y="19"/>
                </a:lnTo>
                <a:lnTo>
                  <a:pt x="7" y="21"/>
                </a:lnTo>
                <a:lnTo>
                  <a:pt x="8" y="22"/>
                </a:lnTo>
                <a:lnTo>
                  <a:pt x="9" y="24"/>
                </a:lnTo>
                <a:lnTo>
                  <a:pt x="10" y="25"/>
                </a:lnTo>
                <a:lnTo>
                  <a:pt x="11" y="27"/>
                </a:lnTo>
                <a:lnTo>
                  <a:pt x="12" y="27"/>
                </a:lnTo>
                <a:lnTo>
                  <a:pt x="14" y="29"/>
                </a:lnTo>
                <a:lnTo>
                  <a:pt x="15" y="30"/>
                </a:lnTo>
                <a:lnTo>
                  <a:pt x="16" y="30"/>
                </a:lnTo>
                <a:lnTo>
                  <a:pt x="17" y="32"/>
                </a:lnTo>
                <a:lnTo>
                  <a:pt x="18" y="33"/>
                </a:lnTo>
                <a:lnTo>
                  <a:pt x="19" y="33"/>
                </a:lnTo>
                <a:lnTo>
                  <a:pt x="20" y="35"/>
                </a:lnTo>
                <a:lnTo>
                  <a:pt x="21" y="36"/>
                </a:lnTo>
                <a:lnTo>
                  <a:pt x="23" y="38"/>
                </a:lnTo>
                <a:lnTo>
                  <a:pt x="24" y="38"/>
                </a:lnTo>
                <a:lnTo>
                  <a:pt x="25" y="40"/>
                </a:lnTo>
                <a:lnTo>
                  <a:pt x="26" y="41"/>
                </a:lnTo>
                <a:lnTo>
                  <a:pt x="27" y="41"/>
                </a:lnTo>
                <a:lnTo>
                  <a:pt x="30" y="43"/>
                </a:lnTo>
                <a:lnTo>
                  <a:pt x="32" y="43"/>
                </a:lnTo>
                <a:lnTo>
                  <a:pt x="34" y="45"/>
                </a:lnTo>
                <a:lnTo>
                  <a:pt x="35" y="45"/>
                </a:lnTo>
                <a:lnTo>
                  <a:pt x="36" y="47"/>
                </a:lnTo>
                <a:lnTo>
                  <a:pt x="37" y="48"/>
                </a:lnTo>
                <a:lnTo>
                  <a:pt x="38" y="48"/>
                </a:lnTo>
                <a:lnTo>
                  <a:pt x="40" y="50"/>
                </a:lnTo>
                <a:lnTo>
                  <a:pt x="42" y="50"/>
                </a:lnTo>
                <a:lnTo>
                  <a:pt x="45" y="52"/>
                </a:lnTo>
                <a:lnTo>
                  <a:pt x="46" y="52"/>
                </a:lnTo>
                <a:lnTo>
                  <a:pt x="48" y="54"/>
                </a:lnTo>
                <a:lnTo>
                  <a:pt x="49" y="55"/>
                </a:lnTo>
                <a:lnTo>
                  <a:pt x="50" y="55"/>
                </a:lnTo>
                <a:lnTo>
                  <a:pt x="52" y="57"/>
                </a:lnTo>
                <a:lnTo>
                  <a:pt x="54" y="57"/>
                </a:lnTo>
                <a:lnTo>
                  <a:pt x="56" y="59"/>
                </a:lnTo>
                <a:lnTo>
                  <a:pt x="57" y="59"/>
                </a:lnTo>
                <a:lnTo>
                  <a:pt x="60" y="61"/>
                </a:lnTo>
                <a:lnTo>
                  <a:pt x="62" y="61"/>
                </a:lnTo>
                <a:lnTo>
                  <a:pt x="64" y="64"/>
                </a:lnTo>
                <a:lnTo>
                  <a:pt x="66" y="64"/>
                </a:lnTo>
                <a:lnTo>
                  <a:pt x="68" y="66"/>
                </a:lnTo>
                <a:lnTo>
                  <a:pt x="70" y="66"/>
                </a:lnTo>
                <a:lnTo>
                  <a:pt x="72" y="68"/>
                </a:lnTo>
                <a:lnTo>
                  <a:pt x="75" y="68"/>
                </a:lnTo>
                <a:lnTo>
                  <a:pt x="77" y="70"/>
                </a:lnTo>
                <a:lnTo>
                  <a:pt x="78" y="70"/>
                </a:lnTo>
                <a:lnTo>
                  <a:pt x="80" y="72"/>
                </a:lnTo>
                <a:lnTo>
                  <a:pt x="82" y="72"/>
                </a:lnTo>
                <a:lnTo>
                  <a:pt x="84" y="73"/>
                </a:lnTo>
                <a:lnTo>
                  <a:pt x="85" y="73"/>
                </a:lnTo>
                <a:lnTo>
                  <a:pt x="86" y="73"/>
                </a:lnTo>
                <a:lnTo>
                  <a:pt x="89" y="75"/>
                </a:lnTo>
                <a:lnTo>
                  <a:pt x="91" y="75"/>
                </a:lnTo>
                <a:lnTo>
                  <a:pt x="93" y="77"/>
                </a:lnTo>
                <a:lnTo>
                  <a:pt x="95" y="77"/>
                </a:lnTo>
                <a:lnTo>
                  <a:pt x="97" y="79"/>
                </a:lnTo>
                <a:lnTo>
                  <a:pt x="99" y="79"/>
                </a:lnTo>
                <a:lnTo>
                  <a:pt x="101" y="80"/>
                </a:lnTo>
                <a:lnTo>
                  <a:pt x="103" y="80"/>
                </a:lnTo>
                <a:lnTo>
                  <a:pt x="105" y="81"/>
                </a:lnTo>
                <a:lnTo>
                  <a:pt x="106" y="81"/>
                </a:lnTo>
                <a:lnTo>
                  <a:pt x="106" y="70"/>
                </a:lnTo>
                <a:close/>
              </a:path>
            </a:pathLst>
          </a:custGeom>
          <a:solidFill>
            <a:srgbClr val="1f1a17"/>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76" name="Freeform 215"/>
          <p:cNvSpPr/>
          <p:nvPr/>
        </p:nvSpPr>
        <p:spPr>
          <a:xfrm>
            <a:off x="3854520" y="5272200"/>
            <a:ext cx="30240" cy="48960"/>
          </a:xfrm>
          <a:custGeom>
            <a:avLst/>
            <a:gdLst>
              <a:gd name="textAreaLeft" fmla="*/ 0 w 30240"/>
              <a:gd name="textAreaRight" fmla="*/ 30600 w 30240"/>
              <a:gd name="textAreaTop" fmla="*/ 0 h 48960"/>
              <a:gd name="textAreaBottom" fmla="*/ 49320 h 48960"/>
            </a:gdLst>
            <a:ahLst/>
            <a:rect l="textAreaLeft" t="textAreaTop" r="textAreaRight" b="textAreaBottom"/>
            <a:pathLst>
              <a:path w="37" h="61">
                <a:moveTo>
                  <a:pt x="31" y="49"/>
                </a:moveTo>
                <a:lnTo>
                  <a:pt x="34" y="53"/>
                </a:lnTo>
                <a:lnTo>
                  <a:pt x="36" y="55"/>
                </a:lnTo>
                <a:lnTo>
                  <a:pt x="37" y="55"/>
                </a:lnTo>
                <a:lnTo>
                  <a:pt x="37" y="54"/>
                </a:lnTo>
                <a:lnTo>
                  <a:pt x="37" y="53"/>
                </a:lnTo>
                <a:lnTo>
                  <a:pt x="37" y="52"/>
                </a:lnTo>
                <a:lnTo>
                  <a:pt x="37" y="51"/>
                </a:lnTo>
                <a:lnTo>
                  <a:pt x="37" y="50"/>
                </a:lnTo>
                <a:lnTo>
                  <a:pt x="37" y="49"/>
                </a:lnTo>
                <a:lnTo>
                  <a:pt x="36" y="48"/>
                </a:lnTo>
                <a:lnTo>
                  <a:pt x="36" y="46"/>
                </a:lnTo>
                <a:lnTo>
                  <a:pt x="36" y="45"/>
                </a:lnTo>
                <a:lnTo>
                  <a:pt x="36" y="44"/>
                </a:lnTo>
                <a:lnTo>
                  <a:pt x="35" y="42"/>
                </a:lnTo>
                <a:lnTo>
                  <a:pt x="35" y="41"/>
                </a:lnTo>
                <a:lnTo>
                  <a:pt x="35" y="40"/>
                </a:lnTo>
                <a:lnTo>
                  <a:pt x="35" y="39"/>
                </a:lnTo>
                <a:lnTo>
                  <a:pt x="34" y="38"/>
                </a:lnTo>
                <a:lnTo>
                  <a:pt x="34" y="37"/>
                </a:lnTo>
                <a:lnTo>
                  <a:pt x="33" y="36"/>
                </a:lnTo>
                <a:lnTo>
                  <a:pt x="33" y="35"/>
                </a:lnTo>
                <a:lnTo>
                  <a:pt x="33" y="34"/>
                </a:lnTo>
                <a:lnTo>
                  <a:pt x="33" y="33"/>
                </a:lnTo>
                <a:lnTo>
                  <a:pt x="32" y="32"/>
                </a:lnTo>
                <a:lnTo>
                  <a:pt x="32" y="31"/>
                </a:lnTo>
                <a:lnTo>
                  <a:pt x="31" y="30"/>
                </a:lnTo>
                <a:lnTo>
                  <a:pt x="31" y="29"/>
                </a:lnTo>
                <a:lnTo>
                  <a:pt x="30" y="28"/>
                </a:lnTo>
                <a:lnTo>
                  <a:pt x="30" y="27"/>
                </a:lnTo>
                <a:lnTo>
                  <a:pt x="29" y="25"/>
                </a:lnTo>
                <a:lnTo>
                  <a:pt x="29" y="24"/>
                </a:lnTo>
                <a:lnTo>
                  <a:pt x="28" y="23"/>
                </a:lnTo>
                <a:lnTo>
                  <a:pt x="28" y="22"/>
                </a:lnTo>
                <a:lnTo>
                  <a:pt x="27" y="21"/>
                </a:lnTo>
                <a:lnTo>
                  <a:pt x="27" y="20"/>
                </a:lnTo>
                <a:lnTo>
                  <a:pt x="25" y="19"/>
                </a:lnTo>
                <a:lnTo>
                  <a:pt x="25" y="18"/>
                </a:lnTo>
                <a:lnTo>
                  <a:pt x="24" y="17"/>
                </a:lnTo>
                <a:lnTo>
                  <a:pt x="22" y="16"/>
                </a:lnTo>
                <a:lnTo>
                  <a:pt x="22" y="15"/>
                </a:lnTo>
                <a:lnTo>
                  <a:pt x="21" y="14"/>
                </a:lnTo>
                <a:lnTo>
                  <a:pt x="21" y="13"/>
                </a:lnTo>
                <a:lnTo>
                  <a:pt x="20" y="12"/>
                </a:lnTo>
                <a:lnTo>
                  <a:pt x="20" y="11"/>
                </a:lnTo>
                <a:lnTo>
                  <a:pt x="18" y="10"/>
                </a:lnTo>
                <a:lnTo>
                  <a:pt x="17" y="9"/>
                </a:lnTo>
                <a:lnTo>
                  <a:pt x="17" y="8"/>
                </a:lnTo>
                <a:lnTo>
                  <a:pt x="15" y="7"/>
                </a:lnTo>
                <a:lnTo>
                  <a:pt x="14" y="6"/>
                </a:lnTo>
                <a:lnTo>
                  <a:pt x="14" y="5"/>
                </a:lnTo>
                <a:lnTo>
                  <a:pt x="12" y="4"/>
                </a:lnTo>
                <a:lnTo>
                  <a:pt x="9" y="3"/>
                </a:lnTo>
                <a:lnTo>
                  <a:pt x="7" y="2"/>
                </a:lnTo>
                <a:lnTo>
                  <a:pt x="6" y="1"/>
                </a:lnTo>
                <a:lnTo>
                  <a:pt x="5" y="1"/>
                </a:lnTo>
                <a:lnTo>
                  <a:pt x="4" y="1"/>
                </a:lnTo>
                <a:lnTo>
                  <a:pt x="2" y="0"/>
                </a:lnTo>
                <a:lnTo>
                  <a:pt x="1" y="0"/>
                </a:lnTo>
                <a:lnTo>
                  <a:pt x="0" y="0"/>
                </a:lnTo>
                <a:lnTo>
                  <a:pt x="0" y="1"/>
                </a:lnTo>
                <a:lnTo>
                  <a:pt x="0" y="2"/>
                </a:lnTo>
                <a:lnTo>
                  <a:pt x="0" y="7"/>
                </a:lnTo>
                <a:lnTo>
                  <a:pt x="0" y="11"/>
                </a:lnTo>
                <a:lnTo>
                  <a:pt x="1" y="11"/>
                </a:lnTo>
                <a:lnTo>
                  <a:pt x="2" y="11"/>
                </a:lnTo>
                <a:lnTo>
                  <a:pt x="3" y="12"/>
                </a:lnTo>
                <a:lnTo>
                  <a:pt x="4" y="12"/>
                </a:lnTo>
                <a:lnTo>
                  <a:pt x="5" y="13"/>
                </a:lnTo>
                <a:lnTo>
                  <a:pt x="6" y="14"/>
                </a:lnTo>
                <a:lnTo>
                  <a:pt x="7" y="15"/>
                </a:lnTo>
                <a:lnTo>
                  <a:pt x="8" y="16"/>
                </a:lnTo>
                <a:lnTo>
                  <a:pt x="9" y="17"/>
                </a:lnTo>
                <a:lnTo>
                  <a:pt x="10" y="18"/>
                </a:lnTo>
                <a:lnTo>
                  <a:pt x="12" y="20"/>
                </a:lnTo>
                <a:lnTo>
                  <a:pt x="13" y="21"/>
                </a:lnTo>
                <a:lnTo>
                  <a:pt x="14" y="23"/>
                </a:lnTo>
                <a:lnTo>
                  <a:pt x="15" y="24"/>
                </a:lnTo>
                <a:lnTo>
                  <a:pt x="16" y="26"/>
                </a:lnTo>
                <a:lnTo>
                  <a:pt x="17" y="28"/>
                </a:lnTo>
                <a:lnTo>
                  <a:pt x="18" y="29"/>
                </a:lnTo>
                <a:lnTo>
                  <a:pt x="19" y="31"/>
                </a:lnTo>
                <a:lnTo>
                  <a:pt x="20" y="33"/>
                </a:lnTo>
                <a:lnTo>
                  <a:pt x="21" y="35"/>
                </a:lnTo>
                <a:lnTo>
                  <a:pt x="21" y="36"/>
                </a:lnTo>
                <a:lnTo>
                  <a:pt x="21" y="37"/>
                </a:lnTo>
                <a:lnTo>
                  <a:pt x="22" y="39"/>
                </a:lnTo>
                <a:lnTo>
                  <a:pt x="23" y="40"/>
                </a:lnTo>
                <a:lnTo>
                  <a:pt x="23" y="41"/>
                </a:lnTo>
                <a:lnTo>
                  <a:pt x="23" y="42"/>
                </a:lnTo>
                <a:lnTo>
                  <a:pt x="24" y="44"/>
                </a:lnTo>
                <a:lnTo>
                  <a:pt x="24" y="45"/>
                </a:lnTo>
                <a:lnTo>
                  <a:pt x="24" y="46"/>
                </a:lnTo>
                <a:lnTo>
                  <a:pt x="24" y="48"/>
                </a:lnTo>
                <a:lnTo>
                  <a:pt x="24" y="49"/>
                </a:lnTo>
                <a:lnTo>
                  <a:pt x="25" y="50"/>
                </a:lnTo>
                <a:lnTo>
                  <a:pt x="25" y="51"/>
                </a:lnTo>
                <a:lnTo>
                  <a:pt x="25" y="52"/>
                </a:lnTo>
                <a:lnTo>
                  <a:pt x="25" y="53"/>
                </a:lnTo>
                <a:lnTo>
                  <a:pt x="25" y="54"/>
                </a:lnTo>
                <a:lnTo>
                  <a:pt x="25" y="55"/>
                </a:lnTo>
                <a:lnTo>
                  <a:pt x="29" y="59"/>
                </a:lnTo>
                <a:lnTo>
                  <a:pt x="31" y="60"/>
                </a:lnTo>
                <a:lnTo>
                  <a:pt x="32" y="60"/>
                </a:lnTo>
                <a:lnTo>
                  <a:pt x="28" y="57"/>
                </a:lnTo>
                <a:lnTo>
                  <a:pt x="25" y="56"/>
                </a:lnTo>
                <a:lnTo>
                  <a:pt x="25" y="55"/>
                </a:lnTo>
                <a:lnTo>
                  <a:pt x="25" y="56"/>
                </a:lnTo>
                <a:lnTo>
                  <a:pt x="25" y="59"/>
                </a:lnTo>
                <a:lnTo>
                  <a:pt x="25" y="61"/>
                </a:lnTo>
                <a:lnTo>
                  <a:pt x="29" y="61"/>
                </a:lnTo>
                <a:lnTo>
                  <a:pt x="31" y="61"/>
                </a:lnTo>
                <a:lnTo>
                  <a:pt x="32" y="60"/>
                </a:lnTo>
                <a:lnTo>
                  <a:pt x="31" y="49"/>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7" name="Freeform 216"/>
          <p:cNvSpPr/>
          <p:nvPr/>
        </p:nvSpPr>
        <p:spPr>
          <a:xfrm>
            <a:off x="3878280" y="5310360"/>
            <a:ext cx="227160" cy="120600"/>
          </a:xfrm>
          <a:custGeom>
            <a:avLst/>
            <a:gdLst>
              <a:gd name="textAreaLeft" fmla="*/ 0 w 227160"/>
              <a:gd name="textAreaRight" fmla="*/ 227160 w 227160"/>
              <a:gd name="textAreaTop" fmla="*/ 0 h 120600"/>
              <a:gd name="textAreaBottom" fmla="*/ 120960 h 120600"/>
            </a:gdLst>
            <a:ahLst/>
            <a:rect l="textAreaLeft" t="textAreaTop" r="textAreaRight" b="textAreaBottom"/>
            <a:pathLst>
              <a:path w="285" h="153">
                <a:moveTo>
                  <a:pt x="279" y="142"/>
                </a:moveTo>
                <a:lnTo>
                  <a:pt x="282" y="143"/>
                </a:lnTo>
                <a:lnTo>
                  <a:pt x="284" y="143"/>
                </a:lnTo>
                <a:lnTo>
                  <a:pt x="285" y="143"/>
                </a:lnTo>
                <a:lnTo>
                  <a:pt x="283" y="142"/>
                </a:lnTo>
                <a:lnTo>
                  <a:pt x="280" y="139"/>
                </a:lnTo>
                <a:lnTo>
                  <a:pt x="278" y="136"/>
                </a:lnTo>
                <a:lnTo>
                  <a:pt x="278" y="135"/>
                </a:lnTo>
                <a:lnTo>
                  <a:pt x="275" y="134"/>
                </a:lnTo>
                <a:lnTo>
                  <a:pt x="272" y="131"/>
                </a:lnTo>
                <a:lnTo>
                  <a:pt x="270" y="129"/>
                </a:lnTo>
                <a:lnTo>
                  <a:pt x="270" y="128"/>
                </a:lnTo>
                <a:lnTo>
                  <a:pt x="268" y="127"/>
                </a:lnTo>
                <a:lnTo>
                  <a:pt x="265" y="124"/>
                </a:lnTo>
                <a:lnTo>
                  <a:pt x="263" y="122"/>
                </a:lnTo>
                <a:lnTo>
                  <a:pt x="263" y="121"/>
                </a:lnTo>
                <a:lnTo>
                  <a:pt x="260" y="120"/>
                </a:lnTo>
                <a:lnTo>
                  <a:pt x="257" y="117"/>
                </a:lnTo>
                <a:lnTo>
                  <a:pt x="254" y="115"/>
                </a:lnTo>
                <a:lnTo>
                  <a:pt x="254" y="114"/>
                </a:lnTo>
                <a:lnTo>
                  <a:pt x="252" y="113"/>
                </a:lnTo>
                <a:lnTo>
                  <a:pt x="249" y="109"/>
                </a:lnTo>
                <a:lnTo>
                  <a:pt x="246" y="107"/>
                </a:lnTo>
                <a:lnTo>
                  <a:pt x="246" y="106"/>
                </a:lnTo>
                <a:lnTo>
                  <a:pt x="244" y="105"/>
                </a:lnTo>
                <a:lnTo>
                  <a:pt x="241" y="102"/>
                </a:lnTo>
                <a:lnTo>
                  <a:pt x="239" y="100"/>
                </a:lnTo>
                <a:lnTo>
                  <a:pt x="239" y="99"/>
                </a:lnTo>
                <a:lnTo>
                  <a:pt x="237" y="98"/>
                </a:lnTo>
                <a:lnTo>
                  <a:pt x="234" y="95"/>
                </a:lnTo>
                <a:lnTo>
                  <a:pt x="230" y="93"/>
                </a:lnTo>
                <a:lnTo>
                  <a:pt x="230" y="92"/>
                </a:lnTo>
                <a:lnTo>
                  <a:pt x="225" y="89"/>
                </a:lnTo>
                <a:lnTo>
                  <a:pt x="223" y="87"/>
                </a:lnTo>
                <a:lnTo>
                  <a:pt x="223" y="86"/>
                </a:lnTo>
                <a:lnTo>
                  <a:pt x="221" y="85"/>
                </a:lnTo>
                <a:lnTo>
                  <a:pt x="218" y="82"/>
                </a:lnTo>
                <a:lnTo>
                  <a:pt x="214" y="80"/>
                </a:lnTo>
                <a:lnTo>
                  <a:pt x="214" y="79"/>
                </a:lnTo>
                <a:lnTo>
                  <a:pt x="209" y="76"/>
                </a:lnTo>
                <a:lnTo>
                  <a:pt x="207" y="74"/>
                </a:lnTo>
                <a:lnTo>
                  <a:pt x="207" y="73"/>
                </a:lnTo>
                <a:lnTo>
                  <a:pt x="205" y="72"/>
                </a:lnTo>
                <a:lnTo>
                  <a:pt x="201" y="69"/>
                </a:lnTo>
                <a:lnTo>
                  <a:pt x="198" y="67"/>
                </a:lnTo>
                <a:lnTo>
                  <a:pt x="198" y="66"/>
                </a:lnTo>
                <a:lnTo>
                  <a:pt x="193" y="63"/>
                </a:lnTo>
                <a:lnTo>
                  <a:pt x="191" y="61"/>
                </a:lnTo>
                <a:lnTo>
                  <a:pt x="191" y="60"/>
                </a:lnTo>
                <a:lnTo>
                  <a:pt x="185" y="57"/>
                </a:lnTo>
                <a:lnTo>
                  <a:pt x="182" y="54"/>
                </a:lnTo>
                <a:lnTo>
                  <a:pt x="182" y="53"/>
                </a:lnTo>
                <a:lnTo>
                  <a:pt x="177" y="50"/>
                </a:lnTo>
                <a:lnTo>
                  <a:pt x="174" y="49"/>
                </a:lnTo>
                <a:lnTo>
                  <a:pt x="174" y="48"/>
                </a:lnTo>
                <a:lnTo>
                  <a:pt x="168" y="45"/>
                </a:lnTo>
                <a:lnTo>
                  <a:pt x="165" y="43"/>
                </a:lnTo>
                <a:lnTo>
                  <a:pt x="165" y="42"/>
                </a:lnTo>
                <a:lnTo>
                  <a:pt x="160" y="39"/>
                </a:lnTo>
                <a:lnTo>
                  <a:pt x="156" y="38"/>
                </a:lnTo>
                <a:lnTo>
                  <a:pt x="156" y="37"/>
                </a:lnTo>
                <a:lnTo>
                  <a:pt x="151" y="34"/>
                </a:lnTo>
                <a:lnTo>
                  <a:pt x="148" y="33"/>
                </a:lnTo>
                <a:lnTo>
                  <a:pt x="148" y="32"/>
                </a:lnTo>
                <a:lnTo>
                  <a:pt x="142" y="29"/>
                </a:lnTo>
                <a:lnTo>
                  <a:pt x="139" y="28"/>
                </a:lnTo>
                <a:lnTo>
                  <a:pt x="139" y="27"/>
                </a:lnTo>
                <a:lnTo>
                  <a:pt x="133" y="25"/>
                </a:lnTo>
                <a:lnTo>
                  <a:pt x="130" y="24"/>
                </a:lnTo>
                <a:lnTo>
                  <a:pt x="130" y="23"/>
                </a:lnTo>
                <a:lnTo>
                  <a:pt x="124" y="21"/>
                </a:lnTo>
                <a:lnTo>
                  <a:pt x="121" y="20"/>
                </a:lnTo>
                <a:lnTo>
                  <a:pt x="121" y="19"/>
                </a:lnTo>
                <a:lnTo>
                  <a:pt x="115" y="17"/>
                </a:lnTo>
                <a:lnTo>
                  <a:pt x="111" y="16"/>
                </a:lnTo>
                <a:lnTo>
                  <a:pt x="111" y="15"/>
                </a:lnTo>
                <a:lnTo>
                  <a:pt x="110" y="15"/>
                </a:lnTo>
                <a:lnTo>
                  <a:pt x="109" y="15"/>
                </a:lnTo>
                <a:lnTo>
                  <a:pt x="105" y="14"/>
                </a:lnTo>
                <a:lnTo>
                  <a:pt x="102" y="13"/>
                </a:lnTo>
                <a:lnTo>
                  <a:pt x="102" y="12"/>
                </a:lnTo>
                <a:lnTo>
                  <a:pt x="101" y="12"/>
                </a:lnTo>
                <a:lnTo>
                  <a:pt x="100" y="12"/>
                </a:lnTo>
                <a:lnTo>
                  <a:pt x="96" y="11"/>
                </a:lnTo>
                <a:lnTo>
                  <a:pt x="93" y="10"/>
                </a:lnTo>
                <a:lnTo>
                  <a:pt x="93" y="9"/>
                </a:lnTo>
                <a:lnTo>
                  <a:pt x="92" y="9"/>
                </a:lnTo>
                <a:lnTo>
                  <a:pt x="91" y="9"/>
                </a:lnTo>
                <a:lnTo>
                  <a:pt x="87" y="8"/>
                </a:lnTo>
                <a:lnTo>
                  <a:pt x="83" y="8"/>
                </a:lnTo>
                <a:lnTo>
                  <a:pt x="83" y="7"/>
                </a:lnTo>
                <a:lnTo>
                  <a:pt x="82" y="7"/>
                </a:lnTo>
                <a:lnTo>
                  <a:pt x="81" y="7"/>
                </a:lnTo>
                <a:lnTo>
                  <a:pt x="76" y="6"/>
                </a:lnTo>
                <a:lnTo>
                  <a:pt x="73" y="5"/>
                </a:lnTo>
                <a:lnTo>
                  <a:pt x="73" y="4"/>
                </a:lnTo>
                <a:lnTo>
                  <a:pt x="72" y="4"/>
                </a:lnTo>
                <a:lnTo>
                  <a:pt x="71" y="4"/>
                </a:lnTo>
                <a:lnTo>
                  <a:pt x="66" y="4"/>
                </a:lnTo>
                <a:lnTo>
                  <a:pt x="63" y="4"/>
                </a:lnTo>
                <a:lnTo>
                  <a:pt x="63" y="3"/>
                </a:lnTo>
                <a:lnTo>
                  <a:pt x="62" y="3"/>
                </a:lnTo>
                <a:lnTo>
                  <a:pt x="61" y="3"/>
                </a:lnTo>
                <a:lnTo>
                  <a:pt x="57" y="3"/>
                </a:lnTo>
                <a:lnTo>
                  <a:pt x="53" y="3"/>
                </a:lnTo>
                <a:lnTo>
                  <a:pt x="53" y="2"/>
                </a:lnTo>
                <a:lnTo>
                  <a:pt x="52" y="2"/>
                </a:lnTo>
                <a:lnTo>
                  <a:pt x="51" y="2"/>
                </a:lnTo>
                <a:lnTo>
                  <a:pt x="46" y="2"/>
                </a:lnTo>
                <a:lnTo>
                  <a:pt x="43" y="2"/>
                </a:lnTo>
                <a:lnTo>
                  <a:pt x="43" y="0"/>
                </a:lnTo>
                <a:lnTo>
                  <a:pt x="42" y="0"/>
                </a:lnTo>
                <a:lnTo>
                  <a:pt x="41" y="0"/>
                </a:lnTo>
                <a:lnTo>
                  <a:pt x="35" y="0"/>
                </a:lnTo>
                <a:lnTo>
                  <a:pt x="32" y="0"/>
                </a:lnTo>
                <a:lnTo>
                  <a:pt x="31" y="0"/>
                </a:lnTo>
                <a:lnTo>
                  <a:pt x="30" y="0"/>
                </a:lnTo>
                <a:lnTo>
                  <a:pt x="24" y="0"/>
                </a:lnTo>
                <a:lnTo>
                  <a:pt x="21" y="0"/>
                </a:lnTo>
                <a:lnTo>
                  <a:pt x="19" y="2"/>
                </a:lnTo>
                <a:lnTo>
                  <a:pt x="14" y="2"/>
                </a:lnTo>
                <a:lnTo>
                  <a:pt x="11" y="2"/>
                </a:lnTo>
                <a:lnTo>
                  <a:pt x="8" y="3"/>
                </a:lnTo>
                <a:lnTo>
                  <a:pt x="3" y="3"/>
                </a:lnTo>
                <a:lnTo>
                  <a:pt x="0" y="3"/>
                </a:lnTo>
                <a:lnTo>
                  <a:pt x="0" y="4"/>
                </a:lnTo>
                <a:lnTo>
                  <a:pt x="0" y="5"/>
                </a:lnTo>
                <a:lnTo>
                  <a:pt x="0" y="10"/>
                </a:lnTo>
                <a:lnTo>
                  <a:pt x="0" y="14"/>
                </a:lnTo>
                <a:lnTo>
                  <a:pt x="1" y="14"/>
                </a:lnTo>
                <a:lnTo>
                  <a:pt x="2" y="14"/>
                </a:lnTo>
                <a:lnTo>
                  <a:pt x="7" y="14"/>
                </a:lnTo>
                <a:lnTo>
                  <a:pt x="11" y="14"/>
                </a:lnTo>
                <a:lnTo>
                  <a:pt x="12" y="13"/>
                </a:lnTo>
                <a:lnTo>
                  <a:pt x="13" y="13"/>
                </a:lnTo>
                <a:lnTo>
                  <a:pt x="18" y="13"/>
                </a:lnTo>
                <a:lnTo>
                  <a:pt x="21" y="13"/>
                </a:lnTo>
                <a:lnTo>
                  <a:pt x="22" y="12"/>
                </a:lnTo>
                <a:lnTo>
                  <a:pt x="23" y="12"/>
                </a:lnTo>
                <a:lnTo>
                  <a:pt x="28" y="12"/>
                </a:lnTo>
                <a:lnTo>
                  <a:pt x="31" y="12"/>
                </a:lnTo>
                <a:lnTo>
                  <a:pt x="32" y="12"/>
                </a:lnTo>
                <a:lnTo>
                  <a:pt x="33" y="12"/>
                </a:lnTo>
                <a:lnTo>
                  <a:pt x="37" y="12"/>
                </a:lnTo>
                <a:lnTo>
                  <a:pt x="41" y="12"/>
                </a:lnTo>
                <a:lnTo>
                  <a:pt x="42" y="12"/>
                </a:lnTo>
                <a:lnTo>
                  <a:pt x="47" y="13"/>
                </a:lnTo>
                <a:lnTo>
                  <a:pt x="50" y="13"/>
                </a:lnTo>
                <a:lnTo>
                  <a:pt x="51" y="13"/>
                </a:lnTo>
                <a:lnTo>
                  <a:pt x="57" y="14"/>
                </a:lnTo>
                <a:lnTo>
                  <a:pt x="60" y="14"/>
                </a:lnTo>
                <a:lnTo>
                  <a:pt x="61" y="14"/>
                </a:lnTo>
                <a:lnTo>
                  <a:pt x="66" y="15"/>
                </a:lnTo>
                <a:lnTo>
                  <a:pt x="70" y="15"/>
                </a:lnTo>
                <a:lnTo>
                  <a:pt x="71" y="15"/>
                </a:lnTo>
                <a:lnTo>
                  <a:pt x="76" y="17"/>
                </a:lnTo>
                <a:lnTo>
                  <a:pt x="79" y="17"/>
                </a:lnTo>
                <a:lnTo>
                  <a:pt x="80" y="17"/>
                </a:lnTo>
                <a:lnTo>
                  <a:pt x="85" y="19"/>
                </a:lnTo>
                <a:lnTo>
                  <a:pt x="88" y="20"/>
                </a:lnTo>
                <a:lnTo>
                  <a:pt x="89" y="20"/>
                </a:lnTo>
                <a:lnTo>
                  <a:pt x="94" y="22"/>
                </a:lnTo>
                <a:lnTo>
                  <a:pt x="97" y="22"/>
                </a:lnTo>
                <a:lnTo>
                  <a:pt x="98" y="22"/>
                </a:lnTo>
                <a:lnTo>
                  <a:pt x="100" y="23"/>
                </a:lnTo>
                <a:lnTo>
                  <a:pt x="103" y="25"/>
                </a:lnTo>
                <a:lnTo>
                  <a:pt x="106" y="26"/>
                </a:lnTo>
                <a:lnTo>
                  <a:pt x="107" y="26"/>
                </a:lnTo>
                <a:lnTo>
                  <a:pt x="111" y="28"/>
                </a:lnTo>
                <a:lnTo>
                  <a:pt x="115" y="29"/>
                </a:lnTo>
                <a:lnTo>
                  <a:pt x="116" y="29"/>
                </a:lnTo>
                <a:lnTo>
                  <a:pt x="117" y="30"/>
                </a:lnTo>
                <a:lnTo>
                  <a:pt x="120" y="32"/>
                </a:lnTo>
                <a:lnTo>
                  <a:pt x="123" y="33"/>
                </a:lnTo>
                <a:lnTo>
                  <a:pt x="124" y="33"/>
                </a:lnTo>
                <a:lnTo>
                  <a:pt x="125" y="34"/>
                </a:lnTo>
                <a:lnTo>
                  <a:pt x="129" y="36"/>
                </a:lnTo>
                <a:lnTo>
                  <a:pt x="132" y="37"/>
                </a:lnTo>
                <a:lnTo>
                  <a:pt x="133" y="37"/>
                </a:lnTo>
                <a:lnTo>
                  <a:pt x="134" y="38"/>
                </a:lnTo>
                <a:lnTo>
                  <a:pt x="137" y="41"/>
                </a:lnTo>
                <a:lnTo>
                  <a:pt x="140" y="42"/>
                </a:lnTo>
                <a:lnTo>
                  <a:pt x="141" y="42"/>
                </a:lnTo>
                <a:lnTo>
                  <a:pt x="142" y="43"/>
                </a:lnTo>
                <a:lnTo>
                  <a:pt x="146" y="45"/>
                </a:lnTo>
                <a:lnTo>
                  <a:pt x="149" y="46"/>
                </a:lnTo>
                <a:lnTo>
                  <a:pt x="150" y="46"/>
                </a:lnTo>
                <a:lnTo>
                  <a:pt x="151" y="47"/>
                </a:lnTo>
                <a:lnTo>
                  <a:pt x="154" y="50"/>
                </a:lnTo>
                <a:lnTo>
                  <a:pt x="157" y="51"/>
                </a:lnTo>
                <a:lnTo>
                  <a:pt x="159" y="51"/>
                </a:lnTo>
                <a:lnTo>
                  <a:pt x="160" y="52"/>
                </a:lnTo>
                <a:lnTo>
                  <a:pt x="163" y="55"/>
                </a:lnTo>
                <a:lnTo>
                  <a:pt x="166" y="58"/>
                </a:lnTo>
                <a:lnTo>
                  <a:pt x="167" y="58"/>
                </a:lnTo>
                <a:lnTo>
                  <a:pt x="168" y="59"/>
                </a:lnTo>
                <a:lnTo>
                  <a:pt x="171" y="62"/>
                </a:lnTo>
                <a:lnTo>
                  <a:pt x="174" y="63"/>
                </a:lnTo>
                <a:lnTo>
                  <a:pt x="175" y="63"/>
                </a:lnTo>
                <a:lnTo>
                  <a:pt x="176" y="64"/>
                </a:lnTo>
                <a:lnTo>
                  <a:pt x="179" y="67"/>
                </a:lnTo>
                <a:lnTo>
                  <a:pt x="182" y="69"/>
                </a:lnTo>
                <a:lnTo>
                  <a:pt x="183" y="69"/>
                </a:lnTo>
                <a:lnTo>
                  <a:pt x="184" y="70"/>
                </a:lnTo>
                <a:lnTo>
                  <a:pt x="187" y="73"/>
                </a:lnTo>
                <a:lnTo>
                  <a:pt x="190" y="75"/>
                </a:lnTo>
                <a:lnTo>
                  <a:pt x="191" y="75"/>
                </a:lnTo>
                <a:lnTo>
                  <a:pt x="192" y="76"/>
                </a:lnTo>
                <a:lnTo>
                  <a:pt x="195" y="79"/>
                </a:lnTo>
                <a:lnTo>
                  <a:pt x="198" y="81"/>
                </a:lnTo>
                <a:lnTo>
                  <a:pt x="199" y="81"/>
                </a:lnTo>
                <a:lnTo>
                  <a:pt x="200" y="82"/>
                </a:lnTo>
                <a:lnTo>
                  <a:pt x="204" y="85"/>
                </a:lnTo>
                <a:lnTo>
                  <a:pt x="206" y="87"/>
                </a:lnTo>
                <a:lnTo>
                  <a:pt x="207" y="87"/>
                </a:lnTo>
                <a:lnTo>
                  <a:pt x="208" y="89"/>
                </a:lnTo>
                <a:lnTo>
                  <a:pt x="211" y="92"/>
                </a:lnTo>
                <a:lnTo>
                  <a:pt x="214" y="94"/>
                </a:lnTo>
                <a:lnTo>
                  <a:pt x="215" y="94"/>
                </a:lnTo>
                <a:lnTo>
                  <a:pt x="216" y="96"/>
                </a:lnTo>
                <a:lnTo>
                  <a:pt x="220" y="99"/>
                </a:lnTo>
                <a:lnTo>
                  <a:pt x="222" y="101"/>
                </a:lnTo>
                <a:lnTo>
                  <a:pt x="223" y="101"/>
                </a:lnTo>
                <a:lnTo>
                  <a:pt x="224" y="102"/>
                </a:lnTo>
                <a:lnTo>
                  <a:pt x="227" y="105"/>
                </a:lnTo>
                <a:lnTo>
                  <a:pt x="229" y="107"/>
                </a:lnTo>
                <a:lnTo>
                  <a:pt x="230" y="107"/>
                </a:lnTo>
                <a:lnTo>
                  <a:pt x="231" y="109"/>
                </a:lnTo>
                <a:lnTo>
                  <a:pt x="235" y="113"/>
                </a:lnTo>
                <a:lnTo>
                  <a:pt x="238" y="115"/>
                </a:lnTo>
                <a:lnTo>
                  <a:pt x="239" y="115"/>
                </a:lnTo>
                <a:lnTo>
                  <a:pt x="240" y="117"/>
                </a:lnTo>
                <a:lnTo>
                  <a:pt x="243" y="120"/>
                </a:lnTo>
                <a:lnTo>
                  <a:pt x="245" y="122"/>
                </a:lnTo>
                <a:lnTo>
                  <a:pt x="246" y="122"/>
                </a:lnTo>
                <a:lnTo>
                  <a:pt x="248" y="124"/>
                </a:lnTo>
                <a:lnTo>
                  <a:pt x="251" y="127"/>
                </a:lnTo>
                <a:lnTo>
                  <a:pt x="253" y="129"/>
                </a:lnTo>
                <a:lnTo>
                  <a:pt x="254" y="129"/>
                </a:lnTo>
                <a:lnTo>
                  <a:pt x="255" y="131"/>
                </a:lnTo>
                <a:lnTo>
                  <a:pt x="258" y="134"/>
                </a:lnTo>
                <a:lnTo>
                  <a:pt x="260" y="136"/>
                </a:lnTo>
                <a:lnTo>
                  <a:pt x="261" y="136"/>
                </a:lnTo>
                <a:lnTo>
                  <a:pt x="263" y="138"/>
                </a:lnTo>
                <a:lnTo>
                  <a:pt x="266" y="141"/>
                </a:lnTo>
                <a:lnTo>
                  <a:pt x="268" y="143"/>
                </a:lnTo>
                <a:lnTo>
                  <a:pt x="269" y="143"/>
                </a:lnTo>
                <a:lnTo>
                  <a:pt x="270" y="145"/>
                </a:lnTo>
                <a:lnTo>
                  <a:pt x="273" y="148"/>
                </a:lnTo>
                <a:lnTo>
                  <a:pt x="277" y="150"/>
                </a:lnTo>
                <a:lnTo>
                  <a:pt x="278" y="150"/>
                </a:lnTo>
                <a:lnTo>
                  <a:pt x="281" y="151"/>
                </a:lnTo>
                <a:lnTo>
                  <a:pt x="283" y="151"/>
                </a:lnTo>
                <a:lnTo>
                  <a:pt x="284" y="151"/>
                </a:lnTo>
                <a:lnTo>
                  <a:pt x="283" y="151"/>
                </a:lnTo>
                <a:lnTo>
                  <a:pt x="280" y="151"/>
                </a:lnTo>
                <a:lnTo>
                  <a:pt x="278" y="151"/>
                </a:lnTo>
                <a:lnTo>
                  <a:pt x="278" y="150"/>
                </a:lnTo>
                <a:lnTo>
                  <a:pt x="279" y="152"/>
                </a:lnTo>
                <a:lnTo>
                  <a:pt x="280" y="153"/>
                </a:lnTo>
                <a:lnTo>
                  <a:pt x="281" y="153"/>
                </a:lnTo>
                <a:lnTo>
                  <a:pt x="282" y="152"/>
                </a:lnTo>
                <a:lnTo>
                  <a:pt x="284" y="151"/>
                </a:lnTo>
                <a:lnTo>
                  <a:pt x="279" y="14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17"/>
          <p:cNvSpPr/>
          <p:nvPr/>
        </p:nvSpPr>
        <p:spPr>
          <a:xfrm>
            <a:off x="4100400" y="5419800"/>
            <a:ext cx="189000" cy="109440"/>
          </a:xfrm>
          <a:custGeom>
            <a:avLst/>
            <a:gdLst>
              <a:gd name="textAreaLeft" fmla="*/ 0 w 189000"/>
              <a:gd name="textAreaRight" fmla="*/ 189360 w 189000"/>
              <a:gd name="textAreaTop" fmla="*/ 0 h 109440"/>
              <a:gd name="textAreaBottom" fmla="*/ 109800 h 109440"/>
            </a:gdLst>
            <a:ahLst/>
            <a:rect l="textAreaLeft" t="textAreaTop" r="textAreaRight" b="textAreaBottom"/>
            <a:pathLst>
              <a:path w="238" h="138">
                <a:moveTo>
                  <a:pt x="233" y="126"/>
                </a:moveTo>
                <a:lnTo>
                  <a:pt x="236" y="128"/>
                </a:lnTo>
                <a:lnTo>
                  <a:pt x="237" y="129"/>
                </a:lnTo>
                <a:lnTo>
                  <a:pt x="238" y="129"/>
                </a:lnTo>
                <a:lnTo>
                  <a:pt x="236" y="127"/>
                </a:lnTo>
                <a:lnTo>
                  <a:pt x="236" y="125"/>
                </a:lnTo>
                <a:lnTo>
                  <a:pt x="233" y="123"/>
                </a:lnTo>
                <a:lnTo>
                  <a:pt x="232" y="122"/>
                </a:lnTo>
                <a:lnTo>
                  <a:pt x="232" y="121"/>
                </a:lnTo>
                <a:lnTo>
                  <a:pt x="229" y="119"/>
                </a:lnTo>
                <a:lnTo>
                  <a:pt x="228" y="118"/>
                </a:lnTo>
                <a:lnTo>
                  <a:pt x="228" y="117"/>
                </a:lnTo>
                <a:lnTo>
                  <a:pt x="225" y="115"/>
                </a:lnTo>
                <a:lnTo>
                  <a:pt x="224" y="114"/>
                </a:lnTo>
                <a:lnTo>
                  <a:pt x="224" y="113"/>
                </a:lnTo>
                <a:lnTo>
                  <a:pt x="219" y="110"/>
                </a:lnTo>
                <a:lnTo>
                  <a:pt x="218" y="109"/>
                </a:lnTo>
                <a:lnTo>
                  <a:pt x="218" y="108"/>
                </a:lnTo>
                <a:lnTo>
                  <a:pt x="214" y="105"/>
                </a:lnTo>
                <a:lnTo>
                  <a:pt x="212" y="104"/>
                </a:lnTo>
                <a:lnTo>
                  <a:pt x="212" y="103"/>
                </a:lnTo>
                <a:lnTo>
                  <a:pt x="208" y="100"/>
                </a:lnTo>
                <a:lnTo>
                  <a:pt x="206" y="99"/>
                </a:lnTo>
                <a:lnTo>
                  <a:pt x="206" y="98"/>
                </a:lnTo>
                <a:lnTo>
                  <a:pt x="200" y="95"/>
                </a:lnTo>
                <a:lnTo>
                  <a:pt x="198" y="94"/>
                </a:lnTo>
                <a:lnTo>
                  <a:pt x="198" y="93"/>
                </a:lnTo>
                <a:lnTo>
                  <a:pt x="193" y="90"/>
                </a:lnTo>
                <a:lnTo>
                  <a:pt x="191" y="89"/>
                </a:lnTo>
                <a:lnTo>
                  <a:pt x="191" y="88"/>
                </a:lnTo>
                <a:lnTo>
                  <a:pt x="185" y="85"/>
                </a:lnTo>
                <a:lnTo>
                  <a:pt x="182" y="83"/>
                </a:lnTo>
                <a:lnTo>
                  <a:pt x="182" y="82"/>
                </a:lnTo>
                <a:lnTo>
                  <a:pt x="177" y="78"/>
                </a:lnTo>
                <a:lnTo>
                  <a:pt x="173" y="76"/>
                </a:lnTo>
                <a:lnTo>
                  <a:pt x="173" y="75"/>
                </a:lnTo>
                <a:lnTo>
                  <a:pt x="168" y="72"/>
                </a:lnTo>
                <a:lnTo>
                  <a:pt x="165" y="71"/>
                </a:lnTo>
                <a:lnTo>
                  <a:pt x="165" y="70"/>
                </a:lnTo>
                <a:lnTo>
                  <a:pt x="158" y="67"/>
                </a:lnTo>
                <a:lnTo>
                  <a:pt x="155" y="65"/>
                </a:lnTo>
                <a:lnTo>
                  <a:pt x="155" y="64"/>
                </a:lnTo>
                <a:lnTo>
                  <a:pt x="149" y="61"/>
                </a:lnTo>
                <a:lnTo>
                  <a:pt x="145" y="59"/>
                </a:lnTo>
                <a:lnTo>
                  <a:pt x="145" y="58"/>
                </a:lnTo>
                <a:lnTo>
                  <a:pt x="139" y="55"/>
                </a:lnTo>
                <a:lnTo>
                  <a:pt x="136" y="54"/>
                </a:lnTo>
                <a:lnTo>
                  <a:pt x="136" y="53"/>
                </a:lnTo>
                <a:lnTo>
                  <a:pt x="129" y="50"/>
                </a:lnTo>
                <a:lnTo>
                  <a:pt x="126" y="48"/>
                </a:lnTo>
                <a:lnTo>
                  <a:pt x="126" y="47"/>
                </a:lnTo>
                <a:lnTo>
                  <a:pt x="120" y="44"/>
                </a:lnTo>
                <a:lnTo>
                  <a:pt x="117" y="43"/>
                </a:lnTo>
                <a:lnTo>
                  <a:pt x="117" y="42"/>
                </a:lnTo>
                <a:lnTo>
                  <a:pt x="110" y="39"/>
                </a:lnTo>
                <a:lnTo>
                  <a:pt x="107" y="38"/>
                </a:lnTo>
                <a:lnTo>
                  <a:pt x="107" y="37"/>
                </a:lnTo>
                <a:lnTo>
                  <a:pt x="100" y="34"/>
                </a:lnTo>
                <a:lnTo>
                  <a:pt x="97" y="33"/>
                </a:lnTo>
                <a:lnTo>
                  <a:pt x="97" y="32"/>
                </a:lnTo>
                <a:lnTo>
                  <a:pt x="91" y="29"/>
                </a:lnTo>
                <a:lnTo>
                  <a:pt x="88" y="28"/>
                </a:lnTo>
                <a:lnTo>
                  <a:pt x="88" y="27"/>
                </a:lnTo>
                <a:lnTo>
                  <a:pt x="82" y="23"/>
                </a:lnTo>
                <a:lnTo>
                  <a:pt x="79" y="22"/>
                </a:lnTo>
                <a:lnTo>
                  <a:pt x="79" y="21"/>
                </a:lnTo>
                <a:lnTo>
                  <a:pt x="73" y="19"/>
                </a:lnTo>
                <a:lnTo>
                  <a:pt x="69" y="18"/>
                </a:lnTo>
                <a:lnTo>
                  <a:pt x="69" y="17"/>
                </a:lnTo>
                <a:lnTo>
                  <a:pt x="64" y="15"/>
                </a:lnTo>
                <a:lnTo>
                  <a:pt x="61" y="14"/>
                </a:lnTo>
                <a:lnTo>
                  <a:pt x="61" y="13"/>
                </a:lnTo>
                <a:lnTo>
                  <a:pt x="60" y="13"/>
                </a:lnTo>
                <a:lnTo>
                  <a:pt x="59" y="13"/>
                </a:lnTo>
                <a:lnTo>
                  <a:pt x="55" y="12"/>
                </a:lnTo>
                <a:lnTo>
                  <a:pt x="52" y="11"/>
                </a:lnTo>
                <a:lnTo>
                  <a:pt x="52" y="10"/>
                </a:lnTo>
                <a:lnTo>
                  <a:pt x="51" y="10"/>
                </a:lnTo>
                <a:lnTo>
                  <a:pt x="50" y="10"/>
                </a:lnTo>
                <a:lnTo>
                  <a:pt x="47" y="9"/>
                </a:lnTo>
                <a:lnTo>
                  <a:pt x="44" y="8"/>
                </a:lnTo>
                <a:lnTo>
                  <a:pt x="44" y="7"/>
                </a:lnTo>
                <a:lnTo>
                  <a:pt x="43" y="7"/>
                </a:lnTo>
                <a:lnTo>
                  <a:pt x="41" y="7"/>
                </a:lnTo>
                <a:lnTo>
                  <a:pt x="38" y="6"/>
                </a:lnTo>
                <a:lnTo>
                  <a:pt x="36" y="6"/>
                </a:lnTo>
                <a:lnTo>
                  <a:pt x="36" y="5"/>
                </a:lnTo>
                <a:lnTo>
                  <a:pt x="35" y="5"/>
                </a:lnTo>
                <a:lnTo>
                  <a:pt x="34" y="5"/>
                </a:lnTo>
                <a:lnTo>
                  <a:pt x="31" y="4"/>
                </a:lnTo>
                <a:lnTo>
                  <a:pt x="29" y="4"/>
                </a:lnTo>
                <a:lnTo>
                  <a:pt x="29" y="3"/>
                </a:lnTo>
                <a:lnTo>
                  <a:pt x="28" y="3"/>
                </a:lnTo>
                <a:lnTo>
                  <a:pt x="24" y="2"/>
                </a:lnTo>
                <a:lnTo>
                  <a:pt x="22" y="2"/>
                </a:lnTo>
                <a:lnTo>
                  <a:pt x="22" y="1"/>
                </a:lnTo>
                <a:lnTo>
                  <a:pt x="21" y="1"/>
                </a:lnTo>
                <a:lnTo>
                  <a:pt x="18" y="1"/>
                </a:lnTo>
                <a:lnTo>
                  <a:pt x="16" y="1"/>
                </a:lnTo>
                <a:lnTo>
                  <a:pt x="16" y="0"/>
                </a:lnTo>
                <a:lnTo>
                  <a:pt x="15" y="0"/>
                </a:lnTo>
                <a:lnTo>
                  <a:pt x="11" y="0"/>
                </a:lnTo>
                <a:lnTo>
                  <a:pt x="10" y="0"/>
                </a:lnTo>
                <a:lnTo>
                  <a:pt x="6" y="1"/>
                </a:lnTo>
                <a:lnTo>
                  <a:pt x="5" y="1"/>
                </a:lnTo>
                <a:lnTo>
                  <a:pt x="1" y="3"/>
                </a:lnTo>
                <a:lnTo>
                  <a:pt x="0" y="3"/>
                </a:lnTo>
                <a:lnTo>
                  <a:pt x="3" y="9"/>
                </a:lnTo>
                <a:lnTo>
                  <a:pt x="4" y="12"/>
                </a:lnTo>
                <a:lnTo>
                  <a:pt x="5" y="12"/>
                </a:lnTo>
                <a:lnTo>
                  <a:pt x="6" y="12"/>
                </a:lnTo>
                <a:lnTo>
                  <a:pt x="7" y="12"/>
                </a:lnTo>
                <a:lnTo>
                  <a:pt x="8" y="12"/>
                </a:lnTo>
                <a:lnTo>
                  <a:pt x="9" y="12"/>
                </a:lnTo>
                <a:lnTo>
                  <a:pt x="10" y="11"/>
                </a:lnTo>
                <a:lnTo>
                  <a:pt x="13" y="11"/>
                </a:lnTo>
                <a:lnTo>
                  <a:pt x="14" y="11"/>
                </a:lnTo>
                <a:lnTo>
                  <a:pt x="15" y="11"/>
                </a:lnTo>
                <a:lnTo>
                  <a:pt x="18" y="12"/>
                </a:lnTo>
                <a:lnTo>
                  <a:pt x="19" y="12"/>
                </a:lnTo>
                <a:lnTo>
                  <a:pt x="20" y="12"/>
                </a:lnTo>
                <a:lnTo>
                  <a:pt x="23" y="13"/>
                </a:lnTo>
                <a:lnTo>
                  <a:pt x="25" y="13"/>
                </a:lnTo>
                <a:lnTo>
                  <a:pt x="26" y="13"/>
                </a:lnTo>
                <a:lnTo>
                  <a:pt x="30" y="15"/>
                </a:lnTo>
                <a:lnTo>
                  <a:pt x="32" y="15"/>
                </a:lnTo>
                <a:lnTo>
                  <a:pt x="33" y="15"/>
                </a:lnTo>
                <a:lnTo>
                  <a:pt x="37" y="17"/>
                </a:lnTo>
                <a:lnTo>
                  <a:pt x="39" y="17"/>
                </a:lnTo>
                <a:lnTo>
                  <a:pt x="40" y="17"/>
                </a:lnTo>
                <a:lnTo>
                  <a:pt x="41" y="18"/>
                </a:lnTo>
                <a:lnTo>
                  <a:pt x="45" y="19"/>
                </a:lnTo>
                <a:lnTo>
                  <a:pt x="47" y="20"/>
                </a:lnTo>
                <a:lnTo>
                  <a:pt x="48" y="20"/>
                </a:lnTo>
                <a:lnTo>
                  <a:pt x="49" y="21"/>
                </a:lnTo>
                <a:lnTo>
                  <a:pt x="52" y="23"/>
                </a:lnTo>
                <a:lnTo>
                  <a:pt x="55" y="24"/>
                </a:lnTo>
                <a:lnTo>
                  <a:pt x="56" y="24"/>
                </a:lnTo>
                <a:lnTo>
                  <a:pt x="61" y="27"/>
                </a:lnTo>
                <a:lnTo>
                  <a:pt x="64" y="28"/>
                </a:lnTo>
                <a:lnTo>
                  <a:pt x="65" y="28"/>
                </a:lnTo>
                <a:lnTo>
                  <a:pt x="66" y="29"/>
                </a:lnTo>
                <a:lnTo>
                  <a:pt x="69" y="31"/>
                </a:lnTo>
                <a:lnTo>
                  <a:pt x="73" y="32"/>
                </a:lnTo>
                <a:lnTo>
                  <a:pt x="74" y="32"/>
                </a:lnTo>
                <a:lnTo>
                  <a:pt x="75" y="33"/>
                </a:lnTo>
                <a:lnTo>
                  <a:pt x="78" y="36"/>
                </a:lnTo>
                <a:lnTo>
                  <a:pt x="81" y="37"/>
                </a:lnTo>
                <a:lnTo>
                  <a:pt x="82" y="37"/>
                </a:lnTo>
                <a:lnTo>
                  <a:pt x="83" y="38"/>
                </a:lnTo>
                <a:lnTo>
                  <a:pt x="88" y="40"/>
                </a:lnTo>
                <a:lnTo>
                  <a:pt x="91" y="41"/>
                </a:lnTo>
                <a:lnTo>
                  <a:pt x="92" y="41"/>
                </a:lnTo>
                <a:lnTo>
                  <a:pt x="93" y="42"/>
                </a:lnTo>
                <a:lnTo>
                  <a:pt x="97" y="45"/>
                </a:lnTo>
                <a:lnTo>
                  <a:pt x="100" y="46"/>
                </a:lnTo>
                <a:lnTo>
                  <a:pt x="102" y="46"/>
                </a:lnTo>
                <a:lnTo>
                  <a:pt x="103" y="47"/>
                </a:lnTo>
                <a:lnTo>
                  <a:pt x="107" y="50"/>
                </a:lnTo>
                <a:lnTo>
                  <a:pt x="110" y="51"/>
                </a:lnTo>
                <a:lnTo>
                  <a:pt x="111" y="51"/>
                </a:lnTo>
                <a:lnTo>
                  <a:pt x="112" y="52"/>
                </a:lnTo>
                <a:lnTo>
                  <a:pt x="117" y="55"/>
                </a:lnTo>
                <a:lnTo>
                  <a:pt x="120" y="57"/>
                </a:lnTo>
                <a:lnTo>
                  <a:pt x="121" y="57"/>
                </a:lnTo>
                <a:lnTo>
                  <a:pt x="122" y="58"/>
                </a:lnTo>
                <a:lnTo>
                  <a:pt x="126" y="61"/>
                </a:lnTo>
                <a:lnTo>
                  <a:pt x="129" y="62"/>
                </a:lnTo>
                <a:lnTo>
                  <a:pt x="130" y="62"/>
                </a:lnTo>
                <a:lnTo>
                  <a:pt x="132" y="63"/>
                </a:lnTo>
                <a:lnTo>
                  <a:pt x="135" y="66"/>
                </a:lnTo>
                <a:lnTo>
                  <a:pt x="138" y="68"/>
                </a:lnTo>
                <a:lnTo>
                  <a:pt x="139" y="68"/>
                </a:lnTo>
                <a:lnTo>
                  <a:pt x="140" y="69"/>
                </a:lnTo>
                <a:lnTo>
                  <a:pt x="144" y="72"/>
                </a:lnTo>
                <a:lnTo>
                  <a:pt x="148" y="73"/>
                </a:lnTo>
                <a:lnTo>
                  <a:pt x="149" y="73"/>
                </a:lnTo>
                <a:lnTo>
                  <a:pt x="150" y="74"/>
                </a:lnTo>
                <a:lnTo>
                  <a:pt x="154" y="77"/>
                </a:lnTo>
                <a:lnTo>
                  <a:pt x="157" y="80"/>
                </a:lnTo>
                <a:lnTo>
                  <a:pt x="158" y="80"/>
                </a:lnTo>
                <a:lnTo>
                  <a:pt x="159" y="81"/>
                </a:lnTo>
                <a:lnTo>
                  <a:pt x="163" y="84"/>
                </a:lnTo>
                <a:lnTo>
                  <a:pt x="166" y="85"/>
                </a:lnTo>
                <a:lnTo>
                  <a:pt x="167" y="85"/>
                </a:lnTo>
                <a:lnTo>
                  <a:pt x="168" y="86"/>
                </a:lnTo>
                <a:lnTo>
                  <a:pt x="171" y="89"/>
                </a:lnTo>
                <a:lnTo>
                  <a:pt x="174" y="91"/>
                </a:lnTo>
                <a:lnTo>
                  <a:pt x="176" y="91"/>
                </a:lnTo>
                <a:lnTo>
                  <a:pt x="177" y="92"/>
                </a:lnTo>
                <a:lnTo>
                  <a:pt x="180" y="95"/>
                </a:lnTo>
                <a:lnTo>
                  <a:pt x="182" y="96"/>
                </a:lnTo>
                <a:lnTo>
                  <a:pt x="183" y="96"/>
                </a:lnTo>
                <a:lnTo>
                  <a:pt x="184" y="97"/>
                </a:lnTo>
                <a:lnTo>
                  <a:pt x="187" y="100"/>
                </a:lnTo>
                <a:lnTo>
                  <a:pt x="189" y="102"/>
                </a:lnTo>
                <a:lnTo>
                  <a:pt x="191" y="102"/>
                </a:lnTo>
                <a:lnTo>
                  <a:pt x="192" y="103"/>
                </a:lnTo>
                <a:lnTo>
                  <a:pt x="195" y="106"/>
                </a:lnTo>
                <a:lnTo>
                  <a:pt x="197" y="107"/>
                </a:lnTo>
                <a:lnTo>
                  <a:pt x="198" y="107"/>
                </a:lnTo>
                <a:lnTo>
                  <a:pt x="201" y="111"/>
                </a:lnTo>
                <a:lnTo>
                  <a:pt x="203" y="112"/>
                </a:lnTo>
                <a:lnTo>
                  <a:pt x="204" y="112"/>
                </a:lnTo>
                <a:lnTo>
                  <a:pt x="208" y="116"/>
                </a:lnTo>
                <a:lnTo>
                  <a:pt x="209" y="117"/>
                </a:lnTo>
                <a:lnTo>
                  <a:pt x="210" y="117"/>
                </a:lnTo>
                <a:lnTo>
                  <a:pt x="213" y="120"/>
                </a:lnTo>
                <a:lnTo>
                  <a:pt x="214" y="121"/>
                </a:lnTo>
                <a:lnTo>
                  <a:pt x="215" y="121"/>
                </a:lnTo>
                <a:lnTo>
                  <a:pt x="217" y="124"/>
                </a:lnTo>
                <a:lnTo>
                  <a:pt x="218" y="125"/>
                </a:lnTo>
                <a:lnTo>
                  <a:pt x="219" y="125"/>
                </a:lnTo>
                <a:lnTo>
                  <a:pt x="222" y="128"/>
                </a:lnTo>
                <a:lnTo>
                  <a:pt x="223" y="129"/>
                </a:lnTo>
                <a:lnTo>
                  <a:pt x="224" y="129"/>
                </a:lnTo>
                <a:lnTo>
                  <a:pt x="225" y="131"/>
                </a:lnTo>
                <a:lnTo>
                  <a:pt x="226" y="132"/>
                </a:lnTo>
                <a:lnTo>
                  <a:pt x="227" y="135"/>
                </a:lnTo>
                <a:lnTo>
                  <a:pt x="228" y="135"/>
                </a:lnTo>
                <a:lnTo>
                  <a:pt x="231" y="137"/>
                </a:lnTo>
                <a:lnTo>
                  <a:pt x="232" y="138"/>
                </a:lnTo>
                <a:lnTo>
                  <a:pt x="233" y="138"/>
                </a:lnTo>
                <a:lnTo>
                  <a:pt x="229" y="137"/>
                </a:lnTo>
                <a:lnTo>
                  <a:pt x="228" y="136"/>
                </a:lnTo>
                <a:lnTo>
                  <a:pt x="228" y="135"/>
                </a:lnTo>
                <a:lnTo>
                  <a:pt x="228" y="136"/>
                </a:lnTo>
                <a:lnTo>
                  <a:pt x="228" y="137"/>
                </a:lnTo>
                <a:lnTo>
                  <a:pt x="228" y="138"/>
                </a:lnTo>
                <a:lnTo>
                  <a:pt x="229" y="138"/>
                </a:lnTo>
                <a:lnTo>
                  <a:pt x="231" y="138"/>
                </a:lnTo>
                <a:lnTo>
                  <a:pt x="232" y="138"/>
                </a:lnTo>
                <a:lnTo>
                  <a:pt x="233" y="138"/>
                </a:lnTo>
                <a:lnTo>
                  <a:pt x="233" y="12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18"/>
          <p:cNvSpPr/>
          <p:nvPr/>
        </p:nvSpPr>
        <p:spPr>
          <a:xfrm>
            <a:off x="4286160" y="5506920"/>
            <a:ext cx="55800" cy="22320"/>
          </a:xfrm>
          <a:custGeom>
            <a:avLst/>
            <a:gdLst>
              <a:gd name="textAreaLeft" fmla="*/ 0 w 55800"/>
              <a:gd name="textAreaRight" fmla="*/ 56160 w 55800"/>
              <a:gd name="textAreaTop" fmla="*/ 0 h 22320"/>
              <a:gd name="textAreaBottom" fmla="*/ 22680 h 22320"/>
            </a:gdLst>
            <a:ahLst/>
            <a:rect l="textAreaLeft" t="textAreaTop" r="textAreaRight" b="textAreaBottom"/>
            <a:pathLst>
              <a:path w="70" h="28">
                <a:moveTo>
                  <a:pt x="58" y="6"/>
                </a:moveTo>
                <a:lnTo>
                  <a:pt x="62" y="3"/>
                </a:lnTo>
                <a:lnTo>
                  <a:pt x="64" y="1"/>
                </a:lnTo>
                <a:lnTo>
                  <a:pt x="65" y="0"/>
                </a:lnTo>
                <a:lnTo>
                  <a:pt x="64" y="0"/>
                </a:lnTo>
                <a:lnTo>
                  <a:pt x="63" y="0"/>
                </a:lnTo>
                <a:lnTo>
                  <a:pt x="62" y="0"/>
                </a:lnTo>
                <a:lnTo>
                  <a:pt x="60" y="0"/>
                </a:lnTo>
                <a:lnTo>
                  <a:pt x="59" y="0"/>
                </a:lnTo>
                <a:lnTo>
                  <a:pt x="58" y="0"/>
                </a:lnTo>
                <a:lnTo>
                  <a:pt x="57" y="1"/>
                </a:lnTo>
                <a:lnTo>
                  <a:pt x="56" y="1"/>
                </a:lnTo>
                <a:lnTo>
                  <a:pt x="55" y="1"/>
                </a:lnTo>
                <a:lnTo>
                  <a:pt x="54" y="2"/>
                </a:lnTo>
                <a:lnTo>
                  <a:pt x="53" y="2"/>
                </a:lnTo>
                <a:lnTo>
                  <a:pt x="52" y="2"/>
                </a:lnTo>
                <a:lnTo>
                  <a:pt x="51" y="2"/>
                </a:lnTo>
                <a:lnTo>
                  <a:pt x="50" y="3"/>
                </a:lnTo>
                <a:lnTo>
                  <a:pt x="49" y="3"/>
                </a:lnTo>
                <a:lnTo>
                  <a:pt x="48" y="3"/>
                </a:lnTo>
                <a:lnTo>
                  <a:pt x="47" y="3"/>
                </a:lnTo>
                <a:lnTo>
                  <a:pt x="45" y="4"/>
                </a:lnTo>
                <a:lnTo>
                  <a:pt x="44" y="4"/>
                </a:lnTo>
                <a:lnTo>
                  <a:pt x="42" y="5"/>
                </a:lnTo>
                <a:lnTo>
                  <a:pt x="41" y="5"/>
                </a:lnTo>
                <a:lnTo>
                  <a:pt x="40" y="5"/>
                </a:lnTo>
                <a:lnTo>
                  <a:pt x="39" y="5"/>
                </a:lnTo>
                <a:lnTo>
                  <a:pt x="38" y="6"/>
                </a:lnTo>
                <a:lnTo>
                  <a:pt x="37" y="6"/>
                </a:lnTo>
                <a:lnTo>
                  <a:pt x="36" y="7"/>
                </a:lnTo>
                <a:lnTo>
                  <a:pt x="35" y="7"/>
                </a:lnTo>
                <a:lnTo>
                  <a:pt x="34" y="8"/>
                </a:lnTo>
                <a:lnTo>
                  <a:pt x="33" y="8"/>
                </a:lnTo>
                <a:lnTo>
                  <a:pt x="32" y="8"/>
                </a:lnTo>
                <a:lnTo>
                  <a:pt x="30" y="8"/>
                </a:lnTo>
                <a:lnTo>
                  <a:pt x="29" y="9"/>
                </a:lnTo>
                <a:lnTo>
                  <a:pt x="28" y="9"/>
                </a:lnTo>
                <a:lnTo>
                  <a:pt x="26" y="10"/>
                </a:lnTo>
                <a:lnTo>
                  <a:pt x="25" y="10"/>
                </a:lnTo>
                <a:lnTo>
                  <a:pt x="24" y="11"/>
                </a:lnTo>
                <a:lnTo>
                  <a:pt x="23" y="11"/>
                </a:lnTo>
                <a:lnTo>
                  <a:pt x="22" y="11"/>
                </a:lnTo>
                <a:lnTo>
                  <a:pt x="21" y="11"/>
                </a:lnTo>
                <a:lnTo>
                  <a:pt x="20" y="12"/>
                </a:lnTo>
                <a:lnTo>
                  <a:pt x="19" y="12"/>
                </a:lnTo>
                <a:lnTo>
                  <a:pt x="18" y="13"/>
                </a:lnTo>
                <a:lnTo>
                  <a:pt x="17" y="13"/>
                </a:lnTo>
                <a:lnTo>
                  <a:pt x="15" y="13"/>
                </a:lnTo>
                <a:lnTo>
                  <a:pt x="14" y="13"/>
                </a:lnTo>
                <a:lnTo>
                  <a:pt x="13" y="14"/>
                </a:lnTo>
                <a:lnTo>
                  <a:pt x="12" y="14"/>
                </a:lnTo>
                <a:lnTo>
                  <a:pt x="11" y="14"/>
                </a:lnTo>
                <a:lnTo>
                  <a:pt x="10" y="14"/>
                </a:lnTo>
                <a:lnTo>
                  <a:pt x="9" y="15"/>
                </a:lnTo>
                <a:lnTo>
                  <a:pt x="8" y="15"/>
                </a:lnTo>
                <a:lnTo>
                  <a:pt x="7" y="15"/>
                </a:lnTo>
                <a:lnTo>
                  <a:pt x="6" y="15"/>
                </a:lnTo>
                <a:lnTo>
                  <a:pt x="5" y="15"/>
                </a:lnTo>
                <a:lnTo>
                  <a:pt x="4" y="16"/>
                </a:lnTo>
                <a:lnTo>
                  <a:pt x="3" y="16"/>
                </a:lnTo>
                <a:lnTo>
                  <a:pt x="2" y="16"/>
                </a:lnTo>
                <a:lnTo>
                  <a:pt x="0" y="16"/>
                </a:lnTo>
                <a:lnTo>
                  <a:pt x="0" y="17"/>
                </a:lnTo>
                <a:lnTo>
                  <a:pt x="0" y="18"/>
                </a:lnTo>
                <a:lnTo>
                  <a:pt x="0" y="24"/>
                </a:lnTo>
                <a:lnTo>
                  <a:pt x="0" y="28"/>
                </a:lnTo>
                <a:lnTo>
                  <a:pt x="2" y="28"/>
                </a:lnTo>
                <a:lnTo>
                  <a:pt x="3" y="28"/>
                </a:lnTo>
                <a:lnTo>
                  <a:pt x="4" y="28"/>
                </a:lnTo>
                <a:lnTo>
                  <a:pt x="5" y="28"/>
                </a:lnTo>
                <a:lnTo>
                  <a:pt x="6" y="28"/>
                </a:lnTo>
                <a:lnTo>
                  <a:pt x="8" y="27"/>
                </a:lnTo>
                <a:lnTo>
                  <a:pt x="9" y="27"/>
                </a:lnTo>
                <a:lnTo>
                  <a:pt x="11" y="26"/>
                </a:lnTo>
                <a:lnTo>
                  <a:pt x="12" y="26"/>
                </a:lnTo>
                <a:lnTo>
                  <a:pt x="13" y="26"/>
                </a:lnTo>
                <a:lnTo>
                  <a:pt x="15" y="25"/>
                </a:lnTo>
                <a:lnTo>
                  <a:pt x="17" y="25"/>
                </a:lnTo>
                <a:lnTo>
                  <a:pt x="18" y="25"/>
                </a:lnTo>
                <a:lnTo>
                  <a:pt x="20" y="24"/>
                </a:lnTo>
                <a:lnTo>
                  <a:pt x="21" y="24"/>
                </a:lnTo>
                <a:lnTo>
                  <a:pt x="22" y="24"/>
                </a:lnTo>
                <a:lnTo>
                  <a:pt x="23" y="22"/>
                </a:lnTo>
                <a:lnTo>
                  <a:pt x="24" y="22"/>
                </a:lnTo>
                <a:lnTo>
                  <a:pt x="25" y="22"/>
                </a:lnTo>
                <a:lnTo>
                  <a:pt x="27" y="21"/>
                </a:lnTo>
                <a:lnTo>
                  <a:pt x="29" y="20"/>
                </a:lnTo>
                <a:lnTo>
                  <a:pt x="32" y="19"/>
                </a:lnTo>
                <a:lnTo>
                  <a:pt x="33" y="19"/>
                </a:lnTo>
                <a:lnTo>
                  <a:pt x="34" y="19"/>
                </a:lnTo>
                <a:lnTo>
                  <a:pt x="36" y="18"/>
                </a:lnTo>
                <a:lnTo>
                  <a:pt x="37" y="18"/>
                </a:lnTo>
                <a:lnTo>
                  <a:pt x="38" y="18"/>
                </a:lnTo>
                <a:lnTo>
                  <a:pt x="39" y="17"/>
                </a:lnTo>
                <a:lnTo>
                  <a:pt x="41" y="16"/>
                </a:lnTo>
                <a:lnTo>
                  <a:pt x="42" y="16"/>
                </a:lnTo>
                <a:lnTo>
                  <a:pt x="43" y="16"/>
                </a:lnTo>
                <a:lnTo>
                  <a:pt x="45" y="15"/>
                </a:lnTo>
                <a:lnTo>
                  <a:pt x="48" y="14"/>
                </a:lnTo>
                <a:lnTo>
                  <a:pt x="49" y="14"/>
                </a:lnTo>
                <a:lnTo>
                  <a:pt x="50" y="14"/>
                </a:lnTo>
                <a:lnTo>
                  <a:pt x="52" y="13"/>
                </a:lnTo>
                <a:lnTo>
                  <a:pt x="53" y="13"/>
                </a:lnTo>
                <a:lnTo>
                  <a:pt x="54" y="13"/>
                </a:lnTo>
                <a:lnTo>
                  <a:pt x="55" y="12"/>
                </a:lnTo>
                <a:lnTo>
                  <a:pt x="56" y="12"/>
                </a:lnTo>
                <a:lnTo>
                  <a:pt x="57" y="12"/>
                </a:lnTo>
                <a:lnTo>
                  <a:pt x="58" y="12"/>
                </a:lnTo>
                <a:lnTo>
                  <a:pt x="59" y="12"/>
                </a:lnTo>
                <a:lnTo>
                  <a:pt x="60" y="11"/>
                </a:lnTo>
                <a:lnTo>
                  <a:pt x="62" y="11"/>
                </a:lnTo>
                <a:lnTo>
                  <a:pt x="63" y="11"/>
                </a:lnTo>
                <a:lnTo>
                  <a:pt x="64" y="11"/>
                </a:lnTo>
                <a:lnTo>
                  <a:pt x="65" y="11"/>
                </a:lnTo>
                <a:lnTo>
                  <a:pt x="68" y="8"/>
                </a:lnTo>
                <a:lnTo>
                  <a:pt x="69" y="7"/>
                </a:lnTo>
                <a:lnTo>
                  <a:pt x="70" y="6"/>
                </a:lnTo>
                <a:lnTo>
                  <a:pt x="69" y="7"/>
                </a:lnTo>
                <a:lnTo>
                  <a:pt x="66" y="10"/>
                </a:lnTo>
                <a:lnTo>
                  <a:pt x="65" y="11"/>
                </a:lnTo>
                <a:lnTo>
                  <a:pt x="68" y="11"/>
                </a:lnTo>
                <a:lnTo>
                  <a:pt x="69" y="11"/>
                </a:lnTo>
                <a:lnTo>
                  <a:pt x="70" y="11"/>
                </a:lnTo>
                <a:lnTo>
                  <a:pt x="70" y="8"/>
                </a:lnTo>
                <a:lnTo>
                  <a:pt x="70" y="7"/>
                </a:lnTo>
                <a:lnTo>
                  <a:pt x="70" y="6"/>
                </a:lnTo>
                <a:lnTo>
                  <a:pt x="58" y="6"/>
                </a:lnTo>
                <a:close/>
              </a:path>
            </a:pathLst>
          </a:custGeom>
          <a:solidFill>
            <a:srgbClr val="1f1a17"/>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80" name="Freeform 219"/>
          <p:cNvSpPr/>
          <p:nvPr/>
        </p:nvSpPr>
        <p:spPr>
          <a:xfrm>
            <a:off x="4332240" y="5427720"/>
            <a:ext cx="96840" cy="84240"/>
          </a:xfrm>
          <a:custGeom>
            <a:avLst/>
            <a:gdLst>
              <a:gd name="textAreaLeft" fmla="*/ 0 w 96840"/>
              <a:gd name="textAreaRight" fmla="*/ 97200 w 96840"/>
              <a:gd name="textAreaTop" fmla="*/ 0 h 84240"/>
              <a:gd name="textAreaBottom" fmla="*/ 84600 h 84240"/>
            </a:gdLst>
            <a:ahLst/>
            <a:rect l="textAreaLeft" t="textAreaTop" r="textAreaRight" b="textAreaBottom"/>
            <a:pathLst>
              <a:path w="123" h="107">
                <a:moveTo>
                  <a:pt x="123" y="7"/>
                </a:moveTo>
                <a:lnTo>
                  <a:pt x="123" y="7"/>
                </a:lnTo>
                <a:lnTo>
                  <a:pt x="122" y="7"/>
                </a:lnTo>
                <a:lnTo>
                  <a:pt x="118" y="6"/>
                </a:lnTo>
                <a:lnTo>
                  <a:pt x="116" y="6"/>
                </a:lnTo>
                <a:lnTo>
                  <a:pt x="116" y="5"/>
                </a:lnTo>
                <a:lnTo>
                  <a:pt x="115" y="5"/>
                </a:lnTo>
                <a:lnTo>
                  <a:pt x="114" y="5"/>
                </a:lnTo>
                <a:lnTo>
                  <a:pt x="111" y="5"/>
                </a:lnTo>
                <a:lnTo>
                  <a:pt x="109" y="5"/>
                </a:lnTo>
                <a:lnTo>
                  <a:pt x="109" y="4"/>
                </a:lnTo>
                <a:lnTo>
                  <a:pt x="108" y="4"/>
                </a:lnTo>
                <a:lnTo>
                  <a:pt x="104" y="3"/>
                </a:lnTo>
                <a:lnTo>
                  <a:pt x="102" y="3"/>
                </a:lnTo>
                <a:lnTo>
                  <a:pt x="102" y="2"/>
                </a:lnTo>
                <a:lnTo>
                  <a:pt x="101" y="2"/>
                </a:lnTo>
                <a:lnTo>
                  <a:pt x="98" y="2"/>
                </a:lnTo>
                <a:lnTo>
                  <a:pt x="96" y="2"/>
                </a:lnTo>
                <a:lnTo>
                  <a:pt x="96" y="1"/>
                </a:lnTo>
                <a:lnTo>
                  <a:pt x="95" y="1"/>
                </a:lnTo>
                <a:lnTo>
                  <a:pt x="91" y="1"/>
                </a:lnTo>
                <a:lnTo>
                  <a:pt x="89" y="1"/>
                </a:lnTo>
                <a:lnTo>
                  <a:pt x="88" y="1"/>
                </a:lnTo>
                <a:lnTo>
                  <a:pt x="85" y="1"/>
                </a:lnTo>
                <a:lnTo>
                  <a:pt x="83" y="1"/>
                </a:lnTo>
                <a:lnTo>
                  <a:pt x="83" y="0"/>
                </a:lnTo>
                <a:lnTo>
                  <a:pt x="82" y="0"/>
                </a:lnTo>
                <a:lnTo>
                  <a:pt x="79" y="0"/>
                </a:lnTo>
                <a:lnTo>
                  <a:pt x="78" y="0"/>
                </a:lnTo>
                <a:lnTo>
                  <a:pt x="76" y="0"/>
                </a:lnTo>
                <a:lnTo>
                  <a:pt x="73" y="0"/>
                </a:lnTo>
                <a:lnTo>
                  <a:pt x="71" y="0"/>
                </a:lnTo>
                <a:lnTo>
                  <a:pt x="67" y="1"/>
                </a:lnTo>
                <a:lnTo>
                  <a:pt x="66" y="1"/>
                </a:lnTo>
                <a:lnTo>
                  <a:pt x="61" y="2"/>
                </a:lnTo>
                <a:lnTo>
                  <a:pt x="60" y="2"/>
                </a:lnTo>
                <a:lnTo>
                  <a:pt x="56" y="3"/>
                </a:lnTo>
                <a:lnTo>
                  <a:pt x="55" y="3"/>
                </a:lnTo>
                <a:lnTo>
                  <a:pt x="51" y="5"/>
                </a:lnTo>
                <a:lnTo>
                  <a:pt x="50" y="5"/>
                </a:lnTo>
                <a:lnTo>
                  <a:pt x="49" y="6"/>
                </a:lnTo>
                <a:lnTo>
                  <a:pt x="46" y="7"/>
                </a:lnTo>
                <a:lnTo>
                  <a:pt x="45" y="7"/>
                </a:lnTo>
                <a:lnTo>
                  <a:pt x="44" y="8"/>
                </a:lnTo>
                <a:lnTo>
                  <a:pt x="42" y="9"/>
                </a:lnTo>
                <a:lnTo>
                  <a:pt x="41" y="9"/>
                </a:lnTo>
                <a:lnTo>
                  <a:pt x="40" y="10"/>
                </a:lnTo>
                <a:lnTo>
                  <a:pt x="37" y="11"/>
                </a:lnTo>
                <a:lnTo>
                  <a:pt x="36" y="12"/>
                </a:lnTo>
                <a:lnTo>
                  <a:pt x="35" y="13"/>
                </a:lnTo>
                <a:lnTo>
                  <a:pt x="34" y="14"/>
                </a:lnTo>
                <a:lnTo>
                  <a:pt x="33" y="15"/>
                </a:lnTo>
                <a:lnTo>
                  <a:pt x="31" y="17"/>
                </a:lnTo>
                <a:lnTo>
                  <a:pt x="29" y="18"/>
                </a:lnTo>
                <a:lnTo>
                  <a:pt x="28" y="19"/>
                </a:lnTo>
                <a:lnTo>
                  <a:pt x="27" y="20"/>
                </a:lnTo>
                <a:lnTo>
                  <a:pt x="26" y="22"/>
                </a:lnTo>
                <a:lnTo>
                  <a:pt x="25" y="23"/>
                </a:lnTo>
                <a:lnTo>
                  <a:pt x="24" y="24"/>
                </a:lnTo>
                <a:lnTo>
                  <a:pt x="22" y="25"/>
                </a:lnTo>
                <a:lnTo>
                  <a:pt x="21" y="26"/>
                </a:lnTo>
                <a:lnTo>
                  <a:pt x="19" y="30"/>
                </a:lnTo>
                <a:lnTo>
                  <a:pt x="19" y="31"/>
                </a:lnTo>
                <a:lnTo>
                  <a:pt x="18" y="32"/>
                </a:lnTo>
                <a:lnTo>
                  <a:pt x="16" y="34"/>
                </a:lnTo>
                <a:lnTo>
                  <a:pt x="15" y="35"/>
                </a:lnTo>
                <a:lnTo>
                  <a:pt x="14" y="36"/>
                </a:lnTo>
                <a:lnTo>
                  <a:pt x="13" y="39"/>
                </a:lnTo>
                <a:lnTo>
                  <a:pt x="12" y="40"/>
                </a:lnTo>
                <a:lnTo>
                  <a:pt x="10" y="44"/>
                </a:lnTo>
                <a:lnTo>
                  <a:pt x="10" y="45"/>
                </a:lnTo>
                <a:lnTo>
                  <a:pt x="8" y="49"/>
                </a:lnTo>
                <a:lnTo>
                  <a:pt x="8" y="51"/>
                </a:lnTo>
                <a:lnTo>
                  <a:pt x="7" y="55"/>
                </a:lnTo>
                <a:lnTo>
                  <a:pt x="7" y="57"/>
                </a:lnTo>
                <a:lnTo>
                  <a:pt x="5" y="61"/>
                </a:lnTo>
                <a:lnTo>
                  <a:pt x="5" y="63"/>
                </a:lnTo>
                <a:lnTo>
                  <a:pt x="4" y="67"/>
                </a:lnTo>
                <a:lnTo>
                  <a:pt x="4" y="69"/>
                </a:lnTo>
                <a:lnTo>
                  <a:pt x="2" y="72"/>
                </a:lnTo>
                <a:lnTo>
                  <a:pt x="2" y="75"/>
                </a:lnTo>
                <a:lnTo>
                  <a:pt x="2" y="77"/>
                </a:lnTo>
                <a:lnTo>
                  <a:pt x="1" y="79"/>
                </a:lnTo>
                <a:lnTo>
                  <a:pt x="1" y="82"/>
                </a:lnTo>
                <a:lnTo>
                  <a:pt x="1" y="84"/>
                </a:lnTo>
                <a:lnTo>
                  <a:pt x="0" y="86"/>
                </a:lnTo>
                <a:lnTo>
                  <a:pt x="0" y="89"/>
                </a:lnTo>
                <a:lnTo>
                  <a:pt x="0" y="91"/>
                </a:lnTo>
                <a:lnTo>
                  <a:pt x="0" y="92"/>
                </a:lnTo>
                <a:lnTo>
                  <a:pt x="0" y="93"/>
                </a:lnTo>
                <a:lnTo>
                  <a:pt x="0" y="96"/>
                </a:lnTo>
                <a:lnTo>
                  <a:pt x="0" y="99"/>
                </a:lnTo>
                <a:lnTo>
                  <a:pt x="0" y="100"/>
                </a:lnTo>
                <a:lnTo>
                  <a:pt x="0" y="101"/>
                </a:lnTo>
                <a:lnTo>
                  <a:pt x="0" y="104"/>
                </a:lnTo>
                <a:lnTo>
                  <a:pt x="0" y="107"/>
                </a:lnTo>
                <a:lnTo>
                  <a:pt x="1" y="107"/>
                </a:lnTo>
                <a:lnTo>
                  <a:pt x="7" y="107"/>
                </a:lnTo>
                <a:lnTo>
                  <a:pt x="11" y="107"/>
                </a:lnTo>
                <a:lnTo>
                  <a:pt x="12" y="107"/>
                </a:lnTo>
                <a:lnTo>
                  <a:pt x="12" y="106"/>
                </a:lnTo>
                <a:lnTo>
                  <a:pt x="12" y="103"/>
                </a:lnTo>
                <a:lnTo>
                  <a:pt x="12" y="100"/>
                </a:lnTo>
                <a:lnTo>
                  <a:pt x="12" y="99"/>
                </a:lnTo>
                <a:lnTo>
                  <a:pt x="12" y="98"/>
                </a:lnTo>
                <a:lnTo>
                  <a:pt x="12" y="95"/>
                </a:lnTo>
                <a:lnTo>
                  <a:pt x="12" y="93"/>
                </a:lnTo>
                <a:lnTo>
                  <a:pt x="12" y="92"/>
                </a:lnTo>
                <a:lnTo>
                  <a:pt x="12" y="91"/>
                </a:lnTo>
                <a:lnTo>
                  <a:pt x="12" y="88"/>
                </a:lnTo>
                <a:lnTo>
                  <a:pt x="12" y="86"/>
                </a:lnTo>
                <a:lnTo>
                  <a:pt x="13" y="85"/>
                </a:lnTo>
                <a:lnTo>
                  <a:pt x="13" y="84"/>
                </a:lnTo>
                <a:lnTo>
                  <a:pt x="13" y="81"/>
                </a:lnTo>
                <a:lnTo>
                  <a:pt x="13" y="79"/>
                </a:lnTo>
                <a:lnTo>
                  <a:pt x="14" y="78"/>
                </a:lnTo>
                <a:lnTo>
                  <a:pt x="14" y="75"/>
                </a:lnTo>
                <a:lnTo>
                  <a:pt x="14" y="73"/>
                </a:lnTo>
                <a:lnTo>
                  <a:pt x="15" y="72"/>
                </a:lnTo>
                <a:lnTo>
                  <a:pt x="15" y="68"/>
                </a:lnTo>
                <a:lnTo>
                  <a:pt x="15" y="66"/>
                </a:lnTo>
                <a:lnTo>
                  <a:pt x="16" y="65"/>
                </a:lnTo>
                <a:lnTo>
                  <a:pt x="16" y="62"/>
                </a:lnTo>
                <a:lnTo>
                  <a:pt x="16" y="61"/>
                </a:lnTo>
                <a:lnTo>
                  <a:pt x="18" y="60"/>
                </a:lnTo>
                <a:lnTo>
                  <a:pt x="19" y="57"/>
                </a:lnTo>
                <a:lnTo>
                  <a:pt x="19" y="55"/>
                </a:lnTo>
                <a:lnTo>
                  <a:pt x="20" y="54"/>
                </a:lnTo>
                <a:lnTo>
                  <a:pt x="20" y="51"/>
                </a:lnTo>
                <a:lnTo>
                  <a:pt x="20" y="50"/>
                </a:lnTo>
                <a:lnTo>
                  <a:pt x="21" y="49"/>
                </a:lnTo>
                <a:lnTo>
                  <a:pt x="22" y="47"/>
                </a:lnTo>
                <a:lnTo>
                  <a:pt x="23" y="45"/>
                </a:lnTo>
                <a:lnTo>
                  <a:pt x="24" y="43"/>
                </a:lnTo>
                <a:lnTo>
                  <a:pt x="25" y="42"/>
                </a:lnTo>
                <a:lnTo>
                  <a:pt x="26" y="41"/>
                </a:lnTo>
                <a:lnTo>
                  <a:pt x="27" y="39"/>
                </a:lnTo>
                <a:lnTo>
                  <a:pt x="28" y="37"/>
                </a:lnTo>
                <a:lnTo>
                  <a:pt x="29" y="35"/>
                </a:lnTo>
                <a:lnTo>
                  <a:pt x="30" y="33"/>
                </a:lnTo>
                <a:lnTo>
                  <a:pt x="31" y="32"/>
                </a:lnTo>
                <a:lnTo>
                  <a:pt x="33" y="31"/>
                </a:lnTo>
                <a:lnTo>
                  <a:pt x="34" y="30"/>
                </a:lnTo>
                <a:lnTo>
                  <a:pt x="35" y="29"/>
                </a:lnTo>
                <a:lnTo>
                  <a:pt x="36" y="28"/>
                </a:lnTo>
                <a:lnTo>
                  <a:pt x="37" y="27"/>
                </a:lnTo>
                <a:lnTo>
                  <a:pt x="38" y="26"/>
                </a:lnTo>
                <a:lnTo>
                  <a:pt x="39" y="25"/>
                </a:lnTo>
                <a:lnTo>
                  <a:pt x="40" y="24"/>
                </a:lnTo>
                <a:lnTo>
                  <a:pt x="41" y="23"/>
                </a:lnTo>
                <a:lnTo>
                  <a:pt x="43" y="22"/>
                </a:lnTo>
                <a:lnTo>
                  <a:pt x="44" y="21"/>
                </a:lnTo>
                <a:lnTo>
                  <a:pt x="45" y="20"/>
                </a:lnTo>
                <a:lnTo>
                  <a:pt x="46" y="19"/>
                </a:lnTo>
                <a:lnTo>
                  <a:pt x="49" y="19"/>
                </a:lnTo>
                <a:lnTo>
                  <a:pt x="50" y="19"/>
                </a:lnTo>
                <a:lnTo>
                  <a:pt x="51" y="18"/>
                </a:lnTo>
                <a:lnTo>
                  <a:pt x="52" y="17"/>
                </a:lnTo>
                <a:lnTo>
                  <a:pt x="54" y="15"/>
                </a:lnTo>
                <a:lnTo>
                  <a:pt x="56" y="15"/>
                </a:lnTo>
                <a:lnTo>
                  <a:pt x="57" y="15"/>
                </a:lnTo>
                <a:lnTo>
                  <a:pt x="58" y="14"/>
                </a:lnTo>
                <a:lnTo>
                  <a:pt x="60" y="14"/>
                </a:lnTo>
                <a:lnTo>
                  <a:pt x="61" y="14"/>
                </a:lnTo>
                <a:lnTo>
                  <a:pt x="63" y="13"/>
                </a:lnTo>
                <a:lnTo>
                  <a:pt x="66" y="13"/>
                </a:lnTo>
                <a:lnTo>
                  <a:pt x="67" y="13"/>
                </a:lnTo>
                <a:lnTo>
                  <a:pt x="68" y="12"/>
                </a:lnTo>
                <a:lnTo>
                  <a:pt x="70" y="12"/>
                </a:lnTo>
                <a:lnTo>
                  <a:pt x="71" y="12"/>
                </a:lnTo>
                <a:lnTo>
                  <a:pt x="72" y="11"/>
                </a:lnTo>
                <a:lnTo>
                  <a:pt x="75" y="11"/>
                </a:lnTo>
                <a:lnTo>
                  <a:pt x="76" y="11"/>
                </a:lnTo>
                <a:lnTo>
                  <a:pt x="78" y="11"/>
                </a:lnTo>
                <a:lnTo>
                  <a:pt x="81" y="11"/>
                </a:lnTo>
                <a:lnTo>
                  <a:pt x="82" y="11"/>
                </a:lnTo>
                <a:lnTo>
                  <a:pt x="83" y="11"/>
                </a:lnTo>
                <a:lnTo>
                  <a:pt x="86" y="11"/>
                </a:lnTo>
                <a:lnTo>
                  <a:pt x="87" y="11"/>
                </a:lnTo>
                <a:lnTo>
                  <a:pt x="88" y="11"/>
                </a:lnTo>
                <a:lnTo>
                  <a:pt x="91" y="12"/>
                </a:lnTo>
                <a:lnTo>
                  <a:pt x="93" y="12"/>
                </a:lnTo>
                <a:lnTo>
                  <a:pt x="94" y="12"/>
                </a:lnTo>
                <a:lnTo>
                  <a:pt x="97" y="13"/>
                </a:lnTo>
                <a:lnTo>
                  <a:pt x="99" y="13"/>
                </a:lnTo>
                <a:lnTo>
                  <a:pt x="100" y="13"/>
                </a:lnTo>
                <a:lnTo>
                  <a:pt x="103" y="14"/>
                </a:lnTo>
                <a:lnTo>
                  <a:pt x="105" y="14"/>
                </a:lnTo>
                <a:lnTo>
                  <a:pt x="107" y="14"/>
                </a:lnTo>
                <a:lnTo>
                  <a:pt x="110" y="17"/>
                </a:lnTo>
                <a:lnTo>
                  <a:pt x="112" y="17"/>
                </a:lnTo>
                <a:lnTo>
                  <a:pt x="113" y="17"/>
                </a:lnTo>
                <a:lnTo>
                  <a:pt x="116" y="19"/>
                </a:lnTo>
                <a:lnTo>
                  <a:pt x="118" y="19"/>
                </a:lnTo>
                <a:lnTo>
                  <a:pt x="119" y="19"/>
                </a:lnTo>
                <a:lnTo>
                  <a:pt x="123" y="7"/>
                </a:lnTo>
                <a:close/>
              </a:path>
            </a:pathLst>
          </a:custGeom>
          <a:solidFill>
            <a:srgbClr val="1f1a17"/>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81" name="Freeform 220"/>
          <p:cNvSpPr/>
          <p:nvPr/>
        </p:nvSpPr>
        <p:spPr>
          <a:xfrm>
            <a:off x="4425840" y="5432400"/>
            <a:ext cx="128520" cy="79560"/>
          </a:xfrm>
          <a:custGeom>
            <a:avLst/>
            <a:gdLst>
              <a:gd name="textAreaLeft" fmla="*/ 0 w 128520"/>
              <a:gd name="textAreaRight" fmla="*/ 128880 w 128520"/>
              <a:gd name="textAreaTop" fmla="*/ 0 h 79560"/>
              <a:gd name="textAreaBottom" fmla="*/ 79920 h 79560"/>
            </a:gdLst>
            <a:ahLst/>
            <a:rect l="textAreaLeft" t="textAreaTop" r="textAreaRight" b="textAreaBottom"/>
            <a:pathLst>
              <a:path w="162" h="100">
                <a:moveTo>
                  <a:pt x="156" y="88"/>
                </a:moveTo>
                <a:lnTo>
                  <a:pt x="159" y="90"/>
                </a:lnTo>
                <a:lnTo>
                  <a:pt x="161" y="90"/>
                </a:lnTo>
                <a:lnTo>
                  <a:pt x="162" y="90"/>
                </a:lnTo>
                <a:lnTo>
                  <a:pt x="159" y="88"/>
                </a:lnTo>
                <a:lnTo>
                  <a:pt x="158" y="87"/>
                </a:lnTo>
                <a:lnTo>
                  <a:pt x="158" y="86"/>
                </a:lnTo>
                <a:lnTo>
                  <a:pt x="156" y="84"/>
                </a:lnTo>
                <a:lnTo>
                  <a:pt x="155" y="83"/>
                </a:lnTo>
                <a:lnTo>
                  <a:pt x="155" y="82"/>
                </a:lnTo>
                <a:lnTo>
                  <a:pt x="152" y="80"/>
                </a:lnTo>
                <a:lnTo>
                  <a:pt x="151" y="79"/>
                </a:lnTo>
                <a:lnTo>
                  <a:pt x="151" y="78"/>
                </a:lnTo>
                <a:lnTo>
                  <a:pt x="148" y="77"/>
                </a:lnTo>
                <a:lnTo>
                  <a:pt x="147" y="76"/>
                </a:lnTo>
                <a:lnTo>
                  <a:pt x="147" y="75"/>
                </a:lnTo>
                <a:lnTo>
                  <a:pt x="144" y="73"/>
                </a:lnTo>
                <a:lnTo>
                  <a:pt x="143" y="72"/>
                </a:lnTo>
                <a:lnTo>
                  <a:pt x="143" y="71"/>
                </a:lnTo>
                <a:lnTo>
                  <a:pt x="141" y="69"/>
                </a:lnTo>
                <a:lnTo>
                  <a:pt x="140" y="68"/>
                </a:lnTo>
                <a:lnTo>
                  <a:pt x="140" y="67"/>
                </a:lnTo>
                <a:lnTo>
                  <a:pt x="137" y="66"/>
                </a:lnTo>
                <a:lnTo>
                  <a:pt x="136" y="65"/>
                </a:lnTo>
                <a:lnTo>
                  <a:pt x="136" y="64"/>
                </a:lnTo>
                <a:lnTo>
                  <a:pt x="132" y="62"/>
                </a:lnTo>
                <a:lnTo>
                  <a:pt x="131" y="61"/>
                </a:lnTo>
                <a:lnTo>
                  <a:pt x="131" y="60"/>
                </a:lnTo>
                <a:lnTo>
                  <a:pt x="129" y="59"/>
                </a:lnTo>
                <a:lnTo>
                  <a:pt x="128" y="58"/>
                </a:lnTo>
                <a:lnTo>
                  <a:pt x="128" y="57"/>
                </a:lnTo>
                <a:lnTo>
                  <a:pt x="125" y="56"/>
                </a:lnTo>
                <a:lnTo>
                  <a:pt x="124" y="55"/>
                </a:lnTo>
                <a:lnTo>
                  <a:pt x="124" y="54"/>
                </a:lnTo>
                <a:lnTo>
                  <a:pt x="120" y="53"/>
                </a:lnTo>
                <a:lnTo>
                  <a:pt x="119" y="52"/>
                </a:lnTo>
                <a:lnTo>
                  <a:pt x="119" y="51"/>
                </a:lnTo>
                <a:lnTo>
                  <a:pt x="116" y="50"/>
                </a:lnTo>
                <a:lnTo>
                  <a:pt x="115" y="49"/>
                </a:lnTo>
                <a:lnTo>
                  <a:pt x="115" y="48"/>
                </a:lnTo>
                <a:lnTo>
                  <a:pt x="111" y="47"/>
                </a:lnTo>
                <a:lnTo>
                  <a:pt x="110" y="46"/>
                </a:lnTo>
                <a:lnTo>
                  <a:pt x="110" y="45"/>
                </a:lnTo>
                <a:lnTo>
                  <a:pt x="107" y="44"/>
                </a:lnTo>
                <a:lnTo>
                  <a:pt x="105" y="43"/>
                </a:lnTo>
                <a:lnTo>
                  <a:pt x="105" y="42"/>
                </a:lnTo>
                <a:lnTo>
                  <a:pt x="102" y="41"/>
                </a:lnTo>
                <a:lnTo>
                  <a:pt x="101" y="40"/>
                </a:lnTo>
                <a:lnTo>
                  <a:pt x="101" y="39"/>
                </a:lnTo>
                <a:lnTo>
                  <a:pt x="100" y="39"/>
                </a:lnTo>
                <a:lnTo>
                  <a:pt x="97" y="38"/>
                </a:lnTo>
                <a:lnTo>
                  <a:pt x="96" y="38"/>
                </a:lnTo>
                <a:lnTo>
                  <a:pt x="96" y="37"/>
                </a:lnTo>
                <a:lnTo>
                  <a:pt x="93" y="36"/>
                </a:lnTo>
                <a:lnTo>
                  <a:pt x="92" y="35"/>
                </a:lnTo>
                <a:lnTo>
                  <a:pt x="92" y="34"/>
                </a:lnTo>
                <a:lnTo>
                  <a:pt x="90" y="34"/>
                </a:lnTo>
                <a:lnTo>
                  <a:pt x="87" y="33"/>
                </a:lnTo>
                <a:lnTo>
                  <a:pt x="86" y="33"/>
                </a:lnTo>
                <a:lnTo>
                  <a:pt x="86" y="32"/>
                </a:lnTo>
                <a:lnTo>
                  <a:pt x="83" y="31"/>
                </a:lnTo>
                <a:lnTo>
                  <a:pt x="82" y="30"/>
                </a:lnTo>
                <a:lnTo>
                  <a:pt x="82" y="29"/>
                </a:lnTo>
                <a:lnTo>
                  <a:pt x="81" y="29"/>
                </a:lnTo>
                <a:lnTo>
                  <a:pt x="78" y="28"/>
                </a:lnTo>
                <a:lnTo>
                  <a:pt x="77" y="28"/>
                </a:lnTo>
                <a:lnTo>
                  <a:pt x="77" y="27"/>
                </a:lnTo>
                <a:lnTo>
                  <a:pt x="75" y="27"/>
                </a:lnTo>
                <a:lnTo>
                  <a:pt x="72" y="26"/>
                </a:lnTo>
                <a:lnTo>
                  <a:pt x="71" y="26"/>
                </a:lnTo>
                <a:lnTo>
                  <a:pt x="71" y="25"/>
                </a:lnTo>
                <a:lnTo>
                  <a:pt x="70" y="25"/>
                </a:lnTo>
                <a:lnTo>
                  <a:pt x="67" y="24"/>
                </a:lnTo>
                <a:lnTo>
                  <a:pt x="66" y="24"/>
                </a:lnTo>
                <a:lnTo>
                  <a:pt x="66" y="23"/>
                </a:lnTo>
                <a:lnTo>
                  <a:pt x="62" y="22"/>
                </a:lnTo>
                <a:lnTo>
                  <a:pt x="60" y="21"/>
                </a:lnTo>
                <a:lnTo>
                  <a:pt x="60" y="20"/>
                </a:lnTo>
                <a:lnTo>
                  <a:pt x="59" y="20"/>
                </a:lnTo>
                <a:lnTo>
                  <a:pt x="56" y="19"/>
                </a:lnTo>
                <a:lnTo>
                  <a:pt x="54" y="19"/>
                </a:lnTo>
                <a:lnTo>
                  <a:pt x="54" y="18"/>
                </a:lnTo>
                <a:lnTo>
                  <a:pt x="53" y="18"/>
                </a:lnTo>
                <a:lnTo>
                  <a:pt x="50" y="17"/>
                </a:lnTo>
                <a:lnTo>
                  <a:pt x="49" y="17"/>
                </a:lnTo>
                <a:lnTo>
                  <a:pt x="49" y="16"/>
                </a:lnTo>
                <a:lnTo>
                  <a:pt x="48" y="16"/>
                </a:lnTo>
                <a:lnTo>
                  <a:pt x="44" y="15"/>
                </a:lnTo>
                <a:lnTo>
                  <a:pt x="42" y="15"/>
                </a:lnTo>
                <a:lnTo>
                  <a:pt x="42" y="14"/>
                </a:lnTo>
                <a:lnTo>
                  <a:pt x="41" y="14"/>
                </a:lnTo>
                <a:lnTo>
                  <a:pt x="38" y="13"/>
                </a:lnTo>
                <a:lnTo>
                  <a:pt x="37" y="13"/>
                </a:lnTo>
                <a:lnTo>
                  <a:pt x="37" y="12"/>
                </a:lnTo>
                <a:lnTo>
                  <a:pt x="36" y="12"/>
                </a:lnTo>
                <a:lnTo>
                  <a:pt x="33" y="11"/>
                </a:lnTo>
                <a:lnTo>
                  <a:pt x="30" y="11"/>
                </a:lnTo>
                <a:lnTo>
                  <a:pt x="30" y="10"/>
                </a:lnTo>
                <a:lnTo>
                  <a:pt x="26" y="8"/>
                </a:lnTo>
                <a:lnTo>
                  <a:pt x="24" y="7"/>
                </a:lnTo>
                <a:lnTo>
                  <a:pt x="24" y="6"/>
                </a:lnTo>
                <a:lnTo>
                  <a:pt x="23" y="6"/>
                </a:lnTo>
                <a:lnTo>
                  <a:pt x="20" y="5"/>
                </a:lnTo>
                <a:lnTo>
                  <a:pt x="18" y="5"/>
                </a:lnTo>
                <a:lnTo>
                  <a:pt x="18" y="4"/>
                </a:lnTo>
                <a:lnTo>
                  <a:pt x="16" y="4"/>
                </a:lnTo>
                <a:lnTo>
                  <a:pt x="13" y="3"/>
                </a:lnTo>
                <a:lnTo>
                  <a:pt x="11" y="3"/>
                </a:lnTo>
                <a:lnTo>
                  <a:pt x="11" y="2"/>
                </a:lnTo>
                <a:lnTo>
                  <a:pt x="10" y="2"/>
                </a:lnTo>
                <a:lnTo>
                  <a:pt x="9" y="2"/>
                </a:lnTo>
                <a:lnTo>
                  <a:pt x="6" y="1"/>
                </a:lnTo>
                <a:lnTo>
                  <a:pt x="4" y="1"/>
                </a:lnTo>
                <a:lnTo>
                  <a:pt x="4" y="0"/>
                </a:lnTo>
                <a:lnTo>
                  <a:pt x="3" y="2"/>
                </a:lnTo>
                <a:lnTo>
                  <a:pt x="1" y="7"/>
                </a:lnTo>
                <a:lnTo>
                  <a:pt x="0" y="12"/>
                </a:lnTo>
                <a:lnTo>
                  <a:pt x="4" y="14"/>
                </a:lnTo>
                <a:lnTo>
                  <a:pt x="6" y="14"/>
                </a:lnTo>
                <a:lnTo>
                  <a:pt x="7" y="14"/>
                </a:lnTo>
                <a:lnTo>
                  <a:pt x="10" y="16"/>
                </a:lnTo>
                <a:lnTo>
                  <a:pt x="12" y="16"/>
                </a:lnTo>
                <a:lnTo>
                  <a:pt x="13" y="16"/>
                </a:lnTo>
                <a:lnTo>
                  <a:pt x="16" y="18"/>
                </a:lnTo>
                <a:lnTo>
                  <a:pt x="19" y="18"/>
                </a:lnTo>
                <a:lnTo>
                  <a:pt x="20" y="18"/>
                </a:lnTo>
                <a:lnTo>
                  <a:pt x="23" y="20"/>
                </a:lnTo>
                <a:lnTo>
                  <a:pt x="25" y="20"/>
                </a:lnTo>
                <a:lnTo>
                  <a:pt x="26" y="20"/>
                </a:lnTo>
                <a:lnTo>
                  <a:pt x="29" y="22"/>
                </a:lnTo>
                <a:lnTo>
                  <a:pt x="31" y="22"/>
                </a:lnTo>
                <a:lnTo>
                  <a:pt x="33" y="22"/>
                </a:lnTo>
                <a:lnTo>
                  <a:pt x="36" y="24"/>
                </a:lnTo>
                <a:lnTo>
                  <a:pt x="38" y="24"/>
                </a:lnTo>
                <a:lnTo>
                  <a:pt x="39" y="24"/>
                </a:lnTo>
                <a:lnTo>
                  <a:pt x="42" y="26"/>
                </a:lnTo>
                <a:lnTo>
                  <a:pt x="43" y="26"/>
                </a:lnTo>
                <a:lnTo>
                  <a:pt x="44" y="26"/>
                </a:lnTo>
                <a:lnTo>
                  <a:pt x="48" y="28"/>
                </a:lnTo>
                <a:lnTo>
                  <a:pt x="49" y="28"/>
                </a:lnTo>
                <a:lnTo>
                  <a:pt x="50" y="28"/>
                </a:lnTo>
                <a:lnTo>
                  <a:pt x="53" y="30"/>
                </a:lnTo>
                <a:lnTo>
                  <a:pt x="54" y="30"/>
                </a:lnTo>
                <a:lnTo>
                  <a:pt x="55" y="30"/>
                </a:lnTo>
                <a:lnTo>
                  <a:pt x="58" y="32"/>
                </a:lnTo>
                <a:lnTo>
                  <a:pt x="59" y="33"/>
                </a:lnTo>
                <a:lnTo>
                  <a:pt x="60" y="33"/>
                </a:lnTo>
                <a:lnTo>
                  <a:pt x="64" y="35"/>
                </a:lnTo>
                <a:lnTo>
                  <a:pt x="65" y="35"/>
                </a:lnTo>
                <a:lnTo>
                  <a:pt x="66" y="35"/>
                </a:lnTo>
                <a:lnTo>
                  <a:pt x="69" y="37"/>
                </a:lnTo>
                <a:lnTo>
                  <a:pt x="70" y="37"/>
                </a:lnTo>
                <a:lnTo>
                  <a:pt x="71" y="37"/>
                </a:lnTo>
                <a:lnTo>
                  <a:pt x="74" y="39"/>
                </a:lnTo>
                <a:lnTo>
                  <a:pt x="75" y="39"/>
                </a:lnTo>
                <a:lnTo>
                  <a:pt x="77" y="39"/>
                </a:lnTo>
                <a:lnTo>
                  <a:pt x="79" y="41"/>
                </a:lnTo>
                <a:lnTo>
                  <a:pt x="80" y="42"/>
                </a:lnTo>
                <a:lnTo>
                  <a:pt x="81" y="42"/>
                </a:lnTo>
                <a:lnTo>
                  <a:pt x="84" y="44"/>
                </a:lnTo>
                <a:lnTo>
                  <a:pt x="85" y="44"/>
                </a:lnTo>
                <a:lnTo>
                  <a:pt x="86" y="44"/>
                </a:lnTo>
                <a:lnTo>
                  <a:pt x="88" y="46"/>
                </a:lnTo>
                <a:lnTo>
                  <a:pt x="90" y="46"/>
                </a:lnTo>
                <a:lnTo>
                  <a:pt x="93" y="48"/>
                </a:lnTo>
                <a:lnTo>
                  <a:pt x="94" y="49"/>
                </a:lnTo>
                <a:lnTo>
                  <a:pt x="95" y="49"/>
                </a:lnTo>
                <a:lnTo>
                  <a:pt x="97" y="51"/>
                </a:lnTo>
                <a:lnTo>
                  <a:pt x="99" y="51"/>
                </a:lnTo>
                <a:lnTo>
                  <a:pt x="101" y="53"/>
                </a:lnTo>
                <a:lnTo>
                  <a:pt x="102" y="54"/>
                </a:lnTo>
                <a:lnTo>
                  <a:pt x="103" y="54"/>
                </a:lnTo>
                <a:lnTo>
                  <a:pt x="105" y="56"/>
                </a:lnTo>
                <a:lnTo>
                  <a:pt x="107" y="57"/>
                </a:lnTo>
                <a:lnTo>
                  <a:pt x="108" y="57"/>
                </a:lnTo>
                <a:lnTo>
                  <a:pt x="110" y="59"/>
                </a:lnTo>
                <a:lnTo>
                  <a:pt x="112" y="59"/>
                </a:lnTo>
                <a:lnTo>
                  <a:pt x="114" y="61"/>
                </a:lnTo>
                <a:lnTo>
                  <a:pt x="115" y="62"/>
                </a:lnTo>
                <a:lnTo>
                  <a:pt x="116" y="62"/>
                </a:lnTo>
                <a:lnTo>
                  <a:pt x="118" y="65"/>
                </a:lnTo>
                <a:lnTo>
                  <a:pt x="119" y="66"/>
                </a:lnTo>
                <a:lnTo>
                  <a:pt x="120" y="66"/>
                </a:lnTo>
                <a:lnTo>
                  <a:pt x="122" y="68"/>
                </a:lnTo>
                <a:lnTo>
                  <a:pt x="123" y="69"/>
                </a:lnTo>
                <a:lnTo>
                  <a:pt x="124" y="69"/>
                </a:lnTo>
                <a:lnTo>
                  <a:pt x="126" y="71"/>
                </a:lnTo>
                <a:lnTo>
                  <a:pt x="127" y="72"/>
                </a:lnTo>
                <a:lnTo>
                  <a:pt x="128" y="72"/>
                </a:lnTo>
                <a:lnTo>
                  <a:pt x="129" y="74"/>
                </a:lnTo>
                <a:lnTo>
                  <a:pt x="130" y="75"/>
                </a:lnTo>
                <a:lnTo>
                  <a:pt x="131" y="75"/>
                </a:lnTo>
                <a:lnTo>
                  <a:pt x="133" y="78"/>
                </a:lnTo>
                <a:lnTo>
                  <a:pt x="134" y="79"/>
                </a:lnTo>
                <a:lnTo>
                  <a:pt x="136" y="79"/>
                </a:lnTo>
                <a:lnTo>
                  <a:pt x="137" y="81"/>
                </a:lnTo>
                <a:lnTo>
                  <a:pt x="138" y="82"/>
                </a:lnTo>
                <a:lnTo>
                  <a:pt x="139" y="82"/>
                </a:lnTo>
                <a:lnTo>
                  <a:pt x="140" y="85"/>
                </a:lnTo>
                <a:lnTo>
                  <a:pt x="141" y="86"/>
                </a:lnTo>
                <a:lnTo>
                  <a:pt x="142" y="86"/>
                </a:lnTo>
                <a:lnTo>
                  <a:pt x="144" y="88"/>
                </a:lnTo>
                <a:lnTo>
                  <a:pt x="145" y="89"/>
                </a:lnTo>
                <a:lnTo>
                  <a:pt x="146" y="89"/>
                </a:lnTo>
                <a:lnTo>
                  <a:pt x="147" y="92"/>
                </a:lnTo>
                <a:lnTo>
                  <a:pt x="148" y="93"/>
                </a:lnTo>
                <a:lnTo>
                  <a:pt x="149" y="93"/>
                </a:lnTo>
                <a:lnTo>
                  <a:pt x="151" y="96"/>
                </a:lnTo>
                <a:lnTo>
                  <a:pt x="152" y="97"/>
                </a:lnTo>
                <a:lnTo>
                  <a:pt x="153" y="97"/>
                </a:lnTo>
                <a:lnTo>
                  <a:pt x="156" y="99"/>
                </a:lnTo>
                <a:lnTo>
                  <a:pt x="158" y="99"/>
                </a:lnTo>
                <a:lnTo>
                  <a:pt x="159" y="99"/>
                </a:lnTo>
                <a:lnTo>
                  <a:pt x="158" y="99"/>
                </a:lnTo>
                <a:lnTo>
                  <a:pt x="155" y="98"/>
                </a:lnTo>
                <a:lnTo>
                  <a:pt x="153" y="98"/>
                </a:lnTo>
                <a:lnTo>
                  <a:pt x="153" y="97"/>
                </a:lnTo>
                <a:lnTo>
                  <a:pt x="154" y="99"/>
                </a:lnTo>
                <a:lnTo>
                  <a:pt x="155" y="100"/>
                </a:lnTo>
                <a:lnTo>
                  <a:pt x="157" y="100"/>
                </a:lnTo>
                <a:lnTo>
                  <a:pt x="158" y="100"/>
                </a:lnTo>
                <a:lnTo>
                  <a:pt x="159" y="99"/>
                </a:lnTo>
                <a:lnTo>
                  <a:pt x="156" y="88"/>
                </a:lnTo>
                <a:close/>
              </a:path>
            </a:pathLst>
          </a:custGeom>
          <a:solidFill>
            <a:srgbClr val="1f1a17"/>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82" name="Freeform 221"/>
          <p:cNvSpPr/>
          <p:nvPr/>
        </p:nvSpPr>
        <p:spPr>
          <a:xfrm>
            <a:off x="4549680" y="5450040"/>
            <a:ext cx="241560" cy="61920"/>
          </a:xfrm>
          <a:custGeom>
            <a:avLst/>
            <a:gdLst>
              <a:gd name="textAreaLeft" fmla="*/ 0 w 241560"/>
              <a:gd name="textAreaRight" fmla="*/ 241920 w 241560"/>
              <a:gd name="textAreaTop" fmla="*/ 0 h 61920"/>
              <a:gd name="textAreaBottom" fmla="*/ 62280 h 61920"/>
            </a:gdLst>
            <a:ahLst/>
            <a:rect l="textAreaLeft" t="textAreaTop" r="textAreaRight" b="textAreaBottom"/>
            <a:pathLst>
              <a:path w="303" h="77">
                <a:moveTo>
                  <a:pt x="292" y="6"/>
                </a:moveTo>
                <a:lnTo>
                  <a:pt x="294" y="3"/>
                </a:lnTo>
                <a:lnTo>
                  <a:pt x="295" y="1"/>
                </a:lnTo>
                <a:lnTo>
                  <a:pt x="296" y="0"/>
                </a:lnTo>
                <a:lnTo>
                  <a:pt x="289" y="2"/>
                </a:lnTo>
                <a:lnTo>
                  <a:pt x="249" y="11"/>
                </a:lnTo>
                <a:lnTo>
                  <a:pt x="110" y="42"/>
                </a:lnTo>
                <a:lnTo>
                  <a:pt x="5" y="65"/>
                </a:lnTo>
                <a:lnTo>
                  <a:pt x="0" y="66"/>
                </a:lnTo>
                <a:lnTo>
                  <a:pt x="0" y="67"/>
                </a:lnTo>
                <a:lnTo>
                  <a:pt x="0" y="68"/>
                </a:lnTo>
                <a:lnTo>
                  <a:pt x="1" y="73"/>
                </a:lnTo>
                <a:lnTo>
                  <a:pt x="2" y="77"/>
                </a:lnTo>
                <a:lnTo>
                  <a:pt x="3" y="77"/>
                </a:lnTo>
                <a:lnTo>
                  <a:pt x="8" y="76"/>
                </a:lnTo>
                <a:lnTo>
                  <a:pt x="49" y="67"/>
                </a:lnTo>
                <a:lnTo>
                  <a:pt x="188" y="36"/>
                </a:lnTo>
                <a:lnTo>
                  <a:pt x="293" y="13"/>
                </a:lnTo>
                <a:lnTo>
                  <a:pt x="299" y="11"/>
                </a:lnTo>
                <a:lnTo>
                  <a:pt x="301" y="8"/>
                </a:lnTo>
                <a:lnTo>
                  <a:pt x="302" y="6"/>
                </a:lnTo>
                <a:lnTo>
                  <a:pt x="303" y="5"/>
                </a:lnTo>
                <a:lnTo>
                  <a:pt x="302" y="6"/>
                </a:lnTo>
                <a:lnTo>
                  <a:pt x="300" y="9"/>
                </a:lnTo>
                <a:lnTo>
                  <a:pt x="299" y="11"/>
                </a:lnTo>
                <a:lnTo>
                  <a:pt x="301" y="11"/>
                </a:lnTo>
                <a:lnTo>
                  <a:pt x="302" y="11"/>
                </a:lnTo>
                <a:lnTo>
                  <a:pt x="303" y="10"/>
                </a:lnTo>
                <a:lnTo>
                  <a:pt x="303" y="7"/>
                </a:lnTo>
                <a:lnTo>
                  <a:pt x="303" y="6"/>
                </a:lnTo>
                <a:lnTo>
                  <a:pt x="303" y="5"/>
                </a:lnTo>
                <a:lnTo>
                  <a:pt x="292" y="6"/>
                </a:lnTo>
                <a:close/>
              </a:path>
            </a:pathLst>
          </a:custGeom>
          <a:solidFill>
            <a:srgbClr val="1f1a17"/>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83" name="Freeform 222"/>
          <p:cNvSpPr/>
          <p:nvPr/>
        </p:nvSpPr>
        <p:spPr>
          <a:xfrm>
            <a:off x="3497400" y="4710240"/>
            <a:ext cx="453960" cy="371520"/>
          </a:xfrm>
          <a:custGeom>
            <a:avLst/>
            <a:gdLst>
              <a:gd name="textAreaLeft" fmla="*/ 0 w 453960"/>
              <a:gd name="textAreaRight" fmla="*/ 454320 w 453960"/>
              <a:gd name="textAreaTop" fmla="*/ 0 h 371520"/>
              <a:gd name="textAreaBottom" fmla="*/ 371880 h 371520"/>
            </a:gdLst>
            <a:ahLst/>
            <a:rect l="textAreaLeft" t="textAreaTop" r="textAreaRight" b="textAreaBottom"/>
            <a:pathLst>
              <a:path w="573" h="467">
                <a:moveTo>
                  <a:pt x="573" y="153"/>
                </a:moveTo>
                <a:lnTo>
                  <a:pt x="570" y="151"/>
                </a:lnTo>
                <a:lnTo>
                  <a:pt x="554" y="130"/>
                </a:lnTo>
                <a:lnTo>
                  <a:pt x="496" y="58"/>
                </a:lnTo>
                <a:lnTo>
                  <a:pt x="453" y="3"/>
                </a:lnTo>
                <a:lnTo>
                  <a:pt x="451" y="0"/>
                </a:lnTo>
                <a:lnTo>
                  <a:pt x="429" y="11"/>
                </a:lnTo>
                <a:lnTo>
                  <a:pt x="383" y="26"/>
                </a:lnTo>
                <a:lnTo>
                  <a:pt x="292" y="49"/>
                </a:lnTo>
                <a:lnTo>
                  <a:pt x="250" y="66"/>
                </a:lnTo>
                <a:lnTo>
                  <a:pt x="216" y="91"/>
                </a:lnTo>
                <a:lnTo>
                  <a:pt x="203" y="109"/>
                </a:lnTo>
                <a:lnTo>
                  <a:pt x="199" y="110"/>
                </a:lnTo>
                <a:lnTo>
                  <a:pt x="171" y="111"/>
                </a:lnTo>
                <a:lnTo>
                  <a:pt x="76" y="114"/>
                </a:lnTo>
                <a:lnTo>
                  <a:pt x="4" y="117"/>
                </a:lnTo>
                <a:lnTo>
                  <a:pt x="0" y="117"/>
                </a:lnTo>
                <a:lnTo>
                  <a:pt x="1" y="121"/>
                </a:lnTo>
                <a:lnTo>
                  <a:pt x="10" y="141"/>
                </a:lnTo>
                <a:lnTo>
                  <a:pt x="39" y="214"/>
                </a:lnTo>
                <a:lnTo>
                  <a:pt x="61" y="270"/>
                </a:lnTo>
                <a:lnTo>
                  <a:pt x="64" y="273"/>
                </a:lnTo>
                <a:lnTo>
                  <a:pt x="59" y="278"/>
                </a:lnTo>
                <a:lnTo>
                  <a:pt x="55" y="284"/>
                </a:lnTo>
                <a:lnTo>
                  <a:pt x="49" y="299"/>
                </a:lnTo>
                <a:lnTo>
                  <a:pt x="36" y="333"/>
                </a:lnTo>
                <a:lnTo>
                  <a:pt x="22" y="359"/>
                </a:lnTo>
                <a:lnTo>
                  <a:pt x="26" y="364"/>
                </a:lnTo>
                <a:lnTo>
                  <a:pt x="36" y="379"/>
                </a:lnTo>
                <a:lnTo>
                  <a:pt x="57" y="418"/>
                </a:lnTo>
                <a:lnTo>
                  <a:pt x="70" y="459"/>
                </a:lnTo>
                <a:lnTo>
                  <a:pt x="71" y="467"/>
                </a:lnTo>
                <a:lnTo>
                  <a:pt x="84" y="453"/>
                </a:lnTo>
                <a:lnTo>
                  <a:pt x="99" y="428"/>
                </a:lnTo>
                <a:lnTo>
                  <a:pt x="104" y="408"/>
                </a:lnTo>
                <a:lnTo>
                  <a:pt x="106" y="390"/>
                </a:lnTo>
                <a:lnTo>
                  <a:pt x="114" y="372"/>
                </a:lnTo>
                <a:lnTo>
                  <a:pt x="134" y="353"/>
                </a:lnTo>
                <a:lnTo>
                  <a:pt x="153" y="342"/>
                </a:lnTo>
                <a:lnTo>
                  <a:pt x="163" y="354"/>
                </a:lnTo>
                <a:lnTo>
                  <a:pt x="180" y="375"/>
                </a:lnTo>
                <a:lnTo>
                  <a:pt x="204" y="405"/>
                </a:lnTo>
                <a:lnTo>
                  <a:pt x="213" y="411"/>
                </a:lnTo>
                <a:lnTo>
                  <a:pt x="217" y="412"/>
                </a:lnTo>
                <a:lnTo>
                  <a:pt x="221" y="412"/>
                </a:lnTo>
                <a:lnTo>
                  <a:pt x="226" y="409"/>
                </a:lnTo>
                <a:lnTo>
                  <a:pt x="232" y="405"/>
                </a:lnTo>
                <a:lnTo>
                  <a:pt x="279" y="369"/>
                </a:lnTo>
                <a:lnTo>
                  <a:pt x="442" y="250"/>
                </a:lnTo>
                <a:lnTo>
                  <a:pt x="565" y="158"/>
                </a:lnTo>
                <a:lnTo>
                  <a:pt x="573" y="1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223"/>
          <p:cNvSpPr/>
          <p:nvPr/>
        </p:nvSpPr>
        <p:spPr>
          <a:xfrm>
            <a:off x="3497400" y="4710240"/>
            <a:ext cx="453960" cy="371520"/>
          </a:xfrm>
          <a:custGeom>
            <a:avLst/>
            <a:gdLst>
              <a:gd name="textAreaLeft" fmla="*/ 0 w 453960"/>
              <a:gd name="textAreaRight" fmla="*/ 454320 w 453960"/>
              <a:gd name="textAreaTop" fmla="*/ 0 h 371520"/>
              <a:gd name="textAreaBottom" fmla="*/ 371880 h 371520"/>
            </a:gdLst>
            <a:ahLst/>
            <a:rect l="textAreaLeft" t="textAreaTop" r="textAreaRight" b="textAreaBottom"/>
            <a:pathLst>
              <a:path w="573" h="467">
                <a:moveTo>
                  <a:pt x="573" y="153"/>
                </a:moveTo>
                <a:lnTo>
                  <a:pt x="570" y="151"/>
                </a:lnTo>
                <a:lnTo>
                  <a:pt x="554" y="130"/>
                </a:lnTo>
                <a:lnTo>
                  <a:pt x="496" y="58"/>
                </a:lnTo>
                <a:lnTo>
                  <a:pt x="453" y="3"/>
                </a:lnTo>
                <a:lnTo>
                  <a:pt x="451" y="0"/>
                </a:lnTo>
                <a:lnTo>
                  <a:pt x="429" y="11"/>
                </a:lnTo>
                <a:lnTo>
                  <a:pt x="383" y="26"/>
                </a:lnTo>
                <a:lnTo>
                  <a:pt x="292" y="49"/>
                </a:lnTo>
                <a:lnTo>
                  <a:pt x="250" y="66"/>
                </a:lnTo>
                <a:lnTo>
                  <a:pt x="216" y="91"/>
                </a:lnTo>
                <a:lnTo>
                  <a:pt x="203" y="109"/>
                </a:lnTo>
                <a:lnTo>
                  <a:pt x="199" y="110"/>
                </a:lnTo>
                <a:lnTo>
                  <a:pt x="171" y="111"/>
                </a:lnTo>
                <a:lnTo>
                  <a:pt x="76" y="114"/>
                </a:lnTo>
                <a:lnTo>
                  <a:pt x="4" y="117"/>
                </a:lnTo>
                <a:lnTo>
                  <a:pt x="0" y="117"/>
                </a:lnTo>
                <a:lnTo>
                  <a:pt x="1" y="121"/>
                </a:lnTo>
                <a:lnTo>
                  <a:pt x="10" y="141"/>
                </a:lnTo>
                <a:lnTo>
                  <a:pt x="39" y="214"/>
                </a:lnTo>
                <a:lnTo>
                  <a:pt x="61" y="270"/>
                </a:lnTo>
                <a:lnTo>
                  <a:pt x="64" y="273"/>
                </a:lnTo>
                <a:lnTo>
                  <a:pt x="59" y="278"/>
                </a:lnTo>
                <a:lnTo>
                  <a:pt x="55" y="284"/>
                </a:lnTo>
                <a:lnTo>
                  <a:pt x="49" y="299"/>
                </a:lnTo>
                <a:lnTo>
                  <a:pt x="36" y="333"/>
                </a:lnTo>
                <a:lnTo>
                  <a:pt x="22" y="359"/>
                </a:lnTo>
                <a:lnTo>
                  <a:pt x="26" y="364"/>
                </a:lnTo>
                <a:lnTo>
                  <a:pt x="36" y="379"/>
                </a:lnTo>
                <a:lnTo>
                  <a:pt x="57" y="418"/>
                </a:lnTo>
                <a:lnTo>
                  <a:pt x="70" y="459"/>
                </a:lnTo>
                <a:lnTo>
                  <a:pt x="71" y="467"/>
                </a:lnTo>
                <a:lnTo>
                  <a:pt x="84" y="453"/>
                </a:lnTo>
                <a:lnTo>
                  <a:pt x="99" y="428"/>
                </a:lnTo>
                <a:lnTo>
                  <a:pt x="104" y="408"/>
                </a:lnTo>
                <a:lnTo>
                  <a:pt x="106" y="390"/>
                </a:lnTo>
                <a:lnTo>
                  <a:pt x="114" y="372"/>
                </a:lnTo>
                <a:lnTo>
                  <a:pt x="134" y="353"/>
                </a:lnTo>
                <a:lnTo>
                  <a:pt x="153" y="342"/>
                </a:lnTo>
                <a:lnTo>
                  <a:pt x="163" y="354"/>
                </a:lnTo>
                <a:lnTo>
                  <a:pt x="180" y="375"/>
                </a:lnTo>
                <a:lnTo>
                  <a:pt x="204" y="405"/>
                </a:lnTo>
                <a:lnTo>
                  <a:pt x="213" y="411"/>
                </a:lnTo>
                <a:lnTo>
                  <a:pt x="217" y="412"/>
                </a:lnTo>
                <a:lnTo>
                  <a:pt x="221" y="412"/>
                </a:lnTo>
                <a:lnTo>
                  <a:pt x="226" y="409"/>
                </a:lnTo>
                <a:lnTo>
                  <a:pt x="232" y="405"/>
                </a:lnTo>
                <a:lnTo>
                  <a:pt x="279" y="369"/>
                </a:lnTo>
                <a:lnTo>
                  <a:pt x="442" y="250"/>
                </a:lnTo>
                <a:lnTo>
                  <a:pt x="565" y="158"/>
                </a:lnTo>
                <a:lnTo>
                  <a:pt x="573" y="153"/>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224"/>
          <p:cNvSpPr/>
          <p:nvPr/>
        </p:nvSpPr>
        <p:spPr>
          <a:xfrm>
            <a:off x="3913200" y="4950000"/>
            <a:ext cx="635040" cy="474480"/>
          </a:xfrm>
          <a:custGeom>
            <a:avLst/>
            <a:gdLst>
              <a:gd name="textAreaLeft" fmla="*/ 0 w 635040"/>
              <a:gd name="textAreaRight" fmla="*/ 635040 w 635040"/>
              <a:gd name="textAreaTop" fmla="*/ 0 h 474480"/>
              <a:gd name="textAreaBottom" fmla="*/ 474840 h 474480"/>
            </a:gdLst>
            <a:ahLst/>
            <a:rect l="textAreaLeft" t="textAreaTop" r="textAreaRight" b="textAreaBottom"/>
            <a:pathLst>
              <a:path w="801" h="598">
                <a:moveTo>
                  <a:pt x="516" y="54"/>
                </a:moveTo>
                <a:lnTo>
                  <a:pt x="511" y="54"/>
                </a:lnTo>
                <a:lnTo>
                  <a:pt x="487" y="47"/>
                </a:lnTo>
                <a:lnTo>
                  <a:pt x="400" y="24"/>
                </a:lnTo>
                <a:lnTo>
                  <a:pt x="334" y="5"/>
                </a:lnTo>
                <a:lnTo>
                  <a:pt x="331" y="4"/>
                </a:lnTo>
                <a:lnTo>
                  <a:pt x="296" y="0"/>
                </a:lnTo>
                <a:lnTo>
                  <a:pt x="259" y="3"/>
                </a:lnTo>
                <a:lnTo>
                  <a:pt x="222" y="14"/>
                </a:lnTo>
                <a:lnTo>
                  <a:pt x="185" y="32"/>
                </a:lnTo>
                <a:lnTo>
                  <a:pt x="114" y="82"/>
                </a:lnTo>
                <a:lnTo>
                  <a:pt x="55" y="149"/>
                </a:lnTo>
                <a:lnTo>
                  <a:pt x="15" y="226"/>
                </a:lnTo>
                <a:lnTo>
                  <a:pt x="0" y="306"/>
                </a:lnTo>
                <a:lnTo>
                  <a:pt x="21" y="315"/>
                </a:lnTo>
                <a:lnTo>
                  <a:pt x="67" y="340"/>
                </a:lnTo>
                <a:lnTo>
                  <a:pt x="165" y="406"/>
                </a:lnTo>
                <a:lnTo>
                  <a:pt x="270" y="457"/>
                </a:lnTo>
                <a:lnTo>
                  <a:pt x="298" y="461"/>
                </a:lnTo>
                <a:lnTo>
                  <a:pt x="308" y="474"/>
                </a:lnTo>
                <a:lnTo>
                  <a:pt x="325" y="489"/>
                </a:lnTo>
                <a:lnTo>
                  <a:pt x="377" y="522"/>
                </a:lnTo>
                <a:lnTo>
                  <a:pt x="511" y="583"/>
                </a:lnTo>
                <a:lnTo>
                  <a:pt x="609" y="598"/>
                </a:lnTo>
                <a:lnTo>
                  <a:pt x="636" y="586"/>
                </a:lnTo>
                <a:lnTo>
                  <a:pt x="682" y="562"/>
                </a:lnTo>
                <a:lnTo>
                  <a:pt x="743" y="517"/>
                </a:lnTo>
                <a:lnTo>
                  <a:pt x="788" y="458"/>
                </a:lnTo>
                <a:lnTo>
                  <a:pt x="801" y="439"/>
                </a:lnTo>
                <a:lnTo>
                  <a:pt x="800" y="420"/>
                </a:lnTo>
                <a:lnTo>
                  <a:pt x="798" y="383"/>
                </a:lnTo>
                <a:lnTo>
                  <a:pt x="784" y="304"/>
                </a:lnTo>
                <a:lnTo>
                  <a:pt x="730" y="177"/>
                </a:lnTo>
                <a:lnTo>
                  <a:pt x="709" y="133"/>
                </a:lnTo>
                <a:lnTo>
                  <a:pt x="704" y="128"/>
                </a:lnTo>
                <a:lnTo>
                  <a:pt x="700" y="125"/>
                </a:lnTo>
                <a:lnTo>
                  <a:pt x="687" y="119"/>
                </a:lnTo>
                <a:lnTo>
                  <a:pt x="652" y="102"/>
                </a:lnTo>
                <a:lnTo>
                  <a:pt x="563" y="68"/>
                </a:lnTo>
                <a:lnTo>
                  <a:pt x="516"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225"/>
          <p:cNvSpPr/>
          <p:nvPr/>
        </p:nvSpPr>
        <p:spPr>
          <a:xfrm>
            <a:off x="3913200" y="4950000"/>
            <a:ext cx="635040" cy="474480"/>
          </a:xfrm>
          <a:custGeom>
            <a:avLst/>
            <a:gdLst>
              <a:gd name="textAreaLeft" fmla="*/ 0 w 635040"/>
              <a:gd name="textAreaRight" fmla="*/ 635040 w 635040"/>
              <a:gd name="textAreaTop" fmla="*/ 0 h 474480"/>
              <a:gd name="textAreaBottom" fmla="*/ 474840 h 474480"/>
            </a:gdLst>
            <a:ahLst/>
            <a:rect l="textAreaLeft" t="textAreaTop" r="textAreaRight" b="textAreaBottom"/>
            <a:pathLst>
              <a:path w="801" h="598">
                <a:moveTo>
                  <a:pt x="516" y="54"/>
                </a:moveTo>
                <a:lnTo>
                  <a:pt x="511" y="54"/>
                </a:lnTo>
                <a:lnTo>
                  <a:pt x="487" y="47"/>
                </a:lnTo>
                <a:lnTo>
                  <a:pt x="400" y="24"/>
                </a:lnTo>
                <a:lnTo>
                  <a:pt x="334" y="5"/>
                </a:lnTo>
                <a:lnTo>
                  <a:pt x="331" y="4"/>
                </a:lnTo>
                <a:lnTo>
                  <a:pt x="296" y="0"/>
                </a:lnTo>
                <a:lnTo>
                  <a:pt x="259" y="3"/>
                </a:lnTo>
                <a:lnTo>
                  <a:pt x="222" y="14"/>
                </a:lnTo>
                <a:lnTo>
                  <a:pt x="185" y="32"/>
                </a:lnTo>
                <a:lnTo>
                  <a:pt x="114" y="82"/>
                </a:lnTo>
                <a:lnTo>
                  <a:pt x="55" y="149"/>
                </a:lnTo>
                <a:lnTo>
                  <a:pt x="15" y="226"/>
                </a:lnTo>
                <a:lnTo>
                  <a:pt x="0" y="306"/>
                </a:lnTo>
                <a:lnTo>
                  <a:pt x="21" y="315"/>
                </a:lnTo>
                <a:lnTo>
                  <a:pt x="67" y="340"/>
                </a:lnTo>
                <a:lnTo>
                  <a:pt x="165" y="406"/>
                </a:lnTo>
                <a:lnTo>
                  <a:pt x="270" y="457"/>
                </a:lnTo>
                <a:lnTo>
                  <a:pt x="298" y="461"/>
                </a:lnTo>
                <a:lnTo>
                  <a:pt x="308" y="474"/>
                </a:lnTo>
                <a:lnTo>
                  <a:pt x="325" y="489"/>
                </a:lnTo>
                <a:lnTo>
                  <a:pt x="377" y="522"/>
                </a:lnTo>
                <a:lnTo>
                  <a:pt x="511" y="583"/>
                </a:lnTo>
                <a:lnTo>
                  <a:pt x="609" y="598"/>
                </a:lnTo>
                <a:lnTo>
                  <a:pt x="636" y="586"/>
                </a:lnTo>
                <a:lnTo>
                  <a:pt x="682" y="562"/>
                </a:lnTo>
                <a:lnTo>
                  <a:pt x="743" y="517"/>
                </a:lnTo>
                <a:lnTo>
                  <a:pt x="788" y="458"/>
                </a:lnTo>
                <a:lnTo>
                  <a:pt x="801" y="439"/>
                </a:lnTo>
                <a:lnTo>
                  <a:pt x="800" y="420"/>
                </a:lnTo>
                <a:lnTo>
                  <a:pt x="798" y="383"/>
                </a:lnTo>
                <a:lnTo>
                  <a:pt x="784" y="304"/>
                </a:lnTo>
                <a:lnTo>
                  <a:pt x="730" y="177"/>
                </a:lnTo>
                <a:lnTo>
                  <a:pt x="709" y="133"/>
                </a:lnTo>
                <a:lnTo>
                  <a:pt x="704" y="128"/>
                </a:lnTo>
                <a:lnTo>
                  <a:pt x="700" y="125"/>
                </a:lnTo>
                <a:lnTo>
                  <a:pt x="687" y="119"/>
                </a:lnTo>
                <a:lnTo>
                  <a:pt x="652" y="102"/>
                </a:lnTo>
                <a:lnTo>
                  <a:pt x="563" y="68"/>
                </a:lnTo>
                <a:lnTo>
                  <a:pt x="516" y="54"/>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226"/>
          <p:cNvSpPr/>
          <p:nvPr/>
        </p:nvSpPr>
        <p:spPr>
          <a:xfrm>
            <a:off x="4017960" y="4799160"/>
            <a:ext cx="816120" cy="793440"/>
          </a:xfrm>
          <a:custGeom>
            <a:avLst/>
            <a:gdLst>
              <a:gd name="textAreaLeft" fmla="*/ 0 w 816120"/>
              <a:gd name="textAreaRight" fmla="*/ 816480 w 816120"/>
              <a:gd name="textAreaTop" fmla="*/ 0 h 793440"/>
              <a:gd name="textAreaBottom" fmla="*/ 793800 h 793440"/>
            </a:gdLst>
            <a:ahLst/>
            <a:rect l="textAreaLeft" t="textAreaTop" r="textAreaRight" b="textAreaBottom"/>
            <a:pathLst>
              <a:path w="1028" h="999">
                <a:moveTo>
                  <a:pt x="485" y="788"/>
                </a:moveTo>
                <a:lnTo>
                  <a:pt x="498" y="794"/>
                </a:lnTo>
                <a:lnTo>
                  <a:pt x="527" y="804"/>
                </a:lnTo>
                <a:lnTo>
                  <a:pt x="596" y="832"/>
                </a:lnTo>
                <a:lnTo>
                  <a:pt x="658" y="875"/>
                </a:lnTo>
                <a:lnTo>
                  <a:pt x="671" y="889"/>
                </a:lnTo>
                <a:lnTo>
                  <a:pt x="672" y="902"/>
                </a:lnTo>
                <a:lnTo>
                  <a:pt x="673" y="926"/>
                </a:lnTo>
                <a:lnTo>
                  <a:pt x="672" y="967"/>
                </a:lnTo>
                <a:lnTo>
                  <a:pt x="672" y="984"/>
                </a:lnTo>
                <a:lnTo>
                  <a:pt x="677" y="996"/>
                </a:lnTo>
                <a:lnTo>
                  <a:pt x="682" y="999"/>
                </a:lnTo>
                <a:lnTo>
                  <a:pt x="706" y="994"/>
                </a:lnTo>
                <a:lnTo>
                  <a:pt x="763" y="974"/>
                </a:lnTo>
                <a:lnTo>
                  <a:pt x="890" y="912"/>
                </a:lnTo>
                <a:lnTo>
                  <a:pt x="1000" y="854"/>
                </a:lnTo>
                <a:lnTo>
                  <a:pt x="1022" y="845"/>
                </a:lnTo>
                <a:lnTo>
                  <a:pt x="1021" y="847"/>
                </a:lnTo>
                <a:lnTo>
                  <a:pt x="1021" y="848"/>
                </a:lnTo>
                <a:lnTo>
                  <a:pt x="1019" y="849"/>
                </a:lnTo>
                <a:lnTo>
                  <a:pt x="1018" y="849"/>
                </a:lnTo>
                <a:lnTo>
                  <a:pt x="1017" y="849"/>
                </a:lnTo>
                <a:lnTo>
                  <a:pt x="1015" y="848"/>
                </a:lnTo>
                <a:lnTo>
                  <a:pt x="1012" y="846"/>
                </a:lnTo>
                <a:lnTo>
                  <a:pt x="1001" y="839"/>
                </a:lnTo>
                <a:lnTo>
                  <a:pt x="971" y="827"/>
                </a:lnTo>
                <a:lnTo>
                  <a:pt x="954" y="827"/>
                </a:lnTo>
                <a:lnTo>
                  <a:pt x="958" y="817"/>
                </a:lnTo>
                <a:lnTo>
                  <a:pt x="962" y="804"/>
                </a:lnTo>
                <a:lnTo>
                  <a:pt x="963" y="790"/>
                </a:lnTo>
                <a:lnTo>
                  <a:pt x="962" y="760"/>
                </a:lnTo>
                <a:lnTo>
                  <a:pt x="957" y="707"/>
                </a:lnTo>
                <a:lnTo>
                  <a:pt x="969" y="691"/>
                </a:lnTo>
                <a:lnTo>
                  <a:pt x="970" y="690"/>
                </a:lnTo>
                <a:lnTo>
                  <a:pt x="978" y="680"/>
                </a:lnTo>
                <a:lnTo>
                  <a:pt x="1006" y="647"/>
                </a:lnTo>
                <a:lnTo>
                  <a:pt x="1026" y="620"/>
                </a:lnTo>
                <a:lnTo>
                  <a:pt x="1028" y="618"/>
                </a:lnTo>
                <a:lnTo>
                  <a:pt x="1025" y="616"/>
                </a:lnTo>
                <a:lnTo>
                  <a:pt x="1010" y="595"/>
                </a:lnTo>
                <a:lnTo>
                  <a:pt x="956" y="522"/>
                </a:lnTo>
                <a:lnTo>
                  <a:pt x="915" y="466"/>
                </a:lnTo>
                <a:lnTo>
                  <a:pt x="913" y="463"/>
                </a:lnTo>
                <a:lnTo>
                  <a:pt x="914" y="462"/>
                </a:lnTo>
                <a:lnTo>
                  <a:pt x="922" y="448"/>
                </a:lnTo>
                <a:lnTo>
                  <a:pt x="950" y="401"/>
                </a:lnTo>
                <a:lnTo>
                  <a:pt x="971" y="365"/>
                </a:lnTo>
                <a:lnTo>
                  <a:pt x="973" y="363"/>
                </a:lnTo>
                <a:lnTo>
                  <a:pt x="964" y="348"/>
                </a:lnTo>
                <a:lnTo>
                  <a:pt x="936" y="299"/>
                </a:lnTo>
                <a:lnTo>
                  <a:pt x="914" y="262"/>
                </a:lnTo>
                <a:lnTo>
                  <a:pt x="913" y="260"/>
                </a:lnTo>
                <a:lnTo>
                  <a:pt x="911" y="262"/>
                </a:lnTo>
                <a:lnTo>
                  <a:pt x="903" y="271"/>
                </a:lnTo>
                <a:lnTo>
                  <a:pt x="871" y="300"/>
                </a:lnTo>
                <a:lnTo>
                  <a:pt x="849" y="322"/>
                </a:lnTo>
                <a:lnTo>
                  <a:pt x="848" y="323"/>
                </a:lnTo>
                <a:lnTo>
                  <a:pt x="844" y="322"/>
                </a:lnTo>
                <a:lnTo>
                  <a:pt x="821" y="312"/>
                </a:lnTo>
                <a:lnTo>
                  <a:pt x="744" y="279"/>
                </a:lnTo>
                <a:lnTo>
                  <a:pt x="685" y="253"/>
                </a:lnTo>
                <a:lnTo>
                  <a:pt x="682" y="251"/>
                </a:lnTo>
                <a:lnTo>
                  <a:pt x="688" y="233"/>
                </a:lnTo>
                <a:lnTo>
                  <a:pt x="690" y="202"/>
                </a:lnTo>
                <a:lnTo>
                  <a:pt x="680" y="180"/>
                </a:lnTo>
                <a:lnTo>
                  <a:pt x="659" y="164"/>
                </a:lnTo>
                <a:lnTo>
                  <a:pt x="631" y="150"/>
                </a:lnTo>
                <a:lnTo>
                  <a:pt x="601" y="137"/>
                </a:lnTo>
                <a:lnTo>
                  <a:pt x="586" y="129"/>
                </a:lnTo>
                <a:lnTo>
                  <a:pt x="584" y="127"/>
                </a:lnTo>
                <a:lnTo>
                  <a:pt x="577" y="110"/>
                </a:lnTo>
                <a:lnTo>
                  <a:pt x="550" y="49"/>
                </a:lnTo>
                <a:lnTo>
                  <a:pt x="530" y="3"/>
                </a:lnTo>
                <a:lnTo>
                  <a:pt x="529" y="0"/>
                </a:lnTo>
                <a:lnTo>
                  <a:pt x="523" y="1"/>
                </a:lnTo>
                <a:lnTo>
                  <a:pt x="484" y="4"/>
                </a:lnTo>
                <a:lnTo>
                  <a:pt x="351" y="15"/>
                </a:lnTo>
                <a:lnTo>
                  <a:pt x="251" y="23"/>
                </a:lnTo>
                <a:lnTo>
                  <a:pt x="245" y="23"/>
                </a:lnTo>
                <a:lnTo>
                  <a:pt x="240" y="25"/>
                </a:lnTo>
                <a:lnTo>
                  <a:pt x="207" y="38"/>
                </a:lnTo>
                <a:lnTo>
                  <a:pt x="92" y="83"/>
                </a:lnTo>
                <a:lnTo>
                  <a:pt x="4" y="118"/>
                </a:lnTo>
                <a:lnTo>
                  <a:pt x="0" y="119"/>
                </a:lnTo>
                <a:lnTo>
                  <a:pt x="38" y="139"/>
                </a:lnTo>
                <a:lnTo>
                  <a:pt x="126" y="172"/>
                </a:lnTo>
                <a:lnTo>
                  <a:pt x="323" y="221"/>
                </a:lnTo>
                <a:lnTo>
                  <a:pt x="509" y="279"/>
                </a:lnTo>
                <a:lnTo>
                  <a:pt x="549" y="298"/>
                </a:lnTo>
                <a:lnTo>
                  <a:pt x="559" y="308"/>
                </a:lnTo>
                <a:lnTo>
                  <a:pt x="573" y="325"/>
                </a:lnTo>
                <a:lnTo>
                  <a:pt x="604" y="374"/>
                </a:lnTo>
                <a:lnTo>
                  <a:pt x="660" y="507"/>
                </a:lnTo>
                <a:lnTo>
                  <a:pt x="670" y="632"/>
                </a:lnTo>
                <a:lnTo>
                  <a:pt x="662" y="650"/>
                </a:lnTo>
                <a:lnTo>
                  <a:pt x="652" y="667"/>
                </a:lnTo>
                <a:lnTo>
                  <a:pt x="618" y="701"/>
                </a:lnTo>
                <a:lnTo>
                  <a:pt x="579" y="732"/>
                </a:lnTo>
                <a:lnTo>
                  <a:pt x="505" y="778"/>
                </a:lnTo>
                <a:lnTo>
                  <a:pt x="485" y="7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227"/>
          <p:cNvSpPr/>
          <p:nvPr/>
        </p:nvSpPr>
        <p:spPr>
          <a:xfrm>
            <a:off x="4017960" y="4799160"/>
            <a:ext cx="816120" cy="793440"/>
          </a:xfrm>
          <a:custGeom>
            <a:avLst/>
            <a:gdLst>
              <a:gd name="textAreaLeft" fmla="*/ 0 w 816120"/>
              <a:gd name="textAreaRight" fmla="*/ 816480 w 816120"/>
              <a:gd name="textAreaTop" fmla="*/ 0 h 793440"/>
              <a:gd name="textAreaBottom" fmla="*/ 793800 h 793440"/>
            </a:gdLst>
            <a:ahLst/>
            <a:rect l="textAreaLeft" t="textAreaTop" r="textAreaRight" b="textAreaBottom"/>
            <a:pathLst>
              <a:path w="1028" h="999">
                <a:moveTo>
                  <a:pt x="485" y="788"/>
                </a:moveTo>
                <a:lnTo>
                  <a:pt x="498" y="794"/>
                </a:lnTo>
                <a:lnTo>
                  <a:pt x="527" y="804"/>
                </a:lnTo>
                <a:lnTo>
                  <a:pt x="596" y="832"/>
                </a:lnTo>
                <a:lnTo>
                  <a:pt x="658" y="875"/>
                </a:lnTo>
                <a:lnTo>
                  <a:pt x="671" y="889"/>
                </a:lnTo>
                <a:lnTo>
                  <a:pt x="672" y="902"/>
                </a:lnTo>
                <a:lnTo>
                  <a:pt x="673" y="926"/>
                </a:lnTo>
                <a:lnTo>
                  <a:pt x="672" y="967"/>
                </a:lnTo>
                <a:lnTo>
                  <a:pt x="672" y="984"/>
                </a:lnTo>
                <a:lnTo>
                  <a:pt x="677" y="996"/>
                </a:lnTo>
                <a:lnTo>
                  <a:pt x="682" y="999"/>
                </a:lnTo>
                <a:lnTo>
                  <a:pt x="706" y="994"/>
                </a:lnTo>
                <a:lnTo>
                  <a:pt x="763" y="974"/>
                </a:lnTo>
                <a:lnTo>
                  <a:pt x="890" y="912"/>
                </a:lnTo>
                <a:lnTo>
                  <a:pt x="1000" y="854"/>
                </a:lnTo>
                <a:lnTo>
                  <a:pt x="1022" y="845"/>
                </a:lnTo>
                <a:lnTo>
                  <a:pt x="1021" y="847"/>
                </a:lnTo>
                <a:lnTo>
                  <a:pt x="1021" y="848"/>
                </a:lnTo>
                <a:lnTo>
                  <a:pt x="1019" y="849"/>
                </a:lnTo>
                <a:lnTo>
                  <a:pt x="1018" y="849"/>
                </a:lnTo>
                <a:lnTo>
                  <a:pt x="1017" y="849"/>
                </a:lnTo>
                <a:lnTo>
                  <a:pt x="1015" y="848"/>
                </a:lnTo>
                <a:lnTo>
                  <a:pt x="1012" y="846"/>
                </a:lnTo>
                <a:lnTo>
                  <a:pt x="1001" y="839"/>
                </a:lnTo>
                <a:lnTo>
                  <a:pt x="971" y="827"/>
                </a:lnTo>
                <a:lnTo>
                  <a:pt x="954" y="827"/>
                </a:lnTo>
                <a:lnTo>
                  <a:pt x="958" y="817"/>
                </a:lnTo>
                <a:lnTo>
                  <a:pt x="962" y="804"/>
                </a:lnTo>
                <a:lnTo>
                  <a:pt x="963" y="790"/>
                </a:lnTo>
                <a:lnTo>
                  <a:pt x="962" y="760"/>
                </a:lnTo>
                <a:lnTo>
                  <a:pt x="957" y="707"/>
                </a:lnTo>
                <a:lnTo>
                  <a:pt x="969" y="691"/>
                </a:lnTo>
                <a:lnTo>
                  <a:pt x="970" y="690"/>
                </a:lnTo>
                <a:lnTo>
                  <a:pt x="978" y="680"/>
                </a:lnTo>
                <a:lnTo>
                  <a:pt x="1006" y="647"/>
                </a:lnTo>
                <a:lnTo>
                  <a:pt x="1026" y="620"/>
                </a:lnTo>
                <a:lnTo>
                  <a:pt x="1028" y="618"/>
                </a:lnTo>
                <a:lnTo>
                  <a:pt x="1025" y="616"/>
                </a:lnTo>
                <a:lnTo>
                  <a:pt x="1010" y="595"/>
                </a:lnTo>
                <a:lnTo>
                  <a:pt x="956" y="522"/>
                </a:lnTo>
                <a:lnTo>
                  <a:pt x="915" y="466"/>
                </a:lnTo>
                <a:lnTo>
                  <a:pt x="913" y="463"/>
                </a:lnTo>
                <a:lnTo>
                  <a:pt x="914" y="462"/>
                </a:lnTo>
                <a:lnTo>
                  <a:pt x="922" y="448"/>
                </a:lnTo>
                <a:lnTo>
                  <a:pt x="950" y="401"/>
                </a:lnTo>
                <a:lnTo>
                  <a:pt x="971" y="365"/>
                </a:lnTo>
                <a:lnTo>
                  <a:pt x="973" y="363"/>
                </a:lnTo>
                <a:lnTo>
                  <a:pt x="964" y="348"/>
                </a:lnTo>
                <a:lnTo>
                  <a:pt x="936" y="299"/>
                </a:lnTo>
                <a:lnTo>
                  <a:pt x="914" y="262"/>
                </a:lnTo>
                <a:lnTo>
                  <a:pt x="913" y="260"/>
                </a:lnTo>
                <a:lnTo>
                  <a:pt x="911" y="262"/>
                </a:lnTo>
                <a:lnTo>
                  <a:pt x="903" y="271"/>
                </a:lnTo>
                <a:lnTo>
                  <a:pt x="871" y="300"/>
                </a:lnTo>
                <a:lnTo>
                  <a:pt x="849" y="322"/>
                </a:lnTo>
                <a:lnTo>
                  <a:pt x="848" y="323"/>
                </a:lnTo>
                <a:lnTo>
                  <a:pt x="844" y="322"/>
                </a:lnTo>
                <a:lnTo>
                  <a:pt x="821" y="312"/>
                </a:lnTo>
                <a:lnTo>
                  <a:pt x="744" y="279"/>
                </a:lnTo>
                <a:lnTo>
                  <a:pt x="685" y="253"/>
                </a:lnTo>
                <a:lnTo>
                  <a:pt x="682" y="251"/>
                </a:lnTo>
                <a:lnTo>
                  <a:pt x="688" y="233"/>
                </a:lnTo>
                <a:lnTo>
                  <a:pt x="690" y="202"/>
                </a:lnTo>
                <a:lnTo>
                  <a:pt x="680" y="180"/>
                </a:lnTo>
                <a:lnTo>
                  <a:pt x="659" y="164"/>
                </a:lnTo>
                <a:lnTo>
                  <a:pt x="631" y="150"/>
                </a:lnTo>
                <a:lnTo>
                  <a:pt x="601" y="137"/>
                </a:lnTo>
                <a:lnTo>
                  <a:pt x="586" y="129"/>
                </a:lnTo>
                <a:lnTo>
                  <a:pt x="584" y="127"/>
                </a:lnTo>
                <a:lnTo>
                  <a:pt x="577" y="110"/>
                </a:lnTo>
                <a:lnTo>
                  <a:pt x="550" y="49"/>
                </a:lnTo>
                <a:lnTo>
                  <a:pt x="530" y="3"/>
                </a:lnTo>
                <a:lnTo>
                  <a:pt x="529" y="0"/>
                </a:lnTo>
                <a:lnTo>
                  <a:pt x="523" y="1"/>
                </a:lnTo>
                <a:lnTo>
                  <a:pt x="484" y="4"/>
                </a:lnTo>
                <a:lnTo>
                  <a:pt x="351" y="15"/>
                </a:lnTo>
                <a:lnTo>
                  <a:pt x="251" y="23"/>
                </a:lnTo>
                <a:lnTo>
                  <a:pt x="245" y="23"/>
                </a:lnTo>
                <a:lnTo>
                  <a:pt x="240" y="25"/>
                </a:lnTo>
                <a:lnTo>
                  <a:pt x="207" y="38"/>
                </a:lnTo>
                <a:lnTo>
                  <a:pt x="92" y="83"/>
                </a:lnTo>
                <a:lnTo>
                  <a:pt x="4" y="118"/>
                </a:lnTo>
                <a:lnTo>
                  <a:pt x="0" y="119"/>
                </a:lnTo>
                <a:lnTo>
                  <a:pt x="38" y="139"/>
                </a:lnTo>
                <a:lnTo>
                  <a:pt x="126" y="172"/>
                </a:lnTo>
                <a:lnTo>
                  <a:pt x="323" y="221"/>
                </a:lnTo>
                <a:lnTo>
                  <a:pt x="509" y="279"/>
                </a:lnTo>
                <a:lnTo>
                  <a:pt x="549" y="298"/>
                </a:lnTo>
                <a:lnTo>
                  <a:pt x="559" y="308"/>
                </a:lnTo>
                <a:lnTo>
                  <a:pt x="573" y="325"/>
                </a:lnTo>
                <a:lnTo>
                  <a:pt x="604" y="374"/>
                </a:lnTo>
                <a:lnTo>
                  <a:pt x="660" y="507"/>
                </a:lnTo>
                <a:lnTo>
                  <a:pt x="670" y="632"/>
                </a:lnTo>
                <a:lnTo>
                  <a:pt x="662" y="650"/>
                </a:lnTo>
                <a:lnTo>
                  <a:pt x="652" y="667"/>
                </a:lnTo>
                <a:lnTo>
                  <a:pt x="618" y="701"/>
                </a:lnTo>
                <a:lnTo>
                  <a:pt x="579" y="732"/>
                </a:lnTo>
                <a:lnTo>
                  <a:pt x="505" y="778"/>
                </a:lnTo>
                <a:lnTo>
                  <a:pt x="485" y="788"/>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AutoShape 228">
            <a:hlinkClick r:id="" action="ppaction://hlinkshowjump?jump=previousslide"/>
          </p:cNvPr>
          <p:cNvSpPr/>
          <p:nvPr/>
        </p:nvSpPr>
        <p:spPr>
          <a:xfrm>
            <a:off x="8686800" y="66294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0" name="Text Box 229"/>
          <p:cNvSpPr/>
          <p:nvPr/>
        </p:nvSpPr>
        <p:spPr>
          <a:xfrm>
            <a:off x="6248520" y="0"/>
            <a:ext cx="2895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1" name="Rectangle 230"/>
          <p:cNvSpPr/>
          <p:nvPr/>
        </p:nvSpPr>
        <p:spPr>
          <a:xfrm>
            <a:off x="5364000" y="250920"/>
            <a:ext cx="3780000" cy="21873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1008000"/>
                <a:tab algn="l" pos="2016000"/>
                <a:tab algn="l" pos="3024360"/>
                <a:tab algn="l" pos="4032360"/>
                <a:tab algn="l" pos="5040360"/>
                <a:tab algn="l" pos="6048360"/>
                <a:tab algn="l" pos="7056360"/>
                <a:tab algn="l" pos="8064360"/>
                <a:tab algn="l" pos="9072720"/>
                <a:tab algn="l" pos="10080720"/>
              </a:tabLst>
            </a:pPr>
            <a:br>
              <a:rPr sz="3400"/>
            </a:br>
            <a:r>
              <a:rPr b="1" lang="en-US" sz="2400" spc="-1" strike="noStrike">
                <a:solidFill>
                  <a:srgbClr val="ffffff"/>
                </a:solidFill>
                <a:latin typeface="Arial"/>
                <a:ea typeface="Arial Unicode MS"/>
              </a:rPr>
              <a:t>Online access </a:t>
            </a:r>
            <a:br>
              <a:rPr sz="2400"/>
            </a:br>
            <a:r>
              <a:rPr b="1" lang="en-US" sz="2400" spc="-1" strike="noStrike">
                <a:solidFill>
                  <a:srgbClr val="ffffff"/>
                </a:solidFill>
                <a:latin typeface="Arial"/>
                <a:ea typeface="Arial Unicode MS"/>
              </a:rPr>
              <a:t>to the national </a:t>
            </a:r>
            <a:br>
              <a:rPr sz="2400"/>
            </a:br>
            <a:r>
              <a:rPr b="1" lang="en-US" sz="2400" spc="-1" strike="noStrike">
                <a:solidFill>
                  <a:srgbClr val="ffffff"/>
                </a:solidFill>
                <a:latin typeface="Arial"/>
                <a:ea typeface="Arial Unicode MS"/>
              </a:rPr>
              <a:t>legal gazettes</a:t>
            </a:r>
            <a:br>
              <a:rPr sz="2400"/>
            </a:br>
            <a:r>
              <a:rPr b="1" lang="en-US" sz="2400" spc="-1" strike="noStrike">
                <a:solidFill>
                  <a:srgbClr val="ffffff"/>
                </a:solidFill>
                <a:latin typeface="Arial"/>
                <a:ea typeface="Arial Unicode MS"/>
              </a:rPr>
              <a:t>(1997)</a:t>
            </a:r>
            <a:r>
              <a:rPr b="1" lang="en-US" sz="4900" spc="-1" strike="noStrike">
                <a:solidFill>
                  <a:srgbClr val="000000"/>
                </a:solidFill>
                <a:latin typeface="Arial"/>
                <a:ea typeface="Arial Unicode MS"/>
              </a:rPr>
              <a:t>  </a:t>
            </a:r>
            <a:endParaRPr b="0" lang="en-US" sz="4900" spc="-1" strike="noStrike">
              <a:solidFill>
                <a:srgbClr val="000000"/>
              </a:solidFill>
              <a:latin typeface="Arial"/>
            </a:endParaRPr>
          </a:p>
        </p:txBody>
      </p:sp>
      <p:sp>
        <p:nvSpPr>
          <p:cNvPr id="292" name="Rectangle 231"/>
          <p:cNvSpPr/>
          <p:nvPr/>
        </p:nvSpPr>
        <p:spPr>
          <a:xfrm>
            <a:off x="5410080" y="2438280"/>
            <a:ext cx="3733920" cy="44197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marL="378000" indent="-378000">
              <a:lnSpc>
                <a:spcPct val="6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Arial"/>
            </a:endParaRPr>
          </a:p>
          <a:p>
            <a:pPr marL="378000" indent="-378000">
              <a:lnSpc>
                <a:spcPct val="7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u="sng">
                <a:solidFill>
                  <a:srgbClr val="000000"/>
                </a:solidFill>
                <a:uFillTx/>
                <a:latin typeface="Arial"/>
                <a:ea typeface="Arial Unicode MS"/>
              </a:rPr>
              <a:t>Free of charge:</a:t>
            </a:r>
            <a:endParaRPr b="0" lang="en-US" sz="3100" spc="-1" strike="noStrike">
              <a:solidFill>
                <a:srgbClr val="000000"/>
              </a:solidFill>
              <a:latin typeface="Arial"/>
            </a:endParaRPr>
          </a:p>
          <a:p>
            <a:pPr lvl="1" marL="819000" indent="-315720">
              <a:lnSpc>
                <a:spcPct val="7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Arial"/>
                <a:ea typeface="Arial Unicode MS"/>
              </a:rPr>
              <a:t>entirely free</a:t>
            </a:r>
            <a:endParaRPr b="0" lang="en-US" sz="2600" spc="-1" strike="noStrike">
              <a:solidFill>
                <a:srgbClr val="000000"/>
              </a:solidFill>
              <a:latin typeface="Arial"/>
            </a:endParaRPr>
          </a:p>
          <a:p>
            <a:pPr lvl="1" marL="819000" indent="-315720">
              <a:lnSpc>
                <a:spcPts val="0"/>
              </a:lnSpc>
              <a:spcBef>
                <a:spcPts val="649"/>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a:p>
            <a:pPr lvl="1" marL="819000" indent="-315720">
              <a:lnSpc>
                <a:spcPct val="11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Arial"/>
                <a:ea typeface="Arial Unicode MS"/>
              </a:rPr>
              <a:t>restrictions in usage</a:t>
            </a:r>
            <a:endParaRPr b="0" lang="en-US" sz="2600" spc="-1" strike="noStrike">
              <a:solidFill>
                <a:srgbClr val="000000"/>
              </a:solidFill>
              <a:latin typeface="Arial"/>
            </a:endParaRPr>
          </a:p>
          <a:p>
            <a:pPr lvl="1" marL="819000" indent="-315720">
              <a:lnSpc>
                <a:spcPct val="110000"/>
              </a:lnSpc>
              <a:spcBef>
                <a:spcPts val="649"/>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a:p>
            <a:pPr lvl="1" marL="819000" indent="-315720">
              <a:lnSpc>
                <a:spcPct val="8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Arial"/>
                <a:ea typeface="Arial Unicode MS"/>
              </a:rPr>
              <a:t>free during a limited </a:t>
            </a:r>
            <a:endParaRPr b="0" lang="en-US" sz="2600" spc="-1" strike="noStrike">
              <a:solidFill>
                <a:srgbClr val="000000"/>
              </a:solidFill>
              <a:latin typeface="Arial"/>
            </a:endParaRPr>
          </a:p>
          <a:p>
            <a:pPr lvl="1" marL="819000" indent="-315720">
              <a:lnSpc>
                <a:spcPct val="80000"/>
              </a:lnSpc>
              <a:spcBef>
                <a:spcPts val="64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Arial"/>
                <a:ea typeface="Arial Unicode MS"/>
              </a:rPr>
              <a:t>	</a:t>
            </a:r>
            <a:r>
              <a:rPr b="0" lang="en-US" sz="2600" spc="-1" strike="noStrike">
                <a:solidFill>
                  <a:srgbClr val="000000"/>
                </a:solidFill>
                <a:latin typeface="Arial"/>
                <a:ea typeface="Arial Unicode MS"/>
              </a:rPr>
              <a:t>period</a:t>
            </a:r>
            <a:endParaRPr b="0" lang="en-US" sz="2600" spc="-1" strike="noStrike">
              <a:solidFill>
                <a:srgbClr val="000000"/>
              </a:solidFill>
              <a:latin typeface="Arial"/>
            </a:endParaRPr>
          </a:p>
          <a:p>
            <a:pPr lvl="1" marL="819000" indent="-315720">
              <a:lnSpc>
                <a:spcPct val="60000"/>
              </a:lnSpc>
              <a:spcBef>
                <a:spcPts val="649"/>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a:p>
            <a:pPr marL="378000" indent="-378000">
              <a:lnSpc>
                <a:spcPct val="12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u="sng">
                <a:solidFill>
                  <a:srgbClr val="000000"/>
                </a:solidFill>
                <a:uFillTx/>
                <a:latin typeface="Arial"/>
                <a:ea typeface="Arial Unicode MS"/>
              </a:rPr>
              <a:t>Paying access:</a:t>
            </a:r>
            <a:br>
              <a:rPr sz="3100"/>
            </a:br>
            <a:r>
              <a:rPr b="1" lang="en-US" sz="3100" spc="-1" strike="noStrike" u="sng">
                <a:solidFill>
                  <a:srgbClr val="000000"/>
                </a:solidFill>
                <a:uFillTx/>
                <a:latin typeface="Arial"/>
              </a:rPr>
              <a:t> </a:t>
            </a:r>
            <a:endParaRPr b="0" lang="en-US" sz="3100" spc="-1" strike="noStrike">
              <a:solidFill>
                <a:srgbClr val="000000"/>
              </a:solidFill>
              <a:latin typeface="Arial"/>
            </a:endParaRPr>
          </a:p>
        </p:txBody>
      </p:sp>
      <p:sp>
        <p:nvSpPr>
          <p:cNvPr id="293" name="Rectangle 232"/>
          <p:cNvSpPr/>
          <p:nvPr/>
        </p:nvSpPr>
        <p:spPr>
          <a:xfrm>
            <a:off x="7238880" y="2819520"/>
            <a:ext cx="914400" cy="304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4" name="Rectangle 233"/>
          <p:cNvSpPr/>
          <p:nvPr/>
        </p:nvSpPr>
        <p:spPr>
          <a:xfrm>
            <a:off x="8136000" y="3419640"/>
            <a:ext cx="915840" cy="365040"/>
          </a:xfrm>
          <a:prstGeom prst="rect">
            <a:avLst/>
          </a:prstGeom>
          <a:blipFill rotWithShape="0">
            <a:blip r:embed="rId12"/>
            <a:srcRect/>
            <a:tile tx="0" ty="0" sx="100000" sy="100000" algn="ctr"/>
          </a:blipFill>
          <a:ln w="9360">
            <a:solidFill>
              <a:srgbClr val="008000"/>
            </a:solidFill>
            <a:miter/>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5" name="Rectangle 234"/>
          <p:cNvSpPr/>
          <p:nvPr/>
        </p:nvSpPr>
        <p:spPr>
          <a:xfrm>
            <a:off x="7848720" y="3809880"/>
            <a:ext cx="914400" cy="914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6" name="Rectangle 235"/>
          <p:cNvSpPr/>
          <p:nvPr/>
        </p:nvSpPr>
        <p:spPr>
          <a:xfrm>
            <a:off x="7848720" y="4211640"/>
            <a:ext cx="914400" cy="46656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7" name="Rectangle 236"/>
          <p:cNvSpPr/>
          <p:nvPr/>
        </p:nvSpPr>
        <p:spPr>
          <a:xfrm>
            <a:off x="7620120" y="3733920"/>
            <a:ext cx="696960" cy="342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8" name="Rectangle 237"/>
          <p:cNvSpPr/>
          <p:nvPr/>
        </p:nvSpPr>
        <p:spPr>
          <a:xfrm>
            <a:off x="8064360" y="4356000"/>
            <a:ext cx="533520" cy="304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Rectangle 238"/>
          <p:cNvSpPr/>
          <p:nvPr/>
        </p:nvSpPr>
        <p:spPr>
          <a:xfrm>
            <a:off x="6408720" y="4284720"/>
            <a:ext cx="914400" cy="380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Rectangle 239"/>
          <p:cNvSpPr/>
          <p:nvPr/>
        </p:nvSpPr>
        <p:spPr>
          <a:xfrm>
            <a:off x="7458120" y="4724280"/>
            <a:ext cx="914400" cy="38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1" name="Rectangle 240"/>
          <p:cNvSpPr/>
          <p:nvPr/>
        </p:nvSpPr>
        <p:spPr>
          <a:xfrm>
            <a:off x="7920000" y="6516720"/>
            <a:ext cx="914400" cy="45720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2" name="Rectangle 241"/>
          <p:cNvSpPr/>
          <p:nvPr/>
        </p:nvSpPr>
        <p:spPr>
          <a:xfrm>
            <a:off x="7920000" y="5364000"/>
            <a:ext cx="914400" cy="38124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3" name="Rectangle 242"/>
          <p:cNvSpPr/>
          <p:nvPr/>
        </p:nvSpPr>
        <p:spPr>
          <a:xfrm>
            <a:off x="1143000" y="762120"/>
            <a:ext cx="1812960" cy="5331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ＭＳ Ｐゴシック"/>
              </a:rPr>
              <a:t>OJ of the EU</a:t>
            </a:r>
            <a:endParaRPr b="0" lang="en-US" sz="2400" spc="-1" strike="noStrike">
              <a:solidFill>
                <a:srgbClr val="000000"/>
              </a:solidFill>
              <a:latin typeface="Arial"/>
            </a:endParaRPr>
          </a:p>
        </p:txBody>
      </p:sp>
      <p:sp>
        <p:nvSpPr>
          <p:cNvPr id="304" name="Line 243"/>
          <p:cNvSpPr/>
          <p:nvPr/>
        </p:nvSpPr>
        <p:spPr>
          <a:xfrm>
            <a:off x="1689120" y="1219320"/>
            <a:ext cx="703080" cy="281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reeform 4"/>
          <p:cNvSpPr/>
          <p:nvPr/>
        </p:nvSpPr>
        <p:spPr>
          <a:xfrm>
            <a:off x="4168800" y="85680"/>
            <a:ext cx="1757160" cy="4657680"/>
          </a:xfrm>
          <a:custGeom>
            <a:avLst/>
            <a:gdLst>
              <a:gd name="textAreaLeft" fmla="*/ 0 w 1757160"/>
              <a:gd name="textAreaRight" fmla="*/ 1757520 w 1757160"/>
              <a:gd name="textAreaTop" fmla="*/ 0 h 4657680"/>
              <a:gd name="textAreaBottom" fmla="*/ 4658040 h 4657680"/>
            </a:gdLst>
            <a:ahLst/>
            <a:rect l="textAreaLeft" t="textAreaTop" r="textAreaRight" b="textAreaBottom"/>
            <a:pathLst>
              <a:path w="2215" h="5868">
                <a:moveTo>
                  <a:pt x="165" y="2903"/>
                </a:moveTo>
                <a:lnTo>
                  <a:pt x="166" y="2903"/>
                </a:lnTo>
                <a:lnTo>
                  <a:pt x="168" y="2903"/>
                </a:lnTo>
                <a:lnTo>
                  <a:pt x="170" y="2903"/>
                </a:lnTo>
                <a:lnTo>
                  <a:pt x="177" y="2904"/>
                </a:lnTo>
                <a:lnTo>
                  <a:pt x="196" y="2908"/>
                </a:lnTo>
                <a:lnTo>
                  <a:pt x="236" y="2924"/>
                </a:lnTo>
                <a:lnTo>
                  <a:pt x="255" y="2942"/>
                </a:lnTo>
                <a:lnTo>
                  <a:pt x="252" y="2943"/>
                </a:lnTo>
                <a:lnTo>
                  <a:pt x="240" y="2946"/>
                </a:lnTo>
                <a:lnTo>
                  <a:pt x="195" y="2956"/>
                </a:lnTo>
                <a:lnTo>
                  <a:pt x="158" y="2963"/>
                </a:lnTo>
                <a:lnTo>
                  <a:pt x="156" y="2963"/>
                </a:lnTo>
                <a:lnTo>
                  <a:pt x="146" y="2957"/>
                </a:lnTo>
                <a:lnTo>
                  <a:pt x="132" y="2945"/>
                </a:lnTo>
                <a:lnTo>
                  <a:pt x="128" y="2940"/>
                </a:lnTo>
                <a:lnTo>
                  <a:pt x="126" y="2936"/>
                </a:lnTo>
                <a:lnTo>
                  <a:pt x="125" y="2931"/>
                </a:lnTo>
                <a:lnTo>
                  <a:pt x="126" y="2927"/>
                </a:lnTo>
                <a:lnTo>
                  <a:pt x="129" y="2923"/>
                </a:lnTo>
                <a:lnTo>
                  <a:pt x="134" y="2919"/>
                </a:lnTo>
                <a:lnTo>
                  <a:pt x="142" y="2914"/>
                </a:lnTo>
                <a:lnTo>
                  <a:pt x="165" y="2903"/>
                </a:lnTo>
                <a:lnTo>
                  <a:pt x="167" y="2902"/>
                </a:lnTo>
                <a:lnTo>
                  <a:pt x="165" y="2903"/>
                </a:lnTo>
                <a:close/>
                <a:moveTo>
                  <a:pt x="276" y="3005"/>
                </a:moveTo>
                <a:lnTo>
                  <a:pt x="264" y="3018"/>
                </a:lnTo>
                <a:lnTo>
                  <a:pt x="246" y="3044"/>
                </a:lnTo>
                <a:lnTo>
                  <a:pt x="215" y="3096"/>
                </a:lnTo>
                <a:lnTo>
                  <a:pt x="180" y="3140"/>
                </a:lnTo>
                <a:lnTo>
                  <a:pt x="169" y="3147"/>
                </a:lnTo>
                <a:lnTo>
                  <a:pt x="163" y="3147"/>
                </a:lnTo>
                <a:lnTo>
                  <a:pt x="157" y="3145"/>
                </a:lnTo>
                <a:lnTo>
                  <a:pt x="142" y="3138"/>
                </a:lnTo>
                <a:lnTo>
                  <a:pt x="127" y="3129"/>
                </a:lnTo>
                <a:lnTo>
                  <a:pt x="115" y="3117"/>
                </a:lnTo>
                <a:lnTo>
                  <a:pt x="111" y="3109"/>
                </a:lnTo>
                <a:lnTo>
                  <a:pt x="110" y="3102"/>
                </a:lnTo>
                <a:lnTo>
                  <a:pt x="111" y="3095"/>
                </a:lnTo>
                <a:lnTo>
                  <a:pt x="116" y="3088"/>
                </a:lnTo>
                <a:lnTo>
                  <a:pt x="117" y="3071"/>
                </a:lnTo>
                <a:lnTo>
                  <a:pt x="123" y="3056"/>
                </a:lnTo>
                <a:lnTo>
                  <a:pt x="131" y="3044"/>
                </a:lnTo>
                <a:lnTo>
                  <a:pt x="142" y="3035"/>
                </a:lnTo>
                <a:lnTo>
                  <a:pt x="155" y="3029"/>
                </a:lnTo>
                <a:lnTo>
                  <a:pt x="170" y="3023"/>
                </a:lnTo>
                <a:lnTo>
                  <a:pt x="203" y="3017"/>
                </a:lnTo>
                <a:lnTo>
                  <a:pt x="240" y="3012"/>
                </a:lnTo>
                <a:lnTo>
                  <a:pt x="276" y="3005"/>
                </a:lnTo>
                <a:lnTo>
                  <a:pt x="265" y="3016"/>
                </a:lnTo>
                <a:lnTo>
                  <a:pt x="256" y="3026"/>
                </a:lnTo>
                <a:lnTo>
                  <a:pt x="261" y="3020"/>
                </a:lnTo>
                <a:lnTo>
                  <a:pt x="275" y="3006"/>
                </a:lnTo>
                <a:lnTo>
                  <a:pt x="276" y="3005"/>
                </a:lnTo>
                <a:close/>
                <a:moveTo>
                  <a:pt x="866" y="1550"/>
                </a:moveTo>
                <a:lnTo>
                  <a:pt x="871" y="1542"/>
                </a:lnTo>
                <a:lnTo>
                  <a:pt x="891" y="1518"/>
                </a:lnTo>
                <a:lnTo>
                  <a:pt x="906" y="1500"/>
                </a:lnTo>
                <a:lnTo>
                  <a:pt x="907" y="1498"/>
                </a:lnTo>
                <a:lnTo>
                  <a:pt x="903" y="1498"/>
                </a:lnTo>
                <a:lnTo>
                  <a:pt x="887" y="1497"/>
                </a:lnTo>
                <a:lnTo>
                  <a:pt x="829" y="1492"/>
                </a:lnTo>
                <a:lnTo>
                  <a:pt x="787" y="1487"/>
                </a:lnTo>
                <a:lnTo>
                  <a:pt x="784" y="1486"/>
                </a:lnTo>
                <a:lnTo>
                  <a:pt x="779" y="1473"/>
                </a:lnTo>
                <a:lnTo>
                  <a:pt x="765" y="1431"/>
                </a:lnTo>
                <a:lnTo>
                  <a:pt x="754" y="1400"/>
                </a:lnTo>
                <a:lnTo>
                  <a:pt x="754" y="1398"/>
                </a:lnTo>
                <a:lnTo>
                  <a:pt x="739" y="1390"/>
                </a:lnTo>
                <a:lnTo>
                  <a:pt x="719" y="1379"/>
                </a:lnTo>
                <a:lnTo>
                  <a:pt x="708" y="1373"/>
                </a:lnTo>
                <a:lnTo>
                  <a:pt x="702" y="1367"/>
                </a:lnTo>
                <a:lnTo>
                  <a:pt x="695" y="1356"/>
                </a:lnTo>
                <a:lnTo>
                  <a:pt x="686" y="1335"/>
                </a:lnTo>
                <a:lnTo>
                  <a:pt x="679" y="1318"/>
                </a:lnTo>
                <a:lnTo>
                  <a:pt x="679" y="1314"/>
                </a:lnTo>
                <a:lnTo>
                  <a:pt x="687" y="1286"/>
                </a:lnTo>
                <a:lnTo>
                  <a:pt x="709" y="1188"/>
                </a:lnTo>
                <a:lnTo>
                  <a:pt x="726" y="1114"/>
                </a:lnTo>
                <a:lnTo>
                  <a:pt x="728" y="1108"/>
                </a:lnTo>
                <a:lnTo>
                  <a:pt x="724" y="1105"/>
                </a:lnTo>
                <a:lnTo>
                  <a:pt x="703" y="1078"/>
                </a:lnTo>
                <a:lnTo>
                  <a:pt x="629" y="987"/>
                </a:lnTo>
                <a:lnTo>
                  <a:pt x="573" y="917"/>
                </a:lnTo>
                <a:lnTo>
                  <a:pt x="571" y="913"/>
                </a:lnTo>
                <a:lnTo>
                  <a:pt x="562" y="895"/>
                </a:lnTo>
                <a:lnTo>
                  <a:pt x="553" y="858"/>
                </a:lnTo>
                <a:lnTo>
                  <a:pt x="550" y="825"/>
                </a:lnTo>
                <a:lnTo>
                  <a:pt x="555" y="763"/>
                </a:lnTo>
                <a:lnTo>
                  <a:pt x="559" y="716"/>
                </a:lnTo>
                <a:lnTo>
                  <a:pt x="555" y="712"/>
                </a:lnTo>
                <a:lnTo>
                  <a:pt x="552" y="707"/>
                </a:lnTo>
                <a:lnTo>
                  <a:pt x="545" y="693"/>
                </a:lnTo>
                <a:lnTo>
                  <a:pt x="524" y="655"/>
                </a:lnTo>
                <a:lnTo>
                  <a:pt x="473" y="612"/>
                </a:lnTo>
                <a:lnTo>
                  <a:pt x="457" y="604"/>
                </a:lnTo>
                <a:lnTo>
                  <a:pt x="432" y="594"/>
                </a:lnTo>
                <a:lnTo>
                  <a:pt x="406" y="589"/>
                </a:lnTo>
                <a:lnTo>
                  <a:pt x="399" y="588"/>
                </a:lnTo>
                <a:lnTo>
                  <a:pt x="398" y="587"/>
                </a:lnTo>
                <a:lnTo>
                  <a:pt x="397" y="585"/>
                </a:lnTo>
                <a:lnTo>
                  <a:pt x="396" y="581"/>
                </a:lnTo>
                <a:lnTo>
                  <a:pt x="395" y="578"/>
                </a:lnTo>
                <a:lnTo>
                  <a:pt x="388" y="549"/>
                </a:lnTo>
                <a:lnTo>
                  <a:pt x="365" y="454"/>
                </a:lnTo>
                <a:lnTo>
                  <a:pt x="348" y="381"/>
                </a:lnTo>
                <a:lnTo>
                  <a:pt x="348" y="377"/>
                </a:lnTo>
                <a:lnTo>
                  <a:pt x="347" y="368"/>
                </a:lnTo>
                <a:lnTo>
                  <a:pt x="345" y="338"/>
                </a:lnTo>
                <a:lnTo>
                  <a:pt x="344" y="316"/>
                </a:lnTo>
                <a:lnTo>
                  <a:pt x="344" y="314"/>
                </a:lnTo>
                <a:lnTo>
                  <a:pt x="354" y="310"/>
                </a:lnTo>
                <a:lnTo>
                  <a:pt x="387" y="296"/>
                </a:lnTo>
                <a:lnTo>
                  <a:pt x="411" y="286"/>
                </a:lnTo>
                <a:lnTo>
                  <a:pt x="413" y="285"/>
                </a:lnTo>
                <a:lnTo>
                  <a:pt x="414" y="284"/>
                </a:lnTo>
                <a:lnTo>
                  <a:pt x="425" y="271"/>
                </a:lnTo>
                <a:lnTo>
                  <a:pt x="463" y="226"/>
                </a:lnTo>
                <a:lnTo>
                  <a:pt x="492" y="192"/>
                </a:lnTo>
                <a:lnTo>
                  <a:pt x="494" y="190"/>
                </a:lnTo>
                <a:lnTo>
                  <a:pt x="495" y="188"/>
                </a:lnTo>
                <a:lnTo>
                  <a:pt x="508" y="180"/>
                </a:lnTo>
                <a:lnTo>
                  <a:pt x="551" y="151"/>
                </a:lnTo>
                <a:lnTo>
                  <a:pt x="584" y="128"/>
                </a:lnTo>
                <a:lnTo>
                  <a:pt x="586" y="126"/>
                </a:lnTo>
                <a:lnTo>
                  <a:pt x="590" y="119"/>
                </a:lnTo>
                <a:lnTo>
                  <a:pt x="591" y="112"/>
                </a:lnTo>
                <a:lnTo>
                  <a:pt x="592" y="106"/>
                </a:lnTo>
                <a:lnTo>
                  <a:pt x="591" y="100"/>
                </a:lnTo>
                <a:lnTo>
                  <a:pt x="588" y="90"/>
                </a:lnTo>
                <a:lnTo>
                  <a:pt x="586" y="79"/>
                </a:lnTo>
                <a:lnTo>
                  <a:pt x="586" y="75"/>
                </a:lnTo>
                <a:lnTo>
                  <a:pt x="589" y="71"/>
                </a:lnTo>
                <a:lnTo>
                  <a:pt x="593" y="67"/>
                </a:lnTo>
                <a:lnTo>
                  <a:pt x="602" y="62"/>
                </a:lnTo>
                <a:lnTo>
                  <a:pt x="645" y="90"/>
                </a:lnTo>
                <a:lnTo>
                  <a:pt x="698" y="122"/>
                </a:lnTo>
                <a:lnTo>
                  <a:pt x="709" y="129"/>
                </a:lnTo>
                <a:lnTo>
                  <a:pt x="713" y="131"/>
                </a:lnTo>
                <a:lnTo>
                  <a:pt x="715" y="133"/>
                </a:lnTo>
                <a:lnTo>
                  <a:pt x="715" y="134"/>
                </a:lnTo>
                <a:lnTo>
                  <a:pt x="714" y="134"/>
                </a:lnTo>
                <a:lnTo>
                  <a:pt x="711" y="134"/>
                </a:lnTo>
                <a:lnTo>
                  <a:pt x="708" y="136"/>
                </a:lnTo>
                <a:lnTo>
                  <a:pt x="699" y="137"/>
                </a:lnTo>
                <a:lnTo>
                  <a:pt x="672" y="146"/>
                </a:lnTo>
                <a:lnTo>
                  <a:pt x="658" y="156"/>
                </a:lnTo>
                <a:lnTo>
                  <a:pt x="644" y="173"/>
                </a:lnTo>
                <a:lnTo>
                  <a:pt x="642" y="178"/>
                </a:lnTo>
                <a:lnTo>
                  <a:pt x="672" y="187"/>
                </a:lnTo>
                <a:lnTo>
                  <a:pt x="739" y="195"/>
                </a:lnTo>
                <a:lnTo>
                  <a:pt x="812" y="191"/>
                </a:lnTo>
                <a:lnTo>
                  <a:pt x="965" y="175"/>
                </a:lnTo>
                <a:lnTo>
                  <a:pt x="1072" y="178"/>
                </a:lnTo>
                <a:lnTo>
                  <a:pt x="1100" y="185"/>
                </a:lnTo>
                <a:lnTo>
                  <a:pt x="1161" y="209"/>
                </a:lnTo>
                <a:lnTo>
                  <a:pt x="1293" y="268"/>
                </a:lnTo>
                <a:lnTo>
                  <a:pt x="1432" y="303"/>
                </a:lnTo>
                <a:lnTo>
                  <a:pt x="1467" y="301"/>
                </a:lnTo>
                <a:lnTo>
                  <a:pt x="1494" y="301"/>
                </a:lnTo>
                <a:lnTo>
                  <a:pt x="1521" y="306"/>
                </a:lnTo>
                <a:lnTo>
                  <a:pt x="1548" y="316"/>
                </a:lnTo>
                <a:lnTo>
                  <a:pt x="1597" y="347"/>
                </a:lnTo>
                <a:lnTo>
                  <a:pt x="1638" y="390"/>
                </a:lnTo>
                <a:lnTo>
                  <a:pt x="1667" y="438"/>
                </a:lnTo>
                <a:lnTo>
                  <a:pt x="1681" y="485"/>
                </a:lnTo>
                <a:lnTo>
                  <a:pt x="1682" y="505"/>
                </a:lnTo>
                <a:lnTo>
                  <a:pt x="1681" y="508"/>
                </a:lnTo>
                <a:lnTo>
                  <a:pt x="1679" y="525"/>
                </a:lnTo>
                <a:lnTo>
                  <a:pt x="1670" y="583"/>
                </a:lnTo>
                <a:lnTo>
                  <a:pt x="1664" y="627"/>
                </a:lnTo>
                <a:lnTo>
                  <a:pt x="1664" y="629"/>
                </a:lnTo>
                <a:lnTo>
                  <a:pt x="1642" y="699"/>
                </a:lnTo>
                <a:lnTo>
                  <a:pt x="1603" y="751"/>
                </a:lnTo>
                <a:lnTo>
                  <a:pt x="1547" y="787"/>
                </a:lnTo>
                <a:lnTo>
                  <a:pt x="1478" y="808"/>
                </a:lnTo>
                <a:lnTo>
                  <a:pt x="1399" y="818"/>
                </a:lnTo>
                <a:lnTo>
                  <a:pt x="1224" y="814"/>
                </a:lnTo>
                <a:lnTo>
                  <a:pt x="1046" y="793"/>
                </a:lnTo>
                <a:lnTo>
                  <a:pt x="887" y="773"/>
                </a:lnTo>
                <a:lnTo>
                  <a:pt x="824" y="769"/>
                </a:lnTo>
                <a:lnTo>
                  <a:pt x="861" y="805"/>
                </a:lnTo>
                <a:lnTo>
                  <a:pt x="945" y="859"/>
                </a:lnTo>
                <a:lnTo>
                  <a:pt x="1034" y="901"/>
                </a:lnTo>
                <a:lnTo>
                  <a:pt x="1115" y="940"/>
                </a:lnTo>
                <a:lnTo>
                  <a:pt x="1174" y="990"/>
                </a:lnTo>
                <a:lnTo>
                  <a:pt x="1192" y="1022"/>
                </a:lnTo>
                <a:lnTo>
                  <a:pt x="1199" y="1061"/>
                </a:lnTo>
                <a:lnTo>
                  <a:pt x="1196" y="1106"/>
                </a:lnTo>
                <a:lnTo>
                  <a:pt x="1203" y="1123"/>
                </a:lnTo>
                <a:lnTo>
                  <a:pt x="1214" y="1155"/>
                </a:lnTo>
                <a:lnTo>
                  <a:pt x="1230" y="1228"/>
                </a:lnTo>
                <a:lnTo>
                  <a:pt x="1236" y="1297"/>
                </a:lnTo>
                <a:lnTo>
                  <a:pt x="1237" y="1312"/>
                </a:lnTo>
                <a:lnTo>
                  <a:pt x="1242" y="1326"/>
                </a:lnTo>
                <a:lnTo>
                  <a:pt x="1253" y="1336"/>
                </a:lnTo>
                <a:lnTo>
                  <a:pt x="1267" y="1341"/>
                </a:lnTo>
                <a:lnTo>
                  <a:pt x="1283" y="1343"/>
                </a:lnTo>
                <a:lnTo>
                  <a:pt x="1301" y="1343"/>
                </a:lnTo>
                <a:lnTo>
                  <a:pt x="1340" y="1337"/>
                </a:lnTo>
                <a:lnTo>
                  <a:pt x="1406" y="1323"/>
                </a:lnTo>
                <a:lnTo>
                  <a:pt x="1417" y="1322"/>
                </a:lnTo>
                <a:lnTo>
                  <a:pt x="1432" y="1326"/>
                </a:lnTo>
                <a:lnTo>
                  <a:pt x="1463" y="1338"/>
                </a:lnTo>
                <a:lnTo>
                  <a:pt x="1524" y="1365"/>
                </a:lnTo>
                <a:lnTo>
                  <a:pt x="1594" y="1378"/>
                </a:lnTo>
                <a:lnTo>
                  <a:pt x="1614" y="1375"/>
                </a:lnTo>
                <a:lnTo>
                  <a:pt x="1628" y="1370"/>
                </a:lnTo>
                <a:lnTo>
                  <a:pt x="1640" y="1361"/>
                </a:lnTo>
                <a:lnTo>
                  <a:pt x="1648" y="1350"/>
                </a:lnTo>
                <a:lnTo>
                  <a:pt x="1653" y="1336"/>
                </a:lnTo>
                <a:lnTo>
                  <a:pt x="1655" y="1320"/>
                </a:lnTo>
                <a:lnTo>
                  <a:pt x="1655" y="1288"/>
                </a:lnTo>
                <a:lnTo>
                  <a:pt x="1652" y="1256"/>
                </a:lnTo>
                <a:lnTo>
                  <a:pt x="1648" y="1230"/>
                </a:lnTo>
                <a:lnTo>
                  <a:pt x="1648" y="1220"/>
                </a:lnTo>
                <a:lnTo>
                  <a:pt x="1618" y="1220"/>
                </a:lnTo>
                <a:lnTo>
                  <a:pt x="1567" y="1216"/>
                </a:lnTo>
                <a:lnTo>
                  <a:pt x="1529" y="1208"/>
                </a:lnTo>
                <a:lnTo>
                  <a:pt x="1501" y="1192"/>
                </a:lnTo>
                <a:lnTo>
                  <a:pt x="1481" y="1167"/>
                </a:lnTo>
                <a:lnTo>
                  <a:pt x="1467" y="1128"/>
                </a:lnTo>
                <a:lnTo>
                  <a:pt x="1463" y="1103"/>
                </a:lnTo>
                <a:lnTo>
                  <a:pt x="1486" y="1089"/>
                </a:lnTo>
                <a:lnTo>
                  <a:pt x="1513" y="1081"/>
                </a:lnTo>
                <a:lnTo>
                  <a:pt x="1543" y="1079"/>
                </a:lnTo>
                <a:lnTo>
                  <a:pt x="1576" y="1081"/>
                </a:lnTo>
                <a:lnTo>
                  <a:pt x="1648" y="1091"/>
                </a:lnTo>
                <a:lnTo>
                  <a:pt x="1719" y="1099"/>
                </a:lnTo>
                <a:lnTo>
                  <a:pt x="1788" y="1094"/>
                </a:lnTo>
                <a:lnTo>
                  <a:pt x="1845" y="1063"/>
                </a:lnTo>
                <a:lnTo>
                  <a:pt x="1842" y="1031"/>
                </a:lnTo>
                <a:lnTo>
                  <a:pt x="1826" y="982"/>
                </a:lnTo>
                <a:lnTo>
                  <a:pt x="1800" y="944"/>
                </a:lnTo>
                <a:lnTo>
                  <a:pt x="1773" y="914"/>
                </a:lnTo>
                <a:lnTo>
                  <a:pt x="1753" y="882"/>
                </a:lnTo>
                <a:lnTo>
                  <a:pt x="1746" y="843"/>
                </a:lnTo>
                <a:lnTo>
                  <a:pt x="1752" y="818"/>
                </a:lnTo>
                <a:lnTo>
                  <a:pt x="1758" y="796"/>
                </a:lnTo>
                <a:lnTo>
                  <a:pt x="1770" y="770"/>
                </a:lnTo>
                <a:lnTo>
                  <a:pt x="1775" y="764"/>
                </a:lnTo>
                <a:lnTo>
                  <a:pt x="1781" y="761"/>
                </a:lnTo>
                <a:lnTo>
                  <a:pt x="1785" y="760"/>
                </a:lnTo>
                <a:lnTo>
                  <a:pt x="1790" y="760"/>
                </a:lnTo>
                <a:lnTo>
                  <a:pt x="1796" y="759"/>
                </a:lnTo>
                <a:lnTo>
                  <a:pt x="1801" y="757"/>
                </a:lnTo>
                <a:lnTo>
                  <a:pt x="1807" y="751"/>
                </a:lnTo>
                <a:lnTo>
                  <a:pt x="1814" y="742"/>
                </a:lnTo>
                <a:lnTo>
                  <a:pt x="1822" y="726"/>
                </a:lnTo>
                <a:lnTo>
                  <a:pt x="1830" y="709"/>
                </a:lnTo>
                <a:lnTo>
                  <a:pt x="1843" y="672"/>
                </a:lnTo>
                <a:lnTo>
                  <a:pt x="1864" y="604"/>
                </a:lnTo>
                <a:lnTo>
                  <a:pt x="1885" y="559"/>
                </a:lnTo>
                <a:lnTo>
                  <a:pt x="1891" y="553"/>
                </a:lnTo>
                <a:lnTo>
                  <a:pt x="1902" y="558"/>
                </a:lnTo>
                <a:lnTo>
                  <a:pt x="1936" y="570"/>
                </a:lnTo>
                <a:lnTo>
                  <a:pt x="2033" y="596"/>
                </a:lnTo>
                <a:lnTo>
                  <a:pt x="2114" y="612"/>
                </a:lnTo>
                <a:lnTo>
                  <a:pt x="2126" y="612"/>
                </a:lnTo>
                <a:lnTo>
                  <a:pt x="2100" y="589"/>
                </a:lnTo>
                <a:lnTo>
                  <a:pt x="2080" y="561"/>
                </a:lnTo>
                <a:lnTo>
                  <a:pt x="2049" y="498"/>
                </a:lnTo>
                <a:lnTo>
                  <a:pt x="2023" y="433"/>
                </a:lnTo>
                <a:lnTo>
                  <a:pt x="1993" y="378"/>
                </a:lnTo>
                <a:lnTo>
                  <a:pt x="1975" y="358"/>
                </a:lnTo>
                <a:lnTo>
                  <a:pt x="1951" y="343"/>
                </a:lnTo>
                <a:lnTo>
                  <a:pt x="1922" y="337"/>
                </a:lnTo>
                <a:lnTo>
                  <a:pt x="1888" y="339"/>
                </a:lnTo>
                <a:lnTo>
                  <a:pt x="1873" y="330"/>
                </a:lnTo>
                <a:lnTo>
                  <a:pt x="1864" y="317"/>
                </a:lnTo>
                <a:lnTo>
                  <a:pt x="1859" y="301"/>
                </a:lnTo>
                <a:lnTo>
                  <a:pt x="1858" y="282"/>
                </a:lnTo>
                <a:lnTo>
                  <a:pt x="1859" y="263"/>
                </a:lnTo>
                <a:lnTo>
                  <a:pt x="1866" y="221"/>
                </a:lnTo>
                <a:lnTo>
                  <a:pt x="1878" y="147"/>
                </a:lnTo>
                <a:lnTo>
                  <a:pt x="1876" y="132"/>
                </a:lnTo>
                <a:lnTo>
                  <a:pt x="1869" y="119"/>
                </a:lnTo>
                <a:lnTo>
                  <a:pt x="1857" y="107"/>
                </a:lnTo>
                <a:lnTo>
                  <a:pt x="1841" y="98"/>
                </a:lnTo>
                <a:lnTo>
                  <a:pt x="1821" y="91"/>
                </a:lnTo>
                <a:lnTo>
                  <a:pt x="1777" y="78"/>
                </a:lnTo>
                <a:lnTo>
                  <a:pt x="1696" y="51"/>
                </a:lnTo>
                <a:lnTo>
                  <a:pt x="1673" y="26"/>
                </a:lnTo>
                <a:lnTo>
                  <a:pt x="1733" y="20"/>
                </a:lnTo>
                <a:lnTo>
                  <a:pt x="1822" y="8"/>
                </a:lnTo>
                <a:lnTo>
                  <a:pt x="1938" y="0"/>
                </a:lnTo>
                <a:lnTo>
                  <a:pt x="2079" y="49"/>
                </a:lnTo>
                <a:lnTo>
                  <a:pt x="2133" y="73"/>
                </a:lnTo>
                <a:lnTo>
                  <a:pt x="2120" y="83"/>
                </a:lnTo>
                <a:lnTo>
                  <a:pt x="2089" y="102"/>
                </a:lnTo>
                <a:lnTo>
                  <a:pt x="2025" y="151"/>
                </a:lnTo>
                <a:lnTo>
                  <a:pt x="1970" y="208"/>
                </a:lnTo>
                <a:lnTo>
                  <a:pt x="1962" y="223"/>
                </a:lnTo>
                <a:lnTo>
                  <a:pt x="1966" y="235"/>
                </a:lnTo>
                <a:lnTo>
                  <a:pt x="1965" y="248"/>
                </a:lnTo>
                <a:lnTo>
                  <a:pt x="1960" y="262"/>
                </a:lnTo>
                <a:lnTo>
                  <a:pt x="1951" y="276"/>
                </a:lnTo>
                <a:lnTo>
                  <a:pt x="1926" y="307"/>
                </a:lnTo>
                <a:lnTo>
                  <a:pt x="1869" y="363"/>
                </a:lnTo>
                <a:lnTo>
                  <a:pt x="1846" y="385"/>
                </a:lnTo>
                <a:lnTo>
                  <a:pt x="1841" y="393"/>
                </a:lnTo>
                <a:lnTo>
                  <a:pt x="1839" y="396"/>
                </a:lnTo>
                <a:lnTo>
                  <a:pt x="1839" y="399"/>
                </a:lnTo>
                <a:lnTo>
                  <a:pt x="1839" y="400"/>
                </a:lnTo>
                <a:lnTo>
                  <a:pt x="1840" y="401"/>
                </a:lnTo>
                <a:lnTo>
                  <a:pt x="1841" y="402"/>
                </a:lnTo>
                <a:lnTo>
                  <a:pt x="1842" y="402"/>
                </a:lnTo>
                <a:lnTo>
                  <a:pt x="1844" y="403"/>
                </a:lnTo>
                <a:lnTo>
                  <a:pt x="1849" y="403"/>
                </a:lnTo>
                <a:lnTo>
                  <a:pt x="1856" y="402"/>
                </a:lnTo>
                <a:lnTo>
                  <a:pt x="1874" y="398"/>
                </a:lnTo>
                <a:lnTo>
                  <a:pt x="1933" y="379"/>
                </a:lnTo>
                <a:lnTo>
                  <a:pt x="2166" y="289"/>
                </a:lnTo>
                <a:lnTo>
                  <a:pt x="2207" y="272"/>
                </a:lnTo>
                <a:lnTo>
                  <a:pt x="2207" y="375"/>
                </a:lnTo>
                <a:lnTo>
                  <a:pt x="2209" y="1082"/>
                </a:lnTo>
                <a:lnTo>
                  <a:pt x="2212" y="3504"/>
                </a:lnTo>
                <a:lnTo>
                  <a:pt x="2214" y="5350"/>
                </a:lnTo>
                <a:lnTo>
                  <a:pt x="2215" y="5452"/>
                </a:lnTo>
                <a:lnTo>
                  <a:pt x="2214" y="5452"/>
                </a:lnTo>
                <a:lnTo>
                  <a:pt x="2212" y="5452"/>
                </a:lnTo>
                <a:lnTo>
                  <a:pt x="2207" y="5451"/>
                </a:lnTo>
                <a:lnTo>
                  <a:pt x="2191" y="5448"/>
                </a:lnTo>
                <a:lnTo>
                  <a:pt x="2138" y="5443"/>
                </a:lnTo>
                <a:lnTo>
                  <a:pt x="2068" y="5456"/>
                </a:lnTo>
                <a:lnTo>
                  <a:pt x="1998" y="5498"/>
                </a:lnTo>
                <a:lnTo>
                  <a:pt x="1943" y="5588"/>
                </a:lnTo>
                <a:lnTo>
                  <a:pt x="1917" y="5726"/>
                </a:lnTo>
                <a:lnTo>
                  <a:pt x="1915" y="5726"/>
                </a:lnTo>
                <a:lnTo>
                  <a:pt x="1902" y="5723"/>
                </a:lnTo>
                <a:lnTo>
                  <a:pt x="1858" y="5712"/>
                </a:lnTo>
                <a:lnTo>
                  <a:pt x="1825" y="5705"/>
                </a:lnTo>
                <a:lnTo>
                  <a:pt x="1824" y="5704"/>
                </a:lnTo>
                <a:lnTo>
                  <a:pt x="1829" y="5718"/>
                </a:lnTo>
                <a:lnTo>
                  <a:pt x="1848" y="5755"/>
                </a:lnTo>
                <a:lnTo>
                  <a:pt x="1863" y="5785"/>
                </a:lnTo>
                <a:lnTo>
                  <a:pt x="1864" y="5786"/>
                </a:lnTo>
                <a:lnTo>
                  <a:pt x="1862" y="5788"/>
                </a:lnTo>
                <a:lnTo>
                  <a:pt x="1855" y="5798"/>
                </a:lnTo>
                <a:lnTo>
                  <a:pt x="1827" y="5835"/>
                </a:lnTo>
                <a:lnTo>
                  <a:pt x="1806" y="5862"/>
                </a:lnTo>
                <a:lnTo>
                  <a:pt x="1805" y="5863"/>
                </a:lnTo>
                <a:lnTo>
                  <a:pt x="1797" y="5864"/>
                </a:lnTo>
                <a:lnTo>
                  <a:pt x="1782" y="5866"/>
                </a:lnTo>
                <a:lnTo>
                  <a:pt x="1754" y="5868"/>
                </a:lnTo>
                <a:lnTo>
                  <a:pt x="1728" y="5865"/>
                </a:lnTo>
                <a:lnTo>
                  <a:pt x="1722" y="5863"/>
                </a:lnTo>
                <a:lnTo>
                  <a:pt x="1710" y="5858"/>
                </a:lnTo>
                <a:lnTo>
                  <a:pt x="1699" y="5850"/>
                </a:lnTo>
                <a:lnTo>
                  <a:pt x="1691" y="5840"/>
                </a:lnTo>
                <a:lnTo>
                  <a:pt x="1677" y="5815"/>
                </a:lnTo>
                <a:lnTo>
                  <a:pt x="1666" y="5786"/>
                </a:lnTo>
                <a:lnTo>
                  <a:pt x="1651" y="5730"/>
                </a:lnTo>
                <a:lnTo>
                  <a:pt x="1648" y="5718"/>
                </a:lnTo>
                <a:lnTo>
                  <a:pt x="1642" y="5701"/>
                </a:lnTo>
                <a:lnTo>
                  <a:pt x="1636" y="5670"/>
                </a:lnTo>
                <a:lnTo>
                  <a:pt x="1628" y="5613"/>
                </a:lnTo>
                <a:lnTo>
                  <a:pt x="1617" y="5570"/>
                </a:lnTo>
                <a:lnTo>
                  <a:pt x="1611" y="5562"/>
                </a:lnTo>
                <a:lnTo>
                  <a:pt x="1604" y="5556"/>
                </a:lnTo>
                <a:lnTo>
                  <a:pt x="1590" y="5541"/>
                </a:lnTo>
                <a:lnTo>
                  <a:pt x="1553" y="5513"/>
                </a:lnTo>
                <a:lnTo>
                  <a:pt x="1504" y="5480"/>
                </a:lnTo>
                <a:lnTo>
                  <a:pt x="1490" y="5471"/>
                </a:lnTo>
                <a:lnTo>
                  <a:pt x="1473" y="5463"/>
                </a:lnTo>
                <a:lnTo>
                  <a:pt x="1434" y="5441"/>
                </a:lnTo>
                <a:lnTo>
                  <a:pt x="1342" y="5384"/>
                </a:lnTo>
                <a:lnTo>
                  <a:pt x="1255" y="5307"/>
                </a:lnTo>
                <a:lnTo>
                  <a:pt x="1238" y="5284"/>
                </a:lnTo>
                <a:lnTo>
                  <a:pt x="1221" y="5297"/>
                </a:lnTo>
                <a:lnTo>
                  <a:pt x="1192" y="5317"/>
                </a:lnTo>
                <a:lnTo>
                  <a:pt x="1137" y="5353"/>
                </a:lnTo>
                <a:lnTo>
                  <a:pt x="1073" y="5416"/>
                </a:lnTo>
                <a:lnTo>
                  <a:pt x="1052" y="5440"/>
                </a:lnTo>
                <a:lnTo>
                  <a:pt x="1034" y="5438"/>
                </a:lnTo>
                <a:lnTo>
                  <a:pt x="1006" y="5430"/>
                </a:lnTo>
                <a:lnTo>
                  <a:pt x="968" y="5409"/>
                </a:lnTo>
                <a:lnTo>
                  <a:pt x="932" y="5381"/>
                </a:lnTo>
                <a:lnTo>
                  <a:pt x="923" y="5374"/>
                </a:lnTo>
                <a:lnTo>
                  <a:pt x="913" y="5382"/>
                </a:lnTo>
                <a:lnTo>
                  <a:pt x="884" y="5406"/>
                </a:lnTo>
                <a:lnTo>
                  <a:pt x="799" y="5457"/>
                </a:lnTo>
                <a:lnTo>
                  <a:pt x="746" y="5471"/>
                </a:lnTo>
                <a:lnTo>
                  <a:pt x="688" y="5466"/>
                </a:lnTo>
                <a:lnTo>
                  <a:pt x="658" y="5455"/>
                </a:lnTo>
                <a:lnTo>
                  <a:pt x="655" y="5454"/>
                </a:lnTo>
                <a:lnTo>
                  <a:pt x="632" y="5442"/>
                </a:lnTo>
                <a:lnTo>
                  <a:pt x="556" y="5405"/>
                </a:lnTo>
                <a:lnTo>
                  <a:pt x="498" y="5376"/>
                </a:lnTo>
                <a:lnTo>
                  <a:pt x="496" y="5374"/>
                </a:lnTo>
                <a:lnTo>
                  <a:pt x="497" y="5370"/>
                </a:lnTo>
                <a:lnTo>
                  <a:pt x="509" y="5342"/>
                </a:lnTo>
                <a:lnTo>
                  <a:pt x="550" y="5243"/>
                </a:lnTo>
                <a:lnTo>
                  <a:pt x="581" y="5167"/>
                </a:lnTo>
                <a:lnTo>
                  <a:pt x="583" y="5162"/>
                </a:lnTo>
                <a:lnTo>
                  <a:pt x="582" y="5155"/>
                </a:lnTo>
                <a:lnTo>
                  <a:pt x="582" y="5139"/>
                </a:lnTo>
                <a:lnTo>
                  <a:pt x="578" y="5108"/>
                </a:lnTo>
                <a:lnTo>
                  <a:pt x="576" y="5084"/>
                </a:lnTo>
                <a:lnTo>
                  <a:pt x="576" y="5079"/>
                </a:lnTo>
                <a:lnTo>
                  <a:pt x="580" y="5074"/>
                </a:lnTo>
                <a:lnTo>
                  <a:pt x="604" y="5036"/>
                </a:lnTo>
                <a:lnTo>
                  <a:pt x="690" y="4906"/>
                </a:lnTo>
                <a:lnTo>
                  <a:pt x="754" y="4806"/>
                </a:lnTo>
                <a:lnTo>
                  <a:pt x="759" y="4800"/>
                </a:lnTo>
                <a:lnTo>
                  <a:pt x="753" y="4790"/>
                </a:lnTo>
                <a:lnTo>
                  <a:pt x="740" y="4764"/>
                </a:lnTo>
                <a:lnTo>
                  <a:pt x="708" y="4691"/>
                </a:lnTo>
                <a:lnTo>
                  <a:pt x="669" y="4623"/>
                </a:lnTo>
                <a:lnTo>
                  <a:pt x="658" y="4611"/>
                </a:lnTo>
                <a:lnTo>
                  <a:pt x="656" y="4610"/>
                </a:lnTo>
                <a:lnTo>
                  <a:pt x="648" y="4603"/>
                </a:lnTo>
                <a:lnTo>
                  <a:pt x="619" y="4577"/>
                </a:lnTo>
                <a:lnTo>
                  <a:pt x="598" y="4559"/>
                </a:lnTo>
                <a:lnTo>
                  <a:pt x="597" y="4557"/>
                </a:lnTo>
                <a:lnTo>
                  <a:pt x="603" y="4540"/>
                </a:lnTo>
                <a:lnTo>
                  <a:pt x="605" y="4526"/>
                </a:lnTo>
                <a:lnTo>
                  <a:pt x="605" y="4514"/>
                </a:lnTo>
                <a:lnTo>
                  <a:pt x="602" y="4504"/>
                </a:lnTo>
                <a:lnTo>
                  <a:pt x="596" y="4497"/>
                </a:lnTo>
                <a:lnTo>
                  <a:pt x="588" y="4491"/>
                </a:lnTo>
                <a:lnTo>
                  <a:pt x="578" y="4486"/>
                </a:lnTo>
                <a:lnTo>
                  <a:pt x="557" y="4475"/>
                </a:lnTo>
                <a:lnTo>
                  <a:pt x="533" y="4462"/>
                </a:lnTo>
                <a:lnTo>
                  <a:pt x="524" y="4453"/>
                </a:lnTo>
                <a:lnTo>
                  <a:pt x="527" y="4445"/>
                </a:lnTo>
                <a:lnTo>
                  <a:pt x="539" y="4426"/>
                </a:lnTo>
                <a:lnTo>
                  <a:pt x="568" y="4385"/>
                </a:lnTo>
                <a:lnTo>
                  <a:pt x="590" y="4345"/>
                </a:lnTo>
                <a:lnTo>
                  <a:pt x="593" y="4336"/>
                </a:lnTo>
                <a:lnTo>
                  <a:pt x="597" y="4311"/>
                </a:lnTo>
                <a:lnTo>
                  <a:pt x="597" y="4279"/>
                </a:lnTo>
                <a:lnTo>
                  <a:pt x="587" y="4207"/>
                </a:lnTo>
                <a:lnTo>
                  <a:pt x="540" y="4060"/>
                </a:lnTo>
                <a:lnTo>
                  <a:pt x="478" y="3973"/>
                </a:lnTo>
                <a:lnTo>
                  <a:pt x="472" y="3975"/>
                </a:lnTo>
                <a:lnTo>
                  <a:pt x="435" y="3987"/>
                </a:lnTo>
                <a:lnTo>
                  <a:pt x="307" y="4023"/>
                </a:lnTo>
                <a:lnTo>
                  <a:pt x="210" y="4052"/>
                </a:lnTo>
                <a:lnTo>
                  <a:pt x="205" y="4053"/>
                </a:lnTo>
                <a:lnTo>
                  <a:pt x="201" y="4046"/>
                </a:lnTo>
                <a:lnTo>
                  <a:pt x="190" y="4023"/>
                </a:lnTo>
                <a:lnTo>
                  <a:pt x="183" y="4005"/>
                </a:lnTo>
                <a:lnTo>
                  <a:pt x="183" y="4004"/>
                </a:lnTo>
                <a:lnTo>
                  <a:pt x="178" y="4001"/>
                </a:lnTo>
                <a:lnTo>
                  <a:pt x="176" y="4000"/>
                </a:lnTo>
                <a:lnTo>
                  <a:pt x="172" y="4000"/>
                </a:lnTo>
                <a:lnTo>
                  <a:pt x="163" y="3999"/>
                </a:lnTo>
                <a:lnTo>
                  <a:pt x="140" y="4001"/>
                </a:lnTo>
                <a:lnTo>
                  <a:pt x="81" y="4009"/>
                </a:lnTo>
                <a:lnTo>
                  <a:pt x="40" y="4013"/>
                </a:lnTo>
                <a:lnTo>
                  <a:pt x="44" y="4005"/>
                </a:lnTo>
                <a:lnTo>
                  <a:pt x="59" y="3979"/>
                </a:lnTo>
                <a:lnTo>
                  <a:pt x="69" y="3967"/>
                </a:lnTo>
                <a:lnTo>
                  <a:pt x="78" y="3960"/>
                </a:lnTo>
                <a:lnTo>
                  <a:pt x="83" y="3958"/>
                </a:lnTo>
                <a:lnTo>
                  <a:pt x="74" y="3955"/>
                </a:lnTo>
                <a:lnTo>
                  <a:pt x="57" y="3947"/>
                </a:lnTo>
                <a:lnTo>
                  <a:pt x="28" y="3930"/>
                </a:lnTo>
                <a:lnTo>
                  <a:pt x="5" y="3905"/>
                </a:lnTo>
                <a:lnTo>
                  <a:pt x="0" y="3897"/>
                </a:lnTo>
                <a:lnTo>
                  <a:pt x="12" y="3897"/>
                </a:lnTo>
                <a:lnTo>
                  <a:pt x="41" y="3894"/>
                </a:lnTo>
                <a:lnTo>
                  <a:pt x="99" y="3881"/>
                </a:lnTo>
                <a:lnTo>
                  <a:pt x="125" y="3870"/>
                </a:lnTo>
                <a:lnTo>
                  <a:pt x="142" y="3857"/>
                </a:lnTo>
                <a:lnTo>
                  <a:pt x="148" y="3850"/>
                </a:lnTo>
                <a:lnTo>
                  <a:pt x="137" y="3838"/>
                </a:lnTo>
                <a:lnTo>
                  <a:pt x="128" y="3824"/>
                </a:lnTo>
                <a:lnTo>
                  <a:pt x="115" y="3792"/>
                </a:lnTo>
                <a:lnTo>
                  <a:pt x="109" y="3755"/>
                </a:lnTo>
                <a:lnTo>
                  <a:pt x="102" y="3682"/>
                </a:lnTo>
                <a:lnTo>
                  <a:pt x="100" y="3647"/>
                </a:lnTo>
                <a:lnTo>
                  <a:pt x="97" y="3636"/>
                </a:lnTo>
                <a:lnTo>
                  <a:pt x="86" y="3609"/>
                </a:lnTo>
                <a:lnTo>
                  <a:pt x="58" y="3547"/>
                </a:lnTo>
                <a:lnTo>
                  <a:pt x="49" y="3517"/>
                </a:lnTo>
                <a:lnTo>
                  <a:pt x="45" y="3488"/>
                </a:lnTo>
                <a:lnTo>
                  <a:pt x="49" y="3475"/>
                </a:lnTo>
                <a:lnTo>
                  <a:pt x="57" y="3457"/>
                </a:lnTo>
                <a:lnTo>
                  <a:pt x="69" y="3445"/>
                </a:lnTo>
                <a:lnTo>
                  <a:pt x="81" y="3439"/>
                </a:lnTo>
                <a:lnTo>
                  <a:pt x="95" y="3438"/>
                </a:lnTo>
                <a:lnTo>
                  <a:pt x="110" y="3440"/>
                </a:lnTo>
                <a:lnTo>
                  <a:pt x="125" y="3445"/>
                </a:lnTo>
                <a:lnTo>
                  <a:pt x="158" y="3454"/>
                </a:lnTo>
                <a:lnTo>
                  <a:pt x="192" y="3455"/>
                </a:lnTo>
                <a:lnTo>
                  <a:pt x="228" y="3435"/>
                </a:lnTo>
                <a:lnTo>
                  <a:pt x="232" y="3439"/>
                </a:lnTo>
                <a:lnTo>
                  <a:pt x="237" y="3442"/>
                </a:lnTo>
                <a:lnTo>
                  <a:pt x="245" y="3444"/>
                </a:lnTo>
                <a:lnTo>
                  <a:pt x="254" y="3444"/>
                </a:lnTo>
                <a:lnTo>
                  <a:pt x="272" y="3442"/>
                </a:lnTo>
                <a:lnTo>
                  <a:pt x="313" y="3436"/>
                </a:lnTo>
                <a:lnTo>
                  <a:pt x="332" y="3434"/>
                </a:lnTo>
                <a:lnTo>
                  <a:pt x="339" y="3446"/>
                </a:lnTo>
                <a:lnTo>
                  <a:pt x="358" y="3460"/>
                </a:lnTo>
                <a:lnTo>
                  <a:pt x="377" y="3468"/>
                </a:lnTo>
                <a:lnTo>
                  <a:pt x="400" y="3469"/>
                </a:lnTo>
                <a:lnTo>
                  <a:pt x="428" y="3466"/>
                </a:lnTo>
                <a:lnTo>
                  <a:pt x="462" y="3461"/>
                </a:lnTo>
                <a:lnTo>
                  <a:pt x="482" y="3457"/>
                </a:lnTo>
                <a:lnTo>
                  <a:pt x="509" y="3454"/>
                </a:lnTo>
                <a:lnTo>
                  <a:pt x="539" y="3459"/>
                </a:lnTo>
                <a:lnTo>
                  <a:pt x="573" y="3470"/>
                </a:lnTo>
                <a:lnTo>
                  <a:pt x="645" y="3505"/>
                </a:lnTo>
                <a:lnTo>
                  <a:pt x="784" y="3574"/>
                </a:lnTo>
                <a:lnTo>
                  <a:pt x="856" y="3570"/>
                </a:lnTo>
                <a:lnTo>
                  <a:pt x="872" y="3561"/>
                </a:lnTo>
                <a:lnTo>
                  <a:pt x="899" y="3539"/>
                </a:lnTo>
                <a:lnTo>
                  <a:pt x="921" y="3515"/>
                </a:lnTo>
                <a:lnTo>
                  <a:pt x="954" y="3464"/>
                </a:lnTo>
                <a:lnTo>
                  <a:pt x="980" y="3432"/>
                </a:lnTo>
                <a:lnTo>
                  <a:pt x="987" y="3410"/>
                </a:lnTo>
                <a:lnTo>
                  <a:pt x="1004" y="3359"/>
                </a:lnTo>
                <a:lnTo>
                  <a:pt x="1026" y="3247"/>
                </a:lnTo>
                <a:lnTo>
                  <a:pt x="1025" y="3197"/>
                </a:lnTo>
                <a:lnTo>
                  <a:pt x="1011" y="3157"/>
                </a:lnTo>
                <a:lnTo>
                  <a:pt x="999" y="3142"/>
                </a:lnTo>
                <a:lnTo>
                  <a:pt x="969" y="3124"/>
                </a:lnTo>
                <a:lnTo>
                  <a:pt x="918" y="3103"/>
                </a:lnTo>
                <a:lnTo>
                  <a:pt x="873" y="3095"/>
                </a:lnTo>
                <a:lnTo>
                  <a:pt x="833" y="3092"/>
                </a:lnTo>
                <a:lnTo>
                  <a:pt x="794" y="3083"/>
                </a:lnTo>
                <a:lnTo>
                  <a:pt x="753" y="3058"/>
                </a:lnTo>
                <a:lnTo>
                  <a:pt x="733" y="3037"/>
                </a:lnTo>
                <a:lnTo>
                  <a:pt x="738" y="3036"/>
                </a:lnTo>
                <a:lnTo>
                  <a:pt x="745" y="3032"/>
                </a:lnTo>
                <a:lnTo>
                  <a:pt x="760" y="3020"/>
                </a:lnTo>
                <a:lnTo>
                  <a:pt x="778" y="3002"/>
                </a:lnTo>
                <a:lnTo>
                  <a:pt x="818" y="2956"/>
                </a:lnTo>
                <a:lnTo>
                  <a:pt x="840" y="2927"/>
                </a:lnTo>
                <a:lnTo>
                  <a:pt x="833" y="2923"/>
                </a:lnTo>
                <a:lnTo>
                  <a:pt x="820" y="2915"/>
                </a:lnTo>
                <a:lnTo>
                  <a:pt x="804" y="2898"/>
                </a:lnTo>
                <a:lnTo>
                  <a:pt x="790" y="2883"/>
                </a:lnTo>
                <a:lnTo>
                  <a:pt x="785" y="2879"/>
                </a:lnTo>
                <a:lnTo>
                  <a:pt x="770" y="2870"/>
                </a:lnTo>
                <a:lnTo>
                  <a:pt x="761" y="2862"/>
                </a:lnTo>
                <a:lnTo>
                  <a:pt x="755" y="2854"/>
                </a:lnTo>
                <a:lnTo>
                  <a:pt x="754" y="2846"/>
                </a:lnTo>
                <a:lnTo>
                  <a:pt x="756" y="2838"/>
                </a:lnTo>
                <a:lnTo>
                  <a:pt x="761" y="2831"/>
                </a:lnTo>
                <a:lnTo>
                  <a:pt x="766" y="2824"/>
                </a:lnTo>
                <a:lnTo>
                  <a:pt x="779" y="2812"/>
                </a:lnTo>
                <a:lnTo>
                  <a:pt x="789" y="2801"/>
                </a:lnTo>
                <a:lnTo>
                  <a:pt x="792" y="2796"/>
                </a:lnTo>
                <a:lnTo>
                  <a:pt x="792" y="2789"/>
                </a:lnTo>
                <a:lnTo>
                  <a:pt x="792" y="2779"/>
                </a:lnTo>
                <a:lnTo>
                  <a:pt x="791" y="2770"/>
                </a:lnTo>
                <a:lnTo>
                  <a:pt x="796" y="2744"/>
                </a:lnTo>
                <a:lnTo>
                  <a:pt x="818" y="2706"/>
                </a:lnTo>
                <a:lnTo>
                  <a:pt x="822" y="2676"/>
                </a:lnTo>
                <a:lnTo>
                  <a:pt x="835" y="2650"/>
                </a:lnTo>
                <a:lnTo>
                  <a:pt x="854" y="2626"/>
                </a:lnTo>
                <a:lnTo>
                  <a:pt x="879" y="2604"/>
                </a:lnTo>
                <a:lnTo>
                  <a:pt x="936" y="2565"/>
                </a:lnTo>
                <a:lnTo>
                  <a:pt x="1035" y="2492"/>
                </a:lnTo>
                <a:lnTo>
                  <a:pt x="1054" y="2449"/>
                </a:lnTo>
                <a:lnTo>
                  <a:pt x="1028" y="2451"/>
                </a:lnTo>
                <a:lnTo>
                  <a:pt x="982" y="2457"/>
                </a:lnTo>
                <a:lnTo>
                  <a:pt x="942" y="2464"/>
                </a:lnTo>
                <a:lnTo>
                  <a:pt x="909" y="2466"/>
                </a:lnTo>
                <a:lnTo>
                  <a:pt x="896" y="2460"/>
                </a:lnTo>
                <a:lnTo>
                  <a:pt x="885" y="2452"/>
                </a:lnTo>
                <a:lnTo>
                  <a:pt x="878" y="2438"/>
                </a:lnTo>
                <a:lnTo>
                  <a:pt x="872" y="2419"/>
                </a:lnTo>
                <a:lnTo>
                  <a:pt x="870" y="2391"/>
                </a:lnTo>
                <a:lnTo>
                  <a:pt x="862" y="2395"/>
                </a:lnTo>
                <a:lnTo>
                  <a:pt x="852" y="2397"/>
                </a:lnTo>
                <a:lnTo>
                  <a:pt x="829" y="2399"/>
                </a:lnTo>
                <a:lnTo>
                  <a:pt x="806" y="2397"/>
                </a:lnTo>
                <a:lnTo>
                  <a:pt x="758" y="2388"/>
                </a:lnTo>
                <a:lnTo>
                  <a:pt x="738" y="2380"/>
                </a:lnTo>
                <a:lnTo>
                  <a:pt x="773" y="2350"/>
                </a:lnTo>
                <a:lnTo>
                  <a:pt x="851" y="2267"/>
                </a:lnTo>
                <a:lnTo>
                  <a:pt x="1001" y="2051"/>
                </a:lnTo>
                <a:lnTo>
                  <a:pt x="1044" y="1941"/>
                </a:lnTo>
                <a:lnTo>
                  <a:pt x="1051" y="1892"/>
                </a:lnTo>
                <a:lnTo>
                  <a:pt x="1048" y="1847"/>
                </a:lnTo>
                <a:lnTo>
                  <a:pt x="1031" y="1808"/>
                </a:lnTo>
                <a:lnTo>
                  <a:pt x="1019" y="1791"/>
                </a:lnTo>
                <a:lnTo>
                  <a:pt x="1001" y="1762"/>
                </a:lnTo>
                <a:lnTo>
                  <a:pt x="965" y="1720"/>
                </a:lnTo>
                <a:lnTo>
                  <a:pt x="893" y="1693"/>
                </a:lnTo>
                <a:lnTo>
                  <a:pt x="866" y="1687"/>
                </a:lnTo>
                <a:lnTo>
                  <a:pt x="866" y="1686"/>
                </a:lnTo>
                <a:lnTo>
                  <a:pt x="867" y="1676"/>
                </a:lnTo>
                <a:lnTo>
                  <a:pt x="873" y="1642"/>
                </a:lnTo>
                <a:lnTo>
                  <a:pt x="878" y="1617"/>
                </a:lnTo>
                <a:lnTo>
                  <a:pt x="879" y="1615"/>
                </a:lnTo>
                <a:lnTo>
                  <a:pt x="877" y="1605"/>
                </a:lnTo>
                <a:lnTo>
                  <a:pt x="870" y="1575"/>
                </a:lnTo>
                <a:lnTo>
                  <a:pt x="866" y="1552"/>
                </a:lnTo>
                <a:lnTo>
                  <a:pt x="866" y="1550"/>
                </a:lnTo>
                <a:close/>
                <a:moveTo>
                  <a:pt x="1432" y="1856"/>
                </a:moveTo>
                <a:lnTo>
                  <a:pt x="1445" y="1844"/>
                </a:lnTo>
                <a:lnTo>
                  <a:pt x="1461" y="1831"/>
                </a:lnTo>
                <a:lnTo>
                  <a:pt x="1465" y="1828"/>
                </a:lnTo>
                <a:lnTo>
                  <a:pt x="1467" y="1827"/>
                </a:lnTo>
                <a:lnTo>
                  <a:pt x="1469" y="1827"/>
                </a:lnTo>
                <a:lnTo>
                  <a:pt x="1472" y="1828"/>
                </a:lnTo>
                <a:lnTo>
                  <a:pt x="1476" y="1832"/>
                </a:lnTo>
                <a:lnTo>
                  <a:pt x="1479" y="1835"/>
                </a:lnTo>
                <a:lnTo>
                  <a:pt x="1494" y="1841"/>
                </a:lnTo>
                <a:lnTo>
                  <a:pt x="1515" y="1842"/>
                </a:lnTo>
                <a:lnTo>
                  <a:pt x="1519" y="1824"/>
                </a:lnTo>
                <a:lnTo>
                  <a:pt x="1517" y="1807"/>
                </a:lnTo>
                <a:lnTo>
                  <a:pt x="1509" y="1792"/>
                </a:lnTo>
                <a:lnTo>
                  <a:pt x="1498" y="1778"/>
                </a:lnTo>
                <a:lnTo>
                  <a:pt x="1482" y="1766"/>
                </a:lnTo>
                <a:lnTo>
                  <a:pt x="1447" y="1744"/>
                </a:lnTo>
                <a:lnTo>
                  <a:pt x="1410" y="1726"/>
                </a:lnTo>
                <a:lnTo>
                  <a:pt x="1378" y="1710"/>
                </a:lnTo>
                <a:lnTo>
                  <a:pt x="1369" y="1701"/>
                </a:lnTo>
                <a:lnTo>
                  <a:pt x="1383" y="1699"/>
                </a:lnTo>
                <a:lnTo>
                  <a:pt x="1422" y="1697"/>
                </a:lnTo>
                <a:lnTo>
                  <a:pt x="1470" y="1700"/>
                </a:lnTo>
                <a:lnTo>
                  <a:pt x="1561" y="1726"/>
                </a:lnTo>
                <a:lnTo>
                  <a:pt x="1598" y="1764"/>
                </a:lnTo>
                <a:lnTo>
                  <a:pt x="1609" y="1784"/>
                </a:lnTo>
                <a:lnTo>
                  <a:pt x="1643" y="1844"/>
                </a:lnTo>
                <a:lnTo>
                  <a:pt x="1708" y="1996"/>
                </a:lnTo>
                <a:lnTo>
                  <a:pt x="1711" y="2030"/>
                </a:lnTo>
                <a:lnTo>
                  <a:pt x="1706" y="2061"/>
                </a:lnTo>
                <a:lnTo>
                  <a:pt x="1688" y="2084"/>
                </a:lnTo>
                <a:lnTo>
                  <a:pt x="1658" y="2100"/>
                </a:lnTo>
                <a:lnTo>
                  <a:pt x="1613" y="2105"/>
                </a:lnTo>
                <a:lnTo>
                  <a:pt x="1615" y="2097"/>
                </a:lnTo>
                <a:lnTo>
                  <a:pt x="1618" y="2088"/>
                </a:lnTo>
                <a:lnTo>
                  <a:pt x="1617" y="2077"/>
                </a:lnTo>
                <a:lnTo>
                  <a:pt x="1612" y="2055"/>
                </a:lnTo>
                <a:lnTo>
                  <a:pt x="1605" y="2031"/>
                </a:lnTo>
                <a:lnTo>
                  <a:pt x="1584" y="1990"/>
                </a:lnTo>
                <a:lnTo>
                  <a:pt x="1580" y="1981"/>
                </a:lnTo>
                <a:lnTo>
                  <a:pt x="1560" y="1981"/>
                </a:lnTo>
                <a:lnTo>
                  <a:pt x="1524" y="1978"/>
                </a:lnTo>
                <a:lnTo>
                  <a:pt x="1494" y="1967"/>
                </a:lnTo>
                <a:lnTo>
                  <a:pt x="1470" y="1950"/>
                </a:lnTo>
                <a:lnTo>
                  <a:pt x="1450" y="1922"/>
                </a:lnTo>
                <a:lnTo>
                  <a:pt x="1436" y="1883"/>
                </a:lnTo>
                <a:lnTo>
                  <a:pt x="1432" y="1856"/>
                </a:lnTo>
                <a:lnTo>
                  <a:pt x="1444" y="1845"/>
                </a:lnTo>
                <a:lnTo>
                  <a:pt x="1457" y="1833"/>
                </a:lnTo>
                <a:lnTo>
                  <a:pt x="1450" y="1839"/>
                </a:lnTo>
                <a:lnTo>
                  <a:pt x="1433" y="1855"/>
                </a:lnTo>
                <a:lnTo>
                  <a:pt x="1432" y="1856"/>
                </a:lnTo>
                <a:close/>
                <a:moveTo>
                  <a:pt x="1020" y="2121"/>
                </a:moveTo>
                <a:lnTo>
                  <a:pt x="1019" y="2132"/>
                </a:lnTo>
                <a:lnTo>
                  <a:pt x="1019" y="2152"/>
                </a:lnTo>
                <a:lnTo>
                  <a:pt x="1014" y="2179"/>
                </a:lnTo>
                <a:lnTo>
                  <a:pt x="1006" y="2188"/>
                </a:lnTo>
                <a:lnTo>
                  <a:pt x="996" y="2197"/>
                </a:lnTo>
                <a:lnTo>
                  <a:pt x="989" y="2200"/>
                </a:lnTo>
                <a:lnTo>
                  <a:pt x="1002" y="2219"/>
                </a:lnTo>
                <a:lnTo>
                  <a:pt x="1035" y="2256"/>
                </a:lnTo>
                <a:lnTo>
                  <a:pt x="1116" y="2328"/>
                </a:lnTo>
                <a:lnTo>
                  <a:pt x="1189" y="2408"/>
                </a:lnTo>
                <a:lnTo>
                  <a:pt x="1203" y="2431"/>
                </a:lnTo>
                <a:lnTo>
                  <a:pt x="1215" y="2418"/>
                </a:lnTo>
                <a:lnTo>
                  <a:pt x="1233" y="2396"/>
                </a:lnTo>
                <a:lnTo>
                  <a:pt x="1244" y="2382"/>
                </a:lnTo>
                <a:lnTo>
                  <a:pt x="1249" y="2378"/>
                </a:lnTo>
                <a:lnTo>
                  <a:pt x="1254" y="2375"/>
                </a:lnTo>
                <a:lnTo>
                  <a:pt x="1262" y="2374"/>
                </a:lnTo>
                <a:lnTo>
                  <a:pt x="1270" y="2374"/>
                </a:lnTo>
                <a:lnTo>
                  <a:pt x="1282" y="2376"/>
                </a:lnTo>
                <a:lnTo>
                  <a:pt x="1317" y="2385"/>
                </a:lnTo>
                <a:lnTo>
                  <a:pt x="1327" y="2353"/>
                </a:lnTo>
                <a:lnTo>
                  <a:pt x="1328" y="2316"/>
                </a:lnTo>
                <a:lnTo>
                  <a:pt x="1321" y="2273"/>
                </a:lnTo>
                <a:lnTo>
                  <a:pt x="1286" y="2187"/>
                </a:lnTo>
                <a:lnTo>
                  <a:pt x="1228" y="2114"/>
                </a:lnTo>
                <a:lnTo>
                  <a:pt x="1192" y="2090"/>
                </a:lnTo>
                <a:lnTo>
                  <a:pt x="1152" y="2075"/>
                </a:lnTo>
                <a:lnTo>
                  <a:pt x="1110" y="2074"/>
                </a:lnTo>
                <a:lnTo>
                  <a:pt x="1065" y="2089"/>
                </a:lnTo>
                <a:lnTo>
                  <a:pt x="1020" y="2121"/>
                </a:lnTo>
                <a:lnTo>
                  <a:pt x="1020" y="2131"/>
                </a:lnTo>
                <a:lnTo>
                  <a:pt x="1020" y="2142"/>
                </a:lnTo>
                <a:lnTo>
                  <a:pt x="1020" y="2135"/>
                </a:lnTo>
                <a:lnTo>
                  <a:pt x="1020" y="2122"/>
                </a:lnTo>
                <a:lnTo>
                  <a:pt x="1020" y="21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5"/>
          <p:cNvSpPr/>
          <p:nvPr/>
        </p:nvSpPr>
        <p:spPr>
          <a:xfrm>
            <a:off x="4267080" y="2387520"/>
            <a:ext cx="103320" cy="49320"/>
          </a:xfrm>
          <a:custGeom>
            <a:avLst/>
            <a:gdLst>
              <a:gd name="textAreaLeft" fmla="*/ 0 w 103320"/>
              <a:gd name="textAreaRight" fmla="*/ 103680 w 103320"/>
              <a:gd name="textAreaTop" fmla="*/ 0 h 49320"/>
              <a:gd name="textAreaBottom" fmla="*/ 49680 h 49320"/>
            </a:gdLst>
            <a:ahLst/>
            <a:rect l="textAreaLeft" t="textAreaTop" r="textAreaRight" b="textAreaBottom"/>
            <a:pathLst>
              <a:path w="130" h="61">
                <a:moveTo>
                  <a:pt x="40" y="1"/>
                </a:moveTo>
                <a:lnTo>
                  <a:pt x="41" y="1"/>
                </a:lnTo>
                <a:lnTo>
                  <a:pt x="43" y="1"/>
                </a:lnTo>
                <a:lnTo>
                  <a:pt x="45" y="1"/>
                </a:lnTo>
                <a:lnTo>
                  <a:pt x="52" y="2"/>
                </a:lnTo>
                <a:lnTo>
                  <a:pt x="71" y="6"/>
                </a:lnTo>
                <a:lnTo>
                  <a:pt x="111" y="22"/>
                </a:lnTo>
                <a:lnTo>
                  <a:pt x="130" y="40"/>
                </a:lnTo>
                <a:lnTo>
                  <a:pt x="127" y="41"/>
                </a:lnTo>
                <a:lnTo>
                  <a:pt x="115" y="44"/>
                </a:lnTo>
                <a:lnTo>
                  <a:pt x="70" y="54"/>
                </a:lnTo>
                <a:lnTo>
                  <a:pt x="33" y="61"/>
                </a:lnTo>
                <a:lnTo>
                  <a:pt x="31" y="61"/>
                </a:lnTo>
                <a:lnTo>
                  <a:pt x="21" y="55"/>
                </a:lnTo>
                <a:lnTo>
                  <a:pt x="7" y="43"/>
                </a:lnTo>
                <a:lnTo>
                  <a:pt x="3" y="38"/>
                </a:lnTo>
                <a:lnTo>
                  <a:pt x="1" y="34"/>
                </a:lnTo>
                <a:lnTo>
                  <a:pt x="0" y="29"/>
                </a:lnTo>
                <a:lnTo>
                  <a:pt x="1" y="25"/>
                </a:lnTo>
                <a:lnTo>
                  <a:pt x="4" y="21"/>
                </a:lnTo>
                <a:lnTo>
                  <a:pt x="9" y="17"/>
                </a:lnTo>
                <a:lnTo>
                  <a:pt x="17" y="12"/>
                </a:lnTo>
                <a:lnTo>
                  <a:pt x="40" y="1"/>
                </a:lnTo>
                <a:lnTo>
                  <a:pt x="42" y="0"/>
                </a:lnTo>
                <a:lnTo>
                  <a:pt x="40" y="1"/>
                </a:lnTo>
              </a:path>
            </a:pathLst>
          </a:custGeom>
          <a:noFill/>
          <a:ln w="9360">
            <a:solidFill>
              <a:srgbClr val="1f1a17"/>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07" name="Freeform 6"/>
          <p:cNvSpPr/>
          <p:nvPr/>
        </p:nvSpPr>
        <p:spPr>
          <a:xfrm>
            <a:off x="4254480" y="2470320"/>
            <a:ext cx="133200" cy="112680"/>
          </a:xfrm>
          <a:custGeom>
            <a:avLst/>
            <a:gdLst>
              <a:gd name="textAreaLeft" fmla="*/ 0 w 133200"/>
              <a:gd name="textAreaRight" fmla="*/ 133200 w 133200"/>
              <a:gd name="textAreaTop" fmla="*/ 0 h 112680"/>
              <a:gd name="textAreaBottom" fmla="*/ 113040 h 112680"/>
            </a:gdLst>
            <a:ahLst/>
            <a:rect l="textAreaLeft" t="textAreaTop" r="textAreaRight" b="textAreaBottom"/>
            <a:pathLst>
              <a:path w="166" h="142">
                <a:moveTo>
                  <a:pt x="166" y="0"/>
                </a:moveTo>
                <a:lnTo>
                  <a:pt x="154" y="13"/>
                </a:lnTo>
                <a:lnTo>
                  <a:pt x="136" y="39"/>
                </a:lnTo>
                <a:lnTo>
                  <a:pt x="105" y="91"/>
                </a:lnTo>
                <a:lnTo>
                  <a:pt x="70" y="135"/>
                </a:lnTo>
                <a:lnTo>
                  <a:pt x="59" y="142"/>
                </a:lnTo>
                <a:lnTo>
                  <a:pt x="53" y="142"/>
                </a:lnTo>
                <a:lnTo>
                  <a:pt x="47" y="140"/>
                </a:lnTo>
                <a:lnTo>
                  <a:pt x="32" y="133"/>
                </a:lnTo>
                <a:lnTo>
                  <a:pt x="17" y="124"/>
                </a:lnTo>
                <a:lnTo>
                  <a:pt x="5" y="112"/>
                </a:lnTo>
                <a:lnTo>
                  <a:pt x="1" y="104"/>
                </a:lnTo>
                <a:lnTo>
                  <a:pt x="0" y="97"/>
                </a:lnTo>
                <a:lnTo>
                  <a:pt x="1" y="90"/>
                </a:lnTo>
                <a:lnTo>
                  <a:pt x="6" y="83"/>
                </a:lnTo>
                <a:lnTo>
                  <a:pt x="7" y="66"/>
                </a:lnTo>
                <a:lnTo>
                  <a:pt x="13" y="51"/>
                </a:lnTo>
                <a:lnTo>
                  <a:pt x="21" y="39"/>
                </a:lnTo>
                <a:lnTo>
                  <a:pt x="32" y="30"/>
                </a:lnTo>
                <a:lnTo>
                  <a:pt x="45" y="24"/>
                </a:lnTo>
                <a:lnTo>
                  <a:pt x="60" y="18"/>
                </a:lnTo>
                <a:lnTo>
                  <a:pt x="93" y="12"/>
                </a:lnTo>
                <a:lnTo>
                  <a:pt x="130" y="7"/>
                </a:lnTo>
                <a:lnTo>
                  <a:pt x="166" y="0"/>
                </a:lnTo>
                <a:lnTo>
                  <a:pt x="155" y="11"/>
                </a:lnTo>
                <a:lnTo>
                  <a:pt x="146" y="21"/>
                </a:lnTo>
                <a:lnTo>
                  <a:pt x="151" y="15"/>
                </a:lnTo>
                <a:lnTo>
                  <a:pt x="165" y="1"/>
                </a:lnTo>
                <a:lnTo>
                  <a:pt x="166"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7"/>
          <p:cNvSpPr/>
          <p:nvPr/>
        </p:nvSpPr>
        <p:spPr>
          <a:xfrm>
            <a:off x="4168800" y="85680"/>
            <a:ext cx="1757160" cy="4657680"/>
          </a:xfrm>
          <a:custGeom>
            <a:avLst/>
            <a:gdLst>
              <a:gd name="textAreaLeft" fmla="*/ 0 w 1757160"/>
              <a:gd name="textAreaRight" fmla="*/ 1757520 w 1757160"/>
              <a:gd name="textAreaTop" fmla="*/ 0 h 4657680"/>
              <a:gd name="textAreaBottom" fmla="*/ 4658040 h 4657680"/>
            </a:gdLst>
            <a:ahLst/>
            <a:rect l="textAreaLeft" t="textAreaTop" r="textAreaRight" b="textAreaBottom"/>
            <a:pathLst>
              <a:path w="2215" h="5868">
                <a:moveTo>
                  <a:pt x="866" y="1550"/>
                </a:moveTo>
                <a:lnTo>
                  <a:pt x="871" y="1542"/>
                </a:lnTo>
                <a:lnTo>
                  <a:pt x="891" y="1518"/>
                </a:lnTo>
                <a:lnTo>
                  <a:pt x="906" y="1500"/>
                </a:lnTo>
                <a:lnTo>
                  <a:pt x="907" y="1498"/>
                </a:lnTo>
                <a:lnTo>
                  <a:pt x="903" y="1498"/>
                </a:lnTo>
                <a:lnTo>
                  <a:pt x="887" y="1497"/>
                </a:lnTo>
                <a:lnTo>
                  <a:pt x="829" y="1492"/>
                </a:lnTo>
                <a:lnTo>
                  <a:pt x="787" y="1487"/>
                </a:lnTo>
                <a:lnTo>
                  <a:pt x="784" y="1486"/>
                </a:lnTo>
                <a:lnTo>
                  <a:pt x="779" y="1473"/>
                </a:lnTo>
                <a:lnTo>
                  <a:pt x="765" y="1431"/>
                </a:lnTo>
                <a:lnTo>
                  <a:pt x="754" y="1400"/>
                </a:lnTo>
                <a:lnTo>
                  <a:pt x="754" y="1398"/>
                </a:lnTo>
                <a:lnTo>
                  <a:pt x="739" y="1390"/>
                </a:lnTo>
                <a:lnTo>
                  <a:pt x="719" y="1379"/>
                </a:lnTo>
                <a:lnTo>
                  <a:pt x="708" y="1373"/>
                </a:lnTo>
                <a:lnTo>
                  <a:pt x="702" y="1367"/>
                </a:lnTo>
                <a:lnTo>
                  <a:pt x="695" y="1356"/>
                </a:lnTo>
                <a:lnTo>
                  <a:pt x="686" y="1335"/>
                </a:lnTo>
                <a:lnTo>
                  <a:pt x="679" y="1318"/>
                </a:lnTo>
                <a:lnTo>
                  <a:pt x="679" y="1314"/>
                </a:lnTo>
                <a:lnTo>
                  <a:pt x="687" y="1286"/>
                </a:lnTo>
                <a:lnTo>
                  <a:pt x="709" y="1188"/>
                </a:lnTo>
                <a:lnTo>
                  <a:pt x="726" y="1114"/>
                </a:lnTo>
                <a:lnTo>
                  <a:pt x="728" y="1108"/>
                </a:lnTo>
                <a:lnTo>
                  <a:pt x="724" y="1105"/>
                </a:lnTo>
                <a:lnTo>
                  <a:pt x="703" y="1078"/>
                </a:lnTo>
                <a:lnTo>
                  <a:pt x="629" y="987"/>
                </a:lnTo>
                <a:lnTo>
                  <a:pt x="573" y="917"/>
                </a:lnTo>
                <a:lnTo>
                  <a:pt x="571" y="913"/>
                </a:lnTo>
                <a:lnTo>
                  <a:pt x="562" y="895"/>
                </a:lnTo>
                <a:lnTo>
                  <a:pt x="553" y="858"/>
                </a:lnTo>
                <a:lnTo>
                  <a:pt x="550" y="825"/>
                </a:lnTo>
                <a:lnTo>
                  <a:pt x="555" y="763"/>
                </a:lnTo>
                <a:lnTo>
                  <a:pt x="559" y="716"/>
                </a:lnTo>
                <a:lnTo>
                  <a:pt x="555" y="712"/>
                </a:lnTo>
                <a:lnTo>
                  <a:pt x="552" y="707"/>
                </a:lnTo>
                <a:lnTo>
                  <a:pt x="545" y="693"/>
                </a:lnTo>
                <a:lnTo>
                  <a:pt x="524" y="655"/>
                </a:lnTo>
                <a:lnTo>
                  <a:pt x="473" y="612"/>
                </a:lnTo>
                <a:lnTo>
                  <a:pt x="457" y="604"/>
                </a:lnTo>
                <a:lnTo>
                  <a:pt x="432" y="594"/>
                </a:lnTo>
                <a:lnTo>
                  <a:pt x="406" y="589"/>
                </a:lnTo>
                <a:lnTo>
                  <a:pt x="399" y="588"/>
                </a:lnTo>
                <a:lnTo>
                  <a:pt x="398" y="587"/>
                </a:lnTo>
                <a:lnTo>
                  <a:pt x="397" y="585"/>
                </a:lnTo>
                <a:lnTo>
                  <a:pt x="396" y="581"/>
                </a:lnTo>
                <a:lnTo>
                  <a:pt x="395" y="578"/>
                </a:lnTo>
                <a:lnTo>
                  <a:pt x="388" y="549"/>
                </a:lnTo>
                <a:lnTo>
                  <a:pt x="365" y="454"/>
                </a:lnTo>
                <a:lnTo>
                  <a:pt x="348" y="381"/>
                </a:lnTo>
                <a:lnTo>
                  <a:pt x="348" y="377"/>
                </a:lnTo>
                <a:lnTo>
                  <a:pt x="347" y="368"/>
                </a:lnTo>
                <a:lnTo>
                  <a:pt x="345" y="338"/>
                </a:lnTo>
                <a:lnTo>
                  <a:pt x="344" y="316"/>
                </a:lnTo>
                <a:lnTo>
                  <a:pt x="344" y="314"/>
                </a:lnTo>
                <a:lnTo>
                  <a:pt x="354" y="310"/>
                </a:lnTo>
                <a:lnTo>
                  <a:pt x="387" y="296"/>
                </a:lnTo>
                <a:lnTo>
                  <a:pt x="411" y="286"/>
                </a:lnTo>
                <a:lnTo>
                  <a:pt x="413" y="285"/>
                </a:lnTo>
                <a:lnTo>
                  <a:pt x="414" y="284"/>
                </a:lnTo>
                <a:lnTo>
                  <a:pt x="425" y="271"/>
                </a:lnTo>
                <a:lnTo>
                  <a:pt x="463" y="226"/>
                </a:lnTo>
                <a:lnTo>
                  <a:pt x="492" y="192"/>
                </a:lnTo>
                <a:lnTo>
                  <a:pt x="494" y="190"/>
                </a:lnTo>
                <a:lnTo>
                  <a:pt x="495" y="188"/>
                </a:lnTo>
                <a:lnTo>
                  <a:pt x="508" y="180"/>
                </a:lnTo>
                <a:lnTo>
                  <a:pt x="551" y="151"/>
                </a:lnTo>
                <a:lnTo>
                  <a:pt x="584" y="128"/>
                </a:lnTo>
                <a:lnTo>
                  <a:pt x="586" y="126"/>
                </a:lnTo>
                <a:lnTo>
                  <a:pt x="590" y="119"/>
                </a:lnTo>
                <a:lnTo>
                  <a:pt x="591" y="112"/>
                </a:lnTo>
                <a:lnTo>
                  <a:pt x="592" y="106"/>
                </a:lnTo>
                <a:lnTo>
                  <a:pt x="591" y="100"/>
                </a:lnTo>
                <a:lnTo>
                  <a:pt x="588" y="90"/>
                </a:lnTo>
                <a:lnTo>
                  <a:pt x="586" y="79"/>
                </a:lnTo>
                <a:lnTo>
                  <a:pt x="586" y="75"/>
                </a:lnTo>
                <a:lnTo>
                  <a:pt x="589" y="71"/>
                </a:lnTo>
                <a:lnTo>
                  <a:pt x="593" y="67"/>
                </a:lnTo>
                <a:lnTo>
                  <a:pt x="602" y="62"/>
                </a:lnTo>
                <a:lnTo>
                  <a:pt x="645" y="90"/>
                </a:lnTo>
                <a:lnTo>
                  <a:pt x="698" y="122"/>
                </a:lnTo>
                <a:lnTo>
                  <a:pt x="709" y="129"/>
                </a:lnTo>
                <a:lnTo>
                  <a:pt x="713" y="131"/>
                </a:lnTo>
                <a:lnTo>
                  <a:pt x="715" y="133"/>
                </a:lnTo>
                <a:lnTo>
                  <a:pt x="715" y="134"/>
                </a:lnTo>
                <a:lnTo>
                  <a:pt x="714" y="134"/>
                </a:lnTo>
                <a:lnTo>
                  <a:pt x="711" y="134"/>
                </a:lnTo>
                <a:lnTo>
                  <a:pt x="708" y="136"/>
                </a:lnTo>
                <a:lnTo>
                  <a:pt x="699" y="137"/>
                </a:lnTo>
                <a:lnTo>
                  <a:pt x="672" y="146"/>
                </a:lnTo>
                <a:lnTo>
                  <a:pt x="658" y="156"/>
                </a:lnTo>
                <a:lnTo>
                  <a:pt x="644" y="173"/>
                </a:lnTo>
                <a:lnTo>
                  <a:pt x="642" y="178"/>
                </a:lnTo>
                <a:lnTo>
                  <a:pt x="672" y="187"/>
                </a:lnTo>
                <a:lnTo>
                  <a:pt x="739" y="195"/>
                </a:lnTo>
                <a:lnTo>
                  <a:pt x="812" y="191"/>
                </a:lnTo>
                <a:lnTo>
                  <a:pt x="965" y="175"/>
                </a:lnTo>
                <a:lnTo>
                  <a:pt x="1072" y="178"/>
                </a:lnTo>
                <a:lnTo>
                  <a:pt x="1100" y="185"/>
                </a:lnTo>
                <a:lnTo>
                  <a:pt x="1161" y="209"/>
                </a:lnTo>
                <a:lnTo>
                  <a:pt x="1293" y="268"/>
                </a:lnTo>
                <a:lnTo>
                  <a:pt x="1432" y="303"/>
                </a:lnTo>
                <a:lnTo>
                  <a:pt x="1467" y="301"/>
                </a:lnTo>
                <a:lnTo>
                  <a:pt x="1494" y="301"/>
                </a:lnTo>
                <a:lnTo>
                  <a:pt x="1521" y="306"/>
                </a:lnTo>
                <a:lnTo>
                  <a:pt x="1548" y="316"/>
                </a:lnTo>
                <a:lnTo>
                  <a:pt x="1597" y="347"/>
                </a:lnTo>
                <a:lnTo>
                  <a:pt x="1638" y="390"/>
                </a:lnTo>
                <a:lnTo>
                  <a:pt x="1667" y="438"/>
                </a:lnTo>
                <a:lnTo>
                  <a:pt x="1681" y="485"/>
                </a:lnTo>
                <a:lnTo>
                  <a:pt x="1682" y="505"/>
                </a:lnTo>
                <a:lnTo>
                  <a:pt x="1681" y="508"/>
                </a:lnTo>
                <a:lnTo>
                  <a:pt x="1679" y="525"/>
                </a:lnTo>
                <a:lnTo>
                  <a:pt x="1670" y="583"/>
                </a:lnTo>
                <a:lnTo>
                  <a:pt x="1664" y="627"/>
                </a:lnTo>
                <a:lnTo>
                  <a:pt x="1664" y="629"/>
                </a:lnTo>
                <a:lnTo>
                  <a:pt x="1642" y="699"/>
                </a:lnTo>
                <a:lnTo>
                  <a:pt x="1603" y="751"/>
                </a:lnTo>
                <a:lnTo>
                  <a:pt x="1547" y="787"/>
                </a:lnTo>
                <a:lnTo>
                  <a:pt x="1478" y="808"/>
                </a:lnTo>
                <a:lnTo>
                  <a:pt x="1399" y="818"/>
                </a:lnTo>
                <a:lnTo>
                  <a:pt x="1224" y="814"/>
                </a:lnTo>
                <a:lnTo>
                  <a:pt x="1046" y="793"/>
                </a:lnTo>
                <a:lnTo>
                  <a:pt x="887" y="773"/>
                </a:lnTo>
                <a:lnTo>
                  <a:pt x="824" y="769"/>
                </a:lnTo>
                <a:lnTo>
                  <a:pt x="861" y="805"/>
                </a:lnTo>
                <a:lnTo>
                  <a:pt x="945" y="859"/>
                </a:lnTo>
                <a:lnTo>
                  <a:pt x="1034" y="901"/>
                </a:lnTo>
                <a:lnTo>
                  <a:pt x="1115" y="940"/>
                </a:lnTo>
                <a:lnTo>
                  <a:pt x="1174" y="990"/>
                </a:lnTo>
                <a:lnTo>
                  <a:pt x="1192" y="1022"/>
                </a:lnTo>
                <a:lnTo>
                  <a:pt x="1199" y="1061"/>
                </a:lnTo>
                <a:lnTo>
                  <a:pt x="1196" y="1106"/>
                </a:lnTo>
                <a:lnTo>
                  <a:pt x="1203" y="1123"/>
                </a:lnTo>
                <a:lnTo>
                  <a:pt x="1214" y="1155"/>
                </a:lnTo>
                <a:lnTo>
                  <a:pt x="1230" y="1228"/>
                </a:lnTo>
                <a:lnTo>
                  <a:pt x="1236" y="1297"/>
                </a:lnTo>
                <a:lnTo>
                  <a:pt x="1237" y="1312"/>
                </a:lnTo>
                <a:lnTo>
                  <a:pt x="1242" y="1326"/>
                </a:lnTo>
                <a:lnTo>
                  <a:pt x="1253" y="1336"/>
                </a:lnTo>
                <a:lnTo>
                  <a:pt x="1267" y="1341"/>
                </a:lnTo>
                <a:lnTo>
                  <a:pt x="1283" y="1343"/>
                </a:lnTo>
                <a:lnTo>
                  <a:pt x="1301" y="1343"/>
                </a:lnTo>
                <a:lnTo>
                  <a:pt x="1340" y="1337"/>
                </a:lnTo>
                <a:lnTo>
                  <a:pt x="1406" y="1323"/>
                </a:lnTo>
                <a:lnTo>
                  <a:pt x="1417" y="1322"/>
                </a:lnTo>
                <a:lnTo>
                  <a:pt x="1432" y="1326"/>
                </a:lnTo>
                <a:lnTo>
                  <a:pt x="1463" y="1338"/>
                </a:lnTo>
                <a:lnTo>
                  <a:pt x="1524" y="1365"/>
                </a:lnTo>
                <a:lnTo>
                  <a:pt x="1594" y="1378"/>
                </a:lnTo>
                <a:lnTo>
                  <a:pt x="1614" y="1375"/>
                </a:lnTo>
                <a:lnTo>
                  <a:pt x="1628" y="1370"/>
                </a:lnTo>
                <a:lnTo>
                  <a:pt x="1640" y="1361"/>
                </a:lnTo>
                <a:lnTo>
                  <a:pt x="1648" y="1350"/>
                </a:lnTo>
                <a:lnTo>
                  <a:pt x="1653" y="1336"/>
                </a:lnTo>
                <a:lnTo>
                  <a:pt x="1655" y="1320"/>
                </a:lnTo>
                <a:lnTo>
                  <a:pt x="1655" y="1288"/>
                </a:lnTo>
                <a:lnTo>
                  <a:pt x="1652" y="1256"/>
                </a:lnTo>
                <a:lnTo>
                  <a:pt x="1648" y="1230"/>
                </a:lnTo>
                <a:lnTo>
                  <a:pt x="1648" y="1220"/>
                </a:lnTo>
                <a:lnTo>
                  <a:pt x="1618" y="1220"/>
                </a:lnTo>
                <a:lnTo>
                  <a:pt x="1567" y="1216"/>
                </a:lnTo>
                <a:lnTo>
                  <a:pt x="1529" y="1208"/>
                </a:lnTo>
                <a:lnTo>
                  <a:pt x="1501" y="1192"/>
                </a:lnTo>
                <a:lnTo>
                  <a:pt x="1481" y="1167"/>
                </a:lnTo>
                <a:lnTo>
                  <a:pt x="1467" y="1128"/>
                </a:lnTo>
                <a:lnTo>
                  <a:pt x="1463" y="1103"/>
                </a:lnTo>
                <a:lnTo>
                  <a:pt x="1486" y="1089"/>
                </a:lnTo>
                <a:lnTo>
                  <a:pt x="1513" y="1081"/>
                </a:lnTo>
                <a:lnTo>
                  <a:pt x="1543" y="1079"/>
                </a:lnTo>
                <a:lnTo>
                  <a:pt x="1576" y="1081"/>
                </a:lnTo>
                <a:lnTo>
                  <a:pt x="1648" y="1091"/>
                </a:lnTo>
                <a:lnTo>
                  <a:pt x="1719" y="1099"/>
                </a:lnTo>
                <a:lnTo>
                  <a:pt x="1788" y="1094"/>
                </a:lnTo>
                <a:lnTo>
                  <a:pt x="1845" y="1063"/>
                </a:lnTo>
                <a:lnTo>
                  <a:pt x="1842" y="1031"/>
                </a:lnTo>
                <a:lnTo>
                  <a:pt x="1826" y="982"/>
                </a:lnTo>
                <a:lnTo>
                  <a:pt x="1800" y="944"/>
                </a:lnTo>
                <a:lnTo>
                  <a:pt x="1773" y="914"/>
                </a:lnTo>
                <a:lnTo>
                  <a:pt x="1753" y="882"/>
                </a:lnTo>
                <a:lnTo>
                  <a:pt x="1746" y="843"/>
                </a:lnTo>
                <a:lnTo>
                  <a:pt x="1752" y="818"/>
                </a:lnTo>
                <a:lnTo>
                  <a:pt x="1758" y="796"/>
                </a:lnTo>
                <a:lnTo>
                  <a:pt x="1770" y="770"/>
                </a:lnTo>
                <a:lnTo>
                  <a:pt x="1775" y="764"/>
                </a:lnTo>
                <a:lnTo>
                  <a:pt x="1781" y="761"/>
                </a:lnTo>
                <a:lnTo>
                  <a:pt x="1785" y="760"/>
                </a:lnTo>
                <a:lnTo>
                  <a:pt x="1790" y="760"/>
                </a:lnTo>
                <a:lnTo>
                  <a:pt x="1796" y="759"/>
                </a:lnTo>
                <a:lnTo>
                  <a:pt x="1801" y="757"/>
                </a:lnTo>
                <a:lnTo>
                  <a:pt x="1807" y="751"/>
                </a:lnTo>
                <a:lnTo>
                  <a:pt x="1814" y="742"/>
                </a:lnTo>
                <a:lnTo>
                  <a:pt x="1822" y="726"/>
                </a:lnTo>
                <a:lnTo>
                  <a:pt x="1830" y="709"/>
                </a:lnTo>
                <a:lnTo>
                  <a:pt x="1843" y="672"/>
                </a:lnTo>
                <a:lnTo>
                  <a:pt x="1864" y="604"/>
                </a:lnTo>
                <a:lnTo>
                  <a:pt x="1885" y="559"/>
                </a:lnTo>
                <a:lnTo>
                  <a:pt x="1891" y="553"/>
                </a:lnTo>
                <a:lnTo>
                  <a:pt x="1902" y="558"/>
                </a:lnTo>
                <a:lnTo>
                  <a:pt x="1936" y="570"/>
                </a:lnTo>
                <a:lnTo>
                  <a:pt x="2033" y="596"/>
                </a:lnTo>
                <a:lnTo>
                  <a:pt x="2114" y="612"/>
                </a:lnTo>
                <a:lnTo>
                  <a:pt x="2126" y="612"/>
                </a:lnTo>
                <a:lnTo>
                  <a:pt x="2100" y="589"/>
                </a:lnTo>
                <a:lnTo>
                  <a:pt x="2080" y="561"/>
                </a:lnTo>
                <a:lnTo>
                  <a:pt x="2049" y="498"/>
                </a:lnTo>
                <a:lnTo>
                  <a:pt x="2023" y="433"/>
                </a:lnTo>
                <a:lnTo>
                  <a:pt x="1993" y="378"/>
                </a:lnTo>
                <a:lnTo>
                  <a:pt x="1975" y="358"/>
                </a:lnTo>
                <a:lnTo>
                  <a:pt x="1951" y="343"/>
                </a:lnTo>
                <a:lnTo>
                  <a:pt x="1922" y="337"/>
                </a:lnTo>
                <a:lnTo>
                  <a:pt x="1888" y="339"/>
                </a:lnTo>
                <a:lnTo>
                  <a:pt x="1873" y="330"/>
                </a:lnTo>
                <a:lnTo>
                  <a:pt x="1864" y="317"/>
                </a:lnTo>
                <a:lnTo>
                  <a:pt x="1859" y="301"/>
                </a:lnTo>
                <a:lnTo>
                  <a:pt x="1858" y="282"/>
                </a:lnTo>
                <a:lnTo>
                  <a:pt x="1859" y="263"/>
                </a:lnTo>
                <a:lnTo>
                  <a:pt x="1866" y="221"/>
                </a:lnTo>
                <a:lnTo>
                  <a:pt x="1878" y="147"/>
                </a:lnTo>
                <a:lnTo>
                  <a:pt x="1876" y="132"/>
                </a:lnTo>
                <a:lnTo>
                  <a:pt x="1869" y="119"/>
                </a:lnTo>
                <a:lnTo>
                  <a:pt x="1857" y="107"/>
                </a:lnTo>
                <a:lnTo>
                  <a:pt x="1841" y="98"/>
                </a:lnTo>
                <a:lnTo>
                  <a:pt x="1821" y="91"/>
                </a:lnTo>
                <a:lnTo>
                  <a:pt x="1777" y="78"/>
                </a:lnTo>
                <a:lnTo>
                  <a:pt x="1696" y="51"/>
                </a:lnTo>
                <a:lnTo>
                  <a:pt x="1673" y="26"/>
                </a:lnTo>
                <a:lnTo>
                  <a:pt x="1733" y="20"/>
                </a:lnTo>
                <a:lnTo>
                  <a:pt x="1822" y="8"/>
                </a:lnTo>
                <a:lnTo>
                  <a:pt x="1938" y="0"/>
                </a:lnTo>
                <a:lnTo>
                  <a:pt x="2079" y="49"/>
                </a:lnTo>
                <a:lnTo>
                  <a:pt x="2133" y="73"/>
                </a:lnTo>
                <a:lnTo>
                  <a:pt x="2120" y="83"/>
                </a:lnTo>
                <a:lnTo>
                  <a:pt x="2089" y="102"/>
                </a:lnTo>
                <a:lnTo>
                  <a:pt x="2025" y="151"/>
                </a:lnTo>
                <a:lnTo>
                  <a:pt x="1970" y="208"/>
                </a:lnTo>
                <a:lnTo>
                  <a:pt x="1962" y="223"/>
                </a:lnTo>
                <a:lnTo>
                  <a:pt x="1966" y="235"/>
                </a:lnTo>
                <a:lnTo>
                  <a:pt x="1965" y="248"/>
                </a:lnTo>
                <a:lnTo>
                  <a:pt x="1960" y="262"/>
                </a:lnTo>
                <a:lnTo>
                  <a:pt x="1951" y="276"/>
                </a:lnTo>
                <a:lnTo>
                  <a:pt x="1926" y="307"/>
                </a:lnTo>
                <a:lnTo>
                  <a:pt x="1869" y="363"/>
                </a:lnTo>
                <a:lnTo>
                  <a:pt x="1846" y="385"/>
                </a:lnTo>
                <a:lnTo>
                  <a:pt x="1841" y="393"/>
                </a:lnTo>
                <a:lnTo>
                  <a:pt x="1839" y="396"/>
                </a:lnTo>
                <a:lnTo>
                  <a:pt x="1839" y="399"/>
                </a:lnTo>
                <a:lnTo>
                  <a:pt x="1839" y="400"/>
                </a:lnTo>
                <a:lnTo>
                  <a:pt x="1840" y="401"/>
                </a:lnTo>
                <a:lnTo>
                  <a:pt x="1841" y="402"/>
                </a:lnTo>
                <a:lnTo>
                  <a:pt x="1842" y="402"/>
                </a:lnTo>
                <a:lnTo>
                  <a:pt x="1844" y="403"/>
                </a:lnTo>
                <a:lnTo>
                  <a:pt x="1849" y="403"/>
                </a:lnTo>
                <a:lnTo>
                  <a:pt x="1856" y="402"/>
                </a:lnTo>
                <a:lnTo>
                  <a:pt x="1874" y="398"/>
                </a:lnTo>
                <a:lnTo>
                  <a:pt x="1933" y="379"/>
                </a:lnTo>
                <a:lnTo>
                  <a:pt x="2166" y="289"/>
                </a:lnTo>
                <a:lnTo>
                  <a:pt x="2207" y="272"/>
                </a:lnTo>
                <a:lnTo>
                  <a:pt x="2207" y="375"/>
                </a:lnTo>
                <a:lnTo>
                  <a:pt x="2209" y="1082"/>
                </a:lnTo>
                <a:lnTo>
                  <a:pt x="2212" y="3504"/>
                </a:lnTo>
                <a:lnTo>
                  <a:pt x="2214" y="5350"/>
                </a:lnTo>
                <a:lnTo>
                  <a:pt x="2215" y="5452"/>
                </a:lnTo>
                <a:lnTo>
                  <a:pt x="2214" y="5452"/>
                </a:lnTo>
                <a:lnTo>
                  <a:pt x="2212" y="5452"/>
                </a:lnTo>
                <a:lnTo>
                  <a:pt x="2207" y="5451"/>
                </a:lnTo>
                <a:lnTo>
                  <a:pt x="2191" y="5448"/>
                </a:lnTo>
                <a:lnTo>
                  <a:pt x="2138" y="5443"/>
                </a:lnTo>
                <a:lnTo>
                  <a:pt x="2068" y="5456"/>
                </a:lnTo>
                <a:lnTo>
                  <a:pt x="1998" y="5498"/>
                </a:lnTo>
                <a:lnTo>
                  <a:pt x="1943" y="5588"/>
                </a:lnTo>
                <a:lnTo>
                  <a:pt x="1917" y="5726"/>
                </a:lnTo>
                <a:lnTo>
                  <a:pt x="1915" y="5726"/>
                </a:lnTo>
                <a:lnTo>
                  <a:pt x="1902" y="5723"/>
                </a:lnTo>
                <a:lnTo>
                  <a:pt x="1858" y="5712"/>
                </a:lnTo>
                <a:lnTo>
                  <a:pt x="1825" y="5705"/>
                </a:lnTo>
                <a:lnTo>
                  <a:pt x="1824" y="5704"/>
                </a:lnTo>
                <a:lnTo>
                  <a:pt x="1829" y="5718"/>
                </a:lnTo>
                <a:lnTo>
                  <a:pt x="1848" y="5755"/>
                </a:lnTo>
                <a:lnTo>
                  <a:pt x="1863" y="5785"/>
                </a:lnTo>
                <a:lnTo>
                  <a:pt x="1864" y="5786"/>
                </a:lnTo>
                <a:lnTo>
                  <a:pt x="1862" y="5788"/>
                </a:lnTo>
                <a:lnTo>
                  <a:pt x="1855" y="5798"/>
                </a:lnTo>
                <a:lnTo>
                  <a:pt x="1827" y="5835"/>
                </a:lnTo>
                <a:lnTo>
                  <a:pt x="1806" y="5862"/>
                </a:lnTo>
                <a:lnTo>
                  <a:pt x="1805" y="5863"/>
                </a:lnTo>
                <a:lnTo>
                  <a:pt x="1797" y="5864"/>
                </a:lnTo>
                <a:lnTo>
                  <a:pt x="1782" y="5866"/>
                </a:lnTo>
                <a:lnTo>
                  <a:pt x="1754" y="5868"/>
                </a:lnTo>
                <a:lnTo>
                  <a:pt x="1728" y="5865"/>
                </a:lnTo>
                <a:lnTo>
                  <a:pt x="1722" y="5863"/>
                </a:lnTo>
                <a:lnTo>
                  <a:pt x="1710" y="5858"/>
                </a:lnTo>
                <a:lnTo>
                  <a:pt x="1699" y="5850"/>
                </a:lnTo>
                <a:lnTo>
                  <a:pt x="1691" y="5840"/>
                </a:lnTo>
                <a:lnTo>
                  <a:pt x="1677" y="5815"/>
                </a:lnTo>
                <a:lnTo>
                  <a:pt x="1666" y="5786"/>
                </a:lnTo>
                <a:lnTo>
                  <a:pt x="1651" y="5730"/>
                </a:lnTo>
                <a:lnTo>
                  <a:pt x="1648" y="5718"/>
                </a:lnTo>
                <a:lnTo>
                  <a:pt x="1642" y="5701"/>
                </a:lnTo>
                <a:lnTo>
                  <a:pt x="1636" y="5670"/>
                </a:lnTo>
                <a:lnTo>
                  <a:pt x="1628" y="5613"/>
                </a:lnTo>
                <a:lnTo>
                  <a:pt x="1617" y="5570"/>
                </a:lnTo>
                <a:lnTo>
                  <a:pt x="1611" y="5562"/>
                </a:lnTo>
                <a:lnTo>
                  <a:pt x="1604" y="5556"/>
                </a:lnTo>
                <a:lnTo>
                  <a:pt x="1590" y="5541"/>
                </a:lnTo>
                <a:lnTo>
                  <a:pt x="1553" y="5513"/>
                </a:lnTo>
                <a:lnTo>
                  <a:pt x="1504" y="5480"/>
                </a:lnTo>
                <a:lnTo>
                  <a:pt x="1490" y="5471"/>
                </a:lnTo>
                <a:lnTo>
                  <a:pt x="1473" y="5463"/>
                </a:lnTo>
                <a:lnTo>
                  <a:pt x="1434" y="5441"/>
                </a:lnTo>
                <a:lnTo>
                  <a:pt x="1342" y="5384"/>
                </a:lnTo>
                <a:lnTo>
                  <a:pt x="1255" y="5307"/>
                </a:lnTo>
                <a:lnTo>
                  <a:pt x="1238" y="5284"/>
                </a:lnTo>
                <a:lnTo>
                  <a:pt x="1221" y="5297"/>
                </a:lnTo>
                <a:lnTo>
                  <a:pt x="1192" y="5317"/>
                </a:lnTo>
                <a:lnTo>
                  <a:pt x="1137" y="5353"/>
                </a:lnTo>
                <a:lnTo>
                  <a:pt x="1073" y="5416"/>
                </a:lnTo>
                <a:lnTo>
                  <a:pt x="1052" y="5440"/>
                </a:lnTo>
                <a:lnTo>
                  <a:pt x="1034" y="5438"/>
                </a:lnTo>
                <a:lnTo>
                  <a:pt x="1006" y="5430"/>
                </a:lnTo>
                <a:lnTo>
                  <a:pt x="968" y="5409"/>
                </a:lnTo>
                <a:lnTo>
                  <a:pt x="932" y="5381"/>
                </a:lnTo>
                <a:lnTo>
                  <a:pt x="923" y="5374"/>
                </a:lnTo>
                <a:lnTo>
                  <a:pt x="913" y="5382"/>
                </a:lnTo>
                <a:lnTo>
                  <a:pt x="884" y="5406"/>
                </a:lnTo>
                <a:lnTo>
                  <a:pt x="799" y="5457"/>
                </a:lnTo>
                <a:lnTo>
                  <a:pt x="746" y="5471"/>
                </a:lnTo>
                <a:lnTo>
                  <a:pt x="688" y="5466"/>
                </a:lnTo>
                <a:lnTo>
                  <a:pt x="658" y="5455"/>
                </a:lnTo>
                <a:lnTo>
                  <a:pt x="655" y="5454"/>
                </a:lnTo>
                <a:lnTo>
                  <a:pt x="632" y="5442"/>
                </a:lnTo>
                <a:lnTo>
                  <a:pt x="556" y="5405"/>
                </a:lnTo>
                <a:lnTo>
                  <a:pt x="498" y="5376"/>
                </a:lnTo>
                <a:lnTo>
                  <a:pt x="496" y="5374"/>
                </a:lnTo>
                <a:lnTo>
                  <a:pt x="497" y="5370"/>
                </a:lnTo>
                <a:lnTo>
                  <a:pt x="509" y="5342"/>
                </a:lnTo>
                <a:lnTo>
                  <a:pt x="550" y="5243"/>
                </a:lnTo>
                <a:lnTo>
                  <a:pt x="581" y="5167"/>
                </a:lnTo>
                <a:lnTo>
                  <a:pt x="583" y="5162"/>
                </a:lnTo>
                <a:lnTo>
                  <a:pt x="582" y="5155"/>
                </a:lnTo>
                <a:lnTo>
                  <a:pt x="582" y="5139"/>
                </a:lnTo>
                <a:lnTo>
                  <a:pt x="578" y="5108"/>
                </a:lnTo>
                <a:lnTo>
                  <a:pt x="576" y="5084"/>
                </a:lnTo>
                <a:lnTo>
                  <a:pt x="576" y="5079"/>
                </a:lnTo>
                <a:lnTo>
                  <a:pt x="580" y="5074"/>
                </a:lnTo>
                <a:lnTo>
                  <a:pt x="604" y="5036"/>
                </a:lnTo>
                <a:lnTo>
                  <a:pt x="690" y="4906"/>
                </a:lnTo>
                <a:lnTo>
                  <a:pt x="754" y="4806"/>
                </a:lnTo>
                <a:lnTo>
                  <a:pt x="759" y="4800"/>
                </a:lnTo>
                <a:lnTo>
                  <a:pt x="753" y="4790"/>
                </a:lnTo>
                <a:lnTo>
                  <a:pt x="740" y="4764"/>
                </a:lnTo>
                <a:lnTo>
                  <a:pt x="708" y="4691"/>
                </a:lnTo>
                <a:lnTo>
                  <a:pt x="669" y="4623"/>
                </a:lnTo>
                <a:lnTo>
                  <a:pt x="658" y="4611"/>
                </a:lnTo>
                <a:lnTo>
                  <a:pt x="656" y="4610"/>
                </a:lnTo>
                <a:lnTo>
                  <a:pt x="648" y="4603"/>
                </a:lnTo>
                <a:lnTo>
                  <a:pt x="619" y="4577"/>
                </a:lnTo>
                <a:lnTo>
                  <a:pt x="598" y="4559"/>
                </a:lnTo>
                <a:lnTo>
                  <a:pt x="597" y="4557"/>
                </a:lnTo>
                <a:lnTo>
                  <a:pt x="603" y="4540"/>
                </a:lnTo>
                <a:lnTo>
                  <a:pt x="605" y="4526"/>
                </a:lnTo>
                <a:lnTo>
                  <a:pt x="605" y="4514"/>
                </a:lnTo>
                <a:lnTo>
                  <a:pt x="602" y="4504"/>
                </a:lnTo>
                <a:lnTo>
                  <a:pt x="596" y="4497"/>
                </a:lnTo>
                <a:lnTo>
                  <a:pt x="588" y="4491"/>
                </a:lnTo>
                <a:lnTo>
                  <a:pt x="578" y="4486"/>
                </a:lnTo>
                <a:lnTo>
                  <a:pt x="557" y="4475"/>
                </a:lnTo>
                <a:lnTo>
                  <a:pt x="533" y="4462"/>
                </a:lnTo>
                <a:lnTo>
                  <a:pt x="524" y="4453"/>
                </a:lnTo>
                <a:lnTo>
                  <a:pt x="527" y="4445"/>
                </a:lnTo>
                <a:lnTo>
                  <a:pt x="539" y="4426"/>
                </a:lnTo>
                <a:lnTo>
                  <a:pt x="568" y="4385"/>
                </a:lnTo>
                <a:lnTo>
                  <a:pt x="590" y="4345"/>
                </a:lnTo>
                <a:lnTo>
                  <a:pt x="593" y="4336"/>
                </a:lnTo>
                <a:lnTo>
                  <a:pt x="597" y="4311"/>
                </a:lnTo>
                <a:lnTo>
                  <a:pt x="597" y="4279"/>
                </a:lnTo>
                <a:lnTo>
                  <a:pt x="587" y="4207"/>
                </a:lnTo>
                <a:lnTo>
                  <a:pt x="540" y="4060"/>
                </a:lnTo>
                <a:lnTo>
                  <a:pt x="478" y="3973"/>
                </a:lnTo>
                <a:lnTo>
                  <a:pt x="472" y="3975"/>
                </a:lnTo>
                <a:lnTo>
                  <a:pt x="435" y="3987"/>
                </a:lnTo>
                <a:lnTo>
                  <a:pt x="307" y="4023"/>
                </a:lnTo>
                <a:lnTo>
                  <a:pt x="210" y="4052"/>
                </a:lnTo>
                <a:lnTo>
                  <a:pt x="205" y="4053"/>
                </a:lnTo>
                <a:lnTo>
                  <a:pt x="201" y="4046"/>
                </a:lnTo>
                <a:lnTo>
                  <a:pt x="190" y="4023"/>
                </a:lnTo>
                <a:lnTo>
                  <a:pt x="183" y="4005"/>
                </a:lnTo>
                <a:lnTo>
                  <a:pt x="183" y="4004"/>
                </a:lnTo>
                <a:lnTo>
                  <a:pt x="178" y="4001"/>
                </a:lnTo>
                <a:lnTo>
                  <a:pt x="176" y="4000"/>
                </a:lnTo>
                <a:lnTo>
                  <a:pt x="172" y="4000"/>
                </a:lnTo>
                <a:lnTo>
                  <a:pt x="163" y="3999"/>
                </a:lnTo>
                <a:lnTo>
                  <a:pt x="140" y="4001"/>
                </a:lnTo>
                <a:lnTo>
                  <a:pt x="81" y="4009"/>
                </a:lnTo>
                <a:lnTo>
                  <a:pt x="40" y="4013"/>
                </a:lnTo>
                <a:lnTo>
                  <a:pt x="44" y="4005"/>
                </a:lnTo>
                <a:lnTo>
                  <a:pt x="59" y="3979"/>
                </a:lnTo>
                <a:lnTo>
                  <a:pt x="69" y="3967"/>
                </a:lnTo>
                <a:lnTo>
                  <a:pt x="78" y="3960"/>
                </a:lnTo>
                <a:lnTo>
                  <a:pt x="83" y="3958"/>
                </a:lnTo>
                <a:lnTo>
                  <a:pt x="74" y="3955"/>
                </a:lnTo>
                <a:lnTo>
                  <a:pt x="57" y="3947"/>
                </a:lnTo>
                <a:lnTo>
                  <a:pt x="28" y="3930"/>
                </a:lnTo>
                <a:lnTo>
                  <a:pt x="5" y="3905"/>
                </a:lnTo>
                <a:lnTo>
                  <a:pt x="0" y="3897"/>
                </a:lnTo>
                <a:lnTo>
                  <a:pt x="12" y="3897"/>
                </a:lnTo>
                <a:lnTo>
                  <a:pt x="41" y="3894"/>
                </a:lnTo>
                <a:lnTo>
                  <a:pt x="99" y="3881"/>
                </a:lnTo>
                <a:lnTo>
                  <a:pt x="125" y="3870"/>
                </a:lnTo>
                <a:lnTo>
                  <a:pt x="142" y="3857"/>
                </a:lnTo>
                <a:lnTo>
                  <a:pt x="148" y="3850"/>
                </a:lnTo>
                <a:lnTo>
                  <a:pt x="137" y="3838"/>
                </a:lnTo>
                <a:lnTo>
                  <a:pt x="128" y="3824"/>
                </a:lnTo>
                <a:lnTo>
                  <a:pt x="115" y="3792"/>
                </a:lnTo>
                <a:lnTo>
                  <a:pt x="109" y="3755"/>
                </a:lnTo>
                <a:lnTo>
                  <a:pt x="102" y="3682"/>
                </a:lnTo>
                <a:lnTo>
                  <a:pt x="100" y="3647"/>
                </a:lnTo>
                <a:lnTo>
                  <a:pt x="97" y="3636"/>
                </a:lnTo>
                <a:lnTo>
                  <a:pt x="86" y="3609"/>
                </a:lnTo>
                <a:lnTo>
                  <a:pt x="58" y="3547"/>
                </a:lnTo>
                <a:lnTo>
                  <a:pt x="49" y="3517"/>
                </a:lnTo>
                <a:lnTo>
                  <a:pt x="45" y="3488"/>
                </a:lnTo>
                <a:lnTo>
                  <a:pt x="49" y="3475"/>
                </a:lnTo>
                <a:lnTo>
                  <a:pt x="57" y="3457"/>
                </a:lnTo>
                <a:lnTo>
                  <a:pt x="69" y="3445"/>
                </a:lnTo>
                <a:lnTo>
                  <a:pt x="81" y="3439"/>
                </a:lnTo>
                <a:lnTo>
                  <a:pt x="95" y="3438"/>
                </a:lnTo>
                <a:lnTo>
                  <a:pt x="110" y="3440"/>
                </a:lnTo>
                <a:lnTo>
                  <a:pt x="125" y="3445"/>
                </a:lnTo>
                <a:lnTo>
                  <a:pt x="158" y="3454"/>
                </a:lnTo>
                <a:lnTo>
                  <a:pt x="192" y="3455"/>
                </a:lnTo>
                <a:lnTo>
                  <a:pt x="228" y="3435"/>
                </a:lnTo>
                <a:lnTo>
                  <a:pt x="232" y="3439"/>
                </a:lnTo>
                <a:lnTo>
                  <a:pt x="237" y="3442"/>
                </a:lnTo>
                <a:lnTo>
                  <a:pt x="245" y="3444"/>
                </a:lnTo>
                <a:lnTo>
                  <a:pt x="254" y="3444"/>
                </a:lnTo>
                <a:lnTo>
                  <a:pt x="272" y="3442"/>
                </a:lnTo>
                <a:lnTo>
                  <a:pt x="313" y="3436"/>
                </a:lnTo>
                <a:lnTo>
                  <a:pt x="332" y="3434"/>
                </a:lnTo>
                <a:lnTo>
                  <a:pt x="339" y="3446"/>
                </a:lnTo>
                <a:lnTo>
                  <a:pt x="358" y="3460"/>
                </a:lnTo>
                <a:lnTo>
                  <a:pt x="377" y="3468"/>
                </a:lnTo>
                <a:lnTo>
                  <a:pt x="400" y="3469"/>
                </a:lnTo>
                <a:lnTo>
                  <a:pt x="428" y="3466"/>
                </a:lnTo>
                <a:lnTo>
                  <a:pt x="462" y="3461"/>
                </a:lnTo>
                <a:lnTo>
                  <a:pt x="482" y="3457"/>
                </a:lnTo>
                <a:lnTo>
                  <a:pt x="509" y="3454"/>
                </a:lnTo>
                <a:lnTo>
                  <a:pt x="539" y="3459"/>
                </a:lnTo>
                <a:lnTo>
                  <a:pt x="573" y="3470"/>
                </a:lnTo>
                <a:lnTo>
                  <a:pt x="645" y="3505"/>
                </a:lnTo>
                <a:lnTo>
                  <a:pt x="784" y="3574"/>
                </a:lnTo>
                <a:lnTo>
                  <a:pt x="856" y="3570"/>
                </a:lnTo>
                <a:lnTo>
                  <a:pt x="872" y="3561"/>
                </a:lnTo>
                <a:lnTo>
                  <a:pt x="899" y="3539"/>
                </a:lnTo>
                <a:lnTo>
                  <a:pt x="921" y="3515"/>
                </a:lnTo>
                <a:lnTo>
                  <a:pt x="954" y="3464"/>
                </a:lnTo>
                <a:lnTo>
                  <a:pt x="980" y="3432"/>
                </a:lnTo>
                <a:lnTo>
                  <a:pt x="987" y="3410"/>
                </a:lnTo>
                <a:lnTo>
                  <a:pt x="1004" y="3359"/>
                </a:lnTo>
                <a:lnTo>
                  <a:pt x="1026" y="3247"/>
                </a:lnTo>
                <a:lnTo>
                  <a:pt x="1025" y="3197"/>
                </a:lnTo>
                <a:lnTo>
                  <a:pt x="1011" y="3157"/>
                </a:lnTo>
                <a:lnTo>
                  <a:pt x="999" y="3142"/>
                </a:lnTo>
                <a:lnTo>
                  <a:pt x="969" y="3124"/>
                </a:lnTo>
                <a:lnTo>
                  <a:pt x="918" y="3103"/>
                </a:lnTo>
                <a:lnTo>
                  <a:pt x="873" y="3095"/>
                </a:lnTo>
                <a:lnTo>
                  <a:pt x="833" y="3092"/>
                </a:lnTo>
                <a:lnTo>
                  <a:pt x="794" y="3083"/>
                </a:lnTo>
                <a:lnTo>
                  <a:pt x="753" y="3058"/>
                </a:lnTo>
                <a:lnTo>
                  <a:pt x="733" y="3037"/>
                </a:lnTo>
                <a:lnTo>
                  <a:pt x="738" y="3036"/>
                </a:lnTo>
                <a:lnTo>
                  <a:pt x="745" y="3032"/>
                </a:lnTo>
                <a:lnTo>
                  <a:pt x="760" y="3020"/>
                </a:lnTo>
                <a:lnTo>
                  <a:pt x="778" y="3002"/>
                </a:lnTo>
                <a:lnTo>
                  <a:pt x="818" y="2956"/>
                </a:lnTo>
                <a:lnTo>
                  <a:pt x="840" y="2927"/>
                </a:lnTo>
                <a:lnTo>
                  <a:pt x="833" y="2923"/>
                </a:lnTo>
                <a:lnTo>
                  <a:pt x="820" y="2915"/>
                </a:lnTo>
                <a:lnTo>
                  <a:pt x="804" y="2898"/>
                </a:lnTo>
                <a:lnTo>
                  <a:pt x="790" y="2883"/>
                </a:lnTo>
                <a:lnTo>
                  <a:pt x="785" y="2879"/>
                </a:lnTo>
                <a:lnTo>
                  <a:pt x="770" y="2870"/>
                </a:lnTo>
                <a:lnTo>
                  <a:pt x="761" y="2862"/>
                </a:lnTo>
                <a:lnTo>
                  <a:pt x="755" y="2854"/>
                </a:lnTo>
                <a:lnTo>
                  <a:pt x="754" y="2846"/>
                </a:lnTo>
                <a:lnTo>
                  <a:pt x="756" y="2838"/>
                </a:lnTo>
                <a:lnTo>
                  <a:pt x="761" y="2831"/>
                </a:lnTo>
                <a:lnTo>
                  <a:pt x="766" y="2824"/>
                </a:lnTo>
                <a:lnTo>
                  <a:pt x="779" y="2812"/>
                </a:lnTo>
                <a:lnTo>
                  <a:pt x="789" y="2801"/>
                </a:lnTo>
                <a:lnTo>
                  <a:pt x="792" y="2796"/>
                </a:lnTo>
                <a:lnTo>
                  <a:pt x="792" y="2789"/>
                </a:lnTo>
                <a:lnTo>
                  <a:pt x="792" y="2779"/>
                </a:lnTo>
                <a:lnTo>
                  <a:pt x="791" y="2770"/>
                </a:lnTo>
                <a:lnTo>
                  <a:pt x="796" y="2744"/>
                </a:lnTo>
                <a:lnTo>
                  <a:pt x="818" y="2706"/>
                </a:lnTo>
                <a:lnTo>
                  <a:pt x="822" y="2676"/>
                </a:lnTo>
                <a:lnTo>
                  <a:pt x="835" y="2650"/>
                </a:lnTo>
                <a:lnTo>
                  <a:pt x="854" y="2626"/>
                </a:lnTo>
                <a:lnTo>
                  <a:pt x="879" y="2604"/>
                </a:lnTo>
                <a:lnTo>
                  <a:pt x="936" y="2565"/>
                </a:lnTo>
                <a:lnTo>
                  <a:pt x="1035" y="2492"/>
                </a:lnTo>
                <a:lnTo>
                  <a:pt x="1054" y="2449"/>
                </a:lnTo>
                <a:lnTo>
                  <a:pt x="1028" y="2451"/>
                </a:lnTo>
                <a:lnTo>
                  <a:pt x="982" y="2457"/>
                </a:lnTo>
                <a:lnTo>
                  <a:pt x="942" y="2464"/>
                </a:lnTo>
                <a:lnTo>
                  <a:pt x="909" y="2466"/>
                </a:lnTo>
                <a:lnTo>
                  <a:pt x="896" y="2460"/>
                </a:lnTo>
                <a:lnTo>
                  <a:pt x="885" y="2452"/>
                </a:lnTo>
                <a:lnTo>
                  <a:pt x="878" y="2438"/>
                </a:lnTo>
                <a:lnTo>
                  <a:pt x="872" y="2419"/>
                </a:lnTo>
                <a:lnTo>
                  <a:pt x="870" y="2391"/>
                </a:lnTo>
                <a:lnTo>
                  <a:pt x="862" y="2395"/>
                </a:lnTo>
                <a:lnTo>
                  <a:pt x="852" y="2397"/>
                </a:lnTo>
                <a:lnTo>
                  <a:pt x="829" y="2399"/>
                </a:lnTo>
                <a:lnTo>
                  <a:pt x="806" y="2397"/>
                </a:lnTo>
                <a:lnTo>
                  <a:pt x="758" y="2388"/>
                </a:lnTo>
                <a:lnTo>
                  <a:pt x="738" y="2380"/>
                </a:lnTo>
                <a:lnTo>
                  <a:pt x="773" y="2350"/>
                </a:lnTo>
                <a:lnTo>
                  <a:pt x="851" y="2267"/>
                </a:lnTo>
                <a:lnTo>
                  <a:pt x="1001" y="2051"/>
                </a:lnTo>
                <a:lnTo>
                  <a:pt x="1044" y="1941"/>
                </a:lnTo>
                <a:lnTo>
                  <a:pt x="1051" y="1892"/>
                </a:lnTo>
                <a:lnTo>
                  <a:pt x="1048" y="1847"/>
                </a:lnTo>
                <a:lnTo>
                  <a:pt x="1031" y="1808"/>
                </a:lnTo>
                <a:lnTo>
                  <a:pt x="1019" y="1791"/>
                </a:lnTo>
                <a:lnTo>
                  <a:pt x="1001" y="1762"/>
                </a:lnTo>
                <a:lnTo>
                  <a:pt x="965" y="1720"/>
                </a:lnTo>
                <a:lnTo>
                  <a:pt x="893" y="1693"/>
                </a:lnTo>
                <a:lnTo>
                  <a:pt x="866" y="1687"/>
                </a:lnTo>
                <a:lnTo>
                  <a:pt x="866" y="1686"/>
                </a:lnTo>
                <a:lnTo>
                  <a:pt x="867" y="1676"/>
                </a:lnTo>
                <a:lnTo>
                  <a:pt x="873" y="1642"/>
                </a:lnTo>
                <a:lnTo>
                  <a:pt x="878" y="1617"/>
                </a:lnTo>
                <a:lnTo>
                  <a:pt x="879" y="1615"/>
                </a:lnTo>
                <a:lnTo>
                  <a:pt x="877" y="1605"/>
                </a:lnTo>
                <a:lnTo>
                  <a:pt x="870" y="1575"/>
                </a:lnTo>
                <a:lnTo>
                  <a:pt x="866" y="1552"/>
                </a:lnTo>
                <a:lnTo>
                  <a:pt x="866" y="155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8"/>
          <p:cNvSpPr/>
          <p:nvPr/>
        </p:nvSpPr>
        <p:spPr>
          <a:xfrm>
            <a:off x="5254560" y="1432080"/>
            <a:ext cx="271440" cy="323640"/>
          </a:xfrm>
          <a:custGeom>
            <a:avLst/>
            <a:gdLst>
              <a:gd name="textAreaLeft" fmla="*/ 0 w 271440"/>
              <a:gd name="textAreaRight" fmla="*/ 271800 w 271440"/>
              <a:gd name="textAreaTop" fmla="*/ 0 h 323640"/>
              <a:gd name="textAreaBottom" fmla="*/ 324000 h 323640"/>
            </a:gdLst>
            <a:ahLst/>
            <a:rect l="textAreaLeft" t="textAreaTop" r="textAreaRight" b="textAreaBottom"/>
            <a:pathLst>
              <a:path w="342" h="408">
                <a:moveTo>
                  <a:pt x="63" y="159"/>
                </a:moveTo>
                <a:lnTo>
                  <a:pt x="76" y="147"/>
                </a:lnTo>
                <a:lnTo>
                  <a:pt x="92" y="134"/>
                </a:lnTo>
                <a:lnTo>
                  <a:pt x="96" y="131"/>
                </a:lnTo>
                <a:lnTo>
                  <a:pt x="98" y="130"/>
                </a:lnTo>
                <a:lnTo>
                  <a:pt x="100" y="130"/>
                </a:lnTo>
                <a:lnTo>
                  <a:pt x="103" y="131"/>
                </a:lnTo>
                <a:lnTo>
                  <a:pt x="107" y="135"/>
                </a:lnTo>
                <a:lnTo>
                  <a:pt x="110" y="138"/>
                </a:lnTo>
                <a:lnTo>
                  <a:pt x="125" y="144"/>
                </a:lnTo>
                <a:lnTo>
                  <a:pt x="146" y="145"/>
                </a:lnTo>
                <a:lnTo>
                  <a:pt x="150" y="127"/>
                </a:lnTo>
                <a:lnTo>
                  <a:pt x="148" y="110"/>
                </a:lnTo>
                <a:lnTo>
                  <a:pt x="140" y="95"/>
                </a:lnTo>
                <a:lnTo>
                  <a:pt x="129" y="81"/>
                </a:lnTo>
                <a:lnTo>
                  <a:pt x="113" y="69"/>
                </a:lnTo>
                <a:lnTo>
                  <a:pt x="78" y="47"/>
                </a:lnTo>
                <a:lnTo>
                  <a:pt x="41" y="29"/>
                </a:lnTo>
                <a:lnTo>
                  <a:pt x="9" y="13"/>
                </a:lnTo>
                <a:lnTo>
                  <a:pt x="0" y="4"/>
                </a:lnTo>
                <a:lnTo>
                  <a:pt x="14" y="2"/>
                </a:lnTo>
                <a:lnTo>
                  <a:pt x="53" y="0"/>
                </a:lnTo>
                <a:lnTo>
                  <a:pt x="101" y="3"/>
                </a:lnTo>
                <a:lnTo>
                  <a:pt x="192" y="29"/>
                </a:lnTo>
                <a:lnTo>
                  <a:pt x="229" y="67"/>
                </a:lnTo>
                <a:lnTo>
                  <a:pt x="240" y="87"/>
                </a:lnTo>
                <a:lnTo>
                  <a:pt x="274" y="147"/>
                </a:lnTo>
                <a:lnTo>
                  <a:pt x="339" y="299"/>
                </a:lnTo>
                <a:lnTo>
                  <a:pt x="342" y="333"/>
                </a:lnTo>
                <a:lnTo>
                  <a:pt x="337" y="364"/>
                </a:lnTo>
                <a:lnTo>
                  <a:pt x="319" y="387"/>
                </a:lnTo>
                <a:lnTo>
                  <a:pt x="289" y="403"/>
                </a:lnTo>
                <a:lnTo>
                  <a:pt x="244" y="408"/>
                </a:lnTo>
                <a:lnTo>
                  <a:pt x="246" y="400"/>
                </a:lnTo>
                <a:lnTo>
                  <a:pt x="249" y="391"/>
                </a:lnTo>
                <a:lnTo>
                  <a:pt x="248" y="380"/>
                </a:lnTo>
                <a:lnTo>
                  <a:pt x="243" y="358"/>
                </a:lnTo>
                <a:lnTo>
                  <a:pt x="236" y="334"/>
                </a:lnTo>
                <a:lnTo>
                  <a:pt x="215" y="293"/>
                </a:lnTo>
                <a:lnTo>
                  <a:pt x="211" y="284"/>
                </a:lnTo>
                <a:lnTo>
                  <a:pt x="191" y="284"/>
                </a:lnTo>
                <a:lnTo>
                  <a:pt x="155" y="281"/>
                </a:lnTo>
                <a:lnTo>
                  <a:pt x="125" y="270"/>
                </a:lnTo>
                <a:lnTo>
                  <a:pt x="101" y="253"/>
                </a:lnTo>
                <a:lnTo>
                  <a:pt x="81" y="225"/>
                </a:lnTo>
                <a:lnTo>
                  <a:pt x="67" y="186"/>
                </a:lnTo>
                <a:lnTo>
                  <a:pt x="63" y="159"/>
                </a:lnTo>
                <a:lnTo>
                  <a:pt x="75" y="148"/>
                </a:lnTo>
                <a:lnTo>
                  <a:pt x="88" y="136"/>
                </a:lnTo>
                <a:lnTo>
                  <a:pt x="81" y="142"/>
                </a:lnTo>
                <a:lnTo>
                  <a:pt x="64" y="158"/>
                </a:lnTo>
                <a:lnTo>
                  <a:pt x="63" y="15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9"/>
          <p:cNvSpPr/>
          <p:nvPr/>
        </p:nvSpPr>
        <p:spPr>
          <a:xfrm>
            <a:off x="4952880" y="1731960"/>
            <a:ext cx="270000" cy="282600"/>
          </a:xfrm>
          <a:custGeom>
            <a:avLst/>
            <a:gdLst>
              <a:gd name="textAreaLeft" fmla="*/ 0 w 270000"/>
              <a:gd name="textAreaRight" fmla="*/ 270000 w 270000"/>
              <a:gd name="textAreaTop" fmla="*/ 0 h 282600"/>
              <a:gd name="textAreaBottom" fmla="*/ 282960 h 282600"/>
            </a:gdLst>
            <a:ahLst/>
            <a:rect l="textAreaLeft" t="textAreaTop" r="textAreaRight" b="textAreaBottom"/>
            <a:pathLst>
              <a:path w="339" h="357">
                <a:moveTo>
                  <a:pt x="31" y="47"/>
                </a:moveTo>
                <a:lnTo>
                  <a:pt x="30" y="58"/>
                </a:lnTo>
                <a:lnTo>
                  <a:pt x="30" y="78"/>
                </a:lnTo>
                <a:lnTo>
                  <a:pt x="25" y="105"/>
                </a:lnTo>
                <a:lnTo>
                  <a:pt x="17" y="114"/>
                </a:lnTo>
                <a:lnTo>
                  <a:pt x="7" y="123"/>
                </a:lnTo>
                <a:lnTo>
                  <a:pt x="0" y="126"/>
                </a:lnTo>
                <a:lnTo>
                  <a:pt x="13" y="145"/>
                </a:lnTo>
                <a:lnTo>
                  <a:pt x="46" y="182"/>
                </a:lnTo>
                <a:lnTo>
                  <a:pt x="127" y="254"/>
                </a:lnTo>
                <a:lnTo>
                  <a:pt x="200" y="334"/>
                </a:lnTo>
                <a:lnTo>
                  <a:pt x="214" y="357"/>
                </a:lnTo>
                <a:lnTo>
                  <a:pt x="226" y="344"/>
                </a:lnTo>
                <a:lnTo>
                  <a:pt x="244" y="322"/>
                </a:lnTo>
                <a:lnTo>
                  <a:pt x="255" y="308"/>
                </a:lnTo>
                <a:lnTo>
                  <a:pt x="260" y="304"/>
                </a:lnTo>
                <a:lnTo>
                  <a:pt x="265" y="301"/>
                </a:lnTo>
                <a:lnTo>
                  <a:pt x="273" y="300"/>
                </a:lnTo>
                <a:lnTo>
                  <a:pt x="281" y="300"/>
                </a:lnTo>
                <a:lnTo>
                  <a:pt x="293" y="302"/>
                </a:lnTo>
                <a:lnTo>
                  <a:pt x="328" y="311"/>
                </a:lnTo>
                <a:lnTo>
                  <a:pt x="338" y="279"/>
                </a:lnTo>
                <a:lnTo>
                  <a:pt x="339" y="242"/>
                </a:lnTo>
                <a:lnTo>
                  <a:pt x="332" y="199"/>
                </a:lnTo>
                <a:lnTo>
                  <a:pt x="297" y="113"/>
                </a:lnTo>
                <a:lnTo>
                  <a:pt x="239" y="40"/>
                </a:lnTo>
                <a:lnTo>
                  <a:pt x="203" y="16"/>
                </a:lnTo>
                <a:lnTo>
                  <a:pt x="163" y="1"/>
                </a:lnTo>
                <a:lnTo>
                  <a:pt x="121" y="0"/>
                </a:lnTo>
                <a:lnTo>
                  <a:pt x="76" y="15"/>
                </a:lnTo>
                <a:lnTo>
                  <a:pt x="31" y="47"/>
                </a:lnTo>
                <a:lnTo>
                  <a:pt x="31" y="57"/>
                </a:lnTo>
                <a:lnTo>
                  <a:pt x="31" y="68"/>
                </a:lnTo>
                <a:lnTo>
                  <a:pt x="31" y="61"/>
                </a:lnTo>
                <a:lnTo>
                  <a:pt x="31" y="48"/>
                </a:lnTo>
                <a:lnTo>
                  <a:pt x="31" y="47"/>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0"/>
          <p:cNvSpPr/>
          <p:nvPr/>
        </p:nvSpPr>
        <p:spPr>
          <a:xfrm>
            <a:off x="5423040" y="5459400"/>
            <a:ext cx="501480" cy="882720"/>
          </a:xfrm>
          <a:custGeom>
            <a:avLst/>
            <a:gdLst>
              <a:gd name="textAreaLeft" fmla="*/ 0 w 501480"/>
              <a:gd name="textAreaRight" fmla="*/ 501840 w 501480"/>
              <a:gd name="textAreaTop" fmla="*/ 0 h 882720"/>
              <a:gd name="textAreaBottom" fmla="*/ 883080 h 882720"/>
            </a:gdLst>
            <a:ahLst/>
            <a:rect l="textAreaLeft" t="textAreaTop" r="textAreaRight" b="textAreaBottom"/>
            <a:pathLst>
              <a:path w="633" h="1110">
                <a:moveTo>
                  <a:pt x="633" y="17"/>
                </a:moveTo>
                <a:lnTo>
                  <a:pt x="618" y="16"/>
                </a:lnTo>
                <a:lnTo>
                  <a:pt x="588" y="11"/>
                </a:lnTo>
                <a:lnTo>
                  <a:pt x="522" y="1"/>
                </a:lnTo>
                <a:lnTo>
                  <a:pt x="462" y="0"/>
                </a:lnTo>
                <a:lnTo>
                  <a:pt x="449" y="2"/>
                </a:lnTo>
                <a:lnTo>
                  <a:pt x="451" y="4"/>
                </a:lnTo>
                <a:lnTo>
                  <a:pt x="463" y="15"/>
                </a:lnTo>
                <a:lnTo>
                  <a:pt x="508" y="56"/>
                </a:lnTo>
                <a:lnTo>
                  <a:pt x="543" y="94"/>
                </a:lnTo>
                <a:lnTo>
                  <a:pt x="545" y="99"/>
                </a:lnTo>
                <a:lnTo>
                  <a:pt x="545" y="100"/>
                </a:lnTo>
                <a:lnTo>
                  <a:pt x="545" y="104"/>
                </a:lnTo>
                <a:lnTo>
                  <a:pt x="545" y="119"/>
                </a:lnTo>
                <a:lnTo>
                  <a:pt x="545" y="130"/>
                </a:lnTo>
                <a:lnTo>
                  <a:pt x="525" y="174"/>
                </a:lnTo>
                <a:lnTo>
                  <a:pt x="491" y="203"/>
                </a:lnTo>
                <a:lnTo>
                  <a:pt x="447" y="222"/>
                </a:lnTo>
                <a:lnTo>
                  <a:pt x="395" y="232"/>
                </a:lnTo>
                <a:lnTo>
                  <a:pt x="278" y="241"/>
                </a:lnTo>
                <a:lnTo>
                  <a:pt x="159" y="252"/>
                </a:lnTo>
                <a:lnTo>
                  <a:pt x="59" y="285"/>
                </a:lnTo>
                <a:lnTo>
                  <a:pt x="0" y="364"/>
                </a:lnTo>
                <a:lnTo>
                  <a:pt x="0" y="372"/>
                </a:lnTo>
                <a:lnTo>
                  <a:pt x="0" y="391"/>
                </a:lnTo>
                <a:lnTo>
                  <a:pt x="7" y="437"/>
                </a:lnTo>
                <a:lnTo>
                  <a:pt x="25" y="479"/>
                </a:lnTo>
                <a:lnTo>
                  <a:pt x="33" y="487"/>
                </a:lnTo>
                <a:lnTo>
                  <a:pt x="42" y="484"/>
                </a:lnTo>
                <a:lnTo>
                  <a:pt x="62" y="479"/>
                </a:lnTo>
                <a:lnTo>
                  <a:pt x="86" y="477"/>
                </a:lnTo>
                <a:lnTo>
                  <a:pt x="134" y="479"/>
                </a:lnTo>
                <a:lnTo>
                  <a:pt x="165" y="487"/>
                </a:lnTo>
                <a:lnTo>
                  <a:pt x="164" y="492"/>
                </a:lnTo>
                <a:lnTo>
                  <a:pt x="162" y="496"/>
                </a:lnTo>
                <a:lnTo>
                  <a:pt x="159" y="501"/>
                </a:lnTo>
                <a:lnTo>
                  <a:pt x="151" y="512"/>
                </a:lnTo>
                <a:lnTo>
                  <a:pt x="141" y="522"/>
                </a:lnTo>
                <a:lnTo>
                  <a:pt x="130" y="530"/>
                </a:lnTo>
                <a:lnTo>
                  <a:pt x="120" y="534"/>
                </a:lnTo>
                <a:lnTo>
                  <a:pt x="116" y="534"/>
                </a:lnTo>
                <a:lnTo>
                  <a:pt x="119" y="535"/>
                </a:lnTo>
                <a:lnTo>
                  <a:pt x="128" y="537"/>
                </a:lnTo>
                <a:lnTo>
                  <a:pt x="136" y="541"/>
                </a:lnTo>
                <a:lnTo>
                  <a:pt x="152" y="548"/>
                </a:lnTo>
                <a:lnTo>
                  <a:pt x="165" y="550"/>
                </a:lnTo>
                <a:lnTo>
                  <a:pt x="165" y="559"/>
                </a:lnTo>
                <a:lnTo>
                  <a:pt x="165" y="581"/>
                </a:lnTo>
                <a:lnTo>
                  <a:pt x="179" y="629"/>
                </a:lnTo>
                <a:lnTo>
                  <a:pt x="196" y="651"/>
                </a:lnTo>
                <a:lnTo>
                  <a:pt x="223" y="667"/>
                </a:lnTo>
                <a:lnTo>
                  <a:pt x="241" y="671"/>
                </a:lnTo>
                <a:lnTo>
                  <a:pt x="241" y="672"/>
                </a:lnTo>
                <a:lnTo>
                  <a:pt x="243" y="674"/>
                </a:lnTo>
                <a:lnTo>
                  <a:pt x="244" y="675"/>
                </a:lnTo>
                <a:lnTo>
                  <a:pt x="245" y="676"/>
                </a:lnTo>
                <a:lnTo>
                  <a:pt x="250" y="682"/>
                </a:lnTo>
                <a:lnTo>
                  <a:pt x="262" y="691"/>
                </a:lnTo>
                <a:lnTo>
                  <a:pt x="271" y="700"/>
                </a:lnTo>
                <a:lnTo>
                  <a:pt x="273" y="702"/>
                </a:lnTo>
                <a:lnTo>
                  <a:pt x="274" y="704"/>
                </a:lnTo>
                <a:lnTo>
                  <a:pt x="274" y="705"/>
                </a:lnTo>
                <a:lnTo>
                  <a:pt x="273" y="706"/>
                </a:lnTo>
                <a:lnTo>
                  <a:pt x="270" y="707"/>
                </a:lnTo>
                <a:lnTo>
                  <a:pt x="268" y="707"/>
                </a:lnTo>
                <a:lnTo>
                  <a:pt x="265" y="707"/>
                </a:lnTo>
                <a:lnTo>
                  <a:pt x="253" y="706"/>
                </a:lnTo>
                <a:lnTo>
                  <a:pt x="237" y="702"/>
                </a:lnTo>
                <a:lnTo>
                  <a:pt x="218" y="699"/>
                </a:lnTo>
                <a:lnTo>
                  <a:pt x="189" y="697"/>
                </a:lnTo>
                <a:lnTo>
                  <a:pt x="179" y="699"/>
                </a:lnTo>
                <a:lnTo>
                  <a:pt x="173" y="703"/>
                </a:lnTo>
                <a:lnTo>
                  <a:pt x="171" y="705"/>
                </a:lnTo>
                <a:lnTo>
                  <a:pt x="169" y="708"/>
                </a:lnTo>
                <a:lnTo>
                  <a:pt x="169" y="711"/>
                </a:lnTo>
                <a:lnTo>
                  <a:pt x="169" y="715"/>
                </a:lnTo>
                <a:lnTo>
                  <a:pt x="171" y="718"/>
                </a:lnTo>
                <a:lnTo>
                  <a:pt x="173" y="723"/>
                </a:lnTo>
                <a:lnTo>
                  <a:pt x="179" y="732"/>
                </a:lnTo>
                <a:lnTo>
                  <a:pt x="191" y="743"/>
                </a:lnTo>
                <a:lnTo>
                  <a:pt x="226" y="767"/>
                </a:lnTo>
                <a:lnTo>
                  <a:pt x="244" y="778"/>
                </a:lnTo>
                <a:lnTo>
                  <a:pt x="252" y="785"/>
                </a:lnTo>
                <a:lnTo>
                  <a:pt x="254" y="789"/>
                </a:lnTo>
                <a:lnTo>
                  <a:pt x="255" y="790"/>
                </a:lnTo>
                <a:lnTo>
                  <a:pt x="255" y="791"/>
                </a:lnTo>
                <a:lnTo>
                  <a:pt x="254" y="792"/>
                </a:lnTo>
                <a:lnTo>
                  <a:pt x="252" y="792"/>
                </a:lnTo>
                <a:lnTo>
                  <a:pt x="251" y="792"/>
                </a:lnTo>
                <a:lnTo>
                  <a:pt x="247" y="792"/>
                </a:lnTo>
                <a:lnTo>
                  <a:pt x="237" y="791"/>
                </a:lnTo>
                <a:lnTo>
                  <a:pt x="212" y="785"/>
                </a:lnTo>
                <a:lnTo>
                  <a:pt x="189" y="780"/>
                </a:lnTo>
                <a:lnTo>
                  <a:pt x="180" y="780"/>
                </a:lnTo>
                <a:lnTo>
                  <a:pt x="177" y="780"/>
                </a:lnTo>
                <a:lnTo>
                  <a:pt x="176" y="780"/>
                </a:lnTo>
                <a:lnTo>
                  <a:pt x="175" y="781"/>
                </a:lnTo>
                <a:lnTo>
                  <a:pt x="174" y="784"/>
                </a:lnTo>
                <a:lnTo>
                  <a:pt x="174" y="788"/>
                </a:lnTo>
                <a:lnTo>
                  <a:pt x="174" y="791"/>
                </a:lnTo>
                <a:lnTo>
                  <a:pt x="175" y="794"/>
                </a:lnTo>
                <a:lnTo>
                  <a:pt x="179" y="801"/>
                </a:lnTo>
                <a:lnTo>
                  <a:pt x="184" y="812"/>
                </a:lnTo>
                <a:lnTo>
                  <a:pt x="184" y="815"/>
                </a:lnTo>
                <a:lnTo>
                  <a:pt x="186" y="816"/>
                </a:lnTo>
                <a:lnTo>
                  <a:pt x="203" y="817"/>
                </a:lnTo>
                <a:lnTo>
                  <a:pt x="262" y="821"/>
                </a:lnTo>
                <a:lnTo>
                  <a:pt x="307" y="824"/>
                </a:lnTo>
                <a:lnTo>
                  <a:pt x="310" y="824"/>
                </a:lnTo>
                <a:lnTo>
                  <a:pt x="309" y="831"/>
                </a:lnTo>
                <a:lnTo>
                  <a:pt x="308" y="853"/>
                </a:lnTo>
                <a:lnTo>
                  <a:pt x="305" y="906"/>
                </a:lnTo>
                <a:lnTo>
                  <a:pt x="311" y="953"/>
                </a:lnTo>
                <a:lnTo>
                  <a:pt x="317" y="960"/>
                </a:lnTo>
                <a:lnTo>
                  <a:pt x="321" y="965"/>
                </a:lnTo>
                <a:lnTo>
                  <a:pt x="326" y="968"/>
                </a:lnTo>
                <a:lnTo>
                  <a:pt x="333" y="969"/>
                </a:lnTo>
                <a:lnTo>
                  <a:pt x="338" y="968"/>
                </a:lnTo>
                <a:lnTo>
                  <a:pt x="344" y="967"/>
                </a:lnTo>
                <a:lnTo>
                  <a:pt x="356" y="963"/>
                </a:lnTo>
                <a:lnTo>
                  <a:pt x="368" y="960"/>
                </a:lnTo>
                <a:lnTo>
                  <a:pt x="372" y="959"/>
                </a:lnTo>
                <a:lnTo>
                  <a:pt x="378" y="961"/>
                </a:lnTo>
                <a:lnTo>
                  <a:pt x="382" y="963"/>
                </a:lnTo>
                <a:lnTo>
                  <a:pt x="383" y="963"/>
                </a:lnTo>
                <a:lnTo>
                  <a:pt x="382" y="965"/>
                </a:lnTo>
                <a:lnTo>
                  <a:pt x="380" y="966"/>
                </a:lnTo>
                <a:lnTo>
                  <a:pt x="374" y="971"/>
                </a:lnTo>
                <a:lnTo>
                  <a:pt x="360" y="984"/>
                </a:lnTo>
                <a:lnTo>
                  <a:pt x="347" y="1000"/>
                </a:lnTo>
                <a:lnTo>
                  <a:pt x="342" y="1010"/>
                </a:lnTo>
                <a:lnTo>
                  <a:pt x="340" y="1018"/>
                </a:lnTo>
                <a:lnTo>
                  <a:pt x="341" y="1025"/>
                </a:lnTo>
                <a:lnTo>
                  <a:pt x="343" y="1029"/>
                </a:lnTo>
                <a:lnTo>
                  <a:pt x="347" y="1032"/>
                </a:lnTo>
                <a:lnTo>
                  <a:pt x="352" y="1034"/>
                </a:lnTo>
                <a:lnTo>
                  <a:pt x="363" y="1038"/>
                </a:lnTo>
                <a:lnTo>
                  <a:pt x="373" y="1037"/>
                </a:lnTo>
                <a:lnTo>
                  <a:pt x="385" y="1034"/>
                </a:lnTo>
                <a:lnTo>
                  <a:pt x="397" y="1028"/>
                </a:lnTo>
                <a:lnTo>
                  <a:pt x="419" y="1012"/>
                </a:lnTo>
                <a:lnTo>
                  <a:pt x="454" y="984"/>
                </a:lnTo>
                <a:lnTo>
                  <a:pt x="462" y="984"/>
                </a:lnTo>
                <a:lnTo>
                  <a:pt x="467" y="985"/>
                </a:lnTo>
                <a:lnTo>
                  <a:pt x="482" y="985"/>
                </a:lnTo>
                <a:lnTo>
                  <a:pt x="518" y="988"/>
                </a:lnTo>
                <a:lnTo>
                  <a:pt x="534" y="991"/>
                </a:lnTo>
                <a:lnTo>
                  <a:pt x="540" y="994"/>
                </a:lnTo>
                <a:lnTo>
                  <a:pt x="543" y="997"/>
                </a:lnTo>
                <a:lnTo>
                  <a:pt x="545" y="1000"/>
                </a:lnTo>
                <a:lnTo>
                  <a:pt x="542" y="1002"/>
                </a:lnTo>
                <a:lnTo>
                  <a:pt x="525" y="1014"/>
                </a:lnTo>
                <a:lnTo>
                  <a:pt x="463" y="1050"/>
                </a:lnTo>
                <a:lnTo>
                  <a:pt x="417" y="1079"/>
                </a:lnTo>
                <a:lnTo>
                  <a:pt x="415" y="1080"/>
                </a:lnTo>
                <a:lnTo>
                  <a:pt x="415" y="1082"/>
                </a:lnTo>
                <a:lnTo>
                  <a:pt x="416" y="1085"/>
                </a:lnTo>
                <a:lnTo>
                  <a:pt x="417" y="1087"/>
                </a:lnTo>
                <a:lnTo>
                  <a:pt x="422" y="1093"/>
                </a:lnTo>
                <a:lnTo>
                  <a:pt x="428" y="1099"/>
                </a:lnTo>
                <a:lnTo>
                  <a:pt x="434" y="1103"/>
                </a:lnTo>
                <a:lnTo>
                  <a:pt x="443" y="1105"/>
                </a:lnTo>
                <a:lnTo>
                  <a:pt x="447" y="1105"/>
                </a:lnTo>
                <a:lnTo>
                  <a:pt x="451" y="1106"/>
                </a:lnTo>
                <a:lnTo>
                  <a:pt x="454" y="1106"/>
                </a:lnTo>
                <a:lnTo>
                  <a:pt x="461" y="1109"/>
                </a:lnTo>
                <a:lnTo>
                  <a:pt x="468" y="1110"/>
                </a:lnTo>
                <a:lnTo>
                  <a:pt x="476" y="1109"/>
                </a:lnTo>
                <a:lnTo>
                  <a:pt x="487" y="1102"/>
                </a:lnTo>
                <a:lnTo>
                  <a:pt x="502" y="1087"/>
                </a:lnTo>
                <a:lnTo>
                  <a:pt x="508" y="1080"/>
                </a:lnTo>
                <a:lnTo>
                  <a:pt x="515" y="1075"/>
                </a:lnTo>
                <a:lnTo>
                  <a:pt x="520" y="1073"/>
                </a:lnTo>
                <a:lnTo>
                  <a:pt x="525" y="1073"/>
                </a:lnTo>
                <a:lnTo>
                  <a:pt x="529" y="1075"/>
                </a:lnTo>
                <a:lnTo>
                  <a:pt x="532" y="1078"/>
                </a:lnTo>
                <a:lnTo>
                  <a:pt x="535" y="1082"/>
                </a:lnTo>
                <a:lnTo>
                  <a:pt x="543" y="1090"/>
                </a:lnTo>
                <a:lnTo>
                  <a:pt x="547" y="1093"/>
                </a:lnTo>
                <a:lnTo>
                  <a:pt x="552" y="1096"/>
                </a:lnTo>
                <a:lnTo>
                  <a:pt x="559" y="1096"/>
                </a:lnTo>
                <a:lnTo>
                  <a:pt x="565" y="1095"/>
                </a:lnTo>
                <a:lnTo>
                  <a:pt x="573" y="1092"/>
                </a:lnTo>
                <a:lnTo>
                  <a:pt x="580" y="1086"/>
                </a:lnTo>
                <a:lnTo>
                  <a:pt x="594" y="1072"/>
                </a:lnTo>
                <a:lnTo>
                  <a:pt x="607" y="1056"/>
                </a:lnTo>
                <a:lnTo>
                  <a:pt x="624" y="1033"/>
                </a:lnTo>
                <a:lnTo>
                  <a:pt x="626" y="1031"/>
                </a:lnTo>
                <a:lnTo>
                  <a:pt x="626" y="1012"/>
                </a:lnTo>
                <a:lnTo>
                  <a:pt x="626" y="873"/>
                </a:lnTo>
                <a:lnTo>
                  <a:pt x="630" y="399"/>
                </a:lnTo>
                <a:lnTo>
                  <a:pt x="632" y="38"/>
                </a:lnTo>
                <a:lnTo>
                  <a:pt x="633"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1"/>
          <p:cNvSpPr/>
          <p:nvPr/>
        </p:nvSpPr>
        <p:spPr>
          <a:xfrm>
            <a:off x="5423040" y="5459400"/>
            <a:ext cx="501480" cy="882720"/>
          </a:xfrm>
          <a:custGeom>
            <a:avLst/>
            <a:gdLst>
              <a:gd name="textAreaLeft" fmla="*/ 0 w 501480"/>
              <a:gd name="textAreaRight" fmla="*/ 501840 w 501480"/>
              <a:gd name="textAreaTop" fmla="*/ 0 h 882720"/>
              <a:gd name="textAreaBottom" fmla="*/ 883080 h 882720"/>
            </a:gdLst>
            <a:ahLst/>
            <a:rect l="textAreaLeft" t="textAreaTop" r="textAreaRight" b="textAreaBottom"/>
            <a:pathLst>
              <a:path w="633" h="1110">
                <a:moveTo>
                  <a:pt x="633" y="17"/>
                </a:moveTo>
                <a:lnTo>
                  <a:pt x="618" y="16"/>
                </a:lnTo>
                <a:lnTo>
                  <a:pt x="588" y="11"/>
                </a:lnTo>
                <a:lnTo>
                  <a:pt x="522" y="1"/>
                </a:lnTo>
                <a:lnTo>
                  <a:pt x="462" y="0"/>
                </a:lnTo>
                <a:lnTo>
                  <a:pt x="449" y="2"/>
                </a:lnTo>
                <a:lnTo>
                  <a:pt x="451" y="4"/>
                </a:lnTo>
                <a:lnTo>
                  <a:pt x="463" y="15"/>
                </a:lnTo>
                <a:lnTo>
                  <a:pt x="508" y="56"/>
                </a:lnTo>
                <a:lnTo>
                  <a:pt x="543" y="94"/>
                </a:lnTo>
                <a:lnTo>
                  <a:pt x="545" y="99"/>
                </a:lnTo>
                <a:lnTo>
                  <a:pt x="545" y="100"/>
                </a:lnTo>
                <a:lnTo>
                  <a:pt x="545" y="104"/>
                </a:lnTo>
                <a:lnTo>
                  <a:pt x="545" y="119"/>
                </a:lnTo>
                <a:lnTo>
                  <a:pt x="545" y="130"/>
                </a:lnTo>
                <a:lnTo>
                  <a:pt x="525" y="174"/>
                </a:lnTo>
                <a:lnTo>
                  <a:pt x="491" y="203"/>
                </a:lnTo>
                <a:lnTo>
                  <a:pt x="447" y="222"/>
                </a:lnTo>
                <a:lnTo>
                  <a:pt x="395" y="232"/>
                </a:lnTo>
                <a:lnTo>
                  <a:pt x="278" y="241"/>
                </a:lnTo>
                <a:lnTo>
                  <a:pt x="159" y="252"/>
                </a:lnTo>
                <a:lnTo>
                  <a:pt x="59" y="285"/>
                </a:lnTo>
                <a:lnTo>
                  <a:pt x="0" y="364"/>
                </a:lnTo>
                <a:lnTo>
                  <a:pt x="0" y="372"/>
                </a:lnTo>
                <a:lnTo>
                  <a:pt x="0" y="391"/>
                </a:lnTo>
                <a:lnTo>
                  <a:pt x="7" y="437"/>
                </a:lnTo>
                <a:lnTo>
                  <a:pt x="25" y="479"/>
                </a:lnTo>
                <a:lnTo>
                  <a:pt x="33" y="487"/>
                </a:lnTo>
                <a:lnTo>
                  <a:pt x="42" y="484"/>
                </a:lnTo>
                <a:lnTo>
                  <a:pt x="62" y="479"/>
                </a:lnTo>
                <a:lnTo>
                  <a:pt x="86" y="477"/>
                </a:lnTo>
                <a:lnTo>
                  <a:pt x="134" y="479"/>
                </a:lnTo>
                <a:lnTo>
                  <a:pt x="165" y="487"/>
                </a:lnTo>
                <a:lnTo>
                  <a:pt x="164" y="492"/>
                </a:lnTo>
                <a:lnTo>
                  <a:pt x="162" y="496"/>
                </a:lnTo>
                <a:lnTo>
                  <a:pt x="159" y="501"/>
                </a:lnTo>
                <a:lnTo>
                  <a:pt x="151" y="512"/>
                </a:lnTo>
                <a:lnTo>
                  <a:pt x="141" y="522"/>
                </a:lnTo>
                <a:lnTo>
                  <a:pt x="130" y="530"/>
                </a:lnTo>
                <a:lnTo>
                  <a:pt x="120" y="534"/>
                </a:lnTo>
                <a:lnTo>
                  <a:pt x="116" y="534"/>
                </a:lnTo>
                <a:lnTo>
                  <a:pt x="119" y="535"/>
                </a:lnTo>
                <a:lnTo>
                  <a:pt x="128" y="537"/>
                </a:lnTo>
                <a:lnTo>
                  <a:pt x="136" y="541"/>
                </a:lnTo>
                <a:lnTo>
                  <a:pt x="152" y="548"/>
                </a:lnTo>
                <a:lnTo>
                  <a:pt x="165" y="550"/>
                </a:lnTo>
                <a:lnTo>
                  <a:pt x="165" y="559"/>
                </a:lnTo>
                <a:lnTo>
                  <a:pt x="165" y="581"/>
                </a:lnTo>
                <a:lnTo>
                  <a:pt x="179" y="629"/>
                </a:lnTo>
                <a:lnTo>
                  <a:pt x="196" y="651"/>
                </a:lnTo>
                <a:lnTo>
                  <a:pt x="223" y="667"/>
                </a:lnTo>
                <a:lnTo>
                  <a:pt x="241" y="671"/>
                </a:lnTo>
                <a:lnTo>
                  <a:pt x="241" y="672"/>
                </a:lnTo>
                <a:lnTo>
                  <a:pt x="243" y="674"/>
                </a:lnTo>
                <a:lnTo>
                  <a:pt x="244" y="675"/>
                </a:lnTo>
                <a:lnTo>
                  <a:pt x="245" y="676"/>
                </a:lnTo>
                <a:lnTo>
                  <a:pt x="250" y="682"/>
                </a:lnTo>
                <a:lnTo>
                  <a:pt x="262" y="691"/>
                </a:lnTo>
                <a:lnTo>
                  <a:pt x="271" y="700"/>
                </a:lnTo>
                <a:lnTo>
                  <a:pt x="273" y="702"/>
                </a:lnTo>
                <a:lnTo>
                  <a:pt x="274" y="704"/>
                </a:lnTo>
                <a:lnTo>
                  <a:pt x="274" y="705"/>
                </a:lnTo>
                <a:lnTo>
                  <a:pt x="273" y="706"/>
                </a:lnTo>
                <a:lnTo>
                  <a:pt x="270" y="707"/>
                </a:lnTo>
                <a:lnTo>
                  <a:pt x="268" y="707"/>
                </a:lnTo>
                <a:lnTo>
                  <a:pt x="265" y="707"/>
                </a:lnTo>
                <a:lnTo>
                  <a:pt x="253" y="706"/>
                </a:lnTo>
                <a:lnTo>
                  <a:pt x="237" y="702"/>
                </a:lnTo>
                <a:lnTo>
                  <a:pt x="218" y="699"/>
                </a:lnTo>
                <a:lnTo>
                  <a:pt x="189" y="697"/>
                </a:lnTo>
                <a:lnTo>
                  <a:pt x="179" y="699"/>
                </a:lnTo>
                <a:lnTo>
                  <a:pt x="173" y="703"/>
                </a:lnTo>
                <a:lnTo>
                  <a:pt x="171" y="705"/>
                </a:lnTo>
                <a:lnTo>
                  <a:pt x="169" y="708"/>
                </a:lnTo>
                <a:lnTo>
                  <a:pt x="169" y="711"/>
                </a:lnTo>
                <a:lnTo>
                  <a:pt x="169" y="715"/>
                </a:lnTo>
                <a:lnTo>
                  <a:pt x="171" y="718"/>
                </a:lnTo>
                <a:lnTo>
                  <a:pt x="173" y="723"/>
                </a:lnTo>
                <a:lnTo>
                  <a:pt x="179" y="732"/>
                </a:lnTo>
                <a:lnTo>
                  <a:pt x="191" y="743"/>
                </a:lnTo>
                <a:lnTo>
                  <a:pt x="226" y="767"/>
                </a:lnTo>
                <a:lnTo>
                  <a:pt x="244" y="778"/>
                </a:lnTo>
                <a:lnTo>
                  <a:pt x="252" y="785"/>
                </a:lnTo>
                <a:lnTo>
                  <a:pt x="254" y="789"/>
                </a:lnTo>
                <a:lnTo>
                  <a:pt x="255" y="790"/>
                </a:lnTo>
                <a:lnTo>
                  <a:pt x="255" y="791"/>
                </a:lnTo>
                <a:lnTo>
                  <a:pt x="254" y="792"/>
                </a:lnTo>
                <a:lnTo>
                  <a:pt x="252" y="792"/>
                </a:lnTo>
                <a:lnTo>
                  <a:pt x="251" y="792"/>
                </a:lnTo>
                <a:lnTo>
                  <a:pt x="247" y="792"/>
                </a:lnTo>
                <a:lnTo>
                  <a:pt x="237" y="791"/>
                </a:lnTo>
                <a:lnTo>
                  <a:pt x="212" y="785"/>
                </a:lnTo>
                <a:lnTo>
                  <a:pt x="189" y="780"/>
                </a:lnTo>
                <a:lnTo>
                  <a:pt x="180" y="780"/>
                </a:lnTo>
                <a:lnTo>
                  <a:pt x="177" y="780"/>
                </a:lnTo>
                <a:lnTo>
                  <a:pt x="176" y="780"/>
                </a:lnTo>
                <a:lnTo>
                  <a:pt x="175" y="781"/>
                </a:lnTo>
                <a:lnTo>
                  <a:pt x="174" y="784"/>
                </a:lnTo>
                <a:lnTo>
                  <a:pt x="174" y="788"/>
                </a:lnTo>
                <a:lnTo>
                  <a:pt x="174" y="791"/>
                </a:lnTo>
                <a:lnTo>
                  <a:pt x="175" y="794"/>
                </a:lnTo>
                <a:lnTo>
                  <a:pt x="179" y="801"/>
                </a:lnTo>
                <a:lnTo>
                  <a:pt x="184" y="812"/>
                </a:lnTo>
                <a:lnTo>
                  <a:pt x="184" y="815"/>
                </a:lnTo>
                <a:lnTo>
                  <a:pt x="186" y="816"/>
                </a:lnTo>
                <a:lnTo>
                  <a:pt x="203" y="817"/>
                </a:lnTo>
                <a:lnTo>
                  <a:pt x="262" y="821"/>
                </a:lnTo>
                <a:lnTo>
                  <a:pt x="307" y="824"/>
                </a:lnTo>
                <a:lnTo>
                  <a:pt x="310" y="824"/>
                </a:lnTo>
                <a:lnTo>
                  <a:pt x="309" y="831"/>
                </a:lnTo>
                <a:lnTo>
                  <a:pt x="308" y="853"/>
                </a:lnTo>
                <a:lnTo>
                  <a:pt x="305" y="906"/>
                </a:lnTo>
                <a:lnTo>
                  <a:pt x="311" y="953"/>
                </a:lnTo>
                <a:lnTo>
                  <a:pt x="317" y="960"/>
                </a:lnTo>
                <a:lnTo>
                  <a:pt x="321" y="965"/>
                </a:lnTo>
                <a:lnTo>
                  <a:pt x="326" y="968"/>
                </a:lnTo>
                <a:lnTo>
                  <a:pt x="333" y="969"/>
                </a:lnTo>
                <a:lnTo>
                  <a:pt x="338" y="968"/>
                </a:lnTo>
                <a:lnTo>
                  <a:pt x="344" y="967"/>
                </a:lnTo>
                <a:lnTo>
                  <a:pt x="356" y="963"/>
                </a:lnTo>
                <a:lnTo>
                  <a:pt x="368" y="960"/>
                </a:lnTo>
                <a:lnTo>
                  <a:pt x="372" y="959"/>
                </a:lnTo>
                <a:lnTo>
                  <a:pt x="378" y="961"/>
                </a:lnTo>
                <a:lnTo>
                  <a:pt x="382" y="963"/>
                </a:lnTo>
                <a:lnTo>
                  <a:pt x="383" y="963"/>
                </a:lnTo>
                <a:lnTo>
                  <a:pt x="382" y="965"/>
                </a:lnTo>
                <a:lnTo>
                  <a:pt x="380" y="966"/>
                </a:lnTo>
                <a:lnTo>
                  <a:pt x="374" y="971"/>
                </a:lnTo>
                <a:lnTo>
                  <a:pt x="360" y="984"/>
                </a:lnTo>
                <a:lnTo>
                  <a:pt x="347" y="1000"/>
                </a:lnTo>
                <a:lnTo>
                  <a:pt x="342" y="1010"/>
                </a:lnTo>
                <a:lnTo>
                  <a:pt x="340" y="1018"/>
                </a:lnTo>
                <a:lnTo>
                  <a:pt x="341" y="1025"/>
                </a:lnTo>
                <a:lnTo>
                  <a:pt x="343" y="1029"/>
                </a:lnTo>
                <a:lnTo>
                  <a:pt x="347" y="1032"/>
                </a:lnTo>
                <a:lnTo>
                  <a:pt x="352" y="1034"/>
                </a:lnTo>
                <a:lnTo>
                  <a:pt x="363" y="1038"/>
                </a:lnTo>
                <a:lnTo>
                  <a:pt x="373" y="1037"/>
                </a:lnTo>
                <a:lnTo>
                  <a:pt x="385" y="1034"/>
                </a:lnTo>
                <a:lnTo>
                  <a:pt x="397" y="1028"/>
                </a:lnTo>
                <a:lnTo>
                  <a:pt x="419" y="1012"/>
                </a:lnTo>
                <a:lnTo>
                  <a:pt x="454" y="984"/>
                </a:lnTo>
                <a:lnTo>
                  <a:pt x="462" y="984"/>
                </a:lnTo>
                <a:lnTo>
                  <a:pt x="467" y="985"/>
                </a:lnTo>
                <a:lnTo>
                  <a:pt x="482" y="985"/>
                </a:lnTo>
                <a:lnTo>
                  <a:pt x="518" y="988"/>
                </a:lnTo>
                <a:lnTo>
                  <a:pt x="534" y="991"/>
                </a:lnTo>
                <a:lnTo>
                  <a:pt x="540" y="994"/>
                </a:lnTo>
                <a:lnTo>
                  <a:pt x="543" y="997"/>
                </a:lnTo>
                <a:lnTo>
                  <a:pt x="545" y="1000"/>
                </a:lnTo>
                <a:lnTo>
                  <a:pt x="542" y="1002"/>
                </a:lnTo>
                <a:lnTo>
                  <a:pt x="525" y="1014"/>
                </a:lnTo>
                <a:lnTo>
                  <a:pt x="463" y="1050"/>
                </a:lnTo>
                <a:lnTo>
                  <a:pt x="417" y="1079"/>
                </a:lnTo>
                <a:lnTo>
                  <a:pt x="415" y="1080"/>
                </a:lnTo>
                <a:lnTo>
                  <a:pt x="415" y="1082"/>
                </a:lnTo>
                <a:lnTo>
                  <a:pt x="416" y="1085"/>
                </a:lnTo>
                <a:lnTo>
                  <a:pt x="417" y="1087"/>
                </a:lnTo>
                <a:lnTo>
                  <a:pt x="422" y="1093"/>
                </a:lnTo>
                <a:lnTo>
                  <a:pt x="428" y="1099"/>
                </a:lnTo>
                <a:lnTo>
                  <a:pt x="434" y="1103"/>
                </a:lnTo>
                <a:lnTo>
                  <a:pt x="443" y="1105"/>
                </a:lnTo>
                <a:lnTo>
                  <a:pt x="447" y="1105"/>
                </a:lnTo>
                <a:lnTo>
                  <a:pt x="451" y="1106"/>
                </a:lnTo>
                <a:lnTo>
                  <a:pt x="454" y="1106"/>
                </a:lnTo>
                <a:lnTo>
                  <a:pt x="461" y="1109"/>
                </a:lnTo>
                <a:lnTo>
                  <a:pt x="468" y="1110"/>
                </a:lnTo>
                <a:lnTo>
                  <a:pt x="476" y="1109"/>
                </a:lnTo>
                <a:lnTo>
                  <a:pt x="487" y="1102"/>
                </a:lnTo>
                <a:lnTo>
                  <a:pt x="502" y="1087"/>
                </a:lnTo>
                <a:lnTo>
                  <a:pt x="508" y="1080"/>
                </a:lnTo>
                <a:lnTo>
                  <a:pt x="515" y="1075"/>
                </a:lnTo>
                <a:lnTo>
                  <a:pt x="520" y="1073"/>
                </a:lnTo>
                <a:lnTo>
                  <a:pt x="525" y="1073"/>
                </a:lnTo>
                <a:lnTo>
                  <a:pt x="529" y="1075"/>
                </a:lnTo>
                <a:lnTo>
                  <a:pt x="532" y="1078"/>
                </a:lnTo>
                <a:lnTo>
                  <a:pt x="535" y="1082"/>
                </a:lnTo>
                <a:lnTo>
                  <a:pt x="543" y="1090"/>
                </a:lnTo>
                <a:lnTo>
                  <a:pt x="547" y="1093"/>
                </a:lnTo>
                <a:lnTo>
                  <a:pt x="552" y="1096"/>
                </a:lnTo>
                <a:lnTo>
                  <a:pt x="559" y="1096"/>
                </a:lnTo>
                <a:lnTo>
                  <a:pt x="565" y="1095"/>
                </a:lnTo>
                <a:lnTo>
                  <a:pt x="573" y="1092"/>
                </a:lnTo>
                <a:lnTo>
                  <a:pt x="580" y="1086"/>
                </a:lnTo>
                <a:lnTo>
                  <a:pt x="594" y="1072"/>
                </a:lnTo>
                <a:lnTo>
                  <a:pt x="607" y="1056"/>
                </a:lnTo>
                <a:lnTo>
                  <a:pt x="624" y="1033"/>
                </a:lnTo>
                <a:lnTo>
                  <a:pt x="626" y="1031"/>
                </a:lnTo>
                <a:lnTo>
                  <a:pt x="626" y="1012"/>
                </a:lnTo>
                <a:lnTo>
                  <a:pt x="626" y="873"/>
                </a:lnTo>
                <a:lnTo>
                  <a:pt x="630" y="399"/>
                </a:lnTo>
                <a:lnTo>
                  <a:pt x="632" y="38"/>
                </a:lnTo>
                <a:lnTo>
                  <a:pt x="633" y="17"/>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12"/>
          <p:cNvSpPr/>
          <p:nvPr/>
        </p:nvSpPr>
        <p:spPr>
          <a:xfrm>
            <a:off x="216000" y="471600"/>
            <a:ext cx="882720" cy="685800"/>
          </a:xfrm>
          <a:custGeom>
            <a:avLst/>
            <a:gdLst>
              <a:gd name="textAreaLeft" fmla="*/ 0 w 882720"/>
              <a:gd name="textAreaRight" fmla="*/ 883080 w 882720"/>
              <a:gd name="textAreaTop" fmla="*/ 0 h 685800"/>
              <a:gd name="textAreaBottom" fmla="*/ 686160 h 685800"/>
            </a:gdLst>
            <a:ahLst/>
            <a:rect l="textAreaLeft" t="textAreaTop" r="textAreaRight" b="textAreaBottom"/>
            <a:pathLst>
              <a:path w="1113" h="864">
                <a:moveTo>
                  <a:pt x="74" y="133"/>
                </a:moveTo>
                <a:lnTo>
                  <a:pt x="83" y="125"/>
                </a:lnTo>
                <a:lnTo>
                  <a:pt x="104" y="107"/>
                </a:lnTo>
                <a:lnTo>
                  <a:pt x="159" y="66"/>
                </a:lnTo>
                <a:lnTo>
                  <a:pt x="216" y="34"/>
                </a:lnTo>
                <a:lnTo>
                  <a:pt x="229" y="29"/>
                </a:lnTo>
                <a:lnTo>
                  <a:pt x="243" y="44"/>
                </a:lnTo>
                <a:lnTo>
                  <a:pt x="263" y="64"/>
                </a:lnTo>
                <a:lnTo>
                  <a:pt x="269" y="70"/>
                </a:lnTo>
                <a:lnTo>
                  <a:pt x="274" y="73"/>
                </a:lnTo>
                <a:lnTo>
                  <a:pt x="275" y="73"/>
                </a:lnTo>
                <a:lnTo>
                  <a:pt x="276" y="73"/>
                </a:lnTo>
                <a:lnTo>
                  <a:pt x="277" y="72"/>
                </a:lnTo>
                <a:lnTo>
                  <a:pt x="278" y="70"/>
                </a:lnTo>
                <a:lnTo>
                  <a:pt x="278" y="69"/>
                </a:lnTo>
                <a:lnTo>
                  <a:pt x="278" y="66"/>
                </a:lnTo>
                <a:lnTo>
                  <a:pt x="279" y="57"/>
                </a:lnTo>
                <a:lnTo>
                  <a:pt x="280" y="29"/>
                </a:lnTo>
                <a:lnTo>
                  <a:pt x="282" y="0"/>
                </a:lnTo>
                <a:lnTo>
                  <a:pt x="302" y="3"/>
                </a:lnTo>
                <a:lnTo>
                  <a:pt x="319" y="9"/>
                </a:lnTo>
                <a:lnTo>
                  <a:pt x="335" y="19"/>
                </a:lnTo>
                <a:lnTo>
                  <a:pt x="349" y="33"/>
                </a:lnTo>
                <a:lnTo>
                  <a:pt x="361" y="49"/>
                </a:lnTo>
                <a:lnTo>
                  <a:pt x="380" y="86"/>
                </a:lnTo>
                <a:lnTo>
                  <a:pt x="392" y="124"/>
                </a:lnTo>
                <a:lnTo>
                  <a:pt x="398" y="161"/>
                </a:lnTo>
                <a:lnTo>
                  <a:pt x="399" y="177"/>
                </a:lnTo>
                <a:lnTo>
                  <a:pt x="393" y="202"/>
                </a:lnTo>
                <a:lnTo>
                  <a:pt x="382" y="238"/>
                </a:lnTo>
                <a:lnTo>
                  <a:pt x="376" y="264"/>
                </a:lnTo>
                <a:lnTo>
                  <a:pt x="374" y="273"/>
                </a:lnTo>
                <a:lnTo>
                  <a:pt x="377" y="279"/>
                </a:lnTo>
                <a:lnTo>
                  <a:pt x="379" y="282"/>
                </a:lnTo>
                <a:lnTo>
                  <a:pt x="381" y="284"/>
                </a:lnTo>
                <a:lnTo>
                  <a:pt x="384" y="285"/>
                </a:lnTo>
                <a:lnTo>
                  <a:pt x="390" y="286"/>
                </a:lnTo>
                <a:lnTo>
                  <a:pt x="400" y="286"/>
                </a:lnTo>
                <a:lnTo>
                  <a:pt x="416" y="285"/>
                </a:lnTo>
                <a:lnTo>
                  <a:pt x="437" y="282"/>
                </a:lnTo>
                <a:lnTo>
                  <a:pt x="443" y="278"/>
                </a:lnTo>
                <a:lnTo>
                  <a:pt x="450" y="270"/>
                </a:lnTo>
                <a:lnTo>
                  <a:pt x="454" y="261"/>
                </a:lnTo>
                <a:lnTo>
                  <a:pt x="458" y="251"/>
                </a:lnTo>
                <a:lnTo>
                  <a:pt x="464" y="227"/>
                </a:lnTo>
                <a:lnTo>
                  <a:pt x="471" y="188"/>
                </a:lnTo>
                <a:lnTo>
                  <a:pt x="479" y="181"/>
                </a:lnTo>
                <a:lnTo>
                  <a:pt x="500" y="181"/>
                </a:lnTo>
                <a:lnTo>
                  <a:pt x="530" y="180"/>
                </a:lnTo>
                <a:lnTo>
                  <a:pt x="540" y="180"/>
                </a:lnTo>
                <a:lnTo>
                  <a:pt x="546" y="182"/>
                </a:lnTo>
                <a:lnTo>
                  <a:pt x="548" y="183"/>
                </a:lnTo>
                <a:lnTo>
                  <a:pt x="549" y="185"/>
                </a:lnTo>
                <a:lnTo>
                  <a:pt x="550" y="188"/>
                </a:lnTo>
                <a:lnTo>
                  <a:pt x="551" y="193"/>
                </a:lnTo>
                <a:lnTo>
                  <a:pt x="551" y="202"/>
                </a:lnTo>
                <a:lnTo>
                  <a:pt x="548" y="232"/>
                </a:lnTo>
                <a:lnTo>
                  <a:pt x="546" y="281"/>
                </a:lnTo>
                <a:lnTo>
                  <a:pt x="546" y="280"/>
                </a:lnTo>
                <a:lnTo>
                  <a:pt x="546" y="279"/>
                </a:lnTo>
                <a:lnTo>
                  <a:pt x="547" y="278"/>
                </a:lnTo>
                <a:lnTo>
                  <a:pt x="548" y="277"/>
                </a:lnTo>
                <a:lnTo>
                  <a:pt x="549" y="277"/>
                </a:lnTo>
                <a:lnTo>
                  <a:pt x="553" y="277"/>
                </a:lnTo>
                <a:lnTo>
                  <a:pt x="559" y="277"/>
                </a:lnTo>
                <a:lnTo>
                  <a:pt x="563" y="276"/>
                </a:lnTo>
                <a:lnTo>
                  <a:pt x="566" y="273"/>
                </a:lnTo>
                <a:lnTo>
                  <a:pt x="570" y="268"/>
                </a:lnTo>
                <a:lnTo>
                  <a:pt x="573" y="261"/>
                </a:lnTo>
                <a:lnTo>
                  <a:pt x="576" y="251"/>
                </a:lnTo>
                <a:lnTo>
                  <a:pt x="578" y="235"/>
                </a:lnTo>
                <a:lnTo>
                  <a:pt x="599" y="229"/>
                </a:lnTo>
                <a:lnTo>
                  <a:pt x="643" y="220"/>
                </a:lnTo>
                <a:lnTo>
                  <a:pt x="685" y="220"/>
                </a:lnTo>
                <a:lnTo>
                  <a:pt x="723" y="229"/>
                </a:lnTo>
                <a:lnTo>
                  <a:pt x="752" y="249"/>
                </a:lnTo>
                <a:lnTo>
                  <a:pt x="761" y="263"/>
                </a:lnTo>
                <a:lnTo>
                  <a:pt x="767" y="280"/>
                </a:lnTo>
                <a:lnTo>
                  <a:pt x="768" y="300"/>
                </a:lnTo>
                <a:lnTo>
                  <a:pt x="782" y="285"/>
                </a:lnTo>
                <a:lnTo>
                  <a:pt x="807" y="263"/>
                </a:lnTo>
                <a:lnTo>
                  <a:pt x="826" y="253"/>
                </a:lnTo>
                <a:lnTo>
                  <a:pt x="835" y="252"/>
                </a:lnTo>
                <a:lnTo>
                  <a:pt x="842" y="254"/>
                </a:lnTo>
                <a:lnTo>
                  <a:pt x="850" y="260"/>
                </a:lnTo>
                <a:lnTo>
                  <a:pt x="857" y="269"/>
                </a:lnTo>
                <a:lnTo>
                  <a:pt x="865" y="281"/>
                </a:lnTo>
                <a:lnTo>
                  <a:pt x="881" y="317"/>
                </a:lnTo>
                <a:lnTo>
                  <a:pt x="886" y="314"/>
                </a:lnTo>
                <a:lnTo>
                  <a:pt x="890" y="308"/>
                </a:lnTo>
                <a:lnTo>
                  <a:pt x="894" y="301"/>
                </a:lnTo>
                <a:lnTo>
                  <a:pt x="896" y="293"/>
                </a:lnTo>
                <a:lnTo>
                  <a:pt x="898" y="275"/>
                </a:lnTo>
                <a:lnTo>
                  <a:pt x="901" y="235"/>
                </a:lnTo>
                <a:lnTo>
                  <a:pt x="907" y="217"/>
                </a:lnTo>
                <a:lnTo>
                  <a:pt x="922" y="219"/>
                </a:lnTo>
                <a:lnTo>
                  <a:pt x="936" y="224"/>
                </a:lnTo>
                <a:lnTo>
                  <a:pt x="948" y="230"/>
                </a:lnTo>
                <a:lnTo>
                  <a:pt x="959" y="239"/>
                </a:lnTo>
                <a:lnTo>
                  <a:pt x="968" y="251"/>
                </a:lnTo>
                <a:lnTo>
                  <a:pt x="980" y="276"/>
                </a:lnTo>
                <a:lnTo>
                  <a:pt x="989" y="303"/>
                </a:lnTo>
                <a:lnTo>
                  <a:pt x="993" y="327"/>
                </a:lnTo>
                <a:lnTo>
                  <a:pt x="994" y="337"/>
                </a:lnTo>
                <a:lnTo>
                  <a:pt x="1005" y="328"/>
                </a:lnTo>
                <a:lnTo>
                  <a:pt x="1022" y="313"/>
                </a:lnTo>
                <a:lnTo>
                  <a:pt x="1032" y="304"/>
                </a:lnTo>
                <a:lnTo>
                  <a:pt x="1036" y="302"/>
                </a:lnTo>
                <a:lnTo>
                  <a:pt x="1037" y="302"/>
                </a:lnTo>
                <a:lnTo>
                  <a:pt x="1038" y="302"/>
                </a:lnTo>
                <a:lnTo>
                  <a:pt x="1040" y="302"/>
                </a:lnTo>
                <a:lnTo>
                  <a:pt x="1042" y="303"/>
                </a:lnTo>
                <a:lnTo>
                  <a:pt x="1043" y="304"/>
                </a:lnTo>
                <a:lnTo>
                  <a:pt x="1044" y="306"/>
                </a:lnTo>
                <a:lnTo>
                  <a:pt x="1047" y="311"/>
                </a:lnTo>
                <a:lnTo>
                  <a:pt x="1050" y="318"/>
                </a:lnTo>
                <a:lnTo>
                  <a:pt x="1055" y="326"/>
                </a:lnTo>
                <a:lnTo>
                  <a:pt x="1063" y="335"/>
                </a:lnTo>
                <a:lnTo>
                  <a:pt x="1068" y="343"/>
                </a:lnTo>
                <a:lnTo>
                  <a:pt x="1070" y="351"/>
                </a:lnTo>
                <a:lnTo>
                  <a:pt x="1070" y="359"/>
                </a:lnTo>
                <a:lnTo>
                  <a:pt x="1068" y="365"/>
                </a:lnTo>
                <a:lnTo>
                  <a:pt x="1065" y="371"/>
                </a:lnTo>
                <a:lnTo>
                  <a:pt x="1061" y="377"/>
                </a:lnTo>
                <a:lnTo>
                  <a:pt x="1051" y="387"/>
                </a:lnTo>
                <a:lnTo>
                  <a:pt x="1045" y="396"/>
                </a:lnTo>
                <a:lnTo>
                  <a:pt x="1045" y="399"/>
                </a:lnTo>
                <a:lnTo>
                  <a:pt x="1045" y="412"/>
                </a:lnTo>
                <a:lnTo>
                  <a:pt x="1051" y="433"/>
                </a:lnTo>
                <a:lnTo>
                  <a:pt x="1062" y="454"/>
                </a:lnTo>
                <a:lnTo>
                  <a:pt x="1089" y="496"/>
                </a:lnTo>
                <a:lnTo>
                  <a:pt x="1106" y="529"/>
                </a:lnTo>
                <a:lnTo>
                  <a:pt x="1113" y="586"/>
                </a:lnTo>
                <a:lnTo>
                  <a:pt x="1108" y="632"/>
                </a:lnTo>
                <a:lnTo>
                  <a:pt x="1089" y="669"/>
                </a:lnTo>
                <a:lnTo>
                  <a:pt x="1061" y="699"/>
                </a:lnTo>
                <a:lnTo>
                  <a:pt x="1024" y="723"/>
                </a:lnTo>
                <a:lnTo>
                  <a:pt x="983" y="742"/>
                </a:lnTo>
                <a:lnTo>
                  <a:pt x="890" y="772"/>
                </a:lnTo>
                <a:lnTo>
                  <a:pt x="802" y="801"/>
                </a:lnTo>
                <a:lnTo>
                  <a:pt x="737" y="838"/>
                </a:lnTo>
                <a:lnTo>
                  <a:pt x="713" y="827"/>
                </a:lnTo>
                <a:lnTo>
                  <a:pt x="688" y="821"/>
                </a:lnTo>
                <a:lnTo>
                  <a:pt x="660" y="820"/>
                </a:lnTo>
                <a:lnTo>
                  <a:pt x="632" y="823"/>
                </a:lnTo>
                <a:lnTo>
                  <a:pt x="573" y="835"/>
                </a:lnTo>
                <a:lnTo>
                  <a:pt x="460" y="864"/>
                </a:lnTo>
                <a:lnTo>
                  <a:pt x="415" y="864"/>
                </a:lnTo>
                <a:lnTo>
                  <a:pt x="380" y="850"/>
                </a:lnTo>
                <a:lnTo>
                  <a:pt x="348" y="829"/>
                </a:lnTo>
                <a:lnTo>
                  <a:pt x="290" y="777"/>
                </a:lnTo>
                <a:lnTo>
                  <a:pt x="236" y="718"/>
                </a:lnTo>
                <a:lnTo>
                  <a:pt x="180" y="665"/>
                </a:lnTo>
                <a:lnTo>
                  <a:pt x="116" y="627"/>
                </a:lnTo>
                <a:lnTo>
                  <a:pt x="39" y="614"/>
                </a:lnTo>
                <a:lnTo>
                  <a:pt x="38" y="591"/>
                </a:lnTo>
                <a:lnTo>
                  <a:pt x="36" y="559"/>
                </a:lnTo>
                <a:lnTo>
                  <a:pt x="36" y="543"/>
                </a:lnTo>
                <a:lnTo>
                  <a:pt x="37" y="541"/>
                </a:lnTo>
                <a:lnTo>
                  <a:pt x="38" y="540"/>
                </a:lnTo>
                <a:lnTo>
                  <a:pt x="40" y="539"/>
                </a:lnTo>
                <a:lnTo>
                  <a:pt x="42" y="539"/>
                </a:lnTo>
                <a:lnTo>
                  <a:pt x="45" y="539"/>
                </a:lnTo>
                <a:lnTo>
                  <a:pt x="54" y="540"/>
                </a:lnTo>
                <a:lnTo>
                  <a:pt x="83" y="543"/>
                </a:lnTo>
                <a:lnTo>
                  <a:pt x="116" y="544"/>
                </a:lnTo>
                <a:lnTo>
                  <a:pt x="136" y="522"/>
                </a:lnTo>
                <a:lnTo>
                  <a:pt x="150" y="498"/>
                </a:lnTo>
                <a:lnTo>
                  <a:pt x="158" y="476"/>
                </a:lnTo>
                <a:lnTo>
                  <a:pt x="159" y="454"/>
                </a:lnTo>
                <a:lnTo>
                  <a:pt x="155" y="434"/>
                </a:lnTo>
                <a:lnTo>
                  <a:pt x="145" y="416"/>
                </a:lnTo>
                <a:lnTo>
                  <a:pt x="131" y="400"/>
                </a:lnTo>
                <a:lnTo>
                  <a:pt x="113" y="387"/>
                </a:lnTo>
                <a:lnTo>
                  <a:pt x="92" y="377"/>
                </a:lnTo>
                <a:lnTo>
                  <a:pt x="68" y="371"/>
                </a:lnTo>
                <a:lnTo>
                  <a:pt x="42" y="368"/>
                </a:lnTo>
                <a:lnTo>
                  <a:pt x="14" y="369"/>
                </a:lnTo>
                <a:lnTo>
                  <a:pt x="2" y="345"/>
                </a:lnTo>
                <a:lnTo>
                  <a:pt x="0" y="326"/>
                </a:lnTo>
                <a:lnTo>
                  <a:pt x="3" y="312"/>
                </a:lnTo>
                <a:lnTo>
                  <a:pt x="13" y="302"/>
                </a:lnTo>
                <a:lnTo>
                  <a:pt x="27" y="294"/>
                </a:lnTo>
                <a:lnTo>
                  <a:pt x="45" y="291"/>
                </a:lnTo>
                <a:lnTo>
                  <a:pt x="65" y="290"/>
                </a:lnTo>
                <a:lnTo>
                  <a:pt x="109" y="294"/>
                </a:lnTo>
                <a:lnTo>
                  <a:pt x="149" y="305"/>
                </a:lnTo>
                <a:lnTo>
                  <a:pt x="166" y="311"/>
                </a:lnTo>
                <a:lnTo>
                  <a:pt x="168" y="310"/>
                </a:lnTo>
                <a:lnTo>
                  <a:pt x="176" y="302"/>
                </a:lnTo>
                <a:lnTo>
                  <a:pt x="207" y="272"/>
                </a:lnTo>
                <a:lnTo>
                  <a:pt x="230" y="251"/>
                </a:lnTo>
                <a:lnTo>
                  <a:pt x="232" y="249"/>
                </a:lnTo>
                <a:lnTo>
                  <a:pt x="218" y="238"/>
                </a:lnTo>
                <a:lnTo>
                  <a:pt x="203" y="229"/>
                </a:lnTo>
                <a:lnTo>
                  <a:pt x="169" y="215"/>
                </a:lnTo>
                <a:lnTo>
                  <a:pt x="103" y="187"/>
                </a:lnTo>
                <a:lnTo>
                  <a:pt x="74" y="133"/>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13"/>
          <p:cNvSpPr/>
          <p:nvPr/>
        </p:nvSpPr>
        <p:spPr>
          <a:xfrm>
            <a:off x="216000" y="471600"/>
            <a:ext cx="882720" cy="685800"/>
          </a:xfrm>
          <a:custGeom>
            <a:avLst/>
            <a:gdLst>
              <a:gd name="textAreaLeft" fmla="*/ 0 w 882720"/>
              <a:gd name="textAreaRight" fmla="*/ 883080 w 882720"/>
              <a:gd name="textAreaTop" fmla="*/ 0 h 685800"/>
              <a:gd name="textAreaBottom" fmla="*/ 686160 h 685800"/>
            </a:gdLst>
            <a:ahLst/>
            <a:rect l="textAreaLeft" t="textAreaTop" r="textAreaRight" b="textAreaBottom"/>
            <a:pathLst>
              <a:path w="1113" h="864">
                <a:moveTo>
                  <a:pt x="74" y="133"/>
                </a:moveTo>
                <a:lnTo>
                  <a:pt x="83" y="125"/>
                </a:lnTo>
                <a:lnTo>
                  <a:pt x="104" y="107"/>
                </a:lnTo>
                <a:lnTo>
                  <a:pt x="159" y="66"/>
                </a:lnTo>
                <a:lnTo>
                  <a:pt x="216" y="34"/>
                </a:lnTo>
                <a:lnTo>
                  <a:pt x="229" y="29"/>
                </a:lnTo>
                <a:lnTo>
                  <a:pt x="243" y="44"/>
                </a:lnTo>
                <a:lnTo>
                  <a:pt x="263" y="64"/>
                </a:lnTo>
                <a:lnTo>
                  <a:pt x="269" y="70"/>
                </a:lnTo>
                <a:lnTo>
                  <a:pt x="274" y="73"/>
                </a:lnTo>
                <a:lnTo>
                  <a:pt x="275" y="73"/>
                </a:lnTo>
                <a:lnTo>
                  <a:pt x="276" y="73"/>
                </a:lnTo>
                <a:lnTo>
                  <a:pt x="277" y="72"/>
                </a:lnTo>
                <a:lnTo>
                  <a:pt x="278" y="70"/>
                </a:lnTo>
                <a:lnTo>
                  <a:pt x="278" y="69"/>
                </a:lnTo>
                <a:lnTo>
                  <a:pt x="278" y="66"/>
                </a:lnTo>
                <a:lnTo>
                  <a:pt x="279" y="57"/>
                </a:lnTo>
                <a:lnTo>
                  <a:pt x="280" y="29"/>
                </a:lnTo>
                <a:lnTo>
                  <a:pt x="282" y="0"/>
                </a:lnTo>
                <a:lnTo>
                  <a:pt x="302" y="3"/>
                </a:lnTo>
                <a:lnTo>
                  <a:pt x="319" y="9"/>
                </a:lnTo>
                <a:lnTo>
                  <a:pt x="335" y="19"/>
                </a:lnTo>
                <a:lnTo>
                  <a:pt x="349" y="33"/>
                </a:lnTo>
                <a:lnTo>
                  <a:pt x="361" y="49"/>
                </a:lnTo>
                <a:lnTo>
                  <a:pt x="380" y="86"/>
                </a:lnTo>
                <a:lnTo>
                  <a:pt x="392" y="124"/>
                </a:lnTo>
                <a:lnTo>
                  <a:pt x="398" y="161"/>
                </a:lnTo>
                <a:lnTo>
                  <a:pt x="399" y="177"/>
                </a:lnTo>
                <a:lnTo>
                  <a:pt x="393" y="202"/>
                </a:lnTo>
                <a:lnTo>
                  <a:pt x="382" y="238"/>
                </a:lnTo>
                <a:lnTo>
                  <a:pt x="376" y="264"/>
                </a:lnTo>
                <a:lnTo>
                  <a:pt x="374" y="273"/>
                </a:lnTo>
                <a:lnTo>
                  <a:pt x="377" y="279"/>
                </a:lnTo>
                <a:lnTo>
                  <a:pt x="379" y="282"/>
                </a:lnTo>
                <a:lnTo>
                  <a:pt x="381" y="284"/>
                </a:lnTo>
                <a:lnTo>
                  <a:pt x="384" y="285"/>
                </a:lnTo>
                <a:lnTo>
                  <a:pt x="390" y="286"/>
                </a:lnTo>
                <a:lnTo>
                  <a:pt x="400" y="286"/>
                </a:lnTo>
                <a:lnTo>
                  <a:pt x="416" y="285"/>
                </a:lnTo>
                <a:lnTo>
                  <a:pt x="437" y="282"/>
                </a:lnTo>
                <a:lnTo>
                  <a:pt x="443" y="278"/>
                </a:lnTo>
                <a:lnTo>
                  <a:pt x="450" y="270"/>
                </a:lnTo>
                <a:lnTo>
                  <a:pt x="454" y="261"/>
                </a:lnTo>
                <a:lnTo>
                  <a:pt x="458" y="251"/>
                </a:lnTo>
                <a:lnTo>
                  <a:pt x="464" y="227"/>
                </a:lnTo>
                <a:lnTo>
                  <a:pt x="471" y="188"/>
                </a:lnTo>
                <a:lnTo>
                  <a:pt x="479" y="181"/>
                </a:lnTo>
                <a:lnTo>
                  <a:pt x="500" y="181"/>
                </a:lnTo>
                <a:lnTo>
                  <a:pt x="530" y="180"/>
                </a:lnTo>
                <a:lnTo>
                  <a:pt x="540" y="180"/>
                </a:lnTo>
                <a:lnTo>
                  <a:pt x="546" y="182"/>
                </a:lnTo>
                <a:lnTo>
                  <a:pt x="548" y="183"/>
                </a:lnTo>
                <a:lnTo>
                  <a:pt x="549" y="185"/>
                </a:lnTo>
                <a:lnTo>
                  <a:pt x="550" y="188"/>
                </a:lnTo>
                <a:lnTo>
                  <a:pt x="551" y="193"/>
                </a:lnTo>
                <a:lnTo>
                  <a:pt x="551" y="202"/>
                </a:lnTo>
                <a:lnTo>
                  <a:pt x="548" y="232"/>
                </a:lnTo>
                <a:lnTo>
                  <a:pt x="546" y="281"/>
                </a:lnTo>
                <a:lnTo>
                  <a:pt x="546" y="280"/>
                </a:lnTo>
                <a:lnTo>
                  <a:pt x="546" y="279"/>
                </a:lnTo>
                <a:lnTo>
                  <a:pt x="547" y="278"/>
                </a:lnTo>
                <a:lnTo>
                  <a:pt x="548" y="277"/>
                </a:lnTo>
                <a:lnTo>
                  <a:pt x="549" y="277"/>
                </a:lnTo>
                <a:lnTo>
                  <a:pt x="553" y="277"/>
                </a:lnTo>
                <a:lnTo>
                  <a:pt x="559" y="277"/>
                </a:lnTo>
                <a:lnTo>
                  <a:pt x="563" y="276"/>
                </a:lnTo>
                <a:lnTo>
                  <a:pt x="566" y="273"/>
                </a:lnTo>
                <a:lnTo>
                  <a:pt x="570" y="268"/>
                </a:lnTo>
                <a:lnTo>
                  <a:pt x="573" y="261"/>
                </a:lnTo>
                <a:lnTo>
                  <a:pt x="576" y="251"/>
                </a:lnTo>
                <a:lnTo>
                  <a:pt x="578" y="235"/>
                </a:lnTo>
                <a:lnTo>
                  <a:pt x="599" y="229"/>
                </a:lnTo>
                <a:lnTo>
                  <a:pt x="643" y="220"/>
                </a:lnTo>
                <a:lnTo>
                  <a:pt x="685" y="220"/>
                </a:lnTo>
                <a:lnTo>
                  <a:pt x="723" y="229"/>
                </a:lnTo>
                <a:lnTo>
                  <a:pt x="752" y="249"/>
                </a:lnTo>
                <a:lnTo>
                  <a:pt x="761" y="263"/>
                </a:lnTo>
                <a:lnTo>
                  <a:pt x="767" y="280"/>
                </a:lnTo>
                <a:lnTo>
                  <a:pt x="768" y="300"/>
                </a:lnTo>
                <a:lnTo>
                  <a:pt x="782" y="285"/>
                </a:lnTo>
                <a:lnTo>
                  <a:pt x="807" y="263"/>
                </a:lnTo>
                <a:lnTo>
                  <a:pt x="826" y="253"/>
                </a:lnTo>
                <a:lnTo>
                  <a:pt x="835" y="252"/>
                </a:lnTo>
                <a:lnTo>
                  <a:pt x="842" y="254"/>
                </a:lnTo>
                <a:lnTo>
                  <a:pt x="850" y="260"/>
                </a:lnTo>
                <a:lnTo>
                  <a:pt x="857" y="269"/>
                </a:lnTo>
                <a:lnTo>
                  <a:pt x="865" y="281"/>
                </a:lnTo>
                <a:lnTo>
                  <a:pt x="881" y="317"/>
                </a:lnTo>
                <a:lnTo>
                  <a:pt x="886" y="314"/>
                </a:lnTo>
                <a:lnTo>
                  <a:pt x="890" y="308"/>
                </a:lnTo>
                <a:lnTo>
                  <a:pt x="894" y="301"/>
                </a:lnTo>
                <a:lnTo>
                  <a:pt x="896" y="293"/>
                </a:lnTo>
                <a:lnTo>
                  <a:pt x="898" y="275"/>
                </a:lnTo>
                <a:lnTo>
                  <a:pt x="901" y="235"/>
                </a:lnTo>
                <a:lnTo>
                  <a:pt x="907" y="217"/>
                </a:lnTo>
                <a:lnTo>
                  <a:pt x="922" y="219"/>
                </a:lnTo>
                <a:lnTo>
                  <a:pt x="936" y="224"/>
                </a:lnTo>
                <a:lnTo>
                  <a:pt x="948" y="230"/>
                </a:lnTo>
                <a:lnTo>
                  <a:pt x="959" y="239"/>
                </a:lnTo>
                <a:lnTo>
                  <a:pt x="968" y="251"/>
                </a:lnTo>
                <a:lnTo>
                  <a:pt x="980" y="276"/>
                </a:lnTo>
                <a:lnTo>
                  <a:pt x="989" y="303"/>
                </a:lnTo>
                <a:lnTo>
                  <a:pt x="993" y="327"/>
                </a:lnTo>
                <a:lnTo>
                  <a:pt x="994" y="337"/>
                </a:lnTo>
                <a:lnTo>
                  <a:pt x="1005" y="328"/>
                </a:lnTo>
                <a:lnTo>
                  <a:pt x="1022" y="313"/>
                </a:lnTo>
                <a:lnTo>
                  <a:pt x="1032" y="304"/>
                </a:lnTo>
                <a:lnTo>
                  <a:pt x="1036" y="302"/>
                </a:lnTo>
                <a:lnTo>
                  <a:pt x="1037" y="302"/>
                </a:lnTo>
                <a:lnTo>
                  <a:pt x="1038" y="302"/>
                </a:lnTo>
                <a:lnTo>
                  <a:pt x="1040" y="302"/>
                </a:lnTo>
                <a:lnTo>
                  <a:pt x="1042" y="303"/>
                </a:lnTo>
                <a:lnTo>
                  <a:pt x="1043" y="304"/>
                </a:lnTo>
                <a:lnTo>
                  <a:pt x="1044" y="306"/>
                </a:lnTo>
                <a:lnTo>
                  <a:pt x="1047" y="311"/>
                </a:lnTo>
                <a:lnTo>
                  <a:pt x="1050" y="318"/>
                </a:lnTo>
                <a:lnTo>
                  <a:pt x="1055" y="326"/>
                </a:lnTo>
                <a:lnTo>
                  <a:pt x="1063" y="335"/>
                </a:lnTo>
                <a:lnTo>
                  <a:pt x="1068" y="343"/>
                </a:lnTo>
                <a:lnTo>
                  <a:pt x="1070" y="351"/>
                </a:lnTo>
                <a:lnTo>
                  <a:pt x="1070" y="359"/>
                </a:lnTo>
                <a:lnTo>
                  <a:pt x="1068" y="365"/>
                </a:lnTo>
                <a:lnTo>
                  <a:pt x="1065" y="371"/>
                </a:lnTo>
                <a:lnTo>
                  <a:pt x="1061" y="377"/>
                </a:lnTo>
                <a:lnTo>
                  <a:pt x="1051" y="387"/>
                </a:lnTo>
                <a:lnTo>
                  <a:pt x="1045" y="396"/>
                </a:lnTo>
                <a:lnTo>
                  <a:pt x="1045" y="399"/>
                </a:lnTo>
                <a:lnTo>
                  <a:pt x="1045" y="412"/>
                </a:lnTo>
                <a:lnTo>
                  <a:pt x="1051" y="433"/>
                </a:lnTo>
                <a:lnTo>
                  <a:pt x="1062" y="454"/>
                </a:lnTo>
                <a:lnTo>
                  <a:pt x="1089" y="496"/>
                </a:lnTo>
                <a:lnTo>
                  <a:pt x="1106" y="529"/>
                </a:lnTo>
                <a:lnTo>
                  <a:pt x="1113" y="586"/>
                </a:lnTo>
                <a:lnTo>
                  <a:pt x="1108" y="632"/>
                </a:lnTo>
                <a:lnTo>
                  <a:pt x="1089" y="669"/>
                </a:lnTo>
                <a:lnTo>
                  <a:pt x="1061" y="699"/>
                </a:lnTo>
                <a:lnTo>
                  <a:pt x="1024" y="723"/>
                </a:lnTo>
                <a:lnTo>
                  <a:pt x="983" y="742"/>
                </a:lnTo>
                <a:lnTo>
                  <a:pt x="890" y="772"/>
                </a:lnTo>
                <a:lnTo>
                  <a:pt x="802" y="801"/>
                </a:lnTo>
                <a:lnTo>
                  <a:pt x="737" y="838"/>
                </a:lnTo>
                <a:lnTo>
                  <a:pt x="713" y="827"/>
                </a:lnTo>
                <a:lnTo>
                  <a:pt x="688" y="821"/>
                </a:lnTo>
                <a:lnTo>
                  <a:pt x="660" y="820"/>
                </a:lnTo>
                <a:lnTo>
                  <a:pt x="632" y="823"/>
                </a:lnTo>
                <a:lnTo>
                  <a:pt x="573" y="835"/>
                </a:lnTo>
                <a:lnTo>
                  <a:pt x="460" y="864"/>
                </a:lnTo>
                <a:lnTo>
                  <a:pt x="415" y="864"/>
                </a:lnTo>
                <a:lnTo>
                  <a:pt x="380" y="850"/>
                </a:lnTo>
                <a:lnTo>
                  <a:pt x="348" y="829"/>
                </a:lnTo>
                <a:lnTo>
                  <a:pt x="290" y="777"/>
                </a:lnTo>
                <a:lnTo>
                  <a:pt x="236" y="718"/>
                </a:lnTo>
                <a:lnTo>
                  <a:pt x="180" y="665"/>
                </a:lnTo>
                <a:lnTo>
                  <a:pt x="116" y="627"/>
                </a:lnTo>
                <a:lnTo>
                  <a:pt x="39" y="614"/>
                </a:lnTo>
                <a:lnTo>
                  <a:pt x="38" y="591"/>
                </a:lnTo>
                <a:lnTo>
                  <a:pt x="36" y="559"/>
                </a:lnTo>
                <a:lnTo>
                  <a:pt x="36" y="543"/>
                </a:lnTo>
                <a:lnTo>
                  <a:pt x="37" y="541"/>
                </a:lnTo>
                <a:lnTo>
                  <a:pt x="38" y="540"/>
                </a:lnTo>
                <a:lnTo>
                  <a:pt x="40" y="539"/>
                </a:lnTo>
                <a:lnTo>
                  <a:pt x="42" y="539"/>
                </a:lnTo>
                <a:lnTo>
                  <a:pt x="45" y="539"/>
                </a:lnTo>
                <a:lnTo>
                  <a:pt x="54" y="540"/>
                </a:lnTo>
                <a:lnTo>
                  <a:pt x="83" y="543"/>
                </a:lnTo>
                <a:lnTo>
                  <a:pt x="116" y="544"/>
                </a:lnTo>
                <a:lnTo>
                  <a:pt x="136" y="522"/>
                </a:lnTo>
                <a:lnTo>
                  <a:pt x="150" y="498"/>
                </a:lnTo>
                <a:lnTo>
                  <a:pt x="158" y="476"/>
                </a:lnTo>
                <a:lnTo>
                  <a:pt x="159" y="454"/>
                </a:lnTo>
                <a:lnTo>
                  <a:pt x="155" y="434"/>
                </a:lnTo>
                <a:lnTo>
                  <a:pt x="145" y="416"/>
                </a:lnTo>
                <a:lnTo>
                  <a:pt x="131" y="400"/>
                </a:lnTo>
                <a:lnTo>
                  <a:pt x="113" y="387"/>
                </a:lnTo>
                <a:lnTo>
                  <a:pt x="92" y="377"/>
                </a:lnTo>
                <a:lnTo>
                  <a:pt x="68" y="371"/>
                </a:lnTo>
                <a:lnTo>
                  <a:pt x="42" y="368"/>
                </a:lnTo>
                <a:lnTo>
                  <a:pt x="14" y="369"/>
                </a:lnTo>
                <a:lnTo>
                  <a:pt x="2" y="345"/>
                </a:lnTo>
                <a:lnTo>
                  <a:pt x="0" y="326"/>
                </a:lnTo>
                <a:lnTo>
                  <a:pt x="3" y="312"/>
                </a:lnTo>
                <a:lnTo>
                  <a:pt x="13" y="302"/>
                </a:lnTo>
                <a:lnTo>
                  <a:pt x="27" y="294"/>
                </a:lnTo>
                <a:lnTo>
                  <a:pt x="45" y="291"/>
                </a:lnTo>
                <a:lnTo>
                  <a:pt x="65" y="290"/>
                </a:lnTo>
                <a:lnTo>
                  <a:pt x="109" y="294"/>
                </a:lnTo>
                <a:lnTo>
                  <a:pt x="149" y="305"/>
                </a:lnTo>
                <a:lnTo>
                  <a:pt x="166" y="311"/>
                </a:lnTo>
                <a:lnTo>
                  <a:pt x="168" y="310"/>
                </a:lnTo>
                <a:lnTo>
                  <a:pt x="176" y="302"/>
                </a:lnTo>
                <a:lnTo>
                  <a:pt x="207" y="272"/>
                </a:lnTo>
                <a:lnTo>
                  <a:pt x="230" y="251"/>
                </a:lnTo>
                <a:lnTo>
                  <a:pt x="232" y="249"/>
                </a:lnTo>
                <a:lnTo>
                  <a:pt x="218" y="238"/>
                </a:lnTo>
                <a:lnTo>
                  <a:pt x="203" y="229"/>
                </a:lnTo>
                <a:lnTo>
                  <a:pt x="169" y="215"/>
                </a:lnTo>
                <a:lnTo>
                  <a:pt x="103" y="187"/>
                </a:lnTo>
                <a:lnTo>
                  <a:pt x="74" y="133"/>
                </a:lnTo>
              </a:path>
            </a:pathLst>
          </a:custGeom>
          <a:solidFill>
            <a:srgbClr val="ffffff"/>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14"/>
          <p:cNvSpPr/>
          <p:nvPr/>
        </p:nvSpPr>
        <p:spPr>
          <a:xfrm>
            <a:off x="3855960" y="190440"/>
            <a:ext cx="1143000" cy="2011320"/>
          </a:xfrm>
          <a:custGeom>
            <a:avLst/>
            <a:gdLst>
              <a:gd name="textAreaLeft" fmla="*/ 0 w 1143000"/>
              <a:gd name="textAreaRight" fmla="*/ 1143360 w 1143000"/>
              <a:gd name="textAreaTop" fmla="*/ 0 h 2011320"/>
              <a:gd name="textAreaBottom" fmla="*/ 2011680 h 2011320"/>
            </a:gdLst>
            <a:ahLst/>
            <a:rect l="textAreaLeft" t="textAreaTop" r="textAreaRight" b="textAreaBottom"/>
            <a:pathLst>
              <a:path w="1440" h="2533">
                <a:moveTo>
                  <a:pt x="1258" y="1415"/>
                </a:moveTo>
                <a:lnTo>
                  <a:pt x="1262" y="1406"/>
                </a:lnTo>
                <a:lnTo>
                  <a:pt x="1277" y="1382"/>
                </a:lnTo>
                <a:lnTo>
                  <a:pt x="1289" y="1364"/>
                </a:lnTo>
                <a:lnTo>
                  <a:pt x="1290" y="1362"/>
                </a:lnTo>
                <a:lnTo>
                  <a:pt x="1287" y="1362"/>
                </a:lnTo>
                <a:lnTo>
                  <a:pt x="1270" y="1361"/>
                </a:lnTo>
                <a:lnTo>
                  <a:pt x="1212" y="1355"/>
                </a:lnTo>
                <a:lnTo>
                  <a:pt x="1167" y="1352"/>
                </a:lnTo>
                <a:lnTo>
                  <a:pt x="1165" y="1351"/>
                </a:lnTo>
                <a:lnTo>
                  <a:pt x="1164" y="1344"/>
                </a:lnTo>
                <a:lnTo>
                  <a:pt x="1161" y="1328"/>
                </a:lnTo>
                <a:lnTo>
                  <a:pt x="1154" y="1297"/>
                </a:lnTo>
                <a:lnTo>
                  <a:pt x="1148" y="1267"/>
                </a:lnTo>
                <a:lnTo>
                  <a:pt x="1148" y="1259"/>
                </a:lnTo>
                <a:lnTo>
                  <a:pt x="1136" y="1259"/>
                </a:lnTo>
                <a:lnTo>
                  <a:pt x="1125" y="1256"/>
                </a:lnTo>
                <a:lnTo>
                  <a:pt x="1115" y="1252"/>
                </a:lnTo>
                <a:lnTo>
                  <a:pt x="1108" y="1245"/>
                </a:lnTo>
                <a:lnTo>
                  <a:pt x="1094" y="1232"/>
                </a:lnTo>
                <a:lnTo>
                  <a:pt x="1082" y="1215"/>
                </a:lnTo>
                <a:lnTo>
                  <a:pt x="1074" y="1198"/>
                </a:lnTo>
                <a:lnTo>
                  <a:pt x="1065" y="1180"/>
                </a:lnTo>
                <a:lnTo>
                  <a:pt x="1066" y="1177"/>
                </a:lnTo>
                <a:lnTo>
                  <a:pt x="1072" y="1150"/>
                </a:lnTo>
                <a:lnTo>
                  <a:pt x="1098" y="1055"/>
                </a:lnTo>
                <a:lnTo>
                  <a:pt x="1118" y="983"/>
                </a:lnTo>
                <a:lnTo>
                  <a:pt x="1120" y="979"/>
                </a:lnTo>
                <a:lnTo>
                  <a:pt x="1116" y="975"/>
                </a:lnTo>
                <a:lnTo>
                  <a:pt x="1094" y="949"/>
                </a:lnTo>
                <a:lnTo>
                  <a:pt x="1020" y="858"/>
                </a:lnTo>
                <a:lnTo>
                  <a:pt x="963" y="789"/>
                </a:lnTo>
                <a:lnTo>
                  <a:pt x="961" y="785"/>
                </a:lnTo>
                <a:lnTo>
                  <a:pt x="950" y="772"/>
                </a:lnTo>
                <a:lnTo>
                  <a:pt x="937" y="742"/>
                </a:lnTo>
                <a:lnTo>
                  <a:pt x="933" y="712"/>
                </a:lnTo>
                <a:lnTo>
                  <a:pt x="934" y="678"/>
                </a:lnTo>
                <a:lnTo>
                  <a:pt x="946" y="596"/>
                </a:lnTo>
                <a:lnTo>
                  <a:pt x="950" y="572"/>
                </a:lnTo>
                <a:lnTo>
                  <a:pt x="934" y="558"/>
                </a:lnTo>
                <a:lnTo>
                  <a:pt x="909" y="529"/>
                </a:lnTo>
                <a:lnTo>
                  <a:pt x="869" y="483"/>
                </a:lnTo>
                <a:lnTo>
                  <a:pt x="808" y="454"/>
                </a:lnTo>
                <a:lnTo>
                  <a:pt x="785" y="449"/>
                </a:lnTo>
                <a:lnTo>
                  <a:pt x="783" y="444"/>
                </a:lnTo>
                <a:lnTo>
                  <a:pt x="774" y="408"/>
                </a:lnTo>
                <a:lnTo>
                  <a:pt x="743" y="286"/>
                </a:lnTo>
                <a:lnTo>
                  <a:pt x="721" y="193"/>
                </a:lnTo>
                <a:lnTo>
                  <a:pt x="720" y="187"/>
                </a:lnTo>
                <a:lnTo>
                  <a:pt x="727" y="170"/>
                </a:lnTo>
                <a:lnTo>
                  <a:pt x="751" y="118"/>
                </a:lnTo>
                <a:lnTo>
                  <a:pt x="769" y="78"/>
                </a:lnTo>
                <a:lnTo>
                  <a:pt x="770" y="75"/>
                </a:lnTo>
                <a:lnTo>
                  <a:pt x="768" y="75"/>
                </a:lnTo>
                <a:lnTo>
                  <a:pt x="760" y="75"/>
                </a:lnTo>
                <a:lnTo>
                  <a:pt x="733" y="74"/>
                </a:lnTo>
                <a:lnTo>
                  <a:pt x="712" y="73"/>
                </a:lnTo>
                <a:lnTo>
                  <a:pt x="711" y="72"/>
                </a:lnTo>
                <a:lnTo>
                  <a:pt x="708" y="71"/>
                </a:lnTo>
                <a:lnTo>
                  <a:pt x="694" y="62"/>
                </a:lnTo>
                <a:lnTo>
                  <a:pt x="642" y="28"/>
                </a:lnTo>
                <a:lnTo>
                  <a:pt x="604" y="2"/>
                </a:lnTo>
                <a:lnTo>
                  <a:pt x="602" y="0"/>
                </a:lnTo>
                <a:lnTo>
                  <a:pt x="600" y="2"/>
                </a:lnTo>
                <a:lnTo>
                  <a:pt x="587" y="11"/>
                </a:lnTo>
                <a:lnTo>
                  <a:pt x="542" y="39"/>
                </a:lnTo>
                <a:lnTo>
                  <a:pt x="507" y="61"/>
                </a:lnTo>
                <a:lnTo>
                  <a:pt x="506" y="62"/>
                </a:lnTo>
                <a:lnTo>
                  <a:pt x="505" y="65"/>
                </a:lnTo>
                <a:lnTo>
                  <a:pt x="498" y="80"/>
                </a:lnTo>
                <a:lnTo>
                  <a:pt x="474" y="131"/>
                </a:lnTo>
                <a:lnTo>
                  <a:pt x="455" y="171"/>
                </a:lnTo>
                <a:lnTo>
                  <a:pt x="455" y="173"/>
                </a:lnTo>
                <a:lnTo>
                  <a:pt x="455" y="175"/>
                </a:lnTo>
                <a:lnTo>
                  <a:pt x="458" y="189"/>
                </a:lnTo>
                <a:lnTo>
                  <a:pt x="470" y="238"/>
                </a:lnTo>
                <a:lnTo>
                  <a:pt x="479" y="275"/>
                </a:lnTo>
                <a:lnTo>
                  <a:pt x="481" y="276"/>
                </a:lnTo>
                <a:lnTo>
                  <a:pt x="478" y="284"/>
                </a:lnTo>
                <a:lnTo>
                  <a:pt x="474" y="306"/>
                </a:lnTo>
                <a:lnTo>
                  <a:pt x="471" y="323"/>
                </a:lnTo>
                <a:lnTo>
                  <a:pt x="470" y="325"/>
                </a:lnTo>
                <a:lnTo>
                  <a:pt x="462" y="338"/>
                </a:lnTo>
                <a:lnTo>
                  <a:pt x="440" y="380"/>
                </a:lnTo>
                <a:lnTo>
                  <a:pt x="422" y="413"/>
                </a:lnTo>
                <a:lnTo>
                  <a:pt x="422" y="414"/>
                </a:lnTo>
                <a:lnTo>
                  <a:pt x="414" y="415"/>
                </a:lnTo>
                <a:lnTo>
                  <a:pt x="393" y="418"/>
                </a:lnTo>
                <a:lnTo>
                  <a:pt x="375" y="420"/>
                </a:lnTo>
                <a:lnTo>
                  <a:pt x="367" y="415"/>
                </a:lnTo>
                <a:lnTo>
                  <a:pt x="341" y="400"/>
                </a:lnTo>
                <a:lnTo>
                  <a:pt x="322" y="388"/>
                </a:lnTo>
                <a:lnTo>
                  <a:pt x="321" y="387"/>
                </a:lnTo>
                <a:lnTo>
                  <a:pt x="319" y="388"/>
                </a:lnTo>
                <a:lnTo>
                  <a:pt x="308" y="391"/>
                </a:lnTo>
                <a:lnTo>
                  <a:pt x="272" y="402"/>
                </a:lnTo>
                <a:lnTo>
                  <a:pt x="245" y="411"/>
                </a:lnTo>
                <a:lnTo>
                  <a:pt x="244" y="411"/>
                </a:lnTo>
                <a:lnTo>
                  <a:pt x="236" y="412"/>
                </a:lnTo>
                <a:lnTo>
                  <a:pt x="231" y="411"/>
                </a:lnTo>
                <a:lnTo>
                  <a:pt x="223" y="407"/>
                </a:lnTo>
                <a:lnTo>
                  <a:pt x="216" y="402"/>
                </a:lnTo>
                <a:lnTo>
                  <a:pt x="197" y="385"/>
                </a:lnTo>
                <a:lnTo>
                  <a:pt x="131" y="331"/>
                </a:lnTo>
                <a:lnTo>
                  <a:pt x="76" y="296"/>
                </a:lnTo>
                <a:lnTo>
                  <a:pt x="75" y="297"/>
                </a:lnTo>
                <a:lnTo>
                  <a:pt x="68" y="301"/>
                </a:lnTo>
                <a:lnTo>
                  <a:pt x="41" y="317"/>
                </a:lnTo>
                <a:lnTo>
                  <a:pt x="8" y="345"/>
                </a:lnTo>
                <a:lnTo>
                  <a:pt x="0" y="353"/>
                </a:lnTo>
                <a:lnTo>
                  <a:pt x="13" y="368"/>
                </a:lnTo>
                <a:lnTo>
                  <a:pt x="46" y="397"/>
                </a:lnTo>
                <a:lnTo>
                  <a:pt x="127" y="445"/>
                </a:lnTo>
                <a:lnTo>
                  <a:pt x="207" y="475"/>
                </a:lnTo>
                <a:lnTo>
                  <a:pt x="225" y="479"/>
                </a:lnTo>
                <a:lnTo>
                  <a:pt x="260" y="496"/>
                </a:lnTo>
                <a:lnTo>
                  <a:pt x="289" y="518"/>
                </a:lnTo>
                <a:lnTo>
                  <a:pt x="314" y="548"/>
                </a:lnTo>
                <a:lnTo>
                  <a:pt x="337" y="581"/>
                </a:lnTo>
                <a:lnTo>
                  <a:pt x="371" y="659"/>
                </a:lnTo>
                <a:lnTo>
                  <a:pt x="395" y="741"/>
                </a:lnTo>
                <a:lnTo>
                  <a:pt x="411" y="820"/>
                </a:lnTo>
                <a:lnTo>
                  <a:pt x="423" y="884"/>
                </a:lnTo>
                <a:lnTo>
                  <a:pt x="423" y="888"/>
                </a:lnTo>
                <a:lnTo>
                  <a:pt x="423" y="911"/>
                </a:lnTo>
                <a:lnTo>
                  <a:pt x="423" y="991"/>
                </a:lnTo>
                <a:lnTo>
                  <a:pt x="423" y="1052"/>
                </a:lnTo>
                <a:lnTo>
                  <a:pt x="423" y="1055"/>
                </a:lnTo>
                <a:lnTo>
                  <a:pt x="441" y="1070"/>
                </a:lnTo>
                <a:lnTo>
                  <a:pt x="488" y="1099"/>
                </a:lnTo>
                <a:lnTo>
                  <a:pt x="544" y="1125"/>
                </a:lnTo>
                <a:lnTo>
                  <a:pt x="641" y="1189"/>
                </a:lnTo>
                <a:lnTo>
                  <a:pt x="671" y="1259"/>
                </a:lnTo>
                <a:lnTo>
                  <a:pt x="644" y="1258"/>
                </a:lnTo>
                <a:lnTo>
                  <a:pt x="619" y="1267"/>
                </a:lnTo>
                <a:lnTo>
                  <a:pt x="597" y="1285"/>
                </a:lnTo>
                <a:lnTo>
                  <a:pt x="577" y="1311"/>
                </a:lnTo>
                <a:lnTo>
                  <a:pt x="560" y="1341"/>
                </a:lnTo>
                <a:lnTo>
                  <a:pt x="533" y="1415"/>
                </a:lnTo>
                <a:lnTo>
                  <a:pt x="506" y="1559"/>
                </a:lnTo>
                <a:lnTo>
                  <a:pt x="505" y="1585"/>
                </a:lnTo>
                <a:lnTo>
                  <a:pt x="484" y="1586"/>
                </a:lnTo>
                <a:lnTo>
                  <a:pt x="471" y="1588"/>
                </a:lnTo>
                <a:lnTo>
                  <a:pt x="462" y="1591"/>
                </a:lnTo>
                <a:lnTo>
                  <a:pt x="460" y="1593"/>
                </a:lnTo>
                <a:lnTo>
                  <a:pt x="459" y="1596"/>
                </a:lnTo>
                <a:lnTo>
                  <a:pt x="458" y="1598"/>
                </a:lnTo>
                <a:lnTo>
                  <a:pt x="459" y="1601"/>
                </a:lnTo>
                <a:lnTo>
                  <a:pt x="460" y="1604"/>
                </a:lnTo>
                <a:lnTo>
                  <a:pt x="463" y="1611"/>
                </a:lnTo>
                <a:lnTo>
                  <a:pt x="469" y="1618"/>
                </a:lnTo>
                <a:lnTo>
                  <a:pt x="478" y="1634"/>
                </a:lnTo>
                <a:lnTo>
                  <a:pt x="481" y="1642"/>
                </a:lnTo>
                <a:lnTo>
                  <a:pt x="481" y="1650"/>
                </a:lnTo>
                <a:lnTo>
                  <a:pt x="479" y="1653"/>
                </a:lnTo>
                <a:lnTo>
                  <a:pt x="463" y="1656"/>
                </a:lnTo>
                <a:lnTo>
                  <a:pt x="449" y="1664"/>
                </a:lnTo>
                <a:lnTo>
                  <a:pt x="435" y="1675"/>
                </a:lnTo>
                <a:lnTo>
                  <a:pt x="424" y="1690"/>
                </a:lnTo>
                <a:lnTo>
                  <a:pt x="399" y="1725"/>
                </a:lnTo>
                <a:lnTo>
                  <a:pt x="342" y="1798"/>
                </a:lnTo>
                <a:lnTo>
                  <a:pt x="303" y="1820"/>
                </a:lnTo>
                <a:lnTo>
                  <a:pt x="304" y="1830"/>
                </a:lnTo>
                <a:lnTo>
                  <a:pt x="304" y="1851"/>
                </a:lnTo>
                <a:lnTo>
                  <a:pt x="299" y="1873"/>
                </a:lnTo>
                <a:lnTo>
                  <a:pt x="286" y="1916"/>
                </a:lnTo>
                <a:lnTo>
                  <a:pt x="275" y="1942"/>
                </a:lnTo>
                <a:lnTo>
                  <a:pt x="282" y="1975"/>
                </a:lnTo>
                <a:lnTo>
                  <a:pt x="296" y="2047"/>
                </a:lnTo>
                <a:lnTo>
                  <a:pt x="325" y="2208"/>
                </a:lnTo>
                <a:lnTo>
                  <a:pt x="360" y="2361"/>
                </a:lnTo>
                <a:lnTo>
                  <a:pt x="372" y="2394"/>
                </a:lnTo>
                <a:lnTo>
                  <a:pt x="379" y="2406"/>
                </a:lnTo>
                <a:lnTo>
                  <a:pt x="390" y="2417"/>
                </a:lnTo>
                <a:lnTo>
                  <a:pt x="405" y="2429"/>
                </a:lnTo>
                <a:lnTo>
                  <a:pt x="445" y="2453"/>
                </a:lnTo>
                <a:lnTo>
                  <a:pt x="535" y="2500"/>
                </a:lnTo>
                <a:lnTo>
                  <a:pt x="588" y="2533"/>
                </a:lnTo>
                <a:lnTo>
                  <a:pt x="635" y="2532"/>
                </a:lnTo>
                <a:lnTo>
                  <a:pt x="682" y="2520"/>
                </a:lnTo>
                <a:lnTo>
                  <a:pt x="727" y="2498"/>
                </a:lnTo>
                <a:lnTo>
                  <a:pt x="817" y="2432"/>
                </a:lnTo>
                <a:lnTo>
                  <a:pt x="906" y="2357"/>
                </a:lnTo>
                <a:lnTo>
                  <a:pt x="996" y="2289"/>
                </a:lnTo>
                <a:lnTo>
                  <a:pt x="1090" y="2246"/>
                </a:lnTo>
                <a:lnTo>
                  <a:pt x="1139" y="2239"/>
                </a:lnTo>
                <a:lnTo>
                  <a:pt x="1165" y="2214"/>
                </a:lnTo>
                <a:lnTo>
                  <a:pt x="1215" y="2163"/>
                </a:lnTo>
                <a:lnTo>
                  <a:pt x="1303" y="2059"/>
                </a:lnTo>
                <a:lnTo>
                  <a:pt x="1367" y="1960"/>
                </a:lnTo>
                <a:lnTo>
                  <a:pt x="1379" y="1936"/>
                </a:lnTo>
                <a:lnTo>
                  <a:pt x="1392" y="1910"/>
                </a:lnTo>
                <a:lnTo>
                  <a:pt x="1415" y="1860"/>
                </a:lnTo>
                <a:lnTo>
                  <a:pt x="1440" y="1772"/>
                </a:lnTo>
                <a:lnTo>
                  <a:pt x="1427" y="1690"/>
                </a:lnTo>
                <a:lnTo>
                  <a:pt x="1418" y="1668"/>
                </a:lnTo>
                <a:lnTo>
                  <a:pt x="1407" y="1652"/>
                </a:lnTo>
                <a:lnTo>
                  <a:pt x="1383" y="1622"/>
                </a:lnTo>
                <a:lnTo>
                  <a:pt x="1327" y="1578"/>
                </a:lnTo>
                <a:lnTo>
                  <a:pt x="1263" y="1556"/>
                </a:lnTo>
                <a:lnTo>
                  <a:pt x="1247" y="1555"/>
                </a:lnTo>
                <a:lnTo>
                  <a:pt x="1247" y="1554"/>
                </a:lnTo>
                <a:lnTo>
                  <a:pt x="1249" y="1544"/>
                </a:lnTo>
                <a:lnTo>
                  <a:pt x="1259" y="1507"/>
                </a:lnTo>
                <a:lnTo>
                  <a:pt x="1267" y="1480"/>
                </a:lnTo>
                <a:lnTo>
                  <a:pt x="1268" y="1478"/>
                </a:lnTo>
                <a:lnTo>
                  <a:pt x="1266" y="1469"/>
                </a:lnTo>
                <a:lnTo>
                  <a:pt x="1261" y="1439"/>
                </a:lnTo>
                <a:lnTo>
                  <a:pt x="1258" y="1417"/>
                </a:lnTo>
                <a:lnTo>
                  <a:pt x="1258" y="1415"/>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15"/>
          <p:cNvSpPr/>
          <p:nvPr/>
        </p:nvSpPr>
        <p:spPr>
          <a:xfrm>
            <a:off x="3859200" y="190440"/>
            <a:ext cx="1143000" cy="2009880"/>
          </a:xfrm>
          <a:custGeom>
            <a:avLst/>
            <a:gdLst>
              <a:gd name="textAreaLeft" fmla="*/ 0 w 1143000"/>
              <a:gd name="textAreaRight" fmla="*/ 1143360 w 1143000"/>
              <a:gd name="textAreaTop" fmla="*/ 0 h 2009880"/>
              <a:gd name="textAreaBottom" fmla="*/ 2010240 h 2009880"/>
            </a:gdLst>
            <a:ahLst/>
            <a:rect l="textAreaLeft" t="textAreaTop" r="textAreaRight" b="textAreaBottom"/>
            <a:pathLst>
              <a:path w="1440" h="2533">
                <a:moveTo>
                  <a:pt x="1258" y="1415"/>
                </a:moveTo>
                <a:lnTo>
                  <a:pt x="1262" y="1406"/>
                </a:lnTo>
                <a:lnTo>
                  <a:pt x="1277" y="1382"/>
                </a:lnTo>
                <a:lnTo>
                  <a:pt x="1289" y="1364"/>
                </a:lnTo>
                <a:lnTo>
                  <a:pt x="1290" y="1362"/>
                </a:lnTo>
                <a:lnTo>
                  <a:pt x="1287" y="1362"/>
                </a:lnTo>
                <a:lnTo>
                  <a:pt x="1270" y="1361"/>
                </a:lnTo>
                <a:lnTo>
                  <a:pt x="1212" y="1355"/>
                </a:lnTo>
                <a:lnTo>
                  <a:pt x="1167" y="1352"/>
                </a:lnTo>
                <a:lnTo>
                  <a:pt x="1165" y="1351"/>
                </a:lnTo>
                <a:lnTo>
                  <a:pt x="1164" y="1344"/>
                </a:lnTo>
                <a:lnTo>
                  <a:pt x="1161" y="1328"/>
                </a:lnTo>
                <a:lnTo>
                  <a:pt x="1154" y="1297"/>
                </a:lnTo>
                <a:lnTo>
                  <a:pt x="1148" y="1267"/>
                </a:lnTo>
                <a:lnTo>
                  <a:pt x="1148" y="1259"/>
                </a:lnTo>
                <a:lnTo>
                  <a:pt x="1136" y="1259"/>
                </a:lnTo>
                <a:lnTo>
                  <a:pt x="1125" y="1256"/>
                </a:lnTo>
                <a:lnTo>
                  <a:pt x="1115" y="1252"/>
                </a:lnTo>
                <a:lnTo>
                  <a:pt x="1108" y="1245"/>
                </a:lnTo>
                <a:lnTo>
                  <a:pt x="1094" y="1232"/>
                </a:lnTo>
                <a:lnTo>
                  <a:pt x="1082" y="1215"/>
                </a:lnTo>
                <a:lnTo>
                  <a:pt x="1074" y="1198"/>
                </a:lnTo>
                <a:lnTo>
                  <a:pt x="1065" y="1180"/>
                </a:lnTo>
                <a:lnTo>
                  <a:pt x="1066" y="1177"/>
                </a:lnTo>
                <a:lnTo>
                  <a:pt x="1072" y="1150"/>
                </a:lnTo>
                <a:lnTo>
                  <a:pt x="1098" y="1055"/>
                </a:lnTo>
                <a:lnTo>
                  <a:pt x="1118" y="983"/>
                </a:lnTo>
                <a:lnTo>
                  <a:pt x="1120" y="979"/>
                </a:lnTo>
                <a:lnTo>
                  <a:pt x="1116" y="975"/>
                </a:lnTo>
                <a:lnTo>
                  <a:pt x="1094" y="949"/>
                </a:lnTo>
                <a:lnTo>
                  <a:pt x="1020" y="858"/>
                </a:lnTo>
                <a:lnTo>
                  <a:pt x="963" y="789"/>
                </a:lnTo>
                <a:lnTo>
                  <a:pt x="961" y="785"/>
                </a:lnTo>
                <a:lnTo>
                  <a:pt x="950" y="772"/>
                </a:lnTo>
                <a:lnTo>
                  <a:pt x="937" y="742"/>
                </a:lnTo>
                <a:lnTo>
                  <a:pt x="933" y="712"/>
                </a:lnTo>
                <a:lnTo>
                  <a:pt x="934" y="678"/>
                </a:lnTo>
                <a:lnTo>
                  <a:pt x="946" y="596"/>
                </a:lnTo>
                <a:lnTo>
                  <a:pt x="950" y="572"/>
                </a:lnTo>
                <a:lnTo>
                  <a:pt x="934" y="558"/>
                </a:lnTo>
                <a:lnTo>
                  <a:pt x="909" y="529"/>
                </a:lnTo>
                <a:lnTo>
                  <a:pt x="869" y="483"/>
                </a:lnTo>
                <a:lnTo>
                  <a:pt x="808" y="454"/>
                </a:lnTo>
                <a:lnTo>
                  <a:pt x="785" y="449"/>
                </a:lnTo>
                <a:lnTo>
                  <a:pt x="783" y="444"/>
                </a:lnTo>
                <a:lnTo>
                  <a:pt x="774" y="408"/>
                </a:lnTo>
                <a:lnTo>
                  <a:pt x="743" y="286"/>
                </a:lnTo>
                <a:lnTo>
                  <a:pt x="721" y="193"/>
                </a:lnTo>
                <a:lnTo>
                  <a:pt x="720" y="187"/>
                </a:lnTo>
                <a:lnTo>
                  <a:pt x="727" y="170"/>
                </a:lnTo>
                <a:lnTo>
                  <a:pt x="751" y="118"/>
                </a:lnTo>
                <a:lnTo>
                  <a:pt x="769" y="78"/>
                </a:lnTo>
                <a:lnTo>
                  <a:pt x="770" y="75"/>
                </a:lnTo>
                <a:lnTo>
                  <a:pt x="768" y="75"/>
                </a:lnTo>
                <a:lnTo>
                  <a:pt x="760" y="75"/>
                </a:lnTo>
                <a:lnTo>
                  <a:pt x="733" y="74"/>
                </a:lnTo>
                <a:lnTo>
                  <a:pt x="712" y="73"/>
                </a:lnTo>
                <a:lnTo>
                  <a:pt x="711" y="72"/>
                </a:lnTo>
                <a:lnTo>
                  <a:pt x="708" y="71"/>
                </a:lnTo>
                <a:lnTo>
                  <a:pt x="694" y="62"/>
                </a:lnTo>
                <a:lnTo>
                  <a:pt x="642" y="28"/>
                </a:lnTo>
                <a:lnTo>
                  <a:pt x="604" y="2"/>
                </a:lnTo>
                <a:lnTo>
                  <a:pt x="602" y="0"/>
                </a:lnTo>
                <a:lnTo>
                  <a:pt x="600" y="2"/>
                </a:lnTo>
                <a:lnTo>
                  <a:pt x="587" y="11"/>
                </a:lnTo>
                <a:lnTo>
                  <a:pt x="542" y="39"/>
                </a:lnTo>
                <a:lnTo>
                  <a:pt x="507" y="61"/>
                </a:lnTo>
                <a:lnTo>
                  <a:pt x="506" y="62"/>
                </a:lnTo>
                <a:lnTo>
                  <a:pt x="505" y="65"/>
                </a:lnTo>
                <a:lnTo>
                  <a:pt x="498" y="80"/>
                </a:lnTo>
                <a:lnTo>
                  <a:pt x="474" y="131"/>
                </a:lnTo>
                <a:lnTo>
                  <a:pt x="455" y="171"/>
                </a:lnTo>
                <a:lnTo>
                  <a:pt x="455" y="173"/>
                </a:lnTo>
                <a:lnTo>
                  <a:pt x="455" y="175"/>
                </a:lnTo>
                <a:lnTo>
                  <a:pt x="458" y="189"/>
                </a:lnTo>
                <a:lnTo>
                  <a:pt x="470" y="238"/>
                </a:lnTo>
                <a:lnTo>
                  <a:pt x="479" y="275"/>
                </a:lnTo>
                <a:lnTo>
                  <a:pt x="481" y="276"/>
                </a:lnTo>
                <a:lnTo>
                  <a:pt x="478" y="284"/>
                </a:lnTo>
                <a:lnTo>
                  <a:pt x="474" y="306"/>
                </a:lnTo>
                <a:lnTo>
                  <a:pt x="471" y="323"/>
                </a:lnTo>
                <a:lnTo>
                  <a:pt x="470" y="325"/>
                </a:lnTo>
                <a:lnTo>
                  <a:pt x="462" y="338"/>
                </a:lnTo>
                <a:lnTo>
                  <a:pt x="440" y="380"/>
                </a:lnTo>
                <a:lnTo>
                  <a:pt x="422" y="413"/>
                </a:lnTo>
                <a:lnTo>
                  <a:pt x="422" y="414"/>
                </a:lnTo>
                <a:lnTo>
                  <a:pt x="414" y="415"/>
                </a:lnTo>
                <a:lnTo>
                  <a:pt x="393" y="418"/>
                </a:lnTo>
                <a:lnTo>
                  <a:pt x="375" y="420"/>
                </a:lnTo>
                <a:lnTo>
                  <a:pt x="367" y="415"/>
                </a:lnTo>
                <a:lnTo>
                  <a:pt x="341" y="400"/>
                </a:lnTo>
                <a:lnTo>
                  <a:pt x="322" y="388"/>
                </a:lnTo>
                <a:lnTo>
                  <a:pt x="321" y="387"/>
                </a:lnTo>
                <a:lnTo>
                  <a:pt x="319" y="388"/>
                </a:lnTo>
                <a:lnTo>
                  <a:pt x="308" y="391"/>
                </a:lnTo>
                <a:lnTo>
                  <a:pt x="272" y="402"/>
                </a:lnTo>
                <a:lnTo>
                  <a:pt x="245" y="411"/>
                </a:lnTo>
                <a:lnTo>
                  <a:pt x="244" y="411"/>
                </a:lnTo>
                <a:lnTo>
                  <a:pt x="236" y="412"/>
                </a:lnTo>
                <a:lnTo>
                  <a:pt x="231" y="411"/>
                </a:lnTo>
                <a:lnTo>
                  <a:pt x="223" y="407"/>
                </a:lnTo>
                <a:lnTo>
                  <a:pt x="216" y="402"/>
                </a:lnTo>
                <a:lnTo>
                  <a:pt x="197" y="385"/>
                </a:lnTo>
                <a:lnTo>
                  <a:pt x="131" y="331"/>
                </a:lnTo>
                <a:lnTo>
                  <a:pt x="76" y="296"/>
                </a:lnTo>
                <a:lnTo>
                  <a:pt x="75" y="297"/>
                </a:lnTo>
                <a:lnTo>
                  <a:pt x="68" y="301"/>
                </a:lnTo>
                <a:lnTo>
                  <a:pt x="41" y="317"/>
                </a:lnTo>
                <a:lnTo>
                  <a:pt x="8" y="345"/>
                </a:lnTo>
                <a:lnTo>
                  <a:pt x="0" y="353"/>
                </a:lnTo>
                <a:lnTo>
                  <a:pt x="13" y="368"/>
                </a:lnTo>
                <a:lnTo>
                  <a:pt x="46" y="397"/>
                </a:lnTo>
                <a:lnTo>
                  <a:pt x="127" y="445"/>
                </a:lnTo>
                <a:lnTo>
                  <a:pt x="207" y="475"/>
                </a:lnTo>
                <a:lnTo>
                  <a:pt x="225" y="479"/>
                </a:lnTo>
                <a:lnTo>
                  <a:pt x="260" y="496"/>
                </a:lnTo>
                <a:lnTo>
                  <a:pt x="289" y="518"/>
                </a:lnTo>
                <a:lnTo>
                  <a:pt x="314" y="548"/>
                </a:lnTo>
                <a:lnTo>
                  <a:pt x="337" y="581"/>
                </a:lnTo>
                <a:lnTo>
                  <a:pt x="371" y="659"/>
                </a:lnTo>
                <a:lnTo>
                  <a:pt x="395" y="741"/>
                </a:lnTo>
                <a:lnTo>
                  <a:pt x="411" y="820"/>
                </a:lnTo>
                <a:lnTo>
                  <a:pt x="423" y="884"/>
                </a:lnTo>
                <a:lnTo>
                  <a:pt x="423" y="888"/>
                </a:lnTo>
                <a:lnTo>
                  <a:pt x="423" y="911"/>
                </a:lnTo>
                <a:lnTo>
                  <a:pt x="423" y="991"/>
                </a:lnTo>
                <a:lnTo>
                  <a:pt x="423" y="1052"/>
                </a:lnTo>
                <a:lnTo>
                  <a:pt x="423" y="1055"/>
                </a:lnTo>
                <a:lnTo>
                  <a:pt x="441" y="1070"/>
                </a:lnTo>
                <a:lnTo>
                  <a:pt x="488" y="1099"/>
                </a:lnTo>
                <a:lnTo>
                  <a:pt x="544" y="1125"/>
                </a:lnTo>
                <a:lnTo>
                  <a:pt x="641" y="1189"/>
                </a:lnTo>
                <a:lnTo>
                  <a:pt x="671" y="1259"/>
                </a:lnTo>
                <a:lnTo>
                  <a:pt x="644" y="1258"/>
                </a:lnTo>
                <a:lnTo>
                  <a:pt x="619" y="1267"/>
                </a:lnTo>
                <a:lnTo>
                  <a:pt x="597" y="1285"/>
                </a:lnTo>
                <a:lnTo>
                  <a:pt x="577" y="1311"/>
                </a:lnTo>
                <a:lnTo>
                  <a:pt x="560" y="1341"/>
                </a:lnTo>
                <a:lnTo>
                  <a:pt x="533" y="1415"/>
                </a:lnTo>
                <a:lnTo>
                  <a:pt x="506" y="1559"/>
                </a:lnTo>
                <a:lnTo>
                  <a:pt x="505" y="1585"/>
                </a:lnTo>
                <a:lnTo>
                  <a:pt x="484" y="1586"/>
                </a:lnTo>
                <a:lnTo>
                  <a:pt x="471" y="1588"/>
                </a:lnTo>
                <a:lnTo>
                  <a:pt x="462" y="1591"/>
                </a:lnTo>
                <a:lnTo>
                  <a:pt x="460" y="1593"/>
                </a:lnTo>
                <a:lnTo>
                  <a:pt x="459" y="1596"/>
                </a:lnTo>
                <a:lnTo>
                  <a:pt x="458" y="1598"/>
                </a:lnTo>
                <a:lnTo>
                  <a:pt x="459" y="1601"/>
                </a:lnTo>
                <a:lnTo>
                  <a:pt x="460" y="1604"/>
                </a:lnTo>
                <a:lnTo>
                  <a:pt x="463" y="1611"/>
                </a:lnTo>
                <a:lnTo>
                  <a:pt x="469" y="1618"/>
                </a:lnTo>
                <a:lnTo>
                  <a:pt x="478" y="1634"/>
                </a:lnTo>
                <a:lnTo>
                  <a:pt x="481" y="1642"/>
                </a:lnTo>
                <a:lnTo>
                  <a:pt x="481" y="1650"/>
                </a:lnTo>
                <a:lnTo>
                  <a:pt x="479" y="1653"/>
                </a:lnTo>
                <a:lnTo>
                  <a:pt x="463" y="1656"/>
                </a:lnTo>
                <a:lnTo>
                  <a:pt x="449" y="1664"/>
                </a:lnTo>
                <a:lnTo>
                  <a:pt x="435" y="1675"/>
                </a:lnTo>
                <a:lnTo>
                  <a:pt x="424" y="1690"/>
                </a:lnTo>
                <a:lnTo>
                  <a:pt x="399" y="1725"/>
                </a:lnTo>
                <a:lnTo>
                  <a:pt x="342" y="1798"/>
                </a:lnTo>
                <a:lnTo>
                  <a:pt x="303" y="1820"/>
                </a:lnTo>
                <a:lnTo>
                  <a:pt x="304" y="1830"/>
                </a:lnTo>
                <a:lnTo>
                  <a:pt x="304" y="1851"/>
                </a:lnTo>
                <a:lnTo>
                  <a:pt x="299" y="1873"/>
                </a:lnTo>
                <a:lnTo>
                  <a:pt x="286" y="1916"/>
                </a:lnTo>
                <a:lnTo>
                  <a:pt x="275" y="1942"/>
                </a:lnTo>
                <a:lnTo>
                  <a:pt x="282" y="1975"/>
                </a:lnTo>
                <a:lnTo>
                  <a:pt x="296" y="2047"/>
                </a:lnTo>
                <a:lnTo>
                  <a:pt x="325" y="2208"/>
                </a:lnTo>
                <a:lnTo>
                  <a:pt x="360" y="2361"/>
                </a:lnTo>
                <a:lnTo>
                  <a:pt x="372" y="2394"/>
                </a:lnTo>
                <a:lnTo>
                  <a:pt x="379" y="2406"/>
                </a:lnTo>
                <a:lnTo>
                  <a:pt x="390" y="2417"/>
                </a:lnTo>
                <a:lnTo>
                  <a:pt x="405" y="2429"/>
                </a:lnTo>
                <a:lnTo>
                  <a:pt x="445" y="2453"/>
                </a:lnTo>
                <a:lnTo>
                  <a:pt x="535" y="2500"/>
                </a:lnTo>
                <a:lnTo>
                  <a:pt x="588" y="2533"/>
                </a:lnTo>
                <a:lnTo>
                  <a:pt x="635" y="2532"/>
                </a:lnTo>
                <a:lnTo>
                  <a:pt x="682" y="2520"/>
                </a:lnTo>
                <a:lnTo>
                  <a:pt x="727" y="2498"/>
                </a:lnTo>
                <a:lnTo>
                  <a:pt x="817" y="2432"/>
                </a:lnTo>
                <a:lnTo>
                  <a:pt x="906" y="2357"/>
                </a:lnTo>
                <a:lnTo>
                  <a:pt x="996" y="2289"/>
                </a:lnTo>
                <a:lnTo>
                  <a:pt x="1090" y="2246"/>
                </a:lnTo>
                <a:lnTo>
                  <a:pt x="1139" y="2239"/>
                </a:lnTo>
                <a:lnTo>
                  <a:pt x="1165" y="2214"/>
                </a:lnTo>
                <a:lnTo>
                  <a:pt x="1215" y="2163"/>
                </a:lnTo>
                <a:lnTo>
                  <a:pt x="1303" y="2059"/>
                </a:lnTo>
                <a:lnTo>
                  <a:pt x="1367" y="1960"/>
                </a:lnTo>
                <a:lnTo>
                  <a:pt x="1379" y="1936"/>
                </a:lnTo>
                <a:lnTo>
                  <a:pt x="1392" y="1910"/>
                </a:lnTo>
                <a:lnTo>
                  <a:pt x="1415" y="1860"/>
                </a:lnTo>
                <a:lnTo>
                  <a:pt x="1440" y="1772"/>
                </a:lnTo>
                <a:lnTo>
                  <a:pt x="1427" y="1690"/>
                </a:lnTo>
                <a:lnTo>
                  <a:pt x="1418" y="1668"/>
                </a:lnTo>
                <a:lnTo>
                  <a:pt x="1407" y="1652"/>
                </a:lnTo>
                <a:lnTo>
                  <a:pt x="1383" y="1622"/>
                </a:lnTo>
                <a:lnTo>
                  <a:pt x="1327" y="1578"/>
                </a:lnTo>
                <a:lnTo>
                  <a:pt x="1263" y="1556"/>
                </a:lnTo>
                <a:lnTo>
                  <a:pt x="1247" y="1555"/>
                </a:lnTo>
                <a:lnTo>
                  <a:pt x="1247" y="1554"/>
                </a:lnTo>
                <a:lnTo>
                  <a:pt x="1249" y="1544"/>
                </a:lnTo>
                <a:lnTo>
                  <a:pt x="1259" y="1507"/>
                </a:lnTo>
                <a:lnTo>
                  <a:pt x="1267" y="1480"/>
                </a:lnTo>
                <a:lnTo>
                  <a:pt x="1268" y="1478"/>
                </a:lnTo>
                <a:lnTo>
                  <a:pt x="1266" y="1469"/>
                </a:lnTo>
                <a:lnTo>
                  <a:pt x="1261" y="1439"/>
                </a:lnTo>
                <a:lnTo>
                  <a:pt x="1258" y="1417"/>
                </a:lnTo>
                <a:lnTo>
                  <a:pt x="1258" y="1415"/>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16"/>
          <p:cNvSpPr/>
          <p:nvPr/>
        </p:nvSpPr>
        <p:spPr>
          <a:xfrm>
            <a:off x="3513240" y="3227400"/>
            <a:ext cx="1255680" cy="968400"/>
          </a:xfrm>
          <a:custGeom>
            <a:avLst/>
            <a:gdLst>
              <a:gd name="textAreaLeft" fmla="*/ 0 w 1255680"/>
              <a:gd name="textAreaRight" fmla="*/ 1256040 w 1255680"/>
              <a:gd name="textAreaTop" fmla="*/ 0 h 968400"/>
              <a:gd name="textAreaBottom" fmla="*/ 968760 h 968400"/>
            </a:gdLst>
            <a:ahLst/>
            <a:rect l="textAreaLeft" t="textAreaTop" r="textAreaRight" b="textAreaBottom"/>
            <a:pathLst>
              <a:path w="1583" h="1221">
                <a:moveTo>
                  <a:pt x="1424" y="597"/>
                </a:moveTo>
                <a:lnTo>
                  <a:pt x="1428" y="585"/>
                </a:lnTo>
                <a:lnTo>
                  <a:pt x="1431" y="563"/>
                </a:lnTo>
                <a:lnTo>
                  <a:pt x="1424" y="545"/>
                </a:lnTo>
                <a:lnTo>
                  <a:pt x="1410" y="531"/>
                </a:lnTo>
                <a:lnTo>
                  <a:pt x="1390" y="518"/>
                </a:lnTo>
                <a:lnTo>
                  <a:pt x="1365" y="505"/>
                </a:lnTo>
                <a:lnTo>
                  <a:pt x="1352" y="498"/>
                </a:lnTo>
                <a:lnTo>
                  <a:pt x="1353" y="488"/>
                </a:lnTo>
                <a:lnTo>
                  <a:pt x="1356" y="477"/>
                </a:lnTo>
                <a:lnTo>
                  <a:pt x="1362" y="467"/>
                </a:lnTo>
                <a:lnTo>
                  <a:pt x="1376" y="448"/>
                </a:lnTo>
                <a:lnTo>
                  <a:pt x="1392" y="431"/>
                </a:lnTo>
                <a:lnTo>
                  <a:pt x="1406" y="415"/>
                </a:lnTo>
                <a:lnTo>
                  <a:pt x="1414" y="398"/>
                </a:lnTo>
                <a:lnTo>
                  <a:pt x="1416" y="390"/>
                </a:lnTo>
                <a:lnTo>
                  <a:pt x="1422" y="365"/>
                </a:lnTo>
                <a:lnTo>
                  <a:pt x="1424" y="333"/>
                </a:lnTo>
                <a:lnTo>
                  <a:pt x="1416" y="262"/>
                </a:lnTo>
                <a:lnTo>
                  <a:pt x="1397" y="185"/>
                </a:lnTo>
                <a:lnTo>
                  <a:pt x="1338" y="53"/>
                </a:lnTo>
                <a:lnTo>
                  <a:pt x="1305" y="15"/>
                </a:lnTo>
                <a:lnTo>
                  <a:pt x="1298" y="17"/>
                </a:lnTo>
                <a:lnTo>
                  <a:pt x="1262" y="29"/>
                </a:lnTo>
                <a:lnTo>
                  <a:pt x="1133" y="66"/>
                </a:lnTo>
                <a:lnTo>
                  <a:pt x="1036" y="96"/>
                </a:lnTo>
                <a:lnTo>
                  <a:pt x="1030" y="97"/>
                </a:lnTo>
                <a:lnTo>
                  <a:pt x="1026" y="90"/>
                </a:lnTo>
                <a:lnTo>
                  <a:pt x="1014" y="66"/>
                </a:lnTo>
                <a:lnTo>
                  <a:pt x="1006" y="48"/>
                </a:lnTo>
                <a:lnTo>
                  <a:pt x="1006" y="47"/>
                </a:lnTo>
                <a:lnTo>
                  <a:pt x="980" y="48"/>
                </a:lnTo>
                <a:lnTo>
                  <a:pt x="925" y="50"/>
                </a:lnTo>
                <a:lnTo>
                  <a:pt x="814" y="64"/>
                </a:lnTo>
                <a:lnTo>
                  <a:pt x="713" y="88"/>
                </a:lnTo>
                <a:lnTo>
                  <a:pt x="692" y="95"/>
                </a:lnTo>
                <a:lnTo>
                  <a:pt x="680" y="91"/>
                </a:lnTo>
                <a:lnTo>
                  <a:pt x="655" y="78"/>
                </a:lnTo>
                <a:lnTo>
                  <a:pt x="609" y="45"/>
                </a:lnTo>
                <a:lnTo>
                  <a:pt x="569" y="9"/>
                </a:lnTo>
                <a:lnTo>
                  <a:pt x="561" y="0"/>
                </a:lnTo>
                <a:lnTo>
                  <a:pt x="526" y="4"/>
                </a:lnTo>
                <a:lnTo>
                  <a:pt x="489" y="13"/>
                </a:lnTo>
                <a:lnTo>
                  <a:pt x="411" y="47"/>
                </a:lnTo>
                <a:lnTo>
                  <a:pt x="331" y="93"/>
                </a:lnTo>
                <a:lnTo>
                  <a:pt x="179" y="186"/>
                </a:lnTo>
                <a:lnTo>
                  <a:pt x="116" y="218"/>
                </a:lnTo>
                <a:lnTo>
                  <a:pt x="107" y="220"/>
                </a:lnTo>
                <a:lnTo>
                  <a:pt x="97" y="224"/>
                </a:lnTo>
                <a:lnTo>
                  <a:pt x="88" y="231"/>
                </a:lnTo>
                <a:lnTo>
                  <a:pt x="67" y="250"/>
                </a:lnTo>
                <a:lnTo>
                  <a:pt x="31" y="292"/>
                </a:lnTo>
                <a:lnTo>
                  <a:pt x="13" y="314"/>
                </a:lnTo>
                <a:lnTo>
                  <a:pt x="13" y="316"/>
                </a:lnTo>
                <a:lnTo>
                  <a:pt x="16" y="328"/>
                </a:lnTo>
                <a:lnTo>
                  <a:pt x="27" y="371"/>
                </a:lnTo>
                <a:lnTo>
                  <a:pt x="34" y="403"/>
                </a:lnTo>
                <a:lnTo>
                  <a:pt x="35" y="405"/>
                </a:lnTo>
                <a:lnTo>
                  <a:pt x="35" y="409"/>
                </a:lnTo>
                <a:lnTo>
                  <a:pt x="34" y="414"/>
                </a:lnTo>
                <a:lnTo>
                  <a:pt x="32" y="419"/>
                </a:lnTo>
                <a:lnTo>
                  <a:pt x="25" y="432"/>
                </a:lnTo>
                <a:lnTo>
                  <a:pt x="8" y="467"/>
                </a:lnTo>
                <a:lnTo>
                  <a:pt x="0" y="499"/>
                </a:lnTo>
                <a:lnTo>
                  <a:pt x="1" y="502"/>
                </a:lnTo>
                <a:lnTo>
                  <a:pt x="14" y="522"/>
                </a:lnTo>
                <a:lnTo>
                  <a:pt x="58" y="588"/>
                </a:lnTo>
                <a:lnTo>
                  <a:pt x="91" y="638"/>
                </a:lnTo>
                <a:lnTo>
                  <a:pt x="93" y="640"/>
                </a:lnTo>
                <a:lnTo>
                  <a:pt x="95" y="654"/>
                </a:lnTo>
                <a:lnTo>
                  <a:pt x="98" y="685"/>
                </a:lnTo>
                <a:lnTo>
                  <a:pt x="106" y="753"/>
                </a:lnTo>
                <a:lnTo>
                  <a:pt x="128" y="842"/>
                </a:lnTo>
                <a:lnTo>
                  <a:pt x="139" y="868"/>
                </a:lnTo>
                <a:lnTo>
                  <a:pt x="151" y="895"/>
                </a:lnTo>
                <a:lnTo>
                  <a:pt x="184" y="935"/>
                </a:lnTo>
                <a:lnTo>
                  <a:pt x="225" y="962"/>
                </a:lnTo>
                <a:lnTo>
                  <a:pt x="270" y="976"/>
                </a:lnTo>
                <a:lnTo>
                  <a:pt x="316" y="979"/>
                </a:lnTo>
                <a:lnTo>
                  <a:pt x="359" y="972"/>
                </a:lnTo>
                <a:lnTo>
                  <a:pt x="379" y="965"/>
                </a:lnTo>
                <a:lnTo>
                  <a:pt x="386" y="973"/>
                </a:lnTo>
                <a:lnTo>
                  <a:pt x="407" y="995"/>
                </a:lnTo>
                <a:lnTo>
                  <a:pt x="423" y="1014"/>
                </a:lnTo>
                <a:lnTo>
                  <a:pt x="424" y="1014"/>
                </a:lnTo>
                <a:lnTo>
                  <a:pt x="423" y="1019"/>
                </a:lnTo>
                <a:lnTo>
                  <a:pt x="422" y="1029"/>
                </a:lnTo>
                <a:lnTo>
                  <a:pt x="421" y="1050"/>
                </a:lnTo>
                <a:lnTo>
                  <a:pt x="423" y="1061"/>
                </a:lnTo>
                <a:lnTo>
                  <a:pt x="428" y="1070"/>
                </a:lnTo>
                <a:lnTo>
                  <a:pt x="432" y="1074"/>
                </a:lnTo>
                <a:lnTo>
                  <a:pt x="436" y="1074"/>
                </a:lnTo>
                <a:lnTo>
                  <a:pt x="440" y="1072"/>
                </a:lnTo>
                <a:lnTo>
                  <a:pt x="446" y="1069"/>
                </a:lnTo>
                <a:lnTo>
                  <a:pt x="455" y="1060"/>
                </a:lnTo>
                <a:lnTo>
                  <a:pt x="465" y="1048"/>
                </a:lnTo>
                <a:lnTo>
                  <a:pt x="477" y="1027"/>
                </a:lnTo>
                <a:lnTo>
                  <a:pt x="478" y="1023"/>
                </a:lnTo>
                <a:lnTo>
                  <a:pt x="497" y="1024"/>
                </a:lnTo>
                <a:lnTo>
                  <a:pt x="536" y="1028"/>
                </a:lnTo>
                <a:lnTo>
                  <a:pt x="597" y="1049"/>
                </a:lnTo>
                <a:lnTo>
                  <a:pt x="618" y="1070"/>
                </a:lnTo>
                <a:lnTo>
                  <a:pt x="632" y="1096"/>
                </a:lnTo>
                <a:lnTo>
                  <a:pt x="637" y="1112"/>
                </a:lnTo>
                <a:lnTo>
                  <a:pt x="650" y="1115"/>
                </a:lnTo>
                <a:lnTo>
                  <a:pt x="691" y="1121"/>
                </a:lnTo>
                <a:lnTo>
                  <a:pt x="722" y="1125"/>
                </a:lnTo>
                <a:lnTo>
                  <a:pt x="725" y="1125"/>
                </a:lnTo>
                <a:lnTo>
                  <a:pt x="733" y="1134"/>
                </a:lnTo>
                <a:lnTo>
                  <a:pt x="748" y="1147"/>
                </a:lnTo>
                <a:lnTo>
                  <a:pt x="775" y="1167"/>
                </a:lnTo>
                <a:lnTo>
                  <a:pt x="815" y="1181"/>
                </a:lnTo>
                <a:lnTo>
                  <a:pt x="830" y="1184"/>
                </a:lnTo>
                <a:lnTo>
                  <a:pt x="831" y="1184"/>
                </a:lnTo>
                <a:lnTo>
                  <a:pt x="844" y="1182"/>
                </a:lnTo>
                <a:lnTo>
                  <a:pt x="888" y="1175"/>
                </a:lnTo>
                <a:lnTo>
                  <a:pt x="921" y="1169"/>
                </a:lnTo>
                <a:lnTo>
                  <a:pt x="923" y="1168"/>
                </a:lnTo>
                <a:lnTo>
                  <a:pt x="937" y="1177"/>
                </a:lnTo>
                <a:lnTo>
                  <a:pt x="980" y="1201"/>
                </a:lnTo>
                <a:lnTo>
                  <a:pt x="1012" y="1220"/>
                </a:lnTo>
                <a:lnTo>
                  <a:pt x="1014" y="1221"/>
                </a:lnTo>
                <a:lnTo>
                  <a:pt x="1022" y="1213"/>
                </a:lnTo>
                <a:lnTo>
                  <a:pt x="1047" y="1192"/>
                </a:lnTo>
                <a:lnTo>
                  <a:pt x="1067" y="1175"/>
                </a:lnTo>
                <a:lnTo>
                  <a:pt x="1069" y="1174"/>
                </a:lnTo>
                <a:lnTo>
                  <a:pt x="1070" y="1174"/>
                </a:lnTo>
                <a:lnTo>
                  <a:pt x="1083" y="1173"/>
                </a:lnTo>
                <a:lnTo>
                  <a:pt x="1126" y="1168"/>
                </a:lnTo>
                <a:lnTo>
                  <a:pt x="1159" y="1165"/>
                </a:lnTo>
                <a:lnTo>
                  <a:pt x="1161" y="1164"/>
                </a:lnTo>
                <a:lnTo>
                  <a:pt x="1169" y="1161"/>
                </a:lnTo>
                <a:lnTo>
                  <a:pt x="1187" y="1157"/>
                </a:lnTo>
                <a:lnTo>
                  <a:pt x="1221" y="1152"/>
                </a:lnTo>
                <a:lnTo>
                  <a:pt x="1236" y="1153"/>
                </a:lnTo>
                <a:lnTo>
                  <a:pt x="1248" y="1156"/>
                </a:lnTo>
                <a:lnTo>
                  <a:pt x="1252" y="1159"/>
                </a:lnTo>
                <a:lnTo>
                  <a:pt x="1254" y="1164"/>
                </a:lnTo>
                <a:lnTo>
                  <a:pt x="1254" y="1168"/>
                </a:lnTo>
                <a:lnTo>
                  <a:pt x="1253" y="1172"/>
                </a:lnTo>
                <a:lnTo>
                  <a:pt x="1251" y="1177"/>
                </a:lnTo>
                <a:lnTo>
                  <a:pt x="1249" y="1181"/>
                </a:lnTo>
                <a:lnTo>
                  <a:pt x="1242" y="1188"/>
                </a:lnTo>
                <a:lnTo>
                  <a:pt x="1235" y="1195"/>
                </a:lnTo>
                <a:lnTo>
                  <a:pt x="1234" y="1197"/>
                </a:lnTo>
                <a:lnTo>
                  <a:pt x="1235" y="1198"/>
                </a:lnTo>
                <a:lnTo>
                  <a:pt x="1238" y="1199"/>
                </a:lnTo>
                <a:lnTo>
                  <a:pt x="1262" y="1200"/>
                </a:lnTo>
                <a:lnTo>
                  <a:pt x="1344" y="1203"/>
                </a:lnTo>
                <a:lnTo>
                  <a:pt x="1408" y="1206"/>
                </a:lnTo>
                <a:lnTo>
                  <a:pt x="1412" y="1206"/>
                </a:lnTo>
                <a:lnTo>
                  <a:pt x="1410" y="1194"/>
                </a:lnTo>
                <a:lnTo>
                  <a:pt x="1406" y="1154"/>
                </a:lnTo>
                <a:lnTo>
                  <a:pt x="1402" y="1125"/>
                </a:lnTo>
                <a:lnTo>
                  <a:pt x="1402" y="1123"/>
                </a:lnTo>
                <a:lnTo>
                  <a:pt x="1406" y="1118"/>
                </a:lnTo>
                <a:lnTo>
                  <a:pt x="1430" y="1080"/>
                </a:lnTo>
                <a:lnTo>
                  <a:pt x="1514" y="949"/>
                </a:lnTo>
                <a:lnTo>
                  <a:pt x="1578" y="849"/>
                </a:lnTo>
                <a:lnTo>
                  <a:pt x="1583" y="843"/>
                </a:lnTo>
                <a:lnTo>
                  <a:pt x="1577" y="833"/>
                </a:lnTo>
                <a:lnTo>
                  <a:pt x="1565" y="805"/>
                </a:lnTo>
                <a:lnTo>
                  <a:pt x="1534" y="732"/>
                </a:lnTo>
                <a:lnTo>
                  <a:pt x="1497" y="665"/>
                </a:lnTo>
                <a:lnTo>
                  <a:pt x="1487" y="654"/>
                </a:lnTo>
                <a:lnTo>
                  <a:pt x="1485" y="653"/>
                </a:lnTo>
                <a:lnTo>
                  <a:pt x="1476" y="646"/>
                </a:lnTo>
                <a:lnTo>
                  <a:pt x="1447" y="619"/>
                </a:lnTo>
                <a:lnTo>
                  <a:pt x="1425" y="599"/>
                </a:lnTo>
                <a:lnTo>
                  <a:pt x="1424" y="5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17"/>
          <p:cNvSpPr/>
          <p:nvPr/>
        </p:nvSpPr>
        <p:spPr>
          <a:xfrm>
            <a:off x="4581360" y="3619440"/>
            <a:ext cx="71640" cy="82440"/>
          </a:xfrm>
          <a:custGeom>
            <a:avLst/>
            <a:gdLst>
              <a:gd name="textAreaLeft" fmla="*/ 0 w 71640"/>
              <a:gd name="textAreaRight" fmla="*/ 72000 w 71640"/>
              <a:gd name="textAreaTop" fmla="*/ 0 h 82440"/>
              <a:gd name="textAreaBottom" fmla="*/ 82800 h 82440"/>
            </a:gdLst>
            <a:ahLst/>
            <a:rect l="textAreaLeft" t="textAreaTop" r="textAreaRight" b="textAreaBottom"/>
            <a:pathLst>
              <a:path w="89" h="104">
                <a:moveTo>
                  <a:pt x="0" y="4"/>
                </a:moveTo>
                <a:lnTo>
                  <a:pt x="1" y="6"/>
                </a:lnTo>
                <a:lnTo>
                  <a:pt x="2" y="7"/>
                </a:lnTo>
                <a:lnTo>
                  <a:pt x="5" y="9"/>
                </a:lnTo>
                <a:lnTo>
                  <a:pt x="6" y="10"/>
                </a:lnTo>
                <a:lnTo>
                  <a:pt x="7" y="10"/>
                </a:lnTo>
                <a:lnTo>
                  <a:pt x="10" y="12"/>
                </a:lnTo>
                <a:lnTo>
                  <a:pt x="11" y="12"/>
                </a:lnTo>
                <a:lnTo>
                  <a:pt x="12" y="12"/>
                </a:lnTo>
                <a:lnTo>
                  <a:pt x="15" y="14"/>
                </a:lnTo>
                <a:lnTo>
                  <a:pt x="16" y="15"/>
                </a:lnTo>
                <a:lnTo>
                  <a:pt x="17" y="15"/>
                </a:lnTo>
                <a:lnTo>
                  <a:pt x="20" y="17"/>
                </a:lnTo>
                <a:lnTo>
                  <a:pt x="21" y="17"/>
                </a:lnTo>
                <a:lnTo>
                  <a:pt x="22" y="17"/>
                </a:lnTo>
                <a:lnTo>
                  <a:pt x="24" y="20"/>
                </a:lnTo>
                <a:lnTo>
                  <a:pt x="26" y="20"/>
                </a:lnTo>
                <a:lnTo>
                  <a:pt x="29" y="22"/>
                </a:lnTo>
                <a:lnTo>
                  <a:pt x="30" y="23"/>
                </a:lnTo>
                <a:lnTo>
                  <a:pt x="31" y="23"/>
                </a:lnTo>
                <a:lnTo>
                  <a:pt x="33" y="25"/>
                </a:lnTo>
                <a:lnTo>
                  <a:pt x="35" y="25"/>
                </a:lnTo>
                <a:lnTo>
                  <a:pt x="37" y="27"/>
                </a:lnTo>
                <a:lnTo>
                  <a:pt x="39" y="27"/>
                </a:lnTo>
                <a:lnTo>
                  <a:pt x="41" y="29"/>
                </a:lnTo>
                <a:lnTo>
                  <a:pt x="44" y="29"/>
                </a:lnTo>
                <a:lnTo>
                  <a:pt x="46" y="31"/>
                </a:lnTo>
                <a:lnTo>
                  <a:pt x="47" y="32"/>
                </a:lnTo>
                <a:lnTo>
                  <a:pt x="48" y="32"/>
                </a:lnTo>
                <a:lnTo>
                  <a:pt x="50" y="34"/>
                </a:lnTo>
                <a:lnTo>
                  <a:pt x="51" y="34"/>
                </a:lnTo>
                <a:lnTo>
                  <a:pt x="53" y="36"/>
                </a:lnTo>
                <a:lnTo>
                  <a:pt x="55" y="36"/>
                </a:lnTo>
                <a:lnTo>
                  <a:pt x="56" y="38"/>
                </a:lnTo>
                <a:lnTo>
                  <a:pt x="58" y="39"/>
                </a:lnTo>
                <a:lnTo>
                  <a:pt x="59" y="39"/>
                </a:lnTo>
                <a:lnTo>
                  <a:pt x="61" y="41"/>
                </a:lnTo>
                <a:lnTo>
                  <a:pt x="62" y="41"/>
                </a:lnTo>
                <a:lnTo>
                  <a:pt x="63" y="43"/>
                </a:lnTo>
                <a:lnTo>
                  <a:pt x="64" y="43"/>
                </a:lnTo>
                <a:lnTo>
                  <a:pt x="65" y="45"/>
                </a:lnTo>
                <a:lnTo>
                  <a:pt x="66" y="46"/>
                </a:lnTo>
                <a:lnTo>
                  <a:pt x="67" y="46"/>
                </a:lnTo>
                <a:lnTo>
                  <a:pt x="68" y="48"/>
                </a:lnTo>
                <a:lnTo>
                  <a:pt x="69" y="48"/>
                </a:lnTo>
                <a:lnTo>
                  <a:pt x="70" y="50"/>
                </a:lnTo>
                <a:lnTo>
                  <a:pt x="71" y="51"/>
                </a:lnTo>
                <a:lnTo>
                  <a:pt x="73" y="53"/>
                </a:lnTo>
                <a:lnTo>
                  <a:pt x="74" y="54"/>
                </a:lnTo>
                <a:lnTo>
                  <a:pt x="75" y="56"/>
                </a:lnTo>
                <a:lnTo>
                  <a:pt x="76" y="58"/>
                </a:lnTo>
                <a:lnTo>
                  <a:pt x="77" y="59"/>
                </a:lnTo>
                <a:lnTo>
                  <a:pt x="77" y="60"/>
                </a:lnTo>
                <a:lnTo>
                  <a:pt x="77" y="61"/>
                </a:lnTo>
                <a:lnTo>
                  <a:pt x="77" y="62"/>
                </a:lnTo>
                <a:lnTo>
                  <a:pt x="78" y="62"/>
                </a:lnTo>
                <a:lnTo>
                  <a:pt x="78" y="63"/>
                </a:lnTo>
                <a:lnTo>
                  <a:pt x="78" y="64"/>
                </a:lnTo>
                <a:lnTo>
                  <a:pt x="78" y="65"/>
                </a:lnTo>
                <a:lnTo>
                  <a:pt x="79" y="65"/>
                </a:lnTo>
                <a:lnTo>
                  <a:pt x="79" y="66"/>
                </a:lnTo>
                <a:lnTo>
                  <a:pt x="79" y="67"/>
                </a:lnTo>
                <a:lnTo>
                  <a:pt x="79" y="68"/>
                </a:lnTo>
                <a:lnTo>
                  <a:pt x="79" y="69"/>
                </a:lnTo>
                <a:lnTo>
                  <a:pt x="79" y="70"/>
                </a:lnTo>
                <a:lnTo>
                  <a:pt x="79" y="71"/>
                </a:lnTo>
                <a:lnTo>
                  <a:pt x="79" y="73"/>
                </a:lnTo>
                <a:lnTo>
                  <a:pt x="79" y="75"/>
                </a:lnTo>
                <a:lnTo>
                  <a:pt x="79" y="76"/>
                </a:lnTo>
                <a:lnTo>
                  <a:pt x="79" y="77"/>
                </a:lnTo>
                <a:lnTo>
                  <a:pt x="79" y="78"/>
                </a:lnTo>
                <a:lnTo>
                  <a:pt x="79" y="79"/>
                </a:lnTo>
                <a:lnTo>
                  <a:pt x="78" y="82"/>
                </a:lnTo>
                <a:lnTo>
                  <a:pt x="78" y="83"/>
                </a:lnTo>
                <a:lnTo>
                  <a:pt x="77" y="86"/>
                </a:lnTo>
                <a:lnTo>
                  <a:pt x="77" y="87"/>
                </a:lnTo>
                <a:lnTo>
                  <a:pt x="76" y="91"/>
                </a:lnTo>
                <a:lnTo>
                  <a:pt x="76" y="92"/>
                </a:lnTo>
                <a:lnTo>
                  <a:pt x="75" y="95"/>
                </a:lnTo>
                <a:lnTo>
                  <a:pt x="75" y="96"/>
                </a:lnTo>
                <a:lnTo>
                  <a:pt x="74" y="97"/>
                </a:lnTo>
                <a:lnTo>
                  <a:pt x="73" y="100"/>
                </a:lnTo>
                <a:lnTo>
                  <a:pt x="71" y="101"/>
                </a:lnTo>
                <a:lnTo>
                  <a:pt x="77" y="103"/>
                </a:lnTo>
                <a:lnTo>
                  <a:pt x="80" y="104"/>
                </a:lnTo>
                <a:lnTo>
                  <a:pt x="81" y="104"/>
                </a:lnTo>
                <a:lnTo>
                  <a:pt x="82" y="101"/>
                </a:lnTo>
                <a:lnTo>
                  <a:pt x="82" y="100"/>
                </a:lnTo>
                <a:lnTo>
                  <a:pt x="83" y="99"/>
                </a:lnTo>
                <a:lnTo>
                  <a:pt x="84" y="96"/>
                </a:lnTo>
                <a:lnTo>
                  <a:pt x="84" y="95"/>
                </a:lnTo>
                <a:lnTo>
                  <a:pt x="85" y="94"/>
                </a:lnTo>
                <a:lnTo>
                  <a:pt x="85" y="92"/>
                </a:lnTo>
                <a:lnTo>
                  <a:pt x="85" y="91"/>
                </a:lnTo>
                <a:lnTo>
                  <a:pt x="86" y="90"/>
                </a:lnTo>
                <a:lnTo>
                  <a:pt x="86" y="87"/>
                </a:lnTo>
                <a:lnTo>
                  <a:pt x="86" y="86"/>
                </a:lnTo>
                <a:lnTo>
                  <a:pt x="88" y="85"/>
                </a:lnTo>
                <a:lnTo>
                  <a:pt x="88" y="83"/>
                </a:lnTo>
                <a:lnTo>
                  <a:pt x="88" y="82"/>
                </a:lnTo>
                <a:lnTo>
                  <a:pt x="89" y="81"/>
                </a:lnTo>
                <a:lnTo>
                  <a:pt x="89" y="78"/>
                </a:lnTo>
                <a:lnTo>
                  <a:pt x="89" y="77"/>
                </a:lnTo>
                <a:lnTo>
                  <a:pt x="89" y="76"/>
                </a:lnTo>
                <a:lnTo>
                  <a:pt x="89" y="74"/>
                </a:lnTo>
                <a:lnTo>
                  <a:pt x="89" y="73"/>
                </a:lnTo>
                <a:lnTo>
                  <a:pt x="89" y="71"/>
                </a:lnTo>
                <a:lnTo>
                  <a:pt x="89" y="69"/>
                </a:lnTo>
                <a:lnTo>
                  <a:pt x="89" y="68"/>
                </a:lnTo>
                <a:lnTo>
                  <a:pt x="89" y="67"/>
                </a:lnTo>
                <a:lnTo>
                  <a:pt x="88" y="65"/>
                </a:lnTo>
                <a:lnTo>
                  <a:pt x="88" y="64"/>
                </a:lnTo>
                <a:lnTo>
                  <a:pt x="88" y="63"/>
                </a:lnTo>
                <a:lnTo>
                  <a:pt x="86" y="61"/>
                </a:lnTo>
                <a:lnTo>
                  <a:pt x="86" y="60"/>
                </a:lnTo>
                <a:lnTo>
                  <a:pt x="86" y="59"/>
                </a:lnTo>
                <a:lnTo>
                  <a:pt x="85" y="57"/>
                </a:lnTo>
                <a:lnTo>
                  <a:pt x="85" y="56"/>
                </a:lnTo>
                <a:lnTo>
                  <a:pt x="83" y="54"/>
                </a:lnTo>
                <a:lnTo>
                  <a:pt x="83" y="52"/>
                </a:lnTo>
                <a:lnTo>
                  <a:pt x="82" y="50"/>
                </a:lnTo>
                <a:lnTo>
                  <a:pt x="82" y="49"/>
                </a:lnTo>
                <a:lnTo>
                  <a:pt x="80" y="48"/>
                </a:lnTo>
                <a:lnTo>
                  <a:pt x="79" y="47"/>
                </a:lnTo>
                <a:lnTo>
                  <a:pt x="79" y="46"/>
                </a:lnTo>
                <a:lnTo>
                  <a:pt x="77" y="44"/>
                </a:lnTo>
                <a:lnTo>
                  <a:pt x="77" y="43"/>
                </a:lnTo>
                <a:lnTo>
                  <a:pt x="75" y="42"/>
                </a:lnTo>
                <a:lnTo>
                  <a:pt x="74" y="41"/>
                </a:lnTo>
                <a:lnTo>
                  <a:pt x="74" y="40"/>
                </a:lnTo>
                <a:lnTo>
                  <a:pt x="71" y="38"/>
                </a:lnTo>
                <a:lnTo>
                  <a:pt x="71" y="37"/>
                </a:lnTo>
                <a:lnTo>
                  <a:pt x="69" y="36"/>
                </a:lnTo>
                <a:lnTo>
                  <a:pt x="68" y="35"/>
                </a:lnTo>
                <a:lnTo>
                  <a:pt x="68" y="34"/>
                </a:lnTo>
                <a:lnTo>
                  <a:pt x="65" y="33"/>
                </a:lnTo>
                <a:lnTo>
                  <a:pt x="64" y="32"/>
                </a:lnTo>
                <a:lnTo>
                  <a:pt x="62" y="31"/>
                </a:lnTo>
                <a:lnTo>
                  <a:pt x="61" y="30"/>
                </a:lnTo>
                <a:lnTo>
                  <a:pt x="61" y="29"/>
                </a:lnTo>
                <a:lnTo>
                  <a:pt x="58" y="28"/>
                </a:lnTo>
                <a:lnTo>
                  <a:pt x="56" y="27"/>
                </a:lnTo>
                <a:lnTo>
                  <a:pt x="54" y="26"/>
                </a:lnTo>
                <a:lnTo>
                  <a:pt x="53" y="25"/>
                </a:lnTo>
                <a:lnTo>
                  <a:pt x="53" y="24"/>
                </a:lnTo>
                <a:lnTo>
                  <a:pt x="50" y="23"/>
                </a:lnTo>
                <a:lnTo>
                  <a:pt x="49" y="22"/>
                </a:lnTo>
                <a:lnTo>
                  <a:pt x="46" y="21"/>
                </a:lnTo>
                <a:lnTo>
                  <a:pt x="45" y="20"/>
                </a:lnTo>
                <a:lnTo>
                  <a:pt x="45" y="19"/>
                </a:lnTo>
                <a:lnTo>
                  <a:pt x="41" y="17"/>
                </a:lnTo>
                <a:lnTo>
                  <a:pt x="40" y="16"/>
                </a:lnTo>
                <a:lnTo>
                  <a:pt x="37" y="15"/>
                </a:lnTo>
                <a:lnTo>
                  <a:pt x="36" y="14"/>
                </a:lnTo>
                <a:lnTo>
                  <a:pt x="32" y="13"/>
                </a:lnTo>
                <a:lnTo>
                  <a:pt x="31" y="12"/>
                </a:lnTo>
                <a:lnTo>
                  <a:pt x="31" y="11"/>
                </a:lnTo>
                <a:lnTo>
                  <a:pt x="28" y="10"/>
                </a:lnTo>
                <a:lnTo>
                  <a:pt x="26" y="9"/>
                </a:lnTo>
                <a:lnTo>
                  <a:pt x="25" y="9"/>
                </a:lnTo>
                <a:lnTo>
                  <a:pt x="22" y="8"/>
                </a:lnTo>
                <a:lnTo>
                  <a:pt x="21" y="8"/>
                </a:lnTo>
                <a:lnTo>
                  <a:pt x="21" y="7"/>
                </a:lnTo>
                <a:lnTo>
                  <a:pt x="18" y="6"/>
                </a:lnTo>
                <a:lnTo>
                  <a:pt x="17" y="5"/>
                </a:lnTo>
                <a:lnTo>
                  <a:pt x="17" y="4"/>
                </a:lnTo>
                <a:lnTo>
                  <a:pt x="16" y="4"/>
                </a:lnTo>
                <a:lnTo>
                  <a:pt x="12" y="3"/>
                </a:lnTo>
                <a:lnTo>
                  <a:pt x="11" y="3"/>
                </a:lnTo>
                <a:lnTo>
                  <a:pt x="11" y="2"/>
                </a:lnTo>
                <a:lnTo>
                  <a:pt x="8" y="1"/>
                </a:lnTo>
                <a:lnTo>
                  <a:pt x="7" y="0"/>
                </a:lnTo>
                <a:lnTo>
                  <a:pt x="8" y="3"/>
                </a:lnTo>
                <a:lnTo>
                  <a:pt x="9" y="4"/>
                </a:lnTo>
                <a:lnTo>
                  <a:pt x="8" y="4"/>
                </a:lnTo>
                <a:lnTo>
                  <a:pt x="7" y="4"/>
                </a:lnTo>
                <a:lnTo>
                  <a:pt x="3" y="4"/>
                </a:lnTo>
                <a:lnTo>
                  <a:pt x="0" y="4"/>
                </a:lnTo>
                <a:lnTo>
                  <a:pt x="0" y="5"/>
                </a:lnTo>
                <a:lnTo>
                  <a:pt x="0" y="6"/>
                </a:lnTo>
                <a:lnTo>
                  <a:pt x="1" y="7"/>
                </a:lnTo>
                <a:lnTo>
                  <a:pt x="2" y="7"/>
                </a:lnTo>
                <a:lnTo>
                  <a:pt x="0" y="4"/>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19" name="Freeform 18"/>
          <p:cNvSpPr/>
          <p:nvPr/>
        </p:nvSpPr>
        <p:spPr>
          <a:xfrm>
            <a:off x="4581360" y="3535200"/>
            <a:ext cx="59040" cy="87480"/>
          </a:xfrm>
          <a:custGeom>
            <a:avLst/>
            <a:gdLst>
              <a:gd name="textAreaLeft" fmla="*/ 0 w 59040"/>
              <a:gd name="textAreaRight" fmla="*/ 59400 w 59040"/>
              <a:gd name="textAreaTop" fmla="*/ 0 h 87480"/>
              <a:gd name="textAreaBottom" fmla="*/ 87840 h 87480"/>
            </a:gdLst>
            <a:ahLst/>
            <a:rect l="textAreaLeft" t="textAreaTop" r="textAreaRight" b="textAreaBottom"/>
            <a:pathLst>
              <a:path w="74" h="109">
                <a:moveTo>
                  <a:pt x="64" y="0"/>
                </a:moveTo>
                <a:lnTo>
                  <a:pt x="64" y="1"/>
                </a:lnTo>
                <a:lnTo>
                  <a:pt x="64" y="2"/>
                </a:lnTo>
                <a:lnTo>
                  <a:pt x="64" y="3"/>
                </a:lnTo>
                <a:lnTo>
                  <a:pt x="63" y="4"/>
                </a:lnTo>
                <a:lnTo>
                  <a:pt x="63" y="5"/>
                </a:lnTo>
                <a:lnTo>
                  <a:pt x="63" y="6"/>
                </a:lnTo>
                <a:lnTo>
                  <a:pt x="63" y="7"/>
                </a:lnTo>
                <a:lnTo>
                  <a:pt x="63" y="8"/>
                </a:lnTo>
                <a:lnTo>
                  <a:pt x="62" y="9"/>
                </a:lnTo>
                <a:lnTo>
                  <a:pt x="62" y="10"/>
                </a:lnTo>
                <a:lnTo>
                  <a:pt x="61" y="12"/>
                </a:lnTo>
                <a:lnTo>
                  <a:pt x="61" y="13"/>
                </a:lnTo>
                <a:lnTo>
                  <a:pt x="60" y="14"/>
                </a:lnTo>
                <a:lnTo>
                  <a:pt x="59" y="16"/>
                </a:lnTo>
                <a:lnTo>
                  <a:pt x="59" y="17"/>
                </a:lnTo>
                <a:lnTo>
                  <a:pt x="58" y="18"/>
                </a:lnTo>
                <a:lnTo>
                  <a:pt x="56" y="19"/>
                </a:lnTo>
                <a:lnTo>
                  <a:pt x="55" y="20"/>
                </a:lnTo>
                <a:lnTo>
                  <a:pt x="54" y="21"/>
                </a:lnTo>
                <a:lnTo>
                  <a:pt x="54" y="22"/>
                </a:lnTo>
                <a:lnTo>
                  <a:pt x="53" y="23"/>
                </a:lnTo>
                <a:lnTo>
                  <a:pt x="52" y="24"/>
                </a:lnTo>
                <a:lnTo>
                  <a:pt x="52" y="25"/>
                </a:lnTo>
                <a:lnTo>
                  <a:pt x="51" y="26"/>
                </a:lnTo>
                <a:lnTo>
                  <a:pt x="50" y="27"/>
                </a:lnTo>
                <a:lnTo>
                  <a:pt x="50" y="28"/>
                </a:lnTo>
                <a:lnTo>
                  <a:pt x="49" y="29"/>
                </a:lnTo>
                <a:lnTo>
                  <a:pt x="48" y="30"/>
                </a:lnTo>
                <a:lnTo>
                  <a:pt x="48" y="31"/>
                </a:lnTo>
                <a:lnTo>
                  <a:pt x="47" y="32"/>
                </a:lnTo>
                <a:lnTo>
                  <a:pt x="46" y="33"/>
                </a:lnTo>
                <a:lnTo>
                  <a:pt x="45" y="34"/>
                </a:lnTo>
                <a:lnTo>
                  <a:pt x="44" y="35"/>
                </a:lnTo>
                <a:lnTo>
                  <a:pt x="43" y="36"/>
                </a:lnTo>
                <a:lnTo>
                  <a:pt x="41" y="37"/>
                </a:lnTo>
                <a:lnTo>
                  <a:pt x="40" y="38"/>
                </a:lnTo>
                <a:lnTo>
                  <a:pt x="39" y="39"/>
                </a:lnTo>
                <a:lnTo>
                  <a:pt x="39" y="40"/>
                </a:lnTo>
                <a:lnTo>
                  <a:pt x="38" y="41"/>
                </a:lnTo>
                <a:lnTo>
                  <a:pt x="37" y="42"/>
                </a:lnTo>
                <a:lnTo>
                  <a:pt x="36" y="43"/>
                </a:lnTo>
                <a:lnTo>
                  <a:pt x="35" y="44"/>
                </a:lnTo>
                <a:lnTo>
                  <a:pt x="34" y="45"/>
                </a:lnTo>
                <a:lnTo>
                  <a:pt x="33" y="46"/>
                </a:lnTo>
                <a:lnTo>
                  <a:pt x="32" y="47"/>
                </a:lnTo>
                <a:lnTo>
                  <a:pt x="31" y="49"/>
                </a:lnTo>
                <a:lnTo>
                  <a:pt x="30" y="50"/>
                </a:lnTo>
                <a:lnTo>
                  <a:pt x="29" y="51"/>
                </a:lnTo>
                <a:lnTo>
                  <a:pt x="28" y="52"/>
                </a:lnTo>
                <a:lnTo>
                  <a:pt x="26" y="53"/>
                </a:lnTo>
                <a:lnTo>
                  <a:pt x="25" y="54"/>
                </a:lnTo>
                <a:lnTo>
                  <a:pt x="24" y="55"/>
                </a:lnTo>
                <a:lnTo>
                  <a:pt x="24" y="56"/>
                </a:lnTo>
                <a:lnTo>
                  <a:pt x="23" y="57"/>
                </a:lnTo>
                <a:lnTo>
                  <a:pt x="22" y="59"/>
                </a:lnTo>
                <a:lnTo>
                  <a:pt x="21" y="60"/>
                </a:lnTo>
                <a:lnTo>
                  <a:pt x="20" y="61"/>
                </a:lnTo>
                <a:lnTo>
                  <a:pt x="19" y="62"/>
                </a:lnTo>
                <a:lnTo>
                  <a:pt x="18" y="63"/>
                </a:lnTo>
                <a:lnTo>
                  <a:pt x="17" y="64"/>
                </a:lnTo>
                <a:lnTo>
                  <a:pt x="16" y="66"/>
                </a:lnTo>
                <a:lnTo>
                  <a:pt x="16" y="67"/>
                </a:lnTo>
                <a:lnTo>
                  <a:pt x="15" y="68"/>
                </a:lnTo>
                <a:lnTo>
                  <a:pt x="14" y="70"/>
                </a:lnTo>
                <a:lnTo>
                  <a:pt x="12" y="71"/>
                </a:lnTo>
                <a:lnTo>
                  <a:pt x="11" y="72"/>
                </a:lnTo>
                <a:lnTo>
                  <a:pt x="10" y="74"/>
                </a:lnTo>
                <a:lnTo>
                  <a:pt x="10" y="75"/>
                </a:lnTo>
                <a:lnTo>
                  <a:pt x="9" y="76"/>
                </a:lnTo>
                <a:lnTo>
                  <a:pt x="8" y="78"/>
                </a:lnTo>
                <a:lnTo>
                  <a:pt x="8" y="79"/>
                </a:lnTo>
                <a:lnTo>
                  <a:pt x="7" y="80"/>
                </a:lnTo>
                <a:lnTo>
                  <a:pt x="6" y="82"/>
                </a:lnTo>
                <a:lnTo>
                  <a:pt x="6" y="83"/>
                </a:lnTo>
                <a:lnTo>
                  <a:pt x="5" y="84"/>
                </a:lnTo>
                <a:lnTo>
                  <a:pt x="4" y="86"/>
                </a:lnTo>
                <a:lnTo>
                  <a:pt x="4" y="87"/>
                </a:lnTo>
                <a:lnTo>
                  <a:pt x="3" y="90"/>
                </a:lnTo>
                <a:lnTo>
                  <a:pt x="3" y="91"/>
                </a:lnTo>
                <a:lnTo>
                  <a:pt x="2" y="94"/>
                </a:lnTo>
                <a:lnTo>
                  <a:pt x="2" y="95"/>
                </a:lnTo>
                <a:lnTo>
                  <a:pt x="1" y="99"/>
                </a:lnTo>
                <a:lnTo>
                  <a:pt x="1" y="100"/>
                </a:lnTo>
                <a:lnTo>
                  <a:pt x="0" y="103"/>
                </a:lnTo>
                <a:lnTo>
                  <a:pt x="0" y="104"/>
                </a:lnTo>
                <a:lnTo>
                  <a:pt x="0" y="105"/>
                </a:lnTo>
                <a:lnTo>
                  <a:pt x="0" y="108"/>
                </a:lnTo>
                <a:lnTo>
                  <a:pt x="0" y="109"/>
                </a:lnTo>
                <a:lnTo>
                  <a:pt x="1" y="109"/>
                </a:lnTo>
                <a:lnTo>
                  <a:pt x="5" y="109"/>
                </a:lnTo>
                <a:lnTo>
                  <a:pt x="8" y="109"/>
                </a:lnTo>
                <a:lnTo>
                  <a:pt x="9" y="109"/>
                </a:lnTo>
                <a:lnTo>
                  <a:pt x="9" y="107"/>
                </a:lnTo>
                <a:lnTo>
                  <a:pt x="9" y="106"/>
                </a:lnTo>
                <a:lnTo>
                  <a:pt x="9" y="105"/>
                </a:lnTo>
                <a:lnTo>
                  <a:pt x="9" y="103"/>
                </a:lnTo>
                <a:lnTo>
                  <a:pt x="9" y="102"/>
                </a:lnTo>
                <a:lnTo>
                  <a:pt x="10" y="101"/>
                </a:lnTo>
                <a:lnTo>
                  <a:pt x="10" y="99"/>
                </a:lnTo>
                <a:lnTo>
                  <a:pt x="10" y="98"/>
                </a:lnTo>
                <a:lnTo>
                  <a:pt x="10" y="97"/>
                </a:lnTo>
                <a:lnTo>
                  <a:pt x="10" y="96"/>
                </a:lnTo>
                <a:lnTo>
                  <a:pt x="10" y="95"/>
                </a:lnTo>
                <a:lnTo>
                  <a:pt x="11" y="94"/>
                </a:lnTo>
                <a:lnTo>
                  <a:pt x="12" y="92"/>
                </a:lnTo>
                <a:lnTo>
                  <a:pt x="14" y="90"/>
                </a:lnTo>
                <a:lnTo>
                  <a:pt x="14" y="89"/>
                </a:lnTo>
                <a:lnTo>
                  <a:pt x="14" y="88"/>
                </a:lnTo>
                <a:lnTo>
                  <a:pt x="15" y="87"/>
                </a:lnTo>
                <a:lnTo>
                  <a:pt x="16" y="85"/>
                </a:lnTo>
                <a:lnTo>
                  <a:pt x="17" y="83"/>
                </a:lnTo>
                <a:lnTo>
                  <a:pt x="18" y="82"/>
                </a:lnTo>
                <a:lnTo>
                  <a:pt x="19" y="80"/>
                </a:lnTo>
                <a:lnTo>
                  <a:pt x="20" y="78"/>
                </a:lnTo>
                <a:lnTo>
                  <a:pt x="21" y="76"/>
                </a:lnTo>
                <a:lnTo>
                  <a:pt x="22" y="75"/>
                </a:lnTo>
                <a:lnTo>
                  <a:pt x="23" y="73"/>
                </a:lnTo>
                <a:lnTo>
                  <a:pt x="24" y="71"/>
                </a:lnTo>
                <a:lnTo>
                  <a:pt x="25" y="70"/>
                </a:lnTo>
                <a:lnTo>
                  <a:pt x="26" y="68"/>
                </a:lnTo>
                <a:lnTo>
                  <a:pt x="28" y="67"/>
                </a:lnTo>
                <a:lnTo>
                  <a:pt x="29" y="65"/>
                </a:lnTo>
                <a:lnTo>
                  <a:pt x="30" y="64"/>
                </a:lnTo>
                <a:lnTo>
                  <a:pt x="31" y="63"/>
                </a:lnTo>
                <a:lnTo>
                  <a:pt x="32" y="62"/>
                </a:lnTo>
                <a:lnTo>
                  <a:pt x="33" y="61"/>
                </a:lnTo>
                <a:lnTo>
                  <a:pt x="34" y="59"/>
                </a:lnTo>
                <a:lnTo>
                  <a:pt x="35" y="57"/>
                </a:lnTo>
                <a:lnTo>
                  <a:pt x="36" y="56"/>
                </a:lnTo>
                <a:lnTo>
                  <a:pt x="37" y="55"/>
                </a:lnTo>
                <a:lnTo>
                  <a:pt x="38" y="54"/>
                </a:lnTo>
                <a:lnTo>
                  <a:pt x="39" y="53"/>
                </a:lnTo>
                <a:lnTo>
                  <a:pt x="40" y="52"/>
                </a:lnTo>
                <a:lnTo>
                  <a:pt x="41" y="51"/>
                </a:lnTo>
                <a:lnTo>
                  <a:pt x="43" y="50"/>
                </a:lnTo>
                <a:lnTo>
                  <a:pt x="44" y="49"/>
                </a:lnTo>
                <a:lnTo>
                  <a:pt x="45" y="48"/>
                </a:lnTo>
                <a:lnTo>
                  <a:pt x="46" y="46"/>
                </a:lnTo>
                <a:lnTo>
                  <a:pt x="47" y="45"/>
                </a:lnTo>
                <a:lnTo>
                  <a:pt x="48" y="44"/>
                </a:lnTo>
                <a:lnTo>
                  <a:pt x="49" y="43"/>
                </a:lnTo>
                <a:lnTo>
                  <a:pt x="50" y="42"/>
                </a:lnTo>
                <a:lnTo>
                  <a:pt x="51" y="41"/>
                </a:lnTo>
                <a:lnTo>
                  <a:pt x="52" y="40"/>
                </a:lnTo>
                <a:lnTo>
                  <a:pt x="53" y="39"/>
                </a:lnTo>
                <a:lnTo>
                  <a:pt x="54" y="38"/>
                </a:lnTo>
                <a:lnTo>
                  <a:pt x="55" y="37"/>
                </a:lnTo>
                <a:lnTo>
                  <a:pt x="56" y="36"/>
                </a:lnTo>
                <a:lnTo>
                  <a:pt x="58" y="34"/>
                </a:lnTo>
                <a:lnTo>
                  <a:pt x="59" y="33"/>
                </a:lnTo>
                <a:lnTo>
                  <a:pt x="60" y="32"/>
                </a:lnTo>
                <a:lnTo>
                  <a:pt x="61" y="31"/>
                </a:lnTo>
                <a:lnTo>
                  <a:pt x="62" y="29"/>
                </a:lnTo>
                <a:lnTo>
                  <a:pt x="63" y="27"/>
                </a:lnTo>
                <a:lnTo>
                  <a:pt x="64" y="26"/>
                </a:lnTo>
                <a:lnTo>
                  <a:pt x="65" y="24"/>
                </a:lnTo>
                <a:lnTo>
                  <a:pt x="66" y="23"/>
                </a:lnTo>
                <a:lnTo>
                  <a:pt x="67" y="21"/>
                </a:lnTo>
                <a:lnTo>
                  <a:pt x="68" y="20"/>
                </a:lnTo>
                <a:lnTo>
                  <a:pt x="69" y="18"/>
                </a:lnTo>
                <a:lnTo>
                  <a:pt x="69" y="17"/>
                </a:lnTo>
                <a:lnTo>
                  <a:pt x="69" y="16"/>
                </a:lnTo>
                <a:lnTo>
                  <a:pt x="70" y="14"/>
                </a:lnTo>
                <a:lnTo>
                  <a:pt x="70" y="13"/>
                </a:lnTo>
                <a:lnTo>
                  <a:pt x="70" y="12"/>
                </a:lnTo>
                <a:lnTo>
                  <a:pt x="71" y="11"/>
                </a:lnTo>
                <a:lnTo>
                  <a:pt x="71" y="9"/>
                </a:lnTo>
                <a:lnTo>
                  <a:pt x="71" y="8"/>
                </a:lnTo>
                <a:lnTo>
                  <a:pt x="73" y="7"/>
                </a:lnTo>
                <a:lnTo>
                  <a:pt x="73" y="6"/>
                </a:lnTo>
                <a:lnTo>
                  <a:pt x="73" y="5"/>
                </a:lnTo>
                <a:lnTo>
                  <a:pt x="74" y="4"/>
                </a:lnTo>
                <a:lnTo>
                  <a:pt x="74" y="3"/>
                </a:lnTo>
                <a:lnTo>
                  <a:pt x="74" y="2"/>
                </a:lnTo>
                <a:lnTo>
                  <a:pt x="74" y="1"/>
                </a:lnTo>
                <a:lnTo>
                  <a:pt x="74" y="2"/>
                </a:lnTo>
                <a:lnTo>
                  <a:pt x="64" y="0"/>
                </a:lnTo>
                <a:close/>
              </a:path>
            </a:pathLst>
          </a:custGeom>
          <a:solidFill>
            <a:srgbClr val="1f1a17"/>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20" name="Freeform 19"/>
          <p:cNvSpPr/>
          <p:nvPr/>
        </p:nvSpPr>
        <p:spPr>
          <a:xfrm>
            <a:off x="4546440" y="3235320"/>
            <a:ext cx="100080" cy="301680"/>
          </a:xfrm>
          <a:custGeom>
            <a:avLst/>
            <a:gdLst>
              <a:gd name="textAreaLeft" fmla="*/ 0 w 100080"/>
              <a:gd name="textAreaRight" fmla="*/ 100440 w 100080"/>
              <a:gd name="textAreaTop" fmla="*/ 0 h 301680"/>
              <a:gd name="textAreaBottom" fmla="*/ 302040 h 301680"/>
            </a:gdLst>
            <a:ahLst/>
            <a:rect l="textAreaLeft" t="textAreaTop" r="textAreaRight" b="textAreaBottom"/>
            <a:pathLst>
              <a:path w="126" h="380">
                <a:moveTo>
                  <a:pt x="4" y="9"/>
                </a:moveTo>
                <a:lnTo>
                  <a:pt x="3" y="9"/>
                </a:lnTo>
                <a:lnTo>
                  <a:pt x="1" y="9"/>
                </a:lnTo>
                <a:lnTo>
                  <a:pt x="0" y="9"/>
                </a:lnTo>
                <a:lnTo>
                  <a:pt x="0" y="8"/>
                </a:lnTo>
                <a:lnTo>
                  <a:pt x="3" y="12"/>
                </a:lnTo>
                <a:lnTo>
                  <a:pt x="4" y="14"/>
                </a:lnTo>
                <a:lnTo>
                  <a:pt x="5" y="14"/>
                </a:lnTo>
                <a:lnTo>
                  <a:pt x="8" y="18"/>
                </a:lnTo>
                <a:lnTo>
                  <a:pt x="10" y="19"/>
                </a:lnTo>
                <a:lnTo>
                  <a:pt x="11" y="19"/>
                </a:lnTo>
                <a:lnTo>
                  <a:pt x="15" y="24"/>
                </a:lnTo>
                <a:lnTo>
                  <a:pt x="17" y="26"/>
                </a:lnTo>
                <a:lnTo>
                  <a:pt x="18" y="26"/>
                </a:lnTo>
                <a:lnTo>
                  <a:pt x="21" y="31"/>
                </a:lnTo>
                <a:lnTo>
                  <a:pt x="22" y="33"/>
                </a:lnTo>
                <a:lnTo>
                  <a:pt x="23" y="33"/>
                </a:lnTo>
                <a:lnTo>
                  <a:pt x="26" y="39"/>
                </a:lnTo>
                <a:lnTo>
                  <a:pt x="29" y="42"/>
                </a:lnTo>
                <a:lnTo>
                  <a:pt x="30" y="42"/>
                </a:lnTo>
                <a:lnTo>
                  <a:pt x="33" y="48"/>
                </a:lnTo>
                <a:lnTo>
                  <a:pt x="35" y="51"/>
                </a:lnTo>
                <a:lnTo>
                  <a:pt x="36" y="51"/>
                </a:lnTo>
                <a:lnTo>
                  <a:pt x="39" y="58"/>
                </a:lnTo>
                <a:lnTo>
                  <a:pt x="41" y="61"/>
                </a:lnTo>
                <a:lnTo>
                  <a:pt x="42" y="61"/>
                </a:lnTo>
                <a:lnTo>
                  <a:pt x="46" y="69"/>
                </a:lnTo>
                <a:lnTo>
                  <a:pt x="47" y="73"/>
                </a:lnTo>
                <a:lnTo>
                  <a:pt x="48" y="73"/>
                </a:lnTo>
                <a:lnTo>
                  <a:pt x="51" y="80"/>
                </a:lnTo>
                <a:lnTo>
                  <a:pt x="53" y="84"/>
                </a:lnTo>
                <a:lnTo>
                  <a:pt x="54" y="84"/>
                </a:lnTo>
                <a:lnTo>
                  <a:pt x="57" y="92"/>
                </a:lnTo>
                <a:lnTo>
                  <a:pt x="59" y="96"/>
                </a:lnTo>
                <a:lnTo>
                  <a:pt x="60" y="96"/>
                </a:lnTo>
                <a:lnTo>
                  <a:pt x="63" y="104"/>
                </a:lnTo>
                <a:lnTo>
                  <a:pt x="64" y="108"/>
                </a:lnTo>
                <a:lnTo>
                  <a:pt x="65" y="108"/>
                </a:lnTo>
                <a:lnTo>
                  <a:pt x="65" y="109"/>
                </a:lnTo>
                <a:lnTo>
                  <a:pt x="65" y="111"/>
                </a:lnTo>
                <a:lnTo>
                  <a:pt x="68" y="117"/>
                </a:lnTo>
                <a:lnTo>
                  <a:pt x="69" y="121"/>
                </a:lnTo>
                <a:lnTo>
                  <a:pt x="70" y="121"/>
                </a:lnTo>
                <a:lnTo>
                  <a:pt x="70" y="123"/>
                </a:lnTo>
                <a:lnTo>
                  <a:pt x="70" y="125"/>
                </a:lnTo>
                <a:lnTo>
                  <a:pt x="74" y="131"/>
                </a:lnTo>
                <a:lnTo>
                  <a:pt x="75" y="135"/>
                </a:lnTo>
                <a:lnTo>
                  <a:pt x="76" y="135"/>
                </a:lnTo>
                <a:lnTo>
                  <a:pt x="76" y="136"/>
                </a:lnTo>
                <a:lnTo>
                  <a:pt x="76" y="138"/>
                </a:lnTo>
                <a:lnTo>
                  <a:pt x="79" y="144"/>
                </a:lnTo>
                <a:lnTo>
                  <a:pt x="80" y="148"/>
                </a:lnTo>
                <a:lnTo>
                  <a:pt x="81" y="148"/>
                </a:lnTo>
                <a:lnTo>
                  <a:pt x="81" y="149"/>
                </a:lnTo>
                <a:lnTo>
                  <a:pt x="81" y="151"/>
                </a:lnTo>
                <a:lnTo>
                  <a:pt x="83" y="157"/>
                </a:lnTo>
                <a:lnTo>
                  <a:pt x="84" y="162"/>
                </a:lnTo>
                <a:lnTo>
                  <a:pt x="85" y="162"/>
                </a:lnTo>
                <a:lnTo>
                  <a:pt x="85" y="163"/>
                </a:lnTo>
                <a:lnTo>
                  <a:pt x="85" y="165"/>
                </a:lnTo>
                <a:lnTo>
                  <a:pt x="89" y="171"/>
                </a:lnTo>
                <a:lnTo>
                  <a:pt x="90" y="177"/>
                </a:lnTo>
                <a:lnTo>
                  <a:pt x="91" y="177"/>
                </a:lnTo>
                <a:lnTo>
                  <a:pt x="91" y="178"/>
                </a:lnTo>
                <a:lnTo>
                  <a:pt x="91" y="180"/>
                </a:lnTo>
                <a:lnTo>
                  <a:pt x="93" y="186"/>
                </a:lnTo>
                <a:lnTo>
                  <a:pt x="94" y="190"/>
                </a:lnTo>
                <a:lnTo>
                  <a:pt x="95" y="190"/>
                </a:lnTo>
                <a:lnTo>
                  <a:pt x="95" y="191"/>
                </a:lnTo>
                <a:lnTo>
                  <a:pt x="95" y="193"/>
                </a:lnTo>
                <a:lnTo>
                  <a:pt x="96" y="200"/>
                </a:lnTo>
                <a:lnTo>
                  <a:pt x="97" y="205"/>
                </a:lnTo>
                <a:lnTo>
                  <a:pt x="98" y="205"/>
                </a:lnTo>
                <a:lnTo>
                  <a:pt x="98" y="206"/>
                </a:lnTo>
                <a:lnTo>
                  <a:pt x="98" y="208"/>
                </a:lnTo>
                <a:lnTo>
                  <a:pt x="100" y="214"/>
                </a:lnTo>
                <a:lnTo>
                  <a:pt x="101" y="219"/>
                </a:lnTo>
                <a:lnTo>
                  <a:pt x="103" y="219"/>
                </a:lnTo>
                <a:lnTo>
                  <a:pt x="103" y="220"/>
                </a:lnTo>
                <a:lnTo>
                  <a:pt x="103" y="222"/>
                </a:lnTo>
                <a:lnTo>
                  <a:pt x="104" y="228"/>
                </a:lnTo>
                <a:lnTo>
                  <a:pt x="105" y="234"/>
                </a:lnTo>
                <a:lnTo>
                  <a:pt x="106" y="234"/>
                </a:lnTo>
                <a:lnTo>
                  <a:pt x="106" y="235"/>
                </a:lnTo>
                <a:lnTo>
                  <a:pt x="106" y="237"/>
                </a:lnTo>
                <a:lnTo>
                  <a:pt x="107" y="243"/>
                </a:lnTo>
                <a:lnTo>
                  <a:pt x="107" y="248"/>
                </a:lnTo>
                <a:lnTo>
                  <a:pt x="108" y="248"/>
                </a:lnTo>
                <a:lnTo>
                  <a:pt x="108" y="249"/>
                </a:lnTo>
                <a:lnTo>
                  <a:pt x="108" y="251"/>
                </a:lnTo>
                <a:lnTo>
                  <a:pt x="109" y="257"/>
                </a:lnTo>
                <a:lnTo>
                  <a:pt x="110" y="261"/>
                </a:lnTo>
                <a:lnTo>
                  <a:pt x="111" y="261"/>
                </a:lnTo>
                <a:lnTo>
                  <a:pt x="111" y="262"/>
                </a:lnTo>
                <a:lnTo>
                  <a:pt x="111" y="264"/>
                </a:lnTo>
                <a:lnTo>
                  <a:pt x="112" y="270"/>
                </a:lnTo>
                <a:lnTo>
                  <a:pt x="112" y="275"/>
                </a:lnTo>
                <a:lnTo>
                  <a:pt x="113" y="275"/>
                </a:lnTo>
                <a:lnTo>
                  <a:pt x="113" y="276"/>
                </a:lnTo>
                <a:lnTo>
                  <a:pt x="113" y="278"/>
                </a:lnTo>
                <a:lnTo>
                  <a:pt x="113" y="285"/>
                </a:lnTo>
                <a:lnTo>
                  <a:pt x="113" y="289"/>
                </a:lnTo>
                <a:lnTo>
                  <a:pt x="114" y="289"/>
                </a:lnTo>
                <a:lnTo>
                  <a:pt x="114" y="290"/>
                </a:lnTo>
                <a:lnTo>
                  <a:pt x="114" y="292"/>
                </a:lnTo>
                <a:lnTo>
                  <a:pt x="114" y="298"/>
                </a:lnTo>
                <a:lnTo>
                  <a:pt x="114" y="302"/>
                </a:lnTo>
                <a:lnTo>
                  <a:pt x="115" y="302"/>
                </a:lnTo>
                <a:lnTo>
                  <a:pt x="115" y="303"/>
                </a:lnTo>
                <a:lnTo>
                  <a:pt x="115" y="304"/>
                </a:lnTo>
                <a:lnTo>
                  <a:pt x="115" y="310"/>
                </a:lnTo>
                <a:lnTo>
                  <a:pt x="115" y="314"/>
                </a:lnTo>
                <a:lnTo>
                  <a:pt x="116" y="314"/>
                </a:lnTo>
                <a:lnTo>
                  <a:pt x="116" y="315"/>
                </a:lnTo>
                <a:lnTo>
                  <a:pt x="116" y="316"/>
                </a:lnTo>
                <a:lnTo>
                  <a:pt x="116" y="322"/>
                </a:lnTo>
                <a:lnTo>
                  <a:pt x="116" y="326"/>
                </a:lnTo>
                <a:lnTo>
                  <a:pt x="116" y="327"/>
                </a:lnTo>
                <a:lnTo>
                  <a:pt x="116" y="328"/>
                </a:lnTo>
                <a:lnTo>
                  <a:pt x="116" y="334"/>
                </a:lnTo>
                <a:lnTo>
                  <a:pt x="116" y="338"/>
                </a:lnTo>
                <a:lnTo>
                  <a:pt x="115" y="341"/>
                </a:lnTo>
                <a:lnTo>
                  <a:pt x="115" y="346"/>
                </a:lnTo>
                <a:lnTo>
                  <a:pt x="115" y="350"/>
                </a:lnTo>
                <a:lnTo>
                  <a:pt x="114" y="352"/>
                </a:lnTo>
                <a:lnTo>
                  <a:pt x="114" y="357"/>
                </a:lnTo>
                <a:lnTo>
                  <a:pt x="114" y="360"/>
                </a:lnTo>
                <a:lnTo>
                  <a:pt x="113" y="362"/>
                </a:lnTo>
                <a:lnTo>
                  <a:pt x="112" y="366"/>
                </a:lnTo>
                <a:lnTo>
                  <a:pt x="112" y="369"/>
                </a:lnTo>
                <a:lnTo>
                  <a:pt x="111" y="371"/>
                </a:lnTo>
                <a:lnTo>
                  <a:pt x="110" y="375"/>
                </a:lnTo>
                <a:lnTo>
                  <a:pt x="109" y="378"/>
                </a:lnTo>
                <a:lnTo>
                  <a:pt x="114" y="380"/>
                </a:lnTo>
                <a:lnTo>
                  <a:pt x="118" y="380"/>
                </a:lnTo>
                <a:lnTo>
                  <a:pt x="119" y="380"/>
                </a:lnTo>
                <a:lnTo>
                  <a:pt x="119" y="379"/>
                </a:lnTo>
                <a:lnTo>
                  <a:pt x="120" y="376"/>
                </a:lnTo>
                <a:lnTo>
                  <a:pt x="120" y="373"/>
                </a:lnTo>
                <a:lnTo>
                  <a:pt x="121" y="372"/>
                </a:lnTo>
                <a:lnTo>
                  <a:pt x="121" y="371"/>
                </a:lnTo>
                <a:lnTo>
                  <a:pt x="122" y="366"/>
                </a:lnTo>
                <a:lnTo>
                  <a:pt x="122" y="362"/>
                </a:lnTo>
                <a:lnTo>
                  <a:pt x="123" y="361"/>
                </a:lnTo>
                <a:lnTo>
                  <a:pt x="123" y="360"/>
                </a:lnTo>
                <a:lnTo>
                  <a:pt x="124" y="355"/>
                </a:lnTo>
                <a:lnTo>
                  <a:pt x="124" y="352"/>
                </a:lnTo>
                <a:lnTo>
                  <a:pt x="125" y="351"/>
                </a:lnTo>
                <a:lnTo>
                  <a:pt x="125" y="350"/>
                </a:lnTo>
                <a:lnTo>
                  <a:pt x="125" y="344"/>
                </a:lnTo>
                <a:lnTo>
                  <a:pt x="125" y="340"/>
                </a:lnTo>
                <a:lnTo>
                  <a:pt x="126" y="338"/>
                </a:lnTo>
                <a:lnTo>
                  <a:pt x="126" y="337"/>
                </a:lnTo>
                <a:lnTo>
                  <a:pt x="126" y="332"/>
                </a:lnTo>
                <a:lnTo>
                  <a:pt x="126" y="328"/>
                </a:lnTo>
                <a:lnTo>
                  <a:pt x="126" y="327"/>
                </a:lnTo>
                <a:lnTo>
                  <a:pt x="126" y="325"/>
                </a:lnTo>
                <a:lnTo>
                  <a:pt x="126" y="319"/>
                </a:lnTo>
                <a:lnTo>
                  <a:pt x="126" y="315"/>
                </a:lnTo>
                <a:lnTo>
                  <a:pt x="126" y="314"/>
                </a:lnTo>
                <a:lnTo>
                  <a:pt x="125" y="312"/>
                </a:lnTo>
                <a:lnTo>
                  <a:pt x="125" y="306"/>
                </a:lnTo>
                <a:lnTo>
                  <a:pt x="125" y="302"/>
                </a:lnTo>
                <a:lnTo>
                  <a:pt x="125" y="301"/>
                </a:lnTo>
                <a:lnTo>
                  <a:pt x="124" y="299"/>
                </a:lnTo>
                <a:lnTo>
                  <a:pt x="124" y="293"/>
                </a:lnTo>
                <a:lnTo>
                  <a:pt x="124" y="289"/>
                </a:lnTo>
                <a:lnTo>
                  <a:pt x="124" y="288"/>
                </a:lnTo>
                <a:lnTo>
                  <a:pt x="123" y="286"/>
                </a:lnTo>
                <a:lnTo>
                  <a:pt x="123" y="279"/>
                </a:lnTo>
                <a:lnTo>
                  <a:pt x="123" y="275"/>
                </a:lnTo>
                <a:lnTo>
                  <a:pt x="123" y="274"/>
                </a:lnTo>
                <a:lnTo>
                  <a:pt x="122" y="272"/>
                </a:lnTo>
                <a:lnTo>
                  <a:pt x="121" y="266"/>
                </a:lnTo>
                <a:lnTo>
                  <a:pt x="121" y="261"/>
                </a:lnTo>
                <a:lnTo>
                  <a:pt x="121" y="260"/>
                </a:lnTo>
                <a:lnTo>
                  <a:pt x="120" y="258"/>
                </a:lnTo>
                <a:lnTo>
                  <a:pt x="119" y="252"/>
                </a:lnTo>
                <a:lnTo>
                  <a:pt x="118" y="247"/>
                </a:lnTo>
                <a:lnTo>
                  <a:pt x="118" y="246"/>
                </a:lnTo>
                <a:lnTo>
                  <a:pt x="116" y="244"/>
                </a:lnTo>
                <a:lnTo>
                  <a:pt x="115" y="238"/>
                </a:lnTo>
                <a:lnTo>
                  <a:pt x="115" y="233"/>
                </a:lnTo>
                <a:lnTo>
                  <a:pt x="115" y="232"/>
                </a:lnTo>
                <a:lnTo>
                  <a:pt x="114" y="229"/>
                </a:lnTo>
                <a:lnTo>
                  <a:pt x="112" y="223"/>
                </a:lnTo>
                <a:lnTo>
                  <a:pt x="111" y="218"/>
                </a:lnTo>
                <a:lnTo>
                  <a:pt x="111" y="217"/>
                </a:lnTo>
                <a:lnTo>
                  <a:pt x="110" y="215"/>
                </a:lnTo>
                <a:lnTo>
                  <a:pt x="109" y="208"/>
                </a:lnTo>
                <a:lnTo>
                  <a:pt x="108" y="203"/>
                </a:lnTo>
                <a:lnTo>
                  <a:pt x="108" y="202"/>
                </a:lnTo>
                <a:lnTo>
                  <a:pt x="107" y="200"/>
                </a:lnTo>
                <a:lnTo>
                  <a:pt x="105" y="194"/>
                </a:lnTo>
                <a:lnTo>
                  <a:pt x="104" y="189"/>
                </a:lnTo>
                <a:lnTo>
                  <a:pt x="104" y="188"/>
                </a:lnTo>
                <a:lnTo>
                  <a:pt x="103" y="186"/>
                </a:lnTo>
                <a:lnTo>
                  <a:pt x="100" y="180"/>
                </a:lnTo>
                <a:lnTo>
                  <a:pt x="99" y="174"/>
                </a:lnTo>
                <a:lnTo>
                  <a:pt x="99" y="173"/>
                </a:lnTo>
                <a:lnTo>
                  <a:pt x="98" y="171"/>
                </a:lnTo>
                <a:lnTo>
                  <a:pt x="96" y="165"/>
                </a:lnTo>
                <a:lnTo>
                  <a:pt x="95" y="160"/>
                </a:lnTo>
                <a:lnTo>
                  <a:pt x="95" y="159"/>
                </a:lnTo>
                <a:lnTo>
                  <a:pt x="94" y="157"/>
                </a:lnTo>
                <a:lnTo>
                  <a:pt x="91" y="151"/>
                </a:lnTo>
                <a:lnTo>
                  <a:pt x="90" y="146"/>
                </a:lnTo>
                <a:lnTo>
                  <a:pt x="90" y="145"/>
                </a:lnTo>
                <a:lnTo>
                  <a:pt x="89" y="143"/>
                </a:lnTo>
                <a:lnTo>
                  <a:pt x="86" y="137"/>
                </a:lnTo>
                <a:lnTo>
                  <a:pt x="85" y="133"/>
                </a:lnTo>
                <a:lnTo>
                  <a:pt x="85" y="132"/>
                </a:lnTo>
                <a:lnTo>
                  <a:pt x="84" y="130"/>
                </a:lnTo>
                <a:lnTo>
                  <a:pt x="81" y="124"/>
                </a:lnTo>
                <a:lnTo>
                  <a:pt x="80" y="118"/>
                </a:lnTo>
                <a:lnTo>
                  <a:pt x="80" y="117"/>
                </a:lnTo>
                <a:lnTo>
                  <a:pt x="79" y="115"/>
                </a:lnTo>
                <a:lnTo>
                  <a:pt x="76" y="109"/>
                </a:lnTo>
                <a:lnTo>
                  <a:pt x="75" y="105"/>
                </a:lnTo>
                <a:lnTo>
                  <a:pt x="75" y="104"/>
                </a:lnTo>
                <a:lnTo>
                  <a:pt x="74" y="103"/>
                </a:lnTo>
                <a:lnTo>
                  <a:pt x="70" y="97"/>
                </a:lnTo>
                <a:lnTo>
                  <a:pt x="68" y="93"/>
                </a:lnTo>
                <a:lnTo>
                  <a:pt x="68" y="92"/>
                </a:lnTo>
                <a:lnTo>
                  <a:pt x="67" y="91"/>
                </a:lnTo>
                <a:lnTo>
                  <a:pt x="64" y="85"/>
                </a:lnTo>
                <a:lnTo>
                  <a:pt x="63" y="81"/>
                </a:lnTo>
                <a:lnTo>
                  <a:pt x="63" y="80"/>
                </a:lnTo>
                <a:lnTo>
                  <a:pt x="62" y="79"/>
                </a:lnTo>
                <a:lnTo>
                  <a:pt x="59" y="73"/>
                </a:lnTo>
                <a:lnTo>
                  <a:pt x="56" y="69"/>
                </a:lnTo>
                <a:lnTo>
                  <a:pt x="56" y="67"/>
                </a:lnTo>
                <a:lnTo>
                  <a:pt x="55" y="66"/>
                </a:lnTo>
                <a:lnTo>
                  <a:pt x="52" y="61"/>
                </a:lnTo>
                <a:lnTo>
                  <a:pt x="50" y="58"/>
                </a:lnTo>
                <a:lnTo>
                  <a:pt x="50" y="57"/>
                </a:lnTo>
                <a:lnTo>
                  <a:pt x="49" y="56"/>
                </a:lnTo>
                <a:lnTo>
                  <a:pt x="46" y="51"/>
                </a:lnTo>
                <a:lnTo>
                  <a:pt x="45" y="47"/>
                </a:lnTo>
                <a:lnTo>
                  <a:pt x="45" y="46"/>
                </a:lnTo>
                <a:lnTo>
                  <a:pt x="44" y="45"/>
                </a:lnTo>
                <a:lnTo>
                  <a:pt x="40" y="41"/>
                </a:lnTo>
                <a:lnTo>
                  <a:pt x="38" y="38"/>
                </a:lnTo>
                <a:lnTo>
                  <a:pt x="38" y="37"/>
                </a:lnTo>
                <a:lnTo>
                  <a:pt x="37" y="36"/>
                </a:lnTo>
                <a:lnTo>
                  <a:pt x="34" y="32"/>
                </a:lnTo>
                <a:lnTo>
                  <a:pt x="32" y="29"/>
                </a:lnTo>
                <a:lnTo>
                  <a:pt x="32" y="28"/>
                </a:lnTo>
                <a:lnTo>
                  <a:pt x="31" y="27"/>
                </a:lnTo>
                <a:lnTo>
                  <a:pt x="27" y="24"/>
                </a:lnTo>
                <a:lnTo>
                  <a:pt x="25" y="21"/>
                </a:lnTo>
                <a:lnTo>
                  <a:pt x="25" y="20"/>
                </a:lnTo>
                <a:lnTo>
                  <a:pt x="24" y="19"/>
                </a:lnTo>
                <a:lnTo>
                  <a:pt x="21" y="16"/>
                </a:lnTo>
                <a:lnTo>
                  <a:pt x="19" y="14"/>
                </a:lnTo>
                <a:lnTo>
                  <a:pt x="19" y="12"/>
                </a:lnTo>
                <a:lnTo>
                  <a:pt x="14" y="9"/>
                </a:lnTo>
                <a:lnTo>
                  <a:pt x="11" y="7"/>
                </a:lnTo>
                <a:lnTo>
                  <a:pt x="11" y="6"/>
                </a:lnTo>
                <a:lnTo>
                  <a:pt x="7" y="3"/>
                </a:lnTo>
                <a:lnTo>
                  <a:pt x="5" y="2"/>
                </a:lnTo>
                <a:lnTo>
                  <a:pt x="5" y="1"/>
                </a:lnTo>
                <a:lnTo>
                  <a:pt x="4" y="1"/>
                </a:lnTo>
                <a:lnTo>
                  <a:pt x="2" y="1"/>
                </a:lnTo>
                <a:lnTo>
                  <a:pt x="1" y="1"/>
                </a:lnTo>
                <a:lnTo>
                  <a:pt x="1" y="0"/>
                </a:lnTo>
                <a:lnTo>
                  <a:pt x="3" y="1"/>
                </a:lnTo>
                <a:lnTo>
                  <a:pt x="4" y="1"/>
                </a:lnTo>
                <a:lnTo>
                  <a:pt x="5" y="1"/>
                </a:lnTo>
                <a:lnTo>
                  <a:pt x="3" y="0"/>
                </a:lnTo>
                <a:lnTo>
                  <a:pt x="2" y="0"/>
                </a:lnTo>
                <a:lnTo>
                  <a:pt x="1" y="0"/>
                </a:lnTo>
                <a:lnTo>
                  <a:pt x="4" y="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20"/>
          <p:cNvSpPr/>
          <p:nvPr/>
        </p:nvSpPr>
        <p:spPr>
          <a:xfrm>
            <a:off x="4325760" y="3235320"/>
            <a:ext cx="223920" cy="73080"/>
          </a:xfrm>
          <a:custGeom>
            <a:avLst/>
            <a:gdLst>
              <a:gd name="textAreaLeft" fmla="*/ 0 w 223920"/>
              <a:gd name="textAreaRight" fmla="*/ 224280 w 223920"/>
              <a:gd name="textAreaTop" fmla="*/ 0 h 73080"/>
              <a:gd name="textAreaBottom" fmla="*/ 73440 h 73080"/>
            </a:gdLst>
            <a:ahLst/>
            <a:rect l="textAreaLeft" t="textAreaTop" r="textAreaRight" b="textAreaBottom"/>
            <a:pathLst>
              <a:path w="281" h="92">
                <a:moveTo>
                  <a:pt x="0" y="88"/>
                </a:moveTo>
                <a:lnTo>
                  <a:pt x="3" y="90"/>
                </a:lnTo>
                <a:lnTo>
                  <a:pt x="5" y="91"/>
                </a:lnTo>
                <a:lnTo>
                  <a:pt x="6" y="91"/>
                </a:lnTo>
                <a:lnTo>
                  <a:pt x="12" y="90"/>
                </a:lnTo>
                <a:lnTo>
                  <a:pt x="49" y="79"/>
                </a:lnTo>
                <a:lnTo>
                  <a:pt x="177" y="41"/>
                </a:lnTo>
                <a:lnTo>
                  <a:pt x="274" y="11"/>
                </a:lnTo>
                <a:lnTo>
                  <a:pt x="281" y="9"/>
                </a:lnTo>
                <a:lnTo>
                  <a:pt x="279" y="4"/>
                </a:lnTo>
                <a:lnTo>
                  <a:pt x="278" y="1"/>
                </a:lnTo>
                <a:lnTo>
                  <a:pt x="278" y="0"/>
                </a:lnTo>
                <a:lnTo>
                  <a:pt x="271" y="2"/>
                </a:lnTo>
                <a:lnTo>
                  <a:pt x="235" y="14"/>
                </a:lnTo>
                <a:lnTo>
                  <a:pt x="106" y="51"/>
                </a:lnTo>
                <a:lnTo>
                  <a:pt x="8" y="81"/>
                </a:lnTo>
                <a:lnTo>
                  <a:pt x="3" y="82"/>
                </a:lnTo>
                <a:lnTo>
                  <a:pt x="6" y="84"/>
                </a:lnTo>
                <a:lnTo>
                  <a:pt x="8" y="85"/>
                </a:lnTo>
                <a:lnTo>
                  <a:pt x="10" y="85"/>
                </a:lnTo>
                <a:lnTo>
                  <a:pt x="7" y="86"/>
                </a:lnTo>
                <a:lnTo>
                  <a:pt x="3" y="87"/>
                </a:lnTo>
                <a:lnTo>
                  <a:pt x="0" y="88"/>
                </a:lnTo>
                <a:lnTo>
                  <a:pt x="1" y="91"/>
                </a:lnTo>
                <a:lnTo>
                  <a:pt x="2" y="92"/>
                </a:lnTo>
                <a:lnTo>
                  <a:pt x="4" y="92"/>
                </a:lnTo>
                <a:lnTo>
                  <a:pt x="5" y="92"/>
                </a:lnTo>
                <a:lnTo>
                  <a:pt x="6" y="91"/>
                </a:lnTo>
                <a:lnTo>
                  <a:pt x="0" y="88"/>
                </a:lnTo>
                <a:close/>
              </a:path>
            </a:pathLst>
          </a:custGeom>
          <a:solidFill>
            <a:srgbClr val="1f1a17"/>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22" name="Freeform 21"/>
          <p:cNvSpPr/>
          <p:nvPr/>
        </p:nvSpPr>
        <p:spPr>
          <a:xfrm>
            <a:off x="4307040" y="3260880"/>
            <a:ext cx="27000" cy="44280"/>
          </a:xfrm>
          <a:custGeom>
            <a:avLst/>
            <a:gdLst>
              <a:gd name="textAreaLeft" fmla="*/ 0 w 27000"/>
              <a:gd name="textAreaRight" fmla="*/ 27360 w 27000"/>
              <a:gd name="textAreaTop" fmla="*/ 0 h 44280"/>
              <a:gd name="textAreaBottom" fmla="*/ 44640 h 44280"/>
            </a:gdLst>
            <a:ahLst/>
            <a:rect l="textAreaLeft" t="textAreaTop" r="textAreaRight" b="textAreaBottom"/>
            <a:pathLst>
              <a:path w="35" h="56">
                <a:moveTo>
                  <a:pt x="6" y="9"/>
                </a:moveTo>
                <a:lnTo>
                  <a:pt x="1" y="8"/>
                </a:lnTo>
                <a:lnTo>
                  <a:pt x="0" y="7"/>
                </a:lnTo>
                <a:lnTo>
                  <a:pt x="0" y="6"/>
                </a:lnTo>
                <a:lnTo>
                  <a:pt x="3" y="14"/>
                </a:lnTo>
                <a:lnTo>
                  <a:pt x="15" y="38"/>
                </a:lnTo>
                <a:lnTo>
                  <a:pt x="24" y="56"/>
                </a:lnTo>
                <a:lnTo>
                  <a:pt x="25" y="56"/>
                </a:lnTo>
                <a:lnTo>
                  <a:pt x="26" y="56"/>
                </a:lnTo>
                <a:lnTo>
                  <a:pt x="30" y="55"/>
                </a:lnTo>
                <a:lnTo>
                  <a:pt x="33" y="54"/>
                </a:lnTo>
                <a:lnTo>
                  <a:pt x="35" y="53"/>
                </a:lnTo>
                <a:lnTo>
                  <a:pt x="30" y="46"/>
                </a:lnTo>
                <a:lnTo>
                  <a:pt x="18" y="22"/>
                </a:lnTo>
                <a:lnTo>
                  <a:pt x="10" y="4"/>
                </a:lnTo>
                <a:lnTo>
                  <a:pt x="10" y="3"/>
                </a:lnTo>
                <a:lnTo>
                  <a:pt x="7" y="2"/>
                </a:lnTo>
                <a:lnTo>
                  <a:pt x="6" y="1"/>
                </a:lnTo>
                <a:lnTo>
                  <a:pt x="6" y="0"/>
                </a:lnTo>
                <a:lnTo>
                  <a:pt x="8" y="2"/>
                </a:lnTo>
                <a:lnTo>
                  <a:pt x="9" y="3"/>
                </a:lnTo>
                <a:lnTo>
                  <a:pt x="10" y="3"/>
                </a:lnTo>
                <a:lnTo>
                  <a:pt x="8" y="1"/>
                </a:lnTo>
                <a:lnTo>
                  <a:pt x="8" y="0"/>
                </a:lnTo>
                <a:lnTo>
                  <a:pt x="7" y="0"/>
                </a:lnTo>
                <a:lnTo>
                  <a:pt x="6" y="0"/>
                </a:lnTo>
                <a:lnTo>
                  <a:pt x="6" y="9"/>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23" name="Freeform 22"/>
          <p:cNvSpPr/>
          <p:nvPr/>
        </p:nvSpPr>
        <p:spPr>
          <a:xfrm>
            <a:off x="4060800" y="3260880"/>
            <a:ext cx="250920" cy="44280"/>
          </a:xfrm>
          <a:custGeom>
            <a:avLst/>
            <a:gdLst>
              <a:gd name="textAreaLeft" fmla="*/ 0 w 250920"/>
              <a:gd name="textAreaRight" fmla="*/ 250920 w 250920"/>
              <a:gd name="textAreaTop" fmla="*/ 0 h 44280"/>
              <a:gd name="textAreaBottom" fmla="*/ 44640 h 44280"/>
            </a:gdLst>
            <a:ahLst/>
            <a:rect l="textAreaLeft" t="textAreaTop" r="textAreaRight" b="textAreaBottom"/>
            <a:pathLst>
              <a:path w="316" h="57">
                <a:moveTo>
                  <a:pt x="0" y="57"/>
                </a:moveTo>
                <a:lnTo>
                  <a:pt x="1" y="57"/>
                </a:lnTo>
                <a:lnTo>
                  <a:pt x="2" y="57"/>
                </a:lnTo>
                <a:lnTo>
                  <a:pt x="4" y="57"/>
                </a:lnTo>
                <a:lnTo>
                  <a:pt x="8" y="56"/>
                </a:lnTo>
                <a:lnTo>
                  <a:pt x="10" y="55"/>
                </a:lnTo>
                <a:lnTo>
                  <a:pt x="11" y="54"/>
                </a:lnTo>
                <a:lnTo>
                  <a:pt x="12" y="54"/>
                </a:lnTo>
                <a:lnTo>
                  <a:pt x="15" y="53"/>
                </a:lnTo>
                <a:lnTo>
                  <a:pt x="19" y="52"/>
                </a:lnTo>
                <a:lnTo>
                  <a:pt x="20" y="51"/>
                </a:lnTo>
                <a:lnTo>
                  <a:pt x="24" y="50"/>
                </a:lnTo>
                <a:lnTo>
                  <a:pt x="26" y="49"/>
                </a:lnTo>
                <a:lnTo>
                  <a:pt x="27" y="48"/>
                </a:lnTo>
                <a:lnTo>
                  <a:pt x="28" y="48"/>
                </a:lnTo>
                <a:lnTo>
                  <a:pt x="31" y="47"/>
                </a:lnTo>
                <a:lnTo>
                  <a:pt x="35" y="47"/>
                </a:lnTo>
                <a:lnTo>
                  <a:pt x="36" y="46"/>
                </a:lnTo>
                <a:lnTo>
                  <a:pt x="37" y="46"/>
                </a:lnTo>
                <a:lnTo>
                  <a:pt x="41" y="45"/>
                </a:lnTo>
                <a:lnTo>
                  <a:pt x="44" y="44"/>
                </a:lnTo>
                <a:lnTo>
                  <a:pt x="45" y="43"/>
                </a:lnTo>
                <a:lnTo>
                  <a:pt x="46" y="43"/>
                </a:lnTo>
                <a:lnTo>
                  <a:pt x="50" y="42"/>
                </a:lnTo>
                <a:lnTo>
                  <a:pt x="53" y="42"/>
                </a:lnTo>
                <a:lnTo>
                  <a:pt x="54" y="41"/>
                </a:lnTo>
                <a:lnTo>
                  <a:pt x="55" y="41"/>
                </a:lnTo>
                <a:lnTo>
                  <a:pt x="58" y="40"/>
                </a:lnTo>
                <a:lnTo>
                  <a:pt x="61" y="40"/>
                </a:lnTo>
                <a:lnTo>
                  <a:pt x="63" y="39"/>
                </a:lnTo>
                <a:lnTo>
                  <a:pt x="64" y="39"/>
                </a:lnTo>
                <a:lnTo>
                  <a:pt x="68" y="38"/>
                </a:lnTo>
                <a:lnTo>
                  <a:pt x="71" y="37"/>
                </a:lnTo>
                <a:lnTo>
                  <a:pt x="72" y="35"/>
                </a:lnTo>
                <a:lnTo>
                  <a:pt x="73" y="35"/>
                </a:lnTo>
                <a:lnTo>
                  <a:pt x="78" y="34"/>
                </a:lnTo>
                <a:lnTo>
                  <a:pt x="81" y="34"/>
                </a:lnTo>
                <a:lnTo>
                  <a:pt x="82" y="33"/>
                </a:lnTo>
                <a:lnTo>
                  <a:pt x="83" y="33"/>
                </a:lnTo>
                <a:lnTo>
                  <a:pt x="87" y="32"/>
                </a:lnTo>
                <a:lnTo>
                  <a:pt x="90" y="32"/>
                </a:lnTo>
                <a:lnTo>
                  <a:pt x="91" y="31"/>
                </a:lnTo>
                <a:lnTo>
                  <a:pt x="93" y="31"/>
                </a:lnTo>
                <a:lnTo>
                  <a:pt x="97" y="30"/>
                </a:lnTo>
                <a:lnTo>
                  <a:pt x="100" y="30"/>
                </a:lnTo>
                <a:lnTo>
                  <a:pt x="101" y="29"/>
                </a:lnTo>
                <a:lnTo>
                  <a:pt x="102" y="29"/>
                </a:lnTo>
                <a:lnTo>
                  <a:pt x="108" y="28"/>
                </a:lnTo>
                <a:lnTo>
                  <a:pt x="111" y="28"/>
                </a:lnTo>
                <a:lnTo>
                  <a:pt x="112" y="27"/>
                </a:lnTo>
                <a:lnTo>
                  <a:pt x="113" y="27"/>
                </a:lnTo>
                <a:lnTo>
                  <a:pt x="117" y="27"/>
                </a:lnTo>
                <a:lnTo>
                  <a:pt x="120" y="27"/>
                </a:lnTo>
                <a:lnTo>
                  <a:pt x="122" y="26"/>
                </a:lnTo>
                <a:lnTo>
                  <a:pt x="123" y="26"/>
                </a:lnTo>
                <a:lnTo>
                  <a:pt x="128" y="25"/>
                </a:lnTo>
                <a:lnTo>
                  <a:pt x="131" y="25"/>
                </a:lnTo>
                <a:lnTo>
                  <a:pt x="132" y="24"/>
                </a:lnTo>
                <a:lnTo>
                  <a:pt x="133" y="24"/>
                </a:lnTo>
                <a:lnTo>
                  <a:pt x="138" y="23"/>
                </a:lnTo>
                <a:lnTo>
                  <a:pt x="141" y="23"/>
                </a:lnTo>
                <a:lnTo>
                  <a:pt x="142" y="22"/>
                </a:lnTo>
                <a:lnTo>
                  <a:pt x="143" y="22"/>
                </a:lnTo>
                <a:lnTo>
                  <a:pt x="148" y="22"/>
                </a:lnTo>
                <a:lnTo>
                  <a:pt x="152" y="22"/>
                </a:lnTo>
                <a:lnTo>
                  <a:pt x="153" y="21"/>
                </a:lnTo>
                <a:lnTo>
                  <a:pt x="154" y="21"/>
                </a:lnTo>
                <a:lnTo>
                  <a:pt x="158" y="20"/>
                </a:lnTo>
                <a:lnTo>
                  <a:pt x="161" y="20"/>
                </a:lnTo>
                <a:lnTo>
                  <a:pt x="162" y="19"/>
                </a:lnTo>
                <a:lnTo>
                  <a:pt x="163" y="19"/>
                </a:lnTo>
                <a:lnTo>
                  <a:pt x="169" y="19"/>
                </a:lnTo>
                <a:lnTo>
                  <a:pt x="172" y="19"/>
                </a:lnTo>
                <a:lnTo>
                  <a:pt x="173" y="18"/>
                </a:lnTo>
                <a:lnTo>
                  <a:pt x="174" y="18"/>
                </a:lnTo>
                <a:lnTo>
                  <a:pt x="179" y="18"/>
                </a:lnTo>
                <a:lnTo>
                  <a:pt x="183" y="18"/>
                </a:lnTo>
                <a:lnTo>
                  <a:pt x="184" y="17"/>
                </a:lnTo>
                <a:lnTo>
                  <a:pt x="185" y="17"/>
                </a:lnTo>
                <a:lnTo>
                  <a:pt x="190" y="17"/>
                </a:lnTo>
                <a:lnTo>
                  <a:pt x="193" y="17"/>
                </a:lnTo>
                <a:lnTo>
                  <a:pt x="194" y="16"/>
                </a:lnTo>
                <a:lnTo>
                  <a:pt x="195" y="16"/>
                </a:lnTo>
                <a:lnTo>
                  <a:pt x="201" y="16"/>
                </a:lnTo>
                <a:lnTo>
                  <a:pt x="204" y="16"/>
                </a:lnTo>
                <a:lnTo>
                  <a:pt x="205" y="15"/>
                </a:lnTo>
                <a:lnTo>
                  <a:pt x="206" y="15"/>
                </a:lnTo>
                <a:lnTo>
                  <a:pt x="211" y="15"/>
                </a:lnTo>
                <a:lnTo>
                  <a:pt x="214" y="15"/>
                </a:lnTo>
                <a:lnTo>
                  <a:pt x="215" y="14"/>
                </a:lnTo>
                <a:lnTo>
                  <a:pt x="216" y="14"/>
                </a:lnTo>
                <a:lnTo>
                  <a:pt x="221" y="14"/>
                </a:lnTo>
                <a:lnTo>
                  <a:pt x="224" y="14"/>
                </a:lnTo>
                <a:lnTo>
                  <a:pt x="226" y="13"/>
                </a:lnTo>
                <a:lnTo>
                  <a:pt x="227" y="13"/>
                </a:lnTo>
                <a:lnTo>
                  <a:pt x="232" y="13"/>
                </a:lnTo>
                <a:lnTo>
                  <a:pt x="235" y="13"/>
                </a:lnTo>
                <a:lnTo>
                  <a:pt x="236" y="12"/>
                </a:lnTo>
                <a:lnTo>
                  <a:pt x="237" y="12"/>
                </a:lnTo>
                <a:lnTo>
                  <a:pt x="242" y="12"/>
                </a:lnTo>
                <a:lnTo>
                  <a:pt x="245" y="12"/>
                </a:lnTo>
                <a:lnTo>
                  <a:pt x="246" y="11"/>
                </a:lnTo>
                <a:lnTo>
                  <a:pt x="247" y="11"/>
                </a:lnTo>
                <a:lnTo>
                  <a:pt x="252" y="11"/>
                </a:lnTo>
                <a:lnTo>
                  <a:pt x="256" y="11"/>
                </a:lnTo>
                <a:lnTo>
                  <a:pt x="257" y="11"/>
                </a:lnTo>
                <a:lnTo>
                  <a:pt x="258" y="11"/>
                </a:lnTo>
                <a:lnTo>
                  <a:pt x="262" y="11"/>
                </a:lnTo>
                <a:lnTo>
                  <a:pt x="265" y="11"/>
                </a:lnTo>
                <a:lnTo>
                  <a:pt x="266" y="10"/>
                </a:lnTo>
                <a:lnTo>
                  <a:pt x="267" y="10"/>
                </a:lnTo>
                <a:lnTo>
                  <a:pt x="273" y="10"/>
                </a:lnTo>
                <a:lnTo>
                  <a:pt x="276" y="10"/>
                </a:lnTo>
                <a:lnTo>
                  <a:pt x="277" y="10"/>
                </a:lnTo>
                <a:lnTo>
                  <a:pt x="278" y="10"/>
                </a:lnTo>
                <a:lnTo>
                  <a:pt x="282" y="10"/>
                </a:lnTo>
                <a:lnTo>
                  <a:pt x="286" y="10"/>
                </a:lnTo>
                <a:lnTo>
                  <a:pt x="287" y="9"/>
                </a:lnTo>
                <a:lnTo>
                  <a:pt x="288" y="9"/>
                </a:lnTo>
                <a:lnTo>
                  <a:pt x="292" y="9"/>
                </a:lnTo>
                <a:lnTo>
                  <a:pt x="295" y="9"/>
                </a:lnTo>
                <a:lnTo>
                  <a:pt x="296" y="9"/>
                </a:lnTo>
                <a:lnTo>
                  <a:pt x="297" y="9"/>
                </a:lnTo>
                <a:lnTo>
                  <a:pt x="302" y="9"/>
                </a:lnTo>
                <a:lnTo>
                  <a:pt x="305" y="9"/>
                </a:lnTo>
                <a:lnTo>
                  <a:pt x="306" y="9"/>
                </a:lnTo>
                <a:lnTo>
                  <a:pt x="307" y="9"/>
                </a:lnTo>
                <a:lnTo>
                  <a:pt x="311" y="9"/>
                </a:lnTo>
                <a:lnTo>
                  <a:pt x="315" y="9"/>
                </a:lnTo>
                <a:lnTo>
                  <a:pt x="316" y="9"/>
                </a:lnTo>
                <a:lnTo>
                  <a:pt x="316" y="8"/>
                </a:lnTo>
                <a:lnTo>
                  <a:pt x="316" y="4"/>
                </a:lnTo>
                <a:lnTo>
                  <a:pt x="316" y="1"/>
                </a:lnTo>
                <a:lnTo>
                  <a:pt x="316" y="0"/>
                </a:lnTo>
                <a:lnTo>
                  <a:pt x="315" y="0"/>
                </a:lnTo>
                <a:lnTo>
                  <a:pt x="313" y="0"/>
                </a:lnTo>
                <a:lnTo>
                  <a:pt x="309" y="0"/>
                </a:lnTo>
                <a:lnTo>
                  <a:pt x="306" y="0"/>
                </a:lnTo>
                <a:lnTo>
                  <a:pt x="305" y="0"/>
                </a:lnTo>
                <a:lnTo>
                  <a:pt x="304" y="0"/>
                </a:lnTo>
                <a:lnTo>
                  <a:pt x="300" y="0"/>
                </a:lnTo>
                <a:lnTo>
                  <a:pt x="296" y="0"/>
                </a:lnTo>
                <a:lnTo>
                  <a:pt x="295" y="0"/>
                </a:lnTo>
                <a:lnTo>
                  <a:pt x="294" y="0"/>
                </a:lnTo>
                <a:lnTo>
                  <a:pt x="289" y="0"/>
                </a:lnTo>
                <a:lnTo>
                  <a:pt x="286" y="0"/>
                </a:lnTo>
                <a:lnTo>
                  <a:pt x="283" y="1"/>
                </a:lnTo>
                <a:lnTo>
                  <a:pt x="279" y="1"/>
                </a:lnTo>
                <a:lnTo>
                  <a:pt x="276" y="1"/>
                </a:lnTo>
                <a:lnTo>
                  <a:pt x="275" y="1"/>
                </a:lnTo>
                <a:lnTo>
                  <a:pt x="274" y="1"/>
                </a:lnTo>
                <a:lnTo>
                  <a:pt x="269" y="1"/>
                </a:lnTo>
                <a:lnTo>
                  <a:pt x="266" y="1"/>
                </a:lnTo>
                <a:lnTo>
                  <a:pt x="264" y="2"/>
                </a:lnTo>
                <a:lnTo>
                  <a:pt x="259" y="2"/>
                </a:lnTo>
                <a:lnTo>
                  <a:pt x="256" y="2"/>
                </a:lnTo>
                <a:lnTo>
                  <a:pt x="254" y="2"/>
                </a:lnTo>
                <a:lnTo>
                  <a:pt x="253" y="2"/>
                </a:lnTo>
                <a:lnTo>
                  <a:pt x="249" y="2"/>
                </a:lnTo>
                <a:lnTo>
                  <a:pt x="246" y="2"/>
                </a:lnTo>
                <a:lnTo>
                  <a:pt x="244" y="3"/>
                </a:lnTo>
                <a:lnTo>
                  <a:pt x="238" y="3"/>
                </a:lnTo>
                <a:lnTo>
                  <a:pt x="235" y="3"/>
                </a:lnTo>
                <a:lnTo>
                  <a:pt x="233" y="4"/>
                </a:lnTo>
                <a:lnTo>
                  <a:pt x="228" y="4"/>
                </a:lnTo>
                <a:lnTo>
                  <a:pt x="224" y="4"/>
                </a:lnTo>
                <a:lnTo>
                  <a:pt x="222" y="5"/>
                </a:lnTo>
                <a:lnTo>
                  <a:pt x="217" y="5"/>
                </a:lnTo>
                <a:lnTo>
                  <a:pt x="214" y="5"/>
                </a:lnTo>
                <a:lnTo>
                  <a:pt x="212" y="6"/>
                </a:lnTo>
                <a:lnTo>
                  <a:pt x="207" y="6"/>
                </a:lnTo>
                <a:lnTo>
                  <a:pt x="204" y="6"/>
                </a:lnTo>
                <a:lnTo>
                  <a:pt x="202" y="7"/>
                </a:lnTo>
                <a:lnTo>
                  <a:pt x="197" y="7"/>
                </a:lnTo>
                <a:lnTo>
                  <a:pt x="193" y="7"/>
                </a:lnTo>
                <a:lnTo>
                  <a:pt x="191" y="8"/>
                </a:lnTo>
                <a:lnTo>
                  <a:pt x="186" y="8"/>
                </a:lnTo>
                <a:lnTo>
                  <a:pt x="183" y="8"/>
                </a:lnTo>
                <a:lnTo>
                  <a:pt x="180" y="9"/>
                </a:lnTo>
                <a:lnTo>
                  <a:pt x="175" y="9"/>
                </a:lnTo>
                <a:lnTo>
                  <a:pt x="172" y="9"/>
                </a:lnTo>
                <a:lnTo>
                  <a:pt x="170" y="10"/>
                </a:lnTo>
                <a:lnTo>
                  <a:pt x="164" y="10"/>
                </a:lnTo>
                <a:lnTo>
                  <a:pt x="161" y="10"/>
                </a:lnTo>
                <a:lnTo>
                  <a:pt x="159" y="11"/>
                </a:lnTo>
                <a:lnTo>
                  <a:pt x="154" y="12"/>
                </a:lnTo>
                <a:lnTo>
                  <a:pt x="150" y="12"/>
                </a:lnTo>
                <a:lnTo>
                  <a:pt x="148" y="13"/>
                </a:lnTo>
                <a:lnTo>
                  <a:pt x="144" y="13"/>
                </a:lnTo>
                <a:lnTo>
                  <a:pt x="141" y="13"/>
                </a:lnTo>
                <a:lnTo>
                  <a:pt x="139" y="14"/>
                </a:lnTo>
                <a:lnTo>
                  <a:pt x="133" y="15"/>
                </a:lnTo>
                <a:lnTo>
                  <a:pt x="130" y="15"/>
                </a:lnTo>
                <a:lnTo>
                  <a:pt x="128" y="16"/>
                </a:lnTo>
                <a:lnTo>
                  <a:pt x="123" y="17"/>
                </a:lnTo>
                <a:lnTo>
                  <a:pt x="119" y="17"/>
                </a:lnTo>
                <a:lnTo>
                  <a:pt x="117" y="18"/>
                </a:lnTo>
                <a:lnTo>
                  <a:pt x="113" y="19"/>
                </a:lnTo>
                <a:lnTo>
                  <a:pt x="110" y="19"/>
                </a:lnTo>
                <a:lnTo>
                  <a:pt x="108" y="20"/>
                </a:lnTo>
                <a:lnTo>
                  <a:pt x="102" y="20"/>
                </a:lnTo>
                <a:lnTo>
                  <a:pt x="99" y="20"/>
                </a:lnTo>
                <a:lnTo>
                  <a:pt x="97" y="21"/>
                </a:lnTo>
                <a:lnTo>
                  <a:pt x="93" y="22"/>
                </a:lnTo>
                <a:lnTo>
                  <a:pt x="89" y="22"/>
                </a:lnTo>
                <a:lnTo>
                  <a:pt x="87" y="23"/>
                </a:lnTo>
                <a:lnTo>
                  <a:pt x="83" y="24"/>
                </a:lnTo>
                <a:lnTo>
                  <a:pt x="80" y="25"/>
                </a:lnTo>
                <a:lnTo>
                  <a:pt x="78" y="26"/>
                </a:lnTo>
                <a:lnTo>
                  <a:pt x="73" y="27"/>
                </a:lnTo>
                <a:lnTo>
                  <a:pt x="70" y="27"/>
                </a:lnTo>
                <a:lnTo>
                  <a:pt x="68" y="28"/>
                </a:lnTo>
                <a:lnTo>
                  <a:pt x="64" y="29"/>
                </a:lnTo>
                <a:lnTo>
                  <a:pt x="60" y="29"/>
                </a:lnTo>
                <a:lnTo>
                  <a:pt x="58" y="30"/>
                </a:lnTo>
                <a:lnTo>
                  <a:pt x="55" y="31"/>
                </a:lnTo>
                <a:lnTo>
                  <a:pt x="52" y="31"/>
                </a:lnTo>
                <a:lnTo>
                  <a:pt x="50" y="32"/>
                </a:lnTo>
                <a:lnTo>
                  <a:pt x="45" y="33"/>
                </a:lnTo>
                <a:lnTo>
                  <a:pt x="42" y="34"/>
                </a:lnTo>
                <a:lnTo>
                  <a:pt x="40" y="35"/>
                </a:lnTo>
                <a:lnTo>
                  <a:pt x="37" y="37"/>
                </a:lnTo>
                <a:lnTo>
                  <a:pt x="34" y="37"/>
                </a:lnTo>
                <a:lnTo>
                  <a:pt x="31" y="38"/>
                </a:lnTo>
                <a:lnTo>
                  <a:pt x="28" y="39"/>
                </a:lnTo>
                <a:lnTo>
                  <a:pt x="25" y="40"/>
                </a:lnTo>
                <a:lnTo>
                  <a:pt x="23" y="41"/>
                </a:lnTo>
                <a:lnTo>
                  <a:pt x="20" y="42"/>
                </a:lnTo>
                <a:lnTo>
                  <a:pt x="16" y="43"/>
                </a:lnTo>
                <a:lnTo>
                  <a:pt x="14" y="44"/>
                </a:lnTo>
                <a:lnTo>
                  <a:pt x="11" y="45"/>
                </a:lnTo>
                <a:lnTo>
                  <a:pt x="8" y="45"/>
                </a:lnTo>
                <a:lnTo>
                  <a:pt x="7" y="46"/>
                </a:lnTo>
                <a:lnTo>
                  <a:pt x="2" y="47"/>
                </a:lnTo>
                <a:lnTo>
                  <a:pt x="0" y="48"/>
                </a:lnTo>
                <a:lnTo>
                  <a:pt x="1" y="48"/>
                </a:lnTo>
                <a:lnTo>
                  <a:pt x="2" y="48"/>
                </a:lnTo>
                <a:lnTo>
                  <a:pt x="4" y="48"/>
                </a:lnTo>
                <a:lnTo>
                  <a:pt x="0" y="57"/>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24" name="Freeform 23"/>
          <p:cNvSpPr/>
          <p:nvPr/>
        </p:nvSpPr>
        <p:spPr>
          <a:xfrm>
            <a:off x="3954600" y="3222720"/>
            <a:ext cx="109440" cy="82440"/>
          </a:xfrm>
          <a:custGeom>
            <a:avLst/>
            <a:gdLst>
              <a:gd name="textAreaLeft" fmla="*/ 0 w 109440"/>
              <a:gd name="textAreaRight" fmla="*/ 109800 w 109440"/>
              <a:gd name="textAreaTop" fmla="*/ 0 h 82440"/>
              <a:gd name="textAreaBottom" fmla="*/ 82800 h 82440"/>
            </a:gdLst>
            <a:ahLst/>
            <a:rect l="textAreaLeft" t="textAreaTop" r="textAreaRight" b="textAreaBottom"/>
            <a:pathLst>
              <a:path w="138" h="104">
                <a:moveTo>
                  <a:pt x="5" y="9"/>
                </a:moveTo>
                <a:lnTo>
                  <a:pt x="3" y="9"/>
                </a:lnTo>
                <a:lnTo>
                  <a:pt x="1" y="9"/>
                </a:lnTo>
                <a:lnTo>
                  <a:pt x="0" y="9"/>
                </a:lnTo>
                <a:lnTo>
                  <a:pt x="0" y="8"/>
                </a:lnTo>
                <a:lnTo>
                  <a:pt x="1" y="10"/>
                </a:lnTo>
                <a:lnTo>
                  <a:pt x="2" y="11"/>
                </a:lnTo>
                <a:lnTo>
                  <a:pt x="3" y="11"/>
                </a:lnTo>
                <a:lnTo>
                  <a:pt x="5" y="13"/>
                </a:lnTo>
                <a:lnTo>
                  <a:pt x="6" y="14"/>
                </a:lnTo>
                <a:lnTo>
                  <a:pt x="7" y="14"/>
                </a:lnTo>
                <a:lnTo>
                  <a:pt x="8" y="16"/>
                </a:lnTo>
                <a:lnTo>
                  <a:pt x="9" y="17"/>
                </a:lnTo>
                <a:lnTo>
                  <a:pt x="10" y="17"/>
                </a:lnTo>
                <a:lnTo>
                  <a:pt x="12" y="19"/>
                </a:lnTo>
                <a:lnTo>
                  <a:pt x="13" y="20"/>
                </a:lnTo>
                <a:lnTo>
                  <a:pt x="14" y="20"/>
                </a:lnTo>
                <a:lnTo>
                  <a:pt x="15" y="22"/>
                </a:lnTo>
                <a:lnTo>
                  <a:pt x="16" y="23"/>
                </a:lnTo>
                <a:lnTo>
                  <a:pt x="17" y="23"/>
                </a:lnTo>
                <a:lnTo>
                  <a:pt x="19" y="25"/>
                </a:lnTo>
                <a:lnTo>
                  <a:pt x="20" y="26"/>
                </a:lnTo>
                <a:lnTo>
                  <a:pt x="21" y="26"/>
                </a:lnTo>
                <a:lnTo>
                  <a:pt x="23" y="30"/>
                </a:lnTo>
                <a:lnTo>
                  <a:pt x="24" y="31"/>
                </a:lnTo>
                <a:lnTo>
                  <a:pt x="25" y="31"/>
                </a:lnTo>
                <a:lnTo>
                  <a:pt x="26" y="33"/>
                </a:lnTo>
                <a:lnTo>
                  <a:pt x="27" y="34"/>
                </a:lnTo>
                <a:lnTo>
                  <a:pt x="28" y="34"/>
                </a:lnTo>
                <a:lnTo>
                  <a:pt x="30" y="36"/>
                </a:lnTo>
                <a:lnTo>
                  <a:pt x="31" y="37"/>
                </a:lnTo>
                <a:lnTo>
                  <a:pt x="32" y="37"/>
                </a:lnTo>
                <a:lnTo>
                  <a:pt x="34" y="40"/>
                </a:lnTo>
                <a:lnTo>
                  <a:pt x="35" y="41"/>
                </a:lnTo>
                <a:lnTo>
                  <a:pt x="36" y="41"/>
                </a:lnTo>
                <a:lnTo>
                  <a:pt x="38" y="43"/>
                </a:lnTo>
                <a:lnTo>
                  <a:pt x="39" y="44"/>
                </a:lnTo>
                <a:lnTo>
                  <a:pt x="40" y="44"/>
                </a:lnTo>
                <a:lnTo>
                  <a:pt x="42" y="47"/>
                </a:lnTo>
                <a:lnTo>
                  <a:pt x="43" y="48"/>
                </a:lnTo>
                <a:lnTo>
                  <a:pt x="44" y="48"/>
                </a:lnTo>
                <a:lnTo>
                  <a:pt x="46" y="50"/>
                </a:lnTo>
                <a:lnTo>
                  <a:pt x="47" y="51"/>
                </a:lnTo>
                <a:lnTo>
                  <a:pt x="49" y="51"/>
                </a:lnTo>
                <a:lnTo>
                  <a:pt x="51" y="53"/>
                </a:lnTo>
                <a:lnTo>
                  <a:pt x="52" y="54"/>
                </a:lnTo>
                <a:lnTo>
                  <a:pt x="53" y="54"/>
                </a:lnTo>
                <a:lnTo>
                  <a:pt x="55" y="57"/>
                </a:lnTo>
                <a:lnTo>
                  <a:pt x="56" y="58"/>
                </a:lnTo>
                <a:lnTo>
                  <a:pt x="57" y="58"/>
                </a:lnTo>
                <a:lnTo>
                  <a:pt x="59" y="60"/>
                </a:lnTo>
                <a:lnTo>
                  <a:pt x="60" y="61"/>
                </a:lnTo>
                <a:lnTo>
                  <a:pt x="61" y="61"/>
                </a:lnTo>
                <a:lnTo>
                  <a:pt x="64" y="63"/>
                </a:lnTo>
                <a:lnTo>
                  <a:pt x="65" y="64"/>
                </a:lnTo>
                <a:lnTo>
                  <a:pt x="66" y="64"/>
                </a:lnTo>
                <a:lnTo>
                  <a:pt x="68" y="67"/>
                </a:lnTo>
                <a:lnTo>
                  <a:pt x="69" y="68"/>
                </a:lnTo>
                <a:lnTo>
                  <a:pt x="70" y="68"/>
                </a:lnTo>
                <a:lnTo>
                  <a:pt x="72" y="70"/>
                </a:lnTo>
                <a:lnTo>
                  <a:pt x="73" y="71"/>
                </a:lnTo>
                <a:lnTo>
                  <a:pt x="74" y="71"/>
                </a:lnTo>
                <a:lnTo>
                  <a:pt x="76" y="73"/>
                </a:lnTo>
                <a:lnTo>
                  <a:pt x="77" y="74"/>
                </a:lnTo>
                <a:lnTo>
                  <a:pt x="79" y="74"/>
                </a:lnTo>
                <a:lnTo>
                  <a:pt x="81" y="76"/>
                </a:lnTo>
                <a:lnTo>
                  <a:pt x="82" y="77"/>
                </a:lnTo>
                <a:lnTo>
                  <a:pt x="83" y="77"/>
                </a:lnTo>
                <a:lnTo>
                  <a:pt x="85" y="79"/>
                </a:lnTo>
                <a:lnTo>
                  <a:pt x="86" y="80"/>
                </a:lnTo>
                <a:lnTo>
                  <a:pt x="87" y="80"/>
                </a:lnTo>
                <a:lnTo>
                  <a:pt x="90" y="82"/>
                </a:lnTo>
                <a:lnTo>
                  <a:pt x="91" y="84"/>
                </a:lnTo>
                <a:lnTo>
                  <a:pt x="92" y="84"/>
                </a:lnTo>
                <a:lnTo>
                  <a:pt x="95" y="86"/>
                </a:lnTo>
                <a:lnTo>
                  <a:pt x="97" y="86"/>
                </a:lnTo>
                <a:lnTo>
                  <a:pt x="99" y="88"/>
                </a:lnTo>
                <a:lnTo>
                  <a:pt x="100" y="89"/>
                </a:lnTo>
                <a:lnTo>
                  <a:pt x="101" y="89"/>
                </a:lnTo>
                <a:lnTo>
                  <a:pt x="104" y="91"/>
                </a:lnTo>
                <a:lnTo>
                  <a:pt x="105" y="92"/>
                </a:lnTo>
                <a:lnTo>
                  <a:pt x="106" y="92"/>
                </a:lnTo>
                <a:lnTo>
                  <a:pt x="109" y="94"/>
                </a:lnTo>
                <a:lnTo>
                  <a:pt x="111" y="94"/>
                </a:lnTo>
                <a:lnTo>
                  <a:pt x="113" y="96"/>
                </a:lnTo>
                <a:lnTo>
                  <a:pt x="115" y="96"/>
                </a:lnTo>
                <a:lnTo>
                  <a:pt x="118" y="98"/>
                </a:lnTo>
                <a:lnTo>
                  <a:pt x="119" y="98"/>
                </a:lnTo>
                <a:lnTo>
                  <a:pt x="120" y="98"/>
                </a:lnTo>
                <a:lnTo>
                  <a:pt x="123" y="100"/>
                </a:lnTo>
                <a:lnTo>
                  <a:pt x="125" y="100"/>
                </a:lnTo>
                <a:lnTo>
                  <a:pt x="128" y="102"/>
                </a:lnTo>
                <a:lnTo>
                  <a:pt x="129" y="102"/>
                </a:lnTo>
                <a:lnTo>
                  <a:pt x="130" y="102"/>
                </a:lnTo>
                <a:lnTo>
                  <a:pt x="132" y="104"/>
                </a:lnTo>
                <a:lnTo>
                  <a:pt x="134" y="104"/>
                </a:lnTo>
                <a:lnTo>
                  <a:pt x="134" y="103"/>
                </a:lnTo>
                <a:lnTo>
                  <a:pt x="135" y="99"/>
                </a:lnTo>
                <a:lnTo>
                  <a:pt x="136" y="96"/>
                </a:lnTo>
                <a:lnTo>
                  <a:pt x="138" y="95"/>
                </a:lnTo>
                <a:lnTo>
                  <a:pt x="136" y="95"/>
                </a:lnTo>
                <a:lnTo>
                  <a:pt x="134" y="95"/>
                </a:lnTo>
                <a:lnTo>
                  <a:pt x="133" y="95"/>
                </a:lnTo>
                <a:lnTo>
                  <a:pt x="133" y="94"/>
                </a:lnTo>
                <a:lnTo>
                  <a:pt x="130" y="93"/>
                </a:lnTo>
                <a:lnTo>
                  <a:pt x="129" y="92"/>
                </a:lnTo>
                <a:lnTo>
                  <a:pt x="128" y="92"/>
                </a:lnTo>
                <a:lnTo>
                  <a:pt x="125" y="91"/>
                </a:lnTo>
                <a:lnTo>
                  <a:pt x="124" y="91"/>
                </a:lnTo>
                <a:lnTo>
                  <a:pt x="124" y="90"/>
                </a:lnTo>
                <a:lnTo>
                  <a:pt x="120" y="89"/>
                </a:lnTo>
                <a:lnTo>
                  <a:pt x="119" y="88"/>
                </a:lnTo>
                <a:lnTo>
                  <a:pt x="116" y="87"/>
                </a:lnTo>
                <a:lnTo>
                  <a:pt x="115" y="86"/>
                </a:lnTo>
                <a:lnTo>
                  <a:pt x="112" y="85"/>
                </a:lnTo>
                <a:lnTo>
                  <a:pt x="111" y="84"/>
                </a:lnTo>
                <a:lnTo>
                  <a:pt x="108" y="82"/>
                </a:lnTo>
                <a:lnTo>
                  <a:pt x="106" y="81"/>
                </a:lnTo>
                <a:lnTo>
                  <a:pt x="106" y="80"/>
                </a:lnTo>
                <a:lnTo>
                  <a:pt x="103" y="79"/>
                </a:lnTo>
                <a:lnTo>
                  <a:pt x="102" y="78"/>
                </a:lnTo>
                <a:lnTo>
                  <a:pt x="98" y="77"/>
                </a:lnTo>
                <a:lnTo>
                  <a:pt x="97" y="76"/>
                </a:lnTo>
                <a:lnTo>
                  <a:pt x="97" y="75"/>
                </a:lnTo>
                <a:lnTo>
                  <a:pt x="94" y="74"/>
                </a:lnTo>
                <a:lnTo>
                  <a:pt x="92" y="73"/>
                </a:lnTo>
                <a:lnTo>
                  <a:pt x="92" y="72"/>
                </a:lnTo>
                <a:lnTo>
                  <a:pt x="89" y="71"/>
                </a:lnTo>
                <a:lnTo>
                  <a:pt x="88" y="70"/>
                </a:lnTo>
                <a:lnTo>
                  <a:pt x="85" y="69"/>
                </a:lnTo>
                <a:lnTo>
                  <a:pt x="84" y="68"/>
                </a:lnTo>
                <a:lnTo>
                  <a:pt x="84" y="67"/>
                </a:lnTo>
                <a:lnTo>
                  <a:pt x="81" y="66"/>
                </a:lnTo>
                <a:lnTo>
                  <a:pt x="80" y="65"/>
                </a:lnTo>
                <a:lnTo>
                  <a:pt x="80" y="64"/>
                </a:lnTo>
                <a:lnTo>
                  <a:pt x="76" y="63"/>
                </a:lnTo>
                <a:lnTo>
                  <a:pt x="75" y="62"/>
                </a:lnTo>
                <a:lnTo>
                  <a:pt x="75" y="61"/>
                </a:lnTo>
                <a:lnTo>
                  <a:pt x="72" y="59"/>
                </a:lnTo>
                <a:lnTo>
                  <a:pt x="71" y="58"/>
                </a:lnTo>
                <a:lnTo>
                  <a:pt x="71" y="57"/>
                </a:lnTo>
                <a:lnTo>
                  <a:pt x="68" y="56"/>
                </a:lnTo>
                <a:lnTo>
                  <a:pt x="67" y="55"/>
                </a:lnTo>
                <a:lnTo>
                  <a:pt x="67" y="54"/>
                </a:lnTo>
                <a:lnTo>
                  <a:pt x="64" y="53"/>
                </a:lnTo>
                <a:lnTo>
                  <a:pt x="62" y="52"/>
                </a:lnTo>
                <a:lnTo>
                  <a:pt x="62" y="51"/>
                </a:lnTo>
                <a:lnTo>
                  <a:pt x="59" y="50"/>
                </a:lnTo>
                <a:lnTo>
                  <a:pt x="58" y="49"/>
                </a:lnTo>
                <a:lnTo>
                  <a:pt x="58" y="48"/>
                </a:lnTo>
                <a:lnTo>
                  <a:pt x="56" y="46"/>
                </a:lnTo>
                <a:lnTo>
                  <a:pt x="55" y="45"/>
                </a:lnTo>
                <a:lnTo>
                  <a:pt x="55" y="44"/>
                </a:lnTo>
                <a:lnTo>
                  <a:pt x="52" y="43"/>
                </a:lnTo>
                <a:lnTo>
                  <a:pt x="51" y="42"/>
                </a:lnTo>
                <a:lnTo>
                  <a:pt x="51" y="41"/>
                </a:lnTo>
                <a:lnTo>
                  <a:pt x="47" y="40"/>
                </a:lnTo>
                <a:lnTo>
                  <a:pt x="46" y="39"/>
                </a:lnTo>
                <a:lnTo>
                  <a:pt x="46" y="38"/>
                </a:lnTo>
                <a:lnTo>
                  <a:pt x="44" y="36"/>
                </a:lnTo>
                <a:lnTo>
                  <a:pt x="43" y="35"/>
                </a:lnTo>
                <a:lnTo>
                  <a:pt x="43" y="34"/>
                </a:lnTo>
                <a:lnTo>
                  <a:pt x="40" y="33"/>
                </a:lnTo>
                <a:lnTo>
                  <a:pt x="39" y="32"/>
                </a:lnTo>
                <a:lnTo>
                  <a:pt x="39" y="31"/>
                </a:lnTo>
                <a:lnTo>
                  <a:pt x="36" y="30"/>
                </a:lnTo>
                <a:lnTo>
                  <a:pt x="35" y="29"/>
                </a:lnTo>
                <a:lnTo>
                  <a:pt x="35" y="27"/>
                </a:lnTo>
                <a:lnTo>
                  <a:pt x="32" y="25"/>
                </a:lnTo>
                <a:lnTo>
                  <a:pt x="31" y="24"/>
                </a:lnTo>
                <a:lnTo>
                  <a:pt x="31" y="23"/>
                </a:lnTo>
                <a:lnTo>
                  <a:pt x="29" y="22"/>
                </a:lnTo>
                <a:lnTo>
                  <a:pt x="28" y="21"/>
                </a:lnTo>
                <a:lnTo>
                  <a:pt x="28" y="20"/>
                </a:lnTo>
                <a:lnTo>
                  <a:pt x="25" y="19"/>
                </a:lnTo>
                <a:lnTo>
                  <a:pt x="24" y="18"/>
                </a:lnTo>
                <a:lnTo>
                  <a:pt x="24" y="17"/>
                </a:lnTo>
                <a:lnTo>
                  <a:pt x="22" y="16"/>
                </a:lnTo>
                <a:lnTo>
                  <a:pt x="21" y="15"/>
                </a:lnTo>
                <a:lnTo>
                  <a:pt x="21" y="14"/>
                </a:lnTo>
                <a:lnTo>
                  <a:pt x="19" y="12"/>
                </a:lnTo>
                <a:lnTo>
                  <a:pt x="17" y="11"/>
                </a:lnTo>
                <a:lnTo>
                  <a:pt x="17" y="10"/>
                </a:lnTo>
                <a:lnTo>
                  <a:pt x="15" y="9"/>
                </a:lnTo>
                <a:lnTo>
                  <a:pt x="14" y="8"/>
                </a:lnTo>
                <a:lnTo>
                  <a:pt x="14" y="7"/>
                </a:lnTo>
                <a:lnTo>
                  <a:pt x="12" y="6"/>
                </a:lnTo>
                <a:lnTo>
                  <a:pt x="11" y="5"/>
                </a:lnTo>
                <a:lnTo>
                  <a:pt x="11" y="4"/>
                </a:lnTo>
                <a:lnTo>
                  <a:pt x="9" y="3"/>
                </a:lnTo>
                <a:lnTo>
                  <a:pt x="8" y="2"/>
                </a:lnTo>
                <a:lnTo>
                  <a:pt x="8" y="1"/>
                </a:lnTo>
                <a:lnTo>
                  <a:pt x="7" y="1"/>
                </a:lnTo>
                <a:lnTo>
                  <a:pt x="6" y="1"/>
                </a:lnTo>
                <a:lnTo>
                  <a:pt x="5" y="1"/>
                </a:lnTo>
                <a:lnTo>
                  <a:pt x="5" y="0"/>
                </a:lnTo>
                <a:lnTo>
                  <a:pt x="5" y="9"/>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25" name="Freeform 24"/>
          <p:cNvSpPr/>
          <p:nvPr/>
        </p:nvSpPr>
        <p:spPr>
          <a:xfrm>
            <a:off x="3603600" y="3222720"/>
            <a:ext cx="353880" cy="180720"/>
          </a:xfrm>
          <a:custGeom>
            <a:avLst/>
            <a:gdLst>
              <a:gd name="textAreaLeft" fmla="*/ 0 w 353880"/>
              <a:gd name="textAreaRight" fmla="*/ 354240 w 353880"/>
              <a:gd name="textAreaTop" fmla="*/ 0 h 180720"/>
              <a:gd name="textAreaBottom" fmla="*/ 181080 h 180720"/>
            </a:gdLst>
            <a:ahLst/>
            <a:rect l="textAreaLeft" t="textAreaTop" r="textAreaRight" b="textAreaBottom"/>
            <a:pathLst>
              <a:path w="448" h="227">
                <a:moveTo>
                  <a:pt x="3" y="227"/>
                </a:moveTo>
                <a:lnTo>
                  <a:pt x="4" y="227"/>
                </a:lnTo>
                <a:lnTo>
                  <a:pt x="10" y="224"/>
                </a:lnTo>
                <a:lnTo>
                  <a:pt x="14" y="223"/>
                </a:lnTo>
                <a:lnTo>
                  <a:pt x="15" y="222"/>
                </a:lnTo>
                <a:lnTo>
                  <a:pt x="22" y="219"/>
                </a:lnTo>
                <a:lnTo>
                  <a:pt x="25" y="218"/>
                </a:lnTo>
                <a:lnTo>
                  <a:pt x="26" y="217"/>
                </a:lnTo>
                <a:lnTo>
                  <a:pt x="34" y="214"/>
                </a:lnTo>
                <a:lnTo>
                  <a:pt x="38" y="212"/>
                </a:lnTo>
                <a:lnTo>
                  <a:pt x="39" y="211"/>
                </a:lnTo>
                <a:lnTo>
                  <a:pt x="40" y="210"/>
                </a:lnTo>
                <a:lnTo>
                  <a:pt x="45" y="207"/>
                </a:lnTo>
                <a:lnTo>
                  <a:pt x="50" y="205"/>
                </a:lnTo>
                <a:lnTo>
                  <a:pt x="51" y="204"/>
                </a:lnTo>
                <a:lnTo>
                  <a:pt x="52" y="203"/>
                </a:lnTo>
                <a:lnTo>
                  <a:pt x="58" y="200"/>
                </a:lnTo>
                <a:lnTo>
                  <a:pt x="63" y="198"/>
                </a:lnTo>
                <a:lnTo>
                  <a:pt x="64" y="197"/>
                </a:lnTo>
                <a:lnTo>
                  <a:pt x="65" y="196"/>
                </a:lnTo>
                <a:lnTo>
                  <a:pt x="71" y="193"/>
                </a:lnTo>
                <a:lnTo>
                  <a:pt x="75" y="190"/>
                </a:lnTo>
                <a:lnTo>
                  <a:pt x="77" y="189"/>
                </a:lnTo>
                <a:lnTo>
                  <a:pt x="79" y="188"/>
                </a:lnTo>
                <a:lnTo>
                  <a:pt x="85" y="185"/>
                </a:lnTo>
                <a:lnTo>
                  <a:pt x="89" y="182"/>
                </a:lnTo>
                <a:lnTo>
                  <a:pt x="90" y="181"/>
                </a:lnTo>
                <a:lnTo>
                  <a:pt x="93" y="180"/>
                </a:lnTo>
                <a:lnTo>
                  <a:pt x="99" y="177"/>
                </a:lnTo>
                <a:lnTo>
                  <a:pt x="103" y="174"/>
                </a:lnTo>
                <a:lnTo>
                  <a:pt x="104" y="173"/>
                </a:lnTo>
                <a:lnTo>
                  <a:pt x="107" y="172"/>
                </a:lnTo>
                <a:lnTo>
                  <a:pt x="113" y="168"/>
                </a:lnTo>
                <a:lnTo>
                  <a:pt x="117" y="165"/>
                </a:lnTo>
                <a:lnTo>
                  <a:pt x="118" y="164"/>
                </a:lnTo>
                <a:lnTo>
                  <a:pt x="120" y="163"/>
                </a:lnTo>
                <a:lnTo>
                  <a:pt x="127" y="160"/>
                </a:lnTo>
                <a:lnTo>
                  <a:pt x="131" y="157"/>
                </a:lnTo>
                <a:lnTo>
                  <a:pt x="132" y="156"/>
                </a:lnTo>
                <a:lnTo>
                  <a:pt x="134" y="155"/>
                </a:lnTo>
                <a:lnTo>
                  <a:pt x="141" y="151"/>
                </a:lnTo>
                <a:lnTo>
                  <a:pt x="145" y="148"/>
                </a:lnTo>
                <a:lnTo>
                  <a:pt x="146" y="147"/>
                </a:lnTo>
                <a:lnTo>
                  <a:pt x="148" y="146"/>
                </a:lnTo>
                <a:lnTo>
                  <a:pt x="155" y="142"/>
                </a:lnTo>
                <a:lnTo>
                  <a:pt x="160" y="139"/>
                </a:lnTo>
                <a:lnTo>
                  <a:pt x="161" y="138"/>
                </a:lnTo>
                <a:lnTo>
                  <a:pt x="163" y="136"/>
                </a:lnTo>
                <a:lnTo>
                  <a:pt x="170" y="132"/>
                </a:lnTo>
                <a:lnTo>
                  <a:pt x="175" y="129"/>
                </a:lnTo>
                <a:lnTo>
                  <a:pt x="176" y="128"/>
                </a:lnTo>
                <a:lnTo>
                  <a:pt x="178" y="127"/>
                </a:lnTo>
                <a:lnTo>
                  <a:pt x="185" y="123"/>
                </a:lnTo>
                <a:lnTo>
                  <a:pt x="189" y="120"/>
                </a:lnTo>
                <a:lnTo>
                  <a:pt x="190" y="119"/>
                </a:lnTo>
                <a:lnTo>
                  <a:pt x="192" y="118"/>
                </a:lnTo>
                <a:lnTo>
                  <a:pt x="199" y="113"/>
                </a:lnTo>
                <a:lnTo>
                  <a:pt x="204" y="110"/>
                </a:lnTo>
                <a:lnTo>
                  <a:pt x="205" y="109"/>
                </a:lnTo>
                <a:lnTo>
                  <a:pt x="207" y="108"/>
                </a:lnTo>
                <a:lnTo>
                  <a:pt x="214" y="104"/>
                </a:lnTo>
                <a:lnTo>
                  <a:pt x="219" y="101"/>
                </a:lnTo>
                <a:lnTo>
                  <a:pt x="220" y="100"/>
                </a:lnTo>
                <a:lnTo>
                  <a:pt x="222" y="99"/>
                </a:lnTo>
                <a:lnTo>
                  <a:pt x="229" y="96"/>
                </a:lnTo>
                <a:lnTo>
                  <a:pt x="234" y="93"/>
                </a:lnTo>
                <a:lnTo>
                  <a:pt x="235" y="92"/>
                </a:lnTo>
                <a:lnTo>
                  <a:pt x="237" y="91"/>
                </a:lnTo>
                <a:lnTo>
                  <a:pt x="245" y="87"/>
                </a:lnTo>
                <a:lnTo>
                  <a:pt x="250" y="84"/>
                </a:lnTo>
                <a:lnTo>
                  <a:pt x="251" y="82"/>
                </a:lnTo>
                <a:lnTo>
                  <a:pt x="253" y="81"/>
                </a:lnTo>
                <a:lnTo>
                  <a:pt x="260" y="77"/>
                </a:lnTo>
                <a:lnTo>
                  <a:pt x="265" y="74"/>
                </a:lnTo>
                <a:lnTo>
                  <a:pt x="266" y="73"/>
                </a:lnTo>
                <a:lnTo>
                  <a:pt x="268" y="72"/>
                </a:lnTo>
                <a:lnTo>
                  <a:pt x="275" y="69"/>
                </a:lnTo>
                <a:lnTo>
                  <a:pt x="280" y="66"/>
                </a:lnTo>
                <a:lnTo>
                  <a:pt x="281" y="65"/>
                </a:lnTo>
                <a:lnTo>
                  <a:pt x="283" y="64"/>
                </a:lnTo>
                <a:lnTo>
                  <a:pt x="290" y="61"/>
                </a:lnTo>
                <a:lnTo>
                  <a:pt x="295" y="58"/>
                </a:lnTo>
                <a:lnTo>
                  <a:pt x="296" y="57"/>
                </a:lnTo>
                <a:lnTo>
                  <a:pt x="298" y="56"/>
                </a:lnTo>
                <a:lnTo>
                  <a:pt x="305" y="53"/>
                </a:lnTo>
                <a:lnTo>
                  <a:pt x="309" y="51"/>
                </a:lnTo>
                <a:lnTo>
                  <a:pt x="310" y="50"/>
                </a:lnTo>
                <a:lnTo>
                  <a:pt x="312" y="49"/>
                </a:lnTo>
                <a:lnTo>
                  <a:pt x="319" y="46"/>
                </a:lnTo>
                <a:lnTo>
                  <a:pt x="324" y="44"/>
                </a:lnTo>
                <a:lnTo>
                  <a:pt x="325" y="43"/>
                </a:lnTo>
                <a:lnTo>
                  <a:pt x="334" y="40"/>
                </a:lnTo>
                <a:lnTo>
                  <a:pt x="339" y="38"/>
                </a:lnTo>
                <a:lnTo>
                  <a:pt x="340" y="37"/>
                </a:lnTo>
                <a:lnTo>
                  <a:pt x="349" y="34"/>
                </a:lnTo>
                <a:lnTo>
                  <a:pt x="353" y="32"/>
                </a:lnTo>
                <a:lnTo>
                  <a:pt x="354" y="31"/>
                </a:lnTo>
                <a:lnTo>
                  <a:pt x="356" y="31"/>
                </a:lnTo>
                <a:lnTo>
                  <a:pt x="363" y="27"/>
                </a:lnTo>
                <a:lnTo>
                  <a:pt x="367" y="26"/>
                </a:lnTo>
                <a:lnTo>
                  <a:pt x="368" y="25"/>
                </a:lnTo>
                <a:lnTo>
                  <a:pt x="370" y="25"/>
                </a:lnTo>
                <a:lnTo>
                  <a:pt x="377" y="22"/>
                </a:lnTo>
                <a:lnTo>
                  <a:pt x="381" y="21"/>
                </a:lnTo>
                <a:lnTo>
                  <a:pt x="382" y="20"/>
                </a:lnTo>
                <a:lnTo>
                  <a:pt x="384" y="20"/>
                </a:lnTo>
                <a:lnTo>
                  <a:pt x="391" y="18"/>
                </a:lnTo>
                <a:lnTo>
                  <a:pt x="395" y="17"/>
                </a:lnTo>
                <a:lnTo>
                  <a:pt x="396" y="16"/>
                </a:lnTo>
                <a:lnTo>
                  <a:pt x="397" y="16"/>
                </a:lnTo>
                <a:lnTo>
                  <a:pt x="404" y="15"/>
                </a:lnTo>
                <a:lnTo>
                  <a:pt x="408" y="14"/>
                </a:lnTo>
                <a:lnTo>
                  <a:pt x="409" y="13"/>
                </a:lnTo>
                <a:lnTo>
                  <a:pt x="410" y="13"/>
                </a:lnTo>
                <a:lnTo>
                  <a:pt x="416" y="12"/>
                </a:lnTo>
                <a:lnTo>
                  <a:pt x="421" y="12"/>
                </a:lnTo>
                <a:lnTo>
                  <a:pt x="422" y="11"/>
                </a:lnTo>
                <a:lnTo>
                  <a:pt x="423" y="11"/>
                </a:lnTo>
                <a:lnTo>
                  <a:pt x="429" y="10"/>
                </a:lnTo>
                <a:lnTo>
                  <a:pt x="434" y="10"/>
                </a:lnTo>
                <a:lnTo>
                  <a:pt x="435" y="9"/>
                </a:lnTo>
                <a:lnTo>
                  <a:pt x="436" y="9"/>
                </a:lnTo>
                <a:lnTo>
                  <a:pt x="442" y="9"/>
                </a:lnTo>
                <a:lnTo>
                  <a:pt x="446" y="9"/>
                </a:lnTo>
                <a:lnTo>
                  <a:pt x="448" y="9"/>
                </a:lnTo>
                <a:lnTo>
                  <a:pt x="448" y="8"/>
                </a:lnTo>
                <a:lnTo>
                  <a:pt x="448" y="4"/>
                </a:lnTo>
                <a:lnTo>
                  <a:pt x="448" y="1"/>
                </a:lnTo>
                <a:lnTo>
                  <a:pt x="448" y="0"/>
                </a:lnTo>
                <a:lnTo>
                  <a:pt x="446" y="0"/>
                </a:lnTo>
                <a:lnTo>
                  <a:pt x="444" y="0"/>
                </a:lnTo>
                <a:lnTo>
                  <a:pt x="438" y="0"/>
                </a:lnTo>
                <a:lnTo>
                  <a:pt x="434" y="0"/>
                </a:lnTo>
                <a:lnTo>
                  <a:pt x="431" y="1"/>
                </a:lnTo>
                <a:lnTo>
                  <a:pt x="425" y="2"/>
                </a:lnTo>
                <a:lnTo>
                  <a:pt x="421" y="2"/>
                </a:lnTo>
                <a:lnTo>
                  <a:pt x="418" y="3"/>
                </a:lnTo>
                <a:lnTo>
                  <a:pt x="411" y="4"/>
                </a:lnTo>
                <a:lnTo>
                  <a:pt x="407" y="4"/>
                </a:lnTo>
                <a:lnTo>
                  <a:pt x="405" y="5"/>
                </a:lnTo>
                <a:lnTo>
                  <a:pt x="398" y="7"/>
                </a:lnTo>
                <a:lnTo>
                  <a:pt x="394" y="8"/>
                </a:lnTo>
                <a:lnTo>
                  <a:pt x="391" y="9"/>
                </a:lnTo>
                <a:lnTo>
                  <a:pt x="384" y="10"/>
                </a:lnTo>
                <a:lnTo>
                  <a:pt x="379" y="11"/>
                </a:lnTo>
                <a:lnTo>
                  <a:pt x="376" y="12"/>
                </a:lnTo>
                <a:lnTo>
                  <a:pt x="369" y="15"/>
                </a:lnTo>
                <a:lnTo>
                  <a:pt x="365" y="16"/>
                </a:lnTo>
                <a:lnTo>
                  <a:pt x="364" y="17"/>
                </a:lnTo>
                <a:lnTo>
                  <a:pt x="355" y="20"/>
                </a:lnTo>
                <a:lnTo>
                  <a:pt x="351" y="22"/>
                </a:lnTo>
                <a:lnTo>
                  <a:pt x="350" y="23"/>
                </a:lnTo>
                <a:lnTo>
                  <a:pt x="341" y="26"/>
                </a:lnTo>
                <a:lnTo>
                  <a:pt x="336" y="29"/>
                </a:lnTo>
                <a:lnTo>
                  <a:pt x="335" y="30"/>
                </a:lnTo>
                <a:lnTo>
                  <a:pt x="326" y="33"/>
                </a:lnTo>
                <a:lnTo>
                  <a:pt x="321" y="35"/>
                </a:lnTo>
                <a:lnTo>
                  <a:pt x="320" y="36"/>
                </a:lnTo>
                <a:lnTo>
                  <a:pt x="318" y="37"/>
                </a:lnTo>
                <a:lnTo>
                  <a:pt x="311" y="40"/>
                </a:lnTo>
                <a:lnTo>
                  <a:pt x="306" y="42"/>
                </a:lnTo>
                <a:lnTo>
                  <a:pt x="305" y="43"/>
                </a:lnTo>
                <a:lnTo>
                  <a:pt x="303" y="44"/>
                </a:lnTo>
                <a:lnTo>
                  <a:pt x="296" y="47"/>
                </a:lnTo>
                <a:lnTo>
                  <a:pt x="291" y="50"/>
                </a:lnTo>
                <a:lnTo>
                  <a:pt x="290" y="51"/>
                </a:lnTo>
                <a:lnTo>
                  <a:pt x="288" y="52"/>
                </a:lnTo>
                <a:lnTo>
                  <a:pt x="281" y="55"/>
                </a:lnTo>
                <a:lnTo>
                  <a:pt x="276" y="57"/>
                </a:lnTo>
                <a:lnTo>
                  <a:pt x="275" y="58"/>
                </a:lnTo>
                <a:lnTo>
                  <a:pt x="273" y="59"/>
                </a:lnTo>
                <a:lnTo>
                  <a:pt x="266" y="63"/>
                </a:lnTo>
                <a:lnTo>
                  <a:pt x="261" y="66"/>
                </a:lnTo>
                <a:lnTo>
                  <a:pt x="260" y="67"/>
                </a:lnTo>
                <a:lnTo>
                  <a:pt x="258" y="68"/>
                </a:lnTo>
                <a:lnTo>
                  <a:pt x="251" y="71"/>
                </a:lnTo>
                <a:lnTo>
                  <a:pt x="246" y="74"/>
                </a:lnTo>
                <a:lnTo>
                  <a:pt x="245" y="75"/>
                </a:lnTo>
                <a:lnTo>
                  <a:pt x="243" y="76"/>
                </a:lnTo>
                <a:lnTo>
                  <a:pt x="236" y="80"/>
                </a:lnTo>
                <a:lnTo>
                  <a:pt x="231" y="84"/>
                </a:lnTo>
                <a:lnTo>
                  <a:pt x="230" y="85"/>
                </a:lnTo>
                <a:lnTo>
                  <a:pt x="228" y="86"/>
                </a:lnTo>
                <a:lnTo>
                  <a:pt x="221" y="90"/>
                </a:lnTo>
                <a:lnTo>
                  <a:pt x="216" y="93"/>
                </a:lnTo>
                <a:lnTo>
                  <a:pt x="215" y="94"/>
                </a:lnTo>
                <a:lnTo>
                  <a:pt x="213" y="95"/>
                </a:lnTo>
                <a:lnTo>
                  <a:pt x="206" y="99"/>
                </a:lnTo>
                <a:lnTo>
                  <a:pt x="201" y="102"/>
                </a:lnTo>
                <a:lnTo>
                  <a:pt x="200" y="103"/>
                </a:lnTo>
                <a:lnTo>
                  <a:pt x="198" y="104"/>
                </a:lnTo>
                <a:lnTo>
                  <a:pt x="191" y="108"/>
                </a:lnTo>
                <a:lnTo>
                  <a:pt x="186" y="111"/>
                </a:lnTo>
                <a:lnTo>
                  <a:pt x="185" y="112"/>
                </a:lnTo>
                <a:lnTo>
                  <a:pt x="183" y="113"/>
                </a:lnTo>
                <a:lnTo>
                  <a:pt x="176" y="117"/>
                </a:lnTo>
                <a:lnTo>
                  <a:pt x="171" y="120"/>
                </a:lnTo>
                <a:lnTo>
                  <a:pt x="170" y="121"/>
                </a:lnTo>
                <a:lnTo>
                  <a:pt x="168" y="122"/>
                </a:lnTo>
                <a:lnTo>
                  <a:pt x="161" y="126"/>
                </a:lnTo>
                <a:lnTo>
                  <a:pt x="156" y="129"/>
                </a:lnTo>
                <a:lnTo>
                  <a:pt x="155" y="130"/>
                </a:lnTo>
                <a:lnTo>
                  <a:pt x="153" y="131"/>
                </a:lnTo>
                <a:lnTo>
                  <a:pt x="146" y="135"/>
                </a:lnTo>
                <a:lnTo>
                  <a:pt x="141" y="139"/>
                </a:lnTo>
                <a:lnTo>
                  <a:pt x="140" y="140"/>
                </a:lnTo>
                <a:lnTo>
                  <a:pt x="138" y="141"/>
                </a:lnTo>
                <a:lnTo>
                  <a:pt x="131" y="145"/>
                </a:lnTo>
                <a:lnTo>
                  <a:pt x="127" y="148"/>
                </a:lnTo>
                <a:lnTo>
                  <a:pt x="126" y="149"/>
                </a:lnTo>
                <a:lnTo>
                  <a:pt x="124" y="150"/>
                </a:lnTo>
                <a:lnTo>
                  <a:pt x="117" y="154"/>
                </a:lnTo>
                <a:lnTo>
                  <a:pt x="113" y="157"/>
                </a:lnTo>
                <a:lnTo>
                  <a:pt x="112" y="158"/>
                </a:lnTo>
                <a:lnTo>
                  <a:pt x="110" y="159"/>
                </a:lnTo>
                <a:lnTo>
                  <a:pt x="103" y="162"/>
                </a:lnTo>
                <a:lnTo>
                  <a:pt x="99" y="165"/>
                </a:lnTo>
                <a:lnTo>
                  <a:pt x="98" y="166"/>
                </a:lnTo>
                <a:lnTo>
                  <a:pt x="96" y="167"/>
                </a:lnTo>
                <a:lnTo>
                  <a:pt x="89" y="170"/>
                </a:lnTo>
                <a:lnTo>
                  <a:pt x="85" y="173"/>
                </a:lnTo>
                <a:lnTo>
                  <a:pt x="84" y="174"/>
                </a:lnTo>
                <a:lnTo>
                  <a:pt x="83" y="175"/>
                </a:lnTo>
                <a:lnTo>
                  <a:pt x="77" y="178"/>
                </a:lnTo>
                <a:lnTo>
                  <a:pt x="72" y="181"/>
                </a:lnTo>
                <a:lnTo>
                  <a:pt x="71" y="182"/>
                </a:lnTo>
                <a:lnTo>
                  <a:pt x="70" y="183"/>
                </a:lnTo>
                <a:lnTo>
                  <a:pt x="64" y="186"/>
                </a:lnTo>
                <a:lnTo>
                  <a:pt x="59" y="189"/>
                </a:lnTo>
                <a:lnTo>
                  <a:pt x="58" y="190"/>
                </a:lnTo>
                <a:lnTo>
                  <a:pt x="51" y="194"/>
                </a:lnTo>
                <a:lnTo>
                  <a:pt x="46" y="196"/>
                </a:lnTo>
                <a:lnTo>
                  <a:pt x="45" y="197"/>
                </a:lnTo>
                <a:lnTo>
                  <a:pt x="44" y="198"/>
                </a:lnTo>
                <a:lnTo>
                  <a:pt x="38" y="201"/>
                </a:lnTo>
                <a:lnTo>
                  <a:pt x="34" y="203"/>
                </a:lnTo>
                <a:lnTo>
                  <a:pt x="33" y="204"/>
                </a:lnTo>
                <a:lnTo>
                  <a:pt x="26" y="207"/>
                </a:lnTo>
                <a:lnTo>
                  <a:pt x="22" y="209"/>
                </a:lnTo>
                <a:lnTo>
                  <a:pt x="21" y="210"/>
                </a:lnTo>
                <a:lnTo>
                  <a:pt x="14" y="213"/>
                </a:lnTo>
                <a:lnTo>
                  <a:pt x="11" y="214"/>
                </a:lnTo>
                <a:lnTo>
                  <a:pt x="9" y="215"/>
                </a:lnTo>
                <a:lnTo>
                  <a:pt x="4" y="217"/>
                </a:lnTo>
                <a:lnTo>
                  <a:pt x="0" y="218"/>
                </a:lnTo>
                <a:lnTo>
                  <a:pt x="1" y="218"/>
                </a:lnTo>
                <a:lnTo>
                  <a:pt x="3" y="218"/>
                </a:lnTo>
                <a:lnTo>
                  <a:pt x="3" y="2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25"/>
          <p:cNvSpPr/>
          <p:nvPr/>
        </p:nvSpPr>
        <p:spPr>
          <a:xfrm>
            <a:off x="3519360" y="3395520"/>
            <a:ext cx="85680" cy="82800"/>
          </a:xfrm>
          <a:custGeom>
            <a:avLst/>
            <a:gdLst>
              <a:gd name="textAreaLeft" fmla="*/ 0 w 85680"/>
              <a:gd name="textAreaRight" fmla="*/ 86040 w 85680"/>
              <a:gd name="textAreaTop" fmla="*/ 0 h 82800"/>
              <a:gd name="textAreaBottom" fmla="*/ 83160 h 82800"/>
            </a:gdLst>
            <a:ahLst/>
            <a:rect l="textAreaLeft" t="textAreaTop" r="textAreaRight" b="textAreaBottom"/>
            <a:pathLst>
              <a:path w="109" h="104">
                <a:moveTo>
                  <a:pt x="10" y="99"/>
                </a:moveTo>
                <a:lnTo>
                  <a:pt x="9" y="103"/>
                </a:lnTo>
                <a:lnTo>
                  <a:pt x="9" y="104"/>
                </a:lnTo>
                <a:lnTo>
                  <a:pt x="10" y="102"/>
                </a:lnTo>
                <a:lnTo>
                  <a:pt x="11" y="101"/>
                </a:lnTo>
                <a:lnTo>
                  <a:pt x="12" y="100"/>
                </a:lnTo>
                <a:lnTo>
                  <a:pt x="13" y="99"/>
                </a:lnTo>
                <a:lnTo>
                  <a:pt x="14" y="98"/>
                </a:lnTo>
                <a:lnTo>
                  <a:pt x="15" y="97"/>
                </a:lnTo>
                <a:lnTo>
                  <a:pt x="16" y="95"/>
                </a:lnTo>
                <a:lnTo>
                  <a:pt x="17" y="94"/>
                </a:lnTo>
                <a:lnTo>
                  <a:pt x="18" y="92"/>
                </a:lnTo>
                <a:lnTo>
                  <a:pt x="20" y="91"/>
                </a:lnTo>
                <a:lnTo>
                  <a:pt x="21" y="90"/>
                </a:lnTo>
                <a:lnTo>
                  <a:pt x="22" y="89"/>
                </a:lnTo>
                <a:lnTo>
                  <a:pt x="23" y="88"/>
                </a:lnTo>
                <a:lnTo>
                  <a:pt x="24" y="86"/>
                </a:lnTo>
                <a:lnTo>
                  <a:pt x="25" y="84"/>
                </a:lnTo>
                <a:lnTo>
                  <a:pt x="26" y="83"/>
                </a:lnTo>
                <a:lnTo>
                  <a:pt x="27" y="82"/>
                </a:lnTo>
                <a:lnTo>
                  <a:pt x="28" y="80"/>
                </a:lnTo>
                <a:lnTo>
                  <a:pt x="29" y="79"/>
                </a:lnTo>
                <a:lnTo>
                  <a:pt x="30" y="78"/>
                </a:lnTo>
                <a:lnTo>
                  <a:pt x="31" y="76"/>
                </a:lnTo>
                <a:lnTo>
                  <a:pt x="32" y="75"/>
                </a:lnTo>
                <a:lnTo>
                  <a:pt x="33" y="74"/>
                </a:lnTo>
                <a:lnTo>
                  <a:pt x="35" y="72"/>
                </a:lnTo>
                <a:lnTo>
                  <a:pt x="36" y="71"/>
                </a:lnTo>
                <a:lnTo>
                  <a:pt x="37" y="70"/>
                </a:lnTo>
                <a:lnTo>
                  <a:pt x="38" y="68"/>
                </a:lnTo>
                <a:lnTo>
                  <a:pt x="39" y="67"/>
                </a:lnTo>
                <a:lnTo>
                  <a:pt x="40" y="66"/>
                </a:lnTo>
                <a:lnTo>
                  <a:pt x="41" y="64"/>
                </a:lnTo>
                <a:lnTo>
                  <a:pt x="42" y="63"/>
                </a:lnTo>
                <a:lnTo>
                  <a:pt x="43" y="62"/>
                </a:lnTo>
                <a:lnTo>
                  <a:pt x="45" y="60"/>
                </a:lnTo>
                <a:lnTo>
                  <a:pt x="46" y="59"/>
                </a:lnTo>
                <a:lnTo>
                  <a:pt x="47" y="58"/>
                </a:lnTo>
                <a:lnTo>
                  <a:pt x="48" y="56"/>
                </a:lnTo>
                <a:lnTo>
                  <a:pt x="50" y="55"/>
                </a:lnTo>
                <a:lnTo>
                  <a:pt x="51" y="54"/>
                </a:lnTo>
                <a:lnTo>
                  <a:pt x="52" y="52"/>
                </a:lnTo>
                <a:lnTo>
                  <a:pt x="53" y="51"/>
                </a:lnTo>
                <a:lnTo>
                  <a:pt x="54" y="50"/>
                </a:lnTo>
                <a:lnTo>
                  <a:pt x="56" y="48"/>
                </a:lnTo>
                <a:lnTo>
                  <a:pt x="57" y="47"/>
                </a:lnTo>
                <a:lnTo>
                  <a:pt x="58" y="46"/>
                </a:lnTo>
                <a:lnTo>
                  <a:pt x="59" y="44"/>
                </a:lnTo>
                <a:lnTo>
                  <a:pt x="60" y="43"/>
                </a:lnTo>
                <a:lnTo>
                  <a:pt x="61" y="42"/>
                </a:lnTo>
                <a:lnTo>
                  <a:pt x="63" y="40"/>
                </a:lnTo>
                <a:lnTo>
                  <a:pt x="65" y="39"/>
                </a:lnTo>
                <a:lnTo>
                  <a:pt x="66" y="38"/>
                </a:lnTo>
                <a:lnTo>
                  <a:pt x="67" y="36"/>
                </a:lnTo>
                <a:lnTo>
                  <a:pt x="68" y="35"/>
                </a:lnTo>
                <a:lnTo>
                  <a:pt x="69" y="34"/>
                </a:lnTo>
                <a:lnTo>
                  <a:pt x="71" y="33"/>
                </a:lnTo>
                <a:lnTo>
                  <a:pt x="72" y="32"/>
                </a:lnTo>
                <a:lnTo>
                  <a:pt x="73" y="31"/>
                </a:lnTo>
                <a:lnTo>
                  <a:pt x="74" y="30"/>
                </a:lnTo>
                <a:lnTo>
                  <a:pt x="75" y="29"/>
                </a:lnTo>
                <a:lnTo>
                  <a:pt x="76" y="28"/>
                </a:lnTo>
                <a:lnTo>
                  <a:pt x="77" y="25"/>
                </a:lnTo>
                <a:lnTo>
                  <a:pt x="78" y="24"/>
                </a:lnTo>
                <a:lnTo>
                  <a:pt x="80" y="23"/>
                </a:lnTo>
                <a:lnTo>
                  <a:pt x="82" y="22"/>
                </a:lnTo>
                <a:lnTo>
                  <a:pt x="84" y="21"/>
                </a:lnTo>
                <a:lnTo>
                  <a:pt x="85" y="20"/>
                </a:lnTo>
                <a:lnTo>
                  <a:pt x="86" y="19"/>
                </a:lnTo>
                <a:lnTo>
                  <a:pt x="87" y="18"/>
                </a:lnTo>
                <a:lnTo>
                  <a:pt x="88" y="17"/>
                </a:lnTo>
                <a:lnTo>
                  <a:pt x="90" y="16"/>
                </a:lnTo>
                <a:lnTo>
                  <a:pt x="91" y="15"/>
                </a:lnTo>
                <a:lnTo>
                  <a:pt x="94" y="14"/>
                </a:lnTo>
                <a:lnTo>
                  <a:pt x="95" y="13"/>
                </a:lnTo>
                <a:lnTo>
                  <a:pt x="97" y="12"/>
                </a:lnTo>
                <a:lnTo>
                  <a:pt x="98" y="12"/>
                </a:lnTo>
                <a:lnTo>
                  <a:pt x="99" y="12"/>
                </a:lnTo>
                <a:lnTo>
                  <a:pt x="100" y="11"/>
                </a:lnTo>
                <a:lnTo>
                  <a:pt x="101" y="11"/>
                </a:lnTo>
                <a:lnTo>
                  <a:pt x="102" y="11"/>
                </a:lnTo>
                <a:lnTo>
                  <a:pt x="103" y="10"/>
                </a:lnTo>
                <a:lnTo>
                  <a:pt x="105" y="9"/>
                </a:lnTo>
                <a:lnTo>
                  <a:pt x="106" y="9"/>
                </a:lnTo>
                <a:lnTo>
                  <a:pt x="107" y="9"/>
                </a:lnTo>
                <a:lnTo>
                  <a:pt x="109" y="9"/>
                </a:lnTo>
                <a:lnTo>
                  <a:pt x="109" y="8"/>
                </a:lnTo>
                <a:lnTo>
                  <a:pt x="109" y="4"/>
                </a:lnTo>
                <a:lnTo>
                  <a:pt x="109" y="1"/>
                </a:lnTo>
                <a:lnTo>
                  <a:pt x="109" y="0"/>
                </a:lnTo>
                <a:lnTo>
                  <a:pt x="107" y="0"/>
                </a:lnTo>
                <a:lnTo>
                  <a:pt x="105" y="0"/>
                </a:lnTo>
                <a:lnTo>
                  <a:pt x="104" y="0"/>
                </a:lnTo>
                <a:lnTo>
                  <a:pt x="101" y="1"/>
                </a:lnTo>
                <a:lnTo>
                  <a:pt x="100" y="1"/>
                </a:lnTo>
                <a:lnTo>
                  <a:pt x="98" y="2"/>
                </a:lnTo>
                <a:lnTo>
                  <a:pt x="97" y="2"/>
                </a:lnTo>
                <a:lnTo>
                  <a:pt x="96" y="3"/>
                </a:lnTo>
                <a:lnTo>
                  <a:pt x="94" y="4"/>
                </a:lnTo>
                <a:lnTo>
                  <a:pt x="92" y="4"/>
                </a:lnTo>
                <a:lnTo>
                  <a:pt x="91" y="5"/>
                </a:lnTo>
                <a:lnTo>
                  <a:pt x="90" y="6"/>
                </a:lnTo>
                <a:lnTo>
                  <a:pt x="89" y="6"/>
                </a:lnTo>
                <a:lnTo>
                  <a:pt x="88" y="7"/>
                </a:lnTo>
                <a:lnTo>
                  <a:pt x="86" y="8"/>
                </a:lnTo>
                <a:lnTo>
                  <a:pt x="85" y="8"/>
                </a:lnTo>
                <a:lnTo>
                  <a:pt x="84" y="9"/>
                </a:lnTo>
                <a:lnTo>
                  <a:pt x="83" y="10"/>
                </a:lnTo>
                <a:lnTo>
                  <a:pt x="82" y="11"/>
                </a:lnTo>
                <a:lnTo>
                  <a:pt x="81" y="12"/>
                </a:lnTo>
                <a:lnTo>
                  <a:pt x="78" y="13"/>
                </a:lnTo>
                <a:lnTo>
                  <a:pt x="77" y="14"/>
                </a:lnTo>
                <a:lnTo>
                  <a:pt x="76" y="15"/>
                </a:lnTo>
                <a:lnTo>
                  <a:pt x="75" y="16"/>
                </a:lnTo>
                <a:lnTo>
                  <a:pt x="74" y="17"/>
                </a:lnTo>
                <a:lnTo>
                  <a:pt x="73" y="18"/>
                </a:lnTo>
                <a:lnTo>
                  <a:pt x="71" y="19"/>
                </a:lnTo>
                <a:lnTo>
                  <a:pt x="70" y="20"/>
                </a:lnTo>
                <a:lnTo>
                  <a:pt x="69" y="21"/>
                </a:lnTo>
                <a:lnTo>
                  <a:pt x="67" y="23"/>
                </a:lnTo>
                <a:lnTo>
                  <a:pt x="66" y="24"/>
                </a:lnTo>
                <a:lnTo>
                  <a:pt x="65" y="25"/>
                </a:lnTo>
                <a:lnTo>
                  <a:pt x="63" y="26"/>
                </a:lnTo>
                <a:lnTo>
                  <a:pt x="62" y="28"/>
                </a:lnTo>
                <a:lnTo>
                  <a:pt x="61" y="29"/>
                </a:lnTo>
                <a:lnTo>
                  <a:pt x="59" y="31"/>
                </a:lnTo>
                <a:lnTo>
                  <a:pt x="58" y="32"/>
                </a:lnTo>
                <a:lnTo>
                  <a:pt x="57" y="33"/>
                </a:lnTo>
                <a:lnTo>
                  <a:pt x="56" y="35"/>
                </a:lnTo>
                <a:lnTo>
                  <a:pt x="55" y="36"/>
                </a:lnTo>
                <a:lnTo>
                  <a:pt x="54" y="37"/>
                </a:lnTo>
                <a:lnTo>
                  <a:pt x="52" y="39"/>
                </a:lnTo>
                <a:lnTo>
                  <a:pt x="51" y="40"/>
                </a:lnTo>
                <a:lnTo>
                  <a:pt x="50" y="41"/>
                </a:lnTo>
                <a:lnTo>
                  <a:pt x="47" y="43"/>
                </a:lnTo>
                <a:lnTo>
                  <a:pt x="46" y="44"/>
                </a:lnTo>
                <a:lnTo>
                  <a:pt x="45" y="45"/>
                </a:lnTo>
                <a:lnTo>
                  <a:pt x="44" y="47"/>
                </a:lnTo>
                <a:lnTo>
                  <a:pt x="43" y="48"/>
                </a:lnTo>
                <a:lnTo>
                  <a:pt x="42" y="49"/>
                </a:lnTo>
                <a:lnTo>
                  <a:pt x="41" y="51"/>
                </a:lnTo>
                <a:lnTo>
                  <a:pt x="40" y="52"/>
                </a:lnTo>
                <a:lnTo>
                  <a:pt x="39" y="53"/>
                </a:lnTo>
                <a:lnTo>
                  <a:pt x="37" y="55"/>
                </a:lnTo>
                <a:lnTo>
                  <a:pt x="36" y="56"/>
                </a:lnTo>
                <a:lnTo>
                  <a:pt x="35" y="57"/>
                </a:lnTo>
                <a:lnTo>
                  <a:pt x="33" y="59"/>
                </a:lnTo>
                <a:lnTo>
                  <a:pt x="32" y="60"/>
                </a:lnTo>
                <a:lnTo>
                  <a:pt x="31" y="61"/>
                </a:lnTo>
                <a:lnTo>
                  <a:pt x="30" y="63"/>
                </a:lnTo>
                <a:lnTo>
                  <a:pt x="29" y="64"/>
                </a:lnTo>
                <a:lnTo>
                  <a:pt x="28" y="65"/>
                </a:lnTo>
                <a:lnTo>
                  <a:pt x="27" y="67"/>
                </a:lnTo>
                <a:lnTo>
                  <a:pt x="26" y="68"/>
                </a:lnTo>
                <a:lnTo>
                  <a:pt x="25" y="69"/>
                </a:lnTo>
                <a:lnTo>
                  <a:pt x="24" y="71"/>
                </a:lnTo>
                <a:lnTo>
                  <a:pt x="23" y="72"/>
                </a:lnTo>
                <a:lnTo>
                  <a:pt x="22" y="73"/>
                </a:lnTo>
                <a:lnTo>
                  <a:pt x="21" y="75"/>
                </a:lnTo>
                <a:lnTo>
                  <a:pt x="20" y="76"/>
                </a:lnTo>
                <a:lnTo>
                  <a:pt x="18" y="77"/>
                </a:lnTo>
                <a:lnTo>
                  <a:pt x="17" y="78"/>
                </a:lnTo>
                <a:lnTo>
                  <a:pt x="16" y="79"/>
                </a:lnTo>
                <a:lnTo>
                  <a:pt x="15" y="80"/>
                </a:lnTo>
                <a:lnTo>
                  <a:pt x="14" y="82"/>
                </a:lnTo>
                <a:lnTo>
                  <a:pt x="14" y="83"/>
                </a:lnTo>
                <a:lnTo>
                  <a:pt x="13" y="84"/>
                </a:lnTo>
                <a:lnTo>
                  <a:pt x="12" y="86"/>
                </a:lnTo>
                <a:lnTo>
                  <a:pt x="11" y="87"/>
                </a:lnTo>
                <a:lnTo>
                  <a:pt x="10" y="88"/>
                </a:lnTo>
                <a:lnTo>
                  <a:pt x="9" y="89"/>
                </a:lnTo>
                <a:lnTo>
                  <a:pt x="8" y="90"/>
                </a:lnTo>
                <a:lnTo>
                  <a:pt x="7" y="91"/>
                </a:lnTo>
                <a:lnTo>
                  <a:pt x="7" y="92"/>
                </a:lnTo>
                <a:lnTo>
                  <a:pt x="6" y="93"/>
                </a:lnTo>
                <a:lnTo>
                  <a:pt x="4" y="94"/>
                </a:lnTo>
                <a:lnTo>
                  <a:pt x="3" y="95"/>
                </a:lnTo>
                <a:lnTo>
                  <a:pt x="3" y="96"/>
                </a:lnTo>
                <a:lnTo>
                  <a:pt x="2" y="97"/>
                </a:lnTo>
                <a:lnTo>
                  <a:pt x="1" y="97"/>
                </a:lnTo>
                <a:lnTo>
                  <a:pt x="0" y="101"/>
                </a:lnTo>
                <a:lnTo>
                  <a:pt x="0" y="102"/>
                </a:lnTo>
                <a:lnTo>
                  <a:pt x="0" y="99"/>
                </a:lnTo>
                <a:lnTo>
                  <a:pt x="0" y="98"/>
                </a:lnTo>
                <a:lnTo>
                  <a:pt x="1" y="97"/>
                </a:lnTo>
                <a:lnTo>
                  <a:pt x="0" y="98"/>
                </a:lnTo>
                <a:lnTo>
                  <a:pt x="0" y="99"/>
                </a:lnTo>
                <a:lnTo>
                  <a:pt x="0" y="100"/>
                </a:lnTo>
                <a:lnTo>
                  <a:pt x="0" y="101"/>
                </a:lnTo>
                <a:lnTo>
                  <a:pt x="0" y="102"/>
                </a:lnTo>
                <a:lnTo>
                  <a:pt x="10" y="99"/>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27" name="Freeform 26"/>
          <p:cNvSpPr/>
          <p:nvPr/>
        </p:nvSpPr>
        <p:spPr>
          <a:xfrm>
            <a:off x="3519360" y="3475080"/>
            <a:ext cx="25560" cy="73080"/>
          </a:xfrm>
          <a:custGeom>
            <a:avLst/>
            <a:gdLst>
              <a:gd name="textAreaLeft" fmla="*/ 0 w 25560"/>
              <a:gd name="textAreaRight" fmla="*/ 25920 w 25560"/>
              <a:gd name="textAreaTop" fmla="*/ 0 h 73080"/>
              <a:gd name="textAreaBottom" fmla="*/ 73080 h 73080"/>
            </a:gdLst>
            <a:ahLst/>
            <a:rect l="textAreaLeft" t="textAreaTop" r="textAreaRight" b="textAreaBottom"/>
            <a:pathLst>
              <a:path w="32" h="93">
                <a:moveTo>
                  <a:pt x="32" y="89"/>
                </a:moveTo>
                <a:lnTo>
                  <a:pt x="32" y="89"/>
                </a:lnTo>
                <a:lnTo>
                  <a:pt x="28" y="76"/>
                </a:lnTo>
                <a:lnTo>
                  <a:pt x="17" y="34"/>
                </a:lnTo>
                <a:lnTo>
                  <a:pt x="10" y="2"/>
                </a:lnTo>
                <a:lnTo>
                  <a:pt x="10" y="0"/>
                </a:lnTo>
                <a:lnTo>
                  <a:pt x="8" y="1"/>
                </a:lnTo>
                <a:lnTo>
                  <a:pt x="3" y="2"/>
                </a:lnTo>
                <a:lnTo>
                  <a:pt x="0" y="3"/>
                </a:lnTo>
                <a:lnTo>
                  <a:pt x="0" y="5"/>
                </a:lnTo>
                <a:lnTo>
                  <a:pt x="3" y="17"/>
                </a:lnTo>
                <a:lnTo>
                  <a:pt x="14" y="59"/>
                </a:lnTo>
                <a:lnTo>
                  <a:pt x="22" y="92"/>
                </a:lnTo>
                <a:lnTo>
                  <a:pt x="23" y="93"/>
                </a:lnTo>
                <a:lnTo>
                  <a:pt x="32" y="89"/>
                </a:lnTo>
                <a:close/>
              </a:path>
            </a:pathLst>
          </a:custGeom>
          <a:solidFill>
            <a:srgbClr val="1f1a17"/>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28" name="Freeform 27"/>
          <p:cNvSpPr/>
          <p:nvPr/>
        </p:nvSpPr>
        <p:spPr>
          <a:xfrm>
            <a:off x="3508200" y="3546360"/>
            <a:ext cx="36720" cy="77760"/>
          </a:xfrm>
          <a:custGeom>
            <a:avLst/>
            <a:gdLst>
              <a:gd name="textAreaLeft" fmla="*/ 0 w 36720"/>
              <a:gd name="textAreaRight" fmla="*/ 37080 w 36720"/>
              <a:gd name="textAreaTop" fmla="*/ 0 h 77760"/>
              <a:gd name="textAreaBottom" fmla="*/ 78120 h 77760"/>
            </a:gdLst>
            <a:ahLst/>
            <a:rect l="textAreaLeft" t="textAreaTop" r="textAreaRight" b="textAreaBottom"/>
            <a:pathLst>
              <a:path w="45" h="99">
                <a:moveTo>
                  <a:pt x="9" y="94"/>
                </a:moveTo>
                <a:lnTo>
                  <a:pt x="9" y="95"/>
                </a:lnTo>
                <a:lnTo>
                  <a:pt x="9" y="96"/>
                </a:lnTo>
                <a:lnTo>
                  <a:pt x="9" y="97"/>
                </a:lnTo>
                <a:lnTo>
                  <a:pt x="10" y="97"/>
                </a:lnTo>
                <a:lnTo>
                  <a:pt x="10" y="95"/>
                </a:lnTo>
                <a:lnTo>
                  <a:pt x="10" y="94"/>
                </a:lnTo>
                <a:lnTo>
                  <a:pt x="11" y="93"/>
                </a:lnTo>
                <a:lnTo>
                  <a:pt x="11" y="91"/>
                </a:lnTo>
                <a:lnTo>
                  <a:pt x="11" y="90"/>
                </a:lnTo>
                <a:lnTo>
                  <a:pt x="11" y="89"/>
                </a:lnTo>
                <a:lnTo>
                  <a:pt x="11" y="86"/>
                </a:lnTo>
                <a:lnTo>
                  <a:pt x="11" y="85"/>
                </a:lnTo>
                <a:lnTo>
                  <a:pt x="12" y="84"/>
                </a:lnTo>
                <a:lnTo>
                  <a:pt x="12" y="82"/>
                </a:lnTo>
                <a:lnTo>
                  <a:pt x="12" y="81"/>
                </a:lnTo>
                <a:lnTo>
                  <a:pt x="13" y="80"/>
                </a:lnTo>
                <a:lnTo>
                  <a:pt x="13" y="78"/>
                </a:lnTo>
                <a:lnTo>
                  <a:pt x="13" y="77"/>
                </a:lnTo>
                <a:lnTo>
                  <a:pt x="14" y="76"/>
                </a:lnTo>
                <a:lnTo>
                  <a:pt x="14" y="75"/>
                </a:lnTo>
                <a:lnTo>
                  <a:pt x="14" y="74"/>
                </a:lnTo>
                <a:lnTo>
                  <a:pt x="15" y="73"/>
                </a:lnTo>
                <a:lnTo>
                  <a:pt x="16" y="71"/>
                </a:lnTo>
                <a:lnTo>
                  <a:pt x="17" y="69"/>
                </a:lnTo>
                <a:lnTo>
                  <a:pt x="17" y="67"/>
                </a:lnTo>
                <a:lnTo>
                  <a:pt x="17" y="66"/>
                </a:lnTo>
                <a:lnTo>
                  <a:pt x="19" y="65"/>
                </a:lnTo>
                <a:lnTo>
                  <a:pt x="19" y="64"/>
                </a:lnTo>
                <a:lnTo>
                  <a:pt x="19" y="63"/>
                </a:lnTo>
                <a:lnTo>
                  <a:pt x="20" y="62"/>
                </a:lnTo>
                <a:lnTo>
                  <a:pt x="21" y="60"/>
                </a:lnTo>
                <a:lnTo>
                  <a:pt x="22" y="58"/>
                </a:lnTo>
                <a:lnTo>
                  <a:pt x="22" y="57"/>
                </a:lnTo>
                <a:lnTo>
                  <a:pt x="22" y="55"/>
                </a:lnTo>
                <a:lnTo>
                  <a:pt x="23" y="54"/>
                </a:lnTo>
                <a:lnTo>
                  <a:pt x="24" y="53"/>
                </a:lnTo>
                <a:lnTo>
                  <a:pt x="25" y="51"/>
                </a:lnTo>
                <a:lnTo>
                  <a:pt x="25" y="49"/>
                </a:lnTo>
                <a:lnTo>
                  <a:pt x="25" y="48"/>
                </a:lnTo>
                <a:lnTo>
                  <a:pt x="26" y="47"/>
                </a:lnTo>
                <a:lnTo>
                  <a:pt x="27" y="46"/>
                </a:lnTo>
                <a:lnTo>
                  <a:pt x="28" y="44"/>
                </a:lnTo>
                <a:lnTo>
                  <a:pt x="28" y="43"/>
                </a:lnTo>
                <a:lnTo>
                  <a:pt x="28" y="42"/>
                </a:lnTo>
                <a:lnTo>
                  <a:pt x="29" y="41"/>
                </a:lnTo>
                <a:lnTo>
                  <a:pt x="30" y="40"/>
                </a:lnTo>
                <a:lnTo>
                  <a:pt x="31" y="38"/>
                </a:lnTo>
                <a:lnTo>
                  <a:pt x="33" y="35"/>
                </a:lnTo>
                <a:lnTo>
                  <a:pt x="34" y="34"/>
                </a:lnTo>
                <a:lnTo>
                  <a:pt x="35" y="33"/>
                </a:lnTo>
                <a:lnTo>
                  <a:pt x="36" y="30"/>
                </a:lnTo>
                <a:lnTo>
                  <a:pt x="36" y="28"/>
                </a:lnTo>
                <a:lnTo>
                  <a:pt x="37" y="27"/>
                </a:lnTo>
                <a:lnTo>
                  <a:pt x="38" y="26"/>
                </a:lnTo>
                <a:lnTo>
                  <a:pt x="39" y="25"/>
                </a:lnTo>
                <a:lnTo>
                  <a:pt x="40" y="23"/>
                </a:lnTo>
                <a:lnTo>
                  <a:pt x="40" y="22"/>
                </a:lnTo>
                <a:lnTo>
                  <a:pt x="40" y="21"/>
                </a:lnTo>
                <a:lnTo>
                  <a:pt x="41" y="20"/>
                </a:lnTo>
                <a:lnTo>
                  <a:pt x="42" y="18"/>
                </a:lnTo>
                <a:lnTo>
                  <a:pt x="43" y="16"/>
                </a:lnTo>
                <a:lnTo>
                  <a:pt x="44" y="14"/>
                </a:lnTo>
                <a:lnTo>
                  <a:pt x="44" y="13"/>
                </a:lnTo>
                <a:lnTo>
                  <a:pt x="44" y="12"/>
                </a:lnTo>
                <a:lnTo>
                  <a:pt x="44" y="11"/>
                </a:lnTo>
                <a:lnTo>
                  <a:pt x="44" y="10"/>
                </a:lnTo>
                <a:lnTo>
                  <a:pt x="45" y="9"/>
                </a:lnTo>
                <a:lnTo>
                  <a:pt x="45" y="8"/>
                </a:lnTo>
                <a:lnTo>
                  <a:pt x="45" y="7"/>
                </a:lnTo>
                <a:lnTo>
                  <a:pt x="45" y="6"/>
                </a:lnTo>
                <a:lnTo>
                  <a:pt x="45" y="5"/>
                </a:lnTo>
                <a:lnTo>
                  <a:pt x="45" y="4"/>
                </a:lnTo>
                <a:lnTo>
                  <a:pt x="45" y="3"/>
                </a:lnTo>
                <a:lnTo>
                  <a:pt x="45" y="1"/>
                </a:lnTo>
                <a:lnTo>
                  <a:pt x="45" y="0"/>
                </a:lnTo>
                <a:lnTo>
                  <a:pt x="43" y="1"/>
                </a:lnTo>
                <a:lnTo>
                  <a:pt x="39" y="3"/>
                </a:lnTo>
                <a:lnTo>
                  <a:pt x="36" y="4"/>
                </a:lnTo>
                <a:lnTo>
                  <a:pt x="36" y="5"/>
                </a:lnTo>
                <a:lnTo>
                  <a:pt x="36" y="6"/>
                </a:lnTo>
                <a:lnTo>
                  <a:pt x="36" y="7"/>
                </a:lnTo>
                <a:lnTo>
                  <a:pt x="36" y="8"/>
                </a:lnTo>
                <a:lnTo>
                  <a:pt x="36" y="9"/>
                </a:lnTo>
                <a:lnTo>
                  <a:pt x="35" y="10"/>
                </a:lnTo>
                <a:lnTo>
                  <a:pt x="35" y="11"/>
                </a:lnTo>
                <a:lnTo>
                  <a:pt x="35" y="12"/>
                </a:lnTo>
                <a:lnTo>
                  <a:pt x="34" y="13"/>
                </a:lnTo>
                <a:lnTo>
                  <a:pt x="34" y="14"/>
                </a:lnTo>
                <a:lnTo>
                  <a:pt x="33" y="15"/>
                </a:lnTo>
                <a:lnTo>
                  <a:pt x="33" y="16"/>
                </a:lnTo>
                <a:lnTo>
                  <a:pt x="31" y="18"/>
                </a:lnTo>
                <a:lnTo>
                  <a:pt x="31" y="19"/>
                </a:lnTo>
                <a:lnTo>
                  <a:pt x="30" y="20"/>
                </a:lnTo>
                <a:lnTo>
                  <a:pt x="30" y="21"/>
                </a:lnTo>
                <a:lnTo>
                  <a:pt x="29" y="22"/>
                </a:lnTo>
                <a:lnTo>
                  <a:pt x="28" y="23"/>
                </a:lnTo>
                <a:lnTo>
                  <a:pt x="26" y="27"/>
                </a:lnTo>
                <a:lnTo>
                  <a:pt x="26" y="29"/>
                </a:lnTo>
                <a:lnTo>
                  <a:pt x="25" y="30"/>
                </a:lnTo>
                <a:lnTo>
                  <a:pt x="24" y="33"/>
                </a:lnTo>
                <a:lnTo>
                  <a:pt x="23" y="34"/>
                </a:lnTo>
                <a:lnTo>
                  <a:pt x="22" y="35"/>
                </a:lnTo>
                <a:lnTo>
                  <a:pt x="21" y="36"/>
                </a:lnTo>
                <a:lnTo>
                  <a:pt x="21" y="37"/>
                </a:lnTo>
                <a:lnTo>
                  <a:pt x="20" y="39"/>
                </a:lnTo>
                <a:lnTo>
                  <a:pt x="20" y="40"/>
                </a:lnTo>
                <a:lnTo>
                  <a:pt x="19" y="41"/>
                </a:lnTo>
                <a:lnTo>
                  <a:pt x="17" y="42"/>
                </a:lnTo>
                <a:lnTo>
                  <a:pt x="17" y="43"/>
                </a:lnTo>
                <a:lnTo>
                  <a:pt x="16" y="46"/>
                </a:lnTo>
                <a:lnTo>
                  <a:pt x="16" y="47"/>
                </a:lnTo>
                <a:lnTo>
                  <a:pt x="15" y="48"/>
                </a:lnTo>
                <a:lnTo>
                  <a:pt x="14" y="49"/>
                </a:lnTo>
                <a:lnTo>
                  <a:pt x="14" y="50"/>
                </a:lnTo>
                <a:lnTo>
                  <a:pt x="13" y="51"/>
                </a:lnTo>
                <a:lnTo>
                  <a:pt x="12" y="53"/>
                </a:lnTo>
                <a:lnTo>
                  <a:pt x="12" y="54"/>
                </a:lnTo>
                <a:lnTo>
                  <a:pt x="11" y="57"/>
                </a:lnTo>
                <a:lnTo>
                  <a:pt x="11" y="58"/>
                </a:lnTo>
                <a:lnTo>
                  <a:pt x="10" y="61"/>
                </a:lnTo>
                <a:lnTo>
                  <a:pt x="10" y="62"/>
                </a:lnTo>
                <a:lnTo>
                  <a:pt x="9" y="63"/>
                </a:lnTo>
                <a:lnTo>
                  <a:pt x="8" y="65"/>
                </a:lnTo>
                <a:lnTo>
                  <a:pt x="8" y="66"/>
                </a:lnTo>
                <a:lnTo>
                  <a:pt x="7" y="69"/>
                </a:lnTo>
                <a:lnTo>
                  <a:pt x="7" y="70"/>
                </a:lnTo>
                <a:lnTo>
                  <a:pt x="6" y="73"/>
                </a:lnTo>
                <a:lnTo>
                  <a:pt x="6" y="74"/>
                </a:lnTo>
                <a:lnTo>
                  <a:pt x="5" y="75"/>
                </a:lnTo>
                <a:lnTo>
                  <a:pt x="4" y="77"/>
                </a:lnTo>
                <a:lnTo>
                  <a:pt x="4" y="78"/>
                </a:lnTo>
                <a:lnTo>
                  <a:pt x="2" y="81"/>
                </a:lnTo>
                <a:lnTo>
                  <a:pt x="2" y="82"/>
                </a:lnTo>
                <a:lnTo>
                  <a:pt x="1" y="86"/>
                </a:lnTo>
                <a:lnTo>
                  <a:pt x="1" y="87"/>
                </a:lnTo>
                <a:lnTo>
                  <a:pt x="1" y="88"/>
                </a:lnTo>
                <a:lnTo>
                  <a:pt x="1" y="90"/>
                </a:lnTo>
                <a:lnTo>
                  <a:pt x="1" y="91"/>
                </a:lnTo>
                <a:lnTo>
                  <a:pt x="0" y="95"/>
                </a:lnTo>
                <a:lnTo>
                  <a:pt x="0" y="96"/>
                </a:lnTo>
                <a:lnTo>
                  <a:pt x="0" y="97"/>
                </a:lnTo>
                <a:lnTo>
                  <a:pt x="0" y="98"/>
                </a:lnTo>
                <a:lnTo>
                  <a:pt x="0" y="99"/>
                </a:lnTo>
                <a:lnTo>
                  <a:pt x="1" y="99"/>
                </a:lnTo>
                <a:lnTo>
                  <a:pt x="9" y="94"/>
                </a:lnTo>
                <a:close/>
              </a:path>
            </a:pathLst>
          </a:custGeom>
          <a:solidFill>
            <a:srgbClr val="1f1a17"/>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29" name="Freeform 28"/>
          <p:cNvSpPr/>
          <p:nvPr/>
        </p:nvSpPr>
        <p:spPr>
          <a:xfrm>
            <a:off x="3510000" y="3621240"/>
            <a:ext cx="81000" cy="114120"/>
          </a:xfrm>
          <a:custGeom>
            <a:avLst/>
            <a:gdLst>
              <a:gd name="textAreaLeft" fmla="*/ 0 w 81000"/>
              <a:gd name="textAreaRight" fmla="*/ 81360 w 81000"/>
              <a:gd name="textAreaTop" fmla="*/ 0 h 114120"/>
              <a:gd name="textAreaBottom" fmla="*/ 114480 h 114120"/>
            </a:gdLst>
            <a:ahLst/>
            <a:rect l="textAreaLeft" t="textAreaTop" r="textAreaRight" b="textAreaBottom"/>
            <a:pathLst>
              <a:path w="102" h="146">
                <a:moveTo>
                  <a:pt x="102" y="143"/>
                </a:moveTo>
                <a:lnTo>
                  <a:pt x="101" y="142"/>
                </a:lnTo>
                <a:lnTo>
                  <a:pt x="101" y="141"/>
                </a:lnTo>
                <a:lnTo>
                  <a:pt x="99" y="139"/>
                </a:lnTo>
                <a:lnTo>
                  <a:pt x="86" y="119"/>
                </a:lnTo>
                <a:lnTo>
                  <a:pt x="42" y="53"/>
                </a:lnTo>
                <a:lnTo>
                  <a:pt x="9" y="3"/>
                </a:lnTo>
                <a:lnTo>
                  <a:pt x="8" y="0"/>
                </a:lnTo>
                <a:lnTo>
                  <a:pt x="7" y="1"/>
                </a:lnTo>
                <a:lnTo>
                  <a:pt x="3" y="4"/>
                </a:lnTo>
                <a:lnTo>
                  <a:pt x="0" y="5"/>
                </a:lnTo>
                <a:lnTo>
                  <a:pt x="1" y="8"/>
                </a:lnTo>
                <a:lnTo>
                  <a:pt x="14" y="28"/>
                </a:lnTo>
                <a:lnTo>
                  <a:pt x="58" y="94"/>
                </a:lnTo>
                <a:lnTo>
                  <a:pt x="92" y="144"/>
                </a:lnTo>
                <a:lnTo>
                  <a:pt x="94" y="146"/>
                </a:lnTo>
                <a:lnTo>
                  <a:pt x="93" y="145"/>
                </a:lnTo>
                <a:lnTo>
                  <a:pt x="93" y="144"/>
                </a:lnTo>
                <a:lnTo>
                  <a:pt x="102" y="1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29"/>
          <p:cNvSpPr/>
          <p:nvPr/>
        </p:nvSpPr>
        <p:spPr>
          <a:xfrm>
            <a:off x="3583080" y="3733920"/>
            <a:ext cx="44280" cy="182520"/>
          </a:xfrm>
          <a:custGeom>
            <a:avLst/>
            <a:gdLst>
              <a:gd name="textAreaLeft" fmla="*/ 0 w 44280"/>
              <a:gd name="textAreaRight" fmla="*/ 44280 w 44280"/>
              <a:gd name="textAreaTop" fmla="*/ 0 h 182520"/>
              <a:gd name="textAreaBottom" fmla="*/ 182880 h 182520"/>
            </a:gdLst>
            <a:ahLst/>
            <a:rect l="textAreaLeft" t="textAreaTop" r="textAreaRight" b="textAreaBottom"/>
            <a:pathLst>
              <a:path w="55" h="230">
                <a:moveTo>
                  <a:pt x="55" y="227"/>
                </a:moveTo>
                <a:lnTo>
                  <a:pt x="55" y="227"/>
                </a:lnTo>
                <a:lnTo>
                  <a:pt x="52" y="221"/>
                </a:lnTo>
                <a:lnTo>
                  <a:pt x="51" y="218"/>
                </a:lnTo>
                <a:lnTo>
                  <a:pt x="51" y="217"/>
                </a:lnTo>
                <a:lnTo>
                  <a:pt x="49" y="211"/>
                </a:lnTo>
                <a:lnTo>
                  <a:pt x="48" y="208"/>
                </a:lnTo>
                <a:lnTo>
                  <a:pt x="48" y="207"/>
                </a:lnTo>
                <a:lnTo>
                  <a:pt x="46" y="202"/>
                </a:lnTo>
                <a:lnTo>
                  <a:pt x="45" y="199"/>
                </a:lnTo>
                <a:lnTo>
                  <a:pt x="45" y="197"/>
                </a:lnTo>
                <a:lnTo>
                  <a:pt x="43" y="192"/>
                </a:lnTo>
                <a:lnTo>
                  <a:pt x="41" y="189"/>
                </a:lnTo>
                <a:lnTo>
                  <a:pt x="41" y="188"/>
                </a:lnTo>
                <a:lnTo>
                  <a:pt x="39" y="183"/>
                </a:lnTo>
                <a:lnTo>
                  <a:pt x="38" y="180"/>
                </a:lnTo>
                <a:lnTo>
                  <a:pt x="38" y="179"/>
                </a:lnTo>
                <a:lnTo>
                  <a:pt x="36" y="174"/>
                </a:lnTo>
                <a:lnTo>
                  <a:pt x="36" y="171"/>
                </a:lnTo>
                <a:lnTo>
                  <a:pt x="36" y="170"/>
                </a:lnTo>
                <a:lnTo>
                  <a:pt x="34" y="166"/>
                </a:lnTo>
                <a:lnTo>
                  <a:pt x="34" y="163"/>
                </a:lnTo>
                <a:lnTo>
                  <a:pt x="34" y="162"/>
                </a:lnTo>
                <a:lnTo>
                  <a:pt x="32" y="158"/>
                </a:lnTo>
                <a:lnTo>
                  <a:pt x="32" y="155"/>
                </a:lnTo>
                <a:lnTo>
                  <a:pt x="32" y="154"/>
                </a:lnTo>
                <a:lnTo>
                  <a:pt x="30" y="150"/>
                </a:lnTo>
                <a:lnTo>
                  <a:pt x="30" y="147"/>
                </a:lnTo>
                <a:lnTo>
                  <a:pt x="30" y="146"/>
                </a:lnTo>
                <a:lnTo>
                  <a:pt x="28" y="141"/>
                </a:lnTo>
                <a:lnTo>
                  <a:pt x="28" y="138"/>
                </a:lnTo>
                <a:lnTo>
                  <a:pt x="28" y="137"/>
                </a:lnTo>
                <a:lnTo>
                  <a:pt x="26" y="133"/>
                </a:lnTo>
                <a:lnTo>
                  <a:pt x="26" y="130"/>
                </a:lnTo>
                <a:lnTo>
                  <a:pt x="26" y="129"/>
                </a:lnTo>
                <a:lnTo>
                  <a:pt x="24" y="125"/>
                </a:lnTo>
                <a:lnTo>
                  <a:pt x="24" y="123"/>
                </a:lnTo>
                <a:lnTo>
                  <a:pt x="24" y="122"/>
                </a:lnTo>
                <a:lnTo>
                  <a:pt x="23" y="118"/>
                </a:lnTo>
                <a:lnTo>
                  <a:pt x="23" y="116"/>
                </a:lnTo>
                <a:lnTo>
                  <a:pt x="23" y="115"/>
                </a:lnTo>
                <a:lnTo>
                  <a:pt x="22" y="111"/>
                </a:lnTo>
                <a:lnTo>
                  <a:pt x="22" y="109"/>
                </a:lnTo>
                <a:lnTo>
                  <a:pt x="22" y="108"/>
                </a:lnTo>
                <a:lnTo>
                  <a:pt x="21" y="104"/>
                </a:lnTo>
                <a:lnTo>
                  <a:pt x="21" y="102"/>
                </a:lnTo>
                <a:lnTo>
                  <a:pt x="21" y="101"/>
                </a:lnTo>
                <a:lnTo>
                  <a:pt x="20" y="97"/>
                </a:lnTo>
                <a:lnTo>
                  <a:pt x="20" y="95"/>
                </a:lnTo>
                <a:lnTo>
                  <a:pt x="20" y="94"/>
                </a:lnTo>
                <a:lnTo>
                  <a:pt x="19" y="91"/>
                </a:lnTo>
                <a:lnTo>
                  <a:pt x="19" y="88"/>
                </a:lnTo>
                <a:lnTo>
                  <a:pt x="19" y="87"/>
                </a:lnTo>
                <a:lnTo>
                  <a:pt x="19" y="86"/>
                </a:lnTo>
                <a:lnTo>
                  <a:pt x="19" y="83"/>
                </a:lnTo>
                <a:lnTo>
                  <a:pt x="19" y="81"/>
                </a:lnTo>
                <a:lnTo>
                  <a:pt x="19" y="80"/>
                </a:lnTo>
                <a:lnTo>
                  <a:pt x="18" y="77"/>
                </a:lnTo>
                <a:lnTo>
                  <a:pt x="18" y="75"/>
                </a:lnTo>
                <a:lnTo>
                  <a:pt x="18" y="74"/>
                </a:lnTo>
                <a:lnTo>
                  <a:pt x="17" y="71"/>
                </a:lnTo>
                <a:lnTo>
                  <a:pt x="17" y="69"/>
                </a:lnTo>
                <a:lnTo>
                  <a:pt x="17" y="68"/>
                </a:lnTo>
                <a:lnTo>
                  <a:pt x="17" y="65"/>
                </a:lnTo>
                <a:lnTo>
                  <a:pt x="17" y="63"/>
                </a:lnTo>
                <a:lnTo>
                  <a:pt x="17" y="62"/>
                </a:lnTo>
                <a:lnTo>
                  <a:pt x="16" y="59"/>
                </a:lnTo>
                <a:lnTo>
                  <a:pt x="16" y="57"/>
                </a:lnTo>
                <a:lnTo>
                  <a:pt x="16" y="56"/>
                </a:lnTo>
                <a:lnTo>
                  <a:pt x="16" y="53"/>
                </a:lnTo>
                <a:lnTo>
                  <a:pt x="16" y="51"/>
                </a:lnTo>
                <a:lnTo>
                  <a:pt x="16" y="50"/>
                </a:lnTo>
                <a:lnTo>
                  <a:pt x="15" y="47"/>
                </a:lnTo>
                <a:lnTo>
                  <a:pt x="15" y="45"/>
                </a:lnTo>
                <a:lnTo>
                  <a:pt x="15" y="44"/>
                </a:lnTo>
                <a:lnTo>
                  <a:pt x="15" y="41"/>
                </a:lnTo>
                <a:lnTo>
                  <a:pt x="15" y="39"/>
                </a:lnTo>
                <a:lnTo>
                  <a:pt x="15" y="38"/>
                </a:lnTo>
                <a:lnTo>
                  <a:pt x="14" y="34"/>
                </a:lnTo>
                <a:lnTo>
                  <a:pt x="14" y="33"/>
                </a:lnTo>
                <a:lnTo>
                  <a:pt x="14" y="32"/>
                </a:lnTo>
                <a:lnTo>
                  <a:pt x="14" y="29"/>
                </a:lnTo>
                <a:lnTo>
                  <a:pt x="14" y="27"/>
                </a:lnTo>
                <a:lnTo>
                  <a:pt x="14" y="26"/>
                </a:lnTo>
                <a:lnTo>
                  <a:pt x="13" y="23"/>
                </a:lnTo>
                <a:lnTo>
                  <a:pt x="13" y="22"/>
                </a:lnTo>
                <a:lnTo>
                  <a:pt x="13" y="21"/>
                </a:lnTo>
                <a:lnTo>
                  <a:pt x="11" y="18"/>
                </a:lnTo>
                <a:lnTo>
                  <a:pt x="11" y="17"/>
                </a:lnTo>
                <a:lnTo>
                  <a:pt x="11" y="16"/>
                </a:lnTo>
                <a:lnTo>
                  <a:pt x="11" y="13"/>
                </a:lnTo>
                <a:lnTo>
                  <a:pt x="11" y="11"/>
                </a:lnTo>
                <a:lnTo>
                  <a:pt x="11" y="10"/>
                </a:lnTo>
                <a:lnTo>
                  <a:pt x="10" y="7"/>
                </a:lnTo>
                <a:lnTo>
                  <a:pt x="10" y="6"/>
                </a:lnTo>
                <a:lnTo>
                  <a:pt x="10" y="5"/>
                </a:lnTo>
                <a:lnTo>
                  <a:pt x="9" y="2"/>
                </a:lnTo>
                <a:lnTo>
                  <a:pt x="9" y="1"/>
                </a:lnTo>
                <a:lnTo>
                  <a:pt x="9" y="0"/>
                </a:lnTo>
                <a:lnTo>
                  <a:pt x="7" y="1"/>
                </a:lnTo>
                <a:lnTo>
                  <a:pt x="3" y="1"/>
                </a:lnTo>
                <a:lnTo>
                  <a:pt x="0" y="1"/>
                </a:lnTo>
                <a:lnTo>
                  <a:pt x="0" y="2"/>
                </a:lnTo>
                <a:lnTo>
                  <a:pt x="0" y="5"/>
                </a:lnTo>
                <a:lnTo>
                  <a:pt x="0" y="6"/>
                </a:lnTo>
                <a:lnTo>
                  <a:pt x="1" y="6"/>
                </a:lnTo>
                <a:lnTo>
                  <a:pt x="1" y="7"/>
                </a:lnTo>
                <a:lnTo>
                  <a:pt x="1" y="10"/>
                </a:lnTo>
                <a:lnTo>
                  <a:pt x="1" y="12"/>
                </a:lnTo>
                <a:lnTo>
                  <a:pt x="2" y="12"/>
                </a:lnTo>
                <a:lnTo>
                  <a:pt x="2" y="13"/>
                </a:lnTo>
                <a:lnTo>
                  <a:pt x="2" y="16"/>
                </a:lnTo>
                <a:lnTo>
                  <a:pt x="2" y="17"/>
                </a:lnTo>
                <a:lnTo>
                  <a:pt x="2" y="18"/>
                </a:lnTo>
                <a:lnTo>
                  <a:pt x="2" y="21"/>
                </a:lnTo>
                <a:lnTo>
                  <a:pt x="2" y="22"/>
                </a:lnTo>
                <a:lnTo>
                  <a:pt x="3" y="22"/>
                </a:lnTo>
                <a:lnTo>
                  <a:pt x="3" y="23"/>
                </a:lnTo>
                <a:lnTo>
                  <a:pt x="3" y="26"/>
                </a:lnTo>
                <a:lnTo>
                  <a:pt x="3" y="27"/>
                </a:lnTo>
                <a:lnTo>
                  <a:pt x="4" y="27"/>
                </a:lnTo>
                <a:lnTo>
                  <a:pt x="4" y="28"/>
                </a:lnTo>
                <a:lnTo>
                  <a:pt x="4" y="31"/>
                </a:lnTo>
                <a:lnTo>
                  <a:pt x="4" y="33"/>
                </a:lnTo>
                <a:lnTo>
                  <a:pt x="4" y="34"/>
                </a:lnTo>
                <a:lnTo>
                  <a:pt x="4" y="38"/>
                </a:lnTo>
                <a:lnTo>
                  <a:pt x="4" y="39"/>
                </a:lnTo>
                <a:lnTo>
                  <a:pt x="5" y="39"/>
                </a:lnTo>
                <a:lnTo>
                  <a:pt x="5" y="40"/>
                </a:lnTo>
                <a:lnTo>
                  <a:pt x="5" y="43"/>
                </a:lnTo>
                <a:lnTo>
                  <a:pt x="5" y="45"/>
                </a:lnTo>
                <a:lnTo>
                  <a:pt x="5" y="46"/>
                </a:lnTo>
                <a:lnTo>
                  <a:pt x="5" y="49"/>
                </a:lnTo>
                <a:lnTo>
                  <a:pt x="5" y="51"/>
                </a:lnTo>
                <a:lnTo>
                  <a:pt x="6" y="51"/>
                </a:lnTo>
                <a:lnTo>
                  <a:pt x="6" y="52"/>
                </a:lnTo>
                <a:lnTo>
                  <a:pt x="6" y="55"/>
                </a:lnTo>
                <a:lnTo>
                  <a:pt x="6" y="56"/>
                </a:lnTo>
                <a:lnTo>
                  <a:pt x="6" y="57"/>
                </a:lnTo>
                <a:lnTo>
                  <a:pt x="6" y="60"/>
                </a:lnTo>
                <a:lnTo>
                  <a:pt x="6" y="62"/>
                </a:lnTo>
                <a:lnTo>
                  <a:pt x="7" y="62"/>
                </a:lnTo>
                <a:lnTo>
                  <a:pt x="7" y="63"/>
                </a:lnTo>
                <a:lnTo>
                  <a:pt x="7" y="66"/>
                </a:lnTo>
                <a:lnTo>
                  <a:pt x="7" y="68"/>
                </a:lnTo>
                <a:lnTo>
                  <a:pt x="7" y="69"/>
                </a:lnTo>
                <a:lnTo>
                  <a:pt x="7" y="70"/>
                </a:lnTo>
                <a:lnTo>
                  <a:pt x="7" y="73"/>
                </a:lnTo>
                <a:lnTo>
                  <a:pt x="7" y="75"/>
                </a:lnTo>
                <a:lnTo>
                  <a:pt x="8" y="75"/>
                </a:lnTo>
                <a:lnTo>
                  <a:pt x="8" y="76"/>
                </a:lnTo>
                <a:lnTo>
                  <a:pt x="8" y="79"/>
                </a:lnTo>
                <a:lnTo>
                  <a:pt x="8" y="81"/>
                </a:lnTo>
                <a:lnTo>
                  <a:pt x="9" y="81"/>
                </a:lnTo>
                <a:lnTo>
                  <a:pt x="9" y="82"/>
                </a:lnTo>
                <a:lnTo>
                  <a:pt x="9" y="83"/>
                </a:lnTo>
                <a:lnTo>
                  <a:pt x="9" y="86"/>
                </a:lnTo>
                <a:lnTo>
                  <a:pt x="9" y="88"/>
                </a:lnTo>
                <a:lnTo>
                  <a:pt x="9" y="89"/>
                </a:lnTo>
                <a:lnTo>
                  <a:pt x="9" y="93"/>
                </a:lnTo>
                <a:lnTo>
                  <a:pt x="9" y="95"/>
                </a:lnTo>
                <a:lnTo>
                  <a:pt x="10" y="95"/>
                </a:lnTo>
                <a:lnTo>
                  <a:pt x="10" y="96"/>
                </a:lnTo>
                <a:lnTo>
                  <a:pt x="10" y="97"/>
                </a:lnTo>
                <a:lnTo>
                  <a:pt x="10" y="100"/>
                </a:lnTo>
                <a:lnTo>
                  <a:pt x="10" y="102"/>
                </a:lnTo>
                <a:lnTo>
                  <a:pt x="11" y="102"/>
                </a:lnTo>
                <a:lnTo>
                  <a:pt x="11" y="103"/>
                </a:lnTo>
                <a:lnTo>
                  <a:pt x="11" y="104"/>
                </a:lnTo>
                <a:lnTo>
                  <a:pt x="11" y="107"/>
                </a:lnTo>
                <a:lnTo>
                  <a:pt x="11" y="109"/>
                </a:lnTo>
                <a:lnTo>
                  <a:pt x="13" y="109"/>
                </a:lnTo>
                <a:lnTo>
                  <a:pt x="13" y="110"/>
                </a:lnTo>
                <a:lnTo>
                  <a:pt x="13" y="111"/>
                </a:lnTo>
                <a:lnTo>
                  <a:pt x="13" y="114"/>
                </a:lnTo>
                <a:lnTo>
                  <a:pt x="13" y="116"/>
                </a:lnTo>
                <a:lnTo>
                  <a:pt x="14" y="116"/>
                </a:lnTo>
                <a:lnTo>
                  <a:pt x="14" y="117"/>
                </a:lnTo>
                <a:lnTo>
                  <a:pt x="14" y="118"/>
                </a:lnTo>
                <a:lnTo>
                  <a:pt x="15" y="121"/>
                </a:lnTo>
                <a:lnTo>
                  <a:pt x="15" y="123"/>
                </a:lnTo>
                <a:lnTo>
                  <a:pt x="16" y="123"/>
                </a:lnTo>
                <a:lnTo>
                  <a:pt x="16" y="124"/>
                </a:lnTo>
                <a:lnTo>
                  <a:pt x="16" y="125"/>
                </a:lnTo>
                <a:lnTo>
                  <a:pt x="16" y="128"/>
                </a:lnTo>
                <a:lnTo>
                  <a:pt x="16" y="131"/>
                </a:lnTo>
                <a:lnTo>
                  <a:pt x="17" y="131"/>
                </a:lnTo>
                <a:lnTo>
                  <a:pt x="17" y="132"/>
                </a:lnTo>
                <a:lnTo>
                  <a:pt x="17" y="133"/>
                </a:lnTo>
                <a:lnTo>
                  <a:pt x="17" y="136"/>
                </a:lnTo>
                <a:lnTo>
                  <a:pt x="17" y="139"/>
                </a:lnTo>
                <a:lnTo>
                  <a:pt x="18" y="139"/>
                </a:lnTo>
                <a:lnTo>
                  <a:pt x="18" y="140"/>
                </a:lnTo>
                <a:lnTo>
                  <a:pt x="18" y="141"/>
                </a:lnTo>
                <a:lnTo>
                  <a:pt x="19" y="145"/>
                </a:lnTo>
                <a:lnTo>
                  <a:pt x="19" y="148"/>
                </a:lnTo>
                <a:lnTo>
                  <a:pt x="20" y="148"/>
                </a:lnTo>
                <a:lnTo>
                  <a:pt x="20" y="149"/>
                </a:lnTo>
                <a:lnTo>
                  <a:pt x="20" y="150"/>
                </a:lnTo>
                <a:lnTo>
                  <a:pt x="21" y="153"/>
                </a:lnTo>
                <a:lnTo>
                  <a:pt x="21" y="156"/>
                </a:lnTo>
                <a:lnTo>
                  <a:pt x="22" y="156"/>
                </a:lnTo>
                <a:lnTo>
                  <a:pt x="22" y="157"/>
                </a:lnTo>
                <a:lnTo>
                  <a:pt x="22" y="158"/>
                </a:lnTo>
                <a:lnTo>
                  <a:pt x="23" y="161"/>
                </a:lnTo>
                <a:lnTo>
                  <a:pt x="23" y="164"/>
                </a:lnTo>
                <a:lnTo>
                  <a:pt x="24" y="164"/>
                </a:lnTo>
                <a:lnTo>
                  <a:pt x="24" y="165"/>
                </a:lnTo>
                <a:lnTo>
                  <a:pt x="24" y="166"/>
                </a:lnTo>
                <a:lnTo>
                  <a:pt x="25" y="170"/>
                </a:lnTo>
                <a:lnTo>
                  <a:pt x="25" y="173"/>
                </a:lnTo>
                <a:lnTo>
                  <a:pt x="26" y="173"/>
                </a:lnTo>
                <a:lnTo>
                  <a:pt x="26" y="174"/>
                </a:lnTo>
                <a:lnTo>
                  <a:pt x="26" y="175"/>
                </a:lnTo>
                <a:lnTo>
                  <a:pt x="28" y="178"/>
                </a:lnTo>
                <a:lnTo>
                  <a:pt x="29" y="181"/>
                </a:lnTo>
                <a:lnTo>
                  <a:pt x="30" y="181"/>
                </a:lnTo>
                <a:lnTo>
                  <a:pt x="30" y="182"/>
                </a:lnTo>
                <a:lnTo>
                  <a:pt x="30" y="183"/>
                </a:lnTo>
                <a:lnTo>
                  <a:pt x="31" y="187"/>
                </a:lnTo>
                <a:lnTo>
                  <a:pt x="31" y="190"/>
                </a:lnTo>
                <a:lnTo>
                  <a:pt x="32" y="190"/>
                </a:lnTo>
                <a:lnTo>
                  <a:pt x="32" y="191"/>
                </a:lnTo>
                <a:lnTo>
                  <a:pt x="32" y="192"/>
                </a:lnTo>
                <a:lnTo>
                  <a:pt x="33" y="197"/>
                </a:lnTo>
                <a:lnTo>
                  <a:pt x="34" y="201"/>
                </a:lnTo>
                <a:lnTo>
                  <a:pt x="35" y="201"/>
                </a:lnTo>
                <a:lnTo>
                  <a:pt x="35" y="202"/>
                </a:lnTo>
                <a:lnTo>
                  <a:pt x="35" y="203"/>
                </a:lnTo>
                <a:lnTo>
                  <a:pt x="36" y="207"/>
                </a:lnTo>
                <a:lnTo>
                  <a:pt x="37" y="210"/>
                </a:lnTo>
                <a:lnTo>
                  <a:pt x="38" y="210"/>
                </a:lnTo>
                <a:lnTo>
                  <a:pt x="38" y="211"/>
                </a:lnTo>
                <a:lnTo>
                  <a:pt x="38" y="212"/>
                </a:lnTo>
                <a:lnTo>
                  <a:pt x="40" y="217"/>
                </a:lnTo>
                <a:lnTo>
                  <a:pt x="41" y="220"/>
                </a:lnTo>
                <a:lnTo>
                  <a:pt x="43" y="220"/>
                </a:lnTo>
                <a:lnTo>
                  <a:pt x="43" y="221"/>
                </a:lnTo>
                <a:lnTo>
                  <a:pt x="43" y="222"/>
                </a:lnTo>
                <a:lnTo>
                  <a:pt x="44" y="227"/>
                </a:lnTo>
                <a:lnTo>
                  <a:pt x="45" y="230"/>
                </a:lnTo>
                <a:lnTo>
                  <a:pt x="46" y="230"/>
                </a:lnTo>
                <a:lnTo>
                  <a:pt x="55" y="2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30"/>
          <p:cNvSpPr/>
          <p:nvPr/>
        </p:nvSpPr>
        <p:spPr>
          <a:xfrm>
            <a:off x="3619440" y="3914640"/>
            <a:ext cx="196920" cy="92160"/>
          </a:xfrm>
          <a:custGeom>
            <a:avLst/>
            <a:gdLst>
              <a:gd name="textAreaLeft" fmla="*/ 0 w 196920"/>
              <a:gd name="textAreaRight" fmla="*/ 197280 w 196920"/>
              <a:gd name="textAreaTop" fmla="*/ 0 h 92160"/>
              <a:gd name="textAreaBottom" fmla="*/ 92520 h 92160"/>
            </a:gdLst>
            <a:ahLst/>
            <a:rect l="textAreaLeft" t="textAreaTop" r="textAreaRight" b="textAreaBottom"/>
            <a:pathLst>
              <a:path w="249" h="116">
                <a:moveTo>
                  <a:pt x="249" y="96"/>
                </a:moveTo>
                <a:lnTo>
                  <a:pt x="247" y="96"/>
                </a:lnTo>
                <a:lnTo>
                  <a:pt x="244" y="95"/>
                </a:lnTo>
                <a:lnTo>
                  <a:pt x="243" y="95"/>
                </a:lnTo>
                <a:lnTo>
                  <a:pt x="243" y="94"/>
                </a:lnTo>
                <a:lnTo>
                  <a:pt x="242" y="95"/>
                </a:lnTo>
                <a:lnTo>
                  <a:pt x="238" y="96"/>
                </a:lnTo>
                <a:lnTo>
                  <a:pt x="236" y="97"/>
                </a:lnTo>
                <a:lnTo>
                  <a:pt x="231" y="99"/>
                </a:lnTo>
                <a:lnTo>
                  <a:pt x="229" y="99"/>
                </a:lnTo>
                <a:lnTo>
                  <a:pt x="227" y="100"/>
                </a:lnTo>
                <a:lnTo>
                  <a:pt x="224" y="101"/>
                </a:lnTo>
                <a:lnTo>
                  <a:pt x="222" y="101"/>
                </a:lnTo>
                <a:lnTo>
                  <a:pt x="220" y="102"/>
                </a:lnTo>
                <a:lnTo>
                  <a:pt x="216" y="103"/>
                </a:lnTo>
                <a:lnTo>
                  <a:pt x="214" y="103"/>
                </a:lnTo>
                <a:lnTo>
                  <a:pt x="212" y="104"/>
                </a:lnTo>
                <a:lnTo>
                  <a:pt x="209" y="105"/>
                </a:lnTo>
                <a:lnTo>
                  <a:pt x="207" y="105"/>
                </a:lnTo>
                <a:lnTo>
                  <a:pt x="205" y="106"/>
                </a:lnTo>
                <a:lnTo>
                  <a:pt x="201" y="106"/>
                </a:lnTo>
                <a:lnTo>
                  <a:pt x="198" y="106"/>
                </a:lnTo>
                <a:lnTo>
                  <a:pt x="196" y="107"/>
                </a:lnTo>
                <a:lnTo>
                  <a:pt x="193" y="107"/>
                </a:lnTo>
                <a:lnTo>
                  <a:pt x="191" y="107"/>
                </a:lnTo>
                <a:lnTo>
                  <a:pt x="190" y="107"/>
                </a:lnTo>
                <a:lnTo>
                  <a:pt x="188" y="107"/>
                </a:lnTo>
                <a:lnTo>
                  <a:pt x="185" y="107"/>
                </a:lnTo>
                <a:lnTo>
                  <a:pt x="182" y="107"/>
                </a:lnTo>
                <a:lnTo>
                  <a:pt x="181" y="107"/>
                </a:lnTo>
                <a:lnTo>
                  <a:pt x="180" y="107"/>
                </a:lnTo>
                <a:lnTo>
                  <a:pt x="177" y="107"/>
                </a:lnTo>
                <a:lnTo>
                  <a:pt x="173" y="107"/>
                </a:lnTo>
                <a:lnTo>
                  <a:pt x="172" y="107"/>
                </a:lnTo>
                <a:lnTo>
                  <a:pt x="171" y="107"/>
                </a:lnTo>
                <a:lnTo>
                  <a:pt x="168" y="107"/>
                </a:lnTo>
                <a:lnTo>
                  <a:pt x="165" y="107"/>
                </a:lnTo>
                <a:lnTo>
                  <a:pt x="164" y="107"/>
                </a:lnTo>
                <a:lnTo>
                  <a:pt x="163" y="107"/>
                </a:lnTo>
                <a:lnTo>
                  <a:pt x="160" y="107"/>
                </a:lnTo>
                <a:lnTo>
                  <a:pt x="157" y="107"/>
                </a:lnTo>
                <a:lnTo>
                  <a:pt x="156" y="107"/>
                </a:lnTo>
                <a:lnTo>
                  <a:pt x="155" y="107"/>
                </a:lnTo>
                <a:lnTo>
                  <a:pt x="152" y="107"/>
                </a:lnTo>
                <a:lnTo>
                  <a:pt x="149" y="107"/>
                </a:lnTo>
                <a:lnTo>
                  <a:pt x="149" y="106"/>
                </a:lnTo>
                <a:lnTo>
                  <a:pt x="148" y="106"/>
                </a:lnTo>
                <a:lnTo>
                  <a:pt x="147" y="106"/>
                </a:lnTo>
                <a:lnTo>
                  <a:pt x="143" y="106"/>
                </a:lnTo>
                <a:lnTo>
                  <a:pt x="140" y="106"/>
                </a:lnTo>
                <a:lnTo>
                  <a:pt x="140" y="105"/>
                </a:lnTo>
                <a:lnTo>
                  <a:pt x="139" y="105"/>
                </a:lnTo>
                <a:lnTo>
                  <a:pt x="138" y="105"/>
                </a:lnTo>
                <a:lnTo>
                  <a:pt x="135" y="104"/>
                </a:lnTo>
                <a:lnTo>
                  <a:pt x="132" y="104"/>
                </a:lnTo>
                <a:lnTo>
                  <a:pt x="132" y="103"/>
                </a:lnTo>
                <a:lnTo>
                  <a:pt x="131" y="103"/>
                </a:lnTo>
                <a:lnTo>
                  <a:pt x="130" y="103"/>
                </a:lnTo>
                <a:lnTo>
                  <a:pt x="126" y="102"/>
                </a:lnTo>
                <a:lnTo>
                  <a:pt x="123" y="102"/>
                </a:lnTo>
                <a:lnTo>
                  <a:pt x="123" y="101"/>
                </a:lnTo>
                <a:lnTo>
                  <a:pt x="122" y="101"/>
                </a:lnTo>
                <a:lnTo>
                  <a:pt x="121" y="101"/>
                </a:lnTo>
                <a:lnTo>
                  <a:pt x="118" y="100"/>
                </a:lnTo>
                <a:lnTo>
                  <a:pt x="114" y="100"/>
                </a:lnTo>
                <a:lnTo>
                  <a:pt x="114" y="99"/>
                </a:lnTo>
                <a:lnTo>
                  <a:pt x="109" y="98"/>
                </a:lnTo>
                <a:lnTo>
                  <a:pt x="107" y="97"/>
                </a:lnTo>
                <a:lnTo>
                  <a:pt x="107" y="96"/>
                </a:lnTo>
                <a:lnTo>
                  <a:pt x="106" y="96"/>
                </a:lnTo>
                <a:lnTo>
                  <a:pt x="105" y="96"/>
                </a:lnTo>
                <a:lnTo>
                  <a:pt x="102" y="95"/>
                </a:lnTo>
                <a:lnTo>
                  <a:pt x="98" y="94"/>
                </a:lnTo>
                <a:lnTo>
                  <a:pt x="98" y="93"/>
                </a:lnTo>
                <a:lnTo>
                  <a:pt x="93" y="91"/>
                </a:lnTo>
                <a:lnTo>
                  <a:pt x="91" y="90"/>
                </a:lnTo>
                <a:lnTo>
                  <a:pt x="91" y="89"/>
                </a:lnTo>
                <a:lnTo>
                  <a:pt x="86" y="87"/>
                </a:lnTo>
                <a:lnTo>
                  <a:pt x="82" y="86"/>
                </a:lnTo>
                <a:lnTo>
                  <a:pt x="82" y="85"/>
                </a:lnTo>
                <a:lnTo>
                  <a:pt x="77" y="83"/>
                </a:lnTo>
                <a:lnTo>
                  <a:pt x="75" y="82"/>
                </a:lnTo>
                <a:lnTo>
                  <a:pt x="75" y="81"/>
                </a:lnTo>
                <a:lnTo>
                  <a:pt x="69" y="77"/>
                </a:lnTo>
                <a:lnTo>
                  <a:pt x="67" y="76"/>
                </a:lnTo>
                <a:lnTo>
                  <a:pt x="67" y="75"/>
                </a:lnTo>
                <a:lnTo>
                  <a:pt x="63" y="72"/>
                </a:lnTo>
                <a:lnTo>
                  <a:pt x="61" y="71"/>
                </a:lnTo>
                <a:lnTo>
                  <a:pt x="61" y="70"/>
                </a:lnTo>
                <a:lnTo>
                  <a:pt x="56" y="67"/>
                </a:lnTo>
                <a:lnTo>
                  <a:pt x="53" y="65"/>
                </a:lnTo>
                <a:lnTo>
                  <a:pt x="53" y="64"/>
                </a:lnTo>
                <a:lnTo>
                  <a:pt x="49" y="61"/>
                </a:lnTo>
                <a:lnTo>
                  <a:pt x="47" y="59"/>
                </a:lnTo>
                <a:lnTo>
                  <a:pt x="47" y="58"/>
                </a:lnTo>
                <a:lnTo>
                  <a:pt x="46" y="57"/>
                </a:lnTo>
                <a:lnTo>
                  <a:pt x="43" y="54"/>
                </a:lnTo>
                <a:lnTo>
                  <a:pt x="40" y="52"/>
                </a:lnTo>
                <a:lnTo>
                  <a:pt x="40" y="51"/>
                </a:lnTo>
                <a:lnTo>
                  <a:pt x="39" y="50"/>
                </a:lnTo>
                <a:lnTo>
                  <a:pt x="36" y="47"/>
                </a:lnTo>
                <a:lnTo>
                  <a:pt x="34" y="45"/>
                </a:lnTo>
                <a:lnTo>
                  <a:pt x="34" y="44"/>
                </a:lnTo>
                <a:lnTo>
                  <a:pt x="33" y="43"/>
                </a:lnTo>
                <a:lnTo>
                  <a:pt x="30" y="40"/>
                </a:lnTo>
                <a:lnTo>
                  <a:pt x="29" y="38"/>
                </a:lnTo>
                <a:lnTo>
                  <a:pt x="29" y="37"/>
                </a:lnTo>
                <a:lnTo>
                  <a:pt x="28" y="36"/>
                </a:lnTo>
                <a:lnTo>
                  <a:pt x="24" y="32"/>
                </a:lnTo>
                <a:lnTo>
                  <a:pt x="23" y="29"/>
                </a:lnTo>
                <a:lnTo>
                  <a:pt x="23" y="28"/>
                </a:lnTo>
                <a:lnTo>
                  <a:pt x="22" y="27"/>
                </a:lnTo>
                <a:lnTo>
                  <a:pt x="19" y="23"/>
                </a:lnTo>
                <a:lnTo>
                  <a:pt x="18" y="20"/>
                </a:lnTo>
                <a:lnTo>
                  <a:pt x="18" y="19"/>
                </a:lnTo>
                <a:lnTo>
                  <a:pt x="17" y="18"/>
                </a:lnTo>
                <a:lnTo>
                  <a:pt x="15" y="14"/>
                </a:lnTo>
                <a:lnTo>
                  <a:pt x="14" y="11"/>
                </a:lnTo>
                <a:lnTo>
                  <a:pt x="14" y="10"/>
                </a:lnTo>
                <a:lnTo>
                  <a:pt x="10" y="4"/>
                </a:lnTo>
                <a:lnTo>
                  <a:pt x="9" y="1"/>
                </a:lnTo>
                <a:lnTo>
                  <a:pt x="9" y="0"/>
                </a:lnTo>
                <a:lnTo>
                  <a:pt x="7" y="1"/>
                </a:lnTo>
                <a:lnTo>
                  <a:pt x="3" y="2"/>
                </a:lnTo>
                <a:lnTo>
                  <a:pt x="0" y="3"/>
                </a:lnTo>
                <a:lnTo>
                  <a:pt x="0" y="4"/>
                </a:lnTo>
                <a:lnTo>
                  <a:pt x="0" y="5"/>
                </a:lnTo>
                <a:lnTo>
                  <a:pt x="2" y="10"/>
                </a:lnTo>
                <a:lnTo>
                  <a:pt x="3" y="13"/>
                </a:lnTo>
                <a:lnTo>
                  <a:pt x="4" y="13"/>
                </a:lnTo>
                <a:lnTo>
                  <a:pt x="7" y="20"/>
                </a:lnTo>
                <a:lnTo>
                  <a:pt x="8" y="23"/>
                </a:lnTo>
                <a:lnTo>
                  <a:pt x="9" y="23"/>
                </a:lnTo>
                <a:lnTo>
                  <a:pt x="13" y="30"/>
                </a:lnTo>
                <a:lnTo>
                  <a:pt x="14" y="33"/>
                </a:lnTo>
                <a:lnTo>
                  <a:pt x="15" y="33"/>
                </a:lnTo>
                <a:lnTo>
                  <a:pt x="18" y="39"/>
                </a:lnTo>
                <a:lnTo>
                  <a:pt x="19" y="42"/>
                </a:lnTo>
                <a:lnTo>
                  <a:pt x="20" y="42"/>
                </a:lnTo>
                <a:lnTo>
                  <a:pt x="23" y="47"/>
                </a:lnTo>
                <a:lnTo>
                  <a:pt x="25" y="50"/>
                </a:lnTo>
                <a:lnTo>
                  <a:pt x="27" y="50"/>
                </a:lnTo>
                <a:lnTo>
                  <a:pt x="30" y="55"/>
                </a:lnTo>
                <a:lnTo>
                  <a:pt x="32" y="57"/>
                </a:lnTo>
                <a:lnTo>
                  <a:pt x="33" y="57"/>
                </a:lnTo>
                <a:lnTo>
                  <a:pt x="36" y="62"/>
                </a:lnTo>
                <a:lnTo>
                  <a:pt x="38" y="64"/>
                </a:lnTo>
                <a:lnTo>
                  <a:pt x="39" y="64"/>
                </a:lnTo>
                <a:lnTo>
                  <a:pt x="40" y="66"/>
                </a:lnTo>
                <a:lnTo>
                  <a:pt x="44" y="69"/>
                </a:lnTo>
                <a:lnTo>
                  <a:pt x="46" y="71"/>
                </a:lnTo>
                <a:lnTo>
                  <a:pt x="47" y="71"/>
                </a:lnTo>
                <a:lnTo>
                  <a:pt x="48" y="72"/>
                </a:lnTo>
                <a:lnTo>
                  <a:pt x="51" y="75"/>
                </a:lnTo>
                <a:lnTo>
                  <a:pt x="53" y="77"/>
                </a:lnTo>
                <a:lnTo>
                  <a:pt x="54" y="77"/>
                </a:lnTo>
                <a:lnTo>
                  <a:pt x="56" y="78"/>
                </a:lnTo>
                <a:lnTo>
                  <a:pt x="59" y="82"/>
                </a:lnTo>
                <a:lnTo>
                  <a:pt x="61" y="83"/>
                </a:lnTo>
                <a:lnTo>
                  <a:pt x="62" y="83"/>
                </a:lnTo>
                <a:lnTo>
                  <a:pt x="63" y="84"/>
                </a:lnTo>
                <a:lnTo>
                  <a:pt x="66" y="87"/>
                </a:lnTo>
                <a:lnTo>
                  <a:pt x="68" y="89"/>
                </a:lnTo>
                <a:lnTo>
                  <a:pt x="69" y="89"/>
                </a:lnTo>
                <a:lnTo>
                  <a:pt x="71" y="90"/>
                </a:lnTo>
                <a:lnTo>
                  <a:pt x="74" y="92"/>
                </a:lnTo>
                <a:lnTo>
                  <a:pt x="77" y="93"/>
                </a:lnTo>
                <a:lnTo>
                  <a:pt x="78" y="93"/>
                </a:lnTo>
                <a:lnTo>
                  <a:pt x="79" y="94"/>
                </a:lnTo>
                <a:lnTo>
                  <a:pt x="82" y="96"/>
                </a:lnTo>
                <a:lnTo>
                  <a:pt x="86" y="97"/>
                </a:lnTo>
                <a:lnTo>
                  <a:pt x="87" y="97"/>
                </a:lnTo>
                <a:lnTo>
                  <a:pt x="88" y="98"/>
                </a:lnTo>
                <a:lnTo>
                  <a:pt x="91" y="100"/>
                </a:lnTo>
                <a:lnTo>
                  <a:pt x="94" y="101"/>
                </a:lnTo>
                <a:lnTo>
                  <a:pt x="95" y="101"/>
                </a:lnTo>
                <a:lnTo>
                  <a:pt x="96" y="102"/>
                </a:lnTo>
                <a:lnTo>
                  <a:pt x="99" y="104"/>
                </a:lnTo>
                <a:lnTo>
                  <a:pt x="103" y="105"/>
                </a:lnTo>
                <a:lnTo>
                  <a:pt x="104" y="105"/>
                </a:lnTo>
                <a:lnTo>
                  <a:pt x="108" y="107"/>
                </a:lnTo>
                <a:lnTo>
                  <a:pt x="111" y="107"/>
                </a:lnTo>
                <a:lnTo>
                  <a:pt x="112" y="107"/>
                </a:lnTo>
                <a:lnTo>
                  <a:pt x="117" y="109"/>
                </a:lnTo>
                <a:lnTo>
                  <a:pt x="120" y="110"/>
                </a:lnTo>
                <a:lnTo>
                  <a:pt x="121" y="110"/>
                </a:lnTo>
                <a:lnTo>
                  <a:pt x="125" y="112"/>
                </a:lnTo>
                <a:lnTo>
                  <a:pt x="128" y="112"/>
                </a:lnTo>
                <a:lnTo>
                  <a:pt x="130" y="112"/>
                </a:lnTo>
                <a:lnTo>
                  <a:pt x="134" y="114"/>
                </a:lnTo>
                <a:lnTo>
                  <a:pt x="137" y="114"/>
                </a:lnTo>
                <a:lnTo>
                  <a:pt x="138" y="114"/>
                </a:lnTo>
                <a:lnTo>
                  <a:pt x="143" y="115"/>
                </a:lnTo>
                <a:lnTo>
                  <a:pt x="147" y="115"/>
                </a:lnTo>
                <a:lnTo>
                  <a:pt x="148" y="115"/>
                </a:lnTo>
                <a:lnTo>
                  <a:pt x="152" y="116"/>
                </a:lnTo>
                <a:lnTo>
                  <a:pt x="155" y="116"/>
                </a:lnTo>
                <a:lnTo>
                  <a:pt x="156" y="116"/>
                </a:lnTo>
                <a:lnTo>
                  <a:pt x="157" y="116"/>
                </a:lnTo>
                <a:lnTo>
                  <a:pt x="161" y="116"/>
                </a:lnTo>
                <a:lnTo>
                  <a:pt x="164" y="116"/>
                </a:lnTo>
                <a:lnTo>
                  <a:pt x="165" y="116"/>
                </a:lnTo>
                <a:lnTo>
                  <a:pt x="166" y="116"/>
                </a:lnTo>
                <a:lnTo>
                  <a:pt x="169" y="116"/>
                </a:lnTo>
                <a:lnTo>
                  <a:pt x="172" y="116"/>
                </a:lnTo>
                <a:lnTo>
                  <a:pt x="173" y="116"/>
                </a:lnTo>
                <a:lnTo>
                  <a:pt x="175" y="116"/>
                </a:lnTo>
                <a:lnTo>
                  <a:pt x="178" y="116"/>
                </a:lnTo>
                <a:lnTo>
                  <a:pt x="181" y="116"/>
                </a:lnTo>
                <a:lnTo>
                  <a:pt x="182" y="116"/>
                </a:lnTo>
                <a:lnTo>
                  <a:pt x="183" y="116"/>
                </a:lnTo>
                <a:lnTo>
                  <a:pt x="186" y="116"/>
                </a:lnTo>
                <a:lnTo>
                  <a:pt x="190" y="116"/>
                </a:lnTo>
                <a:lnTo>
                  <a:pt x="191" y="116"/>
                </a:lnTo>
                <a:lnTo>
                  <a:pt x="192" y="116"/>
                </a:lnTo>
                <a:lnTo>
                  <a:pt x="195" y="116"/>
                </a:lnTo>
                <a:lnTo>
                  <a:pt x="198" y="116"/>
                </a:lnTo>
                <a:lnTo>
                  <a:pt x="199" y="115"/>
                </a:lnTo>
                <a:lnTo>
                  <a:pt x="200" y="115"/>
                </a:lnTo>
                <a:lnTo>
                  <a:pt x="204" y="114"/>
                </a:lnTo>
                <a:lnTo>
                  <a:pt x="207" y="114"/>
                </a:lnTo>
                <a:lnTo>
                  <a:pt x="208" y="113"/>
                </a:lnTo>
                <a:lnTo>
                  <a:pt x="209" y="113"/>
                </a:lnTo>
                <a:lnTo>
                  <a:pt x="212" y="113"/>
                </a:lnTo>
                <a:lnTo>
                  <a:pt x="215" y="113"/>
                </a:lnTo>
                <a:lnTo>
                  <a:pt x="216" y="112"/>
                </a:lnTo>
                <a:lnTo>
                  <a:pt x="217" y="112"/>
                </a:lnTo>
                <a:lnTo>
                  <a:pt x="221" y="111"/>
                </a:lnTo>
                <a:lnTo>
                  <a:pt x="223" y="111"/>
                </a:lnTo>
                <a:lnTo>
                  <a:pt x="224" y="110"/>
                </a:lnTo>
                <a:lnTo>
                  <a:pt x="225" y="110"/>
                </a:lnTo>
                <a:lnTo>
                  <a:pt x="228" y="109"/>
                </a:lnTo>
                <a:lnTo>
                  <a:pt x="230" y="109"/>
                </a:lnTo>
                <a:lnTo>
                  <a:pt x="231" y="108"/>
                </a:lnTo>
                <a:lnTo>
                  <a:pt x="236" y="107"/>
                </a:lnTo>
                <a:lnTo>
                  <a:pt x="238" y="106"/>
                </a:lnTo>
                <a:lnTo>
                  <a:pt x="239" y="105"/>
                </a:lnTo>
                <a:lnTo>
                  <a:pt x="240" y="105"/>
                </a:lnTo>
                <a:lnTo>
                  <a:pt x="243" y="104"/>
                </a:lnTo>
                <a:lnTo>
                  <a:pt x="245" y="104"/>
                </a:lnTo>
                <a:lnTo>
                  <a:pt x="246" y="103"/>
                </a:lnTo>
                <a:lnTo>
                  <a:pt x="245" y="103"/>
                </a:lnTo>
                <a:lnTo>
                  <a:pt x="242" y="102"/>
                </a:lnTo>
                <a:lnTo>
                  <a:pt x="241" y="102"/>
                </a:lnTo>
                <a:lnTo>
                  <a:pt x="241" y="101"/>
                </a:lnTo>
                <a:lnTo>
                  <a:pt x="245" y="98"/>
                </a:lnTo>
                <a:lnTo>
                  <a:pt x="247" y="97"/>
                </a:lnTo>
                <a:lnTo>
                  <a:pt x="249" y="96"/>
                </a:lnTo>
                <a:lnTo>
                  <a:pt x="246" y="94"/>
                </a:lnTo>
                <a:lnTo>
                  <a:pt x="246" y="93"/>
                </a:lnTo>
                <a:lnTo>
                  <a:pt x="244" y="94"/>
                </a:lnTo>
                <a:lnTo>
                  <a:pt x="243" y="94"/>
                </a:lnTo>
                <a:lnTo>
                  <a:pt x="249" y="96"/>
                </a:lnTo>
                <a:close/>
              </a:path>
            </a:pathLst>
          </a:custGeom>
          <a:solidFill>
            <a:srgbClr val="1f1a17"/>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332" name="Freeform 31"/>
          <p:cNvSpPr/>
          <p:nvPr/>
        </p:nvSpPr>
        <p:spPr>
          <a:xfrm>
            <a:off x="3811680" y="3989520"/>
            <a:ext cx="41040" cy="42840"/>
          </a:xfrm>
          <a:custGeom>
            <a:avLst/>
            <a:gdLst>
              <a:gd name="textAreaLeft" fmla="*/ 0 w 41040"/>
              <a:gd name="textAreaRight" fmla="*/ 41400 w 41040"/>
              <a:gd name="textAreaTop" fmla="*/ 0 h 42840"/>
              <a:gd name="textAreaBottom" fmla="*/ 43200 h 42840"/>
            </a:gdLst>
            <a:ahLst/>
            <a:rect l="textAreaLeft" t="textAreaTop" r="textAreaRight" b="textAreaBottom"/>
            <a:pathLst>
              <a:path w="54" h="54">
                <a:moveTo>
                  <a:pt x="54" y="52"/>
                </a:moveTo>
                <a:lnTo>
                  <a:pt x="53" y="50"/>
                </a:lnTo>
                <a:lnTo>
                  <a:pt x="53" y="49"/>
                </a:lnTo>
                <a:lnTo>
                  <a:pt x="45" y="42"/>
                </a:lnTo>
                <a:lnTo>
                  <a:pt x="24" y="19"/>
                </a:lnTo>
                <a:lnTo>
                  <a:pt x="8" y="1"/>
                </a:lnTo>
                <a:lnTo>
                  <a:pt x="8" y="0"/>
                </a:lnTo>
                <a:lnTo>
                  <a:pt x="6" y="1"/>
                </a:lnTo>
                <a:lnTo>
                  <a:pt x="2" y="4"/>
                </a:lnTo>
                <a:lnTo>
                  <a:pt x="0" y="5"/>
                </a:lnTo>
                <a:lnTo>
                  <a:pt x="6" y="13"/>
                </a:lnTo>
                <a:lnTo>
                  <a:pt x="28" y="35"/>
                </a:lnTo>
                <a:lnTo>
                  <a:pt x="44" y="54"/>
                </a:lnTo>
                <a:lnTo>
                  <a:pt x="45" y="54"/>
                </a:lnTo>
                <a:lnTo>
                  <a:pt x="44" y="53"/>
                </a:lnTo>
                <a:lnTo>
                  <a:pt x="44" y="52"/>
                </a:lnTo>
                <a:lnTo>
                  <a:pt x="54" y="52"/>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33" name="Freeform 32"/>
          <p:cNvSpPr/>
          <p:nvPr/>
        </p:nvSpPr>
        <p:spPr>
          <a:xfrm>
            <a:off x="3843360" y="4030560"/>
            <a:ext cx="15840" cy="50760"/>
          </a:xfrm>
          <a:custGeom>
            <a:avLst/>
            <a:gdLst>
              <a:gd name="textAreaLeft" fmla="*/ 0 w 15840"/>
              <a:gd name="textAreaRight" fmla="*/ 16200 w 15840"/>
              <a:gd name="textAreaTop" fmla="*/ 0 h 50760"/>
              <a:gd name="textAreaBottom" fmla="*/ 51120 h 50760"/>
            </a:gdLst>
            <a:ahLst/>
            <a:rect l="textAreaLeft" t="textAreaTop" r="textAreaRight" b="textAreaBottom"/>
            <a:pathLst>
              <a:path w="18" h="64">
                <a:moveTo>
                  <a:pt x="15" y="55"/>
                </a:moveTo>
                <a:lnTo>
                  <a:pt x="17" y="56"/>
                </a:lnTo>
                <a:lnTo>
                  <a:pt x="18" y="56"/>
                </a:lnTo>
                <a:lnTo>
                  <a:pt x="17" y="55"/>
                </a:lnTo>
                <a:lnTo>
                  <a:pt x="16" y="54"/>
                </a:lnTo>
                <a:lnTo>
                  <a:pt x="15" y="53"/>
                </a:lnTo>
                <a:lnTo>
                  <a:pt x="15" y="52"/>
                </a:lnTo>
                <a:lnTo>
                  <a:pt x="14" y="51"/>
                </a:lnTo>
                <a:lnTo>
                  <a:pt x="13" y="50"/>
                </a:lnTo>
                <a:lnTo>
                  <a:pt x="13" y="49"/>
                </a:lnTo>
                <a:lnTo>
                  <a:pt x="12" y="48"/>
                </a:lnTo>
                <a:lnTo>
                  <a:pt x="12" y="47"/>
                </a:lnTo>
                <a:lnTo>
                  <a:pt x="12" y="46"/>
                </a:lnTo>
                <a:lnTo>
                  <a:pt x="11" y="45"/>
                </a:lnTo>
                <a:lnTo>
                  <a:pt x="11" y="44"/>
                </a:lnTo>
                <a:lnTo>
                  <a:pt x="11" y="43"/>
                </a:lnTo>
                <a:lnTo>
                  <a:pt x="11" y="42"/>
                </a:lnTo>
                <a:lnTo>
                  <a:pt x="11" y="41"/>
                </a:lnTo>
                <a:lnTo>
                  <a:pt x="10" y="39"/>
                </a:lnTo>
                <a:lnTo>
                  <a:pt x="10" y="38"/>
                </a:lnTo>
                <a:lnTo>
                  <a:pt x="10" y="37"/>
                </a:lnTo>
                <a:lnTo>
                  <a:pt x="10" y="36"/>
                </a:lnTo>
                <a:lnTo>
                  <a:pt x="10" y="35"/>
                </a:lnTo>
                <a:lnTo>
                  <a:pt x="10" y="34"/>
                </a:lnTo>
                <a:lnTo>
                  <a:pt x="10" y="33"/>
                </a:lnTo>
                <a:lnTo>
                  <a:pt x="10" y="32"/>
                </a:lnTo>
                <a:lnTo>
                  <a:pt x="10" y="31"/>
                </a:lnTo>
                <a:lnTo>
                  <a:pt x="10" y="30"/>
                </a:lnTo>
                <a:lnTo>
                  <a:pt x="10" y="29"/>
                </a:lnTo>
                <a:lnTo>
                  <a:pt x="10" y="28"/>
                </a:lnTo>
                <a:lnTo>
                  <a:pt x="10" y="27"/>
                </a:lnTo>
                <a:lnTo>
                  <a:pt x="10" y="26"/>
                </a:lnTo>
                <a:lnTo>
                  <a:pt x="10" y="25"/>
                </a:lnTo>
                <a:lnTo>
                  <a:pt x="10" y="24"/>
                </a:lnTo>
                <a:lnTo>
                  <a:pt x="10" y="23"/>
                </a:lnTo>
                <a:lnTo>
                  <a:pt x="10" y="22"/>
                </a:lnTo>
                <a:lnTo>
                  <a:pt x="10" y="21"/>
                </a:lnTo>
                <a:lnTo>
                  <a:pt x="10" y="20"/>
                </a:lnTo>
                <a:lnTo>
                  <a:pt x="11" y="18"/>
                </a:lnTo>
                <a:lnTo>
                  <a:pt x="11" y="17"/>
                </a:lnTo>
                <a:lnTo>
                  <a:pt x="11" y="16"/>
                </a:lnTo>
                <a:lnTo>
                  <a:pt x="11" y="15"/>
                </a:lnTo>
                <a:lnTo>
                  <a:pt x="11" y="14"/>
                </a:lnTo>
                <a:lnTo>
                  <a:pt x="11" y="13"/>
                </a:lnTo>
                <a:lnTo>
                  <a:pt x="11" y="12"/>
                </a:lnTo>
                <a:lnTo>
                  <a:pt x="11" y="11"/>
                </a:lnTo>
                <a:lnTo>
                  <a:pt x="11" y="10"/>
                </a:lnTo>
                <a:lnTo>
                  <a:pt x="12" y="8"/>
                </a:lnTo>
                <a:lnTo>
                  <a:pt x="12" y="7"/>
                </a:lnTo>
                <a:lnTo>
                  <a:pt x="12" y="6"/>
                </a:lnTo>
                <a:lnTo>
                  <a:pt x="12" y="5"/>
                </a:lnTo>
                <a:lnTo>
                  <a:pt x="12" y="4"/>
                </a:lnTo>
                <a:lnTo>
                  <a:pt x="12" y="3"/>
                </a:lnTo>
                <a:lnTo>
                  <a:pt x="12" y="2"/>
                </a:lnTo>
                <a:lnTo>
                  <a:pt x="12" y="1"/>
                </a:lnTo>
                <a:lnTo>
                  <a:pt x="12" y="0"/>
                </a:lnTo>
                <a:lnTo>
                  <a:pt x="11" y="0"/>
                </a:lnTo>
                <a:lnTo>
                  <a:pt x="10" y="0"/>
                </a:lnTo>
                <a:lnTo>
                  <a:pt x="5" y="0"/>
                </a:lnTo>
                <a:lnTo>
                  <a:pt x="2" y="0"/>
                </a:lnTo>
                <a:lnTo>
                  <a:pt x="2" y="1"/>
                </a:lnTo>
                <a:lnTo>
                  <a:pt x="2" y="2"/>
                </a:lnTo>
                <a:lnTo>
                  <a:pt x="2" y="3"/>
                </a:lnTo>
                <a:lnTo>
                  <a:pt x="2" y="4"/>
                </a:lnTo>
                <a:lnTo>
                  <a:pt x="2" y="5"/>
                </a:lnTo>
                <a:lnTo>
                  <a:pt x="2" y="6"/>
                </a:lnTo>
                <a:lnTo>
                  <a:pt x="2" y="7"/>
                </a:lnTo>
                <a:lnTo>
                  <a:pt x="2" y="8"/>
                </a:lnTo>
                <a:lnTo>
                  <a:pt x="1" y="9"/>
                </a:lnTo>
                <a:lnTo>
                  <a:pt x="1" y="10"/>
                </a:lnTo>
                <a:lnTo>
                  <a:pt x="1" y="11"/>
                </a:lnTo>
                <a:lnTo>
                  <a:pt x="1" y="12"/>
                </a:lnTo>
                <a:lnTo>
                  <a:pt x="1" y="13"/>
                </a:lnTo>
                <a:lnTo>
                  <a:pt x="1" y="14"/>
                </a:lnTo>
                <a:lnTo>
                  <a:pt x="1" y="15"/>
                </a:lnTo>
                <a:lnTo>
                  <a:pt x="1" y="16"/>
                </a:lnTo>
                <a:lnTo>
                  <a:pt x="1" y="17"/>
                </a:lnTo>
                <a:lnTo>
                  <a:pt x="0" y="18"/>
                </a:lnTo>
                <a:lnTo>
                  <a:pt x="0" y="19"/>
                </a:lnTo>
                <a:lnTo>
                  <a:pt x="0" y="20"/>
                </a:lnTo>
                <a:lnTo>
                  <a:pt x="0" y="21"/>
                </a:lnTo>
                <a:lnTo>
                  <a:pt x="0" y="22"/>
                </a:lnTo>
                <a:lnTo>
                  <a:pt x="0" y="23"/>
                </a:lnTo>
                <a:lnTo>
                  <a:pt x="0" y="24"/>
                </a:lnTo>
                <a:lnTo>
                  <a:pt x="0" y="25"/>
                </a:lnTo>
                <a:lnTo>
                  <a:pt x="0" y="26"/>
                </a:lnTo>
                <a:lnTo>
                  <a:pt x="0" y="27"/>
                </a:lnTo>
                <a:lnTo>
                  <a:pt x="0" y="28"/>
                </a:lnTo>
                <a:lnTo>
                  <a:pt x="0" y="29"/>
                </a:lnTo>
                <a:lnTo>
                  <a:pt x="0" y="30"/>
                </a:lnTo>
                <a:lnTo>
                  <a:pt x="0" y="31"/>
                </a:lnTo>
                <a:lnTo>
                  <a:pt x="0" y="32"/>
                </a:lnTo>
                <a:lnTo>
                  <a:pt x="0" y="33"/>
                </a:lnTo>
                <a:lnTo>
                  <a:pt x="0" y="34"/>
                </a:lnTo>
                <a:lnTo>
                  <a:pt x="0" y="35"/>
                </a:lnTo>
                <a:lnTo>
                  <a:pt x="0" y="36"/>
                </a:lnTo>
                <a:lnTo>
                  <a:pt x="0" y="37"/>
                </a:lnTo>
                <a:lnTo>
                  <a:pt x="0" y="38"/>
                </a:lnTo>
                <a:lnTo>
                  <a:pt x="0" y="39"/>
                </a:lnTo>
                <a:lnTo>
                  <a:pt x="0" y="41"/>
                </a:lnTo>
                <a:lnTo>
                  <a:pt x="1" y="43"/>
                </a:lnTo>
                <a:lnTo>
                  <a:pt x="1" y="44"/>
                </a:lnTo>
                <a:lnTo>
                  <a:pt x="1" y="45"/>
                </a:lnTo>
                <a:lnTo>
                  <a:pt x="2" y="47"/>
                </a:lnTo>
                <a:lnTo>
                  <a:pt x="2" y="48"/>
                </a:lnTo>
                <a:lnTo>
                  <a:pt x="2" y="49"/>
                </a:lnTo>
                <a:lnTo>
                  <a:pt x="3" y="51"/>
                </a:lnTo>
                <a:lnTo>
                  <a:pt x="4" y="53"/>
                </a:lnTo>
                <a:lnTo>
                  <a:pt x="5" y="55"/>
                </a:lnTo>
                <a:lnTo>
                  <a:pt x="6" y="57"/>
                </a:lnTo>
                <a:lnTo>
                  <a:pt x="7" y="59"/>
                </a:lnTo>
                <a:lnTo>
                  <a:pt x="8" y="61"/>
                </a:lnTo>
                <a:lnTo>
                  <a:pt x="10" y="61"/>
                </a:lnTo>
                <a:lnTo>
                  <a:pt x="11" y="63"/>
                </a:lnTo>
                <a:lnTo>
                  <a:pt x="13" y="64"/>
                </a:lnTo>
                <a:lnTo>
                  <a:pt x="14" y="64"/>
                </a:lnTo>
                <a:lnTo>
                  <a:pt x="15" y="64"/>
                </a:lnTo>
                <a:lnTo>
                  <a:pt x="14" y="64"/>
                </a:lnTo>
                <a:lnTo>
                  <a:pt x="12" y="64"/>
                </a:lnTo>
                <a:lnTo>
                  <a:pt x="11" y="64"/>
                </a:lnTo>
                <a:lnTo>
                  <a:pt x="11" y="63"/>
                </a:lnTo>
                <a:lnTo>
                  <a:pt x="12" y="64"/>
                </a:lnTo>
                <a:lnTo>
                  <a:pt x="13" y="64"/>
                </a:lnTo>
                <a:lnTo>
                  <a:pt x="14" y="64"/>
                </a:lnTo>
                <a:lnTo>
                  <a:pt x="15" y="64"/>
                </a:lnTo>
                <a:lnTo>
                  <a:pt x="15" y="55"/>
                </a:lnTo>
                <a:close/>
              </a:path>
            </a:pathLst>
          </a:custGeom>
          <a:solidFill>
            <a:srgbClr val="1f1a17"/>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34" name="Freeform 33"/>
          <p:cNvSpPr/>
          <p:nvPr/>
        </p:nvSpPr>
        <p:spPr>
          <a:xfrm>
            <a:off x="3855960" y="4033800"/>
            <a:ext cx="39600" cy="47520"/>
          </a:xfrm>
          <a:custGeom>
            <a:avLst/>
            <a:gdLst>
              <a:gd name="textAreaLeft" fmla="*/ 0 w 39600"/>
              <a:gd name="textAreaRight" fmla="*/ 39960 w 39600"/>
              <a:gd name="textAreaTop" fmla="*/ 0 h 47520"/>
              <a:gd name="textAreaBottom" fmla="*/ 47880 h 47520"/>
            </a:gdLst>
            <a:ahLst/>
            <a:rect l="textAreaLeft" t="textAreaTop" r="textAreaRight" b="textAreaBottom"/>
            <a:pathLst>
              <a:path w="50" h="60">
                <a:moveTo>
                  <a:pt x="46" y="0"/>
                </a:moveTo>
                <a:lnTo>
                  <a:pt x="45" y="1"/>
                </a:lnTo>
                <a:lnTo>
                  <a:pt x="42" y="4"/>
                </a:lnTo>
                <a:lnTo>
                  <a:pt x="41" y="5"/>
                </a:lnTo>
                <a:lnTo>
                  <a:pt x="41" y="6"/>
                </a:lnTo>
                <a:lnTo>
                  <a:pt x="41" y="7"/>
                </a:lnTo>
                <a:lnTo>
                  <a:pt x="40" y="8"/>
                </a:lnTo>
                <a:lnTo>
                  <a:pt x="40" y="9"/>
                </a:lnTo>
                <a:lnTo>
                  <a:pt x="38" y="10"/>
                </a:lnTo>
                <a:lnTo>
                  <a:pt x="38" y="11"/>
                </a:lnTo>
                <a:lnTo>
                  <a:pt x="38" y="12"/>
                </a:lnTo>
                <a:lnTo>
                  <a:pt x="38" y="13"/>
                </a:lnTo>
                <a:lnTo>
                  <a:pt x="37" y="14"/>
                </a:lnTo>
                <a:lnTo>
                  <a:pt x="36" y="15"/>
                </a:lnTo>
                <a:lnTo>
                  <a:pt x="36" y="16"/>
                </a:lnTo>
                <a:lnTo>
                  <a:pt x="35" y="17"/>
                </a:lnTo>
                <a:lnTo>
                  <a:pt x="35" y="18"/>
                </a:lnTo>
                <a:lnTo>
                  <a:pt x="34" y="19"/>
                </a:lnTo>
                <a:lnTo>
                  <a:pt x="34" y="20"/>
                </a:lnTo>
                <a:lnTo>
                  <a:pt x="33" y="21"/>
                </a:lnTo>
                <a:lnTo>
                  <a:pt x="33" y="22"/>
                </a:lnTo>
                <a:lnTo>
                  <a:pt x="32" y="23"/>
                </a:lnTo>
                <a:lnTo>
                  <a:pt x="31" y="24"/>
                </a:lnTo>
                <a:lnTo>
                  <a:pt x="30" y="25"/>
                </a:lnTo>
                <a:lnTo>
                  <a:pt x="30" y="26"/>
                </a:lnTo>
                <a:lnTo>
                  <a:pt x="29" y="27"/>
                </a:lnTo>
                <a:lnTo>
                  <a:pt x="29" y="28"/>
                </a:lnTo>
                <a:lnTo>
                  <a:pt x="28" y="29"/>
                </a:lnTo>
                <a:lnTo>
                  <a:pt x="27" y="30"/>
                </a:lnTo>
                <a:lnTo>
                  <a:pt x="26" y="31"/>
                </a:lnTo>
                <a:lnTo>
                  <a:pt x="26" y="32"/>
                </a:lnTo>
                <a:lnTo>
                  <a:pt x="25" y="33"/>
                </a:lnTo>
                <a:lnTo>
                  <a:pt x="23" y="34"/>
                </a:lnTo>
                <a:lnTo>
                  <a:pt x="22" y="35"/>
                </a:lnTo>
                <a:lnTo>
                  <a:pt x="21" y="37"/>
                </a:lnTo>
                <a:lnTo>
                  <a:pt x="20" y="38"/>
                </a:lnTo>
                <a:lnTo>
                  <a:pt x="19" y="39"/>
                </a:lnTo>
                <a:lnTo>
                  <a:pt x="18" y="40"/>
                </a:lnTo>
                <a:lnTo>
                  <a:pt x="17" y="41"/>
                </a:lnTo>
                <a:lnTo>
                  <a:pt x="16" y="42"/>
                </a:lnTo>
                <a:lnTo>
                  <a:pt x="15" y="43"/>
                </a:lnTo>
                <a:lnTo>
                  <a:pt x="14" y="44"/>
                </a:lnTo>
                <a:lnTo>
                  <a:pt x="13" y="45"/>
                </a:lnTo>
                <a:lnTo>
                  <a:pt x="12" y="46"/>
                </a:lnTo>
                <a:lnTo>
                  <a:pt x="11" y="46"/>
                </a:lnTo>
                <a:lnTo>
                  <a:pt x="10" y="47"/>
                </a:lnTo>
                <a:lnTo>
                  <a:pt x="8" y="48"/>
                </a:lnTo>
                <a:lnTo>
                  <a:pt x="7" y="48"/>
                </a:lnTo>
                <a:lnTo>
                  <a:pt x="6" y="49"/>
                </a:lnTo>
                <a:lnTo>
                  <a:pt x="5" y="50"/>
                </a:lnTo>
                <a:lnTo>
                  <a:pt x="4" y="50"/>
                </a:lnTo>
                <a:lnTo>
                  <a:pt x="3" y="50"/>
                </a:lnTo>
                <a:lnTo>
                  <a:pt x="2" y="51"/>
                </a:lnTo>
                <a:lnTo>
                  <a:pt x="1" y="51"/>
                </a:lnTo>
                <a:lnTo>
                  <a:pt x="0" y="51"/>
                </a:lnTo>
                <a:lnTo>
                  <a:pt x="0" y="52"/>
                </a:lnTo>
                <a:lnTo>
                  <a:pt x="0" y="53"/>
                </a:lnTo>
                <a:lnTo>
                  <a:pt x="0" y="57"/>
                </a:lnTo>
                <a:lnTo>
                  <a:pt x="0" y="60"/>
                </a:lnTo>
                <a:lnTo>
                  <a:pt x="1" y="60"/>
                </a:lnTo>
                <a:lnTo>
                  <a:pt x="2" y="60"/>
                </a:lnTo>
                <a:lnTo>
                  <a:pt x="4" y="59"/>
                </a:lnTo>
                <a:lnTo>
                  <a:pt x="5" y="59"/>
                </a:lnTo>
                <a:lnTo>
                  <a:pt x="6" y="59"/>
                </a:lnTo>
                <a:lnTo>
                  <a:pt x="8" y="58"/>
                </a:lnTo>
                <a:lnTo>
                  <a:pt x="11" y="57"/>
                </a:lnTo>
                <a:lnTo>
                  <a:pt x="13" y="56"/>
                </a:lnTo>
                <a:lnTo>
                  <a:pt x="15" y="55"/>
                </a:lnTo>
                <a:lnTo>
                  <a:pt x="16" y="54"/>
                </a:lnTo>
                <a:lnTo>
                  <a:pt x="17" y="53"/>
                </a:lnTo>
                <a:lnTo>
                  <a:pt x="19" y="52"/>
                </a:lnTo>
                <a:lnTo>
                  <a:pt x="20" y="51"/>
                </a:lnTo>
                <a:lnTo>
                  <a:pt x="21" y="50"/>
                </a:lnTo>
                <a:lnTo>
                  <a:pt x="22" y="48"/>
                </a:lnTo>
                <a:lnTo>
                  <a:pt x="25" y="47"/>
                </a:lnTo>
                <a:lnTo>
                  <a:pt x="26" y="46"/>
                </a:lnTo>
                <a:lnTo>
                  <a:pt x="27" y="45"/>
                </a:lnTo>
                <a:lnTo>
                  <a:pt x="28" y="44"/>
                </a:lnTo>
                <a:lnTo>
                  <a:pt x="29" y="43"/>
                </a:lnTo>
                <a:lnTo>
                  <a:pt x="30" y="42"/>
                </a:lnTo>
                <a:lnTo>
                  <a:pt x="31" y="41"/>
                </a:lnTo>
                <a:lnTo>
                  <a:pt x="32" y="39"/>
                </a:lnTo>
                <a:lnTo>
                  <a:pt x="33" y="38"/>
                </a:lnTo>
                <a:lnTo>
                  <a:pt x="34" y="35"/>
                </a:lnTo>
                <a:lnTo>
                  <a:pt x="35" y="34"/>
                </a:lnTo>
                <a:lnTo>
                  <a:pt x="36" y="33"/>
                </a:lnTo>
                <a:lnTo>
                  <a:pt x="37" y="31"/>
                </a:lnTo>
                <a:lnTo>
                  <a:pt x="38" y="30"/>
                </a:lnTo>
                <a:lnTo>
                  <a:pt x="40" y="29"/>
                </a:lnTo>
                <a:lnTo>
                  <a:pt x="41" y="27"/>
                </a:lnTo>
                <a:lnTo>
                  <a:pt x="42" y="26"/>
                </a:lnTo>
                <a:lnTo>
                  <a:pt x="43" y="25"/>
                </a:lnTo>
                <a:lnTo>
                  <a:pt x="43" y="24"/>
                </a:lnTo>
                <a:lnTo>
                  <a:pt x="43" y="23"/>
                </a:lnTo>
                <a:lnTo>
                  <a:pt x="44" y="22"/>
                </a:lnTo>
                <a:lnTo>
                  <a:pt x="45" y="20"/>
                </a:lnTo>
                <a:lnTo>
                  <a:pt x="46" y="18"/>
                </a:lnTo>
                <a:lnTo>
                  <a:pt x="47" y="16"/>
                </a:lnTo>
                <a:lnTo>
                  <a:pt x="48" y="14"/>
                </a:lnTo>
                <a:lnTo>
                  <a:pt x="49" y="12"/>
                </a:lnTo>
                <a:lnTo>
                  <a:pt x="49" y="11"/>
                </a:lnTo>
                <a:lnTo>
                  <a:pt x="49" y="10"/>
                </a:lnTo>
                <a:lnTo>
                  <a:pt x="50" y="8"/>
                </a:lnTo>
                <a:lnTo>
                  <a:pt x="50" y="7"/>
                </a:lnTo>
                <a:lnTo>
                  <a:pt x="50" y="6"/>
                </a:lnTo>
                <a:lnTo>
                  <a:pt x="50" y="5"/>
                </a:lnTo>
                <a:lnTo>
                  <a:pt x="49" y="6"/>
                </a:lnTo>
                <a:lnTo>
                  <a:pt x="47" y="8"/>
                </a:lnTo>
                <a:lnTo>
                  <a:pt x="46" y="9"/>
                </a:lnTo>
                <a:lnTo>
                  <a:pt x="46" y="8"/>
                </a:lnTo>
                <a:lnTo>
                  <a:pt x="46" y="4"/>
                </a:lnTo>
                <a:lnTo>
                  <a:pt x="46" y="1"/>
                </a:lnTo>
                <a:lnTo>
                  <a:pt x="46" y="0"/>
                </a:lnTo>
                <a:lnTo>
                  <a:pt x="45" y="0"/>
                </a:lnTo>
                <a:lnTo>
                  <a:pt x="42" y="0"/>
                </a:lnTo>
                <a:lnTo>
                  <a:pt x="41" y="0"/>
                </a:lnTo>
                <a:lnTo>
                  <a:pt x="41" y="1"/>
                </a:lnTo>
                <a:lnTo>
                  <a:pt x="41" y="4"/>
                </a:lnTo>
                <a:lnTo>
                  <a:pt x="41" y="5"/>
                </a:lnTo>
                <a:lnTo>
                  <a:pt x="46" y="0"/>
                </a:lnTo>
                <a:close/>
              </a:path>
            </a:pathLst>
          </a:custGeom>
          <a:solidFill>
            <a:srgbClr val="1f1a17"/>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35" name="Freeform 34"/>
          <p:cNvSpPr/>
          <p:nvPr/>
        </p:nvSpPr>
        <p:spPr>
          <a:xfrm>
            <a:off x="3892680" y="4033800"/>
            <a:ext cx="128520" cy="77760"/>
          </a:xfrm>
          <a:custGeom>
            <a:avLst/>
            <a:gdLst>
              <a:gd name="textAreaLeft" fmla="*/ 0 w 128520"/>
              <a:gd name="textAreaRight" fmla="*/ 128880 w 128520"/>
              <a:gd name="textAreaTop" fmla="*/ 0 h 77760"/>
              <a:gd name="textAreaBottom" fmla="*/ 78120 h 77760"/>
            </a:gdLst>
            <a:ahLst/>
            <a:rect l="textAreaLeft" t="textAreaTop" r="textAreaRight" b="textAreaBottom"/>
            <a:pathLst>
              <a:path w="163" h="98">
                <a:moveTo>
                  <a:pt x="159" y="88"/>
                </a:moveTo>
                <a:lnTo>
                  <a:pt x="161" y="92"/>
                </a:lnTo>
                <a:lnTo>
                  <a:pt x="162" y="93"/>
                </a:lnTo>
                <a:lnTo>
                  <a:pt x="163" y="93"/>
                </a:lnTo>
                <a:lnTo>
                  <a:pt x="162" y="88"/>
                </a:lnTo>
                <a:lnTo>
                  <a:pt x="162" y="86"/>
                </a:lnTo>
                <a:lnTo>
                  <a:pt x="162" y="85"/>
                </a:lnTo>
                <a:lnTo>
                  <a:pt x="160" y="82"/>
                </a:lnTo>
                <a:lnTo>
                  <a:pt x="160" y="80"/>
                </a:lnTo>
                <a:lnTo>
                  <a:pt x="160" y="79"/>
                </a:lnTo>
                <a:lnTo>
                  <a:pt x="159" y="76"/>
                </a:lnTo>
                <a:lnTo>
                  <a:pt x="159" y="74"/>
                </a:lnTo>
                <a:lnTo>
                  <a:pt x="159" y="73"/>
                </a:lnTo>
                <a:lnTo>
                  <a:pt x="157" y="70"/>
                </a:lnTo>
                <a:lnTo>
                  <a:pt x="157" y="69"/>
                </a:lnTo>
                <a:lnTo>
                  <a:pt x="157" y="68"/>
                </a:lnTo>
                <a:lnTo>
                  <a:pt x="154" y="65"/>
                </a:lnTo>
                <a:lnTo>
                  <a:pt x="153" y="64"/>
                </a:lnTo>
                <a:lnTo>
                  <a:pt x="153" y="63"/>
                </a:lnTo>
                <a:lnTo>
                  <a:pt x="151" y="60"/>
                </a:lnTo>
                <a:lnTo>
                  <a:pt x="151" y="58"/>
                </a:lnTo>
                <a:lnTo>
                  <a:pt x="151" y="57"/>
                </a:lnTo>
                <a:lnTo>
                  <a:pt x="149" y="55"/>
                </a:lnTo>
                <a:lnTo>
                  <a:pt x="148" y="54"/>
                </a:lnTo>
                <a:lnTo>
                  <a:pt x="148" y="53"/>
                </a:lnTo>
                <a:lnTo>
                  <a:pt x="146" y="50"/>
                </a:lnTo>
                <a:lnTo>
                  <a:pt x="145" y="49"/>
                </a:lnTo>
                <a:lnTo>
                  <a:pt x="145" y="48"/>
                </a:lnTo>
                <a:lnTo>
                  <a:pt x="142" y="46"/>
                </a:lnTo>
                <a:lnTo>
                  <a:pt x="140" y="45"/>
                </a:lnTo>
                <a:lnTo>
                  <a:pt x="140" y="44"/>
                </a:lnTo>
                <a:lnTo>
                  <a:pt x="138" y="42"/>
                </a:lnTo>
                <a:lnTo>
                  <a:pt x="137" y="41"/>
                </a:lnTo>
                <a:lnTo>
                  <a:pt x="137" y="40"/>
                </a:lnTo>
                <a:lnTo>
                  <a:pt x="134" y="38"/>
                </a:lnTo>
                <a:lnTo>
                  <a:pt x="133" y="37"/>
                </a:lnTo>
                <a:lnTo>
                  <a:pt x="133" y="35"/>
                </a:lnTo>
                <a:lnTo>
                  <a:pt x="129" y="33"/>
                </a:lnTo>
                <a:lnTo>
                  <a:pt x="128" y="32"/>
                </a:lnTo>
                <a:lnTo>
                  <a:pt x="128" y="31"/>
                </a:lnTo>
                <a:lnTo>
                  <a:pt x="124" y="30"/>
                </a:lnTo>
                <a:lnTo>
                  <a:pt x="123" y="29"/>
                </a:lnTo>
                <a:lnTo>
                  <a:pt x="123" y="28"/>
                </a:lnTo>
                <a:lnTo>
                  <a:pt x="119" y="27"/>
                </a:lnTo>
                <a:lnTo>
                  <a:pt x="118" y="26"/>
                </a:lnTo>
                <a:lnTo>
                  <a:pt x="118" y="25"/>
                </a:lnTo>
                <a:lnTo>
                  <a:pt x="115" y="24"/>
                </a:lnTo>
                <a:lnTo>
                  <a:pt x="114" y="23"/>
                </a:lnTo>
                <a:lnTo>
                  <a:pt x="114" y="22"/>
                </a:lnTo>
                <a:lnTo>
                  <a:pt x="109" y="21"/>
                </a:lnTo>
                <a:lnTo>
                  <a:pt x="108" y="20"/>
                </a:lnTo>
                <a:lnTo>
                  <a:pt x="108" y="19"/>
                </a:lnTo>
                <a:lnTo>
                  <a:pt x="104" y="18"/>
                </a:lnTo>
                <a:lnTo>
                  <a:pt x="102" y="17"/>
                </a:lnTo>
                <a:lnTo>
                  <a:pt x="102" y="16"/>
                </a:lnTo>
                <a:lnTo>
                  <a:pt x="101" y="16"/>
                </a:lnTo>
                <a:lnTo>
                  <a:pt x="98" y="15"/>
                </a:lnTo>
                <a:lnTo>
                  <a:pt x="97" y="15"/>
                </a:lnTo>
                <a:lnTo>
                  <a:pt x="97" y="14"/>
                </a:lnTo>
                <a:lnTo>
                  <a:pt x="95" y="14"/>
                </a:lnTo>
                <a:lnTo>
                  <a:pt x="92" y="13"/>
                </a:lnTo>
                <a:lnTo>
                  <a:pt x="91" y="13"/>
                </a:lnTo>
                <a:lnTo>
                  <a:pt x="91" y="12"/>
                </a:lnTo>
                <a:lnTo>
                  <a:pt x="90" y="12"/>
                </a:lnTo>
                <a:lnTo>
                  <a:pt x="87" y="11"/>
                </a:lnTo>
                <a:lnTo>
                  <a:pt x="85" y="11"/>
                </a:lnTo>
                <a:lnTo>
                  <a:pt x="85" y="10"/>
                </a:lnTo>
                <a:lnTo>
                  <a:pt x="84" y="10"/>
                </a:lnTo>
                <a:lnTo>
                  <a:pt x="80" y="9"/>
                </a:lnTo>
                <a:lnTo>
                  <a:pt x="78" y="9"/>
                </a:lnTo>
                <a:lnTo>
                  <a:pt x="78" y="8"/>
                </a:lnTo>
                <a:lnTo>
                  <a:pt x="77" y="8"/>
                </a:lnTo>
                <a:lnTo>
                  <a:pt x="74" y="8"/>
                </a:lnTo>
                <a:lnTo>
                  <a:pt x="72" y="8"/>
                </a:lnTo>
                <a:lnTo>
                  <a:pt x="72" y="7"/>
                </a:lnTo>
                <a:lnTo>
                  <a:pt x="71" y="7"/>
                </a:lnTo>
                <a:lnTo>
                  <a:pt x="68" y="6"/>
                </a:lnTo>
                <a:lnTo>
                  <a:pt x="65" y="6"/>
                </a:lnTo>
                <a:lnTo>
                  <a:pt x="65" y="5"/>
                </a:lnTo>
                <a:lnTo>
                  <a:pt x="64" y="5"/>
                </a:lnTo>
                <a:lnTo>
                  <a:pt x="63" y="5"/>
                </a:lnTo>
                <a:lnTo>
                  <a:pt x="60" y="5"/>
                </a:lnTo>
                <a:lnTo>
                  <a:pt x="58" y="5"/>
                </a:lnTo>
                <a:lnTo>
                  <a:pt x="58" y="4"/>
                </a:lnTo>
                <a:lnTo>
                  <a:pt x="57" y="4"/>
                </a:lnTo>
                <a:lnTo>
                  <a:pt x="54" y="4"/>
                </a:lnTo>
                <a:lnTo>
                  <a:pt x="51" y="4"/>
                </a:lnTo>
                <a:lnTo>
                  <a:pt x="51" y="3"/>
                </a:lnTo>
                <a:lnTo>
                  <a:pt x="50" y="3"/>
                </a:lnTo>
                <a:lnTo>
                  <a:pt x="49" y="3"/>
                </a:lnTo>
                <a:lnTo>
                  <a:pt x="46" y="3"/>
                </a:lnTo>
                <a:lnTo>
                  <a:pt x="44" y="3"/>
                </a:lnTo>
                <a:lnTo>
                  <a:pt x="44" y="2"/>
                </a:lnTo>
                <a:lnTo>
                  <a:pt x="43" y="2"/>
                </a:lnTo>
                <a:lnTo>
                  <a:pt x="40" y="2"/>
                </a:lnTo>
                <a:lnTo>
                  <a:pt x="38" y="2"/>
                </a:lnTo>
                <a:lnTo>
                  <a:pt x="36" y="2"/>
                </a:lnTo>
                <a:lnTo>
                  <a:pt x="35" y="2"/>
                </a:lnTo>
                <a:lnTo>
                  <a:pt x="32" y="2"/>
                </a:lnTo>
                <a:lnTo>
                  <a:pt x="30" y="2"/>
                </a:lnTo>
                <a:lnTo>
                  <a:pt x="30" y="1"/>
                </a:lnTo>
                <a:lnTo>
                  <a:pt x="29" y="1"/>
                </a:lnTo>
                <a:lnTo>
                  <a:pt x="28" y="1"/>
                </a:lnTo>
                <a:lnTo>
                  <a:pt x="25" y="1"/>
                </a:lnTo>
                <a:lnTo>
                  <a:pt x="23" y="1"/>
                </a:lnTo>
                <a:lnTo>
                  <a:pt x="21" y="1"/>
                </a:lnTo>
                <a:lnTo>
                  <a:pt x="20" y="1"/>
                </a:lnTo>
                <a:lnTo>
                  <a:pt x="17" y="1"/>
                </a:lnTo>
                <a:lnTo>
                  <a:pt x="15" y="1"/>
                </a:lnTo>
                <a:lnTo>
                  <a:pt x="15" y="0"/>
                </a:lnTo>
                <a:lnTo>
                  <a:pt x="14" y="0"/>
                </a:lnTo>
                <a:lnTo>
                  <a:pt x="13" y="0"/>
                </a:lnTo>
                <a:lnTo>
                  <a:pt x="10" y="0"/>
                </a:lnTo>
                <a:lnTo>
                  <a:pt x="7" y="0"/>
                </a:lnTo>
                <a:lnTo>
                  <a:pt x="6" y="0"/>
                </a:lnTo>
                <a:lnTo>
                  <a:pt x="5" y="0"/>
                </a:lnTo>
                <a:lnTo>
                  <a:pt x="2" y="0"/>
                </a:lnTo>
                <a:lnTo>
                  <a:pt x="0" y="0"/>
                </a:lnTo>
                <a:lnTo>
                  <a:pt x="0" y="1"/>
                </a:lnTo>
                <a:lnTo>
                  <a:pt x="0" y="2"/>
                </a:lnTo>
                <a:lnTo>
                  <a:pt x="0" y="6"/>
                </a:lnTo>
                <a:lnTo>
                  <a:pt x="0" y="9"/>
                </a:lnTo>
                <a:lnTo>
                  <a:pt x="1" y="9"/>
                </a:lnTo>
                <a:lnTo>
                  <a:pt x="4" y="9"/>
                </a:lnTo>
                <a:lnTo>
                  <a:pt x="6" y="9"/>
                </a:lnTo>
                <a:lnTo>
                  <a:pt x="7" y="9"/>
                </a:lnTo>
                <a:lnTo>
                  <a:pt x="9" y="9"/>
                </a:lnTo>
                <a:lnTo>
                  <a:pt x="12" y="9"/>
                </a:lnTo>
                <a:lnTo>
                  <a:pt x="14" y="9"/>
                </a:lnTo>
                <a:lnTo>
                  <a:pt x="15" y="9"/>
                </a:lnTo>
                <a:lnTo>
                  <a:pt x="18" y="10"/>
                </a:lnTo>
                <a:lnTo>
                  <a:pt x="20" y="10"/>
                </a:lnTo>
                <a:lnTo>
                  <a:pt x="21" y="10"/>
                </a:lnTo>
                <a:lnTo>
                  <a:pt x="23" y="10"/>
                </a:lnTo>
                <a:lnTo>
                  <a:pt x="26" y="10"/>
                </a:lnTo>
                <a:lnTo>
                  <a:pt x="28" y="10"/>
                </a:lnTo>
                <a:lnTo>
                  <a:pt x="29" y="10"/>
                </a:lnTo>
                <a:lnTo>
                  <a:pt x="33" y="11"/>
                </a:lnTo>
                <a:lnTo>
                  <a:pt x="35" y="11"/>
                </a:lnTo>
                <a:lnTo>
                  <a:pt x="36" y="11"/>
                </a:lnTo>
                <a:lnTo>
                  <a:pt x="40" y="11"/>
                </a:lnTo>
                <a:lnTo>
                  <a:pt x="42" y="11"/>
                </a:lnTo>
                <a:lnTo>
                  <a:pt x="43" y="11"/>
                </a:lnTo>
                <a:lnTo>
                  <a:pt x="47" y="12"/>
                </a:lnTo>
                <a:lnTo>
                  <a:pt x="49" y="12"/>
                </a:lnTo>
                <a:lnTo>
                  <a:pt x="50" y="12"/>
                </a:lnTo>
                <a:lnTo>
                  <a:pt x="54" y="13"/>
                </a:lnTo>
                <a:lnTo>
                  <a:pt x="56" y="13"/>
                </a:lnTo>
                <a:lnTo>
                  <a:pt x="57" y="13"/>
                </a:lnTo>
                <a:lnTo>
                  <a:pt x="60" y="14"/>
                </a:lnTo>
                <a:lnTo>
                  <a:pt x="62" y="14"/>
                </a:lnTo>
                <a:lnTo>
                  <a:pt x="63" y="14"/>
                </a:lnTo>
                <a:lnTo>
                  <a:pt x="66" y="16"/>
                </a:lnTo>
                <a:lnTo>
                  <a:pt x="69" y="16"/>
                </a:lnTo>
                <a:lnTo>
                  <a:pt x="70" y="16"/>
                </a:lnTo>
                <a:lnTo>
                  <a:pt x="73" y="17"/>
                </a:lnTo>
                <a:lnTo>
                  <a:pt x="75" y="17"/>
                </a:lnTo>
                <a:lnTo>
                  <a:pt x="76" y="17"/>
                </a:lnTo>
                <a:lnTo>
                  <a:pt x="79" y="19"/>
                </a:lnTo>
                <a:lnTo>
                  <a:pt x="80" y="19"/>
                </a:lnTo>
                <a:lnTo>
                  <a:pt x="81" y="19"/>
                </a:lnTo>
                <a:lnTo>
                  <a:pt x="85" y="20"/>
                </a:lnTo>
                <a:lnTo>
                  <a:pt x="87" y="20"/>
                </a:lnTo>
                <a:lnTo>
                  <a:pt x="88" y="20"/>
                </a:lnTo>
                <a:lnTo>
                  <a:pt x="91" y="22"/>
                </a:lnTo>
                <a:lnTo>
                  <a:pt x="92" y="22"/>
                </a:lnTo>
                <a:lnTo>
                  <a:pt x="93" y="22"/>
                </a:lnTo>
                <a:lnTo>
                  <a:pt x="97" y="24"/>
                </a:lnTo>
                <a:lnTo>
                  <a:pt x="98" y="25"/>
                </a:lnTo>
                <a:lnTo>
                  <a:pt x="99" y="25"/>
                </a:lnTo>
                <a:lnTo>
                  <a:pt x="102" y="27"/>
                </a:lnTo>
                <a:lnTo>
                  <a:pt x="103" y="27"/>
                </a:lnTo>
                <a:lnTo>
                  <a:pt x="104" y="27"/>
                </a:lnTo>
                <a:lnTo>
                  <a:pt x="106" y="29"/>
                </a:lnTo>
                <a:lnTo>
                  <a:pt x="108" y="29"/>
                </a:lnTo>
                <a:lnTo>
                  <a:pt x="112" y="31"/>
                </a:lnTo>
                <a:lnTo>
                  <a:pt x="113" y="32"/>
                </a:lnTo>
                <a:lnTo>
                  <a:pt x="114" y="32"/>
                </a:lnTo>
                <a:lnTo>
                  <a:pt x="116" y="34"/>
                </a:lnTo>
                <a:lnTo>
                  <a:pt x="117" y="35"/>
                </a:lnTo>
                <a:lnTo>
                  <a:pt x="118" y="35"/>
                </a:lnTo>
                <a:lnTo>
                  <a:pt x="120" y="38"/>
                </a:lnTo>
                <a:lnTo>
                  <a:pt x="121" y="39"/>
                </a:lnTo>
                <a:lnTo>
                  <a:pt x="122" y="39"/>
                </a:lnTo>
                <a:lnTo>
                  <a:pt x="123" y="41"/>
                </a:lnTo>
                <a:lnTo>
                  <a:pt x="124" y="42"/>
                </a:lnTo>
                <a:lnTo>
                  <a:pt x="125" y="42"/>
                </a:lnTo>
                <a:lnTo>
                  <a:pt x="128" y="45"/>
                </a:lnTo>
                <a:lnTo>
                  <a:pt x="129" y="46"/>
                </a:lnTo>
                <a:lnTo>
                  <a:pt x="130" y="46"/>
                </a:lnTo>
                <a:lnTo>
                  <a:pt x="131" y="48"/>
                </a:lnTo>
                <a:lnTo>
                  <a:pt x="132" y="49"/>
                </a:lnTo>
                <a:lnTo>
                  <a:pt x="133" y="49"/>
                </a:lnTo>
                <a:lnTo>
                  <a:pt x="134" y="52"/>
                </a:lnTo>
                <a:lnTo>
                  <a:pt x="135" y="53"/>
                </a:lnTo>
                <a:lnTo>
                  <a:pt x="136" y="53"/>
                </a:lnTo>
                <a:lnTo>
                  <a:pt x="137" y="56"/>
                </a:lnTo>
                <a:lnTo>
                  <a:pt x="138" y="57"/>
                </a:lnTo>
                <a:lnTo>
                  <a:pt x="139" y="57"/>
                </a:lnTo>
                <a:lnTo>
                  <a:pt x="140" y="61"/>
                </a:lnTo>
                <a:lnTo>
                  <a:pt x="142" y="62"/>
                </a:lnTo>
                <a:lnTo>
                  <a:pt x="143" y="62"/>
                </a:lnTo>
                <a:lnTo>
                  <a:pt x="144" y="65"/>
                </a:lnTo>
                <a:lnTo>
                  <a:pt x="145" y="66"/>
                </a:lnTo>
                <a:lnTo>
                  <a:pt x="145" y="67"/>
                </a:lnTo>
                <a:lnTo>
                  <a:pt x="146" y="70"/>
                </a:lnTo>
                <a:lnTo>
                  <a:pt x="146" y="71"/>
                </a:lnTo>
                <a:lnTo>
                  <a:pt x="147" y="71"/>
                </a:lnTo>
                <a:lnTo>
                  <a:pt x="147" y="72"/>
                </a:lnTo>
                <a:lnTo>
                  <a:pt x="148" y="75"/>
                </a:lnTo>
                <a:lnTo>
                  <a:pt x="148" y="76"/>
                </a:lnTo>
                <a:lnTo>
                  <a:pt x="149" y="76"/>
                </a:lnTo>
                <a:lnTo>
                  <a:pt x="149" y="77"/>
                </a:lnTo>
                <a:lnTo>
                  <a:pt x="150" y="80"/>
                </a:lnTo>
                <a:lnTo>
                  <a:pt x="150" y="82"/>
                </a:lnTo>
                <a:lnTo>
                  <a:pt x="151" y="82"/>
                </a:lnTo>
                <a:lnTo>
                  <a:pt x="151" y="83"/>
                </a:lnTo>
                <a:lnTo>
                  <a:pt x="151" y="86"/>
                </a:lnTo>
                <a:lnTo>
                  <a:pt x="151" y="87"/>
                </a:lnTo>
                <a:lnTo>
                  <a:pt x="152" y="87"/>
                </a:lnTo>
                <a:lnTo>
                  <a:pt x="152" y="88"/>
                </a:lnTo>
                <a:lnTo>
                  <a:pt x="152" y="92"/>
                </a:lnTo>
                <a:lnTo>
                  <a:pt x="152" y="94"/>
                </a:lnTo>
                <a:lnTo>
                  <a:pt x="153" y="94"/>
                </a:lnTo>
                <a:lnTo>
                  <a:pt x="155" y="97"/>
                </a:lnTo>
                <a:lnTo>
                  <a:pt x="157" y="98"/>
                </a:lnTo>
                <a:lnTo>
                  <a:pt x="158" y="98"/>
                </a:lnTo>
                <a:lnTo>
                  <a:pt x="154" y="96"/>
                </a:lnTo>
                <a:lnTo>
                  <a:pt x="153" y="95"/>
                </a:lnTo>
                <a:lnTo>
                  <a:pt x="153" y="94"/>
                </a:lnTo>
                <a:lnTo>
                  <a:pt x="153" y="95"/>
                </a:lnTo>
                <a:lnTo>
                  <a:pt x="153" y="96"/>
                </a:lnTo>
                <a:lnTo>
                  <a:pt x="153" y="97"/>
                </a:lnTo>
                <a:lnTo>
                  <a:pt x="154" y="97"/>
                </a:lnTo>
                <a:lnTo>
                  <a:pt x="157" y="98"/>
                </a:lnTo>
                <a:lnTo>
                  <a:pt x="158" y="98"/>
                </a:lnTo>
                <a:lnTo>
                  <a:pt x="159" y="88"/>
                </a:lnTo>
                <a:close/>
              </a:path>
            </a:pathLst>
          </a:custGeom>
          <a:solidFill>
            <a:srgbClr val="1f1a17"/>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36" name="Freeform 35"/>
          <p:cNvSpPr/>
          <p:nvPr/>
        </p:nvSpPr>
        <p:spPr>
          <a:xfrm>
            <a:off x="4017960" y="4105440"/>
            <a:ext cx="73080" cy="17280"/>
          </a:xfrm>
          <a:custGeom>
            <a:avLst/>
            <a:gdLst>
              <a:gd name="textAreaLeft" fmla="*/ 0 w 73080"/>
              <a:gd name="textAreaRight" fmla="*/ 73440 w 73080"/>
              <a:gd name="textAreaTop" fmla="*/ 0 h 17280"/>
              <a:gd name="textAreaBottom" fmla="*/ 17640 h 17280"/>
            </a:gdLst>
            <a:ahLst/>
            <a:rect l="textAreaLeft" t="textAreaTop" r="textAreaRight" b="textAreaBottom"/>
            <a:pathLst>
              <a:path w="92" h="23">
                <a:moveTo>
                  <a:pt x="92" y="15"/>
                </a:moveTo>
                <a:lnTo>
                  <a:pt x="91" y="15"/>
                </a:lnTo>
                <a:lnTo>
                  <a:pt x="90" y="15"/>
                </a:lnTo>
                <a:lnTo>
                  <a:pt x="89" y="15"/>
                </a:lnTo>
                <a:lnTo>
                  <a:pt x="89" y="14"/>
                </a:lnTo>
                <a:lnTo>
                  <a:pt x="86" y="14"/>
                </a:lnTo>
                <a:lnTo>
                  <a:pt x="75" y="12"/>
                </a:lnTo>
                <a:lnTo>
                  <a:pt x="33" y="6"/>
                </a:lnTo>
                <a:lnTo>
                  <a:pt x="2" y="1"/>
                </a:lnTo>
                <a:lnTo>
                  <a:pt x="1" y="0"/>
                </a:lnTo>
                <a:lnTo>
                  <a:pt x="0" y="3"/>
                </a:lnTo>
                <a:lnTo>
                  <a:pt x="0" y="7"/>
                </a:lnTo>
                <a:lnTo>
                  <a:pt x="0" y="10"/>
                </a:lnTo>
                <a:lnTo>
                  <a:pt x="12" y="13"/>
                </a:lnTo>
                <a:lnTo>
                  <a:pt x="54" y="19"/>
                </a:lnTo>
                <a:lnTo>
                  <a:pt x="85" y="23"/>
                </a:lnTo>
                <a:lnTo>
                  <a:pt x="88" y="23"/>
                </a:lnTo>
                <a:lnTo>
                  <a:pt x="86" y="23"/>
                </a:lnTo>
                <a:lnTo>
                  <a:pt x="85" y="23"/>
                </a:lnTo>
                <a:lnTo>
                  <a:pt x="84" y="23"/>
                </a:lnTo>
                <a:lnTo>
                  <a:pt x="84" y="22"/>
                </a:lnTo>
                <a:lnTo>
                  <a:pt x="92" y="15"/>
                </a:lnTo>
                <a:close/>
              </a:path>
            </a:pathLst>
          </a:custGeom>
          <a:solidFill>
            <a:srgbClr val="1f1a17"/>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7" name="Freeform 36"/>
          <p:cNvSpPr/>
          <p:nvPr/>
        </p:nvSpPr>
        <p:spPr>
          <a:xfrm>
            <a:off x="4084560" y="4116240"/>
            <a:ext cx="87480" cy="52560"/>
          </a:xfrm>
          <a:custGeom>
            <a:avLst/>
            <a:gdLst>
              <a:gd name="textAreaLeft" fmla="*/ 0 w 87480"/>
              <a:gd name="textAreaRight" fmla="*/ 87840 w 87480"/>
              <a:gd name="textAreaTop" fmla="*/ 0 h 52560"/>
              <a:gd name="textAreaBottom" fmla="*/ 52920 h 52560"/>
            </a:gdLst>
            <a:ahLst/>
            <a:rect l="textAreaLeft" t="textAreaTop" r="textAreaRight" b="textAreaBottom"/>
            <a:pathLst>
              <a:path w="111" h="67">
                <a:moveTo>
                  <a:pt x="109" y="58"/>
                </a:moveTo>
                <a:lnTo>
                  <a:pt x="110" y="58"/>
                </a:lnTo>
                <a:lnTo>
                  <a:pt x="111" y="58"/>
                </a:lnTo>
                <a:lnTo>
                  <a:pt x="110" y="58"/>
                </a:lnTo>
                <a:lnTo>
                  <a:pt x="107" y="58"/>
                </a:lnTo>
                <a:lnTo>
                  <a:pt x="104" y="58"/>
                </a:lnTo>
                <a:lnTo>
                  <a:pt x="104" y="57"/>
                </a:lnTo>
                <a:lnTo>
                  <a:pt x="103" y="57"/>
                </a:lnTo>
                <a:lnTo>
                  <a:pt x="100" y="57"/>
                </a:lnTo>
                <a:lnTo>
                  <a:pt x="99" y="57"/>
                </a:lnTo>
                <a:lnTo>
                  <a:pt x="99" y="56"/>
                </a:lnTo>
                <a:lnTo>
                  <a:pt x="96" y="55"/>
                </a:lnTo>
                <a:lnTo>
                  <a:pt x="95" y="54"/>
                </a:lnTo>
                <a:lnTo>
                  <a:pt x="94" y="54"/>
                </a:lnTo>
                <a:lnTo>
                  <a:pt x="90" y="54"/>
                </a:lnTo>
                <a:lnTo>
                  <a:pt x="89" y="54"/>
                </a:lnTo>
                <a:lnTo>
                  <a:pt x="89" y="53"/>
                </a:lnTo>
                <a:lnTo>
                  <a:pt x="88" y="53"/>
                </a:lnTo>
                <a:lnTo>
                  <a:pt x="86" y="53"/>
                </a:lnTo>
                <a:lnTo>
                  <a:pt x="85" y="53"/>
                </a:lnTo>
                <a:lnTo>
                  <a:pt x="85" y="52"/>
                </a:lnTo>
                <a:lnTo>
                  <a:pt x="84" y="52"/>
                </a:lnTo>
                <a:lnTo>
                  <a:pt x="82" y="52"/>
                </a:lnTo>
                <a:lnTo>
                  <a:pt x="81" y="52"/>
                </a:lnTo>
                <a:lnTo>
                  <a:pt x="81" y="51"/>
                </a:lnTo>
                <a:lnTo>
                  <a:pt x="79" y="50"/>
                </a:lnTo>
                <a:lnTo>
                  <a:pt x="78" y="49"/>
                </a:lnTo>
                <a:lnTo>
                  <a:pt x="76" y="49"/>
                </a:lnTo>
                <a:lnTo>
                  <a:pt x="75" y="49"/>
                </a:lnTo>
                <a:lnTo>
                  <a:pt x="74" y="49"/>
                </a:lnTo>
                <a:lnTo>
                  <a:pt x="74" y="48"/>
                </a:lnTo>
                <a:lnTo>
                  <a:pt x="73" y="48"/>
                </a:lnTo>
                <a:lnTo>
                  <a:pt x="71" y="48"/>
                </a:lnTo>
                <a:lnTo>
                  <a:pt x="70" y="48"/>
                </a:lnTo>
                <a:lnTo>
                  <a:pt x="70" y="47"/>
                </a:lnTo>
                <a:lnTo>
                  <a:pt x="69" y="47"/>
                </a:lnTo>
                <a:lnTo>
                  <a:pt x="68" y="47"/>
                </a:lnTo>
                <a:lnTo>
                  <a:pt x="67" y="47"/>
                </a:lnTo>
                <a:lnTo>
                  <a:pt x="67" y="46"/>
                </a:lnTo>
                <a:lnTo>
                  <a:pt x="65" y="45"/>
                </a:lnTo>
                <a:lnTo>
                  <a:pt x="64" y="44"/>
                </a:lnTo>
                <a:lnTo>
                  <a:pt x="61" y="43"/>
                </a:lnTo>
                <a:lnTo>
                  <a:pt x="60" y="43"/>
                </a:lnTo>
                <a:lnTo>
                  <a:pt x="59" y="43"/>
                </a:lnTo>
                <a:lnTo>
                  <a:pt x="58" y="43"/>
                </a:lnTo>
                <a:lnTo>
                  <a:pt x="58" y="42"/>
                </a:lnTo>
                <a:lnTo>
                  <a:pt x="56" y="40"/>
                </a:lnTo>
                <a:lnTo>
                  <a:pt x="56" y="39"/>
                </a:lnTo>
                <a:lnTo>
                  <a:pt x="55" y="39"/>
                </a:lnTo>
                <a:lnTo>
                  <a:pt x="54" y="39"/>
                </a:lnTo>
                <a:lnTo>
                  <a:pt x="53" y="39"/>
                </a:lnTo>
                <a:lnTo>
                  <a:pt x="53" y="38"/>
                </a:lnTo>
                <a:lnTo>
                  <a:pt x="51" y="37"/>
                </a:lnTo>
                <a:lnTo>
                  <a:pt x="51" y="36"/>
                </a:lnTo>
                <a:lnTo>
                  <a:pt x="49" y="35"/>
                </a:lnTo>
                <a:lnTo>
                  <a:pt x="46" y="34"/>
                </a:lnTo>
                <a:lnTo>
                  <a:pt x="46" y="33"/>
                </a:lnTo>
                <a:lnTo>
                  <a:pt x="44" y="32"/>
                </a:lnTo>
                <a:lnTo>
                  <a:pt x="44" y="31"/>
                </a:lnTo>
                <a:lnTo>
                  <a:pt x="43" y="31"/>
                </a:lnTo>
                <a:lnTo>
                  <a:pt x="42" y="31"/>
                </a:lnTo>
                <a:lnTo>
                  <a:pt x="41" y="31"/>
                </a:lnTo>
                <a:lnTo>
                  <a:pt x="41" y="30"/>
                </a:lnTo>
                <a:lnTo>
                  <a:pt x="39" y="29"/>
                </a:lnTo>
                <a:lnTo>
                  <a:pt x="39" y="28"/>
                </a:lnTo>
                <a:lnTo>
                  <a:pt x="37" y="27"/>
                </a:lnTo>
                <a:lnTo>
                  <a:pt x="37" y="26"/>
                </a:lnTo>
                <a:lnTo>
                  <a:pt x="35" y="25"/>
                </a:lnTo>
                <a:lnTo>
                  <a:pt x="35" y="24"/>
                </a:lnTo>
                <a:lnTo>
                  <a:pt x="33" y="23"/>
                </a:lnTo>
                <a:lnTo>
                  <a:pt x="31" y="22"/>
                </a:lnTo>
                <a:lnTo>
                  <a:pt x="29" y="20"/>
                </a:lnTo>
                <a:lnTo>
                  <a:pt x="29" y="19"/>
                </a:lnTo>
                <a:lnTo>
                  <a:pt x="27" y="18"/>
                </a:lnTo>
                <a:lnTo>
                  <a:pt x="26" y="17"/>
                </a:lnTo>
                <a:lnTo>
                  <a:pt x="24" y="16"/>
                </a:lnTo>
                <a:lnTo>
                  <a:pt x="24" y="15"/>
                </a:lnTo>
                <a:lnTo>
                  <a:pt x="22" y="14"/>
                </a:lnTo>
                <a:lnTo>
                  <a:pt x="21" y="13"/>
                </a:lnTo>
                <a:lnTo>
                  <a:pt x="21" y="12"/>
                </a:lnTo>
                <a:lnTo>
                  <a:pt x="19" y="11"/>
                </a:lnTo>
                <a:lnTo>
                  <a:pt x="18" y="10"/>
                </a:lnTo>
                <a:lnTo>
                  <a:pt x="18" y="9"/>
                </a:lnTo>
                <a:lnTo>
                  <a:pt x="15" y="8"/>
                </a:lnTo>
                <a:lnTo>
                  <a:pt x="14" y="7"/>
                </a:lnTo>
                <a:lnTo>
                  <a:pt x="14" y="6"/>
                </a:lnTo>
                <a:lnTo>
                  <a:pt x="12" y="5"/>
                </a:lnTo>
                <a:lnTo>
                  <a:pt x="11" y="4"/>
                </a:lnTo>
                <a:lnTo>
                  <a:pt x="11" y="3"/>
                </a:lnTo>
                <a:lnTo>
                  <a:pt x="9" y="2"/>
                </a:lnTo>
                <a:lnTo>
                  <a:pt x="8" y="1"/>
                </a:lnTo>
                <a:lnTo>
                  <a:pt x="8" y="0"/>
                </a:lnTo>
                <a:lnTo>
                  <a:pt x="7" y="1"/>
                </a:lnTo>
                <a:lnTo>
                  <a:pt x="6" y="2"/>
                </a:lnTo>
                <a:lnTo>
                  <a:pt x="2" y="5"/>
                </a:lnTo>
                <a:lnTo>
                  <a:pt x="0" y="7"/>
                </a:lnTo>
                <a:lnTo>
                  <a:pt x="2" y="9"/>
                </a:lnTo>
                <a:lnTo>
                  <a:pt x="4" y="10"/>
                </a:lnTo>
                <a:lnTo>
                  <a:pt x="5" y="10"/>
                </a:lnTo>
                <a:lnTo>
                  <a:pt x="6" y="12"/>
                </a:lnTo>
                <a:lnTo>
                  <a:pt x="7" y="13"/>
                </a:lnTo>
                <a:lnTo>
                  <a:pt x="8" y="13"/>
                </a:lnTo>
                <a:lnTo>
                  <a:pt x="9" y="15"/>
                </a:lnTo>
                <a:lnTo>
                  <a:pt x="10" y="16"/>
                </a:lnTo>
                <a:lnTo>
                  <a:pt x="11" y="16"/>
                </a:lnTo>
                <a:lnTo>
                  <a:pt x="13" y="18"/>
                </a:lnTo>
                <a:lnTo>
                  <a:pt x="14" y="18"/>
                </a:lnTo>
                <a:lnTo>
                  <a:pt x="15" y="20"/>
                </a:lnTo>
                <a:lnTo>
                  <a:pt x="16" y="21"/>
                </a:lnTo>
                <a:lnTo>
                  <a:pt x="18" y="21"/>
                </a:lnTo>
                <a:lnTo>
                  <a:pt x="19" y="23"/>
                </a:lnTo>
                <a:lnTo>
                  <a:pt x="20" y="24"/>
                </a:lnTo>
                <a:lnTo>
                  <a:pt x="22" y="26"/>
                </a:lnTo>
                <a:lnTo>
                  <a:pt x="23" y="26"/>
                </a:lnTo>
                <a:lnTo>
                  <a:pt x="24" y="28"/>
                </a:lnTo>
                <a:lnTo>
                  <a:pt x="25" y="28"/>
                </a:lnTo>
                <a:lnTo>
                  <a:pt x="27" y="30"/>
                </a:lnTo>
                <a:lnTo>
                  <a:pt x="28" y="30"/>
                </a:lnTo>
                <a:lnTo>
                  <a:pt x="29" y="32"/>
                </a:lnTo>
                <a:lnTo>
                  <a:pt x="30" y="33"/>
                </a:lnTo>
                <a:lnTo>
                  <a:pt x="31" y="35"/>
                </a:lnTo>
                <a:lnTo>
                  <a:pt x="33" y="35"/>
                </a:lnTo>
                <a:lnTo>
                  <a:pt x="35" y="37"/>
                </a:lnTo>
                <a:lnTo>
                  <a:pt x="36" y="37"/>
                </a:lnTo>
                <a:lnTo>
                  <a:pt x="37" y="38"/>
                </a:lnTo>
                <a:lnTo>
                  <a:pt x="38" y="38"/>
                </a:lnTo>
                <a:lnTo>
                  <a:pt x="39" y="40"/>
                </a:lnTo>
                <a:lnTo>
                  <a:pt x="40" y="40"/>
                </a:lnTo>
                <a:lnTo>
                  <a:pt x="42" y="43"/>
                </a:lnTo>
                <a:lnTo>
                  <a:pt x="43" y="43"/>
                </a:lnTo>
                <a:lnTo>
                  <a:pt x="44" y="45"/>
                </a:lnTo>
                <a:lnTo>
                  <a:pt x="45" y="45"/>
                </a:lnTo>
                <a:lnTo>
                  <a:pt x="48" y="46"/>
                </a:lnTo>
                <a:lnTo>
                  <a:pt x="49" y="46"/>
                </a:lnTo>
                <a:lnTo>
                  <a:pt x="50" y="48"/>
                </a:lnTo>
                <a:lnTo>
                  <a:pt x="51" y="48"/>
                </a:lnTo>
                <a:lnTo>
                  <a:pt x="53" y="49"/>
                </a:lnTo>
                <a:lnTo>
                  <a:pt x="54" y="49"/>
                </a:lnTo>
                <a:lnTo>
                  <a:pt x="56" y="51"/>
                </a:lnTo>
                <a:lnTo>
                  <a:pt x="57" y="51"/>
                </a:lnTo>
                <a:lnTo>
                  <a:pt x="59" y="52"/>
                </a:lnTo>
                <a:lnTo>
                  <a:pt x="60" y="52"/>
                </a:lnTo>
                <a:lnTo>
                  <a:pt x="63" y="54"/>
                </a:lnTo>
                <a:lnTo>
                  <a:pt x="64" y="54"/>
                </a:lnTo>
                <a:lnTo>
                  <a:pt x="66" y="55"/>
                </a:lnTo>
                <a:lnTo>
                  <a:pt x="67" y="55"/>
                </a:lnTo>
                <a:lnTo>
                  <a:pt x="69" y="57"/>
                </a:lnTo>
                <a:lnTo>
                  <a:pt x="70" y="57"/>
                </a:lnTo>
                <a:lnTo>
                  <a:pt x="72" y="58"/>
                </a:lnTo>
                <a:lnTo>
                  <a:pt x="73" y="58"/>
                </a:lnTo>
                <a:lnTo>
                  <a:pt x="74" y="58"/>
                </a:lnTo>
                <a:lnTo>
                  <a:pt x="76" y="59"/>
                </a:lnTo>
                <a:lnTo>
                  <a:pt x="78" y="59"/>
                </a:lnTo>
                <a:lnTo>
                  <a:pt x="79" y="59"/>
                </a:lnTo>
                <a:lnTo>
                  <a:pt x="81" y="60"/>
                </a:lnTo>
                <a:lnTo>
                  <a:pt x="82" y="60"/>
                </a:lnTo>
                <a:lnTo>
                  <a:pt x="83" y="60"/>
                </a:lnTo>
                <a:lnTo>
                  <a:pt x="85" y="62"/>
                </a:lnTo>
                <a:lnTo>
                  <a:pt x="87" y="62"/>
                </a:lnTo>
                <a:lnTo>
                  <a:pt x="89" y="63"/>
                </a:lnTo>
                <a:lnTo>
                  <a:pt x="90" y="63"/>
                </a:lnTo>
                <a:lnTo>
                  <a:pt x="92" y="63"/>
                </a:lnTo>
                <a:lnTo>
                  <a:pt x="95" y="64"/>
                </a:lnTo>
                <a:lnTo>
                  <a:pt x="96" y="64"/>
                </a:lnTo>
                <a:lnTo>
                  <a:pt x="97" y="64"/>
                </a:lnTo>
                <a:lnTo>
                  <a:pt x="100" y="66"/>
                </a:lnTo>
                <a:lnTo>
                  <a:pt x="101" y="66"/>
                </a:lnTo>
                <a:lnTo>
                  <a:pt x="102" y="66"/>
                </a:lnTo>
                <a:lnTo>
                  <a:pt x="105" y="67"/>
                </a:lnTo>
                <a:lnTo>
                  <a:pt x="107" y="67"/>
                </a:lnTo>
                <a:lnTo>
                  <a:pt x="108" y="67"/>
                </a:lnTo>
                <a:lnTo>
                  <a:pt x="109" y="67"/>
                </a:lnTo>
                <a:lnTo>
                  <a:pt x="110" y="67"/>
                </a:lnTo>
                <a:lnTo>
                  <a:pt x="109" y="58"/>
                </a:lnTo>
                <a:close/>
              </a:path>
            </a:pathLst>
          </a:custGeom>
          <a:solidFill>
            <a:srgbClr val="1f1a17"/>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38" name="Freeform 37"/>
          <p:cNvSpPr/>
          <p:nvPr/>
        </p:nvSpPr>
        <p:spPr>
          <a:xfrm>
            <a:off x="4170240" y="4149720"/>
            <a:ext cx="77760" cy="19080"/>
          </a:xfrm>
          <a:custGeom>
            <a:avLst/>
            <a:gdLst>
              <a:gd name="textAreaLeft" fmla="*/ 0 w 77760"/>
              <a:gd name="textAreaRight" fmla="*/ 78120 w 77760"/>
              <a:gd name="textAreaTop" fmla="*/ 0 h 19080"/>
              <a:gd name="textAreaBottom" fmla="*/ 19440 h 19080"/>
            </a:gdLst>
            <a:ahLst/>
            <a:rect l="textAreaLeft" t="textAreaTop" r="textAreaRight" b="textAreaBottom"/>
            <a:pathLst>
              <a:path w="96" h="25">
                <a:moveTo>
                  <a:pt x="96" y="1"/>
                </a:moveTo>
                <a:lnTo>
                  <a:pt x="95" y="1"/>
                </a:lnTo>
                <a:lnTo>
                  <a:pt x="94" y="1"/>
                </a:lnTo>
                <a:lnTo>
                  <a:pt x="93" y="1"/>
                </a:lnTo>
                <a:lnTo>
                  <a:pt x="93" y="0"/>
                </a:lnTo>
                <a:lnTo>
                  <a:pt x="91" y="1"/>
                </a:lnTo>
                <a:lnTo>
                  <a:pt x="78" y="3"/>
                </a:lnTo>
                <a:lnTo>
                  <a:pt x="34" y="10"/>
                </a:lnTo>
                <a:lnTo>
                  <a:pt x="1" y="16"/>
                </a:lnTo>
                <a:lnTo>
                  <a:pt x="0" y="16"/>
                </a:lnTo>
                <a:lnTo>
                  <a:pt x="0" y="17"/>
                </a:lnTo>
                <a:lnTo>
                  <a:pt x="0" y="18"/>
                </a:lnTo>
                <a:lnTo>
                  <a:pt x="0" y="22"/>
                </a:lnTo>
                <a:lnTo>
                  <a:pt x="0" y="25"/>
                </a:lnTo>
                <a:lnTo>
                  <a:pt x="1" y="25"/>
                </a:lnTo>
                <a:lnTo>
                  <a:pt x="2" y="25"/>
                </a:lnTo>
                <a:lnTo>
                  <a:pt x="15" y="23"/>
                </a:lnTo>
                <a:lnTo>
                  <a:pt x="59" y="16"/>
                </a:lnTo>
                <a:lnTo>
                  <a:pt x="92" y="10"/>
                </a:lnTo>
                <a:lnTo>
                  <a:pt x="94" y="9"/>
                </a:lnTo>
                <a:lnTo>
                  <a:pt x="93" y="9"/>
                </a:lnTo>
                <a:lnTo>
                  <a:pt x="92" y="9"/>
                </a:lnTo>
                <a:lnTo>
                  <a:pt x="91" y="9"/>
                </a:lnTo>
                <a:lnTo>
                  <a:pt x="91" y="8"/>
                </a:lnTo>
                <a:lnTo>
                  <a:pt x="96" y="1"/>
                </a:lnTo>
                <a:close/>
              </a:path>
            </a:pathLst>
          </a:custGeom>
          <a:solidFill>
            <a:srgbClr val="1f1a17"/>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39" name="Freeform 38"/>
          <p:cNvSpPr/>
          <p:nvPr/>
        </p:nvSpPr>
        <p:spPr>
          <a:xfrm>
            <a:off x="4243320" y="4149720"/>
            <a:ext cx="77760" cy="49320"/>
          </a:xfrm>
          <a:custGeom>
            <a:avLst/>
            <a:gdLst>
              <a:gd name="textAreaLeft" fmla="*/ 0 w 77760"/>
              <a:gd name="textAreaRight" fmla="*/ 78120 w 77760"/>
              <a:gd name="textAreaTop" fmla="*/ 0 h 49320"/>
              <a:gd name="textAreaBottom" fmla="*/ 49680 h 49320"/>
            </a:gdLst>
            <a:ahLst/>
            <a:rect l="textAreaLeft" t="textAreaTop" r="textAreaRight" b="textAreaBottom"/>
            <a:pathLst>
              <a:path w="97" h="62">
                <a:moveTo>
                  <a:pt x="90" y="52"/>
                </a:moveTo>
                <a:lnTo>
                  <a:pt x="93" y="52"/>
                </a:lnTo>
                <a:lnTo>
                  <a:pt x="95" y="52"/>
                </a:lnTo>
                <a:lnTo>
                  <a:pt x="96" y="52"/>
                </a:lnTo>
                <a:lnTo>
                  <a:pt x="94" y="51"/>
                </a:lnTo>
                <a:lnTo>
                  <a:pt x="81" y="44"/>
                </a:lnTo>
                <a:lnTo>
                  <a:pt x="38" y="20"/>
                </a:lnTo>
                <a:lnTo>
                  <a:pt x="6" y="2"/>
                </a:lnTo>
                <a:lnTo>
                  <a:pt x="5" y="0"/>
                </a:lnTo>
                <a:lnTo>
                  <a:pt x="4" y="1"/>
                </a:lnTo>
                <a:lnTo>
                  <a:pt x="1" y="5"/>
                </a:lnTo>
                <a:lnTo>
                  <a:pt x="0" y="7"/>
                </a:lnTo>
                <a:lnTo>
                  <a:pt x="14" y="16"/>
                </a:lnTo>
                <a:lnTo>
                  <a:pt x="57" y="40"/>
                </a:lnTo>
                <a:lnTo>
                  <a:pt x="89" y="59"/>
                </a:lnTo>
                <a:lnTo>
                  <a:pt x="91" y="60"/>
                </a:lnTo>
                <a:lnTo>
                  <a:pt x="94" y="60"/>
                </a:lnTo>
                <a:lnTo>
                  <a:pt x="96" y="60"/>
                </a:lnTo>
                <a:lnTo>
                  <a:pt x="97" y="60"/>
                </a:lnTo>
                <a:lnTo>
                  <a:pt x="96" y="60"/>
                </a:lnTo>
                <a:lnTo>
                  <a:pt x="93" y="60"/>
                </a:lnTo>
                <a:lnTo>
                  <a:pt x="91" y="60"/>
                </a:lnTo>
                <a:lnTo>
                  <a:pt x="93" y="62"/>
                </a:lnTo>
                <a:lnTo>
                  <a:pt x="94" y="62"/>
                </a:lnTo>
                <a:lnTo>
                  <a:pt x="95" y="61"/>
                </a:lnTo>
                <a:lnTo>
                  <a:pt x="97" y="60"/>
                </a:lnTo>
                <a:lnTo>
                  <a:pt x="90" y="52"/>
                </a:lnTo>
                <a:close/>
              </a:path>
            </a:pathLst>
          </a:custGeom>
          <a:solidFill>
            <a:srgbClr val="1f1a17"/>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40" name="Freeform 39"/>
          <p:cNvSpPr/>
          <p:nvPr/>
        </p:nvSpPr>
        <p:spPr>
          <a:xfrm>
            <a:off x="4314960" y="4154400"/>
            <a:ext cx="48960" cy="42840"/>
          </a:xfrm>
          <a:custGeom>
            <a:avLst/>
            <a:gdLst>
              <a:gd name="textAreaLeft" fmla="*/ 0 w 48960"/>
              <a:gd name="textAreaRight" fmla="*/ 49320 w 48960"/>
              <a:gd name="textAreaTop" fmla="*/ 0 h 42840"/>
              <a:gd name="textAreaBottom" fmla="*/ 42840 h 42840"/>
            </a:gdLst>
            <a:ahLst/>
            <a:rect l="textAreaLeft" t="textAreaTop" r="textAreaRight" b="textAreaBottom"/>
            <a:pathLst>
              <a:path w="62" h="55">
                <a:moveTo>
                  <a:pt x="58" y="0"/>
                </a:moveTo>
                <a:lnTo>
                  <a:pt x="56" y="1"/>
                </a:lnTo>
                <a:lnTo>
                  <a:pt x="55" y="1"/>
                </a:lnTo>
                <a:lnTo>
                  <a:pt x="52" y="2"/>
                </a:lnTo>
                <a:lnTo>
                  <a:pt x="46" y="9"/>
                </a:lnTo>
                <a:lnTo>
                  <a:pt x="20" y="30"/>
                </a:lnTo>
                <a:lnTo>
                  <a:pt x="1" y="47"/>
                </a:lnTo>
                <a:lnTo>
                  <a:pt x="0" y="47"/>
                </a:lnTo>
                <a:lnTo>
                  <a:pt x="1" y="50"/>
                </a:lnTo>
                <a:lnTo>
                  <a:pt x="4" y="53"/>
                </a:lnTo>
                <a:lnTo>
                  <a:pt x="6" y="55"/>
                </a:lnTo>
                <a:lnTo>
                  <a:pt x="7" y="55"/>
                </a:lnTo>
                <a:lnTo>
                  <a:pt x="15" y="47"/>
                </a:lnTo>
                <a:lnTo>
                  <a:pt x="41" y="26"/>
                </a:lnTo>
                <a:lnTo>
                  <a:pt x="60" y="9"/>
                </a:lnTo>
                <a:lnTo>
                  <a:pt x="62" y="8"/>
                </a:lnTo>
                <a:lnTo>
                  <a:pt x="60" y="9"/>
                </a:lnTo>
                <a:lnTo>
                  <a:pt x="59" y="9"/>
                </a:lnTo>
                <a:lnTo>
                  <a:pt x="58"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1" name="Freeform 40"/>
          <p:cNvSpPr/>
          <p:nvPr/>
        </p:nvSpPr>
        <p:spPr>
          <a:xfrm>
            <a:off x="4361040" y="4146480"/>
            <a:ext cx="74520" cy="14400"/>
          </a:xfrm>
          <a:custGeom>
            <a:avLst/>
            <a:gdLst>
              <a:gd name="textAreaLeft" fmla="*/ 0 w 74520"/>
              <a:gd name="textAreaRight" fmla="*/ 74880 w 74520"/>
              <a:gd name="textAreaTop" fmla="*/ 0 h 14400"/>
              <a:gd name="textAreaBottom" fmla="*/ 14760 h 14400"/>
            </a:gdLst>
            <a:ahLst/>
            <a:rect l="textAreaLeft" t="textAreaTop" r="textAreaRight" b="textAreaBottom"/>
            <a:pathLst>
              <a:path w="94" h="20">
                <a:moveTo>
                  <a:pt x="91" y="0"/>
                </a:moveTo>
                <a:lnTo>
                  <a:pt x="92" y="0"/>
                </a:lnTo>
                <a:lnTo>
                  <a:pt x="90" y="1"/>
                </a:lnTo>
                <a:lnTo>
                  <a:pt x="77" y="2"/>
                </a:lnTo>
                <a:lnTo>
                  <a:pt x="34" y="8"/>
                </a:lnTo>
                <a:lnTo>
                  <a:pt x="1" y="11"/>
                </a:lnTo>
                <a:lnTo>
                  <a:pt x="0" y="11"/>
                </a:lnTo>
                <a:lnTo>
                  <a:pt x="0" y="12"/>
                </a:lnTo>
                <a:lnTo>
                  <a:pt x="0" y="13"/>
                </a:lnTo>
                <a:lnTo>
                  <a:pt x="0" y="17"/>
                </a:lnTo>
                <a:lnTo>
                  <a:pt x="0" y="20"/>
                </a:lnTo>
                <a:lnTo>
                  <a:pt x="1" y="20"/>
                </a:lnTo>
                <a:lnTo>
                  <a:pt x="2" y="20"/>
                </a:lnTo>
                <a:lnTo>
                  <a:pt x="15" y="19"/>
                </a:lnTo>
                <a:lnTo>
                  <a:pt x="58" y="14"/>
                </a:lnTo>
                <a:lnTo>
                  <a:pt x="91" y="11"/>
                </a:lnTo>
                <a:lnTo>
                  <a:pt x="93" y="10"/>
                </a:lnTo>
                <a:lnTo>
                  <a:pt x="94" y="10"/>
                </a:lnTo>
                <a:lnTo>
                  <a:pt x="91" y="0"/>
                </a:lnTo>
                <a:close/>
              </a:path>
            </a:pathLst>
          </a:custGeom>
          <a:solidFill>
            <a:srgbClr val="1f1a17"/>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42" name="Freeform 41"/>
          <p:cNvSpPr/>
          <p:nvPr/>
        </p:nvSpPr>
        <p:spPr>
          <a:xfrm>
            <a:off x="4432320" y="4137120"/>
            <a:ext cx="77760" cy="15840"/>
          </a:xfrm>
          <a:custGeom>
            <a:avLst/>
            <a:gdLst>
              <a:gd name="textAreaLeft" fmla="*/ 0 w 77760"/>
              <a:gd name="textAreaRight" fmla="*/ 78120 w 77760"/>
              <a:gd name="textAreaTop" fmla="*/ 0 h 15840"/>
              <a:gd name="textAreaBottom" fmla="*/ 16200 h 15840"/>
            </a:gdLst>
            <a:ahLst/>
            <a:rect l="textAreaLeft" t="textAreaTop" r="textAreaRight" b="textAreaBottom"/>
            <a:pathLst>
              <a:path w="96" h="21">
                <a:moveTo>
                  <a:pt x="96" y="8"/>
                </a:moveTo>
                <a:lnTo>
                  <a:pt x="96" y="9"/>
                </a:lnTo>
                <a:lnTo>
                  <a:pt x="94" y="8"/>
                </a:lnTo>
                <a:lnTo>
                  <a:pt x="94" y="7"/>
                </a:lnTo>
                <a:lnTo>
                  <a:pt x="92" y="6"/>
                </a:lnTo>
                <a:lnTo>
                  <a:pt x="92" y="5"/>
                </a:lnTo>
                <a:lnTo>
                  <a:pt x="90" y="4"/>
                </a:lnTo>
                <a:lnTo>
                  <a:pt x="88" y="3"/>
                </a:lnTo>
                <a:lnTo>
                  <a:pt x="86" y="2"/>
                </a:lnTo>
                <a:lnTo>
                  <a:pt x="84" y="1"/>
                </a:lnTo>
                <a:lnTo>
                  <a:pt x="83" y="1"/>
                </a:lnTo>
                <a:lnTo>
                  <a:pt x="81" y="1"/>
                </a:lnTo>
                <a:lnTo>
                  <a:pt x="80" y="1"/>
                </a:lnTo>
                <a:lnTo>
                  <a:pt x="78" y="0"/>
                </a:lnTo>
                <a:lnTo>
                  <a:pt x="77" y="0"/>
                </a:lnTo>
                <a:lnTo>
                  <a:pt x="76" y="0"/>
                </a:lnTo>
                <a:lnTo>
                  <a:pt x="75" y="0"/>
                </a:lnTo>
                <a:lnTo>
                  <a:pt x="74" y="0"/>
                </a:lnTo>
                <a:lnTo>
                  <a:pt x="73" y="0"/>
                </a:lnTo>
                <a:lnTo>
                  <a:pt x="72" y="0"/>
                </a:lnTo>
                <a:lnTo>
                  <a:pt x="71" y="0"/>
                </a:lnTo>
                <a:lnTo>
                  <a:pt x="70" y="0"/>
                </a:lnTo>
                <a:lnTo>
                  <a:pt x="69" y="0"/>
                </a:lnTo>
                <a:lnTo>
                  <a:pt x="68" y="0"/>
                </a:lnTo>
                <a:lnTo>
                  <a:pt x="66" y="0"/>
                </a:lnTo>
                <a:lnTo>
                  <a:pt x="65" y="0"/>
                </a:lnTo>
                <a:lnTo>
                  <a:pt x="64" y="0"/>
                </a:lnTo>
                <a:lnTo>
                  <a:pt x="63" y="0"/>
                </a:lnTo>
                <a:lnTo>
                  <a:pt x="62" y="0"/>
                </a:lnTo>
                <a:lnTo>
                  <a:pt x="61" y="0"/>
                </a:lnTo>
                <a:lnTo>
                  <a:pt x="60" y="0"/>
                </a:lnTo>
                <a:lnTo>
                  <a:pt x="59" y="0"/>
                </a:lnTo>
                <a:lnTo>
                  <a:pt x="58" y="0"/>
                </a:lnTo>
                <a:lnTo>
                  <a:pt x="57" y="0"/>
                </a:lnTo>
                <a:lnTo>
                  <a:pt x="56" y="0"/>
                </a:lnTo>
                <a:lnTo>
                  <a:pt x="55" y="0"/>
                </a:lnTo>
                <a:lnTo>
                  <a:pt x="54" y="0"/>
                </a:lnTo>
                <a:lnTo>
                  <a:pt x="51" y="1"/>
                </a:lnTo>
                <a:lnTo>
                  <a:pt x="50" y="1"/>
                </a:lnTo>
                <a:lnTo>
                  <a:pt x="49" y="1"/>
                </a:lnTo>
                <a:lnTo>
                  <a:pt x="48" y="1"/>
                </a:lnTo>
                <a:lnTo>
                  <a:pt x="47" y="1"/>
                </a:lnTo>
                <a:lnTo>
                  <a:pt x="45" y="2"/>
                </a:lnTo>
                <a:lnTo>
                  <a:pt x="44" y="2"/>
                </a:lnTo>
                <a:lnTo>
                  <a:pt x="43" y="2"/>
                </a:lnTo>
                <a:lnTo>
                  <a:pt x="42" y="2"/>
                </a:lnTo>
                <a:lnTo>
                  <a:pt x="41" y="2"/>
                </a:lnTo>
                <a:lnTo>
                  <a:pt x="39" y="3"/>
                </a:lnTo>
                <a:lnTo>
                  <a:pt x="37" y="3"/>
                </a:lnTo>
                <a:lnTo>
                  <a:pt x="34" y="4"/>
                </a:lnTo>
                <a:lnTo>
                  <a:pt x="33" y="4"/>
                </a:lnTo>
                <a:lnTo>
                  <a:pt x="32" y="4"/>
                </a:lnTo>
                <a:lnTo>
                  <a:pt x="31" y="4"/>
                </a:lnTo>
                <a:lnTo>
                  <a:pt x="30" y="4"/>
                </a:lnTo>
                <a:lnTo>
                  <a:pt x="28" y="5"/>
                </a:lnTo>
                <a:lnTo>
                  <a:pt x="27" y="5"/>
                </a:lnTo>
                <a:lnTo>
                  <a:pt x="25" y="6"/>
                </a:lnTo>
                <a:lnTo>
                  <a:pt x="24" y="6"/>
                </a:lnTo>
                <a:lnTo>
                  <a:pt x="21" y="7"/>
                </a:lnTo>
                <a:lnTo>
                  <a:pt x="20" y="7"/>
                </a:lnTo>
                <a:lnTo>
                  <a:pt x="19" y="7"/>
                </a:lnTo>
                <a:lnTo>
                  <a:pt x="18" y="7"/>
                </a:lnTo>
                <a:lnTo>
                  <a:pt x="17" y="7"/>
                </a:lnTo>
                <a:lnTo>
                  <a:pt x="14" y="8"/>
                </a:lnTo>
                <a:lnTo>
                  <a:pt x="13" y="8"/>
                </a:lnTo>
                <a:lnTo>
                  <a:pt x="11" y="9"/>
                </a:lnTo>
                <a:lnTo>
                  <a:pt x="10" y="9"/>
                </a:lnTo>
                <a:lnTo>
                  <a:pt x="7" y="10"/>
                </a:lnTo>
                <a:lnTo>
                  <a:pt x="6" y="10"/>
                </a:lnTo>
                <a:lnTo>
                  <a:pt x="5" y="10"/>
                </a:lnTo>
                <a:lnTo>
                  <a:pt x="4" y="10"/>
                </a:lnTo>
                <a:lnTo>
                  <a:pt x="3" y="10"/>
                </a:lnTo>
                <a:lnTo>
                  <a:pt x="1" y="11"/>
                </a:lnTo>
                <a:lnTo>
                  <a:pt x="0" y="11"/>
                </a:lnTo>
                <a:lnTo>
                  <a:pt x="0" y="12"/>
                </a:lnTo>
                <a:lnTo>
                  <a:pt x="0" y="13"/>
                </a:lnTo>
                <a:lnTo>
                  <a:pt x="1" y="18"/>
                </a:lnTo>
                <a:lnTo>
                  <a:pt x="2" y="21"/>
                </a:lnTo>
                <a:lnTo>
                  <a:pt x="3" y="21"/>
                </a:lnTo>
                <a:lnTo>
                  <a:pt x="4" y="21"/>
                </a:lnTo>
                <a:lnTo>
                  <a:pt x="5" y="21"/>
                </a:lnTo>
                <a:lnTo>
                  <a:pt x="6" y="20"/>
                </a:lnTo>
                <a:lnTo>
                  <a:pt x="7" y="20"/>
                </a:lnTo>
                <a:lnTo>
                  <a:pt x="9" y="20"/>
                </a:lnTo>
                <a:lnTo>
                  <a:pt x="10" y="19"/>
                </a:lnTo>
                <a:lnTo>
                  <a:pt x="11" y="19"/>
                </a:lnTo>
                <a:lnTo>
                  <a:pt x="12" y="19"/>
                </a:lnTo>
                <a:lnTo>
                  <a:pt x="13" y="19"/>
                </a:lnTo>
                <a:lnTo>
                  <a:pt x="14" y="19"/>
                </a:lnTo>
                <a:lnTo>
                  <a:pt x="15" y="19"/>
                </a:lnTo>
                <a:lnTo>
                  <a:pt x="16" y="18"/>
                </a:lnTo>
                <a:lnTo>
                  <a:pt x="17" y="18"/>
                </a:lnTo>
                <a:lnTo>
                  <a:pt x="18" y="18"/>
                </a:lnTo>
                <a:lnTo>
                  <a:pt x="19" y="17"/>
                </a:lnTo>
                <a:lnTo>
                  <a:pt x="20" y="17"/>
                </a:lnTo>
                <a:lnTo>
                  <a:pt x="21" y="17"/>
                </a:lnTo>
                <a:lnTo>
                  <a:pt x="22" y="16"/>
                </a:lnTo>
                <a:lnTo>
                  <a:pt x="24" y="16"/>
                </a:lnTo>
                <a:lnTo>
                  <a:pt x="25" y="16"/>
                </a:lnTo>
                <a:lnTo>
                  <a:pt x="26" y="16"/>
                </a:lnTo>
                <a:lnTo>
                  <a:pt x="27" y="16"/>
                </a:lnTo>
                <a:lnTo>
                  <a:pt x="28" y="16"/>
                </a:lnTo>
                <a:lnTo>
                  <a:pt x="29" y="14"/>
                </a:lnTo>
                <a:lnTo>
                  <a:pt x="30" y="14"/>
                </a:lnTo>
                <a:lnTo>
                  <a:pt x="31" y="14"/>
                </a:lnTo>
                <a:lnTo>
                  <a:pt x="32" y="13"/>
                </a:lnTo>
                <a:lnTo>
                  <a:pt x="33" y="13"/>
                </a:lnTo>
                <a:lnTo>
                  <a:pt x="34" y="13"/>
                </a:lnTo>
                <a:lnTo>
                  <a:pt x="35" y="12"/>
                </a:lnTo>
                <a:lnTo>
                  <a:pt x="36" y="12"/>
                </a:lnTo>
                <a:lnTo>
                  <a:pt x="37" y="12"/>
                </a:lnTo>
                <a:lnTo>
                  <a:pt x="39" y="12"/>
                </a:lnTo>
                <a:lnTo>
                  <a:pt x="40" y="12"/>
                </a:lnTo>
                <a:lnTo>
                  <a:pt x="41" y="12"/>
                </a:lnTo>
                <a:lnTo>
                  <a:pt x="42" y="11"/>
                </a:lnTo>
                <a:lnTo>
                  <a:pt x="43" y="11"/>
                </a:lnTo>
                <a:lnTo>
                  <a:pt x="44" y="11"/>
                </a:lnTo>
                <a:lnTo>
                  <a:pt x="45" y="11"/>
                </a:lnTo>
                <a:lnTo>
                  <a:pt x="46" y="11"/>
                </a:lnTo>
                <a:lnTo>
                  <a:pt x="47" y="11"/>
                </a:lnTo>
                <a:lnTo>
                  <a:pt x="48" y="10"/>
                </a:lnTo>
                <a:lnTo>
                  <a:pt x="49" y="10"/>
                </a:lnTo>
                <a:lnTo>
                  <a:pt x="50" y="10"/>
                </a:lnTo>
                <a:lnTo>
                  <a:pt x="51" y="10"/>
                </a:lnTo>
                <a:lnTo>
                  <a:pt x="53" y="10"/>
                </a:lnTo>
                <a:lnTo>
                  <a:pt x="54" y="10"/>
                </a:lnTo>
                <a:lnTo>
                  <a:pt x="55" y="9"/>
                </a:lnTo>
                <a:lnTo>
                  <a:pt x="56" y="9"/>
                </a:lnTo>
                <a:lnTo>
                  <a:pt x="57" y="9"/>
                </a:lnTo>
                <a:lnTo>
                  <a:pt x="58" y="9"/>
                </a:lnTo>
                <a:lnTo>
                  <a:pt x="59" y="9"/>
                </a:lnTo>
                <a:lnTo>
                  <a:pt x="60" y="9"/>
                </a:lnTo>
                <a:lnTo>
                  <a:pt x="61" y="9"/>
                </a:lnTo>
                <a:lnTo>
                  <a:pt x="62" y="9"/>
                </a:lnTo>
                <a:lnTo>
                  <a:pt x="63" y="9"/>
                </a:lnTo>
                <a:lnTo>
                  <a:pt x="64" y="9"/>
                </a:lnTo>
                <a:lnTo>
                  <a:pt x="65" y="9"/>
                </a:lnTo>
                <a:lnTo>
                  <a:pt x="66" y="9"/>
                </a:lnTo>
                <a:lnTo>
                  <a:pt x="68" y="9"/>
                </a:lnTo>
                <a:lnTo>
                  <a:pt x="69" y="9"/>
                </a:lnTo>
                <a:lnTo>
                  <a:pt x="70" y="9"/>
                </a:lnTo>
                <a:lnTo>
                  <a:pt x="71" y="9"/>
                </a:lnTo>
                <a:lnTo>
                  <a:pt x="72" y="9"/>
                </a:lnTo>
                <a:lnTo>
                  <a:pt x="73" y="9"/>
                </a:lnTo>
                <a:lnTo>
                  <a:pt x="74" y="9"/>
                </a:lnTo>
                <a:lnTo>
                  <a:pt x="75" y="9"/>
                </a:lnTo>
                <a:lnTo>
                  <a:pt x="76" y="9"/>
                </a:lnTo>
                <a:lnTo>
                  <a:pt x="77" y="9"/>
                </a:lnTo>
                <a:lnTo>
                  <a:pt x="78" y="9"/>
                </a:lnTo>
                <a:lnTo>
                  <a:pt x="79" y="10"/>
                </a:lnTo>
                <a:lnTo>
                  <a:pt x="80" y="10"/>
                </a:lnTo>
                <a:lnTo>
                  <a:pt x="81" y="10"/>
                </a:lnTo>
                <a:lnTo>
                  <a:pt x="83" y="10"/>
                </a:lnTo>
                <a:lnTo>
                  <a:pt x="84" y="11"/>
                </a:lnTo>
                <a:lnTo>
                  <a:pt x="85" y="11"/>
                </a:lnTo>
                <a:lnTo>
                  <a:pt x="86" y="12"/>
                </a:lnTo>
                <a:lnTo>
                  <a:pt x="87" y="13"/>
                </a:lnTo>
                <a:lnTo>
                  <a:pt x="88" y="13"/>
                </a:lnTo>
                <a:lnTo>
                  <a:pt x="89" y="14"/>
                </a:lnTo>
                <a:lnTo>
                  <a:pt x="89" y="16"/>
                </a:lnTo>
                <a:lnTo>
                  <a:pt x="96" y="8"/>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43" name="Freeform 42"/>
          <p:cNvSpPr/>
          <p:nvPr/>
        </p:nvSpPr>
        <p:spPr>
          <a:xfrm>
            <a:off x="4487760" y="4143240"/>
            <a:ext cx="25560" cy="38160"/>
          </a:xfrm>
          <a:custGeom>
            <a:avLst/>
            <a:gdLst>
              <a:gd name="textAreaLeft" fmla="*/ 0 w 25560"/>
              <a:gd name="textAreaRight" fmla="*/ 25920 w 25560"/>
              <a:gd name="textAreaTop" fmla="*/ 0 h 38160"/>
              <a:gd name="textAreaBottom" fmla="*/ 38520 h 38160"/>
            </a:gdLst>
            <a:ahLst/>
            <a:rect l="textAreaLeft" t="textAreaTop" r="textAreaRight" b="textAreaBottom"/>
            <a:pathLst>
              <a:path w="31" h="47">
                <a:moveTo>
                  <a:pt x="6" y="38"/>
                </a:moveTo>
                <a:lnTo>
                  <a:pt x="6" y="38"/>
                </a:lnTo>
                <a:lnTo>
                  <a:pt x="7" y="39"/>
                </a:lnTo>
                <a:lnTo>
                  <a:pt x="8" y="39"/>
                </a:lnTo>
                <a:lnTo>
                  <a:pt x="9" y="41"/>
                </a:lnTo>
                <a:lnTo>
                  <a:pt x="9" y="42"/>
                </a:lnTo>
                <a:lnTo>
                  <a:pt x="9" y="43"/>
                </a:lnTo>
                <a:lnTo>
                  <a:pt x="9" y="42"/>
                </a:lnTo>
                <a:lnTo>
                  <a:pt x="10" y="41"/>
                </a:lnTo>
                <a:lnTo>
                  <a:pt x="11" y="41"/>
                </a:lnTo>
                <a:lnTo>
                  <a:pt x="13" y="40"/>
                </a:lnTo>
                <a:lnTo>
                  <a:pt x="14" y="38"/>
                </a:lnTo>
                <a:lnTo>
                  <a:pt x="15" y="37"/>
                </a:lnTo>
                <a:lnTo>
                  <a:pt x="16" y="36"/>
                </a:lnTo>
                <a:lnTo>
                  <a:pt x="17" y="35"/>
                </a:lnTo>
                <a:lnTo>
                  <a:pt x="18" y="33"/>
                </a:lnTo>
                <a:lnTo>
                  <a:pt x="20" y="32"/>
                </a:lnTo>
                <a:lnTo>
                  <a:pt x="21" y="30"/>
                </a:lnTo>
                <a:lnTo>
                  <a:pt x="22" y="29"/>
                </a:lnTo>
                <a:lnTo>
                  <a:pt x="23" y="28"/>
                </a:lnTo>
                <a:lnTo>
                  <a:pt x="24" y="27"/>
                </a:lnTo>
                <a:lnTo>
                  <a:pt x="25" y="25"/>
                </a:lnTo>
                <a:lnTo>
                  <a:pt x="26" y="23"/>
                </a:lnTo>
                <a:lnTo>
                  <a:pt x="28" y="22"/>
                </a:lnTo>
                <a:lnTo>
                  <a:pt x="29" y="20"/>
                </a:lnTo>
                <a:lnTo>
                  <a:pt x="30" y="18"/>
                </a:lnTo>
                <a:lnTo>
                  <a:pt x="30" y="17"/>
                </a:lnTo>
                <a:lnTo>
                  <a:pt x="30" y="16"/>
                </a:lnTo>
                <a:lnTo>
                  <a:pt x="31" y="14"/>
                </a:lnTo>
                <a:lnTo>
                  <a:pt x="31" y="13"/>
                </a:lnTo>
                <a:lnTo>
                  <a:pt x="31" y="12"/>
                </a:lnTo>
                <a:lnTo>
                  <a:pt x="31" y="11"/>
                </a:lnTo>
                <a:lnTo>
                  <a:pt x="31" y="10"/>
                </a:lnTo>
                <a:lnTo>
                  <a:pt x="30" y="8"/>
                </a:lnTo>
                <a:lnTo>
                  <a:pt x="30" y="6"/>
                </a:lnTo>
                <a:lnTo>
                  <a:pt x="29" y="5"/>
                </a:lnTo>
                <a:lnTo>
                  <a:pt x="29" y="4"/>
                </a:lnTo>
                <a:lnTo>
                  <a:pt x="28" y="3"/>
                </a:lnTo>
                <a:lnTo>
                  <a:pt x="28" y="2"/>
                </a:lnTo>
                <a:lnTo>
                  <a:pt x="26" y="1"/>
                </a:lnTo>
                <a:lnTo>
                  <a:pt x="26" y="0"/>
                </a:lnTo>
                <a:lnTo>
                  <a:pt x="25" y="1"/>
                </a:lnTo>
                <a:lnTo>
                  <a:pt x="24" y="2"/>
                </a:lnTo>
                <a:lnTo>
                  <a:pt x="21" y="5"/>
                </a:lnTo>
                <a:lnTo>
                  <a:pt x="19" y="8"/>
                </a:lnTo>
                <a:lnTo>
                  <a:pt x="20" y="8"/>
                </a:lnTo>
                <a:lnTo>
                  <a:pt x="20" y="9"/>
                </a:lnTo>
                <a:lnTo>
                  <a:pt x="21" y="10"/>
                </a:lnTo>
                <a:lnTo>
                  <a:pt x="21" y="11"/>
                </a:lnTo>
                <a:lnTo>
                  <a:pt x="21" y="12"/>
                </a:lnTo>
                <a:lnTo>
                  <a:pt x="21" y="13"/>
                </a:lnTo>
                <a:lnTo>
                  <a:pt x="20" y="14"/>
                </a:lnTo>
                <a:lnTo>
                  <a:pt x="20" y="15"/>
                </a:lnTo>
                <a:lnTo>
                  <a:pt x="20" y="16"/>
                </a:lnTo>
                <a:lnTo>
                  <a:pt x="19" y="17"/>
                </a:lnTo>
                <a:lnTo>
                  <a:pt x="18" y="18"/>
                </a:lnTo>
                <a:lnTo>
                  <a:pt x="18" y="19"/>
                </a:lnTo>
                <a:lnTo>
                  <a:pt x="17" y="20"/>
                </a:lnTo>
                <a:lnTo>
                  <a:pt x="16" y="21"/>
                </a:lnTo>
                <a:lnTo>
                  <a:pt x="16" y="22"/>
                </a:lnTo>
                <a:lnTo>
                  <a:pt x="15" y="23"/>
                </a:lnTo>
                <a:lnTo>
                  <a:pt x="14" y="24"/>
                </a:lnTo>
                <a:lnTo>
                  <a:pt x="13" y="25"/>
                </a:lnTo>
                <a:lnTo>
                  <a:pt x="13" y="26"/>
                </a:lnTo>
                <a:lnTo>
                  <a:pt x="11" y="27"/>
                </a:lnTo>
                <a:lnTo>
                  <a:pt x="10" y="28"/>
                </a:lnTo>
                <a:lnTo>
                  <a:pt x="10" y="29"/>
                </a:lnTo>
                <a:lnTo>
                  <a:pt x="9" y="30"/>
                </a:lnTo>
                <a:lnTo>
                  <a:pt x="8" y="30"/>
                </a:lnTo>
                <a:lnTo>
                  <a:pt x="7" y="31"/>
                </a:lnTo>
                <a:lnTo>
                  <a:pt x="6" y="32"/>
                </a:lnTo>
                <a:lnTo>
                  <a:pt x="5" y="33"/>
                </a:lnTo>
                <a:lnTo>
                  <a:pt x="4" y="34"/>
                </a:lnTo>
                <a:lnTo>
                  <a:pt x="4" y="35"/>
                </a:lnTo>
                <a:lnTo>
                  <a:pt x="3" y="36"/>
                </a:lnTo>
                <a:lnTo>
                  <a:pt x="2" y="37"/>
                </a:lnTo>
                <a:lnTo>
                  <a:pt x="1" y="38"/>
                </a:lnTo>
                <a:lnTo>
                  <a:pt x="1" y="39"/>
                </a:lnTo>
                <a:lnTo>
                  <a:pt x="0" y="40"/>
                </a:lnTo>
                <a:lnTo>
                  <a:pt x="0" y="41"/>
                </a:lnTo>
                <a:lnTo>
                  <a:pt x="0" y="42"/>
                </a:lnTo>
                <a:lnTo>
                  <a:pt x="0" y="43"/>
                </a:lnTo>
                <a:lnTo>
                  <a:pt x="0" y="44"/>
                </a:lnTo>
                <a:lnTo>
                  <a:pt x="0" y="45"/>
                </a:lnTo>
                <a:lnTo>
                  <a:pt x="1" y="45"/>
                </a:lnTo>
                <a:lnTo>
                  <a:pt x="3" y="47"/>
                </a:lnTo>
                <a:lnTo>
                  <a:pt x="4" y="47"/>
                </a:lnTo>
                <a:lnTo>
                  <a:pt x="5" y="47"/>
                </a:lnTo>
                <a:lnTo>
                  <a:pt x="6" y="47"/>
                </a:lnTo>
                <a:lnTo>
                  <a:pt x="5" y="47"/>
                </a:lnTo>
                <a:lnTo>
                  <a:pt x="6" y="38"/>
                </a:lnTo>
                <a:close/>
              </a:path>
            </a:pathLst>
          </a:custGeom>
          <a:solidFill>
            <a:srgbClr val="1f1a17"/>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44" name="Freeform 43"/>
          <p:cNvSpPr/>
          <p:nvPr/>
        </p:nvSpPr>
        <p:spPr>
          <a:xfrm>
            <a:off x="4492800" y="4173480"/>
            <a:ext cx="145800" cy="14400"/>
          </a:xfrm>
          <a:custGeom>
            <a:avLst/>
            <a:gdLst>
              <a:gd name="textAreaLeft" fmla="*/ 0 w 145800"/>
              <a:gd name="textAreaRight" fmla="*/ 145800 w 145800"/>
              <a:gd name="textAreaTop" fmla="*/ 0 h 14400"/>
              <a:gd name="textAreaBottom" fmla="*/ 14760 h 14400"/>
            </a:gdLst>
            <a:ahLst/>
            <a:rect l="textAreaLeft" t="textAreaTop" r="textAreaRight" b="textAreaBottom"/>
            <a:pathLst>
              <a:path w="183" h="17">
                <a:moveTo>
                  <a:pt x="173" y="13"/>
                </a:moveTo>
                <a:lnTo>
                  <a:pt x="176" y="10"/>
                </a:lnTo>
                <a:lnTo>
                  <a:pt x="177" y="9"/>
                </a:lnTo>
                <a:lnTo>
                  <a:pt x="178" y="8"/>
                </a:lnTo>
                <a:lnTo>
                  <a:pt x="174" y="8"/>
                </a:lnTo>
                <a:lnTo>
                  <a:pt x="150" y="7"/>
                </a:lnTo>
                <a:lnTo>
                  <a:pt x="68" y="4"/>
                </a:lnTo>
                <a:lnTo>
                  <a:pt x="4" y="1"/>
                </a:lnTo>
                <a:lnTo>
                  <a:pt x="1" y="0"/>
                </a:lnTo>
                <a:lnTo>
                  <a:pt x="0" y="2"/>
                </a:lnTo>
                <a:lnTo>
                  <a:pt x="0" y="6"/>
                </a:lnTo>
                <a:lnTo>
                  <a:pt x="0" y="9"/>
                </a:lnTo>
                <a:lnTo>
                  <a:pt x="3" y="10"/>
                </a:lnTo>
                <a:lnTo>
                  <a:pt x="27" y="11"/>
                </a:lnTo>
                <a:lnTo>
                  <a:pt x="109" y="14"/>
                </a:lnTo>
                <a:lnTo>
                  <a:pt x="173" y="17"/>
                </a:lnTo>
                <a:lnTo>
                  <a:pt x="177" y="17"/>
                </a:lnTo>
                <a:lnTo>
                  <a:pt x="180" y="14"/>
                </a:lnTo>
                <a:lnTo>
                  <a:pt x="181" y="13"/>
                </a:lnTo>
                <a:lnTo>
                  <a:pt x="182" y="12"/>
                </a:lnTo>
                <a:lnTo>
                  <a:pt x="181" y="13"/>
                </a:lnTo>
                <a:lnTo>
                  <a:pt x="178" y="16"/>
                </a:lnTo>
                <a:lnTo>
                  <a:pt x="177" y="17"/>
                </a:lnTo>
                <a:lnTo>
                  <a:pt x="180" y="17"/>
                </a:lnTo>
                <a:lnTo>
                  <a:pt x="182" y="17"/>
                </a:lnTo>
                <a:lnTo>
                  <a:pt x="183" y="17"/>
                </a:lnTo>
                <a:lnTo>
                  <a:pt x="182" y="14"/>
                </a:lnTo>
                <a:lnTo>
                  <a:pt x="182" y="13"/>
                </a:lnTo>
                <a:lnTo>
                  <a:pt x="182" y="12"/>
                </a:lnTo>
                <a:lnTo>
                  <a:pt x="173" y="13"/>
                </a:lnTo>
                <a:close/>
              </a:path>
            </a:pathLst>
          </a:custGeom>
          <a:solidFill>
            <a:srgbClr val="1f1a17"/>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45" name="Freeform 44"/>
          <p:cNvSpPr/>
          <p:nvPr/>
        </p:nvSpPr>
        <p:spPr>
          <a:xfrm>
            <a:off x="4622760" y="4114800"/>
            <a:ext cx="14400" cy="69840"/>
          </a:xfrm>
          <a:custGeom>
            <a:avLst/>
            <a:gdLst>
              <a:gd name="textAreaLeft" fmla="*/ 0 w 14400"/>
              <a:gd name="textAreaRight" fmla="*/ 14760 w 14400"/>
              <a:gd name="textAreaTop" fmla="*/ 0 h 69840"/>
              <a:gd name="textAreaBottom" fmla="*/ 70200 h 69840"/>
            </a:gdLst>
            <a:ahLst/>
            <a:rect l="textAreaLeft" t="textAreaTop" r="textAreaRight" b="textAreaBottom"/>
            <a:pathLst>
              <a:path w="19" h="86">
                <a:moveTo>
                  <a:pt x="1" y="0"/>
                </a:moveTo>
                <a:lnTo>
                  <a:pt x="0" y="2"/>
                </a:lnTo>
                <a:lnTo>
                  <a:pt x="0" y="3"/>
                </a:lnTo>
                <a:lnTo>
                  <a:pt x="0" y="5"/>
                </a:lnTo>
                <a:lnTo>
                  <a:pt x="1" y="16"/>
                </a:lnTo>
                <a:lnTo>
                  <a:pt x="5" y="56"/>
                </a:lnTo>
                <a:lnTo>
                  <a:pt x="9" y="85"/>
                </a:lnTo>
                <a:lnTo>
                  <a:pt x="10" y="86"/>
                </a:lnTo>
                <a:lnTo>
                  <a:pt x="11" y="86"/>
                </a:lnTo>
                <a:lnTo>
                  <a:pt x="15" y="86"/>
                </a:lnTo>
                <a:lnTo>
                  <a:pt x="18" y="86"/>
                </a:lnTo>
                <a:lnTo>
                  <a:pt x="19" y="85"/>
                </a:lnTo>
                <a:lnTo>
                  <a:pt x="17" y="73"/>
                </a:lnTo>
                <a:lnTo>
                  <a:pt x="13" y="33"/>
                </a:lnTo>
                <a:lnTo>
                  <a:pt x="10" y="4"/>
                </a:lnTo>
                <a:lnTo>
                  <a:pt x="10" y="2"/>
                </a:lnTo>
                <a:lnTo>
                  <a:pt x="9" y="4"/>
                </a:lnTo>
                <a:lnTo>
                  <a:pt x="9" y="5"/>
                </a:lnTo>
                <a:lnTo>
                  <a:pt x="1" y="0"/>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46" name="Freeform 45"/>
          <p:cNvSpPr/>
          <p:nvPr/>
        </p:nvSpPr>
        <p:spPr>
          <a:xfrm>
            <a:off x="4622760" y="3892680"/>
            <a:ext cx="150840" cy="226800"/>
          </a:xfrm>
          <a:custGeom>
            <a:avLst/>
            <a:gdLst>
              <a:gd name="textAreaLeft" fmla="*/ 0 w 150840"/>
              <a:gd name="textAreaRight" fmla="*/ 151200 w 150840"/>
              <a:gd name="textAreaTop" fmla="*/ 0 h 226800"/>
              <a:gd name="textAreaBottom" fmla="*/ 227160 h 226800"/>
            </a:gdLst>
            <a:ahLst/>
            <a:rect l="textAreaLeft" t="textAreaTop" r="textAreaRight" b="textAreaBottom"/>
            <a:pathLst>
              <a:path w="190" h="285">
                <a:moveTo>
                  <a:pt x="180" y="5"/>
                </a:moveTo>
                <a:lnTo>
                  <a:pt x="180" y="2"/>
                </a:lnTo>
                <a:lnTo>
                  <a:pt x="180" y="1"/>
                </a:lnTo>
                <a:lnTo>
                  <a:pt x="180" y="0"/>
                </a:lnTo>
                <a:lnTo>
                  <a:pt x="176" y="6"/>
                </a:lnTo>
                <a:lnTo>
                  <a:pt x="151" y="43"/>
                </a:lnTo>
                <a:lnTo>
                  <a:pt x="68" y="175"/>
                </a:lnTo>
                <a:lnTo>
                  <a:pt x="3" y="275"/>
                </a:lnTo>
                <a:lnTo>
                  <a:pt x="0" y="280"/>
                </a:lnTo>
                <a:lnTo>
                  <a:pt x="1" y="281"/>
                </a:lnTo>
                <a:lnTo>
                  <a:pt x="4" y="284"/>
                </a:lnTo>
                <a:lnTo>
                  <a:pt x="7" y="285"/>
                </a:lnTo>
                <a:lnTo>
                  <a:pt x="8" y="285"/>
                </a:lnTo>
                <a:lnTo>
                  <a:pt x="11" y="280"/>
                </a:lnTo>
                <a:lnTo>
                  <a:pt x="35" y="242"/>
                </a:lnTo>
                <a:lnTo>
                  <a:pt x="119" y="111"/>
                </a:lnTo>
                <a:lnTo>
                  <a:pt x="183" y="11"/>
                </a:lnTo>
                <a:lnTo>
                  <a:pt x="188" y="5"/>
                </a:lnTo>
                <a:lnTo>
                  <a:pt x="188" y="2"/>
                </a:lnTo>
                <a:lnTo>
                  <a:pt x="188" y="1"/>
                </a:lnTo>
                <a:lnTo>
                  <a:pt x="188" y="0"/>
                </a:lnTo>
                <a:lnTo>
                  <a:pt x="188" y="1"/>
                </a:lnTo>
                <a:lnTo>
                  <a:pt x="188" y="4"/>
                </a:lnTo>
                <a:lnTo>
                  <a:pt x="188" y="5"/>
                </a:lnTo>
                <a:lnTo>
                  <a:pt x="189" y="4"/>
                </a:lnTo>
                <a:lnTo>
                  <a:pt x="190" y="3"/>
                </a:lnTo>
                <a:lnTo>
                  <a:pt x="188" y="1"/>
                </a:lnTo>
                <a:lnTo>
                  <a:pt x="188" y="0"/>
                </a:lnTo>
                <a:lnTo>
                  <a:pt x="180" y="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46"/>
          <p:cNvSpPr/>
          <p:nvPr/>
        </p:nvSpPr>
        <p:spPr>
          <a:xfrm>
            <a:off x="4689360" y="3743280"/>
            <a:ext cx="82800" cy="154080"/>
          </a:xfrm>
          <a:custGeom>
            <a:avLst/>
            <a:gdLst>
              <a:gd name="textAreaLeft" fmla="*/ 0 w 82800"/>
              <a:gd name="textAreaRight" fmla="*/ 83160 w 82800"/>
              <a:gd name="textAreaTop" fmla="*/ 0 h 154080"/>
              <a:gd name="textAreaBottom" fmla="*/ 154440 h 154080"/>
            </a:gdLst>
            <a:ahLst/>
            <a:rect l="textAreaLeft" t="textAreaTop" r="textAreaRight" b="textAreaBottom"/>
            <a:pathLst>
              <a:path w="103" h="195">
                <a:moveTo>
                  <a:pt x="0" y="7"/>
                </a:moveTo>
                <a:lnTo>
                  <a:pt x="0" y="7"/>
                </a:lnTo>
                <a:lnTo>
                  <a:pt x="2" y="9"/>
                </a:lnTo>
                <a:lnTo>
                  <a:pt x="3" y="10"/>
                </a:lnTo>
                <a:lnTo>
                  <a:pt x="4" y="10"/>
                </a:lnTo>
                <a:lnTo>
                  <a:pt x="5" y="13"/>
                </a:lnTo>
                <a:lnTo>
                  <a:pt x="6" y="14"/>
                </a:lnTo>
                <a:lnTo>
                  <a:pt x="7" y="14"/>
                </a:lnTo>
                <a:lnTo>
                  <a:pt x="8" y="17"/>
                </a:lnTo>
                <a:lnTo>
                  <a:pt x="9" y="18"/>
                </a:lnTo>
                <a:lnTo>
                  <a:pt x="11" y="18"/>
                </a:lnTo>
                <a:lnTo>
                  <a:pt x="13" y="22"/>
                </a:lnTo>
                <a:lnTo>
                  <a:pt x="14" y="23"/>
                </a:lnTo>
                <a:lnTo>
                  <a:pt x="15" y="23"/>
                </a:lnTo>
                <a:lnTo>
                  <a:pt x="16" y="28"/>
                </a:lnTo>
                <a:lnTo>
                  <a:pt x="17" y="29"/>
                </a:lnTo>
                <a:lnTo>
                  <a:pt x="18" y="29"/>
                </a:lnTo>
                <a:lnTo>
                  <a:pt x="19" y="33"/>
                </a:lnTo>
                <a:lnTo>
                  <a:pt x="20" y="34"/>
                </a:lnTo>
                <a:lnTo>
                  <a:pt x="21" y="34"/>
                </a:lnTo>
                <a:lnTo>
                  <a:pt x="23" y="38"/>
                </a:lnTo>
                <a:lnTo>
                  <a:pt x="24" y="40"/>
                </a:lnTo>
                <a:lnTo>
                  <a:pt x="26" y="40"/>
                </a:lnTo>
                <a:lnTo>
                  <a:pt x="27" y="44"/>
                </a:lnTo>
                <a:lnTo>
                  <a:pt x="28" y="46"/>
                </a:lnTo>
                <a:lnTo>
                  <a:pt x="29" y="46"/>
                </a:lnTo>
                <a:lnTo>
                  <a:pt x="30" y="50"/>
                </a:lnTo>
                <a:lnTo>
                  <a:pt x="31" y="52"/>
                </a:lnTo>
                <a:lnTo>
                  <a:pt x="32" y="52"/>
                </a:lnTo>
                <a:lnTo>
                  <a:pt x="33" y="57"/>
                </a:lnTo>
                <a:lnTo>
                  <a:pt x="34" y="59"/>
                </a:lnTo>
                <a:lnTo>
                  <a:pt x="35" y="59"/>
                </a:lnTo>
                <a:lnTo>
                  <a:pt x="36" y="63"/>
                </a:lnTo>
                <a:lnTo>
                  <a:pt x="37" y="65"/>
                </a:lnTo>
                <a:lnTo>
                  <a:pt x="38" y="65"/>
                </a:lnTo>
                <a:lnTo>
                  <a:pt x="41" y="70"/>
                </a:lnTo>
                <a:lnTo>
                  <a:pt x="42" y="72"/>
                </a:lnTo>
                <a:lnTo>
                  <a:pt x="43" y="72"/>
                </a:lnTo>
                <a:lnTo>
                  <a:pt x="44" y="77"/>
                </a:lnTo>
                <a:lnTo>
                  <a:pt x="45" y="80"/>
                </a:lnTo>
                <a:lnTo>
                  <a:pt x="46" y="80"/>
                </a:lnTo>
                <a:lnTo>
                  <a:pt x="47" y="85"/>
                </a:lnTo>
                <a:lnTo>
                  <a:pt x="48" y="87"/>
                </a:lnTo>
                <a:lnTo>
                  <a:pt x="49" y="87"/>
                </a:lnTo>
                <a:lnTo>
                  <a:pt x="50" y="92"/>
                </a:lnTo>
                <a:lnTo>
                  <a:pt x="51" y="94"/>
                </a:lnTo>
                <a:lnTo>
                  <a:pt x="52" y="94"/>
                </a:lnTo>
                <a:lnTo>
                  <a:pt x="53" y="99"/>
                </a:lnTo>
                <a:lnTo>
                  <a:pt x="55" y="101"/>
                </a:lnTo>
                <a:lnTo>
                  <a:pt x="56" y="101"/>
                </a:lnTo>
                <a:lnTo>
                  <a:pt x="57" y="106"/>
                </a:lnTo>
                <a:lnTo>
                  <a:pt x="58" y="108"/>
                </a:lnTo>
                <a:lnTo>
                  <a:pt x="59" y="108"/>
                </a:lnTo>
                <a:lnTo>
                  <a:pt x="59" y="109"/>
                </a:lnTo>
                <a:lnTo>
                  <a:pt x="59" y="110"/>
                </a:lnTo>
                <a:lnTo>
                  <a:pt x="60" y="113"/>
                </a:lnTo>
                <a:lnTo>
                  <a:pt x="60" y="115"/>
                </a:lnTo>
                <a:lnTo>
                  <a:pt x="61" y="115"/>
                </a:lnTo>
                <a:lnTo>
                  <a:pt x="62" y="120"/>
                </a:lnTo>
                <a:lnTo>
                  <a:pt x="63" y="122"/>
                </a:lnTo>
                <a:lnTo>
                  <a:pt x="64" y="122"/>
                </a:lnTo>
                <a:lnTo>
                  <a:pt x="65" y="127"/>
                </a:lnTo>
                <a:lnTo>
                  <a:pt x="66" y="129"/>
                </a:lnTo>
                <a:lnTo>
                  <a:pt x="67" y="129"/>
                </a:lnTo>
                <a:lnTo>
                  <a:pt x="67" y="130"/>
                </a:lnTo>
                <a:lnTo>
                  <a:pt x="67" y="131"/>
                </a:lnTo>
                <a:lnTo>
                  <a:pt x="68" y="135"/>
                </a:lnTo>
                <a:lnTo>
                  <a:pt x="68" y="137"/>
                </a:lnTo>
                <a:lnTo>
                  <a:pt x="70" y="137"/>
                </a:lnTo>
                <a:lnTo>
                  <a:pt x="71" y="142"/>
                </a:lnTo>
                <a:lnTo>
                  <a:pt x="72" y="144"/>
                </a:lnTo>
                <a:lnTo>
                  <a:pt x="73" y="144"/>
                </a:lnTo>
                <a:lnTo>
                  <a:pt x="73" y="145"/>
                </a:lnTo>
                <a:lnTo>
                  <a:pt x="74" y="148"/>
                </a:lnTo>
                <a:lnTo>
                  <a:pt x="74" y="150"/>
                </a:lnTo>
                <a:lnTo>
                  <a:pt x="75" y="150"/>
                </a:lnTo>
                <a:lnTo>
                  <a:pt x="76" y="154"/>
                </a:lnTo>
                <a:lnTo>
                  <a:pt x="77" y="156"/>
                </a:lnTo>
                <a:lnTo>
                  <a:pt x="78" y="156"/>
                </a:lnTo>
                <a:lnTo>
                  <a:pt x="78" y="157"/>
                </a:lnTo>
                <a:lnTo>
                  <a:pt x="79" y="160"/>
                </a:lnTo>
                <a:lnTo>
                  <a:pt x="79" y="162"/>
                </a:lnTo>
                <a:lnTo>
                  <a:pt x="80" y="162"/>
                </a:lnTo>
                <a:lnTo>
                  <a:pt x="80" y="163"/>
                </a:lnTo>
                <a:lnTo>
                  <a:pt x="81" y="166"/>
                </a:lnTo>
                <a:lnTo>
                  <a:pt x="81" y="168"/>
                </a:lnTo>
                <a:lnTo>
                  <a:pt x="82" y="168"/>
                </a:lnTo>
                <a:lnTo>
                  <a:pt x="82" y="169"/>
                </a:lnTo>
                <a:lnTo>
                  <a:pt x="83" y="172"/>
                </a:lnTo>
                <a:lnTo>
                  <a:pt x="83" y="173"/>
                </a:lnTo>
                <a:lnTo>
                  <a:pt x="85" y="173"/>
                </a:lnTo>
                <a:lnTo>
                  <a:pt x="85" y="174"/>
                </a:lnTo>
                <a:lnTo>
                  <a:pt x="86" y="177"/>
                </a:lnTo>
                <a:lnTo>
                  <a:pt x="86" y="178"/>
                </a:lnTo>
                <a:lnTo>
                  <a:pt x="87" y="178"/>
                </a:lnTo>
                <a:lnTo>
                  <a:pt x="88" y="181"/>
                </a:lnTo>
                <a:lnTo>
                  <a:pt x="89" y="182"/>
                </a:lnTo>
                <a:lnTo>
                  <a:pt x="89" y="183"/>
                </a:lnTo>
                <a:lnTo>
                  <a:pt x="90" y="186"/>
                </a:lnTo>
                <a:lnTo>
                  <a:pt x="90" y="188"/>
                </a:lnTo>
                <a:lnTo>
                  <a:pt x="91" y="188"/>
                </a:lnTo>
                <a:lnTo>
                  <a:pt x="92" y="190"/>
                </a:lnTo>
                <a:lnTo>
                  <a:pt x="93" y="191"/>
                </a:lnTo>
                <a:lnTo>
                  <a:pt x="94" y="194"/>
                </a:lnTo>
                <a:lnTo>
                  <a:pt x="95" y="195"/>
                </a:lnTo>
                <a:lnTo>
                  <a:pt x="100" y="192"/>
                </a:lnTo>
                <a:lnTo>
                  <a:pt x="102" y="191"/>
                </a:lnTo>
                <a:lnTo>
                  <a:pt x="103" y="190"/>
                </a:lnTo>
                <a:lnTo>
                  <a:pt x="102" y="188"/>
                </a:lnTo>
                <a:lnTo>
                  <a:pt x="102" y="186"/>
                </a:lnTo>
                <a:lnTo>
                  <a:pt x="100" y="184"/>
                </a:lnTo>
                <a:lnTo>
                  <a:pt x="100" y="183"/>
                </a:lnTo>
                <a:lnTo>
                  <a:pt x="98" y="181"/>
                </a:lnTo>
                <a:lnTo>
                  <a:pt x="98" y="180"/>
                </a:lnTo>
                <a:lnTo>
                  <a:pt x="98" y="179"/>
                </a:lnTo>
                <a:lnTo>
                  <a:pt x="96" y="176"/>
                </a:lnTo>
                <a:lnTo>
                  <a:pt x="96" y="175"/>
                </a:lnTo>
                <a:lnTo>
                  <a:pt x="96" y="174"/>
                </a:lnTo>
                <a:lnTo>
                  <a:pt x="94" y="172"/>
                </a:lnTo>
                <a:lnTo>
                  <a:pt x="94" y="170"/>
                </a:lnTo>
                <a:lnTo>
                  <a:pt x="92" y="167"/>
                </a:lnTo>
                <a:lnTo>
                  <a:pt x="92" y="165"/>
                </a:lnTo>
                <a:lnTo>
                  <a:pt x="92" y="164"/>
                </a:lnTo>
                <a:lnTo>
                  <a:pt x="90" y="161"/>
                </a:lnTo>
                <a:lnTo>
                  <a:pt x="90" y="160"/>
                </a:lnTo>
                <a:lnTo>
                  <a:pt x="90" y="159"/>
                </a:lnTo>
                <a:lnTo>
                  <a:pt x="88" y="156"/>
                </a:lnTo>
                <a:lnTo>
                  <a:pt x="87" y="154"/>
                </a:lnTo>
                <a:lnTo>
                  <a:pt x="87" y="153"/>
                </a:lnTo>
                <a:lnTo>
                  <a:pt x="85" y="150"/>
                </a:lnTo>
                <a:lnTo>
                  <a:pt x="85" y="148"/>
                </a:lnTo>
                <a:lnTo>
                  <a:pt x="85" y="147"/>
                </a:lnTo>
                <a:lnTo>
                  <a:pt x="83" y="146"/>
                </a:lnTo>
                <a:lnTo>
                  <a:pt x="82" y="143"/>
                </a:lnTo>
                <a:lnTo>
                  <a:pt x="81" y="141"/>
                </a:lnTo>
                <a:lnTo>
                  <a:pt x="81" y="140"/>
                </a:lnTo>
                <a:lnTo>
                  <a:pt x="79" y="137"/>
                </a:lnTo>
                <a:lnTo>
                  <a:pt x="79" y="135"/>
                </a:lnTo>
                <a:lnTo>
                  <a:pt x="79" y="134"/>
                </a:lnTo>
                <a:lnTo>
                  <a:pt x="78" y="132"/>
                </a:lnTo>
                <a:lnTo>
                  <a:pt x="77" y="129"/>
                </a:lnTo>
                <a:lnTo>
                  <a:pt x="76" y="127"/>
                </a:lnTo>
                <a:lnTo>
                  <a:pt x="76" y="126"/>
                </a:lnTo>
                <a:lnTo>
                  <a:pt x="74" y="122"/>
                </a:lnTo>
                <a:lnTo>
                  <a:pt x="74" y="120"/>
                </a:lnTo>
                <a:lnTo>
                  <a:pt x="74" y="119"/>
                </a:lnTo>
                <a:lnTo>
                  <a:pt x="73" y="118"/>
                </a:lnTo>
                <a:lnTo>
                  <a:pt x="72" y="115"/>
                </a:lnTo>
                <a:lnTo>
                  <a:pt x="71" y="113"/>
                </a:lnTo>
                <a:lnTo>
                  <a:pt x="71" y="112"/>
                </a:lnTo>
                <a:lnTo>
                  <a:pt x="70" y="111"/>
                </a:lnTo>
                <a:lnTo>
                  <a:pt x="68" y="108"/>
                </a:lnTo>
                <a:lnTo>
                  <a:pt x="67" y="106"/>
                </a:lnTo>
                <a:lnTo>
                  <a:pt x="67" y="105"/>
                </a:lnTo>
                <a:lnTo>
                  <a:pt x="66" y="104"/>
                </a:lnTo>
                <a:lnTo>
                  <a:pt x="65" y="101"/>
                </a:lnTo>
                <a:lnTo>
                  <a:pt x="64" y="99"/>
                </a:lnTo>
                <a:lnTo>
                  <a:pt x="64" y="98"/>
                </a:lnTo>
                <a:lnTo>
                  <a:pt x="63" y="97"/>
                </a:lnTo>
                <a:lnTo>
                  <a:pt x="62" y="94"/>
                </a:lnTo>
                <a:lnTo>
                  <a:pt x="61" y="92"/>
                </a:lnTo>
                <a:lnTo>
                  <a:pt x="61" y="91"/>
                </a:lnTo>
                <a:lnTo>
                  <a:pt x="59" y="87"/>
                </a:lnTo>
                <a:lnTo>
                  <a:pt x="58" y="84"/>
                </a:lnTo>
                <a:lnTo>
                  <a:pt x="58" y="83"/>
                </a:lnTo>
                <a:lnTo>
                  <a:pt x="57" y="82"/>
                </a:lnTo>
                <a:lnTo>
                  <a:pt x="56" y="78"/>
                </a:lnTo>
                <a:lnTo>
                  <a:pt x="55" y="76"/>
                </a:lnTo>
                <a:lnTo>
                  <a:pt x="55" y="75"/>
                </a:lnTo>
                <a:lnTo>
                  <a:pt x="53" y="74"/>
                </a:lnTo>
                <a:lnTo>
                  <a:pt x="52" y="71"/>
                </a:lnTo>
                <a:lnTo>
                  <a:pt x="51" y="69"/>
                </a:lnTo>
                <a:lnTo>
                  <a:pt x="51" y="68"/>
                </a:lnTo>
                <a:lnTo>
                  <a:pt x="50" y="67"/>
                </a:lnTo>
                <a:lnTo>
                  <a:pt x="49" y="64"/>
                </a:lnTo>
                <a:lnTo>
                  <a:pt x="48" y="62"/>
                </a:lnTo>
                <a:lnTo>
                  <a:pt x="48" y="61"/>
                </a:lnTo>
                <a:lnTo>
                  <a:pt x="45" y="58"/>
                </a:lnTo>
                <a:lnTo>
                  <a:pt x="44" y="56"/>
                </a:lnTo>
                <a:lnTo>
                  <a:pt x="44" y="55"/>
                </a:lnTo>
                <a:lnTo>
                  <a:pt x="43" y="54"/>
                </a:lnTo>
                <a:lnTo>
                  <a:pt x="42" y="51"/>
                </a:lnTo>
                <a:lnTo>
                  <a:pt x="41" y="49"/>
                </a:lnTo>
                <a:lnTo>
                  <a:pt x="41" y="48"/>
                </a:lnTo>
                <a:lnTo>
                  <a:pt x="38" y="45"/>
                </a:lnTo>
                <a:lnTo>
                  <a:pt x="37" y="43"/>
                </a:lnTo>
                <a:lnTo>
                  <a:pt x="37" y="42"/>
                </a:lnTo>
                <a:lnTo>
                  <a:pt x="34" y="39"/>
                </a:lnTo>
                <a:lnTo>
                  <a:pt x="33" y="37"/>
                </a:lnTo>
                <a:lnTo>
                  <a:pt x="33" y="36"/>
                </a:lnTo>
                <a:lnTo>
                  <a:pt x="31" y="33"/>
                </a:lnTo>
                <a:lnTo>
                  <a:pt x="30" y="31"/>
                </a:lnTo>
                <a:lnTo>
                  <a:pt x="30" y="30"/>
                </a:lnTo>
                <a:lnTo>
                  <a:pt x="27" y="27"/>
                </a:lnTo>
                <a:lnTo>
                  <a:pt x="26" y="24"/>
                </a:lnTo>
                <a:lnTo>
                  <a:pt x="26" y="23"/>
                </a:lnTo>
                <a:lnTo>
                  <a:pt x="23" y="20"/>
                </a:lnTo>
                <a:lnTo>
                  <a:pt x="22" y="19"/>
                </a:lnTo>
                <a:lnTo>
                  <a:pt x="22" y="18"/>
                </a:lnTo>
                <a:lnTo>
                  <a:pt x="19" y="15"/>
                </a:lnTo>
                <a:lnTo>
                  <a:pt x="18" y="14"/>
                </a:lnTo>
                <a:lnTo>
                  <a:pt x="18" y="13"/>
                </a:lnTo>
                <a:lnTo>
                  <a:pt x="16" y="10"/>
                </a:lnTo>
                <a:lnTo>
                  <a:pt x="15" y="9"/>
                </a:lnTo>
                <a:lnTo>
                  <a:pt x="15" y="8"/>
                </a:lnTo>
                <a:lnTo>
                  <a:pt x="12" y="6"/>
                </a:lnTo>
                <a:lnTo>
                  <a:pt x="11" y="5"/>
                </a:lnTo>
                <a:lnTo>
                  <a:pt x="11" y="4"/>
                </a:lnTo>
                <a:lnTo>
                  <a:pt x="8" y="2"/>
                </a:lnTo>
                <a:lnTo>
                  <a:pt x="7" y="1"/>
                </a:lnTo>
                <a:lnTo>
                  <a:pt x="7" y="0"/>
                </a:lnTo>
                <a:lnTo>
                  <a:pt x="0" y="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47"/>
          <p:cNvSpPr/>
          <p:nvPr/>
        </p:nvSpPr>
        <p:spPr>
          <a:xfrm>
            <a:off x="4638600" y="3697200"/>
            <a:ext cx="57240" cy="50760"/>
          </a:xfrm>
          <a:custGeom>
            <a:avLst/>
            <a:gdLst>
              <a:gd name="textAreaLeft" fmla="*/ 0 w 57240"/>
              <a:gd name="textAreaRight" fmla="*/ 57600 w 57240"/>
              <a:gd name="textAreaTop" fmla="*/ 0 h 50760"/>
              <a:gd name="textAreaBottom" fmla="*/ 51120 h 50760"/>
            </a:gdLst>
            <a:ahLst/>
            <a:rect l="textAreaLeft" t="textAreaTop" r="textAreaRight" b="textAreaBottom"/>
            <a:pathLst>
              <a:path w="73" h="64">
                <a:moveTo>
                  <a:pt x="1" y="2"/>
                </a:moveTo>
                <a:lnTo>
                  <a:pt x="1" y="3"/>
                </a:lnTo>
                <a:lnTo>
                  <a:pt x="1" y="6"/>
                </a:lnTo>
                <a:lnTo>
                  <a:pt x="1" y="7"/>
                </a:lnTo>
                <a:lnTo>
                  <a:pt x="3" y="7"/>
                </a:lnTo>
                <a:lnTo>
                  <a:pt x="4" y="9"/>
                </a:lnTo>
                <a:lnTo>
                  <a:pt x="12" y="16"/>
                </a:lnTo>
                <a:lnTo>
                  <a:pt x="41" y="43"/>
                </a:lnTo>
                <a:lnTo>
                  <a:pt x="64" y="63"/>
                </a:lnTo>
                <a:lnTo>
                  <a:pt x="66" y="64"/>
                </a:lnTo>
                <a:lnTo>
                  <a:pt x="67" y="63"/>
                </a:lnTo>
                <a:lnTo>
                  <a:pt x="70" y="60"/>
                </a:lnTo>
                <a:lnTo>
                  <a:pt x="72" y="58"/>
                </a:lnTo>
                <a:lnTo>
                  <a:pt x="73" y="57"/>
                </a:lnTo>
                <a:lnTo>
                  <a:pt x="71" y="56"/>
                </a:lnTo>
                <a:lnTo>
                  <a:pt x="63" y="49"/>
                </a:lnTo>
                <a:lnTo>
                  <a:pt x="34" y="22"/>
                </a:lnTo>
                <a:lnTo>
                  <a:pt x="11" y="2"/>
                </a:lnTo>
                <a:lnTo>
                  <a:pt x="10" y="0"/>
                </a:lnTo>
                <a:lnTo>
                  <a:pt x="10" y="1"/>
                </a:lnTo>
                <a:lnTo>
                  <a:pt x="10" y="4"/>
                </a:lnTo>
                <a:lnTo>
                  <a:pt x="10" y="5"/>
                </a:lnTo>
                <a:lnTo>
                  <a:pt x="11" y="5"/>
                </a:lnTo>
                <a:lnTo>
                  <a:pt x="10" y="5"/>
                </a:lnTo>
                <a:lnTo>
                  <a:pt x="9" y="5"/>
                </a:lnTo>
                <a:lnTo>
                  <a:pt x="5" y="4"/>
                </a:lnTo>
                <a:lnTo>
                  <a:pt x="1" y="3"/>
                </a:lnTo>
                <a:lnTo>
                  <a:pt x="1" y="2"/>
                </a:lnTo>
                <a:lnTo>
                  <a:pt x="0" y="4"/>
                </a:lnTo>
                <a:lnTo>
                  <a:pt x="0" y="5"/>
                </a:lnTo>
                <a:lnTo>
                  <a:pt x="1" y="7"/>
                </a:lnTo>
                <a:lnTo>
                  <a:pt x="3" y="7"/>
                </a:lnTo>
                <a:lnTo>
                  <a:pt x="1" y="2"/>
                </a:lnTo>
                <a:close/>
              </a:path>
            </a:pathLst>
          </a:custGeom>
          <a:solidFill>
            <a:srgbClr val="1f1a17"/>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49" name="Freeform 48"/>
          <p:cNvSpPr/>
          <p:nvPr/>
        </p:nvSpPr>
        <p:spPr>
          <a:xfrm>
            <a:off x="2556000" y="3249720"/>
            <a:ext cx="1065240" cy="1385640"/>
          </a:xfrm>
          <a:custGeom>
            <a:avLst/>
            <a:gdLst>
              <a:gd name="textAreaLeft" fmla="*/ 0 w 1065240"/>
              <a:gd name="textAreaRight" fmla="*/ 1065240 w 1065240"/>
              <a:gd name="textAreaTop" fmla="*/ 0 h 1385640"/>
              <a:gd name="textAreaBottom" fmla="*/ 1386000 h 1385640"/>
            </a:gdLst>
            <a:ahLst/>
            <a:rect l="textAreaLeft" t="textAreaTop" r="textAreaRight" b="textAreaBottom"/>
            <a:pathLst>
              <a:path w="1343" h="1746">
                <a:moveTo>
                  <a:pt x="896" y="1072"/>
                </a:moveTo>
                <a:lnTo>
                  <a:pt x="928" y="1058"/>
                </a:lnTo>
                <a:lnTo>
                  <a:pt x="995" y="1034"/>
                </a:lnTo>
                <a:lnTo>
                  <a:pt x="1125" y="983"/>
                </a:lnTo>
                <a:lnTo>
                  <a:pt x="1235" y="881"/>
                </a:lnTo>
                <a:lnTo>
                  <a:pt x="1257" y="841"/>
                </a:lnTo>
                <a:lnTo>
                  <a:pt x="1269" y="846"/>
                </a:lnTo>
                <a:lnTo>
                  <a:pt x="1306" y="860"/>
                </a:lnTo>
                <a:lnTo>
                  <a:pt x="1335" y="872"/>
                </a:lnTo>
                <a:lnTo>
                  <a:pt x="1338" y="872"/>
                </a:lnTo>
                <a:lnTo>
                  <a:pt x="1340" y="865"/>
                </a:lnTo>
                <a:lnTo>
                  <a:pt x="1343" y="851"/>
                </a:lnTo>
                <a:lnTo>
                  <a:pt x="1342" y="837"/>
                </a:lnTo>
                <a:lnTo>
                  <a:pt x="1339" y="822"/>
                </a:lnTo>
                <a:lnTo>
                  <a:pt x="1326" y="779"/>
                </a:lnTo>
                <a:lnTo>
                  <a:pt x="1323" y="765"/>
                </a:lnTo>
                <a:lnTo>
                  <a:pt x="1321" y="762"/>
                </a:lnTo>
                <a:lnTo>
                  <a:pt x="1318" y="740"/>
                </a:lnTo>
                <a:lnTo>
                  <a:pt x="1308" y="666"/>
                </a:lnTo>
                <a:lnTo>
                  <a:pt x="1299" y="610"/>
                </a:lnTo>
                <a:lnTo>
                  <a:pt x="1299" y="606"/>
                </a:lnTo>
                <a:lnTo>
                  <a:pt x="1297" y="604"/>
                </a:lnTo>
                <a:lnTo>
                  <a:pt x="1284" y="585"/>
                </a:lnTo>
                <a:lnTo>
                  <a:pt x="1241" y="521"/>
                </a:lnTo>
                <a:lnTo>
                  <a:pt x="1208" y="472"/>
                </a:lnTo>
                <a:lnTo>
                  <a:pt x="1207" y="469"/>
                </a:lnTo>
                <a:lnTo>
                  <a:pt x="1207" y="462"/>
                </a:lnTo>
                <a:lnTo>
                  <a:pt x="1209" y="446"/>
                </a:lnTo>
                <a:lnTo>
                  <a:pt x="1220" y="415"/>
                </a:lnTo>
                <a:lnTo>
                  <a:pt x="1236" y="385"/>
                </a:lnTo>
                <a:lnTo>
                  <a:pt x="1240" y="377"/>
                </a:lnTo>
                <a:lnTo>
                  <a:pt x="1239" y="373"/>
                </a:lnTo>
                <a:lnTo>
                  <a:pt x="1235" y="352"/>
                </a:lnTo>
                <a:lnTo>
                  <a:pt x="1218" y="279"/>
                </a:lnTo>
                <a:lnTo>
                  <a:pt x="1207" y="223"/>
                </a:lnTo>
                <a:lnTo>
                  <a:pt x="1207" y="219"/>
                </a:lnTo>
                <a:lnTo>
                  <a:pt x="1205" y="217"/>
                </a:lnTo>
                <a:lnTo>
                  <a:pt x="1201" y="214"/>
                </a:lnTo>
                <a:lnTo>
                  <a:pt x="1198" y="210"/>
                </a:lnTo>
                <a:lnTo>
                  <a:pt x="1187" y="204"/>
                </a:lnTo>
                <a:lnTo>
                  <a:pt x="1162" y="190"/>
                </a:lnTo>
                <a:lnTo>
                  <a:pt x="1113" y="163"/>
                </a:lnTo>
                <a:lnTo>
                  <a:pt x="1121" y="139"/>
                </a:lnTo>
                <a:lnTo>
                  <a:pt x="1132" y="133"/>
                </a:lnTo>
                <a:lnTo>
                  <a:pt x="1138" y="124"/>
                </a:lnTo>
                <a:lnTo>
                  <a:pt x="1141" y="115"/>
                </a:lnTo>
                <a:lnTo>
                  <a:pt x="1141" y="104"/>
                </a:lnTo>
                <a:lnTo>
                  <a:pt x="1139" y="92"/>
                </a:lnTo>
                <a:lnTo>
                  <a:pt x="1135" y="81"/>
                </a:lnTo>
                <a:lnTo>
                  <a:pt x="1122" y="59"/>
                </a:lnTo>
                <a:lnTo>
                  <a:pt x="1108" y="38"/>
                </a:lnTo>
                <a:lnTo>
                  <a:pt x="1097" y="22"/>
                </a:lnTo>
                <a:lnTo>
                  <a:pt x="1092" y="18"/>
                </a:lnTo>
                <a:lnTo>
                  <a:pt x="1082" y="9"/>
                </a:lnTo>
                <a:lnTo>
                  <a:pt x="1073" y="3"/>
                </a:lnTo>
                <a:lnTo>
                  <a:pt x="1068" y="1"/>
                </a:lnTo>
                <a:lnTo>
                  <a:pt x="1063" y="0"/>
                </a:lnTo>
                <a:lnTo>
                  <a:pt x="1057" y="1"/>
                </a:lnTo>
                <a:lnTo>
                  <a:pt x="1051" y="4"/>
                </a:lnTo>
                <a:lnTo>
                  <a:pt x="1045" y="9"/>
                </a:lnTo>
                <a:lnTo>
                  <a:pt x="1037" y="16"/>
                </a:lnTo>
                <a:lnTo>
                  <a:pt x="1031" y="25"/>
                </a:lnTo>
                <a:lnTo>
                  <a:pt x="1025" y="35"/>
                </a:lnTo>
                <a:lnTo>
                  <a:pt x="1025" y="39"/>
                </a:lnTo>
                <a:lnTo>
                  <a:pt x="1025" y="43"/>
                </a:lnTo>
                <a:lnTo>
                  <a:pt x="1028" y="46"/>
                </a:lnTo>
                <a:lnTo>
                  <a:pt x="1030" y="48"/>
                </a:lnTo>
                <a:lnTo>
                  <a:pt x="1033" y="52"/>
                </a:lnTo>
                <a:lnTo>
                  <a:pt x="1040" y="56"/>
                </a:lnTo>
                <a:lnTo>
                  <a:pt x="1048" y="60"/>
                </a:lnTo>
                <a:lnTo>
                  <a:pt x="1057" y="64"/>
                </a:lnTo>
                <a:lnTo>
                  <a:pt x="1062" y="69"/>
                </a:lnTo>
                <a:lnTo>
                  <a:pt x="1064" y="72"/>
                </a:lnTo>
                <a:lnTo>
                  <a:pt x="1065" y="75"/>
                </a:lnTo>
                <a:lnTo>
                  <a:pt x="1066" y="79"/>
                </a:lnTo>
                <a:lnTo>
                  <a:pt x="1065" y="83"/>
                </a:lnTo>
                <a:lnTo>
                  <a:pt x="1062" y="88"/>
                </a:lnTo>
                <a:lnTo>
                  <a:pt x="1059" y="94"/>
                </a:lnTo>
                <a:lnTo>
                  <a:pt x="1046" y="108"/>
                </a:lnTo>
                <a:lnTo>
                  <a:pt x="1037" y="116"/>
                </a:lnTo>
                <a:lnTo>
                  <a:pt x="1017" y="132"/>
                </a:lnTo>
                <a:lnTo>
                  <a:pt x="977" y="153"/>
                </a:lnTo>
                <a:lnTo>
                  <a:pt x="941" y="163"/>
                </a:lnTo>
                <a:lnTo>
                  <a:pt x="909" y="165"/>
                </a:lnTo>
                <a:lnTo>
                  <a:pt x="882" y="162"/>
                </a:lnTo>
                <a:lnTo>
                  <a:pt x="861" y="156"/>
                </a:lnTo>
                <a:lnTo>
                  <a:pt x="855" y="153"/>
                </a:lnTo>
                <a:lnTo>
                  <a:pt x="854" y="154"/>
                </a:lnTo>
                <a:lnTo>
                  <a:pt x="851" y="163"/>
                </a:lnTo>
                <a:lnTo>
                  <a:pt x="839" y="188"/>
                </a:lnTo>
                <a:lnTo>
                  <a:pt x="829" y="215"/>
                </a:lnTo>
                <a:lnTo>
                  <a:pt x="829" y="219"/>
                </a:lnTo>
                <a:lnTo>
                  <a:pt x="827" y="219"/>
                </a:lnTo>
                <a:lnTo>
                  <a:pt x="816" y="217"/>
                </a:lnTo>
                <a:lnTo>
                  <a:pt x="780" y="210"/>
                </a:lnTo>
                <a:lnTo>
                  <a:pt x="752" y="206"/>
                </a:lnTo>
                <a:lnTo>
                  <a:pt x="751" y="205"/>
                </a:lnTo>
                <a:lnTo>
                  <a:pt x="750" y="198"/>
                </a:lnTo>
                <a:lnTo>
                  <a:pt x="747" y="177"/>
                </a:lnTo>
                <a:lnTo>
                  <a:pt x="746" y="160"/>
                </a:lnTo>
                <a:lnTo>
                  <a:pt x="746" y="159"/>
                </a:lnTo>
                <a:lnTo>
                  <a:pt x="736" y="154"/>
                </a:lnTo>
                <a:lnTo>
                  <a:pt x="712" y="144"/>
                </a:lnTo>
                <a:lnTo>
                  <a:pt x="653" y="124"/>
                </a:lnTo>
                <a:lnTo>
                  <a:pt x="594" y="112"/>
                </a:lnTo>
                <a:lnTo>
                  <a:pt x="581" y="111"/>
                </a:lnTo>
                <a:lnTo>
                  <a:pt x="581" y="101"/>
                </a:lnTo>
                <a:lnTo>
                  <a:pt x="586" y="85"/>
                </a:lnTo>
                <a:lnTo>
                  <a:pt x="591" y="71"/>
                </a:lnTo>
                <a:lnTo>
                  <a:pt x="599" y="40"/>
                </a:lnTo>
                <a:lnTo>
                  <a:pt x="592" y="8"/>
                </a:lnTo>
                <a:lnTo>
                  <a:pt x="588" y="8"/>
                </a:lnTo>
                <a:lnTo>
                  <a:pt x="561" y="8"/>
                </a:lnTo>
                <a:lnTo>
                  <a:pt x="468" y="8"/>
                </a:lnTo>
                <a:lnTo>
                  <a:pt x="397" y="8"/>
                </a:lnTo>
                <a:lnTo>
                  <a:pt x="394" y="8"/>
                </a:lnTo>
                <a:lnTo>
                  <a:pt x="394" y="22"/>
                </a:lnTo>
                <a:lnTo>
                  <a:pt x="400" y="52"/>
                </a:lnTo>
                <a:lnTo>
                  <a:pt x="426" y="114"/>
                </a:lnTo>
                <a:lnTo>
                  <a:pt x="460" y="164"/>
                </a:lnTo>
                <a:lnTo>
                  <a:pt x="469" y="172"/>
                </a:lnTo>
                <a:lnTo>
                  <a:pt x="468" y="177"/>
                </a:lnTo>
                <a:lnTo>
                  <a:pt x="466" y="186"/>
                </a:lnTo>
                <a:lnTo>
                  <a:pt x="459" y="207"/>
                </a:lnTo>
                <a:lnTo>
                  <a:pt x="454" y="228"/>
                </a:lnTo>
                <a:lnTo>
                  <a:pt x="454" y="232"/>
                </a:lnTo>
                <a:lnTo>
                  <a:pt x="449" y="233"/>
                </a:lnTo>
                <a:lnTo>
                  <a:pt x="444" y="234"/>
                </a:lnTo>
                <a:lnTo>
                  <a:pt x="436" y="238"/>
                </a:lnTo>
                <a:lnTo>
                  <a:pt x="428" y="242"/>
                </a:lnTo>
                <a:lnTo>
                  <a:pt x="417" y="251"/>
                </a:lnTo>
                <a:lnTo>
                  <a:pt x="416" y="252"/>
                </a:lnTo>
                <a:lnTo>
                  <a:pt x="412" y="249"/>
                </a:lnTo>
                <a:lnTo>
                  <a:pt x="401" y="240"/>
                </a:lnTo>
                <a:lnTo>
                  <a:pt x="394" y="233"/>
                </a:lnTo>
                <a:lnTo>
                  <a:pt x="394" y="232"/>
                </a:lnTo>
                <a:lnTo>
                  <a:pt x="394" y="238"/>
                </a:lnTo>
                <a:lnTo>
                  <a:pt x="394" y="254"/>
                </a:lnTo>
                <a:lnTo>
                  <a:pt x="391" y="299"/>
                </a:lnTo>
                <a:lnTo>
                  <a:pt x="384" y="318"/>
                </a:lnTo>
                <a:lnTo>
                  <a:pt x="380" y="325"/>
                </a:lnTo>
                <a:lnTo>
                  <a:pt x="375" y="330"/>
                </a:lnTo>
                <a:lnTo>
                  <a:pt x="368" y="331"/>
                </a:lnTo>
                <a:lnTo>
                  <a:pt x="367" y="331"/>
                </a:lnTo>
                <a:lnTo>
                  <a:pt x="363" y="331"/>
                </a:lnTo>
                <a:lnTo>
                  <a:pt x="347" y="331"/>
                </a:lnTo>
                <a:lnTo>
                  <a:pt x="334" y="331"/>
                </a:lnTo>
                <a:lnTo>
                  <a:pt x="328" y="330"/>
                </a:lnTo>
                <a:lnTo>
                  <a:pt x="322" y="327"/>
                </a:lnTo>
                <a:lnTo>
                  <a:pt x="316" y="321"/>
                </a:lnTo>
                <a:lnTo>
                  <a:pt x="301" y="306"/>
                </a:lnTo>
                <a:lnTo>
                  <a:pt x="269" y="271"/>
                </a:lnTo>
                <a:lnTo>
                  <a:pt x="253" y="252"/>
                </a:lnTo>
                <a:lnTo>
                  <a:pt x="251" y="254"/>
                </a:lnTo>
                <a:lnTo>
                  <a:pt x="243" y="262"/>
                </a:lnTo>
                <a:lnTo>
                  <a:pt x="210" y="291"/>
                </a:lnTo>
                <a:lnTo>
                  <a:pt x="187" y="312"/>
                </a:lnTo>
                <a:lnTo>
                  <a:pt x="186" y="313"/>
                </a:lnTo>
                <a:lnTo>
                  <a:pt x="186" y="316"/>
                </a:lnTo>
                <a:lnTo>
                  <a:pt x="190" y="334"/>
                </a:lnTo>
                <a:lnTo>
                  <a:pt x="206" y="392"/>
                </a:lnTo>
                <a:lnTo>
                  <a:pt x="218" y="436"/>
                </a:lnTo>
                <a:lnTo>
                  <a:pt x="219" y="438"/>
                </a:lnTo>
                <a:lnTo>
                  <a:pt x="217" y="440"/>
                </a:lnTo>
                <a:lnTo>
                  <a:pt x="205" y="453"/>
                </a:lnTo>
                <a:lnTo>
                  <a:pt x="166" y="496"/>
                </a:lnTo>
                <a:lnTo>
                  <a:pt x="138" y="529"/>
                </a:lnTo>
                <a:lnTo>
                  <a:pt x="136" y="530"/>
                </a:lnTo>
                <a:lnTo>
                  <a:pt x="141" y="539"/>
                </a:lnTo>
                <a:lnTo>
                  <a:pt x="157" y="561"/>
                </a:lnTo>
                <a:lnTo>
                  <a:pt x="169" y="578"/>
                </a:lnTo>
                <a:lnTo>
                  <a:pt x="170" y="578"/>
                </a:lnTo>
                <a:lnTo>
                  <a:pt x="165" y="581"/>
                </a:lnTo>
                <a:lnTo>
                  <a:pt x="143" y="599"/>
                </a:lnTo>
                <a:lnTo>
                  <a:pt x="66" y="657"/>
                </a:lnTo>
                <a:lnTo>
                  <a:pt x="7" y="701"/>
                </a:lnTo>
                <a:lnTo>
                  <a:pt x="3" y="703"/>
                </a:lnTo>
                <a:lnTo>
                  <a:pt x="2" y="708"/>
                </a:lnTo>
                <a:lnTo>
                  <a:pt x="2" y="740"/>
                </a:lnTo>
                <a:lnTo>
                  <a:pt x="1" y="853"/>
                </a:lnTo>
                <a:lnTo>
                  <a:pt x="0" y="946"/>
                </a:lnTo>
                <a:lnTo>
                  <a:pt x="0" y="953"/>
                </a:lnTo>
                <a:lnTo>
                  <a:pt x="1" y="957"/>
                </a:lnTo>
                <a:lnTo>
                  <a:pt x="8" y="985"/>
                </a:lnTo>
                <a:lnTo>
                  <a:pt x="33" y="1079"/>
                </a:lnTo>
                <a:lnTo>
                  <a:pt x="53" y="1150"/>
                </a:lnTo>
                <a:lnTo>
                  <a:pt x="55" y="1153"/>
                </a:lnTo>
                <a:lnTo>
                  <a:pt x="59" y="1159"/>
                </a:lnTo>
                <a:lnTo>
                  <a:pt x="71" y="1170"/>
                </a:lnTo>
                <a:lnTo>
                  <a:pt x="94" y="1196"/>
                </a:lnTo>
                <a:lnTo>
                  <a:pt x="101" y="1208"/>
                </a:lnTo>
                <a:lnTo>
                  <a:pt x="105" y="1220"/>
                </a:lnTo>
                <a:lnTo>
                  <a:pt x="106" y="1225"/>
                </a:lnTo>
                <a:lnTo>
                  <a:pt x="105" y="1230"/>
                </a:lnTo>
                <a:lnTo>
                  <a:pt x="105" y="1238"/>
                </a:lnTo>
                <a:lnTo>
                  <a:pt x="105" y="1251"/>
                </a:lnTo>
                <a:lnTo>
                  <a:pt x="99" y="1266"/>
                </a:lnTo>
                <a:lnTo>
                  <a:pt x="97" y="1271"/>
                </a:lnTo>
                <a:lnTo>
                  <a:pt x="116" y="1278"/>
                </a:lnTo>
                <a:lnTo>
                  <a:pt x="156" y="1285"/>
                </a:lnTo>
                <a:lnTo>
                  <a:pt x="194" y="1288"/>
                </a:lnTo>
                <a:lnTo>
                  <a:pt x="267" y="1306"/>
                </a:lnTo>
                <a:lnTo>
                  <a:pt x="321" y="1350"/>
                </a:lnTo>
                <a:lnTo>
                  <a:pt x="320" y="1356"/>
                </a:lnTo>
                <a:lnTo>
                  <a:pt x="318" y="1373"/>
                </a:lnTo>
                <a:lnTo>
                  <a:pt x="317" y="1386"/>
                </a:lnTo>
                <a:lnTo>
                  <a:pt x="306" y="1415"/>
                </a:lnTo>
                <a:lnTo>
                  <a:pt x="282" y="1465"/>
                </a:lnTo>
                <a:lnTo>
                  <a:pt x="233" y="1551"/>
                </a:lnTo>
                <a:lnTo>
                  <a:pt x="216" y="1655"/>
                </a:lnTo>
                <a:lnTo>
                  <a:pt x="222" y="1688"/>
                </a:lnTo>
                <a:lnTo>
                  <a:pt x="228" y="1688"/>
                </a:lnTo>
                <a:lnTo>
                  <a:pt x="245" y="1687"/>
                </a:lnTo>
                <a:lnTo>
                  <a:pt x="292" y="1682"/>
                </a:lnTo>
                <a:lnTo>
                  <a:pt x="312" y="1678"/>
                </a:lnTo>
                <a:lnTo>
                  <a:pt x="320" y="1675"/>
                </a:lnTo>
                <a:lnTo>
                  <a:pt x="325" y="1671"/>
                </a:lnTo>
                <a:lnTo>
                  <a:pt x="327" y="1667"/>
                </a:lnTo>
                <a:lnTo>
                  <a:pt x="325" y="1662"/>
                </a:lnTo>
                <a:lnTo>
                  <a:pt x="320" y="1648"/>
                </a:lnTo>
                <a:lnTo>
                  <a:pt x="317" y="1636"/>
                </a:lnTo>
                <a:lnTo>
                  <a:pt x="317" y="1635"/>
                </a:lnTo>
                <a:lnTo>
                  <a:pt x="322" y="1623"/>
                </a:lnTo>
                <a:lnTo>
                  <a:pt x="333" y="1615"/>
                </a:lnTo>
                <a:lnTo>
                  <a:pt x="346" y="1613"/>
                </a:lnTo>
                <a:lnTo>
                  <a:pt x="361" y="1614"/>
                </a:lnTo>
                <a:lnTo>
                  <a:pt x="377" y="1618"/>
                </a:lnTo>
                <a:lnTo>
                  <a:pt x="412" y="1634"/>
                </a:lnTo>
                <a:lnTo>
                  <a:pt x="446" y="1653"/>
                </a:lnTo>
                <a:lnTo>
                  <a:pt x="472" y="1670"/>
                </a:lnTo>
                <a:lnTo>
                  <a:pt x="482" y="1677"/>
                </a:lnTo>
                <a:lnTo>
                  <a:pt x="485" y="1677"/>
                </a:lnTo>
                <a:lnTo>
                  <a:pt x="496" y="1676"/>
                </a:lnTo>
                <a:lnTo>
                  <a:pt x="525" y="1672"/>
                </a:lnTo>
                <a:lnTo>
                  <a:pt x="558" y="1670"/>
                </a:lnTo>
                <a:lnTo>
                  <a:pt x="566" y="1669"/>
                </a:lnTo>
                <a:lnTo>
                  <a:pt x="581" y="1682"/>
                </a:lnTo>
                <a:lnTo>
                  <a:pt x="628" y="1717"/>
                </a:lnTo>
                <a:lnTo>
                  <a:pt x="663" y="1745"/>
                </a:lnTo>
                <a:lnTo>
                  <a:pt x="665" y="1746"/>
                </a:lnTo>
                <a:lnTo>
                  <a:pt x="673" y="1739"/>
                </a:lnTo>
                <a:lnTo>
                  <a:pt x="692" y="1723"/>
                </a:lnTo>
                <a:lnTo>
                  <a:pt x="735" y="1697"/>
                </a:lnTo>
                <a:lnTo>
                  <a:pt x="782" y="1680"/>
                </a:lnTo>
                <a:lnTo>
                  <a:pt x="795" y="1677"/>
                </a:lnTo>
                <a:lnTo>
                  <a:pt x="815" y="1669"/>
                </a:lnTo>
                <a:lnTo>
                  <a:pt x="861" y="1659"/>
                </a:lnTo>
                <a:lnTo>
                  <a:pt x="959" y="1648"/>
                </a:lnTo>
                <a:lnTo>
                  <a:pt x="1053" y="1639"/>
                </a:lnTo>
                <a:lnTo>
                  <a:pt x="1075" y="1635"/>
                </a:lnTo>
                <a:lnTo>
                  <a:pt x="1074" y="1632"/>
                </a:lnTo>
                <a:lnTo>
                  <a:pt x="1072" y="1627"/>
                </a:lnTo>
                <a:lnTo>
                  <a:pt x="1068" y="1623"/>
                </a:lnTo>
                <a:lnTo>
                  <a:pt x="1061" y="1612"/>
                </a:lnTo>
                <a:lnTo>
                  <a:pt x="1039" y="1595"/>
                </a:lnTo>
                <a:lnTo>
                  <a:pt x="1025" y="1589"/>
                </a:lnTo>
                <a:lnTo>
                  <a:pt x="1039" y="1574"/>
                </a:lnTo>
                <a:lnTo>
                  <a:pt x="1078" y="1539"/>
                </a:lnTo>
                <a:lnTo>
                  <a:pt x="1177" y="1475"/>
                </a:lnTo>
                <a:lnTo>
                  <a:pt x="1269" y="1433"/>
                </a:lnTo>
                <a:lnTo>
                  <a:pt x="1287" y="1429"/>
                </a:lnTo>
                <a:lnTo>
                  <a:pt x="1282" y="1423"/>
                </a:lnTo>
                <a:lnTo>
                  <a:pt x="1267" y="1402"/>
                </a:lnTo>
                <a:lnTo>
                  <a:pt x="1255" y="1387"/>
                </a:lnTo>
                <a:lnTo>
                  <a:pt x="1255" y="1386"/>
                </a:lnTo>
                <a:lnTo>
                  <a:pt x="1250" y="1382"/>
                </a:lnTo>
                <a:lnTo>
                  <a:pt x="1245" y="1379"/>
                </a:lnTo>
                <a:lnTo>
                  <a:pt x="1239" y="1376"/>
                </a:lnTo>
                <a:lnTo>
                  <a:pt x="1224" y="1371"/>
                </a:lnTo>
                <a:lnTo>
                  <a:pt x="1181" y="1348"/>
                </a:lnTo>
                <a:lnTo>
                  <a:pt x="1135" y="1305"/>
                </a:lnTo>
                <a:lnTo>
                  <a:pt x="1117" y="1285"/>
                </a:lnTo>
                <a:lnTo>
                  <a:pt x="1084" y="1243"/>
                </a:lnTo>
                <a:lnTo>
                  <a:pt x="1034" y="1166"/>
                </a:lnTo>
                <a:lnTo>
                  <a:pt x="1009" y="1123"/>
                </a:lnTo>
                <a:lnTo>
                  <a:pt x="1008" y="1120"/>
                </a:lnTo>
                <a:lnTo>
                  <a:pt x="990" y="1113"/>
                </a:lnTo>
                <a:lnTo>
                  <a:pt x="938" y="1091"/>
                </a:lnTo>
                <a:lnTo>
                  <a:pt x="898" y="1073"/>
                </a:lnTo>
                <a:lnTo>
                  <a:pt x="896" y="1072"/>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49"/>
          <p:cNvSpPr/>
          <p:nvPr/>
        </p:nvSpPr>
        <p:spPr>
          <a:xfrm>
            <a:off x="2556000" y="3249720"/>
            <a:ext cx="1065240" cy="1385640"/>
          </a:xfrm>
          <a:custGeom>
            <a:avLst/>
            <a:gdLst>
              <a:gd name="textAreaLeft" fmla="*/ 0 w 1065240"/>
              <a:gd name="textAreaRight" fmla="*/ 1065240 w 1065240"/>
              <a:gd name="textAreaTop" fmla="*/ 0 h 1385640"/>
              <a:gd name="textAreaBottom" fmla="*/ 1386000 h 1385640"/>
            </a:gdLst>
            <a:ahLst/>
            <a:rect l="textAreaLeft" t="textAreaTop" r="textAreaRight" b="textAreaBottom"/>
            <a:pathLst>
              <a:path w="1343" h="1746">
                <a:moveTo>
                  <a:pt x="896" y="1072"/>
                </a:moveTo>
                <a:lnTo>
                  <a:pt x="928" y="1058"/>
                </a:lnTo>
                <a:lnTo>
                  <a:pt x="995" y="1034"/>
                </a:lnTo>
                <a:lnTo>
                  <a:pt x="1125" y="983"/>
                </a:lnTo>
                <a:lnTo>
                  <a:pt x="1235" y="881"/>
                </a:lnTo>
                <a:lnTo>
                  <a:pt x="1257" y="841"/>
                </a:lnTo>
                <a:lnTo>
                  <a:pt x="1269" y="846"/>
                </a:lnTo>
                <a:lnTo>
                  <a:pt x="1306" y="860"/>
                </a:lnTo>
                <a:lnTo>
                  <a:pt x="1335" y="872"/>
                </a:lnTo>
                <a:lnTo>
                  <a:pt x="1338" y="872"/>
                </a:lnTo>
                <a:lnTo>
                  <a:pt x="1340" y="865"/>
                </a:lnTo>
                <a:lnTo>
                  <a:pt x="1343" y="851"/>
                </a:lnTo>
                <a:lnTo>
                  <a:pt x="1342" y="837"/>
                </a:lnTo>
                <a:lnTo>
                  <a:pt x="1339" y="822"/>
                </a:lnTo>
                <a:lnTo>
                  <a:pt x="1326" y="779"/>
                </a:lnTo>
                <a:lnTo>
                  <a:pt x="1323" y="765"/>
                </a:lnTo>
                <a:lnTo>
                  <a:pt x="1321" y="762"/>
                </a:lnTo>
                <a:lnTo>
                  <a:pt x="1318" y="740"/>
                </a:lnTo>
                <a:lnTo>
                  <a:pt x="1308" y="666"/>
                </a:lnTo>
                <a:lnTo>
                  <a:pt x="1299" y="610"/>
                </a:lnTo>
                <a:lnTo>
                  <a:pt x="1299" y="606"/>
                </a:lnTo>
                <a:lnTo>
                  <a:pt x="1297" y="604"/>
                </a:lnTo>
                <a:lnTo>
                  <a:pt x="1284" y="585"/>
                </a:lnTo>
                <a:lnTo>
                  <a:pt x="1241" y="521"/>
                </a:lnTo>
                <a:lnTo>
                  <a:pt x="1208" y="472"/>
                </a:lnTo>
                <a:lnTo>
                  <a:pt x="1207" y="469"/>
                </a:lnTo>
                <a:lnTo>
                  <a:pt x="1207" y="462"/>
                </a:lnTo>
                <a:lnTo>
                  <a:pt x="1209" y="446"/>
                </a:lnTo>
                <a:lnTo>
                  <a:pt x="1220" y="415"/>
                </a:lnTo>
                <a:lnTo>
                  <a:pt x="1236" y="385"/>
                </a:lnTo>
                <a:lnTo>
                  <a:pt x="1240" y="377"/>
                </a:lnTo>
                <a:lnTo>
                  <a:pt x="1239" y="373"/>
                </a:lnTo>
                <a:lnTo>
                  <a:pt x="1235" y="352"/>
                </a:lnTo>
                <a:lnTo>
                  <a:pt x="1218" y="279"/>
                </a:lnTo>
                <a:lnTo>
                  <a:pt x="1207" y="223"/>
                </a:lnTo>
                <a:lnTo>
                  <a:pt x="1207" y="219"/>
                </a:lnTo>
                <a:lnTo>
                  <a:pt x="1205" y="217"/>
                </a:lnTo>
                <a:lnTo>
                  <a:pt x="1201" y="214"/>
                </a:lnTo>
                <a:lnTo>
                  <a:pt x="1198" y="210"/>
                </a:lnTo>
                <a:lnTo>
                  <a:pt x="1187" y="204"/>
                </a:lnTo>
                <a:lnTo>
                  <a:pt x="1162" y="190"/>
                </a:lnTo>
                <a:lnTo>
                  <a:pt x="1113" y="163"/>
                </a:lnTo>
                <a:lnTo>
                  <a:pt x="1121" y="139"/>
                </a:lnTo>
                <a:lnTo>
                  <a:pt x="1132" y="133"/>
                </a:lnTo>
                <a:lnTo>
                  <a:pt x="1138" y="124"/>
                </a:lnTo>
                <a:lnTo>
                  <a:pt x="1141" y="115"/>
                </a:lnTo>
                <a:lnTo>
                  <a:pt x="1141" y="104"/>
                </a:lnTo>
                <a:lnTo>
                  <a:pt x="1139" y="92"/>
                </a:lnTo>
                <a:lnTo>
                  <a:pt x="1135" y="81"/>
                </a:lnTo>
                <a:lnTo>
                  <a:pt x="1122" y="59"/>
                </a:lnTo>
                <a:lnTo>
                  <a:pt x="1108" y="38"/>
                </a:lnTo>
                <a:lnTo>
                  <a:pt x="1097" y="22"/>
                </a:lnTo>
                <a:lnTo>
                  <a:pt x="1092" y="18"/>
                </a:lnTo>
                <a:lnTo>
                  <a:pt x="1082" y="9"/>
                </a:lnTo>
                <a:lnTo>
                  <a:pt x="1073" y="3"/>
                </a:lnTo>
                <a:lnTo>
                  <a:pt x="1068" y="1"/>
                </a:lnTo>
                <a:lnTo>
                  <a:pt x="1063" y="0"/>
                </a:lnTo>
                <a:lnTo>
                  <a:pt x="1057" y="1"/>
                </a:lnTo>
                <a:lnTo>
                  <a:pt x="1051" y="4"/>
                </a:lnTo>
                <a:lnTo>
                  <a:pt x="1045" y="9"/>
                </a:lnTo>
                <a:lnTo>
                  <a:pt x="1037" y="16"/>
                </a:lnTo>
                <a:lnTo>
                  <a:pt x="1031" y="25"/>
                </a:lnTo>
                <a:lnTo>
                  <a:pt x="1025" y="35"/>
                </a:lnTo>
                <a:lnTo>
                  <a:pt x="1025" y="39"/>
                </a:lnTo>
                <a:lnTo>
                  <a:pt x="1025" y="43"/>
                </a:lnTo>
                <a:lnTo>
                  <a:pt x="1028" y="46"/>
                </a:lnTo>
                <a:lnTo>
                  <a:pt x="1030" y="48"/>
                </a:lnTo>
                <a:lnTo>
                  <a:pt x="1033" y="52"/>
                </a:lnTo>
                <a:lnTo>
                  <a:pt x="1040" y="56"/>
                </a:lnTo>
                <a:lnTo>
                  <a:pt x="1048" y="60"/>
                </a:lnTo>
                <a:lnTo>
                  <a:pt x="1057" y="64"/>
                </a:lnTo>
                <a:lnTo>
                  <a:pt x="1062" y="69"/>
                </a:lnTo>
                <a:lnTo>
                  <a:pt x="1064" y="72"/>
                </a:lnTo>
                <a:lnTo>
                  <a:pt x="1065" y="75"/>
                </a:lnTo>
                <a:lnTo>
                  <a:pt x="1066" y="79"/>
                </a:lnTo>
                <a:lnTo>
                  <a:pt x="1065" y="83"/>
                </a:lnTo>
                <a:lnTo>
                  <a:pt x="1062" y="88"/>
                </a:lnTo>
                <a:lnTo>
                  <a:pt x="1059" y="94"/>
                </a:lnTo>
                <a:lnTo>
                  <a:pt x="1046" y="108"/>
                </a:lnTo>
                <a:lnTo>
                  <a:pt x="1037" y="116"/>
                </a:lnTo>
                <a:lnTo>
                  <a:pt x="1017" y="132"/>
                </a:lnTo>
                <a:lnTo>
                  <a:pt x="977" y="153"/>
                </a:lnTo>
                <a:lnTo>
                  <a:pt x="941" y="163"/>
                </a:lnTo>
                <a:lnTo>
                  <a:pt x="909" y="165"/>
                </a:lnTo>
                <a:lnTo>
                  <a:pt x="882" y="162"/>
                </a:lnTo>
                <a:lnTo>
                  <a:pt x="861" y="156"/>
                </a:lnTo>
                <a:lnTo>
                  <a:pt x="855" y="153"/>
                </a:lnTo>
                <a:lnTo>
                  <a:pt x="854" y="154"/>
                </a:lnTo>
                <a:lnTo>
                  <a:pt x="851" y="163"/>
                </a:lnTo>
                <a:lnTo>
                  <a:pt x="839" y="188"/>
                </a:lnTo>
                <a:lnTo>
                  <a:pt x="829" y="215"/>
                </a:lnTo>
                <a:lnTo>
                  <a:pt x="829" y="219"/>
                </a:lnTo>
                <a:lnTo>
                  <a:pt x="827" y="219"/>
                </a:lnTo>
                <a:lnTo>
                  <a:pt x="816" y="217"/>
                </a:lnTo>
                <a:lnTo>
                  <a:pt x="780" y="210"/>
                </a:lnTo>
                <a:lnTo>
                  <a:pt x="752" y="206"/>
                </a:lnTo>
                <a:lnTo>
                  <a:pt x="751" y="205"/>
                </a:lnTo>
                <a:lnTo>
                  <a:pt x="750" y="198"/>
                </a:lnTo>
                <a:lnTo>
                  <a:pt x="747" y="177"/>
                </a:lnTo>
                <a:lnTo>
                  <a:pt x="746" y="160"/>
                </a:lnTo>
                <a:lnTo>
                  <a:pt x="746" y="159"/>
                </a:lnTo>
                <a:lnTo>
                  <a:pt x="736" y="154"/>
                </a:lnTo>
                <a:lnTo>
                  <a:pt x="712" y="144"/>
                </a:lnTo>
                <a:lnTo>
                  <a:pt x="653" y="124"/>
                </a:lnTo>
                <a:lnTo>
                  <a:pt x="594" y="112"/>
                </a:lnTo>
                <a:lnTo>
                  <a:pt x="581" y="111"/>
                </a:lnTo>
                <a:lnTo>
                  <a:pt x="581" y="101"/>
                </a:lnTo>
                <a:lnTo>
                  <a:pt x="586" y="85"/>
                </a:lnTo>
                <a:lnTo>
                  <a:pt x="591" y="71"/>
                </a:lnTo>
                <a:lnTo>
                  <a:pt x="599" y="40"/>
                </a:lnTo>
                <a:lnTo>
                  <a:pt x="592" y="8"/>
                </a:lnTo>
                <a:lnTo>
                  <a:pt x="588" y="8"/>
                </a:lnTo>
                <a:lnTo>
                  <a:pt x="561" y="8"/>
                </a:lnTo>
                <a:lnTo>
                  <a:pt x="468" y="8"/>
                </a:lnTo>
                <a:lnTo>
                  <a:pt x="397" y="8"/>
                </a:lnTo>
                <a:lnTo>
                  <a:pt x="394" y="8"/>
                </a:lnTo>
                <a:lnTo>
                  <a:pt x="394" y="22"/>
                </a:lnTo>
                <a:lnTo>
                  <a:pt x="400" y="52"/>
                </a:lnTo>
                <a:lnTo>
                  <a:pt x="426" y="114"/>
                </a:lnTo>
                <a:lnTo>
                  <a:pt x="460" y="164"/>
                </a:lnTo>
                <a:lnTo>
                  <a:pt x="469" y="172"/>
                </a:lnTo>
                <a:lnTo>
                  <a:pt x="468" y="177"/>
                </a:lnTo>
                <a:lnTo>
                  <a:pt x="466" y="186"/>
                </a:lnTo>
                <a:lnTo>
                  <a:pt x="459" y="207"/>
                </a:lnTo>
                <a:lnTo>
                  <a:pt x="454" y="228"/>
                </a:lnTo>
                <a:lnTo>
                  <a:pt x="454" y="232"/>
                </a:lnTo>
                <a:lnTo>
                  <a:pt x="449" y="233"/>
                </a:lnTo>
                <a:lnTo>
                  <a:pt x="444" y="234"/>
                </a:lnTo>
                <a:lnTo>
                  <a:pt x="436" y="238"/>
                </a:lnTo>
                <a:lnTo>
                  <a:pt x="428" y="242"/>
                </a:lnTo>
                <a:lnTo>
                  <a:pt x="417" y="251"/>
                </a:lnTo>
                <a:lnTo>
                  <a:pt x="416" y="252"/>
                </a:lnTo>
                <a:lnTo>
                  <a:pt x="412" y="249"/>
                </a:lnTo>
                <a:lnTo>
                  <a:pt x="401" y="240"/>
                </a:lnTo>
                <a:lnTo>
                  <a:pt x="394" y="233"/>
                </a:lnTo>
                <a:lnTo>
                  <a:pt x="394" y="232"/>
                </a:lnTo>
                <a:lnTo>
                  <a:pt x="394" y="238"/>
                </a:lnTo>
                <a:lnTo>
                  <a:pt x="394" y="254"/>
                </a:lnTo>
                <a:lnTo>
                  <a:pt x="391" y="299"/>
                </a:lnTo>
                <a:lnTo>
                  <a:pt x="384" y="318"/>
                </a:lnTo>
                <a:lnTo>
                  <a:pt x="380" y="325"/>
                </a:lnTo>
                <a:lnTo>
                  <a:pt x="375" y="330"/>
                </a:lnTo>
                <a:lnTo>
                  <a:pt x="368" y="331"/>
                </a:lnTo>
                <a:lnTo>
                  <a:pt x="367" y="331"/>
                </a:lnTo>
                <a:lnTo>
                  <a:pt x="363" y="331"/>
                </a:lnTo>
                <a:lnTo>
                  <a:pt x="347" y="331"/>
                </a:lnTo>
                <a:lnTo>
                  <a:pt x="334" y="331"/>
                </a:lnTo>
                <a:lnTo>
                  <a:pt x="328" y="330"/>
                </a:lnTo>
                <a:lnTo>
                  <a:pt x="322" y="327"/>
                </a:lnTo>
                <a:lnTo>
                  <a:pt x="316" y="321"/>
                </a:lnTo>
                <a:lnTo>
                  <a:pt x="301" y="306"/>
                </a:lnTo>
                <a:lnTo>
                  <a:pt x="269" y="271"/>
                </a:lnTo>
                <a:lnTo>
                  <a:pt x="253" y="252"/>
                </a:lnTo>
                <a:lnTo>
                  <a:pt x="251" y="254"/>
                </a:lnTo>
                <a:lnTo>
                  <a:pt x="243" y="262"/>
                </a:lnTo>
                <a:lnTo>
                  <a:pt x="210" y="291"/>
                </a:lnTo>
                <a:lnTo>
                  <a:pt x="187" y="312"/>
                </a:lnTo>
                <a:lnTo>
                  <a:pt x="186" y="313"/>
                </a:lnTo>
                <a:lnTo>
                  <a:pt x="186" y="316"/>
                </a:lnTo>
                <a:lnTo>
                  <a:pt x="190" y="334"/>
                </a:lnTo>
                <a:lnTo>
                  <a:pt x="206" y="392"/>
                </a:lnTo>
                <a:lnTo>
                  <a:pt x="218" y="436"/>
                </a:lnTo>
                <a:lnTo>
                  <a:pt x="219" y="438"/>
                </a:lnTo>
                <a:lnTo>
                  <a:pt x="217" y="440"/>
                </a:lnTo>
                <a:lnTo>
                  <a:pt x="205" y="453"/>
                </a:lnTo>
                <a:lnTo>
                  <a:pt x="166" y="496"/>
                </a:lnTo>
                <a:lnTo>
                  <a:pt x="138" y="529"/>
                </a:lnTo>
                <a:lnTo>
                  <a:pt x="136" y="530"/>
                </a:lnTo>
                <a:lnTo>
                  <a:pt x="141" y="539"/>
                </a:lnTo>
                <a:lnTo>
                  <a:pt x="157" y="561"/>
                </a:lnTo>
                <a:lnTo>
                  <a:pt x="169" y="578"/>
                </a:lnTo>
                <a:lnTo>
                  <a:pt x="170" y="578"/>
                </a:lnTo>
                <a:lnTo>
                  <a:pt x="165" y="581"/>
                </a:lnTo>
                <a:lnTo>
                  <a:pt x="143" y="599"/>
                </a:lnTo>
                <a:lnTo>
                  <a:pt x="66" y="657"/>
                </a:lnTo>
                <a:lnTo>
                  <a:pt x="7" y="701"/>
                </a:lnTo>
                <a:lnTo>
                  <a:pt x="3" y="703"/>
                </a:lnTo>
                <a:lnTo>
                  <a:pt x="2" y="708"/>
                </a:lnTo>
                <a:lnTo>
                  <a:pt x="2" y="740"/>
                </a:lnTo>
                <a:lnTo>
                  <a:pt x="1" y="853"/>
                </a:lnTo>
                <a:lnTo>
                  <a:pt x="0" y="946"/>
                </a:lnTo>
                <a:lnTo>
                  <a:pt x="0" y="953"/>
                </a:lnTo>
                <a:lnTo>
                  <a:pt x="1" y="957"/>
                </a:lnTo>
                <a:lnTo>
                  <a:pt x="8" y="985"/>
                </a:lnTo>
                <a:lnTo>
                  <a:pt x="33" y="1079"/>
                </a:lnTo>
                <a:lnTo>
                  <a:pt x="53" y="1150"/>
                </a:lnTo>
                <a:lnTo>
                  <a:pt x="55" y="1153"/>
                </a:lnTo>
                <a:lnTo>
                  <a:pt x="59" y="1159"/>
                </a:lnTo>
                <a:lnTo>
                  <a:pt x="71" y="1170"/>
                </a:lnTo>
                <a:lnTo>
                  <a:pt x="94" y="1196"/>
                </a:lnTo>
                <a:lnTo>
                  <a:pt x="101" y="1208"/>
                </a:lnTo>
                <a:lnTo>
                  <a:pt x="105" y="1220"/>
                </a:lnTo>
                <a:lnTo>
                  <a:pt x="106" y="1225"/>
                </a:lnTo>
                <a:lnTo>
                  <a:pt x="105" y="1230"/>
                </a:lnTo>
                <a:lnTo>
                  <a:pt x="105" y="1238"/>
                </a:lnTo>
                <a:lnTo>
                  <a:pt x="105" y="1251"/>
                </a:lnTo>
                <a:lnTo>
                  <a:pt x="99" y="1266"/>
                </a:lnTo>
                <a:lnTo>
                  <a:pt x="97" y="1271"/>
                </a:lnTo>
                <a:lnTo>
                  <a:pt x="116" y="1278"/>
                </a:lnTo>
                <a:lnTo>
                  <a:pt x="156" y="1285"/>
                </a:lnTo>
                <a:lnTo>
                  <a:pt x="194" y="1288"/>
                </a:lnTo>
                <a:lnTo>
                  <a:pt x="267" y="1306"/>
                </a:lnTo>
                <a:lnTo>
                  <a:pt x="321" y="1350"/>
                </a:lnTo>
                <a:lnTo>
                  <a:pt x="320" y="1356"/>
                </a:lnTo>
                <a:lnTo>
                  <a:pt x="318" y="1373"/>
                </a:lnTo>
                <a:lnTo>
                  <a:pt x="317" y="1386"/>
                </a:lnTo>
                <a:lnTo>
                  <a:pt x="306" y="1415"/>
                </a:lnTo>
                <a:lnTo>
                  <a:pt x="282" y="1465"/>
                </a:lnTo>
                <a:lnTo>
                  <a:pt x="233" y="1551"/>
                </a:lnTo>
                <a:lnTo>
                  <a:pt x="216" y="1655"/>
                </a:lnTo>
                <a:lnTo>
                  <a:pt x="222" y="1688"/>
                </a:lnTo>
                <a:lnTo>
                  <a:pt x="228" y="1688"/>
                </a:lnTo>
                <a:lnTo>
                  <a:pt x="245" y="1687"/>
                </a:lnTo>
                <a:lnTo>
                  <a:pt x="292" y="1682"/>
                </a:lnTo>
                <a:lnTo>
                  <a:pt x="312" y="1678"/>
                </a:lnTo>
                <a:lnTo>
                  <a:pt x="320" y="1675"/>
                </a:lnTo>
                <a:lnTo>
                  <a:pt x="325" y="1671"/>
                </a:lnTo>
                <a:lnTo>
                  <a:pt x="327" y="1667"/>
                </a:lnTo>
                <a:lnTo>
                  <a:pt x="325" y="1662"/>
                </a:lnTo>
                <a:lnTo>
                  <a:pt x="320" y="1648"/>
                </a:lnTo>
                <a:lnTo>
                  <a:pt x="317" y="1636"/>
                </a:lnTo>
                <a:lnTo>
                  <a:pt x="317" y="1635"/>
                </a:lnTo>
                <a:lnTo>
                  <a:pt x="322" y="1623"/>
                </a:lnTo>
                <a:lnTo>
                  <a:pt x="333" y="1615"/>
                </a:lnTo>
                <a:lnTo>
                  <a:pt x="346" y="1613"/>
                </a:lnTo>
                <a:lnTo>
                  <a:pt x="361" y="1614"/>
                </a:lnTo>
                <a:lnTo>
                  <a:pt x="377" y="1618"/>
                </a:lnTo>
                <a:lnTo>
                  <a:pt x="412" y="1634"/>
                </a:lnTo>
                <a:lnTo>
                  <a:pt x="446" y="1653"/>
                </a:lnTo>
                <a:lnTo>
                  <a:pt x="472" y="1670"/>
                </a:lnTo>
                <a:lnTo>
                  <a:pt x="482" y="1677"/>
                </a:lnTo>
                <a:lnTo>
                  <a:pt x="485" y="1677"/>
                </a:lnTo>
                <a:lnTo>
                  <a:pt x="496" y="1676"/>
                </a:lnTo>
                <a:lnTo>
                  <a:pt x="525" y="1672"/>
                </a:lnTo>
                <a:lnTo>
                  <a:pt x="558" y="1670"/>
                </a:lnTo>
                <a:lnTo>
                  <a:pt x="566" y="1669"/>
                </a:lnTo>
                <a:lnTo>
                  <a:pt x="581" y="1682"/>
                </a:lnTo>
                <a:lnTo>
                  <a:pt x="628" y="1717"/>
                </a:lnTo>
                <a:lnTo>
                  <a:pt x="663" y="1745"/>
                </a:lnTo>
                <a:lnTo>
                  <a:pt x="665" y="1746"/>
                </a:lnTo>
                <a:lnTo>
                  <a:pt x="673" y="1739"/>
                </a:lnTo>
                <a:lnTo>
                  <a:pt x="692" y="1723"/>
                </a:lnTo>
                <a:lnTo>
                  <a:pt x="735" y="1697"/>
                </a:lnTo>
                <a:lnTo>
                  <a:pt x="782" y="1680"/>
                </a:lnTo>
                <a:lnTo>
                  <a:pt x="795" y="1677"/>
                </a:lnTo>
                <a:lnTo>
                  <a:pt x="815" y="1669"/>
                </a:lnTo>
                <a:lnTo>
                  <a:pt x="861" y="1659"/>
                </a:lnTo>
                <a:lnTo>
                  <a:pt x="959" y="1648"/>
                </a:lnTo>
                <a:lnTo>
                  <a:pt x="1053" y="1639"/>
                </a:lnTo>
                <a:lnTo>
                  <a:pt x="1075" y="1635"/>
                </a:lnTo>
                <a:lnTo>
                  <a:pt x="1074" y="1632"/>
                </a:lnTo>
                <a:lnTo>
                  <a:pt x="1072" y="1627"/>
                </a:lnTo>
                <a:lnTo>
                  <a:pt x="1068" y="1623"/>
                </a:lnTo>
                <a:lnTo>
                  <a:pt x="1061" y="1612"/>
                </a:lnTo>
                <a:lnTo>
                  <a:pt x="1039" y="1595"/>
                </a:lnTo>
                <a:lnTo>
                  <a:pt x="1025" y="1589"/>
                </a:lnTo>
                <a:lnTo>
                  <a:pt x="1039" y="1574"/>
                </a:lnTo>
                <a:lnTo>
                  <a:pt x="1078" y="1539"/>
                </a:lnTo>
                <a:lnTo>
                  <a:pt x="1177" y="1475"/>
                </a:lnTo>
                <a:lnTo>
                  <a:pt x="1269" y="1433"/>
                </a:lnTo>
                <a:lnTo>
                  <a:pt x="1287" y="1429"/>
                </a:lnTo>
                <a:lnTo>
                  <a:pt x="1282" y="1423"/>
                </a:lnTo>
                <a:lnTo>
                  <a:pt x="1267" y="1402"/>
                </a:lnTo>
                <a:lnTo>
                  <a:pt x="1255" y="1387"/>
                </a:lnTo>
                <a:lnTo>
                  <a:pt x="1255" y="1386"/>
                </a:lnTo>
                <a:lnTo>
                  <a:pt x="1250" y="1382"/>
                </a:lnTo>
                <a:lnTo>
                  <a:pt x="1245" y="1379"/>
                </a:lnTo>
                <a:lnTo>
                  <a:pt x="1239" y="1376"/>
                </a:lnTo>
                <a:lnTo>
                  <a:pt x="1224" y="1371"/>
                </a:lnTo>
                <a:lnTo>
                  <a:pt x="1181" y="1348"/>
                </a:lnTo>
                <a:lnTo>
                  <a:pt x="1135" y="1305"/>
                </a:lnTo>
                <a:lnTo>
                  <a:pt x="1117" y="1285"/>
                </a:lnTo>
                <a:lnTo>
                  <a:pt x="1084" y="1243"/>
                </a:lnTo>
                <a:lnTo>
                  <a:pt x="1034" y="1166"/>
                </a:lnTo>
                <a:lnTo>
                  <a:pt x="1009" y="1123"/>
                </a:lnTo>
                <a:lnTo>
                  <a:pt x="1008" y="1120"/>
                </a:lnTo>
                <a:lnTo>
                  <a:pt x="990" y="1113"/>
                </a:lnTo>
                <a:lnTo>
                  <a:pt x="938" y="1091"/>
                </a:lnTo>
                <a:lnTo>
                  <a:pt x="898" y="1073"/>
                </a:lnTo>
                <a:lnTo>
                  <a:pt x="896" y="1072"/>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50"/>
          <p:cNvSpPr/>
          <p:nvPr/>
        </p:nvSpPr>
        <p:spPr>
          <a:xfrm>
            <a:off x="2241720" y="3505320"/>
            <a:ext cx="485640" cy="500040"/>
          </a:xfrm>
          <a:custGeom>
            <a:avLst/>
            <a:gdLst>
              <a:gd name="textAreaLeft" fmla="*/ 0 w 485640"/>
              <a:gd name="textAreaRight" fmla="*/ 486000 w 485640"/>
              <a:gd name="textAreaTop" fmla="*/ 0 h 500040"/>
              <a:gd name="textAreaBottom" fmla="*/ 500400 h 500040"/>
            </a:gdLst>
            <a:ahLst/>
            <a:rect l="textAreaLeft" t="textAreaTop" r="textAreaRight" b="textAreaBottom"/>
            <a:pathLst>
              <a:path w="613" h="629">
                <a:moveTo>
                  <a:pt x="396" y="382"/>
                </a:moveTo>
                <a:lnTo>
                  <a:pt x="400" y="380"/>
                </a:lnTo>
                <a:lnTo>
                  <a:pt x="422" y="363"/>
                </a:lnTo>
                <a:lnTo>
                  <a:pt x="500" y="305"/>
                </a:lnTo>
                <a:lnTo>
                  <a:pt x="559" y="261"/>
                </a:lnTo>
                <a:lnTo>
                  <a:pt x="564" y="258"/>
                </a:lnTo>
                <a:lnTo>
                  <a:pt x="558" y="251"/>
                </a:lnTo>
                <a:lnTo>
                  <a:pt x="544" y="228"/>
                </a:lnTo>
                <a:lnTo>
                  <a:pt x="534" y="209"/>
                </a:lnTo>
                <a:lnTo>
                  <a:pt x="534" y="208"/>
                </a:lnTo>
                <a:lnTo>
                  <a:pt x="535" y="207"/>
                </a:lnTo>
                <a:lnTo>
                  <a:pt x="545" y="194"/>
                </a:lnTo>
                <a:lnTo>
                  <a:pt x="583" y="151"/>
                </a:lnTo>
                <a:lnTo>
                  <a:pt x="611" y="119"/>
                </a:lnTo>
                <a:lnTo>
                  <a:pt x="613" y="117"/>
                </a:lnTo>
                <a:lnTo>
                  <a:pt x="609" y="103"/>
                </a:lnTo>
                <a:lnTo>
                  <a:pt x="598" y="62"/>
                </a:lnTo>
                <a:lnTo>
                  <a:pt x="590" y="30"/>
                </a:lnTo>
                <a:lnTo>
                  <a:pt x="590" y="28"/>
                </a:lnTo>
                <a:lnTo>
                  <a:pt x="587" y="23"/>
                </a:lnTo>
                <a:lnTo>
                  <a:pt x="584" y="18"/>
                </a:lnTo>
                <a:lnTo>
                  <a:pt x="579" y="14"/>
                </a:lnTo>
                <a:lnTo>
                  <a:pt x="572" y="10"/>
                </a:lnTo>
                <a:lnTo>
                  <a:pt x="555" y="4"/>
                </a:lnTo>
                <a:lnTo>
                  <a:pt x="534" y="1"/>
                </a:lnTo>
                <a:lnTo>
                  <a:pt x="482" y="0"/>
                </a:lnTo>
                <a:lnTo>
                  <a:pt x="426" y="9"/>
                </a:lnTo>
                <a:lnTo>
                  <a:pt x="375" y="27"/>
                </a:lnTo>
                <a:lnTo>
                  <a:pt x="334" y="54"/>
                </a:lnTo>
                <a:lnTo>
                  <a:pt x="335" y="69"/>
                </a:lnTo>
                <a:lnTo>
                  <a:pt x="343" y="95"/>
                </a:lnTo>
                <a:lnTo>
                  <a:pt x="353" y="120"/>
                </a:lnTo>
                <a:lnTo>
                  <a:pt x="361" y="143"/>
                </a:lnTo>
                <a:lnTo>
                  <a:pt x="361" y="167"/>
                </a:lnTo>
                <a:lnTo>
                  <a:pt x="347" y="194"/>
                </a:lnTo>
                <a:lnTo>
                  <a:pt x="334" y="208"/>
                </a:lnTo>
                <a:lnTo>
                  <a:pt x="332" y="208"/>
                </a:lnTo>
                <a:lnTo>
                  <a:pt x="323" y="208"/>
                </a:lnTo>
                <a:lnTo>
                  <a:pt x="292" y="208"/>
                </a:lnTo>
                <a:lnTo>
                  <a:pt x="269" y="208"/>
                </a:lnTo>
                <a:lnTo>
                  <a:pt x="268" y="208"/>
                </a:lnTo>
                <a:lnTo>
                  <a:pt x="264" y="206"/>
                </a:lnTo>
                <a:lnTo>
                  <a:pt x="257" y="199"/>
                </a:lnTo>
                <a:lnTo>
                  <a:pt x="252" y="194"/>
                </a:lnTo>
                <a:lnTo>
                  <a:pt x="252" y="193"/>
                </a:lnTo>
                <a:lnTo>
                  <a:pt x="250" y="189"/>
                </a:lnTo>
                <a:lnTo>
                  <a:pt x="248" y="175"/>
                </a:lnTo>
                <a:lnTo>
                  <a:pt x="241" y="137"/>
                </a:lnTo>
                <a:lnTo>
                  <a:pt x="234" y="105"/>
                </a:lnTo>
                <a:lnTo>
                  <a:pt x="234" y="100"/>
                </a:lnTo>
                <a:lnTo>
                  <a:pt x="226" y="117"/>
                </a:lnTo>
                <a:lnTo>
                  <a:pt x="211" y="152"/>
                </a:lnTo>
                <a:lnTo>
                  <a:pt x="180" y="229"/>
                </a:lnTo>
                <a:lnTo>
                  <a:pt x="135" y="302"/>
                </a:lnTo>
                <a:lnTo>
                  <a:pt x="120" y="318"/>
                </a:lnTo>
                <a:lnTo>
                  <a:pt x="110" y="327"/>
                </a:lnTo>
                <a:lnTo>
                  <a:pt x="86" y="344"/>
                </a:lnTo>
                <a:lnTo>
                  <a:pt x="35" y="384"/>
                </a:lnTo>
                <a:lnTo>
                  <a:pt x="13" y="406"/>
                </a:lnTo>
                <a:lnTo>
                  <a:pt x="1" y="428"/>
                </a:lnTo>
                <a:lnTo>
                  <a:pt x="0" y="440"/>
                </a:lnTo>
                <a:lnTo>
                  <a:pt x="9" y="444"/>
                </a:lnTo>
                <a:lnTo>
                  <a:pt x="40" y="455"/>
                </a:lnTo>
                <a:lnTo>
                  <a:pt x="63" y="464"/>
                </a:lnTo>
                <a:lnTo>
                  <a:pt x="65" y="464"/>
                </a:lnTo>
                <a:lnTo>
                  <a:pt x="66" y="464"/>
                </a:lnTo>
                <a:lnTo>
                  <a:pt x="80" y="461"/>
                </a:lnTo>
                <a:lnTo>
                  <a:pt x="126" y="452"/>
                </a:lnTo>
                <a:lnTo>
                  <a:pt x="161" y="445"/>
                </a:lnTo>
                <a:lnTo>
                  <a:pt x="164" y="444"/>
                </a:lnTo>
                <a:lnTo>
                  <a:pt x="167" y="446"/>
                </a:lnTo>
                <a:lnTo>
                  <a:pt x="191" y="457"/>
                </a:lnTo>
                <a:lnTo>
                  <a:pt x="275" y="495"/>
                </a:lnTo>
                <a:lnTo>
                  <a:pt x="338" y="523"/>
                </a:lnTo>
                <a:lnTo>
                  <a:pt x="343" y="524"/>
                </a:lnTo>
                <a:lnTo>
                  <a:pt x="342" y="526"/>
                </a:lnTo>
                <a:lnTo>
                  <a:pt x="339" y="536"/>
                </a:lnTo>
                <a:lnTo>
                  <a:pt x="332" y="572"/>
                </a:lnTo>
                <a:lnTo>
                  <a:pt x="327" y="600"/>
                </a:lnTo>
                <a:lnTo>
                  <a:pt x="327" y="601"/>
                </a:lnTo>
                <a:lnTo>
                  <a:pt x="334" y="603"/>
                </a:lnTo>
                <a:lnTo>
                  <a:pt x="348" y="606"/>
                </a:lnTo>
                <a:lnTo>
                  <a:pt x="372" y="612"/>
                </a:lnTo>
                <a:lnTo>
                  <a:pt x="391" y="625"/>
                </a:lnTo>
                <a:lnTo>
                  <a:pt x="396" y="629"/>
                </a:lnTo>
                <a:lnTo>
                  <a:pt x="396" y="625"/>
                </a:lnTo>
                <a:lnTo>
                  <a:pt x="396" y="591"/>
                </a:lnTo>
                <a:lnTo>
                  <a:pt x="396" y="475"/>
                </a:lnTo>
                <a:lnTo>
                  <a:pt x="396" y="387"/>
                </a:lnTo>
                <a:lnTo>
                  <a:pt x="396" y="3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Freeform 51"/>
          <p:cNvSpPr/>
          <p:nvPr/>
        </p:nvSpPr>
        <p:spPr>
          <a:xfrm>
            <a:off x="2241720" y="3505320"/>
            <a:ext cx="485640" cy="500040"/>
          </a:xfrm>
          <a:custGeom>
            <a:avLst/>
            <a:gdLst>
              <a:gd name="textAreaLeft" fmla="*/ 0 w 485640"/>
              <a:gd name="textAreaRight" fmla="*/ 486000 w 485640"/>
              <a:gd name="textAreaTop" fmla="*/ 0 h 500040"/>
              <a:gd name="textAreaBottom" fmla="*/ 500400 h 500040"/>
            </a:gdLst>
            <a:ahLst/>
            <a:rect l="textAreaLeft" t="textAreaTop" r="textAreaRight" b="textAreaBottom"/>
            <a:pathLst>
              <a:path w="613" h="629">
                <a:moveTo>
                  <a:pt x="396" y="382"/>
                </a:moveTo>
                <a:lnTo>
                  <a:pt x="400" y="380"/>
                </a:lnTo>
                <a:lnTo>
                  <a:pt x="422" y="363"/>
                </a:lnTo>
                <a:lnTo>
                  <a:pt x="500" y="305"/>
                </a:lnTo>
                <a:lnTo>
                  <a:pt x="559" y="261"/>
                </a:lnTo>
                <a:lnTo>
                  <a:pt x="564" y="258"/>
                </a:lnTo>
                <a:lnTo>
                  <a:pt x="558" y="251"/>
                </a:lnTo>
                <a:lnTo>
                  <a:pt x="544" y="228"/>
                </a:lnTo>
                <a:lnTo>
                  <a:pt x="534" y="209"/>
                </a:lnTo>
                <a:lnTo>
                  <a:pt x="534" y="208"/>
                </a:lnTo>
                <a:lnTo>
                  <a:pt x="535" y="207"/>
                </a:lnTo>
                <a:lnTo>
                  <a:pt x="545" y="194"/>
                </a:lnTo>
                <a:lnTo>
                  <a:pt x="583" y="151"/>
                </a:lnTo>
                <a:lnTo>
                  <a:pt x="611" y="119"/>
                </a:lnTo>
                <a:lnTo>
                  <a:pt x="613" y="117"/>
                </a:lnTo>
                <a:lnTo>
                  <a:pt x="609" y="103"/>
                </a:lnTo>
                <a:lnTo>
                  <a:pt x="598" y="62"/>
                </a:lnTo>
                <a:lnTo>
                  <a:pt x="590" y="30"/>
                </a:lnTo>
                <a:lnTo>
                  <a:pt x="590" y="28"/>
                </a:lnTo>
                <a:lnTo>
                  <a:pt x="587" y="23"/>
                </a:lnTo>
                <a:lnTo>
                  <a:pt x="584" y="18"/>
                </a:lnTo>
                <a:lnTo>
                  <a:pt x="579" y="14"/>
                </a:lnTo>
                <a:lnTo>
                  <a:pt x="572" y="10"/>
                </a:lnTo>
                <a:lnTo>
                  <a:pt x="555" y="4"/>
                </a:lnTo>
                <a:lnTo>
                  <a:pt x="534" y="1"/>
                </a:lnTo>
                <a:lnTo>
                  <a:pt x="482" y="0"/>
                </a:lnTo>
                <a:lnTo>
                  <a:pt x="426" y="9"/>
                </a:lnTo>
                <a:lnTo>
                  <a:pt x="375" y="27"/>
                </a:lnTo>
                <a:lnTo>
                  <a:pt x="334" y="54"/>
                </a:lnTo>
                <a:lnTo>
                  <a:pt x="335" y="69"/>
                </a:lnTo>
                <a:lnTo>
                  <a:pt x="343" y="95"/>
                </a:lnTo>
                <a:lnTo>
                  <a:pt x="353" y="120"/>
                </a:lnTo>
                <a:lnTo>
                  <a:pt x="361" y="143"/>
                </a:lnTo>
                <a:lnTo>
                  <a:pt x="361" y="167"/>
                </a:lnTo>
                <a:lnTo>
                  <a:pt x="347" y="194"/>
                </a:lnTo>
                <a:lnTo>
                  <a:pt x="334" y="208"/>
                </a:lnTo>
                <a:lnTo>
                  <a:pt x="332" y="208"/>
                </a:lnTo>
                <a:lnTo>
                  <a:pt x="323" y="208"/>
                </a:lnTo>
                <a:lnTo>
                  <a:pt x="292" y="208"/>
                </a:lnTo>
                <a:lnTo>
                  <a:pt x="269" y="208"/>
                </a:lnTo>
                <a:lnTo>
                  <a:pt x="268" y="208"/>
                </a:lnTo>
                <a:lnTo>
                  <a:pt x="264" y="206"/>
                </a:lnTo>
                <a:lnTo>
                  <a:pt x="257" y="199"/>
                </a:lnTo>
                <a:lnTo>
                  <a:pt x="252" y="194"/>
                </a:lnTo>
                <a:lnTo>
                  <a:pt x="252" y="193"/>
                </a:lnTo>
                <a:lnTo>
                  <a:pt x="250" y="189"/>
                </a:lnTo>
                <a:lnTo>
                  <a:pt x="248" y="175"/>
                </a:lnTo>
                <a:lnTo>
                  <a:pt x="241" y="137"/>
                </a:lnTo>
                <a:lnTo>
                  <a:pt x="234" y="105"/>
                </a:lnTo>
                <a:lnTo>
                  <a:pt x="234" y="100"/>
                </a:lnTo>
                <a:lnTo>
                  <a:pt x="226" y="117"/>
                </a:lnTo>
                <a:lnTo>
                  <a:pt x="211" y="152"/>
                </a:lnTo>
                <a:lnTo>
                  <a:pt x="180" y="229"/>
                </a:lnTo>
                <a:lnTo>
                  <a:pt x="135" y="302"/>
                </a:lnTo>
                <a:lnTo>
                  <a:pt x="120" y="318"/>
                </a:lnTo>
                <a:lnTo>
                  <a:pt x="110" y="327"/>
                </a:lnTo>
                <a:lnTo>
                  <a:pt x="86" y="344"/>
                </a:lnTo>
                <a:lnTo>
                  <a:pt x="35" y="384"/>
                </a:lnTo>
                <a:lnTo>
                  <a:pt x="13" y="406"/>
                </a:lnTo>
                <a:lnTo>
                  <a:pt x="1" y="428"/>
                </a:lnTo>
                <a:lnTo>
                  <a:pt x="0" y="440"/>
                </a:lnTo>
                <a:lnTo>
                  <a:pt x="9" y="444"/>
                </a:lnTo>
                <a:lnTo>
                  <a:pt x="40" y="455"/>
                </a:lnTo>
                <a:lnTo>
                  <a:pt x="63" y="464"/>
                </a:lnTo>
                <a:lnTo>
                  <a:pt x="65" y="464"/>
                </a:lnTo>
                <a:lnTo>
                  <a:pt x="66" y="464"/>
                </a:lnTo>
                <a:lnTo>
                  <a:pt x="80" y="461"/>
                </a:lnTo>
                <a:lnTo>
                  <a:pt x="126" y="452"/>
                </a:lnTo>
                <a:lnTo>
                  <a:pt x="161" y="445"/>
                </a:lnTo>
                <a:lnTo>
                  <a:pt x="164" y="444"/>
                </a:lnTo>
                <a:lnTo>
                  <a:pt x="167" y="446"/>
                </a:lnTo>
                <a:lnTo>
                  <a:pt x="191" y="457"/>
                </a:lnTo>
                <a:lnTo>
                  <a:pt x="275" y="495"/>
                </a:lnTo>
                <a:lnTo>
                  <a:pt x="338" y="523"/>
                </a:lnTo>
                <a:lnTo>
                  <a:pt x="343" y="524"/>
                </a:lnTo>
                <a:lnTo>
                  <a:pt x="342" y="526"/>
                </a:lnTo>
                <a:lnTo>
                  <a:pt x="339" y="536"/>
                </a:lnTo>
                <a:lnTo>
                  <a:pt x="332" y="572"/>
                </a:lnTo>
                <a:lnTo>
                  <a:pt x="327" y="600"/>
                </a:lnTo>
                <a:lnTo>
                  <a:pt x="327" y="601"/>
                </a:lnTo>
                <a:lnTo>
                  <a:pt x="334" y="603"/>
                </a:lnTo>
                <a:lnTo>
                  <a:pt x="348" y="606"/>
                </a:lnTo>
                <a:lnTo>
                  <a:pt x="372" y="612"/>
                </a:lnTo>
                <a:lnTo>
                  <a:pt x="391" y="625"/>
                </a:lnTo>
                <a:lnTo>
                  <a:pt x="396" y="629"/>
                </a:lnTo>
                <a:lnTo>
                  <a:pt x="396" y="625"/>
                </a:lnTo>
                <a:lnTo>
                  <a:pt x="396" y="591"/>
                </a:lnTo>
                <a:lnTo>
                  <a:pt x="396" y="475"/>
                </a:lnTo>
                <a:lnTo>
                  <a:pt x="396" y="387"/>
                </a:lnTo>
                <a:lnTo>
                  <a:pt x="396" y="382"/>
                </a:lnTo>
              </a:path>
            </a:pathLst>
          </a:custGeom>
          <a:solidFill>
            <a:srgbClr val="ff0000"/>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52"/>
          <p:cNvSpPr/>
          <p:nvPr/>
        </p:nvSpPr>
        <p:spPr>
          <a:xfrm>
            <a:off x="614520" y="2943360"/>
            <a:ext cx="582480" cy="618840"/>
          </a:xfrm>
          <a:custGeom>
            <a:avLst/>
            <a:gdLst>
              <a:gd name="textAreaLeft" fmla="*/ 0 w 582480"/>
              <a:gd name="textAreaRight" fmla="*/ 582840 w 582480"/>
              <a:gd name="textAreaTop" fmla="*/ 0 h 618840"/>
              <a:gd name="textAreaBottom" fmla="*/ 618840 h 618840"/>
            </a:gdLst>
            <a:ahLst/>
            <a:rect l="textAreaLeft" t="textAreaTop" r="textAreaRight" b="textAreaBottom"/>
            <a:pathLst>
              <a:path w="735" h="781">
                <a:moveTo>
                  <a:pt x="506" y="172"/>
                </a:moveTo>
                <a:lnTo>
                  <a:pt x="505" y="180"/>
                </a:lnTo>
                <a:lnTo>
                  <a:pt x="507" y="189"/>
                </a:lnTo>
                <a:lnTo>
                  <a:pt x="512" y="200"/>
                </a:lnTo>
                <a:lnTo>
                  <a:pt x="526" y="223"/>
                </a:lnTo>
                <a:lnTo>
                  <a:pt x="547" y="243"/>
                </a:lnTo>
                <a:lnTo>
                  <a:pt x="574" y="255"/>
                </a:lnTo>
                <a:lnTo>
                  <a:pt x="604" y="256"/>
                </a:lnTo>
                <a:lnTo>
                  <a:pt x="621" y="250"/>
                </a:lnTo>
                <a:lnTo>
                  <a:pt x="630" y="260"/>
                </a:lnTo>
                <a:lnTo>
                  <a:pt x="652" y="285"/>
                </a:lnTo>
                <a:lnTo>
                  <a:pt x="702" y="350"/>
                </a:lnTo>
                <a:lnTo>
                  <a:pt x="733" y="414"/>
                </a:lnTo>
                <a:lnTo>
                  <a:pt x="735" y="426"/>
                </a:lnTo>
                <a:lnTo>
                  <a:pt x="733" y="506"/>
                </a:lnTo>
                <a:lnTo>
                  <a:pt x="717" y="570"/>
                </a:lnTo>
                <a:lnTo>
                  <a:pt x="689" y="623"/>
                </a:lnTo>
                <a:lnTo>
                  <a:pt x="648" y="665"/>
                </a:lnTo>
                <a:lnTo>
                  <a:pt x="599" y="696"/>
                </a:lnTo>
                <a:lnTo>
                  <a:pt x="543" y="721"/>
                </a:lnTo>
                <a:lnTo>
                  <a:pt x="413" y="751"/>
                </a:lnTo>
                <a:lnTo>
                  <a:pt x="276" y="768"/>
                </a:lnTo>
                <a:lnTo>
                  <a:pt x="145" y="781"/>
                </a:lnTo>
                <a:lnTo>
                  <a:pt x="101" y="759"/>
                </a:lnTo>
                <a:lnTo>
                  <a:pt x="42" y="731"/>
                </a:lnTo>
                <a:lnTo>
                  <a:pt x="12" y="717"/>
                </a:lnTo>
                <a:lnTo>
                  <a:pt x="8" y="715"/>
                </a:lnTo>
                <a:lnTo>
                  <a:pt x="6" y="713"/>
                </a:lnTo>
                <a:lnTo>
                  <a:pt x="4" y="710"/>
                </a:lnTo>
                <a:lnTo>
                  <a:pt x="4" y="707"/>
                </a:lnTo>
                <a:lnTo>
                  <a:pt x="6" y="704"/>
                </a:lnTo>
                <a:lnTo>
                  <a:pt x="8" y="700"/>
                </a:lnTo>
                <a:lnTo>
                  <a:pt x="14" y="692"/>
                </a:lnTo>
                <a:lnTo>
                  <a:pt x="33" y="662"/>
                </a:lnTo>
                <a:lnTo>
                  <a:pt x="44" y="637"/>
                </a:lnTo>
                <a:lnTo>
                  <a:pt x="42" y="631"/>
                </a:lnTo>
                <a:lnTo>
                  <a:pt x="38" y="627"/>
                </a:lnTo>
                <a:lnTo>
                  <a:pt x="28" y="618"/>
                </a:lnTo>
                <a:lnTo>
                  <a:pt x="6" y="595"/>
                </a:lnTo>
                <a:lnTo>
                  <a:pt x="0" y="581"/>
                </a:lnTo>
                <a:lnTo>
                  <a:pt x="2" y="578"/>
                </a:lnTo>
                <a:lnTo>
                  <a:pt x="8" y="575"/>
                </a:lnTo>
                <a:lnTo>
                  <a:pt x="15" y="573"/>
                </a:lnTo>
                <a:lnTo>
                  <a:pt x="33" y="568"/>
                </a:lnTo>
                <a:lnTo>
                  <a:pt x="72" y="559"/>
                </a:lnTo>
                <a:lnTo>
                  <a:pt x="85" y="548"/>
                </a:lnTo>
                <a:lnTo>
                  <a:pt x="84" y="543"/>
                </a:lnTo>
                <a:lnTo>
                  <a:pt x="81" y="540"/>
                </a:lnTo>
                <a:lnTo>
                  <a:pt x="76" y="536"/>
                </a:lnTo>
                <a:lnTo>
                  <a:pt x="71" y="534"/>
                </a:lnTo>
                <a:lnTo>
                  <a:pt x="59" y="528"/>
                </a:lnTo>
                <a:lnTo>
                  <a:pt x="47" y="523"/>
                </a:lnTo>
                <a:lnTo>
                  <a:pt x="37" y="516"/>
                </a:lnTo>
                <a:lnTo>
                  <a:pt x="32" y="507"/>
                </a:lnTo>
                <a:lnTo>
                  <a:pt x="31" y="488"/>
                </a:lnTo>
                <a:lnTo>
                  <a:pt x="36" y="477"/>
                </a:lnTo>
                <a:lnTo>
                  <a:pt x="40" y="473"/>
                </a:lnTo>
                <a:lnTo>
                  <a:pt x="44" y="470"/>
                </a:lnTo>
                <a:lnTo>
                  <a:pt x="48" y="468"/>
                </a:lnTo>
                <a:lnTo>
                  <a:pt x="55" y="468"/>
                </a:lnTo>
                <a:lnTo>
                  <a:pt x="61" y="468"/>
                </a:lnTo>
                <a:lnTo>
                  <a:pt x="74" y="470"/>
                </a:lnTo>
                <a:lnTo>
                  <a:pt x="88" y="475"/>
                </a:lnTo>
                <a:lnTo>
                  <a:pt x="114" y="486"/>
                </a:lnTo>
                <a:lnTo>
                  <a:pt x="130" y="494"/>
                </a:lnTo>
                <a:lnTo>
                  <a:pt x="133" y="492"/>
                </a:lnTo>
                <a:lnTo>
                  <a:pt x="140" y="486"/>
                </a:lnTo>
                <a:lnTo>
                  <a:pt x="145" y="478"/>
                </a:lnTo>
                <a:lnTo>
                  <a:pt x="148" y="467"/>
                </a:lnTo>
                <a:lnTo>
                  <a:pt x="150" y="456"/>
                </a:lnTo>
                <a:lnTo>
                  <a:pt x="152" y="433"/>
                </a:lnTo>
                <a:lnTo>
                  <a:pt x="155" y="416"/>
                </a:lnTo>
                <a:lnTo>
                  <a:pt x="156" y="414"/>
                </a:lnTo>
                <a:lnTo>
                  <a:pt x="157" y="413"/>
                </a:lnTo>
                <a:lnTo>
                  <a:pt x="158" y="413"/>
                </a:lnTo>
                <a:lnTo>
                  <a:pt x="161" y="416"/>
                </a:lnTo>
                <a:lnTo>
                  <a:pt x="164" y="419"/>
                </a:lnTo>
                <a:lnTo>
                  <a:pt x="166" y="424"/>
                </a:lnTo>
                <a:lnTo>
                  <a:pt x="171" y="430"/>
                </a:lnTo>
                <a:lnTo>
                  <a:pt x="179" y="444"/>
                </a:lnTo>
                <a:lnTo>
                  <a:pt x="191" y="452"/>
                </a:lnTo>
                <a:lnTo>
                  <a:pt x="204" y="456"/>
                </a:lnTo>
                <a:lnTo>
                  <a:pt x="218" y="457"/>
                </a:lnTo>
                <a:lnTo>
                  <a:pt x="234" y="455"/>
                </a:lnTo>
                <a:lnTo>
                  <a:pt x="249" y="450"/>
                </a:lnTo>
                <a:lnTo>
                  <a:pt x="279" y="436"/>
                </a:lnTo>
                <a:lnTo>
                  <a:pt x="305" y="420"/>
                </a:lnTo>
                <a:lnTo>
                  <a:pt x="323" y="405"/>
                </a:lnTo>
                <a:lnTo>
                  <a:pt x="298" y="405"/>
                </a:lnTo>
                <a:lnTo>
                  <a:pt x="254" y="403"/>
                </a:lnTo>
                <a:lnTo>
                  <a:pt x="181" y="387"/>
                </a:lnTo>
                <a:lnTo>
                  <a:pt x="154" y="370"/>
                </a:lnTo>
                <a:lnTo>
                  <a:pt x="130" y="347"/>
                </a:lnTo>
                <a:lnTo>
                  <a:pt x="120" y="332"/>
                </a:lnTo>
                <a:lnTo>
                  <a:pt x="141" y="326"/>
                </a:lnTo>
                <a:lnTo>
                  <a:pt x="175" y="317"/>
                </a:lnTo>
                <a:lnTo>
                  <a:pt x="201" y="308"/>
                </a:lnTo>
                <a:lnTo>
                  <a:pt x="209" y="303"/>
                </a:lnTo>
                <a:lnTo>
                  <a:pt x="215" y="297"/>
                </a:lnTo>
                <a:lnTo>
                  <a:pt x="217" y="289"/>
                </a:lnTo>
                <a:lnTo>
                  <a:pt x="216" y="279"/>
                </a:lnTo>
                <a:lnTo>
                  <a:pt x="211" y="267"/>
                </a:lnTo>
                <a:lnTo>
                  <a:pt x="203" y="252"/>
                </a:lnTo>
                <a:lnTo>
                  <a:pt x="192" y="235"/>
                </a:lnTo>
                <a:lnTo>
                  <a:pt x="187" y="232"/>
                </a:lnTo>
                <a:lnTo>
                  <a:pt x="172" y="219"/>
                </a:lnTo>
                <a:lnTo>
                  <a:pt x="161" y="210"/>
                </a:lnTo>
                <a:lnTo>
                  <a:pt x="161" y="209"/>
                </a:lnTo>
                <a:lnTo>
                  <a:pt x="174" y="187"/>
                </a:lnTo>
                <a:lnTo>
                  <a:pt x="192" y="170"/>
                </a:lnTo>
                <a:lnTo>
                  <a:pt x="213" y="157"/>
                </a:lnTo>
                <a:lnTo>
                  <a:pt x="235" y="150"/>
                </a:lnTo>
                <a:lnTo>
                  <a:pt x="259" y="147"/>
                </a:lnTo>
                <a:lnTo>
                  <a:pt x="284" y="148"/>
                </a:lnTo>
                <a:lnTo>
                  <a:pt x="333" y="160"/>
                </a:lnTo>
                <a:lnTo>
                  <a:pt x="376" y="180"/>
                </a:lnTo>
                <a:lnTo>
                  <a:pt x="406" y="203"/>
                </a:lnTo>
                <a:lnTo>
                  <a:pt x="410" y="203"/>
                </a:lnTo>
                <a:lnTo>
                  <a:pt x="415" y="202"/>
                </a:lnTo>
                <a:lnTo>
                  <a:pt x="426" y="197"/>
                </a:lnTo>
                <a:lnTo>
                  <a:pt x="451" y="185"/>
                </a:lnTo>
                <a:lnTo>
                  <a:pt x="471" y="174"/>
                </a:lnTo>
                <a:lnTo>
                  <a:pt x="469" y="164"/>
                </a:lnTo>
                <a:lnTo>
                  <a:pt x="466" y="136"/>
                </a:lnTo>
                <a:lnTo>
                  <a:pt x="463" y="115"/>
                </a:lnTo>
                <a:lnTo>
                  <a:pt x="463" y="113"/>
                </a:lnTo>
                <a:lnTo>
                  <a:pt x="458" y="112"/>
                </a:lnTo>
                <a:lnTo>
                  <a:pt x="448" y="110"/>
                </a:lnTo>
                <a:lnTo>
                  <a:pt x="439" y="110"/>
                </a:lnTo>
                <a:lnTo>
                  <a:pt x="418" y="107"/>
                </a:lnTo>
                <a:lnTo>
                  <a:pt x="404" y="96"/>
                </a:lnTo>
                <a:lnTo>
                  <a:pt x="407" y="90"/>
                </a:lnTo>
                <a:lnTo>
                  <a:pt x="410" y="85"/>
                </a:lnTo>
                <a:lnTo>
                  <a:pt x="414" y="82"/>
                </a:lnTo>
                <a:lnTo>
                  <a:pt x="418" y="81"/>
                </a:lnTo>
                <a:lnTo>
                  <a:pt x="423" y="81"/>
                </a:lnTo>
                <a:lnTo>
                  <a:pt x="428" y="81"/>
                </a:lnTo>
                <a:lnTo>
                  <a:pt x="439" y="83"/>
                </a:lnTo>
                <a:lnTo>
                  <a:pt x="448" y="84"/>
                </a:lnTo>
                <a:lnTo>
                  <a:pt x="458" y="81"/>
                </a:lnTo>
                <a:lnTo>
                  <a:pt x="463" y="67"/>
                </a:lnTo>
                <a:lnTo>
                  <a:pt x="472" y="53"/>
                </a:lnTo>
                <a:lnTo>
                  <a:pt x="483" y="42"/>
                </a:lnTo>
                <a:lnTo>
                  <a:pt x="511" y="25"/>
                </a:lnTo>
                <a:lnTo>
                  <a:pt x="543" y="13"/>
                </a:lnTo>
                <a:lnTo>
                  <a:pt x="575" y="5"/>
                </a:lnTo>
                <a:lnTo>
                  <a:pt x="605" y="1"/>
                </a:lnTo>
                <a:lnTo>
                  <a:pt x="619" y="0"/>
                </a:lnTo>
                <a:lnTo>
                  <a:pt x="619" y="2"/>
                </a:lnTo>
                <a:lnTo>
                  <a:pt x="620" y="10"/>
                </a:lnTo>
                <a:lnTo>
                  <a:pt x="625" y="34"/>
                </a:lnTo>
                <a:lnTo>
                  <a:pt x="629" y="52"/>
                </a:lnTo>
                <a:lnTo>
                  <a:pt x="630" y="53"/>
                </a:lnTo>
                <a:lnTo>
                  <a:pt x="628" y="55"/>
                </a:lnTo>
                <a:lnTo>
                  <a:pt x="616" y="67"/>
                </a:lnTo>
                <a:lnTo>
                  <a:pt x="575" y="103"/>
                </a:lnTo>
                <a:lnTo>
                  <a:pt x="544" y="131"/>
                </a:lnTo>
                <a:lnTo>
                  <a:pt x="543" y="132"/>
                </a:lnTo>
                <a:lnTo>
                  <a:pt x="536" y="139"/>
                </a:lnTo>
                <a:lnTo>
                  <a:pt x="533" y="144"/>
                </a:lnTo>
                <a:lnTo>
                  <a:pt x="534" y="147"/>
                </a:lnTo>
                <a:lnTo>
                  <a:pt x="536" y="149"/>
                </a:lnTo>
                <a:lnTo>
                  <a:pt x="541" y="150"/>
                </a:lnTo>
                <a:lnTo>
                  <a:pt x="546" y="151"/>
                </a:lnTo>
                <a:lnTo>
                  <a:pt x="557" y="154"/>
                </a:lnTo>
                <a:lnTo>
                  <a:pt x="563" y="160"/>
                </a:lnTo>
                <a:lnTo>
                  <a:pt x="560" y="172"/>
                </a:lnTo>
                <a:lnTo>
                  <a:pt x="557" y="177"/>
                </a:lnTo>
                <a:lnTo>
                  <a:pt x="552" y="179"/>
                </a:lnTo>
                <a:lnTo>
                  <a:pt x="549" y="180"/>
                </a:lnTo>
                <a:lnTo>
                  <a:pt x="545" y="179"/>
                </a:lnTo>
                <a:lnTo>
                  <a:pt x="540" y="178"/>
                </a:lnTo>
                <a:lnTo>
                  <a:pt x="530" y="175"/>
                </a:lnTo>
                <a:lnTo>
                  <a:pt x="520" y="172"/>
                </a:lnTo>
                <a:lnTo>
                  <a:pt x="511" y="171"/>
                </a:lnTo>
                <a:lnTo>
                  <a:pt x="506" y="17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53"/>
          <p:cNvSpPr/>
          <p:nvPr/>
        </p:nvSpPr>
        <p:spPr>
          <a:xfrm>
            <a:off x="614520" y="2943360"/>
            <a:ext cx="582480" cy="618840"/>
          </a:xfrm>
          <a:custGeom>
            <a:avLst/>
            <a:gdLst>
              <a:gd name="textAreaLeft" fmla="*/ 0 w 582480"/>
              <a:gd name="textAreaRight" fmla="*/ 582840 w 582480"/>
              <a:gd name="textAreaTop" fmla="*/ 0 h 618840"/>
              <a:gd name="textAreaBottom" fmla="*/ 618840 h 618840"/>
            </a:gdLst>
            <a:ahLst/>
            <a:rect l="textAreaLeft" t="textAreaTop" r="textAreaRight" b="textAreaBottom"/>
            <a:pathLst>
              <a:path w="735" h="781">
                <a:moveTo>
                  <a:pt x="506" y="172"/>
                </a:moveTo>
                <a:lnTo>
                  <a:pt x="505" y="180"/>
                </a:lnTo>
                <a:lnTo>
                  <a:pt x="507" y="189"/>
                </a:lnTo>
                <a:lnTo>
                  <a:pt x="512" y="200"/>
                </a:lnTo>
                <a:lnTo>
                  <a:pt x="526" y="223"/>
                </a:lnTo>
                <a:lnTo>
                  <a:pt x="547" y="243"/>
                </a:lnTo>
                <a:lnTo>
                  <a:pt x="574" y="255"/>
                </a:lnTo>
                <a:lnTo>
                  <a:pt x="604" y="256"/>
                </a:lnTo>
                <a:lnTo>
                  <a:pt x="621" y="250"/>
                </a:lnTo>
                <a:lnTo>
                  <a:pt x="630" y="260"/>
                </a:lnTo>
                <a:lnTo>
                  <a:pt x="652" y="285"/>
                </a:lnTo>
                <a:lnTo>
                  <a:pt x="702" y="350"/>
                </a:lnTo>
                <a:lnTo>
                  <a:pt x="733" y="414"/>
                </a:lnTo>
                <a:lnTo>
                  <a:pt x="735" y="426"/>
                </a:lnTo>
                <a:lnTo>
                  <a:pt x="733" y="506"/>
                </a:lnTo>
                <a:lnTo>
                  <a:pt x="717" y="570"/>
                </a:lnTo>
                <a:lnTo>
                  <a:pt x="689" y="623"/>
                </a:lnTo>
                <a:lnTo>
                  <a:pt x="648" y="665"/>
                </a:lnTo>
                <a:lnTo>
                  <a:pt x="599" y="696"/>
                </a:lnTo>
                <a:lnTo>
                  <a:pt x="543" y="721"/>
                </a:lnTo>
                <a:lnTo>
                  <a:pt x="413" y="751"/>
                </a:lnTo>
                <a:lnTo>
                  <a:pt x="276" y="768"/>
                </a:lnTo>
                <a:lnTo>
                  <a:pt x="145" y="781"/>
                </a:lnTo>
                <a:lnTo>
                  <a:pt x="101" y="759"/>
                </a:lnTo>
                <a:lnTo>
                  <a:pt x="42" y="731"/>
                </a:lnTo>
                <a:lnTo>
                  <a:pt x="12" y="717"/>
                </a:lnTo>
                <a:lnTo>
                  <a:pt x="8" y="715"/>
                </a:lnTo>
                <a:lnTo>
                  <a:pt x="6" y="713"/>
                </a:lnTo>
                <a:lnTo>
                  <a:pt x="4" y="710"/>
                </a:lnTo>
                <a:lnTo>
                  <a:pt x="4" y="707"/>
                </a:lnTo>
                <a:lnTo>
                  <a:pt x="6" y="704"/>
                </a:lnTo>
                <a:lnTo>
                  <a:pt x="8" y="700"/>
                </a:lnTo>
                <a:lnTo>
                  <a:pt x="14" y="692"/>
                </a:lnTo>
                <a:lnTo>
                  <a:pt x="33" y="662"/>
                </a:lnTo>
                <a:lnTo>
                  <a:pt x="44" y="637"/>
                </a:lnTo>
                <a:lnTo>
                  <a:pt x="42" y="631"/>
                </a:lnTo>
                <a:lnTo>
                  <a:pt x="38" y="627"/>
                </a:lnTo>
                <a:lnTo>
                  <a:pt x="28" y="618"/>
                </a:lnTo>
                <a:lnTo>
                  <a:pt x="6" y="595"/>
                </a:lnTo>
                <a:lnTo>
                  <a:pt x="0" y="581"/>
                </a:lnTo>
                <a:lnTo>
                  <a:pt x="2" y="578"/>
                </a:lnTo>
                <a:lnTo>
                  <a:pt x="8" y="575"/>
                </a:lnTo>
                <a:lnTo>
                  <a:pt x="15" y="573"/>
                </a:lnTo>
                <a:lnTo>
                  <a:pt x="33" y="568"/>
                </a:lnTo>
                <a:lnTo>
                  <a:pt x="72" y="559"/>
                </a:lnTo>
                <a:lnTo>
                  <a:pt x="85" y="548"/>
                </a:lnTo>
                <a:lnTo>
                  <a:pt x="84" y="543"/>
                </a:lnTo>
                <a:lnTo>
                  <a:pt x="81" y="540"/>
                </a:lnTo>
                <a:lnTo>
                  <a:pt x="76" y="536"/>
                </a:lnTo>
                <a:lnTo>
                  <a:pt x="71" y="534"/>
                </a:lnTo>
                <a:lnTo>
                  <a:pt x="59" y="528"/>
                </a:lnTo>
                <a:lnTo>
                  <a:pt x="47" y="523"/>
                </a:lnTo>
                <a:lnTo>
                  <a:pt x="37" y="516"/>
                </a:lnTo>
                <a:lnTo>
                  <a:pt x="32" y="507"/>
                </a:lnTo>
                <a:lnTo>
                  <a:pt x="31" y="488"/>
                </a:lnTo>
                <a:lnTo>
                  <a:pt x="36" y="477"/>
                </a:lnTo>
                <a:lnTo>
                  <a:pt x="40" y="473"/>
                </a:lnTo>
                <a:lnTo>
                  <a:pt x="44" y="470"/>
                </a:lnTo>
                <a:lnTo>
                  <a:pt x="48" y="468"/>
                </a:lnTo>
                <a:lnTo>
                  <a:pt x="55" y="468"/>
                </a:lnTo>
                <a:lnTo>
                  <a:pt x="61" y="468"/>
                </a:lnTo>
                <a:lnTo>
                  <a:pt x="74" y="470"/>
                </a:lnTo>
                <a:lnTo>
                  <a:pt x="88" y="475"/>
                </a:lnTo>
                <a:lnTo>
                  <a:pt x="114" y="486"/>
                </a:lnTo>
                <a:lnTo>
                  <a:pt x="130" y="494"/>
                </a:lnTo>
                <a:lnTo>
                  <a:pt x="133" y="492"/>
                </a:lnTo>
                <a:lnTo>
                  <a:pt x="140" y="486"/>
                </a:lnTo>
                <a:lnTo>
                  <a:pt x="145" y="478"/>
                </a:lnTo>
                <a:lnTo>
                  <a:pt x="148" y="467"/>
                </a:lnTo>
                <a:lnTo>
                  <a:pt x="150" y="456"/>
                </a:lnTo>
                <a:lnTo>
                  <a:pt x="152" y="433"/>
                </a:lnTo>
                <a:lnTo>
                  <a:pt x="155" y="416"/>
                </a:lnTo>
                <a:lnTo>
                  <a:pt x="156" y="414"/>
                </a:lnTo>
                <a:lnTo>
                  <a:pt x="157" y="413"/>
                </a:lnTo>
                <a:lnTo>
                  <a:pt x="158" y="413"/>
                </a:lnTo>
                <a:lnTo>
                  <a:pt x="161" y="416"/>
                </a:lnTo>
                <a:lnTo>
                  <a:pt x="164" y="419"/>
                </a:lnTo>
                <a:lnTo>
                  <a:pt x="166" y="424"/>
                </a:lnTo>
                <a:lnTo>
                  <a:pt x="171" y="430"/>
                </a:lnTo>
                <a:lnTo>
                  <a:pt x="179" y="444"/>
                </a:lnTo>
                <a:lnTo>
                  <a:pt x="191" y="452"/>
                </a:lnTo>
                <a:lnTo>
                  <a:pt x="204" y="456"/>
                </a:lnTo>
                <a:lnTo>
                  <a:pt x="218" y="457"/>
                </a:lnTo>
                <a:lnTo>
                  <a:pt x="234" y="455"/>
                </a:lnTo>
                <a:lnTo>
                  <a:pt x="249" y="450"/>
                </a:lnTo>
                <a:lnTo>
                  <a:pt x="279" y="436"/>
                </a:lnTo>
                <a:lnTo>
                  <a:pt x="305" y="420"/>
                </a:lnTo>
                <a:lnTo>
                  <a:pt x="323" y="405"/>
                </a:lnTo>
                <a:lnTo>
                  <a:pt x="298" y="405"/>
                </a:lnTo>
                <a:lnTo>
                  <a:pt x="254" y="403"/>
                </a:lnTo>
                <a:lnTo>
                  <a:pt x="181" y="387"/>
                </a:lnTo>
                <a:lnTo>
                  <a:pt x="154" y="370"/>
                </a:lnTo>
                <a:lnTo>
                  <a:pt x="130" y="347"/>
                </a:lnTo>
                <a:lnTo>
                  <a:pt x="120" y="332"/>
                </a:lnTo>
                <a:lnTo>
                  <a:pt x="141" y="326"/>
                </a:lnTo>
                <a:lnTo>
                  <a:pt x="175" y="317"/>
                </a:lnTo>
                <a:lnTo>
                  <a:pt x="201" y="308"/>
                </a:lnTo>
                <a:lnTo>
                  <a:pt x="209" y="303"/>
                </a:lnTo>
                <a:lnTo>
                  <a:pt x="215" y="297"/>
                </a:lnTo>
                <a:lnTo>
                  <a:pt x="217" y="289"/>
                </a:lnTo>
                <a:lnTo>
                  <a:pt x="216" y="279"/>
                </a:lnTo>
                <a:lnTo>
                  <a:pt x="211" y="267"/>
                </a:lnTo>
                <a:lnTo>
                  <a:pt x="203" y="252"/>
                </a:lnTo>
                <a:lnTo>
                  <a:pt x="192" y="235"/>
                </a:lnTo>
                <a:lnTo>
                  <a:pt x="187" y="232"/>
                </a:lnTo>
                <a:lnTo>
                  <a:pt x="172" y="219"/>
                </a:lnTo>
                <a:lnTo>
                  <a:pt x="161" y="210"/>
                </a:lnTo>
                <a:lnTo>
                  <a:pt x="161" y="209"/>
                </a:lnTo>
                <a:lnTo>
                  <a:pt x="174" y="187"/>
                </a:lnTo>
                <a:lnTo>
                  <a:pt x="192" y="170"/>
                </a:lnTo>
                <a:lnTo>
                  <a:pt x="213" y="157"/>
                </a:lnTo>
                <a:lnTo>
                  <a:pt x="235" y="150"/>
                </a:lnTo>
                <a:lnTo>
                  <a:pt x="259" y="147"/>
                </a:lnTo>
                <a:lnTo>
                  <a:pt x="284" y="148"/>
                </a:lnTo>
                <a:lnTo>
                  <a:pt x="333" y="160"/>
                </a:lnTo>
                <a:lnTo>
                  <a:pt x="376" y="180"/>
                </a:lnTo>
                <a:lnTo>
                  <a:pt x="406" y="203"/>
                </a:lnTo>
                <a:lnTo>
                  <a:pt x="410" y="203"/>
                </a:lnTo>
                <a:lnTo>
                  <a:pt x="415" y="202"/>
                </a:lnTo>
                <a:lnTo>
                  <a:pt x="426" y="197"/>
                </a:lnTo>
                <a:lnTo>
                  <a:pt x="451" y="185"/>
                </a:lnTo>
                <a:lnTo>
                  <a:pt x="471" y="174"/>
                </a:lnTo>
                <a:lnTo>
                  <a:pt x="469" y="164"/>
                </a:lnTo>
                <a:lnTo>
                  <a:pt x="466" y="136"/>
                </a:lnTo>
                <a:lnTo>
                  <a:pt x="463" y="115"/>
                </a:lnTo>
                <a:lnTo>
                  <a:pt x="463" y="113"/>
                </a:lnTo>
                <a:lnTo>
                  <a:pt x="458" y="112"/>
                </a:lnTo>
                <a:lnTo>
                  <a:pt x="448" y="110"/>
                </a:lnTo>
                <a:lnTo>
                  <a:pt x="439" y="110"/>
                </a:lnTo>
                <a:lnTo>
                  <a:pt x="418" y="107"/>
                </a:lnTo>
                <a:lnTo>
                  <a:pt x="404" y="96"/>
                </a:lnTo>
                <a:lnTo>
                  <a:pt x="407" y="90"/>
                </a:lnTo>
                <a:lnTo>
                  <a:pt x="410" y="85"/>
                </a:lnTo>
                <a:lnTo>
                  <a:pt x="414" y="82"/>
                </a:lnTo>
                <a:lnTo>
                  <a:pt x="418" y="81"/>
                </a:lnTo>
                <a:lnTo>
                  <a:pt x="423" y="81"/>
                </a:lnTo>
                <a:lnTo>
                  <a:pt x="428" y="81"/>
                </a:lnTo>
                <a:lnTo>
                  <a:pt x="439" y="83"/>
                </a:lnTo>
                <a:lnTo>
                  <a:pt x="448" y="84"/>
                </a:lnTo>
                <a:lnTo>
                  <a:pt x="458" y="81"/>
                </a:lnTo>
                <a:lnTo>
                  <a:pt x="463" y="67"/>
                </a:lnTo>
                <a:lnTo>
                  <a:pt x="472" y="53"/>
                </a:lnTo>
                <a:lnTo>
                  <a:pt x="483" y="42"/>
                </a:lnTo>
                <a:lnTo>
                  <a:pt x="511" y="25"/>
                </a:lnTo>
                <a:lnTo>
                  <a:pt x="543" y="13"/>
                </a:lnTo>
                <a:lnTo>
                  <a:pt x="575" y="5"/>
                </a:lnTo>
                <a:lnTo>
                  <a:pt x="605" y="1"/>
                </a:lnTo>
                <a:lnTo>
                  <a:pt x="619" y="0"/>
                </a:lnTo>
                <a:lnTo>
                  <a:pt x="619" y="2"/>
                </a:lnTo>
                <a:lnTo>
                  <a:pt x="620" y="10"/>
                </a:lnTo>
                <a:lnTo>
                  <a:pt x="625" y="34"/>
                </a:lnTo>
                <a:lnTo>
                  <a:pt x="629" y="52"/>
                </a:lnTo>
                <a:lnTo>
                  <a:pt x="630" y="53"/>
                </a:lnTo>
                <a:lnTo>
                  <a:pt x="628" y="55"/>
                </a:lnTo>
                <a:lnTo>
                  <a:pt x="616" y="67"/>
                </a:lnTo>
                <a:lnTo>
                  <a:pt x="575" y="103"/>
                </a:lnTo>
                <a:lnTo>
                  <a:pt x="544" y="131"/>
                </a:lnTo>
                <a:lnTo>
                  <a:pt x="543" y="132"/>
                </a:lnTo>
                <a:lnTo>
                  <a:pt x="536" y="139"/>
                </a:lnTo>
                <a:lnTo>
                  <a:pt x="533" y="144"/>
                </a:lnTo>
                <a:lnTo>
                  <a:pt x="534" y="147"/>
                </a:lnTo>
                <a:lnTo>
                  <a:pt x="536" y="149"/>
                </a:lnTo>
                <a:lnTo>
                  <a:pt x="541" y="150"/>
                </a:lnTo>
                <a:lnTo>
                  <a:pt x="546" y="151"/>
                </a:lnTo>
                <a:lnTo>
                  <a:pt x="557" y="154"/>
                </a:lnTo>
                <a:lnTo>
                  <a:pt x="563" y="160"/>
                </a:lnTo>
                <a:lnTo>
                  <a:pt x="560" y="172"/>
                </a:lnTo>
                <a:lnTo>
                  <a:pt x="557" y="177"/>
                </a:lnTo>
                <a:lnTo>
                  <a:pt x="552" y="179"/>
                </a:lnTo>
                <a:lnTo>
                  <a:pt x="549" y="180"/>
                </a:lnTo>
                <a:lnTo>
                  <a:pt x="545" y="179"/>
                </a:lnTo>
                <a:lnTo>
                  <a:pt x="540" y="178"/>
                </a:lnTo>
                <a:lnTo>
                  <a:pt x="530" y="175"/>
                </a:lnTo>
                <a:lnTo>
                  <a:pt x="520" y="172"/>
                </a:lnTo>
                <a:lnTo>
                  <a:pt x="511" y="171"/>
                </a:lnTo>
                <a:lnTo>
                  <a:pt x="506" y="172"/>
                </a:lnTo>
              </a:path>
            </a:pathLst>
          </a:custGeom>
          <a:blipFill rotWithShape="0">
            <a:blip r:embed="rId3"/>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54"/>
          <p:cNvSpPr/>
          <p:nvPr/>
        </p:nvSpPr>
        <p:spPr>
          <a:xfrm>
            <a:off x="4433760" y="4278240"/>
            <a:ext cx="1241640" cy="851040"/>
          </a:xfrm>
          <a:custGeom>
            <a:avLst/>
            <a:gdLst>
              <a:gd name="textAreaLeft" fmla="*/ 0 w 1241640"/>
              <a:gd name="textAreaRight" fmla="*/ 1242000 w 1241640"/>
              <a:gd name="textAreaTop" fmla="*/ 0 h 851040"/>
              <a:gd name="textAreaBottom" fmla="*/ 851400 h 851040"/>
            </a:gdLst>
            <a:ahLst/>
            <a:rect l="textAreaLeft" t="textAreaTop" r="textAreaRight" b="textAreaBottom"/>
            <a:pathLst>
              <a:path w="1564" h="1073">
                <a:moveTo>
                  <a:pt x="1564" y="585"/>
                </a:moveTo>
                <a:lnTo>
                  <a:pt x="1563" y="581"/>
                </a:lnTo>
                <a:lnTo>
                  <a:pt x="1560" y="575"/>
                </a:lnTo>
                <a:lnTo>
                  <a:pt x="1554" y="560"/>
                </a:lnTo>
                <a:lnTo>
                  <a:pt x="1536" y="526"/>
                </a:lnTo>
                <a:lnTo>
                  <a:pt x="1527" y="500"/>
                </a:lnTo>
                <a:lnTo>
                  <a:pt x="1526" y="502"/>
                </a:lnTo>
                <a:lnTo>
                  <a:pt x="1519" y="512"/>
                </a:lnTo>
                <a:lnTo>
                  <a:pt x="1495" y="546"/>
                </a:lnTo>
                <a:lnTo>
                  <a:pt x="1477" y="572"/>
                </a:lnTo>
                <a:lnTo>
                  <a:pt x="1477" y="573"/>
                </a:lnTo>
                <a:lnTo>
                  <a:pt x="1472" y="578"/>
                </a:lnTo>
                <a:lnTo>
                  <a:pt x="1467" y="581"/>
                </a:lnTo>
                <a:lnTo>
                  <a:pt x="1461" y="584"/>
                </a:lnTo>
                <a:lnTo>
                  <a:pt x="1453" y="586"/>
                </a:lnTo>
                <a:lnTo>
                  <a:pt x="1436" y="587"/>
                </a:lnTo>
                <a:lnTo>
                  <a:pt x="1416" y="586"/>
                </a:lnTo>
                <a:lnTo>
                  <a:pt x="1395" y="583"/>
                </a:lnTo>
                <a:lnTo>
                  <a:pt x="1376" y="578"/>
                </a:lnTo>
                <a:lnTo>
                  <a:pt x="1367" y="573"/>
                </a:lnTo>
                <a:lnTo>
                  <a:pt x="1359" y="563"/>
                </a:lnTo>
                <a:lnTo>
                  <a:pt x="1351" y="551"/>
                </a:lnTo>
                <a:lnTo>
                  <a:pt x="1337" y="519"/>
                </a:lnTo>
                <a:lnTo>
                  <a:pt x="1316" y="450"/>
                </a:lnTo>
                <a:lnTo>
                  <a:pt x="1308" y="412"/>
                </a:lnTo>
                <a:lnTo>
                  <a:pt x="1303" y="381"/>
                </a:lnTo>
                <a:lnTo>
                  <a:pt x="1295" y="332"/>
                </a:lnTo>
                <a:lnTo>
                  <a:pt x="1285" y="297"/>
                </a:lnTo>
                <a:lnTo>
                  <a:pt x="1268" y="270"/>
                </a:lnTo>
                <a:lnTo>
                  <a:pt x="1238" y="245"/>
                </a:lnTo>
                <a:lnTo>
                  <a:pt x="1191" y="213"/>
                </a:lnTo>
                <a:lnTo>
                  <a:pt x="1161" y="193"/>
                </a:lnTo>
                <a:lnTo>
                  <a:pt x="1145" y="184"/>
                </a:lnTo>
                <a:lnTo>
                  <a:pt x="1108" y="163"/>
                </a:lnTo>
                <a:lnTo>
                  <a:pt x="1012" y="108"/>
                </a:lnTo>
                <a:lnTo>
                  <a:pt x="919" y="27"/>
                </a:lnTo>
                <a:lnTo>
                  <a:pt x="901" y="0"/>
                </a:lnTo>
                <a:lnTo>
                  <a:pt x="887" y="13"/>
                </a:lnTo>
                <a:lnTo>
                  <a:pt x="855" y="36"/>
                </a:lnTo>
                <a:lnTo>
                  <a:pt x="785" y="86"/>
                </a:lnTo>
                <a:lnTo>
                  <a:pt x="727" y="141"/>
                </a:lnTo>
                <a:lnTo>
                  <a:pt x="719" y="155"/>
                </a:lnTo>
                <a:lnTo>
                  <a:pt x="706" y="155"/>
                </a:lnTo>
                <a:lnTo>
                  <a:pt x="682" y="150"/>
                </a:lnTo>
                <a:lnTo>
                  <a:pt x="660" y="141"/>
                </a:lnTo>
                <a:lnTo>
                  <a:pt x="618" y="116"/>
                </a:lnTo>
                <a:lnTo>
                  <a:pt x="591" y="93"/>
                </a:lnTo>
                <a:lnTo>
                  <a:pt x="563" y="115"/>
                </a:lnTo>
                <a:lnTo>
                  <a:pt x="514" y="149"/>
                </a:lnTo>
                <a:lnTo>
                  <a:pt x="429" y="186"/>
                </a:lnTo>
                <a:lnTo>
                  <a:pt x="388" y="189"/>
                </a:lnTo>
                <a:lnTo>
                  <a:pt x="347" y="180"/>
                </a:lnTo>
                <a:lnTo>
                  <a:pt x="326" y="172"/>
                </a:lnTo>
                <a:lnTo>
                  <a:pt x="307" y="185"/>
                </a:lnTo>
                <a:lnTo>
                  <a:pt x="275" y="219"/>
                </a:lnTo>
                <a:lnTo>
                  <a:pt x="249" y="260"/>
                </a:lnTo>
                <a:lnTo>
                  <a:pt x="201" y="358"/>
                </a:lnTo>
                <a:lnTo>
                  <a:pt x="159" y="436"/>
                </a:lnTo>
                <a:lnTo>
                  <a:pt x="162" y="451"/>
                </a:lnTo>
                <a:lnTo>
                  <a:pt x="164" y="479"/>
                </a:lnTo>
                <a:lnTo>
                  <a:pt x="157" y="529"/>
                </a:lnTo>
                <a:lnTo>
                  <a:pt x="133" y="582"/>
                </a:lnTo>
                <a:lnTo>
                  <a:pt x="126" y="596"/>
                </a:lnTo>
                <a:lnTo>
                  <a:pt x="122" y="599"/>
                </a:lnTo>
                <a:lnTo>
                  <a:pt x="105" y="606"/>
                </a:lnTo>
                <a:lnTo>
                  <a:pt x="47" y="632"/>
                </a:lnTo>
                <a:lnTo>
                  <a:pt x="2" y="653"/>
                </a:lnTo>
                <a:lnTo>
                  <a:pt x="0" y="654"/>
                </a:lnTo>
                <a:lnTo>
                  <a:pt x="1" y="657"/>
                </a:lnTo>
                <a:lnTo>
                  <a:pt x="10" y="675"/>
                </a:lnTo>
                <a:lnTo>
                  <a:pt x="41" y="737"/>
                </a:lnTo>
                <a:lnTo>
                  <a:pt x="63" y="784"/>
                </a:lnTo>
                <a:lnTo>
                  <a:pt x="65" y="786"/>
                </a:lnTo>
                <a:lnTo>
                  <a:pt x="67" y="787"/>
                </a:lnTo>
                <a:lnTo>
                  <a:pt x="78" y="794"/>
                </a:lnTo>
                <a:lnTo>
                  <a:pt x="120" y="817"/>
                </a:lnTo>
                <a:lnTo>
                  <a:pt x="151" y="834"/>
                </a:lnTo>
                <a:lnTo>
                  <a:pt x="153" y="834"/>
                </a:lnTo>
                <a:lnTo>
                  <a:pt x="158" y="842"/>
                </a:lnTo>
                <a:lnTo>
                  <a:pt x="164" y="856"/>
                </a:lnTo>
                <a:lnTo>
                  <a:pt x="168" y="880"/>
                </a:lnTo>
                <a:lnTo>
                  <a:pt x="162" y="902"/>
                </a:lnTo>
                <a:lnTo>
                  <a:pt x="159" y="908"/>
                </a:lnTo>
                <a:lnTo>
                  <a:pt x="162" y="910"/>
                </a:lnTo>
                <a:lnTo>
                  <a:pt x="184" y="920"/>
                </a:lnTo>
                <a:lnTo>
                  <a:pt x="262" y="954"/>
                </a:lnTo>
                <a:lnTo>
                  <a:pt x="320" y="981"/>
                </a:lnTo>
                <a:lnTo>
                  <a:pt x="324" y="982"/>
                </a:lnTo>
                <a:lnTo>
                  <a:pt x="325" y="981"/>
                </a:lnTo>
                <a:lnTo>
                  <a:pt x="334" y="972"/>
                </a:lnTo>
                <a:lnTo>
                  <a:pt x="365" y="945"/>
                </a:lnTo>
                <a:lnTo>
                  <a:pt x="387" y="924"/>
                </a:lnTo>
                <a:lnTo>
                  <a:pt x="389" y="921"/>
                </a:lnTo>
                <a:lnTo>
                  <a:pt x="390" y="925"/>
                </a:lnTo>
                <a:lnTo>
                  <a:pt x="398" y="938"/>
                </a:lnTo>
                <a:lnTo>
                  <a:pt x="426" y="987"/>
                </a:lnTo>
                <a:lnTo>
                  <a:pt x="447" y="1023"/>
                </a:lnTo>
                <a:lnTo>
                  <a:pt x="449" y="1025"/>
                </a:lnTo>
                <a:lnTo>
                  <a:pt x="450" y="1026"/>
                </a:lnTo>
                <a:lnTo>
                  <a:pt x="462" y="1034"/>
                </a:lnTo>
                <a:lnTo>
                  <a:pt x="504" y="1056"/>
                </a:lnTo>
                <a:lnTo>
                  <a:pt x="535" y="1073"/>
                </a:lnTo>
                <a:lnTo>
                  <a:pt x="537" y="1073"/>
                </a:lnTo>
                <a:lnTo>
                  <a:pt x="541" y="1073"/>
                </a:lnTo>
                <a:lnTo>
                  <a:pt x="571" y="1073"/>
                </a:lnTo>
                <a:lnTo>
                  <a:pt x="670" y="1073"/>
                </a:lnTo>
                <a:lnTo>
                  <a:pt x="747" y="1073"/>
                </a:lnTo>
                <a:lnTo>
                  <a:pt x="752" y="1073"/>
                </a:lnTo>
                <a:lnTo>
                  <a:pt x="756" y="1072"/>
                </a:lnTo>
                <a:lnTo>
                  <a:pt x="789" y="1062"/>
                </a:lnTo>
                <a:lnTo>
                  <a:pt x="905" y="1025"/>
                </a:lnTo>
                <a:lnTo>
                  <a:pt x="993" y="998"/>
                </a:lnTo>
                <a:lnTo>
                  <a:pt x="998" y="996"/>
                </a:lnTo>
                <a:lnTo>
                  <a:pt x="1013" y="991"/>
                </a:lnTo>
                <a:lnTo>
                  <a:pt x="1037" y="978"/>
                </a:lnTo>
                <a:lnTo>
                  <a:pt x="1055" y="961"/>
                </a:lnTo>
                <a:lnTo>
                  <a:pt x="1072" y="943"/>
                </a:lnTo>
                <a:lnTo>
                  <a:pt x="1120" y="904"/>
                </a:lnTo>
                <a:lnTo>
                  <a:pt x="1138" y="894"/>
                </a:lnTo>
                <a:lnTo>
                  <a:pt x="1155" y="887"/>
                </a:lnTo>
                <a:lnTo>
                  <a:pt x="1184" y="876"/>
                </a:lnTo>
                <a:lnTo>
                  <a:pt x="1229" y="873"/>
                </a:lnTo>
                <a:lnTo>
                  <a:pt x="1284" y="881"/>
                </a:lnTo>
                <a:lnTo>
                  <a:pt x="1302" y="883"/>
                </a:lnTo>
                <a:lnTo>
                  <a:pt x="1314" y="888"/>
                </a:lnTo>
                <a:lnTo>
                  <a:pt x="1338" y="900"/>
                </a:lnTo>
                <a:lnTo>
                  <a:pt x="1387" y="926"/>
                </a:lnTo>
                <a:lnTo>
                  <a:pt x="1412" y="932"/>
                </a:lnTo>
                <a:lnTo>
                  <a:pt x="1440" y="929"/>
                </a:lnTo>
                <a:lnTo>
                  <a:pt x="1455" y="921"/>
                </a:lnTo>
                <a:lnTo>
                  <a:pt x="1454" y="918"/>
                </a:lnTo>
                <a:lnTo>
                  <a:pt x="1451" y="891"/>
                </a:lnTo>
                <a:lnTo>
                  <a:pt x="1438" y="797"/>
                </a:lnTo>
                <a:lnTo>
                  <a:pt x="1428" y="725"/>
                </a:lnTo>
                <a:lnTo>
                  <a:pt x="1428" y="721"/>
                </a:lnTo>
                <a:lnTo>
                  <a:pt x="1431" y="719"/>
                </a:lnTo>
                <a:lnTo>
                  <a:pt x="1449" y="700"/>
                </a:lnTo>
                <a:lnTo>
                  <a:pt x="1512" y="637"/>
                </a:lnTo>
                <a:lnTo>
                  <a:pt x="1560" y="588"/>
                </a:lnTo>
                <a:lnTo>
                  <a:pt x="1564" y="5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55"/>
          <p:cNvSpPr/>
          <p:nvPr/>
        </p:nvSpPr>
        <p:spPr>
          <a:xfrm>
            <a:off x="4433760" y="4278240"/>
            <a:ext cx="1241640" cy="851040"/>
          </a:xfrm>
          <a:custGeom>
            <a:avLst/>
            <a:gdLst>
              <a:gd name="textAreaLeft" fmla="*/ 0 w 1241640"/>
              <a:gd name="textAreaRight" fmla="*/ 1242000 w 1241640"/>
              <a:gd name="textAreaTop" fmla="*/ 0 h 851040"/>
              <a:gd name="textAreaBottom" fmla="*/ 851400 h 851040"/>
            </a:gdLst>
            <a:ahLst/>
            <a:rect l="textAreaLeft" t="textAreaTop" r="textAreaRight" b="textAreaBottom"/>
            <a:pathLst>
              <a:path w="1564" h="1073">
                <a:moveTo>
                  <a:pt x="1564" y="585"/>
                </a:moveTo>
                <a:lnTo>
                  <a:pt x="1563" y="581"/>
                </a:lnTo>
                <a:lnTo>
                  <a:pt x="1560" y="575"/>
                </a:lnTo>
                <a:lnTo>
                  <a:pt x="1554" y="560"/>
                </a:lnTo>
                <a:lnTo>
                  <a:pt x="1536" y="526"/>
                </a:lnTo>
                <a:lnTo>
                  <a:pt x="1527" y="500"/>
                </a:lnTo>
                <a:lnTo>
                  <a:pt x="1526" y="502"/>
                </a:lnTo>
                <a:lnTo>
                  <a:pt x="1519" y="512"/>
                </a:lnTo>
                <a:lnTo>
                  <a:pt x="1495" y="546"/>
                </a:lnTo>
                <a:lnTo>
                  <a:pt x="1477" y="572"/>
                </a:lnTo>
                <a:lnTo>
                  <a:pt x="1477" y="573"/>
                </a:lnTo>
                <a:lnTo>
                  <a:pt x="1472" y="578"/>
                </a:lnTo>
                <a:lnTo>
                  <a:pt x="1467" y="581"/>
                </a:lnTo>
                <a:lnTo>
                  <a:pt x="1461" y="584"/>
                </a:lnTo>
                <a:lnTo>
                  <a:pt x="1453" y="586"/>
                </a:lnTo>
                <a:lnTo>
                  <a:pt x="1436" y="587"/>
                </a:lnTo>
                <a:lnTo>
                  <a:pt x="1416" y="586"/>
                </a:lnTo>
                <a:lnTo>
                  <a:pt x="1395" y="583"/>
                </a:lnTo>
                <a:lnTo>
                  <a:pt x="1376" y="578"/>
                </a:lnTo>
                <a:lnTo>
                  <a:pt x="1367" y="573"/>
                </a:lnTo>
                <a:lnTo>
                  <a:pt x="1359" y="563"/>
                </a:lnTo>
                <a:lnTo>
                  <a:pt x="1351" y="551"/>
                </a:lnTo>
                <a:lnTo>
                  <a:pt x="1337" y="519"/>
                </a:lnTo>
                <a:lnTo>
                  <a:pt x="1316" y="450"/>
                </a:lnTo>
                <a:lnTo>
                  <a:pt x="1308" y="412"/>
                </a:lnTo>
                <a:lnTo>
                  <a:pt x="1303" y="381"/>
                </a:lnTo>
                <a:lnTo>
                  <a:pt x="1295" y="332"/>
                </a:lnTo>
                <a:lnTo>
                  <a:pt x="1285" y="297"/>
                </a:lnTo>
                <a:lnTo>
                  <a:pt x="1268" y="270"/>
                </a:lnTo>
                <a:lnTo>
                  <a:pt x="1238" y="245"/>
                </a:lnTo>
                <a:lnTo>
                  <a:pt x="1191" y="213"/>
                </a:lnTo>
                <a:lnTo>
                  <a:pt x="1161" y="193"/>
                </a:lnTo>
                <a:lnTo>
                  <a:pt x="1145" y="184"/>
                </a:lnTo>
                <a:lnTo>
                  <a:pt x="1108" y="163"/>
                </a:lnTo>
                <a:lnTo>
                  <a:pt x="1012" y="108"/>
                </a:lnTo>
                <a:lnTo>
                  <a:pt x="919" y="27"/>
                </a:lnTo>
                <a:lnTo>
                  <a:pt x="901" y="0"/>
                </a:lnTo>
                <a:lnTo>
                  <a:pt x="887" y="13"/>
                </a:lnTo>
                <a:lnTo>
                  <a:pt x="855" y="36"/>
                </a:lnTo>
                <a:lnTo>
                  <a:pt x="785" y="86"/>
                </a:lnTo>
                <a:lnTo>
                  <a:pt x="727" y="141"/>
                </a:lnTo>
                <a:lnTo>
                  <a:pt x="719" y="155"/>
                </a:lnTo>
                <a:lnTo>
                  <a:pt x="706" y="155"/>
                </a:lnTo>
                <a:lnTo>
                  <a:pt x="682" y="150"/>
                </a:lnTo>
                <a:lnTo>
                  <a:pt x="660" y="141"/>
                </a:lnTo>
                <a:lnTo>
                  <a:pt x="618" y="116"/>
                </a:lnTo>
                <a:lnTo>
                  <a:pt x="591" y="93"/>
                </a:lnTo>
                <a:lnTo>
                  <a:pt x="563" y="115"/>
                </a:lnTo>
                <a:lnTo>
                  <a:pt x="514" y="149"/>
                </a:lnTo>
                <a:lnTo>
                  <a:pt x="429" y="186"/>
                </a:lnTo>
                <a:lnTo>
                  <a:pt x="388" y="189"/>
                </a:lnTo>
                <a:lnTo>
                  <a:pt x="347" y="180"/>
                </a:lnTo>
                <a:lnTo>
                  <a:pt x="326" y="172"/>
                </a:lnTo>
                <a:lnTo>
                  <a:pt x="307" y="185"/>
                </a:lnTo>
                <a:lnTo>
                  <a:pt x="275" y="219"/>
                </a:lnTo>
                <a:lnTo>
                  <a:pt x="249" y="260"/>
                </a:lnTo>
                <a:lnTo>
                  <a:pt x="201" y="358"/>
                </a:lnTo>
                <a:lnTo>
                  <a:pt x="159" y="436"/>
                </a:lnTo>
                <a:lnTo>
                  <a:pt x="162" y="451"/>
                </a:lnTo>
                <a:lnTo>
                  <a:pt x="164" y="479"/>
                </a:lnTo>
                <a:lnTo>
                  <a:pt x="157" y="529"/>
                </a:lnTo>
                <a:lnTo>
                  <a:pt x="133" y="582"/>
                </a:lnTo>
                <a:lnTo>
                  <a:pt x="126" y="596"/>
                </a:lnTo>
                <a:lnTo>
                  <a:pt x="122" y="599"/>
                </a:lnTo>
                <a:lnTo>
                  <a:pt x="105" y="606"/>
                </a:lnTo>
                <a:lnTo>
                  <a:pt x="47" y="632"/>
                </a:lnTo>
                <a:lnTo>
                  <a:pt x="2" y="653"/>
                </a:lnTo>
                <a:lnTo>
                  <a:pt x="0" y="654"/>
                </a:lnTo>
                <a:lnTo>
                  <a:pt x="1" y="657"/>
                </a:lnTo>
                <a:lnTo>
                  <a:pt x="10" y="675"/>
                </a:lnTo>
                <a:lnTo>
                  <a:pt x="41" y="737"/>
                </a:lnTo>
                <a:lnTo>
                  <a:pt x="63" y="784"/>
                </a:lnTo>
                <a:lnTo>
                  <a:pt x="65" y="786"/>
                </a:lnTo>
                <a:lnTo>
                  <a:pt x="67" y="787"/>
                </a:lnTo>
                <a:lnTo>
                  <a:pt x="78" y="794"/>
                </a:lnTo>
                <a:lnTo>
                  <a:pt x="120" y="817"/>
                </a:lnTo>
                <a:lnTo>
                  <a:pt x="151" y="834"/>
                </a:lnTo>
                <a:lnTo>
                  <a:pt x="153" y="834"/>
                </a:lnTo>
                <a:lnTo>
                  <a:pt x="158" y="842"/>
                </a:lnTo>
                <a:lnTo>
                  <a:pt x="164" y="856"/>
                </a:lnTo>
                <a:lnTo>
                  <a:pt x="168" y="880"/>
                </a:lnTo>
                <a:lnTo>
                  <a:pt x="162" y="902"/>
                </a:lnTo>
                <a:lnTo>
                  <a:pt x="159" y="908"/>
                </a:lnTo>
                <a:lnTo>
                  <a:pt x="162" y="910"/>
                </a:lnTo>
                <a:lnTo>
                  <a:pt x="184" y="920"/>
                </a:lnTo>
                <a:lnTo>
                  <a:pt x="262" y="954"/>
                </a:lnTo>
                <a:lnTo>
                  <a:pt x="320" y="981"/>
                </a:lnTo>
                <a:lnTo>
                  <a:pt x="324" y="982"/>
                </a:lnTo>
                <a:lnTo>
                  <a:pt x="325" y="981"/>
                </a:lnTo>
                <a:lnTo>
                  <a:pt x="334" y="972"/>
                </a:lnTo>
                <a:lnTo>
                  <a:pt x="365" y="945"/>
                </a:lnTo>
                <a:lnTo>
                  <a:pt x="387" y="924"/>
                </a:lnTo>
                <a:lnTo>
                  <a:pt x="389" y="921"/>
                </a:lnTo>
                <a:lnTo>
                  <a:pt x="390" y="925"/>
                </a:lnTo>
                <a:lnTo>
                  <a:pt x="398" y="938"/>
                </a:lnTo>
                <a:lnTo>
                  <a:pt x="426" y="987"/>
                </a:lnTo>
                <a:lnTo>
                  <a:pt x="447" y="1023"/>
                </a:lnTo>
                <a:lnTo>
                  <a:pt x="449" y="1025"/>
                </a:lnTo>
                <a:lnTo>
                  <a:pt x="450" y="1026"/>
                </a:lnTo>
                <a:lnTo>
                  <a:pt x="462" y="1034"/>
                </a:lnTo>
                <a:lnTo>
                  <a:pt x="504" y="1056"/>
                </a:lnTo>
                <a:lnTo>
                  <a:pt x="535" y="1073"/>
                </a:lnTo>
                <a:lnTo>
                  <a:pt x="537" y="1073"/>
                </a:lnTo>
                <a:lnTo>
                  <a:pt x="541" y="1073"/>
                </a:lnTo>
                <a:lnTo>
                  <a:pt x="571" y="1073"/>
                </a:lnTo>
                <a:lnTo>
                  <a:pt x="670" y="1073"/>
                </a:lnTo>
                <a:lnTo>
                  <a:pt x="747" y="1073"/>
                </a:lnTo>
                <a:lnTo>
                  <a:pt x="752" y="1073"/>
                </a:lnTo>
                <a:lnTo>
                  <a:pt x="756" y="1072"/>
                </a:lnTo>
                <a:lnTo>
                  <a:pt x="789" y="1062"/>
                </a:lnTo>
                <a:lnTo>
                  <a:pt x="905" y="1025"/>
                </a:lnTo>
                <a:lnTo>
                  <a:pt x="993" y="998"/>
                </a:lnTo>
                <a:lnTo>
                  <a:pt x="998" y="996"/>
                </a:lnTo>
                <a:lnTo>
                  <a:pt x="1013" y="991"/>
                </a:lnTo>
                <a:lnTo>
                  <a:pt x="1037" y="978"/>
                </a:lnTo>
                <a:lnTo>
                  <a:pt x="1055" y="961"/>
                </a:lnTo>
                <a:lnTo>
                  <a:pt x="1072" y="943"/>
                </a:lnTo>
                <a:lnTo>
                  <a:pt x="1120" y="904"/>
                </a:lnTo>
                <a:lnTo>
                  <a:pt x="1138" y="894"/>
                </a:lnTo>
                <a:lnTo>
                  <a:pt x="1155" y="887"/>
                </a:lnTo>
                <a:lnTo>
                  <a:pt x="1184" y="876"/>
                </a:lnTo>
                <a:lnTo>
                  <a:pt x="1229" y="873"/>
                </a:lnTo>
                <a:lnTo>
                  <a:pt x="1284" y="881"/>
                </a:lnTo>
                <a:lnTo>
                  <a:pt x="1302" y="883"/>
                </a:lnTo>
                <a:lnTo>
                  <a:pt x="1314" y="888"/>
                </a:lnTo>
                <a:lnTo>
                  <a:pt x="1338" y="900"/>
                </a:lnTo>
                <a:lnTo>
                  <a:pt x="1387" y="926"/>
                </a:lnTo>
                <a:lnTo>
                  <a:pt x="1412" y="932"/>
                </a:lnTo>
                <a:lnTo>
                  <a:pt x="1440" y="929"/>
                </a:lnTo>
                <a:lnTo>
                  <a:pt x="1455" y="921"/>
                </a:lnTo>
                <a:lnTo>
                  <a:pt x="1454" y="918"/>
                </a:lnTo>
                <a:lnTo>
                  <a:pt x="1451" y="891"/>
                </a:lnTo>
                <a:lnTo>
                  <a:pt x="1438" y="797"/>
                </a:lnTo>
                <a:lnTo>
                  <a:pt x="1428" y="725"/>
                </a:lnTo>
                <a:lnTo>
                  <a:pt x="1428" y="721"/>
                </a:lnTo>
                <a:lnTo>
                  <a:pt x="1431" y="719"/>
                </a:lnTo>
                <a:lnTo>
                  <a:pt x="1449" y="700"/>
                </a:lnTo>
                <a:lnTo>
                  <a:pt x="1512" y="637"/>
                </a:lnTo>
                <a:lnTo>
                  <a:pt x="1560" y="588"/>
                </a:lnTo>
                <a:lnTo>
                  <a:pt x="1564" y="585"/>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56"/>
          <p:cNvSpPr/>
          <p:nvPr/>
        </p:nvSpPr>
        <p:spPr>
          <a:xfrm>
            <a:off x="3851280" y="4321080"/>
            <a:ext cx="838080" cy="573120"/>
          </a:xfrm>
          <a:custGeom>
            <a:avLst/>
            <a:gdLst>
              <a:gd name="textAreaLeft" fmla="*/ 0 w 838080"/>
              <a:gd name="textAreaRight" fmla="*/ 838440 w 838080"/>
              <a:gd name="textAreaTop" fmla="*/ 0 h 573120"/>
              <a:gd name="textAreaBottom" fmla="*/ 573480 h 573120"/>
            </a:gdLst>
            <a:ahLst/>
            <a:rect l="textAreaLeft" t="textAreaTop" r="textAreaRight" b="textAreaBottom"/>
            <a:pathLst>
              <a:path w="1056" h="721">
                <a:moveTo>
                  <a:pt x="892" y="375"/>
                </a:moveTo>
                <a:lnTo>
                  <a:pt x="906" y="353"/>
                </a:lnTo>
                <a:lnTo>
                  <a:pt x="932" y="304"/>
                </a:lnTo>
                <a:lnTo>
                  <a:pt x="980" y="209"/>
                </a:lnTo>
                <a:lnTo>
                  <a:pt x="1038" y="132"/>
                </a:lnTo>
                <a:lnTo>
                  <a:pt x="1056" y="118"/>
                </a:lnTo>
                <a:lnTo>
                  <a:pt x="1052" y="117"/>
                </a:lnTo>
                <a:lnTo>
                  <a:pt x="1029" y="104"/>
                </a:lnTo>
                <a:lnTo>
                  <a:pt x="951" y="65"/>
                </a:lnTo>
                <a:lnTo>
                  <a:pt x="892" y="34"/>
                </a:lnTo>
                <a:lnTo>
                  <a:pt x="889" y="32"/>
                </a:lnTo>
                <a:lnTo>
                  <a:pt x="867" y="22"/>
                </a:lnTo>
                <a:lnTo>
                  <a:pt x="830" y="8"/>
                </a:lnTo>
                <a:lnTo>
                  <a:pt x="764" y="0"/>
                </a:lnTo>
                <a:lnTo>
                  <a:pt x="695" y="16"/>
                </a:lnTo>
                <a:lnTo>
                  <a:pt x="676" y="23"/>
                </a:lnTo>
                <a:lnTo>
                  <a:pt x="670" y="58"/>
                </a:lnTo>
                <a:lnTo>
                  <a:pt x="654" y="83"/>
                </a:lnTo>
                <a:lnTo>
                  <a:pt x="630" y="102"/>
                </a:lnTo>
                <a:lnTo>
                  <a:pt x="600" y="116"/>
                </a:lnTo>
                <a:lnTo>
                  <a:pt x="566" y="126"/>
                </a:lnTo>
                <a:lnTo>
                  <a:pt x="493" y="139"/>
                </a:lnTo>
                <a:lnTo>
                  <a:pt x="428" y="154"/>
                </a:lnTo>
                <a:lnTo>
                  <a:pt x="405" y="167"/>
                </a:lnTo>
                <a:lnTo>
                  <a:pt x="389" y="184"/>
                </a:lnTo>
                <a:lnTo>
                  <a:pt x="383" y="207"/>
                </a:lnTo>
                <a:lnTo>
                  <a:pt x="364" y="215"/>
                </a:lnTo>
                <a:lnTo>
                  <a:pt x="324" y="229"/>
                </a:lnTo>
                <a:lnTo>
                  <a:pt x="241" y="236"/>
                </a:lnTo>
                <a:lnTo>
                  <a:pt x="199" y="225"/>
                </a:lnTo>
                <a:lnTo>
                  <a:pt x="157" y="201"/>
                </a:lnTo>
                <a:lnTo>
                  <a:pt x="137" y="183"/>
                </a:lnTo>
                <a:lnTo>
                  <a:pt x="136" y="187"/>
                </a:lnTo>
                <a:lnTo>
                  <a:pt x="135" y="191"/>
                </a:lnTo>
                <a:lnTo>
                  <a:pt x="131" y="198"/>
                </a:lnTo>
                <a:lnTo>
                  <a:pt x="126" y="206"/>
                </a:lnTo>
                <a:lnTo>
                  <a:pt x="117" y="228"/>
                </a:lnTo>
                <a:lnTo>
                  <a:pt x="116" y="241"/>
                </a:lnTo>
                <a:lnTo>
                  <a:pt x="104" y="242"/>
                </a:lnTo>
                <a:lnTo>
                  <a:pt x="81" y="243"/>
                </a:lnTo>
                <a:lnTo>
                  <a:pt x="41" y="252"/>
                </a:lnTo>
                <a:lnTo>
                  <a:pt x="7" y="269"/>
                </a:lnTo>
                <a:lnTo>
                  <a:pt x="0" y="275"/>
                </a:lnTo>
                <a:lnTo>
                  <a:pt x="1" y="277"/>
                </a:lnTo>
                <a:lnTo>
                  <a:pt x="9" y="284"/>
                </a:lnTo>
                <a:lnTo>
                  <a:pt x="41" y="311"/>
                </a:lnTo>
                <a:lnTo>
                  <a:pt x="65" y="332"/>
                </a:lnTo>
                <a:lnTo>
                  <a:pt x="67" y="333"/>
                </a:lnTo>
                <a:lnTo>
                  <a:pt x="67" y="348"/>
                </a:lnTo>
                <a:lnTo>
                  <a:pt x="66" y="379"/>
                </a:lnTo>
                <a:lnTo>
                  <a:pt x="50" y="435"/>
                </a:lnTo>
                <a:lnTo>
                  <a:pt x="16" y="480"/>
                </a:lnTo>
                <a:lnTo>
                  <a:pt x="4" y="490"/>
                </a:lnTo>
                <a:lnTo>
                  <a:pt x="7" y="495"/>
                </a:lnTo>
                <a:lnTo>
                  <a:pt x="36" y="526"/>
                </a:lnTo>
                <a:lnTo>
                  <a:pt x="131" y="634"/>
                </a:lnTo>
                <a:lnTo>
                  <a:pt x="205" y="717"/>
                </a:lnTo>
                <a:lnTo>
                  <a:pt x="210" y="721"/>
                </a:lnTo>
                <a:lnTo>
                  <a:pt x="214" y="720"/>
                </a:lnTo>
                <a:lnTo>
                  <a:pt x="247" y="707"/>
                </a:lnTo>
                <a:lnTo>
                  <a:pt x="361" y="663"/>
                </a:lnTo>
                <a:lnTo>
                  <a:pt x="448" y="629"/>
                </a:lnTo>
                <a:lnTo>
                  <a:pt x="453" y="627"/>
                </a:lnTo>
                <a:lnTo>
                  <a:pt x="458" y="627"/>
                </a:lnTo>
                <a:lnTo>
                  <a:pt x="497" y="623"/>
                </a:lnTo>
                <a:lnTo>
                  <a:pt x="632" y="609"/>
                </a:lnTo>
                <a:lnTo>
                  <a:pt x="734" y="599"/>
                </a:lnTo>
                <a:lnTo>
                  <a:pt x="741" y="598"/>
                </a:lnTo>
                <a:lnTo>
                  <a:pt x="742" y="597"/>
                </a:lnTo>
                <a:lnTo>
                  <a:pt x="744" y="596"/>
                </a:lnTo>
                <a:lnTo>
                  <a:pt x="752" y="591"/>
                </a:lnTo>
                <a:lnTo>
                  <a:pt x="779" y="579"/>
                </a:lnTo>
                <a:lnTo>
                  <a:pt x="841" y="550"/>
                </a:lnTo>
                <a:lnTo>
                  <a:pt x="861" y="536"/>
                </a:lnTo>
                <a:lnTo>
                  <a:pt x="867" y="522"/>
                </a:lnTo>
                <a:lnTo>
                  <a:pt x="879" y="499"/>
                </a:lnTo>
                <a:lnTo>
                  <a:pt x="894" y="457"/>
                </a:lnTo>
                <a:lnTo>
                  <a:pt x="894" y="398"/>
                </a:lnTo>
                <a:lnTo>
                  <a:pt x="892" y="3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57"/>
          <p:cNvSpPr/>
          <p:nvPr/>
        </p:nvSpPr>
        <p:spPr>
          <a:xfrm>
            <a:off x="3851280" y="4321080"/>
            <a:ext cx="838080" cy="573120"/>
          </a:xfrm>
          <a:custGeom>
            <a:avLst/>
            <a:gdLst>
              <a:gd name="textAreaLeft" fmla="*/ 0 w 838080"/>
              <a:gd name="textAreaRight" fmla="*/ 838440 w 838080"/>
              <a:gd name="textAreaTop" fmla="*/ 0 h 573120"/>
              <a:gd name="textAreaBottom" fmla="*/ 573480 h 573120"/>
            </a:gdLst>
            <a:ahLst/>
            <a:rect l="textAreaLeft" t="textAreaTop" r="textAreaRight" b="textAreaBottom"/>
            <a:pathLst>
              <a:path w="1056" h="721">
                <a:moveTo>
                  <a:pt x="892" y="375"/>
                </a:moveTo>
                <a:lnTo>
                  <a:pt x="906" y="353"/>
                </a:lnTo>
                <a:lnTo>
                  <a:pt x="932" y="304"/>
                </a:lnTo>
                <a:lnTo>
                  <a:pt x="980" y="209"/>
                </a:lnTo>
                <a:lnTo>
                  <a:pt x="1038" y="132"/>
                </a:lnTo>
                <a:lnTo>
                  <a:pt x="1056" y="118"/>
                </a:lnTo>
                <a:lnTo>
                  <a:pt x="1052" y="117"/>
                </a:lnTo>
                <a:lnTo>
                  <a:pt x="1029" y="104"/>
                </a:lnTo>
                <a:lnTo>
                  <a:pt x="951" y="65"/>
                </a:lnTo>
                <a:lnTo>
                  <a:pt x="892" y="34"/>
                </a:lnTo>
                <a:lnTo>
                  <a:pt x="889" y="32"/>
                </a:lnTo>
                <a:lnTo>
                  <a:pt x="867" y="22"/>
                </a:lnTo>
                <a:lnTo>
                  <a:pt x="830" y="8"/>
                </a:lnTo>
                <a:lnTo>
                  <a:pt x="764" y="0"/>
                </a:lnTo>
                <a:lnTo>
                  <a:pt x="695" y="16"/>
                </a:lnTo>
                <a:lnTo>
                  <a:pt x="676" y="23"/>
                </a:lnTo>
                <a:lnTo>
                  <a:pt x="670" y="58"/>
                </a:lnTo>
                <a:lnTo>
                  <a:pt x="654" y="83"/>
                </a:lnTo>
                <a:lnTo>
                  <a:pt x="630" y="102"/>
                </a:lnTo>
                <a:lnTo>
                  <a:pt x="600" y="116"/>
                </a:lnTo>
                <a:lnTo>
                  <a:pt x="566" y="126"/>
                </a:lnTo>
                <a:lnTo>
                  <a:pt x="493" y="139"/>
                </a:lnTo>
                <a:lnTo>
                  <a:pt x="428" y="154"/>
                </a:lnTo>
                <a:lnTo>
                  <a:pt x="405" y="167"/>
                </a:lnTo>
                <a:lnTo>
                  <a:pt x="389" y="184"/>
                </a:lnTo>
                <a:lnTo>
                  <a:pt x="383" y="207"/>
                </a:lnTo>
                <a:lnTo>
                  <a:pt x="364" y="215"/>
                </a:lnTo>
                <a:lnTo>
                  <a:pt x="324" y="229"/>
                </a:lnTo>
                <a:lnTo>
                  <a:pt x="241" y="236"/>
                </a:lnTo>
                <a:lnTo>
                  <a:pt x="199" y="225"/>
                </a:lnTo>
                <a:lnTo>
                  <a:pt x="157" y="201"/>
                </a:lnTo>
                <a:lnTo>
                  <a:pt x="137" y="183"/>
                </a:lnTo>
                <a:lnTo>
                  <a:pt x="136" y="187"/>
                </a:lnTo>
                <a:lnTo>
                  <a:pt x="135" y="191"/>
                </a:lnTo>
                <a:lnTo>
                  <a:pt x="131" y="198"/>
                </a:lnTo>
                <a:lnTo>
                  <a:pt x="126" y="206"/>
                </a:lnTo>
                <a:lnTo>
                  <a:pt x="117" y="228"/>
                </a:lnTo>
                <a:lnTo>
                  <a:pt x="116" y="241"/>
                </a:lnTo>
                <a:lnTo>
                  <a:pt x="104" y="242"/>
                </a:lnTo>
                <a:lnTo>
                  <a:pt x="81" y="243"/>
                </a:lnTo>
                <a:lnTo>
                  <a:pt x="41" y="252"/>
                </a:lnTo>
                <a:lnTo>
                  <a:pt x="7" y="269"/>
                </a:lnTo>
                <a:lnTo>
                  <a:pt x="0" y="275"/>
                </a:lnTo>
                <a:lnTo>
                  <a:pt x="1" y="277"/>
                </a:lnTo>
                <a:lnTo>
                  <a:pt x="9" y="284"/>
                </a:lnTo>
                <a:lnTo>
                  <a:pt x="41" y="311"/>
                </a:lnTo>
                <a:lnTo>
                  <a:pt x="65" y="332"/>
                </a:lnTo>
                <a:lnTo>
                  <a:pt x="67" y="333"/>
                </a:lnTo>
                <a:lnTo>
                  <a:pt x="67" y="348"/>
                </a:lnTo>
                <a:lnTo>
                  <a:pt x="66" y="379"/>
                </a:lnTo>
                <a:lnTo>
                  <a:pt x="50" y="435"/>
                </a:lnTo>
                <a:lnTo>
                  <a:pt x="16" y="480"/>
                </a:lnTo>
                <a:lnTo>
                  <a:pt x="4" y="490"/>
                </a:lnTo>
                <a:lnTo>
                  <a:pt x="7" y="495"/>
                </a:lnTo>
                <a:lnTo>
                  <a:pt x="36" y="526"/>
                </a:lnTo>
                <a:lnTo>
                  <a:pt x="131" y="634"/>
                </a:lnTo>
                <a:lnTo>
                  <a:pt x="205" y="717"/>
                </a:lnTo>
                <a:lnTo>
                  <a:pt x="210" y="721"/>
                </a:lnTo>
                <a:lnTo>
                  <a:pt x="214" y="720"/>
                </a:lnTo>
                <a:lnTo>
                  <a:pt x="247" y="707"/>
                </a:lnTo>
                <a:lnTo>
                  <a:pt x="361" y="663"/>
                </a:lnTo>
                <a:lnTo>
                  <a:pt x="448" y="629"/>
                </a:lnTo>
                <a:lnTo>
                  <a:pt x="453" y="627"/>
                </a:lnTo>
                <a:lnTo>
                  <a:pt x="458" y="627"/>
                </a:lnTo>
                <a:lnTo>
                  <a:pt x="497" y="623"/>
                </a:lnTo>
                <a:lnTo>
                  <a:pt x="632" y="609"/>
                </a:lnTo>
                <a:lnTo>
                  <a:pt x="734" y="599"/>
                </a:lnTo>
                <a:lnTo>
                  <a:pt x="741" y="598"/>
                </a:lnTo>
                <a:lnTo>
                  <a:pt x="742" y="597"/>
                </a:lnTo>
                <a:lnTo>
                  <a:pt x="744" y="596"/>
                </a:lnTo>
                <a:lnTo>
                  <a:pt x="752" y="591"/>
                </a:lnTo>
                <a:lnTo>
                  <a:pt x="779" y="579"/>
                </a:lnTo>
                <a:lnTo>
                  <a:pt x="841" y="550"/>
                </a:lnTo>
                <a:lnTo>
                  <a:pt x="861" y="536"/>
                </a:lnTo>
                <a:lnTo>
                  <a:pt x="867" y="522"/>
                </a:lnTo>
                <a:lnTo>
                  <a:pt x="879" y="499"/>
                </a:lnTo>
                <a:lnTo>
                  <a:pt x="894" y="457"/>
                </a:lnTo>
                <a:lnTo>
                  <a:pt x="894" y="398"/>
                </a:lnTo>
                <a:lnTo>
                  <a:pt x="892" y="375"/>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58"/>
          <p:cNvSpPr/>
          <p:nvPr/>
        </p:nvSpPr>
        <p:spPr>
          <a:xfrm>
            <a:off x="3268800" y="3908520"/>
            <a:ext cx="1363680" cy="603000"/>
          </a:xfrm>
          <a:custGeom>
            <a:avLst/>
            <a:gdLst>
              <a:gd name="textAreaLeft" fmla="*/ 0 w 1363680"/>
              <a:gd name="textAreaRight" fmla="*/ 1364040 w 1363680"/>
              <a:gd name="textAreaTop" fmla="*/ 0 h 603000"/>
              <a:gd name="textAreaBottom" fmla="*/ 603000 h 603000"/>
            </a:gdLst>
            <a:ahLst/>
            <a:rect l="textAreaLeft" t="textAreaTop" r="textAreaRight" b="textAreaBottom"/>
            <a:pathLst>
              <a:path w="1718" h="759">
                <a:moveTo>
                  <a:pt x="1232" y="309"/>
                </a:moveTo>
                <a:lnTo>
                  <a:pt x="1230" y="310"/>
                </a:lnTo>
                <a:lnTo>
                  <a:pt x="1218" y="312"/>
                </a:lnTo>
                <a:lnTo>
                  <a:pt x="1177" y="318"/>
                </a:lnTo>
                <a:lnTo>
                  <a:pt x="1146" y="322"/>
                </a:lnTo>
                <a:lnTo>
                  <a:pt x="1145" y="322"/>
                </a:lnTo>
                <a:lnTo>
                  <a:pt x="1136" y="323"/>
                </a:lnTo>
                <a:lnTo>
                  <a:pt x="1117" y="322"/>
                </a:lnTo>
                <a:lnTo>
                  <a:pt x="1099" y="316"/>
                </a:lnTo>
                <a:lnTo>
                  <a:pt x="1081" y="306"/>
                </a:lnTo>
                <a:lnTo>
                  <a:pt x="1041" y="275"/>
                </a:lnTo>
                <a:lnTo>
                  <a:pt x="1032" y="265"/>
                </a:lnTo>
                <a:lnTo>
                  <a:pt x="1029" y="265"/>
                </a:lnTo>
                <a:lnTo>
                  <a:pt x="1018" y="264"/>
                </a:lnTo>
                <a:lnTo>
                  <a:pt x="976" y="258"/>
                </a:lnTo>
                <a:lnTo>
                  <a:pt x="945" y="254"/>
                </a:lnTo>
                <a:lnTo>
                  <a:pt x="944" y="253"/>
                </a:lnTo>
                <a:lnTo>
                  <a:pt x="939" y="251"/>
                </a:lnTo>
                <a:lnTo>
                  <a:pt x="938" y="247"/>
                </a:lnTo>
                <a:lnTo>
                  <a:pt x="938" y="243"/>
                </a:lnTo>
                <a:lnTo>
                  <a:pt x="937" y="233"/>
                </a:lnTo>
                <a:lnTo>
                  <a:pt x="927" y="209"/>
                </a:lnTo>
                <a:lnTo>
                  <a:pt x="914" y="197"/>
                </a:lnTo>
                <a:lnTo>
                  <a:pt x="908" y="193"/>
                </a:lnTo>
                <a:lnTo>
                  <a:pt x="895" y="184"/>
                </a:lnTo>
                <a:lnTo>
                  <a:pt x="886" y="177"/>
                </a:lnTo>
                <a:lnTo>
                  <a:pt x="886" y="176"/>
                </a:lnTo>
                <a:lnTo>
                  <a:pt x="873" y="173"/>
                </a:lnTo>
                <a:lnTo>
                  <a:pt x="854" y="168"/>
                </a:lnTo>
                <a:lnTo>
                  <a:pt x="827" y="165"/>
                </a:lnTo>
                <a:lnTo>
                  <a:pt x="798" y="164"/>
                </a:lnTo>
                <a:lnTo>
                  <a:pt x="788" y="163"/>
                </a:lnTo>
                <a:lnTo>
                  <a:pt x="787" y="167"/>
                </a:lnTo>
                <a:lnTo>
                  <a:pt x="785" y="172"/>
                </a:lnTo>
                <a:lnTo>
                  <a:pt x="782" y="176"/>
                </a:lnTo>
                <a:lnTo>
                  <a:pt x="774" y="186"/>
                </a:lnTo>
                <a:lnTo>
                  <a:pt x="755" y="207"/>
                </a:lnTo>
                <a:lnTo>
                  <a:pt x="745" y="218"/>
                </a:lnTo>
                <a:lnTo>
                  <a:pt x="738" y="216"/>
                </a:lnTo>
                <a:lnTo>
                  <a:pt x="734" y="211"/>
                </a:lnTo>
                <a:lnTo>
                  <a:pt x="730" y="206"/>
                </a:lnTo>
                <a:lnTo>
                  <a:pt x="728" y="201"/>
                </a:lnTo>
                <a:lnTo>
                  <a:pt x="727" y="193"/>
                </a:lnTo>
                <a:lnTo>
                  <a:pt x="727" y="180"/>
                </a:lnTo>
                <a:lnTo>
                  <a:pt x="728" y="167"/>
                </a:lnTo>
                <a:lnTo>
                  <a:pt x="726" y="157"/>
                </a:lnTo>
                <a:lnTo>
                  <a:pt x="725" y="153"/>
                </a:lnTo>
                <a:lnTo>
                  <a:pt x="718" y="146"/>
                </a:lnTo>
                <a:lnTo>
                  <a:pt x="701" y="123"/>
                </a:lnTo>
                <a:lnTo>
                  <a:pt x="687" y="106"/>
                </a:lnTo>
                <a:lnTo>
                  <a:pt x="687" y="105"/>
                </a:lnTo>
                <a:lnTo>
                  <a:pt x="671" y="111"/>
                </a:lnTo>
                <a:lnTo>
                  <a:pt x="643" y="119"/>
                </a:lnTo>
                <a:lnTo>
                  <a:pt x="616" y="121"/>
                </a:lnTo>
                <a:lnTo>
                  <a:pt x="588" y="118"/>
                </a:lnTo>
                <a:lnTo>
                  <a:pt x="533" y="101"/>
                </a:lnTo>
                <a:lnTo>
                  <a:pt x="519" y="95"/>
                </a:lnTo>
                <a:lnTo>
                  <a:pt x="505" y="88"/>
                </a:lnTo>
                <a:lnTo>
                  <a:pt x="492" y="78"/>
                </a:lnTo>
                <a:lnTo>
                  <a:pt x="473" y="57"/>
                </a:lnTo>
                <a:lnTo>
                  <a:pt x="459" y="34"/>
                </a:lnTo>
                <a:lnTo>
                  <a:pt x="444" y="1"/>
                </a:lnTo>
                <a:lnTo>
                  <a:pt x="443" y="0"/>
                </a:lnTo>
                <a:lnTo>
                  <a:pt x="442" y="7"/>
                </a:lnTo>
                <a:lnTo>
                  <a:pt x="442" y="27"/>
                </a:lnTo>
                <a:lnTo>
                  <a:pt x="442" y="43"/>
                </a:lnTo>
                <a:lnTo>
                  <a:pt x="440" y="43"/>
                </a:lnTo>
                <a:lnTo>
                  <a:pt x="428" y="39"/>
                </a:lnTo>
                <a:lnTo>
                  <a:pt x="389" y="23"/>
                </a:lnTo>
                <a:lnTo>
                  <a:pt x="359" y="12"/>
                </a:lnTo>
                <a:lnTo>
                  <a:pt x="358" y="11"/>
                </a:lnTo>
                <a:lnTo>
                  <a:pt x="350" y="22"/>
                </a:lnTo>
                <a:lnTo>
                  <a:pt x="334" y="46"/>
                </a:lnTo>
                <a:lnTo>
                  <a:pt x="294" y="101"/>
                </a:lnTo>
                <a:lnTo>
                  <a:pt x="231" y="153"/>
                </a:lnTo>
                <a:lnTo>
                  <a:pt x="209" y="163"/>
                </a:lnTo>
                <a:lnTo>
                  <a:pt x="187" y="173"/>
                </a:lnTo>
                <a:lnTo>
                  <a:pt x="145" y="188"/>
                </a:lnTo>
                <a:lnTo>
                  <a:pt x="73" y="212"/>
                </a:lnTo>
                <a:lnTo>
                  <a:pt x="13" y="234"/>
                </a:lnTo>
                <a:lnTo>
                  <a:pt x="0" y="240"/>
                </a:lnTo>
                <a:lnTo>
                  <a:pt x="2" y="242"/>
                </a:lnTo>
                <a:lnTo>
                  <a:pt x="17" y="249"/>
                </a:lnTo>
                <a:lnTo>
                  <a:pt x="69" y="273"/>
                </a:lnTo>
                <a:lnTo>
                  <a:pt x="107" y="291"/>
                </a:lnTo>
                <a:lnTo>
                  <a:pt x="110" y="292"/>
                </a:lnTo>
                <a:lnTo>
                  <a:pt x="122" y="313"/>
                </a:lnTo>
                <a:lnTo>
                  <a:pt x="153" y="362"/>
                </a:lnTo>
                <a:lnTo>
                  <a:pt x="233" y="471"/>
                </a:lnTo>
                <a:lnTo>
                  <a:pt x="279" y="515"/>
                </a:lnTo>
                <a:lnTo>
                  <a:pt x="329" y="546"/>
                </a:lnTo>
                <a:lnTo>
                  <a:pt x="356" y="553"/>
                </a:lnTo>
                <a:lnTo>
                  <a:pt x="360" y="561"/>
                </a:lnTo>
                <a:lnTo>
                  <a:pt x="374" y="583"/>
                </a:lnTo>
                <a:lnTo>
                  <a:pt x="385" y="600"/>
                </a:lnTo>
                <a:lnTo>
                  <a:pt x="386" y="600"/>
                </a:lnTo>
                <a:lnTo>
                  <a:pt x="391" y="601"/>
                </a:lnTo>
                <a:lnTo>
                  <a:pt x="409" y="602"/>
                </a:lnTo>
                <a:lnTo>
                  <a:pt x="423" y="602"/>
                </a:lnTo>
                <a:lnTo>
                  <a:pt x="424" y="602"/>
                </a:lnTo>
                <a:lnTo>
                  <a:pt x="442" y="597"/>
                </a:lnTo>
                <a:lnTo>
                  <a:pt x="457" y="589"/>
                </a:lnTo>
                <a:lnTo>
                  <a:pt x="470" y="578"/>
                </a:lnTo>
                <a:lnTo>
                  <a:pt x="492" y="553"/>
                </a:lnTo>
                <a:lnTo>
                  <a:pt x="515" y="531"/>
                </a:lnTo>
                <a:lnTo>
                  <a:pt x="546" y="516"/>
                </a:lnTo>
                <a:lnTo>
                  <a:pt x="590" y="517"/>
                </a:lnTo>
                <a:lnTo>
                  <a:pt x="621" y="526"/>
                </a:lnTo>
                <a:lnTo>
                  <a:pt x="645" y="533"/>
                </a:lnTo>
                <a:lnTo>
                  <a:pt x="688" y="542"/>
                </a:lnTo>
                <a:lnTo>
                  <a:pt x="769" y="560"/>
                </a:lnTo>
                <a:lnTo>
                  <a:pt x="847" y="601"/>
                </a:lnTo>
                <a:lnTo>
                  <a:pt x="868" y="618"/>
                </a:lnTo>
                <a:lnTo>
                  <a:pt x="872" y="618"/>
                </a:lnTo>
                <a:lnTo>
                  <a:pt x="888" y="618"/>
                </a:lnTo>
                <a:lnTo>
                  <a:pt x="900" y="618"/>
                </a:lnTo>
                <a:lnTo>
                  <a:pt x="901" y="618"/>
                </a:lnTo>
                <a:lnTo>
                  <a:pt x="900" y="626"/>
                </a:lnTo>
                <a:lnTo>
                  <a:pt x="897" y="642"/>
                </a:lnTo>
                <a:lnTo>
                  <a:pt x="890" y="658"/>
                </a:lnTo>
                <a:lnTo>
                  <a:pt x="876" y="687"/>
                </a:lnTo>
                <a:lnTo>
                  <a:pt x="869" y="705"/>
                </a:lnTo>
                <a:lnTo>
                  <a:pt x="885" y="720"/>
                </a:lnTo>
                <a:lnTo>
                  <a:pt x="922" y="743"/>
                </a:lnTo>
                <a:lnTo>
                  <a:pt x="964" y="755"/>
                </a:lnTo>
                <a:lnTo>
                  <a:pt x="1007" y="759"/>
                </a:lnTo>
                <a:lnTo>
                  <a:pt x="1051" y="753"/>
                </a:lnTo>
                <a:lnTo>
                  <a:pt x="1095" y="739"/>
                </a:lnTo>
                <a:lnTo>
                  <a:pt x="1116" y="727"/>
                </a:lnTo>
                <a:lnTo>
                  <a:pt x="1124" y="703"/>
                </a:lnTo>
                <a:lnTo>
                  <a:pt x="1141" y="686"/>
                </a:lnTo>
                <a:lnTo>
                  <a:pt x="1166" y="673"/>
                </a:lnTo>
                <a:lnTo>
                  <a:pt x="1196" y="664"/>
                </a:lnTo>
                <a:lnTo>
                  <a:pt x="1265" y="652"/>
                </a:lnTo>
                <a:lnTo>
                  <a:pt x="1334" y="636"/>
                </a:lnTo>
                <a:lnTo>
                  <a:pt x="1364" y="622"/>
                </a:lnTo>
                <a:lnTo>
                  <a:pt x="1388" y="604"/>
                </a:lnTo>
                <a:lnTo>
                  <a:pt x="1405" y="579"/>
                </a:lnTo>
                <a:lnTo>
                  <a:pt x="1413" y="544"/>
                </a:lnTo>
                <a:lnTo>
                  <a:pt x="1433" y="537"/>
                </a:lnTo>
                <a:lnTo>
                  <a:pt x="1469" y="527"/>
                </a:lnTo>
                <a:lnTo>
                  <a:pt x="1535" y="523"/>
                </a:lnTo>
                <a:lnTo>
                  <a:pt x="1605" y="545"/>
                </a:lnTo>
                <a:lnTo>
                  <a:pt x="1626" y="555"/>
                </a:lnTo>
                <a:lnTo>
                  <a:pt x="1627" y="551"/>
                </a:lnTo>
                <a:lnTo>
                  <a:pt x="1640" y="523"/>
                </a:lnTo>
                <a:lnTo>
                  <a:pt x="1683" y="425"/>
                </a:lnTo>
                <a:lnTo>
                  <a:pt x="1716" y="350"/>
                </a:lnTo>
                <a:lnTo>
                  <a:pt x="1718" y="345"/>
                </a:lnTo>
                <a:lnTo>
                  <a:pt x="1714" y="345"/>
                </a:lnTo>
                <a:lnTo>
                  <a:pt x="1690" y="344"/>
                </a:lnTo>
                <a:lnTo>
                  <a:pt x="1609" y="341"/>
                </a:lnTo>
                <a:lnTo>
                  <a:pt x="1547" y="338"/>
                </a:lnTo>
                <a:lnTo>
                  <a:pt x="1544" y="337"/>
                </a:lnTo>
                <a:lnTo>
                  <a:pt x="1556" y="324"/>
                </a:lnTo>
                <a:lnTo>
                  <a:pt x="1562" y="313"/>
                </a:lnTo>
                <a:lnTo>
                  <a:pt x="1562" y="309"/>
                </a:lnTo>
                <a:lnTo>
                  <a:pt x="1562" y="305"/>
                </a:lnTo>
                <a:lnTo>
                  <a:pt x="1560" y="301"/>
                </a:lnTo>
                <a:lnTo>
                  <a:pt x="1557" y="298"/>
                </a:lnTo>
                <a:lnTo>
                  <a:pt x="1553" y="296"/>
                </a:lnTo>
                <a:lnTo>
                  <a:pt x="1547" y="294"/>
                </a:lnTo>
                <a:lnTo>
                  <a:pt x="1536" y="292"/>
                </a:lnTo>
                <a:lnTo>
                  <a:pt x="1523" y="292"/>
                </a:lnTo>
                <a:lnTo>
                  <a:pt x="1495" y="295"/>
                </a:lnTo>
                <a:lnTo>
                  <a:pt x="1472" y="301"/>
                </a:lnTo>
                <a:lnTo>
                  <a:pt x="1467" y="305"/>
                </a:lnTo>
                <a:lnTo>
                  <a:pt x="1465" y="306"/>
                </a:lnTo>
                <a:lnTo>
                  <a:pt x="1452" y="307"/>
                </a:lnTo>
                <a:lnTo>
                  <a:pt x="1409" y="310"/>
                </a:lnTo>
                <a:lnTo>
                  <a:pt x="1377" y="313"/>
                </a:lnTo>
                <a:lnTo>
                  <a:pt x="1376" y="313"/>
                </a:lnTo>
                <a:lnTo>
                  <a:pt x="1374" y="314"/>
                </a:lnTo>
                <a:lnTo>
                  <a:pt x="1367" y="321"/>
                </a:lnTo>
                <a:lnTo>
                  <a:pt x="1342" y="342"/>
                </a:lnTo>
                <a:lnTo>
                  <a:pt x="1322" y="360"/>
                </a:lnTo>
                <a:lnTo>
                  <a:pt x="1321" y="360"/>
                </a:lnTo>
                <a:lnTo>
                  <a:pt x="1307" y="352"/>
                </a:lnTo>
                <a:lnTo>
                  <a:pt x="1265" y="328"/>
                </a:lnTo>
                <a:lnTo>
                  <a:pt x="1233" y="310"/>
                </a:lnTo>
                <a:lnTo>
                  <a:pt x="1232" y="3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59"/>
          <p:cNvSpPr/>
          <p:nvPr/>
        </p:nvSpPr>
        <p:spPr>
          <a:xfrm>
            <a:off x="3268800" y="3908520"/>
            <a:ext cx="1363680" cy="603000"/>
          </a:xfrm>
          <a:custGeom>
            <a:avLst/>
            <a:gdLst>
              <a:gd name="textAreaLeft" fmla="*/ 0 w 1363680"/>
              <a:gd name="textAreaRight" fmla="*/ 1364040 w 1363680"/>
              <a:gd name="textAreaTop" fmla="*/ 0 h 603000"/>
              <a:gd name="textAreaBottom" fmla="*/ 603000 h 603000"/>
            </a:gdLst>
            <a:ahLst/>
            <a:rect l="textAreaLeft" t="textAreaTop" r="textAreaRight" b="textAreaBottom"/>
            <a:pathLst>
              <a:path w="1718" h="759">
                <a:moveTo>
                  <a:pt x="1232" y="309"/>
                </a:moveTo>
                <a:lnTo>
                  <a:pt x="1230" y="310"/>
                </a:lnTo>
                <a:lnTo>
                  <a:pt x="1218" y="312"/>
                </a:lnTo>
                <a:lnTo>
                  <a:pt x="1177" y="318"/>
                </a:lnTo>
                <a:lnTo>
                  <a:pt x="1146" y="322"/>
                </a:lnTo>
                <a:lnTo>
                  <a:pt x="1145" y="322"/>
                </a:lnTo>
                <a:lnTo>
                  <a:pt x="1136" y="323"/>
                </a:lnTo>
                <a:lnTo>
                  <a:pt x="1117" y="322"/>
                </a:lnTo>
                <a:lnTo>
                  <a:pt x="1099" y="316"/>
                </a:lnTo>
                <a:lnTo>
                  <a:pt x="1081" y="306"/>
                </a:lnTo>
                <a:lnTo>
                  <a:pt x="1041" y="275"/>
                </a:lnTo>
                <a:lnTo>
                  <a:pt x="1032" y="265"/>
                </a:lnTo>
                <a:lnTo>
                  <a:pt x="1029" y="265"/>
                </a:lnTo>
                <a:lnTo>
                  <a:pt x="1018" y="264"/>
                </a:lnTo>
                <a:lnTo>
                  <a:pt x="976" y="258"/>
                </a:lnTo>
                <a:lnTo>
                  <a:pt x="945" y="254"/>
                </a:lnTo>
                <a:lnTo>
                  <a:pt x="944" y="253"/>
                </a:lnTo>
                <a:lnTo>
                  <a:pt x="939" y="251"/>
                </a:lnTo>
                <a:lnTo>
                  <a:pt x="938" y="247"/>
                </a:lnTo>
                <a:lnTo>
                  <a:pt x="938" y="243"/>
                </a:lnTo>
                <a:lnTo>
                  <a:pt x="937" y="233"/>
                </a:lnTo>
                <a:lnTo>
                  <a:pt x="927" y="209"/>
                </a:lnTo>
                <a:lnTo>
                  <a:pt x="914" y="197"/>
                </a:lnTo>
                <a:lnTo>
                  <a:pt x="908" y="193"/>
                </a:lnTo>
                <a:lnTo>
                  <a:pt x="895" y="184"/>
                </a:lnTo>
                <a:lnTo>
                  <a:pt x="886" y="177"/>
                </a:lnTo>
                <a:lnTo>
                  <a:pt x="886" y="176"/>
                </a:lnTo>
                <a:lnTo>
                  <a:pt x="873" y="173"/>
                </a:lnTo>
                <a:lnTo>
                  <a:pt x="854" y="168"/>
                </a:lnTo>
                <a:lnTo>
                  <a:pt x="827" y="165"/>
                </a:lnTo>
                <a:lnTo>
                  <a:pt x="798" y="164"/>
                </a:lnTo>
                <a:lnTo>
                  <a:pt x="788" y="163"/>
                </a:lnTo>
                <a:lnTo>
                  <a:pt x="787" y="167"/>
                </a:lnTo>
                <a:lnTo>
                  <a:pt x="785" y="172"/>
                </a:lnTo>
                <a:lnTo>
                  <a:pt x="782" y="176"/>
                </a:lnTo>
                <a:lnTo>
                  <a:pt x="774" y="186"/>
                </a:lnTo>
                <a:lnTo>
                  <a:pt x="755" y="207"/>
                </a:lnTo>
                <a:lnTo>
                  <a:pt x="745" y="218"/>
                </a:lnTo>
                <a:lnTo>
                  <a:pt x="738" y="216"/>
                </a:lnTo>
                <a:lnTo>
                  <a:pt x="734" y="211"/>
                </a:lnTo>
                <a:lnTo>
                  <a:pt x="730" y="206"/>
                </a:lnTo>
                <a:lnTo>
                  <a:pt x="728" y="201"/>
                </a:lnTo>
                <a:lnTo>
                  <a:pt x="727" y="193"/>
                </a:lnTo>
                <a:lnTo>
                  <a:pt x="727" y="180"/>
                </a:lnTo>
                <a:lnTo>
                  <a:pt x="728" y="167"/>
                </a:lnTo>
                <a:lnTo>
                  <a:pt x="726" y="157"/>
                </a:lnTo>
                <a:lnTo>
                  <a:pt x="725" y="153"/>
                </a:lnTo>
                <a:lnTo>
                  <a:pt x="718" y="146"/>
                </a:lnTo>
                <a:lnTo>
                  <a:pt x="701" y="123"/>
                </a:lnTo>
                <a:lnTo>
                  <a:pt x="687" y="106"/>
                </a:lnTo>
                <a:lnTo>
                  <a:pt x="687" y="105"/>
                </a:lnTo>
                <a:lnTo>
                  <a:pt x="671" y="111"/>
                </a:lnTo>
                <a:lnTo>
                  <a:pt x="643" y="119"/>
                </a:lnTo>
                <a:lnTo>
                  <a:pt x="616" y="121"/>
                </a:lnTo>
                <a:lnTo>
                  <a:pt x="588" y="118"/>
                </a:lnTo>
                <a:lnTo>
                  <a:pt x="533" y="101"/>
                </a:lnTo>
                <a:lnTo>
                  <a:pt x="519" y="95"/>
                </a:lnTo>
                <a:lnTo>
                  <a:pt x="505" y="88"/>
                </a:lnTo>
                <a:lnTo>
                  <a:pt x="492" y="78"/>
                </a:lnTo>
                <a:lnTo>
                  <a:pt x="473" y="57"/>
                </a:lnTo>
                <a:lnTo>
                  <a:pt x="459" y="34"/>
                </a:lnTo>
                <a:lnTo>
                  <a:pt x="444" y="1"/>
                </a:lnTo>
                <a:lnTo>
                  <a:pt x="443" y="0"/>
                </a:lnTo>
                <a:lnTo>
                  <a:pt x="442" y="7"/>
                </a:lnTo>
                <a:lnTo>
                  <a:pt x="442" y="27"/>
                </a:lnTo>
                <a:lnTo>
                  <a:pt x="442" y="43"/>
                </a:lnTo>
                <a:lnTo>
                  <a:pt x="440" y="43"/>
                </a:lnTo>
                <a:lnTo>
                  <a:pt x="428" y="39"/>
                </a:lnTo>
                <a:lnTo>
                  <a:pt x="389" y="23"/>
                </a:lnTo>
                <a:lnTo>
                  <a:pt x="359" y="12"/>
                </a:lnTo>
                <a:lnTo>
                  <a:pt x="358" y="11"/>
                </a:lnTo>
                <a:lnTo>
                  <a:pt x="350" y="22"/>
                </a:lnTo>
                <a:lnTo>
                  <a:pt x="334" y="46"/>
                </a:lnTo>
                <a:lnTo>
                  <a:pt x="294" y="101"/>
                </a:lnTo>
                <a:lnTo>
                  <a:pt x="231" y="153"/>
                </a:lnTo>
                <a:lnTo>
                  <a:pt x="209" y="163"/>
                </a:lnTo>
                <a:lnTo>
                  <a:pt x="187" y="173"/>
                </a:lnTo>
                <a:lnTo>
                  <a:pt x="145" y="188"/>
                </a:lnTo>
                <a:lnTo>
                  <a:pt x="73" y="212"/>
                </a:lnTo>
                <a:lnTo>
                  <a:pt x="13" y="234"/>
                </a:lnTo>
                <a:lnTo>
                  <a:pt x="0" y="240"/>
                </a:lnTo>
                <a:lnTo>
                  <a:pt x="2" y="242"/>
                </a:lnTo>
                <a:lnTo>
                  <a:pt x="17" y="249"/>
                </a:lnTo>
                <a:lnTo>
                  <a:pt x="69" y="273"/>
                </a:lnTo>
                <a:lnTo>
                  <a:pt x="107" y="291"/>
                </a:lnTo>
                <a:lnTo>
                  <a:pt x="110" y="292"/>
                </a:lnTo>
                <a:lnTo>
                  <a:pt x="122" y="313"/>
                </a:lnTo>
                <a:lnTo>
                  <a:pt x="153" y="362"/>
                </a:lnTo>
                <a:lnTo>
                  <a:pt x="233" y="471"/>
                </a:lnTo>
                <a:lnTo>
                  <a:pt x="279" y="515"/>
                </a:lnTo>
                <a:lnTo>
                  <a:pt x="329" y="546"/>
                </a:lnTo>
                <a:lnTo>
                  <a:pt x="356" y="553"/>
                </a:lnTo>
                <a:lnTo>
                  <a:pt x="360" y="561"/>
                </a:lnTo>
                <a:lnTo>
                  <a:pt x="374" y="583"/>
                </a:lnTo>
                <a:lnTo>
                  <a:pt x="385" y="600"/>
                </a:lnTo>
                <a:lnTo>
                  <a:pt x="386" y="600"/>
                </a:lnTo>
                <a:lnTo>
                  <a:pt x="391" y="601"/>
                </a:lnTo>
                <a:lnTo>
                  <a:pt x="409" y="602"/>
                </a:lnTo>
                <a:lnTo>
                  <a:pt x="423" y="602"/>
                </a:lnTo>
                <a:lnTo>
                  <a:pt x="424" y="602"/>
                </a:lnTo>
                <a:lnTo>
                  <a:pt x="442" y="597"/>
                </a:lnTo>
                <a:lnTo>
                  <a:pt x="457" y="589"/>
                </a:lnTo>
                <a:lnTo>
                  <a:pt x="470" y="578"/>
                </a:lnTo>
                <a:lnTo>
                  <a:pt x="492" y="553"/>
                </a:lnTo>
                <a:lnTo>
                  <a:pt x="515" y="531"/>
                </a:lnTo>
                <a:lnTo>
                  <a:pt x="546" y="516"/>
                </a:lnTo>
                <a:lnTo>
                  <a:pt x="590" y="517"/>
                </a:lnTo>
                <a:lnTo>
                  <a:pt x="621" y="526"/>
                </a:lnTo>
                <a:lnTo>
                  <a:pt x="645" y="533"/>
                </a:lnTo>
                <a:lnTo>
                  <a:pt x="688" y="542"/>
                </a:lnTo>
                <a:lnTo>
                  <a:pt x="769" y="560"/>
                </a:lnTo>
                <a:lnTo>
                  <a:pt x="847" y="601"/>
                </a:lnTo>
                <a:lnTo>
                  <a:pt x="868" y="618"/>
                </a:lnTo>
                <a:lnTo>
                  <a:pt x="872" y="618"/>
                </a:lnTo>
                <a:lnTo>
                  <a:pt x="888" y="618"/>
                </a:lnTo>
                <a:lnTo>
                  <a:pt x="900" y="618"/>
                </a:lnTo>
                <a:lnTo>
                  <a:pt x="901" y="618"/>
                </a:lnTo>
                <a:lnTo>
                  <a:pt x="900" y="626"/>
                </a:lnTo>
                <a:lnTo>
                  <a:pt x="897" y="642"/>
                </a:lnTo>
                <a:lnTo>
                  <a:pt x="890" y="658"/>
                </a:lnTo>
                <a:lnTo>
                  <a:pt x="876" y="687"/>
                </a:lnTo>
                <a:lnTo>
                  <a:pt x="869" y="705"/>
                </a:lnTo>
                <a:lnTo>
                  <a:pt x="885" y="720"/>
                </a:lnTo>
                <a:lnTo>
                  <a:pt x="922" y="743"/>
                </a:lnTo>
                <a:lnTo>
                  <a:pt x="964" y="755"/>
                </a:lnTo>
                <a:lnTo>
                  <a:pt x="1007" y="759"/>
                </a:lnTo>
                <a:lnTo>
                  <a:pt x="1051" y="753"/>
                </a:lnTo>
                <a:lnTo>
                  <a:pt x="1095" y="739"/>
                </a:lnTo>
                <a:lnTo>
                  <a:pt x="1116" y="727"/>
                </a:lnTo>
                <a:lnTo>
                  <a:pt x="1124" y="703"/>
                </a:lnTo>
                <a:lnTo>
                  <a:pt x="1141" y="686"/>
                </a:lnTo>
                <a:lnTo>
                  <a:pt x="1166" y="673"/>
                </a:lnTo>
                <a:lnTo>
                  <a:pt x="1196" y="664"/>
                </a:lnTo>
                <a:lnTo>
                  <a:pt x="1265" y="652"/>
                </a:lnTo>
                <a:lnTo>
                  <a:pt x="1334" y="636"/>
                </a:lnTo>
                <a:lnTo>
                  <a:pt x="1364" y="622"/>
                </a:lnTo>
                <a:lnTo>
                  <a:pt x="1388" y="604"/>
                </a:lnTo>
                <a:lnTo>
                  <a:pt x="1405" y="579"/>
                </a:lnTo>
                <a:lnTo>
                  <a:pt x="1413" y="544"/>
                </a:lnTo>
                <a:lnTo>
                  <a:pt x="1433" y="537"/>
                </a:lnTo>
                <a:lnTo>
                  <a:pt x="1469" y="527"/>
                </a:lnTo>
                <a:lnTo>
                  <a:pt x="1535" y="523"/>
                </a:lnTo>
                <a:lnTo>
                  <a:pt x="1605" y="545"/>
                </a:lnTo>
                <a:lnTo>
                  <a:pt x="1626" y="555"/>
                </a:lnTo>
                <a:lnTo>
                  <a:pt x="1627" y="551"/>
                </a:lnTo>
                <a:lnTo>
                  <a:pt x="1640" y="523"/>
                </a:lnTo>
                <a:lnTo>
                  <a:pt x="1683" y="425"/>
                </a:lnTo>
                <a:lnTo>
                  <a:pt x="1716" y="350"/>
                </a:lnTo>
                <a:lnTo>
                  <a:pt x="1718" y="345"/>
                </a:lnTo>
                <a:lnTo>
                  <a:pt x="1714" y="345"/>
                </a:lnTo>
                <a:lnTo>
                  <a:pt x="1690" y="344"/>
                </a:lnTo>
                <a:lnTo>
                  <a:pt x="1609" y="341"/>
                </a:lnTo>
                <a:lnTo>
                  <a:pt x="1547" y="338"/>
                </a:lnTo>
                <a:lnTo>
                  <a:pt x="1544" y="337"/>
                </a:lnTo>
                <a:lnTo>
                  <a:pt x="1556" y="324"/>
                </a:lnTo>
                <a:lnTo>
                  <a:pt x="1562" y="313"/>
                </a:lnTo>
                <a:lnTo>
                  <a:pt x="1562" y="309"/>
                </a:lnTo>
                <a:lnTo>
                  <a:pt x="1562" y="305"/>
                </a:lnTo>
                <a:lnTo>
                  <a:pt x="1560" y="301"/>
                </a:lnTo>
                <a:lnTo>
                  <a:pt x="1557" y="298"/>
                </a:lnTo>
                <a:lnTo>
                  <a:pt x="1553" y="296"/>
                </a:lnTo>
                <a:lnTo>
                  <a:pt x="1547" y="294"/>
                </a:lnTo>
                <a:lnTo>
                  <a:pt x="1536" y="292"/>
                </a:lnTo>
                <a:lnTo>
                  <a:pt x="1523" y="292"/>
                </a:lnTo>
                <a:lnTo>
                  <a:pt x="1495" y="295"/>
                </a:lnTo>
                <a:lnTo>
                  <a:pt x="1472" y="301"/>
                </a:lnTo>
                <a:lnTo>
                  <a:pt x="1467" y="305"/>
                </a:lnTo>
                <a:lnTo>
                  <a:pt x="1465" y="306"/>
                </a:lnTo>
                <a:lnTo>
                  <a:pt x="1452" y="307"/>
                </a:lnTo>
                <a:lnTo>
                  <a:pt x="1409" y="310"/>
                </a:lnTo>
                <a:lnTo>
                  <a:pt x="1377" y="313"/>
                </a:lnTo>
                <a:lnTo>
                  <a:pt x="1376" y="313"/>
                </a:lnTo>
                <a:lnTo>
                  <a:pt x="1374" y="314"/>
                </a:lnTo>
                <a:lnTo>
                  <a:pt x="1367" y="321"/>
                </a:lnTo>
                <a:lnTo>
                  <a:pt x="1342" y="342"/>
                </a:lnTo>
                <a:lnTo>
                  <a:pt x="1322" y="360"/>
                </a:lnTo>
                <a:lnTo>
                  <a:pt x="1321" y="360"/>
                </a:lnTo>
                <a:lnTo>
                  <a:pt x="1307" y="352"/>
                </a:lnTo>
                <a:lnTo>
                  <a:pt x="1265" y="328"/>
                </a:lnTo>
                <a:lnTo>
                  <a:pt x="1233" y="310"/>
                </a:lnTo>
                <a:lnTo>
                  <a:pt x="1232" y="309"/>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60"/>
          <p:cNvSpPr/>
          <p:nvPr/>
        </p:nvSpPr>
        <p:spPr>
          <a:xfrm>
            <a:off x="3268800" y="3908520"/>
            <a:ext cx="815760" cy="479160"/>
          </a:xfrm>
          <a:custGeom>
            <a:avLst/>
            <a:gdLst>
              <a:gd name="textAreaLeft" fmla="*/ 0 w 815760"/>
              <a:gd name="textAreaRight" fmla="*/ 816120 w 815760"/>
              <a:gd name="textAreaTop" fmla="*/ 0 h 479160"/>
              <a:gd name="textAreaBottom" fmla="*/ 479520 h 479160"/>
            </a:gdLst>
            <a:ahLst/>
            <a:rect l="textAreaLeft" t="textAreaTop" r="textAreaRight" b="textAreaBottom"/>
            <a:pathLst>
              <a:path w="1027" h="602">
                <a:moveTo>
                  <a:pt x="1027" y="276"/>
                </a:moveTo>
                <a:lnTo>
                  <a:pt x="1025" y="276"/>
                </a:lnTo>
                <a:lnTo>
                  <a:pt x="1012" y="272"/>
                </a:lnTo>
                <a:lnTo>
                  <a:pt x="971" y="258"/>
                </a:lnTo>
                <a:lnTo>
                  <a:pt x="938" y="247"/>
                </a:lnTo>
                <a:lnTo>
                  <a:pt x="937" y="246"/>
                </a:lnTo>
                <a:lnTo>
                  <a:pt x="928" y="225"/>
                </a:lnTo>
                <a:lnTo>
                  <a:pt x="904" y="192"/>
                </a:lnTo>
                <a:lnTo>
                  <a:pt x="878" y="175"/>
                </a:lnTo>
                <a:lnTo>
                  <a:pt x="851" y="167"/>
                </a:lnTo>
                <a:lnTo>
                  <a:pt x="824" y="165"/>
                </a:lnTo>
                <a:lnTo>
                  <a:pt x="799" y="164"/>
                </a:lnTo>
                <a:lnTo>
                  <a:pt x="788" y="163"/>
                </a:lnTo>
                <a:lnTo>
                  <a:pt x="787" y="167"/>
                </a:lnTo>
                <a:lnTo>
                  <a:pt x="785" y="172"/>
                </a:lnTo>
                <a:lnTo>
                  <a:pt x="782" y="176"/>
                </a:lnTo>
                <a:lnTo>
                  <a:pt x="774" y="186"/>
                </a:lnTo>
                <a:lnTo>
                  <a:pt x="755" y="207"/>
                </a:lnTo>
                <a:lnTo>
                  <a:pt x="745" y="218"/>
                </a:lnTo>
                <a:lnTo>
                  <a:pt x="738" y="216"/>
                </a:lnTo>
                <a:lnTo>
                  <a:pt x="734" y="211"/>
                </a:lnTo>
                <a:lnTo>
                  <a:pt x="730" y="206"/>
                </a:lnTo>
                <a:lnTo>
                  <a:pt x="728" y="201"/>
                </a:lnTo>
                <a:lnTo>
                  <a:pt x="727" y="193"/>
                </a:lnTo>
                <a:lnTo>
                  <a:pt x="727" y="180"/>
                </a:lnTo>
                <a:lnTo>
                  <a:pt x="726" y="157"/>
                </a:lnTo>
                <a:lnTo>
                  <a:pt x="725" y="153"/>
                </a:lnTo>
                <a:lnTo>
                  <a:pt x="718" y="146"/>
                </a:lnTo>
                <a:lnTo>
                  <a:pt x="701" y="123"/>
                </a:lnTo>
                <a:lnTo>
                  <a:pt x="687" y="106"/>
                </a:lnTo>
                <a:lnTo>
                  <a:pt x="687" y="105"/>
                </a:lnTo>
                <a:lnTo>
                  <a:pt x="671" y="111"/>
                </a:lnTo>
                <a:lnTo>
                  <a:pt x="643" y="119"/>
                </a:lnTo>
                <a:lnTo>
                  <a:pt x="616" y="121"/>
                </a:lnTo>
                <a:lnTo>
                  <a:pt x="588" y="118"/>
                </a:lnTo>
                <a:lnTo>
                  <a:pt x="533" y="101"/>
                </a:lnTo>
                <a:lnTo>
                  <a:pt x="519" y="95"/>
                </a:lnTo>
                <a:lnTo>
                  <a:pt x="505" y="89"/>
                </a:lnTo>
                <a:lnTo>
                  <a:pt x="492" y="79"/>
                </a:lnTo>
                <a:lnTo>
                  <a:pt x="473" y="57"/>
                </a:lnTo>
                <a:lnTo>
                  <a:pt x="459" y="35"/>
                </a:lnTo>
                <a:lnTo>
                  <a:pt x="444" y="2"/>
                </a:lnTo>
                <a:lnTo>
                  <a:pt x="443" y="0"/>
                </a:lnTo>
                <a:lnTo>
                  <a:pt x="442" y="7"/>
                </a:lnTo>
                <a:lnTo>
                  <a:pt x="442" y="27"/>
                </a:lnTo>
                <a:lnTo>
                  <a:pt x="442" y="43"/>
                </a:lnTo>
                <a:lnTo>
                  <a:pt x="440" y="43"/>
                </a:lnTo>
                <a:lnTo>
                  <a:pt x="428" y="39"/>
                </a:lnTo>
                <a:lnTo>
                  <a:pt x="389" y="23"/>
                </a:lnTo>
                <a:lnTo>
                  <a:pt x="359" y="12"/>
                </a:lnTo>
                <a:lnTo>
                  <a:pt x="358" y="11"/>
                </a:lnTo>
                <a:lnTo>
                  <a:pt x="350" y="22"/>
                </a:lnTo>
                <a:lnTo>
                  <a:pt x="334" y="46"/>
                </a:lnTo>
                <a:lnTo>
                  <a:pt x="294" y="101"/>
                </a:lnTo>
                <a:lnTo>
                  <a:pt x="231" y="153"/>
                </a:lnTo>
                <a:lnTo>
                  <a:pt x="209" y="163"/>
                </a:lnTo>
                <a:lnTo>
                  <a:pt x="187" y="173"/>
                </a:lnTo>
                <a:lnTo>
                  <a:pt x="145" y="188"/>
                </a:lnTo>
                <a:lnTo>
                  <a:pt x="73" y="212"/>
                </a:lnTo>
                <a:lnTo>
                  <a:pt x="13" y="234"/>
                </a:lnTo>
                <a:lnTo>
                  <a:pt x="0" y="240"/>
                </a:lnTo>
                <a:lnTo>
                  <a:pt x="2" y="242"/>
                </a:lnTo>
                <a:lnTo>
                  <a:pt x="17" y="249"/>
                </a:lnTo>
                <a:lnTo>
                  <a:pt x="69" y="273"/>
                </a:lnTo>
                <a:lnTo>
                  <a:pt x="107" y="291"/>
                </a:lnTo>
                <a:lnTo>
                  <a:pt x="110" y="292"/>
                </a:lnTo>
                <a:lnTo>
                  <a:pt x="122" y="313"/>
                </a:lnTo>
                <a:lnTo>
                  <a:pt x="153" y="362"/>
                </a:lnTo>
                <a:lnTo>
                  <a:pt x="233" y="471"/>
                </a:lnTo>
                <a:lnTo>
                  <a:pt x="279" y="515"/>
                </a:lnTo>
                <a:lnTo>
                  <a:pt x="329" y="546"/>
                </a:lnTo>
                <a:lnTo>
                  <a:pt x="356" y="553"/>
                </a:lnTo>
                <a:lnTo>
                  <a:pt x="360" y="561"/>
                </a:lnTo>
                <a:lnTo>
                  <a:pt x="374" y="583"/>
                </a:lnTo>
                <a:lnTo>
                  <a:pt x="385" y="600"/>
                </a:lnTo>
                <a:lnTo>
                  <a:pt x="386" y="600"/>
                </a:lnTo>
                <a:lnTo>
                  <a:pt x="391" y="601"/>
                </a:lnTo>
                <a:lnTo>
                  <a:pt x="409" y="602"/>
                </a:lnTo>
                <a:lnTo>
                  <a:pt x="423" y="602"/>
                </a:lnTo>
                <a:lnTo>
                  <a:pt x="424" y="602"/>
                </a:lnTo>
                <a:lnTo>
                  <a:pt x="445" y="599"/>
                </a:lnTo>
                <a:lnTo>
                  <a:pt x="492" y="589"/>
                </a:lnTo>
                <a:lnTo>
                  <a:pt x="591" y="567"/>
                </a:lnTo>
                <a:lnTo>
                  <a:pt x="663" y="544"/>
                </a:lnTo>
                <a:lnTo>
                  <a:pt x="673" y="538"/>
                </a:lnTo>
                <a:lnTo>
                  <a:pt x="680" y="533"/>
                </a:lnTo>
                <a:lnTo>
                  <a:pt x="728" y="497"/>
                </a:lnTo>
                <a:lnTo>
                  <a:pt x="893" y="375"/>
                </a:lnTo>
                <a:lnTo>
                  <a:pt x="1020" y="282"/>
                </a:lnTo>
                <a:lnTo>
                  <a:pt x="1027"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61"/>
          <p:cNvSpPr/>
          <p:nvPr/>
        </p:nvSpPr>
        <p:spPr>
          <a:xfrm>
            <a:off x="3268800" y="3908520"/>
            <a:ext cx="815760" cy="479160"/>
          </a:xfrm>
          <a:custGeom>
            <a:avLst/>
            <a:gdLst>
              <a:gd name="textAreaLeft" fmla="*/ 0 w 815760"/>
              <a:gd name="textAreaRight" fmla="*/ 816120 w 815760"/>
              <a:gd name="textAreaTop" fmla="*/ 0 h 479160"/>
              <a:gd name="textAreaBottom" fmla="*/ 479520 h 479160"/>
            </a:gdLst>
            <a:ahLst/>
            <a:rect l="textAreaLeft" t="textAreaTop" r="textAreaRight" b="textAreaBottom"/>
            <a:pathLst>
              <a:path w="1027" h="602">
                <a:moveTo>
                  <a:pt x="1027" y="276"/>
                </a:moveTo>
                <a:lnTo>
                  <a:pt x="1025" y="276"/>
                </a:lnTo>
                <a:lnTo>
                  <a:pt x="1012" y="272"/>
                </a:lnTo>
                <a:lnTo>
                  <a:pt x="971" y="258"/>
                </a:lnTo>
                <a:lnTo>
                  <a:pt x="938" y="247"/>
                </a:lnTo>
                <a:lnTo>
                  <a:pt x="937" y="246"/>
                </a:lnTo>
                <a:lnTo>
                  <a:pt x="928" y="225"/>
                </a:lnTo>
                <a:lnTo>
                  <a:pt x="904" y="192"/>
                </a:lnTo>
                <a:lnTo>
                  <a:pt x="878" y="175"/>
                </a:lnTo>
                <a:lnTo>
                  <a:pt x="851" y="167"/>
                </a:lnTo>
                <a:lnTo>
                  <a:pt x="824" y="165"/>
                </a:lnTo>
                <a:lnTo>
                  <a:pt x="799" y="164"/>
                </a:lnTo>
                <a:lnTo>
                  <a:pt x="788" y="163"/>
                </a:lnTo>
                <a:lnTo>
                  <a:pt x="787" y="167"/>
                </a:lnTo>
                <a:lnTo>
                  <a:pt x="785" y="172"/>
                </a:lnTo>
                <a:lnTo>
                  <a:pt x="782" y="176"/>
                </a:lnTo>
                <a:lnTo>
                  <a:pt x="774" y="186"/>
                </a:lnTo>
                <a:lnTo>
                  <a:pt x="755" y="207"/>
                </a:lnTo>
                <a:lnTo>
                  <a:pt x="745" y="218"/>
                </a:lnTo>
                <a:lnTo>
                  <a:pt x="738" y="216"/>
                </a:lnTo>
                <a:lnTo>
                  <a:pt x="734" y="211"/>
                </a:lnTo>
                <a:lnTo>
                  <a:pt x="730" y="206"/>
                </a:lnTo>
                <a:lnTo>
                  <a:pt x="728" y="201"/>
                </a:lnTo>
                <a:lnTo>
                  <a:pt x="727" y="193"/>
                </a:lnTo>
                <a:lnTo>
                  <a:pt x="727" y="180"/>
                </a:lnTo>
                <a:lnTo>
                  <a:pt x="726" y="157"/>
                </a:lnTo>
                <a:lnTo>
                  <a:pt x="725" y="153"/>
                </a:lnTo>
                <a:lnTo>
                  <a:pt x="718" y="146"/>
                </a:lnTo>
                <a:lnTo>
                  <a:pt x="701" y="123"/>
                </a:lnTo>
                <a:lnTo>
                  <a:pt x="687" y="106"/>
                </a:lnTo>
                <a:lnTo>
                  <a:pt x="687" y="105"/>
                </a:lnTo>
                <a:lnTo>
                  <a:pt x="671" y="111"/>
                </a:lnTo>
                <a:lnTo>
                  <a:pt x="643" y="119"/>
                </a:lnTo>
                <a:lnTo>
                  <a:pt x="616" y="121"/>
                </a:lnTo>
                <a:lnTo>
                  <a:pt x="588" y="118"/>
                </a:lnTo>
                <a:lnTo>
                  <a:pt x="533" y="101"/>
                </a:lnTo>
                <a:lnTo>
                  <a:pt x="519" y="95"/>
                </a:lnTo>
                <a:lnTo>
                  <a:pt x="505" y="89"/>
                </a:lnTo>
                <a:lnTo>
                  <a:pt x="492" y="79"/>
                </a:lnTo>
                <a:lnTo>
                  <a:pt x="473" y="57"/>
                </a:lnTo>
                <a:lnTo>
                  <a:pt x="459" y="35"/>
                </a:lnTo>
                <a:lnTo>
                  <a:pt x="444" y="2"/>
                </a:lnTo>
                <a:lnTo>
                  <a:pt x="443" y="0"/>
                </a:lnTo>
                <a:lnTo>
                  <a:pt x="442" y="7"/>
                </a:lnTo>
                <a:lnTo>
                  <a:pt x="442" y="27"/>
                </a:lnTo>
                <a:lnTo>
                  <a:pt x="442" y="43"/>
                </a:lnTo>
                <a:lnTo>
                  <a:pt x="440" y="43"/>
                </a:lnTo>
                <a:lnTo>
                  <a:pt x="428" y="39"/>
                </a:lnTo>
                <a:lnTo>
                  <a:pt x="389" y="23"/>
                </a:lnTo>
                <a:lnTo>
                  <a:pt x="359" y="12"/>
                </a:lnTo>
                <a:lnTo>
                  <a:pt x="358" y="11"/>
                </a:lnTo>
                <a:lnTo>
                  <a:pt x="350" y="22"/>
                </a:lnTo>
                <a:lnTo>
                  <a:pt x="334" y="46"/>
                </a:lnTo>
                <a:lnTo>
                  <a:pt x="294" y="101"/>
                </a:lnTo>
                <a:lnTo>
                  <a:pt x="231" y="153"/>
                </a:lnTo>
                <a:lnTo>
                  <a:pt x="209" y="163"/>
                </a:lnTo>
                <a:lnTo>
                  <a:pt x="187" y="173"/>
                </a:lnTo>
                <a:lnTo>
                  <a:pt x="145" y="188"/>
                </a:lnTo>
                <a:lnTo>
                  <a:pt x="73" y="212"/>
                </a:lnTo>
                <a:lnTo>
                  <a:pt x="13" y="234"/>
                </a:lnTo>
                <a:lnTo>
                  <a:pt x="0" y="240"/>
                </a:lnTo>
                <a:lnTo>
                  <a:pt x="2" y="242"/>
                </a:lnTo>
                <a:lnTo>
                  <a:pt x="17" y="249"/>
                </a:lnTo>
                <a:lnTo>
                  <a:pt x="69" y="273"/>
                </a:lnTo>
                <a:lnTo>
                  <a:pt x="107" y="291"/>
                </a:lnTo>
                <a:lnTo>
                  <a:pt x="110" y="292"/>
                </a:lnTo>
                <a:lnTo>
                  <a:pt x="122" y="313"/>
                </a:lnTo>
                <a:lnTo>
                  <a:pt x="153" y="362"/>
                </a:lnTo>
                <a:lnTo>
                  <a:pt x="233" y="471"/>
                </a:lnTo>
                <a:lnTo>
                  <a:pt x="279" y="515"/>
                </a:lnTo>
                <a:lnTo>
                  <a:pt x="329" y="546"/>
                </a:lnTo>
                <a:lnTo>
                  <a:pt x="356" y="553"/>
                </a:lnTo>
                <a:lnTo>
                  <a:pt x="360" y="561"/>
                </a:lnTo>
                <a:lnTo>
                  <a:pt x="374" y="583"/>
                </a:lnTo>
                <a:lnTo>
                  <a:pt x="385" y="600"/>
                </a:lnTo>
                <a:lnTo>
                  <a:pt x="386" y="600"/>
                </a:lnTo>
                <a:lnTo>
                  <a:pt x="391" y="601"/>
                </a:lnTo>
                <a:lnTo>
                  <a:pt x="409" y="602"/>
                </a:lnTo>
                <a:lnTo>
                  <a:pt x="423" y="602"/>
                </a:lnTo>
                <a:lnTo>
                  <a:pt x="424" y="602"/>
                </a:lnTo>
                <a:lnTo>
                  <a:pt x="445" y="599"/>
                </a:lnTo>
                <a:lnTo>
                  <a:pt x="492" y="589"/>
                </a:lnTo>
                <a:lnTo>
                  <a:pt x="591" y="567"/>
                </a:lnTo>
                <a:lnTo>
                  <a:pt x="663" y="544"/>
                </a:lnTo>
                <a:lnTo>
                  <a:pt x="673" y="538"/>
                </a:lnTo>
                <a:lnTo>
                  <a:pt x="680" y="533"/>
                </a:lnTo>
                <a:lnTo>
                  <a:pt x="728" y="497"/>
                </a:lnTo>
                <a:lnTo>
                  <a:pt x="893" y="375"/>
                </a:lnTo>
                <a:lnTo>
                  <a:pt x="1020" y="282"/>
                </a:lnTo>
                <a:lnTo>
                  <a:pt x="1027" y="276"/>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62"/>
          <p:cNvSpPr/>
          <p:nvPr/>
        </p:nvSpPr>
        <p:spPr>
          <a:xfrm>
            <a:off x="2941560" y="4317840"/>
            <a:ext cx="1044720" cy="484200"/>
          </a:xfrm>
          <a:custGeom>
            <a:avLst/>
            <a:gdLst>
              <a:gd name="textAreaLeft" fmla="*/ 0 w 1044720"/>
              <a:gd name="textAreaRight" fmla="*/ 1045080 w 1044720"/>
              <a:gd name="textAreaTop" fmla="*/ 0 h 484200"/>
              <a:gd name="textAreaBottom" fmla="*/ 484560 h 484200"/>
            </a:gdLst>
            <a:ahLst/>
            <a:rect l="textAreaLeft" t="textAreaTop" r="textAreaRight" b="textAreaBottom"/>
            <a:pathLst>
              <a:path w="1316" h="611">
                <a:moveTo>
                  <a:pt x="1215" y="341"/>
                </a:moveTo>
                <a:lnTo>
                  <a:pt x="1213" y="340"/>
                </a:lnTo>
                <a:lnTo>
                  <a:pt x="1204" y="332"/>
                </a:lnTo>
                <a:lnTo>
                  <a:pt x="1173" y="304"/>
                </a:lnTo>
                <a:lnTo>
                  <a:pt x="1150" y="283"/>
                </a:lnTo>
                <a:lnTo>
                  <a:pt x="1149" y="281"/>
                </a:lnTo>
                <a:lnTo>
                  <a:pt x="1156" y="277"/>
                </a:lnTo>
                <a:lnTo>
                  <a:pt x="1171" y="268"/>
                </a:lnTo>
                <a:lnTo>
                  <a:pt x="1204" y="255"/>
                </a:lnTo>
                <a:lnTo>
                  <a:pt x="1248" y="249"/>
                </a:lnTo>
                <a:lnTo>
                  <a:pt x="1262" y="249"/>
                </a:lnTo>
                <a:lnTo>
                  <a:pt x="1262" y="241"/>
                </a:lnTo>
                <a:lnTo>
                  <a:pt x="1266" y="230"/>
                </a:lnTo>
                <a:lnTo>
                  <a:pt x="1275" y="205"/>
                </a:lnTo>
                <a:lnTo>
                  <a:pt x="1302" y="149"/>
                </a:lnTo>
                <a:lnTo>
                  <a:pt x="1316" y="104"/>
                </a:lnTo>
                <a:lnTo>
                  <a:pt x="1312" y="104"/>
                </a:lnTo>
                <a:lnTo>
                  <a:pt x="1305" y="104"/>
                </a:lnTo>
                <a:lnTo>
                  <a:pt x="1295" y="104"/>
                </a:lnTo>
                <a:lnTo>
                  <a:pt x="1282" y="104"/>
                </a:lnTo>
                <a:lnTo>
                  <a:pt x="1278" y="104"/>
                </a:lnTo>
                <a:lnTo>
                  <a:pt x="1273" y="98"/>
                </a:lnTo>
                <a:lnTo>
                  <a:pt x="1262" y="87"/>
                </a:lnTo>
                <a:lnTo>
                  <a:pt x="1248" y="78"/>
                </a:lnTo>
                <a:lnTo>
                  <a:pt x="1217" y="62"/>
                </a:lnTo>
                <a:lnTo>
                  <a:pt x="1197" y="48"/>
                </a:lnTo>
                <a:lnTo>
                  <a:pt x="1175" y="44"/>
                </a:lnTo>
                <a:lnTo>
                  <a:pt x="1138" y="36"/>
                </a:lnTo>
                <a:lnTo>
                  <a:pt x="1075" y="21"/>
                </a:lnTo>
                <a:lnTo>
                  <a:pt x="1011" y="6"/>
                </a:lnTo>
                <a:lnTo>
                  <a:pt x="994" y="0"/>
                </a:lnTo>
                <a:lnTo>
                  <a:pt x="986" y="1"/>
                </a:lnTo>
                <a:lnTo>
                  <a:pt x="970" y="1"/>
                </a:lnTo>
                <a:lnTo>
                  <a:pt x="943" y="7"/>
                </a:lnTo>
                <a:lnTo>
                  <a:pt x="930" y="14"/>
                </a:lnTo>
                <a:lnTo>
                  <a:pt x="917" y="25"/>
                </a:lnTo>
                <a:lnTo>
                  <a:pt x="911" y="33"/>
                </a:lnTo>
                <a:lnTo>
                  <a:pt x="903" y="42"/>
                </a:lnTo>
                <a:lnTo>
                  <a:pt x="889" y="58"/>
                </a:lnTo>
                <a:lnTo>
                  <a:pt x="855" y="81"/>
                </a:lnTo>
                <a:lnTo>
                  <a:pt x="812" y="89"/>
                </a:lnTo>
                <a:lnTo>
                  <a:pt x="800" y="88"/>
                </a:lnTo>
                <a:lnTo>
                  <a:pt x="785" y="90"/>
                </a:lnTo>
                <a:lnTo>
                  <a:pt x="767" y="94"/>
                </a:lnTo>
                <a:lnTo>
                  <a:pt x="723" y="112"/>
                </a:lnTo>
                <a:lnTo>
                  <a:pt x="622" y="172"/>
                </a:lnTo>
                <a:lnTo>
                  <a:pt x="536" y="242"/>
                </a:lnTo>
                <a:lnTo>
                  <a:pt x="543" y="247"/>
                </a:lnTo>
                <a:lnTo>
                  <a:pt x="553" y="253"/>
                </a:lnTo>
                <a:lnTo>
                  <a:pt x="567" y="261"/>
                </a:lnTo>
                <a:lnTo>
                  <a:pt x="582" y="283"/>
                </a:lnTo>
                <a:lnTo>
                  <a:pt x="589" y="292"/>
                </a:lnTo>
                <a:lnTo>
                  <a:pt x="586" y="293"/>
                </a:lnTo>
                <a:lnTo>
                  <a:pt x="568" y="295"/>
                </a:lnTo>
                <a:lnTo>
                  <a:pt x="511" y="301"/>
                </a:lnTo>
                <a:lnTo>
                  <a:pt x="466" y="306"/>
                </a:lnTo>
                <a:lnTo>
                  <a:pt x="463" y="306"/>
                </a:lnTo>
                <a:lnTo>
                  <a:pt x="434" y="307"/>
                </a:lnTo>
                <a:lnTo>
                  <a:pt x="379" y="312"/>
                </a:lnTo>
                <a:lnTo>
                  <a:pt x="277" y="340"/>
                </a:lnTo>
                <a:lnTo>
                  <a:pt x="194" y="387"/>
                </a:lnTo>
                <a:lnTo>
                  <a:pt x="177" y="401"/>
                </a:lnTo>
                <a:lnTo>
                  <a:pt x="175" y="400"/>
                </a:lnTo>
                <a:lnTo>
                  <a:pt x="161" y="390"/>
                </a:lnTo>
                <a:lnTo>
                  <a:pt x="115" y="354"/>
                </a:lnTo>
                <a:lnTo>
                  <a:pt x="79" y="326"/>
                </a:lnTo>
                <a:lnTo>
                  <a:pt x="78" y="324"/>
                </a:lnTo>
                <a:lnTo>
                  <a:pt x="76" y="325"/>
                </a:lnTo>
                <a:lnTo>
                  <a:pt x="66" y="326"/>
                </a:lnTo>
                <a:lnTo>
                  <a:pt x="29" y="329"/>
                </a:lnTo>
                <a:lnTo>
                  <a:pt x="1" y="333"/>
                </a:lnTo>
                <a:lnTo>
                  <a:pt x="0" y="333"/>
                </a:lnTo>
                <a:lnTo>
                  <a:pt x="8" y="342"/>
                </a:lnTo>
                <a:lnTo>
                  <a:pt x="31" y="369"/>
                </a:lnTo>
                <a:lnTo>
                  <a:pt x="51" y="390"/>
                </a:lnTo>
                <a:lnTo>
                  <a:pt x="52" y="391"/>
                </a:lnTo>
                <a:lnTo>
                  <a:pt x="51" y="393"/>
                </a:lnTo>
                <a:lnTo>
                  <a:pt x="47" y="400"/>
                </a:lnTo>
                <a:lnTo>
                  <a:pt x="38" y="426"/>
                </a:lnTo>
                <a:lnTo>
                  <a:pt x="30" y="447"/>
                </a:lnTo>
                <a:lnTo>
                  <a:pt x="30" y="448"/>
                </a:lnTo>
                <a:lnTo>
                  <a:pt x="32" y="449"/>
                </a:lnTo>
                <a:lnTo>
                  <a:pt x="47" y="456"/>
                </a:lnTo>
                <a:lnTo>
                  <a:pt x="101" y="477"/>
                </a:lnTo>
                <a:lnTo>
                  <a:pt x="141" y="494"/>
                </a:lnTo>
                <a:lnTo>
                  <a:pt x="144" y="494"/>
                </a:lnTo>
                <a:lnTo>
                  <a:pt x="148" y="499"/>
                </a:lnTo>
                <a:lnTo>
                  <a:pt x="161" y="513"/>
                </a:lnTo>
                <a:lnTo>
                  <a:pt x="171" y="523"/>
                </a:lnTo>
                <a:lnTo>
                  <a:pt x="172" y="523"/>
                </a:lnTo>
                <a:lnTo>
                  <a:pt x="186" y="526"/>
                </a:lnTo>
                <a:lnTo>
                  <a:pt x="227" y="533"/>
                </a:lnTo>
                <a:lnTo>
                  <a:pt x="260" y="539"/>
                </a:lnTo>
                <a:lnTo>
                  <a:pt x="262" y="539"/>
                </a:lnTo>
                <a:lnTo>
                  <a:pt x="264" y="538"/>
                </a:lnTo>
                <a:lnTo>
                  <a:pt x="285" y="526"/>
                </a:lnTo>
                <a:lnTo>
                  <a:pt x="359" y="484"/>
                </a:lnTo>
                <a:lnTo>
                  <a:pt x="416" y="453"/>
                </a:lnTo>
                <a:lnTo>
                  <a:pt x="419" y="451"/>
                </a:lnTo>
                <a:lnTo>
                  <a:pt x="425" y="455"/>
                </a:lnTo>
                <a:lnTo>
                  <a:pt x="462" y="476"/>
                </a:lnTo>
                <a:lnTo>
                  <a:pt x="591" y="551"/>
                </a:lnTo>
                <a:lnTo>
                  <a:pt x="690" y="608"/>
                </a:lnTo>
                <a:lnTo>
                  <a:pt x="696" y="611"/>
                </a:lnTo>
                <a:lnTo>
                  <a:pt x="699" y="611"/>
                </a:lnTo>
                <a:lnTo>
                  <a:pt x="727" y="611"/>
                </a:lnTo>
                <a:lnTo>
                  <a:pt x="822" y="609"/>
                </a:lnTo>
                <a:lnTo>
                  <a:pt x="894" y="608"/>
                </a:lnTo>
                <a:lnTo>
                  <a:pt x="899" y="607"/>
                </a:lnTo>
                <a:lnTo>
                  <a:pt x="906" y="599"/>
                </a:lnTo>
                <a:lnTo>
                  <a:pt x="920" y="586"/>
                </a:lnTo>
                <a:lnTo>
                  <a:pt x="943" y="566"/>
                </a:lnTo>
                <a:lnTo>
                  <a:pt x="970" y="550"/>
                </a:lnTo>
                <a:lnTo>
                  <a:pt x="978" y="545"/>
                </a:lnTo>
                <a:lnTo>
                  <a:pt x="985" y="544"/>
                </a:lnTo>
                <a:lnTo>
                  <a:pt x="1000" y="540"/>
                </a:lnTo>
                <a:lnTo>
                  <a:pt x="1039" y="534"/>
                </a:lnTo>
                <a:lnTo>
                  <a:pt x="1078" y="525"/>
                </a:lnTo>
                <a:lnTo>
                  <a:pt x="1088" y="521"/>
                </a:lnTo>
                <a:lnTo>
                  <a:pt x="1096" y="518"/>
                </a:lnTo>
                <a:lnTo>
                  <a:pt x="1123" y="507"/>
                </a:lnTo>
                <a:lnTo>
                  <a:pt x="1143" y="499"/>
                </a:lnTo>
                <a:lnTo>
                  <a:pt x="1145" y="498"/>
                </a:lnTo>
                <a:lnTo>
                  <a:pt x="1156" y="492"/>
                </a:lnTo>
                <a:lnTo>
                  <a:pt x="1167" y="484"/>
                </a:lnTo>
                <a:lnTo>
                  <a:pt x="1177" y="475"/>
                </a:lnTo>
                <a:lnTo>
                  <a:pt x="1193" y="451"/>
                </a:lnTo>
                <a:lnTo>
                  <a:pt x="1205" y="421"/>
                </a:lnTo>
                <a:lnTo>
                  <a:pt x="1216" y="357"/>
                </a:lnTo>
                <a:lnTo>
                  <a:pt x="1215" y="341"/>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63"/>
          <p:cNvSpPr/>
          <p:nvPr/>
        </p:nvSpPr>
        <p:spPr>
          <a:xfrm>
            <a:off x="2941560" y="4317840"/>
            <a:ext cx="1044720" cy="484200"/>
          </a:xfrm>
          <a:custGeom>
            <a:avLst/>
            <a:gdLst>
              <a:gd name="textAreaLeft" fmla="*/ 0 w 1044720"/>
              <a:gd name="textAreaRight" fmla="*/ 1045080 w 1044720"/>
              <a:gd name="textAreaTop" fmla="*/ 0 h 484200"/>
              <a:gd name="textAreaBottom" fmla="*/ 484560 h 484200"/>
            </a:gdLst>
            <a:ahLst/>
            <a:rect l="textAreaLeft" t="textAreaTop" r="textAreaRight" b="textAreaBottom"/>
            <a:pathLst>
              <a:path w="1316" h="611">
                <a:moveTo>
                  <a:pt x="1215" y="341"/>
                </a:moveTo>
                <a:lnTo>
                  <a:pt x="1213" y="340"/>
                </a:lnTo>
                <a:lnTo>
                  <a:pt x="1204" y="332"/>
                </a:lnTo>
                <a:lnTo>
                  <a:pt x="1173" y="304"/>
                </a:lnTo>
                <a:lnTo>
                  <a:pt x="1150" y="283"/>
                </a:lnTo>
                <a:lnTo>
                  <a:pt x="1149" y="281"/>
                </a:lnTo>
                <a:lnTo>
                  <a:pt x="1156" y="277"/>
                </a:lnTo>
                <a:lnTo>
                  <a:pt x="1171" y="268"/>
                </a:lnTo>
                <a:lnTo>
                  <a:pt x="1204" y="255"/>
                </a:lnTo>
                <a:lnTo>
                  <a:pt x="1248" y="249"/>
                </a:lnTo>
                <a:lnTo>
                  <a:pt x="1262" y="249"/>
                </a:lnTo>
                <a:lnTo>
                  <a:pt x="1262" y="241"/>
                </a:lnTo>
                <a:lnTo>
                  <a:pt x="1266" y="230"/>
                </a:lnTo>
                <a:lnTo>
                  <a:pt x="1275" y="205"/>
                </a:lnTo>
                <a:lnTo>
                  <a:pt x="1302" y="149"/>
                </a:lnTo>
                <a:lnTo>
                  <a:pt x="1316" y="104"/>
                </a:lnTo>
                <a:lnTo>
                  <a:pt x="1312" y="104"/>
                </a:lnTo>
                <a:lnTo>
                  <a:pt x="1305" y="104"/>
                </a:lnTo>
                <a:lnTo>
                  <a:pt x="1295" y="104"/>
                </a:lnTo>
                <a:lnTo>
                  <a:pt x="1282" y="104"/>
                </a:lnTo>
                <a:lnTo>
                  <a:pt x="1278" y="104"/>
                </a:lnTo>
                <a:lnTo>
                  <a:pt x="1273" y="98"/>
                </a:lnTo>
                <a:lnTo>
                  <a:pt x="1262" y="87"/>
                </a:lnTo>
                <a:lnTo>
                  <a:pt x="1248" y="78"/>
                </a:lnTo>
                <a:lnTo>
                  <a:pt x="1217" y="62"/>
                </a:lnTo>
                <a:lnTo>
                  <a:pt x="1197" y="48"/>
                </a:lnTo>
                <a:lnTo>
                  <a:pt x="1175" y="44"/>
                </a:lnTo>
                <a:lnTo>
                  <a:pt x="1138" y="36"/>
                </a:lnTo>
                <a:lnTo>
                  <a:pt x="1075" y="21"/>
                </a:lnTo>
                <a:lnTo>
                  <a:pt x="1011" y="6"/>
                </a:lnTo>
                <a:lnTo>
                  <a:pt x="994" y="0"/>
                </a:lnTo>
                <a:lnTo>
                  <a:pt x="986" y="1"/>
                </a:lnTo>
                <a:lnTo>
                  <a:pt x="970" y="1"/>
                </a:lnTo>
                <a:lnTo>
                  <a:pt x="943" y="7"/>
                </a:lnTo>
                <a:lnTo>
                  <a:pt x="930" y="14"/>
                </a:lnTo>
                <a:lnTo>
                  <a:pt x="917" y="25"/>
                </a:lnTo>
                <a:lnTo>
                  <a:pt x="911" y="33"/>
                </a:lnTo>
                <a:lnTo>
                  <a:pt x="903" y="42"/>
                </a:lnTo>
                <a:lnTo>
                  <a:pt x="889" y="58"/>
                </a:lnTo>
                <a:lnTo>
                  <a:pt x="855" y="81"/>
                </a:lnTo>
                <a:lnTo>
                  <a:pt x="812" y="89"/>
                </a:lnTo>
                <a:lnTo>
                  <a:pt x="800" y="88"/>
                </a:lnTo>
                <a:lnTo>
                  <a:pt x="785" y="90"/>
                </a:lnTo>
                <a:lnTo>
                  <a:pt x="767" y="94"/>
                </a:lnTo>
                <a:lnTo>
                  <a:pt x="723" y="112"/>
                </a:lnTo>
                <a:lnTo>
                  <a:pt x="622" y="172"/>
                </a:lnTo>
                <a:lnTo>
                  <a:pt x="536" y="242"/>
                </a:lnTo>
                <a:lnTo>
                  <a:pt x="543" y="247"/>
                </a:lnTo>
                <a:lnTo>
                  <a:pt x="553" y="253"/>
                </a:lnTo>
                <a:lnTo>
                  <a:pt x="567" y="261"/>
                </a:lnTo>
                <a:lnTo>
                  <a:pt x="582" y="283"/>
                </a:lnTo>
                <a:lnTo>
                  <a:pt x="589" y="292"/>
                </a:lnTo>
                <a:lnTo>
                  <a:pt x="586" y="293"/>
                </a:lnTo>
                <a:lnTo>
                  <a:pt x="568" y="295"/>
                </a:lnTo>
                <a:lnTo>
                  <a:pt x="511" y="301"/>
                </a:lnTo>
                <a:lnTo>
                  <a:pt x="466" y="306"/>
                </a:lnTo>
                <a:lnTo>
                  <a:pt x="463" y="306"/>
                </a:lnTo>
                <a:lnTo>
                  <a:pt x="434" y="307"/>
                </a:lnTo>
                <a:lnTo>
                  <a:pt x="379" y="312"/>
                </a:lnTo>
                <a:lnTo>
                  <a:pt x="277" y="340"/>
                </a:lnTo>
                <a:lnTo>
                  <a:pt x="194" y="387"/>
                </a:lnTo>
                <a:lnTo>
                  <a:pt x="177" y="401"/>
                </a:lnTo>
                <a:lnTo>
                  <a:pt x="175" y="400"/>
                </a:lnTo>
                <a:lnTo>
                  <a:pt x="161" y="390"/>
                </a:lnTo>
                <a:lnTo>
                  <a:pt x="115" y="354"/>
                </a:lnTo>
                <a:lnTo>
                  <a:pt x="79" y="326"/>
                </a:lnTo>
                <a:lnTo>
                  <a:pt x="78" y="324"/>
                </a:lnTo>
                <a:lnTo>
                  <a:pt x="76" y="325"/>
                </a:lnTo>
                <a:lnTo>
                  <a:pt x="66" y="326"/>
                </a:lnTo>
                <a:lnTo>
                  <a:pt x="29" y="329"/>
                </a:lnTo>
                <a:lnTo>
                  <a:pt x="1" y="333"/>
                </a:lnTo>
                <a:lnTo>
                  <a:pt x="0" y="333"/>
                </a:lnTo>
                <a:lnTo>
                  <a:pt x="8" y="342"/>
                </a:lnTo>
                <a:lnTo>
                  <a:pt x="31" y="369"/>
                </a:lnTo>
                <a:lnTo>
                  <a:pt x="51" y="390"/>
                </a:lnTo>
                <a:lnTo>
                  <a:pt x="52" y="391"/>
                </a:lnTo>
                <a:lnTo>
                  <a:pt x="51" y="393"/>
                </a:lnTo>
                <a:lnTo>
                  <a:pt x="47" y="400"/>
                </a:lnTo>
                <a:lnTo>
                  <a:pt x="38" y="426"/>
                </a:lnTo>
                <a:lnTo>
                  <a:pt x="30" y="447"/>
                </a:lnTo>
                <a:lnTo>
                  <a:pt x="30" y="448"/>
                </a:lnTo>
                <a:lnTo>
                  <a:pt x="32" y="449"/>
                </a:lnTo>
                <a:lnTo>
                  <a:pt x="47" y="456"/>
                </a:lnTo>
                <a:lnTo>
                  <a:pt x="101" y="477"/>
                </a:lnTo>
                <a:lnTo>
                  <a:pt x="141" y="494"/>
                </a:lnTo>
                <a:lnTo>
                  <a:pt x="144" y="494"/>
                </a:lnTo>
                <a:lnTo>
                  <a:pt x="148" y="499"/>
                </a:lnTo>
                <a:lnTo>
                  <a:pt x="161" y="513"/>
                </a:lnTo>
                <a:lnTo>
                  <a:pt x="171" y="523"/>
                </a:lnTo>
                <a:lnTo>
                  <a:pt x="172" y="523"/>
                </a:lnTo>
                <a:lnTo>
                  <a:pt x="186" y="526"/>
                </a:lnTo>
                <a:lnTo>
                  <a:pt x="227" y="533"/>
                </a:lnTo>
                <a:lnTo>
                  <a:pt x="260" y="539"/>
                </a:lnTo>
                <a:lnTo>
                  <a:pt x="262" y="539"/>
                </a:lnTo>
                <a:lnTo>
                  <a:pt x="264" y="538"/>
                </a:lnTo>
                <a:lnTo>
                  <a:pt x="285" y="526"/>
                </a:lnTo>
                <a:lnTo>
                  <a:pt x="359" y="484"/>
                </a:lnTo>
                <a:lnTo>
                  <a:pt x="416" y="453"/>
                </a:lnTo>
                <a:lnTo>
                  <a:pt x="419" y="451"/>
                </a:lnTo>
                <a:lnTo>
                  <a:pt x="425" y="455"/>
                </a:lnTo>
                <a:lnTo>
                  <a:pt x="462" y="476"/>
                </a:lnTo>
                <a:lnTo>
                  <a:pt x="591" y="551"/>
                </a:lnTo>
                <a:lnTo>
                  <a:pt x="690" y="608"/>
                </a:lnTo>
                <a:lnTo>
                  <a:pt x="696" y="611"/>
                </a:lnTo>
                <a:lnTo>
                  <a:pt x="699" y="611"/>
                </a:lnTo>
                <a:lnTo>
                  <a:pt x="727" y="611"/>
                </a:lnTo>
                <a:lnTo>
                  <a:pt x="822" y="609"/>
                </a:lnTo>
                <a:lnTo>
                  <a:pt x="894" y="608"/>
                </a:lnTo>
                <a:lnTo>
                  <a:pt x="899" y="607"/>
                </a:lnTo>
                <a:lnTo>
                  <a:pt x="906" y="599"/>
                </a:lnTo>
                <a:lnTo>
                  <a:pt x="920" y="586"/>
                </a:lnTo>
                <a:lnTo>
                  <a:pt x="943" y="566"/>
                </a:lnTo>
                <a:lnTo>
                  <a:pt x="970" y="550"/>
                </a:lnTo>
                <a:lnTo>
                  <a:pt x="978" y="545"/>
                </a:lnTo>
                <a:lnTo>
                  <a:pt x="985" y="544"/>
                </a:lnTo>
                <a:lnTo>
                  <a:pt x="1000" y="540"/>
                </a:lnTo>
                <a:lnTo>
                  <a:pt x="1039" y="534"/>
                </a:lnTo>
                <a:lnTo>
                  <a:pt x="1078" y="525"/>
                </a:lnTo>
                <a:lnTo>
                  <a:pt x="1088" y="521"/>
                </a:lnTo>
                <a:lnTo>
                  <a:pt x="1096" y="518"/>
                </a:lnTo>
                <a:lnTo>
                  <a:pt x="1123" y="507"/>
                </a:lnTo>
                <a:lnTo>
                  <a:pt x="1143" y="499"/>
                </a:lnTo>
                <a:lnTo>
                  <a:pt x="1145" y="498"/>
                </a:lnTo>
                <a:lnTo>
                  <a:pt x="1156" y="492"/>
                </a:lnTo>
                <a:lnTo>
                  <a:pt x="1167" y="484"/>
                </a:lnTo>
                <a:lnTo>
                  <a:pt x="1177" y="475"/>
                </a:lnTo>
                <a:lnTo>
                  <a:pt x="1193" y="451"/>
                </a:lnTo>
                <a:lnTo>
                  <a:pt x="1205" y="421"/>
                </a:lnTo>
                <a:lnTo>
                  <a:pt x="1216" y="357"/>
                </a:lnTo>
                <a:lnTo>
                  <a:pt x="1215" y="341"/>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64"/>
          <p:cNvSpPr/>
          <p:nvPr/>
        </p:nvSpPr>
        <p:spPr>
          <a:xfrm>
            <a:off x="2455920" y="4532400"/>
            <a:ext cx="625320" cy="345960"/>
          </a:xfrm>
          <a:custGeom>
            <a:avLst/>
            <a:gdLst>
              <a:gd name="textAreaLeft" fmla="*/ 0 w 625320"/>
              <a:gd name="textAreaRight" fmla="*/ 625680 w 625320"/>
              <a:gd name="textAreaTop" fmla="*/ 0 h 345960"/>
              <a:gd name="textAreaBottom" fmla="*/ 345960 h 345960"/>
            </a:gdLst>
            <a:ahLst/>
            <a:rect l="textAreaLeft" t="textAreaTop" r="textAreaRight" b="textAreaBottom"/>
            <a:pathLst>
              <a:path w="787" h="437">
                <a:moveTo>
                  <a:pt x="639" y="178"/>
                </a:moveTo>
                <a:lnTo>
                  <a:pt x="642" y="170"/>
                </a:lnTo>
                <a:lnTo>
                  <a:pt x="654" y="145"/>
                </a:lnTo>
                <a:lnTo>
                  <a:pt x="664" y="127"/>
                </a:lnTo>
                <a:lnTo>
                  <a:pt x="665" y="125"/>
                </a:lnTo>
                <a:lnTo>
                  <a:pt x="654" y="109"/>
                </a:lnTo>
                <a:lnTo>
                  <a:pt x="624" y="77"/>
                </a:lnTo>
                <a:lnTo>
                  <a:pt x="585" y="46"/>
                </a:lnTo>
                <a:lnTo>
                  <a:pt x="496" y="7"/>
                </a:lnTo>
                <a:lnTo>
                  <a:pt x="442" y="12"/>
                </a:lnTo>
                <a:lnTo>
                  <a:pt x="442" y="13"/>
                </a:lnTo>
                <a:lnTo>
                  <a:pt x="443" y="18"/>
                </a:lnTo>
                <a:lnTo>
                  <a:pt x="448" y="36"/>
                </a:lnTo>
                <a:lnTo>
                  <a:pt x="452" y="57"/>
                </a:lnTo>
                <a:lnTo>
                  <a:pt x="453" y="61"/>
                </a:lnTo>
                <a:lnTo>
                  <a:pt x="451" y="62"/>
                </a:lnTo>
                <a:lnTo>
                  <a:pt x="436" y="63"/>
                </a:lnTo>
                <a:lnTo>
                  <a:pt x="388" y="68"/>
                </a:lnTo>
                <a:lnTo>
                  <a:pt x="351" y="72"/>
                </a:lnTo>
                <a:lnTo>
                  <a:pt x="349" y="72"/>
                </a:lnTo>
                <a:lnTo>
                  <a:pt x="346" y="62"/>
                </a:lnTo>
                <a:lnTo>
                  <a:pt x="340" y="28"/>
                </a:lnTo>
                <a:lnTo>
                  <a:pt x="334" y="2"/>
                </a:lnTo>
                <a:lnTo>
                  <a:pt x="334" y="0"/>
                </a:lnTo>
                <a:lnTo>
                  <a:pt x="332" y="1"/>
                </a:lnTo>
                <a:lnTo>
                  <a:pt x="317" y="2"/>
                </a:lnTo>
                <a:lnTo>
                  <a:pt x="269" y="7"/>
                </a:lnTo>
                <a:lnTo>
                  <a:pt x="231" y="10"/>
                </a:lnTo>
                <a:lnTo>
                  <a:pt x="230" y="10"/>
                </a:lnTo>
                <a:lnTo>
                  <a:pt x="225" y="12"/>
                </a:lnTo>
                <a:lnTo>
                  <a:pt x="223" y="15"/>
                </a:lnTo>
                <a:lnTo>
                  <a:pt x="222" y="19"/>
                </a:lnTo>
                <a:lnTo>
                  <a:pt x="223" y="25"/>
                </a:lnTo>
                <a:lnTo>
                  <a:pt x="224" y="31"/>
                </a:lnTo>
                <a:lnTo>
                  <a:pt x="228" y="44"/>
                </a:lnTo>
                <a:lnTo>
                  <a:pt x="233" y="56"/>
                </a:lnTo>
                <a:lnTo>
                  <a:pt x="233" y="62"/>
                </a:lnTo>
                <a:lnTo>
                  <a:pt x="233" y="64"/>
                </a:lnTo>
                <a:lnTo>
                  <a:pt x="230" y="65"/>
                </a:lnTo>
                <a:lnTo>
                  <a:pt x="223" y="68"/>
                </a:lnTo>
                <a:lnTo>
                  <a:pt x="210" y="72"/>
                </a:lnTo>
                <a:lnTo>
                  <a:pt x="175" y="80"/>
                </a:lnTo>
                <a:lnTo>
                  <a:pt x="86" y="101"/>
                </a:lnTo>
                <a:lnTo>
                  <a:pt x="23" y="127"/>
                </a:lnTo>
                <a:lnTo>
                  <a:pt x="17" y="134"/>
                </a:lnTo>
                <a:lnTo>
                  <a:pt x="7" y="143"/>
                </a:lnTo>
                <a:lnTo>
                  <a:pt x="1" y="150"/>
                </a:lnTo>
                <a:lnTo>
                  <a:pt x="0" y="153"/>
                </a:lnTo>
                <a:lnTo>
                  <a:pt x="0" y="155"/>
                </a:lnTo>
                <a:lnTo>
                  <a:pt x="0" y="158"/>
                </a:lnTo>
                <a:lnTo>
                  <a:pt x="2" y="160"/>
                </a:lnTo>
                <a:lnTo>
                  <a:pt x="4" y="163"/>
                </a:lnTo>
                <a:lnTo>
                  <a:pt x="12" y="168"/>
                </a:lnTo>
                <a:lnTo>
                  <a:pt x="14" y="171"/>
                </a:lnTo>
                <a:lnTo>
                  <a:pt x="17" y="172"/>
                </a:lnTo>
                <a:lnTo>
                  <a:pt x="20" y="172"/>
                </a:lnTo>
                <a:lnTo>
                  <a:pt x="30" y="172"/>
                </a:lnTo>
                <a:lnTo>
                  <a:pt x="52" y="167"/>
                </a:lnTo>
                <a:lnTo>
                  <a:pt x="97" y="157"/>
                </a:lnTo>
                <a:lnTo>
                  <a:pt x="108" y="160"/>
                </a:lnTo>
                <a:lnTo>
                  <a:pt x="106" y="162"/>
                </a:lnTo>
                <a:lnTo>
                  <a:pt x="97" y="174"/>
                </a:lnTo>
                <a:lnTo>
                  <a:pt x="65" y="211"/>
                </a:lnTo>
                <a:lnTo>
                  <a:pt x="41" y="241"/>
                </a:lnTo>
                <a:lnTo>
                  <a:pt x="40" y="242"/>
                </a:lnTo>
                <a:lnTo>
                  <a:pt x="38" y="253"/>
                </a:lnTo>
                <a:lnTo>
                  <a:pt x="40" y="282"/>
                </a:lnTo>
                <a:lnTo>
                  <a:pt x="55" y="355"/>
                </a:lnTo>
                <a:lnTo>
                  <a:pt x="76" y="393"/>
                </a:lnTo>
                <a:lnTo>
                  <a:pt x="110" y="425"/>
                </a:lnTo>
                <a:lnTo>
                  <a:pt x="134" y="437"/>
                </a:lnTo>
                <a:lnTo>
                  <a:pt x="138" y="437"/>
                </a:lnTo>
                <a:lnTo>
                  <a:pt x="175" y="432"/>
                </a:lnTo>
                <a:lnTo>
                  <a:pt x="297" y="416"/>
                </a:lnTo>
                <a:lnTo>
                  <a:pt x="391" y="404"/>
                </a:lnTo>
                <a:lnTo>
                  <a:pt x="397" y="403"/>
                </a:lnTo>
                <a:lnTo>
                  <a:pt x="396" y="393"/>
                </a:lnTo>
                <a:lnTo>
                  <a:pt x="393" y="359"/>
                </a:lnTo>
                <a:lnTo>
                  <a:pt x="392" y="335"/>
                </a:lnTo>
                <a:lnTo>
                  <a:pt x="392" y="333"/>
                </a:lnTo>
                <a:lnTo>
                  <a:pt x="400" y="328"/>
                </a:lnTo>
                <a:lnTo>
                  <a:pt x="422" y="313"/>
                </a:lnTo>
                <a:lnTo>
                  <a:pt x="441" y="302"/>
                </a:lnTo>
                <a:lnTo>
                  <a:pt x="442" y="301"/>
                </a:lnTo>
                <a:lnTo>
                  <a:pt x="443" y="304"/>
                </a:lnTo>
                <a:lnTo>
                  <a:pt x="455" y="321"/>
                </a:lnTo>
                <a:lnTo>
                  <a:pt x="493" y="379"/>
                </a:lnTo>
                <a:lnTo>
                  <a:pt x="523" y="424"/>
                </a:lnTo>
                <a:lnTo>
                  <a:pt x="525" y="426"/>
                </a:lnTo>
                <a:lnTo>
                  <a:pt x="525" y="424"/>
                </a:lnTo>
                <a:lnTo>
                  <a:pt x="533" y="407"/>
                </a:lnTo>
                <a:lnTo>
                  <a:pt x="555" y="349"/>
                </a:lnTo>
                <a:lnTo>
                  <a:pt x="573" y="304"/>
                </a:lnTo>
                <a:lnTo>
                  <a:pt x="574" y="301"/>
                </a:lnTo>
                <a:lnTo>
                  <a:pt x="584" y="302"/>
                </a:lnTo>
                <a:lnTo>
                  <a:pt x="605" y="304"/>
                </a:lnTo>
                <a:lnTo>
                  <a:pt x="620" y="310"/>
                </a:lnTo>
                <a:lnTo>
                  <a:pt x="633" y="317"/>
                </a:lnTo>
                <a:lnTo>
                  <a:pt x="642" y="328"/>
                </a:lnTo>
                <a:lnTo>
                  <a:pt x="651" y="341"/>
                </a:lnTo>
                <a:lnTo>
                  <a:pt x="655" y="348"/>
                </a:lnTo>
                <a:lnTo>
                  <a:pt x="659" y="348"/>
                </a:lnTo>
                <a:lnTo>
                  <a:pt x="669" y="346"/>
                </a:lnTo>
                <a:lnTo>
                  <a:pt x="694" y="339"/>
                </a:lnTo>
                <a:lnTo>
                  <a:pt x="716" y="334"/>
                </a:lnTo>
                <a:lnTo>
                  <a:pt x="722" y="333"/>
                </a:lnTo>
                <a:lnTo>
                  <a:pt x="718" y="322"/>
                </a:lnTo>
                <a:lnTo>
                  <a:pt x="717" y="312"/>
                </a:lnTo>
                <a:lnTo>
                  <a:pt x="719" y="303"/>
                </a:lnTo>
                <a:lnTo>
                  <a:pt x="723" y="296"/>
                </a:lnTo>
                <a:lnTo>
                  <a:pt x="728" y="289"/>
                </a:lnTo>
                <a:lnTo>
                  <a:pt x="734" y="283"/>
                </a:lnTo>
                <a:lnTo>
                  <a:pt x="751" y="272"/>
                </a:lnTo>
                <a:lnTo>
                  <a:pt x="769" y="263"/>
                </a:lnTo>
                <a:lnTo>
                  <a:pt x="787" y="255"/>
                </a:lnTo>
                <a:lnTo>
                  <a:pt x="782" y="251"/>
                </a:lnTo>
                <a:lnTo>
                  <a:pt x="766" y="237"/>
                </a:lnTo>
                <a:lnTo>
                  <a:pt x="754" y="226"/>
                </a:lnTo>
                <a:lnTo>
                  <a:pt x="754" y="225"/>
                </a:lnTo>
                <a:lnTo>
                  <a:pt x="736" y="217"/>
                </a:lnTo>
                <a:lnTo>
                  <a:pt x="682" y="196"/>
                </a:lnTo>
                <a:lnTo>
                  <a:pt x="641" y="179"/>
                </a:lnTo>
                <a:lnTo>
                  <a:pt x="639" y="1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65"/>
          <p:cNvSpPr/>
          <p:nvPr/>
        </p:nvSpPr>
        <p:spPr>
          <a:xfrm>
            <a:off x="2455920" y="4532400"/>
            <a:ext cx="625320" cy="345960"/>
          </a:xfrm>
          <a:custGeom>
            <a:avLst/>
            <a:gdLst>
              <a:gd name="textAreaLeft" fmla="*/ 0 w 625320"/>
              <a:gd name="textAreaRight" fmla="*/ 625680 w 625320"/>
              <a:gd name="textAreaTop" fmla="*/ 0 h 345960"/>
              <a:gd name="textAreaBottom" fmla="*/ 345960 h 345960"/>
            </a:gdLst>
            <a:ahLst/>
            <a:rect l="textAreaLeft" t="textAreaTop" r="textAreaRight" b="textAreaBottom"/>
            <a:pathLst>
              <a:path w="787" h="437">
                <a:moveTo>
                  <a:pt x="639" y="178"/>
                </a:moveTo>
                <a:lnTo>
                  <a:pt x="642" y="170"/>
                </a:lnTo>
                <a:lnTo>
                  <a:pt x="654" y="145"/>
                </a:lnTo>
                <a:lnTo>
                  <a:pt x="664" y="127"/>
                </a:lnTo>
                <a:lnTo>
                  <a:pt x="665" y="125"/>
                </a:lnTo>
                <a:lnTo>
                  <a:pt x="654" y="109"/>
                </a:lnTo>
                <a:lnTo>
                  <a:pt x="624" y="77"/>
                </a:lnTo>
                <a:lnTo>
                  <a:pt x="585" y="46"/>
                </a:lnTo>
                <a:lnTo>
                  <a:pt x="496" y="7"/>
                </a:lnTo>
                <a:lnTo>
                  <a:pt x="442" y="12"/>
                </a:lnTo>
                <a:lnTo>
                  <a:pt x="442" y="13"/>
                </a:lnTo>
                <a:lnTo>
                  <a:pt x="443" y="18"/>
                </a:lnTo>
                <a:lnTo>
                  <a:pt x="448" y="36"/>
                </a:lnTo>
                <a:lnTo>
                  <a:pt x="452" y="57"/>
                </a:lnTo>
                <a:lnTo>
                  <a:pt x="453" y="61"/>
                </a:lnTo>
                <a:lnTo>
                  <a:pt x="451" y="62"/>
                </a:lnTo>
                <a:lnTo>
                  <a:pt x="436" y="63"/>
                </a:lnTo>
                <a:lnTo>
                  <a:pt x="388" y="68"/>
                </a:lnTo>
                <a:lnTo>
                  <a:pt x="351" y="72"/>
                </a:lnTo>
                <a:lnTo>
                  <a:pt x="349" y="72"/>
                </a:lnTo>
                <a:lnTo>
                  <a:pt x="346" y="62"/>
                </a:lnTo>
                <a:lnTo>
                  <a:pt x="340" y="28"/>
                </a:lnTo>
                <a:lnTo>
                  <a:pt x="334" y="2"/>
                </a:lnTo>
                <a:lnTo>
                  <a:pt x="334" y="0"/>
                </a:lnTo>
                <a:lnTo>
                  <a:pt x="332" y="1"/>
                </a:lnTo>
                <a:lnTo>
                  <a:pt x="317" y="2"/>
                </a:lnTo>
                <a:lnTo>
                  <a:pt x="269" y="7"/>
                </a:lnTo>
                <a:lnTo>
                  <a:pt x="231" y="10"/>
                </a:lnTo>
                <a:lnTo>
                  <a:pt x="230" y="10"/>
                </a:lnTo>
                <a:lnTo>
                  <a:pt x="225" y="12"/>
                </a:lnTo>
                <a:lnTo>
                  <a:pt x="223" y="15"/>
                </a:lnTo>
                <a:lnTo>
                  <a:pt x="222" y="19"/>
                </a:lnTo>
                <a:lnTo>
                  <a:pt x="223" y="25"/>
                </a:lnTo>
                <a:lnTo>
                  <a:pt x="224" y="31"/>
                </a:lnTo>
                <a:lnTo>
                  <a:pt x="228" y="44"/>
                </a:lnTo>
                <a:lnTo>
                  <a:pt x="233" y="56"/>
                </a:lnTo>
                <a:lnTo>
                  <a:pt x="233" y="62"/>
                </a:lnTo>
                <a:lnTo>
                  <a:pt x="233" y="64"/>
                </a:lnTo>
                <a:lnTo>
                  <a:pt x="230" y="65"/>
                </a:lnTo>
                <a:lnTo>
                  <a:pt x="223" y="68"/>
                </a:lnTo>
                <a:lnTo>
                  <a:pt x="210" y="72"/>
                </a:lnTo>
                <a:lnTo>
                  <a:pt x="175" y="80"/>
                </a:lnTo>
                <a:lnTo>
                  <a:pt x="86" y="101"/>
                </a:lnTo>
                <a:lnTo>
                  <a:pt x="23" y="127"/>
                </a:lnTo>
                <a:lnTo>
                  <a:pt x="17" y="134"/>
                </a:lnTo>
                <a:lnTo>
                  <a:pt x="7" y="143"/>
                </a:lnTo>
                <a:lnTo>
                  <a:pt x="1" y="150"/>
                </a:lnTo>
                <a:lnTo>
                  <a:pt x="0" y="153"/>
                </a:lnTo>
                <a:lnTo>
                  <a:pt x="0" y="155"/>
                </a:lnTo>
                <a:lnTo>
                  <a:pt x="0" y="158"/>
                </a:lnTo>
                <a:lnTo>
                  <a:pt x="2" y="160"/>
                </a:lnTo>
                <a:lnTo>
                  <a:pt x="4" y="163"/>
                </a:lnTo>
                <a:lnTo>
                  <a:pt x="12" y="168"/>
                </a:lnTo>
                <a:lnTo>
                  <a:pt x="14" y="171"/>
                </a:lnTo>
                <a:lnTo>
                  <a:pt x="17" y="172"/>
                </a:lnTo>
                <a:lnTo>
                  <a:pt x="20" y="172"/>
                </a:lnTo>
                <a:lnTo>
                  <a:pt x="30" y="172"/>
                </a:lnTo>
                <a:lnTo>
                  <a:pt x="52" y="167"/>
                </a:lnTo>
                <a:lnTo>
                  <a:pt x="97" y="157"/>
                </a:lnTo>
                <a:lnTo>
                  <a:pt x="108" y="160"/>
                </a:lnTo>
                <a:lnTo>
                  <a:pt x="106" y="162"/>
                </a:lnTo>
                <a:lnTo>
                  <a:pt x="97" y="174"/>
                </a:lnTo>
                <a:lnTo>
                  <a:pt x="65" y="211"/>
                </a:lnTo>
                <a:lnTo>
                  <a:pt x="41" y="241"/>
                </a:lnTo>
                <a:lnTo>
                  <a:pt x="40" y="242"/>
                </a:lnTo>
                <a:lnTo>
                  <a:pt x="38" y="253"/>
                </a:lnTo>
                <a:lnTo>
                  <a:pt x="40" y="282"/>
                </a:lnTo>
                <a:lnTo>
                  <a:pt x="55" y="355"/>
                </a:lnTo>
                <a:lnTo>
                  <a:pt x="76" y="393"/>
                </a:lnTo>
                <a:lnTo>
                  <a:pt x="110" y="425"/>
                </a:lnTo>
                <a:lnTo>
                  <a:pt x="134" y="437"/>
                </a:lnTo>
                <a:lnTo>
                  <a:pt x="138" y="437"/>
                </a:lnTo>
                <a:lnTo>
                  <a:pt x="175" y="432"/>
                </a:lnTo>
                <a:lnTo>
                  <a:pt x="297" y="416"/>
                </a:lnTo>
                <a:lnTo>
                  <a:pt x="391" y="404"/>
                </a:lnTo>
                <a:lnTo>
                  <a:pt x="397" y="403"/>
                </a:lnTo>
                <a:lnTo>
                  <a:pt x="396" y="393"/>
                </a:lnTo>
                <a:lnTo>
                  <a:pt x="393" y="359"/>
                </a:lnTo>
                <a:lnTo>
                  <a:pt x="392" y="335"/>
                </a:lnTo>
                <a:lnTo>
                  <a:pt x="392" y="333"/>
                </a:lnTo>
                <a:lnTo>
                  <a:pt x="400" y="328"/>
                </a:lnTo>
                <a:lnTo>
                  <a:pt x="422" y="313"/>
                </a:lnTo>
                <a:lnTo>
                  <a:pt x="441" y="302"/>
                </a:lnTo>
                <a:lnTo>
                  <a:pt x="442" y="301"/>
                </a:lnTo>
                <a:lnTo>
                  <a:pt x="443" y="304"/>
                </a:lnTo>
                <a:lnTo>
                  <a:pt x="455" y="321"/>
                </a:lnTo>
                <a:lnTo>
                  <a:pt x="493" y="379"/>
                </a:lnTo>
                <a:lnTo>
                  <a:pt x="523" y="424"/>
                </a:lnTo>
                <a:lnTo>
                  <a:pt x="525" y="426"/>
                </a:lnTo>
                <a:lnTo>
                  <a:pt x="525" y="424"/>
                </a:lnTo>
                <a:lnTo>
                  <a:pt x="533" y="407"/>
                </a:lnTo>
                <a:lnTo>
                  <a:pt x="555" y="349"/>
                </a:lnTo>
                <a:lnTo>
                  <a:pt x="573" y="304"/>
                </a:lnTo>
                <a:lnTo>
                  <a:pt x="574" y="301"/>
                </a:lnTo>
                <a:lnTo>
                  <a:pt x="584" y="302"/>
                </a:lnTo>
                <a:lnTo>
                  <a:pt x="605" y="304"/>
                </a:lnTo>
                <a:lnTo>
                  <a:pt x="620" y="310"/>
                </a:lnTo>
                <a:lnTo>
                  <a:pt x="633" y="317"/>
                </a:lnTo>
                <a:lnTo>
                  <a:pt x="642" y="328"/>
                </a:lnTo>
                <a:lnTo>
                  <a:pt x="651" y="341"/>
                </a:lnTo>
                <a:lnTo>
                  <a:pt x="655" y="348"/>
                </a:lnTo>
                <a:lnTo>
                  <a:pt x="659" y="348"/>
                </a:lnTo>
                <a:lnTo>
                  <a:pt x="669" y="346"/>
                </a:lnTo>
                <a:lnTo>
                  <a:pt x="694" y="339"/>
                </a:lnTo>
                <a:lnTo>
                  <a:pt x="716" y="334"/>
                </a:lnTo>
                <a:lnTo>
                  <a:pt x="722" y="333"/>
                </a:lnTo>
                <a:lnTo>
                  <a:pt x="718" y="322"/>
                </a:lnTo>
                <a:lnTo>
                  <a:pt x="717" y="312"/>
                </a:lnTo>
                <a:lnTo>
                  <a:pt x="719" y="303"/>
                </a:lnTo>
                <a:lnTo>
                  <a:pt x="723" y="296"/>
                </a:lnTo>
                <a:lnTo>
                  <a:pt x="728" y="289"/>
                </a:lnTo>
                <a:lnTo>
                  <a:pt x="734" y="283"/>
                </a:lnTo>
                <a:lnTo>
                  <a:pt x="751" y="272"/>
                </a:lnTo>
                <a:lnTo>
                  <a:pt x="769" y="263"/>
                </a:lnTo>
                <a:lnTo>
                  <a:pt x="787" y="255"/>
                </a:lnTo>
                <a:lnTo>
                  <a:pt x="782" y="251"/>
                </a:lnTo>
                <a:lnTo>
                  <a:pt x="766" y="237"/>
                </a:lnTo>
                <a:lnTo>
                  <a:pt x="754" y="226"/>
                </a:lnTo>
                <a:lnTo>
                  <a:pt x="754" y="225"/>
                </a:lnTo>
                <a:lnTo>
                  <a:pt x="736" y="217"/>
                </a:lnTo>
                <a:lnTo>
                  <a:pt x="682" y="196"/>
                </a:lnTo>
                <a:lnTo>
                  <a:pt x="641" y="179"/>
                </a:lnTo>
                <a:lnTo>
                  <a:pt x="639" y="178"/>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66"/>
          <p:cNvSpPr/>
          <p:nvPr/>
        </p:nvSpPr>
        <p:spPr>
          <a:xfrm>
            <a:off x="5384880" y="5340240"/>
            <a:ext cx="396720" cy="357120"/>
          </a:xfrm>
          <a:custGeom>
            <a:avLst/>
            <a:gdLst>
              <a:gd name="textAreaLeft" fmla="*/ 0 w 396720"/>
              <a:gd name="textAreaRight" fmla="*/ 397080 w 396720"/>
              <a:gd name="textAreaTop" fmla="*/ 0 h 357120"/>
              <a:gd name="textAreaBottom" fmla="*/ 357480 h 357120"/>
            </a:gdLst>
            <a:ahLst/>
            <a:rect l="textAreaLeft" t="textAreaTop" r="textAreaRight" b="textAreaBottom"/>
            <a:pathLst>
              <a:path w="500" h="452">
                <a:moveTo>
                  <a:pt x="373" y="97"/>
                </a:moveTo>
                <a:lnTo>
                  <a:pt x="365" y="90"/>
                </a:lnTo>
                <a:lnTo>
                  <a:pt x="349" y="76"/>
                </a:lnTo>
                <a:lnTo>
                  <a:pt x="314" y="45"/>
                </a:lnTo>
                <a:lnTo>
                  <a:pt x="273" y="10"/>
                </a:lnTo>
                <a:lnTo>
                  <a:pt x="262" y="0"/>
                </a:lnTo>
                <a:lnTo>
                  <a:pt x="261" y="1"/>
                </a:lnTo>
                <a:lnTo>
                  <a:pt x="256" y="5"/>
                </a:lnTo>
                <a:lnTo>
                  <a:pt x="240" y="20"/>
                </a:lnTo>
                <a:lnTo>
                  <a:pt x="228" y="31"/>
                </a:lnTo>
                <a:lnTo>
                  <a:pt x="227" y="31"/>
                </a:lnTo>
                <a:lnTo>
                  <a:pt x="222" y="31"/>
                </a:lnTo>
                <a:lnTo>
                  <a:pt x="206" y="31"/>
                </a:lnTo>
                <a:lnTo>
                  <a:pt x="193" y="31"/>
                </a:lnTo>
                <a:lnTo>
                  <a:pt x="188" y="29"/>
                </a:lnTo>
                <a:lnTo>
                  <a:pt x="174" y="22"/>
                </a:lnTo>
                <a:lnTo>
                  <a:pt x="163" y="15"/>
                </a:lnTo>
                <a:lnTo>
                  <a:pt x="163" y="14"/>
                </a:lnTo>
                <a:lnTo>
                  <a:pt x="154" y="15"/>
                </a:lnTo>
                <a:lnTo>
                  <a:pt x="131" y="19"/>
                </a:lnTo>
                <a:lnTo>
                  <a:pt x="112" y="20"/>
                </a:lnTo>
                <a:lnTo>
                  <a:pt x="108" y="22"/>
                </a:lnTo>
                <a:lnTo>
                  <a:pt x="93" y="33"/>
                </a:lnTo>
                <a:lnTo>
                  <a:pt x="42" y="70"/>
                </a:lnTo>
                <a:lnTo>
                  <a:pt x="2" y="100"/>
                </a:lnTo>
                <a:lnTo>
                  <a:pt x="0" y="101"/>
                </a:lnTo>
                <a:lnTo>
                  <a:pt x="4" y="106"/>
                </a:lnTo>
                <a:lnTo>
                  <a:pt x="17" y="119"/>
                </a:lnTo>
                <a:lnTo>
                  <a:pt x="47" y="153"/>
                </a:lnTo>
                <a:lnTo>
                  <a:pt x="75" y="183"/>
                </a:lnTo>
                <a:lnTo>
                  <a:pt x="80" y="187"/>
                </a:lnTo>
                <a:lnTo>
                  <a:pt x="72" y="196"/>
                </a:lnTo>
                <a:lnTo>
                  <a:pt x="56" y="218"/>
                </a:lnTo>
                <a:lnTo>
                  <a:pt x="29" y="273"/>
                </a:lnTo>
                <a:lnTo>
                  <a:pt x="15" y="329"/>
                </a:lnTo>
                <a:lnTo>
                  <a:pt x="15" y="341"/>
                </a:lnTo>
                <a:lnTo>
                  <a:pt x="19" y="344"/>
                </a:lnTo>
                <a:lnTo>
                  <a:pt x="24" y="344"/>
                </a:lnTo>
                <a:lnTo>
                  <a:pt x="28" y="342"/>
                </a:lnTo>
                <a:lnTo>
                  <a:pt x="33" y="341"/>
                </a:lnTo>
                <a:lnTo>
                  <a:pt x="43" y="337"/>
                </a:lnTo>
                <a:lnTo>
                  <a:pt x="64" y="329"/>
                </a:lnTo>
                <a:lnTo>
                  <a:pt x="75" y="328"/>
                </a:lnTo>
                <a:lnTo>
                  <a:pt x="76" y="329"/>
                </a:lnTo>
                <a:lnTo>
                  <a:pt x="77" y="331"/>
                </a:lnTo>
                <a:lnTo>
                  <a:pt x="78" y="334"/>
                </a:lnTo>
                <a:lnTo>
                  <a:pt x="78" y="338"/>
                </a:lnTo>
                <a:lnTo>
                  <a:pt x="76" y="348"/>
                </a:lnTo>
                <a:lnTo>
                  <a:pt x="72" y="359"/>
                </a:lnTo>
                <a:lnTo>
                  <a:pt x="60" y="386"/>
                </a:lnTo>
                <a:lnTo>
                  <a:pt x="39" y="438"/>
                </a:lnTo>
                <a:lnTo>
                  <a:pt x="39" y="452"/>
                </a:lnTo>
                <a:lnTo>
                  <a:pt x="42" y="449"/>
                </a:lnTo>
                <a:lnTo>
                  <a:pt x="48" y="445"/>
                </a:lnTo>
                <a:lnTo>
                  <a:pt x="68" y="434"/>
                </a:lnTo>
                <a:lnTo>
                  <a:pt x="121" y="402"/>
                </a:lnTo>
                <a:lnTo>
                  <a:pt x="168" y="358"/>
                </a:lnTo>
                <a:lnTo>
                  <a:pt x="172" y="353"/>
                </a:lnTo>
                <a:lnTo>
                  <a:pt x="173" y="347"/>
                </a:lnTo>
                <a:lnTo>
                  <a:pt x="174" y="341"/>
                </a:lnTo>
                <a:lnTo>
                  <a:pt x="173" y="335"/>
                </a:lnTo>
                <a:lnTo>
                  <a:pt x="172" y="326"/>
                </a:lnTo>
                <a:lnTo>
                  <a:pt x="169" y="317"/>
                </a:lnTo>
                <a:lnTo>
                  <a:pt x="170" y="314"/>
                </a:lnTo>
                <a:lnTo>
                  <a:pt x="172" y="311"/>
                </a:lnTo>
                <a:lnTo>
                  <a:pt x="176" y="308"/>
                </a:lnTo>
                <a:lnTo>
                  <a:pt x="181" y="306"/>
                </a:lnTo>
                <a:lnTo>
                  <a:pt x="188" y="304"/>
                </a:lnTo>
                <a:lnTo>
                  <a:pt x="202" y="297"/>
                </a:lnTo>
                <a:lnTo>
                  <a:pt x="231" y="276"/>
                </a:lnTo>
                <a:lnTo>
                  <a:pt x="251" y="261"/>
                </a:lnTo>
                <a:lnTo>
                  <a:pt x="254" y="259"/>
                </a:lnTo>
                <a:lnTo>
                  <a:pt x="271" y="252"/>
                </a:lnTo>
                <a:lnTo>
                  <a:pt x="310" y="240"/>
                </a:lnTo>
                <a:lnTo>
                  <a:pt x="394" y="218"/>
                </a:lnTo>
                <a:lnTo>
                  <a:pt x="474" y="195"/>
                </a:lnTo>
                <a:lnTo>
                  <a:pt x="491" y="187"/>
                </a:lnTo>
                <a:lnTo>
                  <a:pt x="491" y="184"/>
                </a:lnTo>
                <a:lnTo>
                  <a:pt x="492" y="175"/>
                </a:lnTo>
                <a:lnTo>
                  <a:pt x="495" y="163"/>
                </a:lnTo>
                <a:lnTo>
                  <a:pt x="499" y="157"/>
                </a:lnTo>
                <a:lnTo>
                  <a:pt x="500" y="156"/>
                </a:lnTo>
                <a:lnTo>
                  <a:pt x="489" y="153"/>
                </a:lnTo>
                <a:lnTo>
                  <a:pt x="469" y="145"/>
                </a:lnTo>
                <a:lnTo>
                  <a:pt x="430" y="125"/>
                </a:lnTo>
                <a:lnTo>
                  <a:pt x="386" y="103"/>
                </a:lnTo>
                <a:lnTo>
                  <a:pt x="373" y="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67"/>
          <p:cNvSpPr/>
          <p:nvPr/>
        </p:nvSpPr>
        <p:spPr>
          <a:xfrm>
            <a:off x="5384880" y="5340240"/>
            <a:ext cx="396720" cy="357120"/>
          </a:xfrm>
          <a:custGeom>
            <a:avLst/>
            <a:gdLst>
              <a:gd name="textAreaLeft" fmla="*/ 0 w 396720"/>
              <a:gd name="textAreaRight" fmla="*/ 397080 w 396720"/>
              <a:gd name="textAreaTop" fmla="*/ 0 h 357120"/>
              <a:gd name="textAreaBottom" fmla="*/ 357480 h 357120"/>
            </a:gdLst>
            <a:ahLst/>
            <a:rect l="textAreaLeft" t="textAreaTop" r="textAreaRight" b="textAreaBottom"/>
            <a:pathLst>
              <a:path w="500" h="452">
                <a:moveTo>
                  <a:pt x="373" y="97"/>
                </a:moveTo>
                <a:lnTo>
                  <a:pt x="365" y="90"/>
                </a:lnTo>
                <a:lnTo>
                  <a:pt x="349" y="76"/>
                </a:lnTo>
                <a:lnTo>
                  <a:pt x="314" y="45"/>
                </a:lnTo>
                <a:lnTo>
                  <a:pt x="273" y="10"/>
                </a:lnTo>
                <a:lnTo>
                  <a:pt x="262" y="0"/>
                </a:lnTo>
                <a:lnTo>
                  <a:pt x="261" y="1"/>
                </a:lnTo>
                <a:lnTo>
                  <a:pt x="256" y="5"/>
                </a:lnTo>
                <a:lnTo>
                  <a:pt x="240" y="20"/>
                </a:lnTo>
                <a:lnTo>
                  <a:pt x="228" y="31"/>
                </a:lnTo>
                <a:lnTo>
                  <a:pt x="227" y="31"/>
                </a:lnTo>
                <a:lnTo>
                  <a:pt x="222" y="31"/>
                </a:lnTo>
                <a:lnTo>
                  <a:pt x="206" y="31"/>
                </a:lnTo>
                <a:lnTo>
                  <a:pt x="193" y="31"/>
                </a:lnTo>
                <a:lnTo>
                  <a:pt x="188" y="29"/>
                </a:lnTo>
                <a:lnTo>
                  <a:pt x="174" y="22"/>
                </a:lnTo>
                <a:lnTo>
                  <a:pt x="163" y="15"/>
                </a:lnTo>
                <a:lnTo>
                  <a:pt x="163" y="14"/>
                </a:lnTo>
                <a:lnTo>
                  <a:pt x="154" y="15"/>
                </a:lnTo>
                <a:lnTo>
                  <a:pt x="131" y="19"/>
                </a:lnTo>
                <a:lnTo>
                  <a:pt x="112" y="20"/>
                </a:lnTo>
                <a:lnTo>
                  <a:pt x="108" y="22"/>
                </a:lnTo>
                <a:lnTo>
                  <a:pt x="93" y="33"/>
                </a:lnTo>
                <a:lnTo>
                  <a:pt x="42" y="70"/>
                </a:lnTo>
                <a:lnTo>
                  <a:pt x="2" y="100"/>
                </a:lnTo>
                <a:lnTo>
                  <a:pt x="0" y="101"/>
                </a:lnTo>
                <a:lnTo>
                  <a:pt x="4" y="106"/>
                </a:lnTo>
                <a:lnTo>
                  <a:pt x="17" y="119"/>
                </a:lnTo>
                <a:lnTo>
                  <a:pt x="47" y="153"/>
                </a:lnTo>
                <a:lnTo>
                  <a:pt x="75" y="183"/>
                </a:lnTo>
                <a:lnTo>
                  <a:pt x="80" y="187"/>
                </a:lnTo>
                <a:lnTo>
                  <a:pt x="72" y="196"/>
                </a:lnTo>
                <a:lnTo>
                  <a:pt x="56" y="218"/>
                </a:lnTo>
                <a:lnTo>
                  <a:pt x="29" y="273"/>
                </a:lnTo>
                <a:lnTo>
                  <a:pt x="15" y="329"/>
                </a:lnTo>
                <a:lnTo>
                  <a:pt x="15" y="341"/>
                </a:lnTo>
                <a:lnTo>
                  <a:pt x="19" y="344"/>
                </a:lnTo>
                <a:lnTo>
                  <a:pt x="24" y="344"/>
                </a:lnTo>
                <a:lnTo>
                  <a:pt x="28" y="342"/>
                </a:lnTo>
                <a:lnTo>
                  <a:pt x="33" y="341"/>
                </a:lnTo>
                <a:lnTo>
                  <a:pt x="43" y="337"/>
                </a:lnTo>
                <a:lnTo>
                  <a:pt x="64" y="329"/>
                </a:lnTo>
                <a:lnTo>
                  <a:pt x="75" y="328"/>
                </a:lnTo>
                <a:lnTo>
                  <a:pt x="76" y="329"/>
                </a:lnTo>
                <a:lnTo>
                  <a:pt x="77" y="331"/>
                </a:lnTo>
                <a:lnTo>
                  <a:pt x="78" y="334"/>
                </a:lnTo>
                <a:lnTo>
                  <a:pt x="78" y="338"/>
                </a:lnTo>
                <a:lnTo>
                  <a:pt x="76" y="348"/>
                </a:lnTo>
                <a:lnTo>
                  <a:pt x="72" y="359"/>
                </a:lnTo>
                <a:lnTo>
                  <a:pt x="60" y="386"/>
                </a:lnTo>
                <a:lnTo>
                  <a:pt x="39" y="438"/>
                </a:lnTo>
                <a:lnTo>
                  <a:pt x="39" y="452"/>
                </a:lnTo>
                <a:lnTo>
                  <a:pt x="42" y="449"/>
                </a:lnTo>
                <a:lnTo>
                  <a:pt x="48" y="445"/>
                </a:lnTo>
                <a:lnTo>
                  <a:pt x="68" y="434"/>
                </a:lnTo>
                <a:lnTo>
                  <a:pt x="121" y="402"/>
                </a:lnTo>
                <a:lnTo>
                  <a:pt x="168" y="358"/>
                </a:lnTo>
                <a:lnTo>
                  <a:pt x="172" y="353"/>
                </a:lnTo>
                <a:lnTo>
                  <a:pt x="173" y="347"/>
                </a:lnTo>
                <a:lnTo>
                  <a:pt x="174" y="341"/>
                </a:lnTo>
                <a:lnTo>
                  <a:pt x="173" y="335"/>
                </a:lnTo>
                <a:lnTo>
                  <a:pt x="172" y="326"/>
                </a:lnTo>
                <a:lnTo>
                  <a:pt x="169" y="317"/>
                </a:lnTo>
                <a:lnTo>
                  <a:pt x="170" y="314"/>
                </a:lnTo>
                <a:lnTo>
                  <a:pt x="172" y="311"/>
                </a:lnTo>
                <a:lnTo>
                  <a:pt x="176" y="308"/>
                </a:lnTo>
                <a:lnTo>
                  <a:pt x="181" y="306"/>
                </a:lnTo>
                <a:lnTo>
                  <a:pt x="188" y="304"/>
                </a:lnTo>
                <a:lnTo>
                  <a:pt x="202" y="297"/>
                </a:lnTo>
                <a:lnTo>
                  <a:pt x="231" y="276"/>
                </a:lnTo>
                <a:lnTo>
                  <a:pt x="251" y="261"/>
                </a:lnTo>
                <a:lnTo>
                  <a:pt x="254" y="259"/>
                </a:lnTo>
                <a:lnTo>
                  <a:pt x="271" y="252"/>
                </a:lnTo>
                <a:lnTo>
                  <a:pt x="310" y="240"/>
                </a:lnTo>
                <a:lnTo>
                  <a:pt x="394" y="218"/>
                </a:lnTo>
                <a:lnTo>
                  <a:pt x="474" y="195"/>
                </a:lnTo>
                <a:lnTo>
                  <a:pt x="491" y="187"/>
                </a:lnTo>
                <a:lnTo>
                  <a:pt x="491" y="184"/>
                </a:lnTo>
                <a:lnTo>
                  <a:pt x="492" y="175"/>
                </a:lnTo>
                <a:lnTo>
                  <a:pt x="495" y="163"/>
                </a:lnTo>
                <a:lnTo>
                  <a:pt x="499" y="157"/>
                </a:lnTo>
                <a:lnTo>
                  <a:pt x="500" y="156"/>
                </a:lnTo>
                <a:lnTo>
                  <a:pt x="489" y="153"/>
                </a:lnTo>
                <a:lnTo>
                  <a:pt x="469" y="145"/>
                </a:lnTo>
                <a:lnTo>
                  <a:pt x="430" y="125"/>
                </a:lnTo>
                <a:lnTo>
                  <a:pt x="386" y="103"/>
                </a:lnTo>
                <a:lnTo>
                  <a:pt x="373" y="97"/>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68"/>
          <p:cNvSpPr/>
          <p:nvPr/>
        </p:nvSpPr>
        <p:spPr>
          <a:xfrm>
            <a:off x="4743360" y="4970520"/>
            <a:ext cx="849240" cy="646200"/>
          </a:xfrm>
          <a:custGeom>
            <a:avLst/>
            <a:gdLst>
              <a:gd name="textAreaLeft" fmla="*/ 0 w 849240"/>
              <a:gd name="textAreaRight" fmla="*/ 849600 w 849240"/>
              <a:gd name="textAreaTop" fmla="*/ 0 h 646200"/>
              <a:gd name="textAreaBottom" fmla="*/ 646560 h 646200"/>
            </a:gdLst>
            <a:ahLst/>
            <a:rect l="textAreaLeft" t="textAreaTop" r="textAreaRight" b="textAreaBottom"/>
            <a:pathLst>
              <a:path w="1071" h="815">
                <a:moveTo>
                  <a:pt x="1037" y="306"/>
                </a:moveTo>
                <a:lnTo>
                  <a:pt x="1034" y="283"/>
                </a:lnTo>
                <a:lnTo>
                  <a:pt x="1033" y="237"/>
                </a:lnTo>
                <a:lnTo>
                  <a:pt x="1042" y="153"/>
                </a:lnTo>
                <a:lnTo>
                  <a:pt x="1061" y="75"/>
                </a:lnTo>
                <a:lnTo>
                  <a:pt x="1066" y="56"/>
                </a:lnTo>
                <a:lnTo>
                  <a:pt x="1065" y="53"/>
                </a:lnTo>
                <a:lnTo>
                  <a:pt x="1064" y="52"/>
                </a:lnTo>
                <a:lnTo>
                  <a:pt x="1061" y="51"/>
                </a:lnTo>
                <a:lnTo>
                  <a:pt x="1059" y="51"/>
                </a:lnTo>
                <a:lnTo>
                  <a:pt x="1054" y="52"/>
                </a:lnTo>
                <a:lnTo>
                  <a:pt x="1048" y="55"/>
                </a:lnTo>
                <a:lnTo>
                  <a:pt x="1042" y="59"/>
                </a:lnTo>
                <a:lnTo>
                  <a:pt x="1037" y="61"/>
                </a:lnTo>
                <a:lnTo>
                  <a:pt x="1021" y="59"/>
                </a:lnTo>
                <a:lnTo>
                  <a:pt x="999" y="53"/>
                </a:lnTo>
                <a:lnTo>
                  <a:pt x="982" y="45"/>
                </a:lnTo>
                <a:lnTo>
                  <a:pt x="952" y="27"/>
                </a:lnTo>
                <a:lnTo>
                  <a:pt x="923" y="14"/>
                </a:lnTo>
                <a:lnTo>
                  <a:pt x="887" y="5"/>
                </a:lnTo>
                <a:lnTo>
                  <a:pt x="828" y="0"/>
                </a:lnTo>
                <a:lnTo>
                  <a:pt x="777" y="10"/>
                </a:lnTo>
                <a:lnTo>
                  <a:pt x="733" y="33"/>
                </a:lnTo>
                <a:lnTo>
                  <a:pt x="691" y="65"/>
                </a:lnTo>
                <a:lnTo>
                  <a:pt x="648" y="100"/>
                </a:lnTo>
                <a:lnTo>
                  <a:pt x="626" y="118"/>
                </a:lnTo>
                <a:lnTo>
                  <a:pt x="620" y="120"/>
                </a:lnTo>
                <a:lnTo>
                  <a:pt x="585" y="131"/>
                </a:lnTo>
                <a:lnTo>
                  <a:pt x="464" y="170"/>
                </a:lnTo>
                <a:lnTo>
                  <a:pt x="370" y="199"/>
                </a:lnTo>
                <a:lnTo>
                  <a:pt x="366" y="200"/>
                </a:lnTo>
                <a:lnTo>
                  <a:pt x="362" y="201"/>
                </a:lnTo>
                <a:lnTo>
                  <a:pt x="332" y="201"/>
                </a:lnTo>
                <a:lnTo>
                  <a:pt x="230" y="201"/>
                </a:lnTo>
                <a:lnTo>
                  <a:pt x="152" y="201"/>
                </a:lnTo>
                <a:lnTo>
                  <a:pt x="148" y="201"/>
                </a:lnTo>
                <a:lnTo>
                  <a:pt x="133" y="194"/>
                </a:lnTo>
                <a:lnTo>
                  <a:pt x="91" y="172"/>
                </a:lnTo>
                <a:lnTo>
                  <a:pt x="59" y="154"/>
                </a:lnTo>
                <a:lnTo>
                  <a:pt x="58" y="153"/>
                </a:lnTo>
                <a:lnTo>
                  <a:pt x="56" y="155"/>
                </a:lnTo>
                <a:lnTo>
                  <a:pt x="49" y="169"/>
                </a:lnTo>
                <a:lnTo>
                  <a:pt x="22" y="211"/>
                </a:lnTo>
                <a:lnTo>
                  <a:pt x="1" y="245"/>
                </a:lnTo>
                <a:lnTo>
                  <a:pt x="0" y="246"/>
                </a:lnTo>
                <a:lnTo>
                  <a:pt x="2" y="250"/>
                </a:lnTo>
                <a:lnTo>
                  <a:pt x="17" y="271"/>
                </a:lnTo>
                <a:lnTo>
                  <a:pt x="72" y="344"/>
                </a:lnTo>
                <a:lnTo>
                  <a:pt x="113" y="399"/>
                </a:lnTo>
                <a:lnTo>
                  <a:pt x="116" y="402"/>
                </a:lnTo>
                <a:lnTo>
                  <a:pt x="114" y="404"/>
                </a:lnTo>
                <a:lnTo>
                  <a:pt x="105" y="413"/>
                </a:lnTo>
                <a:lnTo>
                  <a:pt x="73" y="444"/>
                </a:lnTo>
                <a:lnTo>
                  <a:pt x="50" y="467"/>
                </a:lnTo>
                <a:lnTo>
                  <a:pt x="49" y="468"/>
                </a:lnTo>
                <a:lnTo>
                  <a:pt x="49" y="471"/>
                </a:lnTo>
                <a:lnTo>
                  <a:pt x="49" y="491"/>
                </a:lnTo>
                <a:lnTo>
                  <a:pt x="49" y="555"/>
                </a:lnTo>
                <a:lnTo>
                  <a:pt x="49" y="605"/>
                </a:lnTo>
                <a:lnTo>
                  <a:pt x="50" y="607"/>
                </a:lnTo>
                <a:lnTo>
                  <a:pt x="54" y="608"/>
                </a:lnTo>
                <a:lnTo>
                  <a:pt x="70" y="610"/>
                </a:lnTo>
                <a:lnTo>
                  <a:pt x="109" y="617"/>
                </a:lnTo>
                <a:lnTo>
                  <a:pt x="143" y="623"/>
                </a:lnTo>
                <a:lnTo>
                  <a:pt x="148" y="623"/>
                </a:lnTo>
                <a:lnTo>
                  <a:pt x="156" y="635"/>
                </a:lnTo>
                <a:lnTo>
                  <a:pt x="178" y="671"/>
                </a:lnTo>
                <a:lnTo>
                  <a:pt x="197" y="697"/>
                </a:lnTo>
                <a:lnTo>
                  <a:pt x="198" y="698"/>
                </a:lnTo>
                <a:lnTo>
                  <a:pt x="194" y="707"/>
                </a:lnTo>
                <a:lnTo>
                  <a:pt x="188" y="728"/>
                </a:lnTo>
                <a:lnTo>
                  <a:pt x="183" y="744"/>
                </a:lnTo>
                <a:lnTo>
                  <a:pt x="183" y="746"/>
                </a:lnTo>
                <a:lnTo>
                  <a:pt x="184" y="756"/>
                </a:lnTo>
                <a:lnTo>
                  <a:pt x="189" y="789"/>
                </a:lnTo>
                <a:lnTo>
                  <a:pt x="193" y="814"/>
                </a:lnTo>
                <a:lnTo>
                  <a:pt x="194" y="815"/>
                </a:lnTo>
                <a:lnTo>
                  <a:pt x="197" y="814"/>
                </a:lnTo>
                <a:lnTo>
                  <a:pt x="217" y="802"/>
                </a:lnTo>
                <a:lnTo>
                  <a:pt x="286" y="765"/>
                </a:lnTo>
                <a:lnTo>
                  <a:pt x="338" y="735"/>
                </a:lnTo>
                <a:lnTo>
                  <a:pt x="341" y="733"/>
                </a:lnTo>
                <a:lnTo>
                  <a:pt x="346" y="733"/>
                </a:lnTo>
                <a:lnTo>
                  <a:pt x="358" y="733"/>
                </a:lnTo>
                <a:lnTo>
                  <a:pt x="391" y="732"/>
                </a:lnTo>
                <a:lnTo>
                  <a:pt x="420" y="732"/>
                </a:lnTo>
                <a:lnTo>
                  <a:pt x="425" y="731"/>
                </a:lnTo>
                <a:lnTo>
                  <a:pt x="427" y="731"/>
                </a:lnTo>
                <a:lnTo>
                  <a:pt x="442" y="725"/>
                </a:lnTo>
                <a:lnTo>
                  <a:pt x="494" y="707"/>
                </a:lnTo>
                <a:lnTo>
                  <a:pt x="532" y="691"/>
                </a:lnTo>
                <a:lnTo>
                  <a:pt x="535" y="690"/>
                </a:lnTo>
                <a:lnTo>
                  <a:pt x="548" y="695"/>
                </a:lnTo>
                <a:lnTo>
                  <a:pt x="590" y="709"/>
                </a:lnTo>
                <a:lnTo>
                  <a:pt x="622" y="719"/>
                </a:lnTo>
                <a:lnTo>
                  <a:pt x="624" y="719"/>
                </a:lnTo>
                <a:lnTo>
                  <a:pt x="627" y="718"/>
                </a:lnTo>
                <a:lnTo>
                  <a:pt x="643" y="712"/>
                </a:lnTo>
                <a:lnTo>
                  <a:pt x="697" y="687"/>
                </a:lnTo>
                <a:lnTo>
                  <a:pt x="739" y="669"/>
                </a:lnTo>
                <a:lnTo>
                  <a:pt x="742" y="667"/>
                </a:lnTo>
                <a:lnTo>
                  <a:pt x="737" y="663"/>
                </a:lnTo>
                <a:lnTo>
                  <a:pt x="721" y="649"/>
                </a:lnTo>
                <a:lnTo>
                  <a:pt x="709" y="637"/>
                </a:lnTo>
                <a:lnTo>
                  <a:pt x="709" y="636"/>
                </a:lnTo>
                <a:lnTo>
                  <a:pt x="712" y="634"/>
                </a:lnTo>
                <a:lnTo>
                  <a:pt x="741" y="613"/>
                </a:lnTo>
                <a:lnTo>
                  <a:pt x="841" y="543"/>
                </a:lnTo>
                <a:lnTo>
                  <a:pt x="917" y="488"/>
                </a:lnTo>
                <a:lnTo>
                  <a:pt x="922" y="485"/>
                </a:lnTo>
                <a:lnTo>
                  <a:pt x="929" y="484"/>
                </a:lnTo>
                <a:lnTo>
                  <a:pt x="955" y="480"/>
                </a:lnTo>
                <a:lnTo>
                  <a:pt x="974" y="478"/>
                </a:lnTo>
                <a:lnTo>
                  <a:pt x="975" y="477"/>
                </a:lnTo>
                <a:lnTo>
                  <a:pt x="979" y="480"/>
                </a:lnTo>
                <a:lnTo>
                  <a:pt x="993" y="490"/>
                </a:lnTo>
                <a:lnTo>
                  <a:pt x="1004" y="496"/>
                </a:lnTo>
                <a:lnTo>
                  <a:pt x="1005" y="496"/>
                </a:lnTo>
                <a:lnTo>
                  <a:pt x="1009" y="496"/>
                </a:lnTo>
                <a:lnTo>
                  <a:pt x="1024" y="496"/>
                </a:lnTo>
                <a:lnTo>
                  <a:pt x="1036" y="496"/>
                </a:lnTo>
                <a:lnTo>
                  <a:pt x="1037" y="496"/>
                </a:lnTo>
                <a:lnTo>
                  <a:pt x="1042" y="492"/>
                </a:lnTo>
                <a:lnTo>
                  <a:pt x="1058" y="477"/>
                </a:lnTo>
                <a:lnTo>
                  <a:pt x="1069" y="466"/>
                </a:lnTo>
                <a:lnTo>
                  <a:pt x="1071" y="465"/>
                </a:lnTo>
                <a:lnTo>
                  <a:pt x="1068" y="464"/>
                </a:lnTo>
                <a:lnTo>
                  <a:pt x="1058" y="453"/>
                </a:lnTo>
                <a:lnTo>
                  <a:pt x="1020" y="415"/>
                </a:lnTo>
                <a:lnTo>
                  <a:pt x="991" y="387"/>
                </a:lnTo>
                <a:lnTo>
                  <a:pt x="990" y="385"/>
                </a:lnTo>
                <a:lnTo>
                  <a:pt x="997" y="372"/>
                </a:lnTo>
                <a:lnTo>
                  <a:pt x="1019" y="336"/>
                </a:lnTo>
                <a:lnTo>
                  <a:pt x="1036" y="308"/>
                </a:lnTo>
                <a:lnTo>
                  <a:pt x="1037" y="3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69"/>
          <p:cNvSpPr/>
          <p:nvPr/>
        </p:nvSpPr>
        <p:spPr>
          <a:xfrm>
            <a:off x="4743360" y="4970520"/>
            <a:ext cx="849240" cy="646200"/>
          </a:xfrm>
          <a:custGeom>
            <a:avLst/>
            <a:gdLst>
              <a:gd name="textAreaLeft" fmla="*/ 0 w 849240"/>
              <a:gd name="textAreaRight" fmla="*/ 849600 w 849240"/>
              <a:gd name="textAreaTop" fmla="*/ 0 h 646200"/>
              <a:gd name="textAreaBottom" fmla="*/ 646560 h 646200"/>
            </a:gdLst>
            <a:ahLst/>
            <a:rect l="textAreaLeft" t="textAreaTop" r="textAreaRight" b="textAreaBottom"/>
            <a:pathLst>
              <a:path w="1071" h="815">
                <a:moveTo>
                  <a:pt x="1037" y="306"/>
                </a:moveTo>
                <a:lnTo>
                  <a:pt x="1034" y="283"/>
                </a:lnTo>
                <a:lnTo>
                  <a:pt x="1033" y="237"/>
                </a:lnTo>
                <a:lnTo>
                  <a:pt x="1042" y="153"/>
                </a:lnTo>
                <a:lnTo>
                  <a:pt x="1061" y="75"/>
                </a:lnTo>
                <a:lnTo>
                  <a:pt x="1066" y="56"/>
                </a:lnTo>
                <a:lnTo>
                  <a:pt x="1065" y="53"/>
                </a:lnTo>
                <a:lnTo>
                  <a:pt x="1064" y="52"/>
                </a:lnTo>
                <a:lnTo>
                  <a:pt x="1061" y="51"/>
                </a:lnTo>
                <a:lnTo>
                  <a:pt x="1059" y="51"/>
                </a:lnTo>
                <a:lnTo>
                  <a:pt x="1054" y="52"/>
                </a:lnTo>
                <a:lnTo>
                  <a:pt x="1048" y="55"/>
                </a:lnTo>
                <a:lnTo>
                  <a:pt x="1042" y="59"/>
                </a:lnTo>
                <a:lnTo>
                  <a:pt x="1037" y="61"/>
                </a:lnTo>
                <a:lnTo>
                  <a:pt x="1021" y="59"/>
                </a:lnTo>
                <a:lnTo>
                  <a:pt x="999" y="53"/>
                </a:lnTo>
                <a:lnTo>
                  <a:pt x="982" y="45"/>
                </a:lnTo>
                <a:lnTo>
                  <a:pt x="952" y="27"/>
                </a:lnTo>
                <a:lnTo>
                  <a:pt x="923" y="14"/>
                </a:lnTo>
                <a:lnTo>
                  <a:pt x="887" y="5"/>
                </a:lnTo>
                <a:lnTo>
                  <a:pt x="828" y="0"/>
                </a:lnTo>
                <a:lnTo>
                  <a:pt x="777" y="10"/>
                </a:lnTo>
                <a:lnTo>
                  <a:pt x="733" y="33"/>
                </a:lnTo>
                <a:lnTo>
                  <a:pt x="691" y="65"/>
                </a:lnTo>
                <a:lnTo>
                  <a:pt x="648" y="100"/>
                </a:lnTo>
                <a:lnTo>
                  <a:pt x="626" y="118"/>
                </a:lnTo>
                <a:lnTo>
                  <a:pt x="620" y="120"/>
                </a:lnTo>
                <a:lnTo>
                  <a:pt x="585" y="131"/>
                </a:lnTo>
                <a:lnTo>
                  <a:pt x="464" y="170"/>
                </a:lnTo>
                <a:lnTo>
                  <a:pt x="370" y="199"/>
                </a:lnTo>
                <a:lnTo>
                  <a:pt x="366" y="200"/>
                </a:lnTo>
                <a:lnTo>
                  <a:pt x="362" y="201"/>
                </a:lnTo>
                <a:lnTo>
                  <a:pt x="332" y="201"/>
                </a:lnTo>
                <a:lnTo>
                  <a:pt x="230" y="201"/>
                </a:lnTo>
                <a:lnTo>
                  <a:pt x="152" y="201"/>
                </a:lnTo>
                <a:lnTo>
                  <a:pt x="148" y="201"/>
                </a:lnTo>
                <a:lnTo>
                  <a:pt x="133" y="194"/>
                </a:lnTo>
                <a:lnTo>
                  <a:pt x="91" y="172"/>
                </a:lnTo>
                <a:lnTo>
                  <a:pt x="59" y="154"/>
                </a:lnTo>
                <a:lnTo>
                  <a:pt x="58" y="153"/>
                </a:lnTo>
                <a:lnTo>
                  <a:pt x="56" y="155"/>
                </a:lnTo>
                <a:lnTo>
                  <a:pt x="49" y="169"/>
                </a:lnTo>
                <a:lnTo>
                  <a:pt x="22" y="211"/>
                </a:lnTo>
                <a:lnTo>
                  <a:pt x="1" y="245"/>
                </a:lnTo>
                <a:lnTo>
                  <a:pt x="0" y="246"/>
                </a:lnTo>
                <a:lnTo>
                  <a:pt x="2" y="250"/>
                </a:lnTo>
                <a:lnTo>
                  <a:pt x="17" y="271"/>
                </a:lnTo>
                <a:lnTo>
                  <a:pt x="72" y="344"/>
                </a:lnTo>
                <a:lnTo>
                  <a:pt x="113" y="399"/>
                </a:lnTo>
                <a:lnTo>
                  <a:pt x="116" y="402"/>
                </a:lnTo>
                <a:lnTo>
                  <a:pt x="114" y="404"/>
                </a:lnTo>
                <a:lnTo>
                  <a:pt x="105" y="413"/>
                </a:lnTo>
                <a:lnTo>
                  <a:pt x="73" y="444"/>
                </a:lnTo>
                <a:lnTo>
                  <a:pt x="50" y="467"/>
                </a:lnTo>
                <a:lnTo>
                  <a:pt x="49" y="468"/>
                </a:lnTo>
                <a:lnTo>
                  <a:pt x="49" y="471"/>
                </a:lnTo>
                <a:lnTo>
                  <a:pt x="49" y="491"/>
                </a:lnTo>
                <a:lnTo>
                  <a:pt x="49" y="555"/>
                </a:lnTo>
                <a:lnTo>
                  <a:pt x="49" y="605"/>
                </a:lnTo>
                <a:lnTo>
                  <a:pt x="50" y="607"/>
                </a:lnTo>
                <a:lnTo>
                  <a:pt x="54" y="608"/>
                </a:lnTo>
                <a:lnTo>
                  <a:pt x="70" y="610"/>
                </a:lnTo>
                <a:lnTo>
                  <a:pt x="109" y="617"/>
                </a:lnTo>
                <a:lnTo>
                  <a:pt x="143" y="623"/>
                </a:lnTo>
                <a:lnTo>
                  <a:pt x="148" y="623"/>
                </a:lnTo>
                <a:lnTo>
                  <a:pt x="156" y="635"/>
                </a:lnTo>
                <a:lnTo>
                  <a:pt x="178" y="671"/>
                </a:lnTo>
                <a:lnTo>
                  <a:pt x="197" y="697"/>
                </a:lnTo>
                <a:lnTo>
                  <a:pt x="198" y="698"/>
                </a:lnTo>
                <a:lnTo>
                  <a:pt x="194" y="707"/>
                </a:lnTo>
                <a:lnTo>
                  <a:pt x="188" y="728"/>
                </a:lnTo>
                <a:lnTo>
                  <a:pt x="183" y="744"/>
                </a:lnTo>
                <a:lnTo>
                  <a:pt x="183" y="746"/>
                </a:lnTo>
                <a:lnTo>
                  <a:pt x="184" y="756"/>
                </a:lnTo>
                <a:lnTo>
                  <a:pt x="189" y="789"/>
                </a:lnTo>
                <a:lnTo>
                  <a:pt x="193" y="814"/>
                </a:lnTo>
                <a:lnTo>
                  <a:pt x="194" y="815"/>
                </a:lnTo>
                <a:lnTo>
                  <a:pt x="197" y="814"/>
                </a:lnTo>
                <a:lnTo>
                  <a:pt x="217" y="802"/>
                </a:lnTo>
                <a:lnTo>
                  <a:pt x="286" y="765"/>
                </a:lnTo>
                <a:lnTo>
                  <a:pt x="338" y="735"/>
                </a:lnTo>
                <a:lnTo>
                  <a:pt x="341" y="733"/>
                </a:lnTo>
                <a:lnTo>
                  <a:pt x="346" y="733"/>
                </a:lnTo>
                <a:lnTo>
                  <a:pt x="358" y="733"/>
                </a:lnTo>
                <a:lnTo>
                  <a:pt x="391" y="732"/>
                </a:lnTo>
                <a:lnTo>
                  <a:pt x="420" y="732"/>
                </a:lnTo>
                <a:lnTo>
                  <a:pt x="425" y="731"/>
                </a:lnTo>
                <a:lnTo>
                  <a:pt x="427" y="731"/>
                </a:lnTo>
                <a:lnTo>
                  <a:pt x="442" y="725"/>
                </a:lnTo>
                <a:lnTo>
                  <a:pt x="494" y="707"/>
                </a:lnTo>
                <a:lnTo>
                  <a:pt x="532" y="691"/>
                </a:lnTo>
                <a:lnTo>
                  <a:pt x="535" y="690"/>
                </a:lnTo>
                <a:lnTo>
                  <a:pt x="548" y="695"/>
                </a:lnTo>
                <a:lnTo>
                  <a:pt x="590" y="709"/>
                </a:lnTo>
                <a:lnTo>
                  <a:pt x="622" y="719"/>
                </a:lnTo>
                <a:lnTo>
                  <a:pt x="624" y="719"/>
                </a:lnTo>
                <a:lnTo>
                  <a:pt x="627" y="718"/>
                </a:lnTo>
                <a:lnTo>
                  <a:pt x="643" y="712"/>
                </a:lnTo>
                <a:lnTo>
                  <a:pt x="697" y="687"/>
                </a:lnTo>
                <a:lnTo>
                  <a:pt x="739" y="669"/>
                </a:lnTo>
                <a:lnTo>
                  <a:pt x="742" y="667"/>
                </a:lnTo>
                <a:lnTo>
                  <a:pt x="737" y="663"/>
                </a:lnTo>
                <a:lnTo>
                  <a:pt x="721" y="649"/>
                </a:lnTo>
                <a:lnTo>
                  <a:pt x="709" y="637"/>
                </a:lnTo>
                <a:lnTo>
                  <a:pt x="709" y="636"/>
                </a:lnTo>
                <a:lnTo>
                  <a:pt x="712" y="634"/>
                </a:lnTo>
                <a:lnTo>
                  <a:pt x="741" y="613"/>
                </a:lnTo>
                <a:lnTo>
                  <a:pt x="841" y="543"/>
                </a:lnTo>
                <a:lnTo>
                  <a:pt x="917" y="488"/>
                </a:lnTo>
                <a:lnTo>
                  <a:pt x="922" y="485"/>
                </a:lnTo>
                <a:lnTo>
                  <a:pt x="929" y="484"/>
                </a:lnTo>
                <a:lnTo>
                  <a:pt x="955" y="480"/>
                </a:lnTo>
                <a:lnTo>
                  <a:pt x="974" y="478"/>
                </a:lnTo>
                <a:lnTo>
                  <a:pt x="975" y="477"/>
                </a:lnTo>
                <a:lnTo>
                  <a:pt x="979" y="480"/>
                </a:lnTo>
                <a:lnTo>
                  <a:pt x="993" y="490"/>
                </a:lnTo>
                <a:lnTo>
                  <a:pt x="1004" y="496"/>
                </a:lnTo>
                <a:lnTo>
                  <a:pt x="1005" y="496"/>
                </a:lnTo>
                <a:lnTo>
                  <a:pt x="1009" y="496"/>
                </a:lnTo>
                <a:lnTo>
                  <a:pt x="1024" y="496"/>
                </a:lnTo>
                <a:lnTo>
                  <a:pt x="1036" y="496"/>
                </a:lnTo>
                <a:lnTo>
                  <a:pt x="1037" y="496"/>
                </a:lnTo>
                <a:lnTo>
                  <a:pt x="1042" y="492"/>
                </a:lnTo>
                <a:lnTo>
                  <a:pt x="1058" y="477"/>
                </a:lnTo>
                <a:lnTo>
                  <a:pt x="1069" y="466"/>
                </a:lnTo>
                <a:lnTo>
                  <a:pt x="1071" y="465"/>
                </a:lnTo>
                <a:lnTo>
                  <a:pt x="1068" y="464"/>
                </a:lnTo>
                <a:lnTo>
                  <a:pt x="1058" y="453"/>
                </a:lnTo>
                <a:lnTo>
                  <a:pt x="1020" y="415"/>
                </a:lnTo>
                <a:lnTo>
                  <a:pt x="991" y="387"/>
                </a:lnTo>
                <a:lnTo>
                  <a:pt x="990" y="385"/>
                </a:lnTo>
                <a:lnTo>
                  <a:pt x="997" y="372"/>
                </a:lnTo>
                <a:lnTo>
                  <a:pt x="1019" y="336"/>
                </a:lnTo>
                <a:lnTo>
                  <a:pt x="1036" y="308"/>
                </a:lnTo>
                <a:lnTo>
                  <a:pt x="1037" y="306"/>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70"/>
          <p:cNvSpPr/>
          <p:nvPr/>
        </p:nvSpPr>
        <p:spPr>
          <a:xfrm>
            <a:off x="4336920" y="5430960"/>
            <a:ext cx="274680" cy="528480"/>
          </a:xfrm>
          <a:custGeom>
            <a:avLst/>
            <a:gdLst>
              <a:gd name="textAreaLeft" fmla="*/ 0 w 274680"/>
              <a:gd name="textAreaRight" fmla="*/ 275040 w 274680"/>
              <a:gd name="textAreaTop" fmla="*/ 0 h 528480"/>
              <a:gd name="textAreaBottom" fmla="*/ 528480 h 528480"/>
            </a:gdLst>
            <a:ahLst/>
            <a:rect l="textAreaLeft" t="textAreaTop" r="textAreaRight" b="textAreaBottom"/>
            <a:pathLst>
              <a:path w="344" h="667">
                <a:moveTo>
                  <a:pt x="344" y="371"/>
                </a:moveTo>
                <a:lnTo>
                  <a:pt x="326" y="349"/>
                </a:lnTo>
                <a:lnTo>
                  <a:pt x="298" y="305"/>
                </a:lnTo>
                <a:lnTo>
                  <a:pt x="266" y="221"/>
                </a:lnTo>
                <a:lnTo>
                  <a:pt x="260" y="128"/>
                </a:lnTo>
                <a:lnTo>
                  <a:pt x="263" y="100"/>
                </a:lnTo>
                <a:lnTo>
                  <a:pt x="250" y="86"/>
                </a:lnTo>
                <a:lnTo>
                  <a:pt x="216" y="57"/>
                </a:lnTo>
                <a:lnTo>
                  <a:pt x="177" y="32"/>
                </a:lnTo>
                <a:lnTo>
                  <a:pt x="95" y="0"/>
                </a:lnTo>
                <a:lnTo>
                  <a:pt x="50" y="2"/>
                </a:lnTo>
                <a:lnTo>
                  <a:pt x="44" y="6"/>
                </a:lnTo>
                <a:lnTo>
                  <a:pt x="30" y="16"/>
                </a:lnTo>
                <a:lnTo>
                  <a:pt x="7" y="41"/>
                </a:lnTo>
                <a:lnTo>
                  <a:pt x="1" y="60"/>
                </a:lnTo>
                <a:lnTo>
                  <a:pt x="0" y="86"/>
                </a:lnTo>
                <a:lnTo>
                  <a:pt x="3" y="100"/>
                </a:lnTo>
                <a:lnTo>
                  <a:pt x="3" y="103"/>
                </a:lnTo>
                <a:lnTo>
                  <a:pt x="3" y="109"/>
                </a:lnTo>
                <a:lnTo>
                  <a:pt x="4" y="121"/>
                </a:lnTo>
                <a:lnTo>
                  <a:pt x="6" y="131"/>
                </a:lnTo>
                <a:lnTo>
                  <a:pt x="7" y="133"/>
                </a:lnTo>
                <a:lnTo>
                  <a:pt x="7" y="136"/>
                </a:lnTo>
                <a:lnTo>
                  <a:pt x="10" y="138"/>
                </a:lnTo>
                <a:lnTo>
                  <a:pt x="12" y="139"/>
                </a:lnTo>
                <a:lnTo>
                  <a:pt x="15" y="140"/>
                </a:lnTo>
                <a:lnTo>
                  <a:pt x="17" y="140"/>
                </a:lnTo>
                <a:lnTo>
                  <a:pt x="25" y="141"/>
                </a:lnTo>
                <a:lnTo>
                  <a:pt x="31" y="142"/>
                </a:lnTo>
                <a:lnTo>
                  <a:pt x="35" y="145"/>
                </a:lnTo>
                <a:lnTo>
                  <a:pt x="36" y="147"/>
                </a:lnTo>
                <a:lnTo>
                  <a:pt x="36" y="154"/>
                </a:lnTo>
                <a:lnTo>
                  <a:pt x="37" y="168"/>
                </a:lnTo>
                <a:lnTo>
                  <a:pt x="34" y="203"/>
                </a:lnTo>
                <a:lnTo>
                  <a:pt x="35" y="237"/>
                </a:lnTo>
                <a:lnTo>
                  <a:pt x="38" y="243"/>
                </a:lnTo>
                <a:lnTo>
                  <a:pt x="44" y="257"/>
                </a:lnTo>
                <a:lnTo>
                  <a:pt x="56" y="284"/>
                </a:lnTo>
                <a:lnTo>
                  <a:pt x="76" y="331"/>
                </a:lnTo>
                <a:lnTo>
                  <a:pt x="94" y="375"/>
                </a:lnTo>
                <a:lnTo>
                  <a:pt x="99" y="384"/>
                </a:lnTo>
                <a:lnTo>
                  <a:pt x="97" y="389"/>
                </a:lnTo>
                <a:lnTo>
                  <a:pt x="95" y="395"/>
                </a:lnTo>
                <a:lnTo>
                  <a:pt x="90" y="408"/>
                </a:lnTo>
                <a:lnTo>
                  <a:pt x="74" y="438"/>
                </a:lnTo>
                <a:lnTo>
                  <a:pt x="66" y="461"/>
                </a:lnTo>
                <a:lnTo>
                  <a:pt x="72" y="484"/>
                </a:lnTo>
                <a:lnTo>
                  <a:pt x="91" y="524"/>
                </a:lnTo>
                <a:lnTo>
                  <a:pt x="121" y="560"/>
                </a:lnTo>
                <a:lnTo>
                  <a:pt x="156" y="592"/>
                </a:lnTo>
                <a:lnTo>
                  <a:pt x="231" y="651"/>
                </a:lnTo>
                <a:lnTo>
                  <a:pt x="249" y="667"/>
                </a:lnTo>
                <a:lnTo>
                  <a:pt x="254" y="666"/>
                </a:lnTo>
                <a:lnTo>
                  <a:pt x="265" y="662"/>
                </a:lnTo>
                <a:lnTo>
                  <a:pt x="283" y="653"/>
                </a:lnTo>
                <a:lnTo>
                  <a:pt x="295" y="646"/>
                </a:lnTo>
                <a:lnTo>
                  <a:pt x="297" y="645"/>
                </a:lnTo>
                <a:lnTo>
                  <a:pt x="298" y="644"/>
                </a:lnTo>
                <a:lnTo>
                  <a:pt x="298" y="642"/>
                </a:lnTo>
                <a:lnTo>
                  <a:pt x="296" y="639"/>
                </a:lnTo>
                <a:lnTo>
                  <a:pt x="295" y="636"/>
                </a:lnTo>
                <a:lnTo>
                  <a:pt x="290" y="630"/>
                </a:lnTo>
                <a:lnTo>
                  <a:pt x="285" y="622"/>
                </a:lnTo>
                <a:lnTo>
                  <a:pt x="280" y="611"/>
                </a:lnTo>
                <a:lnTo>
                  <a:pt x="281" y="603"/>
                </a:lnTo>
                <a:lnTo>
                  <a:pt x="286" y="581"/>
                </a:lnTo>
                <a:lnTo>
                  <a:pt x="290" y="564"/>
                </a:lnTo>
                <a:lnTo>
                  <a:pt x="292" y="563"/>
                </a:lnTo>
                <a:lnTo>
                  <a:pt x="292" y="560"/>
                </a:lnTo>
                <a:lnTo>
                  <a:pt x="299" y="533"/>
                </a:lnTo>
                <a:lnTo>
                  <a:pt x="324" y="443"/>
                </a:lnTo>
                <a:lnTo>
                  <a:pt x="343" y="375"/>
                </a:lnTo>
                <a:lnTo>
                  <a:pt x="344" y="3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71"/>
          <p:cNvSpPr/>
          <p:nvPr/>
        </p:nvSpPr>
        <p:spPr>
          <a:xfrm>
            <a:off x="4336920" y="5430960"/>
            <a:ext cx="274680" cy="528480"/>
          </a:xfrm>
          <a:custGeom>
            <a:avLst/>
            <a:gdLst>
              <a:gd name="textAreaLeft" fmla="*/ 0 w 274680"/>
              <a:gd name="textAreaRight" fmla="*/ 275040 w 274680"/>
              <a:gd name="textAreaTop" fmla="*/ 0 h 528480"/>
              <a:gd name="textAreaBottom" fmla="*/ 528480 h 528480"/>
            </a:gdLst>
            <a:ahLst/>
            <a:rect l="textAreaLeft" t="textAreaTop" r="textAreaRight" b="textAreaBottom"/>
            <a:pathLst>
              <a:path w="344" h="667">
                <a:moveTo>
                  <a:pt x="344" y="371"/>
                </a:moveTo>
                <a:lnTo>
                  <a:pt x="326" y="349"/>
                </a:lnTo>
                <a:lnTo>
                  <a:pt x="298" y="305"/>
                </a:lnTo>
                <a:lnTo>
                  <a:pt x="266" y="221"/>
                </a:lnTo>
                <a:lnTo>
                  <a:pt x="260" y="128"/>
                </a:lnTo>
                <a:lnTo>
                  <a:pt x="263" y="100"/>
                </a:lnTo>
                <a:lnTo>
                  <a:pt x="250" y="86"/>
                </a:lnTo>
                <a:lnTo>
                  <a:pt x="216" y="57"/>
                </a:lnTo>
                <a:lnTo>
                  <a:pt x="177" y="32"/>
                </a:lnTo>
                <a:lnTo>
                  <a:pt x="95" y="0"/>
                </a:lnTo>
                <a:lnTo>
                  <a:pt x="50" y="2"/>
                </a:lnTo>
                <a:lnTo>
                  <a:pt x="44" y="6"/>
                </a:lnTo>
                <a:lnTo>
                  <a:pt x="30" y="16"/>
                </a:lnTo>
                <a:lnTo>
                  <a:pt x="7" y="41"/>
                </a:lnTo>
                <a:lnTo>
                  <a:pt x="1" y="60"/>
                </a:lnTo>
                <a:lnTo>
                  <a:pt x="0" y="86"/>
                </a:lnTo>
                <a:lnTo>
                  <a:pt x="3" y="100"/>
                </a:lnTo>
                <a:lnTo>
                  <a:pt x="3" y="103"/>
                </a:lnTo>
                <a:lnTo>
                  <a:pt x="3" y="109"/>
                </a:lnTo>
                <a:lnTo>
                  <a:pt x="4" y="121"/>
                </a:lnTo>
                <a:lnTo>
                  <a:pt x="6" y="131"/>
                </a:lnTo>
                <a:lnTo>
                  <a:pt x="7" y="133"/>
                </a:lnTo>
                <a:lnTo>
                  <a:pt x="7" y="136"/>
                </a:lnTo>
                <a:lnTo>
                  <a:pt x="10" y="138"/>
                </a:lnTo>
                <a:lnTo>
                  <a:pt x="12" y="139"/>
                </a:lnTo>
                <a:lnTo>
                  <a:pt x="15" y="140"/>
                </a:lnTo>
                <a:lnTo>
                  <a:pt x="17" y="140"/>
                </a:lnTo>
                <a:lnTo>
                  <a:pt x="25" y="141"/>
                </a:lnTo>
                <a:lnTo>
                  <a:pt x="31" y="142"/>
                </a:lnTo>
                <a:lnTo>
                  <a:pt x="35" y="145"/>
                </a:lnTo>
                <a:lnTo>
                  <a:pt x="36" y="147"/>
                </a:lnTo>
                <a:lnTo>
                  <a:pt x="36" y="154"/>
                </a:lnTo>
                <a:lnTo>
                  <a:pt x="37" y="168"/>
                </a:lnTo>
                <a:lnTo>
                  <a:pt x="34" y="203"/>
                </a:lnTo>
                <a:lnTo>
                  <a:pt x="35" y="237"/>
                </a:lnTo>
                <a:lnTo>
                  <a:pt x="38" y="243"/>
                </a:lnTo>
                <a:lnTo>
                  <a:pt x="44" y="257"/>
                </a:lnTo>
                <a:lnTo>
                  <a:pt x="56" y="284"/>
                </a:lnTo>
                <a:lnTo>
                  <a:pt x="76" y="331"/>
                </a:lnTo>
                <a:lnTo>
                  <a:pt x="94" y="375"/>
                </a:lnTo>
                <a:lnTo>
                  <a:pt x="99" y="384"/>
                </a:lnTo>
                <a:lnTo>
                  <a:pt x="97" y="389"/>
                </a:lnTo>
                <a:lnTo>
                  <a:pt x="95" y="395"/>
                </a:lnTo>
                <a:lnTo>
                  <a:pt x="90" y="408"/>
                </a:lnTo>
                <a:lnTo>
                  <a:pt x="74" y="438"/>
                </a:lnTo>
                <a:lnTo>
                  <a:pt x="66" y="461"/>
                </a:lnTo>
                <a:lnTo>
                  <a:pt x="72" y="484"/>
                </a:lnTo>
                <a:lnTo>
                  <a:pt x="91" y="524"/>
                </a:lnTo>
                <a:lnTo>
                  <a:pt x="121" y="560"/>
                </a:lnTo>
                <a:lnTo>
                  <a:pt x="156" y="592"/>
                </a:lnTo>
                <a:lnTo>
                  <a:pt x="231" y="651"/>
                </a:lnTo>
                <a:lnTo>
                  <a:pt x="249" y="667"/>
                </a:lnTo>
                <a:lnTo>
                  <a:pt x="254" y="666"/>
                </a:lnTo>
                <a:lnTo>
                  <a:pt x="265" y="662"/>
                </a:lnTo>
                <a:lnTo>
                  <a:pt x="283" y="653"/>
                </a:lnTo>
                <a:lnTo>
                  <a:pt x="295" y="646"/>
                </a:lnTo>
                <a:lnTo>
                  <a:pt x="297" y="645"/>
                </a:lnTo>
                <a:lnTo>
                  <a:pt x="298" y="644"/>
                </a:lnTo>
                <a:lnTo>
                  <a:pt x="298" y="642"/>
                </a:lnTo>
                <a:lnTo>
                  <a:pt x="296" y="639"/>
                </a:lnTo>
                <a:lnTo>
                  <a:pt x="295" y="636"/>
                </a:lnTo>
                <a:lnTo>
                  <a:pt x="290" y="630"/>
                </a:lnTo>
                <a:lnTo>
                  <a:pt x="285" y="622"/>
                </a:lnTo>
                <a:lnTo>
                  <a:pt x="280" y="611"/>
                </a:lnTo>
                <a:lnTo>
                  <a:pt x="281" y="603"/>
                </a:lnTo>
                <a:lnTo>
                  <a:pt x="286" y="581"/>
                </a:lnTo>
                <a:lnTo>
                  <a:pt x="290" y="564"/>
                </a:lnTo>
                <a:lnTo>
                  <a:pt x="292" y="563"/>
                </a:lnTo>
                <a:lnTo>
                  <a:pt x="292" y="560"/>
                </a:lnTo>
                <a:lnTo>
                  <a:pt x="299" y="533"/>
                </a:lnTo>
                <a:lnTo>
                  <a:pt x="324" y="443"/>
                </a:lnTo>
                <a:lnTo>
                  <a:pt x="343" y="375"/>
                </a:lnTo>
                <a:lnTo>
                  <a:pt x="344" y="371"/>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72"/>
          <p:cNvSpPr/>
          <p:nvPr/>
        </p:nvSpPr>
        <p:spPr>
          <a:xfrm>
            <a:off x="1122480" y="3902040"/>
            <a:ext cx="1825560" cy="1833480"/>
          </a:xfrm>
          <a:custGeom>
            <a:avLst/>
            <a:gdLst>
              <a:gd name="textAreaLeft" fmla="*/ 0 w 1825560"/>
              <a:gd name="textAreaRight" fmla="*/ 1825920 w 1825560"/>
              <a:gd name="textAreaTop" fmla="*/ 0 h 1833480"/>
              <a:gd name="textAreaBottom" fmla="*/ 1833840 h 1833480"/>
            </a:gdLst>
            <a:ahLst/>
            <a:rect l="textAreaLeft" t="textAreaTop" r="textAreaRight" b="textAreaBottom"/>
            <a:pathLst>
              <a:path w="2302" h="2309">
                <a:moveTo>
                  <a:pt x="2124" y="2061"/>
                </a:moveTo>
                <a:lnTo>
                  <a:pt x="2128" y="2053"/>
                </a:lnTo>
                <a:lnTo>
                  <a:pt x="2146" y="2033"/>
                </a:lnTo>
                <a:lnTo>
                  <a:pt x="2196" y="1987"/>
                </a:lnTo>
                <a:lnTo>
                  <a:pt x="2245" y="1946"/>
                </a:lnTo>
                <a:lnTo>
                  <a:pt x="2255" y="1936"/>
                </a:lnTo>
                <a:lnTo>
                  <a:pt x="2273" y="1960"/>
                </a:lnTo>
                <a:lnTo>
                  <a:pt x="2286" y="1988"/>
                </a:lnTo>
                <a:lnTo>
                  <a:pt x="2295" y="2021"/>
                </a:lnTo>
                <a:lnTo>
                  <a:pt x="2302" y="2096"/>
                </a:lnTo>
                <a:lnTo>
                  <a:pt x="2293" y="2173"/>
                </a:lnTo>
                <a:lnTo>
                  <a:pt x="2273" y="2243"/>
                </a:lnTo>
                <a:lnTo>
                  <a:pt x="2241" y="2294"/>
                </a:lnTo>
                <a:lnTo>
                  <a:pt x="2221" y="2309"/>
                </a:lnTo>
                <a:lnTo>
                  <a:pt x="2196" y="2301"/>
                </a:lnTo>
                <a:lnTo>
                  <a:pt x="2155" y="2278"/>
                </a:lnTo>
                <a:lnTo>
                  <a:pt x="2128" y="2245"/>
                </a:lnTo>
                <a:lnTo>
                  <a:pt x="2114" y="2204"/>
                </a:lnTo>
                <a:lnTo>
                  <a:pt x="2111" y="2155"/>
                </a:lnTo>
                <a:lnTo>
                  <a:pt x="2117" y="2094"/>
                </a:lnTo>
                <a:lnTo>
                  <a:pt x="2124" y="2061"/>
                </a:lnTo>
                <a:lnTo>
                  <a:pt x="2127" y="2055"/>
                </a:lnTo>
                <a:lnTo>
                  <a:pt x="2130" y="2049"/>
                </a:lnTo>
                <a:lnTo>
                  <a:pt x="2128" y="2052"/>
                </a:lnTo>
                <a:lnTo>
                  <a:pt x="2124" y="2061"/>
                </a:lnTo>
                <a:close/>
                <a:moveTo>
                  <a:pt x="229" y="1678"/>
                </a:moveTo>
                <a:lnTo>
                  <a:pt x="244" y="1664"/>
                </a:lnTo>
                <a:lnTo>
                  <a:pt x="278" y="1634"/>
                </a:lnTo>
                <a:lnTo>
                  <a:pt x="348" y="1569"/>
                </a:lnTo>
                <a:lnTo>
                  <a:pt x="402" y="1501"/>
                </a:lnTo>
                <a:lnTo>
                  <a:pt x="412" y="1485"/>
                </a:lnTo>
                <a:lnTo>
                  <a:pt x="413" y="1477"/>
                </a:lnTo>
                <a:lnTo>
                  <a:pt x="416" y="1460"/>
                </a:lnTo>
                <a:lnTo>
                  <a:pt x="429" y="1405"/>
                </a:lnTo>
                <a:lnTo>
                  <a:pt x="470" y="1266"/>
                </a:lnTo>
                <a:lnTo>
                  <a:pt x="511" y="1174"/>
                </a:lnTo>
                <a:lnTo>
                  <a:pt x="494" y="1141"/>
                </a:lnTo>
                <a:lnTo>
                  <a:pt x="471" y="1083"/>
                </a:lnTo>
                <a:lnTo>
                  <a:pt x="445" y="986"/>
                </a:lnTo>
                <a:lnTo>
                  <a:pt x="400" y="891"/>
                </a:lnTo>
                <a:lnTo>
                  <a:pt x="380" y="864"/>
                </a:lnTo>
                <a:lnTo>
                  <a:pt x="390" y="844"/>
                </a:lnTo>
                <a:lnTo>
                  <a:pt x="404" y="819"/>
                </a:lnTo>
                <a:lnTo>
                  <a:pt x="407" y="811"/>
                </a:lnTo>
                <a:lnTo>
                  <a:pt x="408" y="806"/>
                </a:lnTo>
                <a:lnTo>
                  <a:pt x="407" y="804"/>
                </a:lnTo>
                <a:lnTo>
                  <a:pt x="406" y="802"/>
                </a:lnTo>
                <a:lnTo>
                  <a:pt x="405" y="801"/>
                </a:lnTo>
                <a:lnTo>
                  <a:pt x="402" y="800"/>
                </a:lnTo>
                <a:lnTo>
                  <a:pt x="396" y="796"/>
                </a:lnTo>
                <a:lnTo>
                  <a:pt x="376" y="788"/>
                </a:lnTo>
                <a:lnTo>
                  <a:pt x="347" y="770"/>
                </a:lnTo>
                <a:lnTo>
                  <a:pt x="336" y="753"/>
                </a:lnTo>
                <a:lnTo>
                  <a:pt x="307" y="708"/>
                </a:lnTo>
                <a:lnTo>
                  <a:pt x="220" y="614"/>
                </a:lnTo>
                <a:lnTo>
                  <a:pt x="167" y="584"/>
                </a:lnTo>
                <a:lnTo>
                  <a:pt x="139" y="576"/>
                </a:lnTo>
                <a:lnTo>
                  <a:pt x="110" y="575"/>
                </a:lnTo>
                <a:lnTo>
                  <a:pt x="82" y="583"/>
                </a:lnTo>
                <a:lnTo>
                  <a:pt x="73" y="578"/>
                </a:lnTo>
                <a:lnTo>
                  <a:pt x="58" y="569"/>
                </a:lnTo>
                <a:lnTo>
                  <a:pt x="28" y="543"/>
                </a:lnTo>
                <a:lnTo>
                  <a:pt x="5" y="513"/>
                </a:lnTo>
                <a:lnTo>
                  <a:pt x="0" y="505"/>
                </a:lnTo>
                <a:lnTo>
                  <a:pt x="5" y="505"/>
                </a:lnTo>
                <a:lnTo>
                  <a:pt x="11" y="503"/>
                </a:lnTo>
                <a:lnTo>
                  <a:pt x="25" y="497"/>
                </a:lnTo>
                <a:lnTo>
                  <a:pt x="57" y="483"/>
                </a:lnTo>
                <a:lnTo>
                  <a:pt x="82" y="473"/>
                </a:lnTo>
                <a:lnTo>
                  <a:pt x="78" y="466"/>
                </a:lnTo>
                <a:lnTo>
                  <a:pt x="70" y="455"/>
                </a:lnTo>
                <a:lnTo>
                  <a:pt x="60" y="448"/>
                </a:lnTo>
                <a:lnTo>
                  <a:pt x="51" y="442"/>
                </a:lnTo>
                <a:lnTo>
                  <a:pt x="39" y="437"/>
                </a:lnTo>
                <a:lnTo>
                  <a:pt x="25" y="431"/>
                </a:lnTo>
                <a:lnTo>
                  <a:pt x="17" y="427"/>
                </a:lnTo>
                <a:lnTo>
                  <a:pt x="17" y="423"/>
                </a:lnTo>
                <a:lnTo>
                  <a:pt x="20" y="418"/>
                </a:lnTo>
                <a:lnTo>
                  <a:pt x="22" y="413"/>
                </a:lnTo>
                <a:lnTo>
                  <a:pt x="29" y="403"/>
                </a:lnTo>
                <a:lnTo>
                  <a:pt x="45" y="386"/>
                </a:lnTo>
                <a:lnTo>
                  <a:pt x="51" y="381"/>
                </a:lnTo>
                <a:lnTo>
                  <a:pt x="65" y="384"/>
                </a:lnTo>
                <a:lnTo>
                  <a:pt x="102" y="387"/>
                </a:lnTo>
                <a:lnTo>
                  <a:pt x="204" y="386"/>
                </a:lnTo>
                <a:lnTo>
                  <a:pt x="308" y="382"/>
                </a:lnTo>
                <a:lnTo>
                  <a:pt x="331" y="381"/>
                </a:lnTo>
                <a:lnTo>
                  <a:pt x="334" y="385"/>
                </a:lnTo>
                <a:lnTo>
                  <a:pt x="342" y="395"/>
                </a:lnTo>
                <a:lnTo>
                  <a:pt x="359" y="417"/>
                </a:lnTo>
                <a:lnTo>
                  <a:pt x="376" y="438"/>
                </a:lnTo>
                <a:lnTo>
                  <a:pt x="380" y="442"/>
                </a:lnTo>
                <a:lnTo>
                  <a:pt x="392" y="443"/>
                </a:lnTo>
                <a:lnTo>
                  <a:pt x="419" y="445"/>
                </a:lnTo>
                <a:lnTo>
                  <a:pt x="472" y="452"/>
                </a:lnTo>
                <a:lnTo>
                  <a:pt x="518" y="458"/>
                </a:lnTo>
                <a:lnTo>
                  <a:pt x="528" y="458"/>
                </a:lnTo>
                <a:lnTo>
                  <a:pt x="538" y="448"/>
                </a:lnTo>
                <a:lnTo>
                  <a:pt x="550" y="430"/>
                </a:lnTo>
                <a:lnTo>
                  <a:pt x="555" y="414"/>
                </a:lnTo>
                <a:lnTo>
                  <a:pt x="555" y="399"/>
                </a:lnTo>
                <a:lnTo>
                  <a:pt x="555" y="382"/>
                </a:lnTo>
                <a:lnTo>
                  <a:pt x="557" y="361"/>
                </a:lnTo>
                <a:lnTo>
                  <a:pt x="561" y="349"/>
                </a:lnTo>
                <a:lnTo>
                  <a:pt x="548" y="338"/>
                </a:lnTo>
                <a:lnTo>
                  <a:pt x="530" y="313"/>
                </a:lnTo>
                <a:lnTo>
                  <a:pt x="518" y="285"/>
                </a:lnTo>
                <a:lnTo>
                  <a:pt x="514" y="259"/>
                </a:lnTo>
                <a:lnTo>
                  <a:pt x="518" y="231"/>
                </a:lnTo>
                <a:lnTo>
                  <a:pt x="532" y="206"/>
                </a:lnTo>
                <a:lnTo>
                  <a:pt x="544" y="193"/>
                </a:lnTo>
                <a:lnTo>
                  <a:pt x="559" y="202"/>
                </a:lnTo>
                <a:lnTo>
                  <a:pt x="579" y="216"/>
                </a:lnTo>
                <a:lnTo>
                  <a:pt x="592" y="223"/>
                </a:lnTo>
                <a:lnTo>
                  <a:pt x="603" y="225"/>
                </a:lnTo>
                <a:lnTo>
                  <a:pt x="618" y="222"/>
                </a:lnTo>
                <a:lnTo>
                  <a:pt x="642" y="215"/>
                </a:lnTo>
                <a:lnTo>
                  <a:pt x="660" y="209"/>
                </a:lnTo>
                <a:lnTo>
                  <a:pt x="660" y="228"/>
                </a:lnTo>
                <a:lnTo>
                  <a:pt x="668" y="262"/>
                </a:lnTo>
                <a:lnTo>
                  <a:pt x="683" y="290"/>
                </a:lnTo>
                <a:lnTo>
                  <a:pt x="706" y="312"/>
                </a:lnTo>
                <a:lnTo>
                  <a:pt x="735" y="326"/>
                </a:lnTo>
                <a:lnTo>
                  <a:pt x="770" y="334"/>
                </a:lnTo>
                <a:lnTo>
                  <a:pt x="791" y="334"/>
                </a:lnTo>
                <a:lnTo>
                  <a:pt x="799" y="321"/>
                </a:lnTo>
                <a:lnTo>
                  <a:pt x="815" y="293"/>
                </a:lnTo>
                <a:lnTo>
                  <a:pt x="842" y="249"/>
                </a:lnTo>
                <a:lnTo>
                  <a:pt x="851" y="243"/>
                </a:lnTo>
                <a:lnTo>
                  <a:pt x="858" y="240"/>
                </a:lnTo>
                <a:lnTo>
                  <a:pt x="868" y="241"/>
                </a:lnTo>
                <a:lnTo>
                  <a:pt x="878" y="246"/>
                </a:lnTo>
                <a:lnTo>
                  <a:pt x="890" y="255"/>
                </a:lnTo>
                <a:lnTo>
                  <a:pt x="924" y="247"/>
                </a:lnTo>
                <a:lnTo>
                  <a:pt x="974" y="228"/>
                </a:lnTo>
                <a:lnTo>
                  <a:pt x="1006" y="201"/>
                </a:lnTo>
                <a:lnTo>
                  <a:pt x="1026" y="169"/>
                </a:lnTo>
                <a:lnTo>
                  <a:pt x="1038" y="127"/>
                </a:lnTo>
                <a:lnTo>
                  <a:pt x="1050" y="76"/>
                </a:lnTo>
                <a:lnTo>
                  <a:pt x="1058" y="46"/>
                </a:lnTo>
                <a:lnTo>
                  <a:pt x="1062" y="35"/>
                </a:lnTo>
                <a:lnTo>
                  <a:pt x="1070" y="27"/>
                </a:lnTo>
                <a:lnTo>
                  <a:pt x="1077" y="21"/>
                </a:lnTo>
                <a:lnTo>
                  <a:pt x="1087" y="16"/>
                </a:lnTo>
                <a:lnTo>
                  <a:pt x="1096" y="13"/>
                </a:lnTo>
                <a:lnTo>
                  <a:pt x="1118" y="10"/>
                </a:lnTo>
                <a:lnTo>
                  <a:pt x="1139" y="9"/>
                </a:lnTo>
                <a:lnTo>
                  <a:pt x="1160" y="10"/>
                </a:lnTo>
                <a:lnTo>
                  <a:pt x="1169" y="10"/>
                </a:lnTo>
                <a:lnTo>
                  <a:pt x="1190" y="6"/>
                </a:lnTo>
                <a:lnTo>
                  <a:pt x="1202" y="5"/>
                </a:lnTo>
                <a:lnTo>
                  <a:pt x="1207" y="6"/>
                </a:lnTo>
                <a:lnTo>
                  <a:pt x="1210" y="7"/>
                </a:lnTo>
                <a:lnTo>
                  <a:pt x="1212" y="9"/>
                </a:lnTo>
                <a:lnTo>
                  <a:pt x="1213" y="12"/>
                </a:lnTo>
                <a:lnTo>
                  <a:pt x="1214" y="14"/>
                </a:lnTo>
                <a:lnTo>
                  <a:pt x="1213" y="17"/>
                </a:lnTo>
                <a:lnTo>
                  <a:pt x="1212" y="23"/>
                </a:lnTo>
                <a:lnTo>
                  <a:pt x="1211" y="27"/>
                </a:lnTo>
                <a:lnTo>
                  <a:pt x="1210" y="29"/>
                </a:lnTo>
                <a:lnTo>
                  <a:pt x="1210" y="30"/>
                </a:lnTo>
                <a:lnTo>
                  <a:pt x="1212" y="30"/>
                </a:lnTo>
                <a:lnTo>
                  <a:pt x="1214" y="28"/>
                </a:lnTo>
                <a:lnTo>
                  <a:pt x="1223" y="21"/>
                </a:lnTo>
                <a:lnTo>
                  <a:pt x="1237" y="9"/>
                </a:lnTo>
                <a:lnTo>
                  <a:pt x="1248" y="0"/>
                </a:lnTo>
                <a:lnTo>
                  <a:pt x="1249" y="8"/>
                </a:lnTo>
                <a:lnTo>
                  <a:pt x="1253" y="16"/>
                </a:lnTo>
                <a:lnTo>
                  <a:pt x="1259" y="22"/>
                </a:lnTo>
                <a:lnTo>
                  <a:pt x="1269" y="29"/>
                </a:lnTo>
                <a:lnTo>
                  <a:pt x="1289" y="41"/>
                </a:lnTo>
                <a:lnTo>
                  <a:pt x="1312" y="50"/>
                </a:lnTo>
                <a:lnTo>
                  <a:pt x="1332" y="56"/>
                </a:lnTo>
                <a:lnTo>
                  <a:pt x="1346" y="60"/>
                </a:lnTo>
                <a:lnTo>
                  <a:pt x="1347" y="62"/>
                </a:lnTo>
                <a:lnTo>
                  <a:pt x="1354" y="70"/>
                </a:lnTo>
                <a:lnTo>
                  <a:pt x="1374" y="97"/>
                </a:lnTo>
                <a:lnTo>
                  <a:pt x="1390" y="118"/>
                </a:lnTo>
                <a:lnTo>
                  <a:pt x="1391" y="119"/>
                </a:lnTo>
                <a:lnTo>
                  <a:pt x="1402" y="130"/>
                </a:lnTo>
                <a:lnTo>
                  <a:pt x="1419" y="147"/>
                </a:lnTo>
                <a:lnTo>
                  <a:pt x="1446" y="174"/>
                </a:lnTo>
                <a:lnTo>
                  <a:pt x="1482" y="199"/>
                </a:lnTo>
                <a:lnTo>
                  <a:pt x="1496" y="206"/>
                </a:lnTo>
                <a:lnTo>
                  <a:pt x="1498" y="211"/>
                </a:lnTo>
                <a:lnTo>
                  <a:pt x="1500" y="215"/>
                </a:lnTo>
                <a:lnTo>
                  <a:pt x="1501" y="228"/>
                </a:lnTo>
                <a:lnTo>
                  <a:pt x="1501" y="255"/>
                </a:lnTo>
                <a:lnTo>
                  <a:pt x="1505" y="266"/>
                </a:lnTo>
                <a:lnTo>
                  <a:pt x="1512" y="270"/>
                </a:lnTo>
                <a:lnTo>
                  <a:pt x="1521" y="275"/>
                </a:lnTo>
                <a:lnTo>
                  <a:pt x="1535" y="289"/>
                </a:lnTo>
                <a:lnTo>
                  <a:pt x="1549" y="305"/>
                </a:lnTo>
                <a:lnTo>
                  <a:pt x="1577" y="337"/>
                </a:lnTo>
                <a:lnTo>
                  <a:pt x="1592" y="347"/>
                </a:lnTo>
                <a:lnTo>
                  <a:pt x="1635" y="372"/>
                </a:lnTo>
                <a:lnTo>
                  <a:pt x="1680" y="410"/>
                </a:lnTo>
                <a:lnTo>
                  <a:pt x="1688" y="426"/>
                </a:lnTo>
                <a:lnTo>
                  <a:pt x="1690" y="439"/>
                </a:lnTo>
                <a:lnTo>
                  <a:pt x="1690" y="448"/>
                </a:lnTo>
                <a:lnTo>
                  <a:pt x="1690" y="455"/>
                </a:lnTo>
                <a:lnTo>
                  <a:pt x="1690" y="456"/>
                </a:lnTo>
                <a:lnTo>
                  <a:pt x="1692" y="457"/>
                </a:lnTo>
                <a:lnTo>
                  <a:pt x="1693" y="458"/>
                </a:lnTo>
                <a:lnTo>
                  <a:pt x="1696" y="459"/>
                </a:lnTo>
                <a:lnTo>
                  <a:pt x="1698" y="459"/>
                </a:lnTo>
                <a:lnTo>
                  <a:pt x="1703" y="458"/>
                </a:lnTo>
                <a:lnTo>
                  <a:pt x="1723" y="455"/>
                </a:lnTo>
                <a:lnTo>
                  <a:pt x="1802" y="438"/>
                </a:lnTo>
                <a:lnTo>
                  <a:pt x="1805" y="438"/>
                </a:lnTo>
                <a:lnTo>
                  <a:pt x="1811" y="439"/>
                </a:lnTo>
                <a:lnTo>
                  <a:pt x="1827" y="441"/>
                </a:lnTo>
                <a:lnTo>
                  <a:pt x="1867" y="448"/>
                </a:lnTo>
                <a:lnTo>
                  <a:pt x="1901" y="450"/>
                </a:lnTo>
                <a:lnTo>
                  <a:pt x="1922" y="456"/>
                </a:lnTo>
                <a:lnTo>
                  <a:pt x="1965" y="463"/>
                </a:lnTo>
                <a:lnTo>
                  <a:pt x="2042" y="473"/>
                </a:lnTo>
                <a:lnTo>
                  <a:pt x="2075" y="485"/>
                </a:lnTo>
                <a:lnTo>
                  <a:pt x="2103" y="504"/>
                </a:lnTo>
                <a:lnTo>
                  <a:pt x="2116" y="518"/>
                </a:lnTo>
                <a:lnTo>
                  <a:pt x="2125" y="536"/>
                </a:lnTo>
                <a:lnTo>
                  <a:pt x="2128" y="552"/>
                </a:lnTo>
                <a:lnTo>
                  <a:pt x="2126" y="568"/>
                </a:lnTo>
                <a:lnTo>
                  <a:pt x="2122" y="586"/>
                </a:lnTo>
                <a:lnTo>
                  <a:pt x="2113" y="603"/>
                </a:lnTo>
                <a:lnTo>
                  <a:pt x="2088" y="643"/>
                </a:lnTo>
                <a:lnTo>
                  <a:pt x="2029" y="755"/>
                </a:lnTo>
                <a:lnTo>
                  <a:pt x="2018" y="791"/>
                </a:lnTo>
                <a:lnTo>
                  <a:pt x="2014" y="793"/>
                </a:lnTo>
                <a:lnTo>
                  <a:pt x="2009" y="794"/>
                </a:lnTo>
                <a:lnTo>
                  <a:pt x="1991" y="796"/>
                </a:lnTo>
                <a:lnTo>
                  <a:pt x="1945" y="800"/>
                </a:lnTo>
                <a:lnTo>
                  <a:pt x="1916" y="802"/>
                </a:lnTo>
                <a:lnTo>
                  <a:pt x="1910" y="806"/>
                </a:lnTo>
                <a:lnTo>
                  <a:pt x="1908" y="810"/>
                </a:lnTo>
                <a:lnTo>
                  <a:pt x="1906" y="814"/>
                </a:lnTo>
                <a:lnTo>
                  <a:pt x="1907" y="820"/>
                </a:lnTo>
                <a:lnTo>
                  <a:pt x="1907" y="825"/>
                </a:lnTo>
                <a:lnTo>
                  <a:pt x="1910" y="837"/>
                </a:lnTo>
                <a:lnTo>
                  <a:pt x="1911" y="848"/>
                </a:lnTo>
                <a:lnTo>
                  <a:pt x="1908" y="858"/>
                </a:lnTo>
                <a:lnTo>
                  <a:pt x="1905" y="860"/>
                </a:lnTo>
                <a:lnTo>
                  <a:pt x="1895" y="863"/>
                </a:lnTo>
                <a:lnTo>
                  <a:pt x="1881" y="866"/>
                </a:lnTo>
                <a:lnTo>
                  <a:pt x="1843" y="874"/>
                </a:lnTo>
                <a:lnTo>
                  <a:pt x="1747" y="900"/>
                </a:lnTo>
                <a:lnTo>
                  <a:pt x="1686" y="941"/>
                </a:lnTo>
                <a:lnTo>
                  <a:pt x="1684" y="947"/>
                </a:lnTo>
                <a:lnTo>
                  <a:pt x="1684" y="952"/>
                </a:lnTo>
                <a:lnTo>
                  <a:pt x="1685" y="956"/>
                </a:lnTo>
                <a:lnTo>
                  <a:pt x="1688" y="959"/>
                </a:lnTo>
                <a:lnTo>
                  <a:pt x="1692" y="961"/>
                </a:lnTo>
                <a:lnTo>
                  <a:pt x="1697" y="963"/>
                </a:lnTo>
                <a:lnTo>
                  <a:pt x="1702" y="964"/>
                </a:lnTo>
                <a:lnTo>
                  <a:pt x="1715" y="964"/>
                </a:lnTo>
                <a:lnTo>
                  <a:pt x="1746" y="959"/>
                </a:lnTo>
                <a:lnTo>
                  <a:pt x="1774" y="954"/>
                </a:lnTo>
                <a:lnTo>
                  <a:pt x="1784" y="953"/>
                </a:lnTo>
                <a:lnTo>
                  <a:pt x="1787" y="953"/>
                </a:lnTo>
                <a:lnTo>
                  <a:pt x="1789" y="954"/>
                </a:lnTo>
                <a:lnTo>
                  <a:pt x="1790" y="955"/>
                </a:lnTo>
                <a:lnTo>
                  <a:pt x="1790" y="958"/>
                </a:lnTo>
                <a:lnTo>
                  <a:pt x="1788" y="960"/>
                </a:lnTo>
                <a:lnTo>
                  <a:pt x="1786" y="963"/>
                </a:lnTo>
                <a:lnTo>
                  <a:pt x="1777" y="973"/>
                </a:lnTo>
                <a:lnTo>
                  <a:pt x="1746" y="1006"/>
                </a:lnTo>
                <a:lnTo>
                  <a:pt x="1723" y="1032"/>
                </a:lnTo>
                <a:lnTo>
                  <a:pt x="1722" y="1033"/>
                </a:lnTo>
                <a:lnTo>
                  <a:pt x="1719" y="1037"/>
                </a:lnTo>
                <a:lnTo>
                  <a:pt x="1717" y="1041"/>
                </a:lnTo>
                <a:lnTo>
                  <a:pt x="1717" y="1047"/>
                </a:lnTo>
                <a:lnTo>
                  <a:pt x="1717" y="1060"/>
                </a:lnTo>
                <a:lnTo>
                  <a:pt x="1722" y="1089"/>
                </a:lnTo>
                <a:lnTo>
                  <a:pt x="1726" y="1105"/>
                </a:lnTo>
                <a:lnTo>
                  <a:pt x="1726" y="1119"/>
                </a:lnTo>
                <a:lnTo>
                  <a:pt x="1729" y="1133"/>
                </a:lnTo>
                <a:lnTo>
                  <a:pt x="1734" y="1146"/>
                </a:lnTo>
                <a:lnTo>
                  <a:pt x="1749" y="1169"/>
                </a:lnTo>
                <a:lnTo>
                  <a:pt x="1769" y="1192"/>
                </a:lnTo>
                <a:lnTo>
                  <a:pt x="1804" y="1226"/>
                </a:lnTo>
                <a:lnTo>
                  <a:pt x="1811" y="1232"/>
                </a:lnTo>
                <a:lnTo>
                  <a:pt x="1813" y="1237"/>
                </a:lnTo>
                <a:lnTo>
                  <a:pt x="1828" y="1257"/>
                </a:lnTo>
                <a:lnTo>
                  <a:pt x="1881" y="1330"/>
                </a:lnTo>
                <a:lnTo>
                  <a:pt x="1922" y="1385"/>
                </a:lnTo>
                <a:lnTo>
                  <a:pt x="1925" y="1388"/>
                </a:lnTo>
                <a:lnTo>
                  <a:pt x="1923" y="1389"/>
                </a:lnTo>
                <a:lnTo>
                  <a:pt x="1910" y="1397"/>
                </a:lnTo>
                <a:lnTo>
                  <a:pt x="1866" y="1419"/>
                </a:lnTo>
                <a:lnTo>
                  <a:pt x="1833" y="1437"/>
                </a:lnTo>
                <a:lnTo>
                  <a:pt x="1832" y="1437"/>
                </a:lnTo>
                <a:lnTo>
                  <a:pt x="1831" y="1439"/>
                </a:lnTo>
                <a:lnTo>
                  <a:pt x="1833" y="1443"/>
                </a:lnTo>
                <a:lnTo>
                  <a:pt x="1837" y="1448"/>
                </a:lnTo>
                <a:lnTo>
                  <a:pt x="1849" y="1461"/>
                </a:lnTo>
                <a:lnTo>
                  <a:pt x="1880" y="1489"/>
                </a:lnTo>
                <a:lnTo>
                  <a:pt x="1895" y="1500"/>
                </a:lnTo>
                <a:lnTo>
                  <a:pt x="1890" y="1501"/>
                </a:lnTo>
                <a:lnTo>
                  <a:pt x="1872" y="1503"/>
                </a:lnTo>
                <a:lnTo>
                  <a:pt x="1819" y="1509"/>
                </a:lnTo>
                <a:lnTo>
                  <a:pt x="1796" y="1514"/>
                </a:lnTo>
                <a:lnTo>
                  <a:pt x="1787" y="1517"/>
                </a:lnTo>
                <a:lnTo>
                  <a:pt x="1781" y="1521"/>
                </a:lnTo>
                <a:lnTo>
                  <a:pt x="1778" y="1524"/>
                </a:lnTo>
                <a:lnTo>
                  <a:pt x="1778" y="1526"/>
                </a:lnTo>
                <a:lnTo>
                  <a:pt x="1781" y="1539"/>
                </a:lnTo>
                <a:lnTo>
                  <a:pt x="1787" y="1585"/>
                </a:lnTo>
                <a:lnTo>
                  <a:pt x="1791" y="1621"/>
                </a:lnTo>
                <a:lnTo>
                  <a:pt x="1792" y="1622"/>
                </a:lnTo>
                <a:lnTo>
                  <a:pt x="1793" y="1624"/>
                </a:lnTo>
                <a:lnTo>
                  <a:pt x="1805" y="1636"/>
                </a:lnTo>
                <a:lnTo>
                  <a:pt x="1847" y="1678"/>
                </a:lnTo>
                <a:lnTo>
                  <a:pt x="1878" y="1710"/>
                </a:lnTo>
                <a:lnTo>
                  <a:pt x="1880" y="1711"/>
                </a:lnTo>
                <a:lnTo>
                  <a:pt x="1881" y="1711"/>
                </a:lnTo>
                <a:lnTo>
                  <a:pt x="1890" y="1711"/>
                </a:lnTo>
                <a:lnTo>
                  <a:pt x="1919" y="1708"/>
                </a:lnTo>
                <a:lnTo>
                  <a:pt x="1940" y="1706"/>
                </a:lnTo>
                <a:lnTo>
                  <a:pt x="1942" y="1705"/>
                </a:lnTo>
                <a:lnTo>
                  <a:pt x="1937" y="1706"/>
                </a:lnTo>
                <a:lnTo>
                  <a:pt x="1931" y="1709"/>
                </a:lnTo>
                <a:lnTo>
                  <a:pt x="1924" y="1714"/>
                </a:lnTo>
                <a:lnTo>
                  <a:pt x="1909" y="1729"/>
                </a:lnTo>
                <a:lnTo>
                  <a:pt x="1873" y="1769"/>
                </a:lnTo>
                <a:lnTo>
                  <a:pt x="1797" y="1865"/>
                </a:lnTo>
                <a:lnTo>
                  <a:pt x="1747" y="1908"/>
                </a:lnTo>
                <a:lnTo>
                  <a:pt x="1715" y="1911"/>
                </a:lnTo>
                <a:lnTo>
                  <a:pt x="1666" y="1910"/>
                </a:lnTo>
                <a:lnTo>
                  <a:pt x="1602" y="1891"/>
                </a:lnTo>
                <a:lnTo>
                  <a:pt x="1540" y="1843"/>
                </a:lnTo>
                <a:lnTo>
                  <a:pt x="1520" y="1825"/>
                </a:lnTo>
                <a:lnTo>
                  <a:pt x="1518" y="1826"/>
                </a:lnTo>
                <a:lnTo>
                  <a:pt x="1506" y="1828"/>
                </a:lnTo>
                <a:lnTo>
                  <a:pt x="1466" y="1838"/>
                </a:lnTo>
                <a:lnTo>
                  <a:pt x="1436" y="1844"/>
                </a:lnTo>
                <a:lnTo>
                  <a:pt x="1435" y="1844"/>
                </a:lnTo>
                <a:lnTo>
                  <a:pt x="1431" y="1843"/>
                </a:lnTo>
                <a:lnTo>
                  <a:pt x="1404" y="1833"/>
                </a:lnTo>
                <a:lnTo>
                  <a:pt x="1314" y="1796"/>
                </a:lnTo>
                <a:lnTo>
                  <a:pt x="1244" y="1768"/>
                </a:lnTo>
                <a:lnTo>
                  <a:pt x="1241" y="1766"/>
                </a:lnTo>
                <a:lnTo>
                  <a:pt x="1211" y="1783"/>
                </a:lnTo>
                <a:lnTo>
                  <a:pt x="1186" y="1801"/>
                </a:lnTo>
                <a:lnTo>
                  <a:pt x="1168" y="1821"/>
                </a:lnTo>
                <a:lnTo>
                  <a:pt x="1155" y="1844"/>
                </a:lnTo>
                <a:lnTo>
                  <a:pt x="1146" y="1867"/>
                </a:lnTo>
                <a:lnTo>
                  <a:pt x="1139" y="1917"/>
                </a:lnTo>
                <a:lnTo>
                  <a:pt x="1145" y="1967"/>
                </a:lnTo>
                <a:lnTo>
                  <a:pt x="1156" y="2013"/>
                </a:lnTo>
                <a:lnTo>
                  <a:pt x="1164" y="2032"/>
                </a:lnTo>
                <a:lnTo>
                  <a:pt x="1161" y="2032"/>
                </a:lnTo>
                <a:lnTo>
                  <a:pt x="1142" y="2029"/>
                </a:lnTo>
                <a:lnTo>
                  <a:pt x="1071" y="2018"/>
                </a:lnTo>
                <a:lnTo>
                  <a:pt x="987" y="2005"/>
                </a:lnTo>
                <a:lnTo>
                  <a:pt x="970" y="2002"/>
                </a:lnTo>
                <a:lnTo>
                  <a:pt x="956" y="2002"/>
                </a:lnTo>
                <a:lnTo>
                  <a:pt x="941" y="1997"/>
                </a:lnTo>
                <a:lnTo>
                  <a:pt x="923" y="1988"/>
                </a:lnTo>
                <a:lnTo>
                  <a:pt x="882" y="1964"/>
                </a:lnTo>
                <a:lnTo>
                  <a:pt x="800" y="1903"/>
                </a:lnTo>
                <a:lnTo>
                  <a:pt x="759" y="1866"/>
                </a:lnTo>
                <a:lnTo>
                  <a:pt x="756" y="1864"/>
                </a:lnTo>
                <a:lnTo>
                  <a:pt x="754" y="1863"/>
                </a:lnTo>
                <a:lnTo>
                  <a:pt x="752" y="1863"/>
                </a:lnTo>
                <a:lnTo>
                  <a:pt x="748" y="1864"/>
                </a:lnTo>
                <a:lnTo>
                  <a:pt x="745" y="1865"/>
                </a:lnTo>
                <a:lnTo>
                  <a:pt x="734" y="1869"/>
                </a:lnTo>
                <a:lnTo>
                  <a:pt x="710" y="1882"/>
                </a:lnTo>
                <a:lnTo>
                  <a:pt x="660" y="1909"/>
                </a:lnTo>
                <a:lnTo>
                  <a:pt x="641" y="1909"/>
                </a:lnTo>
                <a:lnTo>
                  <a:pt x="638" y="1908"/>
                </a:lnTo>
                <a:lnTo>
                  <a:pt x="627" y="1897"/>
                </a:lnTo>
                <a:lnTo>
                  <a:pt x="585" y="1857"/>
                </a:lnTo>
                <a:lnTo>
                  <a:pt x="554" y="1827"/>
                </a:lnTo>
                <a:lnTo>
                  <a:pt x="553" y="1825"/>
                </a:lnTo>
                <a:lnTo>
                  <a:pt x="550" y="1826"/>
                </a:lnTo>
                <a:lnTo>
                  <a:pt x="543" y="1830"/>
                </a:lnTo>
                <a:lnTo>
                  <a:pt x="515" y="1839"/>
                </a:lnTo>
                <a:lnTo>
                  <a:pt x="495" y="1846"/>
                </a:lnTo>
                <a:lnTo>
                  <a:pt x="494" y="1846"/>
                </a:lnTo>
                <a:lnTo>
                  <a:pt x="476" y="1833"/>
                </a:lnTo>
                <a:lnTo>
                  <a:pt x="444" y="1812"/>
                </a:lnTo>
                <a:lnTo>
                  <a:pt x="392" y="1780"/>
                </a:lnTo>
                <a:lnTo>
                  <a:pt x="374" y="1761"/>
                </a:lnTo>
                <a:lnTo>
                  <a:pt x="364" y="1737"/>
                </a:lnTo>
                <a:lnTo>
                  <a:pt x="363" y="1722"/>
                </a:lnTo>
                <a:lnTo>
                  <a:pt x="360" y="1718"/>
                </a:lnTo>
                <a:lnTo>
                  <a:pt x="356" y="1716"/>
                </a:lnTo>
                <a:lnTo>
                  <a:pt x="348" y="1711"/>
                </a:lnTo>
                <a:lnTo>
                  <a:pt x="321" y="1701"/>
                </a:lnTo>
                <a:lnTo>
                  <a:pt x="258" y="1682"/>
                </a:lnTo>
                <a:lnTo>
                  <a:pt x="229" y="1678"/>
                </a:lnTo>
                <a:lnTo>
                  <a:pt x="242" y="1667"/>
                </a:lnTo>
                <a:lnTo>
                  <a:pt x="254" y="1655"/>
                </a:lnTo>
                <a:lnTo>
                  <a:pt x="247" y="1661"/>
                </a:lnTo>
                <a:lnTo>
                  <a:pt x="230" y="1677"/>
                </a:lnTo>
                <a:lnTo>
                  <a:pt x="229" y="1678"/>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73"/>
          <p:cNvSpPr/>
          <p:nvPr/>
        </p:nvSpPr>
        <p:spPr>
          <a:xfrm>
            <a:off x="2797200" y="5438880"/>
            <a:ext cx="150840" cy="296640"/>
          </a:xfrm>
          <a:custGeom>
            <a:avLst/>
            <a:gdLst>
              <a:gd name="textAreaLeft" fmla="*/ 0 w 150840"/>
              <a:gd name="textAreaRight" fmla="*/ 151200 w 150840"/>
              <a:gd name="textAreaTop" fmla="*/ 0 h 296640"/>
              <a:gd name="textAreaBottom" fmla="*/ 297000 h 296640"/>
            </a:gdLst>
            <a:ahLst/>
            <a:rect l="textAreaLeft" t="textAreaTop" r="textAreaRight" b="textAreaBottom"/>
            <a:pathLst>
              <a:path w="191" h="373">
                <a:moveTo>
                  <a:pt x="13" y="125"/>
                </a:moveTo>
                <a:lnTo>
                  <a:pt x="17" y="117"/>
                </a:lnTo>
                <a:lnTo>
                  <a:pt x="35" y="97"/>
                </a:lnTo>
                <a:lnTo>
                  <a:pt x="85" y="51"/>
                </a:lnTo>
                <a:lnTo>
                  <a:pt x="134" y="10"/>
                </a:lnTo>
                <a:lnTo>
                  <a:pt x="144" y="0"/>
                </a:lnTo>
                <a:lnTo>
                  <a:pt x="162" y="24"/>
                </a:lnTo>
                <a:lnTo>
                  <a:pt x="175" y="52"/>
                </a:lnTo>
                <a:lnTo>
                  <a:pt x="184" y="85"/>
                </a:lnTo>
                <a:lnTo>
                  <a:pt x="191" y="160"/>
                </a:lnTo>
                <a:lnTo>
                  <a:pt x="182" y="237"/>
                </a:lnTo>
                <a:lnTo>
                  <a:pt x="162" y="307"/>
                </a:lnTo>
                <a:lnTo>
                  <a:pt x="130" y="358"/>
                </a:lnTo>
                <a:lnTo>
                  <a:pt x="110" y="373"/>
                </a:lnTo>
                <a:lnTo>
                  <a:pt x="85" y="365"/>
                </a:lnTo>
                <a:lnTo>
                  <a:pt x="44" y="342"/>
                </a:lnTo>
                <a:lnTo>
                  <a:pt x="17" y="309"/>
                </a:lnTo>
                <a:lnTo>
                  <a:pt x="3" y="268"/>
                </a:lnTo>
                <a:lnTo>
                  <a:pt x="0" y="219"/>
                </a:lnTo>
                <a:lnTo>
                  <a:pt x="6" y="158"/>
                </a:lnTo>
                <a:lnTo>
                  <a:pt x="13" y="125"/>
                </a:lnTo>
                <a:lnTo>
                  <a:pt x="16" y="119"/>
                </a:lnTo>
                <a:lnTo>
                  <a:pt x="19" y="113"/>
                </a:lnTo>
                <a:lnTo>
                  <a:pt x="17" y="116"/>
                </a:lnTo>
                <a:lnTo>
                  <a:pt x="13" y="125"/>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74"/>
          <p:cNvSpPr/>
          <p:nvPr/>
        </p:nvSpPr>
        <p:spPr>
          <a:xfrm>
            <a:off x="1122480" y="3902040"/>
            <a:ext cx="1687320" cy="1612800"/>
          </a:xfrm>
          <a:custGeom>
            <a:avLst/>
            <a:gdLst>
              <a:gd name="textAreaLeft" fmla="*/ 0 w 1687320"/>
              <a:gd name="textAreaRight" fmla="*/ 1687680 w 1687320"/>
              <a:gd name="textAreaTop" fmla="*/ 0 h 1612800"/>
              <a:gd name="textAreaBottom" fmla="*/ 1613160 h 1612800"/>
            </a:gdLst>
            <a:ahLst/>
            <a:rect l="textAreaLeft" t="textAreaTop" r="textAreaRight" b="textAreaBottom"/>
            <a:pathLst>
              <a:path w="2128" h="2032">
                <a:moveTo>
                  <a:pt x="229" y="1678"/>
                </a:moveTo>
                <a:lnTo>
                  <a:pt x="244" y="1664"/>
                </a:lnTo>
                <a:lnTo>
                  <a:pt x="278" y="1634"/>
                </a:lnTo>
                <a:lnTo>
                  <a:pt x="348" y="1569"/>
                </a:lnTo>
                <a:lnTo>
                  <a:pt x="402" y="1501"/>
                </a:lnTo>
                <a:lnTo>
                  <a:pt x="412" y="1485"/>
                </a:lnTo>
                <a:lnTo>
                  <a:pt x="413" y="1477"/>
                </a:lnTo>
                <a:lnTo>
                  <a:pt x="416" y="1460"/>
                </a:lnTo>
                <a:lnTo>
                  <a:pt x="429" y="1405"/>
                </a:lnTo>
                <a:lnTo>
                  <a:pt x="470" y="1266"/>
                </a:lnTo>
                <a:lnTo>
                  <a:pt x="511" y="1174"/>
                </a:lnTo>
                <a:lnTo>
                  <a:pt x="494" y="1141"/>
                </a:lnTo>
                <a:lnTo>
                  <a:pt x="471" y="1083"/>
                </a:lnTo>
                <a:lnTo>
                  <a:pt x="445" y="986"/>
                </a:lnTo>
                <a:lnTo>
                  <a:pt x="400" y="891"/>
                </a:lnTo>
                <a:lnTo>
                  <a:pt x="380" y="864"/>
                </a:lnTo>
                <a:lnTo>
                  <a:pt x="390" y="844"/>
                </a:lnTo>
                <a:lnTo>
                  <a:pt x="404" y="819"/>
                </a:lnTo>
                <a:lnTo>
                  <a:pt x="407" y="811"/>
                </a:lnTo>
                <a:lnTo>
                  <a:pt x="408" y="806"/>
                </a:lnTo>
                <a:lnTo>
                  <a:pt x="407" y="804"/>
                </a:lnTo>
                <a:lnTo>
                  <a:pt x="406" y="802"/>
                </a:lnTo>
                <a:lnTo>
                  <a:pt x="405" y="801"/>
                </a:lnTo>
                <a:lnTo>
                  <a:pt x="402" y="800"/>
                </a:lnTo>
                <a:lnTo>
                  <a:pt x="396" y="796"/>
                </a:lnTo>
                <a:lnTo>
                  <a:pt x="376" y="788"/>
                </a:lnTo>
                <a:lnTo>
                  <a:pt x="347" y="770"/>
                </a:lnTo>
                <a:lnTo>
                  <a:pt x="336" y="753"/>
                </a:lnTo>
                <a:lnTo>
                  <a:pt x="307" y="708"/>
                </a:lnTo>
                <a:lnTo>
                  <a:pt x="220" y="614"/>
                </a:lnTo>
                <a:lnTo>
                  <a:pt x="167" y="584"/>
                </a:lnTo>
                <a:lnTo>
                  <a:pt x="139" y="576"/>
                </a:lnTo>
                <a:lnTo>
                  <a:pt x="110" y="575"/>
                </a:lnTo>
                <a:lnTo>
                  <a:pt x="82" y="583"/>
                </a:lnTo>
                <a:lnTo>
                  <a:pt x="73" y="578"/>
                </a:lnTo>
                <a:lnTo>
                  <a:pt x="58" y="569"/>
                </a:lnTo>
                <a:lnTo>
                  <a:pt x="28" y="543"/>
                </a:lnTo>
                <a:lnTo>
                  <a:pt x="5" y="513"/>
                </a:lnTo>
                <a:lnTo>
                  <a:pt x="0" y="505"/>
                </a:lnTo>
                <a:lnTo>
                  <a:pt x="5" y="505"/>
                </a:lnTo>
                <a:lnTo>
                  <a:pt x="11" y="503"/>
                </a:lnTo>
                <a:lnTo>
                  <a:pt x="25" y="497"/>
                </a:lnTo>
                <a:lnTo>
                  <a:pt x="57" y="483"/>
                </a:lnTo>
                <a:lnTo>
                  <a:pt x="82" y="473"/>
                </a:lnTo>
                <a:lnTo>
                  <a:pt x="78" y="466"/>
                </a:lnTo>
                <a:lnTo>
                  <a:pt x="70" y="455"/>
                </a:lnTo>
                <a:lnTo>
                  <a:pt x="60" y="448"/>
                </a:lnTo>
                <a:lnTo>
                  <a:pt x="51" y="442"/>
                </a:lnTo>
                <a:lnTo>
                  <a:pt x="39" y="437"/>
                </a:lnTo>
                <a:lnTo>
                  <a:pt x="25" y="431"/>
                </a:lnTo>
                <a:lnTo>
                  <a:pt x="17" y="427"/>
                </a:lnTo>
                <a:lnTo>
                  <a:pt x="17" y="423"/>
                </a:lnTo>
                <a:lnTo>
                  <a:pt x="20" y="418"/>
                </a:lnTo>
                <a:lnTo>
                  <a:pt x="22" y="413"/>
                </a:lnTo>
                <a:lnTo>
                  <a:pt x="29" y="403"/>
                </a:lnTo>
                <a:lnTo>
                  <a:pt x="45" y="386"/>
                </a:lnTo>
                <a:lnTo>
                  <a:pt x="51" y="381"/>
                </a:lnTo>
                <a:lnTo>
                  <a:pt x="65" y="384"/>
                </a:lnTo>
                <a:lnTo>
                  <a:pt x="102" y="387"/>
                </a:lnTo>
                <a:lnTo>
                  <a:pt x="204" y="386"/>
                </a:lnTo>
                <a:lnTo>
                  <a:pt x="308" y="382"/>
                </a:lnTo>
                <a:lnTo>
                  <a:pt x="331" y="381"/>
                </a:lnTo>
                <a:lnTo>
                  <a:pt x="334" y="385"/>
                </a:lnTo>
                <a:lnTo>
                  <a:pt x="342" y="395"/>
                </a:lnTo>
                <a:lnTo>
                  <a:pt x="359" y="417"/>
                </a:lnTo>
                <a:lnTo>
                  <a:pt x="376" y="438"/>
                </a:lnTo>
                <a:lnTo>
                  <a:pt x="380" y="442"/>
                </a:lnTo>
                <a:lnTo>
                  <a:pt x="392" y="443"/>
                </a:lnTo>
                <a:lnTo>
                  <a:pt x="419" y="445"/>
                </a:lnTo>
                <a:lnTo>
                  <a:pt x="472" y="452"/>
                </a:lnTo>
                <a:lnTo>
                  <a:pt x="518" y="458"/>
                </a:lnTo>
                <a:lnTo>
                  <a:pt x="528" y="458"/>
                </a:lnTo>
                <a:lnTo>
                  <a:pt x="538" y="448"/>
                </a:lnTo>
                <a:lnTo>
                  <a:pt x="550" y="430"/>
                </a:lnTo>
                <a:lnTo>
                  <a:pt x="555" y="414"/>
                </a:lnTo>
                <a:lnTo>
                  <a:pt x="555" y="399"/>
                </a:lnTo>
                <a:lnTo>
                  <a:pt x="555" y="382"/>
                </a:lnTo>
                <a:lnTo>
                  <a:pt x="557" y="361"/>
                </a:lnTo>
                <a:lnTo>
                  <a:pt x="561" y="349"/>
                </a:lnTo>
                <a:lnTo>
                  <a:pt x="548" y="338"/>
                </a:lnTo>
                <a:lnTo>
                  <a:pt x="530" y="313"/>
                </a:lnTo>
                <a:lnTo>
                  <a:pt x="518" y="285"/>
                </a:lnTo>
                <a:lnTo>
                  <a:pt x="514" y="259"/>
                </a:lnTo>
                <a:lnTo>
                  <a:pt x="518" y="231"/>
                </a:lnTo>
                <a:lnTo>
                  <a:pt x="532" y="206"/>
                </a:lnTo>
                <a:lnTo>
                  <a:pt x="544" y="193"/>
                </a:lnTo>
                <a:lnTo>
                  <a:pt x="559" y="202"/>
                </a:lnTo>
                <a:lnTo>
                  <a:pt x="579" y="216"/>
                </a:lnTo>
                <a:lnTo>
                  <a:pt x="592" y="223"/>
                </a:lnTo>
                <a:lnTo>
                  <a:pt x="603" y="225"/>
                </a:lnTo>
                <a:lnTo>
                  <a:pt x="618" y="222"/>
                </a:lnTo>
                <a:lnTo>
                  <a:pt x="642" y="215"/>
                </a:lnTo>
                <a:lnTo>
                  <a:pt x="660" y="209"/>
                </a:lnTo>
                <a:lnTo>
                  <a:pt x="660" y="228"/>
                </a:lnTo>
                <a:lnTo>
                  <a:pt x="668" y="262"/>
                </a:lnTo>
                <a:lnTo>
                  <a:pt x="683" y="290"/>
                </a:lnTo>
                <a:lnTo>
                  <a:pt x="706" y="312"/>
                </a:lnTo>
                <a:lnTo>
                  <a:pt x="735" y="326"/>
                </a:lnTo>
                <a:lnTo>
                  <a:pt x="770" y="334"/>
                </a:lnTo>
                <a:lnTo>
                  <a:pt x="791" y="334"/>
                </a:lnTo>
                <a:lnTo>
                  <a:pt x="799" y="321"/>
                </a:lnTo>
                <a:lnTo>
                  <a:pt x="815" y="293"/>
                </a:lnTo>
                <a:lnTo>
                  <a:pt x="842" y="249"/>
                </a:lnTo>
                <a:lnTo>
                  <a:pt x="851" y="243"/>
                </a:lnTo>
                <a:lnTo>
                  <a:pt x="858" y="240"/>
                </a:lnTo>
                <a:lnTo>
                  <a:pt x="868" y="241"/>
                </a:lnTo>
                <a:lnTo>
                  <a:pt x="878" y="246"/>
                </a:lnTo>
                <a:lnTo>
                  <a:pt x="890" y="255"/>
                </a:lnTo>
                <a:lnTo>
                  <a:pt x="924" y="247"/>
                </a:lnTo>
                <a:lnTo>
                  <a:pt x="974" y="228"/>
                </a:lnTo>
                <a:lnTo>
                  <a:pt x="1006" y="201"/>
                </a:lnTo>
                <a:lnTo>
                  <a:pt x="1026" y="169"/>
                </a:lnTo>
                <a:lnTo>
                  <a:pt x="1038" y="127"/>
                </a:lnTo>
                <a:lnTo>
                  <a:pt x="1050" y="76"/>
                </a:lnTo>
                <a:lnTo>
                  <a:pt x="1058" y="46"/>
                </a:lnTo>
                <a:lnTo>
                  <a:pt x="1062" y="35"/>
                </a:lnTo>
                <a:lnTo>
                  <a:pt x="1070" y="27"/>
                </a:lnTo>
                <a:lnTo>
                  <a:pt x="1077" y="21"/>
                </a:lnTo>
                <a:lnTo>
                  <a:pt x="1087" y="16"/>
                </a:lnTo>
                <a:lnTo>
                  <a:pt x="1096" y="13"/>
                </a:lnTo>
                <a:lnTo>
                  <a:pt x="1118" y="10"/>
                </a:lnTo>
                <a:lnTo>
                  <a:pt x="1139" y="9"/>
                </a:lnTo>
                <a:lnTo>
                  <a:pt x="1160" y="10"/>
                </a:lnTo>
                <a:lnTo>
                  <a:pt x="1169" y="10"/>
                </a:lnTo>
                <a:lnTo>
                  <a:pt x="1190" y="6"/>
                </a:lnTo>
                <a:lnTo>
                  <a:pt x="1202" y="5"/>
                </a:lnTo>
                <a:lnTo>
                  <a:pt x="1207" y="6"/>
                </a:lnTo>
                <a:lnTo>
                  <a:pt x="1210" y="7"/>
                </a:lnTo>
                <a:lnTo>
                  <a:pt x="1212" y="9"/>
                </a:lnTo>
                <a:lnTo>
                  <a:pt x="1213" y="12"/>
                </a:lnTo>
                <a:lnTo>
                  <a:pt x="1214" y="14"/>
                </a:lnTo>
                <a:lnTo>
                  <a:pt x="1213" y="17"/>
                </a:lnTo>
                <a:lnTo>
                  <a:pt x="1212" y="23"/>
                </a:lnTo>
                <a:lnTo>
                  <a:pt x="1211" y="27"/>
                </a:lnTo>
                <a:lnTo>
                  <a:pt x="1210" y="29"/>
                </a:lnTo>
                <a:lnTo>
                  <a:pt x="1210" y="30"/>
                </a:lnTo>
                <a:lnTo>
                  <a:pt x="1212" y="30"/>
                </a:lnTo>
                <a:lnTo>
                  <a:pt x="1214" y="28"/>
                </a:lnTo>
                <a:lnTo>
                  <a:pt x="1223" y="21"/>
                </a:lnTo>
                <a:lnTo>
                  <a:pt x="1237" y="9"/>
                </a:lnTo>
                <a:lnTo>
                  <a:pt x="1248" y="0"/>
                </a:lnTo>
                <a:lnTo>
                  <a:pt x="1249" y="8"/>
                </a:lnTo>
                <a:lnTo>
                  <a:pt x="1253" y="16"/>
                </a:lnTo>
                <a:lnTo>
                  <a:pt x="1259" y="22"/>
                </a:lnTo>
                <a:lnTo>
                  <a:pt x="1269" y="29"/>
                </a:lnTo>
                <a:lnTo>
                  <a:pt x="1289" y="41"/>
                </a:lnTo>
                <a:lnTo>
                  <a:pt x="1312" y="50"/>
                </a:lnTo>
                <a:lnTo>
                  <a:pt x="1332" y="56"/>
                </a:lnTo>
                <a:lnTo>
                  <a:pt x="1346" y="60"/>
                </a:lnTo>
                <a:lnTo>
                  <a:pt x="1347" y="62"/>
                </a:lnTo>
                <a:lnTo>
                  <a:pt x="1354" y="70"/>
                </a:lnTo>
                <a:lnTo>
                  <a:pt x="1374" y="97"/>
                </a:lnTo>
                <a:lnTo>
                  <a:pt x="1390" y="118"/>
                </a:lnTo>
                <a:lnTo>
                  <a:pt x="1391" y="119"/>
                </a:lnTo>
                <a:lnTo>
                  <a:pt x="1402" y="130"/>
                </a:lnTo>
                <a:lnTo>
                  <a:pt x="1419" y="147"/>
                </a:lnTo>
                <a:lnTo>
                  <a:pt x="1446" y="174"/>
                </a:lnTo>
                <a:lnTo>
                  <a:pt x="1482" y="199"/>
                </a:lnTo>
                <a:lnTo>
                  <a:pt x="1496" y="206"/>
                </a:lnTo>
                <a:lnTo>
                  <a:pt x="1498" y="211"/>
                </a:lnTo>
                <a:lnTo>
                  <a:pt x="1500" y="215"/>
                </a:lnTo>
                <a:lnTo>
                  <a:pt x="1501" y="228"/>
                </a:lnTo>
                <a:lnTo>
                  <a:pt x="1501" y="255"/>
                </a:lnTo>
                <a:lnTo>
                  <a:pt x="1505" y="266"/>
                </a:lnTo>
                <a:lnTo>
                  <a:pt x="1512" y="270"/>
                </a:lnTo>
                <a:lnTo>
                  <a:pt x="1521" y="275"/>
                </a:lnTo>
                <a:lnTo>
                  <a:pt x="1535" y="289"/>
                </a:lnTo>
                <a:lnTo>
                  <a:pt x="1549" y="305"/>
                </a:lnTo>
                <a:lnTo>
                  <a:pt x="1577" y="337"/>
                </a:lnTo>
                <a:lnTo>
                  <a:pt x="1592" y="347"/>
                </a:lnTo>
                <a:lnTo>
                  <a:pt x="1635" y="372"/>
                </a:lnTo>
                <a:lnTo>
                  <a:pt x="1680" y="410"/>
                </a:lnTo>
                <a:lnTo>
                  <a:pt x="1688" y="426"/>
                </a:lnTo>
                <a:lnTo>
                  <a:pt x="1690" y="439"/>
                </a:lnTo>
                <a:lnTo>
                  <a:pt x="1690" y="448"/>
                </a:lnTo>
                <a:lnTo>
                  <a:pt x="1690" y="455"/>
                </a:lnTo>
                <a:lnTo>
                  <a:pt x="1690" y="456"/>
                </a:lnTo>
                <a:lnTo>
                  <a:pt x="1692" y="457"/>
                </a:lnTo>
                <a:lnTo>
                  <a:pt x="1693" y="458"/>
                </a:lnTo>
                <a:lnTo>
                  <a:pt x="1696" y="459"/>
                </a:lnTo>
                <a:lnTo>
                  <a:pt x="1698" y="459"/>
                </a:lnTo>
                <a:lnTo>
                  <a:pt x="1703" y="458"/>
                </a:lnTo>
                <a:lnTo>
                  <a:pt x="1723" y="455"/>
                </a:lnTo>
                <a:lnTo>
                  <a:pt x="1802" y="438"/>
                </a:lnTo>
                <a:lnTo>
                  <a:pt x="1805" y="438"/>
                </a:lnTo>
                <a:lnTo>
                  <a:pt x="1811" y="439"/>
                </a:lnTo>
                <a:lnTo>
                  <a:pt x="1827" y="441"/>
                </a:lnTo>
                <a:lnTo>
                  <a:pt x="1867" y="448"/>
                </a:lnTo>
                <a:lnTo>
                  <a:pt x="1901" y="450"/>
                </a:lnTo>
                <a:lnTo>
                  <a:pt x="1922" y="456"/>
                </a:lnTo>
                <a:lnTo>
                  <a:pt x="1965" y="463"/>
                </a:lnTo>
                <a:lnTo>
                  <a:pt x="2042" y="473"/>
                </a:lnTo>
                <a:lnTo>
                  <a:pt x="2075" y="485"/>
                </a:lnTo>
                <a:lnTo>
                  <a:pt x="2103" y="504"/>
                </a:lnTo>
                <a:lnTo>
                  <a:pt x="2116" y="518"/>
                </a:lnTo>
                <a:lnTo>
                  <a:pt x="2125" y="536"/>
                </a:lnTo>
                <a:lnTo>
                  <a:pt x="2128" y="552"/>
                </a:lnTo>
                <a:lnTo>
                  <a:pt x="2126" y="568"/>
                </a:lnTo>
                <a:lnTo>
                  <a:pt x="2122" y="586"/>
                </a:lnTo>
                <a:lnTo>
                  <a:pt x="2113" y="603"/>
                </a:lnTo>
                <a:lnTo>
                  <a:pt x="2088" y="643"/>
                </a:lnTo>
                <a:lnTo>
                  <a:pt x="2029" y="755"/>
                </a:lnTo>
                <a:lnTo>
                  <a:pt x="2018" y="791"/>
                </a:lnTo>
                <a:lnTo>
                  <a:pt x="2014" y="793"/>
                </a:lnTo>
                <a:lnTo>
                  <a:pt x="2009" y="794"/>
                </a:lnTo>
                <a:lnTo>
                  <a:pt x="1991" y="796"/>
                </a:lnTo>
                <a:lnTo>
                  <a:pt x="1945" y="800"/>
                </a:lnTo>
                <a:lnTo>
                  <a:pt x="1916" y="802"/>
                </a:lnTo>
                <a:lnTo>
                  <a:pt x="1910" y="806"/>
                </a:lnTo>
                <a:lnTo>
                  <a:pt x="1908" y="810"/>
                </a:lnTo>
                <a:lnTo>
                  <a:pt x="1906" y="814"/>
                </a:lnTo>
                <a:lnTo>
                  <a:pt x="1907" y="820"/>
                </a:lnTo>
                <a:lnTo>
                  <a:pt x="1907" y="825"/>
                </a:lnTo>
                <a:lnTo>
                  <a:pt x="1910" y="837"/>
                </a:lnTo>
                <a:lnTo>
                  <a:pt x="1911" y="848"/>
                </a:lnTo>
                <a:lnTo>
                  <a:pt x="1908" y="858"/>
                </a:lnTo>
                <a:lnTo>
                  <a:pt x="1905" y="860"/>
                </a:lnTo>
                <a:lnTo>
                  <a:pt x="1895" y="863"/>
                </a:lnTo>
                <a:lnTo>
                  <a:pt x="1881" y="866"/>
                </a:lnTo>
                <a:lnTo>
                  <a:pt x="1843" y="874"/>
                </a:lnTo>
                <a:lnTo>
                  <a:pt x="1747" y="900"/>
                </a:lnTo>
                <a:lnTo>
                  <a:pt x="1686" y="941"/>
                </a:lnTo>
                <a:lnTo>
                  <a:pt x="1684" y="947"/>
                </a:lnTo>
                <a:lnTo>
                  <a:pt x="1684" y="952"/>
                </a:lnTo>
                <a:lnTo>
                  <a:pt x="1685" y="956"/>
                </a:lnTo>
                <a:lnTo>
                  <a:pt x="1688" y="959"/>
                </a:lnTo>
                <a:lnTo>
                  <a:pt x="1692" y="961"/>
                </a:lnTo>
                <a:lnTo>
                  <a:pt x="1697" y="963"/>
                </a:lnTo>
                <a:lnTo>
                  <a:pt x="1702" y="964"/>
                </a:lnTo>
                <a:lnTo>
                  <a:pt x="1715" y="964"/>
                </a:lnTo>
                <a:lnTo>
                  <a:pt x="1746" y="959"/>
                </a:lnTo>
                <a:lnTo>
                  <a:pt x="1774" y="954"/>
                </a:lnTo>
                <a:lnTo>
                  <a:pt x="1784" y="953"/>
                </a:lnTo>
                <a:lnTo>
                  <a:pt x="1787" y="953"/>
                </a:lnTo>
                <a:lnTo>
                  <a:pt x="1789" y="954"/>
                </a:lnTo>
                <a:lnTo>
                  <a:pt x="1790" y="955"/>
                </a:lnTo>
                <a:lnTo>
                  <a:pt x="1790" y="958"/>
                </a:lnTo>
                <a:lnTo>
                  <a:pt x="1788" y="960"/>
                </a:lnTo>
                <a:lnTo>
                  <a:pt x="1786" y="963"/>
                </a:lnTo>
                <a:lnTo>
                  <a:pt x="1777" y="973"/>
                </a:lnTo>
                <a:lnTo>
                  <a:pt x="1746" y="1006"/>
                </a:lnTo>
                <a:lnTo>
                  <a:pt x="1723" y="1032"/>
                </a:lnTo>
                <a:lnTo>
                  <a:pt x="1722" y="1033"/>
                </a:lnTo>
                <a:lnTo>
                  <a:pt x="1719" y="1037"/>
                </a:lnTo>
                <a:lnTo>
                  <a:pt x="1717" y="1041"/>
                </a:lnTo>
                <a:lnTo>
                  <a:pt x="1717" y="1047"/>
                </a:lnTo>
                <a:lnTo>
                  <a:pt x="1717" y="1060"/>
                </a:lnTo>
                <a:lnTo>
                  <a:pt x="1722" y="1089"/>
                </a:lnTo>
                <a:lnTo>
                  <a:pt x="1726" y="1105"/>
                </a:lnTo>
                <a:lnTo>
                  <a:pt x="1726" y="1119"/>
                </a:lnTo>
                <a:lnTo>
                  <a:pt x="1729" y="1133"/>
                </a:lnTo>
                <a:lnTo>
                  <a:pt x="1734" y="1146"/>
                </a:lnTo>
                <a:lnTo>
                  <a:pt x="1749" y="1169"/>
                </a:lnTo>
                <a:lnTo>
                  <a:pt x="1769" y="1192"/>
                </a:lnTo>
                <a:lnTo>
                  <a:pt x="1804" y="1226"/>
                </a:lnTo>
                <a:lnTo>
                  <a:pt x="1811" y="1232"/>
                </a:lnTo>
                <a:lnTo>
                  <a:pt x="1813" y="1237"/>
                </a:lnTo>
                <a:lnTo>
                  <a:pt x="1828" y="1257"/>
                </a:lnTo>
                <a:lnTo>
                  <a:pt x="1881" y="1330"/>
                </a:lnTo>
                <a:lnTo>
                  <a:pt x="1922" y="1385"/>
                </a:lnTo>
                <a:lnTo>
                  <a:pt x="1925" y="1388"/>
                </a:lnTo>
                <a:lnTo>
                  <a:pt x="1923" y="1389"/>
                </a:lnTo>
                <a:lnTo>
                  <a:pt x="1910" y="1397"/>
                </a:lnTo>
                <a:lnTo>
                  <a:pt x="1866" y="1419"/>
                </a:lnTo>
                <a:lnTo>
                  <a:pt x="1833" y="1437"/>
                </a:lnTo>
                <a:lnTo>
                  <a:pt x="1832" y="1437"/>
                </a:lnTo>
                <a:lnTo>
                  <a:pt x="1831" y="1439"/>
                </a:lnTo>
                <a:lnTo>
                  <a:pt x="1833" y="1443"/>
                </a:lnTo>
                <a:lnTo>
                  <a:pt x="1837" y="1448"/>
                </a:lnTo>
                <a:lnTo>
                  <a:pt x="1849" y="1461"/>
                </a:lnTo>
                <a:lnTo>
                  <a:pt x="1880" y="1489"/>
                </a:lnTo>
                <a:lnTo>
                  <a:pt x="1895" y="1500"/>
                </a:lnTo>
                <a:lnTo>
                  <a:pt x="1890" y="1501"/>
                </a:lnTo>
                <a:lnTo>
                  <a:pt x="1872" y="1503"/>
                </a:lnTo>
                <a:lnTo>
                  <a:pt x="1819" y="1509"/>
                </a:lnTo>
                <a:lnTo>
                  <a:pt x="1796" y="1514"/>
                </a:lnTo>
                <a:lnTo>
                  <a:pt x="1787" y="1517"/>
                </a:lnTo>
                <a:lnTo>
                  <a:pt x="1781" y="1521"/>
                </a:lnTo>
                <a:lnTo>
                  <a:pt x="1778" y="1524"/>
                </a:lnTo>
                <a:lnTo>
                  <a:pt x="1778" y="1526"/>
                </a:lnTo>
                <a:lnTo>
                  <a:pt x="1781" y="1539"/>
                </a:lnTo>
                <a:lnTo>
                  <a:pt x="1787" y="1585"/>
                </a:lnTo>
                <a:lnTo>
                  <a:pt x="1791" y="1621"/>
                </a:lnTo>
                <a:lnTo>
                  <a:pt x="1792" y="1622"/>
                </a:lnTo>
                <a:lnTo>
                  <a:pt x="1793" y="1624"/>
                </a:lnTo>
                <a:lnTo>
                  <a:pt x="1805" y="1636"/>
                </a:lnTo>
                <a:lnTo>
                  <a:pt x="1847" y="1678"/>
                </a:lnTo>
                <a:lnTo>
                  <a:pt x="1878" y="1710"/>
                </a:lnTo>
                <a:lnTo>
                  <a:pt x="1880" y="1711"/>
                </a:lnTo>
                <a:lnTo>
                  <a:pt x="1881" y="1711"/>
                </a:lnTo>
                <a:lnTo>
                  <a:pt x="1890" y="1711"/>
                </a:lnTo>
                <a:lnTo>
                  <a:pt x="1919" y="1708"/>
                </a:lnTo>
                <a:lnTo>
                  <a:pt x="1940" y="1706"/>
                </a:lnTo>
                <a:lnTo>
                  <a:pt x="1942" y="1705"/>
                </a:lnTo>
                <a:lnTo>
                  <a:pt x="1937" y="1706"/>
                </a:lnTo>
                <a:lnTo>
                  <a:pt x="1931" y="1709"/>
                </a:lnTo>
                <a:lnTo>
                  <a:pt x="1924" y="1714"/>
                </a:lnTo>
                <a:lnTo>
                  <a:pt x="1909" y="1729"/>
                </a:lnTo>
                <a:lnTo>
                  <a:pt x="1873" y="1769"/>
                </a:lnTo>
                <a:lnTo>
                  <a:pt x="1797" y="1865"/>
                </a:lnTo>
                <a:lnTo>
                  <a:pt x="1747" y="1908"/>
                </a:lnTo>
                <a:lnTo>
                  <a:pt x="1715" y="1911"/>
                </a:lnTo>
                <a:lnTo>
                  <a:pt x="1666" y="1910"/>
                </a:lnTo>
                <a:lnTo>
                  <a:pt x="1602" y="1891"/>
                </a:lnTo>
                <a:lnTo>
                  <a:pt x="1540" y="1843"/>
                </a:lnTo>
                <a:lnTo>
                  <a:pt x="1520" y="1825"/>
                </a:lnTo>
                <a:lnTo>
                  <a:pt x="1518" y="1826"/>
                </a:lnTo>
                <a:lnTo>
                  <a:pt x="1506" y="1828"/>
                </a:lnTo>
                <a:lnTo>
                  <a:pt x="1466" y="1838"/>
                </a:lnTo>
                <a:lnTo>
                  <a:pt x="1436" y="1844"/>
                </a:lnTo>
                <a:lnTo>
                  <a:pt x="1435" y="1844"/>
                </a:lnTo>
                <a:lnTo>
                  <a:pt x="1431" y="1843"/>
                </a:lnTo>
                <a:lnTo>
                  <a:pt x="1404" y="1833"/>
                </a:lnTo>
                <a:lnTo>
                  <a:pt x="1314" y="1796"/>
                </a:lnTo>
                <a:lnTo>
                  <a:pt x="1244" y="1768"/>
                </a:lnTo>
                <a:lnTo>
                  <a:pt x="1241" y="1766"/>
                </a:lnTo>
                <a:lnTo>
                  <a:pt x="1211" y="1783"/>
                </a:lnTo>
                <a:lnTo>
                  <a:pt x="1186" y="1801"/>
                </a:lnTo>
                <a:lnTo>
                  <a:pt x="1168" y="1821"/>
                </a:lnTo>
                <a:lnTo>
                  <a:pt x="1155" y="1844"/>
                </a:lnTo>
                <a:lnTo>
                  <a:pt x="1146" y="1867"/>
                </a:lnTo>
                <a:lnTo>
                  <a:pt x="1139" y="1917"/>
                </a:lnTo>
                <a:lnTo>
                  <a:pt x="1145" y="1967"/>
                </a:lnTo>
                <a:lnTo>
                  <a:pt x="1156" y="2013"/>
                </a:lnTo>
                <a:lnTo>
                  <a:pt x="1164" y="2032"/>
                </a:lnTo>
                <a:lnTo>
                  <a:pt x="1161" y="2032"/>
                </a:lnTo>
                <a:lnTo>
                  <a:pt x="1142" y="2029"/>
                </a:lnTo>
                <a:lnTo>
                  <a:pt x="1071" y="2018"/>
                </a:lnTo>
                <a:lnTo>
                  <a:pt x="987" y="2005"/>
                </a:lnTo>
                <a:lnTo>
                  <a:pt x="970" y="2002"/>
                </a:lnTo>
                <a:lnTo>
                  <a:pt x="956" y="2002"/>
                </a:lnTo>
                <a:lnTo>
                  <a:pt x="941" y="1997"/>
                </a:lnTo>
                <a:lnTo>
                  <a:pt x="923" y="1988"/>
                </a:lnTo>
                <a:lnTo>
                  <a:pt x="882" y="1964"/>
                </a:lnTo>
                <a:lnTo>
                  <a:pt x="800" y="1903"/>
                </a:lnTo>
                <a:lnTo>
                  <a:pt x="759" y="1866"/>
                </a:lnTo>
                <a:lnTo>
                  <a:pt x="756" y="1864"/>
                </a:lnTo>
                <a:lnTo>
                  <a:pt x="754" y="1863"/>
                </a:lnTo>
                <a:lnTo>
                  <a:pt x="752" y="1863"/>
                </a:lnTo>
                <a:lnTo>
                  <a:pt x="748" y="1864"/>
                </a:lnTo>
                <a:lnTo>
                  <a:pt x="745" y="1865"/>
                </a:lnTo>
                <a:lnTo>
                  <a:pt x="734" y="1869"/>
                </a:lnTo>
                <a:lnTo>
                  <a:pt x="710" y="1882"/>
                </a:lnTo>
                <a:lnTo>
                  <a:pt x="660" y="1909"/>
                </a:lnTo>
                <a:lnTo>
                  <a:pt x="641" y="1909"/>
                </a:lnTo>
                <a:lnTo>
                  <a:pt x="638" y="1908"/>
                </a:lnTo>
                <a:lnTo>
                  <a:pt x="627" y="1897"/>
                </a:lnTo>
                <a:lnTo>
                  <a:pt x="585" y="1857"/>
                </a:lnTo>
                <a:lnTo>
                  <a:pt x="554" y="1827"/>
                </a:lnTo>
                <a:lnTo>
                  <a:pt x="553" y="1825"/>
                </a:lnTo>
                <a:lnTo>
                  <a:pt x="550" y="1826"/>
                </a:lnTo>
                <a:lnTo>
                  <a:pt x="543" y="1830"/>
                </a:lnTo>
                <a:lnTo>
                  <a:pt x="515" y="1839"/>
                </a:lnTo>
                <a:lnTo>
                  <a:pt x="495" y="1846"/>
                </a:lnTo>
                <a:lnTo>
                  <a:pt x="494" y="1846"/>
                </a:lnTo>
                <a:lnTo>
                  <a:pt x="476" y="1833"/>
                </a:lnTo>
                <a:lnTo>
                  <a:pt x="444" y="1812"/>
                </a:lnTo>
                <a:lnTo>
                  <a:pt x="392" y="1780"/>
                </a:lnTo>
                <a:lnTo>
                  <a:pt x="374" y="1761"/>
                </a:lnTo>
                <a:lnTo>
                  <a:pt x="364" y="1737"/>
                </a:lnTo>
                <a:lnTo>
                  <a:pt x="363" y="1722"/>
                </a:lnTo>
                <a:lnTo>
                  <a:pt x="360" y="1718"/>
                </a:lnTo>
                <a:lnTo>
                  <a:pt x="356" y="1716"/>
                </a:lnTo>
                <a:lnTo>
                  <a:pt x="348" y="1711"/>
                </a:lnTo>
                <a:lnTo>
                  <a:pt x="321" y="1701"/>
                </a:lnTo>
                <a:lnTo>
                  <a:pt x="258" y="1682"/>
                </a:lnTo>
                <a:lnTo>
                  <a:pt x="229" y="1678"/>
                </a:lnTo>
                <a:lnTo>
                  <a:pt x="242" y="1667"/>
                </a:lnTo>
                <a:lnTo>
                  <a:pt x="254" y="1655"/>
                </a:lnTo>
                <a:lnTo>
                  <a:pt x="247" y="1661"/>
                </a:lnTo>
                <a:lnTo>
                  <a:pt x="230" y="1677"/>
                </a:lnTo>
                <a:lnTo>
                  <a:pt x="229" y="1678"/>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75"/>
          <p:cNvSpPr/>
          <p:nvPr/>
        </p:nvSpPr>
        <p:spPr>
          <a:xfrm>
            <a:off x="2533680" y="4675320"/>
            <a:ext cx="1706400" cy="1936440"/>
          </a:xfrm>
          <a:custGeom>
            <a:avLst/>
            <a:gdLst>
              <a:gd name="textAreaLeft" fmla="*/ 0 w 1706400"/>
              <a:gd name="textAreaRight" fmla="*/ 1706760 w 1706400"/>
              <a:gd name="textAreaTop" fmla="*/ 0 h 1936440"/>
              <a:gd name="textAreaBottom" fmla="*/ 1936800 h 1936440"/>
            </a:gdLst>
            <a:ahLst/>
            <a:rect l="textAreaLeft" t="textAreaTop" r="textAreaRight" b="textAreaBottom"/>
            <a:pathLst>
              <a:path w="2150" h="2440">
                <a:moveTo>
                  <a:pt x="294" y="1601"/>
                </a:moveTo>
                <a:lnTo>
                  <a:pt x="304" y="1626"/>
                </a:lnTo>
                <a:lnTo>
                  <a:pt x="313" y="1676"/>
                </a:lnTo>
                <a:lnTo>
                  <a:pt x="311" y="1729"/>
                </a:lnTo>
                <a:lnTo>
                  <a:pt x="301" y="1831"/>
                </a:lnTo>
                <a:lnTo>
                  <a:pt x="310" y="1896"/>
                </a:lnTo>
                <a:lnTo>
                  <a:pt x="337" y="1894"/>
                </a:lnTo>
                <a:lnTo>
                  <a:pt x="359" y="1888"/>
                </a:lnTo>
                <a:lnTo>
                  <a:pt x="376" y="1878"/>
                </a:lnTo>
                <a:lnTo>
                  <a:pt x="389" y="1867"/>
                </a:lnTo>
                <a:lnTo>
                  <a:pt x="399" y="1855"/>
                </a:lnTo>
                <a:lnTo>
                  <a:pt x="414" y="1835"/>
                </a:lnTo>
                <a:lnTo>
                  <a:pt x="422" y="1827"/>
                </a:lnTo>
                <a:lnTo>
                  <a:pt x="426" y="1825"/>
                </a:lnTo>
                <a:lnTo>
                  <a:pt x="430" y="1824"/>
                </a:lnTo>
                <a:lnTo>
                  <a:pt x="436" y="1824"/>
                </a:lnTo>
                <a:lnTo>
                  <a:pt x="441" y="1826"/>
                </a:lnTo>
                <a:lnTo>
                  <a:pt x="449" y="1829"/>
                </a:lnTo>
                <a:lnTo>
                  <a:pt x="464" y="1842"/>
                </a:lnTo>
                <a:lnTo>
                  <a:pt x="474" y="1850"/>
                </a:lnTo>
                <a:lnTo>
                  <a:pt x="478" y="1842"/>
                </a:lnTo>
                <a:lnTo>
                  <a:pt x="486" y="1819"/>
                </a:lnTo>
                <a:lnTo>
                  <a:pt x="503" y="1766"/>
                </a:lnTo>
                <a:lnTo>
                  <a:pt x="519" y="1718"/>
                </a:lnTo>
                <a:lnTo>
                  <a:pt x="524" y="1709"/>
                </a:lnTo>
                <a:lnTo>
                  <a:pt x="514" y="1692"/>
                </a:lnTo>
                <a:lnTo>
                  <a:pt x="496" y="1661"/>
                </a:lnTo>
                <a:lnTo>
                  <a:pt x="484" y="1638"/>
                </a:lnTo>
                <a:lnTo>
                  <a:pt x="479" y="1618"/>
                </a:lnTo>
                <a:lnTo>
                  <a:pt x="481" y="1608"/>
                </a:lnTo>
                <a:lnTo>
                  <a:pt x="485" y="1599"/>
                </a:lnTo>
                <a:lnTo>
                  <a:pt x="494" y="1591"/>
                </a:lnTo>
                <a:lnTo>
                  <a:pt x="507" y="1581"/>
                </a:lnTo>
                <a:lnTo>
                  <a:pt x="524" y="1571"/>
                </a:lnTo>
                <a:lnTo>
                  <a:pt x="523" y="1555"/>
                </a:lnTo>
                <a:lnTo>
                  <a:pt x="519" y="1522"/>
                </a:lnTo>
                <a:lnTo>
                  <a:pt x="503" y="1456"/>
                </a:lnTo>
                <a:lnTo>
                  <a:pt x="469" y="1396"/>
                </a:lnTo>
                <a:lnTo>
                  <a:pt x="458" y="1384"/>
                </a:lnTo>
                <a:lnTo>
                  <a:pt x="422" y="1416"/>
                </a:lnTo>
                <a:lnTo>
                  <a:pt x="366" y="1456"/>
                </a:lnTo>
                <a:lnTo>
                  <a:pt x="330" y="1475"/>
                </a:lnTo>
                <a:lnTo>
                  <a:pt x="308" y="1490"/>
                </a:lnTo>
                <a:lnTo>
                  <a:pt x="302" y="1500"/>
                </a:lnTo>
                <a:lnTo>
                  <a:pt x="297" y="1515"/>
                </a:lnTo>
                <a:lnTo>
                  <a:pt x="295" y="1535"/>
                </a:lnTo>
                <a:lnTo>
                  <a:pt x="294" y="1601"/>
                </a:lnTo>
                <a:lnTo>
                  <a:pt x="304" y="1622"/>
                </a:lnTo>
                <a:lnTo>
                  <a:pt x="315" y="1641"/>
                </a:lnTo>
                <a:lnTo>
                  <a:pt x="308" y="1630"/>
                </a:lnTo>
                <a:lnTo>
                  <a:pt x="294" y="1603"/>
                </a:lnTo>
                <a:lnTo>
                  <a:pt x="294" y="1601"/>
                </a:lnTo>
                <a:close/>
                <a:moveTo>
                  <a:pt x="1580" y="2176"/>
                </a:moveTo>
                <a:lnTo>
                  <a:pt x="1587" y="2169"/>
                </a:lnTo>
                <a:lnTo>
                  <a:pt x="1598" y="2151"/>
                </a:lnTo>
                <a:lnTo>
                  <a:pt x="1606" y="2132"/>
                </a:lnTo>
                <a:lnTo>
                  <a:pt x="1609" y="2113"/>
                </a:lnTo>
                <a:lnTo>
                  <a:pt x="1611" y="2077"/>
                </a:lnTo>
                <a:lnTo>
                  <a:pt x="1612" y="2068"/>
                </a:lnTo>
                <a:lnTo>
                  <a:pt x="1576" y="2071"/>
                </a:lnTo>
                <a:lnTo>
                  <a:pt x="1509" y="2084"/>
                </a:lnTo>
                <a:lnTo>
                  <a:pt x="1446" y="2103"/>
                </a:lnTo>
                <a:lnTo>
                  <a:pt x="1321" y="2121"/>
                </a:lnTo>
                <a:lnTo>
                  <a:pt x="1218" y="2083"/>
                </a:lnTo>
                <a:lnTo>
                  <a:pt x="1196" y="2093"/>
                </a:lnTo>
                <a:lnTo>
                  <a:pt x="1154" y="2105"/>
                </a:lnTo>
                <a:lnTo>
                  <a:pt x="1115" y="2112"/>
                </a:lnTo>
                <a:lnTo>
                  <a:pt x="1079" y="2122"/>
                </a:lnTo>
                <a:lnTo>
                  <a:pt x="1065" y="2130"/>
                </a:lnTo>
                <a:lnTo>
                  <a:pt x="1054" y="2142"/>
                </a:lnTo>
                <a:lnTo>
                  <a:pt x="1045" y="2159"/>
                </a:lnTo>
                <a:lnTo>
                  <a:pt x="1039" y="2180"/>
                </a:lnTo>
                <a:lnTo>
                  <a:pt x="1037" y="2206"/>
                </a:lnTo>
                <a:lnTo>
                  <a:pt x="1069" y="2233"/>
                </a:lnTo>
                <a:lnTo>
                  <a:pt x="1145" y="2279"/>
                </a:lnTo>
                <a:lnTo>
                  <a:pt x="1234" y="2317"/>
                </a:lnTo>
                <a:lnTo>
                  <a:pt x="1428" y="2387"/>
                </a:lnTo>
                <a:lnTo>
                  <a:pt x="1564" y="2440"/>
                </a:lnTo>
                <a:lnTo>
                  <a:pt x="1580" y="2421"/>
                </a:lnTo>
                <a:lnTo>
                  <a:pt x="1592" y="2402"/>
                </a:lnTo>
                <a:lnTo>
                  <a:pt x="1597" y="2384"/>
                </a:lnTo>
                <a:lnTo>
                  <a:pt x="1599" y="2365"/>
                </a:lnTo>
                <a:lnTo>
                  <a:pt x="1598" y="2346"/>
                </a:lnTo>
                <a:lnTo>
                  <a:pt x="1591" y="2305"/>
                </a:lnTo>
                <a:lnTo>
                  <a:pt x="1577" y="2206"/>
                </a:lnTo>
                <a:lnTo>
                  <a:pt x="1580" y="2176"/>
                </a:lnTo>
                <a:lnTo>
                  <a:pt x="1587" y="2170"/>
                </a:lnTo>
                <a:lnTo>
                  <a:pt x="1593" y="2164"/>
                </a:lnTo>
                <a:lnTo>
                  <a:pt x="1590" y="2167"/>
                </a:lnTo>
                <a:lnTo>
                  <a:pt x="1580" y="2176"/>
                </a:lnTo>
                <a:close/>
                <a:moveTo>
                  <a:pt x="168" y="729"/>
                </a:moveTo>
                <a:lnTo>
                  <a:pt x="169" y="735"/>
                </a:lnTo>
                <a:lnTo>
                  <a:pt x="170" y="737"/>
                </a:lnTo>
                <a:lnTo>
                  <a:pt x="172" y="738"/>
                </a:lnTo>
                <a:lnTo>
                  <a:pt x="174" y="739"/>
                </a:lnTo>
                <a:lnTo>
                  <a:pt x="177" y="740"/>
                </a:lnTo>
                <a:lnTo>
                  <a:pt x="181" y="740"/>
                </a:lnTo>
                <a:lnTo>
                  <a:pt x="188" y="739"/>
                </a:lnTo>
                <a:lnTo>
                  <a:pt x="197" y="736"/>
                </a:lnTo>
                <a:lnTo>
                  <a:pt x="218" y="727"/>
                </a:lnTo>
                <a:lnTo>
                  <a:pt x="271" y="699"/>
                </a:lnTo>
                <a:lnTo>
                  <a:pt x="376" y="633"/>
                </a:lnTo>
                <a:lnTo>
                  <a:pt x="411" y="618"/>
                </a:lnTo>
                <a:lnTo>
                  <a:pt x="415" y="623"/>
                </a:lnTo>
                <a:lnTo>
                  <a:pt x="423" y="627"/>
                </a:lnTo>
                <a:lnTo>
                  <a:pt x="443" y="639"/>
                </a:lnTo>
                <a:lnTo>
                  <a:pt x="496" y="657"/>
                </a:lnTo>
                <a:lnTo>
                  <a:pt x="542" y="665"/>
                </a:lnTo>
                <a:lnTo>
                  <a:pt x="558" y="691"/>
                </a:lnTo>
                <a:lnTo>
                  <a:pt x="590" y="733"/>
                </a:lnTo>
                <a:lnTo>
                  <a:pt x="648" y="805"/>
                </a:lnTo>
                <a:lnTo>
                  <a:pt x="686" y="898"/>
                </a:lnTo>
                <a:lnTo>
                  <a:pt x="691" y="930"/>
                </a:lnTo>
                <a:lnTo>
                  <a:pt x="695" y="957"/>
                </a:lnTo>
                <a:lnTo>
                  <a:pt x="710" y="985"/>
                </a:lnTo>
                <a:lnTo>
                  <a:pt x="733" y="1011"/>
                </a:lnTo>
                <a:lnTo>
                  <a:pt x="761" y="1038"/>
                </a:lnTo>
                <a:lnTo>
                  <a:pt x="830" y="1089"/>
                </a:lnTo>
                <a:lnTo>
                  <a:pt x="971" y="1175"/>
                </a:lnTo>
                <a:lnTo>
                  <a:pt x="1018" y="1210"/>
                </a:lnTo>
                <a:lnTo>
                  <a:pt x="1031" y="1223"/>
                </a:lnTo>
                <a:lnTo>
                  <a:pt x="1061" y="1254"/>
                </a:lnTo>
                <a:lnTo>
                  <a:pt x="1132" y="1316"/>
                </a:lnTo>
                <a:lnTo>
                  <a:pt x="1171" y="1335"/>
                </a:lnTo>
                <a:lnTo>
                  <a:pt x="1212" y="1340"/>
                </a:lnTo>
                <a:lnTo>
                  <a:pt x="1234" y="1335"/>
                </a:lnTo>
                <a:lnTo>
                  <a:pt x="1252" y="1340"/>
                </a:lnTo>
                <a:lnTo>
                  <a:pt x="1284" y="1353"/>
                </a:lnTo>
                <a:lnTo>
                  <a:pt x="1308" y="1370"/>
                </a:lnTo>
                <a:lnTo>
                  <a:pt x="1326" y="1390"/>
                </a:lnTo>
                <a:lnTo>
                  <a:pt x="1341" y="1416"/>
                </a:lnTo>
                <a:lnTo>
                  <a:pt x="1356" y="1444"/>
                </a:lnTo>
                <a:lnTo>
                  <a:pt x="1365" y="1460"/>
                </a:lnTo>
                <a:lnTo>
                  <a:pt x="1374" y="1468"/>
                </a:lnTo>
                <a:lnTo>
                  <a:pt x="1387" y="1474"/>
                </a:lnTo>
                <a:lnTo>
                  <a:pt x="1417" y="1485"/>
                </a:lnTo>
                <a:lnTo>
                  <a:pt x="1482" y="1499"/>
                </a:lnTo>
                <a:lnTo>
                  <a:pt x="1530" y="1507"/>
                </a:lnTo>
                <a:lnTo>
                  <a:pt x="1530" y="1519"/>
                </a:lnTo>
                <a:lnTo>
                  <a:pt x="1532" y="1539"/>
                </a:lnTo>
                <a:lnTo>
                  <a:pt x="1543" y="1576"/>
                </a:lnTo>
                <a:lnTo>
                  <a:pt x="1559" y="1607"/>
                </a:lnTo>
                <a:lnTo>
                  <a:pt x="1563" y="1615"/>
                </a:lnTo>
                <a:lnTo>
                  <a:pt x="1600" y="1619"/>
                </a:lnTo>
                <a:lnTo>
                  <a:pt x="1634" y="1631"/>
                </a:lnTo>
                <a:lnTo>
                  <a:pt x="1664" y="1648"/>
                </a:lnTo>
                <a:lnTo>
                  <a:pt x="1688" y="1672"/>
                </a:lnTo>
                <a:lnTo>
                  <a:pt x="1710" y="1699"/>
                </a:lnTo>
                <a:lnTo>
                  <a:pt x="1745" y="1763"/>
                </a:lnTo>
                <a:lnTo>
                  <a:pt x="1773" y="1833"/>
                </a:lnTo>
                <a:lnTo>
                  <a:pt x="1797" y="1898"/>
                </a:lnTo>
                <a:lnTo>
                  <a:pt x="1810" y="1926"/>
                </a:lnTo>
                <a:lnTo>
                  <a:pt x="1804" y="1927"/>
                </a:lnTo>
                <a:lnTo>
                  <a:pt x="1800" y="1929"/>
                </a:lnTo>
                <a:lnTo>
                  <a:pt x="1788" y="1935"/>
                </a:lnTo>
                <a:lnTo>
                  <a:pt x="1765" y="1950"/>
                </a:lnTo>
                <a:lnTo>
                  <a:pt x="1744" y="1958"/>
                </a:lnTo>
                <a:lnTo>
                  <a:pt x="1743" y="1967"/>
                </a:lnTo>
                <a:lnTo>
                  <a:pt x="1741" y="1986"/>
                </a:lnTo>
                <a:lnTo>
                  <a:pt x="1730" y="2032"/>
                </a:lnTo>
                <a:lnTo>
                  <a:pt x="1714" y="2075"/>
                </a:lnTo>
                <a:lnTo>
                  <a:pt x="1711" y="2083"/>
                </a:lnTo>
                <a:lnTo>
                  <a:pt x="1733" y="2091"/>
                </a:lnTo>
                <a:lnTo>
                  <a:pt x="1754" y="2090"/>
                </a:lnTo>
                <a:lnTo>
                  <a:pt x="1770" y="2083"/>
                </a:lnTo>
                <a:lnTo>
                  <a:pt x="1785" y="2070"/>
                </a:lnTo>
                <a:lnTo>
                  <a:pt x="1797" y="2053"/>
                </a:lnTo>
                <a:lnTo>
                  <a:pt x="1807" y="2032"/>
                </a:lnTo>
                <a:lnTo>
                  <a:pt x="1822" y="1987"/>
                </a:lnTo>
                <a:lnTo>
                  <a:pt x="1834" y="1944"/>
                </a:lnTo>
                <a:lnTo>
                  <a:pt x="1843" y="1911"/>
                </a:lnTo>
                <a:lnTo>
                  <a:pt x="1844" y="1904"/>
                </a:lnTo>
                <a:lnTo>
                  <a:pt x="1848" y="1896"/>
                </a:lnTo>
                <a:lnTo>
                  <a:pt x="1856" y="1889"/>
                </a:lnTo>
                <a:lnTo>
                  <a:pt x="1864" y="1880"/>
                </a:lnTo>
                <a:lnTo>
                  <a:pt x="1886" y="1866"/>
                </a:lnTo>
                <a:lnTo>
                  <a:pt x="1929" y="1843"/>
                </a:lnTo>
                <a:lnTo>
                  <a:pt x="1943" y="1834"/>
                </a:lnTo>
                <a:lnTo>
                  <a:pt x="1941" y="1826"/>
                </a:lnTo>
                <a:lnTo>
                  <a:pt x="1939" y="1810"/>
                </a:lnTo>
                <a:lnTo>
                  <a:pt x="1932" y="1780"/>
                </a:lnTo>
                <a:lnTo>
                  <a:pt x="1925" y="1748"/>
                </a:lnTo>
                <a:lnTo>
                  <a:pt x="1925" y="1740"/>
                </a:lnTo>
                <a:lnTo>
                  <a:pt x="1916" y="1740"/>
                </a:lnTo>
                <a:lnTo>
                  <a:pt x="1906" y="1737"/>
                </a:lnTo>
                <a:lnTo>
                  <a:pt x="1885" y="1728"/>
                </a:lnTo>
                <a:lnTo>
                  <a:pt x="1840" y="1701"/>
                </a:lnTo>
                <a:lnTo>
                  <a:pt x="1810" y="1678"/>
                </a:lnTo>
                <a:lnTo>
                  <a:pt x="1810" y="1665"/>
                </a:lnTo>
                <a:lnTo>
                  <a:pt x="1817" y="1634"/>
                </a:lnTo>
                <a:lnTo>
                  <a:pt x="1847" y="1561"/>
                </a:lnTo>
                <a:lnTo>
                  <a:pt x="1884" y="1501"/>
                </a:lnTo>
                <a:lnTo>
                  <a:pt x="1893" y="1491"/>
                </a:lnTo>
                <a:lnTo>
                  <a:pt x="1914" y="1493"/>
                </a:lnTo>
                <a:lnTo>
                  <a:pt x="1961" y="1504"/>
                </a:lnTo>
                <a:lnTo>
                  <a:pt x="2010" y="1526"/>
                </a:lnTo>
                <a:lnTo>
                  <a:pt x="2098" y="1583"/>
                </a:lnTo>
                <a:lnTo>
                  <a:pt x="2140" y="1631"/>
                </a:lnTo>
                <a:lnTo>
                  <a:pt x="2148" y="1608"/>
                </a:lnTo>
                <a:lnTo>
                  <a:pt x="2150" y="1587"/>
                </a:lnTo>
                <a:lnTo>
                  <a:pt x="2146" y="1568"/>
                </a:lnTo>
                <a:lnTo>
                  <a:pt x="2138" y="1548"/>
                </a:lnTo>
                <a:lnTo>
                  <a:pt x="2125" y="1531"/>
                </a:lnTo>
                <a:lnTo>
                  <a:pt x="2109" y="1515"/>
                </a:lnTo>
                <a:lnTo>
                  <a:pt x="2069" y="1486"/>
                </a:lnTo>
                <a:lnTo>
                  <a:pt x="2028" y="1463"/>
                </a:lnTo>
                <a:lnTo>
                  <a:pt x="1991" y="1444"/>
                </a:lnTo>
                <a:lnTo>
                  <a:pt x="1968" y="1436"/>
                </a:lnTo>
                <a:lnTo>
                  <a:pt x="1916" y="1414"/>
                </a:lnTo>
                <a:lnTo>
                  <a:pt x="1796" y="1358"/>
                </a:lnTo>
                <a:lnTo>
                  <a:pt x="1683" y="1302"/>
                </a:lnTo>
                <a:lnTo>
                  <a:pt x="1662" y="1289"/>
                </a:lnTo>
                <a:lnTo>
                  <a:pt x="1662" y="1284"/>
                </a:lnTo>
                <a:lnTo>
                  <a:pt x="1664" y="1279"/>
                </a:lnTo>
                <a:lnTo>
                  <a:pt x="1670" y="1265"/>
                </a:lnTo>
                <a:lnTo>
                  <a:pt x="1691" y="1235"/>
                </a:lnTo>
                <a:lnTo>
                  <a:pt x="1711" y="1210"/>
                </a:lnTo>
                <a:lnTo>
                  <a:pt x="1694" y="1204"/>
                </a:lnTo>
                <a:lnTo>
                  <a:pt x="1664" y="1198"/>
                </a:lnTo>
                <a:lnTo>
                  <a:pt x="1634" y="1197"/>
                </a:lnTo>
                <a:lnTo>
                  <a:pt x="1576" y="1200"/>
                </a:lnTo>
                <a:lnTo>
                  <a:pt x="1530" y="1195"/>
                </a:lnTo>
                <a:lnTo>
                  <a:pt x="1493" y="1186"/>
                </a:lnTo>
                <a:lnTo>
                  <a:pt x="1428" y="1156"/>
                </a:lnTo>
                <a:lnTo>
                  <a:pt x="1372" y="1114"/>
                </a:lnTo>
                <a:lnTo>
                  <a:pt x="1327" y="1064"/>
                </a:lnTo>
                <a:lnTo>
                  <a:pt x="1294" y="1007"/>
                </a:lnTo>
                <a:lnTo>
                  <a:pt x="1272" y="946"/>
                </a:lnTo>
                <a:lnTo>
                  <a:pt x="1267" y="915"/>
                </a:lnTo>
                <a:lnTo>
                  <a:pt x="1253" y="875"/>
                </a:lnTo>
                <a:lnTo>
                  <a:pt x="1229" y="841"/>
                </a:lnTo>
                <a:lnTo>
                  <a:pt x="1200" y="811"/>
                </a:lnTo>
                <a:lnTo>
                  <a:pt x="1130" y="758"/>
                </a:lnTo>
                <a:lnTo>
                  <a:pt x="1060" y="707"/>
                </a:lnTo>
                <a:lnTo>
                  <a:pt x="1011" y="649"/>
                </a:lnTo>
                <a:lnTo>
                  <a:pt x="1000" y="613"/>
                </a:lnTo>
                <a:lnTo>
                  <a:pt x="1002" y="573"/>
                </a:lnTo>
                <a:lnTo>
                  <a:pt x="1018" y="525"/>
                </a:lnTo>
                <a:lnTo>
                  <a:pt x="1014" y="518"/>
                </a:lnTo>
                <a:lnTo>
                  <a:pt x="1006" y="502"/>
                </a:lnTo>
                <a:lnTo>
                  <a:pt x="993" y="465"/>
                </a:lnTo>
                <a:lnTo>
                  <a:pt x="987" y="416"/>
                </a:lnTo>
                <a:lnTo>
                  <a:pt x="987" y="401"/>
                </a:lnTo>
                <a:lnTo>
                  <a:pt x="999" y="391"/>
                </a:lnTo>
                <a:lnTo>
                  <a:pt x="1028" y="370"/>
                </a:lnTo>
                <a:lnTo>
                  <a:pt x="1092" y="331"/>
                </a:lnTo>
                <a:lnTo>
                  <a:pt x="1153" y="290"/>
                </a:lnTo>
                <a:lnTo>
                  <a:pt x="1167" y="278"/>
                </a:lnTo>
                <a:lnTo>
                  <a:pt x="1175" y="285"/>
                </a:lnTo>
                <a:lnTo>
                  <a:pt x="1193" y="296"/>
                </a:lnTo>
                <a:lnTo>
                  <a:pt x="1210" y="304"/>
                </a:lnTo>
                <a:lnTo>
                  <a:pt x="1247" y="311"/>
                </a:lnTo>
                <a:lnTo>
                  <a:pt x="1272" y="312"/>
                </a:lnTo>
                <a:lnTo>
                  <a:pt x="1263" y="290"/>
                </a:lnTo>
                <a:lnTo>
                  <a:pt x="1237" y="220"/>
                </a:lnTo>
                <a:lnTo>
                  <a:pt x="1218" y="166"/>
                </a:lnTo>
                <a:lnTo>
                  <a:pt x="1217" y="163"/>
                </a:lnTo>
                <a:lnTo>
                  <a:pt x="1210" y="160"/>
                </a:lnTo>
                <a:lnTo>
                  <a:pt x="1173" y="137"/>
                </a:lnTo>
                <a:lnTo>
                  <a:pt x="1041" y="62"/>
                </a:lnTo>
                <a:lnTo>
                  <a:pt x="941" y="4"/>
                </a:lnTo>
                <a:lnTo>
                  <a:pt x="936" y="0"/>
                </a:lnTo>
                <a:lnTo>
                  <a:pt x="931" y="2"/>
                </a:lnTo>
                <a:lnTo>
                  <a:pt x="910" y="14"/>
                </a:lnTo>
                <a:lnTo>
                  <a:pt x="833" y="57"/>
                </a:lnTo>
                <a:lnTo>
                  <a:pt x="775" y="89"/>
                </a:lnTo>
                <a:lnTo>
                  <a:pt x="771" y="90"/>
                </a:lnTo>
                <a:lnTo>
                  <a:pt x="769" y="90"/>
                </a:lnTo>
                <a:lnTo>
                  <a:pt x="758" y="88"/>
                </a:lnTo>
                <a:lnTo>
                  <a:pt x="719" y="81"/>
                </a:lnTo>
                <a:lnTo>
                  <a:pt x="689" y="75"/>
                </a:lnTo>
                <a:lnTo>
                  <a:pt x="688" y="74"/>
                </a:lnTo>
                <a:lnTo>
                  <a:pt x="661" y="85"/>
                </a:lnTo>
                <a:lnTo>
                  <a:pt x="632" y="105"/>
                </a:lnTo>
                <a:lnTo>
                  <a:pt x="626" y="113"/>
                </a:lnTo>
                <a:lnTo>
                  <a:pt x="624" y="121"/>
                </a:lnTo>
                <a:lnTo>
                  <a:pt x="622" y="128"/>
                </a:lnTo>
                <a:lnTo>
                  <a:pt x="619" y="142"/>
                </a:lnTo>
                <a:lnTo>
                  <a:pt x="614" y="148"/>
                </a:lnTo>
                <a:lnTo>
                  <a:pt x="603" y="156"/>
                </a:lnTo>
                <a:lnTo>
                  <a:pt x="586" y="164"/>
                </a:lnTo>
                <a:lnTo>
                  <a:pt x="561" y="171"/>
                </a:lnTo>
                <a:lnTo>
                  <a:pt x="555" y="159"/>
                </a:lnTo>
                <a:lnTo>
                  <a:pt x="541" y="140"/>
                </a:lnTo>
                <a:lnTo>
                  <a:pt x="525" y="129"/>
                </a:lnTo>
                <a:lnTo>
                  <a:pt x="508" y="124"/>
                </a:lnTo>
                <a:lnTo>
                  <a:pt x="494" y="122"/>
                </a:lnTo>
                <a:lnTo>
                  <a:pt x="483" y="122"/>
                </a:lnTo>
                <a:lnTo>
                  <a:pt x="481" y="122"/>
                </a:lnTo>
                <a:lnTo>
                  <a:pt x="480" y="125"/>
                </a:lnTo>
                <a:lnTo>
                  <a:pt x="472" y="141"/>
                </a:lnTo>
                <a:lnTo>
                  <a:pt x="449" y="198"/>
                </a:lnTo>
                <a:lnTo>
                  <a:pt x="429" y="242"/>
                </a:lnTo>
                <a:lnTo>
                  <a:pt x="429" y="244"/>
                </a:lnTo>
                <a:lnTo>
                  <a:pt x="427" y="242"/>
                </a:lnTo>
                <a:lnTo>
                  <a:pt x="415" y="226"/>
                </a:lnTo>
                <a:lnTo>
                  <a:pt x="377" y="169"/>
                </a:lnTo>
                <a:lnTo>
                  <a:pt x="347" y="126"/>
                </a:lnTo>
                <a:lnTo>
                  <a:pt x="346" y="123"/>
                </a:lnTo>
                <a:lnTo>
                  <a:pt x="345" y="124"/>
                </a:lnTo>
                <a:lnTo>
                  <a:pt x="338" y="127"/>
                </a:lnTo>
                <a:lnTo>
                  <a:pt x="317" y="139"/>
                </a:lnTo>
                <a:lnTo>
                  <a:pt x="300" y="148"/>
                </a:lnTo>
                <a:lnTo>
                  <a:pt x="300" y="151"/>
                </a:lnTo>
                <a:lnTo>
                  <a:pt x="300" y="160"/>
                </a:lnTo>
                <a:lnTo>
                  <a:pt x="300" y="193"/>
                </a:lnTo>
                <a:lnTo>
                  <a:pt x="300" y="219"/>
                </a:lnTo>
                <a:lnTo>
                  <a:pt x="300" y="220"/>
                </a:lnTo>
                <a:lnTo>
                  <a:pt x="294" y="221"/>
                </a:lnTo>
                <a:lnTo>
                  <a:pt x="257" y="226"/>
                </a:lnTo>
                <a:lnTo>
                  <a:pt x="132" y="244"/>
                </a:lnTo>
                <a:lnTo>
                  <a:pt x="36" y="258"/>
                </a:lnTo>
                <a:lnTo>
                  <a:pt x="32" y="258"/>
                </a:lnTo>
                <a:lnTo>
                  <a:pt x="34" y="263"/>
                </a:lnTo>
                <a:lnTo>
                  <a:pt x="49" y="284"/>
                </a:lnTo>
                <a:lnTo>
                  <a:pt x="102" y="357"/>
                </a:lnTo>
                <a:lnTo>
                  <a:pt x="143" y="413"/>
                </a:lnTo>
                <a:lnTo>
                  <a:pt x="146" y="416"/>
                </a:lnTo>
                <a:lnTo>
                  <a:pt x="144" y="417"/>
                </a:lnTo>
                <a:lnTo>
                  <a:pt x="130" y="425"/>
                </a:lnTo>
                <a:lnTo>
                  <a:pt x="85" y="446"/>
                </a:lnTo>
                <a:lnTo>
                  <a:pt x="50" y="463"/>
                </a:lnTo>
                <a:lnTo>
                  <a:pt x="49" y="463"/>
                </a:lnTo>
                <a:lnTo>
                  <a:pt x="50" y="465"/>
                </a:lnTo>
                <a:lnTo>
                  <a:pt x="58" y="473"/>
                </a:lnTo>
                <a:lnTo>
                  <a:pt x="88" y="503"/>
                </a:lnTo>
                <a:lnTo>
                  <a:pt x="111" y="524"/>
                </a:lnTo>
                <a:lnTo>
                  <a:pt x="113" y="525"/>
                </a:lnTo>
                <a:lnTo>
                  <a:pt x="94" y="527"/>
                </a:lnTo>
                <a:lnTo>
                  <a:pt x="62" y="531"/>
                </a:lnTo>
                <a:lnTo>
                  <a:pt x="18" y="536"/>
                </a:lnTo>
                <a:lnTo>
                  <a:pt x="10" y="539"/>
                </a:lnTo>
                <a:lnTo>
                  <a:pt x="5" y="542"/>
                </a:lnTo>
                <a:lnTo>
                  <a:pt x="2" y="546"/>
                </a:lnTo>
                <a:lnTo>
                  <a:pt x="0" y="550"/>
                </a:lnTo>
                <a:lnTo>
                  <a:pt x="0" y="556"/>
                </a:lnTo>
                <a:lnTo>
                  <a:pt x="0" y="558"/>
                </a:lnTo>
                <a:lnTo>
                  <a:pt x="3" y="572"/>
                </a:lnTo>
                <a:lnTo>
                  <a:pt x="10" y="618"/>
                </a:lnTo>
                <a:lnTo>
                  <a:pt x="15" y="654"/>
                </a:lnTo>
                <a:lnTo>
                  <a:pt x="17" y="655"/>
                </a:lnTo>
                <a:lnTo>
                  <a:pt x="18" y="657"/>
                </a:lnTo>
                <a:lnTo>
                  <a:pt x="29" y="668"/>
                </a:lnTo>
                <a:lnTo>
                  <a:pt x="68" y="707"/>
                </a:lnTo>
                <a:lnTo>
                  <a:pt x="98" y="736"/>
                </a:lnTo>
                <a:lnTo>
                  <a:pt x="100" y="737"/>
                </a:lnTo>
                <a:lnTo>
                  <a:pt x="101" y="737"/>
                </a:lnTo>
                <a:lnTo>
                  <a:pt x="110" y="736"/>
                </a:lnTo>
                <a:lnTo>
                  <a:pt x="142" y="733"/>
                </a:lnTo>
                <a:lnTo>
                  <a:pt x="166" y="730"/>
                </a:lnTo>
                <a:lnTo>
                  <a:pt x="168" y="729"/>
                </a:lnTo>
                <a:lnTo>
                  <a:pt x="168" y="740"/>
                </a:lnTo>
                <a:lnTo>
                  <a:pt x="168" y="752"/>
                </a:lnTo>
                <a:lnTo>
                  <a:pt x="168" y="745"/>
                </a:lnTo>
                <a:lnTo>
                  <a:pt x="168" y="730"/>
                </a:lnTo>
                <a:lnTo>
                  <a:pt x="168" y="729"/>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76"/>
          <p:cNvSpPr/>
          <p:nvPr/>
        </p:nvSpPr>
        <p:spPr>
          <a:xfrm>
            <a:off x="2766960" y="5773680"/>
            <a:ext cx="182520" cy="406440"/>
          </a:xfrm>
          <a:custGeom>
            <a:avLst/>
            <a:gdLst>
              <a:gd name="textAreaLeft" fmla="*/ 0 w 182520"/>
              <a:gd name="textAreaRight" fmla="*/ 182880 w 182520"/>
              <a:gd name="textAreaTop" fmla="*/ 0 h 406440"/>
              <a:gd name="textAreaBottom" fmla="*/ 406800 h 406440"/>
            </a:gdLst>
            <a:ahLst/>
            <a:rect l="textAreaLeft" t="textAreaTop" r="textAreaRight" b="textAreaBottom"/>
            <a:pathLst>
              <a:path w="230" h="512">
                <a:moveTo>
                  <a:pt x="0" y="217"/>
                </a:moveTo>
                <a:lnTo>
                  <a:pt x="10" y="242"/>
                </a:lnTo>
                <a:lnTo>
                  <a:pt x="19" y="292"/>
                </a:lnTo>
                <a:lnTo>
                  <a:pt x="17" y="345"/>
                </a:lnTo>
                <a:lnTo>
                  <a:pt x="7" y="447"/>
                </a:lnTo>
                <a:lnTo>
                  <a:pt x="16" y="512"/>
                </a:lnTo>
                <a:lnTo>
                  <a:pt x="43" y="510"/>
                </a:lnTo>
                <a:lnTo>
                  <a:pt x="65" y="504"/>
                </a:lnTo>
                <a:lnTo>
                  <a:pt x="82" y="494"/>
                </a:lnTo>
                <a:lnTo>
                  <a:pt x="95" y="483"/>
                </a:lnTo>
                <a:lnTo>
                  <a:pt x="105" y="471"/>
                </a:lnTo>
                <a:lnTo>
                  <a:pt x="120" y="451"/>
                </a:lnTo>
                <a:lnTo>
                  <a:pt x="128" y="443"/>
                </a:lnTo>
                <a:lnTo>
                  <a:pt x="132" y="441"/>
                </a:lnTo>
                <a:lnTo>
                  <a:pt x="136" y="440"/>
                </a:lnTo>
                <a:lnTo>
                  <a:pt x="142" y="440"/>
                </a:lnTo>
                <a:lnTo>
                  <a:pt x="147" y="442"/>
                </a:lnTo>
                <a:lnTo>
                  <a:pt x="155" y="445"/>
                </a:lnTo>
                <a:lnTo>
                  <a:pt x="170" y="458"/>
                </a:lnTo>
                <a:lnTo>
                  <a:pt x="180" y="466"/>
                </a:lnTo>
                <a:lnTo>
                  <a:pt x="184" y="458"/>
                </a:lnTo>
                <a:lnTo>
                  <a:pt x="192" y="435"/>
                </a:lnTo>
                <a:lnTo>
                  <a:pt x="209" y="382"/>
                </a:lnTo>
                <a:lnTo>
                  <a:pt x="225" y="334"/>
                </a:lnTo>
                <a:lnTo>
                  <a:pt x="230" y="325"/>
                </a:lnTo>
                <a:lnTo>
                  <a:pt x="220" y="308"/>
                </a:lnTo>
                <a:lnTo>
                  <a:pt x="202" y="277"/>
                </a:lnTo>
                <a:lnTo>
                  <a:pt x="190" y="254"/>
                </a:lnTo>
                <a:lnTo>
                  <a:pt x="185" y="234"/>
                </a:lnTo>
                <a:lnTo>
                  <a:pt x="187" y="224"/>
                </a:lnTo>
                <a:lnTo>
                  <a:pt x="191" y="215"/>
                </a:lnTo>
                <a:lnTo>
                  <a:pt x="200" y="207"/>
                </a:lnTo>
                <a:lnTo>
                  <a:pt x="213" y="197"/>
                </a:lnTo>
                <a:lnTo>
                  <a:pt x="230" y="187"/>
                </a:lnTo>
                <a:lnTo>
                  <a:pt x="229" y="171"/>
                </a:lnTo>
                <a:lnTo>
                  <a:pt x="225" y="138"/>
                </a:lnTo>
                <a:lnTo>
                  <a:pt x="209" y="72"/>
                </a:lnTo>
                <a:lnTo>
                  <a:pt x="175" y="12"/>
                </a:lnTo>
                <a:lnTo>
                  <a:pt x="164" y="0"/>
                </a:lnTo>
                <a:lnTo>
                  <a:pt x="128" y="32"/>
                </a:lnTo>
                <a:lnTo>
                  <a:pt x="72" y="72"/>
                </a:lnTo>
                <a:lnTo>
                  <a:pt x="36" y="91"/>
                </a:lnTo>
                <a:lnTo>
                  <a:pt x="14" y="106"/>
                </a:lnTo>
                <a:lnTo>
                  <a:pt x="8" y="116"/>
                </a:lnTo>
                <a:lnTo>
                  <a:pt x="3" y="131"/>
                </a:lnTo>
                <a:lnTo>
                  <a:pt x="1" y="151"/>
                </a:lnTo>
                <a:lnTo>
                  <a:pt x="0" y="217"/>
                </a:lnTo>
                <a:lnTo>
                  <a:pt x="10" y="238"/>
                </a:lnTo>
                <a:lnTo>
                  <a:pt x="21" y="257"/>
                </a:lnTo>
                <a:lnTo>
                  <a:pt x="14" y="246"/>
                </a:lnTo>
                <a:lnTo>
                  <a:pt x="0" y="219"/>
                </a:lnTo>
                <a:lnTo>
                  <a:pt x="0" y="217"/>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77"/>
          <p:cNvSpPr/>
          <p:nvPr/>
        </p:nvSpPr>
        <p:spPr>
          <a:xfrm>
            <a:off x="3357720" y="6316560"/>
            <a:ext cx="455400" cy="295200"/>
          </a:xfrm>
          <a:custGeom>
            <a:avLst/>
            <a:gdLst>
              <a:gd name="textAreaLeft" fmla="*/ 0 w 455400"/>
              <a:gd name="textAreaRight" fmla="*/ 455760 w 455400"/>
              <a:gd name="textAreaTop" fmla="*/ 0 h 295200"/>
              <a:gd name="textAreaBottom" fmla="*/ 295560 h 295200"/>
            </a:gdLst>
            <a:ahLst/>
            <a:rect l="textAreaLeft" t="textAreaTop" r="textAreaRight" b="textAreaBottom"/>
            <a:pathLst>
              <a:path w="575" h="372">
                <a:moveTo>
                  <a:pt x="543" y="108"/>
                </a:moveTo>
                <a:lnTo>
                  <a:pt x="550" y="101"/>
                </a:lnTo>
                <a:lnTo>
                  <a:pt x="561" y="83"/>
                </a:lnTo>
                <a:lnTo>
                  <a:pt x="569" y="64"/>
                </a:lnTo>
                <a:lnTo>
                  <a:pt x="572" y="45"/>
                </a:lnTo>
                <a:lnTo>
                  <a:pt x="574" y="9"/>
                </a:lnTo>
                <a:lnTo>
                  <a:pt x="575" y="0"/>
                </a:lnTo>
                <a:lnTo>
                  <a:pt x="539" y="3"/>
                </a:lnTo>
                <a:lnTo>
                  <a:pt x="472" y="16"/>
                </a:lnTo>
                <a:lnTo>
                  <a:pt x="409" y="35"/>
                </a:lnTo>
                <a:lnTo>
                  <a:pt x="284" y="53"/>
                </a:lnTo>
                <a:lnTo>
                  <a:pt x="181" y="15"/>
                </a:lnTo>
                <a:lnTo>
                  <a:pt x="159" y="25"/>
                </a:lnTo>
                <a:lnTo>
                  <a:pt x="117" y="37"/>
                </a:lnTo>
                <a:lnTo>
                  <a:pt x="78" y="44"/>
                </a:lnTo>
                <a:lnTo>
                  <a:pt x="42" y="54"/>
                </a:lnTo>
                <a:lnTo>
                  <a:pt x="28" y="62"/>
                </a:lnTo>
                <a:lnTo>
                  <a:pt x="17" y="74"/>
                </a:lnTo>
                <a:lnTo>
                  <a:pt x="8" y="91"/>
                </a:lnTo>
                <a:lnTo>
                  <a:pt x="2" y="112"/>
                </a:lnTo>
                <a:lnTo>
                  <a:pt x="0" y="138"/>
                </a:lnTo>
                <a:lnTo>
                  <a:pt x="32" y="165"/>
                </a:lnTo>
                <a:lnTo>
                  <a:pt x="108" y="211"/>
                </a:lnTo>
                <a:lnTo>
                  <a:pt x="197" y="249"/>
                </a:lnTo>
                <a:lnTo>
                  <a:pt x="391" y="319"/>
                </a:lnTo>
                <a:lnTo>
                  <a:pt x="527" y="372"/>
                </a:lnTo>
                <a:lnTo>
                  <a:pt x="543" y="353"/>
                </a:lnTo>
                <a:lnTo>
                  <a:pt x="555" y="334"/>
                </a:lnTo>
                <a:lnTo>
                  <a:pt x="560" y="316"/>
                </a:lnTo>
                <a:lnTo>
                  <a:pt x="562" y="297"/>
                </a:lnTo>
                <a:lnTo>
                  <a:pt x="561" y="278"/>
                </a:lnTo>
                <a:lnTo>
                  <a:pt x="554" y="237"/>
                </a:lnTo>
                <a:lnTo>
                  <a:pt x="540" y="138"/>
                </a:lnTo>
                <a:lnTo>
                  <a:pt x="543" y="108"/>
                </a:lnTo>
                <a:lnTo>
                  <a:pt x="550" y="102"/>
                </a:lnTo>
                <a:lnTo>
                  <a:pt x="556" y="96"/>
                </a:lnTo>
                <a:lnTo>
                  <a:pt x="553" y="99"/>
                </a:lnTo>
                <a:lnTo>
                  <a:pt x="543" y="108"/>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78"/>
          <p:cNvSpPr/>
          <p:nvPr/>
        </p:nvSpPr>
        <p:spPr>
          <a:xfrm>
            <a:off x="2533680" y="4675320"/>
            <a:ext cx="1706400" cy="1660320"/>
          </a:xfrm>
          <a:custGeom>
            <a:avLst/>
            <a:gdLst>
              <a:gd name="textAreaLeft" fmla="*/ 0 w 1706400"/>
              <a:gd name="textAreaRight" fmla="*/ 1706760 w 1706400"/>
              <a:gd name="textAreaTop" fmla="*/ 0 h 1660320"/>
              <a:gd name="textAreaBottom" fmla="*/ 1660680 h 1660320"/>
            </a:gdLst>
            <a:ahLst/>
            <a:rect l="textAreaLeft" t="textAreaTop" r="textAreaRight" b="textAreaBottom"/>
            <a:pathLst>
              <a:path w="2150" h="2091">
                <a:moveTo>
                  <a:pt x="168" y="729"/>
                </a:moveTo>
                <a:lnTo>
                  <a:pt x="169" y="735"/>
                </a:lnTo>
                <a:lnTo>
                  <a:pt x="170" y="737"/>
                </a:lnTo>
                <a:lnTo>
                  <a:pt x="172" y="738"/>
                </a:lnTo>
                <a:lnTo>
                  <a:pt x="174" y="739"/>
                </a:lnTo>
                <a:lnTo>
                  <a:pt x="177" y="740"/>
                </a:lnTo>
                <a:lnTo>
                  <a:pt x="181" y="740"/>
                </a:lnTo>
                <a:lnTo>
                  <a:pt x="188" y="739"/>
                </a:lnTo>
                <a:lnTo>
                  <a:pt x="197" y="736"/>
                </a:lnTo>
                <a:lnTo>
                  <a:pt x="218" y="727"/>
                </a:lnTo>
                <a:lnTo>
                  <a:pt x="271" y="699"/>
                </a:lnTo>
                <a:lnTo>
                  <a:pt x="376" y="633"/>
                </a:lnTo>
                <a:lnTo>
                  <a:pt x="411" y="618"/>
                </a:lnTo>
                <a:lnTo>
                  <a:pt x="415" y="623"/>
                </a:lnTo>
                <a:lnTo>
                  <a:pt x="423" y="627"/>
                </a:lnTo>
                <a:lnTo>
                  <a:pt x="443" y="639"/>
                </a:lnTo>
                <a:lnTo>
                  <a:pt x="496" y="657"/>
                </a:lnTo>
                <a:lnTo>
                  <a:pt x="542" y="665"/>
                </a:lnTo>
                <a:lnTo>
                  <a:pt x="558" y="691"/>
                </a:lnTo>
                <a:lnTo>
                  <a:pt x="590" y="733"/>
                </a:lnTo>
                <a:lnTo>
                  <a:pt x="648" y="805"/>
                </a:lnTo>
                <a:lnTo>
                  <a:pt x="686" y="898"/>
                </a:lnTo>
                <a:lnTo>
                  <a:pt x="691" y="930"/>
                </a:lnTo>
                <a:lnTo>
                  <a:pt x="695" y="957"/>
                </a:lnTo>
                <a:lnTo>
                  <a:pt x="710" y="985"/>
                </a:lnTo>
                <a:lnTo>
                  <a:pt x="733" y="1011"/>
                </a:lnTo>
                <a:lnTo>
                  <a:pt x="761" y="1038"/>
                </a:lnTo>
                <a:lnTo>
                  <a:pt x="830" y="1089"/>
                </a:lnTo>
                <a:lnTo>
                  <a:pt x="971" y="1175"/>
                </a:lnTo>
                <a:lnTo>
                  <a:pt x="1018" y="1210"/>
                </a:lnTo>
                <a:lnTo>
                  <a:pt x="1031" y="1223"/>
                </a:lnTo>
                <a:lnTo>
                  <a:pt x="1061" y="1254"/>
                </a:lnTo>
                <a:lnTo>
                  <a:pt x="1132" y="1316"/>
                </a:lnTo>
                <a:lnTo>
                  <a:pt x="1171" y="1335"/>
                </a:lnTo>
                <a:lnTo>
                  <a:pt x="1212" y="1340"/>
                </a:lnTo>
                <a:lnTo>
                  <a:pt x="1234" y="1335"/>
                </a:lnTo>
                <a:lnTo>
                  <a:pt x="1252" y="1340"/>
                </a:lnTo>
                <a:lnTo>
                  <a:pt x="1284" y="1353"/>
                </a:lnTo>
                <a:lnTo>
                  <a:pt x="1308" y="1370"/>
                </a:lnTo>
                <a:lnTo>
                  <a:pt x="1326" y="1390"/>
                </a:lnTo>
                <a:lnTo>
                  <a:pt x="1341" y="1416"/>
                </a:lnTo>
                <a:lnTo>
                  <a:pt x="1356" y="1444"/>
                </a:lnTo>
                <a:lnTo>
                  <a:pt x="1365" y="1460"/>
                </a:lnTo>
                <a:lnTo>
                  <a:pt x="1374" y="1468"/>
                </a:lnTo>
                <a:lnTo>
                  <a:pt x="1387" y="1474"/>
                </a:lnTo>
                <a:lnTo>
                  <a:pt x="1417" y="1485"/>
                </a:lnTo>
                <a:lnTo>
                  <a:pt x="1482" y="1499"/>
                </a:lnTo>
                <a:lnTo>
                  <a:pt x="1530" y="1507"/>
                </a:lnTo>
                <a:lnTo>
                  <a:pt x="1530" y="1519"/>
                </a:lnTo>
                <a:lnTo>
                  <a:pt x="1532" y="1539"/>
                </a:lnTo>
                <a:lnTo>
                  <a:pt x="1543" y="1576"/>
                </a:lnTo>
                <a:lnTo>
                  <a:pt x="1559" y="1607"/>
                </a:lnTo>
                <a:lnTo>
                  <a:pt x="1563" y="1615"/>
                </a:lnTo>
                <a:lnTo>
                  <a:pt x="1600" y="1619"/>
                </a:lnTo>
                <a:lnTo>
                  <a:pt x="1634" y="1631"/>
                </a:lnTo>
                <a:lnTo>
                  <a:pt x="1664" y="1648"/>
                </a:lnTo>
                <a:lnTo>
                  <a:pt x="1688" y="1672"/>
                </a:lnTo>
                <a:lnTo>
                  <a:pt x="1710" y="1699"/>
                </a:lnTo>
                <a:lnTo>
                  <a:pt x="1745" y="1763"/>
                </a:lnTo>
                <a:lnTo>
                  <a:pt x="1773" y="1833"/>
                </a:lnTo>
                <a:lnTo>
                  <a:pt x="1797" y="1898"/>
                </a:lnTo>
                <a:lnTo>
                  <a:pt x="1810" y="1926"/>
                </a:lnTo>
                <a:lnTo>
                  <a:pt x="1804" y="1927"/>
                </a:lnTo>
                <a:lnTo>
                  <a:pt x="1800" y="1929"/>
                </a:lnTo>
                <a:lnTo>
                  <a:pt x="1788" y="1935"/>
                </a:lnTo>
                <a:lnTo>
                  <a:pt x="1765" y="1950"/>
                </a:lnTo>
                <a:lnTo>
                  <a:pt x="1744" y="1958"/>
                </a:lnTo>
                <a:lnTo>
                  <a:pt x="1743" y="1967"/>
                </a:lnTo>
                <a:lnTo>
                  <a:pt x="1741" y="1986"/>
                </a:lnTo>
                <a:lnTo>
                  <a:pt x="1730" y="2032"/>
                </a:lnTo>
                <a:lnTo>
                  <a:pt x="1714" y="2075"/>
                </a:lnTo>
                <a:lnTo>
                  <a:pt x="1711" y="2083"/>
                </a:lnTo>
                <a:lnTo>
                  <a:pt x="1733" y="2091"/>
                </a:lnTo>
                <a:lnTo>
                  <a:pt x="1754" y="2090"/>
                </a:lnTo>
                <a:lnTo>
                  <a:pt x="1770" y="2083"/>
                </a:lnTo>
                <a:lnTo>
                  <a:pt x="1785" y="2070"/>
                </a:lnTo>
                <a:lnTo>
                  <a:pt x="1797" y="2053"/>
                </a:lnTo>
                <a:lnTo>
                  <a:pt x="1807" y="2032"/>
                </a:lnTo>
                <a:lnTo>
                  <a:pt x="1822" y="1987"/>
                </a:lnTo>
                <a:lnTo>
                  <a:pt x="1834" y="1944"/>
                </a:lnTo>
                <a:lnTo>
                  <a:pt x="1843" y="1911"/>
                </a:lnTo>
                <a:lnTo>
                  <a:pt x="1844" y="1904"/>
                </a:lnTo>
                <a:lnTo>
                  <a:pt x="1848" y="1896"/>
                </a:lnTo>
                <a:lnTo>
                  <a:pt x="1856" y="1889"/>
                </a:lnTo>
                <a:lnTo>
                  <a:pt x="1864" y="1880"/>
                </a:lnTo>
                <a:lnTo>
                  <a:pt x="1886" y="1866"/>
                </a:lnTo>
                <a:lnTo>
                  <a:pt x="1929" y="1843"/>
                </a:lnTo>
                <a:lnTo>
                  <a:pt x="1943" y="1834"/>
                </a:lnTo>
                <a:lnTo>
                  <a:pt x="1941" y="1826"/>
                </a:lnTo>
                <a:lnTo>
                  <a:pt x="1939" y="1810"/>
                </a:lnTo>
                <a:lnTo>
                  <a:pt x="1932" y="1780"/>
                </a:lnTo>
                <a:lnTo>
                  <a:pt x="1925" y="1748"/>
                </a:lnTo>
                <a:lnTo>
                  <a:pt x="1925" y="1740"/>
                </a:lnTo>
                <a:lnTo>
                  <a:pt x="1916" y="1740"/>
                </a:lnTo>
                <a:lnTo>
                  <a:pt x="1906" y="1737"/>
                </a:lnTo>
                <a:lnTo>
                  <a:pt x="1885" y="1728"/>
                </a:lnTo>
                <a:lnTo>
                  <a:pt x="1840" y="1701"/>
                </a:lnTo>
                <a:lnTo>
                  <a:pt x="1810" y="1678"/>
                </a:lnTo>
                <a:lnTo>
                  <a:pt x="1810" y="1665"/>
                </a:lnTo>
                <a:lnTo>
                  <a:pt x="1817" y="1634"/>
                </a:lnTo>
                <a:lnTo>
                  <a:pt x="1847" y="1561"/>
                </a:lnTo>
                <a:lnTo>
                  <a:pt x="1884" y="1501"/>
                </a:lnTo>
                <a:lnTo>
                  <a:pt x="1893" y="1491"/>
                </a:lnTo>
                <a:lnTo>
                  <a:pt x="1914" y="1493"/>
                </a:lnTo>
                <a:lnTo>
                  <a:pt x="1961" y="1504"/>
                </a:lnTo>
                <a:lnTo>
                  <a:pt x="2010" y="1526"/>
                </a:lnTo>
                <a:lnTo>
                  <a:pt x="2098" y="1583"/>
                </a:lnTo>
                <a:lnTo>
                  <a:pt x="2140" y="1631"/>
                </a:lnTo>
                <a:lnTo>
                  <a:pt x="2148" y="1608"/>
                </a:lnTo>
                <a:lnTo>
                  <a:pt x="2150" y="1587"/>
                </a:lnTo>
                <a:lnTo>
                  <a:pt x="2146" y="1568"/>
                </a:lnTo>
                <a:lnTo>
                  <a:pt x="2138" y="1548"/>
                </a:lnTo>
                <a:lnTo>
                  <a:pt x="2125" y="1531"/>
                </a:lnTo>
                <a:lnTo>
                  <a:pt x="2109" y="1515"/>
                </a:lnTo>
                <a:lnTo>
                  <a:pt x="2069" y="1486"/>
                </a:lnTo>
                <a:lnTo>
                  <a:pt x="2028" y="1463"/>
                </a:lnTo>
                <a:lnTo>
                  <a:pt x="1991" y="1444"/>
                </a:lnTo>
                <a:lnTo>
                  <a:pt x="1968" y="1436"/>
                </a:lnTo>
                <a:lnTo>
                  <a:pt x="1916" y="1414"/>
                </a:lnTo>
                <a:lnTo>
                  <a:pt x="1796" y="1358"/>
                </a:lnTo>
                <a:lnTo>
                  <a:pt x="1683" y="1302"/>
                </a:lnTo>
                <a:lnTo>
                  <a:pt x="1662" y="1289"/>
                </a:lnTo>
                <a:lnTo>
                  <a:pt x="1662" y="1284"/>
                </a:lnTo>
                <a:lnTo>
                  <a:pt x="1664" y="1279"/>
                </a:lnTo>
                <a:lnTo>
                  <a:pt x="1670" y="1265"/>
                </a:lnTo>
                <a:lnTo>
                  <a:pt x="1691" y="1235"/>
                </a:lnTo>
                <a:lnTo>
                  <a:pt x="1711" y="1210"/>
                </a:lnTo>
                <a:lnTo>
                  <a:pt x="1694" y="1204"/>
                </a:lnTo>
                <a:lnTo>
                  <a:pt x="1664" y="1198"/>
                </a:lnTo>
                <a:lnTo>
                  <a:pt x="1634" y="1197"/>
                </a:lnTo>
                <a:lnTo>
                  <a:pt x="1576" y="1200"/>
                </a:lnTo>
                <a:lnTo>
                  <a:pt x="1530" y="1195"/>
                </a:lnTo>
                <a:lnTo>
                  <a:pt x="1493" y="1186"/>
                </a:lnTo>
                <a:lnTo>
                  <a:pt x="1428" y="1156"/>
                </a:lnTo>
                <a:lnTo>
                  <a:pt x="1372" y="1114"/>
                </a:lnTo>
                <a:lnTo>
                  <a:pt x="1327" y="1064"/>
                </a:lnTo>
                <a:lnTo>
                  <a:pt x="1294" y="1007"/>
                </a:lnTo>
                <a:lnTo>
                  <a:pt x="1272" y="946"/>
                </a:lnTo>
                <a:lnTo>
                  <a:pt x="1267" y="915"/>
                </a:lnTo>
                <a:lnTo>
                  <a:pt x="1253" y="875"/>
                </a:lnTo>
                <a:lnTo>
                  <a:pt x="1229" y="841"/>
                </a:lnTo>
                <a:lnTo>
                  <a:pt x="1200" y="811"/>
                </a:lnTo>
                <a:lnTo>
                  <a:pt x="1130" y="758"/>
                </a:lnTo>
                <a:lnTo>
                  <a:pt x="1060" y="707"/>
                </a:lnTo>
                <a:lnTo>
                  <a:pt x="1011" y="649"/>
                </a:lnTo>
                <a:lnTo>
                  <a:pt x="1000" y="613"/>
                </a:lnTo>
                <a:lnTo>
                  <a:pt x="1002" y="573"/>
                </a:lnTo>
                <a:lnTo>
                  <a:pt x="1018" y="525"/>
                </a:lnTo>
                <a:lnTo>
                  <a:pt x="1014" y="518"/>
                </a:lnTo>
                <a:lnTo>
                  <a:pt x="1006" y="502"/>
                </a:lnTo>
                <a:lnTo>
                  <a:pt x="993" y="465"/>
                </a:lnTo>
                <a:lnTo>
                  <a:pt x="987" y="416"/>
                </a:lnTo>
                <a:lnTo>
                  <a:pt x="987" y="401"/>
                </a:lnTo>
                <a:lnTo>
                  <a:pt x="999" y="391"/>
                </a:lnTo>
                <a:lnTo>
                  <a:pt x="1028" y="370"/>
                </a:lnTo>
                <a:lnTo>
                  <a:pt x="1092" y="331"/>
                </a:lnTo>
                <a:lnTo>
                  <a:pt x="1153" y="290"/>
                </a:lnTo>
                <a:lnTo>
                  <a:pt x="1167" y="278"/>
                </a:lnTo>
                <a:lnTo>
                  <a:pt x="1175" y="285"/>
                </a:lnTo>
                <a:lnTo>
                  <a:pt x="1193" y="296"/>
                </a:lnTo>
                <a:lnTo>
                  <a:pt x="1210" y="304"/>
                </a:lnTo>
                <a:lnTo>
                  <a:pt x="1247" y="311"/>
                </a:lnTo>
                <a:lnTo>
                  <a:pt x="1272" y="312"/>
                </a:lnTo>
                <a:lnTo>
                  <a:pt x="1263" y="290"/>
                </a:lnTo>
                <a:lnTo>
                  <a:pt x="1237" y="220"/>
                </a:lnTo>
                <a:lnTo>
                  <a:pt x="1218" y="166"/>
                </a:lnTo>
                <a:lnTo>
                  <a:pt x="1217" y="163"/>
                </a:lnTo>
                <a:lnTo>
                  <a:pt x="1210" y="160"/>
                </a:lnTo>
                <a:lnTo>
                  <a:pt x="1173" y="137"/>
                </a:lnTo>
                <a:lnTo>
                  <a:pt x="1041" y="62"/>
                </a:lnTo>
                <a:lnTo>
                  <a:pt x="941" y="4"/>
                </a:lnTo>
                <a:lnTo>
                  <a:pt x="936" y="0"/>
                </a:lnTo>
                <a:lnTo>
                  <a:pt x="931" y="2"/>
                </a:lnTo>
                <a:lnTo>
                  <a:pt x="910" y="14"/>
                </a:lnTo>
                <a:lnTo>
                  <a:pt x="833" y="57"/>
                </a:lnTo>
                <a:lnTo>
                  <a:pt x="775" y="89"/>
                </a:lnTo>
                <a:lnTo>
                  <a:pt x="771" y="90"/>
                </a:lnTo>
                <a:lnTo>
                  <a:pt x="769" y="90"/>
                </a:lnTo>
                <a:lnTo>
                  <a:pt x="758" y="88"/>
                </a:lnTo>
                <a:lnTo>
                  <a:pt x="719" y="81"/>
                </a:lnTo>
                <a:lnTo>
                  <a:pt x="689" y="75"/>
                </a:lnTo>
                <a:lnTo>
                  <a:pt x="688" y="74"/>
                </a:lnTo>
                <a:lnTo>
                  <a:pt x="661" y="85"/>
                </a:lnTo>
                <a:lnTo>
                  <a:pt x="632" y="105"/>
                </a:lnTo>
                <a:lnTo>
                  <a:pt x="626" y="113"/>
                </a:lnTo>
                <a:lnTo>
                  <a:pt x="624" y="121"/>
                </a:lnTo>
                <a:lnTo>
                  <a:pt x="622" y="128"/>
                </a:lnTo>
                <a:lnTo>
                  <a:pt x="619" y="142"/>
                </a:lnTo>
                <a:lnTo>
                  <a:pt x="614" y="148"/>
                </a:lnTo>
                <a:lnTo>
                  <a:pt x="603" y="156"/>
                </a:lnTo>
                <a:lnTo>
                  <a:pt x="586" y="164"/>
                </a:lnTo>
                <a:lnTo>
                  <a:pt x="561" y="171"/>
                </a:lnTo>
                <a:lnTo>
                  <a:pt x="555" y="159"/>
                </a:lnTo>
                <a:lnTo>
                  <a:pt x="541" y="140"/>
                </a:lnTo>
                <a:lnTo>
                  <a:pt x="525" y="129"/>
                </a:lnTo>
                <a:lnTo>
                  <a:pt x="508" y="124"/>
                </a:lnTo>
                <a:lnTo>
                  <a:pt x="494" y="122"/>
                </a:lnTo>
                <a:lnTo>
                  <a:pt x="483" y="122"/>
                </a:lnTo>
                <a:lnTo>
                  <a:pt x="481" y="122"/>
                </a:lnTo>
                <a:lnTo>
                  <a:pt x="480" y="125"/>
                </a:lnTo>
                <a:lnTo>
                  <a:pt x="472" y="141"/>
                </a:lnTo>
                <a:lnTo>
                  <a:pt x="449" y="198"/>
                </a:lnTo>
                <a:lnTo>
                  <a:pt x="429" y="242"/>
                </a:lnTo>
                <a:lnTo>
                  <a:pt x="429" y="244"/>
                </a:lnTo>
                <a:lnTo>
                  <a:pt x="427" y="242"/>
                </a:lnTo>
                <a:lnTo>
                  <a:pt x="415" y="226"/>
                </a:lnTo>
                <a:lnTo>
                  <a:pt x="377" y="169"/>
                </a:lnTo>
                <a:lnTo>
                  <a:pt x="347" y="126"/>
                </a:lnTo>
                <a:lnTo>
                  <a:pt x="346" y="123"/>
                </a:lnTo>
                <a:lnTo>
                  <a:pt x="345" y="124"/>
                </a:lnTo>
                <a:lnTo>
                  <a:pt x="338" y="127"/>
                </a:lnTo>
                <a:lnTo>
                  <a:pt x="317" y="139"/>
                </a:lnTo>
                <a:lnTo>
                  <a:pt x="300" y="148"/>
                </a:lnTo>
                <a:lnTo>
                  <a:pt x="300" y="151"/>
                </a:lnTo>
                <a:lnTo>
                  <a:pt x="300" y="160"/>
                </a:lnTo>
                <a:lnTo>
                  <a:pt x="300" y="193"/>
                </a:lnTo>
                <a:lnTo>
                  <a:pt x="300" y="219"/>
                </a:lnTo>
                <a:lnTo>
                  <a:pt x="300" y="220"/>
                </a:lnTo>
                <a:lnTo>
                  <a:pt x="294" y="221"/>
                </a:lnTo>
                <a:lnTo>
                  <a:pt x="257" y="226"/>
                </a:lnTo>
                <a:lnTo>
                  <a:pt x="132" y="244"/>
                </a:lnTo>
                <a:lnTo>
                  <a:pt x="36" y="258"/>
                </a:lnTo>
                <a:lnTo>
                  <a:pt x="32" y="258"/>
                </a:lnTo>
                <a:lnTo>
                  <a:pt x="34" y="263"/>
                </a:lnTo>
                <a:lnTo>
                  <a:pt x="49" y="284"/>
                </a:lnTo>
                <a:lnTo>
                  <a:pt x="102" y="357"/>
                </a:lnTo>
                <a:lnTo>
                  <a:pt x="143" y="413"/>
                </a:lnTo>
                <a:lnTo>
                  <a:pt x="146" y="416"/>
                </a:lnTo>
                <a:lnTo>
                  <a:pt x="144" y="417"/>
                </a:lnTo>
                <a:lnTo>
                  <a:pt x="130" y="425"/>
                </a:lnTo>
                <a:lnTo>
                  <a:pt x="85" y="446"/>
                </a:lnTo>
                <a:lnTo>
                  <a:pt x="50" y="463"/>
                </a:lnTo>
                <a:lnTo>
                  <a:pt x="49" y="463"/>
                </a:lnTo>
                <a:lnTo>
                  <a:pt x="50" y="465"/>
                </a:lnTo>
                <a:lnTo>
                  <a:pt x="58" y="473"/>
                </a:lnTo>
                <a:lnTo>
                  <a:pt x="88" y="503"/>
                </a:lnTo>
                <a:lnTo>
                  <a:pt x="111" y="524"/>
                </a:lnTo>
                <a:lnTo>
                  <a:pt x="113" y="525"/>
                </a:lnTo>
                <a:lnTo>
                  <a:pt x="94" y="527"/>
                </a:lnTo>
                <a:lnTo>
                  <a:pt x="62" y="531"/>
                </a:lnTo>
                <a:lnTo>
                  <a:pt x="18" y="536"/>
                </a:lnTo>
                <a:lnTo>
                  <a:pt x="10" y="539"/>
                </a:lnTo>
                <a:lnTo>
                  <a:pt x="5" y="542"/>
                </a:lnTo>
                <a:lnTo>
                  <a:pt x="2" y="546"/>
                </a:lnTo>
                <a:lnTo>
                  <a:pt x="0" y="550"/>
                </a:lnTo>
                <a:lnTo>
                  <a:pt x="0" y="556"/>
                </a:lnTo>
                <a:lnTo>
                  <a:pt x="0" y="558"/>
                </a:lnTo>
                <a:lnTo>
                  <a:pt x="3" y="572"/>
                </a:lnTo>
                <a:lnTo>
                  <a:pt x="10" y="618"/>
                </a:lnTo>
                <a:lnTo>
                  <a:pt x="15" y="654"/>
                </a:lnTo>
                <a:lnTo>
                  <a:pt x="17" y="655"/>
                </a:lnTo>
                <a:lnTo>
                  <a:pt x="18" y="657"/>
                </a:lnTo>
                <a:lnTo>
                  <a:pt x="29" y="668"/>
                </a:lnTo>
                <a:lnTo>
                  <a:pt x="68" y="707"/>
                </a:lnTo>
                <a:lnTo>
                  <a:pt x="98" y="736"/>
                </a:lnTo>
                <a:lnTo>
                  <a:pt x="100" y="737"/>
                </a:lnTo>
                <a:lnTo>
                  <a:pt x="101" y="737"/>
                </a:lnTo>
                <a:lnTo>
                  <a:pt x="110" y="736"/>
                </a:lnTo>
                <a:lnTo>
                  <a:pt x="142" y="733"/>
                </a:lnTo>
                <a:lnTo>
                  <a:pt x="166" y="730"/>
                </a:lnTo>
                <a:lnTo>
                  <a:pt x="168" y="729"/>
                </a:lnTo>
                <a:lnTo>
                  <a:pt x="168" y="740"/>
                </a:lnTo>
                <a:lnTo>
                  <a:pt x="168" y="752"/>
                </a:lnTo>
                <a:lnTo>
                  <a:pt x="168" y="745"/>
                </a:lnTo>
                <a:lnTo>
                  <a:pt x="168" y="730"/>
                </a:lnTo>
                <a:lnTo>
                  <a:pt x="168" y="729"/>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79"/>
          <p:cNvSpPr/>
          <p:nvPr/>
        </p:nvSpPr>
        <p:spPr>
          <a:xfrm>
            <a:off x="3701880" y="6716880"/>
            <a:ext cx="34920" cy="33120"/>
          </a:xfrm>
          <a:custGeom>
            <a:avLst/>
            <a:gdLst>
              <a:gd name="textAreaLeft" fmla="*/ 0 w 34920"/>
              <a:gd name="textAreaRight" fmla="*/ 34920 w 34920"/>
              <a:gd name="textAreaTop" fmla="*/ 0 h 33120"/>
              <a:gd name="textAreaBottom" fmla="*/ 33480 h 33120"/>
            </a:gdLst>
            <a:ahLst/>
            <a:rect l="textAreaLeft" t="textAreaTop" r="textAreaRight" b="textAreaBottom"/>
            <a:pathLst>
              <a:path w="44" h="44">
                <a:moveTo>
                  <a:pt x="24" y="44"/>
                </a:moveTo>
                <a:lnTo>
                  <a:pt x="14" y="38"/>
                </a:lnTo>
                <a:lnTo>
                  <a:pt x="2" y="32"/>
                </a:lnTo>
                <a:lnTo>
                  <a:pt x="0" y="31"/>
                </a:lnTo>
                <a:lnTo>
                  <a:pt x="1" y="30"/>
                </a:lnTo>
                <a:lnTo>
                  <a:pt x="2" y="30"/>
                </a:lnTo>
                <a:lnTo>
                  <a:pt x="4" y="29"/>
                </a:lnTo>
                <a:lnTo>
                  <a:pt x="7" y="27"/>
                </a:lnTo>
                <a:lnTo>
                  <a:pt x="10" y="24"/>
                </a:lnTo>
                <a:lnTo>
                  <a:pt x="13" y="17"/>
                </a:lnTo>
                <a:lnTo>
                  <a:pt x="14" y="9"/>
                </a:lnTo>
                <a:lnTo>
                  <a:pt x="15" y="3"/>
                </a:lnTo>
                <a:lnTo>
                  <a:pt x="22" y="3"/>
                </a:lnTo>
                <a:lnTo>
                  <a:pt x="34" y="1"/>
                </a:lnTo>
                <a:lnTo>
                  <a:pt x="42" y="0"/>
                </a:lnTo>
                <a:lnTo>
                  <a:pt x="43" y="0"/>
                </a:lnTo>
                <a:lnTo>
                  <a:pt x="44" y="1"/>
                </a:lnTo>
                <a:lnTo>
                  <a:pt x="44" y="2"/>
                </a:lnTo>
                <a:lnTo>
                  <a:pt x="44" y="3"/>
                </a:lnTo>
                <a:lnTo>
                  <a:pt x="44" y="4"/>
                </a:lnTo>
                <a:lnTo>
                  <a:pt x="43" y="6"/>
                </a:lnTo>
                <a:lnTo>
                  <a:pt x="41" y="12"/>
                </a:lnTo>
                <a:lnTo>
                  <a:pt x="31" y="31"/>
                </a:lnTo>
                <a:lnTo>
                  <a:pt x="24" y="44"/>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81" name="Freeform 80"/>
          <p:cNvSpPr/>
          <p:nvPr/>
        </p:nvSpPr>
        <p:spPr>
          <a:xfrm>
            <a:off x="3701880" y="6716880"/>
            <a:ext cx="34920" cy="33120"/>
          </a:xfrm>
          <a:custGeom>
            <a:avLst/>
            <a:gdLst>
              <a:gd name="textAreaLeft" fmla="*/ 0 w 34920"/>
              <a:gd name="textAreaRight" fmla="*/ 34920 w 34920"/>
              <a:gd name="textAreaTop" fmla="*/ 0 h 33120"/>
              <a:gd name="textAreaBottom" fmla="*/ 33480 h 33120"/>
            </a:gdLst>
            <a:ahLst/>
            <a:rect l="textAreaLeft" t="textAreaTop" r="textAreaRight" b="textAreaBottom"/>
            <a:pathLst>
              <a:path w="44" h="44">
                <a:moveTo>
                  <a:pt x="24" y="44"/>
                </a:moveTo>
                <a:lnTo>
                  <a:pt x="14" y="38"/>
                </a:lnTo>
                <a:lnTo>
                  <a:pt x="2" y="32"/>
                </a:lnTo>
                <a:lnTo>
                  <a:pt x="0" y="31"/>
                </a:lnTo>
                <a:lnTo>
                  <a:pt x="1" y="30"/>
                </a:lnTo>
                <a:lnTo>
                  <a:pt x="2" y="30"/>
                </a:lnTo>
                <a:lnTo>
                  <a:pt x="4" y="29"/>
                </a:lnTo>
                <a:lnTo>
                  <a:pt x="7" y="27"/>
                </a:lnTo>
                <a:lnTo>
                  <a:pt x="10" y="24"/>
                </a:lnTo>
                <a:lnTo>
                  <a:pt x="13" y="17"/>
                </a:lnTo>
                <a:lnTo>
                  <a:pt x="14" y="9"/>
                </a:lnTo>
                <a:lnTo>
                  <a:pt x="15" y="3"/>
                </a:lnTo>
                <a:lnTo>
                  <a:pt x="22" y="3"/>
                </a:lnTo>
                <a:lnTo>
                  <a:pt x="34" y="1"/>
                </a:lnTo>
                <a:lnTo>
                  <a:pt x="42" y="0"/>
                </a:lnTo>
                <a:lnTo>
                  <a:pt x="43" y="0"/>
                </a:lnTo>
                <a:lnTo>
                  <a:pt x="44" y="1"/>
                </a:lnTo>
                <a:lnTo>
                  <a:pt x="44" y="2"/>
                </a:lnTo>
                <a:lnTo>
                  <a:pt x="44" y="3"/>
                </a:lnTo>
                <a:lnTo>
                  <a:pt x="44" y="4"/>
                </a:lnTo>
                <a:lnTo>
                  <a:pt x="43" y="6"/>
                </a:lnTo>
                <a:lnTo>
                  <a:pt x="41" y="12"/>
                </a:lnTo>
                <a:lnTo>
                  <a:pt x="31" y="31"/>
                </a:lnTo>
                <a:lnTo>
                  <a:pt x="24" y="44"/>
                </a:lnTo>
              </a:path>
            </a:pathLst>
          </a:custGeom>
          <a:noFill/>
          <a:ln w="6480">
            <a:solidFill>
              <a:srgbClr val="1f1a17"/>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82" name="Freeform 81"/>
          <p:cNvSpPr/>
          <p:nvPr/>
        </p:nvSpPr>
        <p:spPr>
          <a:xfrm>
            <a:off x="0" y="5237280"/>
            <a:ext cx="652320" cy="942840"/>
          </a:xfrm>
          <a:custGeom>
            <a:avLst/>
            <a:gdLst>
              <a:gd name="textAreaLeft" fmla="*/ 0 w 652320"/>
              <a:gd name="textAreaRight" fmla="*/ 652320 w 652320"/>
              <a:gd name="textAreaTop" fmla="*/ 0 h 942840"/>
              <a:gd name="textAreaBottom" fmla="*/ 943200 h 942840"/>
            </a:gdLst>
            <a:ahLst/>
            <a:rect l="textAreaLeft" t="textAreaTop" r="textAreaRight" b="textAreaBottom"/>
            <a:pathLst>
              <a:path w="822" h="1187">
                <a:moveTo>
                  <a:pt x="635" y="643"/>
                </a:moveTo>
                <a:lnTo>
                  <a:pt x="636" y="634"/>
                </a:lnTo>
                <a:lnTo>
                  <a:pt x="638" y="615"/>
                </a:lnTo>
                <a:lnTo>
                  <a:pt x="649" y="557"/>
                </a:lnTo>
                <a:lnTo>
                  <a:pt x="674" y="409"/>
                </a:lnTo>
                <a:lnTo>
                  <a:pt x="689" y="323"/>
                </a:lnTo>
                <a:lnTo>
                  <a:pt x="692" y="322"/>
                </a:lnTo>
                <a:lnTo>
                  <a:pt x="710" y="312"/>
                </a:lnTo>
                <a:lnTo>
                  <a:pt x="772" y="276"/>
                </a:lnTo>
                <a:lnTo>
                  <a:pt x="819" y="249"/>
                </a:lnTo>
                <a:lnTo>
                  <a:pt x="822" y="247"/>
                </a:lnTo>
                <a:lnTo>
                  <a:pt x="819" y="238"/>
                </a:lnTo>
                <a:lnTo>
                  <a:pt x="813" y="208"/>
                </a:lnTo>
                <a:lnTo>
                  <a:pt x="807" y="185"/>
                </a:lnTo>
                <a:lnTo>
                  <a:pt x="807" y="183"/>
                </a:lnTo>
                <a:lnTo>
                  <a:pt x="802" y="181"/>
                </a:lnTo>
                <a:lnTo>
                  <a:pt x="767" y="166"/>
                </a:lnTo>
                <a:lnTo>
                  <a:pt x="644" y="113"/>
                </a:lnTo>
                <a:lnTo>
                  <a:pt x="551" y="72"/>
                </a:lnTo>
                <a:lnTo>
                  <a:pt x="547" y="69"/>
                </a:lnTo>
                <a:lnTo>
                  <a:pt x="548" y="68"/>
                </a:lnTo>
                <a:lnTo>
                  <a:pt x="549" y="67"/>
                </a:lnTo>
                <a:lnTo>
                  <a:pt x="550" y="65"/>
                </a:lnTo>
                <a:lnTo>
                  <a:pt x="553" y="58"/>
                </a:lnTo>
                <a:lnTo>
                  <a:pt x="565" y="42"/>
                </a:lnTo>
                <a:lnTo>
                  <a:pt x="575" y="31"/>
                </a:lnTo>
                <a:lnTo>
                  <a:pt x="571" y="31"/>
                </a:lnTo>
                <a:lnTo>
                  <a:pt x="553" y="27"/>
                </a:lnTo>
                <a:lnTo>
                  <a:pt x="489" y="12"/>
                </a:lnTo>
                <a:lnTo>
                  <a:pt x="441" y="1"/>
                </a:lnTo>
                <a:lnTo>
                  <a:pt x="439" y="0"/>
                </a:lnTo>
                <a:lnTo>
                  <a:pt x="440" y="5"/>
                </a:lnTo>
                <a:lnTo>
                  <a:pt x="440" y="10"/>
                </a:lnTo>
                <a:lnTo>
                  <a:pt x="437" y="16"/>
                </a:lnTo>
                <a:lnTo>
                  <a:pt x="435" y="22"/>
                </a:lnTo>
                <a:lnTo>
                  <a:pt x="426" y="34"/>
                </a:lnTo>
                <a:lnTo>
                  <a:pt x="413" y="49"/>
                </a:lnTo>
                <a:lnTo>
                  <a:pt x="378" y="78"/>
                </a:lnTo>
                <a:lnTo>
                  <a:pt x="311" y="135"/>
                </a:lnTo>
                <a:lnTo>
                  <a:pt x="293" y="156"/>
                </a:lnTo>
                <a:lnTo>
                  <a:pt x="315" y="182"/>
                </a:lnTo>
                <a:lnTo>
                  <a:pt x="326" y="204"/>
                </a:lnTo>
                <a:lnTo>
                  <a:pt x="328" y="223"/>
                </a:lnTo>
                <a:lnTo>
                  <a:pt x="322" y="238"/>
                </a:lnTo>
                <a:lnTo>
                  <a:pt x="310" y="253"/>
                </a:lnTo>
                <a:lnTo>
                  <a:pt x="295" y="268"/>
                </a:lnTo>
                <a:lnTo>
                  <a:pt x="263" y="296"/>
                </a:lnTo>
                <a:lnTo>
                  <a:pt x="251" y="313"/>
                </a:lnTo>
                <a:lnTo>
                  <a:pt x="244" y="331"/>
                </a:lnTo>
                <a:lnTo>
                  <a:pt x="245" y="353"/>
                </a:lnTo>
                <a:lnTo>
                  <a:pt x="255" y="379"/>
                </a:lnTo>
                <a:lnTo>
                  <a:pt x="256" y="379"/>
                </a:lnTo>
                <a:lnTo>
                  <a:pt x="234" y="402"/>
                </a:lnTo>
                <a:lnTo>
                  <a:pt x="190" y="452"/>
                </a:lnTo>
                <a:lnTo>
                  <a:pt x="107" y="563"/>
                </a:lnTo>
                <a:lnTo>
                  <a:pt x="21" y="667"/>
                </a:lnTo>
                <a:lnTo>
                  <a:pt x="0" y="690"/>
                </a:lnTo>
                <a:lnTo>
                  <a:pt x="4" y="704"/>
                </a:lnTo>
                <a:lnTo>
                  <a:pt x="16" y="731"/>
                </a:lnTo>
                <a:lnTo>
                  <a:pt x="49" y="788"/>
                </a:lnTo>
                <a:lnTo>
                  <a:pt x="94" y="836"/>
                </a:lnTo>
                <a:lnTo>
                  <a:pt x="108" y="844"/>
                </a:lnTo>
                <a:lnTo>
                  <a:pt x="108" y="866"/>
                </a:lnTo>
                <a:lnTo>
                  <a:pt x="105" y="882"/>
                </a:lnTo>
                <a:lnTo>
                  <a:pt x="99" y="896"/>
                </a:lnTo>
                <a:lnTo>
                  <a:pt x="90" y="908"/>
                </a:lnTo>
                <a:lnTo>
                  <a:pt x="79" y="917"/>
                </a:lnTo>
                <a:lnTo>
                  <a:pt x="59" y="932"/>
                </a:lnTo>
                <a:lnTo>
                  <a:pt x="51" y="938"/>
                </a:lnTo>
                <a:lnTo>
                  <a:pt x="46" y="945"/>
                </a:lnTo>
                <a:lnTo>
                  <a:pt x="45" y="948"/>
                </a:lnTo>
                <a:lnTo>
                  <a:pt x="45" y="952"/>
                </a:lnTo>
                <a:lnTo>
                  <a:pt x="47" y="956"/>
                </a:lnTo>
                <a:lnTo>
                  <a:pt x="49" y="962"/>
                </a:lnTo>
                <a:lnTo>
                  <a:pt x="54" y="967"/>
                </a:lnTo>
                <a:lnTo>
                  <a:pt x="60" y="972"/>
                </a:lnTo>
                <a:lnTo>
                  <a:pt x="70" y="985"/>
                </a:lnTo>
                <a:lnTo>
                  <a:pt x="76" y="999"/>
                </a:lnTo>
                <a:lnTo>
                  <a:pt x="77" y="1014"/>
                </a:lnTo>
                <a:lnTo>
                  <a:pt x="75" y="1029"/>
                </a:lnTo>
                <a:lnTo>
                  <a:pt x="71" y="1045"/>
                </a:lnTo>
                <a:lnTo>
                  <a:pt x="54" y="1077"/>
                </a:lnTo>
                <a:lnTo>
                  <a:pt x="31" y="1105"/>
                </a:lnTo>
                <a:lnTo>
                  <a:pt x="10" y="1130"/>
                </a:lnTo>
                <a:lnTo>
                  <a:pt x="0" y="1139"/>
                </a:lnTo>
                <a:lnTo>
                  <a:pt x="5" y="1140"/>
                </a:lnTo>
                <a:lnTo>
                  <a:pt x="47" y="1147"/>
                </a:lnTo>
                <a:lnTo>
                  <a:pt x="190" y="1169"/>
                </a:lnTo>
                <a:lnTo>
                  <a:pt x="299" y="1187"/>
                </a:lnTo>
                <a:lnTo>
                  <a:pt x="306" y="1187"/>
                </a:lnTo>
                <a:lnTo>
                  <a:pt x="308" y="1184"/>
                </a:lnTo>
                <a:lnTo>
                  <a:pt x="327" y="1159"/>
                </a:lnTo>
                <a:lnTo>
                  <a:pt x="393" y="1074"/>
                </a:lnTo>
                <a:lnTo>
                  <a:pt x="444" y="1009"/>
                </a:lnTo>
                <a:lnTo>
                  <a:pt x="447" y="1005"/>
                </a:lnTo>
                <a:lnTo>
                  <a:pt x="475" y="1005"/>
                </a:lnTo>
                <a:lnTo>
                  <a:pt x="518" y="1003"/>
                </a:lnTo>
                <a:lnTo>
                  <a:pt x="543" y="998"/>
                </a:lnTo>
                <a:lnTo>
                  <a:pt x="545" y="996"/>
                </a:lnTo>
                <a:lnTo>
                  <a:pt x="547" y="994"/>
                </a:lnTo>
                <a:lnTo>
                  <a:pt x="547" y="993"/>
                </a:lnTo>
                <a:lnTo>
                  <a:pt x="547" y="992"/>
                </a:lnTo>
                <a:lnTo>
                  <a:pt x="547" y="991"/>
                </a:lnTo>
                <a:lnTo>
                  <a:pt x="546" y="990"/>
                </a:lnTo>
                <a:lnTo>
                  <a:pt x="543" y="987"/>
                </a:lnTo>
                <a:lnTo>
                  <a:pt x="538" y="984"/>
                </a:lnTo>
                <a:lnTo>
                  <a:pt x="525" y="978"/>
                </a:lnTo>
                <a:lnTo>
                  <a:pt x="485" y="963"/>
                </a:lnTo>
                <a:lnTo>
                  <a:pt x="463" y="955"/>
                </a:lnTo>
                <a:lnTo>
                  <a:pt x="464" y="953"/>
                </a:lnTo>
                <a:lnTo>
                  <a:pt x="474" y="932"/>
                </a:lnTo>
                <a:lnTo>
                  <a:pt x="509" y="860"/>
                </a:lnTo>
                <a:lnTo>
                  <a:pt x="536" y="805"/>
                </a:lnTo>
                <a:lnTo>
                  <a:pt x="538" y="802"/>
                </a:lnTo>
                <a:lnTo>
                  <a:pt x="540" y="794"/>
                </a:lnTo>
                <a:lnTo>
                  <a:pt x="540" y="785"/>
                </a:lnTo>
                <a:lnTo>
                  <a:pt x="537" y="775"/>
                </a:lnTo>
                <a:lnTo>
                  <a:pt x="531" y="763"/>
                </a:lnTo>
                <a:lnTo>
                  <a:pt x="517" y="737"/>
                </a:lnTo>
                <a:lnTo>
                  <a:pt x="495" y="673"/>
                </a:lnTo>
                <a:lnTo>
                  <a:pt x="502" y="635"/>
                </a:lnTo>
                <a:lnTo>
                  <a:pt x="507" y="643"/>
                </a:lnTo>
                <a:lnTo>
                  <a:pt x="526" y="667"/>
                </a:lnTo>
                <a:lnTo>
                  <a:pt x="540" y="685"/>
                </a:lnTo>
                <a:lnTo>
                  <a:pt x="541" y="685"/>
                </a:lnTo>
                <a:lnTo>
                  <a:pt x="555" y="679"/>
                </a:lnTo>
                <a:lnTo>
                  <a:pt x="599" y="659"/>
                </a:lnTo>
                <a:lnTo>
                  <a:pt x="633" y="644"/>
                </a:lnTo>
                <a:lnTo>
                  <a:pt x="635" y="643"/>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82"/>
          <p:cNvSpPr/>
          <p:nvPr/>
        </p:nvSpPr>
        <p:spPr>
          <a:xfrm>
            <a:off x="0" y="5237280"/>
            <a:ext cx="652320" cy="942840"/>
          </a:xfrm>
          <a:custGeom>
            <a:avLst/>
            <a:gdLst>
              <a:gd name="textAreaLeft" fmla="*/ 0 w 652320"/>
              <a:gd name="textAreaRight" fmla="*/ 652320 w 652320"/>
              <a:gd name="textAreaTop" fmla="*/ 0 h 942840"/>
              <a:gd name="textAreaBottom" fmla="*/ 943200 h 942840"/>
            </a:gdLst>
            <a:ahLst/>
            <a:rect l="textAreaLeft" t="textAreaTop" r="textAreaRight" b="textAreaBottom"/>
            <a:pathLst>
              <a:path w="822" h="1187">
                <a:moveTo>
                  <a:pt x="635" y="643"/>
                </a:moveTo>
                <a:lnTo>
                  <a:pt x="636" y="634"/>
                </a:lnTo>
                <a:lnTo>
                  <a:pt x="638" y="615"/>
                </a:lnTo>
                <a:lnTo>
                  <a:pt x="649" y="557"/>
                </a:lnTo>
                <a:lnTo>
                  <a:pt x="674" y="409"/>
                </a:lnTo>
                <a:lnTo>
                  <a:pt x="689" y="323"/>
                </a:lnTo>
                <a:lnTo>
                  <a:pt x="692" y="322"/>
                </a:lnTo>
                <a:lnTo>
                  <a:pt x="710" y="312"/>
                </a:lnTo>
                <a:lnTo>
                  <a:pt x="772" y="276"/>
                </a:lnTo>
                <a:lnTo>
                  <a:pt x="819" y="249"/>
                </a:lnTo>
                <a:lnTo>
                  <a:pt x="822" y="247"/>
                </a:lnTo>
                <a:lnTo>
                  <a:pt x="819" y="238"/>
                </a:lnTo>
                <a:lnTo>
                  <a:pt x="813" y="208"/>
                </a:lnTo>
                <a:lnTo>
                  <a:pt x="807" y="185"/>
                </a:lnTo>
                <a:lnTo>
                  <a:pt x="807" y="183"/>
                </a:lnTo>
                <a:lnTo>
                  <a:pt x="802" y="181"/>
                </a:lnTo>
                <a:lnTo>
                  <a:pt x="767" y="166"/>
                </a:lnTo>
                <a:lnTo>
                  <a:pt x="644" y="113"/>
                </a:lnTo>
                <a:lnTo>
                  <a:pt x="551" y="72"/>
                </a:lnTo>
                <a:lnTo>
                  <a:pt x="547" y="69"/>
                </a:lnTo>
                <a:lnTo>
                  <a:pt x="548" y="68"/>
                </a:lnTo>
                <a:lnTo>
                  <a:pt x="549" y="67"/>
                </a:lnTo>
                <a:lnTo>
                  <a:pt x="550" y="65"/>
                </a:lnTo>
                <a:lnTo>
                  <a:pt x="553" y="58"/>
                </a:lnTo>
                <a:lnTo>
                  <a:pt x="565" y="42"/>
                </a:lnTo>
                <a:lnTo>
                  <a:pt x="575" y="31"/>
                </a:lnTo>
                <a:lnTo>
                  <a:pt x="571" y="31"/>
                </a:lnTo>
                <a:lnTo>
                  <a:pt x="553" y="27"/>
                </a:lnTo>
                <a:lnTo>
                  <a:pt x="489" y="12"/>
                </a:lnTo>
                <a:lnTo>
                  <a:pt x="441" y="1"/>
                </a:lnTo>
                <a:lnTo>
                  <a:pt x="439" y="0"/>
                </a:lnTo>
                <a:lnTo>
                  <a:pt x="440" y="5"/>
                </a:lnTo>
                <a:lnTo>
                  <a:pt x="440" y="10"/>
                </a:lnTo>
                <a:lnTo>
                  <a:pt x="437" y="16"/>
                </a:lnTo>
                <a:lnTo>
                  <a:pt x="435" y="22"/>
                </a:lnTo>
                <a:lnTo>
                  <a:pt x="426" y="34"/>
                </a:lnTo>
                <a:lnTo>
                  <a:pt x="413" y="49"/>
                </a:lnTo>
                <a:lnTo>
                  <a:pt x="378" y="78"/>
                </a:lnTo>
                <a:lnTo>
                  <a:pt x="311" y="135"/>
                </a:lnTo>
                <a:lnTo>
                  <a:pt x="293" y="156"/>
                </a:lnTo>
                <a:lnTo>
                  <a:pt x="315" y="182"/>
                </a:lnTo>
                <a:lnTo>
                  <a:pt x="326" y="204"/>
                </a:lnTo>
                <a:lnTo>
                  <a:pt x="328" y="223"/>
                </a:lnTo>
                <a:lnTo>
                  <a:pt x="322" y="238"/>
                </a:lnTo>
                <a:lnTo>
                  <a:pt x="310" y="253"/>
                </a:lnTo>
                <a:lnTo>
                  <a:pt x="295" y="268"/>
                </a:lnTo>
                <a:lnTo>
                  <a:pt x="263" y="296"/>
                </a:lnTo>
                <a:lnTo>
                  <a:pt x="251" y="313"/>
                </a:lnTo>
                <a:lnTo>
                  <a:pt x="244" y="331"/>
                </a:lnTo>
                <a:lnTo>
                  <a:pt x="245" y="353"/>
                </a:lnTo>
                <a:lnTo>
                  <a:pt x="255" y="379"/>
                </a:lnTo>
                <a:lnTo>
                  <a:pt x="256" y="379"/>
                </a:lnTo>
                <a:lnTo>
                  <a:pt x="234" y="402"/>
                </a:lnTo>
                <a:lnTo>
                  <a:pt x="190" y="452"/>
                </a:lnTo>
                <a:lnTo>
                  <a:pt x="107" y="563"/>
                </a:lnTo>
                <a:lnTo>
                  <a:pt x="21" y="667"/>
                </a:lnTo>
                <a:lnTo>
                  <a:pt x="0" y="690"/>
                </a:lnTo>
                <a:lnTo>
                  <a:pt x="4" y="704"/>
                </a:lnTo>
                <a:lnTo>
                  <a:pt x="16" y="731"/>
                </a:lnTo>
                <a:lnTo>
                  <a:pt x="49" y="788"/>
                </a:lnTo>
                <a:lnTo>
                  <a:pt x="94" y="836"/>
                </a:lnTo>
                <a:lnTo>
                  <a:pt x="108" y="844"/>
                </a:lnTo>
                <a:lnTo>
                  <a:pt x="108" y="866"/>
                </a:lnTo>
                <a:lnTo>
                  <a:pt x="105" y="882"/>
                </a:lnTo>
                <a:lnTo>
                  <a:pt x="99" y="896"/>
                </a:lnTo>
                <a:lnTo>
                  <a:pt x="90" y="908"/>
                </a:lnTo>
                <a:lnTo>
                  <a:pt x="79" y="917"/>
                </a:lnTo>
                <a:lnTo>
                  <a:pt x="59" y="932"/>
                </a:lnTo>
                <a:lnTo>
                  <a:pt x="51" y="938"/>
                </a:lnTo>
                <a:lnTo>
                  <a:pt x="46" y="945"/>
                </a:lnTo>
                <a:lnTo>
                  <a:pt x="45" y="948"/>
                </a:lnTo>
                <a:lnTo>
                  <a:pt x="45" y="952"/>
                </a:lnTo>
                <a:lnTo>
                  <a:pt x="47" y="956"/>
                </a:lnTo>
                <a:lnTo>
                  <a:pt x="49" y="962"/>
                </a:lnTo>
                <a:lnTo>
                  <a:pt x="54" y="967"/>
                </a:lnTo>
                <a:lnTo>
                  <a:pt x="60" y="972"/>
                </a:lnTo>
                <a:lnTo>
                  <a:pt x="70" y="985"/>
                </a:lnTo>
                <a:lnTo>
                  <a:pt x="76" y="999"/>
                </a:lnTo>
                <a:lnTo>
                  <a:pt x="77" y="1014"/>
                </a:lnTo>
                <a:lnTo>
                  <a:pt x="75" y="1029"/>
                </a:lnTo>
                <a:lnTo>
                  <a:pt x="71" y="1045"/>
                </a:lnTo>
                <a:lnTo>
                  <a:pt x="54" y="1077"/>
                </a:lnTo>
                <a:lnTo>
                  <a:pt x="31" y="1105"/>
                </a:lnTo>
                <a:lnTo>
                  <a:pt x="10" y="1130"/>
                </a:lnTo>
                <a:lnTo>
                  <a:pt x="0" y="1139"/>
                </a:lnTo>
                <a:lnTo>
                  <a:pt x="5" y="1140"/>
                </a:lnTo>
                <a:lnTo>
                  <a:pt x="47" y="1147"/>
                </a:lnTo>
                <a:lnTo>
                  <a:pt x="190" y="1169"/>
                </a:lnTo>
                <a:lnTo>
                  <a:pt x="299" y="1187"/>
                </a:lnTo>
                <a:lnTo>
                  <a:pt x="306" y="1187"/>
                </a:lnTo>
                <a:lnTo>
                  <a:pt x="308" y="1184"/>
                </a:lnTo>
                <a:lnTo>
                  <a:pt x="327" y="1159"/>
                </a:lnTo>
                <a:lnTo>
                  <a:pt x="393" y="1074"/>
                </a:lnTo>
                <a:lnTo>
                  <a:pt x="444" y="1009"/>
                </a:lnTo>
                <a:lnTo>
                  <a:pt x="447" y="1005"/>
                </a:lnTo>
                <a:lnTo>
                  <a:pt x="475" y="1005"/>
                </a:lnTo>
                <a:lnTo>
                  <a:pt x="518" y="1003"/>
                </a:lnTo>
                <a:lnTo>
                  <a:pt x="543" y="998"/>
                </a:lnTo>
                <a:lnTo>
                  <a:pt x="545" y="996"/>
                </a:lnTo>
                <a:lnTo>
                  <a:pt x="547" y="994"/>
                </a:lnTo>
                <a:lnTo>
                  <a:pt x="547" y="993"/>
                </a:lnTo>
                <a:lnTo>
                  <a:pt x="547" y="992"/>
                </a:lnTo>
                <a:lnTo>
                  <a:pt x="547" y="991"/>
                </a:lnTo>
                <a:lnTo>
                  <a:pt x="546" y="990"/>
                </a:lnTo>
                <a:lnTo>
                  <a:pt x="543" y="987"/>
                </a:lnTo>
                <a:lnTo>
                  <a:pt x="538" y="984"/>
                </a:lnTo>
                <a:lnTo>
                  <a:pt x="525" y="978"/>
                </a:lnTo>
                <a:lnTo>
                  <a:pt x="485" y="963"/>
                </a:lnTo>
                <a:lnTo>
                  <a:pt x="463" y="955"/>
                </a:lnTo>
                <a:lnTo>
                  <a:pt x="464" y="953"/>
                </a:lnTo>
                <a:lnTo>
                  <a:pt x="474" y="932"/>
                </a:lnTo>
                <a:lnTo>
                  <a:pt x="509" y="860"/>
                </a:lnTo>
                <a:lnTo>
                  <a:pt x="536" y="805"/>
                </a:lnTo>
                <a:lnTo>
                  <a:pt x="538" y="802"/>
                </a:lnTo>
                <a:lnTo>
                  <a:pt x="540" y="794"/>
                </a:lnTo>
                <a:lnTo>
                  <a:pt x="540" y="785"/>
                </a:lnTo>
                <a:lnTo>
                  <a:pt x="537" y="775"/>
                </a:lnTo>
                <a:lnTo>
                  <a:pt x="531" y="763"/>
                </a:lnTo>
                <a:lnTo>
                  <a:pt x="517" y="737"/>
                </a:lnTo>
                <a:lnTo>
                  <a:pt x="495" y="673"/>
                </a:lnTo>
                <a:lnTo>
                  <a:pt x="502" y="635"/>
                </a:lnTo>
                <a:lnTo>
                  <a:pt x="507" y="643"/>
                </a:lnTo>
                <a:lnTo>
                  <a:pt x="526" y="667"/>
                </a:lnTo>
                <a:lnTo>
                  <a:pt x="540" y="685"/>
                </a:lnTo>
                <a:lnTo>
                  <a:pt x="541" y="685"/>
                </a:lnTo>
                <a:lnTo>
                  <a:pt x="555" y="679"/>
                </a:lnTo>
                <a:lnTo>
                  <a:pt x="599" y="659"/>
                </a:lnTo>
                <a:lnTo>
                  <a:pt x="633" y="644"/>
                </a:lnTo>
                <a:lnTo>
                  <a:pt x="635" y="643"/>
                </a:lnTo>
              </a:path>
            </a:pathLst>
          </a:custGeom>
          <a:blipFill rotWithShape="0">
            <a:blip r:embed="rId8"/>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83"/>
          <p:cNvSpPr/>
          <p:nvPr/>
        </p:nvSpPr>
        <p:spPr>
          <a:xfrm>
            <a:off x="243000" y="4994280"/>
            <a:ext cx="2001600" cy="1420920"/>
          </a:xfrm>
          <a:custGeom>
            <a:avLst/>
            <a:gdLst>
              <a:gd name="textAreaLeft" fmla="*/ 0 w 2001600"/>
              <a:gd name="textAreaRight" fmla="*/ 2001960 w 2001600"/>
              <a:gd name="textAreaTop" fmla="*/ 0 h 1420920"/>
              <a:gd name="textAreaBottom" fmla="*/ 1420920 h 1420920"/>
            </a:gdLst>
            <a:ahLst/>
            <a:rect l="textAreaLeft" t="textAreaTop" r="textAreaRight" b="textAreaBottom"/>
            <a:pathLst>
              <a:path w="2522" h="1790">
                <a:moveTo>
                  <a:pt x="1862" y="1387"/>
                </a:moveTo>
                <a:lnTo>
                  <a:pt x="1870" y="1384"/>
                </a:lnTo>
                <a:lnTo>
                  <a:pt x="1884" y="1380"/>
                </a:lnTo>
                <a:lnTo>
                  <a:pt x="1896" y="1379"/>
                </a:lnTo>
                <a:lnTo>
                  <a:pt x="1907" y="1381"/>
                </a:lnTo>
                <a:lnTo>
                  <a:pt x="1920" y="1385"/>
                </a:lnTo>
                <a:lnTo>
                  <a:pt x="1933" y="1391"/>
                </a:lnTo>
                <a:lnTo>
                  <a:pt x="1941" y="1394"/>
                </a:lnTo>
                <a:lnTo>
                  <a:pt x="1936" y="1396"/>
                </a:lnTo>
                <a:lnTo>
                  <a:pt x="1922" y="1403"/>
                </a:lnTo>
                <a:lnTo>
                  <a:pt x="1888" y="1413"/>
                </a:lnTo>
                <a:lnTo>
                  <a:pt x="1879" y="1413"/>
                </a:lnTo>
                <a:lnTo>
                  <a:pt x="1872" y="1410"/>
                </a:lnTo>
                <a:lnTo>
                  <a:pt x="1867" y="1406"/>
                </a:lnTo>
                <a:lnTo>
                  <a:pt x="1863" y="1398"/>
                </a:lnTo>
                <a:lnTo>
                  <a:pt x="1862" y="1387"/>
                </a:lnTo>
                <a:lnTo>
                  <a:pt x="1869" y="1384"/>
                </a:lnTo>
                <a:lnTo>
                  <a:pt x="1875" y="1381"/>
                </a:lnTo>
                <a:lnTo>
                  <a:pt x="1872" y="1383"/>
                </a:lnTo>
                <a:lnTo>
                  <a:pt x="1862" y="1387"/>
                </a:lnTo>
                <a:close/>
                <a:moveTo>
                  <a:pt x="2378" y="1146"/>
                </a:moveTo>
                <a:lnTo>
                  <a:pt x="2418" y="1148"/>
                </a:lnTo>
                <a:lnTo>
                  <a:pt x="2479" y="1155"/>
                </a:lnTo>
                <a:lnTo>
                  <a:pt x="2513" y="1167"/>
                </a:lnTo>
                <a:lnTo>
                  <a:pt x="2519" y="1170"/>
                </a:lnTo>
                <a:lnTo>
                  <a:pt x="2521" y="1174"/>
                </a:lnTo>
                <a:lnTo>
                  <a:pt x="2522" y="1177"/>
                </a:lnTo>
                <a:lnTo>
                  <a:pt x="2522" y="1181"/>
                </a:lnTo>
                <a:lnTo>
                  <a:pt x="2519" y="1184"/>
                </a:lnTo>
                <a:lnTo>
                  <a:pt x="2514" y="1187"/>
                </a:lnTo>
                <a:lnTo>
                  <a:pt x="2509" y="1191"/>
                </a:lnTo>
                <a:lnTo>
                  <a:pt x="2492" y="1196"/>
                </a:lnTo>
                <a:lnTo>
                  <a:pt x="2466" y="1201"/>
                </a:lnTo>
                <a:lnTo>
                  <a:pt x="2434" y="1204"/>
                </a:lnTo>
                <a:lnTo>
                  <a:pt x="2416" y="1205"/>
                </a:lnTo>
                <a:lnTo>
                  <a:pt x="2415" y="1204"/>
                </a:lnTo>
                <a:lnTo>
                  <a:pt x="2409" y="1196"/>
                </a:lnTo>
                <a:lnTo>
                  <a:pt x="2392" y="1169"/>
                </a:lnTo>
                <a:lnTo>
                  <a:pt x="2378" y="1148"/>
                </a:lnTo>
                <a:lnTo>
                  <a:pt x="2378" y="1146"/>
                </a:lnTo>
                <a:lnTo>
                  <a:pt x="2414" y="1146"/>
                </a:lnTo>
                <a:lnTo>
                  <a:pt x="2450" y="1146"/>
                </a:lnTo>
                <a:lnTo>
                  <a:pt x="2430" y="1146"/>
                </a:lnTo>
                <a:lnTo>
                  <a:pt x="2381" y="1146"/>
                </a:lnTo>
                <a:lnTo>
                  <a:pt x="2378" y="1146"/>
                </a:lnTo>
                <a:close/>
                <a:moveTo>
                  <a:pt x="2066" y="1253"/>
                </a:moveTo>
                <a:lnTo>
                  <a:pt x="2095" y="1237"/>
                </a:lnTo>
                <a:lnTo>
                  <a:pt x="2134" y="1219"/>
                </a:lnTo>
                <a:lnTo>
                  <a:pt x="2146" y="1216"/>
                </a:lnTo>
                <a:lnTo>
                  <a:pt x="2155" y="1216"/>
                </a:lnTo>
                <a:lnTo>
                  <a:pt x="2163" y="1218"/>
                </a:lnTo>
                <a:lnTo>
                  <a:pt x="2170" y="1222"/>
                </a:lnTo>
                <a:lnTo>
                  <a:pt x="2187" y="1232"/>
                </a:lnTo>
                <a:lnTo>
                  <a:pt x="2218" y="1239"/>
                </a:lnTo>
                <a:lnTo>
                  <a:pt x="2243" y="1240"/>
                </a:lnTo>
                <a:lnTo>
                  <a:pt x="2245" y="1252"/>
                </a:lnTo>
                <a:lnTo>
                  <a:pt x="2246" y="1263"/>
                </a:lnTo>
                <a:lnTo>
                  <a:pt x="2243" y="1286"/>
                </a:lnTo>
                <a:lnTo>
                  <a:pt x="2233" y="1308"/>
                </a:lnTo>
                <a:lnTo>
                  <a:pt x="2219" y="1330"/>
                </a:lnTo>
                <a:lnTo>
                  <a:pt x="2203" y="1349"/>
                </a:lnTo>
                <a:lnTo>
                  <a:pt x="2187" y="1365"/>
                </a:lnTo>
                <a:lnTo>
                  <a:pt x="2161" y="1364"/>
                </a:lnTo>
                <a:lnTo>
                  <a:pt x="2121" y="1355"/>
                </a:lnTo>
                <a:lnTo>
                  <a:pt x="2091" y="1340"/>
                </a:lnTo>
                <a:lnTo>
                  <a:pt x="2071" y="1318"/>
                </a:lnTo>
                <a:lnTo>
                  <a:pt x="2063" y="1293"/>
                </a:lnTo>
                <a:lnTo>
                  <a:pt x="2062" y="1266"/>
                </a:lnTo>
                <a:lnTo>
                  <a:pt x="2066" y="1253"/>
                </a:lnTo>
                <a:lnTo>
                  <a:pt x="2094" y="1238"/>
                </a:lnTo>
                <a:lnTo>
                  <a:pt x="2122" y="1221"/>
                </a:lnTo>
                <a:lnTo>
                  <a:pt x="2106" y="1230"/>
                </a:lnTo>
                <a:lnTo>
                  <a:pt x="2068" y="1252"/>
                </a:lnTo>
                <a:lnTo>
                  <a:pt x="2066" y="1253"/>
                </a:lnTo>
                <a:close/>
                <a:moveTo>
                  <a:pt x="1780" y="919"/>
                </a:moveTo>
                <a:lnTo>
                  <a:pt x="1787" y="913"/>
                </a:lnTo>
                <a:lnTo>
                  <a:pt x="1807" y="902"/>
                </a:lnTo>
                <a:lnTo>
                  <a:pt x="1826" y="895"/>
                </a:lnTo>
                <a:lnTo>
                  <a:pt x="1847" y="892"/>
                </a:lnTo>
                <a:lnTo>
                  <a:pt x="1886" y="890"/>
                </a:lnTo>
                <a:lnTo>
                  <a:pt x="1894" y="889"/>
                </a:lnTo>
                <a:lnTo>
                  <a:pt x="1912" y="883"/>
                </a:lnTo>
                <a:lnTo>
                  <a:pt x="1951" y="865"/>
                </a:lnTo>
                <a:lnTo>
                  <a:pt x="2040" y="815"/>
                </a:lnTo>
                <a:lnTo>
                  <a:pt x="2124" y="781"/>
                </a:lnTo>
                <a:lnTo>
                  <a:pt x="2142" y="778"/>
                </a:lnTo>
                <a:lnTo>
                  <a:pt x="2164" y="782"/>
                </a:lnTo>
                <a:lnTo>
                  <a:pt x="2196" y="788"/>
                </a:lnTo>
                <a:lnTo>
                  <a:pt x="2216" y="790"/>
                </a:lnTo>
                <a:lnTo>
                  <a:pt x="2223" y="788"/>
                </a:lnTo>
                <a:lnTo>
                  <a:pt x="2228" y="785"/>
                </a:lnTo>
                <a:lnTo>
                  <a:pt x="2231" y="778"/>
                </a:lnTo>
                <a:lnTo>
                  <a:pt x="2234" y="769"/>
                </a:lnTo>
                <a:lnTo>
                  <a:pt x="2237" y="756"/>
                </a:lnTo>
                <a:lnTo>
                  <a:pt x="2241" y="718"/>
                </a:lnTo>
                <a:lnTo>
                  <a:pt x="2256" y="716"/>
                </a:lnTo>
                <a:lnTo>
                  <a:pt x="2277" y="714"/>
                </a:lnTo>
                <a:lnTo>
                  <a:pt x="2290" y="711"/>
                </a:lnTo>
                <a:lnTo>
                  <a:pt x="2293" y="709"/>
                </a:lnTo>
                <a:lnTo>
                  <a:pt x="2296" y="707"/>
                </a:lnTo>
                <a:lnTo>
                  <a:pt x="2296" y="702"/>
                </a:lnTo>
                <a:lnTo>
                  <a:pt x="2296" y="696"/>
                </a:lnTo>
                <a:lnTo>
                  <a:pt x="2294" y="678"/>
                </a:lnTo>
                <a:lnTo>
                  <a:pt x="2294" y="663"/>
                </a:lnTo>
                <a:lnTo>
                  <a:pt x="2289" y="663"/>
                </a:lnTo>
                <a:lnTo>
                  <a:pt x="2257" y="657"/>
                </a:lnTo>
                <a:lnTo>
                  <a:pt x="2148" y="639"/>
                </a:lnTo>
                <a:lnTo>
                  <a:pt x="2064" y="625"/>
                </a:lnTo>
                <a:lnTo>
                  <a:pt x="2060" y="624"/>
                </a:lnTo>
                <a:lnTo>
                  <a:pt x="2042" y="620"/>
                </a:lnTo>
                <a:lnTo>
                  <a:pt x="2007" y="602"/>
                </a:lnTo>
                <a:lnTo>
                  <a:pt x="1972" y="579"/>
                </a:lnTo>
                <a:lnTo>
                  <a:pt x="1904" y="523"/>
                </a:lnTo>
                <a:lnTo>
                  <a:pt x="1862" y="483"/>
                </a:lnTo>
                <a:lnTo>
                  <a:pt x="1859" y="485"/>
                </a:lnTo>
                <a:lnTo>
                  <a:pt x="1845" y="492"/>
                </a:lnTo>
                <a:lnTo>
                  <a:pt x="1794" y="517"/>
                </a:lnTo>
                <a:lnTo>
                  <a:pt x="1755" y="535"/>
                </a:lnTo>
                <a:lnTo>
                  <a:pt x="1753" y="536"/>
                </a:lnTo>
                <a:lnTo>
                  <a:pt x="1731" y="515"/>
                </a:lnTo>
                <a:lnTo>
                  <a:pt x="1701" y="482"/>
                </a:lnTo>
                <a:lnTo>
                  <a:pt x="1683" y="463"/>
                </a:lnTo>
                <a:lnTo>
                  <a:pt x="1676" y="457"/>
                </a:lnTo>
                <a:lnTo>
                  <a:pt x="1668" y="453"/>
                </a:lnTo>
                <a:lnTo>
                  <a:pt x="1660" y="452"/>
                </a:lnTo>
                <a:lnTo>
                  <a:pt x="1649" y="455"/>
                </a:lnTo>
                <a:lnTo>
                  <a:pt x="1636" y="458"/>
                </a:lnTo>
                <a:lnTo>
                  <a:pt x="1600" y="469"/>
                </a:lnTo>
                <a:lnTo>
                  <a:pt x="1586" y="459"/>
                </a:lnTo>
                <a:lnTo>
                  <a:pt x="1556" y="438"/>
                </a:lnTo>
                <a:lnTo>
                  <a:pt x="1494" y="404"/>
                </a:lnTo>
                <a:lnTo>
                  <a:pt x="1474" y="383"/>
                </a:lnTo>
                <a:lnTo>
                  <a:pt x="1468" y="372"/>
                </a:lnTo>
                <a:lnTo>
                  <a:pt x="1466" y="359"/>
                </a:lnTo>
                <a:lnTo>
                  <a:pt x="1468" y="343"/>
                </a:lnTo>
                <a:lnTo>
                  <a:pt x="1458" y="340"/>
                </a:lnTo>
                <a:lnTo>
                  <a:pt x="1438" y="332"/>
                </a:lnTo>
                <a:lnTo>
                  <a:pt x="1389" y="316"/>
                </a:lnTo>
                <a:lnTo>
                  <a:pt x="1344" y="301"/>
                </a:lnTo>
                <a:lnTo>
                  <a:pt x="1336" y="297"/>
                </a:lnTo>
                <a:lnTo>
                  <a:pt x="1303" y="286"/>
                </a:lnTo>
                <a:lnTo>
                  <a:pt x="1239" y="267"/>
                </a:lnTo>
                <a:lnTo>
                  <a:pt x="1115" y="238"/>
                </a:lnTo>
                <a:lnTo>
                  <a:pt x="989" y="212"/>
                </a:lnTo>
                <a:lnTo>
                  <a:pt x="957" y="204"/>
                </a:lnTo>
                <a:lnTo>
                  <a:pt x="938" y="199"/>
                </a:lnTo>
                <a:lnTo>
                  <a:pt x="892" y="178"/>
                </a:lnTo>
                <a:lnTo>
                  <a:pt x="779" y="127"/>
                </a:lnTo>
                <a:lnTo>
                  <a:pt x="724" y="110"/>
                </a:lnTo>
                <a:lnTo>
                  <a:pt x="678" y="105"/>
                </a:lnTo>
                <a:lnTo>
                  <a:pt x="660" y="110"/>
                </a:lnTo>
                <a:lnTo>
                  <a:pt x="628" y="96"/>
                </a:lnTo>
                <a:lnTo>
                  <a:pt x="579" y="80"/>
                </a:lnTo>
                <a:lnTo>
                  <a:pt x="543" y="73"/>
                </a:lnTo>
                <a:lnTo>
                  <a:pt x="471" y="55"/>
                </a:lnTo>
                <a:lnTo>
                  <a:pt x="380" y="0"/>
                </a:lnTo>
                <a:lnTo>
                  <a:pt x="365" y="0"/>
                </a:lnTo>
                <a:lnTo>
                  <a:pt x="345" y="0"/>
                </a:lnTo>
                <a:lnTo>
                  <a:pt x="333" y="2"/>
                </a:lnTo>
                <a:lnTo>
                  <a:pt x="329" y="5"/>
                </a:lnTo>
                <a:lnTo>
                  <a:pt x="326" y="9"/>
                </a:lnTo>
                <a:lnTo>
                  <a:pt x="321" y="15"/>
                </a:lnTo>
                <a:lnTo>
                  <a:pt x="313" y="34"/>
                </a:lnTo>
                <a:lnTo>
                  <a:pt x="298" y="63"/>
                </a:lnTo>
                <a:lnTo>
                  <a:pt x="271" y="64"/>
                </a:lnTo>
                <a:lnTo>
                  <a:pt x="226" y="65"/>
                </a:lnTo>
                <a:lnTo>
                  <a:pt x="189" y="70"/>
                </a:lnTo>
                <a:lnTo>
                  <a:pt x="163" y="82"/>
                </a:lnTo>
                <a:lnTo>
                  <a:pt x="143" y="102"/>
                </a:lnTo>
                <a:lnTo>
                  <a:pt x="135" y="136"/>
                </a:lnTo>
                <a:lnTo>
                  <a:pt x="134" y="157"/>
                </a:lnTo>
                <a:lnTo>
                  <a:pt x="145" y="175"/>
                </a:lnTo>
                <a:lnTo>
                  <a:pt x="166" y="200"/>
                </a:lnTo>
                <a:lnTo>
                  <a:pt x="178" y="216"/>
                </a:lnTo>
                <a:lnTo>
                  <a:pt x="180" y="223"/>
                </a:lnTo>
                <a:lnTo>
                  <a:pt x="179" y="231"/>
                </a:lnTo>
                <a:lnTo>
                  <a:pt x="176" y="241"/>
                </a:lnTo>
                <a:lnTo>
                  <a:pt x="170" y="252"/>
                </a:lnTo>
                <a:lnTo>
                  <a:pt x="148" y="286"/>
                </a:lnTo>
                <a:lnTo>
                  <a:pt x="131" y="311"/>
                </a:lnTo>
                <a:lnTo>
                  <a:pt x="134" y="312"/>
                </a:lnTo>
                <a:lnTo>
                  <a:pt x="152" y="316"/>
                </a:lnTo>
                <a:lnTo>
                  <a:pt x="215" y="328"/>
                </a:lnTo>
                <a:lnTo>
                  <a:pt x="263" y="337"/>
                </a:lnTo>
                <a:lnTo>
                  <a:pt x="267" y="337"/>
                </a:lnTo>
                <a:lnTo>
                  <a:pt x="265" y="341"/>
                </a:lnTo>
                <a:lnTo>
                  <a:pt x="264" y="346"/>
                </a:lnTo>
                <a:lnTo>
                  <a:pt x="262" y="349"/>
                </a:lnTo>
                <a:lnTo>
                  <a:pt x="257" y="355"/>
                </a:lnTo>
                <a:lnTo>
                  <a:pt x="252" y="362"/>
                </a:lnTo>
                <a:lnTo>
                  <a:pt x="240" y="377"/>
                </a:lnTo>
                <a:lnTo>
                  <a:pt x="238" y="381"/>
                </a:lnTo>
                <a:lnTo>
                  <a:pt x="264" y="391"/>
                </a:lnTo>
                <a:lnTo>
                  <a:pt x="312" y="408"/>
                </a:lnTo>
                <a:lnTo>
                  <a:pt x="391" y="437"/>
                </a:lnTo>
                <a:lnTo>
                  <a:pt x="476" y="478"/>
                </a:lnTo>
                <a:lnTo>
                  <a:pt x="500" y="491"/>
                </a:lnTo>
                <a:lnTo>
                  <a:pt x="500" y="493"/>
                </a:lnTo>
                <a:lnTo>
                  <a:pt x="502" y="502"/>
                </a:lnTo>
                <a:lnTo>
                  <a:pt x="511" y="534"/>
                </a:lnTo>
                <a:lnTo>
                  <a:pt x="518" y="557"/>
                </a:lnTo>
                <a:lnTo>
                  <a:pt x="519" y="558"/>
                </a:lnTo>
                <a:lnTo>
                  <a:pt x="515" y="560"/>
                </a:lnTo>
                <a:lnTo>
                  <a:pt x="496" y="572"/>
                </a:lnTo>
                <a:lnTo>
                  <a:pt x="432" y="609"/>
                </a:lnTo>
                <a:lnTo>
                  <a:pt x="382" y="638"/>
                </a:lnTo>
                <a:lnTo>
                  <a:pt x="380" y="639"/>
                </a:lnTo>
                <a:lnTo>
                  <a:pt x="379" y="645"/>
                </a:lnTo>
                <a:lnTo>
                  <a:pt x="372" y="688"/>
                </a:lnTo>
                <a:lnTo>
                  <a:pt x="349" y="832"/>
                </a:lnTo>
                <a:lnTo>
                  <a:pt x="331" y="944"/>
                </a:lnTo>
                <a:lnTo>
                  <a:pt x="331" y="949"/>
                </a:lnTo>
                <a:lnTo>
                  <a:pt x="329" y="950"/>
                </a:lnTo>
                <a:lnTo>
                  <a:pt x="315" y="957"/>
                </a:lnTo>
                <a:lnTo>
                  <a:pt x="268" y="978"/>
                </a:lnTo>
                <a:lnTo>
                  <a:pt x="232" y="995"/>
                </a:lnTo>
                <a:lnTo>
                  <a:pt x="231" y="995"/>
                </a:lnTo>
                <a:lnTo>
                  <a:pt x="230" y="994"/>
                </a:lnTo>
                <a:lnTo>
                  <a:pt x="226" y="987"/>
                </a:lnTo>
                <a:lnTo>
                  <a:pt x="210" y="960"/>
                </a:lnTo>
                <a:lnTo>
                  <a:pt x="198" y="939"/>
                </a:lnTo>
                <a:lnTo>
                  <a:pt x="198" y="937"/>
                </a:lnTo>
                <a:lnTo>
                  <a:pt x="197" y="938"/>
                </a:lnTo>
                <a:lnTo>
                  <a:pt x="195" y="943"/>
                </a:lnTo>
                <a:lnTo>
                  <a:pt x="188" y="960"/>
                </a:lnTo>
                <a:lnTo>
                  <a:pt x="186" y="971"/>
                </a:lnTo>
                <a:lnTo>
                  <a:pt x="188" y="982"/>
                </a:lnTo>
                <a:lnTo>
                  <a:pt x="190" y="986"/>
                </a:lnTo>
                <a:lnTo>
                  <a:pt x="194" y="993"/>
                </a:lnTo>
                <a:lnTo>
                  <a:pt x="202" y="1012"/>
                </a:lnTo>
                <a:lnTo>
                  <a:pt x="224" y="1062"/>
                </a:lnTo>
                <a:lnTo>
                  <a:pt x="238" y="1098"/>
                </a:lnTo>
                <a:lnTo>
                  <a:pt x="239" y="1101"/>
                </a:lnTo>
                <a:lnTo>
                  <a:pt x="237" y="1106"/>
                </a:lnTo>
                <a:lnTo>
                  <a:pt x="226" y="1127"/>
                </a:lnTo>
                <a:lnTo>
                  <a:pt x="190" y="1201"/>
                </a:lnTo>
                <a:lnTo>
                  <a:pt x="163" y="1257"/>
                </a:lnTo>
                <a:lnTo>
                  <a:pt x="161" y="1260"/>
                </a:lnTo>
                <a:lnTo>
                  <a:pt x="175" y="1265"/>
                </a:lnTo>
                <a:lnTo>
                  <a:pt x="217" y="1280"/>
                </a:lnTo>
                <a:lnTo>
                  <a:pt x="249" y="1291"/>
                </a:lnTo>
                <a:lnTo>
                  <a:pt x="252" y="1291"/>
                </a:lnTo>
                <a:lnTo>
                  <a:pt x="243" y="1297"/>
                </a:lnTo>
                <a:lnTo>
                  <a:pt x="234" y="1301"/>
                </a:lnTo>
                <a:lnTo>
                  <a:pt x="224" y="1304"/>
                </a:lnTo>
                <a:lnTo>
                  <a:pt x="201" y="1308"/>
                </a:lnTo>
                <a:lnTo>
                  <a:pt x="157" y="1313"/>
                </a:lnTo>
                <a:lnTo>
                  <a:pt x="136" y="1325"/>
                </a:lnTo>
                <a:lnTo>
                  <a:pt x="133" y="1329"/>
                </a:lnTo>
                <a:lnTo>
                  <a:pt x="114" y="1351"/>
                </a:lnTo>
                <a:lnTo>
                  <a:pt x="50" y="1430"/>
                </a:lnTo>
                <a:lnTo>
                  <a:pt x="2" y="1489"/>
                </a:lnTo>
                <a:lnTo>
                  <a:pt x="0" y="1492"/>
                </a:lnTo>
                <a:lnTo>
                  <a:pt x="25" y="1514"/>
                </a:lnTo>
                <a:lnTo>
                  <a:pt x="82" y="1554"/>
                </a:lnTo>
                <a:lnTo>
                  <a:pt x="203" y="1628"/>
                </a:lnTo>
                <a:lnTo>
                  <a:pt x="299" y="1726"/>
                </a:lnTo>
                <a:lnTo>
                  <a:pt x="314" y="1759"/>
                </a:lnTo>
                <a:lnTo>
                  <a:pt x="315" y="1767"/>
                </a:lnTo>
                <a:lnTo>
                  <a:pt x="319" y="1773"/>
                </a:lnTo>
                <a:lnTo>
                  <a:pt x="327" y="1777"/>
                </a:lnTo>
                <a:lnTo>
                  <a:pt x="335" y="1781"/>
                </a:lnTo>
                <a:lnTo>
                  <a:pt x="346" y="1784"/>
                </a:lnTo>
                <a:lnTo>
                  <a:pt x="368" y="1788"/>
                </a:lnTo>
                <a:lnTo>
                  <a:pt x="407" y="1790"/>
                </a:lnTo>
                <a:lnTo>
                  <a:pt x="413" y="1790"/>
                </a:lnTo>
                <a:lnTo>
                  <a:pt x="453" y="1783"/>
                </a:lnTo>
                <a:lnTo>
                  <a:pt x="528" y="1768"/>
                </a:lnTo>
                <a:lnTo>
                  <a:pt x="670" y="1748"/>
                </a:lnTo>
                <a:lnTo>
                  <a:pt x="817" y="1752"/>
                </a:lnTo>
                <a:lnTo>
                  <a:pt x="857" y="1759"/>
                </a:lnTo>
                <a:lnTo>
                  <a:pt x="880" y="1761"/>
                </a:lnTo>
                <a:lnTo>
                  <a:pt x="909" y="1769"/>
                </a:lnTo>
                <a:lnTo>
                  <a:pt x="923" y="1780"/>
                </a:lnTo>
                <a:lnTo>
                  <a:pt x="930" y="1789"/>
                </a:lnTo>
                <a:lnTo>
                  <a:pt x="931" y="1790"/>
                </a:lnTo>
                <a:lnTo>
                  <a:pt x="934" y="1790"/>
                </a:lnTo>
                <a:lnTo>
                  <a:pt x="936" y="1790"/>
                </a:lnTo>
                <a:lnTo>
                  <a:pt x="938" y="1789"/>
                </a:lnTo>
                <a:lnTo>
                  <a:pt x="942" y="1787"/>
                </a:lnTo>
                <a:lnTo>
                  <a:pt x="951" y="1779"/>
                </a:lnTo>
                <a:lnTo>
                  <a:pt x="965" y="1767"/>
                </a:lnTo>
                <a:lnTo>
                  <a:pt x="973" y="1759"/>
                </a:lnTo>
                <a:lnTo>
                  <a:pt x="998" y="1761"/>
                </a:lnTo>
                <a:lnTo>
                  <a:pt x="1026" y="1758"/>
                </a:lnTo>
                <a:lnTo>
                  <a:pt x="1084" y="1742"/>
                </a:lnTo>
                <a:lnTo>
                  <a:pt x="1146" y="1719"/>
                </a:lnTo>
                <a:lnTo>
                  <a:pt x="1266" y="1674"/>
                </a:lnTo>
                <a:lnTo>
                  <a:pt x="1320" y="1666"/>
                </a:lnTo>
                <a:lnTo>
                  <a:pt x="1334" y="1660"/>
                </a:lnTo>
                <a:lnTo>
                  <a:pt x="1350" y="1651"/>
                </a:lnTo>
                <a:lnTo>
                  <a:pt x="1353" y="1648"/>
                </a:lnTo>
                <a:lnTo>
                  <a:pt x="1353" y="1647"/>
                </a:lnTo>
                <a:lnTo>
                  <a:pt x="1353" y="1644"/>
                </a:lnTo>
                <a:lnTo>
                  <a:pt x="1353" y="1643"/>
                </a:lnTo>
                <a:lnTo>
                  <a:pt x="1352" y="1642"/>
                </a:lnTo>
                <a:lnTo>
                  <a:pt x="1351" y="1640"/>
                </a:lnTo>
                <a:lnTo>
                  <a:pt x="1348" y="1637"/>
                </a:lnTo>
                <a:lnTo>
                  <a:pt x="1340" y="1627"/>
                </a:lnTo>
                <a:lnTo>
                  <a:pt x="1336" y="1610"/>
                </a:lnTo>
                <a:lnTo>
                  <a:pt x="1336" y="1604"/>
                </a:lnTo>
                <a:lnTo>
                  <a:pt x="1385" y="1569"/>
                </a:lnTo>
                <a:lnTo>
                  <a:pt x="1461" y="1522"/>
                </a:lnTo>
                <a:lnTo>
                  <a:pt x="1536" y="1482"/>
                </a:lnTo>
                <a:lnTo>
                  <a:pt x="1543" y="1474"/>
                </a:lnTo>
                <a:lnTo>
                  <a:pt x="1547" y="1464"/>
                </a:lnTo>
                <a:lnTo>
                  <a:pt x="1549" y="1449"/>
                </a:lnTo>
                <a:lnTo>
                  <a:pt x="1549" y="1428"/>
                </a:lnTo>
                <a:lnTo>
                  <a:pt x="1550" y="1401"/>
                </a:lnTo>
                <a:lnTo>
                  <a:pt x="1545" y="1390"/>
                </a:lnTo>
                <a:lnTo>
                  <a:pt x="1532" y="1363"/>
                </a:lnTo>
                <a:lnTo>
                  <a:pt x="1506" y="1306"/>
                </a:lnTo>
                <a:lnTo>
                  <a:pt x="1497" y="1245"/>
                </a:lnTo>
                <a:lnTo>
                  <a:pt x="1500" y="1229"/>
                </a:lnTo>
                <a:lnTo>
                  <a:pt x="1509" y="1199"/>
                </a:lnTo>
                <a:lnTo>
                  <a:pt x="1544" y="1146"/>
                </a:lnTo>
                <a:lnTo>
                  <a:pt x="1589" y="1097"/>
                </a:lnTo>
                <a:lnTo>
                  <a:pt x="1699" y="1003"/>
                </a:lnTo>
                <a:lnTo>
                  <a:pt x="1780" y="919"/>
                </a:lnTo>
                <a:lnTo>
                  <a:pt x="1786" y="913"/>
                </a:lnTo>
                <a:lnTo>
                  <a:pt x="1793" y="907"/>
                </a:lnTo>
                <a:lnTo>
                  <a:pt x="1789" y="910"/>
                </a:lnTo>
                <a:lnTo>
                  <a:pt x="1780" y="919"/>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84"/>
          <p:cNvSpPr/>
          <p:nvPr/>
        </p:nvSpPr>
        <p:spPr>
          <a:xfrm>
            <a:off x="1720800" y="6087960"/>
            <a:ext cx="61920" cy="27000"/>
          </a:xfrm>
          <a:custGeom>
            <a:avLst/>
            <a:gdLst>
              <a:gd name="textAreaLeft" fmla="*/ 0 w 61920"/>
              <a:gd name="textAreaRight" fmla="*/ 62280 w 61920"/>
              <a:gd name="textAreaTop" fmla="*/ 0 h 27000"/>
              <a:gd name="textAreaBottom" fmla="*/ 27360 h 27000"/>
            </a:gdLst>
            <a:ahLst/>
            <a:rect l="textAreaLeft" t="textAreaTop" r="textAreaRight" b="textAreaBottom"/>
            <a:pathLst>
              <a:path w="79" h="34">
                <a:moveTo>
                  <a:pt x="0" y="8"/>
                </a:moveTo>
                <a:lnTo>
                  <a:pt x="8" y="5"/>
                </a:lnTo>
                <a:lnTo>
                  <a:pt x="22" y="1"/>
                </a:lnTo>
                <a:lnTo>
                  <a:pt x="34" y="0"/>
                </a:lnTo>
                <a:lnTo>
                  <a:pt x="45" y="2"/>
                </a:lnTo>
                <a:lnTo>
                  <a:pt x="58" y="6"/>
                </a:lnTo>
                <a:lnTo>
                  <a:pt x="71" y="12"/>
                </a:lnTo>
                <a:lnTo>
                  <a:pt x="79" y="15"/>
                </a:lnTo>
                <a:lnTo>
                  <a:pt x="74" y="17"/>
                </a:lnTo>
                <a:lnTo>
                  <a:pt x="60" y="24"/>
                </a:lnTo>
                <a:lnTo>
                  <a:pt x="26" y="34"/>
                </a:lnTo>
                <a:lnTo>
                  <a:pt x="17" y="34"/>
                </a:lnTo>
                <a:lnTo>
                  <a:pt x="10" y="31"/>
                </a:lnTo>
                <a:lnTo>
                  <a:pt x="5" y="27"/>
                </a:lnTo>
                <a:lnTo>
                  <a:pt x="1" y="19"/>
                </a:lnTo>
                <a:lnTo>
                  <a:pt x="0" y="8"/>
                </a:lnTo>
                <a:lnTo>
                  <a:pt x="7" y="5"/>
                </a:lnTo>
                <a:lnTo>
                  <a:pt x="13" y="2"/>
                </a:lnTo>
                <a:lnTo>
                  <a:pt x="10" y="4"/>
                </a:lnTo>
                <a:lnTo>
                  <a:pt x="0" y="8"/>
                </a:lnTo>
              </a:path>
            </a:pathLst>
          </a:custGeom>
          <a:noFill/>
          <a:ln w="6480">
            <a:solidFill>
              <a:srgbClr val="1f1a17"/>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86" name="Freeform 85"/>
          <p:cNvSpPr/>
          <p:nvPr/>
        </p:nvSpPr>
        <p:spPr>
          <a:xfrm>
            <a:off x="2130480" y="5904000"/>
            <a:ext cx="114120" cy="46080"/>
          </a:xfrm>
          <a:custGeom>
            <a:avLst/>
            <a:gdLst>
              <a:gd name="textAreaLeft" fmla="*/ 0 w 114120"/>
              <a:gd name="textAreaRight" fmla="*/ 114480 w 114120"/>
              <a:gd name="textAreaTop" fmla="*/ 0 h 46080"/>
              <a:gd name="textAreaBottom" fmla="*/ 46440 h 46080"/>
            </a:gdLst>
            <a:ahLst/>
            <a:rect l="textAreaLeft" t="textAreaTop" r="textAreaRight" b="textAreaBottom"/>
            <a:pathLst>
              <a:path w="144" h="59">
                <a:moveTo>
                  <a:pt x="0" y="0"/>
                </a:moveTo>
                <a:lnTo>
                  <a:pt x="40" y="2"/>
                </a:lnTo>
                <a:lnTo>
                  <a:pt x="101" y="9"/>
                </a:lnTo>
                <a:lnTo>
                  <a:pt x="135" y="21"/>
                </a:lnTo>
                <a:lnTo>
                  <a:pt x="141" y="24"/>
                </a:lnTo>
                <a:lnTo>
                  <a:pt x="143" y="28"/>
                </a:lnTo>
                <a:lnTo>
                  <a:pt x="144" y="31"/>
                </a:lnTo>
                <a:lnTo>
                  <a:pt x="144" y="35"/>
                </a:lnTo>
                <a:lnTo>
                  <a:pt x="141" y="38"/>
                </a:lnTo>
                <a:lnTo>
                  <a:pt x="136" y="41"/>
                </a:lnTo>
                <a:lnTo>
                  <a:pt x="131" y="45"/>
                </a:lnTo>
                <a:lnTo>
                  <a:pt x="114" y="50"/>
                </a:lnTo>
                <a:lnTo>
                  <a:pt x="88" y="55"/>
                </a:lnTo>
                <a:lnTo>
                  <a:pt x="56" y="58"/>
                </a:lnTo>
                <a:lnTo>
                  <a:pt x="38" y="59"/>
                </a:lnTo>
                <a:lnTo>
                  <a:pt x="37" y="58"/>
                </a:lnTo>
                <a:lnTo>
                  <a:pt x="31" y="50"/>
                </a:lnTo>
                <a:lnTo>
                  <a:pt x="14" y="23"/>
                </a:lnTo>
                <a:lnTo>
                  <a:pt x="0" y="2"/>
                </a:lnTo>
                <a:lnTo>
                  <a:pt x="0" y="0"/>
                </a:lnTo>
                <a:lnTo>
                  <a:pt x="36" y="0"/>
                </a:lnTo>
                <a:lnTo>
                  <a:pt x="72" y="0"/>
                </a:lnTo>
                <a:lnTo>
                  <a:pt x="52" y="0"/>
                </a:lnTo>
                <a:lnTo>
                  <a:pt x="3" y="0"/>
                </a:lnTo>
                <a:lnTo>
                  <a:pt x="0" y="0"/>
                </a:lnTo>
              </a:path>
            </a:pathLst>
          </a:custGeom>
          <a:noFill/>
          <a:ln w="6480">
            <a:solidFill>
              <a:srgbClr val="1f1a17"/>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7" name="Freeform 86"/>
          <p:cNvSpPr/>
          <p:nvPr/>
        </p:nvSpPr>
        <p:spPr>
          <a:xfrm>
            <a:off x="1879560" y="5958000"/>
            <a:ext cx="146160" cy="118800"/>
          </a:xfrm>
          <a:custGeom>
            <a:avLst/>
            <a:gdLst>
              <a:gd name="textAreaLeft" fmla="*/ 0 w 146160"/>
              <a:gd name="textAreaRight" fmla="*/ 146520 w 146160"/>
              <a:gd name="textAreaTop" fmla="*/ 0 h 118800"/>
              <a:gd name="textAreaBottom" fmla="*/ 118800 h 118800"/>
            </a:gdLst>
            <a:ahLst/>
            <a:rect l="textAreaLeft" t="textAreaTop" r="textAreaRight" b="textAreaBottom"/>
            <a:pathLst>
              <a:path w="184" h="149">
                <a:moveTo>
                  <a:pt x="4" y="37"/>
                </a:moveTo>
                <a:lnTo>
                  <a:pt x="33" y="21"/>
                </a:lnTo>
                <a:lnTo>
                  <a:pt x="72" y="3"/>
                </a:lnTo>
                <a:lnTo>
                  <a:pt x="84" y="0"/>
                </a:lnTo>
                <a:lnTo>
                  <a:pt x="93" y="0"/>
                </a:lnTo>
                <a:lnTo>
                  <a:pt x="101" y="2"/>
                </a:lnTo>
                <a:lnTo>
                  <a:pt x="108" y="6"/>
                </a:lnTo>
                <a:lnTo>
                  <a:pt x="125" y="16"/>
                </a:lnTo>
                <a:lnTo>
                  <a:pt x="156" y="23"/>
                </a:lnTo>
                <a:lnTo>
                  <a:pt x="181" y="24"/>
                </a:lnTo>
                <a:lnTo>
                  <a:pt x="183" y="36"/>
                </a:lnTo>
                <a:lnTo>
                  <a:pt x="184" y="47"/>
                </a:lnTo>
                <a:lnTo>
                  <a:pt x="181" y="70"/>
                </a:lnTo>
                <a:lnTo>
                  <a:pt x="171" y="92"/>
                </a:lnTo>
                <a:lnTo>
                  <a:pt x="157" y="114"/>
                </a:lnTo>
                <a:lnTo>
                  <a:pt x="141" y="133"/>
                </a:lnTo>
                <a:lnTo>
                  <a:pt x="125" y="149"/>
                </a:lnTo>
                <a:lnTo>
                  <a:pt x="99" y="148"/>
                </a:lnTo>
                <a:lnTo>
                  <a:pt x="59" y="139"/>
                </a:lnTo>
                <a:lnTo>
                  <a:pt x="29" y="124"/>
                </a:lnTo>
                <a:lnTo>
                  <a:pt x="9" y="102"/>
                </a:lnTo>
                <a:lnTo>
                  <a:pt x="1" y="77"/>
                </a:lnTo>
                <a:lnTo>
                  <a:pt x="0" y="50"/>
                </a:lnTo>
                <a:lnTo>
                  <a:pt x="4" y="37"/>
                </a:lnTo>
                <a:lnTo>
                  <a:pt x="32" y="22"/>
                </a:lnTo>
                <a:lnTo>
                  <a:pt x="60" y="5"/>
                </a:lnTo>
                <a:lnTo>
                  <a:pt x="44" y="14"/>
                </a:lnTo>
                <a:lnTo>
                  <a:pt x="6" y="36"/>
                </a:lnTo>
                <a:lnTo>
                  <a:pt x="4" y="37"/>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87"/>
          <p:cNvSpPr/>
          <p:nvPr/>
        </p:nvSpPr>
        <p:spPr>
          <a:xfrm>
            <a:off x="243000" y="4994280"/>
            <a:ext cx="1822320" cy="1420920"/>
          </a:xfrm>
          <a:custGeom>
            <a:avLst/>
            <a:gdLst>
              <a:gd name="textAreaLeft" fmla="*/ 0 w 1822320"/>
              <a:gd name="textAreaRight" fmla="*/ 1822680 w 1822320"/>
              <a:gd name="textAreaTop" fmla="*/ 0 h 1420920"/>
              <a:gd name="textAreaBottom" fmla="*/ 1420920 h 1420920"/>
            </a:gdLst>
            <a:ahLst/>
            <a:rect l="textAreaLeft" t="textAreaTop" r="textAreaRight" b="textAreaBottom"/>
            <a:pathLst>
              <a:path w="2296" h="1790">
                <a:moveTo>
                  <a:pt x="1780" y="919"/>
                </a:moveTo>
                <a:lnTo>
                  <a:pt x="1787" y="913"/>
                </a:lnTo>
                <a:lnTo>
                  <a:pt x="1807" y="902"/>
                </a:lnTo>
                <a:lnTo>
                  <a:pt x="1826" y="895"/>
                </a:lnTo>
                <a:lnTo>
                  <a:pt x="1847" y="892"/>
                </a:lnTo>
                <a:lnTo>
                  <a:pt x="1886" y="890"/>
                </a:lnTo>
                <a:lnTo>
                  <a:pt x="1894" y="889"/>
                </a:lnTo>
                <a:lnTo>
                  <a:pt x="1912" y="883"/>
                </a:lnTo>
                <a:lnTo>
                  <a:pt x="1951" y="865"/>
                </a:lnTo>
                <a:lnTo>
                  <a:pt x="2040" y="815"/>
                </a:lnTo>
                <a:lnTo>
                  <a:pt x="2124" y="781"/>
                </a:lnTo>
                <a:lnTo>
                  <a:pt x="2142" y="778"/>
                </a:lnTo>
                <a:lnTo>
                  <a:pt x="2164" y="782"/>
                </a:lnTo>
                <a:lnTo>
                  <a:pt x="2196" y="788"/>
                </a:lnTo>
                <a:lnTo>
                  <a:pt x="2216" y="790"/>
                </a:lnTo>
                <a:lnTo>
                  <a:pt x="2223" y="788"/>
                </a:lnTo>
                <a:lnTo>
                  <a:pt x="2228" y="785"/>
                </a:lnTo>
                <a:lnTo>
                  <a:pt x="2231" y="778"/>
                </a:lnTo>
                <a:lnTo>
                  <a:pt x="2234" y="769"/>
                </a:lnTo>
                <a:lnTo>
                  <a:pt x="2237" y="756"/>
                </a:lnTo>
                <a:lnTo>
                  <a:pt x="2241" y="718"/>
                </a:lnTo>
                <a:lnTo>
                  <a:pt x="2256" y="716"/>
                </a:lnTo>
                <a:lnTo>
                  <a:pt x="2277" y="714"/>
                </a:lnTo>
                <a:lnTo>
                  <a:pt x="2290" y="711"/>
                </a:lnTo>
                <a:lnTo>
                  <a:pt x="2293" y="709"/>
                </a:lnTo>
                <a:lnTo>
                  <a:pt x="2296" y="707"/>
                </a:lnTo>
                <a:lnTo>
                  <a:pt x="2296" y="702"/>
                </a:lnTo>
                <a:lnTo>
                  <a:pt x="2296" y="696"/>
                </a:lnTo>
                <a:lnTo>
                  <a:pt x="2294" y="678"/>
                </a:lnTo>
                <a:lnTo>
                  <a:pt x="2294" y="663"/>
                </a:lnTo>
                <a:lnTo>
                  <a:pt x="2289" y="663"/>
                </a:lnTo>
                <a:lnTo>
                  <a:pt x="2257" y="657"/>
                </a:lnTo>
                <a:lnTo>
                  <a:pt x="2148" y="639"/>
                </a:lnTo>
                <a:lnTo>
                  <a:pt x="2064" y="625"/>
                </a:lnTo>
                <a:lnTo>
                  <a:pt x="2060" y="624"/>
                </a:lnTo>
                <a:lnTo>
                  <a:pt x="2042" y="620"/>
                </a:lnTo>
                <a:lnTo>
                  <a:pt x="2007" y="602"/>
                </a:lnTo>
                <a:lnTo>
                  <a:pt x="1972" y="579"/>
                </a:lnTo>
                <a:lnTo>
                  <a:pt x="1904" y="523"/>
                </a:lnTo>
                <a:lnTo>
                  <a:pt x="1862" y="483"/>
                </a:lnTo>
                <a:lnTo>
                  <a:pt x="1859" y="485"/>
                </a:lnTo>
                <a:lnTo>
                  <a:pt x="1845" y="492"/>
                </a:lnTo>
                <a:lnTo>
                  <a:pt x="1794" y="517"/>
                </a:lnTo>
                <a:lnTo>
                  <a:pt x="1755" y="535"/>
                </a:lnTo>
                <a:lnTo>
                  <a:pt x="1753" y="536"/>
                </a:lnTo>
                <a:lnTo>
                  <a:pt x="1731" y="515"/>
                </a:lnTo>
                <a:lnTo>
                  <a:pt x="1701" y="482"/>
                </a:lnTo>
                <a:lnTo>
                  <a:pt x="1683" y="463"/>
                </a:lnTo>
                <a:lnTo>
                  <a:pt x="1676" y="457"/>
                </a:lnTo>
                <a:lnTo>
                  <a:pt x="1668" y="453"/>
                </a:lnTo>
                <a:lnTo>
                  <a:pt x="1660" y="452"/>
                </a:lnTo>
                <a:lnTo>
                  <a:pt x="1649" y="455"/>
                </a:lnTo>
                <a:lnTo>
                  <a:pt x="1636" y="458"/>
                </a:lnTo>
                <a:lnTo>
                  <a:pt x="1600" y="469"/>
                </a:lnTo>
                <a:lnTo>
                  <a:pt x="1586" y="459"/>
                </a:lnTo>
                <a:lnTo>
                  <a:pt x="1556" y="438"/>
                </a:lnTo>
                <a:lnTo>
                  <a:pt x="1494" y="404"/>
                </a:lnTo>
                <a:lnTo>
                  <a:pt x="1474" y="383"/>
                </a:lnTo>
                <a:lnTo>
                  <a:pt x="1468" y="372"/>
                </a:lnTo>
                <a:lnTo>
                  <a:pt x="1466" y="359"/>
                </a:lnTo>
                <a:lnTo>
                  <a:pt x="1468" y="343"/>
                </a:lnTo>
                <a:lnTo>
                  <a:pt x="1458" y="340"/>
                </a:lnTo>
                <a:lnTo>
                  <a:pt x="1438" y="332"/>
                </a:lnTo>
                <a:lnTo>
                  <a:pt x="1389" y="316"/>
                </a:lnTo>
                <a:lnTo>
                  <a:pt x="1344" y="301"/>
                </a:lnTo>
                <a:lnTo>
                  <a:pt x="1336" y="297"/>
                </a:lnTo>
                <a:lnTo>
                  <a:pt x="1303" y="286"/>
                </a:lnTo>
                <a:lnTo>
                  <a:pt x="1239" y="267"/>
                </a:lnTo>
                <a:lnTo>
                  <a:pt x="1115" y="238"/>
                </a:lnTo>
                <a:lnTo>
                  <a:pt x="989" y="212"/>
                </a:lnTo>
                <a:lnTo>
                  <a:pt x="957" y="204"/>
                </a:lnTo>
                <a:lnTo>
                  <a:pt x="938" y="199"/>
                </a:lnTo>
                <a:lnTo>
                  <a:pt x="892" y="178"/>
                </a:lnTo>
                <a:lnTo>
                  <a:pt x="779" y="127"/>
                </a:lnTo>
                <a:lnTo>
                  <a:pt x="724" y="110"/>
                </a:lnTo>
                <a:lnTo>
                  <a:pt x="678" y="105"/>
                </a:lnTo>
                <a:lnTo>
                  <a:pt x="660" y="110"/>
                </a:lnTo>
                <a:lnTo>
                  <a:pt x="628" y="96"/>
                </a:lnTo>
                <a:lnTo>
                  <a:pt x="579" y="80"/>
                </a:lnTo>
                <a:lnTo>
                  <a:pt x="543" y="73"/>
                </a:lnTo>
                <a:lnTo>
                  <a:pt x="471" y="55"/>
                </a:lnTo>
                <a:lnTo>
                  <a:pt x="380" y="0"/>
                </a:lnTo>
                <a:lnTo>
                  <a:pt x="365" y="0"/>
                </a:lnTo>
                <a:lnTo>
                  <a:pt x="345" y="0"/>
                </a:lnTo>
                <a:lnTo>
                  <a:pt x="333" y="2"/>
                </a:lnTo>
                <a:lnTo>
                  <a:pt x="329" y="5"/>
                </a:lnTo>
                <a:lnTo>
                  <a:pt x="326" y="9"/>
                </a:lnTo>
                <a:lnTo>
                  <a:pt x="321" y="15"/>
                </a:lnTo>
                <a:lnTo>
                  <a:pt x="313" y="34"/>
                </a:lnTo>
                <a:lnTo>
                  <a:pt x="298" y="63"/>
                </a:lnTo>
                <a:lnTo>
                  <a:pt x="271" y="64"/>
                </a:lnTo>
                <a:lnTo>
                  <a:pt x="226" y="65"/>
                </a:lnTo>
                <a:lnTo>
                  <a:pt x="189" y="70"/>
                </a:lnTo>
                <a:lnTo>
                  <a:pt x="163" y="82"/>
                </a:lnTo>
                <a:lnTo>
                  <a:pt x="143" y="102"/>
                </a:lnTo>
                <a:lnTo>
                  <a:pt x="135" y="136"/>
                </a:lnTo>
                <a:lnTo>
                  <a:pt x="134" y="157"/>
                </a:lnTo>
                <a:lnTo>
                  <a:pt x="145" y="175"/>
                </a:lnTo>
                <a:lnTo>
                  <a:pt x="166" y="200"/>
                </a:lnTo>
                <a:lnTo>
                  <a:pt x="178" y="216"/>
                </a:lnTo>
                <a:lnTo>
                  <a:pt x="180" y="223"/>
                </a:lnTo>
                <a:lnTo>
                  <a:pt x="179" y="231"/>
                </a:lnTo>
                <a:lnTo>
                  <a:pt x="176" y="241"/>
                </a:lnTo>
                <a:lnTo>
                  <a:pt x="170" y="252"/>
                </a:lnTo>
                <a:lnTo>
                  <a:pt x="148" y="286"/>
                </a:lnTo>
                <a:lnTo>
                  <a:pt x="131" y="311"/>
                </a:lnTo>
                <a:lnTo>
                  <a:pt x="134" y="312"/>
                </a:lnTo>
                <a:lnTo>
                  <a:pt x="152" y="316"/>
                </a:lnTo>
                <a:lnTo>
                  <a:pt x="215" y="328"/>
                </a:lnTo>
                <a:lnTo>
                  <a:pt x="263" y="337"/>
                </a:lnTo>
                <a:lnTo>
                  <a:pt x="267" y="337"/>
                </a:lnTo>
                <a:lnTo>
                  <a:pt x="265" y="341"/>
                </a:lnTo>
                <a:lnTo>
                  <a:pt x="264" y="346"/>
                </a:lnTo>
                <a:lnTo>
                  <a:pt x="262" y="349"/>
                </a:lnTo>
                <a:lnTo>
                  <a:pt x="257" y="355"/>
                </a:lnTo>
                <a:lnTo>
                  <a:pt x="252" y="362"/>
                </a:lnTo>
                <a:lnTo>
                  <a:pt x="240" y="377"/>
                </a:lnTo>
                <a:lnTo>
                  <a:pt x="238" y="381"/>
                </a:lnTo>
                <a:lnTo>
                  <a:pt x="264" y="391"/>
                </a:lnTo>
                <a:lnTo>
                  <a:pt x="312" y="408"/>
                </a:lnTo>
                <a:lnTo>
                  <a:pt x="391" y="437"/>
                </a:lnTo>
                <a:lnTo>
                  <a:pt x="476" y="478"/>
                </a:lnTo>
                <a:lnTo>
                  <a:pt x="500" y="491"/>
                </a:lnTo>
                <a:lnTo>
                  <a:pt x="500" y="493"/>
                </a:lnTo>
                <a:lnTo>
                  <a:pt x="502" y="502"/>
                </a:lnTo>
                <a:lnTo>
                  <a:pt x="511" y="534"/>
                </a:lnTo>
                <a:lnTo>
                  <a:pt x="518" y="557"/>
                </a:lnTo>
                <a:lnTo>
                  <a:pt x="519" y="558"/>
                </a:lnTo>
                <a:lnTo>
                  <a:pt x="515" y="560"/>
                </a:lnTo>
                <a:lnTo>
                  <a:pt x="496" y="572"/>
                </a:lnTo>
                <a:lnTo>
                  <a:pt x="432" y="609"/>
                </a:lnTo>
                <a:lnTo>
                  <a:pt x="382" y="638"/>
                </a:lnTo>
                <a:lnTo>
                  <a:pt x="380" y="639"/>
                </a:lnTo>
                <a:lnTo>
                  <a:pt x="379" y="645"/>
                </a:lnTo>
                <a:lnTo>
                  <a:pt x="372" y="688"/>
                </a:lnTo>
                <a:lnTo>
                  <a:pt x="349" y="832"/>
                </a:lnTo>
                <a:lnTo>
                  <a:pt x="331" y="944"/>
                </a:lnTo>
                <a:lnTo>
                  <a:pt x="331" y="949"/>
                </a:lnTo>
                <a:lnTo>
                  <a:pt x="329" y="950"/>
                </a:lnTo>
                <a:lnTo>
                  <a:pt x="315" y="957"/>
                </a:lnTo>
                <a:lnTo>
                  <a:pt x="268" y="978"/>
                </a:lnTo>
                <a:lnTo>
                  <a:pt x="232" y="995"/>
                </a:lnTo>
                <a:lnTo>
                  <a:pt x="231" y="995"/>
                </a:lnTo>
                <a:lnTo>
                  <a:pt x="230" y="994"/>
                </a:lnTo>
                <a:lnTo>
                  <a:pt x="226" y="987"/>
                </a:lnTo>
                <a:lnTo>
                  <a:pt x="210" y="960"/>
                </a:lnTo>
                <a:lnTo>
                  <a:pt x="198" y="939"/>
                </a:lnTo>
                <a:lnTo>
                  <a:pt x="198" y="937"/>
                </a:lnTo>
                <a:lnTo>
                  <a:pt x="197" y="938"/>
                </a:lnTo>
                <a:lnTo>
                  <a:pt x="195" y="943"/>
                </a:lnTo>
                <a:lnTo>
                  <a:pt x="188" y="960"/>
                </a:lnTo>
                <a:lnTo>
                  <a:pt x="186" y="971"/>
                </a:lnTo>
                <a:lnTo>
                  <a:pt x="188" y="982"/>
                </a:lnTo>
                <a:lnTo>
                  <a:pt x="190" y="986"/>
                </a:lnTo>
                <a:lnTo>
                  <a:pt x="194" y="993"/>
                </a:lnTo>
                <a:lnTo>
                  <a:pt x="202" y="1012"/>
                </a:lnTo>
                <a:lnTo>
                  <a:pt x="224" y="1062"/>
                </a:lnTo>
                <a:lnTo>
                  <a:pt x="238" y="1098"/>
                </a:lnTo>
                <a:lnTo>
                  <a:pt x="239" y="1101"/>
                </a:lnTo>
                <a:lnTo>
                  <a:pt x="237" y="1106"/>
                </a:lnTo>
                <a:lnTo>
                  <a:pt x="226" y="1127"/>
                </a:lnTo>
                <a:lnTo>
                  <a:pt x="190" y="1201"/>
                </a:lnTo>
                <a:lnTo>
                  <a:pt x="163" y="1257"/>
                </a:lnTo>
                <a:lnTo>
                  <a:pt x="161" y="1260"/>
                </a:lnTo>
                <a:lnTo>
                  <a:pt x="175" y="1265"/>
                </a:lnTo>
                <a:lnTo>
                  <a:pt x="217" y="1280"/>
                </a:lnTo>
                <a:lnTo>
                  <a:pt x="249" y="1291"/>
                </a:lnTo>
                <a:lnTo>
                  <a:pt x="252" y="1291"/>
                </a:lnTo>
                <a:lnTo>
                  <a:pt x="243" y="1297"/>
                </a:lnTo>
                <a:lnTo>
                  <a:pt x="234" y="1301"/>
                </a:lnTo>
                <a:lnTo>
                  <a:pt x="224" y="1304"/>
                </a:lnTo>
                <a:lnTo>
                  <a:pt x="201" y="1308"/>
                </a:lnTo>
                <a:lnTo>
                  <a:pt x="157" y="1313"/>
                </a:lnTo>
                <a:lnTo>
                  <a:pt x="136" y="1325"/>
                </a:lnTo>
                <a:lnTo>
                  <a:pt x="133" y="1329"/>
                </a:lnTo>
                <a:lnTo>
                  <a:pt x="114" y="1351"/>
                </a:lnTo>
                <a:lnTo>
                  <a:pt x="50" y="1430"/>
                </a:lnTo>
                <a:lnTo>
                  <a:pt x="2" y="1489"/>
                </a:lnTo>
                <a:lnTo>
                  <a:pt x="0" y="1492"/>
                </a:lnTo>
                <a:lnTo>
                  <a:pt x="25" y="1514"/>
                </a:lnTo>
                <a:lnTo>
                  <a:pt x="82" y="1554"/>
                </a:lnTo>
                <a:lnTo>
                  <a:pt x="203" y="1628"/>
                </a:lnTo>
                <a:lnTo>
                  <a:pt x="299" y="1726"/>
                </a:lnTo>
                <a:lnTo>
                  <a:pt x="314" y="1759"/>
                </a:lnTo>
                <a:lnTo>
                  <a:pt x="315" y="1767"/>
                </a:lnTo>
                <a:lnTo>
                  <a:pt x="319" y="1773"/>
                </a:lnTo>
                <a:lnTo>
                  <a:pt x="327" y="1777"/>
                </a:lnTo>
                <a:lnTo>
                  <a:pt x="335" y="1781"/>
                </a:lnTo>
                <a:lnTo>
                  <a:pt x="346" y="1784"/>
                </a:lnTo>
                <a:lnTo>
                  <a:pt x="368" y="1788"/>
                </a:lnTo>
                <a:lnTo>
                  <a:pt x="407" y="1790"/>
                </a:lnTo>
                <a:lnTo>
                  <a:pt x="413" y="1790"/>
                </a:lnTo>
                <a:lnTo>
                  <a:pt x="453" y="1783"/>
                </a:lnTo>
                <a:lnTo>
                  <a:pt x="528" y="1768"/>
                </a:lnTo>
                <a:lnTo>
                  <a:pt x="670" y="1748"/>
                </a:lnTo>
                <a:lnTo>
                  <a:pt x="817" y="1752"/>
                </a:lnTo>
                <a:lnTo>
                  <a:pt x="857" y="1759"/>
                </a:lnTo>
                <a:lnTo>
                  <a:pt x="880" y="1761"/>
                </a:lnTo>
                <a:lnTo>
                  <a:pt x="909" y="1769"/>
                </a:lnTo>
                <a:lnTo>
                  <a:pt x="923" y="1780"/>
                </a:lnTo>
                <a:lnTo>
                  <a:pt x="930" y="1789"/>
                </a:lnTo>
                <a:lnTo>
                  <a:pt x="931" y="1790"/>
                </a:lnTo>
                <a:lnTo>
                  <a:pt x="934" y="1790"/>
                </a:lnTo>
                <a:lnTo>
                  <a:pt x="936" y="1790"/>
                </a:lnTo>
                <a:lnTo>
                  <a:pt x="938" y="1789"/>
                </a:lnTo>
                <a:lnTo>
                  <a:pt x="942" y="1787"/>
                </a:lnTo>
                <a:lnTo>
                  <a:pt x="951" y="1779"/>
                </a:lnTo>
                <a:lnTo>
                  <a:pt x="965" y="1767"/>
                </a:lnTo>
                <a:lnTo>
                  <a:pt x="973" y="1759"/>
                </a:lnTo>
                <a:lnTo>
                  <a:pt x="998" y="1761"/>
                </a:lnTo>
                <a:lnTo>
                  <a:pt x="1026" y="1758"/>
                </a:lnTo>
                <a:lnTo>
                  <a:pt x="1084" y="1742"/>
                </a:lnTo>
                <a:lnTo>
                  <a:pt x="1146" y="1719"/>
                </a:lnTo>
                <a:lnTo>
                  <a:pt x="1266" y="1674"/>
                </a:lnTo>
                <a:lnTo>
                  <a:pt x="1320" y="1666"/>
                </a:lnTo>
                <a:lnTo>
                  <a:pt x="1334" y="1660"/>
                </a:lnTo>
                <a:lnTo>
                  <a:pt x="1350" y="1651"/>
                </a:lnTo>
                <a:lnTo>
                  <a:pt x="1353" y="1648"/>
                </a:lnTo>
                <a:lnTo>
                  <a:pt x="1353" y="1647"/>
                </a:lnTo>
                <a:lnTo>
                  <a:pt x="1353" y="1644"/>
                </a:lnTo>
                <a:lnTo>
                  <a:pt x="1353" y="1643"/>
                </a:lnTo>
                <a:lnTo>
                  <a:pt x="1352" y="1642"/>
                </a:lnTo>
                <a:lnTo>
                  <a:pt x="1351" y="1640"/>
                </a:lnTo>
                <a:lnTo>
                  <a:pt x="1348" y="1637"/>
                </a:lnTo>
                <a:lnTo>
                  <a:pt x="1340" y="1627"/>
                </a:lnTo>
                <a:lnTo>
                  <a:pt x="1336" y="1610"/>
                </a:lnTo>
                <a:lnTo>
                  <a:pt x="1336" y="1604"/>
                </a:lnTo>
                <a:lnTo>
                  <a:pt x="1385" y="1569"/>
                </a:lnTo>
                <a:lnTo>
                  <a:pt x="1461" y="1522"/>
                </a:lnTo>
                <a:lnTo>
                  <a:pt x="1536" y="1482"/>
                </a:lnTo>
                <a:lnTo>
                  <a:pt x="1543" y="1474"/>
                </a:lnTo>
                <a:lnTo>
                  <a:pt x="1547" y="1464"/>
                </a:lnTo>
                <a:lnTo>
                  <a:pt x="1549" y="1449"/>
                </a:lnTo>
                <a:lnTo>
                  <a:pt x="1549" y="1428"/>
                </a:lnTo>
                <a:lnTo>
                  <a:pt x="1550" y="1401"/>
                </a:lnTo>
                <a:lnTo>
                  <a:pt x="1545" y="1390"/>
                </a:lnTo>
                <a:lnTo>
                  <a:pt x="1532" y="1363"/>
                </a:lnTo>
                <a:lnTo>
                  <a:pt x="1506" y="1306"/>
                </a:lnTo>
                <a:lnTo>
                  <a:pt x="1497" y="1245"/>
                </a:lnTo>
                <a:lnTo>
                  <a:pt x="1500" y="1229"/>
                </a:lnTo>
                <a:lnTo>
                  <a:pt x="1509" y="1199"/>
                </a:lnTo>
                <a:lnTo>
                  <a:pt x="1544" y="1146"/>
                </a:lnTo>
                <a:lnTo>
                  <a:pt x="1589" y="1097"/>
                </a:lnTo>
                <a:lnTo>
                  <a:pt x="1699" y="1003"/>
                </a:lnTo>
                <a:lnTo>
                  <a:pt x="1780" y="919"/>
                </a:lnTo>
                <a:lnTo>
                  <a:pt x="1786" y="913"/>
                </a:lnTo>
                <a:lnTo>
                  <a:pt x="1793" y="907"/>
                </a:lnTo>
                <a:lnTo>
                  <a:pt x="1789" y="910"/>
                </a:lnTo>
                <a:lnTo>
                  <a:pt x="1780" y="919"/>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88"/>
          <p:cNvSpPr/>
          <p:nvPr/>
        </p:nvSpPr>
        <p:spPr>
          <a:xfrm>
            <a:off x="1014480" y="1657440"/>
            <a:ext cx="1074600" cy="2311200"/>
          </a:xfrm>
          <a:custGeom>
            <a:avLst/>
            <a:gdLst>
              <a:gd name="textAreaLeft" fmla="*/ 0 w 1074600"/>
              <a:gd name="textAreaRight" fmla="*/ 1074960 w 1074600"/>
              <a:gd name="textAreaTop" fmla="*/ 0 h 2311200"/>
              <a:gd name="textAreaBottom" fmla="*/ 2311560 h 2311200"/>
            </a:gdLst>
            <a:ahLst/>
            <a:rect l="textAreaLeft" t="textAreaTop" r="textAreaRight" b="textAreaBottom"/>
            <a:pathLst>
              <a:path w="1356" h="2912">
                <a:moveTo>
                  <a:pt x="561" y="0"/>
                </a:moveTo>
                <a:lnTo>
                  <a:pt x="579" y="1"/>
                </a:lnTo>
                <a:lnTo>
                  <a:pt x="605" y="8"/>
                </a:lnTo>
                <a:lnTo>
                  <a:pt x="612" y="14"/>
                </a:lnTo>
                <a:lnTo>
                  <a:pt x="618" y="21"/>
                </a:lnTo>
                <a:lnTo>
                  <a:pt x="621" y="29"/>
                </a:lnTo>
                <a:lnTo>
                  <a:pt x="622" y="38"/>
                </a:lnTo>
                <a:lnTo>
                  <a:pt x="621" y="48"/>
                </a:lnTo>
                <a:lnTo>
                  <a:pt x="617" y="71"/>
                </a:lnTo>
                <a:lnTo>
                  <a:pt x="610" y="93"/>
                </a:lnTo>
                <a:lnTo>
                  <a:pt x="602" y="93"/>
                </a:lnTo>
                <a:lnTo>
                  <a:pt x="592" y="90"/>
                </a:lnTo>
                <a:lnTo>
                  <a:pt x="584" y="86"/>
                </a:lnTo>
                <a:lnTo>
                  <a:pt x="567" y="73"/>
                </a:lnTo>
                <a:lnTo>
                  <a:pt x="556" y="56"/>
                </a:lnTo>
                <a:lnTo>
                  <a:pt x="550" y="34"/>
                </a:lnTo>
                <a:lnTo>
                  <a:pt x="555" y="12"/>
                </a:lnTo>
                <a:lnTo>
                  <a:pt x="561" y="0"/>
                </a:lnTo>
                <a:lnTo>
                  <a:pt x="577" y="0"/>
                </a:lnTo>
                <a:lnTo>
                  <a:pt x="595" y="0"/>
                </a:lnTo>
                <a:lnTo>
                  <a:pt x="586" y="0"/>
                </a:lnTo>
                <a:lnTo>
                  <a:pt x="562" y="0"/>
                </a:lnTo>
                <a:lnTo>
                  <a:pt x="561" y="0"/>
                </a:lnTo>
                <a:close/>
                <a:moveTo>
                  <a:pt x="1155" y="684"/>
                </a:moveTo>
                <a:lnTo>
                  <a:pt x="1154" y="674"/>
                </a:lnTo>
                <a:lnTo>
                  <a:pt x="1152" y="659"/>
                </a:lnTo>
                <a:lnTo>
                  <a:pt x="1145" y="648"/>
                </a:lnTo>
                <a:lnTo>
                  <a:pt x="1137" y="640"/>
                </a:lnTo>
                <a:lnTo>
                  <a:pt x="1126" y="633"/>
                </a:lnTo>
                <a:lnTo>
                  <a:pt x="1112" y="627"/>
                </a:lnTo>
                <a:lnTo>
                  <a:pt x="1105" y="623"/>
                </a:lnTo>
                <a:lnTo>
                  <a:pt x="1113" y="610"/>
                </a:lnTo>
                <a:lnTo>
                  <a:pt x="1128" y="592"/>
                </a:lnTo>
                <a:lnTo>
                  <a:pt x="1136" y="582"/>
                </a:lnTo>
                <a:lnTo>
                  <a:pt x="1138" y="578"/>
                </a:lnTo>
                <a:lnTo>
                  <a:pt x="1138" y="577"/>
                </a:lnTo>
                <a:lnTo>
                  <a:pt x="1137" y="575"/>
                </a:lnTo>
                <a:lnTo>
                  <a:pt x="1136" y="574"/>
                </a:lnTo>
                <a:lnTo>
                  <a:pt x="1135" y="572"/>
                </a:lnTo>
                <a:lnTo>
                  <a:pt x="1130" y="568"/>
                </a:lnTo>
                <a:lnTo>
                  <a:pt x="1115" y="556"/>
                </a:lnTo>
                <a:lnTo>
                  <a:pt x="1105" y="546"/>
                </a:lnTo>
                <a:lnTo>
                  <a:pt x="1112" y="543"/>
                </a:lnTo>
                <a:lnTo>
                  <a:pt x="1129" y="533"/>
                </a:lnTo>
                <a:lnTo>
                  <a:pt x="1163" y="515"/>
                </a:lnTo>
                <a:lnTo>
                  <a:pt x="1195" y="491"/>
                </a:lnTo>
                <a:lnTo>
                  <a:pt x="1203" y="482"/>
                </a:lnTo>
                <a:lnTo>
                  <a:pt x="1206" y="493"/>
                </a:lnTo>
                <a:lnTo>
                  <a:pt x="1207" y="508"/>
                </a:lnTo>
                <a:lnTo>
                  <a:pt x="1207" y="548"/>
                </a:lnTo>
                <a:lnTo>
                  <a:pt x="1192" y="638"/>
                </a:lnTo>
                <a:lnTo>
                  <a:pt x="1155" y="684"/>
                </a:lnTo>
                <a:lnTo>
                  <a:pt x="1155" y="675"/>
                </a:lnTo>
                <a:lnTo>
                  <a:pt x="1155" y="666"/>
                </a:lnTo>
                <a:lnTo>
                  <a:pt x="1155" y="671"/>
                </a:lnTo>
                <a:lnTo>
                  <a:pt x="1155" y="684"/>
                </a:lnTo>
                <a:close/>
                <a:moveTo>
                  <a:pt x="905" y="896"/>
                </a:moveTo>
                <a:lnTo>
                  <a:pt x="893" y="895"/>
                </a:lnTo>
                <a:lnTo>
                  <a:pt x="885" y="892"/>
                </a:lnTo>
                <a:lnTo>
                  <a:pt x="877" y="886"/>
                </a:lnTo>
                <a:lnTo>
                  <a:pt x="871" y="879"/>
                </a:lnTo>
                <a:lnTo>
                  <a:pt x="867" y="871"/>
                </a:lnTo>
                <a:lnTo>
                  <a:pt x="864" y="861"/>
                </a:lnTo>
                <a:lnTo>
                  <a:pt x="863" y="852"/>
                </a:lnTo>
                <a:lnTo>
                  <a:pt x="864" y="843"/>
                </a:lnTo>
                <a:lnTo>
                  <a:pt x="868" y="833"/>
                </a:lnTo>
                <a:lnTo>
                  <a:pt x="873" y="825"/>
                </a:lnTo>
                <a:lnTo>
                  <a:pt x="881" y="818"/>
                </a:lnTo>
                <a:lnTo>
                  <a:pt x="891" y="811"/>
                </a:lnTo>
                <a:lnTo>
                  <a:pt x="891" y="816"/>
                </a:lnTo>
                <a:lnTo>
                  <a:pt x="892" y="821"/>
                </a:lnTo>
                <a:lnTo>
                  <a:pt x="898" y="833"/>
                </a:lnTo>
                <a:lnTo>
                  <a:pt x="907" y="865"/>
                </a:lnTo>
                <a:lnTo>
                  <a:pt x="905" y="896"/>
                </a:lnTo>
                <a:lnTo>
                  <a:pt x="895" y="896"/>
                </a:lnTo>
                <a:lnTo>
                  <a:pt x="885" y="896"/>
                </a:lnTo>
                <a:lnTo>
                  <a:pt x="890" y="896"/>
                </a:lnTo>
                <a:lnTo>
                  <a:pt x="904" y="896"/>
                </a:lnTo>
                <a:lnTo>
                  <a:pt x="905" y="896"/>
                </a:lnTo>
                <a:close/>
                <a:moveTo>
                  <a:pt x="276" y="1051"/>
                </a:moveTo>
                <a:lnTo>
                  <a:pt x="265" y="1051"/>
                </a:lnTo>
                <a:lnTo>
                  <a:pt x="244" y="1050"/>
                </a:lnTo>
                <a:lnTo>
                  <a:pt x="202" y="1044"/>
                </a:lnTo>
                <a:lnTo>
                  <a:pt x="184" y="1035"/>
                </a:lnTo>
                <a:lnTo>
                  <a:pt x="169" y="1020"/>
                </a:lnTo>
                <a:lnTo>
                  <a:pt x="163" y="1010"/>
                </a:lnTo>
                <a:lnTo>
                  <a:pt x="172" y="999"/>
                </a:lnTo>
                <a:lnTo>
                  <a:pt x="182" y="991"/>
                </a:lnTo>
                <a:lnTo>
                  <a:pt x="194" y="986"/>
                </a:lnTo>
                <a:lnTo>
                  <a:pt x="207" y="985"/>
                </a:lnTo>
                <a:lnTo>
                  <a:pt x="220" y="986"/>
                </a:lnTo>
                <a:lnTo>
                  <a:pt x="232" y="990"/>
                </a:lnTo>
                <a:lnTo>
                  <a:pt x="244" y="997"/>
                </a:lnTo>
                <a:lnTo>
                  <a:pt x="253" y="1005"/>
                </a:lnTo>
                <a:lnTo>
                  <a:pt x="269" y="1027"/>
                </a:lnTo>
                <a:lnTo>
                  <a:pt x="276" y="1051"/>
                </a:lnTo>
                <a:lnTo>
                  <a:pt x="267" y="1051"/>
                </a:lnTo>
                <a:lnTo>
                  <a:pt x="258" y="1050"/>
                </a:lnTo>
                <a:lnTo>
                  <a:pt x="263" y="1051"/>
                </a:lnTo>
                <a:lnTo>
                  <a:pt x="275" y="1051"/>
                </a:lnTo>
                <a:lnTo>
                  <a:pt x="276" y="1051"/>
                </a:lnTo>
                <a:close/>
                <a:moveTo>
                  <a:pt x="364" y="998"/>
                </a:moveTo>
                <a:lnTo>
                  <a:pt x="366" y="976"/>
                </a:lnTo>
                <a:lnTo>
                  <a:pt x="372" y="937"/>
                </a:lnTo>
                <a:lnTo>
                  <a:pt x="383" y="908"/>
                </a:lnTo>
                <a:lnTo>
                  <a:pt x="401" y="889"/>
                </a:lnTo>
                <a:lnTo>
                  <a:pt x="431" y="875"/>
                </a:lnTo>
                <a:lnTo>
                  <a:pt x="476" y="867"/>
                </a:lnTo>
                <a:lnTo>
                  <a:pt x="507" y="864"/>
                </a:lnTo>
                <a:lnTo>
                  <a:pt x="516" y="888"/>
                </a:lnTo>
                <a:lnTo>
                  <a:pt x="520" y="909"/>
                </a:lnTo>
                <a:lnTo>
                  <a:pt x="518" y="928"/>
                </a:lnTo>
                <a:lnTo>
                  <a:pt x="511" y="945"/>
                </a:lnTo>
                <a:lnTo>
                  <a:pt x="500" y="958"/>
                </a:lnTo>
                <a:lnTo>
                  <a:pt x="485" y="970"/>
                </a:lnTo>
                <a:lnTo>
                  <a:pt x="468" y="981"/>
                </a:lnTo>
                <a:lnTo>
                  <a:pt x="428" y="993"/>
                </a:lnTo>
                <a:lnTo>
                  <a:pt x="384" y="999"/>
                </a:lnTo>
                <a:lnTo>
                  <a:pt x="364" y="998"/>
                </a:lnTo>
                <a:lnTo>
                  <a:pt x="366" y="978"/>
                </a:lnTo>
                <a:lnTo>
                  <a:pt x="368" y="957"/>
                </a:lnTo>
                <a:lnTo>
                  <a:pt x="367" y="968"/>
                </a:lnTo>
                <a:lnTo>
                  <a:pt x="364" y="997"/>
                </a:lnTo>
                <a:lnTo>
                  <a:pt x="364" y="998"/>
                </a:lnTo>
                <a:close/>
                <a:moveTo>
                  <a:pt x="265" y="1193"/>
                </a:moveTo>
                <a:lnTo>
                  <a:pt x="256" y="1190"/>
                </a:lnTo>
                <a:lnTo>
                  <a:pt x="241" y="1183"/>
                </a:lnTo>
                <a:lnTo>
                  <a:pt x="229" y="1176"/>
                </a:lnTo>
                <a:lnTo>
                  <a:pt x="221" y="1169"/>
                </a:lnTo>
                <a:lnTo>
                  <a:pt x="219" y="1165"/>
                </a:lnTo>
                <a:lnTo>
                  <a:pt x="219" y="1160"/>
                </a:lnTo>
                <a:lnTo>
                  <a:pt x="221" y="1155"/>
                </a:lnTo>
                <a:lnTo>
                  <a:pt x="225" y="1149"/>
                </a:lnTo>
                <a:lnTo>
                  <a:pt x="233" y="1141"/>
                </a:lnTo>
                <a:lnTo>
                  <a:pt x="236" y="1141"/>
                </a:lnTo>
                <a:lnTo>
                  <a:pt x="241" y="1141"/>
                </a:lnTo>
                <a:lnTo>
                  <a:pt x="245" y="1142"/>
                </a:lnTo>
                <a:lnTo>
                  <a:pt x="247" y="1143"/>
                </a:lnTo>
                <a:lnTo>
                  <a:pt x="249" y="1145"/>
                </a:lnTo>
                <a:lnTo>
                  <a:pt x="250" y="1149"/>
                </a:lnTo>
                <a:lnTo>
                  <a:pt x="252" y="1153"/>
                </a:lnTo>
                <a:lnTo>
                  <a:pt x="258" y="1169"/>
                </a:lnTo>
                <a:lnTo>
                  <a:pt x="265" y="1193"/>
                </a:lnTo>
                <a:lnTo>
                  <a:pt x="258" y="1190"/>
                </a:lnTo>
                <a:lnTo>
                  <a:pt x="251" y="1186"/>
                </a:lnTo>
                <a:lnTo>
                  <a:pt x="254" y="1188"/>
                </a:lnTo>
                <a:lnTo>
                  <a:pt x="264" y="1193"/>
                </a:lnTo>
                <a:lnTo>
                  <a:pt x="265" y="1193"/>
                </a:lnTo>
                <a:close/>
                <a:moveTo>
                  <a:pt x="284" y="1588"/>
                </a:moveTo>
                <a:lnTo>
                  <a:pt x="284" y="1584"/>
                </a:lnTo>
                <a:lnTo>
                  <a:pt x="288" y="1579"/>
                </a:lnTo>
                <a:lnTo>
                  <a:pt x="292" y="1573"/>
                </a:lnTo>
                <a:lnTo>
                  <a:pt x="303" y="1559"/>
                </a:lnTo>
                <a:lnTo>
                  <a:pt x="326" y="1532"/>
                </a:lnTo>
                <a:lnTo>
                  <a:pt x="335" y="1516"/>
                </a:lnTo>
                <a:lnTo>
                  <a:pt x="333" y="1516"/>
                </a:lnTo>
                <a:lnTo>
                  <a:pt x="323" y="1516"/>
                </a:lnTo>
                <a:lnTo>
                  <a:pt x="288" y="1516"/>
                </a:lnTo>
                <a:lnTo>
                  <a:pt x="261" y="1516"/>
                </a:lnTo>
                <a:lnTo>
                  <a:pt x="260" y="1515"/>
                </a:lnTo>
                <a:lnTo>
                  <a:pt x="259" y="1519"/>
                </a:lnTo>
                <a:lnTo>
                  <a:pt x="259" y="1529"/>
                </a:lnTo>
                <a:lnTo>
                  <a:pt x="262" y="1552"/>
                </a:lnTo>
                <a:lnTo>
                  <a:pt x="277" y="1581"/>
                </a:lnTo>
                <a:lnTo>
                  <a:pt x="284" y="1588"/>
                </a:lnTo>
                <a:lnTo>
                  <a:pt x="284" y="1585"/>
                </a:lnTo>
                <a:lnTo>
                  <a:pt x="284" y="1582"/>
                </a:lnTo>
                <a:lnTo>
                  <a:pt x="284" y="1584"/>
                </a:lnTo>
                <a:lnTo>
                  <a:pt x="284" y="1588"/>
                </a:lnTo>
                <a:close/>
                <a:moveTo>
                  <a:pt x="398" y="1685"/>
                </a:moveTo>
                <a:lnTo>
                  <a:pt x="403" y="1700"/>
                </a:lnTo>
                <a:lnTo>
                  <a:pt x="410" y="1720"/>
                </a:lnTo>
                <a:lnTo>
                  <a:pt x="414" y="1732"/>
                </a:lnTo>
                <a:lnTo>
                  <a:pt x="415" y="1733"/>
                </a:lnTo>
                <a:lnTo>
                  <a:pt x="416" y="1734"/>
                </a:lnTo>
                <a:lnTo>
                  <a:pt x="417" y="1734"/>
                </a:lnTo>
                <a:lnTo>
                  <a:pt x="418" y="1733"/>
                </a:lnTo>
                <a:lnTo>
                  <a:pt x="419" y="1729"/>
                </a:lnTo>
                <a:lnTo>
                  <a:pt x="421" y="1727"/>
                </a:lnTo>
                <a:lnTo>
                  <a:pt x="425" y="1721"/>
                </a:lnTo>
                <a:lnTo>
                  <a:pt x="436" y="1701"/>
                </a:lnTo>
                <a:lnTo>
                  <a:pt x="440" y="1694"/>
                </a:lnTo>
                <a:lnTo>
                  <a:pt x="437" y="1692"/>
                </a:lnTo>
                <a:lnTo>
                  <a:pt x="431" y="1688"/>
                </a:lnTo>
                <a:lnTo>
                  <a:pt x="424" y="1684"/>
                </a:lnTo>
                <a:lnTo>
                  <a:pt x="415" y="1682"/>
                </a:lnTo>
                <a:lnTo>
                  <a:pt x="408" y="1681"/>
                </a:lnTo>
                <a:lnTo>
                  <a:pt x="400" y="1683"/>
                </a:lnTo>
                <a:lnTo>
                  <a:pt x="398" y="1685"/>
                </a:lnTo>
                <a:lnTo>
                  <a:pt x="402" y="1698"/>
                </a:lnTo>
                <a:lnTo>
                  <a:pt x="408" y="1711"/>
                </a:lnTo>
                <a:lnTo>
                  <a:pt x="404" y="1704"/>
                </a:lnTo>
                <a:lnTo>
                  <a:pt x="398" y="1687"/>
                </a:lnTo>
                <a:lnTo>
                  <a:pt x="398" y="1685"/>
                </a:lnTo>
                <a:close/>
                <a:moveTo>
                  <a:pt x="448" y="1954"/>
                </a:moveTo>
                <a:lnTo>
                  <a:pt x="448" y="1951"/>
                </a:lnTo>
                <a:lnTo>
                  <a:pt x="449" y="1945"/>
                </a:lnTo>
                <a:lnTo>
                  <a:pt x="455" y="1935"/>
                </a:lnTo>
                <a:lnTo>
                  <a:pt x="469" y="1911"/>
                </a:lnTo>
                <a:lnTo>
                  <a:pt x="477" y="1884"/>
                </a:lnTo>
                <a:lnTo>
                  <a:pt x="482" y="1885"/>
                </a:lnTo>
                <a:lnTo>
                  <a:pt x="490" y="1887"/>
                </a:lnTo>
                <a:lnTo>
                  <a:pt x="499" y="1890"/>
                </a:lnTo>
                <a:lnTo>
                  <a:pt x="517" y="1898"/>
                </a:lnTo>
                <a:lnTo>
                  <a:pt x="530" y="1900"/>
                </a:lnTo>
                <a:lnTo>
                  <a:pt x="526" y="1911"/>
                </a:lnTo>
                <a:lnTo>
                  <a:pt x="519" y="1929"/>
                </a:lnTo>
                <a:lnTo>
                  <a:pt x="511" y="1943"/>
                </a:lnTo>
                <a:lnTo>
                  <a:pt x="501" y="1954"/>
                </a:lnTo>
                <a:lnTo>
                  <a:pt x="485" y="1958"/>
                </a:lnTo>
                <a:lnTo>
                  <a:pt x="462" y="1957"/>
                </a:lnTo>
                <a:lnTo>
                  <a:pt x="448" y="1954"/>
                </a:lnTo>
                <a:lnTo>
                  <a:pt x="448" y="1952"/>
                </a:lnTo>
                <a:lnTo>
                  <a:pt x="448" y="1949"/>
                </a:lnTo>
                <a:lnTo>
                  <a:pt x="448" y="1950"/>
                </a:lnTo>
                <a:lnTo>
                  <a:pt x="448" y="1954"/>
                </a:lnTo>
                <a:close/>
                <a:moveTo>
                  <a:pt x="314" y="1791"/>
                </a:moveTo>
                <a:lnTo>
                  <a:pt x="313" y="1779"/>
                </a:lnTo>
                <a:lnTo>
                  <a:pt x="309" y="1758"/>
                </a:lnTo>
                <a:lnTo>
                  <a:pt x="294" y="1719"/>
                </a:lnTo>
                <a:lnTo>
                  <a:pt x="275" y="1685"/>
                </a:lnTo>
                <a:lnTo>
                  <a:pt x="271" y="1677"/>
                </a:lnTo>
                <a:lnTo>
                  <a:pt x="262" y="1674"/>
                </a:lnTo>
                <a:lnTo>
                  <a:pt x="254" y="1673"/>
                </a:lnTo>
                <a:lnTo>
                  <a:pt x="247" y="1673"/>
                </a:lnTo>
                <a:lnTo>
                  <a:pt x="241" y="1675"/>
                </a:lnTo>
                <a:lnTo>
                  <a:pt x="237" y="1679"/>
                </a:lnTo>
                <a:lnTo>
                  <a:pt x="229" y="1684"/>
                </a:lnTo>
                <a:lnTo>
                  <a:pt x="220" y="1688"/>
                </a:lnTo>
                <a:lnTo>
                  <a:pt x="216" y="1688"/>
                </a:lnTo>
                <a:lnTo>
                  <a:pt x="211" y="1687"/>
                </a:lnTo>
                <a:lnTo>
                  <a:pt x="206" y="1683"/>
                </a:lnTo>
                <a:lnTo>
                  <a:pt x="200" y="1679"/>
                </a:lnTo>
                <a:lnTo>
                  <a:pt x="188" y="1671"/>
                </a:lnTo>
                <a:lnTo>
                  <a:pt x="163" y="1663"/>
                </a:lnTo>
                <a:lnTo>
                  <a:pt x="143" y="1661"/>
                </a:lnTo>
                <a:lnTo>
                  <a:pt x="138" y="1660"/>
                </a:lnTo>
                <a:lnTo>
                  <a:pt x="135" y="1663"/>
                </a:lnTo>
                <a:lnTo>
                  <a:pt x="121" y="1678"/>
                </a:lnTo>
                <a:lnTo>
                  <a:pt x="70" y="1726"/>
                </a:lnTo>
                <a:lnTo>
                  <a:pt x="31" y="1763"/>
                </a:lnTo>
                <a:lnTo>
                  <a:pt x="29" y="1765"/>
                </a:lnTo>
                <a:lnTo>
                  <a:pt x="31" y="1766"/>
                </a:lnTo>
                <a:lnTo>
                  <a:pt x="34" y="1767"/>
                </a:lnTo>
                <a:lnTo>
                  <a:pt x="43" y="1769"/>
                </a:lnTo>
                <a:lnTo>
                  <a:pt x="59" y="1773"/>
                </a:lnTo>
                <a:lnTo>
                  <a:pt x="62" y="1774"/>
                </a:lnTo>
                <a:lnTo>
                  <a:pt x="61" y="1775"/>
                </a:lnTo>
                <a:lnTo>
                  <a:pt x="60" y="1776"/>
                </a:lnTo>
                <a:lnTo>
                  <a:pt x="60" y="1778"/>
                </a:lnTo>
                <a:lnTo>
                  <a:pt x="60" y="1781"/>
                </a:lnTo>
                <a:lnTo>
                  <a:pt x="59" y="1789"/>
                </a:lnTo>
                <a:lnTo>
                  <a:pt x="58" y="1792"/>
                </a:lnTo>
                <a:lnTo>
                  <a:pt x="56" y="1795"/>
                </a:lnTo>
                <a:lnTo>
                  <a:pt x="53" y="1798"/>
                </a:lnTo>
                <a:lnTo>
                  <a:pt x="48" y="1799"/>
                </a:lnTo>
                <a:lnTo>
                  <a:pt x="42" y="1799"/>
                </a:lnTo>
                <a:lnTo>
                  <a:pt x="33" y="1797"/>
                </a:lnTo>
                <a:lnTo>
                  <a:pt x="23" y="1792"/>
                </a:lnTo>
                <a:lnTo>
                  <a:pt x="12" y="1789"/>
                </a:lnTo>
                <a:lnTo>
                  <a:pt x="5" y="1788"/>
                </a:lnTo>
                <a:lnTo>
                  <a:pt x="3" y="1789"/>
                </a:lnTo>
                <a:lnTo>
                  <a:pt x="1" y="1790"/>
                </a:lnTo>
                <a:lnTo>
                  <a:pt x="0" y="1791"/>
                </a:lnTo>
                <a:lnTo>
                  <a:pt x="0" y="1793"/>
                </a:lnTo>
                <a:lnTo>
                  <a:pt x="0" y="1795"/>
                </a:lnTo>
                <a:lnTo>
                  <a:pt x="1" y="1797"/>
                </a:lnTo>
                <a:lnTo>
                  <a:pt x="3" y="1803"/>
                </a:lnTo>
                <a:lnTo>
                  <a:pt x="10" y="1815"/>
                </a:lnTo>
                <a:lnTo>
                  <a:pt x="17" y="1831"/>
                </a:lnTo>
                <a:lnTo>
                  <a:pt x="15" y="1835"/>
                </a:lnTo>
                <a:lnTo>
                  <a:pt x="16" y="1841"/>
                </a:lnTo>
                <a:lnTo>
                  <a:pt x="21" y="1846"/>
                </a:lnTo>
                <a:lnTo>
                  <a:pt x="27" y="1851"/>
                </a:lnTo>
                <a:lnTo>
                  <a:pt x="44" y="1861"/>
                </a:lnTo>
                <a:lnTo>
                  <a:pt x="76" y="1876"/>
                </a:lnTo>
                <a:lnTo>
                  <a:pt x="83" y="1878"/>
                </a:lnTo>
                <a:lnTo>
                  <a:pt x="86" y="1879"/>
                </a:lnTo>
                <a:lnTo>
                  <a:pt x="91" y="1879"/>
                </a:lnTo>
                <a:lnTo>
                  <a:pt x="96" y="1878"/>
                </a:lnTo>
                <a:lnTo>
                  <a:pt x="111" y="1872"/>
                </a:lnTo>
                <a:lnTo>
                  <a:pt x="118" y="1869"/>
                </a:lnTo>
                <a:lnTo>
                  <a:pt x="128" y="1879"/>
                </a:lnTo>
                <a:lnTo>
                  <a:pt x="147" y="1899"/>
                </a:lnTo>
                <a:lnTo>
                  <a:pt x="176" y="1937"/>
                </a:lnTo>
                <a:lnTo>
                  <a:pt x="206" y="1979"/>
                </a:lnTo>
                <a:lnTo>
                  <a:pt x="215" y="1990"/>
                </a:lnTo>
                <a:lnTo>
                  <a:pt x="217" y="1989"/>
                </a:lnTo>
                <a:lnTo>
                  <a:pt x="232" y="1976"/>
                </a:lnTo>
                <a:lnTo>
                  <a:pt x="286" y="1932"/>
                </a:lnTo>
                <a:lnTo>
                  <a:pt x="327" y="1899"/>
                </a:lnTo>
                <a:lnTo>
                  <a:pt x="330" y="1897"/>
                </a:lnTo>
                <a:lnTo>
                  <a:pt x="329" y="1885"/>
                </a:lnTo>
                <a:lnTo>
                  <a:pt x="325" y="1866"/>
                </a:lnTo>
                <a:lnTo>
                  <a:pt x="319" y="1851"/>
                </a:lnTo>
                <a:lnTo>
                  <a:pt x="309" y="1820"/>
                </a:lnTo>
                <a:lnTo>
                  <a:pt x="314" y="1791"/>
                </a:lnTo>
                <a:lnTo>
                  <a:pt x="314" y="1781"/>
                </a:lnTo>
                <a:lnTo>
                  <a:pt x="314" y="1771"/>
                </a:lnTo>
                <a:lnTo>
                  <a:pt x="314" y="1777"/>
                </a:lnTo>
                <a:lnTo>
                  <a:pt x="314" y="1791"/>
                </a:lnTo>
                <a:close/>
                <a:moveTo>
                  <a:pt x="991" y="1960"/>
                </a:moveTo>
                <a:lnTo>
                  <a:pt x="992" y="1928"/>
                </a:lnTo>
                <a:lnTo>
                  <a:pt x="992" y="1895"/>
                </a:lnTo>
                <a:lnTo>
                  <a:pt x="991" y="1891"/>
                </a:lnTo>
                <a:lnTo>
                  <a:pt x="990" y="1890"/>
                </a:lnTo>
                <a:lnTo>
                  <a:pt x="989" y="1889"/>
                </a:lnTo>
                <a:lnTo>
                  <a:pt x="988" y="1888"/>
                </a:lnTo>
                <a:lnTo>
                  <a:pt x="987" y="1888"/>
                </a:lnTo>
                <a:lnTo>
                  <a:pt x="985" y="1889"/>
                </a:lnTo>
                <a:lnTo>
                  <a:pt x="982" y="1890"/>
                </a:lnTo>
                <a:lnTo>
                  <a:pt x="980" y="1891"/>
                </a:lnTo>
                <a:lnTo>
                  <a:pt x="973" y="1897"/>
                </a:lnTo>
                <a:lnTo>
                  <a:pt x="963" y="1901"/>
                </a:lnTo>
                <a:lnTo>
                  <a:pt x="951" y="1902"/>
                </a:lnTo>
                <a:lnTo>
                  <a:pt x="937" y="1900"/>
                </a:lnTo>
                <a:lnTo>
                  <a:pt x="921" y="1891"/>
                </a:lnTo>
                <a:lnTo>
                  <a:pt x="903" y="1875"/>
                </a:lnTo>
                <a:lnTo>
                  <a:pt x="904" y="1858"/>
                </a:lnTo>
                <a:lnTo>
                  <a:pt x="910" y="1835"/>
                </a:lnTo>
                <a:lnTo>
                  <a:pt x="923" y="1782"/>
                </a:lnTo>
                <a:lnTo>
                  <a:pt x="934" y="1726"/>
                </a:lnTo>
                <a:lnTo>
                  <a:pt x="933" y="1675"/>
                </a:lnTo>
                <a:lnTo>
                  <a:pt x="925" y="1655"/>
                </a:lnTo>
                <a:lnTo>
                  <a:pt x="910" y="1639"/>
                </a:lnTo>
                <a:lnTo>
                  <a:pt x="886" y="1628"/>
                </a:lnTo>
                <a:lnTo>
                  <a:pt x="855" y="1624"/>
                </a:lnTo>
                <a:lnTo>
                  <a:pt x="853" y="1619"/>
                </a:lnTo>
                <a:lnTo>
                  <a:pt x="849" y="1615"/>
                </a:lnTo>
                <a:lnTo>
                  <a:pt x="844" y="1610"/>
                </a:lnTo>
                <a:lnTo>
                  <a:pt x="829" y="1600"/>
                </a:lnTo>
                <a:lnTo>
                  <a:pt x="794" y="1583"/>
                </a:lnTo>
                <a:lnTo>
                  <a:pt x="774" y="1578"/>
                </a:lnTo>
                <a:lnTo>
                  <a:pt x="784" y="1519"/>
                </a:lnTo>
                <a:lnTo>
                  <a:pt x="811" y="1461"/>
                </a:lnTo>
                <a:lnTo>
                  <a:pt x="847" y="1406"/>
                </a:lnTo>
                <a:lnTo>
                  <a:pt x="929" y="1307"/>
                </a:lnTo>
                <a:lnTo>
                  <a:pt x="962" y="1266"/>
                </a:lnTo>
                <a:lnTo>
                  <a:pt x="980" y="1231"/>
                </a:lnTo>
                <a:lnTo>
                  <a:pt x="984" y="1217"/>
                </a:lnTo>
                <a:lnTo>
                  <a:pt x="980" y="1206"/>
                </a:lnTo>
                <a:lnTo>
                  <a:pt x="971" y="1197"/>
                </a:lnTo>
                <a:lnTo>
                  <a:pt x="953" y="1190"/>
                </a:lnTo>
                <a:lnTo>
                  <a:pt x="930" y="1184"/>
                </a:lnTo>
                <a:lnTo>
                  <a:pt x="897" y="1183"/>
                </a:lnTo>
                <a:lnTo>
                  <a:pt x="801" y="1188"/>
                </a:lnTo>
                <a:lnTo>
                  <a:pt x="663" y="1207"/>
                </a:lnTo>
                <a:lnTo>
                  <a:pt x="676" y="1184"/>
                </a:lnTo>
                <a:lnTo>
                  <a:pt x="707" y="1141"/>
                </a:lnTo>
                <a:lnTo>
                  <a:pt x="785" y="1058"/>
                </a:lnTo>
                <a:lnTo>
                  <a:pt x="870" y="980"/>
                </a:lnTo>
                <a:lnTo>
                  <a:pt x="891" y="960"/>
                </a:lnTo>
                <a:lnTo>
                  <a:pt x="888" y="957"/>
                </a:lnTo>
                <a:lnTo>
                  <a:pt x="883" y="954"/>
                </a:lnTo>
                <a:lnTo>
                  <a:pt x="877" y="951"/>
                </a:lnTo>
                <a:lnTo>
                  <a:pt x="869" y="949"/>
                </a:lnTo>
                <a:lnTo>
                  <a:pt x="849" y="946"/>
                </a:lnTo>
                <a:lnTo>
                  <a:pt x="800" y="944"/>
                </a:lnTo>
                <a:lnTo>
                  <a:pt x="688" y="949"/>
                </a:lnTo>
                <a:lnTo>
                  <a:pt x="627" y="951"/>
                </a:lnTo>
                <a:lnTo>
                  <a:pt x="610" y="967"/>
                </a:lnTo>
                <a:lnTo>
                  <a:pt x="578" y="1000"/>
                </a:lnTo>
                <a:lnTo>
                  <a:pt x="515" y="1072"/>
                </a:lnTo>
                <a:lnTo>
                  <a:pt x="458" y="1150"/>
                </a:lnTo>
                <a:lnTo>
                  <a:pt x="446" y="1169"/>
                </a:lnTo>
                <a:lnTo>
                  <a:pt x="443" y="1169"/>
                </a:lnTo>
                <a:lnTo>
                  <a:pt x="441" y="1168"/>
                </a:lnTo>
                <a:lnTo>
                  <a:pt x="438" y="1165"/>
                </a:lnTo>
                <a:lnTo>
                  <a:pt x="431" y="1158"/>
                </a:lnTo>
                <a:lnTo>
                  <a:pt x="414" y="1139"/>
                </a:lnTo>
                <a:lnTo>
                  <a:pt x="393" y="1118"/>
                </a:lnTo>
                <a:lnTo>
                  <a:pt x="367" y="1103"/>
                </a:lnTo>
                <a:lnTo>
                  <a:pt x="352" y="1099"/>
                </a:lnTo>
                <a:lnTo>
                  <a:pt x="336" y="1100"/>
                </a:lnTo>
                <a:lnTo>
                  <a:pt x="319" y="1105"/>
                </a:lnTo>
                <a:lnTo>
                  <a:pt x="310" y="1109"/>
                </a:lnTo>
                <a:lnTo>
                  <a:pt x="311" y="1112"/>
                </a:lnTo>
                <a:lnTo>
                  <a:pt x="320" y="1125"/>
                </a:lnTo>
                <a:lnTo>
                  <a:pt x="352" y="1174"/>
                </a:lnTo>
                <a:lnTo>
                  <a:pt x="375" y="1211"/>
                </a:lnTo>
                <a:lnTo>
                  <a:pt x="378" y="1213"/>
                </a:lnTo>
                <a:lnTo>
                  <a:pt x="379" y="1214"/>
                </a:lnTo>
                <a:lnTo>
                  <a:pt x="388" y="1221"/>
                </a:lnTo>
                <a:lnTo>
                  <a:pt x="419" y="1244"/>
                </a:lnTo>
                <a:lnTo>
                  <a:pt x="444" y="1262"/>
                </a:lnTo>
                <a:lnTo>
                  <a:pt x="446" y="1262"/>
                </a:lnTo>
                <a:lnTo>
                  <a:pt x="427" y="1274"/>
                </a:lnTo>
                <a:lnTo>
                  <a:pt x="386" y="1296"/>
                </a:lnTo>
                <a:lnTo>
                  <a:pt x="307" y="1352"/>
                </a:lnTo>
                <a:lnTo>
                  <a:pt x="280" y="1389"/>
                </a:lnTo>
                <a:lnTo>
                  <a:pt x="268" y="1435"/>
                </a:lnTo>
                <a:lnTo>
                  <a:pt x="270" y="1462"/>
                </a:lnTo>
                <a:lnTo>
                  <a:pt x="314" y="1464"/>
                </a:lnTo>
                <a:lnTo>
                  <a:pt x="378" y="1469"/>
                </a:lnTo>
                <a:lnTo>
                  <a:pt x="397" y="1474"/>
                </a:lnTo>
                <a:lnTo>
                  <a:pt x="410" y="1482"/>
                </a:lnTo>
                <a:lnTo>
                  <a:pt x="413" y="1487"/>
                </a:lnTo>
                <a:lnTo>
                  <a:pt x="415" y="1493"/>
                </a:lnTo>
                <a:lnTo>
                  <a:pt x="415" y="1500"/>
                </a:lnTo>
                <a:lnTo>
                  <a:pt x="414" y="1509"/>
                </a:lnTo>
                <a:lnTo>
                  <a:pt x="409" y="1530"/>
                </a:lnTo>
                <a:lnTo>
                  <a:pt x="398" y="1556"/>
                </a:lnTo>
                <a:lnTo>
                  <a:pt x="363" y="1631"/>
                </a:lnTo>
                <a:lnTo>
                  <a:pt x="341" y="1680"/>
                </a:lnTo>
                <a:lnTo>
                  <a:pt x="375" y="1665"/>
                </a:lnTo>
                <a:lnTo>
                  <a:pt x="427" y="1653"/>
                </a:lnTo>
                <a:lnTo>
                  <a:pt x="444" y="1655"/>
                </a:lnTo>
                <a:lnTo>
                  <a:pt x="455" y="1662"/>
                </a:lnTo>
                <a:lnTo>
                  <a:pt x="461" y="1672"/>
                </a:lnTo>
                <a:lnTo>
                  <a:pt x="462" y="1685"/>
                </a:lnTo>
                <a:lnTo>
                  <a:pt x="458" y="1700"/>
                </a:lnTo>
                <a:lnTo>
                  <a:pt x="449" y="1717"/>
                </a:lnTo>
                <a:lnTo>
                  <a:pt x="437" y="1736"/>
                </a:lnTo>
                <a:lnTo>
                  <a:pt x="400" y="1771"/>
                </a:lnTo>
                <a:lnTo>
                  <a:pt x="416" y="1792"/>
                </a:lnTo>
                <a:lnTo>
                  <a:pt x="449" y="1814"/>
                </a:lnTo>
                <a:lnTo>
                  <a:pt x="484" y="1819"/>
                </a:lnTo>
                <a:lnTo>
                  <a:pt x="519" y="1813"/>
                </a:lnTo>
                <a:lnTo>
                  <a:pt x="559" y="1802"/>
                </a:lnTo>
                <a:lnTo>
                  <a:pt x="603" y="1794"/>
                </a:lnTo>
                <a:lnTo>
                  <a:pt x="627" y="1792"/>
                </a:lnTo>
                <a:lnTo>
                  <a:pt x="639" y="1804"/>
                </a:lnTo>
                <a:lnTo>
                  <a:pt x="655" y="1827"/>
                </a:lnTo>
                <a:lnTo>
                  <a:pt x="662" y="1850"/>
                </a:lnTo>
                <a:lnTo>
                  <a:pt x="660" y="1873"/>
                </a:lnTo>
                <a:lnTo>
                  <a:pt x="651" y="1900"/>
                </a:lnTo>
                <a:lnTo>
                  <a:pt x="636" y="1930"/>
                </a:lnTo>
                <a:lnTo>
                  <a:pt x="627" y="1948"/>
                </a:lnTo>
                <a:lnTo>
                  <a:pt x="641" y="1975"/>
                </a:lnTo>
                <a:lnTo>
                  <a:pt x="663" y="2022"/>
                </a:lnTo>
                <a:lnTo>
                  <a:pt x="673" y="2062"/>
                </a:lnTo>
                <a:lnTo>
                  <a:pt x="669" y="2097"/>
                </a:lnTo>
                <a:lnTo>
                  <a:pt x="651" y="2134"/>
                </a:lnTo>
                <a:lnTo>
                  <a:pt x="617" y="2174"/>
                </a:lnTo>
                <a:lnTo>
                  <a:pt x="594" y="2195"/>
                </a:lnTo>
                <a:lnTo>
                  <a:pt x="569" y="2192"/>
                </a:lnTo>
                <a:lnTo>
                  <a:pt x="542" y="2185"/>
                </a:lnTo>
                <a:lnTo>
                  <a:pt x="490" y="2160"/>
                </a:lnTo>
                <a:lnTo>
                  <a:pt x="449" y="2140"/>
                </a:lnTo>
                <a:lnTo>
                  <a:pt x="434" y="2135"/>
                </a:lnTo>
                <a:lnTo>
                  <a:pt x="429" y="2135"/>
                </a:lnTo>
                <a:lnTo>
                  <a:pt x="427" y="2136"/>
                </a:lnTo>
                <a:lnTo>
                  <a:pt x="425" y="2137"/>
                </a:lnTo>
                <a:lnTo>
                  <a:pt x="424" y="2138"/>
                </a:lnTo>
                <a:lnTo>
                  <a:pt x="423" y="2140"/>
                </a:lnTo>
                <a:lnTo>
                  <a:pt x="422" y="2143"/>
                </a:lnTo>
                <a:lnTo>
                  <a:pt x="422" y="2146"/>
                </a:lnTo>
                <a:lnTo>
                  <a:pt x="423" y="2154"/>
                </a:lnTo>
                <a:lnTo>
                  <a:pt x="426" y="2166"/>
                </a:lnTo>
                <a:lnTo>
                  <a:pt x="440" y="2197"/>
                </a:lnTo>
                <a:lnTo>
                  <a:pt x="462" y="2242"/>
                </a:lnTo>
                <a:lnTo>
                  <a:pt x="438" y="2243"/>
                </a:lnTo>
                <a:lnTo>
                  <a:pt x="409" y="2246"/>
                </a:lnTo>
                <a:lnTo>
                  <a:pt x="406" y="2247"/>
                </a:lnTo>
                <a:lnTo>
                  <a:pt x="403" y="2248"/>
                </a:lnTo>
                <a:lnTo>
                  <a:pt x="402" y="2249"/>
                </a:lnTo>
                <a:lnTo>
                  <a:pt x="401" y="2250"/>
                </a:lnTo>
                <a:lnTo>
                  <a:pt x="401" y="2251"/>
                </a:lnTo>
                <a:lnTo>
                  <a:pt x="402" y="2253"/>
                </a:lnTo>
                <a:lnTo>
                  <a:pt x="403" y="2255"/>
                </a:lnTo>
                <a:lnTo>
                  <a:pt x="404" y="2256"/>
                </a:lnTo>
                <a:lnTo>
                  <a:pt x="408" y="2258"/>
                </a:lnTo>
                <a:lnTo>
                  <a:pt x="416" y="2264"/>
                </a:lnTo>
                <a:lnTo>
                  <a:pt x="441" y="2280"/>
                </a:lnTo>
                <a:lnTo>
                  <a:pt x="471" y="2299"/>
                </a:lnTo>
                <a:lnTo>
                  <a:pt x="479" y="2304"/>
                </a:lnTo>
                <a:lnTo>
                  <a:pt x="476" y="2334"/>
                </a:lnTo>
                <a:lnTo>
                  <a:pt x="460" y="2377"/>
                </a:lnTo>
                <a:lnTo>
                  <a:pt x="430" y="2407"/>
                </a:lnTo>
                <a:lnTo>
                  <a:pt x="390" y="2426"/>
                </a:lnTo>
                <a:lnTo>
                  <a:pt x="348" y="2441"/>
                </a:lnTo>
                <a:lnTo>
                  <a:pt x="303" y="2453"/>
                </a:lnTo>
                <a:lnTo>
                  <a:pt x="282" y="2459"/>
                </a:lnTo>
                <a:lnTo>
                  <a:pt x="281" y="2464"/>
                </a:lnTo>
                <a:lnTo>
                  <a:pt x="280" y="2477"/>
                </a:lnTo>
                <a:lnTo>
                  <a:pt x="275" y="2511"/>
                </a:lnTo>
                <a:lnTo>
                  <a:pt x="270" y="2540"/>
                </a:lnTo>
                <a:lnTo>
                  <a:pt x="270" y="2545"/>
                </a:lnTo>
                <a:lnTo>
                  <a:pt x="300" y="2546"/>
                </a:lnTo>
                <a:lnTo>
                  <a:pt x="343" y="2547"/>
                </a:lnTo>
                <a:lnTo>
                  <a:pt x="393" y="2550"/>
                </a:lnTo>
                <a:lnTo>
                  <a:pt x="454" y="2553"/>
                </a:lnTo>
                <a:lnTo>
                  <a:pt x="479" y="2553"/>
                </a:lnTo>
                <a:lnTo>
                  <a:pt x="481" y="2568"/>
                </a:lnTo>
                <a:lnTo>
                  <a:pt x="487" y="2580"/>
                </a:lnTo>
                <a:lnTo>
                  <a:pt x="496" y="2588"/>
                </a:lnTo>
                <a:lnTo>
                  <a:pt x="506" y="2595"/>
                </a:lnTo>
                <a:lnTo>
                  <a:pt x="519" y="2600"/>
                </a:lnTo>
                <a:lnTo>
                  <a:pt x="533" y="2602"/>
                </a:lnTo>
                <a:lnTo>
                  <a:pt x="562" y="2603"/>
                </a:lnTo>
                <a:lnTo>
                  <a:pt x="590" y="2601"/>
                </a:lnTo>
                <a:lnTo>
                  <a:pt x="611" y="2600"/>
                </a:lnTo>
                <a:lnTo>
                  <a:pt x="606" y="2612"/>
                </a:lnTo>
                <a:lnTo>
                  <a:pt x="595" y="2632"/>
                </a:lnTo>
                <a:lnTo>
                  <a:pt x="569" y="2666"/>
                </a:lnTo>
                <a:lnTo>
                  <a:pt x="536" y="2688"/>
                </a:lnTo>
                <a:lnTo>
                  <a:pt x="529" y="2692"/>
                </a:lnTo>
                <a:lnTo>
                  <a:pt x="519" y="2692"/>
                </a:lnTo>
                <a:lnTo>
                  <a:pt x="498" y="2688"/>
                </a:lnTo>
                <a:lnTo>
                  <a:pt x="449" y="2674"/>
                </a:lnTo>
                <a:lnTo>
                  <a:pt x="404" y="2664"/>
                </a:lnTo>
                <a:lnTo>
                  <a:pt x="396" y="2663"/>
                </a:lnTo>
                <a:lnTo>
                  <a:pt x="368" y="2692"/>
                </a:lnTo>
                <a:lnTo>
                  <a:pt x="343" y="2729"/>
                </a:lnTo>
                <a:lnTo>
                  <a:pt x="336" y="2748"/>
                </a:lnTo>
                <a:lnTo>
                  <a:pt x="332" y="2754"/>
                </a:lnTo>
                <a:lnTo>
                  <a:pt x="321" y="2762"/>
                </a:lnTo>
                <a:lnTo>
                  <a:pt x="303" y="2770"/>
                </a:lnTo>
                <a:lnTo>
                  <a:pt x="227" y="2797"/>
                </a:lnTo>
                <a:lnTo>
                  <a:pt x="82" y="2849"/>
                </a:lnTo>
                <a:lnTo>
                  <a:pt x="112" y="2870"/>
                </a:lnTo>
                <a:lnTo>
                  <a:pt x="145" y="2880"/>
                </a:lnTo>
                <a:lnTo>
                  <a:pt x="179" y="2882"/>
                </a:lnTo>
                <a:lnTo>
                  <a:pt x="214" y="2879"/>
                </a:lnTo>
                <a:lnTo>
                  <a:pt x="283" y="2863"/>
                </a:lnTo>
                <a:lnTo>
                  <a:pt x="345" y="2848"/>
                </a:lnTo>
                <a:lnTo>
                  <a:pt x="371" y="2846"/>
                </a:lnTo>
                <a:lnTo>
                  <a:pt x="393" y="2849"/>
                </a:lnTo>
                <a:lnTo>
                  <a:pt x="410" y="2861"/>
                </a:lnTo>
                <a:lnTo>
                  <a:pt x="421" y="2883"/>
                </a:lnTo>
                <a:lnTo>
                  <a:pt x="437" y="2869"/>
                </a:lnTo>
                <a:lnTo>
                  <a:pt x="467" y="2843"/>
                </a:lnTo>
                <a:lnTo>
                  <a:pt x="497" y="2825"/>
                </a:lnTo>
                <a:lnTo>
                  <a:pt x="528" y="2818"/>
                </a:lnTo>
                <a:lnTo>
                  <a:pt x="560" y="2823"/>
                </a:lnTo>
                <a:lnTo>
                  <a:pt x="595" y="2844"/>
                </a:lnTo>
                <a:lnTo>
                  <a:pt x="616" y="2860"/>
                </a:lnTo>
                <a:lnTo>
                  <a:pt x="627" y="2860"/>
                </a:lnTo>
                <a:lnTo>
                  <a:pt x="654" y="2854"/>
                </a:lnTo>
                <a:lnTo>
                  <a:pt x="681" y="2845"/>
                </a:lnTo>
                <a:lnTo>
                  <a:pt x="737" y="2825"/>
                </a:lnTo>
                <a:lnTo>
                  <a:pt x="775" y="2818"/>
                </a:lnTo>
                <a:lnTo>
                  <a:pt x="777" y="2819"/>
                </a:lnTo>
                <a:lnTo>
                  <a:pt x="778" y="2820"/>
                </a:lnTo>
                <a:lnTo>
                  <a:pt x="779" y="2822"/>
                </a:lnTo>
                <a:lnTo>
                  <a:pt x="783" y="2826"/>
                </a:lnTo>
                <a:lnTo>
                  <a:pt x="794" y="2840"/>
                </a:lnTo>
                <a:lnTo>
                  <a:pt x="825" y="2875"/>
                </a:lnTo>
                <a:lnTo>
                  <a:pt x="859" y="2904"/>
                </a:lnTo>
                <a:lnTo>
                  <a:pt x="875" y="2911"/>
                </a:lnTo>
                <a:lnTo>
                  <a:pt x="882" y="2912"/>
                </a:lnTo>
                <a:lnTo>
                  <a:pt x="887" y="2910"/>
                </a:lnTo>
                <a:lnTo>
                  <a:pt x="892" y="2905"/>
                </a:lnTo>
                <a:lnTo>
                  <a:pt x="896" y="2898"/>
                </a:lnTo>
                <a:lnTo>
                  <a:pt x="898" y="2887"/>
                </a:lnTo>
                <a:lnTo>
                  <a:pt x="898" y="2873"/>
                </a:lnTo>
                <a:lnTo>
                  <a:pt x="893" y="2831"/>
                </a:lnTo>
                <a:lnTo>
                  <a:pt x="891" y="2818"/>
                </a:lnTo>
                <a:lnTo>
                  <a:pt x="917" y="2829"/>
                </a:lnTo>
                <a:lnTo>
                  <a:pt x="975" y="2843"/>
                </a:lnTo>
                <a:lnTo>
                  <a:pt x="1037" y="2847"/>
                </a:lnTo>
                <a:lnTo>
                  <a:pt x="1100" y="2840"/>
                </a:lnTo>
                <a:lnTo>
                  <a:pt x="1160" y="2820"/>
                </a:lnTo>
                <a:lnTo>
                  <a:pt x="1214" y="2785"/>
                </a:lnTo>
                <a:lnTo>
                  <a:pt x="1237" y="2762"/>
                </a:lnTo>
                <a:lnTo>
                  <a:pt x="1231" y="2754"/>
                </a:lnTo>
                <a:lnTo>
                  <a:pt x="1223" y="2748"/>
                </a:lnTo>
                <a:lnTo>
                  <a:pt x="1213" y="2742"/>
                </a:lnTo>
                <a:lnTo>
                  <a:pt x="1189" y="2732"/>
                </a:lnTo>
                <a:lnTo>
                  <a:pt x="1136" y="2713"/>
                </a:lnTo>
                <a:lnTo>
                  <a:pt x="1105" y="2692"/>
                </a:lnTo>
                <a:lnTo>
                  <a:pt x="1109" y="2688"/>
                </a:lnTo>
                <a:lnTo>
                  <a:pt x="1122" y="2678"/>
                </a:lnTo>
                <a:lnTo>
                  <a:pt x="1154" y="2649"/>
                </a:lnTo>
                <a:lnTo>
                  <a:pt x="1183" y="2617"/>
                </a:lnTo>
                <a:lnTo>
                  <a:pt x="1188" y="2609"/>
                </a:lnTo>
                <a:lnTo>
                  <a:pt x="1204" y="2608"/>
                </a:lnTo>
                <a:lnTo>
                  <a:pt x="1222" y="2604"/>
                </a:lnTo>
                <a:lnTo>
                  <a:pt x="1257" y="2588"/>
                </a:lnTo>
                <a:lnTo>
                  <a:pt x="1290" y="2567"/>
                </a:lnTo>
                <a:lnTo>
                  <a:pt x="1342" y="2514"/>
                </a:lnTo>
                <a:lnTo>
                  <a:pt x="1356" y="2488"/>
                </a:lnTo>
                <a:lnTo>
                  <a:pt x="1338" y="2461"/>
                </a:lnTo>
                <a:lnTo>
                  <a:pt x="1301" y="2423"/>
                </a:lnTo>
                <a:lnTo>
                  <a:pt x="1259" y="2405"/>
                </a:lnTo>
                <a:lnTo>
                  <a:pt x="1214" y="2399"/>
                </a:lnTo>
                <a:lnTo>
                  <a:pt x="1165" y="2399"/>
                </a:lnTo>
                <a:lnTo>
                  <a:pt x="1112" y="2398"/>
                </a:lnTo>
                <a:lnTo>
                  <a:pt x="1084" y="2395"/>
                </a:lnTo>
                <a:lnTo>
                  <a:pt x="1091" y="2355"/>
                </a:lnTo>
                <a:lnTo>
                  <a:pt x="1109" y="2277"/>
                </a:lnTo>
                <a:lnTo>
                  <a:pt x="1126" y="2130"/>
                </a:lnTo>
                <a:lnTo>
                  <a:pt x="1101" y="2061"/>
                </a:lnTo>
                <a:lnTo>
                  <a:pt x="1039" y="1993"/>
                </a:lnTo>
                <a:lnTo>
                  <a:pt x="991" y="1960"/>
                </a:lnTo>
                <a:lnTo>
                  <a:pt x="992" y="1928"/>
                </a:lnTo>
                <a:lnTo>
                  <a:pt x="994" y="1897"/>
                </a:lnTo>
                <a:lnTo>
                  <a:pt x="993" y="1915"/>
                </a:lnTo>
                <a:lnTo>
                  <a:pt x="991" y="1958"/>
                </a:lnTo>
                <a:lnTo>
                  <a:pt x="991" y="19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89"/>
          <p:cNvSpPr/>
          <p:nvPr/>
        </p:nvSpPr>
        <p:spPr>
          <a:xfrm>
            <a:off x="1450800" y="1657440"/>
            <a:ext cx="57240" cy="74520"/>
          </a:xfrm>
          <a:custGeom>
            <a:avLst/>
            <a:gdLst>
              <a:gd name="textAreaLeft" fmla="*/ 0 w 57240"/>
              <a:gd name="textAreaRight" fmla="*/ 57600 w 57240"/>
              <a:gd name="textAreaTop" fmla="*/ 0 h 74520"/>
              <a:gd name="textAreaBottom" fmla="*/ 74520 h 74520"/>
            </a:gdLst>
            <a:ahLst/>
            <a:rect l="textAreaLeft" t="textAreaTop" r="textAreaRight" b="textAreaBottom"/>
            <a:pathLst>
              <a:path w="72" h="93">
                <a:moveTo>
                  <a:pt x="11" y="0"/>
                </a:moveTo>
                <a:lnTo>
                  <a:pt x="29" y="1"/>
                </a:lnTo>
                <a:lnTo>
                  <a:pt x="55" y="8"/>
                </a:lnTo>
                <a:lnTo>
                  <a:pt x="62" y="14"/>
                </a:lnTo>
                <a:lnTo>
                  <a:pt x="68" y="21"/>
                </a:lnTo>
                <a:lnTo>
                  <a:pt x="71" y="29"/>
                </a:lnTo>
                <a:lnTo>
                  <a:pt x="72" y="38"/>
                </a:lnTo>
                <a:lnTo>
                  <a:pt x="71" y="48"/>
                </a:lnTo>
                <a:lnTo>
                  <a:pt x="67" y="71"/>
                </a:lnTo>
                <a:lnTo>
                  <a:pt x="60" y="93"/>
                </a:lnTo>
                <a:lnTo>
                  <a:pt x="52" y="93"/>
                </a:lnTo>
                <a:lnTo>
                  <a:pt x="42" y="90"/>
                </a:lnTo>
                <a:lnTo>
                  <a:pt x="34" y="86"/>
                </a:lnTo>
                <a:lnTo>
                  <a:pt x="17" y="73"/>
                </a:lnTo>
                <a:lnTo>
                  <a:pt x="6" y="56"/>
                </a:lnTo>
                <a:lnTo>
                  <a:pt x="0" y="34"/>
                </a:lnTo>
                <a:lnTo>
                  <a:pt x="5" y="12"/>
                </a:lnTo>
                <a:lnTo>
                  <a:pt x="11" y="0"/>
                </a:lnTo>
                <a:lnTo>
                  <a:pt x="27" y="0"/>
                </a:lnTo>
                <a:lnTo>
                  <a:pt x="45" y="0"/>
                </a:lnTo>
                <a:lnTo>
                  <a:pt x="36" y="0"/>
                </a:lnTo>
                <a:lnTo>
                  <a:pt x="12" y="0"/>
                </a:lnTo>
                <a:lnTo>
                  <a:pt x="11" y="0"/>
                </a:lnTo>
              </a:path>
            </a:pathLst>
          </a:custGeom>
          <a:noFill/>
          <a:ln w="6480">
            <a:solidFill>
              <a:srgbClr val="1f1a17"/>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1" name="Freeform 90"/>
          <p:cNvSpPr/>
          <p:nvPr/>
        </p:nvSpPr>
        <p:spPr>
          <a:xfrm>
            <a:off x="1890720" y="2039760"/>
            <a:ext cx="81000" cy="160560"/>
          </a:xfrm>
          <a:custGeom>
            <a:avLst/>
            <a:gdLst>
              <a:gd name="textAreaLeft" fmla="*/ 0 w 81000"/>
              <a:gd name="textAreaRight" fmla="*/ 81360 w 81000"/>
              <a:gd name="textAreaTop" fmla="*/ 0 h 160560"/>
              <a:gd name="textAreaBottom" fmla="*/ 160920 h 160560"/>
            </a:gdLst>
            <a:ahLst/>
            <a:rect l="textAreaLeft" t="textAreaTop" r="textAreaRight" b="textAreaBottom"/>
            <a:pathLst>
              <a:path w="102" h="202">
                <a:moveTo>
                  <a:pt x="50" y="202"/>
                </a:moveTo>
                <a:lnTo>
                  <a:pt x="49" y="192"/>
                </a:lnTo>
                <a:lnTo>
                  <a:pt x="47" y="177"/>
                </a:lnTo>
                <a:lnTo>
                  <a:pt x="40" y="166"/>
                </a:lnTo>
                <a:lnTo>
                  <a:pt x="32" y="158"/>
                </a:lnTo>
                <a:lnTo>
                  <a:pt x="21" y="151"/>
                </a:lnTo>
                <a:lnTo>
                  <a:pt x="7" y="145"/>
                </a:lnTo>
                <a:lnTo>
                  <a:pt x="0" y="141"/>
                </a:lnTo>
                <a:lnTo>
                  <a:pt x="8" y="128"/>
                </a:lnTo>
                <a:lnTo>
                  <a:pt x="23" y="110"/>
                </a:lnTo>
                <a:lnTo>
                  <a:pt x="31" y="100"/>
                </a:lnTo>
                <a:lnTo>
                  <a:pt x="33" y="96"/>
                </a:lnTo>
                <a:lnTo>
                  <a:pt x="33" y="95"/>
                </a:lnTo>
                <a:lnTo>
                  <a:pt x="32" y="93"/>
                </a:lnTo>
                <a:lnTo>
                  <a:pt x="31" y="92"/>
                </a:lnTo>
                <a:lnTo>
                  <a:pt x="30" y="90"/>
                </a:lnTo>
                <a:lnTo>
                  <a:pt x="25" y="86"/>
                </a:lnTo>
                <a:lnTo>
                  <a:pt x="10" y="74"/>
                </a:lnTo>
                <a:lnTo>
                  <a:pt x="0" y="64"/>
                </a:lnTo>
                <a:lnTo>
                  <a:pt x="7" y="61"/>
                </a:lnTo>
                <a:lnTo>
                  <a:pt x="24" y="51"/>
                </a:lnTo>
                <a:lnTo>
                  <a:pt x="58" y="33"/>
                </a:lnTo>
                <a:lnTo>
                  <a:pt x="90" y="9"/>
                </a:lnTo>
                <a:lnTo>
                  <a:pt x="98" y="0"/>
                </a:lnTo>
                <a:lnTo>
                  <a:pt x="101" y="11"/>
                </a:lnTo>
                <a:lnTo>
                  <a:pt x="102" y="26"/>
                </a:lnTo>
                <a:lnTo>
                  <a:pt x="102" y="66"/>
                </a:lnTo>
                <a:lnTo>
                  <a:pt x="87" y="156"/>
                </a:lnTo>
                <a:lnTo>
                  <a:pt x="50" y="202"/>
                </a:lnTo>
                <a:lnTo>
                  <a:pt x="50" y="193"/>
                </a:lnTo>
                <a:lnTo>
                  <a:pt x="50" y="184"/>
                </a:lnTo>
                <a:lnTo>
                  <a:pt x="50" y="189"/>
                </a:lnTo>
                <a:lnTo>
                  <a:pt x="50" y="202"/>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91"/>
          <p:cNvSpPr/>
          <p:nvPr/>
        </p:nvSpPr>
        <p:spPr>
          <a:xfrm>
            <a:off x="1698480" y="2300400"/>
            <a:ext cx="34920" cy="68040"/>
          </a:xfrm>
          <a:custGeom>
            <a:avLst/>
            <a:gdLst>
              <a:gd name="textAreaLeft" fmla="*/ 0 w 34920"/>
              <a:gd name="textAreaRight" fmla="*/ 34920 w 34920"/>
              <a:gd name="textAreaTop" fmla="*/ 0 h 68040"/>
              <a:gd name="textAreaBottom" fmla="*/ 68400 h 68040"/>
            </a:gdLst>
            <a:ahLst/>
            <a:rect l="textAreaLeft" t="textAreaTop" r="textAreaRight" b="textAreaBottom"/>
            <a:pathLst>
              <a:path w="44" h="85">
                <a:moveTo>
                  <a:pt x="42" y="85"/>
                </a:moveTo>
                <a:lnTo>
                  <a:pt x="30" y="84"/>
                </a:lnTo>
                <a:lnTo>
                  <a:pt x="22" y="81"/>
                </a:lnTo>
                <a:lnTo>
                  <a:pt x="14" y="75"/>
                </a:lnTo>
                <a:lnTo>
                  <a:pt x="8" y="68"/>
                </a:lnTo>
                <a:lnTo>
                  <a:pt x="4" y="60"/>
                </a:lnTo>
                <a:lnTo>
                  <a:pt x="1" y="50"/>
                </a:lnTo>
                <a:lnTo>
                  <a:pt x="0" y="41"/>
                </a:lnTo>
                <a:lnTo>
                  <a:pt x="1" y="32"/>
                </a:lnTo>
                <a:lnTo>
                  <a:pt x="5" y="22"/>
                </a:lnTo>
                <a:lnTo>
                  <a:pt x="10" y="14"/>
                </a:lnTo>
                <a:lnTo>
                  <a:pt x="18" y="7"/>
                </a:lnTo>
                <a:lnTo>
                  <a:pt x="28" y="0"/>
                </a:lnTo>
                <a:lnTo>
                  <a:pt x="28" y="5"/>
                </a:lnTo>
                <a:lnTo>
                  <a:pt x="29" y="10"/>
                </a:lnTo>
                <a:lnTo>
                  <a:pt x="35" y="22"/>
                </a:lnTo>
                <a:lnTo>
                  <a:pt x="44" y="54"/>
                </a:lnTo>
                <a:lnTo>
                  <a:pt x="42" y="85"/>
                </a:lnTo>
                <a:lnTo>
                  <a:pt x="32" y="85"/>
                </a:lnTo>
                <a:lnTo>
                  <a:pt x="22" y="85"/>
                </a:lnTo>
                <a:lnTo>
                  <a:pt x="27" y="85"/>
                </a:lnTo>
                <a:lnTo>
                  <a:pt x="41" y="85"/>
                </a:lnTo>
                <a:lnTo>
                  <a:pt x="42" y="85"/>
                </a:lnTo>
              </a:path>
            </a:pathLst>
          </a:custGeom>
          <a:noFill/>
          <a:ln w="6480">
            <a:solidFill>
              <a:srgbClr val="1f1a17"/>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93" name="Freeform 92"/>
          <p:cNvSpPr/>
          <p:nvPr/>
        </p:nvSpPr>
        <p:spPr>
          <a:xfrm>
            <a:off x="1143000" y="2438280"/>
            <a:ext cx="88920" cy="52560"/>
          </a:xfrm>
          <a:custGeom>
            <a:avLst/>
            <a:gdLst>
              <a:gd name="textAreaLeft" fmla="*/ 0 w 88920"/>
              <a:gd name="textAreaRight" fmla="*/ 88920 w 88920"/>
              <a:gd name="textAreaTop" fmla="*/ 0 h 52560"/>
              <a:gd name="textAreaBottom" fmla="*/ 52920 h 52560"/>
            </a:gdLst>
            <a:ahLst/>
            <a:rect l="textAreaLeft" t="textAreaTop" r="textAreaRight" b="textAreaBottom"/>
            <a:pathLst>
              <a:path w="113" h="66">
                <a:moveTo>
                  <a:pt x="113" y="66"/>
                </a:moveTo>
                <a:lnTo>
                  <a:pt x="102" y="66"/>
                </a:lnTo>
                <a:lnTo>
                  <a:pt x="81" y="65"/>
                </a:lnTo>
                <a:lnTo>
                  <a:pt x="39" y="59"/>
                </a:lnTo>
                <a:lnTo>
                  <a:pt x="21" y="50"/>
                </a:lnTo>
                <a:lnTo>
                  <a:pt x="6" y="35"/>
                </a:lnTo>
                <a:lnTo>
                  <a:pt x="0" y="25"/>
                </a:lnTo>
                <a:lnTo>
                  <a:pt x="9" y="14"/>
                </a:lnTo>
                <a:lnTo>
                  <a:pt x="19" y="6"/>
                </a:lnTo>
                <a:lnTo>
                  <a:pt x="31" y="1"/>
                </a:lnTo>
                <a:lnTo>
                  <a:pt x="44" y="0"/>
                </a:lnTo>
                <a:lnTo>
                  <a:pt x="57" y="1"/>
                </a:lnTo>
                <a:lnTo>
                  <a:pt x="69" y="5"/>
                </a:lnTo>
                <a:lnTo>
                  <a:pt x="81" y="12"/>
                </a:lnTo>
                <a:lnTo>
                  <a:pt x="90" y="20"/>
                </a:lnTo>
                <a:lnTo>
                  <a:pt x="106" y="42"/>
                </a:lnTo>
                <a:lnTo>
                  <a:pt x="113" y="66"/>
                </a:lnTo>
                <a:lnTo>
                  <a:pt x="104" y="66"/>
                </a:lnTo>
                <a:lnTo>
                  <a:pt x="95" y="65"/>
                </a:lnTo>
                <a:lnTo>
                  <a:pt x="100" y="66"/>
                </a:lnTo>
                <a:lnTo>
                  <a:pt x="112" y="66"/>
                </a:lnTo>
                <a:lnTo>
                  <a:pt x="113" y="66"/>
                </a:lnTo>
              </a:path>
            </a:pathLst>
          </a:custGeom>
          <a:noFill/>
          <a:ln w="6480">
            <a:solidFill>
              <a:srgbClr val="1f1a17"/>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4" name="Freeform 93"/>
          <p:cNvSpPr/>
          <p:nvPr/>
        </p:nvSpPr>
        <p:spPr>
          <a:xfrm>
            <a:off x="1301760" y="2343240"/>
            <a:ext cx="125280" cy="108000"/>
          </a:xfrm>
          <a:custGeom>
            <a:avLst/>
            <a:gdLst>
              <a:gd name="textAreaLeft" fmla="*/ 0 w 125280"/>
              <a:gd name="textAreaRight" fmla="*/ 125640 w 125280"/>
              <a:gd name="textAreaTop" fmla="*/ 0 h 108000"/>
              <a:gd name="textAreaBottom" fmla="*/ 108360 h 108000"/>
            </a:gdLst>
            <a:ahLst/>
            <a:rect l="textAreaLeft" t="textAreaTop" r="textAreaRight" b="textAreaBottom"/>
            <a:pathLst>
              <a:path w="156" h="135">
                <a:moveTo>
                  <a:pt x="0" y="134"/>
                </a:moveTo>
                <a:lnTo>
                  <a:pt x="2" y="112"/>
                </a:lnTo>
                <a:lnTo>
                  <a:pt x="8" y="73"/>
                </a:lnTo>
                <a:lnTo>
                  <a:pt x="19" y="44"/>
                </a:lnTo>
                <a:lnTo>
                  <a:pt x="37" y="25"/>
                </a:lnTo>
                <a:lnTo>
                  <a:pt x="67" y="11"/>
                </a:lnTo>
                <a:lnTo>
                  <a:pt x="112" y="3"/>
                </a:lnTo>
                <a:lnTo>
                  <a:pt x="143" y="0"/>
                </a:lnTo>
                <a:lnTo>
                  <a:pt x="152" y="24"/>
                </a:lnTo>
                <a:lnTo>
                  <a:pt x="156" y="45"/>
                </a:lnTo>
                <a:lnTo>
                  <a:pt x="154" y="64"/>
                </a:lnTo>
                <a:lnTo>
                  <a:pt x="147" y="81"/>
                </a:lnTo>
                <a:lnTo>
                  <a:pt x="136" y="94"/>
                </a:lnTo>
                <a:lnTo>
                  <a:pt x="121" y="106"/>
                </a:lnTo>
                <a:lnTo>
                  <a:pt x="104" y="117"/>
                </a:lnTo>
                <a:lnTo>
                  <a:pt x="64" y="129"/>
                </a:lnTo>
                <a:lnTo>
                  <a:pt x="20" y="135"/>
                </a:lnTo>
                <a:lnTo>
                  <a:pt x="0" y="134"/>
                </a:lnTo>
                <a:lnTo>
                  <a:pt x="2" y="114"/>
                </a:lnTo>
                <a:lnTo>
                  <a:pt x="4" y="93"/>
                </a:lnTo>
                <a:lnTo>
                  <a:pt x="3" y="104"/>
                </a:lnTo>
                <a:lnTo>
                  <a:pt x="0" y="133"/>
                </a:lnTo>
                <a:lnTo>
                  <a:pt x="0" y="134"/>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94"/>
          <p:cNvSpPr/>
          <p:nvPr/>
        </p:nvSpPr>
        <p:spPr>
          <a:xfrm>
            <a:off x="1187280" y="2562120"/>
            <a:ext cx="36720" cy="41400"/>
          </a:xfrm>
          <a:custGeom>
            <a:avLst/>
            <a:gdLst>
              <a:gd name="textAreaLeft" fmla="*/ 0 w 36720"/>
              <a:gd name="textAreaRight" fmla="*/ 37080 w 36720"/>
              <a:gd name="textAreaTop" fmla="*/ 0 h 41400"/>
              <a:gd name="textAreaBottom" fmla="*/ 41760 h 41400"/>
            </a:gdLst>
            <a:ahLst/>
            <a:rect l="textAreaLeft" t="textAreaTop" r="textAreaRight" b="textAreaBottom"/>
            <a:pathLst>
              <a:path w="46" h="52">
                <a:moveTo>
                  <a:pt x="46" y="52"/>
                </a:moveTo>
                <a:lnTo>
                  <a:pt x="37" y="49"/>
                </a:lnTo>
                <a:lnTo>
                  <a:pt x="22" y="42"/>
                </a:lnTo>
                <a:lnTo>
                  <a:pt x="10" y="35"/>
                </a:lnTo>
                <a:lnTo>
                  <a:pt x="2" y="28"/>
                </a:lnTo>
                <a:lnTo>
                  <a:pt x="0" y="24"/>
                </a:lnTo>
                <a:lnTo>
                  <a:pt x="0" y="19"/>
                </a:lnTo>
                <a:lnTo>
                  <a:pt x="2" y="14"/>
                </a:lnTo>
                <a:lnTo>
                  <a:pt x="6" y="8"/>
                </a:lnTo>
                <a:lnTo>
                  <a:pt x="14" y="0"/>
                </a:lnTo>
                <a:lnTo>
                  <a:pt x="17" y="0"/>
                </a:lnTo>
                <a:lnTo>
                  <a:pt x="22" y="0"/>
                </a:lnTo>
                <a:lnTo>
                  <a:pt x="26" y="1"/>
                </a:lnTo>
                <a:lnTo>
                  <a:pt x="28" y="2"/>
                </a:lnTo>
                <a:lnTo>
                  <a:pt x="30" y="4"/>
                </a:lnTo>
                <a:lnTo>
                  <a:pt x="31" y="8"/>
                </a:lnTo>
                <a:lnTo>
                  <a:pt x="33" y="12"/>
                </a:lnTo>
                <a:lnTo>
                  <a:pt x="39" y="28"/>
                </a:lnTo>
                <a:lnTo>
                  <a:pt x="46" y="52"/>
                </a:lnTo>
                <a:lnTo>
                  <a:pt x="39" y="49"/>
                </a:lnTo>
                <a:lnTo>
                  <a:pt x="32" y="45"/>
                </a:lnTo>
                <a:lnTo>
                  <a:pt x="35" y="47"/>
                </a:lnTo>
                <a:lnTo>
                  <a:pt x="45" y="52"/>
                </a:lnTo>
                <a:lnTo>
                  <a:pt x="46" y="52"/>
                </a:lnTo>
              </a:path>
            </a:pathLst>
          </a:custGeom>
          <a:noFill/>
          <a:ln w="6480">
            <a:solidFill>
              <a:srgbClr val="1f1a17"/>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96" name="Freeform 95"/>
          <p:cNvSpPr/>
          <p:nvPr/>
        </p:nvSpPr>
        <p:spPr>
          <a:xfrm>
            <a:off x="1219320" y="2859120"/>
            <a:ext cx="60120" cy="58680"/>
          </a:xfrm>
          <a:custGeom>
            <a:avLst/>
            <a:gdLst>
              <a:gd name="textAreaLeft" fmla="*/ 0 w 60120"/>
              <a:gd name="textAreaRight" fmla="*/ 60480 w 60120"/>
              <a:gd name="textAreaTop" fmla="*/ 0 h 58680"/>
              <a:gd name="textAreaBottom" fmla="*/ 59040 h 58680"/>
            </a:gdLst>
            <a:ahLst/>
            <a:rect l="textAreaLeft" t="textAreaTop" r="textAreaRight" b="textAreaBottom"/>
            <a:pathLst>
              <a:path w="76" h="73">
                <a:moveTo>
                  <a:pt x="25" y="73"/>
                </a:moveTo>
                <a:lnTo>
                  <a:pt x="25" y="69"/>
                </a:lnTo>
                <a:lnTo>
                  <a:pt x="29" y="64"/>
                </a:lnTo>
                <a:lnTo>
                  <a:pt x="33" y="58"/>
                </a:lnTo>
                <a:lnTo>
                  <a:pt x="44" y="44"/>
                </a:lnTo>
                <a:lnTo>
                  <a:pt x="67" y="17"/>
                </a:lnTo>
                <a:lnTo>
                  <a:pt x="76" y="1"/>
                </a:lnTo>
                <a:lnTo>
                  <a:pt x="74" y="1"/>
                </a:lnTo>
                <a:lnTo>
                  <a:pt x="64" y="1"/>
                </a:lnTo>
                <a:lnTo>
                  <a:pt x="29" y="1"/>
                </a:lnTo>
                <a:lnTo>
                  <a:pt x="2" y="1"/>
                </a:lnTo>
                <a:lnTo>
                  <a:pt x="1" y="0"/>
                </a:lnTo>
                <a:lnTo>
                  <a:pt x="0" y="4"/>
                </a:lnTo>
                <a:lnTo>
                  <a:pt x="0" y="14"/>
                </a:lnTo>
                <a:lnTo>
                  <a:pt x="3" y="37"/>
                </a:lnTo>
                <a:lnTo>
                  <a:pt x="18" y="66"/>
                </a:lnTo>
                <a:lnTo>
                  <a:pt x="25" y="73"/>
                </a:lnTo>
                <a:lnTo>
                  <a:pt x="25" y="70"/>
                </a:lnTo>
                <a:lnTo>
                  <a:pt x="25" y="67"/>
                </a:lnTo>
                <a:lnTo>
                  <a:pt x="25" y="69"/>
                </a:lnTo>
                <a:lnTo>
                  <a:pt x="25" y="73"/>
                </a:lnTo>
              </a:path>
            </a:pathLst>
          </a:custGeom>
          <a:noFill/>
          <a:ln w="6480">
            <a:solidFill>
              <a:srgbClr val="1f1a17"/>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97" name="Freeform 96"/>
          <p:cNvSpPr/>
          <p:nvPr/>
        </p:nvSpPr>
        <p:spPr>
          <a:xfrm>
            <a:off x="1328760" y="2990880"/>
            <a:ext cx="33480" cy="42840"/>
          </a:xfrm>
          <a:custGeom>
            <a:avLst/>
            <a:gdLst>
              <a:gd name="textAreaLeft" fmla="*/ 0 w 33480"/>
              <a:gd name="textAreaRight" fmla="*/ 33840 w 33480"/>
              <a:gd name="textAreaTop" fmla="*/ 0 h 42840"/>
              <a:gd name="textAreaBottom" fmla="*/ 43200 h 42840"/>
            </a:gdLst>
            <a:ahLst/>
            <a:rect l="textAreaLeft" t="textAreaTop" r="textAreaRight" b="textAreaBottom"/>
            <a:pathLst>
              <a:path w="42" h="53">
                <a:moveTo>
                  <a:pt x="0" y="4"/>
                </a:moveTo>
                <a:lnTo>
                  <a:pt x="5" y="19"/>
                </a:lnTo>
                <a:lnTo>
                  <a:pt x="12" y="39"/>
                </a:lnTo>
                <a:lnTo>
                  <a:pt x="16" y="51"/>
                </a:lnTo>
                <a:lnTo>
                  <a:pt x="17" y="52"/>
                </a:lnTo>
                <a:lnTo>
                  <a:pt x="18" y="53"/>
                </a:lnTo>
                <a:lnTo>
                  <a:pt x="19" y="53"/>
                </a:lnTo>
                <a:lnTo>
                  <a:pt x="20" y="52"/>
                </a:lnTo>
                <a:lnTo>
                  <a:pt x="21" y="48"/>
                </a:lnTo>
                <a:lnTo>
                  <a:pt x="23" y="46"/>
                </a:lnTo>
                <a:lnTo>
                  <a:pt x="27" y="40"/>
                </a:lnTo>
                <a:lnTo>
                  <a:pt x="38" y="20"/>
                </a:lnTo>
                <a:lnTo>
                  <a:pt x="42" y="13"/>
                </a:lnTo>
                <a:lnTo>
                  <a:pt x="39" y="11"/>
                </a:lnTo>
                <a:lnTo>
                  <a:pt x="33" y="7"/>
                </a:lnTo>
                <a:lnTo>
                  <a:pt x="26" y="3"/>
                </a:lnTo>
                <a:lnTo>
                  <a:pt x="17" y="1"/>
                </a:lnTo>
                <a:lnTo>
                  <a:pt x="10" y="0"/>
                </a:lnTo>
                <a:lnTo>
                  <a:pt x="2" y="2"/>
                </a:lnTo>
                <a:lnTo>
                  <a:pt x="0" y="4"/>
                </a:lnTo>
                <a:lnTo>
                  <a:pt x="4" y="17"/>
                </a:lnTo>
                <a:lnTo>
                  <a:pt x="10" y="30"/>
                </a:lnTo>
                <a:lnTo>
                  <a:pt x="6" y="23"/>
                </a:lnTo>
                <a:lnTo>
                  <a:pt x="0" y="6"/>
                </a:lnTo>
                <a:lnTo>
                  <a:pt x="0" y="4"/>
                </a:lnTo>
              </a:path>
            </a:pathLst>
          </a:custGeom>
          <a:noFill/>
          <a:ln w="6480">
            <a:solidFill>
              <a:srgbClr val="1f1a17"/>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8" name="Freeform 97"/>
          <p:cNvSpPr/>
          <p:nvPr/>
        </p:nvSpPr>
        <p:spPr>
          <a:xfrm>
            <a:off x="1370160" y="3152880"/>
            <a:ext cx="63360" cy="58680"/>
          </a:xfrm>
          <a:custGeom>
            <a:avLst/>
            <a:gdLst>
              <a:gd name="textAreaLeft" fmla="*/ 0 w 63360"/>
              <a:gd name="textAreaRight" fmla="*/ 63720 w 63360"/>
              <a:gd name="textAreaTop" fmla="*/ 0 h 58680"/>
              <a:gd name="textAreaBottom" fmla="*/ 59040 h 58680"/>
            </a:gdLst>
            <a:ahLst/>
            <a:rect l="textAreaLeft" t="textAreaTop" r="textAreaRight" b="textAreaBottom"/>
            <a:pathLst>
              <a:path w="82" h="74">
                <a:moveTo>
                  <a:pt x="0" y="70"/>
                </a:moveTo>
                <a:lnTo>
                  <a:pt x="0" y="67"/>
                </a:lnTo>
                <a:lnTo>
                  <a:pt x="1" y="61"/>
                </a:lnTo>
                <a:lnTo>
                  <a:pt x="7" y="51"/>
                </a:lnTo>
                <a:lnTo>
                  <a:pt x="21" y="27"/>
                </a:lnTo>
                <a:lnTo>
                  <a:pt x="29" y="0"/>
                </a:lnTo>
                <a:lnTo>
                  <a:pt x="34" y="1"/>
                </a:lnTo>
                <a:lnTo>
                  <a:pt x="42" y="3"/>
                </a:lnTo>
                <a:lnTo>
                  <a:pt x="51" y="6"/>
                </a:lnTo>
                <a:lnTo>
                  <a:pt x="69" y="14"/>
                </a:lnTo>
                <a:lnTo>
                  <a:pt x="82" y="16"/>
                </a:lnTo>
                <a:lnTo>
                  <a:pt x="78" y="27"/>
                </a:lnTo>
                <a:lnTo>
                  <a:pt x="71" y="45"/>
                </a:lnTo>
                <a:lnTo>
                  <a:pt x="63" y="59"/>
                </a:lnTo>
                <a:lnTo>
                  <a:pt x="53" y="70"/>
                </a:lnTo>
                <a:lnTo>
                  <a:pt x="37" y="74"/>
                </a:lnTo>
                <a:lnTo>
                  <a:pt x="14" y="73"/>
                </a:lnTo>
                <a:lnTo>
                  <a:pt x="0" y="70"/>
                </a:lnTo>
                <a:lnTo>
                  <a:pt x="0" y="68"/>
                </a:lnTo>
                <a:lnTo>
                  <a:pt x="0" y="65"/>
                </a:lnTo>
                <a:lnTo>
                  <a:pt x="0" y="66"/>
                </a:lnTo>
                <a:lnTo>
                  <a:pt x="0" y="70"/>
                </a:lnTo>
              </a:path>
            </a:pathLst>
          </a:custGeom>
          <a:noFill/>
          <a:ln w="6480">
            <a:solidFill>
              <a:srgbClr val="1f1a17"/>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99" name="Freeform 98"/>
          <p:cNvSpPr/>
          <p:nvPr/>
        </p:nvSpPr>
        <p:spPr>
          <a:xfrm>
            <a:off x="1014480" y="2975040"/>
            <a:ext cx="261720" cy="261720"/>
          </a:xfrm>
          <a:custGeom>
            <a:avLst/>
            <a:gdLst>
              <a:gd name="textAreaLeft" fmla="*/ 0 w 261720"/>
              <a:gd name="textAreaRight" fmla="*/ 262080 w 261720"/>
              <a:gd name="textAreaTop" fmla="*/ 0 h 261720"/>
              <a:gd name="textAreaBottom" fmla="*/ 262080 h 261720"/>
            </a:gdLst>
            <a:ahLst/>
            <a:rect l="textAreaLeft" t="textAreaTop" r="textAreaRight" b="textAreaBottom"/>
            <a:pathLst>
              <a:path w="330" h="330">
                <a:moveTo>
                  <a:pt x="314" y="131"/>
                </a:moveTo>
                <a:lnTo>
                  <a:pt x="313" y="119"/>
                </a:lnTo>
                <a:lnTo>
                  <a:pt x="309" y="98"/>
                </a:lnTo>
                <a:lnTo>
                  <a:pt x="294" y="59"/>
                </a:lnTo>
                <a:lnTo>
                  <a:pt x="275" y="25"/>
                </a:lnTo>
                <a:lnTo>
                  <a:pt x="271" y="17"/>
                </a:lnTo>
                <a:lnTo>
                  <a:pt x="262" y="14"/>
                </a:lnTo>
                <a:lnTo>
                  <a:pt x="254" y="13"/>
                </a:lnTo>
                <a:lnTo>
                  <a:pt x="247" y="13"/>
                </a:lnTo>
                <a:lnTo>
                  <a:pt x="241" y="15"/>
                </a:lnTo>
                <a:lnTo>
                  <a:pt x="237" y="19"/>
                </a:lnTo>
                <a:lnTo>
                  <a:pt x="229" y="24"/>
                </a:lnTo>
                <a:lnTo>
                  <a:pt x="220" y="28"/>
                </a:lnTo>
                <a:lnTo>
                  <a:pt x="216" y="28"/>
                </a:lnTo>
                <a:lnTo>
                  <a:pt x="211" y="27"/>
                </a:lnTo>
                <a:lnTo>
                  <a:pt x="206" y="23"/>
                </a:lnTo>
                <a:lnTo>
                  <a:pt x="200" y="19"/>
                </a:lnTo>
                <a:lnTo>
                  <a:pt x="188" y="11"/>
                </a:lnTo>
                <a:lnTo>
                  <a:pt x="163" y="3"/>
                </a:lnTo>
                <a:lnTo>
                  <a:pt x="143" y="1"/>
                </a:lnTo>
                <a:lnTo>
                  <a:pt x="138" y="0"/>
                </a:lnTo>
                <a:lnTo>
                  <a:pt x="135" y="3"/>
                </a:lnTo>
                <a:lnTo>
                  <a:pt x="121" y="18"/>
                </a:lnTo>
                <a:lnTo>
                  <a:pt x="70" y="66"/>
                </a:lnTo>
                <a:lnTo>
                  <a:pt x="31" y="103"/>
                </a:lnTo>
                <a:lnTo>
                  <a:pt x="29" y="105"/>
                </a:lnTo>
                <a:lnTo>
                  <a:pt x="31" y="106"/>
                </a:lnTo>
                <a:lnTo>
                  <a:pt x="34" y="107"/>
                </a:lnTo>
                <a:lnTo>
                  <a:pt x="43" y="109"/>
                </a:lnTo>
                <a:lnTo>
                  <a:pt x="59" y="113"/>
                </a:lnTo>
                <a:lnTo>
                  <a:pt x="62" y="114"/>
                </a:lnTo>
                <a:lnTo>
                  <a:pt x="61" y="115"/>
                </a:lnTo>
                <a:lnTo>
                  <a:pt x="60" y="116"/>
                </a:lnTo>
                <a:lnTo>
                  <a:pt x="60" y="118"/>
                </a:lnTo>
                <a:lnTo>
                  <a:pt x="60" y="121"/>
                </a:lnTo>
                <a:lnTo>
                  <a:pt x="59" y="129"/>
                </a:lnTo>
                <a:lnTo>
                  <a:pt x="58" y="132"/>
                </a:lnTo>
                <a:lnTo>
                  <a:pt x="56" y="135"/>
                </a:lnTo>
                <a:lnTo>
                  <a:pt x="53" y="138"/>
                </a:lnTo>
                <a:lnTo>
                  <a:pt x="48" y="139"/>
                </a:lnTo>
                <a:lnTo>
                  <a:pt x="42" y="139"/>
                </a:lnTo>
                <a:lnTo>
                  <a:pt x="33" y="137"/>
                </a:lnTo>
                <a:lnTo>
                  <a:pt x="23" y="132"/>
                </a:lnTo>
                <a:lnTo>
                  <a:pt x="12" y="129"/>
                </a:lnTo>
                <a:lnTo>
                  <a:pt x="5" y="128"/>
                </a:lnTo>
                <a:lnTo>
                  <a:pt x="3" y="129"/>
                </a:lnTo>
                <a:lnTo>
                  <a:pt x="1" y="130"/>
                </a:lnTo>
                <a:lnTo>
                  <a:pt x="0" y="131"/>
                </a:lnTo>
                <a:lnTo>
                  <a:pt x="0" y="133"/>
                </a:lnTo>
                <a:lnTo>
                  <a:pt x="0" y="135"/>
                </a:lnTo>
                <a:lnTo>
                  <a:pt x="1" y="137"/>
                </a:lnTo>
                <a:lnTo>
                  <a:pt x="3" y="143"/>
                </a:lnTo>
                <a:lnTo>
                  <a:pt x="10" y="155"/>
                </a:lnTo>
                <a:lnTo>
                  <a:pt x="17" y="171"/>
                </a:lnTo>
                <a:lnTo>
                  <a:pt x="15" y="175"/>
                </a:lnTo>
                <a:lnTo>
                  <a:pt x="16" y="181"/>
                </a:lnTo>
                <a:lnTo>
                  <a:pt x="21" y="186"/>
                </a:lnTo>
                <a:lnTo>
                  <a:pt x="27" y="191"/>
                </a:lnTo>
                <a:lnTo>
                  <a:pt x="44" y="201"/>
                </a:lnTo>
                <a:lnTo>
                  <a:pt x="76" y="216"/>
                </a:lnTo>
                <a:lnTo>
                  <a:pt x="83" y="218"/>
                </a:lnTo>
                <a:lnTo>
                  <a:pt x="86" y="219"/>
                </a:lnTo>
                <a:lnTo>
                  <a:pt x="91" y="219"/>
                </a:lnTo>
                <a:lnTo>
                  <a:pt x="96" y="218"/>
                </a:lnTo>
                <a:lnTo>
                  <a:pt x="111" y="212"/>
                </a:lnTo>
                <a:lnTo>
                  <a:pt x="118" y="209"/>
                </a:lnTo>
                <a:lnTo>
                  <a:pt x="128" y="219"/>
                </a:lnTo>
                <a:lnTo>
                  <a:pt x="147" y="239"/>
                </a:lnTo>
                <a:lnTo>
                  <a:pt x="176" y="277"/>
                </a:lnTo>
                <a:lnTo>
                  <a:pt x="206" y="319"/>
                </a:lnTo>
                <a:lnTo>
                  <a:pt x="215" y="330"/>
                </a:lnTo>
                <a:lnTo>
                  <a:pt x="217" y="329"/>
                </a:lnTo>
                <a:lnTo>
                  <a:pt x="232" y="316"/>
                </a:lnTo>
                <a:lnTo>
                  <a:pt x="286" y="272"/>
                </a:lnTo>
                <a:lnTo>
                  <a:pt x="327" y="239"/>
                </a:lnTo>
                <a:lnTo>
                  <a:pt x="330" y="237"/>
                </a:lnTo>
                <a:lnTo>
                  <a:pt x="329" y="225"/>
                </a:lnTo>
                <a:lnTo>
                  <a:pt x="325" y="206"/>
                </a:lnTo>
                <a:lnTo>
                  <a:pt x="319" y="191"/>
                </a:lnTo>
                <a:lnTo>
                  <a:pt x="309" y="160"/>
                </a:lnTo>
                <a:lnTo>
                  <a:pt x="314" y="131"/>
                </a:lnTo>
                <a:lnTo>
                  <a:pt x="314" y="121"/>
                </a:lnTo>
                <a:lnTo>
                  <a:pt x="314" y="111"/>
                </a:lnTo>
                <a:lnTo>
                  <a:pt x="314" y="117"/>
                </a:lnTo>
                <a:lnTo>
                  <a:pt x="314" y="131"/>
                </a:lnTo>
              </a:path>
            </a:pathLst>
          </a:custGeom>
          <a:blipFill rotWithShape="0">
            <a:blip r:embed="rId10"/>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99"/>
          <p:cNvSpPr/>
          <p:nvPr/>
        </p:nvSpPr>
        <p:spPr>
          <a:xfrm>
            <a:off x="1077840" y="2406600"/>
            <a:ext cx="1011240" cy="1562040"/>
          </a:xfrm>
          <a:custGeom>
            <a:avLst/>
            <a:gdLst>
              <a:gd name="textAreaLeft" fmla="*/ 0 w 1011240"/>
              <a:gd name="textAreaRight" fmla="*/ 1011600 w 1011240"/>
              <a:gd name="textAreaTop" fmla="*/ 0 h 1562040"/>
              <a:gd name="textAreaBottom" fmla="*/ 1562400 h 1562040"/>
            </a:gdLst>
            <a:ahLst/>
            <a:rect l="textAreaLeft" t="textAreaTop" r="textAreaRight" b="textAreaBottom"/>
            <a:pathLst>
              <a:path w="1274" h="1968">
                <a:moveTo>
                  <a:pt x="909" y="1016"/>
                </a:moveTo>
                <a:lnTo>
                  <a:pt x="910" y="984"/>
                </a:lnTo>
                <a:lnTo>
                  <a:pt x="910" y="951"/>
                </a:lnTo>
                <a:lnTo>
                  <a:pt x="909" y="947"/>
                </a:lnTo>
                <a:lnTo>
                  <a:pt x="908" y="946"/>
                </a:lnTo>
                <a:lnTo>
                  <a:pt x="907" y="945"/>
                </a:lnTo>
                <a:lnTo>
                  <a:pt x="906" y="944"/>
                </a:lnTo>
                <a:lnTo>
                  <a:pt x="905" y="944"/>
                </a:lnTo>
                <a:lnTo>
                  <a:pt x="903" y="945"/>
                </a:lnTo>
                <a:lnTo>
                  <a:pt x="900" y="946"/>
                </a:lnTo>
                <a:lnTo>
                  <a:pt x="898" y="947"/>
                </a:lnTo>
                <a:lnTo>
                  <a:pt x="891" y="953"/>
                </a:lnTo>
                <a:lnTo>
                  <a:pt x="881" y="957"/>
                </a:lnTo>
                <a:lnTo>
                  <a:pt x="869" y="958"/>
                </a:lnTo>
                <a:lnTo>
                  <a:pt x="855" y="956"/>
                </a:lnTo>
                <a:lnTo>
                  <a:pt x="839" y="947"/>
                </a:lnTo>
                <a:lnTo>
                  <a:pt x="821" y="931"/>
                </a:lnTo>
                <a:lnTo>
                  <a:pt x="822" y="914"/>
                </a:lnTo>
                <a:lnTo>
                  <a:pt x="828" y="891"/>
                </a:lnTo>
                <a:lnTo>
                  <a:pt x="841" y="838"/>
                </a:lnTo>
                <a:lnTo>
                  <a:pt x="852" y="782"/>
                </a:lnTo>
                <a:lnTo>
                  <a:pt x="851" y="731"/>
                </a:lnTo>
                <a:lnTo>
                  <a:pt x="843" y="711"/>
                </a:lnTo>
                <a:lnTo>
                  <a:pt x="828" y="695"/>
                </a:lnTo>
                <a:lnTo>
                  <a:pt x="804" y="684"/>
                </a:lnTo>
                <a:lnTo>
                  <a:pt x="773" y="680"/>
                </a:lnTo>
                <a:lnTo>
                  <a:pt x="771" y="675"/>
                </a:lnTo>
                <a:lnTo>
                  <a:pt x="767" y="671"/>
                </a:lnTo>
                <a:lnTo>
                  <a:pt x="762" y="666"/>
                </a:lnTo>
                <a:lnTo>
                  <a:pt x="747" y="656"/>
                </a:lnTo>
                <a:lnTo>
                  <a:pt x="712" y="639"/>
                </a:lnTo>
                <a:lnTo>
                  <a:pt x="692" y="634"/>
                </a:lnTo>
                <a:lnTo>
                  <a:pt x="702" y="575"/>
                </a:lnTo>
                <a:lnTo>
                  <a:pt x="729" y="517"/>
                </a:lnTo>
                <a:lnTo>
                  <a:pt x="765" y="462"/>
                </a:lnTo>
                <a:lnTo>
                  <a:pt x="847" y="363"/>
                </a:lnTo>
                <a:lnTo>
                  <a:pt x="880" y="322"/>
                </a:lnTo>
                <a:lnTo>
                  <a:pt x="898" y="287"/>
                </a:lnTo>
                <a:lnTo>
                  <a:pt x="902" y="273"/>
                </a:lnTo>
                <a:lnTo>
                  <a:pt x="898" y="262"/>
                </a:lnTo>
                <a:lnTo>
                  <a:pt x="889" y="253"/>
                </a:lnTo>
                <a:lnTo>
                  <a:pt x="871" y="246"/>
                </a:lnTo>
                <a:lnTo>
                  <a:pt x="848" y="240"/>
                </a:lnTo>
                <a:lnTo>
                  <a:pt x="815" y="239"/>
                </a:lnTo>
                <a:lnTo>
                  <a:pt x="719" y="244"/>
                </a:lnTo>
                <a:lnTo>
                  <a:pt x="581" y="263"/>
                </a:lnTo>
                <a:lnTo>
                  <a:pt x="594" y="240"/>
                </a:lnTo>
                <a:lnTo>
                  <a:pt x="625" y="197"/>
                </a:lnTo>
                <a:lnTo>
                  <a:pt x="703" y="114"/>
                </a:lnTo>
                <a:lnTo>
                  <a:pt x="788" y="36"/>
                </a:lnTo>
                <a:lnTo>
                  <a:pt x="809" y="16"/>
                </a:lnTo>
                <a:lnTo>
                  <a:pt x="806" y="13"/>
                </a:lnTo>
                <a:lnTo>
                  <a:pt x="801" y="10"/>
                </a:lnTo>
                <a:lnTo>
                  <a:pt x="795" y="7"/>
                </a:lnTo>
                <a:lnTo>
                  <a:pt x="787" y="5"/>
                </a:lnTo>
                <a:lnTo>
                  <a:pt x="767" y="2"/>
                </a:lnTo>
                <a:lnTo>
                  <a:pt x="718" y="0"/>
                </a:lnTo>
                <a:lnTo>
                  <a:pt x="606" y="5"/>
                </a:lnTo>
                <a:lnTo>
                  <a:pt x="545" y="7"/>
                </a:lnTo>
                <a:lnTo>
                  <a:pt x="528" y="23"/>
                </a:lnTo>
                <a:lnTo>
                  <a:pt x="496" y="56"/>
                </a:lnTo>
                <a:lnTo>
                  <a:pt x="433" y="128"/>
                </a:lnTo>
                <a:lnTo>
                  <a:pt x="376" y="206"/>
                </a:lnTo>
                <a:lnTo>
                  <a:pt x="364" y="225"/>
                </a:lnTo>
                <a:lnTo>
                  <a:pt x="361" y="225"/>
                </a:lnTo>
                <a:lnTo>
                  <a:pt x="359" y="224"/>
                </a:lnTo>
                <a:lnTo>
                  <a:pt x="356" y="221"/>
                </a:lnTo>
                <a:lnTo>
                  <a:pt x="349" y="214"/>
                </a:lnTo>
                <a:lnTo>
                  <a:pt x="332" y="195"/>
                </a:lnTo>
                <a:lnTo>
                  <a:pt x="311" y="174"/>
                </a:lnTo>
                <a:lnTo>
                  <a:pt x="285" y="159"/>
                </a:lnTo>
                <a:lnTo>
                  <a:pt x="270" y="155"/>
                </a:lnTo>
                <a:lnTo>
                  <a:pt x="254" y="156"/>
                </a:lnTo>
                <a:lnTo>
                  <a:pt x="237" y="161"/>
                </a:lnTo>
                <a:lnTo>
                  <a:pt x="228" y="165"/>
                </a:lnTo>
                <a:lnTo>
                  <a:pt x="229" y="168"/>
                </a:lnTo>
                <a:lnTo>
                  <a:pt x="238" y="181"/>
                </a:lnTo>
                <a:lnTo>
                  <a:pt x="270" y="230"/>
                </a:lnTo>
                <a:lnTo>
                  <a:pt x="293" y="267"/>
                </a:lnTo>
                <a:lnTo>
                  <a:pt x="296" y="269"/>
                </a:lnTo>
                <a:lnTo>
                  <a:pt x="297" y="270"/>
                </a:lnTo>
                <a:lnTo>
                  <a:pt x="306" y="277"/>
                </a:lnTo>
                <a:lnTo>
                  <a:pt x="337" y="300"/>
                </a:lnTo>
                <a:lnTo>
                  <a:pt x="362" y="318"/>
                </a:lnTo>
                <a:lnTo>
                  <a:pt x="364" y="318"/>
                </a:lnTo>
                <a:lnTo>
                  <a:pt x="345" y="330"/>
                </a:lnTo>
                <a:lnTo>
                  <a:pt x="304" y="352"/>
                </a:lnTo>
                <a:lnTo>
                  <a:pt x="225" y="408"/>
                </a:lnTo>
                <a:lnTo>
                  <a:pt x="198" y="445"/>
                </a:lnTo>
                <a:lnTo>
                  <a:pt x="186" y="491"/>
                </a:lnTo>
                <a:lnTo>
                  <a:pt x="188" y="518"/>
                </a:lnTo>
                <a:lnTo>
                  <a:pt x="232" y="520"/>
                </a:lnTo>
                <a:lnTo>
                  <a:pt x="296" y="525"/>
                </a:lnTo>
                <a:lnTo>
                  <a:pt x="315" y="530"/>
                </a:lnTo>
                <a:lnTo>
                  <a:pt x="328" y="538"/>
                </a:lnTo>
                <a:lnTo>
                  <a:pt x="331" y="543"/>
                </a:lnTo>
                <a:lnTo>
                  <a:pt x="333" y="549"/>
                </a:lnTo>
                <a:lnTo>
                  <a:pt x="333" y="556"/>
                </a:lnTo>
                <a:lnTo>
                  <a:pt x="332" y="565"/>
                </a:lnTo>
                <a:lnTo>
                  <a:pt x="327" y="586"/>
                </a:lnTo>
                <a:lnTo>
                  <a:pt x="316" y="612"/>
                </a:lnTo>
                <a:lnTo>
                  <a:pt x="281" y="687"/>
                </a:lnTo>
                <a:lnTo>
                  <a:pt x="259" y="736"/>
                </a:lnTo>
                <a:lnTo>
                  <a:pt x="293" y="721"/>
                </a:lnTo>
                <a:lnTo>
                  <a:pt x="345" y="709"/>
                </a:lnTo>
                <a:lnTo>
                  <a:pt x="362" y="711"/>
                </a:lnTo>
                <a:lnTo>
                  <a:pt x="373" y="718"/>
                </a:lnTo>
                <a:lnTo>
                  <a:pt x="379" y="728"/>
                </a:lnTo>
                <a:lnTo>
                  <a:pt x="380" y="741"/>
                </a:lnTo>
                <a:lnTo>
                  <a:pt x="376" y="756"/>
                </a:lnTo>
                <a:lnTo>
                  <a:pt x="367" y="773"/>
                </a:lnTo>
                <a:lnTo>
                  <a:pt x="355" y="792"/>
                </a:lnTo>
                <a:lnTo>
                  <a:pt x="318" y="827"/>
                </a:lnTo>
                <a:lnTo>
                  <a:pt x="334" y="848"/>
                </a:lnTo>
                <a:lnTo>
                  <a:pt x="367" y="870"/>
                </a:lnTo>
                <a:lnTo>
                  <a:pt x="402" y="875"/>
                </a:lnTo>
                <a:lnTo>
                  <a:pt x="437" y="869"/>
                </a:lnTo>
                <a:lnTo>
                  <a:pt x="477" y="858"/>
                </a:lnTo>
                <a:lnTo>
                  <a:pt x="521" y="850"/>
                </a:lnTo>
                <a:lnTo>
                  <a:pt x="545" y="848"/>
                </a:lnTo>
                <a:lnTo>
                  <a:pt x="557" y="860"/>
                </a:lnTo>
                <a:lnTo>
                  <a:pt x="573" y="883"/>
                </a:lnTo>
                <a:lnTo>
                  <a:pt x="580" y="906"/>
                </a:lnTo>
                <a:lnTo>
                  <a:pt x="578" y="929"/>
                </a:lnTo>
                <a:lnTo>
                  <a:pt x="569" y="956"/>
                </a:lnTo>
                <a:lnTo>
                  <a:pt x="554" y="986"/>
                </a:lnTo>
                <a:lnTo>
                  <a:pt x="545" y="1004"/>
                </a:lnTo>
                <a:lnTo>
                  <a:pt x="559" y="1031"/>
                </a:lnTo>
                <a:lnTo>
                  <a:pt x="581" y="1078"/>
                </a:lnTo>
                <a:lnTo>
                  <a:pt x="591" y="1118"/>
                </a:lnTo>
                <a:lnTo>
                  <a:pt x="587" y="1153"/>
                </a:lnTo>
                <a:lnTo>
                  <a:pt x="569" y="1190"/>
                </a:lnTo>
                <a:lnTo>
                  <a:pt x="535" y="1230"/>
                </a:lnTo>
                <a:lnTo>
                  <a:pt x="512" y="1251"/>
                </a:lnTo>
                <a:lnTo>
                  <a:pt x="487" y="1248"/>
                </a:lnTo>
                <a:lnTo>
                  <a:pt x="460" y="1241"/>
                </a:lnTo>
                <a:lnTo>
                  <a:pt x="408" y="1216"/>
                </a:lnTo>
                <a:lnTo>
                  <a:pt x="367" y="1196"/>
                </a:lnTo>
                <a:lnTo>
                  <a:pt x="352" y="1191"/>
                </a:lnTo>
                <a:lnTo>
                  <a:pt x="347" y="1191"/>
                </a:lnTo>
                <a:lnTo>
                  <a:pt x="345" y="1192"/>
                </a:lnTo>
                <a:lnTo>
                  <a:pt x="343" y="1193"/>
                </a:lnTo>
                <a:lnTo>
                  <a:pt x="342" y="1194"/>
                </a:lnTo>
                <a:lnTo>
                  <a:pt x="341" y="1196"/>
                </a:lnTo>
                <a:lnTo>
                  <a:pt x="340" y="1199"/>
                </a:lnTo>
                <a:lnTo>
                  <a:pt x="340" y="1202"/>
                </a:lnTo>
                <a:lnTo>
                  <a:pt x="341" y="1210"/>
                </a:lnTo>
                <a:lnTo>
                  <a:pt x="344" y="1222"/>
                </a:lnTo>
                <a:lnTo>
                  <a:pt x="358" y="1253"/>
                </a:lnTo>
                <a:lnTo>
                  <a:pt x="380" y="1298"/>
                </a:lnTo>
                <a:lnTo>
                  <a:pt x="356" y="1299"/>
                </a:lnTo>
                <a:lnTo>
                  <a:pt x="327" y="1302"/>
                </a:lnTo>
                <a:lnTo>
                  <a:pt x="324" y="1303"/>
                </a:lnTo>
                <a:lnTo>
                  <a:pt x="321" y="1304"/>
                </a:lnTo>
                <a:lnTo>
                  <a:pt x="320" y="1305"/>
                </a:lnTo>
                <a:lnTo>
                  <a:pt x="319" y="1306"/>
                </a:lnTo>
                <a:lnTo>
                  <a:pt x="319" y="1307"/>
                </a:lnTo>
                <a:lnTo>
                  <a:pt x="320" y="1309"/>
                </a:lnTo>
                <a:lnTo>
                  <a:pt x="321" y="1311"/>
                </a:lnTo>
                <a:lnTo>
                  <a:pt x="322" y="1312"/>
                </a:lnTo>
                <a:lnTo>
                  <a:pt x="326" y="1314"/>
                </a:lnTo>
                <a:lnTo>
                  <a:pt x="334" y="1320"/>
                </a:lnTo>
                <a:lnTo>
                  <a:pt x="359" y="1336"/>
                </a:lnTo>
                <a:lnTo>
                  <a:pt x="389" y="1355"/>
                </a:lnTo>
                <a:lnTo>
                  <a:pt x="397" y="1360"/>
                </a:lnTo>
                <a:lnTo>
                  <a:pt x="394" y="1390"/>
                </a:lnTo>
                <a:lnTo>
                  <a:pt x="378" y="1433"/>
                </a:lnTo>
                <a:lnTo>
                  <a:pt x="348" y="1463"/>
                </a:lnTo>
                <a:lnTo>
                  <a:pt x="308" y="1482"/>
                </a:lnTo>
                <a:lnTo>
                  <a:pt x="266" y="1497"/>
                </a:lnTo>
                <a:lnTo>
                  <a:pt x="221" y="1509"/>
                </a:lnTo>
                <a:lnTo>
                  <a:pt x="200" y="1515"/>
                </a:lnTo>
                <a:lnTo>
                  <a:pt x="199" y="1520"/>
                </a:lnTo>
                <a:lnTo>
                  <a:pt x="198" y="1533"/>
                </a:lnTo>
                <a:lnTo>
                  <a:pt x="193" y="1567"/>
                </a:lnTo>
                <a:lnTo>
                  <a:pt x="188" y="1596"/>
                </a:lnTo>
                <a:lnTo>
                  <a:pt x="188" y="1601"/>
                </a:lnTo>
                <a:lnTo>
                  <a:pt x="218" y="1602"/>
                </a:lnTo>
                <a:lnTo>
                  <a:pt x="261" y="1603"/>
                </a:lnTo>
                <a:lnTo>
                  <a:pt x="311" y="1606"/>
                </a:lnTo>
                <a:lnTo>
                  <a:pt x="372" y="1609"/>
                </a:lnTo>
                <a:lnTo>
                  <a:pt x="397" y="1609"/>
                </a:lnTo>
                <a:lnTo>
                  <a:pt x="399" y="1624"/>
                </a:lnTo>
                <a:lnTo>
                  <a:pt x="405" y="1636"/>
                </a:lnTo>
                <a:lnTo>
                  <a:pt x="414" y="1644"/>
                </a:lnTo>
                <a:lnTo>
                  <a:pt x="424" y="1651"/>
                </a:lnTo>
                <a:lnTo>
                  <a:pt x="437" y="1656"/>
                </a:lnTo>
                <a:lnTo>
                  <a:pt x="451" y="1658"/>
                </a:lnTo>
                <a:lnTo>
                  <a:pt x="480" y="1659"/>
                </a:lnTo>
                <a:lnTo>
                  <a:pt x="508" y="1657"/>
                </a:lnTo>
                <a:lnTo>
                  <a:pt x="529" y="1656"/>
                </a:lnTo>
                <a:lnTo>
                  <a:pt x="524" y="1668"/>
                </a:lnTo>
                <a:lnTo>
                  <a:pt x="513" y="1688"/>
                </a:lnTo>
                <a:lnTo>
                  <a:pt x="487" y="1722"/>
                </a:lnTo>
                <a:lnTo>
                  <a:pt x="454" y="1744"/>
                </a:lnTo>
                <a:lnTo>
                  <a:pt x="447" y="1748"/>
                </a:lnTo>
                <a:lnTo>
                  <a:pt x="437" y="1748"/>
                </a:lnTo>
                <a:lnTo>
                  <a:pt x="416" y="1744"/>
                </a:lnTo>
                <a:lnTo>
                  <a:pt x="367" y="1730"/>
                </a:lnTo>
                <a:lnTo>
                  <a:pt x="322" y="1720"/>
                </a:lnTo>
                <a:lnTo>
                  <a:pt x="314" y="1719"/>
                </a:lnTo>
                <a:lnTo>
                  <a:pt x="286" y="1748"/>
                </a:lnTo>
                <a:lnTo>
                  <a:pt x="261" y="1785"/>
                </a:lnTo>
                <a:lnTo>
                  <a:pt x="254" y="1804"/>
                </a:lnTo>
                <a:lnTo>
                  <a:pt x="250" y="1810"/>
                </a:lnTo>
                <a:lnTo>
                  <a:pt x="239" y="1818"/>
                </a:lnTo>
                <a:lnTo>
                  <a:pt x="221" y="1826"/>
                </a:lnTo>
                <a:lnTo>
                  <a:pt x="145" y="1853"/>
                </a:lnTo>
                <a:lnTo>
                  <a:pt x="0" y="1905"/>
                </a:lnTo>
                <a:lnTo>
                  <a:pt x="30" y="1926"/>
                </a:lnTo>
                <a:lnTo>
                  <a:pt x="63" y="1936"/>
                </a:lnTo>
                <a:lnTo>
                  <a:pt x="97" y="1938"/>
                </a:lnTo>
                <a:lnTo>
                  <a:pt x="132" y="1935"/>
                </a:lnTo>
                <a:lnTo>
                  <a:pt x="201" y="1919"/>
                </a:lnTo>
                <a:lnTo>
                  <a:pt x="263" y="1904"/>
                </a:lnTo>
                <a:lnTo>
                  <a:pt x="289" y="1902"/>
                </a:lnTo>
                <a:lnTo>
                  <a:pt x="311" y="1905"/>
                </a:lnTo>
                <a:lnTo>
                  <a:pt x="328" y="1917"/>
                </a:lnTo>
                <a:lnTo>
                  <a:pt x="339" y="1939"/>
                </a:lnTo>
                <a:lnTo>
                  <a:pt x="355" y="1925"/>
                </a:lnTo>
                <a:lnTo>
                  <a:pt x="385" y="1899"/>
                </a:lnTo>
                <a:lnTo>
                  <a:pt x="415" y="1881"/>
                </a:lnTo>
                <a:lnTo>
                  <a:pt x="446" y="1874"/>
                </a:lnTo>
                <a:lnTo>
                  <a:pt x="478" y="1879"/>
                </a:lnTo>
                <a:lnTo>
                  <a:pt x="513" y="1900"/>
                </a:lnTo>
                <a:lnTo>
                  <a:pt x="534" y="1916"/>
                </a:lnTo>
                <a:lnTo>
                  <a:pt x="545" y="1916"/>
                </a:lnTo>
                <a:lnTo>
                  <a:pt x="572" y="1910"/>
                </a:lnTo>
                <a:lnTo>
                  <a:pt x="599" y="1901"/>
                </a:lnTo>
                <a:lnTo>
                  <a:pt x="655" y="1881"/>
                </a:lnTo>
                <a:lnTo>
                  <a:pt x="693" y="1874"/>
                </a:lnTo>
                <a:lnTo>
                  <a:pt x="695" y="1875"/>
                </a:lnTo>
                <a:lnTo>
                  <a:pt x="696" y="1876"/>
                </a:lnTo>
                <a:lnTo>
                  <a:pt x="697" y="1878"/>
                </a:lnTo>
                <a:lnTo>
                  <a:pt x="701" y="1882"/>
                </a:lnTo>
                <a:lnTo>
                  <a:pt x="712" y="1896"/>
                </a:lnTo>
                <a:lnTo>
                  <a:pt x="743" y="1931"/>
                </a:lnTo>
                <a:lnTo>
                  <a:pt x="777" y="1960"/>
                </a:lnTo>
                <a:lnTo>
                  <a:pt x="793" y="1967"/>
                </a:lnTo>
                <a:lnTo>
                  <a:pt x="800" y="1968"/>
                </a:lnTo>
                <a:lnTo>
                  <a:pt x="805" y="1966"/>
                </a:lnTo>
                <a:lnTo>
                  <a:pt x="810" y="1961"/>
                </a:lnTo>
                <a:lnTo>
                  <a:pt x="814" y="1954"/>
                </a:lnTo>
                <a:lnTo>
                  <a:pt x="816" y="1943"/>
                </a:lnTo>
                <a:lnTo>
                  <a:pt x="816" y="1929"/>
                </a:lnTo>
                <a:lnTo>
                  <a:pt x="811" y="1887"/>
                </a:lnTo>
                <a:lnTo>
                  <a:pt x="809" y="1874"/>
                </a:lnTo>
                <a:lnTo>
                  <a:pt x="835" y="1885"/>
                </a:lnTo>
                <a:lnTo>
                  <a:pt x="893" y="1899"/>
                </a:lnTo>
                <a:lnTo>
                  <a:pt x="955" y="1903"/>
                </a:lnTo>
                <a:lnTo>
                  <a:pt x="1018" y="1896"/>
                </a:lnTo>
                <a:lnTo>
                  <a:pt x="1078" y="1876"/>
                </a:lnTo>
                <a:lnTo>
                  <a:pt x="1132" y="1841"/>
                </a:lnTo>
                <a:lnTo>
                  <a:pt x="1155" y="1818"/>
                </a:lnTo>
                <a:lnTo>
                  <a:pt x="1149" y="1810"/>
                </a:lnTo>
                <a:lnTo>
                  <a:pt x="1141" y="1804"/>
                </a:lnTo>
                <a:lnTo>
                  <a:pt x="1131" y="1798"/>
                </a:lnTo>
                <a:lnTo>
                  <a:pt x="1107" y="1788"/>
                </a:lnTo>
                <a:lnTo>
                  <a:pt x="1054" y="1769"/>
                </a:lnTo>
                <a:lnTo>
                  <a:pt x="1023" y="1748"/>
                </a:lnTo>
                <a:lnTo>
                  <a:pt x="1027" y="1744"/>
                </a:lnTo>
                <a:lnTo>
                  <a:pt x="1040" y="1734"/>
                </a:lnTo>
                <a:lnTo>
                  <a:pt x="1072" y="1705"/>
                </a:lnTo>
                <a:lnTo>
                  <a:pt x="1101" y="1673"/>
                </a:lnTo>
                <a:lnTo>
                  <a:pt x="1106" y="1665"/>
                </a:lnTo>
                <a:lnTo>
                  <a:pt x="1122" y="1664"/>
                </a:lnTo>
                <a:lnTo>
                  <a:pt x="1140" y="1660"/>
                </a:lnTo>
                <a:lnTo>
                  <a:pt x="1175" y="1644"/>
                </a:lnTo>
                <a:lnTo>
                  <a:pt x="1208" y="1623"/>
                </a:lnTo>
                <a:lnTo>
                  <a:pt x="1260" y="1570"/>
                </a:lnTo>
                <a:lnTo>
                  <a:pt x="1274" y="1544"/>
                </a:lnTo>
                <a:lnTo>
                  <a:pt x="1256" y="1517"/>
                </a:lnTo>
                <a:lnTo>
                  <a:pt x="1219" y="1479"/>
                </a:lnTo>
                <a:lnTo>
                  <a:pt x="1177" y="1461"/>
                </a:lnTo>
                <a:lnTo>
                  <a:pt x="1132" y="1455"/>
                </a:lnTo>
                <a:lnTo>
                  <a:pt x="1083" y="1455"/>
                </a:lnTo>
                <a:lnTo>
                  <a:pt x="1030" y="1454"/>
                </a:lnTo>
                <a:lnTo>
                  <a:pt x="1002" y="1451"/>
                </a:lnTo>
                <a:lnTo>
                  <a:pt x="1009" y="1411"/>
                </a:lnTo>
                <a:lnTo>
                  <a:pt x="1027" y="1333"/>
                </a:lnTo>
                <a:lnTo>
                  <a:pt x="1044" y="1186"/>
                </a:lnTo>
                <a:lnTo>
                  <a:pt x="1019" y="1117"/>
                </a:lnTo>
                <a:lnTo>
                  <a:pt x="957" y="1049"/>
                </a:lnTo>
                <a:lnTo>
                  <a:pt x="909" y="1016"/>
                </a:lnTo>
                <a:lnTo>
                  <a:pt x="910" y="984"/>
                </a:lnTo>
                <a:lnTo>
                  <a:pt x="912" y="953"/>
                </a:lnTo>
                <a:lnTo>
                  <a:pt x="911" y="971"/>
                </a:lnTo>
                <a:lnTo>
                  <a:pt x="909" y="1014"/>
                </a:lnTo>
                <a:lnTo>
                  <a:pt x="909" y="1016"/>
                </a:lnTo>
              </a:path>
            </a:pathLst>
          </a:custGeom>
          <a:blipFill rotWithShape="0">
            <a:blip r:embed="rId11"/>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100"/>
          <p:cNvSpPr/>
          <p:nvPr/>
        </p:nvSpPr>
        <p:spPr>
          <a:xfrm>
            <a:off x="2808360" y="2744640"/>
            <a:ext cx="855720" cy="567000"/>
          </a:xfrm>
          <a:custGeom>
            <a:avLst/>
            <a:gdLst>
              <a:gd name="textAreaLeft" fmla="*/ 0 w 855720"/>
              <a:gd name="textAreaRight" fmla="*/ 856080 w 855720"/>
              <a:gd name="textAreaTop" fmla="*/ 0 h 567000"/>
              <a:gd name="textAreaBottom" fmla="*/ 567360 h 567000"/>
            </a:gdLst>
            <a:ahLst/>
            <a:rect l="textAreaLeft" t="textAreaTop" r="textAreaRight" b="textAreaBottom"/>
            <a:pathLst>
              <a:path w="1079" h="713">
                <a:moveTo>
                  <a:pt x="1036" y="587"/>
                </a:moveTo>
                <a:lnTo>
                  <a:pt x="1055" y="591"/>
                </a:lnTo>
                <a:lnTo>
                  <a:pt x="1069" y="590"/>
                </a:lnTo>
                <a:lnTo>
                  <a:pt x="1073" y="588"/>
                </a:lnTo>
                <a:lnTo>
                  <a:pt x="1076" y="586"/>
                </a:lnTo>
                <a:lnTo>
                  <a:pt x="1079" y="583"/>
                </a:lnTo>
                <a:lnTo>
                  <a:pt x="1079" y="580"/>
                </a:lnTo>
                <a:lnTo>
                  <a:pt x="1079" y="575"/>
                </a:lnTo>
                <a:lnTo>
                  <a:pt x="1076" y="571"/>
                </a:lnTo>
                <a:lnTo>
                  <a:pt x="1074" y="567"/>
                </a:lnTo>
                <a:lnTo>
                  <a:pt x="1067" y="560"/>
                </a:lnTo>
                <a:lnTo>
                  <a:pt x="1057" y="553"/>
                </a:lnTo>
                <a:lnTo>
                  <a:pt x="1046" y="549"/>
                </a:lnTo>
                <a:lnTo>
                  <a:pt x="1034" y="548"/>
                </a:lnTo>
                <a:lnTo>
                  <a:pt x="1022" y="550"/>
                </a:lnTo>
                <a:lnTo>
                  <a:pt x="1010" y="558"/>
                </a:lnTo>
                <a:lnTo>
                  <a:pt x="1005" y="563"/>
                </a:lnTo>
                <a:lnTo>
                  <a:pt x="994" y="577"/>
                </a:lnTo>
                <a:lnTo>
                  <a:pt x="983" y="596"/>
                </a:lnTo>
                <a:lnTo>
                  <a:pt x="982" y="602"/>
                </a:lnTo>
                <a:lnTo>
                  <a:pt x="982" y="604"/>
                </a:lnTo>
                <a:lnTo>
                  <a:pt x="983" y="605"/>
                </a:lnTo>
                <a:lnTo>
                  <a:pt x="985" y="607"/>
                </a:lnTo>
                <a:lnTo>
                  <a:pt x="987" y="608"/>
                </a:lnTo>
                <a:lnTo>
                  <a:pt x="989" y="608"/>
                </a:lnTo>
                <a:lnTo>
                  <a:pt x="992" y="608"/>
                </a:lnTo>
                <a:lnTo>
                  <a:pt x="998" y="606"/>
                </a:lnTo>
                <a:lnTo>
                  <a:pt x="1006" y="604"/>
                </a:lnTo>
                <a:lnTo>
                  <a:pt x="1025" y="594"/>
                </a:lnTo>
                <a:lnTo>
                  <a:pt x="1036" y="587"/>
                </a:lnTo>
                <a:lnTo>
                  <a:pt x="1055" y="592"/>
                </a:lnTo>
                <a:lnTo>
                  <a:pt x="1075" y="597"/>
                </a:lnTo>
                <a:lnTo>
                  <a:pt x="1065" y="594"/>
                </a:lnTo>
                <a:lnTo>
                  <a:pt x="1037" y="588"/>
                </a:lnTo>
                <a:lnTo>
                  <a:pt x="1036" y="587"/>
                </a:lnTo>
                <a:close/>
                <a:moveTo>
                  <a:pt x="463" y="551"/>
                </a:moveTo>
                <a:lnTo>
                  <a:pt x="462" y="511"/>
                </a:lnTo>
                <a:lnTo>
                  <a:pt x="462" y="456"/>
                </a:lnTo>
                <a:lnTo>
                  <a:pt x="466" y="429"/>
                </a:lnTo>
                <a:lnTo>
                  <a:pt x="471" y="422"/>
                </a:lnTo>
                <a:lnTo>
                  <a:pt x="477" y="418"/>
                </a:lnTo>
                <a:lnTo>
                  <a:pt x="486" y="415"/>
                </a:lnTo>
                <a:lnTo>
                  <a:pt x="496" y="412"/>
                </a:lnTo>
                <a:lnTo>
                  <a:pt x="526" y="404"/>
                </a:lnTo>
                <a:lnTo>
                  <a:pt x="548" y="395"/>
                </a:lnTo>
                <a:lnTo>
                  <a:pt x="549" y="395"/>
                </a:lnTo>
                <a:lnTo>
                  <a:pt x="551" y="393"/>
                </a:lnTo>
                <a:lnTo>
                  <a:pt x="553" y="390"/>
                </a:lnTo>
                <a:lnTo>
                  <a:pt x="555" y="387"/>
                </a:lnTo>
                <a:lnTo>
                  <a:pt x="560" y="377"/>
                </a:lnTo>
                <a:lnTo>
                  <a:pt x="570" y="352"/>
                </a:lnTo>
                <a:lnTo>
                  <a:pt x="584" y="327"/>
                </a:lnTo>
                <a:lnTo>
                  <a:pt x="602" y="308"/>
                </a:lnTo>
                <a:lnTo>
                  <a:pt x="614" y="302"/>
                </a:lnTo>
                <a:lnTo>
                  <a:pt x="628" y="301"/>
                </a:lnTo>
                <a:lnTo>
                  <a:pt x="644" y="307"/>
                </a:lnTo>
                <a:lnTo>
                  <a:pt x="638" y="313"/>
                </a:lnTo>
                <a:lnTo>
                  <a:pt x="634" y="323"/>
                </a:lnTo>
                <a:lnTo>
                  <a:pt x="631" y="334"/>
                </a:lnTo>
                <a:lnTo>
                  <a:pt x="628" y="365"/>
                </a:lnTo>
                <a:lnTo>
                  <a:pt x="623" y="431"/>
                </a:lnTo>
                <a:lnTo>
                  <a:pt x="608" y="466"/>
                </a:lnTo>
                <a:lnTo>
                  <a:pt x="608" y="475"/>
                </a:lnTo>
                <a:lnTo>
                  <a:pt x="611" y="482"/>
                </a:lnTo>
                <a:lnTo>
                  <a:pt x="615" y="488"/>
                </a:lnTo>
                <a:lnTo>
                  <a:pt x="627" y="500"/>
                </a:lnTo>
                <a:lnTo>
                  <a:pt x="639" y="512"/>
                </a:lnTo>
                <a:lnTo>
                  <a:pt x="651" y="525"/>
                </a:lnTo>
                <a:lnTo>
                  <a:pt x="658" y="538"/>
                </a:lnTo>
                <a:lnTo>
                  <a:pt x="659" y="545"/>
                </a:lnTo>
                <a:lnTo>
                  <a:pt x="632" y="559"/>
                </a:lnTo>
                <a:lnTo>
                  <a:pt x="604" y="573"/>
                </a:lnTo>
                <a:lnTo>
                  <a:pt x="596" y="575"/>
                </a:lnTo>
                <a:lnTo>
                  <a:pt x="591" y="575"/>
                </a:lnTo>
                <a:lnTo>
                  <a:pt x="586" y="572"/>
                </a:lnTo>
                <a:lnTo>
                  <a:pt x="580" y="569"/>
                </a:lnTo>
                <a:lnTo>
                  <a:pt x="556" y="560"/>
                </a:lnTo>
                <a:lnTo>
                  <a:pt x="504" y="553"/>
                </a:lnTo>
                <a:lnTo>
                  <a:pt x="463" y="551"/>
                </a:lnTo>
                <a:lnTo>
                  <a:pt x="462" y="513"/>
                </a:lnTo>
                <a:lnTo>
                  <a:pt x="462" y="475"/>
                </a:lnTo>
                <a:lnTo>
                  <a:pt x="462" y="496"/>
                </a:lnTo>
                <a:lnTo>
                  <a:pt x="462" y="548"/>
                </a:lnTo>
                <a:lnTo>
                  <a:pt x="463" y="551"/>
                </a:lnTo>
                <a:close/>
                <a:moveTo>
                  <a:pt x="641" y="621"/>
                </a:moveTo>
                <a:lnTo>
                  <a:pt x="632" y="629"/>
                </a:lnTo>
                <a:lnTo>
                  <a:pt x="620" y="645"/>
                </a:lnTo>
                <a:lnTo>
                  <a:pt x="605" y="675"/>
                </a:lnTo>
                <a:lnTo>
                  <a:pt x="600" y="706"/>
                </a:lnTo>
                <a:lnTo>
                  <a:pt x="600" y="713"/>
                </a:lnTo>
                <a:lnTo>
                  <a:pt x="590" y="713"/>
                </a:lnTo>
                <a:lnTo>
                  <a:pt x="584" y="711"/>
                </a:lnTo>
                <a:lnTo>
                  <a:pt x="582" y="707"/>
                </a:lnTo>
                <a:lnTo>
                  <a:pt x="582" y="703"/>
                </a:lnTo>
                <a:lnTo>
                  <a:pt x="584" y="698"/>
                </a:lnTo>
                <a:lnTo>
                  <a:pt x="587" y="693"/>
                </a:lnTo>
                <a:lnTo>
                  <a:pt x="592" y="681"/>
                </a:lnTo>
                <a:lnTo>
                  <a:pt x="592" y="675"/>
                </a:lnTo>
                <a:lnTo>
                  <a:pt x="590" y="670"/>
                </a:lnTo>
                <a:lnTo>
                  <a:pt x="584" y="665"/>
                </a:lnTo>
                <a:lnTo>
                  <a:pt x="575" y="660"/>
                </a:lnTo>
                <a:lnTo>
                  <a:pt x="573" y="659"/>
                </a:lnTo>
                <a:lnTo>
                  <a:pt x="572" y="658"/>
                </a:lnTo>
                <a:lnTo>
                  <a:pt x="569" y="656"/>
                </a:lnTo>
                <a:lnTo>
                  <a:pt x="566" y="654"/>
                </a:lnTo>
                <a:lnTo>
                  <a:pt x="556" y="651"/>
                </a:lnTo>
                <a:lnTo>
                  <a:pt x="538" y="644"/>
                </a:lnTo>
                <a:lnTo>
                  <a:pt x="532" y="641"/>
                </a:lnTo>
                <a:lnTo>
                  <a:pt x="530" y="640"/>
                </a:lnTo>
                <a:lnTo>
                  <a:pt x="528" y="638"/>
                </a:lnTo>
                <a:lnTo>
                  <a:pt x="530" y="636"/>
                </a:lnTo>
                <a:lnTo>
                  <a:pt x="532" y="635"/>
                </a:lnTo>
                <a:lnTo>
                  <a:pt x="533" y="634"/>
                </a:lnTo>
                <a:lnTo>
                  <a:pt x="538" y="633"/>
                </a:lnTo>
                <a:lnTo>
                  <a:pt x="553" y="629"/>
                </a:lnTo>
                <a:lnTo>
                  <a:pt x="616" y="623"/>
                </a:lnTo>
                <a:lnTo>
                  <a:pt x="641" y="621"/>
                </a:lnTo>
                <a:lnTo>
                  <a:pt x="634" y="628"/>
                </a:lnTo>
                <a:lnTo>
                  <a:pt x="626" y="636"/>
                </a:lnTo>
                <a:lnTo>
                  <a:pt x="630" y="632"/>
                </a:lnTo>
                <a:lnTo>
                  <a:pt x="640" y="622"/>
                </a:lnTo>
                <a:lnTo>
                  <a:pt x="641" y="621"/>
                </a:lnTo>
                <a:close/>
                <a:moveTo>
                  <a:pt x="447" y="607"/>
                </a:moveTo>
                <a:lnTo>
                  <a:pt x="446" y="612"/>
                </a:lnTo>
                <a:lnTo>
                  <a:pt x="444" y="616"/>
                </a:lnTo>
                <a:lnTo>
                  <a:pt x="442" y="621"/>
                </a:lnTo>
                <a:lnTo>
                  <a:pt x="434" y="632"/>
                </a:lnTo>
                <a:lnTo>
                  <a:pt x="418" y="649"/>
                </a:lnTo>
                <a:lnTo>
                  <a:pt x="414" y="654"/>
                </a:lnTo>
                <a:lnTo>
                  <a:pt x="423" y="659"/>
                </a:lnTo>
                <a:lnTo>
                  <a:pt x="431" y="663"/>
                </a:lnTo>
                <a:lnTo>
                  <a:pt x="435" y="668"/>
                </a:lnTo>
                <a:lnTo>
                  <a:pt x="437" y="673"/>
                </a:lnTo>
                <a:lnTo>
                  <a:pt x="437" y="678"/>
                </a:lnTo>
                <a:lnTo>
                  <a:pt x="438" y="683"/>
                </a:lnTo>
                <a:lnTo>
                  <a:pt x="438" y="693"/>
                </a:lnTo>
                <a:lnTo>
                  <a:pt x="441" y="696"/>
                </a:lnTo>
                <a:lnTo>
                  <a:pt x="445" y="699"/>
                </a:lnTo>
                <a:lnTo>
                  <a:pt x="452" y="701"/>
                </a:lnTo>
                <a:lnTo>
                  <a:pt x="463" y="701"/>
                </a:lnTo>
                <a:lnTo>
                  <a:pt x="463" y="695"/>
                </a:lnTo>
                <a:lnTo>
                  <a:pt x="464" y="691"/>
                </a:lnTo>
                <a:lnTo>
                  <a:pt x="467" y="688"/>
                </a:lnTo>
                <a:lnTo>
                  <a:pt x="471" y="686"/>
                </a:lnTo>
                <a:lnTo>
                  <a:pt x="475" y="686"/>
                </a:lnTo>
                <a:lnTo>
                  <a:pt x="480" y="684"/>
                </a:lnTo>
                <a:lnTo>
                  <a:pt x="492" y="684"/>
                </a:lnTo>
                <a:lnTo>
                  <a:pt x="507" y="679"/>
                </a:lnTo>
                <a:lnTo>
                  <a:pt x="523" y="668"/>
                </a:lnTo>
                <a:lnTo>
                  <a:pt x="517" y="667"/>
                </a:lnTo>
                <a:lnTo>
                  <a:pt x="508" y="663"/>
                </a:lnTo>
                <a:lnTo>
                  <a:pt x="498" y="658"/>
                </a:lnTo>
                <a:lnTo>
                  <a:pt x="478" y="643"/>
                </a:lnTo>
                <a:lnTo>
                  <a:pt x="446" y="613"/>
                </a:lnTo>
                <a:lnTo>
                  <a:pt x="447" y="607"/>
                </a:lnTo>
                <a:lnTo>
                  <a:pt x="447" y="611"/>
                </a:lnTo>
                <a:lnTo>
                  <a:pt x="447" y="614"/>
                </a:lnTo>
                <a:lnTo>
                  <a:pt x="447" y="612"/>
                </a:lnTo>
                <a:lnTo>
                  <a:pt x="447" y="608"/>
                </a:lnTo>
                <a:lnTo>
                  <a:pt x="447" y="607"/>
                </a:lnTo>
                <a:close/>
                <a:moveTo>
                  <a:pt x="313" y="585"/>
                </a:moveTo>
                <a:lnTo>
                  <a:pt x="327" y="589"/>
                </a:lnTo>
                <a:lnTo>
                  <a:pt x="370" y="599"/>
                </a:lnTo>
                <a:lnTo>
                  <a:pt x="402" y="606"/>
                </a:lnTo>
                <a:lnTo>
                  <a:pt x="404" y="606"/>
                </a:lnTo>
                <a:lnTo>
                  <a:pt x="403" y="598"/>
                </a:lnTo>
                <a:lnTo>
                  <a:pt x="402" y="572"/>
                </a:lnTo>
                <a:lnTo>
                  <a:pt x="397" y="510"/>
                </a:lnTo>
                <a:lnTo>
                  <a:pt x="384" y="458"/>
                </a:lnTo>
                <a:lnTo>
                  <a:pt x="379" y="451"/>
                </a:lnTo>
                <a:lnTo>
                  <a:pt x="369" y="451"/>
                </a:lnTo>
                <a:lnTo>
                  <a:pt x="357" y="455"/>
                </a:lnTo>
                <a:lnTo>
                  <a:pt x="345" y="461"/>
                </a:lnTo>
                <a:lnTo>
                  <a:pt x="333" y="472"/>
                </a:lnTo>
                <a:lnTo>
                  <a:pt x="313" y="497"/>
                </a:lnTo>
                <a:lnTo>
                  <a:pt x="299" y="528"/>
                </a:lnTo>
                <a:lnTo>
                  <a:pt x="298" y="558"/>
                </a:lnTo>
                <a:lnTo>
                  <a:pt x="313" y="585"/>
                </a:lnTo>
                <a:close/>
                <a:moveTo>
                  <a:pt x="272" y="644"/>
                </a:moveTo>
                <a:lnTo>
                  <a:pt x="268" y="645"/>
                </a:lnTo>
                <a:lnTo>
                  <a:pt x="241" y="645"/>
                </a:lnTo>
                <a:lnTo>
                  <a:pt x="149" y="645"/>
                </a:lnTo>
                <a:lnTo>
                  <a:pt x="79" y="645"/>
                </a:lnTo>
                <a:lnTo>
                  <a:pt x="76" y="645"/>
                </a:lnTo>
                <a:lnTo>
                  <a:pt x="75" y="636"/>
                </a:lnTo>
                <a:lnTo>
                  <a:pt x="74" y="617"/>
                </a:lnTo>
                <a:lnTo>
                  <a:pt x="68" y="584"/>
                </a:lnTo>
                <a:lnTo>
                  <a:pt x="65" y="551"/>
                </a:lnTo>
                <a:lnTo>
                  <a:pt x="65" y="543"/>
                </a:lnTo>
                <a:lnTo>
                  <a:pt x="50" y="529"/>
                </a:lnTo>
                <a:lnTo>
                  <a:pt x="38" y="509"/>
                </a:lnTo>
                <a:lnTo>
                  <a:pt x="29" y="484"/>
                </a:lnTo>
                <a:lnTo>
                  <a:pt x="17" y="425"/>
                </a:lnTo>
                <a:lnTo>
                  <a:pt x="7" y="295"/>
                </a:lnTo>
                <a:lnTo>
                  <a:pt x="0" y="218"/>
                </a:lnTo>
                <a:lnTo>
                  <a:pt x="27" y="228"/>
                </a:lnTo>
                <a:lnTo>
                  <a:pt x="75" y="238"/>
                </a:lnTo>
                <a:lnTo>
                  <a:pt x="116" y="239"/>
                </a:lnTo>
                <a:lnTo>
                  <a:pt x="151" y="232"/>
                </a:lnTo>
                <a:lnTo>
                  <a:pt x="181" y="218"/>
                </a:lnTo>
                <a:lnTo>
                  <a:pt x="209" y="199"/>
                </a:lnTo>
                <a:lnTo>
                  <a:pt x="222" y="186"/>
                </a:lnTo>
                <a:lnTo>
                  <a:pt x="221" y="185"/>
                </a:lnTo>
                <a:lnTo>
                  <a:pt x="220" y="184"/>
                </a:lnTo>
                <a:lnTo>
                  <a:pt x="217" y="182"/>
                </a:lnTo>
                <a:lnTo>
                  <a:pt x="210" y="177"/>
                </a:lnTo>
                <a:lnTo>
                  <a:pt x="187" y="166"/>
                </a:lnTo>
                <a:lnTo>
                  <a:pt x="157" y="157"/>
                </a:lnTo>
                <a:lnTo>
                  <a:pt x="122" y="154"/>
                </a:lnTo>
                <a:lnTo>
                  <a:pt x="83" y="161"/>
                </a:lnTo>
                <a:lnTo>
                  <a:pt x="57" y="175"/>
                </a:lnTo>
                <a:lnTo>
                  <a:pt x="42" y="184"/>
                </a:lnTo>
                <a:lnTo>
                  <a:pt x="36" y="186"/>
                </a:lnTo>
                <a:lnTo>
                  <a:pt x="35" y="186"/>
                </a:lnTo>
                <a:lnTo>
                  <a:pt x="33" y="186"/>
                </a:lnTo>
                <a:lnTo>
                  <a:pt x="32" y="186"/>
                </a:lnTo>
                <a:lnTo>
                  <a:pt x="31" y="184"/>
                </a:lnTo>
                <a:lnTo>
                  <a:pt x="31" y="183"/>
                </a:lnTo>
                <a:lnTo>
                  <a:pt x="31" y="181"/>
                </a:lnTo>
                <a:lnTo>
                  <a:pt x="32" y="177"/>
                </a:lnTo>
                <a:lnTo>
                  <a:pt x="34" y="172"/>
                </a:lnTo>
                <a:lnTo>
                  <a:pt x="41" y="161"/>
                </a:lnTo>
                <a:lnTo>
                  <a:pt x="58" y="131"/>
                </a:lnTo>
                <a:lnTo>
                  <a:pt x="76" y="103"/>
                </a:lnTo>
                <a:lnTo>
                  <a:pt x="86" y="83"/>
                </a:lnTo>
                <a:lnTo>
                  <a:pt x="86" y="80"/>
                </a:lnTo>
                <a:lnTo>
                  <a:pt x="91" y="80"/>
                </a:lnTo>
                <a:lnTo>
                  <a:pt x="112" y="80"/>
                </a:lnTo>
                <a:lnTo>
                  <a:pt x="177" y="78"/>
                </a:lnTo>
                <a:lnTo>
                  <a:pt x="236" y="77"/>
                </a:lnTo>
                <a:lnTo>
                  <a:pt x="246" y="76"/>
                </a:lnTo>
                <a:lnTo>
                  <a:pt x="246" y="66"/>
                </a:lnTo>
                <a:lnTo>
                  <a:pt x="252" y="48"/>
                </a:lnTo>
                <a:lnTo>
                  <a:pt x="260" y="33"/>
                </a:lnTo>
                <a:lnTo>
                  <a:pt x="273" y="21"/>
                </a:lnTo>
                <a:lnTo>
                  <a:pt x="287" y="12"/>
                </a:lnTo>
                <a:lnTo>
                  <a:pt x="303" y="4"/>
                </a:lnTo>
                <a:lnTo>
                  <a:pt x="312" y="0"/>
                </a:lnTo>
                <a:lnTo>
                  <a:pt x="314" y="13"/>
                </a:lnTo>
                <a:lnTo>
                  <a:pt x="316" y="28"/>
                </a:lnTo>
                <a:lnTo>
                  <a:pt x="314" y="63"/>
                </a:lnTo>
                <a:lnTo>
                  <a:pt x="298" y="139"/>
                </a:lnTo>
                <a:lnTo>
                  <a:pt x="280" y="202"/>
                </a:lnTo>
                <a:lnTo>
                  <a:pt x="285" y="210"/>
                </a:lnTo>
                <a:lnTo>
                  <a:pt x="294" y="215"/>
                </a:lnTo>
                <a:lnTo>
                  <a:pt x="304" y="220"/>
                </a:lnTo>
                <a:lnTo>
                  <a:pt x="331" y="227"/>
                </a:lnTo>
                <a:lnTo>
                  <a:pt x="386" y="241"/>
                </a:lnTo>
                <a:lnTo>
                  <a:pt x="413" y="259"/>
                </a:lnTo>
                <a:lnTo>
                  <a:pt x="407" y="260"/>
                </a:lnTo>
                <a:lnTo>
                  <a:pt x="400" y="263"/>
                </a:lnTo>
                <a:lnTo>
                  <a:pt x="382" y="272"/>
                </a:lnTo>
                <a:lnTo>
                  <a:pt x="341" y="297"/>
                </a:lnTo>
                <a:lnTo>
                  <a:pt x="312" y="310"/>
                </a:lnTo>
                <a:lnTo>
                  <a:pt x="312" y="323"/>
                </a:lnTo>
                <a:lnTo>
                  <a:pt x="309" y="340"/>
                </a:lnTo>
                <a:lnTo>
                  <a:pt x="294" y="386"/>
                </a:lnTo>
                <a:lnTo>
                  <a:pt x="242" y="495"/>
                </a:lnTo>
                <a:lnTo>
                  <a:pt x="181" y="573"/>
                </a:lnTo>
                <a:lnTo>
                  <a:pt x="168" y="584"/>
                </a:lnTo>
                <a:lnTo>
                  <a:pt x="155" y="592"/>
                </a:lnTo>
                <a:lnTo>
                  <a:pt x="154" y="593"/>
                </a:lnTo>
                <a:lnTo>
                  <a:pt x="155" y="593"/>
                </a:lnTo>
                <a:lnTo>
                  <a:pt x="160" y="591"/>
                </a:lnTo>
                <a:lnTo>
                  <a:pt x="169" y="590"/>
                </a:lnTo>
                <a:lnTo>
                  <a:pt x="173" y="591"/>
                </a:lnTo>
                <a:lnTo>
                  <a:pt x="176" y="593"/>
                </a:lnTo>
                <a:lnTo>
                  <a:pt x="177" y="595"/>
                </a:lnTo>
                <a:lnTo>
                  <a:pt x="178" y="598"/>
                </a:lnTo>
                <a:lnTo>
                  <a:pt x="179" y="601"/>
                </a:lnTo>
                <a:lnTo>
                  <a:pt x="180" y="605"/>
                </a:lnTo>
                <a:lnTo>
                  <a:pt x="184" y="606"/>
                </a:lnTo>
                <a:lnTo>
                  <a:pt x="195" y="607"/>
                </a:lnTo>
                <a:lnTo>
                  <a:pt x="223" y="616"/>
                </a:lnTo>
                <a:lnTo>
                  <a:pt x="260" y="637"/>
                </a:lnTo>
                <a:lnTo>
                  <a:pt x="272" y="644"/>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101"/>
          <p:cNvSpPr/>
          <p:nvPr/>
        </p:nvSpPr>
        <p:spPr>
          <a:xfrm>
            <a:off x="3587760" y="3179880"/>
            <a:ext cx="76320" cy="48960"/>
          </a:xfrm>
          <a:custGeom>
            <a:avLst/>
            <a:gdLst>
              <a:gd name="textAreaLeft" fmla="*/ 0 w 76320"/>
              <a:gd name="textAreaRight" fmla="*/ 76680 w 76320"/>
              <a:gd name="textAreaTop" fmla="*/ 0 h 48960"/>
              <a:gd name="textAreaBottom" fmla="*/ 49320 h 48960"/>
            </a:gdLst>
            <a:ahLst/>
            <a:rect l="textAreaLeft" t="textAreaTop" r="textAreaRight" b="textAreaBottom"/>
            <a:pathLst>
              <a:path w="97" h="60">
                <a:moveTo>
                  <a:pt x="54" y="39"/>
                </a:moveTo>
                <a:lnTo>
                  <a:pt x="73" y="43"/>
                </a:lnTo>
                <a:lnTo>
                  <a:pt x="87" y="42"/>
                </a:lnTo>
                <a:lnTo>
                  <a:pt x="91" y="40"/>
                </a:lnTo>
                <a:lnTo>
                  <a:pt x="94" y="38"/>
                </a:lnTo>
                <a:lnTo>
                  <a:pt x="97" y="35"/>
                </a:lnTo>
                <a:lnTo>
                  <a:pt x="97" y="32"/>
                </a:lnTo>
                <a:lnTo>
                  <a:pt x="97" y="27"/>
                </a:lnTo>
                <a:lnTo>
                  <a:pt x="94" y="23"/>
                </a:lnTo>
                <a:lnTo>
                  <a:pt x="92" y="19"/>
                </a:lnTo>
                <a:lnTo>
                  <a:pt x="85" y="12"/>
                </a:lnTo>
                <a:lnTo>
                  <a:pt x="75" y="5"/>
                </a:lnTo>
                <a:lnTo>
                  <a:pt x="64" y="1"/>
                </a:lnTo>
                <a:lnTo>
                  <a:pt x="52" y="0"/>
                </a:lnTo>
                <a:lnTo>
                  <a:pt x="40" y="2"/>
                </a:lnTo>
                <a:lnTo>
                  <a:pt x="28" y="10"/>
                </a:lnTo>
                <a:lnTo>
                  <a:pt x="23" y="15"/>
                </a:lnTo>
                <a:lnTo>
                  <a:pt x="12" y="29"/>
                </a:lnTo>
                <a:lnTo>
                  <a:pt x="1" y="48"/>
                </a:lnTo>
                <a:lnTo>
                  <a:pt x="0" y="54"/>
                </a:lnTo>
                <a:lnTo>
                  <a:pt x="0" y="56"/>
                </a:lnTo>
                <a:lnTo>
                  <a:pt x="1" y="57"/>
                </a:lnTo>
                <a:lnTo>
                  <a:pt x="3" y="59"/>
                </a:lnTo>
                <a:lnTo>
                  <a:pt x="5" y="60"/>
                </a:lnTo>
                <a:lnTo>
                  <a:pt x="7" y="60"/>
                </a:lnTo>
                <a:lnTo>
                  <a:pt x="10" y="60"/>
                </a:lnTo>
                <a:lnTo>
                  <a:pt x="16" y="58"/>
                </a:lnTo>
                <a:lnTo>
                  <a:pt x="24" y="56"/>
                </a:lnTo>
                <a:lnTo>
                  <a:pt x="43" y="46"/>
                </a:lnTo>
                <a:lnTo>
                  <a:pt x="54" y="39"/>
                </a:lnTo>
                <a:lnTo>
                  <a:pt x="73" y="44"/>
                </a:lnTo>
                <a:lnTo>
                  <a:pt x="93" y="49"/>
                </a:lnTo>
                <a:lnTo>
                  <a:pt x="83" y="46"/>
                </a:lnTo>
                <a:lnTo>
                  <a:pt x="55" y="40"/>
                </a:lnTo>
                <a:lnTo>
                  <a:pt x="54" y="39"/>
                </a:lnTo>
              </a:path>
            </a:pathLst>
          </a:custGeom>
          <a:blipFill rotWithShape="0">
            <a:blip r:embed="rId12"/>
            <a:srcRect/>
            <a:tile tx="0" ty="0" sx="100000" sy="100000" algn="ctr"/>
          </a:blipFill>
          <a:ln w="6480">
            <a:solidFill>
              <a:srgbClr val="1f1a17"/>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03" name="Freeform 102"/>
          <p:cNvSpPr/>
          <p:nvPr/>
        </p:nvSpPr>
        <p:spPr>
          <a:xfrm>
            <a:off x="3174840" y="2984400"/>
            <a:ext cx="157320" cy="217440"/>
          </a:xfrm>
          <a:custGeom>
            <a:avLst/>
            <a:gdLst>
              <a:gd name="textAreaLeft" fmla="*/ 0 w 157320"/>
              <a:gd name="textAreaRight" fmla="*/ 157320 w 157320"/>
              <a:gd name="textAreaTop" fmla="*/ 0 h 217440"/>
              <a:gd name="textAreaBottom" fmla="*/ 217800 h 217440"/>
            </a:gdLst>
            <a:ahLst/>
            <a:rect l="textAreaLeft" t="textAreaTop" r="textAreaRight" b="textAreaBottom"/>
            <a:pathLst>
              <a:path w="197" h="274">
                <a:moveTo>
                  <a:pt x="1" y="250"/>
                </a:moveTo>
                <a:lnTo>
                  <a:pt x="0" y="210"/>
                </a:lnTo>
                <a:lnTo>
                  <a:pt x="0" y="155"/>
                </a:lnTo>
                <a:lnTo>
                  <a:pt x="4" y="128"/>
                </a:lnTo>
                <a:lnTo>
                  <a:pt x="9" y="121"/>
                </a:lnTo>
                <a:lnTo>
                  <a:pt x="15" y="117"/>
                </a:lnTo>
                <a:lnTo>
                  <a:pt x="24" y="114"/>
                </a:lnTo>
                <a:lnTo>
                  <a:pt x="34" y="111"/>
                </a:lnTo>
                <a:lnTo>
                  <a:pt x="64" y="103"/>
                </a:lnTo>
                <a:lnTo>
                  <a:pt x="86" y="94"/>
                </a:lnTo>
                <a:lnTo>
                  <a:pt x="87" y="94"/>
                </a:lnTo>
                <a:lnTo>
                  <a:pt x="89" y="92"/>
                </a:lnTo>
                <a:lnTo>
                  <a:pt x="91" y="89"/>
                </a:lnTo>
                <a:lnTo>
                  <a:pt x="93" y="86"/>
                </a:lnTo>
                <a:lnTo>
                  <a:pt x="98" y="76"/>
                </a:lnTo>
                <a:lnTo>
                  <a:pt x="108" y="51"/>
                </a:lnTo>
                <a:lnTo>
                  <a:pt x="122" y="26"/>
                </a:lnTo>
                <a:lnTo>
                  <a:pt x="140" y="7"/>
                </a:lnTo>
                <a:lnTo>
                  <a:pt x="152" y="1"/>
                </a:lnTo>
                <a:lnTo>
                  <a:pt x="166" y="0"/>
                </a:lnTo>
                <a:lnTo>
                  <a:pt x="182" y="6"/>
                </a:lnTo>
                <a:lnTo>
                  <a:pt x="176" y="12"/>
                </a:lnTo>
                <a:lnTo>
                  <a:pt x="172" y="22"/>
                </a:lnTo>
                <a:lnTo>
                  <a:pt x="169" y="33"/>
                </a:lnTo>
                <a:lnTo>
                  <a:pt x="166" y="64"/>
                </a:lnTo>
                <a:lnTo>
                  <a:pt x="161" y="130"/>
                </a:lnTo>
                <a:lnTo>
                  <a:pt x="146" y="165"/>
                </a:lnTo>
                <a:lnTo>
                  <a:pt x="146" y="174"/>
                </a:lnTo>
                <a:lnTo>
                  <a:pt x="149" y="181"/>
                </a:lnTo>
                <a:lnTo>
                  <a:pt x="153" y="187"/>
                </a:lnTo>
                <a:lnTo>
                  <a:pt x="165" y="199"/>
                </a:lnTo>
                <a:lnTo>
                  <a:pt x="177" y="211"/>
                </a:lnTo>
                <a:lnTo>
                  <a:pt x="189" y="224"/>
                </a:lnTo>
                <a:lnTo>
                  <a:pt x="196" y="237"/>
                </a:lnTo>
                <a:lnTo>
                  <a:pt x="197" y="244"/>
                </a:lnTo>
                <a:lnTo>
                  <a:pt x="170" y="258"/>
                </a:lnTo>
                <a:lnTo>
                  <a:pt x="142" y="272"/>
                </a:lnTo>
                <a:lnTo>
                  <a:pt x="134" y="274"/>
                </a:lnTo>
                <a:lnTo>
                  <a:pt x="129" y="274"/>
                </a:lnTo>
                <a:lnTo>
                  <a:pt x="124" y="271"/>
                </a:lnTo>
                <a:lnTo>
                  <a:pt x="118" y="268"/>
                </a:lnTo>
                <a:lnTo>
                  <a:pt x="94" y="259"/>
                </a:lnTo>
                <a:lnTo>
                  <a:pt x="42" y="252"/>
                </a:lnTo>
                <a:lnTo>
                  <a:pt x="1" y="250"/>
                </a:lnTo>
                <a:lnTo>
                  <a:pt x="0" y="212"/>
                </a:lnTo>
                <a:lnTo>
                  <a:pt x="0" y="174"/>
                </a:lnTo>
                <a:lnTo>
                  <a:pt x="0" y="195"/>
                </a:lnTo>
                <a:lnTo>
                  <a:pt x="0" y="247"/>
                </a:lnTo>
                <a:lnTo>
                  <a:pt x="1" y="250"/>
                </a:lnTo>
              </a:path>
            </a:pathLst>
          </a:custGeom>
          <a:blipFill rotWithShape="0">
            <a:blip r:embed="rId13"/>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103"/>
          <p:cNvSpPr/>
          <p:nvPr/>
        </p:nvSpPr>
        <p:spPr>
          <a:xfrm>
            <a:off x="3227400" y="3238560"/>
            <a:ext cx="90360" cy="73080"/>
          </a:xfrm>
          <a:custGeom>
            <a:avLst/>
            <a:gdLst>
              <a:gd name="textAreaLeft" fmla="*/ 0 w 90360"/>
              <a:gd name="textAreaRight" fmla="*/ 90720 w 90360"/>
              <a:gd name="textAreaTop" fmla="*/ 0 h 73080"/>
              <a:gd name="textAreaBottom" fmla="*/ 73440 h 73080"/>
            </a:gdLst>
            <a:ahLst/>
            <a:rect l="textAreaLeft" t="textAreaTop" r="textAreaRight" b="textAreaBottom"/>
            <a:pathLst>
              <a:path w="113" h="92">
                <a:moveTo>
                  <a:pt x="113" y="0"/>
                </a:moveTo>
                <a:lnTo>
                  <a:pt x="104" y="8"/>
                </a:lnTo>
                <a:lnTo>
                  <a:pt x="92" y="24"/>
                </a:lnTo>
                <a:lnTo>
                  <a:pt x="77" y="54"/>
                </a:lnTo>
                <a:lnTo>
                  <a:pt x="72" y="85"/>
                </a:lnTo>
                <a:lnTo>
                  <a:pt x="72" y="92"/>
                </a:lnTo>
                <a:lnTo>
                  <a:pt x="62" y="92"/>
                </a:lnTo>
                <a:lnTo>
                  <a:pt x="56" y="90"/>
                </a:lnTo>
                <a:lnTo>
                  <a:pt x="54" y="86"/>
                </a:lnTo>
                <a:lnTo>
                  <a:pt x="54" y="82"/>
                </a:lnTo>
                <a:lnTo>
                  <a:pt x="56" y="77"/>
                </a:lnTo>
                <a:lnTo>
                  <a:pt x="59" y="72"/>
                </a:lnTo>
                <a:lnTo>
                  <a:pt x="64" y="60"/>
                </a:lnTo>
                <a:lnTo>
                  <a:pt x="64" y="54"/>
                </a:lnTo>
                <a:lnTo>
                  <a:pt x="62" y="49"/>
                </a:lnTo>
                <a:lnTo>
                  <a:pt x="56" y="44"/>
                </a:lnTo>
                <a:lnTo>
                  <a:pt x="47" y="39"/>
                </a:lnTo>
                <a:lnTo>
                  <a:pt x="45" y="38"/>
                </a:lnTo>
                <a:lnTo>
                  <a:pt x="44" y="37"/>
                </a:lnTo>
                <a:lnTo>
                  <a:pt x="41" y="35"/>
                </a:lnTo>
                <a:lnTo>
                  <a:pt x="38" y="33"/>
                </a:lnTo>
                <a:lnTo>
                  <a:pt x="28" y="30"/>
                </a:lnTo>
                <a:lnTo>
                  <a:pt x="10" y="23"/>
                </a:lnTo>
                <a:lnTo>
                  <a:pt x="4" y="20"/>
                </a:lnTo>
                <a:lnTo>
                  <a:pt x="2" y="19"/>
                </a:lnTo>
                <a:lnTo>
                  <a:pt x="0" y="17"/>
                </a:lnTo>
                <a:lnTo>
                  <a:pt x="2" y="15"/>
                </a:lnTo>
                <a:lnTo>
                  <a:pt x="4" y="14"/>
                </a:lnTo>
                <a:lnTo>
                  <a:pt x="5" y="13"/>
                </a:lnTo>
                <a:lnTo>
                  <a:pt x="10" y="12"/>
                </a:lnTo>
                <a:lnTo>
                  <a:pt x="25" y="8"/>
                </a:lnTo>
                <a:lnTo>
                  <a:pt x="88" y="2"/>
                </a:lnTo>
                <a:lnTo>
                  <a:pt x="113" y="0"/>
                </a:lnTo>
                <a:lnTo>
                  <a:pt x="106" y="7"/>
                </a:lnTo>
                <a:lnTo>
                  <a:pt x="98" y="15"/>
                </a:lnTo>
                <a:lnTo>
                  <a:pt x="102" y="11"/>
                </a:lnTo>
                <a:lnTo>
                  <a:pt x="112" y="1"/>
                </a:lnTo>
                <a:lnTo>
                  <a:pt x="113" y="0"/>
                </a:lnTo>
              </a:path>
            </a:pathLst>
          </a:custGeom>
          <a:blipFill rotWithShape="0">
            <a:blip r:embed="rId14"/>
            <a:srcRect/>
            <a:tile tx="0" ty="0" sx="100000" sy="100000" algn="ctr"/>
          </a:blipFill>
          <a:ln w="6480">
            <a:solidFill>
              <a:srgbClr val="1f1a17"/>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05" name="Freeform 104"/>
          <p:cNvSpPr/>
          <p:nvPr/>
        </p:nvSpPr>
        <p:spPr>
          <a:xfrm>
            <a:off x="3137040" y="3227400"/>
            <a:ext cx="87120" cy="74520"/>
          </a:xfrm>
          <a:custGeom>
            <a:avLst/>
            <a:gdLst>
              <a:gd name="textAreaLeft" fmla="*/ 0 w 87120"/>
              <a:gd name="textAreaRight" fmla="*/ 87480 w 87120"/>
              <a:gd name="textAreaTop" fmla="*/ 0 h 74520"/>
              <a:gd name="textAreaBottom" fmla="*/ 74880 h 74520"/>
            </a:gdLst>
            <a:ahLst/>
            <a:rect l="textAreaLeft" t="textAreaTop" r="textAreaRight" b="textAreaBottom"/>
            <a:pathLst>
              <a:path w="109" h="94">
                <a:moveTo>
                  <a:pt x="33" y="0"/>
                </a:moveTo>
                <a:lnTo>
                  <a:pt x="32" y="5"/>
                </a:lnTo>
                <a:lnTo>
                  <a:pt x="30" y="9"/>
                </a:lnTo>
                <a:lnTo>
                  <a:pt x="28" y="14"/>
                </a:lnTo>
                <a:lnTo>
                  <a:pt x="20" y="25"/>
                </a:lnTo>
                <a:lnTo>
                  <a:pt x="4" y="42"/>
                </a:lnTo>
                <a:lnTo>
                  <a:pt x="0" y="47"/>
                </a:lnTo>
                <a:lnTo>
                  <a:pt x="9" y="52"/>
                </a:lnTo>
                <a:lnTo>
                  <a:pt x="17" y="56"/>
                </a:lnTo>
                <a:lnTo>
                  <a:pt x="21" y="61"/>
                </a:lnTo>
                <a:lnTo>
                  <a:pt x="23" y="66"/>
                </a:lnTo>
                <a:lnTo>
                  <a:pt x="23" y="71"/>
                </a:lnTo>
                <a:lnTo>
                  <a:pt x="24" y="76"/>
                </a:lnTo>
                <a:lnTo>
                  <a:pt x="24" y="86"/>
                </a:lnTo>
                <a:lnTo>
                  <a:pt x="27" y="89"/>
                </a:lnTo>
                <a:lnTo>
                  <a:pt x="31" y="92"/>
                </a:lnTo>
                <a:lnTo>
                  <a:pt x="38" y="94"/>
                </a:lnTo>
                <a:lnTo>
                  <a:pt x="49" y="94"/>
                </a:lnTo>
                <a:lnTo>
                  <a:pt x="49" y="88"/>
                </a:lnTo>
                <a:lnTo>
                  <a:pt x="50" y="84"/>
                </a:lnTo>
                <a:lnTo>
                  <a:pt x="53" y="81"/>
                </a:lnTo>
                <a:lnTo>
                  <a:pt x="57" y="79"/>
                </a:lnTo>
                <a:lnTo>
                  <a:pt x="61" y="79"/>
                </a:lnTo>
                <a:lnTo>
                  <a:pt x="66" y="77"/>
                </a:lnTo>
                <a:lnTo>
                  <a:pt x="78" y="77"/>
                </a:lnTo>
                <a:lnTo>
                  <a:pt x="93" y="72"/>
                </a:lnTo>
                <a:lnTo>
                  <a:pt x="109" y="61"/>
                </a:lnTo>
                <a:lnTo>
                  <a:pt x="103" y="60"/>
                </a:lnTo>
                <a:lnTo>
                  <a:pt x="94" y="56"/>
                </a:lnTo>
                <a:lnTo>
                  <a:pt x="84" y="51"/>
                </a:lnTo>
                <a:lnTo>
                  <a:pt x="64" y="36"/>
                </a:lnTo>
                <a:lnTo>
                  <a:pt x="32" y="6"/>
                </a:lnTo>
                <a:lnTo>
                  <a:pt x="33" y="0"/>
                </a:lnTo>
                <a:lnTo>
                  <a:pt x="33" y="4"/>
                </a:lnTo>
                <a:lnTo>
                  <a:pt x="33" y="7"/>
                </a:lnTo>
                <a:lnTo>
                  <a:pt x="33" y="5"/>
                </a:lnTo>
                <a:lnTo>
                  <a:pt x="33" y="1"/>
                </a:lnTo>
                <a:lnTo>
                  <a:pt x="33" y="0"/>
                </a:lnTo>
              </a:path>
            </a:pathLst>
          </a:custGeom>
          <a:blipFill rotWithShape="0">
            <a:blip r:embed="rId15"/>
            <a:srcRect/>
            <a:tile tx="0" ty="0" sx="100000" sy="100000" algn="ctr"/>
          </a:blipFill>
          <a:ln w="6480">
            <a:solidFill>
              <a:srgbClr val="1f1a17"/>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06" name="Freeform 105"/>
          <p:cNvSpPr/>
          <p:nvPr/>
        </p:nvSpPr>
        <p:spPr>
          <a:xfrm>
            <a:off x="3044880" y="3103560"/>
            <a:ext cx="84240" cy="123840"/>
          </a:xfrm>
          <a:custGeom>
            <a:avLst/>
            <a:gdLst/>
            <a:ahLst/>
            <a:rect l="l" t="t" r="r" b="b"/>
            <a:pathLst>
              <a:path w="106" h="155">
                <a:moveTo>
                  <a:pt x="15" y="134"/>
                </a:moveTo>
                <a:lnTo>
                  <a:pt x="29" y="138"/>
                </a:lnTo>
                <a:lnTo>
                  <a:pt x="72" y="148"/>
                </a:lnTo>
                <a:lnTo>
                  <a:pt x="104" y="155"/>
                </a:lnTo>
                <a:lnTo>
                  <a:pt x="106" y="155"/>
                </a:lnTo>
                <a:lnTo>
                  <a:pt x="105" y="147"/>
                </a:lnTo>
                <a:lnTo>
                  <a:pt x="104" y="121"/>
                </a:lnTo>
                <a:lnTo>
                  <a:pt x="99" y="59"/>
                </a:lnTo>
                <a:lnTo>
                  <a:pt x="86" y="7"/>
                </a:lnTo>
                <a:lnTo>
                  <a:pt x="81" y="0"/>
                </a:lnTo>
                <a:lnTo>
                  <a:pt x="71" y="0"/>
                </a:lnTo>
                <a:lnTo>
                  <a:pt x="59" y="4"/>
                </a:lnTo>
                <a:lnTo>
                  <a:pt x="47" y="10"/>
                </a:lnTo>
                <a:lnTo>
                  <a:pt x="35" y="21"/>
                </a:lnTo>
                <a:lnTo>
                  <a:pt x="15" y="46"/>
                </a:lnTo>
                <a:lnTo>
                  <a:pt x="1" y="77"/>
                </a:lnTo>
                <a:lnTo>
                  <a:pt x="0" y="107"/>
                </a:lnTo>
                <a:lnTo>
                  <a:pt x="15" y="134"/>
                </a:lnTo>
              </a:path>
            </a:pathLst>
          </a:custGeom>
          <a:blipFill rotWithShape="0">
            <a:blip r:embed="rId16"/>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106"/>
          <p:cNvSpPr/>
          <p:nvPr/>
        </p:nvSpPr>
        <p:spPr>
          <a:xfrm>
            <a:off x="2808360" y="2744640"/>
            <a:ext cx="326880" cy="513000"/>
          </a:xfrm>
          <a:custGeom>
            <a:avLst/>
            <a:gdLst>
              <a:gd name="textAreaLeft" fmla="*/ 0 w 326880"/>
              <a:gd name="textAreaRight" fmla="*/ 327240 w 326880"/>
              <a:gd name="textAreaTop" fmla="*/ 0 h 513000"/>
              <a:gd name="textAreaBottom" fmla="*/ 513360 h 513000"/>
            </a:gdLst>
            <a:ahLst/>
            <a:rect l="textAreaLeft" t="textAreaTop" r="textAreaRight" b="textAreaBottom"/>
            <a:pathLst>
              <a:path w="413" h="645">
                <a:moveTo>
                  <a:pt x="272" y="644"/>
                </a:moveTo>
                <a:lnTo>
                  <a:pt x="268" y="645"/>
                </a:lnTo>
                <a:lnTo>
                  <a:pt x="241" y="645"/>
                </a:lnTo>
                <a:lnTo>
                  <a:pt x="149" y="645"/>
                </a:lnTo>
                <a:lnTo>
                  <a:pt x="79" y="645"/>
                </a:lnTo>
                <a:lnTo>
                  <a:pt x="76" y="645"/>
                </a:lnTo>
                <a:lnTo>
                  <a:pt x="75" y="636"/>
                </a:lnTo>
                <a:lnTo>
                  <a:pt x="74" y="617"/>
                </a:lnTo>
                <a:lnTo>
                  <a:pt x="68" y="584"/>
                </a:lnTo>
                <a:lnTo>
                  <a:pt x="65" y="551"/>
                </a:lnTo>
                <a:lnTo>
                  <a:pt x="65" y="543"/>
                </a:lnTo>
                <a:lnTo>
                  <a:pt x="50" y="529"/>
                </a:lnTo>
                <a:lnTo>
                  <a:pt x="38" y="509"/>
                </a:lnTo>
                <a:lnTo>
                  <a:pt x="29" y="484"/>
                </a:lnTo>
                <a:lnTo>
                  <a:pt x="17" y="425"/>
                </a:lnTo>
                <a:lnTo>
                  <a:pt x="7" y="295"/>
                </a:lnTo>
                <a:lnTo>
                  <a:pt x="0" y="218"/>
                </a:lnTo>
                <a:lnTo>
                  <a:pt x="27" y="228"/>
                </a:lnTo>
                <a:lnTo>
                  <a:pt x="75" y="238"/>
                </a:lnTo>
                <a:lnTo>
                  <a:pt x="116" y="239"/>
                </a:lnTo>
                <a:lnTo>
                  <a:pt x="151" y="232"/>
                </a:lnTo>
                <a:lnTo>
                  <a:pt x="181" y="218"/>
                </a:lnTo>
                <a:lnTo>
                  <a:pt x="209" y="199"/>
                </a:lnTo>
                <a:lnTo>
                  <a:pt x="222" y="186"/>
                </a:lnTo>
                <a:lnTo>
                  <a:pt x="221" y="185"/>
                </a:lnTo>
                <a:lnTo>
                  <a:pt x="220" y="184"/>
                </a:lnTo>
                <a:lnTo>
                  <a:pt x="217" y="182"/>
                </a:lnTo>
                <a:lnTo>
                  <a:pt x="210" y="177"/>
                </a:lnTo>
                <a:lnTo>
                  <a:pt x="187" y="166"/>
                </a:lnTo>
                <a:lnTo>
                  <a:pt x="157" y="157"/>
                </a:lnTo>
                <a:lnTo>
                  <a:pt x="122" y="154"/>
                </a:lnTo>
                <a:lnTo>
                  <a:pt x="83" y="161"/>
                </a:lnTo>
                <a:lnTo>
                  <a:pt x="57" y="175"/>
                </a:lnTo>
                <a:lnTo>
                  <a:pt x="42" y="184"/>
                </a:lnTo>
                <a:lnTo>
                  <a:pt x="36" y="186"/>
                </a:lnTo>
                <a:lnTo>
                  <a:pt x="35" y="186"/>
                </a:lnTo>
                <a:lnTo>
                  <a:pt x="33" y="186"/>
                </a:lnTo>
                <a:lnTo>
                  <a:pt x="32" y="186"/>
                </a:lnTo>
                <a:lnTo>
                  <a:pt x="31" y="184"/>
                </a:lnTo>
                <a:lnTo>
                  <a:pt x="31" y="183"/>
                </a:lnTo>
                <a:lnTo>
                  <a:pt x="31" y="181"/>
                </a:lnTo>
                <a:lnTo>
                  <a:pt x="32" y="177"/>
                </a:lnTo>
                <a:lnTo>
                  <a:pt x="34" y="172"/>
                </a:lnTo>
                <a:lnTo>
                  <a:pt x="41" y="161"/>
                </a:lnTo>
                <a:lnTo>
                  <a:pt x="58" y="131"/>
                </a:lnTo>
                <a:lnTo>
                  <a:pt x="76" y="103"/>
                </a:lnTo>
                <a:lnTo>
                  <a:pt x="86" y="83"/>
                </a:lnTo>
                <a:lnTo>
                  <a:pt x="86" y="80"/>
                </a:lnTo>
                <a:lnTo>
                  <a:pt x="91" y="80"/>
                </a:lnTo>
                <a:lnTo>
                  <a:pt x="112" y="80"/>
                </a:lnTo>
                <a:lnTo>
                  <a:pt x="177" y="78"/>
                </a:lnTo>
                <a:lnTo>
                  <a:pt x="236" y="77"/>
                </a:lnTo>
                <a:lnTo>
                  <a:pt x="246" y="76"/>
                </a:lnTo>
                <a:lnTo>
                  <a:pt x="246" y="66"/>
                </a:lnTo>
                <a:lnTo>
                  <a:pt x="252" y="48"/>
                </a:lnTo>
                <a:lnTo>
                  <a:pt x="260" y="33"/>
                </a:lnTo>
                <a:lnTo>
                  <a:pt x="273" y="21"/>
                </a:lnTo>
                <a:lnTo>
                  <a:pt x="287" y="12"/>
                </a:lnTo>
                <a:lnTo>
                  <a:pt x="303" y="4"/>
                </a:lnTo>
                <a:lnTo>
                  <a:pt x="312" y="0"/>
                </a:lnTo>
                <a:lnTo>
                  <a:pt x="314" y="13"/>
                </a:lnTo>
                <a:lnTo>
                  <a:pt x="316" y="28"/>
                </a:lnTo>
                <a:lnTo>
                  <a:pt x="314" y="63"/>
                </a:lnTo>
                <a:lnTo>
                  <a:pt x="298" y="139"/>
                </a:lnTo>
                <a:lnTo>
                  <a:pt x="280" y="202"/>
                </a:lnTo>
                <a:lnTo>
                  <a:pt x="285" y="210"/>
                </a:lnTo>
                <a:lnTo>
                  <a:pt x="294" y="215"/>
                </a:lnTo>
                <a:lnTo>
                  <a:pt x="304" y="220"/>
                </a:lnTo>
                <a:lnTo>
                  <a:pt x="331" y="227"/>
                </a:lnTo>
                <a:lnTo>
                  <a:pt x="386" y="241"/>
                </a:lnTo>
                <a:lnTo>
                  <a:pt x="413" y="259"/>
                </a:lnTo>
                <a:lnTo>
                  <a:pt x="407" y="260"/>
                </a:lnTo>
                <a:lnTo>
                  <a:pt x="400" y="263"/>
                </a:lnTo>
                <a:lnTo>
                  <a:pt x="382" y="272"/>
                </a:lnTo>
                <a:lnTo>
                  <a:pt x="341" y="297"/>
                </a:lnTo>
                <a:lnTo>
                  <a:pt x="312" y="310"/>
                </a:lnTo>
                <a:lnTo>
                  <a:pt x="312" y="323"/>
                </a:lnTo>
                <a:lnTo>
                  <a:pt x="309" y="340"/>
                </a:lnTo>
                <a:lnTo>
                  <a:pt x="294" y="386"/>
                </a:lnTo>
                <a:lnTo>
                  <a:pt x="242" y="495"/>
                </a:lnTo>
                <a:lnTo>
                  <a:pt x="181" y="573"/>
                </a:lnTo>
                <a:lnTo>
                  <a:pt x="168" y="584"/>
                </a:lnTo>
                <a:lnTo>
                  <a:pt x="155" y="592"/>
                </a:lnTo>
                <a:lnTo>
                  <a:pt x="154" y="593"/>
                </a:lnTo>
                <a:lnTo>
                  <a:pt x="155" y="593"/>
                </a:lnTo>
                <a:lnTo>
                  <a:pt x="160" y="591"/>
                </a:lnTo>
                <a:lnTo>
                  <a:pt x="169" y="590"/>
                </a:lnTo>
                <a:lnTo>
                  <a:pt x="173" y="591"/>
                </a:lnTo>
                <a:lnTo>
                  <a:pt x="176" y="593"/>
                </a:lnTo>
                <a:lnTo>
                  <a:pt x="177" y="595"/>
                </a:lnTo>
                <a:lnTo>
                  <a:pt x="178" y="598"/>
                </a:lnTo>
                <a:lnTo>
                  <a:pt x="179" y="601"/>
                </a:lnTo>
                <a:lnTo>
                  <a:pt x="180" y="605"/>
                </a:lnTo>
                <a:lnTo>
                  <a:pt x="184" y="606"/>
                </a:lnTo>
                <a:lnTo>
                  <a:pt x="195" y="607"/>
                </a:lnTo>
                <a:lnTo>
                  <a:pt x="223" y="616"/>
                </a:lnTo>
                <a:lnTo>
                  <a:pt x="260" y="637"/>
                </a:lnTo>
                <a:lnTo>
                  <a:pt x="272" y="644"/>
                </a:lnTo>
              </a:path>
            </a:pathLst>
          </a:custGeom>
          <a:blipFill rotWithShape="0">
            <a:blip r:embed="rId17"/>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107"/>
          <p:cNvSpPr/>
          <p:nvPr/>
        </p:nvSpPr>
        <p:spPr>
          <a:xfrm>
            <a:off x="3132000" y="468360"/>
            <a:ext cx="1062000" cy="2668680"/>
          </a:xfrm>
          <a:custGeom>
            <a:avLst/>
            <a:gdLst>
              <a:gd name="textAreaLeft" fmla="*/ 0 w 1062000"/>
              <a:gd name="textAreaRight" fmla="*/ 1062360 w 1062000"/>
              <a:gd name="textAreaTop" fmla="*/ 0 h 2668680"/>
              <a:gd name="textAreaBottom" fmla="*/ 2669040 h 2668680"/>
            </a:gdLst>
            <a:ahLst/>
            <a:rect l="textAreaLeft" t="textAreaTop" r="textAreaRight" b="textAreaBottom"/>
            <a:pathLst>
              <a:path w="1339" h="3362">
                <a:moveTo>
                  <a:pt x="794" y="3073"/>
                </a:moveTo>
                <a:lnTo>
                  <a:pt x="793" y="3080"/>
                </a:lnTo>
                <a:lnTo>
                  <a:pt x="793" y="3094"/>
                </a:lnTo>
                <a:lnTo>
                  <a:pt x="792" y="3121"/>
                </a:lnTo>
                <a:lnTo>
                  <a:pt x="791" y="3146"/>
                </a:lnTo>
                <a:lnTo>
                  <a:pt x="791" y="3152"/>
                </a:lnTo>
                <a:lnTo>
                  <a:pt x="793" y="3158"/>
                </a:lnTo>
                <a:lnTo>
                  <a:pt x="797" y="3165"/>
                </a:lnTo>
                <a:lnTo>
                  <a:pt x="800" y="3170"/>
                </a:lnTo>
                <a:lnTo>
                  <a:pt x="804" y="3171"/>
                </a:lnTo>
                <a:lnTo>
                  <a:pt x="806" y="3170"/>
                </a:lnTo>
                <a:lnTo>
                  <a:pt x="808" y="3169"/>
                </a:lnTo>
                <a:lnTo>
                  <a:pt x="815" y="3164"/>
                </a:lnTo>
                <a:lnTo>
                  <a:pt x="821" y="3161"/>
                </a:lnTo>
                <a:lnTo>
                  <a:pt x="821" y="3153"/>
                </a:lnTo>
                <a:lnTo>
                  <a:pt x="822" y="3137"/>
                </a:lnTo>
                <a:lnTo>
                  <a:pt x="825" y="3107"/>
                </a:lnTo>
                <a:lnTo>
                  <a:pt x="827" y="3077"/>
                </a:lnTo>
                <a:lnTo>
                  <a:pt x="828" y="3069"/>
                </a:lnTo>
                <a:lnTo>
                  <a:pt x="827" y="3056"/>
                </a:lnTo>
                <a:lnTo>
                  <a:pt x="827" y="3028"/>
                </a:lnTo>
                <a:lnTo>
                  <a:pt x="831" y="2963"/>
                </a:lnTo>
                <a:lnTo>
                  <a:pt x="828" y="2932"/>
                </a:lnTo>
                <a:lnTo>
                  <a:pt x="820" y="2906"/>
                </a:lnTo>
                <a:lnTo>
                  <a:pt x="813" y="2894"/>
                </a:lnTo>
                <a:lnTo>
                  <a:pt x="811" y="2899"/>
                </a:lnTo>
                <a:lnTo>
                  <a:pt x="807" y="2924"/>
                </a:lnTo>
                <a:lnTo>
                  <a:pt x="793" y="3004"/>
                </a:lnTo>
                <a:lnTo>
                  <a:pt x="790" y="3042"/>
                </a:lnTo>
                <a:lnTo>
                  <a:pt x="791" y="3068"/>
                </a:lnTo>
                <a:lnTo>
                  <a:pt x="794" y="3073"/>
                </a:lnTo>
                <a:lnTo>
                  <a:pt x="794" y="3079"/>
                </a:lnTo>
                <a:lnTo>
                  <a:pt x="794" y="3085"/>
                </a:lnTo>
                <a:lnTo>
                  <a:pt x="794" y="3082"/>
                </a:lnTo>
                <a:lnTo>
                  <a:pt x="794" y="3074"/>
                </a:lnTo>
                <a:lnTo>
                  <a:pt x="794" y="3073"/>
                </a:lnTo>
                <a:close/>
                <a:moveTo>
                  <a:pt x="1078" y="2699"/>
                </a:moveTo>
                <a:lnTo>
                  <a:pt x="1077" y="2720"/>
                </a:lnTo>
                <a:lnTo>
                  <a:pt x="1077" y="2766"/>
                </a:lnTo>
                <a:lnTo>
                  <a:pt x="1064" y="2869"/>
                </a:lnTo>
                <a:lnTo>
                  <a:pt x="1027" y="2959"/>
                </a:lnTo>
                <a:lnTo>
                  <a:pt x="1012" y="2975"/>
                </a:lnTo>
                <a:lnTo>
                  <a:pt x="992" y="2962"/>
                </a:lnTo>
                <a:lnTo>
                  <a:pt x="975" y="2941"/>
                </a:lnTo>
                <a:lnTo>
                  <a:pt x="962" y="2916"/>
                </a:lnTo>
                <a:lnTo>
                  <a:pt x="953" y="2886"/>
                </a:lnTo>
                <a:lnTo>
                  <a:pt x="948" y="2823"/>
                </a:lnTo>
                <a:lnTo>
                  <a:pt x="964" y="2762"/>
                </a:lnTo>
                <a:lnTo>
                  <a:pt x="982" y="2736"/>
                </a:lnTo>
                <a:lnTo>
                  <a:pt x="1006" y="2717"/>
                </a:lnTo>
                <a:lnTo>
                  <a:pt x="1037" y="2704"/>
                </a:lnTo>
                <a:lnTo>
                  <a:pt x="1078" y="2699"/>
                </a:lnTo>
                <a:lnTo>
                  <a:pt x="1078" y="2715"/>
                </a:lnTo>
                <a:lnTo>
                  <a:pt x="1078" y="2732"/>
                </a:lnTo>
                <a:lnTo>
                  <a:pt x="1078" y="2723"/>
                </a:lnTo>
                <a:lnTo>
                  <a:pt x="1078" y="2701"/>
                </a:lnTo>
                <a:lnTo>
                  <a:pt x="1078" y="2699"/>
                </a:lnTo>
                <a:close/>
                <a:moveTo>
                  <a:pt x="1171" y="1140"/>
                </a:moveTo>
                <a:lnTo>
                  <a:pt x="1156" y="1089"/>
                </a:lnTo>
                <a:lnTo>
                  <a:pt x="1132" y="1014"/>
                </a:lnTo>
                <a:lnTo>
                  <a:pt x="1119" y="970"/>
                </a:lnTo>
                <a:lnTo>
                  <a:pt x="1119" y="956"/>
                </a:lnTo>
                <a:lnTo>
                  <a:pt x="1123" y="945"/>
                </a:lnTo>
                <a:lnTo>
                  <a:pt x="1135" y="936"/>
                </a:lnTo>
                <a:lnTo>
                  <a:pt x="1154" y="928"/>
                </a:lnTo>
                <a:lnTo>
                  <a:pt x="1181" y="919"/>
                </a:lnTo>
                <a:lnTo>
                  <a:pt x="1263" y="893"/>
                </a:lnTo>
                <a:lnTo>
                  <a:pt x="1248" y="870"/>
                </a:lnTo>
                <a:lnTo>
                  <a:pt x="1230" y="835"/>
                </a:lnTo>
                <a:lnTo>
                  <a:pt x="1227" y="822"/>
                </a:lnTo>
                <a:lnTo>
                  <a:pt x="1228" y="810"/>
                </a:lnTo>
                <a:lnTo>
                  <a:pt x="1234" y="800"/>
                </a:lnTo>
                <a:lnTo>
                  <a:pt x="1242" y="790"/>
                </a:lnTo>
                <a:lnTo>
                  <a:pt x="1254" y="777"/>
                </a:lnTo>
                <a:lnTo>
                  <a:pt x="1289" y="749"/>
                </a:lnTo>
                <a:lnTo>
                  <a:pt x="1339" y="705"/>
                </a:lnTo>
                <a:lnTo>
                  <a:pt x="1339" y="702"/>
                </a:lnTo>
                <a:lnTo>
                  <a:pt x="1339" y="678"/>
                </a:lnTo>
                <a:lnTo>
                  <a:pt x="1339" y="598"/>
                </a:lnTo>
                <a:lnTo>
                  <a:pt x="1339" y="537"/>
                </a:lnTo>
                <a:lnTo>
                  <a:pt x="1339" y="533"/>
                </a:lnTo>
                <a:lnTo>
                  <a:pt x="1338" y="529"/>
                </a:lnTo>
                <a:lnTo>
                  <a:pt x="1330" y="499"/>
                </a:lnTo>
                <a:lnTo>
                  <a:pt x="1304" y="396"/>
                </a:lnTo>
                <a:lnTo>
                  <a:pt x="1285" y="318"/>
                </a:lnTo>
                <a:lnTo>
                  <a:pt x="1285" y="313"/>
                </a:lnTo>
                <a:lnTo>
                  <a:pt x="1272" y="263"/>
                </a:lnTo>
                <a:lnTo>
                  <a:pt x="1231" y="192"/>
                </a:lnTo>
                <a:lnTo>
                  <a:pt x="1175" y="151"/>
                </a:lnTo>
                <a:lnTo>
                  <a:pt x="1106" y="122"/>
                </a:lnTo>
                <a:lnTo>
                  <a:pt x="953" y="39"/>
                </a:lnTo>
                <a:lnTo>
                  <a:pt x="915" y="0"/>
                </a:lnTo>
                <a:lnTo>
                  <a:pt x="909" y="6"/>
                </a:lnTo>
                <a:lnTo>
                  <a:pt x="898" y="14"/>
                </a:lnTo>
                <a:lnTo>
                  <a:pt x="881" y="26"/>
                </a:lnTo>
                <a:lnTo>
                  <a:pt x="867" y="44"/>
                </a:lnTo>
                <a:lnTo>
                  <a:pt x="864" y="50"/>
                </a:lnTo>
                <a:lnTo>
                  <a:pt x="864" y="56"/>
                </a:lnTo>
                <a:lnTo>
                  <a:pt x="867" y="65"/>
                </a:lnTo>
                <a:lnTo>
                  <a:pt x="875" y="91"/>
                </a:lnTo>
                <a:lnTo>
                  <a:pt x="897" y="152"/>
                </a:lnTo>
                <a:lnTo>
                  <a:pt x="910" y="190"/>
                </a:lnTo>
                <a:lnTo>
                  <a:pt x="886" y="202"/>
                </a:lnTo>
                <a:lnTo>
                  <a:pt x="850" y="212"/>
                </a:lnTo>
                <a:lnTo>
                  <a:pt x="821" y="213"/>
                </a:lnTo>
                <a:lnTo>
                  <a:pt x="796" y="205"/>
                </a:lnTo>
                <a:lnTo>
                  <a:pt x="771" y="189"/>
                </a:lnTo>
                <a:lnTo>
                  <a:pt x="744" y="171"/>
                </a:lnTo>
                <a:lnTo>
                  <a:pt x="727" y="160"/>
                </a:lnTo>
                <a:lnTo>
                  <a:pt x="725" y="163"/>
                </a:lnTo>
                <a:lnTo>
                  <a:pt x="713" y="183"/>
                </a:lnTo>
                <a:lnTo>
                  <a:pt x="673" y="252"/>
                </a:lnTo>
                <a:lnTo>
                  <a:pt x="642" y="304"/>
                </a:lnTo>
                <a:lnTo>
                  <a:pt x="641" y="306"/>
                </a:lnTo>
                <a:lnTo>
                  <a:pt x="638" y="307"/>
                </a:lnTo>
                <a:lnTo>
                  <a:pt x="631" y="308"/>
                </a:lnTo>
                <a:lnTo>
                  <a:pt x="603" y="313"/>
                </a:lnTo>
                <a:lnTo>
                  <a:pt x="583" y="316"/>
                </a:lnTo>
                <a:lnTo>
                  <a:pt x="582" y="316"/>
                </a:lnTo>
                <a:lnTo>
                  <a:pt x="579" y="318"/>
                </a:lnTo>
                <a:lnTo>
                  <a:pt x="570" y="330"/>
                </a:lnTo>
                <a:lnTo>
                  <a:pt x="538" y="372"/>
                </a:lnTo>
                <a:lnTo>
                  <a:pt x="513" y="404"/>
                </a:lnTo>
                <a:lnTo>
                  <a:pt x="512" y="405"/>
                </a:lnTo>
                <a:lnTo>
                  <a:pt x="512" y="409"/>
                </a:lnTo>
                <a:lnTo>
                  <a:pt x="519" y="431"/>
                </a:lnTo>
                <a:lnTo>
                  <a:pt x="543" y="505"/>
                </a:lnTo>
                <a:lnTo>
                  <a:pt x="562" y="561"/>
                </a:lnTo>
                <a:lnTo>
                  <a:pt x="563" y="564"/>
                </a:lnTo>
                <a:lnTo>
                  <a:pt x="563" y="570"/>
                </a:lnTo>
                <a:lnTo>
                  <a:pt x="562" y="577"/>
                </a:lnTo>
                <a:lnTo>
                  <a:pt x="559" y="582"/>
                </a:lnTo>
                <a:lnTo>
                  <a:pt x="554" y="587"/>
                </a:lnTo>
                <a:lnTo>
                  <a:pt x="542" y="597"/>
                </a:lnTo>
                <a:lnTo>
                  <a:pt x="518" y="625"/>
                </a:lnTo>
                <a:lnTo>
                  <a:pt x="513" y="646"/>
                </a:lnTo>
                <a:lnTo>
                  <a:pt x="509" y="698"/>
                </a:lnTo>
                <a:lnTo>
                  <a:pt x="501" y="772"/>
                </a:lnTo>
                <a:lnTo>
                  <a:pt x="491" y="820"/>
                </a:lnTo>
                <a:lnTo>
                  <a:pt x="472" y="856"/>
                </a:lnTo>
                <a:lnTo>
                  <a:pt x="438" y="893"/>
                </a:lnTo>
                <a:lnTo>
                  <a:pt x="384" y="946"/>
                </a:lnTo>
                <a:lnTo>
                  <a:pt x="348" y="982"/>
                </a:lnTo>
                <a:lnTo>
                  <a:pt x="363" y="1003"/>
                </a:lnTo>
                <a:lnTo>
                  <a:pt x="370" y="1024"/>
                </a:lnTo>
                <a:lnTo>
                  <a:pt x="371" y="1044"/>
                </a:lnTo>
                <a:lnTo>
                  <a:pt x="367" y="1065"/>
                </a:lnTo>
                <a:lnTo>
                  <a:pt x="361" y="1085"/>
                </a:lnTo>
                <a:lnTo>
                  <a:pt x="342" y="1127"/>
                </a:lnTo>
                <a:lnTo>
                  <a:pt x="330" y="1172"/>
                </a:lnTo>
                <a:lnTo>
                  <a:pt x="334" y="1221"/>
                </a:lnTo>
                <a:lnTo>
                  <a:pt x="348" y="1248"/>
                </a:lnTo>
                <a:lnTo>
                  <a:pt x="338" y="1262"/>
                </a:lnTo>
                <a:lnTo>
                  <a:pt x="322" y="1275"/>
                </a:lnTo>
                <a:lnTo>
                  <a:pt x="303" y="1290"/>
                </a:lnTo>
                <a:lnTo>
                  <a:pt x="258" y="1319"/>
                </a:lnTo>
                <a:lnTo>
                  <a:pt x="175" y="1382"/>
                </a:lnTo>
                <a:lnTo>
                  <a:pt x="165" y="1437"/>
                </a:lnTo>
                <a:lnTo>
                  <a:pt x="150" y="1476"/>
                </a:lnTo>
                <a:lnTo>
                  <a:pt x="135" y="1567"/>
                </a:lnTo>
                <a:lnTo>
                  <a:pt x="138" y="1670"/>
                </a:lnTo>
                <a:lnTo>
                  <a:pt x="184" y="1868"/>
                </a:lnTo>
                <a:lnTo>
                  <a:pt x="249" y="1971"/>
                </a:lnTo>
                <a:lnTo>
                  <a:pt x="244" y="1988"/>
                </a:lnTo>
                <a:lnTo>
                  <a:pt x="235" y="2009"/>
                </a:lnTo>
                <a:lnTo>
                  <a:pt x="226" y="2020"/>
                </a:lnTo>
                <a:lnTo>
                  <a:pt x="212" y="2028"/>
                </a:lnTo>
                <a:lnTo>
                  <a:pt x="192" y="2037"/>
                </a:lnTo>
                <a:lnTo>
                  <a:pt x="165" y="2051"/>
                </a:lnTo>
                <a:lnTo>
                  <a:pt x="149" y="2061"/>
                </a:lnTo>
                <a:lnTo>
                  <a:pt x="149" y="2065"/>
                </a:lnTo>
                <a:lnTo>
                  <a:pt x="154" y="2093"/>
                </a:lnTo>
                <a:lnTo>
                  <a:pt x="167" y="2185"/>
                </a:lnTo>
                <a:lnTo>
                  <a:pt x="176" y="2257"/>
                </a:lnTo>
                <a:lnTo>
                  <a:pt x="177" y="2260"/>
                </a:lnTo>
                <a:lnTo>
                  <a:pt x="175" y="2262"/>
                </a:lnTo>
                <a:lnTo>
                  <a:pt x="163" y="2269"/>
                </a:lnTo>
                <a:lnTo>
                  <a:pt x="122" y="2294"/>
                </a:lnTo>
                <a:lnTo>
                  <a:pt x="89" y="2313"/>
                </a:lnTo>
                <a:lnTo>
                  <a:pt x="88" y="2314"/>
                </a:lnTo>
                <a:lnTo>
                  <a:pt x="87" y="2318"/>
                </a:lnTo>
                <a:lnTo>
                  <a:pt x="87" y="2340"/>
                </a:lnTo>
                <a:lnTo>
                  <a:pt x="85" y="2419"/>
                </a:lnTo>
                <a:lnTo>
                  <a:pt x="84" y="2478"/>
                </a:lnTo>
                <a:lnTo>
                  <a:pt x="84" y="2481"/>
                </a:lnTo>
                <a:lnTo>
                  <a:pt x="79" y="2481"/>
                </a:lnTo>
                <a:lnTo>
                  <a:pt x="72" y="2478"/>
                </a:lnTo>
                <a:lnTo>
                  <a:pt x="66" y="2474"/>
                </a:lnTo>
                <a:lnTo>
                  <a:pt x="50" y="2463"/>
                </a:lnTo>
                <a:lnTo>
                  <a:pt x="17" y="2442"/>
                </a:lnTo>
                <a:lnTo>
                  <a:pt x="0" y="2434"/>
                </a:lnTo>
                <a:lnTo>
                  <a:pt x="4" y="2468"/>
                </a:lnTo>
                <a:lnTo>
                  <a:pt x="14" y="2541"/>
                </a:lnTo>
                <a:lnTo>
                  <a:pt x="53" y="2692"/>
                </a:lnTo>
                <a:lnTo>
                  <a:pt x="126" y="2825"/>
                </a:lnTo>
                <a:lnTo>
                  <a:pt x="152" y="2852"/>
                </a:lnTo>
                <a:lnTo>
                  <a:pt x="145" y="2871"/>
                </a:lnTo>
                <a:lnTo>
                  <a:pt x="139" y="2896"/>
                </a:lnTo>
                <a:lnTo>
                  <a:pt x="138" y="2905"/>
                </a:lnTo>
                <a:lnTo>
                  <a:pt x="140" y="2912"/>
                </a:lnTo>
                <a:lnTo>
                  <a:pt x="143" y="2917"/>
                </a:lnTo>
                <a:lnTo>
                  <a:pt x="147" y="2921"/>
                </a:lnTo>
                <a:lnTo>
                  <a:pt x="155" y="2926"/>
                </a:lnTo>
                <a:lnTo>
                  <a:pt x="174" y="2938"/>
                </a:lnTo>
                <a:lnTo>
                  <a:pt x="201" y="2960"/>
                </a:lnTo>
                <a:lnTo>
                  <a:pt x="199" y="2972"/>
                </a:lnTo>
                <a:lnTo>
                  <a:pt x="200" y="2985"/>
                </a:lnTo>
                <a:lnTo>
                  <a:pt x="204" y="2997"/>
                </a:lnTo>
                <a:lnTo>
                  <a:pt x="212" y="3010"/>
                </a:lnTo>
                <a:lnTo>
                  <a:pt x="232" y="3036"/>
                </a:lnTo>
                <a:lnTo>
                  <a:pt x="256" y="3061"/>
                </a:lnTo>
                <a:lnTo>
                  <a:pt x="280" y="3083"/>
                </a:lnTo>
                <a:lnTo>
                  <a:pt x="301" y="3100"/>
                </a:lnTo>
                <a:lnTo>
                  <a:pt x="301" y="3102"/>
                </a:lnTo>
                <a:lnTo>
                  <a:pt x="301" y="3104"/>
                </a:lnTo>
                <a:lnTo>
                  <a:pt x="302" y="3109"/>
                </a:lnTo>
                <a:lnTo>
                  <a:pt x="305" y="3126"/>
                </a:lnTo>
                <a:lnTo>
                  <a:pt x="312" y="3177"/>
                </a:lnTo>
                <a:lnTo>
                  <a:pt x="332" y="3301"/>
                </a:lnTo>
                <a:lnTo>
                  <a:pt x="346" y="3362"/>
                </a:lnTo>
                <a:lnTo>
                  <a:pt x="350" y="3362"/>
                </a:lnTo>
                <a:lnTo>
                  <a:pt x="366" y="3360"/>
                </a:lnTo>
                <a:lnTo>
                  <a:pt x="407" y="3351"/>
                </a:lnTo>
                <a:lnTo>
                  <a:pt x="442" y="3344"/>
                </a:lnTo>
                <a:lnTo>
                  <a:pt x="448" y="3343"/>
                </a:lnTo>
                <a:lnTo>
                  <a:pt x="448" y="3326"/>
                </a:lnTo>
                <a:lnTo>
                  <a:pt x="448" y="3291"/>
                </a:lnTo>
                <a:lnTo>
                  <a:pt x="454" y="3215"/>
                </a:lnTo>
                <a:lnTo>
                  <a:pt x="461" y="3182"/>
                </a:lnTo>
                <a:lnTo>
                  <a:pt x="472" y="3156"/>
                </a:lnTo>
                <a:lnTo>
                  <a:pt x="481" y="3147"/>
                </a:lnTo>
                <a:lnTo>
                  <a:pt x="520" y="3160"/>
                </a:lnTo>
                <a:lnTo>
                  <a:pt x="558" y="3160"/>
                </a:lnTo>
                <a:lnTo>
                  <a:pt x="593" y="3149"/>
                </a:lnTo>
                <a:lnTo>
                  <a:pt x="626" y="3129"/>
                </a:lnTo>
                <a:lnTo>
                  <a:pt x="656" y="3102"/>
                </a:lnTo>
                <a:lnTo>
                  <a:pt x="681" y="3070"/>
                </a:lnTo>
                <a:lnTo>
                  <a:pt x="724" y="2996"/>
                </a:lnTo>
                <a:lnTo>
                  <a:pt x="751" y="2922"/>
                </a:lnTo>
                <a:lnTo>
                  <a:pt x="761" y="2863"/>
                </a:lnTo>
                <a:lnTo>
                  <a:pt x="760" y="2846"/>
                </a:lnTo>
                <a:lnTo>
                  <a:pt x="753" y="2806"/>
                </a:lnTo>
                <a:lnTo>
                  <a:pt x="733" y="2709"/>
                </a:lnTo>
                <a:lnTo>
                  <a:pt x="724" y="2619"/>
                </a:lnTo>
                <a:lnTo>
                  <a:pt x="727" y="2602"/>
                </a:lnTo>
                <a:lnTo>
                  <a:pt x="735" y="2584"/>
                </a:lnTo>
                <a:lnTo>
                  <a:pt x="748" y="2566"/>
                </a:lnTo>
                <a:lnTo>
                  <a:pt x="765" y="2549"/>
                </a:lnTo>
                <a:lnTo>
                  <a:pt x="810" y="2518"/>
                </a:lnTo>
                <a:lnTo>
                  <a:pt x="904" y="2460"/>
                </a:lnTo>
                <a:lnTo>
                  <a:pt x="943" y="2414"/>
                </a:lnTo>
                <a:lnTo>
                  <a:pt x="943" y="2406"/>
                </a:lnTo>
                <a:lnTo>
                  <a:pt x="946" y="2395"/>
                </a:lnTo>
                <a:lnTo>
                  <a:pt x="955" y="2368"/>
                </a:lnTo>
                <a:lnTo>
                  <a:pt x="978" y="2305"/>
                </a:lnTo>
                <a:lnTo>
                  <a:pt x="991" y="2257"/>
                </a:lnTo>
                <a:lnTo>
                  <a:pt x="967" y="2249"/>
                </a:lnTo>
                <a:lnTo>
                  <a:pt x="932" y="2237"/>
                </a:lnTo>
                <a:lnTo>
                  <a:pt x="913" y="2229"/>
                </a:lnTo>
                <a:lnTo>
                  <a:pt x="911" y="2226"/>
                </a:lnTo>
                <a:lnTo>
                  <a:pt x="910" y="2224"/>
                </a:lnTo>
                <a:lnTo>
                  <a:pt x="909" y="2221"/>
                </a:lnTo>
                <a:lnTo>
                  <a:pt x="909" y="2219"/>
                </a:lnTo>
                <a:lnTo>
                  <a:pt x="910" y="2216"/>
                </a:lnTo>
                <a:lnTo>
                  <a:pt x="912" y="2212"/>
                </a:lnTo>
                <a:lnTo>
                  <a:pt x="918" y="2204"/>
                </a:lnTo>
                <a:lnTo>
                  <a:pt x="941" y="2180"/>
                </a:lnTo>
                <a:lnTo>
                  <a:pt x="957" y="2163"/>
                </a:lnTo>
                <a:lnTo>
                  <a:pt x="956" y="2160"/>
                </a:lnTo>
                <a:lnTo>
                  <a:pt x="954" y="2156"/>
                </a:lnTo>
                <a:lnTo>
                  <a:pt x="950" y="2153"/>
                </a:lnTo>
                <a:lnTo>
                  <a:pt x="945" y="2150"/>
                </a:lnTo>
                <a:lnTo>
                  <a:pt x="933" y="2143"/>
                </a:lnTo>
                <a:lnTo>
                  <a:pt x="918" y="2138"/>
                </a:lnTo>
                <a:lnTo>
                  <a:pt x="882" y="2130"/>
                </a:lnTo>
                <a:lnTo>
                  <a:pt x="811" y="2122"/>
                </a:lnTo>
                <a:lnTo>
                  <a:pt x="794" y="2120"/>
                </a:lnTo>
                <a:lnTo>
                  <a:pt x="772" y="2109"/>
                </a:lnTo>
                <a:lnTo>
                  <a:pt x="757" y="2091"/>
                </a:lnTo>
                <a:lnTo>
                  <a:pt x="749" y="2067"/>
                </a:lnTo>
                <a:lnTo>
                  <a:pt x="744" y="2040"/>
                </a:lnTo>
                <a:lnTo>
                  <a:pt x="744" y="1977"/>
                </a:lnTo>
                <a:lnTo>
                  <a:pt x="749" y="1912"/>
                </a:lnTo>
                <a:lnTo>
                  <a:pt x="751" y="1853"/>
                </a:lnTo>
                <a:lnTo>
                  <a:pt x="744" y="1810"/>
                </a:lnTo>
                <a:lnTo>
                  <a:pt x="762" y="1776"/>
                </a:lnTo>
                <a:lnTo>
                  <a:pt x="830" y="1648"/>
                </a:lnTo>
                <a:lnTo>
                  <a:pt x="1022" y="1311"/>
                </a:lnTo>
                <a:lnTo>
                  <a:pt x="1108" y="1180"/>
                </a:lnTo>
                <a:lnTo>
                  <a:pt x="1140" y="1140"/>
                </a:lnTo>
                <a:lnTo>
                  <a:pt x="1152" y="1130"/>
                </a:lnTo>
                <a:lnTo>
                  <a:pt x="1157" y="1127"/>
                </a:lnTo>
                <a:lnTo>
                  <a:pt x="1162" y="1126"/>
                </a:lnTo>
                <a:lnTo>
                  <a:pt x="1164" y="1126"/>
                </a:lnTo>
                <a:lnTo>
                  <a:pt x="1166" y="1127"/>
                </a:lnTo>
                <a:lnTo>
                  <a:pt x="1167" y="1128"/>
                </a:lnTo>
                <a:lnTo>
                  <a:pt x="1168" y="1129"/>
                </a:lnTo>
                <a:lnTo>
                  <a:pt x="1169" y="1131"/>
                </a:lnTo>
                <a:lnTo>
                  <a:pt x="1170" y="1134"/>
                </a:lnTo>
                <a:lnTo>
                  <a:pt x="1170" y="1137"/>
                </a:lnTo>
                <a:lnTo>
                  <a:pt x="1171" y="1140"/>
                </a:lnTo>
                <a:lnTo>
                  <a:pt x="1159" y="1092"/>
                </a:lnTo>
                <a:lnTo>
                  <a:pt x="1146" y="1043"/>
                </a:lnTo>
                <a:lnTo>
                  <a:pt x="1153" y="1071"/>
                </a:lnTo>
                <a:lnTo>
                  <a:pt x="1169" y="1136"/>
                </a:lnTo>
                <a:lnTo>
                  <a:pt x="1171" y="1140"/>
                </a:lnTo>
                <a:close/>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108"/>
          <p:cNvSpPr/>
          <p:nvPr/>
        </p:nvSpPr>
        <p:spPr>
          <a:xfrm>
            <a:off x="3759120" y="2766960"/>
            <a:ext cx="33480" cy="219240"/>
          </a:xfrm>
          <a:custGeom>
            <a:avLst/>
            <a:gdLst>
              <a:gd name="textAreaLeft" fmla="*/ 0 w 33480"/>
              <a:gd name="textAreaRight" fmla="*/ 33480 w 33480"/>
              <a:gd name="textAreaTop" fmla="*/ 0 h 219240"/>
              <a:gd name="textAreaBottom" fmla="*/ 219600 h 219240"/>
            </a:gdLst>
            <a:ahLst/>
            <a:rect l="textAreaLeft" t="textAreaTop" r="textAreaRight" b="textAreaBottom"/>
            <a:pathLst>
              <a:path w="41" h="277">
                <a:moveTo>
                  <a:pt x="4" y="179"/>
                </a:moveTo>
                <a:lnTo>
                  <a:pt x="3" y="186"/>
                </a:lnTo>
                <a:lnTo>
                  <a:pt x="3" y="200"/>
                </a:lnTo>
                <a:lnTo>
                  <a:pt x="2" y="227"/>
                </a:lnTo>
                <a:lnTo>
                  <a:pt x="1" y="252"/>
                </a:lnTo>
                <a:lnTo>
                  <a:pt x="1" y="258"/>
                </a:lnTo>
                <a:lnTo>
                  <a:pt x="3" y="264"/>
                </a:lnTo>
                <a:lnTo>
                  <a:pt x="7" y="271"/>
                </a:lnTo>
                <a:lnTo>
                  <a:pt x="10" y="276"/>
                </a:lnTo>
                <a:lnTo>
                  <a:pt x="14" y="277"/>
                </a:lnTo>
                <a:lnTo>
                  <a:pt x="16" y="276"/>
                </a:lnTo>
                <a:lnTo>
                  <a:pt x="18" y="275"/>
                </a:lnTo>
                <a:lnTo>
                  <a:pt x="25" y="270"/>
                </a:lnTo>
                <a:lnTo>
                  <a:pt x="31" y="267"/>
                </a:lnTo>
                <a:lnTo>
                  <a:pt x="31" y="259"/>
                </a:lnTo>
                <a:lnTo>
                  <a:pt x="32" y="243"/>
                </a:lnTo>
                <a:lnTo>
                  <a:pt x="35" y="213"/>
                </a:lnTo>
                <a:lnTo>
                  <a:pt x="37" y="183"/>
                </a:lnTo>
                <a:lnTo>
                  <a:pt x="38" y="175"/>
                </a:lnTo>
                <a:lnTo>
                  <a:pt x="37" y="162"/>
                </a:lnTo>
                <a:lnTo>
                  <a:pt x="37" y="134"/>
                </a:lnTo>
                <a:lnTo>
                  <a:pt x="41" y="69"/>
                </a:lnTo>
                <a:lnTo>
                  <a:pt x="38" y="38"/>
                </a:lnTo>
                <a:lnTo>
                  <a:pt x="30" y="12"/>
                </a:lnTo>
                <a:lnTo>
                  <a:pt x="23" y="0"/>
                </a:lnTo>
                <a:lnTo>
                  <a:pt x="21" y="5"/>
                </a:lnTo>
                <a:lnTo>
                  <a:pt x="17" y="30"/>
                </a:lnTo>
                <a:lnTo>
                  <a:pt x="3" y="110"/>
                </a:lnTo>
                <a:lnTo>
                  <a:pt x="0" y="148"/>
                </a:lnTo>
                <a:lnTo>
                  <a:pt x="1" y="174"/>
                </a:lnTo>
                <a:lnTo>
                  <a:pt x="4" y="179"/>
                </a:lnTo>
                <a:lnTo>
                  <a:pt x="4" y="185"/>
                </a:lnTo>
                <a:lnTo>
                  <a:pt x="4" y="191"/>
                </a:lnTo>
                <a:lnTo>
                  <a:pt x="4" y="188"/>
                </a:lnTo>
                <a:lnTo>
                  <a:pt x="4" y="180"/>
                </a:lnTo>
                <a:lnTo>
                  <a:pt x="4" y="179"/>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Freeform 109"/>
          <p:cNvSpPr/>
          <p:nvPr/>
        </p:nvSpPr>
        <p:spPr>
          <a:xfrm>
            <a:off x="3884760" y="2611440"/>
            <a:ext cx="102960" cy="219240"/>
          </a:xfrm>
          <a:custGeom>
            <a:avLst/>
            <a:gdLst>
              <a:gd name="textAreaLeft" fmla="*/ 0 w 102960"/>
              <a:gd name="textAreaRight" fmla="*/ 103320 w 102960"/>
              <a:gd name="textAreaTop" fmla="*/ 0 h 219240"/>
              <a:gd name="textAreaBottom" fmla="*/ 219600 h 219240"/>
            </a:gdLst>
            <a:ahLst/>
            <a:rect l="textAreaLeft" t="textAreaTop" r="textAreaRight" b="textAreaBottom"/>
            <a:pathLst>
              <a:path w="130" h="276">
                <a:moveTo>
                  <a:pt x="130" y="0"/>
                </a:moveTo>
                <a:lnTo>
                  <a:pt x="129" y="21"/>
                </a:lnTo>
                <a:lnTo>
                  <a:pt x="129" y="67"/>
                </a:lnTo>
                <a:lnTo>
                  <a:pt x="116" y="170"/>
                </a:lnTo>
                <a:lnTo>
                  <a:pt x="79" y="260"/>
                </a:lnTo>
                <a:lnTo>
                  <a:pt x="64" y="276"/>
                </a:lnTo>
                <a:lnTo>
                  <a:pt x="44" y="263"/>
                </a:lnTo>
                <a:lnTo>
                  <a:pt x="27" y="242"/>
                </a:lnTo>
                <a:lnTo>
                  <a:pt x="14" y="217"/>
                </a:lnTo>
                <a:lnTo>
                  <a:pt x="5" y="187"/>
                </a:lnTo>
                <a:lnTo>
                  <a:pt x="0" y="124"/>
                </a:lnTo>
                <a:lnTo>
                  <a:pt x="16" y="63"/>
                </a:lnTo>
                <a:lnTo>
                  <a:pt x="34" y="37"/>
                </a:lnTo>
                <a:lnTo>
                  <a:pt x="58" y="18"/>
                </a:lnTo>
                <a:lnTo>
                  <a:pt x="89" y="5"/>
                </a:lnTo>
                <a:lnTo>
                  <a:pt x="130" y="0"/>
                </a:lnTo>
                <a:lnTo>
                  <a:pt x="130" y="16"/>
                </a:lnTo>
                <a:lnTo>
                  <a:pt x="130" y="33"/>
                </a:lnTo>
                <a:lnTo>
                  <a:pt x="130" y="24"/>
                </a:lnTo>
                <a:lnTo>
                  <a:pt x="130" y="2"/>
                </a:lnTo>
                <a:lnTo>
                  <a:pt x="130" y="0"/>
                </a:lnTo>
              </a:path>
            </a:pathLst>
          </a:custGeom>
          <a:blipFill rotWithShape="0">
            <a:blip r:embed="rId19"/>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110"/>
          <p:cNvSpPr/>
          <p:nvPr/>
        </p:nvSpPr>
        <p:spPr>
          <a:xfrm>
            <a:off x="3132000" y="468360"/>
            <a:ext cx="1062000" cy="2668680"/>
          </a:xfrm>
          <a:custGeom>
            <a:avLst/>
            <a:gdLst>
              <a:gd name="textAreaLeft" fmla="*/ 0 w 1062000"/>
              <a:gd name="textAreaRight" fmla="*/ 1062360 w 1062000"/>
              <a:gd name="textAreaTop" fmla="*/ 0 h 2668680"/>
              <a:gd name="textAreaBottom" fmla="*/ 2669040 h 2668680"/>
            </a:gdLst>
            <a:ahLst/>
            <a:rect l="textAreaLeft" t="textAreaTop" r="textAreaRight" b="textAreaBottom"/>
            <a:pathLst>
              <a:path w="1339" h="3362">
                <a:moveTo>
                  <a:pt x="1171" y="1140"/>
                </a:moveTo>
                <a:lnTo>
                  <a:pt x="1156" y="1089"/>
                </a:lnTo>
                <a:lnTo>
                  <a:pt x="1132" y="1014"/>
                </a:lnTo>
                <a:lnTo>
                  <a:pt x="1119" y="970"/>
                </a:lnTo>
                <a:lnTo>
                  <a:pt x="1119" y="956"/>
                </a:lnTo>
                <a:lnTo>
                  <a:pt x="1123" y="945"/>
                </a:lnTo>
                <a:lnTo>
                  <a:pt x="1135" y="936"/>
                </a:lnTo>
                <a:lnTo>
                  <a:pt x="1154" y="928"/>
                </a:lnTo>
                <a:lnTo>
                  <a:pt x="1181" y="919"/>
                </a:lnTo>
                <a:lnTo>
                  <a:pt x="1263" y="893"/>
                </a:lnTo>
                <a:lnTo>
                  <a:pt x="1248" y="870"/>
                </a:lnTo>
                <a:lnTo>
                  <a:pt x="1230" y="835"/>
                </a:lnTo>
                <a:lnTo>
                  <a:pt x="1227" y="822"/>
                </a:lnTo>
                <a:lnTo>
                  <a:pt x="1228" y="810"/>
                </a:lnTo>
                <a:lnTo>
                  <a:pt x="1234" y="800"/>
                </a:lnTo>
                <a:lnTo>
                  <a:pt x="1242" y="790"/>
                </a:lnTo>
                <a:lnTo>
                  <a:pt x="1254" y="777"/>
                </a:lnTo>
                <a:lnTo>
                  <a:pt x="1289" y="749"/>
                </a:lnTo>
                <a:lnTo>
                  <a:pt x="1339" y="705"/>
                </a:lnTo>
                <a:lnTo>
                  <a:pt x="1339" y="702"/>
                </a:lnTo>
                <a:lnTo>
                  <a:pt x="1339" y="678"/>
                </a:lnTo>
                <a:lnTo>
                  <a:pt x="1339" y="598"/>
                </a:lnTo>
                <a:lnTo>
                  <a:pt x="1339" y="537"/>
                </a:lnTo>
                <a:lnTo>
                  <a:pt x="1339" y="533"/>
                </a:lnTo>
                <a:lnTo>
                  <a:pt x="1338" y="529"/>
                </a:lnTo>
                <a:lnTo>
                  <a:pt x="1330" y="499"/>
                </a:lnTo>
                <a:lnTo>
                  <a:pt x="1304" y="396"/>
                </a:lnTo>
                <a:lnTo>
                  <a:pt x="1285" y="318"/>
                </a:lnTo>
                <a:lnTo>
                  <a:pt x="1285" y="313"/>
                </a:lnTo>
                <a:lnTo>
                  <a:pt x="1272" y="263"/>
                </a:lnTo>
                <a:lnTo>
                  <a:pt x="1231" y="192"/>
                </a:lnTo>
                <a:lnTo>
                  <a:pt x="1175" y="151"/>
                </a:lnTo>
                <a:lnTo>
                  <a:pt x="1106" y="122"/>
                </a:lnTo>
                <a:lnTo>
                  <a:pt x="953" y="39"/>
                </a:lnTo>
                <a:lnTo>
                  <a:pt x="915" y="0"/>
                </a:lnTo>
                <a:lnTo>
                  <a:pt x="909" y="6"/>
                </a:lnTo>
                <a:lnTo>
                  <a:pt x="898" y="14"/>
                </a:lnTo>
                <a:lnTo>
                  <a:pt x="881" y="26"/>
                </a:lnTo>
                <a:lnTo>
                  <a:pt x="867" y="44"/>
                </a:lnTo>
                <a:lnTo>
                  <a:pt x="864" y="50"/>
                </a:lnTo>
                <a:lnTo>
                  <a:pt x="864" y="56"/>
                </a:lnTo>
                <a:lnTo>
                  <a:pt x="867" y="65"/>
                </a:lnTo>
                <a:lnTo>
                  <a:pt x="875" y="91"/>
                </a:lnTo>
                <a:lnTo>
                  <a:pt x="897" y="152"/>
                </a:lnTo>
                <a:lnTo>
                  <a:pt x="910" y="190"/>
                </a:lnTo>
                <a:lnTo>
                  <a:pt x="886" y="202"/>
                </a:lnTo>
                <a:lnTo>
                  <a:pt x="850" y="212"/>
                </a:lnTo>
                <a:lnTo>
                  <a:pt x="821" y="213"/>
                </a:lnTo>
                <a:lnTo>
                  <a:pt x="796" y="205"/>
                </a:lnTo>
                <a:lnTo>
                  <a:pt x="771" y="189"/>
                </a:lnTo>
                <a:lnTo>
                  <a:pt x="744" y="171"/>
                </a:lnTo>
                <a:lnTo>
                  <a:pt x="727" y="160"/>
                </a:lnTo>
                <a:lnTo>
                  <a:pt x="725" y="163"/>
                </a:lnTo>
                <a:lnTo>
                  <a:pt x="713" y="183"/>
                </a:lnTo>
                <a:lnTo>
                  <a:pt x="673" y="252"/>
                </a:lnTo>
                <a:lnTo>
                  <a:pt x="642" y="304"/>
                </a:lnTo>
                <a:lnTo>
                  <a:pt x="641" y="306"/>
                </a:lnTo>
                <a:lnTo>
                  <a:pt x="638" y="307"/>
                </a:lnTo>
                <a:lnTo>
                  <a:pt x="631" y="308"/>
                </a:lnTo>
                <a:lnTo>
                  <a:pt x="603" y="313"/>
                </a:lnTo>
                <a:lnTo>
                  <a:pt x="583" y="316"/>
                </a:lnTo>
                <a:lnTo>
                  <a:pt x="582" y="316"/>
                </a:lnTo>
                <a:lnTo>
                  <a:pt x="579" y="318"/>
                </a:lnTo>
                <a:lnTo>
                  <a:pt x="570" y="330"/>
                </a:lnTo>
                <a:lnTo>
                  <a:pt x="538" y="372"/>
                </a:lnTo>
                <a:lnTo>
                  <a:pt x="513" y="404"/>
                </a:lnTo>
                <a:lnTo>
                  <a:pt x="512" y="405"/>
                </a:lnTo>
                <a:lnTo>
                  <a:pt x="512" y="409"/>
                </a:lnTo>
                <a:lnTo>
                  <a:pt x="519" y="431"/>
                </a:lnTo>
                <a:lnTo>
                  <a:pt x="543" y="505"/>
                </a:lnTo>
                <a:lnTo>
                  <a:pt x="562" y="561"/>
                </a:lnTo>
                <a:lnTo>
                  <a:pt x="563" y="564"/>
                </a:lnTo>
                <a:lnTo>
                  <a:pt x="563" y="570"/>
                </a:lnTo>
                <a:lnTo>
                  <a:pt x="562" y="577"/>
                </a:lnTo>
                <a:lnTo>
                  <a:pt x="559" y="582"/>
                </a:lnTo>
                <a:lnTo>
                  <a:pt x="554" y="587"/>
                </a:lnTo>
                <a:lnTo>
                  <a:pt x="542" y="597"/>
                </a:lnTo>
                <a:lnTo>
                  <a:pt x="518" y="625"/>
                </a:lnTo>
                <a:lnTo>
                  <a:pt x="513" y="646"/>
                </a:lnTo>
                <a:lnTo>
                  <a:pt x="509" y="698"/>
                </a:lnTo>
                <a:lnTo>
                  <a:pt x="501" y="772"/>
                </a:lnTo>
                <a:lnTo>
                  <a:pt x="491" y="820"/>
                </a:lnTo>
                <a:lnTo>
                  <a:pt x="472" y="856"/>
                </a:lnTo>
                <a:lnTo>
                  <a:pt x="438" y="893"/>
                </a:lnTo>
                <a:lnTo>
                  <a:pt x="384" y="946"/>
                </a:lnTo>
                <a:lnTo>
                  <a:pt x="348" y="982"/>
                </a:lnTo>
                <a:lnTo>
                  <a:pt x="363" y="1003"/>
                </a:lnTo>
                <a:lnTo>
                  <a:pt x="370" y="1024"/>
                </a:lnTo>
                <a:lnTo>
                  <a:pt x="371" y="1044"/>
                </a:lnTo>
                <a:lnTo>
                  <a:pt x="367" y="1065"/>
                </a:lnTo>
                <a:lnTo>
                  <a:pt x="361" y="1085"/>
                </a:lnTo>
                <a:lnTo>
                  <a:pt x="342" y="1127"/>
                </a:lnTo>
                <a:lnTo>
                  <a:pt x="330" y="1172"/>
                </a:lnTo>
                <a:lnTo>
                  <a:pt x="334" y="1221"/>
                </a:lnTo>
                <a:lnTo>
                  <a:pt x="348" y="1248"/>
                </a:lnTo>
                <a:lnTo>
                  <a:pt x="338" y="1262"/>
                </a:lnTo>
                <a:lnTo>
                  <a:pt x="322" y="1275"/>
                </a:lnTo>
                <a:lnTo>
                  <a:pt x="303" y="1290"/>
                </a:lnTo>
                <a:lnTo>
                  <a:pt x="258" y="1319"/>
                </a:lnTo>
                <a:lnTo>
                  <a:pt x="175" y="1382"/>
                </a:lnTo>
                <a:lnTo>
                  <a:pt x="165" y="1437"/>
                </a:lnTo>
                <a:lnTo>
                  <a:pt x="150" y="1476"/>
                </a:lnTo>
                <a:lnTo>
                  <a:pt x="135" y="1567"/>
                </a:lnTo>
                <a:lnTo>
                  <a:pt x="138" y="1670"/>
                </a:lnTo>
                <a:lnTo>
                  <a:pt x="184" y="1868"/>
                </a:lnTo>
                <a:lnTo>
                  <a:pt x="249" y="1971"/>
                </a:lnTo>
                <a:lnTo>
                  <a:pt x="244" y="1988"/>
                </a:lnTo>
                <a:lnTo>
                  <a:pt x="235" y="2009"/>
                </a:lnTo>
                <a:lnTo>
                  <a:pt x="226" y="2020"/>
                </a:lnTo>
                <a:lnTo>
                  <a:pt x="212" y="2028"/>
                </a:lnTo>
                <a:lnTo>
                  <a:pt x="192" y="2037"/>
                </a:lnTo>
                <a:lnTo>
                  <a:pt x="165" y="2051"/>
                </a:lnTo>
                <a:lnTo>
                  <a:pt x="149" y="2061"/>
                </a:lnTo>
                <a:lnTo>
                  <a:pt x="149" y="2065"/>
                </a:lnTo>
                <a:lnTo>
                  <a:pt x="154" y="2093"/>
                </a:lnTo>
                <a:lnTo>
                  <a:pt x="167" y="2185"/>
                </a:lnTo>
                <a:lnTo>
                  <a:pt x="176" y="2257"/>
                </a:lnTo>
                <a:lnTo>
                  <a:pt x="177" y="2260"/>
                </a:lnTo>
                <a:lnTo>
                  <a:pt x="175" y="2262"/>
                </a:lnTo>
                <a:lnTo>
                  <a:pt x="163" y="2269"/>
                </a:lnTo>
                <a:lnTo>
                  <a:pt x="122" y="2294"/>
                </a:lnTo>
                <a:lnTo>
                  <a:pt x="89" y="2313"/>
                </a:lnTo>
                <a:lnTo>
                  <a:pt x="88" y="2314"/>
                </a:lnTo>
                <a:lnTo>
                  <a:pt x="87" y="2318"/>
                </a:lnTo>
                <a:lnTo>
                  <a:pt x="87" y="2340"/>
                </a:lnTo>
                <a:lnTo>
                  <a:pt x="85" y="2419"/>
                </a:lnTo>
                <a:lnTo>
                  <a:pt x="84" y="2478"/>
                </a:lnTo>
                <a:lnTo>
                  <a:pt x="84" y="2481"/>
                </a:lnTo>
                <a:lnTo>
                  <a:pt x="79" y="2481"/>
                </a:lnTo>
                <a:lnTo>
                  <a:pt x="72" y="2478"/>
                </a:lnTo>
                <a:lnTo>
                  <a:pt x="66" y="2474"/>
                </a:lnTo>
                <a:lnTo>
                  <a:pt x="50" y="2463"/>
                </a:lnTo>
                <a:lnTo>
                  <a:pt x="17" y="2442"/>
                </a:lnTo>
                <a:lnTo>
                  <a:pt x="0" y="2434"/>
                </a:lnTo>
                <a:lnTo>
                  <a:pt x="4" y="2468"/>
                </a:lnTo>
                <a:lnTo>
                  <a:pt x="14" y="2541"/>
                </a:lnTo>
                <a:lnTo>
                  <a:pt x="53" y="2692"/>
                </a:lnTo>
                <a:lnTo>
                  <a:pt x="126" y="2825"/>
                </a:lnTo>
                <a:lnTo>
                  <a:pt x="152" y="2852"/>
                </a:lnTo>
                <a:lnTo>
                  <a:pt x="145" y="2871"/>
                </a:lnTo>
                <a:lnTo>
                  <a:pt x="139" y="2896"/>
                </a:lnTo>
                <a:lnTo>
                  <a:pt x="138" y="2905"/>
                </a:lnTo>
                <a:lnTo>
                  <a:pt x="140" y="2912"/>
                </a:lnTo>
                <a:lnTo>
                  <a:pt x="143" y="2917"/>
                </a:lnTo>
                <a:lnTo>
                  <a:pt x="147" y="2921"/>
                </a:lnTo>
                <a:lnTo>
                  <a:pt x="155" y="2926"/>
                </a:lnTo>
                <a:lnTo>
                  <a:pt x="174" y="2938"/>
                </a:lnTo>
                <a:lnTo>
                  <a:pt x="201" y="2960"/>
                </a:lnTo>
                <a:lnTo>
                  <a:pt x="199" y="2972"/>
                </a:lnTo>
                <a:lnTo>
                  <a:pt x="200" y="2985"/>
                </a:lnTo>
                <a:lnTo>
                  <a:pt x="204" y="2997"/>
                </a:lnTo>
                <a:lnTo>
                  <a:pt x="212" y="3010"/>
                </a:lnTo>
                <a:lnTo>
                  <a:pt x="232" y="3036"/>
                </a:lnTo>
                <a:lnTo>
                  <a:pt x="256" y="3061"/>
                </a:lnTo>
                <a:lnTo>
                  <a:pt x="280" y="3083"/>
                </a:lnTo>
                <a:lnTo>
                  <a:pt x="301" y="3100"/>
                </a:lnTo>
                <a:lnTo>
                  <a:pt x="301" y="3102"/>
                </a:lnTo>
                <a:lnTo>
                  <a:pt x="301" y="3104"/>
                </a:lnTo>
                <a:lnTo>
                  <a:pt x="302" y="3109"/>
                </a:lnTo>
                <a:lnTo>
                  <a:pt x="305" y="3126"/>
                </a:lnTo>
                <a:lnTo>
                  <a:pt x="312" y="3177"/>
                </a:lnTo>
                <a:lnTo>
                  <a:pt x="332" y="3301"/>
                </a:lnTo>
                <a:lnTo>
                  <a:pt x="346" y="3362"/>
                </a:lnTo>
                <a:lnTo>
                  <a:pt x="350" y="3362"/>
                </a:lnTo>
                <a:lnTo>
                  <a:pt x="366" y="3360"/>
                </a:lnTo>
                <a:lnTo>
                  <a:pt x="407" y="3351"/>
                </a:lnTo>
                <a:lnTo>
                  <a:pt x="442" y="3344"/>
                </a:lnTo>
                <a:lnTo>
                  <a:pt x="448" y="3343"/>
                </a:lnTo>
                <a:lnTo>
                  <a:pt x="448" y="3326"/>
                </a:lnTo>
                <a:lnTo>
                  <a:pt x="448" y="3291"/>
                </a:lnTo>
                <a:lnTo>
                  <a:pt x="454" y="3215"/>
                </a:lnTo>
                <a:lnTo>
                  <a:pt x="461" y="3182"/>
                </a:lnTo>
                <a:lnTo>
                  <a:pt x="472" y="3156"/>
                </a:lnTo>
                <a:lnTo>
                  <a:pt x="481" y="3147"/>
                </a:lnTo>
                <a:lnTo>
                  <a:pt x="520" y="3160"/>
                </a:lnTo>
                <a:lnTo>
                  <a:pt x="558" y="3160"/>
                </a:lnTo>
                <a:lnTo>
                  <a:pt x="593" y="3149"/>
                </a:lnTo>
                <a:lnTo>
                  <a:pt x="626" y="3129"/>
                </a:lnTo>
                <a:lnTo>
                  <a:pt x="656" y="3102"/>
                </a:lnTo>
                <a:lnTo>
                  <a:pt x="681" y="3070"/>
                </a:lnTo>
                <a:lnTo>
                  <a:pt x="724" y="2996"/>
                </a:lnTo>
                <a:lnTo>
                  <a:pt x="751" y="2922"/>
                </a:lnTo>
                <a:lnTo>
                  <a:pt x="761" y="2863"/>
                </a:lnTo>
                <a:lnTo>
                  <a:pt x="760" y="2846"/>
                </a:lnTo>
                <a:lnTo>
                  <a:pt x="753" y="2806"/>
                </a:lnTo>
                <a:lnTo>
                  <a:pt x="733" y="2709"/>
                </a:lnTo>
                <a:lnTo>
                  <a:pt x="724" y="2619"/>
                </a:lnTo>
                <a:lnTo>
                  <a:pt x="727" y="2602"/>
                </a:lnTo>
                <a:lnTo>
                  <a:pt x="735" y="2584"/>
                </a:lnTo>
                <a:lnTo>
                  <a:pt x="748" y="2566"/>
                </a:lnTo>
                <a:lnTo>
                  <a:pt x="765" y="2549"/>
                </a:lnTo>
                <a:lnTo>
                  <a:pt x="810" y="2518"/>
                </a:lnTo>
                <a:lnTo>
                  <a:pt x="904" y="2460"/>
                </a:lnTo>
                <a:lnTo>
                  <a:pt x="943" y="2414"/>
                </a:lnTo>
                <a:lnTo>
                  <a:pt x="943" y="2406"/>
                </a:lnTo>
                <a:lnTo>
                  <a:pt x="946" y="2395"/>
                </a:lnTo>
                <a:lnTo>
                  <a:pt x="955" y="2368"/>
                </a:lnTo>
                <a:lnTo>
                  <a:pt x="978" y="2305"/>
                </a:lnTo>
                <a:lnTo>
                  <a:pt x="991" y="2257"/>
                </a:lnTo>
                <a:lnTo>
                  <a:pt x="967" y="2249"/>
                </a:lnTo>
                <a:lnTo>
                  <a:pt x="932" y="2237"/>
                </a:lnTo>
                <a:lnTo>
                  <a:pt x="913" y="2229"/>
                </a:lnTo>
                <a:lnTo>
                  <a:pt x="911" y="2226"/>
                </a:lnTo>
                <a:lnTo>
                  <a:pt x="910" y="2224"/>
                </a:lnTo>
                <a:lnTo>
                  <a:pt x="909" y="2221"/>
                </a:lnTo>
                <a:lnTo>
                  <a:pt x="909" y="2219"/>
                </a:lnTo>
                <a:lnTo>
                  <a:pt x="910" y="2216"/>
                </a:lnTo>
                <a:lnTo>
                  <a:pt x="912" y="2212"/>
                </a:lnTo>
                <a:lnTo>
                  <a:pt x="918" y="2204"/>
                </a:lnTo>
                <a:lnTo>
                  <a:pt x="941" y="2180"/>
                </a:lnTo>
                <a:lnTo>
                  <a:pt x="957" y="2163"/>
                </a:lnTo>
                <a:lnTo>
                  <a:pt x="956" y="2160"/>
                </a:lnTo>
                <a:lnTo>
                  <a:pt x="954" y="2156"/>
                </a:lnTo>
                <a:lnTo>
                  <a:pt x="950" y="2153"/>
                </a:lnTo>
                <a:lnTo>
                  <a:pt x="945" y="2150"/>
                </a:lnTo>
                <a:lnTo>
                  <a:pt x="933" y="2143"/>
                </a:lnTo>
                <a:lnTo>
                  <a:pt x="918" y="2138"/>
                </a:lnTo>
                <a:lnTo>
                  <a:pt x="882" y="2130"/>
                </a:lnTo>
                <a:lnTo>
                  <a:pt x="811" y="2122"/>
                </a:lnTo>
                <a:lnTo>
                  <a:pt x="794" y="2120"/>
                </a:lnTo>
                <a:lnTo>
                  <a:pt x="772" y="2109"/>
                </a:lnTo>
                <a:lnTo>
                  <a:pt x="757" y="2091"/>
                </a:lnTo>
                <a:lnTo>
                  <a:pt x="749" y="2067"/>
                </a:lnTo>
                <a:lnTo>
                  <a:pt x="744" y="2040"/>
                </a:lnTo>
                <a:lnTo>
                  <a:pt x="744" y="1977"/>
                </a:lnTo>
                <a:lnTo>
                  <a:pt x="749" y="1912"/>
                </a:lnTo>
                <a:lnTo>
                  <a:pt x="751" y="1853"/>
                </a:lnTo>
                <a:lnTo>
                  <a:pt x="744" y="1810"/>
                </a:lnTo>
                <a:lnTo>
                  <a:pt x="762" y="1776"/>
                </a:lnTo>
                <a:lnTo>
                  <a:pt x="830" y="1648"/>
                </a:lnTo>
                <a:lnTo>
                  <a:pt x="1022" y="1311"/>
                </a:lnTo>
                <a:lnTo>
                  <a:pt x="1108" y="1180"/>
                </a:lnTo>
                <a:lnTo>
                  <a:pt x="1140" y="1140"/>
                </a:lnTo>
                <a:lnTo>
                  <a:pt x="1152" y="1130"/>
                </a:lnTo>
                <a:lnTo>
                  <a:pt x="1157" y="1127"/>
                </a:lnTo>
                <a:lnTo>
                  <a:pt x="1162" y="1126"/>
                </a:lnTo>
                <a:lnTo>
                  <a:pt x="1164" y="1126"/>
                </a:lnTo>
                <a:lnTo>
                  <a:pt x="1166" y="1127"/>
                </a:lnTo>
                <a:lnTo>
                  <a:pt x="1167" y="1128"/>
                </a:lnTo>
                <a:lnTo>
                  <a:pt x="1168" y="1129"/>
                </a:lnTo>
                <a:lnTo>
                  <a:pt x="1169" y="1131"/>
                </a:lnTo>
                <a:lnTo>
                  <a:pt x="1170" y="1134"/>
                </a:lnTo>
                <a:lnTo>
                  <a:pt x="1170" y="1137"/>
                </a:lnTo>
                <a:lnTo>
                  <a:pt x="1171" y="1140"/>
                </a:lnTo>
                <a:lnTo>
                  <a:pt x="1159" y="1092"/>
                </a:lnTo>
                <a:lnTo>
                  <a:pt x="1146" y="1043"/>
                </a:lnTo>
                <a:lnTo>
                  <a:pt x="1153" y="1071"/>
                </a:lnTo>
                <a:lnTo>
                  <a:pt x="1169" y="1136"/>
                </a:lnTo>
                <a:lnTo>
                  <a:pt x="1171" y="1140"/>
                </a:lnTo>
              </a:path>
            </a:pathLst>
          </a:custGeom>
          <a:blipFill rotWithShape="0">
            <a:blip r:embed="rId20"/>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111"/>
          <p:cNvSpPr/>
          <p:nvPr/>
        </p:nvSpPr>
        <p:spPr>
          <a:xfrm>
            <a:off x="2465280" y="4010040"/>
            <a:ext cx="174600" cy="260280"/>
          </a:xfrm>
          <a:custGeom>
            <a:avLst/>
            <a:gdLst>
              <a:gd name="textAreaLeft" fmla="*/ 0 w 174600"/>
              <a:gd name="textAreaRight" fmla="*/ 174960 w 174600"/>
              <a:gd name="textAreaTop" fmla="*/ 0 h 260280"/>
              <a:gd name="textAreaBottom" fmla="*/ 260640 h 260280"/>
            </a:gdLst>
            <a:ahLst/>
            <a:rect l="textAreaLeft" t="textAreaTop" r="textAreaRight" b="textAreaBottom"/>
            <a:pathLst>
              <a:path w="218" h="328">
                <a:moveTo>
                  <a:pt x="115" y="0"/>
                </a:moveTo>
                <a:lnTo>
                  <a:pt x="115" y="4"/>
                </a:lnTo>
                <a:lnTo>
                  <a:pt x="123" y="32"/>
                </a:lnTo>
                <a:lnTo>
                  <a:pt x="147" y="126"/>
                </a:lnTo>
                <a:lnTo>
                  <a:pt x="166" y="197"/>
                </a:lnTo>
                <a:lnTo>
                  <a:pt x="167" y="200"/>
                </a:lnTo>
                <a:lnTo>
                  <a:pt x="167" y="203"/>
                </a:lnTo>
                <a:lnTo>
                  <a:pt x="169" y="205"/>
                </a:lnTo>
                <a:lnTo>
                  <a:pt x="172" y="208"/>
                </a:lnTo>
                <a:lnTo>
                  <a:pt x="180" y="214"/>
                </a:lnTo>
                <a:lnTo>
                  <a:pt x="201" y="235"/>
                </a:lnTo>
                <a:lnTo>
                  <a:pt x="218" y="260"/>
                </a:lnTo>
                <a:lnTo>
                  <a:pt x="217" y="262"/>
                </a:lnTo>
                <a:lnTo>
                  <a:pt x="216" y="269"/>
                </a:lnTo>
                <a:lnTo>
                  <a:pt x="213" y="297"/>
                </a:lnTo>
                <a:lnTo>
                  <a:pt x="211" y="317"/>
                </a:lnTo>
                <a:lnTo>
                  <a:pt x="211" y="318"/>
                </a:lnTo>
                <a:lnTo>
                  <a:pt x="208" y="318"/>
                </a:lnTo>
                <a:lnTo>
                  <a:pt x="201" y="317"/>
                </a:lnTo>
                <a:lnTo>
                  <a:pt x="183" y="313"/>
                </a:lnTo>
                <a:lnTo>
                  <a:pt x="135" y="305"/>
                </a:lnTo>
                <a:lnTo>
                  <a:pt x="108" y="301"/>
                </a:lnTo>
                <a:lnTo>
                  <a:pt x="106" y="302"/>
                </a:lnTo>
                <a:lnTo>
                  <a:pt x="91" y="306"/>
                </a:lnTo>
                <a:lnTo>
                  <a:pt x="39" y="318"/>
                </a:lnTo>
                <a:lnTo>
                  <a:pt x="1" y="328"/>
                </a:lnTo>
                <a:lnTo>
                  <a:pt x="0" y="328"/>
                </a:lnTo>
                <a:lnTo>
                  <a:pt x="2" y="322"/>
                </a:lnTo>
                <a:lnTo>
                  <a:pt x="17" y="277"/>
                </a:lnTo>
                <a:lnTo>
                  <a:pt x="71" y="125"/>
                </a:lnTo>
                <a:lnTo>
                  <a:pt x="112" y="7"/>
                </a:lnTo>
                <a:lnTo>
                  <a:pt x="1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112"/>
          <p:cNvSpPr/>
          <p:nvPr/>
        </p:nvSpPr>
        <p:spPr>
          <a:xfrm>
            <a:off x="2465280" y="4010040"/>
            <a:ext cx="174600" cy="260280"/>
          </a:xfrm>
          <a:custGeom>
            <a:avLst/>
            <a:gdLst>
              <a:gd name="textAreaLeft" fmla="*/ 0 w 174600"/>
              <a:gd name="textAreaRight" fmla="*/ 174960 w 174600"/>
              <a:gd name="textAreaTop" fmla="*/ 0 h 260280"/>
              <a:gd name="textAreaBottom" fmla="*/ 260640 h 260280"/>
            </a:gdLst>
            <a:ahLst/>
            <a:rect l="textAreaLeft" t="textAreaTop" r="textAreaRight" b="textAreaBottom"/>
            <a:pathLst>
              <a:path w="218" h="328">
                <a:moveTo>
                  <a:pt x="115" y="0"/>
                </a:moveTo>
                <a:lnTo>
                  <a:pt x="115" y="4"/>
                </a:lnTo>
                <a:lnTo>
                  <a:pt x="123" y="32"/>
                </a:lnTo>
                <a:lnTo>
                  <a:pt x="147" y="126"/>
                </a:lnTo>
                <a:lnTo>
                  <a:pt x="166" y="197"/>
                </a:lnTo>
                <a:lnTo>
                  <a:pt x="167" y="200"/>
                </a:lnTo>
                <a:lnTo>
                  <a:pt x="167" y="203"/>
                </a:lnTo>
                <a:lnTo>
                  <a:pt x="169" y="205"/>
                </a:lnTo>
                <a:lnTo>
                  <a:pt x="172" y="208"/>
                </a:lnTo>
                <a:lnTo>
                  <a:pt x="180" y="214"/>
                </a:lnTo>
                <a:lnTo>
                  <a:pt x="201" y="235"/>
                </a:lnTo>
                <a:lnTo>
                  <a:pt x="218" y="260"/>
                </a:lnTo>
                <a:lnTo>
                  <a:pt x="217" y="262"/>
                </a:lnTo>
                <a:lnTo>
                  <a:pt x="216" y="269"/>
                </a:lnTo>
                <a:lnTo>
                  <a:pt x="213" y="297"/>
                </a:lnTo>
                <a:lnTo>
                  <a:pt x="211" y="317"/>
                </a:lnTo>
                <a:lnTo>
                  <a:pt x="211" y="318"/>
                </a:lnTo>
                <a:lnTo>
                  <a:pt x="208" y="318"/>
                </a:lnTo>
                <a:lnTo>
                  <a:pt x="201" y="317"/>
                </a:lnTo>
                <a:lnTo>
                  <a:pt x="183" y="313"/>
                </a:lnTo>
                <a:lnTo>
                  <a:pt x="135" y="305"/>
                </a:lnTo>
                <a:lnTo>
                  <a:pt x="108" y="301"/>
                </a:lnTo>
                <a:lnTo>
                  <a:pt x="106" y="302"/>
                </a:lnTo>
                <a:lnTo>
                  <a:pt x="91" y="306"/>
                </a:lnTo>
                <a:lnTo>
                  <a:pt x="39" y="318"/>
                </a:lnTo>
                <a:lnTo>
                  <a:pt x="1" y="328"/>
                </a:lnTo>
                <a:lnTo>
                  <a:pt x="0" y="328"/>
                </a:lnTo>
                <a:lnTo>
                  <a:pt x="2" y="322"/>
                </a:lnTo>
                <a:lnTo>
                  <a:pt x="17" y="277"/>
                </a:lnTo>
                <a:lnTo>
                  <a:pt x="71" y="125"/>
                </a:lnTo>
                <a:lnTo>
                  <a:pt x="112" y="7"/>
                </a:lnTo>
                <a:lnTo>
                  <a:pt x="115" y="0"/>
                </a:lnTo>
              </a:path>
            </a:pathLst>
          </a:custGeom>
          <a:blipFill rotWithShape="0">
            <a:blip r:embed="rId21"/>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113"/>
          <p:cNvSpPr/>
          <p:nvPr/>
        </p:nvSpPr>
        <p:spPr>
          <a:xfrm>
            <a:off x="2111400" y="3849840"/>
            <a:ext cx="447480" cy="420480"/>
          </a:xfrm>
          <a:custGeom>
            <a:avLst/>
            <a:gdLst>
              <a:gd name="textAreaLeft" fmla="*/ 0 w 447480"/>
              <a:gd name="textAreaRight" fmla="*/ 447840 w 447480"/>
              <a:gd name="textAreaTop" fmla="*/ 0 h 420480"/>
              <a:gd name="textAreaBottom" fmla="*/ 420840 h 420480"/>
            </a:gdLst>
            <a:ahLst/>
            <a:rect l="textAreaLeft" t="textAreaTop" r="textAreaRight" b="textAreaBottom"/>
            <a:pathLst>
              <a:path w="563" h="528">
                <a:moveTo>
                  <a:pt x="0" y="66"/>
                </a:moveTo>
                <a:lnTo>
                  <a:pt x="6" y="78"/>
                </a:lnTo>
                <a:lnTo>
                  <a:pt x="21" y="95"/>
                </a:lnTo>
                <a:lnTo>
                  <a:pt x="37" y="104"/>
                </a:lnTo>
                <a:lnTo>
                  <a:pt x="54" y="111"/>
                </a:lnTo>
                <a:lnTo>
                  <a:pt x="71" y="115"/>
                </a:lnTo>
                <a:lnTo>
                  <a:pt x="87" y="121"/>
                </a:lnTo>
                <a:lnTo>
                  <a:pt x="96" y="125"/>
                </a:lnTo>
                <a:lnTo>
                  <a:pt x="102" y="135"/>
                </a:lnTo>
                <a:lnTo>
                  <a:pt x="125" y="164"/>
                </a:lnTo>
                <a:lnTo>
                  <a:pt x="142" y="185"/>
                </a:lnTo>
                <a:lnTo>
                  <a:pt x="143" y="186"/>
                </a:lnTo>
                <a:lnTo>
                  <a:pt x="151" y="195"/>
                </a:lnTo>
                <a:lnTo>
                  <a:pt x="165" y="211"/>
                </a:lnTo>
                <a:lnTo>
                  <a:pt x="193" y="236"/>
                </a:lnTo>
                <a:lnTo>
                  <a:pt x="234" y="261"/>
                </a:lnTo>
                <a:lnTo>
                  <a:pt x="249" y="270"/>
                </a:lnTo>
                <a:lnTo>
                  <a:pt x="249" y="274"/>
                </a:lnTo>
                <a:lnTo>
                  <a:pt x="249" y="284"/>
                </a:lnTo>
                <a:lnTo>
                  <a:pt x="253" y="307"/>
                </a:lnTo>
                <a:lnTo>
                  <a:pt x="254" y="329"/>
                </a:lnTo>
                <a:lnTo>
                  <a:pt x="255" y="332"/>
                </a:lnTo>
                <a:lnTo>
                  <a:pt x="269" y="339"/>
                </a:lnTo>
                <a:lnTo>
                  <a:pt x="287" y="352"/>
                </a:lnTo>
                <a:lnTo>
                  <a:pt x="298" y="364"/>
                </a:lnTo>
                <a:lnTo>
                  <a:pt x="305" y="377"/>
                </a:lnTo>
                <a:lnTo>
                  <a:pt x="332" y="404"/>
                </a:lnTo>
                <a:lnTo>
                  <a:pt x="345" y="411"/>
                </a:lnTo>
                <a:lnTo>
                  <a:pt x="359" y="419"/>
                </a:lnTo>
                <a:lnTo>
                  <a:pt x="385" y="435"/>
                </a:lnTo>
                <a:lnTo>
                  <a:pt x="425" y="465"/>
                </a:lnTo>
                <a:lnTo>
                  <a:pt x="438" y="487"/>
                </a:lnTo>
                <a:lnTo>
                  <a:pt x="446" y="513"/>
                </a:lnTo>
                <a:lnTo>
                  <a:pt x="447" y="528"/>
                </a:lnTo>
                <a:lnTo>
                  <a:pt x="449" y="522"/>
                </a:lnTo>
                <a:lnTo>
                  <a:pt x="464" y="477"/>
                </a:lnTo>
                <a:lnTo>
                  <a:pt x="519" y="323"/>
                </a:lnTo>
                <a:lnTo>
                  <a:pt x="559" y="205"/>
                </a:lnTo>
                <a:lnTo>
                  <a:pt x="563" y="198"/>
                </a:lnTo>
                <a:lnTo>
                  <a:pt x="558" y="195"/>
                </a:lnTo>
                <a:lnTo>
                  <a:pt x="549" y="187"/>
                </a:lnTo>
                <a:lnTo>
                  <a:pt x="526" y="175"/>
                </a:lnTo>
                <a:lnTo>
                  <a:pt x="498" y="168"/>
                </a:lnTo>
                <a:lnTo>
                  <a:pt x="491" y="167"/>
                </a:lnTo>
                <a:lnTo>
                  <a:pt x="491" y="166"/>
                </a:lnTo>
                <a:lnTo>
                  <a:pt x="493" y="155"/>
                </a:lnTo>
                <a:lnTo>
                  <a:pt x="500" y="119"/>
                </a:lnTo>
                <a:lnTo>
                  <a:pt x="506" y="91"/>
                </a:lnTo>
                <a:lnTo>
                  <a:pt x="507" y="89"/>
                </a:lnTo>
                <a:lnTo>
                  <a:pt x="502" y="88"/>
                </a:lnTo>
                <a:lnTo>
                  <a:pt x="479" y="77"/>
                </a:lnTo>
                <a:lnTo>
                  <a:pt x="395" y="40"/>
                </a:lnTo>
                <a:lnTo>
                  <a:pt x="332" y="13"/>
                </a:lnTo>
                <a:lnTo>
                  <a:pt x="329" y="11"/>
                </a:lnTo>
                <a:lnTo>
                  <a:pt x="327" y="12"/>
                </a:lnTo>
                <a:lnTo>
                  <a:pt x="313" y="14"/>
                </a:lnTo>
                <a:lnTo>
                  <a:pt x="268" y="23"/>
                </a:lnTo>
                <a:lnTo>
                  <a:pt x="232" y="30"/>
                </a:lnTo>
                <a:lnTo>
                  <a:pt x="231" y="30"/>
                </a:lnTo>
                <a:lnTo>
                  <a:pt x="229" y="30"/>
                </a:lnTo>
                <a:lnTo>
                  <a:pt x="217" y="26"/>
                </a:lnTo>
                <a:lnTo>
                  <a:pt x="176" y="12"/>
                </a:lnTo>
                <a:lnTo>
                  <a:pt x="145" y="1"/>
                </a:lnTo>
                <a:lnTo>
                  <a:pt x="144" y="0"/>
                </a:lnTo>
                <a:lnTo>
                  <a:pt x="141" y="2"/>
                </a:lnTo>
                <a:lnTo>
                  <a:pt x="121" y="11"/>
                </a:lnTo>
                <a:lnTo>
                  <a:pt x="53" y="41"/>
                </a:lnTo>
                <a:lnTo>
                  <a:pt x="2" y="65"/>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114"/>
          <p:cNvSpPr/>
          <p:nvPr/>
        </p:nvSpPr>
        <p:spPr>
          <a:xfrm>
            <a:off x="2111400" y="3849840"/>
            <a:ext cx="447480" cy="420480"/>
          </a:xfrm>
          <a:custGeom>
            <a:avLst/>
            <a:gdLst>
              <a:gd name="textAreaLeft" fmla="*/ 0 w 447480"/>
              <a:gd name="textAreaRight" fmla="*/ 447840 w 447480"/>
              <a:gd name="textAreaTop" fmla="*/ 0 h 420480"/>
              <a:gd name="textAreaBottom" fmla="*/ 420840 h 420480"/>
            </a:gdLst>
            <a:ahLst/>
            <a:rect l="textAreaLeft" t="textAreaTop" r="textAreaRight" b="textAreaBottom"/>
            <a:pathLst>
              <a:path w="563" h="528">
                <a:moveTo>
                  <a:pt x="0" y="66"/>
                </a:moveTo>
                <a:lnTo>
                  <a:pt x="6" y="78"/>
                </a:lnTo>
                <a:lnTo>
                  <a:pt x="21" y="95"/>
                </a:lnTo>
                <a:lnTo>
                  <a:pt x="37" y="104"/>
                </a:lnTo>
                <a:lnTo>
                  <a:pt x="54" y="111"/>
                </a:lnTo>
                <a:lnTo>
                  <a:pt x="71" y="115"/>
                </a:lnTo>
                <a:lnTo>
                  <a:pt x="87" y="121"/>
                </a:lnTo>
                <a:lnTo>
                  <a:pt x="96" y="125"/>
                </a:lnTo>
                <a:lnTo>
                  <a:pt x="102" y="135"/>
                </a:lnTo>
                <a:lnTo>
                  <a:pt x="125" y="164"/>
                </a:lnTo>
                <a:lnTo>
                  <a:pt x="142" y="185"/>
                </a:lnTo>
                <a:lnTo>
                  <a:pt x="143" y="186"/>
                </a:lnTo>
                <a:lnTo>
                  <a:pt x="151" y="195"/>
                </a:lnTo>
                <a:lnTo>
                  <a:pt x="165" y="211"/>
                </a:lnTo>
                <a:lnTo>
                  <a:pt x="193" y="236"/>
                </a:lnTo>
                <a:lnTo>
                  <a:pt x="234" y="261"/>
                </a:lnTo>
                <a:lnTo>
                  <a:pt x="249" y="270"/>
                </a:lnTo>
                <a:lnTo>
                  <a:pt x="249" y="274"/>
                </a:lnTo>
                <a:lnTo>
                  <a:pt x="249" y="284"/>
                </a:lnTo>
                <a:lnTo>
                  <a:pt x="253" y="307"/>
                </a:lnTo>
                <a:lnTo>
                  <a:pt x="254" y="329"/>
                </a:lnTo>
                <a:lnTo>
                  <a:pt x="255" y="332"/>
                </a:lnTo>
                <a:lnTo>
                  <a:pt x="269" y="339"/>
                </a:lnTo>
                <a:lnTo>
                  <a:pt x="287" y="352"/>
                </a:lnTo>
                <a:lnTo>
                  <a:pt x="298" y="364"/>
                </a:lnTo>
                <a:lnTo>
                  <a:pt x="305" y="377"/>
                </a:lnTo>
                <a:lnTo>
                  <a:pt x="332" y="404"/>
                </a:lnTo>
                <a:lnTo>
                  <a:pt x="345" y="411"/>
                </a:lnTo>
                <a:lnTo>
                  <a:pt x="359" y="419"/>
                </a:lnTo>
                <a:lnTo>
                  <a:pt x="385" y="435"/>
                </a:lnTo>
                <a:lnTo>
                  <a:pt x="425" y="465"/>
                </a:lnTo>
                <a:lnTo>
                  <a:pt x="438" y="487"/>
                </a:lnTo>
                <a:lnTo>
                  <a:pt x="446" y="513"/>
                </a:lnTo>
                <a:lnTo>
                  <a:pt x="447" y="528"/>
                </a:lnTo>
                <a:lnTo>
                  <a:pt x="449" y="522"/>
                </a:lnTo>
                <a:lnTo>
                  <a:pt x="464" y="477"/>
                </a:lnTo>
                <a:lnTo>
                  <a:pt x="519" y="323"/>
                </a:lnTo>
                <a:lnTo>
                  <a:pt x="559" y="205"/>
                </a:lnTo>
                <a:lnTo>
                  <a:pt x="563" y="198"/>
                </a:lnTo>
                <a:lnTo>
                  <a:pt x="558" y="195"/>
                </a:lnTo>
                <a:lnTo>
                  <a:pt x="549" y="187"/>
                </a:lnTo>
                <a:lnTo>
                  <a:pt x="526" y="175"/>
                </a:lnTo>
                <a:lnTo>
                  <a:pt x="498" y="168"/>
                </a:lnTo>
                <a:lnTo>
                  <a:pt x="491" y="167"/>
                </a:lnTo>
                <a:lnTo>
                  <a:pt x="491" y="166"/>
                </a:lnTo>
                <a:lnTo>
                  <a:pt x="493" y="155"/>
                </a:lnTo>
                <a:lnTo>
                  <a:pt x="500" y="119"/>
                </a:lnTo>
                <a:lnTo>
                  <a:pt x="506" y="91"/>
                </a:lnTo>
                <a:lnTo>
                  <a:pt x="507" y="89"/>
                </a:lnTo>
                <a:lnTo>
                  <a:pt x="502" y="88"/>
                </a:lnTo>
                <a:lnTo>
                  <a:pt x="479" y="77"/>
                </a:lnTo>
                <a:lnTo>
                  <a:pt x="395" y="40"/>
                </a:lnTo>
                <a:lnTo>
                  <a:pt x="332" y="13"/>
                </a:lnTo>
                <a:lnTo>
                  <a:pt x="329" y="11"/>
                </a:lnTo>
                <a:lnTo>
                  <a:pt x="327" y="12"/>
                </a:lnTo>
                <a:lnTo>
                  <a:pt x="313" y="14"/>
                </a:lnTo>
                <a:lnTo>
                  <a:pt x="268" y="23"/>
                </a:lnTo>
                <a:lnTo>
                  <a:pt x="232" y="30"/>
                </a:lnTo>
                <a:lnTo>
                  <a:pt x="231" y="30"/>
                </a:lnTo>
                <a:lnTo>
                  <a:pt x="229" y="30"/>
                </a:lnTo>
                <a:lnTo>
                  <a:pt x="217" y="26"/>
                </a:lnTo>
                <a:lnTo>
                  <a:pt x="176" y="12"/>
                </a:lnTo>
                <a:lnTo>
                  <a:pt x="145" y="1"/>
                </a:lnTo>
                <a:lnTo>
                  <a:pt x="144" y="0"/>
                </a:lnTo>
                <a:lnTo>
                  <a:pt x="141" y="2"/>
                </a:lnTo>
                <a:lnTo>
                  <a:pt x="121" y="11"/>
                </a:lnTo>
                <a:lnTo>
                  <a:pt x="53" y="41"/>
                </a:lnTo>
                <a:lnTo>
                  <a:pt x="2" y="65"/>
                </a:lnTo>
                <a:lnTo>
                  <a:pt x="0" y="66"/>
                </a:lnTo>
              </a:path>
            </a:pathLst>
          </a:custGeom>
          <a:blipFill rotWithShape="0">
            <a:blip r:embed="rId22"/>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115"/>
          <p:cNvSpPr/>
          <p:nvPr/>
        </p:nvSpPr>
        <p:spPr>
          <a:xfrm>
            <a:off x="4449600" y="5419800"/>
            <a:ext cx="1332000" cy="1315800"/>
          </a:xfrm>
          <a:custGeom>
            <a:avLst/>
            <a:gdLst>
              <a:gd name="textAreaLeft" fmla="*/ 0 w 1332000"/>
              <a:gd name="textAreaRight" fmla="*/ 1332360 w 1332000"/>
              <a:gd name="textAreaTop" fmla="*/ 0 h 1315800"/>
              <a:gd name="textAreaBottom" fmla="*/ 1316160 h 1315800"/>
            </a:gdLst>
            <a:ahLst/>
            <a:rect l="textAreaLeft" t="textAreaTop" r="textAreaRight" b="textAreaBottom"/>
            <a:pathLst>
              <a:path w="1678" h="1659">
                <a:moveTo>
                  <a:pt x="1623" y="1478"/>
                </a:moveTo>
                <a:lnTo>
                  <a:pt x="1624" y="1483"/>
                </a:lnTo>
                <a:lnTo>
                  <a:pt x="1626" y="1486"/>
                </a:lnTo>
                <a:lnTo>
                  <a:pt x="1629" y="1491"/>
                </a:lnTo>
                <a:lnTo>
                  <a:pt x="1634" y="1493"/>
                </a:lnTo>
                <a:lnTo>
                  <a:pt x="1642" y="1497"/>
                </a:lnTo>
                <a:lnTo>
                  <a:pt x="1652" y="1500"/>
                </a:lnTo>
                <a:lnTo>
                  <a:pt x="1660" y="1501"/>
                </a:lnTo>
                <a:lnTo>
                  <a:pt x="1669" y="1501"/>
                </a:lnTo>
                <a:lnTo>
                  <a:pt x="1673" y="1495"/>
                </a:lnTo>
                <a:lnTo>
                  <a:pt x="1677" y="1488"/>
                </a:lnTo>
                <a:lnTo>
                  <a:pt x="1678" y="1482"/>
                </a:lnTo>
                <a:lnTo>
                  <a:pt x="1678" y="1476"/>
                </a:lnTo>
                <a:lnTo>
                  <a:pt x="1677" y="1469"/>
                </a:lnTo>
                <a:lnTo>
                  <a:pt x="1673" y="1463"/>
                </a:lnTo>
                <a:lnTo>
                  <a:pt x="1665" y="1451"/>
                </a:lnTo>
                <a:lnTo>
                  <a:pt x="1652" y="1439"/>
                </a:lnTo>
                <a:lnTo>
                  <a:pt x="1636" y="1427"/>
                </a:lnTo>
                <a:lnTo>
                  <a:pt x="1626" y="1422"/>
                </a:lnTo>
                <a:lnTo>
                  <a:pt x="1614" y="1412"/>
                </a:lnTo>
                <a:lnTo>
                  <a:pt x="1609" y="1405"/>
                </a:lnTo>
                <a:lnTo>
                  <a:pt x="1608" y="1405"/>
                </a:lnTo>
                <a:lnTo>
                  <a:pt x="1608" y="1406"/>
                </a:lnTo>
                <a:lnTo>
                  <a:pt x="1608" y="1408"/>
                </a:lnTo>
                <a:lnTo>
                  <a:pt x="1608" y="1410"/>
                </a:lnTo>
                <a:lnTo>
                  <a:pt x="1610" y="1417"/>
                </a:lnTo>
                <a:lnTo>
                  <a:pt x="1617" y="1445"/>
                </a:lnTo>
                <a:lnTo>
                  <a:pt x="1623" y="1478"/>
                </a:lnTo>
                <a:lnTo>
                  <a:pt x="1623" y="1482"/>
                </a:lnTo>
                <a:lnTo>
                  <a:pt x="1624" y="1486"/>
                </a:lnTo>
                <a:lnTo>
                  <a:pt x="1624" y="1484"/>
                </a:lnTo>
                <a:lnTo>
                  <a:pt x="1623" y="1479"/>
                </a:lnTo>
                <a:lnTo>
                  <a:pt x="1623" y="1478"/>
                </a:lnTo>
                <a:close/>
                <a:moveTo>
                  <a:pt x="1238" y="826"/>
                </a:moveTo>
                <a:lnTo>
                  <a:pt x="1240" y="819"/>
                </a:lnTo>
                <a:lnTo>
                  <a:pt x="1243" y="812"/>
                </a:lnTo>
                <a:lnTo>
                  <a:pt x="1255" y="797"/>
                </a:lnTo>
                <a:lnTo>
                  <a:pt x="1268" y="788"/>
                </a:lnTo>
                <a:lnTo>
                  <a:pt x="1274" y="786"/>
                </a:lnTo>
                <a:lnTo>
                  <a:pt x="1278" y="786"/>
                </a:lnTo>
                <a:lnTo>
                  <a:pt x="1280" y="787"/>
                </a:lnTo>
                <a:lnTo>
                  <a:pt x="1282" y="789"/>
                </a:lnTo>
                <a:lnTo>
                  <a:pt x="1283" y="791"/>
                </a:lnTo>
                <a:lnTo>
                  <a:pt x="1285" y="794"/>
                </a:lnTo>
                <a:lnTo>
                  <a:pt x="1285" y="799"/>
                </a:lnTo>
                <a:lnTo>
                  <a:pt x="1285" y="810"/>
                </a:lnTo>
                <a:lnTo>
                  <a:pt x="1283" y="826"/>
                </a:lnTo>
                <a:lnTo>
                  <a:pt x="1279" y="841"/>
                </a:lnTo>
                <a:lnTo>
                  <a:pt x="1271" y="861"/>
                </a:lnTo>
                <a:lnTo>
                  <a:pt x="1267" y="868"/>
                </a:lnTo>
                <a:lnTo>
                  <a:pt x="1263" y="872"/>
                </a:lnTo>
                <a:lnTo>
                  <a:pt x="1260" y="873"/>
                </a:lnTo>
                <a:lnTo>
                  <a:pt x="1258" y="874"/>
                </a:lnTo>
                <a:lnTo>
                  <a:pt x="1256" y="874"/>
                </a:lnTo>
                <a:lnTo>
                  <a:pt x="1254" y="873"/>
                </a:lnTo>
                <a:lnTo>
                  <a:pt x="1253" y="872"/>
                </a:lnTo>
                <a:lnTo>
                  <a:pt x="1251" y="870"/>
                </a:lnTo>
                <a:lnTo>
                  <a:pt x="1249" y="867"/>
                </a:lnTo>
                <a:lnTo>
                  <a:pt x="1245" y="860"/>
                </a:lnTo>
                <a:lnTo>
                  <a:pt x="1242" y="849"/>
                </a:lnTo>
                <a:lnTo>
                  <a:pt x="1239" y="834"/>
                </a:lnTo>
                <a:lnTo>
                  <a:pt x="1238" y="826"/>
                </a:lnTo>
                <a:lnTo>
                  <a:pt x="1239" y="821"/>
                </a:lnTo>
                <a:lnTo>
                  <a:pt x="1240" y="815"/>
                </a:lnTo>
                <a:lnTo>
                  <a:pt x="1239" y="818"/>
                </a:lnTo>
                <a:lnTo>
                  <a:pt x="1238" y="826"/>
                </a:lnTo>
                <a:close/>
                <a:moveTo>
                  <a:pt x="1332" y="973"/>
                </a:moveTo>
                <a:lnTo>
                  <a:pt x="1325" y="973"/>
                </a:lnTo>
                <a:lnTo>
                  <a:pt x="1314" y="973"/>
                </a:lnTo>
                <a:lnTo>
                  <a:pt x="1311" y="974"/>
                </a:lnTo>
                <a:lnTo>
                  <a:pt x="1309" y="975"/>
                </a:lnTo>
                <a:lnTo>
                  <a:pt x="1307" y="976"/>
                </a:lnTo>
                <a:lnTo>
                  <a:pt x="1306" y="979"/>
                </a:lnTo>
                <a:lnTo>
                  <a:pt x="1306" y="982"/>
                </a:lnTo>
                <a:lnTo>
                  <a:pt x="1306" y="986"/>
                </a:lnTo>
                <a:lnTo>
                  <a:pt x="1308" y="999"/>
                </a:lnTo>
                <a:lnTo>
                  <a:pt x="1310" y="1008"/>
                </a:lnTo>
                <a:lnTo>
                  <a:pt x="1313" y="1008"/>
                </a:lnTo>
                <a:lnTo>
                  <a:pt x="1324" y="1006"/>
                </a:lnTo>
                <a:lnTo>
                  <a:pt x="1332" y="1005"/>
                </a:lnTo>
                <a:lnTo>
                  <a:pt x="1333" y="1004"/>
                </a:lnTo>
                <a:lnTo>
                  <a:pt x="1344" y="1002"/>
                </a:lnTo>
                <a:lnTo>
                  <a:pt x="1361" y="995"/>
                </a:lnTo>
                <a:lnTo>
                  <a:pt x="1366" y="992"/>
                </a:lnTo>
                <a:lnTo>
                  <a:pt x="1368" y="989"/>
                </a:lnTo>
                <a:lnTo>
                  <a:pt x="1369" y="987"/>
                </a:lnTo>
                <a:lnTo>
                  <a:pt x="1369" y="985"/>
                </a:lnTo>
                <a:lnTo>
                  <a:pt x="1368" y="983"/>
                </a:lnTo>
                <a:lnTo>
                  <a:pt x="1367" y="982"/>
                </a:lnTo>
                <a:lnTo>
                  <a:pt x="1366" y="981"/>
                </a:lnTo>
                <a:lnTo>
                  <a:pt x="1363" y="979"/>
                </a:lnTo>
                <a:lnTo>
                  <a:pt x="1358" y="977"/>
                </a:lnTo>
                <a:lnTo>
                  <a:pt x="1351" y="975"/>
                </a:lnTo>
                <a:lnTo>
                  <a:pt x="1332" y="973"/>
                </a:lnTo>
                <a:lnTo>
                  <a:pt x="1326" y="973"/>
                </a:lnTo>
                <a:lnTo>
                  <a:pt x="1319" y="973"/>
                </a:lnTo>
                <a:lnTo>
                  <a:pt x="1323" y="973"/>
                </a:lnTo>
                <a:lnTo>
                  <a:pt x="1331" y="973"/>
                </a:lnTo>
                <a:lnTo>
                  <a:pt x="1332" y="973"/>
                </a:lnTo>
                <a:close/>
                <a:moveTo>
                  <a:pt x="971" y="399"/>
                </a:moveTo>
                <a:lnTo>
                  <a:pt x="977" y="397"/>
                </a:lnTo>
                <a:lnTo>
                  <a:pt x="988" y="392"/>
                </a:lnTo>
                <a:lnTo>
                  <a:pt x="997" y="387"/>
                </a:lnTo>
                <a:lnTo>
                  <a:pt x="999" y="385"/>
                </a:lnTo>
                <a:lnTo>
                  <a:pt x="1007" y="397"/>
                </a:lnTo>
                <a:lnTo>
                  <a:pt x="1012" y="409"/>
                </a:lnTo>
                <a:lnTo>
                  <a:pt x="1013" y="417"/>
                </a:lnTo>
                <a:lnTo>
                  <a:pt x="1011" y="423"/>
                </a:lnTo>
                <a:lnTo>
                  <a:pt x="1007" y="428"/>
                </a:lnTo>
                <a:lnTo>
                  <a:pt x="1001" y="430"/>
                </a:lnTo>
                <a:lnTo>
                  <a:pt x="995" y="431"/>
                </a:lnTo>
                <a:lnTo>
                  <a:pt x="988" y="429"/>
                </a:lnTo>
                <a:lnTo>
                  <a:pt x="981" y="425"/>
                </a:lnTo>
                <a:lnTo>
                  <a:pt x="975" y="419"/>
                </a:lnTo>
                <a:lnTo>
                  <a:pt x="972" y="411"/>
                </a:lnTo>
                <a:lnTo>
                  <a:pt x="971" y="399"/>
                </a:lnTo>
                <a:lnTo>
                  <a:pt x="973" y="398"/>
                </a:lnTo>
                <a:lnTo>
                  <a:pt x="972" y="399"/>
                </a:lnTo>
                <a:lnTo>
                  <a:pt x="971" y="399"/>
                </a:lnTo>
                <a:close/>
                <a:moveTo>
                  <a:pt x="1055" y="444"/>
                </a:moveTo>
                <a:lnTo>
                  <a:pt x="1057" y="445"/>
                </a:lnTo>
                <a:lnTo>
                  <a:pt x="1059" y="446"/>
                </a:lnTo>
                <a:lnTo>
                  <a:pt x="1062" y="448"/>
                </a:lnTo>
                <a:lnTo>
                  <a:pt x="1066" y="452"/>
                </a:lnTo>
                <a:lnTo>
                  <a:pt x="1072" y="459"/>
                </a:lnTo>
                <a:lnTo>
                  <a:pt x="1073" y="461"/>
                </a:lnTo>
                <a:lnTo>
                  <a:pt x="1073" y="465"/>
                </a:lnTo>
                <a:lnTo>
                  <a:pt x="1074" y="472"/>
                </a:lnTo>
                <a:lnTo>
                  <a:pt x="1075" y="487"/>
                </a:lnTo>
                <a:lnTo>
                  <a:pt x="1074" y="501"/>
                </a:lnTo>
                <a:lnTo>
                  <a:pt x="1073" y="503"/>
                </a:lnTo>
                <a:lnTo>
                  <a:pt x="1063" y="525"/>
                </a:lnTo>
                <a:lnTo>
                  <a:pt x="1056" y="536"/>
                </a:lnTo>
                <a:lnTo>
                  <a:pt x="1052" y="539"/>
                </a:lnTo>
                <a:lnTo>
                  <a:pt x="1051" y="540"/>
                </a:lnTo>
                <a:lnTo>
                  <a:pt x="1050" y="540"/>
                </a:lnTo>
                <a:lnTo>
                  <a:pt x="1049" y="540"/>
                </a:lnTo>
                <a:lnTo>
                  <a:pt x="1047" y="539"/>
                </a:lnTo>
                <a:lnTo>
                  <a:pt x="1046" y="537"/>
                </a:lnTo>
                <a:lnTo>
                  <a:pt x="1046" y="536"/>
                </a:lnTo>
                <a:lnTo>
                  <a:pt x="1045" y="532"/>
                </a:lnTo>
                <a:lnTo>
                  <a:pt x="1044" y="521"/>
                </a:lnTo>
                <a:lnTo>
                  <a:pt x="1045" y="492"/>
                </a:lnTo>
                <a:lnTo>
                  <a:pt x="1048" y="464"/>
                </a:lnTo>
                <a:lnTo>
                  <a:pt x="1054" y="445"/>
                </a:lnTo>
                <a:lnTo>
                  <a:pt x="1055" y="444"/>
                </a:lnTo>
                <a:lnTo>
                  <a:pt x="1056" y="444"/>
                </a:lnTo>
                <a:lnTo>
                  <a:pt x="1057" y="444"/>
                </a:lnTo>
                <a:lnTo>
                  <a:pt x="1056" y="444"/>
                </a:lnTo>
                <a:lnTo>
                  <a:pt x="1055" y="444"/>
                </a:lnTo>
                <a:close/>
                <a:moveTo>
                  <a:pt x="1030" y="794"/>
                </a:moveTo>
                <a:lnTo>
                  <a:pt x="1043" y="794"/>
                </a:lnTo>
                <a:lnTo>
                  <a:pt x="1052" y="792"/>
                </a:lnTo>
                <a:lnTo>
                  <a:pt x="1055" y="791"/>
                </a:lnTo>
                <a:lnTo>
                  <a:pt x="1057" y="790"/>
                </a:lnTo>
                <a:lnTo>
                  <a:pt x="1058" y="788"/>
                </a:lnTo>
                <a:lnTo>
                  <a:pt x="1058" y="786"/>
                </a:lnTo>
                <a:lnTo>
                  <a:pt x="1058" y="783"/>
                </a:lnTo>
                <a:lnTo>
                  <a:pt x="1057" y="781"/>
                </a:lnTo>
                <a:lnTo>
                  <a:pt x="1055" y="779"/>
                </a:lnTo>
                <a:lnTo>
                  <a:pt x="1050" y="774"/>
                </a:lnTo>
                <a:lnTo>
                  <a:pt x="1040" y="764"/>
                </a:lnTo>
                <a:lnTo>
                  <a:pt x="1030" y="754"/>
                </a:lnTo>
                <a:lnTo>
                  <a:pt x="1028" y="747"/>
                </a:lnTo>
                <a:lnTo>
                  <a:pt x="1007" y="743"/>
                </a:lnTo>
                <a:lnTo>
                  <a:pt x="977" y="737"/>
                </a:lnTo>
                <a:lnTo>
                  <a:pt x="959" y="737"/>
                </a:lnTo>
                <a:lnTo>
                  <a:pt x="956" y="737"/>
                </a:lnTo>
                <a:lnTo>
                  <a:pt x="955" y="738"/>
                </a:lnTo>
                <a:lnTo>
                  <a:pt x="954" y="739"/>
                </a:lnTo>
                <a:lnTo>
                  <a:pt x="953" y="741"/>
                </a:lnTo>
                <a:lnTo>
                  <a:pt x="954" y="743"/>
                </a:lnTo>
                <a:lnTo>
                  <a:pt x="955" y="744"/>
                </a:lnTo>
                <a:lnTo>
                  <a:pt x="957" y="746"/>
                </a:lnTo>
                <a:lnTo>
                  <a:pt x="959" y="748"/>
                </a:lnTo>
                <a:lnTo>
                  <a:pt x="968" y="754"/>
                </a:lnTo>
                <a:lnTo>
                  <a:pt x="996" y="768"/>
                </a:lnTo>
                <a:lnTo>
                  <a:pt x="1001" y="769"/>
                </a:lnTo>
                <a:lnTo>
                  <a:pt x="1003" y="770"/>
                </a:lnTo>
                <a:lnTo>
                  <a:pt x="1005" y="772"/>
                </a:lnTo>
                <a:lnTo>
                  <a:pt x="1012" y="779"/>
                </a:lnTo>
                <a:lnTo>
                  <a:pt x="1026" y="794"/>
                </a:lnTo>
                <a:lnTo>
                  <a:pt x="1030" y="794"/>
                </a:lnTo>
                <a:lnTo>
                  <a:pt x="1043" y="795"/>
                </a:lnTo>
                <a:lnTo>
                  <a:pt x="1057" y="795"/>
                </a:lnTo>
                <a:lnTo>
                  <a:pt x="1049" y="795"/>
                </a:lnTo>
                <a:lnTo>
                  <a:pt x="1031" y="795"/>
                </a:lnTo>
                <a:lnTo>
                  <a:pt x="1030" y="794"/>
                </a:lnTo>
                <a:close/>
                <a:moveTo>
                  <a:pt x="704" y="738"/>
                </a:moveTo>
                <a:lnTo>
                  <a:pt x="706" y="740"/>
                </a:lnTo>
                <a:lnTo>
                  <a:pt x="723" y="751"/>
                </a:lnTo>
                <a:lnTo>
                  <a:pt x="783" y="788"/>
                </a:lnTo>
                <a:lnTo>
                  <a:pt x="829" y="816"/>
                </a:lnTo>
                <a:lnTo>
                  <a:pt x="833" y="817"/>
                </a:lnTo>
                <a:lnTo>
                  <a:pt x="839" y="818"/>
                </a:lnTo>
                <a:lnTo>
                  <a:pt x="852" y="818"/>
                </a:lnTo>
                <a:lnTo>
                  <a:pt x="873" y="818"/>
                </a:lnTo>
                <a:lnTo>
                  <a:pt x="897" y="821"/>
                </a:lnTo>
                <a:lnTo>
                  <a:pt x="904" y="821"/>
                </a:lnTo>
                <a:lnTo>
                  <a:pt x="910" y="824"/>
                </a:lnTo>
                <a:lnTo>
                  <a:pt x="915" y="828"/>
                </a:lnTo>
                <a:lnTo>
                  <a:pt x="921" y="834"/>
                </a:lnTo>
                <a:lnTo>
                  <a:pt x="930" y="851"/>
                </a:lnTo>
                <a:lnTo>
                  <a:pt x="946" y="884"/>
                </a:lnTo>
                <a:lnTo>
                  <a:pt x="952" y="898"/>
                </a:lnTo>
                <a:lnTo>
                  <a:pt x="972" y="927"/>
                </a:lnTo>
                <a:lnTo>
                  <a:pt x="991" y="964"/>
                </a:lnTo>
                <a:lnTo>
                  <a:pt x="992" y="969"/>
                </a:lnTo>
                <a:lnTo>
                  <a:pt x="991" y="973"/>
                </a:lnTo>
                <a:lnTo>
                  <a:pt x="991" y="975"/>
                </a:lnTo>
                <a:lnTo>
                  <a:pt x="990" y="976"/>
                </a:lnTo>
                <a:lnTo>
                  <a:pt x="989" y="977"/>
                </a:lnTo>
                <a:lnTo>
                  <a:pt x="986" y="978"/>
                </a:lnTo>
                <a:lnTo>
                  <a:pt x="985" y="978"/>
                </a:lnTo>
                <a:lnTo>
                  <a:pt x="981" y="977"/>
                </a:lnTo>
                <a:lnTo>
                  <a:pt x="975" y="975"/>
                </a:lnTo>
                <a:lnTo>
                  <a:pt x="964" y="968"/>
                </a:lnTo>
                <a:lnTo>
                  <a:pt x="953" y="959"/>
                </a:lnTo>
                <a:lnTo>
                  <a:pt x="929" y="931"/>
                </a:lnTo>
                <a:lnTo>
                  <a:pt x="917" y="907"/>
                </a:lnTo>
                <a:lnTo>
                  <a:pt x="915" y="905"/>
                </a:lnTo>
                <a:lnTo>
                  <a:pt x="910" y="897"/>
                </a:lnTo>
                <a:lnTo>
                  <a:pt x="896" y="875"/>
                </a:lnTo>
                <a:lnTo>
                  <a:pt x="887" y="867"/>
                </a:lnTo>
                <a:lnTo>
                  <a:pt x="881" y="862"/>
                </a:lnTo>
                <a:lnTo>
                  <a:pt x="879" y="861"/>
                </a:lnTo>
                <a:lnTo>
                  <a:pt x="869" y="861"/>
                </a:lnTo>
                <a:lnTo>
                  <a:pt x="855" y="859"/>
                </a:lnTo>
                <a:lnTo>
                  <a:pt x="822" y="848"/>
                </a:lnTo>
                <a:lnTo>
                  <a:pt x="754" y="819"/>
                </a:lnTo>
                <a:lnTo>
                  <a:pt x="738" y="810"/>
                </a:lnTo>
                <a:lnTo>
                  <a:pt x="733" y="808"/>
                </a:lnTo>
                <a:lnTo>
                  <a:pt x="718" y="798"/>
                </a:lnTo>
                <a:lnTo>
                  <a:pt x="689" y="769"/>
                </a:lnTo>
                <a:lnTo>
                  <a:pt x="686" y="762"/>
                </a:lnTo>
                <a:lnTo>
                  <a:pt x="685" y="755"/>
                </a:lnTo>
                <a:lnTo>
                  <a:pt x="687" y="748"/>
                </a:lnTo>
                <a:lnTo>
                  <a:pt x="693" y="743"/>
                </a:lnTo>
                <a:lnTo>
                  <a:pt x="704" y="738"/>
                </a:lnTo>
                <a:close/>
                <a:moveTo>
                  <a:pt x="1044" y="996"/>
                </a:moveTo>
                <a:lnTo>
                  <a:pt x="1047" y="994"/>
                </a:lnTo>
                <a:lnTo>
                  <a:pt x="1060" y="986"/>
                </a:lnTo>
                <a:lnTo>
                  <a:pt x="1070" y="980"/>
                </a:lnTo>
                <a:lnTo>
                  <a:pt x="1071" y="979"/>
                </a:lnTo>
                <a:lnTo>
                  <a:pt x="1072" y="995"/>
                </a:lnTo>
                <a:lnTo>
                  <a:pt x="1071" y="1022"/>
                </a:lnTo>
                <a:lnTo>
                  <a:pt x="1064" y="1041"/>
                </a:lnTo>
                <a:lnTo>
                  <a:pt x="1061" y="1046"/>
                </a:lnTo>
                <a:lnTo>
                  <a:pt x="1059" y="1047"/>
                </a:lnTo>
                <a:lnTo>
                  <a:pt x="1057" y="1048"/>
                </a:lnTo>
                <a:lnTo>
                  <a:pt x="1055" y="1047"/>
                </a:lnTo>
                <a:lnTo>
                  <a:pt x="1052" y="1046"/>
                </a:lnTo>
                <a:lnTo>
                  <a:pt x="1050" y="1044"/>
                </a:lnTo>
                <a:lnTo>
                  <a:pt x="1049" y="1041"/>
                </a:lnTo>
                <a:lnTo>
                  <a:pt x="1047" y="1036"/>
                </a:lnTo>
                <a:lnTo>
                  <a:pt x="1045" y="1024"/>
                </a:lnTo>
                <a:lnTo>
                  <a:pt x="1044" y="1008"/>
                </a:lnTo>
                <a:lnTo>
                  <a:pt x="1044" y="996"/>
                </a:lnTo>
                <a:close/>
                <a:moveTo>
                  <a:pt x="1134" y="1015"/>
                </a:moveTo>
                <a:lnTo>
                  <a:pt x="1135" y="1015"/>
                </a:lnTo>
                <a:lnTo>
                  <a:pt x="1140" y="1015"/>
                </a:lnTo>
                <a:lnTo>
                  <a:pt x="1144" y="1015"/>
                </a:lnTo>
                <a:lnTo>
                  <a:pt x="1145" y="1015"/>
                </a:lnTo>
                <a:lnTo>
                  <a:pt x="1150" y="1016"/>
                </a:lnTo>
                <a:lnTo>
                  <a:pt x="1152" y="1018"/>
                </a:lnTo>
                <a:lnTo>
                  <a:pt x="1154" y="1020"/>
                </a:lnTo>
                <a:lnTo>
                  <a:pt x="1156" y="1023"/>
                </a:lnTo>
                <a:lnTo>
                  <a:pt x="1156" y="1027"/>
                </a:lnTo>
                <a:lnTo>
                  <a:pt x="1158" y="1028"/>
                </a:lnTo>
                <a:lnTo>
                  <a:pt x="1158" y="1029"/>
                </a:lnTo>
                <a:lnTo>
                  <a:pt x="1158" y="1032"/>
                </a:lnTo>
                <a:lnTo>
                  <a:pt x="1158" y="1033"/>
                </a:lnTo>
                <a:lnTo>
                  <a:pt x="1156" y="1039"/>
                </a:lnTo>
                <a:lnTo>
                  <a:pt x="1154" y="1041"/>
                </a:lnTo>
                <a:lnTo>
                  <a:pt x="1152" y="1043"/>
                </a:lnTo>
                <a:lnTo>
                  <a:pt x="1150" y="1045"/>
                </a:lnTo>
                <a:lnTo>
                  <a:pt x="1146" y="1045"/>
                </a:lnTo>
                <a:lnTo>
                  <a:pt x="1145" y="1045"/>
                </a:lnTo>
                <a:lnTo>
                  <a:pt x="1144" y="1045"/>
                </a:lnTo>
                <a:lnTo>
                  <a:pt x="1143" y="1045"/>
                </a:lnTo>
                <a:lnTo>
                  <a:pt x="1137" y="1045"/>
                </a:lnTo>
                <a:lnTo>
                  <a:pt x="1134" y="1045"/>
                </a:lnTo>
                <a:lnTo>
                  <a:pt x="1132" y="1045"/>
                </a:lnTo>
                <a:lnTo>
                  <a:pt x="1127" y="1045"/>
                </a:lnTo>
                <a:lnTo>
                  <a:pt x="1125" y="1043"/>
                </a:lnTo>
                <a:lnTo>
                  <a:pt x="1123" y="1041"/>
                </a:lnTo>
                <a:lnTo>
                  <a:pt x="1121" y="1039"/>
                </a:lnTo>
                <a:lnTo>
                  <a:pt x="1121" y="1035"/>
                </a:lnTo>
                <a:lnTo>
                  <a:pt x="1121" y="1033"/>
                </a:lnTo>
                <a:lnTo>
                  <a:pt x="1121" y="1030"/>
                </a:lnTo>
                <a:lnTo>
                  <a:pt x="1121" y="1029"/>
                </a:lnTo>
                <a:lnTo>
                  <a:pt x="1121" y="1028"/>
                </a:lnTo>
                <a:lnTo>
                  <a:pt x="1121" y="1027"/>
                </a:lnTo>
                <a:lnTo>
                  <a:pt x="1121" y="1023"/>
                </a:lnTo>
                <a:lnTo>
                  <a:pt x="1123" y="1020"/>
                </a:lnTo>
                <a:lnTo>
                  <a:pt x="1125" y="1018"/>
                </a:lnTo>
                <a:lnTo>
                  <a:pt x="1127" y="1016"/>
                </a:lnTo>
                <a:lnTo>
                  <a:pt x="1132" y="1016"/>
                </a:lnTo>
                <a:lnTo>
                  <a:pt x="1134" y="1015"/>
                </a:lnTo>
                <a:close/>
                <a:moveTo>
                  <a:pt x="1226" y="1157"/>
                </a:moveTo>
                <a:lnTo>
                  <a:pt x="1226" y="1153"/>
                </a:lnTo>
                <a:lnTo>
                  <a:pt x="1226" y="1146"/>
                </a:lnTo>
                <a:lnTo>
                  <a:pt x="1232" y="1135"/>
                </a:lnTo>
                <a:lnTo>
                  <a:pt x="1239" y="1126"/>
                </a:lnTo>
                <a:lnTo>
                  <a:pt x="1242" y="1123"/>
                </a:lnTo>
                <a:lnTo>
                  <a:pt x="1245" y="1127"/>
                </a:lnTo>
                <a:lnTo>
                  <a:pt x="1256" y="1137"/>
                </a:lnTo>
                <a:lnTo>
                  <a:pt x="1265" y="1144"/>
                </a:lnTo>
                <a:lnTo>
                  <a:pt x="1266" y="1144"/>
                </a:lnTo>
                <a:lnTo>
                  <a:pt x="1262" y="1156"/>
                </a:lnTo>
                <a:lnTo>
                  <a:pt x="1257" y="1174"/>
                </a:lnTo>
                <a:lnTo>
                  <a:pt x="1255" y="1184"/>
                </a:lnTo>
                <a:lnTo>
                  <a:pt x="1254" y="1185"/>
                </a:lnTo>
                <a:lnTo>
                  <a:pt x="1253" y="1186"/>
                </a:lnTo>
                <a:lnTo>
                  <a:pt x="1252" y="1186"/>
                </a:lnTo>
                <a:lnTo>
                  <a:pt x="1251" y="1186"/>
                </a:lnTo>
                <a:lnTo>
                  <a:pt x="1250" y="1185"/>
                </a:lnTo>
                <a:lnTo>
                  <a:pt x="1248" y="1184"/>
                </a:lnTo>
                <a:lnTo>
                  <a:pt x="1244" y="1180"/>
                </a:lnTo>
                <a:lnTo>
                  <a:pt x="1232" y="1166"/>
                </a:lnTo>
                <a:lnTo>
                  <a:pt x="1226" y="1157"/>
                </a:lnTo>
                <a:lnTo>
                  <a:pt x="1226" y="1154"/>
                </a:lnTo>
                <a:lnTo>
                  <a:pt x="1226" y="1150"/>
                </a:lnTo>
                <a:lnTo>
                  <a:pt x="1226" y="1152"/>
                </a:lnTo>
                <a:lnTo>
                  <a:pt x="1226" y="1157"/>
                </a:lnTo>
                <a:close/>
                <a:moveTo>
                  <a:pt x="1191" y="1174"/>
                </a:moveTo>
                <a:lnTo>
                  <a:pt x="1182" y="1186"/>
                </a:lnTo>
                <a:lnTo>
                  <a:pt x="1178" y="1188"/>
                </a:lnTo>
                <a:lnTo>
                  <a:pt x="1177" y="1188"/>
                </a:lnTo>
                <a:lnTo>
                  <a:pt x="1175" y="1188"/>
                </a:lnTo>
                <a:lnTo>
                  <a:pt x="1174" y="1188"/>
                </a:lnTo>
                <a:lnTo>
                  <a:pt x="1171" y="1187"/>
                </a:lnTo>
                <a:lnTo>
                  <a:pt x="1170" y="1186"/>
                </a:lnTo>
                <a:lnTo>
                  <a:pt x="1169" y="1184"/>
                </a:lnTo>
                <a:lnTo>
                  <a:pt x="1167" y="1181"/>
                </a:lnTo>
                <a:lnTo>
                  <a:pt x="1165" y="1176"/>
                </a:lnTo>
                <a:lnTo>
                  <a:pt x="1163" y="1165"/>
                </a:lnTo>
                <a:lnTo>
                  <a:pt x="1162" y="1141"/>
                </a:lnTo>
                <a:lnTo>
                  <a:pt x="1165" y="1133"/>
                </a:lnTo>
                <a:lnTo>
                  <a:pt x="1166" y="1132"/>
                </a:lnTo>
                <a:lnTo>
                  <a:pt x="1167" y="1131"/>
                </a:lnTo>
                <a:lnTo>
                  <a:pt x="1168" y="1131"/>
                </a:lnTo>
                <a:lnTo>
                  <a:pt x="1169" y="1131"/>
                </a:lnTo>
                <a:lnTo>
                  <a:pt x="1171" y="1132"/>
                </a:lnTo>
                <a:lnTo>
                  <a:pt x="1173" y="1134"/>
                </a:lnTo>
                <a:lnTo>
                  <a:pt x="1176" y="1138"/>
                </a:lnTo>
                <a:lnTo>
                  <a:pt x="1179" y="1145"/>
                </a:lnTo>
                <a:lnTo>
                  <a:pt x="1188" y="1167"/>
                </a:lnTo>
                <a:lnTo>
                  <a:pt x="1191" y="1174"/>
                </a:lnTo>
                <a:lnTo>
                  <a:pt x="1182" y="1188"/>
                </a:lnTo>
                <a:lnTo>
                  <a:pt x="1175" y="1201"/>
                </a:lnTo>
                <a:lnTo>
                  <a:pt x="1179" y="1194"/>
                </a:lnTo>
                <a:lnTo>
                  <a:pt x="1190" y="1176"/>
                </a:lnTo>
                <a:lnTo>
                  <a:pt x="1191" y="1174"/>
                </a:lnTo>
                <a:close/>
                <a:moveTo>
                  <a:pt x="1027" y="1269"/>
                </a:moveTo>
                <a:lnTo>
                  <a:pt x="1041" y="1262"/>
                </a:lnTo>
                <a:lnTo>
                  <a:pt x="1059" y="1251"/>
                </a:lnTo>
                <a:lnTo>
                  <a:pt x="1067" y="1247"/>
                </a:lnTo>
                <a:lnTo>
                  <a:pt x="1070" y="1247"/>
                </a:lnTo>
                <a:lnTo>
                  <a:pt x="1071" y="1247"/>
                </a:lnTo>
                <a:lnTo>
                  <a:pt x="1072" y="1248"/>
                </a:lnTo>
                <a:lnTo>
                  <a:pt x="1073" y="1249"/>
                </a:lnTo>
                <a:lnTo>
                  <a:pt x="1075" y="1254"/>
                </a:lnTo>
                <a:lnTo>
                  <a:pt x="1080" y="1263"/>
                </a:lnTo>
                <a:lnTo>
                  <a:pt x="1086" y="1269"/>
                </a:lnTo>
                <a:lnTo>
                  <a:pt x="1081" y="1277"/>
                </a:lnTo>
                <a:lnTo>
                  <a:pt x="1077" y="1282"/>
                </a:lnTo>
                <a:lnTo>
                  <a:pt x="1072" y="1284"/>
                </a:lnTo>
                <a:lnTo>
                  <a:pt x="1066" y="1285"/>
                </a:lnTo>
                <a:lnTo>
                  <a:pt x="1061" y="1285"/>
                </a:lnTo>
                <a:lnTo>
                  <a:pt x="1056" y="1284"/>
                </a:lnTo>
                <a:lnTo>
                  <a:pt x="1044" y="1279"/>
                </a:lnTo>
                <a:lnTo>
                  <a:pt x="1034" y="1274"/>
                </a:lnTo>
                <a:lnTo>
                  <a:pt x="1027" y="1269"/>
                </a:lnTo>
                <a:lnTo>
                  <a:pt x="1040" y="1262"/>
                </a:lnTo>
                <a:lnTo>
                  <a:pt x="1052" y="1255"/>
                </a:lnTo>
                <a:lnTo>
                  <a:pt x="1045" y="1259"/>
                </a:lnTo>
                <a:lnTo>
                  <a:pt x="1028" y="1269"/>
                </a:lnTo>
                <a:lnTo>
                  <a:pt x="1027" y="1269"/>
                </a:lnTo>
                <a:close/>
                <a:moveTo>
                  <a:pt x="8" y="765"/>
                </a:moveTo>
                <a:lnTo>
                  <a:pt x="7" y="766"/>
                </a:lnTo>
                <a:lnTo>
                  <a:pt x="6" y="764"/>
                </a:lnTo>
                <a:lnTo>
                  <a:pt x="5" y="760"/>
                </a:lnTo>
                <a:lnTo>
                  <a:pt x="3" y="746"/>
                </a:lnTo>
                <a:lnTo>
                  <a:pt x="0" y="710"/>
                </a:lnTo>
                <a:lnTo>
                  <a:pt x="0" y="692"/>
                </a:lnTo>
                <a:lnTo>
                  <a:pt x="4" y="689"/>
                </a:lnTo>
                <a:lnTo>
                  <a:pt x="7" y="687"/>
                </a:lnTo>
                <a:lnTo>
                  <a:pt x="11" y="685"/>
                </a:lnTo>
                <a:lnTo>
                  <a:pt x="14" y="685"/>
                </a:lnTo>
                <a:lnTo>
                  <a:pt x="19" y="685"/>
                </a:lnTo>
                <a:lnTo>
                  <a:pt x="23" y="685"/>
                </a:lnTo>
                <a:lnTo>
                  <a:pt x="30" y="689"/>
                </a:lnTo>
                <a:lnTo>
                  <a:pt x="38" y="693"/>
                </a:lnTo>
                <a:lnTo>
                  <a:pt x="44" y="699"/>
                </a:lnTo>
                <a:lnTo>
                  <a:pt x="43" y="701"/>
                </a:lnTo>
                <a:lnTo>
                  <a:pt x="38" y="710"/>
                </a:lnTo>
                <a:lnTo>
                  <a:pt x="21" y="741"/>
                </a:lnTo>
                <a:lnTo>
                  <a:pt x="8" y="764"/>
                </a:lnTo>
                <a:lnTo>
                  <a:pt x="8" y="765"/>
                </a:lnTo>
                <a:lnTo>
                  <a:pt x="7" y="767"/>
                </a:lnTo>
                <a:lnTo>
                  <a:pt x="6" y="769"/>
                </a:lnTo>
                <a:lnTo>
                  <a:pt x="7" y="766"/>
                </a:lnTo>
                <a:lnTo>
                  <a:pt x="8" y="765"/>
                </a:lnTo>
                <a:close/>
                <a:moveTo>
                  <a:pt x="216" y="859"/>
                </a:moveTo>
                <a:lnTo>
                  <a:pt x="219" y="860"/>
                </a:lnTo>
                <a:lnTo>
                  <a:pt x="229" y="862"/>
                </a:lnTo>
                <a:lnTo>
                  <a:pt x="236" y="863"/>
                </a:lnTo>
                <a:lnTo>
                  <a:pt x="237" y="863"/>
                </a:lnTo>
                <a:lnTo>
                  <a:pt x="236" y="870"/>
                </a:lnTo>
                <a:lnTo>
                  <a:pt x="233" y="888"/>
                </a:lnTo>
                <a:lnTo>
                  <a:pt x="232" y="903"/>
                </a:lnTo>
                <a:lnTo>
                  <a:pt x="216" y="909"/>
                </a:lnTo>
                <a:lnTo>
                  <a:pt x="198" y="914"/>
                </a:lnTo>
                <a:lnTo>
                  <a:pt x="197" y="914"/>
                </a:lnTo>
                <a:lnTo>
                  <a:pt x="196" y="914"/>
                </a:lnTo>
                <a:lnTo>
                  <a:pt x="196" y="912"/>
                </a:lnTo>
                <a:lnTo>
                  <a:pt x="197" y="910"/>
                </a:lnTo>
                <a:lnTo>
                  <a:pt x="198" y="907"/>
                </a:lnTo>
                <a:lnTo>
                  <a:pt x="201" y="902"/>
                </a:lnTo>
                <a:lnTo>
                  <a:pt x="211" y="887"/>
                </a:lnTo>
                <a:lnTo>
                  <a:pt x="216" y="869"/>
                </a:lnTo>
                <a:lnTo>
                  <a:pt x="216" y="859"/>
                </a:lnTo>
                <a:close/>
                <a:moveTo>
                  <a:pt x="222" y="1031"/>
                </a:moveTo>
                <a:lnTo>
                  <a:pt x="229" y="1034"/>
                </a:lnTo>
                <a:lnTo>
                  <a:pt x="248" y="1043"/>
                </a:lnTo>
                <a:lnTo>
                  <a:pt x="264" y="1049"/>
                </a:lnTo>
                <a:lnTo>
                  <a:pt x="265" y="1049"/>
                </a:lnTo>
                <a:lnTo>
                  <a:pt x="264" y="1050"/>
                </a:lnTo>
                <a:lnTo>
                  <a:pt x="260" y="1054"/>
                </a:lnTo>
                <a:lnTo>
                  <a:pt x="244" y="1067"/>
                </a:lnTo>
                <a:lnTo>
                  <a:pt x="231" y="1077"/>
                </a:lnTo>
                <a:lnTo>
                  <a:pt x="228" y="1078"/>
                </a:lnTo>
                <a:lnTo>
                  <a:pt x="221" y="1079"/>
                </a:lnTo>
                <a:lnTo>
                  <a:pt x="207" y="1079"/>
                </a:lnTo>
                <a:lnTo>
                  <a:pt x="197" y="1078"/>
                </a:lnTo>
                <a:lnTo>
                  <a:pt x="195" y="1077"/>
                </a:lnTo>
                <a:lnTo>
                  <a:pt x="196" y="1076"/>
                </a:lnTo>
                <a:lnTo>
                  <a:pt x="198" y="1073"/>
                </a:lnTo>
                <a:lnTo>
                  <a:pt x="203" y="1064"/>
                </a:lnTo>
                <a:lnTo>
                  <a:pt x="217" y="1042"/>
                </a:lnTo>
                <a:lnTo>
                  <a:pt x="222" y="1031"/>
                </a:lnTo>
                <a:close/>
                <a:moveTo>
                  <a:pt x="237" y="1188"/>
                </a:moveTo>
                <a:lnTo>
                  <a:pt x="264" y="1187"/>
                </a:lnTo>
                <a:lnTo>
                  <a:pt x="287" y="1190"/>
                </a:lnTo>
                <a:lnTo>
                  <a:pt x="303" y="1195"/>
                </a:lnTo>
                <a:lnTo>
                  <a:pt x="315" y="1203"/>
                </a:lnTo>
                <a:lnTo>
                  <a:pt x="320" y="1211"/>
                </a:lnTo>
                <a:lnTo>
                  <a:pt x="321" y="1215"/>
                </a:lnTo>
                <a:lnTo>
                  <a:pt x="321" y="1219"/>
                </a:lnTo>
                <a:lnTo>
                  <a:pt x="320" y="1223"/>
                </a:lnTo>
                <a:lnTo>
                  <a:pt x="317" y="1225"/>
                </a:lnTo>
                <a:lnTo>
                  <a:pt x="314" y="1227"/>
                </a:lnTo>
                <a:lnTo>
                  <a:pt x="309" y="1229"/>
                </a:lnTo>
                <a:lnTo>
                  <a:pt x="304" y="1229"/>
                </a:lnTo>
                <a:lnTo>
                  <a:pt x="296" y="1228"/>
                </a:lnTo>
                <a:lnTo>
                  <a:pt x="289" y="1225"/>
                </a:lnTo>
                <a:lnTo>
                  <a:pt x="271" y="1215"/>
                </a:lnTo>
                <a:lnTo>
                  <a:pt x="249" y="1199"/>
                </a:lnTo>
                <a:lnTo>
                  <a:pt x="237" y="1188"/>
                </a:lnTo>
                <a:lnTo>
                  <a:pt x="263" y="1185"/>
                </a:lnTo>
                <a:lnTo>
                  <a:pt x="289" y="1182"/>
                </a:lnTo>
                <a:lnTo>
                  <a:pt x="274" y="1184"/>
                </a:lnTo>
                <a:lnTo>
                  <a:pt x="240" y="1188"/>
                </a:lnTo>
                <a:lnTo>
                  <a:pt x="237" y="1188"/>
                </a:lnTo>
                <a:close/>
                <a:moveTo>
                  <a:pt x="945" y="1519"/>
                </a:moveTo>
                <a:lnTo>
                  <a:pt x="957" y="1520"/>
                </a:lnTo>
                <a:lnTo>
                  <a:pt x="984" y="1520"/>
                </a:lnTo>
                <a:lnTo>
                  <a:pt x="1032" y="1529"/>
                </a:lnTo>
                <a:lnTo>
                  <a:pt x="1041" y="1533"/>
                </a:lnTo>
                <a:lnTo>
                  <a:pt x="1048" y="1539"/>
                </a:lnTo>
                <a:lnTo>
                  <a:pt x="1052" y="1547"/>
                </a:lnTo>
                <a:lnTo>
                  <a:pt x="1055" y="1556"/>
                </a:lnTo>
                <a:lnTo>
                  <a:pt x="1054" y="1566"/>
                </a:lnTo>
                <a:lnTo>
                  <a:pt x="1072" y="1566"/>
                </a:lnTo>
                <a:lnTo>
                  <a:pt x="1118" y="1563"/>
                </a:lnTo>
                <a:lnTo>
                  <a:pt x="1229" y="1545"/>
                </a:lnTo>
                <a:lnTo>
                  <a:pt x="1332" y="1514"/>
                </a:lnTo>
                <a:lnTo>
                  <a:pt x="1353" y="1504"/>
                </a:lnTo>
                <a:lnTo>
                  <a:pt x="1353" y="1506"/>
                </a:lnTo>
                <a:lnTo>
                  <a:pt x="1353" y="1514"/>
                </a:lnTo>
                <a:lnTo>
                  <a:pt x="1355" y="1544"/>
                </a:lnTo>
                <a:lnTo>
                  <a:pt x="1356" y="1565"/>
                </a:lnTo>
                <a:lnTo>
                  <a:pt x="1357" y="1566"/>
                </a:lnTo>
                <a:lnTo>
                  <a:pt x="1361" y="1562"/>
                </a:lnTo>
                <a:lnTo>
                  <a:pt x="1369" y="1557"/>
                </a:lnTo>
                <a:lnTo>
                  <a:pt x="1389" y="1547"/>
                </a:lnTo>
                <a:lnTo>
                  <a:pt x="1440" y="1526"/>
                </a:lnTo>
                <a:lnTo>
                  <a:pt x="1485" y="1516"/>
                </a:lnTo>
                <a:lnTo>
                  <a:pt x="1489" y="1526"/>
                </a:lnTo>
                <a:lnTo>
                  <a:pt x="1490" y="1536"/>
                </a:lnTo>
                <a:lnTo>
                  <a:pt x="1488" y="1546"/>
                </a:lnTo>
                <a:lnTo>
                  <a:pt x="1482" y="1554"/>
                </a:lnTo>
                <a:lnTo>
                  <a:pt x="1474" y="1562"/>
                </a:lnTo>
                <a:lnTo>
                  <a:pt x="1463" y="1570"/>
                </a:lnTo>
                <a:lnTo>
                  <a:pt x="1433" y="1584"/>
                </a:lnTo>
                <a:lnTo>
                  <a:pt x="1398" y="1596"/>
                </a:lnTo>
                <a:lnTo>
                  <a:pt x="1312" y="1618"/>
                </a:lnTo>
                <a:lnTo>
                  <a:pt x="1150" y="1651"/>
                </a:lnTo>
                <a:lnTo>
                  <a:pt x="1125" y="1659"/>
                </a:lnTo>
                <a:lnTo>
                  <a:pt x="1111" y="1647"/>
                </a:lnTo>
                <a:lnTo>
                  <a:pt x="1096" y="1639"/>
                </a:lnTo>
                <a:lnTo>
                  <a:pt x="1078" y="1633"/>
                </a:lnTo>
                <a:lnTo>
                  <a:pt x="1036" y="1626"/>
                </a:lnTo>
                <a:lnTo>
                  <a:pt x="990" y="1623"/>
                </a:lnTo>
                <a:lnTo>
                  <a:pt x="907" y="1615"/>
                </a:lnTo>
                <a:lnTo>
                  <a:pt x="890" y="1609"/>
                </a:lnTo>
                <a:lnTo>
                  <a:pt x="892" y="1608"/>
                </a:lnTo>
                <a:lnTo>
                  <a:pt x="898" y="1595"/>
                </a:lnTo>
                <a:lnTo>
                  <a:pt x="924" y="1554"/>
                </a:lnTo>
                <a:lnTo>
                  <a:pt x="943" y="1521"/>
                </a:lnTo>
                <a:lnTo>
                  <a:pt x="945" y="1519"/>
                </a:lnTo>
                <a:lnTo>
                  <a:pt x="955" y="1519"/>
                </a:lnTo>
                <a:lnTo>
                  <a:pt x="966" y="1519"/>
                </a:lnTo>
                <a:lnTo>
                  <a:pt x="959" y="1519"/>
                </a:lnTo>
                <a:lnTo>
                  <a:pt x="945" y="1519"/>
                </a:lnTo>
                <a:close/>
                <a:moveTo>
                  <a:pt x="725" y="991"/>
                </a:moveTo>
                <a:lnTo>
                  <a:pt x="725" y="993"/>
                </a:lnTo>
                <a:lnTo>
                  <a:pt x="725" y="1006"/>
                </a:lnTo>
                <a:lnTo>
                  <a:pt x="726" y="1046"/>
                </a:lnTo>
                <a:lnTo>
                  <a:pt x="726" y="1078"/>
                </a:lnTo>
                <a:lnTo>
                  <a:pt x="727" y="1079"/>
                </a:lnTo>
                <a:lnTo>
                  <a:pt x="727" y="1082"/>
                </a:lnTo>
                <a:lnTo>
                  <a:pt x="730" y="1085"/>
                </a:lnTo>
                <a:lnTo>
                  <a:pt x="734" y="1088"/>
                </a:lnTo>
                <a:lnTo>
                  <a:pt x="738" y="1091"/>
                </a:lnTo>
                <a:lnTo>
                  <a:pt x="751" y="1096"/>
                </a:lnTo>
                <a:lnTo>
                  <a:pt x="783" y="1107"/>
                </a:lnTo>
                <a:lnTo>
                  <a:pt x="817" y="1120"/>
                </a:lnTo>
                <a:lnTo>
                  <a:pt x="842" y="1134"/>
                </a:lnTo>
                <a:lnTo>
                  <a:pt x="849" y="1143"/>
                </a:lnTo>
                <a:lnTo>
                  <a:pt x="850" y="1147"/>
                </a:lnTo>
                <a:lnTo>
                  <a:pt x="850" y="1152"/>
                </a:lnTo>
                <a:lnTo>
                  <a:pt x="848" y="1157"/>
                </a:lnTo>
                <a:lnTo>
                  <a:pt x="844" y="1162"/>
                </a:lnTo>
                <a:lnTo>
                  <a:pt x="839" y="1168"/>
                </a:lnTo>
                <a:lnTo>
                  <a:pt x="833" y="1171"/>
                </a:lnTo>
                <a:lnTo>
                  <a:pt x="825" y="1172"/>
                </a:lnTo>
                <a:lnTo>
                  <a:pt x="818" y="1172"/>
                </a:lnTo>
                <a:lnTo>
                  <a:pt x="809" y="1171"/>
                </a:lnTo>
                <a:lnTo>
                  <a:pt x="790" y="1165"/>
                </a:lnTo>
                <a:lnTo>
                  <a:pt x="767" y="1155"/>
                </a:lnTo>
                <a:lnTo>
                  <a:pt x="744" y="1143"/>
                </a:lnTo>
                <a:lnTo>
                  <a:pt x="731" y="1136"/>
                </a:lnTo>
                <a:lnTo>
                  <a:pt x="718" y="1131"/>
                </a:lnTo>
                <a:lnTo>
                  <a:pt x="699" y="1123"/>
                </a:lnTo>
                <a:lnTo>
                  <a:pt x="677" y="1119"/>
                </a:lnTo>
                <a:lnTo>
                  <a:pt x="669" y="1120"/>
                </a:lnTo>
                <a:lnTo>
                  <a:pt x="667" y="1120"/>
                </a:lnTo>
                <a:lnTo>
                  <a:pt x="671" y="1128"/>
                </a:lnTo>
                <a:lnTo>
                  <a:pt x="675" y="1140"/>
                </a:lnTo>
                <a:lnTo>
                  <a:pt x="676" y="1150"/>
                </a:lnTo>
                <a:lnTo>
                  <a:pt x="675" y="1160"/>
                </a:lnTo>
                <a:lnTo>
                  <a:pt x="672" y="1182"/>
                </a:lnTo>
                <a:lnTo>
                  <a:pt x="672" y="1189"/>
                </a:lnTo>
                <a:lnTo>
                  <a:pt x="676" y="1193"/>
                </a:lnTo>
                <a:lnTo>
                  <a:pt x="690" y="1203"/>
                </a:lnTo>
                <a:lnTo>
                  <a:pt x="726" y="1228"/>
                </a:lnTo>
                <a:lnTo>
                  <a:pt x="762" y="1261"/>
                </a:lnTo>
                <a:lnTo>
                  <a:pt x="769" y="1270"/>
                </a:lnTo>
                <a:lnTo>
                  <a:pt x="775" y="1281"/>
                </a:lnTo>
                <a:lnTo>
                  <a:pt x="781" y="1300"/>
                </a:lnTo>
                <a:lnTo>
                  <a:pt x="784" y="1317"/>
                </a:lnTo>
                <a:lnTo>
                  <a:pt x="785" y="1346"/>
                </a:lnTo>
                <a:lnTo>
                  <a:pt x="789" y="1360"/>
                </a:lnTo>
                <a:lnTo>
                  <a:pt x="783" y="1361"/>
                </a:lnTo>
                <a:lnTo>
                  <a:pt x="778" y="1360"/>
                </a:lnTo>
                <a:lnTo>
                  <a:pt x="771" y="1357"/>
                </a:lnTo>
                <a:lnTo>
                  <a:pt x="765" y="1352"/>
                </a:lnTo>
                <a:lnTo>
                  <a:pt x="750" y="1339"/>
                </a:lnTo>
                <a:lnTo>
                  <a:pt x="716" y="1307"/>
                </a:lnTo>
                <a:lnTo>
                  <a:pt x="699" y="1292"/>
                </a:lnTo>
                <a:lnTo>
                  <a:pt x="690" y="1288"/>
                </a:lnTo>
                <a:lnTo>
                  <a:pt x="687" y="1288"/>
                </a:lnTo>
                <a:lnTo>
                  <a:pt x="685" y="1288"/>
                </a:lnTo>
                <a:lnTo>
                  <a:pt x="682" y="1290"/>
                </a:lnTo>
                <a:lnTo>
                  <a:pt x="680" y="1292"/>
                </a:lnTo>
                <a:lnTo>
                  <a:pt x="679" y="1295"/>
                </a:lnTo>
                <a:lnTo>
                  <a:pt x="678" y="1299"/>
                </a:lnTo>
                <a:lnTo>
                  <a:pt x="676" y="1308"/>
                </a:lnTo>
                <a:lnTo>
                  <a:pt x="674" y="1331"/>
                </a:lnTo>
                <a:lnTo>
                  <a:pt x="671" y="1352"/>
                </a:lnTo>
                <a:lnTo>
                  <a:pt x="667" y="1361"/>
                </a:lnTo>
                <a:lnTo>
                  <a:pt x="664" y="1368"/>
                </a:lnTo>
                <a:lnTo>
                  <a:pt x="661" y="1370"/>
                </a:lnTo>
                <a:lnTo>
                  <a:pt x="659" y="1371"/>
                </a:lnTo>
                <a:lnTo>
                  <a:pt x="657" y="1369"/>
                </a:lnTo>
                <a:lnTo>
                  <a:pt x="644" y="1354"/>
                </a:lnTo>
                <a:lnTo>
                  <a:pt x="601" y="1299"/>
                </a:lnTo>
                <a:lnTo>
                  <a:pt x="568" y="1257"/>
                </a:lnTo>
                <a:lnTo>
                  <a:pt x="567" y="1254"/>
                </a:lnTo>
                <a:lnTo>
                  <a:pt x="564" y="1255"/>
                </a:lnTo>
                <a:lnTo>
                  <a:pt x="563" y="1256"/>
                </a:lnTo>
                <a:lnTo>
                  <a:pt x="562" y="1260"/>
                </a:lnTo>
                <a:lnTo>
                  <a:pt x="561" y="1265"/>
                </a:lnTo>
                <a:lnTo>
                  <a:pt x="560" y="1276"/>
                </a:lnTo>
                <a:lnTo>
                  <a:pt x="556" y="1302"/>
                </a:lnTo>
                <a:lnTo>
                  <a:pt x="546" y="1328"/>
                </a:lnTo>
                <a:lnTo>
                  <a:pt x="538" y="1337"/>
                </a:lnTo>
                <a:lnTo>
                  <a:pt x="526" y="1341"/>
                </a:lnTo>
                <a:lnTo>
                  <a:pt x="510" y="1340"/>
                </a:lnTo>
                <a:lnTo>
                  <a:pt x="489" y="1333"/>
                </a:lnTo>
                <a:lnTo>
                  <a:pt x="465" y="1317"/>
                </a:lnTo>
                <a:lnTo>
                  <a:pt x="465" y="1316"/>
                </a:lnTo>
                <a:lnTo>
                  <a:pt x="460" y="1306"/>
                </a:lnTo>
                <a:lnTo>
                  <a:pt x="457" y="1282"/>
                </a:lnTo>
                <a:lnTo>
                  <a:pt x="456" y="1254"/>
                </a:lnTo>
                <a:lnTo>
                  <a:pt x="453" y="1197"/>
                </a:lnTo>
                <a:lnTo>
                  <a:pt x="445" y="1162"/>
                </a:lnTo>
                <a:lnTo>
                  <a:pt x="439" y="1154"/>
                </a:lnTo>
                <a:lnTo>
                  <a:pt x="430" y="1148"/>
                </a:lnTo>
                <a:lnTo>
                  <a:pt x="420" y="1143"/>
                </a:lnTo>
                <a:lnTo>
                  <a:pt x="408" y="1139"/>
                </a:lnTo>
                <a:lnTo>
                  <a:pt x="381" y="1133"/>
                </a:lnTo>
                <a:lnTo>
                  <a:pt x="353" y="1124"/>
                </a:lnTo>
                <a:lnTo>
                  <a:pt x="327" y="1109"/>
                </a:lnTo>
                <a:lnTo>
                  <a:pt x="309" y="1084"/>
                </a:lnTo>
                <a:lnTo>
                  <a:pt x="316" y="1034"/>
                </a:lnTo>
                <a:lnTo>
                  <a:pt x="335" y="1003"/>
                </a:lnTo>
                <a:lnTo>
                  <a:pt x="364" y="986"/>
                </a:lnTo>
                <a:lnTo>
                  <a:pt x="400" y="981"/>
                </a:lnTo>
                <a:lnTo>
                  <a:pt x="442" y="984"/>
                </a:lnTo>
                <a:lnTo>
                  <a:pt x="530" y="999"/>
                </a:lnTo>
                <a:lnTo>
                  <a:pt x="608" y="1005"/>
                </a:lnTo>
                <a:lnTo>
                  <a:pt x="638" y="994"/>
                </a:lnTo>
                <a:lnTo>
                  <a:pt x="650" y="985"/>
                </a:lnTo>
                <a:lnTo>
                  <a:pt x="659" y="972"/>
                </a:lnTo>
                <a:lnTo>
                  <a:pt x="664" y="955"/>
                </a:lnTo>
                <a:lnTo>
                  <a:pt x="666" y="932"/>
                </a:lnTo>
                <a:lnTo>
                  <a:pt x="635" y="928"/>
                </a:lnTo>
                <a:lnTo>
                  <a:pt x="600" y="928"/>
                </a:lnTo>
                <a:lnTo>
                  <a:pt x="523" y="935"/>
                </a:lnTo>
                <a:lnTo>
                  <a:pt x="366" y="944"/>
                </a:lnTo>
                <a:lnTo>
                  <a:pt x="265" y="876"/>
                </a:lnTo>
                <a:lnTo>
                  <a:pt x="269" y="864"/>
                </a:lnTo>
                <a:lnTo>
                  <a:pt x="279" y="847"/>
                </a:lnTo>
                <a:lnTo>
                  <a:pt x="292" y="836"/>
                </a:lnTo>
                <a:lnTo>
                  <a:pt x="306" y="830"/>
                </a:lnTo>
                <a:lnTo>
                  <a:pt x="320" y="827"/>
                </a:lnTo>
                <a:lnTo>
                  <a:pt x="331" y="823"/>
                </a:lnTo>
                <a:lnTo>
                  <a:pt x="336" y="819"/>
                </a:lnTo>
                <a:lnTo>
                  <a:pt x="319" y="816"/>
                </a:lnTo>
                <a:lnTo>
                  <a:pt x="284" y="809"/>
                </a:lnTo>
                <a:lnTo>
                  <a:pt x="211" y="793"/>
                </a:lnTo>
                <a:lnTo>
                  <a:pt x="139" y="756"/>
                </a:lnTo>
                <a:lnTo>
                  <a:pt x="123" y="741"/>
                </a:lnTo>
                <a:lnTo>
                  <a:pt x="119" y="733"/>
                </a:lnTo>
                <a:lnTo>
                  <a:pt x="113" y="706"/>
                </a:lnTo>
                <a:lnTo>
                  <a:pt x="109" y="686"/>
                </a:lnTo>
                <a:lnTo>
                  <a:pt x="109" y="684"/>
                </a:lnTo>
                <a:lnTo>
                  <a:pt x="115" y="682"/>
                </a:lnTo>
                <a:lnTo>
                  <a:pt x="138" y="672"/>
                </a:lnTo>
                <a:lnTo>
                  <a:pt x="155" y="665"/>
                </a:lnTo>
                <a:lnTo>
                  <a:pt x="156" y="664"/>
                </a:lnTo>
                <a:lnTo>
                  <a:pt x="155" y="661"/>
                </a:lnTo>
                <a:lnTo>
                  <a:pt x="153" y="653"/>
                </a:lnTo>
                <a:lnTo>
                  <a:pt x="148" y="645"/>
                </a:lnTo>
                <a:lnTo>
                  <a:pt x="141" y="630"/>
                </a:lnTo>
                <a:lnTo>
                  <a:pt x="139" y="617"/>
                </a:lnTo>
                <a:lnTo>
                  <a:pt x="140" y="613"/>
                </a:lnTo>
                <a:lnTo>
                  <a:pt x="148" y="582"/>
                </a:lnTo>
                <a:lnTo>
                  <a:pt x="181" y="473"/>
                </a:lnTo>
                <a:lnTo>
                  <a:pt x="204" y="390"/>
                </a:lnTo>
                <a:lnTo>
                  <a:pt x="206" y="385"/>
                </a:lnTo>
                <a:lnTo>
                  <a:pt x="212" y="385"/>
                </a:lnTo>
                <a:lnTo>
                  <a:pt x="230" y="384"/>
                </a:lnTo>
                <a:lnTo>
                  <a:pt x="285" y="378"/>
                </a:lnTo>
                <a:lnTo>
                  <a:pt x="343" y="363"/>
                </a:lnTo>
                <a:lnTo>
                  <a:pt x="355" y="357"/>
                </a:lnTo>
                <a:lnTo>
                  <a:pt x="356" y="356"/>
                </a:lnTo>
                <a:lnTo>
                  <a:pt x="368" y="347"/>
                </a:lnTo>
                <a:lnTo>
                  <a:pt x="408" y="317"/>
                </a:lnTo>
                <a:lnTo>
                  <a:pt x="438" y="294"/>
                </a:lnTo>
                <a:lnTo>
                  <a:pt x="440" y="292"/>
                </a:lnTo>
                <a:lnTo>
                  <a:pt x="441" y="292"/>
                </a:lnTo>
                <a:lnTo>
                  <a:pt x="449" y="292"/>
                </a:lnTo>
                <a:lnTo>
                  <a:pt x="478" y="289"/>
                </a:lnTo>
                <a:lnTo>
                  <a:pt x="499" y="288"/>
                </a:lnTo>
                <a:lnTo>
                  <a:pt x="501" y="287"/>
                </a:lnTo>
                <a:lnTo>
                  <a:pt x="504" y="285"/>
                </a:lnTo>
                <a:lnTo>
                  <a:pt x="533" y="269"/>
                </a:lnTo>
                <a:lnTo>
                  <a:pt x="632" y="214"/>
                </a:lnTo>
                <a:lnTo>
                  <a:pt x="708" y="171"/>
                </a:lnTo>
                <a:lnTo>
                  <a:pt x="712" y="168"/>
                </a:lnTo>
                <a:lnTo>
                  <a:pt x="714" y="168"/>
                </a:lnTo>
                <a:lnTo>
                  <a:pt x="725" y="168"/>
                </a:lnTo>
                <a:lnTo>
                  <a:pt x="765" y="168"/>
                </a:lnTo>
                <a:lnTo>
                  <a:pt x="795" y="168"/>
                </a:lnTo>
                <a:lnTo>
                  <a:pt x="797" y="167"/>
                </a:lnTo>
                <a:lnTo>
                  <a:pt x="798" y="167"/>
                </a:lnTo>
                <a:lnTo>
                  <a:pt x="813" y="161"/>
                </a:lnTo>
                <a:lnTo>
                  <a:pt x="865" y="143"/>
                </a:lnTo>
                <a:lnTo>
                  <a:pt x="903" y="128"/>
                </a:lnTo>
                <a:lnTo>
                  <a:pt x="906" y="127"/>
                </a:lnTo>
                <a:lnTo>
                  <a:pt x="919" y="132"/>
                </a:lnTo>
                <a:lnTo>
                  <a:pt x="961" y="145"/>
                </a:lnTo>
                <a:lnTo>
                  <a:pt x="993" y="154"/>
                </a:lnTo>
                <a:lnTo>
                  <a:pt x="996" y="154"/>
                </a:lnTo>
                <a:lnTo>
                  <a:pt x="1013" y="147"/>
                </a:lnTo>
                <a:lnTo>
                  <a:pt x="1067" y="122"/>
                </a:lnTo>
                <a:lnTo>
                  <a:pt x="1108" y="104"/>
                </a:lnTo>
                <a:lnTo>
                  <a:pt x="1111" y="103"/>
                </a:lnTo>
                <a:lnTo>
                  <a:pt x="1106" y="99"/>
                </a:lnTo>
                <a:lnTo>
                  <a:pt x="1090" y="85"/>
                </a:lnTo>
                <a:lnTo>
                  <a:pt x="1078" y="73"/>
                </a:lnTo>
                <a:lnTo>
                  <a:pt x="1078" y="72"/>
                </a:lnTo>
                <a:lnTo>
                  <a:pt x="1079" y="71"/>
                </a:lnTo>
                <a:lnTo>
                  <a:pt x="1093" y="61"/>
                </a:lnTo>
                <a:lnTo>
                  <a:pt x="1141" y="28"/>
                </a:lnTo>
                <a:lnTo>
                  <a:pt x="1178" y="2"/>
                </a:lnTo>
                <a:lnTo>
                  <a:pt x="1180" y="0"/>
                </a:lnTo>
                <a:lnTo>
                  <a:pt x="1181" y="2"/>
                </a:lnTo>
                <a:lnTo>
                  <a:pt x="1192" y="13"/>
                </a:lnTo>
                <a:lnTo>
                  <a:pt x="1228" y="53"/>
                </a:lnTo>
                <a:lnTo>
                  <a:pt x="1256" y="83"/>
                </a:lnTo>
                <a:lnTo>
                  <a:pt x="1258" y="84"/>
                </a:lnTo>
                <a:lnTo>
                  <a:pt x="1257" y="86"/>
                </a:lnTo>
                <a:lnTo>
                  <a:pt x="1250" y="98"/>
                </a:lnTo>
                <a:lnTo>
                  <a:pt x="1224" y="139"/>
                </a:lnTo>
                <a:lnTo>
                  <a:pt x="1205" y="170"/>
                </a:lnTo>
                <a:lnTo>
                  <a:pt x="1205" y="171"/>
                </a:lnTo>
                <a:lnTo>
                  <a:pt x="1204" y="178"/>
                </a:lnTo>
                <a:lnTo>
                  <a:pt x="1203" y="190"/>
                </a:lnTo>
                <a:lnTo>
                  <a:pt x="1199" y="198"/>
                </a:lnTo>
                <a:lnTo>
                  <a:pt x="1194" y="217"/>
                </a:lnTo>
                <a:lnTo>
                  <a:pt x="1195" y="240"/>
                </a:lnTo>
                <a:lnTo>
                  <a:pt x="1185" y="237"/>
                </a:lnTo>
                <a:lnTo>
                  <a:pt x="1173" y="236"/>
                </a:lnTo>
                <a:lnTo>
                  <a:pt x="1144" y="235"/>
                </a:lnTo>
                <a:lnTo>
                  <a:pt x="1111" y="238"/>
                </a:lnTo>
                <a:lnTo>
                  <a:pt x="1049" y="252"/>
                </a:lnTo>
                <a:lnTo>
                  <a:pt x="1028" y="259"/>
                </a:lnTo>
                <a:lnTo>
                  <a:pt x="1022" y="258"/>
                </a:lnTo>
                <a:lnTo>
                  <a:pt x="1016" y="258"/>
                </a:lnTo>
                <a:lnTo>
                  <a:pt x="1002" y="259"/>
                </a:lnTo>
                <a:lnTo>
                  <a:pt x="985" y="262"/>
                </a:lnTo>
                <a:lnTo>
                  <a:pt x="949" y="271"/>
                </a:lnTo>
                <a:lnTo>
                  <a:pt x="934" y="276"/>
                </a:lnTo>
                <a:lnTo>
                  <a:pt x="927" y="279"/>
                </a:lnTo>
                <a:lnTo>
                  <a:pt x="914" y="286"/>
                </a:lnTo>
                <a:lnTo>
                  <a:pt x="903" y="296"/>
                </a:lnTo>
                <a:lnTo>
                  <a:pt x="893" y="311"/>
                </a:lnTo>
                <a:lnTo>
                  <a:pt x="884" y="330"/>
                </a:lnTo>
                <a:lnTo>
                  <a:pt x="875" y="357"/>
                </a:lnTo>
                <a:lnTo>
                  <a:pt x="871" y="372"/>
                </a:lnTo>
                <a:lnTo>
                  <a:pt x="866" y="387"/>
                </a:lnTo>
                <a:lnTo>
                  <a:pt x="860" y="395"/>
                </a:lnTo>
                <a:lnTo>
                  <a:pt x="858" y="398"/>
                </a:lnTo>
                <a:lnTo>
                  <a:pt x="855" y="399"/>
                </a:lnTo>
                <a:lnTo>
                  <a:pt x="852" y="399"/>
                </a:lnTo>
                <a:lnTo>
                  <a:pt x="849" y="399"/>
                </a:lnTo>
                <a:lnTo>
                  <a:pt x="845" y="398"/>
                </a:lnTo>
                <a:lnTo>
                  <a:pt x="842" y="396"/>
                </a:lnTo>
                <a:lnTo>
                  <a:pt x="837" y="392"/>
                </a:lnTo>
                <a:lnTo>
                  <a:pt x="824" y="380"/>
                </a:lnTo>
                <a:lnTo>
                  <a:pt x="803" y="375"/>
                </a:lnTo>
                <a:lnTo>
                  <a:pt x="800" y="378"/>
                </a:lnTo>
                <a:lnTo>
                  <a:pt x="800" y="381"/>
                </a:lnTo>
                <a:lnTo>
                  <a:pt x="801" y="385"/>
                </a:lnTo>
                <a:lnTo>
                  <a:pt x="804" y="388"/>
                </a:lnTo>
                <a:lnTo>
                  <a:pt x="807" y="392"/>
                </a:lnTo>
                <a:lnTo>
                  <a:pt x="814" y="400"/>
                </a:lnTo>
                <a:lnTo>
                  <a:pt x="837" y="420"/>
                </a:lnTo>
                <a:lnTo>
                  <a:pt x="860" y="440"/>
                </a:lnTo>
                <a:lnTo>
                  <a:pt x="877" y="461"/>
                </a:lnTo>
                <a:lnTo>
                  <a:pt x="880" y="471"/>
                </a:lnTo>
                <a:lnTo>
                  <a:pt x="878" y="480"/>
                </a:lnTo>
                <a:lnTo>
                  <a:pt x="875" y="484"/>
                </a:lnTo>
                <a:lnTo>
                  <a:pt x="872" y="483"/>
                </a:lnTo>
                <a:lnTo>
                  <a:pt x="858" y="475"/>
                </a:lnTo>
                <a:lnTo>
                  <a:pt x="807" y="444"/>
                </a:lnTo>
                <a:lnTo>
                  <a:pt x="768" y="422"/>
                </a:lnTo>
                <a:lnTo>
                  <a:pt x="766" y="420"/>
                </a:lnTo>
                <a:lnTo>
                  <a:pt x="765" y="421"/>
                </a:lnTo>
                <a:lnTo>
                  <a:pt x="762" y="423"/>
                </a:lnTo>
                <a:lnTo>
                  <a:pt x="750" y="432"/>
                </a:lnTo>
                <a:lnTo>
                  <a:pt x="740" y="439"/>
                </a:lnTo>
                <a:lnTo>
                  <a:pt x="741" y="441"/>
                </a:lnTo>
                <a:lnTo>
                  <a:pt x="753" y="454"/>
                </a:lnTo>
                <a:lnTo>
                  <a:pt x="795" y="500"/>
                </a:lnTo>
                <a:lnTo>
                  <a:pt x="826" y="536"/>
                </a:lnTo>
                <a:lnTo>
                  <a:pt x="828" y="537"/>
                </a:lnTo>
                <a:lnTo>
                  <a:pt x="818" y="544"/>
                </a:lnTo>
                <a:lnTo>
                  <a:pt x="812" y="545"/>
                </a:lnTo>
                <a:lnTo>
                  <a:pt x="808" y="545"/>
                </a:lnTo>
                <a:lnTo>
                  <a:pt x="803" y="543"/>
                </a:lnTo>
                <a:lnTo>
                  <a:pt x="797" y="541"/>
                </a:lnTo>
                <a:lnTo>
                  <a:pt x="786" y="534"/>
                </a:lnTo>
                <a:lnTo>
                  <a:pt x="776" y="524"/>
                </a:lnTo>
                <a:lnTo>
                  <a:pt x="752" y="501"/>
                </a:lnTo>
                <a:lnTo>
                  <a:pt x="729" y="481"/>
                </a:lnTo>
                <a:lnTo>
                  <a:pt x="716" y="475"/>
                </a:lnTo>
                <a:lnTo>
                  <a:pt x="703" y="473"/>
                </a:lnTo>
                <a:lnTo>
                  <a:pt x="690" y="475"/>
                </a:lnTo>
                <a:lnTo>
                  <a:pt x="693" y="484"/>
                </a:lnTo>
                <a:lnTo>
                  <a:pt x="700" y="493"/>
                </a:lnTo>
                <a:lnTo>
                  <a:pt x="715" y="508"/>
                </a:lnTo>
                <a:lnTo>
                  <a:pt x="731" y="525"/>
                </a:lnTo>
                <a:lnTo>
                  <a:pt x="741" y="542"/>
                </a:lnTo>
                <a:lnTo>
                  <a:pt x="744" y="551"/>
                </a:lnTo>
                <a:lnTo>
                  <a:pt x="741" y="561"/>
                </a:lnTo>
                <a:lnTo>
                  <a:pt x="736" y="573"/>
                </a:lnTo>
                <a:lnTo>
                  <a:pt x="727" y="585"/>
                </a:lnTo>
                <a:lnTo>
                  <a:pt x="712" y="583"/>
                </a:lnTo>
                <a:lnTo>
                  <a:pt x="700" y="576"/>
                </a:lnTo>
                <a:lnTo>
                  <a:pt x="687" y="563"/>
                </a:lnTo>
                <a:lnTo>
                  <a:pt x="675" y="547"/>
                </a:lnTo>
                <a:lnTo>
                  <a:pt x="651" y="507"/>
                </a:lnTo>
                <a:lnTo>
                  <a:pt x="599" y="420"/>
                </a:lnTo>
                <a:lnTo>
                  <a:pt x="567" y="384"/>
                </a:lnTo>
                <a:lnTo>
                  <a:pt x="566" y="384"/>
                </a:lnTo>
                <a:lnTo>
                  <a:pt x="561" y="384"/>
                </a:lnTo>
                <a:lnTo>
                  <a:pt x="545" y="384"/>
                </a:lnTo>
                <a:lnTo>
                  <a:pt x="533" y="384"/>
                </a:lnTo>
                <a:lnTo>
                  <a:pt x="531" y="385"/>
                </a:lnTo>
                <a:lnTo>
                  <a:pt x="529" y="387"/>
                </a:lnTo>
                <a:lnTo>
                  <a:pt x="528" y="390"/>
                </a:lnTo>
                <a:lnTo>
                  <a:pt x="526" y="394"/>
                </a:lnTo>
                <a:lnTo>
                  <a:pt x="524" y="404"/>
                </a:lnTo>
                <a:lnTo>
                  <a:pt x="518" y="432"/>
                </a:lnTo>
                <a:lnTo>
                  <a:pt x="514" y="495"/>
                </a:lnTo>
                <a:lnTo>
                  <a:pt x="513" y="523"/>
                </a:lnTo>
                <a:lnTo>
                  <a:pt x="521" y="546"/>
                </a:lnTo>
                <a:lnTo>
                  <a:pt x="536" y="566"/>
                </a:lnTo>
                <a:lnTo>
                  <a:pt x="555" y="585"/>
                </a:lnTo>
                <a:lnTo>
                  <a:pt x="602" y="618"/>
                </a:lnTo>
                <a:lnTo>
                  <a:pt x="650" y="646"/>
                </a:lnTo>
                <a:lnTo>
                  <a:pt x="688" y="670"/>
                </a:lnTo>
                <a:lnTo>
                  <a:pt x="699" y="681"/>
                </a:lnTo>
                <a:lnTo>
                  <a:pt x="702" y="687"/>
                </a:lnTo>
                <a:lnTo>
                  <a:pt x="703" y="692"/>
                </a:lnTo>
                <a:lnTo>
                  <a:pt x="701" y="697"/>
                </a:lnTo>
                <a:lnTo>
                  <a:pt x="697" y="701"/>
                </a:lnTo>
                <a:lnTo>
                  <a:pt x="691" y="701"/>
                </a:lnTo>
                <a:lnTo>
                  <a:pt x="684" y="699"/>
                </a:lnTo>
                <a:lnTo>
                  <a:pt x="662" y="693"/>
                </a:lnTo>
                <a:lnTo>
                  <a:pt x="613" y="675"/>
                </a:lnTo>
                <a:lnTo>
                  <a:pt x="578" y="666"/>
                </a:lnTo>
                <a:lnTo>
                  <a:pt x="578" y="680"/>
                </a:lnTo>
                <a:lnTo>
                  <a:pt x="585" y="707"/>
                </a:lnTo>
                <a:lnTo>
                  <a:pt x="597" y="738"/>
                </a:lnTo>
                <a:lnTo>
                  <a:pt x="629" y="795"/>
                </a:lnTo>
                <a:lnTo>
                  <a:pt x="656" y="826"/>
                </a:lnTo>
                <a:lnTo>
                  <a:pt x="673" y="842"/>
                </a:lnTo>
                <a:lnTo>
                  <a:pt x="712" y="867"/>
                </a:lnTo>
                <a:lnTo>
                  <a:pt x="800" y="912"/>
                </a:lnTo>
                <a:lnTo>
                  <a:pt x="868" y="960"/>
                </a:lnTo>
                <a:lnTo>
                  <a:pt x="879" y="974"/>
                </a:lnTo>
                <a:lnTo>
                  <a:pt x="877" y="978"/>
                </a:lnTo>
                <a:lnTo>
                  <a:pt x="877" y="981"/>
                </a:lnTo>
                <a:lnTo>
                  <a:pt x="878" y="984"/>
                </a:lnTo>
                <a:lnTo>
                  <a:pt x="880" y="988"/>
                </a:lnTo>
                <a:lnTo>
                  <a:pt x="883" y="992"/>
                </a:lnTo>
                <a:lnTo>
                  <a:pt x="893" y="1002"/>
                </a:lnTo>
                <a:lnTo>
                  <a:pt x="915" y="1021"/>
                </a:lnTo>
                <a:lnTo>
                  <a:pt x="937" y="1040"/>
                </a:lnTo>
                <a:lnTo>
                  <a:pt x="944" y="1049"/>
                </a:lnTo>
                <a:lnTo>
                  <a:pt x="947" y="1059"/>
                </a:lnTo>
                <a:lnTo>
                  <a:pt x="948" y="1063"/>
                </a:lnTo>
                <a:lnTo>
                  <a:pt x="947" y="1067"/>
                </a:lnTo>
                <a:lnTo>
                  <a:pt x="944" y="1071"/>
                </a:lnTo>
                <a:lnTo>
                  <a:pt x="940" y="1074"/>
                </a:lnTo>
                <a:lnTo>
                  <a:pt x="934" y="1077"/>
                </a:lnTo>
                <a:lnTo>
                  <a:pt x="927" y="1079"/>
                </a:lnTo>
                <a:lnTo>
                  <a:pt x="921" y="1080"/>
                </a:lnTo>
                <a:lnTo>
                  <a:pt x="913" y="1078"/>
                </a:lnTo>
                <a:lnTo>
                  <a:pt x="907" y="1076"/>
                </a:lnTo>
                <a:lnTo>
                  <a:pt x="893" y="1067"/>
                </a:lnTo>
                <a:lnTo>
                  <a:pt x="878" y="1055"/>
                </a:lnTo>
                <a:lnTo>
                  <a:pt x="860" y="1042"/>
                </a:lnTo>
                <a:lnTo>
                  <a:pt x="841" y="1029"/>
                </a:lnTo>
                <a:lnTo>
                  <a:pt x="829" y="1024"/>
                </a:lnTo>
                <a:lnTo>
                  <a:pt x="809" y="1016"/>
                </a:lnTo>
                <a:lnTo>
                  <a:pt x="776" y="1008"/>
                </a:lnTo>
                <a:lnTo>
                  <a:pt x="765" y="1004"/>
                </a:lnTo>
                <a:lnTo>
                  <a:pt x="762" y="1002"/>
                </a:lnTo>
                <a:lnTo>
                  <a:pt x="761" y="1000"/>
                </a:lnTo>
                <a:lnTo>
                  <a:pt x="760" y="997"/>
                </a:lnTo>
                <a:lnTo>
                  <a:pt x="761" y="995"/>
                </a:lnTo>
                <a:lnTo>
                  <a:pt x="760" y="995"/>
                </a:lnTo>
                <a:lnTo>
                  <a:pt x="754" y="995"/>
                </a:lnTo>
                <a:lnTo>
                  <a:pt x="738" y="993"/>
                </a:lnTo>
                <a:lnTo>
                  <a:pt x="725" y="992"/>
                </a:lnTo>
                <a:lnTo>
                  <a:pt x="725" y="9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116"/>
          <p:cNvSpPr/>
          <p:nvPr/>
        </p:nvSpPr>
        <p:spPr>
          <a:xfrm>
            <a:off x="5726160" y="6534000"/>
            <a:ext cx="55440" cy="76320"/>
          </a:xfrm>
          <a:custGeom>
            <a:avLst/>
            <a:gdLst>
              <a:gd name="textAreaLeft" fmla="*/ 0 w 55440"/>
              <a:gd name="textAreaRight" fmla="*/ 55800 w 55440"/>
              <a:gd name="textAreaTop" fmla="*/ 0 h 76320"/>
              <a:gd name="textAreaBottom" fmla="*/ 76680 h 76320"/>
            </a:gdLst>
            <a:ahLst/>
            <a:rect l="textAreaLeft" t="textAreaTop" r="textAreaRight" b="textAreaBottom"/>
            <a:pathLst>
              <a:path w="70" h="96">
                <a:moveTo>
                  <a:pt x="15" y="73"/>
                </a:moveTo>
                <a:lnTo>
                  <a:pt x="16" y="78"/>
                </a:lnTo>
                <a:lnTo>
                  <a:pt x="18" y="81"/>
                </a:lnTo>
                <a:lnTo>
                  <a:pt x="21" y="86"/>
                </a:lnTo>
                <a:lnTo>
                  <a:pt x="26" y="88"/>
                </a:lnTo>
                <a:lnTo>
                  <a:pt x="34" y="92"/>
                </a:lnTo>
                <a:lnTo>
                  <a:pt x="44" y="95"/>
                </a:lnTo>
                <a:lnTo>
                  <a:pt x="52" y="96"/>
                </a:lnTo>
                <a:lnTo>
                  <a:pt x="61" y="96"/>
                </a:lnTo>
                <a:lnTo>
                  <a:pt x="65" y="90"/>
                </a:lnTo>
                <a:lnTo>
                  <a:pt x="69" y="83"/>
                </a:lnTo>
                <a:lnTo>
                  <a:pt x="70" y="77"/>
                </a:lnTo>
                <a:lnTo>
                  <a:pt x="70" y="71"/>
                </a:lnTo>
                <a:lnTo>
                  <a:pt x="69" y="64"/>
                </a:lnTo>
                <a:lnTo>
                  <a:pt x="65" y="58"/>
                </a:lnTo>
                <a:lnTo>
                  <a:pt x="57" y="46"/>
                </a:lnTo>
                <a:lnTo>
                  <a:pt x="44" y="34"/>
                </a:lnTo>
                <a:lnTo>
                  <a:pt x="28" y="22"/>
                </a:lnTo>
                <a:lnTo>
                  <a:pt x="18" y="17"/>
                </a:lnTo>
                <a:lnTo>
                  <a:pt x="6" y="7"/>
                </a:lnTo>
                <a:lnTo>
                  <a:pt x="1" y="0"/>
                </a:lnTo>
                <a:lnTo>
                  <a:pt x="0" y="0"/>
                </a:lnTo>
                <a:lnTo>
                  <a:pt x="0" y="1"/>
                </a:lnTo>
                <a:lnTo>
                  <a:pt x="0" y="3"/>
                </a:lnTo>
                <a:lnTo>
                  <a:pt x="0" y="5"/>
                </a:lnTo>
                <a:lnTo>
                  <a:pt x="2" y="12"/>
                </a:lnTo>
                <a:lnTo>
                  <a:pt x="9" y="40"/>
                </a:lnTo>
                <a:lnTo>
                  <a:pt x="15" y="73"/>
                </a:lnTo>
                <a:lnTo>
                  <a:pt x="15" y="77"/>
                </a:lnTo>
                <a:lnTo>
                  <a:pt x="16" y="81"/>
                </a:lnTo>
                <a:lnTo>
                  <a:pt x="16" y="79"/>
                </a:lnTo>
                <a:lnTo>
                  <a:pt x="15" y="74"/>
                </a:lnTo>
                <a:lnTo>
                  <a:pt x="15" y="73"/>
                </a:lnTo>
              </a:path>
            </a:pathLst>
          </a:custGeom>
          <a:solidFill>
            <a:srgbClr val="ff0000"/>
          </a:solidFill>
          <a:ln w="6480">
            <a:solidFill>
              <a:srgbClr val="1f1a17"/>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18" name="Freeform 117"/>
          <p:cNvSpPr/>
          <p:nvPr/>
        </p:nvSpPr>
        <p:spPr>
          <a:xfrm>
            <a:off x="5432400" y="6041880"/>
            <a:ext cx="38160" cy="71640"/>
          </a:xfrm>
          <a:custGeom>
            <a:avLst/>
            <a:gdLst>
              <a:gd name="textAreaLeft" fmla="*/ 0 w 38160"/>
              <a:gd name="textAreaRight" fmla="*/ 38520 w 38160"/>
              <a:gd name="textAreaTop" fmla="*/ 0 h 71640"/>
              <a:gd name="textAreaBottom" fmla="*/ 72000 h 71640"/>
            </a:gdLst>
            <a:ahLst/>
            <a:rect l="textAreaLeft" t="textAreaTop" r="textAreaRight" b="textAreaBottom"/>
            <a:pathLst>
              <a:path w="47" h="88">
                <a:moveTo>
                  <a:pt x="0" y="40"/>
                </a:moveTo>
                <a:lnTo>
                  <a:pt x="2" y="33"/>
                </a:lnTo>
                <a:lnTo>
                  <a:pt x="5" y="26"/>
                </a:lnTo>
                <a:lnTo>
                  <a:pt x="17" y="11"/>
                </a:lnTo>
                <a:lnTo>
                  <a:pt x="30" y="2"/>
                </a:lnTo>
                <a:lnTo>
                  <a:pt x="36" y="0"/>
                </a:lnTo>
                <a:lnTo>
                  <a:pt x="40" y="0"/>
                </a:lnTo>
                <a:lnTo>
                  <a:pt x="42" y="1"/>
                </a:lnTo>
                <a:lnTo>
                  <a:pt x="44" y="3"/>
                </a:lnTo>
                <a:lnTo>
                  <a:pt x="45" y="5"/>
                </a:lnTo>
                <a:lnTo>
                  <a:pt x="47" y="8"/>
                </a:lnTo>
                <a:lnTo>
                  <a:pt x="47" y="13"/>
                </a:lnTo>
                <a:lnTo>
                  <a:pt x="47" y="24"/>
                </a:lnTo>
                <a:lnTo>
                  <a:pt x="45" y="40"/>
                </a:lnTo>
                <a:lnTo>
                  <a:pt x="41" y="55"/>
                </a:lnTo>
                <a:lnTo>
                  <a:pt x="33" y="75"/>
                </a:lnTo>
                <a:lnTo>
                  <a:pt x="29" y="82"/>
                </a:lnTo>
                <a:lnTo>
                  <a:pt x="25" y="86"/>
                </a:lnTo>
                <a:lnTo>
                  <a:pt x="22" y="87"/>
                </a:lnTo>
                <a:lnTo>
                  <a:pt x="20" y="88"/>
                </a:lnTo>
                <a:lnTo>
                  <a:pt x="18" y="88"/>
                </a:lnTo>
                <a:lnTo>
                  <a:pt x="16" y="87"/>
                </a:lnTo>
                <a:lnTo>
                  <a:pt x="15" y="86"/>
                </a:lnTo>
                <a:lnTo>
                  <a:pt x="13" y="84"/>
                </a:lnTo>
                <a:lnTo>
                  <a:pt x="11" y="81"/>
                </a:lnTo>
                <a:lnTo>
                  <a:pt x="7" y="74"/>
                </a:lnTo>
                <a:lnTo>
                  <a:pt x="4" y="63"/>
                </a:lnTo>
                <a:lnTo>
                  <a:pt x="1" y="48"/>
                </a:lnTo>
                <a:lnTo>
                  <a:pt x="0" y="40"/>
                </a:lnTo>
                <a:lnTo>
                  <a:pt x="1" y="35"/>
                </a:lnTo>
                <a:lnTo>
                  <a:pt x="2" y="29"/>
                </a:lnTo>
                <a:lnTo>
                  <a:pt x="1" y="32"/>
                </a:lnTo>
                <a:lnTo>
                  <a:pt x="0" y="40"/>
                </a:lnTo>
              </a:path>
            </a:pathLst>
          </a:custGeom>
          <a:solidFill>
            <a:srgbClr val="ff0000"/>
          </a:solidFill>
          <a:ln w="6480">
            <a:solidFill>
              <a:srgbClr val="1f1a17"/>
            </a:solidFill>
            <a:round/>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19" name="Freeform 118"/>
          <p:cNvSpPr/>
          <p:nvPr/>
        </p:nvSpPr>
        <p:spPr>
          <a:xfrm>
            <a:off x="5486400" y="6191280"/>
            <a:ext cx="49320" cy="27000"/>
          </a:xfrm>
          <a:custGeom>
            <a:avLst/>
            <a:gdLst>
              <a:gd name="textAreaLeft" fmla="*/ 0 w 49320"/>
              <a:gd name="textAreaRight" fmla="*/ 49680 w 49320"/>
              <a:gd name="textAreaTop" fmla="*/ 0 h 27000"/>
              <a:gd name="textAreaBottom" fmla="*/ 27360 h 27000"/>
            </a:gdLst>
            <a:ahLst/>
            <a:rect l="textAreaLeft" t="textAreaTop" r="textAreaRight" b="textAreaBottom"/>
            <a:pathLst>
              <a:path w="63" h="35">
                <a:moveTo>
                  <a:pt x="26" y="0"/>
                </a:moveTo>
                <a:lnTo>
                  <a:pt x="19" y="0"/>
                </a:lnTo>
                <a:lnTo>
                  <a:pt x="8" y="0"/>
                </a:lnTo>
                <a:lnTo>
                  <a:pt x="5" y="1"/>
                </a:lnTo>
                <a:lnTo>
                  <a:pt x="3" y="2"/>
                </a:lnTo>
                <a:lnTo>
                  <a:pt x="1" y="3"/>
                </a:lnTo>
                <a:lnTo>
                  <a:pt x="0" y="6"/>
                </a:lnTo>
                <a:lnTo>
                  <a:pt x="0" y="9"/>
                </a:lnTo>
                <a:lnTo>
                  <a:pt x="0" y="13"/>
                </a:lnTo>
                <a:lnTo>
                  <a:pt x="2" y="26"/>
                </a:lnTo>
                <a:lnTo>
                  <a:pt x="4" y="35"/>
                </a:lnTo>
                <a:lnTo>
                  <a:pt x="7" y="35"/>
                </a:lnTo>
                <a:lnTo>
                  <a:pt x="18" y="33"/>
                </a:lnTo>
                <a:lnTo>
                  <a:pt x="26" y="32"/>
                </a:lnTo>
                <a:lnTo>
                  <a:pt x="27" y="31"/>
                </a:lnTo>
                <a:lnTo>
                  <a:pt x="38" y="29"/>
                </a:lnTo>
                <a:lnTo>
                  <a:pt x="55" y="22"/>
                </a:lnTo>
                <a:lnTo>
                  <a:pt x="60" y="19"/>
                </a:lnTo>
                <a:lnTo>
                  <a:pt x="62" y="16"/>
                </a:lnTo>
                <a:lnTo>
                  <a:pt x="63" y="14"/>
                </a:lnTo>
                <a:lnTo>
                  <a:pt x="63" y="12"/>
                </a:lnTo>
                <a:lnTo>
                  <a:pt x="62" y="10"/>
                </a:lnTo>
                <a:lnTo>
                  <a:pt x="61" y="9"/>
                </a:lnTo>
                <a:lnTo>
                  <a:pt x="60" y="8"/>
                </a:lnTo>
                <a:lnTo>
                  <a:pt x="57" y="6"/>
                </a:lnTo>
                <a:lnTo>
                  <a:pt x="52" y="4"/>
                </a:lnTo>
                <a:lnTo>
                  <a:pt x="45" y="2"/>
                </a:lnTo>
                <a:lnTo>
                  <a:pt x="26" y="0"/>
                </a:lnTo>
                <a:lnTo>
                  <a:pt x="20" y="0"/>
                </a:lnTo>
                <a:lnTo>
                  <a:pt x="13" y="0"/>
                </a:lnTo>
                <a:lnTo>
                  <a:pt x="17" y="0"/>
                </a:lnTo>
                <a:lnTo>
                  <a:pt x="25" y="0"/>
                </a:lnTo>
                <a:lnTo>
                  <a:pt x="26" y="0"/>
                </a:lnTo>
              </a:path>
            </a:pathLst>
          </a:custGeom>
          <a:solidFill>
            <a:srgbClr val="ff0000"/>
          </a:solidFill>
          <a:ln w="6480">
            <a:solidFill>
              <a:srgbClr val="1f1a17"/>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20" name="Freeform 119"/>
          <p:cNvSpPr/>
          <p:nvPr/>
        </p:nvSpPr>
        <p:spPr>
          <a:xfrm>
            <a:off x="5219640" y="5724360"/>
            <a:ext cx="33480" cy="36720"/>
          </a:xfrm>
          <a:custGeom>
            <a:avLst/>
            <a:gdLst>
              <a:gd name="textAreaLeft" fmla="*/ 0 w 33480"/>
              <a:gd name="textAreaRight" fmla="*/ 33840 w 33480"/>
              <a:gd name="textAreaTop" fmla="*/ 0 h 36720"/>
              <a:gd name="textAreaBottom" fmla="*/ 37080 h 36720"/>
            </a:gdLst>
            <a:ahLst/>
            <a:rect l="textAreaLeft" t="textAreaTop" r="textAreaRight" b="textAreaBottom"/>
            <a:pathLst>
              <a:path w="42" h="46">
                <a:moveTo>
                  <a:pt x="0" y="14"/>
                </a:moveTo>
                <a:lnTo>
                  <a:pt x="6" y="12"/>
                </a:lnTo>
                <a:lnTo>
                  <a:pt x="17" y="7"/>
                </a:lnTo>
                <a:lnTo>
                  <a:pt x="26" y="2"/>
                </a:lnTo>
                <a:lnTo>
                  <a:pt x="28" y="0"/>
                </a:lnTo>
                <a:lnTo>
                  <a:pt x="36" y="12"/>
                </a:lnTo>
                <a:lnTo>
                  <a:pt x="41" y="24"/>
                </a:lnTo>
                <a:lnTo>
                  <a:pt x="42" y="32"/>
                </a:lnTo>
                <a:lnTo>
                  <a:pt x="40" y="38"/>
                </a:lnTo>
                <a:lnTo>
                  <a:pt x="36" y="43"/>
                </a:lnTo>
                <a:lnTo>
                  <a:pt x="30" y="45"/>
                </a:lnTo>
                <a:lnTo>
                  <a:pt x="24" y="46"/>
                </a:lnTo>
                <a:lnTo>
                  <a:pt x="17" y="44"/>
                </a:lnTo>
                <a:lnTo>
                  <a:pt x="10" y="40"/>
                </a:lnTo>
                <a:lnTo>
                  <a:pt x="4" y="34"/>
                </a:lnTo>
                <a:lnTo>
                  <a:pt x="1" y="26"/>
                </a:lnTo>
                <a:lnTo>
                  <a:pt x="0" y="14"/>
                </a:lnTo>
                <a:lnTo>
                  <a:pt x="2" y="13"/>
                </a:lnTo>
                <a:lnTo>
                  <a:pt x="1" y="14"/>
                </a:lnTo>
                <a:lnTo>
                  <a:pt x="0" y="14"/>
                </a:lnTo>
              </a:path>
            </a:pathLst>
          </a:custGeom>
          <a:noFill/>
          <a:ln w="6480">
            <a:solidFill>
              <a:srgbClr val="1f1a17"/>
            </a:solidFill>
            <a:round/>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21" name="Freeform 120"/>
          <p:cNvSpPr/>
          <p:nvPr/>
        </p:nvSpPr>
        <p:spPr>
          <a:xfrm>
            <a:off x="5278320" y="5772240"/>
            <a:ext cx="23760" cy="74520"/>
          </a:xfrm>
          <a:custGeom>
            <a:avLst/>
            <a:gdLst>
              <a:gd name="textAreaLeft" fmla="*/ 0 w 23760"/>
              <a:gd name="textAreaRight" fmla="*/ 24120 w 23760"/>
              <a:gd name="textAreaTop" fmla="*/ 0 h 74520"/>
              <a:gd name="textAreaBottom" fmla="*/ 74880 h 74520"/>
            </a:gdLst>
            <a:ahLst/>
            <a:rect l="textAreaLeft" t="textAreaTop" r="textAreaRight" b="textAreaBottom"/>
            <a:pathLst>
              <a:path w="31" h="96">
                <a:moveTo>
                  <a:pt x="11" y="0"/>
                </a:moveTo>
                <a:lnTo>
                  <a:pt x="13" y="1"/>
                </a:lnTo>
                <a:lnTo>
                  <a:pt x="15" y="2"/>
                </a:lnTo>
                <a:lnTo>
                  <a:pt x="18" y="4"/>
                </a:lnTo>
                <a:lnTo>
                  <a:pt x="22" y="8"/>
                </a:lnTo>
                <a:lnTo>
                  <a:pt x="28" y="15"/>
                </a:lnTo>
                <a:lnTo>
                  <a:pt x="29" y="17"/>
                </a:lnTo>
                <a:lnTo>
                  <a:pt x="29" y="21"/>
                </a:lnTo>
                <a:lnTo>
                  <a:pt x="30" y="28"/>
                </a:lnTo>
                <a:lnTo>
                  <a:pt x="31" y="43"/>
                </a:lnTo>
                <a:lnTo>
                  <a:pt x="30" y="57"/>
                </a:lnTo>
                <a:lnTo>
                  <a:pt x="29" y="59"/>
                </a:lnTo>
                <a:lnTo>
                  <a:pt x="19" y="81"/>
                </a:lnTo>
                <a:lnTo>
                  <a:pt x="12" y="92"/>
                </a:lnTo>
                <a:lnTo>
                  <a:pt x="8" y="95"/>
                </a:lnTo>
                <a:lnTo>
                  <a:pt x="7" y="96"/>
                </a:lnTo>
                <a:lnTo>
                  <a:pt x="6" y="96"/>
                </a:lnTo>
                <a:lnTo>
                  <a:pt x="5" y="96"/>
                </a:lnTo>
                <a:lnTo>
                  <a:pt x="3" y="95"/>
                </a:lnTo>
                <a:lnTo>
                  <a:pt x="2" y="93"/>
                </a:lnTo>
                <a:lnTo>
                  <a:pt x="2" y="92"/>
                </a:lnTo>
                <a:lnTo>
                  <a:pt x="1" y="88"/>
                </a:lnTo>
                <a:lnTo>
                  <a:pt x="0" y="77"/>
                </a:lnTo>
                <a:lnTo>
                  <a:pt x="1" y="48"/>
                </a:lnTo>
                <a:lnTo>
                  <a:pt x="4" y="20"/>
                </a:lnTo>
                <a:lnTo>
                  <a:pt x="10" y="1"/>
                </a:lnTo>
                <a:lnTo>
                  <a:pt x="11" y="0"/>
                </a:lnTo>
                <a:lnTo>
                  <a:pt x="12" y="0"/>
                </a:lnTo>
                <a:lnTo>
                  <a:pt x="13" y="0"/>
                </a:lnTo>
                <a:lnTo>
                  <a:pt x="12" y="0"/>
                </a:lnTo>
                <a:lnTo>
                  <a:pt x="11" y="0"/>
                </a:lnTo>
              </a:path>
            </a:pathLst>
          </a:custGeom>
          <a:noFill/>
          <a:ln w="6480">
            <a:solidFill>
              <a:srgbClr val="1f1a17"/>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22" name="Freeform 121"/>
          <p:cNvSpPr/>
          <p:nvPr/>
        </p:nvSpPr>
        <p:spPr>
          <a:xfrm>
            <a:off x="5205240" y="6004080"/>
            <a:ext cx="84240" cy="45720"/>
          </a:xfrm>
          <a:custGeom>
            <a:avLst/>
            <a:gdLst>
              <a:gd name="textAreaLeft" fmla="*/ 0 w 84240"/>
              <a:gd name="textAreaRight" fmla="*/ 84600 w 84240"/>
              <a:gd name="textAreaTop" fmla="*/ 0 h 45720"/>
              <a:gd name="textAreaBottom" fmla="*/ 46080 h 45720"/>
            </a:gdLst>
            <a:ahLst/>
            <a:rect l="textAreaLeft" t="textAreaTop" r="textAreaRight" b="textAreaBottom"/>
            <a:pathLst>
              <a:path w="105" h="58">
                <a:moveTo>
                  <a:pt x="77" y="57"/>
                </a:moveTo>
                <a:lnTo>
                  <a:pt x="90" y="57"/>
                </a:lnTo>
                <a:lnTo>
                  <a:pt x="99" y="55"/>
                </a:lnTo>
                <a:lnTo>
                  <a:pt x="102" y="54"/>
                </a:lnTo>
                <a:lnTo>
                  <a:pt x="104" y="53"/>
                </a:lnTo>
                <a:lnTo>
                  <a:pt x="105" y="51"/>
                </a:lnTo>
                <a:lnTo>
                  <a:pt x="105" y="49"/>
                </a:lnTo>
                <a:lnTo>
                  <a:pt x="105" y="46"/>
                </a:lnTo>
                <a:lnTo>
                  <a:pt x="104" y="44"/>
                </a:lnTo>
                <a:lnTo>
                  <a:pt x="102" y="42"/>
                </a:lnTo>
                <a:lnTo>
                  <a:pt x="97" y="37"/>
                </a:lnTo>
                <a:lnTo>
                  <a:pt x="87" y="27"/>
                </a:lnTo>
                <a:lnTo>
                  <a:pt x="77" y="17"/>
                </a:lnTo>
                <a:lnTo>
                  <a:pt x="75" y="10"/>
                </a:lnTo>
                <a:lnTo>
                  <a:pt x="54" y="6"/>
                </a:lnTo>
                <a:lnTo>
                  <a:pt x="24" y="0"/>
                </a:lnTo>
                <a:lnTo>
                  <a:pt x="6" y="0"/>
                </a:lnTo>
                <a:lnTo>
                  <a:pt x="3" y="0"/>
                </a:lnTo>
                <a:lnTo>
                  <a:pt x="2" y="1"/>
                </a:lnTo>
                <a:lnTo>
                  <a:pt x="1" y="2"/>
                </a:lnTo>
                <a:lnTo>
                  <a:pt x="0" y="4"/>
                </a:lnTo>
                <a:lnTo>
                  <a:pt x="1" y="6"/>
                </a:lnTo>
                <a:lnTo>
                  <a:pt x="2" y="7"/>
                </a:lnTo>
                <a:lnTo>
                  <a:pt x="4" y="9"/>
                </a:lnTo>
                <a:lnTo>
                  <a:pt x="6" y="11"/>
                </a:lnTo>
                <a:lnTo>
                  <a:pt x="15" y="17"/>
                </a:lnTo>
                <a:lnTo>
                  <a:pt x="43" y="31"/>
                </a:lnTo>
                <a:lnTo>
                  <a:pt x="48" y="32"/>
                </a:lnTo>
                <a:lnTo>
                  <a:pt x="50" y="33"/>
                </a:lnTo>
                <a:lnTo>
                  <a:pt x="52" y="35"/>
                </a:lnTo>
                <a:lnTo>
                  <a:pt x="59" y="42"/>
                </a:lnTo>
                <a:lnTo>
                  <a:pt x="73" y="57"/>
                </a:lnTo>
                <a:lnTo>
                  <a:pt x="77" y="57"/>
                </a:lnTo>
                <a:lnTo>
                  <a:pt x="90" y="58"/>
                </a:lnTo>
                <a:lnTo>
                  <a:pt x="104" y="58"/>
                </a:lnTo>
                <a:lnTo>
                  <a:pt x="96" y="58"/>
                </a:lnTo>
                <a:lnTo>
                  <a:pt x="78" y="58"/>
                </a:lnTo>
                <a:lnTo>
                  <a:pt x="77" y="57"/>
                </a:lnTo>
              </a:path>
            </a:pathLst>
          </a:custGeom>
          <a:noFill/>
          <a:ln w="6480">
            <a:solidFill>
              <a:srgbClr val="1f1a17"/>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Freeform 122"/>
          <p:cNvSpPr/>
          <p:nvPr/>
        </p:nvSpPr>
        <p:spPr>
          <a:xfrm>
            <a:off x="4992840" y="6004080"/>
            <a:ext cx="244440" cy="191880"/>
          </a:xfrm>
          <a:custGeom>
            <a:avLst/>
            <a:gdLst>
              <a:gd name="textAreaLeft" fmla="*/ 0 w 244440"/>
              <a:gd name="textAreaRight" fmla="*/ 244800 w 244440"/>
              <a:gd name="textAreaTop" fmla="*/ 0 h 191880"/>
              <a:gd name="textAreaBottom" fmla="*/ 192240 h 191880"/>
            </a:gdLst>
            <a:ahLst/>
            <a:rect l="textAreaLeft" t="textAreaTop" r="textAreaRight" b="textAreaBottom"/>
            <a:pathLst>
              <a:path w="307" h="240">
                <a:moveTo>
                  <a:pt x="19" y="0"/>
                </a:moveTo>
                <a:lnTo>
                  <a:pt x="21" y="2"/>
                </a:lnTo>
                <a:lnTo>
                  <a:pt x="38" y="13"/>
                </a:lnTo>
                <a:lnTo>
                  <a:pt x="98" y="50"/>
                </a:lnTo>
                <a:lnTo>
                  <a:pt x="144" y="78"/>
                </a:lnTo>
                <a:lnTo>
                  <a:pt x="148" y="79"/>
                </a:lnTo>
                <a:lnTo>
                  <a:pt x="154" y="80"/>
                </a:lnTo>
                <a:lnTo>
                  <a:pt x="167" y="80"/>
                </a:lnTo>
                <a:lnTo>
                  <a:pt x="188" y="80"/>
                </a:lnTo>
                <a:lnTo>
                  <a:pt x="212" y="83"/>
                </a:lnTo>
                <a:lnTo>
                  <a:pt x="219" y="83"/>
                </a:lnTo>
                <a:lnTo>
                  <a:pt x="225" y="86"/>
                </a:lnTo>
                <a:lnTo>
                  <a:pt x="230" y="90"/>
                </a:lnTo>
                <a:lnTo>
                  <a:pt x="236" y="96"/>
                </a:lnTo>
                <a:lnTo>
                  <a:pt x="245" y="113"/>
                </a:lnTo>
                <a:lnTo>
                  <a:pt x="261" y="146"/>
                </a:lnTo>
                <a:lnTo>
                  <a:pt x="267" y="160"/>
                </a:lnTo>
                <a:lnTo>
                  <a:pt x="287" y="189"/>
                </a:lnTo>
                <a:lnTo>
                  <a:pt x="306" y="226"/>
                </a:lnTo>
                <a:lnTo>
                  <a:pt x="307" y="231"/>
                </a:lnTo>
                <a:lnTo>
                  <a:pt x="306" y="235"/>
                </a:lnTo>
                <a:lnTo>
                  <a:pt x="306" y="237"/>
                </a:lnTo>
                <a:lnTo>
                  <a:pt x="305" y="238"/>
                </a:lnTo>
                <a:lnTo>
                  <a:pt x="304" y="239"/>
                </a:lnTo>
                <a:lnTo>
                  <a:pt x="301" y="240"/>
                </a:lnTo>
                <a:lnTo>
                  <a:pt x="300" y="240"/>
                </a:lnTo>
                <a:lnTo>
                  <a:pt x="296" y="239"/>
                </a:lnTo>
                <a:lnTo>
                  <a:pt x="290" y="237"/>
                </a:lnTo>
                <a:lnTo>
                  <a:pt x="279" y="230"/>
                </a:lnTo>
                <a:lnTo>
                  <a:pt x="268" y="221"/>
                </a:lnTo>
                <a:lnTo>
                  <a:pt x="244" y="193"/>
                </a:lnTo>
                <a:lnTo>
                  <a:pt x="232" y="169"/>
                </a:lnTo>
                <a:lnTo>
                  <a:pt x="230" y="167"/>
                </a:lnTo>
                <a:lnTo>
                  <a:pt x="225" y="159"/>
                </a:lnTo>
                <a:lnTo>
                  <a:pt x="211" y="137"/>
                </a:lnTo>
                <a:lnTo>
                  <a:pt x="202" y="129"/>
                </a:lnTo>
                <a:lnTo>
                  <a:pt x="196" y="124"/>
                </a:lnTo>
                <a:lnTo>
                  <a:pt x="194" y="123"/>
                </a:lnTo>
                <a:lnTo>
                  <a:pt x="184" y="123"/>
                </a:lnTo>
                <a:lnTo>
                  <a:pt x="170" y="121"/>
                </a:lnTo>
                <a:lnTo>
                  <a:pt x="137" y="110"/>
                </a:lnTo>
                <a:lnTo>
                  <a:pt x="69" y="81"/>
                </a:lnTo>
                <a:lnTo>
                  <a:pt x="53" y="72"/>
                </a:lnTo>
                <a:lnTo>
                  <a:pt x="48" y="70"/>
                </a:lnTo>
                <a:lnTo>
                  <a:pt x="33" y="60"/>
                </a:lnTo>
                <a:lnTo>
                  <a:pt x="4" y="31"/>
                </a:lnTo>
                <a:lnTo>
                  <a:pt x="1" y="24"/>
                </a:lnTo>
                <a:lnTo>
                  <a:pt x="0" y="17"/>
                </a:lnTo>
                <a:lnTo>
                  <a:pt x="2" y="10"/>
                </a:lnTo>
                <a:lnTo>
                  <a:pt x="8" y="5"/>
                </a:lnTo>
                <a:lnTo>
                  <a:pt x="19" y="0"/>
                </a:lnTo>
              </a:path>
            </a:pathLst>
          </a:custGeom>
          <a:blipFill rotWithShape="0">
            <a:blip r:embed="rId23"/>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123"/>
          <p:cNvSpPr/>
          <p:nvPr/>
        </p:nvSpPr>
        <p:spPr>
          <a:xfrm>
            <a:off x="5278320" y="6195960"/>
            <a:ext cx="22320" cy="55440"/>
          </a:xfrm>
          <a:custGeom>
            <a:avLst/>
            <a:gdLst>
              <a:gd name="textAreaLeft" fmla="*/ 0 w 22320"/>
              <a:gd name="textAreaRight" fmla="*/ 22680 w 22320"/>
              <a:gd name="textAreaTop" fmla="*/ 0 h 55440"/>
              <a:gd name="textAreaBottom" fmla="*/ 55800 h 55440"/>
            </a:gdLst>
            <a:ahLst/>
            <a:rect l="textAreaLeft" t="textAreaTop" r="textAreaRight" b="textAreaBottom"/>
            <a:pathLst>
              <a:path w="28" h="69">
                <a:moveTo>
                  <a:pt x="0" y="17"/>
                </a:moveTo>
                <a:lnTo>
                  <a:pt x="3" y="15"/>
                </a:lnTo>
                <a:lnTo>
                  <a:pt x="16" y="7"/>
                </a:lnTo>
                <a:lnTo>
                  <a:pt x="26" y="1"/>
                </a:lnTo>
                <a:lnTo>
                  <a:pt x="27" y="0"/>
                </a:lnTo>
                <a:lnTo>
                  <a:pt x="28" y="16"/>
                </a:lnTo>
                <a:lnTo>
                  <a:pt x="27" y="43"/>
                </a:lnTo>
                <a:lnTo>
                  <a:pt x="20" y="62"/>
                </a:lnTo>
                <a:lnTo>
                  <a:pt x="17" y="67"/>
                </a:lnTo>
                <a:lnTo>
                  <a:pt x="15" y="68"/>
                </a:lnTo>
                <a:lnTo>
                  <a:pt x="13" y="69"/>
                </a:lnTo>
                <a:lnTo>
                  <a:pt x="11" y="68"/>
                </a:lnTo>
                <a:lnTo>
                  <a:pt x="8" y="67"/>
                </a:lnTo>
                <a:lnTo>
                  <a:pt x="6" y="65"/>
                </a:lnTo>
                <a:lnTo>
                  <a:pt x="5" y="62"/>
                </a:lnTo>
                <a:lnTo>
                  <a:pt x="3" y="57"/>
                </a:lnTo>
                <a:lnTo>
                  <a:pt x="1" y="45"/>
                </a:lnTo>
                <a:lnTo>
                  <a:pt x="0" y="29"/>
                </a:lnTo>
                <a:lnTo>
                  <a:pt x="0" y="17"/>
                </a:lnTo>
              </a:path>
            </a:pathLst>
          </a:custGeom>
          <a:noFill/>
          <a:ln w="6480">
            <a:solidFill>
              <a:srgbClr val="1f1a17"/>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25" name="Freeform 124"/>
          <p:cNvSpPr/>
          <p:nvPr/>
        </p:nvSpPr>
        <p:spPr>
          <a:xfrm>
            <a:off x="5340240" y="6224760"/>
            <a:ext cx="28800" cy="23760"/>
          </a:xfrm>
          <a:custGeom>
            <a:avLst/>
            <a:gdLst>
              <a:gd name="textAreaLeft" fmla="*/ 0 w 28800"/>
              <a:gd name="textAreaRight" fmla="*/ 29160 w 28800"/>
              <a:gd name="textAreaTop" fmla="*/ 0 h 23760"/>
              <a:gd name="textAreaBottom" fmla="*/ 24120 h 23760"/>
            </a:gdLst>
            <a:ahLst/>
            <a:rect l="textAreaLeft" t="textAreaTop" r="textAreaRight" b="textAreaBottom"/>
            <a:pathLst>
              <a:path w="37" h="30">
                <a:moveTo>
                  <a:pt x="13" y="0"/>
                </a:moveTo>
                <a:lnTo>
                  <a:pt x="14" y="0"/>
                </a:lnTo>
                <a:lnTo>
                  <a:pt x="19" y="0"/>
                </a:lnTo>
                <a:lnTo>
                  <a:pt x="23" y="0"/>
                </a:lnTo>
                <a:lnTo>
                  <a:pt x="24" y="0"/>
                </a:lnTo>
                <a:lnTo>
                  <a:pt x="29" y="1"/>
                </a:lnTo>
                <a:lnTo>
                  <a:pt x="31" y="3"/>
                </a:lnTo>
                <a:lnTo>
                  <a:pt x="33" y="5"/>
                </a:lnTo>
                <a:lnTo>
                  <a:pt x="35" y="8"/>
                </a:lnTo>
                <a:lnTo>
                  <a:pt x="35" y="12"/>
                </a:lnTo>
                <a:lnTo>
                  <a:pt x="37" y="13"/>
                </a:lnTo>
                <a:lnTo>
                  <a:pt x="37" y="14"/>
                </a:lnTo>
                <a:lnTo>
                  <a:pt x="37" y="17"/>
                </a:lnTo>
                <a:lnTo>
                  <a:pt x="37" y="18"/>
                </a:lnTo>
                <a:lnTo>
                  <a:pt x="35" y="24"/>
                </a:lnTo>
                <a:lnTo>
                  <a:pt x="33" y="26"/>
                </a:lnTo>
                <a:lnTo>
                  <a:pt x="31" y="28"/>
                </a:lnTo>
                <a:lnTo>
                  <a:pt x="29" y="30"/>
                </a:lnTo>
                <a:lnTo>
                  <a:pt x="25" y="30"/>
                </a:lnTo>
                <a:lnTo>
                  <a:pt x="24" y="30"/>
                </a:lnTo>
                <a:lnTo>
                  <a:pt x="23" y="30"/>
                </a:lnTo>
                <a:lnTo>
                  <a:pt x="22" y="30"/>
                </a:lnTo>
                <a:lnTo>
                  <a:pt x="16" y="30"/>
                </a:lnTo>
                <a:lnTo>
                  <a:pt x="13" y="30"/>
                </a:lnTo>
                <a:lnTo>
                  <a:pt x="11" y="30"/>
                </a:lnTo>
                <a:lnTo>
                  <a:pt x="6" y="30"/>
                </a:lnTo>
                <a:lnTo>
                  <a:pt x="4" y="28"/>
                </a:lnTo>
                <a:lnTo>
                  <a:pt x="2" y="26"/>
                </a:lnTo>
                <a:lnTo>
                  <a:pt x="0" y="24"/>
                </a:lnTo>
                <a:lnTo>
                  <a:pt x="0" y="20"/>
                </a:lnTo>
                <a:lnTo>
                  <a:pt x="0" y="18"/>
                </a:lnTo>
                <a:lnTo>
                  <a:pt x="0" y="15"/>
                </a:lnTo>
                <a:lnTo>
                  <a:pt x="0" y="14"/>
                </a:lnTo>
                <a:lnTo>
                  <a:pt x="0" y="13"/>
                </a:lnTo>
                <a:lnTo>
                  <a:pt x="0" y="12"/>
                </a:lnTo>
                <a:lnTo>
                  <a:pt x="0" y="8"/>
                </a:lnTo>
                <a:lnTo>
                  <a:pt x="2" y="5"/>
                </a:lnTo>
                <a:lnTo>
                  <a:pt x="4" y="3"/>
                </a:lnTo>
                <a:lnTo>
                  <a:pt x="6" y="1"/>
                </a:lnTo>
                <a:lnTo>
                  <a:pt x="11" y="1"/>
                </a:lnTo>
                <a:lnTo>
                  <a:pt x="13" y="0"/>
                </a:lnTo>
              </a:path>
            </a:pathLst>
          </a:custGeom>
          <a:noFill/>
          <a:ln w="6480">
            <a:solidFill>
              <a:srgbClr val="1f1a17"/>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26" name="Freeform 125"/>
          <p:cNvSpPr/>
          <p:nvPr/>
        </p:nvSpPr>
        <p:spPr>
          <a:xfrm>
            <a:off x="5423040" y="6310440"/>
            <a:ext cx="31680" cy="48960"/>
          </a:xfrm>
          <a:custGeom>
            <a:avLst/>
            <a:gdLst>
              <a:gd name="textAreaLeft" fmla="*/ 0 w 31680"/>
              <a:gd name="textAreaRight" fmla="*/ 32040 w 31680"/>
              <a:gd name="textAreaTop" fmla="*/ 0 h 48960"/>
              <a:gd name="textAreaBottom" fmla="*/ 49320 h 48960"/>
            </a:gdLst>
            <a:ahLst/>
            <a:rect l="textAreaLeft" t="textAreaTop" r="textAreaRight" b="textAreaBottom"/>
            <a:pathLst>
              <a:path w="40" h="63">
                <a:moveTo>
                  <a:pt x="0" y="34"/>
                </a:moveTo>
                <a:lnTo>
                  <a:pt x="0" y="30"/>
                </a:lnTo>
                <a:lnTo>
                  <a:pt x="0" y="23"/>
                </a:lnTo>
                <a:lnTo>
                  <a:pt x="6" y="12"/>
                </a:lnTo>
                <a:lnTo>
                  <a:pt x="13" y="3"/>
                </a:lnTo>
                <a:lnTo>
                  <a:pt x="16" y="0"/>
                </a:lnTo>
                <a:lnTo>
                  <a:pt x="19" y="4"/>
                </a:lnTo>
                <a:lnTo>
                  <a:pt x="30" y="14"/>
                </a:lnTo>
                <a:lnTo>
                  <a:pt x="39" y="21"/>
                </a:lnTo>
                <a:lnTo>
                  <a:pt x="40" y="21"/>
                </a:lnTo>
                <a:lnTo>
                  <a:pt x="36" y="33"/>
                </a:lnTo>
                <a:lnTo>
                  <a:pt x="31" y="51"/>
                </a:lnTo>
                <a:lnTo>
                  <a:pt x="29" y="61"/>
                </a:lnTo>
                <a:lnTo>
                  <a:pt x="28" y="62"/>
                </a:lnTo>
                <a:lnTo>
                  <a:pt x="27" y="63"/>
                </a:lnTo>
                <a:lnTo>
                  <a:pt x="26" y="63"/>
                </a:lnTo>
                <a:lnTo>
                  <a:pt x="25" y="63"/>
                </a:lnTo>
                <a:lnTo>
                  <a:pt x="24" y="62"/>
                </a:lnTo>
                <a:lnTo>
                  <a:pt x="22" y="61"/>
                </a:lnTo>
                <a:lnTo>
                  <a:pt x="18" y="57"/>
                </a:lnTo>
                <a:lnTo>
                  <a:pt x="6" y="43"/>
                </a:lnTo>
                <a:lnTo>
                  <a:pt x="0" y="34"/>
                </a:lnTo>
                <a:lnTo>
                  <a:pt x="0" y="31"/>
                </a:lnTo>
                <a:lnTo>
                  <a:pt x="0" y="27"/>
                </a:lnTo>
                <a:lnTo>
                  <a:pt x="0" y="29"/>
                </a:lnTo>
                <a:lnTo>
                  <a:pt x="0" y="34"/>
                </a:lnTo>
              </a:path>
            </a:pathLst>
          </a:custGeom>
          <a:solidFill>
            <a:srgbClr val="ff0000"/>
          </a:solidFill>
          <a:ln w="6480">
            <a:solidFill>
              <a:srgbClr val="1f1a17"/>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7" name="Freeform 126"/>
          <p:cNvSpPr/>
          <p:nvPr/>
        </p:nvSpPr>
        <p:spPr>
          <a:xfrm>
            <a:off x="5372280" y="6316560"/>
            <a:ext cx="21960" cy="55800"/>
          </a:xfrm>
          <a:custGeom>
            <a:avLst/>
            <a:gdLst>
              <a:gd name="textAreaLeft" fmla="*/ 0 w 21960"/>
              <a:gd name="textAreaRight" fmla="*/ 21960 w 21960"/>
              <a:gd name="textAreaTop" fmla="*/ 0 h 55800"/>
              <a:gd name="textAreaBottom" fmla="*/ 56160 h 55800"/>
            </a:gdLst>
            <a:ahLst/>
            <a:rect l="textAreaLeft" t="textAreaTop" r="textAreaRight" b="textAreaBottom"/>
            <a:pathLst>
              <a:path w="29" h="70">
                <a:moveTo>
                  <a:pt x="29" y="43"/>
                </a:moveTo>
                <a:lnTo>
                  <a:pt x="20" y="55"/>
                </a:lnTo>
                <a:lnTo>
                  <a:pt x="16" y="57"/>
                </a:lnTo>
                <a:lnTo>
                  <a:pt x="15" y="57"/>
                </a:lnTo>
                <a:lnTo>
                  <a:pt x="13" y="57"/>
                </a:lnTo>
                <a:lnTo>
                  <a:pt x="12" y="57"/>
                </a:lnTo>
                <a:lnTo>
                  <a:pt x="9" y="56"/>
                </a:lnTo>
                <a:lnTo>
                  <a:pt x="8" y="55"/>
                </a:lnTo>
                <a:lnTo>
                  <a:pt x="7" y="53"/>
                </a:lnTo>
                <a:lnTo>
                  <a:pt x="5" y="50"/>
                </a:lnTo>
                <a:lnTo>
                  <a:pt x="3" y="45"/>
                </a:lnTo>
                <a:lnTo>
                  <a:pt x="1" y="34"/>
                </a:lnTo>
                <a:lnTo>
                  <a:pt x="0" y="10"/>
                </a:lnTo>
                <a:lnTo>
                  <a:pt x="3" y="2"/>
                </a:lnTo>
                <a:lnTo>
                  <a:pt x="4" y="1"/>
                </a:lnTo>
                <a:lnTo>
                  <a:pt x="5" y="0"/>
                </a:lnTo>
                <a:lnTo>
                  <a:pt x="6" y="0"/>
                </a:lnTo>
                <a:lnTo>
                  <a:pt x="7" y="0"/>
                </a:lnTo>
                <a:lnTo>
                  <a:pt x="9" y="1"/>
                </a:lnTo>
                <a:lnTo>
                  <a:pt x="11" y="3"/>
                </a:lnTo>
                <a:lnTo>
                  <a:pt x="14" y="7"/>
                </a:lnTo>
                <a:lnTo>
                  <a:pt x="17" y="14"/>
                </a:lnTo>
                <a:lnTo>
                  <a:pt x="26" y="36"/>
                </a:lnTo>
                <a:lnTo>
                  <a:pt x="29" y="43"/>
                </a:lnTo>
                <a:lnTo>
                  <a:pt x="20" y="57"/>
                </a:lnTo>
                <a:lnTo>
                  <a:pt x="13" y="70"/>
                </a:lnTo>
                <a:lnTo>
                  <a:pt x="17" y="63"/>
                </a:lnTo>
                <a:lnTo>
                  <a:pt x="28" y="45"/>
                </a:lnTo>
                <a:lnTo>
                  <a:pt x="29" y="43"/>
                </a:lnTo>
              </a:path>
            </a:pathLst>
          </a:custGeom>
          <a:noFill/>
          <a:ln w="6480">
            <a:solidFill>
              <a:srgbClr val="1f1a17"/>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28" name="Freeform 127"/>
          <p:cNvSpPr/>
          <p:nvPr/>
        </p:nvSpPr>
        <p:spPr>
          <a:xfrm>
            <a:off x="5264280" y="6408720"/>
            <a:ext cx="47520" cy="30240"/>
          </a:xfrm>
          <a:custGeom>
            <a:avLst/>
            <a:gdLst>
              <a:gd name="textAreaLeft" fmla="*/ 0 w 47520"/>
              <a:gd name="textAreaRight" fmla="*/ 47880 w 47520"/>
              <a:gd name="textAreaTop" fmla="*/ 0 h 30240"/>
              <a:gd name="textAreaBottom" fmla="*/ 30600 h 30240"/>
            </a:gdLst>
            <a:ahLst/>
            <a:rect l="textAreaLeft" t="textAreaTop" r="textAreaRight" b="textAreaBottom"/>
            <a:pathLst>
              <a:path w="59" h="38">
                <a:moveTo>
                  <a:pt x="0" y="22"/>
                </a:moveTo>
                <a:lnTo>
                  <a:pt x="14" y="15"/>
                </a:lnTo>
                <a:lnTo>
                  <a:pt x="32" y="4"/>
                </a:lnTo>
                <a:lnTo>
                  <a:pt x="40" y="0"/>
                </a:lnTo>
                <a:lnTo>
                  <a:pt x="43" y="0"/>
                </a:lnTo>
                <a:lnTo>
                  <a:pt x="44" y="0"/>
                </a:lnTo>
                <a:lnTo>
                  <a:pt x="45" y="1"/>
                </a:lnTo>
                <a:lnTo>
                  <a:pt x="46" y="2"/>
                </a:lnTo>
                <a:lnTo>
                  <a:pt x="48" y="7"/>
                </a:lnTo>
                <a:lnTo>
                  <a:pt x="53" y="16"/>
                </a:lnTo>
                <a:lnTo>
                  <a:pt x="59" y="22"/>
                </a:lnTo>
                <a:lnTo>
                  <a:pt x="54" y="30"/>
                </a:lnTo>
                <a:lnTo>
                  <a:pt x="50" y="35"/>
                </a:lnTo>
                <a:lnTo>
                  <a:pt x="45" y="37"/>
                </a:lnTo>
                <a:lnTo>
                  <a:pt x="39" y="38"/>
                </a:lnTo>
                <a:lnTo>
                  <a:pt x="34" y="38"/>
                </a:lnTo>
                <a:lnTo>
                  <a:pt x="29" y="37"/>
                </a:lnTo>
                <a:lnTo>
                  <a:pt x="17" y="32"/>
                </a:lnTo>
                <a:lnTo>
                  <a:pt x="7" y="27"/>
                </a:lnTo>
                <a:lnTo>
                  <a:pt x="0" y="22"/>
                </a:lnTo>
                <a:lnTo>
                  <a:pt x="13" y="15"/>
                </a:lnTo>
                <a:lnTo>
                  <a:pt x="25" y="8"/>
                </a:lnTo>
                <a:lnTo>
                  <a:pt x="18" y="12"/>
                </a:lnTo>
                <a:lnTo>
                  <a:pt x="1" y="22"/>
                </a:lnTo>
                <a:lnTo>
                  <a:pt x="0" y="22"/>
                </a:lnTo>
              </a:path>
            </a:pathLst>
          </a:custGeom>
          <a:noFill/>
          <a:ln w="6480">
            <a:solidFill>
              <a:srgbClr val="1f1a17"/>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29" name="Freeform 128"/>
          <p:cNvSpPr/>
          <p:nvPr/>
        </p:nvSpPr>
        <p:spPr>
          <a:xfrm>
            <a:off x="4449600" y="5962680"/>
            <a:ext cx="34920" cy="66600"/>
          </a:xfrm>
          <a:custGeom>
            <a:avLst/>
            <a:gdLst>
              <a:gd name="textAreaLeft" fmla="*/ 0 w 34920"/>
              <a:gd name="textAreaRight" fmla="*/ 34920 w 34920"/>
              <a:gd name="textAreaTop" fmla="*/ 0 h 66600"/>
              <a:gd name="textAreaBottom" fmla="*/ 66960 h 66600"/>
            </a:gdLst>
            <a:ahLst/>
            <a:rect l="textAreaLeft" t="textAreaTop" r="textAreaRight" b="textAreaBottom"/>
            <a:pathLst>
              <a:path w="44" h="84">
                <a:moveTo>
                  <a:pt x="8" y="80"/>
                </a:moveTo>
                <a:lnTo>
                  <a:pt x="7" y="81"/>
                </a:lnTo>
                <a:lnTo>
                  <a:pt x="6" y="79"/>
                </a:lnTo>
                <a:lnTo>
                  <a:pt x="5" y="75"/>
                </a:lnTo>
                <a:lnTo>
                  <a:pt x="3" y="61"/>
                </a:lnTo>
                <a:lnTo>
                  <a:pt x="0" y="25"/>
                </a:lnTo>
                <a:lnTo>
                  <a:pt x="0" y="7"/>
                </a:lnTo>
                <a:lnTo>
                  <a:pt x="4" y="4"/>
                </a:lnTo>
                <a:lnTo>
                  <a:pt x="7" y="2"/>
                </a:lnTo>
                <a:lnTo>
                  <a:pt x="11" y="0"/>
                </a:lnTo>
                <a:lnTo>
                  <a:pt x="14" y="0"/>
                </a:lnTo>
                <a:lnTo>
                  <a:pt x="19" y="0"/>
                </a:lnTo>
                <a:lnTo>
                  <a:pt x="23" y="0"/>
                </a:lnTo>
                <a:lnTo>
                  <a:pt x="30" y="4"/>
                </a:lnTo>
                <a:lnTo>
                  <a:pt x="38" y="8"/>
                </a:lnTo>
                <a:lnTo>
                  <a:pt x="44" y="14"/>
                </a:lnTo>
                <a:lnTo>
                  <a:pt x="43" y="16"/>
                </a:lnTo>
                <a:lnTo>
                  <a:pt x="38" y="25"/>
                </a:lnTo>
                <a:lnTo>
                  <a:pt x="21" y="56"/>
                </a:lnTo>
                <a:lnTo>
                  <a:pt x="8" y="79"/>
                </a:lnTo>
                <a:lnTo>
                  <a:pt x="8" y="80"/>
                </a:lnTo>
                <a:lnTo>
                  <a:pt x="7" y="82"/>
                </a:lnTo>
                <a:lnTo>
                  <a:pt x="6" y="84"/>
                </a:lnTo>
                <a:lnTo>
                  <a:pt x="7" y="81"/>
                </a:lnTo>
                <a:lnTo>
                  <a:pt x="8" y="80"/>
                </a:lnTo>
              </a:path>
            </a:pathLst>
          </a:custGeom>
          <a:noFill/>
          <a:ln w="6480">
            <a:solidFill>
              <a:srgbClr val="1f1a17"/>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30" name="Freeform 129"/>
          <p:cNvSpPr/>
          <p:nvPr/>
        </p:nvSpPr>
        <p:spPr>
          <a:xfrm>
            <a:off x="4605480" y="6100920"/>
            <a:ext cx="33120" cy="42840"/>
          </a:xfrm>
          <a:custGeom>
            <a:avLst/>
            <a:gdLst/>
            <a:ahLst/>
            <a:rect l="l" t="t" r="r" b="b"/>
            <a:pathLst>
              <a:path w="41" h="55">
                <a:moveTo>
                  <a:pt x="20" y="0"/>
                </a:moveTo>
                <a:lnTo>
                  <a:pt x="23" y="1"/>
                </a:lnTo>
                <a:lnTo>
                  <a:pt x="33" y="3"/>
                </a:lnTo>
                <a:lnTo>
                  <a:pt x="40" y="4"/>
                </a:lnTo>
                <a:lnTo>
                  <a:pt x="41" y="4"/>
                </a:lnTo>
                <a:lnTo>
                  <a:pt x="40" y="11"/>
                </a:lnTo>
                <a:lnTo>
                  <a:pt x="37" y="29"/>
                </a:lnTo>
                <a:lnTo>
                  <a:pt x="36" y="44"/>
                </a:lnTo>
                <a:lnTo>
                  <a:pt x="20" y="50"/>
                </a:lnTo>
                <a:lnTo>
                  <a:pt x="2" y="55"/>
                </a:lnTo>
                <a:lnTo>
                  <a:pt x="1" y="55"/>
                </a:lnTo>
                <a:lnTo>
                  <a:pt x="0" y="55"/>
                </a:lnTo>
                <a:lnTo>
                  <a:pt x="0" y="53"/>
                </a:lnTo>
                <a:lnTo>
                  <a:pt x="1" y="51"/>
                </a:lnTo>
                <a:lnTo>
                  <a:pt x="2" y="48"/>
                </a:lnTo>
                <a:lnTo>
                  <a:pt x="5" y="43"/>
                </a:lnTo>
                <a:lnTo>
                  <a:pt x="15" y="28"/>
                </a:lnTo>
                <a:lnTo>
                  <a:pt x="20" y="10"/>
                </a:lnTo>
                <a:lnTo>
                  <a:pt x="20" y="0"/>
                </a:lnTo>
              </a:path>
            </a:pathLst>
          </a:custGeom>
          <a:noFill/>
          <a:ln w="6480">
            <a:solidFill>
              <a:srgbClr val="1f1a17"/>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Freeform 130"/>
          <p:cNvSpPr/>
          <p:nvPr/>
        </p:nvSpPr>
        <p:spPr>
          <a:xfrm>
            <a:off x="4603680" y="6237360"/>
            <a:ext cx="57240" cy="38160"/>
          </a:xfrm>
          <a:custGeom>
            <a:avLst/>
            <a:gdLst>
              <a:gd name="textAreaLeft" fmla="*/ 0 w 57240"/>
              <a:gd name="textAreaRight" fmla="*/ 57600 w 57240"/>
              <a:gd name="textAreaTop" fmla="*/ 0 h 38160"/>
              <a:gd name="textAreaBottom" fmla="*/ 38520 h 38160"/>
            </a:gdLst>
            <a:ahLst/>
            <a:rect l="textAreaLeft" t="textAreaTop" r="textAreaRight" b="textAreaBottom"/>
            <a:pathLst>
              <a:path w="70" h="48">
                <a:moveTo>
                  <a:pt x="27" y="0"/>
                </a:moveTo>
                <a:lnTo>
                  <a:pt x="34" y="3"/>
                </a:lnTo>
                <a:lnTo>
                  <a:pt x="53" y="12"/>
                </a:lnTo>
                <a:lnTo>
                  <a:pt x="69" y="18"/>
                </a:lnTo>
                <a:lnTo>
                  <a:pt x="70" y="18"/>
                </a:lnTo>
                <a:lnTo>
                  <a:pt x="69" y="19"/>
                </a:lnTo>
                <a:lnTo>
                  <a:pt x="65" y="23"/>
                </a:lnTo>
                <a:lnTo>
                  <a:pt x="49" y="36"/>
                </a:lnTo>
                <a:lnTo>
                  <a:pt x="36" y="46"/>
                </a:lnTo>
                <a:lnTo>
                  <a:pt x="33" y="47"/>
                </a:lnTo>
                <a:lnTo>
                  <a:pt x="26" y="48"/>
                </a:lnTo>
                <a:lnTo>
                  <a:pt x="12" y="48"/>
                </a:lnTo>
                <a:lnTo>
                  <a:pt x="2" y="47"/>
                </a:lnTo>
                <a:lnTo>
                  <a:pt x="0" y="46"/>
                </a:lnTo>
                <a:lnTo>
                  <a:pt x="1" y="45"/>
                </a:lnTo>
                <a:lnTo>
                  <a:pt x="3" y="42"/>
                </a:lnTo>
                <a:lnTo>
                  <a:pt x="8" y="33"/>
                </a:lnTo>
                <a:lnTo>
                  <a:pt x="22" y="11"/>
                </a:lnTo>
                <a:lnTo>
                  <a:pt x="27" y="0"/>
                </a:lnTo>
              </a:path>
            </a:pathLst>
          </a:custGeom>
          <a:noFill/>
          <a:ln w="6480">
            <a:solidFill>
              <a:srgbClr val="1f1a17"/>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32" name="Freeform 131"/>
          <p:cNvSpPr/>
          <p:nvPr/>
        </p:nvSpPr>
        <p:spPr>
          <a:xfrm>
            <a:off x="4638600" y="6356520"/>
            <a:ext cx="66600" cy="37800"/>
          </a:xfrm>
          <a:custGeom>
            <a:avLst/>
            <a:gdLst>
              <a:gd name="textAreaLeft" fmla="*/ 0 w 66600"/>
              <a:gd name="textAreaRight" fmla="*/ 66960 w 66600"/>
              <a:gd name="textAreaTop" fmla="*/ 0 h 37800"/>
              <a:gd name="textAreaBottom" fmla="*/ 38160 h 37800"/>
            </a:gdLst>
            <a:ahLst/>
            <a:rect l="textAreaLeft" t="textAreaTop" r="textAreaRight" b="textAreaBottom"/>
            <a:pathLst>
              <a:path w="84" h="47">
                <a:moveTo>
                  <a:pt x="0" y="6"/>
                </a:moveTo>
                <a:lnTo>
                  <a:pt x="27" y="5"/>
                </a:lnTo>
                <a:lnTo>
                  <a:pt x="50" y="8"/>
                </a:lnTo>
                <a:lnTo>
                  <a:pt x="66" y="13"/>
                </a:lnTo>
                <a:lnTo>
                  <a:pt x="78" y="21"/>
                </a:lnTo>
                <a:lnTo>
                  <a:pt x="83" y="29"/>
                </a:lnTo>
                <a:lnTo>
                  <a:pt x="84" y="33"/>
                </a:lnTo>
                <a:lnTo>
                  <a:pt x="84" y="37"/>
                </a:lnTo>
                <a:lnTo>
                  <a:pt x="83" y="41"/>
                </a:lnTo>
                <a:lnTo>
                  <a:pt x="80" y="43"/>
                </a:lnTo>
                <a:lnTo>
                  <a:pt x="77" y="45"/>
                </a:lnTo>
                <a:lnTo>
                  <a:pt x="72" y="47"/>
                </a:lnTo>
                <a:lnTo>
                  <a:pt x="67" y="47"/>
                </a:lnTo>
                <a:lnTo>
                  <a:pt x="59" y="46"/>
                </a:lnTo>
                <a:lnTo>
                  <a:pt x="52" y="43"/>
                </a:lnTo>
                <a:lnTo>
                  <a:pt x="34" y="33"/>
                </a:lnTo>
                <a:lnTo>
                  <a:pt x="12" y="17"/>
                </a:lnTo>
                <a:lnTo>
                  <a:pt x="0" y="6"/>
                </a:lnTo>
                <a:lnTo>
                  <a:pt x="26" y="3"/>
                </a:lnTo>
                <a:lnTo>
                  <a:pt x="52" y="0"/>
                </a:lnTo>
                <a:lnTo>
                  <a:pt x="37" y="2"/>
                </a:lnTo>
                <a:lnTo>
                  <a:pt x="3" y="6"/>
                </a:lnTo>
                <a:lnTo>
                  <a:pt x="0" y="6"/>
                </a:lnTo>
              </a:path>
            </a:pathLst>
          </a:custGeom>
          <a:noFill/>
          <a:ln w="6480">
            <a:solidFill>
              <a:srgbClr val="1f1a17"/>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3" name="Freeform 132"/>
          <p:cNvSpPr/>
          <p:nvPr/>
        </p:nvSpPr>
        <p:spPr>
          <a:xfrm>
            <a:off x="5156280" y="6611760"/>
            <a:ext cx="476280" cy="123840"/>
          </a:xfrm>
          <a:custGeom>
            <a:avLst/>
            <a:gdLst>
              <a:gd name="textAreaLeft" fmla="*/ 0 w 476280"/>
              <a:gd name="textAreaRight" fmla="*/ 476640 w 476280"/>
              <a:gd name="textAreaTop" fmla="*/ 0 h 123840"/>
              <a:gd name="textAreaBottom" fmla="*/ 123840 h 123840"/>
            </a:gdLst>
            <a:ahLst/>
            <a:rect l="textAreaLeft" t="textAreaTop" r="textAreaRight" b="textAreaBottom"/>
            <a:pathLst>
              <a:path w="600" h="155">
                <a:moveTo>
                  <a:pt x="55" y="15"/>
                </a:moveTo>
                <a:lnTo>
                  <a:pt x="67" y="16"/>
                </a:lnTo>
                <a:lnTo>
                  <a:pt x="94" y="16"/>
                </a:lnTo>
                <a:lnTo>
                  <a:pt x="142" y="25"/>
                </a:lnTo>
                <a:lnTo>
                  <a:pt x="151" y="29"/>
                </a:lnTo>
                <a:lnTo>
                  <a:pt x="158" y="35"/>
                </a:lnTo>
                <a:lnTo>
                  <a:pt x="162" y="43"/>
                </a:lnTo>
                <a:lnTo>
                  <a:pt x="165" y="52"/>
                </a:lnTo>
                <a:lnTo>
                  <a:pt x="164" y="62"/>
                </a:lnTo>
                <a:lnTo>
                  <a:pt x="182" y="62"/>
                </a:lnTo>
                <a:lnTo>
                  <a:pt x="228" y="59"/>
                </a:lnTo>
                <a:lnTo>
                  <a:pt x="339" y="41"/>
                </a:lnTo>
                <a:lnTo>
                  <a:pt x="442" y="10"/>
                </a:lnTo>
                <a:lnTo>
                  <a:pt x="463" y="0"/>
                </a:lnTo>
                <a:lnTo>
                  <a:pt x="463" y="2"/>
                </a:lnTo>
                <a:lnTo>
                  <a:pt x="463" y="10"/>
                </a:lnTo>
                <a:lnTo>
                  <a:pt x="465" y="40"/>
                </a:lnTo>
                <a:lnTo>
                  <a:pt x="466" y="61"/>
                </a:lnTo>
                <a:lnTo>
                  <a:pt x="467" y="62"/>
                </a:lnTo>
                <a:lnTo>
                  <a:pt x="471" y="58"/>
                </a:lnTo>
                <a:lnTo>
                  <a:pt x="479" y="53"/>
                </a:lnTo>
                <a:lnTo>
                  <a:pt x="499" y="43"/>
                </a:lnTo>
                <a:lnTo>
                  <a:pt x="550" y="22"/>
                </a:lnTo>
                <a:lnTo>
                  <a:pt x="595" y="12"/>
                </a:lnTo>
                <a:lnTo>
                  <a:pt x="599" y="22"/>
                </a:lnTo>
                <a:lnTo>
                  <a:pt x="600" y="32"/>
                </a:lnTo>
                <a:lnTo>
                  <a:pt x="598" y="42"/>
                </a:lnTo>
                <a:lnTo>
                  <a:pt x="592" y="50"/>
                </a:lnTo>
                <a:lnTo>
                  <a:pt x="584" y="58"/>
                </a:lnTo>
                <a:lnTo>
                  <a:pt x="573" y="66"/>
                </a:lnTo>
                <a:lnTo>
                  <a:pt x="543" y="80"/>
                </a:lnTo>
                <a:lnTo>
                  <a:pt x="508" y="92"/>
                </a:lnTo>
                <a:lnTo>
                  <a:pt x="422" y="114"/>
                </a:lnTo>
                <a:lnTo>
                  <a:pt x="260" y="147"/>
                </a:lnTo>
                <a:lnTo>
                  <a:pt x="235" y="155"/>
                </a:lnTo>
                <a:lnTo>
                  <a:pt x="221" y="143"/>
                </a:lnTo>
                <a:lnTo>
                  <a:pt x="206" y="135"/>
                </a:lnTo>
                <a:lnTo>
                  <a:pt x="188" y="129"/>
                </a:lnTo>
                <a:lnTo>
                  <a:pt x="146" y="122"/>
                </a:lnTo>
                <a:lnTo>
                  <a:pt x="100" y="119"/>
                </a:lnTo>
                <a:lnTo>
                  <a:pt x="17" y="111"/>
                </a:lnTo>
                <a:lnTo>
                  <a:pt x="0" y="105"/>
                </a:lnTo>
                <a:lnTo>
                  <a:pt x="2" y="104"/>
                </a:lnTo>
                <a:lnTo>
                  <a:pt x="8" y="91"/>
                </a:lnTo>
                <a:lnTo>
                  <a:pt x="34" y="50"/>
                </a:lnTo>
                <a:lnTo>
                  <a:pt x="53" y="17"/>
                </a:lnTo>
                <a:lnTo>
                  <a:pt x="55" y="15"/>
                </a:lnTo>
                <a:lnTo>
                  <a:pt x="65" y="15"/>
                </a:lnTo>
                <a:lnTo>
                  <a:pt x="76" y="15"/>
                </a:lnTo>
                <a:lnTo>
                  <a:pt x="69" y="15"/>
                </a:lnTo>
                <a:lnTo>
                  <a:pt x="55" y="15"/>
                </a:lnTo>
              </a:path>
            </a:pathLst>
          </a:custGeom>
          <a:blipFill rotWithShape="0">
            <a:blip r:embed="rId24"/>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133"/>
          <p:cNvSpPr/>
          <p:nvPr/>
        </p:nvSpPr>
        <p:spPr>
          <a:xfrm>
            <a:off x="4535640" y="5419800"/>
            <a:ext cx="912600" cy="1087200"/>
          </a:xfrm>
          <a:custGeom>
            <a:avLst/>
            <a:gdLst>
              <a:gd name="textAreaLeft" fmla="*/ 0 w 912600"/>
              <a:gd name="textAreaRight" fmla="*/ 912960 w 912600"/>
              <a:gd name="textAreaTop" fmla="*/ 0 h 1087200"/>
              <a:gd name="textAreaBottom" fmla="*/ 1087560 h 1087200"/>
            </a:gdLst>
            <a:ahLst/>
            <a:rect l="textAreaLeft" t="textAreaTop" r="textAreaRight" b="textAreaBottom"/>
            <a:pathLst>
              <a:path w="1149" h="1371">
                <a:moveTo>
                  <a:pt x="616" y="991"/>
                </a:moveTo>
                <a:lnTo>
                  <a:pt x="616" y="993"/>
                </a:lnTo>
                <a:lnTo>
                  <a:pt x="616" y="1006"/>
                </a:lnTo>
                <a:lnTo>
                  <a:pt x="617" y="1046"/>
                </a:lnTo>
                <a:lnTo>
                  <a:pt x="617" y="1078"/>
                </a:lnTo>
                <a:lnTo>
                  <a:pt x="618" y="1079"/>
                </a:lnTo>
                <a:lnTo>
                  <a:pt x="618" y="1082"/>
                </a:lnTo>
                <a:lnTo>
                  <a:pt x="621" y="1085"/>
                </a:lnTo>
                <a:lnTo>
                  <a:pt x="625" y="1088"/>
                </a:lnTo>
                <a:lnTo>
                  <a:pt x="629" y="1091"/>
                </a:lnTo>
                <a:lnTo>
                  <a:pt x="642" y="1096"/>
                </a:lnTo>
                <a:lnTo>
                  <a:pt x="674" y="1107"/>
                </a:lnTo>
                <a:lnTo>
                  <a:pt x="708" y="1120"/>
                </a:lnTo>
                <a:lnTo>
                  <a:pt x="733" y="1134"/>
                </a:lnTo>
                <a:lnTo>
                  <a:pt x="740" y="1143"/>
                </a:lnTo>
                <a:lnTo>
                  <a:pt x="741" y="1147"/>
                </a:lnTo>
                <a:lnTo>
                  <a:pt x="741" y="1152"/>
                </a:lnTo>
                <a:lnTo>
                  <a:pt x="739" y="1157"/>
                </a:lnTo>
                <a:lnTo>
                  <a:pt x="735" y="1162"/>
                </a:lnTo>
                <a:lnTo>
                  <a:pt x="730" y="1168"/>
                </a:lnTo>
                <a:lnTo>
                  <a:pt x="724" y="1171"/>
                </a:lnTo>
                <a:lnTo>
                  <a:pt x="716" y="1172"/>
                </a:lnTo>
                <a:lnTo>
                  <a:pt x="709" y="1172"/>
                </a:lnTo>
                <a:lnTo>
                  <a:pt x="700" y="1171"/>
                </a:lnTo>
                <a:lnTo>
                  <a:pt x="681" y="1165"/>
                </a:lnTo>
                <a:lnTo>
                  <a:pt x="658" y="1155"/>
                </a:lnTo>
                <a:lnTo>
                  <a:pt x="635" y="1143"/>
                </a:lnTo>
                <a:lnTo>
                  <a:pt x="622" y="1136"/>
                </a:lnTo>
                <a:lnTo>
                  <a:pt x="609" y="1131"/>
                </a:lnTo>
                <a:lnTo>
                  <a:pt x="590" y="1123"/>
                </a:lnTo>
                <a:lnTo>
                  <a:pt x="568" y="1119"/>
                </a:lnTo>
                <a:lnTo>
                  <a:pt x="560" y="1120"/>
                </a:lnTo>
                <a:lnTo>
                  <a:pt x="558" y="1120"/>
                </a:lnTo>
                <a:lnTo>
                  <a:pt x="562" y="1128"/>
                </a:lnTo>
                <a:lnTo>
                  <a:pt x="566" y="1140"/>
                </a:lnTo>
                <a:lnTo>
                  <a:pt x="567" y="1150"/>
                </a:lnTo>
                <a:lnTo>
                  <a:pt x="566" y="1160"/>
                </a:lnTo>
                <a:lnTo>
                  <a:pt x="563" y="1182"/>
                </a:lnTo>
                <a:lnTo>
                  <a:pt x="563" y="1189"/>
                </a:lnTo>
                <a:lnTo>
                  <a:pt x="567" y="1193"/>
                </a:lnTo>
                <a:lnTo>
                  <a:pt x="581" y="1203"/>
                </a:lnTo>
                <a:lnTo>
                  <a:pt x="617" y="1228"/>
                </a:lnTo>
                <a:lnTo>
                  <a:pt x="653" y="1261"/>
                </a:lnTo>
                <a:lnTo>
                  <a:pt x="660" y="1270"/>
                </a:lnTo>
                <a:lnTo>
                  <a:pt x="666" y="1281"/>
                </a:lnTo>
                <a:lnTo>
                  <a:pt x="672" y="1300"/>
                </a:lnTo>
                <a:lnTo>
                  <a:pt x="675" y="1317"/>
                </a:lnTo>
                <a:lnTo>
                  <a:pt x="676" y="1346"/>
                </a:lnTo>
                <a:lnTo>
                  <a:pt x="680" y="1360"/>
                </a:lnTo>
                <a:lnTo>
                  <a:pt x="674" y="1361"/>
                </a:lnTo>
                <a:lnTo>
                  <a:pt x="669" y="1360"/>
                </a:lnTo>
                <a:lnTo>
                  <a:pt x="662" y="1357"/>
                </a:lnTo>
                <a:lnTo>
                  <a:pt x="656" y="1352"/>
                </a:lnTo>
                <a:lnTo>
                  <a:pt x="641" y="1339"/>
                </a:lnTo>
                <a:lnTo>
                  <a:pt x="607" y="1307"/>
                </a:lnTo>
                <a:lnTo>
                  <a:pt x="590" y="1292"/>
                </a:lnTo>
                <a:lnTo>
                  <a:pt x="581" y="1288"/>
                </a:lnTo>
                <a:lnTo>
                  <a:pt x="578" y="1288"/>
                </a:lnTo>
                <a:lnTo>
                  <a:pt x="576" y="1288"/>
                </a:lnTo>
                <a:lnTo>
                  <a:pt x="573" y="1290"/>
                </a:lnTo>
                <a:lnTo>
                  <a:pt x="571" y="1292"/>
                </a:lnTo>
                <a:lnTo>
                  <a:pt x="570" y="1295"/>
                </a:lnTo>
                <a:lnTo>
                  <a:pt x="569" y="1299"/>
                </a:lnTo>
                <a:lnTo>
                  <a:pt x="567" y="1308"/>
                </a:lnTo>
                <a:lnTo>
                  <a:pt x="565" y="1331"/>
                </a:lnTo>
                <a:lnTo>
                  <a:pt x="562" y="1352"/>
                </a:lnTo>
                <a:lnTo>
                  <a:pt x="558" y="1361"/>
                </a:lnTo>
                <a:lnTo>
                  <a:pt x="555" y="1368"/>
                </a:lnTo>
                <a:lnTo>
                  <a:pt x="552" y="1370"/>
                </a:lnTo>
                <a:lnTo>
                  <a:pt x="550" y="1371"/>
                </a:lnTo>
                <a:lnTo>
                  <a:pt x="548" y="1369"/>
                </a:lnTo>
                <a:lnTo>
                  <a:pt x="535" y="1354"/>
                </a:lnTo>
                <a:lnTo>
                  <a:pt x="492" y="1299"/>
                </a:lnTo>
                <a:lnTo>
                  <a:pt x="459" y="1257"/>
                </a:lnTo>
                <a:lnTo>
                  <a:pt x="458" y="1254"/>
                </a:lnTo>
                <a:lnTo>
                  <a:pt x="455" y="1255"/>
                </a:lnTo>
                <a:lnTo>
                  <a:pt x="454" y="1256"/>
                </a:lnTo>
                <a:lnTo>
                  <a:pt x="453" y="1260"/>
                </a:lnTo>
                <a:lnTo>
                  <a:pt x="452" y="1265"/>
                </a:lnTo>
                <a:lnTo>
                  <a:pt x="451" y="1276"/>
                </a:lnTo>
                <a:lnTo>
                  <a:pt x="447" y="1302"/>
                </a:lnTo>
                <a:lnTo>
                  <a:pt x="437" y="1328"/>
                </a:lnTo>
                <a:lnTo>
                  <a:pt x="429" y="1337"/>
                </a:lnTo>
                <a:lnTo>
                  <a:pt x="417" y="1341"/>
                </a:lnTo>
                <a:lnTo>
                  <a:pt x="401" y="1340"/>
                </a:lnTo>
                <a:lnTo>
                  <a:pt x="380" y="1333"/>
                </a:lnTo>
                <a:lnTo>
                  <a:pt x="356" y="1317"/>
                </a:lnTo>
                <a:lnTo>
                  <a:pt x="356" y="1316"/>
                </a:lnTo>
                <a:lnTo>
                  <a:pt x="351" y="1306"/>
                </a:lnTo>
                <a:lnTo>
                  <a:pt x="348" y="1282"/>
                </a:lnTo>
                <a:lnTo>
                  <a:pt x="347" y="1254"/>
                </a:lnTo>
                <a:lnTo>
                  <a:pt x="344" y="1197"/>
                </a:lnTo>
                <a:lnTo>
                  <a:pt x="336" y="1162"/>
                </a:lnTo>
                <a:lnTo>
                  <a:pt x="330" y="1154"/>
                </a:lnTo>
                <a:lnTo>
                  <a:pt x="321" y="1148"/>
                </a:lnTo>
                <a:lnTo>
                  <a:pt x="311" y="1143"/>
                </a:lnTo>
                <a:lnTo>
                  <a:pt x="299" y="1139"/>
                </a:lnTo>
                <a:lnTo>
                  <a:pt x="272" y="1133"/>
                </a:lnTo>
                <a:lnTo>
                  <a:pt x="244" y="1124"/>
                </a:lnTo>
                <a:lnTo>
                  <a:pt x="218" y="1109"/>
                </a:lnTo>
                <a:lnTo>
                  <a:pt x="200" y="1084"/>
                </a:lnTo>
                <a:lnTo>
                  <a:pt x="207" y="1034"/>
                </a:lnTo>
                <a:lnTo>
                  <a:pt x="226" y="1003"/>
                </a:lnTo>
                <a:lnTo>
                  <a:pt x="255" y="986"/>
                </a:lnTo>
                <a:lnTo>
                  <a:pt x="291" y="981"/>
                </a:lnTo>
                <a:lnTo>
                  <a:pt x="333" y="984"/>
                </a:lnTo>
                <a:lnTo>
                  <a:pt x="421" y="999"/>
                </a:lnTo>
                <a:lnTo>
                  <a:pt x="499" y="1005"/>
                </a:lnTo>
                <a:lnTo>
                  <a:pt x="529" y="994"/>
                </a:lnTo>
                <a:lnTo>
                  <a:pt x="541" y="985"/>
                </a:lnTo>
                <a:lnTo>
                  <a:pt x="550" y="972"/>
                </a:lnTo>
                <a:lnTo>
                  <a:pt x="555" y="955"/>
                </a:lnTo>
                <a:lnTo>
                  <a:pt x="557" y="932"/>
                </a:lnTo>
                <a:lnTo>
                  <a:pt x="526" y="928"/>
                </a:lnTo>
                <a:lnTo>
                  <a:pt x="491" y="928"/>
                </a:lnTo>
                <a:lnTo>
                  <a:pt x="414" y="935"/>
                </a:lnTo>
                <a:lnTo>
                  <a:pt x="257" y="944"/>
                </a:lnTo>
                <a:lnTo>
                  <a:pt x="156" y="876"/>
                </a:lnTo>
                <a:lnTo>
                  <a:pt x="160" y="864"/>
                </a:lnTo>
                <a:lnTo>
                  <a:pt x="170" y="847"/>
                </a:lnTo>
                <a:lnTo>
                  <a:pt x="183" y="836"/>
                </a:lnTo>
                <a:lnTo>
                  <a:pt x="197" y="830"/>
                </a:lnTo>
                <a:lnTo>
                  <a:pt x="211" y="827"/>
                </a:lnTo>
                <a:lnTo>
                  <a:pt x="222" y="823"/>
                </a:lnTo>
                <a:lnTo>
                  <a:pt x="227" y="819"/>
                </a:lnTo>
                <a:lnTo>
                  <a:pt x="210" y="816"/>
                </a:lnTo>
                <a:lnTo>
                  <a:pt x="175" y="809"/>
                </a:lnTo>
                <a:lnTo>
                  <a:pt x="102" y="793"/>
                </a:lnTo>
                <a:lnTo>
                  <a:pt x="30" y="756"/>
                </a:lnTo>
                <a:lnTo>
                  <a:pt x="14" y="741"/>
                </a:lnTo>
                <a:lnTo>
                  <a:pt x="10" y="733"/>
                </a:lnTo>
                <a:lnTo>
                  <a:pt x="4" y="706"/>
                </a:lnTo>
                <a:lnTo>
                  <a:pt x="0" y="686"/>
                </a:lnTo>
                <a:lnTo>
                  <a:pt x="0" y="684"/>
                </a:lnTo>
                <a:lnTo>
                  <a:pt x="6" y="682"/>
                </a:lnTo>
                <a:lnTo>
                  <a:pt x="29" y="672"/>
                </a:lnTo>
                <a:lnTo>
                  <a:pt x="46" y="665"/>
                </a:lnTo>
                <a:lnTo>
                  <a:pt x="47" y="664"/>
                </a:lnTo>
                <a:lnTo>
                  <a:pt x="46" y="661"/>
                </a:lnTo>
                <a:lnTo>
                  <a:pt x="44" y="653"/>
                </a:lnTo>
                <a:lnTo>
                  <a:pt x="39" y="645"/>
                </a:lnTo>
                <a:lnTo>
                  <a:pt x="32" y="630"/>
                </a:lnTo>
                <a:lnTo>
                  <a:pt x="30" y="617"/>
                </a:lnTo>
                <a:lnTo>
                  <a:pt x="31" y="613"/>
                </a:lnTo>
                <a:lnTo>
                  <a:pt x="39" y="582"/>
                </a:lnTo>
                <a:lnTo>
                  <a:pt x="72" y="473"/>
                </a:lnTo>
                <a:lnTo>
                  <a:pt x="95" y="390"/>
                </a:lnTo>
                <a:lnTo>
                  <a:pt x="97" y="385"/>
                </a:lnTo>
                <a:lnTo>
                  <a:pt x="103" y="385"/>
                </a:lnTo>
                <a:lnTo>
                  <a:pt x="121" y="384"/>
                </a:lnTo>
                <a:lnTo>
                  <a:pt x="176" y="378"/>
                </a:lnTo>
                <a:lnTo>
                  <a:pt x="234" y="363"/>
                </a:lnTo>
                <a:lnTo>
                  <a:pt x="246" y="357"/>
                </a:lnTo>
                <a:lnTo>
                  <a:pt x="247" y="356"/>
                </a:lnTo>
                <a:lnTo>
                  <a:pt x="259" y="347"/>
                </a:lnTo>
                <a:lnTo>
                  <a:pt x="299" y="317"/>
                </a:lnTo>
                <a:lnTo>
                  <a:pt x="329" y="294"/>
                </a:lnTo>
                <a:lnTo>
                  <a:pt x="331" y="292"/>
                </a:lnTo>
                <a:lnTo>
                  <a:pt x="332" y="292"/>
                </a:lnTo>
                <a:lnTo>
                  <a:pt x="340" y="292"/>
                </a:lnTo>
                <a:lnTo>
                  <a:pt x="369" y="289"/>
                </a:lnTo>
                <a:lnTo>
                  <a:pt x="390" y="288"/>
                </a:lnTo>
                <a:lnTo>
                  <a:pt x="392" y="287"/>
                </a:lnTo>
                <a:lnTo>
                  <a:pt x="395" y="285"/>
                </a:lnTo>
                <a:lnTo>
                  <a:pt x="424" y="269"/>
                </a:lnTo>
                <a:lnTo>
                  <a:pt x="523" y="214"/>
                </a:lnTo>
                <a:lnTo>
                  <a:pt x="599" y="171"/>
                </a:lnTo>
                <a:lnTo>
                  <a:pt x="603" y="168"/>
                </a:lnTo>
                <a:lnTo>
                  <a:pt x="605" y="168"/>
                </a:lnTo>
                <a:lnTo>
                  <a:pt x="616" y="168"/>
                </a:lnTo>
                <a:lnTo>
                  <a:pt x="656" y="168"/>
                </a:lnTo>
                <a:lnTo>
                  <a:pt x="686" y="168"/>
                </a:lnTo>
                <a:lnTo>
                  <a:pt x="688" y="167"/>
                </a:lnTo>
                <a:lnTo>
                  <a:pt x="689" y="167"/>
                </a:lnTo>
                <a:lnTo>
                  <a:pt x="704" y="161"/>
                </a:lnTo>
                <a:lnTo>
                  <a:pt x="756" y="143"/>
                </a:lnTo>
                <a:lnTo>
                  <a:pt x="794" y="128"/>
                </a:lnTo>
                <a:lnTo>
                  <a:pt x="797" y="127"/>
                </a:lnTo>
                <a:lnTo>
                  <a:pt x="810" y="132"/>
                </a:lnTo>
                <a:lnTo>
                  <a:pt x="852" y="145"/>
                </a:lnTo>
                <a:lnTo>
                  <a:pt x="884" y="154"/>
                </a:lnTo>
                <a:lnTo>
                  <a:pt x="887" y="154"/>
                </a:lnTo>
                <a:lnTo>
                  <a:pt x="904" y="147"/>
                </a:lnTo>
                <a:lnTo>
                  <a:pt x="958" y="122"/>
                </a:lnTo>
                <a:lnTo>
                  <a:pt x="999" y="104"/>
                </a:lnTo>
                <a:lnTo>
                  <a:pt x="1002" y="103"/>
                </a:lnTo>
                <a:lnTo>
                  <a:pt x="997" y="99"/>
                </a:lnTo>
                <a:lnTo>
                  <a:pt x="981" y="85"/>
                </a:lnTo>
                <a:lnTo>
                  <a:pt x="969" y="73"/>
                </a:lnTo>
                <a:lnTo>
                  <a:pt x="969" y="72"/>
                </a:lnTo>
                <a:lnTo>
                  <a:pt x="970" y="71"/>
                </a:lnTo>
                <a:lnTo>
                  <a:pt x="984" y="61"/>
                </a:lnTo>
                <a:lnTo>
                  <a:pt x="1032" y="28"/>
                </a:lnTo>
                <a:lnTo>
                  <a:pt x="1069" y="2"/>
                </a:lnTo>
                <a:lnTo>
                  <a:pt x="1071" y="0"/>
                </a:lnTo>
                <a:lnTo>
                  <a:pt x="1072" y="2"/>
                </a:lnTo>
                <a:lnTo>
                  <a:pt x="1083" y="13"/>
                </a:lnTo>
                <a:lnTo>
                  <a:pt x="1119" y="53"/>
                </a:lnTo>
                <a:lnTo>
                  <a:pt x="1147" y="83"/>
                </a:lnTo>
                <a:lnTo>
                  <a:pt x="1149" y="84"/>
                </a:lnTo>
                <a:lnTo>
                  <a:pt x="1148" y="86"/>
                </a:lnTo>
                <a:lnTo>
                  <a:pt x="1141" y="98"/>
                </a:lnTo>
                <a:lnTo>
                  <a:pt x="1115" y="139"/>
                </a:lnTo>
                <a:lnTo>
                  <a:pt x="1096" y="170"/>
                </a:lnTo>
                <a:lnTo>
                  <a:pt x="1096" y="171"/>
                </a:lnTo>
                <a:lnTo>
                  <a:pt x="1095" y="178"/>
                </a:lnTo>
                <a:lnTo>
                  <a:pt x="1094" y="190"/>
                </a:lnTo>
                <a:lnTo>
                  <a:pt x="1090" y="198"/>
                </a:lnTo>
                <a:lnTo>
                  <a:pt x="1085" y="217"/>
                </a:lnTo>
                <a:lnTo>
                  <a:pt x="1086" y="240"/>
                </a:lnTo>
                <a:lnTo>
                  <a:pt x="1076" y="237"/>
                </a:lnTo>
                <a:lnTo>
                  <a:pt x="1064" y="236"/>
                </a:lnTo>
                <a:lnTo>
                  <a:pt x="1035" y="235"/>
                </a:lnTo>
                <a:lnTo>
                  <a:pt x="1002" y="238"/>
                </a:lnTo>
                <a:lnTo>
                  <a:pt x="940" y="252"/>
                </a:lnTo>
                <a:lnTo>
                  <a:pt x="919" y="259"/>
                </a:lnTo>
                <a:lnTo>
                  <a:pt x="913" y="258"/>
                </a:lnTo>
                <a:lnTo>
                  <a:pt x="907" y="258"/>
                </a:lnTo>
                <a:lnTo>
                  <a:pt x="893" y="259"/>
                </a:lnTo>
                <a:lnTo>
                  <a:pt x="876" y="262"/>
                </a:lnTo>
                <a:lnTo>
                  <a:pt x="840" y="271"/>
                </a:lnTo>
                <a:lnTo>
                  <a:pt x="825" y="276"/>
                </a:lnTo>
                <a:lnTo>
                  <a:pt x="818" y="279"/>
                </a:lnTo>
                <a:lnTo>
                  <a:pt x="805" y="286"/>
                </a:lnTo>
                <a:lnTo>
                  <a:pt x="794" y="296"/>
                </a:lnTo>
                <a:lnTo>
                  <a:pt x="784" y="311"/>
                </a:lnTo>
                <a:lnTo>
                  <a:pt x="775" y="330"/>
                </a:lnTo>
                <a:lnTo>
                  <a:pt x="766" y="357"/>
                </a:lnTo>
                <a:lnTo>
                  <a:pt x="762" y="372"/>
                </a:lnTo>
                <a:lnTo>
                  <a:pt x="757" y="387"/>
                </a:lnTo>
                <a:lnTo>
                  <a:pt x="751" y="395"/>
                </a:lnTo>
                <a:lnTo>
                  <a:pt x="749" y="398"/>
                </a:lnTo>
                <a:lnTo>
                  <a:pt x="746" y="399"/>
                </a:lnTo>
                <a:lnTo>
                  <a:pt x="743" y="399"/>
                </a:lnTo>
                <a:lnTo>
                  <a:pt x="740" y="399"/>
                </a:lnTo>
                <a:lnTo>
                  <a:pt x="736" y="398"/>
                </a:lnTo>
                <a:lnTo>
                  <a:pt x="733" y="396"/>
                </a:lnTo>
                <a:lnTo>
                  <a:pt x="728" y="392"/>
                </a:lnTo>
                <a:lnTo>
                  <a:pt x="715" y="380"/>
                </a:lnTo>
                <a:lnTo>
                  <a:pt x="694" y="375"/>
                </a:lnTo>
                <a:lnTo>
                  <a:pt x="691" y="378"/>
                </a:lnTo>
                <a:lnTo>
                  <a:pt x="691" y="381"/>
                </a:lnTo>
                <a:lnTo>
                  <a:pt x="692" y="385"/>
                </a:lnTo>
                <a:lnTo>
                  <a:pt x="695" y="388"/>
                </a:lnTo>
                <a:lnTo>
                  <a:pt x="698" y="392"/>
                </a:lnTo>
                <a:lnTo>
                  <a:pt x="705" y="400"/>
                </a:lnTo>
                <a:lnTo>
                  <a:pt x="728" y="420"/>
                </a:lnTo>
                <a:lnTo>
                  <a:pt x="751" y="440"/>
                </a:lnTo>
                <a:lnTo>
                  <a:pt x="768" y="461"/>
                </a:lnTo>
                <a:lnTo>
                  <a:pt x="771" y="471"/>
                </a:lnTo>
                <a:lnTo>
                  <a:pt x="769" y="480"/>
                </a:lnTo>
                <a:lnTo>
                  <a:pt x="766" y="484"/>
                </a:lnTo>
                <a:lnTo>
                  <a:pt x="763" y="483"/>
                </a:lnTo>
                <a:lnTo>
                  <a:pt x="749" y="475"/>
                </a:lnTo>
                <a:lnTo>
                  <a:pt x="698" y="444"/>
                </a:lnTo>
                <a:lnTo>
                  <a:pt x="659" y="422"/>
                </a:lnTo>
                <a:lnTo>
                  <a:pt x="657" y="420"/>
                </a:lnTo>
                <a:lnTo>
                  <a:pt x="656" y="421"/>
                </a:lnTo>
                <a:lnTo>
                  <a:pt x="653" y="423"/>
                </a:lnTo>
                <a:lnTo>
                  <a:pt x="641" y="432"/>
                </a:lnTo>
                <a:lnTo>
                  <a:pt x="631" y="439"/>
                </a:lnTo>
                <a:lnTo>
                  <a:pt x="632" y="441"/>
                </a:lnTo>
                <a:lnTo>
                  <a:pt x="644" y="454"/>
                </a:lnTo>
                <a:lnTo>
                  <a:pt x="686" y="500"/>
                </a:lnTo>
                <a:lnTo>
                  <a:pt x="717" y="536"/>
                </a:lnTo>
                <a:lnTo>
                  <a:pt x="719" y="537"/>
                </a:lnTo>
                <a:lnTo>
                  <a:pt x="709" y="544"/>
                </a:lnTo>
                <a:lnTo>
                  <a:pt x="703" y="545"/>
                </a:lnTo>
                <a:lnTo>
                  <a:pt x="699" y="545"/>
                </a:lnTo>
                <a:lnTo>
                  <a:pt x="694" y="543"/>
                </a:lnTo>
                <a:lnTo>
                  <a:pt x="688" y="541"/>
                </a:lnTo>
                <a:lnTo>
                  <a:pt x="677" y="534"/>
                </a:lnTo>
                <a:lnTo>
                  <a:pt x="667" y="524"/>
                </a:lnTo>
                <a:lnTo>
                  <a:pt x="643" y="501"/>
                </a:lnTo>
                <a:lnTo>
                  <a:pt x="620" y="481"/>
                </a:lnTo>
                <a:lnTo>
                  <a:pt x="607" y="475"/>
                </a:lnTo>
                <a:lnTo>
                  <a:pt x="594" y="473"/>
                </a:lnTo>
                <a:lnTo>
                  <a:pt x="581" y="475"/>
                </a:lnTo>
                <a:lnTo>
                  <a:pt x="584" y="484"/>
                </a:lnTo>
                <a:lnTo>
                  <a:pt x="591" y="493"/>
                </a:lnTo>
                <a:lnTo>
                  <a:pt x="606" y="508"/>
                </a:lnTo>
                <a:lnTo>
                  <a:pt x="622" y="525"/>
                </a:lnTo>
                <a:lnTo>
                  <a:pt x="632" y="542"/>
                </a:lnTo>
                <a:lnTo>
                  <a:pt x="635" y="551"/>
                </a:lnTo>
                <a:lnTo>
                  <a:pt x="632" y="561"/>
                </a:lnTo>
                <a:lnTo>
                  <a:pt x="627" y="573"/>
                </a:lnTo>
                <a:lnTo>
                  <a:pt x="618" y="585"/>
                </a:lnTo>
                <a:lnTo>
                  <a:pt x="603" y="583"/>
                </a:lnTo>
                <a:lnTo>
                  <a:pt x="591" y="576"/>
                </a:lnTo>
                <a:lnTo>
                  <a:pt x="578" y="563"/>
                </a:lnTo>
                <a:lnTo>
                  <a:pt x="566" y="547"/>
                </a:lnTo>
                <a:lnTo>
                  <a:pt x="542" y="507"/>
                </a:lnTo>
                <a:lnTo>
                  <a:pt x="490" y="420"/>
                </a:lnTo>
                <a:lnTo>
                  <a:pt x="458" y="384"/>
                </a:lnTo>
                <a:lnTo>
                  <a:pt x="457" y="384"/>
                </a:lnTo>
                <a:lnTo>
                  <a:pt x="452" y="384"/>
                </a:lnTo>
                <a:lnTo>
                  <a:pt x="436" y="384"/>
                </a:lnTo>
                <a:lnTo>
                  <a:pt x="424" y="384"/>
                </a:lnTo>
                <a:lnTo>
                  <a:pt x="422" y="385"/>
                </a:lnTo>
                <a:lnTo>
                  <a:pt x="420" y="387"/>
                </a:lnTo>
                <a:lnTo>
                  <a:pt x="419" y="390"/>
                </a:lnTo>
                <a:lnTo>
                  <a:pt x="417" y="394"/>
                </a:lnTo>
                <a:lnTo>
                  <a:pt x="415" y="404"/>
                </a:lnTo>
                <a:lnTo>
                  <a:pt x="409" y="432"/>
                </a:lnTo>
                <a:lnTo>
                  <a:pt x="405" y="495"/>
                </a:lnTo>
                <a:lnTo>
                  <a:pt x="404" y="523"/>
                </a:lnTo>
                <a:lnTo>
                  <a:pt x="412" y="546"/>
                </a:lnTo>
                <a:lnTo>
                  <a:pt x="427" y="566"/>
                </a:lnTo>
                <a:lnTo>
                  <a:pt x="446" y="585"/>
                </a:lnTo>
                <a:lnTo>
                  <a:pt x="493" y="618"/>
                </a:lnTo>
                <a:lnTo>
                  <a:pt x="541" y="646"/>
                </a:lnTo>
                <a:lnTo>
                  <a:pt x="579" y="670"/>
                </a:lnTo>
                <a:lnTo>
                  <a:pt x="590" y="681"/>
                </a:lnTo>
                <a:lnTo>
                  <a:pt x="593" y="687"/>
                </a:lnTo>
                <a:lnTo>
                  <a:pt x="594" y="692"/>
                </a:lnTo>
                <a:lnTo>
                  <a:pt x="592" y="697"/>
                </a:lnTo>
                <a:lnTo>
                  <a:pt x="588" y="701"/>
                </a:lnTo>
                <a:lnTo>
                  <a:pt x="582" y="701"/>
                </a:lnTo>
                <a:lnTo>
                  <a:pt x="575" y="699"/>
                </a:lnTo>
                <a:lnTo>
                  <a:pt x="553" y="693"/>
                </a:lnTo>
                <a:lnTo>
                  <a:pt x="504" y="675"/>
                </a:lnTo>
                <a:lnTo>
                  <a:pt x="469" y="666"/>
                </a:lnTo>
                <a:lnTo>
                  <a:pt x="469" y="680"/>
                </a:lnTo>
                <a:lnTo>
                  <a:pt x="476" y="707"/>
                </a:lnTo>
                <a:lnTo>
                  <a:pt x="488" y="738"/>
                </a:lnTo>
                <a:lnTo>
                  <a:pt x="520" y="795"/>
                </a:lnTo>
                <a:lnTo>
                  <a:pt x="547" y="826"/>
                </a:lnTo>
                <a:lnTo>
                  <a:pt x="564" y="842"/>
                </a:lnTo>
                <a:lnTo>
                  <a:pt x="603" y="867"/>
                </a:lnTo>
                <a:lnTo>
                  <a:pt x="691" y="912"/>
                </a:lnTo>
                <a:lnTo>
                  <a:pt x="759" y="960"/>
                </a:lnTo>
                <a:lnTo>
                  <a:pt x="770" y="974"/>
                </a:lnTo>
                <a:lnTo>
                  <a:pt x="768" y="978"/>
                </a:lnTo>
                <a:lnTo>
                  <a:pt x="768" y="981"/>
                </a:lnTo>
                <a:lnTo>
                  <a:pt x="769" y="984"/>
                </a:lnTo>
                <a:lnTo>
                  <a:pt x="771" y="988"/>
                </a:lnTo>
                <a:lnTo>
                  <a:pt x="774" y="992"/>
                </a:lnTo>
                <a:lnTo>
                  <a:pt x="784" y="1002"/>
                </a:lnTo>
                <a:lnTo>
                  <a:pt x="806" y="1021"/>
                </a:lnTo>
                <a:lnTo>
                  <a:pt x="828" y="1040"/>
                </a:lnTo>
                <a:lnTo>
                  <a:pt x="835" y="1049"/>
                </a:lnTo>
                <a:lnTo>
                  <a:pt x="838" y="1059"/>
                </a:lnTo>
                <a:lnTo>
                  <a:pt x="839" y="1063"/>
                </a:lnTo>
                <a:lnTo>
                  <a:pt x="838" y="1067"/>
                </a:lnTo>
                <a:lnTo>
                  <a:pt x="835" y="1071"/>
                </a:lnTo>
                <a:lnTo>
                  <a:pt x="831" y="1074"/>
                </a:lnTo>
                <a:lnTo>
                  <a:pt x="825" y="1077"/>
                </a:lnTo>
                <a:lnTo>
                  <a:pt x="818" y="1079"/>
                </a:lnTo>
                <a:lnTo>
                  <a:pt x="812" y="1080"/>
                </a:lnTo>
                <a:lnTo>
                  <a:pt x="804" y="1078"/>
                </a:lnTo>
                <a:lnTo>
                  <a:pt x="798" y="1076"/>
                </a:lnTo>
                <a:lnTo>
                  <a:pt x="784" y="1067"/>
                </a:lnTo>
                <a:lnTo>
                  <a:pt x="769" y="1055"/>
                </a:lnTo>
                <a:lnTo>
                  <a:pt x="751" y="1042"/>
                </a:lnTo>
                <a:lnTo>
                  <a:pt x="732" y="1029"/>
                </a:lnTo>
                <a:lnTo>
                  <a:pt x="720" y="1024"/>
                </a:lnTo>
                <a:lnTo>
                  <a:pt x="700" y="1016"/>
                </a:lnTo>
                <a:lnTo>
                  <a:pt x="667" y="1008"/>
                </a:lnTo>
                <a:lnTo>
                  <a:pt x="656" y="1004"/>
                </a:lnTo>
                <a:lnTo>
                  <a:pt x="653" y="1002"/>
                </a:lnTo>
                <a:lnTo>
                  <a:pt x="652" y="1000"/>
                </a:lnTo>
                <a:lnTo>
                  <a:pt x="651" y="997"/>
                </a:lnTo>
                <a:lnTo>
                  <a:pt x="652" y="995"/>
                </a:lnTo>
                <a:lnTo>
                  <a:pt x="651" y="995"/>
                </a:lnTo>
                <a:lnTo>
                  <a:pt x="645" y="995"/>
                </a:lnTo>
                <a:lnTo>
                  <a:pt x="629" y="993"/>
                </a:lnTo>
                <a:lnTo>
                  <a:pt x="616" y="992"/>
                </a:lnTo>
                <a:lnTo>
                  <a:pt x="616" y="991"/>
                </a:lnTo>
              </a:path>
            </a:pathLst>
          </a:custGeom>
          <a:blipFill rotWithShape="0">
            <a:blip r:embed="rId25"/>
            <a:srcRect/>
            <a:tile tx="0" ty="0" sx="100000" sy="100000" algn="ctr"/>
          </a:blip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134"/>
          <p:cNvSpPr/>
          <p:nvPr/>
        </p:nvSpPr>
        <p:spPr>
          <a:xfrm>
            <a:off x="5580000" y="6154560"/>
            <a:ext cx="38160" cy="71640"/>
          </a:xfrm>
          <a:custGeom>
            <a:avLst/>
            <a:gdLst>
              <a:gd name="textAreaLeft" fmla="*/ 0 w 38160"/>
              <a:gd name="textAreaRight" fmla="*/ 38520 w 38160"/>
              <a:gd name="textAreaTop" fmla="*/ 0 h 71640"/>
              <a:gd name="textAreaBottom" fmla="*/ 72000 h 71640"/>
            </a:gdLst>
            <a:ahLst/>
            <a:rect l="textAreaLeft" t="textAreaTop" r="textAreaRight" b="textAreaBottom"/>
            <a:pathLst>
              <a:path w="50" h="91">
                <a:moveTo>
                  <a:pt x="21" y="54"/>
                </a:moveTo>
                <a:lnTo>
                  <a:pt x="21" y="48"/>
                </a:lnTo>
                <a:lnTo>
                  <a:pt x="18" y="39"/>
                </a:lnTo>
                <a:lnTo>
                  <a:pt x="13" y="34"/>
                </a:lnTo>
                <a:lnTo>
                  <a:pt x="8" y="30"/>
                </a:lnTo>
                <a:lnTo>
                  <a:pt x="4" y="26"/>
                </a:lnTo>
                <a:lnTo>
                  <a:pt x="0" y="18"/>
                </a:lnTo>
                <a:lnTo>
                  <a:pt x="0" y="12"/>
                </a:lnTo>
                <a:lnTo>
                  <a:pt x="3" y="9"/>
                </a:lnTo>
                <a:lnTo>
                  <a:pt x="6" y="4"/>
                </a:lnTo>
                <a:lnTo>
                  <a:pt x="9" y="1"/>
                </a:lnTo>
                <a:lnTo>
                  <a:pt x="11" y="0"/>
                </a:lnTo>
                <a:lnTo>
                  <a:pt x="12" y="0"/>
                </a:lnTo>
                <a:lnTo>
                  <a:pt x="13" y="0"/>
                </a:lnTo>
                <a:lnTo>
                  <a:pt x="15" y="0"/>
                </a:lnTo>
                <a:lnTo>
                  <a:pt x="17" y="1"/>
                </a:lnTo>
                <a:lnTo>
                  <a:pt x="19" y="3"/>
                </a:lnTo>
                <a:lnTo>
                  <a:pt x="22" y="5"/>
                </a:lnTo>
                <a:lnTo>
                  <a:pt x="22" y="11"/>
                </a:lnTo>
                <a:lnTo>
                  <a:pt x="24" y="16"/>
                </a:lnTo>
                <a:lnTo>
                  <a:pt x="27" y="21"/>
                </a:lnTo>
                <a:lnTo>
                  <a:pt x="31" y="24"/>
                </a:lnTo>
                <a:lnTo>
                  <a:pt x="39" y="30"/>
                </a:lnTo>
                <a:lnTo>
                  <a:pt x="46" y="36"/>
                </a:lnTo>
                <a:lnTo>
                  <a:pt x="49" y="39"/>
                </a:lnTo>
                <a:lnTo>
                  <a:pt x="50" y="43"/>
                </a:lnTo>
                <a:lnTo>
                  <a:pt x="50" y="47"/>
                </a:lnTo>
                <a:lnTo>
                  <a:pt x="49" y="52"/>
                </a:lnTo>
                <a:lnTo>
                  <a:pt x="42" y="63"/>
                </a:lnTo>
                <a:lnTo>
                  <a:pt x="29" y="80"/>
                </a:lnTo>
                <a:lnTo>
                  <a:pt x="17" y="89"/>
                </a:lnTo>
                <a:lnTo>
                  <a:pt x="11" y="91"/>
                </a:lnTo>
                <a:lnTo>
                  <a:pt x="9" y="91"/>
                </a:lnTo>
                <a:lnTo>
                  <a:pt x="7" y="91"/>
                </a:lnTo>
                <a:lnTo>
                  <a:pt x="5" y="90"/>
                </a:lnTo>
                <a:lnTo>
                  <a:pt x="4" y="89"/>
                </a:lnTo>
                <a:lnTo>
                  <a:pt x="4" y="87"/>
                </a:lnTo>
                <a:lnTo>
                  <a:pt x="4" y="84"/>
                </a:lnTo>
                <a:lnTo>
                  <a:pt x="5" y="81"/>
                </a:lnTo>
                <a:lnTo>
                  <a:pt x="8" y="72"/>
                </a:lnTo>
                <a:lnTo>
                  <a:pt x="15" y="61"/>
                </a:lnTo>
                <a:lnTo>
                  <a:pt x="21" y="54"/>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36" name="Freeform 135"/>
          <p:cNvSpPr/>
          <p:nvPr/>
        </p:nvSpPr>
        <p:spPr>
          <a:xfrm>
            <a:off x="5580000" y="6154560"/>
            <a:ext cx="38160" cy="71640"/>
          </a:xfrm>
          <a:custGeom>
            <a:avLst/>
            <a:gdLst>
              <a:gd name="textAreaLeft" fmla="*/ 0 w 38160"/>
              <a:gd name="textAreaRight" fmla="*/ 38520 w 38160"/>
              <a:gd name="textAreaTop" fmla="*/ 0 h 71640"/>
              <a:gd name="textAreaBottom" fmla="*/ 72000 h 71640"/>
            </a:gdLst>
            <a:ahLst/>
            <a:rect l="textAreaLeft" t="textAreaTop" r="textAreaRight" b="textAreaBottom"/>
            <a:pathLst>
              <a:path w="50" h="91">
                <a:moveTo>
                  <a:pt x="21" y="54"/>
                </a:moveTo>
                <a:lnTo>
                  <a:pt x="21" y="48"/>
                </a:lnTo>
                <a:lnTo>
                  <a:pt x="18" y="39"/>
                </a:lnTo>
                <a:lnTo>
                  <a:pt x="13" y="34"/>
                </a:lnTo>
                <a:lnTo>
                  <a:pt x="8" y="30"/>
                </a:lnTo>
                <a:lnTo>
                  <a:pt x="4" y="26"/>
                </a:lnTo>
                <a:lnTo>
                  <a:pt x="0" y="18"/>
                </a:lnTo>
                <a:lnTo>
                  <a:pt x="0" y="12"/>
                </a:lnTo>
                <a:lnTo>
                  <a:pt x="3" y="9"/>
                </a:lnTo>
                <a:lnTo>
                  <a:pt x="6" y="4"/>
                </a:lnTo>
                <a:lnTo>
                  <a:pt x="9" y="1"/>
                </a:lnTo>
                <a:lnTo>
                  <a:pt x="11" y="0"/>
                </a:lnTo>
                <a:lnTo>
                  <a:pt x="12" y="0"/>
                </a:lnTo>
                <a:lnTo>
                  <a:pt x="13" y="0"/>
                </a:lnTo>
                <a:lnTo>
                  <a:pt x="15" y="0"/>
                </a:lnTo>
                <a:lnTo>
                  <a:pt x="17" y="1"/>
                </a:lnTo>
                <a:lnTo>
                  <a:pt x="19" y="3"/>
                </a:lnTo>
                <a:lnTo>
                  <a:pt x="22" y="5"/>
                </a:lnTo>
                <a:lnTo>
                  <a:pt x="22" y="11"/>
                </a:lnTo>
                <a:lnTo>
                  <a:pt x="24" y="16"/>
                </a:lnTo>
                <a:lnTo>
                  <a:pt x="27" y="21"/>
                </a:lnTo>
                <a:lnTo>
                  <a:pt x="31" y="24"/>
                </a:lnTo>
                <a:lnTo>
                  <a:pt x="39" y="30"/>
                </a:lnTo>
                <a:lnTo>
                  <a:pt x="46" y="36"/>
                </a:lnTo>
                <a:lnTo>
                  <a:pt x="49" y="39"/>
                </a:lnTo>
                <a:lnTo>
                  <a:pt x="50" y="43"/>
                </a:lnTo>
                <a:lnTo>
                  <a:pt x="50" y="47"/>
                </a:lnTo>
                <a:lnTo>
                  <a:pt x="49" y="52"/>
                </a:lnTo>
                <a:lnTo>
                  <a:pt x="42" y="63"/>
                </a:lnTo>
                <a:lnTo>
                  <a:pt x="29" y="80"/>
                </a:lnTo>
                <a:lnTo>
                  <a:pt x="17" y="89"/>
                </a:lnTo>
                <a:lnTo>
                  <a:pt x="11" y="91"/>
                </a:lnTo>
                <a:lnTo>
                  <a:pt x="9" y="91"/>
                </a:lnTo>
                <a:lnTo>
                  <a:pt x="7" y="91"/>
                </a:lnTo>
                <a:lnTo>
                  <a:pt x="5" y="90"/>
                </a:lnTo>
                <a:lnTo>
                  <a:pt x="4" y="89"/>
                </a:lnTo>
                <a:lnTo>
                  <a:pt x="4" y="87"/>
                </a:lnTo>
                <a:lnTo>
                  <a:pt x="4" y="84"/>
                </a:lnTo>
                <a:lnTo>
                  <a:pt x="5" y="81"/>
                </a:lnTo>
                <a:lnTo>
                  <a:pt x="8" y="72"/>
                </a:lnTo>
                <a:lnTo>
                  <a:pt x="15" y="61"/>
                </a:lnTo>
                <a:lnTo>
                  <a:pt x="21" y="54"/>
                </a:lnTo>
              </a:path>
            </a:pathLst>
          </a:custGeom>
          <a:solidFill>
            <a:srgbClr val="ff0000"/>
          </a:solidFill>
          <a:ln w="6480">
            <a:solidFill>
              <a:srgbClr val="1f1a17"/>
            </a:solidFill>
            <a:round/>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37" name="Freeform 136"/>
          <p:cNvSpPr/>
          <p:nvPr/>
        </p:nvSpPr>
        <p:spPr>
          <a:xfrm>
            <a:off x="5838840" y="6372360"/>
            <a:ext cx="46080" cy="109440"/>
          </a:xfrm>
          <a:custGeom>
            <a:avLst/>
            <a:gdLst>
              <a:gd name="textAreaLeft" fmla="*/ 0 w 46080"/>
              <a:gd name="textAreaRight" fmla="*/ 46440 w 46080"/>
              <a:gd name="textAreaTop" fmla="*/ 0 h 109440"/>
              <a:gd name="textAreaBottom" fmla="*/ 109800 h 109440"/>
            </a:gdLst>
            <a:ahLst/>
            <a:rect l="textAreaLeft" t="textAreaTop" r="textAreaRight" b="textAreaBottom"/>
            <a:pathLst>
              <a:path w="56" h="140">
                <a:moveTo>
                  <a:pt x="4" y="39"/>
                </a:moveTo>
                <a:lnTo>
                  <a:pt x="3" y="63"/>
                </a:lnTo>
                <a:lnTo>
                  <a:pt x="3" y="98"/>
                </a:lnTo>
                <a:lnTo>
                  <a:pt x="7" y="133"/>
                </a:lnTo>
                <a:lnTo>
                  <a:pt x="7" y="137"/>
                </a:lnTo>
                <a:lnTo>
                  <a:pt x="7" y="138"/>
                </a:lnTo>
                <a:lnTo>
                  <a:pt x="6" y="139"/>
                </a:lnTo>
                <a:lnTo>
                  <a:pt x="5" y="139"/>
                </a:lnTo>
                <a:lnTo>
                  <a:pt x="3" y="140"/>
                </a:lnTo>
                <a:lnTo>
                  <a:pt x="2" y="140"/>
                </a:lnTo>
                <a:lnTo>
                  <a:pt x="0" y="139"/>
                </a:lnTo>
                <a:lnTo>
                  <a:pt x="6" y="140"/>
                </a:lnTo>
                <a:lnTo>
                  <a:pt x="12" y="139"/>
                </a:lnTo>
                <a:lnTo>
                  <a:pt x="17" y="138"/>
                </a:lnTo>
                <a:lnTo>
                  <a:pt x="21" y="135"/>
                </a:lnTo>
                <a:lnTo>
                  <a:pt x="23" y="131"/>
                </a:lnTo>
                <a:lnTo>
                  <a:pt x="25" y="126"/>
                </a:lnTo>
                <a:lnTo>
                  <a:pt x="27" y="121"/>
                </a:lnTo>
                <a:lnTo>
                  <a:pt x="29" y="111"/>
                </a:lnTo>
                <a:lnTo>
                  <a:pt x="31" y="101"/>
                </a:lnTo>
                <a:lnTo>
                  <a:pt x="32" y="96"/>
                </a:lnTo>
                <a:lnTo>
                  <a:pt x="34" y="90"/>
                </a:lnTo>
                <a:lnTo>
                  <a:pt x="41" y="80"/>
                </a:lnTo>
                <a:lnTo>
                  <a:pt x="49" y="70"/>
                </a:lnTo>
                <a:lnTo>
                  <a:pt x="55" y="61"/>
                </a:lnTo>
                <a:lnTo>
                  <a:pt x="56" y="56"/>
                </a:lnTo>
                <a:lnTo>
                  <a:pt x="56" y="51"/>
                </a:lnTo>
                <a:lnTo>
                  <a:pt x="54" y="45"/>
                </a:lnTo>
                <a:lnTo>
                  <a:pt x="51" y="38"/>
                </a:lnTo>
                <a:lnTo>
                  <a:pt x="46" y="30"/>
                </a:lnTo>
                <a:lnTo>
                  <a:pt x="44" y="29"/>
                </a:lnTo>
                <a:lnTo>
                  <a:pt x="44" y="28"/>
                </a:lnTo>
                <a:lnTo>
                  <a:pt x="42" y="25"/>
                </a:lnTo>
                <a:lnTo>
                  <a:pt x="41" y="14"/>
                </a:lnTo>
                <a:lnTo>
                  <a:pt x="38" y="4"/>
                </a:lnTo>
                <a:lnTo>
                  <a:pt x="36" y="1"/>
                </a:lnTo>
                <a:lnTo>
                  <a:pt x="35" y="0"/>
                </a:lnTo>
                <a:lnTo>
                  <a:pt x="33" y="0"/>
                </a:lnTo>
                <a:lnTo>
                  <a:pt x="31" y="0"/>
                </a:lnTo>
                <a:lnTo>
                  <a:pt x="29" y="1"/>
                </a:lnTo>
                <a:lnTo>
                  <a:pt x="26" y="2"/>
                </a:lnTo>
                <a:lnTo>
                  <a:pt x="23" y="4"/>
                </a:lnTo>
                <a:lnTo>
                  <a:pt x="17" y="12"/>
                </a:lnTo>
                <a:lnTo>
                  <a:pt x="14" y="16"/>
                </a:lnTo>
                <a:lnTo>
                  <a:pt x="11" y="21"/>
                </a:lnTo>
                <a:lnTo>
                  <a:pt x="7" y="31"/>
                </a:lnTo>
                <a:lnTo>
                  <a:pt x="4"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37"/>
          <p:cNvSpPr/>
          <p:nvPr/>
        </p:nvSpPr>
        <p:spPr>
          <a:xfrm>
            <a:off x="5840280" y="6400800"/>
            <a:ext cx="46080" cy="109440"/>
          </a:xfrm>
          <a:custGeom>
            <a:avLst/>
            <a:gdLst>
              <a:gd name="textAreaLeft" fmla="*/ 0 w 46080"/>
              <a:gd name="textAreaRight" fmla="*/ 46440 w 46080"/>
              <a:gd name="textAreaTop" fmla="*/ 0 h 109440"/>
              <a:gd name="textAreaBottom" fmla="*/ 109800 h 109440"/>
            </a:gdLst>
            <a:ahLst/>
            <a:rect l="textAreaLeft" t="textAreaTop" r="textAreaRight" b="textAreaBottom"/>
            <a:pathLst>
              <a:path w="56" h="140">
                <a:moveTo>
                  <a:pt x="4" y="39"/>
                </a:moveTo>
                <a:lnTo>
                  <a:pt x="3" y="63"/>
                </a:lnTo>
                <a:lnTo>
                  <a:pt x="3" y="98"/>
                </a:lnTo>
                <a:lnTo>
                  <a:pt x="7" y="133"/>
                </a:lnTo>
                <a:lnTo>
                  <a:pt x="7" y="137"/>
                </a:lnTo>
                <a:lnTo>
                  <a:pt x="7" y="138"/>
                </a:lnTo>
                <a:lnTo>
                  <a:pt x="6" y="139"/>
                </a:lnTo>
                <a:lnTo>
                  <a:pt x="5" y="139"/>
                </a:lnTo>
                <a:lnTo>
                  <a:pt x="3" y="140"/>
                </a:lnTo>
                <a:lnTo>
                  <a:pt x="2" y="140"/>
                </a:lnTo>
                <a:lnTo>
                  <a:pt x="0" y="139"/>
                </a:lnTo>
                <a:lnTo>
                  <a:pt x="6" y="140"/>
                </a:lnTo>
                <a:lnTo>
                  <a:pt x="12" y="139"/>
                </a:lnTo>
                <a:lnTo>
                  <a:pt x="17" y="138"/>
                </a:lnTo>
                <a:lnTo>
                  <a:pt x="21" y="135"/>
                </a:lnTo>
                <a:lnTo>
                  <a:pt x="23" y="131"/>
                </a:lnTo>
                <a:lnTo>
                  <a:pt x="25" y="126"/>
                </a:lnTo>
                <a:lnTo>
                  <a:pt x="27" y="121"/>
                </a:lnTo>
                <a:lnTo>
                  <a:pt x="29" y="111"/>
                </a:lnTo>
                <a:lnTo>
                  <a:pt x="31" y="101"/>
                </a:lnTo>
                <a:lnTo>
                  <a:pt x="32" y="96"/>
                </a:lnTo>
                <a:lnTo>
                  <a:pt x="34" y="90"/>
                </a:lnTo>
                <a:lnTo>
                  <a:pt x="41" y="80"/>
                </a:lnTo>
                <a:lnTo>
                  <a:pt x="49" y="70"/>
                </a:lnTo>
                <a:lnTo>
                  <a:pt x="55" y="61"/>
                </a:lnTo>
                <a:lnTo>
                  <a:pt x="56" y="56"/>
                </a:lnTo>
                <a:lnTo>
                  <a:pt x="56" y="51"/>
                </a:lnTo>
                <a:lnTo>
                  <a:pt x="54" y="45"/>
                </a:lnTo>
                <a:lnTo>
                  <a:pt x="51" y="38"/>
                </a:lnTo>
                <a:lnTo>
                  <a:pt x="46" y="30"/>
                </a:lnTo>
                <a:lnTo>
                  <a:pt x="44" y="29"/>
                </a:lnTo>
                <a:lnTo>
                  <a:pt x="44" y="28"/>
                </a:lnTo>
                <a:lnTo>
                  <a:pt x="42" y="25"/>
                </a:lnTo>
                <a:lnTo>
                  <a:pt x="41" y="14"/>
                </a:lnTo>
                <a:lnTo>
                  <a:pt x="38" y="4"/>
                </a:lnTo>
                <a:lnTo>
                  <a:pt x="36" y="1"/>
                </a:lnTo>
                <a:lnTo>
                  <a:pt x="35" y="0"/>
                </a:lnTo>
                <a:lnTo>
                  <a:pt x="33" y="0"/>
                </a:lnTo>
                <a:lnTo>
                  <a:pt x="31" y="0"/>
                </a:lnTo>
                <a:lnTo>
                  <a:pt x="29" y="1"/>
                </a:lnTo>
                <a:lnTo>
                  <a:pt x="26" y="2"/>
                </a:lnTo>
                <a:lnTo>
                  <a:pt x="23" y="4"/>
                </a:lnTo>
                <a:lnTo>
                  <a:pt x="17" y="12"/>
                </a:lnTo>
                <a:lnTo>
                  <a:pt x="14" y="16"/>
                </a:lnTo>
                <a:lnTo>
                  <a:pt x="11" y="21"/>
                </a:lnTo>
                <a:lnTo>
                  <a:pt x="7" y="31"/>
                </a:lnTo>
                <a:lnTo>
                  <a:pt x="4" y="39"/>
                </a:lnTo>
              </a:path>
            </a:pathLst>
          </a:custGeom>
          <a:solidFill>
            <a:srgbClr val="ff0000"/>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138"/>
          <p:cNvSpPr/>
          <p:nvPr/>
        </p:nvSpPr>
        <p:spPr>
          <a:xfrm>
            <a:off x="5076720" y="6518160"/>
            <a:ext cx="25560" cy="60480"/>
          </a:xfrm>
          <a:custGeom>
            <a:avLst/>
            <a:gdLst>
              <a:gd name="textAreaLeft" fmla="*/ 0 w 25560"/>
              <a:gd name="textAreaRight" fmla="*/ 25920 w 25560"/>
              <a:gd name="textAreaTop" fmla="*/ 0 h 60480"/>
              <a:gd name="textAreaBottom" fmla="*/ 60840 h 60480"/>
            </a:gdLst>
            <a:ahLst/>
            <a:rect l="textAreaLeft" t="textAreaTop" r="textAreaRight" b="textAreaBottom"/>
            <a:pathLst>
              <a:path w="33" h="76">
                <a:moveTo>
                  <a:pt x="5" y="36"/>
                </a:moveTo>
                <a:lnTo>
                  <a:pt x="6" y="35"/>
                </a:lnTo>
                <a:lnTo>
                  <a:pt x="7" y="32"/>
                </a:lnTo>
                <a:lnTo>
                  <a:pt x="8" y="29"/>
                </a:lnTo>
                <a:lnTo>
                  <a:pt x="9" y="22"/>
                </a:lnTo>
                <a:lnTo>
                  <a:pt x="11" y="8"/>
                </a:lnTo>
                <a:lnTo>
                  <a:pt x="14" y="0"/>
                </a:lnTo>
                <a:lnTo>
                  <a:pt x="18" y="1"/>
                </a:lnTo>
                <a:lnTo>
                  <a:pt x="21" y="2"/>
                </a:lnTo>
                <a:lnTo>
                  <a:pt x="27" y="4"/>
                </a:lnTo>
                <a:lnTo>
                  <a:pt x="30" y="4"/>
                </a:lnTo>
                <a:lnTo>
                  <a:pt x="30" y="9"/>
                </a:lnTo>
                <a:lnTo>
                  <a:pt x="30" y="17"/>
                </a:lnTo>
                <a:lnTo>
                  <a:pt x="31" y="32"/>
                </a:lnTo>
                <a:lnTo>
                  <a:pt x="32" y="48"/>
                </a:lnTo>
                <a:lnTo>
                  <a:pt x="33" y="53"/>
                </a:lnTo>
                <a:lnTo>
                  <a:pt x="21" y="65"/>
                </a:lnTo>
                <a:lnTo>
                  <a:pt x="14" y="72"/>
                </a:lnTo>
                <a:lnTo>
                  <a:pt x="7" y="75"/>
                </a:lnTo>
                <a:lnTo>
                  <a:pt x="5" y="76"/>
                </a:lnTo>
                <a:lnTo>
                  <a:pt x="3" y="75"/>
                </a:lnTo>
                <a:lnTo>
                  <a:pt x="2" y="74"/>
                </a:lnTo>
                <a:lnTo>
                  <a:pt x="1" y="72"/>
                </a:lnTo>
                <a:lnTo>
                  <a:pt x="0" y="70"/>
                </a:lnTo>
                <a:lnTo>
                  <a:pt x="0" y="67"/>
                </a:lnTo>
                <a:lnTo>
                  <a:pt x="0" y="61"/>
                </a:lnTo>
                <a:lnTo>
                  <a:pt x="2" y="47"/>
                </a:lnTo>
                <a:lnTo>
                  <a:pt x="4" y="38"/>
                </a:lnTo>
                <a:lnTo>
                  <a:pt x="5" y="36"/>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40" name="Freeform 139"/>
          <p:cNvSpPr/>
          <p:nvPr/>
        </p:nvSpPr>
        <p:spPr>
          <a:xfrm>
            <a:off x="5076720" y="6518160"/>
            <a:ext cx="25560" cy="60480"/>
          </a:xfrm>
          <a:custGeom>
            <a:avLst/>
            <a:gdLst>
              <a:gd name="textAreaLeft" fmla="*/ 0 w 25560"/>
              <a:gd name="textAreaRight" fmla="*/ 25920 w 25560"/>
              <a:gd name="textAreaTop" fmla="*/ 0 h 60480"/>
              <a:gd name="textAreaBottom" fmla="*/ 60840 h 60480"/>
            </a:gdLst>
            <a:ahLst/>
            <a:rect l="textAreaLeft" t="textAreaTop" r="textAreaRight" b="textAreaBottom"/>
            <a:pathLst>
              <a:path w="33" h="76">
                <a:moveTo>
                  <a:pt x="5" y="36"/>
                </a:moveTo>
                <a:lnTo>
                  <a:pt x="6" y="35"/>
                </a:lnTo>
                <a:lnTo>
                  <a:pt x="7" y="32"/>
                </a:lnTo>
                <a:lnTo>
                  <a:pt x="8" y="29"/>
                </a:lnTo>
                <a:lnTo>
                  <a:pt x="9" y="22"/>
                </a:lnTo>
                <a:lnTo>
                  <a:pt x="11" y="8"/>
                </a:lnTo>
                <a:lnTo>
                  <a:pt x="14" y="0"/>
                </a:lnTo>
                <a:lnTo>
                  <a:pt x="18" y="1"/>
                </a:lnTo>
                <a:lnTo>
                  <a:pt x="21" y="2"/>
                </a:lnTo>
                <a:lnTo>
                  <a:pt x="27" y="4"/>
                </a:lnTo>
                <a:lnTo>
                  <a:pt x="30" y="4"/>
                </a:lnTo>
                <a:lnTo>
                  <a:pt x="30" y="9"/>
                </a:lnTo>
                <a:lnTo>
                  <a:pt x="30" y="17"/>
                </a:lnTo>
                <a:lnTo>
                  <a:pt x="31" y="32"/>
                </a:lnTo>
                <a:lnTo>
                  <a:pt x="32" y="48"/>
                </a:lnTo>
                <a:lnTo>
                  <a:pt x="33" y="53"/>
                </a:lnTo>
                <a:lnTo>
                  <a:pt x="21" y="65"/>
                </a:lnTo>
                <a:lnTo>
                  <a:pt x="14" y="72"/>
                </a:lnTo>
                <a:lnTo>
                  <a:pt x="7" y="75"/>
                </a:lnTo>
                <a:lnTo>
                  <a:pt x="5" y="76"/>
                </a:lnTo>
                <a:lnTo>
                  <a:pt x="3" y="75"/>
                </a:lnTo>
                <a:lnTo>
                  <a:pt x="2" y="74"/>
                </a:lnTo>
                <a:lnTo>
                  <a:pt x="1" y="72"/>
                </a:lnTo>
                <a:lnTo>
                  <a:pt x="0" y="70"/>
                </a:lnTo>
                <a:lnTo>
                  <a:pt x="0" y="67"/>
                </a:lnTo>
                <a:lnTo>
                  <a:pt x="0" y="61"/>
                </a:lnTo>
                <a:lnTo>
                  <a:pt x="2" y="47"/>
                </a:lnTo>
                <a:lnTo>
                  <a:pt x="4" y="38"/>
                </a:lnTo>
                <a:lnTo>
                  <a:pt x="5" y="36"/>
                </a:lnTo>
              </a:path>
            </a:pathLst>
          </a:custGeom>
          <a:noFill/>
          <a:ln w="6480">
            <a:solidFill>
              <a:srgbClr val="1f1a17"/>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41" name="Freeform 140"/>
          <p:cNvSpPr/>
          <p:nvPr/>
        </p:nvSpPr>
        <p:spPr>
          <a:xfrm>
            <a:off x="2554200" y="23760"/>
            <a:ext cx="2005200" cy="2622600"/>
          </a:xfrm>
          <a:custGeom>
            <a:avLst/>
            <a:gdLst>
              <a:gd name="textAreaLeft" fmla="*/ 0 w 2005200"/>
              <a:gd name="textAreaRight" fmla="*/ 2005560 w 2005200"/>
              <a:gd name="textAreaTop" fmla="*/ 0 h 2622600"/>
              <a:gd name="textAreaBottom" fmla="*/ 2622960 h 2622600"/>
            </a:gdLst>
            <a:ahLst/>
            <a:rect l="textAreaLeft" t="textAreaTop" r="textAreaRight" b="textAreaBottom"/>
            <a:pathLst>
              <a:path w="2526" h="3304">
                <a:moveTo>
                  <a:pt x="890" y="1996"/>
                </a:moveTo>
                <a:lnTo>
                  <a:pt x="889" y="1959"/>
                </a:lnTo>
                <a:lnTo>
                  <a:pt x="893" y="1932"/>
                </a:lnTo>
                <a:lnTo>
                  <a:pt x="902" y="1913"/>
                </a:lnTo>
                <a:lnTo>
                  <a:pt x="915" y="1901"/>
                </a:lnTo>
                <a:lnTo>
                  <a:pt x="930" y="1894"/>
                </a:lnTo>
                <a:lnTo>
                  <a:pt x="948" y="1889"/>
                </a:lnTo>
                <a:lnTo>
                  <a:pt x="990" y="1880"/>
                </a:lnTo>
                <a:lnTo>
                  <a:pt x="1034" y="1860"/>
                </a:lnTo>
                <a:lnTo>
                  <a:pt x="1076" y="1810"/>
                </a:lnTo>
                <a:lnTo>
                  <a:pt x="1065" y="1791"/>
                </a:lnTo>
                <a:lnTo>
                  <a:pt x="1054" y="1752"/>
                </a:lnTo>
                <a:lnTo>
                  <a:pt x="1056" y="1713"/>
                </a:lnTo>
                <a:lnTo>
                  <a:pt x="1066" y="1674"/>
                </a:lnTo>
                <a:lnTo>
                  <a:pt x="1099" y="1597"/>
                </a:lnTo>
                <a:lnTo>
                  <a:pt x="1108" y="1577"/>
                </a:lnTo>
                <a:lnTo>
                  <a:pt x="1103" y="1573"/>
                </a:lnTo>
                <a:lnTo>
                  <a:pt x="1088" y="1557"/>
                </a:lnTo>
                <a:lnTo>
                  <a:pt x="1076" y="1546"/>
                </a:lnTo>
                <a:lnTo>
                  <a:pt x="1076" y="1545"/>
                </a:lnTo>
                <a:lnTo>
                  <a:pt x="1081" y="1537"/>
                </a:lnTo>
                <a:lnTo>
                  <a:pt x="1092" y="1527"/>
                </a:lnTo>
                <a:lnTo>
                  <a:pt x="1121" y="1503"/>
                </a:lnTo>
                <a:lnTo>
                  <a:pt x="1191" y="1447"/>
                </a:lnTo>
                <a:lnTo>
                  <a:pt x="1226" y="1394"/>
                </a:lnTo>
                <a:lnTo>
                  <a:pt x="1226" y="1391"/>
                </a:lnTo>
                <a:lnTo>
                  <a:pt x="1228" y="1366"/>
                </a:lnTo>
                <a:lnTo>
                  <a:pt x="1235" y="1280"/>
                </a:lnTo>
                <a:lnTo>
                  <a:pt x="1239" y="1215"/>
                </a:lnTo>
                <a:lnTo>
                  <a:pt x="1240" y="1211"/>
                </a:lnTo>
                <a:lnTo>
                  <a:pt x="1241" y="1199"/>
                </a:lnTo>
                <a:lnTo>
                  <a:pt x="1247" y="1179"/>
                </a:lnTo>
                <a:lnTo>
                  <a:pt x="1258" y="1167"/>
                </a:lnTo>
                <a:lnTo>
                  <a:pt x="1270" y="1158"/>
                </a:lnTo>
                <a:lnTo>
                  <a:pt x="1280" y="1148"/>
                </a:lnTo>
                <a:lnTo>
                  <a:pt x="1288" y="1135"/>
                </a:lnTo>
                <a:lnTo>
                  <a:pt x="1290" y="1125"/>
                </a:lnTo>
                <a:lnTo>
                  <a:pt x="1289" y="1122"/>
                </a:lnTo>
                <a:lnTo>
                  <a:pt x="1282" y="1102"/>
                </a:lnTo>
                <a:lnTo>
                  <a:pt x="1258" y="1029"/>
                </a:lnTo>
                <a:lnTo>
                  <a:pt x="1240" y="974"/>
                </a:lnTo>
                <a:lnTo>
                  <a:pt x="1240" y="969"/>
                </a:lnTo>
                <a:lnTo>
                  <a:pt x="1241" y="968"/>
                </a:lnTo>
                <a:lnTo>
                  <a:pt x="1250" y="955"/>
                </a:lnTo>
                <a:lnTo>
                  <a:pt x="1282" y="912"/>
                </a:lnTo>
                <a:lnTo>
                  <a:pt x="1305" y="880"/>
                </a:lnTo>
                <a:lnTo>
                  <a:pt x="1307" y="878"/>
                </a:lnTo>
                <a:lnTo>
                  <a:pt x="1309" y="878"/>
                </a:lnTo>
                <a:lnTo>
                  <a:pt x="1316" y="877"/>
                </a:lnTo>
                <a:lnTo>
                  <a:pt x="1344" y="872"/>
                </a:lnTo>
                <a:lnTo>
                  <a:pt x="1365" y="869"/>
                </a:lnTo>
                <a:lnTo>
                  <a:pt x="1367" y="868"/>
                </a:lnTo>
                <a:lnTo>
                  <a:pt x="1369" y="866"/>
                </a:lnTo>
                <a:lnTo>
                  <a:pt x="1380" y="845"/>
                </a:lnTo>
                <a:lnTo>
                  <a:pt x="1421" y="777"/>
                </a:lnTo>
                <a:lnTo>
                  <a:pt x="1452" y="724"/>
                </a:lnTo>
                <a:lnTo>
                  <a:pt x="1454" y="721"/>
                </a:lnTo>
                <a:lnTo>
                  <a:pt x="1467" y="731"/>
                </a:lnTo>
                <a:lnTo>
                  <a:pt x="1495" y="748"/>
                </a:lnTo>
                <a:lnTo>
                  <a:pt x="1553" y="770"/>
                </a:lnTo>
                <a:lnTo>
                  <a:pt x="1585" y="770"/>
                </a:lnTo>
                <a:lnTo>
                  <a:pt x="1619" y="761"/>
                </a:lnTo>
                <a:lnTo>
                  <a:pt x="1639" y="751"/>
                </a:lnTo>
                <a:lnTo>
                  <a:pt x="1638" y="746"/>
                </a:lnTo>
                <a:lnTo>
                  <a:pt x="1635" y="736"/>
                </a:lnTo>
                <a:lnTo>
                  <a:pt x="1625" y="709"/>
                </a:lnTo>
                <a:lnTo>
                  <a:pt x="1600" y="644"/>
                </a:lnTo>
                <a:lnTo>
                  <a:pt x="1587" y="611"/>
                </a:lnTo>
                <a:lnTo>
                  <a:pt x="1595" y="603"/>
                </a:lnTo>
                <a:lnTo>
                  <a:pt x="1615" y="583"/>
                </a:lnTo>
                <a:lnTo>
                  <a:pt x="1663" y="542"/>
                </a:lnTo>
                <a:lnTo>
                  <a:pt x="1709" y="508"/>
                </a:lnTo>
                <a:lnTo>
                  <a:pt x="1718" y="503"/>
                </a:lnTo>
                <a:lnTo>
                  <a:pt x="1729" y="513"/>
                </a:lnTo>
                <a:lnTo>
                  <a:pt x="1749" y="527"/>
                </a:lnTo>
                <a:lnTo>
                  <a:pt x="1791" y="550"/>
                </a:lnTo>
                <a:lnTo>
                  <a:pt x="1856" y="604"/>
                </a:lnTo>
                <a:lnTo>
                  <a:pt x="1880" y="627"/>
                </a:lnTo>
                <a:lnTo>
                  <a:pt x="1881" y="627"/>
                </a:lnTo>
                <a:lnTo>
                  <a:pt x="1893" y="623"/>
                </a:lnTo>
                <a:lnTo>
                  <a:pt x="1933" y="608"/>
                </a:lnTo>
                <a:lnTo>
                  <a:pt x="1963" y="597"/>
                </a:lnTo>
                <a:lnTo>
                  <a:pt x="1965" y="596"/>
                </a:lnTo>
                <a:lnTo>
                  <a:pt x="1972" y="602"/>
                </a:lnTo>
                <a:lnTo>
                  <a:pt x="1996" y="617"/>
                </a:lnTo>
                <a:lnTo>
                  <a:pt x="2015" y="629"/>
                </a:lnTo>
                <a:lnTo>
                  <a:pt x="2016" y="629"/>
                </a:lnTo>
                <a:lnTo>
                  <a:pt x="2024" y="629"/>
                </a:lnTo>
                <a:lnTo>
                  <a:pt x="2048" y="628"/>
                </a:lnTo>
                <a:lnTo>
                  <a:pt x="2068" y="627"/>
                </a:lnTo>
                <a:lnTo>
                  <a:pt x="2069" y="626"/>
                </a:lnTo>
                <a:lnTo>
                  <a:pt x="2069" y="624"/>
                </a:lnTo>
                <a:lnTo>
                  <a:pt x="2076" y="604"/>
                </a:lnTo>
                <a:lnTo>
                  <a:pt x="2102" y="535"/>
                </a:lnTo>
                <a:lnTo>
                  <a:pt x="2121" y="482"/>
                </a:lnTo>
                <a:lnTo>
                  <a:pt x="2122" y="479"/>
                </a:lnTo>
                <a:lnTo>
                  <a:pt x="2118" y="465"/>
                </a:lnTo>
                <a:lnTo>
                  <a:pt x="2106" y="420"/>
                </a:lnTo>
                <a:lnTo>
                  <a:pt x="2097" y="387"/>
                </a:lnTo>
                <a:lnTo>
                  <a:pt x="2097" y="385"/>
                </a:lnTo>
                <a:lnTo>
                  <a:pt x="2104" y="367"/>
                </a:lnTo>
                <a:lnTo>
                  <a:pt x="2128" y="313"/>
                </a:lnTo>
                <a:lnTo>
                  <a:pt x="2146" y="273"/>
                </a:lnTo>
                <a:lnTo>
                  <a:pt x="2147" y="270"/>
                </a:lnTo>
                <a:lnTo>
                  <a:pt x="2148" y="269"/>
                </a:lnTo>
                <a:lnTo>
                  <a:pt x="2161" y="260"/>
                </a:lnTo>
                <a:lnTo>
                  <a:pt x="2206" y="233"/>
                </a:lnTo>
                <a:lnTo>
                  <a:pt x="2240" y="211"/>
                </a:lnTo>
                <a:lnTo>
                  <a:pt x="2243" y="209"/>
                </a:lnTo>
                <a:lnTo>
                  <a:pt x="2245" y="211"/>
                </a:lnTo>
                <a:lnTo>
                  <a:pt x="2260" y="221"/>
                </a:lnTo>
                <a:lnTo>
                  <a:pt x="2313" y="254"/>
                </a:lnTo>
                <a:lnTo>
                  <a:pt x="2353" y="280"/>
                </a:lnTo>
                <a:lnTo>
                  <a:pt x="2356" y="281"/>
                </a:lnTo>
                <a:lnTo>
                  <a:pt x="2364" y="282"/>
                </a:lnTo>
                <a:lnTo>
                  <a:pt x="2389" y="283"/>
                </a:lnTo>
                <a:lnTo>
                  <a:pt x="2409" y="284"/>
                </a:lnTo>
                <a:lnTo>
                  <a:pt x="2411" y="284"/>
                </a:lnTo>
                <a:lnTo>
                  <a:pt x="2410" y="287"/>
                </a:lnTo>
                <a:lnTo>
                  <a:pt x="2403" y="301"/>
                </a:lnTo>
                <a:lnTo>
                  <a:pt x="2384" y="351"/>
                </a:lnTo>
                <a:lnTo>
                  <a:pt x="2369" y="389"/>
                </a:lnTo>
                <a:lnTo>
                  <a:pt x="2369" y="391"/>
                </a:lnTo>
                <a:lnTo>
                  <a:pt x="2370" y="391"/>
                </a:lnTo>
                <a:lnTo>
                  <a:pt x="2380" y="388"/>
                </a:lnTo>
                <a:lnTo>
                  <a:pt x="2415" y="378"/>
                </a:lnTo>
                <a:lnTo>
                  <a:pt x="2441" y="369"/>
                </a:lnTo>
                <a:lnTo>
                  <a:pt x="2443" y="368"/>
                </a:lnTo>
                <a:lnTo>
                  <a:pt x="2444" y="367"/>
                </a:lnTo>
                <a:lnTo>
                  <a:pt x="2456" y="353"/>
                </a:lnTo>
                <a:lnTo>
                  <a:pt x="2495" y="307"/>
                </a:lnTo>
                <a:lnTo>
                  <a:pt x="2524" y="272"/>
                </a:lnTo>
                <a:lnTo>
                  <a:pt x="2526" y="270"/>
                </a:lnTo>
                <a:lnTo>
                  <a:pt x="2512" y="258"/>
                </a:lnTo>
                <a:lnTo>
                  <a:pt x="2499" y="251"/>
                </a:lnTo>
                <a:lnTo>
                  <a:pt x="2487" y="248"/>
                </a:lnTo>
                <a:lnTo>
                  <a:pt x="2476" y="247"/>
                </a:lnTo>
                <a:lnTo>
                  <a:pt x="2466" y="248"/>
                </a:lnTo>
                <a:lnTo>
                  <a:pt x="2446" y="250"/>
                </a:lnTo>
                <a:lnTo>
                  <a:pt x="2436" y="249"/>
                </a:lnTo>
                <a:lnTo>
                  <a:pt x="2426" y="245"/>
                </a:lnTo>
                <a:lnTo>
                  <a:pt x="2415" y="238"/>
                </a:lnTo>
                <a:lnTo>
                  <a:pt x="2404" y="226"/>
                </a:lnTo>
                <a:lnTo>
                  <a:pt x="2394" y="206"/>
                </a:lnTo>
                <a:lnTo>
                  <a:pt x="2398" y="200"/>
                </a:lnTo>
                <a:lnTo>
                  <a:pt x="2406" y="195"/>
                </a:lnTo>
                <a:lnTo>
                  <a:pt x="2413" y="191"/>
                </a:lnTo>
                <a:lnTo>
                  <a:pt x="2429" y="183"/>
                </a:lnTo>
                <a:lnTo>
                  <a:pt x="2436" y="179"/>
                </a:lnTo>
                <a:lnTo>
                  <a:pt x="2442" y="174"/>
                </a:lnTo>
                <a:lnTo>
                  <a:pt x="2445" y="167"/>
                </a:lnTo>
                <a:lnTo>
                  <a:pt x="2446" y="157"/>
                </a:lnTo>
                <a:lnTo>
                  <a:pt x="2443" y="146"/>
                </a:lnTo>
                <a:lnTo>
                  <a:pt x="2437" y="132"/>
                </a:lnTo>
                <a:lnTo>
                  <a:pt x="2427" y="113"/>
                </a:lnTo>
                <a:lnTo>
                  <a:pt x="2428" y="113"/>
                </a:lnTo>
                <a:lnTo>
                  <a:pt x="2441" y="109"/>
                </a:lnTo>
                <a:lnTo>
                  <a:pt x="2486" y="94"/>
                </a:lnTo>
                <a:lnTo>
                  <a:pt x="2520" y="83"/>
                </a:lnTo>
                <a:lnTo>
                  <a:pt x="2522" y="82"/>
                </a:lnTo>
                <a:lnTo>
                  <a:pt x="2490" y="55"/>
                </a:lnTo>
                <a:lnTo>
                  <a:pt x="2432" y="16"/>
                </a:lnTo>
                <a:lnTo>
                  <a:pt x="2381" y="0"/>
                </a:lnTo>
                <a:lnTo>
                  <a:pt x="2357" y="0"/>
                </a:lnTo>
                <a:lnTo>
                  <a:pt x="2335" y="6"/>
                </a:lnTo>
                <a:lnTo>
                  <a:pt x="2314" y="18"/>
                </a:lnTo>
                <a:lnTo>
                  <a:pt x="2295" y="36"/>
                </a:lnTo>
                <a:lnTo>
                  <a:pt x="2277" y="61"/>
                </a:lnTo>
                <a:lnTo>
                  <a:pt x="2245" y="129"/>
                </a:lnTo>
                <a:lnTo>
                  <a:pt x="2244" y="127"/>
                </a:lnTo>
                <a:lnTo>
                  <a:pt x="2239" y="114"/>
                </a:lnTo>
                <a:lnTo>
                  <a:pt x="2224" y="65"/>
                </a:lnTo>
                <a:lnTo>
                  <a:pt x="2213" y="28"/>
                </a:lnTo>
                <a:lnTo>
                  <a:pt x="2213" y="25"/>
                </a:lnTo>
                <a:lnTo>
                  <a:pt x="2190" y="17"/>
                </a:lnTo>
                <a:lnTo>
                  <a:pt x="2173" y="15"/>
                </a:lnTo>
                <a:lnTo>
                  <a:pt x="2167" y="15"/>
                </a:lnTo>
                <a:lnTo>
                  <a:pt x="2162" y="16"/>
                </a:lnTo>
                <a:lnTo>
                  <a:pt x="2159" y="19"/>
                </a:lnTo>
                <a:lnTo>
                  <a:pt x="2156" y="22"/>
                </a:lnTo>
                <a:lnTo>
                  <a:pt x="2155" y="26"/>
                </a:lnTo>
                <a:lnTo>
                  <a:pt x="2154" y="31"/>
                </a:lnTo>
                <a:lnTo>
                  <a:pt x="2152" y="43"/>
                </a:lnTo>
                <a:lnTo>
                  <a:pt x="2154" y="57"/>
                </a:lnTo>
                <a:lnTo>
                  <a:pt x="2156" y="87"/>
                </a:lnTo>
                <a:lnTo>
                  <a:pt x="2152" y="117"/>
                </a:lnTo>
                <a:lnTo>
                  <a:pt x="2147" y="129"/>
                </a:lnTo>
                <a:lnTo>
                  <a:pt x="2135" y="130"/>
                </a:lnTo>
                <a:lnTo>
                  <a:pt x="2118" y="133"/>
                </a:lnTo>
                <a:lnTo>
                  <a:pt x="2106" y="140"/>
                </a:lnTo>
                <a:lnTo>
                  <a:pt x="2096" y="147"/>
                </a:lnTo>
                <a:lnTo>
                  <a:pt x="2067" y="166"/>
                </a:lnTo>
                <a:lnTo>
                  <a:pt x="2056" y="169"/>
                </a:lnTo>
                <a:lnTo>
                  <a:pt x="2053" y="160"/>
                </a:lnTo>
                <a:lnTo>
                  <a:pt x="2052" y="148"/>
                </a:lnTo>
                <a:lnTo>
                  <a:pt x="2053" y="134"/>
                </a:lnTo>
                <a:lnTo>
                  <a:pt x="2056" y="103"/>
                </a:lnTo>
                <a:lnTo>
                  <a:pt x="2057" y="74"/>
                </a:lnTo>
                <a:lnTo>
                  <a:pt x="2056" y="61"/>
                </a:lnTo>
                <a:lnTo>
                  <a:pt x="2051" y="51"/>
                </a:lnTo>
                <a:lnTo>
                  <a:pt x="2043" y="43"/>
                </a:lnTo>
                <a:lnTo>
                  <a:pt x="2030" y="40"/>
                </a:lnTo>
                <a:lnTo>
                  <a:pt x="2014" y="41"/>
                </a:lnTo>
                <a:lnTo>
                  <a:pt x="1991" y="61"/>
                </a:lnTo>
                <a:lnTo>
                  <a:pt x="1958" y="91"/>
                </a:lnTo>
                <a:lnTo>
                  <a:pt x="1920" y="122"/>
                </a:lnTo>
                <a:lnTo>
                  <a:pt x="1899" y="128"/>
                </a:lnTo>
                <a:lnTo>
                  <a:pt x="1870" y="129"/>
                </a:lnTo>
                <a:lnTo>
                  <a:pt x="1850" y="129"/>
                </a:lnTo>
                <a:lnTo>
                  <a:pt x="1829" y="139"/>
                </a:lnTo>
                <a:lnTo>
                  <a:pt x="1793" y="166"/>
                </a:lnTo>
                <a:lnTo>
                  <a:pt x="1764" y="200"/>
                </a:lnTo>
                <a:lnTo>
                  <a:pt x="1742" y="239"/>
                </a:lnTo>
                <a:lnTo>
                  <a:pt x="1718" y="315"/>
                </a:lnTo>
                <a:lnTo>
                  <a:pt x="1718" y="331"/>
                </a:lnTo>
                <a:lnTo>
                  <a:pt x="1704" y="345"/>
                </a:lnTo>
                <a:lnTo>
                  <a:pt x="1684" y="364"/>
                </a:lnTo>
                <a:lnTo>
                  <a:pt x="1671" y="374"/>
                </a:lnTo>
                <a:lnTo>
                  <a:pt x="1665" y="378"/>
                </a:lnTo>
                <a:lnTo>
                  <a:pt x="1658" y="378"/>
                </a:lnTo>
                <a:lnTo>
                  <a:pt x="1652" y="378"/>
                </a:lnTo>
                <a:lnTo>
                  <a:pt x="1643" y="376"/>
                </a:lnTo>
                <a:lnTo>
                  <a:pt x="1619" y="367"/>
                </a:lnTo>
                <a:lnTo>
                  <a:pt x="1603" y="362"/>
                </a:lnTo>
                <a:lnTo>
                  <a:pt x="1580" y="384"/>
                </a:lnTo>
                <a:lnTo>
                  <a:pt x="1542" y="415"/>
                </a:lnTo>
                <a:lnTo>
                  <a:pt x="1492" y="463"/>
                </a:lnTo>
                <a:lnTo>
                  <a:pt x="1478" y="491"/>
                </a:lnTo>
                <a:lnTo>
                  <a:pt x="1472" y="526"/>
                </a:lnTo>
                <a:lnTo>
                  <a:pt x="1472" y="549"/>
                </a:lnTo>
                <a:lnTo>
                  <a:pt x="1432" y="588"/>
                </a:lnTo>
                <a:lnTo>
                  <a:pt x="1372" y="663"/>
                </a:lnTo>
                <a:lnTo>
                  <a:pt x="1289" y="796"/>
                </a:lnTo>
                <a:lnTo>
                  <a:pt x="1193" y="912"/>
                </a:lnTo>
                <a:lnTo>
                  <a:pt x="1158" y="939"/>
                </a:lnTo>
                <a:lnTo>
                  <a:pt x="1153" y="970"/>
                </a:lnTo>
                <a:lnTo>
                  <a:pt x="1140" y="1002"/>
                </a:lnTo>
                <a:lnTo>
                  <a:pt x="1120" y="1035"/>
                </a:lnTo>
                <a:lnTo>
                  <a:pt x="1070" y="1099"/>
                </a:lnTo>
                <a:lnTo>
                  <a:pt x="1021" y="1165"/>
                </a:lnTo>
                <a:lnTo>
                  <a:pt x="989" y="1232"/>
                </a:lnTo>
                <a:lnTo>
                  <a:pt x="984" y="1267"/>
                </a:lnTo>
                <a:lnTo>
                  <a:pt x="990" y="1302"/>
                </a:lnTo>
                <a:lnTo>
                  <a:pt x="1008" y="1335"/>
                </a:lnTo>
                <a:lnTo>
                  <a:pt x="985" y="1345"/>
                </a:lnTo>
                <a:lnTo>
                  <a:pt x="944" y="1369"/>
                </a:lnTo>
                <a:lnTo>
                  <a:pt x="915" y="1396"/>
                </a:lnTo>
                <a:lnTo>
                  <a:pt x="901" y="1431"/>
                </a:lnTo>
                <a:lnTo>
                  <a:pt x="902" y="1475"/>
                </a:lnTo>
                <a:lnTo>
                  <a:pt x="922" y="1530"/>
                </a:lnTo>
                <a:lnTo>
                  <a:pt x="942" y="1561"/>
                </a:lnTo>
                <a:lnTo>
                  <a:pt x="928" y="1575"/>
                </a:lnTo>
                <a:lnTo>
                  <a:pt x="899" y="1598"/>
                </a:lnTo>
                <a:lnTo>
                  <a:pt x="851" y="1642"/>
                </a:lnTo>
                <a:lnTo>
                  <a:pt x="845" y="1653"/>
                </a:lnTo>
                <a:lnTo>
                  <a:pt x="842" y="1664"/>
                </a:lnTo>
                <a:lnTo>
                  <a:pt x="844" y="1676"/>
                </a:lnTo>
                <a:lnTo>
                  <a:pt x="851" y="1689"/>
                </a:lnTo>
                <a:lnTo>
                  <a:pt x="862" y="1701"/>
                </a:lnTo>
                <a:lnTo>
                  <a:pt x="836" y="1718"/>
                </a:lnTo>
                <a:lnTo>
                  <a:pt x="777" y="1758"/>
                </a:lnTo>
                <a:lnTo>
                  <a:pt x="664" y="1856"/>
                </a:lnTo>
                <a:lnTo>
                  <a:pt x="625" y="1910"/>
                </a:lnTo>
                <a:lnTo>
                  <a:pt x="611" y="1965"/>
                </a:lnTo>
                <a:lnTo>
                  <a:pt x="616" y="1992"/>
                </a:lnTo>
                <a:lnTo>
                  <a:pt x="628" y="1982"/>
                </a:lnTo>
                <a:lnTo>
                  <a:pt x="662" y="1950"/>
                </a:lnTo>
                <a:lnTo>
                  <a:pt x="750" y="1883"/>
                </a:lnTo>
                <a:lnTo>
                  <a:pt x="770" y="1876"/>
                </a:lnTo>
                <a:lnTo>
                  <a:pt x="779" y="1875"/>
                </a:lnTo>
                <a:lnTo>
                  <a:pt x="787" y="1876"/>
                </a:lnTo>
                <a:lnTo>
                  <a:pt x="795" y="1879"/>
                </a:lnTo>
                <a:lnTo>
                  <a:pt x="800" y="1884"/>
                </a:lnTo>
                <a:lnTo>
                  <a:pt x="806" y="1893"/>
                </a:lnTo>
                <a:lnTo>
                  <a:pt x="810" y="1904"/>
                </a:lnTo>
                <a:lnTo>
                  <a:pt x="812" y="1918"/>
                </a:lnTo>
                <a:lnTo>
                  <a:pt x="813" y="1934"/>
                </a:lnTo>
                <a:lnTo>
                  <a:pt x="796" y="1958"/>
                </a:lnTo>
                <a:lnTo>
                  <a:pt x="765" y="1996"/>
                </a:lnTo>
                <a:lnTo>
                  <a:pt x="733" y="2025"/>
                </a:lnTo>
                <a:lnTo>
                  <a:pt x="697" y="2042"/>
                </a:lnTo>
                <a:lnTo>
                  <a:pt x="658" y="2047"/>
                </a:lnTo>
                <a:lnTo>
                  <a:pt x="609" y="2039"/>
                </a:lnTo>
                <a:lnTo>
                  <a:pt x="582" y="2029"/>
                </a:lnTo>
                <a:lnTo>
                  <a:pt x="537" y="2044"/>
                </a:lnTo>
                <a:lnTo>
                  <a:pt x="448" y="2085"/>
                </a:lnTo>
                <a:lnTo>
                  <a:pt x="266" y="2199"/>
                </a:lnTo>
                <a:lnTo>
                  <a:pt x="83" y="2337"/>
                </a:lnTo>
                <a:lnTo>
                  <a:pt x="39" y="2370"/>
                </a:lnTo>
                <a:lnTo>
                  <a:pt x="47" y="2389"/>
                </a:lnTo>
                <a:lnTo>
                  <a:pt x="60" y="2423"/>
                </a:lnTo>
                <a:lnTo>
                  <a:pt x="66" y="2456"/>
                </a:lnTo>
                <a:lnTo>
                  <a:pt x="61" y="2489"/>
                </a:lnTo>
                <a:lnTo>
                  <a:pt x="47" y="2521"/>
                </a:lnTo>
                <a:lnTo>
                  <a:pt x="23" y="2555"/>
                </a:lnTo>
                <a:lnTo>
                  <a:pt x="6" y="2572"/>
                </a:lnTo>
                <a:lnTo>
                  <a:pt x="9" y="2588"/>
                </a:lnTo>
                <a:lnTo>
                  <a:pt x="10" y="2624"/>
                </a:lnTo>
                <a:lnTo>
                  <a:pt x="8" y="2661"/>
                </a:lnTo>
                <a:lnTo>
                  <a:pt x="0" y="2732"/>
                </a:lnTo>
                <a:lnTo>
                  <a:pt x="6" y="2774"/>
                </a:lnTo>
                <a:lnTo>
                  <a:pt x="53" y="2776"/>
                </a:lnTo>
                <a:lnTo>
                  <a:pt x="86" y="2782"/>
                </a:lnTo>
                <a:lnTo>
                  <a:pt x="106" y="2791"/>
                </a:lnTo>
                <a:lnTo>
                  <a:pt x="113" y="2797"/>
                </a:lnTo>
                <a:lnTo>
                  <a:pt x="117" y="2803"/>
                </a:lnTo>
                <a:lnTo>
                  <a:pt x="118" y="2810"/>
                </a:lnTo>
                <a:lnTo>
                  <a:pt x="117" y="2819"/>
                </a:lnTo>
                <a:lnTo>
                  <a:pt x="115" y="2827"/>
                </a:lnTo>
                <a:lnTo>
                  <a:pt x="111" y="2836"/>
                </a:lnTo>
                <a:lnTo>
                  <a:pt x="98" y="2854"/>
                </a:lnTo>
                <a:lnTo>
                  <a:pt x="62" y="2896"/>
                </a:lnTo>
                <a:lnTo>
                  <a:pt x="22" y="2940"/>
                </a:lnTo>
                <a:lnTo>
                  <a:pt x="6" y="2961"/>
                </a:lnTo>
                <a:lnTo>
                  <a:pt x="16" y="2972"/>
                </a:lnTo>
                <a:lnTo>
                  <a:pt x="34" y="2987"/>
                </a:lnTo>
                <a:lnTo>
                  <a:pt x="41" y="2991"/>
                </a:lnTo>
                <a:lnTo>
                  <a:pt x="47" y="2993"/>
                </a:lnTo>
                <a:lnTo>
                  <a:pt x="55" y="2993"/>
                </a:lnTo>
                <a:lnTo>
                  <a:pt x="61" y="2991"/>
                </a:lnTo>
                <a:lnTo>
                  <a:pt x="69" y="2988"/>
                </a:lnTo>
                <a:lnTo>
                  <a:pt x="90" y="2978"/>
                </a:lnTo>
                <a:lnTo>
                  <a:pt x="120" y="2961"/>
                </a:lnTo>
                <a:lnTo>
                  <a:pt x="126" y="2982"/>
                </a:lnTo>
                <a:lnTo>
                  <a:pt x="130" y="3015"/>
                </a:lnTo>
                <a:lnTo>
                  <a:pt x="122" y="3043"/>
                </a:lnTo>
                <a:lnTo>
                  <a:pt x="108" y="3065"/>
                </a:lnTo>
                <a:lnTo>
                  <a:pt x="89" y="3086"/>
                </a:lnTo>
                <a:lnTo>
                  <a:pt x="67" y="3106"/>
                </a:lnTo>
                <a:lnTo>
                  <a:pt x="56" y="3117"/>
                </a:lnTo>
                <a:lnTo>
                  <a:pt x="57" y="3157"/>
                </a:lnTo>
                <a:lnTo>
                  <a:pt x="73" y="3212"/>
                </a:lnTo>
                <a:lnTo>
                  <a:pt x="100" y="3241"/>
                </a:lnTo>
                <a:lnTo>
                  <a:pt x="136" y="3257"/>
                </a:lnTo>
                <a:lnTo>
                  <a:pt x="176" y="3269"/>
                </a:lnTo>
                <a:lnTo>
                  <a:pt x="216" y="3288"/>
                </a:lnTo>
                <a:lnTo>
                  <a:pt x="236" y="3304"/>
                </a:lnTo>
                <a:lnTo>
                  <a:pt x="269" y="3300"/>
                </a:lnTo>
                <a:lnTo>
                  <a:pt x="305" y="3290"/>
                </a:lnTo>
                <a:lnTo>
                  <a:pt x="379" y="3253"/>
                </a:lnTo>
                <a:lnTo>
                  <a:pt x="452" y="3201"/>
                </a:lnTo>
                <a:lnTo>
                  <a:pt x="582" y="3086"/>
                </a:lnTo>
                <a:lnTo>
                  <a:pt x="632" y="3039"/>
                </a:lnTo>
                <a:lnTo>
                  <a:pt x="632" y="3037"/>
                </a:lnTo>
                <a:lnTo>
                  <a:pt x="639" y="3017"/>
                </a:lnTo>
                <a:lnTo>
                  <a:pt x="662" y="2952"/>
                </a:lnTo>
                <a:lnTo>
                  <a:pt x="680" y="2902"/>
                </a:lnTo>
                <a:lnTo>
                  <a:pt x="681" y="2899"/>
                </a:lnTo>
                <a:lnTo>
                  <a:pt x="689" y="2914"/>
                </a:lnTo>
                <a:lnTo>
                  <a:pt x="711" y="2960"/>
                </a:lnTo>
                <a:lnTo>
                  <a:pt x="729" y="2996"/>
                </a:lnTo>
                <a:lnTo>
                  <a:pt x="730" y="2997"/>
                </a:lnTo>
                <a:lnTo>
                  <a:pt x="732" y="2998"/>
                </a:lnTo>
                <a:lnTo>
                  <a:pt x="742" y="3005"/>
                </a:lnTo>
                <a:lnTo>
                  <a:pt x="779" y="3026"/>
                </a:lnTo>
                <a:lnTo>
                  <a:pt x="807" y="3043"/>
                </a:lnTo>
                <a:lnTo>
                  <a:pt x="809" y="3043"/>
                </a:lnTo>
                <a:lnTo>
                  <a:pt x="817" y="2984"/>
                </a:lnTo>
                <a:lnTo>
                  <a:pt x="827" y="2916"/>
                </a:lnTo>
                <a:lnTo>
                  <a:pt x="829" y="2902"/>
                </a:lnTo>
                <a:lnTo>
                  <a:pt x="829" y="2899"/>
                </a:lnTo>
                <a:lnTo>
                  <a:pt x="829" y="2898"/>
                </a:lnTo>
                <a:lnTo>
                  <a:pt x="828" y="2897"/>
                </a:lnTo>
                <a:lnTo>
                  <a:pt x="827" y="2898"/>
                </a:lnTo>
                <a:lnTo>
                  <a:pt x="826" y="2899"/>
                </a:lnTo>
                <a:lnTo>
                  <a:pt x="825" y="2901"/>
                </a:lnTo>
                <a:lnTo>
                  <a:pt x="822" y="2905"/>
                </a:lnTo>
                <a:lnTo>
                  <a:pt x="821" y="2907"/>
                </a:lnTo>
                <a:lnTo>
                  <a:pt x="819" y="2908"/>
                </a:lnTo>
                <a:lnTo>
                  <a:pt x="818" y="2908"/>
                </a:lnTo>
                <a:lnTo>
                  <a:pt x="817" y="2908"/>
                </a:lnTo>
                <a:lnTo>
                  <a:pt x="816" y="2907"/>
                </a:lnTo>
                <a:lnTo>
                  <a:pt x="815" y="2905"/>
                </a:lnTo>
                <a:lnTo>
                  <a:pt x="815" y="2903"/>
                </a:lnTo>
                <a:lnTo>
                  <a:pt x="814" y="2898"/>
                </a:lnTo>
                <a:lnTo>
                  <a:pt x="813" y="2879"/>
                </a:lnTo>
                <a:lnTo>
                  <a:pt x="813" y="2868"/>
                </a:lnTo>
                <a:lnTo>
                  <a:pt x="817" y="2868"/>
                </a:lnTo>
                <a:lnTo>
                  <a:pt x="824" y="2864"/>
                </a:lnTo>
                <a:lnTo>
                  <a:pt x="842" y="2856"/>
                </a:lnTo>
                <a:lnTo>
                  <a:pt x="882" y="2833"/>
                </a:lnTo>
                <a:lnTo>
                  <a:pt x="912" y="2821"/>
                </a:lnTo>
                <a:lnTo>
                  <a:pt x="911" y="2818"/>
                </a:lnTo>
                <a:lnTo>
                  <a:pt x="906" y="2791"/>
                </a:lnTo>
                <a:lnTo>
                  <a:pt x="890" y="2699"/>
                </a:lnTo>
                <a:lnTo>
                  <a:pt x="878" y="2630"/>
                </a:lnTo>
                <a:lnTo>
                  <a:pt x="878" y="2626"/>
                </a:lnTo>
                <a:lnTo>
                  <a:pt x="890" y="2613"/>
                </a:lnTo>
                <a:lnTo>
                  <a:pt x="912" y="2595"/>
                </a:lnTo>
                <a:lnTo>
                  <a:pt x="931" y="2588"/>
                </a:lnTo>
                <a:lnTo>
                  <a:pt x="946" y="2584"/>
                </a:lnTo>
                <a:lnTo>
                  <a:pt x="954" y="2580"/>
                </a:lnTo>
                <a:lnTo>
                  <a:pt x="959" y="2575"/>
                </a:lnTo>
                <a:lnTo>
                  <a:pt x="964" y="2566"/>
                </a:lnTo>
                <a:lnTo>
                  <a:pt x="969" y="2554"/>
                </a:lnTo>
                <a:lnTo>
                  <a:pt x="972" y="2535"/>
                </a:lnTo>
                <a:lnTo>
                  <a:pt x="942" y="2493"/>
                </a:lnTo>
                <a:lnTo>
                  <a:pt x="898" y="2407"/>
                </a:lnTo>
                <a:lnTo>
                  <a:pt x="872" y="2321"/>
                </a:lnTo>
                <a:lnTo>
                  <a:pt x="862" y="2234"/>
                </a:lnTo>
                <a:lnTo>
                  <a:pt x="880" y="2047"/>
                </a:lnTo>
                <a:lnTo>
                  <a:pt x="890" y="199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141"/>
          <p:cNvSpPr/>
          <p:nvPr/>
        </p:nvSpPr>
        <p:spPr>
          <a:xfrm>
            <a:off x="2554200" y="23760"/>
            <a:ext cx="2005200" cy="2622600"/>
          </a:xfrm>
          <a:custGeom>
            <a:avLst/>
            <a:gdLst>
              <a:gd name="textAreaLeft" fmla="*/ 0 w 2005200"/>
              <a:gd name="textAreaRight" fmla="*/ 2005560 w 2005200"/>
              <a:gd name="textAreaTop" fmla="*/ 0 h 2622600"/>
              <a:gd name="textAreaBottom" fmla="*/ 2622960 h 2622600"/>
            </a:gdLst>
            <a:ahLst/>
            <a:rect l="textAreaLeft" t="textAreaTop" r="textAreaRight" b="textAreaBottom"/>
            <a:pathLst>
              <a:path w="2526" h="3304">
                <a:moveTo>
                  <a:pt x="890" y="1996"/>
                </a:moveTo>
                <a:lnTo>
                  <a:pt x="889" y="1959"/>
                </a:lnTo>
                <a:lnTo>
                  <a:pt x="893" y="1932"/>
                </a:lnTo>
                <a:lnTo>
                  <a:pt x="902" y="1913"/>
                </a:lnTo>
                <a:lnTo>
                  <a:pt x="915" y="1901"/>
                </a:lnTo>
                <a:lnTo>
                  <a:pt x="930" y="1894"/>
                </a:lnTo>
                <a:lnTo>
                  <a:pt x="948" y="1889"/>
                </a:lnTo>
                <a:lnTo>
                  <a:pt x="990" y="1880"/>
                </a:lnTo>
                <a:lnTo>
                  <a:pt x="1034" y="1860"/>
                </a:lnTo>
                <a:lnTo>
                  <a:pt x="1076" y="1810"/>
                </a:lnTo>
                <a:lnTo>
                  <a:pt x="1065" y="1791"/>
                </a:lnTo>
                <a:lnTo>
                  <a:pt x="1054" y="1752"/>
                </a:lnTo>
                <a:lnTo>
                  <a:pt x="1056" y="1713"/>
                </a:lnTo>
                <a:lnTo>
                  <a:pt x="1066" y="1674"/>
                </a:lnTo>
                <a:lnTo>
                  <a:pt x="1099" y="1597"/>
                </a:lnTo>
                <a:lnTo>
                  <a:pt x="1108" y="1577"/>
                </a:lnTo>
                <a:lnTo>
                  <a:pt x="1103" y="1573"/>
                </a:lnTo>
                <a:lnTo>
                  <a:pt x="1088" y="1557"/>
                </a:lnTo>
                <a:lnTo>
                  <a:pt x="1076" y="1546"/>
                </a:lnTo>
                <a:lnTo>
                  <a:pt x="1076" y="1545"/>
                </a:lnTo>
                <a:lnTo>
                  <a:pt x="1081" y="1537"/>
                </a:lnTo>
                <a:lnTo>
                  <a:pt x="1092" y="1527"/>
                </a:lnTo>
                <a:lnTo>
                  <a:pt x="1121" y="1503"/>
                </a:lnTo>
                <a:lnTo>
                  <a:pt x="1191" y="1447"/>
                </a:lnTo>
                <a:lnTo>
                  <a:pt x="1226" y="1394"/>
                </a:lnTo>
                <a:lnTo>
                  <a:pt x="1226" y="1391"/>
                </a:lnTo>
                <a:lnTo>
                  <a:pt x="1228" y="1366"/>
                </a:lnTo>
                <a:lnTo>
                  <a:pt x="1235" y="1280"/>
                </a:lnTo>
                <a:lnTo>
                  <a:pt x="1239" y="1215"/>
                </a:lnTo>
                <a:lnTo>
                  <a:pt x="1240" y="1211"/>
                </a:lnTo>
                <a:lnTo>
                  <a:pt x="1241" y="1199"/>
                </a:lnTo>
                <a:lnTo>
                  <a:pt x="1247" y="1179"/>
                </a:lnTo>
                <a:lnTo>
                  <a:pt x="1258" y="1167"/>
                </a:lnTo>
                <a:lnTo>
                  <a:pt x="1270" y="1158"/>
                </a:lnTo>
                <a:lnTo>
                  <a:pt x="1280" y="1148"/>
                </a:lnTo>
                <a:lnTo>
                  <a:pt x="1288" y="1135"/>
                </a:lnTo>
                <a:lnTo>
                  <a:pt x="1290" y="1125"/>
                </a:lnTo>
                <a:lnTo>
                  <a:pt x="1289" y="1122"/>
                </a:lnTo>
                <a:lnTo>
                  <a:pt x="1282" y="1102"/>
                </a:lnTo>
                <a:lnTo>
                  <a:pt x="1258" y="1029"/>
                </a:lnTo>
                <a:lnTo>
                  <a:pt x="1240" y="974"/>
                </a:lnTo>
                <a:lnTo>
                  <a:pt x="1240" y="969"/>
                </a:lnTo>
                <a:lnTo>
                  <a:pt x="1241" y="968"/>
                </a:lnTo>
                <a:lnTo>
                  <a:pt x="1250" y="955"/>
                </a:lnTo>
                <a:lnTo>
                  <a:pt x="1282" y="912"/>
                </a:lnTo>
                <a:lnTo>
                  <a:pt x="1305" y="880"/>
                </a:lnTo>
                <a:lnTo>
                  <a:pt x="1307" y="878"/>
                </a:lnTo>
                <a:lnTo>
                  <a:pt x="1309" y="878"/>
                </a:lnTo>
                <a:lnTo>
                  <a:pt x="1316" y="877"/>
                </a:lnTo>
                <a:lnTo>
                  <a:pt x="1344" y="872"/>
                </a:lnTo>
                <a:lnTo>
                  <a:pt x="1365" y="869"/>
                </a:lnTo>
                <a:lnTo>
                  <a:pt x="1367" y="868"/>
                </a:lnTo>
                <a:lnTo>
                  <a:pt x="1369" y="866"/>
                </a:lnTo>
                <a:lnTo>
                  <a:pt x="1380" y="845"/>
                </a:lnTo>
                <a:lnTo>
                  <a:pt x="1421" y="777"/>
                </a:lnTo>
                <a:lnTo>
                  <a:pt x="1452" y="724"/>
                </a:lnTo>
                <a:lnTo>
                  <a:pt x="1454" y="721"/>
                </a:lnTo>
                <a:lnTo>
                  <a:pt x="1467" y="731"/>
                </a:lnTo>
                <a:lnTo>
                  <a:pt x="1495" y="748"/>
                </a:lnTo>
                <a:lnTo>
                  <a:pt x="1553" y="770"/>
                </a:lnTo>
                <a:lnTo>
                  <a:pt x="1585" y="770"/>
                </a:lnTo>
                <a:lnTo>
                  <a:pt x="1619" y="761"/>
                </a:lnTo>
                <a:lnTo>
                  <a:pt x="1639" y="751"/>
                </a:lnTo>
                <a:lnTo>
                  <a:pt x="1638" y="746"/>
                </a:lnTo>
                <a:lnTo>
                  <a:pt x="1635" y="736"/>
                </a:lnTo>
                <a:lnTo>
                  <a:pt x="1625" y="709"/>
                </a:lnTo>
                <a:lnTo>
                  <a:pt x="1600" y="644"/>
                </a:lnTo>
                <a:lnTo>
                  <a:pt x="1587" y="611"/>
                </a:lnTo>
                <a:lnTo>
                  <a:pt x="1595" y="603"/>
                </a:lnTo>
                <a:lnTo>
                  <a:pt x="1615" y="583"/>
                </a:lnTo>
                <a:lnTo>
                  <a:pt x="1663" y="542"/>
                </a:lnTo>
                <a:lnTo>
                  <a:pt x="1709" y="508"/>
                </a:lnTo>
                <a:lnTo>
                  <a:pt x="1718" y="503"/>
                </a:lnTo>
                <a:lnTo>
                  <a:pt x="1729" y="513"/>
                </a:lnTo>
                <a:lnTo>
                  <a:pt x="1749" y="527"/>
                </a:lnTo>
                <a:lnTo>
                  <a:pt x="1791" y="550"/>
                </a:lnTo>
                <a:lnTo>
                  <a:pt x="1856" y="604"/>
                </a:lnTo>
                <a:lnTo>
                  <a:pt x="1880" y="627"/>
                </a:lnTo>
                <a:lnTo>
                  <a:pt x="1881" y="627"/>
                </a:lnTo>
                <a:lnTo>
                  <a:pt x="1893" y="623"/>
                </a:lnTo>
                <a:lnTo>
                  <a:pt x="1933" y="608"/>
                </a:lnTo>
                <a:lnTo>
                  <a:pt x="1963" y="597"/>
                </a:lnTo>
                <a:lnTo>
                  <a:pt x="1965" y="596"/>
                </a:lnTo>
                <a:lnTo>
                  <a:pt x="1972" y="602"/>
                </a:lnTo>
                <a:lnTo>
                  <a:pt x="1996" y="617"/>
                </a:lnTo>
                <a:lnTo>
                  <a:pt x="2015" y="629"/>
                </a:lnTo>
                <a:lnTo>
                  <a:pt x="2016" y="629"/>
                </a:lnTo>
                <a:lnTo>
                  <a:pt x="2024" y="629"/>
                </a:lnTo>
                <a:lnTo>
                  <a:pt x="2048" y="628"/>
                </a:lnTo>
                <a:lnTo>
                  <a:pt x="2068" y="627"/>
                </a:lnTo>
                <a:lnTo>
                  <a:pt x="2069" y="626"/>
                </a:lnTo>
                <a:lnTo>
                  <a:pt x="2069" y="624"/>
                </a:lnTo>
                <a:lnTo>
                  <a:pt x="2076" y="604"/>
                </a:lnTo>
                <a:lnTo>
                  <a:pt x="2102" y="535"/>
                </a:lnTo>
                <a:lnTo>
                  <a:pt x="2121" y="482"/>
                </a:lnTo>
                <a:lnTo>
                  <a:pt x="2122" y="479"/>
                </a:lnTo>
                <a:lnTo>
                  <a:pt x="2118" y="465"/>
                </a:lnTo>
                <a:lnTo>
                  <a:pt x="2106" y="420"/>
                </a:lnTo>
                <a:lnTo>
                  <a:pt x="2097" y="387"/>
                </a:lnTo>
                <a:lnTo>
                  <a:pt x="2097" y="385"/>
                </a:lnTo>
                <a:lnTo>
                  <a:pt x="2104" y="367"/>
                </a:lnTo>
                <a:lnTo>
                  <a:pt x="2128" y="313"/>
                </a:lnTo>
                <a:lnTo>
                  <a:pt x="2146" y="273"/>
                </a:lnTo>
                <a:lnTo>
                  <a:pt x="2147" y="270"/>
                </a:lnTo>
                <a:lnTo>
                  <a:pt x="2148" y="269"/>
                </a:lnTo>
                <a:lnTo>
                  <a:pt x="2161" y="260"/>
                </a:lnTo>
                <a:lnTo>
                  <a:pt x="2206" y="233"/>
                </a:lnTo>
                <a:lnTo>
                  <a:pt x="2240" y="211"/>
                </a:lnTo>
                <a:lnTo>
                  <a:pt x="2243" y="209"/>
                </a:lnTo>
                <a:lnTo>
                  <a:pt x="2245" y="211"/>
                </a:lnTo>
                <a:lnTo>
                  <a:pt x="2260" y="221"/>
                </a:lnTo>
                <a:lnTo>
                  <a:pt x="2313" y="254"/>
                </a:lnTo>
                <a:lnTo>
                  <a:pt x="2353" y="280"/>
                </a:lnTo>
                <a:lnTo>
                  <a:pt x="2356" y="281"/>
                </a:lnTo>
                <a:lnTo>
                  <a:pt x="2364" y="282"/>
                </a:lnTo>
                <a:lnTo>
                  <a:pt x="2389" y="283"/>
                </a:lnTo>
                <a:lnTo>
                  <a:pt x="2409" y="284"/>
                </a:lnTo>
                <a:lnTo>
                  <a:pt x="2411" y="284"/>
                </a:lnTo>
                <a:lnTo>
                  <a:pt x="2410" y="287"/>
                </a:lnTo>
                <a:lnTo>
                  <a:pt x="2403" y="301"/>
                </a:lnTo>
                <a:lnTo>
                  <a:pt x="2384" y="351"/>
                </a:lnTo>
                <a:lnTo>
                  <a:pt x="2369" y="389"/>
                </a:lnTo>
                <a:lnTo>
                  <a:pt x="2369" y="391"/>
                </a:lnTo>
                <a:lnTo>
                  <a:pt x="2370" y="391"/>
                </a:lnTo>
                <a:lnTo>
                  <a:pt x="2380" y="388"/>
                </a:lnTo>
                <a:lnTo>
                  <a:pt x="2415" y="378"/>
                </a:lnTo>
                <a:lnTo>
                  <a:pt x="2441" y="369"/>
                </a:lnTo>
                <a:lnTo>
                  <a:pt x="2443" y="368"/>
                </a:lnTo>
                <a:lnTo>
                  <a:pt x="2444" y="367"/>
                </a:lnTo>
                <a:lnTo>
                  <a:pt x="2456" y="353"/>
                </a:lnTo>
                <a:lnTo>
                  <a:pt x="2495" y="307"/>
                </a:lnTo>
                <a:lnTo>
                  <a:pt x="2524" y="272"/>
                </a:lnTo>
                <a:lnTo>
                  <a:pt x="2526" y="270"/>
                </a:lnTo>
                <a:lnTo>
                  <a:pt x="2512" y="258"/>
                </a:lnTo>
                <a:lnTo>
                  <a:pt x="2499" y="251"/>
                </a:lnTo>
                <a:lnTo>
                  <a:pt x="2487" y="248"/>
                </a:lnTo>
                <a:lnTo>
                  <a:pt x="2476" y="247"/>
                </a:lnTo>
                <a:lnTo>
                  <a:pt x="2466" y="248"/>
                </a:lnTo>
                <a:lnTo>
                  <a:pt x="2446" y="250"/>
                </a:lnTo>
                <a:lnTo>
                  <a:pt x="2436" y="249"/>
                </a:lnTo>
                <a:lnTo>
                  <a:pt x="2426" y="245"/>
                </a:lnTo>
                <a:lnTo>
                  <a:pt x="2415" y="238"/>
                </a:lnTo>
                <a:lnTo>
                  <a:pt x="2404" y="226"/>
                </a:lnTo>
                <a:lnTo>
                  <a:pt x="2394" y="206"/>
                </a:lnTo>
                <a:lnTo>
                  <a:pt x="2398" y="200"/>
                </a:lnTo>
                <a:lnTo>
                  <a:pt x="2406" y="195"/>
                </a:lnTo>
                <a:lnTo>
                  <a:pt x="2413" y="191"/>
                </a:lnTo>
                <a:lnTo>
                  <a:pt x="2429" y="183"/>
                </a:lnTo>
                <a:lnTo>
                  <a:pt x="2436" y="179"/>
                </a:lnTo>
                <a:lnTo>
                  <a:pt x="2442" y="174"/>
                </a:lnTo>
                <a:lnTo>
                  <a:pt x="2445" y="167"/>
                </a:lnTo>
                <a:lnTo>
                  <a:pt x="2446" y="157"/>
                </a:lnTo>
                <a:lnTo>
                  <a:pt x="2443" y="146"/>
                </a:lnTo>
                <a:lnTo>
                  <a:pt x="2437" y="132"/>
                </a:lnTo>
                <a:lnTo>
                  <a:pt x="2427" y="113"/>
                </a:lnTo>
                <a:lnTo>
                  <a:pt x="2428" y="113"/>
                </a:lnTo>
                <a:lnTo>
                  <a:pt x="2441" y="109"/>
                </a:lnTo>
                <a:lnTo>
                  <a:pt x="2486" y="94"/>
                </a:lnTo>
                <a:lnTo>
                  <a:pt x="2520" y="83"/>
                </a:lnTo>
                <a:lnTo>
                  <a:pt x="2522" y="82"/>
                </a:lnTo>
                <a:lnTo>
                  <a:pt x="2490" y="55"/>
                </a:lnTo>
                <a:lnTo>
                  <a:pt x="2432" y="16"/>
                </a:lnTo>
                <a:lnTo>
                  <a:pt x="2381" y="0"/>
                </a:lnTo>
                <a:lnTo>
                  <a:pt x="2357" y="0"/>
                </a:lnTo>
                <a:lnTo>
                  <a:pt x="2335" y="6"/>
                </a:lnTo>
                <a:lnTo>
                  <a:pt x="2314" y="18"/>
                </a:lnTo>
                <a:lnTo>
                  <a:pt x="2295" y="36"/>
                </a:lnTo>
                <a:lnTo>
                  <a:pt x="2277" y="61"/>
                </a:lnTo>
                <a:lnTo>
                  <a:pt x="2245" y="129"/>
                </a:lnTo>
                <a:lnTo>
                  <a:pt x="2244" y="127"/>
                </a:lnTo>
                <a:lnTo>
                  <a:pt x="2239" y="114"/>
                </a:lnTo>
                <a:lnTo>
                  <a:pt x="2224" y="65"/>
                </a:lnTo>
                <a:lnTo>
                  <a:pt x="2213" y="28"/>
                </a:lnTo>
                <a:lnTo>
                  <a:pt x="2213" y="25"/>
                </a:lnTo>
                <a:lnTo>
                  <a:pt x="2190" y="17"/>
                </a:lnTo>
                <a:lnTo>
                  <a:pt x="2173" y="15"/>
                </a:lnTo>
                <a:lnTo>
                  <a:pt x="2167" y="15"/>
                </a:lnTo>
                <a:lnTo>
                  <a:pt x="2162" y="16"/>
                </a:lnTo>
                <a:lnTo>
                  <a:pt x="2159" y="19"/>
                </a:lnTo>
                <a:lnTo>
                  <a:pt x="2156" y="22"/>
                </a:lnTo>
                <a:lnTo>
                  <a:pt x="2155" y="26"/>
                </a:lnTo>
                <a:lnTo>
                  <a:pt x="2154" y="31"/>
                </a:lnTo>
                <a:lnTo>
                  <a:pt x="2152" y="43"/>
                </a:lnTo>
                <a:lnTo>
                  <a:pt x="2154" y="57"/>
                </a:lnTo>
                <a:lnTo>
                  <a:pt x="2156" y="87"/>
                </a:lnTo>
                <a:lnTo>
                  <a:pt x="2152" y="117"/>
                </a:lnTo>
                <a:lnTo>
                  <a:pt x="2147" y="129"/>
                </a:lnTo>
                <a:lnTo>
                  <a:pt x="2135" y="130"/>
                </a:lnTo>
                <a:lnTo>
                  <a:pt x="2118" y="133"/>
                </a:lnTo>
                <a:lnTo>
                  <a:pt x="2106" y="140"/>
                </a:lnTo>
                <a:lnTo>
                  <a:pt x="2096" y="147"/>
                </a:lnTo>
                <a:lnTo>
                  <a:pt x="2067" y="166"/>
                </a:lnTo>
                <a:lnTo>
                  <a:pt x="2056" y="169"/>
                </a:lnTo>
                <a:lnTo>
                  <a:pt x="2053" y="160"/>
                </a:lnTo>
                <a:lnTo>
                  <a:pt x="2052" y="148"/>
                </a:lnTo>
                <a:lnTo>
                  <a:pt x="2053" y="134"/>
                </a:lnTo>
                <a:lnTo>
                  <a:pt x="2056" y="103"/>
                </a:lnTo>
                <a:lnTo>
                  <a:pt x="2057" y="74"/>
                </a:lnTo>
                <a:lnTo>
                  <a:pt x="2056" y="61"/>
                </a:lnTo>
                <a:lnTo>
                  <a:pt x="2051" y="51"/>
                </a:lnTo>
                <a:lnTo>
                  <a:pt x="2043" y="43"/>
                </a:lnTo>
                <a:lnTo>
                  <a:pt x="2030" y="40"/>
                </a:lnTo>
                <a:lnTo>
                  <a:pt x="2014" y="41"/>
                </a:lnTo>
                <a:lnTo>
                  <a:pt x="1991" y="61"/>
                </a:lnTo>
                <a:lnTo>
                  <a:pt x="1958" y="91"/>
                </a:lnTo>
                <a:lnTo>
                  <a:pt x="1920" y="122"/>
                </a:lnTo>
                <a:lnTo>
                  <a:pt x="1899" y="128"/>
                </a:lnTo>
                <a:lnTo>
                  <a:pt x="1870" y="129"/>
                </a:lnTo>
                <a:lnTo>
                  <a:pt x="1850" y="129"/>
                </a:lnTo>
                <a:lnTo>
                  <a:pt x="1829" y="139"/>
                </a:lnTo>
                <a:lnTo>
                  <a:pt x="1793" y="166"/>
                </a:lnTo>
                <a:lnTo>
                  <a:pt x="1764" y="200"/>
                </a:lnTo>
                <a:lnTo>
                  <a:pt x="1742" y="239"/>
                </a:lnTo>
                <a:lnTo>
                  <a:pt x="1718" y="315"/>
                </a:lnTo>
                <a:lnTo>
                  <a:pt x="1718" y="331"/>
                </a:lnTo>
                <a:lnTo>
                  <a:pt x="1704" y="345"/>
                </a:lnTo>
                <a:lnTo>
                  <a:pt x="1684" y="364"/>
                </a:lnTo>
                <a:lnTo>
                  <a:pt x="1671" y="374"/>
                </a:lnTo>
                <a:lnTo>
                  <a:pt x="1665" y="378"/>
                </a:lnTo>
                <a:lnTo>
                  <a:pt x="1658" y="378"/>
                </a:lnTo>
                <a:lnTo>
                  <a:pt x="1652" y="378"/>
                </a:lnTo>
                <a:lnTo>
                  <a:pt x="1643" y="376"/>
                </a:lnTo>
                <a:lnTo>
                  <a:pt x="1619" y="367"/>
                </a:lnTo>
                <a:lnTo>
                  <a:pt x="1603" y="362"/>
                </a:lnTo>
                <a:lnTo>
                  <a:pt x="1580" y="384"/>
                </a:lnTo>
                <a:lnTo>
                  <a:pt x="1542" y="415"/>
                </a:lnTo>
                <a:lnTo>
                  <a:pt x="1492" y="463"/>
                </a:lnTo>
                <a:lnTo>
                  <a:pt x="1478" y="491"/>
                </a:lnTo>
                <a:lnTo>
                  <a:pt x="1472" y="526"/>
                </a:lnTo>
                <a:lnTo>
                  <a:pt x="1472" y="549"/>
                </a:lnTo>
                <a:lnTo>
                  <a:pt x="1432" y="588"/>
                </a:lnTo>
                <a:lnTo>
                  <a:pt x="1372" y="663"/>
                </a:lnTo>
                <a:lnTo>
                  <a:pt x="1289" y="796"/>
                </a:lnTo>
                <a:lnTo>
                  <a:pt x="1193" y="912"/>
                </a:lnTo>
                <a:lnTo>
                  <a:pt x="1158" y="939"/>
                </a:lnTo>
                <a:lnTo>
                  <a:pt x="1153" y="970"/>
                </a:lnTo>
                <a:lnTo>
                  <a:pt x="1140" y="1002"/>
                </a:lnTo>
                <a:lnTo>
                  <a:pt x="1120" y="1035"/>
                </a:lnTo>
                <a:lnTo>
                  <a:pt x="1070" y="1099"/>
                </a:lnTo>
                <a:lnTo>
                  <a:pt x="1021" y="1165"/>
                </a:lnTo>
                <a:lnTo>
                  <a:pt x="989" y="1232"/>
                </a:lnTo>
                <a:lnTo>
                  <a:pt x="984" y="1267"/>
                </a:lnTo>
                <a:lnTo>
                  <a:pt x="990" y="1302"/>
                </a:lnTo>
                <a:lnTo>
                  <a:pt x="1008" y="1335"/>
                </a:lnTo>
                <a:lnTo>
                  <a:pt x="985" y="1345"/>
                </a:lnTo>
                <a:lnTo>
                  <a:pt x="944" y="1369"/>
                </a:lnTo>
                <a:lnTo>
                  <a:pt x="915" y="1396"/>
                </a:lnTo>
                <a:lnTo>
                  <a:pt x="901" y="1431"/>
                </a:lnTo>
                <a:lnTo>
                  <a:pt x="902" y="1475"/>
                </a:lnTo>
                <a:lnTo>
                  <a:pt x="922" y="1530"/>
                </a:lnTo>
                <a:lnTo>
                  <a:pt x="942" y="1561"/>
                </a:lnTo>
                <a:lnTo>
                  <a:pt x="928" y="1575"/>
                </a:lnTo>
                <a:lnTo>
                  <a:pt x="899" y="1598"/>
                </a:lnTo>
                <a:lnTo>
                  <a:pt x="851" y="1642"/>
                </a:lnTo>
                <a:lnTo>
                  <a:pt x="845" y="1653"/>
                </a:lnTo>
                <a:lnTo>
                  <a:pt x="842" y="1664"/>
                </a:lnTo>
                <a:lnTo>
                  <a:pt x="844" y="1676"/>
                </a:lnTo>
                <a:lnTo>
                  <a:pt x="851" y="1689"/>
                </a:lnTo>
                <a:lnTo>
                  <a:pt x="862" y="1701"/>
                </a:lnTo>
                <a:lnTo>
                  <a:pt x="836" y="1718"/>
                </a:lnTo>
                <a:lnTo>
                  <a:pt x="777" y="1758"/>
                </a:lnTo>
                <a:lnTo>
                  <a:pt x="664" y="1856"/>
                </a:lnTo>
                <a:lnTo>
                  <a:pt x="625" y="1910"/>
                </a:lnTo>
                <a:lnTo>
                  <a:pt x="611" y="1965"/>
                </a:lnTo>
                <a:lnTo>
                  <a:pt x="616" y="1992"/>
                </a:lnTo>
                <a:lnTo>
                  <a:pt x="628" y="1982"/>
                </a:lnTo>
                <a:lnTo>
                  <a:pt x="662" y="1950"/>
                </a:lnTo>
                <a:lnTo>
                  <a:pt x="750" y="1883"/>
                </a:lnTo>
                <a:lnTo>
                  <a:pt x="770" y="1876"/>
                </a:lnTo>
                <a:lnTo>
                  <a:pt x="779" y="1875"/>
                </a:lnTo>
                <a:lnTo>
                  <a:pt x="787" y="1876"/>
                </a:lnTo>
                <a:lnTo>
                  <a:pt x="795" y="1879"/>
                </a:lnTo>
                <a:lnTo>
                  <a:pt x="800" y="1884"/>
                </a:lnTo>
                <a:lnTo>
                  <a:pt x="806" y="1893"/>
                </a:lnTo>
                <a:lnTo>
                  <a:pt x="810" y="1904"/>
                </a:lnTo>
                <a:lnTo>
                  <a:pt x="812" y="1918"/>
                </a:lnTo>
                <a:lnTo>
                  <a:pt x="813" y="1934"/>
                </a:lnTo>
                <a:lnTo>
                  <a:pt x="796" y="1958"/>
                </a:lnTo>
                <a:lnTo>
                  <a:pt x="765" y="1996"/>
                </a:lnTo>
                <a:lnTo>
                  <a:pt x="733" y="2025"/>
                </a:lnTo>
                <a:lnTo>
                  <a:pt x="697" y="2042"/>
                </a:lnTo>
                <a:lnTo>
                  <a:pt x="658" y="2047"/>
                </a:lnTo>
                <a:lnTo>
                  <a:pt x="609" y="2039"/>
                </a:lnTo>
                <a:lnTo>
                  <a:pt x="582" y="2029"/>
                </a:lnTo>
                <a:lnTo>
                  <a:pt x="537" y="2044"/>
                </a:lnTo>
                <a:lnTo>
                  <a:pt x="448" y="2085"/>
                </a:lnTo>
                <a:lnTo>
                  <a:pt x="266" y="2199"/>
                </a:lnTo>
                <a:lnTo>
                  <a:pt x="83" y="2337"/>
                </a:lnTo>
                <a:lnTo>
                  <a:pt x="39" y="2370"/>
                </a:lnTo>
                <a:lnTo>
                  <a:pt x="47" y="2389"/>
                </a:lnTo>
                <a:lnTo>
                  <a:pt x="60" y="2423"/>
                </a:lnTo>
                <a:lnTo>
                  <a:pt x="66" y="2456"/>
                </a:lnTo>
                <a:lnTo>
                  <a:pt x="61" y="2489"/>
                </a:lnTo>
                <a:lnTo>
                  <a:pt x="47" y="2521"/>
                </a:lnTo>
                <a:lnTo>
                  <a:pt x="23" y="2555"/>
                </a:lnTo>
                <a:lnTo>
                  <a:pt x="6" y="2572"/>
                </a:lnTo>
                <a:lnTo>
                  <a:pt x="9" y="2588"/>
                </a:lnTo>
                <a:lnTo>
                  <a:pt x="10" y="2624"/>
                </a:lnTo>
                <a:lnTo>
                  <a:pt x="8" y="2661"/>
                </a:lnTo>
                <a:lnTo>
                  <a:pt x="0" y="2732"/>
                </a:lnTo>
                <a:lnTo>
                  <a:pt x="6" y="2774"/>
                </a:lnTo>
                <a:lnTo>
                  <a:pt x="53" y="2776"/>
                </a:lnTo>
                <a:lnTo>
                  <a:pt x="86" y="2782"/>
                </a:lnTo>
                <a:lnTo>
                  <a:pt x="106" y="2791"/>
                </a:lnTo>
                <a:lnTo>
                  <a:pt x="113" y="2797"/>
                </a:lnTo>
                <a:lnTo>
                  <a:pt x="117" y="2803"/>
                </a:lnTo>
                <a:lnTo>
                  <a:pt x="118" y="2810"/>
                </a:lnTo>
                <a:lnTo>
                  <a:pt x="117" y="2819"/>
                </a:lnTo>
                <a:lnTo>
                  <a:pt x="115" y="2827"/>
                </a:lnTo>
                <a:lnTo>
                  <a:pt x="111" y="2836"/>
                </a:lnTo>
                <a:lnTo>
                  <a:pt x="98" y="2854"/>
                </a:lnTo>
                <a:lnTo>
                  <a:pt x="62" y="2896"/>
                </a:lnTo>
                <a:lnTo>
                  <a:pt x="22" y="2940"/>
                </a:lnTo>
                <a:lnTo>
                  <a:pt x="6" y="2961"/>
                </a:lnTo>
                <a:lnTo>
                  <a:pt x="16" y="2972"/>
                </a:lnTo>
                <a:lnTo>
                  <a:pt x="34" y="2987"/>
                </a:lnTo>
                <a:lnTo>
                  <a:pt x="41" y="2991"/>
                </a:lnTo>
                <a:lnTo>
                  <a:pt x="47" y="2993"/>
                </a:lnTo>
                <a:lnTo>
                  <a:pt x="55" y="2993"/>
                </a:lnTo>
                <a:lnTo>
                  <a:pt x="61" y="2991"/>
                </a:lnTo>
                <a:lnTo>
                  <a:pt x="69" y="2988"/>
                </a:lnTo>
                <a:lnTo>
                  <a:pt x="90" y="2978"/>
                </a:lnTo>
                <a:lnTo>
                  <a:pt x="120" y="2961"/>
                </a:lnTo>
                <a:lnTo>
                  <a:pt x="126" y="2982"/>
                </a:lnTo>
                <a:lnTo>
                  <a:pt x="130" y="3015"/>
                </a:lnTo>
                <a:lnTo>
                  <a:pt x="122" y="3043"/>
                </a:lnTo>
                <a:lnTo>
                  <a:pt x="108" y="3065"/>
                </a:lnTo>
                <a:lnTo>
                  <a:pt x="89" y="3086"/>
                </a:lnTo>
                <a:lnTo>
                  <a:pt x="67" y="3106"/>
                </a:lnTo>
                <a:lnTo>
                  <a:pt x="56" y="3117"/>
                </a:lnTo>
                <a:lnTo>
                  <a:pt x="57" y="3157"/>
                </a:lnTo>
                <a:lnTo>
                  <a:pt x="73" y="3212"/>
                </a:lnTo>
                <a:lnTo>
                  <a:pt x="100" y="3241"/>
                </a:lnTo>
                <a:lnTo>
                  <a:pt x="136" y="3257"/>
                </a:lnTo>
                <a:lnTo>
                  <a:pt x="176" y="3269"/>
                </a:lnTo>
                <a:lnTo>
                  <a:pt x="216" y="3288"/>
                </a:lnTo>
                <a:lnTo>
                  <a:pt x="236" y="3304"/>
                </a:lnTo>
                <a:lnTo>
                  <a:pt x="269" y="3300"/>
                </a:lnTo>
                <a:lnTo>
                  <a:pt x="305" y="3290"/>
                </a:lnTo>
                <a:lnTo>
                  <a:pt x="379" y="3253"/>
                </a:lnTo>
                <a:lnTo>
                  <a:pt x="452" y="3201"/>
                </a:lnTo>
                <a:lnTo>
                  <a:pt x="582" y="3086"/>
                </a:lnTo>
                <a:lnTo>
                  <a:pt x="632" y="3039"/>
                </a:lnTo>
                <a:lnTo>
                  <a:pt x="632" y="3037"/>
                </a:lnTo>
                <a:lnTo>
                  <a:pt x="639" y="3017"/>
                </a:lnTo>
                <a:lnTo>
                  <a:pt x="662" y="2952"/>
                </a:lnTo>
                <a:lnTo>
                  <a:pt x="680" y="2902"/>
                </a:lnTo>
                <a:lnTo>
                  <a:pt x="681" y="2899"/>
                </a:lnTo>
                <a:lnTo>
                  <a:pt x="689" y="2914"/>
                </a:lnTo>
                <a:lnTo>
                  <a:pt x="711" y="2960"/>
                </a:lnTo>
                <a:lnTo>
                  <a:pt x="729" y="2996"/>
                </a:lnTo>
                <a:lnTo>
                  <a:pt x="730" y="2997"/>
                </a:lnTo>
                <a:lnTo>
                  <a:pt x="732" y="2998"/>
                </a:lnTo>
                <a:lnTo>
                  <a:pt x="742" y="3005"/>
                </a:lnTo>
                <a:lnTo>
                  <a:pt x="779" y="3026"/>
                </a:lnTo>
                <a:lnTo>
                  <a:pt x="807" y="3043"/>
                </a:lnTo>
                <a:lnTo>
                  <a:pt x="809" y="3043"/>
                </a:lnTo>
                <a:lnTo>
                  <a:pt x="817" y="2984"/>
                </a:lnTo>
                <a:lnTo>
                  <a:pt x="827" y="2916"/>
                </a:lnTo>
                <a:lnTo>
                  <a:pt x="829" y="2902"/>
                </a:lnTo>
                <a:lnTo>
                  <a:pt x="829" y="2899"/>
                </a:lnTo>
                <a:lnTo>
                  <a:pt x="829" y="2898"/>
                </a:lnTo>
                <a:lnTo>
                  <a:pt x="828" y="2897"/>
                </a:lnTo>
                <a:lnTo>
                  <a:pt x="827" y="2898"/>
                </a:lnTo>
                <a:lnTo>
                  <a:pt x="826" y="2899"/>
                </a:lnTo>
                <a:lnTo>
                  <a:pt x="825" y="2901"/>
                </a:lnTo>
                <a:lnTo>
                  <a:pt x="822" y="2905"/>
                </a:lnTo>
                <a:lnTo>
                  <a:pt x="821" y="2907"/>
                </a:lnTo>
                <a:lnTo>
                  <a:pt x="819" y="2908"/>
                </a:lnTo>
                <a:lnTo>
                  <a:pt x="818" y="2908"/>
                </a:lnTo>
                <a:lnTo>
                  <a:pt x="817" y="2908"/>
                </a:lnTo>
                <a:lnTo>
                  <a:pt x="816" y="2907"/>
                </a:lnTo>
                <a:lnTo>
                  <a:pt x="815" y="2905"/>
                </a:lnTo>
                <a:lnTo>
                  <a:pt x="815" y="2903"/>
                </a:lnTo>
                <a:lnTo>
                  <a:pt x="814" y="2898"/>
                </a:lnTo>
                <a:lnTo>
                  <a:pt x="813" y="2879"/>
                </a:lnTo>
                <a:lnTo>
                  <a:pt x="813" y="2868"/>
                </a:lnTo>
                <a:lnTo>
                  <a:pt x="817" y="2868"/>
                </a:lnTo>
                <a:lnTo>
                  <a:pt x="824" y="2864"/>
                </a:lnTo>
                <a:lnTo>
                  <a:pt x="842" y="2856"/>
                </a:lnTo>
                <a:lnTo>
                  <a:pt x="882" y="2833"/>
                </a:lnTo>
                <a:lnTo>
                  <a:pt x="912" y="2821"/>
                </a:lnTo>
                <a:lnTo>
                  <a:pt x="911" y="2818"/>
                </a:lnTo>
                <a:lnTo>
                  <a:pt x="906" y="2791"/>
                </a:lnTo>
                <a:lnTo>
                  <a:pt x="890" y="2699"/>
                </a:lnTo>
                <a:lnTo>
                  <a:pt x="878" y="2630"/>
                </a:lnTo>
                <a:lnTo>
                  <a:pt x="878" y="2626"/>
                </a:lnTo>
                <a:lnTo>
                  <a:pt x="890" y="2613"/>
                </a:lnTo>
                <a:lnTo>
                  <a:pt x="912" y="2595"/>
                </a:lnTo>
                <a:lnTo>
                  <a:pt x="931" y="2588"/>
                </a:lnTo>
                <a:lnTo>
                  <a:pt x="946" y="2584"/>
                </a:lnTo>
                <a:lnTo>
                  <a:pt x="954" y="2580"/>
                </a:lnTo>
                <a:lnTo>
                  <a:pt x="959" y="2575"/>
                </a:lnTo>
                <a:lnTo>
                  <a:pt x="964" y="2566"/>
                </a:lnTo>
                <a:lnTo>
                  <a:pt x="969" y="2554"/>
                </a:lnTo>
                <a:lnTo>
                  <a:pt x="972" y="2535"/>
                </a:lnTo>
                <a:lnTo>
                  <a:pt x="942" y="2493"/>
                </a:lnTo>
                <a:lnTo>
                  <a:pt x="898" y="2407"/>
                </a:lnTo>
                <a:lnTo>
                  <a:pt x="872" y="2321"/>
                </a:lnTo>
                <a:lnTo>
                  <a:pt x="862" y="2234"/>
                </a:lnTo>
                <a:lnTo>
                  <a:pt x="880" y="2047"/>
                </a:lnTo>
                <a:lnTo>
                  <a:pt x="890" y="1996"/>
                </a:lnTo>
              </a:path>
            </a:pathLst>
          </a:custGeom>
          <a:solidFill>
            <a:srgbClr val="ffffff"/>
          </a:solid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142"/>
          <p:cNvSpPr/>
          <p:nvPr/>
        </p:nvSpPr>
        <p:spPr>
          <a:xfrm>
            <a:off x="2816280" y="1577880"/>
            <a:ext cx="111240" cy="61920"/>
          </a:xfrm>
          <a:custGeom>
            <a:avLst/>
            <a:gdLst>
              <a:gd name="textAreaLeft" fmla="*/ 0 w 111240"/>
              <a:gd name="textAreaRight" fmla="*/ 111600 w 111240"/>
              <a:gd name="textAreaTop" fmla="*/ 0 h 61920"/>
              <a:gd name="textAreaBottom" fmla="*/ 62280 h 61920"/>
            </a:gdLst>
            <a:ahLst/>
            <a:rect l="textAreaLeft" t="textAreaTop" r="textAreaRight" b="textAreaBottom"/>
            <a:pathLst>
              <a:path w="142" h="77">
                <a:moveTo>
                  <a:pt x="93" y="23"/>
                </a:moveTo>
                <a:lnTo>
                  <a:pt x="80" y="27"/>
                </a:lnTo>
                <a:lnTo>
                  <a:pt x="62" y="29"/>
                </a:lnTo>
                <a:lnTo>
                  <a:pt x="48" y="28"/>
                </a:lnTo>
                <a:lnTo>
                  <a:pt x="37" y="29"/>
                </a:lnTo>
                <a:lnTo>
                  <a:pt x="30" y="32"/>
                </a:lnTo>
                <a:lnTo>
                  <a:pt x="25" y="37"/>
                </a:lnTo>
                <a:lnTo>
                  <a:pt x="18" y="46"/>
                </a:lnTo>
                <a:lnTo>
                  <a:pt x="0" y="73"/>
                </a:lnTo>
                <a:lnTo>
                  <a:pt x="8" y="76"/>
                </a:lnTo>
                <a:lnTo>
                  <a:pt x="18" y="77"/>
                </a:lnTo>
                <a:lnTo>
                  <a:pt x="43" y="75"/>
                </a:lnTo>
                <a:lnTo>
                  <a:pt x="100" y="65"/>
                </a:lnTo>
                <a:lnTo>
                  <a:pt x="142" y="51"/>
                </a:lnTo>
                <a:lnTo>
                  <a:pt x="133" y="51"/>
                </a:lnTo>
                <a:lnTo>
                  <a:pt x="128" y="50"/>
                </a:lnTo>
                <a:lnTo>
                  <a:pt x="125" y="48"/>
                </a:lnTo>
                <a:lnTo>
                  <a:pt x="124" y="45"/>
                </a:lnTo>
                <a:lnTo>
                  <a:pt x="124" y="42"/>
                </a:lnTo>
                <a:lnTo>
                  <a:pt x="125" y="37"/>
                </a:lnTo>
                <a:lnTo>
                  <a:pt x="126" y="27"/>
                </a:lnTo>
                <a:lnTo>
                  <a:pt x="126" y="15"/>
                </a:lnTo>
                <a:lnTo>
                  <a:pt x="118" y="0"/>
                </a:lnTo>
                <a:lnTo>
                  <a:pt x="114" y="1"/>
                </a:lnTo>
                <a:lnTo>
                  <a:pt x="107" y="2"/>
                </a:lnTo>
                <a:lnTo>
                  <a:pt x="101" y="4"/>
                </a:lnTo>
                <a:lnTo>
                  <a:pt x="98" y="8"/>
                </a:lnTo>
                <a:lnTo>
                  <a:pt x="95" y="13"/>
                </a:lnTo>
                <a:lnTo>
                  <a:pt x="93" y="19"/>
                </a:lnTo>
                <a:lnTo>
                  <a:pt x="93" y="23"/>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44" name="Freeform 143"/>
          <p:cNvSpPr/>
          <p:nvPr/>
        </p:nvSpPr>
        <p:spPr>
          <a:xfrm>
            <a:off x="2816280" y="1577880"/>
            <a:ext cx="111240" cy="61920"/>
          </a:xfrm>
          <a:custGeom>
            <a:avLst/>
            <a:gdLst>
              <a:gd name="textAreaLeft" fmla="*/ 0 w 111240"/>
              <a:gd name="textAreaRight" fmla="*/ 111600 w 111240"/>
              <a:gd name="textAreaTop" fmla="*/ 0 h 61920"/>
              <a:gd name="textAreaBottom" fmla="*/ 62280 h 61920"/>
            </a:gdLst>
            <a:ahLst/>
            <a:rect l="textAreaLeft" t="textAreaTop" r="textAreaRight" b="textAreaBottom"/>
            <a:pathLst>
              <a:path w="142" h="77">
                <a:moveTo>
                  <a:pt x="93" y="23"/>
                </a:moveTo>
                <a:lnTo>
                  <a:pt x="80" y="27"/>
                </a:lnTo>
                <a:lnTo>
                  <a:pt x="62" y="29"/>
                </a:lnTo>
                <a:lnTo>
                  <a:pt x="48" y="28"/>
                </a:lnTo>
                <a:lnTo>
                  <a:pt x="37" y="29"/>
                </a:lnTo>
                <a:lnTo>
                  <a:pt x="30" y="32"/>
                </a:lnTo>
                <a:lnTo>
                  <a:pt x="25" y="37"/>
                </a:lnTo>
                <a:lnTo>
                  <a:pt x="18" y="46"/>
                </a:lnTo>
                <a:lnTo>
                  <a:pt x="0" y="73"/>
                </a:lnTo>
                <a:lnTo>
                  <a:pt x="8" y="76"/>
                </a:lnTo>
                <a:lnTo>
                  <a:pt x="18" y="77"/>
                </a:lnTo>
                <a:lnTo>
                  <a:pt x="43" y="75"/>
                </a:lnTo>
                <a:lnTo>
                  <a:pt x="100" y="65"/>
                </a:lnTo>
                <a:lnTo>
                  <a:pt x="142" y="51"/>
                </a:lnTo>
                <a:lnTo>
                  <a:pt x="133" y="51"/>
                </a:lnTo>
                <a:lnTo>
                  <a:pt x="128" y="50"/>
                </a:lnTo>
                <a:lnTo>
                  <a:pt x="125" y="48"/>
                </a:lnTo>
                <a:lnTo>
                  <a:pt x="124" y="45"/>
                </a:lnTo>
                <a:lnTo>
                  <a:pt x="124" y="42"/>
                </a:lnTo>
                <a:lnTo>
                  <a:pt x="125" y="37"/>
                </a:lnTo>
                <a:lnTo>
                  <a:pt x="126" y="27"/>
                </a:lnTo>
                <a:lnTo>
                  <a:pt x="126" y="15"/>
                </a:lnTo>
                <a:lnTo>
                  <a:pt x="118" y="0"/>
                </a:lnTo>
                <a:lnTo>
                  <a:pt x="114" y="1"/>
                </a:lnTo>
                <a:lnTo>
                  <a:pt x="107" y="2"/>
                </a:lnTo>
                <a:lnTo>
                  <a:pt x="101" y="4"/>
                </a:lnTo>
                <a:lnTo>
                  <a:pt x="98" y="8"/>
                </a:lnTo>
                <a:lnTo>
                  <a:pt x="95" y="13"/>
                </a:lnTo>
                <a:lnTo>
                  <a:pt x="93" y="19"/>
                </a:lnTo>
                <a:lnTo>
                  <a:pt x="93" y="23"/>
                </a:lnTo>
              </a:path>
            </a:pathLst>
          </a:custGeom>
          <a:noFill/>
          <a:ln w="6480">
            <a:solidFill>
              <a:srgbClr val="1f1a17"/>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45" name="Freeform 144"/>
          <p:cNvSpPr/>
          <p:nvPr/>
        </p:nvSpPr>
        <p:spPr>
          <a:xfrm>
            <a:off x="2948040" y="1535040"/>
            <a:ext cx="49320" cy="49320"/>
          </a:xfrm>
          <a:custGeom>
            <a:avLst/>
            <a:gdLst>
              <a:gd name="textAreaLeft" fmla="*/ 0 w 49320"/>
              <a:gd name="textAreaRight" fmla="*/ 49680 w 49320"/>
              <a:gd name="textAreaTop" fmla="*/ 0 h 49320"/>
              <a:gd name="textAreaBottom" fmla="*/ 49680 h 49320"/>
            </a:gdLst>
            <a:ahLst/>
            <a:rect l="textAreaLeft" t="textAreaTop" r="textAreaRight" b="textAreaBottom"/>
            <a:pathLst>
              <a:path w="63" h="62">
                <a:moveTo>
                  <a:pt x="4" y="15"/>
                </a:moveTo>
                <a:lnTo>
                  <a:pt x="1" y="10"/>
                </a:lnTo>
                <a:lnTo>
                  <a:pt x="0" y="13"/>
                </a:lnTo>
                <a:lnTo>
                  <a:pt x="1" y="18"/>
                </a:lnTo>
                <a:lnTo>
                  <a:pt x="4" y="34"/>
                </a:lnTo>
                <a:lnTo>
                  <a:pt x="9" y="52"/>
                </a:lnTo>
                <a:lnTo>
                  <a:pt x="12" y="58"/>
                </a:lnTo>
                <a:lnTo>
                  <a:pt x="16" y="62"/>
                </a:lnTo>
                <a:lnTo>
                  <a:pt x="20" y="62"/>
                </a:lnTo>
                <a:lnTo>
                  <a:pt x="24" y="58"/>
                </a:lnTo>
                <a:lnTo>
                  <a:pt x="33" y="50"/>
                </a:lnTo>
                <a:lnTo>
                  <a:pt x="48" y="36"/>
                </a:lnTo>
                <a:lnTo>
                  <a:pt x="59" y="27"/>
                </a:lnTo>
                <a:lnTo>
                  <a:pt x="62" y="24"/>
                </a:lnTo>
                <a:lnTo>
                  <a:pt x="63" y="20"/>
                </a:lnTo>
                <a:lnTo>
                  <a:pt x="63" y="17"/>
                </a:lnTo>
                <a:lnTo>
                  <a:pt x="62" y="14"/>
                </a:lnTo>
                <a:lnTo>
                  <a:pt x="58" y="10"/>
                </a:lnTo>
                <a:lnTo>
                  <a:pt x="52" y="6"/>
                </a:lnTo>
                <a:lnTo>
                  <a:pt x="45" y="0"/>
                </a:lnTo>
                <a:lnTo>
                  <a:pt x="44" y="1"/>
                </a:lnTo>
                <a:lnTo>
                  <a:pt x="43" y="2"/>
                </a:lnTo>
                <a:lnTo>
                  <a:pt x="35" y="4"/>
                </a:lnTo>
                <a:lnTo>
                  <a:pt x="17" y="11"/>
                </a:lnTo>
                <a:lnTo>
                  <a:pt x="4" y="15"/>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46" name="Freeform 145"/>
          <p:cNvSpPr/>
          <p:nvPr/>
        </p:nvSpPr>
        <p:spPr>
          <a:xfrm>
            <a:off x="2948040" y="1535040"/>
            <a:ext cx="49320" cy="49320"/>
          </a:xfrm>
          <a:custGeom>
            <a:avLst/>
            <a:gdLst>
              <a:gd name="textAreaLeft" fmla="*/ 0 w 49320"/>
              <a:gd name="textAreaRight" fmla="*/ 49680 w 49320"/>
              <a:gd name="textAreaTop" fmla="*/ 0 h 49320"/>
              <a:gd name="textAreaBottom" fmla="*/ 49680 h 49320"/>
            </a:gdLst>
            <a:ahLst/>
            <a:rect l="textAreaLeft" t="textAreaTop" r="textAreaRight" b="textAreaBottom"/>
            <a:pathLst>
              <a:path w="63" h="62">
                <a:moveTo>
                  <a:pt x="4" y="15"/>
                </a:moveTo>
                <a:lnTo>
                  <a:pt x="1" y="10"/>
                </a:lnTo>
                <a:lnTo>
                  <a:pt x="0" y="13"/>
                </a:lnTo>
                <a:lnTo>
                  <a:pt x="1" y="18"/>
                </a:lnTo>
                <a:lnTo>
                  <a:pt x="4" y="34"/>
                </a:lnTo>
                <a:lnTo>
                  <a:pt x="9" y="52"/>
                </a:lnTo>
                <a:lnTo>
                  <a:pt x="12" y="58"/>
                </a:lnTo>
                <a:lnTo>
                  <a:pt x="16" y="62"/>
                </a:lnTo>
                <a:lnTo>
                  <a:pt x="20" y="62"/>
                </a:lnTo>
                <a:lnTo>
                  <a:pt x="24" y="58"/>
                </a:lnTo>
                <a:lnTo>
                  <a:pt x="33" y="50"/>
                </a:lnTo>
                <a:lnTo>
                  <a:pt x="48" y="36"/>
                </a:lnTo>
                <a:lnTo>
                  <a:pt x="59" y="27"/>
                </a:lnTo>
                <a:lnTo>
                  <a:pt x="62" y="24"/>
                </a:lnTo>
                <a:lnTo>
                  <a:pt x="63" y="20"/>
                </a:lnTo>
                <a:lnTo>
                  <a:pt x="63" y="17"/>
                </a:lnTo>
                <a:lnTo>
                  <a:pt x="62" y="14"/>
                </a:lnTo>
                <a:lnTo>
                  <a:pt x="58" y="10"/>
                </a:lnTo>
                <a:lnTo>
                  <a:pt x="52" y="6"/>
                </a:lnTo>
                <a:lnTo>
                  <a:pt x="45" y="0"/>
                </a:lnTo>
                <a:lnTo>
                  <a:pt x="44" y="1"/>
                </a:lnTo>
                <a:lnTo>
                  <a:pt x="43" y="2"/>
                </a:lnTo>
                <a:lnTo>
                  <a:pt x="35" y="4"/>
                </a:lnTo>
                <a:lnTo>
                  <a:pt x="17" y="11"/>
                </a:lnTo>
                <a:lnTo>
                  <a:pt x="4" y="15"/>
                </a:lnTo>
              </a:path>
            </a:pathLst>
          </a:custGeom>
          <a:noFill/>
          <a:ln w="6480">
            <a:solidFill>
              <a:srgbClr val="1f1a17"/>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47" name="Freeform 146"/>
          <p:cNvSpPr/>
          <p:nvPr/>
        </p:nvSpPr>
        <p:spPr>
          <a:xfrm>
            <a:off x="3111480" y="1292400"/>
            <a:ext cx="57240" cy="79200"/>
          </a:xfrm>
          <a:custGeom>
            <a:avLst/>
            <a:gdLst>
              <a:gd name="textAreaLeft" fmla="*/ 0 w 57240"/>
              <a:gd name="textAreaRight" fmla="*/ 57600 w 57240"/>
              <a:gd name="textAreaTop" fmla="*/ 0 h 79200"/>
              <a:gd name="textAreaBottom" fmla="*/ 79560 h 79200"/>
            </a:gdLst>
            <a:ahLst/>
            <a:rect l="textAreaLeft" t="textAreaTop" r="textAreaRight" b="textAreaBottom"/>
            <a:pathLst>
              <a:path w="71" h="100">
                <a:moveTo>
                  <a:pt x="42" y="100"/>
                </a:moveTo>
                <a:lnTo>
                  <a:pt x="49" y="87"/>
                </a:lnTo>
                <a:lnTo>
                  <a:pt x="61" y="66"/>
                </a:lnTo>
                <a:lnTo>
                  <a:pt x="71" y="42"/>
                </a:lnTo>
                <a:lnTo>
                  <a:pt x="70" y="12"/>
                </a:lnTo>
                <a:lnTo>
                  <a:pt x="69" y="0"/>
                </a:lnTo>
                <a:lnTo>
                  <a:pt x="68" y="0"/>
                </a:lnTo>
                <a:lnTo>
                  <a:pt x="63" y="0"/>
                </a:lnTo>
                <a:lnTo>
                  <a:pt x="43" y="0"/>
                </a:lnTo>
                <a:lnTo>
                  <a:pt x="28" y="0"/>
                </a:lnTo>
                <a:lnTo>
                  <a:pt x="23" y="6"/>
                </a:lnTo>
                <a:lnTo>
                  <a:pt x="12" y="25"/>
                </a:lnTo>
                <a:lnTo>
                  <a:pt x="4" y="46"/>
                </a:lnTo>
                <a:lnTo>
                  <a:pt x="0" y="68"/>
                </a:lnTo>
                <a:lnTo>
                  <a:pt x="2" y="79"/>
                </a:lnTo>
                <a:lnTo>
                  <a:pt x="6" y="88"/>
                </a:lnTo>
                <a:lnTo>
                  <a:pt x="13" y="95"/>
                </a:lnTo>
                <a:lnTo>
                  <a:pt x="25" y="99"/>
                </a:lnTo>
                <a:lnTo>
                  <a:pt x="42" y="10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8" name="Freeform 147"/>
          <p:cNvSpPr/>
          <p:nvPr/>
        </p:nvSpPr>
        <p:spPr>
          <a:xfrm>
            <a:off x="3111480" y="1292400"/>
            <a:ext cx="57240" cy="79200"/>
          </a:xfrm>
          <a:custGeom>
            <a:avLst/>
            <a:gdLst>
              <a:gd name="textAreaLeft" fmla="*/ 0 w 57240"/>
              <a:gd name="textAreaRight" fmla="*/ 57600 w 57240"/>
              <a:gd name="textAreaTop" fmla="*/ 0 h 79200"/>
              <a:gd name="textAreaBottom" fmla="*/ 79560 h 79200"/>
            </a:gdLst>
            <a:ahLst/>
            <a:rect l="textAreaLeft" t="textAreaTop" r="textAreaRight" b="textAreaBottom"/>
            <a:pathLst>
              <a:path w="71" h="100">
                <a:moveTo>
                  <a:pt x="42" y="100"/>
                </a:moveTo>
                <a:lnTo>
                  <a:pt x="49" y="87"/>
                </a:lnTo>
                <a:lnTo>
                  <a:pt x="61" y="66"/>
                </a:lnTo>
                <a:lnTo>
                  <a:pt x="71" y="42"/>
                </a:lnTo>
                <a:lnTo>
                  <a:pt x="70" y="12"/>
                </a:lnTo>
                <a:lnTo>
                  <a:pt x="69" y="0"/>
                </a:lnTo>
                <a:lnTo>
                  <a:pt x="68" y="0"/>
                </a:lnTo>
                <a:lnTo>
                  <a:pt x="63" y="0"/>
                </a:lnTo>
                <a:lnTo>
                  <a:pt x="43" y="0"/>
                </a:lnTo>
                <a:lnTo>
                  <a:pt x="28" y="0"/>
                </a:lnTo>
                <a:lnTo>
                  <a:pt x="23" y="6"/>
                </a:lnTo>
                <a:lnTo>
                  <a:pt x="12" y="25"/>
                </a:lnTo>
                <a:lnTo>
                  <a:pt x="4" y="46"/>
                </a:lnTo>
                <a:lnTo>
                  <a:pt x="0" y="68"/>
                </a:lnTo>
                <a:lnTo>
                  <a:pt x="2" y="79"/>
                </a:lnTo>
                <a:lnTo>
                  <a:pt x="6" y="88"/>
                </a:lnTo>
                <a:lnTo>
                  <a:pt x="13" y="95"/>
                </a:lnTo>
                <a:lnTo>
                  <a:pt x="25" y="99"/>
                </a:lnTo>
                <a:lnTo>
                  <a:pt x="42" y="100"/>
                </a:lnTo>
              </a:path>
            </a:pathLst>
          </a:custGeom>
          <a:noFill/>
          <a:ln w="6480">
            <a:solidFill>
              <a:srgbClr val="1f1a17"/>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9" name="Freeform 148"/>
          <p:cNvSpPr/>
          <p:nvPr/>
        </p:nvSpPr>
        <p:spPr>
          <a:xfrm>
            <a:off x="3367080" y="633240"/>
            <a:ext cx="111240" cy="87480"/>
          </a:xfrm>
          <a:custGeom>
            <a:avLst/>
            <a:gdLst>
              <a:gd name="textAreaLeft" fmla="*/ 0 w 111240"/>
              <a:gd name="textAreaRight" fmla="*/ 111600 w 111240"/>
              <a:gd name="textAreaTop" fmla="*/ 0 h 87480"/>
              <a:gd name="textAreaBottom" fmla="*/ 87840 h 87480"/>
            </a:gdLst>
            <a:ahLst/>
            <a:rect l="textAreaLeft" t="textAreaTop" r="textAreaRight" b="textAreaBottom"/>
            <a:pathLst>
              <a:path w="141" h="109">
                <a:moveTo>
                  <a:pt x="0" y="109"/>
                </a:moveTo>
                <a:lnTo>
                  <a:pt x="18" y="104"/>
                </a:lnTo>
                <a:lnTo>
                  <a:pt x="52" y="94"/>
                </a:lnTo>
                <a:lnTo>
                  <a:pt x="102" y="68"/>
                </a:lnTo>
                <a:lnTo>
                  <a:pt x="120" y="49"/>
                </a:lnTo>
                <a:lnTo>
                  <a:pt x="134" y="19"/>
                </a:lnTo>
                <a:lnTo>
                  <a:pt x="141" y="0"/>
                </a:lnTo>
                <a:lnTo>
                  <a:pt x="136" y="0"/>
                </a:lnTo>
                <a:lnTo>
                  <a:pt x="128" y="0"/>
                </a:lnTo>
                <a:lnTo>
                  <a:pt x="110" y="0"/>
                </a:lnTo>
                <a:lnTo>
                  <a:pt x="91" y="0"/>
                </a:lnTo>
                <a:lnTo>
                  <a:pt x="88" y="0"/>
                </a:lnTo>
                <a:lnTo>
                  <a:pt x="73" y="14"/>
                </a:lnTo>
                <a:lnTo>
                  <a:pt x="56" y="33"/>
                </a:lnTo>
                <a:lnTo>
                  <a:pt x="51" y="47"/>
                </a:lnTo>
                <a:lnTo>
                  <a:pt x="47" y="57"/>
                </a:lnTo>
                <a:lnTo>
                  <a:pt x="39" y="71"/>
                </a:lnTo>
                <a:lnTo>
                  <a:pt x="17" y="94"/>
                </a:lnTo>
                <a:lnTo>
                  <a:pt x="0" y="109"/>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50" name="Freeform 149"/>
          <p:cNvSpPr/>
          <p:nvPr/>
        </p:nvSpPr>
        <p:spPr>
          <a:xfrm>
            <a:off x="3367080" y="633240"/>
            <a:ext cx="111240" cy="87480"/>
          </a:xfrm>
          <a:custGeom>
            <a:avLst/>
            <a:gdLst>
              <a:gd name="textAreaLeft" fmla="*/ 0 w 111240"/>
              <a:gd name="textAreaRight" fmla="*/ 111600 w 111240"/>
              <a:gd name="textAreaTop" fmla="*/ 0 h 87480"/>
              <a:gd name="textAreaBottom" fmla="*/ 87840 h 87480"/>
            </a:gdLst>
            <a:ahLst/>
            <a:rect l="textAreaLeft" t="textAreaTop" r="textAreaRight" b="textAreaBottom"/>
            <a:pathLst>
              <a:path w="141" h="109">
                <a:moveTo>
                  <a:pt x="0" y="109"/>
                </a:moveTo>
                <a:lnTo>
                  <a:pt x="18" y="104"/>
                </a:lnTo>
                <a:lnTo>
                  <a:pt x="52" y="94"/>
                </a:lnTo>
                <a:lnTo>
                  <a:pt x="102" y="68"/>
                </a:lnTo>
                <a:lnTo>
                  <a:pt x="120" y="49"/>
                </a:lnTo>
                <a:lnTo>
                  <a:pt x="134" y="19"/>
                </a:lnTo>
                <a:lnTo>
                  <a:pt x="141" y="0"/>
                </a:lnTo>
                <a:lnTo>
                  <a:pt x="136" y="0"/>
                </a:lnTo>
                <a:lnTo>
                  <a:pt x="128" y="0"/>
                </a:lnTo>
                <a:lnTo>
                  <a:pt x="110" y="0"/>
                </a:lnTo>
                <a:lnTo>
                  <a:pt x="91" y="0"/>
                </a:lnTo>
                <a:lnTo>
                  <a:pt x="88" y="0"/>
                </a:lnTo>
                <a:lnTo>
                  <a:pt x="73" y="14"/>
                </a:lnTo>
                <a:lnTo>
                  <a:pt x="56" y="33"/>
                </a:lnTo>
                <a:lnTo>
                  <a:pt x="51" y="47"/>
                </a:lnTo>
                <a:lnTo>
                  <a:pt x="47" y="57"/>
                </a:lnTo>
                <a:lnTo>
                  <a:pt x="39" y="71"/>
                </a:lnTo>
                <a:lnTo>
                  <a:pt x="17" y="94"/>
                </a:lnTo>
                <a:lnTo>
                  <a:pt x="0" y="109"/>
                </a:lnTo>
              </a:path>
            </a:pathLst>
          </a:custGeom>
          <a:noFill/>
          <a:ln w="6480">
            <a:solidFill>
              <a:srgbClr val="1f1a17"/>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51" name="Freeform 150"/>
          <p:cNvSpPr/>
          <p:nvPr/>
        </p:nvSpPr>
        <p:spPr>
          <a:xfrm>
            <a:off x="3440160" y="442800"/>
            <a:ext cx="111240" cy="169920"/>
          </a:xfrm>
          <a:custGeom>
            <a:avLst/>
            <a:gdLst>
              <a:gd name="textAreaLeft" fmla="*/ 0 w 111240"/>
              <a:gd name="textAreaRight" fmla="*/ 111600 w 111240"/>
              <a:gd name="textAreaTop" fmla="*/ 0 h 169920"/>
              <a:gd name="textAreaBottom" fmla="*/ 170280 h 169920"/>
            </a:gdLst>
            <a:ahLst/>
            <a:rect l="textAreaLeft" t="textAreaTop" r="textAreaRight" b="textAreaBottom"/>
            <a:pathLst>
              <a:path w="139" h="214">
                <a:moveTo>
                  <a:pt x="62" y="49"/>
                </a:moveTo>
                <a:lnTo>
                  <a:pt x="56" y="71"/>
                </a:lnTo>
                <a:lnTo>
                  <a:pt x="49" y="87"/>
                </a:lnTo>
                <a:lnTo>
                  <a:pt x="39" y="100"/>
                </a:lnTo>
                <a:lnTo>
                  <a:pt x="28" y="109"/>
                </a:lnTo>
                <a:lnTo>
                  <a:pt x="9" y="125"/>
                </a:lnTo>
                <a:lnTo>
                  <a:pt x="3" y="133"/>
                </a:lnTo>
                <a:lnTo>
                  <a:pt x="0" y="141"/>
                </a:lnTo>
                <a:lnTo>
                  <a:pt x="1" y="153"/>
                </a:lnTo>
                <a:lnTo>
                  <a:pt x="7" y="168"/>
                </a:lnTo>
                <a:lnTo>
                  <a:pt x="21" y="189"/>
                </a:lnTo>
                <a:lnTo>
                  <a:pt x="42" y="214"/>
                </a:lnTo>
                <a:lnTo>
                  <a:pt x="77" y="196"/>
                </a:lnTo>
                <a:lnTo>
                  <a:pt x="121" y="164"/>
                </a:lnTo>
                <a:lnTo>
                  <a:pt x="131" y="150"/>
                </a:lnTo>
                <a:lnTo>
                  <a:pt x="138" y="137"/>
                </a:lnTo>
                <a:lnTo>
                  <a:pt x="139" y="124"/>
                </a:lnTo>
                <a:lnTo>
                  <a:pt x="137" y="109"/>
                </a:lnTo>
                <a:lnTo>
                  <a:pt x="134" y="93"/>
                </a:lnTo>
                <a:lnTo>
                  <a:pt x="123" y="54"/>
                </a:lnTo>
                <a:lnTo>
                  <a:pt x="119" y="0"/>
                </a:lnTo>
                <a:lnTo>
                  <a:pt x="112" y="1"/>
                </a:lnTo>
                <a:lnTo>
                  <a:pt x="107" y="3"/>
                </a:lnTo>
                <a:lnTo>
                  <a:pt x="102" y="6"/>
                </a:lnTo>
                <a:lnTo>
                  <a:pt x="98" y="11"/>
                </a:lnTo>
                <a:lnTo>
                  <a:pt x="90" y="21"/>
                </a:lnTo>
                <a:lnTo>
                  <a:pt x="72" y="42"/>
                </a:lnTo>
                <a:lnTo>
                  <a:pt x="62"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151"/>
          <p:cNvSpPr/>
          <p:nvPr/>
        </p:nvSpPr>
        <p:spPr>
          <a:xfrm>
            <a:off x="3440160" y="442800"/>
            <a:ext cx="111240" cy="169920"/>
          </a:xfrm>
          <a:custGeom>
            <a:avLst/>
            <a:gdLst>
              <a:gd name="textAreaLeft" fmla="*/ 0 w 111240"/>
              <a:gd name="textAreaRight" fmla="*/ 111600 w 111240"/>
              <a:gd name="textAreaTop" fmla="*/ 0 h 169920"/>
              <a:gd name="textAreaBottom" fmla="*/ 170280 h 169920"/>
            </a:gdLst>
            <a:ahLst/>
            <a:rect l="textAreaLeft" t="textAreaTop" r="textAreaRight" b="textAreaBottom"/>
            <a:pathLst>
              <a:path w="139" h="214">
                <a:moveTo>
                  <a:pt x="62" y="49"/>
                </a:moveTo>
                <a:lnTo>
                  <a:pt x="56" y="71"/>
                </a:lnTo>
                <a:lnTo>
                  <a:pt x="49" y="87"/>
                </a:lnTo>
                <a:lnTo>
                  <a:pt x="39" y="100"/>
                </a:lnTo>
                <a:lnTo>
                  <a:pt x="28" y="109"/>
                </a:lnTo>
                <a:lnTo>
                  <a:pt x="9" y="125"/>
                </a:lnTo>
                <a:lnTo>
                  <a:pt x="3" y="133"/>
                </a:lnTo>
                <a:lnTo>
                  <a:pt x="0" y="141"/>
                </a:lnTo>
                <a:lnTo>
                  <a:pt x="1" y="153"/>
                </a:lnTo>
                <a:lnTo>
                  <a:pt x="7" y="168"/>
                </a:lnTo>
                <a:lnTo>
                  <a:pt x="21" y="189"/>
                </a:lnTo>
                <a:lnTo>
                  <a:pt x="42" y="214"/>
                </a:lnTo>
                <a:lnTo>
                  <a:pt x="77" y="196"/>
                </a:lnTo>
                <a:lnTo>
                  <a:pt x="121" y="164"/>
                </a:lnTo>
                <a:lnTo>
                  <a:pt x="131" y="150"/>
                </a:lnTo>
                <a:lnTo>
                  <a:pt x="138" y="137"/>
                </a:lnTo>
                <a:lnTo>
                  <a:pt x="139" y="124"/>
                </a:lnTo>
                <a:lnTo>
                  <a:pt x="137" y="109"/>
                </a:lnTo>
                <a:lnTo>
                  <a:pt x="134" y="93"/>
                </a:lnTo>
                <a:lnTo>
                  <a:pt x="123" y="54"/>
                </a:lnTo>
                <a:lnTo>
                  <a:pt x="119" y="0"/>
                </a:lnTo>
                <a:lnTo>
                  <a:pt x="112" y="1"/>
                </a:lnTo>
                <a:lnTo>
                  <a:pt x="107" y="3"/>
                </a:lnTo>
                <a:lnTo>
                  <a:pt x="102" y="6"/>
                </a:lnTo>
                <a:lnTo>
                  <a:pt x="98" y="11"/>
                </a:lnTo>
                <a:lnTo>
                  <a:pt x="90" y="21"/>
                </a:lnTo>
                <a:lnTo>
                  <a:pt x="72" y="42"/>
                </a:lnTo>
                <a:lnTo>
                  <a:pt x="62" y="49"/>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152"/>
          <p:cNvSpPr/>
          <p:nvPr/>
        </p:nvSpPr>
        <p:spPr>
          <a:xfrm>
            <a:off x="3589200" y="431640"/>
            <a:ext cx="65160" cy="74880"/>
          </a:xfrm>
          <a:custGeom>
            <a:avLst/>
            <a:gdLst>
              <a:gd name="textAreaLeft" fmla="*/ 0 w 65160"/>
              <a:gd name="textAreaRight" fmla="*/ 65520 w 65160"/>
              <a:gd name="textAreaTop" fmla="*/ 0 h 74880"/>
              <a:gd name="textAreaBottom" fmla="*/ 75240 h 74880"/>
            </a:gdLst>
            <a:ahLst/>
            <a:rect l="textAreaLeft" t="textAreaTop" r="textAreaRight" b="textAreaBottom"/>
            <a:pathLst>
              <a:path w="84" h="94">
                <a:moveTo>
                  <a:pt x="68" y="0"/>
                </a:moveTo>
                <a:lnTo>
                  <a:pt x="62" y="3"/>
                </a:lnTo>
                <a:lnTo>
                  <a:pt x="49" y="11"/>
                </a:lnTo>
                <a:lnTo>
                  <a:pt x="21" y="40"/>
                </a:lnTo>
                <a:lnTo>
                  <a:pt x="0" y="80"/>
                </a:lnTo>
                <a:lnTo>
                  <a:pt x="0" y="90"/>
                </a:lnTo>
                <a:lnTo>
                  <a:pt x="3" y="92"/>
                </a:lnTo>
                <a:lnTo>
                  <a:pt x="8" y="93"/>
                </a:lnTo>
                <a:lnTo>
                  <a:pt x="17" y="94"/>
                </a:lnTo>
                <a:lnTo>
                  <a:pt x="27" y="93"/>
                </a:lnTo>
                <a:lnTo>
                  <a:pt x="48" y="91"/>
                </a:lnTo>
                <a:lnTo>
                  <a:pt x="58" y="90"/>
                </a:lnTo>
                <a:lnTo>
                  <a:pt x="60" y="87"/>
                </a:lnTo>
                <a:lnTo>
                  <a:pt x="69" y="74"/>
                </a:lnTo>
                <a:lnTo>
                  <a:pt x="83" y="40"/>
                </a:lnTo>
                <a:lnTo>
                  <a:pt x="84" y="21"/>
                </a:lnTo>
                <a:lnTo>
                  <a:pt x="81" y="13"/>
                </a:lnTo>
                <a:lnTo>
                  <a:pt x="75" y="6"/>
                </a:lnTo>
                <a:lnTo>
                  <a:pt x="68" y="0"/>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54" name="Freeform 153"/>
          <p:cNvSpPr/>
          <p:nvPr/>
        </p:nvSpPr>
        <p:spPr>
          <a:xfrm>
            <a:off x="3589200" y="431640"/>
            <a:ext cx="65160" cy="74880"/>
          </a:xfrm>
          <a:custGeom>
            <a:avLst/>
            <a:gdLst>
              <a:gd name="textAreaLeft" fmla="*/ 0 w 65160"/>
              <a:gd name="textAreaRight" fmla="*/ 65520 w 65160"/>
              <a:gd name="textAreaTop" fmla="*/ 0 h 74880"/>
              <a:gd name="textAreaBottom" fmla="*/ 75240 h 74880"/>
            </a:gdLst>
            <a:ahLst/>
            <a:rect l="textAreaLeft" t="textAreaTop" r="textAreaRight" b="textAreaBottom"/>
            <a:pathLst>
              <a:path w="84" h="94">
                <a:moveTo>
                  <a:pt x="68" y="0"/>
                </a:moveTo>
                <a:lnTo>
                  <a:pt x="62" y="3"/>
                </a:lnTo>
                <a:lnTo>
                  <a:pt x="49" y="11"/>
                </a:lnTo>
                <a:lnTo>
                  <a:pt x="21" y="40"/>
                </a:lnTo>
                <a:lnTo>
                  <a:pt x="0" y="80"/>
                </a:lnTo>
                <a:lnTo>
                  <a:pt x="0" y="90"/>
                </a:lnTo>
                <a:lnTo>
                  <a:pt x="3" y="92"/>
                </a:lnTo>
                <a:lnTo>
                  <a:pt x="8" y="93"/>
                </a:lnTo>
                <a:lnTo>
                  <a:pt x="17" y="94"/>
                </a:lnTo>
                <a:lnTo>
                  <a:pt x="27" y="93"/>
                </a:lnTo>
                <a:lnTo>
                  <a:pt x="48" y="91"/>
                </a:lnTo>
                <a:lnTo>
                  <a:pt x="58" y="90"/>
                </a:lnTo>
                <a:lnTo>
                  <a:pt x="60" y="87"/>
                </a:lnTo>
                <a:lnTo>
                  <a:pt x="69" y="74"/>
                </a:lnTo>
                <a:lnTo>
                  <a:pt x="83" y="40"/>
                </a:lnTo>
                <a:lnTo>
                  <a:pt x="84" y="21"/>
                </a:lnTo>
                <a:lnTo>
                  <a:pt x="81" y="13"/>
                </a:lnTo>
                <a:lnTo>
                  <a:pt x="75" y="6"/>
                </a:lnTo>
                <a:lnTo>
                  <a:pt x="68" y="0"/>
                </a:lnTo>
              </a:path>
            </a:pathLst>
          </a:custGeom>
          <a:noFill/>
          <a:ln w="6480">
            <a:solidFill>
              <a:srgbClr val="1f1a17"/>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55" name="Freeform 154"/>
          <p:cNvSpPr/>
          <p:nvPr/>
        </p:nvSpPr>
        <p:spPr>
          <a:xfrm>
            <a:off x="3692520" y="338040"/>
            <a:ext cx="44280" cy="36720"/>
          </a:xfrm>
          <a:custGeom>
            <a:avLst/>
            <a:gdLst>
              <a:gd name="textAreaLeft" fmla="*/ 0 w 44280"/>
              <a:gd name="textAreaRight" fmla="*/ 44640 w 44280"/>
              <a:gd name="textAreaTop" fmla="*/ 0 h 36720"/>
              <a:gd name="textAreaBottom" fmla="*/ 37080 h 36720"/>
            </a:gdLst>
            <a:ahLst/>
            <a:rect l="textAreaLeft" t="textAreaTop" r="textAreaRight" b="textAreaBottom"/>
            <a:pathLst>
              <a:path w="56" h="46">
                <a:moveTo>
                  <a:pt x="45" y="0"/>
                </a:moveTo>
                <a:lnTo>
                  <a:pt x="46" y="4"/>
                </a:lnTo>
                <a:lnTo>
                  <a:pt x="51" y="14"/>
                </a:lnTo>
                <a:lnTo>
                  <a:pt x="55" y="22"/>
                </a:lnTo>
                <a:lnTo>
                  <a:pt x="56" y="22"/>
                </a:lnTo>
                <a:lnTo>
                  <a:pt x="53" y="23"/>
                </a:lnTo>
                <a:lnTo>
                  <a:pt x="48" y="25"/>
                </a:lnTo>
                <a:lnTo>
                  <a:pt x="39" y="30"/>
                </a:lnTo>
                <a:lnTo>
                  <a:pt x="14" y="44"/>
                </a:lnTo>
                <a:lnTo>
                  <a:pt x="0" y="46"/>
                </a:lnTo>
                <a:lnTo>
                  <a:pt x="1" y="39"/>
                </a:lnTo>
                <a:lnTo>
                  <a:pt x="4" y="32"/>
                </a:lnTo>
                <a:lnTo>
                  <a:pt x="9" y="27"/>
                </a:lnTo>
                <a:lnTo>
                  <a:pt x="14" y="23"/>
                </a:lnTo>
                <a:lnTo>
                  <a:pt x="20" y="20"/>
                </a:lnTo>
                <a:lnTo>
                  <a:pt x="32" y="16"/>
                </a:lnTo>
                <a:lnTo>
                  <a:pt x="42" y="12"/>
                </a:lnTo>
                <a:lnTo>
                  <a:pt x="44" y="9"/>
                </a:lnTo>
                <a:lnTo>
                  <a:pt x="45" y="5"/>
                </a:lnTo>
                <a:lnTo>
                  <a:pt x="45" y="0"/>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56" name="Freeform 155"/>
          <p:cNvSpPr/>
          <p:nvPr/>
        </p:nvSpPr>
        <p:spPr>
          <a:xfrm>
            <a:off x="3692520" y="338040"/>
            <a:ext cx="44280" cy="36720"/>
          </a:xfrm>
          <a:custGeom>
            <a:avLst/>
            <a:gdLst>
              <a:gd name="textAreaLeft" fmla="*/ 0 w 44280"/>
              <a:gd name="textAreaRight" fmla="*/ 44640 w 44280"/>
              <a:gd name="textAreaTop" fmla="*/ 0 h 36720"/>
              <a:gd name="textAreaBottom" fmla="*/ 37080 h 36720"/>
            </a:gdLst>
            <a:ahLst/>
            <a:rect l="textAreaLeft" t="textAreaTop" r="textAreaRight" b="textAreaBottom"/>
            <a:pathLst>
              <a:path w="56" h="46">
                <a:moveTo>
                  <a:pt x="45" y="0"/>
                </a:moveTo>
                <a:lnTo>
                  <a:pt x="46" y="4"/>
                </a:lnTo>
                <a:lnTo>
                  <a:pt x="51" y="14"/>
                </a:lnTo>
                <a:lnTo>
                  <a:pt x="55" y="22"/>
                </a:lnTo>
                <a:lnTo>
                  <a:pt x="56" y="22"/>
                </a:lnTo>
                <a:lnTo>
                  <a:pt x="53" y="23"/>
                </a:lnTo>
                <a:lnTo>
                  <a:pt x="48" y="25"/>
                </a:lnTo>
                <a:lnTo>
                  <a:pt x="39" y="30"/>
                </a:lnTo>
                <a:lnTo>
                  <a:pt x="14" y="44"/>
                </a:lnTo>
                <a:lnTo>
                  <a:pt x="0" y="46"/>
                </a:lnTo>
                <a:lnTo>
                  <a:pt x="1" y="39"/>
                </a:lnTo>
                <a:lnTo>
                  <a:pt x="4" y="32"/>
                </a:lnTo>
                <a:lnTo>
                  <a:pt x="9" y="27"/>
                </a:lnTo>
                <a:lnTo>
                  <a:pt x="14" y="23"/>
                </a:lnTo>
                <a:lnTo>
                  <a:pt x="20" y="20"/>
                </a:lnTo>
                <a:lnTo>
                  <a:pt x="32" y="16"/>
                </a:lnTo>
                <a:lnTo>
                  <a:pt x="42" y="12"/>
                </a:lnTo>
                <a:lnTo>
                  <a:pt x="44" y="9"/>
                </a:lnTo>
                <a:lnTo>
                  <a:pt x="45" y="5"/>
                </a:lnTo>
                <a:lnTo>
                  <a:pt x="45" y="0"/>
                </a:lnTo>
              </a:path>
            </a:pathLst>
          </a:custGeom>
          <a:noFill/>
          <a:ln w="6480">
            <a:solidFill>
              <a:srgbClr val="1f1a17"/>
            </a:solidFill>
            <a:round/>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57" name="Freeform 156"/>
          <p:cNvSpPr/>
          <p:nvPr/>
        </p:nvSpPr>
        <p:spPr>
          <a:xfrm>
            <a:off x="3670200" y="236520"/>
            <a:ext cx="112680" cy="65160"/>
          </a:xfrm>
          <a:custGeom>
            <a:avLst/>
            <a:gdLst>
              <a:gd name="textAreaLeft" fmla="*/ 0 w 112680"/>
              <a:gd name="textAreaRight" fmla="*/ 113040 w 112680"/>
              <a:gd name="textAreaTop" fmla="*/ 0 h 65160"/>
              <a:gd name="textAreaBottom" fmla="*/ 65520 h 65160"/>
            </a:gdLst>
            <a:ahLst/>
            <a:rect l="textAreaLeft" t="textAreaTop" r="textAreaRight" b="textAreaBottom"/>
            <a:pathLst>
              <a:path w="142" h="81">
                <a:moveTo>
                  <a:pt x="30" y="43"/>
                </a:moveTo>
                <a:lnTo>
                  <a:pt x="27" y="45"/>
                </a:lnTo>
                <a:lnTo>
                  <a:pt x="25" y="47"/>
                </a:lnTo>
                <a:lnTo>
                  <a:pt x="19" y="54"/>
                </a:lnTo>
                <a:lnTo>
                  <a:pt x="8" y="69"/>
                </a:lnTo>
                <a:lnTo>
                  <a:pt x="0" y="79"/>
                </a:lnTo>
                <a:lnTo>
                  <a:pt x="1" y="81"/>
                </a:lnTo>
                <a:lnTo>
                  <a:pt x="3" y="81"/>
                </a:lnTo>
                <a:lnTo>
                  <a:pt x="7" y="79"/>
                </a:lnTo>
                <a:lnTo>
                  <a:pt x="10" y="78"/>
                </a:lnTo>
                <a:lnTo>
                  <a:pt x="18" y="73"/>
                </a:lnTo>
                <a:lnTo>
                  <a:pt x="34" y="62"/>
                </a:lnTo>
                <a:lnTo>
                  <a:pt x="41" y="60"/>
                </a:lnTo>
                <a:lnTo>
                  <a:pt x="74" y="42"/>
                </a:lnTo>
                <a:lnTo>
                  <a:pt x="121" y="16"/>
                </a:lnTo>
                <a:lnTo>
                  <a:pt x="141" y="3"/>
                </a:lnTo>
                <a:lnTo>
                  <a:pt x="142" y="2"/>
                </a:lnTo>
                <a:lnTo>
                  <a:pt x="142" y="1"/>
                </a:lnTo>
                <a:lnTo>
                  <a:pt x="141" y="0"/>
                </a:lnTo>
                <a:lnTo>
                  <a:pt x="140" y="0"/>
                </a:lnTo>
                <a:lnTo>
                  <a:pt x="137" y="1"/>
                </a:lnTo>
                <a:lnTo>
                  <a:pt x="136" y="1"/>
                </a:lnTo>
                <a:lnTo>
                  <a:pt x="132" y="2"/>
                </a:lnTo>
                <a:lnTo>
                  <a:pt x="118" y="6"/>
                </a:lnTo>
                <a:lnTo>
                  <a:pt x="76" y="23"/>
                </a:lnTo>
                <a:lnTo>
                  <a:pt x="30" y="4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58" name="Freeform 157"/>
          <p:cNvSpPr/>
          <p:nvPr/>
        </p:nvSpPr>
        <p:spPr>
          <a:xfrm>
            <a:off x="3670200" y="236520"/>
            <a:ext cx="112680" cy="65160"/>
          </a:xfrm>
          <a:custGeom>
            <a:avLst/>
            <a:gdLst>
              <a:gd name="textAreaLeft" fmla="*/ 0 w 112680"/>
              <a:gd name="textAreaRight" fmla="*/ 113040 w 112680"/>
              <a:gd name="textAreaTop" fmla="*/ 0 h 65160"/>
              <a:gd name="textAreaBottom" fmla="*/ 65520 h 65160"/>
            </a:gdLst>
            <a:ahLst/>
            <a:rect l="textAreaLeft" t="textAreaTop" r="textAreaRight" b="textAreaBottom"/>
            <a:pathLst>
              <a:path w="142" h="81">
                <a:moveTo>
                  <a:pt x="30" y="43"/>
                </a:moveTo>
                <a:lnTo>
                  <a:pt x="27" y="45"/>
                </a:lnTo>
                <a:lnTo>
                  <a:pt x="25" y="47"/>
                </a:lnTo>
                <a:lnTo>
                  <a:pt x="19" y="54"/>
                </a:lnTo>
                <a:lnTo>
                  <a:pt x="8" y="69"/>
                </a:lnTo>
                <a:lnTo>
                  <a:pt x="0" y="79"/>
                </a:lnTo>
                <a:lnTo>
                  <a:pt x="1" y="81"/>
                </a:lnTo>
                <a:lnTo>
                  <a:pt x="3" y="81"/>
                </a:lnTo>
                <a:lnTo>
                  <a:pt x="7" y="79"/>
                </a:lnTo>
                <a:lnTo>
                  <a:pt x="10" y="78"/>
                </a:lnTo>
                <a:lnTo>
                  <a:pt x="18" y="73"/>
                </a:lnTo>
                <a:lnTo>
                  <a:pt x="34" y="62"/>
                </a:lnTo>
                <a:lnTo>
                  <a:pt x="41" y="60"/>
                </a:lnTo>
                <a:lnTo>
                  <a:pt x="74" y="42"/>
                </a:lnTo>
                <a:lnTo>
                  <a:pt x="121" y="16"/>
                </a:lnTo>
                <a:lnTo>
                  <a:pt x="141" y="3"/>
                </a:lnTo>
                <a:lnTo>
                  <a:pt x="142" y="2"/>
                </a:lnTo>
                <a:lnTo>
                  <a:pt x="142" y="1"/>
                </a:lnTo>
                <a:lnTo>
                  <a:pt x="141" y="0"/>
                </a:lnTo>
                <a:lnTo>
                  <a:pt x="140" y="0"/>
                </a:lnTo>
                <a:lnTo>
                  <a:pt x="137" y="1"/>
                </a:lnTo>
                <a:lnTo>
                  <a:pt x="136" y="1"/>
                </a:lnTo>
                <a:lnTo>
                  <a:pt x="132" y="2"/>
                </a:lnTo>
                <a:lnTo>
                  <a:pt x="118" y="6"/>
                </a:lnTo>
                <a:lnTo>
                  <a:pt x="76" y="23"/>
                </a:lnTo>
                <a:lnTo>
                  <a:pt x="30" y="43"/>
                </a:lnTo>
              </a:path>
            </a:pathLst>
          </a:custGeom>
          <a:noFill/>
          <a:ln w="6480">
            <a:solidFill>
              <a:srgbClr val="1f1a17"/>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59" name="Freeform 158"/>
          <p:cNvSpPr/>
          <p:nvPr/>
        </p:nvSpPr>
        <p:spPr>
          <a:xfrm>
            <a:off x="3873600" y="68400"/>
            <a:ext cx="104760" cy="31680"/>
          </a:xfrm>
          <a:custGeom>
            <a:avLst/>
            <a:gdLst>
              <a:gd name="textAreaLeft" fmla="*/ 0 w 104760"/>
              <a:gd name="textAreaRight" fmla="*/ 105120 w 104760"/>
              <a:gd name="textAreaTop" fmla="*/ 0 h 31680"/>
              <a:gd name="textAreaBottom" fmla="*/ 32040 h 31680"/>
            </a:gdLst>
            <a:ahLst/>
            <a:rect l="textAreaLeft" t="textAreaTop" r="textAreaRight" b="textAreaBottom"/>
            <a:pathLst>
              <a:path w="132" h="38">
                <a:moveTo>
                  <a:pt x="67" y="38"/>
                </a:moveTo>
                <a:lnTo>
                  <a:pt x="50" y="38"/>
                </a:lnTo>
                <a:lnTo>
                  <a:pt x="22" y="34"/>
                </a:lnTo>
                <a:lnTo>
                  <a:pt x="5" y="27"/>
                </a:lnTo>
                <a:lnTo>
                  <a:pt x="2" y="25"/>
                </a:lnTo>
                <a:lnTo>
                  <a:pt x="1" y="23"/>
                </a:lnTo>
                <a:lnTo>
                  <a:pt x="0" y="21"/>
                </a:lnTo>
                <a:lnTo>
                  <a:pt x="1" y="19"/>
                </a:lnTo>
                <a:lnTo>
                  <a:pt x="2" y="17"/>
                </a:lnTo>
                <a:lnTo>
                  <a:pt x="5" y="15"/>
                </a:lnTo>
                <a:lnTo>
                  <a:pt x="8" y="13"/>
                </a:lnTo>
                <a:lnTo>
                  <a:pt x="19" y="9"/>
                </a:lnTo>
                <a:lnTo>
                  <a:pt x="34" y="5"/>
                </a:lnTo>
                <a:lnTo>
                  <a:pt x="53" y="2"/>
                </a:lnTo>
                <a:lnTo>
                  <a:pt x="66" y="0"/>
                </a:lnTo>
                <a:lnTo>
                  <a:pt x="80" y="2"/>
                </a:lnTo>
                <a:lnTo>
                  <a:pt x="106" y="7"/>
                </a:lnTo>
                <a:lnTo>
                  <a:pt x="126" y="14"/>
                </a:lnTo>
                <a:lnTo>
                  <a:pt x="130" y="18"/>
                </a:lnTo>
                <a:lnTo>
                  <a:pt x="132" y="20"/>
                </a:lnTo>
                <a:lnTo>
                  <a:pt x="132" y="21"/>
                </a:lnTo>
                <a:lnTo>
                  <a:pt x="131" y="23"/>
                </a:lnTo>
                <a:lnTo>
                  <a:pt x="129" y="25"/>
                </a:lnTo>
                <a:lnTo>
                  <a:pt x="127" y="27"/>
                </a:lnTo>
                <a:lnTo>
                  <a:pt x="123" y="29"/>
                </a:lnTo>
                <a:lnTo>
                  <a:pt x="110" y="33"/>
                </a:lnTo>
                <a:lnTo>
                  <a:pt x="91" y="36"/>
                </a:lnTo>
                <a:lnTo>
                  <a:pt x="67" y="38"/>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60" name="Freeform 159"/>
          <p:cNvSpPr/>
          <p:nvPr/>
        </p:nvSpPr>
        <p:spPr>
          <a:xfrm>
            <a:off x="3873600" y="68400"/>
            <a:ext cx="104760" cy="31680"/>
          </a:xfrm>
          <a:custGeom>
            <a:avLst/>
            <a:gdLst>
              <a:gd name="textAreaLeft" fmla="*/ 0 w 104760"/>
              <a:gd name="textAreaRight" fmla="*/ 105120 w 104760"/>
              <a:gd name="textAreaTop" fmla="*/ 0 h 31680"/>
              <a:gd name="textAreaBottom" fmla="*/ 32040 h 31680"/>
            </a:gdLst>
            <a:ahLst/>
            <a:rect l="textAreaLeft" t="textAreaTop" r="textAreaRight" b="textAreaBottom"/>
            <a:pathLst>
              <a:path w="132" h="38">
                <a:moveTo>
                  <a:pt x="67" y="38"/>
                </a:moveTo>
                <a:lnTo>
                  <a:pt x="50" y="38"/>
                </a:lnTo>
                <a:lnTo>
                  <a:pt x="22" y="34"/>
                </a:lnTo>
                <a:lnTo>
                  <a:pt x="5" y="27"/>
                </a:lnTo>
                <a:lnTo>
                  <a:pt x="2" y="25"/>
                </a:lnTo>
                <a:lnTo>
                  <a:pt x="1" y="23"/>
                </a:lnTo>
                <a:lnTo>
                  <a:pt x="0" y="21"/>
                </a:lnTo>
                <a:lnTo>
                  <a:pt x="1" y="19"/>
                </a:lnTo>
                <a:lnTo>
                  <a:pt x="2" y="17"/>
                </a:lnTo>
                <a:lnTo>
                  <a:pt x="5" y="15"/>
                </a:lnTo>
                <a:lnTo>
                  <a:pt x="8" y="13"/>
                </a:lnTo>
                <a:lnTo>
                  <a:pt x="19" y="9"/>
                </a:lnTo>
                <a:lnTo>
                  <a:pt x="34" y="5"/>
                </a:lnTo>
                <a:lnTo>
                  <a:pt x="53" y="2"/>
                </a:lnTo>
                <a:lnTo>
                  <a:pt x="66" y="0"/>
                </a:lnTo>
                <a:lnTo>
                  <a:pt x="80" y="2"/>
                </a:lnTo>
                <a:lnTo>
                  <a:pt x="106" y="7"/>
                </a:lnTo>
                <a:lnTo>
                  <a:pt x="126" y="14"/>
                </a:lnTo>
                <a:lnTo>
                  <a:pt x="130" y="18"/>
                </a:lnTo>
                <a:lnTo>
                  <a:pt x="132" y="20"/>
                </a:lnTo>
                <a:lnTo>
                  <a:pt x="132" y="21"/>
                </a:lnTo>
                <a:lnTo>
                  <a:pt x="131" y="23"/>
                </a:lnTo>
                <a:lnTo>
                  <a:pt x="129" y="25"/>
                </a:lnTo>
                <a:lnTo>
                  <a:pt x="127" y="27"/>
                </a:lnTo>
                <a:lnTo>
                  <a:pt x="123" y="29"/>
                </a:lnTo>
                <a:lnTo>
                  <a:pt x="110" y="33"/>
                </a:lnTo>
                <a:lnTo>
                  <a:pt x="91" y="36"/>
                </a:lnTo>
                <a:lnTo>
                  <a:pt x="67" y="38"/>
                </a:lnTo>
              </a:path>
            </a:pathLst>
          </a:custGeom>
          <a:noFill/>
          <a:ln w="6480">
            <a:solidFill>
              <a:srgbClr val="1f1a17"/>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61" name="Freeform 160"/>
          <p:cNvSpPr/>
          <p:nvPr/>
        </p:nvSpPr>
        <p:spPr>
          <a:xfrm>
            <a:off x="4049640" y="0"/>
            <a:ext cx="47520" cy="73080"/>
          </a:xfrm>
          <a:custGeom>
            <a:avLst/>
            <a:gdLst>
              <a:gd name="textAreaLeft" fmla="*/ 0 w 47520"/>
              <a:gd name="textAreaRight" fmla="*/ 47880 w 47520"/>
              <a:gd name="textAreaTop" fmla="*/ 0 h 73080"/>
              <a:gd name="textAreaBottom" fmla="*/ 73080 h 73080"/>
            </a:gdLst>
            <a:ahLst/>
            <a:rect l="textAreaLeft" t="textAreaTop" r="textAreaRight" b="textAreaBottom"/>
            <a:pathLst>
              <a:path w="59" h="94">
                <a:moveTo>
                  <a:pt x="8" y="34"/>
                </a:moveTo>
                <a:lnTo>
                  <a:pt x="12" y="23"/>
                </a:lnTo>
                <a:lnTo>
                  <a:pt x="19" y="8"/>
                </a:lnTo>
                <a:lnTo>
                  <a:pt x="22" y="3"/>
                </a:lnTo>
                <a:lnTo>
                  <a:pt x="25" y="1"/>
                </a:lnTo>
                <a:lnTo>
                  <a:pt x="26" y="0"/>
                </a:lnTo>
                <a:lnTo>
                  <a:pt x="27" y="0"/>
                </a:lnTo>
                <a:lnTo>
                  <a:pt x="29" y="0"/>
                </a:lnTo>
                <a:lnTo>
                  <a:pt x="33" y="2"/>
                </a:lnTo>
                <a:lnTo>
                  <a:pt x="35" y="3"/>
                </a:lnTo>
                <a:lnTo>
                  <a:pt x="39" y="6"/>
                </a:lnTo>
                <a:lnTo>
                  <a:pt x="51" y="17"/>
                </a:lnTo>
                <a:lnTo>
                  <a:pt x="59" y="23"/>
                </a:lnTo>
                <a:lnTo>
                  <a:pt x="44" y="49"/>
                </a:lnTo>
                <a:lnTo>
                  <a:pt x="22" y="82"/>
                </a:lnTo>
                <a:lnTo>
                  <a:pt x="14" y="90"/>
                </a:lnTo>
                <a:lnTo>
                  <a:pt x="11" y="92"/>
                </a:lnTo>
                <a:lnTo>
                  <a:pt x="8" y="94"/>
                </a:lnTo>
                <a:lnTo>
                  <a:pt x="6" y="94"/>
                </a:lnTo>
                <a:lnTo>
                  <a:pt x="4" y="93"/>
                </a:lnTo>
                <a:lnTo>
                  <a:pt x="3" y="92"/>
                </a:lnTo>
                <a:lnTo>
                  <a:pt x="1" y="89"/>
                </a:lnTo>
                <a:lnTo>
                  <a:pt x="0" y="86"/>
                </a:lnTo>
                <a:lnTo>
                  <a:pt x="0" y="77"/>
                </a:lnTo>
                <a:lnTo>
                  <a:pt x="0" y="66"/>
                </a:lnTo>
                <a:lnTo>
                  <a:pt x="6" y="41"/>
                </a:lnTo>
                <a:lnTo>
                  <a:pt x="8" y="34"/>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62" name="Freeform 161"/>
          <p:cNvSpPr/>
          <p:nvPr/>
        </p:nvSpPr>
        <p:spPr>
          <a:xfrm>
            <a:off x="4049640" y="0"/>
            <a:ext cx="47520" cy="73080"/>
          </a:xfrm>
          <a:custGeom>
            <a:avLst/>
            <a:gdLst>
              <a:gd name="textAreaLeft" fmla="*/ 0 w 47520"/>
              <a:gd name="textAreaRight" fmla="*/ 47880 w 47520"/>
              <a:gd name="textAreaTop" fmla="*/ 0 h 73080"/>
              <a:gd name="textAreaBottom" fmla="*/ 73080 h 73080"/>
            </a:gdLst>
            <a:ahLst/>
            <a:rect l="textAreaLeft" t="textAreaTop" r="textAreaRight" b="textAreaBottom"/>
            <a:pathLst>
              <a:path w="59" h="94">
                <a:moveTo>
                  <a:pt x="8" y="34"/>
                </a:moveTo>
                <a:lnTo>
                  <a:pt x="12" y="23"/>
                </a:lnTo>
                <a:lnTo>
                  <a:pt x="19" y="8"/>
                </a:lnTo>
                <a:lnTo>
                  <a:pt x="22" y="3"/>
                </a:lnTo>
                <a:lnTo>
                  <a:pt x="25" y="1"/>
                </a:lnTo>
                <a:lnTo>
                  <a:pt x="26" y="0"/>
                </a:lnTo>
                <a:lnTo>
                  <a:pt x="27" y="0"/>
                </a:lnTo>
                <a:lnTo>
                  <a:pt x="29" y="0"/>
                </a:lnTo>
                <a:lnTo>
                  <a:pt x="33" y="2"/>
                </a:lnTo>
                <a:lnTo>
                  <a:pt x="35" y="3"/>
                </a:lnTo>
                <a:lnTo>
                  <a:pt x="39" y="6"/>
                </a:lnTo>
                <a:lnTo>
                  <a:pt x="51" y="17"/>
                </a:lnTo>
                <a:lnTo>
                  <a:pt x="59" y="23"/>
                </a:lnTo>
                <a:lnTo>
                  <a:pt x="44" y="49"/>
                </a:lnTo>
                <a:lnTo>
                  <a:pt x="22" y="82"/>
                </a:lnTo>
                <a:lnTo>
                  <a:pt x="14" y="90"/>
                </a:lnTo>
                <a:lnTo>
                  <a:pt x="11" y="92"/>
                </a:lnTo>
                <a:lnTo>
                  <a:pt x="8" y="94"/>
                </a:lnTo>
                <a:lnTo>
                  <a:pt x="6" y="94"/>
                </a:lnTo>
                <a:lnTo>
                  <a:pt x="4" y="93"/>
                </a:lnTo>
                <a:lnTo>
                  <a:pt x="3" y="92"/>
                </a:lnTo>
                <a:lnTo>
                  <a:pt x="1" y="89"/>
                </a:lnTo>
                <a:lnTo>
                  <a:pt x="0" y="86"/>
                </a:lnTo>
                <a:lnTo>
                  <a:pt x="0" y="77"/>
                </a:lnTo>
                <a:lnTo>
                  <a:pt x="0" y="66"/>
                </a:lnTo>
                <a:lnTo>
                  <a:pt x="6" y="41"/>
                </a:lnTo>
                <a:lnTo>
                  <a:pt x="8" y="34"/>
                </a:lnTo>
              </a:path>
            </a:pathLst>
          </a:custGeom>
          <a:noFill/>
          <a:ln w="6480">
            <a:solidFill>
              <a:srgbClr val="1f1a17"/>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63" name="Freeform 162"/>
          <p:cNvSpPr/>
          <p:nvPr/>
        </p:nvSpPr>
        <p:spPr>
          <a:xfrm>
            <a:off x="2789280" y="1655640"/>
            <a:ext cx="46080" cy="49320"/>
          </a:xfrm>
          <a:custGeom>
            <a:avLst/>
            <a:gdLst>
              <a:gd name="textAreaLeft" fmla="*/ 0 w 46080"/>
              <a:gd name="textAreaRight" fmla="*/ 46440 w 46080"/>
              <a:gd name="textAreaTop" fmla="*/ 0 h 49320"/>
              <a:gd name="textAreaBottom" fmla="*/ 49680 h 49320"/>
            </a:gdLst>
            <a:ahLst/>
            <a:rect l="textAreaLeft" t="textAreaTop" r="textAreaRight" b="textAreaBottom"/>
            <a:pathLst>
              <a:path w="58" h="63">
                <a:moveTo>
                  <a:pt x="30" y="0"/>
                </a:moveTo>
                <a:lnTo>
                  <a:pt x="33" y="1"/>
                </a:lnTo>
                <a:lnTo>
                  <a:pt x="37" y="2"/>
                </a:lnTo>
                <a:lnTo>
                  <a:pt x="43" y="5"/>
                </a:lnTo>
                <a:lnTo>
                  <a:pt x="48" y="10"/>
                </a:lnTo>
                <a:lnTo>
                  <a:pt x="54" y="16"/>
                </a:lnTo>
                <a:lnTo>
                  <a:pt x="56" y="23"/>
                </a:lnTo>
                <a:lnTo>
                  <a:pt x="58" y="31"/>
                </a:lnTo>
                <a:lnTo>
                  <a:pt x="57" y="36"/>
                </a:lnTo>
                <a:lnTo>
                  <a:pt x="55" y="44"/>
                </a:lnTo>
                <a:lnTo>
                  <a:pt x="52" y="50"/>
                </a:lnTo>
                <a:lnTo>
                  <a:pt x="46" y="57"/>
                </a:lnTo>
                <a:lnTo>
                  <a:pt x="40" y="61"/>
                </a:lnTo>
                <a:lnTo>
                  <a:pt x="33" y="63"/>
                </a:lnTo>
                <a:lnTo>
                  <a:pt x="30" y="63"/>
                </a:lnTo>
                <a:lnTo>
                  <a:pt x="26" y="63"/>
                </a:lnTo>
                <a:lnTo>
                  <a:pt x="18" y="61"/>
                </a:lnTo>
                <a:lnTo>
                  <a:pt x="12" y="57"/>
                </a:lnTo>
                <a:lnTo>
                  <a:pt x="6" y="50"/>
                </a:lnTo>
                <a:lnTo>
                  <a:pt x="2" y="44"/>
                </a:lnTo>
                <a:lnTo>
                  <a:pt x="0" y="36"/>
                </a:lnTo>
                <a:lnTo>
                  <a:pt x="0" y="31"/>
                </a:lnTo>
                <a:lnTo>
                  <a:pt x="0" y="27"/>
                </a:lnTo>
                <a:lnTo>
                  <a:pt x="2" y="19"/>
                </a:lnTo>
                <a:lnTo>
                  <a:pt x="6" y="13"/>
                </a:lnTo>
                <a:lnTo>
                  <a:pt x="12" y="7"/>
                </a:lnTo>
                <a:lnTo>
                  <a:pt x="18" y="3"/>
                </a:lnTo>
                <a:lnTo>
                  <a:pt x="26" y="1"/>
                </a:lnTo>
                <a:lnTo>
                  <a:pt x="30" y="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4" name="Freeform 163"/>
          <p:cNvSpPr/>
          <p:nvPr/>
        </p:nvSpPr>
        <p:spPr>
          <a:xfrm>
            <a:off x="2789280" y="1655640"/>
            <a:ext cx="46080" cy="49320"/>
          </a:xfrm>
          <a:custGeom>
            <a:avLst/>
            <a:gdLst>
              <a:gd name="textAreaLeft" fmla="*/ 0 w 46080"/>
              <a:gd name="textAreaRight" fmla="*/ 46440 w 46080"/>
              <a:gd name="textAreaTop" fmla="*/ 0 h 49320"/>
              <a:gd name="textAreaBottom" fmla="*/ 49680 h 49320"/>
            </a:gdLst>
            <a:ahLst/>
            <a:rect l="textAreaLeft" t="textAreaTop" r="textAreaRight" b="textAreaBottom"/>
            <a:pathLst>
              <a:path w="58" h="63">
                <a:moveTo>
                  <a:pt x="30" y="0"/>
                </a:moveTo>
                <a:lnTo>
                  <a:pt x="33" y="1"/>
                </a:lnTo>
                <a:lnTo>
                  <a:pt x="37" y="2"/>
                </a:lnTo>
                <a:lnTo>
                  <a:pt x="43" y="5"/>
                </a:lnTo>
                <a:lnTo>
                  <a:pt x="48" y="10"/>
                </a:lnTo>
                <a:lnTo>
                  <a:pt x="54" y="16"/>
                </a:lnTo>
                <a:lnTo>
                  <a:pt x="56" y="23"/>
                </a:lnTo>
                <a:lnTo>
                  <a:pt x="58" y="31"/>
                </a:lnTo>
                <a:lnTo>
                  <a:pt x="57" y="36"/>
                </a:lnTo>
                <a:lnTo>
                  <a:pt x="55" y="44"/>
                </a:lnTo>
                <a:lnTo>
                  <a:pt x="52" y="50"/>
                </a:lnTo>
                <a:lnTo>
                  <a:pt x="46" y="57"/>
                </a:lnTo>
                <a:lnTo>
                  <a:pt x="40" y="61"/>
                </a:lnTo>
                <a:lnTo>
                  <a:pt x="33" y="63"/>
                </a:lnTo>
                <a:lnTo>
                  <a:pt x="30" y="63"/>
                </a:lnTo>
                <a:lnTo>
                  <a:pt x="26" y="63"/>
                </a:lnTo>
                <a:lnTo>
                  <a:pt x="18" y="61"/>
                </a:lnTo>
                <a:lnTo>
                  <a:pt x="12" y="57"/>
                </a:lnTo>
                <a:lnTo>
                  <a:pt x="6" y="50"/>
                </a:lnTo>
                <a:lnTo>
                  <a:pt x="2" y="44"/>
                </a:lnTo>
                <a:lnTo>
                  <a:pt x="0" y="36"/>
                </a:lnTo>
                <a:lnTo>
                  <a:pt x="0" y="31"/>
                </a:lnTo>
                <a:lnTo>
                  <a:pt x="0" y="27"/>
                </a:lnTo>
                <a:lnTo>
                  <a:pt x="2" y="19"/>
                </a:lnTo>
                <a:lnTo>
                  <a:pt x="6" y="13"/>
                </a:lnTo>
                <a:lnTo>
                  <a:pt x="12" y="7"/>
                </a:lnTo>
                <a:lnTo>
                  <a:pt x="18" y="3"/>
                </a:lnTo>
                <a:lnTo>
                  <a:pt x="26" y="1"/>
                </a:lnTo>
                <a:lnTo>
                  <a:pt x="30" y="0"/>
                </a:lnTo>
              </a:path>
            </a:pathLst>
          </a:custGeom>
          <a:noFill/>
          <a:ln w="3240">
            <a:solidFill>
              <a:srgbClr val="1f1a17"/>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5" name="Freeform 164"/>
          <p:cNvSpPr/>
          <p:nvPr/>
        </p:nvSpPr>
        <p:spPr>
          <a:xfrm>
            <a:off x="4202280" y="2797200"/>
            <a:ext cx="639720" cy="498600"/>
          </a:xfrm>
          <a:custGeom>
            <a:avLst/>
            <a:gdLst>
              <a:gd name="textAreaLeft" fmla="*/ 0 w 639720"/>
              <a:gd name="textAreaRight" fmla="*/ 640080 w 639720"/>
              <a:gd name="textAreaTop" fmla="*/ 0 h 498600"/>
              <a:gd name="textAreaBottom" fmla="*/ 498960 h 498600"/>
            </a:gdLst>
            <a:ahLst/>
            <a:rect l="textAreaLeft" t="textAreaTop" r="textAreaRight" b="textAreaBottom"/>
            <a:pathLst>
              <a:path w="806" h="630">
                <a:moveTo>
                  <a:pt x="805" y="152"/>
                </a:moveTo>
                <a:lnTo>
                  <a:pt x="806" y="167"/>
                </a:lnTo>
                <a:lnTo>
                  <a:pt x="806" y="182"/>
                </a:lnTo>
                <a:lnTo>
                  <a:pt x="797" y="209"/>
                </a:lnTo>
                <a:lnTo>
                  <a:pt x="783" y="233"/>
                </a:lnTo>
                <a:lnTo>
                  <a:pt x="755" y="284"/>
                </a:lnTo>
                <a:lnTo>
                  <a:pt x="749" y="313"/>
                </a:lnTo>
                <a:lnTo>
                  <a:pt x="747" y="316"/>
                </a:lnTo>
                <a:lnTo>
                  <a:pt x="744" y="320"/>
                </a:lnTo>
                <a:lnTo>
                  <a:pt x="737" y="327"/>
                </a:lnTo>
                <a:lnTo>
                  <a:pt x="734" y="329"/>
                </a:lnTo>
                <a:lnTo>
                  <a:pt x="730" y="330"/>
                </a:lnTo>
                <a:lnTo>
                  <a:pt x="728" y="330"/>
                </a:lnTo>
                <a:lnTo>
                  <a:pt x="724" y="331"/>
                </a:lnTo>
                <a:lnTo>
                  <a:pt x="717" y="333"/>
                </a:lnTo>
                <a:lnTo>
                  <a:pt x="700" y="341"/>
                </a:lnTo>
                <a:lnTo>
                  <a:pt x="692" y="347"/>
                </a:lnTo>
                <a:lnTo>
                  <a:pt x="687" y="355"/>
                </a:lnTo>
                <a:lnTo>
                  <a:pt x="686" y="358"/>
                </a:lnTo>
                <a:lnTo>
                  <a:pt x="685" y="366"/>
                </a:lnTo>
                <a:lnTo>
                  <a:pt x="685" y="388"/>
                </a:lnTo>
                <a:lnTo>
                  <a:pt x="685" y="406"/>
                </a:lnTo>
                <a:lnTo>
                  <a:pt x="685" y="407"/>
                </a:lnTo>
                <a:lnTo>
                  <a:pt x="687" y="414"/>
                </a:lnTo>
                <a:lnTo>
                  <a:pt x="696" y="438"/>
                </a:lnTo>
                <a:lnTo>
                  <a:pt x="703" y="456"/>
                </a:lnTo>
                <a:lnTo>
                  <a:pt x="704" y="456"/>
                </a:lnTo>
                <a:lnTo>
                  <a:pt x="703" y="459"/>
                </a:lnTo>
                <a:lnTo>
                  <a:pt x="702" y="461"/>
                </a:lnTo>
                <a:lnTo>
                  <a:pt x="700" y="465"/>
                </a:lnTo>
                <a:lnTo>
                  <a:pt x="698" y="471"/>
                </a:lnTo>
                <a:lnTo>
                  <a:pt x="698" y="472"/>
                </a:lnTo>
                <a:lnTo>
                  <a:pt x="695" y="476"/>
                </a:lnTo>
                <a:lnTo>
                  <a:pt x="690" y="483"/>
                </a:lnTo>
                <a:lnTo>
                  <a:pt x="677" y="494"/>
                </a:lnTo>
                <a:lnTo>
                  <a:pt x="670" y="496"/>
                </a:lnTo>
                <a:lnTo>
                  <a:pt x="661" y="496"/>
                </a:lnTo>
                <a:lnTo>
                  <a:pt x="658" y="495"/>
                </a:lnTo>
                <a:lnTo>
                  <a:pt x="653" y="495"/>
                </a:lnTo>
                <a:lnTo>
                  <a:pt x="651" y="494"/>
                </a:lnTo>
                <a:lnTo>
                  <a:pt x="648" y="492"/>
                </a:lnTo>
                <a:lnTo>
                  <a:pt x="643" y="488"/>
                </a:lnTo>
                <a:lnTo>
                  <a:pt x="638" y="483"/>
                </a:lnTo>
                <a:lnTo>
                  <a:pt x="630" y="474"/>
                </a:lnTo>
                <a:lnTo>
                  <a:pt x="628" y="472"/>
                </a:lnTo>
                <a:lnTo>
                  <a:pt x="621" y="476"/>
                </a:lnTo>
                <a:lnTo>
                  <a:pt x="612" y="483"/>
                </a:lnTo>
                <a:lnTo>
                  <a:pt x="597" y="500"/>
                </a:lnTo>
                <a:lnTo>
                  <a:pt x="587" y="521"/>
                </a:lnTo>
                <a:lnTo>
                  <a:pt x="585" y="526"/>
                </a:lnTo>
                <a:lnTo>
                  <a:pt x="575" y="533"/>
                </a:lnTo>
                <a:lnTo>
                  <a:pt x="558" y="551"/>
                </a:lnTo>
                <a:lnTo>
                  <a:pt x="544" y="572"/>
                </a:lnTo>
                <a:lnTo>
                  <a:pt x="517" y="610"/>
                </a:lnTo>
                <a:lnTo>
                  <a:pt x="491" y="630"/>
                </a:lnTo>
                <a:lnTo>
                  <a:pt x="487" y="623"/>
                </a:lnTo>
                <a:lnTo>
                  <a:pt x="481" y="608"/>
                </a:lnTo>
                <a:lnTo>
                  <a:pt x="465" y="583"/>
                </a:lnTo>
                <a:lnTo>
                  <a:pt x="442" y="561"/>
                </a:lnTo>
                <a:lnTo>
                  <a:pt x="435" y="556"/>
                </a:lnTo>
                <a:lnTo>
                  <a:pt x="430" y="558"/>
                </a:lnTo>
                <a:lnTo>
                  <a:pt x="401" y="567"/>
                </a:lnTo>
                <a:lnTo>
                  <a:pt x="305" y="596"/>
                </a:lnTo>
                <a:lnTo>
                  <a:pt x="231" y="618"/>
                </a:lnTo>
                <a:lnTo>
                  <a:pt x="228" y="619"/>
                </a:lnTo>
                <a:lnTo>
                  <a:pt x="226" y="619"/>
                </a:lnTo>
                <a:lnTo>
                  <a:pt x="224" y="618"/>
                </a:lnTo>
                <a:lnTo>
                  <a:pt x="223" y="616"/>
                </a:lnTo>
                <a:lnTo>
                  <a:pt x="222" y="610"/>
                </a:lnTo>
                <a:lnTo>
                  <a:pt x="220" y="594"/>
                </a:lnTo>
                <a:lnTo>
                  <a:pt x="216" y="551"/>
                </a:lnTo>
                <a:lnTo>
                  <a:pt x="213" y="522"/>
                </a:lnTo>
                <a:lnTo>
                  <a:pt x="213" y="521"/>
                </a:lnTo>
                <a:lnTo>
                  <a:pt x="216" y="511"/>
                </a:lnTo>
                <a:lnTo>
                  <a:pt x="229" y="479"/>
                </a:lnTo>
                <a:lnTo>
                  <a:pt x="238" y="454"/>
                </a:lnTo>
                <a:lnTo>
                  <a:pt x="239" y="452"/>
                </a:lnTo>
                <a:lnTo>
                  <a:pt x="241" y="444"/>
                </a:lnTo>
                <a:lnTo>
                  <a:pt x="241" y="426"/>
                </a:lnTo>
                <a:lnTo>
                  <a:pt x="236" y="389"/>
                </a:lnTo>
                <a:lnTo>
                  <a:pt x="223" y="361"/>
                </a:lnTo>
                <a:lnTo>
                  <a:pt x="219" y="356"/>
                </a:lnTo>
                <a:lnTo>
                  <a:pt x="204" y="355"/>
                </a:lnTo>
                <a:lnTo>
                  <a:pt x="176" y="357"/>
                </a:lnTo>
                <a:lnTo>
                  <a:pt x="149" y="361"/>
                </a:lnTo>
                <a:lnTo>
                  <a:pt x="124" y="363"/>
                </a:lnTo>
                <a:lnTo>
                  <a:pt x="99" y="357"/>
                </a:lnTo>
                <a:lnTo>
                  <a:pt x="76" y="338"/>
                </a:lnTo>
                <a:lnTo>
                  <a:pt x="66" y="323"/>
                </a:lnTo>
                <a:lnTo>
                  <a:pt x="64" y="310"/>
                </a:lnTo>
                <a:lnTo>
                  <a:pt x="58" y="274"/>
                </a:lnTo>
                <a:lnTo>
                  <a:pt x="38" y="189"/>
                </a:lnTo>
                <a:lnTo>
                  <a:pt x="8" y="118"/>
                </a:lnTo>
                <a:lnTo>
                  <a:pt x="0" y="108"/>
                </a:lnTo>
                <a:lnTo>
                  <a:pt x="20" y="101"/>
                </a:lnTo>
                <a:lnTo>
                  <a:pt x="51" y="89"/>
                </a:lnTo>
                <a:lnTo>
                  <a:pt x="84" y="67"/>
                </a:lnTo>
                <a:lnTo>
                  <a:pt x="97" y="52"/>
                </a:lnTo>
                <a:lnTo>
                  <a:pt x="101" y="48"/>
                </a:lnTo>
                <a:lnTo>
                  <a:pt x="118" y="39"/>
                </a:lnTo>
                <a:lnTo>
                  <a:pt x="154" y="27"/>
                </a:lnTo>
                <a:lnTo>
                  <a:pt x="191" y="20"/>
                </a:lnTo>
                <a:lnTo>
                  <a:pt x="230" y="20"/>
                </a:lnTo>
                <a:lnTo>
                  <a:pt x="306" y="32"/>
                </a:lnTo>
                <a:lnTo>
                  <a:pt x="324" y="35"/>
                </a:lnTo>
                <a:lnTo>
                  <a:pt x="331" y="35"/>
                </a:lnTo>
                <a:lnTo>
                  <a:pt x="344" y="33"/>
                </a:lnTo>
                <a:lnTo>
                  <a:pt x="372" y="30"/>
                </a:lnTo>
                <a:lnTo>
                  <a:pt x="402" y="33"/>
                </a:lnTo>
                <a:lnTo>
                  <a:pt x="411" y="35"/>
                </a:lnTo>
                <a:lnTo>
                  <a:pt x="418" y="37"/>
                </a:lnTo>
                <a:lnTo>
                  <a:pt x="424" y="37"/>
                </a:lnTo>
                <a:lnTo>
                  <a:pt x="429" y="36"/>
                </a:lnTo>
                <a:lnTo>
                  <a:pt x="436" y="33"/>
                </a:lnTo>
                <a:lnTo>
                  <a:pt x="448" y="26"/>
                </a:lnTo>
                <a:lnTo>
                  <a:pt x="457" y="16"/>
                </a:lnTo>
                <a:lnTo>
                  <a:pt x="468" y="7"/>
                </a:lnTo>
                <a:lnTo>
                  <a:pt x="478" y="0"/>
                </a:lnTo>
                <a:lnTo>
                  <a:pt x="483" y="1"/>
                </a:lnTo>
                <a:lnTo>
                  <a:pt x="496" y="3"/>
                </a:lnTo>
                <a:lnTo>
                  <a:pt x="528" y="12"/>
                </a:lnTo>
                <a:lnTo>
                  <a:pt x="554" y="20"/>
                </a:lnTo>
                <a:lnTo>
                  <a:pt x="558" y="21"/>
                </a:lnTo>
                <a:lnTo>
                  <a:pt x="561" y="21"/>
                </a:lnTo>
                <a:lnTo>
                  <a:pt x="570" y="20"/>
                </a:lnTo>
                <a:lnTo>
                  <a:pt x="585" y="19"/>
                </a:lnTo>
                <a:lnTo>
                  <a:pt x="601" y="19"/>
                </a:lnTo>
                <a:lnTo>
                  <a:pt x="605" y="18"/>
                </a:lnTo>
                <a:lnTo>
                  <a:pt x="612" y="23"/>
                </a:lnTo>
                <a:lnTo>
                  <a:pt x="627" y="33"/>
                </a:lnTo>
                <a:lnTo>
                  <a:pt x="655" y="55"/>
                </a:lnTo>
                <a:lnTo>
                  <a:pt x="678" y="84"/>
                </a:lnTo>
                <a:lnTo>
                  <a:pt x="683" y="91"/>
                </a:lnTo>
                <a:lnTo>
                  <a:pt x="689" y="98"/>
                </a:lnTo>
                <a:lnTo>
                  <a:pt x="706" y="112"/>
                </a:lnTo>
                <a:lnTo>
                  <a:pt x="751" y="139"/>
                </a:lnTo>
                <a:lnTo>
                  <a:pt x="795" y="153"/>
                </a:lnTo>
                <a:lnTo>
                  <a:pt x="805"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165"/>
          <p:cNvSpPr/>
          <p:nvPr/>
        </p:nvSpPr>
        <p:spPr>
          <a:xfrm>
            <a:off x="4202280" y="2797200"/>
            <a:ext cx="639720" cy="498600"/>
          </a:xfrm>
          <a:custGeom>
            <a:avLst/>
            <a:gdLst>
              <a:gd name="textAreaLeft" fmla="*/ 0 w 639720"/>
              <a:gd name="textAreaRight" fmla="*/ 640080 w 639720"/>
              <a:gd name="textAreaTop" fmla="*/ 0 h 498600"/>
              <a:gd name="textAreaBottom" fmla="*/ 498960 h 498600"/>
            </a:gdLst>
            <a:ahLst/>
            <a:rect l="textAreaLeft" t="textAreaTop" r="textAreaRight" b="textAreaBottom"/>
            <a:pathLst>
              <a:path w="806" h="630">
                <a:moveTo>
                  <a:pt x="805" y="152"/>
                </a:moveTo>
                <a:lnTo>
                  <a:pt x="806" y="167"/>
                </a:lnTo>
                <a:lnTo>
                  <a:pt x="806" y="182"/>
                </a:lnTo>
                <a:lnTo>
                  <a:pt x="797" y="209"/>
                </a:lnTo>
                <a:lnTo>
                  <a:pt x="783" y="233"/>
                </a:lnTo>
                <a:lnTo>
                  <a:pt x="755" y="284"/>
                </a:lnTo>
                <a:lnTo>
                  <a:pt x="749" y="313"/>
                </a:lnTo>
                <a:lnTo>
                  <a:pt x="747" y="316"/>
                </a:lnTo>
                <a:lnTo>
                  <a:pt x="744" y="320"/>
                </a:lnTo>
                <a:lnTo>
                  <a:pt x="737" y="327"/>
                </a:lnTo>
                <a:lnTo>
                  <a:pt x="734" y="329"/>
                </a:lnTo>
                <a:lnTo>
                  <a:pt x="730" y="330"/>
                </a:lnTo>
                <a:lnTo>
                  <a:pt x="728" y="330"/>
                </a:lnTo>
                <a:lnTo>
                  <a:pt x="724" y="331"/>
                </a:lnTo>
                <a:lnTo>
                  <a:pt x="717" y="333"/>
                </a:lnTo>
                <a:lnTo>
                  <a:pt x="700" y="341"/>
                </a:lnTo>
                <a:lnTo>
                  <a:pt x="692" y="347"/>
                </a:lnTo>
                <a:lnTo>
                  <a:pt x="687" y="355"/>
                </a:lnTo>
                <a:lnTo>
                  <a:pt x="686" y="358"/>
                </a:lnTo>
                <a:lnTo>
                  <a:pt x="685" y="366"/>
                </a:lnTo>
                <a:lnTo>
                  <a:pt x="685" y="388"/>
                </a:lnTo>
                <a:lnTo>
                  <a:pt x="685" y="406"/>
                </a:lnTo>
                <a:lnTo>
                  <a:pt x="685" y="407"/>
                </a:lnTo>
                <a:lnTo>
                  <a:pt x="687" y="414"/>
                </a:lnTo>
                <a:lnTo>
                  <a:pt x="696" y="438"/>
                </a:lnTo>
                <a:lnTo>
                  <a:pt x="703" y="456"/>
                </a:lnTo>
                <a:lnTo>
                  <a:pt x="704" y="456"/>
                </a:lnTo>
                <a:lnTo>
                  <a:pt x="703" y="459"/>
                </a:lnTo>
                <a:lnTo>
                  <a:pt x="702" y="461"/>
                </a:lnTo>
                <a:lnTo>
                  <a:pt x="700" y="465"/>
                </a:lnTo>
                <a:lnTo>
                  <a:pt x="698" y="471"/>
                </a:lnTo>
                <a:lnTo>
                  <a:pt x="698" y="472"/>
                </a:lnTo>
                <a:lnTo>
                  <a:pt x="695" y="476"/>
                </a:lnTo>
                <a:lnTo>
                  <a:pt x="690" y="483"/>
                </a:lnTo>
                <a:lnTo>
                  <a:pt x="677" y="494"/>
                </a:lnTo>
                <a:lnTo>
                  <a:pt x="670" y="496"/>
                </a:lnTo>
                <a:lnTo>
                  <a:pt x="661" y="496"/>
                </a:lnTo>
                <a:lnTo>
                  <a:pt x="658" y="495"/>
                </a:lnTo>
                <a:lnTo>
                  <a:pt x="653" y="495"/>
                </a:lnTo>
                <a:lnTo>
                  <a:pt x="651" y="494"/>
                </a:lnTo>
                <a:lnTo>
                  <a:pt x="648" y="492"/>
                </a:lnTo>
                <a:lnTo>
                  <a:pt x="643" y="488"/>
                </a:lnTo>
                <a:lnTo>
                  <a:pt x="638" y="483"/>
                </a:lnTo>
                <a:lnTo>
                  <a:pt x="630" y="474"/>
                </a:lnTo>
                <a:lnTo>
                  <a:pt x="628" y="472"/>
                </a:lnTo>
                <a:lnTo>
                  <a:pt x="621" y="476"/>
                </a:lnTo>
                <a:lnTo>
                  <a:pt x="612" y="483"/>
                </a:lnTo>
                <a:lnTo>
                  <a:pt x="597" y="500"/>
                </a:lnTo>
                <a:lnTo>
                  <a:pt x="587" y="521"/>
                </a:lnTo>
                <a:lnTo>
                  <a:pt x="585" y="526"/>
                </a:lnTo>
                <a:lnTo>
                  <a:pt x="575" y="533"/>
                </a:lnTo>
                <a:lnTo>
                  <a:pt x="558" y="551"/>
                </a:lnTo>
                <a:lnTo>
                  <a:pt x="544" y="572"/>
                </a:lnTo>
                <a:lnTo>
                  <a:pt x="517" y="610"/>
                </a:lnTo>
                <a:lnTo>
                  <a:pt x="491" y="630"/>
                </a:lnTo>
                <a:lnTo>
                  <a:pt x="487" y="623"/>
                </a:lnTo>
                <a:lnTo>
                  <a:pt x="481" y="608"/>
                </a:lnTo>
                <a:lnTo>
                  <a:pt x="465" y="583"/>
                </a:lnTo>
                <a:lnTo>
                  <a:pt x="442" y="561"/>
                </a:lnTo>
                <a:lnTo>
                  <a:pt x="435" y="556"/>
                </a:lnTo>
                <a:lnTo>
                  <a:pt x="430" y="558"/>
                </a:lnTo>
                <a:lnTo>
                  <a:pt x="401" y="567"/>
                </a:lnTo>
                <a:lnTo>
                  <a:pt x="305" y="596"/>
                </a:lnTo>
                <a:lnTo>
                  <a:pt x="231" y="618"/>
                </a:lnTo>
                <a:lnTo>
                  <a:pt x="228" y="619"/>
                </a:lnTo>
                <a:lnTo>
                  <a:pt x="226" y="619"/>
                </a:lnTo>
                <a:lnTo>
                  <a:pt x="224" y="618"/>
                </a:lnTo>
                <a:lnTo>
                  <a:pt x="223" y="616"/>
                </a:lnTo>
                <a:lnTo>
                  <a:pt x="222" y="610"/>
                </a:lnTo>
                <a:lnTo>
                  <a:pt x="220" y="594"/>
                </a:lnTo>
                <a:lnTo>
                  <a:pt x="216" y="551"/>
                </a:lnTo>
                <a:lnTo>
                  <a:pt x="213" y="522"/>
                </a:lnTo>
                <a:lnTo>
                  <a:pt x="213" y="521"/>
                </a:lnTo>
                <a:lnTo>
                  <a:pt x="216" y="511"/>
                </a:lnTo>
                <a:lnTo>
                  <a:pt x="229" y="479"/>
                </a:lnTo>
                <a:lnTo>
                  <a:pt x="238" y="454"/>
                </a:lnTo>
                <a:lnTo>
                  <a:pt x="239" y="452"/>
                </a:lnTo>
                <a:lnTo>
                  <a:pt x="241" y="444"/>
                </a:lnTo>
                <a:lnTo>
                  <a:pt x="241" y="426"/>
                </a:lnTo>
                <a:lnTo>
                  <a:pt x="236" y="389"/>
                </a:lnTo>
                <a:lnTo>
                  <a:pt x="223" y="361"/>
                </a:lnTo>
                <a:lnTo>
                  <a:pt x="219" y="356"/>
                </a:lnTo>
                <a:lnTo>
                  <a:pt x="204" y="355"/>
                </a:lnTo>
                <a:lnTo>
                  <a:pt x="176" y="357"/>
                </a:lnTo>
                <a:lnTo>
                  <a:pt x="149" y="361"/>
                </a:lnTo>
                <a:lnTo>
                  <a:pt x="124" y="363"/>
                </a:lnTo>
                <a:lnTo>
                  <a:pt x="99" y="357"/>
                </a:lnTo>
                <a:lnTo>
                  <a:pt x="76" y="338"/>
                </a:lnTo>
                <a:lnTo>
                  <a:pt x="66" y="323"/>
                </a:lnTo>
                <a:lnTo>
                  <a:pt x="64" y="310"/>
                </a:lnTo>
                <a:lnTo>
                  <a:pt x="58" y="274"/>
                </a:lnTo>
                <a:lnTo>
                  <a:pt x="38" y="189"/>
                </a:lnTo>
                <a:lnTo>
                  <a:pt x="8" y="118"/>
                </a:lnTo>
                <a:lnTo>
                  <a:pt x="0" y="108"/>
                </a:lnTo>
                <a:lnTo>
                  <a:pt x="20" y="101"/>
                </a:lnTo>
                <a:lnTo>
                  <a:pt x="51" y="89"/>
                </a:lnTo>
                <a:lnTo>
                  <a:pt x="84" y="67"/>
                </a:lnTo>
                <a:lnTo>
                  <a:pt x="97" y="52"/>
                </a:lnTo>
                <a:lnTo>
                  <a:pt x="101" y="48"/>
                </a:lnTo>
                <a:lnTo>
                  <a:pt x="118" y="39"/>
                </a:lnTo>
                <a:lnTo>
                  <a:pt x="154" y="27"/>
                </a:lnTo>
                <a:lnTo>
                  <a:pt x="191" y="20"/>
                </a:lnTo>
                <a:lnTo>
                  <a:pt x="230" y="20"/>
                </a:lnTo>
                <a:lnTo>
                  <a:pt x="306" y="32"/>
                </a:lnTo>
                <a:lnTo>
                  <a:pt x="324" y="35"/>
                </a:lnTo>
                <a:lnTo>
                  <a:pt x="331" y="35"/>
                </a:lnTo>
                <a:lnTo>
                  <a:pt x="344" y="33"/>
                </a:lnTo>
                <a:lnTo>
                  <a:pt x="372" y="30"/>
                </a:lnTo>
                <a:lnTo>
                  <a:pt x="402" y="33"/>
                </a:lnTo>
                <a:lnTo>
                  <a:pt x="411" y="35"/>
                </a:lnTo>
                <a:lnTo>
                  <a:pt x="418" y="37"/>
                </a:lnTo>
                <a:lnTo>
                  <a:pt x="424" y="37"/>
                </a:lnTo>
                <a:lnTo>
                  <a:pt x="429" y="36"/>
                </a:lnTo>
                <a:lnTo>
                  <a:pt x="436" y="33"/>
                </a:lnTo>
                <a:lnTo>
                  <a:pt x="448" y="26"/>
                </a:lnTo>
                <a:lnTo>
                  <a:pt x="457" y="16"/>
                </a:lnTo>
                <a:lnTo>
                  <a:pt x="468" y="7"/>
                </a:lnTo>
                <a:lnTo>
                  <a:pt x="478" y="0"/>
                </a:lnTo>
                <a:lnTo>
                  <a:pt x="483" y="1"/>
                </a:lnTo>
                <a:lnTo>
                  <a:pt x="496" y="3"/>
                </a:lnTo>
                <a:lnTo>
                  <a:pt x="528" y="12"/>
                </a:lnTo>
                <a:lnTo>
                  <a:pt x="554" y="20"/>
                </a:lnTo>
                <a:lnTo>
                  <a:pt x="558" y="21"/>
                </a:lnTo>
                <a:lnTo>
                  <a:pt x="561" y="21"/>
                </a:lnTo>
                <a:lnTo>
                  <a:pt x="570" y="20"/>
                </a:lnTo>
                <a:lnTo>
                  <a:pt x="585" y="19"/>
                </a:lnTo>
                <a:lnTo>
                  <a:pt x="601" y="19"/>
                </a:lnTo>
                <a:lnTo>
                  <a:pt x="605" y="18"/>
                </a:lnTo>
                <a:lnTo>
                  <a:pt x="612" y="23"/>
                </a:lnTo>
                <a:lnTo>
                  <a:pt x="627" y="33"/>
                </a:lnTo>
                <a:lnTo>
                  <a:pt x="655" y="55"/>
                </a:lnTo>
                <a:lnTo>
                  <a:pt x="678" y="84"/>
                </a:lnTo>
                <a:lnTo>
                  <a:pt x="683" y="91"/>
                </a:lnTo>
                <a:lnTo>
                  <a:pt x="689" y="98"/>
                </a:lnTo>
                <a:lnTo>
                  <a:pt x="706" y="112"/>
                </a:lnTo>
                <a:lnTo>
                  <a:pt x="751" y="139"/>
                </a:lnTo>
                <a:lnTo>
                  <a:pt x="795" y="153"/>
                </a:lnTo>
                <a:lnTo>
                  <a:pt x="805" y="152"/>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166"/>
          <p:cNvSpPr/>
          <p:nvPr/>
        </p:nvSpPr>
        <p:spPr>
          <a:xfrm>
            <a:off x="4203720" y="2444760"/>
            <a:ext cx="777960" cy="473040"/>
          </a:xfrm>
          <a:custGeom>
            <a:avLst/>
            <a:gdLst>
              <a:gd name="textAreaLeft" fmla="*/ 0 w 777960"/>
              <a:gd name="textAreaRight" fmla="*/ 778320 w 777960"/>
              <a:gd name="textAreaTop" fmla="*/ 0 h 473040"/>
              <a:gd name="textAreaBottom" fmla="*/ 473400 h 473040"/>
            </a:gdLst>
            <a:ahLst/>
            <a:rect l="textAreaLeft" t="textAreaTop" r="textAreaRight" b="textAreaBottom"/>
            <a:pathLst>
              <a:path w="980" h="595">
                <a:moveTo>
                  <a:pt x="5" y="544"/>
                </a:moveTo>
                <a:lnTo>
                  <a:pt x="25" y="537"/>
                </a:lnTo>
                <a:lnTo>
                  <a:pt x="55" y="524"/>
                </a:lnTo>
                <a:lnTo>
                  <a:pt x="86" y="506"/>
                </a:lnTo>
                <a:lnTo>
                  <a:pt x="99" y="494"/>
                </a:lnTo>
                <a:lnTo>
                  <a:pt x="103" y="491"/>
                </a:lnTo>
                <a:lnTo>
                  <a:pt x="121" y="483"/>
                </a:lnTo>
                <a:lnTo>
                  <a:pt x="156" y="470"/>
                </a:lnTo>
                <a:lnTo>
                  <a:pt x="194" y="464"/>
                </a:lnTo>
                <a:lnTo>
                  <a:pt x="232" y="463"/>
                </a:lnTo>
                <a:lnTo>
                  <a:pt x="308" y="475"/>
                </a:lnTo>
                <a:lnTo>
                  <a:pt x="326" y="478"/>
                </a:lnTo>
                <a:lnTo>
                  <a:pt x="333" y="478"/>
                </a:lnTo>
                <a:lnTo>
                  <a:pt x="346" y="476"/>
                </a:lnTo>
                <a:lnTo>
                  <a:pt x="374" y="473"/>
                </a:lnTo>
                <a:lnTo>
                  <a:pt x="404" y="476"/>
                </a:lnTo>
                <a:lnTo>
                  <a:pt x="412" y="478"/>
                </a:lnTo>
                <a:lnTo>
                  <a:pt x="419" y="480"/>
                </a:lnTo>
                <a:lnTo>
                  <a:pt x="425" y="480"/>
                </a:lnTo>
                <a:lnTo>
                  <a:pt x="432" y="478"/>
                </a:lnTo>
                <a:lnTo>
                  <a:pt x="437" y="476"/>
                </a:lnTo>
                <a:lnTo>
                  <a:pt x="449" y="469"/>
                </a:lnTo>
                <a:lnTo>
                  <a:pt x="459" y="459"/>
                </a:lnTo>
                <a:lnTo>
                  <a:pt x="469" y="451"/>
                </a:lnTo>
                <a:lnTo>
                  <a:pt x="480" y="444"/>
                </a:lnTo>
                <a:lnTo>
                  <a:pt x="485" y="445"/>
                </a:lnTo>
                <a:lnTo>
                  <a:pt x="498" y="447"/>
                </a:lnTo>
                <a:lnTo>
                  <a:pt x="529" y="455"/>
                </a:lnTo>
                <a:lnTo>
                  <a:pt x="555" y="463"/>
                </a:lnTo>
                <a:lnTo>
                  <a:pt x="559" y="464"/>
                </a:lnTo>
                <a:lnTo>
                  <a:pt x="562" y="464"/>
                </a:lnTo>
                <a:lnTo>
                  <a:pt x="571" y="463"/>
                </a:lnTo>
                <a:lnTo>
                  <a:pt x="587" y="462"/>
                </a:lnTo>
                <a:lnTo>
                  <a:pt x="602" y="462"/>
                </a:lnTo>
                <a:lnTo>
                  <a:pt x="606" y="461"/>
                </a:lnTo>
                <a:lnTo>
                  <a:pt x="613" y="466"/>
                </a:lnTo>
                <a:lnTo>
                  <a:pt x="628" y="476"/>
                </a:lnTo>
                <a:lnTo>
                  <a:pt x="656" y="498"/>
                </a:lnTo>
                <a:lnTo>
                  <a:pt x="680" y="527"/>
                </a:lnTo>
                <a:lnTo>
                  <a:pt x="686" y="535"/>
                </a:lnTo>
                <a:lnTo>
                  <a:pt x="691" y="542"/>
                </a:lnTo>
                <a:lnTo>
                  <a:pt x="708" y="555"/>
                </a:lnTo>
                <a:lnTo>
                  <a:pt x="753" y="582"/>
                </a:lnTo>
                <a:lnTo>
                  <a:pt x="797" y="595"/>
                </a:lnTo>
                <a:lnTo>
                  <a:pt x="807" y="594"/>
                </a:lnTo>
                <a:lnTo>
                  <a:pt x="821" y="587"/>
                </a:lnTo>
                <a:lnTo>
                  <a:pt x="846" y="567"/>
                </a:lnTo>
                <a:lnTo>
                  <a:pt x="866" y="544"/>
                </a:lnTo>
                <a:lnTo>
                  <a:pt x="903" y="492"/>
                </a:lnTo>
                <a:lnTo>
                  <a:pt x="933" y="452"/>
                </a:lnTo>
                <a:lnTo>
                  <a:pt x="947" y="403"/>
                </a:lnTo>
                <a:lnTo>
                  <a:pt x="970" y="317"/>
                </a:lnTo>
                <a:lnTo>
                  <a:pt x="980" y="245"/>
                </a:lnTo>
                <a:lnTo>
                  <a:pt x="975" y="216"/>
                </a:lnTo>
                <a:lnTo>
                  <a:pt x="965" y="190"/>
                </a:lnTo>
                <a:lnTo>
                  <a:pt x="946" y="168"/>
                </a:lnTo>
                <a:lnTo>
                  <a:pt x="918" y="150"/>
                </a:lnTo>
                <a:lnTo>
                  <a:pt x="880" y="135"/>
                </a:lnTo>
                <a:lnTo>
                  <a:pt x="829" y="125"/>
                </a:lnTo>
                <a:lnTo>
                  <a:pt x="767" y="118"/>
                </a:lnTo>
                <a:lnTo>
                  <a:pt x="735" y="105"/>
                </a:lnTo>
                <a:lnTo>
                  <a:pt x="691" y="74"/>
                </a:lnTo>
                <a:lnTo>
                  <a:pt x="665" y="43"/>
                </a:lnTo>
                <a:lnTo>
                  <a:pt x="647" y="17"/>
                </a:lnTo>
                <a:lnTo>
                  <a:pt x="637" y="8"/>
                </a:lnTo>
                <a:lnTo>
                  <a:pt x="626" y="2"/>
                </a:lnTo>
                <a:lnTo>
                  <a:pt x="611" y="0"/>
                </a:lnTo>
                <a:lnTo>
                  <a:pt x="590" y="3"/>
                </a:lnTo>
                <a:lnTo>
                  <a:pt x="565" y="10"/>
                </a:lnTo>
                <a:lnTo>
                  <a:pt x="562" y="10"/>
                </a:lnTo>
                <a:lnTo>
                  <a:pt x="559" y="10"/>
                </a:lnTo>
                <a:lnTo>
                  <a:pt x="556" y="11"/>
                </a:lnTo>
                <a:lnTo>
                  <a:pt x="547" y="14"/>
                </a:lnTo>
                <a:lnTo>
                  <a:pt x="524" y="24"/>
                </a:lnTo>
                <a:lnTo>
                  <a:pt x="471" y="52"/>
                </a:lnTo>
                <a:lnTo>
                  <a:pt x="441" y="66"/>
                </a:lnTo>
                <a:lnTo>
                  <a:pt x="427" y="97"/>
                </a:lnTo>
                <a:lnTo>
                  <a:pt x="421" y="127"/>
                </a:lnTo>
                <a:lnTo>
                  <a:pt x="420" y="159"/>
                </a:lnTo>
                <a:lnTo>
                  <a:pt x="428" y="222"/>
                </a:lnTo>
                <a:lnTo>
                  <a:pt x="439" y="279"/>
                </a:lnTo>
                <a:lnTo>
                  <a:pt x="441" y="328"/>
                </a:lnTo>
                <a:lnTo>
                  <a:pt x="435" y="347"/>
                </a:lnTo>
                <a:lnTo>
                  <a:pt x="422" y="363"/>
                </a:lnTo>
                <a:lnTo>
                  <a:pt x="400" y="373"/>
                </a:lnTo>
                <a:lnTo>
                  <a:pt x="379" y="375"/>
                </a:lnTo>
                <a:lnTo>
                  <a:pt x="360" y="373"/>
                </a:lnTo>
                <a:lnTo>
                  <a:pt x="343" y="368"/>
                </a:lnTo>
                <a:lnTo>
                  <a:pt x="328" y="361"/>
                </a:lnTo>
                <a:lnTo>
                  <a:pt x="313" y="350"/>
                </a:lnTo>
                <a:lnTo>
                  <a:pt x="288" y="325"/>
                </a:lnTo>
                <a:lnTo>
                  <a:pt x="266" y="296"/>
                </a:lnTo>
                <a:lnTo>
                  <a:pt x="248" y="267"/>
                </a:lnTo>
                <a:lnTo>
                  <a:pt x="240" y="254"/>
                </a:lnTo>
                <a:lnTo>
                  <a:pt x="230" y="254"/>
                </a:lnTo>
                <a:lnTo>
                  <a:pt x="207" y="254"/>
                </a:lnTo>
                <a:lnTo>
                  <a:pt x="160" y="249"/>
                </a:lnTo>
                <a:lnTo>
                  <a:pt x="140" y="245"/>
                </a:lnTo>
                <a:lnTo>
                  <a:pt x="125" y="239"/>
                </a:lnTo>
                <a:lnTo>
                  <a:pt x="121" y="235"/>
                </a:lnTo>
                <a:lnTo>
                  <a:pt x="103" y="258"/>
                </a:lnTo>
                <a:lnTo>
                  <a:pt x="79" y="297"/>
                </a:lnTo>
                <a:lnTo>
                  <a:pt x="48" y="368"/>
                </a:lnTo>
                <a:lnTo>
                  <a:pt x="22" y="445"/>
                </a:lnTo>
                <a:lnTo>
                  <a:pt x="14" y="469"/>
                </a:lnTo>
                <a:lnTo>
                  <a:pt x="11" y="475"/>
                </a:lnTo>
                <a:lnTo>
                  <a:pt x="7" y="487"/>
                </a:lnTo>
                <a:lnTo>
                  <a:pt x="0" y="511"/>
                </a:lnTo>
                <a:lnTo>
                  <a:pt x="2" y="538"/>
                </a:lnTo>
                <a:lnTo>
                  <a:pt x="5" y="5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Freeform 167"/>
          <p:cNvSpPr/>
          <p:nvPr/>
        </p:nvSpPr>
        <p:spPr>
          <a:xfrm>
            <a:off x="4203720" y="2444760"/>
            <a:ext cx="777960" cy="473040"/>
          </a:xfrm>
          <a:custGeom>
            <a:avLst/>
            <a:gdLst>
              <a:gd name="textAreaLeft" fmla="*/ 0 w 777960"/>
              <a:gd name="textAreaRight" fmla="*/ 778320 w 777960"/>
              <a:gd name="textAreaTop" fmla="*/ 0 h 473040"/>
              <a:gd name="textAreaBottom" fmla="*/ 473400 h 473040"/>
            </a:gdLst>
            <a:ahLst/>
            <a:rect l="textAreaLeft" t="textAreaTop" r="textAreaRight" b="textAreaBottom"/>
            <a:pathLst>
              <a:path w="980" h="595">
                <a:moveTo>
                  <a:pt x="5" y="544"/>
                </a:moveTo>
                <a:lnTo>
                  <a:pt x="25" y="537"/>
                </a:lnTo>
                <a:lnTo>
                  <a:pt x="55" y="524"/>
                </a:lnTo>
                <a:lnTo>
                  <a:pt x="86" y="506"/>
                </a:lnTo>
                <a:lnTo>
                  <a:pt x="99" y="494"/>
                </a:lnTo>
                <a:lnTo>
                  <a:pt x="103" y="491"/>
                </a:lnTo>
                <a:lnTo>
                  <a:pt x="121" y="483"/>
                </a:lnTo>
                <a:lnTo>
                  <a:pt x="156" y="470"/>
                </a:lnTo>
                <a:lnTo>
                  <a:pt x="194" y="464"/>
                </a:lnTo>
                <a:lnTo>
                  <a:pt x="232" y="463"/>
                </a:lnTo>
                <a:lnTo>
                  <a:pt x="308" y="475"/>
                </a:lnTo>
                <a:lnTo>
                  <a:pt x="326" y="478"/>
                </a:lnTo>
                <a:lnTo>
                  <a:pt x="333" y="478"/>
                </a:lnTo>
                <a:lnTo>
                  <a:pt x="346" y="476"/>
                </a:lnTo>
                <a:lnTo>
                  <a:pt x="374" y="473"/>
                </a:lnTo>
                <a:lnTo>
                  <a:pt x="404" y="476"/>
                </a:lnTo>
                <a:lnTo>
                  <a:pt x="412" y="478"/>
                </a:lnTo>
                <a:lnTo>
                  <a:pt x="419" y="480"/>
                </a:lnTo>
                <a:lnTo>
                  <a:pt x="425" y="480"/>
                </a:lnTo>
                <a:lnTo>
                  <a:pt x="432" y="478"/>
                </a:lnTo>
                <a:lnTo>
                  <a:pt x="437" y="476"/>
                </a:lnTo>
                <a:lnTo>
                  <a:pt x="449" y="469"/>
                </a:lnTo>
                <a:lnTo>
                  <a:pt x="459" y="459"/>
                </a:lnTo>
                <a:lnTo>
                  <a:pt x="469" y="451"/>
                </a:lnTo>
                <a:lnTo>
                  <a:pt x="480" y="444"/>
                </a:lnTo>
                <a:lnTo>
                  <a:pt x="485" y="445"/>
                </a:lnTo>
                <a:lnTo>
                  <a:pt x="498" y="447"/>
                </a:lnTo>
                <a:lnTo>
                  <a:pt x="529" y="455"/>
                </a:lnTo>
                <a:lnTo>
                  <a:pt x="555" y="463"/>
                </a:lnTo>
                <a:lnTo>
                  <a:pt x="559" y="464"/>
                </a:lnTo>
                <a:lnTo>
                  <a:pt x="562" y="464"/>
                </a:lnTo>
                <a:lnTo>
                  <a:pt x="571" y="463"/>
                </a:lnTo>
                <a:lnTo>
                  <a:pt x="587" y="462"/>
                </a:lnTo>
                <a:lnTo>
                  <a:pt x="602" y="462"/>
                </a:lnTo>
                <a:lnTo>
                  <a:pt x="606" y="461"/>
                </a:lnTo>
                <a:lnTo>
                  <a:pt x="613" y="466"/>
                </a:lnTo>
                <a:lnTo>
                  <a:pt x="628" y="476"/>
                </a:lnTo>
                <a:lnTo>
                  <a:pt x="656" y="498"/>
                </a:lnTo>
                <a:lnTo>
                  <a:pt x="680" y="527"/>
                </a:lnTo>
                <a:lnTo>
                  <a:pt x="686" y="535"/>
                </a:lnTo>
                <a:lnTo>
                  <a:pt x="691" y="542"/>
                </a:lnTo>
                <a:lnTo>
                  <a:pt x="708" y="555"/>
                </a:lnTo>
                <a:lnTo>
                  <a:pt x="753" y="582"/>
                </a:lnTo>
                <a:lnTo>
                  <a:pt x="797" y="595"/>
                </a:lnTo>
                <a:lnTo>
                  <a:pt x="807" y="594"/>
                </a:lnTo>
                <a:lnTo>
                  <a:pt x="821" y="587"/>
                </a:lnTo>
                <a:lnTo>
                  <a:pt x="846" y="567"/>
                </a:lnTo>
                <a:lnTo>
                  <a:pt x="866" y="544"/>
                </a:lnTo>
                <a:lnTo>
                  <a:pt x="903" y="492"/>
                </a:lnTo>
                <a:lnTo>
                  <a:pt x="933" y="452"/>
                </a:lnTo>
                <a:lnTo>
                  <a:pt x="947" y="403"/>
                </a:lnTo>
                <a:lnTo>
                  <a:pt x="970" y="317"/>
                </a:lnTo>
                <a:lnTo>
                  <a:pt x="980" y="245"/>
                </a:lnTo>
                <a:lnTo>
                  <a:pt x="975" y="216"/>
                </a:lnTo>
                <a:lnTo>
                  <a:pt x="965" y="190"/>
                </a:lnTo>
                <a:lnTo>
                  <a:pt x="946" y="168"/>
                </a:lnTo>
                <a:lnTo>
                  <a:pt x="918" y="150"/>
                </a:lnTo>
                <a:lnTo>
                  <a:pt x="880" y="135"/>
                </a:lnTo>
                <a:lnTo>
                  <a:pt x="829" y="125"/>
                </a:lnTo>
                <a:lnTo>
                  <a:pt x="767" y="118"/>
                </a:lnTo>
                <a:lnTo>
                  <a:pt x="735" y="105"/>
                </a:lnTo>
                <a:lnTo>
                  <a:pt x="691" y="74"/>
                </a:lnTo>
                <a:lnTo>
                  <a:pt x="665" y="43"/>
                </a:lnTo>
                <a:lnTo>
                  <a:pt x="647" y="17"/>
                </a:lnTo>
                <a:lnTo>
                  <a:pt x="637" y="8"/>
                </a:lnTo>
                <a:lnTo>
                  <a:pt x="626" y="2"/>
                </a:lnTo>
                <a:lnTo>
                  <a:pt x="611" y="0"/>
                </a:lnTo>
                <a:lnTo>
                  <a:pt x="590" y="3"/>
                </a:lnTo>
                <a:lnTo>
                  <a:pt x="565" y="10"/>
                </a:lnTo>
                <a:lnTo>
                  <a:pt x="562" y="10"/>
                </a:lnTo>
                <a:lnTo>
                  <a:pt x="559" y="10"/>
                </a:lnTo>
                <a:lnTo>
                  <a:pt x="556" y="11"/>
                </a:lnTo>
                <a:lnTo>
                  <a:pt x="547" y="14"/>
                </a:lnTo>
                <a:lnTo>
                  <a:pt x="524" y="24"/>
                </a:lnTo>
                <a:lnTo>
                  <a:pt x="471" y="52"/>
                </a:lnTo>
                <a:lnTo>
                  <a:pt x="441" y="66"/>
                </a:lnTo>
                <a:lnTo>
                  <a:pt x="427" y="97"/>
                </a:lnTo>
                <a:lnTo>
                  <a:pt x="421" y="127"/>
                </a:lnTo>
                <a:lnTo>
                  <a:pt x="420" y="159"/>
                </a:lnTo>
                <a:lnTo>
                  <a:pt x="428" y="222"/>
                </a:lnTo>
                <a:lnTo>
                  <a:pt x="439" y="279"/>
                </a:lnTo>
                <a:lnTo>
                  <a:pt x="441" y="328"/>
                </a:lnTo>
                <a:lnTo>
                  <a:pt x="435" y="347"/>
                </a:lnTo>
                <a:lnTo>
                  <a:pt x="422" y="363"/>
                </a:lnTo>
                <a:lnTo>
                  <a:pt x="400" y="373"/>
                </a:lnTo>
                <a:lnTo>
                  <a:pt x="379" y="375"/>
                </a:lnTo>
                <a:lnTo>
                  <a:pt x="360" y="373"/>
                </a:lnTo>
                <a:lnTo>
                  <a:pt x="343" y="368"/>
                </a:lnTo>
                <a:lnTo>
                  <a:pt x="328" y="361"/>
                </a:lnTo>
                <a:lnTo>
                  <a:pt x="313" y="350"/>
                </a:lnTo>
                <a:lnTo>
                  <a:pt x="288" y="325"/>
                </a:lnTo>
                <a:lnTo>
                  <a:pt x="266" y="296"/>
                </a:lnTo>
                <a:lnTo>
                  <a:pt x="248" y="267"/>
                </a:lnTo>
                <a:lnTo>
                  <a:pt x="240" y="254"/>
                </a:lnTo>
                <a:lnTo>
                  <a:pt x="230" y="254"/>
                </a:lnTo>
                <a:lnTo>
                  <a:pt x="207" y="254"/>
                </a:lnTo>
                <a:lnTo>
                  <a:pt x="160" y="249"/>
                </a:lnTo>
                <a:lnTo>
                  <a:pt x="140" y="245"/>
                </a:lnTo>
                <a:lnTo>
                  <a:pt x="125" y="239"/>
                </a:lnTo>
                <a:lnTo>
                  <a:pt x="121" y="235"/>
                </a:lnTo>
                <a:lnTo>
                  <a:pt x="103" y="258"/>
                </a:lnTo>
                <a:lnTo>
                  <a:pt x="79" y="297"/>
                </a:lnTo>
                <a:lnTo>
                  <a:pt x="48" y="368"/>
                </a:lnTo>
                <a:lnTo>
                  <a:pt x="22" y="445"/>
                </a:lnTo>
                <a:lnTo>
                  <a:pt x="14" y="469"/>
                </a:lnTo>
                <a:lnTo>
                  <a:pt x="11" y="475"/>
                </a:lnTo>
                <a:lnTo>
                  <a:pt x="7" y="487"/>
                </a:lnTo>
                <a:lnTo>
                  <a:pt x="0" y="511"/>
                </a:lnTo>
                <a:lnTo>
                  <a:pt x="2" y="538"/>
                </a:lnTo>
                <a:lnTo>
                  <a:pt x="5" y="544"/>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Freeform 168"/>
          <p:cNvSpPr/>
          <p:nvPr/>
        </p:nvSpPr>
        <p:spPr>
          <a:xfrm>
            <a:off x="4403880" y="2216160"/>
            <a:ext cx="425160" cy="276120"/>
          </a:xfrm>
          <a:custGeom>
            <a:avLst/>
            <a:gdLst>
              <a:gd name="textAreaLeft" fmla="*/ 0 w 425160"/>
              <a:gd name="textAreaRight" fmla="*/ 425520 w 425160"/>
              <a:gd name="textAreaTop" fmla="*/ 0 h 276120"/>
              <a:gd name="textAreaBottom" fmla="*/ 276480 h 276120"/>
            </a:gdLst>
            <a:ahLst/>
            <a:rect l="textAreaLeft" t="textAreaTop" r="textAreaRight" b="textAreaBottom"/>
            <a:pathLst>
              <a:path w="538" h="348">
                <a:moveTo>
                  <a:pt x="422" y="0"/>
                </a:moveTo>
                <a:lnTo>
                  <a:pt x="455" y="5"/>
                </a:lnTo>
                <a:lnTo>
                  <a:pt x="496" y="16"/>
                </a:lnTo>
                <a:lnTo>
                  <a:pt x="506" y="22"/>
                </a:lnTo>
                <a:lnTo>
                  <a:pt x="509" y="26"/>
                </a:lnTo>
                <a:lnTo>
                  <a:pt x="511" y="29"/>
                </a:lnTo>
                <a:lnTo>
                  <a:pt x="511" y="33"/>
                </a:lnTo>
                <a:lnTo>
                  <a:pt x="511" y="38"/>
                </a:lnTo>
                <a:lnTo>
                  <a:pt x="510" y="42"/>
                </a:lnTo>
                <a:lnTo>
                  <a:pt x="507" y="53"/>
                </a:lnTo>
                <a:lnTo>
                  <a:pt x="496" y="78"/>
                </a:lnTo>
                <a:lnTo>
                  <a:pt x="489" y="110"/>
                </a:lnTo>
                <a:lnTo>
                  <a:pt x="489" y="119"/>
                </a:lnTo>
                <a:lnTo>
                  <a:pt x="481" y="123"/>
                </a:lnTo>
                <a:lnTo>
                  <a:pt x="473" y="128"/>
                </a:lnTo>
                <a:lnTo>
                  <a:pt x="468" y="135"/>
                </a:lnTo>
                <a:lnTo>
                  <a:pt x="464" y="143"/>
                </a:lnTo>
                <a:lnTo>
                  <a:pt x="460" y="151"/>
                </a:lnTo>
                <a:lnTo>
                  <a:pt x="459" y="170"/>
                </a:lnTo>
                <a:lnTo>
                  <a:pt x="464" y="185"/>
                </a:lnTo>
                <a:lnTo>
                  <a:pt x="468" y="190"/>
                </a:lnTo>
                <a:lnTo>
                  <a:pt x="474" y="193"/>
                </a:lnTo>
                <a:lnTo>
                  <a:pt x="482" y="194"/>
                </a:lnTo>
                <a:lnTo>
                  <a:pt x="487" y="200"/>
                </a:lnTo>
                <a:lnTo>
                  <a:pt x="504" y="218"/>
                </a:lnTo>
                <a:lnTo>
                  <a:pt x="517" y="231"/>
                </a:lnTo>
                <a:lnTo>
                  <a:pt x="518" y="231"/>
                </a:lnTo>
                <a:lnTo>
                  <a:pt x="526" y="232"/>
                </a:lnTo>
                <a:lnTo>
                  <a:pt x="531" y="234"/>
                </a:lnTo>
                <a:lnTo>
                  <a:pt x="536" y="236"/>
                </a:lnTo>
                <a:lnTo>
                  <a:pt x="537" y="240"/>
                </a:lnTo>
                <a:lnTo>
                  <a:pt x="538" y="244"/>
                </a:lnTo>
                <a:lnTo>
                  <a:pt x="536" y="249"/>
                </a:lnTo>
                <a:lnTo>
                  <a:pt x="533" y="255"/>
                </a:lnTo>
                <a:lnTo>
                  <a:pt x="525" y="269"/>
                </a:lnTo>
                <a:lnTo>
                  <a:pt x="513" y="282"/>
                </a:lnTo>
                <a:lnTo>
                  <a:pt x="483" y="311"/>
                </a:lnTo>
                <a:lnTo>
                  <a:pt x="440" y="348"/>
                </a:lnTo>
                <a:lnTo>
                  <a:pt x="436" y="348"/>
                </a:lnTo>
                <a:lnTo>
                  <a:pt x="434" y="347"/>
                </a:lnTo>
                <a:lnTo>
                  <a:pt x="430" y="345"/>
                </a:lnTo>
                <a:lnTo>
                  <a:pt x="427" y="342"/>
                </a:lnTo>
                <a:lnTo>
                  <a:pt x="423" y="336"/>
                </a:lnTo>
                <a:lnTo>
                  <a:pt x="411" y="318"/>
                </a:lnTo>
                <a:lnTo>
                  <a:pt x="394" y="302"/>
                </a:lnTo>
                <a:lnTo>
                  <a:pt x="368" y="291"/>
                </a:lnTo>
                <a:lnTo>
                  <a:pt x="328" y="292"/>
                </a:lnTo>
                <a:lnTo>
                  <a:pt x="302" y="298"/>
                </a:lnTo>
                <a:lnTo>
                  <a:pt x="292" y="302"/>
                </a:lnTo>
                <a:lnTo>
                  <a:pt x="275" y="311"/>
                </a:lnTo>
                <a:lnTo>
                  <a:pt x="260" y="322"/>
                </a:lnTo>
                <a:lnTo>
                  <a:pt x="225" y="341"/>
                </a:lnTo>
                <a:lnTo>
                  <a:pt x="186" y="348"/>
                </a:lnTo>
                <a:lnTo>
                  <a:pt x="183" y="347"/>
                </a:lnTo>
                <a:lnTo>
                  <a:pt x="181" y="345"/>
                </a:lnTo>
                <a:lnTo>
                  <a:pt x="180" y="342"/>
                </a:lnTo>
                <a:lnTo>
                  <a:pt x="175" y="334"/>
                </a:lnTo>
                <a:lnTo>
                  <a:pt x="163" y="314"/>
                </a:lnTo>
                <a:lnTo>
                  <a:pt x="155" y="305"/>
                </a:lnTo>
                <a:lnTo>
                  <a:pt x="154" y="306"/>
                </a:lnTo>
                <a:lnTo>
                  <a:pt x="153" y="307"/>
                </a:lnTo>
                <a:lnTo>
                  <a:pt x="147" y="310"/>
                </a:lnTo>
                <a:lnTo>
                  <a:pt x="131" y="320"/>
                </a:lnTo>
                <a:lnTo>
                  <a:pt x="91" y="342"/>
                </a:lnTo>
                <a:lnTo>
                  <a:pt x="69" y="335"/>
                </a:lnTo>
                <a:lnTo>
                  <a:pt x="65" y="334"/>
                </a:lnTo>
                <a:lnTo>
                  <a:pt x="62" y="329"/>
                </a:lnTo>
                <a:lnTo>
                  <a:pt x="59" y="322"/>
                </a:lnTo>
                <a:lnTo>
                  <a:pt x="59" y="312"/>
                </a:lnTo>
                <a:lnTo>
                  <a:pt x="59" y="290"/>
                </a:lnTo>
                <a:lnTo>
                  <a:pt x="64" y="248"/>
                </a:lnTo>
                <a:lnTo>
                  <a:pt x="67" y="237"/>
                </a:lnTo>
                <a:lnTo>
                  <a:pt x="57" y="230"/>
                </a:lnTo>
                <a:lnTo>
                  <a:pt x="40" y="216"/>
                </a:lnTo>
                <a:lnTo>
                  <a:pt x="13" y="192"/>
                </a:lnTo>
                <a:lnTo>
                  <a:pt x="5" y="177"/>
                </a:lnTo>
                <a:lnTo>
                  <a:pt x="0" y="157"/>
                </a:lnTo>
                <a:lnTo>
                  <a:pt x="0" y="145"/>
                </a:lnTo>
                <a:lnTo>
                  <a:pt x="14" y="137"/>
                </a:lnTo>
                <a:lnTo>
                  <a:pt x="39" y="119"/>
                </a:lnTo>
                <a:lnTo>
                  <a:pt x="91" y="79"/>
                </a:lnTo>
                <a:lnTo>
                  <a:pt x="193" y="36"/>
                </a:lnTo>
                <a:lnTo>
                  <a:pt x="233" y="24"/>
                </a:lnTo>
                <a:lnTo>
                  <a:pt x="242" y="22"/>
                </a:lnTo>
                <a:lnTo>
                  <a:pt x="267" y="17"/>
                </a:lnTo>
                <a:lnTo>
                  <a:pt x="336" y="5"/>
                </a:lnTo>
                <a:lnTo>
                  <a:pt x="407" y="0"/>
                </a:lnTo>
                <a:lnTo>
                  <a:pt x="42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Freeform 169"/>
          <p:cNvSpPr/>
          <p:nvPr/>
        </p:nvSpPr>
        <p:spPr>
          <a:xfrm>
            <a:off x="4403880" y="2216160"/>
            <a:ext cx="425160" cy="276120"/>
          </a:xfrm>
          <a:custGeom>
            <a:avLst/>
            <a:gdLst>
              <a:gd name="textAreaLeft" fmla="*/ 0 w 425160"/>
              <a:gd name="textAreaRight" fmla="*/ 425520 w 425160"/>
              <a:gd name="textAreaTop" fmla="*/ 0 h 276120"/>
              <a:gd name="textAreaBottom" fmla="*/ 276480 h 276120"/>
            </a:gdLst>
            <a:ahLst/>
            <a:rect l="textAreaLeft" t="textAreaTop" r="textAreaRight" b="textAreaBottom"/>
            <a:pathLst>
              <a:path w="538" h="348">
                <a:moveTo>
                  <a:pt x="422" y="0"/>
                </a:moveTo>
                <a:lnTo>
                  <a:pt x="455" y="5"/>
                </a:lnTo>
                <a:lnTo>
                  <a:pt x="496" y="16"/>
                </a:lnTo>
                <a:lnTo>
                  <a:pt x="506" y="22"/>
                </a:lnTo>
                <a:lnTo>
                  <a:pt x="509" y="26"/>
                </a:lnTo>
                <a:lnTo>
                  <a:pt x="511" y="29"/>
                </a:lnTo>
                <a:lnTo>
                  <a:pt x="511" y="33"/>
                </a:lnTo>
                <a:lnTo>
                  <a:pt x="511" y="38"/>
                </a:lnTo>
                <a:lnTo>
                  <a:pt x="510" y="42"/>
                </a:lnTo>
                <a:lnTo>
                  <a:pt x="507" y="53"/>
                </a:lnTo>
                <a:lnTo>
                  <a:pt x="496" y="78"/>
                </a:lnTo>
                <a:lnTo>
                  <a:pt x="489" y="110"/>
                </a:lnTo>
                <a:lnTo>
                  <a:pt x="489" y="119"/>
                </a:lnTo>
                <a:lnTo>
                  <a:pt x="481" y="123"/>
                </a:lnTo>
                <a:lnTo>
                  <a:pt x="473" y="128"/>
                </a:lnTo>
                <a:lnTo>
                  <a:pt x="468" y="135"/>
                </a:lnTo>
                <a:lnTo>
                  <a:pt x="464" y="143"/>
                </a:lnTo>
                <a:lnTo>
                  <a:pt x="460" y="151"/>
                </a:lnTo>
                <a:lnTo>
                  <a:pt x="459" y="170"/>
                </a:lnTo>
                <a:lnTo>
                  <a:pt x="464" y="185"/>
                </a:lnTo>
                <a:lnTo>
                  <a:pt x="468" y="190"/>
                </a:lnTo>
                <a:lnTo>
                  <a:pt x="474" y="193"/>
                </a:lnTo>
                <a:lnTo>
                  <a:pt x="482" y="194"/>
                </a:lnTo>
                <a:lnTo>
                  <a:pt x="487" y="200"/>
                </a:lnTo>
                <a:lnTo>
                  <a:pt x="504" y="218"/>
                </a:lnTo>
                <a:lnTo>
                  <a:pt x="517" y="231"/>
                </a:lnTo>
                <a:lnTo>
                  <a:pt x="518" y="231"/>
                </a:lnTo>
                <a:lnTo>
                  <a:pt x="526" y="232"/>
                </a:lnTo>
                <a:lnTo>
                  <a:pt x="531" y="234"/>
                </a:lnTo>
                <a:lnTo>
                  <a:pt x="536" y="236"/>
                </a:lnTo>
                <a:lnTo>
                  <a:pt x="537" y="240"/>
                </a:lnTo>
                <a:lnTo>
                  <a:pt x="538" y="244"/>
                </a:lnTo>
                <a:lnTo>
                  <a:pt x="536" y="249"/>
                </a:lnTo>
                <a:lnTo>
                  <a:pt x="533" y="255"/>
                </a:lnTo>
                <a:lnTo>
                  <a:pt x="525" y="269"/>
                </a:lnTo>
                <a:lnTo>
                  <a:pt x="513" y="282"/>
                </a:lnTo>
                <a:lnTo>
                  <a:pt x="483" y="311"/>
                </a:lnTo>
                <a:lnTo>
                  <a:pt x="440" y="348"/>
                </a:lnTo>
                <a:lnTo>
                  <a:pt x="436" y="348"/>
                </a:lnTo>
                <a:lnTo>
                  <a:pt x="434" y="347"/>
                </a:lnTo>
                <a:lnTo>
                  <a:pt x="430" y="345"/>
                </a:lnTo>
                <a:lnTo>
                  <a:pt x="427" y="342"/>
                </a:lnTo>
                <a:lnTo>
                  <a:pt x="423" y="336"/>
                </a:lnTo>
                <a:lnTo>
                  <a:pt x="411" y="318"/>
                </a:lnTo>
                <a:lnTo>
                  <a:pt x="394" y="302"/>
                </a:lnTo>
                <a:lnTo>
                  <a:pt x="368" y="291"/>
                </a:lnTo>
                <a:lnTo>
                  <a:pt x="328" y="292"/>
                </a:lnTo>
                <a:lnTo>
                  <a:pt x="302" y="298"/>
                </a:lnTo>
                <a:lnTo>
                  <a:pt x="292" y="302"/>
                </a:lnTo>
                <a:lnTo>
                  <a:pt x="275" y="311"/>
                </a:lnTo>
                <a:lnTo>
                  <a:pt x="260" y="322"/>
                </a:lnTo>
                <a:lnTo>
                  <a:pt x="225" y="341"/>
                </a:lnTo>
                <a:lnTo>
                  <a:pt x="186" y="348"/>
                </a:lnTo>
                <a:lnTo>
                  <a:pt x="183" y="347"/>
                </a:lnTo>
                <a:lnTo>
                  <a:pt x="181" y="345"/>
                </a:lnTo>
                <a:lnTo>
                  <a:pt x="180" y="342"/>
                </a:lnTo>
                <a:lnTo>
                  <a:pt x="175" y="334"/>
                </a:lnTo>
                <a:lnTo>
                  <a:pt x="163" y="314"/>
                </a:lnTo>
                <a:lnTo>
                  <a:pt x="155" y="305"/>
                </a:lnTo>
                <a:lnTo>
                  <a:pt x="154" y="306"/>
                </a:lnTo>
                <a:lnTo>
                  <a:pt x="153" y="307"/>
                </a:lnTo>
                <a:lnTo>
                  <a:pt x="147" y="310"/>
                </a:lnTo>
                <a:lnTo>
                  <a:pt x="131" y="320"/>
                </a:lnTo>
                <a:lnTo>
                  <a:pt x="91" y="342"/>
                </a:lnTo>
                <a:lnTo>
                  <a:pt x="69" y="335"/>
                </a:lnTo>
                <a:lnTo>
                  <a:pt x="65" y="334"/>
                </a:lnTo>
                <a:lnTo>
                  <a:pt x="62" y="329"/>
                </a:lnTo>
                <a:lnTo>
                  <a:pt x="59" y="322"/>
                </a:lnTo>
                <a:lnTo>
                  <a:pt x="59" y="312"/>
                </a:lnTo>
                <a:lnTo>
                  <a:pt x="59" y="290"/>
                </a:lnTo>
                <a:lnTo>
                  <a:pt x="64" y="248"/>
                </a:lnTo>
                <a:lnTo>
                  <a:pt x="67" y="237"/>
                </a:lnTo>
                <a:lnTo>
                  <a:pt x="57" y="230"/>
                </a:lnTo>
                <a:lnTo>
                  <a:pt x="40" y="216"/>
                </a:lnTo>
                <a:lnTo>
                  <a:pt x="13" y="192"/>
                </a:lnTo>
                <a:lnTo>
                  <a:pt x="5" y="177"/>
                </a:lnTo>
                <a:lnTo>
                  <a:pt x="0" y="157"/>
                </a:lnTo>
                <a:lnTo>
                  <a:pt x="0" y="145"/>
                </a:lnTo>
                <a:lnTo>
                  <a:pt x="14" y="137"/>
                </a:lnTo>
                <a:lnTo>
                  <a:pt x="39" y="119"/>
                </a:lnTo>
                <a:lnTo>
                  <a:pt x="91" y="79"/>
                </a:lnTo>
                <a:lnTo>
                  <a:pt x="193" y="36"/>
                </a:lnTo>
                <a:lnTo>
                  <a:pt x="233" y="24"/>
                </a:lnTo>
                <a:lnTo>
                  <a:pt x="242" y="22"/>
                </a:lnTo>
                <a:lnTo>
                  <a:pt x="267" y="17"/>
                </a:lnTo>
                <a:lnTo>
                  <a:pt x="336" y="5"/>
                </a:lnTo>
                <a:lnTo>
                  <a:pt x="407" y="0"/>
                </a:lnTo>
                <a:lnTo>
                  <a:pt x="422"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Freeform 170"/>
          <p:cNvSpPr/>
          <p:nvPr/>
        </p:nvSpPr>
        <p:spPr>
          <a:xfrm>
            <a:off x="4589640" y="2763720"/>
            <a:ext cx="914400" cy="1103400"/>
          </a:xfrm>
          <a:custGeom>
            <a:avLst/>
            <a:gdLst>
              <a:gd name="textAreaLeft" fmla="*/ 0 w 914400"/>
              <a:gd name="textAreaRight" fmla="*/ 914760 w 914400"/>
              <a:gd name="textAreaTop" fmla="*/ 0 h 1103400"/>
              <a:gd name="textAreaBottom" fmla="*/ 1103760 h 1103400"/>
            </a:gdLst>
            <a:ahLst/>
            <a:rect l="textAreaLeft" t="textAreaTop" r="textAreaRight" b="textAreaBottom"/>
            <a:pathLst>
              <a:path w="1152" h="1391">
                <a:moveTo>
                  <a:pt x="468" y="0"/>
                </a:moveTo>
                <a:lnTo>
                  <a:pt x="469" y="4"/>
                </a:lnTo>
                <a:lnTo>
                  <a:pt x="471" y="11"/>
                </a:lnTo>
                <a:lnTo>
                  <a:pt x="483" y="29"/>
                </a:lnTo>
                <a:lnTo>
                  <a:pt x="524" y="81"/>
                </a:lnTo>
                <a:lnTo>
                  <a:pt x="627" y="204"/>
                </a:lnTo>
                <a:lnTo>
                  <a:pt x="683" y="268"/>
                </a:lnTo>
                <a:lnTo>
                  <a:pt x="699" y="285"/>
                </a:lnTo>
                <a:lnTo>
                  <a:pt x="721" y="298"/>
                </a:lnTo>
                <a:lnTo>
                  <a:pt x="769" y="323"/>
                </a:lnTo>
                <a:lnTo>
                  <a:pt x="874" y="375"/>
                </a:lnTo>
                <a:lnTo>
                  <a:pt x="942" y="443"/>
                </a:lnTo>
                <a:lnTo>
                  <a:pt x="945" y="460"/>
                </a:lnTo>
                <a:lnTo>
                  <a:pt x="947" y="496"/>
                </a:lnTo>
                <a:lnTo>
                  <a:pt x="945" y="538"/>
                </a:lnTo>
                <a:lnTo>
                  <a:pt x="942" y="623"/>
                </a:lnTo>
                <a:lnTo>
                  <a:pt x="957" y="674"/>
                </a:lnTo>
                <a:lnTo>
                  <a:pt x="973" y="698"/>
                </a:lnTo>
                <a:lnTo>
                  <a:pt x="1013" y="738"/>
                </a:lnTo>
                <a:lnTo>
                  <a:pt x="1056" y="772"/>
                </a:lnTo>
                <a:lnTo>
                  <a:pt x="1130" y="841"/>
                </a:lnTo>
                <a:lnTo>
                  <a:pt x="1152" y="915"/>
                </a:lnTo>
                <a:lnTo>
                  <a:pt x="1139" y="917"/>
                </a:lnTo>
                <a:lnTo>
                  <a:pt x="1131" y="920"/>
                </a:lnTo>
                <a:lnTo>
                  <a:pt x="1123" y="925"/>
                </a:lnTo>
                <a:lnTo>
                  <a:pt x="1118" y="932"/>
                </a:lnTo>
                <a:lnTo>
                  <a:pt x="1113" y="939"/>
                </a:lnTo>
                <a:lnTo>
                  <a:pt x="1107" y="952"/>
                </a:lnTo>
                <a:lnTo>
                  <a:pt x="1104" y="957"/>
                </a:lnTo>
                <a:lnTo>
                  <a:pt x="1103" y="958"/>
                </a:lnTo>
                <a:lnTo>
                  <a:pt x="1101" y="960"/>
                </a:lnTo>
                <a:lnTo>
                  <a:pt x="1098" y="960"/>
                </a:lnTo>
                <a:lnTo>
                  <a:pt x="1096" y="960"/>
                </a:lnTo>
                <a:lnTo>
                  <a:pt x="1093" y="959"/>
                </a:lnTo>
                <a:lnTo>
                  <a:pt x="1091" y="958"/>
                </a:lnTo>
                <a:lnTo>
                  <a:pt x="1087" y="955"/>
                </a:lnTo>
                <a:lnTo>
                  <a:pt x="1083" y="951"/>
                </a:lnTo>
                <a:lnTo>
                  <a:pt x="1081" y="950"/>
                </a:lnTo>
                <a:lnTo>
                  <a:pt x="1068" y="941"/>
                </a:lnTo>
                <a:lnTo>
                  <a:pt x="1024" y="910"/>
                </a:lnTo>
                <a:lnTo>
                  <a:pt x="990" y="887"/>
                </a:lnTo>
                <a:lnTo>
                  <a:pt x="989" y="885"/>
                </a:lnTo>
                <a:lnTo>
                  <a:pt x="986" y="896"/>
                </a:lnTo>
                <a:lnTo>
                  <a:pt x="984" y="921"/>
                </a:lnTo>
                <a:lnTo>
                  <a:pt x="985" y="952"/>
                </a:lnTo>
                <a:lnTo>
                  <a:pt x="992" y="1016"/>
                </a:lnTo>
                <a:lnTo>
                  <a:pt x="998" y="1056"/>
                </a:lnTo>
                <a:lnTo>
                  <a:pt x="1024" y="1072"/>
                </a:lnTo>
                <a:lnTo>
                  <a:pt x="1059" y="1101"/>
                </a:lnTo>
                <a:lnTo>
                  <a:pt x="1073" y="1126"/>
                </a:lnTo>
                <a:lnTo>
                  <a:pt x="1078" y="1152"/>
                </a:lnTo>
                <a:lnTo>
                  <a:pt x="1087" y="1181"/>
                </a:lnTo>
                <a:lnTo>
                  <a:pt x="1109" y="1217"/>
                </a:lnTo>
                <a:lnTo>
                  <a:pt x="1130" y="1237"/>
                </a:lnTo>
                <a:lnTo>
                  <a:pt x="1128" y="1244"/>
                </a:lnTo>
                <a:lnTo>
                  <a:pt x="1127" y="1258"/>
                </a:lnTo>
                <a:lnTo>
                  <a:pt x="1124" y="1289"/>
                </a:lnTo>
                <a:lnTo>
                  <a:pt x="1121" y="1315"/>
                </a:lnTo>
                <a:lnTo>
                  <a:pt x="1121" y="1320"/>
                </a:lnTo>
                <a:lnTo>
                  <a:pt x="1096" y="1321"/>
                </a:lnTo>
                <a:lnTo>
                  <a:pt x="1061" y="1326"/>
                </a:lnTo>
                <a:lnTo>
                  <a:pt x="1015" y="1338"/>
                </a:lnTo>
                <a:lnTo>
                  <a:pt x="961" y="1336"/>
                </a:lnTo>
                <a:lnTo>
                  <a:pt x="942" y="1331"/>
                </a:lnTo>
                <a:lnTo>
                  <a:pt x="910" y="1326"/>
                </a:lnTo>
                <a:lnTo>
                  <a:pt x="846" y="1326"/>
                </a:lnTo>
                <a:lnTo>
                  <a:pt x="782" y="1339"/>
                </a:lnTo>
                <a:lnTo>
                  <a:pt x="653" y="1377"/>
                </a:lnTo>
                <a:lnTo>
                  <a:pt x="560" y="1391"/>
                </a:lnTo>
                <a:lnTo>
                  <a:pt x="558" y="1385"/>
                </a:lnTo>
                <a:lnTo>
                  <a:pt x="553" y="1379"/>
                </a:lnTo>
                <a:lnTo>
                  <a:pt x="545" y="1374"/>
                </a:lnTo>
                <a:lnTo>
                  <a:pt x="535" y="1370"/>
                </a:lnTo>
                <a:lnTo>
                  <a:pt x="508" y="1363"/>
                </a:lnTo>
                <a:lnTo>
                  <a:pt x="474" y="1360"/>
                </a:lnTo>
                <a:lnTo>
                  <a:pt x="393" y="1360"/>
                </a:lnTo>
                <a:lnTo>
                  <a:pt x="242" y="1370"/>
                </a:lnTo>
                <a:lnTo>
                  <a:pt x="207" y="1372"/>
                </a:lnTo>
                <a:lnTo>
                  <a:pt x="195" y="1348"/>
                </a:lnTo>
                <a:lnTo>
                  <a:pt x="179" y="1311"/>
                </a:lnTo>
                <a:lnTo>
                  <a:pt x="150" y="1261"/>
                </a:lnTo>
                <a:lnTo>
                  <a:pt x="97" y="1203"/>
                </a:lnTo>
                <a:lnTo>
                  <a:pt x="75" y="1182"/>
                </a:lnTo>
                <a:lnTo>
                  <a:pt x="74" y="1182"/>
                </a:lnTo>
                <a:lnTo>
                  <a:pt x="72" y="1182"/>
                </a:lnTo>
                <a:lnTo>
                  <a:pt x="69" y="1181"/>
                </a:lnTo>
                <a:lnTo>
                  <a:pt x="67" y="1181"/>
                </a:lnTo>
                <a:lnTo>
                  <a:pt x="67" y="1180"/>
                </a:lnTo>
                <a:lnTo>
                  <a:pt x="67" y="1177"/>
                </a:lnTo>
                <a:lnTo>
                  <a:pt x="68" y="1169"/>
                </a:lnTo>
                <a:lnTo>
                  <a:pt x="71" y="1154"/>
                </a:lnTo>
                <a:lnTo>
                  <a:pt x="76" y="1134"/>
                </a:lnTo>
                <a:lnTo>
                  <a:pt x="77" y="1128"/>
                </a:lnTo>
                <a:lnTo>
                  <a:pt x="72" y="1125"/>
                </a:lnTo>
                <a:lnTo>
                  <a:pt x="61" y="1117"/>
                </a:lnTo>
                <a:lnTo>
                  <a:pt x="35" y="1100"/>
                </a:lnTo>
                <a:lnTo>
                  <a:pt x="7" y="1087"/>
                </a:lnTo>
                <a:lnTo>
                  <a:pt x="0" y="1086"/>
                </a:lnTo>
                <a:lnTo>
                  <a:pt x="1" y="1072"/>
                </a:lnTo>
                <a:lnTo>
                  <a:pt x="10" y="1047"/>
                </a:lnTo>
                <a:lnTo>
                  <a:pt x="24" y="1026"/>
                </a:lnTo>
                <a:lnTo>
                  <a:pt x="40" y="1008"/>
                </a:lnTo>
                <a:lnTo>
                  <a:pt x="55" y="992"/>
                </a:lnTo>
                <a:lnTo>
                  <a:pt x="66" y="974"/>
                </a:lnTo>
                <a:lnTo>
                  <a:pt x="69" y="964"/>
                </a:lnTo>
                <a:lnTo>
                  <a:pt x="70" y="944"/>
                </a:lnTo>
                <a:lnTo>
                  <a:pt x="67" y="895"/>
                </a:lnTo>
                <a:lnTo>
                  <a:pt x="44" y="782"/>
                </a:lnTo>
                <a:lnTo>
                  <a:pt x="14" y="692"/>
                </a:lnTo>
                <a:lnTo>
                  <a:pt x="9" y="678"/>
                </a:lnTo>
                <a:lnTo>
                  <a:pt x="13" y="671"/>
                </a:lnTo>
                <a:lnTo>
                  <a:pt x="25" y="655"/>
                </a:lnTo>
                <a:lnTo>
                  <a:pt x="53" y="622"/>
                </a:lnTo>
                <a:lnTo>
                  <a:pt x="86" y="579"/>
                </a:lnTo>
                <a:lnTo>
                  <a:pt x="97" y="566"/>
                </a:lnTo>
                <a:lnTo>
                  <a:pt x="98" y="562"/>
                </a:lnTo>
                <a:lnTo>
                  <a:pt x="102" y="553"/>
                </a:lnTo>
                <a:lnTo>
                  <a:pt x="113" y="537"/>
                </a:lnTo>
                <a:lnTo>
                  <a:pt x="129" y="523"/>
                </a:lnTo>
                <a:lnTo>
                  <a:pt x="135" y="519"/>
                </a:lnTo>
                <a:lnTo>
                  <a:pt x="146" y="528"/>
                </a:lnTo>
                <a:lnTo>
                  <a:pt x="165" y="538"/>
                </a:lnTo>
                <a:lnTo>
                  <a:pt x="182" y="540"/>
                </a:lnTo>
                <a:lnTo>
                  <a:pt x="197" y="535"/>
                </a:lnTo>
                <a:lnTo>
                  <a:pt x="208" y="525"/>
                </a:lnTo>
                <a:lnTo>
                  <a:pt x="218" y="511"/>
                </a:lnTo>
                <a:lnTo>
                  <a:pt x="223" y="503"/>
                </a:lnTo>
                <a:lnTo>
                  <a:pt x="221" y="498"/>
                </a:lnTo>
                <a:lnTo>
                  <a:pt x="219" y="494"/>
                </a:lnTo>
                <a:lnTo>
                  <a:pt x="212" y="483"/>
                </a:lnTo>
                <a:lnTo>
                  <a:pt x="199" y="450"/>
                </a:lnTo>
                <a:lnTo>
                  <a:pt x="204" y="394"/>
                </a:lnTo>
                <a:lnTo>
                  <a:pt x="224" y="386"/>
                </a:lnTo>
                <a:lnTo>
                  <a:pt x="253" y="369"/>
                </a:lnTo>
                <a:lnTo>
                  <a:pt x="271" y="346"/>
                </a:lnTo>
                <a:lnTo>
                  <a:pt x="282" y="315"/>
                </a:lnTo>
                <a:lnTo>
                  <a:pt x="293" y="275"/>
                </a:lnTo>
                <a:lnTo>
                  <a:pt x="309" y="225"/>
                </a:lnTo>
                <a:lnTo>
                  <a:pt x="322" y="196"/>
                </a:lnTo>
                <a:lnTo>
                  <a:pt x="326" y="196"/>
                </a:lnTo>
                <a:lnTo>
                  <a:pt x="332" y="193"/>
                </a:lnTo>
                <a:lnTo>
                  <a:pt x="337" y="190"/>
                </a:lnTo>
                <a:lnTo>
                  <a:pt x="351" y="179"/>
                </a:lnTo>
                <a:lnTo>
                  <a:pt x="382" y="145"/>
                </a:lnTo>
                <a:lnTo>
                  <a:pt x="443" y="58"/>
                </a:lnTo>
                <a:lnTo>
                  <a:pt x="4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Freeform 171"/>
          <p:cNvSpPr/>
          <p:nvPr/>
        </p:nvSpPr>
        <p:spPr>
          <a:xfrm>
            <a:off x="4589640" y="2763720"/>
            <a:ext cx="914400" cy="1103400"/>
          </a:xfrm>
          <a:custGeom>
            <a:avLst/>
            <a:gdLst>
              <a:gd name="textAreaLeft" fmla="*/ 0 w 914400"/>
              <a:gd name="textAreaRight" fmla="*/ 914760 w 914400"/>
              <a:gd name="textAreaTop" fmla="*/ 0 h 1103400"/>
              <a:gd name="textAreaBottom" fmla="*/ 1103760 h 1103400"/>
            </a:gdLst>
            <a:ahLst/>
            <a:rect l="textAreaLeft" t="textAreaTop" r="textAreaRight" b="textAreaBottom"/>
            <a:pathLst>
              <a:path w="1152" h="1391">
                <a:moveTo>
                  <a:pt x="468" y="0"/>
                </a:moveTo>
                <a:lnTo>
                  <a:pt x="469" y="4"/>
                </a:lnTo>
                <a:lnTo>
                  <a:pt x="471" y="11"/>
                </a:lnTo>
                <a:lnTo>
                  <a:pt x="483" y="29"/>
                </a:lnTo>
                <a:lnTo>
                  <a:pt x="524" y="81"/>
                </a:lnTo>
                <a:lnTo>
                  <a:pt x="627" y="204"/>
                </a:lnTo>
                <a:lnTo>
                  <a:pt x="683" y="268"/>
                </a:lnTo>
                <a:lnTo>
                  <a:pt x="699" y="285"/>
                </a:lnTo>
                <a:lnTo>
                  <a:pt x="721" y="298"/>
                </a:lnTo>
                <a:lnTo>
                  <a:pt x="769" y="323"/>
                </a:lnTo>
                <a:lnTo>
                  <a:pt x="874" y="375"/>
                </a:lnTo>
                <a:lnTo>
                  <a:pt x="942" y="443"/>
                </a:lnTo>
                <a:lnTo>
                  <a:pt x="945" y="460"/>
                </a:lnTo>
                <a:lnTo>
                  <a:pt x="947" y="496"/>
                </a:lnTo>
                <a:lnTo>
                  <a:pt x="945" y="538"/>
                </a:lnTo>
                <a:lnTo>
                  <a:pt x="942" y="623"/>
                </a:lnTo>
                <a:lnTo>
                  <a:pt x="957" y="674"/>
                </a:lnTo>
                <a:lnTo>
                  <a:pt x="973" y="698"/>
                </a:lnTo>
                <a:lnTo>
                  <a:pt x="1013" y="738"/>
                </a:lnTo>
                <a:lnTo>
                  <a:pt x="1056" y="772"/>
                </a:lnTo>
                <a:lnTo>
                  <a:pt x="1130" y="841"/>
                </a:lnTo>
                <a:lnTo>
                  <a:pt x="1152" y="915"/>
                </a:lnTo>
                <a:lnTo>
                  <a:pt x="1139" y="917"/>
                </a:lnTo>
                <a:lnTo>
                  <a:pt x="1131" y="920"/>
                </a:lnTo>
                <a:lnTo>
                  <a:pt x="1123" y="925"/>
                </a:lnTo>
                <a:lnTo>
                  <a:pt x="1118" y="932"/>
                </a:lnTo>
                <a:lnTo>
                  <a:pt x="1113" y="939"/>
                </a:lnTo>
                <a:lnTo>
                  <a:pt x="1107" y="952"/>
                </a:lnTo>
                <a:lnTo>
                  <a:pt x="1104" y="957"/>
                </a:lnTo>
                <a:lnTo>
                  <a:pt x="1103" y="958"/>
                </a:lnTo>
                <a:lnTo>
                  <a:pt x="1101" y="960"/>
                </a:lnTo>
                <a:lnTo>
                  <a:pt x="1098" y="960"/>
                </a:lnTo>
                <a:lnTo>
                  <a:pt x="1096" y="960"/>
                </a:lnTo>
                <a:lnTo>
                  <a:pt x="1093" y="959"/>
                </a:lnTo>
                <a:lnTo>
                  <a:pt x="1091" y="958"/>
                </a:lnTo>
                <a:lnTo>
                  <a:pt x="1087" y="955"/>
                </a:lnTo>
                <a:lnTo>
                  <a:pt x="1083" y="951"/>
                </a:lnTo>
                <a:lnTo>
                  <a:pt x="1081" y="950"/>
                </a:lnTo>
                <a:lnTo>
                  <a:pt x="1068" y="941"/>
                </a:lnTo>
                <a:lnTo>
                  <a:pt x="1024" y="910"/>
                </a:lnTo>
                <a:lnTo>
                  <a:pt x="990" y="887"/>
                </a:lnTo>
                <a:lnTo>
                  <a:pt x="989" y="885"/>
                </a:lnTo>
                <a:lnTo>
                  <a:pt x="986" y="896"/>
                </a:lnTo>
                <a:lnTo>
                  <a:pt x="984" y="921"/>
                </a:lnTo>
                <a:lnTo>
                  <a:pt x="985" y="952"/>
                </a:lnTo>
                <a:lnTo>
                  <a:pt x="992" y="1016"/>
                </a:lnTo>
                <a:lnTo>
                  <a:pt x="998" y="1056"/>
                </a:lnTo>
                <a:lnTo>
                  <a:pt x="1024" y="1072"/>
                </a:lnTo>
                <a:lnTo>
                  <a:pt x="1059" y="1101"/>
                </a:lnTo>
                <a:lnTo>
                  <a:pt x="1073" y="1126"/>
                </a:lnTo>
                <a:lnTo>
                  <a:pt x="1078" y="1152"/>
                </a:lnTo>
                <a:lnTo>
                  <a:pt x="1087" y="1181"/>
                </a:lnTo>
                <a:lnTo>
                  <a:pt x="1109" y="1217"/>
                </a:lnTo>
                <a:lnTo>
                  <a:pt x="1130" y="1237"/>
                </a:lnTo>
                <a:lnTo>
                  <a:pt x="1128" y="1244"/>
                </a:lnTo>
                <a:lnTo>
                  <a:pt x="1127" y="1258"/>
                </a:lnTo>
                <a:lnTo>
                  <a:pt x="1124" y="1289"/>
                </a:lnTo>
                <a:lnTo>
                  <a:pt x="1121" y="1315"/>
                </a:lnTo>
                <a:lnTo>
                  <a:pt x="1121" y="1320"/>
                </a:lnTo>
                <a:lnTo>
                  <a:pt x="1096" y="1321"/>
                </a:lnTo>
                <a:lnTo>
                  <a:pt x="1061" y="1326"/>
                </a:lnTo>
                <a:lnTo>
                  <a:pt x="1015" y="1338"/>
                </a:lnTo>
                <a:lnTo>
                  <a:pt x="961" y="1336"/>
                </a:lnTo>
                <a:lnTo>
                  <a:pt x="942" y="1331"/>
                </a:lnTo>
                <a:lnTo>
                  <a:pt x="910" y="1326"/>
                </a:lnTo>
                <a:lnTo>
                  <a:pt x="846" y="1326"/>
                </a:lnTo>
                <a:lnTo>
                  <a:pt x="782" y="1339"/>
                </a:lnTo>
                <a:lnTo>
                  <a:pt x="653" y="1377"/>
                </a:lnTo>
                <a:lnTo>
                  <a:pt x="560" y="1391"/>
                </a:lnTo>
                <a:lnTo>
                  <a:pt x="558" y="1385"/>
                </a:lnTo>
                <a:lnTo>
                  <a:pt x="553" y="1379"/>
                </a:lnTo>
                <a:lnTo>
                  <a:pt x="545" y="1374"/>
                </a:lnTo>
                <a:lnTo>
                  <a:pt x="535" y="1370"/>
                </a:lnTo>
                <a:lnTo>
                  <a:pt x="508" y="1363"/>
                </a:lnTo>
                <a:lnTo>
                  <a:pt x="474" y="1360"/>
                </a:lnTo>
                <a:lnTo>
                  <a:pt x="393" y="1360"/>
                </a:lnTo>
                <a:lnTo>
                  <a:pt x="242" y="1370"/>
                </a:lnTo>
                <a:lnTo>
                  <a:pt x="207" y="1372"/>
                </a:lnTo>
                <a:lnTo>
                  <a:pt x="195" y="1348"/>
                </a:lnTo>
                <a:lnTo>
                  <a:pt x="179" y="1311"/>
                </a:lnTo>
                <a:lnTo>
                  <a:pt x="150" y="1261"/>
                </a:lnTo>
                <a:lnTo>
                  <a:pt x="97" y="1203"/>
                </a:lnTo>
                <a:lnTo>
                  <a:pt x="75" y="1182"/>
                </a:lnTo>
                <a:lnTo>
                  <a:pt x="74" y="1182"/>
                </a:lnTo>
                <a:lnTo>
                  <a:pt x="72" y="1182"/>
                </a:lnTo>
                <a:lnTo>
                  <a:pt x="69" y="1181"/>
                </a:lnTo>
                <a:lnTo>
                  <a:pt x="67" y="1181"/>
                </a:lnTo>
                <a:lnTo>
                  <a:pt x="67" y="1180"/>
                </a:lnTo>
                <a:lnTo>
                  <a:pt x="67" y="1177"/>
                </a:lnTo>
                <a:lnTo>
                  <a:pt x="68" y="1169"/>
                </a:lnTo>
                <a:lnTo>
                  <a:pt x="71" y="1154"/>
                </a:lnTo>
                <a:lnTo>
                  <a:pt x="76" y="1134"/>
                </a:lnTo>
                <a:lnTo>
                  <a:pt x="77" y="1128"/>
                </a:lnTo>
                <a:lnTo>
                  <a:pt x="72" y="1125"/>
                </a:lnTo>
                <a:lnTo>
                  <a:pt x="61" y="1117"/>
                </a:lnTo>
                <a:lnTo>
                  <a:pt x="35" y="1100"/>
                </a:lnTo>
                <a:lnTo>
                  <a:pt x="7" y="1087"/>
                </a:lnTo>
                <a:lnTo>
                  <a:pt x="0" y="1086"/>
                </a:lnTo>
                <a:lnTo>
                  <a:pt x="1" y="1072"/>
                </a:lnTo>
                <a:lnTo>
                  <a:pt x="10" y="1047"/>
                </a:lnTo>
                <a:lnTo>
                  <a:pt x="24" y="1026"/>
                </a:lnTo>
                <a:lnTo>
                  <a:pt x="40" y="1008"/>
                </a:lnTo>
                <a:lnTo>
                  <a:pt x="55" y="992"/>
                </a:lnTo>
                <a:lnTo>
                  <a:pt x="66" y="974"/>
                </a:lnTo>
                <a:lnTo>
                  <a:pt x="69" y="964"/>
                </a:lnTo>
                <a:lnTo>
                  <a:pt x="70" y="944"/>
                </a:lnTo>
                <a:lnTo>
                  <a:pt x="67" y="895"/>
                </a:lnTo>
                <a:lnTo>
                  <a:pt x="44" y="782"/>
                </a:lnTo>
                <a:lnTo>
                  <a:pt x="14" y="692"/>
                </a:lnTo>
                <a:lnTo>
                  <a:pt x="9" y="678"/>
                </a:lnTo>
                <a:lnTo>
                  <a:pt x="13" y="671"/>
                </a:lnTo>
                <a:lnTo>
                  <a:pt x="25" y="655"/>
                </a:lnTo>
                <a:lnTo>
                  <a:pt x="53" y="622"/>
                </a:lnTo>
                <a:lnTo>
                  <a:pt x="86" y="579"/>
                </a:lnTo>
                <a:lnTo>
                  <a:pt x="97" y="566"/>
                </a:lnTo>
                <a:lnTo>
                  <a:pt x="98" y="562"/>
                </a:lnTo>
                <a:lnTo>
                  <a:pt x="102" y="553"/>
                </a:lnTo>
                <a:lnTo>
                  <a:pt x="113" y="537"/>
                </a:lnTo>
                <a:lnTo>
                  <a:pt x="129" y="523"/>
                </a:lnTo>
                <a:lnTo>
                  <a:pt x="135" y="519"/>
                </a:lnTo>
                <a:lnTo>
                  <a:pt x="146" y="528"/>
                </a:lnTo>
                <a:lnTo>
                  <a:pt x="165" y="538"/>
                </a:lnTo>
                <a:lnTo>
                  <a:pt x="182" y="540"/>
                </a:lnTo>
                <a:lnTo>
                  <a:pt x="197" y="535"/>
                </a:lnTo>
                <a:lnTo>
                  <a:pt x="208" y="525"/>
                </a:lnTo>
                <a:lnTo>
                  <a:pt x="218" y="511"/>
                </a:lnTo>
                <a:lnTo>
                  <a:pt x="223" y="503"/>
                </a:lnTo>
                <a:lnTo>
                  <a:pt x="221" y="498"/>
                </a:lnTo>
                <a:lnTo>
                  <a:pt x="219" y="494"/>
                </a:lnTo>
                <a:lnTo>
                  <a:pt x="212" y="483"/>
                </a:lnTo>
                <a:lnTo>
                  <a:pt x="199" y="450"/>
                </a:lnTo>
                <a:lnTo>
                  <a:pt x="204" y="394"/>
                </a:lnTo>
                <a:lnTo>
                  <a:pt x="224" y="386"/>
                </a:lnTo>
                <a:lnTo>
                  <a:pt x="253" y="369"/>
                </a:lnTo>
                <a:lnTo>
                  <a:pt x="271" y="346"/>
                </a:lnTo>
                <a:lnTo>
                  <a:pt x="282" y="315"/>
                </a:lnTo>
                <a:lnTo>
                  <a:pt x="293" y="275"/>
                </a:lnTo>
                <a:lnTo>
                  <a:pt x="309" y="225"/>
                </a:lnTo>
                <a:lnTo>
                  <a:pt x="322" y="196"/>
                </a:lnTo>
                <a:lnTo>
                  <a:pt x="326" y="196"/>
                </a:lnTo>
                <a:lnTo>
                  <a:pt x="332" y="193"/>
                </a:lnTo>
                <a:lnTo>
                  <a:pt x="337" y="190"/>
                </a:lnTo>
                <a:lnTo>
                  <a:pt x="351" y="179"/>
                </a:lnTo>
                <a:lnTo>
                  <a:pt x="382" y="145"/>
                </a:lnTo>
                <a:lnTo>
                  <a:pt x="443" y="58"/>
                </a:lnTo>
                <a:lnTo>
                  <a:pt x="468"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Freeform 172"/>
          <p:cNvSpPr/>
          <p:nvPr/>
        </p:nvSpPr>
        <p:spPr>
          <a:xfrm>
            <a:off x="4565520" y="3811680"/>
            <a:ext cx="1359000" cy="933480"/>
          </a:xfrm>
          <a:custGeom>
            <a:avLst/>
            <a:gdLst>
              <a:gd name="textAreaLeft" fmla="*/ 0 w 1359000"/>
              <a:gd name="textAreaRight" fmla="*/ 1359000 w 1359000"/>
              <a:gd name="textAreaTop" fmla="*/ 0 h 933480"/>
              <a:gd name="textAreaBottom" fmla="*/ 933840 h 933480"/>
            </a:gdLst>
            <a:ahLst/>
            <a:rect l="textAreaLeft" t="textAreaTop" r="textAreaRight" b="textAreaBottom"/>
            <a:pathLst>
              <a:path w="1712" h="1175">
                <a:moveTo>
                  <a:pt x="1701" y="744"/>
                </a:moveTo>
                <a:lnTo>
                  <a:pt x="1701" y="732"/>
                </a:lnTo>
                <a:lnTo>
                  <a:pt x="1702" y="640"/>
                </a:lnTo>
                <a:lnTo>
                  <a:pt x="1708" y="328"/>
                </a:lnTo>
                <a:lnTo>
                  <a:pt x="1711" y="88"/>
                </a:lnTo>
                <a:lnTo>
                  <a:pt x="1712" y="75"/>
                </a:lnTo>
                <a:lnTo>
                  <a:pt x="1711" y="77"/>
                </a:lnTo>
                <a:lnTo>
                  <a:pt x="1709" y="79"/>
                </a:lnTo>
                <a:lnTo>
                  <a:pt x="1706" y="80"/>
                </a:lnTo>
                <a:lnTo>
                  <a:pt x="1703" y="82"/>
                </a:lnTo>
                <a:lnTo>
                  <a:pt x="1696" y="84"/>
                </a:lnTo>
                <a:lnTo>
                  <a:pt x="1686" y="85"/>
                </a:lnTo>
                <a:lnTo>
                  <a:pt x="1661" y="85"/>
                </a:lnTo>
                <a:lnTo>
                  <a:pt x="1606" y="78"/>
                </a:lnTo>
                <a:lnTo>
                  <a:pt x="1580" y="71"/>
                </a:lnTo>
                <a:lnTo>
                  <a:pt x="1529" y="57"/>
                </a:lnTo>
                <a:lnTo>
                  <a:pt x="1455" y="35"/>
                </a:lnTo>
                <a:lnTo>
                  <a:pt x="1372" y="26"/>
                </a:lnTo>
                <a:lnTo>
                  <a:pt x="1314" y="46"/>
                </a:lnTo>
                <a:lnTo>
                  <a:pt x="1295" y="53"/>
                </a:lnTo>
                <a:lnTo>
                  <a:pt x="1281" y="50"/>
                </a:lnTo>
                <a:lnTo>
                  <a:pt x="1267" y="42"/>
                </a:lnTo>
                <a:lnTo>
                  <a:pt x="1238" y="26"/>
                </a:lnTo>
                <a:lnTo>
                  <a:pt x="1156" y="0"/>
                </a:lnTo>
                <a:lnTo>
                  <a:pt x="1019" y="23"/>
                </a:lnTo>
                <a:lnTo>
                  <a:pt x="993" y="16"/>
                </a:lnTo>
                <a:lnTo>
                  <a:pt x="945" y="7"/>
                </a:lnTo>
                <a:lnTo>
                  <a:pt x="852" y="11"/>
                </a:lnTo>
                <a:lnTo>
                  <a:pt x="744" y="40"/>
                </a:lnTo>
                <a:lnTo>
                  <a:pt x="713" y="50"/>
                </a:lnTo>
                <a:lnTo>
                  <a:pt x="710" y="51"/>
                </a:lnTo>
                <a:lnTo>
                  <a:pt x="703" y="52"/>
                </a:lnTo>
                <a:lnTo>
                  <a:pt x="681" y="56"/>
                </a:lnTo>
                <a:lnTo>
                  <a:pt x="622" y="68"/>
                </a:lnTo>
                <a:lnTo>
                  <a:pt x="581" y="80"/>
                </a:lnTo>
                <a:lnTo>
                  <a:pt x="578" y="70"/>
                </a:lnTo>
                <a:lnTo>
                  <a:pt x="573" y="61"/>
                </a:lnTo>
                <a:lnTo>
                  <a:pt x="566" y="54"/>
                </a:lnTo>
                <a:lnTo>
                  <a:pt x="557" y="48"/>
                </a:lnTo>
                <a:lnTo>
                  <a:pt x="545" y="42"/>
                </a:lnTo>
                <a:lnTo>
                  <a:pt x="518" y="36"/>
                </a:lnTo>
                <a:lnTo>
                  <a:pt x="485" y="34"/>
                </a:lnTo>
                <a:lnTo>
                  <a:pt x="410" y="36"/>
                </a:lnTo>
                <a:lnTo>
                  <a:pt x="265" y="49"/>
                </a:lnTo>
                <a:lnTo>
                  <a:pt x="229" y="46"/>
                </a:lnTo>
                <a:lnTo>
                  <a:pt x="230" y="52"/>
                </a:lnTo>
                <a:lnTo>
                  <a:pt x="234" y="63"/>
                </a:lnTo>
                <a:lnTo>
                  <a:pt x="245" y="83"/>
                </a:lnTo>
                <a:lnTo>
                  <a:pt x="254" y="104"/>
                </a:lnTo>
                <a:lnTo>
                  <a:pt x="257" y="108"/>
                </a:lnTo>
                <a:lnTo>
                  <a:pt x="242" y="131"/>
                </a:lnTo>
                <a:lnTo>
                  <a:pt x="209" y="176"/>
                </a:lnTo>
                <a:lnTo>
                  <a:pt x="145" y="266"/>
                </a:lnTo>
                <a:lnTo>
                  <a:pt x="87" y="360"/>
                </a:lnTo>
                <a:lnTo>
                  <a:pt x="75" y="385"/>
                </a:lnTo>
                <a:lnTo>
                  <a:pt x="75" y="393"/>
                </a:lnTo>
                <a:lnTo>
                  <a:pt x="76" y="406"/>
                </a:lnTo>
                <a:lnTo>
                  <a:pt x="81" y="427"/>
                </a:lnTo>
                <a:lnTo>
                  <a:pt x="84" y="455"/>
                </a:lnTo>
                <a:lnTo>
                  <a:pt x="84" y="464"/>
                </a:lnTo>
                <a:lnTo>
                  <a:pt x="82" y="469"/>
                </a:lnTo>
                <a:lnTo>
                  <a:pt x="69" y="498"/>
                </a:lnTo>
                <a:lnTo>
                  <a:pt x="28" y="597"/>
                </a:lnTo>
                <a:lnTo>
                  <a:pt x="0" y="674"/>
                </a:lnTo>
                <a:lnTo>
                  <a:pt x="0" y="678"/>
                </a:lnTo>
                <a:lnTo>
                  <a:pt x="13" y="686"/>
                </a:lnTo>
                <a:lnTo>
                  <a:pt x="50" y="707"/>
                </a:lnTo>
                <a:lnTo>
                  <a:pt x="142" y="752"/>
                </a:lnTo>
                <a:lnTo>
                  <a:pt x="189" y="768"/>
                </a:lnTo>
                <a:lnTo>
                  <a:pt x="229" y="775"/>
                </a:lnTo>
                <a:lnTo>
                  <a:pt x="245" y="773"/>
                </a:lnTo>
                <a:lnTo>
                  <a:pt x="261" y="771"/>
                </a:lnTo>
                <a:lnTo>
                  <a:pt x="294" y="762"/>
                </a:lnTo>
                <a:lnTo>
                  <a:pt x="355" y="730"/>
                </a:lnTo>
                <a:lnTo>
                  <a:pt x="409" y="687"/>
                </a:lnTo>
                <a:lnTo>
                  <a:pt x="421" y="675"/>
                </a:lnTo>
                <a:lnTo>
                  <a:pt x="425" y="677"/>
                </a:lnTo>
                <a:lnTo>
                  <a:pt x="428" y="680"/>
                </a:lnTo>
                <a:lnTo>
                  <a:pt x="439" y="686"/>
                </a:lnTo>
                <a:lnTo>
                  <a:pt x="466" y="706"/>
                </a:lnTo>
                <a:lnTo>
                  <a:pt x="524" y="744"/>
                </a:lnTo>
                <a:lnTo>
                  <a:pt x="548" y="744"/>
                </a:lnTo>
                <a:lnTo>
                  <a:pt x="548" y="739"/>
                </a:lnTo>
                <a:lnTo>
                  <a:pt x="551" y="733"/>
                </a:lnTo>
                <a:lnTo>
                  <a:pt x="556" y="727"/>
                </a:lnTo>
                <a:lnTo>
                  <a:pt x="569" y="713"/>
                </a:lnTo>
                <a:lnTo>
                  <a:pt x="606" y="680"/>
                </a:lnTo>
                <a:lnTo>
                  <a:pt x="695" y="616"/>
                </a:lnTo>
                <a:lnTo>
                  <a:pt x="734" y="584"/>
                </a:lnTo>
                <a:lnTo>
                  <a:pt x="735" y="586"/>
                </a:lnTo>
                <a:lnTo>
                  <a:pt x="736" y="588"/>
                </a:lnTo>
                <a:lnTo>
                  <a:pt x="738" y="591"/>
                </a:lnTo>
                <a:lnTo>
                  <a:pt x="747" y="599"/>
                </a:lnTo>
                <a:lnTo>
                  <a:pt x="772" y="625"/>
                </a:lnTo>
                <a:lnTo>
                  <a:pt x="851" y="692"/>
                </a:lnTo>
                <a:lnTo>
                  <a:pt x="935" y="737"/>
                </a:lnTo>
                <a:lnTo>
                  <a:pt x="944" y="748"/>
                </a:lnTo>
                <a:lnTo>
                  <a:pt x="969" y="767"/>
                </a:lnTo>
                <a:lnTo>
                  <a:pt x="1000" y="785"/>
                </a:lnTo>
                <a:lnTo>
                  <a:pt x="1069" y="827"/>
                </a:lnTo>
                <a:lnTo>
                  <a:pt x="1120" y="871"/>
                </a:lnTo>
                <a:lnTo>
                  <a:pt x="1124" y="883"/>
                </a:lnTo>
                <a:lnTo>
                  <a:pt x="1133" y="909"/>
                </a:lnTo>
                <a:lnTo>
                  <a:pt x="1140" y="965"/>
                </a:lnTo>
                <a:lnTo>
                  <a:pt x="1148" y="1023"/>
                </a:lnTo>
                <a:lnTo>
                  <a:pt x="1151" y="1036"/>
                </a:lnTo>
                <a:lnTo>
                  <a:pt x="1151" y="1058"/>
                </a:lnTo>
                <a:lnTo>
                  <a:pt x="1160" y="1100"/>
                </a:lnTo>
                <a:lnTo>
                  <a:pt x="1178" y="1136"/>
                </a:lnTo>
                <a:lnTo>
                  <a:pt x="1206" y="1161"/>
                </a:lnTo>
                <a:lnTo>
                  <a:pt x="1241" y="1175"/>
                </a:lnTo>
                <a:lnTo>
                  <a:pt x="1284" y="1173"/>
                </a:lnTo>
                <a:lnTo>
                  <a:pt x="1309" y="1165"/>
                </a:lnTo>
                <a:lnTo>
                  <a:pt x="1313" y="1160"/>
                </a:lnTo>
                <a:lnTo>
                  <a:pt x="1323" y="1146"/>
                </a:lnTo>
                <a:lnTo>
                  <a:pt x="1346" y="1114"/>
                </a:lnTo>
                <a:lnTo>
                  <a:pt x="1360" y="1094"/>
                </a:lnTo>
                <a:lnTo>
                  <a:pt x="1361" y="1091"/>
                </a:lnTo>
                <a:lnTo>
                  <a:pt x="1356" y="1079"/>
                </a:lnTo>
                <a:lnTo>
                  <a:pt x="1340" y="1041"/>
                </a:lnTo>
                <a:lnTo>
                  <a:pt x="1327" y="1012"/>
                </a:lnTo>
                <a:lnTo>
                  <a:pt x="1327" y="1010"/>
                </a:lnTo>
                <a:lnTo>
                  <a:pt x="1334" y="1011"/>
                </a:lnTo>
                <a:lnTo>
                  <a:pt x="1350" y="1013"/>
                </a:lnTo>
                <a:lnTo>
                  <a:pt x="1379" y="1022"/>
                </a:lnTo>
                <a:lnTo>
                  <a:pt x="1407" y="1025"/>
                </a:lnTo>
                <a:lnTo>
                  <a:pt x="1415" y="1023"/>
                </a:lnTo>
                <a:lnTo>
                  <a:pt x="1417" y="983"/>
                </a:lnTo>
                <a:lnTo>
                  <a:pt x="1431" y="905"/>
                </a:lnTo>
                <a:lnTo>
                  <a:pt x="1459" y="837"/>
                </a:lnTo>
                <a:lnTo>
                  <a:pt x="1504" y="784"/>
                </a:lnTo>
                <a:lnTo>
                  <a:pt x="1567" y="749"/>
                </a:lnTo>
                <a:lnTo>
                  <a:pt x="1651" y="739"/>
                </a:lnTo>
                <a:lnTo>
                  <a:pt x="1701" y="7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173"/>
          <p:cNvSpPr/>
          <p:nvPr/>
        </p:nvSpPr>
        <p:spPr>
          <a:xfrm>
            <a:off x="4565520" y="3811680"/>
            <a:ext cx="1359000" cy="933480"/>
          </a:xfrm>
          <a:custGeom>
            <a:avLst/>
            <a:gdLst>
              <a:gd name="textAreaLeft" fmla="*/ 0 w 1359000"/>
              <a:gd name="textAreaRight" fmla="*/ 1359000 w 1359000"/>
              <a:gd name="textAreaTop" fmla="*/ 0 h 933480"/>
              <a:gd name="textAreaBottom" fmla="*/ 933840 h 933480"/>
            </a:gdLst>
            <a:ahLst/>
            <a:rect l="textAreaLeft" t="textAreaTop" r="textAreaRight" b="textAreaBottom"/>
            <a:pathLst>
              <a:path w="1712" h="1175">
                <a:moveTo>
                  <a:pt x="1701" y="744"/>
                </a:moveTo>
                <a:lnTo>
                  <a:pt x="1701" y="732"/>
                </a:lnTo>
                <a:lnTo>
                  <a:pt x="1702" y="640"/>
                </a:lnTo>
                <a:lnTo>
                  <a:pt x="1708" y="328"/>
                </a:lnTo>
                <a:lnTo>
                  <a:pt x="1711" y="88"/>
                </a:lnTo>
                <a:lnTo>
                  <a:pt x="1712" y="75"/>
                </a:lnTo>
                <a:lnTo>
                  <a:pt x="1711" y="77"/>
                </a:lnTo>
                <a:lnTo>
                  <a:pt x="1709" y="79"/>
                </a:lnTo>
                <a:lnTo>
                  <a:pt x="1706" y="80"/>
                </a:lnTo>
                <a:lnTo>
                  <a:pt x="1703" y="82"/>
                </a:lnTo>
                <a:lnTo>
                  <a:pt x="1696" y="84"/>
                </a:lnTo>
                <a:lnTo>
                  <a:pt x="1686" y="85"/>
                </a:lnTo>
                <a:lnTo>
                  <a:pt x="1661" y="85"/>
                </a:lnTo>
                <a:lnTo>
                  <a:pt x="1606" y="78"/>
                </a:lnTo>
                <a:lnTo>
                  <a:pt x="1580" y="71"/>
                </a:lnTo>
                <a:lnTo>
                  <a:pt x="1529" y="57"/>
                </a:lnTo>
                <a:lnTo>
                  <a:pt x="1455" y="35"/>
                </a:lnTo>
                <a:lnTo>
                  <a:pt x="1372" y="26"/>
                </a:lnTo>
                <a:lnTo>
                  <a:pt x="1314" y="46"/>
                </a:lnTo>
                <a:lnTo>
                  <a:pt x="1295" y="53"/>
                </a:lnTo>
                <a:lnTo>
                  <a:pt x="1281" y="50"/>
                </a:lnTo>
                <a:lnTo>
                  <a:pt x="1267" y="42"/>
                </a:lnTo>
                <a:lnTo>
                  <a:pt x="1238" y="26"/>
                </a:lnTo>
                <a:lnTo>
                  <a:pt x="1156" y="0"/>
                </a:lnTo>
                <a:lnTo>
                  <a:pt x="1019" y="23"/>
                </a:lnTo>
                <a:lnTo>
                  <a:pt x="993" y="16"/>
                </a:lnTo>
                <a:lnTo>
                  <a:pt x="945" y="7"/>
                </a:lnTo>
                <a:lnTo>
                  <a:pt x="852" y="11"/>
                </a:lnTo>
                <a:lnTo>
                  <a:pt x="744" y="40"/>
                </a:lnTo>
                <a:lnTo>
                  <a:pt x="713" y="50"/>
                </a:lnTo>
                <a:lnTo>
                  <a:pt x="710" y="51"/>
                </a:lnTo>
                <a:lnTo>
                  <a:pt x="703" y="52"/>
                </a:lnTo>
                <a:lnTo>
                  <a:pt x="681" y="56"/>
                </a:lnTo>
                <a:lnTo>
                  <a:pt x="622" y="68"/>
                </a:lnTo>
                <a:lnTo>
                  <a:pt x="581" y="80"/>
                </a:lnTo>
                <a:lnTo>
                  <a:pt x="578" y="70"/>
                </a:lnTo>
                <a:lnTo>
                  <a:pt x="573" y="61"/>
                </a:lnTo>
                <a:lnTo>
                  <a:pt x="566" y="54"/>
                </a:lnTo>
                <a:lnTo>
                  <a:pt x="557" y="48"/>
                </a:lnTo>
                <a:lnTo>
                  <a:pt x="545" y="42"/>
                </a:lnTo>
                <a:lnTo>
                  <a:pt x="518" y="36"/>
                </a:lnTo>
                <a:lnTo>
                  <a:pt x="485" y="34"/>
                </a:lnTo>
                <a:lnTo>
                  <a:pt x="410" y="36"/>
                </a:lnTo>
                <a:lnTo>
                  <a:pt x="265" y="49"/>
                </a:lnTo>
                <a:lnTo>
                  <a:pt x="229" y="46"/>
                </a:lnTo>
                <a:lnTo>
                  <a:pt x="230" y="52"/>
                </a:lnTo>
                <a:lnTo>
                  <a:pt x="234" y="63"/>
                </a:lnTo>
                <a:lnTo>
                  <a:pt x="245" y="83"/>
                </a:lnTo>
                <a:lnTo>
                  <a:pt x="254" y="104"/>
                </a:lnTo>
                <a:lnTo>
                  <a:pt x="257" y="108"/>
                </a:lnTo>
                <a:lnTo>
                  <a:pt x="242" y="131"/>
                </a:lnTo>
                <a:lnTo>
                  <a:pt x="209" y="176"/>
                </a:lnTo>
                <a:lnTo>
                  <a:pt x="145" y="266"/>
                </a:lnTo>
                <a:lnTo>
                  <a:pt x="87" y="360"/>
                </a:lnTo>
                <a:lnTo>
                  <a:pt x="75" y="385"/>
                </a:lnTo>
                <a:lnTo>
                  <a:pt x="75" y="393"/>
                </a:lnTo>
                <a:lnTo>
                  <a:pt x="76" y="406"/>
                </a:lnTo>
                <a:lnTo>
                  <a:pt x="81" y="427"/>
                </a:lnTo>
                <a:lnTo>
                  <a:pt x="84" y="455"/>
                </a:lnTo>
                <a:lnTo>
                  <a:pt x="84" y="464"/>
                </a:lnTo>
                <a:lnTo>
                  <a:pt x="82" y="469"/>
                </a:lnTo>
                <a:lnTo>
                  <a:pt x="69" y="498"/>
                </a:lnTo>
                <a:lnTo>
                  <a:pt x="28" y="597"/>
                </a:lnTo>
                <a:lnTo>
                  <a:pt x="0" y="674"/>
                </a:lnTo>
                <a:lnTo>
                  <a:pt x="0" y="678"/>
                </a:lnTo>
                <a:lnTo>
                  <a:pt x="13" y="686"/>
                </a:lnTo>
                <a:lnTo>
                  <a:pt x="50" y="707"/>
                </a:lnTo>
                <a:lnTo>
                  <a:pt x="142" y="752"/>
                </a:lnTo>
                <a:lnTo>
                  <a:pt x="189" y="768"/>
                </a:lnTo>
                <a:lnTo>
                  <a:pt x="229" y="775"/>
                </a:lnTo>
                <a:lnTo>
                  <a:pt x="245" y="773"/>
                </a:lnTo>
                <a:lnTo>
                  <a:pt x="261" y="771"/>
                </a:lnTo>
                <a:lnTo>
                  <a:pt x="294" y="762"/>
                </a:lnTo>
                <a:lnTo>
                  <a:pt x="355" y="730"/>
                </a:lnTo>
                <a:lnTo>
                  <a:pt x="409" y="687"/>
                </a:lnTo>
                <a:lnTo>
                  <a:pt x="421" y="675"/>
                </a:lnTo>
                <a:lnTo>
                  <a:pt x="425" y="677"/>
                </a:lnTo>
                <a:lnTo>
                  <a:pt x="428" y="680"/>
                </a:lnTo>
                <a:lnTo>
                  <a:pt x="439" y="686"/>
                </a:lnTo>
                <a:lnTo>
                  <a:pt x="466" y="706"/>
                </a:lnTo>
                <a:lnTo>
                  <a:pt x="524" y="744"/>
                </a:lnTo>
                <a:lnTo>
                  <a:pt x="548" y="744"/>
                </a:lnTo>
                <a:lnTo>
                  <a:pt x="548" y="739"/>
                </a:lnTo>
                <a:lnTo>
                  <a:pt x="551" y="733"/>
                </a:lnTo>
                <a:lnTo>
                  <a:pt x="556" y="727"/>
                </a:lnTo>
                <a:lnTo>
                  <a:pt x="569" y="713"/>
                </a:lnTo>
                <a:lnTo>
                  <a:pt x="606" y="680"/>
                </a:lnTo>
                <a:lnTo>
                  <a:pt x="695" y="616"/>
                </a:lnTo>
                <a:lnTo>
                  <a:pt x="734" y="584"/>
                </a:lnTo>
                <a:lnTo>
                  <a:pt x="735" y="586"/>
                </a:lnTo>
                <a:lnTo>
                  <a:pt x="736" y="588"/>
                </a:lnTo>
                <a:lnTo>
                  <a:pt x="738" y="591"/>
                </a:lnTo>
                <a:lnTo>
                  <a:pt x="747" y="599"/>
                </a:lnTo>
                <a:lnTo>
                  <a:pt x="772" y="625"/>
                </a:lnTo>
                <a:lnTo>
                  <a:pt x="851" y="692"/>
                </a:lnTo>
                <a:lnTo>
                  <a:pt x="935" y="737"/>
                </a:lnTo>
                <a:lnTo>
                  <a:pt x="944" y="748"/>
                </a:lnTo>
                <a:lnTo>
                  <a:pt x="969" y="767"/>
                </a:lnTo>
                <a:lnTo>
                  <a:pt x="1000" y="785"/>
                </a:lnTo>
                <a:lnTo>
                  <a:pt x="1069" y="827"/>
                </a:lnTo>
                <a:lnTo>
                  <a:pt x="1120" y="871"/>
                </a:lnTo>
                <a:lnTo>
                  <a:pt x="1124" y="883"/>
                </a:lnTo>
                <a:lnTo>
                  <a:pt x="1133" y="909"/>
                </a:lnTo>
                <a:lnTo>
                  <a:pt x="1140" y="965"/>
                </a:lnTo>
                <a:lnTo>
                  <a:pt x="1148" y="1023"/>
                </a:lnTo>
                <a:lnTo>
                  <a:pt x="1151" y="1036"/>
                </a:lnTo>
                <a:lnTo>
                  <a:pt x="1151" y="1058"/>
                </a:lnTo>
                <a:lnTo>
                  <a:pt x="1160" y="1100"/>
                </a:lnTo>
                <a:lnTo>
                  <a:pt x="1178" y="1136"/>
                </a:lnTo>
                <a:lnTo>
                  <a:pt x="1206" y="1161"/>
                </a:lnTo>
                <a:lnTo>
                  <a:pt x="1241" y="1175"/>
                </a:lnTo>
                <a:lnTo>
                  <a:pt x="1284" y="1173"/>
                </a:lnTo>
                <a:lnTo>
                  <a:pt x="1309" y="1165"/>
                </a:lnTo>
                <a:lnTo>
                  <a:pt x="1313" y="1160"/>
                </a:lnTo>
                <a:lnTo>
                  <a:pt x="1323" y="1146"/>
                </a:lnTo>
                <a:lnTo>
                  <a:pt x="1346" y="1114"/>
                </a:lnTo>
                <a:lnTo>
                  <a:pt x="1360" y="1094"/>
                </a:lnTo>
                <a:lnTo>
                  <a:pt x="1361" y="1091"/>
                </a:lnTo>
                <a:lnTo>
                  <a:pt x="1356" y="1079"/>
                </a:lnTo>
                <a:lnTo>
                  <a:pt x="1340" y="1041"/>
                </a:lnTo>
                <a:lnTo>
                  <a:pt x="1327" y="1012"/>
                </a:lnTo>
                <a:lnTo>
                  <a:pt x="1327" y="1010"/>
                </a:lnTo>
                <a:lnTo>
                  <a:pt x="1334" y="1011"/>
                </a:lnTo>
                <a:lnTo>
                  <a:pt x="1350" y="1013"/>
                </a:lnTo>
                <a:lnTo>
                  <a:pt x="1379" y="1022"/>
                </a:lnTo>
                <a:lnTo>
                  <a:pt x="1407" y="1025"/>
                </a:lnTo>
                <a:lnTo>
                  <a:pt x="1415" y="1023"/>
                </a:lnTo>
                <a:lnTo>
                  <a:pt x="1417" y="983"/>
                </a:lnTo>
                <a:lnTo>
                  <a:pt x="1431" y="905"/>
                </a:lnTo>
                <a:lnTo>
                  <a:pt x="1459" y="837"/>
                </a:lnTo>
                <a:lnTo>
                  <a:pt x="1504" y="784"/>
                </a:lnTo>
                <a:lnTo>
                  <a:pt x="1567" y="749"/>
                </a:lnTo>
                <a:lnTo>
                  <a:pt x="1651" y="739"/>
                </a:lnTo>
                <a:lnTo>
                  <a:pt x="1701" y="744"/>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Freeform 174"/>
          <p:cNvSpPr/>
          <p:nvPr/>
        </p:nvSpPr>
        <p:spPr>
          <a:xfrm>
            <a:off x="5145120" y="4275000"/>
            <a:ext cx="415800" cy="171720"/>
          </a:xfrm>
          <a:custGeom>
            <a:avLst/>
            <a:gdLst>
              <a:gd name="textAreaLeft" fmla="*/ 0 w 415800"/>
              <a:gd name="textAreaRight" fmla="*/ 416160 w 415800"/>
              <a:gd name="textAreaTop" fmla="*/ 0 h 171720"/>
              <a:gd name="textAreaBottom" fmla="*/ 172080 h 171720"/>
            </a:gdLst>
            <a:ahLst/>
            <a:rect l="textAreaLeft" t="textAreaTop" r="textAreaRight" b="textAreaBottom"/>
            <a:pathLst>
              <a:path w="524" h="217">
                <a:moveTo>
                  <a:pt x="160" y="7"/>
                </a:moveTo>
                <a:lnTo>
                  <a:pt x="168" y="9"/>
                </a:lnTo>
                <a:lnTo>
                  <a:pt x="181" y="13"/>
                </a:lnTo>
                <a:lnTo>
                  <a:pt x="218" y="27"/>
                </a:lnTo>
                <a:lnTo>
                  <a:pt x="312" y="65"/>
                </a:lnTo>
                <a:lnTo>
                  <a:pt x="381" y="89"/>
                </a:lnTo>
                <a:lnTo>
                  <a:pt x="390" y="93"/>
                </a:lnTo>
                <a:lnTo>
                  <a:pt x="402" y="99"/>
                </a:lnTo>
                <a:lnTo>
                  <a:pt x="430" y="118"/>
                </a:lnTo>
                <a:lnTo>
                  <a:pt x="489" y="170"/>
                </a:lnTo>
                <a:lnTo>
                  <a:pt x="524" y="213"/>
                </a:lnTo>
                <a:lnTo>
                  <a:pt x="524" y="215"/>
                </a:lnTo>
                <a:lnTo>
                  <a:pt x="523" y="216"/>
                </a:lnTo>
                <a:lnTo>
                  <a:pt x="521" y="217"/>
                </a:lnTo>
                <a:lnTo>
                  <a:pt x="518" y="217"/>
                </a:lnTo>
                <a:lnTo>
                  <a:pt x="513" y="216"/>
                </a:lnTo>
                <a:lnTo>
                  <a:pt x="504" y="214"/>
                </a:lnTo>
                <a:lnTo>
                  <a:pt x="478" y="207"/>
                </a:lnTo>
                <a:lnTo>
                  <a:pt x="423" y="196"/>
                </a:lnTo>
                <a:lnTo>
                  <a:pt x="406" y="203"/>
                </a:lnTo>
                <a:lnTo>
                  <a:pt x="378" y="206"/>
                </a:lnTo>
                <a:lnTo>
                  <a:pt x="337" y="209"/>
                </a:lnTo>
                <a:lnTo>
                  <a:pt x="286" y="203"/>
                </a:lnTo>
                <a:lnTo>
                  <a:pt x="231" y="173"/>
                </a:lnTo>
                <a:lnTo>
                  <a:pt x="211" y="160"/>
                </a:lnTo>
                <a:lnTo>
                  <a:pt x="198" y="154"/>
                </a:lnTo>
                <a:lnTo>
                  <a:pt x="171" y="139"/>
                </a:lnTo>
                <a:lnTo>
                  <a:pt x="112" y="105"/>
                </a:lnTo>
                <a:lnTo>
                  <a:pt x="62" y="70"/>
                </a:lnTo>
                <a:lnTo>
                  <a:pt x="52" y="61"/>
                </a:lnTo>
                <a:lnTo>
                  <a:pt x="42" y="51"/>
                </a:lnTo>
                <a:lnTo>
                  <a:pt x="32" y="38"/>
                </a:lnTo>
                <a:lnTo>
                  <a:pt x="7" y="11"/>
                </a:lnTo>
                <a:lnTo>
                  <a:pt x="0" y="0"/>
                </a:lnTo>
                <a:lnTo>
                  <a:pt x="11" y="1"/>
                </a:lnTo>
                <a:lnTo>
                  <a:pt x="37" y="1"/>
                </a:lnTo>
                <a:lnTo>
                  <a:pt x="95" y="4"/>
                </a:lnTo>
                <a:lnTo>
                  <a:pt x="149" y="7"/>
                </a:lnTo>
                <a:lnTo>
                  <a:pt x="160"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Freeform 175"/>
          <p:cNvSpPr/>
          <p:nvPr/>
        </p:nvSpPr>
        <p:spPr>
          <a:xfrm>
            <a:off x="5145120" y="4275000"/>
            <a:ext cx="415800" cy="171720"/>
          </a:xfrm>
          <a:custGeom>
            <a:avLst/>
            <a:gdLst>
              <a:gd name="textAreaLeft" fmla="*/ 0 w 415800"/>
              <a:gd name="textAreaRight" fmla="*/ 416160 w 415800"/>
              <a:gd name="textAreaTop" fmla="*/ 0 h 171720"/>
              <a:gd name="textAreaBottom" fmla="*/ 172080 h 171720"/>
            </a:gdLst>
            <a:ahLst/>
            <a:rect l="textAreaLeft" t="textAreaTop" r="textAreaRight" b="textAreaBottom"/>
            <a:pathLst>
              <a:path w="524" h="217">
                <a:moveTo>
                  <a:pt x="160" y="7"/>
                </a:moveTo>
                <a:lnTo>
                  <a:pt x="168" y="9"/>
                </a:lnTo>
                <a:lnTo>
                  <a:pt x="181" y="13"/>
                </a:lnTo>
                <a:lnTo>
                  <a:pt x="218" y="27"/>
                </a:lnTo>
                <a:lnTo>
                  <a:pt x="312" y="65"/>
                </a:lnTo>
                <a:lnTo>
                  <a:pt x="381" y="89"/>
                </a:lnTo>
                <a:lnTo>
                  <a:pt x="390" y="93"/>
                </a:lnTo>
                <a:lnTo>
                  <a:pt x="402" y="99"/>
                </a:lnTo>
                <a:lnTo>
                  <a:pt x="430" y="118"/>
                </a:lnTo>
                <a:lnTo>
                  <a:pt x="489" y="170"/>
                </a:lnTo>
                <a:lnTo>
                  <a:pt x="524" y="213"/>
                </a:lnTo>
                <a:lnTo>
                  <a:pt x="524" y="215"/>
                </a:lnTo>
                <a:lnTo>
                  <a:pt x="523" y="216"/>
                </a:lnTo>
                <a:lnTo>
                  <a:pt x="521" y="217"/>
                </a:lnTo>
                <a:lnTo>
                  <a:pt x="518" y="217"/>
                </a:lnTo>
                <a:lnTo>
                  <a:pt x="513" y="216"/>
                </a:lnTo>
                <a:lnTo>
                  <a:pt x="504" y="214"/>
                </a:lnTo>
                <a:lnTo>
                  <a:pt x="478" y="207"/>
                </a:lnTo>
                <a:lnTo>
                  <a:pt x="423" y="196"/>
                </a:lnTo>
                <a:lnTo>
                  <a:pt x="406" y="203"/>
                </a:lnTo>
                <a:lnTo>
                  <a:pt x="378" y="206"/>
                </a:lnTo>
                <a:lnTo>
                  <a:pt x="337" y="209"/>
                </a:lnTo>
                <a:lnTo>
                  <a:pt x="286" y="203"/>
                </a:lnTo>
                <a:lnTo>
                  <a:pt x="231" y="173"/>
                </a:lnTo>
                <a:lnTo>
                  <a:pt x="211" y="160"/>
                </a:lnTo>
                <a:lnTo>
                  <a:pt x="198" y="154"/>
                </a:lnTo>
                <a:lnTo>
                  <a:pt x="171" y="139"/>
                </a:lnTo>
                <a:lnTo>
                  <a:pt x="112" y="105"/>
                </a:lnTo>
                <a:lnTo>
                  <a:pt x="62" y="70"/>
                </a:lnTo>
                <a:lnTo>
                  <a:pt x="52" y="61"/>
                </a:lnTo>
                <a:lnTo>
                  <a:pt x="42" y="51"/>
                </a:lnTo>
                <a:lnTo>
                  <a:pt x="32" y="38"/>
                </a:lnTo>
                <a:lnTo>
                  <a:pt x="7" y="11"/>
                </a:lnTo>
                <a:lnTo>
                  <a:pt x="0" y="0"/>
                </a:lnTo>
                <a:lnTo>
                  <a:pt x="11" y="1"/>
                </a:lnTo>
                <a:lnTo>
                  <a:pt x="37" y="1"/>
                </a:lnTo>
                <a:lnTo>
                  <a:pt x="95" y="4"/>
                </a:lnTo>
                <a:lnTo>
                  <a:pt x="149" y="7"/>
                </a:lnTo>
                <a:lnTo>
                  <a:pt x="160" y="7"/>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176"/>
          <p:cNvSpPr/>
          <p:nvPr/>
        </p:nvSpPr>
        <p:spPr>
          <a:xfrm>
            <a:off x="3863880" y="5354640"/>
            <a:ext cx="123840" cy="58680"/>
          </a:xfrm>
          <a:custGeom>
            <a:avLst/>
            <a:gdLst>
              <a:gd name="textAreaLeft" fmla="*/ 0 w 123840"/>
              <a:gd name="textAreaRight" fmla="*/ 123840 w 123840"/>
              <a:gd name="textAreaTop" fmla="*/ 0 h 58680"/>
              <a:gd name="textAreaBottom" fmla="*/ 59040 h 58680"/>
            </a:gdLst>
            <a:ahLst/>
            <a:rect l="textAreaLeft" t="textAreaTop" r="textAreaRight" b="textAreaBottom"/>
            <a:pathLst>
              <a:path w="155" h="75">
                <a:moveTo>
                  <a:pt x="155" y="37"/>
                </a:moveTo>
                <a:lnTo>
                  <a:pt x="152" y="49"/>
                </a:lnTo>
                <a:lnTo>
                  <a:pt x="143" y="59"/>
                </a:lnTo>
                <a:lnTo>
                  <a:pt x="130" y="67"/>
                </a:lnTo>
                <a:lnTo>
                  <a:pt x="114" y="72"/>
                </a:lnTo>
                <a:lnTo>
                  <a:pt x="96" y="75"/>
                </a:lnTo>
                <a:lnTo>
                  <a:pt x="58" y="75"/>
                </a:lnTo>
                <a:lnTo>
                  <a:pt x="23" y="67"/>
                </a:lnTo>
                <a:lnTo>
                  <a:pt x="10" y="59"/>
                </a:lnTo>
                <a:lnTo>
                  <a:pt x="2" y="49"/>
                </a:lnTo>
                <a:lnTo>
                  <a:pt x="0" y="37"/>
                </a:lnTo>
                <a:lnTo>
                  <a:pt x="2" y="26"/>
                </a:lnTo>
                <a:lnTo>
                  <a:pt x="10" y="16"/>
                </a:lnTo>
                <a:lnTo>
                  <a:pt x="23" y="9"/>
                </a:lnTo>
                <a:lnTo>
                  <a:pt x="39" y="3"/>
                </a:lnTo>
                <a:lnTo>
                  <a:pt x="58" y="0"/>
                </a:lnTo>
                <a:lnTo>
                  <a:pt x="96" y="0"/>
                </a:lnTo>
                <a:lnTo>
                  <a:pt x="130" y="9"/>
                </a:lnTo>
                <a:lnTo>
                  <a:pt x="143" y="16"/>
                </a:lnTo>
                <a:lnTo>
                  <a:pt x="152" y="26"/>
                </a:lnTo>
                <a:lnTo>
                  <a:pt x="155" y="37"/>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78" name="Freeform 177"/>
          <p:cNvSpPr/>
          <p:nvPr/>
        </p:nvSpPr>
        <p:spPr>
          <a:xfrm>
            <a:off x="3859200" y="5384880"/>
            <a:ext cx="133200" cy="34920"/>
          </a:xfrm>
          <a:custGeom>
            <a:avLst/>
            <a:gdLst>
              <a:gd name="textAreaLeft" fmla="*/ 0 w 133200"/>
              <a:gd name="textAreaRight" fmla="*/ 133560 w 133200"/>
              <a:gd name="textAreaTop" fmla="*/ 0 h 34920"/>
              <a:gd name="textAreaBottom" fmla="*/ 34920 h 34920"/>
            </a:gdLst>
            <a:ahLst/>
            <a:rect l="textAreaLeft" t="textAreaTop" r="textAreaRight" b="textAreaBottom"/>
            <a:pathLst>
              <a:path w="167" h="44">
                <a:moveTo>
                  <a:pt x="0" y="0"/>
                </a:moveTo>
                <a:lnTo>
                  <a:pt x="0" y="0"/>
                </a:lnTo>
                <a:lnTo>
                  <a:pt x="0" y="1"/>
                </a:lnTo>
                <a:lnTo>
                  <a:pt x="0" y="4"/>
                </a:lnTo>
                <a:lnTo>
                  <a:pt x="0" y="5"/>
                </a:lnTo>
                <a:lnTo>
                  <a:pt x="1" y="5"/>
                </a:lnTo>
                <a:lnTo>
                  <a:pt x="1" y="6"/>
                </a:lnTo>
                <a:lnTo>
                  <a:pt x="1" y="9"/>
                </a:lnTo>
                <a:lnTo>
                  <a:pt x="1" y="10"/>
                </a:lnTo>
                <a:lnTo>
                  <a:pt x="2" y="10"/>
                </a:lnTo>
                <a:lnTo>
                  <a:pt x="2" y="11"/>
                </a:lnTo>
                <a:lnTo>
                  <a:pt x="3" y="14"/>
                </a:lnTo>
                <a:lnTo>
                  <a:pt x="3" y="15"/>
                </a:lnTo>
                <a:lnTo>
                  <a:pt x="4" y="15"/>
                </a:lnTo>
                <a:lnTo>
                  <a:pt x="7" y="19"/>
                </a:lnTo>
                <a:lnTo>
                  <a:pt x="8" y="20"/>
                </a:lnTo>
                <a:lnTo>
                  <a:pt x="9" y="20"/>
                </a:lnTo>
                <a:lnTo>
                  <a:pt x="10" y="23"/>
                </a:lnTo>
                <a:lnTo>
                  <a:pt x="11" y="24"/>
                </a:lnTo>
                <a:lnTo>
                  <a:pt x="12" y="24"/>
                </a:lnTo>
                <a:lnTo>
                  <a:pt x="15" y="27"/>
                </a:lnTo>
                <a:lnTo>
                  <a:pt x="16" y="28"/>
                </a:lnTo>
                <a:lnTo>
                  <a:pt x="17" y="28"/>
                </a:lnTo>
                <a:lnTo>
                  <a:pt x="21" y="30"/>
                </a:lnTo>
                <a:lnTo>
                  <a:pt x="22" y="31"/>
                </a:lnTo>
                <a:lnTo>
                  <a:pt x="23" y="31"/>
                </a:lnTo>
                <a:lnTo>
                  <a:pt x="26" y="33"/>
                </a:lnTo>
                <a:lnTo>
                  <a:pt x="27" y="34"/>
                </a:lnTo>
                <a:lnTo>
                  <a:pt x="28" y="34"/>
                </a:lnTo>
                <a:lnTo>
                  <a:pt x="31" y="36"/>
                </a:lnTo>
                <a:lnTo>
                  <a:pt x="33" y="36"/>
                </a:lnTo>
                <a:lnTo>
                  <a:pt x="34" y="36"/>
                </a:lnTo>
                <a:lnTo>
                  <a:pt x="38" y="38"/>
                </a:lnTo>
                <a:lnTo>
                  <a:pt x="40" y="38"/>
                </a:lnTo>
                <a:lnTo>
                  <a:pt x="41" y="38"/>
                </a:lnTo>
                <a:lnTo>
                  <a:pt x="44" y="40"/>
                </a:lnTo>
                <a:lnTo>
                  <a:pt x="46" y="40"/>
                </a:lnTo>
                <a:lnTo>
                  <a:pt x="47" y="40"/>
                </a:lnTo>
                <a:lnTo>
                  <a:pt x="51" y="41"/>
                </a:lnTo>
                <a:lnTo>
                  <a:pt x="53" y="41"/>
                </a:lnTo>
                <a:lnTo>
                  <a:pt x="54" y="41"/>
                </a:lnTo>
                <a:lnTo>
                  <a:pt x="58" y="42"/>
                </a:lnTo>
                <a:lnTo>
                  <a:pt x="60" y="42"/>
                </a:lnTo>
                <a:lnTo>
                  <a:pt x="61" y="42"/>
                </a:lnTo>
                <a:lnTo>
                  <a:pt x="66" y="43"/>
                </a:lnTo>
                <a:lnTo>
                  <a:pt x="68" y="43"/>
                </a:lnTo>
                <a:lnTo>
                  <a:pt x="69" y="43"/>
                </a:lnTo>
                <a:lnTo>
                  <a:pt x="70" y="43"/>
                </a:lnTo>
                <a:lnTo>
                  <a:pt x="73" y="43"/>
                </a:lnTo>
                <a:lnTo>
                  <a:pt x="75" y="43"/>
                </a:lnTo>
                <a:lnTo>
                  <a:pt x="76" y="43"/>
                </a:lnTo>
                <a:lnTo>
                  <a:pt x="81" y="44"/>
                </a:lnTo>
                <a:lnTo>
                  <a:pt x="83" y="44"/>
                </a:lnTo>
                <a:lnTo>
                  <a:pt x="84" y="44"/>
                </a:lnTo>
                <a:lnTo>
                  <a:pt x="85" y="44"/>
                </a:lnTo>
                <a:lnTo>
                  <a:pt x="88" y="44"/>
                </a:lnTo>
                <a:lnTo>
                  <a:pt x="90" y="44"/>
                </a:lnTo>
                <a:lnTo>
                  <a:pt x="91" y="43"/>
                </a:lnTo>
                <a:lnTo>
                  <a:pt x="92" y="43"/>
                </a:lnTo>
                <a:lnTo>
                  <a:pt x="96" y="43"/>
                </a:lnTo>
                <a:lnTo>
                  <a:pt x="98" y="43"/>
                </a:lnTo>
                <a:lnTo>
                  <a:pt x="99" y="43"/>
                </a:lnTo>
                <a:lnTo>
                  <a:pt x="100" y="43"/>
                </a:lnTo>
                <a:lnTo>
                  <a:pt x="103" y="43"/>
                </a:lnTo>
                <a:lnTo>
                  <a:pt x="105" y="43"/>
                </a:lnTo>
                <a:lnTo>
                  <a:pt x="106" y="42"/>
                </a:lnTo>
                <a:lnTo>
                  <a:pt x="107" y="42"/>
                </a:lnTo>
                <a:lnTo>
                  <a:pt x="111" y="42"/>
                </a:lnTo>
                <a:lnTo>
                  <a:pt x="113" y="42"/>
                </a:lnTo>
                <a:lnTo>
                  <a:pt x="114" y="41"/>
                </a:lnTo>
                <a:lnTo>
                  <a:pt x="117" y="41"/>
                </a:lnTo>
                <a:lnTo>
                  <a:pt x="119" y="41"/>
                </a:lnTo>
                <a:lnTo>
                  <a:pt x="120" y="40"/>
                </a:lnTo>
                <a:lnTo>
                  <a:pt x="123" y="39"/>
                </a:lnTo>
                <a:lnTo>
                  <a:pt x="126" y="39"/>
                </a:lnTo>
                <a:lnTo>
                  <a:pt x="127" y="38"/>
                </a:lnTo>
                <a:lnTo>
                  <a:pt x="130" y="37"/>
                </a:lnTo>
                <a:lnTo>
                  <a:pt x="132" y="37"/>
                </a:lnTo>
                <a:lnTo>
                  <a:pt x="133" y="36"/>
                </a:lnTo>
                <a:lnTo>
                  <a:pt x="136" y="35"/>
                </a:lnTo>
                <a:lnTo>
                  <a:pt x="139" y="35"/>
                </a:lnTo>
                <a:lnTo>
                  <a:pt x="140" y="34"/>
                </a:lnTo>
                <a:lnTo>
                  <a:pt x="143" y="33"/>
                </a:lnTo>
                <a:lnTo>
                  <a:pt x="144" y="32"/>
                </a:lnTo>
                <a:lnTo>
                  <a:pt x="145" y="31"/>
                </a:lnTo>
                <a:lnTo>
                  <a:pt x="148" y="30"/>
                </a:lnTo>
                <a:lnTo>
                  <a:pt x="149" y="29"/>
                </a:lnTo>
                <a:lnTo>
                  <a:pt x="150" y="28"/>
                </a:lnTo>
                <a:lnTo>
                  <a:pt x="154" y="26"/>
                </a:lnTo>
                <a:lnTo>
                  <a:pt x="155" y="25"/>
                </a:lnTo>
                <a:lnTo>
                  <a:pt x="156" y="24"/>
                </a:lnTo>
                <a:lnTo>
                  <a:pt x="157" y="22"/>
                </a:lnTo>
                <a:lnTo>
                  <a:pt x="158" y="21"/>
                </a:lnTo>
                <a:lnTo>
                  <a:pt x="159" y="20"/>
                </a:lnTo>
                <a:lnTo>
                  <a:pt x="161" y="18"/>
                </a:lnTo>
                <a:lnTo>
                  <a:pt x="162" y="17"/>
                </a:lnTo>
                <a:lnTo>
                  <a:pt x="163" y="15"/>
                </a:lnTo>
                <a:lnTo>
                  <a:pt x="164" y="12"/>
                </a:lnTo>
                <a:lnTo>
                  <a:pt x="164" y="11"/>
                </a:lnTo>
                <a:lnTo>
                  <a:pt x="165" y="10"/>
                </a:lnTo>
                <a:lnTo>
                  <a:pt x="165" y="7"/>
                </a:lnTo>
                <a:lnTo>
                  <a:pt x="165" y="6"/>
                </a:lnTo>
                <a:lnTo>
                  <a:pt x="166" y="5"/>
                </a:lnTo>
                <a:lnTo>
                  <a:pt x="166" y="2"/>
                </a:lnTo>
                <a:lnTo>
                  <a:pt x="166" y="1"/>
                </a:lnTo>
                <a:lnTo>
                  <a:pt x="167" y="0"/>
                </a:lnTo>
                <a:lnTo>
                  <a:pt x="166" y="0"/>
                </a:lnTo>
                <a:lnTo>
                  <a:pt x="165" y="0"/>
                </a:lnTo>
                <a:lnTo>
                  <a:pt x="160" y="0"/>
                </a:lnTo>
                <a:lnTo>
                  <a:pt x="156" y="0"/>
                </a:lnTo>
                <a:lnTo>
                  <a:pt x="156" y="1"/>
                </a:lnTo>
                <a:lnTo>
                  <a:pt x="156" y="2"/>
                </a:lnTo>
                <a:lnTo>
                  <a:pt x="156" y="3"/>
                </a:lnTo>
                <a:lnTo>
                  <a:pt x="155" y="5"/>
                </a:lnTo>
                <a:lnTo>
                  <a:pt x="155" y="6"/>
                </a:lnTo>
                <a:lnTo>
                  <a:pt x="154" y="7"/>
                </a:lnTo>
                <a:lnTo>
                  <a:pt x="152" y="8"/>
                </a:lnTo>
                <a:lnTo>
                  <a:pt x="152" y="9"/>
                </a:lnTo>
                <a:lnTo>
                  <a:pt x="151" y="10"/>
                </a:lnTo>
                <a:lnTo>
                  <a:pt x="150" y="11"/>
                </a:lnTo>
                <a:lnTo>
                  <a:pt x="150" y="12"/>
                </a:lnTo>
                <a:lnTo>
                  <a:pt x="149" y="13"/>
                </a:lnTo>
                <a:lnTo>
                  <a:pt x="148" y="14"/>
                </a:lnTo>
                <a:lnTo>
                  <a:pt x="147" y="15"/>
                </a:lnTo>
                <a:lnTo>
                  <a:pt x="146" y="17"/>
                </a:lnTo>
                <a:lnTo>
                  <a:pt x="145" y="18"/>
                </a:lnTo>
                <a:lnTo>
                  <a:pt x="144" y="19"/>
                </a:lnTo>
                <a:lnTo>
                  <a:pt x="143" y="20"/>
                </a:lnTo>
                <a:lnTo>
                  <a:pt x="141" y="21"/>
                </a:lnTo>
                <a:lnTo>
                  <a:pt x="140" y="21"/>
                </a:lnTo>
                <a:lnTo>
                  <a:pt x="139" y="22"/>
                </a:lnTo>
                <a:lnTo>
                  <a:pt x="136" y="23"/>
                </a:lnTo>
                <a:lnTo>
                  <a:pt x="135" y="24"/>
                </a:lnTo>
                <a:lnTo>
                  <a:pt x="131" y="26"/>
                </a:lnTo>
                <a:lnTo>
                  <a:pt x="130" y="26"/>
                </a:lnTo>
                <a:lnTo>
                  <a:pt x="126" y="27"/>
                </a:lnTo>
                <a:lnTo>
                  <a:pt x="123" y="27"/>
                </a:lnTo>
                <a:lnTo>
                  <a:pt x="119" y="29"/>
                </a:lnTo>
                <a:lnTo>
                  <a:pt x="118" y="29"/>
                </a:lnTo>
                <a:lnTo>
                  <a:pt x="114" y="30"/>
                </a:lnTo>
                <a:lnTo>
                  <a:pt x="112" y="30"/>
                </a:lnTo>
                <a:lnTo>
                  <a:pt x="110" y="31"/>
                </a:lnTo>
                <a:lnTo>
                  <a:pt x="106" y="31"/>
                </a:lnTo>
                <a:lnTo>
                  <a:pt x="104" y="31"/>
                </a:lnTo>
                <a:lnTo>
                  <a:pt x="100" y="32"/>
                </a:lnTo>
                <a:lnTo>
                  <a:pt x="98" y="32"/>
                </a:lnTo>
                <a:lnTo>
                  <a:pt x="97" y="32"/>
                </a:lnTo>
                <a:lnTo>
                  <a:pt x="93" y="32"/>
                </a:lnTo>
                <a:lnTo>
                  <a:pt x="91" y="32"/>
                </a:lnTo>
                <a:lnTo>
                  <a:pt x="89" y="33"/>
                </a:lnTo>
                <a:lnTo>
                  <a:pt x="86" y="33"/>
                </a:lnTo>
                <a:lnTo>
                  <a:pt x="84" y="33"/>
                </a:lnTo>
                <a:lnTo>
                  <a:pt x="83" y="33"/>
                </a:lnTo>
                <a:lnTo>
                  <a:pt x="82" y="33"/>
                </a:lnTo>
                <a:lnTo>
                  <a:pt x="78" y="33"/>
                </a:lnTo>
                <a:lnTo>
                  <a:pt x="76" y="33"/>
                </a:lnTo>
                <a:lnTo>
                  <a:pt x="76" y="32"/>
                </a:lnTo>
                <a:lnTo>
                  <a:pt x="75" y="32"/>
                </a:lnTo>
                <a:lnTo>
                  <a:pt x="72" y="32"/>
                </a:lnTo>
                <a:lnTo>
                  <a:pt x="70" y="32"/>
                </a:lnTo>
                <a:lnTo>
                  <a:pt x="69" y="32"/>
                </a:lnTo>
                <a:lnTo>
                  <a:pt x="66" y="32"/>
                </a:lnTo>
                <a:lnTo>
                  <a:pt x="63" y="32"/>
                </a:lnTo>
                <a:lnTo>
                  <a:pt x="63" y="31"/>
                </a:lnTo>
                <a:lnTo>
                  <a:pt x="62" y="31"/>
                </a:lnTo>
                <a:lnTo>
                  <a:pt x="61" y="31"/>
                </a:lnTo>
                <a:lnTo>
                  <a:pt x="58" y="31"/>
                </a:lnTo>
                <a:lnTo>
                  <a:pt x="56" y="31"/>
                </a:lnTo>
                <a:lnTo>
                  <a:pt x="56" y="30"/>
                </a:lnTo>
                <a:lnTo>
                  <a:pt x="55" y="30"/>
                </a:lnTo>
                <a:lnTo>
                  <a:pt x="52" y="30"/>
                </a:lnTo>
                <a:lnTo>
                  <a:pt x="49" y="30"/>
                </a:lnTo>
                <a:lnTo>
                  <a:pt x="49" y="29"/>
                </a:lnTo>
                <a:lnTo>
                  <a:pt x="48" y="29"/>
                </a:lnTo>
                <a:lnTo>
                  <a:pt x="45" y="28"/>
                </a:lnTo>
                <a:lnTo>
                  <a:pt x="44" y="28"/>
                </a:lnTo>
                <a:lnTo>
                  <a:pt x="44" y="27"/>
                </a:lnTo>
                <a:lnTo>
                  <a:pt x="43" y="27"/>
                </a:lnTo>
                <a:lnTo>
                  <a:pt x="40" y="27"/>
                </a:lnTo>
                <a:lnTo>
                  <a:pt x="38" y="27"/>
                </a:lnTo>
                <a:lnTo>
                  <a:pt x="38" y="26"/>
                </a:lnTo>
                <a:lnTo>
                  <a:pt x="37" y="26"/>
                </a:lnTo>
                <a:lnTo>
                  <a:pt x="33" y="25"/>
                </a:lnTo>
                <a:lnTo>
                  <a:pt x="32" y="25"/>
                </a:lnTo>
                <a:lnTo>
                  <a:pt x="32" y="24"/>
                </a:lnTo>
                <a:lnTo>
                  <a:pt x="29" y="23"/>
                </a:lnTo>
                <a:lnTo>
                  <a:pt x="28" y="22"/>
                </a:lnTo>
                <a:lnTo>
                  <a:pt x="28" y="21"/>
                </a:lnTo>
                <a:lnTo>
                  <a:pt x="25" y="20"/>
                </a:lnTo>
                <a:lnTo>
                  <a:pt x="24" y="19"/>
                </a:lnTo>
                <a:lnTo>
                  <a:pt x="22" y="18"/>
                </a:lnTo>
                <a:lnTo>
                  <a:pt x="21" y="17"/>
                </a:lnTo>
                <a:lnTo>
                  <a:pt x="21" y="15"/>
                </a:lnTo>
                <a:lnTo>
                  <a:pt x="18" y="14"/>
                </a:lnTo>
                <a:lnTo>
                  <a:pt x="17" y="13"/>
                </a:lnTo>
                <a:lnTo>
                  <a:pt x="17" y="12"/>
                </a:lnTo>
                <a:lnTo>
                  <a:pt x="15" y="10"/>
                </a:lnTo>
                <a:lnTo>
                  <a:pt x="15" y="9"/>
                </a:lnTo>
                <a:lnTo>
                  <a:pt x="13" y="7"/>
                </a:lnTo>
                <a:lnTo>
                  <a:pt x="13" y="6"/>
                </a:lnTo>
                <a:lnTo>
                  <a:pt x="12" y="4"/>
                </a:lnTo>
                <a:lnTo>
                  <a:pt x="12" y="3"/>
                </a:lnTo>
                <a:lnTo>
                  <a:pt x="12" y="2"/>
                </a:lnTo>
                <a:lnTo>
                  <a:pt x="12" y="1"/>
                </a:lnTo>
                <a:lnTo>
                  <a:pt x="12" y="0"/>
                </a:lnTo>
                <a:lnTo>
                  <a:pt x="0"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79" name="Freeform 178"/>
          <p:cNvSpPr/>
          <p:nvPr/>
        </p:nvSpPr>
        <p:spPr>
          <a:xfrm>
            <a:off x="3859200" y="5348160"/>
            <a:ext cx="133200" cy="36720"/>
          </a:xfrm>
          <a:custGeom>
            <a:avLst/>
            <a:gdLst>
              <a:gd name="textAreaLeft" fmla="*/ 0 w 133200"/>
              <a:gd name="textAreaRight" fmla="*/ 133560 w 133200"/>
              <a:gd name="textAreaTop" fmla="*/ 0 h 36720"/>
              <a:gd name="textAreaBottom" fmla="*/ 37080 h 36720"/>
            </a:gdLst>
            <a:ahLst/>
            <a:rect l="textAreaLeft" t="textAreaTop" r="textAreaRight" b="textAreaBottom"/>
            <a:pathLst>
              <a:path w="167" h="45">
                <a:moveTo>
                  <a:pt x="167" y="45"/>
                </a:moveTo>
                <a:lnTo>
                  <a:pt x="167" y="45"/>
                </a:lnTo>
                <a:lnTo>
                  <a:pt x="166" y="42"/>
                </a:lnTo>
                <a:lnTo>
                  <a:pt x="166" y="40"/>
                </a:lnTo>
                <a:lnTo>
                  <a:pt x="166" y="39"/>
                </a:lnTo>
                <a:lnTo>
                  <a:pt x="165" y="36"/>
                </a:lnTo>
                <a:lnTo>
                  <a:pt x="165" y="35"/>
                </a:lnTo>
                <a:lnTo>
                  <a:pt x="165" y="34"/>
                </a:lnTo>
                <a:lnTo>
                  <a:pt x="163" y="31"/>
                </a:lnTo>
                <a:lnTo>
                  <a:pt x="163" y="30"/>
                </a:lnTo>
                <a:lnTo>
                  <a:pt x="163" y="29"/>
                </a:lnTo>
                <a:lnTo>
                  <a:pt x="161" y="26"/>
                </a:lnTo>
                <a:lnTo>
                  <a:pt x="160" y="25"/>
                </a:lnTo>
                <a:lnTo>
                  <a:pt x="160" y="24"/>
                </a:lnTo>
                <a:lnTo>
                  <a:pt x="157" y="22"/>
                </a:lnTo>
                <a:lnTo>
                  <a:pt x="156" y="21"/>
                </a:lnTo>
                <a:lnTo>
                  <a:pt x="156" y="20"/>
                </a:lnTo>
                <a:lnTo>
                  <a:pt x="151" y="19"/>
                </a:lnTo>
                <a:lnTo>
                  <a:pt x="150" y="18"/>
                </a:lnTo>
                <a:lnTo>
                  <a:pt x="150" y="17"/>
                </a:lnTo>
                <a:lnTo>
                  <a:pt x="146" y="16"/>
                </a:lnTo>
                <a:lnTo>
                  <a:pt x="145" y="15"/>
                </a:lnTo>
                <a:lnTo>
                  <a:pt x="145" y="14"/>
                </a:lnTo>
                <a:lnTo>
                  <a:pt x="141" y="13"/>
                </a:lnTo>
                <a:lnTo>
                  <a:pt x="140" y="12"/>
                </a:lnTo>
                <a:lnTo>
                  <a:pt x="140" y="11"/>
                </a:lnTo>
                <a:lnTo>
                  <a:pt x="135" y="10"/>
                </a:lnTo>
                <a:lnTo>
                  <a:pt x="134" y="9"/>
                </a:lnTo>
                <a:lnTo>
                  <a:pt x="134" y="8"/>
                </a:lnTo>
                <a:lnTo>
                  <a:pt x="133" y="8"/>
                </a:lnTo>
                <a:lnTo>
                  <a:pt x="132" y="8"/>
                </a:lnTo>
                <a:lnTo>
                  <a:pt x="129" y="6"/>
                </a:lnTo>
                <a:lnTo>
                  <a:pt x="127" y="6"/>
                </a:lnTo>
                <a:lnTo>
                  <a:pt x="127" y="5"/>
                </a:lnTo>
                <a:lnTo>
                  <a:pt x="126" y="5"/>
                </a:lnTo>
                <a:lnTo>
                  <a:pt x="122" y="5"/>
                </a:lnTo>
                <a:lnTo>
                  <a:pt x="120" y="5"/>
                </a:lnTo>
                <a:lnTo>
                  <a:pt x="120" y="4"/>
                </a:lnTo>
                <a:lnTo>
                  <a:pt x="119" y="4"/>
                </a:lnTo>
                <a:lnTo>
                  <a:pt x="116" y="3"/>
                </a:lnTo>
                <a:lnTo>
                  <a:pt x="114" y="3"/>
                </a:lnTo>
                <a:lnTo>
                  <a:pt x="114" y="2"/>
                </a:lnTo>
                <a:lnTo>
                  <a:pt x="113" y="2"/>
                </a:lnTo>
                <a:lnTo>
                  <a:pt x="112" y="2"/>
                </a:lnTo>
                <a:lnTo>
                  <a:pt x="108" y="2"/>
                </a:lnTo>
                <a:lnTo>
                  <a:pt x="106" y="2"/>
                </a:lnTo>
                <a:lnTo>
                  <a:pt x="106" y="1"/>
                </a:lnTo>
                <a:lnTo>
                  <a:pt x="105" y="1"/>
                </a:lnTo>
                <a:lnTo>
                  <a:pt x="104" y="1"/>
                </a:lnTo>
                <a:lnTo>
                  <a:pt x="101" y="1"/>
                </a:lnTo>
                <a:lnTo>
                  <a:pt x="99" y="1"/>
                </a:lnTo>
                <a:lnTo>
                  <a:pt x="99" y="0"/>
                </a:lnTo>
                <a:lnTo>
                  <a:pt x="98" y="0"/>
                </a:lnTo>
                <a:lnTo>
                  <a:pt x="97" y="0"/>
                </a:lnTo>
                <a:lnTo>
                  <a:pt x="93" y="0"/>
                </a:lnTo>
                <a:lnTo>
                  <a:pt x="91" y="0"/>
                </a:lnTo>
                <a:lnTo>
                  <a:pt x="90" y="0"/>
                </a:lnTo>
                <a:lnTo>
                  <a:pt x="89" y="0"/>
                </a:lnTo>
                <a:lnTo>
                  <a:pt x="86" y="0"/>
                </a:lnTo>
                <a:lnTo>
                  <a:pt x="84" y="0"/>
                </a:lnTo>
                <a:lnTo>
                  <a:pt x="83" y="0"/>
                </a:lnTo>
                <a:lnTo>
                  <a:pt x="82" y="0"/>
                </a:lnTo>
                <a:lnTo>
                  <a:pt x="78" y="0"/>
                </a:lnTo>
                <a:lnTo>
                  <a:pt x="76" y="0"/>
                </a:lnTo>
                <a:lnTo>
                  <a:pt x="75" y="0"/>
                </a:lnTo>
                <a:lnTo>
                  <a:pt x="74" y="0"/>
                </a:lnTo>
                <a:lnTo>
                  <a:pt x="71" y="0"/>
                </a:lnTo>
                <a:lnTo>
                  <a:pt x="69" y="0"/>
                </a:lnTo>
                <a:lnTo>
                  <a:pt x="67" y="1"/>
                </a:lnTo>
                <a:lnTo>
                  <a:pt x="63" y="1"/>
                </a:lnTo>
                <a:lnTo>
                  <a:pt x="61" y="1"/>
                </a:lnTo>
                <a:lnTo>
                  <a:pt x="59" y="2"/>
                </a:lnTo>
                <a:lnTo>
                  <a:pt x="56" y="2"/>
                </a:lnTo>
                <a:lnTo>
                  <a:pt x="54" y="2"/>
                </a:lnTo>
                <a:lnTo>
                  <a:pt x="49" y="4"/>
                </a:lnTo>
                <a:lnTo>
                  <a:pt x="47" y="4"/>
                </a:lnTo>
                <a:lnTo>
                  <a:pt x="43" y="5"/>
                </a:lnTo>
                <a:lnTo>
                  <a:pt x="41" y="5"/>
                </a:lnTo>
                <a:lnTo>
                  <a:pt x="37" y="8"/>
                </a:lnTo>
                <a:lnTo>
                  <a:pt x="34" y="8"/>
                </a:lnTo>
                <a:lnTo>
                  <a:pt x="33" y="9"/>
                </a:lnTo>
                <a:lnTo>
                  <a:pt x="30" y="10"/>
                </a:lnTo>
                <a:lnTo>
                  <a:pt x="28" y="11"/>
                </a:lnTo>
                <a:lnTo>
                  <a:pt x="27" y="12"/>
                </a:lnTo>
                <a:lnTo>
                  <a:pt x="24" y="13"/>
                </a:lnTo>
                <a:lnTo>
                  <a:pt x="23" y="14"/>
                </a:lnTo>
                <a:lnTo>
                  <a:pt x="22" y="15"/>
                </a:lnTo>
                <a:lnTo>
                  <a:pt x="18" y="16"/>
                </a:lnTo>
                <a:lnTo>
                  <a:pt x="17" y="17"/>
                </a:lnTo>
                <a:lnTo>
                  <a:pt x="16" y="18"/>
                </a:lnTo>
                <a:lnTo>
                  <a:pt x="13" y="19"/>
                </a:lnTo>
                <a:lnTo>
                  <a:pt x="12" y="20"/>
                </a:lnTo>
                <a:lnTo>
                  <a:pt x="11" y="21"/>
                </a:lnTo>
                <a:lnTo>
                  <a:pt x="10" y="23"/>
                </a:lnTo>
                <a:lnTo>
                  <a:pt x="9" y="24"/>
                </a:lnTo>
                <a:lnTo>
                  <a:pt x="8" y="25"/>
                </a:lnTo>
                <a:lnTo>
                  <a:pt x="6" y="28"/>
                </a:lnTo>
                <a:lnTo>
                  <a:pt x="4" y="29"/>
                </a:lnTo>
                <a:lnTo>
                  <a:pt x="2" y="33"/>
                </a:lnTo>
                <a:lnTo>
                  <a:pt x="2" y="34"/>
                </a:lnTo>
                <a:lnTo>
                  <a:pt x="1" y="38"/>
                </a:lnTo>
                <a:lnTo>
                  <a:pt x="1" y="39"/>
                </a:lnTo>
                <a:lnTo>
                  <a:pt x="0" y="43"/>
                </a:lnTo>
                <a:lnTo>
                  <a:pt x="0" y="45"/>
                </a:lnTo>
                <a:lnTo>
                  <a:pt x="1" y="45"/>
                </a:lnTo>
                <a:lnTo>
                  <a:pt x="7" y="45"/>
                </a:lnTo>
                <a:lnTo>
                  <a:pt x="11" y="45"/>
                </a:lnTo>
                <a:lnTo>
                  <a:pt x="12" y="45"/>
                </a:lnTo>
                <a:lnTo>
                  <a:pt x="12" y="43"/>
                </a:lnTo>
                <a:lnTo>
                  <a:pt x="12" y="42"/>
                </a:lnTo>
                <a:lnTo>
                  <a:pt x="12" y="41"/>
                </a:lnTo>
                <a:lnTo>
                  <a:pt x="12" y="39"/>
                </a:lnTo>
                <a:lnTo>
                  <a:pt x="12" y="38"/>
                </a:lnTo>
                <a:lnTo>
                  <a:pt x="13" y="37"/>
                </a:lnTo>
                <a:lnTo>
                  <a:pt x="14" y="36"/>
                </a:lnTo>
                <a:lnTo>
                  <a:pt x="15" y="34"/>
                </a:lnTo>
                <a:lnTo>
                  <a:pt x="16" y="33"/>
                </a:lnTo>
                <a:lnTo>
                  <a:pt x="17" y="31"/>
                </a:lnTo>
                <a:lnTo>
                  <a:pt x="18" y="30"/>
                </a:lnTo>
                <a:lnTo>
                  <a:pt x="19" y="29"/>
                </a:lnTo>
                <a:lnTo>
                  <a:pt x="21" y="28"/>
                </a:lnTo>
                <a:lnTo>
                  <a:pt x="22" y="27"/>
                </a:lnTo>
                <a:lnTo>
                  <a:pt x="24" y="26"/>
                </a:lnTo>
                <a:lnTo>
                  <a:pt x="26" y="25"/>
                </a:lnTo>
                <a:lnTo>
                  <a:pt x="27" y="24"/>
                </a:lnTo>
                <a:lnTo>
                  <a:pt x="28" y="23"/>
                </a:lnTo>
                <a:lnTo>
                  <a:pt x="30" y="22"/>
                </a:lnTo>
                <a:lnTo>
                  <a:pt x="32" y="21"/>
                </a:lnTo>
                <a:lnTo>
                  <a:pt x="36" y="20"/>
                </a:lnTo>
                <a:lnTo>
                  <a:pt x="37" y="20"/>
                </a:lnTo>
                <a:lnTo>
                  <a:pt x="38" y="19"/>
                </a:lnTo>
                <a:lnTo>
                  <a:pt x="41" y="18"/>
                </a:lnTo>
                <a:lnTo>
                  <a:pt x="43" y="18"/>
                </a:lnTo>
                <a:lnTo>
                  <a:pt x="44" y="17"/>
                </a:lnTo>
                <a:lnTo>
                  <a:pt x="47" y="16"/>
                </a:lnTo>
                <a:lnTo>
                  <a:pt x="48" y="16"/>
                </a:lnTo>
                <a:lnTo>
                  <a:pt x="49" y="15"/>
                </a:lnTo>
                <a:lnTo>
                  <a:pt x="53" y="15"/>
                </a:lnTo>
                <a:lnTo>
                  <a:pt x="55" y="15"/>
                </a:lnTo>
                <a:lnTo>
                  <a:pt x="56" y="14"/>
                </a:lnTo>
                <a:lnTo>
                  <a:pt x="57" y="14"/>
                </a:lnTo>
                <a:lnTo>
                  <a:pt x="60" y="14"/>
                </a:lnTo>
                <a:lnTo>
                  <a:pt x="62" y="14"/>
                </a:lnTo>
                <a:lnTo>
                  <a:pt x="63" y="13"/>
                </a:lnTo>
                <a:lnTo>
                  <a:pt x="67" y="13"/>
                </a:lnTo>
                <a:lnTo>
                  <a:pt x="69" y="13"/>
                </a:lnTo>
                <a:lnTo>
                  <a:pt x="70" y="12"/>
                </a:lnTo>
                <a:lnTo>
                  <a:pt x="73" y="12"/>
                </a:lnTo>
                <a:lnTo>
                  <a:pt x="75" y="12"/>
                </a:lnTo>
                <a:lnTo>
                  <a:pt x="76" y="12"/>
                </a:lnTo>
                <a:lnTo>
                  <a:pt x="77" y="12"/>
                </a:lnTo>
                <a:lnTo>
                  <a:pt x="81" y="12"/>
                </a:lnTo>
                <a:lnTo>
                  <a:pt x="83" y="12"/>
                </a:lnTo>
                <a:lnTo>
                  <a:pt x="84" y="12"/>
                </a:lnTo>
                <a:lnTo>
                  <a:pt x="85" y="12"/>
                </a:lnTo>
                <a:lnTo>
                  <a:pt x="88" y="12"/>
                </a:lnTo>
                <a:lnTo>
                  <a:pt x="90" y="12"/>
                </a:lnTo>
                <a:lnTo>
                  <a:pt x="91" y="12"/>
                </a:lnTo>
                <a:lnTo>
                  <a:pt x="95" y="12"/>
                </a:lnTo>
                <a:lnTo>
                  <a:pt x="97" y="12"/>
                </a:lnTo>
                <a:lnTo>
                  <a:pt x="98" y="12"/>
                </a:lnTo>
                <a:lnTo>
                  <a:pt x="101" y="13"/>
                </a:lnTo>
                <a:lnTo>
                  <a:pt x="103" y="13"/>
                </a:lnTo>
                <a:lnTo>
                  <a:pt x="104" y="13"/>
                </a:lnTo>
                <a:lnTo>
                  <a:pt x="108" y="14"/>
                </a:lnTo>
                <a:lnTo>
                  <a:pt x="111" y="14"/>
                </a:lnTo>
                <a:lnTo>
                  <a:pt x="112" y="14"/>
                </a:lnTo>
                <a:lnTo>
                  <a:pt x="115" y="15"/>
                </a:lnTo>
                <a:lnTo>
                  <a:pt x="117" y="15"/>
                </a:lnTo>
                <a:lnTo>
                  <a:pt x="118" y="15"/>
                </a:lnTo>
                <a:lnTo>
                  <a:pt x="121" y="17"/>
                </a:lnTo>
                <a:lnTo>
                  <a:pt x="122" y="17"/>
                </a:lnTo>
                <a:lnTo>
                  <a:pt x="123" y="17"/>
                </a:lnTo>
                <a:lnTo>
                  <a:pt x="127" y="19"/>
                </a:lnTo>
                <a:lnTo>
                  <a:pt x="129" y="19"/>
                </a:lnTo>
                <a:lnTo>
                  <a:pt x="130" y="19"/>
                </a:lnTo>
                <a:lnTo>
                  <a:pt x="133" y="21"/>
                </a:lnTo>
                <a:lnTo>
                  <a:pt x="134" y="21"/>
                </a:lnTo>
                <a:lnTo>
                  <a:pt x="135" y="21"/>
                </a:lnTo>
                <a:lnTo>
                  <a:pt x="137" y="23"/>
                </a:lnTo>
                <a:lnTo>
                  <a:pt x="140" y="23"/>
                </a:lnTo>
                <a:lnTo>
                  <a:pt x="142" y="25"/>
                </a:lnTo>
                <a:lnTo>
                  <a:pt x="143" y="26"/>
                </a:lnTo>
                <a:lnTo>
                  <a:pt x="144" y="26"/>
                </a:lnTo>
                <a:lnTo>
                  <a:pt x="146" y="28"/>
                </a:lnTo>
                <a:lnTo>
                  <a:pt x="147" y="28"/>
                </a:lnTo>
                <a:lnTo>
                  <a:pt x="148" y="30"/>
                </a:lnTo>
                <a:lnTo>
                  <a:pt x="149" y="31"/>
                </a:lnTo>
                <a:lnTo>
                  <a:pt x="150" y="31"/>
                </a:lnTo>
                <a:lnTo>
                  <a:pt x="151" y="33"/>
                </a:lnTo>
                <a:lnTo>
                  <a:pt x="152" y="34"/>
                </a:lnTo>
                <a:lnTo>
                  <a:pt x="154" y="36"/>
                </a:lnTo>
                <a:lnTo>
                  <a:pt x="155" y="37"/>
                </a:lnTo>
                <a:lnTo>
                  <a:pt x="155" y="38"/>
                </a:lnTo>
                <a:lnTo>
                  <a:pt x="155" y="40"/>
                </a:lnTo>
                <a:lnTo>
                  <a:pt x="155" y="41"/>
                </a:lnTo>
                <a:lnTo>
                  <a:pt x="156" y="41"/>
                </a:lnTo>
                <a:lnTo>
                  <a:pt x="156" y="42"/>
                </a:lnTo>
                <a:lnTo>
                  <a:pt x="156" y="44"/>
                </a:lnTo>
                <a:lnTo>
                  <a:pt x="156" y="45"/>
                </a:lnTo>
                <a:lnTo>
                  <a:pt x="167" y="45"/>
                </a:lnTo>
                <a:close/>
              </a:path>
            </a:pathLst>
          </a:custGeom>
          <a:solidFill>
            <a:srgbClr val="1f1a17"/>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80" name="Freeform 179"/>
          <p:cNvSpPr/>
          <p:nvPr/>
        </p:nvSpPr>
        <p:spPr>
          <a:xfrm>
            <a:off x="3614760" y="5065560"/>
            <a:ext cx="54000" cy="71640"/>
          </a:xfrm>
          <a:custGeom>
            <a:avLst/>
            <a:gdLst>
              <a:gd name="textAreaLeft" fmla="*/ 0 w 54000"/>
              <a:gd name="textAreaRight" fmla="*/ 54360 w 54000"/>
              <a:gd name="textAreaTop" fmla="*/ 0 h 71640"/>
              <a:gd name="textAreaBottom" fmla="*/ 72000 h 71640"/>
            </a:gdLst>
            <a:ahLst/>
            <a:rect l="textAreaLeft" t="textAreaTop" r="textAreaRight" b="textAreaBottom"/>
            <a:pathLst>
              <a:path w="68" h="88">
                <a:moveTo>
                  <a:pt x="36" y="0"/>
                </a:moveTo>
                <a:lnTo>
                  <a:pt x="45" y="2"/>
                </a:lnTo>
                <a:lnTo>
                  <a:pt x="54" y="7"/>
                </a:lnTo>
                <a:lnTo>
                  <a:pt x="60" y="14"/>
                </a:lnTo>
                <a:lnTo>
                  <a:pt x="65" y="23"/>
                </a:lnTo>
                <a:lnTo>
                  <a:pt x="67" y="33"/>
                </a:lnTo>
                <a:lnTo>
                  <a:pt x="68" y="45"/>
                </a:lnTo>
                <a:lnTo>
                  <a:pt x="65" y="66"/>
                </a:lnTo>
                <a:lnTo>
                  <a:pt x="60" y="75"/>
                </a:lnTo>
                <a:lnTo>
                  <a:pt x="54" y="82"/>
                </a:lnTo>
                <a:lnTo>
                  <a:pt x="45" y="87"/>
                </a:lnTo>
                <a:lnTo>
                  <a:pt x="36" y="88"/>
                </a:lnTo>
                <a:lnTo>
                  <a:pt x="25" y="87"/>
                </a:lnTo>
                <a:lnTo>
                  <a:pt x="16" y="82"/>
                </a:lnTo>
                <a:lnTo>
                  <a:pt x="9" y="75"/>
                </a:lnTo>
                <a:lnTo>
                  <a:pt x="5" y="66"/>
                </a:lnTo>
                <a:lnTo>
                  <a:pt x="1" y="56"/>
                </a:lnTo>
                <a:lnTo>
                  <a:pt x="0" y="45"/>
                </a:lnTo>
                <a:lnTo>
                  <a:pt x="5" y="23"/>
                </a:lnTo>
                <a:lnTo>
                  <a:pt x="9" y="14"/>
                </a:lnTo>
                <a:lnTo>
                  <a:pt x="16" y="7"/>
                </a:lnTo>
                <a:lnTo>
                  <a:pt x="25" y="2"/>
                </a:lnTo>
                <a:lnTo>
                  <a:pt x="36" y="0"/>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81" name="Freeform 180"/>
          <p:cNvSpPr/>
          <p:nvPr/>
        </p:nvSpPr>
        <p:spPr>
          <a:xfrm>
            <a:off x="3643200" y="5060880"/>
            <a:ext cx="30240" cy="79560"/>
          </a:xfrm>
          <a:custGeom>
            <a:avLst/>
            <a:gdLst>
              <a:gd name="textAreaLeft" fmla="*/ 0 w 30240"/>
              <a:gd name="textAreaRight" fmla="*/ 30600 w 30240"/>
              <a:gd name="textAreaTop" fmla="*/ 0 h 79560"/>
              <a:gd name="textAreaBottom" fmla="*/ 79920 h 79560"/>
            </a:gdLst>
            <a:ahLst/>
            <a:rect l="textAreaLeft" t="textAreaTop" r="textAreaRight" b="textAreaBottom"/>
            <a:pathLst>
              <a:path w="38" h="100">
                <a:moveTo>
                  <a:pt x="0" y="100"/>
                </a:moveTo>
                <a:lnTo>
                  <a:pt x="0" y="100"/>
                </a:lnTo>
                <a:lnTo>
                  <a:pt x="2" y="100"/>
                </a:lnTo>
                <a:lnTo>
                  <a:pt x="3" y="100"/>
                </a:lnTo>
                <a:lnTo>
                  <a:pt x="4" y="100"/>
                </a:lnTo>
                <a:lnTo>
                  <a:pt x="6" y="100"/>
                </a:lnTo>
                <a:lnTo>
                  <a:pt x="7" y="100"/>
                </a:lnTo>
                <a:lnTo>
                  <a:pt x="8" y="99"/>
                </a:lnTo>
                <a:lnTo>
                  <a:pt x="10" y="98"/>
                </a:lnTo>
                <a:lnTo>
                  <a:pt x="13" y="96"/>
                </a:lnTo>
                <a:lnTo>
                  <a:pt x="15" y="95"/>
                </a:lnTo>
                <a:lnTo>
                  <a:pt x="17" y="94"/>
                </a:lnTo>
                <a:lnTo>
                  <a:pt x="18" y="93"/>
                </a:lnTo>
                <a:lnTo>
                  <a:pt x="20" y="92"/>
                </a:lnTo>
                <a:lnTo>
                  <a:pt x="21" y="91"/>
                </a:lnTo>
                <a:lnTo>
                  <a:pt x="22" y="90"/>
                </a:lnTo>
                <a:lnTo>
                  <a:pt x="23" y="89"/>
                </a:lnTo>
                <a:lnTo>
                  <a:pt x="24" y="88"/>
                </a:lnTo>
                <a:lnTo>
                  <a:pt x="26" y="87"/>
                </a:lnTo>
                <a:lnTo>
                  <a:pt x="27" y="86"/>
                </a:lnTo>
                <a:lnTo>
                  <a:pt x="28" y="85"/>
                </a:lnTo>
                <a:lnTo>
                  <a:pt x="29" y="83"/>
                </a:lnTo>
                <a:lnTo>
                  <a:pt x="30" y="81"/>
                </a:lnTo>
                <a:lnTo>
                  <a:pt x="31" y="79"/>
                </a:lnTo>
                <a:lnTo>
                  <a:pt x="32" y="77"/>
                </a:lnTo>
                <a:lnTo>
                  <a:pt x="33" y="75"/>
                </a:lnTo>
                <a:lnTo>
                  <a:pt x="33" y="73"/>
                </a:lnTo>
                <a:lnTo>
                  <a:pt x="33" y="72"/>
                </a:lnTo>
                <a:lnTo>
                  <a:pt x="34" y="71"/>
                </a:lnTo>
                <a:lnTo>
                  <a:pt x="35" y="69"/>
                </a:lnTo>
                <a:lnTo>
                  <a:pt x="36" y="67"/>
                </a:lnTo>
                <a:lnTo>
                  <a:pt x="36" y="65"/>
                </a:lnTo>
                <a:lnTo>
                  <a:pt x="36" y="64"/>
                </a:lnTo>
                <a:lnTo>
                  <a:pt x="37" y="63"/>
                </a:lnTo>
                <a:lnTo>
                  <a:pt x="37" y="61"/>
                </a:lnTo>
                <a:lnTo>
                  <a:pt x="37" y="60"/>
                </a:lnTo>
                <a:lnTo>
                  <a:pt x="37" y="59"/>
                </a:lnTo>
                <a:lnTo>
                  <a:pt x="37" y="56"/>
                </a:lnTo>
                <a:lnTo>
                  <a:pt x="37" y="55"/>
                </a:lnTo>
                <a:lnTo>
                  <a:pt x="38" y="54"/>
                </a:lnTo>
                <a:lnTo>
                  <a:pt x="38" y="52"/>
                </a:lnTo>
                <a:lnTo>
                  <a:pt x="38" y="51"/>
                </a:lnTo>
                <a:lnTo>
                  <a:pt x="38" y="50"/>
                </a:lnTo>
                <a:lnTo>
                  <a:pt x="38" y="48"/>
                </a:lnTo>
                <a:lnTo>
                  <a:pt x="38" y="47"/>
                </a:lnTo>
                <a:lnTo>
                  <a:pt x="38" y="46"/>
                </a:lnTo>
                <a:lnTo>
                  <a:pt x="37" y="42"/>
                </a:lnTo>
                <a:lnTo>
                  <a:pt x="37" y="41"/>
                </a:lnTo>
                <a:lnTo>
                  <a:pt x="37" y="40"/>
                </a:lnTo>
                <a:lnTo>
                  <a:pt x="37" y="38"/>
                </a:lnTo>
                <a:lnTo>
                  <a:pt x="37" y="37"/>
                </a:lnTo>
                <a:lnTo>
                  <a:pt x="37" y="36"/>
                </a:lnTo>
                <a:lnTo>
                  <a:pt x="36" y="34"/>
                </a:lnTo>
                <a:lnTo>
                  <a:pt x="36" y="33"/>
                </a:lnTo>
                <a:lnTo>
                  <a:pt x="36" y="32"/>
                </a:lnTo>
                <a:lnTo>
                  <a:pt x="34" y="30"/>
                </a:lnTo>
                <a:lnTo>
                  <a:pt x="34" y="28"/>
                </a:lnTo>
                <a:lnTo>
                  <a:pt x="33" y="26"/>
                </a:lnTo>
                <a:lnTo>
                  <a:pt x="33" y="25"/>
                </a:lnTo>
                <a:lnTo>
                  <a:pt x="33" y="24"/>
                </a:lnTo>
                <a:lnTo>
                  <a:pt x="31" y="22"/>
                </a:lnTo>
                <a:lnTo>
                  <a:pt x="31" y="20"/>
                </a:lnTo>
                <a:lnTo>
                  <a:pt x="29" y="18"/>
                </a:lnTo>
                <a:lnTo>
                  <a:pt x="29" y="16"/>
                </a:lnTo>
                <a:lnTo>
                  <a:pt x="27" y="14"/>
                </a:lnTo>
                <a:lnTo>
                  <a:pt x="27" y="13"/>
                </a:lnTo>
                <a:lnTo>
                  <a:pt x="24" y="12"/>
                </a:lnTo>
                <a:lnTo>
                  <a:pt x="23" y="11"/>
                </a:lnTo>
                <a:lnTo>
                  <a:pt x="23" y="10"/>
                </a:lnTo>
                <a:lnTo>
                  <a:pt x="21" y="9"/>
                </a:lnTo>
                <a:lnTo>
                  <a:pt x="20" y="8"/>
                </a:lnTo>
                <a:lnTo>
                  <a:pt x="20" y="7"/>
                </a:lnTo>
                <a:lnTo>
                  <a:pt x="18" y="6"/>
                </a:lnTo>
                <a:lnTo>
                  <a:pt x="17" y="5"/>
                </a:lnTo>
                <a:lnTo>
                  <a:pt x="14" y="4"/>
                </a:lnTo>
                <a:lnTo>
                  <a:pt x="13" y="3"/>
                </a:lnTo>
                <a:lnTo>
                  <a:pt x="9" y="2"/>
                </a:lnTo>
                <a:lnTo>
                  <a:pt x="8" y="1"/>
                </a:lnTo>
                <a:lnTo>
                  <a:pt x="7" y="1"/>
                </a:lnTo>
                <a:lnTo>
                  <a:pt x="5" y="1"/>
                </a:lnTo>
                <a:lnTo>
                  <a:pt x="4" y="1"/>
                </a:lnTo>
                <a:lnTo>
                  <a:pt x="4" y="0"/>
                </a:lnTo>
                <a:lnTo>
                  <a:pt x="3" y="0"/>
                </a:lnTo>
                <a:lnTo>
                  <a:pt x="1" y="0"/>
                </a:lnTo>
                <a:lnTo>
                  <a:pt x="0" y="0"/>
                </a:lnTo>
                <a:lnTo>
                  <a:pt x="0" y="1"/>
                </a:lnTo>
                <a:lnTo>
                  <a:pt x="0" y="2"/>
                </a:lnTo>
                <a:lnTo>
                  <a:pt x="0" y="7"/>
                </a:lnTo>
                <a:lnTo>
                  <a:pt x="0" y="11"/>
                </a:lnTo>
                <a:lnTo>
                  <a:pt x="1" y="11"/>
                </a:lnTo>
                <a:lnTo>
                  <a:pt x="2" y="11"/>
                </a:lnTo>
                <a:lnTo>
                  <a:pt x="4" y="12"/>
                </a:lnTo>
                <a:lnTo>
                  <a:pt x="5" y="12"/>
                </a:lnTo>
                <a:lnTo>
                  <a:pt x="7" y="13"/>
                </a:lnTo>
                <a:lnTo>
                  <a:pt x="8" y="13"/>
                </a:lnTo>
                <a:lnTo>
                  <a:pt x="9" y="14"/>
                </a:lnTo>
                <a:lnTo>
                  <a:pt x="10" y="14"/>
                </a:lnTo>
                <a:lnTo>
                  <a:pt x="12" y="15"/>
                </a:lnTo>
                <a:lnTo>
                  <a:pt x="13" y="15"/>
                </a:lnTo>
                <a:lnTo>
                  <a:pt x="14" y="17"/>
                </a:lnTo>
                <a:lnTo>
                  <a:pt x="15" y="17"/>
                </a:lnTo>
                <a:lnTo>
                  <a:pt x="16" y="19"/>
                </a:lnTo>
                <a:lnTo>
                  <a:pt x="17" y="20"/>
                </a:lnTo>
                <a:lnTo>
                  <a:pt x="18" y="22"/>
                </a:lnTo>
                <a:lnTo>
                  <a:pt x="19" y="22"/>
                </a:lnTo>
                <a:lnTo>
                  <a:pt x="19" y="23"/>
                </a:lnTo>
                <a:lnTo>
                  <a:pt x="19" y="24"/>
                </a:lnTo>
                <a:lnTo>
                  <a:pt x="19" y="25"/>
                </a:lnTo>
                <a:lnTo>
                  <a:pt x="20" y="25"/>
                </a:lnTo>
                <a:lnTo>
                  <a:pt x="21" y="27"/>
                </a:lnTo>
                <a:lnTo>
                  <a:pt x="22" y="28"/>
                </a:lnTo>
                <a:lnTo>
                  <a:pt x="22" y="29"/>
                </a:lnTo>
                <a:lnTo>
                  <a:pt x="22" y="30"/>
                </a:lnTo>
                <a:lnTo>
                  <a:pt x="22" y="31"/>
                </a:lnTo>
                <a:lnTo>
                  <a:pt x="23" y="31"/>
                </a:lnTo>
                <a:lnTo>
                  <a:pt x="23" y="32"/>
                </a:lnTo>
                <a:lnTo>
                  <a:pt x="23" y="33"/>
                </a:lnTo>
                <a:lnTo>
                  <a:pt x="23" y="34"/>
                </a:lnTo>
                <a:lnTo>
                  <a:pt x="24" y="34"/>
                </a:lnTo>
                <a:lnTo>
                  <a:pt x="24" y="35"/>
                </a:lnTo>
                <a:lnTo>
                  <a:pt x="24" y="37"/>
                </a:lnTo>
                <a:lnTo>
                  <a:pt x="24" y="38"/>
                </a:lnTo>
                <a:lnTo>
                  <a:pt x="26" y="38"/>
                </a:lnTo>
                <a:lnTo>
                  <a:pt x="26" y="39"/>
                </a:lnTo>
                <a:lnTo>
                  <a:pt x="26" y="41"/>
                </a:lnTo>
                <a:lnTo>
                  <a:pt x="26" y="42"/>
                </a:lnTo>
                <a:lnTo>
                  <a:pt x="26" y="44"/>
                </a:lnTo>
                <a:lnTo>
                  <a:pt x="26" y="45"/>
                </a:lnTo>
                <a:lnTo>
                  <a:pt x="26" y="46"/>
                </a:lnTo>
                <a:lnTo>
                  <a:pt x="27" y="46"/>
                </a:lnTo>
                <a:lnTo>
                  <a:pt x="27" y="47"/>
                </a:lnTo>
                <a:lnTo>
                  <a:pt x="27" y="49"/>
                </a:lnTo>
                <a:lnTo>
                  <a:pt x="27" y="50"/>
                </a:lnTo>
                <a:lnTo>
                  <a:pt x="27" y="51"/>
                </a:lnTo>
                <a:lnTo>
                  <a:pt x="27" y="53"/>
                </a:lnTo>
                <a:lnTo>
                  <a:pt x="27" y="54"/>
                </a:lnTo>
                <a:lnTo>
                  <a:pt x="26" y="56"/>
                </a:lnTo>
                <a:lnTo>
                  <a:pt x="26" y="57"/>
                </a:lnTo>
                <a:lnTo>
                  <a:pt x="26" y="58"/>
                </a:lnTo>
                <a:lnTo>
                  <a:pt x="26" y="60"/>
                </a:lnTo>
                <a:lnTo>
                  <a:pt x="26" y="61"/>
                </a:lnTo>
                <a:lnTo>
                  <a:pt x="24" y="64"/>
                </a:lnTo>
                <a:lnTo>
                  <a:pt x="24" y="65"/>
                </a:lnTo>
                <a:lnTo>
                  <a:pt x="23" y="67"/>
                </a:lnTo>
                <a:lnTo>
                  <a:pt x="23" y="68"/>
                </a:lnTo>
                <a:lnTo>
                  <a:pt x="22" y="70"/>
                </a:lnTo>
                <a:lnTo>
                  <a:pt x="22" y="71"/>
                </a:lnTo>
                <a:lnTo>
                  <a:pt x="21" y="72"/>
                </a:lnTo>
                <a:lnTo>
                  <a:pt x="20" y="73"/>
                </a:lnTo>
                <a:lnTo>
                  <a:pt x="20" y="74"/>
                </a:lnTo>
                <a:lnTo>
                  <a:pt x="19" y="76"/>
                </a:lnTo>
                <a:lnTo>
                  <a:pt x="19" y="77"/>
                </a:lnTo>
                <a:lnTo>
                  <a:pt x="18" y="78"/>
                </a:lnTo>
                <a:lnTo>
                  <a:pt x="17" y="79"/>
                </a:lnTo>
                <a:lnTo>
                  <a:pt x="16" y="80"/>
                </a:lnTo>
                <a:lnTo>
                  <a:pt x="15" y="81"/>
                </a:lnTo>
                <a:lnTo>
                  <a:pt x="15" y="82"/>
                </a:lnTo>
                <a:lnTo>
                  <a:pt x="14" y="83"/>
                </a:lnTo>
                <a:lnTo>
                  <a:pt x="13" y="84"/>
                </a:lnTo>
                <a:lnTo>
                  <a:pt x="12" y="85"/>
                </a:lnTo>
                <a:lnTo>
                  <a:pt x="10" y="85"/>
                </a:lnTo>
                <a:lnTo>
                  <a:pt x="9" y="86"/>
                </a:lnTo>
                <a:lnTo>
                  <a:pt x="8" y="86"/>
                </a:lnTo>
                <a:lnTo>
                  <a:pt x="6" y="87"/>
                </a:lnTo>
                <a:lnTo>
                  <a:pt x="5" y="87"/>
                </a:lnTo>
                <a:lnTo>
                  <a:pt x="3" y="88"/>
                </a:lnTo>
                <a:lnTo>
                  <a:pt x="2" y="88"/>
                </a:lnTo>
                <a:lnTo>
                  <a:pt x="1" y="88"/>
                </a:lnTo>
                <a:lnTo>
                  <a:pt x="0" y="88"/>
                </a:lnTo>
                <a:lnTo>
                  <a:pt x="0" y="100"/>
                </a:lnTo>
                <a:close/>
              </a:path>
            </a:pathLst>
          </a:custGeom>
          <a:solidFill>
            <a:srgbClr val="1f1a17"/>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82" name="Freeform 181"/>
          <p:cNvSpPr/>
          <p:nvPr/>
        </p:nvSpPr>
        <p:spPr>
          <a:xfrm>
            <a:off x="3611520" y="5060880"/>
            <a:ext cx="31680" cy="79560"/>
          </a:xfrm>
          <a:custGeom>
            <a:avLst/>
            <a:gdLst>
              <a:gd name="textAreaLeft" fmla="*/ 0 w 31680"/>
              <a:gd name="textAreaRight" fmla="*/ 32040 w 31680"/>
              <a:gd name="textAreaTop" fmla="*/ 0 h 79560"/>
              <a:gd name="textAreaBottom" fmla="*/ 79920 h 79560"/>
            </a:gdLst>
            <a:ahLst/>
            <a:rect l="textAreaLeft" t="textAreaTop" r="textAreaRight" b="textAreaBottom"/>
            <a:pathLst>
              <a:path w="41" h="100">
                <a:moveTo>
                  <a:pt x="41" y="0"/>
                </a:moveTo>
                <a:lnTo>
                  <a:pt x="41" y="0"/>
                </a:lnTo>
                <a:lnTo>
                  <a:pt x="40" y="0"/>
                </a:lnTo>
                <a:lnTo>
                  <a:pt x="36" y="0"/>
                </a:lnTo>
                <a:lnTo>
                  <a:pt x="35" y="0"/>
                </a:lnTo>
                <a:lnTo>
                  <a:pt x="32" y="1"/>
                </a:lnTo>
                <a:lnTo>
                  <a:pt x="31" y="1"/>
                </a:lnTo>
                <a:lnTo>
                  <a:pt x="27" y="3"/>
                </a:lnTo>
                <a:lnTo>
                  <a:pt x="26" y="3"/>
                </a:lnTo>
                <a:lnTo>
                  <a:pt x="25" y="4"/>
                </a:lnTo>
                <a:lnTo>
                  <a:pt x="24" y="5"/>
                </a:lnTo>
                <a:lnTo>
                  <a:pt x="23" y="5"/>
                </a:lnTo>
                <a:lnTo>
                  <a:pt x="21" y="6"/>
                </a:lnTo>
                <a:lnTo>
                  <a:pt x="19" y="7"/>
                </a:lnTo>
                <a:lnTo>
                  <a:pt x="18" y="7"/>
                </a:lnTo>
                <a:lnTo>
                  <a:pt x="17" y="8"/>
                </a:lnTo>
                <a:lnTo>
                  <a:pt x="16" y="9"/>
                </a:lnTo>
                <a:lnTo>
                  <a:pt x="15" y="10"/>
                </a:lnTo>
                <a:lnTo>
                  <a:pt x="14" y="11"/>
                </a:lnTo>
                <a:lnTo>
                  <a:pt x="13" y="12"/>
                </a:lnTo>
                <a:lnTo>
                  <a:pt x="12" y="13"/>
                </a:lnTo>
                <a:lnTo>
                  <a:pt x="11" y="14"/>
                </a:lnTo>
                <a:lnTo>
                  <a:pt x="10" y="15"/>
                </a:lnTo>
                <a:lnTo>
                  <a:pt x="10" y="16"/>
                </a:lnTo>
                <a:lnTo>
                  <a:pt x="9" y="17"/>
                </a:lnTo>
                <a:lnTo>
                  <a:pt x="8" y="19"/>
                </a:lnTo>
                <a:lnTo>
                  <a:pt x="8" y="20"/>
                </a:lnTo>
                <a:lnTo>
                  <a:pt x="6" y="21"/>
                </a:lnTo>
                <a:lnTo>
                  <a:pt x="5" y="23"/>
                </a:lnTo>
                <a:lnTo>
                  <a:pt x="5" y="24"/>
                </a:lnTo>
                <a:lnTo>
                  <a:pt x="4" y="25"/>
                </a:lnTo>
                <a:lnTo>
                  <a:pt x="3" y="26"/>
                </a:lnTo>
                <a:lnTo>
                  <a:pt x="3" y="27"/>
                </a:lnTo>
                <a:lnTo>
                  <a:pt x="2" y="31"/>
                </a:lnTo>
                <a:lnTo>
                  <a:pt x="2" y="32"/>
                </a:lnTo>
                <a:lnTo>
                  <a:pt x="1" y="35"/>
                </a:lnTo>
                <a:lnTo>
                  <a:pt x="1" y="36"/>
                </a:lnTo>
                <a:lnTo>
                  <a:pt x="0" y="39"/>
                </a:lnTo>
                <a:lnTo>
                  <a:pt x="0" y="40"/>
                </a:lnTo>
                <a:lnTo>
                  <a:pt x="0" y="41"/>
                </a:lnTo>
                <a:lnTo>
                  <a:pt x="0" y="45"/>
                </a:lnTo>
                <a:lnTo>
                  <a:pt x="0" y="46"/>
                </a:lnTo>
                <a:lnTo>
                  <a:pt x="0" y="47"/>
                </a:lnTo>
                <a:lnTo>
                  <a:pt x="0" y="49"/>
                </a:lnTo>
                <a:lnTo>
                  <a:pt x="0" y="50"/>
                </a:lnTo>
                <a:lnTo>
                  <a:pt x="0" y="51"/>
                </a:lnTo>
                <a:lnTo>
                  <a:pt x="0" y="53"/>
                </a:lnTo>
                <a:lnTo>
                  <a:pt x="0" y="54"/>
                </a:lnTo>
                <a:lnTo>
                  <a:pt x="0" y="55"/>
                </a:lnTo>
                <a:lnTo>
                  <a:pt x="0" y="58"/>
                </a:lnTo>
                <a:lnTo>
                  <a:pt x="0" y="59"/>
                </a:lnTo>
                <a:lnTo>
                  <a:pt x="0" y="60"/>
                </a:lnTo>
                <a:lnTo>
                  <a:pt x="0" y="62"/>
                </a:lnTo>
                <a:lnTo>
                  <a:pt x="0" y="63"/>
                </a:lnTo>
                <a:lnTo>
                  <a:pt x="1" y="63"/>
                </a:lnTo>
                <a:lnTo>
                  <a:pt x="1" y="64"/>
                </a:lnTo>
                <a:lnTo>
                  <a:pt x="1" y="66"/>
                </a:lnTo>
                <a:lnTo>
                  <a:pt x="1" y="67"/>
                </a:lnTo>
                <a:lnTo>
                  <a:pt x="2" y="67"/>
                </a:lnTo>
                <a:lnTo>
                  <a:pt x="2" y="68"/>
                </a:lnTo>
                <a:lnTo>
                  <a:pt x="2" y="71"/>
                </a:lnTo>
                <a:lnTo>
                  <a:pt x="2" y="72"/>
                </a:lnTo>
                <a:lnTo>
                  <a:pt x="3" y="72"/>
                </a:lnTo>
                <a:lnTo>
                  <a:pt x="4" y="74"/>
                </a:lnTo>
                <a:lnTo>
                  <a:pt x="5" y="75"/>
                </a:lnTo>
                <a:lnTo>
                  <a:pt x="6" y="78"/>
                </a:lnTo>
                <a:lnTo>
                  <a:pt x="8" y="79"/>
                </a:lnTo>
                <a:lnTo>
                  <a:pt x="9" y="82"/>
                </a:lnTo>
                <a:lnTo>
                  <a:pt x="10" y="83"/>
                </a:lnTo>
                <a:lnTo>
                  <a:pt x="11" y="85"/>
                </a:lnTo>
                <a:lnTo>
                  <a:pt x="12" y="86"/>
                </a:lnTo>
                <a:lnTo>
                  <a:pt x="13" y="88"/>
                </a:lnTo>
                <a:lnTo>
                  <a:pt x="14" y="89"/>
                </a:lnTo>
                <a:lnTo>
                  <a:pt x="15" y="89"/>
                </a:lnTo>
                <a:lnTo>
                  <a:pt x="16" y="91"/>
                </a:lnTo>
                <a:lnTo>
                  <a:pt x="17" y="92"/>
                </a:lnTo>
                <a:lnTo>
                  <a:pt x="18" y="92"/>
                </a:lnTo>
                <a:lnTo>
                  <a:pt x="20" y="94"/>
                </a:lnTo>
                <a:lnTo>
                  <a:pt x="23" y="94"/>
                </a:lnTo>
                <a:lnTo>
                  <a:pt x="25" y="96"/>
                </a:lnTo>
                <a:lnTo>
                  <a:pt x="26" y="96"/>
                </a:lnTo>
                <a:lnTo>
                  <a:pt x="29" y="99"/>
                </a:lnTo>
                <a:lnTo>
                  <a:pt x="30" y="99"/>
                </a:lnTo>
                <a:lnTo>
                  <a:pt x="31" y="99"/>
                </a:lnTo>
                <a:lnTo>
                  <a:pt x="33" y="100"/>
                </a:lnTo>
                <a:lnTo>
                  <a:pt x="34" y="100"/>
                </a:lnTo>
                <a:lnTo>
                  <a:pt x="35" y="100"/>
                </a:lnTo>
                <a:lnTo>
                  <a:pt x="39" y="100"/>
                </a:lnTo>
                <a:lnTo>
                  <a:pt x="40" y="100"/>
                </a:lnTo>
                <a:lnTo>
                  <a:pt x="41" y="100"/>
                </a:lnTo>
                <a:lnTo>
                  <a:pt x="41" y="99"/>
                </a:lnTo>
                <a:lnTo>
                  <a:pt x="41" y="93"/>
                </a:lnTo>
                <a:lnTo>
                  <a:pt x="41" y="89"/>
                </a:lnTo>
                <a:lnTo>
                  <a:pt x="41" y="88"/>
                </a:lnTo>
                <a:lnTo>
                  <a:pt x="40" y="88"/>
                </a:lnTo>
                <a:lnTo>
                  <a:pt x="38" y="88"/>
                </a:lnTo>
                <a:lnTo>
                  <a:pt x="36" y="88"/>
                </a:lnTo>
                <a:lnTo>
                  <a:pt x="35" y="88"/>
                </a:lnTo>
                <a:lnTo>
                  <a:pt x="34" y="88"/>
                </a:lnTo>
                <a:lnTo>
                  <a:pt x="33" y="88"/>
                </a:lnTo>
                <a:lnTo>
                  <a:pt x="33" y="87"/>
                </a:lnTo>
                <a:lnTo>
                  <a:pt x="31" y="86"/>
                </a:lnTo>
                <a:lnTo>
                  <a:pt x="30" y="86"/>
                </a:lnTo>
                <a:lnTo>
                  <a:pt x="29" y="86"/>
                </a:lnTo>
                <a:lnTo>
                  <a:pt x="28" y="86"/>
                </a:lnTo>
                <a:lnTo>
                  <a:pt x="28" y="85"/>
                </a:lnTo>
                <a:lnTo>
                  <a:pt x="26" y="84"/>
                </a:lnTo>
                <a:lnTo>
                  <a:pt x="26" y="83"/>
                </a:lnTo>
                <a:lnTo>
                  <a:pt x="24" y="82"/>
                </a:lnTo>
                <a:lnTo>
                  <a:pt x="21" y="80"/>
                </a:lnTo>
                <a:lnTo>
                  <a:pt x="21" y="79"/>
                </a:lnTo>
                <a:lnTo>
                  <a:pt x="19" y="78"/>
                </a:lnTo>
                <a:lnTo>
                  <a:pt x="19" y="77"/>
                </a:lnTo>
                <a:lnTo>
                  <a:pt x="17" y="75"/>
                </a:lnTo>
                <a:lnTo>
                  <a:pt x="17" y="74"/>
                </a:lnTo>
                <a:lnTo>
                  <a:pt x="16" y="72"/>
                </a:lnTo>
                <a:lnTo>
                  <a:pt x="16" y="71"/>
                </a:lnTo>
                <a:lnTo>
                  <a:pt x="15" y="69"/>
                </a:lnTo>
                <a:lnTo>
                  <a:pt x="15" y="68"/>
                </a:lnTo>
                <a:lnTo>
                  <a:pt x="14" y="66"/>
                </a:lnTo>
                <a:lnTo>
                  <a:pt x="14" y="65"/>
                </a:lnTo>
                <a:lnTo>
                  <a:pt x="13" y="63"/>
                </a:lnTo>
                <a:lnTo>
                  <a:pt x="13" y="62"/>
                </a:lnTo>
                <a:lnTo>
                  <a:pt x="13" y="61"/>
                </a:lnTo>
                <a:lnTo>
                  <a:pt x="12" y="59"/>
                </a:lnTo>
                <a:lnTo>
                  <a:pt x="12" y="58"/>
                </a:lnTo>
                <a:lnTo>
                  <a:pt x="12" y="57"/>
                </a:lnTo>
                <a:lnTo>
                  <a:pt x="12" y="56"/>
                </a:lnTo>
                <a:lnTo>
                  <a:pt x="12" y="55"/>
                </a:lnTo>
                <a:lnTo>
                  <a:pt x="12" y="54"/>
                </a:lnTo>
                <a:lnTo>
                  <a:pt x="12" y="52"/>
                </a:lnTo>
                <a:lnTo>
                  <a:pt x="12" y="51"/>
                </a:lnTo>
                <a:lnTo>
                  <a:pt x="12" y="50"/>
                </a:lnTo>
                <a:lnTo>
                  <a:pt x="12" y="48"/>
                </a:lnTo>
                <a:lnTo>
                  <a:pt x="12" y="47"/>
                </a:lnTo>
                <a:lnTo>
                  <a:pt x="12" y="46"/>
                </a:lnTo>
                <a:lnTo>
                  <a:pt x="12" y="45"/>
                </a:lnTo>
                <a:lnTo>
                  <a:pt x="12" y="44"/>
                </a:lnTo>
                <a:lnTo>
                  <a:pt x="12" y="42"/>
                </a:lnTo>
                <a:lnTo>
                  <a:pt x="12" y="40"/>
                </a:lnTo>
                <a:lnTo>
                  <a:pt x="12" y="39"/>
                </a:lnTo>
                <a:lnTo>
                  <a:pt x="13" y="38"/>
                </a:lnTo>
                <a:lnTo>
                  <a:pt x="13" y="36"/>
                </a:lnTo>
                <a:lnTo>
                  <a:pt x="13" y="35"/>
                </a:lnTo>
                <a:lnTo>
                  <a:pt x="14" y="34"/>
                </a:lnTo>
                <a:lnTo>
                  <a:pt x="14" y="33"/>
                </a:lnTo>
                <a:lnTo>
                  <a:pt x="14" y="32"/>
                </a:lnTo>
                <a:lnTo>
                  <a:pt x="15" y="31"/>
                </a:lnTo>
                <a:lnTo>
                  <a:pt x="15" y="30"/>
                </a:lnTo>
                <a:lnTo>
                  <a:pt x="15" y="29"/>
                </a:lnTo>
                <a:lnTo>
                  <a:pt x="16" y="28"/>
                </a:lnTo>
                <a:lnTo>
                  <a:pt x="16" y="27"/>
                </a:lnTo>
                <a:lnTo>
                  <a:pt x="16" y="26"/>
                </a:lnTo>
                <a:lnTo>
                  <a:pt x="17" y="25"/>
                </a:lnTo>
                <a:lnTo>
                  <a:pt x="18" y="24"/>
                </a:lnTo>
                <a:lnTo>
                  <a:pt x="19" y="22"/>
                </a:lnTo>
                <a:lnTo>
                  <a:pt x="20" y="21"/>
                </a:lnTo>
                <a:lnTo>
                  <a:pt x="21" y="20"/>
                </a:lnTo>
                <a:lnTo>
                  <a:pt x="23" y="19"/>
                </a:lnTo>
                <a:lnTo>
                  <a:pt x="24" y="17"/>
                </a:lnTo>
                <a:lnTo>
                  <a:pt x="26" y="16"/>
                </a:lnTo>
                <a:lnTo>
                  <a:pt x="27" y="15"/>
                </a:lnTo>
                <a:lnTo>
                  <a:pt x="28" y="14"/>
                </a:lnTo>
                <a:lnTo>
                  <a:pt x="29" y="14"/>
                </a:lnTo>
                <a:lnTo>
                  <a:pt x="30" y="14"/>
                </a:lnTo>
                <a:lnTo>
                  <a:pt x="31" y="13"/>
                </a:lnTo>
                <a:lnTo>
                  <a:pt x="33" y="12"/>
                </a:lnTo>
                <a:lnTo>
                  <a:pt x="34" y="12"/>
                </a:lnTo>
                <a:lnTo>
                  <a:pt x="35" y="12"/>
                </a:lnTo>
                <a:lnTo>
                  <a:pt x="36" y="11"/>
                </a:lnTo>
                <a:lnTo>
                  <a:pt x="39" y="11"/>
                </a:lnTo>
                <a:lnTo>
                  <a:pt x="40" y="11"/>
                </a:lnTo>
                <a:lnTo>
                  <a:pt x="41" y="11"/>
                </a:lnTo>
                <a:lnTo>
                  <a:pt x="41" y="0"/>
                </a:lnTo>
                <a:close/>
              </a:path>
            </a:pathLst>
          </a:custGeom>
          <a:solidFill>
            <a:srgbClr val="1f1a17"/>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83" name="Freeform 182"/>
          <p:cNvSpPr/>
          <p:nvPr/>
        </p:nvSpPr>
        <p:spPr>
          <a:xfrm>
            <a:off x="4554360" y="5459400"/>
            <a:ext cx="346320" cy="266760"/>
          </a:xfrm>
          <a:custGeom>
            <a:avLst/>
            <a:gdLst>
              <a:gd name="textAreaLeft" fmla="*/ 0 w 346320"/>
              <a:gd name="textAreaRight" fmla="*/ 346680 w 346320"/>
              <a:gd name="textAreaTop" fmla="*/ 0 h 266760"/>
              <a:gd name="textAreaBottom" fmla="*/ 267120 h 266760"/>
            </a:gdLst>
            <a:ahLst/>
            <a:rect l="textAreaLeft" t="textAreaTop" r="textAreaRight" b="textAreaBottom"/>
            <a:pathLst>
              <a:path w="436" h="335">
                <a:moveTo>
                  <a:pt x="326" y="0"/>
                </a:moveTo>
                <a:lnTo>
                  <a:pt x="320" y="4"/>
                </a:lnTo>
                <a:lnTo>
                  <a:pt x="275" y="26"/>
                </a:lnTo>
                <a:lnTo>
                  <a:pt x="124" y="105"/>
                </a:lnTo>
                <a:lnTo>
                  <a:pt x="8" y="165"/>
                </a:lnTo>
                <a:lnTo>
                  <a:pt x="2" y="168"/>
                </a:lnTo>
                <a:lnTo>
                  <a:pt x="0" y="181"/>
                </a:lnTo>
                <a:lnTo>
                  <a:pt x="4" y="207"/>
                </a:lnTo>
                <a:lnTo>
                  <a:pt x="11" y="233"/>
                </a:lnTo>
                <a:lnTo>
                  <a:pt x="40" y="290"/>
                </a:lnTo>
                <a:lnTo>
                  <a:pt x="72" y="335"/>
                </a:lnTo>
                <a:lnTo>
                  <a:pt x="102" y="335"/>
                </a:lnTo>
                <a:lnTo>
                  <a:pt x="149" y="331"/>
                </a:lnTo>
                <a:lnTo>
                  <a:pt x="217" y="309"/>
                </a:lnTo>
                <a:lnTo>
                  <a:pt x="286" y="260"/>
                </a:lnTo>
                <a:lnTo>
                  <a:pt x="309" y="242"/>
                </a:lnTo>
                <a:lnTo>
                  <a:pt x="310" y="242"/>
                </a:lnTo>
                <a:lnTo>
                  <a:pt x="318" y="241"/>
                </a:lnTo>
                <a:lnTo>
                  <a:pt x="346" y="237"/>
                </a:lnTo>
                <a:lnTo>
                  <a:pt x="367" y="234"/>
                </a:lnTo>
                <a:lnTo>
                  <a:pt x="369" y="233"/>
                </a:lnTo>
                <a:lnTo>
                  <a:pt x="379" y="228"/>
                </a:lnTo>
                <a:lnTo>
                  <a:pt x="410" y="211"/>
                </a:lnTo>
                <a:lnTo>
                  <a:pt x="432" y="198"/>
                </a:lnTo>
                <a:lnTo>
                  <a:pt x="435" y="197"/>
                </a:lnTo>
                <a:lnTo>
                  <a:pt x="431" y="186"/>
                </a:lnTo>
                <a:lnTo>
                  <a:pt x="425" y="156"/>
                </a:lnTo>
                <a:lnTo>
                  <a:pt x="421" y="132"/>
                </a:lnTo>
                <a:lnTo>
                  <a:pt x="421" y="130"/>
                </a:lnTo>
                <a:lnTo>
                  <a:pt x="423" y="123"/>
                </a:lnTo>
                <a:lnTo>
                  <a:pt x="429" y="102"/>
                </a:lnTo>
                <a:lnTo>
                  <a:pt x="435" y="85"/>
                </a:lnTo>
                <a:lnTo>
                  <a:pt x="436" y="84"/>
                </a:lnTo>
                <a:lnTo>
                  <a:pt x="435" y="82"/>
                </a:lnTo>
                <a:lnTo>
                  <a:pt x="430" y="74"/>
                </a:lnTo>
                <a:lnTo>
                  <a:pt x="414" y="44"/>
                </a:lnTo>
                <a:lnTo>
                  <a:pt x="402" y="21"/>
                </a:lnTo>
                <a:lnTo>
                  <a:pt x="402" y="19"/>
                </a:lnTo>
                <a:lnTo>
                  <a:pt x="400" y="19"/>
                </a:lnTo>
                <a:lnTo>
                  <a:pt x="390" y="17"/>
                </a:lnTo>
                <a:lnTo>
                  <a:pt x="354" y="8"/>
                </a:lnTo>
                <a:lnTo>
                  <a:pt x="327" y="1"/>
                </a:lnTo>
                <a:lnTo>
                  <a:pt x="3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Freeform 183"/>
          <p:cNvSpPr/>
          <p:nvPr/>
        </p:nvSpPr>
        <p:spPr>
          <a:xfrm>
            <a:off x="4551480" y="5454720"/>
            <a:ext cx="263520" cy="141120"/>
          </a:xfrm>
          <a:custGeom>
            <a:avLst/>
            <a:gdLst>
              <a:gd name="textAreaLeft" fmla="*/ 0 w 263520"/>
              <a:gd name="textAreaRight" fmla="*/ 263880 w 263520"/>
              <a:gd name="textAreaTop" fmla="*/ 0 h 141120"/>
              <a:gd name="textAreaBottom" fmla="*/ 141480 h 141120"/>
            </a:gdLst>
            <a:ahLst/>
            <a:rect l="textAreaLeft" t="textAreaTop" r="textAreaRight" b="textAreaBottom"/>
            <a:pathLst>
              <a:path w="332" h="177">
                <a:moveTo>
                  <a:pt x="12" y="173"/>
                </a:moveTo>
                <a:lnTo>
                  <a:pt x="11" y="174"/>
                </a:lnTo>
                <a:lnTo>
                  <a:pt x="10" y="176"/>
                </a:lnTo>
                <a:lnTo>
                  <a:pt x="9" y="177"/>
                </a:lnTo>
                <a:lnTo>
                  <a:pt x="14" y="174"/>
                </a:lnTo>
                <a:lnTo>
                  <a:pt x="59" y="152"/>
                </a:lnTo>
                <a:lnTo>
                  <a:pt x="210" y="73"/>
                </a:lnTo>
                <a:lnTo>
                  <a:pt x="326" y="13"/>
                </a:lnTo>
                <a:lnTo>
                  <a:pt x="332" y="9"/>
                </a:lnTo>
                <a:lnTo>
                  <a:pt x="331" y="8"/>
                </a:lnTo>
                <a:lnTo>
                  <a:pt x="328" y="4"/>
                </a:lnTo>
                <a:lnTo>
                  <a:pt x="327" y="1"/>
                </a:lnTo>
                <a:lnTo>
                  <a:pt x="327" y="0"/>
                </a:lnTo>
                <a:lnTo>
                  <a:pt x="321" y="4"/>
                </a:lnTo>
                <a:lnTo>
                  <a:pt x="276" y="26"/>
                </a:lnTo>
                <a:lnTo>
                  <a:pt x="124" y="105"/>
                </a:lnTo>
                <a:lnTo>
                  <a:pt x="9" y="165"/>
                </a:lnTo>
                <a:lnTo>
                  <a:pt x="3" y="168"/>
                </a:lnTo>
                <a:lnTo>
                  <a:pt x="2" y="169"/>
                </a:lnTo>
                <a:lnTo>
                  <a:pt x="1" y="171"/>
                </a:lnTo>
                <a:lnTo>
                  <a:pt x="0" y="172"/>
                </a:lnTo>
                <a:lnTo>
                  <a:pt x="1" y="170"/>
                </a:lnTo>
                <a:lnTo>
                  <a:pt x="2" y="169"/>
                </a:lnTo>
                <a:lnTo>
                  <a:pt x="3" y="168"/>
                </a:lnTo>
                <a:lnTo>
                  <a:pt x="1" y="169"/>
                </a:lnTo>
                <a:lnTo>
                  <a:pt x="0" y="169"/>
                </a:lnTo>
                <a:lnTo>
                  <a:pt x="0" y="170"/>
                </a:lnTo>
                <a:lnTo>
                  <a:pt x="0" y="171"/>
                </a:lnTo>
                <a:lnTo>
                  <a:pt x="0" y="172"/>
                </a:lnTo>
                <a:lnTo>
                  <a:pt x="12" y="17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184"/>
          <p:cNvSpPr/>
          <p:nvPr/>
        </p:nvSpPr>
        <p:spPr>
          <a:xfrm>
            <a:off x="4549680" y="5592600"/>
            <a:ext cx="65160" cy="136800"/>
          </a:xfrm>
          <a:custGeom>
            <a:avLst/>
            <a:gdLst>
              <a:gd name="textAreaLeft" fmla="*/ 0 w 65160"/>
              <a:gd name="textAreaRight" fmla="*/ 65520 w 65160"/>
              <a:gd name="textAreaTop" fmla="*/ 0 h 136800"/>
              <a:gd name="textAreaBottom" fmla="*/ 137160 h 136800"/>
            </a:gdLst>
            <a:ahLst/>
            <a:rect l="textAreaLeft" t="textAreaTop" r="textAreaRight" b="textAreaBottom"/>
            <a:pathLst>
              <a:path w="81" h="173">
                <a:moveTo>
                  <a:pt x="77" y="162"/>
                </a:moveTo>
                <a:lnTo>
                  <a:pt x="79" y="164"/>
                </a:lnTo>
                <a:lnTo>
                  <a:pt x="81" y="164"/>
                </a:lnTo>
                <a:lnTo>
                  <a:pt x="78" y="161"/>
                </a:lnTo>
                <a:lnTo>
                  <a:pt x="77" y="160"/>
                </a:lnTo>
                <a:lnTo>
                  <a:pt x="77" y="159"/>
                </a:lnTo>
                <a:lnTo>
                  <a:pt x="74" y="156"/>
                </a:lnTo>
                <a:lnTo>
                  <a:pt x="73" y="154"/>
                </a:lnTo>
                <a:lnTo>
                  <a:pt x="73" y="153"/>
                </a:lnTo>
                <a:lnTo>
                  <a:pt x="70" y="150"/>
                </a:lnTo>
                <a:lnTo>
                  <a:pt x="69" y="149"/>
                </a:lnTo>
                <a:lnTo>
                  <a:pt x="69" y="148"/>
                </a:lnTo>
                <a:lnTo>
                  <a:pt x="65" y="145"/>
                </a:lnTo>
                <a:lnTo>
                  <a:pt x="64" y="143"/>
                </a:lnTo>
                <a:lnTo>
                  <a:pt x="64" y="142"/>
                </a:lnTo>
                <a:lnTo>
                  <a:pt x="62" y="139"/>
                </a:lnTo>
                <a:lnTo>
                  <a:pt x="61" y="138"/>
                </a:lnTo>
                <a:lnTo>
                  <a:pt x="61" y="137"/>
                </a:lnTo>
                <a:lnTo>
                  <a:pt x="58" y="134"/>
                </a:lnTo>
                <a:lnTo>
                  <a:pt x="57" y="131"/>
                </a:lnTo>
                <a:lnTo>
                  <a:pt x="57" y="130"/>
                </a:lnTo>
                <a:lnTo>
                  <a:pt x="55" y="127"/>
                </a:lnTo>
                <a:lnTo>
                  <a:pt x="54" y="126"/>
                </a:lnTo>
                <a:lnTo>
                  <a:pt x="54" y="125"/>
                </a:lnTo>
                <a:lnTo>
                  <a:pt x="51" y="122"/>
                </a:lnTo>
                <a:lnTo>
                  <a:pt x="50" y="120"/>
                </a:lnTo>
                <a:lnTo>
                  <a:pt x="50" y="119"/>
                </a:lnTo>
                <a:lnTo>
                  <a:pt x="47" y="116"/>
                </a:lnTo>
                <a:lnTo>
                  <a:pt x="46" y="115"/>
                </a:lnTo>
                <a:lnTo>
                  <a:pt x="46" y="114"/>
                </a:lnTo>
                <a:lnTo>
                  <a:pt x="44" y="111"/>
                </a:lnTo>
                <a:lnTo>
                  <a:pt x="43" y="110"/>
                </a:lnTo>
                <a:lnTo>
                  <a:pt x="43" y="109"/>
                </a:lnTo>
                <a:lnTo>
                  <a:pt x="41" y="106"/>
                </a:lnTo>
                <a:lnTo>
                  <a:pt x="40" y="105"/>
                </a:lnTo>
                <a:lnTo>
                  <a:pt x="40" y="104"/>
                </a:lnTo>
                <a:lnTo>
                  <a:pt x="37" y="101"/>
                </a:lnTo>
                <a:lnTo>
                  <a:pt x="37" y="99"/>
                </a:lnTo>
                <a:lnTo>
                  <a:pt x="37" y="98"/>
                </a:lnTo>
                <a:lnTo>
                  <a:pt x="35" y="95"/>
                </a:lnTo>
                <a:lnTo>
                  <a:pt x="34" y="94"/>
                </a:lnTo>
                <a:lnTo>
                  <a:pt x="34" y="93"/>
                </a:lnTo>
                <a:lnTo>
                  <a:pt x="32" y="90"/>
                </a:lnTo>
                <a:lnTo>
                  <a:pt x="31" y="89"/>
                </a:lnTo>
                <a:lnTo>
                  <a:pt x="31" y="88"/>
                </a:lnTo>
                <a:lnTo>
                  <a:pt x="29" y="85"/>
                </a:lnTo>
                <a:lnTo>
                  <a:pt x="29" y="84"/>
                </a:lnTo>
                <a:lnTo>
                  <a:pt x="29" y="83"/>
                </a:lnTo>
                <a:lnTo>
                  <a:pt x="27" y="80"/>
                </a:lnTo>
                <a:lnTo>
                  <a:pt x="27" y="78"/>
                </a:lnTo>
                <a:lnTo>
                  <a:pt x="27" y="77"/>
                </a:lnTo>
                <a:lnTo>
                  <a:pt x="25" y="74"/>
                </a:lnTo>
                <a:lnTo>
                  <a:pt x="25" y="73"/>
                </a:lnTo>
                <a:lnTo>
                  <a:pt x="25" y="72"/>
                </a:lnTo>
                <a:lnTo>
                  <a:pt x="22" y="69"/>
                </a:lnTo>
                <a:lnTo>
                  <a:pt x="22" y="68"/>
                </a:lnTo>
                <a:lnTo>
                  <a:pt x="22" y="67"/>
                </a:lnTo>
                <a:lnTo>
                  <a:pt x="20" y="64"/>
                </a:lnTo>
                <a:lnTo>
                  <a:pt x="20" y="63"/>
                </a:lnTo>
                <a:lnTo>
                  <a:pt x="20" y="62"/>
                </a:lnTo>
                <a:lnTo>
                  <a:pt x="19" y="59"/>
                </a:lnTo>
                <a:lnTo>
                  <a:pt x="19" y="58"/>
                </a:lnTo>
                <a:lnTo>
                  <a:pt x="19" y="57"/>
                </a:lnTo>
                <a:lnTo>
                  <a:pt x="17" y="54"/>
                </a:lnTo>
                <a:lnTo>
                  <a:pt x="17" y="53"/>
                </a:lnTo>
                <a:lnTo>
                  <a:pt x="17" y="52"/>
                </a:lnTo>
                <a:lnTo>
                  <a:pt x="16" y="49"/>
                </a:lnTo>
                <a:lnTo>
                  <a:pt x="16" y="48"/>
                </a:lnTo>
                <a:lnTo>
                  <a:pt x="16" y="47"/>
                </a:lnTo>
                <a:lnTo>
                  <a:pt x="15" y="45"/>
                </a:lnTo>
                <a:lnTo>
                  <a:pt x="15" y="44"/>
                </a:lnTo>
                <a:lnTo>
                  <a:pt x="15" y="43"/>
                </a:lnTo>
                <a:lnTo>
                  <a:pt x="14" y="40"/>
                </a:lnTo>
                <a:lnTo>
                  <a:pt x="14" y="39"/>
                </a:lnTo>
                <a:lnTo>
                  <a:pt x="14" y="38"/>
                </a:lnTo>
                <a:lnTo>
                  <a:pt x="13" y="35"/>
                </a:lnTo>
                <a:lnTo>
                  <a:pt x="13" y="34"/>
                </a:lnTo>
                <a:lnTo>
                  <a:pt x="13" y="33"/>
                </a:lnTo>
                <a:lnTo>
                  <a:pt x="13" y="31"/>
                </a:lnTo>
                <a:lnTo>
                  <a:pt x="13" y="30"/>
                </a:lnTo>
                <a:lnTo>
                  <a:pt x="13" y="29"/>
                </a:lnTo>
                <a:lnTo>
                  <a:pt x="12" y="26"/>
                </a:lnTo>
                <a:lnTo>
                  <a:pt x="12" y="24"/>
                </a:lnTo>
                <a:lnTo>
                  <a:pt x="12" y="23"/>
                </a:lnTo>
                <a:lnTo>
                  <a:pt x="12" y="21"/>
                </a:lnTo>
                <a:lnTo>
                  <a:pt x="12" y="20"/>
                </a:lnTo>
                <a:lnTo>
                  <a:pt x="12" y="19"/>
                </a:lnTo>
                <a:lnTo>
                  <a:pt x="12" y="16"/>
                </a:lnTo>
                <a:lnTo>
                  <a:pt x="12" y="15"/>
                </a:lnTo>
                <a:lnTo>
                  <a:pt x="12" y="14"/>
                </a:lnTo>
                <a:lnTo>
                  <a:pt x="12" y="12"/>
                </a:lnTo>
                <a:lnTo>
                  <a:pt x="12" y="11"/>
                </a:lnTo>
                <a:lnTo>
                  <a:pt x="12" y="10"/>
                </a:lnTo>
                <a:lnTo>
                  <a:pt x="12" y="8"/>
                </a:lnTo>
                <a:lnTo>
                  <a:pt x="12" y="7"/>
                </a:lnTo>
                <a:lnTo>
                  <a:pt x="12" y="6"/>
                </a:lnTo>
                <a:lnTo>
                  <a:pt x="12" y="3"/>
                </a:lnTo>
                <a:lnTo>
                  <a:pt x="12" y="2"/>
                </a:lnTo>
                <a:lnTo>
                  <a:pt x="13" y="1"/>
                </a:lnTo>
                <a:lnTo>
                  <a:pt x="12" y="1"/>
                </a:lnTo>
                <a:lnTo>
                  <a:pt x="11" y="1"/>
                </a:lnTo>
                <a:lnTo>
                  <a:pt x="5" y="1"/>
                </a:lnTo>
                <a:lnTo>
                  <a:pt x="1" y="1"/>
                </a:lnTo>
                <a:lnTo>
                  <a:pt x="1" y="0"/>
                </a:lnTo>
                <a:lnTo>
                  <a:pt x="0" y="3"/>
                </a:lnTo>
                <a:lnTo>
                  <a:pt x="0" y="4"/>
                </a:lnTo>
                <a:lnTo>
                  <a:pt x="0" y="5"/>
                </a:lnTo>
                <a:lnTo>
                  <a:pt x="0" y="8"/>
                </a:lnTo>
                <a:lnTo>
                  <a:pt x="0" y="9"/>
                </a:lnTo>
                <a:lnTo>
                  <a:pt x="0" y="10"/>
                </a:lnTo>
                <a:lnTo>
                  <a:pt x="0" y="13"/>
                </a:lnTo>
                <a:lnTo>
                  <a:pt x="0" y="14"/>
                </a:lnTo>
                <a:lnTo>
                  <a:pt x="0" y="15"/>
                </a:lnTo>
                <a:lnTo>
                  <a:pt x="0" y="18"/>
                </a:lnTo>
                <a:lnTo>
                  <a:pt x="0" y="19"/>
                </a:lnTo>
                <a:lnTo>
                  <a:pt x="0" y="20"/>
                </a:lnTo>
                <a:lnTo>
                  <a:pt x="0" y="23"/>
                </a:lnTo>
                <a:lnTo>
                  <a:pt x="0" y="24"/>
                </a:lnTo>
                <a:lnTo>
                  <a:pt x="0" y="26"/>
                </a:lnTo>
                <a:lnTo>
                  <a:pt x="0" y="29"/>
                </a:lnTo>
                <a:lnTo>
                  <a:pt x="0" y="30"/>
                </a:lnTo>
                <a:lnTo>
                  <a:pt x="1" y="30"/>
                </a:lnTo>
                <a:lnTo>
                  <a:pt x="1" y="31"/>
                </a:lnTo>
                <a:lnTo>
                  <a:pt x="1" y="34"/>
                </a:lnTo>
                <a:lnTo>
                  <a:pt x="1" y="35"/>
                </a:lnTo>
                <a:lnTo>
                  <a:pt x="1" y="36"/>
                </a:lnTo>
                <a:lnTo>
                  <a:pt x="1" y="39"/>
                </a:lnTo>
                <a:lnTo>
                  <a:pt x="1" y="40"/>
                </a:lnTo>
                <a:lnTo>
                  <a:pt x="2" y="40"/>
                </a:lnTo>
                <a:lnTo>
                  <a:pt x="2" y="41"/>
                </a:lnTo>
                <a:lnTo>
                  <a:pt x="2" y="44"/>
                </a:lnTo>
                <a:lnTo>
                  <a:pt x="2" y="45"/>
                </a:lnTo>
                <a:lnTo>
                  <a:pt x="3" y="45"/>
                </a:lnTo>
                <a:lnTo>
                  <a:pt x="3" y="46"/>
                </a:lnTo>
                <a:lnTo>
                  <a:pt x="3" y="49"/>
                </a:lnTo>
                <a:lnTo>
                  <a:pt x="3" y="50"/>
                </a:lnTo>
                <a:lnTo>
                  <a:pt x="4" y="50"/>
                </a:lnTo>
                <a:lnTo>
                  <a:pt x="4" y="51"/>
                </a:lnTo>
                <a:lnTo>
                  <a:pt x="5" y="54"/>
                </a:lnTo>
                <a:lnTo>
                  <a:pt x="5" y="55"/>
                </a:lnTo>
                <a:lnTo>
                  <a:pt x="6" y="55"/>
                </a:lnTo>
                <a:lnTo>
                  <a:pt x="6" y="56"/>
                </a:lnTo>
                <a:lnTo>
                  <a:pt x="6" y="59"/>
                </a:lnTo>
                <a:lnTo>
                  <a:pt x="6" y="60"/>
                </a:lnTo>
                <a:lnTo>
                  <a:pt x="7" y="60"/>
                </a:lnTo>
                <a:lnTo>
                  <a:pt x="7" y="61"/>
                </a:lnTo>
                <a:lnTo>
                  <a:pt x="9" y="64"/>
                </a:lnTo>
                <a:lnTo>
                  <a:pt x="9" y="65"/>
                </a:lnTo>
                <a:lnTo>
                  <a:pt x="10" y="65"/>
                </a:lnTo>
                <a:lnTo>
                  <a:pt x="10" y="66"/>
                </a:lnTo>
                <a:lnTo>
                  <a:pt x="11" y="69"/>
                </a:lnTo>
                <a:lnTo>
                  <a:pt x="11" y="71"/>
                </a:lnTo>
                <a:lnTo>
                  <a:pt x="12" y="71"/>
                </a:lnTo>
                <a:lnTo>
                  <a:pt x="12" y="72"/>
                </a:lnTo>
                <a:lnTo>
                  <a:pt x="13" y="75"/>
                </a:lnTo>
                <a:lnTo>
                  <a:pt x="13" y="76"/>
                </a:lnTo>
                <a:lnTo>
                  <a:pt x="14" y="76"/>
                </a:lnTo>
                <a:lnTo>
                  <a:pt x="14" y="77"/>
                </a:lnTo>
                <a:lnTo>
                  <a:pt x="15" y="81"/>
                </a:lnTo>
                <a:lnTo>
                  <a:pt x="15" y="82"/>
                </a:lnTo>
                <a:lnTo>
                  <a:pt x="16" y="82"/>
                </a:lnTo>
                <a:lnTo>
                  <a:pt x="16" y="83"/>
                </a:lnTo>
                <a:lnTo>
                  <a:pt x="17" y="86"/>
                </a:lnTo>
                <a:lnTo>
                  <a:pt x="17" y="87"/>
                </a:lnTo>
                <a:lnTo>
                  <a:pt x="18" y="87"/>
                </a:lnTo>
                <a:lnTo>
                  <a:pt x="19" y="91"/>
                </a:lnTo>
                <a:lnTo>
                  <a:pt x="20" y="93"/>
                </a:lnTo>
                <a:lnTo>
                  <a:pt x="21" y="93"/>
                </a:lnTo>
                <a:lnTo>
                  <a:pt x="21" y="94"/>
                </a:lnTo>
                <a:lnTo>
                  <a:pt x="22" y="97"/>
                </a:lnTo>
                <a:lnTo>
                  <a:pt x="22" y="98"/>
                </a:lnTo>
                <a:lnTo>
                  <a:pt x="24" y="98"/>
                </a:lnTo>
                <a:lnTo>
                  <a:pt x="25" y="102"/>
                </a:lnTo>
                <a:lnTo>
                  <a:pt x="26" y="103"/>
                </a:lnTo>
                <a:lnTo>
                  <a:pt x="27" y="103"/>
                </a:lnTo>
                <a:lnTo>
                  <a:pt x="28" y="107"/>
                </a:lnTo>
                <a:lnTo>
                  <a:pt x="29" y="109"/>
                </a:lnTo>
                <a:lnTo>
                  <a:pt x="30" y="109"/>
                </a:lnTo>
                <a:lnTo>
                  <a:pt x="31" y="113"/>
                </a:lnTo>
                <a:lnTo>
                  <a:pt x="32" y="114"/>
                </a:lnTo>
                <a:lnTo>
                  <a:pt x="33" y="114"/>
                </a:lnTo>
                <a:lnTo>
                  <a:pt x="34" y="118"/>
                </a:lnTo>
                <a:lnTo>
                  <a:pt x="35" y="120"/>
                </a:lnTo>
                <a:lnTo>
                  <a:pt x="36" y="120"/>
                </a:lnTo>
                <a:lnTo>
                  <a:pt x="37" y="124"/>
                </a:lnTo>
                <a:lnTo>
                  <a:pt x="39" y="125"/>
                </a:lnTo>
                <a:lnTo>
                  <a:pt x="40" y="125"/>
                </a:lnTo>
                <a:lnTo>
                  <a:pt x="41" y="129"/>
                </a:lnTo>
                <a:lnTo>
                  <a:pt x="42" y="131"/>
                </a:lnTo>
                <a:lnTo>
                  <a:pt x="43" y="131"/>
                </a:lnTo>
                <a:lnTo>
                  <a:pt x="45" y="136"/>
                </a:lnTo>
                <a:lnTo>
                  <a:pt x="46" y="137"/>
                </a:lnTo>
                <a:lnTo>
                  <a:pt x="47" y="137"/>
                </a:lnTo>
                <a:lnTo>
                  <a:pt x="49" y="141"/>
                </a:lnTo>
                <a:lnTo>
                  <a:pt x="50" y="143"/>
                </a:lnTo>
                <a:lnTo>
                  <a:pt x="51" y="143"/>
                </a:lnTo>
                <a:lnTo>
                  <a:pt x="52" y="147"/>
                </a:lnTo>
                <a:lnTo>
                  <a:pt x="54" y="148"/>
                </a:lnTo>
                <a:lnTo>
                  <a:pt x="55" y="148"/>
                </a:lnTo>
                <a:lnTo>
                  <a:pt x="57" y="152"/>
                </a:lnTo>
                <a:lnTo>
                  <a:pt x="58" y="154"/>
                </a:lnTo>
                <a:lnTo>
                  <a:pt x="59" y="154"/>
                </a:lnTo>
                <a:lnTo>
                  <a:pt x="61" y="158"/>
                </a:lnTo>
                <a:lnTo>
                  <a:pt x="62" y="159"/>
                </a:lnTo>
                <a:lnTo>
                  <a:pt x="63" y="159"/>
                </a:lnTo>
                <a:lnTo>
                  <a:pt x="65" y="163"/>
                </a:lnTo>
                <a:lnTo>
                  <a:pt x="66" y="165"/>
                </a:lnTo>
                <a:lnTo>
                  <a:pt x="68" y="165"/>
                </a:lnTo>
                <a:lnTo>
                  <a:pt x="70" y="169"/>
                </a:lnTo>
                <a:lnTo>
                  <a:pt x="71" y="171"/>
                </a:lnTo>
                <a:lnTo>
                  <a:pt x="72" y="171"/>
                </a:lnTo>
                <a:lnTo>
                  <a:pt x="75" y="173"/>
                </a:lnTo>
                <a:lnTo>
                  <a:pt x="76" y="173"/>
                </a:lnTo>
                <a:lnTo>
                  <a:pt x="77" y="173"/>
                </a:lnTo>
                <a:lnTo>
                  <a:pt x="76" y="173"/>
                </a:lnTo>
                <a:lnTo>
                  <a:pt x="73" y="172"/>
                </a:lnTo>
                <a:lnTo>
                  <a:pt x="72" y="172"/>
                </a:lnTo>
                <a:lnTo>
                  <a:pt x="72" y="171"/>
                </a:lnTo>
                <a:lnTo>
                  <a:pt x="73" y="173"/>
                </a:lnTo>
                <a:lnTo>
                  <a:pt x="74" y="173"/>
                </a:lnTo>
                <a:lnTo>
                  <a:pt x="75" y="173"/>
                </a:lnTo>
                <a:lnTo>
                  <a:pt x="76" y="173"/>
                </a:lnTo>
                <a:lnTo>
                  <a:pt x="77" y="173"/>
                </a:lnTo>
                <a:lnTo>
                  <a:pt x="77" y="1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185"/>
          <p:cNvSpPr/>
          <p:nvPr/>
        </p:nvSpPr>
        <p:spPr>
          <a:xfrm>
            <a:off x="4611600" y="5646600"/>
            <a:ext cx="190440" cy="82800"/>
          </a:xfrm>
          <a:custGeom>
            <a:avLst/>
            <a:gdLst>
              <a:gd name="textAreaLeft" fmla="*/ 0 w 190440"/>
              <a:gd name="textAreaRight" fmla="*/ 190800 w 190440"/>
              <a:gd name="textAreaTop" fmla="*/ 0 h 82800"/>
              <a:gd name="textAreaBottom" fmla="*/ 83160 h 82800"/>
            </a:gdLst>
            <a:ahLst/>
            <a:rect l="textAreaLeft" t="textAreaTop" r="textAreaRight" b="textAreaBottom"/>
            <a:pathLst>
              <a:path w="240" h="104">
                <a:moveTo>
                  <a:pt x="236" y="0"/>
                </a:moveTo>
                <a:lnTo>
                  <a:pt x="234" y="1"/>
                </a:lnTo>
                <a:lnTo>
                  <a:pt x="233" y="1"/>
                </a:lnTo>
                <a:lnTo>
                  <a:pt x="232" y="2"/>
                </a:lnTo>
                <a:lnTo>
                  <a:pt x="231" y="3"/>
                </a:lnTo>
                <a:lnTo>
                  <a:pt x="228" y="6"/>
                </a:lnTo>
                <a:lnTo>
                  <a:pt x="224" y="8"/>
                </a:lnTo>
                <a:lnTo>
                  <a:pt x="223" y="9"/>
                </a:lnTo>
                <a:lnTo>
                  <a:pt x="219" y="13"/>
                </a:lnTo>
                <a:lnTo>
                  <a:pt x="216" y="15"/>
                </a:lnTo>
                <a:lnTo>
                  <a:pt x="215" y="16"/>
                </a:lnTo>
                <a:lnTo>
                  <a:pt x="210" y="19"/>
                </a:lnTo>
                <a:lnTo>
                  <a:pt x="207" y="21"/>
                </a:lnTo>
                <a:lnTo>
                  <a:pt x="206" y="22"/>
                </a:lnTo>
                <a:lnTo>
                  <a:pt x="202" y="25"/>
                </a:lnTo>
                <a:lnTo>
                  <a:pt x="200" y="26"/>
                </a:lnTo>
                <a:lnTo>
                  <a:pt x="199" y="27"/>
                </a:lnTo>
                <a:lnTo>
                  <a:pt x="194" y="30"/>
                </a:lnTo>
                <a:lnTo>
                  <a:pt x="192" y="32"/>
                </a:lnTo>
                <a:lnTo>
                  <a:pt x="191" y="33"/>
                </a:lnTo>
                <a:lnTo>
                  <a:pt x="188" y="36"/>
                </a:lnTo>
                <a:lnTo>
                  <a:pt x="186" y="37"/>
                </a:lnTo>
                <a:lnTo>
                  <a:pt x="185" y="38"/>
                </a:lnTo>
                <a:lnTo>
                  <a:pt x="180" y="40"/>
                </a:lnTo>
                <a:lnTo>
                  <a:pt x="178" y="41"/>
                </a:lnTo>
                <a:lnTo>
                  <a:pt x="177" y="42"/>
                </a:lnTo>
                <a:lnTo>
                  <a:pt x="174" y="45"/>
                </a:lnTo>
                <a:lnTo>
                  <a:pt x="173" y="46"/>
                </a:lnTo>
                <a:lnTo>
                  <a:pt x="172" y="47"/>
                </a:lnTo>
                <a:lnTo>
                  <a:pt x="169" y="49"/>
                </a:lnTo>
                <a:lnTo>
                  <a:pt x="166" y="50"/>
                </a:lnTo>
                <a:lnTo>
                  <a:pt x="165" y="51"/>
                </a:lnTo>
                <a:lnTo>
                  <a:pt x="162" y="53"/>
                </a:lnTo>
                <a:lnTo>
                  <a:pt x="160" y="54"/>
                </a:lnTo>
                <a:lnTo>
                  <a:pt x="159" y="55"/>
                </a:lnTo>
                <a:lnTo>
                  <a:pt x="156" y="57"/>
                </a:lnTo>
                <a:lnTo>
                  <a:pt x="155" y="58"/>
                </a:lnTo>
                <a:lnTo>
                  <a:pt x="154" y="59"/>
                </a:lnTo>
                <a:lnTo>
                  <a:pt x="150" y="60"/>
                </a:lnTo>
                <a:lnTo>
                  <a:pt x="149" y="61"/>
                </a:lnTo>
                <a:lnTo>
                  <a:pt x="148" y="62"/>
                </a:lnTo>
                <a:lnTo>
                  <a:pt x="145" y="65"/>
                </a:lnTo>
                <a:lnTo>
                  <a:pt x="144" y="66"/>
                </a:lnTo>
                <a:lnTo>
                  <a:pt x="143" y="67"/>
                </a:lnTo>
                <a:lnTo>
                  <a:pt x="140" y="68"/>
                </a:lnTo>
                <a:lnTo>
                  <a:pt x="139" y="69"/>
                </a:lnTo>
                <a:lnTo>
                  <a:pt x="137" y="70"/>
                </a:lnTo>
                <a:lnTo>
                  <a:pt x="134" y="71"/>
                </a:lnTo>
                <a:lnTo>
                  <a:pt x="133" y="72"/>
                </a:lnTo>
                <a:lnTo>
                  <a:pt x="129" y="74"/>
                </a:lnTo>
                <a:lnTo>
                  <a:pt x="127" y="74"/>
                </a:lnTo>
                <a:lnTo>
                  <a:pt x="126" y="75"/>
                </a:lnTo>
                <a:lnTo>
                  <a:pt x="122" y="76"/>
                </a:lnTo>
                <a:lnTo>
                  <a:pt x="121" y="77"/>
                </a:lnTo>
                <a:lnTo>
                  <a:pt x="117" y="79"/>
                </a:lnTo>
                <a:lnTo>
                  <a:pt x="116" y="79"/>
                </a:lnTo>
                <a:lnTo>
                  <a:pt x="112" y="81"/>
                </a:lnTo>
                <a:lnTo>
                  <a:pt x="111" y="81"/>
                </a:lnTo>
                <a:lnTo>
                  <a:pt x="106" y="83"/>
                </a:lnTo>
                <a:lnTo>
                  <a:pt x="104" y="83"/>
                </a:lnTo>
                <a:lnTo>
                  <a:pt x="100" y="85"/>
                </a:lnTo>
                <a:lnTo>
                  <a:pt x="98" y="85"/>
                </a:lnTo>
                <a:lnTo>
                  <a:pt x="93" y="86"/>
                </a:lnTo>
                <a:lnTo>
                  <a:pt x="91" y="86"/>
                </a:lnTo>
                <a:lnTo>
                  <a:pt x="89" y="87"/>
                </a:lnTo>
                <a:lnTo>
                  <a:pt x="86" y="88"/>
                </a:lnTo>
                <a:lnTo>
                  <a:pt x="84" y="88"/>
                </a:lnTo>
                <a:lnTo>
                  <a:pt x="80" y="89"/>
                </a:lnTo>
                <a:lnTo>
                  <a:pt x="77" y="89"/>
                </a:lnTo>
                <a:lnTo>
                  <a:pt x="75" y="90"/>
                </a:lnTo>
                <a:lnTo>
                  <a:pt x="72" y="90"/>
                </a:lnTo>
                <a:lnTo>
                  <a:pt x="69" y="90"/>
                </a:lnTo>
                <a:lnTo>
                  <a:pt x="67" y="91"/>
                </a:lnTo>
                <a:lnTo>
                  <a:pt x="63" y="91"/>
                </a:lnTo>
                <a:lnTo>
                  <a:pt x="61" y="91"/>
                </a:lnTo>
                <a:lnTo>
                  <a:pt x="60" y="91"/>
                </a:lnTo>
                <a:lnTo>
                  <a:pt x="59" y="91"/>
                </a:lnTo>
                <a:lnTo>
                  <a:pt x="56" y="91"/>
                </a:lnTo>
                <a:lnTo>
                  <a:pt x="53" y="91"/>
                </a:lnTo>
                <a:lnTo>
                  <a:pt x="51" y="92"/>
                </a:lnTo>
                <a:lnTo>
                  <a:pt x="46" y="92"/>
                </a:lnTo>
                <a:lnTo>
                  <a:pt x="43" y="92"/>
                </a:lnTo>
                <a:lnTo>
                  <a:pt x="42" y="92"/>
                </a:lnTo>
                <a:lnTo>
                  <a:pt x="41" y="92"/>
                </a:lnTo>
                <a:lnTo>
                  <a:pt x="37" y="92"/>
                </a:lnTo>
                <a:lnTo>
                  <a:pt x="33" y="92"/>
                </a:lnTo>
                <a:lnTo>
                  <a:pt x="31" y="93"/>
                </a:lnTo>
                <a:lnTo>
                  <a:pt x="26" y="93"/>
                </a:lnTo>
                <a:lnTo>
                  <a:pt x="23" y="93"/>
                </a:lnTo>
                <a:lnTo>
                  <a:pt x="22" y="93"/>
                </a:lnTo>
                <a:lnTo>
                  <a:pt x="21" y="93"/>
                </a:lnTo>
                <a:lnTo>
                  <a:pt x="15" y="93"/>
                </a:lnTo>
                <a:lnTo>
                  <a:pt x="12" y="93"/>
                </a:lnTo>
                <a:lnTo>
                  <a:pt x="11" y="93"/>
                </a:lnTo>
                <a:lnTo>
                  <a:pt x="10" y="93"/>
                </a:lnTo>
                <a:lnTo>
                  <a:pt x="4" y="93"/>
                </a:lnTo>
                <a:lnTo>
                  <a:pt x="0" y="93"/>
                </a:lnTo>
                <a:lnTo>
                  <a:pt x="0" y="94"/>
                </a:lnTo>
                <a:lnTo>
                  <a:pt x="0" y="95"/>
                </a:lnTo>
                <a:lnTo>
                  <a:pt x="0" y="100"/>
                </a:lnTo>
                <a:lnTo>
                  <a:pt x="0" y="104"/>
                </a:lnTo>
                <a:lnTo>
                  <a:pt x="1" y="104"/>
                </a:lnTo>
                <a:lnTo>
                  <a:pt x="7" y="104"/>
                </a:lnTo>
                <a:lnTo>
                  <a:pt x="11" y="104"/>
                </a:lnTo>
                <a:lnTo>
                  <a:pt x="12" y="104"/>
                </a:lnTo>
                <a:lnTo>
                  <a:pt x="13" y="104"/>
                </a:lnTo>
                <a:lnTo>
                  <a:pt x="18" y="104"/>
                </a:lnTo>
                <a:lnTo>
                  <a:pt x="22" y="104"/>
                </a:lnTo>
                <a:lnTo>
                  <a:pt x="23" y="104"/>
                </a:lnTo>
                <a:lnTo>
                  <a:pt x="24" y="104"/>
                </a:lnTo>
                <a:lnTo>
                  <a:pt x="29" y="104"/>
                </a:lnTo>
                <a:lnTo>
                  <a:pt x="32" y="104"/>
                </a:lnTo>
                <a:lnTo>
                  <a:pt x="33" y="103"/>
                </a:lnTo>
                <a:lnTo>
                  <a:pt x="34" y="103"/>
                </a:lnTo>
                <a:lnTo>
                  <a:pt x="40" y="103"/>
                </a:lnTo>
                <a:lnTo>
                  <a:pt x="43" y="103"/>
                </a:lnTo>
                <a:lnTo>
                  <a:pt x="44" y="103"/>
                </a:lnTo>
                <a:lnTo>
                  <a:pt x="45" y="103"/>
                </a:lnTo>
                <a:lnTo>
                  <a:pt x="48" y="103"/>
                </a:lnTo>
                <a:lnTo>
                  <a:pt x="52" y="103"/>
                </a:lnTo>
                <a:lnTo>
                  <a:pt x="53" y="102"/>
                </a:lnTo>
                <a:lnTo>
                  <a:pt x="54" y="102"/>
                </a:lnTo>
                <a:lnTo>
                  <a:pt x="58" y="102"/>
                </a:lnTo>
                <a:lnTo>
                  <a:pt x="61" y="102"/>
                </a:lnTo>
                <a:lnTo>
                  <a:pt x="62" y="102"/>
                </a:lnTo>
                <a:lnTo>
                  <a:pt x="63" y="102"/>
                </a:lnTo>
                <a:lnTo>
                  <a:pt x="67" y="102"/>
                </a:lnTo>
                <a:lnTo>
                  <a:pt x="70" y="102"/>
                </a:lnTo>
                <a:lnTo>
                  <a:pt x="71" y="101"/>
                </a:lnTo>
                <a:lnTo>
                  <a:pt x="72" y="101"/>
                </a:lnTo>
                <a:lnTo>
                  <a:pt x="75" y="101"/>
                </a:lnTo>
                <a:lnTo>
                  <a:pt x="77" y="101"/>
                </a:lnTo>
                <a:lnTo>
                  <a:pt x="78" y="100"/>
                </a:lnTo>
                <a:lnTo>
                  <a:pt x="80" y="100"/>
                </a:lnTo>
                <a:lnTo>
                  <a:pt x="83" y="99"/>
                </a:lnTo>
                <a:lnTo>
                  <a:pt x="85" y="99"/>
                </a:lnTo>
                <a:lnTo>
                  <a:pt x="86" y="98"/>
                </a:lnTo>
                <a:lnTo>
                  <a:pt x="87" y="98"/>
                </a:lnTo>
                <a:lnTo>
                  <a:pt x="90" y="98"/>
                </a:lnTo>
                <a:lnTo>
                  <a:pt x="92" y="98"/>
                </a:lnTo>
                <a:lnTo>
                  <a:pt x="93" y="97"/>
                </a:lnTo>
                <a:lnTo>
                  <a:pt x="95" y="97"/>
                </a:lnTo>
                <a:lnTo>
                  <a:pt x="98" y="96"/>
                </a:lnTo>
                <a:lnTo>
                  <a:pt x="100" y="96"/>
                </a:lnTo>
                <a:lnTo>
                  <a:pt x="101" y="95"/>
                </a:lnTo>
                <a:lnTo>
                  <a:pt x="104" y="94"/>
                </a:lnTo>
                <a:lnTo>
                  <a:pt x="106" y="94"/>
                </a:lnTo>
                <a:lnTo>
                  <a:pt x="107" y="93"/>
                </a:lnTo>
                <a:lnTo>
                  <a:pt x="111" y="92"/>
                </a:lnTo>
                <a:lnTo>
                  <a:pt x="113" y="92"/>
                </a:lnTo>
                <a:lnTo>
                  <a:pt x="114" y="91"/>
                </a:lnTo>
                <a:lnTo>
                  <a:pt x="117" y="90"/>
                </a:lnTo>
                <a:lnTo>
                  <a:pt x="119" y="90"/>
                </a:lnTo>
                <a:lnTo>
                  <a:pt x="120" y="89"/>
                </a:lnTo>
                <a:lnTo>
                  <a:pt x="123" y="88"/>
                </a:lnTo>
                <a:lnTo>
                  <a:pt x="126" y="88"/>
                </a:lnTo>
                <a:lnTo>
                  <a:pt x="127" y="87"/>
                </a:lnTo>
                <a:lnTo>
                  <a:pt x="130" y="86"/>
                </a:lnTo>
                <a:lnTo>
                  <a:pt x="131" y="85"/>
                </a:lnTo>
                <a:lnTo>
                  <a:pt x="132" y="84"/>
                </a:lnTo>
                <a:lnTo>
                  <a:pt x="135" y="83"/>
                </a:lnTo>
                <a:lnTo>
                  <a:pt x="137" y="82"/>
                </a:lnTo>
                <a:lnTo>
                  <a:pt x="139" y="81"/>
                </a:lnTo>
                <a:lnTo>
                  <a:pt x="142" y="80"/>
                </a:lnTo>
                <a:lnTo>
                  <a:pt x="143" y="79"/>
                </a:lnTo>
                <a:lnTo>
                  <a:pt x="144" y="78"/>
                </a:lnTo>
                <a:lnTo>
                  <a:pt x="147" y="77"/>
                </a:lnTo>
                <a:lnTo>
                  <a:pt x="149" y="76"/>
                </a:lnTo>
                <a:lnTo>
                  <a:pt x="150" y="75"/>
                </a:lnTo>
                <a:lnTo>
                  <a:pt x="154" y="74"/>
                </a:lnTo>
                <a:lnTo>
                  <a:pt x="155" y="73"/>
                </a:lnTo>
                <a:lnTo>
                  <a:pt x="156" y="72"/>
                </a:lnTo>
                <a:lnTo>
                  <a:pt x="159" y="70"/>
                </a:lnTo>
                <a:lnTo>
                  <a:pt x="160" y="69"/>
                </a:lnTo>
                <a:lnTo>
                  <a:pt x="161" y="68"/>
                </a:lnTo>
                <a:lnTo>
                  <a:pt x="164" y="66"/>
                </a:lnTo>
                <a:lnTo>
                  <a:pt x="166" y="65"/>
                </a:lnTo>
                <a:lnTo>
                  <a:pt x="167" y="63"/>
                </a:lnTo>
                <a:lnTo>
                  <a:pt x="171" y="61"/>
                </a:lnTo>
                <a:lnTo>
                  <a:pt x="172" y="60"/>
                </a:lnTo>
                <a:lnTo>
                  <a:pt x="173" y="59"/>
                </a:lnTo>
                <a:lnTo>
                  <a:pt x="176" y="57"/>
                </a:lnTo>
                <a:lnTo>
                  <a:pt x="178" y="56"/>
                </a:lnTo>
                <a:lnTo>
                  <a:pt x="179" y="55"/>
                </a:lnTo>
                <a:lnTo>
                  <a:pt x="182" y="52"/>
                </a:lnTo>
                <a:lnTo>
                  <a:pt x="185" y="51"/>
                </a:lnTo>
                <a:lnTo>
                  <a:pt x="186" y="50"/>
                </a:lnTo>
                <a:lnTo>
                  <a:pt x="189" y="47"/>
                </a:lnTo>
                <a:lnTo>
                  <a:pt x="191" y="46"/>
                </a:lnTo>
                <a:lnTo>
                  <a:pt x="192" y="45"/>
                </a:lnTo>
                <a:lnTo>
                  <a:pt x="196" y="42"/>
                </a:lnTo>
                <a:lnTo>
                  <a:pt x="199" y="41"/>
                </a:lnTo>
                <a:lnTo>
                  <a:pt x="200" y="40"/>
                </a:lnTo>
                <a:lnTo>
                  <a:pt x="204" y="37"/>
                </a:lnTo>
                <a:lnTo>
                  <a:pt x="206" y="36"/>
                </a:lnTo>
                <a:lnTo>
                  <a:pt x="207" y="35"/>
                </a:lnTo>
                <a:lnTo>
                  <a:pt x="211" y="32"/>
                </a:lnTo>
                <a:lnTo>
                  <a:pt x="214" y="30"/>
                </a:lnTo>
                <a:lnTo>
                  <a:pt x="215" y="29"/>
                </a:lnTo>
                <a:lnTo>
                  <a:pt x="219" y="26"/>
                </a:lnTo>
                <a:lnTo>
                  <a:pt x="221" y="24"/>
                </a:lnTo>
                <a:lnTo>
                  <a:pt x="222" y="23"/>
                </a:lnTo>
                <a:lnTo>
                  <a:pt x="226" y="20"/>
                </a:lnTo>
                <a:lnTo>
                  <a:pt x="230" y="18"/>
                </a:lnTo>
                <a:lnTo>
                  <a:pt x="231" y="17"/>
                </a:lnTo>
                <a:lnTo>
                  <a:pt x="236" y="14"/>
                </a:lnTo>
                <a:lnTo>
                  <a:pt x="239" y="12"/>
                </a:lnTo>
                <a:lnTo>
                  <a:pt x="240" y="11"/>
                </a:lnTo>
                <a:lnTo>
                  <a:pt x="238" y="12"/>
                </a:lnTo>
                <a:lnTo>
                  <a:pt x="237" y="12"/>
                </a:lnTo>
                <a:lnTo>
                  <a:pt x="236" y="0"/>
                </a:lnTo>
                <a:close/>
              </a:path>
            </a:pathLst>
          </a:custGeom>
          <a:solidFill>
            <a:srgbClr val="1f1a17"/>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87" name="Freeform 186"/>
          <p:cNvSpPr/>
          <p:nvPr/>
        </p:nvSpPr>
        <p:spPr>
          <a:xfrm>
            <a:off x="4799160" y="5640480"/>
            <a:ext cx="50760" cy="15840"/>
          </a:xfrm>
          <a:custGeom>
            <a:avLst/>
            <a:gdLst>
              <a:gd name="textAreaLeft" fmla="*/ 0 w 50760"/>
              <a:gd name="textAreaRight" fmla="*/ 51120 w 50760"/>
              <a:gd name="textAreaTop" fmla="*/ 0 h 15840"/>
              <a:gd name="textAreaBottom" fmla="*/ 16200 h 15840"/>
            </a:gdLst>
            <a:ahLst/>
            <a:rect l="textAreaLeft" t="textAreaTop" r="textAreaRight" b="textAreaBottom"/>
            <a:pathLst>
              <a:path w="63" h="21">
                <a:moveTo>
                  <a:pt x="58" y="1"/>
                </a:moveTo>
                <a:lnTo>
                  <a:pt x="60" y="0"/>
                </a:lnTo>
                <a:lnTo>
                  <a:pt x="58" y="1"/>
                </a:lnTo>
                <a:lnTo>
                  <a:pt x="50" y="2"/>
                </a:lnTo>
                <a:lnTo>
                  <a:pt x="23" y="6"/>
                </a:lnTo>
                <a:lnTo>
                  <a:pt x="1" y="9"/>
                </a:lnTo>
                <a:lnTo>
                  <a:pt x="0" y="9"/>
                </a:lnTo>
                <a:lnTo>
                  <a:pt x="0" y="10"/>
                </a:lnTo>
                <a:lnTo>
                  <a:pt x="0" y="11"/>
                </a:lnTo>
                <a:lnTo>
                  <a:pt x="0" y="16"/>
                </a:lnTo>
                <a:lnTo>
                  <a:pt x="0" y="21"/>
                </a:lnTo>
                <a:lnTo>
                  <a:pt x="1" y="21"/>
                </a:lnTo>
                <a:lnTo>
                  <a:pt x="2" y="21"/>
                </a:lnTo>
                <a:lnTo>
                  <a:pt x="10" y="20"/>
                </a:lnTo>
                <a:lnTo>
                  <a:pt x="38" y="15"/>
                </a:lnTo>
                <a:lnTo>
                  <a:pt x="59" y="12"/>
                </a:lnTo>
                <a:lnTo>
                  <a:pt x="61" y="11"/>
                </a:lnTo>
                <a:lnTo>
                  <a:pt x="63" y="10"/>
                </a:lnTo>
                <a:lnTo>
                  <a:pt x="58" y="1"/>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88" name="Freeform 187"/>
          <p:cNvSpPr/>
          <p:nvPr/>
        </p:nvSpPr>
        <p:spPr>
          <a:xfrm>
            <a:off x="4844880" y="5611680"/>
            <a:ext cx="60480" cy="36720"/>
          </a:xfrm>
          <a:custGeom>
            <a:avLst/>
            <a:gdLst>
              <a:gd name="textAreaLeft" fmla="*/ 0 w 60480"/>
              <a:gd name="textAreaRight" fmla="*/ 60840 w 60480"/>
              <a:gd name="textAreaTop" fmla="*/ 0 h 36720"/>
              <a:gd name="textAreaBottom" fmla="*/ 37080 h 36720"/>
            </a:gdLst>
            <a:ahLst/>
            <a:rect l="textAreaLeft" t="textAreaTop" r="textAreaRight" b="textAreaBottom"/>
            <a:pathLst>
              <a:path w="75" h="46">
                <a:moveTo>
                  <a:pt x="62" y="7"/>
                </a:moveTo>
                <a:lnTo>
                  <a:pt x="63" y="4"/>
                </a:lnTo>
                <a:lnTo>
                  <a:pt x="64" y="2"/>
                </a:lnTo>
                <a:lnTo>
                  <a:pt x="65" y="0"/>
                </a:lnTo>
                <a:lnTo>
                  <a:pt x="63" y="2"/>
                </a:lnTo>
                <a:lnTo>
                  <a:pt x="55" y="7"/>
                </a:lnTo>
                <a:lnTo>
                  <a:pt x="24" y="24"/>
                </a:lnTo>
                <a:lnTo>
                  <a:pt x="1" y="37"/>
                </a:lnTo>
                <a:lnTo>
                  <a:pt x="0" y="37"/>
                </a:lnTo>
                <a:lnTo>
                  <a:pt x="3" y="43"/>
                </a:lnTo>
                <a:lnTo>
                  <a:pt x="4" y="46"/>
                </a:lnTo>
                <a:lnTo>
                  <a:pt x="5" y="46"/>
                </a:lnTo>
                <a:lnTo>
                  <a:pt x="15" y="41"/>
                </a:lnTo>
                <a:lnTo>
                  <a:pt x="46" y="24"/>
                </a:lnTo>
                <a:lnTo>
                  <a:pt x="69" y="11"/>
                </a:lnTo>
                <a:lnTo>
                  <a:pt x="71" y="10"/>
                </a:lnTo>
                <a:lnTo>
                  <a:pt x="72" y="7"/>
                </a:lnTo>
                <a:lnTo>
                  <a:pt x="73" y="5"/>
                </a:lnTo>
                <a:lnTo>
                  <a:pt x="74" y="4"/>
                </a:lnTo>
                <a:lnTo>
                  <a:pt x="73" y="5"/>
                </a:lnTo>
                <a:lnTo>
                  <a:pt x="72" y="8"/>
                </a:lnTo>
                <a:lnTo>
                  <a:pt x="71" y="10"/>
                </a:lnTo>
                <a:lnTo>
                  <a:pt x="73" y="9"/>
                </a:lnTo>
                <a:lnTo>
                  <a:pt x="75" y="8"/>
                </a:lnTo>
                <a:lnTo>
                  <a:pt x="74" y="6"/>
                </a:lnTo>
                <a:lnTo>
                  <a:pt x="74" y="5"/>
                </a:lnTo>
                <a:lnTo>
                  <a:pt x="74" y="4"/>
                </a:lnTo>
                <a:lnTo>
                  <a:pt x="62" y="7"/>
                </a:lnTo>
                <a:close/>
              </a:path>
            </a:pathLst>
          </a:custGeom>
          <a:solidFill>
            <a:srgbClr val="1f1a17"/>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89" name="Freeform 188"/>
          <p:cNvSpPr/>
          <p:nvPr/>
        </p:nvSpPr>
        <p:spPr>
          <a:xfrm>
            <a:off x="4883040" y="5560920"/>
            <a:ext cx="20880" cy="55800"/>
          </a:xfrm>
          <a:custGeom>
            <a:avLst/>
            <a:gdLst>
              <a:gd name="textAreaLeft" fmla="*/ 0 w 20880"/>
              <a:gd name="textAreaRight" fmla="*/ 21240 w 20880"/>
              <a:gd name="textAreaTop" fmla="*/ 0 h 55800"/>
              <a:gd name="textAreaBottom" fmla="*/ 56160 h 55800"/>
            </a:gdLst>
            <a:ahLst/>
            <a:rect l="textAreaLeft" t="textAreaTop" r="textAreaRight" b="textAreaBottom"/>
            <a:pathLst>
              <a:path w="26" h="70">
                <a:moveTo>
                  <a:pt x="0" y="0"/>
                </a:moveTo>
                <a:lnTo>
                  <a:pt x="0" y="1"/>
                </a:lnTo>
                <a:lnTo>
                  <a:pt x="0" y="2"/>
                </a:lnTo>
                <a:lnTo>
                  <a:pt x="0" y="3"/>
                </a:lnTo>
                <a:lnTo>
                  <a:pt x="0" y="5"/>
                </a:lnTo>
                <a:lnTo>
                  <a:pt x="2" y="15"/>
                </a:lnTo>
                <a:lnTo>
                  <a:pt x="9" y="45"/>
                </a:lnTo>
                <a:lnTo>
                  <a:pt x="13" y="69"/>
                </a:lnTo>
                <a:lnTo>
                  <a:pt x="14" y="70"/>
                </a:lnTo>
                <a:lnTo>
                  <a:pt x="15" y="70"/>
                </a:lnTo>
                <a:lnTo>
                  <a:pt x="21" y="69"/>
                </a:lnTo>
                <a:lnTo>
                  <a:pt x="25" y="68"/>
                </a:lnTo>
                <a:lnTo>
                  <a:pt x="26" y="67"/>
                </a:lnTo>
                <a:lnTo>
                  <a:pt x="23" y="56"/>
                </a:lnTo>
                <a:lnTo>
                  <a:pt x="16" y="26"/>
                </a:lnTo>
                <a:lnTo>
                  <a:pt x="12" y="2"/>
                </a:lnTo>
                <a:lnTo>
                  <a:pt x="12" y="0"/>
                </a:lnTo>
                <a:lnTo>
                  <a:pt x="12" y="1"/>
                </a:lnTo>
                <a:lnTo>
                  <a:pt x="12" y="2"/>
                </a:lnTo>
                <a:lnTo>
                  <a:pt x="12" y="3"/>
                </a:lnTo>
                <a:lnTo>
                  <a:pt x="0" y="0"/>
                </a:lnTo>
                <a:close/>
              </a:path>
            </a:pathLst>
          </a:custGeom>
          <a:solidFill>
            <a:srgbClr val="1f1a17"/>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90" name="Freeform 189"/>
          <p:cNvSpPr/>
          <p:nvPr/>
        </p:nvSpPr>
        <p:spPr>
          <a:xfrm>
            <a:off x="4883040" y="5522760"/>
            <a:ext cx="22320" cy="41400"/>
          </a:xfrm>
          <a:custGeom>
            <a:avLst/>
            <a:gdLst>
              <a:gd name="textAreaLeft" fmla="*/ 0 w 22320"/>
              <a:gd name="textAreaRight" fmla="*/ 22680 w 22320"/>
              <a:gd name="textAreaTop" fmla="*/ 0 h 41400"/>
              <a:gd name="textAreaBottom" fmla="*/ 41760 h 41400"/>
            </a:gdLst>
            <a:ahLst/>
            <a:rect l="textAreaLeft" t="textAreaTop" r="textAreaRight" b="textAreaBottom"/>
            <a:pathLst>
              <a:path w="27" h="51">
                <a:moveTo>
                  <a:pt x="16" y="6"/>
                </a:moveTo>
                <a:lnTo>
                  <a:pt x="15" y="4"/>
                </a:lnTo>
                <a:lnTo>
                  <a:pt x="15" y="2"/>
                </a:lnTo>
                <a:lnTo>
                  <a:pt x="15" y="1"/>
                </a:lnTo>
                <a:lnTo>
                  <a:pt x="12" y="10"/>
                </a:lnTo>
                <a:lnTo>
                  <a:pt x="6" y="31"/>
                </a:lnTo>
                <a:lnTo>
                  <a:pt x="0" y="48"/>
                </a:lnTo>
                <a:lnTo>
                  <a:pt x="7" y="50"/>
                </a:lnTo>
                <a:lnTo>
                  <a:pt x="11" y="51"/>
                </a:lnTo>
                <a:lnTo>
                  <a:pt x="12" y="51"/>
                </a:lnTo>
                <a:lnTo>
                  <a:pt x="14" y="44"/>
                </a:lnTo>
                <a:lnTo>
                  <a:pt x="21" y="23"/>
                </a:lnTo>
                <a:lnTo>
                  <a:pt x="26" y="6"/>
                </a:lnTo>
                <a:lnTo>
                  <a:pt x="27" y="5"/>
                </a:lnTo>
                <a:lnTo>
                  <a:pt x="26" y="2"/>
                </a:lnTo>
                <a:lnTo>
                  <a:pt x="26" y="1"/>
                </a:lnTo>
                <a:lnTo>
                  <a:pt x="26" y="0"/>
                </a:lnTo>
                <a:lnTo>
                  <a:pt x="16" y="6"/>
                </a:lnTo>
                <a:close/>
              </a:path>
            </a:pathLst>
          </a:custGeom>
          <a:solidFill>
            <a:srgbClr val="1f1a17"/>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91" name="Freeform 190"/>
          <p:cNvSpPr/>
          <p:nvPr/>
        </p:nvSpPr>
        <p:spPr>
          <a:xfrm>
            <a:off x="4870440" y="5470560"/>
            <a:ext cx="33480" cy="57240"/>
          </a:xfrm>
          <a:custGeom>
            <a:avLst/>
            <a:gdLst>
              <a:gd name="textAreaLeft" fmla="*/ 0 w 33480"/>
              <a:gd name="textAreaRight" fmla="*/ 33840 w 33480"/>
              <a:gd name="textAreaTop" fmla="*/ 0 h 57240"/>
              <a:gd name="textAreaBottom" fmla="*/ 57600 h 57240"/>
            </a:gdLst>
            <a:ahLst/>
            <a:rect l="textAreaLeft" t="textAreaTop" r="textAreaRight" b="textAreaBottom"/>
            <a:pathLst>
              <a:path w="43" h="73">
                <a:moveTo>
                  <a:pt x="3" y="11"/>
                </a:moveTo>
                <a:lnTo>
                  <a:pt x="1" y="10"/>
                </a:lnTo>
                <a:lnTo>
                  <a:pt x="0" y="9"/>
                </a:lnTo>
                <a:lnTo>
                  <a:pt x="0" y="8"/>
                </a:lnTo>
                <a:lnTo>
                  <a:pt x="4" y="19"/>
                </a:lnTo>
                <a:lnTo>
                  <a:pt x="20" y="49"/>
                </a:lnTo>
                <a:lnTo>
                  <a:pt x="32" y="72"/>
                </a:lnTo>
                <a:lnTo>
                  <a:pt x="33" y="73"/>
                </a:lnTo>
                <a:lnTo>
                  <a:pt x="39" y="69"/>
                </a:lnTo>
                <a:lnTo>
                  <a:pt x="42" y="68"/>
                </a:lnTo>
                <a:lnTo>
                  <a:pt x="43" y="67"/>
                </a:lnTo>
                <a:lnTo>
                  <a:pt x="42" y="66"/>
                </a:lnTo>
                <a:lnTo>
                  <a:pt x="38" y="58"/>
                </a:lnTo>
                <a:lnTo>
                  <a:pt x="22" y="28"/>
                </a:lnTo>
                <a:lnTo>
                  <a:pt x="10" y="5"/>
                </a:lnTo>
                <a:lnTo>
                  <a:pt x="10" y="3"/>
                </a:lnTo>
                <a:lnTo>
                  <a:pt x="8" y="2"/>
                </a:lnTo>
                <a:lnTo>
                  <a:pt x="7" y="1"/>
                </a:lnTo>
                <a:lnTo>
                  <a:pt x="7" y="0"/>
                </a:lnTo>
                <a:lnTo>
                  <a:pt x="8" y="2"/>
                </a:lnTo>
                <a:lnTo>
                  <a:pt x="9" y="3"/>
                </a:lnTo>
                <a:lnTo>
                  <a:pt x="10" y="3"/>
                </a:lnTo>
                <a:lnTo>
                  <a:pt x="9" y="2"/>
                </a:lnTo>
                <a:lnTo>
                  <a:pt x="9" y="1"/>
                </a:lnTo>
                <a:lnTo>
                  <a:pt x="7" y="0"/>
                </a:lnTo>
                <a:lnTo>
                  <a:pt x="3" y="11"/>
                </a:lnTo>
                <a:close/>
              </a:path>
            </a:pathLst>
          </a:custGeom>
          <a:solidFill>
            <a:srgbClr val="1f1a17"/>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92" name="Freeform 191"/>
          <p:cNvSpPr/>
          <p:nvPr/>
        </p:nvSpPr>
        <p:spPr>
          <a:xfrm>
            <a:off x="4811760" y="5454720"/>
            <a:ext cx="63360" cy="23760"/>
          </a:xfrm>
          <a:custGeom>
            <a:avLst/>
            <a:gdLst>
              <a:gd name="textAreaLeft" fmla="*/ 0 w 63360"/>
              <a:gd name="textAreaRight" fmla="*/ 63720 w 63360"/>
              <a:gd name="textAreaTop" fmla="*/ 0 h 23760"/>
              <a:gd name="textAreaBottom" fmla="*/ 24120 h 23760"/>
            </a:gdLst>
            <a:ahLst/>
            <a:rect l="textAreaLeft" t="textAreaTop" r="textAreaRight" b="textAreaBottom"/>
            <a:pathLst>
              <a:path w="81" h="30">
                <a:moveTo>
                  <a:pt x="5" y="10"/>
                </a:moveTo>
                <a:lnTo>
                  <a:pt x="2" y="11"/>
                </a:lnTo>
                <a:lnTo>
                  <a:pt x="1" y="11"/>
                </a:lnTo>
                <a:lnTo>
                  <a:pt x="13" y="14"/>
                </a:lnTo>
                <a:lnTo>
                  <a:pt x="48" y="23"/>
                </a:lnTo>
                <a:lnTo>
                  <a:pt x="75" y="30"/>
                </a:lnTo>
                <a:lnTo>
                  <a:pt x="77" y="30"/>
                </a:lnTo>
                <a:lnTo>
                  <a:pt x="77" y="29"/>
                </a:lnTo>
                <a:lnTo>
                  <a:pt x="78" y="24"/>
                </a:lnTo>
                <a:lnTo>
                  <a:pt x="79" y="20"/>
                </a:lnTo>
                <a:lnTo>
                  <a:pt x="81" y="19"/>
                </a:lnTo>
                <a:lnTo>
                  <a:pt x="78" y="19"/>
                </a:lnTo>
                <a:lnTo>
                  <a:pt x="68" y="17"/>
                </a:lnTo>
                <a:lnTo>
                  <a:pt x="32" y="8"/>
                </a:lnTo>
                <a:lnTo>
                  <a:pt x="5" y="1"/>
                </a:lnTo>
                <a:lnTo>
                  <a:pt x="4" y="0"/>
                </a:lnTo>
                <a:lnTo>
                  <a:pt x="1" y="1"/>
                </a:lnTo>
                <a:lnTo>
                  <a:pt x="0" y="1"/>
                </a:lnTo>
                <a:lnTo>
                  <a:pt x="5" y="10"/>
                </a:lnTo>
                <a:close/>
              </a:path>
            </a:pathLst>
          </a:custGeom>
          <a:solidFill>
            <a:srgbClr val="1f1a17"/>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93" name="Freeform 192"/>
          <p:cNvSpPr/>
          <p:nvPr/>
        </p:nvSpPr>
        <p:spPr>
          <a:xfrm>
            <a:off x="3497400" y="4710240"/>
            <a:ext cx="1338120" cy="814320"/>
          </a:xfrm>
          <a:custGeom>
            <a:avLst/>
            <a:gdLst>
              <a:gd name="textAreaLeft" fmla="*/ 0 w 1338120"/>
              <a:gd name="textAreaRight" fmla="*/ 1338480 w 1338120"/>
              <a:gd name="textAreaTop" fmla="*/ 0 h 814320"/>
              <a:gd name="textAreaBottom" fmla="*/ 814680 h 814320"/>
            </a:gdLst>
            <a:ahLst/>
            <a:rect l="textAreaLeft" t="textAreaTop" r="textAreaRight" b="textAreaBottom"/>
            <a:pathLst>
              <a:path w="1686" h="1025">
                <a:moveTo>
                  <a:pt x="1625" y="937"/>
                </a:moveTo>
                <a:lnTo>
                  <a:pt x="1624" y="914"/>
                </a:lnTo>
                <a:lnTo>
                  <a:pt x="1621" y="846"/>
                </a:lnTo>
                <a:lnTo>
                  <a:pt x="1620" y="794"/>
                </a:lnTo>
                <a:lnTo>
                  <a:pt x="1620" y="791"/>
                </a:lnTo>
                <a:lnTo>
                  <a:pt x="1621" y="790"/>
                </a:lnTo>
                <a:lnTo>
                  <a:pt x="1629" y="782"/>
                </a:lnTo>
                <a:lnTo>
                  <a:pt x="1660" y="752"/>
                </a:lnTo>
                <a:lnTo>
                  <a:pt x="1684" y="731"/>
                </a:lnTo>
                <a:lnTo>
                  <a:pt x="1686" y="729"/>
                </a:lnTo>
                <a:lnTo>
                  <a:pt x="1683" y="727"/>
                </a:lnTo>
                <a:lnTo>
                  <a:pt x="1668" y="706"/>
                </a:lnTo>
                <a:lnTo>
                  <a:pt x="1613" y="633"/>
                </a:lnTo>
                <a:lnTo>
                  <a:pt x="1572" y="577"/>
                </a:lnTo>
                <a:lnTo>
                  <a:pt x="1570" y="574"/>
                </a:lnTo>
                <a:lnTo>
                  <a:pt x="1571" y="573"/>
                </a:lnTo>
                <a:lnTo>
                  <a:pt x="1579" y="559"/>
                </a:lnTo>
                <a:lnTo>
                  <a:pt x="1607" y="514"/>
                </a:lnTo>
                <a:lnTo>
                  <a:pt x="1628" y="478"/>
                </a:lnTo>
                <a:lnTo>
                  <a:pt x="1630" y="476"/>
                </a:lnTo>
                <a:lnTo>
                  <a:pt x="1621" y="461"/>
                </a:lnTo>
                <a:lnTo>
                  <a:pt x="1593" y="412"/>
                </a:lnTo>
                <a:lnTo>
                  <a:pt x="1571" y="375"/>
                </a:lnTo>
                <a:lnTo>
                  <a:pt x="1570" y="373"/>
                </a:lnTo>
                <a:lnTo>
                  <a:pt x="1568" y="375"/>
                </a:lnTo>
                <a:lnTo>
                  <a:pt x="1560" y="384"/>
                </a:lnTo>
                <a:lnTo>
                  <a:pt x="1528" y="413"/>
                </a:lnTo>
                <a:lnTo>
                  <a:pt x="1505" y="435"/>
                </a:lnTo>
                <a:lnTo>
                  <a:pt x="1504" y="436"/>
                </a:lnTo>
                <a:lnTo>
                  <a:pt x="1500" y="435"/>
                </a:lnTo>
                <a:lnTo>
                  <a:pt x="1477" y="424"/>
                </a:lnTo>
                <a:lnTo>
                  <a:pt x="1400" y="391"/>
                </a:lnTo>
                <a:lnTo>
                  <a:pt x="1342" y="365"/>
                </a:lnTo>
                <a:lnTo>
                  <a:pt x="1339" y="363"/>
                </a:lnTo>
                <a:lnTo>
                  <a:pt x="1345" y="345"/>
                </a:lnTo>
                <a:lnTo>
                  <a:pt x="1347" y="314"/>
                </a:lnTo>
                <a:lnTo>
                  <a:pt x="1344" y="302"/>
                </a:lnTo>
                <a:lnTo>
                  <a:pt x="1337" y="292"/>
                </a:lnTo>
                <a:lnTo>
                  <a:pt x="1328" y="283"/>
                </a:lnTo>
                <a:lnTo>
                  <a:pt x="1316" y="276"/>
                </a:lnTo>
                <a:lnTo>
                  <a:pt x="1288" y="262"/>
                </a:lnTo>
                <a:lnTo>
                  <a:pt x="1258" y="249"/>
                </a:lnTo>
                <a:lnTo>
                  <a:pt x="1243" y="241"/>
                </a:lnTo>
                <a:lnTo>
                  <a:pt x="1241" y="239"/>
                </a:lnTo>
                <a:lnTo>
                  <a:pt x="1234" y="222"/>
                </a:lnTo>
                <a:lnTo>
                  <a:pt x="1207" y="161"/>
                </a:lnTo>
                <a:lnTo>
                  <a:pt x="1187" y="115"/>
                </a:lnTo>
                <a:lnTo>
                  <a:pt x="1186" y="112"/>
                </a:lnTo>
                <a:lnTo>
                  <a:pt x="1180" y="113"/>
                </a:lnTo>
                <a:lnTo>
                  <a:pt x="1141" y="116"/>
                </a:lnTo>
                <a:lnTo>
                  <a:pt x="1008" y="127"/>
                </a:lnTo>
                <a:lnTo>
                  <a:pt x="908" y="135"/>
                </a:lnTo>
                <a:lnTo>
                  <a:pt x="902" y="135"/>
                </a:lnTo>
                <a:lnTo>
                  <a:pt x="897" y="137"/>
                </a:lnTo>
                <a:lnTo>
                  <a:pt x="864" y="150"/>
                </a:lnTo>
                <a:lnTo>
                  <a:pt x="749" y="195"/>
                </a:lnTo>
                <a:lnTo>
                  <a:pt x="662" y="230"/>
                </a:lnTo>
                <a:lnTo>
                  <a:pt x="658" y="231"/>
                </a:lnTo>
                <a:lnTo>
                  <a:pt x="653" y="227"/>
                </a:lnTo>
                <a:lnTo>
                  <a:pt x="624" y="195"/>
                </a:lnTo>
                <a:lnTo>
                  <a:pt x="528" y="87"/>
                </a:lnTo>
                <a:lnTo>
                  <a:pt x="454" y="5"/>
                </a:lnTo>
                <a:lnTo>
                  <a:pt x="451" y="0"/>
                </a:lnTo>
                <a:lnTo>
                  <a:pt x="429" y="11"/>
                </a:lnTo>
                <a:lnTo>
                  <a:pt x="383" y="25"/>
                </a:lnTo>
                <a:lnTo>
                  <a:pt x="292" y="48"/>
                </a:lnTo>
                <a:lnTo>
                  <a:pt x="250" y="65"/>
                </a:lnTo>
                <a:lnTo>
                  <a:pt x="216" y="91"/>
                </a:lnTo>
                <a:lnTo>
                  <a:pt x="203" y="109"/>
                </a:lnTo>
                <a:lnTo>
                  <a:pt x="199" y="110"/>
                </a:lnTo>
                <a:lnTo>
                  <a:pt x="171" y="111"/>
                </a:lnTo>
                <a:lnTo>
                  <a:pt x="76" y="114"/>
                </a:lnTo>
                <a:lnTo>
                  <a:pt x="4" y="117"/>
                </a:lnTo>
                <a:lnTo>
                  <a:pt x="0" y="117"/>
                </a:lnTo>
                <a:lnTo>
                  <a:pt x="1" y="121"/>
                </a:lnTo>
                <a:lnTo>
                  <a:pt x="10" y="141"/>
                </a:lnTo>
                <a:lnTo>
                  <a:pt x="40" y="215"/>
                </a:lnTo>
                <a:lnTo>
                  <a:pt x="63" y="270"/>
                </a:lnTo>
                <a:lnTo>
                  <a:pt x="65" y="273"/>
                </a:lnTo>
                <a:lnTo>
                  <a:pt x="59" y="278"/>
                </a:lnTo>
                <a:lnTo>
                  <a:pt x="56" y="284"/>
                </a:lnTo>
                <a:lnTo>
                  <a:pt x="49" y="298"/>
                </a:lnTo>
                <a:lnTo>
                  <a:pt x="35" y="333"/>
                </a:lnTo>
                <a:lnTo>
                  <a:pt x="21" y="358"/>
                </a:lnTo>
                <a:lnTo>
                  <a:pt x="25" y="363"/>
                </a:lnTo>
                <a:lnTo>
                  <a:pt x="36" y="378"/>
                </a:lnTo>
                <a:lnTo>
                  <a:pt x="57" y="417"/>
                </a:lnTo>
                <a:lnTo>
                  <a:pt x="70" y="458"/>
                </a:lnTo>
                <a:lnTo>
                  <a:pt x="71" y="466"/>
                </a:lnTo>
                <a:lnTo>
                  <a:pt x="84" y="452"/>
                </a:lnTo>
                <a:lnTo>
                  <a:pt x="100" y="427"/>
                </a:lnTo>
                <a:lnTo>
                  <a:pt x="104" y="407"/>
                </a:lnTo>
                <a:lnTo>
                  <a:pt x="108" y="390"/>
                </a:lnTo>
                <a:lnTo>
                  <a:pt x="115" y="372"/>
                </a:lnTo>
                <a:lnTo>
                  <a:pt x="135" y="353"/>
                </a:lnTo>
                <a:lnTo>
                  <a:pt x="154" y="342"/>
                </a:lnTo>
                <a:lnTo>
                  <a:pt x="162" y="349"/>
                </a:lnTo>
                <a:lnTo>
                  <a:pt x="177" y="363"/>
                </a:lnTo>
                <a:lnTo>
                  <a:pt x="191" y="380"/>
                </a:lnTo>
                <a:lnTo>
                  <a:pt x="217" y="411"/>
                </a:lnTo>
                <a:lnTo>
                  <a:pt x="241" y="428"/>
                </a:lnTo>
                <a:lnTo>
                  <a:pt x="248" y="435"/>
                </a:lnTo>
                <a:lnTo>
                  <a:pt x="254" y="442"/>
                </a:lnTo>
                <a:lnTo>
                  <a:pt x="260" y="451"/>
                </a:lnTo>
                <a:lnTo>
                  <a:pt x="267" y="471"/>
                </a:lnTo>
                <a:lnTo>
                  <a:pt x="271" y="495"/>
                </a:lnTo>
                <a:lnTo>
                  <a:pt x="271" y="540"/>
                </a:lnTo>
                <a:lnTo>
                  <a:pt x="271" y="548"/>
                </a:lnTo>
                <a:lnTo>
                  <a:pt x="271" y="556"/>
                </a:lnTo>
                <a:lnTo>
                  <a:pt x="274" y="564"/>
                </a:lnTo>
                <a:lnTo>
                  <a:pt x="280" y="571"/>
                </a:lnTo>
                <a:lnTo>
                  <a:pt x="288" y="578"/>
                </a:lnTo>
                <a:lnTo>
                  <a:pt x="306" y="594"/>
                </a:lnTo>
                <a:lnTo>
                  <a:pt x="342" y="623"/>
                </a:lnTo>
                <a:lnTo>
                  <a:pt x="351" y="639"/>
                </a:lnTo>
                <a:lnTo>
                  <a:pt x="353" y="648"/>
                </a:lnTo>
                <a:lnTo>
                  <a:pt x="356" y="656"/>
                </a:lnTo>
                <a:lnTo>
                  <a:pt x="363" y="663"/>
                </a:lnTo>
                <a:lnTo>
                  <a:pt x="378" y="676"/>
                </a:lnTo>
                <a:lnTo>
                  <a:pt x="396" y="688"/>
                </a:lnTo>
                <a:lnTo>
                  <a:pt x="440" y="710"/>
                </a:lnTo>
                <a:lnTo>
                  <a:pt x="451" y="714"/>
                </a:lnTo>
                <a:lnTo>
                  <a:pt x="454" y="715"/>
                </a:lnTo>
                <a:lnTo>
                  <a:pt x="458" y="717"/>
                </a:lnTo>
                <a:lnTo>
                  <a:pt x="463" y="720"/>
                </a:lnTo>
                <a:lnTo>
                  <a:pt x="466" y="723"/>
                </a:lnTo>
                <a:lnTo>
                  <a:pt x="472" y="732"/>
                </a:lnTo>
                <a:lnTo>
                  <a:pt x="478" y="742"/>
                </a:lnTo>
                <a:lnTo>
                  <a:pt x="481" y="753"/>
                </a:lnTo>
                <a:lnTo>
                  <a:pt x="483" y="763"/>
                </a:lnTo>
                <a:lnTo>
                  <a:pt x="511" y="761"/>
                </a:lnTo>
                <a:lnTo>
                  <a:pt x="563" y="767"/>
                </a:lnTo>
                <a:lnTo>
                  <a:pt x="613" y="784"/>
                </a:lnTo>
                <a:lnTo>
                  <a:pt x="658" y="812"/>
                </a:lnTo>
                <a:lnTo>
                  <a:pt x="742" y="883"/>
                </a:lnTo>
                <a:lnTo>
                  <a:pt x="764" y="901"/>
                </a:lnTo>
                <a:lnTo>
                  <a:pt x="768" y="900"/>
                </a:lnTo>
                <a:lnTo>
                  <a:pt x="775" y="900"/>
                </a:lnTo>
                <a:lnTo>
                  <a:pt x="782" y="901"/>
                </a:lnTo>
                <a:lnTo>
                  <a:pt x="800" y="905"/>
                </a:lnTo>
                <a:lnTo>
                  <a:pt x="822" y="914"/>
                </a:lnTo>
                <a:lnTo>
                  <a:pt x="872" y="939"/>
                </a:lnTo>
                <a:lnTo>
                  <a:pt x="964" y="998"/>
                </a:lnTo>
                <a:lnTo>
                  <a:pt x="994" y="1025"/>
                </a:lnTo>
                <a:lnTo>
                  <a:pt x="998" y="1025"/>
                </a:lnTo>
                <a:lnTo>
                  <a:pt x="1008" y="1023"/>
                </a:lnTo>
                <a:lnTo>
                  <a:pt x="1032" y="1016"/>
                </a:lnTo>
                <a:lnTo>
                  <a:pt x="1054" y="1010"/>
                </a:lnTo>
                <a:lnTo>
                  <a:pt x="1059" y="1009"/>
                </a:lnTo>
                <a:lnTo>
                  <a:pt x="1059" y="990"/>
                </a:lnTo>
                <a:lnTo>
                  <a:pt x="1066" y="956"/>
                </a:lnTo>
                <a:lnTo>
                  <a:pt x="1079" y="931"/>
                </a:lnTo>
                <a:lnTo>
                  <a:pt x="1098" y="915"/>
                </a:lnTo>
                <a:lnTo>
                  <a:pt x="1124" y="909"/>
                </a:lnTo>
                <a:lnTo>
                  <a:pt x="1155" y="911"/>
                </a:lnTo>
                <a:lnTo>
                  <a:pt x="1174" y="915"/>
                </a:lnTo>
                <a:lnTo>
                  <a:pt x="1191" y="922"/>
                </a:lnTo>
                <a:lnTo>
                  <a:pt x="1223" y="933"/>
                </a:lnTo>
                <a:lnTo>
                  <a:pt x="1276" y="959"/>
                </a:lnTo>
                <a:lnTo>
                  <a:pt x="1319" y="993"/>
                </a:lnTo>
                <a:lnTo>
                  <a:pt x="1329" y="1003"/>
                </a:lnTo>
                <a:lnTo>
                  <a:pt x="1334" y="1002"/>
                </a:lnTo>
                <a:lnTo>
                  <a:pt x="1375" y="993"/>
                </a:lnTo>
                <a:lnTo>
                  <a:pt x="1513" y="962"/>
                </a:lnTo>
                <a:lnTo>
                  <a:pt x="1619" y="939"/>
                </a:lnTo>
                <a:lnTo>
                  <a:pt x="1625" y="9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193"/>
          <p:cNvSpPr/>
          <p:nvPr/>
        </p:nvSpPr>
        <p:spPr>
          <a:xfrm>
            <a:off x="4776840" y="5335560"/>
            <a:ext cx="14400" cy="119160"/>
          </a:xfrm>
          <a:custGeom>
            <a:avLst/>
            <a:gdLst>
              <a:gd name="textAreaLeft" fmla="*/ 0 w 14400"/>
              <a:gd name="textAreaRight" fmla="*/ 14760 w 14400"/>
              <a:gd name="textAreaTop" fmla="*/ 0 h 119160"/>
              <a:gd name="textAreaBottom" fmla="*/ 119520 h 119160"/>
            </a:gdLst>
            <a:ahLst/>
            <a:rect l="textAreaLeft" t="textAreaTop" r="textAreaRight" b="textAreaBottom"/>
            <a:pathLst>
              <a:path w="17" h="150">
                <a:moveTo>
                  <a:pt x="2" y="0"/>
                </a:moveTo>
                <a:lnTo>
                  <a:pt x="1" y="1"/>
                </a:lnTo>
                <a:lnTo>
                  <a:pt x="0" y="3"/>
                </a:lnTo>
                <a:lnTo>
                  <a:pt x="0" y="4"/>
                </a:lnTo>
                <a:lnTo>
                  <a:pt x="0" y="7"/>
                </a:lnTo>
                <a:lnTo>
                  <a:pt x="0" y="28"/>
                </a:lnTo>
                <a:lnTo>
                  <a:pt x="3" y="96"/>
                </a:lnTo>
                <a:lnTo>
                  <a:pt x="4" y="148"/>
                </a:lnTo>
                <a:lnTo>
                  <a:pt x="6" y="150"/>
                </a:lnTo>
                <a:lnTo>
                  <a:pt x="7" y="150"/>
                </a:lnTo>
                <a:lnTo>
                  <a:pt x="12" y="150"/>
                </a:lnTo>
                <a:lnTo>
                  <a:pt x="16" y="150"/>
                </a:lnTo>
                <a:lnTo>
                  <a:pt x="17" y="149"/>
                </a:lnTo>
                <a:lnTo>
                  <a:pt x="16" y="126"/>
                </a:lnTo>
                <a:lnTo>
                  <a:pt x="13" y="58"/>
                </a:lnTo>
                <a:lnTo>
                  <a:pt x="12" y="6"/>
                </a:lnTo>
                <a:lnTo>
                  <a:pt x="12" y="3"/>
                </a:lnTo>
                <a:lnTo>
                  <a:pt x="11" y="4"/>
                </a:lnTo>
                <a:lnTo>
                  <a:pt x="10" y="6"/>
                </a:lnTo>
                <a:lnTo>
                  <a:pt x="10" y="7"/>
                </a:lnTo>
                <a:lnTo>
                  <a:pt x="8" y="6"/>
                </a:lnTo>
                <a:lnTo>
                  <a:pt x="4" y="3"/>
                </a:lnTo>
                <a:lnTo>
                  <a:pt x="2" y="1"/>
                </a:lnTo>
                <a:lnTo>
                  <a:pt x="2" y="0"/>
                </a:lnTo>
                <a:lnTo>
                  <a:pt x="1" y="1"/>
                </a:lnTo>
                <a:lnTo>
                  <a:pt x="0" y="1"/>
                </a:lnTo>
                <a:lnTo>
                  <a:pt x="0" y="2"/>
                </a:lnTo>
                <a:lnTo>
                  <a:pt x="0" y="3"/>
                </a:lnTo>
                <a:lnTo>
                  <a:pt x="0" y="4"/>
                </a:lnTo>
                <a:lnTo>
                  <a:pt x="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194"/>
          <p:cNvSpPr/>
          <p:nvPr/>
        </p:nvSpPr>
        <p:spPr>
          <a:xfrm>
            <a:off x="4778280" y="5286240"/>
            <a:ext cx="61920" cy="55800"/>
          </a:xfrm>
          <a:custGeom>
            <a:avLst/>
            <a:gdLst>
              <a:gd name="textAreaLeft" fmla="*/ 0 w 61920"/>
              <a:gd name="textAreaRight" fmla="*/ 62280 w 61920"/>
              <a:gd name="textAreaTop" fmla="*/ 0 h 55800"/>
              <a:gd name="textAreaBottom" fmla="*/ 56160 h 55800"/>
            </a:gdLst>
            <a:ahLst/>
            <a:rect l="textAreaLeft" t="textAreaTop" r="textAreaRight" b="textAreaBottom"/>
            <a:pathLst>
              <a:path w="79" h="69">
                <a:moveTo>
                  <a:pt x="66" y="7"/>
                </a:moveTo>
                <a:lnTo>
                  <a:pt x="66" y="6"/>
                </a:lnTo>
                <a:lnTo>
                  <a:pt x="66" y="3"/>
                </a:lnTo>
                <a:lnTo>
                  <a:pt x="66" y="1"/>
                </a:lnTo>
                <a:lnTo>
                  <a:pt x="67" y="0"/>
                </a:lnTo>
                <a:lnTo>
                  <a:pt x="65" y="2"/>
                </a:lnTo>
                <a:lnTo>
                  <a:pt x="56" y="10"/>
                </a:lnTo>
                <a:lnTo>
                  <a:pt x="25" y="40"/>
                </a:lnTo>
                <a:lnTo>
                  <a:pt x="1" y="61"/>
                </a:lnTo>
                <a:lnTo>
                  <a:pt x="0" y="62"/>
                </a:lnTo>
                <a:lnTo>
                  <a:pt x="1" y="64"/>
                </a:lnTo>
                <a:lnTo>
                  <a:pt x="5" y="67"/>
                </a:lnTo>
                <a:lnTo>
                  <a:pt x="7" y="69"/>
                </a:lnTo>
                <a:lnTo>
                  <a:pt x="8" y="69"/>
                </a:lnTo>
                <a:lnTo>
                  <a:pt x="9" y="68"/>
                </a:lnTo>
                <a:lnTo>
                  <a:pt x="18" y="60"/>
                </a:lnTo>
                <a:lnTo>
                  <a:pt x="49" y="31"/>
                </a:lnTo>
                <a:lnTo>
                  <a:pt x="72" y="9"/>
                </a:lnTo>
                <a:lnTo>
                  <a:pt x="74" y="7"/>
                </a:lnTo>
                <a:lnTo>
                  <a:pt x="74" y="6"/>
                </a:lnTo>
                <a:lnTo>
                  <a:pt x="74" y="3"/>
                </a:lnTo>
                <a:lnTo>
                  <a:pt x="74" y="1"/>
                </a:lnTo>
                <a:lnTo>
                  <a:pt x="75" y="0"/>
                </a:lnTo>
                <a:lnTo>
                  <a:pt x="74" y="2"/>
                </a:lnTo>
                <a:lnTo>
                  <a:pt x="74" y="5"/>
                </a:lnTo>
                <a:lnTo>
                  <a:pt x="74" y="7"/>
                </a:lnTo>
                <a:lnTo>
                  <a:pt x="76" y="6"/>
                </a:lnTo>
                <a:lnTo>
                  <a:pt x="78" y="5"/>
                </a:lnTo>
                <a:lnTo>
                  <a:pt x="79" y="4"/>
                </a:lnTo>
                <a:lnTo>
                  <a:pt x="76" y="2"/>
                </a:lnTo>
                <a:lnTo>
                  <a:pt x="75" y="1"/>
                </a:lnTo>
                <a:lnTo>
                  <a:pt x="75" y="0"/>
                </a:lnTo>
                <a:lnTo>
                  <a:pt x="66" y="7"/>
                </a:lnTo>
                <a:close/>
              </a:path>
            </a:pathLst>
          </a:custGeom>
          <a:solidFill>
            <a:srgbClr val="1f1a17"/>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96" name="Freeform 195"/>
          <p:cNvSpPr/>
          <p:nvPr/>
        </p:nvSpPr>
        <p:spPr>
          <a:xfrm>
            <a:off x="4737240" y="5164200"/>
            <a:ext cx="101520" cy="128520"/>
          </a:xfrm>
          <a:custGeom>
            <a:avLst/>
            <a:gdLst>
              <a:gd name="textAreaLeft" fmla="*/ 0 w 101520"/>
              <a:gd name="textAreaRight" fmla="*/ 101880 w 101520"/>
              <a:gd name="textAreaTop" fmla="*/ 0 h 128520"/>
              <a:gd name="textAreaBottom" fmla="*/ 128880 h 128520"/>
            </a:gdLst>
            <a:ahLst/>
            <a:rect l="textAreaLeft" t="textAreaTop" r="textAreaRight" b="textAreaBottom"/>
            <a:pathLst>
              <a:path w="127" h="162">
                <a:moveTo>
                  <a:pt x="2" y="1"/>
                </a:moveTo>
                <a:lnTo>
                  <a:pt x="2" y="2"/>
                </a:lnTo>
                <a:lnTo>
                  <a:pt x="2" y="5"/>
                </a:lnTo>
                <a:lnTo>
                  <a:pt x="2" y="7"/>
                </a:lnTo>
                <a:lnTo>
                  <a:pt x="4" y="10"/>
                </a:lnTo>
                <a:lnTo>
                  <a:pt x="19" y="32"/>
                </a:lnTo>
                <a:lnTo>
                  <a:pt x="74" y="104"/>
                </a:lnTo>
                <a:lnTo>
                  <a:pt x="115" y="160"/>
                </a:lnTo>
                <a:lnTo>
                  <a:pt x="118" y="162"/>
                </a:lnTo>
                <a:lnTo>
                  <a:pt x="119" y="161"/>
                </a:lnTo>
                <a:lnTo>
                  <a:pt x="123" y="158"/>
                </a:lnTo>
                <a:lnTo>
                  <a:pt x="126" y="156"/>
                </a:lnTo>
                <a:lnTo>
                  <a:pt x="127" y="155"/>
                </a:lnTo>
                <a:lnTo>
                  <a:pt x="124" y="153"/>
                </a:lnTo>
                <a:lnTo>
                  <a:pt x="109" y="132"/>
                </a:lnTo>
                <a:lnTo>
                  <a:pt x="54" y="59"/>
                </a:lnTo>
                <a:lnTo>
                  <a:pt x="14" y="3"/>
                </a:lnTo>
                <a:lnTo>
                  <a:pt x="12" y="0"/>
                </a:lnTo>
                <a:lnTo>
                  <a:pt x="12" y="1"/>
                </a:lnTo>
                <a:lnTo>
                  <a:pt x="12" y="4"/>
                </a:lnTo>
                <a:lnTo>
                  <a:pt x="12" y="6"/>
                </a:lnTo>
                <a:lnTo>
                  <a:pt x="5" y="3"/>
                </a:lnTo>
                <a:lnTo>
                  <a:pt x="2" y="2"/>
                </a:lnTo>
                <a:lnTo>
                  <a:pt x="2" y="1"/>
                </a:lnTo>
                <a:lnTo>
                  <a:pt x="1" y="2"/>
                </a:lnTo>
                <a:lnTo>
                  <a:pt x="0" y="3"/>
                </a:lnTo>
                <a:lnTo>
                  <a:pt x="0" y="4"/>
                </a:lnTo>
                <a:lnTo>
                  <a:pt x="1" y="6"/>
                </a:lnTo>
                <a:lnTo>
                  <a:pt x="2" y="7"/>
                </a:lnTo>
                <a:lnTo>
                  <a:pt x="2" y="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196"/>
          <p:cNvSpPr/>
          <p:nvPr/>
        </p:nvSpPr>
        <p:spPr>
          <a:xfrm>
            <a:off x="4738680" y="5086440"/>
            <a:ext cx="57240" cy="82440"/>
          </a:xfrm>
          <a:custGeom>
            <a:avLst/>
            <a:gdLst>
              <a:gd name="textAreaLeft" fmla="*/ 0 w 57240"/>
              <a:gd name="textAreaRight" fmla="*/ 57600 w 57240"/>
              <a:gd name="textAreaTop" fmla="*/ 0 h 82440"/>
              <a:gd name="textAreaBottom" fmla="*/ 82800 h 82440"/>
            </a:gdLst>
            <a:ahLst/>
            <a:rect l="textAreaLeft" t="textAreaTop" r="textAreaRight" b="textAreaBottom"/>
            <a:pathLst>
              <a:path w="72" h="103">
                <a:moveTo>
                  <a:pt x="60" y="5"/>
                </a:moveTo>
                <a:lnTo>
                  <a:pt x="60" y="2"/>
                </a:lnTo>
                <a:lnTo>
                  <a:pt x="60" y="1"/>
                </a:lnTo>
                <a:lnTo>
                  <a:pt x="60" y="0"/>
                </a:lnTo>
                <a:lnTo>
                  <a:pt x="58" y="2"/>
                </a:lnTo>
                <a:lnTo>
                  <a:pt x="50" y="16"/>
                </a:lnTo>
                <a:lnTo>
                  <a:pt x="22" y="61"/>
                </a:lnTo>
                <a:lnTo>
                  <a:pt x="1" y="97"/>
                </a:lnTo>
                <a:lnTo>
                  <a:pt x="0" y="98"/>
                </a:lnTo>
                <a:lnTo>
                  <a:pt x="1" y="99"/>
                </a:lnTo>
                <a:lnTo>
                  <a:pt x="5" y="102"/>
                </a:lnTo>
                <a:lnTo>
                  <a:pt x="9" y="103"/>
                </a:lnTo>
                <a:lnTo>
                  <a:pt x="10" y="103"/>
                </a:lnTo>
                <a:lnTo>
                  <a:pt x="11" y="102"/>
                </a:lnTo>
                <a:lnTo>
                  <a:pt x="18" y="88"/>
                </a:lnTo>
                <a:lnTo>
                  <a:pt x="46" y="43"/>
                </a:lnTo>
                <a:lnTo>
                  <a:pt x="68" y="7"/>
                </a:lnTo>
                <a:lnTo>
                  <a:pt x="70" y="5"/>
                </a:lnTo>
                <a:lnTo>
                  <a:pt x="70" y="2"/>
                </a:lnTo>
                <a:lnTo>
                  <a:pt x="70" y="1"/>
                </a:lnTo>
                <a:lnTo>
                  <a:pt x="70" y="0"/>
                </a:lnTo>
                <a:lnTo>
                  <a:pt x="70" y="1"/>
                </a:lnTo>
                <a:lnTo>
                  <a:pt x="70" y="4"/>
                </a:lnTo>
                <a:lnTo>
                  <a:pt x="70" y="5"/>
                </a:lnTo>
                <a:lnTo>
                  <a:pt x="71" y="4"/>
                </a:lnTo>
                <a:lnTo>
                  <a:pt x="72" y="3"/>
                </a:lnTo>
                <a:lnTo>
                  <a:pt x="70" y="1"/>
                </a:lnTo>
                <a:lnTo>
                  <a:pt x="70" y="0"/>
                </a:lnTo>
                <a:lnTo>
                  <a:pt x="60" y="5"/>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98" name="Freeform 197"/>
          <p:cNvSpPr/>
          <p:nvPr/>
        </p:nvSpPr>
        <p:spPr>
          <a:xfrm>
            <a:off x="4738680" y="5000760"/>
            <a:ext cx="55440" cy="90360"/>
          </a:xfrm>
          <a:custGeom>
            <a:avLst/>
            <a:gdLst>
              <a:gd name="textAreaLeft" fmla="*/ 0 w 55440"/>
              <a:gd name="textAreaRight" fmla="*/ 55800 w 55440"/>
              <a:gd name="textAreaTop" fmla="*/ 0 h 90360"/>
              <a:gd name="textAreaBottom" fmla="*/ 90720 h 90360"/>
            </a:gdLst>
            <a:ahLst/>
            <a:rect l="textAreaLeft" t="textAreaTop" r="textAreaRight" b="textAreaBottom"/>
            <a:pathLst>
              <a:path w="70" h="114">
                <a:moveTo>
                  <a:pt x="9" y="13"/>
                </a:moveTo>
                <a:lnTo>
                  <a:pt x="7" y="13"/>
                </a:lnTo>
                <a:lnTo>
                  <a:pt x="6" y="13"/>
                </a:lnTo>
                <a:lnTo>
                  <a:pt x="3" y="13"/>
                </a:lnTo>
                <a:lnTo>
                  <a:pt x="0" y="13"/>
                </a:lnTo>
                <a:lnTo>
                  <a:pt x="0" y="11"/>
                </a:lnTo>
                <a:lnTo>
                  <a:pt x="1" y="14"/>
                </a:lnTo>
                <a:lnTo>
                  <a:pt x="9" y="28"/>
                </a:lnTo>
                <a:lnTo>
                  <a:pt x="36" y="77"/>
                </a:lnTo>
                <a:lnTo>
                  <a:pt x="58" y="113"/>
                </a:lnTo>
                <a:lnTo>
                  <a:pt x="60" y="114"/>
                </a:lnTo>
                <a:lnTo>
                  <a:pt x="65" y="111"/>
                </a:lnTo>
                <a:lnTo>
                  <a:pt x="69" y="110"/>
                </a:lnTo>
                <a:lnTo>
                  <a:pt x="70" y="109"/>
                </a:lnTo>
                <a:lnTo>
                  <a:pt x="60" y="94"/>
                </a:lnTo>
                <a:lnTo>
                  <a:pt x="32" y="45"/>
                </a:lnTo>
                <a:lnTo>
                  <a:pt x="11" y="8"/>
                </a:lnTo>
                <a:lnTo>
                  <a:pt x="10" y="6"/>
                </a:lnTo>
                <a:lnTo>
                  <a:pt x="9" y="6"/>
                </a:lnTo>
                <a:lnTo>
                  <a:pt x="7" y="6"/>
                </a:lnTo>
                <a:lnTo>
                  <a:pt x="4" y="6"/>
                </a:lnTo>
                <a:lnTo>
                  <a:pt x="1" y="6"/>
                </a:lnTo>
                <a:lnTo>
                  <a:pt x="1" y="5"/>
                </a:lnTo>
                <a:lnTo>
                  <a:pt x="5" y="6"/>
                </a:lnTo>
                <a:lnTo>
                  <a:pt x="9" y="6"/>
                </a:lnTo>
                <a:lnTo>
                  <a:pt x="10" y="6"/>
                </a:lnTo>
                <a:lnTo>
                  <a:pt x="7" y="3"/>
                </a:lnTo>
                <a:lnTo>
                  <a:pt x="6" y="1"/>
                </a:lnTo>
                <a:lnTo>
                  <a:pt x="6" y="0"/>
                </a:lnTo>
                <a:lnTo>
                  <a:pt x="5" y="1"/>
                </a:lnTo>
                <a:lnTo>
                  <a:pt x="2" y="4"/>
                </a:lnTo>
                <a:lnTo>
                  <a:pt x="1" y="5"/>
                </a:lnTo>
                <a:lnTo>
                  <a:pt x="9" y="13"/>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9" name="Freeform 198"/>
          <p:cNvSpPr/>
          <p:nvPr/>
        </p:nvSpPr>
        <p:spPr>
          <a:xfrm>
            <a:off x="4686480" y="5003640"/>
            <a:ext cx="58680" cy="57240"/>
          </a:xfrm>
          <a:custGeom>
            <a:avLst/>
            <a:gdLst>
              <a:gd name="textAreaLeft" fmla="*/ 0 w 58680"/>
              <a:gd name="textAreaRight" fmla="*/ 59040 w 58680"/>
              <a:gd name="textAreaTop" fmla="*/ 0 h 57240"/>
              <a:gd name="textAreaBottom" fmla="*/ 57600 h 57240"/>
            </a:gdLst>
            <a:ahLst/>
            <a:rect l="textAreaLeft" t="textAreaTop" r="textAreaRight" b="textAreaBottom"/>
            <a:pathLst>
              <a:path w="74" h="73">
                <a:moveTo>
                  <a:pt x="1" y="71"/>
                </a:moveTo>
                <a:lnTo>
                  <a:pt x="4" y="71"/>
                </a:lnTo>
                <a:lnTo>
                  <a:pt x="6" y="71"/>
                </a:lnTo>
                <a:lnTo>
                  <a:pt x="7" y="70"/>
                </a:lnTo>
                <a:lnTo>
                  <a:pt x="8" y="69"/>
                </a:lnTo>
                <a:lnTo>
                  <a:pt x="17" y="60"/>
                </a:lnTo>
                <a:lnTo>
                  <a:pt x="48" y="31"/>
                </a:lnTo>
                <a:lnTo>
                  <a:pt x="71" y="10"/>
                </a:lnTo>
                <a:lnTo>
                  <a:pt x="74" y="8"/>
                </a:lnTo>
                <a:lnTo>
                  <a:pt x="71" y="6"/>
                </a:lnTo>
                <a:lnTo>
                  <a:pt x="68" y="3"/>
                </a:lnTo>
                <a:lnTo>
                  <a:pt x="66" y="1"/>
                </a:lnTo>
                <a:lnTo>
                  <a:pt x="66" y="0"/>
                </a:lnTo>
                <a:lnTo>
                  <a:pt x="64" y="2"/>
                </a:lnTo>
                <a:lnTo>
                  <a:pt x="55" y="11"/>
                </a:lnTo>
                <a:lnTo>
                  <a:pt x="24" y="40"/>
                </a:lnTo>
                <a:lnTo>
                  <a:pt x="1" y="62"/>
                </a:lnTo>
                <a:lnTo>
                  <a:pt x="0" y="63"/>
                </a:lnTo>
                <a:lnTo>
                  <a:pt x="3" y="63"/>
                </a:lnTo>
                <a:lnTo>
                  <a:pt x="5" y="63"/>
                </a:lnTo>
                <a:lnTo>
                  <a:pt x="6" y="62"/>
                </a:lnTo>
                <a:lnTo>
                  <a:pt x="5" y="63"/>
                </a:lnTo>
                <a:lnTo>
                  <a:pt x="2" y="68"/>
                </a:lnTo>
                <a:lnTo>
                  <a:pt x="1" y="71"/>
                </a:lnTo>
                <a:lnTo>
                  <a:pt x="3" y="73"/>
                </a:lnTo>
                <a:lnTo>
                  <a:pt x="5" y="73"/>
                </a:lnTo>
                <a:lnTo>
                  <a:pt x="6" y="72"/>
                </a:lnTo>
                <a:lnTo>
                  <a:pt x="7" y="70"/>
                </a:lnTo>
                <a:lnTo>
                  <a:pt x="1" y="71"/>
                </a:lnTo>
                <a:close/>
              </a:path>
            </a:pathLst>
          </a:custGeom>
          <a:solidFill>
            <a:srgbClr val="1f1a17"/>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00" name="Freeform 199"/>
          <p:cNvSpPr/>
          <p:nvPr/>
        </p:nvSpPr>
        <p:spPr>
          <a:xfrm>
            <a:off x="4552920" y="4995720"/>
            <a:ext cx="138240" cy="63720"/>
          </a:xfrm>
          <a:custGeom>
            <a:avLst/>
            <a:gdLst>
              <a:gd name="textAreaLeft" fmla="*/ 0 w 138240"/>
              <a:gd name="textAreaRight" fmla="*/ 138600 w 138240"/>
              <a:gd name="textAreaTop" fmla="*/ 0 h 63720"/>
              <a:gd name="textAreaBottom" fmla="*/ 64080 h 63720"/>
            </a:gdLst>
            <a:ahLst/>
            <a:rect l="textAreaLeft" t="textAreaTop" r="textAreaRight" b="textAreaBottom"/>
            <a:pathLst>
              <a:path w="176" h="82">
                <a:moveTo>
                  <a:pt x="2" y="2"/>
                </a:moveTo>
                <a:lnTo>
                  <a:pt x="3" y="7"/>
                </a:lnTo>
                <a:lnTo>
                  <a:pt x="4" y="9"/>
                </a:lnTo>
                <a:lnTo>
                  <a:pt x="5" y="9"/>
                </a:lnTo>
                <a:lnTo>
                  <a:pt x="9" y="11"/>
                </a:lnTo>
                <a:lnTo>
                  <a:pt x="31" y="22"/>
                </a:lnTo>
                <a:lnTo>
                  <a:pt x="108" y="55"/>
                </a:lnTo>
                <a:lnTo>
                  <a:pt x="166" y="81"/>
                </a:lnTo>
                <a:lnTo>
                  <a:pt x="171" y="82"/>
                </a:lnTo>
                <a:lnTo>
                  <a:pt x="174" y="77"/>
                </a:lnTo>
                <a:lnTo>
                  <a:pt x="175" y="74"/>
                </a:lnTo>
                <a:lnTo>
                  <a:pt x="176" y="73"/>
                </a:lnTo>
                <a:lnTo>
                  <a:pt x="172" y="71"/>
                </a:lnTo>
                <a:lnTo>
                  <a:pt x="149" y="61"/>
                </a:lnTo>
                <a:lnTo>
                  <a:pt x="72" y="28"/>
                </a:lnTo>
                <a:lnTo>
                  <a:pt x="14" y="2"/>
                </a:lnTo>
                <a:lnTo>
                  <a:pt x="11" y="0"/>
                </a:lnTo>
                <a:lnTo>
                  <a:pt x="12" y="5"/>
                </a:lnTo>
                <a:lnTo>
                  <a:pt x="13" y="7"/>
                </a:lnTo>
                <a:lnTo>
                  <a:pt x="14" y="7"/>
                </a:lnTo>
                <a:lnTo>
                  <a:pt x="7" y="4"/>
                </a:lnTo>
                <a:lnTo>
                  <a:pt x="2" y="3"/>
                </a:lnTo>
                <a:lnTo>
                  <a:pt x="2" y="2"/>
                </a:lnTo>
                <a:lnTo>
                  <a:pt x="0" y="6"/>
                </a:lnTo>
                <a:lnTo>
                  <a:pt x="0" y="7"/>
                </a:lnTo>
                <a:lnTo>
                  <a:pt x="3" y="9"/>
                </a:lnTo>
                <a:lnTo>
                  <a:pt x="4" y="9"/>
                </a:lnTo>
                <a:lnTo>
                  <a:pt x="5" y="9"/>
                </a:lnTo>
                <a:lnTo>
                  <a:pt x="2" y="2"/>
                </a:lnTo>
                <a:close/>
              </a:path>
            </a:pathLst>
          </a:custGeom>
          <a:solidFill>
            <a:srgbClr val="1f1a17"/>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1" name="Freeform 200"/>
          <p:cNvSpPr/>
          <p:nvPr/>
        </p:nvSpPr>
        <p:spPr>
          <a:xfrm>
            <a:off x="4478400" y="4897440"/>
            <a:ext cx="93600" cy="103320"/>
          </a:xfrm>
          <a:custGeom>
            <a:avLst/>
            <a:gdLst>
              <a:gd name="textAreaLeft" fmla="*/ 0 w 93600"/>
              <a:gd name="textAreaRight" fmla="*/ 93960 w 93600"/>
              <a:gd name="textAreaTop" fmla="*/ 0 h 103320"/>
              <a:gd name="textAreaBottom" fmla="*/ 103680 h 103320"/>
            </a:gdLst>
            <a:ahLst/>
            <a:rect l="textAreaLeft" t="textAreaTop" r="textAreaRight" b="textAreaBottom"/>
            <a:pathLst>
              <a:path w="118" h="129">
                <a:moveTo>
                  <a:pt x="0" y="7"/>
                </a:moveTo>
                <a:lnTo>
                  <a:pt x="2" y="9"/>
                </a:lnTo>
                <a:lnTo>
                  <a:pt x="3" y="9"/>
                </a:lnTo>
                <a:lnTo>
                  <a:pt x="6" y="11"/>
                </a:lnTo>
                <a:lnTo>
                  <a:pt x="7" y="12"/>
                </a:lnTo>
                <a:lnTo>
                  <a:pt x="8" y="12"/>
                </a:lnTo>
                <a:lnTo>
                  <a:pt x="12" y="14"/>
                </a:lnTo>
                <a:lnTo>
                  <a:pt x="14" y="15"/>
                </a:lnTo>
                <a:lnTo>
                  <a:pt x="15" y="15"/>
                </a:lnTo>
                <a:lnTo>
                  <a:pt x="18" y="17"/>
                </a:lnTo>
                <a:lnTo>
                  <a:pt x="19" y="18"/>
                </a:lnTo>
                <a:lnTo>
                  <a:pt x="20" y="18"/>
                </a:lnTo>
                <a:lnTo>
                  <a:pt x="23" y="20"/>
                </a:lnTo>
                <a:lnTo>
                  <a:pt x="26" y="20"/>
                </a:lnTo>
                <a:lnTo>
                  <a:pt x="27" y="20"/>
                </a:lnTo>
                <a:lnTo>
                  <a:pt x="30" y="22"/>
                </a:lnTo>
                <a:lnTo>
                  <a:pt x="31" y="23"/>
                </a:lnTo>
                <a:lnTo>
                  <a:pt x="32" y="23"/>
                </a:lnTo>
                <a:lnTo>
                  <a:pt x="35" y="25"/>
                </a:lnTo>
                <a:lnTo>
                  <a:pt x="37" y="25"/>
                </a:lnTo>
                <a:lnTo>
                  <a:pt x="38" y="25"/>
                </a:lnTo>
                <a:lnTo>
                  <a:pt x="42" y="27"/>
                </a:lnTo>
                <a:lnTo>
                  <a:pt x="43" y="27"/>
                </a:lnTo>
                <a:lnTo>
                  <a:pt x="44" y="27"/>
                </a:lnTo>
                <a:lnTo>
                  <a:pt x="47" y="29"/>
                </a:lnTo>
                <a:lnTo>
                  <a:pt x="48" y="30"/>
                </a:lnTo>
                <a:lnTo>
                  <a:pt x="49" y="30"/>
                </a:lnTo>
                <a:lnTo>
                  <a:pt x="52" y="33"/>
                </a:lnTo>
                <a:lnTo>
                  <a:pt x="53" y="33"/>
                </a:lnTo>
                <a:lnTo>
                  <a:pt x="54" y="33"/>
                </a:lnTo>
                <a:lnTo>
                  <a:pt x="58" y="35"/>
                </a:lnTo>
                <a:lnTo>
                  <a:pt x="59" y="35"/>
                </a:lnTo>
                <a:lnTo>
                  <a:pt x="60" y="35"/>
                </a:lnTo>
                <a:lnTo>
                  <a:pt x="63" y="37"/>
                </a:lnTo>
                <a:lnTo>
                  <a:pt x="64" y="38"/>
                </a:lnTo>
                <a:lnTo>
                  <a:pt x="65" y="38"/>
                </a:lnTo>
                <a:lnTo>
                  <a:pt x="67" y="40"/>
                </a:lnTo>
                <a:lnTo>
                  <a:pt x="70" y="40"/>
                </a:lnTo>
                <a:lnTo>
                  <a:pt x="73" y="42"/>
                </a:lnTo>
                <a:lnTo>
                  <a:pt x="74" y="43"/>
                </a:lnTo>
                <a:lnTo>
                  <a:pt x="75" y="43"/>
                </a:lnTo>
                <a:lnTo>
                  <a:pt x="77" y="45"/>
                </a:lnTo>
                <a:lnTo>
                  <a:pt x="79" y="45"/>
                </a:lnTo>
                <a:lnTo>
                  <a:pt x="80" y="47"/>
                </a:lnTo>
                <a:lnTo>
                  <a:pt x="81" y="48"/>
                </a:lnTo>
                <a:lnTo>
                  <a:pt x="82" y="48"/>
                </a:lnTo>
                <a:lnTo>
                  <a:pt x="85" y="50"/>
                </a:lnTo>
                <a:lnTo>
                  <a:pt x="86" y="51"/>
                </a:lnTo>
                <a:lnTo>
                  <a:pt x="87" y="51"/>
                </a:lnTo>
                <a:lnTo>
                  <a:pt x="89" y="53"/>
                </a:lnTo>
                <a:lnTo>
                  <a:pt x="90" y="53"/>
                </a:lnTo>
                <a:lnTo>
                  <a:pt x="91" y="55"/>
                </a:lnTo>
                <a:lnTo>
                  <a:pt x="92" y="56"/>
                </a:lnTo>
                <a:lnTo>
                  <a:pt x="93" y="56"/>
                </a:lnTo>
                <a:lnTo>
                  <a:pt x="94" y="58"/>
                </a:lnTo>
                <a:lnTo>
                  <a:pt x="95" y="59"/>
                </a:lnTo>
                <a:lnTo>
                  <a:pt x="96" y="59"/>
                </a:lnTo>
                <a:lnTo>
                  <a:pt x="97" y="62"/>
                </a:lnTo>
                <a:lnTo>
                  <a:pt x="98" y="63"/>
                </a:lnTo>
                <a:lnTo>
                  <a:pt x="100" y="65"/>
                </a:lnTo>
                <a:lnTo>
                  <a:pt x="101" y="66"/>
                </a:lnTo>
                <a:lnTo>
                  <a:pt x="102" y="69"/>
                </a:lnTo>
                <a:lnTo>
                  <a:pt x="103" y="70"/>
                </a:lnTo>
                <a:lnTo>
                  <a:pt x="103" y="71"/>
                </a:lnTo>
                <a:lnTo>
                  <a:pt x="103" y="72"/>
                </a:lnTo>
                <a:lnTo>
                  <a:pt x="103" y="73"/>
                </a:lnTo>
                <a:lnTo>
                  <a:pt x="104" y="73"/>
                </a:lnTo>
                <a:lnTo>
                  <a:pt x="104" y="74"/>
                </a:lnTo>
                <a:lnTo>
                  <a:pt x="104" y="76"/>
                </a:lnTo>
                <a:lnTo>
                  <a:pt x="104" y="77"/>
                </a:lnTo>
                <a:lnTo>
                  <a:pt x="105" y="77"/>
                </a:lnTo>
                <a:lnTo>
                  <a:pt x="105" y="78"/>
                </a:lnTo>
                <a:lnTo>
                  <a:pt x="105" y="81"/>
                </a:lnTo>
                <a:lnTo>
                  <a:pt x="105" y="82"/>
                </a:lnTo>
                <a:lnTo>
                  <a:pt x="106" y="82"/>
                </a:lnTo>
                <a:lnTo>
                  <a:pt x="106" y="83"/>
                </a:lnTo>
                <a:lnTo>
                  <a:pt x="106" y="87"/>
                </a:lnTo>
                <a:lnTo>
                  <a:pt x="106" y="88"/>
                </a:lnTo>
                <a:lnTo>
                  <a:pt x="105" y="92"/>
                </a:lnTo>
                <a:lnTo>
                  <a:pt x="105" y="93"/>
                </a:lnTo>
                <a:lnTo>
                  <a:pt x="105" y="94"/>
                </a:lnTo>
                <a:lnTo>
                  <a:pt x="105" y="97"/>
                </a:lnTo>
                <a:lnTo>
                  <a:pt x="105" y="98"/>
                </a:lnTo>
                <a:lnTo>
                  <a:pt x="103" y="102"/>
                </a:lnTo>
                <a:lnTo>
                  <a:pt x="103" y="104"/>
                </a:lnTo>
                <a:lnTo>
                  <a:pt x="102" y="108"/>
                </a:lnTo>
                <a:lnTo>
                  <a:pt x="102" y="110"/>
                </a:lnTo>
                <a:lnTo>
                  <a:pt x="101" y="111"/>
                </a:lnTo>
                <a:lnTo>
                  <a:pt x="100" y="115"/>
                </a:lnTo>
                <a:lnTo>
                  <a:pt x="98" y="117"/>
                </a:lnTo>
                <a:lnTo>
                  <a:pt x="97" y="118"/>
                </a:lnTo>
                <a:lnTo>
                  <a:pt x="96" y="122"/>
                </a:lnTo>
                <a:lnTo>
                  <a:pt x="95" y="124"/>
                </a:lnTo>
                <a:lnTo>
                  <a:pt x="96" y="125"/>
                </a:lnTo>
                <a:lnTo>
                  <a:pt x="102" y="128"/>
                </a:lnTo>
                <a:lnTo>
                  <a:pt x="106" y="129"/>
                </a:lnTo>
                <a:lnTo>
                  <a:pt x="107" y="129"/>
                </a:lnTo>
                <a:lnTo>
                  <a:pt x="107" y="128"/>
                </a:lnTo>
                <a:lnTo>
                  <a:pt x="108" y="125"/>
                </a:lnTo>
                <a:lnTo>
                  <a:pt x="109" y="122"/>
                </a:lnTo>
                <a:lnTo>
                  <a:pt x="110" y="121"/>
                </a:lnTo>
                <a:lnTo>
                  <a:pt x="110" y="120"/>
                </a:lnTo>
                <a:lnTo>
                  <a:pt x="111" y="117"/>
                </a:lnTo>
                <a:lnTo>
                  <a:pt x="111" y="115"/>
                </a:lnTo>
                <a:lnTo>
                  <a:pt x="112" y="114"/>
                </a:lnTo>
                <a:lnTo>
                  <a:pt x="112" y="113"/>
                </a:lnTo>
                <a:lnTo>
                  <a:pt x="113" y="110"/>
                </a:lnTo>
                <a:lnTo>
                  <a:pt x="113" y="108"/>
                </a:lnTo>
                <a:lnTo>
                  <a:pt x="115" y="107"/>
                </a:lnTo>
                <a:lnTo>
                  <a:pt x="115" y="106"/>
                </a:lnTo>
                <a:lnTo>
                  <a:pt x="115" y="103"/>
                </a:lnTo>
                <a:lnTo>
                  <a:pt x="115" y="101"/>
                </a:lnTo>
                <a:lnTo>
                  <a:pt x="116" y="100"/>
                </a:lnTo>
                <a:lnTo>
                  <a:pt x="116" y="97"/>
                </a:lnTo>
                <a:lnTo>
                  <a:pt x="116" y="95"/>
                </a:lnTo>
                <a:lnTo>
                  <a:pt x="117" y="94"/>
                </a:lnTo>
                <a:lnTo>
                  <a:pt x="117" y="91"/>
                </a:lnTo>
                <a:lnTo>
                  <a:pt x="117" y="89"/>
                </a:lnTo>
                <a:lnTo>
                  <a:pt x="118" y="88"/>
                </a:lnTo>
                <a:lnTo>
                  <a:pt x="117" y="84"/>
                </a:lnTo>
                <a:lnTo>
                  <a:pt x="117" y="82"/>
                </a:lnTo>
                <a:lnTo>
                  <a:pt x="117" y="81"/>
                </a:lnTo>
                <a:lnTo>
                  <a:pt x="117" y="78"/>
                </a:lnTo>
                <a:lnTo>
                  <a:pt x="117" y="77"/>
                </a:lnTo>
                <a:lnTo>
                  <a:pt x="117" y="76"/>
                </a:lnTo>
                <a:lnTo>
                  <a:pt x="116" y="73"/>
                </a:lnTo>
                <a:lnTo>
                  <a:pt x="116" y="71"/>
                </a:lnTo>
                <a:lnTo>
                  <a:pt x="116" y="70"/>
                </a:lnTo>
                <a:lnTo>
                  <a:pt x="113" y="68"/>
                </a:lnTo>
                <a:lnTo>
                  <a:pt x="113" y="66"/>
                </a:lnTo>
                <a:lnTo>
                  <a:pt x="111" y="63"/>
                </a:lnTo>
                <a:lnTo>
                  <a:pt x="111" y="62"/>
                </a:lnTo>
                <a:lnTo>
                  <a:pt x="111" y="61"/>
                </a:lnTo>
                <a:lnTo>
                  <a:pt x="109" y="59"/>
                </a:lnTo>
                <a:lnTo>
                  <a:pt x="108" y="58"/>
                </a:lnTo>
                <a:lnTo>
                  <a:pt x="108" y="57"/>
                </a:lnTo>
                <a:lnTo>
                  <a:pt x="106" y="55"/>
                </a:lnTo>
                <a:lnTo>
                  <a:pt x="105" y="54"/>
                </a:lnTo>
                <a:lnTo>
                  <a:pt x="105" y="53"/>
                </a:lnTo>
                <a:lnTo>
                  <a:pt x="103" y="51"/>
                </a:lnTo>
                <a:lnTo>
                  <a:pt x="102" y="50"/>
                </a:lnTo>
                <a:lnTo>
                  <a:pt x="102" y="49"/>
                </a:lnTo>
                <a:lnTo>
                  <a:pt x="100" y="47"/>
                </a:lnTo>
                <a:lnTo>
                  <a:pt x="98" y="46"/>
                </a:lnTo>
                <a:lnTo>
                  <a:pt x="98" y="45"/>
                </a:lnTo>
                <a:lnTo>
                  <a:pt x="95" y="44"/>
                </a:lnTo>
                <a:lnTo>
                  <a:pt x="94" y="43"/>
                </a:lnTo>
                <a:lnTo>
                  <a:pt x="94" y="42"/>
                </a:lnTo>
                <a:lnTo>
                  <a:pt x="91" y="41"/>
                </a:lnTo>
                <a:lnTo>
                  <a:pt x="90" y="40"/>
                </a:lnTo>
                <a:lnTo>
                  <a:pt x="90" y="39"/>
                </a:lnTo>
                <a:lnTo>
                  <a:pt x="87" y="38"/>
                </a:lnTo>
                <a:lnTo>
                  <a:pt x="86" y="37"/>
                </a:lnTo>
                <a:lnTo>
                  <a:pt x="86" y="36"/>
                </a:lnTo>
                <a:lnTo>
                  <a:pt x="81" y="35"/>
                </a:lnTo>
                <a:lnTo>
                  <a:pt x="80" y="34"/>
                </a:lnTo>
                <a:lnTo>
                  <a:pt x="80" y="33"/>
                </a:lnTo>
                <a:lnTo>
                  <a:pt x="77" y="31"/>
                </a:lnTo>
                <a:lnTo>
                  <a:pt x="76" y="30"/>
                </a:lnTo>
                <a:lnTo>
                  <a:pt x="72" y="29"/>
                </a:lnTo>
                <a:lnTo>
                  <a:pt x="71" y="28"/>
                </a:lnTo>
                <a:lnTo>
                  <a:pt x="71" y="27"/>
                </a:lnTo>
                <a:lnTo>
                  <a:pt x="70" y="27"/>
                </a:lnTo>
                <a:lnTo>
                  <a:pt x="66" y="26"/>
                </a:lnTo>
                <a:lnTo>
                  <a:pt x="65" y="26"/>
                </a:lnTo>
                <a:lnTo>
                  <a:pt x="65" y="25"/>
                </a:lnTo>
                <a:lnTo>
                  <a:pt x="61" y="24"/>
                </a:lnTo>
                <a:lnTo>
                  <a:pt x="60" y="23"/>
                </a:lnTo>
                <a:lnTo>
                  <a:pt x="60" y="22"/>
                </a:lnTo>
                <a:lnTo>
                  <a:pt x="59" y="22"/>
                </a:lnTo>
                <a:lnTo>
                  <a:pt x="56" y="21"/>
                </a:lnTo>
                <a:lnTo>
                  <a:pt x="54" y="21"/>
                </a:lnTo>
                <a:lnTo>
                  <a:pt x="54" y="20"/>
                </a:lnTo>
                <a:lnTo>
                  <a:pt x="50" y="19"/>
                </a:lnTo>
                <a:lnTo>
                  <a:pt x="48" y="18"/>
                </a:lnTo>
                <a:lnTo>
                  <a:pt x="48" y="17"/>
                </a:lnTo>
                <a:lnTo>
                  <a:pt x="47" y="17"/>
                </a:lnTo>
                <a:lnTo>
                  <a:pt x="44" y="16"/>
                </a:lnTo>
                <a:lnTo>
                  <a:pt x="43" y="16"/>
                </a:lnTo>
                <a:lnTo>
                  <a:pt x="43" y="15"/>
                </a:lnTo>
                <a:lnTo>
                  <a:pt x="42" y="15"/>
                </a:lnTo>
                <a:lnTo>
                  <a:pt x="38" y="14"/>
                </a:lnTo>
                <a:lnTo>
                  <a:pt x="37" y="14"/>
                </a:lnTo>
                <a:lnTo>
                  <a:pt x="37" y="13"/>
                </a:lnTo>
                <a:lnTo>
                  <a:pt x="33" y="12"/>
                </a:lnTo>
                <a:lnTo>
                  <a:pt x="31" y="11"/>
                </a:lnTo>
                <a:lnTo>
                  <a:pt x="31" y="10"/>
                </a:lnTo>
                <a:lnTo>
                  <a:pt x="30" y="10"/>
                </a:lnTo>
                <a:lnTo>
                  <a:pt x="27" y="9"/>
                </a:lnTo>
                <a:lnTo>
                  <a:pt x="26" y="9"/>
                </a:lnTo>
                <a:lnTo>
                  <a:pt x="26" y="8"/>
                </a:lnTo>
                <a:lnTo>
                  <a:pt x="21" y="7"/>
                </a:lnTo>
                <a:lnTo>
                  <a:pt x="20" y="6"/>
                </a:lnTo>
                <a:lnTo>
                  <a:pt x="20" y="5"/>
                </a:lnTo>
                <a:lnTo>
                  <a:pt x="16" y="4"/>
                </a:lnTo>
                <a:lnTo>
                  <a:pt x="14" y="3"/>
                </a:lnTo>
                <a:lnTo>
                  <a:pt x="14" y="2"/>
                </a:lnTo>
                <a:lnTo>
                  <a:pt x="13" y="2"/>
                </a:lnTo>
                <a:lnTo>
                  <a:pt x="9" y="1"/>
                </a:lnTo>
                <a:lnTo>
                  <a:pt x="8" y="1"/>
                </a:lnTo>
                <a:lnTo>
                  <a:pt x="8" y="0"/>
                </a:lnTo>
                <a:lnTo>
                  <a:pt x="11" y="2"/>
                </a:lnTo>
                <a:lnTo>
                  <a:pt x="12" y="2"/>
                </a:lnTo>
                <a:lnTo>
                  <a:pt x="0" y="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201"/>
          <p:cNvSpPr/>
          <p:nvPr/>
        </p:nvSpPr>
        <p:spPr>
          <a:xfrm>
            <a:off x="4432320" y="4794120"/>
            <a:ext cx="55440" cy="109800"/>
          </a:xfrm>
          <a:custGeom>
            <a:avLst/>
            <a:gdLst>
              <a:gd name="textAreaLeft" fmla="*/ 0 w 55440"/>
              <a:gd name="textAreaRight" fmla="*/ 55800 w 55440"/>
              <a:gd name="textAreaTop" fmla="*/ 0 h 109800"/>
              <a:gd name="textAreaBottom" fmla="*/ 110160 h 109800"/>
            </a:gdLst>
            <a:ahLst/>
            <a:rect l="textAreaLeft" t="textAreaTop" r="textAreaRight" b="textAreaBottom"/>
            <a:pathLst>
              <a:path w="69" h="137">
                <a:moveTo>
                  <a:pt x="6" y="11"/>
                </a:moveTo>
                <a:lnTo>
                  <a:pt x="2" y="10"/>
                </a:lnTo>
                <a:lnTo>
                  <a:pt x="0" y="9"/>
                </a:lnTo>
                <a:lnTo>
                  <a:pt x="0" y="8"/>
                </a:lnTo>
                <a:lnTo>
                  <a:pt x="1" y="11"/>
                </a:lnTo>
                <a:lnTo>
                  <a:pt x="9" y="28"/>
                </a:lnTo>
                <a:lnTo>
                  <a:pt x="35" y="89"/>
                </a:lnTo>
                <a:lnTo>
                  <a:pt x="55" y="135"/>
                </a:lnTo>
                <a:lnTo>
                  <a:pt x="57" y="137"/>
                </a:lnTo>
                <a:lnTo>
                  <a:pt x="63" y="134"/>
                </a:lnTo>
                <a:lnTo>
                  <a:pt x="68" y="133"/>
                </a:lnTo>
                <a:lnTo>
                  <a:pt x="69" y="132"/>
                </a:lnTo>
                <a:lnTo>
                  <a:pt x="66" y="130"/>
                </a:lnTo>
                <a:lnTo>
                  <a:pt x="59" y="113"/>
                </a:lnTo>
                <a:lnTo>
                  <a:pt x="32" y="51"/>
                </a:lnTo>
                <a:lnTo>
                  <a:pt x="13" y="6"/>
                </a:lnTo>
                <a:lnTo>
                  <a:pt x="12" y="3"/>
                </a:lnTo>
                <a:lnTo>
                  <a:pt x="7" y="2"/>
                </a:lnTo>
                <a:lnTo>
                  <a:pt x="5" y="1"/>
                </a:lnTo>
                <a:lnTo>
                  <a:pt x="5" y="0"/>
                </a:lnTo>
                <a:lnTo>
                  <a:pt x="9" y="2"/>
                </a:lnTo>
                <a:lnTo>
                  <a:pt x="11" y="3"/>
                </a:lnTo>
                <a:lnTo>
                  <a:pt x="12" y="3"/>
                </a:lnTo>
                <a:lnTo>
                  <a:pt x="10" y="1"/>
                </a:lnTo>
                <a:lnTo>
                  <a:pt x="10" y="0"/>
                </a:lnTo>
                <a:lnTo>
                  <a:pt x="9" y="0"/>
                </a:lnTo>
                <a:lnTo>
                  <a:pt x="6" y="0"/>
                </a:lnTo>
                <a:lnTo>
                  <a:pt x="5" y="0"/>
                </a:lnTo>
                <a:lnTo>
                  <a:pt x="6" y="1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202"/>
          <p:cNvSpPr/>
          <p:nvPr/>
        </p:nvSpPr>
        <p:spPr>
          <a:xfrm>
            <a:off x="4210200" y="4794120"/>
            <a:ext cx="228600" cy="28800"/>
          </a:xfrm>
          <a:custGeom>
            <a:avLst/>
            <a:gdLst>
              <a:gd name="textAreaLeft" fmla="*/ 0 w 228600"/>
              <a:gd name="textAreaRight" fmla="*/ 228960 w 228600"/>
              <a:gd name="textAreaTop" fmla="*/ 0 h 28800"/>
              <a:gd name="textAreaBottom" fmla="*/ 29160 h 28800"/>
            </a:gdLst>
            <a:ahLst/>
            <a:rect l="textAreaLeft" t="textAreaTop" r="textAreaRight" b="textAreaBottom"/>
            <a:pathLst>
              <a:path w="287" h="34">
                <a:moveTo>
                  <a:pt x="5" y="34"/>
                </a:moveTo>
                <a:lnTo>
                  <a:pt x="4" y="34"/>
                </a:lnTo>
                <a:lnTo>
                  <a:pt x="3" y="34"/>
                </a:lnTo>
                <a:lnTo>
                  <a:pt x="9" y="34"/>
                </a:lnTo>
                <a:lnTo>
                  <a:pt x="47" y="31"/>
                </a:lnTo>
                <a:lnTo>
                  <a:pt x="180" y="20"/>
                </a:lnTo>
                <a:lnTo>
                  <a:pt x="281" y="12"/>
                </a:lnTo>
                <a:lnTo>
                  <a:pt x="287" y="11"/>
                </a:lnTo>
                <a:lnTo>
                  <a:pt x="286" y="5"/>
                </a:lnTo>
                <a:lnTo>
                  <a:pt x="286" y="1"/>
                </a:lnTo>
                <a:lnTo>
                  <a:pt x="286" y="0"/>
                </a:lnTo>
                <a:lnTo>
                  <a:pt x="280" y="1"/>
                </a:lnTo>
                <a:lnTo>
                  <a:pt x="241" y="4"/>
                </a:lnTo>
                <a:lnTo>
                  <a:pt x="108" y="15"/>
                </a:lnTo>
                <a:lnTo>
                  <a:pt x="7" y="23"/>
                </a:lnTo>
                <a:lnTo>
                  <a:pt x="2" y="23"/>
                </a:lnTo>
                <a:lnTo>
                  <a:pt x="1" y="23"/>
                </a:lnTo>
                <a:lnTo>
                  <a:pt x="0" y="23"/>
                </a:lnTo>
                <a:lnTo>
                  <a:pt x="5" y="34"/>
                </a:lnTo>
                <a:close/>
              </a:path>
            </a:pathLst>
          </a:custGeom>
          <a:solidFill>
            <a:srgbClr val="1f1a17"/>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04" name="Freeform 203"/>
          <p:cNvSpPr/>
          <p:nvPr/>
        </p:nvSpPr>
        <p:spPr>
          <a:xfrm>
            <a:off x="4014720" y="4813200"/>
            <a:ext cx="200160" cy="85680"/>
          </a:xfrm>
          <a:custGeom>
            <a:avLst/>
            <a:gdLst>
              <a:gd name="textAreaLeft" fmla="*/ 0 w 200160"/>
              <a:gd name="textAreaRight" fmla="*/ 200520 w 200160"/>
              <a:gd name="textAreaTop" fmla="*/ 0 h 85680"/>
              <a:gd name="textAreaBottom" fmla="*/ 85680 h 85680"/>
            </a:gdLst>
            <a:ahLst/>
            <a:rect l="textAreaLeft" t="textAreaTop" r="textAreaRight" b="textAreaBottom"/>
            <a:pathLst>
              <a:path w="252" h="108">
                <a:moveTo>
                  <a:pt x="0" y="105"/>
                </a:moveTo>
                <a:lnTo>
                  <a:pt x="5" y="107"/>
                </a:lnTo>
                <a:lnTo>
                  <a:pt x="7" y="107"/>
                </a:lnTo>
                <a:lnTo>
                  <a:pt x="8" y="107"/>
                </a:lnTo>
                <a:lnTo>
                  <a:pt x="12" y="106"/>
                </a:lnTo>
                <a:lnTo>
                  <a:pt x="45" y="93"/>
                </a:lnTo>
                <a:lnTo>
                  <a:pt x="160" y="48"/>
                </a:lnTo>
                <a:lnTo>
                  <a:pt x="247" y="13"/>
                </a:lnTo>
                <a:lnTo>
                  <a:pt x="252" y="11"/>
                </a:lnTo>
                <a:lnTo>
                  <a:pt x="251" y="10"/>
                </a:lnTo>
                <a:lnTo>
                  <a:pt x="248" y="5"/>
                </a:lnTo>
                <a:lnTo>
                  <a:pt x="247" y="1"/>
                </a:lnTo>
                <a:lnTo>
                  <a:pt x="247" y="0"/>
                </a:lnTo>
                <a:lnTo>
                  <a:pt x="242" y="2"/>
                </a:lnTo>
                <a:lnTo>
                  <a:pt x="208" y="15"/>
                </a:lnTo>
                <a:lnTo>
                  <a:pt x="94" y="60"/>
                </a:lnTo>
                <a:lnTo>
                  <a:pt x="7" y="95"/>
                </a:lnTo>
                <a:lnTo>
                  <a:pt x="2" y="96"/>
                </a:lnTo>
                <a:lnTo>
                  <a:pt x="7" y="98"/>
                </a:lnTo>
                <a:lnTo>
                  <a:pt x="9" y="98"/>
                </a:lnTo>
                <a:lnTo>
                  <a:pt x="10" y="98"/>
                </a:lnTo>
                <a:lnTo>
                  <a:pt x="9" y="99"/>
                </a:lnTo>
                <a:lnTo>
                  <a:pt x="8" y="100"/>
                </a:lnTo>
                <a:lnTo>
                  <a:pt x="4" y="103"/>
                </a:lnTo>
                <a:lnTo>
                  <a:pt x="0" y="105"/>
                </a:lnTo>
                <a:lnTo>
                  <a:pt x="1" y="107"/>
                </a:lnTo>
                <a:lnTo>
                  <a:pt x="2" y="108"/>
                </a:lnTo>
                <a:lnTo>
                  <a:pt x="4" y="108"/>
                </a:lnTo>
                <a:lnTo>
                  <a:pt x="6" y="108"/>
                </a:lnTo>
                <a:lnTo>
                  <a:pt x="7" y="108"/>
                </a:lnTo>
                <a:lnTo>
                  <a:pt x="8" y="107"/>
                </a:lnTo>
                <a:lnTo>
                  <a:pt x="0" y="105"/>
                </a:lnTo>
                <a:close/>
              </a:path>
            </a:pathLst>
          </a:custGeom>
          <a:solidFill>
            <a:srgbClr val="1f1a17"/>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5" name="Freeform 204"/>
          <p:cNvSpPr/>
          <p:nvPr/>
        </p:nvSpPr>
        <p:spPr>
          <a:xfrm>
            <a:off x="3849840" y="4703760"/>
            <a:ext cx="171360" cy="192240"/>
          </a:xfrm>
          <a:custGeom>
            <a:avLst/>
            <a:gdLst>
              <a:gd name="textAreaLeft" fmla="*/ 0 w 171360"/>
              <a:gd name="textAreaRight" fmla="*/ 171720 w 171360"/>
              <a:gd name="textAreaTop" fmla="*/ 0 h 192240"/>
              <a:gd name="textAreaBottom" fmla="*/ 192600 h 192240"/>
            </a:gdLst>
            <a:ahLst/>
            <a:rect l="textAreaLeft" t="textAreaTop" r="textAreaRight" b="textAreaBottom"/>
            <a:pathLst>
              <a:path w="217" h="243">
                <a:moveTo>
                  <a:pt x="8" y="13"/>
                </a:moveTo>
                <a:lnTo>
                  <a:pt x="7" y="13"/>
                </a:lnTo>
                <a:lnTo>
                  <a:pt x="6" y="13"/>
                </a:lnTo>
                <a:lnTo>
                  <a:pt x="3" y="13"/>
                </a:lnTo>
                <a:lnTo>
                  <a:pt x="0" y="13"/>
                </a:lnTo>
                <a:lnTo>
                  <a:pt x="0" y="12"/>
                </a:lnTo>
                <a:lnTo>
                  <a:pt x="4" y="17"/>
                </a:lnTo>
                <a:lnTo>
                  <a:pt x="33" y="48"/>
                </a:lnTo>
                <a:lnTo>
                  <a:pt x="129" y="156"/>
                </a:lnTo>
                <a:lnTo>
                  <a:pt x="203" y="239"/>
                </a:lnTo>
                <a:lnTo>
                  <a:pt x="207" y="243"/>
                </a:lnTo>
                <a:lnTo>
                  <a:pt x="208" y="242"/>
                </a:lnTo>
                <a:lnTo>
                  <a:pt x="213" y="239"/>
                </a:lnTo>
                <a:lnTo>
                  <a:pt x="216" y="237"/>
                </a:lnTo>
                <a:lnTo>
                  <a:pt x="217" y="236"/>
                </a:lnTo>
                <a:lnTo>
                  <a:pt x="213" y="232"/>
                </a:lnTo>
                <a:lnTo>
                  <a:pt x="184" y="200"/>
                </a:lnTo>
                <a:lnTo>
                  <a:pt x="87" y="92"/>
                </a:lnTo>
                <a:lnTo>
                  <a:pt x="13" y="10"/>
                </a:lnTo>
                <a:lnTo>
                  <a:pt x="10" y="4"/>
                </a:lnTo>
                <a:lnTo>
                  <a:pt x="9" y="4"/>
                </a:lnTo>
                <a:lnTo>
                  <a:pt x="8" y="4"/>
                </a:lnTo>
                <a:lnTo>
                  <a:pt x="5" y="4"/>
                </a:lnTo>
                <a:lnTo>
                  <a:pt x="3" y="4"/>
                </a:lnTo>
                <a:lnTo>
                  <a:pt x="3" y="3"/>
                </a:lnTo>
                <a:lnTo>
                  <a:pt x="7" y="4"/>
                </a:lnTo>
                <a:lnTo>
                  <a:pt x="9" y="4"/>
                </a:lnTo>
                <a:lnTo>
                  <a:pt x="10" y="4"/>
                </a:lnTo>
                <a:lnTo>
                  <a:pt x="8" y="2"/>
                </a:lnTo>
                <a:lnTo>
                  <a:pt x="7" y="1"/>
                </a:lnTo>
                <a:lnTo>
                  <a:pt x="7" y="0"/>
                </a:lnTo>
                <a:lnTo>
                  <a:pt x="6" y="1"/>
                </a:lnTo>
                <a:lnTo>
                  <a:pt x="4" y="2"/>
                </a:lnTo>
                <a:lnTo>
                  <a:pt x="3" y="3"/>
                </a:lnTo>
                <a:lnTo>
                  <a:pt x="8" y="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Freeform 205"/>
          <p:cNvSpPr/>
          <p:nvPr/>
        </p:nvSpPr>
        <p:spPr>
          <a:xfrm>
            <a:off x="3652920" y="4707000"/>
            <a:ext cx="203040" cy="93600"/>
          </a:xfrm>
          <a:custGeom>
            <a:avLst/>
            <a:gdLst>
              <a:gd name="textAreaLeft" fmla="*/ 0 w 203040"/>
              <a:gd name="textAreaRight" fmla="*/ 203400 w 203040"/>
              <a:gd name="textAreaTop" fmla="*/ 0 h 93600"/>
              <a:gd name="textAreaBottom" fmla="*/ 93960 h 93600"/>
            </a:gdLst>
            <a:ahLst/>
            <a:rect l="textAreaLeft" t="textAreaTop" r="textAreaRight" b="textAreaBottom"/>
            <a:pathLst>
              <a:path w="255" h="120">
                <a:moveTo>
                  <a:pt x="5" y="120"/>
                </a:moveTo>
                <a:lnTo>
                  <a:pt x="7" y="119"/>
                </a:lnTo>
                <a:lnTo>
                  <a:pt x="8" y="118"/>
                </a:lnTo>
                <a:lnTo>
                  <a:pt x="9" y="117"/>
                </a:lnTo>
                <a:lnTo>
                  <a:pt x="13" y="114"/>
                </a:lnTo>
                <a:lnTo>
                  <a:pt x="14" y="112"/>
                </a:lnTo>
                <a:lnTo>
                  <a:pt x="15" y="110"/>
                </a:lnTo>
                <a:lnTo>
                  <a:pt x="17" y="106"/>
                </a:lnTo>
                <a:lnTo>
                  <a:pt x="18" y="104"/>
                </a:lnTo>
                <a:lnTo>
                  <a:pt x="19" y="103"/>
                </a:lnTo>
                <a:lnTo>
                  <a:pt x="22" y="100"/>
                </a:lnTo>
                <a:lnTo>
                  <a:pt x="23" y="99"/>
                </a:lnTo>
                <a:lnTo>
                  <a:pt x="24" y="98"/>
                </a:lnTo>
                <a:lnTo>
                  <a:pt x="28" y="95"/>
                </a:lnTo>
                <a:lnTo>
                  <a:pt x="29" y="93"/>
                </a:lnTo>
                <a:lnTo>
                  <a:pt x="30" y="92"/>
                </a:lnTo>
                <a:lnTo>
                  <a:pt x="33" y="89"/>
                </a:lnTo>
                <a:lnTo>
                  <a:pt x="35" y="88"/>
                </a:lnTo>
                <a:lnTo>
                  <a:pt x="36" y="87"/>
                </a:lnTo>
                <a:lnTo>
                  <a:pt x="39" y="85"/>
                </a:lnTo>
                <a:lnTo>
                  <a:pt x="41" y="84"/>
                </a:lnTo>
                <a:lnTo>
                  <a:pt x="43" y="83"/>
                </a:lnTo>
                <a:lnTo>
                  <a:pt x="46" y="81"/>
                </a:lnTo>
                <a:lnTo>
                  <a:pt x="48" y="80"/>
                </a:lnTo>
                <a:lnTo>
                  <a:pt x="49" y="79"/>
                </a:lnTo>
                <a:lnTo>
                  <a:pt x="52" y="77"/>
                </a:lnTo>
                <a:lnTo>
                  <a:pt x="54" y="76"/>
                </a:lnTo>
                <a:lnTo>
                  <a:pt x="55" y="75"/>
                </a:lnTo>
                <a:lnTo>
                  <a:pt x="59" y="73"/>
                </a:lnTo>
                <a:lnTo>
                  <a:pt x="61" y="72"/>
                </a:lnTo>
                <a:lnTo>
                  <a:pt x="62" y="71"/>
                </a:lnTo>
                <a:lnTo>
                  <a:pt x="66" y="70"/>
                </a:lnTo>
                <a:lnTo>
                  <a:pt x="68" y="69"/>
                </a:lnTo>
                <a:lnTo>
                  <a:pt x="69" y="68"/>
                </a:lnTo>
                <a:lnTo>
                  <a:pt x="74" y="67"/>
                </a:lnTo>
                <a:lnTo>
                  <a:pt x="76" y="66"/>
                </a:lnTo>
                <a:lnTo>
                  <a:pt x="77" y="65"/>
                </a:lnTo>
                <a:lnTo>
                  <a:pt x="81" y="64"/>
                </a:lnTo>
                <a:lnTo>
                  <a:pt x="83" y="63"/>
                </a:lnTo>
                <a:lnTo>
                  <a:pt x="84" y="62"/>
                </a:lnTo>
                <a:lnTo>
                  <a:pt x="85" y="62"/>
                </a:lnTo>
                <a:lnTo>
                  <a:pt x="89" y="61"/>
                </a:lnTo>
                <a:lnTo>
                  <a:pt x="92" y="61"/>
                </a:lnTo>
                <a:lnTo>
                  <a:pt x="93" y="60"/>
                </a:lnTo>
                <a:lnTo>
                  <a:pt x="97" y="59"/>
                </a:lnTo>
                <a:lnTo>
                  <a:pt x="99" y="58"/>
                </a:lnTo>
                <a:lnTo>
                  <a:pt x="100" y="56"/>
                </a:lnTo>
                <a:lnTo>
                  <a:pt x="102" y="56"/>
                </a:lnTo>
                <a:lnTo>
                  <a:pt x="105" y="55"/>
                </a:lnTo>
                <a:lnTo>
                  <a:pt x="108" y="55"/>
                </a:lnTo>
                <a:lnTo>
                  <a:pt x="109" y="54"/>
                </a:lnTo>
                <a:lnTo>
                  <a:pt x="110" y="54"/>
                </a:lnTo>
                <a:lnTo>
                  <a:pt x="113" y="53"/>
                </a:lnTo>
                <a:lnTo>
                  <a:pt x="117" y="53"/>
                </a:lnTo>
                <a:lnTo>
                  <a:pt x="118" y="52"/>
                </a:lnTo>
                <a:lnTo>
                  <a:pt x="119" y="52"/>
                </a:lnTo>
                <a:lnTo>
                  <a:pt x="122" y="51"/>
                </a:lnTo>
                <a:lnTo>
                  <a:pt x="125" y="51"/>
                </a:lnTo>
                <a:lnTo>
                  <a:pt x="126" y="50"/>
                </a:lnTo>
                <a:lnTo>
                  <a:pt x="127" y="50"/>
                </a:lnTo>
                <a:lnTo>
                  <a:pt x="130" y="49"/>
                </a:lnTo>
                <a:lnTo>
                  <a:pt x="134" y="49"/>
                </a:lnTo>
                <a:lnTo>
                  <a:pt x="135" y="48"/>
                </a:lnTo>
                <a:lnTo>
                  <a:pt x="136" y="48"/>
                </a:lnTo>
                <a:lnTo>
                  <a:pt x="139" y="47"/>
                </a:lnTo>
                <a:lnTo>
                  <a:pt x="142" y="47"/>
                </a:lnTo>
                <a:lnTo>
                  <a:pt x="143" y="46"/>
                </a:lnTo>
                <a:lnTo>
                  <a:pt x="144" y="46"/>
                </a:lnTo>
                <a:lnTo>
                  <a:pt x="148" y="45"/>
                </a:lnTo>
                <a:lnTo>
                  <a:pt x="151" y="45"/>
                </a:lnTo>
                <a:lnTo>
                  <a:pt x="152" y="44"/>
                </a:lnTo>
                <a:lnTo>
                  <a:pt x="153" y="44"/>
                </a:lnTo>
                <a:lnTo>
                  <a:pt x="156" y="43"/>
                </a:lnTo>
                <a:lnTo>
                  <a:pt x="159" y="43"/>
                </a:lnTo>
                <a:lnTo>
                  <a:pt x="161" y="42"/>
                </a:lnTo>
                <a:lnTo>
                  <a:pt x="162" y="42"/>
                </a:lnTo>
                <a:lnTo>
                  <a:pt x="165" y="41"/>
                </a:lnTo>
                <a:lnTo>
                  <a:pt x="168" y="41"/>
                </a:lnTo>
                <a:lnTo>
                  <a:pt x="169" y="40"/>
                </a:lnTo>
                <a:lnTo>
                  <a:pt x="170" y="40"/>
                </a:lnTo>
                <a:lnTo>
                  <a:pt x="174" y="39"/>
                </a:lnTo>
                <a:lnTo>
                  <a:pt x="178" y="39"/>
                </a:lnTo>
                <a:lnTo>
                  <a:pt x="179" y="38"/>
                </a:lnTo>
                <a:lnTo>
                  <a:pt x="180" y="38"/>
                </a:lnTo>
                <a:lnTo>
                  <a:pt x="183" y="37"/>
                </a:lnTo>
                <a:lnTo>
                  <a:pt x="186" y="37"/>
                </a:lnTo>
                <a:lnTo>
                  <a:pt x="187" y="36"/>
                </a:lnTo>
                <a:lnTo>
                  <a:pt x="188" y="36"/>
                </a:lnTo>
                <a:lnTo>
                  <a:pt x="192" y="35"/>
                </a:lnTo>
                <a:lnTo>
                  <a:pt x="195" y="34"/>
                </a:lnTo>
                <a:lnTo>
                  <a:pt x="196" y="33"/>
                </a:lnTo>
                <a:lnTo>
                  <a:pt x="197" y="33"/>
                </a:lnTo>
                <a:lnTo>
                  <a:pt x="200" y="32"/>
                </a:lnTo>
                <a:lnTo>
                  <a:pt x="203" y="32"/>
                </a:lnTo>
                <a:lnTo>
                  <a:pt x="204" y="31"/>
                </a:lnTo>
                <a:lnTo>
                  <a:pt x="206" y="31"/>
                </a:lnTo>
                <a:lnTo>
                  <a:pt x="209" y="30"/>
                </a:lnTo>
                <a:lnTo>
                  <a:pt x="212" y="29"/>
                </a:lnTo>
                <a:lnTo>
                  <a:pt x="213" y="28"/>
                </a:lnTo>
                <a:lnTo>
                  <a:pt x="214" y="28"/>
                </a:lnTo>
                <a:lnTo>
                  <a:pt x="217" y="27"/>
                </a:lnTo>
                <a:lnTo>
                  <a:pt x="221" y="26"/>
                </a:lnTo>
                <a:lnTo>
                  <a:pt x="222" y="25"/>
                </a:lnTo>
                <a:lnTo>
                  <a:pt x="223" y="25"/>
                </a:lnTo>
                <a:lnTo>
                  <a:pt x="226" y="24"/>
                </a:lnTo>
                <a:lnTo>
                  <a:pt x="229" y="23"/>
                </a:lnTo>
                <a:lnTo>
                  <a:pt x="230" y="22"/>
                </a:lnTo>
                <a:lnTo>
                  <a:pt x="234" y="20"/>
                </a:lnTo>
                <a:lnTo>
                  <a:pt x="238" y="19"/>
                </a:lnTo>
                <a:lnTo>
                  <a:pt x="239" y="18"/>
                </a:lnTo>
                <a:lnTo>
                  <a:pt x="243" y="16"/>
                </a:lnTo>
                <a:lnTo>
                  <a:pt x="246" y="15"/>
                </a:lnTo>
                <a:lnTo>
                  <a:pt x="247" y="14"/>
                </a:lnTo>
                <a:lnTo>
                  <a:pt x="252" y="12"/>
                </a:lnTo>
                <a:lnTo>
                  <a:pt x="254" y="11"/>
                </a:lnTo>
                <a:lnTo>
                  <a:pt x="255" y="10"/>
                </a:lnTo>
                <a:lnTo>
                  <a:pt x="254" y="9"/>
                </a:lnTo>
                <a:lnTo>
                  <a:pt x="251" y="5"/>
                </a:lnTo>
                <a:lnTo>
                  <a:pt x="250" y="1"/>
                </a:lnTo>
                <a:lnTo>
                  <a:pt x="250" y="0"/>
                </a:lnTo>
                <a:lnTo>
                  <a:pt x="248" y="1"/>
                </a:lnTo>
                <a:lnTo>
                  <a:pt x="244" y="4"/>
                </a:lnTo>
                <a:lnTo>
                  <a:pt x="242" y="5"/>
                </a:lnTo>
                <a:lnTo>
                  <a:pt x="240" y="6"/>
                </a:lnTo>
                <a:lnTo>
                  <a:pt x="237" y="7"/>
                </a:lnTo>
                <a:lnTo>
                  <a:pt x="233" y="8"/>
                </a:lnTo>
                <a:lnTo>
                  <a:pt x="232" y="9"/>
                </a:lnTo>
                <a:lnTo>
                  <a:pt x="228" y="11"/>
                </a:lnTo>
                <a:lnTo>
                  <a:pt x="226" y="12"/>
                </a:lnTo>
                <a:lnTo>
                  <a:pt x="224" y="13"/>
                </a:lnTo>
                <a:lnTo>
                  <a:pt x="221" y="14"/>
                </a:lnTo>
                <a:lnTo>
                  <a:pt x="217" y="15"/>
                </a:lnTo>
                <a:lnTo>
                  <a:pt x="216" y="16"/>
                </a:lnTo>
                <a:lnTo>
                  <a:pt x="212" y="17"/>
                </a:lnTo>
                <a:lnTo>
                  <a:pt x="210" y="18"/>
                </a:lnTo>
                <a:lnTo>
                  <a:pt x="208" y="19"/>
                </a:lnTo>
                <a:lnTo>
                  <a:pt x="204" y="20"/>
                </a:lnTo>
                <a:lnTo>
                  <a:pt x="201" y="20"/>
                </a:lnTo>
                <a:lnTo>
                  <a:pt x="199" y="21"/>
                </a:lnTo>
                <a:lnTo>
                  <a:pt x="196" y="22"/>
                </a:lnTo>
                <a:lnTo>
                  <a:pt x="193" y="23"/>
                </a:lnTo>
                <a:lnTo>
                  <a:pt x="191" y="24"/>
                </a:lnTo>
                <a:lnTo>
                  <a:pt x="187" y="25"/>
                </a:lnTo>
                <a:lnTo>
                  <a:pt x="184" y="25"/>
                </a:lnTo>
                <a:lnTo>
                  <a:pt x="182" y="26"/>
                </a:lnTo>
                <a:lnTo>
                  <a:pt x="179" y="27"/>
                </a:lnTo>
                <a:lnTo>
                  <a:pt x="176" y="27"/>
                </a:lnTo>
                <a:lnTo>
                  <a:pt x="173" y="28"/>
                </a:lnTo>
                <a:lnTo>
                  <a:pt x="170" y="29"/>
                </a:lnTo>
                <a:lnTo>
                  <a:pt x="167" y="29"/>
                </a:lnTo>
                <a:lnTo>
                  <a:pt x="165" y="30"/>
                </a:lnTo>
                <a:lnTo>
                  <a:pt x="162" y="31"/>
                </a:lnTo>
                <a:lnTo>
                  <a:pt x="158" y="31"/>
                </a:lnTo>
                <a:lnTo>
                  <a:pt x="156" y="32"/>
                </a:lnTo>
                <a:lnTo>
                  <a:pt x="152" y="33"/>
                </a:lnTo>
                <a:lnTo>
                  <a:pt x="149" y="33"/>
                </a:lnTo>
                <a:lnTo>
                  <a:pt x="147" y="34"/>
                </a:lnTo>
                <a:lnTo>
                  <a:pt x="143" y="35"/>
                </a:lnTo>
                <a:lnTo>
                  <a:pt x="140" y="35"/>
                </a:lnTo>
                <a:lnTo>
                  <a:pt x="138" y="36"/>
                </a:lnTo>
                <a:lnTo>
                  <a:pt x="135" y="37"/>
                </a:lnTo>
                <a:lnTo>
                  <a:pt x="132" y="37"/>
                </a:lnTo>
                <a:lnTo>
                  <a:pt x="129" y="38"/>
                </a:lnTo>
                <a:lnTo>
                  <a:pt x="126" y="39"/>
                </a:lnTo>
                <a:lnTo>
                  <a:pt x="123" y="39"/>
                </a:lnTo>
                <a:lnTo>
                  <a:pt x="121" y="40"/>
                </a:lnTo>
                <a:lnTo>
                  <a:pt x="118" y="41"/>
                </a:lnTo>
                <a:lnTo>
                  <a:pt x="114" y="41"/>
                </a:lnTo>
                <a:lnTo>
                  <a:pt x="112" y="42"/>
                </a:lnTo>
                <a:lnTo>
                  <a:pt x="109" y="43"/>
                </a:lnTo>
                <a:lnTo>
                  <a:pt x="106" y="44"/>
                </a:lnTo>
                <a:lnTo>
                  <a:pt x="104" y="45"/>
                </a:lnTo>
                <a:lnTo>
                  <a:pt x="100" y="46"/>
                </a:lnTo>
                <a:lnTo>
                  <a:pt x="97" y="46"/>
                </a:lnTo>
                <a:lnTo>
                  <a:pt x="95" y="47"/>
                </a:lnTo>
                <a:lnTo>
                  <a:pt x="92" y="48"/>
                </a:lnTo>
                <a:lnTo>
                  <a:pt x="89" y="48"/>
                </a:lnTo>
                <a:lnTo>
                  <a:pt x="88" y="49"/>
                </a:lnTo>
                <a:lnTo>
                  <a:pt x="83" y="50"/>
                </a:lnTo>
                <a:lnTo>
                  <a:pt x="81" y="51"/>
                </a:lnTo>
                <a:lnTo>
                  <a:pt x="79" y="52"/>
                </a:lnTo>
                <a:lnTo>
                  <a:pt x="76" y="53"/>
                </a:lnTo>
                <a:lnTo>
                  <a:pt x="73" y="54"/>
                </a:lnTo>
                <a:lnTo>
                  <a:pt x="71" y="55"/>
                </a:lnTo>
                <a:lnTo>
                  <a:pt x="67" y="56"/>
                </a:lnTo>
                <a:lnTo>
                  <a:pt x="65" y="58"/>
                </a:lnTo>
                <a:lnTo>
                  <a:pt x="64" y="59"/>
                </a:lnTo>
                <a:lnTo>
                  <a:pt x="60" y="61"/>
                </a:lnTo>
                <a:lnTo>
                  <a:pt x="56" y="62"/>
                </a:lnTo>
                <a:lnTo>
                  <a:pt x="55" y="63"/>
                </a:lnTo>
                <a:lnTo>
                  <a:pt x="51" y="64"/>
                </a:lnTo>
                <a:lnTo>
                  <a:pt x="49" y="65"/>
                </a:lnTo>
                <a:lnTo>
                  <a:pt x="48" y="66"/>
                </a:lnTo>
                <a:lnTo>
                  <a:pt x="45" y="69"/>
                </a:lnTo>
                <a:lnTo>
                  <a:pt x="43" y="70"/>
                </a:lnTo>
                <a:lnTo>
                  <a:pt x="41" y="71"/>
                </a:lnTo>
                <a:lnTo>
                  <a:pt x="37" y="73"/>
                </a:lnTo>
                <a:lnTo>
                  <a:pt x="35" y="74"/>
                </a:lnTo>
                <a:lnTo>
                  <a:pt x="34" y="75"/>
                </a:lnTo>
                <a:lnTo>
                  <a:pt x="31" y="78"/>
                </a:lnTo>
                <a:lnTo>
                  <a:pt x="29" y="79"/>
                </a:lnTo>
                <a:lnTo>
                  <a:pt x="28" y="80"/>
                </a:lnTo>
                <a:lnTo>
                  <a:pt x="24" y="83"/>
                </a:lnTo>
                <a:lnTo>
                  <a:pt x="22" y="84"/>
                </a:lnTo>
                <a:lnTo>
                  <a:pt x="21" y="85"/>
                </a:lnTo>
                <a:lnTo>
                  <a:pt x="18" y="88"/>
                </a:lnTo>
                <a:lnTo>
                  <a:pt x="16" y="90"/>
                </a:lnTo>
                <a:lnTo>
                  <a:pt x="15" y="91"/>
                </a:lnTo>
                <a:lnTo>
                  <a:pt x="11" y="95"/>
                </a:lnTo>
                <a:lnTo>
                  <a:pt x="10" y="97"/>
                </a:lnTo>
                <a:lnTo>
                  <a:pt x="9" y="98"/>
                </a:lnTo>
                <a:lnTo>
                  <a:pt x="6" y="101"/>
                </a:lnTo>
                <a:lnTo>
                  <a:pt x="4" y="103"/>
                </a:lnTo>
                <a:lnTo>
                  <a:pt x="3" y="104"/>
                </a:lnTo>
                <a:lnTo>
                  <a:pt x="1" y="108"/>
                </a:lnTo>
                <a:lnTo>
                  <a:pt x="0" y="112"/>
                </a:lnTo>
                <a:lnTo>
                  <a:pt x="2" y="110"/>
                </a:lnTo>
                <a:lnTo>
                  <a:pt x="3" y="109"/>
                </a:lnTo>
                <a:lnTo>
                  <a:pt x="4" y="108"/>
                </a:lnTo>
                <a:lnTo>
                  <a:pt x="4" y="109"/>
                </a:lnTo>
                <a:lnTo>
                  <a:pt x="4" y="110"/>
                </a:lnTo>
                <a:lnTo>
                  <a:pt x="4" y="116"/>
                </a:lnTo>
                <a:lnTo>
                  <a:pt x="4" y="120"/>
                </a:lnTo>
                <a:lnTo>
                  <a:pt x="5" y="120"/>
                </a:lnTo>
                <a:lnTo>
                  <a:pt x="6" y="120"/>
                </a:lnTo>
                <a:lnTo>
                  <a:pt x="7" y="120"/>
                </a:lnTo>
                <a:lnTo>
                  <a:pt x="8" y="120"/>
                </a:lnTo>
                <a:lnTo>
                  <a:pt x="8" y="119"/>
                </a:lnTo>
                <a:lnTo>
                  <a:pt x="8" y="118"/>
                </a:lnTo>
                <a:lnTo>
                  <a:pt x="9" y="117"/>
                </a:lnTo>
                <a:lnTo>
                  <a:pt x="5" y="12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206"/>
          <p:cNvSpPr/>
          <p:nvPr/>
        </p:nvSpPr>
        <p:spPr>
          <a:xfrm>
            <a:off x="3489480" y="4792680"/>
            <a:ext cx="168120" cy="14400"/>
          </a:xfrm>
          <a:custGeom>
            <a:avLst/>
            <a:gdLst>
              <a:gd name="textAreaLeft" fmla="*/ 0 w 168120"/>
              <a:gd name="textAreaRight" fmla="*/ 168120 w 168120"/>
              <a:gd name="textAreaTop" fmla="*/ 0 h 14400"/>
              <a:gd name="textAreaBottom" fmla="*/ 14760 h 14400"/>
            </a:gdLst>
            <a:ahLst/>
            <a:rect l="textAreaLeft" t="textAreaTop" r="textAreaRight" b="textAreaBottom"/>
            <a:pathLst>
              <a:path w="211" h="20">
                <a:moveTo>
                  <a:pt x="14" y="13"/>
                </a:moveTo>
                <a:lnTo>
                  <a:pt x="13" y="14"/>
                </a:lnTo>
                <a:lnTo>
                  <a:pt x="9" y="18"/>
                </a:lnTo>
                <a:lnTo>
                  <a:pt x="8" y="20"/>
                </a:lnTo>
                <a:lnTo>
                  <a:pt x="12" y="20"/>
                </a:lnTo>
                <a:lnTo>
                  <a:pt x="39" y="19"/>
                </a:lnTo>
                <a:lnTo>
                  <a:pt x="134" y="16"/>
                </a:lnTo>
                <a:lnTo>
                  <a:pt x="207" y="13"/>
                </a:lnTo>
                <a:lnTo>
                  <a:pt x="211" y="12"/>
                </a:lnTo>
                <a:lnTo>
                  <a:pt x="210" y="6"/>
                </a:lnTo>
                <a:lnTo>
                  <a:pt x="210" y="1"/>
                </a:lnTo>
                <a:lnTo>
                  <a:pt x="210" y="0"/>
                </a:lnTo>
                <a:lnTo>
                  <a:pt x="206" y="1"/>
                </a:lnTo>
                <a:lnTo>
                  <a:pt x="178" y="2"/>
                </a:lnTo>
                <a:lnTo>
                  <a:pt x="83" y="6"/>
                </a:lnTo>
                <a:lnTo>
                  <a:pt x="10" y="9"/>
                </a:lnTo>
                <a:lnTo>
                  <a:pt x="7" y="9"/>
                </a:lnTo>
                <a:lnTo>
                  <a:pt x="6" y="10"/>
                </a:lnTo>
                <a:lnTo>
                  <a:pt x="3" y="14"/>
                </a:lnTo>
                <a:lnTo>
                  <a:pt x="2" y="17"/>
                </a:lnTo>
                <a:lnTo>
                  <a:pt x="5" y="13"/>
                </a:lnTo>
                <a:lnTo>
                  <a:pt x="6" y="10"/>
                </a:lnTo>
                <a:lnTo>
                  <a:pt x="7" y="9"/>
                </a:lnTo>
                <a:lnTo>
                  <a:pt x="6" y="9"/>
                </a:lnTo>
                <a:lnTo>
                  <a:pt x="5" y="9"/>
                </a:lnTo>
                <a:lnTo>
                  <a:pt x="2" y="9"/>
                </a:lnTo>
                <a:lnTo>
                  <a:pt x="0" y="9"/>
                </a:lnTo>
                <a:lnTo>
                  <a:pt x="0" y="10"/>
                </a:lnTo>
                <a:lnTo>
                  <a:pt x="0" y="11"/>
                </a:lnTo>
                <a:lnTo>
                  <a:pt x="1" y="14"/>
                </a:lnTo>
                <a:lnTo>
                  <a:pt x="1" y="17"/>
                </a:lnTo>
                <a:lnTo>
                  <a:pt x="2" y="17"/>
                </a:lnTo>
                <a:lnTo>
                  <a:pt x="14" y="13"/>
                </a:lnTo>
                <a:close/>
              </a:path>
            </a:pathLst>
          </a:custGeom>
          <a:solidFill>
            <a:srgbClr val="1f1a17"/>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08" name="Freeform 207"/>
          <p:cNvSpPr/>
          <p:nvPr/>
        </p:nvSpPr>
        <p:spPr>
          <a:xfrm>
            <a:off x="3490920" y="4802040"/>
            <a:ext cx="61920" cy="128880"/>
          </a:xfrm>
          <a:custGeom>
            <a:avLst/>
            <a:gdLst>
              <a:gd name="textAreaLeft" fmla="*/ 0 w 61920"/>
              <a:gd name="textAreaRight" fmla="*/ 62280 w 61920"/>
              <a:gd name="textAreaTop" fmla="*/ 0 h 128880"/>
              <a:gd name="textAreaBottom" fmla="*/ 129240 h 128880"/>
            </a:gdLst>
            <a:ahLst/>
            <a:rect l="textAreaLeft" t="textAreaTop" r="textAreaRight" b="textAreaBottom"/>
            <a:pathLst>
              <a:path w="77" h="162">
                <a:moveTo>
                  <a:pt x="74" y="162"/>
                </a:moveTo>
                <a:lnTo>
                  <a:pt x="75" y="159"/>
                </a:lnTo>
                <a:lnTo>
                  <a:pt x="75" y="157"/>
                </a:lnTo>
                <a:lnTo>
                  <a:pt x="76" y="156"/>
                </a:lnTo>
                <a:lnTo>
                  <a:pt x="74" y="152"/>
                </a:lnTo>
                <a:lnTo>
                  <a:pt x="65" y="132"/>
                </a:lnTo>
                <a:lnTo>
                  <a:pt x="35" y="59"/>
                </a:lnTo>
                <a:lnTo>
                  <a:pt x="13" y="4"/>
                </a:lnTo>
                <a:lnTo>
                  <a:pt x="12" y="0"/>
                </a:lnTo>
                <a:lnTo>
                  <a:pt x="10" y="1"/>
                </a:lnTo>
                <a:lnTo>
                  <a:pt x="4" y="3"/>
                </a:lnTo>
                <a:lnTo>
                  <a:pt x="0" y="4"/>
                </a:lnTo>
                <a:lnTo>
                  <a:pt x="1" y="8"/>
                </a:lnTo>
                <a:lnTo>
                  <a:pt x="10" y="28"/>
                </a:lnTo>
                <a:lnTo>
                  <a:pt x="40" y="102"/>
                </a:lnTo>
                <a:lnTo>
                  <a:pt x="62" y="157"/>
                </a:lnTo>
                <a:lnTo>
                  <a:pt x="64" y="160"/>
                </a:lnTo>
                <a:lnTo>
                  <a:pt x="64" y="159"/>
                </a:lnTo>
                <a:lnTo>
                  <a:pt x="65" y="156"/>
                </a:lnTo>
                <a:lnTo>
                  <a:pt x="65" y="154"/>
                </a:lnTo>
                <a:lnTo>
                  <a:pt x="66" y="152"/>
                </a:lnTo>
                <a:lnTo>
                  <a:pt x="67" y="155"/>
                </a:lnTo>
                <a:lnTo>
                  <a:pt x="71" y="159"/>
                </a:lnTo>
                <a:lnTo>
                  <a:pt x="73" y="162"/>
                </a:lnTo>
                <a:lnTo>
                  <a:pt x="74" y="162"/>
                </a:lnTo>
                <a:lnTo>
                  <a:pt x="75" y="161"/>
                </a:lnTo>
                <a:lnTo>
                  <a:pt x="76" y="160"/>
                </a:lnTo>
                <a:lnTo>
                  <a:pt x="77" y="159"/>
                </a:lnTo>
                <a:lnTo>
                  <a:pt x="76" y="157"/>
                </a:lnTo>
                <a:lnTo>
                  <a:pt x="76" y="156"/>
                </a:lnTo>
                <a:lnTo>
                  <a:pt x="74" y="1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208"/>
          <p:cNvSpPr/>
          <p:nvPr/>
        </p:nvSpPr>
        <p:spPr>
          <a:xfrm>
            <a:off x="3506760" y="4923000"/>
            <a:ext cx="42840" cy="74520"/>
          </a:xfrm>
          <a:custGeom>
            <a:avLst/>
            <a:gdLst>
              <a:gd name="textAreaLeft" fmla="*/ 0 w 42840"/>
              <a:gd name="textAreaRight" fmla="*/ 43200 w 42840"/>
              <a:gd name="textAreaTop" fmla="*/ 0 h 74520"/>
              <a:gd name="textAreaBottom" fmla="*/ 74880 h 74520"/>
            </a:gdLst>
            <a:ahLst/>
            <a:rect l="textAreaLeft" t="textAreaTop" r="textAreaRight" b="textAreaBottom"/>
            <a:pathLst>
              <a:path w="56" h="94">
                <a:moveTo>
                  <a:pt x="12" y="87"/>
                </a:moveTo>
                <a:lnTo>
                  <a:pt x="12" y="88"/>
                </a:lnTo>
                <a:lnTo>
                  <a:pt x="12" y="89"/>
                </a:lnTo>
                <a:lnTo>
                  <a:pt x="12" y="92"/>
                </a:lnTo>
                <a:lnTo>
                  <a:pt x="12" y="94"/>
                </a:lnTo>
                <a:lnTo>
                  <a:pt x="13" y="93"/>
                </a:lnTo>
                <a:lnTo>
                  <a:pt x="14" y="92"/>
                </a:lnTo>
                <a:lnTo>
                  <a:pt x="15" y="91"/>
                </a:lnTo>
                <a:lnTo>
                  <a:pt x="16" y="90"/>
                </a:lnTo>
                <a:lnTo>
                  <a:pt x="17" y="88"/>
                </a:lnTo>
                <a:lnTo>
                  <a:pt x="18" y="87"/>
                </a:lnTo>
                <a:lnTo>
                  <a:pt x="19" y="86"/>
                </a:lnTo>
                <a:lnTo>
                  <a:pt x="19" y="85"/>
                </a:lnTo>
                <a:lnTo>
                  <a:pt x="19" y="84"/>
                </a:lnTo>
                <a:lnTo>
                  <a:pt x="20" y="83"/>
                </a:lnTo>
                <a:lnTo>
                  <a:pt x="22" y="82"/>
                </a:lnTo>
                <a:lnTo>
                  <a:pt x="23" y="81"/>
                </a:lnTo>
                <a:lnTo>
                  <a:pt x="23" y="80"/>
                </a:lnTo>
                <a:lnTo>
                  <a:pt x="23" y="79"/>
                </a:lnTo>
                <a:lnTo>
                  <a:pt x="24" y="78"/>
                </a:lnTo>
                <a:lnTo>
                  <a:pt x="24" y="77"/>
                </a:lnTo>
                <a:lnTo>
                  <a:pt x="24" y="76"/>
                </a:lnTo>
                <a:lnTo>
                  <a:pt x="25" y="75"/>
                </a:lnTo>
                <a:lnTo>
                  <a:pt x="26" y="74"/>
                </a:lnTo>
                <a:lnTo>
                  <a:pt x="27" y="72"/>
                </a:lnTo>
                <a:lnTo>
                  <a:pt x="27" y="71"/>
                </a:lnTo>
                <a:lnTo>
                  <a:pt x="27" y="70"/>
                </a:lnTo>
                <a:lnTo>
                  <a:pt x="28" y="69"/>
                </a:lnTo>
                <a:lnTo>
                  <a:pt x="28" y="68"/>
                </a:lnTo>
                <a:lnTo>
                  <a:pt x="28" y="67"/>
                </a:lnTo>
                <a:lnTo>
                  <a:pt x="29" y="66"/>
                </a:lnTo>
                <a:lnTo>
                  <a:pt x="29" y="65"/>
                </a:lnTo>
                <a:lnTo>
                  <a:pt x="29" y="64"/>
                </a:lnTo>
                <a:lnTo>
                  <a:pt x="30" y="63"/>
                </a:lnTo>
                <a:lnTo>
                  <a:pt x="30" y="62"/>
                </a:lnTo>
                <a:lnTo>
                  <a:pt x="30" y="61"/>
                </a:lnTo>
                <a:lnTo>
                  <a:pt x="31" y="60"/>
                </a:lnTo>
                <a:lnTo>
                  <a:pt x="31" y="58"/>
                </a:lnTo>
                <a:lnTo>
                  <a:pt x="31" y="57"/>
                </a:lnTo>
                <a:lnTo>
                  <a:pt x="32" y="56"/>
                </a:lnTo>
                <a:lnTo>
                  <a:pt x="33" y="54"/>
                </a:lnTo>
                <a:lnTo>
                  <a:pt x="34" y="52"/>
                </a:lnTo>
                <a:lnTo>
                  <a:pt x="34" y="51"/>
                </a:lnTo>
                <a:lnTo>
                  <a:pt x="34" y="50"/>
                </a:lnTo>
                <a:lnTo>
                  <a:pt x="36" y="49"/>
                </a:lnTo>
                <a:lnTo>
                  <a:pt x="36" y="48"/>
                </a:lnTo>
                <a:lnTo>
                  <a:pt x="36" y="47"/>
                </a:lnTo>
                <a:lnTo>
                  <a:pt x="37" y="46"/>
                </a:lnTo>
                <a:lnTo>
                  <a:pt x="37" y="45"/>
                </a:lnTo>
                <a:lnTo>
                  <a:pt x="37" y="44"/>
                </a:lnTo>
                <a:lnTo>
                  <a:pt x="38" y="43"/>
                </a:lnTo>
                <a:lnTo>
                  <a:pt x="38" y="41"/>
                </a:lnTo>
                <a:lnTo>
                  <a:pt x="38" y="40"/>
                </a:lnTo>
                <a:lnTo>
                  <a:pt x="39" y="39"/>
                </a:lnTo>
                <a:lnTo>
                  <a:pt x="39" y="38"/>
                </a:lnTo>
                <a:lnTo>
                  <a:pt x="39" y="37"/>
                </a:lnTo>
                <a:lnTo>
                  <a:pt x="40" y="36"/>
                </a:lnTo>
                <a:lnTo>
                  <a:pt x="41" y="35"/>
                </a:lnTo>
                <a:lnTo>
                  <a:pt x="42" y="33"/>
                </a:lnTo>
                <a:lnTo>
                  <a:pt x="43" y="31"/>
                </a:lnTo>
                <a:lnTo>
                  <a:pt x="43" y="30"/>
                </a:lnTo>
                <a:lnTo>
                  <a:pt x="43" y="29"/>
                </a:lnTo>
                <a:lnTo>
                  <a:pt x="44" y="28"/>
                </a:lnTo>
                <a:lnTo>
                  <a:pt x="44" y="27"/>
                </a:lnTo>
                <a:lnTo>
                  <a:pt x="44" y="26"/>
                </a:lnTo>
                <a:lnTo>
                  <a:pt x="45" y="25"/>
                </a:lnTo>
                <a:lnTo>
                  <a:pt x="45" y="24"/>
                </a:lnTo>
                <a:lnTo>
                  <a:pt x="45" y="23"/>
                </a:lnTo>
                <a:lnTo>
                  <a:pt x="46" y="22"/>
                </a:lnTo>
                <a:lnTo>
                  <a:pt x="47" y="21"/>
                </a:lnTo>
                <a:lnTo>
                  <a:pt x="48" y="20"/>
                </a:lnTo>
                <a:lnTo>
                  <a:pt x="49" y="18"/>
                </a:lnTo>
                <a:lnTo>
                  <a:pt x="51" y="16"/>
                </a:lnTo>
                <a:lnTo>
                  <a:pt x="52" y="14"/>
                </a:lnTo>
                <a:lnTo>
                  <a:pt x="53" y="13"/>
                </a:lnTo>
                <a:lnTo>
                  <a:pt x="54" y="12"/>
                </a:lnTo>
                <a:lnTo>
                  <a:pt x="55" y="11"/>
                </a:lnTo>
                <a:lnTo>
                  <a:pt x="56" y="10"/>
                </a:lnTo>
                <a:lnTo>
                  <a:pt x="51" y="5"/>
                </a:lnTo>
                <a:lnTo>
                  <a:pt x="48" y="2"/>
                </a:lnTo>
                <a:lnTo>
                  <a:pt x="48" y="0"/>
                </a:lnTo>
                <a:lnTo>
                  <a:pt x="47" y="2"/>
                </a:lnTo>
                <a:lnTo>
                  <a:pt x="46" y="3"/>
                </a:lnTo>
                <a:lnTo>
                  <a:pt x="45" y="4"/>
                </a:lnTo>
                <a:lnTo>
                  <a:pt x="44" y="5"/>
                </a:lnTo>
                <a:lnTo>
                  <a:pt x="43" y="6"/>
                </a:lnTo>
                <a:lnTo>
                  <a:pt x="42" y="7"/>
                </a:lnTo>
                <a:lnTo>
                  <a:pt x="41" y="9"/>
                </a:lnTo>
                <a:lnTo>
                  <a:pt x="41" y="10"/>
                </a:lnTo>
                <a:lnTo>
                  <a:pt x="40" y="11"/>
                </a:lnTo>
                <a:lnTo>
                  <a:pt x="39" y="12"/>
                </a:lnTo>
                <a:lnTo>
                  <a:pt x="38" y="14"/>
                </a:lnTo>
                <a:lnTo>
                  <a:pt x="38" y="15"/>
                </a:lnTo>
                <a:lnTo>
                  <a:pt x="37" y="17"/>
                </a:lnTo>
                <a:lnTo>
                  <a:pt x="37" y="18"/>
                </a:lnTo>
                <a:lnTo>
                  <a:pt x="36" y="19"/>
                </a:lnTo>
                <a:lnTo>
                  <a:pt x="34" y="20"/>
                </a:lnTo>
                <a:lnTo>
                  <a:pt x="33" y="22"/>
                </a:lnTo>
                <a:lnTo>
                  <a:pt x="33" y="23"/>
                </a:lnTo>
                <a:lnTo>
                  <a:pt x="32" y="25"/>
                </a:lnTo>
                <a:lnTo>
                  <a:pt x="32" y="26"/>
                </a:lnTo>
                <a:lnTo>
                  <a:pt x="31" y="27"/>
                </a:lnTo>
                <a:lnTo>
                  <a:pt x="30" y="28"/>
                </a:lnTo>
                <a:lnTo>
                  <a:pt x="30" y="29"/>
                </a:lnTo>
                <a:lnTo>
                  <a:pt x="29" y="31"/>
                </a:lnTo>
                <a:lnTo>
                  <a:pt x="29" y="32"/>
                </a:lnTo>
                <a:lnTo>
                  <a:pt x="28" y="35"/>
                </a:lnTo>
                <a:lnTo>
                  <a:pt x="28" y="36"/>
                </a:lnTo>
                <a:lnTo>
                  <a:pt x="27" y="38"/>
                </a:lnTo>
                <a:lnTo>
                  <a:pt x="27" y="39"/>
                </a:lnTo>
                <a:lnTo>
                  <a:pt x="26" y="41"/>
                </a:lnTo>
                <a:lnTo>
                  <a:pt x="26" y="42"/>
                </a:lnTo>
                <a:lnTo>
                  <a:pt x="25" y="43"/>
                </a:lnTo>
                <a:lnTo>
                  <a:pt x="24" y="44"/>
                </a:lnTo>
                <a:lnTo>
                  <a:pt x="24" y="45"/>
                </a:lnTo>
                <a:lnTo>
                  <a:pt x="23" y="47"/>
                </a:lnTo>
                <a:lnTo>
                  <a:pt x="23" y="48"/>
                </a:lnTo>
                <a:lnTo>
                  <a:pt x="22" y="51"/>
                </a:lnTo>
                <a:lnTo>
                  <a:pt x="22" y="52"/>
                </a:lnTo>
                <a:lnTo>
                  <a:pt x="20" y="54"/>
                </a:lnTo>
                <a:lnTo>
                  <a:pt x="20" y="56"/>
                </a:lnTo>
                <a:lnTo>
                  <a:pt x="19" y="58"/>
                </a:lnTo>
                <a:lnTo>
                  <a:pt x="19" y="59"/>
                </a:lnTo>
                <a:lnTo>
                  <a:pt x="18" y="61"/>
                </a:lnTo>
                <a:lnTo>
                  <a:pt x="18" y="62"/>
                </a:lnTo>
                <a:lnTo>
                  <a:pt x="17" y="64"/>
                </a:lnTo>
                <a:lnTo>
                  <a:pt x="17" y="65"/>
                </a:lnTo>
                <a:lnTo>
                  <a:pt x="16" y="66"/>
                </a:lnTo>
                <a:lnTo>
                  <a:pt x="15" y="67"/>
                </a:lnTo>
                <a:lnTo>
                  <a:pt x="15" y="68"/>
                </a:lnTo>
                <a:lnTo>
                  <a:pt x="14" y="70"/>
                </a:lnTo>
                <a:lnTo>
                  <a:pt x="14" y="71"/>
                </a:lnTo>
                <a:lnTo>
                  <a:pt x="13" y="72"/>
                </a:lnTo>
                <a:lnTo>
                  <a:pt x="13" y="73"/>
                </a:lnTo>
                <a:lnTo>
                  <a:pt x="12" y="75"/>
                </a:lnTo>
                <a:lnTo>
                  <a:pt x="12" y="76"/>
                </a:lnTo>
                <a:lnTo>
                  <a:pt x="11" y="77"/>
                </a:lnTo>
                <a:lnTo>
                  <a:pt x="11" y="78"/>
                </a:lnTo>
                <a:lnTo>
                  <a:pt x="10" y="79"/>
                </a:lnTo>
                <a:lnTo>
                  <a:pt x="9" y="80"/>
                </a:lnTo>
                <a:lnTo>
                  <a:pt x="8" y="81"/>
                </a:lnTo>
                <a:lnTo>
                  <a:pt x="8" y="82"/>
                </a:lnTo>
                <a:lnTo>
                  <a:pt x="7" y="83"/>
                </a:lnTo>
                <a:lnTo>
                  <a:pt x="7" y="84"/>
                </a:lnTo>
                <a:lnTo>
                  <a:pt x="5" y="85"/>
                </a:lnTo>
                <a:lnTo>
                  <a:pt x="4" y="86"/>
                </a:lnTo>
                <a:lnTo>
                  <a:pt x="4" y="87"/>
                </a:lnTo>
                <a:lnTo>
                  <a:pt x="4" y="88"/>
                </a:lnTo>
                <a:lnTo>
                  <a:pt x="4" y="89"/>
                </a:lnTo>
                <a:lnTo>
                  <a:pt x="4" y="92"/>
                </a:lnTo>
                <a:lnTo>
                  <a:pt x="4" y="94"/>
                </a:lnTo>
                <a:lnTo>
                  <a:pt x="4" y="93"/>
                </a:lnTo>
                <a:lnTo>
                  <a:pt x="4" y="90"/>
                </a:lnTo>
                <a:lnTo>
                  <a:pt x="4" y="88"/>
                </a:lnTo>
                <a:lnTo>
                  <a:pt x="4" y="87"/>
                </a:lnTo>
                <a:lnTo>
                  <a:pt x="3" y="88"/>
                </a:lnTo>
                <a:lnTo>
                  <a:pt x="1" y="90"/>
                </a:lnTo>
                <a:lnTo>
                  <a:pt x="0" y="91"/>
                </a:lnTo>
                <a:lnTo>
                  <a:pt x="2" y="93"/>
                </a:lnTo>
                <a:lnTo>
                  <a:pt x="3" y="94"/>
                </a:lnTo>
                <a:lnTo>
                  <a:pt x="4" y="94"/>
                </a:lnTo>
                <a:lnTo>
                  <a:pt x="12" y="87"/>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10" name="Freeform 209"/>
          <p:cNvSpPr/>
          <p:nvPr/>
        </p:nvSpPr>
        <p:spPr>
          <a:xfrm>
            <a:off x="3510000" y="4992840"/>
            <a:ext cx="47520" cy="90360"/>
          </a:xfrm>
          <a:custGeom>
            <a:avLst/>
            <a:gdLst>
              <a:gd name="textAreaLeft" fmla="*/ 0 w 47520"/>
              <a:gd name="textAreaRight" fmla="*/ 47880 w 47520"/>
              <a:gd name="textAreaTop" fmla="*/ 0 h 90360"/>
              <a:gd name="textAreaBottom" fmla="*/ 90360 h 90360"/>
            </a:gdLst>
            <a:ahLst/>
            <a:rect l="textAreaLeft" t="textAreaTop" r="textAreaRight" b="textAreaBottom"/>
            <a:pathLst>
              <a:path w="60" h="115">
                <a:moveTo>
                  <a:pt x="51" y="108"/>
                </a:moveTo>
                <a:lnTo>
                  <a:pt x="52" y="109"/>
                </a:lnTo>
                <a:lnTo>
                  <a:pt x="56" y="111"/>
                </a:lnTo>
                <a:lnTo>
                  <a:pt x="59" y="112"/>
                </a:lnTo>
                <a:lnTo>
                  <a:pt x="60" y="112"/>
                </a:lnTo>
                <a:lnTo>
                  <a:pt x="60" y="110"/>
                </a:lnTo>
                <a:lnTo>
                  <a:pt x="60" y="109"/>
                </a:lnTo>
                <a:lnTo>
                  <a:pt x="60" y="108"/>
                </a:lnTo>
                <a:lnTo>
                  <a:pt x="60" y="107"/>
                </a:lnTo>
                <a:lnTo>
                  <a:pt x="60" y="106"/>
                </a:lnTo>
                <a:lnTo>
                  <a:pt x="60" y="105"/>
                </a:lnTo>
                <a:lnTo>
                  <a:pt x="59" y="103"/>
                </a:lnTo>
                <a:lnTo>
                  <a:pt x="59" y="102"/>
                </a:lnTo>
                <a:lnTo>
                  <a:pt x="59" y="101"/>
                </a:lnTo>
                <a:lnTo>
                  <a:pt x="59" y="100"/>
                </a:lnTo>
                <a:lnTo>
                  <a:pt x="59" y="99"/>
                </a:lnTo>
                <a:lnTo>
                  <a:pt x="59" y="98"/>
                </a:lnTo>
                <a:lnTo>
                  <a:pt x="58" y="96"/>
                </a:lnTo>
                <a:lnTo>
                  <a:pt x="58" y="95"/>
                </a:lnTo>
                <a:lnTo>
                  <a:pt x="58" y="94"/>
                </a:lnTo>
                <a:lnTo>
                  <a:pt x="57" y="92"/>
                </a:lnTo>
                <a:lnTo>
                  <a:pt x="57" y="91"/>
                </a:lnTo>
                <a:lnTo>
                  <a:pt x="56" y="89"/>
                </a:lnTo>
                <a:lnTo>
                  <a:pt x="56" y="88"/>
                </a:lnTo>
                <a:lnTo>
                  <a:pt x="56" y="87"/>
                </a:lnTo>
                <a:lnTo>
                  <a:pt x="55" y="85"/>
                </a:lnTo>
                <a:lnTo>
                  <a:pt x="55" y="84"/>
                </a:lnTo>
                <a:lnTo>
                  <a:pt x="55" y="83"/>
                </a:lnTo>
                <a:lnTo>
                  <a:pt x="53" y="81"/>
                </a:lnTo>
                <a:lnTo>
                  <a:pt x="53" y="79"/>
                </a:lnTo>
                <a:lnTo>
                  <a:pt x="52" y="77"/>
                </a:lnTo>
                <a:lnTo>
                  <a:pt x="52" y="75"/>
                </a:lnTo>
                <a:lnTo>
                  <a:pt x="52" y="74"/>
                </a:lnTo>
                <a:lnTo>
                  <a:pt x="51" y="72"/>
                </a:lnTo>
                <a:lnTo>
                  <a:pt x="51" y="71"/>
                </a:lnTo>
                <a:lnTo>
                  <a:pt x="51" y="70"/>
                </a:lnTo>
                <a:lnTo>
                  <a:pt x="49" y="68"/>
                </a:lnTo>
                <a:lnTo>
                  <a:pt x="49" y="66"/>
                </a:lnTo>
                <a:lnTo>
                  <a:pt x="47" y="64"/>
                </a:lnTo>
                <a:lnTo>
                  <a:pt x="47" y="62"/>
                </a:lnTo>
                <a:lnTo>
                  <a:pt x="45" y="60"/>
                </a:lnTo>
                <a:lnTo>
                  <a:pt x="45" y="59"/>
                </a:lnTo>
                <a:lnTo>
                  <a:pt x="45" y="58"/>
                </a:lnTo>
                <a:lnTo>
                  <a:pt x="43" y="56"/>
                </a:lnTo>
                <a:lnTo>
                  <a:pt x="43" y="54"/>
                </a:lnTo>
                <a:lnTo>
                  <a:pt x="41" y="52"/>
                </a:lnTo>
                <a:lnTo>
                  <a:pt x="41" y="50"/>
                </a:lnTo>
                <a:lnTo>
                  <a:pt x="39" y="48"/>
                </a:lnTo>
                <a:lnTo>
                  <a:pt x="39" y="46"/>
                </a:lnTo>
                <a:lnTo>
                  <a:pt x="37" y="44"/>
                </a:lnTo>
                <a:lnTo>
                  <a:pt x="37" y="42"/>
                </a:lnTo>
                <a:lnTo>
                  <a:pt x="35" y="40"/>
                </a:lnTo>
                <a:lnTo>
                  <a:pt x="35" y="38"/>
                </a:lnTo>
                <a:lnTo>
                  <a:pt x="33" y="36"/>
                </a:lnTo>
                <a:lnTo>
                  <a:pt x="33" y="34"/>
                </a:lnTo>
                <a:lnTo>
                  <a:pt x="30" y="32"/>
                </a:lnTo>
                <a:lnTo>
                  <a:pt x="30" y="30"/>
                </a:lnTo>
                <a:lnTo>
                  <a:pt x="28" y="28"/>
                </a:lnTo>
                <a:lnTo>
                  <a:pt x="28" y="27"/>
                </a:lnTo>
                <a:lnTo>
                  <a:pt x="26" y="25"/>
                </a:lnTo>
                <a:lnTo>
                  <a:pt x="26" y="24"/>
                </a:lnTo>
                <a:lnTo>
                  <a:pt x="24" y="21"/>
                </a:lnTo>
                <a:lnTo>
                  <a:pt x="24" y="19"/>
                </a:lnTo>
                <a:lnTo>
                  <a:pt x="22" y="17"/>
                </a:lnTo>
                <a:lnTo>
                  <a:pt x="22" y="16"/>
                </a:lnTo>
                <a:lnTo>
                  <a:pt x="20" y="14"/>
                </a:lnTo>
                <a:lnTo>
                  <a:pt x="20" y="13"/>
                </a:lnTo>
                <a:lnTo>
                  <a:pt x="18" y="11"/>
                </a:lnTo>
                <a:lnTo>
                  <a:pt x="18" y="10"/>
                </a:lnTo>
                <a:lnTo>
                  <a:pt x="15" y="9"/>
                </a:lnTo>
                <a:lnTo>
                  <a:pt x="15" y="8"/>
                </a:lnTo>
                <a:lnTo>
                  <a:pt x="14" y="6"/>
                </a:lnTo>
                <a:lnTo>
                  <a:pt x="14" y="5"/>
                </a:lnTo>
                <a:lnTo>
                  <a:pt x="12" y="4"/>
                </a:lnTo>
                <a:lnTo>
                  <a:pt x="12" y="3"/>
                </a:lnTo>
                <a:lnTo>
                  <a:pt x="10" y="2"/>
                </a:lnTo>
                <a:lnTo>
                  <a:pt x="10" y="1"/>
                </a:lnTo>
                <a:lnTo>
                  <a:pt x="8" y="0"/>
                </a:lnTo>
                <a:lnTo>
                  <a:pt x="7" y="1"/>
                </a:lnTo>
                <a:lnTo>
                  <a:pt x="6" y="2"/>
                </a:lnTo>
                <a:lnTo>
                  <a:pt x="3" y="5"/>
                </a:lnTo>
                <a:lnTo>
                  <a:pt x="0" y="7"/>
                </a:lnTo>
                <a:lnTo>
                  <a:pt x="1" y="9"/>
                </a:lnTo>
                <a:lnTo>
                  <a:pt x="3" y="10"/>
                </a:lnTo>
                <a:lnTo>
                  <a:pt x="4" y="10"/>
                </a:lnTo>
                <a:lnTo>
                  <a:pt x="5" y="12"/>
                </a:lnTo>
                <a:lnTo>
                  <a:pt x="6" y="14"/>
                </a:lnTo>
                <a:lnTo>
                  <a:pt x="7" y="14"/>
                </a:lnTo>
                <a:lnTo>
                  <a:pt x="7" y="15"/>
                </a:lnTo>
                <a:lnTo>
                  <a:pt x="7" y="16"/>
                </a:lnTo>
                <a:lnTo>
                  <a:pt x="7" y="17"/>
                </a:lnTo>
                <a:lnTo>
                  <a:pt x="8" y="17"/>
                </a:lnTo>
                <a:lnTo>
                  <a:pt x="9" y="19"/>
                </a:lnTo>
                <a:lnTo>
                  <a:pt x="10" y="19"/>
                </a:lnTo>
                <a:lnTo>
                  <a:pt x="11" y="21"/>
                </a:lnTo>
                <a:lnTo>
                  <a:pt x="12" y="23"/>
                </a:lnTo>
                <a:lnTo>
                  <a:pt x="13" y="25"/>
                </a:lnTo>
                <a:lnTo>
                  <a:pt x="14" y="26"/>
                </a:lnTo>
                <a:lnTo>
                  <a:pt x="15" y="28"/>
                </a:lnTo>
                <a:lnTo>
                  <a:pt x="16" y="29"/>
                </a:lnTo>
                <a:lnTo>
                  <a:pt x="18" y="31"/>
                </a:lnTo>
                <a:lnTo>
                  <a:pt x="19" y="32"/>
                </a:lnTo>
                <a:lnTo>
                  <a:pt x="20" y="35"/>
                </a:lnTo>
                <a:lnTo>
                  <a:pt x="21" y="36"/>
                </a:lnTo>
                <a:lnTo>
                  <a:pt x="22" y="38"/>
                </a:lnTo>
                <a:lnTo>
                  <a:pt x="23" y="39"/>
                </a:lnTo>
                <a:lnTo>
                  <a:pt x="23" y="40"/>
                </a:lnTo>
                <a:lnTo>
                  <a:pt x="23" y="42"/>
                </a:lnTo>
                <a:lnTo>
                  <a:pt x="23" y="43"/>
                </a:lnTo>
                <a:lnTo>
                  <a:pt x="24" y="43"/>
                </a:lnTo>
                <a:lnTo>
                  <a:pt x="25" y="46"/>
                </a:lnTo>
                <a:lnTo>
                  <a:pt x="26" y="47"/>
                </a:lnTo>
                <a:lnTo>
                  <a:pt x="27" y="49"/>
                </a:lnTo>
                <a:lnTo>
                  <a:pt x="28" y="50"/>
                </a:lnTo>
                <a:lnTo>
                  <a:pt x="29" y="53"/>
                </a:lnTo>
                <a:lnTo>
                  <a:pt x="30" y="54"/>
                </a:lnTo>
                <a:lnTo>
                  <a:pt x="32" y="57"/>
                </a:lnTo>
                <a:lnTo>
                  <a:pt x="33" y="58"/>
                </a:lnTo>
                <a:lnTo>
                  <a:pt x="34" y="61"/>
                </a:lnTo>
                <a:lnTo>
                  <a:pt x="35" y="62"/>
                </a:lnTo>
                <a:lnTo>
                  <a:pt x="35" y="63"/>
                </a:lnTo>
                <a:lnTo>
                  <a:pt x="35" y="65"/>
                </a:lnTo>
                <a:lnTo>
                  <a:pt x="35" y="66"/>
                </a:lnTo>
                <a:lnTo>
                  <a:pt x="36" y="66"/>
                </a:lnTo>
                <a:lnTo>
                  <a:pt x="37" y="69"/>
                </a:lnTo>
                <a:lnTo>
                  <a:pt x="38" y="70"/>
                </a:lnTo>
                <a:lnTo>
                  <a:pt x="38" y="71"/>
                </a:lnTo>
                <a:lnTo>
                  <a:pt x="38" y="73"/>
                </a:lnTo>
                <a:lnTo>
                  <a:pt x="38" y="74"/>
                </a:lnTo>
                <a:lnTo>
                  <a:pt x="39" y="74"/>
                </a:lnTo>
                <a:lnTo>
                  <a:pt x="40" y="77"/>
                </a:lnTo>
                <a:lnTo>
                  <a:pt x="41" y="78"/>
                </a:lnTo>
                <a:lnTo>
                  <a:pt x="41" y="79"/>
                </a:lnTo>
                <a:lnTo>
                  <a:pt x="41" y="81"/>
                </a:lnTo>
                <a:lnTo>
                  <a:pt x="41" y="82"/>
                </a:lnTo>
                <a:lnTo>
                  <a:pt x="42" y="82"/>
                </a:lnTo>
                <a:lnTo>
                  <a:pt x="42" y="83"/>
                </a:lnTo>
                <a:lnTo>
                  <a:pt x="42" y="85"/>
                </a:lnTo>
                <a:lnTo>
                  <a:pt x="42" y="86"/>
                </a:lnTo>
                <a:lnTo>
                  <a:pt x="43" y="86"/>
                </a:lnTo>
                <a:lnTo>
                  <a:pt x="43" y="87"/>
                </a:lnTo>
                <a:lnTo>
                  <a:pt x="43" y="89"/>
                </a:lnTo>
                <a:lnTo>
                  <a:pt x="43" y="90"/>
                </a:lnTo>
                <a:lnTo>
                  <a:pt x="44" y="90"/>
                </a:lnTo>
                <a:lnTo>
                  <a:pt x="44" y="91"/>
                </a:lnTo>
                <a:lnTo>
                  <a:pt x="44" y="92"/>
                </a:lnTo>
                <a:lnTo>
                  <a:pt x="44" y="93"/>
                </a:lnTo>
                <a:lnTo>
                  <a:pt x="45" y="93"/>
                </a:lnTo>
                <a:lnTo>
                  <a:pt x="45" y="94"/>
                </a:lnTo>
                <a:lnTo>
                  <a:pt x="45" y="96"/>
                </a:lnTo>
                <a:lnTo>
                  <a:pt x="45" y="97"/>
                </a:lnTo>
                <a:lnTo>
                  <a:pt x="47" y="97"/>
                </a:lnTo>
                <a:lnTo>
                  <a:pt x="47" y="98"/>
                </a:lnTo>
                <a:lnTo>
                  <a:pt x="47" y="99"/>
                </a:lnTo>
                <a:lnTo>
                  <a:pt x="47" y="100"/>
                </a:lnTo>
                <a:lnTo>
                  <a:pt x="48" y="100"/>
                </a:lnTo>
                <a:lnTo>
                  <a:pt x="48" y="101"/>
                </a:lnTo>
                <a:lnTo>
                  <a:pt x="48" y="102"/>
                </a:lnTo>
                <a:lnTo>
                  <a:pt x="48" y="103"/>
                </a:lnTo>
                <a:lnTo>
                  <a:pt x="48" y="104"/>
                </a:lnTo>
                <a:lnTo>
                  <a:pt x="48" y="105"/>
                </a:lnTo>
                <a:lnTo>
                  <a:pt x="48" y="106"/>
                </a:lnTo>
                <a:lnTo>
                  <a:pt x="49" y="106"/>
                </a:lnTo>
                <a:lnTo>
                  <a:pt x="49" y="107"/>
                </a:lnTo>
                <a:lnTo>
                  <a:pt x="49" y="108"/>
                </a:lnTo>
                <a:lnTo>
                  <a:pt x="49" y="109"/>
                </a:lnTo>
                <a:lnTo>
                  <a:pt x="49" y="110"/>
                </a:lnTo>
                <a:lnTo>
                  <a:pt x="49" y="111"/>
                </a:lnTo>
                <a:lnTo>
                  <a:pt x="49" y="112"/>
                </a:lnTo>
                <a:lnTo>
                  <a:pt x="54" y="114"/>
                </a:lnTo>
                <a:lnTo>
                  <a:pt x="57" y="115"/>
                </a:lnTo>
                <a:lnTo>
                  <a:pt x="58" y="115"/>
                </a:lnTo>
                <a:lnTo>
                  <a:pt x="51" y="108"/>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11" name="Freeform 210"/>
          <p:cNvSpPr/>
          <p:nvPr/>
        </p:nvSpPr>
        <p:spPr>
          <a:xfrm>
            <a:off x="3549600" y="4976640"/>
            <a:ext cx="71640" cy="106560"/>
          </a:xfrm>
          <a:custGeom>
            <a:avLst/>
            <a:gdLst>
              <a:gd name="textAreaLeft" fmla="*/ 0 w 71640"/>
              <a:gd name="textAreaRight" fmla="*/ 72000 w 71640"/>
              <a:gd name="textAreaTop" fmla="*/ 0 h 106560"/>
              <a:gd name="textAreaBottom" fmla="*/ 106920 h 106560"/>
            </a:gdLst>
            <a:ahLst/>
            <a:rect l="textAreaLeft" t="textAreaTop" r="textAreaRight" b="textAreaBottom"/>
            <a:pathLst>
              <a:path w="90" h="134">
                <a:moveTo>
                  <a:pt x="90" y="2"/>
                </a:moveTo>
                <a:lnTo>
                  <a:pt x="89" y="2"/>
                </a:lnTo>
                <a:lnTo>
                  <a:pt x="86" y="2"/>
                </a:lnTo>
                <a:lnTo>
                  <a:pt x="83" y="2"/>
                </a:lnTo>
                <a:lnTo>
                  <a:pt x="82" y="3"/>
                </a:lnTo>
                <a:lnTo>
                  <a:pt x="78" y="5"/>
                </a:lnTo>
                <a:lnTo>
                  <a:pt x="76" y="6"/>
                </a:lnTo>
                <a:lnTo>
                  <a:pt x="75" y="7"/>
                </a:lnTo>
                <a:lnTo>
                  <a:pt x="72" y="9"/>
                </a:lnTo>
                <a:lnTo>
                  <a:pt x="70" y="10"/>
                </a:lnTo>
                <a:lnTo>
                  <a:pt x="68" y="11"/>
                </a:lnTo>
                <a:lnTo>
                  <a:pt x="65" y="13"/>
                </a:lnTo>
                <a:lnTo>
                  <a:pt x="63" y="14"/>
                </a:lnTo>
                <a:lnTo>
                  <a:pt x="62" y="15"/>
                </a:lnTo>
                <a:lnTo>
                  <a:pt x="59" y="17"/>
                </a:lnTo>
                <a:lnTo>
                  <a:pt x="58" y="18"/>
                </a:lnTo>
                <a:lnTo>
                  <a:pt x="57" y="19"/>
                </a:lnTo>
                <a:lnTo>
                  <a:pt x="55" y="20"/>
                </a:lnTo>
                <a:lnTo>
                  <a:pt x="53" y="21"/>
                </a:lnTo>
                <a:lnTo>
                  <a:pt x="52" y="22"/>
                </a:lnTo>
                <a:lnTo>
                  <a:pt x="50" y="24"/>
                </a:lnTo>
                <a:lnTo>
                  <a:pt x="49" y="25"/>
                </a:lnTo>
                <a:lnTo>
                  <a:pt x="48" y="26"/>
                </a:lnTo>
                <a:lnTo>
                  <a:pt x="47" y="28"/>
                </a:lnTo>
                <a:lnTo>
                  <a:pt x="46" y="29"/>
                </a:lnTo>
                <a:lnTo>
                  <a:pt x="45" y="30"/>
                </a:lnTo>
                <a:lnTo>
                  <a:pt x="44" y="31"/>
                </a:lnTo>
                <a:lnTo>
                  <a:pt x="43" y="32"/>
                </a:lnTo>
                <a:lnTo>
                  <a:pt x="42" y="33"/>
                </a:lnTo>
                <a:lnTo>
                  <a:pt x="41" y="35"/>
                </a:lnTo>
                <a:lnTo>
                  <a:pt x="41" y="36"/>
                </a:lnTo>
                <a:lnTo>
                  <a:pt x="39" y="37"/>
                </a:lnTo>
                <a:lnTo>
                  <a:pt x="38" y="39"/>
                </a:lnTo>
                <a:lnTo>
                  <a:pt x="38" y="40"/>
                </a:lnTo>
                <a:lnTo>
                  <a:pt x="37" y="43"/>
                </a:lnTo>
                <a:lnTo>
                  <a:pt x="37" y="44"/>
                </a:lnTo>
                <a:lnTo>
                  <a:pt x="36" y="47"/>
                </a:lnTo>
                <a:lnTo>
                  <a:pt x="36" y="48"/>
                </a:lnTo>
                <a:lnTo>
                  <a:pt x="35" y="50"/>
                </a:lnTo>
                <a:lnTo>
                  <a:pt x="35" y="51"/>
                </a:lnTo>
                <a:lnTo>
                  <a:pt x="34" y="54"/>
                </a:lnTo>
                <a:lnTo>
                  <a:pt x="34" y="55"/>
                </a:lnTo>
                <a:lnTo>
                  <a:pt x="33" y="57"/>
                </a:lnTo>
                <a:lnTo>
                  <a:pt x="33" y="58"/>
                </a:lnTo>
                <a:lnTo>
                  <a:pt x="33" y="59"/>
                </a:lnTo>
                <a:lnTo>
                  <a:pt x="33" y="60"/>
                </a:lnTo>
                <a:lnTo>
                  <a:pt x="33" y="61"/>
                </a:lnTo>
                <a:lnTo>
                  <a:pt x="33" y="62"/>
                </a:lnTo>
                <a:lnTo>
                  <a:pt x="33" y="64"/>
                </a:lnTo>
                <a:lnTo>
                  <a:pt x="33" y="65"/>
                </a:lnTo>
                <a:lnTo>
                  <a:pt x="32" y="67"/>
                </a:lnTo>
                <a:lnTo>
                  <a:pt x="32" y="68"/>
                </a:lnTo>
                <a:lnTo>
                  <a:pt x="32" y="69"/>
                </a:lnTo>
                <a:lnTo>
                  <a:pt x="32" y="70"/>
                </a:lnTo>
                <a:lnTo>
                  <a:pt x="32" y="71"/>
                </a:lnTo>
                <a:lnTo>
                  <a:pt x="31" y="74"/>
                </a:lnTo>
                <a:lnTo>
                  <a:pt x="31" y="75"/>
                </a:lnTo>
                <a:lnTo>
                  <a:pt x="31" y="76"/>
                </a:lnTo>
                <a:lnTo>
                  <a:pt x="31" y="77"/>
                </a:lnTo>
                <a:lnTo>
                  <a:pt x="31" y="78"/>
                </a:lnTo>
                <a:lnTo>
                  <a:pt x="30" y="81"/>
                </a:lnTo>
                <a:lnTo>
                  <a:pt x="30" y="82"/>
                </a:lnTo>
                <a:lnTo>
                  <a:pt x="29" y="84"/>
                </a:lnTo>
                <a:lnTo>
                  <a:pt x="29" y="85"/>
                </a:lnTo>
                <a:lnTo>
                  <a:pt x="28" y="86"/>
                </a:lnTo>
                <a:lnTo>
                  <a:pt x="27" y="88"/>
                </a:lnTo>
                <a:lnTo>
                  <a:pt x="27" y="89"/>
                </a:lnTo>
                <a:lnTo>
                  <a:pt x="26" y="92"/>
                </a:lnTo>
                <a:lnTo>
                  <a:pt x="26" y="93"/>
                </a:lnTo>
                <a:lnTo>
                  <a:pt x="24" y="94"/>
                </a:lnTo>
                <a:lnTo>
                  <a:pt x="23" y="97"/>
                </a:lnTo>
                <a:lnTo>
                  <a:pt x="23" y="98"/>
                </a:lnTo>
                <a:lnTo>
                  <a:pt x="22" y="99"/>
                </a:lnTo>
                <a:lnTo>
                  <a:pt x="21" y="101"/>
                </a:lnTo>
                <a:lnTo>
                  <a:pt x="21" y="102"/>
                </a:lnTo>
                <a:lnTo>
                  <a:pt x="20" y="103"/>
                </a:lnTo>
                <a:lnTo>
                  <a:pt x="19" y="105"/>
                </a:lnTo>
                <a:lnTo>
                  <a:pt x="18" y="106"/>
                </a:lnTo>
                <a:lnTo>
                  <a:pt x="17" y="107"/>
                </a:lnTo>
                <a:lnTo>
                  <a:pt x="15" y="110"/>
                </a:lnTo>
                <a:lnTo>
                  <a:pt x="14" y="111"/>
                </a:lnTo>
                <a:lnTo>
                  <a:pt x="13" y="112"/>
                </a:lnTo>
                <a:lnTo>
                  <a:pt x="11" y="115"/>
                </a:lnTo>
                <a:lnTo>
                  <a:pt x="9" y="116"/>
                </a:lnTo>
                <a:lnTo>
                  <a:pt x="8" y="117"/>
                </a:lnTo>
                <a:lnTo>
                  <a:pt x="6" y="120"/>
                </a:lnTo>
                <a:lnTo>
                  <a:pt x="5" y="121"/>
                </a:lnTo>
                <a:lnTo>
                  <a:pt x="4" y="122"/>
                </a:lnTo>
                <a:lnTo>
                  <a:pt x="1" y="125"/>
                </a:lnTo>
                <a:lnTo>
                  <a:pt x="0" y="127"/>
                </a:lnTo>
                <a:lnTo>
                  <a:pt x="1" y="129"/>
                </a:lnTo>
                <a:lnTo>
                  <a:pt x="4" y="132"/>
                </a:lnTo>
                <a:lnTo>
                  <a:pt x="6" y="134"/>
                </a:lnTo>
                <a:lnTo>
                  <a:pt x="7" y="134"/>
                </a:lnTo>
                <a:lnTo>
                  <a:pt x="11" y="131"/>
                </a:lnTo>
                <a:lnTo>
                  <a:pt x="13" y="130"/>
                </a:lnTo>
                <a:lnTo>
                  <a:pt x="14" y="129"/>
                </a:lnTo>
                <a:lnTo>
                  <a:pt x="17" y="126"/>
                </a:lnTo>
                <a:lnTo>
                  <a:pt x="18" y="124"/>
                </a:lnTo>
                <a:lnTo>
                  <a:pt x="19" y="123"/>
                </a:lnTo>
                <a:lnTo>
                  <a:pt x="21" y="120"/>
                </a:lnTo>
                <a:lnTo>
                  <a:pt x="22" y="119"/>
                </a:lnTo>
                <a:lnTo>
                  <a:pt x="23" y="118"/>
                </a:lnTo>
                <a:lnTo>
                  <a:pt x="26" y="115"/>
                </a:lnTo>
                <a:lnTo>
                  <a:pt x="27" y="114"/>
                </a:lnTo>
                <a:lnTo>
                  <a:pt x="28" y="113"/>
                </a:lnTo>
                <a:lnTo>
                  <a:pt x="29" y="110"/>
                </a:lnTo>
                <a:lnTo>
                  <a:pt x="30" y="109"/>
                </a:lnTo>
                <a:lnTo>
                  <a:pt x="31" y="108"/>
                </a:lnTo>
                <a:lnTo>
                  <a:pt x="32" y="105"/>
                </a:lnTo>
                <a:lnTo>
                  <a:pt x="33" y="104"/>
                </a:lnTo>
                <a:lnTo>
                  <a:pt x="34" y="103"/>
                </a:lnTo>
                <a:lnTo>
                  <a:pt x="35" y="100"/>
                </a:lnTo>
                <a:lnTo>
                  <a:pt x="35" y="99"/>
                </a:lnTo>
                <a:lnTo>
                  <a:pt x="36" y="98"/>
                </a:lnTo>
                <a:lnTo>
                  <a:pt x="37" y="96"/>
                </a:lnTo>
                <a:lnTo>
                  <a:pt x="38" y="93"/>
                </a:lnTo>
                <a:lnTo>
                  <a:pt x="38" y="91"/>
                </a:lnTo>
                <a:lnTo>
                  <a:pt x="38" y="90"/>
                </a:lnTo>
                <a:lnTo>
                  <a:pt x="39" y="89"/>
                </a:lnTo>
                <a:lnTo>
                  <a:pt x="39" y="86"/>
                </a:lnTo>
                <a:lnTo>
                  <a:pt x="39" y="85"/>
                </a:lnTo>
                <a:lnTo>
                  <a:pt x="41" y="84"/>
                </a:lnTo>
                <a:lnTo>
                  <a:pt x="41" y="82"/>
                </a:lnTo>
                <a:lnTo>
                  <a:pt x="41" y="81"/>
                </a:lnTo>
                <a:lnTo>
                  <a:pt x="42" y="80"/>
                </a:lnTo>
                <a:lnTo>
                  <a:pt x="42" y="79"/>
                </a:lnTo>
                <a:lnTo>
                  <a:pt x="42" y="78"/>
                </a:lnTo>
                <a:lnTo>
                  <a:pt x="43" y="77"/>
                </a:lnTo>
                <a:lnTo>
                  <a:pt x="43" y="75"/>
                </a:lnTo>
                <a:lnTo>
                  <a:pt x="43" y="74"/>
                </a:lnTo>
                <a:lnTo>
                  <a:pt x="44" y="73"/>
                </a:lnTo>
                <a:lnTo>
                  <a:pt x="44" y="71"/>
                </a:lnTo>
                <a:lnTo>
                  <a:pt x="44" y="70"/>
                </a:lnTo>
                <a:lnTo>
                  <a:pt x="44" y="69"/>
                </a:lnTo>
                <a:lnTo>
                  <a:pt x="44" y="68"/>
                </a:lnTo>
                <a:lnTo>
                  <a:pt x="44" y="67"/>
                </a:lnTo>
                <a:lnTo>
                  <a:pt x="44" y="66"/>
                </a:lnTo>
                <a:lnTo>
                  <a:pt x="44" y="65"/>
                </a:lnTo>
                <a:lnTo>
                  <a:pt x="44" y="64"/>
                </a:lnTo>
                <a:lnTo>
                  <a:pt x="45" y="63"/>
                </a:lnTo>
                <a:lnTo>
                  <a:pt x="45" y="62"/>
                </a:lnTo>
                <a:lnTo>
                  <a:pt x="45" y="61"/>
                </a:lnTo>
                <a:lnTo>
                  <a:pt x="45" y="60"/>
                </a:lnTo>
                <a:lnTo>
                  <a:pt x="45" y="59"/>
                </a:lnTo>
                <a:lnTo>
                  <a:pt x="45" y="58"/>
                </a:lnTo>
                <a:lnTo>
                  <a:pt x="46" y="57"/>
                </a:lnTo>
                <a:lnTo>
                  <a:pt x="46" y="56"/>
                </a:lnTo>
                <a:lnTo>
                  <a:pt x="46" y="55"/>
                </a:lnTo>
                <a:lnTo>
                  <a:pt x="46" y="54"/>
                </a:lnTo>
                <a:lnTo>
                  <a:pt x="46" y="53"/>
                </a:lnTo>
                <a:lnTo>
                  <a:pt x="46" y="52"/>
                </a:lnTo>
                <a:lnTo>
                  <a:pt x="47" y="51"/>
                </a:lnTo>
                <a:lnTo>
                  <a:pt x="47" y="50"/>
                </a:lnTo>
                <a:lnTo>
                  <a:pt x="47" y="49"/>
                </a:lnTo>
                <a:lnTo>
                  <a:pt x="48" y="48"/>
                </a:lnTo>
                <a:lnTo>
                  <a:pt x="48" y="47"/>
                </a:lnTo>
                <a:lnTo>
                  <a:pt x="48" y="46"/>
                </a:lnTo>
                <a:lnTo>
                  <a:pt x="49" y="45"/>
                </a:lnTo>
                <a:lnTo>
                  <a:pt x="50" y="44"/>
                </a:lnTo>
                <a:lnTo>
                  <a:pt x="51" y="43"/>
                </a:lnTo>
                <a:lnTo>
                  <a:pt x="51" y="42"/>
                </a:lnTo>
                <a:lnTo>
                  <a:pt x="51" y="40"/>
                </a:lnTo>
                <a:lnTo>
                  <a:pt x="52" y="39"/>
                </a:lnTo>
                <a:lnTo>
                  <a:pt x="53" y="38"/>
                </a:lnTo>
                <a:lnTo>
                  <a:pt x="55" y="37"/>
                </a:lnTo>
                <a:lnTo>
                  <a:pt x="56" y="36"/>
                </a:lnTo>
                <a:lnTo>
                  <a:pt x="57" y="35"/>
                </a:lnTo>
                <a:lnTo>
                  <a:pt x="58" y="33"/>
                </a:lnTo>
                <a:lnTo>
                  <a:pt x="60" y="31"/>
                </a:lnTo>
                <a:lnTo>
                  <a:pt x="61" y="30"/>
                </a:lnTo>
                <a:lnTo>
                  <a:pt x="62" y="29"/>
                </a:lnTo>
                <a:lnTo>
                  <a:pt x="63" y="28"/>
                </a:lnTo>
                <a:lnTo>
                  <a:pt x="64" y="27"/>
                </a:lnTo>
                <a:lnTo>
                  <a:pt x="65" y="26"/>
                </a:lnTo>
                <a:lnTo>
                  <a:pt x="68" y="25"/>
                </a:lnTo>
                <a:lnTo>
                  <a:pt x="70" y="24"/>
                </a:lnTo>
                <a:lnTo>
                  <a:pt x="71" y="23"/>
                </a:lnTo>
                <a:lnTo>
                  <a:pt x="74" y="21"/>
                </a:lnTo>
                <a:lnTo>
                  <a:pt x="75" y="20"/>
                </a:lnTo>
                <a:lnTo>
                  <a:pt x="76" y="19"/>
                </a:lnTo>
                <a:lnTo>
                  <a:pt x="79" y="17"/>
                </a:lnTo>
                <a:lnTo>
                  <a:pt x="81" y="16"/>
                </a:lnTo>
                <a:lnTo>
                  <a:pt x="82" y="15"/>
                </a:lnTo>
                <a:lnTo>
                  <a:pt x="86" y="13"/>
                </a:lnTo>
                <a:lnTo>
                  <a:pt x="88" y="12"/>
                </a:lnTo>
                <a:lnTo>
                  <a:pt x="89" y="11"/>
                </a:lnTo>
                <a:lnTo>
                  <a:pt x="88" y="11"/>
                </a:lnTo>
                <a:lnTo>
                  <a:pt x="85" y="11"/>
                </a:lnTo>
                <a:lnTo>
                  <a:pt x="82" y="11"/>
                </a:lnTo>
                <a:lnTo>
                  <a:pt x="83" y="10"/>
                </a:lnTo>
                <a:lnTo>
                  <a:pt x="87" y="6"/>
                </a:lnTo>
                <a:lnTo>
                  <a:pt x="89" y="3"/>
                </a:lnTo>
                <a:lnTo>
                  <a:pt x="90" y="2"/>
                </a:lnTo>
                <a:lnTo>
                  <a:pt x="88" y="1"/>
                </a:lnTo>
                <a:lnTo>
                  <a:pt x="87" y="0"/>
                </a:lnTo>
                <a:lnTo>
                  <a:pt x="86" y="1"/>
                </a:lnTo>
                <a:lnTo>
                  <a:pt x="85" y="2"/>
                </a:lnTo>
                <a:lnTo>
                  <a:pt x="83" y="2"/>
                </a:lnTo>
                <a:lnTo>
                  <a:pt x="90" y="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Freeform 211"/>
          <p:cNvSpPr/>
          <p:nvPr/>
        </p:nvSpPr>
        <p:spPr>
          <a:xfrm>
            <a:off x="3614760" y="4978440"/>
            <a:ext cx="74520" cy="76320"/>
          </a:xfrm>
          <a:custGeom>
            <a:avLst/>
            <a:gdLst>
              <a:gd name="textAreaLeft" fmla="*/ 0 w 74520"/>
              <a:gd name="textAreaRight" fmla="*/ 74880 w 74520"/>
              <a:gd name="textAreaTop" fmla="*/ 0 h 76320"/>
              <a:gd name="textAreaBottom" fmla="*/ 76680 h 76320"/>
            </a:gdLst>
            <a:ahLst/>
            <a:rect l="textAreaLeft" t="textAreaTop" r="textAreaRight" b="textAreaBottom"/>
            <a:pathLst>
              <a:path w="94" h="96">
                <a:moveTo>
                  <a:pt x="94" y="86"/>
                </a:moveTo>
                <a:lnTo>
                  <a:pt x="94" y="86"/>
                </a:lnTo>
                <a:lnTo>
                  <a:pt x="92" y="85"/>
                </a:lnTo>
                <a:lnTo>
                  <a:pt x="90" y="84"/>
                </a:lnTo>
                <a:lnTo>
                  <a:pt x="88" y="83"/>
                </a:lnTo>
                <a:lnTo>
                  <a:pt x="88" y="82"/>
                </a:lnTo>
                <a:lnTo>
                  <a:pt x="87" y="82"/>
                </a:lnTo>
                <a:lnTo>
                  <a:pt x="86" y="82"/>
                </a:lnTo>
                <a:lnTo>
                  <a:pt x="85" y="82"/>
                </a:lnTo>
                <a:lnTo>
                  <a:pt x="85" y="81"/>
                </a:lnTo>
                <a:lnTo>
                  <a:pt x="83" y="80"/>
                </a:lnTo>
                <a:lnTo>
                  <a:pt x="83" y="79"/>
                </a:lnTo>
                <a:lnTo>
                  <a:pt x="81" y="78"/>
                </a:lnTo>
                <a:lnTo>
                  <a:pt x="80" y="77"/>
                </a:lnTo>
                <a:lnTo>
                  <a:pt x="78" y="75"/>
                </a:lnTo>
                <a:lnTo>
                  <a:pt x="78" y="74"/>
                </a:lnTo>
                <a:lnTo>
                  <a:pt x="75" y="73"/>
                </a:lnTo>
                <a:lnTo>
                  <a:pt x="75" y="72"/>
                </a:lnTo>
                <a:lnTo>
                  <a:pt x="73" y="71"/>
                </a:lnTo>
                <a:lnTo>
                  <a:pt x="72" y="70"/>
                </a:lnTo>
                <a:lnTo>
                  <a:pt x="70" y="68"/>
                </a:lnTo>
                <a:lnTo>
                  <a:pt x="70" y="67"/>
                </a:lnTo>
                <a:lnTo>
                  <a:pt x="68" y="65"/>
                </a:lnTo>
                <a:lnTo>
                  <a:pt x="68" y="64"/>
                </a:lnTo>
                <a:lnTo>
                  <a:pt x="66" y="63"/>
                </a:lnTo>
                <a:lnTo>
                  <a:pt x="66" y="62"/>
                </a:lnTo>
                <a:lnTo>
                  <a:pt x="64" y="61"/>
                </a:lnTo>
                <a:lnTo>
                  <a:pt x="63" y="60"/>
                </a:lnTo>
                <a:lnTo>
                  <a:pt x="63" y="59"/>
                </a:lnTo>
                <a:lnTo>
                  <a:pt x="60" y="57"/>
                </a:lnTo>
                <a:lnTo>
                  <a:pt x="60" y="56"/>
                </a:lnTo>
                <a:lnTo>
                  <a:pt x="58" y="54"/>
                </a:lnTo>
                <a:lnTo>
                  <a:pt x="58" y="53"/>
                </a:lnTo>
                <a:lnTo>
                  <a:pt x="56" y="51"/>
                </a:lnTo>
                <a:lnTo>
                  <a:pt x="56" y="50"/>
                </a:lnTo>
                <a:lnTo>
                  <a:pt x="54" y="48"/>
                </a:lnTo>
                <a:lnTo>
                  <a:pt x="54" y="47"/>
                </a:lnTo>
                <a:lnTo>
                  <a:pt x="52" y="46"/>
                </a:lnTo>
                <a:lnTo>
                  <a:pt x="51" y="45"/>
                </a:lnTo>
                <a:lnTo>
                  <a:pt x="51" y="44"/>
                </a:lnTo>
                <a:lnTo>
                  <a:pt x="49" y="42"/>
                </a:lnTo>
                <a:lnTo>
                  <a:pt x="49" y="41"/>
                </a:lnTo>
                <a:lnTo>
                  <a:pt x="46" y="38"/>
                </a:lnTo>
                <a:lnTo>
                  <a:pt x="46" y="37"/>
                </a:lnTo>
                <a:lnTo>
                  <a:pt x="44" y="36"/>
                </a:lnTo>
                <a:lnTo>
                  <a:pt x="43" y="35"/>
                </a:lnTo>
                <a:lnTo>
                  <a:pt x="43" y="34"/>
                </a:lnTo>
                <a:lnTo>
                  <a:pt x="41" y="32"/>
                </a:lnTo>
                <a:lnTo>
                  <a:pt x="41" y="31"/>
                </a:lnTo>
                <a:lnTo>
                  <a:pt x="39" y="29"/>
                </a:lnTo>
                <a:lnTo>
                  <a:pt x="39" y="28"/>
                </a:lnTo>
                <a:lnTo>
                  <a:pt x="37" y="26"/>
                </a:lnTo>
                <a:lnTo>
                  <a:pt x="36" y="25"/>
                </a:lnTo>
                <a:lnTo>
                  <a:pt x="36" y="24"/>
                </a:lnTo>
                <a:lnTo>
                  <a:pt x="34" y="22"/>
                </a:lnTo>
                <a:lnTo>
                  <a:pt x="34" y="21"/>
                </a:lnTo>
                <a:lnTo>
                  <a:pt x="31" y="20"/>
                </a:lnTo>
                <a:lnTo>
                  <a:pt x="30" y="19"/>
                </a:lnTo>
                <a:lnTo>
                  <a:pt x="28" y="18"/>
                </a:lnTo>
                <a:lnTo>
                  <a:pt x="27" y="17"/>
                </a:lnTo>
                <a:lnTo>
                  <a:pt x="27" y="16"/>
                </a:lnTo>
                <a:lnTo>
                  <a:pt x="25" y="15"/>
                </a:lnTo>
                <a:lnTo>
                  <a:pt x="24" y="14"/>
                </a:lnTo>
                <a:lnTo>
                  <a:pt x="24" y="13"/>
                </a:lnTo>
                <a:lnTo>
                  <a:pt x="22" y="12"/>
                </a:lnTo>
                <a:lnTo>
                  <a:pt x="21" y="11"/>
                </a:lnTo>
                <a:lnTo>
                  <a:pt x="21" y="10"/>
                </a:lnTo>
                <a:lnTo>
                  <a:pt x="19" y="9"/>
                </a:lnTo>
                <a:lnTo>
                  <a:pt x="18" y="8"/>
                </a:lnTo>
                <a:lnTo>
                  <a:pt x="18" y="7"/>
                </a:lnTo>
                <a:lnTo>
                  <a:pt x="15" y="6"/>
                </a:lnTo>
                <a:lnTo>
                  <a:pt x="14" y="5"/>
                </a:lnTo>
                <a:lnTo>
                  <a:pt x="12" y="4"/>
                </a:lnTo>
                <a:lnTo>
                  <a:pt x="11" y="3"/>
                </a:lnTo>
                <a:lnTo>
                  <a:pt x="11" y="2"/>
                </a:lnTo>
                <a:lnTo>
                  <a:pt x="9" y="1"/>
                </a:lnTo>
                <a:lnTo>
                  <a:pt x="8" y="0"/>
                </a:lnTo>
                <a:lnTo>
                  <a:pt x="7" y="1"/>
                </a:lnTo>
                <a:lnTo>
                  <a:pt x="6" y="2"/>
                </a:lnTo>
                <a:lnTo>
                  <a:pt x="3" y="6"/>
                </a:lnTo>
                <a:lnTo>
                  <a:pt x="0" y="9"/>
                </a:lnTo>
                <a:lnTo>
                  <a:pt x="3" y="11"/>
                </a:lnTo>
                <a:lnTo>
                  <a:pt x="5" y="11"/>
                </a:lnTo>
                <a:lnTo>
                  <a:pt x="6" y="13"/>
                </a:lnTo>
                <a:lnTo>
                  <a:pt x="7" y="13"/>
                </a:lnTo>
                <a:lnTo>
                  <a:pt x="8" y="15"/>
                </a:lnTo>
                <a:lnTo>
                  <a:pt x="9" y="16"/>
                </a:lnTo>
                <a:lnTo>
                  <a:pt x="10" y="16"/>
                </a:lnTo>
                <a:lnTo>
                  <a:pt x="12" y="18"/>
                </a:lnTo>
                <a:lnTo>
                  <a:pt x="13" y="18"/>
                </a:lnTo>
                <a:lnTo>
                  <a:pt x="14" y="20"/>
                </a:lnTo>
                <a:lnTo>
                  <a:pt x="15" y="21"/>
                </a:lnTo>
                <a:lnTo>
                  <a:pt x="16" y="21"/>
                </a:lnTo>
                <a:lnTo>
                  <a:pt x="18" y="23"/>
                </a:lnTo>
                <a:lnTo>
                  <a:pt x="19" y="23"/>
                </a:lnTo>
                <a:lnTo>
                  <a:pt x="20" y="25"/>
                </a:lnTo>
                <a:lnTo>
                  <a:pt x="21" y="26"/>
                </a:lnTo>
                <a:lnTo>
                  <a:pt x="22" y="26"/>
                </a:lnTo>
                <a:lnTo>
                  <a:pt x="23" y="28"/>
                </a:lnTo>
                <a:lnTo>
                  <a:pt x="24" y="29"/>
                </a:lnTo>
                <a:lnTo>
                  <a:pt x="25" y="31"/>
                </a:lnTo>
                <a:lnTo>
                  <a:pt x="26" y="32"/>
                </a:lnTo>
                <a:lnTo>
                  <a:pt x="27" y="32"/>
                </a:lnTo>
                <a:lnTo>
                  <a:pt x="28" y="34"/>
                </a:lnTo>
                <a:lnTo>
                  <a:pt x="29" y="34"/>
                </a:lnTo>
                <a:lnTo>
                  <a:pt x="30" y="36"/>
                </a:lnTo>
                <a:lnTo>
                  <a:pt x="31" y="37"/>
                </a:lnTo>
                <a:lnTo>
                  <a:pt x="33" y="40"/>
                </a:lnTo>
                <a:lnTo>
                  <a:pt x="34" y="41"/>
                </a:lnTo>
                <a:lnTo>
                  <a:pt x="35" y="41"/>
                </a:lnTo>
                <a:lnTo>
                  <a:pt x="36" y="43"/>
                </a:lnTo>
                <a:lnTo>
                  <a:pt x="37" y="44"/>
                </a:lnTo>
                <a:lnTo>
                  <a:pt x="38" y="46"/>
                </a:lnTo>
                <a:lnTo>
                  <a:pt x="39" y="47"/>
                </a:lnTo>
                <a:lnTo>
                  <a:pt x="40" y="49"/>
                </a:lnTo>
                <a:lnTo>
                  <a:pt x="41" y="50"/>
                </a:lnTo>
                <a:lnTo>
                  <a:pt x="42" y="52"/>
                </a:lnTo>
                <a:lnTo>
                  <a:pt x="43" y="53"/>
                </a:lnTo>
                <a:lnTo>
                  <a:pt x="44" y="53"/>
                </a:lnTo>
                <a:lnTo>
                  <a:pt x="45" y="56"/>
                </a:lnTo>
                <a:lnTo>
                  <a:pt x="46" y="57"/>
                </a:lnTo>
                <a:lnTo>
                  <a:pt x="48" y="59"/>
                </a:lnTo>
                <a:lnTo>
                  <a:pt x="49" y="60"/>
                </a:lnTo>
                <a:lnTo>
                  <a:pt x="50" y="62"/>
                </a:lnTo>
                <a:lnTo>
                  <a:pt x="51" y="63"/>
                </a:lnTo>
                <a:lnTo>
                  <a:pt x="52" y="65"/>
                </a:lnTo>
                <a:lnTo>
                  <a:pt x="53" y="66"/>
                </a:lnTo>
                <a:lnTo>
                  <a:pt x="54" y="66"/>
                </a:lnTo>
                <a:lnTo>
                  <a:pt x="55" y="68"/>
                </a:lnTo>
                <a:lnTo>
                  <a:pt x="56" y="68"/>
                </a:lnTo>
                <a:lnTo>
                  <a:pt x="57" y="70"/>
                </a:lnTo>
                <a:lnTo>
                  <a:pt x="58" y="71"/>
                </a:lnTo>
                <a:lnTo>
                  <a:pt x="59" y="73"/>
                </a:lnTo>
                <a:lnTo>
                  <a:pt x="60" y="74"/>
                </a:lnTo>
                <a:lnTo>
                  <a:pt x="62" y="74"/>
                </a:lnTo>
                <a:lnTo>
                  <a:pt x="63" y="76"/>
                </a:lnTo>
                <a:lnTo>
                  <a:pt x="64" y="77"/>
                </a:lnTo>
                <a:lnTo>
                  <a:pt x="65" y="79"/>
                </a:lnTo>
                <a:lnTo>
                  <a:pt x="66" y="80"/>
                </a:lnTo>
                <a:lnTo>
                  <a:pt x="67" y="80"/>
                </a:lnTo>
                <a:lnTo>
                  <a:pt x="68" y="82"/>
                </a:lnTo>
                <a:lnTo>
                  <a:pt x="69" y="82"/>
                </a:lnTo>
                <a:lnTo>
                  <a:pt x="70" y="84"/>
                </a:lnTo>
                <a:lnTo>
                  <a:pt x="71" y="85"/>
                </a:lnTo>
                <a:lnTo>
                  <a:pt x="72" y="85"/>
                </a:lnTo>
                <a:lnTo>
                  <a:pt x="74" y="87"/>
                </a:lnTo>
                <a:lnTo>
                  <a:pt x="75" y="87"/>
                </a:lnTo>
                <a:lnTo>
                  <a:pt x="78" y="89"/>
                </a:lnTo>
                <a:lnTo>
                  <a:pt x="79" y="89"/>
                </a:lnTo>
                <a:lnTo>
                  <a:pt x="80" y="91"/>
                </a:lnTo>
                <a:lnTo>
                  <a:pt x="81" y="92"/>
                </a:lnTo>
                <a:lnTo>
                  <a:pt x="82" y="92"/>
                </a:lnTo>
                <a:lnTo>
                  <a:pt x="84" y="95"/>
                </a:lnTo>
                <a:lnTo>
                  <a:pt x="85" y="95"/>
                </a:lnTo>
                <a:lnTo>
                  <a:pt x="87" y="96"/>
                </a:lnTo>
                <a:lnTo>
                  <a:pt x="88" y="96"/>
                </a:lnTo>
                <a:lnTo>
                  <a:pt x="94" y="86"/>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13" name="Freeform 212"/>
          <p:cNvSpPr/>
          <p:nvPr/>
        </p:nvSpPr>
        <p:spPr>
          <a:xfrm>
            <a:off x="3684600" y="5046840"/>
            <a:ext cx="33480" cy="98280"/>
          </a:xfrm>
          <a:custGeom>
            <a:avLst/>
            <a:gdLst>
              <a:gd name="textAreaLeft" fmla="*/ 0 w 33480"/>
              <a:gd name="textAreaRight" fmla="*/ 33480 w 33480"/>
              <a:gd name="textAreaTop" fmla="*/ 0 h 98280"/>
              <a:gd name="textAreaBottom" fmla="*/ 98640 h 98280"/>
            </a:gdLst>
            <a:ahLst/>
            <a:rect l="textAreaLeft" t="textAreaTop" r="textAreaRight" b="textAreaBottom"/>
            <a:pathLst>
              <a:path w="41" h="125">
                <a:moveTo>
                  <a:pt x="39" y="125"/>
                </a:moveTo>
                <a:lnTo>
                  <a:pt x="39" y="125"/>
                </a:lnTo>
                <a:lnTo>
                  <a:pt x="39" y="124"/>
                </a:lnTo>
                <a:lnTo>
                  <a:pt x="39" y="123"/>
                </a:lnTo>
                <a:lnTo>
                  <a:pt x="39" y="122"/>
                </a:lnTo>
                <a:lnTo>
                  <a:pt x="39" y="121"/>
                </a:lnTo>
                <a:lnTo>
                  <a:pt x="39" y="120"/>
                </a:lnTo>
                <a:lnTo>
                  <a:pt x="40" y="119"/>
                </a:lnTo>
                <a:lnTo>
                  <a:pt x="40" y="117"/>
                </a:lnTo>
                <a:lnTo>
                  <a:pt x="40" y="115"/>
                </a:lnTo>
                <a:lnTo>
                  <a:pt x="40" y="114"/>
                </a:lnTo>
                <a:lnTo>
                  <a:pt x="40" y="112"/>
                </a:lnTo>
                <a:lnTo>
                  <a:pt x="40" y="111"/>
                </a:lnTo>
                <a:lnTo>
                  <a:pt x="40" y="110"/>
                </a:lnTo>
                <a:lnTo>
                  <a:pt x="40" y="109"/>
                </a:lnTo>
                <a:lnTo>
                  <a:pt x="40" y="108"/>
                </a:lnTo>
                <a:lnTo>
                  <a:pt x="40" y="107"/>
                </a:lnTo>
                <a:lnTo>
                  <a:pt x="40" y="105"/>
                </a:lnTo>
                <a:lnTo>
                  <a:pt x="40" y="104"/>
                </a:lnTo>
                <a:lnTo>
                  <a:pt x="41" y="103"/>
                </a:lnTo>
                <a:lnTo>
                  <a:pt x="41" y="100"/>
                </a:lnTo>
                <a:lnTo>
                  <a:pt x="41" y="99"/>
                </a:lnTo>
                <a:lnTo>
                  <a:pt x="41" y="98"/>
                </a:lnTo>
                <a:lnTo>
                  <a:pt x="41" y="96"/>
                </a:lnTo>
                <a:lnTo>
                  <a:pt x="41" y="95"/>
                </a:lnTo>
                <a:lnTo>
                  <a:pt x="41" y="94"/>
                </a:lnTo>
                <a:lnTo>
                  <a:pt x="41" y="92"/>
                </a:lnTo>
                <a:lnTo>
                  <a:pt x="41" y="91"/>
                </a:lnTo>
                <a:lnTo>
                  <a:pt x="41" y="90"/>
                </a:lnTo>
                <a:lnTo>
                  <a:pt x="41" y="88"/>
                </a:lnTo>
                <a:lnTo>
                  <a:pt x="41" y="87"/>
                </a:lnTo>
                <a:lnTo>
                  <a:pt x="41" y="86"/>
                </a:lnTo>
                <a:lnTo>
                  <a:pt x="41" y="83"/>
                </a:lnTo>
                <a:lnTo>
                  <a:pt x="41" y="82"/>
                </a:lnTo>
                <a:lnTo>
                  <a:pt x="41" y="81"/>
                </a:lnTo>
                <a:lnTo>
                  <a:pt x="40" y="79"/>
                </a:lnTo>
                <a:lnTo>
                  <a:pt x="40" y="78"/>
                </a:lnTo>
                <a:lnTo>
                  <a:pt x="40" y="77"/>
                </a:lnTo>
                <a:lnTo>
                  <a:pt x="40" y="74"/>
                </a:lnTo>
                <a:lnTo>
                  <a:pt x="40" y="73"/>
                </a:lnTo>
                <a:lnTo>
                  <a:pt x="40" y="72"/>
                </a:lnTo>
                <a:lnTo>
                  <a:pt x="40" y="70"/>
                </a:lnTo>
                <a:lnTo>
                  <a:pt x="40" y="69"/>
                </a:lnTo>
                <a:lnTo>
                  <a:pt x="40" y="68"/>
                </a:lnTo>
                <a:lnTo>
                  <a:pt x="39" y="65"/>
                </a:lnTo>
                <a:lnTo>
                  <a:pt x="39" y="64"/>
                </a:lnTo>
                <a:lnTo>
                  <a:pt x="39" y="63"/>
                </a:lnTo>
                <a:lnTo>
                  <a:pt x="38" y="60"/>
                </a:lnTo>
                <a:lnTo>
                  <a:pt x="38" y="59"/>
                </a:lnTo>
                <a:lnTo>
                  <a:pt x="38" y="58"/>
                </a:lnTo>
                <a:lnTo>
                  <a:pt x="38" y="55"/>
                </a:lnTo>
                <a:lnTo>
                  <a:pt x="38" y="54"/>
                </a:lnTo>
                <a:lnTo>
                  <a:pt x="38" y="53"/>
                </a:lnTo>
                <a:lnTo>
                  <a:pt x="37" y="51"/>
                </a:lnTo>
                <a:lnTo>
                  <a:pt x="37" y="50"/>
                </a:lnTo>
                <a:lnTo>
                  <a:pt x="37" y="49"/>
                </a:lnTo>
                <a:lnTo>
                  <a:pt x="36" y="47"/>
                </a:lnTo>
                <a:lnTo>
                  <a:pt x="36" y="46"/>
                </a:lnTo>
                <a:lnTo>
                  <a:pt x="36" y="45"/>
                </a:lnTo>
                <a:lnTo>
                  <a:pt x="35" y="43"/>
                </a:lnTo>
                <a:lnTo>
                  <a:pt x="35" y="42"/>
                </a:lnTo>
                <a:lnTo>
                  <a:pt x="35" y="41"/>
                </a:lnTo>
                <a:lnTo>
                  <a:pt x="34" y="38"/>
                </a:lnTo>
                <a:lnTo>
                  <a:pt x="34" y="37"/>
                </a:lnTo>
                <a:lnTo>
                  <a:pt x="34" y="36"/>
                </a:lnTo>
                <a:lnTo>
                  <a:pt x="31" y="34"/>
                </a:lnTo>
                <a:lnTo>
                  <a:pt x="31" y="32"/>
                </a:lnTo>
                <a:lnTo>
                  <a:pt x="30" y="30"/>
                </a:lnTo>
                <a:lnTo>
                  <a:pt x="30" y="29"/>
                </a:lnTo>
                <a:lnTo>
                  <a:pt x="30" y="28"/>
                </a:lnTo>
                <a:lnTo>
                  <a:pt x="28" y="26"/>
                </a:lnTo>
                <a:lnTo>
                  <a:pt x="28" y="25"/>
                </a:lnTo>
                <a:lnTo>
                  <a:pt x="26" y="23"/>
                </a:lnTo>
                <a:lnTo>
                  <a:pt x="26" y="21"/>
                </a:lnTo>
                <a:lnTo>
                  <a:pt x="24" y="19"/>
                </a:lnTo>
                <a:lnTo>
                  <a:pt x="24" y="17"/>
                </a:lnTo>
                <a:lnTo>
                  <a:pt x="22" y="15"/>
                </a:lnTo>
                <a:lnTo>
                  <a:pt x="22" y="14"/>
                </a:lnTo>
                <a:lnTo>
                  <a:pt x="20" y="13"/>
                </a:lnTo>
                <a:lnTo>
                  <a:pt x="19" y="12"/>
                </a:lnTo>
                <a:lnTo>
                  <a:pt x="19" y="11"/>
                </a:lnTo>
                <a:lnTo>
                  <a:pt x="16" y="9"/>
                </a:lnTo>
                <a:lnTo>
                  <a:pt x="16" y="8"/>
                </a:lnTo>
                <a:lnTo>
                  <a:pt x="14" y="6"/>
                </a:lnTo>
                <a:lnTo>
                  <a:pt x="13" y="5"/>
                </a:lnTo>
                <a:lnTo>
                  <a:pt x="13" y="4"/>
                </a:lnTo>
                <a:lnTo>
                  <a:pt x="11" y="3"/>
                </a:lnTo>
                <a:lnTo>
                  <a:pt x="10" y="2"/>
                </a:lnTo>
                <a:lnTo>
                  <a:pt x="7" y="1"/>
                </a:lnTo>
                <a:lnTo>
                  <a:pt x="6" y="0"/>
                </a:lnTo>
                <a:lnTo>
                  <a:pt x="5" y="1"/>
                </a:lnTo>
                <a:lnTo>
                  <a:pt x="1" y="6"/>
                </a:lnTo>
                <a:lnTo>
                  <a:pt x="0" y="10"/>
                </a:lnTo>
                <a:lnTo>
                  <a:pt x="1" y="12"/>
                </a:lnTo>
                <a:lnTo>
                  <a:pt x="2" y="12"/>
                </a:lnTo>
                <a:lnTo>
                  <a:pt x="5" y="14"/>
                </a:lnTo>
                <a:lnTo>
                  <a:pt x="6" y="14"/>
                </a:lnTo>
                <a:lnTo>
                  <a:pt x="7" y="16"/>
                </a:lnTo>
                <a:lnTo>
                  <a:pt x="8" y="16"/>
                </a:lnTo>
                <a:lnTo>
                  <a:pt x="9" y="18"/>
                </a:lnTo>
                <a:lnTo>
                  <a:pt x="10" y="18"/>
                </a:lnTo>
                <a:lnTo>
                  <a:pt x="11" y="20"/>
                </a:lnTo>
                <a:lnTo>
                  <a:pt x="12" y="20"/>
                </a:lnTo>
                <a:lnTo>
                  <a:pt x="13" y="22"/>
                </a:lnTo>
                <a:lnTo>
                  <a:pt x="14" y="23"/>
                </a:lnTo>
                <a:lnTo>
                  <a:pt x="14" y="24"/>
                </a:lnTo>
                <a:lnTo>
                  <a:pt x="14" y="25"/>
                </a:lnTo>
                <a:lnTo>
                  <a:pt x="14" y="26"/>
                </a:lnTo>
                <a:lnTo>
                  <a:pt x="15" y="26"/>
                </a:lnTo>
                <a:lnTo>
                  <a:pt x="16" y="28"/>
                </a:lnTo>
                <a:lnTo>
                  <a:pt x="17" y="29"/>
                </a:lnTo>
                <a:lnTo>
                  <a:pt x="17" y="30"/>
                </a:lnTo>
                <a:lnTo>
                  <a:pt x="17" y="32"/>
                </a:lnTo>
                <a:lnTo>
                  <a:pt x="17" y="33"/>
                </a:lnTo>
                <a:lnTo>
                  <a:pt x="19" y="33"/>
                </a:lnTo>
                <a:lnTo>
                  <a:pt x="20" y="35"/>
                </a:lnTo>
                <a:lnTo>
                  <a:pt x="21" y="36"/>
                </a:lnTo>
                <a:lnTo>
                  <a:pt x="21" y="37"/>
                </a:lnTo>
                <a:lnTo>
                  <a:pt x="21" y="39"/>
                </a:lnTo>
                <a:lnTo>
                  <a:pt x="21" y="40"/>
                </a:lnTo>
                <a:lnTo>
                  <a:pt x="22" y="40"/>
                </a:lnTo>
                <a:lnTo>
                  <a:pt x="22" y="41"/>
                </a:lnTo>
                <a:lnTo>
                  <a:pt x="22" y="42"/>
                </a:lnTo>
                <a:lnTo>
                  <a:pt x="22" y="43"/>
                </a:lnTo>
                <a:lnTo>
                  <a:pt x="23" y="43"/>
                </a:lnTo>
                <a:lnTo>
                  <a:pt x="23" y="44"/>
                </a:lnTo>
                <a:lnTo>
                  <a:pt x="23" y="46"/>
                </a:lnTo>
                <a:lnTo>
                  <a:pt x="23" y="47"/>
                </a:lnTo>
                <a:lnTo>
                  <a:pt x="24" y="47"/>
                </a:lnTo>
                <a:lnTo>
                  <a:pt x="24" y="48"/>
                </a:lnTo>
                <a:lnTo>
                  <a:pt x="24" y="50"/>
                </a:lnTo>
                <a:lnTo>
                  <a:pt x="24" y="51"/>
                </a:lnTo>
                <a:lnTo>
                  <a:pt x="25" y="51"/>
                </a:lnTo>
                <a:lnTo>
                  <a:pt x="25" y="52"/>
                </a:lnTo>
                <a:lnTo>
                  <a:pt x="25" y="54"/>
                </a:lnTo>
                <a:lnTo>
                  <a:pt x="25" y="55"/>
                </a:lnTo>
                <a:lnTo>
                  <a:pt x="26" y="55"/>
                </a:lnTo>
                <a:lnTo>
                  <a:pt x="26" y="56"/>
                </a:lnTo>
                <a:lnTo>
                  <a:pt x="26" y="59"/>
                </a:lnTo>
                <a:lnTo>
                  <a:pt x="26" y="60"/>
                </a:lnTo>
                <a:lnTo>
                  <a:pt x="27" y="60"/>
                </a:lnTo>
                <a:lnTo>
                  <a:pt x="27" y="61"/>
                </a:lnTo>
                <a:lnTo>
                  <a:pt x="27" y="64"/>
                </a:lnTo>
                <a:lnTo>
                  <a:pt x="27" y="65"/>
                </a:lnTo>
                <a:lnTo>
                  <a:pt x="27" y="66"/>
                </a:lnTo>
                <a:lnTo>
                  <a:pt x="27" y="68"/>
                </a:lnTo>
                <a:lnTo>
                  <a:pt x="27" y="69"/>
                </a:lnTo>
                <a:lnTo>
                  <a:pt x="28" y="69"/>
                </a:lnTo>
                <a:lnTo>
                  <a:pt x="28" y="70"/>
                </a:lnTo>
                <a:lnTo>
                  <a:pt x="28" y="72"/>
                </a:lnTo>
                <a:lnTo>
                  <a:pt x="28" y="73"/>
                </a:lnTo>
                <a:lnTo>
                  <a:pt x="28" y="74"/>
                </a:lnTo>
                <a:lnTo>
                  <a:pt x="28" y="77"/>
                </a:lnTo>
                <a:lnTo>
                  <a:pt x="28" y="78"/>
                </a:lnTo>
                <a:lnTo>
                  <a:pt x="28" y="79"/>
                </a:lnTo>
                <a:lnTo>
                  <a:pt x="28" y="81"/>
                </a:lnTo>
                <a:lnTo>
                  <a:pt x="28" y="82"/>
                </a:lnTo>
                <a:lnTo>
                  <a:pt x="29" y="82"/>
                </a:lnTo>
                <a:lnTo>
                  <a:pt x="29" y="83"/>
                </a:lnTo>
                <a:lnTo>
                  <a:pt x="29" y="85"/>
                </a:lnTo>
                <a:lnTo>
                  <a:pt x="29" y="86"/>
                </a:lnTo>
                <a:lnTo>
                  <a:pt x="29" y="87"/>
                </a:lnTo>
                <a:lnTo>
                  <a:pt x="29" y="89"/>
                </a:lnTo>
                <a:lnTo>
                  <a:pt x="29" y="90"/>
                </a:lnTo>
                <a:lnTo>
                  <a:pt x="29" y="91"/>
                </a:lnTo>
                <a:lnTo>
                  <a:pt x="29" y="93"/>
                </a:lnTo>
                <a:lnTo>
                  <a:pt x="29" y="94"/>
                </a:lnTo>
                <a:lnTo>
                  <a:pt x="29" y="95"/>
                </a:lnTo>
                <a:lnTo>
                  <a:pt x="29" y="97"/>
                </a:lnTo>
                <a:lnTo>
                  <a:pt x="29" y="98"/>
                </a:lnTo>
                <a:lnTo>
                  <a:pt x="29" y="99"/>
                </a:lnTo>
                <a:lnTo>
                  <a:pt x="29" y="101"/>
                </a:lnTo>
                <a:lnTo>
                  <a:pt x="29" y="102"/>
                </a:lnTo>
                <a:lnTo>
                  <a:pt x="28" y="105"/>
                </a:lnTo>
                <a:lnTo>
                  <a:pt x="28" y="106"/>
                </a:lnTo>
                <a:lnTo>
                  <a:pt x="28" y="107"/>
                </a:lnTo>
                <a:lnTo>
                  <a:pt x="28" y="109"/>
                </a:lnTo>
                <a:lnTo>
                  <a:pt x="28" y="110"/>
                </a:lnTo>
                <a:lnTo>
                  <a:pt x="28" y="111"/>
                </a:lnTo>
                <a:lnTo>
                  <a:pt x="28" y="112"/>
                </a:lnTo>
                <a:lnTo>
                  <a:pt x="28" y="113"/>
                </a:lnTo>
                <a:lnTo>
                  <a:pt x="28" y="114"/>
                </a:lnTo>
                <a:lnTo>
                  <a:pt x="28" y="117"/>
                </a:lnTo>
                <a:lnTo>
                  <a:pt x="28" y="118"/>
                </a:lnTo>
                <a:lnTo>
                  <a:pt x="27" y="120"/>
                </a:lnTo>
                <a:lnTo>
                  <a:pt x="27" y="121"/>
                </a:lnTo>
                <a:lnTo>
                  <a:pt x="27" y="122"/>
                </a:lnTo>
                <a:lnTo>
                  <a:pt x="27" y="123"/>
                </a:lnTo>
                <a:lnTo>
                  <a:pt x="27" y="124"/>
                </a:lnTo>
                <a:lnTo>
                  <a:pt x="39" y="12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213"/>
          <p:cNvSpPr/>
          <p:nvPr/>
        </p:nvSpPr>
        <p:spPr>
          <a:xfrm>
            <a:off x="3706920" y="51451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92" h="92">
                <a:moveTo>
                  <a:pt x="92" y="91"/>
                </a:moveTo>
                <a:lnTo>
                  <a:pt x="92" y="91"/>
                </a:lnTo>
                <a:lnTo>
                  <a:pt x="91" y="89"/>
                </a:lnTo>
                <a:lnTo>
                  <a:pt x="91" y="88"/>
                </a:lnTo>
                <a:lnTo>
                  <a:pt x="91" y="87"/>
                </a:lnTo>
                <a:lnTo>
                  <a:pt x="90" y="85"/>
                </a:lnTo>
                <a:lnTo>
                  <a:pt x="90" y="84"/>
                </a:lnTo>
                <a:lnTo>
                  <a:pt x="90" y="83"/>
                </a:lnTo>
                <a:lnTo>
                  <a:pt x="88" y="81"/>
                </a:lnTo>
                <a:lnTo>
                  <a:pt x="88" y="80"/>
                </a:lnTo>
                <a:lnTo>
                  <a:pt x="86" y="78"/>
                </a:lnTo>
                <a:lnTo>
                  <a:pt x="86" y="76"/>
                </a:lnTo>
                <a:lnTo>
                  <a:pt x="84" y="74"/>
                </a:lnTo>
                <a:lnTo>
                  <a:pt x="84" y="73"/>
                </a:lnTo>
                <a:lnTo>
                  <a:pt x="82" y="72"/>
                </a:lnTo>
                <a:lnTo>
                  <a:pt x="81" y="71"/>
                </a:lnTo>
                <a:lnTo>
                  <a:pt x="81" y="70"/>
                </a:lnTo>
                <a:lnTo>
                  <a:pt x="78" y="69"/>
                </a:lnTo>
                <a:lnTo>
                  <a:pt x="77" y="68"/>
                </a:lnTo>
                <a:lnTo>
                  <a:pt x="77" y="67"/>
                </a:lnTo>
                <a:lnTo>
                  <a:pt x="75" y="65"/>
                </a:lnTo>
                <a:lnTo>
                  <a:pt x="75" y="64"/>
                </a:lnTo>
                <a:lnTo>
                  <a:pt x="72" y="63"/>
                </a:lnTo>
                <a:lnTo>
                  <a:pt x="71" y="62"/>
                </a:lnTo>
                <a:lnTo>
                  <a:pt x="71" y="61"/>
                </a:lnTo>
                <a:lnTo>
                  <a:pt x="69" y="60"/>
                </a:lnTo>
                <a:lnTo>
                  <a:pt x="68" y="59"/>
                </a:lnTo>
                <a:lnTo>
                  <a:pt x="68" y="58"/>
                </a:lnTo>
                <a:lnTo>
                  <a:pt x="66" y="57"/>
                </a:lnTo>
                <a:lnTo>
                  <a:pt x="64" y="56"/>
                </a:lnTo>
                <a:lnTo>
                  <a:pt x="64" y="55"/>
                </a:lnTo>
                <a:lnTo>
                  <a:pt x="62" y="54"/>
                </a:lnTo>
                <a:lnTo>
                  <a:pt x="61" y="53"/>
                </a:lnTo>
                <a:lnTo>
                  <a:pt x="61" y="52"/>
                </a:lnTo>
                <a:lnTo>
                  <a:pt x="58" y="51"/>
                </a:lnTo>
                <a:lnTo>
                  <a:pt x="57" y="50"/>
                </a:lnTo>
                <a:lnTo>
                  <a:pt x="57" y="49"/>
                </a:lnTo>
                <a:lnTo>
                  <a:pt x="55" y="48"/>
                </a:lnTo>
                <a:lnTo>
                  <a:pt x="54" y="47"/>
                </a:lnTo>
                <a:lnTo>
                  <a:pt x="51" y="45"/>
                </a:lnTo>
                <a:lnTo>
                  <a:pt x="49" y="44"/>
                </a:lnTo>
                <a:lnTo>
                  <a:pt x="49" y="43"/>
                </a:lnTo>
                <a:lnTo>
                  <a:pt x="47" y="42"/>
                </a:lnTo>
                <a:lnTo>
                  <a:pt x="46" y="41"/>
                </a:lnTo>
                <a:lnTo>
                  <a:pt x="46" y="40"/>
                </a:lnTo>
                <a:lnTo>
                  <a:pt x="43" y="39"/>
                </a:lnTo>
                <a:lnTo>
                  <a:pt x="42" y="38"/>
                </a:lnTo>
                <a:lnTo>
                  <a:pt x="40" y="37"/>
                </a:lnTo>
                <a:lnTo>
                  <a:pt x="39" y="36"/>
                </a:lnTo>
                <a:lnTo>
                  <a:pt x="39" y="35"/>
                </a:lnTo>
                <a:lnTo>
                  <a:pt x="37" y="34"/>
                </a:lnTo>
                <a:lnTo>
                  <a:pt x="36" y="33"/>
                </a:lnTo>
                <a:lnTo>
                  <a:pt x="36" y="32"/>
                </a:lnTo>
                <a:lnTo>
                  <a:pt x="32" y="31"/>
                </a:lnTo>
                <a:lnTo>
                  <a:pt x="31" y="30"/>
                </a:lnTo>
                <a:lnTo>
                  <a:pt x="29" y="29"/>
                </a:lnTo>
                <a:lnTo>
                  <a:pt x="28" y="28"/>
                </a:lnTo>
                <a:lnTo>
                  <a:pt x="28" y="27"/>
                </a:lnTo>
                <a:lnTo>
                  <a:pt x="26" y="26"/>
                </a:lnTo>
                <a:lnTo>
                  <a:pt x="26" y="25"/>
                </a:lnTo>
                <a:lnTo>
                  <a:pt x="24" y="24"/>
                </a:lnTo>
                <a:lnTo>
                  <a:pt x="23" y="23"/>
                </a:lnTo>
                <a:lnTo>
                  <a:pt x="23" y="22"/>
                </a:lnTo>
                <a:lnTo>
                  <a:pt x="21" y="21"/>
                </a:lnTo>
                <a:lnTo>
                  <a:pt x="21" y="20"/>
                </a:lnTo>
                <a:lnTo>
                  <a:pt x="18" y="18"/>
                </a:lnTo>
                <a:lnTo>
                  <a:pt x="18" y="17"/>
                </a:lnTo>
                <a:lnTo>
                  <a:pt x="16" y="16"/>
                </a:lnTo>
                <a:lnTo>
                  <a:pt x="16" y="15"/>
                </a:lnTo>
                <a:lnTo>
                  <a:pt x="15" y="13"/>
                </a:lnTo>
                <a:lnTo>
                  <a:pt x="15" y="12"/>
                </a:lnTo>
                <a:lnTo>
                  <a:pt x="13" y="11"/>
                </a:lnTo>
                <a:lnTo>
                  <a:pt x="13" y="10"/>
                </a:lnTo>
                <a:lnTo>
                  <a:pt x="13" y="9"/>
                </a:lnTo>
                <a:lnTo>
                  <a:pt x="13" y="8"/>
                </a:lnTo>
                <a:lnTo>
                  <a:pt x="12" y="7"/>
                </a:lnTo>
                <a:lnTo>
                  <a:pt x="12" y="6"/>
                </a:lnTo>
                <a:lnTo>
                  <a:pt x="12" y="5"/>
                </a:lnTo>
                <a:lnTo>
                  <a:pt x="12" y="4"/>
                </a:lnTo>
                <a:lnTo>
                  <a:pt x="12" y="3"/>
                </a:lnTo>
                <a:lnTo>
                  <a:pt x="12" y="2"/>
                </a:lnTo>
                <a:lnTo>
                  <a:pt x="12" y="1"/>
                </a:lnTo>
                <a:lnTo>
                  <a:pt x="11" y="1"/>
                </a:lnTo>
                <a:lnTo>
                  <a:pt x="10" y="1"/>
                </a:lnTo>
                <a:lnTo>
                  <a:pt x="4" y="1"/>
                </a:lnTo>
                <a:lnTo>
                  <a:pt x="0" y="1"/>
                </a:lnTo>
                <a:lnTo>
                  <a:pt x="0" y="0"/>
                </a:lnTo>
                <a:lnTo>
                  <a:pt x="0" y="1"/>
                </a:lnTo>
                <a:lnTo>
                  <a:pt x="0" y="3"/>
                </a:lnTo>
                <a:lnTo>
                  <a:pt x="0" y="4"/>
                </a:lnTo>
                <a:lnTo>
                  <a:pt x="0" y="5"/>
                </a:lnTo>
                <a:lnTo>
                  <a:pt x="0" y="6"/>
                </a:lnTo>
                <a:lnTo>
                  <a:pt x="0" y="7"/>
                </a:lnTo>
                <a:lnTo>
                  <a:pt x="0" y="8"/>
                </a:lnTo>
                <a:lnTo>
                  <a:pt x="0" y="10"/>
                </a:lnTo>
                <a:lnTo>
                  <a:pt x="0" y="11"/>
                </a:lnTo>
                <a:lnTo>
                  <a:pt x="1" y="11"/>
                </a:lnTo>
                <a:lnTo>
                  <a:pt x="1" y="12"/>
                </a:lnTo>
                <a:lnTo>
                  <a:pt x="1" y="13"/>
                </a:lnTo>
                <a:lnTo>
                  <a:pt x="1" y="14"/>
                </a:lnTo>
                <a:lnTo>
                  <a:pt x="2" y="14"/>
                </a:lnTo>
                <a:lnTo>
                  <a:pt x="3" y="17"/>
                </a:lnTo>
                <a:lnTo>
                  <a:pt x="4" y="18"/>
                </a:lnTo>
                <a:lnTo>
                  <a:pt x="5" y="20"/>
                </a:lnTo>
                <a:lnTo>
                  <a:pt x="7" y="21"/>
                </a:lnTo>
                <a:lnTo>
                  <a:pt x="8" y="23"/>
                </a:lnTo>
                <a:lnTo>
                  <a:pt x="9" y="24"/>
                </a:lnTo>
                <a:lnTo>
                  <a:pt x="10" y="26"/>
                </a:lnTo>
                <a:lnTo>
                  <a:pt x="11" y="27"/>
                </a:lnTo>
                <a:lnTo>
                  <a:pt x="12" y="27"/>
                </a:lnTo>
                <a:lnTo>
                  <a:pt x="13" y="29"/>
                </a:lnTo>
                <a:lnTo>
                  <a:pt x="14" y="30"/>
                </a:lnTo>
                <a:lnTo>
                  <a:pt x="15" y="32"/>
                </a:lnTo>
                <a:lnTo>
                  <a:pt x="16" y="33"/>
                </a:lnTo>
                <a:lnTo>
                  <a:pt x="17" y="33"/>
                </a:lnTo>
                <a:lnTo>
                  <a:pt x="19" y="35"/>
                </a:lnTo>
                <a:lnTo>
                  <a:pt x="21" y="35"/>
                </a:lnTo>
                <a:lnTo>
                  <a:pt x="22" y="37"/>
                </a:lnTo>
                <a:lnTo>
                  <a:pt x="23" y="38"/>
                </a:lnTo>
                <a:lnTo>
                  <a:pt x="24" y="38"/>
                </a:lnTo>
                <a:lnTo>
                  <a:pt x="26" y="40"/>
                </a:lnTo>
                <a:lnTo>
                  <a:pt x="27" y="41"/>
                </a:lnTo>
                <a:lnTo>
                  <a:pt x="28" y="41"/>
                </a:lnTo>
                <a:lnTo>
                  <a:pt x="29" y="43"/>
                </a:lnTo>
                <a:lnTo>
                  <a:pt x="30" y="44"/>
                </a:lnTo>
                <a:lnTo>
                  <a:pt x="31" y="44"/>
                </a:lnTo>
                <a:lnTo>
                  <a:pt x="33" y="47"/>
                </a:lnTo>
                <a:lnTo>
                  <a:pt x="34" y="47"/>
                </a:lnTo>
                <a:lnTo>
                  <a:pt x="37" y="49"/>
                </a:lnTo>
                <a:lnTo>
                  <a:pt x="38" y="50"/>
                </a:lnTo>
                <a:lnTo>
                  <a:pt x="39" y="50"/>
                </a:lnTo>
                <a:lnTo>
                  <a:pt x="40" y="52"/>
                </a:lnTo>
                <a:lnTo>
                  <a:pt x="41" y="53"/>
                </a:lnTo>
                <a:lnTo>
                  <a:pt x="42" y="53"/>
                </a:lnTo>
                <a:lnTo>
                  <a:pt x="44" y="55"/>
                </a:lnTo>
                <a:lnTo>
                  <a:pt x="46" y="55"/>
                </a:lnTo>
                <a:lnTo>
                  <a:pt x="47" y="57"/>
                </a:lnTo>
                <a:lnTo>
                  <a:pt x="48" y="58"/>
                </a:lnTo>
                <a:lnTo>
                  <a:pt x="49" y="58"/>
                </a:lnTo>
                <a:lnTo>
                  <a:pt x="52" y="60"/>
                </a:lnTo>
                <a:lnTo>
                  <a:pt x="53" y="61"/>
                </a:lnTo>
                <a:lnTo>
                  <a:pt x="54" y="61"/>
                </a:lnTo>
                <a:lnTo>
                  <a:pt x="56" y="63"/>
                </a:lnTo>
                <a:lnTo>
                  <a:pt x="57" y="63"/>
                </a:lnTo>
                <a:lnTo>
                  <a:pt x="58" y="65"/>
                </a:lnTo>
                <a:lnTo>
                  <a:pt x="59" y="66"/>
                </a:lnTo>
                <a:lnTo>
                  <a:pt x="60" y="66"/>
                </a:lnTo>
                <a:lnTo>
                  <a:pt x="61" y="68"/>
                </a:lnTo>
                <a:lnTo>
                  <a:pt x="62" y="69"/>
                </a:lnTo>
                <a:lnTo>
                  <a:pt x="63" y="69"/>
                </a:lnTo>
                <a:lnTo>
                  <a:pt x="64" y="71"/>
                </a:lnTo>
                <a:lnTo>
                  <a:pt x="66" y="72"/>
                </a:lnTo>
                <a:lnTo>
                  <a:pt x="67" y="72"/>
                </a:lnTo>
                <a:lnTo>
                  <a:pt x="68" y="74"/>
                </a:lnTo>
                <a:lnTo>
                  <a:pt x="69" y="74"/>
                </a:lnTo>
                <a:lnTo>
                  <a:pt x="70" y="76"/>
                </a:lnTo>
                <a:lnTo>
                  <a:pt x="71" y="77"/>
                </a:lnTo>
                <a:lnTo>
                  <a:pt x="72" y="77"/>
                </a:lnTo>
                <a:lnTo>
                  <a:pt x="73" y="79"/>
                </a:lnTo>
                <a:lnTo>
                  <a:pt x="74" y="80"/>
                </a:lnTo>
                <a:lnTo>
                  <a:pt x="75" y="82"/>
                </a:lnTo>
                <a:lnTo>
                  <a:pt x="76" y="82"/>
                </a:lnTo>
                <a:lnTo>
                  <a:pt x="76" y="83"/>
                </a:lnTo>
                <a:lnTo>
                  <a:pt x="76" y="84"/>
                </a:lnTo>
                <a:lnTo>
                  <a:pt x="76" y="85"/>
                </a:lnTo>
                <a:lnTo>
                  <a:pt x="77" y="85"/>
                </a:lnTo>
                <a:lnTo>
                  <a:pt x="78" y="87"/>
                </a:lnTo>
                <a:lnTo>
                  <a:pt x="79" y="87"/>
                </a:lnTo>
                <a:lnTo>
                  <a:pt x="79" y="88"/>
                </a:lnTo>
                <a:lnTo>
                  <a:pt x="79" y="89"/>
                </a:lnTo>
                <a:lnTo>
                  <a:pt x="79" y="90"/>
                </a:lnTo>
                <a:lnTo>
                  <a:pt x="81" y="92"/>
                </a:lnTo>
                <a:lnTo>
                  <a:pt x="92" y="91"/>
                </a:lnTo>
                <a:close/>
              </a:path>
            </a:pathLst>
          </a:custGeom>
          <a:solidFill>
            <a:srgbClr val="1f1a17"/>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15" name="Freeform 214"/>
          <p:cNvSpPr/>
          <p:nvPr/>
        </p:nvSpPr>
        <p:spPr>
          <a:xfrm>
            <a:off x="3770280" y="5218200"/>
            <a:ext cx="85680" cy="63360"/>
          </a:xfrm>
          <a:custGeom>
            <a:avLst/>
            <a:gdLst>
              <a:gd name="textAreaLeft" fmla="*/ 0 w 85680"/>
              <a:gd name="textAreaRight" fmla="*/ 85680 w 85680"/>
              <a:gd name="textAreaTop" fmla="*/ 0 h 63360"/>
              <a:gd name="textAreaBottom" fmla="*/ 63720 h 63360"/>
            </a:gdLst>
            <a:ahLst/>
            <a:rect l="textAreaLeft" t="textAreaTop" r="textAreaRight" b="textAreaBottom"/>
            <a:pathLst>
              <a:path w="108" h="81">
                <a:moveTo>
                  <a:pt x="106" y="70"/>
                </a:moveTo>
                <a:lnTo>
                  <a:pt x="107" y="71"/>
                </a:lnTo>
                <a:lnTo>
                  <a:pt x="108" y="71"/>
                </a:lnTo>
                <a:lnTo>
                  <a:pt x="105" y="70"/>
                </a:lnTo>
                <a:lnTo>
                  <a:pt x="104" y="69"/>
                </a:lnTo>
                <a:lnTo>
                  <a:pt x="100" y="68"/>
                </a:lnTo>
                <a:lnTo>
                  <a:pt x="99" y="67"/>
                </a:lnTo>
                <a:lnTo>
                  <a:pt x="97" y="66"/>
                </a:lnTo>
                <a:lnTo>
                  <a:pt x="96" y="65"/>
                </a:lnTo>
                <a:lnTo>
                  <a:pt x="95" y="65"/>
                </a:lnTo>
                <a:lnTo>
                  <a:pt x="93" y="65"/>
                </a:lnTo>
                <a:lnTo>
                  <a:pt x="92" y="65"/>
                </a:lnTo>
                <a:lnTo>
                  <a:pt x="92" y="64"/>
                </a:lnTo>
                <a:lnTo>
                  <a:pt x="89" y="62"/>
                </a:lnTo>
                <a:lnTo>
                  <a:pt x="87" y="61"/>
                </a:lnTo>
                <a:lnTo>
                  <a:pt x="84" y="60"/>
                </a:lnTo>
                <a:lnTo>
                  <a:pt x="83" y="59"/>
                </a:lnTo>
                <a:lnTo>
                  <a:pt x="80" y="58"/>
                </a:lnTo>
                <a:lnTo>
                  <a:pt x="79" y="57"/>
                </a:lnTo>
                <a:lnTo>
                  <a:pt x="77" y="56"/>
                </a:lnTo>
                <a:lnTo>
                  <a:pt x="76" y="55"/>
                </a:lnTo>
                <a:lnTo>
                  <a:pt x="72" y="54"/>
                </a:lnTo>
                <a:lnTo>
                  <a:pt x="71" y="53"/>
                </a:lnTo>
                <a:lnTo>
                  <a:pt x="68" y="52"/>
                </a:lnTo>
                <a:lnTo>
                  <a:pt x="67" y="51"/>
                </a:lnTo>
                <a:lnTo>
                  <a:pt x="65" y="50"/>
                </a:lnTo>
                <a:lnTo>
                  <a:pt x="64" y="49"/>
                </a:lnTo>
                <a:lnTo>
                  <a:pt x="61" y="48"/>
                </a:lnTo>
                <a:lnTo>
                  <a:pt x="60" y="47"/>
                </a:lnTo>
                <a:lnTo>
                  <a:pt x="56" y="46"/>
                </a:lnTo>
                <a:lnTo>
                  <a:pt x="55" y="45"/>
                </a:lnTo>
                <a:lnTo>
                  <a:pt x="53" y="44"/>
                </a:lnTo>
                <a:lnTo>
                  <a:pt x="52" y="43"/>
                </a:lnTo>
                <a:lnTo>
                  <a:pt x="50" y="42"/>
                </a:lnTo>
                <a:lnTo>
                  <a:pt x="49" y="41"/>
                </a:lnTo>
                <a:lnTo>
                  <a:pt x="46" y="40"/>
                </a:lnTo>
                <a:lnTo>
                  <a:pt x="45" y="39"/>
                </a:lnTo>
                <a:lnTo>
                  <a:pt x="42" y="38"/>
                </a:lnTo>
                <a:lnTo>
                  <a:pt x="41" y="37"/>
                </a:lnTo>
                <a:lnTo>
                  <a:pt x="39" y="36"/>
                </a:lnTo>
                <a:lnTo>
                  <a:pt x="38" y="35"/>
                </a:lnTo>
                <a:lnTo>
                  <a:pt x="38" y="34"/>
                </a:lnTo>
                <a:lnTo>
                  <a:pt x="36" y="33"/>
                </a:lnTo>
                <a:lnTo>
                  <a:pt x="35" y="32"/>
                </a:lnTo>
                <a:lnTo>
                  <a:pt x="33" y="31"/>
                </a:lnTo>
                <a:lnTo>
                  <a:pt x="32" y="30"/>
                </a:lnTo>
                <a:lnTo>
                  <a:pt x="30" y="28"/>
                </a:lnTo>
                <a:lnTo>
                  <a:pt x="30" y="27"/>
                </a:lnTo>
                <a:lnTo>
                  <a:pt x="27" y="26"/>
                </a:lnTo>
                <a:lnTo>
                  <a:pt x="26" y="25"/>
                </a:lnTo>
                <a:lnTo>
                  <a:pt x="24" y="24"/>
                </a:lnTo>
                <a:lnTo>
                  <a:pt x="24" y="23"/>
                </a:lnTo>
                <a:lnTo>
                  <a:pt x="22" y="21"/>
                </a:lnTo>
                <a:lnTo>
                  <a:pt x="22" y="20"/>
                </a:lnTo>
                <a:lnTo>
                  <a:pt x="20" y="19"/>
                </a:lnTo>
                <a:lnTo>
                  <a:pt x="20" y="18"/>
                </a:lnTo>
                <a:lnTo>
                  <a:pt x="18" y="16"/>
                </a:lnTo>
                <a:lnTo>
                  <a:pt x="18" y="15"/>
                </a:lnTo>
                <a:lnTo>
                  <a:pt x="17" y="14"/>
                </a:lnTo>
                <a:lnTo>
                  <a:pt x="17" y="13"/>
                </a:lnTo>
                <a:lnTo>
                  <a:pt x="15" y="12"/>
                </a:lnTo>
                <a:lnTo>
                  <a:pt x="15" y="11"/>
                </a:lnTo>
                <a:lnTo>
                  <a:pt x="14" y="8"/>
                </a:lnTo>
                <a:lnTo>
                  <a:pt x="14" y="7"/>
                </a:lnTo>
                <a:lnTo>
                  <a:pt x="12" y="6"/>
                </a:lnTo>
                <a:lnTo>
                  <a:pt x="12" y="5"/>
                </a:lnTo>
                <a:lnTo>
                  <a:pt x="11" y="3"/>
                </a:lnTo>
                <a:lnTo>
                  <a:pt x="11" y="2"/>
                </a:lnTo>
                <a:lnTo>
                  <a:pt x="11" y="1"/>
                </a:lnTo>
                <a:lnTo>
                  <a:pt x="11" y="0"/>
                </a:lnTo>
                <a:lnTo>
                  <a:pt x="9" y="1"/>
                </a:lnTo>
                <a:lnTo>
                  <a:pt x="4" y="1"/>
                </a:lnTo>
                <a:lnTo>
                  <a:pt x="0" y="1"/>
                </a:lnTo>
                <a:lnTo>
                  <a:pt x="0" y="2"/>
                </a:lnTo>
                <a:lnTo>
                  <a:pt x="0" y="4"/>
                </a:lnTo>
                <a:lnTo>
                  <a:pt x="0" y="5"/>
                </a:lnTo>
                <a:lnTo>
                  <a:pt x="1" y="5"/>
                </a:lnTo>
                <a:lnTo>
                  <a:pt x="1" y="6"/>
                </a:lnTo>
                <a:lnTo>
                  <a:pt x="1" y="7"/>
                </a:lnTo>
                <a:lnTo>
                  <a:pt x="1" y="8"/>
                </a:lnTo>
                <a:lnTo>
                  <a:pt x="2" y="8"/>
                </a:lnTo>
                <a:lnTo>
                  <a:pt x="2" y="10"/>
                </a:lnTo>
                <a:lnTo>
                  <a:pt x="2" y="11"/>
                </a:lnTo>
                <a:lnTo>
                  <a:pt x="2" y="12"/>
                </a:lnTo>
                <a:lnTo>
                  <a:pt x="3" y="12"/>
                </a:lnTo>
                <a:lnTo>
                  <a:pt x="3" y="13"/>
                </a:lnTo>
                <a:lnTo>
                  <a:pt x="3" y="15"/>
                </a:lnTo>
                <a:lnTo>
                  <a:pt x="3" y="16"/>
                </a:lnTo>
                <a:lnTo>
                  <a:pt x="4" y="16"/>
                </a:lnTo>
                <a:lnTo>
                  <a:pt x="5" y="18"/>
                </a:lnTo>
                <a:lnTo>
                  <a:pt x="6" y="19"/>
                </a:lnTo>
                <a:lnTo>
                  <a:pt x="7" y="21"/>
                </a:lnTo>
                <a:lnTo>
                  <a:pt x="8" y="22"/>
                </a:lnTo>
                <a:lnTo>
                  <a:pt x="9" y="24"/>
                </a:lnTo>
                <a:lnTo>
                  <a:pt x="10" y="25"/>
                </a:lnTo>
                <a:lnTo>
                  <a:pt x="11" y="27"/>
                </a:lnTo>
                <a:lnTo>
                  <a:pt x="12" y="27"/>
                </a:lnTo>
                <a:lnTo>
                  <a:pt x="14" y="29"/>
                </a:lnTo>
                <a:lnTo>
                  <a:pt x="15" y="30"/>
                </a:lnTo>
                <a:lnTo>
                  <a:pt x="16" y="30"/>
                </a:lnTo>
                <a:lnTo>
                  <a:pt x="17" y="32"/>
                </a:lnTo>
                <a:lnTo>
                  <a:pt x="18" y="33"/>
                </a:lnTo>
                <a:lnTo>
                  <a:pt x="19" y="33"/>
                </a:lnTo>
                <a:lnTo>
                  <a:pt x="20" y="35"/>
                </a:lnTo>
                <a:lnTo>
                  <a:pt x="21" y="36"/>
                </a:lnTo>
                <a:lnTo>
                  <a:pt x="23" y="38"/>
                </a:lnTo>
                <a:lnTo>
                  <a:pt x="24" y="38"/>
                </a:lnTo>
                <a:lnTo>
                  <a:pt x="25" y="40"/>
                </a:lnTo>
                <a:lnTo>
                  <a:pt x="26" y="41"/>
                </a:lnTo>
                <a:lnTo>
                  <a:pt x="27" y="41"/>
                </a:lnTo>
                <a:lnTo>
                  <a:pt x="30" y="43"/>
                </a:lnTo>
                <a:lnTo>
                  <a:pt x="32" y="43"/>
                </a:lnTo>
                <a:lnTo>
                  <a:pt x="34" y="45"/>
                </a:lnTo>
                <a:lnTo>
                  <a:pt x="35" y="45"/>
                </a:lnTo>
                <a:lnTo>
                  <a:pt x="36" y="47"/>
                </a:lnTo>
                <a:lnTo>
                  <a:pt x="37" y="48"/>
                </a:lnTo>
                <a:lnTo>
                  <a:pt x="38" y="48"/>
                </a:lnTo>
                <a:lnTo>
                  <a:pt x="40" y="50"/>
                </a:lnTo>
                <a:lnTo>
                  <a:pt x="42" y="50"/>
                </a:lnTo>
                <a:lnTo>
                  <a:pt x="45" y="52"/>
                </a:lnTo>
                <a:lnTo>
                  <a:pt x="46" y="52"/>
                </a:lnTo>
                <a:lnTo>
                  <a:pt x="48" y="54"/>
                </a:lnTo>
                <a:lnTo>
                  <a:pt x="49" y="55"/>
                </a:lnTo>
                <a:lnTo>
                  <a:pt x="50" y="55"/>
                </a:lnTo>
                <a:lnTo>
                  <a:pt x="52" y="57"/>
                </a:lnTo>
                <a:lnTo>
                  <a:pt x="54" y="57"/>
                </a:lnTo>
                <a:lnTo>
                  <a:pt x="56" y="59"/>
                </a:lnTo>
                <a:lnTo>
                  <a:pt x="57" y="59"/>
                </a:lnTo>
                <a:lnTo>
                  <a:pt x="60" y="61"/>
                </a:lnTo>
                <a:lnTo>
                  <a:pt x="62" y="61"/>
                </a:lnTo>
                <a:lnTo>
                  <a:pt x="64" y="64"/>
                </a:lnTo>
                <a:lnTo>
                  <a:pt x="66" y="64"/>
                </a:lnTo>
                <a:lnTo>
                  <a:pt x="68" y="66"/>
                </a:lnTo>
                <a:lnTo>
                  <a:pt x="70" y="66"/>
                </a:lnTo>
                <a:lnTo>
                  <a:pt x="72" y="68"/>
                </a:lnTo>
                <a:lnTo>
                  <a:pt x="75" y="68"/>
                </a:lnTo>
                <a:lnTo>
                  <a:pt x="77" y="70"/>
                </a:lnTo>
                <a:lnTo>
                  <a:pt x="78" y="70"/>
                </a:lnTo>
                <a:lnTo>
                  <a:pt x="80" y="72"/>
                </a:lnTo>
                <a:lnTo>
                  <a:pt x="82" y="72"/>
                </a:lnTo>
                <a:lnTo>
                  <a:pt x="84" y="73"/>
                </a:lnTo>
                <a:lnTo>
                  <a:pt x="85" y="73"/>
                </a:lnTo>
                <a:lnTo>
                  <a:pt x="86" y="73"/>
                </a:lnTo>
                <a:lnTo>
                  <a:pt x="89" y="75"/>
                </a:lnTo>
                <a:lnTo>
                  <a:pt x="91" y="75"/>
                </a:lnTo>
                <a:lnTo>
                  <a:pt x="93" y="77"/>
                </a:lnTo>
                <a:lnTo>
                  <a:pt x="95" y="77"/>
                </a:lnTo>
                <a:lnTo>
                  <a:pt x="97" y="79"/>
                </a:lnTo>
                <a:lnTo>
                  <a:pt x="99" y="79"/>
                </a:lnTo>
                <a:lnTo>
                  <a:pt x="101" y="80"/>
                </a:lnTo>
                <a:lnTo>
                  <a:pt x="103" y="80"/>
                </a:lnTo>
                <a:lnTo>
                  <a:pt x="105" y="81"/>
                </a:lnTo>
                <a:lnTo>
                  <a:pt x="106" y="81"/>
                </a:lnTo>
                <a:lnTo>
                  <a:pt x="106" y="70"/>
                </a:lnTo>
                <a:close/>
              </a:path>
            </a:pathLst>
          </a:custGeom>
          <a:solidFill>
            <a:srgbClr val="1f1a17"/>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16" name="Freeform 215"/>
          <p:cNvSpPr/>
          <p:nvPr/>
        </p:nvSpPr>
        <p:spPr>
          <a:xfrm>
            <a:off x="3854520" y="5272200"/>
            <a:ext cx="30240" cy="48960"/>
          </a:xfrm>
          <a:custGeom>
            <a:avLst/>
            <a:gdLst>
              <a:gd name="textAreaLeft" fmla="*/ 0 w 30240"/>
              <a:gd name="textAreaRight" fmla="*/ 30600 w 30240"/>
              <a:gd name="textAreaTop" fmla="*/ 0 h 48960"/>
              <a:gd name="textAreaBottom" fmla="*/ 49320 h 48960"/>
            </a:gdLst>
            <a:ahLst/>
            <a:rect l="textAreaLeft" t="textAreaTop" r="textAreaRight" b="textAreaBottom"/>
            <a:pathLst>
              <a:path w="37" h="61">
                <a:moveTo>
                  <a:pt x="31" y="49"/>
                </a:moveTo>
                <a:lnTo>
                  <a:pt x="34" y="53"/>
                </a:lnTo>
                <a:lnTo>
                  <a:pt x="36" y="55"/>
                </a:lnTo>
                <a:lnTo>
                  <a:pt x="37" y="55"/>
                </a:lnTo>
                <a:lnTo>
                  <a:pt x="37" y="54"/>
                </a:lnTo>
                <a:lnTo>
                  <a:pt x="37" y="53"/>
                </a:lnTo>
                <a:lnTo>
                  <a:pt x="37" y="52"/>
                </a:lnTo>
                <a:lnTo>
                  <a:pt x="37" y="51"/>
                </a:lnTo>
                <a:lnTo>
                  <a:pt x="37" y="50"/>
                </a:lnTo>
                <a:lnTo>
                  <a:pt x="37" y="49"/>
                </a:lnTo>
                <a:lnTo>
                  <a:pt x="36" y="48"/>
                </a:lnTo>
                <a:lnTo>
                  <a:pt x="36" y="46"/>
                </a:lnTo>
                <a:lnTo>
                  <a:pt x="36" y="45"/>
                </a:lnTo>
                <a:lnTo>
                  <a:pt x="36" y="44"/>
                </a:lnTo>
                <a:lnTo>
                  <a:pt x="35" y="42"/>
                </a:lnTo>
                <a:lnTo>
                  <a:pt x="35" y="41"/>
                </a:lnTo>
                <a:lnTo>
                  <a:pt x="35" y="40"/>
                </a:lnTo>
                <a:lnTo>
                  <a:pt x="35" y="39"/>
                </a:lnTo>
                <a:lnTo>
                  <a:pt x="34" y="38"/>
                </a:lnTo>
                <a:lnTo>
                  <a:pt x="34" y="37"/>
                </a:lnTo>
                <a:lnTo>
                  <a:pt x="33" y="36"/>
                </a:lnTo>
                <a:lnTo>
                  <a:pt x="33" y="35"/>
                </a:lnTo>
                <a:lnTo>
                  <a:pt x="33" y="34"/>
                </a:lnTo>
                <a:lnTo>
                  <a:pt x="33" y="33"/>
                </a:lnTo>
                <a:lnTo>
                  <a:pt x="32" y="32"/>
                </a:lnTo>
                <a:lnTo>
                  <a:pt x="32" y="31"/>
                </a:lnTo>
                <a:lnTo>
                  <a:pt x="31" y="30"/>
                </a:lnTo>
                <a:lnTo>
                  <a:pt x="31" y="29"/>
                </a:lnTo>
                <a:lnTo>
                  <a:pt x="30" y="28"/>
                </a:lnTo>
                <a:lnTo>
                  <a:pt x="30" y="27"/>
                </a:lnTo>
                <a:lnTo>
                  <a:pt x="29" y="25"/>
                </a:lnTo>
                <a:lnTo>
                  <a:pt x="29" y="24"/>
                </a:lnTo>
                <a:lnTo>
                  <a:pt x="28" y="23"/>
                </a:lnTo>
                <a:lnTo>
                  <a:pt x="28" y="22"/>
                </a:lnTo>
                <a:lnTo>
                  <a:pt x="27" y="21"/>
                </a:lnTo>
                <a:lnTo>
                  <a:pt x="27" y="20"/>
                </a:lnTo>
                <a:lnTo>
                  <a:pt x="25" y="19"/>
                </a:lnTo>
                <a:lnTo>
                  <a:pt x="25" y="18"/>
                </a:lnTo>
                <a:lnTo>
                  <a:pt x="24" y="17"/>
                </a:lnTo>
                <a:lnTo>
                  <a:pt x="22" y="16"/>
                </a:lnTo>
                <a:lnTo>
                  <a:pt x="22" y="15"/>
                </a:lnTo>
                <a:lnTo>
                  <a:pt x="21" y="14"/>
                </a:lnTo>
                <a:lnTo>
                  <a:pt x="21" y="13"/>
                </a:lnTo>
                <a:lnTo>
                  <a:pt x="20" y="12"/>
                </a:lnTo>
                <a:lnTo>
                  <a:pt x="20" y="11"/>
                </a:lnTo>
                <a:lnTo>
                  <a:pt x="18" y="10"/>
                </a:lnTo>
                <a:lnTo>
                  <a:pt x="17" y="9"/>
                </a:lnTo>
                <a:lnTo>
                  <a:pt x="17" y="8"/>
                </a:lnTo>
                <a:lnTo>
                  <a:pt x="15" y="7"/>
                </a:lnTo>
                <a:lnTo>
                  <a:pt x="14" y="6"/>
                </a:lnTo>
                <a:lnTo>
                  <a:pt x="14" y="5"/>
                </a:lnTo>
                <a:lnTo>
                  <a:pt x="12" y="4"/>
                </a:lnTo>
                <a:lnTo>
                  <a:pt x="9" y="3"/>
                </a:lnTo>
                <a:lnTo>
                  <a:pt x="7" y="2"/>
                </a:lnTo>
                <a:lnTo>
                  <a:pt x="6" y="1"/>
                </a:lnTo>
                <a:lnTo>
                  <a:pt x="5" y="1"/>
                </a:lnTo>
                <a:lnTo>
                  <a:pt x="4" y="1"/>
                </a:lnTo>
                <a:lnTo>
                  <a:pt x="2" y="0"/>
                </a:lnTo>
                <a:lnTo>
                  <a:pt x="1" y="0"/>
                </a:lnTo>
                <a:lnTo>
                  <a:pt x="0" y="0"/>
                </a:lnTo>
                <a:lnTo>
                  <a:pt x="0" y="1"/>
                </a:lnTo>
                <a:lnTo>
                  <a:pt x="0" y="2"/>
                </a:lnTo>
                <a:lnTo>
                  <a:pt x="0" y="7"/>
                </a:lnTo>
                <a:lnTo>
                  <a:pt x="0" y="11"/>
                </a:lnTo>
                <a:lnTo>
                  <a:pt x="1" y="11"/>
                </a:lnTo>
                <a:lnTo>
                  <a:pt x="2" y="11"/>
                </a:lnTo>
                <a:lnTo>
                  <a:pt x="3" y="12"/>
                </a:lnTo>
                <a:lnTo>
                  <a:pt x="4" y="12"/>
                </a:lnTo>
                <a:lnTo>
                  <a:pt x="5" y="13"/>
                </a:lnTo>
                <a:lnTo>
                  <a:pt x="6" y="14"/>
                </a:lnTo>
                <a:lnTo>
                  <a:pt x="7" y="15"/>
                </a:lnTo>
                <a:lnTo>
                  <a:pt x="8" y="16"/>
                </a:lnTo>
                <a:lnTo>
                  <a:pt x="9" y="17"/>
                </a:lnTo>
                <a:lnTo>
                  <a:pt x="10" y="18"/>
                </a:lnTo>
                <a:lnTo>
                  <a:pt x="12" y="20"/>
                </a:lnTo>
                <a:lnTo>
                  <a:pt x="13" y="21"/>
                </a:lnTo>
                <a:lnTo>
                  <a:pt x="14" y="23"/>
                </a:lnTo>
                <a:lnTo>
                  <a:pt x="15" y="24"/>
                </a:lnTo>
                <a:lnTo>
                  <a:pt x="16" y="26"/>
                </a:lnTo>
                <a:lnTo>
                  <a:pt x="17" y="28"/>
                </a:lnTo>
                <a:lnTo>
                  <a:pt x="18" y="29"/>
                </a:lnTo>
                <a:lnTo>
                  <a:pt x="19" y="31"/>
                </a:lnTo>
                <a:lnTo>
                  <a:pt x="20" y="33"/>
                </a:lnTo>
                <a:lnTo>
                  <a:pt x="21" y="35"/>
                </a:lnTo>
                <a:lnTo>
                  <a:pt x="21" y="36"/>
                </a:lnTo>
                <a:lnTo>
                  <a:pt x="21" y="37"/>
                </a:lnTo>
                <a:lnTo>
                  <a:pt x="22" y="39"/>
                </a:lnTo>
                <a:lnTo>
                  <a:pt x="23" y="40"/>
                </a:lnTo>
                <a:lnTo>
                  <a:pt x="23" y="41"/>
                </a:lnTo>
                <a:lnTo>
                  <a:pt x="23" y="42"/>
                </a:lnTo>
                <a:lnTo>
                  <a:pt x="24" y="44"/>
                </a:lnTo>
                <a:lnTo>
                  <a:pt x="24" y="45"/>
                </a:lnTo>
                <a:lnTo>
                  <a:pt x="24" y="46"/>
                </a:lnTo>
                <a:lnTo>
                  <a:pt x="24" y="48"/>
                </a:lnTo>
                <a:lnTo>
                  <a:pt x="24" y="49"/>
                </a:lnTo>
                <a:lnTo>
                  <a:pt x="25" y="50"/>
                </a:lnTo>
                <a:lnTo>
                  <a:pt x="25" y="51"/>
                </a:lnTo>
                <a:lnTo>
                  <a:pt x="25" y="52"/>
                </a:lnTo>
                <a:lnTo>
                  <a:pt x="25" y="53"/>
                </a:lnTo>
                <a:lnTo>
                  <a:pt x="25" y="54"/>
                </a:lnTo>
                <a:lnTo>
                  <a:pt x="25" y="55"/>
                </a:lnTo>
                <a:lnTo>
                  <a:pt x="29" y="59"/>
                </a:lnTo>
                <a:lnTo>
                  <a:pt x="31" y="60"/>
                </a:lnTo>
                <a:lnTo>
                  <a:pt x="32" y="60"/>
                </a:lnTo>
                <a:lnTo>
                  <a:pt x="28" y="57"/>
                </a:lnTo>
                <a:lnTo>
                  <a:pt x="25" y="56"/>
                </a:lnTo>
                <a:lnTo>
                  <a:pt x="25" y="55"/>
                </a:lnTo>
                <a:lnTo>
                  <a:pt x="25" y="56"/>
                </a:lnTo>
                <a:lnTo>
                  <a:pt x="25" y="59"/>
                </a:lnTo>
                <a:lnTo>
                  <a:pt x="25" y="61"/>
                </a:lnTo>
                <a:lnTo>
                  <a:pt x="29" y="61"/>
                </a:lnTo>
                <a:lnTo>
                  <a:pt x="31" y="61"/>
                </a:lnTo>
                <a:lnTo>
                  <a:pt x="32" y="60"/>
                </a:lnTo>
                <a:lnTo>
                  <a:pt x="31" y="49"/>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7" name="Freeform 216"/>
          <p:cNvSpPr/>
          <p:nvPr/>
        </p:nvSpPr>
        <p:spPr>
          <a:xfrm>
            <a:off x="3878280" y="5310360"/>
            <a:ext cx="227160" cy="120600"/>
          </a:xfrm>
          <a:custGeom>
            <a:avLst/>
            <a:gdLst>
              <a:gd name="textAreaLeft" fmla="*/ 0 w 227160"/>
              <a:gd name="textAreaRight" fmla="*/ 227160 w 227160"/>
              <a:gd name="textAreaTop" fmla="*/ 0 h 120600"/>
              <a:gd name="textAreaBottom" fmla="*/ 120960 h 120600"/>
            </a:gdLst>
            <a:ahLst/>
            <a:rect l="textAreaLeft" t="textAreaTop" r="textAreaRight" b="textAreaBottom"/>
            <a:pathLst>
              <a:path w="285" h="153">
                <a:moveTo>
                  <a:pt x="279" y="142"/>
                </a:moveTo>
                <a:lnTo>
                  <a:pt x="282" y="143"/>
                </a:lnTo>
                <a:lnTo>
                  <a:pt x="284" y="143"/>
                </a:lnTo>
                <a:lnTo>
                  <a:pt x="285" y="143"/>
                </a:lnTo>
                <a:lnTo>
                  <a:pt x="283" y="142"/>
                </a:lnTo>
                <a:lnTo>
                  <a:pt x="280" y="139"/>
                </a:lnTo>
                <a:lnTo>
                  <a:pt x="278" y="136"/>
                </a:lnTo>
                <a:lnTo>
                  <a:pt x="278" y="135"/>
                </a:lnTo>
                <a:lnTo>
                  <a:pt x="275" y="134"/>
                </a:lnTo>
                <a:lnTo>
                  <a:pt x="272" y="131"/>
                </a:lnTo>
                <a:lnTo>
                  <a:pt x="270" y="129"/>
                </a:lnTo>
                <a:lnTo>
                  <a:pt x="270" y="128"/>
                </a:lnTo>
                <a:lnTo>
                  <a:pt x="268" y="127"/>
                </a:lnTo>
                <a:lnTo>
                  <a:pt x="265" y="124"/>
                </a:lnTo>
                <a:lnTo>
                  <a:pt x="263" y="122"/>
                </a:lnTo>
                <a:lnTo>
                  <a:pt x="263" y="121"/>
                </a:lnTo>
                <a:lnTo>
                  <a:pt x="260" y="120"/>
                </a:lnTo>
                <a:lnTo>
                  <a:pt x="257" y="117"/>
                </a:lnTo>
                <a:lnTo>
                  <a:pt x="254" y="115"/>
                </a:lnTo>
                <a:lnTo>
                  <a:pt x="254" y="114"/>
                </a:lnTo>
                <a:lnTo>
                  <a:pt x="252" y="113"/>
                </a:lnTo>
                <a:lnTo>
                  <a:pt x="249" y="109"/>
                </a:lnTo>
                <a:lnTo>
                  <a:pt x="246" y="107"/>
                </a:lnTo>
                <a:lnTo>
                  <a:pt x="246" y="106"/>
                </a:lnTo>
                <a:lnTo>
                  <a:pt x="244" y="105"/>
                </a:lnTo>
                <a:lnTo>
                  <a:pt x="241" y="102"/>
                </a:lnTo>
                <a:lnTo>
                  <a:pt x="239" y="100"/>
                </a:lnTo>
                <a:lnTo>
                  <a:pt x="239" y="99"/>
                </a:lnTo>
                <a:lnTo>
                  <a:pt x="237" y="98"/>
                </a:lnTo>
                <a:lnTo>
                  <a:pt x="234" y="95"/>
                </a:lnTo>
                <a:lnTo>
                  <a:pt x="230" y="93"/>
                </a:lnTo>
                <a:lnTo>
                  <a:pt x="230" y="92"/>
                </a:lnTo>
                <a:lnTo>
                  <a:pt x="225" y="89"/>
                </a:lnTo>
                <a:lnTo>
                  <a:pt x="223" y="87"/>
                </a:lnTo>
                <a:lnTo>
                  <a:pt x="223" y="86"/>
                </a:lnTo>
                <a:lnTo>
                  <a:pt x="221" y="85"/>
                </a:lnTo>
                <a:lnTo>
                  <a:pt x="218" y="82"/>
                </a:lnTo>
                <a:lnTo>
                  <a:pt x="214" y="80"/>
                </a:lnTo>
                <a:lnTo>
                  <a:pt x="214" y="79"/>
                </a:lnTo>
                <a:lnTo>
                  <a:pt x="209" y="76"/>
                </a:lnTo>
                <a:lnTo>
                  <a:pt x="207" y="74"/>
                </a:lnTo>
                <a:lnTo>
                  <a:pt x="207" y="73"/>
                </a:lnTo>
                <a:lnTo>
                  <a:pt x="205" y="72"/>
                </a:lnTo>
                <a:lnTo>
                  <a:pt x="201" y="69"/>
                </a:lnTo>
                <a:lnTo>
                  <a:pt x="198" y="67"/>
                </a:lnTo>
                <a:lnTo>
                  <a:pt x="198" y="66"/>
                </a:lnTo>
                <a:lnTo>
                  <a:pt x="193" y="63"/>
                </a:lnTo>
                <a:lnTo>
                  <a:pt x="191" y="61"/>
                </a:lnTo>
                <a:lnTo>
                  <a:pt x="191" y="60"/>
                </a:lnTo>
                <a:lnTo>
                  <a:pt x="185" y="57"/>
                </a:lnTo>
                <a:lnTo>
                  <a:pt x="182" y="54"/>
                </a:lnTo>
                <a:lnTo>
                  <a:pt x="182" y="53"/>
                </a:lnTo>
                <a:lnTo>
                  <a:pt x="177" y="50"/>
                </a:lnTo>
                <a:lnTo>
                  <a:pt x="174" y="49"/>
                </a:lnTo>
                <a:lnTo>
                  <a:pt x="174" y="48"/>
                </a:lnTo>
                <a:lnTo>
                  <a:pt x="168" y="45"/>
                </a:lnTo>
                <a:lnTo>
                  <a:pt x="165" y="43"/>
                </a:lnTo>
                <a:lnTo>
                  <a:pt x="165" y="42"/>
                </a:lnTo>
                <a:lnTo>
                  <a:pt x="160" y="39"/>
                </a:lnTo>
                <a:lnTo>
                  <a:pt x="156" y="38"/>
                </a:lnTo>
                <a:lnTo>
                  <a:pt x="156" y="37"/>
                </a:lnTo>
                <a:lnTo>
                  <a:pt x="151" y="34"/>
                </a:lnTo>
                <a:lnTo>
                  <a:pt x="148" y="33"/>
                </a:lnTo>
                <a:lnTo>
                  <a:pt x="148" y="32"/>
                </a:lnTo>
                <a:lnTo>
                  <a:pt x="142" y="29"/>
                </a:lnTo>
                <a:lnTo>
                  <a:pt x="139" y="28"/>
                </a:lnTo>
                <a:lnTo>
                  <a:pt x="139" y="27"/>
                </a:lnTo>
                <a:lnTo>
                  <a:pt x="133" y="25"/>
                </a:lnTo>
                <a:lnTo>
                  <a:pt x="130" y="24"/>
                </a:lnTo>
                <a:lnTo>
                  <a:pt x="130" y="23"/>
                </a:lnTo>
                <a:lnTo>
                  <a:pt x="124" y="21"/>
                </a:lnTo>
                <a:lnTo>
                  <a:pt x="121" y="20"/>
                </a:lnTo>
                <a:lnTo>
                  <a:pt x="121" y="19"/>
                </a:lnTo>
                <a:lnTo>
                  <a:pt x="115" y="17"/>
                </a:lnTo>
                <a:lnTo>
                  <a:pt x="111" y="16"/>
                </a:lnTo>
                <a:lnTo>
                  <a:pt x="111" y="15"/>
                </a:lnTo>
                <a:lnTo>
                  <a:pt x="110" y="15"/>
                </a:lnTo>
                <a:lnTo>
                  <a:pt x="109" y="15"/>
                </a:lnTo>
                <a:lnTo>
                  <a:pt x="105" y="14"/>
                </a:lnTo>
                <a:lnTo>
                  <a:pt x="102" y="13"/>
                </a:lnTo>
                <a:lnTo>
                  <a:pt x="102" y="12"/>
                </a:lnTo>
                <a:lnTo>
                  <a:pt x="101" y="12"/>
                </a:lnTo>
                <a:lnTo>
                  <a:pt x="100" y="12"/>
                </a:lnTo>
                <a:lnTo>
                  <a:pt x="96" y="11"/>
                </a:lnTo>
                <a:lnTo>
                  <a:pt x="93" y="10"/>
                </a:lnTo>
                <a:lnTo>
                  <a:pt x="93" y="9"/>
                </a:lnTo>
                <a:lnTo>
                  <a:pt x="92" y="9"/>
                </a:lnTo>
                <a:lnTo>
                  <a:pt x="91" y="9"/>
                </a:lnTo>
                <a:lnTo>
                  <a:pt x="87" y="8"/>
                </a:lnTo>
                <a:lnTo>
                  <a:pt x="83" y="8"/>
                </a:lnTo>
                <a:lnTo>
                  <a:pt x="83" y="7"/>
                </a:lnTo>
                <a:lnTo>
                  <a:pt x="82" y="7"/>
                </a:lnTo>
                <a:lnTo>
                  <a:pt x="81" y="7"/>
                </a:lnTo>
                <a:lnTo>
                  <a:pt x="76" y="6"/>
                </a:lnTo>
                <a:lnTo>
                  <a:pt x="73" y="5"/>
                </a:lnTo>
                <a:lnTo>
                  <a:pt x="73" y="4"/>
                </a:lnTo>
                <a:lnTo>
                  <a:pt x="72" y="4"/>
                </a:lnTo>
                <a:lnTo>
                  <a:pt x="71" y="4"/>
                </a:lnTo>
                <a:lnTo>
                  <a:pt x="66" y="4"/>
                </a:lnTo>
                <a:lnTo>
                  <a:pt x="63" y="4"/>
                </a:lnTo>
                <a:lnTo>
                  <a:pt x="63" y="3"/>
                </a:lnTo>
                <a:lnTo>
                  <a:pt x="62" y="3"/>
                </a:lnTo>
                <a:lnTo>
                  <a:pt x="61" y="3"/>
                </a:lnTo>
                <a:lnTo>
                  <a:pt x="57" y="3"/>
                </a:lnTo>
                <a:lnTo>
                  <a:pt x="53" y="3"/>
                </a:lnTo>
                <a:lnTo>
                  <a:pt x="53" y="2"/>
                </a:lnTo>
                <a:lnTo>
                  <a:pt x="52" y="2"/>
                </a:lnTo>
                <a:lnTo>
                  <a:pt x="51" y="2"/>
                </a:lnTo>
                <a:lnTo>
                  <a:pt x="46" y="2"/>
                </a:lnTo>
                <a:lnTo>
                  <a:pt x="43" y="2"/>
                </a:lnTo>
                <a:lnTo>
                  <a:pt x="43" y="0"/>
                </a:lnTo>
                <a:lnTo>
                  <a:pt x="42" y="0"/>
                </a:lnTo>
                <a:lnTo>
                  <a:pt x="41" y="0"/>
                </a:lnTo>
                <a:lnTo>
                  <a:pt x="35" y="0"/>
                </a:lnTo>
                <a:lnTo>
                  <a:pt x="32" y="0"/>
                </a:lnTo>
                <a:lnTo>
                  <a:pt x="31" y="0"/>
                </a:lnTo>
                <a:lnTo>
                  <a:pt x="30" y="0"/>
                </a:lnTo>
                <a:lnTo>
                  <a:pt x="24" y="0"/>
                </a:lnTo>
                <a:lnTo>
                  <a:pt x="21" y="0"/>
                </a:lnTo>
                <a:lnTo>
                  <a:pt x="19" y="2"/>
                </a:lnTo>
                <a:lnTo>
                  <a:pt x="14" y="2"/>
                </a:lnTo>
                <a:lnTo>
                  <a:pt x="11" y="2"/>
                </a:lnTo>
                <a:lnTo>
                  <a:pt x="8" y="3"/>
                </a:lnTo>
                <a:lnTo>
                  <a:pt x="3" y="3"/>
                </a:lnTo>
                <a:lnTo>
                  <a:pt x="0" y="3"/>
                </a:lnTo>
                <a:lnTo>
                  <a:pt x="0" y="4"/>
                </a:lnTo>
                <a:lnTo>
                  <a:pt x="0" y="5"/>
                </a:lnTo>
                <a:lnTo>
                  <a:pt x="0" y="10"/>
                </a:lnTo>
                <a:lnTo>
                  <a:pt x="0" y="14"/>
                </a:lnTo>
                <a:lnTo>
                  <a:pt x="1" y="14"/>
                </a:lnTo>
                <a:lnTo>
                  <a:pt x="2" y="14"/>
                </a:lnTo>
                <a:lnTo>
                  <a:pt x="7" y="14"/>
                </a:lnTo>
                <a:lnTo>
                  <a:pt x="11" y="14"/>
                </a:lnTo>
                <a:lnTo>
                  <a:pt x="12" y="13"/>
                </a:lnTo>
                <a:lnTo>
                  <a:pt x="13" y="13"/>
                </a:lnTo>
                <a:lnTo>
                  <a:pt x="18" y="13"/>
                </a:lnTo>
                <a:lnTo>
                  <a:pt x="21" y="13"/>
                </a:lnTo>
                <a:lnTo>
                  <a:pt x="22" y="12"/>
                </a:lnTo>
                <a:lnTo>
                  <a:pt x="23" y="12"/>
                </a:lnTo>
                <a:lnTo>
                  <a:pt x="28" y="12"/>
                </a:lnTo>
                <a:lnTo>
                  <a:pt x="31" y="12"/>
                </a:lnTo>
                <a:lnTo>
                  <a:pt x="32" y="12"/>
                </a:lnTo>
                <a:lnTo>
                  <a:pt x="33" y="12"/>
                </a:lnTo>
                <a:lnTo>
                  <a:pt x="37" y="12"/>
                </a:lnTo>
                <a:lnTo>
                  <a:pt x="41" y="12"/>
                </a:lnTo>
                <a:lnTo>
                  <a:pt x="42" y="12"/>
                </a:lnTo>
                <a:lnTo>
                  <a:pt x="47" y="13"/>
                </a:lnTo>
                <a:lnTo>
                  <a:pt x="50" y="13"/>
                </a:lnTo>
                <a:lnTo>
                  <a:pt x="51" y="13"/>
                </a:lnTo>
                <a:lnTo>
                  <a:pt x="57" y="14"/>
                </a:lnTo>
                <a:lnTo>
                  <a:pt x="60" y="14"/>
                </a:lnTo>
                <a:lnTo>
                  <a:pt x="61" y="14"/>
                </a:lnTo>
                <a:lnTo>
                  <a:pt x="66" y="15"/>
                </a:lnTo>
                <a:lnTo>
                  <a:pt x="70" y="15"/>
                </a:lnTo>
                <a:lnTo>
                  <a:pt x="71" y="15"/>
                </a:lnTo>
                <a:lnTo>
                  <a:pt x="76" y="17"/>
                </a:lnTo>
                <a:lnTo>
                  <a:pt x="79" y="17"/>
                </a:lnTo>
                <a:lnTo>
                  <a:pt x="80" y="17"/>
                </a:lnTo>
                <a:lnTo>
                  <a:pt x="85" y="19"/>
                </a:lnTo>
                <a:lnTo>
                  <a:pt x="88" y="20"/>
                </a:lnTo>
                <a:lnTo>
                  <a:pt x="89" y="20"/>
                </a:lnTo>
                <a:lnTo>
                  <a:pt x="94" y="22"/>
                </a:lnTo>
                <a:lnTo>
                  <a:pt x="97" y="22"/>
                </a:lnTo>
                <a:lnTo>
                  <a:pt x="98" y="22"/>
                </a:lnTo>
                <a:lnTo>
                  <a:pt x="100" y="23"/>
                </a:lnTo>
                <a:lnTo>
                  <a:pt x="103" y="25"/>
                </a:lnTo>
                <a:lnTo>
                  <a:pt x="106" y="26"/>
                </a:lnTo>
                <a:lnTo>
                  <a:pt x="107" y="26"/>
                </a:lnTo>
                <a:lnTo>
                  <a:pt x="111" y="28"/>
                </a:lnTo>
                <a:lnTo>
                  <a:pt x="115" y="29"/>
                </a:lnTo>
                <a:lnTo>
                  <a:pt x="116" y="29"/>
                </a:lnTo>
                <a:lnTo>
                  <a:pt x="117" y="30"/>
                </a:lnTo>
                <a:lnTo>
                  <a:pt x="120" y="32"/>
                </a:lnTo>
                <a:lnTo>
                  <a:pt x="123" y="33"/>
                </a:lnTo>
                <a:lnTo>
                  <a:pt x="124" y="33"/>
                </a:lnTo>
                <a:lnTo>
                  <a:pt x="125" y="34"/>
                </a:lnTo>
                <a:lnTo>
                  <a:pt x="129" y="36"/>
                </a:lnTo>
                <a:lnTo>
                  <a:pt x="132" y="37"/>
                </a:lnTo>
                <a:lnTo>
                  <a:pt x="133" y="37"/>
                </a:lnTo>
                <a:lnTo>
                  <a:pt x="134" y="38"/>
                </a:lnTo>
                <a:lnTo>
                  <a:pt x="137" y="41"/>
                </a:lnTo>
                <a:lnTo>
                  <a:pt x="140" y="42"/>
                </a:lnTo>
                <a:lnTo>
                  <a:pt x="141" y="42"/>
                </a:lnTo>
                <a:lnTo>
                  <a:pt x="142" y="43"/>
                </a:lnTo>
                <a:lnTo>
                  <a:pt x="146" y="45"/>
                </a:lnTo>
                <a:lnTo>
                  <a:pt x="149" y="46"/>
                </a:lnTo>
                <a:lnTo>
                  <a:pt x="150" y="46"/>
                </a:lnTo>
                <a:lnTo>
                  <a:pt x="151" y="47"/>
                </a:lnTo>
                <a:lnTo>
                  <a:pt x="154" y="50"/>
                </a:lnTo>
                <a:lnTo>
                  <a:pt x="157" y="51"/>
                </a:lnTo>
                <a:lnTo>
                  <a:pt x="159" y="51"/>
                </a:lnTo>
                <a:lnTo>
                  <a:pt x="160" y="52"/>
                </a:lnTo>
                <a:lnTo>
                  <a:pt x="163" y="55"/>
                </a:lnTo>
                <a:lnTo>
                  <a:pt x="166" y="58"/>
                </a:lnTo>
                <a:lnTo>
                  <a:pt x="167" y="58"/>
                </a:lnTo>
                <a:lnTo>
                  <a:pt x="168" y="59"/>
                </a:lnTo>
                <a:lnTo>
                  <a:pt x="171" y="62"/>
                </a:lnTo>
                <a:lnTo>
                  <a:pt x="174" y="63"/>
                </a:lnTo>
                <a:lnTo>
                  <a:pt x="175" y="63"/>
                </a:lnTo>
                <a:lnTo>
                  <a:pt x="176" y="64"/>
                </a:lnTo>
                <a:lnTo>
                  <a:pt x="179" y="67"/>
                </a:lnTo>
                <a:lnTo>
                  <a:pt x="182" y="69"/>
                </a:lnTo>
                <a:lnTo>
                  <a:pt x="183" y="69"/>
                </a:lnTo>
                <a:lnTo>
                  <a:pt x="184" y="70"/>
                </a:lnTo>
                <a:lnTo>
                  <a:pt x="187" y="73"/>
                </a:lnTo>
                <a:lnTo>
                  <a:pt x="190" y="75"/>
                </a:lnTo>
                <a:lnTo>
                  <a:pt x="191" y="75"/>
                </a:lnTo>
                <a:lnTo>
                  <a:pt x="192" y="76"/>
                </a:lnTo>
                <a:lnTo>
                  <a:pt x="195" y="79"/>
                </a:lnTo>
                <a:lnTo>
                  <a:pt x="198" y="81"/>
                </a:lnTo>
                <a:lnTo>
                  <a:pt x="199" y="81"/>
                </a:lnTo>
                <a:lnTo>
                  <a:pt x="200" y="82"/>
                </a:lnTo>
                <a:lnTo>
                  <a:pt x="204" y="85"/>
                </a:lnTo>
                <a:lnTo>
                  <a:pt x="206" y="87"/>
                </a:lnTo>
                <a:lnTo>
                  <a:pt x="207" y="87"/>
                </a:lnTo>
                <a:lnTo>
                  <a:pt x="208" y="89"/>
                </a:lnTo>
                <a:lnTo>
                  <a:pt x="211" y="92"/>
                </a:lnTo>
                <a:lnTo>
                  <a:pt x="214" y="94"/>
                </a:lnTo>
                <a:lnTo>
                  <a:pt x="215" y="94"/>
                </a:lnTo>
                <a:lnTo>
                  <a:pt x="216" y="96"/>
                </a:lnTo>
                <a:lnTo>
                  <a:pt x="220" y="99"/>
                </a:lnTo>
                <a:lnTo>
                  <a:pt x="222" y="101"/>
                </a:lnTo>
                <a:lnTo>
                  <a:pt x="223" y="101"/>
                </a:lnTo>
                <a:lnTo>
                  <a:pt x="224" y="102"/>
                </a:lnTo>
                <a:lnTo>
                  <a:pt x="227" y="105"/>
                </a:lnTo>
                <a:lnTo>
                  <a:pt x="229" y="107"/>
                </a:lnTo>
                <a:lnTo>
                  <a:pt x="230" y="107"/>
                </a:lnTo>
                <a:lnTo>
                  <a:pt x="231" y="109"/>
                </a:lnTo>
                <a:lnTo>
                  <a:pt x="235" y="113"/>
                </a:lnTo>
                <a:lnTo>
                  <a:pt x="238" y="115"/>
                </a:lnTo>
                <a:lnTo>
                  <a:pt x="239" y="115"/>
                </a:lnTo>
                <a:lnTo>
                  <a:pt x="240" y="117"/>
                </a:lnTo>
                <a:lnTo>
                  <a:pt x="243" y="120"/>
                </a:lnTo>
                <a:lnTo>
                  <a:pt x="245" y="122"/>
                </a:lnTo>
                <a:lnTo>
                  <a:pt x="246" y="122"/>
                </a:lnTo>
                <a:lnTo>
                  <a:pt x="248" y="124"/>
                </a:lnTo>
                <a:lnTo>
                  <a:pt x="251" y="127"/>
                </a:lnTo>
                <a:lnTo>
                  <a:pt x="253" y="129"/>
                </a:lnTo>
                <a:lnTo>
                  <a:pt x="254" y="129"/>
                </a:lnTo>
                <a:lnTo>
                  <a:pt x="255" y="131"/>
                </a:lnTo>
                <a:lnTo>
                  <a:pt x="258" y="134"/>
                </a:lnTo>
                <a:lnTo>
                  <a:pt x="260" y="136"/>
                </a:lnTo>
                <a:lnTo>
                  <a:pt x="261" y="136"/>
                </a:lnTo>
                <a:lnTo>
                  <a:pt x="263" y="138"/>
                </a:lnTo>
                <a:lnTo>
                  <a:pt x="266" y="141"/>
                </a:lnTo>
                <a:lnTo>
                  <a:pt x="268" y="143"/>
                </a:lnTo>
                <a:lnTo>
                  <a:pt x="269" y="143"/>
                </a:lnTo>
                <a:lnTo>
                  <a:pt x="270" y="145"/>
                </a:lnTo>
                <a:lnTo>
                  <a:pt x="273" y="148"/>
                </a:lnTo>
                <a:lnTo>
                  <a:pt x="277" y="150"/>
                </a:lnTo>
                <a:lnTo>
                  <a:pt x="278" y="150"/>
                </a:lnTo>
                <a:lnTo>
                  <a:pt x="281" y="151"/>
                </a:lnTo>
                <a:lnTo>
                  <a:pt x="283" y="151"/>
                </a:lnTo>
                <a:lnTo>
                  <a:pt x="284" y="151"/>
                </a:lnTo>
                <a:lnTo>
                  <a:pt x="283" y="151"/>
                </a:lnTo>
                <a:lnTo>
                  <a:pt x="280" y="151"/>
                </a:lnTo>
                <a:lnTo>
                  <a:pt x="278" y="151"/>
                </a:lnTo>
                <a:lnTo>
                  <a:pt x="278" y="150"/>
                </a:lnTo>
                <a:lnTo>
                  <a:pt x="279" y="152"/>
                </a:lnTo>
                <a:lnTo>
                  <a:pt x="280" y="153"/>
                </a:lnTo>
                <a:lnTo>
                  <a:pt x="281" y="153"/>
                </a:lnTo>
                <a:lnTo>
                  <a:pt x="282" y="152"/>
                </a:lnTo>
                <a:lnTo>
                  <a:pt x="284" y="151"/>
                </a:lnTo>
                <a:lnTo>
                  <a:pt x="279" y="14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Freeform 217"/>
          <p:cNvSpPr/>
          <p:nvPr/>
        </p:nvSpPr>
        <p:spPr>
          <a:xfrm>
            <a:off x="4100400" y="5419800"/>
            <a:ext cx="189000" cy="109440"/>
          </a:xfrm>
          <a:custGeom>
            <a:avLst/>
            <a:gdLst>
              <a:gd name="textAreaLeft" fmla="*/ 0 w 189000"/>
              <a:gd name="textAreaRight" fmla="*/ 189360 w 189000"/>
              <a:gd name="textAreaTop" fmla="*/ 0 h 109440"/>
              <a:gd name="textAreaBottom" fmla="*/ 109800 h 109440"/>
            </a:gdLst>
            <a:ahLst/>
            <a:rect l="textAreaLeft" t="textAreaTop" r="textAreaRight" b="textAreaBottom"/>
            <a:pathLst>
              <a:path w="238" h="138">
                <a:moveTo>
                  <a:pt x="233" y="126"/>
                </a:moveTo>
                <a:lnTo>
                  <a:pt x="236" y="128"/>
                </a:lnTo>
                <a:lnTo>
                  <a:pt x="237" y="129"/>
                </a:lnTo>
                <a:lnTo>
                  <a:pt x="238" y="129"/>
                </a:lnTo>
                <a:lnTo>
                  <a:pt x="236" y="127"/>
                </a:lnTo>
                <a:lnTo>
                  <a:pt x="236" y="125"/>
                </a:lnTo>
                <a:lnTo>
                  <a:pt x="233" y="123"/>
                </a:lnTo>
                <a:lnTo>
                  <a:pt x="232" y="122"/>
                </a:lnTo>
                <a:lnTo>
                  <a:pt x="232" y="121"/>
                </a:lnTo>
                <a:lnTo>
                  <a:pt x="229" y="119"/>
                </a:lnTo>
                <a:lnTo>
                  <a:pt x="228" y="118"/>
                </a:lnTo>
                <a:lnTo>
                  <a:pt x="228" y="117"/>
                </a:lnTo>
                <a:lnTo>
                  <a:pt x="225" y="115"/>
                </a:lnTo>
                <a:lnTo>
                  <a:pt x="224" y="114"/>
                </a:lnTo>
                <a:lnTo>
                  <a:pt x="224" y="113"/>
                </a:lnTo>
                <a:lnTo>
                  <a:pt x="219" y="110"/>
                </a:lnTo>
                <a:lnTo>
                  <a:pt x="218" y="109"/>
                </a:lnTo>
                <a:lnTo>
                  <a:pt x="218" y="108"/>
                </a:lnTo>
                <a:lnTo>
                  <a:pt x="214" y="105"/>
                </a:lnTo>
                <a:lnTo>
                  <a:pt x="212" y="104"/>
                </a:lnTo>
                <a:lnTo>
                  <a:pt x="212" y="103"/>
                </a:lnTo>
                <a:lnTo>
                  <a:pt x="208" y="100"/>
                </a:lnTo>
                <a:lnTo>
                  <a:pt x="206" y="99"/>
                </a:lnTo>
                <a:lnTo>
                  <a:pt x="206" y="98"/>
                </a:lnTo>
                <a:lnTo>
                  <a:pt x="200" y="95"/>
                </a:lnTo>
                <a:lnTo>
                  <a:pt x="198" y="94"/>
                </a:lnTo>
                <a:lnTo>
                  <a:pt x="198" y="93"/>
                </a:lnTo>
                <a:lnTo>
                  <a:pt x="193" y="90"/>
                </a:lnTo>
                <a:lnTo>
                  <a:pt x="191" y="89"/>
                </a:lnTo>
                <a:lnTo>
                  <a:pt x="191" y="88"/>
                </a:lnTo>
                <a:lnTo>
                  <a:pt x="185" y="85"/>
                </a:lnTo>
                <a:lnTo>
                  <a:pt x="182" y="83"/>
                </a:lnTo>
                <a:lnTo>
                  <a:pt x="182" y="82"/>
                </a:lnTo>
                <a:lnTo>
                  <a:pt x="177" y="78"/>
                </a:lnTo>
                <a:lnTo>
                  <a:pt x="173" y="76"/>
                </a:lnTo>
                <a:lnTo>
                  <a:pt x="173" y="75"/>
                </a:lnTo>
                <a:lnTo>
                  <a:pt x="168" y="72"/>
                </a:lnTo>
                <a:lnTo>
                  <a:pt x="165" y="71"/>
                </a:lnTo>
                <a:lnTo>
                  <a:pt x="165" y="70"/>
                </a:lnTo>
                <a:lnTo>
                  <a:pt x="158" y="67"/>
                </a:lnTo>
                <a:lnTo>
                  <a:pt x="155" y="65"/>
                </a:lnTo>
                <a:lnTo>
                  <a:pt x="155" y="64"/>
                </a:lnTo>
                <a:lnTo>
                  <a:pt x="149" y="61"/>
                </a:lnTo>
                <a:lnTo>
                  <a:pt x="145" y="59"/>
                </a:lnTo>
                <a:lnTo>
                  <a:pt x="145" y="58"/>
                </a:lnTo>
                <a:lnTo>
                  <a:pt x="139" y="55"/>
                </a:lnTo>
                <a:lnTo>
                  <a:pt x="136" y="54"/>
                </a:lnTo>
                <a:lnTo>
                  <a:pt x="136" y="53"/>
                </a:lnTo>
                <a:lnTo>
                  <a:pt x="129" y="50"/>
                </a:lnTo>
                <a:lnTo>
                  <a:pt x="126" y="48"/>
                </a:lnTo>
                <a:lnTo>
                  <a:pt x="126" y="47"/>
                </a:lnTo>
                <a:lnTo>
                  <a:pt x="120" y="44"/>
                </a:lnTo>
                <a:lnTo>
                  <a:pt x="117" y="43"/>
                </a:lnTo>
                <a:lnTo>
                  <a:pt x="117" y="42"/>
                </a:lnTo>
                <a:lnTo>
                  <a:pt x="110" y="39"/>
                </a:lnTo>
                <a:lnTo>
                  <a:pt x="107" y="38"/>
                </a:lnTo>
                <a:lnTo>
                  <a:pt x="107" y="37"/>
                </a:lnTo>
                <a:lnTo>
                  <a:pt x="100" y="34"/>
                </a:lnTo>
                <a:lnTo>
                  <a:pt x="97" y="33"/>
                </a:lnTo>
                <a:lnTo>
                  <a:pt x="97" y="32"/>
                </a:lnTo>
                <a:lnTo>
                  <a:pt x="91" y="29"/>
                </a:lnTo>
                <a:lnTo>
                  <a:pt x="88" y="28"/>
                </a:lnTo>
                <a:lnTo>
                  <a:pt x="88" y="27"/>
                </a:lnTo>
                <a:lnTo>
                  <a:pt x="82" y="23"/>
                </a:lnTo>
                <a:lnTo>
                  <a:pt x="79" y="22"/>
                </a:lnTo>
                <a:lnTo>
                  <a:pt x="79" y="21"/>
                </a:lnTo>
                <a:lnTo>
                  <a:pt x="73" y="19"/>
                </a:lnTo>
                <a:lnTo>
                  <a:pt x="69" y="18"/>
                </a:lnTo>
                <a:lnTo>
                  <a:pt x="69" y="17"/>
                </a:lnTo>
                <a:lnTo>
                  <a:pt x="64" y="15"/>
                </a:lnTo>
                <a:lnTo>
                  <a:pt x="61" y="14"/>
                </a:lnTo>
                <a:lnTo>
                  <a:pt x="61" y="13"/>
                </a:lnTo>
                <a:lnTo>
                  <a:pt x="60" y="13"/>
                </a:lnTo>
                <a:lnTo>
                  <a:pt x="59" y="13"/>
                </a:lnTo>
                <a:lnTo>
                  <a:pt x="55" y="12"/>
                </a:lnTo>
                <a:lnTo>
                  <a:pt x="52" y="11"/>
                </a:lnTo>
                <a:lnTo>
                  <a:pt x="52" y="10"/>
                </a:lnTo>
                <a:lnTo>
                  <a:pt x="51" y="10"/>
                </a:lnTo>
                <a:lnTo>
                  <a:pt x="50" y="10"/>
                </a:lnTo>
                <a:lnTo>
                  <a:pt x="47" y="9"/>
                </a:lnTo>
                <a:lnTo>
                  <a:pt x="44" y="8"/>
                </a:lnTo>
                <a:lnTo>
                  <a:pt x="44" y="7"/>
                </a:lnTo>
                <a:lnTo>
                  <a:pt x="43" y="7"/>
                </a:lnTo>
                <a:lnTo>
                  <a:pt x="41" y="7"/>
                </a:lnTo>
                <a:lnTo>
                  <a:pt x="38" y="6"/>
                </a:lnTo>
                <a:lnTo>
                  <a:pt x="36" y="6"/>
                </a:lnTo>
                <a:lnTo>
                  <a:pt x="36" y="5"/>
                </a:lnTo>
                <a:lnTo>
                  <a:pt x="35" y="5"/>
                </a:lnTo>
                <a:lnTo>
                  <a:pt x="34" y="5"/>
                </a:lnTo>
                <a:lnTo>
                  <a:pt x="31" y="4"/>
                </a:lnTo>
                <a:lnTo>
                  <a:pt x="29" y="4"/>
                </a:lnTo>
                <a:lnTo>
                  <a:pt x="29" y="3"/>
                </a:lnTo>
                <a:lnTo>
                  <a:pt x="28" y="3"/>
                </a:lnTo>
                <a:lnTo>
                  <a:pt x="24" y="2"/>
                </a:lnTo>
                <a:lnTo>
                  <a:pt x="22" y="2"/>
                </a:lnTo>
                <a:lnTo>
                  <a:pt x="22" y="1"/>
                </a:lnTo>
                <a:lnTo>
                  <a:pt x="21" y="1"/>
                </a:lnTo>
                <a:lnTo>
                  <a:pt x="18" y="1"/>
                </a:lnTo>
                <a:lnTo>
                  <a:pt x="16" y="1"/>
                </a:lnTo>
                <a:lnTo>
                  <a:pt x="16" y="0"/>
                </a:lnTo>
                <a:lnTo>
                  <a:pt x="15" y="0"/>
                </a:lnTo>
                <a:lnTo>
                  <a:pt x="11" y="0"/>
                </a:lnTo>
                <a:lnTo>
                  <a:pt x="10" y="0"/>
                </a:lnTo>
                <a:lnTo>
                  <a:pt x="6" y="1"/>
                </a:lnTo>
                <a:lnTo>
                  <a:pt x="5" y="1"/>
                </a:lnTo>
                <a:lnTo>
                  <a:pt x="1" y="3"/>
                </a:lnTo>
                <a:lnTo>
                  <a:pt x="0" y="3"/>
                </a:lnTo>
                <a:lnTo>
                  <a:pt x="3" y="9"/>
                </a:lnTo>
                <a:lnTo>
                  <a:pt x="4" y="12"/>
                </a:lnTo>
                <a:lnTo>
                  <a:pt x="5" y="12"/>
                </a:lnTo>
                <a:lnTo>
                  <a:pt x="6" y="12"/>
                </a:lnTo>
                <a:lnTo>
                  <a:pt x="7" y="12"/>
                </a:lnTo>
                <a:lnTo>
                  <a:pt x="8" y="12"/>
                </a:lnTo>
                <a:lnTo>
                  <a:pt x="9" y="12"/>
                </a:lnTo>
                <a:lnTo>
                  <a:pt x="10" y="11"/>
                </a:lnTo>
                <a:lnTo>
                  <a:pt x="13" y="11"/>
                </a:lnTo>
                <a:lnTo>
                  <a:pt x="14" y="11"/>
                </a:lnTo>
                <a:lnTo>
                  <a:pt x="15" y="11"/>
                </a:lnTo>
                <a:lnTo>
                  <a:pt x="18" y="12"/>
                </a:lnTo>
                <a:lnTo>
                  <a:pt x="19" y="12"/>
                </a:lnTo>
                <a:lnTo>
                  <a:pt x="20" y="12"/>
                </a:lnTo>
                <a:lnTo>
                  <a:pt x="23" y="13"/>
                </a:lnTo>
                <a:lnTo>
                  <a:pt x="25" y="13"/>
                </a:lnTo>
                <a:lnTo>
                  <a:pt x="26" y="13"/>
                </a:lnTo>
                <a:lnTo>
                  <a:pt x="30" y="15"/>
                </a:lnTo>
                <a:lnTo>
                  <a:pt x="32" y="15"/>
                </a:lnTo>
                <a:lnTo>
                  <a:pt x="33" y="15"/>
                </a:lnTo>
                <a:lnTo>
                  <a:pt x="37" y="17"/>
                </a:lnTo>
                <a:lnTo>
                  <a:pt x="39" y="17"/>
                </a:lnTo>
                <a:lnTo>
                  <a:pt x="40" y="17"/>
                </a:lnTo>
                <a:lnTo>
                  <a:pt x="41" y="18"/>
                </a:lnTo>
                <a:lnTo>
                  <a:pt x="45" y="19"/>
                </a:lnTo>
                <a:lnTo>
                  <a:pt x="47" y="20"/>
                </a:lnTo>
                <a:lnTo>
                  <a:pt x="48" y="20"/>
                </a:lnTo>
                <a:lnTo>
                  <a:pt x="49" y="21"/>
                </a:lnTo>
                <a:lnTo>
                  <a:pt x="52" y="23"/>
                </a:lnTo>
                <a:lnTo>
                  <a:pt x="55" y="24"/>
                </a:lnTo>
                <a:lnTo>
                  <a:pt x="56" y="24"/>
                </a:lnTo>
                <a:lnTo>
                  <a:pt x="61" y="27"/>
                </a:lnTo>
                <a:lnTo>
                  <a:pt x="64" y="28"/>
                </a:lnTo>
                <a:lnTo>
                  <a:pt x="65" y="28"/>
                </a:lnTo>
                <a:lnTo>
                  <a:pt x="66" y="29"/>
                </a:lnTo>
                <a:lnTo>
                  <a:pt x="69" y="31"/>
                </a:lnTo>
                <a:lnTo>
                  <a:pt x="73" y="32"/>
                </a:lnTo>
                <a:lnTo>
                  <a:pt x="74" y="32"/>
                </a:lnTo>
                <a:lnTo>
                  <a:pt x="75" y="33"/>
                </a:lnTo>
                <a:lnTo>
                  <a:pt x="78" y="36"/>
                </a:lnTo>
                <a:lnTo>
                  <a:pt x="81" y="37"/>
                </a:lnTo>
                <a:lnTo>
                  <a:pt x="82" y="37"/>
                </a:lnTo>
                <a:lnTo>
                  <a:pt x="83" y="38"/>
                </a:lnTo>
                <a:lnTo>
                  <a:pt x="88" y="40"/>
                </a:lnTo>
                <a:lnTo>
                  <a:pt x="91" y="41"/>
                </a:lnTo>
                <a:lnTo>
                  <a:pt x="92" y="41"/>
                </a:lnTo>
                <a:lnTo>
                  <a:pt x="93" y="42"/>
                </a:lnTo>
                <a:lnTo>
                  <a:pt x="97" y="45"/>
                </a:lnTo>
                <a:lnTo>
                  <a:pt x="100" y="46"/>
                </a:lnTo>
                <a:lnTo>
                  <a:pt x="102" y="46"/>
                </a:lnTo>
                <a:lnTo>
                  <a:pt x="103" y="47"/>
                </a:lnTo>
                <a:lnTo>
                  <a:pt x="107" y="50"/>
                </a:lnTo>
                <a:lnTo>
                  <a:pt x="110" y="51"/>
                </a:lnTo>
                <a:lnTo>
                  <a:pt x="111" y="51"/>
                </a:lnTo>
                <a:lnTo>
                  <a:pt x="112" y="52"/>
                </a:lnTo>
                <a:lnTo>
                  <a:pt x="117" y="55"/>
                </a:lnTo>
                <a:lnTo>
                  <a:pt x="120" y="57"/>
                </a:lnTo>
                <a:lnTo>
                  <a:pt x="121" y="57"/>
                </a:lnTo>
                <a:lnTo>
                  <a:pt x="122" y="58"/>
                </a:lnTo>
                <a:lnTo>
                  <a:pt x="126" y="61"/>
                </a:lnTo>
                <a:lnTo>
                  <a:pt x="129" y="62"/>
                </a:lnTo>
                <a:lnTo>
                  <a:pt x="130" y="62"/>
                </a:lnTo>
                <a:lnTo>
                  <a:pt x="132" y="63"/>
                </a:lnTo>
                <a:lnTo>
                  <a:pt x="135" y="66"/>
                </a:lnTo>
                <a:lnTo>
                  <a:pt x="138" y="68"/>
                </a:lnTo>
                <a:lnTo>
                  <a:pt x="139" y="68"/>
                </a:lnTo>
                <a:lnTo>
                  <a:pt x="140" y="69"/>
                </a:lnTo>
                <a:lnTo>
                  <a:pt x="144" y="72"/>
                </a:lnTo>
                <a:lnTo>
                  <a:pt x="148" y="73"/>
                </a:lnTo>
                <a:lnTo>
                  <a:pt x="149" y="73"/>
                </a:lnTo>
                <a:lnTo>
                  <a:pt x="150" y="74"/>
                </a:lnTo>
                <a:lnTo>
                  <a:pt x="154" y="77"/>
                </a:lnTo>
                <a:lnTo>
                  <a:pt x="157" y="80"/>
                </a:lnTo>
                <a:lnTo>
                  <a:pt x="158" y="80"/>
                </a:lnTo>
                <a:lnTo>
                  <a:pt x="159" y="81"/>
                </a:lnTo>
                <a:lnTo>
                  <a:pt x="163" y="84"/>
                </a:lnTo>
                <a:lnTo>
                  <a:pt x="166" y="85"/>
                </a:lnTo>
                <a:lnTo>
                  <a:pt x="167" y="85"/>
                </a:lnTo>
                <a:lnTo>
                  <a:pt x="168" y="86"/>
                </a:lnTo>
                <a:lnTo>
                  <a:pt x="171" y="89"/>
                </a:lnTo>
                <a:lnTo>
                  <a:pt x="174" y="91"/>
                </a:lnTo>
                <a:lnTo>
                  <a:pt x="176" y="91"/>
                </a:lnTo>
                <a:lnTo>
                  <a:pt x="177" y="92"/>
                </a:lnTo>
                <a:lnTo>
                  <a:pt x="180" y="95"/>
                </a:lnTo>
                <a:lnTo>
                  <a:pt x="182" y="96"/>
                </a:lnTo>
                <a:lnTo>
                  <a:pt x="183" y="96"/>
                </a:lnTo>
                <a:lnTo>
                  <a:pt x="184" y="97"/>
                </a:lnTo>
                <a:lnTo>
                  <a:pt x="187" y="100"/>
                </a:lnTo>
                <a:lnTo>
                  <a:pt x="189" y="102"/>
                </a:lnTo>
                <a:lnTo>
                  <a:pt x="191" y="102"/>
                </a:lnTo>
                <a:lnTo>
                  <a:pt x="192" y="103"/>
                </a:lnTo>
                <a:lnTo>
                  <a:pt x="195" y="106"/>
                </a:lnTo>
                <a:lnTo>
                  <a:pt x="197" y="107"/>
                </a:lnTo>
                <a:lnTo>
                  <a:pt x="198" y="107"/>
                </a:lnTo>
                <a:lnTo>
                  <a:pt x="201" y="111"/>
                </a:lnTo>
                <a:lnTo>
                  <a:pt x="203" y="112"/>
                </a:lnTo>
                <a:lnTo>
                  <a:pt x="204" y="112"/>
                </a:lnTo>
                <a:lnTo>
                  <a:pt x="208" y="116"/>
                </a:lnTo>
                <a:lnTo>
                  <a:pt x="209" y="117"/>
                </a:lnTo>
                <a:lnTo>
                  <a:pt x="210" y="117"/>
                </a:lnTo>
                <a:lnTo>
                  <a:pt x="213" y="120"/>
                </a:lnTo>
                <a:lnTo>
                  <a:pt x="214" y="121"/>
                </a:lnTo>
                <a:lnTo>
                  <a:pt x="215" y="121"/>
                </a:lnTo>
                <a:lnTo>
                  <a:pt x="217" y="124"/>
                </a:lnTo>
                <a:lnTo>
                  <a:pt x="218" y="125"/>
                </a:lnTo>
                <a:lnTo>
                  <a:pt x="219" y="125"/>
                </a:lnTo>
                <a:lnTo>
                  <a:pt x="222" y="128"/>
                </a:lnTo>
                <a:lnTo>
                  <a:pt x="223" y="129"/>
                </a:lnTo>
                <a:lnTo>
                  <a:pt x="224" y="129"/>
                </a:lnTo>
                <a:lnTo>
                  <a:pt x="225" y="131"/>
                </a:lnTo>
                <a:lnTo>
                  <a:pt x="226" y="132"/>
                </a:lnTo>
                <a:lnTo>
                  <a:pt x="227" y="135"/>
                </a:lnTo>
                <a:lnTo>
                  <a:pt x="228" y="135"/>
                </a:lnTo>
                <a:lnTo>
                  <a:pt x="231" y="137"/>
                </a:lnTo>
                <a:lnTo>
                  <a:pt x="232" y="138"/>
                </a:lnTo>
                <a:lnTo>
                  <a:pt x="233" y="138"/>
                </a:lnTo>
                <a:lnTo>
                  <a:pt x="229" y="137"/>
                </a:lnTo>
                <a:lnTo>
                  <a:pt x="228" y="136"/>
                </a:lnTo>
                <a:lnTo>
                  <a:pt x="228" y="135"/>
                </a:lnTo>
                <a:lnTo>
                  <a:pt x="228" y="136"/>
                </a:lnTo>
                <a:lnTo>
                  <a:pt x="228" y="137"/>
                </a:lnTo>
                <a:lnTo>
                  <a:pt x="228" y="138"/>
                </a:lnTo>
                <a:lnTo>
                  <a:pt x="229" y="138"/>
                </a:lnTo>
                <a:lnTo>
                  <a:pt x="231" y="138"/>
                </a:lnTo>
                <a:lnTo>
                  <a:pt x="232" y="138"/>
                </a:lnTo>
                <a:lnTo>
                  <a:pt x="233" y="138"/>
                </a:lnTo>
                <a:lnTo>
                  <a:pt x="233" y="12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Freeform 218"/>
          <p:cNvSpPr/>
          <p:nvPr/>
        </p:nvSpPr>
        <p:spPr>
          <a:xfrm>
            <a:off x="4286160" y="5506920"/>
            <a:ext cx="55800" cy="22320"/>
          </a:xfrm>
          <a:custGeom>
            <a:avLst/>
            <a:gdLst>
              <a:gd name="textAreaLeft" fmla="*/ 0 w 55800"/>
              <a:gd name="textAreaRight" fmla="*/ 56160 w 55800"/>
              <a:gd name="textAreaTop" fmla="*/ 0 h 22320"/>
              <a:gd name="textAreaBottom" fmla="*/ 22680 h 22320"/>
            </a:gdLst>
            <a:ahLst/>
            <a:rect l="textAreaLeft" t="textAreaTop" r="textAreaRight" b="textAreaBottom"/>
            <a:pathLst>
              <a:path w="70" h="28">
                <a:moveTo>
                  <a:pt x="58" y="6"/>
                </a:moveTo>
                <a:lnTo>
                  <a:pt x="62" y="3"/>
                </a:lnTo>
                <a:lnTo>
                  <a:pt x="64" y="1"/>
                </a:lnTo>
                <a:lnTo>
                  <a:pt x="65" y="0"/>
                </a:lnTo>
                <a:lnTo>
                  <a:pt x="64" y="0"/>
                </a:lnTo>
                <a:lnTo>
                  <a:pt x="63" y="0"/>
                </a:lnTo>
                <a:lnTo>
                  <a:pt x="62" y="0"/>
                </a:lnTo>
                <a:lnTo>
                  <a:pt x="60" y="0"/>
                </a:lnTo>
                <a:lnTo>
                  <a:pt x="59" y="0"/>
                </a:lnTo>
                <a:lnTo>
                  <a:pt x="58" y="0"/>
                </a:lnTo>
                <a:lnTo>
                  <a:pt x="57" y="1"/>
                </a:lnTo>
                <a:lnTo>
                  <a:pt x="56" y="1"/>
                </a:lnTo>
                <a:lnTo>
                  <a:pt x="55" y="1"/>
                </a:lnTo>
                <a:lnTo>
                  <a:pt x="54" y="2"/>
                </a:lnTo>
                <a:lnTo>
                  <a:pt x="53" y="2"/>
                </a:lnTo>
                <a:lnTo>
                  <a:pt x="52" y="2"/>
                </a:lnTo>
                <a:lnTo>
                  <a:pt x="51" y="2"/>
                </a:lnTo>
                <a:lnTo>
                  <a:pt x="50" y="3"/>
                </a:lnTo>
                <a:lnTo>
                  <a:pt x="49" y="3"/>
                </a:lnTo>
                <a:lnTo>
                  <a:pt x="48" y="3"/>
                </a:lnTo>
                <a:lnTo>
                  <a:pt x="47" y="3"/>
                </a:lnTo>
                <a:lnTo>
                  <a:pt x="45" y="4"/>
                </a:lnTo>
                <a:lnTo>
                  <a:pt x="44" y="4"/>
                </a:lnTo>
                <a:lnTo>
                  <a:pt x="42" y="5"/>
                </a:lnTo>
                <a:lnTo>
                  <a:pt x="41" y="5"/>
                </a:lnTo>
                <a:lnTo>
                  <a:pt x="40" y="5"/>
                </a:lnTo>
                <a:lnTo>
                  <a:pt x="39" y="5"/>
                </a:lnTo>
                <a:lnTo>
                  <a:pt x="38" y="6"/>
                </a:lnTo>
                <a:lnTo>
                  <a:pt x="37" y="6"/>
                </a:lnTo>
                <a:lnTo>
                  <a:pt x="36" y="7"/>
                </a:lnTo>
                <a:lnTo>
                  <a:pt x="35" y="7"/>
                </a:lnTo>
                <a:lnTo>
                  <a:pt x="34" y="8"/>
                </a:lnTo>
                <a:lnTo>
                  <a:pt x="33" y="8"/>
                </a:lnTo>
                <a:lnTo>
                  <a:pt x="32" y="8"/>
                </a:lnTo>
                <a:lnTo>
                  <a:pt x="30" y="8"/>
                </a:lnTo>
                <a:lnTo>
                  <a:pt x="29" y="9"/>
                </a:lnTo>
                <a:lnTo>
                  <a:pt x="28" y="9"/>
                </a:lnTo>
                <a:lnTo>
                  <a:pt x="26" y="10"/>
                </a:lnTo>
                <a:lnTo>
                  <a:pt x="25" y="10"/>
                </a:lnTo>
                <a:lnTo>
                  <a:pt x="24" y="11"/>
                </a:lnTo>
                <a:lnTo>
                  <a:pt x="23" y="11"/>
                </a:lnTo>
                <a:lnTo>
                  <a:pt x="22" y="11"/>
                </a:lnTo>
                <a:lnTo>
                  <a:pt x="21" y="11"/>
                </a:lnTo>
                <a:lnTo>
                  <a:pt x="20" y="12"/>
                </a:lnTo>
                <a:lnTo>
                  <a:pt x="19" y="12"/>
                </a:lnTo>
                <a:lnTo>
                  <a:pt x="18" y="13"/>
                </a:lnTo>
                <a:lnTo>
                  <a:pt x="17" y="13"/>
                </a:lnTo>
                <a:lnTo>
                  <a:pt x="15" y="13"/>
                </a:lnTo>
                <a:lnTo>
                  <a:pt x="14" y="13"/>
                </a:lnTo>
                <a:lnTo>
                  <a:pt x="13" y="14"/>
                </a:lnTo>
                <a:lnTo>
                  <a:pt x="12" y="14"/>
                </a:lnTo>
                <a:lnTo>
                  <a:pt x="11" y="14"/>
                </a:lnTo>
                <a:lnTo>
                  <a:pt x="10" y="14"/>
                </a:lnTo>
                <a:lnTo>
                  <a:pt x="9" y="15"/>
                </a:lnTo>
                <a:lnTo>
                  <a:pt x="8" y="15"/>
                </a:lnTo>
                <a:lnTo>
                  <a:pt x="7" y="15"/>
                </a:lnTo>
                <a:lnTo>
                  <a:pt x="6" y="15"/>
                </a:lnTo>
                <a:lnTo>
                  <a:pt x="5" y="15"/>
                </a:lnTo>
                <a:lnTo>
                  <a:pt x="4" y="16"/>
                </a:lnTo>
                <a:lnTo>
                  <a:pt x="3" y="16"/>
                </a:lnTo>
                <a:lnTo>
                  <a:pt x="2" y="16"/>
                </a:lnTo>
                <a:lnTo>
                  <a:pt x="0" y="16"/>
                </a:lnTo>
                <a:lnTo>
                  <a:pt x="0" y="17"/>
                </a:lnTo>
                <a:lnTo>
                  <a:pt x="0" y="18"/>
                </a:lnTo>
                <a:lnTo>
                  <a:pt x="0" y="24"/>
                </a:lnTo>
                <a:lnTo>
                  <a:pt x="0" y="28"/>
                </a:lnTo>
                <a:lnTo>
                  <a:pt x="2" y="28"/>
                </a:lnTo>
                <a:lnTo>
                  <a:pt x="3" y="28"/>
                </a:lnTo>
                <a:lnTo>
                  <a:pt x="4" y="28"/>
                </a:lnTo>
                <a:lnTo>
                  <a:pt x="5" y="28"/>
                </a:lnTo>
                <a:lnTo>
                  <a:pt x="6" y="28"/>
                </a:lnTo>
                <a:lnTo>
                  <a:pt x="8" y="27"/>
                </a:lnTo>
                <a:lnTo>
                  <a:pt x="9" y="27"/>
                </a:lnTo>
                <a:lnTo>
                  <a:pt x="11" y="26"/>
                </a:lnTo>
                <a:lnTo>
                  <a:pt x="12" y="26"/>
                </a:lnTo>
                <a:lnTo>
                  <a:pt x="13" y="26"/>
                </a:lnTo>
                <a:lnTo>
                  <a:pt x="15" y="25"/>
                </a:lnTo>
                <a:lnTo>
                  <a:pt x="17" y="25"/>
                </a:lnTo>
                <a:lnTo>
                  <a:pt x="18" y="25"/>
                </a:lnTo>
                <a:lnTo>
                  <a:pt x="20" y="24"/>
                </a:lnTo>
                <a:lnTo>
                  <a:pt x="21" y="24"/>
                </a:lnTo>
                <a:lnTo>
                  <a:pt x="22" y="24"/>
                </a:lnTo>
                <a:lnTo>
                  <a:pt x="23" y="22"/>
                </a:lnTo>
                <a:lnTo>
                  <a:pt x="24" y="22"/>
                </a:lnTo>
                <a:lnTo>
                  <a:pt x="25" y="22"/>
                </a:lnTo>
                <a:lnTo>
                  <a:pt x="27" y="21"/>
                </a:lnTo>
                <a:lnTo>
                  <a:pt x="29" y="20"/>
                </a:lnTo>
                <a:lnTo>
                  <a:pt x="32" y="19"/>
                </a:lnTo>
                <a:lnTo>
                  <a:pt x="33" y="19"/>
                </a:lnTo>
                <a:lnTo>
                  <a:pt x="34" y="19"/>
                </a:lnTo>
                <a:lnTo>
                  <a:pt x="36" y="18"/>
                </a:lnTo>
                <a:lnTo>
                  <a:pt x="37" y="18"/>
                </a:lnTo>
                <a:lnTo>
                  <a:pt x="38" y="18"/>
                </a:lnTo>
                <a:lnTo>
                  <a:pt x="39" y="17"/>
                </a:lnTo>
                <a:lnTo>
                  <a:pt x="41" y="16"/>
                </a:lnTo>
                <a:lnTo>
                  <a:pt x="42" y="16"/>
                </a:lnTo>
                <a:lnTo>
                  <a:pt x="43" y="16"/>
                </a:lnTo>
                <a:lnTo>
                  <a:pt x="45" y="15"/>
                </a:lnTo>
                <a:lnTo>
                  <a:pt x="48" y="14"/>
                </a:lnTo>
                <a:lnTo>
                  <a:pt x="49" y="14"/>
                </a:lnTo>
                <a:lnTo>
                  <a:pt x="50" y="14"/>
                </a:lnTo>
                <a:lnTo>
                  <a:pt x="52" y="13"/>
                </a:lnTo>
                <a:lnTo>
                  <a:pt x="53" y="13"/>
                </a:lnTo>
                <a:lnTo>
                  <a:pt x="54" y="13"/>
                </a:lnTo>
                <a:lnTo>
                  <a:pt x="55" y="12"/>
                </a:lnTo>
                <a:lnTo>
                  <a:pt x="56" y="12"/>
                </a:lnTo>
                <a:lnTo>
                  <a:pt x="57" y="12"/>
                </a:lnTo>
                <a:lnTo>
                  <a:pt x="58" y="12"/>
                </a:lnTo>
                <a:lnTo>
                  <a:pt x="59" y="12"/>
                </a:lnTo>
                <a:lnTo>
                  <a:pt x="60" y="11"/>
                </a:lnTo>
                <a:lnTo>
                  <a:pt x="62" y="11"/>
                </a:lnTo>
                <a:lnTo>
                  <a:pt x="63" y="11"/>
                </a:lnTo>
                <a:lnTo>
                  <a:pt x="64" y="11"/>
                </a:lnTo>
                <a:lnTo>
                  <a:pt x="65" y="11"/>
                </a:lnTo>
                <a:lnTo>
                  <a:pt x="68" y="8"/>
                </a:lnTo>
                <a:lnTo>
                  <a:pt x="69" y="7"/>
                </a:lnTo>
                <a:lnTo>
                  <a:pt x="70" y="6"/>
                </a:lnTo>
                <a:lnTo>
                  <a:pt x="69" y="7"/>
                </a:lnTo>
                <a:lnTo>
                  <a:pt x="66" y="10"/>
                </a:lnTo>
                <a:lnTo>
                  <a:pt x="65" y="11"/>
                </a:lnTo>
                <a:lnTo>
                  <a:pt x="68" y="11"/>
                </a:lnTo>
                <a:lnTo>
                  <a:pt x="69" y="11"/>
                </a:lnTo>
                <a:lnTo>
                  <a:pt x="70" y="11"/>
                </a:lnTo>
                <a:lnTo>
                  <a:pt x="70" y="8"/>
                </a:lnTo>
                <a:lnTo>
                  <a:pt x="70" y="7"/>
                </a:lnTo>
                <a:lnTo>
                  <a:pt x="70" y="6"/>
                </a:lnTo>
                <a:lnTo>
                  <a:pt x="58" y="6"/>
                </a:lnTo>
                <a:close/>
              </a:path>
            </a:pathLst>
          </a:custGeom>
          <a:solidFill>
            <a:srgbClr val="1f1a17"/>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20" name="Freeform 219"/>
          <p:cNvSpPr/>
          <p:nvPr/>
        </p:nvSpPr>
        <p:spPr>
          <a:xfrm>
            <a:off x="4332240" y="5427720"/>
            <a:ext cx="96840" cy="84240"/>
          </a:xfrm>
          <a:custGeom>
            <a:avLst/>
            <a:gdLst>
              <a:gd name="textAreaLeft" fmla="*/ 0 w 96840"/>
              <a:gd name="textAreaRight" fmla="*/ 97200 w 96840"/>
              <a:gd name="textAreaTop" fmla="*/ 0 h 84240"/>
              <a:gd name="textAreaBottom" fmla="*/ 84600 h 84240"/>
            </a:gdLst>
            <a:ahLst/>
            <a:rect l="textAreaLeft" t="textAreaTop" r="textAreaRight" b="textAreaBottom"/>
            <a:pathLst>
              <a:path w="123" h="107">
                <a:moveTo>
                  <a:pt x="123" y="7"/>
                </a:moveTo>
                <a:lnTo>
                  <a:pt x="123" y="7"/>
                </a:lnTo>
                <a:lnTo>
                  <a:pt x="122" y="7"/>
                </a:lnTo>
                <a:lnTo>
                  <a:pt x="118" y="6"/>
                </a:lnTo>
                <a:lnTo>
                  <a:pt x="116" y="6"/>
                </a:lnTo>
                <a:lnTo>
                  <a:pt x="116" y="5"/>
                </a:lnTo>
                <a:lnTo>
                  <a:pt x="115" y="5"/>
                </a:lnTo>
                <a:lnTo>
                  <a:pt x="114" y="5"/>
                </a:lnTo>
                <a:lnTo>
                  <a:pt x="111" y="5"/>
                </a:lnTo>
                <a:lnTo>
                  <a:pt x="109" y="5"/>
                </a:lnTo>
                <a:lnTo>
                  <a:pt x="109" y="4"/>
                </a:lnTo>
                <a:lnTo>
                  <a:pt x="108" y="4"/>
                </a:lnTo>
                <a:lnTo>
                  <a:pt x="104" y="3"/>
                </a:lnTo>
                <a:lnTo>
                  <a:pt x="102" y="3"/>
                </a:lnTo>
                <a:lnTo>
                  <a:pt x="102" y="2"/>
                </a:lnTo>
                <a:lnTo>
                  <a:pt x="101" y="2"/>
                </a:lnTo>
                <a:lnTo>
                  <a:pt x="98" y="2"/>
                </a:lnTo>
                <a:lnTo>
                  <a:pt x="96" y="2"/>
                </a:lnTo>
                <a:lnTo>
                  <a:pt x="96" y="1"/>
                </a:lnTo>
                <a:lnTo>
                  <a:pt x="95" y="1"/>
                </a:lnTo>
                <a:lnTo>
                  <a:pt x="91" y="1"/>
                </a:lnTo>
                <a:lnTo>
                  <a:pt x="89" y="1"/>
                </a:lnTo>
                <a:lnTo>
                  <a:pt x="88" y="1"/>
                </a:lnTo>
                <a:lnTo>
                  <a:pt x="85" y="1"/>
                </a:lnTo>
                <a:lnTo>
                  <a:pt x="83" y="1"/>
                </a:lnTo>
                <a:lnTo>
                  <a:pt x="83" y="0"/>
                </a:lnTo>
                <a:lnTo>
                  <a:pt x="82" y="0"/>
                </a:lnTo>
                <a:lnTo>
                  <a:pt x="79" y="0"/>
                </a:lnTo>
                <a:lnTo>
                  <a:pt x="78" y="0"/>
                </a:lnTo>
                <a:lnTo>
                  <a:pt x="76" y="0"/>
                </a:lnTo>
                <a:lnTo>
                  <a:pt x="73" y="0"/>
                </a:lnTo>
                <a:lnTo>
                  <a:pt x="71" y="0"/>
                </a:lnTo>
                <a:lnTo>
                  <a:pt x="67" y="1"/>
                </a:lnTo>
                <a:lnTo>
                  <a:pt x="66" y="1"/>
                </a:lnTo>
                <a:lnTo>
                  <a:pt x="61" y="2"/>
                </a:lnTo>
                <a:lnTo>
                  <a:pt x="60" y="2"/>
                </a:lnTo>
                <a:lnTo>
                  <a:pt x="56" y="3"/>
                </a:lnTo>
                <a:lnTo>
                  <a:pt x="55" y="3"/>
                </a:lnTo>
                <a:lnTo>
                  <a:pt x="51" y="5"/>
                </a:lnTo>
                <a:lnTo>
                  <a:pt x="50" y="5"/>
                </a:lnTo>
                <a:lnTo>
                  <a:pt x="49" y="6"/>
                </a:lnTo>
                <a:lnTo>
                  <a:pt x="46" y="7"/>
                </a:lnTo>
                <a:lnTo>
                  <a:pt x="45" y="7"/>
                </a:lnTo>
                <a:lnTo>
                  <a:pt x="44" y="8"/>
                </a:lnTo>
                <a:lnTo>
                  <a:pt x="42" y="9"/>
                </a:lnTo>
                <a:lnTo>
                  <a:pt x="41" y="9"/>
                </a:lnTo>
                <a:lnTo>
                  <a:pt x="40" y="10"/>
                </a:lnTo>
                <a:lnTo>
                  <a:pt x="37" y="11"/>
                </a:lnTo>
                <a:lnTo>
                  <a:pt x="36" y="12"/>
                </a:lnTo>
                <a:lnTo>
                  <a:pt x="35" y="13"/>
                </a:lnTo>
                <a:lnTo>
                  <a:pt x="34" y="14"/>
                </a:lnTo>
                <a:lnTo>
                  <a:pt x="33" y="15"/>
                </a:lnTo>
                <a:lnTo>
                  <a:pt x="31" y="17"/>
                </a:lnTo>
                <a:lnTo>
                  <a:pt x="29" y="18"/>
                </a:lnTo>
                <a:lnTo>
                  <a:pt x="28" y="19"/>
                </a:lnTo>
                <a:lnTo>
                  <a:pt x="27" y="20"/>
                </a:lnTo>
                <a:lnTo>
                  <a:pt x="26" y="22"/>
                </a:lnTo>
                <a:lnTo>
                  <a:pt x="25" y="23"/>
                </a:lnTo>
                <a:lnTo>
                  <a:pt x="24" y="24"/>
                </a:lnTo>
                <a:lnTo>
                  <a:pt x="22" y="25"/>
                </a:lnTo>
                <a:lnTo>
                  <a:pt x="21" y="26"/>
                </a:lnTo>
                <a:lnTo>
                  <a:pt x="19" y="30"/>
                </a:lnTo>
                <a:lnTo>
                  <a:pt x="19" y="31"/>
                </a:lnTo>
                <a:lnTo>
                  <a:pt x="18" y="32"/>
                </a:lnTo>
                <a:lnTo>
                  <a:pt x="16" y="34"/>
                </a:lnTo>
                <a:lnTo>
                  <a:pt x="15" y="35"/>
                </a:lnTo>
                <a:lnTo>
                  <a:pt x="14" y="36"/>
                </a:lnTo>
                <a:lnTo>
                  <a:pt x="13" y="39"/>
                </a:lnTo>
                <a:lnTo>
                  <a:pt x="12" y="40"/>
                </a:lnTo>
                <a:lnTo>
                  <a:pt x="10" y="44"/>
                </a:lnTo>
                <a:lnTo>
                  <a:pt x="10" y="45"/>
                </a:lnTo>
                <a:lnTo>
                  <a:pt x="8" y="49"/>
                </a:lnTo>
                <a:lnTo>
                  <a:pt x="8" y="51"/>
                </a:lnTo>
                <a:lnTo>
                  <a:pt x="7" y="55"/>
                </a:lnTo>
                <a:lnTo>
                  <a:pt x="7" y="57"/>
                </a:lnTo>
                <a:lnTo>
                  <a:pt x="5" y="61"/>
                </a:lnTo>
                <a:lnTo>
                  <a:pt x="5" y="63"/>
                </a:lnTo>
                <a:lnTo>
                  <a:pt x="4" y="67"/>
                </a:lnTo>
                <a:lnTo>
                  <a:pt x="4" y="69"/>
                </a:lnTo>
                <a:lnTo>
                  <a:pt x="2" y="72"/>
                </a:lnTo>
                <a:lnTo>
                  <a:pt x="2" y="75"/>
                </a:lnTo>
                <a:lnTo>
                  <a:pt x="2" y="77"/>
                </a:lnTo>
                <a:lnTo>
                  <a:pt x="1" y="79"/>
                </a:lnTo>
                <a:lnTo>
                  <a:pt x="1" y="82"/>
                </a:lnTo>
                <a:lnTo>
                  <a:pt x="1" y="84"/>
                </a:lnTo>
                <a:lnTo>
                  <a:pt x="0" y="86"/>
                </a:lnTo>
                <a:lnTo>
                  <a:pt x="0" y="89"/>
                </a:lnTo>
                <a:lnTo>
                  <a:pt x="0" y="91"/>
                </a:lnTo>
                <a:lnTo>
                  <a:pt x="0" y="92"/>
                </a:lnTo>
                <a:lnTo>
                  <a:pt x="0" y="93"/>
                </a:lnTo>
                <a:lnTo>
                  <a:pt x="0" y="96"/>
                </a:lnTo>
                <a:lnTo>
                  <a:pt x="0" y="99"/>
                </a:lnTo>
                <a:lnTo>
                  <a:pt x="0" y="100"/>
                </a:lnTo>
                <a:lnTo>
                  <a:pt x="0" y="101"/>
                </a:lnTo>
                <a:lnTo>
                  <a:pt x="0" y="104"/>
                </a:lnTo>
                <a:lnTo>
                  <a:pt x="0" y="107"/>
                </a:lnTo>
                <a:lnTo>
                  <a:pt x="1" y="107"/>
                </a:lnTo>
                <a:lnTo>
                  <a:pt x="7" y="107"/>
                </a:lnTo>
                <a:lnTo>
                  <a:pt x="11" y="107"/>
                </a:lnTo>
                <a:lnTo>
                  <a:pt x="12" y="107"/>
                </a:lnTo>
                <a:lnTo>
                  <a:pt x="12" y="106"/>
                </a:lnTo>
                <a:lnTo>
                  <a:pt x="12" y="103"/>
                </a:lnTo>
                <a:lnTo>
                  <a:pt x="12" y="100"/>
                </a:lnTo>
                <a:lnTo>
                  <a:pt x="12" y="99"/>
                </a:lnTo>
                <a:lnTo>
                  <a:pt x="12" y="98"/>
                </a:lnTo>
                <a:lnTo>
                  <a:pt x="12" y="95"/>
                </a:lnTo>
                <a:lnTo>
                  <a:pt x="12" y="93"/>
                </a:lnTo>
                <a:lnTo>
                  <a:pt x="12" y="92"/>
                </a:lnTo>
                <a:lnTo>
                  <a:pt x="12" y="91"/>
                </a:lnTo>
                <a:lnTo>
                  <a:pt x="12" y="88"/>
                </a:lnTo>
                <a:lnTo>
                  <a:pt x="12" y="86"/>
                </a:lnTo>
                <a:lnTo>
                  <a:pt x="13" y="85"/>
                </a:lnTo>
                <a:lnTo>
                  <a:pt x="13" y="84"/>
                </a:lnTo>
                <a:lnTo>
                  <a:pt x="13" y="81"/>
                </a:lnTo>
                <a:lnTo>
                  <a:pt x="13" y="79"/>
                </a:lnTo>
                <a:lnTo>
                  <a:pt x="14" y="78"/>
                </a:lnTo>
                <a:lnTo>
                  <a:pt x="14" y="75"/>
                </a:lnTo>
                <a:lnTo>
                  <a:pt x="14" y="73"/>
                </a:lnTo>
                <a:lnTo>
                  <a:pt x="15" y="72"/>
                </a:lnTo>
                <a:lnTo>
                  <a:pt x="15" y="68"/>
                </a:lnTo>
                <a:lnTo>
                  <a:pt x="15" y="66"/>
                </a:lnTo>
                <a:lnTo>
                  <a:pt x="16" y="65"/>
                </a:lnTo>
                <a:lnTo>
                  <a:pt x="16" y="62"/>
                </a:lnTo>
                <a:lnTo>
                  <a:pt x="16" y="61"/>
                </a:lnTo>
                <a:lnTo>
                  <a:pt x="18" y="60"/>
                </a:lnTo>
                <a:lnTo>
                  <a:pt x="19" y="57"/>
                </a:lnTo>
                <a:lnTo>
                  <a:pt x="19" y="55"/>
                </a:lnTo>
                <a:lnTo>
                  <a:pt x="20" y="54"/>
                </a:lnTo>
                <a:lnTo>
                  <a:pt x="20" y="51"/>
                </a:lnTo>
                <a:lnTo>
                  <a:pt x="20" y="50"/>
                </a:lnTo>
                <a:lnTo>
                  <a:pt x="21" y="49"/>
                </a:lnTo>
                <a:lnTo>
                  <a:pt x="22" y="47"/>
                </a:lnTo>
                <a:lnTo>
                  <a:pt x="23" y="45"/>
                </a:lnTo>
                <a:lnTo>
                  <a:pt x="24" y="43"/>
                </a:lnTo>
                <a:lnTo>
                  <a:pt x="25" y="42"/>
                </a:lnTo>
                <a:lnTo>
                  <a:pt x="26" y="41"/>
                </a:lnTo>
                <a:lnTo>
                  <a:pt x="27" y="39"/>
                </a:lnTo>
                <a:lnTo>
                  <a:pt x="28" y="37"/>
                </a:lnTo>
                <a:lnTo>
                  <a:pt x="29" y="35"/>
                </a:lnTo>
                <a:lnTo>
                  <a:pt x="30" y="33"/>
                </a:lnTo>
                <a:lnTo>
                  <a:pt x="31" y="32"/>
                </a:lnTo>
                <a:lnTo>
                  <a:pt x="33" y="31"/>
                </a:lnTo>
                <a:lnTo>
                  <a:pt x="34" y="30"/>
                </a:lnTo>
                <a:lnTo>
                  <a:pt x="35" y="29"/>
                </a:lnTo>
                <a:lnTo>
                  <a:pt x="36" y="28"/>
                </a:lnTo>
                <a:lnTo>
                  <a:pt x="37" y="27"/>
                </a:lnTo>
                <a:lnTo>
                  <a:pt x="38" y="26"/>
                </a:lnTo>
                <a:lnTo>
                  <a:pt x="39" y="25"/>
                </a:lnTo>
                <a:lnTo>
                  <a:pt x="40" y="24"/>
                </a:lnTo>
                <a:lnTo>
                  <a:pt x="41" y="23"/>
                </a:lnTo>
                <a:lnTo>
                  <a:pt x="43" y="22"/>
                </a:lnTo>
                <a:lnTo>
                  <a:pt x="44" y="21"/>
                </a:lnTo>
                <a:lnTo>
                  <a:pt x="45" y="20"/>
                </a:lnTo>
                <a:lnTo>
                  <a:pt x="46" y="19"/>
                </a:lnTo>
                <a:lnTo>
                  <a:pt x="49" y="19"/>
                </a:lnTo>
                <a:lnTo>
                  <a:pt x="50" y="19"/>
                </a:lnTo>
                <a:lnTo>
                  <a:pt x="51" y="18"/>
                </a:lnTo>
                <a:lnTo>
                  <a:pt x="52" y="17"/>
                </a:lnTo>
                <a:lnTo>
                  <a:pt x="54" y="15"/>
                </a:lnTo>
                <a:lnTo>
                  <a:pt x="56" y="15"/>
                </a:lnTo>
                <a:lnTo>
                  <a:pt x="57" y="15"/>
                </a:lnTo>
                <a:lnTo>
                  <a:pt x="58" y="14"/>
                </a:lnTo>
                <a:lnTo>
                  <a:pt x="60" y="14"/>
                </a:lnTo>
                <a:lnTo>
                  <a:pt x="61" y="14"/>
                </a:lnTo>
                <a:lnTo>
                  <a:pt x="63" y="13"/>
                </a:lnTo>
                <a:lnTo>
                  <a:pt x="66" y="13"/>
                </a:lnTo>
                <a:lnTo>
                  <a:pt x="67" y="13"/>
                </a:lnTo>
                <a:lnTo>
                  <a:pt x="68" y="12"/>
                </a:lnTo>
                <a:lnTo>
                  <a:pt x="70" y="12"/>
                </a:lnTo>
                <a:lnTo>
                  <a:pt x="71" y="12"/>
                </a:lnTo>
                <a:lnTo>
                  <a:pt x="72" y="11"/>
                </a:lnTo>
                <a:lnTo>
                  <a:pt x="75" y="11"/>
                </a:lnTo>
                <a:lnTo>
                  <a:pt x="76" y="11"/>
                </a:lnTo>
                <a:lnTo>
                  <a:pt x="78" y="11"/>
                </a:lnTo>
                <a:lnTo>
                  <a:pt x="81" y="11"/>
                </a:lnTo>
                <a:lnTo>
                  <a:pt x="82" y="11"/>
                </a:lnTo>
                <a:lnTo>
                  <a:pt x="83" y="11"/>
                </a:lnTo>
                <a:lnTo>
                  <a:pt x="86" y="11"/>
                </a:lnTo>
                <a:lnTo>
                  <a:pt x="87" y="11"/>
                </a:lnTo>
                <a:lnTo>
                  <a:pt x="88" y="11"/>
                </a:lnTo>
                <a:lnTo>
                  <a:pt x="91" y="12"/>
                </a:lnTo>
                <a:lnTo>
                  <a:pt x="93" y="12"/>
                </a:lnTo>
                <a:lnTo>
                  <a:pt x="94" y="12"/>
                </a:lnTo>
                <a:lnTo>
                  <a:pt x="97" y="13"/>
                </a:lnTo>
                <a:lnTo>
                  <a:pt x="99" y="13"/>
                </a:lnTo>
                <a:lnTo>
                  <a:pt x="100" y="13"/>
                </a:lnTo>
                <a:lnTo>
                  <a:pt x="103" y="14"/>
                </a:lnTo>
                <a:lnTo>
                  <a:pt x="105" y="14"/>
                </a:lnTo>
                <a:lnTo>
                  <a:pt x="107" y="14"/>
                </a:lnTo>
                <a:lnTo>
                  <a:pt x="110" y="17"/>
                </a:lnTo>
                <a:lnTo>
                  <a:pt x="112" y="17"/>
                </a:lnTo>
                <a:lnTo>
                  <a:pt x="113" y="17"/>
                </a:lnTo>
                <a:lnTo>
                  <a:pt x="116" y="19"/>
                </a:lnTo>
                <a:lnTo>
                  <a:pt x="118" y="19"/>
                </a:lnTo>
                <a:lnTo>
                  <a:pt x="119" y="19"/>
                </a:lnTo>
                <a:lnTo>
                  <a:pt x="123" y="7"/>
                </a:lnTo>
                <a:close/>
              </a:path>
            </a:pathLst>
          </a:custGeom>
          <a:solidFill>
            <a:srgbClr val="1f1a17"/>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21" name="Freeform 220"/>
          <p:cNvSpPr/>
          <p:nvPr/>
        </p:nvSpPr>
        <p:spPr>
          <a:xfrm>
            <a:off x="4425840" y="5432400"/>
            <a:ext cx="128520" cy="79560"/>
          </a:xfrm>
          <a:custGeom>
            <a:avLst/>
            <a:gdLst>
              <a:gd name="textAreaLeft" fmla="*/ 0 w 128520"/>
              <a:gd name="textAreaRight" fmla="*/ 128880 w 128520"/>
              <a:gd name="textAreaTop" fmla="*/ 0 h 79560"/>
              <a:gd name="textAreaBottom" fmla="*/ 79920 h 79560"/>
            </a:gdLst>
            <a:ahLst/>
            <a:rect l="textAreaLeft" t="textAreaTop" r="textAreaRight" b="textAreaBottom"/>
            <a:pathLst>
              <a:path w="162" h="100">
                <a:moveTo>
                  <a:pt x="156" y="88"/>
                </a:moveTo>
                <a:lnTo>
                  <a:pt x="159" y="90"/>
                </a:lnTo>
                <a:lnTo>
                  <a:pt x="161" y="90"/>
                </a:lnTo>
                <a:lnTo>
                  <a:pt x="162" y="90"/>
                </a:lnTo>
                <a:lnTo>
                  <a:pt x="159" y="88"/>
                </a:lnTo>
                <a:lnTo>
                  <a:pt x="158" y="87"/>
                </a:lnTo>
                <a:lnTo>
                  <a:pt x="158" y="86"/>
                </a:lnTo>
                <a:lnTo>
                  <a:pt x="156" y="84"/>
                </a:lnTo>
                <a:lnTo>
                  <a:pt x="155" y="83"/>
                </a:lnTo>
                <a:lnTo>
                  <a:pt x="155" y="82"/>
                </a:lnTo>
                <a:lnTo>
                  <a:pt x="152" y="80"/>
                </a:lnTo>
                <a:lnTo>
                  <a:pt x="151" y="79"/>
                </a:lnTo>
                <a:lnTo>
                  <a:pt x="151" y="78"/>
                </a:lnTo>
                <a:lnTo>
                  <a:pt x="148" y="77"/>
                </a:lnTo>
                <a:lnTo>
                  <a:pt x="147" y="76"/>
                </a:lnTo>
                <a:lnTo>
                  <a:pt x="147" y="75"/>
                </a:lnTo>
                <a:lnTo>
                  <a:pt x="144" y="73"/>
                </a:lnTo>
                <a:lnTo>
                  <a:pt x="143" y="72"/>
                </a:lnTo>
                <a:lnTo>
                  <a:pt x="143" y="71"/>
                </a:lnTo>
                <a:lnTo>
                  <a:pt x="141" y="69"/>
                </a:lnTo>
                <a:lnTo>
                  <a:pt x="140" y="68"/>
                </a:lnTo>
                <a:lnTo>
                  <a:pt x="140" y="67"/>
                </a:lnTo>
                <a:lnTo>
                  <a:pt x="137" y="66"/>
                </a:lnTo>
                <a:lnTo>
                  <a:pt x="136" y="65"/>
                </a:lnTo>
                <a:lnTo>
                  <a:pt x="136" y="64"/>
                </a:lnTo>
                <a:lnTo>
                  <a:pt x="132" y="62"/>
                </a:lnTo>
                <a:lnTo>
                  <a:pt x="131" y="61"/>
                </a:lnTo>
                <a:lnTo>
                  <a:pt x="131" y="60"/>
                </a:lnTo>
                <a:lnTo>
                  <a:pt x="129" y="59"/>
                </a:lnTo>
                <a:lnTo>
                  <a:pt x="128" y="58"/>
                </a:lnTo>
                <a:lnTo>
                  <a:pt x="128" y="57"/>
                </a:lnTo>
                <a:lnTo>
                  <a:pt x="125" y="56"/>
                </a:lnTo>
                <a:lnTo>
                  <a:pt x="124" y="55"/>
                </a:lnTo>
                <a:lnTo>
                  <a:pt x="124" y="54"/>
                </a:lnTo>
                <a:lnTo>
                  <a:pt x="120" y="53"/>
                </a:lnTo>
                <a:lnTo>
                  <a:pt x="119" y="52"/>
                </a:lnTo>
                <a:lnTo>
                  <a:pt x="119" y="51"/>
                </a:lnTo>
                <a:lnTo>
                  <a:pt x="116" y="50"/>
                </a:lnTo>
                <a:lnTo>
                  <a:pt x="115" y="49"/>
                </a:lnTo>
                <a:lnTo>
                  <a:pt x="115" y="48"/>
                </a:lnTo>
                <a:lnTo>
                  <a:pt x="111" y="47"/>
                </a:lnTo>
                <a:lnTo>
                  <a:pt x="110" y="46"/>
                </a:lnTo>
                <a:lnTo>
                  <a:pt x="110" y="45"/>
                </a:lnTo>
                <a:lnTo>
                  <a:pt x="107" y="44"/>
                </a:lnTo>
                <a:lnTo>
                  <a:pt x="105" y="43"/>
                </a:lnTo>
                <a:lnTo>
                  <a:pt x="105" y="42"/>
                </a:lnTo>
                <a:lnTo>
                  <a:pt x="102" y="41"/>
                </a:lnTo>
                <a:lnTo>
                  <a:pt x="101" y="40"/>
                </a:lnTo>
                <a:lnTo>
                  <a:pt x="101" y="39"/>
                </a:lnTo>
                <a:lnTo>
                  <a:pt x="100" y="39"/>
                </a:lnTo>
                <a:lnTo>
                  <a:pt x="97" y="38"/>
                </a:lnTo>
                <a:lnTo>
                  <a:pt x="96" y="38"/>
                </a:lnTo>
                <a:lnTo>
                  <a:pt x="96" y="37"/>
                </a:lnTo>
                <a:lnTo>
                  <a:pt x="93" y="36"/>
                </a:lnTo>
                <a:lnTo>
                  <a:pt x="92" y="35"/>
                </a:lnTo>
                <a:lnTo>
                  <a:pt x="92" y="34"/>
                </a:lnTo>
                <a:lnTo>
                  <a:pt x="90" y="34"/>
                </a:lnTo>
                <a:lnTo>
                  <a:pt x="87" y="33"/>
                </a:lnTo>
                <a:lnTo>
                  <a:pt x="86" y="33"/>
                </a:lnTo>
                <a:lnTo>
                  <a:pt x="86" y="32"/>
                </a:lnTo>
                <a:lnTo>
                  <a:pt x="83" y="31"/>
                </a:lnTo>
                <a:lnTo>
                  <a:pt x="82" y="30"/>
                </a:lnTo>
                <a:lnTo>
                  <a:pt x="82" y="29"/>
                </a:lnTo>
                <a:lnTo>
                  <a:pt x="81" y="29"/>
                </a:lnTo>
                <a:lnTo>
                  <a:pt x="78" y="28"/>
                </a:lnTo>
                <a:lnTo>
                  <a:pt x="77" y="28"/>
                </a:lnTo>
                <a:lnTo>
                  <a:pt x="77" y="27"/>
                </a:lnTo>
                <a:lnTo>
                  <a:pt x="75" y="27"/>
                </a:lnTo>
                <a:lnTo>
                  <a:pt x="72" y="26"/>
                </a:lnTo>
                <a:lnTo>
                  <a:pt x="71" y="26"/>
                </a:lnTo>
                <a:lnTo>
                  <a:pt x="71" y="25"/>
                </a:lnTo>
                <a:lnTo>
                  <a:pt x="70" y="25"/>
                </a:lnTo>
                <a:lnTo>
                  <a:pt x="67" y="24"/>
                </a:lnTo>
                <a:lnTo>
                  <a:pt x="66" y="24"/>
                </a:lnTo>
                <a:lnTo>
                  <a:pt x="66" y="23"/>
                </a:lnTo>
                <a:lnTo>
                  <a:pt x="62" y="22"/>
                </a:lnTo>
                <a:lnTo>
                  <a:pt x="60" y="21"/>
                </a:lnTo>
                <a:lnTo>
                  <a:pt x="60" y="20"/>
                </a:lnTo>
                <a:lnTo>
                  <a:pt x="59" y="20"/>
                </a:lnTo>
                <a:lnTo>
                  <a:pt x="56" y="19"/>
                </a:lnTo>
                <a:lnTo>
                  <a:pt x="54" y="19"/>
                </a:lnTo>
                <a:lnTo>
                  <a:pt x="54" y="18"/>
                </a:lnTo>
                <a:lnTo>
                  <a:pt x="53" y="18"/>
                </a:lnTo>
                <a:lnTo>
                  <a:pt x="50" y="17"/>
                </a:lnTo>
                <a:lnTo>
                  <a:pt x="49" y="17"/>
                </a:lnTo>
                <a:lnTo>
                  <a:pt x="49" y="16"/>
                </a:lnTo>
                <a:lnTo>
                  <a:pt x="48" y="16"/>
                </a:lnTo>
                <a:lnTo>
                  <a:pt x="44" y="15"/>
                </a:lnTo>
                <a:lnTo>
                  <a:pt x="42" y="15"/>
                </a:lnTo>
                <a:lnTo>
                  <a:pt x="42" y="14"/>
                </a:lnTo>
                <a:lnTo>
                  <a:pt x="41" y="14"/>
                </a:lnTo>
                <a:lnTo>
                  <a:pt x="38" y="13"/>
                </a:lnTo>
                <a:lnTo>
                  <a:pt x="37" y="13"/>
                </a:lnTo>
                <a:lnTo>
                  <a:pt x="37" y="12"/>
                </a:lnTo>
                <a:lnTo>
                  <a:pt x="36" y="12"/>
                </a:lnTo>
                <a:lnTo>
                  <a:pt x="33" y="11"/>
                </a:lnTo>
                <a:lnTo>
                  <a:pt x="30" y="11"/>
                </a:lnTo>
                <a:lnTo>
                  <a:pt x="30" y="10"/>
                </a:lnTo>
                <a:lnTo>
                  <a:pt x="26" y="8"/>
                </a:lnTo>
                <a:lnTo>
                  <a:pt x="24" y="7"/>
                </a:lnTo>
                <a:lnTo>
                  <a:pt x="24" y="6"/>
                </a:lnTo>
                <a:lnTo>
                  <a:pt x="23" y="6"/>
                </a:lnTo>
                <a:lnTo>
                  <a:pt x="20" y="5"/>
                </a:lnTo>
                <a:lnTo>
                  <a:pt x="18" y="5"/>
                </a:lnTo>
                <a:lnTo>
                  <a:pt x="18" y="4"/>
                </a:lnTo>
                <a:lnTo>
                  <a:pt x="16" y="4"/>
                </a:lnTo>
                <a:lnTo>
                  <a:pt x="13" y="3"/>
                </a:lnTo>
                <a:lnTo>
                  <a:pt x="11" y="3"/>
                </a:lnTo>
                <a:lnTo>
                  <a:pt x="11" y="2"/>
                </a:lnTo>
                <a:lnTo>
                  <a:pt x="10" y="2"/>
                </a:lnTo>
                <a:lnTo>
                  <a:pt x="9" y="2"/>
                </a:lnTo>
                <a:lnTo>
                  <a:pt x="6" y="1"/>
                </a:lnTo>
                <a:lnTo>
                  <a:pt x="4" y="1"/>
                </a:lnTo>
                <a:lnTo>
                  <a:pt x="4" y="0"/>
                </a:lnTo>
                <a:lnTo>
                  <a:pt x="3" y="2"/>
                </a:lnTo>
                <a:lnTo>
                  <a:pt x="1" y="7"/>
                </a:lnTo>
                <a:lnTo>
                  <a:pt x="0" y="12"/>
                </a:lnTo>
                <a:lnTo>
                  <a:pt x="4" y="14"/>
                </a:lnTo>
                <a:lnTo>
                  <a:pt x="6" y="14"/>
                </a:lnTo>
                <a:lnTo>
                  <a:pt x="7" y="14"/>
                </a:lnTo>
                <a:lnTo>
                  <a:pt x="10" y="16"/>
                </a:lnTo>
                <a:lnTo>
                  <a:pt x="12" y="16"/>
                </a:lnTo>
                <a:lnTo>
                  <a:pt x="13" y="16"/>
                </a:lnTo>
                <a:lnTo>
                  <a:pt x="16" y="18"/>
                </a:lnTo>
                <a:lnTo>
                  <a:pt x="19" y="18"/>
                </a:lnTo>
                <a:lnTo>
                  <a:pt x="20" y="18"/>
                </a:lnTo>
                <a:lnTo>
                  <a:pt x="23" y="20"/>
                </a:lnTo>
                <a:lnTo>
                  <a:pt x="25" y="20"/>
                </a:lnTo>
                <a:lnTo>
                  <a:pt x="26" y="20"/>
                </a:lnTo>
                <a:lnTo>
                  <a:pt x="29" y="22"/>
                </a:lnTo>
                <a:lnTo>
                  <a:pt x="31" y="22"/>
                </a:lnTo>
                <a:lnTo>
                  <a:pt x="33" y="22"/>
                </a:lnTo>
                <a:lnTo>
                  <a:pt x="36" y="24"/>
                </a:lnTo>
                <a:lnTo>
                  <a:pt x="38" y="24"/>
                </a:lnTo>
                <a:lnTo>
                  <a:pt x="39" y="24"/>
                </a:lnTo>
                <a:lnTo>
                  <a:pt x="42" y="26"/>
                </a:lnTo>
                <a:lnTo>
                  <a:pt x="43" y="26"/>
                </a:lnTo>
                <a:lnTo>
                  <a:pt x="44" y="26"/>
                </a:lnTo>
                <a:lnTo>
                  <a:pt x="48" y="28"/>
                </a:lnTo>
                <a:lnTo>
                  <a:pt x="49" y="28"/>
                </a:lnTo>
                <a:lnTo>
                  <a:pt x="50" y="28"/>
                </a:lnTo>
                <a:lnTo>
                  <a:pt x="53" y="30"/>
                </a:lnTo>
                <a:lnTo>
                  <a:pt x="54" y="30"/>
                </a:lnTo>
                <a:lnTo>
                  <a:pt x="55" y="30"/>
                </a:lnTo>
                <a:lnTo>
                  <a:pt x="58" y="32"/>
                </a:lnTo>
                <a:lnTo>
                  <a:pt x="59" y="33"/>
                </a:lnTo>
                <a:lnTo>
                  <a:pt x="60" y="33"/>
                </a:lnTo>
                <a:lnTo>
                  <a:pt x="64" y="35"/>
                </a:lnTo>
                <a:lnTo>
                  <a:pt x="65" y="35"/>
                </a:lnTo>
                <a:lnTo>
                  <a:pt x="66" y="35"/>
                </a:lnTo>
                <a:lnTo>
                  <a:pt x="69" y="37"/>
                </a:lnTo>
                <a:lnTo>
                  <a:pt x="70" y="37"/>
                </a:lnTo>
                <a:lnTo>
                  <a:pt x="71" y="37"/>
                </a:lnTo>
                <a:lnTo>
                  <a:pt x="74" y="39"/>
                </a:lnTo>
                <a:lnTo>
                  <a:pt x="75" y="39"/>
                </a:lnTo>
                <a:lnTo>
                  <a:pt x="77" y="39"/>
                </a:lnTo>
                <a:lnTo>
                  <a:pt x="79" y="41"/>
                </a:lnTo>
                <a:lnTo>
                  <a:pt x="80" y="42"/>
                </a:lnTo>
                <a:lnTo>
                  <a:pt x="81" y="42"/>
                </a:lnTo>
                <a:lnTo>
                  <a:pt x="84" y="44"/>
                </a:lnTo>
                <a:lnTo>
                  <a:pt x="85" y="44"/>
                </a:lnTo>
                <a:lnTo>
                  <a:pt x="86" y="44"/>
                </a:lnTo>
                <a:lnTo>
                  <a:pt x="88" y="46"/>
                </a:lnTo>
                <a:lnTo>
                  <a:pt x="90" y="46"/>
                </a:lnTo>
                <a:lnTo>
                  <a:pt x="93" y="48"/>
                </a:lnTo>
                <a:lnTo>
                  <a:pt x="94" y="49"/>
                </a:lnTo>
                <a:lnTo>
                  <a:pt x="95" y="49"/>
                </a:lnTo>
                <a:lnTo>
                  <a:pt x="97" y="51"/>
                </a:lnTo>
                <a:lnTo>
                  <a:pt x="99" y="51"/>
                </a:lnTo>
                <a:lnTo>
                  <a:pt x="101" y="53"/>
                </a:lnTo>
                <a:lnTo>
                  <a:pt x="102" y="54"/>
                </a:lnTo>
                <a:lnTo>
                  <a:pt x="103" y="54"/>
                </a:lnTo>
                <a:lnTo>
                  <a:pt x="105" y="56"/>
                </a:lnTo>
                <a:lnTo>
                  <a:pt x="107" y="57"/>
                </a:lnTo>
                <a:lnTo>
                  <a:pt x="108" y="57"/>
                </a:lnTo>
                <a:lnTo>
                  <a:pt x="110" y="59"/>
                </a:lnTo>
                <a:lnTo>
                  <a:pt x="112" y="59"/>
                </a:lnTo>
                <a:lnTo>
                  <a:pt x="114" y="61"/>
                </a:lnTo>
                <a:lnTo>
                  <a:pt x="115" y="62"/>
                </a:lnTo>
                <a:lnTo>
                  <a:pt x="116" y="62"/>
                </a:lnTo>
                <a:lnTo>
                  <a:pt x="118" y="65"/>
                </a:lnTo>
                <a:lnTo>
                  <a:pt x="119" y="66"/>
                </a:lnTo>
                <a:lnTo>
                  <a:pt x="120" y="66"/>
                </a:lnTo>
                <a:lnTo>
                  <a:pt x="122" y="68"/>
                </a:lnTo>
                <a:lnTo>
                  <a:pt x="123" y="69"/>
                </a:lnTo>
                <a:lnTo>
                  <a:pt x="124" y="69"/>
                </a:lnTo>
                <a:lnTo>
                  <a:pt x="126" y="71"/>
                </a:lnTo>
                <a:lnTo>
                  <a:pt x="127" y="72"/>
                </a:lnTo>
                <a:lnTo>
                  <a:pt x="128" y="72"/>
                </a:lnTo>
                <a:lnTo>
                  <a:pt x="129" y="74"/>
                </a:lnTo>
                <a:lnTo>
                  <a:pt x="130" y="75"/>
                </a:lnTo>
                <a:lnTo>
                  <a:pt x="131" y="75"/>
                </a:lnTo>
                <a:lnTo>
                  <a:pt x="133" y="78"/>
                </a:lnTo>
                <a:lnTo>
                  <a:pt x="134" y="79"/>
                </a:lnTo>
                <a:lnTo>
                  <a:pt x="136" y="79"/>
                </a:lnTo>
                <a:lnTo>
                  <a:pt x="137" y="81"/>
                </a:lnTo>
                <a:lnTo>
                  <a:pt x="138" y="82"/>
                </a:lnTo>
                <a:lnTo>
                  <a:pt x="139" y="82"/>
                </a:lnTo>
                <a:lnTo>
                  <a:pt x="140" y="85"/>
                </a:lnTo>
                <a:lnTo>
                  <a:pt x="141" y="86"/>
                </a:lnTo>
                <a:lnTo>
                  <a:pt x="142" y="86"/>
                </a:lnTo>
                <a:lnTo>
                  <a:pt x="144" y="88"/>
                </a:lnTo>
                <a:lnTo>
                  <a:pt x="145" y="89"/>
                </a:lnTo>
                <a:lnTo>
                  <a:pt x="146" y="89"/>
                </a:lnTo>
                <a:lnTo>
                  <a:pt x="147" y="92"/>
                </a:lnTo>
                <a:lnTo>
                  <a:pt x="148" y="93"/>
                </a:lnTo>
                <a:lnTo>
                  <a:pt x="149" y="93"/>
                </a:lnTo>
                <a:lnTo>
                  <a:pt x="151" y="96"/>
                </a:lnTo>
                <a:lnTo>
                  <a:pt x="152" y="97"/>
                </a:lnTo>
                <a:lnTo>
                  <a:pt x="153" y="97"/>
                </a:lnTo>
                <a:lnTo>
                  <a:pt x="156" y="99"/>
                </a:lnTo>
                <a:lnTo>
                  <a:pt x="158" y="99"/>
                </a:lnTo>
                <a:lnTo>
                  <a:pt x="159" y="99"/>
                </a:lnTo>
                <a:lnTo>
                  <a:pt x="158" y="99"/>
                </a:lnTo>
                <a:lnTo>
                  <a:pt x="155" y="98"/>
                </a:lnTo>
                <a:lnTo>
                  <a:pt x="153" y="98"/>
                </a:lnTo>
                <a:lnTo>
                  <a:pt x="153" y="97"/>
                </a:lnTo>
                <a:lnTo>
                  <a:pt x="154" y="99"/>
                </a:lnTo>
                <a:lnTo>
                  <a:pt x="155" y="100"/>
                </a:lnTo>
                <a:lnTo>
                  <a:pt x="157" y="100"/>
                </a:lnTo>
                <a:lnTo>
                  <a:pt x="158" y="100"/>
                </a:lnTo>
                <a:lnTo>
                  <a:pt x="159" y="99"/>
                </a:lnTo>
                <a:lnTo>
                  <a:pt x="156" y="88"/>
                </a:lnTo>
                <a:close/>
              </a:path>
            </a:pathLst>
          </a:custGeom>
          <a:solidFill>
            <a:srgbClr val="1f1a17"/>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22" name="Freeform 221"/>
          <p:cNvSpPr/>
          <p:nvPr/>
        </p:nvSpPr>
        <p:spPr>
          <a:xfrm>
            <a:off x="4549680" y="5450040"/>
            <a:ext cx="241560" cy="61920"/>
          </a:xfrm>
          <a:custGeom>
            <a:avLst/>
            <a:gdLst>
              <a:gd name="textAreaLeft" fmla="*/ 0 w 241560"/>
              <a:gd name="textAreaRight" fmla="*/ 241920 w 241560"/>
              <a:gd name="textAreaTop" fmla="*/ 0 h 61920"/>
              <a:gd name="textAreaBottom" fmla="*/ 62280 h 61920"/>
            </a:gdLst>
            <a:ahLst/>
            <a:rect l="textAreaLeft" t="textAreaTop" r="textAreaRight" b="textAreaBottom"/>
            <a:pathLst>
              <a:path w="303" h="77">
                <a:moveTo>
                  <a:pt x="292" y="6"/>
                </a:moveTo>
                <a:lnTo>
                  <a:pt x="294" y="3"/>
                </a:lnTo>
                <a:lnTo>
                  <a:pt x="295" y="1"/>
                </a:lnTo>
                <a:lnTo>
                  <a:pt x="296" y="0"/>
                </a:lnTo>
                <a:lnTo>
                  <a:pt x="289" y="2"/>
                </a:lnTo>
                <a:lnTo>
                  <a:pt x="249" y="11"/>
                </a:lnTo>
                <a:lnTo>
                  <a:pt x="110" y="42"/>
                </a:lnTo>
                <a:lnTo>
                  <a:pt x="5" y="65"/>
                </a:lnTo>
                <a:lnTo>
                  <a:pt x="0" y="66"/>
                </a:lnTo>
                <a:lnTo>
                  <a:pt x="0" y="67"/>
                </a:lnTo>
                <a:lnTo>
                  <a:pt x="0" y="68"/>
                </a:lnTo>
                <a:lnTo>
                  <a:pt x="1" y="73"/>
                </a:lnTo>
                <a:lnTo>
                  <a:pt x="2" y="77"/>
                </a:lnTo>
                <a:lnTo>
                  <a:pt x="3" y="77"/>
                </a:lnTo>
                <a:lnTo>
                  <a:pt x="8" y="76"/>
                </a:lnTo>
                <a:lnTo>
                  <a:pt x="49" y="67"/>
                </a:lnTo>
                <a:lnTo>
                  <a:pt x="188" y="36"/>
                </a:lnTo>
                <a:lnTo>
                  <a:pt x="293" y="13"/>
                </a:lnTo>
                <a:lnTo>
                  <a:pt x="299" y="11"/>
                </a:lnTo>
                <a:lnTo>
                  <a:pt x="301" y="8"/>
                </a:lnTo>
                <a:lnTo>
                  <a:pt x="302" y="6"/>
                </a:lnTo>
                <a:lnTo>
                  <a:pt x="303" y="5"/>
                </a:lnTo>
                <a:lnTo>
                  <a:pt x="302" y="6"/>
                </a:lnTo>
                <a:lnTo>
                  <a:pt x="300" y="9"/>
                </a:lnTo>
                <a:lnTo>
                  <a:pt x="299" y="11"/>
                </a:lnTo>
                <a:lnTo>
                  <a:pt x="301" y="11"/>
                </a:lnTo>
                <a:lnTo>
                  <a:pt x="302" y="11"/>
                </a:lnTo>
                <a:lnTo>
                  <a:pt x="303" y="10"/>
                </a:lnTo>
                <a:lnTo>
                  <a:pt x="303" y="7"/>
                </a:lnTo>
                <a:lnTo>
                  <a:pt x="303" y="6"/>
                </a:lnTo>
                <a:lnTo>
                  <a:pt x="303" y="5"/>
                </a:lnTo>
                <a:lnTo>
                  <a:pt x="292" y="6"/>
                </a:lnTo>
                <a:close/>
              </a:path>
            </a:pathLst>
          </a:custGeom>
          <a:solidFill>
            <a:srgbClr val="1f1a17"/>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523" name="Freeform 222"/>
          <p:cNvSpPr/>
          <p:nvPr/>
        </p:nvSpPr>
        <p:spPr>
          <a:xfrm>
            <a:off x="3497400" y="4710240"/>
            <a:ext cx="453960" cy="371520"/>
          </a:xfrm>
          <a:custGeom>
            <a:avLst/>
            <a:gdLst>
              <a:gd name="textAreaLeft" fmla="*/ 0 w 453960"/>
              <a:gd name="textAreaRight" fmla="*/ 454320 w 453960"/>
              <a:gd name="textAreaTop" fmla="*/ 0 h 371520"/>
              <a:gd name="textAreaBottom" fmla="*/ 371880 h 371520"/>
            </a:gdLst>
            <a:ahLst/>
            <a:rect l="textAreaLeft" t="textAreaTop" r="textAreaRight" b="textAreaBottom"/>
            <a:pathLst>
              <a:path w="573" h="467">
                <a:moveTo>
                  <a:pt x="573" y="153"/>
                </a:moveTo>
                <a:lnTo>
                  <a:pt x="570" y="151"/>
                </a:lnTo>
                <a:lnTo>
                  <a:pt x="554" y="130"/>
                </a:lnTo>
                <a:lnTo>
                  <a:pt x="496" y="58"/>
                </a:lnTo>
                <a:lnTo>
                  <a:pt x="453" y="3"/>
                </a:lnTo>
                <a:lnTo>
                  <a:pt x="451" y="0"/>
                </a:lnTo>
                <a:lnTo>
                  <a:pt x="429" y="11"/>
                </a:lnTo>
                <a:lnTo>
                  <a:pt x="383" y="26"/>
                </a:lnTo>
                <a:lnTo>
                  <a:pt x="292" y="49"/>
                </a:lnTo>
                <a:lnTo>
                  <a:pt x="250" y="66"/>
                </a:lnTo>
                <a:lnTo>
                  <a:pt x="216" y="91"/>
                </a:lnTo>
                <a:lnTo>
                  <a:pt x="203" y="109"/>
                </a:lnTo>
                <a:lnTo>
                  <a:pt x="199" y="110"/>
                </a:lnTo>
                <a:lnTo>
                  <a:pt x="171" y="111"/>
                </a:lnTo>
                <a:lnTo>
                  <a:pt x="76" y="114"/>
                </a:lnTo>
                <a:lnTo>
                  <a:pt x="4" y="117"/>
                </a:lnTo>
                <a:lnTo>
                  <a:pt x="0" y="117"/>
                </a:lnTo>
                <a:lnTo>
                  <a:pt x="1" y="121"/>
                </a:lnTo>
                <a:lnTo>
                  <a:pt x="10" y="141"/>
                </a:lnTo>
                <a:lnTo>
                  <a:pt x="39" y="214"/>
                </a:lnTo>
                <a:lnTo>
                  <a:pt x="61" y="270"/>
                </a:lnTo>
                <a:lnTo>
                  <a:pt x="64" y="273"/>
                </a:lnTo>
                <a:lnTo>
                  <a:pt x="59" y="278"/>
                </a:lnTo>
                <a:lnTo>
                  <a:pt x="55" y="284"/>
                </a:lnTo>
                <a:lnTo>
                  <a:pt x="49" y="299"/>
                </a:lnTo>
                <a:lnTo>
                  <a:pt x="36" y="333"/>
                </a:lnTo>
                <a:lnTo>
                  <a:pt x="22" y="359"/>
                </a:lnTo>
                <a:lnTo>
                  <a:pt x="26" y="364"/>
                </a:lnTo>
                <a:lnTo>
                  <a:pt x="36" y="379"/>
                </a:lnTo>
                <a:lnTo>
                  <a:pt x="57" y="418"/>
                </a:lnTo>
                <a:lnTo>
                  <a:pt x="70" y="459"/>
                </a:lnTo>
                <a:lnTo>
                  <a:pt x="71" y="467"/>
                </a:lnTo>
                <a:lnTo>
                  <a:pt x="84" y="453"/>
                </a:lnTo>
                <a:lnTo>
                  <a:pt x="99" y="428"/>
                </a:lnTo>
                <a:lnTo>
                  <a:pt x="104" y="408"/>
                </a:lnTo>
                <a:lnTo>
                  <a:pt x="106" y="390"/>
                </a:lnTo>
                <a:lnTo>
                  <a:pt x="114" y="372"/>
                </a:lnTo>
                <a:lnTo>
                  <a:pt x="134" y="353"/>
                </a:lnTo>
                <a:lnTo>
                  <a:pt x="153" y="342"/>
                </a:lnTo>
                <a:lnTo>
                  <a:pt x="163" y="354"/>
                </a:lnTo>
                <a:lnTo>
                  <a:pt x="180" y="375"/>
                </a:lnTo>
                <a:lnTo>
                  <a:pt x="204" y="405"/>
                </a:lnTo>
                <a:lnTo>
                  <a:pt x="213" y="411"/>
                </a:lnTo>
                <a:lnTo>
                  <a:pt x="217" y="412"/>
                </a:lnTo>
                <a:lnTo>
                  <a:pt x="221" y="412"/>
                </a:lnTo>
                <a:lnTo>
                  <a:pt x="226" y="409"/>
                </a:lnTo>
                <a:lnTo>
                  <a:pt x="232" y="405"/>
                </a:lnTo>
                <a:lnTo>
                  <a:pt x="279" y="369"/>
                </a:lnTo>
                <a:lnTo>
                  <a:pt x="442" y="250"/>
                </a:lnTo>
                <a:lnTo>
                  <a:pt x="565" y="158"/>
                </a:lnTo>
                <a:lnTo>
                  <a:pt x="573" y="1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Freeform 223"/>
          <p:cNvSpPr/>
          <p:nvPr/>
        </p:nvSpPr>
        <p:spPr>
          <a:xfrm>
            <a:off x="3497400" y="4710240"/>
            <a:ext cx="453960" cy="371520"/>
          </a:xfrm>
          <a:custGeom>
            <a:avLst/>
            <a:gdLst>
              <a:gd name="textAreaLeft" fmla="*/ 0 w 453960"/>
              <a:gd name="textAreaRight" fmla="*/ 454320 w 453960"/>
              <a:gd name="textAreaTop" fmla="*/ 0 h 371520"/>
              <a:gd name="textAreaBottom" fmla="*/ 371880 h 371520"/>
            </a:gdLst>
            <a:ahLst/>
            <a:rect l="textAreaLeft" t="textAreaTop" r="textAreaRight" b="textAreaBottom"/>
            <a:pathLst>
              <a:path w="573" h="467">
                <a:moveTo>
                  <a:pt x="573" y="153"/>
                </a:moveTo>
                <a:lnTo>
                  <a:pt x="570" y="151"/>
                </a:lnTo>
                <a:lnTo>
                  <a:pt x="554" y="130"/>
                </a:lnTo>
                <a:lnTo>
                  <a:pt x="496" y="58"/>
                </a:lnTo>
                <a:lnTo>
                  <a:pt x="453" y="3"/>
                </a:lnTo>
                <a:lnTo>
                  <a:pt x="451" y="0"/>
                </a:lnTo>
                <a:lnTo>
                  <a:pt x="429" y="11"/>
                </a:lnTo>
                <a:lnTo>
                  <a:pt x="383" y="26"/>
                </a:lnTo>
                <a:lnTo>
                  <a:pt x="292" y="49"/>
                </a:lnTo>
                <a:lnTo>
                  <a:pt x="250" y="66"/>
                </a:lnTo>
                <a:lnTo>
                  <a:pt x="216" y="91"/>
                </a:lnTo>
                <a:lnTo>
                  <a:pt x="203" y="109"/>
                </a:lnTo>
                <a:lnTo>
                  <a:pt x="199" y="110"/>
                </a:lnTo>
                <a:lnTo>
                  <a:pt x="171" y="111"/>
                </a:lnTo>
                <a:lnTo>
                  <a:pt x="76" y="114"/>
                </a:lnTo>
                <a:lnTo>
                  <a:pt x="4" y="117"/>
                </a:lnTo>
                <a:lnTo>
                  <a:pt x="0" y="117"/>
                </a:lnTo>
                <a:lnTo>
                  <a:pt x="1" y="121"/>
                </a:lnTo>
                <a:lnTo>
                  <a:pt x="10" y="141"/>
                </a:lnTo>
                <a:lnTo>
                  <a:pt x="39" y="214"/>
                </a:lnTo>
                <a:lnTo>
                  <a:pt x="61" y="270"/>
                </a:lnTo>
                <a:lnTo>
                  <a:pt x="64" y="273"/>
                </a:lnTo>
                <a:lnTo>
                  <a:pt x="59" y="278"/>
                </a:lnTo>
                <a:lnTo>
                  <a:pt x="55" y="284"/>
                </a:lnTo>
                <a:lnTo>
                  <a:pt x="49" y="299"/>
                </a:lnTo>
                <a:lnTo>
                  <a:pt x="36" y="333"/>
                </a:lnTo>
                <a:lnTo>
                  <a:pt x="22" y="359"/>
                </a:lnTo>
                <a:lnTo>
                  <a:pt x="26" y="364"/>
                </a:lnTo>
                <a:lnTo>
                  <a:pt x="36" y="379"/>
                </a:lnTo>
                <a:lnTo>
                  <a:pt x="57" y="418"/>
                </a:lnTo>
                <a:lnTo>
                  <a:pt x="70" y="459"/>
                </a:lnTo>
                <a:lnTo>
                  <a:pt x="71" y="467"/>
                </a:lnTo>
                <a:lnTo>
                  <a:pt x="84" y="453"/>
                </a:lnTo>
                <a:lnTo>
                  <a:pt x="99" y="428"/>
                </a:lnTo>
                <a:lnTo>
                  <a:pt x="104" y="408"/>
                </a:lnTo>
                <a:lnTo>
                  <a:pt x="106" y="390"/>
                </a:lnTo>
                <a:lnTo>
                  <a:pt x="114" y="372"/>
                </a:lnTo>
                <a:lnTo>
                  <a:pt x="134" y="353"/>
                </a:lnTo>
                <a:lnTo>
                  <a:pt x="153" y="342"/>
                </a:lnTo>
                <a:lnTo>
                  <a:pt x="163" y="354"/>
                </a:lnTo>
                <a:lnTo>
                  <a:pt x="180" y="375"/>
                </a:lnTo>
                <a:lnTo>
                  <a:pt x="204" y="405"/>
                </a:lnTo>
                <a:lnTo>
                  <a:pt x="213" y="411"/>
                </a:lnTo>
                <a:lnTo>
                  <a:pt x="217" y="412"/>
                </a:lnTo>
                <a:lnTo>
                  <a:pt x="221" y="412"/>
                </a:lnTo>
                <a:lnTo>
                  <a:pt x="226" y="409"/>
                </a:lnTo>
                <a:lnTo>
                  <a:pt x="232" y="405"/>
                </a:lnTo>
                <a:lnTo>
                  <a:pt x="279" y="369"/>
                </a:lnTo>
                <a:lnTo>
                  <a:pt x="442" y="250"/>
                </a:lnTo>
                <a:lnTo>
                  <a:pt x="565" y="158"/>
                </a:lnTo>
                <a:lnTo>
                  <a:pt x="573" y="153"/>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Freeform 224"/>
          <p:cNvSpPr/>
          <p:nvPr/>
        </p:nvSpPr>
        <p:spPr>
          <a:xfrm>
            <a:off x="3913200" y="4950000"/>
            <a:ext cx="635040" cy="474480"/>
          </a:xfrm>
          <a:custGeom>
            <a:avLst/>
            <a:gdLst>
              <a:gd name="textAreaLeft" fmla="*/ 0 w 635040"/>
              <a:gd name="textAreaRight" fmla="*/ 635040 w 635040"/>
              <a:gd name="textAreaTop" fmla="*/ 0 h 474480"/>
              <a:gd name="textAreaBottom" fmla="*/ 474840 h 474480"/>
            </a:gdLst>
            <a:ahLst/>
            <a:rect l="textAreaLeft" t="textAreaTop" r="textAreaRight" b="textAreaBottom"/>
            <a:pathLst>
              <a:path w="801" h="598">
                <a:moveTo>
                  <a:pt x="516" y="54"/>
                </a:moveTo>
                <a:lnTo>
                  <a:pt x="511" y="54"/>
                </a:lnTo>
                <a:lnTo>
                  <a:pt x="487" y="47"/>
                </a:lnTo>
                <a:lnTo>
                  <a:pt x="400" y="24"/>
                </a:lnTo>
                <a:lnTo>
                  <a:pt x="334" y="5"/>
                </a:lnTo>
                <a:lnTo>
                  <a:pt x="331" y="4"/>
                </a:lnTo>
                <a:lnTo>
                  <a:pt x="296" y="0"/>
                </a:lnTo>
                <a:lnTo>
                  <a:pt x="259" y="3"/>
                </a:lnTo>
                <a:lnTo>
                  <a:pt x="222" y="14"/>
                </a:lnTo>
                <a:lnTo>
                  <a:pt x="185" y="32"/>
                </a:lnTo>
                <a:lnTo>
                  <a:pt x="114" y="82"/>
                </a:lnTo>
                <a:lnTo>
                  <a:pt x="55" y="149"/>
                </a:lnTo>
                <a:lnTo>
                  <a:pt x="15" y="226"/>
                </a:lnTo>
                <a:lnTo>
                  <a:pt x="0" y="306"/>
                </a:lnTo>
                <a:lnTo>
                  <a:pt x="21" y="315"/>
                </a:lnTo>
                <a:lnTo>
                  <a:pt x="67" y="340"/>
                </a:lnTo>
                <a:lnTo>
                  <a:pt x="165" y="406"/>
                </a:lnTo>
                <a:lnTo>
                  <a:pt x="270" y="457"/>
                </a:lnTo>
                <a:lnTo>
                  <a:pt x="298" y="461"/>
                </a:lnTo>
                <a:lnTo>
                  <a:pt x="308" y="474"/>
                </a:lnTo>
                <a:lnTo>
                  <a:pt x="325" y="489"/>
                </a:lnTo>
                <a:lnTo>
                  <a:pt x="377" y="522"/>
                </a:lnTo>
                <a:lnTo>
                  <a:pt x="511" y="583"/>
                </a:lnTo>
                <a:lnTo>
                  <a:pt x="609" y="598"/>
                </a:lnTo>
                <a:lnTo>
                  <a:pt x="636" y="586"/>
                </a:lnTo>
                <a:lnTo>
                  <a:pt x="682" y="562"/>
                </a:lnTo>
                <a:lnTo>
                  <a:pt x="743" y="517"/>
                </a:lnTo>
                <a:lnTo>
                  <a:pt x="788" y="458"/>
                </a:lnTo>
                <a:lnTo>
                  <a:pt x="801" y="439"/>
                </a:lnTo>
                <a:lnTo>
                  <a:pt x="800" y="420"/>
                </a:lnTo>
                <a:lnTo>
                  <a:pt x="798" y="383"/>
                </a:lnTo>
                <a:lnTo>
                  <a:pt x="784" y="304"/>
                </a:lnTo>
                <a:lnTo>
                  <a:pt x="730" y="177"/>
                </a:lnTo>
                <a:lnTo>
                  <a:pt x="709" y="133"/>
                </a:lnTo>
                <a:lnTo>
                  <a:pt x="704" y="128"/>
                </a:lnTo>
                <a:lnTo>
                  <a:pt x="700" y="125"/>
                </a:lnTo>
                <a:lnTo>
                  <a:pt x="687" y="119"/>
                </a:lnTo>
                <a:lnTo>
                  <a:pt x="652" y="102"/>
                </a:lnTo>
                <a:lnTo>
                  <a:pt x="563" y="68"/>
                </a:lnTo>
                <a:lnTo>
                  <a:pt x="516"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Freeform 225"/>
          <p:cNvSpPr/>
          <p:nvPr/>
        </p:nvSpPr>
        <p:spPr>
          <a:xfrm>
            <a:off x="3913200" y="4950000"/>
            <a:ext cx="635040" cy="474480"/>
          </a:xfrm>
          <a:custGeom>
            <a:avLst/>
            <a:gdLst>
              <a:gd name="textAreaLeft" fmla="*/ 0 w 635040"/>
              <a:gd name="textAreaRight" fmla="*/ 635040 w 635040"/>
              <a:gd name="textAreaTop" fmla="*/ 0 h 474480"/>
              <a:gd name="textAreaBottom" fmla="*/ 474840 h 474480"/>
            </a:gdLst>
            <a:ahLst/>
            <a:rect l="textAreaLeft" t="textAreaTop" r="textAreaRight" b="textAreaBottom"/>
            <a:pathLst>
              <a:path w="801" h="598">
                <a:moveTo>
                  <a:pt x="516" y="54"/>
                </a:moveTo>
                <a:lnTo>
                  <a:pt x="511" y="54"/>
                </a:lnTo>
                <a:lnTo>
                  <a:pt x="487" y="47"/>
                </a:lnTo>
                <a:lnTo>
                  <a:pt x="400" y="24"/>
                </a:lnTo>
                <a:lnTo>
                  <a:pt x="334" y="5"/>
                </a:lnTo>
                <a:lnTo>
                  <a:pt x="331" y="4"/>
                </a:lnTo>
                <a:lnTo>
                  <a:pt x="296" y="0"/>
                </a:lnTo>
                <a:lnTo>
                  <a:pt x="259" y="3"/>
                </a:lnTo>
                <a:lnTo>
                  <a:pt x="222" y="14"/>
                </a:lnTo>
                <a:lnTo>
                  <a:pt x="185" y="32"/>
                </a:lnTo>
                <a:lnTo>
                  <a:pt x="114" y="82"/>
                </a:lnTo>
                <a:lnTo>
                  <a:pt x="55" y="149"/>
                </a:lnTo>
                <a:lnTo>
                  <a:pt x="15" y="226"/>
                </a:lnTo>
                <a:lnTo>
                  <a:pt x="0" y="306"/>
                </a:lnTo>
                <a:lnTo>
                  <a:pt x="21" y="315"/>
                </a:lnTo>
                <a:lnTo>
                  <a:pt x="67" y="340"/>
                </a:lnTo>
                <a:lnTo>
                  <a:pt x="165" y="406"/>
                </a:lnTo>
                <a:lnTo>
                  <a:pt x="270" y="457"/>
                </a:lnTo>
                <a:lnTo>
                  <a:pt x="298" y="461"/>
                </a:lnTo>
                <a:lnTo>
                  <a:pt x="308" y="474"/>
                </a:lnTo>
                <a:lnTo>
                  <a:pt x="325" y="489"/>
                </a:lnTo>
                <a:lnTo>
                  <a:pt x="377" y="522"/>
                </a:lnTo>
                <a:lnTo>
                  <a:pt x="511" y="583"/>
                </a:lnTo>
                <a:lnTo>
                  <a:pt x="609" y="598"/>
                </a:lnTo>
                <a:lnTo>
                  <a:pt x="636" y="586"/>
                </a:lnTo>
                <a:lnTo>
                  <a:pt x="682" y="562"/>
                </a:lnTo>
                <a:lnTo>
                  <a:pt x="743" y="517"/>
                </a:lnTo>
                <a:lnTo>
                  <a:pt x="788" y="458"/>
                </a:lnTo>
                <a:lnTo>
                  <a:pt x="801" y="439"/>
                </a:lnTo>
                <a:lnTo>
                  <a:pt x="800" y="420"/>
                </a:lnTo>
                <a:lnTo>
                  <a:pt x="798" y="383"/>
                </a:lnTo>
                <a:lnTo>
                  <a:pt x="784" y="304"/>
                </a:lnTo>
                <a:lnTo>
                  <a:pt x="730" y="177"/>
                </a:lnTo>
                <a:lnTo>
                  <a:pt x="709" y="133"/>
                </a:lnTo>
                <a:lnTo>
                  <a:pt x="704" y="128"/>
                </a:lnTo>
                <a:lnTo>
                  <a:pt x="700" y="125"/>
                </a:lnTo>
                <a:lnTo>
                  <a:pt x="687" y="119"/>
                </a:lnTo>
                <a:lnTo>
                  <a:pt x="652" y="102"/>
                </a:lnTo>
                <a:lnTo>
                  <a:pt x="563" y="68"/>
                </a:lnTo>
                <a:lnTo>
                  <a:pt x="516" y="54"/>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Freeform 226"/>
          <p:cNvSpPr/>
          <p:nvPr/>
        </p:nvSpPr>
        <p:spPr>
          <a:xfrm>
            <a:off x="4017960" y="4799160"/>
            <a:ext cx="816120" cy="793440"/>
          </a:xfrm>
          <a:custGeom>
            <a:avLst/>
            <a:gdLst>
              <a:gd name="textAreaLeft" fmla="*/ 0 w 816120"/>
              <a:gd name="textAreaRight" fmla="*/ 816480 w 816120"/>
              <a:gd name="textAreaTop" fmla="*/ 0 h 793440"/>
              <a:gd name="textAreaBottom" fmla="*/ 793800 h 793440"/>
            </a:gdLst>
            <a:ahLst/>
            <a:rect l="textAreaLeft" t="textAreaTop" r="textAreaRight" b="textAreaBottom"/>
            <a:pathLst>
              <a:path w="1028" h="999">
                <a:moveTo>
                  <a:pt x="485" y="788"/>
                </a:moveTo>
                <a:lnTo>
                  <a:pt x="498" y="794"/>
                </a:lnTo>
                <a:lnTo>
                  <a:pt x="527" y="804"/>
                </a:lnTo>
                <a:lnTo>
                  <a:pt x="596" y="832"/>
                </a:lnTo>
                <a:lnTo>
                  <a:pt x="658" y="875"/>
                </a:lnTo>
                <a:lnTo>
                  <a:pt x="671" y="889"/>
                </a:lnTo>
                <a:lnTo>
                  <a:pt x="672" y="902"/>
                </a:lnTo>
                <a:lnTo>
                  <a:pt x="673" y="926"/>
                </a:lnTo>
                <a:lnTo>
                  <a:pt x="672" y="967"/>
                </a:lnTo>
                <a:lnTo>
                  <a:pt x="672" y="984"/>
                </a:lnTo>
                <a:lnTo>
                  <a:pt x="677" y="996"/>
                </a:lnTo>
                <a:lnTo>
                  <a:pt x="682" y="999"/>
                </a:lnTo>
                <a:lnTo>
                  <a:pt x="706" y="994"/>
                </a:lnTo>
                <a:lnTo>
                  <a:pt x="763" y="974"/>
                </a:lnTo>
                <a:lnTo>
                  <a:pt x="890" y="912"/>
                </a:lnTo>
                <a:lnTo>
                  <a:pt x="1000" y="854"/>
                </a:lnTo>
                <a:lnTo>
                  <a:pt x="1022" y="845"/>
                </a:lnTo>
                <a:lnTo>
                  <a:pt x="1021" y="847"/>
                </a:lnTo>
                <a:lnTo>
                  <a:pt x="1021" y="848"/>
                </a:lnTo>
                <a:lnTo>
                  <a:pt x="1019" y="849"/>
                </a:lnTo>
                <a:lnTo>
                  <a:pt x="1018" y="849"/>
                </a:lnTo>
                <a:lnTo>
                  <a:pt x="1017" y="849"/>
                </a:lnTo>
                <a:lnTo>
                  <a:pt x="1015" y="848"/>
                </a:lnTo>
                <a:lnTo>
                  <a:pt x="1012" y="846"/>
                </a:lnTo>
                <a:lnTo>
                  <a:pt x="1001" y="839"/>
                </a:lnTo>
                <a:lnTo>
                  <a:pt x="971" y="827"/>
                </a:lnTo>
                <a:lnTo>
                  <a:pt x="954" y="827"/>
                </a:lnTo>
                <a:lnTo>
                  <a:pt x="958" y="817"/>
                </a:lnTo>
                <a:lnTo>
                  <a:pt x="962" y="804"/>
                </a:lnTo>
                <a:lnTo>
                  <a:pt x="963" y="790"/>
                </a:lnTo>
                <a:lnTo>
                  <a:pt x="962" y="760"/>
                </a:lnTo>
                <a:lnTo>
                  <a:pt x="957" y="707"/>
                </a:lnTo>
                <a:lnTo>
                  <a:pt x="969" y="691"/>
                </a:lnTo>
                <a:lnTo>
                  <a:pt x="970" y="690"/>
                </a:lnTo>
                <a:lnTo>
                  <a:pt x="978" y="680"/>
                </a:lnTo>
                <a:lnTo>
                  <a:pt x="1006" y="647"/>
                </a:lnTo>
                <a:lnTo>
                  <a:pt x="1026" y="620"/>
                </a:lnTo>
                <a:lnTo>
                  <a:pt x="1028" y="618"/>
                </a:lnTo>
                <a:lnTo>
                  <a:pt x="1025" y="616"/>
                </a:lnTo>
                <a:lnTo>
                  <a:pt x="1010" y="595"/>
                </a:lnTo>
                <a:lnTo>
                  <a:pt x="956" y="522"/>
                </a:lnTo>
                <a:lnTo>
                  <a:pt x="915" y="466"/>
                </a:lnTo>
                <a:lnTo>
                  <a:pt x="913" y="463"/>
                </a:lnTo>
                <a:lnTo>
                  <a:pt x="914" y="462"/>
                </a:lnTo>
                <a:lnTo>
                  <a:pt x="922" y="448"/>
                </a:lnTo>
                <a:lnTo>
                  <a:pt x="950" y="401"/>
                </a:lnTo>
                <a:lnTo>
                  <a:pt x="971" y="365"/>
                </a:lnTo>
                <a:lnTo>
                  <a:pt x="973" y="363"/>
                </a:lnTo>
                <a:lnTo>
                  <a:pt x="964" y="348"/>
                </a:lnTo>
                <a:lnTo>
                  <a:pt x="936" y="299"/>
                </a:lnTo>
                <a:lnTo>
                  <a:pt x="914" y="262"/>
                </a:lnTo>
                <a:lnTo>
                  <a:pt x="913" y="260"/>
                </a:lnTo>
                <a:lnTo>
                  <a:pt x="911" y="262"/>
                </a:lnTo>
                <a:lnTo>
                  <a:pt x="903" y="271"/>
                </a:lnTo>
                <a:lnTo>
                  <a:pt x="871" y="300"/>
                </a:lnTo>
                <a:lnTo>
                  <a:pt x="849" y="322"/>
                </a:lnTo>
                <a:lnTo>
                  <a:pt x="848" y="323"/>
                </a:lnTo>
                <a:lnTo>
                  <a:pt x="844" y="322"/>
                </a:lnTo>
                <a:lnTo>
                  <a:pt x="821" y="312"/>
                </a:lnTo>
                <a:lnTo>
                  <a:pt x="744" y="279"/>
                </a:lnTo>
                <a:lnTo>
                  <a:pt x="685" y="253"/>
                </a:lnTo>
                <a:lnTo>
                  <a:pt x="682" y="251"/>
                </a:lnTo>
                <a:lnTo>
                  <a:pt x="688" y="233"/>
                </a:lnTo>
                <a:lnTo>
                  <a:pt x="690" y="202"/>
                </a:lnTo>
                <a:lnTo>
                  <a:pt x="680" y="180"/>
                </a:lnTo>
                <a:lnTo>
                  <a:pt x="659" y="164"/>
                </a:lnTo>
                <a:lnTo>
                  <a:pt x="631" y="150"/>
                </a:lnTo>
                <a:lnTo>
                  <a:pt x="601" y="137"/>
                </a:lnTo>
                <a:lnTo>
                  <a:pt x="586" y="129"/>
                </a:lnTo>
                <a:lnTo>
                  <a:pt x="584" y="127"/>
                </a:lnTo>
                <a:lnTo>
                  <a:pt x="577" y="110"/>
                </a:lnTo>
                <a:lnTo>
                  <a:pt x="550" y="49"/>
                </a:lnTo>
                <a:lnTo>
                  <a:pt x="530" y="3"/>
                </a:lnTo>
                <a:lnTo>
                  <a:pt x="529" y="0"/>
                </a:lnTo>
                <a:lnTo>
                  <a:pt x="523" y="1"/>
                </a:lnTo>
                <a:lnTo>
                  <a:pt x="484" y="4"/>
                </a:lnTo>
                <a:lnTo>
                  <a:pt x="351" y="15"/>
                </a:lnTo>
                <a:lnTo>
                  <a:pt x="251" y="23"/>
                </a:lnTo>
                <a:lnTo>
                  <a:pt x="245" y="23"/>
                </a:lnTo>
                <a:lnTo>
                  <a:pt x="240" y="25"/>
                </a:lnTo>
                <a:lnTo>
                  <a:pt x="207" y="38"/>
                </a:lnTo>
                <a:lnTo>
                  <a:pt x="92" y="83"/>
                </a:lnTo>
                <a:lnTo>
                  <a:pt x="4" y="118"/>
                </a:lnTo>
                <a:lnTo>
                  <a:pt x="0" y="119"/>
                </a:lnTo>
                <a:lnTo>
                  <a:pt x="38" y="139"/>
                </a:lnTo>
                <a:lnTo>
                  <a:pt x="126" y="172"/>
                </a:lnTo>
                <a:lnTo>
                  <a:pt x="323" y="221"/>
                </a:lnTo>
                <a:lnTo>
                  <a:pt x="509" y="279"/>
                </a:lnTo>
                <a:lnTo>
                  <a:pt x="549" y="298"/>
                </a:lnTo>
                <a:lnTo>
                  <a:pt x="559" y="308"/>
                </a:lnTo>
                <a:lnTo>
                  <a:pt x="573" y="325"/>
                </a:lnTo>
                <a:lnTo>
                  <a:pt x="604" y="374"/>
                </a:lnTo>
                <a:lnTo>
                  <a:pt x="660" y="507"/>
                </a:lnTo>
                <a:lnTo>
                  <a:pt x="670" y="632"/>
                </a:lnTo>
                <a:lnTo>
                  <a:pt x="662" y="650"/>
                </a:lnTo>
                <a:lnTo>
                  <a:pt x="652" y="667"/>
                </a:lnTo>
                <a:lnTo>
                  <a:pt x="618" y="701"/>
                </a:lnTo>
                <a:lnTo>
                  <a:pt x="579" y="732"/>
                </a:lnTo>
                <a:lnTo>
                  <a:pt x="505" y="778"/>
                </a:lnTo>
                <a:lnTo>
                  <a:pt x="485" y="7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Freeform 227"/>
          <p:cNvSpPr/>
          <p:nvPr/>
        </p:nvSpPr>
        <p:spPr>
          <a:xfrm>
            <a:off x="4017960" y="4799160"/>
            <a:ext cx="816120" cy="793440"/>
          </a:xfrm>
          <a:custGeom>
            <a:avLst/>
            <a:gdLst>
              <a:gd name="textAreaLeft" fmla="*/ 0 w 816120"/>
              <a:gd name="textAreaRight" fmla="*/ 816480 w 816120"/>
              <a:gd name="textAreaTop" fmla="*/ 0 h 793440"/>
              <a:gd name="textAreaBottom" fmla="*/ 793800 h 793440"/>
            </a:gdLst>
            <a:ahLst/>
            <a:rect l="textAreaLeft" t="textAreaTop" r="textAreaRight" b="textAreaBottom"/>
            <a:pathLst>
              <a:path w="1028" h="999">
                <a:moveTo>
                  <a:pt x="485" y="788"/>
                </a:moveTo>
                <a:lnTo>
                  <a:pt x="498" y="794"/>
                </a:lnTo>
                <a:lnTo>
                  <a:pt x="527" y="804"/>
                </a:lnTo>
                <a:lnTo>
                  <a:pt x="596" y="832"/>
                </a:lnTo>
                <a:lnTo>
                  <a:pt x="658" y="875"/>
                </a:lnTo>
                <a:lnTo>
                  <a:pt x="671" y="889"/>
                </a:lnTo>
                <a:lnTo>
                  <a:pt x="672" y="902"/>
                </a:lnTo>
                <a:lnTo>
                  <a:pt x="673" y="926"/>
                </a:lnTo>
                <a:lnTo>
                  <a:pt x="672" y="967"/>
                </a:lnTo>
                <a:lnTo>
                  <a:pt x="672" y="984"/>
                </a:lnTo>
                <a:lnTo>
                  <a:pt x="677" y="996"/>
                </a:lnTo>
                <a:lnTo>
                  <a:pt x="682" y="999"/>
                </a:lnTo>
                <a:lnTo>
                  <a:pt x="706" y="994"/>
                </a:lnTo>
                <a:lnTo>
                  <a:pt x="763" y="974"/>
                </a:lnTo>
                <a:lnTo>
                  <a:pt x="890" y="912"/>
                </a:lnTo>
                <a:lnTo>
                  <a:pt x="1000" y="854"/>
                </a:lnTo>
                <a:lnTo>
                  <a:pt x="1022" y="845"/>
                </a:lnTo>
                <a:lnTo>
                  <a:pt x="1021" y="847"/>
                </a:lnTo>
                <a:lnTo>
                  <a:pt x="1021" y="848"/>
                </a:lnTo>
                <a:lnTo>
                  <a:pt x="1019" y="849"/>
                </a:lnTo>
                <a:lnTo>
                  <a:pt x="1018" y="849"/>
                </a:lnTo>
                <a:lnTo>
                  <a:pt x="1017" y="849"/>
                </a:lnTo>
                <a:lnTo>
                  <a:pt x="1015" y="848"/>
                </a:lnTo>
                <a:lnTo>
                  <a:pt x="1012" y="846"/>
                </a:lnTo>
                <a:lnTo>
                  <a:pt x="1001" y="839"/>
                </a:lnTo>
                <a:lnTo>
                  <a:pt x="971" y="827"/>
                </a:lnTo>
                <a:lnTo>
                  <a:pt x="954" y="827"/>
                </a:lnTo>
                <a:lnTo>
                  <a:pt x="958" y="817"/>
                </a:lnTo>
                <a:lnTo>
                  <a:pt x="962" y="804"/>
                </a:lnTo>
                <a:lnTo>
                  <a:pt x="963" y="790"/>
                </a:lnTo>
                <a:lnTo>
                  <a:pt x="962" y="760"/>
                </a:lnTo>
                <a:lnTo>
                  <a:pt x="957" y="707"/>
                </a:lnTo>
                <a:lnTo>
                  <a:pt x="969" y="691"/>
                </a:lnTo>
                <a:lnTo>
                  <a:pt x="970" y="690"/>
                </a:lnTo>
                <a:lnTo>
                  <a:pt x="978" y="680"/>
                </a:lnTo>
                <a:lnTo>
                  <a:pt x="1006" y="647"/>
                </a:lnTo>
                <a:lnTo>
                  <a:pt x="1026" y="620"/>
                </a:lnTo>
                <a:lnTo>
                  <a:pt x="1028" y="618"/>
                </a:lnTo>
                <a:lnTo>
                  <a:pt x="1025" y="616"/>
                </a:lnTo>
                <a:lnTo>
                  <a:pt x="1010" y="595"/>
                </a:lnTo>
                <a:lnTo>
                  <a:pt x="956" y="522"/>
                </a:lnTo>
                <a:lnTo>
                  <a:pt x="915" y="466"/>
                </a:lnTo>
                <a:lnTo>
                  <a:pt x="913" y="463"/>
                </a:lnTo>
                <a:lnTo>
                  <a:pt x="914" y="462"/>
                </a:lnTo>
                <a:lnTo>
                  <a:pt x="922" y="448"/>
                </a:lnTo>
                <a:lnTo>
                  <a:pt x="950" y="401"/>
                </a:lnTo>
                <a:lnTo>
                  <a:pt x="971" y="365"/>
                </a:lnTo>
                <a:lnTo>
                  <a:pt x="973" y="363"/>
                </a:lnTo>
                <a:lnTo>
                  <a:pt x="964" y="348"/>
                </a:lnTo>
                <a:lnTo>
                  <a:pt x="936" y="299"/>
                </a:lnTo>
                <a:lnTo>
                  <a:pt x="914" y="262"/>
                </a:lnTo>
                <a:lnTo>
                  <a:pt x="913" y="260"/>
                </a:lnTo>
                <a:lnTo>
                  <a:pt x="911" y="262"/>
                </a:lnTo>
                <a:lnTo>
                  <a:pt x="903" y="271"/>
                </a:lnTo>
                <a:lnTo>
                  <a:pt x="871" y="300"/>
                </a:lnTo>
                <a:lnTo>
                  <a:pt x="849" y="322"/>
                </a:lnTo>
                <a:lnTo>
                  <a:pt x="848" y="323"/>
                </a:lnTo>
                <a:lnTo>
                  <a:pt x="844" y="322"/>
                </a:lnTo>
                <a:lnTo>
                  <a:pt x="821" y="312"/>
                </a:lnTo>
                <a:lnTo>
                  <a:pt x="744" y="279"/>
                </a:lnTo>
                <a:lnTo>
                  <a:pt x="685" y="253"/>
                </a:lnTo>
                <a:lnTo>
                  <a:pt x="682" y="251"/>
                </a:lnTo>
                <a:lnTo>
                  <a:pt x="688" y="233"/>
                </a:lnTo>
                <a:lnTo>
                  <a:pt x="690" y="202"/>
                </a:lnTo>
                <a:lnTo>
                  <a:pt x="680" y="180"/>
                </a:lnTo>
                <a:lnTo>
                  <a:pt x="659" y="164"/>
                </a:lnTo>
                <a:lnTo>
                  <a:pt x="631" y="150"/>
                </a:lnTo>
                <a:lnTo>
                  <a:pt x="601" y="137"/>
                </a:lnTo>
                <a:lnTo>
                  <a:pt x="586" y="129"/>
                </a:lnTo>
                <a:lnTo>
                  <a:pt x="584" y="127"/>
                </a:lnTo>
                <a:lnTo>
                  <a:pt x="577" y="110"/>
                </a:lnTo>
                <a:lnTo>
                  <a:pt x="550" y="49"/>
                </a:lnTo>
                <a:lnTo>
                  <a:pt x="530" y="3"/>
                </a:lnTo>
                <a:lnTo>
                  <a:pt x="529" y="0"/>
                </a:lnTo>
                <a:lnTo>
                  <a:pt x="523" y="1"/>
                </a:lnTo>
                <a:lnTo>
                  <a:pt x="484" y="4"/>
                </a:lnTo>
                <a:lnTo>
                  <a:pt x="351" y="15"/>
                </a:lnTo>
                <a:lnTo>
                  <a:pt x="251" y="23"/>
                </a:lnTo>
                <a:lnTo>
                  <a:pt x="245" y="23"/>
                </a:lnTo>
                <a:lnTo>
                  <a:pt x="240" y="25"/>
                </a:lnTo>
                <a:lnTo>
                  <a:pt x="207" y="38"/>
                </a:lnTo>
                <a:lnTo>
                  <a:pt x="92" y="83"/>
                </a:lnTo>
                <a:lnTo>
                  <a:pt x="4" y="118"/>
                </a:lnTo>
                <a:lnTo>
                  <a:pt x="0" y="119"/>
                </a:lnTo>
                <a:lnTo>
                  <a:pt x="38" y="139"/>
                </a:lnTo>
                <a:lnTo>
                  <a:pt x="126" y="172"/>
                </a:lnTo>
                <a:lnTo>
                  <a:pt x="323" y="221"/>
                </a:lnTo>
                <a:lnTo>
                  <a:pt x="509" y="279"/>
                </a:lnTo>
                <a:lnTo>
                  <a:pt x="549" y="298"/>
                </a:lnTo>
                <a:lnTo>
                  <a:pt x="559" y="308"/>
                </a:lnTo>
                <a:lnTo>
                  <a:pt x="573" y="325"/>
                </a:lnTo>
                <a:lnTo>
                  <a:pt x="604" y="374"/>
                </a:lnTo>
                <a:lnTo>
                  <a:pt x="660" y="507"/>
                </a:lnTo>
                <a:lnTo>
                  <a:pt x="670" y="632"/>
                </a:lnTo>
                <a:lnTo>
                  <a:pt x="662" y="650"/>
                </a:lnTo>
                <a:lnTo>
                  <a:pt x="652" y="667"/>
                </a:lnTo>
                <a:lnTo>
                  <a:pt x="618" y="701"/>
                </a:lnTo>
                <a:lnTo>
                  <a:pt x="579" y="732"/>
                </a:lnTo>
                <a:lnTo>
                  <a:pt x="505" y="778"/>
                </a:lnTo>
                <a:lnTo>
                  <a:pt x="485" y="788"/>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AutoShape 228">
            <a:hlinkClick r:id="" action="ppaction://hlinkshowjump?jump=previousslide"/>
          </p:cNvPr>
          <p:cNvSpPr/>
          <p:nvPr/>
        </p:nvSpPr>
        <p:spPr>
          <a:xfrm>
            <a:off x="8686800" y="66294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0" name="Text Box 229"/>
          <p:cNvSpPr/>
          <p:nvPr/>
        </p:nvSpPr>
        <p:spPr>
          <a:xfrm>
            <a:off x="6248520" y="0"/>
            <a:ext cx="2895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1" name="Rectangle 230"/>
          <p:cNvSpPr/>
          <p:nvPr/>
        </p:nvSpPr>
        <p:spPr>
          <a:xfrm>
            <a:off x="5364000" y="179280"/>
            <a:ext cx="3780000" cy="2259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800" spc="-1" strike="noStrike">
                <a:solidFill>
                  <a:srgbClr val="ffffff"/>
                </a:solidFill>
                <a:latin typeface="Arial"/>
                <a:ea typeface="Arial Unicode MS"/>
              </a:rPr>
              <a:t>Online access </a:t>
            </a:r>
            <a:br>
              <a:rPr sz="2800"/>
            </a:br>
            <a:r>
              <a:rPr b="1" lang="en-US" sz="2800" spc="-1" strike="noStrike">
                <a:solidFill>
                  <a:srgbClr val="ffffff"/>
                </a:solidFill>
                <a:latin typeface="Arial"/>
                <a:ea typeface="Arial Unicode MS"/>
              </a:rPr>
              <a:t>to the national </a:t>
            </a:r>
            <a:br>
              <a:rPr sz="2800"/>
            </a:br>
            <a:r>
              <a:rPr b="1" lang="en-US" sz="2800" spc="-1" strike="noStrike">
                <a:solidFill>
                  <a:srgbClr val="ffffff"/>
                </a:solidFill>
                <a:latin typeface="Arial"/>
                <a:ea typeface="Arial Unicode MS"/>
              </a:rPr>
              <a:t>legal gazettes </a:t>
            </a:r>
            <a:br>
              <a:rPr sz="2800"/>
            </a:br>
            <a:r>
              <a:rPr b="1" lang="en-US" sz="2800" spc="-1" strike="noStrike">
                <a:solidFill>
                  <a:srgbClr val="ffffff"/>
                </a:solidFill>
                <a:latin typeface="Arial"/>
                <a:ea typeface="Arial Unicode MS"/>
              </a:rPr>
              <a:t>(October 2000)</a:t>
            </a:r>
            <a:r>
              <a:rPr b="1" lang="en-US" sz="4900" spc="-1" strike="noStrike">
                <a:solidFill>
                  <a:srgbClr val="000000"/>
                </a:solidFill>
                <a:latin typeface="Arial"/>
                <a:ea typeface="Arial Unicode MS"/>
              </a:rPr>
              <a:t>  </a:t>
            </a:r>
            <a:endParaRPr b="0" lang="en-US" sz="4900" spc="-1" strike="noStrike">
              <a:solidFill>
                <a:srgbClr val="000000"/>
              </a:solidFill>
              <a:latin typeface="Arial"/>
            </a:endParaRPr>
          </a:p>
        </p:txBody>
      </p:sp>
      <p:sp>
        <p:nvSpPr>
          <p:cNvPr id="532" name="Rectangle 231"/>
          <p:cNvSpPr/>
          <p:nvPr/>
        </p:nvSpPr>
        <p:spPr>
          <a:xfrm>
            <a:off x="5410080" y="2438280"/>
            <a:ext cx="3733920" cy="44197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marL="378000" indent="-378000">
              <a:lnSpc>
                <a:spcPct val="6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Arial"/>
            </a:endParaRPr>
          </a:p>
          <a:p>
            <a:pPr marL="378000" indent="-378000">
              <a:lnSpc>
                <a:spcPct val="7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u="sng">
                <a:solidFill>
                  <a:srgbClr val="000000"/>
                </a:solidFill>
                <a:uFillTx/>
                <a:latin typeface="Arial"/>
                <a:ea typeface="Arial Unicode MS"/>
              </a:rPr>
              <a:t>Free of charge:</a:t>
            </a:r>
            <a:endParaRPr b="0" lang="en-US" sz="3100" spc="-1" strike="noStrike">
              <a:solidFill>
                <a:srgbClr val="000000"/>
              </a:solidFill>
              <a:latin typeface="Arial"/>
            </a:endParaRPr>
          </a:p>
          <a:p>
            <a:pPr lvl="1" marL="819000" indent="-315720">
              <a:lnSpc>
                <a:spcPct val="7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Arial"/>
                <a:ea typeface="Arial Unicode MS"/>
              </a:rPr>
              <a:t>entirely free</a:t>
            </a:r>
            <a:endParaRPr b="0" lang="en-US" sz="2600" spc="-1" strike="noStrike">
              <a:solidFill>
                <a:srgbClr val="000000"/>
              </a:solidFill>
              <a:latin typeface="Arial"/>
            </a:endParaRPr>
          </a:p>
          <a:p>
            <a:pPr lvl="1" marL="819000" indent="-315720">
              <a:lnSpc>
                <a:spcPts val="0"/>
              </a:lnSpc>
              <a:spcBef>
                <a:spcPts val="649"/>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a:p>
            <a:pPr lvl="1" marL="819000" indent="-315720">
              <a:lnSpc>
                <a:spcPct val="11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Arial"/>
                <a:ea typeface="Arial Unicode MS"/>
              </a:rPr>
              <a:t>restrictions on usage</a:t>
            </a:r>
            <a:endParaRPr b="0" lang="en-US" sz="2600" spc="-1" strike="noStrike">
              <a:solidFill>
                <a:srgbClr val="000000"/>
              </a:solidFill>
              <a:latin typeface="Arial"/>
            </a:endParaRPr>
          </a:p>
          <a:p>
            <a:pPr lvl="1" marL="819000" indent="-315720">
              <a:lnSpc>
                <a:spcPct val="11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a:p>
            <a:pPr lvl="1" marL="819000" indent="-315720">
              <a:lnSpc>
                <a:spcPts val="0"/>
              </a:lnSpc>
              <a:spcBef>
                <a:spcPts val="649"/>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a:p>
            <a:pPr lvl="1" marL="819000" indent="-315720">
              <a:lnSpc>
                <a:spcPct val="80000"/>
              </a:lnSpc>
              <a:spcBef>
                <a:spcPts val="649"/>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Arial"/>
                <a:ea typeface="Arial Unicode MS"/>
              </a:rPr>
              <a:t>free during a limited </a:t>
            </a:r>
            <a:endParaRPr b="0" lang="en-US" sz="2600" spc="-1" strike="noStrike">
              <a:solidFill>
                <a:srgbClr val="000000"/>
              </a:solidFill>
              <a:latin typeface="Arial"/>
            </a:endParaRPr>
          </a:p>
          <a:p>
            <a:pPr lvl="1" marL="819000" indent="-315720">
              <a:lnSpc>
                <a:spcPct val="80000"/>
              </a:lnSpc>
              <a:spcBef>
                <a:spcPts val="64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000000"/>
                </a:solidFill>
                <a:latin typeface="Arial"/>
                <a:ea typeface="Arial Unicode MS"/>
              </a:rPr>
              <a:t>	</a:t>
            </a:r>
            <a:r>
              <a:rPr b="0" lang="en-US" sz="2600" spc="-1" strike="noStrike">
                <a:solidFill>
                  <a:srgbClr val="000000"/>
                </a:solidFill>
                <a:latin typeface="Arial"/>
                <a:ea typeface="Arial Unicode MS"/>
              </a:rPr>
              <a:t>period</a:t>
            </a:r>
            <a:endParaRPr b="0" lang="en-US" sz="2600" spc="-1" strike="noStrike">
              <a:solidFill>
                <a:srgbClr val="000000"/>
              </a:solidFill>
              <a:latin typeface="Arial"/>
            </a:endParaRPr>
          </a:p>
          <a:p>
            <a:pPr lvl="1" marL="819000" indent="-315720">
              <a:lnSpc>
                <a:spcPct val="60000"/>
              </a:lnSpc>
              <a:spcBef>
                <a:spcPts val="649"/>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Arial"/>
            </a:endParaRPr>
          </a:p>
          <a:p>
            <a:pPr marL="378000" indent="-378000">
              <a:lnSpc>
                <a:spcPct val="120000"/>
              </a:lnSpc>
              <a:spcBef>
                <a:spcPts val="774"/>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1" lang="en-US" sz="3100" spc="-1" strike="noStrike" u="sng">
                <a:solidFill>
                  <a:srgbClr val="000000"/>
                </a:solidFill>
                <a:uFillTx/>
                <a:latin typeface="Arial"/>
                <a:ea typeface="Arial Unicode MS"/>
              </a:rPr>
              <a:t>Paying access:</a:t>
            </a:r>
            <a:br>
              <a:rPr sz="3100"/>
            </a:br>
            <a:r>
              <a:rPr b="1" lang="en-US" sz="3100" spc="-1" strike="noStrike" u="sng">
                <a:solidFill>
                  <a:srgbClr val="000000"/>
                </a:solidFill>
                <a:uFillTx/>
                <a:latin typeface="Arial"/>
              </a:rPr>
              <a:t> </a:t>
            </a:r>
            <a:endParaRPr b="0" lang="en-US" sz="3100" spc="-1" strike="noStrike">
              <a:solidFill>
                <a:srgbClr val="000000"/>
              </a:solidFill>
              <a:latin typeface="Arial"/>
            </a:endParaRPr>
          </a:p>
        </p:txBody>
      </p:sp>
      <p:sp>
        <p:nvSpPr>
          <p:cNvPr id="533" name="Rectangle 232"/>
          <p:cNvSpPr/>
          <p:nvPr/>
        </p:nvSpPr>
        <p:spPr>
          <a:xfrm>
            <a:off x="7238880" y="2819520"/>
            <a:ext cx="914400" cy="304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4" name="Rectangle 233"/>
          <p:cNvSpPr/>
          <p:nvPr/>
        </p:nvSpPr>
        <p:spPr>
          <a:xfrm>
            <a:off x="7848720" y="3809880"/>
            <a:ext cx="914400" cy="914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5" name="Rectangle 234"/>
          <p:cNvSpPr/>
          <p:nvPr/>
        </p:nvSpPr>
        <p:spPr>
          <a:xfrm>
            <a:off x="8064360" y="4211640"/>
            <a:ext cx="914400" cy="380880"/>
          </a:xfrm>
          <a:prstGeom prst="rect">
            <a:avLst/>
          </a:prstGeom>
          <a:blipFill rotWithShape="0">
            <a:blip r:embed="rId26"/>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6" name="Rectangle 235"/>
          <p:cNvSpPr/>
          <p:nvPr/>
        </p:nvSpPr>
        <p:spPr>
          <a:xfrm>
            <a:off x="6019920" y="3809880"/>
            <a:ext cx="533160" cy="304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7" name="Rectangle 236"/>
          <p:cNvSpPr/>
          <p:nvPr/>
        </p:nvSpPr>
        <p:spPr>
          <a:xfrm>
            <a:off x="7543800" y="4572000"/>
            <a:ext cx="914400" cy="380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8" name="Rectangle 237"/>
          <p:cNvSpPr/>
          <p:nvPr/>
        </p:nvSpPr>
        <p:spPr>
          <a:xfrm>
            <a:off x="7451640" y="4724280"/>
            <a:ext cx="914400" cy="38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9" name="Rectangle 238"/>
          <p:cNvSpPr/>
          <p:nvPr/>
        </p:nvSpPr>
        <p:spPr>
          <a:xfrm>
            <a:off x="8064360" y="6588000"/>
            <a:ext cx="914400" cy="45720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0" name="Rectangle 239"/>
          <p:cNvSpPr/>
          <p:nvPr/>
        </p:nvSpPr>
        <p:spPr>
          <a:xfrm>
            <a:off x="8136000" y="5219640"/>
            <a:ext cx="914400" cy="457200"/>
          </a:xfrm>
          <a:prstGeom prst="rect">
            <a:avLst/>
          </a:prstGeom>
          <a:blipFill rotWithShape="0">
            <a:blip r:embed="rId2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1" name="Rectangle 240"/>
          <p:cNvSpPr/>
          <p:nvPr/>
        </p:nvSpPr>
        <p:spPr>
          <a:xfrm>
            <a:off x="1143000" y="762120"/>
            <a:ext cx="1812960" cy="533160"/>
          </a:xfrm>
          <a:prstGeom prst="rect">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ea typeface="ＭＳ Ｐゴシック"/>
              </a:rPr>
              <a:t>OJ of the EU</a:t>
            </a:r>
            <a:endParaRPr b="0" lang="en-US" sz="2400" spc="-1" strike="noStrike">
              <a:solidFill>
                <a:srgbClr val="000000"/>
              </a:solidFill>
              <a:latin typeface="Arial"/>
            </a:endParaRPr>
          </a:p>
        </p:txBody>
      </p:sp>
      <p:sp>
        <p:nvSpPr>
          <p:cNvPr id="542" name="Line 241"/>
          <p:cNvSpPr/>
          <p:nvPr/>
        </p:nvSpPr>
        <p:spPr>
          <a:xfrm>
            <a:off x="1689120" y="1219320"/>
            <a:ext cx="673200" cy="281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Rectangle 242"/>
          <p:cNvSpPr/>
          <p:nvPr/>
        </p:nvSpPr>
        <p:spPr>
          <a:xfrm>
            <a:off x="8136000" y="3274920"/>
            <a:ext cx="915840" cy="365040"/>
          </a:xfrm>
          <a:prstGeom prst="rect">
            <a:avLst/>
          </a:prstGeom>
          <a:blipFill rotWithShape="0">
            <a:blip r:embed="rId29"/>
            <a:srcRect/>
            <a:tile tx="0" ty="0" sx="100000" sy="100000" algn="ctr"/>
          </a:blipFill>
          <a:ln w="9360">
            <a:solidFill>
              <a:srgbClr val="008000"/>
            </a:solidFill>
            <a:miter/>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504720" y="302760"/>
            <a:ext cx="9072720" cy="124452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i-FI" sz="3200" spc="-1" strike="noStrike">
                <a:solidFill>
                  <a:srgbClr val="e9f731"/>
                </a:solidFill>
                <a:latin typeface="Arial"/>
              </a:rPr>
              <a:t>Online access to law in Europe (2012)</a:t>
            </a:r>
            <a:endParaRPr b="0" lang="en-US" sz="3200" spc="-1" strike="noStrike">
              <a:solidFill>
                <a:srgbClr val="000000"/>
              </a:solidFill>
              <a:latin typeface="Arial"/>
            </a:endParaRPr>
          </a:p>
        </p:txBody>
      </p:sp>
      <p:pic>
        <p:nvPicPr>
          <p:cNvPr id="545" name="Picture 5" descr=""/>
          <p:cNvPicPr/>
          <p:nvPr/>
        </p:nvPicPr>
        <p:blipFill>
          <a:blip r:embed="rId1"/>
          <a:stretch/>
        </p:blipFill>
        <p:spPr>
          <a:xfrm>
            <a:off x="216000" y="1403280"/>
            <a:ext cx="9651960" cy="559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ietanen Aki</dc:creator>
  <dc:description/>
  <dc:language>en-US</dc:language>
  <cp:lastModifiedBy>Yannis Stamatiou</cp:lastModifiedBy>
  <dcterms:modified xsi:type="dcterms:W3CDTF">2017-04-23T20:35:23Z</dcterms:modified>
  <cp:revision>64</cp:revision>
  <dc:subject/>
  <dc:title>E-Law and Free Access to Legislation</dc:title>
</cp:coreProperties>
</file>