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039-36C5-4046-9CCA-8797B335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585-FAD7-4EA1-BD95-A13222E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7CD-6503-4EE0-9BFA-EBD62F6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02F-EC0A-4797-A819-2FA2CAC0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B8AB-1D99-4228-9EE8-670B7748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7BD9-2567-489F-ACE4-C6303BF8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1D9D-C4FC-468F-9568-17012A57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FE5F-8B01-448A-967C-E8AD85A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391A-682C-4120-8D63-7F20E916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9D83-2080-4EE3-A7D6-0FA3E6C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24A-3B34-4CA5-B2EA-68A7CFF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500-5C37-4222-9B09-B3DF6E8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0BC2-0C48-43F0-84C5-6999192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A5E-78D4-4A19-B8A4-36D9D83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08DB-9158-406B-8EF7-7C6B0DE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75E4-50AA-4467-9F12-7B5BD4B7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CB4-0D3B-4F85-85F6-3D524965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086-EA28-4EAB-8ADF-B07AE2B1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CE4-EDC1-4869-B42B-1543326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33E-484C-4C69-8539-220022D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535-E384-4FF1-B5B9-3C4485C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0DC-7A2A-48D6-9264-5416A11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9A-4C8A-4080-AB89-C39392D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2F5-EB7F-4B55-BFC5-B0F1573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e0587"/>
                </a:gs>
                <a:gs pos="100000">
                  <a:srgbClr val="096f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fd3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96fa7"/>
                </a:gs>
                <a:gs pos="100000">
                  <a:srgbClr val="0e05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fd3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6fa7"/>
                  </a:gs>
                  <a:gs pos="100000">
                    <a:srgbClr val="0e05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096f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6fa7"/>
                  </a:gs>
                  <a:gs pos="100000">
                    <a:srgbClr val="0e058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100000">
                    <a:srgbClr val="0e05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dee6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50000">
                    <a:srgbClr val="800080"/>
                  </a:gs>
                  <a:gs pos="100000">
                    <a:srgbClr val="dee6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100000">
                    <a:srgbClr val="0e058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dee6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50000">
                    <a:srgbClr val="800080"/>
                  </a:gs>
                  <a:gs pos="100000">
                    <a:srgbClr val="dee6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eeefd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eefd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eef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eef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D18-F232-4400-B205-5BFDC129F235}" type="datetime">
              <a:rPr b="0" lang="en-US" sz="1000" spc="-1" strike="noStrike">
                <a:solidFill>
                  <a:srgbClr val="eeefd3"/>
                </a:solidFill>
                <a:latin typeface="Tahoma"/>
              </a:rPr>
              <a:t>07/31/26</a:t>
            </a:fld>
            <a:r>
              <a:rPr b="0" lang="en-US" sz="1000" spc="-1" strike="noStrike">
                <a:solidFill>
                  <a:srgbClr val="eeefd3"/>
                </a:solidFill>
                <a:latin typeface="Tahoma"/>
              </a:rPr>
              <a:t> </a:t>
            </a:r>
            <a:fld id="{8546497E-403A-4ADB-8181-05318735D4F5}" type="datetime10">
              <a:rPr b="0" lang="en-US" sz="1000" spc="-1" strike="noStrike">
                <a:solidFill>
                  <a:srgbClr val="eeefd3"/>
                </a:solidFill>
                <a:latin typeface="Tahoma"/>
              </a:rPr>
              <a:t>16: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fd3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5539-5CDB-4296-BC6D-CC673CB73FBE}" type="slidenum">
              <a:rPr b="0" lang="en-US" sz="1000" spc="-1" strike="noStrike">
                <a:solidFill>
                  <a:srgbClr val="eeefd3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096f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6fa7"/>
                  </a:gs>
                  <a:gs pos="100000">
                    <a:srgbClr val="0e05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e634"/>
                </a:gs>
                <a:gs pos="50000">
                  <a:srgbClr val="800080"/>
                </a:gs>
                <a:gs pos="100000">
                  <a:srgbClr val="dee6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fd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e0587"/>
                </a:gs>
                <a:gs pos="100000">
                  <a:srgbClr val="dee6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eefd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e634"/>
                </a:gs>
                <a:gs pos="100000">
                  <a:srgbClr val="0e058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eefd3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6fa7"/>
                  </a:gs>
                  <a:gs pos="100000">
                    <a:srgbClr val="0e05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096f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6fa7"/>
                  </a:gs>
                  <a:gs pos="100000">
                    <a:srgbClr val="0e058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100000">
                    <a:srgbClr val="0e05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0587"/>
                  </a:gs>
                  <a:gs pos="100000">
                    <a:srgbClr val="dee6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634"/>
                  </a:gs>
                  <a:gs pos="50000">
                    <a:srgbClr val="800080"/>
                  </a:gs>
                  <a:gs pos="100000">
                    <a:srgbClr val="dee6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fd3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2E4D-3BBE-414D-B740-261013DEF24B}" type="datetime">
              <a:rPr b="0" lang="en-US" sz="1000" spc="-1" strike="noStrike">
                <a:solidFill>
                  <a:srgbClr val="eeefd3"/>
                </a:solidFill>
                <a:latin typeface="Tahoma"/>
              </a:rPr>
              <a:t>07/31/26</a:t>
            </a:fld>
            <a:r>
              <a:rPr b="0" lang="en-US" sz="1000" spc="-1" strike="noStrike">
                <a:solidFill>
                  <a:srgbClr val="eeefd3"/>
                </a:solidFill>
                <a:latin typeface="Tahoma"/>
              </a:rPr>
              <a:t> </a:t>
            </a:r>
            <a:fld id="{089EFDF9-03E4-4343-8D32-267439997D66}" type="datetime10">
              <a:rPr b="0" lang="en-US" sz="1000" spc="-1" strike="noStrike">
                <a:solidFill>
                  <a:srgbClr val="eeefd3"/>
                </a:solidFill>
                <a:latin typeface="Tahoma"/>
              </a:rPr>
              <a:t>16: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fd3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fd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5C1-15E8-4FC6-9B2B-2AC2D15CB9FF}" type="slidenum">
              <a:rPr b="0" lang="en-US" sz="1000" spc="-1" strike="noStrike">
                <a:solidFill>
                  <a:srgbClr val="eeefd3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fd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fd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eeefd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fd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eefd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eefd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d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eeefd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d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eeefd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eeef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d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eeefd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eeef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d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eeefd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Δορυφορικές και Κινητές Επικοινωνίες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133360" y="30477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eeefd3"/>
                </a:solidFill>
                <a:latin typeface="Arial Narrow"/>
              </a:rPr>
              <a:t>Σταύρος Κωτσόπουλος</a:t>
            </a:r>
            <a:endParaRPr b="0" lang="en-US" sz="36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65760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eefd3"/>
                </a:solidFill>
                <a:latin typeface="Arial Narrow"/>
              </a:rPr>
              <a:t>Αν. Καθηγητής</a:t>
            </a:r>
            <a:endParaRPr b="0" lang="en-US" sz="2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638680"/>
            <a:ext cx="7848720" cy="520200"/>
          </a:xfrm>
          <a:prstGeom prst="rect">
            <a:avLst/>
          </a:prstGeom>
          <a:noFill/>
          <a:ln w="9360">
            <a:solidFill>
              <a:srgbClr val="dee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eefd3"/>
                </a:solidFill>
                <a:latin typeface="Tahoma"/>
              </a:rPr>
              <a:t>Το παρόν υλικό υλοποιήθηκε από τον Γεώργιο Πάσχο στα πλαίσια του προγράμματος ΕΠΕΑΕΚ ΙΙ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20B5-2FB2-418C-AA78-9509712ABE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E275B2-A2D9-4A47-AF40-769323F2E4AD}" type="datetime8">
              <a:rPr lang="en-US"/>
              <a:t>07/31/26 16:23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Εφαρμογές στο 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UMT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33680" y="1981080"/>
            <a:ext cx="6215040" cy="39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F8FF-278F-4CC3-A4CC-0E029921E6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523BEE-8AF4-42E5-8E95-ACB2946CEC0A}" type="datetime8">
              <a:rPr lang="en-US"/>
              <a:t>07/31/26 16:23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Χαρακτηριστικά 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UMT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02280" y="2209680"/>
            <a:ext cx="1815840" cy="368280"/>
          </a:xfrm>
          <a:prstGeom prst="rect">
            <a:avLst/>
          </a:prstGeom>
          <a:solidFill>
            <a:srgbClr val="eeefd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6fa7"/>
                </a:solidFill>
                <a:latin typeface="Tahoma"/>
              </a:rPr>
              <a:t>Soft Handover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8280" y="3581280"/>
            <a:ext cx="1090440" cy="368280"/>
          </a:xfrm>
          <a:prstGeom prst="rect">
            <a:avLst/>
          </a:prstGeom>
          <a:solidFill>
            <a:srgbClr val="eeefd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6fa7"/>
                </a:solidFill>
                <a:latin typeface="Tahoma"/>
              </a:rPr>
              <a:t>WCDMA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78240" y="4267080"/>
            <a:ext cx="3460320" cy="368280"/>
          </a:xfrm>
          <a:prstGeom prst="rect">
            <a:avLst/>
          </a:prstGeom>
          <a:solidFill>
            <a:srgbClr val="eeefd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6fa7"/>
                </a:solidFill>
                <a:latin typeface="Tahoma"/>
              </a:rPr>
              <a:t>Interference-Limited System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029200"/>
            <a:ext cx="3657600" cy="368280"/>
          </a:xfrm>
          <a:prstGeom prst="rect">
            <a:avLst/>
          </a:prstGeom>
          <a:solidFill>
            <a:srgbClr val="eeefd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6fa7"/>
                </a:solidFill>
                <a:latin typeface="Tahoma"/>
              </a:rPr>
              <a:t>Radio Resource Management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81240" y="2895480"/>
            <a:ext cx="4254480" cy="368280"/>
          </a:xfrm>
          <a:prstGeom prst="rect">
            <a:avLst/>
          </a:prstGeom>
          <a:solidFill>
            <a:srgbClr val="eeefd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6fa7"/>
                </a:solidFill>
                <a:latin typeface="Tahoma"/>
              </a:rPr>
              <a:t>Continuous Two-way Power Control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905120" cy="199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3FFD-45C8-425F-BAB3-154E2E14D5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AA3433-D08E-4073-808C-DE27F6F24D28}" type="datetime8">
              <a:rPr lang="en-US"/>
              <a:t>07/31/26 16:23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930240"/>
            <a:ext cx="80773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Εφαρμογές στην Τρίτη Γενιά Κινητής Τηλεφωνίας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48640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75B-04F4-47F8-90CB-C271004DA1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8BDCB0-6D2D-4601-9E99-B789141D42ED}" type="datetime8">
              <a:rPr lang="en-US"/>
              <a:t>07/31/26 16:23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930240"/>
            <a:ext cx="80773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Τέταρτη Γενιά Κινητής Τηλεφωνίας (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4G)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8280" y="2819520"/>
            <a:ext cx="78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0f4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f450"/>
                </a:solidFill>
                <a:latin typeface="Tahoma"/>
              </a:rPr>
              <a:t>Θα περιέχει τα συστήματα που σήμερα αναφέρονται ως </a:t>
            </a:r>
            <a:r>
              <a:rPr b="0" lang="en-US" sz="1800" spc="-1" strike="noStrike">
                <a:solidFill>
                  <a:srgbClr val="e0f450"/>
                </a:solidFill>
                <a:latin typeface="Tahoma"/>
              </a:rPr>
              <a:t>Wireless LAN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9360" y="3443400"/>
            <a:ext cx="66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0f4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f450"/>
                </a:solidFill>
                <a:latin typeface="Tahoma"/>
              </a:rPr>
              <a:t>To OFDM </a:t>
            </a:r>
            <a:r>
              <a:rPr b="0" lang="el-GR" sz="1800" spc="-1" strike="noStrike">
                <a:solidFill>
                  <a:srgbClr val="e0f450"/>
                </a:solidFill>
                <a:latin typeface="Tahoma"/>
              </a:rPr>
              <a:t>έχει προταθεί ως κεντρικό πρότυπο πρόσβασης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083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0f4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f450"/>
                </a:solidFill>
                <a:latin typeface="Tahoma"/>
              </a:rPr>
              <a:t>Τα συστήματα θα περιέχουν ετερογενή δίκτυα που θα τηρούν όμως κάποιες προϋποθέσεις </a:t>
            </a:r>
            <a:r>
              <a:rPr b="0" lang="en-US" sz="1800" spc="-1" strike="noStrike">
                <a:solidFill>
                  <a:srgbClr val="e0f450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967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0f4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f450"/>
                </a:solidFill>
                <a:latin typeface="Tahoma"/>
              </a:rPr>
              <a:t>Αναμένονται σε λειτουργία μετά το 2010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1780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0f4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f450"/>
                </a:solidFill>
                <a:latin typeface="Tahoma"/>
              </a:rPr>
              <a:t>Θα καλύψουν μεγάλη γκάμα εφαρμογών απαιτητικών σε </a:t>
            </a:r>
            <a:r>
              <a:rPr b="0" lang="en-US" sz="1800" spc="-1" strike="noStrike">
                <a:solidFill>
                  <a:srgbClr val="e0f450"/>
                </a:solidFill>
                <a:latin typeface="Tahoma"/>
              </a:rPr>
              <a:t>bandwidth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54C-F1FD-48F6-9D29-9083095CAD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AFF607-BBA1-4F3E-94EB-524CF0D56AC5}" type="datetime8">
              <a:rPr lang="en-US"/>
              <a:t>07/31/26 16:2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Concept Phone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3880" y="1914480"/>
            <a:ext cx="3132360" cy="4181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13848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B57-5D31-4E18-89EB-556B3C4805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0B40B4-146B-42E8-91D7-4BD2E3961D2B}" type="datetime8">
              <a:rPr lang="en-US"/>
              <a:t>07/31/26 16:23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Concept Phone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486400" cy="41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316-DAF0-4722-8EB6-D72D0AC86A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A2B4DBD-478F-42E9-A13F-57AA9A44CE87}" type="datetime8">
              <a:rPr lang="en-US"/>
              <a:t>07/31/26 16:23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Concept Phone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7000" y="1981080"/>
            <a:ext cx="2968920" cy="3962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679400" y="1981080"/>
            <a:ext cx="296892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36D-9379-451C-8707-69F8AC11EA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7B13FE-3BF5-4C9D-A27B-D2290835B450}" type="datetime8">
              <a:rPr lang="en-US"/>
              <a:t>07/31/26 16:23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Concept Phone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257800" cy="39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84F-A1D9-40A3-ACED-F10D6F5FE7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C2B24E-8C1B-456C-A45A-C8CBE4C89F0F}" type="datetime8">
              <a:rPr lang="en-US"/>
              <a:t>07/31/26 16:23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Concept Phone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85444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285408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493D-B1E0-4E5A-986A-0EE824F72C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B099AC1-24FF-4091-B571-0EAC89CE6F22}" type="datetime8">
              <a:rPr lang="en-US"/>
              <a:t>07/31/26 16:23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93024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Άσκηση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   </a:t>
            </a: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Να βρεθεί η </a:t>
            </a:r>
            <a:r>
              <a:rPr b="0" lang="en-US" sz="1800" spc="-1" strike="noStrike">
                <a:solidFill>
                  <a:srgbClr val="eeefd3"/>
                </a:solidFill>
                <a:latin typeface="Tahoma"/>
              </a:rPr>
              <a:t>uplink </a:t>
            </a: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χωρητικότητα ενός κυττάρου </a:t>
            </a:r>
            <a:r>
              <a:rPr b="0" lang="en-US" sz="1800" spc="-1" strike="noStrike">
                <a:solidFill>
                  <a:srgbClr val="eeefd3"/>
                </a:solidFill>
                <a:latin typeface="Tahoma"/>
              </a:rPr>
              <a:t>UMTS </a:t>
            </a: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με ακτίνα </a:t>
            </a:r>
            <a:r>
              <a:rPr b="0" lang="en-US" sz="1800" spc="-1" strike="noStrike">
                <a:solidFill>
                  <a:srgbClr val="eeefd3"/>
                </a:solidFill>
                <a:latin typeface="Tahoma"/>
              </a:rPr>
              <a:t>R=200m.</a:t>
            </a: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 Τι πυκνότητα χρηστών μπορεί να εξυπηρετήσει; 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69920" y="3124080"/>
            <a:ext cx="5878800" cy="204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ddff5"/>
                </a:solidFill>
                <a:latin typeface="Tahoma"/>
              </a:rPr>
              <a:t>Δίνονται:</a:t>
            </a:r>
            <a:endParaRPr b="0" lang="en-US" sz="2400" spc="-1" strike="noStrike">
              <a:solidFill>
                <a:srgbClr val="eeefd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fd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dff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dff5"/>
                </a:solidFill>
                <a:latin typeface="Tahoma"/>
              </a:rPr>
              <a:t>Chip rate 3,84Mcps</a:t>
            </a:r>
            <a:endParaRPr b="0" lang="en-US" sz="1600" spc="-1" strike="noStrike">
              <a:solidFill>
                <a:srgbClr val="eeefd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dff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ddff5"/>
                </a:solidFill>
                <a:latin typeface="Tahoma"/>
              </a:rPr>
              <a:t>Η κατανομή κίνησης είναι 50%-50% μεταξύ 16</a:t>
            </a:r>
            <a:r>
              <a:rPr b="1" lang="en-US" sz="1600" spc="-1" strike="noStrike">
                <a:solidFill>
                  <a:srgbClr val="0ddff5"/>
                </a:solidFill>
                <a:latin typeface="Tahoma"/>
              </a:rPr>
              <a:t>kbps</a:t>
            </a:r>
            <a:r>
              <a:rPr b="1" lang="el-GR" sz="1600" spc="-1" strike="noStrike">
                <a:solidFill>
                  <a:srgbClr val="0ddff5"/>
                </a:solidFill>
                <a:latin typeface="Tahoma"/>
              </a:rPr>
              <a:t> υπηρεσίας φωνής και 64</a:t>
            </a:r>
            <a:r>
              <a:rPr b="1" lang="en-US" sz="1600" spc="-1" strike="noStrike">
                <a:solidFill>
                  <a:srgbClr val="0ddff5"/>
                </a:solidFill>
                <a:latin typeface="Tahoma"/>
              </a:rPr>
              <a:t>kbps streaming </a:t>
            </a:r>
            <a:r>
              <a:rPr b="1" lang="el-GR" sz="1600" spc="-1" strike="noStrike">
                <a:solidFill>
                  <a:srgbClr val="0ddff5"/>
                </a:solidFill>
                <a:latin typeface="Tahoma"/>
              </a:rPr>
              <a:t>υπηρεσιών</a:t>
            </a:r>
            <a:endParaRPr b="0" lang="en-US" sz="1600" spc="-1" strike="noStrike">
              <a:solidFill>
                <a:srgbClr val="eeefd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dff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ddff5"/>
                </a:solidFill>
                <a:latin typeface="Tahoma"/>
              </a:rPr>
              <a:t>Θεωρήστε ότι το </a:t>
            </a:r>
            <a:r>
              <a:rPr b="1" lang="en-US" sz="1600" spc="-1" strike="noStrike">
                <a:solidFill>
                  <a:srgbClr val="0ddff5"/>
                </a:solidFill>
                <a:latin typeface="Tahoma"/>
              </a:rPr>
              <a:t>Power Control </a:t>
            </a:r>
            <a:r>
              <a:rPr b="1" lang="el-GR" sz="1600" spc="-1" strike="noStrike">
                <a:solidFill>
                  <a:srgbClr val="0ddff5"/>
                </a:solidFill>
                <a:latin typeface="Tahoma"/>
              </a:rPr>
              <a:t>λειτουργεί άψογα.</a:t>
            </a:r>
            <a:endParaRPr b="0" lang="en-US" sz="1600" spc="-1" strike="noStrike">
              <a:solidFill>
                <a:srgbClr val="eeefd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A53-F55D-428F-82D0-3A18844528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669E4F9-BEBD-45BD-B1F8-F0584B8CDDD6}" type="datetime8">
              <a:rPr lang="en-US"/>
              <a:t>07/31/26 16:2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 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Το σύστημα </a:t>
            </a:r>
            <a:r>
              <a:rPr b="0" lang="en-US" sz="3200" spc="-1" strike="noStrike">
                <a:solidFill>
                  <a:srgbClr val="eeefd3"/>
                </a:solidFill>
                <a:latin typeface="Arial Narrow"/>
              </a:rPr>
              <a:t>UMTS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819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 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Τεχνολογία </a:t>
            </a:r>
            <a:r>
              <a:rPr b="0" lang="en-US" sz="3200" spc="-1" strike="noStrike">
                <a:solidFill>
                  <a:srgbClr val="eeefd3"/>
                </a:solidFill>
                <a:latin typeface="Arial Narrow"/>
              </a:rPr>
              <a:t>WCDMA</a:t>
            </a:r>
            <a:endParaRPr b="0" lang="en-US" sz="32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 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Νέες τεχνολογίες, </a:t>
            </a:r>
            <a:r>
              <a:rPr b="0" lang="en-US" sz="3200" spc="-1" strike="noStrike">
                <a:solidFill>
                  <a:srgbClr val="eeefd3"/>
                </a:solidFill>
                <a:latin typeface="Arial Narrow"/>
              </a:rPr>
              <a:t>3G 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και </a:t>
            </a:r>
            <a:r>
              <a:rPr b="0" lang="en-US" sz="3200" spc="-1" strike="noStrike">
                <a:solidFill>
                  <a:srgbClr val="eeefd3"/>
                </a:solidFill>
                <a:latin typeface="Arial Narrow"/>
              </a:rPr>
              <a:t>4G</a:t>
            </a:r>
            <a:endParaRPr b="0" lang="en-US" sz="32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90360" y="930240"/>
            <a:ext cx="7086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Μάθημα </a:t>
            </a: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11</a:t>
            </a: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ο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3434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 </a:t>
            </a:r>
            <a:r>
              <a:rPr b="0" lang="el-GR" sz="3200" spc="-1" strike="noStrike">
                <a:solidFill>
                  <a:srgbClr val="eeefd3"/>
                </a:solidFill>
                <a:latin typeface="Arial Narrow"/>
              </a:rPr>
              <a:t>Άσκηση</a:t>
            </a:r>
            <a:endParaRPr b="0" lang="en-US" sz="32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EEFF-E3B5-4021-BD7A-D5E3C619E8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1CBDFF-63BB-4346-A508-BE5EACE39448}" type="datetime8">
              <a:rPr lang="en-US"/>
              <a:t>07/31/26 16:23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930240"/>
            <a:ext cx="3657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Πίνακας Υπηρεσιών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9880" y="685800"/>
          <a:ext cx="5105520" cy="510516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809880" y="533412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3886200" y="838080"/>
          <a:ext cx="4932360" cy="4854600"/>
        </p:xfrm>
        <a:graphic>
          <a:graphicData uri="http://schemas.openxmlformats.org/drawingml/2006/table">
            <a:tbl>
              <a:tblPr/>
              <a:tblGrid>
                <a:gridCol w="1039680"/>
                <a:gridCol w="984240"/>
                <a:gridCol w="968400"/>
                <a:gridCol w="968400"/>
                <a:gridCol w="971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UMTS classe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Conversational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Streaming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Interactive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Background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Time requirement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Real time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Real time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Non- Real time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Non- Real time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Application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Voice applications with AMR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Video &amp; other streaming application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Interaction applications &amp; Computer gaming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Browsing &amp; Downloading, Emails, MMS, SM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Available Bit Rates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6Kbps (x1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64Kbps (x4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All rates supported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All rates supported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32Kbps (x2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28Kbps (x8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384Kbps (x24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756Kbps (x48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2Mbps (x128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Activity factor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~ 0.67 (two-way call)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Static E</a:t>
                      </a:r>
                      <a:r>
                        <a:rPr b="0" i="1" lang="en-GB" sz="1000" spc="-1" strike="noStrike" baseline="-30000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/N</a:t>
                      </a:r>
                      <a:r>
                        <a:rPr b="0" i="1" lang="en-GB" sz="1000" spc="-1" strike="noStrike" baseline="-30000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5 dB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-1.5 dB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 dB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1 dB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for 16kbps demand 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0.00875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0,005214   0,005848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0.005214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eeefd3"/>
                          </a:solidFill>
                          <a:latin typeface="Arial"/>
                          <a:ea typeface="Times New Roman"/>
                        </a:rPr>
                        <a:t>0.005214</a:t>
                      </a:r>
                      <a:endParaRPr b="0" lang="en-US" sz="10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879800" y="2286000"/>
            <a:ext cx="1117800" cy="558720"/>
          </a:xfrm>
          <a:custGeom>
            <a:avLst/>
            <a:gdLst/>
            <a:ahLst/>
            <a:rect l="l" t="t" r="r" b="b"/>
            <a:pathLst>
              <a:path w="704" h="352">
                <a:moveTo>
                  <a:pt x="375" y="23"/>
                </a:moveTo>
                <a:cubicBezTo>
                  <a:pt x="302" y="29"/>
                  <a:pt x="231" y="38"/>
                  <a:pt x="158" y="45"/>
                </a:cubicBezTo>
                <a:cubicBezTo>
                  <a:pt x="142" y="56"/>
                  <a:pt x="121" y="57"/>
                  <a:pt x="105" y="68"/>
                </a:cubicBezTo>
                <a:cubicBezTo>
                  <a:pt x="88" y="80"/>
                  <a:pt x="75" y="97"/>
                  <a:pt x="60" y="112"/>
                </a:cubicBezTo>
                <a:cubicBezTo>
                  <a:pt x="47" y="125"/>
                  <a:pt x="30" y="157"/>
                  <a:pt x="30" y="157"/>
                </a:cubicBezTo>
                <a:cubicBezTo>
                  <a:pt x="0" y="257"/>
                  <a:pt x="149" y="336"/>
                  <a:pt x="232" y="344"/>
                </a:cubicBezTo>
                <a:cubicBezTo>
                  <a:pt x="275" y="348"/>
                  <a:pt x="317" y="349"/>
                  <a:pt x="360" y="352"/>
                </a:cubicBezTo>
                <a:cubicBezTo>
                  <a:pt x="457" y="344"/>
                  <a:pt x="555" y="340"/>
                  <a:pt x="651" y="322"/>
                </a:cubicBezTo>
                <a:cubicBezTo>
                  <a:pt x="659" y="317"/>
                  <a:pt x="668" y="314"/>
                  <a:pt x="674" y="307"/>
                </a:cubicBezTo>
                <a:cubicBezTo>
                  <a:pt x="686" y="293"/>
                  <a:pt x="704" y="262"/>
                  <a:pt x="704" y="262"/>
                </a:cubicBezTo>
                <a:cubicBezTo>
                  <a:pt x="702" y="246"/>
                  <a:pt x="701" y="190"/>
                  <a:pt x="689" y="165"/>
                </a:cubicBezTo>
                <a:cubicBezTo>
                  <a:pt x="677" y="141"/>
                  <a:pt x="629" y="95"/>
                  <a:pt x="606" y="82"/>
                </a:cubicBezTo>
                <a:cubicBezTo>
                  <a:pt x="590" y="73"/>
                  <a:pt x="571" y="73"/>
                  <a:pt x="554" y="68"/>
                </a:cubicBezTo>
                <a:cubicBezTo>
                  <a:pt x="527" y="49"/>
                  <a:pt x="503" y="47"/>
                  <a:pt x="472" y="38"/>
                </a:cubicBezTo>
                <a:cubicBezTo>
                  <a:pt x="429" y="26"/>
                  <a:pt x="382" y="0"/>
                  <a:pt x="33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16520" y="2295360"/>
            <a:ext cx="1117800" cy="559080"/>
          </a:xfrm>
          <a:custGeom>
            <a:avLst/>
            <a:gdLst/>
            <a:ahLst/>
            <a:rect l="l" t="t" r="r" b="b"/>
            <a:pathLst>
              <a:path w="704" h="352">
                <a:moveTo>
                  <a:pt x="375" y="23"/>
                </a:moveTo>
                <a:cubicBezTo>
                  <a:pt x="302" y="29"/>
                  <a:pt x="231" y="38"/>
                  <a:pt x="158" y="45"/>
                </a:cubicBezTo>
                <a:cubicBezTo>
                  <a:pt x="142" y="56"/>
                  <a:pt x="121" y="57"/>
                  <a:pt x="105" y="68"/>
                </a:cubicBezTo>
                <a:cubicBezTo>
                  <a:pt x="88" y="80"/>
                  <a:pt x="75" y="97"/>
                  <a:pt x="60" y="112"/>
                </a:cubicBezTo>
                <a:cubicBezTo>
                  <a:pt x="47" y="125"/>
                  <a:pt x="30" y="157"/>
                  <a:pt x="30" y="157"/>
                </a:cubicBezTo>
                <a:cubicBezTo>
                  <a:pt x="0" y="257"/>
                  <a:pt x="149" y="336"/>
                  <a:pt x="232" y="344"/>
                </a:cubicBezTo>
                <a:cubicBezTo>
                  <a:pt x="275" y="348"/>
                  <a:pt x="317" y="349"/>
                  <a:pt x="360" y="352"/>
                </a:cubicBezTo>
                <a:cubicBezTo>
                  <a:pt x="457" y="344"/>
                  <a:pt x="555" y="340"/>
                  <a:pt x="651" y="322"/>
                </a:cubicBezTo>
                <a:cubicBezTo>
                  <a:pt x="659" y="317"/>
                  <a:pt x="668" y="314"/>
                  <a:pt x="674" y="307"/>
                </a:cubicBezTo>
                <a:cubicBezTo>
                  <a:pt x="686" y="293"/>
                  <a:pt x="704" y="262"/>
                  <a:pt x="704" y="262"/>
                </a:cubicBezTo>
                <a:cubicBezTo>
                  <a:pt x="702" y="246"/>
                  <a:pt x="701" y="190"/>
                  <a:pt x="689" y="165"/>
                </a:cubicBezTo>
                <a:cubicBezTo>
                  <a:pt x="677" y="141"/>
                  <a:pt x="629" y="95"/>
                  <a:pt x="606" y="82"/>
                </a:cubicBezTo>
                <a:cubicBezTo>
                  <a:pt x="590" y="73"/>
                  <a:pt x="571" y="73"/>
                  <a:pt x="554" y="68"/>
                </a:cubicBezTo>
                <a:cubicBezTo>
                  <a:pt x="527" y="49"/>
                  <a:pt x="503" y="47"/>
                  <a:pt x="472" y="38"/>
                </a:cubicBezTo>
                <a:cubicBezTo>
                  <a:pt x="429" y="26"/>
                  <a:pt x="382" y="0"/>
                  <a:pt x="33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95280" y="3809880"/>
          <a:ext cx="5715000" cy="167652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f7ffb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71600" y="3821040"/>
                <a:ext cx="563868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he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he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891080" y="3110040"/>
            <a:ext cx="4492080" cy="368280"/>
          </a:xfrm>
          <a:prstGeom prst="rect">
            <a:avLst/>
          </a:prstGeom>
          <a:solidFill>
            <a:srgbClr val="096fa7"/>
          </a:solidFill>
          <a:ln w="28440">
            <a:solidFill>
              <a:srgbClr val="93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Συντελεστής φόρτου για κάθε υπηρεσία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898-8C21-4B74-8F46-98E24DB60F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F95A6C-3C53-46B5-A4E4-969AA26C2BA1}" type="datetime8">
              <a:rPr lang="en-US"/>
              <a:t>07/31/26 16:2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 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930240"/>
            <a:ext cx="7848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Λύση 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505320" y="2514600"/>
          <a:ext cx="2819160" cy="12193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f7ffb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83000" y="2514600"/>
                <a:ext cx="28670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7174440" y="26668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eefd3"/>
                </a:solidFill>
                <a:latin typeface="Tahoma"/>
              </a:rPr>
              <a:t>Μ=2</a:t>
            </a:r>
            <a:endParaRPr b="0" lang="en-US" sz="2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06480" y="3030480"/>
            <a:ext cx="14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eefd3"/>
                </a:solidFill>
                <a:latin typeface="Tahoma"/>
              </a:rPr>
              <a:t>Ν</a:t>
            </a:r>
            <a:r>
              <a:rPr b="0" lang="el-GR" sz="2400" spc="-1" strike="noStrike" baseline="-25000">
                <a:solidFill>
                  <a:srgbClr val="eeefd3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eeefd3"/>
                </a:solidFill>
                <a:latin typeface="Tahoma"/>
              </a:rPr>
              <a:t>=Ν</a:t>
            </a:r>
            <a:r>
              <a:rPr b="0" lang="el-GR" sz="2400" spc="-1" strike="noStrike" baseline="-25000">
                <a:solidFill>
                  <a:srgbClr val="eeefd3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eeefd3"/>
                </a:solidFill>
                <a:latin typeface="Tahoma"/>
              </a:rPr>
              <a:t>=Ν</a:t>
            </a:r>
            <a:endParaRPr b="0" lang="en-US" sz="2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600" y="29098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Με: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9400" y="49528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Λαμβάνουμε: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43520" y="2013120"/>
            <a:ext cx="75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Το κύτταρο δεν μπορεί να εξυπηρετήσει περισσότερες κλήσεις όταν: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641680" y="4343400"/>
          <a:ext cx="4216320" cy="1752480"/>
        </p:xfrm>
        <a:graphic>
          <a:graphicData uri="http://schemas.openxmlformats.org/drawingml/2006/table">
            <a:tbl>
              <a:tblPr/>
              <a:tblGrid>
                <a:gridCol w="421632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f7ffb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73360" y="4383000"/>
                <a:ext cx="418464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7086600" y="426564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Άρα η χωρητικότητα είναι: 67χρήστες και η πυκνότητα: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eefd3"/>
                </a:solidFill>
                <a:latin typeface="Tahoma"/>
              </a:rPr>
              <a:t>644χρήστες/</a:t>
            </a:r>
            <a:r>
              <a:rPr b="0" lang="en-US" sz="1800" spc="-1" strike="noStrike">
                <a:solidFill>
                  <a:srgbClr val="eeefd3"/>
                </a:solidFill>
                <a:latin typeface="Tahoma"/>
              </a:rPr>
              <a:t>km</a:t>
            </a:r>
            <a:r>
              <a:rPr b="0" lang="en-US" sz="1800" spc="-1" strike="noStrike" baseline="30000">
                <a:solidFill>
                  <a:srgbClr val="eeefd3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50E-7C8F-4BAA-80A4-D077E4105B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986114-6071-49DC-B61C-94E49D06D67C}" type="datetime8">
              <a:rPr lang="en-US"/>
              <a:t>07/31/26 16:23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930240"/>
            <a:ext cx="7848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dddddd"/>
                </a:solidFill>
                <a:latin typeface="Tahoma"/>
              </a:rPr>
              <a:t>Συμπεράσματα</a:t>
            </a:r>
            <a:endParaRPr b="1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1896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fd3"/>
                </a:solidFill>
                <a:latin typeface="Tahoma"/>
              </a:rPr>
              <a:t>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Η χωρητικότητα στο </a:t>
            </a:r>
            <a:r>
              <a:rPr b="0" lang="en-US" sz="2600" spc="-1" strike="noStrike">
                <a:solidFill>
                  <a:srgbClr val="eeefd3"/>
                </a:solidFill>
                <a:latin typeface="Tahoma"/>
              </a:rPr>
              <a:t>uplink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και στο </a:t>
            </a:r>
            <a:r>
              <a:rPr b="0" lang="en-US" sz="2600" spc="-1" strike="noStrike">
                <a:solidFill>
                  <a:srgbClr val="eeefd3"/>
                </a:solidFill>
                <a:latin typeface="Tahoma"/>
              </a:rPr>
              <a:t>downlink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δεν πάντα ίδια (ασύμμετρη κίνηση).</a:t>
            </a: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Η χωρητικότητα του </a:t>
            </a:r>
            <a:r>
              <a:rPr b="0" lang="en-US" sz="2600" spc="-1" strike="noStrike">
                <a:solidFill>
                  <a:srgbClr val="eeefd3"/>
                </a:solidFill>
                <a:latin typeface="Tahoma"/>
              </a:rPr>
              <a:t>UMTS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για υπηρεσίες με υψηλές απαιτήσεις είναι μικρή.</a:t>
            </a: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Το </a:t>
            </a:r>
            <a:r>
              <a:rPr b="0" lang="en-US" sz="2600" spc="-1" strike="noStrike">
                <a:solidFill>
                  <a:srgbClr val="eeefd3"/>
                </a:solidFill>
                <a:latin typeface="Tahoma"/>
              </a:rPr>
              <a:t>Power Control </a:t>
            </a:r>
            <a:r>
              <a:rPr b="0" lang="el-GR" sz="2600" spc="-1" strike="noStrike">
                <a:solidFill>
                  <a:srgbClr val="eeefd3"/>
                </a:solidFill>
                <a:latin typeface="Tahoma"/>
              </a:rPr>
              <a:t>είναι μια πολύ σημαντική παράμετρος στον υπολογισμό της χωρητικότητας. </a:t>
            </a: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eefd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3D89-886C-496E-98ED-4126F49157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361DB4D-91D5-4FB2-BA30-F52127431224}" type="datetime8">
              <a:rPr lang="en-US"/>
              <a:t>07/31/26 16:23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80773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Τέλος </a:t>
            </a: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11</a:t>
            </a:r>
            <a:r>
              <a:rPr b="1" lang="el-GR" sz="4400" spc="-1" strike="noStrike">
                <a:solidFill>
                  <a:srgbClr val="dddddd"/>
                </a:solidFill>
                <a:latin typeface="Tahoma"/>
              </a:rPr>
              <a:t>ης Διάλεξης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514600"/>
            <a:ext cx="6553080" cy="21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e058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fd3"/>
                </a:solidFill>
                <a:latin typeface="Tahoma"/>
              </a:rPr>
              <a:t>WIRELESS TELECOMMUNICATIONS LABORATORY</a:t>
            </a:r>
            <a:endParaRPr b="0" lang="en-US" sz="4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8005-BF99-465B-BCDC-1F1E1C72CD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42923E-2AC9-4C27-BC24-95C12298E495}" type="datetime8">
              <a:rPr lang="en-US"/>
              <a:t>07/31/26 16: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Εφαρμογές στο 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UMTS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57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17A-E89F-44E1-8A80-4E9E947C43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889E2C-180C-4DB4-BEC9-66DEFF67FD4F}" type="datetime8">
              <a:rPr lang="en-US"/>
              <a:t>07/31/26 16:2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Η εξέλιξη της κινητής τηλεφωνίας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1981080"/>
          <a:ext cx="6781320" cy="4114440"/>
        </p:xfrm>
        <a:graphic>
          <a:graphicData uri="http://schemas.openxmlformats.org/drawingml/2006/table">
            <a:tbl>
              <a:tblPr/>
              <a:tblGrid>
                <a:gridCol w="6781320"/>
              </a:tblGrid>
              <a:tr h="41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f7ffbb"/>
                    </a:solidFill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17220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56A-3151-4564-A00E-A02800C66B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A6ABE9-F158-4741-9786-1634911120AB}" type="datetime8">
              <a:rPr lang="en-US"/>
              <a:t>07/31/26 16:23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Οι Γενιές των κινητών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791320" cy="405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4F98-4160-44F9-B173-32E7B9ADB9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3F5478-46A4-47F0-A289-412D7C0A6EFB}" type="datetime8">
              <a:rPr lang="en-US"/>
              <a:t>07/31/26 16:2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Ραγδαία αύξηση συνδρομητών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940040"/>
            <a:ext cx="7899120" cy="38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62F-169A-43B9-ACCC-742EF1F2AC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D454F9-4B12-49CE-BD45-28F7853D8602}" type="datetime8">
              <a:rPr lang="en-US"/>
              <a:t>07/31/26 16:23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930240"/>
            <a:ext cx="80773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Η εξέλιξη των τμημάτων των δικτύων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418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36C9-8D07-4A6B-A6FC-E40C601975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2584DF-5F20-4FD4-9C1B-FBF62E8AC441}" type="datetime8">
              <a:rPr lang="en-US"/>
              <a:t>07/31/26 16:2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93024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Η ταχύτητα μετάδοσης εξαρτάται από τη κίνηση του χρήστη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47920" y="2057400"/>
          <a:ext cx="6781320" cy="4114440"/>
        </p:xfrm>
        <a:graphic>
          <a:graphicData uri="http://schemas.openxmlformats.org/drawingml/2006/table">
            <a:tbl>
              <a:tblPr/>
              <a:tblGrid>
                <a:gridCol w="6781320"/>
              </a:tblGrid>
              <a:tr h="41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eefd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eefd3"/>
                      </a:solidFill>
                    </a:lnL>
                    <a:lnR w="13680">
                      <a:solidFill>
                        <a:srgbClr val="eeefd3"/>
                      </a:solidFill>
                    </a:lnR>
                    <a:lnT w="13680">
                      <a:solidFill>
                        <a:srgbClr val="eeefd3"/>
                      </a:solidFill>
                    </a:lnT>
                    <a:lnB w="13680">
                      <a:solidFill>
                        <a:srgbClr val="eeefd3"/>
                      </a:solidFill>
                    </a:lnB>
                    <a:solidFill>
                      <a:srgbClr val="f7ffbb"/>
                    </a:solidFill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42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F738-26C8-48E8-93A2-7E3383F9E2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7AA949-B036-4E47-9DEB-B62542D1F037}" type="datetime8">
              <a:rPr lang="en-US"/>
              <a:t>07/31/26 16:23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16200000">
            <a:off x="-1295280" y="434268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Διάλεξη </a:t>
            </a:r>
            <a:r>
              <a:rPr b="0" i="1" lang="en-US" sz="3600" spc="-1" strike="noStrike">
                <a:solidFill>
                  <a:srgbClr val="d37dcd"/>
                </a:solidFill>
                <a:latin typeface="Arial Narrow"/>
              </a:rPr>
              <a:t>11</a:t>
            </a:r>
            <a:r>
              <a:rPr b="0" i="1" lang="el-GR" sz="3600" spc="-1" strike="noStrike">
                <a:solidFill>
                  <a:srgbClr val="d37dcd"/>
                </a:solidFill>
                <a:latin typeface="Arial Narrow"/>
              </a:rPr>
              <a:t>η</a:t>
            </a:r>
            <a:endParaRPr b="0" lang="en-US" sz="3600" spc="-1" strike="noStrike">
              <a:solidFill>
                <a:srgbClr val="eeefd3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930240"/>
            <a:ext cx="8763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dddddd"/>
                </a:solidFill>
                <a:latin typeface="Tahoma"/>
              </a:rPr>
              <a:t>Η μετάβαση στη Τρίτη Γενιά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021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d37dcd"/>
                </a:solidFill>
                <a:latin typeface="Arial Narrow"/>
              </a:rPr>
              <a:t>ΠΑΝΕΠΙΣΤΗΜΙΟ ΠΑΤΡΩΝ – ΗΜΤΥ</a:t>
            </a:r>
            <a:r>
              <a:rPr b="0" lang="el-GR" sz="1400" spc="-1" strike="noStrike">
                <a:solidFill>
                  <a:srgbClr val="d37dcd"/>
                </a:solidFill>
                <a:latin typeface="Arial Narrow"/>
              </a:rPr>
              <a:t> – ΕΡΓΑΣΤΗΡΙΟ ΑΣΥΡΜΑΤΗΣ ΕΠΙΚΟΙΝΩΝΙΑΣ</a:t>
            </a:r>
            <a:r>
              <a:rPr b="0" lang="en-US" sz="1400" spc="-1" strike="noStrike">
                <a:solidFill>
                  <a:srgbClr val="d37dcd"/>
                </a:solidFill>
                <a:latin typeface="Arial Narrow"/>
              </a:rPr>
              <a:t> – WIRELESS TELECOMMUNICATIONS LABORATORY</a:t>
            </a: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fd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7920" y="1955880"/>
            <a:ext cx="6933960" cy="39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Δορυφορικές και Κινητές Επικοινωνίε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1C46-EE7C-437E-A21E-B89D8C0A54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6BE12D-7585-4129-80DA-5641D2AF44AB}" type="datetime8">
              <a:rPr lang="en-US"/>
              <a:t>07/31/26 16:2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4:48:34Z</dcterms:created>
  <dc:creator>gpasxos</dc:creator>
  <dc:description/>
  <dc:language>en-US</dc:language>
  <cp:lastModifiedBy>gpasxos</cp:lastModifiedBy>
  <dcterms:modified xsi:type="dcterms:W3CDTF">2004-05-16T16:54:08Z</dcterms:modified>
  <cp:revision>119</cp:revision>
  <dc:subject/>
  <dc:title>Slide 1</dc:title>
</cp:coreProperties>
</file>