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6C1-ADB3-4B91-9ED3-3C0BC3E836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823-4F51-4B86-8F50-B4450B513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cl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r&gt; stands for "horizontal rule"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t's a self-closing element used to create a horizontal line on a web page.g htm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6E8B-D4FA-4AD8-B3AB-EF2E9E220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 (WWW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δεν είναι το ίδιο πράγμα, αν και πολλοί τα συγχέουν. Ας δούμε τις διαφορές του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1. Intern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είναι ένα τεράστι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δίκτυο δικτύων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το οποίο συνδέει εκατομμύρια υπολογιστές, διακομιστές και άλλες συσκευές παγκοσμίω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εριλαμβάνει διάφορες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ες και πρωτόκολλ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όπω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λεκτρονικό ταχυδρομείο (Emai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ο μεταφοράς αρχείων (FT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α τηλεφωνίας (VoI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ταλλαγή αρχείων peer-to-p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υπάρχει από τη δεκαετία του 1960 και περιλαμβάνει όλες τις διαδικτυακές υποδομ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2. World Wide Web (WWW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WWW είναι μία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που λειτουργεί πάνω στο Internet. Ουσιαστικά, είναι ένας από τους τρόπους με τους οποίους οι χρήστες μπορούν να χρησιμοποιήσουν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πτύχθηκε από τον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 1989 και βασίζεται σε υπερκείμενο (hypertext) και συνδέσμους (links), επιτρέποντας στους χρήστες να περιηγούνται σε ιστοσελίδες που είναι αποθηκευμένες σε διακομιστ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ιστοσελίδες προσπελαύνονται μέσω προγραμμάτων περιήγησης (browsers), και χρησιμοποιούν κυρίως το πρωτόκολλ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ύνοψ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η υποδομή, το φυσικό δίκτυο που συνδέει τους υπολογιστές.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μία υπηρεσία που βασίζεται σε αυτή την υποδομή και επιτρέπει την προβολή ιστοσελίδων μέσω των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ρα, το WWW είναι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ένα κομμάτι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υ Internet, όχι το ίδιο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popular options for writing HTML, along with their 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ublim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fast, and customizable with packages. Supports HTML, CSS, JavaScript, and a wide range of other languages. Sublime Text's features like multi-cursor editing and powerful search make it great for front-end develo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fast, minimalistic editor with the ability to extend functionality through plugins and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. Visual Studio Code (VS 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idely regarded as one of the best editors for web development. VS Code offers built-in support for HTML, CSS, and JavaScript, along with extensive plugins, an integrated terminal, and Git support. Features lik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m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for writing fast HTML/CSS) are built-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powerful, feature-rich environment with integrated debugging, version control, and task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ke Sublime Text, Atom is also highly customizable, open-source, and integrates well with Git and GitHub. It has a user-friendly interface and offers a lot of themes and exten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prefer an open-source alternative with a modern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Notepad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supports basic syntax highlighting, and is great for writing HTML on low-resource systems. It's free and eas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those who want a simple, no-frills editor that runs smoothly even o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Web-Based Editors (like CodePen or JSF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reat for quick prototyping and sharing code online. These platforms allow you to write and instantly preview HTML, CSS, and JavaScript in th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developers who want to experiment with HTML and CSS snippets quickly and share them easily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F0CF-BBD8-47ED-9CD0-B0AF9383F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EC5-B9E5-4845-BEF0-EF3CB67CA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87BE-C82A-4C08-AB3C-6F0256691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48-B9B8-44F7-B38C-ADC61A7B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197-BB18-4A94-B3B9-00EF7AB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3B4-EA4B-4BFF-9D1B-86A48A85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FA4-872F-4EFB-A400-9D2AE999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26D6-4972-43B1-A145-966E5A3F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81D-D8FA-444A-B906-09A2859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C6FE-82D3-493D-B900-7B533E9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0588-FE65-4AC9-849B-129F24E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1D34-D6DA-43DB-A70A-245E714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9F7-45DA-422F-89CE-C2FEDE6C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EAD1-B230-4A07-BC45-6BA2589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A86-6788-41CC-A1EA-28D3DD5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68B-D462-488C-8902-01870E3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4EDE-7E27-42AD-98A0-87744A8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9C5-9715-4740-A027-22BDD84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095-396F-4375-ACF2-A0C58A61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9D39-A98A-48EE-8BB3-7444C60B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913-38B1-4EF3-BB61-67B3E7F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F65-2767-4DB6-9A7D-4BE95B1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F5F-868E-437C-A1EC-83F5F06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782-48C2-4519-890D-1AB820A4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CDA-1E38-4AF4-944A-1101817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9DF-5CE7-42F7-84BE-56BD422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2FC-76AF-4BA0-B5F9-F316460F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71B-FAE7-43DA-8F7A-8A393E843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FEE7-22A0-4968-A95A-E6C56E4573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hyperlink" Target="https://www.w3schools.com/html/html_symbols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ordered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links.html" TargetMode="External"/><Relationship Id="rId2" Type="http://schemas.openxmlformats.org/officeDocument/2006/relationships/hyperlink" Target="file://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icture.html" TargetMode="External"/><Relationship Id="rId2" Type="http://schemas.openxmlformats.org/officeDocument/2006/relationships/hyperlink" Target="file://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abl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hatw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peech Bubble: Rectangle 4"/>
          <p:cNvSpPr/>
          <p:nvPr/>
        </p:nvSpPr>
        <p:spPr>
          <a:xfrm>
            <a:off x="5851440" y="1384200"/>
            <a:ext cx="1943280" cy="91440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peech Bubble: Rectangle 3"/>
          <p:cNvSpPr/>
          <p:nvPr/>
        </p:nvSpPr>
        <p:spPr>
          <a:xfrm>
            <a:off x="3619440" y="76320"/>
            <a:ext cx="4176720" cy="1218960"/>
          </a:xfrm>
          <a:prstGeom prst="wedgeRectCallout">
            <a:avLst>
              <a:gd name="adj1" fmla="val -44435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δε λειτουργεί το τηλέφων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η χαρά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443800" y="2997360"/>
            <a:ext cx="64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49432"/>
                </a:solidFill>
                <a:latin typeface="Arial"/>
              </a:rPr>
              <a:t>th : tabl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 : table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td: tabl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8443800" y="1676520"/>
            <a:ext cx="9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: text element brief description or ti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st Updated 26 February 202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eb Hypertext Application Technology Working Group (WHAT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 rowspan = 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mg src = "camel.gif" width = "205" height = "167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 = "Picture of a camel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 colspan = "4" valign = 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h1&gt;Camelid comparison&lt;/h1&gt;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&gt;Approximate as of 8/99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 valign = "bottom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….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5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6067440" y="602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ick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2" descr=""/>
          <p:cNvPicPr/>
          <p:nvPr/>
        </p:nvPicPr>
        <p:blipFill>
          <a:blip r:embed="rId2"/>
          <a:stretch/>
        </p:blipFill>
        <p:spPr>
          <a:xfrm>
            <a:off x="0" y="330120"/>
            <a:ext cx="4927680" cy="394200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1" descr=""/>
          <p:cNvPicPr/>
          <p:nvPr/>
        </p:nvPicPr>
        <p:blipFill>
          <a:blip r:embed="rId3"/>
          <a:stretch/>
        </p:blipFill>
        <p:spPr>
          <a:xfrm>
            <a:off x="4368960" y="122400"/>
            <a:ext cx="398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Εικόνα 1" descr=""/>
          <p:cNvPicPr/>
          <p:nvPr/>
        </p:nvPicPr>
        <p:blipFill>
          <a:blip r:embed="rId2"/>
          <a:stretch/>
        </p:blipFill>
        <p:spPr>
          <a:xfrm>
            <a:off x="7289640" y="1743120"/>
            <a:ext cx="1638360" cy="1244520"/>
          </a:xfrm>
          <a:prstGeom prst="rect">
            <a:avLst/>
          </a:prstGeom>
          <a:ln w="0">
            <a:noFill/>
          </a:ln>
        </p:spPr>
      </p:pic>
      <p:pic>
        <p:nvPicPr>
          <p:cNvPr id="269" name="Εικόνα 2" descr=""/>
          <p:cNvPicPr/>
          <p:nvPr/>
        </p:nvPicPr>
        <p:blipFill>
          <a:blip r:embed="rId3"/>
          <a:stretch/>
        </p:blipFill>
        <p:spPr>
          <a:xfrm>
            <a:off x="7796160" y="3573360"/>
            <a:ext cx="156384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3" descr=""/>
          <p:cNvPicPr/>
          <p:nvPr/>
        </p:nvPicPr>
        <p:blipFill>
          <a:blip r:embed="rId4"/>
          <a:stretch/>
        </p:blipFill>
        <p:spPr>
          <a:xfrm>
            <a:off x="5987880" y="5398920"/>
            <a:ext cx="3372120" cy="1295640"/>
          </a:xfrm>
          <a:prstGeom prst="rect">
            <a:avLst/>
          </a:prstGeom>
          <a:ln w="0">
            <a:noFill/>
          </a:ln>
        </p:spPr>
      </p:pic>
      <p:cxnSp>
        <p:nvCxnSpPr>
          <p:cNvPr id="271" name="Ευθύγραμμο βέλος σύνδεσης 2"/>
          <p:cNvCxnSpPr/>
          <p:nvPr/>
        </p:nvCxnSpPr>
        <p:spPr>
          <a:xfrm flipV="1">
            <a:off x="2682720" y="2276280"/>
            <a:ext cx="4104720" cy="1297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2" name="Ευθύγραμμο βέλος σύνδεσης 9"/>
          <p:cNvCxnSpPr/>
          <p:nvPr/>
        </p:nvCxnSpPr>
        <p:spPr>
          <a:xfrm flipV="1">
            <a:off x="3475080" y="4048920"/>
            <a:ext cx="4199760" cy="158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3" name="Ευθύγραμμο βέλος σύνδεσης 12"/>
          <p:cNvCxnSpPr/>
          <p:nvPr/>
        </p:nvCxnSpPr>
        <p:spPr>
          <a:xfrm>
            <a:off x="2693520" y="5256000"/>
            <a:ext cx="4829760" cy="508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Welcome to Our Web Site!!!!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22360" y="1719360"/>
            <a:ext cx="1584360" cy="916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opening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002360" y="1719360"/>
            <a:ext cx="1925640" cy="91692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lo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9800" y="1557360"/>
            <a:ext cx="845820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106720" y="1719360"/>
            <a:ext cx="4895640" cy="1191240"/>
          </a:xfrm>
          <a:prstGeom prst="rect">
            <a:avLst/>
          </a:prstGeom>
          <a:solidFill>
            <a:srgbClr val="00b0f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δώ απλ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  <p:sp>
        <p:nvSpPr>
          <p:cNvPr id="173" name="Ορθογώνιο 1"/>
          <p:cNvSpPr/>
          <p:nvPr/>
        </p:nvSpPr>
        <p:spPr>
          <a:xfrm>
            <a:off x="2827440" y="4076640"/>
            <a:ext cx="1366560" cy="122400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TML 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1&gt;My First Heading&lt;/h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My first paragraph.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TML 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1&gt;My First Heading&lt;/h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My first paragraph.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69800" y="234936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469800" y="397512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41440" y="2852640"/>
            <a:ext cx="6460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450720" y="451476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Βογιατζάκη Ελένη</cp:lastModifiedBy>
  <dcterms:modified xsi:type="dcterms:W3CDTF">2025-02-26T09:21:17Z</dcterms:modified>
  <cp:revision>678</cp:revision>
  <dc:subject/>
  <dc:title>Τεχνολογίες Διαδικτύου</dc:title>
</cp:coreProperties>
</file>