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2A6-2A1D-4B23-8180-BBC61A948D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CEB-528C-415D-A9CF-373141037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D34-BF90-43F4-B85D-D99059191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DEDF-1C04-4B86-A427-BD8D0EA5D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4DB-52CD-46FD-8DB7-1B0E7008B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1C9D-2918-4DD5-AA7A-F5CFCAE38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99A-5881-4B84-8D9D-0B23110B8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E5B-AA69-4F98-84FD-F596C476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BD4-4B8D-4A40-82EE-FAC44CE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5A3-8676-48AB-B66A-2E87557A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CD1-0462-4BD1-82B3-FBC26647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FC7F-41CB-4863-BD49-6EF2B7F1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633-851C-4E59-BC54-679247D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63A-0C89-4AF7-A641-AF89F4F3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F70-1832-44C8-A297-7D974CF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4F61-4FDE-4B78-84FB-24E5540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7A90-2EC7-4561-8558-79A7B2AC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5D9B-74EF-442D-ADF7-2959330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BE6-750B-4D28-A719-7CDF22E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2D24-4E7A-41CE-8CAC-088D265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9363-B620-4EF1-8D72-B7A1E12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E249-EC2C-4993-BDD5-E47281C3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D6C-3C05-41B7-AD6E-ED0A0C2D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6A9-DAE7-4616-B2BB-BCBD4D0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D45-820D-41B1-B873-1F73558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440-D452-4450-8E70-D31D5C51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74A-9A14-4925-899C-0F2D465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1B6-7C46-4FEA-A10B-D849497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328-155A-4A90-9835-524FBE6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CDA-687A-4C0D-89AB-5363745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03B-1026-4BFE-A7DF-308D29B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D53C-76EE-4247-91B5-FAE4D2EB5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3A3C-0275-4E06-BEAC-DF3C0EE8E9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w3schools.com/css/tryit.asp?filename=trycss_pseudo-class_link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w3.org/Style/Examples/007/units.en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w3schools.com/css/tryit.asp?filename=trycss_boxmode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3schools.com/css/tryit.asp?filename=trycss_position_fixed" TargetMode="External"/><Relationship Id="rId2" Type="http://schemas.openxmlformats.org/officeDocument/2006/relationships/hyperlink" Target="http://www.w3schools.com/css/tryit.asp?filename=trycss_position_absolute" TargetMode="External"/><Relationship Id="rId3" Type="http://schemas.openxmlformats.org/officeDocument/2006/relationships/hyperlink" Target="http://www.w3schools.com/css/tryit.asp?filename=trycss_position_relative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4/06/positioning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4/07/positioning2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w3schools.com/cssref/css_selectors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6a6a6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360" y="2421000"/>
            <a:ext cx="9307800" cy="413712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7"/>
          <p:cNvCxnSpPr/>
          <p:nvPr/>
        </p:nvCxnSpPr>
        <p:spPr>
          <a:xfrm flipH="1">
            <a:off x="810360" y="2119320"/>
            <a:ext cx="864360" cy="1310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6" name="Straight Arrow Connector 10"/>
          <p:cNvCxnSpPr/>
          <p:nvPr/>
        </p:nvCxnSpPr>
        <p:spPr>
          <a:xfrm flipH="1">
            <a:off x="810360" y="4143240"/>
            <a:ext cx="1872360" cy="1113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7" name="Straight Arrow Connector 6"/>
          <p:cNvCxnSpPr/>
          <p:nvPr/>
        </p:nvCxnSpPr>
        <p:spPr>
          <a:xfrm flipH="1" flipV="1">
            <a:off x="810360" y="5888880"/>
            <a:ext cx="1080360" cy="599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2336760"/>
            <a:ext cx="9307440" cy="414324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7"/>
          <p:cNvCxnSpPr/>
          <p:nvPr/>
        </p:nvCxnSpPr>
        <p:spPr>
          <a:xfrm flipH="1">
            <a:off x="469440" y="2205000"/>
            <a:ext cx="1061280" cy="1153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ing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35080" y="2386080"/>
            <a:ext cx="9163080" cy="4414680"/>
          </a:xfrm>
          <a:prstGeom prst="rect">
            <a:avLst/>
          </a:prstGeom>
          <a:ln w="0">
            <a:noFill/>
          </a:ln>
        </p:spPr>
      </p:pic>
      <p:cxnSp>
        <p:nvCxnSpPr>
          <p:cNvPr id="195" name="Straight Arrow Connector 7"/>
          <p:cNvCxnSpPr/>
          <p:nvPr/>
        </p:nvCxnSpPr>
        <p:spPr>
          <a:xfrm flipH="1">
            <a:off x="882000" y="2205000"/>
            <a:ext cx="648360" cy="1224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seudo-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6360" y="1417680"/>
            <a:ext cx="8209080" cy="536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 flipV="1" rot="10800000">
            <a:off x="4627440" y="6272640"/>
            <a:ext cx="46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s://www.w3schools.com/css/tryit.asp?filename=trycss_pseudo-class_link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SS Specifi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μεγαλύτερο «σκορ» κερδίζε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SS Specificity Magnitudes"/>
          <p:cNvPicPr/>
          <p:nvPr/>
        </p:nvPicPr>
        <p:blipFill>
          <a:blip r:embed="rId1"/>
          <a:stretch/>
        </p:blipFill>
        <p:spPr>
          <a:xfrm>
            <a:off x="1746360" y="2781360"/>
            <a:ext cx="54100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50840" y="1628640"/>
            <a:ext cx="92361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4"/>
          <p:cNvCxnSpPr/>
          <p:nvPr/>
        </p:nvCxnSpPr>
        <p:spPr>
          <a:xfrm flipV="1">
            <a:off x="2682360" y="3428280"/>
            <a:ext cx="499320" cy="4323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19" name="Straight Arrow Connector 15"/>
          <p:cNvCxnSpPr/>
          <p:nvPr/>
        </p:nvCxnSpPr>
        <p:spPr>
          <a:xfrm flipV="1">
            <a:off x="2682360" y="1996200"/>
            <a:ext cx="3537720" cy="1864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15"/>
          <p:cNvCxnSpPr/>
          <p:nvPr/>
        </p:nvCxnSpPr>
        <p:spPr>
          <a:xfrm flipV="1">
            <a:off x="3762360" y="2276280"/>
            <a:ext cx="2232720" cy="1800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31" name="Left Bracket 20"/>
          <p:cNvSpPr/>
          <p:nvPr/>
        </p:nvSpPr>
        <p:spPr>
          <a:xfrm>
            <a:off x="874800" y="2205000"/>
            <a:ext cx="287280" cy="1871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871640"/>
              <a:gd name="textAreaBottom" fmla="*/ 185976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875880" y="576432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αρχική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προοριζόταν για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ρφοποίηση των περιεχόμενων μιας ιστο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γραφή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up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ων περιεχόμε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ετικέτες και ιδιότητες μορφοποίησης (π.χ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nt&gt;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φανίστηκαν στη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 3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ος πονοκέφαλος για τους διαχειριστές μεγάλων ιστοτόπων με πολλές ιστοσελίδε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λύση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15"/>
          <p:cNvCxnSpPr/>
          <p:nvPr/>
        </p:nvCxnSpPr>
        <p:spPr>
          <a:xfrm flipV="1">
            <a:off x="4043160" y="2781000"/>
            <a:ext cx="1951560" cy="1419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44" name="Left Bracket 20"/>
          <p:cNvSpPr/>
          <p:nvPr/>
        </p:nvSpPr>
        <p:spPr>
          <a:xfrm>
            <a:off x="874800" y="2708280"/>
            <a:ext cx="287280" cy="152892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528920"/>
              <a:gd name="textAreaBottom" fmla="*/ 15170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0"/>
                  <a:pt x="0" y="339"/>
                </a:cubicBezTo>
                <a:lnTo>
                  <a:pt x="0" y="21261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84960" y="576432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 id=“my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56" name="Straight Arrow Connector 15"/>
          <p:cNvCxnSpPr/>
          <p:nvPr/>
        </p:nvCxnSpPr>
        <p:spPr>
          <a:xfrm flipV="1">
            <a:off x="4699080" y="3299760"/>
            <a:ext cx="1296000" cy="1065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57" name="TextBox 13"/>
          <p:cNvSpPr/>
          <p:nvPr/>
        </p:nvSpPr>
        <p:spPr>
          <a:xfrm>
            <a:off x="116280" y="581040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=“..” class=“bc” id=“my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3C CSS units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092240" y="1728720"/>
            <a:ext cx="721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bsolu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0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8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-responsive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dequeuniversity.com/library/responsive/1-non-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Εικόνα 4" descr=""/>
          <p:cNvPicPr/>
          <p:nvPr/>
        </p:nvPicPr>
        <p:blipFill>
          <a:blip r:embed="rId1"/>
          <a:stretch/>
        </p:blipFill>
        <p:spPr>
          <a:xfrm>
            <a:off x="5130720" y="249228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σβασιμ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χεδίασ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ώστε να μπορούν να χρησιμοποιηθούν από άτομα με αναπηρίε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3 Web Accessibility Initiative (WA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tent Accessibility Guidelines (WC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Ν.4591/2019: ενσωμάτωση οδηγίας της Ε.Ε. για την προσβασιμότητα ιστότοπων κα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e app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ων δημόσιων φορέ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bility checkers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AIM WA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rcRect l="6565" t="1899" r="5494" b="1899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Δι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ά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774720" y="1773360"/>
            <a:ext cx="7848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π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πο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2863800" y="3878280"/>
            <a:ext cx="3670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1: value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el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html tag – {body, p, h1,…}, class name, 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A green rectangular with white text&#10;&#10;Description automatically generated"/>
          <p:cNvPicPr/>
          <p:nvPr/>
        </p:nvPicPr>
        <p:blipFill>
          <a:blip r:embed="rId2"/>
          <a:stretch/>
        </p:blipFill>
        <p:spPr>
          <a:xfrm>
            <a:off x="831960" y="4173480"/>
            <a:ext cx="7734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layout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371600" y="1844640"/>
            <a:ext cx="6654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8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309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311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16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21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25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30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35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39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44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49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53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57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61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65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α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88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89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i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812880" y="3068640"/>
            <a:ext cx="7772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0360" y="1699920"/>
            <a:ext cx="41036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Υπάρχουν 6 συστήματα πλέγματος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άτος οθόνης που καθορίζει πως συμπεριφέρεται έν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ηλ. πότε αποφασίζεται να αλλάξει το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you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4843440" y="1708200"/>
            <a:ext cx="449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3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IZE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PAN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οποίο αλλάζει η συμπεριφορ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όσες στήλες δεσμεύει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άθροισμα πρέπει να είναι 12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5746680" cy="4411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rcRect l="0" t="0" r="0" b="45462"/>
          <a:stretch/>
        </p:blipFill>
        <p:spPr>
          <a:xfrm>
            <a:off x="5275440" y="1763640"/>
            <a:ext cx="3970080" cy="12956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786720" y="436572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ανόνας δέσμευσης ισχύει όταν το πλάτος γίνει 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s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595440" y="458136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8"/>
          <p:cNvCxnSpPr>
            <a:endCxn id="402" idx="1"/>
          </p:cNvCxnSpPr>
          <p:nvPr/>
        </p:nvCxnSpPr>
        <p:spPr>
          <a:xfrm>
            <a:off x="2466720" y="4652640"/>
            <a:ext cx="4320360" cy="31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05" name="Oval 9"/>
          <p:cNvSpPr/>
          <p:nvPr/>
        </p:nvSpPr>
        <p:spPr>
          <a:xfrm>
            <a:off x="601560" y="3836880"/>
            <a:ext cx="18734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595440" y="310500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11"/>
          <p:cNvCxnSpPr>
            <a:stCxn id="405" idx="6"/>
            <a:endCxn id="402" idx="1"/>
          </p:cNvCxnSpPr>
          <p:nvPr/>
        </p:nvCxnSpPr>
        <p:spPr>
          <a:xfrm>
            <a:off x="2474640" y="3944880"/>
            <a:ext cx="4312440" cy="102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08" name="Straight Arrow Connector 14"/>
          <p:cNvCxnSpPr>
            <a:stCxn id="406" idx="6"/>
            <a:endCxn id="402" idx="1"/>
          </p:cNvCxnSpPr>
          <p:nvPr/>
        </p:nvCxnSpPr>
        <p:spPr>
          <a:xfrm>
            <a:off x="2466720" y="3212640"/>
            <a:ext cx="4320360" cy="175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10" name="Content Placeholder 3" descr=""/>
          <p:cNvPicPr/>
          <p:nvPr/>
        </p:nvPicPr>
        <p:blipFill>
          <a:blip r:embed="rId1"/>
          <a:stretch/>
        </p:blipFill>
        <p:spPr>
          <a:xfrm>
            <a:off x="469800" y="2031840"/>
            <a:ext cx="4729320" cy="2117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62640" y="2031840"/>
            <a:ext cx="3492360" cy="2560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324000" y="5083200"/>
            <a:ext cx="20412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1024px (&gt;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έ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εται τον κανόνα (δέσμευση 4 στηλών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7361280" y="4808520"/>
            <a:ext cx="1593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=575p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Δεν υ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ρχει κανόνας δέσμευσης. Τα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vs 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απλά πάνε το ένα πάνω στο άλλο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rcRect l="0" t="0" r="0" b="45462"/>
          <a:stretch/>
        </p:blipFill>
        <p:spPr>
          <a:xfrm>
            <a:off x="2529000" y="4929120"/>
            <a:ext cx="3970080" cy="12956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9"/>
          <p:cNvCxnSpPr>
            <a:stCxn id="412" idx="0"/>
            <a:endCxn id="410" idx="2"/>
          </p:cNvCxnSpPr>
          <p:nvPr/>
        </p:nvCxnSpPr>
        <p:spPr>
          <a:xfrm flipV="1">
            <a:off x="1344240" y="4149000"/>
            <a:ext cx="1491480" cy="9342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6" name="Straight Arrow Connector 10"/>
          <p:cNvCxnSpPr>
            <a:stCxn id="412" idx="0"/>
          </p:cNvCxnSpPr>
          <p:nvPr/>
        </p:nvCxnSpPr>
        <p:spPr>
          <a:xfrm>
            <a:off x="1344240" y="5083200"/>
            <a:ext cx="2778840" cy="650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7" name="Straight Arrow Connector 13"/>
          <p:cNvCxnSpPr>
            <a:stCxn id="413" idx="0"/>
            <a:endCxn id="411" idx="2"/>
          </p:cNvCxnSpPr>
          <p:nvPr/>
        </p:nvCxnSpPr>
        <p:spPr>
          <a:xfrm flipH="1" flipV="1">
            <a:off x="7208280" y="4592160"/>
            <a:ext cx="950040" cy="216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18" name="TextBox 12"/>
          <p:cNvSpPr/>
          <p:nvPr/>
        </p:nvSpPr>
        <p:spPr>
          <a:xfrm>
            <a:off x="324000" y="453060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&lt;</a:t>
            </a:r>
            <a:r>
              <a:rPr b="0" lang="en-GB" sz="1800" spc="-1" strike="noStrike">
                <a:solidFill>
                  <a:srgbClr val="a52a2a"/>
                </a:solidFill>
                <a:latin typeface="Consolas"/>
              </a:rPr>
              <a:t>div</a:t>
            </a:r>
            <a:r>
              <a:rPr b="0" lang="en-GB" sz="1800" spc="-1" strike="noStrike">
                <a:solidFill>
                  <a:srgbClr val="ff0000"/>
                </a:solidFill>
                <a:latin typeface="Consolas"/>
              </a:rPr>
              <a:t> class</a:t>
            </a: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="col-sm-4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469800" y="1209600"/>
            <a:ext cx="4248360" cy="155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469800" y="3246480"/>
            <a:ext cx="4445280" cy="736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3"/>
          <a:stretch/>
        </p:blipFill>
        <p:spPr>
          <a:xfrm>
            <a:off x="344520" y="4645080"/>
            <a:ext cx="4570560" cy="1457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4"/>
          <a:stretch/>
        </p:blipFill>
        <p:spPr>
          <a:xfrm>
            <a:off x="6354720" y="4626000"/>
            <a:ext cx="2617920" cy="16207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"/>
          <p:cNvSpPr/>
          <p:nvPr/>
        </p:nvSpPr>
        <p:spPr>
          <a:xfrm>
            <a:off x="2027880" y="6286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ε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6756120" y="63198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κρέ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5"/>
          <a:stretch/>
        </p:blipFill>
        <p:spPr>
          <a:xfrm>
            <a:off x="6323040" y="2995560"/>
            <a:ext cx="2649600" cy="1557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"/>
          <p:cNvPicPr/>
          <p:nvPr/>
        </p:nvPicPr>
        <p:blipFill>
          <a:blip r:embed="rId6"/>
          <a:stretch/>
        </p:blipFill>
        <p:spPr>
          <a:xfrm>
            <a:off x="6354720" y="1392120"/>
            <a:ext cx="2621160" cy="1554120"/>
          </a:xfrm>
          <a:prstGeom prst="rect">
            <a:avLst/>
          </a:prstGeom>
          <a:ln w="0">
            <a:noFill/>
          </a:ln>
        </p:spPr>
      </p:pic>
      <p:sp>
        <p:nvSpPr>
          <p:cNvPr id="438" name="Left-right Arrow 11"/>
          <p:cNvSpPr/>
          <p:nvPr/>
        </p:nvSpPr>
        <p:spPr>
          <a:xfrm>
            <a:off x="4915080" y="1916280"/>
            <a:ext cx="1296720" cy="4330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eft-right Arrow 12"/>
          <p:cNvSpPr/>
          <p:nvPr/>
        </p:nvSpPr>
        <p:spPr>
          <a:xfrm>
            <a:off x="4915080" y="3619440"/>
            <a:ext cx="1296720" cy="433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eft-right Arrow 13"/>
          <p:cNvSpPr/>
          <p:nvPr/>
        </p:nvSpPr>
        <p:spPr>
          <a:xfrm>
            <a:off x="4944960" y="5157720"/>
            <a:ext cx="1295640" cy="43200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7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8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id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attribute class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λαπλ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ην ίδια μορφοποί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6" descr=""/>
          <p:cNvPicPr/>
          <p:nvPr/>
        </p:nvPicPr>
        <p:blipFill>
          <a:blip r:embed="rId1"/>
          <a:stretch/>
        </p:blipFill>
        <p:spPr>
          <a:xfrm>
            <a:off x="12600" y="2649600"/>
            <a:ext cx="9385560" cy="4019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6"/>
          <p:cNvCxnSpPr/>
          <p:nvPr/>
        </p:nvCxnSpPr>
        <p:spPr>
          <a:xfrm flipH="1">
            <a:off x="457920" y="2197080"/>
            <a:ext cx="1793160" cy="14486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Straight Arrow Connector 11"/>
          <p:cNvCxnSpPr/>
          <p:nvPr/>
        </p:nvCxnSpPr>
        <p:spPr>
          <a:xfrm flipH="1">
            <a:off x="2112480" y="4574880"/>
            <a:ext cx="1013760" cy="1081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6" name="Straight Arrow Connector 13"/>
          <p:cNvCxnSpPr/>
          <p:nvPr/>
        </p:nvCxnSpPr>
        <p:spPr>
          <a:xfrm flipH="1">
            <a:off x="458280" y="4575240"/>
            <a:ext cx="2656800" cy="929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0680" y="2637000"/>
            <a:ext cx="9177480" cy="3384360"/>
          </a:xfrm>
          <a:prstGeom prst="rect">
            <a:avLst/>
          </a:prstGeom>
          <a:ln w="0">
            <a:noFill/>
          </a:ln>
        </p:spPr>
      </p:pic>
      <p:cxnSp>
        <p:nvCxnSpPr>
          <p:cNvPr id="180" name="Straight Arrow Connector 7"/>
          <p:cNvCxnSpPr/>
          <p:nvPr/>
        </p:nvCxnSpPr>
        <p:spPr>
          <a:xfrm flipH="1">
            <a:off x="953280" y="2204640"/>
            <a:ext cx="1369080" cy="1360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1" name="Straight Arrow Connector 10"/>
          <p:cNvCxnSpPr/>
          <p:nvPr/>
        </p:nvCxnSpPr>
        <p:spPr>
          <a:xfrm flipH="1">
            <a:off x="1098000" y="4051440"/>
            <a:ext cx="1872360" cy="111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Ανδρέας Κομνηνός</cp:lastModifiedBy>
  <cp:lastPrinted>2022-10-20T08:04:00Z</cp:lastPrinted>
  <dcterms:modified xsi:type="dcterms:W3CDTF">2023-10-18T09:35:06Z</dcterms:modified>
  <cp:revision>652</cp:revision>
  <dc:subject/>
  <dc:title>Τεχνολογίες Διαδικτύου</dc:title>
</cp:coreProperties>
</file>