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399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079640" y="685440"/>
            <a:ext cx="4698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955B-0256-474B-AA17-82906ADB60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E1FF-6556-4FAD-A78D-46CEE4D30F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47A4-1C26-40D8-8600-1F4ECF65E5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15DA-DC33-4716-A5CA-A3D6B96D43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BE0-49E9-4409-99A1-8995C620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740-B447-45CE-84F9-ADBF3397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9A9-E513-4E0F-84F9-8E670DD1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9D4-E257-499A-869B-46B0CD0B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9B45-F700-41A7-989F-57754A35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4808-1991-41EA-ACA7-1EF7583A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7071-5F3F-4C50-B6CC-4A7165CC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2485-5CCC-4740-ADDB-C0FBC790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C102-3D63-4E09-908E-27D41438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ACC6-86EE-4D97-ACEC-4970294F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23BA-5FF8-41CC-8AA4-1E167218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84E-0E68-4DAF-84D7-2EC1E631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01FA-129E-4A8F-AB3C-9FEC1C2A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9832-2066-47F9-AFBD-73E188C7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04C8-8EC7-4745-A4F9-F6E4FECE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65ED-A7B7-402A-9E6B-A0871F83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7CAE-E6C3-4631-BEDB-C50A5420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952-01AC-4B63-B6E8-CCE1D648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C759-847C-41D3-8229-74B299E2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CC1-38B5-4C9B-BF0F-3405100A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9B8-09E0-449C-8DA4-315A4019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219-472D-4CC1-AB13-DC27349B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4A9-9930-405E-A0F9-F894CE39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355-77F8-48FA-8336-B7F56609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1835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1306-0D45-4793-ADE3-F350E2EA78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380440" y="152280"/>
            <a:ext cx="813960" cy="1295280"/>
            <a:chOff x="8380440" y="152280"/>
            <a:chExt cx="813960" cy="1295280"/>
          </a:xfrm>
        </p:grpSpPr>
        <p:sp>
          <p:nvSpPr>
            <p:cNvPr id="7" name="Oval 9"/>
            <p:cNvSpPr/>
            <p:nvPr/>
          </p:nvSpPr>
          <p:spPr>
            <a:xfrm>
              <a:off x="8380440" y="15228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552880" y="152280"/>
              <a:ext cx="121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72568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380440" y="320040"/>
              <a:ext cx="1231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552880" y="320040"/>
              <a:ext cx="121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72568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8984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440" y="488160"/>
              <a:ext cx="12312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552880" y="488160"/>
              <a:ext cx="1216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725680" y="488160"/>
              <a:ext cx="1155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898480" y="488160"/>
              <a:ext cx="1123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071280" y="488160"/>
              <a:ext cx="12312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380440" y="65592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552880" y="65592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72568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8984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380440" y="824040"/>
              <a:ext cx="1231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552880" y="82404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7256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8984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071280" y="824040"/>
              <a:ext cx="1231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380440" y="992160"/>
              <a:ext cx="12312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552880" y="992160"/>
              <a:ext cx="121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72568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8984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380440" y="1159920"/>
              <a:ext cx="12312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552880" y="1159920"/>
              <a:ext cx="1216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725680" y="1159920"/>
              <a:ext cx="1155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8984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552880" y="1328040"/>
              <a:ext cx="1216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8984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026"/>
          <p:cNvSpPr/>
          <p:nvPr/>
        </p:nvSpPr>
        <p:spPr>
          <a:xfrm>
            <a:off x="751824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32"/>
          <p:cNvGrpSpPr/>
          <p:nvPr/>
        </p:nvGrpSpPr>
        <p:grpSpPr>
          <a:xfrm>
            <a:off x="7701120" y="2992320"/>
            <a:ext cx="1375920" cy="2189160"/>
            <a:chOff x="7701120" y="2992320"/>
            <a:chExt cx="1375920" cy="2189160"/>
          </a:xfrm>
        </p:grpSpPr>
        <p:sp>
          <p:nvSpPr>
            <p:cNvPr id="76" name="Oval 1033"/>
            <p:cNvSpPr/>
            <p:nvPr/>
          </p:nvSpPr>
          <p:spPr>
            <a:xfrm>
              <a:off x="770112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34"/>
            <p:cNvSpPr/>
            <p:nvPr/>
          </p:nvSpPr>
          <p:spPr>
            <a:xfrm>
              <a:off x="799344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35"/>
            <p:cNvSpPr/>
            <p:nvPr/>
          </p:nvSpPr>
          <p:spPr>
            <a:xfrm>
              <a:off x="828540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36"/>
            <p:cNvSpPr/>
            <p:nvPr/>
          </p:nvSpPr>
          <p:spPr>
            <a:xfrm>
              <a:off x="770112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37"/>
            <p:cNvSpPr/>
            <p:nvPr/>
          </p:nvSpPr>
          <p:spPr>
            <a:xfrm>
              <a:off x="799344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38"/>
            <p:cNvSpPr/>
            <p:nvPr/>
          </p:nvSpPr>
          <p:spPr>
            <a:xfrm>
              <a:off x="828540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39"/>
            <p:cNvSpPr/>
            <p:nvPr/>
          </p:nvSpPr>
          <p:spPr>
            <a:xfrm>
              <a:off x="8577360" y="327672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40"/>
            <p:cNvSpPr/>
            <p:nvPr/>
          </p:nvSpPr>
          <p:spPr>
            <a:xfrm>
              <a:off x="770112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41"/>
            <p:cNvSpPr/>
            <p:nvPr/>
          </p:nvSpPr>
          <p:spPr>
            <a:xfrm>
              <a:off x="799344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42"/>
            <p:cNvSpPr/>
            <p:nvPr/>
          </p:nvSpPr>
          <p:spPr>
            <a:xfrm>
              <a:off x="828540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43"/>
            <p:cNvSpPr/>
            <p:nvPr/>
          </p:nvSpPr>
          <p:spPr>
            <a:xfrm>
              <a:off x="857736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44"/>
            <p:cNvSpPr/>
            <p:nvPr/>
          </p:nvSpPr>
          <p:spPr>
            <a:xfrm>
              <a:off x="8870040" y="356076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45"/>
            <p:cNvSpPr/>
            <p:nvPr/>
          </p:nvSpPr>
          <p:spPr>
            <a:xfrm>
              <a:off x="7701120" y="3843360"/>
              <a:ext cx="2070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46"/>
            <p:cNvSpPr/>
            <p:nvPr/>
          </p:nvSpPr>
          <p:spPr>
            <a:xfrm>
              <a:off x="799344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47"/>
            <p:cNvSpPr/>
            <p:nvPr/>
          </p:nvSpPr>
          <p:spPr>
            <a:xfrm>
              <a:off x="828540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048"/>
            <p:cNvSpPr/>
            <p:nvPr/>
          </p:nvSpPr>
          <p:spPr>
            <a:xfrm>
              <a:off x="8577360" y="3843360"/>
              <a:ext cx="2070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49"/>
            <p:cNvSpPr/>
            <p:nvPr/>
          </p:nvSpPr>
          <p:spPr>
            <a:xfrm>
              <a:off x="770112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50"/>
            <p:cNvSpPr/>
            <p:nvPr/>
          </p:nvSpPr>
          <p:spPr>
            <a:xfrm>
              <a:off x="799344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51"/>
            <p:cNvSpPr/>
            <p:nvPr/>
          </p:nvSpPr>
          <p:spPr>
            <a:xfrm>
              <a:off x="828540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52"/>
            <p:cNvSpPr/>
            <p:nvPr/>
          </p:nvSpPr>
          <p:spPr>
            <a:xfrm>
              <a:off x="857736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53"/>
            <p:cNvSpPr/>
            <p:nvPr/>
          </p:nvSpPr>
          <p:spPr>
            <a:xfrm>
              <a:off x="8870040" y="4127400"/>
              <a:ext cx="20700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54"/>
            <p:cNvSpPr/>
            <p:nvPr/>
          </p:nvSpPr>
          <p:spPr>
            <a:xfrm>
              <a:off x="7701120" y="441180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55"/>
            <p:cNvSpPr/>
            <p:nvPr/>
          </p:nvSpPr>
          <p:spPr>
            <a:xfrm>
              <a:off x="799344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56"/>
            <p:cNvSpPr/>
            <p:nvPr/>
          </p:nvSpPr>
          <p:spPr>
            <a:xfrm>
              <a:off x="828540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57"/>
            <p:cNvSpPr/>
            <p:nvPr/>
          </p:nvSpPr>
          <p:spPr>
            <a:xfrm>
              <a:off x="8577360" y="441180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58"/>
            <p:cNvSpPr/>
            <p:nvPr/>
          </p:nvSpPr>
          <p:spPr>
            <a:xfrm>
              <a:off x="770112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59"/>
            <p:cNvSpPr/>
            <p:nvPr/>
          </p:nvSpPr>
          <p:spPr>
            <a:xfrm>
              <a:off x="799344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60"/>
            <p:cNvSpPr/>
            <p:nvPr/>
          </p:nvSpPr>
          <p:spPr>
            <a:xfrm>
              <a:off x="828540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1"/>
            <p:cNvSpPr/>
            <p:nvPr/>
          </p:nvSpPr>
          <p:spPr>
            <a:xfrm>
              <a:off x="857736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62"/>
            <p:cNvSpPr/>
            <p:nvPr/>
          </p:nvSpPr>
          <p:spPr>
            <a:xfrm>
              <a:off x="799344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63"/>
            <p:cNvSpPr/>
            <p:nvPr/>
          </p:nvSpPr>
          <p:spPr>
            <a:xfrm>
              <a:off x="857736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1064"/>
          <p:cNvSpPr/>
          <p:nvPr/>
        </p:nvSpPr>
        <p:spPr>
          <a:xfrm>
            <a:off x="312840" y="2819520"/>
            <a:ext cx="845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54E7-809D-4365-A6E5-286E25932B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ontact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mai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main_fonto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header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Προγραμματισμός &amp; Συστήματα στον Παγκόσμιο Ιστό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«γλώσσα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Βασίλης Στεφανή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fanis@c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γραφοι – </a:t>
            </a:r>
            <a:br>
              <a:rPr sz="3900"/>
            </a:b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ορφοποίηση κειμέ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l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rom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&lt;strong&gt;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copy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strong&gt;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ll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amp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.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know that 2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024 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lt;br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 you 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ake mistakes.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Did you know how to write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strong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frac14;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strong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??? 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peech Bubble: Rectangle 3"/>
          <p:cNvSpPr/>
          <p:nvPr/>
        </p:nvSpPr>
        <p:spPr>
          <a:xfrm>
            <a:off x="7147080" y="4851360"/>
            <a:ext cx="1912680" cy="898560"/>
          </a:xfrm>
          <a:prstGeom prst="wedgeRectCallout">
            <a:avLst>
              <a:gd name="adj1" fmla="val -55912"/>
              <a:gd name="adj2" fmla="val -7706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peech Bubble: Rectangle 4"/>
          <p:cNvSpPr/>
          <p:nvPr/>
        </p:nvSpPr>
        <p:spPr>
          <a:xfrm>
            <a:off x="5851440" y="1384200"/>
            <a:ext cx="1943280" cy="914400"/>
          </a:xfrm>
          <a:prstGeom prst="wedgeRectCallout">
            <a:avLst>
              <a:gd name="adj1" fmla="val -41750"/>
              <a:gd name="adj2" fmla="val 7916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r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και το 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ως «κλείνουν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η 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ng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du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ckDuckG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peech Bubble: Rectangle 3"/>
          <p:cNvSpPr/>
          <p:nvPr/>
        </p:nvSpPr>
        <p:spPr>
          <a:xfrm>
            <a:off x="6302520" y="2708280"/>
            <a:ext cx="2838240" cy="865080"/>
          </a:xfrm>
          <a:prstGeom prst="wedgeRectCallout">
            <a:avLst>
              <a:gd name="adj1" fmla="val -50435"/>
              <a:gd name="adj2" fmla="val 9649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 κάθε ανανέωση σελίδας αλλάζει η σειρά εμφάνιση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Bing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du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DuckDuckGo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μφωλευ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9800" y="980640"/>
            <a:ext cx="86709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 have access to new media as it becomes public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New game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business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For pleasure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Around the clock new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Java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Keeping in touch with old friend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peech Bubble: Rectangle 3"/>
          <p:cNvSpPr/>
          <p:nvPr/>
        </p:nvSpPr>
        <p:spPr>
          <a:xfrm>
            <a:off x="6643800" y="4851360"/>
            <a:ext cx="2415960" cy="898560"/>
          </a:xfrm>
          <a:prstGeom prst="wedgeRectCallout">
            <a:avLst>
              <a:gd name="adj1" fmla="val -55912"/>
              <a:gd name="adj2" fmla="val -7706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εμφώλευση βασικό χαρακτηριστικό τη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500" spc="-1" strike="noStrike">
                <a:solidFill>
                  <a:srgbClr val="330066"/>
                </a:solidFill>
                <a:latin typeface="Arial"/>
              </a:rPr>
              <a:t>http://www.gmail.c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ogle Mail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links2.ht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Another page on the same folder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669999"/>
                </a:solidFill>
                <a:latin typeface="Arial"/>
              </a:rPr>
              <a:t>mailto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efanis@ceid.upatras.gr"&gt;email m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“tel:+302610451517”&gt;Hungry?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#bott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 to the bottom of this pag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name="bottom"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gt;&lt;h2&gt;Here is the bottom&lt;/h2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peech Bubble: Rectangle 3"/>
          <p:cNvSpPr/>
          <p:nvPr/>
        </p:nvSpPr>
        <p:spPr>
          <a:xfrm>
            <a:off x="3619440" y="76320"/>
            <a:ext cx="4176720" cy="1218960"/>
          </a:xfrm>
          <a:prstGeom prst="wedgeRectCallout">
            <a:avLst>
              <a:gd name="adj1" fmla="val -44435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τί δε λειτουργεί το τηλέφων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to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η χαρά τ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ικόνε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m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src = "stoneage2.jpg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alt = "New email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 hr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links.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</a:rPr>
              <a:t>&lt;img src = "stoneage.jpg" alt = "New email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img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order = “0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rc = "stoneage2.jpg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peech Bubble: Rectangle 3"/>
          <p:cNvSpPr/>
          <p:nvPr/>
        </p:nvSpPr>
        <p:spPr>
          <a:xfrm>
            <a:off x="4627440" y="517680"/>
            <a:ext cx="2416320" cy="900000"/>
          </a:xfrm>
          <a:prstGeom prst="wedgeRectCallout">
            <a:avLst>
              <a:gd name="adj1" fmla="val 52300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ι χρειάζεται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border = "1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width = "40%" 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align = "center"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caption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a small sample table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th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head.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/t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td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body.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/t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/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peech Bubble: Rectangle 3"/>
          <p:cNvSpPr/>
          <p:nvPr/>
        </p:nvSpPr>
        <p:spPr>
          <a:xfrm>
            <a:off x="4627440" y="517680"/>
            <a:ext cx="2416320" cy="900000"/>
          </a:xfrm>
          <a:prstGeom prst="wedgeRectCallout">
            <a:avLst>
              <a:gd name="adj1" fmla="val 52300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ίνακε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«εχθρός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bi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ύσεις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ble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, right, cent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ην οριζόντια τοποθέτηση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45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50%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εριγράμματο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cellspac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το κενό μεταξύ γειτονικών κελιώ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cellpadd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: το κενό μεταξύ κελιού και περιεχο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caption align = {top, bottom}&gt;…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peech Bubble: Rectangle 3"/>
          <p:cNvSpPr/>
          <p:nvPr/>
        </p:nvSpPr>
        <p:spPr>
          <a:xfrm>
            <a:off x="5994360" y="5589720"/>
            <a:ext cx="2417760" cy="900000"/>
          </a:xfrm>
          <a:prstGeom prst="wedgeRectCallout">
            <a:avLst>
              <a:gd name="adj1" fmla="val -71046"/>
              <a:gd name="adj2" fmla="val -63851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αι, οι ιδιότητες δηλώνονται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λέον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4320" y="304560"/>
            <a:ext cx="8038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ς πολύπλοκος πίνακα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12840" y="1066680"/>
            <a:ext cx="8827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table border = "1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wspan = "2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img src = "camel.gif"&gt;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colspan = "4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gn = "top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1&gt;Camelid comparison&lt;/h1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valign = "bottom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# of Humps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Indigenous region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Spits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Produces Wool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 / th / td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9440" y="1719000"/>
            <a:ext cx="89283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rap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αγορεύει την αναδίπλωση κειμέ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wsp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{int} :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τις γραμμές που καταλαμβάνονται από το κελ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colspan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τις στήλες που καταλαμβάνοντα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dth / height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λάτο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ύψος του κελι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 / valign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ιζόντια / κάθετη ευθυγράμμιση των περιεχομένω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yper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ext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ngu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ML 4.01 (24/12/199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ML 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ML Living Standard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st Updated: 11 October 2022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Hypertext Application Technology Working Group (WHAT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ple, Google, Mozilla, Microsof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HTML αρχείο είναι ένα αρχείο κειμένου που περιέχει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markup tag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ένε στο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rows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ώς να παρουσιάσει το περιεχόμενο της σελίδ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HTML αρχεία έχουν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ή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καταλήξ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HTML αρχείο μπορεί να δημιουργηθεί χρησιμοποιώντας έναν απλό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text editor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(π.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Προτείνεται η χρήση κάποιου εξειδικευμένου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ditor (Notepad++, Sublime Tex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peech Bubble: Rectangle 1"/>
          <p:cNvSpPr/>
          <p:nvPr/>
        </p:nvSpPr>
        <p:spPr>
          <a:xfrm>
            <a:off x="5059440" y="476280"/>
            <a:ext cx="1942920" cy="915840"/>
          </a:xfrm>
          <a:prstGeom prst="wedgeRectCallout">
            <a:avLst>
              <a:gd name="adj1" fmla="val -41750"/>
              <a:gd name="adj2" fmla="val 7916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≠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Berners-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Φόρμ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method = "pos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ction = “sendmail</a:t>
            </a:r>
            <a:r>
              <a:rPr b="0" lang="el-GR" sz="2600" spc="-1" strike="noStrike">
                <a:solidFill>
                  <a:srgbClr val="669999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php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hidden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subjec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value = "Feedback Form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name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tex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 = "25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submi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Submit Your Entries"&g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rese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Clear Your Entrie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form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peech Bubble: Rectangle 3"/>
          <p:cNvSpPr/>
          <p:nvPr/>
        </p:nvSpPr>
        <p:spPr>
          <a:xfrm>
            <a:off x="1027080" y="5516640"/>
            <a:ext cx="3024360" cy="1081080"/>
          </a:xfrm>
          <a:prstGeom prst="wedgeRectCallout">
            <a:avLst>
              <a:gd name="adj1" fmla="val 47379"/>
              <a:gd name="adj2" fmla="val -87217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να αποκτήσει λειτουργικότητα η φόρμα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-side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a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θα χρησιμοποιηθεί από τον εξυπηρετητή για να επεξεργαστεί τα δεδομένα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metho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, pos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η μέθοδο αποστολής των περιεχομένων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έλνει τα περιεχόμενα σα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έλνει στ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ώμα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ηνύ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peech Bubble: Rectangle 3"/>
          <p:cNvSpPr/>
          <p:nvPr/>
        </p:nvSpPr>
        <p:spPr>
          <a:xfrm>
            <a:off x="1530360" y="5437080"/>
            <a:ext cx="2417760" cy="900360"/>
          </a:xfrm>
          <a:prstGeom prst="wedgeRectCallout">
            <a:avLst>
              <a:gd name="adj1" fmla="val 75759"/>
              <a:gd name="adj2" fmla="val -5674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α τα δούμε αναλυτικά στη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ία πολύπλοκη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84320" y="6021360"/>
            <a:ext cx="9083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998720" y="1417680"/>
            <a:ext cx="54007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4320" y="274320"/>
            <a:ext cx="8038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Άλλη μία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84320" y="5950080"/>
            <a:ext cx="908352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393920" y="1285920"/>
            <a:ext cx="6610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ίρνει διάφορες παραμέτρου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αγορεύεται να υπάρχει ετικέτα τέλου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λείνει όπως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textarea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πεδία κειμένου πολλαπλών γραμμώ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ws / colum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extare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selec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ονής ή πολλαπλής επιλογής μεν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selec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put – </a:t>
            </a:r>
            <a:br>
              <a:rPr sz="3500"/>
            </a:b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παράμετρο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yp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θορίζει τον τύπο του πεδίου εισόδ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λήρης λίσ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είμενο μίας γραμμή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ssw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μοιο με τον τύπ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αλλά απεικονίζει τον χαρακτήρ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υπάρχει κρυπτογράφησ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eck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ημιουργεί ζεύγος ονόματος/τιμής, υποστηρίζονται πολλαπλές τιμέ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d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έχεται μόνο μία τιμή, μία ομάδα επιλογών έχει το ίδιο όνο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οστολή δεδομέ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«καθαρίζει» τα περιεχόμε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Γιατί τα εισαγωγικά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8" name="Picture 2" descr="A person sitting at a table with a sign in front of hi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522360" y="1887480"/>
            <a:ext cx="5079960" cy="3801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6138720" y="3284640"/>
            <a:ext cx="2914920" cy="1234800"/>
          </a:xfrm>
          <a:prstGeom prst="rect">
            <a:avLst/>
          </a:prstGeom>
          <a:ln w="0">
            <a:noFill/>
          </a:ln>
        </p:spPr>
      </p:pic>
      <p:sp>
        <p:nvSpPr>
          <p:cNvPr id="230" name="Oval 5"/>
          <p:cNvSpPr/>
          <p:nvPr/>
        </p:nvSpPr>
        <p:spPr>
          <a:xfrm>
            <a:off x="5923080" y="2852640"/>
            <a:ext cx="3386160" cy="1666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Η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TML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δεν είναι γλώσσα προγραμματισμου!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9440" y="1719000"/>
            <a:ext cx="8458200" cy="25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ίναι απλά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up.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τ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έχει δομές ελέγχου και επανάληψ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δηλώνεις μεταβλητέ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γράφεις συναρτή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κάνεις λογικ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amp; μαθηματικούς υπολογ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3 - Εικόνα" descr="11.jpg"/>
          <p:cNvPicPr/>
          <p:nvPr/>
        </p:nvPicPr>
        <p:blipFill>
          <a:blip r:embed="rId1"/>
          <a:stretch/>
        </p:blipFill>
        <p:spPr>
          <a:xfrm>
            <a:off x="5956200" y="2766960"/>
            <a:ext cx="34434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νέ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ότυπο για τη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έ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–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ιώνει την ανάγκη για εξωτερικ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in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/3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ραφικ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εξαρτησία από συσκευές - πλατφόρμ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λύτερη διαχείριση σφαλμά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517760" y="1468440"/>
            <a:ext cx="6526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 απλ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ρχεί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9440" y="162828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&lt;!-- Our first Web page 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tle&gt;Welcome to Our Web Site!&lt;/tit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&gt;Welcome to Our Web Site!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Εικόνα 2" descr=""/>
          <p:cNvPicPr/>
          <p:nvPr/>
        </p:nvPicPr>
        <p:blipFill>
          <a:blip r:embed="rId2"/>
          <a:stretch/>
        </p:blipFill>
        <p:spPr>
          <a:xfrm>
            <a:off x="5423040" y="2349360"/>
            <a:ext cx="3504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2035080" y="1413000"/>
            <a:ext cx="545148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tribu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selec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220760" y="249228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SV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drag and dr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geo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alid 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3C Valid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validator.w3.or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ηλαδή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πρέπει να «κλείνουν» και με τη σωστή σειρά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Υποχρεωτικά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wercase ta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Οι ιδιότητες στ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ανάμεσα σ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quo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Και πολλά άλλα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ια χαρά εμφανίζετα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Γιατί είναι σημαντικό να γράφουμ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Μέγιστη συμβατότητα με όλους τους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ows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μβατότητα με μελλοντικές εκδόσει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Χρόνος φόρτω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Ανάγνωση από μηχανές αναζήτη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Προσβασιμότητ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0066"/>
                </a:solidFill>
                <a:latin typeface="Arial"/>
              </a:rPr>
              <a:t>Τέλο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ωτήσει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vs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τικέτες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τικέτες χρησιμοποιούνται για να οριοθετήσουν την αρχή και το τέλος ενό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τοιχεί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Πηγή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www.tutorialrepublic.com/html-tutorial/html-elements.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Εικόνα 3" descr=""/>
          <p:cNvPicPr/>
          <p:nvPr/>
        </p:nvPicPr>
        <p:blipFill>
          <a:blip r:embed="rId1"/>
          <a:stretch/>
        </p:blipFill>
        <p:spPr>
          <a:xfrm>
            <a:off x="1962000" y="3757680"/>
            <a:ext cx="57531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col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το χρώμα του φόντου της σελίδ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χρώμα των χαρακτήρων του κειμέν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ώματα με βάση το όνομα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body</a:t>
            </a:r>
            <a:r>
              <a:rPr b="0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gcolor=“tomato” text=“PaleGreen”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lue = #0000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peech Bubble: Rectangle 4"/>
          <p:cNvSpPr/>
          <p:nvPr/>
        </p:nvSpPr>
        <p:spPr>
          <a:xfrm>
            <a:off x="1170000" y="5300640"/>
            <a:ext cx="1944720" cy="915840"/>
          </a:xfrm>
          <a:prstGeom prst="wedgeRectCallout">
            <a:avLst>
              <a:gd name="adj1" fmla="val 51374"/>
              <a:gd name="adj2" fmla="val -8573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λά ω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,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μορφοποίηση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Τα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ttributes</a:t>
            </a: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 είναι ξεπερασμένα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54040" y="1989000"/>
            <a:ext cx="8244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Colors - </a:t>
            </a:r>
            <a:r>
              <a:rPr b="0" lang="en-US" sz="46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46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9440" y="1574280"/>
            <a:ext cx="8458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9800" y="1379520"/>
          <a:ext cx="415152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840"/>
                <a:gridCol w="693720"/>
                <a:gridCol w="690480"/>
                <a:gridCol w="706320"/>
                <a:gridCol w="676440"/>
              </a:tblGrid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776840" y="1379520"/>
          <a:ext cx="415116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480"/>
                <a:gridCol w="693720"/>
                <a:gridCol w="690480"/>
                <a:gridCol w="706680"/>
                <a:gridCol w="676080"/>
              </a:tblGrid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6" name="Text Box 312"/>
          <p:cNvSpPr/>
          <p:nvPr/>
        </p:nvSpPr>
        <p:spPr>
          <a:xfrm>
            <a:off x="0" y="6308640"/>
            <a:ext cx="9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 X 256 X 256 = 16.777.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4320" y="122040"/>
            <a:ext cx="803880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0960" y="1412640"/>
            <a:ext cx="8670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περιοχή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ικεφαλίδε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&lt;h1&gt;&lt;/h1&gt;, …, &lt;h6&gt;&lt;/h6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ράγραφοι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p&gt;&lt;/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ίστ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ul&gt;, &lt;ol&gt; &lt;dl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Φόρμες - 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&gt;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ίνακ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table&gt;&lt;/tabl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ριζόντιες γραμμέ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h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κειμέν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nt style elements - &lt;b&gt;&lt;/b&gt;, &lt;i&gt;&lt;/i&gt;, &lt;u&gt;&lt;/u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 - &lt;a&gt;&lt;/a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ικόν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mg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ιακοπές κειμένο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&lt;b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πικεφαλίδες –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1, …, h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9800" y="1557360"/>
            <a:ext cx="8670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h1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1 Header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2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align=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2 header&lt;/h2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3&gt;Level 3 header&lt;/h3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4 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align=r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4 header&lt;/h4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5&gt;Level 5 header&lt;/h5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6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lign=le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6 header&lt;/h6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3 - TextBox"/>
          <p:cNvSpPr/>
          <p:nvPr/>
        </p:nvSpPr>
        <p:spPr>
          <a:xfrm>
            <a:off x="554040" y="58770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 desig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peech Bubble: Rectangle 4"/>
          <p:cNvSpPr/>
          <p:nvPr/>
        </p:nvSpPr>
        <p:spPr>
          <a:xfrm>
            <a:off x="554040" y="5373720"/>
            <a:ext cx="1913040" cy="900000"/>
          </a:xfrm>
          <a:prstGeom prst="wedgeRectCallout">
            <a:avLst>
              <a:gd name="adj1" fmla="val 46393"/>
              <a:gd name="adj2" fmla="val -74009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 βάλ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5:19:43Z</dcterms:created>
  <dc:creator>mitsos</dc:creator>
  <dc:description/>
  <dc:language>en-US</dc:language>
  <cp:lastModifiedBy>STEFANIS VASILEIOS</cp:lastModifiedBy>
  <dcterms:modified xsi:type="dcterms:W3CDTF">2022-10-12T11:00:43Z</dcterms:modified>
  <cp:revision>661</cp:revision>
  <dc:subject/>
  <dc:title>Τεχνολογίες Διαδικτύου</dc:title>
</cp:coreProperties>
</file>