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148-6430-40EF-89DD-E57EA98FA4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B28-D5C3-457D-9A15-0F77909D8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cl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r&gt; stands for "horizontal rule"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t's a self-closing element used to create a horizontal line on a web page.g htm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9BA0-834C-410C-A203-B40E0345C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 (WWW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δεν είναι το ίδιο πράγμα, αν και πολλοί τα συγχέουν. Ας δούμε τις διαφορές του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1. Intern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είναι ένα τεράστι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δίκτυο δικτύων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το οποίο συνδέει εκατομμύρια υπολογιστές, διακομιστές και άλλες συσκευές παγκοσμίω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εριλαμβάνει διάφορες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ες και πρωτόκολλ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όπω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λεκτρονικό ταχυδρομείο (Emai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ο μεταφοράς αρχείων (FT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α τηλεφωνίας (VoI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ταλλαγή αρχείων peer-to-p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υπάρχει από τη δεκαετία του 1960 και περιλαμβάνει όλες τις διαδικτυακές υποδομ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2. World Wide Web (WWW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WWW είναι μία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που λειτουργεί πάνω στο Internet. Ουσιαστικά, είναι ένας από τους τρόπους με τους οποίους οι χρήστες μπορούν να χρησιμοποιήσουν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πτύχθηκε από τον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 1989 και βασίζεται σε υπερκείμενο (hypertext) και συνδέσμους (links), επιτρέποντας στους χρήστες να περιηγούνται σε ιστοσελίδες που είναι αποθηκευμένες σε διακομιστ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ιστοσελίδες προσπελαύνονται μέσω προγραμμάτων περιήγησης (browsers), και χρησιμοποιούν κυρίως το πρωτόκολλ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ύνοψ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η υποδομή, το φυσικό δίκτυο που συνδέει τους υπολογιστές.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μία υπηρεσία που βασίζεται σε αυτή την υποδομή και επιτρέπει την προβολή ιστοσελίδων μέσω των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ρα, το WWW είναι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ένα κομμάτι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υ Internet, όχι το ίδιο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popular options for writing HTML, along with their 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ublim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fast, and customizable with packages. Supports HTML, CSS, JavaScript, and a wide range of other languages. Sublime Text's features like multi-cursor editing and powerful search make it great for front-end develo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fast, minimalistic editor with the ability to extend functionality through plugins and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. Visual Studio Code (VS 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idely regarded as one of the best editors for web development. VS Code offers built-in support for HTML, CSS, and JavaScript, along with extensive plugins, an integrated terminal, and Git support. Features lik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m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for writing fast HTML/CSS) are built-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powerful, feature-rich environment with integrated debugging, version control, and task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ke Sublime Text, Atom is also highly customizable, open-source, and integrates well with Git and GitHub. It has a user-friendly interface and offers a lot of themes and exten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prefer an open-source alternative with a modern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Notepad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supports basic syntax highlighting, and is great for writing HTML on low-resource systems. It's free and eas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those who want a simple, no-frills editor that runs smoothly even o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Web-Based Editors (like CodePen or JSF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reat for quick prototyping and sharing code online. These platforms allow you to write and instantly preview HTML, CSS, and JavaScript in th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developers who want to experiment with HTML and CSS snippets quickly and share them easily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53EC-176A-41E9-94B9-DB70ED288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xyoyn ta rowspan colspan kai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E1FE-95DF-40C0-9211-08F7D8446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DE50-25ED-4719-ABAC-55D191028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B87-709E-46BF-90FF-A9CBC534D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327-F594-40C6-A020-7845044C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E3B-D961-4F24-8D82-F44E7B5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4E2-A2B3-4FB3-9B62-9E21044D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1E6-7CE5-426E-8A3C-547204B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97CB-9707-4288-B4E3-BEB13D78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2A1-8FB4-42F9-B47D-33D2ED99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BAF-ED18-4321-AB2D-8C09641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F64-2D05-44DF-A797-7BF030AB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146-A254-40BE-A28B-683313F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6533-8F6D-4B69-86ED-9803409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833A-360C-4701-8A3B-1DB95E0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E9C-DF07-444E-902A-94F6B77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D08-13A7-42F8-87BB-FC9A54A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3CA8-6B47-4C1D-989E-D9B80EB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68A-8CDB-46AD-A567-58FC5240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C489-339A-4A65-8436-B0C43168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B880-AEC2-4310-BD1E-67CF0CD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040-4B6D-4533-AED1-6CC4274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0D3-1253-4093-90AB-C717ACE6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E63-4A07-447C-8356-D29FD34F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445-3EFD-42F2-99DF-E9289040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650-FBB8-4B85-AD3B-1D936D6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912-C832-4AEA-88DD-19C59D8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46A-D1D4-4938-9458-C669E9F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608-AFA3-4F96-834D-17708A8073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3D2-B52C-44B1-92A9-B3A877CB7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hyperlink" Target="https://www.w3schools.com/html/html_symbols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ist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rdered_link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links.html" TargetMode="External"/><Relationship Id="rId2" Type="http://schemas.openxmlformats.org/officeDocument/2006/relationships/hyperlink" Target="file:///links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icture.html" TargetMode="External"/><Relationship Id="rId2" Type="http://schemas.openxmlformats.org/officeDocument/2006/relationships/hyperlink" Target="file:///picture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peech Bubble: Rectangle 4"/>
          <p:cNvSpPr/>
          <p:nvPr/>
        </p:nvSpPr>
        <p:spPr>
          <a:xfrm>
            <a:off x="5923080" y="1108080"/>
            <a:ext cx="1942920" cy="914400"/>
          </a:xfrm>
          <a:prstGeom prst="wedgeRectCallout">
            <a:avLst>
              <a:gd name="adj1" fmla="val -99953"/>
              <a:gd name="adj2" fmla="val 60745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4"/>
          <p:cNvSpPr/>
          <p:nvPr/>
        </p:nvSpPr>
        <p:spPr>
          <a:xfrm>
            <a:off x="7419960" y="2023920"/>
            <a:ext cx="1943280" cy="914400"/>
          </a:xfrm>
          <a:prstGeom prst="wedgeRectCallout">
            <a:avLst>
              <a:gd name="adj1" fmla="val -77041"/>
              <a:gd name="adj2" fmla="val -2346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closing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1640" y="-360"/>
            <a:ext cx="8039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8520" y="692280"/>
            <a:ext cx="867096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7e9ce8"/>
                </a:solidFill>
                <a:latin typeface="Arial"/>
              </a:rPr>
              <a:t>&lt;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797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8443800" y="2997360"/>
            <a:ext cx="64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49432"/>
                </a:solidFill>
                <a:latin typeface="Arial"/>
              </a:rPr>
              <a:t>th : tabl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 : table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td: tabl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8443800" y="1676520"/>
            <a:ext cx="9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: text element brief description or ti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12480" y="1066320"/>
            <a:ext cx="877860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42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– Our first Web page (This is a comment)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Welcome to Our Web Site!!!!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22360" y="1719360"/>
            <a:ext cx="1584360" cy="916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opening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002360" y="1719360"/>
            <a:ext cx="1925640" cy="91692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lo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9800" y="1557360"/>
            <a:ext cx="845820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106720" y="1719360"/>
            <a:ext cx="4895640" cy="1191240"/>
          </a:xfrm>
          <a:prstGeom prst="rect">
            <a:avLst/>
          </a:prstGeom>
          <a:solidFill>
            <a:srgbClr val="00b0f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δώ απλ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tag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στοιχεία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ment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΄μπορούν να έχουν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οποία έχουν τιμέ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Εικόνα 3" descr=""/>
          <p:cNvPicPr/>
          <p:nvPr/>
        </p:nvPicPr>
        <p:blipFill>
          <a:blip r:embed="rId1"/>
          <a:stretch/>
        </p:blipFill>
        <p:spPr>
          <a:xfrm>
            <a:off x="2038320" y="4189320"/>
            <a:ext cx="5753160" cy="1543320"/>
          </a:xfrm>
          <a:prstGeom prst="rect">
            <a:avLst/>
          </a:prstGeom>
          <a:ln w="0">
            <a:noFill/>
          </a:ln>
        </p:spPr>
      </p:pic>
      <p:sp>
        <p:nvSpPr>
          <p:cNvPr id="173" name="Ευθεία γραμμή σύνδεσης 3"/>
          <p:cNvSpPr/>
          <p:nvPr/>
        </p:nvSpPr>
        <p:spPr>
          <a:xfrm>
            <a:off x="2467080" y="6237360"/>
            <a:ext cx="460836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Ευθύγραμμο βέλος σύνδεσης 5"/>
          <p:cNvCxnSpPr/>
          <p:nvPr/>
        </p:nvCxnSpPr>
        <p:spPr>
          <a:xfrm flipV="1">
            <a:off x="246672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Ευθύγραμμο βέλος σύνδεσης 8"/>
          <p:cNvCxnSpPr/>
          <p:nvPr/>
        </p:nvCxnSpPr>
        <p:spPr>
          <a:xfrm flipV="1">
            <a:off x="707508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76" name="TextBox 7"/>
          <p:cNvSpPr/>
          <p:nvPr/>
        </p:nvSpPr>
        <p:spPr>
          <a:xfrm>
            <a:off x="3403440" y="573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/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Βογιατζάκη Ελένη</cp:lastModifiedBy>
  <dcterms:modified xsi:type="dcterms:W3CDTF">2024-10-09T11:16:09Z</dcterms:modified>
  <cp:revision>682</cp:revision>
  <dc:subject/>
  <dc:title>Τεχνολογίες Διαδικτύου</dc:title>
</cp:coreProperties>
</file>