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46F5-419B-4798-826A-1500E17204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3905-FD86-4E97-B46D-B7D421364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cl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r&gt; stands for "horizontal rule"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t's a self-closing element used to create a horizontal line on a web page.g htm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5D8-9377-43AD-BEE2-3BBEB1156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 (WWW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δεν είναι το ίδιο πράγμα, αν και πολλοί τα συγχέουν. Ας δούμε τις διαφορές του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1. Intern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είναι ένα τεράστι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δίκτυο δικτύων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το οποίο συνδέει εκατομμύρια υπολογιστές, διακομιστές και άλλες συσκευές παγκοσμίω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εριλαμβάνει διάφορες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ες και πρωτόκολλ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, όπω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Ηλεκτρονικό ταχυδρομείο (Emai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ο μεταφοράς αρχείων (FT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Πρωτόκολλα τηλεφωνίας (VoIP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ταλλαγή αρχείων peer-to-p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Internet υπάρχει από τη δεκαετία του 1960 και περιλαμβάνει όλες τις διαδικτυακές υποδομ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2. World Wide Web (WWW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WWW είναι μία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υπηρεσία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που λειτουργεί πάνω στο Internet. Ουσιαστικά, είναι ένας από τους τρόπους με τους οποίους οι χρήστες μπορούν να χρησιμοποιήσουν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ναπτύχθηκε από τον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Tim Berners-Le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 1989 και βασίζεται σε υπερκείμενο (hypertext) και συνδέσμους (links), επιτρέποντας στους χρήστες να περιηγούνται σε ιστοσελίδες που είναι αποθηκευμένες σε διακομιστέ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Οι ιστοσελίδες προσπελαύνονται μέσω προγραμμάτων περιήγησης (browsers), και χρησιμοποιούν κυρίως το πρωτόκολλ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ύνοψ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η υποδομή, το φυσικό δίκτυο που συνδέει τους υπολογιστές. Το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είναι μία υπηρεσία που βασίζεται σε αυτή την υποδομή και επιτρέπει την προβολή ιστοσελίδων μέσω των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Άρα, το WWW είναι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ένα κομμάτι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υ Internet, όχι το ίδιο το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re some popular options for writing HTML, along with their advan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. Sublim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fast, and customizable with packages. Supports HTML, CSS, JavaScript, and a wide range of other languages. Sublime Text's features like multi-cursor editing and powerful search make it great for front-end develo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fast, minimalistic editor with the ability to extend functionality through plugins and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. Visual Studio Code (VS C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Widely regarded as one of the best editors for web development. VS Code offers built-in support for HTML, CSS, and JavaScript, along with extensive plugins, an integrated terminal, and Git support. Features lik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m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for writing fast HTML/CSS) are built-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want a powerful, feature-rich environment with integrated debugging, version control, and task run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.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ke Sublime Text, Atom is also highly customizable, open-source, and integrates well with Git and GitHub. It has a user-friendly interface and offers a lot of themes and exten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Developers who prefer an open-source alternative with a modern 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. Notepad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Lightweight, supports basic syntax highlighting, and is great for writing HTML on low-resource systems. It's free and eas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those who want a simple, no-frills editor that runs smoothly even o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. Web-Based Editors (like CodePen or JSF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Great for quick prototyping and sharing code online. These platforms allow you to write and instantly preview HTML, CSS, and JavaScript in the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st 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Beginners or developers who want to experiment with HTML and CSS snippets quickly and share them easily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Θέση αριθμού διαφάνειας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EE69-9C8B-4EF5-A46D-6CD69553D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6C0D-BEDC-428E-83AC-E2F9C0481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A50B-28A9-431B-BF87-5D4CDD99E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ABC-F24D-4C43-8BDA-7DD2E2FA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3FB-F09C-4FEC-BFDE-97F0B049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74F-115D-4265-A4EB-B0177BF1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510-4008-4781-BF35-F191FB1D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EF1A-4DB2-48CA-9395-A442211C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504F-AD24-4227-A01A-5B1118D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4B71-3339-4D8A-AC64-837F482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51A4-1E71-491F-98B5-715A2075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C3CF-4192-44E9-A2CC-EC31319F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C396-152F-4C95-8FB7-7C363AE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7608-85C7-49AC-9ED4-5826479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740-7B43-4BC5-A90E-71A7622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E85-D323-4430-8DD0-2753AC3D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54B6-EA96-4BAE-9ACF-150D7E1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E03-2C21-4751-A94F-D1C3A25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AE49-E39E-456F-8E6D-5D921E7D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27AD-D246-49D6-90F9-D762C1FB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1F0-2FE9-40D4-9059-CB031BB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EEB-95A7-4F39-BA7F-5366E86C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F47-7E42-4F5F-AD6A-D287F9B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A78-B3C5-4BE6-9F5C-CB2DD3B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0D0-8062-441D-B53D-ACE4AB3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194-1180-40BD-AF33-E8500102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28F-3CE1-404D-B551-F259640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E606-E879-43CE-B074-41BFF7B90A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9C48-AD30-42AB-BFA5-E1A81EFC49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eader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ontact.html" TargetMode="External"/><Relationship Id="rId2" Type="http://schemas.openxmlformats.org/officeDocument/2006/relationships/hyperlink" Target="https://www.w3schools.com/html/html_symbols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list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ordered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links.html" TargetMode="External"/><Relationship Id="rId2" Type="http://schemas.openxmlformats.org/officeDocument/2006/relationships/hyperlink" Target="file://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icture.html" TargetMode="External"/><Relationship Id="rId2" Type="http://schemas.openxmlformats.org/officeDocument/2006/relationships/hyperlink" Target="file://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abl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hatw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i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ασίλης Στεφανή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fanis@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peech Bubble: Rectangle 4"/>
          <p:cNvSpPr/>
          <p:nvPr/>
        </p:nvSpPr>
        <p:spPr>
          <a:xfrm>
            <a:off x="554040" y="5373720"/>
            <a:ext cx="1913040" cy="900000"/>
          </a:xfrm>
          <a:prstGeom prst="wedgeRectCallout">
            <a:avLst>
              <a:gd name="adj1" fmla="val 46393"/>
              <a:gd name="adj2" fmla="val -74009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 βάλ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peech Bubble: Rectangle 3"/>
          <p:cNvSpPr/>
          <p:nvPr/>
        </p:nvSpPr>
        <p:spPr>
          <a:xfrm>
            <a:off x="7147080" y="4851360"/>
            <a:ext cx="191268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peech Bubble: Rectangle 4"/>
          <p:cNvSpPr/>
          <p:nvPr/>
        </p:nvSpPr>
        <p:spPr>
          <a:xfrm>
            <a:off x="5851440" y="1384200"/>
            <a:ext cx="1943280" cy="91440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το 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ως «κλείνου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kDuckG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peech Bubble: Rectangle 3"/>
          <p:cNvSpPr/>
          <p:nvPr/>
        </p:nvSpPr>
        <p:spPr>
          <a:xfrm>
            <a:off x="6302520" y="2708280"/>
            <a:ext cx="2838240" cy="865080"/>
          </a:xfrm>
          <a:prstGeom prst="wedgeRectCallout">
            <a:avLst>
              <a:gd name="adj1" fmla="val -50435"/>
              <a:gd name="adj2" fmla="val 9649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κάθε ανανέωση σελίδας αλλάζει η σειρά εμφάνιση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idu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&gt;DuckDuckGo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peech Bubble: Rectangle 3"/>
          <p:cNvSpPr/>
          <p:nvPr/>
        </p:nvSpPr>
        <p:spPr>
          <a:xfrm>
            <a:off x="6643800" y="4851360"/>
            <a:ext cx="2415960" cy="898560"/>
          </a:xfrm>
          <a:prstGeom prst="wedgeRectCallout">
            <a:avLst>
              <a:gd name="adj1" fmla="val -55912"/>
              <a:gd name="adj2" fmla="val -7706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μφώλευση βασικό χαρακτηριστικό τη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“tel:+302610451517”&gt;Hungry?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peech Bubble: Rectangle 3"/>
          <p:cNvSpPr/>
          <p:nvPr/>
        </p:nvSpPr>
        <p:spPr>
          <a:xfrm>
            <a:off x="3619440" y="76320"/>
            <a:ext cx="4176720" cy="1218960"/>
          </a:xfrm>
          <a:prstGeom prst="wedgeRectCallout">
            <a:avLst>
              <a:gd name="adj1" fmla="val -44435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δε λειτουργεί το τηλέφων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to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, η χαρά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 χρειάζεται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peech Bubble: Rectangle 3"/>
          <p:cNvSpPr/>
          <p:nvPr/>
        </p:nvSpPr>
        <p:spPr>
          <a:xfrm>
            <a:off x="4627440" y="517680"/>
            <a:ext cx="2416320" cy="900000"/>
          </a:xfrm>
          <a:prstGeom prst="wedgeRectCallout">
            <a:avLst>
              <a:gd name="adj1" fmla="val 52300"/>
              <a:gd name="adj2" fmla="val 80402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ε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«εχθρό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bi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ύσεις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8443800" y="2997360"/>
            <a:ext cx="64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49432"/>
                </a:solidFill>
                <a:latin typeface="Arial"/>
              </a:rPr>
              <a:t>th : tabl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tr : table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td: tabl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8443800" y="1676520"/>
            <a:ext cx="9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: text element brief description or ti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4.01 (24/12/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ML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 Living Standard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st Updated 26 February 202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eb Hypertext Application Technology Working Group (WHAT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, Google, Mozilla, Microso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Προτείνεται η χρήση κάποιου εξειδικευμένο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ditor (Notepad++, Sublime Tex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peech Bubble: Rectangle 1"/>
          <p:cNvSpPr/>
          <p:nvPr/>
        </p:nvSpPr>
        <p:spPr>
          <a:xfrm>
            <a:off x="5059440" y="476280"/>
            <a:ext cx="1942920" cy="915840"/>
          </a:xfrm>
          <a:prstGeom prst="wedgeRectCallout">
            <a:avLst>
              <a:gd name="adj1" fmla="val -41750"/>
              <a:gd name="adj2" fmla="val 7916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≠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erners-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peech Bubble: Rectangle 3"/>
          <p:cNvSpPr/>
          <p:nvPr/>
        </p:nvSpPr>
        <p:spPr>
          <a:xfrm>
            <a:off x="5994360" y="5589720"/>
            <a:ext cx="2417760" cy="900000"/>
          </a:xfrm>
          <a:prstGeom prst="wedgeRectCallout">
            <a:avLst>
              <a:gd name="adj1" fmla="val -71046"/>
              <a:gd name="adj2" fmla="val -63851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ι, οι ιδιότητες δηλώνονται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πλέον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 rowspan = 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mg src = "camel.gif" width = "205" height = "167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 = "Picture of a camel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 colspan = "4" valign = 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h1&gt;Camelid comparison&lt;/h1&gt;&lt;b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&gt;Approximate as of 8/99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r valign = "bottom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tr&gt;….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“send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h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peech Bubble: Rectangle 3"/>
          <p:cNvSpPr/>
          <p:nvPr/>
        </p:nvSpPr>
        <p:spPr>
          <a:xfrm>
            <a:off x="1027080" y="5516640"/>
            <a:ext cx="3024360" cy="1081080"/>
          </a:xfrm>
          <a:prstGeom prst="wedgeRectCallout">
            <a:avLst>
              <a:gd name="adj1" fmla="val 47379"/>
              <a:gd name="adj2" fmla="val -87217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να αποκτήσει λειτουργικότητα η φόρμα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-sid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peech Bubble: Rectangle 3"/>
          <p:cNvSpPr/>
          <p:nvPr/>
        </p:nvSpPr>
        <p:spPr>
          <a:xfrm>
            <a:off x="1530360" y="5437080"/>
            <a:ext cx="2417760" cy="900360"/>
          </a:xfrm>
          <a:prstGeom prst="wedgeRectCallout">
            <a:avLst>
              <a:gd name="adj1" fmla="val 75759"/>
              <a:gd name="adj2" fmla="val -56740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τα δούμε αναλυτικά στη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4320" y="6021360"/>
            <a:ext cx="9083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998720" y="1417680"/>
            <a:ext cx="5400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4320" y="5950080"/>
            <a:ext cx="90835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393920" y="1285920"/>
            <a:ext cx="661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λείνει όπω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λήρης λίσ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εν υπάρχει κρυπτογράφησ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5" name="Picture 2" descr="A person sitting at a table with a sign in front of hi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522360" y="1887480"/>
            <a:ext cx="5079960" cy="3801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6138720" y="3284640"/>
            <a:ext cx="2914920" cy="123480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5923080" y="2852640"/>
            <a:ext cx="3386160" cy="166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6067440" y="602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ick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2" descr=""/>
          <p:cNvPicPr/>
          <p:nvPr/>
        </p:nvPicPr>
        <p:blipFill>
          <a:blip r:embed="rId2"/>
          <a:stretch/>
        </p:blipFill>
        <p:spPr>
          <a:xfrm>
            <a:off x="0" y="330120"/>
            <a:ext cx="4927680" cy="394200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1" descr=""/>
          <p:cNvPicPr/>
          <p:nvPr/>
        </p:nvPicPr>
        <p:blipFill>
          <a:blip r:embed="rId3"/>
          <a:stretch/>
        </p:blipFill>
        <p:spPr>
          <a:xfrm>
            <a:off x="4368960" y="122400"/>
            <a:ext cx="398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  <p:pic>
        <p:nvPicPr>
          <p:cNvPr id="268" name="Εικόνα 1" descr=""/>
          <p:cNvPicPr/>
          <p:nvPr/>
        </p:nvPicPr>
        <p:blipFill>
          <a:blip r:embed="rId2"/>
          <a:stretch/>
        </p:blipFill>
        <p:spPr>
          <a:xfrm>
            <a:off x="7289640" y="1743120"/>
            <a:ext cx="1638360" cy="1244520"/>
          </a:xfrm>
          <a:prstGeom prst="rect">
            <a:avLst/>
          </a:prstGeom>
          <a:ln w="0">
            <a:noFill/>
          </a:ln>
        </p:spPr>
      </p:pic>
      <p:pic>
        <p:nvPicPr>
          <p:cNvPr id="269" name="Εικόνα 2" descr=""/>
          <p:cNvPicPr/>
          <p:nvPr/>
        </p:nvPicPr>
        <p:blipFill>
          <a:blip r:embed="rId3"/>
          <a:stretch/>
        </p:blipFill>
        <p:spPr>
          <a:xfrm>
            <a:off x="7796160" y="3573360"/>
            <a:ext cx="156384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3" descr=""/>
          <p:cNvPicPr/>
          <p:nvPr/>
        </p:nvPicPr>
        <p:blipFill>
          <a:blip r:embed="rId4"/>
          <a:stretch/>
        </p:blipFill>
        <p:spPr>
          <a:xfrm>
            <a:off x="5987880" y="5398920"/>
            <a:ext cx="3372120" cy="1295640"/>
          </a:xfrm>
          <a:prstGeom prst="rect">
            <a:avLst/>
          </a:prstGeom>
          <a:ln w="0">
            <a:noFill/>
          </a:ln>
        </p:spPr>
      </p:pic>
      <p:cxnSp>
        <p:nvCxnSpPr>
          <p:cNvPr id="271" name="Ευθύγραμμο βέλος σύνδεσης 2"/>
          <p:cNvCxnSpPr/>
          <p:nvPr/>
        </p:nvCxnSpPr>
        <p:spPr>
          <a:xfrm flipV="1">
            <a:off x="2682720" y="2276280"/>
            <a:ext cx="4104720" cy="1297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2" name="Ευθύγραμμο βέλος σύνδεσης 9"/>
          <p:cNvCxnSpPr/>
          <p:nvPr/>
        </p:nvCxnSpPr>
        <p:spPr>
          <a:xfrm flipV="1">
            <a:off x="3475080" y="4048920"/>
            <a:ext cx="4199760" cy="158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3" name="Ευθύγραμμο βέλος σύνδεσης 12"/>
          <p:cNvCxnSpPr/>
          <p:nvPr/>
        </p:nvCxnSpPr>
        <p:spPr>
          <a:xfrm>
            <a:off x="2693520" y="5256000"/>
            <a:ext cx="4829760" cy="508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SV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validator.w3.or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ια χαρά εμφανίζετα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Γιατί είναι σημαντικό να γράφουμ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έγιστη συμβατότητα με όλους του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υμβατότητα με μελλοντικές εκδόσει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όνος φόρτω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Ανάγνωση από μηχανές αναζήτηση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Προσβασιμότητ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Welcome to Our Web Site!!!!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22360" y="1719360"/>
            <a:ext cx="1584360" cy="916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opening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7002360" y="1719360"/>
            <a:ext cx="1925640" cy="91692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lo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9800" y="1557360"/>
            <a:ext cx="8458200" cy="2014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στοιχείο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2106720" y="1719360"/>
            <a:ext cx="4895640" cy="1191240"/>
          </a:xfrm>
          <a:prstGeom prst="rect">
            <a:avLst/>
          </a:prstGeom>
          <a:solidFill>
            <a:srgbClr val="00b0f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δώ απλό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vs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τικέτες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τικέτες χρησιμοποιούνται για να οριοθετήσουν την αρχή και το τέλο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τοιχεί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www.tutorialrepublic.com/html-tutorial/html-elements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Εικόνα 3" descr=""/>
          <p:cNvPicPr/>
          <p:nvPr/>
        </p:nvPicPr>
        <p:blipFill>
          <a:blip r:embed="rId1"/>
          <a:stretch/>
        </p:blipFill>
        <p:spPr>
          <a:xfrm>
            <a:off x="1962000" y="3757680"/>
            <a:ext cx="5753160" cy="1542960"/>
          </a:xfrm>
          <a:prstGeom prst="rect">
            <a:avLst/>
          </a:prstGeom>
          <a:ln w="0">
            <a:noFill/>
          </a:ln>
        </p:spPr>
      </p:pic>
      <p:sp>
        <p:nvSpPr>
          <p:cNvPr id="173" name="Ορθογώνιο 1"/>
          <p:cNvSpPr/>
          <p:nvPr/>
        </p:nvSpPr>
        <p:spPr>
          <a:xfrm>
            <a:off x="2827440" y="4076640"/>
            <a:ext cx="1366560" cy="122400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TML 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1&gt;My First Heading&lt;/h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My first paragraph.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TML 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!DOCTYPE 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h1&gt;My First Heading&lt;/h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p&gt;My first paragraph.&lt;/p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469800" y="234936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469800" y="397512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41440" y="2852640"/>
            <a:ext cx="6460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450720" y="4514760"/>
            <a:ext cx="6461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τα με βάση το όνομα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“tomato” text=“PaleGreen”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peech Bubble: Rectangle 4"/>
          <p:cNvSpPr/>
          <p:nvPr/>
        </p:nvSpPr>
        <p:spPr>
          <a:xfrm>
            <a:off x="1170000" y="5300640"/>
            <a:ext cx="1944720" cy="915840"/>
          </a:xfrm>
          <a:prstGeom prst="wedgeRectCallout">
            <a:avLst>
              <a:gd name="adj1" fmla="val 51374"/>
              <a:gd name="adj2" fmla="val -85736"/>
            </a:avLst>
          </a:prstGeom>
          <a:solidFill>
            <a:srgbClr val="f9f9ee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πλά 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μορφοποίηση μ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Βογιατζάκη Ελένη</cp:lastModifiedBy>
  <dcterms:modified xsi:type="dcterms:W3CDTF">2025-02-26T09:21:17Z</dcterms:modified>
  <cp:revision>678</cp:revision>
  <dc:subject/>
  <dc:title>Τεχνολογίες Διαδικτύου</dc:title>
</cp:coreProperties>
</file>