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F9C-3786-41AA-8269-53624CCB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98E-5010-4CC0-9F0F-FC029C9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873-0075-40CD-8EC6-172959C5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58A-3FCF-4E68-B9EB-4818A38D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ED8-477F-4FFA-ABD7-7747AD6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0FE-FF03-4D3C-A70D-20536771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FBF-AF13-42FB-AC20-808D1CDD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1DA-E2D4-4A85-9D6E-81D1357B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B33-DCD3-4D32-A4B9-4634BBA1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B5D-D522-438F-A327-9C53EC7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F61-5BA4-4D3B-8F21-3E11EB2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830-8D3C-4493-AB57-6BED8D8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ΕΑΠ - Χ. Πιερρακέα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ΕΑ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F5B-2F90-4537-96D9-F6049CAA52B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80760"/>
            <a:ext cx="7991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ανεπιστήμιο Πάτρας</a:t>
            </a:r>
            <a:br>
              <a:rPr sz="4000"/>
            </a:b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Τμήμα Διοίκησης Επιχειρήσεω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68360" y="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457200" y="2873160"/>
            <a:ext cx="821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ΙΣΑΓΩΓΗ ΣΤΟΥΣ Η/Υ: ΟΡΓΑΝΩΣΗ ΚΑΙ ΠΡΟΓΡΑΜΜΑΤΙΣΜ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καδημαϊκό έτος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–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δάσκων: Γιάννης Σταματί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ail: stamatiu@upatras.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92000" y="907920"/>
            <a:ext cx="69487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28600" y="3733920"/>
            <a:ext cx="73915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3ης γενιά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ης γενιά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4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ης γενιά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5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600200"/>
            <a:ext cx="86104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915840">
              <a:tabLst>
                <a:tab algn="l" pos="0"/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  <a:tab algn="l" pos="2867040"/>
                <a:tab algn="l" pos="3003480"/>
                <a:tab algn="l" pos="3139920"/>
                <a:tab algn="l" pos="3276720"/>
                <a:tab algn="l" pos="3413160"/>
                <a:tab algn="l" pos="35496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γλώσσες υψηλού επιπέδου είναι πιο δυναμικές και πιο κατανοητές από τον άνθρωπο αφού χρησιμοποιούν περισσότερες λέξεις και προτάσεις της Αγγλική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5840">
              <a:buClr>
                <a:srgbClr val="3333cc"/>
              </a:buClr>
              <a:buFont typeface="Times New Roman"/>
              <a:buChar char="•"/>
              <a:tabLst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  <a:tab algn="l" pos="2867040"/>
                <a:tab algn="l" pos="3003480"/>
                <a:tab algn="l" pos="3139920"/>
                <a:tab algn="l" pos="3276720"/>
                <a:tab algn="l" pos="3413160"/>
                <a:tab algn="l" pos="3549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5840">
              <a:tabLst>
                <a:tab algn="l" pos="0"/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  <a:tab algn="l" pos="2867040"/>
                <a:tab algn="l" pos="3003480"/>
                <a:tab algn="l" pos="3139920"/>
                <a:tab algn="l" pos="3276720"/>
                <a:tab algn="l" pos="3413160"/>
                <a:tab algn="l" pos="35496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γλώσσες υψηλού επιπέδου διακρίνονται σε 3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γενιέ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"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39640" y="3808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High-Level Languag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68360" y="4797360"/>
            <a:ext cx="82296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TA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BO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IC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sca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306396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79404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076400"/>
            <a:ext cx="88930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Είναι αρχαιότερες γλώσσες υψηλού επιπέδου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Είναι μεταφέρσιμες. Δηλαδή, ο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bject code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που δημιουργούν για ένα τύπο συστήματος μπορεί να «τρέξει» και σε συστήματα άλλων τύπων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Για κάθε γλώσσα υπάρχει χωριστό μεταφραστικό πρόγραμμα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52680">
              <a:buClr>
                <a:srgbClr val="cc0066"/>
              </a:buClr>
              <a:buFont typeface="Times New Roman"/>
              <a:buChar char="•"/>
              <a:tabLst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  <a:tab algn="l" pos="492588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Compil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ταγλωττιστής)</a:t>
            </a: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52680">
              <a:buClr>
                <a:srgbClr val="cc0066"/>
              </a:buClr>
              <a:buFont typeface="Times New Roman"/>
              <a:buChar char="•"/>
              <a:tabLst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  <a:tab algn="l" pos="492588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terpreter</a:t>
            </a: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(Διερμηνευτής)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παρακάτω είναι γλώσσε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G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396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Γλώσσες Υψηλού Επιπέδου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3GL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4467240"/>
            <a:ext cx="82296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07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sual Basic (V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sua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sual C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523880"/>
            <a:ext cx="8763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Είναι ακόμη πιο εύκολες στην χρήση από ότι ο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G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Επιτρέπουν την εργασία σε ένα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οπτικό περιβάλλον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sual environment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 με χρήση γραφικών εργαλείων όπως τα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παρακάτω είναι γλώσσε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G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333864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Γλώσσες Υψηλού Επιπέδου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– 4G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Γλώσσες Υψηλού Επιπέδο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9640" y="1413000"/>
            <a:ext cx="8077320" cy="4665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/*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Αυτό το πρόγραμμα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είιναι γραμμένο σε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λώσσ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Διαβάζει δύο ακεραίους αριθμούς από το πληκτρολόγιο και τυπώνει το γινόμενο τους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main 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number1, number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f(“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ώσε δύο αριθμούς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f(“%d”, &amp;number1);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f(“%d”, &amp;number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number1 * numb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f(“To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ινόμενο είνα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d”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Γλώσσες Υψηλού Επιπέδο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68360" y="1484280"/>
            <a:ext cx="8077320" cy="4451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(*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Αυτό το πρόγραμμα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είιναι γραμμένο σε γλώσσ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Διαβάζει δύο ακεραίους αριθμούς από το πληκτρολόγιο και τυπώνει το γινόμενο τους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Product_of_two_nu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1, number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(“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ώσε δύο αριθμούς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(number1, number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number1 * numb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“To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ινόμενο είνα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”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676520"/>
            <a:ext cx="84582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Είναι η τελευταία γενιά γλωσσών. Κάποιοι προγραμματιστές θεωρούν ότι δεν υφίσταται 5</a:t>
            </a:r>
            <a:r>
              <a:rPr b="1" lang="el-GR" sz="2600" spc="-1" strike="noStrike" baseline="30000">
                <a:solidFill>
                  <a:srgbClr val="3333cc"/>
                </a:solidFill>
                <a:latin typeface="Times New Roman"/>
              </a:rPr>
              <a:t>η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 γενιά γλωσσών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Οι γλώσσες αυτές θα χρησιμοποιούν στοιχεία και μηχανισμούς της </a:t>
            </a:r>
            <a:r>
              <a:rPr b="1" lang="el-GR" sz="2600" spc="-1" strike="noStrike">
                <a:solidFill>
                  <a:srgbClr val="cc0066"/>
                </a:solidFill>
                <a:latin typeface="Times New Roman"/>
              </a:rPr>
              <a:t>Τεχνητής Νοημοσύνης </a:t>
            </a: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για τη δημιουργία προγραμμάτων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81080" y="47628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Γλώσσες Υψηλού Επιπέδου - 5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Κατασκευή ενός Προγράμματο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1699920"/>
            <a:ext cx="80708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ουλειά του προγραμματιστή είναι να γράψει ένα πρόγραμμα και μετά να το μετατρέψει σε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εκτελέσιμο αρχείο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. Αυτή η διαδικασία έχει τρία βήματα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γραφή και διόρθωση του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γλώττιση του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νδεση του προγράμματος με τις απαραίτητες υπομονάδες βιβλιοθηκ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228600" y="3657600"/>
            <a:ext cx="16002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ext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124080" y="3657600"/>
            <a:ext cx="16002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172200" y="3657600"/>
            <a:ext cx="16002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828800" y="403848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724280" y="40384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" y="1752480"/>
            <a:ext cx="1905120" cy="11430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83808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1371600" y="2895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779840" y="3276720"/>
            <a:ext cx="12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495680" y="32004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7772400" y="40384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7162920" y="3200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ecutab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pilers (</a:t>
            </a:r>
            <a:r>
              <a:rPr b="0" lang="el-GR" sz="4400" spc="-1" strike="noStrike">
                <a:solidFill>
                  <a:srgbClr val="ff0000"/>
                </a:solidFill>
                <a:latin typeface="Times New Roman"/>
              </a:rPr>
              <a:t>μεταγλωττιστέ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020000" y="4724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6227640" y="5445000"/>
            <a:ext cx="16002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8640" y="2055600"/>
            <a:ext cx="642924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0000"/>
                </a:solidFill>
                <a:latin typeface="Arial"/>
              </a:rPr>
              <a:t>Αλγόριθμο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205000"/>
            <a:ext cx="8094600" cy="20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Προγραμματισμός Η/Υ:</a:t>
            </a: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Αλγόριθμοι και γλώσσες προγραμματισμο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916280"/>
            <a:ext cx="849780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Ένας αλγόριθμος είναι μια σειρά από βήματα που πρέπει ακολουθήσουμε ώστε να φτάσουμε στην λύση ενός προβλήματος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α βήματα ενός αλγορίθμου είναι ίδια είτε επιλύουμε το πρόβλημα με το χέρι, είτε μέσω προγράμματος υπολογιστ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Η ανάπτυξη αλγορίθμων είναι το προστάδιο της υλοποίησης ενός προγράμματος Η/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352116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ff0000"/>
                </a:solidFill>
                <a:uFillTx/>
                <a:latin typeface="Arial"/>
              </a:rPr>
              <a:t>Αλγόριθμοι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l-GR" sz="40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gorithms</a:t>
            </a:r>
            <a:r>
              <a:rPr b="0" lang="el-GR" sz="4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Αλγόριθμοι - συνέχει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295280"/>
            <a:ext cx="850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κοπός του αλγορίθμου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ίναι η επίλυση ενός προβλήματος μέσω ηλεκτρονικού υπολογιστή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ς αλγόριθμος δέχεται κάποια δεδομένα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σοδ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 και παράγει κάποια αποτελέσματα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ξοδ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αλγόριθμος είναι άμεσα κατανοητός από τον άνθρωπο (όχι από τους ηλεκτρονικούς υπολογιστές) και συντάσσετ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φυσική γλώσσ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ψευδοκώδι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διάγραμμα ρο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 συνέχεια μετατρέπεται σε πρόγραμμα Η/Υ με χρήση κάποιας γλώσσας προγραμματισμού, ώστε να μπορεί να εκτελεστε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5040" y="2349000"/>
            <a:ext cx="3111480" cy="24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Διάγραμμα ρο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24000" y="1901880"/>
          <a:ext cx="83502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1880"/>
                    <a:ext cx="83502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5040" y="2349000"/>
            <a:ext cx="3111480" cy="24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Ψευδοκώδικ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468360" y="2133720"/>
          <a:ext cx="79106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79106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Αλγόριθμοι - συνέχει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Κρίσιμη παρατήρηση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λγόριθμος πρέπει να μπορεί να επιλύει μια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μάδα προβλημάτω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και όχι μία συγκεκριμένη περίπτωση του προβλήμα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δεν κατασκευάζουμε έναν αλγόριθμο που να λύνει την εξίσωση </a:t>
            </a: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3x + 2 = 5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 αλλά έναν αλγόριθμο που να λύνει την εξίσωση </a:t>
            </a: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ax + b = c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Τότε ο αλγόριθμος θα είναι ικανός να λύνει το συγκεκριμένο πρόβλημα αλλά και κάθε πρωτοβάθμια εξίσωση, ανεξαρτήτως των τιμών των a, b και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Verdana"/>
              </a:rPr>
              <a:t>Απλά προβλήματα αλγορίθμω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1: Να υπολογιστεί ο μέσος όρος 3 αριθμών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3640" y="1628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Είσοδος: Τρεις αριθμο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Έ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ξοδος: Ο μέσος όρος των 3 αριθμ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λγόριθμος σε φυσική γλώσσ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Tahoma"/>
                <a:ea typeface="Tahoma"/>
              </a:rPr>
              <a:t>Διάβασε 3 αριθμούς. Υπολόγισε το άθροισμα τους. Διαίρεσε το άθροισμα με το πλήθος των αριθμών και εκτύπωσε το αποτέλεσμα της διαίρεσης.</a:t>
            </a:r>
            <a:r>
              <a:rPr b="0" lang="el-GR" sz="2800" spc="-1" strike="noStrike">
                <a:solidFill>
                  <a:srgbClr val="3333cc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1: Να υπολογιστεί ο μέσος όρος 3 αριθμών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838080" y="1981080"/>
            <a:ext cx="74678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λγόριθμος σε μορφή ψευδοκώδικ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1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Διάβασε 3 αριθμούς στις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μεταβλητές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A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B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2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Υπολόγισ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M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 A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B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3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Υπολόγισε ΜΟ=</a:t>
            </a:r>
            <a:r>
              <a:rPr b="1" lang="fr-FR" sz="2800" spc="-1" strike="noStrike">
                <a:solidFill>
                  <a:srgbClr val="3333cc"/>
                </a:solidFill>
                <a:latin typeface="Arial"/>
                <a:ea typeface="Tahoma"/>
              </a:rPr>
              <a:t>SUM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4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Τύπωσε “Μέσος όρος= “, Μ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5.   Τέλ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1: Να υπολογιστεί ο μέσος όρος 3 αριθμών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289548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λγόριθμος  σε μορφή διαγράμματος ροή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f1"/>
          <p:cNvPicPr/>
          <p:nvPr/>
        </p:nvPicPr>
        <p:blipFill>
          <a:blip r:embed="rId1"/>
          <a:stretch/>
        </p:blipFill>
        <p:spPr>
          <a:xfrm>
            <a:off x="4495680" y="549360"/>
            <a:ext cx="33022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Verdana"/>
              </a:rPr>
              <a:t>Βασικοί συμβολισμοί στα διαγράμματα ροή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4191120" y="3657600"/>
            <a:ext cx="2438280" cy="8380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533520" y="3581280"/>
            <a:ext cx="2286000" cy="609840"/>
          </a:xfrm>
          <a:prstGeom prst="flowChartInputOutpu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38080" y="2362320"/>
            <a:ext cx="19051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733920" y="4952880"/>
            <a:ext cx="1676160" cy="76212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257800" y="2209680"/>
            <a:ext cx="1828800" cy="7621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621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ρχή ή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858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ίσοδος δεδομένων (ανάγνωσ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1814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πεξεργα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71500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Έλεγχος συνθήκ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800600" y="5562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κτύπωση αποτελεσ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3962520"/>
            <a:ext cx="86868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Γλώσσες μηχανή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chine languages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Σε συμβολικές γλώσσε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sembly languages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Σε γλώσσες Υψηλού-Επιπέδου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gh-level languages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342900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990720"/>
            <a:ext cx="84582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969840">
              <a:tabLst>
                <a:tab algn="l" pos="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Κάθε πρόγραμμα Η/Υ φτιάχνεται σε μια γλώσσα προγραμματισμού που μπορεί να είναι κατανοητή από τον άνθρωπο. Για να εκτελεστούν από ένα Η/Υ αυτά τα προγράμματα πρέπει να μεταφραστούν σε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κώδικα μηχανή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9840">
              <a:buClr>
                <a:srgbClr val="3333cc"/>
              </a:buClr>
              <a:buFont typeface="Times New Roman"/>
              <a:buChar char="•"/>
              <a:tabLst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9840">
              <a:tabLst>
                <a:tab algn="l" pos="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γλώσσες προγραμματισμού διακρίνονται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Η εξέλιξη των γλωσσών προγραμματισμ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</a:t>
            </a:r>
            <a:r>
              <a:rPr b="1" lang="el-GR" sz="25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: Να </a:t>
            </a:r>
            <a:r>
              <a:rPr b="1" lang="el-GR" sz="2500" spc="-1" strike="noStrike">
                <a:solidFill>
                  <a:srgbClr val="ff0000"/>
                </a:solidFill>
                <a:latin typeface="Verdana"/>
              </a:rPr>
              <a:t>βρεθεί ο μεγαλύτερος από 3 αριθμού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1447920"/>
            <a:ext cx="7086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Είσοδος: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Οι 3 αριθμο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ξοδος: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Ο μεγαλύτερος αριθμό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Ο αλγόριθμος σε μορφή ψευδοκώδι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2895480"/>
            <a:ext cx="8382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Διάβασε 3 αριθμούς Α, Β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2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Θέσε ως μέγιστο τον πρώτο,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Tahoma"/>
              </a:rPr>
              <a:t>ΜΑΧ = 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Αν Β &gt; ΜΑΧ  Τότε Θέσε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Tahoma"/>
              </a:rPr>
              <a:t>ΜΑΧ = 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Αν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 &gt; ΜΑΧ  Τότε Θέσε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Tahoma"/>
              </a:rPr>
              <a:t>ΜΑΧ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5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Τύπωσε την τιμή του ΜΑ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6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24386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  <a:ea typeface="Tahoma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Ο αλγόριθμος σε μορφή διαγράμματος ροής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f3"/>
          <p:cNvPicPr/>
          <p:nvPr/>
        </p:nvPicPr>
        <p:blipFill>
          <a:blip r:embed="rId1"/>
          <a:stretch/>
        </p:blipFill>
        <p:spPr>
          <a:xfrm>
            <a:off x="2951280" y="355680"/>
            <a:ext cx="5354640" cy="60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: Να τυπωθεί η φράση «ΚΑΛΗΜΕΡΑ ΖΩΗ» Ν φο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2360520"/>
            <a:ext cx="7619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σοδος: Ο αριθμός 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ξοδος: Η φρά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φορ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3: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λγόριθμος σε ψευδοκώδικ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989000"/>
            <a:ext cx="8064360" cy="342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2: Μηδένισε μετρητή, Ι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Όσο ο μετρητής 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1 Αύξησε μετρητή κατά ένα, Ι = Ι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2 Τύπωσ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3: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λγόριθμος σε ψευδοκώδικ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95280" y="1989000"/>
            <a:ext cx="8064360" cy="342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2: Μηδένισε μετρητή, Ι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Όσο 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1 Αύξησε μετρητή κατά ένα, Ι = Ι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2 Τύπωσ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92360" y="1484280"/>
            <a:ext cx="5256360" cy="376416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κτέλεση αλγορίθμου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Ν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3: 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  <a:ea typeface="Tahoma"/>
              </a:rPr>
              <a:t>Βελτίωση α</a:t>
            </a:r>
            <a:r>
              <a:rPr b="1" lang="el-GR" sz="4400" spc="-1" strike="noStrike">
                <a:solidFill>
                  <a:srgbClr val="000000"/>
                </a:solidFill>
                <a:latin typeface="Verdana"/>
              </a:rPr>
              <a:t>λγ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ορίθμο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</a:t>
            </a:r>
            <a:r>
              <a:rPr b="0" lang="el-GR" sz="1400" spc="-1" strike="noStrike">
                <a:solidFill>
                  <a:srgbClr val="000000"/>
                </a:solidFill>
                <a:latin typeface="Arial Narrow"/>
              </a:rPr>
              <a:t>Ανδρέας Νεάρχ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4000" y="1628640"/>
            <a:ext cx="8064360" cy="4921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2: Όσο Ν </a:t>
            </a:r>
            <a:r>
              <a:rPr b="1" lang="el-GR" sz="2400" spc="-1" strike="noStrike">
                <a:solidFill>
                  <a:srgbClr val="cc0066"/>
                </a:solidFill>
                <a:latin typeface="Symbol"/>
                <a:ea typeface="Symbol"/>
              </a:rPr>
              <a:t>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2.1 Τύπωσε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Δώσε θετικό πλήθος 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2.2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Μηδένισε μετρητή, Ι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Όσο 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.1 Αύξησε μετρητή κατά ένα, Ι = Ι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.2 Τύπωσ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5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33520"/>
            <a:ext cx="82310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: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Για Ν τυχαίους αριθμούς που θα διαβαστούν από το πληκτρολόγιο να υπολογιστεί το ά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θροισμα,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το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γινόμενο και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ο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μέσ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ος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όρος τους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</a:t>
            </a:r>
            <a:r>
              <a:rPr b="0" lang="el-GR" sz="1400" spc="-1" strike="noStrike">
                <a:solidFill>
                  <a:srgbClr val="000000"/>
                </a:solidFill>
                <a:latin typeface="Arial Narrow"/>
              </a:rPr>
              <a:t>Ανδρέας Νεάρχ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55640" y="2924280"/>
            <a:ext cx="76201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σοδος: Οι Ν αριθμ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ξοδος: Το άθροισμ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, το γινόμενο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ι 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έσος όρος του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9280" y="115920"/>
            <a:ext cx="405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Tahoma"/>
              </a:rPr>
              <a:t>4</a:t>
            </a:r>
            <a:r>
              <a:rPr b="1" lang="el-GR" sz="4000" spc="-1" strike="noStrike">
                <a:solidFill>
                  <a:srgbClr val="ff0000"/>
                </a:solidFill>
                <a:latin typeface="Verdana"/>
                <a:ea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</a:t>
            </a:r>
            <a:r>
              <a:rPr b="0" lang="el-GR" sz="1400" spc="-1" strike="noStrike">
                <a:solidFill>
                  <a:srgbClr val="000000"/>
                </a:solidFill>
                <a:latin typeface="Arial Narrow"/>
              </a:rPr>
              <a:t>Ανδρέας Νεάρχ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4000" y="692280"/>
            <a:ext cx="8064360" cy="646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2: Όσο Ν </a:t>
            </a:r>
            <a:r>
              <a:rPr b="1" lang="el-G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2.1 Τύπω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Δώσε θετικό πλήθος Ν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2.2 Διάβασε 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3: Μηδένισε μετρητή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αριθμών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4: Θέσε αρχικές τιμές στα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και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G,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S=0, G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: Όσο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.1 Αύξησε μετρητή κατά ένα,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cc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cc0066"/>
                </a:solidFill>
                <a:latin typeface="Arial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.2 Τύπω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Δώσε νέο αριθμό Χ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5.3 Διάβασε 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5.4 Υπολόγι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+X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και φύλαξε το αποτέλεσμα στο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5.5 Υπολόγι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και φύλαξε το αποτέλεσμα στο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.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Υπολόγισε μέσο όρο, </a:t>
            </a:r>
            <a:r>
              <a:rPr b="1" lang="el-GR" sz="2000" spc="-1" strike="noStrike">
                <a:solidFill>
                  <a:srgbClr val="cc0066"/>
                </a:solidFill>
                <a:latin typeface="Arial"/>
              </a:rPr>
              <a:t>ΜΟ=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S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: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Τύπω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, G, 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: Τέλ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24382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4: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Το διάγραμμα ροής του αλγορίθμο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f2"/>
          <p:cNvPicPr/>
          <p:nvPr/>
        </p:nvPicPr>
        <p:blipFill>
          <a:blip r:embed="rId1"/>
          <a:stretch/>
        </p:blipFill>
        <p:spPr>
          <a:xfrm>
            <a:off x="3187800" y="304920"/>
            <a:ext cx="49654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02" t="0" r="2239" b="0"/>
          <a:stretch/>
        </p:blipFill>
        <p:spPr>
          <a:xfrm>
            <a:off x="0" y="476280"/>
            <a:ext cx="92012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5184" t="26043" r="25037" b="8337"/>
          <a:stretch/>
        </p:blipFill>
        <p:spPr>
          <a:xfrm>
            <a:off x="611280" y="476280"/>
            <a:ext cx="78692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700280"/>
            <a:ext cx="85345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Οι γλώσσες μηχανής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γλώσσε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1ης γενιά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είναι η πιο βασική μορφή γλώσσας προγραμματισμού και περιλαμβάνουν εντολές που η μορφή τους είναι σειρές από δυαδικούς αριθμούς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Η γλώσσα μηχανής είναι η μόνη γλώσσα που το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rdware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καταλαβαίνει άμεσα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ff0000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Times New Roman"/>
              </a:rPr>
              <a:t>Διαφορετικές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PUs </a:t>
            </a:r>
            <a:r>
              <a:rPr b="1" lang="el-GR" sz="2500" spc="-1" strike="noStrike">
                <a:solidFill>
                  <a:srgbClr val="ff0000"/>
                </a:solidFill>
                <a:latin typeface="Times New Roman"/>
              </a:rPr>
              <a:t>χρησιμοποιούν διαφορετικές γλώσσες μηχανή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Π.χ. οι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BM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Η/Υ διαθέτουν διαφορετική γλώσσα μηχανής από ότι οι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pple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 Η/Υ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ff0000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ntel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vs.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otorola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διαφορετικές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CP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Γλώσσες Μηχανής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Γλώσσα Μηχαν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00000" y="1700280"/>
            <a:ext cx="8077320" cy="4483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01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1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10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1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0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1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0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0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11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001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0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1700280"/>
            <a:ext cx="609480" cy="4483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181080" y="1682640"/>
            <a:ext cx="883944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Οι συμβολικές γλώσσες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γλώσσε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2ης γενιάς)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είναι κάπως ευκολότερες στην χρήση για τον άνθρωπο από ότι οι γλώσσες μηχανή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Για να αναπτύξει κάποιος προγράμματα σε γλώσσα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ssembly,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χρησιμοποιεί κρυπτογραφικές φράσεις της Αγγλικής. Οι φράσεις αυτές αντικαθιστούν τις σειρές από δυαδικούς αριθμούς της γλώσσας μηχανή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Ο κώδικας σε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ssembly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κατόπιν μεταφράζεται σε αντικειμενικό κώδικα (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object code)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χρησιμοποιώντας ένα μεταφραστικό πρόγραμμα που καλείται </a:t>
            </a:r>
            <a:r>
              <a:rPr b="1" lang="en-US" sz="25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ssembler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342900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95280" y="40464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Γλώσσα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Assembl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ff0000"/>
                </a:solidFill>
                <a:latin typeface="Arial"/>
              </a:rPr>
              <a:t>(συμβολική γλώσσα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9"/>
          <p:cNvGrpSpPr/>
          <p:nvPr/>
        </p:nvGrpSpPr>
        <p:grpSpPr>
          <a:xfrm>
            <a:off x="736560" y="5246640"/>
            <a:ext cx="2362320" cy="990720"/>
            <a:chOff x="736560" y="5246640"/>
            <a:chExt cx="2362320" cy="990720"/>
          </a:xfrm>
        </p:grpSpPr>
        <p:sp>
          <p:nvSpPr>
            <p:cNvPr id="60" name="AutoShape 7"/>
            <p:cNvSpPr/>
            <p:nvPr/>
          </p:nvSpPr>
          <p:spPr>
            <a:xfrm>
              <a:off x="736560" y="5246640"/>
              <a:ext cx="2362320" cy="9907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1028880" y="551520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Assemb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0" y="0"/>
            <a:ext cx="6443280" cy="3644640"/>
            <a:chOff x="0" y="0"/>
            <a:chExt cx="6443280" cy="3644640"/>
          </a:xfrm>
        </p:grpSpPr>
        <p:sp>
          <p:nvSpPr>
            <p:cNvPr id="63" name="AutoShape 5"/>
            <p:cNvSpPr/>
            <p:nvPr/>
          </p:nvSpPr>
          <p:spPr>
            <a:xfrm>
              <a:off x="0" y="0"/>
              <a:ext cx="6443280" cy="3644640"/>
            </a:xfrm>
            <a:prstGeom prst="foldedCorner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Picture 3" descr="Figure28_2b"/>
            <p:cNvPicPr/>
            <p:nvPr/>
          </p:nvPicPr>
          <p:blipFill>
            <a:blip r:embed="rId1"/>
            <a:stretch/>
          </p:blipFill>
          <p:spPr>
            <a:xfrm>
              <a:off x="353160" y="355680"/>
              <a:ext cx="5747760" cy="28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4015080" y="533160"/>
              <a:ext cx="161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Assemb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AutoShape 10"/>
          <p:cNvSpPr/>
          <p:nvPr/>
        </p:nvSpPr>
        <p:spPr>
          <a:xfrm>
            <a:off x="1676520" y="3646440"/>
            <a:ext cx="457200" cy="1523880"/>
          </a:xfrm>
          <a:prstGeom prst="downArrow">
            <a:avLst>
              <a:gd name="adj1" fmla="val 50000"/>
              <a:gd name="adj2" fmla="val 833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124080" y="5475240"/>
            <a:ext cx="2438640" cy="4572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5562720" y="4038480"/>
            <a:ext cx="3581280" cy="2819520"/>
            <a:chOff x="5562720" y="4038480"/>
            <a:chExt cx="3581280" cy="2819520"/>
          </a:xfrm>
        </p:grpSpPr>
        <p:sp>
          <p:nvSpPr>
            <p:cNvPr id="69" name="AutoShape 4"/>
            <p:cNvSpPr/>
            <p:nvPr/>
          </p:nvSpPr>
          <p:spPr>
            <a:xfrm>
              <a:off x="5562720" y="4038480"/>
              <a:ext cx="3581280" cy="2819520"/>
            </a:xfrm>
            <a:prstGeom prst="foldedCorner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Picture 2" descr="Figure28_2a"/>
            <p:cNvPicPr/>
            <p:nvPr/>
          </p:nvPicPr>
          <p:blipFill>
            <a:blip r:embed="rId2"/>
            <a:stretch/>
          </p:blipFill>
          <p:spPr>
            <a:xfrm>
              <a:off x="5943600" y="4572000"/>
              <a:ext cx="2867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2"/>
            <p:cNvSpPr/>
            <p:nvPr/>
          </p:nvSpPr>
          <p:spPr>
            <a:xfrm>
              <a:off x="6477840" y="58672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Object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48:58Z</dcterms:created>
  <dc:creator>ChrPie</dc:creator>
  <dc:description/>
  <dc:language>en-US</dc:language>
  <cp:lastModifiedBy>Nastou-Stamatiou</cp:lastModifiedBy>
  <dcterms:modified xsi:type="dcterms:W3CDTF">2023-10-04T19:56:04Z</dcterms:modified>
  <cp:revision>624</cp:revision>
  <dc:subject/>
  <dc:title>ΕΛΛΗΝΙΚΟ ΑΝΟΙΚΤΟ ΠΑΝΕΠΙΣΤΗΜΙΟ</dc:title>
</cp:coreProperties>
</file>