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946080" y="4863960"/>
            <a:ext cx="5197680" cy="43005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ldImg"/>
          </p:nvPr>
        </p:nvSpPr>
        <p:spPr>
          <a:xfrm>
            <a:off x="1155600" y="890280"/>
            <a:ext cx="4780080" cy="358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1"/>
          <p:cNvSpPr/>
          <p:nvPr/>
        </p:nvSpPr>
        <p:spPr>
          <a:xfrm>
            <a:off x="1155600" y="890640"/>
            <a:ext cx="4789440" cy="359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body"/>
          </p:nvPr>
        </p:nvSpPr>
        <p:spPr>
          <a:xfrm>
            <a:off x="946080" y="4863600"/>
            <a:ext cx="5207040" cy="43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AU" sz="1600" spc="-1" strike="noStrike">
              <a:solidFill>
                <a:srgbClr val="000000"/>
              </a:solidFill>
              <a:latin typeface="Times New Roman"/>
              <a:ea typeface="Arial Unicode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66A8446-6A1D-4D08-B0EB-0AF4E7E11C2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46080" y="4863960"/>
            <a:ext cx="51976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C280D62-4A0F-436C-B1E3-4B9FF037EFB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311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mpilation and Lo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ldImg"/>
          </p:nvPr>
        </p:nvSpPr>
        <p:spPr>
          <a:xfrm>
            <a:off x="1154160" y="890640"/>
            <a:ext cx="4790880" cy="3592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 Box 1"/>
          <p:cNvSpPr/>
          <p:nvPr/>
        </p:nvSpPr>
        <p:spPr>
          <a:xfrm>
            <a:off x="1155600" y="890640"/>
            <a:ext cx="4789440" cy="359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body"/>
          </p:nvPr>
        </p:nvSpPr>
        <p:spPr>
          <a:xfrm>
            <a:off x="946080" y="4863960"/>
            <a:ext cx="5192640" cy="42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1"/>
          <p:cNvSpPr/>
          <p:nvPr/>
        </p:nvSpPr>
        <p:spPr>
          <a:xfrm>
            <a:off x="1155600" y="890640"/>
            <a:ext cx="4789440" cy="359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body"/>
          </p:nvPr>
        </p:nvSpPr>
        <p:spPr>
          <a:xfrm>
            <a:off x="946080" y="4863960"/>
            <a:ext cx="5192640" cy="42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1"/>
          <p:cNvSpPr/>
          <p:nvPr/>
        </p:nvSpPr>
        <p:spPr>
          <a:xfrm>
            <a:off x="1155600" y="890640"/>
            <a:ext cx="4789440" cy="359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946080" y="4863960"/>
            <a:ext cx="5192640" cy="42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B1A4B6B-67E6-480E-AEF9-42F138F3547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46080" y="4863960"/>
            <a:ext cx="51976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9790DB9-6F71-409F-971A-1CC32D41D7E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46080" y="4863960"/>
            <a:ext cx="51976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749F5AE-AB31-49EC-AEA0-D03423CD543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46080" y="4863960"/>
            <a:ext cx="51976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0C51C5F-D9EA-45E9-8D36-C63FD4A3EBB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46080" y="4863960"/>
            <a:ext cx="51976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A1B6F0A-9891-49C7-8B45-1FCAB3FBA3C8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46080" y="4863960"/>
            <a:ext cx="51976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D982A8C-A759-44F9-8616-952993FF25C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46080" y="4863960"/>
            <a:ext cx="51976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AF369D8-71EC-4CB2-860F-F9155D5A084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46080" y="4863960"/>
            <a:ext cx="51976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409A-D798-41FE-B3E1-DFB886B4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1233-EFB5-4B71-ADB2-EA59282E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31D9-0FE5-4669-A2FE-12B773A26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05A6-4857-408C-8951-D137B5FC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D7C35-5F89-4309-8C41-ACF011D08A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02888-8D70-400E-854D-FA5FAF00DC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513F8-4B1B-4305-9C74-319EB868F2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4E957-69F2-435A-B0B2-DCE68BA697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D3AE2-E670-462A-996B-CF206686DA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47A64-5F3C-4493-94F0-43D62B4637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152A0-0C52-41E4-BE3A-B36ED584AB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FAFF-0D5A-4626-90F8-455244DA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495CB-FF53-4067-B4BB-6F0596AFA5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71939-77FE-4162-B5F2-D33B5EB8CD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3F8AB-69EF-40E9-8CAA-91ED8C37A9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5328C-E67C-4763-A6CB-10FF379106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0ABD9-7EA9-466C-8BE5-84F48F58E22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93849-B90D-4514-9D69-B9B919750CD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E0DFD-D476-4C85-918B-3715A4A0BDC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2F14E-AFEA-46B1-9378-B8CDC237A12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3A21E-CB61-4308-9728-E6B5C847741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37680-6596-42E5-AB0E-7A67CA61E4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E233-BDAA-438B-9200-D9BE9E6A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51160-D6CE-4141-B786-7EC40AD9D0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58BC6-9739-42DA-BF3E-9A4D061D371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9A0CF-D331-46FB-9BF7-B39877D3C8A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AE78B-3F3F-49FD-A22F-1D00280CCC7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A05C4-08E8-40C4-8096-CF2EBA7386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F11E0-E3AC-4A06-AE84-EE3F61A90D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5054E-3B78-4F03-B88D-A005386CE6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69EF-4B7D-4400-B6D0-10CC8F7A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3BF5-5587-421D-BB1B-893FFECA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5D30-EA01-4497-BCDE-2F8DA5CF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4298-BB91-4721-98E4-425DAEAD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A1E1-EAFA-41DC-B8AD-D621EAFB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BD26-0662-476B-A6BD-9895CAFC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52229-5D33-41D7-8661-50C88F8400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9F5ACD3-6AC3-4B49-82EC-9B94A8B34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60D8D2A-7078-4034-8EC2-5BCF4CF7C8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684360" y="549360"/>
            <a:ext cx="777240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3600" spc="-1" strike="noStrike">
                <a:solidFill>
                  <a:srgbClr val="000099"/>
                </a:solidFill>
                <a:latin typeface="Arial"/>
              </a:rPr>
              <a:t>Προγραμματισμός Η/Υ με τη γλώσσα προγραμματισμού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Jav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1187280" y="2708280"/>
            <a:ext cx="6705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000099"/>
                </a:solidFill>
                <a:latin typeface="Arial"/>
              </a:rPr>
              <a:t>Γιάννης Σταματίο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reeform 2"/>
          <p:cNvSpPr/>
          <p:nvPr/>
        </p:nvSpPr>
        <p:spPr>
          <a:xfrm>
            <a:off x="3909960" y="439560"/>
            <a:ext cx="88272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72" y="0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sm" type="triangle" w="lg"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Freeform 3"/>
          <p:cNvSpPr/>
          <p:nvPr/>
        </p:nvSpPr>
        <p:spPr>
          <a:xfrm>
            <a:off x="3909960" y="1090440"/>
            <a:ext cx="88272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72" y="0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sm" type="triangle" w="lg"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Freeform 4"/>
          <p:cNvSpPr/>
          <p:nvPr/>
        </p:nvSpPr>
        <p:spPr>
          <a:xfrm>
            <a:off x="3909960" y="1859040"/>
            <a:ext cx="88272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72" y="0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Freeform 5"/>
          <p:cNvSpPr/>
          <p:nvPr/>
        </p:nvSpPr>
        <p:spPr>
          <a:xfrm>
            <a:off x="3909960" y="3587760"/>
            <a:ext cx="88272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72" y="0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sm" type="triangle" w="lg"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Freeform 6"/>
          <p:cNvSpPr/>
          <p:nvPr/>
        </p:nvSpPr>
        <p:spPr>
          <a:xfrm>
            <a:off x="3909960" y="5321160"/>
            <a:ext cx="88272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72" y="0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sm" type="triangle" w="lg"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Group 7"/>
          <p:cNvGrpSpPr/>
          <p:nvPr/>
        </p:nvGrpSpPr>
        <p:grpSpPr>
          <a:xfrm>
            <a:off x="6265800" y="1490760"/>
            <a:ext cx="293760" cy="1601280"/>
            <a:chOff x="6265800" y="1490760"/>
            <a:chExt cx="293760" cy="1601280"/>
          </a:xfrm>
        </p:grpSpPr>
        <p:sp>
          <p:nvSpPr>
            <p:cNvPr id="155" name="Arc 8"/>
            <p:cNvSpPr/>
            <p:nvPr/>
          </p:nvSpPr>
          <p:spPr>
            <a:xfrm>
              <a:off x="6265800" y="1490760"/>
              <a:ext cx="147600" cy="401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Arc 9"/>
            <p:cNvSpPr/>
            <p:nvPr/>
          </p:nvSpPr>
          <p:spPr>
            <a:xfrm flipV="1">
              <a:off x="6265800" y="2690280"/>
              <a:ext cx="147600" cy="401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Arc 10"/>
            <p:cNvSpPr/>
            <p:nvPr/>
          </p:nvSpPr>
          <p:spPr>
            <a:xfrm flipH="1">
              <a:off x="6411960" y="2290680"/>
              <a:ext cx="147600" cy="401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Arc 11"/>
            <p:cNvSpPr/>
            <p:nvPr/>
          </p:nvSpPr>
          <p:spPr>
            <a:xfrm flipH="1" flipV="1">
              <a:off x="6411960" y="1890000"/>
              <a:ext cx="147600" cy="401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Group 12"/>
          <p:cNvGrpSpPr/>
          <p:nvPr/>
        </p:nvGrpSpPr>
        <p:grpSpPr>
          <a:xfrm>
            <a:off x="6265800" y="3227400"/>
            <a:ext cx="293760" cy="1599840"/>
            <a:chOff x="6265800" y="3227400"/>
            <a:chExt cx="293760" cy="1599840"/>
          </a:xfrm>
        </p:grpSpPr>
        <p:sp>
          <p:nvSpPr>
            <p:cNvPr id="160" name="Arc 13"/>
            <p:cNvSpPr/>
            <p:nvPr/>
          </p:nvSpPr>
          <p:spPr>
            <a:xfrm>
              <a:off x="6265800" y="3227400"/>
              <a:ext cx="147600" cy="399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Arc 14"/>
            <p:cNvSpPr/>
            <p:nvPr/>
          </p:nvSpPr>
          <p:spPr>
            <a:xfrm flipV="1">
              <a:off x="6265800" y="4426920"/>
              <a:ext cx="147600" cy="399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Arc 15"/>
            <p:cNvSpPr/>
            <p:nvPr/>
          </p:nvSpPr>
          <p:spPr>
            <a:xfrm flipH="1">
              <a:off x="6411960" y="4027680"/>
              <a:ext cx="147600" cy="399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Arc 16"/>
            <p:cNvSpPr/>
            <p:nvPr/>
          </p:nvSpPr>
          <p:spPr>
            <a:xfrm flipH="1" flipV="1">
              <a:off x="6411960" y="3626640"/>
              <a:ext cx="147600" cy="399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" name="Group 17"/>
          <p:cNvGrpSpPr/>
          <p:nvPr/>
        </p:nvGrpSpPr>
        <p:grpSpPr>
          <a:xfrm>
            <a:off x="6265800" y="4952880"/>
            <a:ext cx="293760" cy="1599840"/>
            <a:chOff x="6265800" y="4952880"/>
            <a:chExt cx="293760" cy="1599840"/>
          </a:xfrm>
        </p:grpSpPr>
        <p:sp>
          <p:nvSpPr>
            <p:cNvPr id="165" name="Arc 18"/>
            <p:cNvSpPr/>
            <p:nvPr/>
          </p:nvSpPr>
          <p:spPr>
            <a:xfrm>
              <a:off x="6265800" y="4952880"/>
              <a:ext cx="147600" cy="399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Arc 19"/>
            <p:cNvSpPr/>
            <p:nvPr/>
          </p:nvSpPr>
          <p:spPr>
            <a:xfrm flipV="1">
              <a:off x="6265800" y="6152400"/>
              <a:ext cx="147600" cy="399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Arc 20"/>
            <p:cNvSpPr/>
            <p:nvPr/>
          </p:nvSpPr>
          <p:spPr>
            <a:xfrm flipH="1">
              <a:off x="6411960" y="5753160"/>
              <a:ext cx="147600" cy="399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Arc 21"/>
            <p:cNvSpPr/>
            <p:nvPr/>
          </p:nvSpPr>
          <p:spPr>
            <a:xfrm flipH="1" flipV="1">
              <a:off x="6411960" y="5352120"/>
              <a:ext cx="147600" cy="399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Group 22"/>
          <p:cNvGrpSpPr/>
          <p:nvPr/>
        </p:nvGrpSpPr>
        <p:grpSpPr>
          <a:xfrm>
            <a:off x="6265800" y="198360"/>
            <a:ext cx="293760" cy="480600"/>
            <a:chOff x="6265800" y="198360"/>
            <a:chExt cx="293760" cy="480600"/>
          </a:xfrm>
        </p:grpSpPr>
        <p:sp>
          <p:nvSpPr>
            <p:cNvPr id="170" name="Arc 23"/>
            <p:cNvSpPr/>
            <p:nvPr/>
          </p:nvSpPr>
          <p:spPr>
            <a:xfrm>
              <a:off x="6265800" y="198360"/>
              <a:ext cx="147600" cy="120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Arc 24"/>
            <p:cNvSpPr/>
            <p:nvPr/>
          </p:nvSpPr>
          <p:spPr>
            <a:xfrm flipV="1">
              <a:off x="6265800" y="558000"/>
              <a:ext cx="147600" cy="120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Arc 25"/>
            <p:cNvSpPr/>
            <p:nvPr/>
          </p:nvSpPr>
          <p:spPr>
            <a:xfrm flipH="1">
              <a:off x="6411960" y="438120"/>
              <a:ext cx="147600" cy="120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Arc 26"/>
            <p:cNvSpPr/>
            <p:nvPr/>
          </p:nvSpPr>
          <p:spPr>
            <a:xfrm flipH="1" flipV="1">
              <a:off x="6411960" y="318240"/>
              <a:ext cx="147600" cy="120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" name="Group 27"/>
          <p:cNvGrpSpPr/>
          <p:nvPr/>
        </p:nvGrpSpPr>
        <p:grpSpPr>
          <a:xfrm>
            <a:off x="6265800" y="839880"/>
            <a:ext cx="293760" cy="478800"/>
            <a:chOff x="6265800" y="839880"/>
            <a:chExt cx="293760" cy="478800"/>
          </a:xfrm>
        </p:grpSpPr>
        <p:sp>
          <p:nvSpPr>
            <p:cNvPr id="175" name="Arc 28"/>
            <p:cNvSpPr/>
            <p:nvPr/>
          </p:nvSpPr>
          <p:spPr>
            <a:xfrm>
              <a:off x="6265800" y="839880"/>
              <a:ext cx="147600" cy="120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Arc 29"/>
            <p:cNvSpPr/>
            <p:nvPr/>
          </p:nvSpPr>
          <p:spPr>
            <a:xfrm flipV="1">
              <a:off x="6265800" y="1197720"/>
              <a:ext cx="147600" cy="120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Arc 30"/>
            <p:cNvSpPr/>
            <p:nvPr/>
          </p:nvSpPr>
          <p:spPr>
            <a:xfrm flipH="1">
              <a:off x="6411960" y="1079280"/>
              <a:ext cx="147600" cy="120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31"/>
            <p:cNvSpPr/>
            <p:nvPr/>
          </p:nvSpPr>
          <p:spPr>
            <a:xfrm flipH="1" flipV="1">
              <a:off x="6411960" y="957960"/>
              <a:ext cx="147600" cy="120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Rectangle 32"/>
          <p:cNvSpPr/>
          <p:nvPr/>
        </p:nvSpPr>
        <p:spPr>
          <a:xfrm>
            <a:off x="6707160" y="228600"/>
            <a:ext cx="2208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Το πρόγραμμα δημιουργείται και αποθηκεύεται στον δίσκο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33"/>
          <p:cNvSpPr/>
          <p:nvPr/>
        </p:nvSpPr>
        <p:spPr>
          <a:xfrm>
            <a:off x="6707160" y="863640"/>
            <a:ext cx="2208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Ο μεταφραστής δημιουργεί σειρές από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bytes </a:t>
            </a:r>
            <a:r>
              <a:rPr b="0" lang="el-GR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και τα αποθηκεύει στον δίσκο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34"/>
          <p:cNvSpPr/>
          <p:nvPr/>
        </p:nvSpPr>
        <p:spPr>
          <a:xfrm>
            <a:off x="6700680" y="2187720"/>
            <a:ext cx="2208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Ο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Class loader </a:t>
            </a:r>
            <a:r>
              <a:rPr b="0" lang="el-GR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μεταφέρει τις σειρές από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bytes </a:t>
            </a:r>
            <a:r>
              <a:rPr b="0" lang="el-GR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στην μνήμη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35"/>
          <p:cNvSpPr/>
          <p:nvPr/>
        </p:nvSpPr>
        <p:spPr>
          <a:xfrm>
            <a:off x="6707160" y="3560760"/>
            <a:ext cx="2208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Ο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Bytecode verifier </a:t>
            </a:r>
            <a:br>
              <a:rPr sz="1200"/>
            </a:br>
            <a:r>
              <a:rPr b="0" lang="el-GR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επαληθεύει ότι όλες οι σειρές από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bytes </a:t>
            </a:r>
            <a:r>
              <a:rPr b="0" lang="el-GR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είναι ασφαλής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36"/>
          <p:cNvSpPr/>
          <p:nvPr/>
        </p:nvSpPr>
        <p:spPr>
          <a:xfrm>
            <a:off x="6707160" y="5133960"/>
            <a:ext cx="220824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Ο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Interpreter </a:t>
            </a:r>
            <a:r>
              <a:rPr b="0" lang="el-GR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διαβάζει τις σειρές από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bytes</a:t>
            </a:r>
            <a:r>
              <a:rPr b="0" lang="el-GR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 και τους μεταφράζει στην γλώσσα μηχανής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37"/>
          <p:cNvSpPr/>
          <p:nvPr/>
        </p:nvSpPr>
        <p:spPr>
          <a:xfrm>
            <a:off x="228600" y="387360"/>
            <a:ext cx="154620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Φάση</a:t>
            </a: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38"/>
          <p:cNvSpPr/>
          <p:nvPr/>
        </p:nvSpPr>
        <p:spPr>
          <a:xfrm>
            <a:off x="228600" y="1044720"/>
            <a:ext cx="154620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Φάση</a:t>
            </a: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39"/>
          <p:cNvSpPr/>
          <p:nvPr/>
        </p:nvSpPr>
        <p:spPr>
          <a:xfrm>
            <a:off x="228600" y="1812960"/>
            <a:ext cx="154620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Φάση</a:t>
            </a: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40"/>
          <p:cNvSpPr/>
          <p:nvPr/>
        </p:nvSpPr>
        <p:spPr>
          <a:xfrm>
            <a:off x="228600" y="3543480"/>
            <a:ext cx="154620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Φάση</a:t>
            </a: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 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41"/>
          <p:cNvSpPr/>
          <p:nvPr/>
        </p:nvSpPr>
        <p:spPr>
          <a:xfrm>
            <a:off x="228600" y="5273640"/>
            <a:ext cx="154620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Φάση</a:t>
            </a: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 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" name="Group 42"/>
          <p:cNvGrpSpPr/>
          <p:nvPr/>
        </p:nvGrpSpPr>
        <p:grpSpPr>
          <a:xfrm>
            <a:off x="4822920" y="295200"/>
            <a:ext cx="1325520" cy="325440"/>
            <a:chOff x="4822920" y="295200"/>
            <a:chExt cx="1325520" cy="325440"/>
          </a:xfrm>
        </p:grpSpPr>
        <p:grpSp>
          <p:nvGrpSpPr>
            <p:cNvPr id="190" name="Group 43"/>
            <p:cNvGrpSpPr/>
            <p:nvPr/>
          </p:nvGrpSpPr>
          <p:grpSpPr>
            <a:xfrm>
              <a:off x="4822920" y="295560"/>
              <a:ext cx="1325520" cy="325080"/>
              <a:chOff x="4822920" y="295560"/>
              <a:chExt cx="1325520" cy="325080"/>
            </a:xfrm>
          </p:grpSpPr>
          <p:sp>
            <p:nvSpPr>
              <p:cNvPr id="191" name="Oval 44"/>
              <p:cNvSpPr/>
              <p:nvPr/>
            </p:nvSpPr>
            <p:spPr>
              <a:xfrm>
                <a:off x="4822920" y="540000"/>
                <a:ext cx="1325520" cy="80640"/>
              </a:xfrm>
              <a:prstGeom prst="ellipse">
                <a:avLst/>
              </a:prstGeom>
              <a:solidFill>
                <a:srgbClr val="ccccff"/>
              </a:solidFill>
              <a:ln w="324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rm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Freeform 45"/>
              <p:cNvSpPr/>
              <p:nvPr/>
            </p:nvSpPr>
            <p:spPr>
              <a:xfrm>
                <a:off x="4824360" y="336600"/>
                <a:ext cx="13240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ccccff"/>
              </a:solidFill>
              <a:ln w="324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Oval 46"/>
              <p:cNvSpPr/>
              <p:nvPr/>
            </p:nvSpPr>
            <p:spPr>
              <a:xfrm>
                <a:off x="4822920" y="295560"/>
                <a:ext cx="1325520" cy="80640"/>
              </a:xfrm>
              <a:prstGeom prst="ellipse">
                <a:avLst/>
              </a:prstGeom>
              <a:solidFill>
                <a:srgbClr val="ccccff"/>
              </a:solidFill>
              <a:ln w="324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rm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4" name="Oval 47"/>
            <p:cNvSpPr/>
            <p:nvPr/>
          </p:nvSpPr>
          <p:spPr>
            <a:xfrm>
              <a:off x="4822920" y="539640"/>
              <a:ext cx="1325520" cy="81000"/>
            </a:xfrm>
            <a:prstGeom prst="ellipse">
              <a:avLst/>
            </a:prstGeom>
            <a:solidFill>
              <a:srgbClr val="ccccff"/>
            </a:solidFill>
            <a:ln w="3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48"/>
            <p:cNvSpPr/>
            <p:nvPr/>
          </p:nvSpPr>
          <p:spPr>
            <a:xfrm>
              <a:off x="4824360" y="336240"/>
              <a:ext cx="1324080" cy="241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49"/>
            <p:cNvSpPr/>
            <p:nvPr/>
          </p:nvSpPr>
          <p:spPr>
            <a:xfrm>
              <a:off x="4832280" y="539640"/>
              <a:ext cx="1309680" cy="37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649"/>
                  </a:lnTo>
                  <a:lnTo>
                    <a:pt x="0" y="19649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Rectangle 50"/>
            <p:cNvSpPr/>
            <p:nvPr/>
          </p:nvSpPr>
          <p:spPr>
            <a:xfrm>
              <a:off x="5195880" y="414360"/>
              <a:ext cx="579600" cy="174600"/>
            </a:xfrm>
            <a:prstGeom prst="rect">
              <a:avLst/>
            </a:prstGeom>
            <a:solidFill>
              <a:srgbClr val="ccccff"/>
            </a:solidFill>
            <a:ln w="0">
              <a:solidFill>
                <a:srgbClr val="cc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Dis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51"/>
            <p:cNvSpPr/>
            <p:nvPr/>
          </p:nvSpPr>
          <p:spPr>
            <a:xfrm>
              <a:off x="4832280" y="328320"/>
              <a:ext cx="1309680" cy="460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701"/>
                  </a:lnTo>
                  <a:lnTo>
                    <a:pt x="0" y="19701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Oval 52"/>
            <p:cNvSpPr/>
            <p:nvPr/>
          </p:nvSpPr>
          <p:spPr>
            <a:xfrm>
              <a:off x="4822920" y="295200"/>
              <a:ext cx="1325520" cy="81000"/>
            </a:xfrm>
            <a:prstGeom prst="ellipse">
              <a:avLst/>
            </a:prstGeom>
            <a:solidFill>
              <a:srgbClr val="ccccff"/>
            </a:solidFill>
            <a:ln w="3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0" name="Group 53"/>
          <p:cNvGrpSpPr/>
          <p:nvPr/>
        </p:nvGrpSpPr>
        <p:grpSpPr>
          <a:xfrm>
            <a:off x="1798560" y="187200"/>
            <a:ext cx="2062080" cy="479520"/>
            <a:chOff x="1798560" y="187200"/>
            <a:chExt cx="2062080" cy="479520"/>
          </a:xfrm>
        </p:grpSpPr>
        <p:sp>
          <p:nvSpPr>
            <p:cNvPr id="201" name="Freeform 54"/>
            <p:cNvSpPr/>
            <p:nvPr/>
          </p:nvSpPr>
          <p:spPr>
            <a:xfrm>
              <a:off x="1798560" y="187200"/>
              <a:ext cx="2062080" cy="479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c500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Freeform 55"/>
            <p:cNvSpPr/>
            <p:nvPr/>
          </p:nvSpPr>
          <p:spPr>
            <a:xfrm>
              <a:off x="1798560" y="187200"/>
              <a:ext cx="2062080" cy="479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Rectangle 56"/>
            <p:cNvSpPr/>
            <p:nvPr/>
          </p:nvSpPr>
          <p:spPr>
            <a:xfrm>
              <a:off x="2450880" y="365040"/>
              <a:ext cx="757080" cy="160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Edito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Group 57"/>
          <p:cNvGrpSpPr/>
          <p:nvPr/>
        </p:nvGrpSpPr>
        <p:grpSpPr>
          <a:xfrm>
            <a:off x="1798560" y="825480"/>
            <a:ext cx="2062080" cy="480960"/>
            <a:chOff x="1798560" y="825480"/>
            <a:chExt cx="2062080" cy="480960"/>
          </a:xfrm>
        </p:grpSpPr>
        <p:sp>
          <p:nvSpPr>
            <p:cNvPr id="205" name="Freeform 58"/>
            <p:cNvSpPr/>
            <p:nvPr/>
          </p:nvSpPr>
          <p:spPr>
            <a:xfrm>
              <a:off x="1798560" y="825480"/>
              <a:ext cx="206208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c500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Freeform 59"/>
            <p:cNvSpPr/>
            <p:nvPr/>
          </p:nvSpPr>
          <p:spPr>
            <a:xfrm>
              <a:off x="1798560" y="825480"/>
              <a:ext cx="206208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Rectangle 60"/>
            <p:cNvSpPr/>
            <p:nvPr/>
          </p:nvSpPr>
          <p:spPr>
            <a:xfrm>
              <a:off x="2331720" y="1003320"/>
              <a:ext cx="993600" cy="160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Μεταφραστής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8" name="Group 61"/>
          <p:cNvGrpSpPr/>
          <p:nvPr/>
        </p:nvGrpSpPr>
        <p:grpSpPr>
          <a:xfrm>
            <a:off x="1798560" y="1557360"/>
            <a:ext cx="2062080" cy="480960"/>
            <a:chOff x="1798560" y="1557360"/>
            <a:chExt cx="2062080" cy="480960"/>
          </a:xfrm>
        </p:grpSpPr>
        <p:sp>
          <p:nvSpPr>
            <p:cNvPr id="209" name="Freeform 62"/>
            <p:cNvSpPr/>
            <p:nvPr/>
          </p:nvSpPr>
          <p:spPr>
            <a:xfrm>
              <a:off x="1798560" y="1557360"/>
              <a:ext cx="206208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c500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Freeform 63"/>
            <p:cNvSpPr/>
            <p:nvPr/>
          </p:nvSpPr>
          <p:spPr>
            <a:xfrm>
              <a:off x="1798560" y="1557360"/>
              <a:ext cx="206208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Rectangle 64"/>
            <p:cNvSpPr/>
            <p:nvPr/>
          </p:nvSpPr>
          <p:spPr>
            <a:xfrm>
              <a:off x="2097000" y="1735200"/>
              <a:ext cx="1463760" cy="1620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Class Load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Group 66"/>
          <p:cNvGrpSpPr/>
          <p:nvPr/>
        </p:nvGrpSpPr>
        <p:grpSpPr>
          <a:xfrm>
            <a:off x="2166840" y="2305080"/>
            <a:ext cx="1325520" cy="325440"/>
            <a:chOff x="2166840" y="2305080"/>
            <a:chExt cx="1325520" cy="325440"/>
          </a:xfrm>
        </p:grpSpPr>
        <p:sp>
          <p:nvSpPr>
            <p:cNvPr id="213" name="Oval 67"/>
            <p:cNvSpPr/>
            <p:nvPr/>
          </p:nvSpPr>
          <p:spPr>
            <a:xfrm>
              <a:off x="2166840" y="2549520"/>
              <a:ext cx="1325520" cy="81000"/>
            </a:xfrm>
            <a:prstGeom prst="ellipse">
              <a:avLst/>
            </a:prstGeom>
            <a:solidFill>
              <a:srgbClr val="ccccff"/>
            </a:solidFill>
            <a:ln w="3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Freeform 68"/>
            <p:cNvSpPr/>
            <p:nvPr/>
          </p:nvSpPr>
          <p:spPr>
            <a:xfrm>
              <a:off x="2168280" y="2346120"/>
              <a:ext cx="1324080" cy="241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Oval 69"/>
            <p:cNvSpPr/>
            <p:nvPr/>
          </p:nvSpPr>
          <p:spPr>
            <a:xfrm>
              <a:off x="2166840" y="2305080"/>
              <a:ext cx="1325520" cy="81000"/>
            </a:xfrm>
            <a:prstGeom prst="ellipse">
              <a:avLst/>
            </a:prstGeom>
            <a:solidFill>
              <a:srgbClr val="ccccff"/>
            </a:solidFill>
            <a:ln w="3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Oval 70"/>
          <p:cNvSpPr/>
          <p:nvPr/>
        </p:nvSpPr>
        <p:spPr>
          <a:xfrm>
            <a:off x="2166840" y="2549520"/>
            <a:ext cx="1325520" cy="81000"/>
          </a:xfrm>
          <a:prstGeom prst="ellipse">
            <a:avLst/>
          </a:prstGeom>
          <a:solidFill>
            <a:srgbClr val="ccccff"/>
          </a:solidFill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Freeform 71"/>
          <p:cNvSpPr/>
          <p:nvPr/>
        </p:nvSpPr>
        <p:spPr>
          <a:xfrm>
            <a:off x="2168640" y="2346480"/>
            <a:ext cx="1323720" cy="2412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81" y="0"/>
                </a:moveTo>
                <a:lnTo>
                  <a:pt x="19981" y="19944"/>
                </a:lnTo>
                <a:lnTo>
                  <a:pt x="0" y="19944"/>
                </a:lnTo>
                <a:lnTo>
                  <a:pt x="0" y="0"/>
                </a:lnTo>
                <a:lnTo>
                  <a:pt x="19981" y="0"/>
                </a:lnTo>
                <a:close/>
              </a:path>
            </a:pathLst>
          </a:custGeom>
          <a:solidFill>
            <a:srgbClr val="ccccff"/>
          </a:solidFill>
          <a:ln w="32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Freeform 72"/>
          <p:cNvSpPr/>
          <p:nvPr/>
        </p:nvSpPr>
        <p:spPr>
          <a:xfrm>
            <a:off x="2174760" y="2550960"/>
            <a:ext cx="1309680" cy="381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81" y="0"/>
                </a:moveTo>
                <a:lnTo>
                  <a:pt x="19981" y="19649"/>
                </a:lnTo>
                <a:lnTo>
                  <a:pt x="0" y="19649"/>
                </a:lnTo>
                <a:lnTo>
                  <a:pt x="0" y="0"/>
                </a:lnTo>
                <a:lnTo>
                  <a:pt x="19981" y="0"/>
                </a:lnTo>
                <a:close/>
              </a:path>
            </a:pathLst>
          </a:custGeom>
          <a:solidFill>
            <a:srgbClr val="ccccff"/>
          </a:solidFill>
          <a:ln w="32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73"/>
          <p:cNvSpPr/>
          <p:nvPr/>
        </p:nvSpPr>
        <p:spPr>
          <a:xfrm>
            <a:off x="2509920" y="2411280"/>
            <a:ext cx="639720" cy="187560"/>
          </a:xfrm>
          <a:prstGeom prst="rect">
            <a:avLst/>
          </a:prstGeom>
          <a:solidFill>
            <a:srgbClr val="ccccff"/>
          </a:solidFill>
          <a:ln w="0">
            <a:solidFill>
              <a:srgbClr val="cc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Dis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Freeform 74"/>
          <p:cNvSpPr/>
          <p:nvPr/>
        </p:nvSpPr>
        <p:spPr>
          <a:xfrm>
            <a:off x="2176560" y="2338560"/>
            <a:ext cx="1309680" cy="457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81" y="0"/>
                </a:moveTo>
                <a:lnTo>
                  <a:pt x="19981" y="19701"/>
                </a:lnTo>
                <a:lnTo>
                  <a:pt x="0" y="19701"/>
                </a:lnTo>
                <a:lnTo>
                  <a:pt x="0" y="0"/>
                </a:lnTo>
                <a:lnTo>
                  <a:pt x="19981" y="0"/>
                </a:lnTo>
                <a:close/>
              </a:path>
            </a:pathLst>
          </a:custGeom>
          <a:solidFill>
            <a:srgbClr val="ccccff"/>
          </a:solidFill>
          <a:ln w="32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Oval 75"/>
          <p:cNvSpPr/>
          <p:nvPr/>
        </p:nvSpPr>
        <p:spPr>
          <a:xfrm>
            <a:off x="2166840" y="2305080"/>
            <a:ext cx="1325520" cy="81000"/>
          </a:xfrm>
          <a:prstGeom prst="ellipse">
            <a:avLst/>
          </a:prstGeom>
          <a:solidFill>
            <a:srgbClr val="ccccff"/>
          </a:solidFill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Freeform 76"/>
          <p:cNvSpPr/>
          <p:nvPr/>
        </p:nvSpPr>
        <p:spPr>
          <a:xfrm>
            <a:off x="2830680" y="2033640"/>
            <a:ext cx="360" cy="3189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0" y="19958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" name="Group 77"/>
          <p:cNvGrpSpPr/>
          <p:nvPr/>
        </p:nvGrpSpPr>
        <p:grpSpPr>
          <a:xfrm>
            <a:off x="4822920" y="888840"/>
            <a:ext cx="1325520" cy="325440"/>
            <a:chOff x="4822920" y="888840"/>
            <a:chExt cx="1325520" cy="325440"/>
          </a:xfrm>
        </p:grpSpPr>
        <p:grpSp>
          <p:nvGrpSpPr>
            <p:cNvPr id="224" name="Group 78"/>
            <p:cNvGrpSpPr/>
            <p:nvPr/>
          </p:nvGrpSpPr>
          <p:grpSpPr>
            <a:xfrm>
              <a:off x="4822920" y="889920"/>
              <a:ext cx="1325520" cy="324360"/>
              <a:chOff x="4822920" y="889920"/>
              <a:chExt cx="1325520" cy="324360"/>
            </a:xfrm>
          </p:grpSpPr>
          <p:sp>
            <p:nvSpPr>
              <p:cNvPr id="225" name="Oval 79"/>
              <p:cNvSpPr/>
              <p:nvPr/>
            </p:nvSpPr>
            <p:spPr>
              <a:xfrm>
                <a:off x="4822920" y="1133280"/>
                <a:ext cx="1325520" cy="81000"/>
              </a:xfrm>
              <a:prstGeom prst="ellipse">
                <a:avLst/>
              </a:prstGeom>
              <a:solidFill>
                <a:srgbClr val="ccccff"/>
              </a:solidFill>
              <a:ln w="324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rm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Freeform 80"/>
              <p:cNvSpPr/>
              <p:nvPr/>
            </p:nvSpPr>
            <p:spPr>
              <a:xfrm>
                <a:off x="4824360" y="930960"/>
                <a:ext cx="1324080" cy="2401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ccccff"/>
              </a:solidFill>
              <a:ln w="324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Oval 81"/>
              <p:cNvSpPr/>
              <p:nvPr/>
            </p:nvSpPr>
            <p:spPr>
              <a:xfrm>
                <a:off x="4822920" y="889920"/>
                <a:ext cx="1325520" cy="81000"/>
              </a:xfrm>
              <a:prstGeom prst="ellipse">
                <a:avLst/>
              </a:prstGeom>
              <a:solidFill>
                <a:srgbClr val="ccccff"/>
              </a:solidFill>
              <a:ln w="324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rm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8" name="Oval 82"/>
            <p:cNvSpPr/>
            <p:nvPr/>
          </p:nvSpPr>
          <p:spPr>
            <a:xfrm>
              <a:off x="4822920" y="1131840"/>
              <a:ext cx="1325520" cy="81000"/>
            </a:xfrm>
            <a:prstGeom prst="ellipse">
              <a:avLst/>
            </a:prstGeom>
            <a:solidFill>
              <a:srgbClr val="ccccff"/>
            </a:solidFill>
            <a:ln w="3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Freeform 83"/>
            <p:cNvSpPr/>
            <p:nvPr/>
          </p:nvSpPr>
          <p:spPr>
            <a:xfrm>
              <a:off x="4824360" y="929880"/>
              <a:ext cx="1324080" cy="241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Freeform 84"/>
            <p:cNvSpPr/>
            <p:nvPr/>
          </p:nvSpPr>
          <p:spPr>
            <a:xfrm>
              <a:off x="4832280" y="1135080"/>
              <a:ext cx="1309680" cy="37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649"/>
                  </a:lnTo>
                  <a:lnTo>
                    <a:pt x="0" y="19649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Rectangle 85"/>
            <p:cNvSpPr/>
            <p:nvPr/>
          </p:nvSpPr>
          <p:spPr>
            <a:xfrm>
              <a:off x="5165640" y="995040"/>
              <a:ext cx="639720" cy="187200"/>
            </a:xfrm>
            <a:prstGeom prst="rect">
              <a:avLst/>
            </a:prstGeom>
            <a:solidFill>
              <a:srgbClr val="ccccff"/>
            </a:solidFill>
            <a:ln w="0">
              <a:solidFill>
                <a:srgbClr val="cc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Dis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Freeform 86"/>
            <p:cNvSpPr/>
            <p:nvPr/>
          </p:nvSpPr>
          <p:spPr>
            <a:xfrm>
              <a:off x="4832280" y="923760"/>
              <a:ext cx="1309680" cy="44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701"/>
                  </a:lnTo>
                  <a:lnTo>
                    <a:pt x="0" y="19701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Oval 87"/>
            <p:cNvSpPr/>
            <p:nvPr/>
          </p:nvSpPr>
          <p:spPr>
            <a:xfrm>
              <a:off x="4822920" y="888840"/>
              <a:ext cx="1325520" cy="81000"/>
            </a:xfrm>
            <a:prstGeom prst="ellipse">
              <a:avLst/>
            </a:prstGeom>
            <a:solidFill>
              <a:srgbClr val="ccccff"/>
            </a:solidFill>
            <a:ln w="3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Rectangle 89"/>
          <p:cNvSpPr/>
          <p:nvPr/>
        </p:nvSpPr>
        <p:spPr>
          <a:xfrm>
            <a:off x="4805280" y="3124080"/>
            <a:ext cx="13255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Κύρια μνήμη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Group 90"/>
          <p:cNvGrpSpPr/>
          <p:nvPr/>
        </p:nvGrpSpPr>
        <p:grpSpPr>
          <a:xfrm>
            <a:off x="4840200" y="3465360"/>
            <a:ext cx="1327320" cy="1563840"/>
            <a:chOff x="4840200" y="3465360"/>
            <a:chExt cx="1327320" cy="1563840"/>
          </a:xfrm>
        </p:grpSpPr>
        <p:sp>
          <p:nvSpPr>
            <p:cNvPr id="236" name="Rectangle 91"/>
            <p:cNvSpPr/>
            <p:nvPr/>
          </p:nvSpPr>
          <p:spPr>
            <a:xfrm>
              <a:off x="5392800" y="4449600"/>
              <a:ext cx="149040" cy="426960"/>
            </a:xfrm>
            <a:prstGeom prst="rect">
              <a:avLst/>
            </a:prstGeom>
            <a:solidFill>
              <a:srgbClr val="ccc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7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Freeform 92"/>
            <p:cNvSpPr/>
            <p:nvPr/>
          </p:nvSpPr>
          <p:spPr>
            <a:xfrm>
              <a:off x="4840200" y="3465360"/>
              <a:ext cx="1316520" cy="1563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90"/>
                  </a:lnTo>
                  <a:lnTo>
                    <a:pt x="0" y="19990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Freeform 93"/>
            <p:cNvSpPr/>
            <p:nvPr/>
          </p:nvSpPr>
          <p:spPr>
            <a:xfrm>
              <a:off x="4843080" y="3466800"/>
              <a:ext cx="1324440" cy="193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16"/>
                  </a:lnTo>
                  <a:lnTo>
                    <a:pt x="0" y="19916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Freeform 94"/>
            <p:cNvSpPr/>
            <p:nvPr/>
          </p:nvSpPr>
          <p:spPr>
            <a:xfrm>
              <a:off x="4843080" y="3662280"/>
              <a:ext cx="1324440" cy="196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Freeform 95"/>
            <p:cNvSpPr/>
            <p:nvPr/>
          </p:nvSpPr>
          <p:spPr>
            <a:xfrm>
              <a:off x="4843080" y="3857400"/>
              <a:ext cx="1324440" cy="193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16"/>
                  </a:lnTo>
                  <a:lnTo>
                    <a:pt x="0" y="19916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Freeform 96"/>
            <p:cNvSpPr/>
            <p:nvPr/>
          </p:nvSpPr>
          <p:spPr>
            <a:xfrm>
              <a:off x="4843080" y="4051080"/>
              <a:ext cx="1324440" cy="195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16"/>
                  </a:lnTo>
                  <a:lnTo>
                    <a:pt x="0" y="19916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Freeform 97"/>
            <p:cNvSpPr/>
            <p:nvPr/>
          </p:nvSpPr>
          <p:spPr>
            <a:xfrm>
              <a:off x="4843080" y="4248000"/>
              <a:ext cx="1324440" cy="195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16"/>
                  </a:lnTo>
                  <a:lnTo>
                    <a:pt x="0" y="19916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Freeform 98"/>
            <p:cNvSpPr/>
            <p:nvPr/>
          </p:nvSpPr>
          <p:spPr>
            <a:xfrm>
              <a:off x="4843080" y="4443480"/>
              <a:ext cx="1324440" cy="390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58"/>
                  </a:lnTo>
                  <a:lnTo>
                    <a:pt x="0" y="19958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Freeform 99"/>
            <p:cNvSpPr/>
            <p:nvPr/>
          </p:nvSpPr>
          <p:spPr>
            <a:xfrm>
              <a:off x="4843080" y="4834080"/>
              <a:ext cx="1324440" cy="193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16"/>
                  </a:lnTo>
                  <a:lnTo>
                    <a:pt x="0" y="19916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Rectangle 100"/>
            <p:cNvSpPr/>
            <p:nvPr/>
          </p:nvSpPr>
          <p:spPr>
            <a:xfrm>
              <a:off x="5430960" y="4443480"/>
              <a:ext cx="147600" cy="423720"/>
            </a:xfrm>
            <a:prstGeom prst="rect">
              <a:avLst/>
            </a:prstGeom>
            <a:solidFill>
              <a:srgbClr val="ccc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7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" name="Rectangle 102"/>
          <p:cNvSpPr/>
          <p:nvPr/>
        </p:nvSpPr>
        <p:spPr>
          <a:xfrm>
            <a:off x="4805280" y="1371600"/>
            <a:ext cx="13255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Κύρια μνήμη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Group 103"/>
          <p:cNvGrpSpPr/>
          <p:nvPr/>
        </p:nvGrpSpPr>
        <p:grpSpPr>
          <a:xfrm>
            <a:off x="4840200" y="1674720"/>
            <a:ext cx="1327320" cy="1392480"/>
            <a:chOff x="4840200" y="1674720"/>
            <a:chExt cx="1327320" cy="1392480"/>
          </a:xfrm>
        </p:grpSpPr>
        <p:sp>
          <p:nvSpPr>
            <p:cNvPr id="248" name="Rectangle 104"/>
            <p:cNvSpPr/>
            <p:nvPr/>
          </p:nvSpPr>
          <p:spPr>
            <a:xfrm>
              <a:off x="5392800" y="2551320"/>
              <a:ext cx="149040" cy="379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6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Freeform 105"/>
            <p:cNvSpPr/>
            <p:nvPr/>
          </p:nvSpPr>
          <p:spPr>
            <a:xfrm>
              <a:off x="4840200" y="1674720"/>
              <a:ext cx="1316520" cy="1392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90"/>
                  </a:lnTo>
                  <a:lnTo>
                    <a:pt x="0" y="19990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c500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Freeform 106"/>
            <p:cNvSpPr/>
            <p:nvPr/>
          </p:nvSpPr>
          <p:spPr>
            <a:xfrm>
              <a:off x="4843080" y="1674720"/>
              <a:ext cx="1324440" cy="174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16"/>
                  </a:lnTo>
                  <a:lnTo>
                    <a:pt x="0" y="19916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Freeform 107"/>
            <p:cNvSpPr/>
            <p:nvPr/>
          </p:nvSpPr>
          <p:spPr>
            <a:xfrm>
              <a:off x="4843080" y="1850760"/>
              <a:ext cx="1324440" cy="174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Freeform 108"/>
            <p:cNvSpPr/>
            <p:nvPr/>
          </p:nvSpPr>
          <p:spPr>
            <a:xfrm>
              <a:off x="4843080" y="2023920"/>
              <a:ext cx="1324440" cy="172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16"/>
                  </a:lnTo>
                  <a:lnTo>
                    <a:pt x="0" y="19916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Freeform 109"/>
            <p:cNvSpPr/>
            <p:nvPr/>
          </p:nvSpPr>
          <p:spPr>
            <a:xfrm>
              <a:off x="4843080" y="2197080"/>
              <a:ext cx="1324440" cy="172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16"/>
                  </a:lnTo>
                  <a:lnTo>
                    <a:pt x="0" y="19916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Freeform 110"/>
            <p:cNvSpPr/>
            <p:nvPr/>
          </p:nvSpPr>
          <p:spPr>
            <a:xfrm>
              <a:off x="4843080" y="2371680"/>
              <a:ext cx="1324440" cy="172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16"/>
                  </a:lnTo>
                  <a:lnTo>
                    <a:pt x="0" y="19916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Freeform 111"/>
            <p:cNvSpPr/>
            <p:nvPr/>
          </p:nvSpPr>
          <p:spPr>
            <a:xfrm>
              <a:off x="4843080" y="2544840"/>
              <a:ext cx="1324440" cy="3477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58"/>
                  </a:lnTo>
                  <a:lnTo>
                    <a:pt x="0" y="19958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Freeform 112"/>
            <p:cNvSpPr/>
            <p:nvPr/>
          </p:nvSpPr>
          <p:spPr>
            <a:xfrm>
              <a:off x="4843080" y="2892600"/>
              <a:ext cx="1324440" cy="174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16"/>
                  </a:lnTo>
                  <a:lnTo>
                    <a:pt x="0" y="19916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Rectangle 113"/>
            <p:cNvSpPr/>
            <p:nvPr/>
          </p:nvSpPr>
          <p:spPr>
            <a:xfrm>
              <a:off x="5430960" y="2544840"/>
              <a:ext cx="147600" cy="377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6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8" name="Rectangle 115"/>
          <p:cNvSpPr/>
          <p:nvPr/>
        </p:nvSpPr>
        <p:spPr>
          <a:xfrm>
            <a:off x="4805280" y="5084640"/>
            <a:ext cx="13255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Κύρια μνήμη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Group 116"/>
          <p:cNvGrpSpPr/>
          <p:nvPr/>
        </p:nvGrpSpPr>
        <p:grpSpPr>
          <a:xfrm>
            <a:off x="4859280" y="5300640"/>
            <a:ext cx="1327320" cy="1414440"/>
            <a:chOff x="4859280" y="5300640"/>
            <a:chExt cx="1327320" cy="1414440"/>
          </a:xfrm>
        </p:grpSpPr>
        <p:sp>
          <p:nvSpPr>
            <p:cNvPr id="260" name="Rectangle 117"/>
            <p:cNvSpPr/>
            <p:nvPr/>
          </p:nvSpPr>
          <p:spPr>
            <a:xfrm>
              <a:off x="5411880" y="6191280"/>
              <a:ext cx="149040" cy="385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7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Freeform 118"/>
            <p:cNvSpPr/>
            <p:nvPr/>
          </p:nvSpPr>
          <p:spPr>
            <a:xfrm>
              <a:off x="4859280" y="5300640"/>
              <a:ext cx="1316520" cy="141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90"/>
                  </a:lnTo>
                  <a:lnTo>
                    <a:pt x="0" y="19990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c500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Freeform 119"/>
            <p:cNvSpPr/>
            <p:nvPr/>
          </p:nvSpPr>
          <p:spPr>
            <a:xfrm>
              <a:off x="4862160" y="5300640"/>
              <a:ext cx="1324440" cy="177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16"/>
                  </a:lnTo>
                  <a:lnTo>
                    <a:pt x="0" y="19916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Freeform 120"/>
            <p:cNvSpPr/>
            <p:nvPr/>
          </p:nvSpPr>
          <p:spPr>
            <a:xfrm>
              <a:off x="4862160" y="5478480"/>
              <a:ext cx="1324440" cy="177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Freeform 121"/>
            <p:cNvSpPr/>
            <p:nvPr/>
          </p:nvSpPr>
          <p:spPr>
            <a:xfrm>
              <a:off x="4862160" y="5654520"/>
              <a:ext cx="1324440" cy="176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16"/>
                  </a:lnTo>
                  <a:lnTo>
                    <a:pt x="0" y="19916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Freeform 122"/>
            <p:cNvSpPr/>
            <p:nvPr/>
          </p:nvSpPr>
          <p:spPr>
            <a:xfrm>
              <a:off x="4862160" y="5832360"/>
              <a:ext cx="1324440" cy="176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16"/>
                  </a:lnTo>
                  <a:lnTo>
                    <a:pt x="0" y="19916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Freeform 123"/>
            <p:cNvSpPr/>
            <p:nvPr/>
          </p:nvSpPr>
          <p:spPr>
            <a:xfrm>
              <a:off x="4862160" y="6008760"/>
              <a:ext cx="1324440" cy="176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16"/>
                  </a:lnTo>
                  <a:lnTo>
                    <a:pt x="0" y="19916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Freeform 124"/>
            <p:cNvSpPr/>
            <p:nvPr/>
          </p:nvSpPr>
          <p:spPr>
            <a:xfrm>
              <a:off x="4862160" y="6184800"/>
              <a:ext cx="1324440" cy="353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58"/>
                  </a:lnTo>
                  <a:lnTo>
                    <a:pt x="0" y="19958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Freeform 125"/>
            <p:cNvSpPr/>
            <p:nvPr/>
          </p:nvSpPr>
          <p:spPr>
            <a:xfrm>
              <a:off x="4862160" y="6537240"/>
              <a:ext cx="1324440" cy="177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16"/>
                  </a:lnTo>
                  <a:lnTo>
                    <a:pt x="0" y="19916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Rectangle 126"/>
            <p:cNvSpPr/>
            <p:nvPr/>
          </p:nvSpPr>
          <p:spPr>
            <a:xfrm>
              <a:off x="5450040" y="6184800"/>
              <a:ext cx="147600" cy="384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7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Group 127"/>
          <p:cNvGrpSpPr/>
          <p:nvPr/>
        </p:nvGrpSpPr>
        <p:grpSpPr>
          <a:xfrm>
            <a:off x="1752480" y="3308400"/>
            <a:ext cx="2108160" cy="480960"/>
            <a:chOff x="1752480" y="3308400"/>
            <a:chExt cx="2108160" cy="480960"/>
          </a:xfrm>
        </p:grpSpPr>
        <p:sp>
          <p:nvSpPr>
            <p:cNvPr id="271" name="Freeform 128"/>
            <p:cNvSpPr/>
            <p:nvPr/>
          </p:nvSpPr>
          <p:spPr>
            <a:xfrm>
              <a:off x="1752480" y="3308400"/>
              <a:ext cx="210816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c500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Freeform 129"/>
            <p:cNvSpPr/>
            <p:nvPr/>
          </p:nvSpPr>
          <p:spPr>
            <a:xfrm>
              <a:off x="1752480" y="3308400"/>
              <a:ext cx="210816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Rectangle 130"/>
            <p:cNvSpPr/>
            <p:nvPr/>
          </p:nvSpPr>
          <p:spPr>
            <a:xfrm>
              <a:off x="1755360" y="3486240"/>
              <a:ext cx="2100600" cy="1620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Bytecode Verifi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" name="Group 131"/>
          <p:cNvGrpSpPr/>
          <p:nvPr/>
        </p:nvGrpSpPr>
        <p:grpSpPr>
          <a:xfrm>
            <a:off x="1798560" y="4984920"/>
            <a:ext cx="2062080" cy="479160"/>
            <a:chOff x="1798560" y="4984920"/>
            <a:chExt cx="2062080" cy="479160"/>
          </a:xfrm>
        </p:grpSpPr>
        <p:sp>
          <p:nvSpPr>
            <p:cNvPr id="275" name="Freeform 132"/>
            <p:cNvSpPr/>
            <p:nvPr/>
          </p:nvSpPr>
          <p:spPr>
            <a:xfrm>
              <a:off x="1798560" y="4984920"/>
              <a:ext cx="2062080" cy="47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c500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Freeform 133"/>
            <p:cNvSpPr/>
            <p:nvPr/>
          </p:nvSpPr>
          <p:spPr>
            <a:xfrm>
              <a:off x="1798560" y="4984920"/>
              <a:ext cx="2062080" cy="47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Rectangle 134"/>
            <p:cNvSpPr/>
            <p:nvPr/>
          </p:nvSpPr>
          <p:spPr>
            <a:xfrm>
              <a:off x="2155680" y="5162400"/>
              <a:ext cx="1346040" cy="160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Interpret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3300"/>
                </a:solidFill>
                <a:latin typeface="AvantGarde"/>
              </a:rPr>
              <a:t>Εγκατάσταση </a:t>
            </a: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BlueJ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ρχείο εγκατάστασης από τη σελίδ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l-GR" sz="28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bluej.org/download/downloa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νάλογα με το λειτουργικό σύστημα που έχουμε στον υπολογιστή μας κατεβάζουμε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ρέπει να έχουμε στον υπολογιστή μας πλατφόρμ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 u="sng">
                <a:solidFill>
                  <a:srgbClr val="3333cc"/>
                </a:solidFill>
                <a:uFillTx/>
                <a:latin typeface="Times New Roman"/>
              </a:rPr>
              <a:t>https://www.java.com/en/download/manual.jsp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κτελούμε τα βήματα της εγκατάστασης το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J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και δημιουργείται το εικονίδιο εκκίνησης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4" descr="bluej-icon"/>
          <p:cNvPicPr/>
          <p:nvPr/>
        </p:nvPicPr>
        <p:blipFill>
          <a:blip r:embed="rId1"/>
          <a:stretch/>
        </p:blipFill>
        <p:spPr>
          <a:xfrm>
            <a:off x="5867280" y="6165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about-logo"/>
          <p:cNvPicPr/>
          <p:nvPr/>
        </p:nvPicPr>
        <p:blipFill>
          <a:blip r:embed="rId2"/>
          <a:stretch/>
        </p:blipFill>
        <p:spPr>
          <a:xfrm>
            <a:off x="7020000" y="333360"/>
            <a:ext cx="143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3300"/>
                </a:solidFill>
                <a:latin typeface="AvantGarde"/>
              </a:rPr>
              <a:t>Ένα πολύ απλό παράδειγμα σε </a:t>
            </a: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java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42920" y="1219320"/>
            <a:ext cx="6981840" cy="30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public class myHe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public static void main() throws IOExcep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System.out.println("Hello planet!!"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684360" y="4503600"/>
            <a:ext cx="302400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1) edit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2) compil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3) ru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4356000" y="4581360"/>
            <a:ext cx="446400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Ας δούμε τι κάνει το άνω πρόγραμμα με την βοήθεια του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MS PGothic"/>
              </a:rPr>
              <a:t>Blue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.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AutoShape 2"/>
          <p:cNvSpPr/>
          <p:nvPr/>
        </p:nvSpPr>
        <p:spPr>
          <a:xfrm>
            <a:off x="1987560" y="1758960"/>
            <a:ext cx="1816200" cy="596880"/>
          </a:xfrm>
          <a:prstGeom prst="roundRect">
            <a:avLst>
              <a:gd name="adj" fmla="val 37495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MS PGothic"/>
              </a:rPr>
              <a:t>μετάφρασ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3300"/>
                </a:solidFill>
                <a:latin typeface="AvantGarde"/>
              </a:rPr>
              <a:t>Μεταγλώττιση </a:t>
            </a:r>
            <a:r>
              <a:rPr b="0" lang="el-GR" sz="1800" spc="-1" strike="noStrike">
                <a:solidFill>
                  <a:srgbClr val="ff3300"/>
                </a:solidFill>
                <a:latin typeface="AvantGarde"/>
              </a:rPr>
              <a:t>(</a:t>
            </a:r>
            <a:r>
              <a:rPr b="0" lang="en-AU" sz="1800" spc="-1" strike="noStrike">
                <a:solidFill>
                  <a:srgbClr val="ff3300"/>
                </a:solidFill>
                <a:latin typeface="AvantGarde"/>
              </a:rPr>
              <a:t>Compilation</a:t>
            </a:r>
            <a:r>
              <a:rPr b="0" lang="el-GR" sz="1800" spc="-1" strike="noStrike">
                <a:solidFill>
                  <a:srgbClr val="ff3300"/>
                </a:solidFill>
                <a:latin typeface="AvantGarde"/>
              </a:rPr>
              <a:t>)</a:t>
            </a:r>
            <a:endParaRPr b="0" lang="en-US" sz="1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288" name="Group 4"/>
          <p:cNvGrpSpPr/>
          <p:nvPr/>
        </p:nvGrpSpPr>
        <p:grpSpPr>
          <a:xfrm>
            <a:off x="692280" y="2597040"/>
            <a:ext cx="1511280" cy="2197080"/>
            <a:chOff x="692280" y="2597040"/>
            <a:chExt cx="1511280" cy="2197080"/>
          </a:xfrm>
        </p:grpSpPr>
        <p:sp>
          <p:nvSpPr>
            <p:cNvPr id="289" name="Rectangle 5"/>
            <p:cNvSpPr/>
            <p:nvPr/>
          </p:nvSpPr>
          <p:spPr>
            <a:xfrm>
              <a:off x="692280" y="2597040"/>
              <a:ext cx="1511280" cy="2197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Line 6"/>
            <p:cNvSpPr/>
            <p:nvPr/>
          </p:nvSpPr>
          <p:spPr>
            <a:xfrm>
              <a:off x="927000" y="3048120"/>
              <a:ext cx="88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Line 7"/>
            <p:cNvSpPr/>
            <p:nvPr/>
          </p:nvSpPr>
          <p:spPr>
            <a:xfrm>
              <a:off x="927000" y="3276720"/>
              <a:ext cx="88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Line 8"/>
            <p:cNvSpPr/>
            <p:nvPr/>
          </p:nvSpPr>
          <p:spPr>
            <a:xfrm>
              <a:off x="927000" y="3505320"/>
              <a:ext cx="88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Line 9"/>
            <p:cNvSpPr/>
            <p:nvPr/>
          </p:nvSpPr>
          <p:spPr>
            <a:xfrm>
              <a:off x="927000" y="3733920"/>
              <a:ext cx="88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Line 10"/>
            <p:cNvSpPr/>
            <p:nvPr/>
          </p:nvSpPr>
          <p:spPr>
            <a:xfrm>
              <a:off x="927000" y="3962520"/>
              <a:ext cx="88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Line 11"/>
            <p:cNvSpPr/>
            <p:nvPr/>
          </p:nvSpPr>
          <p:spPr>
            <a:xfrm>
              <a:off x="927000" y="4191120"/>
              <a:ext cx="88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6" name="Group 12"/>
          <p:cNvGrpSpPr/>
          <p:nvPr/>
        </p:nvGrpSpPr>
        <p:grpSpPr>
          <a:xfrm>
            <a:off x="3511440" y="2597040"/>
            <a:ext cx="1511280" cy="2197080"/>
            <a:chOff x="3511440" y="2597040"/>
            <a:chExt cx="1511280" cy="2197080"/>
          </a:xfrm>
        </p:grpSpPr>
        <p:sp>
          <p:nvSpPr>
            <p:cNvPr id="297" name="Rectangle 13"/>
            <p:cNvSpPr/>
            <p:nvPr/>
          </p:nvSpPr>
          <p:spPr>
            <a:xfrm>
              <a:off x="3511440" y="2597040"/>
              <a:ext cx="1511280" cy="2197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8" name="Group 14"/>
            <p:cNvGrpSpPr/>
            <p:nvPr/>
          </p:nvGrpSpPr>
          <p:grpSpPr>
            <a:xfrm>
              <a:off x="3787920" y="2867040"/>
              <a:ext cx="967680" cy="1506240"/>
              <a:chOff x="3787920" y="2867040"/>
              <a:chExt cx="967680" cy="1506240"/>
            </a:xfrm>
          </p:grpSpPr>
          <p:sp>
            <p:nvSpPr>
              <p:cNvPr id="299" name="Rectangle 15"/>
              <p:cNvSpPr/>
              <p:nvPr/>
            </p:nvSpPr>
            <p:spPr>
              <a:xfrm>
                <a:off x="3787920" y="2867040"/>
                <a:ext cx="967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800" spc="-1" strike="noStrike">
                    <a:solidFill>
                      <a:srgbClr val="000000"/>
                    </a:solidFill>
                    <a:latin typeface="Geneva"/>
                    <a:ea typeface="MS PGothic"/>
                  </a:rPr>
                  <a:t>01010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Rectangle 16"/>
              <p:cNvSpPr/>
              <p:nvPr/>
            </p:nvSpPr>
            <p:spPr>
              <a:xfrm>
                <a:off x="3787920" y="3095640"/>
                <a:ext cx="967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800" spc="-1" strike="noStrike">
                    <a:solidFill>
                      <a:srgbClr val="000000"/>
                    </a:solidFill>
                    <a:latin typeface="Geneva"/>
                    <a:ea typeface="MS PGothic"/>
                  </a:rPr>
                  <a:t>01010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Rectangle 17"/>
              <p:cNvSpPr/>
              <p:nvPr/>
            </p:nvSpPr>
            <p:spPr>
              <a:xfrm>
                <a:off x="3787920" y="3324240"/>
                <a:ext cx="967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800" spc="-1" strike="noStrike">
                    <a:solidFill>
                      <a:srgbClr val="000000"/>
                    </a:solidFill>
                    <a:latin typeface="Geneva"/>
                    <a:ea typeface="MS PGothic"/>
                  </a:rPr>
                  <a:t>01010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Rectangle 18"/>
              <p:cNvSpPr/>
              <p:nvPr/>
            </p:nvSpPr>
            <p:spPr>
              <a:xfrm>
                <a:off x="3787920" y="3552840"/>
                <a:ext cx="967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800" spc="-1" strike="noStrike">
                    <a:solidFill>
                      <a:srgbClr val="000000"/>
                    </a:solidFill>
                    <a:latin typeface="Geneva"/>
                    <a:ea typeface="MS PGothic"/>
                  </a:rPr>
                  <a:t>01010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Rectangle 19"/>
              <p:cNvSpPr/>
              <p:nvPr/>
            </p:nvSpPr>
            <p:spPr>
              <a:xfrm>
                <a:off x="3787920" y="3781440"/>
                <a:ext cx="967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800" spc="-1" strike="noStrike">
                    <a:solidFill>
                      <a:srgbClr val="000000"/>
                    </a:solidFill>
                    <a:latin typeface="Geneva"/>
                    <a:ea typeface="MS PGothic"/>
                  </a:rPr>
                  <a:t>01010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Rectangle 20"/>
              <p:cNvSpPr/>
              <p:nvPr/>
            </p:nvSpPr>
            <p:spPr>
              <a:xfrm>
                <a:off x="3787920" y="4010040"/>
                <a:ext cx="967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800" spc="-1" strike="noStrike">
                    <a:solidFill>
                      <a:srgbClr val="000000"/>
                    </a:solidFill>
                    <a:latin typeface="Geneva"/>
                    <a:ea typeface="MS PGothic"/>
                  </a:rPr>
                  <a:t>01010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5" name="Group 21"/>
          <p:cNvGrpSpPr/>
          <p:nvPr/>
        </p:nvGrpSpPr>
        <p:grpSpPr>
          <a:xfrm>
            <a:off x="6330960" y="2521080"/>
            <a:ext cx="2273400" cy="3187440"/>
            <a:chOff x="6330960" y="2521080"/>
            <a:chExt cx="2273400" cy="3187440"/>
          </a:xfrm>
        </p:grpSpPr>
        <p:sp>
          <p:nvSpPr>
            <p:cNvPr id="306" name="Rectangle 22"/>
            <p:cNvSpPr/>
            <p:nvPr/>
          </p:nvSpPr>
          <p:spPr>
            <a:xfrm>
              <a:off x="6330960" y="2521080"/>
              <a:ext cx="2273400" cy="31874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Rectangle 23"/>
            <p:cNvSpPr/>
            <p:nvPr/>
          </p:nvSpPr>
          <p:spPr>
            <a:xfrm>
              <a:off x="6561000" y="2728800"/>
              <a:ext cx="1128960" cy="2772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8" name="Group 24"/>
            <p:cNvGrpSpPr/>
            <p:nvPr/>
          </p:nvGrpSpPr>
          <p:grpSpPr>
            <a:xfrm>
              <a:off x="6593040" y="2901960"/>
              <a:ext cx="967680" cy="1406160"/>
              <a:chOff x="6593040" y="2901960"/>
              <a:chExt cx="967680" cy="1406160"/>
            </a:xfrm>
          </p:grpSpPr>
          <p:sp>
            <p:nvSpPr>
              <p:cNvPr id="309" name="Rectangle 25"/>
              <p:cNvSpPr/>
              <p:nvPr/>
            </p:nvSpPr>
            <p:spPr>
              <a:xfrm>
                <a:off x="6593040" y="2901960"/>
                <a:ext cx="967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800" spc="-1" strike="noStrike">
                    <a:solidFill>
                      <a:srgbClr val="000000"/>
                    </a:solidFill>
                    <a:latin typeface="Geneva"/>
                    <a:ea typeface="MS PGothic"/>
                  </a:rPr>
                  <a:t>01010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Rectangle 26"/>
              <p:cNvSpPr/>
              <p:nvPr/>
            </p:nvSpPr>
            <p:spPr>
              <a:xfrm>
                <a:off x="6593040" y="3110040"/>
                <a:ext cx="967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800" spc="-1" strike="noStrike">
                    <a:solidFill>
                      <a:srgbClr val="000000"/>
                    </a:solidFill>
                    <a:latin typeface="Geneva"/>
                    <a:ea typeface="MS PGothic"/>
                  </a:rPr>
                  <a:t>01010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Rectangle 27"/>
              <p:cNvSpPr/>
              <p:nvPr/>
            </p:nvSpPr>
            <p:spPr>
              <a:xfrm>
                <a:off x="6593040" y="3319560"/>
                <a:ext cx="967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800" spc="-1" strike="noStrike">
                    <a:solidFill>
                      <a:srgbClr val="000000"/>
                    </a:solidFill>
                    <a:latin typeface="Geneva"/>
                    <a:ea typeface="MS PGothic"/>
                  </a:rPr>
                  <a:t>01010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Rectangle 28"/>
              <p:cNvSpPr/>
              <p:nvPr/>
            </p:nvSpPr>
            <p:spPr>
              <a:xfrm>
                <a:off x="6593040" y="3527280"/>
                <a:ext cx="967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800" spc="-1" strike="noStrike">
                    <a:solidFill>
                      <a:srgbClr val="000000"/>
                    </a:solidFill>
                    <a:latin typeface="Geneva"/>
                    <a:ea typeface="MS PGothic"/>
                  </a:rPr>
                  <a:t>01010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Rectangle 29"/>
              <p:cNvSpPr/>
              <p:nvPr/>
            </p:nvSpPr>
            <p:spPr>
              <a:xfrm>
                <a:off x="6593040" y="3736800"/>
                <a:ext cx="967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800" spc="-1" strike="noStrike">
                    <a:solidFill>
                      <a:srgbClr val="000000"/>
                    </a:solidFill>
                    <a:latin typeface="Geneva"/>
                    <a:ea typeface="MS PGothic"/>
                  </a:rPr>
                  <a:t>01010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Rectangle 30"/>
              <p:cNvSpPr/>
              <p:nvPr/>
            </p:nvSpPr>
            <p:spPr>
              <a:xfrm>
                <a:off x="6593040" y="3944880"/>
                <a:ext cx="967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800" spc="-1" strike="noStrike">
                    <a:solidFill>
                      <a:srgbClr val="000000"/>
                    </a:solidFill>
                    <a:latin typeface="Geneva"/>
                    <a:ea typeface="MS PGothic"/>
                  </a:rPr>
                  <a:t>01010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5" name="Rectangle 31"/>
            <p:cNvSpPr/>
            <p:nvPr/>
          </p:nvSpPr>
          <p:spPr>
            <a:xfrm>
              <a:off x="7854840" y="2728800"/>
              <a:ext cx="595440" cy="4748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6" name="Rectangle 32"/>
          <p:cNvSpPr/>
          <p:nvPr/>
        </p:nvSpPr>
        <p:spPr>
          <a:xfrm>
            <a:off x="547560" y="4902120"/>
            <a:ext cx="189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MS PGothic"/>
              </a:rPr>
              <a:t>Πηγαίος κώδικα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Rectangle 33"/>
          <p:cNvSpPr/>
          <p:nvPr/>
        </p:nvSpPr>
        <p:spPr>
          <a:xfrm>
            <a:off x="3286080" y="4902120"/>
            <a:ext cx="1970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MS PGothic"/>
              </a:rPr>
              <a:t>Κώδικας μηχανή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34"/>
          <p:cNvSpPr/>
          <p:nvPr/>
        </p:nvSpPr>
        <p:spPr>
          <a:xfrm>
            <a:off x="6762240" y="5846760"/>
            <a:ext cx="1463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MS PGothic"/>
              </a:rPr>
              <a:t>υπολογιστή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AutoShape 35"/>
          <p:cNvSpPr/>
          <p:nvPr/>
        </p:nvSpPr>
        <p:spPr>
          <a:xfrm>
            <a:off x="2368440" y="3359160"/>
            <a:ext cx="978120" cy="596880"/>
          </a:xfrm>
          <a:prstGeom prst="rightArrow">
            <a:avLst>
              <a:gd name="adj1" fmla="val 50000"/>
              <a:gd name="adj2" fmla="val 81944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AutoShape 36"/>
          <p:cNvSpPr/>
          <p:nvPr/>
        </p:nvSpPr>
        <p:spPr>
          <a:xfrm>
            <a:off x="5187960" y="3359160"/>
            <a:ext cx="977760" cy="596880"/>
          </a:xfrm>
          <a:prstGeom prst="rightArrow">
            <a:avLst>
              <a:gd name="adj1" fmla="val 50000"/>
              <a:gd name="adj2" fmla="val 81913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AutoShape 37"/>
          <p:cNvSpPr/>
          <p:nvPr/>
        </p:nvSpPr>
        <p:spPr>
          <a:xfrm>
            <a:off x="4724280" y="1765440"/>
            <a:ext cx="1816200" cy="596880"/>
          </a:xfrm>
          <a:prstGeom prst="roundRect">
            <a:avLst>
              <a:gd name="adj" fmla="val 37495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MS PGothic"/>
              </a:rPr>
              <a:t>εκτέλεσ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4360" y="1666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0"/>
                </a:solidFill>
                <a:latin typeface="Arial"/>
              </a:rPr>
              <a:t> </a:t>
            </a:r>
            <a:r>
              <a:rPr b="1" lang="el-GR" sz="2000" spc="-1" strike="noStrike">
                <a:solidFill>
                  <a:srgbClr val="000090"/>
                </a:solidFill>
                <a:latin typeface="Arial"/>
              </a:rPr>
              <a:t>Τοπικές Μεταβλητέ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"/>
          <p:cNvSpPr/>
          <p:nvPr/>
        </p:nvSpPr>
        <p:spPr>
          <a:xfrm>
            <a:off x="1429920" y="789120"/>
            <a:ext cx="56268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mport java.util.Scanner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blic class Addi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blic static void main (String[ ] arg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canner input = new Scanner( System.in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nt number1, number2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nt sum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ystem.out.print(“Enter first number: 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umber1 = input.nextInt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ystem.out.print(“Enter second number: 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umber2 = input.nextInt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um = number1+number2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ystem.out.printf(“The sum is %d\n", sum);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4360" y="1666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0"/>
                </a:solidFill>
                <a:latin typeface="Arial"/>
              </a:rPr>
              <a:t> </a:t>
            </a:r>
            <a:r>
              <a:rPr b="1" lang="el-GR" sz="2000" spc="-1" strike="noStrike">
                <a:solidFill>
                  <a:srgbClr val="000090"/>
                </a:solidFill>
                <a:latin typeface="Arial"/>
              </a:rPr>
              <a:t>Παρατηρήσει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360360" y="930240"/>
            <a:ext cx="845964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Η </a:t>
            </a: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Scann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είναι μια κλάση του πακέτου </a:t>
            </a: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java.ut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,  και αποτελεί τμήμα της Java clas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brary ή Java Application Programming Interface (Java API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Η εντολή </a:t>
            </a: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εισάγει την κλάση </a:t>
            </a: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Scann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στο πρόγραμμα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Η εντολή </a:t>
            </a: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Scanner input = new Scanner( System.in )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διεκπεραιώνει δύο ενέργειε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)   Δηλώνει πως η μεταβλητή </a:t>
            </a: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είναι τύπου Scanner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)  Δημιουργεί (μέσω της </a:t>
            </a: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ένα νέο αντικείμενο της κλάσης </a:t>
            </a: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Scann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και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καταχωρεί στην μεταβλητή </a:t>
            </a: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Το αντικείμενο αυτό είναι κατάλληλο για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ανάγνωση από το πληκτρολόγιο (το </a:t>
            </a: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System.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είναι το standard input object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  Μεταβλητές τύπου int παίρνουν ακέραιες τιμές από -2,147,483,648 έως +2,147,483,64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  Το πακέτο java.lang περιέχει κλάσεις όπως η System που εντάσσονται αυτόματα σ' ένα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πρόγραμμα ακόμα και χωρίς την εντολή </a:t>
            </a:r>
            <a:r>
              <a:rPr b="0" lang="en-US" sz="1600" spc="-1" strike="noStrike">
                <a:solidFill>
                  <a:srgbClr val="000080"/>
                </a:solidFill>
                <a:latin typeface="Arial"/>
                <a:ea typeface="Arial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   Με το </a:t>
            </a:r>
            <a:r>
              <a:rPr b="0" lang="en-US" sz="1600" spc="-1" strike="noStrike">
                <a:solidFill>
                  <a:srgbClr val="000080"/>
                </a:solidFill>
                <a:latin typeface="Arial"/>
                <a:ea typeface="Arial"/>
              </a:rPr>
              <a:t>%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στην </a:t>
            </a:r>
            <a:r>
              <a:rPr b="0" lang="en-US" sz="1600" spc="-1" strike="noStrike">
                <a:solidFill>
                  <a:srgbClr val="000080"/>
                </a:solidFill>
                <a:latin typeface="Arial"/>
                <a:ea typeface="Arial"/>
              </a:rPr>
              <a:t>print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δηλώνουμε πως στην συγκεκριμένη θέση θα εκτυπωθεί ακέραιο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"/>
          <p:cNvSpPr/>
          <p:nvPr/>
        </p:nvSpPr>
        <p:spPr>
          <a:xfrm>
            <a:off x="5219640" y="1484280"/>
            <a:ext cx="297180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7240" y="1792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0"/>
                </a:solidFill>
                <a:latin typeface="Arial"/>
              </a:rPr>
              <a:t>Μεταβλητές και Μνήμ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684360" y="1484280"/>
            <a:ext cx="4106880" cy="31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Μια εντολή καταχώρησης καταχωρεί </a:t>
            </a:r>
            <a:r>
              <a:rPr b="0" i="1" lang="el-GR" sz="1600" spc="-1" strike="noStrike" u="sng">
                <a:solidFill>
                  <a:srgbClr val="000000"/>
                </a:solidFill>
                <a:uFillTx/>
                <a:latin typeface="Arial"/>
              </a:rPr>
              <a:t>μια τιμή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σε μια μεταβλητή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600"/>
            </a:b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Παραδείγματα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r>
              <a:rPr b="0" lang="en-AU" sz="1600" spc="-1" strike="noStrike">
                <a:solidFill>
                  <a:srgbClr val="000080"/>
                </a:solidFill>
                <a:latin typeface="Arial"/>
                <a:ea typeface="Arial"/>
              </a:rPr>
              <a:t>  </a:t>
            </a:r>
            <a:r>
              <a:rPr b="0" lang="en-AU" sz="1600" spc="-1" strike="noStrike">
                <a:solidFill>
                  <a:srgbClr val="000080"/>
                </a:solidFill>
                <a:latin typeface="Arial"/>
                <a:ea typeface="Arial"/>
              </a:rPr>
              <a:t>int </a:t>
            </a:r>
            <a:r>
              <a:rPr b="0" lang="en-AU" sz="1600" spc="-1" strike="noStrike">
                <a:solidFill>
                  <a:srgbClr val="000080"/>
                </a:solidFill>
                <a:latin typeface="Arial"/>
                <a:ea typeface="Arial"/>
              </a:rPr>
              <a:t>	</a:t>
            </a:r>
            <a:r>
              <a:rPr b="0" lang="en-AU" sz="1600" spc="-1" strike="noStrike">
                <a:solidFill>
                  <a:srgbClr val="000080"/>
                </a:solidFill>
                <a:latin typeface="Arial"/>
                <a:ea typeface="Arial"/>
              </a:rPr>
              <a:t>numberOfSeats, year=5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80"/>
                </a:solidFill>
                <a:latin typeface="Arial"/>
                <a:ea typeface="Arial"/>
              </a:rPr>
              <a:t>   </a:t>
            </a:r>
            <a:r>
              <a:rPr b="0" lang="en-AU" sz="1600" spc="-1" strike="noStrike">
                <a:solidFill>
                  <a:srgbClr val="000080"/>
                </a:solidFill>
                <a:latin typeface="Arial"/>
                <a:ea typeface="Arial"/>
              </a:rPr>
              <a:t>String nam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80"/>
                </a:solidFill>
                <a:latin typeface="Arial"/>
                <a:ea typeface="Arial"/>
              </a:rPr>
              <a:t>   </a:t>
            </a:r>
            <a:r>
              <a:rPr b="0" lang="en-AU" sz="1600" spc="-1" strike="noStrike">
                <a:solidFill>
                  <a:srgbClr val="000080"/>
                </a:solidFill>
                <a:latin typeface="Arial"/>
                <a:ea typeface="Arial"/>
              </a:rPr>
              <a:t>numberOfSeats = 4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80"/>
                </a:solidFill>
                <a:latin typeface="Arial"/>
                <a:ea typeface="Arial"/>
              </a:rPr>
              <a:t>   </a:t>
            </a:r>
            <a:r>
              <a:rPr b="0" lang="en-AU" sz="1600" spc="-1" strike="noStrike">
                <a:solidFill>
                  <a:srgbClr val="000080"/>
                </a:solidFill>
                <a:latin typeface="Arial"/>
                <a:ea typeface="Arial"/>
              </a:rPr>
              <a:t>name = “Homer”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80"/>
                </a:solidFill>
                <a:latin typeface="Arial"/>
                <a:ea typeface="Arial"/>
              </a:rPr>
              <a:t>   </a:t>
            </a:r>
            <a:r>
              <a:rPr b="0" lang="en-AU" sz="1600" spc="-1" strike="noStrike">
                <a:solidFill>
                  <a:srgbClr val="000080"/>
                </a:solidFill>
                <a:latin typeface="Arial"/>
                <a:ea typeface="Arial"/>
              </a:rPr>
              <a:t>year = year+2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5580360" y="1773360"/>
            <a:ext cx="148752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80"/>
                </a:solidFill>
                <a:latin typeface="Arial"/>
              </a:rPr>
              <a:t>int siz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80"/>
                </a:solidFill>
                <a:latin typeface="Arial"/>
              </a:rPr>
              <a:t>size = 55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80"/>
                </a:solidFill>
                <a:latin typeface="Arial"/>
              </a:rPr>
              <a:t>size = size - 5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6883200" y="4940280"/>
            <a:ext cx="51984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50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7433640" y="4948200"/>
            <a:ext cx="544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7"/>
          <p:cNvSpPr/>
          <p:nvPr/>
        </p:nvSpPr>
        <p:spPr>
          <a:xfrm>
            <a:off x="6900480" y="2359080"/>
            <a:ext cx="51984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0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 Box 8"/>
          <p:cNvSpPr/>
          <p:nvPr/>
        </p:nvSpPr>
        <p:spPr>
          <a:xfrm>
            <a:off x="7449480" y="2367000"/>
            <a:ext cx="544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 Box 9"/>
          <p:cNvSpPr/>
          <p:nvPr/>
        </p:nvSpPr>
        <p:spPr>
          <a:xfrm>
            <a:off x="6899040" y="3654360"/>
            <a:ext cx="51984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55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7449480" y="3662280"/>
            <a:ext cx="544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Εντολή </a:t>
            </a:r>
            <a:r>
              <a:rPr b="1" i="1" lang="en-GB" sz="2000" spc="-1" strike="noStrike">
                <a:solidFill>
                  <a:srgbClr val="000099"/>
                </a:solidFill>
                <a:latin typeface="Arial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"/>
          <p:cNvSpPr/>
          <p:nvPr/>
        </p:nvSpPr>
        <p:spPr>
          <a:xfrm>
            <a:off x="971640" y="1754280"/>
            <a:ext cx="7143840" cy="50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 java.util.Scanner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ublic class controlState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nner input = new Scanner( System.in );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t x, y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(“Enter first number: 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= input.nextInt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y = x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AU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ff0000"/>
                </a:solidFill>
                <a:latin typeface="Arial"/>
              </a:rPr>
              <a:t>if (x &lt; 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en-AU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ff0000"/>
                </a:solidFill>
                <a:latin typeface="Arial"/>
              </a:rPr>
              <a:t>y = -x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ystem.out.println("Absolute value = " + y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95280" y="907920"/>
            <a:ext cx="84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1600" spc="-1" strike="noStrike" u="sng">
                <a:solidFill>
                  <a:srgbClr val="000099"/>
                </a:solidFill>
                <a:uFillTx/>
                <a:latin typeface="Arial"/>
              </a:rPr>
              <a:t>Άσκηση</a:t>
            </a:r>
            <a:r>
              <a:rPr b="0" lang="en-GB" sz="1600" spc="-1" strike="noStrike" u="sng">
                <a:solidFill>
                  <a:srgbClr val="000099"/>
                </a:solidFill>
                <a:uFillTx/>
                <a:latin typeface="Arial"/>
              </a:rPr>
              <a:t>: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Να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γραφεί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εφαρμογή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Java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δέχεται ως είσοδο έναν ακέραιο και εκτυπώνει την απόλυτη τιμή του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Ροή Προγράμματο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2"/>
          <p:cNvGrpSpPr/>
          <p:nvPr/>
        </p:nvGrpSpPr>
        <p:grpSpPr>
          <a:xfrm>
            <a:off x="2500560" y="1152360"/>
            <a:ext cx="4046760" cy="2394720"/>
            <a:chOff x="2500560" y="1152360"/>
            <a:chExt cx="4046760" cy="2394720"/>
          </a:xfrm>
        </p:grpSpPr>
        <p:sp>
          <p:nvSpPr>
            <p:cNvPr id="341" name="Text Box 3"/>
            <p:cNvSpPr/>
            <p:nvPr/>
          </p:nvSpPr>
          <p:spPr>
            <a:xfrm>
              <a:off x="4024800" y="1152360"/>
              <a:ext cx="61524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y = x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AutoShape 4"/>
            <p:cNvSpPr/>
            <p:nvPr/>
          </p:nvSpPr>
          <p:spPr>
            <a:xfrm>
              <a:off x="3686040" y="1900080"/>
              <a:ext cx="1370160" cy="68436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Text Box 5"/>
            <p:cNvSpPr/>
            <p:nvPr/>
          </p:nvSpPr>
          <p:spPr>
            <a:xfrm>
              <a:off x="4093920" y="208908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x &lt;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Text Box 6"/>
            <p:cNvSpPr/>
            <p:nvPr/>
          </p:nvSpPr>
          <p:spPr>
            <a:xfrm>
              <a:off x="2500560" y="3240000"/>
              <a:ext cx="35791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System.out.println("Absolute value = " + y)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Text Box 7"/>
            <p:cNvSpPr/>
            <p:nvPr/>
          </p:nvSpPr>
          <p:spPr>
            <a:xfrm>
              <a:off x="5822640" y="2079720"/>
              <a:ext cx="72468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y := -x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Line 8"/>
            <p:cNvSpPr/>
            <p:nvPr/>
          </p:nvSpPr>
          <p:spPr>
            <a:xfrm>
              <a:off x="4371840" y="1595520"/>
              <a:ext cx="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Line 9"/>
            <p:cNvSpPr/>
            <p:nvPr/>
          </p:nvSpPr>
          <p:spPr>
            <a:xfrm>
              <a:off x="4371840" y="2662200"/>
              <a:ext cx="0" cy="45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Line 10"/>
            <p:cNvSpPr/>
            <p:nvPr/>
          </p:nvSpPr>
          <p:spPr>
            <a:xfrm>
              <a:off x="5133960" y="2205000"/>
              <a:ext cx="53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Line 11"/>
            <p:cNvSpPr/>
            <p:nvPr/>
          </p:nvSpPr>
          <p:spPr>
            <a:xfrm>
              <a:off x="6505560" y="2433600"/>
              <a:ext cx="0" cy="45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Line 12"/>
            <p:cNvSpPr/>
            <p:nvPr/>
          </p:nvSpPr>
          <p:spPr>
            <a:xfrm flipH="1">
              <a:off x="4366800" y="2890800"/>
              <a:ext cx="214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Text Box 13"/>
            <p:cNvSpPr/>
            <p:nvPr/>
          </p:nvSpPr>
          <p:spPr>
            <a:xfrm>
              <a:off x="3763440" y="2689200"/>
              <a:ext cx="45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Όχι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Text Box 14"/>
            <p:cNvSpPr/>
            <p:nvPr/>
          </p:nvSpPr>
          <p:spPr>
            <a:xfrm>
              <a:off x="5058720" y="1851120"/>
              <a:ext cx="45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Ναι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3" name="Text Box 15"/>
          <p:cNvSpPr/>
          <p:nvPr/>
        </p:nvSpPr>
        <p:spPr>
          <a:xfrm>
            <a:off x="1332360" y="468000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Σενάριo A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16"/>
          <p:cNvSpPr/>
          <p:nvPr/>
        </p:nvSpPr>
        <p:spPr>
          <a:xfrm>
            <a:off x="1328040" y="5197320"/>
            <a:ext cx="16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3399"/>
                </a:solidFill>
                <a:latin typeface="Arial"/>
              </a:rPr>
              <a:t>x = -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cc00"/>
                </a:solidFill>
                <a:latin typeface="Arial"/>
              </a:rPr>
              <a:t>Absolute value =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17"/>
          <p:cNvSpPr/>
          <p:nvPr/>
        </p:nvSpPr>
        <p:spPr>
          <a:xfrm>
            <a:off x="5148720" y="466740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Σενάριo B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18"/>
          <p:cNvSpPr/>
          <p:nvPr/>
        </p:nvSpPr>
        <p:spPr>
          <a:xfrm>
            <a:off x="5144400" y="5184720"/>
            <a:ext cx="16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0066"/>
                </a:solidFill>
                <a:latin typeface="Arial"/>
              </a:rPr>
              <a:t>x = 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cc00"/>
                </a:solidFill>
                <a:latin typeface="Arial"/>
              </a:rPr>
              <a:t>Absolute value = 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Η Εντολή </a:t>
            </a:r>
            <a:r>
              <a:rPr b="1" i="1" lang="en-GB" sz="2000" spc="-1" strike="noStrike">
                <a:solidFill>
                  <a:srgbClr val="000099"/>
                </a:solidFill>
                <a:latin typeface="Arial"/>
              </a:rPr>
              <a:t>if-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324000" y="907920"/>
            <a:ext cx="837072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1400" spc="-1" strike="noStrike" u="sng">
                <a:solidFill>
                  <a:srgbClr val="000099"/>
                </a:solidFill>
                <a:uFillTx/>
                <a:latin typeface="Arial"/>
              </a:rPr>
              <a:t>Άσκησ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Ένα κατάστημα ρούχων έχει εκπτώσεις. Οτιδήποτε πάνω από 100 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Euro</a:t>
            </a: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 έχει έκπτωση 30% ενώ τα υπόλοιπα ρούχα έχουν έκπτωση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20%. Να γραφεί εφαρμογή 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που δέχεται ως είσοδο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διαβάζει την αρχική τιμή ενός ρούχου και εκτυπώνει την νέα του τιμή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927720" y="2303640"/>
            <a:ext cx="5553720" cy="41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static void main 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nner input = new Scanner( System.in );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 oldPrice, newPrice, dis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(“Enter price: 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ldPrice = input.nextDouble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 (oldPrice &gt;= 100.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s = oldPrice*0.3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s = oldPrice*0.2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Price = oldPrice - dis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The new price is " + newPrice + " Euros.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1987560"/>
            <a:ext cx="77724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 μοντέλο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/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Οι εξυπηρετητές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ers)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προσφέρουν αρχεία που χρειάζονται συχνότερα οι πελάτες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clie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και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++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αρκετά δημοφιλείς για τη δημιουργία λειτουργικών συστημάτων, δικτυακών εφαρμογών και εφαρμογών πελάτη/εξυπηρετητ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Η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va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χρησιμοποιείται συχνά για εφαρμογές στο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Ο προγραμματισμός σ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va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μπορεί να είναι πιο παραγωγικός από τον προγραμματισμό σ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+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440" y="219240"/>
            <a:ext cx="7846920" cy="12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vantGarde"/>
              </a:rPr>
              <a:t>Προσωπικός υπολογιστής, κατανεμημένοι υπολογιστές και εφαρμογές πελάτη/εξυπηρετητή (</a:t>
            </a:r>
            <a:r>
              <a:rPr b="1" lang="en-US" sz="2400" spc="-1" strike="noStrike">
                <a:solidFill>
                  <a:srgbClr val="ff3300"/>
                </a:solidFill>
                <a:latin typeface="AvantGarde"/>
              </a:rPr>
              <a:t>client/server)</a:t>
            </a:r>
            <a:endParaRPr b="0" lang="en-US" sz="24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Ροή Προγράμματο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2"/>
          <p:cNvSpPr/>
          <p:nvPr/>
        </p:nvSpPr>
        <p:spPr>
          <a:xfrm>
            <a:off x="3475080" y="1731960"/>
            <a:ext cx="1950840" cy="7603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3632040" y="1944720"/>
            <a:ext cx="143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ldPr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ce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&gt;= 1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1749600" y="3168720"/>
            <a:ext cx="50958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newPrice = oldPrice - dis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System.out.println("The new price is " + newPrice + " Euros.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6134760" y="1949400"/>
            <a:ext cx="15768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dis =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ldPr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ce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*0.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Line 6"/>
          <p:cNvSpPr/>
          <p:nvPr/>
        </p:nvSpPr>
        <p:spPr>
          <a:xfrm>
            <a:off x="5508720" y="21337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Group 7"/>
          <p:cNvGrpSpPr/>
          <p:nvPr/>
        </p:nvGrpSpPr>
        <p:grpSpPr>
          <a:xfrm>
            <a:off x="4529160" y="2303640"/>
            <a:ext cx="2138400" cy="457200"/>
            <a:chOff x="4529160" y="2303640"/>
            <a:chExt cx="2138400" cy="457200"/>
          </a:xfrm>
        </p:grpSpPr>
        <p:sp>
          <p:nvSpPr>
            <p:cNvPr id="367" name="Line 8"/>
            <p:cNvSpPr/>
            <p:nvPr/>
          </p:nvSpPr>
          <p:spPr>
            <a:xfrm>
              <a:off x="6664320" y="2303640"/>
              <a:ext cx="0" cy="45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Line 9"/>
            <p:cNvSpPr/>
            <p:nvPr/>
          </p:nvSpPr>
          <p:spPr>
            <a:xfrm flipH="1">
              <a:off x="4529160" y="2760840"/>
              <a:ext cx="213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Text Box 10"/>
          <p:cNvSpPr/>
          <p:nvPr/>
        </p:nvSpPr>
        <p:spPr>
          <a:xfrm>
            <a:off x="5437080" y="1800360"/>
            <a:ext cx="4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Ναί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Text Box 11"/>
          <p:cNvSpPr/>
          <p:nvPr/>
        </p:nvSpPr>
        <p:spPr>
          <a:xfrm>
            <a:off x="2989440" y="1800360"/>
            <a:ext cx="4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Όχ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Line 12"/>
          <p:cNvSpPr/>
          <p:nvPr/>
        </p:nvSpPr>
        <p:spPr>
          <a:xfrm flipH="1">
            <a:off x="2910960" y="2133720"/>
            <a:ext cx="5432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1105560" y="1949400"/>
            <a:ext cx="15768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dis =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ldPr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ce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*0.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Line 14"/>
          <p:cNvSpPr/>
          <p:nvPr/>
        </p:nvSpPr>
        <p:spPr>
          <a:xfrm>
            <a:off x="4456080" y="1389240"/>
            <a:ext cx="1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Line 15"/>
          <p:cNvSpPr/>
          <p:nvPr/>
        </p:nvSpPr>
        <p:spPr>
          <a:xfrm>
            <a:off x="4427640" y="2492280"/>
            <a:ext cx="9360" cy="58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5" name="Group 16"/>
          <p:cNvGrpSpPr/>
          <p:nvPr/>
        </p:nvGrpSpPr>
        <p:grpSpPr>
          <a:xfrm>
            <a:off x="2246400" y="2303640"/>
            <a:ext cx="2131920" cy="457200"/>
            <a:chOff x="2246400" y="2303640"/>
            <a:chExt cx="2131920" cy="457200"/>
          </a:xfrm>
        </p:grpSpPr>
        <p:sp>
          <p:nvSpPr>
            <p:cNvPr id="376" name="Line 17"/>
            <p:cNvSpPr/>
            <p:nvPr/>
          </p:nvSpPr>
          <p:spPr>
            <a:xfrm>
              <a:off x="2246400" y="2303640"/>
              <a:ext cx="0" cy="45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Line 18"/>
            <p:cNvSpPr/>
            <p:nvPr/>
          </p:nvSpPr>
          <p:spPr>
            <a:xfrm>
              <a:off x="2246400" y="2760840"/>
              <a:ext cx="213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8" name="Text Box 19"/>
          <p:cNvSpPr/>
          <p:nvPr/>
        </p:nvSpPr>
        <p:spPr>
          <a:xfrm>
            <a:off x="694080" y="495144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Σενάριo A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Text Box 20"/>
          <p:cNvSpPr/>
          <p:nvPr/>
        </p:nvSpPr>
        <p:spPr>
          <a:xfrm>
            <a:off x="677160" y="5327640"/>
            <a:ext cx="25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ff3399"/>
                </a:solidFill>
                <a:latin typeface="Arial"/>
              </a:rPr>
              <a:t>oldPrice = </a:t>
            </a:r>
            <a:r>
              <a:rPr b="0" lang="en-GB" sz="1400" spc="-1" strike="noStrike">
                <a:solidFill>
                  <a:srgbClr val="ff3399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cc00"/>
                </a:solidFill>
                <a:latin typeface="Arial"/>
              </a:rPr>
              <a:t>The new price is 40.00 Euro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Text Box 21"/>
          <p:cNvSpPr/>
          <p:nvPr/>
        </p:nvSpPr>
        <p:spPr>
          <a:xfrm>
            <a:off x="5077080" y="49687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Σενάριo B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Text Box 22"/>
          <p:cNvSpPr/>
          <p:nvPr/>
        </p:nvSpPr>
        <p:spPr>
          <a:xfrm>
            <a:off x="5096520" y="5361120"/>
            <a:ext cx="264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ff3399"/>
                </a:solidFill>
                <a:latin typeface="Arial"/>
              </a:rPr>
              <a:t>oldPrice = </a:t>
            </a:r>
            <a:r>
              <a:rPr b="0" lang="en-GB" sz="1400" spc="-1" strike="noStrike">
                <a:solidFill>
                  <a:srgbClr val="ff3399"/>
                </a:solidFill>
                <a:latin typeface="Arial"/>
              </a:rPr>
              <a:t>2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cc00"/>
                </a:solidFill>
                <a:latin typeface="Arial"/>
              </a:rPr>
              <a:t>The new price is 140.00 Euro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4360" y="177480"/>
            <a:ext cx="77724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Σύνθετες Εντολέ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228600" y="685800"/>
            <a:ext cx="849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 u="sng">
                <a:solidFill>
                  <a:srgbClr val="000099"/>
                </a:solidFill>
                <a:uFillTx/>
                <a:latin typeface="Arial"/>
              </a:rPr>
              <a:t>Άσκησ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Να </a:t>
            </a: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γραφεί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εφαρμογή 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που δέχεται ως είσοδο δύο ακεραίους Α και Β, και εμφανίζει το άθροισμά τους εάν το Α είναι πολλαπλάσιο του Β, διαφορετικά εμφανίζει το γινόμενό του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2521800" y="1600200"/>
            <a:ext cx="4227120" cy="51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public static void main(String[ ] args)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canner input = new Scanner( System.in )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int a, b, rem, sum, prod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System.out.print(“Enter two numbers: “)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a = input.nextInt()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b = input.nextInt()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rem = a%b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AU" sz="1300" spc="-1" strike="noStrike">
                <a:solidFill>
                  <a:srgbClr val="339933"/>
                </a:solidFill>
                <a:latin typeface="Arial"/>
              </a:rPr>
              <a:t>if (rem == 0)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300" spc="-1" strike="noStrike">
                <a:solidFill>
                  <a:srgbClr val="339933"/>
                </a:solidFill>
                <a:latin typeface="Arial"/>
              </a:rPr>
              <a:t>       </a:t>
            </a:r>
            <a:r>
              <a:rPr b="1" lang="en-AU" sz="1300" spc="-1" strike="noStrike">
                <a:solidFill>
                  <a:srgbClr val="339933"/>
                </a:solidFill>
                <a:latin typeface="Arial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300" spc="-1" strike="noStrike">
                <a:solidFill>
                  <a:srgbClr val="339933"/>
                </a:solidFill>
                <a:latin typeface="Arial"/>
              </a:rPr>
              <a:t>            </a:t>
            </a:r>
            <a:r>
              <a:rPr b="1" lang="en-AU" sz="1300" spc="-1" strike="noStrike">
                <a:solidFill>
                  <a:srgbClr val="339933"/>
                </a:solidFill>
                <a:latin typeface="Arial"/>
              </a:rPr>
              <a:t>sum = a+b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300" spc="-1" strike="noStrike">
                <a:solidFill>
                  <a:srgbClr val="339933"/>
                </a:solidFill>
                <a:latin typeface="Arial"/>
              </a:rPr>
              <a:t>            </a:t>
            </a:r>
            <a:r>
              <a:rPr b="1" lang="en-AU" sz="1300" spc="-1" strike="noStrike">
                <a:solidFill>
                  <a:srgbClr val="339933"/>
                </a:solidFill>
                <a:latin typeface="Arial"/>
              </a:rPr>
              <a:t>System.out.println("The sum is " + sum)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300" spc="-1" strike="noStrike">
                <a:solidFill>
                  <a:srgbClr val="339933"/>
                </a:solidFill>
                <a:latin typeface="Arial"/>
              </a:rPr>
              <a:t>        </a:t>
            </a:r>
            <a:r>
              <a:rPr b="1" lang="en-AU" sz="1300" spc="-1" strike="noStrike">
                <a:solidFill>
                  <a:srgbClr val="339933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300" spc="-1" strike="noStrike">
                <a:solidFill>
                  <a:srgbClr val="339933"/>
                </a:solidFill>
                <a:latin typeface="Arial"/>
              </a:rPr>
              <a:t>       </a:t>
            </a:r>
            <a:r>
              <a:rPr b="1" lang="en-AU" sz="1300" spc="-1" strike="noStrike">
                <a:solidFill>
                  <a:srgbClr val="339933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300" spc="-1" strike="noStrike">
                <a:solidFill>
                  <a:srgbClr val="339933"/>
                </a:solidFill>
                <a:latin typeface="Arial"/>
              </a:rPr>
              <a:t>       </a:t>
            </a:r>
            <a:r>
              <a:rPr b="1" lang="en-AU" sz="1300" spc="-1" strike="noStrike">
                <a:solidFill>
                  <a:srgbClr val="339933"/>
                </a:solidFill>
                <a:latin typeface="Arial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300" spc="-1" strike="noStrike">
                <a:solidFill>
                  <a:srgbClr val="339933"/>
                </a:solidFill>
                <a:latin typeface="Arial"/>
              </a:rPr>
              <a:t>            </a:t>
            </a:r>
            <a:r>
              <a:rPr b="1" lang="en-AU" sz="1300" spc="-1" strike="noStrike">
                <a:solidFill>
                  <a:srgbClr val="339933"/>
                </a:solidFill>
                <a:latin typeface="Arial"/>
              </a:rPr>
              <a:t>prod = a*b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300" spc="-1" strike="noStrike">
                <a:solidFill>
                  <a:srgbClr val="339933"/>
                </a:solidFill>
                <a:latin typeface="Arial"/>
              </a:rPr>
              <a:t>            </a:t>
            </a:r>
            <a:r>
              <a:rPr b="1" lang="en-AU" sz="1300" spc="-1" strike="noStrike">
                <a:solidFill>
                  <a:srgbClr val="339933"/>
                </a:solidFill>
                <a:latin typeface="Arial"/>
              </a:rPr>
              <a:t>System.out.println("The product is " + prod)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300" spc="-1" strike="noStrike">
                <a:solidFill>
                  <a:srgbClr val="339933"/>
                </a:solidFill>
                <a:latin typeface="Arial"/>
              </a:rPr>
              <a:t>        </a:t>
            </a:r>
            <a:r>
              <a:rPr b="1" lang="en-AU" sz="1300" spc="-1" strike="noStrike">
                <a:solidFill>
                  <a:srgbClr val="339933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2955960" y="4579920"/>
            <a:ext cx="4897440" cy="449280"/>
          </a:xfrm>
          <a:prstGeom prst="rect">
            <a:avLst/>
          </a:prstGeom>
          <a:noFill/>
          <a:ln w="1260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2971800" y="5715000"/>
            <a:ext cx="4897440" cy="574560"/>
          </a:xfrm>
          <a:prstGeom prst="rect">
            <a:avLst/>
          </a:prstGeom>
          <a:noFill/>
          <a:ln w="1260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Ροή Προγράμματο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2"/>
          <p:cNvGrpSpPr/>
          <p:nvPr/>
        </p:nvGrpSpPr>
        <p:grpSpPr>
          <a:xfrm>
            <a:off x="1603800" y="4292640"/>
            <a:ext cx="1302480" cy="896400"/>
            <a:chOff x="1603800" y="4292640"/>
            <a:chExt cx="1302480" cy="896400"/>
          </a:xfrm>
        </p:grpSpPr>
        <p:sp>
          <p:nvSpPr>
            <p:cNvPr id="389" name="Text Box 3"/>
            <p:cNvSpPr/>
            <p:nvPr/>
          </p:nvSpPr>
          <p:spPr>
            <a:xfrm>
              <a:off x="1615680" y="4292640"/>
              <a:ext cx="102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Σενάριo A</a:t>
              </a:r>
              <a:r>
                <a:rPr b="0" lang="en-GB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: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Text Box 4"/>
            <p:cNvSpPr/>
            <p:nvPr/>
          </p:nvSpPr>
          <p:spPr>
            <a:xfrm>
              <a:off x="1603800" y="4668840"/>
              <a:ext cx="130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400" spc="-1" strike="noStrike">
                  <a:solidFill>
                    <a:srgbClr val="ff3399"/>
                  </a:solidFill>
                  <a:latin typeface="Arial"/>
                </a:rPr>
                <a:t>a = 50, b = 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400" spc="-1" strike="noStrike">
                  <a:solidFill>
                    <a:srgbClr val="00cc00"/>
                  </a:solidFill>
                  <a:latin typeface="Arial"/>
                </a:rPr>
                <a:t>The sum is 5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1" name="Group 5"/>
          <p:cNvGrpSpPr/>
          <p:nvPr/>
        </p:nvGrpSpPr>
        <p:grpSpPr>
          <a:xfrm>
            <a:off x="5782680" y="4292640"/>
            <a:ext cx="1585440" cy="912240"/>
            <a:chOff x="5782680" y="4292640"/>
            <a:chExt cx="1585440" cy="912240"/>
          </a:xfrm>
        </p:grpSpPr>
        <p:sp>
          <p:nvSpPr>
            <p:cNvPr id="392" name="Text Box 6"/>
            <p:cNvSpPr/>
            <p:nvPr/>
          </p:nvSpPr>
          <p:spPr>
            <a:xfrm>
              <a:off x="5782680" y="4292640"/>
              <a:ext cx="102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Σενάριo B</a:t>
              </a:r>
              <a:r>
                <a:rPr b="0" lang="en-GB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: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Text Box 7"/>
            <p:cNvSpPr/>
            <p:nvPr/>
          </p:nvSpPr>
          <p:spPr>
            <a:xfrm>
              <a:off x="5806800" y="4684680"/>
              <a:ext cx="1561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400" spc="-1" strike="noStrike">
                  <a:solidFill>
                    <a:srgbClr val="ff3399"/>
                  </a:solidFill>
                  <a:latin typeface="Arial"/>
                </a:rPr>
                <a:t>a = 15, b =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400" spc="-1" strike="noStrike">
                  <a:solidFill>
                    <a:srgbClr val="00cc00"/>
                  </a:solidFill>
                  <a:latin typeface="Arial"/>
                </a:rPr>
                <a:t>The product is 3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4" name="Group 8"/>
          <p:cNvGrpSpPr/>
          <p:nvPr/>
        </p:nvGrpSpPr>
        <p:grpSpPr>
          <a:xfrm>
            <a:off x="168480" y="1413000"/>
            <a:ext cx="8777160" cy="2144520"/>
            <a:chOff x="168480" y="1413000"/>
            <a:chExt cx="8777160" cy="2144520"/>
          </a:xfrm>
        </p:grpSpPr>
        <p:sp>
          <p:nvSpPr>
            <p:cNvPr id="395" name="AutoShape 9"/>
            <p:cNvSpPr/>
            <p:nvPr/>
          </p:nvSpPr>
          <p:spPr>
            <a:xfrm>
              <a:off x="4138560" y="2178000"/>
              <a:ext cx="1079640" cy="75888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Text Box 10"/>
            <p:cNvSpPr/>
            <p:nvPr/>
          </p:nvSpPr>
          <p:spPr>
            <a:xfrm>
              <a:off x="4210200" y="2421000"/>
              <a:ext cx="89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m</a:t>
              </a: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 ==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Text Box 11"/>
            <p:cNvSpPr/>
            <p:nvPr/>
          </p:nvSpPr>
          <p:spPr>
            <a:xfrm>
              <a:off x="5076360" y="2178000"/>
              <a:ext cx="45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Ναί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Text Box 12"/>
            <p:cNvSpPr/>
            <p:nvPr/>
          </p:nvSpPr>
          <p:spPr>
            <a:xfrm>
              <a:off x="3852360" y="2178000"/>
              <a:ext cx="45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Όχι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Line 13"/>
            <p:cNvSpPr/>
            <p:nvPr/>
          </p:nvSpPr>
          <p:spPr>
            <a:xfrm flipH="1">
              <a:off x="3846600" y="2538360"/>
              <a:ext cx="2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Text Box 14"/>
            <p:cNvSpPr/>
            <p:nvPr/>
          </p:nvSpPr>
          <p:spPr>
            <a:xfrm>
              <a:off x="5572080" y="2178000"/>
              <a:ext cx="3373560" cy="56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sum = a+b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System.out.println("The sum is " + sum)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Line 15"/>
            <p:cNvSpPr/>
            <p:nvPr/>
          </p:nvSpPr>
          <p:spPr>
            <a:xfrm>
              <a:off x="4643280" y="181764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Line 16"/>
            <p:cNvSpPr/>
            <p:nvPr/>
          </p:nvSpPr>
          <p:spPr>
            <a:xfrm>
              <a:off x="4643280" y="2970360"/>
              <a:ext cx="792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Text Box 17"/>
            <p:cNvSpPr/>
            <p:nvPr/>
          </p:nvSpPr>
          <p:spPr>
            <a:xfrm>
              <a:off x="3925440" y="1413000"/>
              <a:ext cx="10980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m = a%b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Text Box 18"/>
            <p:cNvSpPr/>
            <p:nvPr/>
          </p:nvSpPr>
          <p:spPr>
            <a:xfrm>
              <a:off x="168480" y="2178000"/>
              <a:ext cx="3652560" cy="56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prod = a*b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System.out.println("The product is " + prod)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Line 19"/>
            <p:cNvSpPr/>
            <p:nvPr/>
          </p:nvSpPr>
          <p:spPr>
            <a:xfrm>
              <a:off x="5291280" y="25383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Line 20"/>
            <p:cNvSpPr/>
            <p:nvPr/>
          </p:nvSpPr>
          <p:spPr>
            <a:xfrm>
              <a:off x="1835280" y="2825640"/>
              <a:ext cx="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Line 21"/>
            <p:cNvSpPr/>
            <p:nvPr/>
          </p:nvSpPr>
          <p:spPr>
            <a:xfrm>
              <a:off x="7307280" y="2825640"/>
              <a:ext cx="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Line 22"/>
            <p:cNvSpPr/>
            <p:nvPr/>
          </p:nvSpPr>
          <p:spPr>
            <a:xfrm>
              <a:off x="1835280" y="3186000"/>
              <a:ext cx="280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Line 23"/>
            <p:cNvSpPr/>
            <p:nvPr/>
          </p:nvSpPr>
          <p:spPr>
            <a:xfrm flipH="1">
              <a:off x="4638600" y="3186000"/>
              <a:ext cx="267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Άσκη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228600" y="914400"/>
            <a:ext cx="86868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Το ημερομίσθιο ενός εργαζόμενου είναι 100 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Euro</a:t>
            </a: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 τις καθημερινές, ενώ τα Σαββατοκύριακα προσαυξάνεται κατά 50%. Γράψτε μία εφαρμογή 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Java </a:t>
            </a: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που δέχεται ως είσοδο τον κωδικό της τρέχουσας ημέρας (η Κυριακή έχει τον κωδικό 1, η Δευτέρα τον κωδικό 2, κλπ), και υπολογίζει το ημερομίσθιο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2025720" y="2087640"/>
            <a:ext cx="446832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public static void main(String[ ] args)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canner input = new Scanner( System.in );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 day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ouble pay, rate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ystem.out.print("Enter the day: ")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y = input.nextInt()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ate = 100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if ((day == 1) || (day == 7))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pay = rate*1.5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pay = rate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ystem.out.println("Today's pay is " + pay + " Euro")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4360" y="177480"/>
            <a:ext cx="77724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Ένθετες Εντολές </a:t>
            </a:r>
            <a:r>
              <a:rPr b="1" i="1" lang="en-GB" sz="2000" spc="-1" strike="noStrike">
                <a:solidFill>
                  <a:srgbClr val="000099"/>
                </a:solidFill>
                <a:latin typeface="Arial"/>
              </a:rPr>
              <a:t>if-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457200" y="1219320"/>
            <a:ext cx="8093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 u="sng">
                <a:solidFill>
                  <a:srgbClr val="000099"/>
                </a:solidFill>
                <a:uFillTx/>
                <a:latin typeface="Arial"/>
              </a:rPr>
              <a:t>Άσκησ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Σε ορισμένα πανεπιστήμια του εξωτερικού υπάρχουν δύο κλίμακες βαθμολογίας. Στην πρώτη κλίμακα Κ1 οι βαθμοί κυμαίνονται από 0-100, ενώ στην δεύτερη κλίμακα Κ2 αποτελούνται από τα σύμβολα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 F, CQ, C, B, A. </a:t>
            </a: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Η αντιστοιχία μεταξύ της κλίμακας Κ1 και της κλίμακας Κ2 είναι η εξής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5" name="Group 3"/>
          <p:cNvGrpSpPr/>
          <p:nvPr/>
        </p:nvGrpSpPr>
        <p:grpSpPr>
          <a:xfrm>
            <a:off x="533520" y="2846520"/>
            <a:ext cx="2512800" cy="1798920"/>
            <a:chOff x="533520" y="2846520"/>
            <a:chExt cx="2512800" cy="1798920"/>
          </a:xfrm>
        </p:grpSpPr>
        <p:sp>
          <p:nvSpPr>
            <p:cNvPr id="416" name="Text Box 4"/>
            <p:cNvSpPr/>
            <p:nvPr/>
          </p:nvSpPr>
          <p:spPr>
            <a:xfrm>
              <a:off x="610560" y="2846520"/>
              <a:ext cx="227628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29840"/>
                  <a:tab algn="l" pos="10779120"/>
                  <a:tab algn="l" pos="10782360"/>
                </a:tabLst>
              </a:pPr>
              <a:r>
                <a:rPr b="0" lang="en-AU" sz="1400" spc="-1" strike="noStrike">
                  <a:solidFill>
                    <a:srgbClr val="000099"/>
                  </a:solidFill>
                  <a:latin typeface="Arial"/>
                </a:rPr>
                <a:t>K1</a:t>
              </a:r>
              <a:r>
                <a:rPr b="0" lang="en-AU" sz="14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0" lang="en-AU" sz="14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0" lang="en-AU" sz="1400" spc="-1" strike="noStrike">
                  <a:solidFill>
                    <a:srgbClr val="000099"/>
                  </a:solidFill>
                  <a:latin typeface="Arial"/>
                </a:rPr>
                <a:t>K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29840"/>
                  <a:tab algn="l" pos="10779120"/>
                  <a:tab algn="l" pos="1078236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29840"/>
                  <a:tab algn="l" pos="10779120"/>
                  <a:tab algn="l" pos="10782360"/>
                </a:tabLst>
              </a:pPr>
              <a:r>
                <a:rPr b="0" lang="en-AU" sz="1400" spc="-1" strike="noStrike">
                  <a:solidFill>
                    <a:srgbClr val="000099"/>
                  </a:solidFill>
                  <a:latin typeface="Arial"/>
                </a:rPr>
                <a:t>0 - 49</a:t>
              </a:r>
              <a:r>
                <a:rPr b="0" lang="en-AU" sz="14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0" lang="en-AU" sz="14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0" i="1" lang="en-AU" sz="1400" spc="-1" strike="noStrike">
                  <a:solidFill>
                    <a:srgbClr val="000099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29840"/>
                  <a:tab algn="l" pos="10779120"/>
                  <a:tab algn="l" pos="10782360"/>
                </a:tabLst>
              </a:pPr>
              <a:r>
                <a:rPr b="0" lang="en-AU" sz="1400" spc="-1" strike="noStrike">
                  <a:solidFill>
                    <a:srgbClr val="000099"/>
                  </a:solidFill>
                  <a:latin typeface="Arial"/>
                </a:rPr>
                <a:t>50 - 59 </a:t>
              </a:r>
              <a:r>
                <a:rPr b="0" lang="en-AU" sz="14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0" lang="en-AU" sz="14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0" i="1" lang="en-AU" sz="1400" spc="-1" strike="noStrike">
                  <a:solidFill>
                    <a:srgbClr val="000099"/>
                  </a:solidFill>
                  <a:latin typeface="Arial"/>
                </a:rPr>
                <a:t>C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29840"/>
                  <a:tab algn="l" pos="10779120"/>
                  <a:tab algn="l" pos="10782360"/>
                </a:tabLst>
              </a:pPr>
              <a:r>
                <a:rPr b="0" lang="en-AU" sz="1400" spc="-1" strike="noStrike">
                  <a:solidFill>
                    <a:srgbClr val="000099"/>
                  </a:solidFill>
                  <a:latin typeface="Arial"/>
                </a:rPr>
                <a:t>60 - 69 </a:t>
              </a:r>
              <a:r>
                <a:rPr b="0" lang="en-AU" sz="14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0" lang="en-AU" sz="14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0" i="1" lang="en-AU" sz="1400" spc="-1" strike="noStrike">
                  <a:solidFill>
                    <a:srgbClr val="000099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29840"/>
                  <a:tab algn="l" pos="10779120"/>
                  <a:tab algn="l" pos="10782360"/>
                </a:tabLst>
              </a:pPr>
              <a:r>
                <a:rPr b="0" lang="en-AU" sz="1400" spc="-1" strike="noStrike">
                  <a:solidFill>
                    <a:srgbClr val="000099"/>
                  </a:solidFill>
                  <a:latin typeface="Arial"/>
                </a:rPr>
                <a:t>70 - 74  </a:t>
              </a:r>
              <a:r>
                <a:rPr b="0" lang="en-AU" sz="14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0" lang="en-AU" sz="14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0" i="1" lang="en-AU" sz="1400" spc="-1" strike="noStrike">
                  <a:solidFill>
                    <a:srgbClr val="000099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29840"/>
                  <a:tab algn="l" pos="10779120"/>
                  <a:tab algn="l" pos="10782360"/>
                </a:tabLst>
              </a:pPr>
              <a:r>
                <a:rPr b="0" lang="en-AU" sz="1400" spc="-1" strike="noStrike">
                  <a:solidFill>
                    <a:srgbClr val="000099"/>
                  </a:solidFill>
                  <a:latin typeface="Arial"/>
                </a:rPr>
                <a:t>75 - 100</a:t>
              </a:r>
              <a:r>
                <a:rPr b="0" lang="en-AU" sz="14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0" lang="en-AU" sz="14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0" i="1" lang="en-AU" sz="1400" spc="-1" strike="noStrike">
                  <a:solidFill>
                    <a:srgbClr val="000099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29840"/>
                  <a:tab algn="l" pos="10779120"/>
                  <a:tab algn="l" pos="1078236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Line 5"/>
            <p:cNvSpPr/>
            <p:nvPr/>
          </p:nvSpPr>
          <p:spPr>
            <a:xfrm>
              <a:off x="533520" y="3200400"/>
              <a:ext cx="251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8" name="Text Box 6"/>
          <p:cNvSpPr/>
          <p:nvPr/>
        </p:nvSpPr>
        <p:spPr>
          <a:xfrm>
            <a:off x="515880" y="5284800"/>
            <a:ext cx="626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Να γραφεί </a:t>
            </a: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εφαρμογή 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Java </a:t>
            </a: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που να μετατρέπει την βαθμολογία από Κ1 σε Κ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4360" y="177480"/>
            <a:ext cx="77724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Ένθετες Εντολές </a:t>
            </a:r>
            <a:r>
              <a:rPr b="1" i="1" lang="en-GB" sz="2000" spc="-1" strike="noStrike">
                <a:solidFill>
                  <a:srgbClr val="000099"/>
                </a:solidFill>
                <a:latin typeface="Arial"/>
              </a:rPr>
              <a:t>if-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2700360" y="836640"/>
            <a:ext cx="3959280" cy="56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public static void main(String[ ] args)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canner input = new Scanner( System.in );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 marks; 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(“Enter marks: "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rks = input.nextInt()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4700b8"/>
                </a:solidFill>
                <a:latin typeface="Arial"/>
              </a:rPr>
              <a:t>if (marks &lt; 50)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4700b8"/>
                </a:solidFill>
                <a:latin typeface="Arial"/>
              </a:rPr>
              <a:t>            </a:t>
            </a:r>
            <a:r>
              <a:rPr b="0" lang="en-US" sz="1300" spc="-1" strike="noStrike">
                <a:solidFill>
                  <a:srgbClr val="4700b8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4700b8"/>
                </a:solidFill>
                <a:latin typeface="Arial"/>
              </a:rPr>
              <a:t>System.out.println("Grade = F")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4700b8"/>
                </a:solidFill>
                <a:latin typeface="Arial"/>
              </a:rPr>
              <a:t>       </a:t>
            </a:r>
            <a:r>
              <a:rPr b="0" lang="en-US" sz="1300" spc="-1" strike="noStrike">
                <a:solidFill>
                  <a:srgbClr val="4700b8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4700b8"/>
                </a:solidFill>
                <a:latin typeface="Arial"/>
              </a:rPr>
              <a:t>else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300" spc="-1" strike="noStrike">
                <a:solidFill>
                  <a:srgbClr val="00ae00"/>
                </a:solidFill>
                <a:latin typeface="Arial"/>
              </a:rPr>
              <a:t>if (marks &lt;60)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ae00"/>
                </a:solidFill>
                <a:latin typeface="Arial"/>
              </a:rPr>
              <a:t>            </a:t>
            </a:r>
            <a:r>
              <a:rPr b="0" lang="en-US" sz="13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ae00"/>
                </a:solidFill>
                <a:latin typeface="Arial"/>
              </a:rPr>
              <a:t>System.out.println("Grade = CQ")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ae00"/>
                </a:solidFill>
                <a:latin typeface="Arial"/>
              </a:rPr>
              <a:t>       </a:t>
            </a:r>
            <a:r>
              <a:rPr b="0" lang="en-US" sz="13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ae00"/>
                </a:solidFill>
                <a:latin typeface="Arial"/>
              </a:rPr>
              <a:t>else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663300"/>
                </a:solidFill>
                <a:latin typeface="Arial"/>
              </a:rPr>
              <a:t>if (marks &lt;70)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663300"/>
                </a:solidFill>
                <a:latin typeface="Arial"/>
              </a:rPr>
              <a:t>            </a:t>
            </a:r>
            <a:r>
              <a:rPr b="0" lang="en-US" sz="13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663300"/>
                </a:solidFill>
                <a:latin typeface="Arial"/>
              </a:rPr>
              <a:t>System.out.println("Grade = C")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663300"/>
                </a:solidFill>
                <a:latin typeface="Arial"/>
              </a:rPr>
              <a:t>       </a:t>
            </a:r>
            <a:r>
              <a:rPr b="0" lang="en-US" sz="13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663300"/>
                </a:solidFill>
                <a:latin typeface="Arial"/>
              </a:rPr>
              <a:t>else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300" spc="-1" strike="noStrike">
                <a:solidFill>
                  <a:srgbClr val="ff0000"/>
                </a:solidFill>
                <a:latin typeface="Arial"/>
              </a:rPr>
              <a:t>if (marks &lt;75)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en-US" sz="1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ff0000"/>
                </a:solidFill>
                <a:latin typeface="Arial"/>
              </a:rPr>
              <a:t>System.out.println("Grade = B")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1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ff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en-US" sz="1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ff0000"/>
                </a:solidFill>
                <a:latin typeface="Arial"/>
              </a:rPr>
              <a:t>System.out.println("Grade = A");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Ροή Προγράμματο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2"/>
          <p:cNvGrpSpPr/>
          <p:nvPr/>
        </p:nvGrpSpPr>
        <p:grpSpPr>
          <a:xfrm>
            <a:off x="1981080" y="1628640"/>
            <a:ext cx="1446480" cy="565200"/>
            <a:chOff x="1981080" y="1628640"/>
            <a:chExt cx="1446480" cy="565200"/>
          </a:xfrm>
        </p:grpSpPr>
        <p:sp>
          <p:nvSpPr>
            <p:cNvPr id="423" name="AutoShape 3"/>
            <p:cNvSpPr/>
            <p:nvPr/>
          </p:nvSpPr>
          <p:spPr>
            <a:xfrm>
              <a:off x="1981080" y="1628640"/>
              <a:ext cx="1446480" cy="5652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Text Box 4"/>
            <p:cNvSpPr/>
            <p:nvPr/>
          </p:nvSpPr>
          <p:spPr>
            <a:xfrm>
              <a:off x="2169000" y="1770120"/>
              <a:ext cx="106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marks &lt; 5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5" name="Group 5"/>
          <p:cNvGrpSpPr/>
          <p:nvPr/>
        </p:nvGrpSpPr>
        <p:grpSpPr>
          <a:xfrm>
            <a:off x="1981080" y="2455920"/>
            <a:ext cx="1446480" cy="565200"/>
            <a:chOff x="1981080" y="2455920"/>
            <a:chExt cx="1446480" cy="565200"/>
          </a:xfrm>
        </p:grpSpPr>
        <p:sp>
          <p:nvSpPr>
            <p:cNvPr id="426" name="AutoShape 6"/>
            <p:cNvSpPr/>
            <p:nvPr/>
          </p:nvSpPr>
          <p:spPr>
            <a:xfrm>
              <a:off x="1981080" y="2455920"/>
              <a:ext cx="1446480" cy="5652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Text Box 7"/>
            <p:cNvSpPr/>
            <p:nvPr/>
          </p:nvSpPr>
          <p:spPr>
            <a:xfrm>
              <a:off x="2169000" y="2597040"/>
              <a:ext cx="106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marks &lt; 6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8" name="Group 8"/>
          <p:cNvGrpSpPr/>
          <p:nvPr/>
        </p:nvGrpSpPr>
        <p:grpSpPr>
          <a:xfrm>
            <a:off x="1981080" y="3282840"/>
            <a:ext cx="1446480" cy="565200"/>
            <a:chOff x="1981080" y="3282840"/>
            <a:chExt cx="1446480" cy="565200"/>
          </a:xfrm>
        </p:grpSpPr>
        <p:sp>
          <p:nvSpPr>
            <p:cNvPr id="429" name="AutoShape 9"/>
            <p:cNvSpPr/>
            <p:nvPr/>
          </p:nvSpPr>
          <p:spPr>
            <a:xfrm>
              <a:off x="1981080" y="3282840"/>
              <a:ext cx="1446480" cy="5652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Text Box 10"/>
            <p:cNvSpPr/>
            <p:nvPr/>
          </p:nvSpPr>
          <p:spPr>
            <a:xfrm>
              <a:off x="2169000" y="3424320"/>
              <a:ext cx="106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marks &lt; 7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Group 11"/>
          <p:cNvGrpSpPr/>
          <p:nvPr/>
        </p:nvGrpSpPr>
        <p:grpSpPr>
          <a:xfrm>
            <a:off x="1981080" y="4110120"/>
            <a:ext cx="1446480" cy="565200"/>
            <a:chOff x="1981080" y="4110120"/>
            <a:chExt cx="1446480" cy="565200"/>
          </a:xfrm>
        </p:grpSpPr>
        <p:sp>
          <p:nvSpPr>
            <p:cNvPr id="432" name="AutoShape 12"/>
            <p:cNvSpPr/>
            <p:nvPr/>
          </p:nvSpPr>
          <p:spPr>
            <a:xfrm>
              <a:off x="1981080" y="4110120"/>
              <a:ext cx="1446480" cy="5652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Text Box 13"/>
            <p:cNvSpPr/>
            <p:nvPr/>
          </p:nvSpPr>
          <p:spPr>
            <a:xfrm>
              <a:off x="2169000" y="4251240"/>
              <a:ext cx="106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marks &lt; 7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4" name="Line 14"/>
          <p:cNvSpPr/>
          <p:nvPr/>
        </p:nvSpPr>
        <p:spPr>
          <a:xfrm>
            <a:off x="2705040" y="2222640"/>
            <a:ext cx="180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Line 15"/>
          <p:cNvSpPr/>
          <p:nvPr/>
        </p:nvSpPr>
        <p:spPr>
          <a:xfrm>
            <a:off x="2705040" y="3063960"/>
            <a:ext cx="180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Line 16"/>
          <p:cNvSpPr/>
          <p:nvPr/>
        </p:nvSpPr>
        <p:spPr>
          <a:xfrm>
            <a:off x="2705040" y="3887640"/>
            <a:ext cx="180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Text Box 17"/>
          <p:cNvSpPr/>
          <p:nvPr/>
        </p:nvSpPr>
        <p:spPr>
          <a:xfrm>
            <a:off x="4303080" y="1751040"/>
            <a:ext cx="3058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.out.println("Grade = F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4304520" y="2532240"/>
            <a:ext cx="3237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.out.println("Grade = CQ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Text Box 19"/>
          <p:cNvSpPr/>
          <p:nvPr/>
        </p:nvSpPr>
        <p:spPr>
          <a:xfrm>
            <a:off x="4302360" y="3382920"/>
            <a:ext cx="30808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.out.println("Grade = C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Text Box 20"/>
          <p:cNvSpPr/>
          <p:nvPr/>
        </p:nvSpPr>
        <p:spPr>
          <a:xfrm>
            <a:off x="4302000" y="4233960"/>
            <a:ext cx="3070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.out.println("Grade = B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21"/>
          <p:cNvSpPr/>
          <p:nvPr/>
        </p:nvSpPr>
        <p:spPr>
          <a:xfrm>
            <a:off x="4302360" y="5084640"/>
            <a:ext cx="3070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.out.println("Grade = A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Line 22"/>
          <p:cNvSpPr/>
          <p:nvPr/>
        </p:nvSpPr>
        <p:spPr>
          <a:xfrm>
            <a:off x="2705040" y="1282680"/>
            <a:ext cx="180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Line 23"/>
          <p:cNvSpPr/>
          <p:nvPr/>
        </p:nvSpPr>
        <p:spPr>
          <a:xfrm>
            <a:off x="3463920" y="1920960"/>
            <a:ext cx="790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Line 24"/>
          <p:cNvSpPr/>
          <p:nvPr/>
        </p:nvSpPr>
        <p:spPr>
          <a:xfrm>
            <a:off x="3463920" y="2735280"/>
            <a:ext cx="790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Line 25"/>
          <p:cNvSpPr/>
          <p:nvPr/>
        </p:nvSpPr>
        <p:spPr>
          <a:xfrm>
            <a:off x="3463920" y="3568680"/>
            <a:ext cx="790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Line 26"/>
          <p:cNvSpPr/>
          <p:nvPr/>
        </p:nvSpPr>
        <p:spPr>
          <a:xfrm>
            <a:off x="3463920" y="4394160"/>
            <a:ext cx="79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Line 27"/>
          <p:cNvSpPr/>
          <p:nvPr/>
        </p:nvSpPr>
        <p:spPr>
          <a:xfrm>
            <a:off x="2701800" y="4713120"/>
            <a:ext cx="180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Line 28"/>
          <p:cNvSpPr/>
          <p:nvPr/>
        </p:nvSpPr>
        <p:spPr>
          <a:xfrm>
            <a:off x="2701800" y="5218200"/>
            <a:ext cx="1514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29"/>
          <p:cNvSpPr/>
          <p:nvPr/>
        </p:nvSpPr>
        <p:spPr>
          <a:xfrm>
            <a:off x="3494160" y="1628640"/>
            <a:ext cx="4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Να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Text Box 30"/>
          <p:cNvSpPr/>
          <p:nvPr/>
        </p:nvSpPr>
        <p:spPr>
          <a:xfrm>
            <a:off x="3494160" y="2408400"/>
            <a:ext cx="4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Να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Text Box 31"/>
          <p:cNvSpPr/>
          <p:nvPr/>
        </p:nvSpPr>
        <p:spPr>
          <a:xfrm>
            <a:off x="3494160" y="3259080"/>
            <a:ext cx="4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Να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Text Box 32"/>
          <p:cNvSpPr/>
          <p:nvPr/>
        </p:nvSpPr>
        <p:spPr>
          <a:xfrm>
            <a:off x="3494160" y="4110120"/>
            <a:ext cx="4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Να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Text Box 33"/>
          <p:cNvSpPr/>
          <p:nvPr/>
        </p:nvSpPr>
        <p:spPr>
          <a:xfrm>
            <a:off x="3494160" y="4889520"/>
            <a:ext cx="4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Να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Text Box 34"/>
          <p:cNvSpPr/>
          <p:nvPr/>
        </p:nvSpPr>
        <p:spPr>
          <a:xfrm>
            <a:off x="2122560" y="2124000"/>
            <a:ext cx="4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Όχ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Text Box 35"/>
          <p:cNvSpPr/>
          <p:nvPr/>
        </p:nvSpPr>
        <p:spPr>
          <a:xfrm>
            <a:off x="2122560" y="2905200"/>
            <a:ext cx="4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Όχ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Text Box 36"/>
          <p:cNvSpPr/>
          <p:nvPr/>
        </p:nvSpPr>
        <p:spPr>
          <a:xfrm>
            <a:off x="2122560" y="3755880"/>
            <a:ext cx="4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Όχ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Text Box 37"/>
          <p:cNvSpPr/>
          <p:nvPr/>
        </p:nvSpPr>
        <p:spPr>
          <a:xfrm>
            <a:off x="2122560" y="4748040"/>
            <a:ext cx="4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Όχ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Άσκη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"/>
          <p:cNvSpPr/>
          <p:nvPr/>
        </p:nvSpPr>
        <p:spPr>
          <a:xfrm>
            <a:off x="832320" y="1125360"/>
            <a:ext cx="77000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Γράψτε μία εφαρμογή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Java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θα δέχεται ως είσοδο ένα χαρακτήρα και εκτυπώνε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το μήνυμα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- “Arithmetic Operator”,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εάν ο χαρακτήρα είναι ο αριθμητικός τελεστής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`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+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`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“Relational Operator”,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εάν ο χαρακτήρα είναι το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`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`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“Punctuation Mark”, εάν ο χαρακτήρας είναι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 η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`(`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-  “Wrong Input”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σε κάθε άλλη περίπτωση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Εντολή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"/>
          <p:cNvSpPr/>
          <p:nvPr/>
        </p:nvSpPr>
        <p:spPr>
          <a:xfrm>
            <a:off x="1317960" y="981000"/>
            <a:ext cx="61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υπολογίζει το άθροισμα 1+2+3+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Text Box 3"/>
          <p:cNvSpPr/>
          <p:nvPr/>
        </p:nvSpPr>
        <p:spPr>
          <a:xfrm>
            <a:off x="971640" y="1989000"/>
            <a:ext cx="3816360" cy="21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{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 sum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m = 1+2+3+4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ystem.out.println(“The sum is “+sum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Εντολή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"/>
          <p:cNvSpPr/>
          <p:nvPr/>
        </p:nvSpPr>
        <p:spPr>
          <a:xfrm>
            <a:off x="1317960" y="981000"/>
            <a:ext cx="61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υπολογίζει το άθροισμα 1+2+3+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971640" y="1989000"/>
            <a:ext cx="3816360" cy="29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{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 i, sum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m = 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for (i = 1; i &lt;= 4; i++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          </a:t>
            </a: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sum = sum+i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ystem.out.println(“The sum is “+sum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Ιστορική εξέλιξη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002960"/>
            <a:ext cx="806292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ξελίχθηκ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1979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jarne Stroustrup – Bell Labs)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από την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(1972 – 197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nis Ritchie – Bell Lab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εξελίχθηκε απο 2 προηγούμενες γλώσσες προγραμματισμού, τις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PL and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I C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καθιέρωσε παγκόσμια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για προγραμματισμό σ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το 1989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αναβαθμίζε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Δίνει δυνατότητες για αντικειμενοστραφή προγραμματισμ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ντικείμενα – επαναχρησιμοποιούμενα συστατικά λογισμικού που μοντελοποιούν κομμάτια του πραγματικού κόσμο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Τα αντικειμενοστραφή προγράμματα είναι εύκολα στην κατανόηση, στην διόρθωση και στη μεταφορά τους σε άλλο υπολογιστικό περιβάλλο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Εντολή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"/>
          <p:cNvSpPr/>
          <p:nvPr/>
        </p:nvSpPr>
        <p:spPr>
          <a:xfrm>
            <a:off x="1317960" y="981000"/>
            <a:ext cx="61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υπολογίζει το άθροισμα 1+2+3+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971640" y="1989000"/>
            <a:ext cx="3816360" cy="29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{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 i, sum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m = 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for (i = 1; i &lt;= 4; i++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          </a:t>
            </a: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sum = sum+i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ystem.out.println(“The sum is “+sum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TextBox 1"/>
          <p:cNvSpPr/>
          <p:nvPr/>
        </p:nvSpPr>
        <p:spPr>
          <a:xfrm>
            <a:off x="5870880" y="1989000"/>
            <a:ext cx="86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l-GR" sz="1400" spc="-1" strike="noStrike" u="sng">
                <a:solidFill>
                  <a:srgbClr val="000090"/>
                </a:solidFill>
                <a:uFillTx/>
                <a:latin typeface="Calibri"/>
              </a:rPr>
              <a:t>Εκτέλεσ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Rectangle 2"/>
          <p:cNvSpPr/>
          <p:nvPr/>
        </p:nvSpPr>
        <p:spPr>
          <a:xfrm>
            <a:off x="5867280" y="2708280"/>
            <a:ext cx="43344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Rectangle 6"/>
          <p:cNvSpPr/>
          <p:nvPr/>
        </p:nvSpPr>
        <p:spPr>
          <a:xfrm>
            <a:off x="6300720" y="2708280"/>
            <a:ext cx="43200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TextBox 8"/>
          <p:cNvSpPr/>
          <p:nvPr/>
        </p:nvSpPr>
        <p:spPr>
          <a:xfrm>
            <a:off x="5942160" y="2421000"/>
            <a:ext cx="2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Calibri"/>
              </a:rPr>
              <a:t>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TextBox 10"/>
          <p:cNvSpPr/>
          <p:nvPr/>
        </p:nvSpPr>
        <p:spPr>
          <a:xfrm>
            <a:off x="6231600" y="2421000"/>
            <a:ext cx="48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Calibri"/>
              </a:rPr>
              <a:t>su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Box 12"/>
          <p:cNvSpPr/>
          <p:nvPr/>
        </p:nvSpPr>
        <p:spPr>
          <a:xfrm>
            <a:off x="6374880" y="270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Εντολή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"/>
          <p:cNvSpPr/>
          <p:nvPr/>
        </p:nvSpPr>
        <p:spPr>
          <a:xfrm>
            <a:off x="1317960" y="981000"/>
            <a:ext cx="61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υπολογίζει το άθροισμα 1+2+3+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971640" y="1989000"/>
            <a:ext cx="3816360" cy="29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{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 i, sum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m = 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for (i = 1; i &lt;= 4; i++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          </a:t>
            </a: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sum = sum+i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ystem.out.println(“The sum is “+sum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Box 1"/>
          <p:cNvSpPr/>
          <p:nvPr/>
        </p:nvSpPr>
        <p:spPr>
          <a:xfrm>
            <a:off x="5870880" y="1989000"/>
            <a:ext cx="86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l-GR" sz="1400" spc="-1" strike="noStrike" u="sng">
                <a:solidFill>
                  <a:srgbClr val="000090"/>
                </a:solidFill>
                <a:uFillTx/>
                <a:latin typeface="Calibri"/>
              </a:rPr>
              <a:t>Εκτέλεσ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Rectangle 2"/>
          <p:cNvSpPr/>
          <p:nvPr/>
        </p:nvSpPr>
        <p:spPr>
          <a:xfrm>
            <a:off x="5867280" y="2708280"/>
            <a:ext cx="43344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Rectangle 6"/>
          <p:cNvSpPr/>
          <p:nvPr/>
        </p:nvSpPr>
        <p:spPr>
          <a:xfrm>
            <a:off x="6300720" y="2708280"/>
            <a:ext cx="43200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TextBox 8"/>
          <p:cNvSpPr/>
          <p:nvPr/>
        </p:nvSpPr>
        <p:spPr>
          <a:xfrm>
            <a:off x="5942160" y="2421000"/>
            <a:ext cx="2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Calibri"/>
              </a:rPr>
              <a:t>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TextBox 10"/>
          <p:cNvSpPr/>
          <p:nvPr/>
        </p:nvSpPr>
        <p:spPr>
          <a:xfrm>
            <a:off x="6231600" y="2421000"/>
            <a:ext cx="48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Calibri"/>
              </a:rPr>
              <a:t>su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TextBox 11"/>
          <p:cNvSpPr/>
          <p:nvPr/>
        </p:nvSpPr>
        <p:spPr>
          <a:xfrm>
            <a:off x="5942160" y="270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TextBox 12"/>
          <p:cNvSpPr/>
          <p:nvPr/>
        </p:nvSpPr>
        <p:spPr>
          <a:xfrm>
            <a:off x="6374880" y="270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Εντολή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"/>
          <p:cNvSpPr/>
          <p:nvPr/>
        </p:nvSpPr>
        <p:spPr>
          <a:xfrm>
            <a:off x="1317960" y="981000"/>
            <a:ext cx="61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υπολογίζει το άθροισμα 1+2+3+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971640" y="1989000"/>
            <a:ext cx="3816360" cy="29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{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 i, sum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m = 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for (i = 1; i &lt;= 4; i++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          </a:t>
            </a: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sum = sum+i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ystem.out.println(“The sum is “+sum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TextBox 1"/>
          <p:cNvSpPr/>
          <p:nvPr/>
        </p:nvSpPr>
        <p:spPr>
          <a:xfrm>
            <a:off x="5870880" y="1989000"/>
            <a:ext cx="86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l-GR" sz="1400" spc="-1" strike="noStrike" u="sng">
                <a:solidFill>
                  <a:srgbClr val="000090"/>
                </a:solidFill>
                <a:uFillTx/>
                <a:latin typeface="Calibri"/>
              </a:rPr>
              <a:t>Εκτέλεσ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Rectangle 2"/>
          <p:cNvSpPr/>
          <p:nvPr/>
        </p:nvSpPr>
        <p:spPr>
          <a:xfrm>
            <a:off x="5867280" y="2708280"/>
            <a:ext cx="43344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6300720" y="2708280"/>
            <a:ext cx="43200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TextBox 8"/>
          <p:cNvSpPr/>
          <p:nvPr/>
        </p:nvSpPr>
        <p:spPr>
          <a:xfrm>
            <a:off x="5942160" y="2421000"/>
            <a:ext cx="2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Calibri"/>
              </a:rPr>
              <a:t>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TextBox 10"/>
          <p:cNvSpPr/>
          <p:nvPr/>
        </p:nvSpPr>
        <p:spPr>
          <a:xfrm>
            <a:off x="6231600" y="2421000"/>
            <a:ext cx="48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Calibri"/>
              </a:rPr>
              <a:t>su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Box 11"/>
          <p:cNvSpPr/>
          <p:nvPr/>
        </p:nvSpPr>
        <p:spPr>
          <a:xfrm>
            <a:off x="5942160" y="270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TextBox 12"/>
          <p:cNvSpPr/>
          <p:nvPr/>
        </p:nvSpPr>
        <p:spPr>
          <a:xfrm>
            <a:off x="6374880" y="270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TextBox 14"/>
          <p:cNvSpPr/>
          <p:nvPr/>
        </p:nvSpPr>
        <p:spPr>
          <a:xfrm>
            <a:off x="6372360" y="2997360"/>
            <a:ext cx="35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Straight Connector 29"/>
          <p:cNvSpPr/>
          <p:nvPr/>
        </p:nvSpPr>
        <p:spPr>
          <a:xfrm flipV="1">
            <a:off x="6443640" y="2781000"/>
            <a:ext cx="144360" cy="142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Εντολή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"/>
          <p:cNvSpPr/>
          <p:nvPr/>
        </p:nvSpPr>
        <p:spPr>
          <a:xfrm>
            <a:off x="1317960" y="981000"/>
            <a:ext cx="61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υπολογίζει το άθροισμα 1+2+3+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Text Box 3"/>
          <p:cNvSpPr/>
          <p:nvPr/>
        </p:nvSpPr>
        <p:spPr>
          <a:xfrm>
            <a:off x="971640" y="1989000"/>
            <a:ext cx="3816360" cy="29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{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 i, sum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m = 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for (i = 1; i &lt;= 4; i++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          </a:t>
            </a: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sum = sum+i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ystem.out.println(“The sum is “+sum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TextBox 1"/>
          <p:cNvSpPr/>
          <p:nvPr/>
        </p:nvSpPr>
        <p:spPr>
          <a:xfrm>
            <a:off x="5870880" y="1989000"/>
            <a:ext cx="86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l-GR" sz="1400" spc="-1" strike="noStrike" u="sng">
                <a:solidFill>
                  <a:srgbClr val="000090"/>
                </a:solidFill>
                <a:uFillTx/>
                <a:latin typeface="Calibri"/>
              </a:rPr>
              <a:t>Εκτέλεσ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Rectangle 2"/>
          <p:cNvSpPr/>
          <p:nvPr/>
        </p:nvSpPr>
        <p:spPr>
          <a:xfrm>
            <a:off x="5867280" y="2708280"/>
            <a:ext cx="43344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Rectangle 6"/>
          <p:cNvSpPr/>
          <p:nvPr/>
        </p:nvSpPr>
        <p:spPr>
          <a:xfrm>
            <a:off x="6300720" y="2708280"/>
            <a:ext cx="43200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TextBox 8"/>
          <p:cNvSpPr/>
          <p:nvPr/>
        </p:nvSpPr>
        <p:spPr>
          <a:xfrm>
            <a:off x="5942160" y="2421000"/>
            <a:ext cx="2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Calibri"/>
              </a:rPr>
              <a:t>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TextBox 10"/>
          <p:cNvSpPr/>
          <p:nvPr/>
        </p:nvSpPr>
        <p:spPr>
          <a:xfrm>
            <a:off x="6231600" y="2421000"/>
            <a:ext cx="48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Calibri"/>
              </a:rPr>
              <a:t>su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TextBox 11"/>
          <p:cNvSpPr/>
          <p:nvPr/>
        </p:nvSpPr>
        <p:spPr>
          <a:xfrm>
            <a:off x="5942160" y="270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TextBox 12"/>
          <p:cNvSpPr/>
          <p:nvPr/>
        </p:nvSpPr>
        <p:spPr>
          <a:xfrm>
            <a:off x="6374880" y="270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TextBox 13"/>
          <p:cNvSpPr/>
          <p:nvPr/>
        </p:nvSpPr>
        <p:spPr>
          <a:xfrm>
            <a:off x="5940360" y="2997360"/>
            <a:ext cx="3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TextBox 14"/>
          <p:cNvSpPr/>
          <p:nvPr/>
        </p:nvSpPr>
        <p:spPr>
          <a:xfrm>
            <a:off x="6372360" y="2997360"/>
            <a:ext cx="35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Straight Connector 28"/>
          <p:cNvSpPr/>
          <p:nvPr/>
        </p:nvSpPr>
        <p:spPr>
          <a:xfrm flipV="1">
            <a:off x="6012000" y="2781000"/>
            <a:ext cx="144360" cy="142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Straight Connector 29"/>
          <p:cNvSpPr/>
          <p:nvPr/>
        </p:nvSpPr>
        <p:spPr>
          <a:xfrm flipV="1">
            <a:off x="6443640" y="2781000"/>
            <a:ext cx="144360" cy="142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Εντολή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"/>
          <p:cNvSpPr/>
          <p:nvPr/>
        </p:nvSpPr>
        <p:spPr>
          <a:xfrm>
            <a:off x="1317960" y="981000"/>
            <a:ext cx="61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υπολογίζει το άθροισμα 1+2+3+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Text Box 3"/>
          <p:cNvSpPr/>
          <p:nvPr/>
        </p:nvSpPr>
        <p:spPr>
          <a:xfrm>
            <a:off x="971640" y="1989000"/>
            <a:ext cx="3816360" cy="29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{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 i, sum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m = 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for (i = 1; i &lt;= 4; i++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          </a:t>
            </a: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sum = sum+i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ystem.out.println(“The sum is “+sum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TextBox 1"/>
          <p:cNvSpPr/>
          <p:nvPr/>
        </p:nvSpPr>
        <p:spPr>
          <a:xfrm>
            <a:off x="5870880" y="1989000"/>
            <a:ext cx="86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l-GR" sz="1400" spc="-1" strike="noStrike" u="sng">
                <a:solidFill>
                  <a:srgbClr val="000090"/>
                </a:solidFill>
                <a:uFillTx/>
                <a:latin typeface="Calibri"/>
              </a:rPr>
              <a:t>Εκτέλεσ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5867280" y="2708280"/>
            <a:ext cx="43344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6300720" y="2708280"/>
            <a:ext cx="43200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TextBox 8"/>
          <p:cNvSpPr/>
          <p:nvPr/>
        </p:nvSpPr>
        <p:spPr>
          <a:xfrm>
            <a:off x="5942160" y="2421000"/>
            <a:ext cx="2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Calibri"/>
              </a:rPr>
              <a:t>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TextBox 10"/>
          <p:cNvSpPr/>
          <p:nvPr/>
        </p:nvSpPr>
        <p:spPr>
          <a:xfrm>
            <a:off x="6231600" y="2421000"/>
            <a:ext cx="48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Calibri"/>
              </a:rPr>
              <a:t>su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TextBox 11"/>
          <p:cNvSpPr/>
          <p:nvPr/>
        </p:nvSpPr>
        <p:spPr>
          <a:xfrm>
            <a:off x="5942160" y="270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TextBox 12"/>
          <p:cNvSpPr/>
          <p:nvPr/>
        </p:nvSpPr>
        <p:spPr>
          <a:xfrm>
            <a:off x="6374880" y="270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TextBox 13"/>
          <p:cNvSpPr/>
          <p:nvPr/>
        </p:nvSpPr>
        <p:spPr>
          <a:xfrm>
            <a:off x="5940360" y="2997360"/>
            <a:ext cx="3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TextBox 14"/>
          <p:cNvSpPr/>
          <p:nvPr/>
        </p:nvSpPr>
        <p:spPr>
          <a:xfrm>
            <a:off x="6372360" y="2997360"/>
            <a:ext cx="35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TextBox 16"/>
          <p:cNvSpPr/>
          <p:nvPr/>
        </p:nvSpPr>
        <p:spPr>
          <a:xfrm>
            <a:off x="6372360" y="3284640"/>
            <a:ext cx="35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Straight Connector 28"/>
          <p:cNvSpPr/>
          <p:nvPr/>
        </p:nvSpPr>
        <p:spPr>
          <a:xfrm flipV="1">
            <a:off x="6012000" y="2781000"/>
            <a:ext cx="144360" cy="142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Straight Connector 29"/>
          <p:cNvSpPr/>
          <p:nvPr/>
        </p:nvSpPr>
        <p:spPr>
          <a:xfrm flipV="1">
            <a:off x="6443640" y="2781000"/>
            <a:ext cx="144360" cy="142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Straight Connector 30"/>
          <p:cNvSpPr/>
          <p:nvPr/>
        </p:nvSpPr>
        <p:spPr>
          <a:xfrm flipV="1">
            <a:off x="6443640" y="3068280"/>
            <a:ext cx="14436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Εντολή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"/>
          <p:cNvSpPr/>
          <p:nvPr/>
        </p:nvSpPr>
        <p:spPr>
          <a:xfrm>
            <a:off x="1317960" y="981000"/>
            <a:ext cx="61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υπολογίζει το άθροισμα 1+2+3+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Text Box 3"/>
          <p:cNvSpPr/>
          <p:nvPr/>
        </p:nvSpPr>
        <p:spPr>
          <a:xfrm>
            <a:off x="971640" y="1989000"/>
            <a:ext cx="3816360" cy="29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{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 i, sum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m = 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for (i = 1; i &lt;= 4; i++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          </a:t>
            </a: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sum = sum+i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ystem.out.println(“The sum is “+sum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TextBox 1"/>
          <p:cNvSpPr/>
          <p:nvPr/>
        </p:nvSpPr>
        <p:spPr>
          <a:xfrm>
            <a:off x="5870880" y="1989000"/>
            <a:ext cx="86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l-GR" sz="1400" spc="-1" strike="noStrike" u="sng">
                <a:solidFill>
                  <a:srgbClr val="000090"/>
                </a:solidFill>
                <a:uFillTx/>
                <a:latin typeface="Calibri"/>
              </a:rPr>
              <a:t>Εκτέλεσ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Rectangle 2"/>
          <p:cNvSpPr/>
          <p:nvPr/>
        </p:nvSpPr>
        <p:spPr>
          <a:xfrm>
            <a:off x="5867280" y="2708280"/>
            <a:ext cx="43344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6300720" y="2708280"/>
            <a:ext cx="43200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TextBox 8"/>
          <p:cNvSpPr/>
          <p:nvPr/>
        </p:nvSpPr>
        <p:spPr>
          <a:xfrm>
            <a:off x="5942160" y="2421000"/>
            <a:ext cx="2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Calibri"/>
              </a:rPr>
              <a:t>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TextBox 10"/>
          <p:cNvSpPr/>
          <p:nvPr/>
        </p:nvSpPr>
        <p:spPr>
          <a:xfrm>
            <a:off x="6231600" y="2421000"/>
            <a:ext cx="48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Calibri"/>
              </a:rPr>
              <a:t>su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TextBox 11"/>
          <p:cNvSpPr/>
          <p:nvPr/>
        </p:nvSpPr>
        <p:spPr>
          <a:xfrm>
            <a:off x="5942160" y="270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TextBox 12"/>
          <p:cNvSpPr/>
          <p:nvPr/>
        </p:nvSpPr>
        <p:spPr>
          <a:xfrm>
            <a:off x="6374880" y="270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TextBox 13"/>
          <p:cNvSpPr/>
          <p:nvPr/>
        </p:nvSpPr>
        <p:spPr>
          <a:xfrm>
            <a:off x="5940360" y="2997360"/>
            <a:ext cx="3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TextBox 14"/>
          <p:cNvSpPr/>
          <p:nvPr/>
        </p:nvSpPr>
        <p:spPr>
          <a:xfrm>
            <a:off x="6372360" y="2997360"/>
            <a:ext cx="35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TextBox 15"/>
          <p:cNvSpPr/>
          <p:nvPr/>
        </p:nvSpPr>
        <p:spPr>
          <a:xfrm>
            <a:off x="5940360" y="3284640"/>
            <a:ext cx="3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TextBox 16"/>
          <p:cNvSpPr/>
          <p:nvPr/>
        </p:nvSpPr>
        <p:spPr>
          <a:xfrm>
            <a:off x="6372360" y="3284640"/>
            <a:ext cx="35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Straight Connector 28"/>
          <p:cNvSpPr/>
          <p:nvPr/>
        </p:nvSpPr>
        <p:spPr>
          <a:xfrm flipV="1">
            <a:off x="6012000" y="2781000"/>
            <a:ext cx="144360" cy="142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Straight Connector 29"/>
          <p:cNvSpPr/>
          <p:nvPr/>
        </p:nvSpPr>
        <p:spPr>
          <a:xfrm flipV="1">
            <a:off x="6443640" y="2781000"/>
            <a:ext cx="144360" cy="142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Straight Connector 30"/>
          <p:cNvSpPr/>
          <p:nvPr/>
        </p:nvSpPr>
        <p:spPr>
          <a:xfrm flipV="1">
            <a:off x="6443640" y="3068280"/>
            <a:ext cx="14436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Straight Connector 31"/>
          <p:cNvSpPr/>
          <p:nvPr/>
        </p:nvSpPr>
        <p:spPr>
          <a:xfrm flipV="1">
            <a:off x="6012000" y="3068280"/>
            <a:ext cx="14436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Εντολή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"/>
          <p:cNvSpPr/>
          <p:nvPr/>
        </p:nvSpPr>
        <p:spPr>
          <a:xfrm>
            <a:off x="1317960" y="981000"/>
            <a:ext cx="61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υπολογίζει το άθροισμα 1+2+3+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971640" y="1989000"/>
            <a:ext cx="3816360" cy="29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{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 i, sum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m = 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for (i = 1; i &lt;= 4; i++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          </a:t>
            </a: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sum = sum+i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ystem.out.println(“The sum is “+sum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TextBox 1"/>
          <p:cNvSpPr/>
          <p:nvPr/>
        </p:nvSpPr>
        <p:spPr>
          <a:xfrm>
            <a:off x="5870880" y="1989000"/>
            <a:ext cx="86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l-GR" sz="1400" spc="-1" strike="noStrike" u="sng">
                <a:solidFill>
                  <a:srgbClr val="000090"/>
                </a:solidFill>
                <a:uFillTx/>
                <a:latin typeface="Calibri"/>
              </a:rPr>
              <a:t>Εκτέλεσ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Rectangle 2"/>
          <p:cNvSpPr/>
          <p:nvPr/>
        </p:nvSpPr>
        <p:spPr>
          <a:xfrm>
            <a:off x="5867280" y="2708280"/>
            <a:ext cx="43344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6300720" y="2708280"/>
            <a:ext cx="43200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TextBox 8"/>
          <p:cNvSpPr/>
          <p:nvPr/>
        </p:nvSpPr>
        <p:spPr>
          <a:xfrm>
            <a:off x="5942160" y="2421000"/>
            <a:ext cx="2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Calibri"/>
              </a:rPr>
              <a:t>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TextBox 10"/>
          <p:cNvSpPr/>
          <p:nvPr/>
        </p:nvSpPr>
        <p:spPr>
          <a:xfrm>
            <a:off x="6231600" y="2421000"/>
            <a:ext cx="48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Calibri"/>
              </a:rPr>
              <a:t>su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TextBox 11"/>
          <p:cNvSpPr/>
          <p:nvPr/>
        </p:nvSpPr>
        <p:spPr>
          <a:xfrm>
            <a:off x="5942160" y="270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TextBox 12"/>
          <p:cNvSpPr/>
          <p:nvPr/>
        </p:nvSpPr>
        <p:spPr>
          <a:xfrm>
            <a:off x="6374880" y="270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TextBox 13"/>
          <p:cNvSpPr/>
          <p:nvPr/>
        </p:nvSpPr>
        <p:spPr>
          <a:xfrm>
            <a:off x="5940360" y="2997360"/>
            <a:ext cx="3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TextBox 14"/>
          <p:cNvSpPr/>
          <p:nvPr/>
        </p:nvSpPr>
        <p:spPr>
          <a:xfrm>
            <a:off x="6372360" y="2997360"/>
            <a:ext cx="35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TextBox 15"/>
          <p:cNvSpPr/>
          <p:nvPr/>
        </p:nvSpPr>
        <p:spPr>
          <a:xfrm>
            <a:off x="5940360" y="3284640"/>
            <a:ext cx="3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TextBox 16"/>
          <p:cNvSpPr/>
          <p:nvPr/>
        </p:nvSpPr>
        <p:spPr>
          <a:xfrm>
            <a:off x="6372360" y="3284640"/>
            <a:ext cx="35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Box 18"/>
          <p:cNvSpPr/>
          <p:nvPr/>
        </p:nvSpPr>
        <p:spPr>
          <a:xfrm>
            <a:off x="6372360" y="3573360"/>
            <a:ext cx="35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Straight Connector 28"/>
          <p:cNvSpPr/>
          <p:nvPr/>
        </p:nvSpPr>
        <p:spPr>
          <a:xfrm flipV="1">
            <a:off x="6012000" y="2781000"/>
            <a:ext cx="144360" cy="142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Straight Connector 29"/>
          <p:cNvSpPr/>
          <p:nvPr/>
        </p:nvSpPr>
        <p:spPr>
          <a:xfrm flipV="1">
            <a:off x="6443640" y="2781000"/>
            <a:ext cx="144360" cy="142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Straight Connector 30"/>
          <p:cNvSpPr/>
          <p:nvPr/>
        </p:nvSpPr>
        <p:spPr>
          <a:xfrm flipV="1">
            <a:off x="6443640" y="3068280"/>
            <a:ext cx="14436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Straight Connector 31"/>
          <p:cNvSpPr/>
          <p:nvPr/>
        </p:nvSpPr>
        <p:spPr>
          <a:xfrm flipV="1">
            <a:off x="6012000" y="3068280"/>
            <a:ext cx="14436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Straight Connector 32"/>
          <p:cNvSpPr/>
          <p:nvPr/>
        </p:nvSpPr>
        <p:spPr>
          <a:xfrm flipV="1">
            <a:off x="6443640" y="3357720"/>
            <a:ext cx="144360" cy="142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Εντολή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1317960" y="981000"/>
            <a:ext cx="61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υπολογίζει το άθροισμα 1+2+3+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971640" y="1989000"/>
            <a:ext cx="3816360" cy="29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{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 i, sum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m = 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for (i = 1; i &lt;= 4; i++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          </a:t>
            </a: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sum = sum+i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ystem.out.println(“The sum is “+sum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TextBox 1"/>
          <p:cNvSpPr/>
          <p:nvPr/>
        </p:nvSpPr>
        <p:spPr>
          <a:xfrm>
            <a:off x="5870880" y="1989000"/>
            <a:ext cx="86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l-GR" sz="1400" spc="-1" strike="noStrike" u="sng">
                <a:solidFill>
                  <a:srgbClr val="000090"/>
                </a:solidFill>
                <a:uFillTx/>
                <a:latin typeface="Calibri"/>
              </a:rPr>
              <a:t>Εκτέλεσ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5867280" y="2708280"/>
            <a:ext cx="43344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6300720" y="2708280"/>
            <a:ext cx="43200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xtBox 8"/>
          <p:cNvSpPr/>
          <p:nvPr/>
        </p:nvSpPr>
        <p:spPr>
          <a:xfrm>
            <a:off x="5942160" y="2421000"/>
            <a:ext cx="2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Calibri"/>
              </a:rPr>
              <a:t>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TextBox 10"/>
          <p:cNvSpPr/>
          <p:nvPr/>
        </p:nvSpPr>
        <p:spPr>
          <a:xfrm>
            <a:off x="6231600" y="2421000"/>
            <a:ext cx="48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Calibri"/>
              </a:rPr>
              <a:t>su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TextBox 11"/>
          <p:cNvSpPr/>
          <p:nvPr/>
        </p:nvSpPr>
        <p:spPr>
          <a:xfrm>
            <a:off x="5942160" y="270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TextBox 12"/>
          <p:cNvSpPr/>
          <p:nvPr/>
        </p:nvSpPr>
        <p:spPr>
          <a:xfrm>
            <a:off x="6374880" y="270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TextBox 13"/>
          <p:cNvSpPr/>
          <p:nvPr/>
        </p:nvSpPr>
        <p:spPr>
          <a:xfrm>
            <a:off x="5940360" y="2997360"/>
            <a:ext cx="3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TextBox 14"/>
          <p:cNvSpPr/>
          <p:nvPr/>
        </p:nvSpPr>
        <p:spPr>
          <a:xfrm>
            <a:off x="6372360" y="2997360"/>
            <a:ext cx="35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TextBox 15"/>
          <p:cNvSpPr/>
          <p:nvPr/>
        </p:nvSpPr>
        <p:spPr>
          <a:xfrm>
            <a:off x="5940360" y="3284640"/>
            <a:ext cx="3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TextBox 16"/>
          <p:cNvSpPr/>
          <p:nvPr/>
        </p:nvSpPr>
        <p:spPr>
          <a:xfrm>
            <a:off x="6372360" y="3284640"/>
            <a:ext cx="35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TextBox 18"/>
          <p:cNvSpPr/>
          <p:nvPr/>
        </p:nvSpPr>
        <p:spPr>
          <a:xfrm>
            <a:off x="6372360" y="3573360"/>
            <a:ext cx="35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TextBox 20"/>
          <p:cNvSpPr/>
          <p:nvPr/>
        </p:nvSpPr>
        <p:spPr>
          <a:xfrm>
            <a:off x="5940360" y="3573360"/>
            <a:ext cx="3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Straight Connector 28"/>
          <p:cNvSpPr/>
          <p:nvPr/>
        </p:nvSpPr>
        <p:spPr>
          <a:xfrm flipV="1">
            <a:off x="6012000" y="2781000"/>
            <a:ext cx="144360" cy="142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Straight Connector 29"/>
          <p:cNvSpPr/>
          <p:nvPr/>
        </p:nvSpPr>
        <p:spPr>
          <a:xfrm flipV="1">
            <a:off x="6443640" y="2781000"/>
            <a:ext cx="144360" cy="142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Straight Connector 30"/>
          <p:cNvSpPr/>
          <p:nvPr/>
        </p:nvSpPr>
        <p:spPr>
          <a:xfrm flipV="1">
            <a:off x="6443640" y="3068280"/>
            <a:ext cx="14436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Straight Connector 31"/>
          <p:cNvSpPr/>
          <p:nvPr/>
        </p:nvSpPr>
        <p:spPr>
          <a:xfrm flipV="1">
            <a:off x="6012000" y="3068280"/>
            <a:ext cx="14436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Straight Connector 32"/>
          <p:cNvSpPr/>
          <p:nvPr/>
        </p:nvSpPr>
        <p:spPr>
          <a:xfrm flipV="1">
            <a:off x="6443640" y="3357720"/>
            <a:ext cx="144360" cy="142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Straight Connector 33"/>
          <p:cNvSpPr/>
          <p:nvPr/>
        </p:nvSpPr>
        <p:spPr>
          <a:xfrm flipV="1">
            <a:off x="6012000" y="3357720"/>
            <a:ext cx="144360" cy="142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Εντολή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2"/>
          <p:cNvSpPr/>
          <p:nvPr/>
        </p:nvSpPr>
        <p:spPr>
          <a:xfrm>
            <a:off x="1317960" y="981000"/>
            <a:ext cx="61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υπολογίζει το άθροισμα 1+2+3+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Text Box 3"/>
          <p:cNvSpPr/>
          <p:nvPr/>
        </p:nvSpPr>
        <p:spPr>
          <a:xfrm>
            <a:off x="971640" y="1989000"/>
            <a:ext cx="3816360" cy="29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{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 i, sum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m = 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for (i = 1; i &lt;= 4; i++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          </a:t>
            </a: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sum = sum+i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ystem.out.println(“The sum is “+sum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TextBox 1"/>
          <p:cNvSpPr/>
          <p:nvPr/>
        </p:nvSpPr>
        <p:spPr>
          <a:xfrm>
            <a:off x="5870880" y="1989000"/>
            <a:ext cx="86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l-GR" sz="1400" spc="-1" strike="noStrike" u="sng">
                <a:solidFill>
                  <a:srgbClr val="000090"/>
                </a:solidFill>
                <a:uFillTx/>
                <a:latin typeface="Calibri"/>
              </a:rPr>
              <a:t>Εκτέλεσ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5867280" y="2708280"/>
            <a:ext cx="43344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Rectangle 6"/>
          <p:cNvSpPr/>
          <p:nvPr/>
        </p:nvSpPr>
        <p:spPr>
          <a:xfrm>
            <a:off x="6300720" y="2708280"/>
            <a:ext cx="43200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TextBox 8"/>
          <p:cNvSpPr/>
          <p:nvPr/>
        </p:nvSpPr>
        <p:spPr>
          <a:xfrm>
            <a:off x="5942160" y="2421000"/>
            <a:ext cx="2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Calibri"/>
              </a:rPr>
              <a:t>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TextBox 10"/>
          <p:cNvSpPr/>
          <p:nvPr/>
        </p:nvSpPr>
        <p:spPr>
          <a:xfrm>
            <a:off x="6231600" y="2421000"/>
            <a:ext cx="48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Calibri"/>
              </a:rPr>
              <a:t>su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TextBox 11"/>
          <p:cNvSpPr/>
          <p:nvPr/>
        </p:nvSpPr>
        <p:spPr>
          <a:xfrm>
            <a:off x="5942160" y="270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TextBox 12"/>
          <p:cNvSpPr/>
          <p:nvPr/>
        </p:nvSpPr>
        <p:spPr>
          <a:xfrm>
            <a:off x="6374880" y="270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TextBox 13"/>
          <p:cNvSpPr/>
          <p:nvPr/>
        </p:nvSpPr>
        <p:spPr>
          <a:xfrm>
            <a:off x="5940360" y="2997360"/>
            <a:ext cx="3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TextBox 14"/>
          <p:cNvSpPr/>
          <p:nvPr/>
        </p:nvSpPr>
        <p:spPr>
          <a:xfrm>
            <a:off x="6372360" y="2997360"/>
            <a:ext cx="35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TextBox 15"/>
          <p:cNvSpPr/>
          <p:nvPr/>
        </p:nvSpPr>
        <p:spPr>
          <a:xfrm>
            <a:off x="5940360" y="3284640"/>
            <a:ext cx="3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TextBox 16"/>
          <p:cNvSpPr/>
          <p:nvPr/>
        </p:nvSpPr>
        <p:spPr>
          <a:xfrm>
            <a:off x="6372360" y="3284640"/>
            <a:ext cx="35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TextBox 18"/>
          <p:cNvSpPr/>
          <p:nvPr/>
        </p:nvSpPr>
        <p:spPr>
          <a:xfrm>
            <a:off x="6372360" y="3573360"/>
            <a:ext cx="35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TextBox 19"/>
          <p:cNvSpPr/>
          <p:nvPr/>
        </p:nvSpPr>
        <p:spPr>
          <a:xfrm>
            <a:off x="6372360" y="386064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TextBox 20"/>
          <p:cNvSpPr/>
          <p:nvPr/>
        </p:nvSpPr>
        <p:spPr>
          <a:xfrm>
            <a:off x="5940360" y="3573360"/>
            <a:ext cx="3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Straight Connector 28"/>
          <p:cNvSpPr/>
          <p:nvPr/>
        </p:nvSpPr>
        <p:spPr>
          <a:xfrm flipV="1">
            <a:off x="6012000" y="2781000"/>
            <a:ext cx="144360" cy="142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Straight Connector 29"/>
          <p:cNvSpPr/>
          <p:nvPr/>
        </p:nvSpPr>
        <p:spPr>
          <a:xfrm flipV="1">
            <a:off x="6443640" y="2781000"/>
            <a:ext cx="144360" cy="142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Straight Connector 30"/>
          <p:cNvSpPr/>
          <p:nvPr/>
        </p:nvSpPr>
        <p:spPr>
          <a:xfrm flipV="1">
            <a:off x="6443640" y="3068280"/>
            <a:ext cx="14436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Straight Connector 31"/>
          <p:cNvSpPr/>
          <p:nvPr/>
        </p:nvSpPr>
        <p:spPr>
          <a:xfrm flipV="1">
            <a:off x="6012000" y="3068280"/>
            <a:ext cx="14436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Straight Connector 32"/>
          <p:cNvSpPr/>
          <p:nvPr/>
        </p:nvSpPr>
        <p:spPr>
          <a:xfrm flipV="1">
            <a:off x="6443640" y="3357720"/>
            <a:ext cx="144360" cy="142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Straight Connector 33"/>
          <p:cNvSpPr/>
          <p:nvPr/>
        </p:nvSpPr>
        <p:spPr>
          <a:xfrm flipV="1">
            <a:off x="6012000" y="3357720"/>
            <a:ext cx="144360" cy="142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Straight Connector 34"/>
          <p:cNvSpPr/>
          <p:nvPr/>
        </p:nvSpPr>
        <p:spPr>
          <a:xfrm flipV="1">
            <a:off x="6443640" y="3644640"/>
            <a:ext cx="14436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Εντολή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2"/>
          <p:cNvSpPr/>
          <p:nvPr/>
        </p:nvSpPr>
        <p:spPr>
          <a:xfrm>
            <a:off x="1317960" y="981000"/>
            <a:ext cx="61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υπολογίζει το άθροισμα 1+2+3+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Text Box 3"/>
          <p:cNvSpPr/>
          <p:nvPr/>
        </p:nvSpPr>
        <p:spPr>
          <a:xfrm>
            <a:off x="971640" y="1989000"/>
            <a:ext cx="3816360" cy="29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{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 i, sum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m = 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for (i = 1; i &lt;= 4; i++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          </a:t>
            </a: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sum = sum+i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ystem.out.println(“The sum is “+sum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TextBox 1"/>
          <p:cNvSpPr/>
          <p:nvPr/>
        </p:nvSpPr>
        <p:spPr>
          <a:xfrm>
            <a:off x="5870880" y="1989000"/>
            <a:ext cx="86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l-GR" sz="1400" spc="-1" strike="noStrike" u="sng">
                <a:solidFill>
                  <a:srgbClr val="000090"/>
                </a:solidFill>
                <a:uFillTx/>
                <a:latin typeface="Calibri"/>
              </a:rPr>
              <a:t>Εκτέλεσ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Rectangle 2"/>
          <p:cNvSpPr/>
          <p:nvPr/>
        </p:nvSpPr>
        <p:spPr>
          <a:xfrm>
            <a:off x="5867280" y="2708280"/>
            <a:ext cx="43344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6300720" y="2708280"/>
            <a:ext cx="43200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TextBox 8"/>
          <p:cNvSpPr/>
          <p:nvPr/>
        </p:nvSpPr>
        <p:spPr>
          <a:xfrm>
            <a:off x="5942160" y="2421000"/>
            <a:ext cx="2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Calibri"/>
              </a:rPr>
              <a:t>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TextBox 10"/>
          <p:cNvSpPr/>
          <p:nvPr/>
        </p:nvSpPr>
        <p:spPr>
          <a:xfrm>
            <a:off x="6231600" y="2421000"/>
            <a:ext cx="48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Calibri"/>
              </a:rPr>
              <a:t>su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TextBox 11"/>
          <p:cNvSpPr/>
          <p:nvPr/>
        </p:nvSpPr>
        <p:spPr>
          <a:xfrm>
            <a:off x="5942160" y="270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TextBox 12"/>
          <p:cNvSpPr/>
          <p:nvPr/>
        </p:nvSpPr>
        <p:spPr>
          <a:xfrm>
            <a:off x="6374880" y="270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TextBox 13"/>
          <p:cNvSpPr/>
          <p:nvPr/>
        </p:nvSpPr>
        <p:spPr>
          <a:xfrm>
            <a:off x="5940360" y="2997360"/>
            <a:ext cx="3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TextBox 14"/>
          <p:cNvSpPr/>
          <p:nvPr/>
        </p:nvSpPr>
        <p:spPr>
          <a:xfrm>
            <a:off x="6372360" y="2997360"/>
            <a:ext cx="35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TextBox 15"/>
          <p:cNvSpPr/>
          <p:nvPr/>
        </p:nvSpPr>
        <p:spPr>
          <a:xfrm>
            <a:off x="5940360" y="3284640"/>
            <a:ext cx="3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TextBox 16"/>
          <p:cNvSpPr/>
          <p:nvPr/>
        </p:nvSpPr>
        <p:spPr>
          <a:xfrm>
            <a:off x="6372360" y="3284640"/>
            <a:ext cx="35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TextBox 18"/>
          <p:cNvSpPr/>
          <p:nvPr/>
        </p:nvSpPr>
        <p:spPr>
          <a:xfrm>
            <a:off x="6372360" y="3573360"/>
            <a:ext cx="35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TextBox 19"/>
          <p:cNvSpPr/>
          <p:nvPr/>
        </p:nvSpPr>
        <p:spPr>
          <a:xfrm>
            <a:off x="6372360" y="386064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TextBox 20"/>
          <p:cNvSpPr/>
          <p:nvPr/>
        </p:nvSpPr>
        <p:spPr>
          <a:xfrm>
            <a:off x="5940360" y="3573360"/>
            <a:ext cx="3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xtBox 21"/>
          <p:cNvSpPr/>
          <p:nvPr/>
        </p:nvSpPr>
        <p:spPr>
          <a:xfrm>
            <a:off x="5940360" y="3860640"/>
            <a:ext cx="3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Straight Connector 28"/>
          <p:cNvSpPr/>
          <p:nvPr/>
        </p:nvSpPr>
        <p:spPr>
          <a:xfrm flipV="1">
            <a:off x="6012000" y="2781000"/>
            <a:ext cx="144360" cy="142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Straight Connector 29"/>
          <p:cNvSpPr/>
          <p:nvPr/>
        </p:nvSpPr>
        <p:spPr>
          <a:xfrm flipV="1">
            <a:off x="6443640" y="2781000"/>
            <a:ext cx="144360" cy="142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Straight Connector 30"/>
          <p:cNvSpPr/>
          <p:nvPr/>
        </p:nvSpPr>
        <p:spPr>
          <a:xfrm flipV="1">
            <a:off x="6443640" y="3068280"/>
            <a:ext cx="14436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Straight Connector 31"/>
          <p:cNvSpPr/>
          <p:nvPr/>
        </p:nvSpPr>
        <p:spPr>
          <a:xfrm flipV="1">
            <a:off x="6012000" y="3068280"/>
            <a:ext cx="14436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Straight Connector 32"/>
          <p:cNvSpPr/>
          <p:nvPr/>
        </p:nvSpPr>
        <p:spPr>
          <a:xfrm flipV="1">
            <a:off x="6443640" y="3357720"/>
            <a:ext cx="144360" cy="142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Straight Connector 33"/>
          <p:cNvSpPr/>
          <p:nvPr/>
        </p:nvSpPr>
        <p:spPr>
          <a:xfrm flipV="1">
            <a:off x="6012000" y="3357720"/>
            <a:ext cx="144360" cy="142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Straight Connector 34"/>
          <p:cNvSpPr/>
          <p:nvPr/>
        </p:nvSpPr>
        <p:spPr>
          <a:xfrm flipV="1">
            <a:off x="6443640" y="3644640"/>
            <a:ext cx="14436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Straight Connector 35"/>
          <p:cNvSpPr/>
          <p:nvPr/>
        </p:nvSpPr>
        <p:spPr>
          <a:xfrm flipV="1">
            <a:off x="6012000" y="3644640"/>
            <a:ext cx="14436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Βασίστηκε στην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και στην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++ (SUN MICROSYSTEM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Το αρχικό της όνομα ήταν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Oak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βελανιδιά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Αναπτύχθηκε από τον James Gosling το 1991 για «έξυπνες» ηλεκτρονικές συσκευέ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πειδή δεν αναπτύχθηκε η αγορά, 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κινδύνευσε να ακυρωθε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Με την έκρηξη του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 το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93,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το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 σώθηκ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χρησιμοποιήθηκε για την δημιουργία σελίδων με δυναμικό περιεχόμεν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Η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 ανακοινώθηκε επίσημα το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9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Ιστορική εξέλιξη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Παράδειγμ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2"/>
          <p:cNvSpPr/>
          <p:nvPr/>
        </p:nvSpPr>
        <p:spPr>
          <a:xfrm>
            <a:off x="468360" y="907920"/>
            <a:ext cx="842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θα δέχεται ως είσοδο έναν θετικό ακέραιο και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ετράει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”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 ανάποδα από αυτόν το ακέραιο μέχρι το μηδέ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Text Box 3"/>
          <p:cNvSpPr/>
          <p:nvPr/>
        </p:nvSpPr>
        <p:spPr>
          <a:xfrm>
            <a:off x="2484360" y="1844640"/>
            <a:ext cx="4824360" cy="34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nner input = new Scanner( System.in );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  Ν, i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("Enter number: 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 = input.nextInt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for (i = N; i &gt;= 0; i--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System.out.println(“I = “ + i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Παράδειγμα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2"/>
          <p:cNvSpPr/>
          <p:nvPr/>
        </p:nvSpPr>
        <p:spPr>
          <a:xfrm>
            <a:off x="576360" y="90792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θα δέχεται ως είσοδο δύο θετικούς ακεραίους και θα εκτυπώνει όλους τους κοινούς διαιρέτες του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Text Box 3"/>
          <p:cNvSpPr/>
          <p:nvPr/>
        </p:nvSpPr>
        <p:spPr>
          <a:xfrm>
            <a:off x="1836720" y="1844640"/>
            <a:ext cx="5472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{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nner input = new Scanner( System.in );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  a, b, i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("Enter 2 numbers: 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= input.nextInt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= input.nextInt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Παράδειγμα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2"/>
          <p:cNvSpPr/>
          <p:nvPr/>
        </p:nvSpPr>
        <p:spPr>
          <a:xfrm>
            <a:off x="576360" y="90792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θα δέχεται ως είσοδο δύο θετικούς ακεραίους και θα εκτυπώνει όλους τους κοινούς διαιρέτες του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Text Box 3"/>
          <p:cNvSpPr/>
          <p:nvPr/>
        </p:nvSpPr>
        <p:spPr>
          <a:xfrm>
            <a:off x="1836720" y="1844640"/>
            <a:ext cx="5472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{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nner input = new Scanner( System.in );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  a, b, i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("Enter 2 numbers: 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= input.nextInt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= input.nextInt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for (i = 1; i &lt;= a; i++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if ((a%i == 0) &amp;&amp; (b%i == 0)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System.out.println(“Common Divison: “  + i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Παράδειγμα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"/>
          <p:cNvSpPr/>
          <p:nvPr/>
        </p:nvSpPr>
        <p:spPr>
          <a:xfrm>
            <a:off x="576360" y="90792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θα δέχεται ως είσοδο δύο θετικούς ακεραίους και θα εκτυπώνει όλους τους κοινούς διαιρέτες του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1836720" y="1844640"/>
            <a:ext cx="5472000" cy="42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{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nner input = new Scanner( System.in );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  a, b, i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("Enter 2 numbers: 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= input.nextInt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= input.nextInt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Παράδειγμα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2"/>
          <p:cNvSpPr/>
          <p:nvPr/>
        </p:nvSpPr>
        <p:spPr>
          <a:xfrm>
            <a:off x="576360" y="90792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θα δέχεται ως είσοδο δύο θετικούς ακεραίους και θα εκτυπώνει όλους τους κοινούς διαιρέτες του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Text Box 3"/>
          <p:cNvSpPr/>
          <p:nvPr/>
        </p:nvSpPr>
        <p:spPr>
          <a:xfrm>
            <a:off x="1836720" y="1844640"/>
            <a:ext cx="5472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{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nner input = new Scanner( System.in );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  a, b, i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("Enter 2 numbers: 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= input.nextInt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= input.nextInt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for (i = 1; i &lt;= a; i++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if ((a%i == 0) &amp;&amp; (b%i == 0)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System.out.println(“Common Divisor: “  + i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Παράδειγμα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"/>
          <p:cNvSpPr/>
          <p:nvPr/>
        </p:nvSpPr>
        <p:spPr>
          <a:xfrm>
            <a:off x="576360" y="90792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θα δέχεται ως είσοδο δύο θετικούς ακεραίους και θα εκτυπώνει τον μέγιστο κοινό διαιρέτη του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1836720" y="1844640"/>
            <a:ext cx="5472000" cy="42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{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nner input = new Scanner( System.in );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  a, b, i, max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("Enter 2 numbers: 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= input.nextInt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= input.nextInt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 = 1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f("Greatest Common Divisor: %d\n", max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Παράδειγμα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2"/>
          <p:cNvSpPr/>
          <p:nvPr/>
        </p:nvSpPr>
        <p:spPr>
          <a:xfrm>
            <a:off x="576360" y="90792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θα δέχεται ως είσοδο δύο θετικούς ακεραίους και θα εκτυπώνει τον μέγιστο κοινό διαιρέτη του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Text Box 3"/>
          <p:cNvSpPr/>
          <p:nvPr/>
        </p:nvSpPr>
        <p:spPr>
          <a:xfrm>
            <a:off x="1836720" y="1844640"/>
            <a:ext cx="5472000" cy="42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{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nner input = new Scanner( System.in );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  a, b, i, max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("Enter 2 numbers: 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= input.nextInt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= input.nextInt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 = 1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for (i = 2; i &lt;= a; i++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if ((a%i == 0) &amp;&amp; (b%i == 0)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max = i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f("Greatest Common Divisor: %d\n", max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Παράδειγμα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2"/>
          <p:cNvSpPr/>
          <p:nvPr/>
        </p:nvSpPr>
        <p:spPr>
          <a:xfrm>
            <a:off x="465120" y="79056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θα δέχεται ως είσοδο έναν θετικό ακέραιο και θα υπολογίζει εάν είναι πρώτο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Text Box 3"/>
          <p:cNvSpPr/>
          <p:nvPr/>
        </p:nvSpPr>
        <p:spPr>
          <a:xfrm>
            <a:off x="1371600" y="1600200"/>
            <a:ext cx="6850080" cy="47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{ 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nner input = new Scanner( System.in );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  a, i, d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("Enter a number: 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= input.nextInt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= 1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f (d ==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Prime Number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Composite Number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Παράδειγμα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2"/>
          <p:cNvSpPr/>
          <p:nvPr/>
        </p:nvSpPr>
        <p:spPr>
          <a:xfrm>
            <a:off x="465120" y="79056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θα δέχεται ως είσοδο έναν θετικό ακέραιο και θα υπολογίζει εάν είναι πρώτο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Text Box 3"/>
          <p:cNvSpPr/>
          <p:nvPr/>
        </p:nvSpPr>
        <p:spPr>
          <a:xfrm>
            <a:off x="1371600" y="1600200"/>
            <a:ext cx="6850080" cy="47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{ 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nner input = new Scanner( System.in );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  a, i, d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("Enter a number: 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= input.nextInt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= 1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for (i = 2; i &lt; a; i++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if (a%i == 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d = i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f (d ==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Prime Number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Composite Number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Εντολή </a:t>
            </a:r>
            <a:r>
              <a:rPr b="1" i="1" lang="en-GB" sz="2000" spc="-1" strike="noStrike">
                <a:solidFill>
                  <a:srgbClr val="000099"/>
                </a:solidFill>
                <a:latin typeface="Arial"/>
              </a:rPr>
              <a:t>w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2"/>
          <p:cNvSpPr/>
          <p:nvPr/>
        </p:nvSpPr>
        <p:spPr>
          <a:xfrm>
            <a:off x="287280" y="72072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θα δέχεται ως είσοδο δύο θετικούς ακέραιους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, b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και θα υπολογίζει τον μέγιστο κοινό διαιρέτη του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Text Box 3"/>
          <p:cNvSpPr/>
          <p:nvPr/>
        </p:nvSpPr>
        <p:spPr>
          <a:xfrm>
            <a:off x="360360" y="1746360"/>
            <a:ext cx="431964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500" spc="-1" strike="noStrike">
                <a:solidFill>
                  <a:srgbClr val="000000"/>
                </a:solidFill>
                <a:latin typeface="Arial"/>
              </a:rPr>
              <a:t>public static void main(String[ ] args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5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500" spc="-1" strike="noStrike">
                <a:solidFill>
                  <a:srgbClr val="000000"/>
                </a:solidFill>
                <a:latin typeface="Arial"/>
              </a:rPr>
              <a:t>Scanner input = new Scanner( System.in )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t a, b, d, temp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ystem.out.print(“Enter 2 numbers: “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= input.nextInt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 = input.nextInt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(a &gt; b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emp = a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= b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 = temp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859280" y="1619280"/>
            <a:ext cx="52560" cy="44751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Text Box 5"/>
          <p:cNvSpPr/>
          <p:nvPr/>
        </p:nvSpPr>
        <p:spPr>
          <a:xfrm>
            <a:off x="5092560" y="1832040"/>
            <a:ext cx="3719520" cy="24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d = a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while ((a%d != 0) || (b%d != 0)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         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d--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ystem.out.println(“Greatest Common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+ “Divisor: ” + d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java-play"/>
          <p:cNvPicPr/>
          <p:nvPr/>
        </p:nvPicPr>
        <p:blipFill>
          <a:blip r:embed="rId1"/>
          <a:stretch/>
        </p:blipFill>
        <p:spPr>
          <a:xfrm>
            <a:off x="395280" y="2549520"/>
            <a:ext cx="7128000" cy="33638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Java </a:t>
            </a:r>
            <a:r>
              <a:rPr b="0" lang="el-GR" sz="3600" spc="-1" strike="noStrike">
                <a:solidFill>
                  <a:srgbClr val="ff3300"/>
                </a:solidFill>
                <a:latin typeface="AvantGarde"/>
              </a:rPr>
              <a:t>και </a:t>
            </a: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Internet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907920"/>
            <a:ext cx="806292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Όταν το World Wide Web εμφανίστηκε στο διαδίκτυο το 1993, παρουσιάστηκε η ανάγκη μιας γλώσσας η οποία να είναι platform independent (ανεξάρτητη πλατφόρμας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059280" y="3068640"/>
            <a:ext cx="5941800" cy="23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Πλέον χρησιμοποιείται για δημιουργία σελίδων με διαδραστικό περιεχόμενο, για αναβάθμιση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nhance web servers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για εφαρμογές σε διάφορες συσκευέ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κινητ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ενσωματωμένα συστήματα κ.λπ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)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Εντολή </a:t>
            </a:r>
            <a:r>
              <a:rPr b="1" i="1" lang="en-GB" sz="2000" spc="-1" strike="noStrike">
                <a:solidFill>
                  <a:srgbClr val="000099"/>
                </a:solidFill>
                <a:latin typeface="Arial"/>
              </a:rPr>
              <a:t>do..w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2"/>
          <p:cNvSpPr/>
          <p:nvPr/>
        </p:nvSpPr>
        <p:spPr>
          <a:xfrm>
            <a:off x="576360" y="90792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θα δέχεται ως είσοδο έναν θετικό ακέραιο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και θα υπολογίζει εάν είναι πρώτο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Text Box 3"/>
          <p:cNvSpPr/>
          <p:nvPr/>
        </p:nvSpPr>
        <p:spPr>
          <a:xfrm>
            <a:off x="1403280" y="1628640"/>
            <a:ext cx="6264360" cy="49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canner input = new Scanner( System.in 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t a, i=1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ystem.out.print(“Enter a numbers: “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 = input.nextInt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i++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} while (a%i != 0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f (i==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ystem.out.println(“Prime number.”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ystem.out.println(“Composite number.”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}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Προσοχή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2"/>
          <p:cNvSpPr/>
          <p:nvPr/>
        </p:nvSpPr>
        <p:spPr>
          <a:xfrm>
            <a:off x="593640" y="738360"/>
            <a:ext cx="81550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θα δέχεται ως είσοδο έναν θετικό ακέραιο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και θα υπολογίζει το άθροισμα όλων των ζυγών αριθμών μικρότερων του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Text Box 3"/>
          <p:cNvSpPr/>
          <p:nvPr/>
        </p:nvSpPr>
        <p:spPr>
          <a:xfrm>
            <a:off x="1763640" y="1773360"/>
            <a:ext cx="561672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canner input = new Scanner( System.in 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t a,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m, i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ystem.out.print(“Enter a numbers: “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 = input.nextInt();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um = 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 = 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sum = sum+i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} while (i != a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ystem.out.println(“The sum is = “ + sum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Προσοχή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2"/>
          <p:cNvSpPr/>
          <p:nvPr/>
        </p:nvSpPr>
        <p:spPr>
          <a:xfrm>
            <a:off x="593640" y="738360"/>
            <a:ext cx="81550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θα δέχεται ως είσοδο έναν θετικό ακέραιο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και θα υπολογίζει το άθροισμα όλων των ζυγών αριθμών μικρότερων του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1763640" y="1773360"/>
            <a:ext cx="561672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canner input = new Scanner( System.in 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t a,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m, i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ystem.out.print(“Enter a numbers: “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 = input.nextInt();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um = 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 = 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sum = sum+i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} while (i != a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ystem.out.println(“The sum is = “ + sum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4994640" y="4842000"/>
            <a:ext cx="748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i = i+2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Προσοχή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2"/>
          <p:cNvSpPr/>
          <p:nvPr/>
        </p:nvSpPr>
        <p:spPr>
          <a:xfrm>
            <a:off x="593640" y="738360"/>
            <a:ext cx="81550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θα δέχεται ως είσοδο έναν θετικό ακέραιο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και θα υπολογίζει το άθροισμα όλων των ζυγών αριθμών μικρότερων του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1763640" y="1773360"/>
            <a:ext cx="561672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canner input = new Scanner( System.in 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t a,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m, i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ystem.out.print(“Enter a numbers: “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 = input.nextInt();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um = 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 = 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sum = sum+i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} while (i != a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ystem.out.println(“The sum is = “ + sum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4994640" y="4842000"/>
            <a:ext cx="748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i = i+2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3" name="Group 5"/>
          <p:cNvGrpSpPr/>
          <p:nvPr/>
        </p:nvGrpSpPr>
        <p:grpSpPr>
          <a:xfrm>
            <a:off x="2954160" y="5133960"/>
            <a:ext cx="2650680" cy="302040"/>
            <a:chOff x="2954160" y="5133960"/>
            <a:chExt cx="2650680" cy="302040"/>
          </a:xfrm>
        </p:grpSpPr>
        <p:sp>
          <p:nvSpPr>
            <p:cNvPr id="684" name="Text Box 6"/>
            <p:cNvSpPr/>
            <p:nvPr/>
          </p:nvSpPr>
          <p:spPr>
            <a:xfrm>
              <a:off x="4394520" y="5133960"/>
              <a:ext cx="1210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ff3300"/>
                  </a:solidFill>
                  <a:latin typeface="Arial"/>
                </a:rPr>
                <a:t>while (i &lt; a)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Line 7"/>
            <p:cNvSpPr/>
            <p:nvPr/>
          </p:nvSpPr>
          <p:spPr>
            <a:xfrm>
              <a:off x="2954160" y="5278320"/>
              <a:ext cx="1293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 Class Librari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ογράμματα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Αποτελούνται από τμήματα που ονομάζονται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Οι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 περιέχουν </a:t>
            </a:r>
            <a:r>
              <a:rPr b="0" lang="el-GR" sz="2200" spc="-1" strike="noStrike" u="sng">
                <a:solidFill>
                  <a:srgbClr val="3333cc"/>
                </a:solidFill>
                <a:uFillTx/>
                <a:latin typeface="Times New Roman"/>
              </a:rPr>
              <a:t>μεθόδους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 που επιτελούν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κάποιον υπολογισμ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Γνωστές και σαν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va API (Applications Programming Interfa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Πλούσια συλλογή από ήδη ορισμένες κλάσεις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έτοιμες για χρήσ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ύο μέρη στην εκμάθηση της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Εκμάθηση της ίδιας της γλώσσας ώστε να μπορεί ο χρήστης να φτιάξει τις δικές του κλάσει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Εκμάθηση της χρήσης των ήδη υπαρχόντων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libra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AvantGarde"/>
                <a:ea typeface="Times New Roman"/>
              </a:rPr>
              <a:t>Βασικές αρχές λειτουργίας ενός τυπικού περιβάλλοντος </a:t>
            </a:r>
            <a:r>
              <a:rPr b="1" lang="en-US" sz="32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</a:t>
            </a:r>
            <a:endParaRPr b="0" lang="en-US" sz="32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0920" y="1135080"/>
            <a:ext cx="828180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στήματα ανάπτυξης εφαρμογών σ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Αποτελούνται από το περιβάλλον ανάπτυξης, την γλώσσα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Java Applications Programming Interface (API), class libra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προγράμματα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κολουθούν τις εξής φάσεις δημιουργία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d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πληκτρολόγηση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Χρήση ενό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itor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ώστε να γραφτεί το πρόγραμμ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a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notepad, Jbuilder, Visual J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jav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 (μετάφραση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εταφράζει το πρόγραμμα σε μορφή που είναι κατανοητή σε έναν μεταφραστή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ντολ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c myProgram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ημιουργε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ρχείο που περιέχει σειρά απ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s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Program.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Συνέχεια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ading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 (φόρτωμα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loader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εταφέρει το αρχείο τύπο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τη μνήμ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φαρμογές: τρέχουν στον υπολογιστή του χρήστ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et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φορτώνονται, προσωρινά, στον φυλλομετρητή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)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υ χρήστ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ι κλάσεις φορτώνονται και εκτελούνται από τον διερμηνευτή με χρήση της εντολής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, π.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 Wel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α έγγραφα σε μορφή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πορούν να αναφέρονται σ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 Applets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ου είναι φορτωμένα στον φυλλομετρητ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AvantGarde"/>
                <a:ea typeface="Times New Roman"/>
              </a:rPr>
              <a:t>Βασικές αρχές λειτουργίας ενός τυπικού περιβάλλοντος </a:t>
            </a:r>
            <a:r>
              <a:rPr b="1" lang="en-US" sz="32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</a:t>
            </a:r>
            <a:endParaRPr b="0" lang="en-US" sz="32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νέχει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erify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 (επαλήθευση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ytecode verifi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παληθεύει ότι ο ενδιάμεσος κώδικας είναι σωστός και δεν παραβιάζει την ασφάλει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ρέπει να είναι ασφαλή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– δυνατή η πρόκληση προβλημάτων (π.χ. από ιούς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cute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 (εκτέλεση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 υπολογιστής εκτελεί τον κώδικα, ένα-έν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Έτσι, εκτελεί τον υπολογισμό που περιγράφεται στο πρόγραμμ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bugging (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αποσφαλμάτωση) καθώς τα προγράμματα (συνήθως) δεν τρέχουν σωστά με την πρώτη!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άνουμε τις απαραίτητες αλλαγές και επαναλαμβάνουμε τη διαδικασί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AvantGarde"/>
                <a:ea typeface="Times New Roman"/>
              </a:rPr>
              <a:t>Βασικές αρχές λειτουργίας ενός τυπικού περιβάλλοντος </a:t>
            </a:r>
            <a:r>
              <a:rPr b="1" lang="en-US" sz="32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</a:t>
            </a:r>
            <a:endParaRPr b="0" lang="en-US" sz="32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15T15:18:02Z</dcterms:created>
  <dc:creator>Αντώνιος Συμβώνης</dc:creator>
  <dc:description>Translated from the lecture notes of 
Michael Kölling, Monash University</dc:description>
  <dc:language>en-US</dc:language>
  <cp:lastModifiedBy>Yannis</cp:lastModifiedBy>
  <cp:lastPrinted>2000-02-28T22:07:46Z</cp:lastPrinted>
  <dcterms:modified xsi:type="dcterms:W3CDTF">2022-11-23T21:14:43Z</dcterms:modified>
  <cp:revision>215</cp:revision>
  <dc:subject>Lecture slides</dc:subject>
  <dc:title>Εισαγωγή στον Προγραμματισμό</dc:title>
</cp:coreProperties>
</file>